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EC8-C532-4EA7-A5DD-744407F6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1FB-8F1B-44CB-B452-46DA74AE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648-A521-42AC-8127-738C2CCD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063-ED4F-4256-868C-61233A6F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916-C8B9-4D07-9BEF-1A25B4D9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782C-99A1-44AB-A337-1704586D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721C-8A18-4A7C-A647-130E2949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2362-B920-4231-B3C2-54A9D51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506-835C-4052-80E3-5A95E905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9F4C-709D-4D84-97A4-8D264E0A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F7FA-3F66-401C-9FBE-A7B8B7F3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B2A-D39F-4737-9F6F-D7B8400D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8CA3-5E47-4B76-944D-6D427FC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5EB-D4AE-4625-9910-F57652A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2B4B-5B61-4834-B1BA-5E40EA95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6A1F-FBB4-465D-A98B-968D7278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8376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3472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8376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3472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8FE-59C6-4B85-8B1E-C470211B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940-27DB-439F-A8D2-549CA37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DAD-3827-4CA9-B8FF-5D9EA774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10E-F4E4-43D9-9866-9B2387B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AE1-06C6-4BDE-872B-F95911F7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ED1-ADD3-4784-BF6E-4DC37B8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988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CC5-9CBA-4A3E-81E3-C9D5239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988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D92-7269-458F-AB5C-432136A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90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CC2-831A-4261-846C-BA587C8EA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90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7DA6-7912-4E6B-B7E3-1A71363C6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工程商务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模板免费下载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99"/>
              </a:solidFill>
              <a:latin typeface="Times New Roman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22:12:06Z</dcterms:created>
  <dc:creator>ppt宝藏</dc:creator>
  <dc:description/>
  <dc:language>en-US</dc:language>
  <cp:lastModifiedBy>a</cp:lastModifiedBy>
  <dcterms:modified xsi:type="dcterms:W3CDTF">2015-07-25T07:14:23Z</dcterms:modified>
  <cp:revision>3</cp:revision>
  <dc:subject/>
  <dc:title>www.pptbz.com</dc:title>
</cp:coreProperties>
</file>