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F0D8-DE10-4883-803D-31051A5AF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4DBE-8A03-43E1-B954-ABA0FA167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B32B-80C2-4259-9528-0F9A935FF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79BA-9D96-4A63-B50B-FC41F9C6A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513E-2517-4D2A-9442-42389AB8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AB57-7D54-4F13-A92B-BCCA76A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56337-9603-4C1D-AB58-72FD74F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16CB2-35A7-4E28-9BE1-A41B494A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4F9C-DC48-4A1F-9600-1BA43D67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310B-A4A6-4CB5-8368-6D576DA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56A8-9838-4E6D-9A44-3AADD6BA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9186-E6EA-4AC5-9F43-8A228D992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2B52B-910E-438E-8AFA-F7F88DA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F2E9-688C-4F3B-B909-378D42D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904E6-B7CD-47D5-89FB-26BE5BEA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1D7A-8E5B-4078-83E4-D23EBCB2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9A327-B69D-41B5-92E9-578C1AB1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EE97-A9D1-476F-9E7C-B43A3068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FE96-1F7F-46C0-B599-77E77B019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E773-2014-4EE6-A931-A31CFCED6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AEDC-B0CA-43A4-89C7-51C704E21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CB73-EFF5-444B-A3AF-1FF820DE1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6EEE-A0F3-47AC-8F4B-5F0570FC9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7504-1F40-499D-A97C-2E2A5D9C0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Rectangle 36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37"/>
            <p:cNvSpPr/>
            <p:nvPr/>
          </p:nvSpPr>
          <p:spPr>
            <a:xfrm>
              <a:off x="250920" y="1052640"/>
              <a:ext cx="8642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" name="Picture 38" descr="나비"/>
          <p:cNvPicPr/>
          <p:nvPr/>
        </p:nvPicPr>
        <p:blipFill>
          <a:blip r:embed="rId3"/>
          <a:stretch/>
        </p:blipFill>
        <p:spPr>
          <a:xfrm>
            <a:off x="7786800" y="100080"/>
            <a:ext cx="1116000" cy="960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228240" y="6607080"/>
            <a:ext cx="289548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580920" y="6595920"/>
            <a:ext cx="213372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E0A-2998-4112-B648-4FA81B5ED9B8}" type="slidenum">
              <a: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8"/>
          <p:cNvSpPr/>
          <p:nvPr/>
        </p:nvSpPr>
        <p:spPr>
          <a:xfrm>
            <a:off x="522000" y="441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9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60096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5959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5512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0BB-1EB2-48B3-A162-534FFD405A6F}" type="slidenum">
              <a:rPr b="0" lang="zh-CN" sz="1000" spc="-1" strike="noStrike">
                <a:solidFill>
                  <a:srgbClr val="15512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653840"/>
            <a:ext cx="7715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蝴蝶飞舞通用</a:t>
            </a:r>
            <a:r>
              <a:rPr b="0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f4c9"/>
                </a:gs>
                <a:gs pos="100000">
                  <a:srgbClr val="cccc00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cc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eed5"/>
                </a:gs>
                <a:gs pos="100000">
                  <a:srgbClr val="4bb137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bb1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4"/>
                </a:gs>
                <a:gs pos="100000">
                  <a:srgbClr val="ffffcc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eca84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cf7"/>
                </a:gs>
                <a:gs pos="100000">
                  <a:srgbClr val="82a7d8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2a7d8"/>
            </a:solidFill>
            <a:ln w="25560">
              <a:solidFill>
                <a:srgbClr val="15512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4640" y="1735200"/>
            <a:ext cx="77662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440" y="2413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685800" y="1676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55122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5f5f5f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55122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89604" dir="2700000" blurRad="0" rotWithShape="0">
                  <a:srgbClr val="5f5f5f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9:02:48Z</dcterms:created>
  <dc:creator>User</dc:creator>
  <dc:description/>
  <dc:language>en-US</dc:language>
  <cp:lastModifiedBy>王玉清</cp:lastModifiedBy>
  <dcterms:modified xsi:type="dcterms:W3CDTF">2016-02-22T03:40:20Z</dcterms:modified>
  <cp:revision>5</cp:revision>
  <dc:subject/>
  <dc:title>PowerPoint Template</dc:title>
</cp:coreProperties>
</file>