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DEA-1875-481D-B1B7-240EF526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524-2DDB-4E8C-B67C-272ACF47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8E5-07D1-4320-BA31-6CA75A7A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01D-232C-420E-8FA9-E2327DA0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7B3-7926-48BF-8118-8CFAB7A8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837-F046-4069-A174-ECF74ED1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24A-BD9B-4EBB-8468-F24680FB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CD1-EC54-4F4B-AA1C-718F9A17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FFE-621C-4F33-BA03-15254DBA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A51-DD44-4E89-B7E0-A00D629A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F6F-6D6B-43C2-AC00-C9E26E85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50F-D508-49A7-8EC2-DA0BDC09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631E-FA3D-49D1-9F88-579CD49ADC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288880" y="2602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互联网分析报告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04:28:31Z</dcterms:created>
  <dc:creator>新电脑公司特别版</dc:creator>
  <dc:description/>
  <dc:language>en-US</dc:language>
  <cp:lastModifiedBy>王玉清</cp:lastModifiedBy>
  <dcterms:modified xsi:type="dcterms:W3CDTF">2016-02-24T03:27:29Z</dcterms:modified>
  <cp:revision>5</cp:revision>
  <dc:subject/>
  <dc:title>幻灯片 1</dc:title>
</cp:coreProperties>
</file>