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6CB-4EBE-4E5E-8ED8-78556716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F36B-7BF5-41CE-9E99-965CD976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C2AB-28F7-4B6F-B326-D8FCF165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D6D-14C7-4127-BA34-69B379DB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F841-9890-4F34-A148-53884CC9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5A18-748E-481C-950C-DA35DDAB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FD16-2F10-478D-8FCF-3A04DC5B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9503-8591-4773-BCC3-D85EBAB4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9558-2F3B-4CFA-A857-B1B6001F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78280" y="115560"/>
            <a:ext cx="4114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4DC1-08B1-4790-A703-3C82FA12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7B13-C961-44EE-9FA6-CC163AF8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ECD3-575D-4B69-B4AA-C07A68BB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57E7-F0DB-4014-9A2B-CE0512DD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D928-D855-45FF-A986-CC611CAE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A012-D876-4D4E-8B38-DEC93CA8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2C2D-06E5-4FCA-911E-93199E5E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C8C9-1777-4260-BF31-4770C867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1C6-887B-436A-A7B1-B1A36E48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17E4-D2E5-4685-9561-C4FF2C4E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48B-8EE5-4EEF-956E-EC967061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778280" y="115560"/>
            <a:ext cx="4114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883-B90B-425D-853E-4DB11CB3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1893-4918-4EDB-B06D-CBF1C613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EB2-C6D4-41EE-836A-55C74F27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EFC-0CFA-49FF-9FBC-F12031D1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2493-6674-45CA-8D91-1D7661A31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963720" y="108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公司名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图片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8411-7939-4142-9DCE-9B1F95706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58920" y="907920"/>
            <a:ext cx="5833800" cy="172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56000" y="3805920"/>
            <a:ext cx="2663640" cy="9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2760" y="18900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互联网主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78280" y="11556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119700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WordArt 4" descr=""/>
          <p:cNvPicPr/>
          <p:nvPr/>
        </p:nvPicPr>
        <p:blipFill>
          <a:blip r:embed="rId1"/>
          <a:stretch/>
        </p:blipFill>
        <p:spPr>
          <a:xfrm>
            <a:off x="2657520" y="3005280"/>
            <a:ext cx="38527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9B2B-7096-4A8C-8650-AB31D11497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1:56:0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50:26Z</dcterms:modified>
  <cp:revision>7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