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8999538" cy="6011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B85E-4537-4BB5-BA23-88CC57C87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95CE-EF34-4B96-93F8-A34D28AF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4E07-BB8C-405E-AD99-7A23745A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888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77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03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888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77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4B86-032D-49D7-89C6-3A4FD4CE2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684FA-0E51-4B0A-92B5-D01468B9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992B-958C-4CB3-9848-49FC3082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0B60-AD6C-4E0B-B880-42693BCA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9002-D391-4951-B7B6-09457AF8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7380-F1C5-4FF2-BD44-C5C76C2C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0360" y="240840"/>
            <a:ext cx="809964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B604-2598-4276-8108-54680743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27A7-378E-42E0-AA37-9847733F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E525-FCCB-496E-80CD-3701C485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9DE8-89ED-4E67-892F-B5A44608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DDAD-8048-4F3D-8D07-31EA4A9A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62A0-0FFD-406A-81FF-148D6BCA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D385-6E6D-4887-B1C4-BCF2007B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888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277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03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888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277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A23A-7553-49F4-A248-C2B0031E7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ED9FC-B74A-4AD4-8BDF-940F45A5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720D8-E394-4825-B51F-6986E0F9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24527-1724-412E-9490-D6149BFF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12053-373E-484A-A15A-38037A7E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B6927-D1F6-4003-B6A7-3D6EAB36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E0C2-181F-4342-8772-D633FA8C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0360" y="240840"/>
            <a:ext cx="809964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35B67-2C07-4A70-BECA-2612DED2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38F33-C560-49EA-9A87-0992D1CD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4C376-0B7E-4C96-8E6A-681BEF52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CFB3E-2EF2-43E0-9112-F4718335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C53FD-AA0E-4D4D-9F9C-8F937375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2F89A-892B-4630-BB12-B114E8719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888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27760" y="140328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03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888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27760" y="347544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4DADF-BA17-41EB-B8AA-E3D657F1B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6133-69AD-48B4-A3AD-A9FC42EA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6CB9-1350-4A8F-B5FE-43BE99CF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0360" y="240840"/>
            <a:ext cx="8099640" cy="46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6FE4-C611-4E5C-94D3-83BA8E5F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9348-0166-4225-9701-2F483EA5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0800" y="347544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0EC7-5FF6-4127-BCC4-855769C8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036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0800" y="140328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0360" y="347544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E6D6-638D-48D5-99BC-675C33DD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marL="318960" indent="-3189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266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1276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488960" indent="-2127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1914480" indent="-212760">
              <a:spcBef>
                <a:spcPts val="726"/>
              </a:spcBef>
              <a:buClr>
                <a:srgbClr val="000000"/>
              </a:buClr>
              <a:buFont typeface="Arial"/>
              <a:buChar char="»"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8268-5500-4105-A9A3-D1C853F38E97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BDF8-4DEA-4D24-8962-94F9E3488709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34440" indent="-334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5760" indent="-279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5640" indent="-2228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28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08440" indent="-2232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08440" indent="-2232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08440" indent="-2232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DD69-A092-487D-8429-021B822D69AA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37878-B587-4440-A9DB-F981C27ACCA6}" type="slidenum">
              <a:rPr b="0" lang="zh-CN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0360" y="1403280"/>
            <a:ext cx="8099640" cy="39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9000"/>
          </a:bodyPr>
          <a:p>
            <a:pPr marL="334440" indent="-3344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5760" indent="-27972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15640" indent="-22284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284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08440" indent="-2232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08440" indent="-2232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08440" indent="-2232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0720" y="5473800"/>
            <a:ext cx="20988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D73AF-DEC1-4A39-B98A-D165D1FFFBA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74760" y="5473800"/>
            <a:ext cx="284940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0120" y="5473800"/>
            <a:ext cx="210024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8A57B-9268-40ED-957D-93D7B20D4A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wg_blurred_backgrounds_12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124" name="矩形 3"/>
          <p:cNvSpPr/>
          <p:nvPr/>
        </p:nvSpPr>
        <p:spPr>
          <a:xfrm>
            <a:off x="2017440" y="1647720"/>
            <a:ext cx="524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ios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风格梦幻蓝色商务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2"/>
          <p:cNvSpPr/>
          <p:nvPr/>
        </p:nvSpPr>
        <p:spPr>
          <a:xfrm>
            <a:off x="233280" y="56545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0360" y="240840"/>
            <a:ext cx="8099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zh-CN" sz="3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0360" y="1402920"/>
            <a:ext cx="8099640" cy="31878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zh-CN" sz="25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pic>
        <p:nvPicPr>
          <p:cNvPr id="128" name="Picture 4" descr="wg_blurred_backgrounds_12"/>
          <p:cNvPicPr/>
          <p:nvPr/>
        </p:nvPicPr>
        <p:blipFill>
          <a:blip r:embed="rId1"/>
          <a:srcRect l="0" t="0" r="0" b="78199"/>
          <a:stretch/>
        </p:blipFill>
        <p:spPr>
          <a:xfrm>
            <a:off x="0" y="4697280"/>
            <a:ext cx="899964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36360" y="240840"/>
            <a:ext cx="6713640" cy="100188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zh-CN" sz="36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36360" y="1403280"/>
            <a:ext cx="6713640" cy="39672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endParaRPr b="0" lang="zh-CN" sz="25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pic>
        <p:nvPicPr>
          <p:cNvPr id="131" name="Picture 4" descr="wg_blurred_backgrounds_12"/>
          <p:cNvPicPr/>
          <p:nvPr/>
        </p:nvPicPr>
        <p:blipFill>
          <a:blip r:embed="rId1"/>
          <a:srcRect l="52773" t="0" r="29228" b="0"/>
          <a:stretch/>
        </p:blipFill>
        <p:spPr>
          <a:xfrm>
            <a:off x="0" y="6480"/>
            <a:ext cx="162072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/>
          <p:cNvSpPr/>
          <p:nvPr/>
        </p:nvSpPr>
        <p:spPr>
          <a:xfrm>
            <a:off x="1262160" y="917640"/>
            <a:ext cx="2093760" cy="3529080"/>
          </a:xfrm>
          <a:custGeom>
            <a:avLst/>
            <a:gdLst>
              <a:gd name="textAreaLeft" fmla="*/ 61200 w 2093760"/>
              <a:gd name="textAreaRight" fmla="*/ 2032560 w 2093760"/>
              <a:gd name="textAreaTop" fmla="*/ 61200 h 3529080"/>
              <a:gd name="textAreaBottom" fmla="*/ 3467880 h 3529080"/>
            </a:gdLst>
            <a:ahLst/>
            <a:rect l="textAreaLeft" t="textAreaTop" r="textAreaRight" b="textAreaBottom"/>
            <a:pathLst>
              <a:path w="21600" h="36405">
                <a:moveTo>
                  <a:pt x="2160" y="0"/>
                </a:moveTo>
                <a:arcTo wR="2160" hR="2160" stAng="16200000" swAng="-5400000"/>
                <a:lnTo>
                  <a:pt x="0" y="34245"/>
                </a:lnTo>
                <a:arcTo wR="2160" hR="2160" stAng="10800000" swAng="-5400000"/>
                <a:lnTo>
                  <a:pt x="19440" y="36405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62160" y="2328840"/>
            <a:ext cx="209376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1000" rIns="441000" tIns="441000" bIns="441000" anchor="ctr">
            <a:normAutofit fontScale="87000"/>
          </a:bodyPr>
          <a:p>
            <a:pPr algn="ctr">
              <a:lnSpc>
                <a:spcPct val="9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4"/>
          <p:cNvSpPr/>
          <p:nvPr/>
        </p:nvSpPr>
        <p:spPr>
          <a:xfrm>
            <a:off x="1720800" y="1128600"/>
            <a:ext cx="1174680" cy="1175040"/>
          </a:xfrm>
          <a:prstGeom prst="ellipse">
            <a:avLst/>
          </a:prstGeom>
          <a:solidFill>
            <a:srgbClr val="c1cce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3419640" y="917640"/>
            <a:ext cx="2095200" cy="3529080"/>
          </a:xfrm>
          <a:custGeom>
            <a:avLst/>
            <a:gdLst>
              <a:gd name="textAreaLeft" fmla="*/ 61200 w 2095200"/>
              <a:gd name="textAreaRight" fmla="*/ 2034000 w 2095200"/>
              <a:gd name="textAreaTop" fmla="*/ 61200 h 3529080"/>
              <a:gd name="textAreaBottom" fmla="*/ 3467880 h 3529080"/>
            </a:gdLst>
            <a:ahLst/>
            <a:rect l="textAreaLeft" t="textAreaTop" r="textAreaRight" b="textAreaBottom"/>
            <a:pathLst>
              <a:path w="21600" h="36380">
                <a:moveTo>
                  <a:pt x="2160" y="0"/>
                </a:moveTo>
                <a:arcTo wR="2160" hR="2160" stAng="16200000" swAng="-5400000"/>
                <a:lnTo>
                  <a:pt x="0" y="34220"/>
                </a:lnTo>
                <a:arcTo wR="2160" hR="2160" stAng="10800000" swAng="-5400000"/>
                <a:lnTo>
                  <a:pt x="19440" y="36380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419640" y="2328840"/>
            <a:ext cx="209520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1000" rIns="441000" tIns="441000" bIns="441000" anchor="ctr">
            <a:normAutofit fontScale="87000"/>
          </a:bodyPr>
          <a:p>
            <a:pPr algn="ctr">
              <a:lnSpc>
                <a:spcPct val="9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7"/>
          <p:cNvSpPr/>
          <p:nvPr/>
        </p:nvSpPr>
        <p:spPr>
          <a:xfrm>
            <a:off x="3879720" y="1128600"/>
            <a:ext cx="1175040" cy="1175040"/>
          </a:xfrm>
          <a:prstGeom prst="ellipse">
            <a:avLst/>
          </a:prstGeom>
          <a:solidFill>
            <a:srgbClr val="c1cce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5576760" y="917640"/>
            <a:ext cx="2095560" cy="3529080"/>
          </a:xfrm>
          <a:custGeom>
            <a:avLst/>
            <a:gdLst>
              <a:gd name="textAreaLeft" fmla="*/ 61200 w 2095560"/>
              <a:gd name="textAreaRight" fmla="*/ 2034360 w 2095560"/>
              <a:gd name="textAreaTop" fmla="*/ 61200 h 3529080"/>
              <a:gd name="textAreaBottom" fmla="*/ 3467880 h 3529080"/>
            </a:gdLst>
            <a:ahLst/>
            <a:rect l="textAreaLeft" t="textAreaTop" r="textAreaRight" b="textAreaBottom"/>
            <a:pathLst>
              <a:path w="21600" h="36373">
                <a:moveTo>
                  <a:pt x="2160" y="0"/>
                </a:moveTo>
                <a:arcTo wR="2160" hR="2160" stAng="16200000" swAng="-5400000"/>
                <a:lnTo>
                  <a:pt x="0" y="34213"/>
                </a:lnTo>
                <a:arcTo wR="2160" hR="2160" stAng="10800000" swAng="-5400000"/>
                <a:lnTo>
                  <a:pt x="19440" y="36373"/>
                </a:lnTo>
                <a:arcTo wR="2160" hR="2160" stAng="5400000" swAng="-5400000"/>
                <a:lnTo>
                  <a:pt x="21600" y="2160"/>
                </a:lnTo>
                <a:arcTo wR="2160" hR="2160" stAng="0" swAng="-5400000"/>
                <a:close/>
              </a:path>
            </a:pathLst>
          </a:cu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5576760" y="2328840"/>
            <a:ext cx="2095560" cy="14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1000" rIns="441000" tIns="441000" bIns="441000" anchor="ctr">
            <a:normAutofit fontScale="87000"/>
          </a:bodyPr>
          <a:p>
            <a:pPr algn="ctr">
              <a:lnSpc>
                <a:spcPct val="90000"/>
              </a:lnSpc>
              <a:spcAft>
                <a:spcPts val="19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0"/>
          <p:cNvSpPr/>
          <p:nvPr/>
        </p:nvSpPr>
        <p:spPr>
          <a:xfrm>
            <a:off x="6037200" y="1128600"/>
            <a:ext cx="1174680" cy="1175040"/>
          </a:xfrm>
          <a:prstGeom prst="ellipse">
            <a:avLst/>
          </a:prstGeom>
          <a:solidFill>
            <a:srgbClr val="c1cce1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1"/>
          <p:cNvSpPr/>
          <p:nvPr/>
        </p:nvSpPr>
        <p:spPr>
          <a:xfrm>
            <a:off x="1515960" y="3740040"/>
            <a:ext cx="5900760" cy="530280"/>
          </a:xfrm>
          <a:prstGeom prst="leftRightArrow">
            <a:avLst>
              <a:gd name="adj1" fmla="val 50000"/>
              <a:gd name="adj2" fmla="val 49868"/>
            </a:avLst>
          </a:prstGeom>
          <a:solidFill>
            <a:srgbClr val="b0bfd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3770280" y="628560"/>
            <a:ext cx="3005280" cy="1359000"/>
          </a:xfrm>
          <a:prstGeom prst="rect">
            <a:avLst/>
          </a:pr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770280" y="628560"/>
            <a:ext cx="30052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ctr">
            <a:normAutofit/>
          </a:bodyPr>
          <a:p>
            <a:pPr algn="ctr">
              <a:lnSpc>
                <a:spcPct val="90000"/>
              </a:lnSpc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2290680" y="628560"/>
            <a:ext cx="1344600" cy="1359000"/>
          </a:xfrm>
          <a:prstGeom prst="rect">
            <a:avLst/>
          </a:pr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2290680" y="2212920"/>
            <a:ext cx="3005280" cy="1359000"/>
          </a:xfrm>
          <a:prstGeom prst="rect">
            <a:avLst/>
          </a:pr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2290680" y="2212920"/>
            <a:ext cx="3005280" cy="13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ctr">
            <a:normAutofit/>
          </a:bodyPr>
          <a:p>
            <a:pPr algn="ctr">
              <a:lnSpc>
                <a:spcPct val="90000"/>
              </a:lnSpc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5429160" y="2212920"/>
            <a:ext cx="1346400" cy="1359000"/>
          </a:xfrm>
          <a:prstGeom prst="rect">
            <a:avLst/>
          </a:pr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3770280" y="3795840"/>
            <a:ext cx="3005280" cy="1358640"/>
          </a:xfrm>
          <a:prstGeom prst="rect">
            <a:avLst/>
          </a:pr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3770280" y="3795840"/>
            <a:ext cx="300528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228600" tIns="228600" bIns="228600" anchor="ctr">
            <a:normAutofit/>
          </a:bodyPr>
          <a:p>
            <a:pPr algn="ctr">
              <a:lnSpc>
                <a:spcPct val="90000"/>
              </a:lnSpc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微软雅黑"/>
              </a:rPr>
              <a:t>文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2290680" y="3795840"/>
            <a:ext cx="1344600" cy="1358640"/>
          </a:xfrm>
          <a:prstGeom prst="rect">
            <a:avLst/>
          </a:prstGeom>
          <a:solidFill>
            <a:srgbClr val="66c9e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wg_blurred_backgrounds_12"/>
          <p:cNvPicPr/>
          <p:nvPr/>
        </p:nvPicPr>
        <p:blipFill>
          <a:blip r:embed="rId1"/>
          <a:stretch/>
        </p:blipFill>
        <p:spPr>
          <a:xfrm>
            <a:off x="0" y="6480"/>
            <a:ext cx="8999640" cy="59990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74280" y="2141640"/>
            <a:ext cx="7650360" cy="1288800"/>
          </a:xfrm>
          <a:prstGeom prst="rect">
            <a:avLst/>
          </a:prstGeom>
          <a:noFill/>
          <a:ln w="0">
            <a:noFill/>
          </a:ln>
        </p:spPr>
        <p:txBody>
          <a:bodyPr lIns="84960" rIns="84960" tIns="42480" bIns="424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51040"/>
                <a:tab algn="l" pos="1701720"/>
                <a:tab algn="l" pos="2552760"/>
                <a:tab algn="l" pos="3403440"/>
                <a:tab algn="l" pos="4254480"/>
                <a:tab algn="l" pos="5105520"/>
                <a:tab algn="l" pos="5956200"/>
                <a:tab algn="l" pos="6807240"/>
                <a:tab algn="l" pos="7658280"/>
                <a:tab algn="l" pos="8508960"/>
                <a:tab algn="l" pos="9360000"/>
                <a:tab algn="l" pos="1021068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www.pptbz.com</dc:creator>
  <dc:description/>
  <cp:keywords/>
  <dc:language>en-US</dc:language>
  <cp:lastModifiedBy>a</cp:lastModifiedBy>
  <dcterms:modified xsi:type="dcterms:W3CDTF">2015-07-22T12:48:58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32</vt:lpwstr>
  </property>
</Properties>
</file>