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E5B-7C71-47C6-8639-C4426F40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392-9752-42E6-8721-B06B7126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42B-4761-4385-B21E-9A8E6898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77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3360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15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77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3360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208-68D5-4663-BDED-5C0DCBD4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DA74-AC63-4030-A9C6-272FA180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81D2-D1B0-414E-A4FF-2806E71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1380-92C5-47B1-BF01-858CBC32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49EB-3382-49C3-86DE-7DB2168E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D941-FB7A-4952-B9E8-69FEA8A9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1560" y="833040"/>
            <a:ext cx="822924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FB56-DF7D-41B0-92B4-4355F14D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933-981A-40D2-9E30-1FC9500C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B1B-1F2A-4B12-87C4-528222DE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9372-03D8-4982-BE82-25A05537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E344-02E9-4C85-924A-184ED21B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EB39-088B-49F4-9CF9-FE4224A1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A4FF-091B-4130-B183-9BC422CD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677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3360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15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9677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33360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E244-E3C7-4C08-9360-CF926FA3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E712-6569-478F-ABBE-E04F1B43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D0DE-420E-4C6E-AC2B-F261CA19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724E-A89E-4310-A696-E11C2517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0A64-2CF2-4F8B-919A-850844DF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5AA2-1A69-4B06-9443-AE143D60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878-3507-4243-88B4-C9D8AFD8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1560" y="833040"/>
            <a:ext cx="822924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4F0D-3B8A-44ED-9F22-2648A6F2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BAFF-DB77-4F55-A7DB-43394FE6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DD7B-168D-49C8-8112-0DFAFF5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9CEC-B875-4545-8DDC-713CDBE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182A-F76E-4426-9080-0C2E080E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0705-CE6F-4316-8D4A-F10A8F09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677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33360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15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9677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33360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61F2-F2EB-4900-81F5-01FA5753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BABAB-A7E4-49D9-A0CD-506BF8B2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5A4A2-154E-48CA-9A04-B37EB012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DBF4D-8269-4FC9-A375-BC801AD5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F57-D3F3-44BA-A0A0-3B925E8A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E109-8DFA-45AD-AF10-27ABE334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E3AD5-CB63-44DC-AC39-EDA2C49A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1560" y="833040"/>
            <a:ext cx="822924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885A2-C504-493C-A9F7-D9BDD277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A814-413C-4FCC-B5BA-D9311BD0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5A54-0BA4-40D7-837E-C157A01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01391-CFF1-44E3-86A6-7D89C4E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A0149-6B9A-4FD8-8EB5-F1D2D393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86496-222B-4551-AE56-E36D9AA4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96776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333600" y="157752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15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96776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333600" y="1911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23EE8-00FF-46F1-BC13-C70B01B2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ED4-EC44-40D1-A2BA-BE4A01D8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1560" y="833040"/>
            <a:ext cx="8229240" cy="28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8A5-E116-48DC-B4C3-1E13715B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B24-8C68-4151-9C0A-033F496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71920" y="1911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B0E-A257-47CC-9388-ACF2A83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71920" y="157752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1560" y="1911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B75-FEF2-49D9-9B7A-D9A3AFA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9840" y="680400"/>
            <a:ext cx="7772040" cy="763200"/>
          </a:xfrm>
          <a:prstGeom prst="rect">
            <a:avLst/>
          </a:prstGeom>
          <a:noFill/>
          <a:ln w="0">
            <a:noFill/>
          </a:ln>
          <a:effectLst>
            <a:outerShdw dist="37854" dir="1930719" blurRad="25560" rotWithShape="0">
              <a:srgbClr val="ffffff"/>
            </a:outerShdw>
          </a:effectLst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F8BCA1-8633-483D-951E-75773285DCA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8920" y="833040"/>
            <a:ext cx="8229240" cy="4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596600"/>
            <a:ext cx="8229240" cy="44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B81897-CF8C-4C2C-8A0C-04402611E23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6040" y="527760"/>
            <a:ext cx="701568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76040" y="1290960"/>
            <a:ext cx="7015680" cy="458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0B1C47-4AAD-4546-B424-C33ED4EE9DB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601560" y="220752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36800" y="157752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36800" y="220752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80808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0A9EE6-2B63-4E79-B866-036A6CC9856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2120"/>
            <a:ext cx="8993520" cy="763200"/>
          </a:xfrm>
          <a:prstGeom prst="rect">
            <a:avLst/>
          </a:prstGeom>
          <a:noFill/>
          <a:ln w="0">
            <a:noFill/>
          </a:ln>
          <a:effectLst>
            <a:outerShdw dist="37854" dir="1930719" blurRad="2556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经典橙色笔记本商务</a:t>
            </a:r>
            <a:r>
              <a:rPr b="0" lang="en-US" sz="4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33960" y="1596600"/>
            <a:ext cx="6400440" cy="12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Click to ed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Calibri"/>
              </a:rPr>
              <a:t>Master subtitle sty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8920" y="833040"/>
            <a:ext cx="8229240" cy="4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8920" y="1596600"/>
            <a:ext cx="8229240" cy="44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76040" y="527760"/>
            <a:ext cx="701568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76040" y="1290960"/>
            <a:ext cx="7015680" cy="458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08080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1560" y="833040"/>
            <a:ext cx="8229240" cy="61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1560" y="157752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01560" y="2207520"/>
            <a:ext cx="403992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808080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36800" y="157752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36800" y="2207520"/>
            <a:ext cx="4041360" cy="30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80808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  <Words>60</Words>
  <Paragraphs>2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a</cp:lastModifiedBy>
  <dcterms:modified xsi:type="dcterms:W3CDTF">2015-07-25T08:01:0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