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D89-F6CD-4941-B47D-23B2F509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FCD-0380-4B08-8A9D-7BBCAC9D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DBF-4C09-44E9-B576-F846A08B1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4FB-CD0F-49FE-9CAD-0D8FA778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C934-6669-484E-97DC-D1B233D1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D207-8806-4005-B5B9-4D2C2DF4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06B2-1279-4519-AA02-BC569764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5462-0C9E-48EB-9913-8691FBDF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634A-1729-428C-A04E-4214A67E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FA3D-B02B-4640-A38F-EA46601E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3F83-BB8B-4E1D-8B0F-CC0B7428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5D1-21B9-435C-AC15-2315E6B8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724D-63C0-4819-B66E-B9EEBEB6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BD64-020F-47B7-94BB-4E81D11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162B-F697-41D7-B595-A732E4C6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EE70-944B-4F06-A0ED-D13030E6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9E10-86B4-47DE-BA93-FF6221ED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81A3-51B9-4DE6-A896-EBF99A7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C5A-70CE-4A4E-B5EA-3DEC1506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783-30E1-4DA6-97A1-A9D704FF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25A-EC7B-4549-AC93-0EF708B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C886-94DA-4E78-BE48-516DD69B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441-BD25-4C3D-8C01-91EDE9D5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9A43-DBB0-4A28-B078-5F2240E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1929-C5BC-4EB6-A58B-07A46881ED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4203-3271-49CF-8B99-24F0A20F23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1" descr=""/>
          <p:cNvPicPr/>
          <p:nvPr/>
        </p:nvPicPr>
        <p:blipFill>
          <a:blip r:embed="rId1"/>
          <a:stretch/>
        </p:blipFill>
        <p:spPr>
          <a:xfrm>
            <a:off x="5425920" y="3444840"/>
            <a:ext cx="320040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2424600" y="2276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经典商务蓝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7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111" name="Freeform 28"/>
            <p:cNvSpPr/>
            <p:nvPr/>
          </p:nvSpPr>
          <p:spPr>
            <a:xfrm>
              <a:off x="5653080" y="3098880"/>
              <a:ext cx="1352520" cy="1119240"/>
            </a:xfrm>
            <a:custGeom>
              <a:avLst/>
              <a:gdLst>
                <a:gd name="textAreaLeft" fmla="*/ 0 w 1352520"/>
                <a:gd name="textAreaRight" fmla="*/ 1352880 w 135252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5599dd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c1ff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0"/>
            <p:cNvSpPr/>
            <p:nvPr/>
          </p:nvSpPr>
          <p:spPr>
            <a:xfrm>
              <a:off x="5495760" y="4089240"/>
              <a:ext cx="1190520" cy="13352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8ebb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1"/>
            <p:cNvSpPr/>
            <p:nvPr/>
          </p:nvSpPr>
          <p:spPr>
            <a:xfrm>
              <a:off x="6886080" y="3274920"/>
              <a:ext cx="1208160" cy="1324080"/>
            </a:xfrm>
            <a:custGeom>
              <a:avLst/>
              <a:gdLst>
                <a:gd name="textAreaLeft" fmla="*/ 0 w 1208160"/>
                <a:gd name="textAreaRight" fmla="*/ 1208520 w 120816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139920" y="2835360"/>
            <a:ext cx="2794320" cy="571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3618000" y="3549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2:44:55Z</dcterms:created>
  <dc:creator>ppt宝藏</dc:creator>
  <dc:description/>
  <dc:language>en-US</dc:language>
  <cp:lastModifiedBy>a</cp:lastModifiedBy>
  <cp:lastPrinted>1899-12-30T00:00:00Z</cp:lastPrinted>
  <dcterms:modified xsi:type="dcterms:W3CDTF">2015-07-25T12:43:06Z</dcterms:modified>
  <cp:revision>35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