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E530-28AB-404C-9FFD-F17657B6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ACDA-30EC-46B1-9ED0-6DA035060C4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3B727-17E2-43E1-B61D-355DFB4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CFDB0-4999-4E6C-827C-F0B3C44F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C438DC-E494-4484-8637-8606DCB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6701B-B602-49BD-B857-59EC0C92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AC7C6-53FB-46CE-976B-43ED0F9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11856-0F6C-4180-90F5-4811A5E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5702F0-A255-4B46-AB9E-FADAD26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134A69-6D20-41E1-9124-E1ECF338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EA0FE-9C02-44AA-8800-C534244F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799D91-3FFD-4348-A551-5C1F4DFA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4E05-AC87-4572-9225-34378616B1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69A95-006B-4627-81DF-6D1FBCF4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CC7C3-3395-4BDE-A81D-DFB18A0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830F7-8CFC-4A98-8E89-98397E91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CA959-DBD7-44E3-ADE4-14666570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CCB79-6BA2-4EB3-98A1-10C9E62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E278AB-32CE-468C-8C4E-C5126A48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5C6DB-56AD-4710-8BC5-437182E4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AAF88-8667-4AFA-890A-F9874ED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6D1EBB-02B7-466E-9222-729357D9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E50B9-A540-4C9D-A18B-4B31B15A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172B-D18D-4731-9312-B5C10B0ECD0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3B57F-4D09-4B45-BCD3-9CE0A629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FCF738-1F42-4E75-AC08-1A90CDF9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9A3B8-5A4A-4707-80C7-0AABDCE8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73547B-288F-4A19-84C7-C7AB73E2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4B7A2-BACA-47DE-B597-0960F634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4015E6-8CA7-4DFE-A815-26CC44B9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76ACE-0870-41E5-842F-85F6E57B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83E61E-6663-4667-94C7-6E40D22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CB79AA-7AA4-4832-8CBD-7D5DCC5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93614-D6A7-4AC7-8708-88971548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505F-30E9-487B-98F5-CEEAAD57973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2DE20C-DF99-4938-9C83-8953B5B2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1340DF-C4A3-48DD-B1E4-96AF90FA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9B5D86-1F8D-4621-B660-09D8BF0E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C1D3EA-0C69-4B04-A231-50FB263D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1E8946-6EF4-4031-91F3-40D7B216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94CFF0-43E9-42C5-B9F4-20976E65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2CED40-1996-46F9-BE07-C90EE36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F6B3B1-7228-49B6-862B-58D0D8D5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16B12B-3B51-4AEB-9219-D29FBCD8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950201-078D-4932-A62D-9556342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DDBBF-2601-465D-B591-70C162B1B72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6A4D3B-2377-46C7-8212-FA04247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06144D-5B50-46EA-81FA-8A05CA6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246229-96FD-4C11-B518-D3B2D7E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E7A93-90DD-46F6-87C8-2264F969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F80B69-9086-4B85-8D6F-A2545558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31681A-58D1-4FEC-A6D4-527E992B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3CE96F-71EF-4B93-83EC-56B08FD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822779-4104-4A6F-927E-A1EA754C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5232BF-018D-4C92-BFEB-7CD8CE69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3D4C2F-79DB-492E-95A4-7306431A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ACEC3-C558-4809-8F91-E4E42C8414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CE6765-940A-4EA2-BD94-4748787D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423678-1BF7-472F-8121-A8CA6AB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FC905B-44AB-4A63-B43B-5B7362FC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1C650A-7929-420B-B375-05A62A5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7B5900-1965-420E-8BC0-BDDC33D0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9E51A6-20B3-4F47-A49D-54C106AB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46B697-2E46-4E07-8182-FE844CCC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FE21B8-282D-4A5E-BBCA-88DEE719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8A4789-9242-4906-B749-889F60C0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85D88-BE7E-4533-AD9C-69451BA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54048-23A8-4688-BA41-C88F3D93686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B9FEE4-359B-45F1-8EFA-AB80F549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C1D223-0E00-4785-9646-192CB86A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EF90DC-A1B2-4B74-8DAE-05C47406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78F211-757B-4306-A3A8-362FBE4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E20B2E-509B-45EB-83B6-88039E8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225CAB-B64B-48E2-A37B-6E9D27B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3ED9FD-DE0D-42E1-9257-60F1F92E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D37430-A180-4B83-BC74-BB426F11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5DCA5-EDB8-4441-A24D-00D41954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79539F-6CB0-4374-85D8-43108570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9F656-17AF-4EBF-AF46-265F141349A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E94368-930C-44F7-BD1A-2FB32D93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A26966-8021-4704-931F-BB3BBD36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2EF03B-4C0D-4B6C-9764-AAA83F6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CA2576-F416-4A20-B12E-CB6CA75E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0818B4-76E3-4EDE-B249-85CE118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81D473-DBEF-449B-B051-A9D4601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C35ED9-1A83-4F03-A7D6-EA1E59E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F9FAC7-FBC2-48D7-A827-9AB407E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36423E-3DF0-4EC5-8588-E77E9826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79DBA2-E44C-42B4-975F-C4A9964A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60AC4-17C3-4A4C-9797-AE2A4A28D5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CA5A8E-BEB8-47A0-B4DC-8E370B2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B69B55-CFA6-4B4E-946C-B8FF2510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EDD3B9-7D1A-4D92-8AB4-F451E733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886715-0577-471F-AC3C-68656D1C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70AF59-9BFC-46E5-B012-5377A913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C95C86-7984-4910-BDEC-EE7EDE62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DC1551-937C-4AC6-8A8D-8342B10D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C31D62-959B-4DF3-B376-4E145BB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B1DF68-D455-4A60-BB50-3DBDAEC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34E729-9637-4593-9F33-1F85D65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5AED-DCBB-4E76-85EB-CB08DB6F9A2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CCBDDF-3691-4987-9CE4-878296C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523507-8B6D-4B74-84FE-C5E5337C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D2FACA-AF90-4A5E-A424-CB8031C6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D36624-BFB0-42FC-8B2C-0915D362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EC6558-B448-4144-BE6F-1DB749D2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E069FDD-44C5-4F2D-9113-5EA3C4C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25510CE-CE26-4CC1-A2F2-9E99D95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3D4036-747C-4A89-924A-65842A64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4C9012-FA8E-4FB6-B782-0BFDF84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5E14A4-E255-42EF-9023-AF180C9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68C2-C3C1-4669-A83C-94E8A55AB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987B-13F8-4A96-B755-FB2C9662557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CF128E-9CB8-46D7-839A-8239A212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4C5BC6-A785-4CEA-8CDF-34FCEDC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9C3F50-A715-4208-BD47-4A12E9EA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E9602C-313B-4059-8651-DD2135AF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DA20E6-5CE4-4393-ABC4-01AB9727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B090-4781-4B6A-8A16-43ECA03B3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34601-4BD4-4709-AF9A-602E13DEA4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2A8BC-C6CC-4196-A32C-47AC778A51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D09AB-F69E-4A5E-9418-D857792B9F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1CB9-50A4-45A7-82BA-F689784917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8E0-A4A3-4B5A-B4D4-83DC175C81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7A2D-3FF0-40F6-9037-BB6F6F807D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58BF-3851-4306-B447-1AFAE572B6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ADFA-9F11-43DB-A40E-51DB5C6A2E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4378-21DF-4560-AFFE-BA490BAE97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BF77-3534-48C6-8066-952BDEA0D0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67B0-8455-4FEF-99CB-D2E2FC5F2C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068-85B6-4915-B671-98320759C2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277-BDA0-4B3E-871A-10A477AC12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5B75-A93E-4710-BD4A-1185591BD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A809-29C0-4B10-85A6-946B04CC86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7CB7-2308-4C77-B446-5F6C5D28BA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224C6-9FE9-4B7C-9F16-ABE3A4F4DB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FCAAB-F7A8-4202-A42A-87A1FC109E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69D14-E973-443F-AD93-C3B939EC2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B067-B265-4C4C-B250-31A5C8F962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4AA1B-0B9C-4C2D-9FEB-A3681ED779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137BF-DFF1-4695-92B9-E25BA1D1BE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82E22-C2E6-4607-A5FC-CEF6706067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4B710-7441-45CC-BB7B-1FF470F5EF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F868A-D0D3-4B6F-86CF-F94ECEC04A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7B47B-77DD-4A9A-AF16-404E5CB65E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6A2F2-2FCA-465D-8325-DDAF8D8320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CB95E-99A5-4275-AE7A-37A71B9F46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950A9-7A54-43B3-84BD-21ABC2E76F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F3C2D-4406-40C9-8839-27D4E14B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E5B1-792D-4BD8-9479-EDD98AC433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071D06-00F6-4ADF-B8CF-404D27A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0241F-1C75-4030-8C76-7CF9C77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93C42-BC89-454C-B554-5267FEA7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D4CA1-34F6-439E-83F3-2021502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795C3-72BC-43AA-8FA8-D8C4E48E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06488-9F7A-41CC-A239-7E48C9CD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781F0-A446-47D6-8B04-2C79D70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B1FF6-C119-4F6C-A97F-A745F2BA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0FCA0-0287-43B0-8979-245B83B9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62734-7437-4961-81A5-C44775CD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8F1B-BF1F-4A83-82C3-9B3DD98DFE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1940D-F390-46F6-B775-8EE30F7E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3760B-CF24-43D9-8822-D034FAA3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38B07-010E-4F2E-989F-DD3DFDF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C724D-0402-4BDE-AE0A-1FDA8B1B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3D427-61D5-423E-A89A-5A56AFCE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077D7-D331-4EF1-9515-806C258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B19B5-4F10-417D-A060-6B4989E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F285A-7B10-46FB-8153-3815AE69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AA4F7-63A7-49A6-8D5E-9C6D386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F9494-3EF0-4CB4-B161-3CAA9D1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AA75-49BD-4DDD-AE8A-0BBE0E87E6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6E123-564D-43B7-BEB6-259D5A4F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616CE-04E5-46D3-8BD4-36F829B8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09933-3111-489D-8EA3-CCD34A3E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EC256-C6F8-4C0A-A478-350437F0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4EF29-2BD9-4869-81D6-4E9A6D4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43D48-8AFC-4CFA-AB75-2F1026E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8918D-6B8C-4315-B3D3-96FBA153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7F1E54-FF8E-448C-A243-38CDFEAD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CBCE7-9238-4FDF-A724-FB3F8FD5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47B25-2D8D-4C34-BAD1-FF30936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233C-369D-4648-9038-2AFBA51984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28AC3-C41C-44A6-9355-2DE69C2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9E286-6C56-44E9-BE12-A95AEF5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CE454-3011-436B-B6B5-F8223C4F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52C5B-C225-4E7A-BE4E-67C0D2C5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8DACC-B264-4FA4-B293-A573E828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49BCC-5281-448E-8211-373B6D32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100FD-4884-4042-80A0-41D0CDA8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D6262-5323-4A5C-ADE6-A150E652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3AB0D-96F9-4647-828C-A6583BD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D7CA9-9E96-49E3-A3A7-EE51B4F9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0F98-79BF-49DD-93E1-0F9C02CD9B3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1FDC6-2435-4997-85AA-9ECA828C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7AE3E-0E95-45AA-9133-7BB3E6D8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26179-CECF-46C0-88FD-908EA84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F5A57-2A31-4A9E-8CC9-C8FAD8F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F6803-A2B3-4DC6-B79F-292577B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DDE8A-52F0-4CA2-B5A7-68E7E648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700E6-B9B5-4530-AFEB-A29D5F43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43521-1121-4882-A930-DF64817A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B915A-3139-4698-86B3-DE8DEA3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5A7C84-3485-4F6B-9AA1-E6B585A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50B0-3D13-49D6-871F-EDC3668F9BC8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50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50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4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6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1C69-9E0B-4536-9359-80F5FF68F64C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55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56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7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9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E446-F8E9-49D4-82E9-8FD0518DA485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61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61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0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A0FE-4361-4632-8152-9D69D13BD622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66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67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35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EBA9-BFBA-4ADA-A797-99AC76D329FC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72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72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38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399-D324-43E3-AAC4-1A65699560CF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77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78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1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EBE2-DE10-4AEF-BBE2-A83ADA10A332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83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83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44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5D9F-43B8-4DF9-B8AB-0DF2743E996E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88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89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47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A2F-E073-42B1-8B56-FC27FE2CC562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6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6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3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4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B091-99F5-482A-A322-A09C00EA80F6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15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19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15B-1219-4E4D-9905-A6236D05A84C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70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74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8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3024-868F-451A-A7D5-988450EDF99B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22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23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9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1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1609-E73C-45B9-9750-FE90CAA432EA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28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28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2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4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7E0C-9640-4B2F-BF67-84E3A233BA6B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33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34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5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7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D50D-5C3F-4A62-A0F9-1D3375CCA8D9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391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395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8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0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6EEA-9714-4DE6-B741-68A1BCFD0FEF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3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446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7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450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1"/>
          </p:nvPr>
        </p:nvSpPr>
        <p:spPr>
          <a:xfrm>
            <a:off x="6966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3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64F9-E22E-4529-9021-B4EDAB0075E1}" type="slidenum"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conpng.com/icon/3507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iconpng.com/icon/16890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www.iconpng.com/icon/16890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iconpng.com/icon/16890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iconpng.com/icon/16890" TargetMode="External"/><Relationship Id="rId11" Type="http://schemas.openxmlformats.org/officeDocument/2006/relationships/image" Target="../media/image5.png"/><Relationship Id="rId12" Type="http://schemas.openxmlformats.org/officeDocument/2006/relationships/hyperlink" Target="http://www.iconpng.com/icon/16890" TargetMode="External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hyperlink" Target="http://www.iconpng.com/icon/16890" TargetMode="External"/><Relationship Id="rId17" Type="http://schemas.openxmlformats.org/officeDocument/2006/relationships/image" Target="../media/image5.png"/><Relationship Id="rId18" Type="http://schemas.openxmlformats.org/officeDocument/2006/relationships/hyperlink" Target="http://www.eeppt.com" TargetMode="External"/><Relationship Id="rId19" Type="http://schemas.openxmlformats.org/officeDocument/2006/relationships/hyperlink" Target="http://www.eeppt.com" TargetMode="External"/><Relationship Id="rId20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8"/>
          <p:cNvSpPr/>
          <p:nvPr/>
        </p:nvSpPr>
        <p:spPr>
          <a:xfrm>
            <a:off x="304920" y="4844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商务年终总结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17" descr="团队精神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0" y="457200"/>
            <a:ext cx="9144000" cy="4030560"/>
          </a:xfrm>
          <a:prstGeom prst="rect">
            <a:avLst/>
          </a:prstGeom>
          <a:ln w="0">
            <a:noFill/>
          </a:ln>
        </p:spPr>
      </p:pic>
      <p:sp>
        <p:nvSpPr>
          <p:cNvPr id="938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3"/>
          <p:cNvSpPr/>
          <p:nvPr/>
        </p:nvSpPr>
        <p:spPr>
          <a:xfrm>
            <a:off x="1582920" y="2743200"/>
            <a:ext cx="174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10" descr="商业精英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2" descr="团队合作精神大图 点击还原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4" descr="划艇团队大图 点击还原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5720" y="4572000"/>
            <a:ext cx="350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10" descr="商务团队造型"/>
          <p:cNvPicPr/>
          <p:nvPr/>
        </p:nvPicPr>
        <p:blipFill>
          <a:blip r:embed="rId1"/>
          <a:srcRect l="0" t="1824" r="0" b="4521"/>
          <a:stretch/>
        </p:blipFill>
        <p:spPr>
          <a:xfrm>
            <a:off x="200160" y="1542960"/>
            <a:ext cx="3305160" cy="4662720"/>
          </a:xfrm>
          <a:prstGeom prst="rect">
            <a:avLst/>
          </a:prstGeom>
          <a:ln w="0">
            <a:noFill/>
          </a:ln>
        </p:spPr>
      </p:pic>
      <p:sp>
        <p:nvSpPr>
          <p:cNvPr id="942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0" descr="商务团队造型"/>
          <p:cNvPicPr/>
          <p:nvPr/>
        </p:nvPicPr>
        <p:blipFill>
          <a:blip r:embed="rId1"/>
          <a:srcRect l="0" t="1824" r="0" b="4521"/>
          <a:stretch/>
        </p:blipFill>
        <p:spPr>
          <a:xfrm>
            <a:off x="200160" y="1542960"/>
            <a:ext cx="3305160" cy="4662720"/>
          </a:xfrm>
          <a:prstGeom prst="rect">
            <a:avLst/>
          </a:prstGeom>
          <a:ln w="0">
            <a:noFill/>
          </a:ln>
        </p:spPr>
      </p:pic>
      <p:sp>
        <p:nvSpPr>
          <p:cNvPr id="949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同侧圆角矩形 2"/>
          <p:cNvSpPr/>
          <p:nvPr/>
        </p:nvSpPr>
        <p:spPr>
          <a:xfrm>
            <a:off x="2502000" y="2095560"/>
            <a:ext cx="1403280" cy="517320"/>
          </a:xfrm>
          <a:custGeom>
            <a:avLst/>
            <a:gdLst/>
            <a:ahLst/>
            <a:rect l="l" t="t" r="r" b="b"/>
            <a:pathLst>
              <a:path w="1403350" h="517525">
                <a:moveTo>
                  <a:pt x="86255" y="0"/>
                </a:moveTo>
                <a:lnTo>
                  <a:pt x="1317094" y="0"/>
                </a:lnTo>
                <a:cubicBezTo>
                  <a:pt x="1364731" y="0"/>
                  <a:pt x="1403349" y="38618"/>
                  <a:pt x="1403349" y="86255"/>
                </a:cubicBezTo>
                <a:lnTo>
                  <a:pt x="1403350" y="517525"/>
                </a:lnTo>
                <a:lnTo>
                  <a:pt x="1403350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ffe39d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同侧圆角矩形 69"/>
          <p:cNvSpPr/>
          <p:nvPr/>
        </p:nvSpPr>
        <p:spPr>
          <a:xfrm>
            <a:off x="3908520" y="2095560"/>
            <a:ext cx="1439640" cy="517320"/>
          </a:xfrm>
          <a:custGeom>
            <a:avLst/>
            <a:gdLst/>
            <a:ahLst/>
            <a:rect l="l" t="t" r="r" b="b"/>
            <a:pathLst>
              <a:path w="1439863" h="517525">
                <a:moveTo>
                  <a:pt x="86255" y="0"/>
                </a:moveTo>
                <a:lnTo>
                  <a:pt x="1353607" y="0"/>
                </a:lnTo>
                <a:cubicBezTo>
                  <a:pt x="1401244" y="0"/>
                  <a:pt x="1439862" y="38618"/>
                  <a:pt x="1439862" y="86255"/>
                </a:cubicBezTo>
                <a:lnTo>
                  <a:pt x="1439863" y="517525"/>
                </a:lnTo>
                <a:lnTo>
                  <a:pt x="1439863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fed46c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同侧圆角矩形 70"/>
          <p:cNvSpPr/>
          <p:nvPr/>
        </p:nvSpPr>
        <p:spPr>
          <a:xfrm>
            <a:off x="5351400" y="2095560"/>
            <a:ext cx="1656000" cy="517320"/>
          </a:xfrm>
          <a:custGeom>
            <a:avLst/>
            <a:gdLst/>
            <a:ahLst/>
            <a:rect l="l" t="t" r="r" b="b"/>
            <a:pathLst>
              <a:path w="1655762" h="517525">
                <a:moveTo>
                  <a:pt x="86255" y="0"/>
                </a:moveTo>
                <a:lnTo>
                  <a:pt x="1569506" y="0"/>
                </a:lnTo>
                <a:cubicBezTo>
                  <a:pt x="1617143" y="0"/>
                  <a:pt x="1655761" y="38618"/>
                  <a:pt x="1655761" y="86255"/>
                </a:cubicBezTo>
                <a:lnTo>
                  <a:pt x="1655762" y="517525"/>
                </a:lnTo>
                <a:lnTo>
                  <a:pt x="1655762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c7d0e9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同侧圆角矩形 71"/>
          <p:cNvSpPr/>
          <p:nvPr/>
        </p:nvSpPr>
        <p:spPr>
          <a:xfrm>
            <a:off x="7010280" y="2095560"/>
            <a:ext cx="1447920" cy="517320"/>
          </a:xfrm>
          <a:custGeom>
            <a:avLst/>
            <a:gdLst/>
            <a:ahLst/>
            <a:rect l="l" t="t" r="r" b="b"/>
            <a:pathLst>
              <a:path w="1447800" h="517525">
                <a:moveTo>
                  <a:pt x="86255" y="0"/>
                </a:moveTo>
                <a:lnTo>
                  <a:pt x="1361544" y="0"/>
                </a:lnTo>
                <a:cubicBezTo>
                  <a:pt x="1409181" y="0"/>
                  <a:pt x="1447799" y="38618"/>
                  <a:pt x="1447799" y="86255"/>
                </a:cubicBezTo>
                <a:lnTo>
                  <a:pt x="1447800" y="517525"/>
                </a:lnTo>
                <a:lnTo>
                  <a:pt x="1447800" y="517525"/>
                </a:lnTo>
                <a:lnTo>
                  <a:pt x="0" y="517525"/>
                </a:lnTo>
                <a:lnTo>
                  <a:pt x="0" y="517525"/>
                </a:lnTo>
                <a:lnTo>
                  <a:pt x="0" y="86255"/>
                </a:lnTo>
                <a:cubicBezTo>
                  <a:pt x="0" y="38618"/>
                  <a:pt x="38618" y="0"/>
                  <a:pt x="86255" y="0"/>
                </a:cubicBezTo>
                <a:close/>
              </a:path>
            </a:pathLst>
          </a:custGeom>
          <a:solidFill>
            <a:srgbClr val="abb9de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98"/>
          <p:cNvSpPr/>
          <p:nvPr/>
        </p:nvSpPr>
        <p:spPr>
          <a:xfrm>
            <a:off x="294120" y="1370520"/>
            <a:ext cx="985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1190520" y="2209680"/>
          <a:ext cx="7267680" cy="300816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958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869760" y="140148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直接连接符 23"/>
          <p:cNvSpPr/>
          <p:nvPr/>
        </p:nvSpPr>
        <p:spPr>
          <a:xfrm>
            <a:off x="4738680" y="2514600"/>
            <a:ext cx="0" cy="10746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64"/>
          <p:cNvSpPr/>
          <p:nvPr/>
        </p:nvSpPr>
        <p:spPr>
          <a:xfrm>
            <a:off x="4738680" y="4044960"/>
            <a:ext cx="0" cy="1074600"/>
          </a:xfrm>
          <a:prstGeom prst="line">
            <a:avLst/>
          </a:prstGeom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63" descr="http://files.jb51.net/scimg/png/201008/container_forklift_01.png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4724280" y="2362320"/>
            <a:ext cx="1292400" cy="268200"/>
          </a:xfrm>
          <a:prstGeom prst="pi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15"/>
          <p:cNvSpPr/>
          <p:nvPr/>
        </p:nvSpPr>
        <p:spPr>
          <a:xfrm>
            <a:off x="4687920" y="3884760"/>
            <a:ext cx="1293840" cy="268200"/>
          </a:xfrm>
          <a:prstGeom prst="pi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9"/>
          <p:cNvSpPr/>
          <p:nvPr/>
        </p:nvSpPr>
        <p:spPr>
          <a:xfrm>
            <a:off x="2001960" y="2451240"/>
            <a:ext cx="863640" cy="433080"/>
          </a:xfrm>
          <a:prstGeom prst="pie">
            <a:avLst/>
          </a:prstGeom>
          <a:gradFill rotWithShape="0">
            <a:gsLst>
              <a:gs pos="0">
                <a:srgbClr val="c50057"/>
              </a:gs>
              <a:gs pos="100000">
                <a:srgbClr val="ff0075"/>
              </a:gs>
            </a:gsLst>
            <a:lin ang="16200000"/>
          </a:gradFill>
          <a:ln w="9360">
            <a:solidFill>
              <a:srgbClr val="ea0f7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42"/>
          <p:cNvSpPr/>
          <p:nvPr/>
        </p:nvSpPr>
        <p:spPr>
          <a:xfrm>
            <a:off x="2001960" y="2989440"/>
            <a:ext cx="863640" cy="431640"/>
          </a:xfrm>
          <a:prstGeom prst="pie">
            <a:avLst/>
          </a:pr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6200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43"/>
          <p:cNvSpPr/>
          <p:nvPr/>
        </p:nvSpPr>
        <p:spPr>
          <a:xfrm>
            <a:off x="2001960" y="3525840"/>
            <a:ext cx="863640" cy="431640"/>
          </a:xfrm>
          <a:prstGeom prst="pie">
            <a:avLst/>
          </a:prstGeom>
          <a:gradFill rotWithShape="0">
            <a:gsLst>
              <a:gs pos="0">
                <a:srgbClr val="c50057"/>
              </a:gs>
              <a:gs pos="100000">
                <a:srgbClr val="ff0075"/>
              </a:gs>
            </a:gsLst>
            <a:lin ang="16200000"/>
          </a:gradFill>
          <a:ln w="9360">
            <a:solidFill>
              <a:srgbClr val="ea0f7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44"/>
          <p:cNvSpPr/>
          <p:nvPr/>
        </p:nvSpPr>
        <p:spPr>
          <a:xfrm>
            <a:off x="2001960" y="4064040"/>
            <a:ext cx="863640" cy="431640"/>
          </a:xfrm>
          <a:prstGeom prst="pie">
            <a:avLst/>
          </a:pr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6200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5"/>
          <p:cNvSpPr/>
          <p:nvPr/>
        </p:nvSpPr>
        <p:spPr>
          <a:xfrm>
            <a:off x="2001960" y="4600440"/>
            <a:ext cx="863640" cy="432000"/>
          </a:xfrm>
          <a:prstGeom prst="pie">
            <a:avLst/>
          </a:prstGeom>
          <a:gradFill rotWithShape="0">
            <a:gsLst>
              <a:gs pos="0">
                <a:srgbClr val="c50057"/>
              </a:gs>
              <a:gs pos="100000">
                <a:srgbClr val="ff0075"/>
              </a:gs>
            </a:gsLst>
            <a:lin ang="16200000"/>
          </a:gradFill>
          <a:ln w="9360">
            <a:solidFill>
              <a:srgbClr val="ea0f7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6"/>
          <p:cNvSpPr/>
          <p:nvPr/>
        </p:nvSpPr>
        <p:spPr>
          <a:xfrm>
            <a:off x="3782160" y="2286000"/>
            <a:ext cx="250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47"/>
          <p:cNvSpPr/>
          <p:nvPr/>
        </p:nvSpPr>
        <p:spPr>
          <a:xfrm>
            <a:off x="3536640" y="396864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0"/>
          <p:cNvSpPr/>
          <p:nvPr/>
        </p:nvSpPr>
        <p:spPr>
          <a:xfrm>
            <a:off x="3584160" y="299232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52"/>
          <p:cNvSpPr/>
          <p:nvPr/>
        </p:nvSpPr>
        <p:spPr>
          <a:xfrm>
            <a:off x="3596040" y="464652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56"/>
          <p:cNvSpPr/>
          <p:nvPr/>
        </p:nvSpPr>
        <p:spPr>
          <a:xfrm>
            <a:off x="7554960" y="3348000"/>
            <a:ext cx="716040" cy="447840"/>
          </a:xfrm>
          <a:prstGeom prst="pie">
            <a:avLst/>
          </a:prstGeom>
          <a:gradFill rotWithShape="0">
            <a:gsLst>
              <a:gs pos="0">
                <a:srgbClr val="5bab18"/>
              </a:gs>
              <a:gs pos="100000">
                <a:srgbClr val="79e520"/>
              </a:gs>
            </a:gsLst>
            <a:lin ang="16200000"/>
          </a:gradFill>
          <a:ln w="9360">
            <a:solidFill>
              <a:srgbClr val="7cd03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4" name="AutoShape 59"/>
          <p:cNvCxnSpPr/>
          <p:nvPr/>
        </p:nvCxnSpPr>
        <p:spPr>
          <a:xfrm flipH="1">
            <a:off x="3164760" y="3794760"/>
            <a:ext cx="4747320" cy="188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5" name="Rectangle 58"/>
          <p:cNvSpPr/>
          <p:nvPr/>
        </p:nvSpPr>
        <p:spPr>
          <a:xfrm>
            <a:off x="8097840" y="4332240"/>
            <a:ext cx="455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9"/>
          <p:cNvSpPr/>
          <p:nvPr/>
        </p:nvSpPr>
        <p:spPr>
          <a:xfrm>
            <a:off x="1913040" y="5495760"/>
            <a:ext cx="1163520" cy="371520"/>
          </a:xfrm>
          <a:prstGeom prst="pie">
            <a:avLst/>
          </a:prstGeom>
          <a:gradFill rotWithShape="0">
            <a:gsLst>
              <a:gs pos="0">
                <a:srgbClr val="5bab18"/>
              </a:gs>
              <a:gs pos="100000">
                <a:srgbClr val="79e520"/>
              </a:gs>
            </a:gsLst>
            <a:lin ang="16200000"/>
          </a:gradFill>
          <a:ln w="9360">
            <a:solidFill>
              <a:srgbClr val="7cd03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0"/>
          <p:cNvSpPr/>
          <p:nvPr/>
        </p:nvSpPr>
        <p:spPr>
          <a:xfrm>
            <a:off x="2239200" y="5972040"/>
            <a:ext cx="455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1"/>
          <p:cNvSpPr/>
          <p:nvPr/>
        </p:nvSpPr>
        <p:spPr>
          <a:xfrm>
            <a:off x="390600" y="3616200"/>
            <a:ext cx="863640" cy="432000"/>
          </a:xfrm>
          <a:prstGeom prst="pie">
            <a:avLst/>
          </a:prstGeom>
          <a:gradFill rotWithShape="0">
            <a:gsLst>
              <a:gs pos="0">
                <a:srgbClr val="d89300"/>
              </a:gs>
              <a:gs pos="100000">
                <a:srgbClr val="ffc500"/>
              </a:gs>
            </a:gsLst>
            <a:lin ang="16200000"/>
          </a:gradFill>
          <a:ln w="9360">
            <a:solidFill>
              <a:srgbClr val="feb60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宋体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9" name="肘形连接符 9"/>
          <p:cNvCxnSpPr>
            <a:stCxn id="967" idx="1"/>
            <a:endCxn id="968" idx="1"/>
          </p:cNvCxnSpPr>
          <p:nvPr/>
        </p:nvCxnSpPr>
        <p:spPr>
          <a:xfrm flipH="1">
            <a:off x="4957200" y="2908800"/>
            <a:ext cx="13320" cy="31356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cxnSp>
        <p:nvCxnSpPr>
          <p:cNvPr id="990" name="肘形连接符 15"/>
          <p:cNvCxnSpPr>
            <a:stCxn id="968" idx="1"/>
            <a:endCxn id="969" idx="1"/>
          </p:cNvCxnSpPr>
          <p:nvPr/>
        </p:nvCxnSpPr>
        <p:spPr>
          <a:xfrm flipH="1">
            <a:off x="4957200" y="3222720"/>
            <a:ext cx="13320" cy="35892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pic>
        <p:nvPicPr>
          <p:cNvPr id="991" name="Picture 65" descr="大货车图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992" name="肘形连接符 19"/>
          <p:cNvCxnSpPr>
            <a:stCxn id="971" idx="1"/>
            <a:endCxn id="972" idx="1"/>
          </p:cNvCxnSpPr>
          <p:nvPr/>
        </p:nvCxnSpPr>
        <p:spPr>
          <a:xfrm flipH="1">
            <a:off x="4957200" y="4385160"/>
            <a:ext cx="13320" cy="35964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cxnSp>
        <p:nvCxnSpPr>
          <p:cNvPr id="993" name="肘形连接符 21"/>
          <p:cNvCxnSpPr>
            <a:stCxn id="972" idx="1"/>
            <a:endCxn id="973" idx="1"/>
          </p:cNvCxnSpPr>
          <p:nvPr/>
        </p:nvCxnSpPr>
        <p:spPr>
          <a:xfrm flipH="1">
            <a:off x="4957200" y="4745160"/>
            <a:ext cx="13320" cy="358920"/>
          </a:xfrm>
          <a:prstGeom prst="straightConnector1">
            <a:avLst/>
          </a:prstGeom>
          <a:ln w="9360">
            <a:solidFill>
              <a:srgbClr val="7f7f7f"/>
            </a:solidFill>
            <a:round/>
          </a:ln>
        </p:spPr>
      </p:cxnSp>
      <p:pic>
        <p:nvPicPr>
          <p:cNvPr id="994" name="Picture 69" descr="向右的绿箭头图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71" descr="向右的绿箭头图标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73" descr="向右的绿箭头图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75" descr="向右的绿箭头图标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77" descr="向右的绿箭头图标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79" descr="左箭头和右箭头图标"/>
          <p:cNvPicPr/>
          <p:nvPr/>
        </p:nvPicPr>
        <p:blipFill>
          <a:blip r:embed="rId14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79" descr="左箭头和右箭头图标"/>
          <p:cNvPicPr/>
          <p:nvPr/>
        </p:nvPicPr>
        <p:blipFill>
          <a:blip r:embed="rId15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69" descr="向右的绿箭头图标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002" name="Text Box 8"/>
          <p:cNvSpPr/>
          <p:nvPr/>
        </p:nvSpPr>
        <p:spPr>
          <a:xfrm>
            <a:off x="461880" y="6537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8"/>
              </a:rPr>
              <a:t>ppt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ea typeface="宋体"/>
                <a:hlinkClick r:id="rId19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组合 3" descr=""/>
          <p:cNvPicPr/>
          <p:nvPr/>
        </p:nvPicPr>
        <p:blipFill>
          <a:blip r:embed="rId1"/>
          <a:stretch/>
        </p:blipFill>
        <p:spPr>
          <a:xfrm>
            <a:off x="-23760" y="1441440"/>
            <a:ext cx="3436920" cy="5005440"/>
          </a:xfrm>
          <a:prstGeom prst="rect">
            <a:avLst/>
          </a:prstGeom>
          <a:ln w="0">
            <a:noFill/>
          </a:ln>
        </p:spPr>
      </p:pic>
      <p:sp>
        <p:nvSpPr>
          <p:cNvPr id="1009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c7d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任意多边形 1"/>
          <p:cNvSpPr/>
          <p:nvPr/>
        </p:nvSpPr>
        <p:spPr>
          <a:xfrm>
            <a:off x="2922480" y="1952640"/>
            <a:ext cx="5992920" cy="51588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13"/>
          <p:cNvSpPr/>
          <p:nvPr/>
        </p:nvSpPr>
        <p:spPr>
          <a:xfrm>
            <a:off x="2922480" y="2711520"/>
            <a:ext cx="5992920" cy="51732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任意多边形 14"/>
          <p:cNvSpPr/>
          <p:nvPr/>
        </p:nvSpPr>
        <p:spPr>
          <a:xfrm>
            <a:off x="2922480" y="3672000"/>
            <a:ext cx="5992920" cy="51732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任意多边形 15"/>
          <p:cNvSpPr/>
          <p:nvPr/>
        </p:nvSpPr>
        <p:spPr>
          <a:xfrm>
            <a:off x="2922480" y="4586400"/>
            <a:ext cx="5992920" cy="51732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任意多边形 16"/>
          <p:cNvSpPr/>
          <p:nvPr/>
        </p:nvSpPr>
        <p:spPr>
          <a:xfrm>
            <a:off x="2922480" y="5365800"/>
            <a:ext cx="5992920" cy="515880"/>
          </a:xfrm>
          <a:custGeom>
            <a:avLst/>
            <a:gdLst/>
            <a:ahLst/>
            <a:rect l="l" t="t" r="r" b="b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4a609d"/>
              </a:gs>
              <a:gs pos="100000">
                <a:srgbClr val="617fd1"/>
              </a:gs>
            </a:gsLst>
            <a:lin ang="16200000"/>
          </a:gradFill>
          <a:ln w="9360">
            <a:solidFill>
              <a:srgbClr val="6e86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圆角矩形 12" descr=""/>
          <p:cNvPicPr/>
          <p:nvPr/>
        </p:nvPicPr>
        <p:blipFill>
          <a:blip r:embed="rId1"/>
          <a:stretch/>
        </p:blipFill>
        <p:spPr>
          <a:xfrm>
            <a:off x="376200" y="3108240"/>
            <a:ext cx="1995480" cy="1262160"/>
          </a:xfrm>
          <a:prstGeom prst="rect">
            <a:avLst/>
          </a:prstGeom>
          <a:ln w="0">
            <a:noFill/>
          </a:ln>
        </p:spPr>
      </p:pic>
      <p:pic>
        <p:nvPicPr>
          <p:cNvPr id="1022" name="圆角矩形 13" descr=""/>
          <p:cNvPicPr/>
          <p:nvPr/>
        </p:nvPicPr>
        <p:blipFill>
          <a:blip r:embed="rId2"/>
          <a:stretch/>
        </p:blipFill>
        <p:spPr>
          <a:xfrm>
            <a:off x="3728880" y="3119400"/>
            <a:ext cx="1762200" cy="123516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16"/>
          <p:cNvSpPr/>
          <p:nvPr/>
        </p:nvSpPr>
        <p:spPr>
          <a:xfrm>
            <a:off x="4291920" y="1828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圆角矩形 17" descr=""/>
          <p:cNvPicPr/>
          <p:nvPr/>
        </p:nvPicPr>
        <p:blipFill>
          <a:blip r:embed="rId3"/>
          <a:stretch/>
        </p:blipFill>
        <p:spPr>
          <a:xfrm>
            <a:off x="6696000" y="3108240"/>
            <a:ext cx="1994040" cy="1262160"/>
          </a:xfrm>
          <a:prstGeom prst="rect">
            <a:avLst/>
          </a:prstGeom>
          <a:ln w="0">
            <a:noFill/>
          </a:ln>
        </p:spPr>
      </p:pic>
      <p:cxnSp>
        <p:nvCxnSpPr>
          <p:cNvPr id="1025" name="肘形连接符 19"/>
          <p:cNvCxnSpPr>
            <a:stCxn id="1024" idx="0"/>
            <a:endCxn id="1021" idx="0"/>
          </p:cNvCxnSpPr>
          <p:nvPr/>
        </p:nvCxnSpPr>
        <p:spPr>
          <a:xfrm flipH="1" flipV="1">
            <a:off x="1563480" y="3121920"/>
            <a:ext cx="5944320" cy="3960"/>
          </a:xfrm>
          <a:prstGeom prst="straightConnector1">
            <a:avLst/>
          </a:prstGeom>
          <a:ln w="28440">
            <a:solidFill>
              <a:srgbClr val="7f7f7f"/>
            </a:solidFill>
            <a:round/>
            <a:headEnd len="med" type="arrow" w="med"/>
          </a:ln>
        </p:spPr>
      </p:cxnSp>
      <p:cxnSp>
        <p:nvCxnSpPr>
          <p:cNvPr id="1026" name="直接箭头连接符 23"/>
          <p:cNvCxnSpPr>
            <a:stCxn id="1024" idx="0"/>
            <a:endCxn id="1021" idx="0"/>
          </p:cNvCxnSpPr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tailEnd len="med" type="triangle" w="med"/>
          </a:ln>
        </p:spPr>
      </p:cxnSp>
      <p:cxnSp>
        <p:nvCxnSpPr>
          <p:cNvPr id="1027" name="直接箭头连接符 24"/>
          <p:cNvCxnSpPr>
            <a:stCxn id="1024" idx="0"/>
            <a:endCxn id="1021" idx="0"/>
          </p:cNvCxnSpPr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tailEnd len="med" type="triangle" w="med"/>
          </a:ln>
        </p:spPr>
      </p:cxnSp>
      <p:cxnSp>
        <p:nvCxnSpPr>
          <p:cNvPr id="1028" name="直接箭头连接符 27"/>
          <p:cNvCxnSpPr>
            <a:stCxn id="1024" idx="0"/>
            <a:endCxn id="1021" idx="0"/>
          </p:cNvCxnSpPr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headEnd len="med" type="arrow" w="med"/>
          </a:ln>
        </p:spPr>
      </p:cxnSp>
      <p:cxnSp>
        <p:nvCxnSpPr>
          <p:cNvPr id="1029" name="直接箭头连接符 28"/>
          <p:cNvCxnSpPr>
            <a:stCxn id="1024" idx="0"/>
            <a:endCxn id="1021" idx="0"/>
          </p:cNvCxnSpPr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round/>
            <a:headEnd len="med" type="arrow" w="med"/>
          </a:ln>
        </p:spPr>
      </p:cxnSp>
      <p:sp>
        <p:nvSpPr>
          <p:cNvPr id="1030" name="TextBox 29"/>
          <p:cNvSpPr/>
          <p:nvPr/>
        </p:nvSpPr>
        <p:spPr>
          <a:xfrm>
            <a:off x="56970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30"/>
          <p:cNvSpPr/>
          <p:nvPr/>
        </p:nvSpPr>
        <p:spPr>
          <a:xfrm>
            <a:off x="26568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肘形连接符 33"/>
          <p:cNvCxnSpPr>
            <a:stCxn id="1021" idx="0"/>
            <a:endCxn id="1022" idx="0"/>
          </p:cNvCxnSpPr>
          <p:nvPr/>
        </p:nvCxnSpPr>
        <p:spPr>
          <a:xfrm flipV="1">
            <a:off x="1563840" y="3121920"/>
            <a:ext cx="3048480" cy="3960"/>
          </a:xfrm>
          <a:prstGeom prst="straightConnector1">
            <a:avLst/>
          </a:prstGeom>
          <a:ln w="28440">
            <a:solidFill>
              <a:srgbClr val="7f7f7f"/>
            </a:solidFill>
            <a:round/>
            <a:tailEnd len="med" type="triangle" w="med"/>
          </a:ln>
        </p:spPr>
      </p:cxnSp>
      <p:pic>
        <p:nvPicPr>
          <p:cNvPr id="1033" name="椭圆 16" descr=""/>
          <p:cNvPicPr/>
          <p:nvPr/>
        </p:nvPicPr>
        <p:blipFill>
          <a:blip r:embed="rId4"/>
          <a:stretch/>
        </p:blipFill>
        <p:spPr>
          <a:xfrm>
            <a:off x="6553080" y="4829040"/>
            <a:ext cx="2057400" cy="505080"/>
          </a:xfrm>
          <a:prstGeom prst="rect">
            <a:avLst/>
          </a:prstGeom>
          <a:ln w="0">
            <a:noFill/>
          </a:ln>
        </p:spPr>
      </p:pic>
      <p:pic>
        <p:nvPicPr>
          <p:cNvPr id="1034" name="椭圆 18" descr=""/>
          <p:cNvPicPr/>
          <p:nvPr/>
        </p:nvPicPr>
        <p:blipFill>
          <a:blip r:embed="rId5"/>
          <a:stretch/>
        </p:blipFill>
        <p:spPr>
          <a:xfrm>
            <a:off x="533520" y="4829040"/>
            <a:ext cx="2057400" cy="505080"/>
          </a:xfrm>
          <a:prstGeom prst="rect">
            <a:avLst/>
          </a:prstGeom>
          <a:ln w="0">
            <a:noFill/>
          </a:ln>
        </p:spPr>
      </p:pic>
      <p:pic>
        <p:nvPicPr>
          <p:cNvPr id="1035" name="椭圆 20" descr=""/>
          <p:cNvPicPr/>
          <p:nvPr/>
        </p:nvPicPr>
        <p:blipFill>
          <a:blip r:embed="rId6"/>
          <a:stretch/>
        </p:blipFill>
        <p:spPr>
          <a:xfrm>
            <a:off x="3583080" y="4524480"/>
            <a:ext cx="20574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www.pptbz.com</dc:creator>
  <dc:description/>
  <dc:language>en-US</dc:language>
  <cp:lastModifiedBy>xinxing</cp:lastModifiedBy>
  <cp:lastPrinted>2113-01-01T00:00:00Z</cp:lastPrinted>
  <dcterms:modified xsi:type="dcterms:W3CDTF">2017-04-02T13:00:56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  <property fmtid="{D5CDD505-2E9C-101B-9397-08002B2CF9AE}" pid="3" name="Version">
    <vt:r8>1</vt:r8>
  </property>
</Properties>
</file>