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70206171"/>
        <c:axId val="23690481"/>
      </c:barChart>
      <c:catAx>
        <c:axId val="702061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23690481"/>
        <c:crosses val="autoZero"/>
        <c:auto val="1"/>
        <c:lblAlgn val="ctr"/>
        <c:lblOffset val="100"/>
        <c:noMultiLvlLbl val="0"/>
      </c:catAx>
      <c:valAx>
        <c:axId val="23690481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7020617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59685971"/>
        <c:axId val="16765105"/>
      </c:barChart>
      <c:catAx>
        <c:axId val="5968597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16765105"/>
        <c:crosses val="autoZero"/>
        <c:auto val="1"/>
        <c:lblAlgn val="ctr"/>
        <c:lblOffset val="100"/>
        <c:noMultiLvlLbl val="0"/>
      </c:catAx>
      <c:valAx>
        <c:axId val="16765105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9685971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17128399"/>
        <c:axId val="34575399"/>
      </c:lineChart>
      <c:catAx>
        <c:axId val="171283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34575399"/>
        <c:crosses val="autoZero"/>
        <c:auto val="1"/>
        <c:lblAlgn val="ctr"/>
        <c:lblOffset val="100"/>
        <c:noMultiLvlLbl val="0"/>
      </c:catAx>
      <c:valAx>
        <c:axId val="34575399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17128399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6357125892906"/>
          <c:y val="0.139104876419506"/>
          <c:w val="0.742970202970569"/>
          <c:h val="0.0930768623861897"/>
        </c:manualLayout>
      </c:layout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1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89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47bcc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a7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69e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143519"/>
        <c:axId val="12180089"/>
      </c:barChart>
      <c:catAx>
        <c:axId val="51435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12180089"/>
        <c:crosses val="autoZero"/>
        <c:auto val="1"/>
        <c:lblAlgn val="ctr"/>
        <c:lblOffset val="100"/>
        <c:noMultiLvlLbl val="0"/>
      </c:catAx>
      <c:valAx>
        <c:axId val="12180089"/>
        <c:scaling>
          <c:orientation val="minMax"/>
        </c:scaling>
        <c:delete val="0"/>
        <c:axPos val="l"/>
        <c:majorGridlines>
          <c:spPr>
            <a:ln w="9360">
              <a:solidFill>
                <a:srgbClr val="dddddd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dddddd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ffffff"/>
                </a:solidFill>
                <a:latin typeface="Arial"/>
                <a:ea typeface="微软雅黑"/>
              </a:defRPr>
            </a:pPr>
          </a:p>
        </c:txPr>
        <c:crossAx val="5143519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dddddd"/>
          </a:solidFill>
        </a:ln>
      </c:spPr>
      <c:txPr>
        <a:bodyPr/>
        <a:lstStyle/>
        <a:p>
          <a:pPr>
            <a:defRPr b="0" sz="1400" spc="-1" strike="noStrike">
              <a:solidFill>
                <a:srgbClr val="ffffff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C33D52-AEFB-445E-9AFA-F01C11D09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49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E3020A73-04E6-4824-840A-448C64874A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9C8-5265-4E97-BAEC-4D32FBE8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685-801E-4BF9-AF6C-1953FEFA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9D5-F18B-4905-9C45-A1DFDC50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307-CD10-42A4-BA8E-7AB97611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D88D-3A58-433D-8D59-206FEA41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EB5F-6484-4C83-AD84-D60CF114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68C-08B2-4204-A98A-05C268E9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8DDF-5B06-4123-A11F-CEC4CF88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0261-7C5A-48EE-B8FC-4C1CC2E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17C-E47F-423B-9DBD-62B6527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1D4B-A834-4BBD-8A84-A8537E3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C3C-C58D-49EF-BCF5-D06FFDFE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9D9-F3DA-4F89-8FA2-33DADD7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44A-DA89-4E1E-8726-19BA401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FBEF-B9B5-488D-95FB-B952068C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2F10-7BA8-4886-89E5-4D9D20A6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A4E1-D5EC-4699-B983-D6DBA82B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6B30-B1B2-4ADC-A1FC-B4486B90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F1C0-DDE9-454E-8119-AAD086C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5DF05-E09D-42D3-8BA7-BEC12E22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02C80-A4F6-4680-A69C-35FFA9B9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736F-52B5-4437-A565-53D78B60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B90-2134-4CD0-85A1-80AA54C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BFBC-676B-4BDA-AAF1-0EF8268D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8CF4-3727-4CA6-8921-4C25995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5AAB-FDE2-4047-8AB3-7159F8E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3DAB-22F7-4B67-B8B6-DE45F3B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A266-1188-4C5A-9BD7-9B0BCC7F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0C8A-33D5-4CED-8E3E-58D854DC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C8BD-5E09-480A-8BF9-F2BB845A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C6108-874F-413C-88C8-4ABBA3F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72FB-7408-42F2-A417-CEFD8DE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5B81-64E1-4B4C-A66A-9A37E925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E2F-0F68-4BE5-993B-EC23A822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035D-4142-4C0D-8ED2-77DC1660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24683-03B6-4A33-A0BD-9A1966E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45618-F9EA-4839-9D0D-2F19B54A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3D8A-AA7E-462D-B0CE-8CEAF75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FF2B-AA70-44E7-8A4F-74B196E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E347-06EB-417C-B6D2-771D95A5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CE560-575A-49D7-A461-3845F98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C8B6F-B14B-4D99-8055-3BC52E83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500C-5051-43CC-9B9B-B11AE80B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96571-8EE1-415C-B95B-EE003BAE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A1-7A9F-4A27-BE74-81DFD341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1250-FBC2-4C30-B545-97016166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73B6-A94A-445F-9FAC-7868BDFB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95538-5E68-4E72-BB7E-35481994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8FD22-A14A-448A-9857-67A5077C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C4B6-8803-4D12-8294-1C970236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476C8-8520-4099-AECB-782F06B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7622-B9E6-4ABF-8A53-F28E6F5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C5D6-7FCE-4996-AE98-E635A05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667CD-BC82-432D-8101-6AEF647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FDB5-8B31-41BF-81FE-CA2900D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688-9281-4C68-8446-4090C57E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49F46-04C0-4629-8716-1F86BB2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C27A-BC90-499E-AF48-F3E9DBFB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F69D-EF9E-467D-ACED-210B5345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CBE1C-6C4B-4531-A54C-BCA4374C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FF5F-9F9E-41DA-BA03-9203D082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1F08-7D3C-44D2-ADD2-B213452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A0C3-E280-4ACF-AF85-47BB7FE7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D085D-4115-4633-A318-750C112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F508A-FCD9-433F-BF0A-7B561B3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82E9-C56D-470F-889F-C8BC678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7B4-1A36-47AB-8D2C-7CAA282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C983C-C292-4568-8699-62EB583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75F4-0FB3-41EB-9C54-230E361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D55B-88B2-4A37-8983-C3870E38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947A1-8E23-4B89-922D-CC922FBA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41804-BEB7-4890-BBFE-41C22F78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903F-BE57-4534-BD03-FF4F6B6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EC746-9AB0-4EB2-BA6F-25B53A00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5EFB-3BB7-4482-B3AF-C5744CF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0A31D-FADE-4549-933E-68D758B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811E-80AF-443B-92B3-DEF81AD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131-6EEC-4BA5-B514-B04F2CEF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6CA3F-664C-4D0F-8577-726B11B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7A60-1C7E-4CC6-BEE2-2F0B5B4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E078-D26E-4C2F-B5C3-C24F31B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9FCCF-92E5-4F1B-BE78-2332C717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C85CB-2272-4648-A870-FFCEAE98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5CFF-690E-415E-A80C-055BDF83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F9000-25AC-4716-8578-683D6C3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8646-DFC1-4659-A451-2914DDE9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869E4-7587-46B4-AB50-5E8F4C79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DB5D0-E718-45C3-841A-46E0B9FE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C07-6F50-4ED0-AA97-D64EA52D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46364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9DCBD-FAE3-4C86-9256-15EDE594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2A117-AB25-4F15-BFFF-F841B47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33F61-A7FB-4213-B070-627A272D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7FC8-5138-4F5F-A994-DFC0C809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10808-E27D-41B4-BBF6-ABDCAB2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DD367-A97E-4502-8320-5EE4AC52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D5879-99EB-46A0-9E47-FB4CE3BC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738288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42CCAE6-4591-4E3E-A005-B5475A5E3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DA2043-88A1-4B3C-9B66-7CDED8676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TP-01-00001-\bg4.jpg"/>
          <p:cNvPicPr/>
          <p:nvPr/>
        </p:nvPicPr>
        <p:blipFill>
          <a:blip r:embed="rId3"/>
          <a:stretch/>
        </p:blipFill>
        <p:spPr>
          <a:xfrm>
            <a:off x="0" y="540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647266D-9F23-4ECA-870A-FDBCA42BB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ED5C21-5764-4945-9D58-74C1675C7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5D8D50D-3057-4D87-9D6D-188274E70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ffffff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AB1A94B-7964-41B3-B572-6E05620E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dddddd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1A65D-BC10-4EAA-81B6-F31E579DC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TP-01-00001-\bg11.jpg"/>
          <p:cNvPicPr/>
          <p:nvPr/>
        </p:nvPicPr>
        <p:blipFill>
          <a:blip r:embed="rId2"/>
          <a:stretch/>
        </p:blipFill>
        <p:spPr>
          <a:xfrm>
            <a:off x="-47160" y="-35280"/>
            <a:ext cx="9190800" cy="689292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D:\SLIDEtoME\TP模板\TP-01-00001-\bg8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B6600A7-464A-422C-8960-E76C12257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738072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5410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精品蓝色商务通用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53330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117-C994-4AAC-8F05-F4BB955C46B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AA924-5FFB-4531-A8F9-C753EF2D8EC0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图片占位符 11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4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91BFE0B-CCF3-4FE3-8EFC-E1757B775269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4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4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06FEF-41E7-48E7-85B4-AD5B8055E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53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7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ddddd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-119880" y="60973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D312-4C1E-4E98-917A-EA34A1EFDED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A0B2D3-97BE-4677-B010-637787471C85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6364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5280" y="542844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167A2-DC64-4B5B-A340-A68BFCFB59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9B7A235B-9BF5-463A-BC8F-F32965BB13E9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B65DA26-5535-4B4A-8CF8-FCB5A4EA966D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592FFF-400D-45FF-8D05-52F20B30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dddddd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b2b2b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dddddd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dddddd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589a"/>
          </a:solidFill>
          <a:ln w="9525">
            <a:solidFill>
              <a:srgbClr val="00589a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7a77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a5a5a5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dddddd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39320"/>
            <a:ext cx="8353440" cy="360"/>
          </a:xfrm>
          <a:prstGeom prst="straightConnector1">
            <a:avLst/>
          </a:prstGeom>
          <a:ln>
            <a:solidFill>
              <a:srgbClr val="dddddd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dddddd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4046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ffffff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364500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ADBB-455E-4B42-9349-E32A909BFF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18E7E5F-2636-4347-B49E-69A8364639AA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dddddd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D0C3FA8-BF69-4D52-AB3B-1D86BC90D5E3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5BEB8-F893-4818-92A9-D6B5375A2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3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8A7CB3F-3899-47AC-B97F-7AD9DBF50F42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3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3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4AEEBF9-9C09-4E3F-A34D-E8900DCA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49404615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18943292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25" name="PlaceHolder 2"/>
          <p:cNvSpPr>
            <a:spLocks noGrp="1"/>
          </p:cNvSpPr>
          <p:nvPr>
            <p:ph type="dt" idx="3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4F4DB2E-C212-4C24-A13C-638B0DD00E97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3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3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F10293F-E6E6-4945-9807-437103387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164880" y="6234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ddddd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0" name="内容占位符 9"/>
          <p:cNvGraphicFramePr/>
          <p:nvPr/>
        </p:nvGraphicFramePr>
        <p:xfrm>
          <a:off x="395280" y="1125360"/>
          <a:ext cx="8353080" cy="482400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95220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dddddd"/>
                      </a:solidFill>
                    </a:lnT>
                    <a:lnB w="12240">
                      <a:solidFill>
                        <a:srgbClr val="dddddd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31" name="PlaceHolder 2"/>
          <p:cNvSpPr>
            <a:spLocks noGrp="1"/>
          </p:cNvSpPr>
          <p:nvPr>
            <p:ph type="dt" idx="4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48D8BE3-A761-4CA3-823B-995EBA54A71C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4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4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02BADE1-02AA-4616-8A08-D96498399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2FFE032-1C4C-4481-B933-EAC933076C92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9/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4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4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FC8ED52-5D36-447B-9B85-474EBC569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2" name="内容占位符 6"/>
          <p:cNvGraphicFramePr/>
          <p:nvPr/>
        </p:nvGraphicFramePr>
        <p:xfrm>
          <a:off x="450072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5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dddddd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B9A80-F1DF-43FF-B3F7-F68EECD6CE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D2465D11-AB52-4C3E-A1BE-3809A2778AFE}" type="datetime1">
              <a:rPr lang="en-US"/>
              <a:t>07/29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412">
  <a:themeElements>
    <a:clrScheme name="www.slideto.Me bule D3">
      <a:dk1>
        <a:srgbClr val="ffffff"/>
      </a:dk1>
      <a:lt1>
        <a:srgbClr val="111111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dddddd"/>
      </a:dk2>
      <a:lt2>
        <a:srgbClr val="a5a5a5"/>
      </a:lt2>
      <a:accent1>
        <a:srgbClr val="00589a"/>
      </a:accent1>
      <a:accent2>
        <a:srgbClr val="047bcc"/>
      </a:accent2>
      <a:accent3>
        <a:srgbClr val="007a77"/>
      </a:accent3>
      <a:accent4>
        <a:srgbClr val="00d69e"/>
      </a:accent4>
      <a:accent5>
        <a:srgbClr val="ff6600"/>
      </a:accent5>
      <a:accent6>
        <a:srgbClr val="ff9900"/>
      </a:accent6>
      <a:hlink>
        <a:srgbClr val="dddddd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412</Template>
  <TotalTime>17</TotalTime>
  <Application>LibreOffice/7.4.7.2$Linux_X86_64 LibreOffice_project/40$Build-2</Application>
  <AppVersion>15.0000</AppVersion>
  <Words>524</Words>
  <Paragraphs>174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5T07:31:49Z</dcterms:created>
  <dc:creator>雨林木风</dc:creator>
  <dc:description>我爱PPT中文网</dc:description>
  <cp:keywords>XS-普屏 4：3 SC-淡蓝色 BG-深色 DH-静态 XJ-二级</cp:keywords>
  <dc:language>en-US</dc:language>
  <cp:lastModifiedBy>王玉清</cp:lastModifiedBy>
  <dcterms:modified xsi:type="dcterms:W3CDTF">2016-02-24T03:34:13Z</dcterms:modified>
  <cp:revision>3</cp:revision>
  <dc:subject>TP-营造建筑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70C368A-58BF-4048-951A-57C3AC664DA9</vt:lpwstr>
  </property>
  <property fmtid="{D5CDD505-2E9C-101B-9397-08002B2CF9AE}" pid="3" name="ArticulatePath">
    <vt:lpwstr>点击此处添加幻灯主标题</vt:lpwstr>
  </property>
  <property fmtid="{D5CDD505-2E9C-101B-9397-08002B2CF9AE}" pid="4" name="ArticulateProjectFull">
    <vt:lpwstr>D:\SLIDEtoME\TP模板\点击此处添加幻灯主标题.ppta</vt:lpwstr>
  </property>
  <property fmtid="{D5CDD505-2E9C-101B-9397-08002B2CF9AE}" pid="5" name="ArticulateUseProject">
    <vt:lpwstr>1</vt:lpwstr>
  </property>
  <property fmtid="{D5CDD505-2E9C-101B-9397-08002B2CF9AE}" pid="6" name="Notes">
    <vt:r8>1</vt:r8>
  </property>
  <property fmtid="{D5CDD505-2E9C-101B-9397-08002B2CF9AE}" pid="7" name="PresentationFormat">
    <vt:lpwstr>全屏显示(4:3)</vt:lpwstr>
  </property>
  <property fmtid="{D5CDD505-2E9C-101B-9397-08002B2CF9AE}" pid="8" name="Slides">
    <vt:r8>12</vt:r8>
  </property>
</Properties>
</file>