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654-227A-4A7B-8138-1787BF1A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F6E-E1DD-42FC-9D23-B82EF2DB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AD6-3F6D-45E6-B555-FF805C80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B2B-80CE-459D-B496-BC9DBB3E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98C-FDDD-4EC1-A659-0BDE400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8B65-5B86-4BF9-AE59-6308490A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A13-4FB4-435C-9659-926DFD1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155E-1016-48C2-8EF1-A7749C1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B47D-81AD-4684-9163-037ECECB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BC3-BC29-429E-8DD3-5F89B980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75E3-D082-40B4-BA51-84AAFA1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780-E443-49B2-A081-E236F3D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8F7F-42D8-4802-B035-92DE036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5953-ED22-4834-90FB-B98E892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DA67-1F32-4CCE-83BD-B426B52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FCD-CEE6-4B89-BD81-1878ACC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0380-797C-4246-A34B-8A87709D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15C-5616-4ED7-98A3-0744CC9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BA6-14F6-4D87-AA1F-EC84420B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799-C2F9-4E7A-8EB0-9667924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B3F-BD9A-4236-9941-A91DE06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38A-F458-407D-8983-7DAE094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12C-1123-4B26-BCDD-45239EE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D7E-44E7-4B63-91AF-45D9ED6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1DA-5665-40A2-9ED9-30D1A566FA1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124-0069-4B64-9C2D-BC2DB152C8E1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581280"/>
            <a:ext cx="6629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ero"/>
                <a:ea typeface="宋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400"/>
            <a:ext cx="5333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ero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5480" y="7621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机器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33560" y="759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ero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23720" y="68544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ero"/>
                <a:ea typeface="宋体"/>
              </a:rPr>
              <a:t>Your business subtopic goes here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58128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ero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400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9880" y="76176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84A-83C5-4D44-A3E2-723FF074FDB5}" type="slidenum">
              <a:t>5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7:03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1:36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