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EF4416-99A7-4A87-9575-05FD646633B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206EED-CCE6-4AEB-91A9-53B5FD0831E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BB272D-BBC2-450A-97E8-47647A9F70E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0D3486-2530-406B-83F3-B4BAA100139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542916-4279-436E-9642-312BBAA126E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9DDF13-3875-4043-860C-1708B350B67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D6589B-B49D-405F-BCA0-AB5DFE9836F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CD6A812-27AD-4B98-9E4D-CE2757A9B7D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EDA9D7-3B90-43D0-BFA2-0A7B6ADECB0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23BBD0-77B3-4E27-818B-7FAEC19DB9A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2F1CCA-E5F3-48B0-A4AA-452F5B97BAF9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1FA2D91-2085-4D46-9B86-D1EC62028EF0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1003320"/>
            <a:ext cx="9144000" cy="5346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Page </a:t>
            </a:r>
            <a:fld id="{3CCB39ED-9B8B-4D64-A2F9-37D236607C15}" type="slidenum">
              <a:rPr b="1" lang="de-DE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schatten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2"/>
          <p:cNvSpPr/>
          <p:nvPr/>
        </p:nvSpPr>
        <p:spPr>
          <a:xfrm>
            <a:off x="1876320" y="6464160"/>
            <a:ext cx="5376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Here comes your f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6603840" y="380880"/>
            <a:ext cx="2267280" cy="284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152280" y="6459480"/>
            <a:ext cx="241956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Himmel2"/>
          <p:cNvPicPr/>
          <p:nvPr/>
        </p:nvPicPr>
        <p:blipFill>
          <a:blip r:embed="rId3"/>
          <a:stretch/>
        </p:blipFill>
        <p:spPr>
          <a:xfrm>
            <a:off x="0" y="3765600"/>
            <a:ext cx="9144000" cy="211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schatten"/>
          <p:cNvPicPr/>
          <p:nvPr/>
        </p:nvPicPr>
        <p:blipFill>
          <a:blip r:embed="rId4"/>
          <a:stretch/>
        </p:blipFill>
        <p:spPr>
          <a:xfrm>
            <a:off x="0" y="3765600"/>
            <a:ext cx="9144000" cy="120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PP small"/>
          <p:cNvPicPr/>
          <p:nvPr/>
        </p:nvPicPr>
        <p:blipFill>
          <a:blip r:embed="rId5"/>
          <a:srcRect l="0" t="0" r="0" b="34534"/>
          <a:stretch/>
        </p:blipFill>
        <p:spPr>
          <a:xfrm>
            <a:off x="6432480" y="6191280"/>
            <a:ext cx="2419560" cy="303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6840" y="1271160"/>
            <a:ext cx="71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灰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26840" y="2571480"/>
            <a:ext cx="67640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Template for Microsoft Power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F91F0A1D-E05F-4E61-8BE3-7539CEC13E42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4546440" y="1790640"/>
          <a:ext cx="4280040" cy="40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6440" y="1790640"/>
                    <a:ext cx="428004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8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40320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1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27B9CDF0-ABC0-4B08-97CC-4BE3041B7CFE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7" descr="Hintergr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9"/>
          <p:cNvSpPr/>
          <p:nvPr/>
        </p:nvSpPr>
        <p:spPr>
          <a:xfrm>
            <a:off x="576360" y="4727520"/>
            <a:ext cx="3943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Software and Tools for Microsoft Power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The website with innovative solu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Save time and money by automating your present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Unbenannt-1"/>
          <p:cNvPicPr/>
          <p:nvPr/>
        </p:nvPicPr>
        <p:blipFill>
          <a:blip r:embed="rId2"/>
          <a:srcRect l="0" t="0" r="0" b="32236"/>
          <a:stretch/>
        </p:blipFill>
        <p:spPr>
          <a:xfrm>
            <a:off x="638280" y="4076640"/>
            <a:ext cx="2171520" cy="281160"/>
          </a:xfrm>
          <a:prstGeom prst="rect">
            <a:avLst/>
          </a:prstGeom>
          <a:ln w="0">
            <a:noFill/>
          </a:ln>
        </p:spPr>
      </p:pic>
      <p:sp>
        <p:nvSpPr>
          <p:cNvPr id="161" name="Line 22"/>
          <p:cNvSpPr/>
          <p:nvPr/>
        </p:nvSpPr>
        <p:spPr>
          <a:xfrm>
            <a:off x="676440" y="3695760"/>
            <a:ext cx="311436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561960" y="4324320"/>
            <a:ext cx="369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5f5f5f"/>
                </a:solidFill>
                <a:latin typeface="Arial"/>
              </a:rPr>
              <a:t>www.presentationpoint.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4586400" y="1784520"/>
            <a:ext cx="39430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th the use of this free template you accep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llowing use and license condi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for commercial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template can be used freely by private persons. The commercial employment of the free templates is not permitted. Any further trade with contents as well as making the diagram/template/animations available in changed or unchanged form for downloading on other web sites or multiplying &amp; the selling on data media of any kind are forbidd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 no event shall PresentationPoint be liable for any indirect, special or consequential damages arising out of or in connection with the use of the templ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 case of questions for commercial usage please get in contact with us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E-Mail: info@presentationpoi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4568760" y="14526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533840" y="5100480"/>
            <a:ext cx="2067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3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48E78F63-2E46-42AC-A21E-A0274CEEB202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3977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62000"/>
          </a:bodyPr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-11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7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3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F8B6672C-846C-4178-A9A5-8210E5EAD6CD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intergrund"/>
          <p:cNvPicPr/>
          <p:nvPr/>
        </p:nvPicPr>
        <p:blipFill>
          <a:blip r:embed="rId1"/>
          <a:srcRect l="0" t="0" r="0" b="7219"/>
          <a:stretch/>
        </p:blipFill>
        <p:spPr>
          <a:xfrm>
            <a:off x="0" y="0"/>
            <a:ext cx="9144000" cy="6364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chatten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The best thing about the future is that it comes only one day at a time.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505400" y="3862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MS PGothic"/>
              </a:rPr>
              <a:t>Abraham Lincoln (1809-18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755360" y="112860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3453B078-3472-437D-BEE7-8E7C026D9A7F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.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It is also possible to have 2 lines of tex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2840" y="1782720"/>
            <a:ext cx="412452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080" y="1782720"/>
            <a:ext cx="412452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98B955C1-6116-412A-9E4A-3AA2AE2C26FB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12920" y="187164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0480" y="2344320"/>
            <a:ext cx="8397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12920" y="3792600"/>
            <a:ext cx="841824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420840" y="4265640"/>
            <a:ext cx="83977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FA099DE2-BA15-436A-86C6-B058AD8D8758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49494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6e6e6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3e7ea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e6e6e6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c1c1c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9b9b9b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03200" y="2036880"/>
            <a:ext cx="412452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D02D353D-4113-4570-98C9-330A4D09EAF3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chach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90600" y="1860480"/>
            <a:ext cx="399708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4" name="Rectangle 8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59108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5960" y="59198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77875FC8-C090-42FA-893F-EA365F75CC1F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Schach"/>
          <p:cNvPicPr/>
          <p:nvPr/>
        </p:nvPicPr>
        <p:blipFill>
          <a:blip r:embed="rId1">
            <a:grayscl/>
          </a:blip>
          <a:srcRect l="0" t="0" r="5497" b="0"/>
          <a:stretch/>
        </p:blipFill>
        <p:spPr>
          <a:xfrm>
            <a:off x="387360" y="188136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40" name="Picture 7" descr="Schach"/>
          <p:cNvPicPr/>
          <p:nvPr/>
        </p:nvPicPr>
        <p:blipFill>
          <a:blip r:embed="rId2">
            <a:grayscl/>
          </a:blip>
          <a:srcRect l="0" t="0" r="5497" b="0"/>
          <a:stretch/>
        </p:blipFill>
        <p:spPr>
          <a:xfrm>
            <a:off x="387360" y="3862440"/>
            <a:ext cx="233820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1" name="Rectangle 10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935440" y="185580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935440" y="384336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403200" y="3683160"/>
            <a:ext cx="840276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8045280" y="6464160"/>
            <a:ext cx="1067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14AAA4D5-4D45-4EA3-8E08-99BE5561C987}" type="slidenum">
              <a:rPr b="1" lang="de-DE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宋体"/>
              </a:rPr>
              <a:t>Enter your title 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0" y="174132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132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9"/>
          <p:cNvSpPr/>
          <p:nvPr/>
        </p:nvSpPr>
        <p:spPr>
          <a:xfrm>
            <a:off x="403200" y="124128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979880" y="2036880"/>
            <a:ext cx="386424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a</cp:lastModifiedBy>
  <cp:lastPrinted>2005-03-15T07:48:11Z</cp:lastPrinted>
  <dcterms:modified xsi:type="dcterms:W3CDTF">2015-07-25T07:49:09Z</dcterms:modified>
  <cp:revision>510</cp:revision>
  <dc:subject/>
  <dc:title>Metal Sil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