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2e2e2e"/>
                </a:solidFill>
                <a:latin typeface="Segoe UI Light 8"/>
              </a:rPr>
              <a:t>Click to edit the title text format</a:t>
            </a: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Second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e2e2e"/>
                </a:solidFill>
                <a:latin typeface="Segoe UI Light 8"/>
              </a:rPr>
              <a:t>Third Outline Level</a:t>
            </a: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e2e2e"/>
                </a:solidFill>
                <a:latin typeface="Segoe UI Light 8"/>
              </a:rPr>
              <a:t>Fourth Outline Level</a:t>
            </a: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Fifth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Sixth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Seventh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"/>
          <p:cNvSpPr/>
          <p:nvPr/>
        </p:nvSpPr>
        <p:spPr>
          <a:xfrm>
            <a:off x="11721960" y="0"/>
            <a:ext cx="47016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39" name="矩形 2"/>
          <p:cNvSpPr/>
          <p:nvPr/>
        </p:nvSpPr>
        <p:spPr>
          <a:xfrm>
            <a:off x="0" y="0"/>
            <a:ext cx="47016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2e2e2e"/>
                </a:solidFill>
                <a:latin typeface="Segoe UI Light 8"/>
              </a:rPr>
              <a:t>Click to edit the title text format</a:t>
            </a: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Second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e2e2e"/>
                </a:solidFill>
                <a:latin typeface="Segoe UI Light 8"/>
              </a:rPr>
              <a:t>Third Outline Level</a:t>
            </a: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e2e2e"/>
                </a:solidFill>
                <a:latin typeface="Segoe UI Light 8"/>
              </a:rPr>
              <a:t>Fourth Outline Level</a:t>
            </a: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Fifth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Sixth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Seventh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35"/>
          <p:cNvSpPr/>
          <p:nvPr/>
        </p:nvSpPr>
        <p:spPr>
          <a:xfrm>
            <a:off x="11721960" y="0"/>
            <a:ext cx="47016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9" name="矩形 34"/>
          <p:cNvSpPr/>
          <p:nvPr/>
        </p:nvSpPr>
        <p:spPr>
          <a:xfrm>
            <a:off x="0" y="0"/>
            <a:ext cx="47016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0" name="圆角矩形 1"/>
          <p:cNvSpPr/>
          <p:nvPr/>
        </p:nvSpPr>
        <p:spPr>
          <a:xfrm>
            <a:off x="0" y="277200"/>
            <a:ext cx="12191760" cy="1010880"/>
          </a:xfrm>
          <a:prstGeom prst="roundRect">
            <a:avLst>
              <a:gd name="adj" fmla="val 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190080" y="115560"/>
            <a:ext cx="1333440" cy="1333440"/>
            <a:chOff x="190080" y="115560"/>
            <a:chExt cx="1333440" cy="1333440"/>
          </a:xfrm>
        </p:grpSpPr>
        <p:sp>
          <p:nvSpPr>
            <p:cNvPr id="82" name="椭圆 3"/>
            <p:cNvSpPr/>
            <p:nvPr/>
          </p:nvSpPr>
          <p:spPr>
            <a:xfrm>
              <a:off x="190080" y="115560"/>
              <a:ext cx="1333440" cy="133344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83" name="组合 4"/>
            <p:cNvGrpSpPr/>
            <p:nvPr/>
          </p:nvGrpSpPr>
          <p:grpSpPr>
            <a:xfrm>
              <a:off x="253440" y="178920"/>
              <a:ext cx="1206720" cy="1206720"/>
              <a:chOff x="253440" y="178920"/>
              <a:chExt cx="1206720" cy="1206720"/>
            </a:xfrm>
          </p:grpSpPr>
          <p:sp>
            <p:nvSpPr>
              <p:cNvPr id="84" name="椭圆 5"/>
              <p:cNvSpPr/>
              <p:nvPr/>
            </p:nvSpPr>
            <p:spPr>
              <a:xfrm>
                <a:off x="253440" y="178920"/>
                <a:ext cx="1206720" cy="120672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grpSp>
            <p:nvGrpSpPr>
              <p:cNvPr id="85" name="组合 6"/>
              <p:cNvGrpSpPr/>
              <p:nvPr/>
            </p:nvGrpSpPr>
            <p:grpSpPr>
              <a:xfrm>
                <a:off x="442440" y="277200"/>
                <a:ext cx="829080" cy="1010520"/>
                <a:chOff x="442440" y="277200"/>
                <a:chExt cx="829080" cy="1010520"/>
              </a:xfrm>
            </p:grpSpPr>
            <p:sp>
              <p:nvSpPr>
                <p:cNvPr id="86" name="Freeform 17"/>
                <p:cNvSpPr/>
                <p:nvPr/>
              </p:nvSpPr>
              <p:spPr>
                <a:xfrm>
                  <a:off x="850320" y="277200"/>
                  <a:ext cx="421200" cy="54648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546480"/>
                    <a:gd name="textAreaBottom" fmla="*/ 546840 h 54648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1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1"/>
                        <a:pt x="2" y="0"/>
                        <a:pt x="4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6" y="1"/>
                        <a:pt x="7" y="2"/>
                        <a:pt x="7" y="3"/>
                      </a:cubicBezTo>
                      <a:cubicBezTo>
                        <a:pt x="7" y="4"/>
                        <a:pt x="7" y="4"/>
                        <a:pt x="8" y="4"/>
                      </a:cubicBezTo>
                      <a:cubicBezTo>
                        <a:pt x="9" y="4"/>
                        <a:pt x="10" y="5"/>
                        <a:pt x="10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8"/>
                        <a:pt x="12" y="9"/>
                        <a:pt x="12" y="10"/>
                      </a:cubicBezTo>
                      <a:cubicBezTo>
                        <a:pt x="12" y="12"/>
                        <a:pt x="11" y="14"/>
                        <a:pt x="9" y="12"/>
                      </a:cubicBezTo>
                      <a:cubicBezTo>
                        <a:pt x="9" y="12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7" y="10"/>
                        <a:pt x="7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8" y="9"/>
                        <a:pt x="7" y="9"/>
                        <a:pt x="7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8"/>
                      </a:cubicBezTo>
                      <a:cubicBezTo>
                        <a:pt x="7" y="8"/>
                        <a:pt x="7" y="8"/>
                        <a:pt x="7" y="9"/>
                      </a:cubicBezTo>
                      <a:cubicBezTo>
                        <a:pt x="7" y="9"/>
                        <a:pt x="7" y="9"/>
                        <a:pt x="7" y="10"/>
                      </a:cubicBezTo>
                      <a:cubicBezTo>
                        <a:pt x="7" y="10"/>
                        <a:pt x="7" y="10"/>
                        <a:pt x="7" y="11"/>
                      </a:cubicBezTo>
                      <a:cubicBezTo>
                        <a:pt x="7" y="11"/>
                        <a:pt x="7" y="11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5" y="12"/>
                        <a:pt x="5" y="10"/>
                        <a:pt x="4" y="9"/>
                      </a:cubicBezTo>
                      <a:cubicBezTo>
                        <a:pt x="4" y="9"/>
                        <a:pt x="4" y="9"/>
                        <a:pt x="4" y="8"/>
                      </a:cubicBezTo>
                      <a:cubicBezTo>
                        <a:pt x="5" y="7"/>
                        <a:pt x="5" y="6"/>
                        <a:pt x="5" y="5"/>
                      </a:cubicBezTo>
                      <a:cubicBezTo>
                        <a:pt x="4" y="5"/>
                        <a:pt x="4" y="5"/>
                        <a:pt x="5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3" y="5"/>
                        <a:pt x="3" y="4"/>
                      </a:cubicBezTo>
                      <a:cubicBezTo>
                        <a:pt x="2" y="4"/>
                        <a:pt x="2" y="4"/>
                        <a:pt x="2" y="5"/>
                      </a:cubicBezTo>
                      <a:cubicBezTo>
                        <a:pt x="2" y="5"/>
                        <a:pt x="2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6"/>
                        <a:pt x="4" y="7"/>
                        <a:pt x="4" y="8"/>
                      </a:cubicBezTo>
                      <a:cubicBezTo>
                        <a:pt x="3" y="8"/>
                        <a:pt x="3" y="8"/>
                        <a:pt x="4" y="9"/>
                      </a:cubicBezTo>
                      <a:cubicBezTo>
                        <a:pt x="5" y="11"/>
                        <a:pt x="3" y="13"/>
                        <a:pt x="1" y="12"/>
                      </a:cubicBezTo>
                      <a:cubicBezTo>
                        <a:pt x="0" y="11"/>
                        <a:pt x="0" y="9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87" name="Freeform 16"/>
                <p:cNvSpPr/>
                <p:nvPr/>
              </p:nvSpPr>
              <p:spPr>
                <a:xfrm>
                  <a:off x="442440" y="286560"/>
                  <a:ext cx="456840" cy="50760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507600"/>
                    <a:gd name="textAreaBottom" fmla="*/ 507960 h 5076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8" y="10"/>
                      </a:moveTo>
                      <a:cubicBezTo>
                        <a:pt x="8" y="10"/>
                        <a:pt x="7" y="10"/>
                        <a:pt x="7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7"/>
                        <a:pt x="6" y="6"/>
                        <a:pt x="6" y="5"/>
                      </a:cubicBezTo>
                      <a:cubicBezTo>
                        <a:pt x="7" y="5"/>
                        <a:pt x="7" y="5"/>
                        <a:pt x="7" y="6"/>
                      </a:cubicBezTo>
                      <a:cubicBezTo>
                        <a:pt x="8" y="6"/>
                        <a:pt x="8" y="6"/>
                        <a:pt x="8" y="7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8" y="3"/>
                        <a:pt x="8" y="3"/>
                      </a:cubicBezTo>
                      <a:cubicBezTo>
                        <a:pt x="8" y="3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5"/>
                      </a:cubicBezTo>
                      <a:cubicBezTo>
                        <a:pt x="5" y="5"/>
                        <a:pt x="5" y="7"/>
                        <a:pt x="6" y="8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9"/>
                        <a:pt x="5" y="9"/>
                        <a:pt x="4" y="10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3" y="13"/>
                        <a:pt x="3" y="13"/>
                        <a:pt x="2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9"/>
                        <a:pt x="1" y="8"/>
                        <a:pt x="2" y="7"/>
                      </a:cubicBezTo>
                      <a:cubicBezTo>
                        <a:pt x="2" y="7"/>
                        <a:pt x="2" y="7"/>
                        <a:pt x="2" y="6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4"/>
                        <a:pt x="5" y="4"/>
                        <a:pt x="5" y="3"/>
                      </a:cubicBezTo>
                      <a:cubicBezTo>
                        <a:pt x="5" y="2"/>
                        <a:pt x="6" y="1"/>
                        <a:pt x="7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0" y="0"/>
                        <a:pt x="13" y="2"/>
                        <a:pt x="11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2" y="7"/>
                        <a:pt x="12" y="10"/>
                        <a:pt x="10" y="9"/>
                      </a:cubicBezTo>
                      <a:cubicBezTo>
                        <a:pt x="9" y="9"/>
                        <a:pt x="9" y="9"/>
                        <a:pt x="8" y="10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88" name="Freeform 19"/>
                <p:cNvSpPr/>
                <p:nvPr/>
              </p:nvSpPr>
              <p:spPr>
                <a:xfrm>
                  <a:off x="653400" y="677160"/>
                  <a:ext cx="210600" cy="116640"/>
                </a:xfrm>
                <a:custGeom>
                  <a:avLst/>
                  <a:gdLst>
                    <a:gd name="textAreaLeft" fmla="*/ 0 w 210600"/>
                    <a:gd name="textAreaRight" fmla="*/ 210960 w 2106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6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3"/>
                        <a:pt x="4" y="2"/>
                        <a:pt x="2" y="3"/>
                      </a:cubicBezTo>
                      <a:close/>
                    </a:path>
                  </a:pathLst>
                </a:custGeom>
                <a:solidFill>
                  <a:schemeClr val="accent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89" name="任意多边形 10"/>
                <p:cNvSpPr/>
                <p:nvPr/>
              </p:nvSpPr>
              <p:spPr>
                <a:xfrm>
                  <a:off x="470520" y="777240"/>
                  <a:ext cx="799560" cy="510480"/>
                </a:xfrm>
                <a:custGeom>
                  <a:avLst/>
                  <a:gdLst>
                    <a:gd name="textAreaLeft" fmla="*/ 0 w 799560"/>
                    <a:gd name="textAreaRight" fmla="*/ 799920 w 79956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3713312" h="2370974">
                      <a:moveTo>
                        <a:pt x="0" y="0"/>
                      </a:moveTo>
                      <a:lnTo>
                        <a:pt x="3713312" y="0"/>
                      </a:lnTo>
                      <a:lnTo>
                        <a:pt x="3702869" y="86603"/>
                      </a:lnTo>
                      <a:cubicBezTo>
                        <a:pt x="3685788" y="188493"/>
                        <a:pt x="3660167" y="287034"/>
                        <a:pt x="3630275" y="378878"/>
                      </a:cubicBezTo>
                      <a:cubicBezTo>
                        <a:pt x="3570492" y="539606"/>
                        <a:pt x="3502169" y="677373"/>
                        <a:pt x="3448792" y="774957"/>
                      </a:cubicBezTo>
                      <a:lnTo>
                        <a:pt x="3442867" y="785466"/>
                      </a:lnTo>
                      <a:lnTo>
                        <a:pt x="3435953" y="922398"/>
                      </a:lnTo>
                      <a:cubicBezTo>
                        <a:pt x="3353322" y="1736041"/>
                        <a:pt x="2666174" y="2370974"/>
                        <a:pt x="1830729" y="2370974"/>
                      </a:cubicBezTo>
                      <a:cubicBezTo>
                        <a:pt x="939588" y="2370974"/>
                        <a:pt x="217175" y="1648561"/>
                        <a:pt x="217175" y="757421"/>
                      </a:cubicBezTo>
                      <a:lnTo>
                        <a:pt x="219301" y="701323"/>
                      </a:lnTo>
                      <a:lnTo>
                        <a:pt x="217572" y="698461"/>
                      </a:lnTo>
                      <a:cubicBezTo>
                        <a:pt x="176475" y="625519"/>
                        <a:pt x="62382" y="362363"/>
                        <a:pt x="4783" y="33206"/>
                      </a:cubicBezTo>
                      <a:close/>
                    </a:path>
                  </a:pathLst>
                </a:custGeom>
                <a:noFill/>
                <a:ln w="60325">
                  <a:solidFill>
                    <a:srgbClr val="2d2d2d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0" name="弦形 11"/>
                <p:cNvSpPr/>
                <p:nvPr/>
              </p:nvSpPr>
              <p:spPr>
                <a:xfrm>
                  <a:off x="5695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1" name="弦形 12"/>
                <p:cNvSpPr/>
                <p:nvPr/>
              </p:nvSpPr>
              <p:spPr>
                <a:xfrm>
                  <a:off x="9007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grpSp>
              <p:nvGrpSpPr>
                <p:cNvPr id="92" name="组合 13"/>
                <p:cNvGrpSpPr/>
                <p:nvPr/>
              </p:nvGrpSpPr>
              <p:grpSpPr>
                <a:xfrm>
                  <a:off x="521640" y="780120"/>
                  <a:ext cx="702360" cy="151200"/>
                  <a:chOff x="521640" y="780120"/>
                  <a:chExt cx="702360" cy="151200"/>
                </a:xfrm>
              </p:grpSpPr>
              <p:sp>
                <p:nvSpPr>
                  <p:cNvPr id="93" name="圆角矩形 24"/>
                  <p:cNvSpPr/>
                  <p:nvPr/>
                </p:nvSpPr>
                <p:spPr>
                  <a:xfrm>
                    <a:off x="521640" y="840600"/>
                    <a:ext cx="702360" cy="21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4" name="圆角矩形 25"/>
                  <p:cNvSpPr/>
                  <p:nvPr/>
                </p:nvSpPr>
                <p:spPr>
                  <a:xfrm rot="5400000">
                    <a:off x="549000" y="838800"/>
                    <a:ext cx="73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5" name="圆角矩形 26"/>
                  <p:cNvSpPr/>
                  <p:nvPr/>
                </p:nvSpPr>
                <p:spPr>
                  <a:xfrm rot="5400000">
                    <a:off x="598680" y="8388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6" name="圆角矩形 27"/>
                  <p:cNvSpPr/>
                  <p:nvPr/>
                </p:nvSpPr>
                <p:spPr>
                  <a:xfrm rot="5400000">
                    <a:off x="659880" y="839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7" name="圆角矩形 28"/>
                  <p:cNvSpPr/>
                  <p:nvPr/>
                </p:nvSpPr>
                <p:spPr>
                  <a:xfrm rot="5400000">
                    <a:off x="736560" y="8352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8" name="圆角矩形 29"/>
                  <p:cNvSpPr/>
                  <p:nvPr/>
                </p:nvSpPr>
                <p:spPr>
                  <a:xfrm rot="5400000">
                    <a:off x="793080" y="844560"/>
                    <a:ext cx="1440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9" name="圆角矩形 30"/>
                  <p:cNvSpPr/>
                  <p:nvPr/>
                </p:nvSpPr>
                <p:spPr>
                  <a:xfrm rot="5400000">
                    <a:off x="893160" y="830520"/>
                    <a:ext cx="1306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0" name="圆角矩形 31"/>
                  <p:cNvSpPr/>
                  <p:nvPr/>
                </p:nvSpPr>
                <p:spPr>
                  <a:xfrm rot="5400000">
                    <a:off x="993960" y="840600"/>
                    <a:ext cx="81000" cy="2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2240" bIns="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1" name="圆角矩形 32"/>
                  <p:cNvSpPr/>
                  <p:nvPr/>
                </p:nvSpPr>
                <p:spPr>
                  <a:xfrm rot="5400000">
                    <a:off x="1027440" y="844560"/>
                    <a:ext cx="118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2" name="圆角矩形 33"/>
                  <p:cNvSpPr/>
                  <p:nvPr/>
                </p:nvSpPr>
                <p:spPr>
                  <a:xfrm rot="5400000">
                    <a:off x="1131120" y="830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03" name="组合 14"/>
                <p:cNvGrpSpPr/>
                <p:nvPr/>
              </p:nvGrpSpPr>
              <p:grpSpPr>
                <a:xfrm>
                  <a:off x="955800" y="1097640"/>
                  <a:ext cx="147240" cy="105120"/>
                  <a:chOff x="955800" y="1097640"/>
                  <a:chExt cx="147240" cy="105120"/>
                </a:xfrm>
              </p:grpSpPr>
              <p:sp>
                <p:nvSpPr>
                  <p:cNvPr id="104" name="圆角矩形 20"/>
                  <p:cNvSpPr/>
                  <p:nvPr/>
                </p:nvSpPr>
                <p:spPr>
                  <a:xfrm rot="12242400">
                    <a:off x="951840" y="1146600"/>
                    <a:ext cx="15516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5" name="圆角矩形 21"/>
                  <p:cNvSpPr/>
                  <p:nvPr/>
                </p:nvSpPr>
                <p:spPr>
                  <a:xfrm rot="17643000">
                    <a:off x="1042200" y="1159200"/>
                    <a:ext cx="604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6" name="圆角矩形 22"/>
                  <p:cNvSpPr/>
                  <p:nvPr/>
                </p:nvSpPr>
                <p:spPr>
                  <a:xfrm rot="17643000">
                    <a:off x="996120" y="114156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7" name="圆角矩形 23"/>
                  <p:cNvSpPr/>
                  <p:nvPr/>
                </p:nvSpPr>
                <p:spPr>
                  <a:xfrm rot="17643000">
                    <a:off x="951480" y="112392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08" name="组合 15"/>
                <p:cNvGrpSpPr/>
                <p:nvPr/>
              </p:nvGrpSpPr>
              <p:grpSpPr>
                <a:xfrm>
                  <a:off x="579600" y="1070640"/>
                  <a:ext cx="122040" cy="133560"/>
                  <a:chOff x="579600" y="1070640"/>
                  <a:chExt cx="122040" cy="133560"/>
                </a:xfrm>
              </p:grpSpPr>
              <p:sp>
                <p:nvSpPr>
                  <p:cNvPr id="109" name="圆角矩形 16"/>
                  <p:cNvSpPr/>
                  <p:nvPr/>
                </p:nvSpPr>
                <p:spPr>
                  <a:xfrm rot="14032200">
                    <a:off x="565200" y="1130760"/>
                    <a:ext cx="15408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10" name="圆角矩形 17"/>
                  <p:cNvSpPr/>
                  <p:nvPr/>
                </p:nvSpPr>
                <p:spPr>
                  <a:xfrm rot="19432200">
                    <a:off x="640080" y="1162440"/>
                    <a:ext cx="604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11" name="圆角矩形 18"/>
                  <p:cNvSpPr/>
                  <p:nvPr/>
                </p:nvSpPr>
                <p:spPr>
                  <a:xfrm rot="19432200">
                    <a:off x="608400" y="112752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12" name="圆角矩形 19"/>
                  <p:cNvSpPr/>
                  <p:nvPr/>
                </p:nvSpPr>
                <p:spPr>
                  <a:xfrm rot="19432200">
                    <a:off x="578880" y="109008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</p:grpSp>
        </p:grpSp>
      </p:grpSp>
      <p:sp>
        <p:nvSpPr>
          <p:cNvPr id="113" name="直角三角形 36"/>
          <p:cNvSpPr/>
          <p:nvPr/>
        </p:nvSpPr>
        <p:spPr>
          <a:xfrm rot="10800000">
            <a:off x="360" y="1279440"/>
            <a:ext cx="461520" cy="23328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14" name="直角三角形 37"/>
          <p:cNvSpPr/>
          <p:nvPr/>
        </p:nvSpPr>
        <p:spPr>
          <a:xfrm flipH="1" rot="10800000">
            <a:off x="11730600" y="1283760"/>
            <a:ext cx="461520" cy="233280"/>
          </a:xfrm>
          <a:prstGeom prst="rtTriangle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2e2e2e"/>
                </a:solidFill>
                <a:latin typeface="Segoe UI Light 8"/>
              </a:rPr>
              <a:t>Click to edit the title text format</a:t>
            </a: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Segoe UI Light 8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Second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e2e2e"/>
                </a:solidFill>
                <a:latin typeface="Segoe UI Light 8"/>
              </a:rPr>
              <a:t>Third Outline Level</a:t>
            </a: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e2e2e"/>
                </a:solidFill>
                <a:latin typeface="Segoe UI Light 8"/>
              </a:rPr>
              <a:t>Fourth Outline Level</a:t>
            </a:r>
            <a:endParaRPr b="0" lang="en-US" sz="1800" spc="-1" strike="noStrike">
              <a:solidFill>
                <a:srgbClr val="2e2e2e"/>
              </a:solidFill>
              <a:latin typeface="Segoe UI Light 8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Fifth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Sixth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Segoe UI Light 8"/>
              </a:rPr>
              <a:t>Seventh Outline Level</a:t>
            </a:r>
            <a:endParaRPr b="0" lang="en-US" sz="2000" spc="-1" strike="noStrike">
              <a:solidFill>
                <a:srgbClr val="2e2e2e"/>
              </a:solidFill>
              <a:latin typeface="Segoe UI Light 8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03"/>
          <p:cNvSpPr/>
          <p:nvPr/>
        </p:nvSpPr>
        <p:spPr>
          <a:xfrm>
            <a:off x="0" y="0"/>
            <a:ext cx="12191760" cy="9774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54" name="等腰三角形 106"/>
          <p:cNvSpPr/>
          <p:nvPr/>
        </p:nvSpPr>
        <p:spPr>
          <a:xfrm rot="10800000">
            <a:off x="1283040" y="819000"/>
            <a:ext cx="571320" cy="5457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55" name="矩形 33"/>
          <p:cNvSpPr/>
          <p:nvPr/>
        </p:nvSpPr>
        <p:spPr>
          <a:xfrm>
            <a:off x="1733040" y="5183280"/>
            <a:ext cx="8726040" cy="16689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15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156" name="文本框 108"/>
          <p:cNvSpPr/>
          <p:nvPr/>
        </p:nvSpPr>
        <p:spPr>
          <a:xfrm>
            <a:off x="1319040" y="6914160"/>
            <a:ext cx="9553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2e2e2e"/>
                </a:solidFill>
                <a:latin typeface="微软雅黑"/>
                <a:ea typeface="微软雅黑"/>
              </a:rPr>
              <a:t>How To Survive In  Zombi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3759840" y="1983600"/>
            <a:ext cx="4672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僵尸玩过界通用</a:t>
            </a:r>
            <a:r>
              <a:rPr b="0" lang="en-US" sz="40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PPT</a:t>
            </a:r>
            <a:r>
              <a:rPr b="0" lang="zh-CN" sz="40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2e2e2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6" descr=""/>
          <p:cNvPicPr/>
          <p:nvPr/>
        </p:nvPicPr>
        <p:blipFill>
          <a:blip r:embed="rId1"/>
          <a:srcRect l="0" t="0" r="0" b="1169"/>
          <a:stretch/>
        </p:blipFill>
        <p:spPr>
          <a:xfrm>
            <a:off x="1562400" y="1175040"/>
            <a:ext cx="3674520" cy="52254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41" name="文本框 5"/>
          <p:cNvSpPr/>
          <p:nvPr/>
        </p:nvSpPr>
        <p:spPr>
          <a:xfrm>
            <a:off x="6437160" y="2260440"/>
            <a:ext cx="207072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僵尸</a:t>
            </a:r>
            <a:endParaRPr b="0" lang="en-US" sz="1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文本框 17"/>
          <p:cNvSpPr/>
          <p:nvPr/>
        </p:nvSpPr>
        <p:spPr>
          <a:xfrm>
            <a:off x="6781320" y="5692680"/>
            <a:ext cx="2947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3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死理性派的末日生存指南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矩形 6"/>
          <p:cNvSpPr/>
          <p:nvPr/>
        </p:nvSpPr>
        <p:spPr>
          <a:xfrm>
            <a:off x="5616360" y="2329200"/>
            <a:ext cx="5154480" cy="4071240"/>
          </a:xfrm>
          <a:prstGeom prst="rect">
            <a:avLst/>
          </a:prstGeom>
          <a:noFill/>
          <a:ln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44" name="文本框 18"/>
          <p:cNvSpPr/>
          <p:nvPr/>
        </p:nvSpPr>
        <p:spPr>
          <a:xfrm>
            <a:off x="6785280" y="3887280"/>
            <a:ext cx="301572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过界</a:t>
            </a:r>
            <a:endParaRPr b="0" lang="en-US" sz="1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矩形 19"/>
          <p:cNvSpPr/>
          <p:nvPr/>
        </p:nvSpPr>
        <p:spPr>
          <a:xfrm>
            <a:off x="5616360" y="1175040"/>
            <a:ext cx="5154480" cy="833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然后把研究结果写成了书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等腰三角形 23"/>
          <p:cNvSpPr/>
          <p:nvPr/>
        </p:nvSpPr>
        <p:spPr>
          <a:xfrm rot="16200000">
            <a:off x="5367600" y="1417320"/>
            <a:ext cx="399240" cy="349560"/>
          </a:xfrm>
          <a:prstGeom prst="triangl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椭圆 50"/>
          <p:cNvSpPr/>
          <p:nvPr/>
        </p:nvSpPr>
        <p:spPr>
          <a:xfrm>
            <a:off x="1612080" y="5443560"/>
            <a:ext cx="1920600" cy="1897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48" name="矩形 1"/>
          <p:cNvSpPr/>
          <p:nvPr/>
        </p:nvSpPr>
        <p:spPr>
          <a:xfrm>
            <a:off x="0" y="0"/>
            <a:ext cx="12191760" cy="7326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49" name="等腰三角形 2"/>
          <p:cNvSpPr/>
          <p:nvPr/>
        </p:nvSpPr>
        <p:spPr>
          <a:xfrm rot="10800000">
            <a:off x="5616360" y="733320"/>
            <a:ext cx="960120" cy="6278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50" name="图文框 5"/>
          <p:cNvSpPr/>
          <p:nvPr/>
        </p:nvSpPr>
        <p:spPr>
          <a:xfrm>
            <a:off x="2417760" y="1920600"/>
            <a:ext cx="7091640" cy="2495520"/>
          </a:xfrm>
          <a:prstGeom prst="frame">
            <a:avLst>
              <a:gd name="adj1" fmla="val 2673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551" name="Freeform 98"/>
          <p:cNvSpPr/>
          <p:nvPr/>
        </p:nvSpPr>
        <p:spPr>
          <a:xfrm flipV="1">
            <a:off x="1854360" y="3707280"/>
            <a:ext cx="1702080" cy="1830960"/>
          </a:xfrm>
          <a:custGeom>
            <a:avLst/>
            <a:gdLst>
              <a:gd name="textAreaLeft" fmla="*/ 0 w 1702080"/>
              <a:gd name="textAreaRight" fmla="*/ 1702440 w 1702080"/>
              <a:gd name="textAreaTop" fmla="*/ 360 h 1830960"/>
              <a:gd name="textAreaBottom" fmla="*/ 1831680 h 1830960"/>
            </a:gdLst>
            <a:ahLst/>
            <a:rect l="textAreaLeft" t="textAreaTop" r="textAreaRight" b="textAreaBottom"/>
            <a:pathLst>
              <a:path w="9989" h="10023">
                <a:moveTo>
                  <a:pt x="8327" y="9451"/>
                </a:moveTo>
                <a:cubicBezTo>
                  <a:pt x="9004" y="9605"/>
                  <a:pt x="8833" y="10009"/>
                  <a:pt x="9692" y="10023"/>
                </a:cubicBezTo>
                <a:cubicBezTo>
                  <a:pt x="9928" y="9981"/>
                  <a:pt x="10197" y="9475"/>
                  <a:pt x="9745" y="9198"/>
                </a:cubicBezTo>
                <a:cubicBezTo>
                  <a:pt x="9294" y="8921"/>
                  <a:pt x="8401" y="8464"/>
                  <a:pt x="6983" y="8363"/>
                </a:cubicBezTo>
                <a:cubicBezTo>
                  <a:pt x="5563" y="8263"/>
                  <a:pt x="5933" y="8252"/>
                  <a:pt x="5416" y="8168"/>
                </a:cubicBezTo>
                <a:cubicBezTo>
                  <a:pt x="5356" y="5515"/>
                  <a:pt x="5543" y="2865"/>
                  <a:pt x="5846" y="220"/>
                </a:cubicBezTo>
                <a:cubicBezTo>
                  <a:pt x="5630" y="-8"/>
                  <a:pt x="5272" y="-8"/>
                  <a:pt x="4924" y="8"/>
                </a:cubicBezTo>
                <a:cubicBezTo>
                  <a:pt x="4536" y="493"/>
                  <a:pt x="4670" y="1066"/>
                  <a:pt x="4532" y="1593"/>
                </a:cubicBezTo>
                <a:cubicBezTo>
                  <a:pt x="4463" y="2670"/>
                  <a:pt x="4219" y="3736"/>
                  <a:pt x="4055" y="4807"/>
                </a:cubicBezTo>
                <a:cubicBezTo>
                  <a:pt x="4005" y="4842"/>
                  <a:pt x="3909" y="4915"/>
                  <a:pt x="3864" y="4951"/>
                </a:cubicBezTo>
                <a:cubicBezTo>
                  <a:pt x="3468" y="3410"/>
                  <a:pt x="3455" y="1823"/>
                  <a:pt x="3188" y="274"/>
                </a:cubicBezTo>
                <a:cubicBezTo>
                  <a:pt x="3074" y="-41"/>
                  <a:pt x="2570" y="0"/>
                  <a:pt x="2216" y="5"/>
                </a:cubicBezTo>
                <a:cubicBezTo>
                  <a:pt x="2048" y="1168"/>
                  <a:pt x="2354" y="2339"/>
                  <a:pt x="2307" y="3504"/>
                </a:cubicBezTo>
                <a:cubicBezTo>
                  <a:pt x="2273" y="4964"/>
                  <a:pt x="2354" y="6426"/>
                  <a:pt x="2261" y="7883"/>
                </a:cubicBezTo>
                <a:cubicBezTo>
                  <a:pt x="2148" y="7575"/>
                  <a:pt x="2105" y="7256"/>
                  <a:pt x="2014" y="6945"/>
                </a:cubicBezTo>
                <a:cubicBezTo>
                  <a:pt x="1693" y="6364"/>
                  <a:pt x="1097" y="5873"/>
                  <a:pt x="858" y="5268"/>
                </a:cubicBezTo>
                <a:cubicBezTo>
                  <a:pt x="719" y="4937"/>
                  <a:pt x="-117" y="5051"/>
                  <a:pt x="14" y="5420"/>
                </a:cubicBezTo>
                <a:cubicBezTo>
                  <a:pt x="198" y="6174"/>
                  <a:pt x="1087" y="6808"/>
                  <a:pt x="1258" y="7513"/>
                </a:cubicBezTo>
                <a:cubicBezTo>
                  <a:pt x="1366" y="8119"/>
                  <a:pt x="1366" y="8969"/>
                  <a:pt x="2381" y="9169"/>
                </a:cubicBezTo>
                <a:cubicBezTo>
                  <a:pt x="3464" y="9218"/>
                  <a:pt x="4559" y="9234"/>
                  <a:pt x="5630" y="9099"/>
                </a:cubicBezTo>
                <a:cubicBezTo>
                  <a:pt x="6530" y="9215"/>
                  <a:pt x="7650" y="9297"/>
                  <a:pt x="8327" y="9451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552" name="组合 49"/>
          <p:cNvGrpSpPr/>
          <p:nvPr/>
        </p:nvGrpSpPr>
        <p:grpSpPr>
          <a:xfrm>
            <a:off x="45720" y="5981400"/>
            <a:ext cx="12100320" cy="929520"/>
            <a:chOff x="45720" y="5981400"/>
            <a:chExt cx="12100320" cy="929520"/>
          </a:xfrm>
        </p:grpSpPr>
        <p:grpSp>
          <p:nvGrpSpPr>
            <p:cNvPr id="553" name="组合 13"/>
            <p:cNvGrpSpPr/>
            <p:nvPr/>
          </p:nvGrpSpPr>
          <p:grpSpPr>
            <a:xfrm>
              <a:off x="45720" y="5981400"/>
              <a:ext cx="1460880" cy="929520"/>
              <a:chOff x="45720" y="5981400"/>
              <a:chExt cx="1460880" cy="929520"/>
            </a:xfrm>
          </p:grpSpPr>
          <p:sp>
            <p:nvSpPr>
              <p:cNvPr id="554" name="Freeform 99"/>
              <p:cNvSpPr/>
              <p:nvPr/>
            </p:nvSpPr>
            <p:spPr>
              <a:xfrm flipV="1">
                <a:off x="186120" y="5982840"/>
                <a:ext cx="432720" cy="419400"/>
              </a:xfrm>
              <a:custGeom>
                <a:avLst/>
                <a:gdLst>
                  <a:gd name="textAreaLeft" fmla="*/ 0 w 432720"/>
                  <a:gd name="textAreaRight" fmla="*/ 433080 w 432720"/>
                  <a:gd name="textAreaTop" fmla="*/ -36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981" h="954">
                    <a:moveTo>
                      <a:pt x="346" y="894"/>
                    </a:moveTo>
                    <a:cubicBezTo>
                      <a:pt x="570" y="954"/>
                      <a:pt x="822" y="822"/>
                      <a:pt x="886" y="598"/>
                    </a:cubicBezTo>
                    <a:cubicBezTo>
                      <a:pt x="981" y="332"/>
                      <a:pt x="759" y="10"/>
                      <a:pt x="473" y="20"/>
                    </a:cubicBezTo>
                    <a:cubicBezTo>
                      <a:pt x="236" y="0"/>
                      <a:pt x="0" y="220"/>
                      <a:pt x="25" y="461"/>
                    </a:cubicBezTo>
                    <a:cubicBezTo>
                      <a:pt x="2" y="660"/>
                      <a:pt x="162" y="842"/>
                      <a:pt x="346" y="89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55" name="Freeform 100"/>
              <p:cNvSpPr/>
              <p:nvPr/>
            </p:nvSpPr>
            <p:spPr>
              <a:xfrm flipV="1">
                <a:off x="938880" y="5981040"/>
                <a:ext cx="444240" cy="4251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-36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1009" h="967">
                    <a:moveTo>
                      <a:pt x="336" y="893"/>
                    </a:moveTo>
                    <a:cubicBezTo>
                      <a:pt x="560" y="967"/>
                      <a:pt x="813" y="845"/>
                      <a:pt x="892" y="623"/>
                    </a:cubicBezTo>
                    <a:cubicBezTo>
                      <a:pt x="1009" y="359"/>
                      <a:pt x="782" y="12"/>
                      <a:pt x="490" y="27"/>
                    </a:cubicBezTo>
                    <a:cubicBezTo>
                      <a:pt x="234" y="0"/>
                      <a:pt x="0" y="248"/>
                      <a:pt x="39" y="502"/>
                    </a:cubicBezTo>
                    <a:cubicBezTo>
                      <a:pt x="28" y="683"/>
                      <a:pt x="174" y="835"/>
                      <a:pt x="336" y="893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56" name="Freeform 101"/>
              <p:cNvSpPr/>
              <p:nvPr/>
            </p:nvSpPr>
            <p:spPr>
              <a:xfrm flipV="1">
                <a:off x="45720" y="64026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1" h="1158">
                    <a:moveTo>
                      <a:pt x="152" y="924"/>
                    </a:moveTo>
                    <a:cubicBezTo>
                      <a:pt x="305" y="1093"/>
                      <a:pt x="537" y="1154"/>
                      <a:pt x="758" y="1140"/>
                    </a:cubicBezTo>
                    <a:cubicBezTo>
                      <a:pt x="1009" y="1158"/>
                      <a:pt x="1282" y="1088"/>
                      <a:pt x="1457" y="901"/>
                    </a:cubicBezTo>
                    <a:cubicBezTo>
                      <a:pt x="1573" y="624"/>
                      <a:pt x="1588" y="315"/>
                      <a:pt x="1591" y="18"/>
                    </a:cubicBezTo>
                    <a:cubicBezTo>
                      <a:pt x="1505" y="17"/>
                      <a:pt x="1420" y="13"/>
                      <a:pt x="1335" y="7"/>
                    </a:cubicBezTo>
                    <a:cubicBezTo>
                      <a:pt x="1305" y="173"/>
                      <a:pt x="1286" y="341"/>
                      <a:pt x="1251" y="506"/>
                    </a:cubicBezTo>
                    <a:cubicBezTo>
                      <a:pt x="1236" y="341"/>
                      <a:pt x="1232" y="175"/>
                      <a:pt x="1227" y="10"/>
                    </a:cubicBezTo>
                    <a:cubicBezTo>
                      <a:pt x="949" y="5"/>
                      <a:pt x="670" y="11"/>
                      <a:pt x="391" y="8"/>
                    </a:cubicBezTo>
                    <a:cubicBezTo>
                      <a:pt x="390" y="171"/>
                      <a:pt x="398" y="335"/>
                      <a:pt x="373" y="496"/>
                    </a:cubicBezTo>
                    <a:cubicBezTo>
                      <a:pt x="334" y="334"/>
                      <a:pt x="316" y="168"/>
                      <a:pt x="283" y="5"/>
                    </a:cubicBezTo>
                    <a:cubicBezTo>
                      <a:pt x="187" y="10"/>
                      <a:pt x="88" y="0"/>
                      <a:pt x="0" y="42"/>
                    </a:cubicBezTo>
                    <a:cubicBezTo>
                      <a:pt x="53" y="335"/>
                      <a:pt x="17" y="650"/>
                      <a:pt x="152" y="92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57" name="Freeform 102"/>
              <p:cNvSpPr/>
              <p:nvPr/>
            </p:nvSpPr>
            <p:spPr>
              <a:xfrm flipV="1">
                <a:off x="806040" y="64008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4" h="1153">
                    <a:moveTo>
                      <a:pt x="152" y="918"/>
                    </a:moveTo>
                    <a:cubicBezTo>
                      <a:pt x="305" y="1085"/>
                      <a:pt x="538" y="1149"/>
                      <a:pt x="759" y="1133"/>
                    </a:cubicBezTo>
                    <a:cubicBezTo>
                      <a:pt x="1016" y="1153"/>
                      <a:pt x="1302" y="1078"/>
                      <a:pt x="1466" y="868"/>
                    </a:cubicBezTo>
                    <a:cubicBezTo>
                      <a:pt x="1575" y="597"/>
                      <a:pt x="1582" y="295"/>
                      <a:pt x="1594" y="6"/>
                    </a:cubicBezTo>
                    <a:cubicBezTo>
                      <a:pt x="1500" y="7"/>
                      <a:pt x="1405" y="8"/>
                      <a:pt x="1311" y="20"/>
                    </a:cubicBezTo>
                    <a:cubicBezTo>
                      <a:pt x="1319" y="186"/>
                      <a:pt x="1281" y="349"/>
                      <a:pt x="1253" y="512"/>
                    </a:cubicBezTo>
                    <a:cubicBezTo>
                      <a:pt x="1230" y="344"/>
                      <a:pt x="1236" y="175"/>
                      <a:pt x="1231" y="6"/>
                    </a:cubicBezTo>
                    <a:cubicBezTo>
                      <a:pt x="953" y="0"/>
                      <a:pt x="675" y="0"/>
                      <a:pt x="397" y="4"/>
                    </a:cubicBezTo>
                    <a:cubicBezTo>
                      <a:pt x="391" y="172"/>
                      <a:pt x="388" y="340"/>
                      <a:pt x="370" y="507"/>
                    </a:cubicBezTo>
                    <a:cubicBezTo>
                      <a:pt x="341" y="341"/>
                      <a:pt x="315" y="174"/>
                      <a:pt x="284" y="8"/>
                    </a:cubicBezTo>
                    <a:cubicBezTo>
                      <a:pt x="189" y="8"/>
                      <a:pt x="95" y="8"/>
                      <a:pt x="0" y="9"/>
                    </a:cubicBezTo>
                    <a:cubicBezTo>
                      <a:pt x="49" y="311"/>
                      <a:pt x="16" y="636"/>
                      <a:pt x="152" y="91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558" name="组合 14"/>
            <p:cNvGrpSpPr/>
            <p:nvPr/>
          </p:nvGrpSpPr>
          <p:grpSpPr>
            <a:xfrm>
              <a:off x="1566720" y="5981400"/>
              <a:ext cx="1460880" cy="929520"/>
              <a:chOff x="1566720" y="5981400"/>
              <a:chExt cx="1460880" cy="929520"/>
            </a:xfrm>
          </p:grpSpPr>
          <p:sp>
            <p:nvSpPr>
              <p:cNvPr id="559" name="Freeform 99"/>
              <p:cNvSpPr/>
              <p:nvPr/>
            </p:nvSpPr>
            <p:spPr>
              <a:xfrm flipV="1">
                <a:off x="1707120" y="5982840"/>
                <a:ext cx="432720" cy="419400"/>
              </a:xfrm>
              <a:custGeom>
                <a:avLst/>
                <a:gdLst>
                  <a:gd name="textAreaLeft" fmla="*/ 0 w 432720"/>
                  <a:gd name="textAreaRight" fmla="*/ 433080 w 432720"/>
                  <a:gd name="textAreaTop" fmla="*/ -36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981" h="954">
                    <a:moveTo>
                      <a:pt x="346" y="894"/>
                    </a:moveTo>
                    <a:cubicBezTo>
                      <a:pt x="570" y="954"/>
                      <a:pt x="822" y="822"/>
                      <a:pt x="886" y="598"/>
                    </a:cubicBezTo>
                    <a:cubicBezTo>
                      <a:pt x="981" y="332"/>
                      <a:pt x="759" y="10"/>
                      <a:pt x="473" y="20"/>
                    </a:cubicBezTo>
                    <a:cubicBezTo>
                      <a:pt x="236" y="0"/>
                      <a:pt x="0" y="220"/>
                      <a:pt x="25" y="461"/>
                    </a:cubicBezTo>
                    <a:cubicBezTo>
                      <a:pt x="2" y="660"/>
                      <a:pt x="162" y="842"/>
                      <a:pt x="346" y="89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60" name="Freeform 100"/>
              <p:cNvSpPr/>
              <p:nvPr/>
            </p:nvSpPr>
            <p:spPr>
              <a:xfrm flipV="1">
                <a:off x="2459880" y="5981040"/>
                <a:ext cx="444240" cy="4251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-36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1009" h="967">
                    <a:moveTo>
                      <a:pt x="336" y="893"/>
                    </a:moveTo>
                    <a:cubicBezTo>
                      <a:pt x="560" y="967"/>
                      <a:pt x="813" y="845"/>
                      <a:pt x="892" y="623"/>
                    </a:cubicBezTo>
                    <a:cubicBezTo>
                      <a:pt x="1009" y="359"/>
                      <a:pt x="782" y="12"/>
                      <a:pt x="490" y="27"/>
                    </a:cubicBezTo>
                    <a:cubicBezTo>
                      <a:pt x="234" y="0"/>
                      <a:pt x="0" y="248"/>
                      <a:pt x="39" y="502"/>
                    </a:cubicBezTo>
                    <a:cubicBezTo>
                      <a:pt x="28" y="683"/>
                      <a:pt x="174" y="835"/>
                      <a:pt x="336" y="893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61" name="Freeform 101"/>
              <p:cNvSpPr/>
              <p:nvPr/>
            </p:nvSpPr>
            <p:spPr>
              <a:xfrm flipV="1">
                <a:off x="1566720" y="64026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1" h="1158">
                    <a:moveTo>
                      <a:pt x="152" y="924"/>
                    </a:moveTo>
                    <a:cubicBezTo>
                      <a:pt x="305" y="1093"/>
                      <a:pt x="537" y="1154"/>
                      <a:pt x="758" y="1140"/>
                    </a:cubicBezTo>
                    <a:cubicBezTo>
                      <a:pt x="1009" y="1158"/>
                      <a:pt x="1282" y="1088"/>
                      <a:pt x="1457" y="901"/>
                    </a:cubicBezTo>
                    <a:cubicBezTo>
                      <a:pt x="1573" y="624"/>
                      <a:pt x="1588" y="315"/>
                      <a:pt x="1591" y="18"/>
                    </a:cubicBezTo>
                    <a:cubicBezTo>
                      <a:pt x="1505" y="17"/>
                      <a:pt x="1420" y="13"/>
                      <a:pt x="1335" y="7"/>
                    </a:cubicBezTo>
                    <a:cubicBezTo>
                      <a:pt x="1305" y="173"/>
                      <a:pt x="1286" y="341"/>
                      <a:pt x="1251" y="506"/>
                    </a:cubicBezTo>
                    <a:cubicBezTo>
                      <a:pt x="1236" y="341"/>
                      <a:pt x="1232" y="175"/>
                      <a:pt x="1227" y="10"/>
                    </a:cubicBezTo>
                    <a:cubicBezTo>
                      <a:pt x="949" y="5"/>
                      <a:pt x="670" y="11"/>
                      <a:pt x="391" y="8"/>
                    </a:cubicBezTo>
                    <a:cubicBezTo>
                      <a:pt x="390" y="171"/>
                      <a:pt x="398" y="335"/>
                      <a:pt x="373" y="496"/>
                    </a:cubicBezTo>
                    <a:cubicBezTo>
                      <a:pt x="334" y="334"/>
                      <a:pt x="316" y="168"/>
                      <a:pt x="283" y="5"/>
                    </a:cubicBezTo>
                    <a:cubicBezTo>
                      <a:pt x="187" y="10"/>
                      <a:pt x="88" y="0"/>
                      <a:pt x="0" y="42"/>
                    </a:cubicBezTo>
                    <a:cubicBezTo>
                      <a:pt x="53" y="335"/>
                      <a:pt x="17" y="650"/>
                      <a:pt x="152" y="92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62" name="Freeform 102"/>
              <p:cNvSpPr/>
              <p:nvPr/>
            </p:nvSpPr>
            <p:spPr>
              <a:xfrm flipV="1">
                <a:off x="2327040" y="64008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4" h="1153">
                    <a:moveTo>
                      <a:pt x="152" y="918"/>
                    </a:moveTo>
                    <a:cubicBezTo>
                      <a:pt x="305" y="1085"/>
                      <a:pt x="538" y="1149"/>
                      <a:pt x="759" y="1133"/>
                    </a:cubicBezTo>
                    <a:cubicBezTo>
                      <a:pt x="1016" y="1153"/>
                      <a:pt x="1302" y="1078"/>
                      <a:pt x="1466" y="868"/>
                    </a:cubicBezTo>
                    <a:cubicBezTo>
                      <a:pt x="1575" y="597"/>
                      <a:pt x="1582" y="295"/>
                      <a:pt x="1594" y="6"/>
                    </a:cubicBezTo>
                    <a:cubicBezTo>
                      <a:pt x="1500" y="7"/>
                      <a:pt x="1405" y="8"/>
                      <a:pt x="1311" y="20"/>
                    </a:cubicBezTo>
                    <a:cubicBezTo>
                      <a:pt x="1319" y="186"/>
                      <a:pt x="1281" y="349"/>
                      <a:pt x="1253" y="512"/>
                    </a:cubicBezTo>
                    <a:cubicBezTo>
                      <a:pt x="1230" y="344"/>
                      <a:pt x="1236" y="175"/>
                      <a:pt x="1231" y="6"/>
                    </a:cubicBezTo>
                    <a:cubicBezTo>
                      <a:pt x="953" y="0"/>
                      <a:pt x="675" y="0"/>
                      <a:pt x="397" y="4"/>
                    </a:cubicBezTo>
                    <a:cubicBezTo>
                      <a:pt x="391" y="172"/>
                      <a:pt x="388" y="340"/>
                      <a:pt x="370" y="507"/>
                    </a:cubicBezTo>
                    <a:cubicBezTo>
                      <a:pt x="341" y="341"/>
                      <a:pt x="315" y="174"/>
                      <a:pt x="284" y="8"/>
                    </a:cubicBezTo>
                    <a:cubicBezTo>
                      <a:pt x="189" y="8"/>
                      <a:pt x="95" y="8"/>
                      <a:pt x="0" y="9"/>
                    </a:cubicBezTo>
                    <a:cubicBezTo>
                      <a:pt x="49" y="311"/>
                      <a:pt x="16" y="636"/>
                      <a:pt x="152" y="91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563" name="组合 19"/>
            <p:cNvGrpSpPr/>
            <p:nvPr/>
          </p:nvGrpSpPr>
          <p:grpSpPr>
            <a:xfrm>
              <a:off x="3085200" y="5981400"/>
              <a:ext cx="1460880" cy="929520"/>
              <a:chOff x="3085200" y="5981400"/>
              <a:chExt cx="1460880" cy="929520"/>
            </a:xfrm>
          </p:grpSpPr>
          <p:sp>
            <p:nvSpPr>
              <p:cNvPr id="564" name="Freeform 99"/>
              <p:cNvSpPr/>
              <p:nvPr/>
            </p:nvSpPr>
            <p:spPr>
              <a:xfrm flipV="1">
                <a:off x="3225600" y="5982840"/>
                <a:ext cx="432720" cy="419400"/>
              </a:xfrm>
              <a:custGeom>
                <a:avLst/>
                <a:gdLst>
                  <a:gd name="textAreaLeft" fmla="*/ 0 w 432720"/>
                  <a:gd name="textAreaRight" fmla="*/ 433080 w 432720"/>
                  <a:gd name="textAreaTop" fmla="*/ -36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981" h="954">
                    <a:moveTo>
                      <a:pt x="346" y="894"/>
                    </a:moveTo>
                    <a:cubicBezTo>
                      <a:pt x="570" y="954"/>
                      <a:pt x="822" y="822"/>
                      <a:pt x="886" y="598"/>
                    </a:cubicBezTo>
                    <a:cubicBezTo>
                      <a:pt x="981" y="332"/>
                      <a:pt x="759" y="10"/>
                      <a:pt x="473" y="20"/>
                    </a:cubicBezTo>
                    <a:cubicBezTo>
                      <a:pt x="236" y="0"/>
                      <a:pt x="0" y="220"/>
                      <a:pt x="25" y="461"/>
                    </a:cubicBezTo>
                    <a:cubicBezTo>
                      <a:pt x="2" y="660"/>
                      <a:pt x="162" y="842"/>
                      <a:pt x="346" y="89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65" name="Freeform 100"/>
              <p:cNvSpPr/>
              <p:nvPr/>
            </p:nvSpPr>
            <p:spPr>
              <a:xfrm flipV="1">
                <a:off x="3978360" y="5981040"/>
                <a:ext cx="444240" cy="4251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-36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1009" h="967">
                    <a:moveTo>
                      <a:pt x="336" y="893"/>
                    </a:moveTo>
                    <a:cubicBezTo>
                      <a:pt x="560" y="967"/>
                      <a:pt x="813" y="845"/>
                      <a:pt x="892" y="623"/>
                    </a:cubicBezTo>
                    <a:cubicBezTo>
                      <a:pt x="1009" y="359"/>
                      <a:pt x="782" y="12"/>
                      <a:pt x="490" y="27"/>
                    </a:cubicBezTo>
                    <a:cubicBezTo>
                      <a:pt x="234" y="0"/>
                      <a:pt x="0" y="248"/>
                      <a:pt x="39" y="502"/>
                    </a:cubicBezTo>
                    <a:cubicBezTo>
                      <a:pt x="28" y="683"/>
                      <a:pt x="174" y="835"/>
                      <a:pt x="336" y="893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66" name="Freeform 101"/>
              <p:cNvSpPr/>
              <p:nvPr/>
            </p:nvSpPr>
            <p:spPr>
              <a:xfrm flipV="1">
                <a:off x="3085200" y="64026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1" h="1158">
                    <a:moveTo>
                      <a:pt x="152" y="924"/>
                    </a:moveTo>
                    <a:cubicBezTo>
                      <a:pt x="305" y="1093"/>
                      <a:pt x="537" y="1154"/>
                      <a:pt x="758" y="1140"/>
                    </a:cubicBezTo>
                    <a:cubicBezTo>
                      <a:pt x="1009" y="1158"/>
                      <a:pt x="1282" y="1088"/>
                      <a:pt x="1457" y="901"/>
                    </a:cubicBezTo>
                    <a:cubicBezTo>
                      <a:pt x="1573" y="624"/>
                      <a:pt x="1588" y="315"/>
                      <a:pt x="1591" y="18"/>
                    </a:cubicBezTo>
                    <a:cubicBezTo>
                      <a:pt x="1505" y="17"/>
                      <a:pt x="1420" y="13"/>
                      <a:pt x="1335" y="7"/>
                    </a:cubicBezTo>
                    <a:cubicBezTo>
                      <a:pt x="1305" y="173"/>
                      <a:pt x="1286" y="341"/>
                      <a:pt x="1251" y="506"/>
                    </a:cubicBezTo>
                    <a:cubicBezTo>
                      <a:pt x="1236" y="341"/>
                      <a:pt x="1232" y="175"/>
                      <a:pt x="1227" y="10"/>
                    </a:cubicBezTo>
                    <a:cubicBezTo>
                      <a:pt x="949" y="5"/>
                      <a:pt x="670" y="11"/>
                      <a:pt x="391" y="8"/>
                    </a:cubicBezTo>
                    <a:cubicBezTo>
                      <a:pt x="390" y="171"/>
                      <a:pt x="398" y="335"/>
                      <a:pt x="373" y="496"/>
                    </a:cubicBezTo>
                    <a:cubicBezTo>
                      <a:pt x="334" y="334"/>
                      <a:pt x="316" y="168"/>
                      <a:pt x="283" y="5"/>
                    </a:cubicBezTo>
                    <a:cubicBezTo>
                      <a:pt x="187" y="10"/>
                      <a:pt x="88" y="0"/>
                      <a:pt x="0" y="42"/>
                    </a:cubicBezTo>
                    <a:cubicBezTo>
                      <a:pt x="53" y="335"/>
                      <a:pt x="17" y="650"/>
                      <a:pt x="152" y="92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67" name="Freeform 102"/>
              <p:cNvSpPr/>
              <p:nvPr/>
            </p:nvSpPr>
            <p:spPr>
              <a:xfrm flipV="1">
                <a:off x="3845520" y="64008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4" h="1153">
                    <a:moveTo>
                      <a:pt x="152" y="918"/>
                    </a:moveTo>
                    <a:cubicBezTo>
                      <a:pt x="305" y="1085"/>
                      <a:pt x="538" y="1149"/>
                      <a:pt x="759" y="1133"/>
                    </a:cubicBezTo>
                    <a:cubicBezTo>
                      <a:pt x="1016" y="1153"/>
                      <a:pt x="1302" y="1078"/>
                      <a:pt x="1466" y="868"/>
                    </a:cubicBezTo>
                    <a:cubicBezTo>
                      <a:pt x="1575" y="597"/>
                      <a:pt x="1582" y="295"/>
                      <a:pt x="1594" y="6"/>
                    </a:cubicBezTo>
                    <a:cubicBezTo>
                      <a:pt x="1500" y="7"/>
                      <a:pt x="1405" y="8"/>
                      <a:pt x="1311" y="20"/>
                    </a:cubicBezTo>
                    <a:cubicBezTo>
                      <a:pt x="1319" y="186"/>
                      <a:pt x="1281" y="349"/>
                      <a:pt x="1253" y="512"/>
                    </a:cubicBezTo>
                    <a:cubicBezTo>
                      <a:pt x="1230" y="344"/>
                      <a:pt x="1236" y="175"/>
                      <a:pt x="1231" y="6"/>
                    </a:cubicBezTo>
                    <a:cubicBezTo>
                      <a:pt x="953" y="0"/>
                      <a:pt x="675" y="0"/>
                      <a:pt x="397" y="4"/>
                    </a:cubicBezTo>
                    <a:cubicBezTo>
                      <a:pt x="391" y="172"/>
                      <a:pt x="388" y="340"/>
                      <a:pt x="370" y="507"/>
                    </a:cubicBezTo>
                    <a:cubicBezTo>
                      <a:pt x="341" y="341"/>
                      <a:pt x="315" y="174"/>
                      <a:pt x="284" y="8"/>
                    </a:cubicBezTo>
                    <a:cubicBezTo>
                      <a:pt x="189" y="8"/>
                      <a:pt x="95" y="8"/>
                      <a:pt x="0" y="9"/>
                    </a:cubicBezTo>
                    <a:cubicBezTo>
                      <a:pt x="49" y="311"/>
                      <a:pt x="16" y="636"/>
                      <a:pt x="152" y="91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568" name="组合 24"/>
            <p:cNvGrpSpPr/>
            <p:nvPr/>
          </p:nvGrpSpPr>
          <p:grpSpPr>
            <a:xfrm>
              <a:off x="4606200" y="5981400"/>
              <a:ext cx="1460880" cy="929520"/>
              <a:chOff x="4606200" y="5981400"/>
              <a:chExt cx="1460880" cy="929520"/>
            </a:xfrm>
          </p:grpSpPr>
          <p:sp>
            <p:nvSpPr>
              <p:cNvPr id="569" name="Freeform 99"/>
              <p:cNvSpPr/>
              <p:nvPr/>
            </p:nvSpPr>
            <p:spPr>
              <a:xfrm flipV="1">
                <a:off x="4746600" y="5982840"/>
                <a:ext cx="432720" cy="419400"/>
              </a:xfrm>
              <a:custGeom>
                <a:avLst/>
                <a:gdLst>
                  <a:gd name="textAreaLeft" fmla="*/ 0 w 432720"/>
                  <a:gd name="textAreaRight" fmla="*/ 433080 w 432720"/>
                  <a:gd name="textAreaTop" fmla="*/ -36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981" h="954">
                    <a:moveTo>
                      <a:pt x="346" y="894"/>
                    </a:moveTo>
                    <a:cubicBezTo>
                      <a:pt x="570" y="954"/>
                      <a:pt x="822" y="822"/>
                      <a:pt x="886" y="598"/>
                    </a:cubicBezTo>
                    <a:cubicBezTo>
                      <a:pt x="981" y="332"/>
                      <a:pt x="759" y="10"/>
                      <a:pt x="473" y="20"/>
                    </a:cubicBezTo>
                    <a:cubicBezTo>
                      <a:pt x="236" y="0"/>
                      <a:pt x="0" y="220"/>
                      <a:pt x="25" y="461"/>
                    </a:cubicBezTo>
                    <a:cubicBezTo>
                      <a:pt x="2" y="660"/>
                      <a:pt x="162" y="842"/>
                      <a:pt x="346" y="89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70" name="Freeform 100"/>
              <p:cNvSpPr/>
              <p:nvPr/>
            </p:nvSpPr>
            <p:spPr>
              <a:xfrm flipV="1">
                <a:off x="5499360" y="5981040"/>
                <a:ext cx="444240" cy="4251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-36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1009" h="967">
                    <a:moveTo>
                      <a:pt x="336" y="893"/>
                    </a:moveTo>
                    <a:cubicBezTo>
                      <a:pt x="560" y="967"/>
                      <a:pt x="813" y="845"/>
                      <a:pt x="892" y="623"/>
                    </a:cubicBezTo>
                    <a:cubicBezTo>
                      <a:pt x="1009" y="359"/>
                      <a:pt x="782" y="12"/>
                      <a:pt x="490" y="27"/>
                    </a:cubicBezTo>
                    <a:cubicBezTo>
                      <a:pt x="234" y="0"/>
                      <a:pt x="0" y="248"/>
                      <a:pt x="39" y="502"/>
                    </a:cubicBezTo>
                    <a:cubicBezTo>
                      <a:pt x="28" y="683"/>
                      <a:pt x="174" y="835"/>
                      <a:pt x="336" y="893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71" name="Freeform 101"/>
              <p:cNvSpPr/>
              <p:nvPr/>
            </p:nvSpPr>
            <p:spPr>
              <a:xfrm flipV="1">
                <a:off x="4606200" y="64026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1" h="1158">
                    <a:moveTo>
                      <a:pt x="152" y="924"/>
                    </a:moveTo>
                    <a:cubicBezTo>
                      <a:pt x="305" y="1093"/>
                      <a:pt x="537" y="1154"/>
                      <a:pt x="758" y="1140"/>
                    </a:cubicBezTo>
                    <a:cubicBezTo>
                      <a:pt x="1009" y="1158"/>
                      <a:pt x="1282" y="1088"/>
                      <a:pt x="1457" y="901"/>
                    </a:cubicBezTo>
                    <a:cubicBezTo>
                      <a:pt x="1573" y="624"/>
                      <a:pt x="1588" y="315"/>
                      <a:pt x="1591" y="18"/>
                    </a:cubicBezTo>
                    <a:cubicBezTo>
                      <a:pt x="1505" y="17"/>
                      <a:pt x="1420" y="13"/>
                      <a:pt x="1335" y="7"/>
                    </a:cubicBezTo>
                    <a:cubicBezTo>
                      <a:pt x="1305" y="173"/>
                      <a:pt x="1286" y="341"/>
                      <a:pt x="1251" y="506"/>
                    </a:cubicBezTo>
                    <a:cubicBezTo>
                      <a:pt x="1236" y="341"/>
                      <a:pt x="1232" y="175"/>
                      <a:pt x="1227" y="10"/>
                    </a:cubicBezTo>
                    <a:cubicBezTo>
                      <a:pt x="949" y="5"/>
                      <a:pt x="670" y="11"/>
                      <a:pt x="391" y="8"/>
                    </a:cubicBezTo>
                    <a:cubicBezTo>
                      <a:pt x="390" y="171"/>
                      <a:pt x="398" y="335"/>
                      <a:pt x="373" y="496"/>
                    </a:cubicBezTo>
                    <a:cubicBezTo>
                      <a:pt x="334" y="334"/>
                      <a:pt x="316" y="168"/>
                      <a:pt x="283" y="5"/>
                    </a:cubicBezTo>
                    <a:cubicBezTo>
                      <a:pt x="187" y="10"/>
                      <a:pt x="88" y="0"/>
                      <a:pt x="0" y="42"/>
                    </a:cubicBezTo>
                    <a:cubicBezTo>
                      <a:pt x="53" y="335"/>
                      <a:pt x="17" y="650"/>
                      <a:pt x="152" y="92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72" name="Freeform 102"/>
              <p:cNvSpPr/>
              <p:nvPr/>
            </p:nvSpPr>
            <p:spPr>
              <a:xfrm flipV="1">
                <a:off x="5366520" y="64008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4" h="1153">
                    <a:moveTo>
                      <a:pt x="152" y="918"/>
                    </a:moveTo>
                    <a:cubicBezTo>
                      <a:pt x="305" y="1085"/>
                      <a:pt x="538" y="1149"/>
                      <a:pt x="759" y="1133"/>
                    </a:cubicBezTo>
                    <a:cubicBezTo>
                      <a:pt x="1016" y="1153"/>
                      <a:pt x="1302" y="1078"/>
                      <a:pt x="1466" y="868"/>
                    </a:cubicBezTo>
                    <a:cubicBezTo>
                      <a:pt x="1575" y="597"/>
                      <a:pt x="1582" y="295"/>
                      <a:pt x="1594" y="6"/>
                    </a:cubicBezTo>
                    <a:cubicBezTo>
                      <a:pt x="1500" y="7"/>
                      <a:pt x="1405" y="8"/>
                      <a:pt x="1311" y="20"/>
                    </a:cubicBezTo>
                    <a:cubicBezTo>
                      <a:pt x="1319" y="186"/>
                      <a:pt x="1281" y="349"/>
                      <a:pt x="1253" y="512"/>
                    </a:cubicBezTo>
                    <a:cubicBezTo>
                      <a:pt x="1230" y="344"/>
                      <a:pt x="1236" y="175"/>
                      <a:pt x="1231" y="6"/>
                    </a:cubicBezTo>
                    <a:cubicBezTo>
                      <a:pt x="953" y="0"/>
                      <a:pt x="675" y="0"/>
                      <a:pt x="397" y="4"/>
                    </a:cubicBezTo>
                    <a:cubicBezTo>
                      <a:pt x="391" y="172"/>
                      <a:pt x="388" y="340"/>
                      <a:pt x="370" y="507"/>
                    </a:cubicBezTo>
                    <a:cubicBezTo>
                      <a:pt x="341" y="341"/>
                      <a:pt x="315" y="174"/>
                      <a:pt x="284" y="8"/>
                    </a:cubicBezTo>
                    <a:cubicBezTo>
                      <a:pt x="189" y="8"/>
                      <a:pt x="95" y="8"/>
                      <a:pt x="0" y="9"/>
                    </a:cubicBezTo>
                    <a:cubicBezTo>
                      <a:pt x="49" y="311"/>
                      <a:pt x="16" y="636"/>
                      <a:pt x="152" y="91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573" name="组合 29"/>
            <p:cNvGrpSpPr/>
            <p:nvPr/>
          </p:nvGrpSpPr>
          <p:grpSpPr>
            <a:xfrm>
              <a:off x="6137640" y="5981400"/>
              <a:ext cx="1461240" cy="929520"/>
              <a:chOff x="6137640" y="5981400"/>
              <a:chExt cx="1461240" cy="929520"/>
            </a:xfrm>
          </p:grpSpPr>
          <p:sp>
            <p:nvSpPr>
              <p:cNvPr id="574" name="Freeform 99"/>
              <p:cNvSpPr/>
              <p:nvPr/>
            </p:nvSpPr>
            <p:spPr>
              <a:xfrm flipV="1">
                <a:off x="6278400" y="5982840"/>
                <a:ext cx="432720" cy="419400"/>
              </a:xfrm>
              <a:custGeom>
                <a:avLst/>
                <a:gdLst>
                  <a:gd name="textAreaLeft" fmla="*/ 0 w 432720"/>
                  <a:gd name="textAreaRight" fmla="*/ 433080 w 432720"/>
                  <a:gd name="textAreaTop" fmla="*/ -36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981" h="954">
                    <a:moveTo>
                      <a:pt x="346" y="894"/>
                    </a:moveTo>
                    <a:cubicBezTo>
                      <a:pt x="570" y="954"/>
                      <a:pt x="822" y="822"/>
                      <a:pt x="886" y="598"/>
                    </a:cubicBezTo>
                    <a:cubicBezTo>
                      <a:pt x="981" y="332"/>
                      <a:pt x="759" y="10"/>
                      <a:pt x="473" y="20"/>
                    </a:cubicBezTo>
                    <a:cubicBezTo>
                      <a:pt x="236" y="0"/>
                      <a:pt x="0" y="220"/>
                      <a:pt x="25" y="461"/>
                    </a:cubicBezTo>
                    <a:cubicBezTo>
                      <a:pt x="2" y="660"/>
                      <a:pt x="162" y="842"/>
                      <a:pt x="346" y="89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75" name="Freeform 100"/>
              <p:cNvSpPr/>
              <p:nvPr/>
            </p:nvSpPr>
            <p:spPr>
              <a:xfrm flipV="1">
                <a:off x="7031160" y="5981040"/>
                <a:ext cx="444240" cy="4251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-36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1009" h="967">
                    <a:moveTo>
                      <a:pt x="336" y="893"/>
                    </a:moveTo>
                    <a:cubicBezTo>
                      <a:pt x="560" y="967"/>
                      <a:pt x="813" y="845"/>
                      <a:pt x="892" y="623"/>
                    </a:cubicBezTo>
                    <a:cubicBezTo>
                      <a:pt x="1009" y="359"/>
                      <a:pt x="782" y="12"/>
                      <a:pt x="490" y="27"/>
                    </a:cubicBezTo>
                    <a:cubicBezTo>
                      <a:pt x="234" y="0"/>
                      <a:pt x="0" y="248"/>
                      <a:pt x="39" y="502"/>
                    </a:cubicBezTo>
                    <a:cubicBezTo>
                      <a:pt x="28" y="683"/>
                      <a:pt x="174" y="835"/>
                      <a:pt x="336" y="893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76" name="Freeform 101"/>
              <p:cNvSpPr/>
              <p:nvPr/>
            </p:nvSpPr>
            <p:spPr>
              <a:xfrm flipV="1">
                <a:off x="6137640" y="64026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1" h="1158">
                    <a:moveTo>
                      <a:pt x="152" y="924"/>
                    </a:moveTo>
                    <a:cubicBezTo>
                      <a:pt x="305" y="1093"/>
                      <a:pt x="537" y="1154"/>
                      <a:pt x="758" y="1140"/>
                    </a:cubicBezTo>
                    <a:cubicBezTo>
                      <a:pt x="1009" y="1158"/>
                      <a:pt x="1282" y="1088"/>
                      <a:pt x="1457" y="901"/>
                    </a:cubicBezTo>
                    <a:cubicBezTo>
                      <a:pt x="1573" y="624"/>
                      <a:pt x="1588" y="315"/>
                      <a:pt x="1591" y="18"/>
                    </a:cubicBezTo>
                    <a:cubicBezTo>
                      <a:pt x="1505" y="17"/>
                      <a:pt x="1420" y="13"/>
                      <a:pt x="1335" y="7"/>
                    </a:cubicBezTo>
                    <a:cubicBezTo>
                      <a:pt x="1305" y="173"/>
                      <a:pt x="1286" y="341"/>
                      <a:pt x="1251" y="506"/>
                    </a:cubicBezTo>
                    <a:cubicBezTo>
                      <a:pt x="1236" y="341"/>
                      <a:pt x="1232" y="175"/>
                      <a:pt x="1227" y="10"/>
                    </a:cubicBezTo>
                    <a:cubicBezTo>
                      <a:pt x="949" y="5"/>
                      <a:pt x="670" y="11"/>
                      <a:pt x="391" y="8"/>
                    </a:cubicBezTo>
                    <a:cubicBezTo>
                      <a:pt x="390" y="171"/>
                      <a:pt x="398" y="335"/>
                      <a:pt x="373" y="496"/>
                    </a:cubicBezTo>
                    <a:cubicBezTo>
                      <a:pt x="334" y="334"/>
                      <a:pt x="316" y="168"/>
                      <a:pt x="283" y="5"/>
                    </a:cubicBezTo>
                    <a:cubicBezTo>
                      <a:pt x="187" y="10"/>
                      <a:pt x="88" y="0"/>
                      <a:pt x="0" y="42"/>
                    </a:cubicBezTo>
                    <a:cubicBezTo>
                      <a:pt x="53" y="335"/>
                      <a:pt x="17" y="650"/>
                      <a:pt x="152" y="92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77" name="Freeform 102"/>
              <p:cNvSpPr/>
              <p:nvPr/>
            </p:nvSpPr>
            <p:spPr>
              <a:xfrm flipV="1">
                <a:off x="6898320" y="64008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4" h="1153">
                    <a:moveTo>
                      <a:pt x="152" y="918"/>
                    </a:moveTo>
                    <a:cubicBezTo>
                      <a:pt x="305" y="1085"/>
                      <a:pt x="538" y="1149"/>
                      <a:pt x="759" y="1133"/>
                    </a:cubicBezTo>
                    <a:cubicBezTo>
                      <a:pt x="1016" y="1153"/>
                      <a:pt x="1302" y="1078"/>
                      <a:pt x="1466" y="868"/>
                    </a:cubicBezTo>
                    <a:cubicBezTo>
                      <a:pt x="1575" y="597"/>
                      <a:pt x="1582" y="295"/>
                      <a:pt x="1594" y="6"/>
                    </a:cubicBezTo>
                    <a:cubicBezTo>
                      <a:pt x="1500" y="7"/>
                      <a:pt x="1405" y="8"/>
                      <a:pt x="1311" y="20"/>
                    </a:cubicBezTo>
                    <a:cubicBezTo>
                      <a:pt x="1319" y="186"/>
                      <a:pt x="1281" y="349"/>
                      <a:pt x="1253" y="512"/>
                    </a:cubicBezTo>
                    <a:cubicBezTo>
                      <a:pt x="1230" y="344"/>
                      <a:pt x="1236" y="175"/>
                      <a:pt x="1231" y="6"/>
                    </a:cubicBezTo>
                    <a:cubicBezTo>
                      <a:pt x="953" y="0"/>
                      <a:pt x="675" y="0"/>
                      <a:pt x="397" y="4"/>
                    </a:cubicBezTo>
                    <a:cubicBezTo>
                      <a:pt x="391" y="172"/>
                      <a:pt x="388" y="340"/>
                      <a:pt x="370" y="507"/>
                    </a:cubicBezTo>
                    <a:cubicBezTo>
                      <a:pt x="341" y="341"/>
                      <a:pt x="315" y="174"/>
                      <a:pt x="284" y="8"/>
                    </a:cubicBezTo>
                    <a:cubicBezTo>
                      <a:pt x="189" y="8"/>
                      <a:pt x="95" y="8"/>
                      <a:pt x="0" y="9"/>
                    </a:cubicBezTo>
                    <a:cubicBezTo>
                      <a:pt x="49" y="311"/>
                      <a:pt x="16" y="636"/>
                      <a:pt x="152" y="91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578" name="组合 34"/>
            <p:cNvGrpSpPr/>
            <p:nvPr/>
          </p:nvGrpSpPr>
          <p:grpSpPr>
            <a:xfrm>
              <a:off x="7658640" y="5981400"/>
              <a:ext cx="1461240" cy="929520"/>
              <a:chOff x="7658640" y="5981400"/>
              <a:chExt cx="1461240" cy="929520"/>
            </a:xfrm>
          </p:grpSpPr>
          <p:sp>
            <p:nvSpPr>
              <p:cNvPr id="579" name="Freeform 99"/>
              <p:cNvSpPr/>
              <p:nvPr/>
            </p:nvSpPr>
            <p:spPr>
              <a:xfrm flipV="1">
                <a:off x="7799400" y="5982840"/>
                <a:ext cx="432720" cy="419400"/>
              </a:xfrm>
              <a:custGeom>
                <a:avLst/>
                <a:gdLst>
                  <a:gd name="textAreaLeft" fmla="*/ 0 w 432720"/>
                  <a:gd name="textAreaRight" fmla="*/ 433080 w 432720"/>
                  <a:gd name="textAreaTop" fmla="*/ -36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981" h="954">
                    <a:moveTo>
                      <a:pt x="346" y="894"/>
                    </a:moveTo>
                    <a:cubicBezTo>
                      <a:pt x="570" y="954"/>
                      <a:pt x="822" y="822"/>
                      <a:pt x="886" y="598"/>
                    </a:cubicBezTo>
                    <a:cubicBezTo>
                      <a:pt x="981" y="332"/>
                      <a:pt x="759" y="10"/>
                      <a:pt x="473" y="20"/>
                    </a:cubicBezTo>
                    <a:cubicBezTo>
                      <a:pt x="236" y="0"/>
                      <a:pt x="0" y="220"/>
                      <a:pt x="25" y="461"/>
                    </a:cubicBezTo>
                    <a:cubicBezTo>
                      <a:pt x="2" y="660"/>
                      <a:pt x="162" y="842"/>
                      <a:pt x="346" y="89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80" name="Freeform 100"/>
              <p:cNvSpPr/>
              <p:nvPr/>
            </p:nvSpPr>
            <p:spPr>
              <a:xfrm flipV="1">
                <a:off x="8552160" y="5981040"/>
                <a:ext cx="444240" cy="4251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-36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1009" h="967">
                    <a:moveTo>
                      <a:pt x="336" y="893"/>
                    </a:moveTo>
                    <a:cubicBezTo>
                      <a:pt x="560" y="967"/>
                      <a:pt x="813" y="845"/>
                      <a:pt x="892" y="623"/>
                    </a:cubicBezTo>
                    <a:cubicBezTo>
                      <a:pt x="1009" y="359"/>
                      <a:pt x="782" y="12"/>
                      <a:pt x="490" y="27"/>
                    </a:cubicBezTo>
                    <a:cubicBezTo>
                      <a:pt x="234" y="0"/>
                      <a:pt x="0" y="248"/>
                      <a:pt x="39" y="502"/>
                    </a:cubicBezTo>
                    <a:cubicBezTo>
                      <a:pt x="28" y="683"/>
                      <a:pt x="174" y="835"/>
                      <a:pt x="336" y="893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81" name="Freeform 101"/>
              <p:cNvSpPr/>
              <p:nvPr/>
            </p:nvSpPr>
            <p:spPr>
              <a:xfrm flipV="1">
                <a:off x="7658640" y="64026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1" h="1158">
                    <a:moveTo>
                      <a:pt x="152" y="924"/>
                    </a:moveTo>
                    <a:cubicBezTo>
                      <a:pt x="305" y="1093"/>
                      <a:pt x="537" y="1154"/>
                      <a:pt x="758" y="1140"/>
                    </a:cubicBezTo>
                    <a:cubicBezTo>
                      <a:pt x="1009" y="1158"/>
                      <a:pt x="1282" y="1088"/>
                      <a:pt x="1457" y="901"/>
                    </a:cubicBezTo>
                    <a:cubicBezTo>
                      <a:pt x="1573" y="624"/>
                      <a:pt x="1588" y="315"/>
                      <a:pt x="1591" y="18"/>
                    </a:cubicBezTo>
                    <a:cubicBezTo>
                      <a:pt x="1505" y="17"/>
                      <a:pt x="1420" y="13"/>
                      <a:pt x="1335" y="7"/>
                    </a:cubicBezTo>
                    <a:cubicBezTo>
                      <a:pt x="1305" y="173"/>
                      <a:pt x="1286" y="341"/>
                      <a:pt x="1251" y="506"/>
                    </a:cubicBezTo>
                    <a:cubicBezTo>
                      <a:pt x="1236" y="341"/>
                      <a:pt x="1232" y="175"/>
                      <a:pt x="1227" y="10"/>
                    </a:cubicBezTo>
                    <a:cubicBezTo>
                      <a:pt x="949" y="5"/>
                      <a:pt x="670" y="11"/>
                      <a:pt x="391" y="8"/>
                    </a:cubicBezTo>
                    <a:cubicBezTo>
                      <a:pt x="390" y="171"/>
                      <a:pt x="398" y="335"/>
                      <a:pt x="373" y="496"/>
                    </a:cubicBezTo>
                    <a:cubicBezTo>
                      <a:pt x="334" y="334"/>
                      <a:pt x="316" y="168"/>
                      <a:pt x="283" y="5"/>
                    </a:cubicBezTo>
                    <a:cubicBezTo>
                      <a:pt x="187" y="10"/>
                      <a:pt x="88" y="0"/>
                      <a:pt x="0" y="42"/>
                    </a:cubicBezTo>
                    <a:cubicBezTo>
                      <a:pt x="53" y="335"/>
                      <a:pt x="17" y="650"/>
                      <a:pt x="152" y="92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82" name="Freeform 102"/>
              <p:cNvSpPr/>
              <p:nvPr/>
            </p:nvSpPr>
            <p:spPr>
              <a:xfrm flipV="1">
                <a:off x="8419320" y="64008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4" h="1153">
                    <a:moveTo>
                      <a:pt x="152" y="918"/>
                    </a:moveTo>
                    <a:cubicBezTo>
                      <a:pt x="305" y="1085"/>
                      <a:pt x="538" y="1149"/>
                      <a:pt x="759" y="1133"/>
                    </a:cubicBezTo>
                    <a:cubicBezTo>
                      <a:pt x="1016" y="1153"/>
                      <a:pt x="1302" y="1078"/>
                      <a:pt x="1466" y="868"/>
                    </a:cubicBezTo>
                    <a:cubicBezTo>
                      <a:pt x="1575" y="597"/>
                      <a:pt x="1582" y="295"/>
                      <a:pt x="1594" y="6"/>
                    </a:cubicBezTo>
                    <a:cubicBezTo>
                      <a:pt x="1500" y="7"/>
                      <a:pt x="1405" y="8"/>
                      <a:pt x="1311" y="20"/>
                    </a:cubicBezTo>
                    <a:cubicBezTo>
                      <a:pt x="1319" y="186"/>
                      <a:pt x="1281" y="349"/>
                      <a:pt x="1253" y="512"/>
                    </a:cubicBezTo>
                    <a:cubicBezTo>
                      <a:pt x="1230" y="344"/>
                      <a:pt x="1236" y="175"/>
                      <a:pt x="1231" y="6"/>
                    </a:cubicBezTo>
                    <a:cubicBezTo>
                      <a:pt x="953" y="0"/>
                      <a:pt x="675" y="0"/>
                      <a:pt x="397" y="4"/>
                    </a:cubicBezTo>
                    <a:cubicBezTo>
                      <a:pt x="391" y="172"/>
                      <a:pt x="388" y="340"/>
                      <a:pt x="370" y="507"/>
                    </a:cubicBezTo>
                    <a:cubicBezTo>
                      <a:pt x="341" y="341"/>
                      <a:pt x="315" y="174"/>
                      <a:pt x="284" y="8"/>
                    </a:cubicBezTo>
                    <a:cubicBezTo>
                      <a:pt x="189" y="8"/>
                      <a:pt x="95" y="8"/>
                      <a:pt x="0" y="9"/>
                    </a:cubicBezTo>
                    <a:cubicBezTo>
                      <a:pt x="49" y="311"/>
                      <a:pt x="16" y="636"/>
                      <a:pt x="152" y="91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583" name="组合 39"/>
            <p:cNvGrpSpPr/>
            <p:nvPr/>
          </p:nvGrpSpPr>
          <p:grpSpPr>
            <a:xfrm>
              <a:off x="9164160" y="5981400"/>
              <a:ext cx="1460880" cy="929520"/>
              <a:chOff x="9164160" y="5981400"/>
              <a:chExt cx="1460880" cy="929520"/>
            </a:xfrm>
          </p:grpSpPr>
          <p:sp>
            <p:nvSpPr>
              <p:cNvPr id="584" name="Freeform 99"/>
              <p:cNvSpPr/>
              <p:nvPr/>
            </p:nvSpPr>
            <p:spPr>
              <a:xfrm flipV="1">
                <a:off x="9304560" y="5982840"/>
                <a:ext cx="432720" cy="419400"/>
              </a:xfrm>
              <a:custGeom>
                <a:avLst/>
                <a:gdLst>
                  <a:gd name="textAreaLeft" fmla="*/ 0 w 432720"/>
                  <a:gd name="textAreaRight" fmla="*/ 433080 w 432720"/>
                  <a:gd name="textAreaTop" fmla="*/ -36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981" h="954">
                    <a:moveTo>
                      <a:pt x="346" y="894"/>
                    </a:moveTo>
                    <a:cubicBezTo>
                      <a:pt x="570" y="954"/>
                      <a:pt x="822" y="822"/>
                      <a:pt x="886" y="598"/>
                    </a:cubicBezTo>
                    <a:cubicBezTo>
                      <a:pt x="981" y="332"/>
                      <a:pt x="759" y="10"/>
                      <a:pt x="473" y="20"/>
                    </a:cubicBezTo>
                    <a:cubicBezTo>
                      <a:pt x="236" y="0"/>
                      <a:pt x="0" y="220"/>
                      <a:pt x="25" y="461"/>
                    </a:cubicBezTo>
                    <a:cubicBezTo>
                      <a:pt x="2" y="660"/>
                      <a:pt x="162" y="842"/>
                      <a:pt x="346" y="89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85" name="Freeform 100"/>
              <p:cNvSpPr/>
              <p:nvPr/>
            </p:nvSpPr>
            <p:spPr>
              <a:xfrm flipV="1">
                <a:off x="10057320" y="5981040"/>
                <a:ext cx="444240" cy="4251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-36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1009" h="967">
                    <a:moveTo>
                      <a:pt x="336" y="893"/>
                    </a:moveTo>
                    <a:cubicBezTo>
                      <a:pt x="560" y="967"/>
                      <a:pt x="813" y="845"/>
                      <a:pt x="892" y="623"/>
                    </a:cubicBezTo>
                    <a:cubicBezTo>
                      <a:pt x="1009" y="359"/>
                      <a:pt x="782" y="12"/>
                      <a:pt x="490" y="27"/>
                    </a:cubicBezTo>
                    <a:cubicBezTo>
                      <a:pt x="234" y="0"/>
                      <a:pt x="0" y="248"/>
                      <a:pt x="39" y="502"/>
                    </a:cubicBezTo>
                    <a:cubicBezTo>
                      <a:pt x="28" y="683"/>
                      <a:pt x="174" y="835"/>
                      <a:pt x="336" y="893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86" name="Freeform 101"/>
              <p:cNvSpPr/>
              <p:nvPr/>
            </p:nvSpPr>
            <p:spPr>
              <a:xfrm flipV="1">
                <a:off x="9164160" y="64026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1" h="1158">
                    <a:moveTo>
                      <a:pt x="152" y="924"/>
                    </a:moveTo>
                    <a:cubicBezTo>
                      <a:pt x="305" y="1093"/>
                      <a:pt x="537" y="1154"/>
                      <a:pt x="758" y="1140"/>
                    </a:cubicBezTo>
                    <a:cubicBezTo>
                      <a:pt x="1009" y="1158"/>
                      <a:pt x="1282" y="1088"/>
                      <a:pt x="1457" y="901"/>
                    </a:cubicBezTo>
                    <a:cubicBezTo>
                      <a:pt x="1573" y="624"/>
                      <a:pt x="1588" y="315"/>
                      <a:pt x="1591" y="18"/>
                    </a:cubicBezTo>
                    <a:cubicBezTo>
                      <a:pt x="1505" y="17"/>
                      <a:pt x="1420" y="13"/>
                      <a:pt x="1335" y="7"/>
                    </a:cubicBezTo>
                    <a:cubicBezTo>
                      <a:pt x="1305" y="173"/>
                      <a:pt x="1286" y="341"/>
                      <a:pt x="1251" y="506"/>
                    </a:cubicBezTo>
                    <a:cubicBezTo>
                      <a:pt x="1236" y="341"/>
                      <a:pt x="1232" y="175"/>
                      <a:pt x="1227" y="10"/>
                    </a:cubicBezTo>
                    <a:cubicBezTo>
                      <a:pt x="949" y="5"/>
                      <a:pt x="670" y="11"/>
                      <a:pt x="391" y="8"/>
                    </a:cubicBezTo>
                    <a:cubicBezTo>
                      <a:pt x="390" y="171"/>
                      <a:pt x="398" y="335"/>
                      <a:pt x="373" y="496"/>
                    </a:cubicBezTo>
                    <a:cubicBezTo>
                      <a:pt x="334" y="334"/>
                      <a:pt x="316" y="168"/>
                      <a:pt x="283" y="5"/>
                    </a:cubicBezTo>
                    <a:cubicBezTo>
                      <a:pt x="187" y="10"/>
                      <a:pt x="88" y="0"/>
                      <a:pt x="0" y="42"/>
                    </a:cubicBezTo>
                    <a:cubicBezTo>
                      <a:pt x="53" y="335"/>
                      <a:pt x="17" y="650"/>
                      <a:pt x="152" y="92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87" name="Freeform 102"/>
              <p:cNvSpPr/>
              <p:nvPr/>
            </p:nvSpPr>
            <p:spPr>
              <a:xfrm flipV="1">
                <a:off x="9924480" y="64008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4" h="1153">
                    <a:moveTo>
                      <a:pt x="152" y="918"/>
                    </a:moveTo>
                    <a:cubicBezTo>
                      <a:pt x="305" y="1085"/>
                      <a:pt x="538" y="1149"/>
                      <a:pt x="759" y="1133"/>
                    </a:cubicBezTo>
                    <a:cubicBezTo>
                      <a:pt x="1016" y="1153"/>
                      <a:pt x="1302" y="1078"/>
                      <a:pt x="1466" y="868"/>
                    </a:cubicBezTo>
                    <a:cubicBezTo>
                      <a:pt x="1575" y="597"/>
                      <a:pt x="1582" y="295"/>
                      <a:pt x="1594" y="6"/>
                    </a:cubicBezTo>
                    <a:cubicBezTo>
                      <a:pt x="1500" y="7"/>
                      <a:pt x="1405" y="8"/>
                      <a:pt x="1311" y="20"/>
                    </a:cubicBezTo>
                    <a:cubicBezTo>
                      <a:pt x="1319" y="186"/>
                      <a:pt x="1281" y="349"/>
                      <a:pt x="1253" y="512"/>
                    </a:cubicBezTo>
                    <a:cubicBezTo>
                      <a:pt x="1230" y="344"/>
                      <a:pt x="1236" y="175"/>
                      <a:pt x="1231" y="6"/>
                    </a:cubicBezTo>
                    <a:cubicBezTo>
                      <a:pt x="953" y="0"/>
                      <a:pt x="675" y="0"/>
                      <a:pt x="397" y="4"/>
                    </a:cubicBezTo>
                    <a:cubicBezTo>
                      <a:pt x="391" y="172"/>
                      <a:pt x="388" y="340"/>
                      <a:pt x="370" y="507"/>
                    </a:cubicBezTo>
                    <a:cubicBezTo>
                      <a:pt x="341" y="341"/>
                      <a:pt x="315" y="174"/>
                      <a:pt x="284" y="8"/>
                    </a:cubicBezTo>
                    <a:cubicBezTo>
                      <a:pt x="189" y="8"/>
                      <a:pt x="95" y="8"/>
                      <a:pt x="0" y="9"/>
                    </a:cubicBezTo>
                    <a:cubicBezTo>
                      <a:pt x="49" y="311"/>
                      <a:pt x="16" y="636"/>
                      <a:pt x="152" y="91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588" name="组合 44"/>
            <p:cNvGrpSpPr/>
            <p:nvPr/>
          </p:nvGrpSpPr>
          <p:grpSpPr>
            <a:xfrm>
              <a:off x="10685160" y="5981400"/>
              <a:ext cx="1460880" cy="929520"/>
              <a:chOff x="10685160" y="5981400"/>
              <a:chExt cx="1460880" cy="929520"/>
            </a:xfrm>
          </p:grpSpPr>
          <p:sp>
            <p:nvSpPr>
              <p:cNvPr id="589" name="Freeform 99"/>
              <p:cNvSpPr/>
              <p:nvPr/>
            </p:nvSpPr>
            <p:spPr>
              <a:xfrm flipV="1">
                <a:off x="10825560" y="5982840"/>
                <a:ext cx="432720" cy="419400"/>
              </a:xfrm>
              <a:custGeom>
                <a:avLst/>
                <a:gdLst>
                  <a:gd name="textAreaLeft" fmla="*/ 0 w 432720"/>
                  <a:gd name="textAreaRight" fmla="*/ 433080 w 432720"/>
                  <a:gd name="textAreaTop" fmla="*/ -36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981" h="954">
                    <a:moveTo>
                      <a:pt x="346" y="894"/>
                    </a:moveTo>
                    <a:cubicBezTo>
                      <a:pt x="570" y="954"/>
                      <a:pt x="822" y="822"/>
                      <a:pt x="886" y="598"/>
                    </a:cubicBezTo>
                    <a:cubicBezTo>
                      <a:pt x="981" y="332"/>
                      <a:pt x="759" y="10"/>
                      <a:pt x="473" y="20"/>
                    </a:cubicBezTo>
                    <a:cubicBezTo>
                      <a:pt x="236" y="0"/>
                      <a:pt x="0" y="220"/>
                      <a:pt x="25" y="461"/>
                    </a:cubicBezTo>
                    <a:cubicBezTo>
                      <a:pt x="2" y="660"/>
                      <a:pt x="162" y="842"/>
                      <a:pt x="346" y="89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90" name="Freeform 100"/>
              <p:cNvSpPr/>
              <p:nvPr/>
            </p:nvSpPr>
            <p:spPr>
              <a:xfrm flipV="1">
                <a:off x="11578320" y="5981040"/>
                <a:ext cx="444240" cy="4251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-360 h 425160"/>
                  <a:gd name="textAreaBottom" fmla="*/ 425160 h 425160"/>
                </a:gdLst>
                <a:ahLst/>
                <a:rect l="textAreaLeft" t="textAreaTop" r="textAreaRight" b="textAreaBottom"/>
                <a:pathLst>
                  <a:path w="1009" h="967">
                    <a:moveTo>
                      <a:pt x="336" y="893"/>
                    </a:moveTo>
                    <a:cubicBezTo>
                      <a:pt x="560" y="967"/>
                      <a:pt x="813" y="845"/>
                      <a:pt x="892" y="623"/>
                    </a:cubicBezTo>
                    <a:cubicBezTo>
                      <a:pt x="1009" y="359"/>
                      <a:pt x="782" y="12"/>
                      <a:pt x="490" y="27"/>
                    </a:cubicBezTo>
                    <a:cubicBezTo>
                      <a:pt x="234" y="0"/>
                      <a:pt x="0" y="248"/>
                      <a:pt x="39" y="502"/>
                    </a:cubicBezTo>
                    <a:cubicBezTo>
                      <a:pt x="28" y="683"/>
                      <a:pt x="174" y="835"/>
                      <a:pt x="336" y="893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91" name="Freeform 101"/>
              <p:cNvSpPr/>
              <p:nvPr/>
            </p:nvSpPr>
            <p:spPr>
              <a:xfrm flipV="1">
                <a:off x="10685160" y="64026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1" h="1158">
                    <a:moveTo>
                      <a:pt x="152" y="924"/>
                    </a:moveTo>
                    <a:cubicBezTo>
                      <a:pt x="305" y="1093"/>
                      <a:pt x="537" y="1154"/>
                      <a:pt x="758" y="1140"/>
                    </a:cubicBezTo>
                    <a:cubicBezTo>
                      <a:pt x="1009" y="1158"/>
                      <a:pt x="1282" y="1088"/>
                      <a:pt x="1457" y="901"/>
                    </a:cubicBezTo>
                    <a:cubicBezTo>
                      <a:pt x="1573" y="624"/>
                      <a:pt x="1588" y="315"/>
                      <a:pt x="1591" y="18"/>
                    </a:cubicBezTo>
                    <a:cubicBezTo>
                      <a:pt x="1505" y="17"/>
                      <a:pt x="1420" y="13"/>
                      <a:pt x="1335" y="7"/>
                    </a:cubicBezTo>
                    <a:cubicBezTo>
                      <a:pt x="1305" y="173"/>
                      <a:pt x="1286" y="341"/>
                      <a:pt x="1251" y="506"/>
                    </a:cubicBezTo>
                    <a:cubicBezTo>
                      <a:pt x="1236" y="341"/>
                      <a:pt x="1232" y="175"/>
                      <a:pt x="1227" y="10"/>
                    </a:cubicBezTo>
                    <a:cubicBezTo>
                      <a:pt x="949" y="5"/>
                      <a:pt x="670" y="11"/>
                      <a:pt x="391" y="8"/>
                    </a:cubicBezTo>
                    <a:cubicBezTo>
                      <a:pt x="390" y="171"/>
                      <a:pt x="398" y="335"/>
                      <a:pt x="373" y="496"/>
                    </a:cubicBezTo>
                    <a:cubicBezTo>
                      <a:pt x="334" y="334"/>
                      <a:pt x="316" y="168"/>
                      <a:pt x="283" y="5"/>
                    </a:cubicBezTo>
                    <a:cubicBezTo>
                      <a:pt x="187" y="10"/>
                      <a:pt x="88" y="0"/>
                      <a:pt x="0" y="42"/>
                    </a:cubicBezTo>
                    <a:cubicBezTo>
                      <a:pt x="53" y="335"/>
                      <a:pt x="17" y="650"/>
                      <a:pt x="152" y="924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592" name="Freeform 102"/>
              <p:cNvSpPr/>
              <p:nvPr/>
            </p:nvSpPr>
            <p:spPr>
              <a:xfrm flipV="1">
                <a:off x="11445480" y="6400800"/>
                <a:ext cx="700560" cy="507960"/>
              </a:xfrm>
              <a:custGeom>
                <a:avLst/>
                <a:gdLst>
                  <a:gd name="textAreaLeft" fmla="*/ 0 w 700560"/>
                  <a:gd name="textAreaRight" fmla="*/ 700920 w 700560"/>
                  <a:gd name="textAreaTop" fmla="*/ -360 h 507960"/>
                  <a:gd name="textAreaBottom" fmla="*/ 507960 h 507960"/>
                </a:gdLst>
                <a:ahLst/>
                <a:rect l="textAreaLeft" t="textAreaTop" r="textAreaRight" b="textAreaBottom"/>
                <a:pathLst>
                  <a:path w="1594" h="1153">
                    <a:moveTo>
                      <a:pt x="152" y="918"/>
                    </a:moveTo>
                    <a:cubicBezTo>
                      <a:pt x="305" y="1085"/>
                      <a:pt x="538" y="1149"/>
                      <a:pt x="759" y="1133"/>
                    </a:cubicBezTo>
                    <a:cubicBezTo>
                      <a:pt x="1016" y="1153"/>
                      <a:pt x="1302" y="1078"/>
                      <a:pt x="1466" y="868"/>
                    </a:cubicBezTo>
                    <a:cubicBezTo>
                      <a:pt x="1575" y="597"/>
                      <a:pt x="1582" y="295"/>
                      <a:pt x="1594" y="6"/>
                    </a:cubicBezTo>
                    <a:cubicBezTo>
                      <a:pt x="1500" y="7"/>
                      <a:pt x="1405" y="8"/>
                      <a:pt x="1311" y="20"/>
                    </a:cubicBezTo>
                    <a:cubicBezTo>
                      <a:pt x="1319" y="186"/>
                      <a:pt x="1281" y="349"/>
                      <a:pt x="1253" y="512"/>
                    </a:cubicBezTo>
                    <a:cubicBezTo>
                      <a:pt x="1230" y="344"/>
                      <a:pt x="1236" y="175"/>
                      <a:pt x="1231" y="6"/>
                    </a:cubicBezTo>
                    <a:cubicBezTo>
                      <a:pt x="953" y="0"/>
                      <a:pt x="675" y="0"/>
                      <a:pt x="397" y="4"/>
                    </a:cubicBezTo>
                    <a:cubicBezTo>
                      <a:pt x="391" y="172"/>
                      <a:pt x="388" y="340"/>
                      <a:pt x="370" y="507"/>
                    </a:cubicBezTo>
                    <a:cubicBezTo>
                      <a:pt x="341" y="341"/>
                      <a:pt x="315" y="174"/>
                      <a:pt x="284" y="8"/>
                    </a:cubicBezTo>
                    <a:cubicBezTo>
                      <a:pt x="189" y="8"/>
                      <a:pt x="95" y="8"/>
                      <a:pt x="0" y="9"/>
                    </a:cubicBezTo>
                    <a:cubicBezTo>
                      <a:pt x="49" y="311"/>
                      <a:pt x="16" y="636"/>
                      <a:pt x="152" y="91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</p:grpSp>
      <p:grpSp>
        <p:nvGrpSpPr>
          <p:cNvPr id="593" name="组合 51"/>
          <p:cNvGrpSpPr/>
          <p:nvPr/>
        </p:nvGrpSpPr>
        <p:grpSpPr>
          <a:xfrm>
            <a:off x="1434600" y="1528200"/>
            <a:ext cx="2141280" cy="2478600"/>
            <a:chOff x="1434600" y="1528200"/>
            <a:chExt cx="2141280" cy="2478600"/>
          </a:xfrm>
        </p:grpSpPr>
        <p:sp>
          <p:nvSpPr>
            <p:cNvPr id="594" name="椭圆 52"/>
            <p:cNvSpPr/>
            <p:nvPr/>
          </p:nvSpPr>
          <p:spPr>
            <a:xfrm>
              <a:off x="1603800" y="2163600"/>
              <a:ext cx="1783800" cy="1783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595" name="矩形 53"/>
            <p:cNvSpPr/>
            <p:nvPr/>
          </p:nvSpPr>
          <p:spPr>
            <a:xfrm>
              <a:off x="1832760" y="3168720"/>
              <a:ext cx="622080" cy="6732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96" name="矩形 54"/>
            <p:cNvSpPr/>
            <p:nvPr/>
          </p:nvSpPr>
          <p:spPr>
            <a:xfrm>
              <a:off x="2618640" y="3168720"/>
              <a:ext cx="622080" cy="6732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97" name="椭圆 55"/>
            <p:cNvSpPr/>
            <p:nvPr/>
          </p:nvSpPr>
          <p:spPr>
            <a:xfrm>
              <a:off x="2041200" y="3174480"/>
              <a:ext cx="173160" cy="11808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98" name="椭圆 56"/>
            <p:cNvSpPr/>
            <p:nvPr/>
          </p:nvSpPr>
          <p:spPr>
            <a:xfrm>
              <a:off x="2806200" y="3173040"/>
              <a:ext cx="173160" cy="11808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99" name="同心圆 57"/>
            <p:cNvSpPr/>
            <p:nvPr/>
          </p:nvSpPr>
          <p:spPr>
            <a:xfrm>
              <a:off x="1575360" y="2166480"/>
              <a:ext cx="1840320" cy="1840320"/>
            </a:xfrm>
            <a:prstGeom prst="donut">
              <a:avLst>
                <a:gd name="adj" fmla="val 3806"/>
              </a:avLst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600" name="任意多边形 58"/>
            <p:cNvSpPr/>
            <p:nvPr/>
          </p:nvSpPr>
          <p:spPr>
            <a:xfrm>
              <a:off x="1434600" y="1528200"/>
              <a:ext cx="2141280" cy="165672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1656720"/>
                <a:gd name="textAreaBottom" fmla="*/ 1657080 h 1656720"/>
              </a:gdLst>
              <a:ahLst/>
              <a:rect l="textAreaLeft" t="textAreaTop" r="textAreaRight" b="textAreaBottom"/>
              <a:pathLst>
                <a:path w="2051532" h="1587287">
                  <a:moveTo>
                    <a:pt x="808911" y="351"/>
                  </a:moveTo>
                  <a:cubicBezTo>
                    <a:pt x="990198" y="7057"/>
                    <a:pt x="1214599" y="108722"/>
                    <a:pt x="1338958" y="216375"/>
                  </a:cubicBezTo>
                  <a:cubicBezTo>
                    <a:pt x="1490933" y="168997"/>
                    <a:pt x="1765935" y="292781"/>
                    <a:pt x="1853582" y="451008"/>
                  </a:cubicBezTo>
                  <a:cubicBezTo>
                    <a:pt x="1864538" y="470767"/>
                    <a:pt x="1873986" y="493197"/>
                    <a:pt x="1882003" y="517763"/>
                  </a:cubicBezTo>
                  <a:lnTo>
                    <a:pt x="1899991" y="589941"/>
                  </a:lnTo>
                  <a:lnTo>
                    <a:pt x="1934278" y="625455"/>
                  </a:lnTo>
                  <a:cubicBezTo>
                    <a:pt x="2092935" y="826185"/>
                    <a:pt x="2064937" y="1085462"/>
                    <a:pt x="1999607" y="1286192"/>
                  </a:cubicBezTo>
                  <a:cubicBezTo>
                    <a:pt x="1934278" y="1461831"/>
                    <a:pt x="1850283" y="1587287"/>
                    <a:pt x="1850283" y="1587287"/>
                  </a:cubicBezTo>
                  <a:cubicBezTo>
                    <a:pt x="1850283" y="1587287"/>
                    <a:pt x="1850283" y="1578923"/>
                    <a:pt x="1850283" y="1562196"/>
                  </a:cubicBezTo>
                  <a:cubicBezTo>
                    <a:pt x="1850283" y="1553832"/>
                    <a:pt x="1840950" y="1545468"/>
                    <a:pt x="1840950" y="1537105"/>
                  </a:cubicBezTo>
                  <a:cubicBezTo>
                    <a:pt x="1829284" y="1499468"/>
                    <a:pt x="1815869" y="1463399"/>
                    <a:pt x="1799245" y="1428768"/>
                  </a:cubicBezTo>
                  <a:lnTo>
                    <a:pt x="1774996" y="1389101"/>
                  </a:lnTo>
                  <a:lnTo>
                    <a:pt x="1765181" y="1409751"/>
                  </a:lnTo>
                  <a:cubicBezTo>
                    <a:pt x="1735480" y="1470045"/>
                    <a:pt x="1714071" y="1505503"/>
                    <a:pt x="1714071" y="1505503"/>
                  </a:cubicBezTo>
                  <a:lnTo>
                    <a:pt x="1714071" y="1477076"/>
                  </a:lnTo>
                  <a:cubicBezTo>
                    <a:pt x="1714071" y="1467902"/>
                    <a:pt x="1704824" y="1458276"/>
                    <a:pt x="1704824" y="1448800"/>
                  </a:cubicBezTo>
                  <a:cubicBezTo>
                    <a:pt x="1681002" y="1363595"/>
                    <a:pt x="1650095" y="1285535"/>
                    <a:pt x="1600266" y="1213396"/>
                  </a:cubicBezTo>
                  <a:lnTo>
                    <a:pt x="1573925" y="1183121"/>
                  </a:lnTo>
                  <a:lnTo>
                    <a:pt x="1523636" y="1152372"/>
                  </a:lnTo>
                  <a:cubicBezTo>
                    <a:pt x="1467640" y="1319647"/>
                    <a:pt x="1243653" y="1461831"/>
                    <a:pt x="1243653" y="1461831"/>
                  </a:cubicBezTo>
                  <a:cubicBezTo>
                    <a:pt x="1243653" y="1461831"/>
                    <a:pt x="1238987" y="1420012"/>
                    <a:pt x="1223821" y="1363557"/>
                  </a:cubicBezTo>
                  <a:lnTo>
                    <a:pt x="1195741" y="1280924"/>
                  </a:lnTo>
                  <a:lnTo>
                    <a:pt x="1172455" y="1302812"/>
                  </a:lnTo>
                  <a:cubicBezTo>
                    <a:pt x="1129383" y="1341060"/>
                    <a:pt x="1097326" y="1363670"/>
                    <a:pt x="1097326" y="1363670"/>
                  </a:cubicBezTo>
                  <a:cubicBezTo>
                    <a:pt x="1097326" y="1363670"/>
                    <a:pt x="1094668" y="1337063"/>
                    <a:pt x="1086841" y="1296815"/>
                  </a:cubicBezTo>
                  <a:lnTo>
                    <a:pt x="1080356" y="1267013"/>
                  </a:lnTo>
                  <a:lnTo>
                    <a:pt x="1049561" y="1304357"/>
                  </a:lnTo>
                  <a:cubicBezTo>
                    <a:pt x="948504" y="1413739"/>
                    <a:pt x="833011" y="1470195"/>
                    <a:pt x="833011" y="1470195"/>
                  </a:cubicBezTo>
                  <a:cubicBezTo>
                    <a:pt x="833011" y="1470195"/>
                    <a:pt x="828345" y="1428376"/>
                    <a:pt x="814346" y="1370875"/>
                  </a:cubicBezTo>
                  <a:lnTo>
                    <a:pt x="791180" y="1294081"/>
                  </a:lnTo>
                  <a:lnTo>
                    <a:pt x="751575" y="1325636"/>
                  </a:lnTo>
                  <a:cubicBezTo>
                    <a:pt x="709369" y="1357048"/>
                    <a:pt x="679997" y="1372996"/>
                    <a:pt x="679997" y="1372996"/>
                  </a:cubicBezTo>
                  <a:cubicBezTo>
                    <a:pt x="679997" y="1372996"/>
                    <a:pt x="677340" y="1346409"/>
                    <a:pt x="670011" y="1305688"/>
                  </a:cubicBezTo>
                  <a:lnTo>
                    <a:pt x="664046" y="1275752"/>
                  </a:lnTo>
                  <a:lnTo>
                    <a:pt x="605525" y="1338596"/>
                  </a:lnTo>
                  <a:cubicBezTo>
                    <a:pt x="462034" y="1478558"/>
                    <a:pt x="308043" y="1553832"/>
                    <a:pt x="301043" y="1553832"/>
                  </a:cubicBezTo>
                  <a:cubicBezTo>
                    <a:pt x="291711" y="1541286"/>
                    <a:pt x="259629" y="1495809"/>
                    <a:pt x="222736" y="1429421"/>
                  </a:cubicBezTo>
                  <a:lnTo>
                    <a:pt x="218353" y="1421130"/>
                  </a:lnTo>
                  <a:lnTo>
                    <a:pt x="190137" y="1439926"/>
                  </a:lnTo>
                  <a:cubicBezTo>
                    <a:pt x="160498" y="1458426"/>
                    <a:pt x="141551" y="1467902"/>
                    <a:pt x="139240" y="1467902"/>
                  </a:cubicBezTo>
                  <a:cubicBezTo>
                    <a:pt x="101045" y="1410898"/>
                    <a:pt x="-188231" y="747458"/>
                    <a:pt x="200753" y="369037"/>
                  </a:cubicBezTo>
                  <a:cubicBezTo>
                    <a:pt x="210201" y="359711"/>
                    <a:pt x="544506" y="28969"/>
                    <a:pt x="734274" y="3550"/>
                  </a:cubicBezTo>
                  <a:cubicBezTo>
                    <a:pt x="757995" y="373"/>
                    <a:pt x="783013" y="-607"/>
                    <a:pt x="808911" y="351"/>
                  </a:cubicBezTo>
                  <a:close/>
                </a:path>
              </a:pathLst>
            </a:custGeom>
            <a:solidFill>
              <a:srgbClr val="2e2e2e"/>
            </a:solidFill>
            <a:ln w="55563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601" name="文本框 59"/>
          <p:cNvSpPr/>
          <p:nvPr/>
        </p:nvSpPr>
        <p:spPr>
          <a:xfrm>
            <a:off x="5218200" y="2998800"/>
            <a:ext cx="2417040" cy="7599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僵尸综合症</a:t>
            </a:r>
            <a:r>
              <a:rPr b="0" lang="zh-CN" sz="4400" spc="-1" strike="noStrike">
                <a:solidFill>
                  <a:srgbClr val="2e2e2e"/>
                </a:solidFill>
                <a:latin typeface="微软雅黑 Light"/>
                <a:ea typeface="微软雅黑 Light"/>
              </a:rPr>
              <a:t>是一种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60"/>
          <p:cNvSpPr/>
          <p:nvPr/>
        </p:nvSpPr>
        <p:spPr>
          <a:xfrm>
            <a:off x="4190760" y="2432160"/>
            <a:ext cx="140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微软雅黑 Light"/>
                <a:ea typeface="微软雅黑 Light"/>
              </a:rPr>
              <a:t>书中认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组合 1"/>
          <p:cNvGrpSpPr/>
          <p:nvPr/>
        </p:nvGrpSpPr>
        <p:grpSpPr>
          <a:xfrm>
            <a:off x="3305160" y="2093760"/>
            <a:ext cx="5506560" cy="2670120"/>
            <a:chOff x="3305160" y="2093760"/>
            <a:chExt cx="5506560" cy="2670120"/>
          </a:xfrm>
        </p:grpSpPr>
        <p:sp>
          <p:nvSpPr>
            <p:cNvPr id="604" name="椭圆 48"/>
            <p:cNvSpPr/>
            <p:nvPr/>
          </p:nvSpPr>
          <p:spPr>
            <a:xfrm>
              <a:off x="3305160" y="2310120"/>
              <a:ext cx="2255040" cy="225504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605" name="同心圆 39"/>
            <p:cNvSpPr/>
            <p:nvPr/>
          </p:nvSpPr>
          <p:spPr>
            <a:xfrm>
              <a:off x="3355920" y="2360880"/>
              <a:ext cx="2153160" cy="2153160"/>
            </a:xfrm>
            <a:prstGeom prst="donut">
              <a:avLst>
                <a:gd name="adj" fmla="val 4680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606" name="文本框 6"/>
            <p:cNvSpPr/>
            <p:nvPr/>
          </p:nvSpPr>
          <p:spPr>
            <a:xfrm>
              <a:off x="6345720" y="2275200"/>
              <a:ext cx="18270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僵尸的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文本框 43"/>
            <p:cNvSpPr/>
            <p:nvPr/>
          </p:nvSpPr>
          <p:spPr>
            <a:xfrm>
              <a:off x="5825880" y="4170600"/>
              <a:ext cx="294264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tegrated Diagnostic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组合 50"/>
            <p:cNvGrpSpPr/>
            <p:nvPr/>
          </p:nvGrpSpPr>
          <p:grpSpPr>
            <a:xfrm>
              <a:off x="3380040" y="2093760"/>
              <a:ext cx="5431680" cy="2670120"/>
              <a:chOff x="3380040" y="2093760"/>
              <a:chExt cx="5431680" cy="2670120"/>
            </a:xfrm>
          </p:grpSpPr>
          <p:cxnSp>
            <p:nvCxnSpPr>
              <p:cNvPr id="609" name="直接连接符 45"/>
              <p:cNvCxnSpPr/>
              <p:nvPr/>
            </p:nvCxnSpPr>
            <p:spPr>
              <a:xfrm>
                <a:off x="3380040" y="2093760"/>
                <a:ext cx="5432040" cy="36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</a:ln>
            </p:spPr>
          </p:cxnSp>
          <p:cxnSp>
            <p:nvCxnSpPr>
              <p:cNvPr id="610" name="直接连接符 46"/>
              <p:cNvCxnSpPr/>
              <p:nvPr/>
            </p:nvCxnSpPr>
            <p:spPr>
              <a:xfrm>
                <a:off x="3380040" y="4763880"/>
                <a:ext cx="5432040" cy="36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</a:ln>
            </p:spPr>
          </p:cxnSp>
        </p:grpSp>
        <p:sp>
          <p:nvSpPr>
            <p:cNvPr id="611" name="文本框 49"/>
            <p:cNvSpPr/>
            <p:nvPr/>
          </p:nvSpPr>
          <p:spPr>
            <a:xfrm>
              <a:off x="6345720" y="3339360"/>
              <a:ext cx="18270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科学诊断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12" name="直接连接符 53"/>
            <p:cNvCxnSpPr/>
            <p:nvPr/>
          </p:nvCxnSpPr>
          <p:spPr>
            <a:xfrm>
              <a:off x="5695560" y="2474280"/>
              <a:ext cx="360" cy="199044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dash"/>
            </a:ln>
          </p:spPr>
        </p:cxnSp>
        <p:sp>
          <p:nvSpPr>
            <p:cNvPr id="613" name="Freeform 6"/>
            <p:cNvSpPr/>
            <p:nvPr/>
          </p:nvSpPr>
          <p:spPr>
            <a:xfrm>
              <a:off x="4044600" y="3172680"/>
              <a:ext cx="891000" cy="997200"/>
            </a:xfrm>
            <a:custGeom>
              <a:avLst/>
              <a:gdLst>
                <a:gd name="textAreaLeft" fmla="*/ 0 w 891000"/>
                <a:gd name="textAreaRight" fmla="*/ 891360 w 891000"/>
                <a:gd name="textAreaTop" fmla="*/ 0 h 997200"/>
                <a:gd name="textAreaBottom" fmla="*/ 997560 h 997200"/>
              </a:gdLst>
              <a:ahLst/>
              <a:rect l="textAreaLeft" t="textAreaTop" r="textAreaRight" b="textAreaBottom"/>
              <a:pathLst>
                <a:path w="1807" h="2029">
                  <a:moveTo>
                    <a:pt x="644" y="63"/>
                  </a:moveTo>
                  <a:cubicBezTo>
                    <a:pt x="676" y="35"/>
                    <a:pt x="716" y="20"/>
                    <a:pt x="757" y="12"/>
                  </a:cubicBezTo>
                  <a:cubicBezTo>
                    <a:pt x="830" y="0"/>
                    <a:pt x="906" y="17"/>
                    <a:pt x="968" y="57"/>
                  </a:cubicBezTo>
                  <a:cubicBezTo>
                    <a:pt x="998" y="78"/>
                    <a:pt x="1022" y="108"/>
                    <a:pt x="1056" y="124"/>
                  </a:cubicBezTo>
                  <a:cubicBezTo>
                    <a:pt x="1126" y="161"/>
                    <a:pt x="1204" y="178"/>
                    <a:pt x="1281" y="195"/>
                  </a:cubicBezTo>
                  <a:cubicBezTo>
                    <a:pt x="1334" y="206"/>
                    <a:pt x="1387" y="216"/>
                    <a:pt x="1441" y="225"/>
                  </a:cubicBezTo>
                  <a:cubicBezTo>
                    <a:pt x="1409" y="252"/>
                    <a:pt x="1372" y="271"/>
                    <a:pt x="1341" y="299"/>
                  </a:cubicBezTo>
                  <a:cubicBezTo>
                    <a:pt x="1388" y="294"/>
                    <a:pt x="1433" y="279"/>
                    <a:pt x="1479" y="270"/>
                  </a:cubicBezTo>
                  <a:cubicBezTo>
                    <a:pt x="1485" y="269"/>
                    <a:pt x="1493" y="264"/>
                    <a:pt x="1499" y="270"/>
                  </a:cubicBezTo>
                  <a:cubicBezTo>
                    <a:pt x="1515" y="286"/>
                    <a:pt x="1531" y="303"/>
                    <a:pt x="1547" y="319"/>
                  </a:cubicBezTo>
                  <a:cubicBezTo>
                    <a:pt x="1557" y="298"/>
                    <a:pt x="1555" y="274"/>
                    <a:pt x="1562" y="253"/>
                  </a:cubicBezTo>
                  <a:cubicBezTo>
                    <a:pt x="1575" y="239"/>
                    <a:pt x="1596" y="242"/>
                    <a:pt x="1613" y="242"/>
                  </a:cubicBezTo>
                  <a:cubicBezTo>
                    <a:pt x="1645" y="244"/>
                    <a:pt x="1677" y="240"/>
                    <a:pt x="1709" y="244"/>
                  </a:cubicBezTo>
                  <a:cubicBezTo>
                    <a:pt x="1738" y="248"/>
                    <a:pt x="1764" y="265"/>
                    <a:pt x="1783" y="288"/>
                  </a:cubicBezTo>
                  <a:cubicBezTo>
                    <a:pt x="1779" y="311"/>
                    <a:pt x="1770" y="333"/>
                    <a:pt x="1770" y="356"/>
                  </a:cubicBezTo>
                  <a:cubicBezTo>
                    <a:pt x="1781" y="353"/>
                    <a:pt x="1793" y="348"/>
                    <a:pt x="1804" y="344"/>
                  </a:cubicBezTo>
                  <a:cubicBezTo>
                    <a:pt x="1807" y="372"/>
                    <a:pt x="1797" y="401"/>
                    <a:pt x="1781" y="424"/>
                  </a:cubicBezTo>
                  <a:cubicBezTo>
                    <a:pt x="1761" y="448"/>
                    <a:pt x="1731" y="465"/>
                    <a:pt x="1700" y="467"/>
                  </a:cubicBezTo>
                  <a:cubicBezTo>
                    <a:pt x="1603" y="472"/>
                    <a:pt x="1506" y="465"/>
                    <a:pt x="1411" y="449"/>
                  </a:cubicBezTo>
                  <a:cubicBezTo>
                    <a:pt x="1367" y="444"/>
                    <a:pt x="1325" y="430"/>
                    <a:pt x="1281" y="423"/>
                  </a:cubicBezTo>
                  <a:cubicBezTo>
                    <a:pt x="1235" y="413"/>
                    <a:pt x="1190" y="396"/>
                    <a:pt x="1144" y="385"/>
                  </a:cubicBezTo>
                  <a:cubicBezTo>
                    <a:pt x="1151" y="402"/>
                    <a:pt x="1163" y="416"/>
                    <a:pt x="1173" y="432"/>
                  </a:cubicBezTo>
                  <a:cubicBezTo>
                    <a:pt x="1205" y="482"/>
                    <a:pt x="1239" y="535"/>
                    <a:pt x="1293" y="564"/>
                  </a:cubicBezTo>
                  <a:cubicBezTo>
                    <a:pt x="1376" y="612"/>
                    <a:pt x="1465" y="650"/>
                    <a:pt x="1555" y="686"/>
                  </a:cubicBezTo>
                  <a:cubicBezTo>
                    <a:pt x="1580" y="694"/>
                    <a:pt x="1604" y="709"/>
                    <a:pt x="1618" y="732"/>
                  </a:cubicBezTo>
                  <a:cubicBezTo>
                    <a:pt x="1635" y="755"/>
                    <a:pt x="1638" y="786"/>
                    <a:pt x="1635" y="815"/>
                  </a:cubicBezTo>
                  <a:cubicBezTo>
                    <a:pt x="1622" y="819"/>
                    <a:pt x="1608" y="822"/>
                    <a:pt x="1595" y="826"/>
                  </a:cubicBezTo>
                  <a:cubicBezTo>
                    <a:pt x="1589" y="845"/>
                    <a:pt x="1587" y="865"/>
                    <a:pt x="1582" y="885"/>
                  </a:cubicBezTo>
                  <a:cubicBezTo>
                    <a:pt x="1581" y="893"/>
                    <a:pt x="1572" y="896"/>
                    <a:pt x="1565" y="900"/>
                  </a:cubicBezTo>
                  <a:cubicBezTo>
                    <a:pt x="1541" y="909"/>
                    <a:pt x="1514" y="911"/>
                    <a:pt x="1490" y="902"/>
                  </a:cubicBezTo>
                  <a:cubicBezTo>
                    <a:pt x="1441" y="884"/>
                    <a:pt x="1393" y="864"/>
                    <a:pt x="1345" y="844"/>
                  </a:cubicBezTo>
                  <a:cubicBezTo>
                    <a:pt x="1285" y="815"/>
                    <a:pt x="1224" y="789"/>
                    <a:pt x="1168" y="752"/>
                  </a:cubicBezTo>
                  <a:cubicBezTo>
                    <a:pt x="1178" y="746"/>
                    <a:pt x="1188" y="741"/>
                    <a:pt x="1197" y="734"/>
                  </a:cubicBezTo>
                  <a:cubicBezTo>
                    <a:pt x="1176" y="723"/>
                    <a:pt x="1155" y="714"/>
                    <a:pt x="1133" y="704"/>
                  </a:cubicBezTo>
                  <a:cubicBezTo>
                    <a:pt x="1129" y="684"/>
                    <a:pt x="1125" y="663"/>
                    <a:pt x="1121" y="643"/>
                  </a:cubicBezTo>
                  <a:cubicBezTo>
                    <a:pt x="1103" y="651"/>
                    <a:pt x="1092" y="668"/>
                    <a:pt x="1077" y="680"/>
                  </a:cubicBezTo>
                  <a:cubicBezTo>
                    <a:pt x="1037" y="639"/>
                    <a:pt x="1007" y="590"/>
                    <a:pt x="974" y="544"/>
                  </a:cubicBezTo>
                  <a:cubicBezTo>
                    <a:pt x="915" y="646"/>
                    <a:pt x="859" y="749"/>
                    <a:pt x="800" y="851"/>
                  </a:cubicBezTo>
                  <a:cubicBezTo>
                    <a:pt x="799" y="856"/>
                    <a:pt x="793" y="862"/>
                    <a:pt x="799" y="865"/>
                  </a:cubicBezTo>
                  <a:cubicBezTo>
                    <a:pt x="853" y="907"/>
                    <a:pt x="909" y="945"/>
                    <a:pt x="962" y="988"/>
                  </a:cubicBezTo>
                  <a:cubicBezTo>
                    <a:pt x="963" y="1013"/>
                    <a:pt x="962" y="1038"/>
                    <a:pt x="963" y="1063"/>
                  </a:cubicBezTo>
                  <a:cubicBezTo>
                    <a:pt x="965" y="1066"/>
                    <a:pt x="965" y="1066"/>
                    <a:pt x="965" y="1066"/>
                  </a:cubicBezTo>
                  <a:cubicBezTo>
                    <a:pt x="996" y="1067"/>
                    <a:pt x="1026" y="1065"/>
                    <a:pt x="1056" y="1066"/>
                  </a:cubicBezTo>
                  <a:cubicBezTo>
                    <a:pt x="1062" y="1066"/>
                    <a:pt x="1066" y="1071"/>
                    <a:pt x="1071" y="1074"/>
                  </a:cubicBezTo>
                  <a:cubicBezTo>
                    <a:pt x="1119" y="1117"/>
                    <a:pt x="1169" y="1158"/>
                    <a:pt x="1206" y="1211"/>
                  </a:cubicBezTo>
                  <a:cubicBezTo>
                    <a:pt x="1229" y="1248"/>
                    <a:pt x="1238" y="1290"/>
                    <a:pt x="1249" y="1332"/>
                  </a:cubicBezTo>
                  <a:cubicBezTo>
                    <a:pt x="1260" y="1372"/>
                    <a:pt x="1265" y="1413"/>
                    <a:pt x="1274" y="1453"/>
                  </a:cubicBezTo>
                  <a:cubicBezTo>
                    <a:pt x="1280" y="1483"/>
                    <a:pt x="1283" y="1514"/>
                    <a:pt x="1288" y="1544"/>
                  </a:cubicBezTo>
                  <a:cubicBezTo>
                    <a:pt x="1297" y="1586"/>
                    <a:pt x="1300" y="1630"/>
                    <a:pt x="1306" y="1673"/>
                  </a:cubicBezTo>
                  <a:cubicBezTo>
                    <a:pt x="1307" y="1682"/>
                    <a:pt x="1308" y="1690"/>
                    <a:pt x="1308" y="1699"/>
                  </a:cubicBezTo>
                  <a:cubicBezTo>
                    <a:pt x="1305" y="1706"/>
                    <a:pt x="1301" y="1713"/>
                    <a:pt x="1299" y="1722"/>
                  </a:cubicBezTo>
                  <a:cubicBezTo>
                    <a:pt x="1292" y="1761"/>
                    <a:pt x="1282" y="1800"/>
                    <a:pt x="1277" y="1840"/>
                  </a:cubicBezTo>
                  <a:cubicBezTo>
                    <a:pt x="1293" y="1829"/>
                    <a:pt x="1306" y="1814"/>
                    <a:pt x="1323" y="1804"/>
                  </a:cubicBezTo>
                  <a:cubicBezTo>
                    <a:pt x="1326" y="1840"/>
                    <a:pt x="1332" y="1878"/>
                    <a:pt x="1323" y="1914"/>
                  </a:cubicBezTo>
                  <a:cubicBezTo>
                    <a:pt x="1305" y="1981"/>
                    <a:pt x="1238" y="2029"/>
                    <a:pt x="1169" y="2027"/>
                  </a:cubicBezTo>
                  <a:cubicBezTo>
                    <a:pt x="1120" y="2024"/>
                    <a:pt x="1072" y="1998"/>
                    <a:pt x="1046" y="1956"/>
                  </a:cubicBezTo>
                  <a:cubicBezTo>
                    <a:pt x="1020" y="1916"/>
                    <a:pt x="1019" y="1867"/>
                    <a:pt x="1014" y="1822"/>
                  </a:cubicBezTo>
                  <a:cubicBezTo>
                    <a:pt x="1008" y="1757"/>
                    <a:pt x="996" y="1694"/>
                    <a:pt x="989" y="1629"/>
                  </a:cubicBezTo>
                  <a:cubicBezTo>
                    <a:pt x="984" y="1581"/>
                    <a:pt x="973" y="1533"/>
                    <a:pt x="966" y="1485"/>
                  </a:cubicBezTo>
                  <a:cubicBezTo>
                    <a:pt x="960" y="1448"/>
                    <a:pt x="951" y="1413"/>
                    <a:pt x="944" y="1377"/>
                  </a:cubicBezTo>
                  <a:cubicBezTo>
                    <a:pt x="927" y="1349"/>
                    <a:pt x="889" y="1337"/>
                    <a:pt x="881" y="1304"/>
                  </a:cubicBezTo>
                  <a:cubicBezTo>
                    <a:pt x="866" y="1269"/>
                    <a:pt x="854" y="1233"/>
                    <a:pt x="837" y="1200"/>
                  </a:cubicBezTo>
                  <a:cubicBezTo>
                    <a:pt x="829" y="1221"/>
                    <a:pt x="824" y="1243"/>
                    <a:pt x="819" y="1264"/>
                  </a:cubicBezTo>
                  <a:cubicBezTo>
                    <a:pt x="811" y="1261"/>
                    <a:pt x="804" y="1256"/>
                    <a:pt x="798" y="1251"/>
                  </a:cubicBezTo>
                  <a:cubicBezTo>
                    <a:pt x="723" y="1192"/>
                    <a:pt x="646" y="1135"/>
                    <a:pt x="569" y="1080"/>
                  </a:cubicBezTo>
                  <a:cubicBezTo>
                    <a:pt x="558" y="1104"/>
                    <a:pt x="553" y="1131"/>
                    <a:pt x="544" y="1156"/>
                  </a:cubicBezTo>
                  <a:cubicBezTo>
                    <a:pt x="496" y="1308"/>
                    <a:pt x="449" y="1461"/>
                    <a:pt x="402" y="1613"/>
                  </a:cubicBezTo>
                  <a:cubicBezTo>
                    <a:pt x="373" y="1626"/>
                    <a:pt x="342" y="1633"/>
                    <a:pt x="315" y="1648"/>
                  </a:cubicBezTo>
                  <a:cubicBezTo>
                    <a:pt x="336" y="1662"/>
                    <a:pt x="358" y="1673"/>
                    <a:pt x="379" y="1687"/>
                  </a:cubicBezTo>
                  <a:cubicBezTo>
                    <a:pt x="363" y="1741"/>
                    <a:pt x="345" y="1795"/>
                    <a:pt x="329" y="1849"/>
                  </a:cubicBezTo>
                  <a:cubicBezTo>
                    <a:pt x="316" y="1886"/>
                    <a:pt x="309" y="1925"/>
                    <a:pt x="288" y="1959"/>
                  </a:cubicBezTo>
                  <a:cubicBezTo>
                    <a:pt x="261" y="2000"/>
                    <a:pt x="213" y="2026"/>
                    <a:pt x="163" y="2028"/>
                  </a:cubicBezTo>
                  <a:cubicBezTo>
                    <a:pt x="151" y="2028"/>
                    <a:pt x="151" y="2028"/>
                    <a:pt x="151" y="2028"/>
                  </a:cubicBezTo>
                  <a:cubicBezTo>
                    <a:pt x="105" y="2024"/>
                    <a:pt x="61" y="2001"/>
                    <a:pt x="34" y="1963"/>
                  </a:cubicBezTo>
                  <a:cubicBezTo>
                    <a:pt x="11" y="1929"/>
                    <a:pt x="0" y="1887"/>
                    <a:pt x="8" y="1846"/>
                  </a:cubicBezTo>
                  <a:cubicBezTo>
                    <a:pt x="13" y="1823"/>
                    <a:pt x="22" y="1801"/>
                    <a:pt x="28" y="1779"/>
                  </a:cubicBezTo>
                  <a:cubicBezTo>
                    <a:pt x="61" y="1673"/>
                    <a:pt x="93" y="1567"/>
                    <a:pt x="127" y="1461"/>
                  </a:cubicBezTo>
                  <a:cubicBezTo>
                    <a:pt x="145" y="1469"/>
                    <a:pt x="163" y="1477"/>
                    <a:pt x="181" y="1483"/>
                  </a:cubicBezTo>
                  <a:cubicBezTo>
                    <a:pt x="178" y="1460"/>
                    <a:pt x="172" y="1437"/>
                    <a:pt x="166" y="1414"/>
                  </a:cubicBezTo>
                  <a:cubicBezTo>
                    <a:pt x="186" y="1398"/>
                    <a:pt x="210" y="1387"/>
                    <a:pt x="229" y="1370"/>
                  </a:cubicBezTo>
                  <a:cubicBezTo>
                    <a:pt x="207" y="1361"/>
                    <a:pt x="185" y="1353"/>
                    <a:pt x="162" y="1345"/>
                  </a:cubicBezTo>
                  <a:cubicBezTo>
                    <a:pt x="183" y="1279"/>
                    <a:pt x="203" y="1212"/>
                    <a:pt x="225" y="1146"/>
                  </a:cubicBezTo>
                  <a:cubicBezTo>
                    <a:pt x="236" y="1152"/>
                    <a:pt x="247" y="1158"/>
                    <a:pt x="258" y="1163"/>
                  </a:cubicBezTo>
                  <a:cubicBezTo>
                    <a:pt x="281" y="1123"/>
                    <a:pt x="304" y="1084"/>
                    <a:pt x="328" y="1045"/>
                  </a:cubicBezTo>
                  <a:cubicBezTo>
                    <a:pt x="300" y="1052"/>
                    <a:pt x="275" y="1066"/>
                    <a:pt x="247" y="1072"/>
                  </a:cubicBezTo>
                  <a:cubicBezTo>
                    <a:pt x="264" y="1019"/>
                    <a:pt x="280" y="966"/>
                    <a:pt x="297" y="913"/>
                  </a:cubicBezTo>
                  <a:cubicBezTo>
                    <a:pt x="298" y="908"/>
                    <a:pt x="301" y="903"/>
                    <a:pt x="298" y="898"/>
                  </a:cubicBezTo>
                  <a:cubicBezTo>
                    <a:pt x="284" y="871"/>
                    <a:pt x="269" y="843"/>
                    <a:pt x="265" y="812"/>
                  </a:cubicBezTo>
                  <a:cubicBezTo>
                    <a:pt x="258" y="767"/>
                    <a:pt x="262" y="719"/>
                    <a:pt x="285" y="679"/>
                  </a:cubicBezTo>
                  <a:cubicBezTo>
                    <a:pt x="317" y="621"/>
                    <a:pt x="350" y="563"/>
                    <a:pt x="382" y="505"/>
                  </a:cubicBezTo>
                  <a:cubicBezTo>
                    <a:pt x="406" y="464"/>
                    <a:pt x="427" y="422"/>
                    <a:pt x="452" y="382"/>
                  </a:cubicBezTo>
                  <a:cubicBezTo>
                    <a:pt x="479" y="425"/>
                    <a:pt x="500" y="471"/>
                    <a:pt x="527" y="513"/>
                  </a:cubicBezTo>
                  <a:cubicBezTo>
                    <a:pt x="532" y="463"/>
                    <a:pt x="530" y="412"/>
                    <a:pt x="535" y="362"/>
                  </a:cubicBezTo>
                  <a:cubicBezTo>
                    <a:pt x="548" y="339"/>
                    <a:pt x="569" y="322"/>
                    <a:pt x="581" y="299"/>
                  </a:cubicBezTo>
                  <a:cubicBezTo>
                    <a:pt x="558" y="291"/>
                    <a:pt x="535" y="283"/>
                    <a:pt x="513" y="272"/>
                  </a:cubicBezTo>
                  <a:cubicBezTo>
                    <a:pt x="534" y="233"/>
                    <a:pt x="557" y="195"/>
                    <a:pt x="578" y="156"/>
                  </a:cubicBezTo>
                  <a:cubicBezTo>
                    <a:pt x="597" y="124"/>
                    <a:pt x="614" y="87"/>
                    <a:pt x="644" y="63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614" name="Freeform 5"/>
            <p:cNvSpPr/>
            <p:nvPr/>
          </p:nvSpPr>
          <p:spPr>
            <a:xfrm rot="19703400">
              <a:off x="4243320" y="2729520"/>
              <a:ext cx="446400" cy="44280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549" h="546">
                  <a:moveTo>
                    <a:pt x="263" y="0"/>
                  </a:moveTo>
                  <a:cubicBezTo>
                    <a:pt x="283" y="0"/>
                    <a:pt x="283" y="0"/>
                    <a:pt x="283" y="0"/>
                  </a:cubicBezTo>
                  <a:cubicBezTo>
                    <a:pt x="325" y="1"/>
                    <a:pt x="367" y="14"/>
                    <a:pt x="404" y="33"/>
                  </a:cubicBezTo>
                  <a:cubicBezTo>
                    <a:pt x="405" y="62"/>
                    <a:pt x="402" y="90"/>
                    <a:pt x="406" y="118"/>
                  </a:cubicBezTo>
                  <a:cubicBezTo>
                    <a:pt x="437" y="118"/>
                    <a:pt x="467" y="118"/>
                    <a:pt x="497" y="118"/>
                  </a:cubicBezTo>
                  <a:cubicBezTo>
                    <a:pt x="521" y="153"/>
                    <a:pt x="536" y="194"/>
                    <a:pt x="542" y="236"/>
                  </a:cubicBezTo>
                  <a:cubicBezTo>
                    <a:pt x="549" y="301"/>
                    <a:pt x="535" y="370"/>
                    <a:pt x="496" y="423"/>
                  </a:cubicBezTo>
                  <a:cubicBezTo>
                    <a:pt x="456" y="482"/>
                    <a:pt x="392" y="524"/>
                    <a:pt x="321" y="535"/>
                  </a:cubicBezTo>
                  <a:cubicBezTo>
                    <a:pt x="254" y="546"/>
                    <a:pt x="183" y="533"/>
                    <a:pt x="126" y="495"/>
                  </a:cubicBezTo>
                  <a:cubicBezTo>
                    <a:pt x="73" y="460"/>
                    <a:pt x="33" y="407"/>
                    <a:pt x="16" y="346"/>
                  </a:cubicBezTo>
                  <a:cubicBezTo>
                    <a:pt x="0" y="298"/>
                    <a:pt x="2" y="245"/>
                    <a:pt x="15" y="197"/>
                  </a:cubicBezTo>
                  <a:cubicBezTo>
                    <a:pt x="41" y="196"/>
                    <a:pt x="66" y="198"/>
                    <a:pt x="91" y="196"/>
                  </a:cubicBezTo>
                  <a:cubicBezTo>
                    <a:pt x="75" y="177"/>
                    <a:pt x="53" y="164"/>
                    <a:pt x="34" y="147"/>
                  </a:cubicBezTo>
                  <a:cubicBezTo>
                    <a:pt x="43" y="133"/>
                    <a:pt x="51" y="118"/>
                    <a:pt x="62" y="105"/>
                  </a:cubicBezTo>
                  <a:cubicBezTo>
                    <a:pt x="109" y="43"/>
                    <a:pt x="185" y="5"/>
                    <a:pt x="263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文本框 31"/>
          <p:cNvSpPr/>
          <p:nvPr/>
        </p:nvSpPr>
        <p:spPr>
          <a:xfrm>
            <a:off x="4354560" y="942480"/>
            <a:ext cx="3482280" cy="516240"/>
          </a:xfrm>
          <a:prstGeom prst="rect">
            <a:avLst/>
          </a:prstGeom>
          <a:noFill/>
          <a:ln w="0">
            <a:solidFill>
              <a:srgbClr val="2e2e2e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科学家们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组合 96"/>
          <p:cNvGrpSpPr/>
          <p:nvPr/>
        </p:nvGrpSpPr>
        <p:grpSpPr>
          <a:xfrm>
            <a:off x="4215600" y="1900080"/>
            <a:ext cx="3760200" cy="3130920"/>
            <a:chOff x="4215600" y="1900080"/>
            <a:chExt cx="3760200" cy="3130920"/>
          </a:xfrm>
        </p:grpSpPr>
        <p:sp>
          <p:nvSpPr>
            <p:cNvPr id="617" name="椭圆 80"/>
            <p:cNvSpPr/>
            <p:nvPr/>
          </p:nvSpPr>
          <p:spPr>
            <a:xfrm flipH="1">
              <a:off x="6391800" y="4893480"/>
              <a:ext cx="1584000" cy="13752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618" name="椭圆 79"/>
            <p:cNvSpPr/>
            <p:nvPr/>
          </p:nvSpPr>
          <p:spPr>
            <a:xfrm flipH="1">
              <a:off x="4215600" y="4893480"/>
              <a:ext cx="1584000" cy="13752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4770360" y="3832200"/>
              <a:ext cx="614880" cy="1118880"/>
            </a:xfrm>
            <a:custGeom>
              <a:avLst/>
              <a:gdLst>
                <a:gd name="textAreaLeft" fmla="*/ 0 w 614880"/>
                <a:gd name="textAreaRight" fmla="*/ 615240 w 614880"/>
                <a:gd name="textAreaTop" fmla="*/ 0 h 1118880"/>
                <a:gd name="textAreaBottom" fmla="*/ 1119240 h 1118880"/>
              </a:gdLst>
              <a:ahLst/>
              <a:rect l="textAreaLeft" t="textAreaTop" r="textAreaRight" b="textAreaBottom"/>
              <a:pathLst>
                <a:path w="222" h="405">
                  <a:moveTo>
                    <a:pt x="116" y="183"/>
                  </a:moveTo>
                  <a:cubicBezTo>
                    <a:pt x="116" y="178"/>
                    <a:pt x="116" y="74"/>
                    <a:pt x="116" y="74"/>
                  </a:cubicBezTo>
                  <a:cubicBezTo>
                    <a:pt x="116" y="46"/>
                    <a:pt x="109" y="25"/>
                    <a:pt x="96" y="13"/>
                  </a:cubicBezTo>
                  <a:cubicBezTo>
                    <a:pt x="82" y="0"/>
                    <a:pt x="66" y="1"/>
                    <a:pt x="64" y="1"/>
                  </a:cubicBezTo>
                  <a:cubicBezTo>
                    <a:pt x="45" y="1"/>
                    <a:pt x="30" y="7"/>
                    <a:pt x="19" y="18"/>
                  </a:cubicBezTo>
                  <a:cubicBezTo>
                    <a:pt x="0" y="39"/>
                    <a:pt x="2" y="69"/>
                    <a:pt x="2" y="71"/>
                  </a:cubicBezTo>
                  <a:cubicBezTo>
                    <a:pt x="2" y="209"/>
                    <a:pt x="2" y="209"/>
                    <a:pt x="2" y="209"/>
                  </a:cubicBezTo>
                  <a:cubicBezTo>
                    <a:pt x="2" y="268"/>
                    <a:pt x="60" y="268"/>
                    <a:pt x="61" y="268"/>
                  </a:cubicBezTo>
                  <a:cubicBezTo>
                    <a:pt x="61" y="268"/>
                    <a:pt x="151" y="268"/>
                    <a:pt x="155" y="268"/>
                  </a:cubicBezTo>
                  <a:cubicBezTo>
                    <a:pt x="156" y="273"/>
                    <a:pt x="177" y="405"/>
                    <a:pt x="177" y="405"/>
                  </a:cubicBezTo>
                  <a:cubicBezTo>
                    <a:pt x="222" y="405"/>
                    <a:pt x="222" y="405"/>
                    <a:pt x="222" y="405"/>
                  </a:cubicBezTo>
                  <a:cubicBezTo>
                    <a:pt x="222" y="209"/>
                    <a:pt x="222" y="209"/>
                    <a:pt x="222" y="209"/>
                  </a:cubicBezTo>
                  <a:cubicBezTo>
                    <a:pt x="222" y="209"/>
                    <a:pt x="120" y="184"/>
                    <a:pt x="116" y="183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620" name="组合 85"/>
            <p:cNvGrpSpPr/>
            <p:nvPr/>
          </p:nvGrpSpPr>
          <p:grpSpPr>
            <a:xfrm>
              <a:off x="6382800" y="3868920"/>
              <a:ext cx="1156320" cy="1082160"/>
              <a:chOff x="6382800" y="3868920"/>
              <a:chExt cx="1156320" cy="1082160"/>
            </a:xfrm>
          </p:grpSpPr>
          <p:sp>
            <p:nvSpPr>
              <p:cNvPr id="621" name="Freeform 8"/>
              <p:cNvSpPr/>
              <p:nvPr/>
            </p:nvSpPr>
            <p:spPr>
              <a:xfrm>
                <a:off x="6519240" y="3907440"/>
                <a:ext cx="1019880" cy="1043640"/>
              </a:xfrm>
              <a:custGeom>
                <a:avLst/>
                <a:gdLst>
                  <a:gd name="textAreaLeft" fmla="*/ 0 w 1019880"/>
                  <a:gd name="textAreaRight" fmla="*/ 1020240 w 1019880"/>
                  <a:gd name="textAreaTop" fmla="*/ 0 h 1043640"/>
                  <a:gd name="textAreaBottom" fmla="*/ 1044000 h 1043640"/>
                </a:gdLst>
                <a:ahLst/>
                <a:rect l="textAreaLeft" t="textAreaTop" r="textAreaRight" b="textAreaBottom"/>
                <a:pathLst>
                  <a:path w="369" h="411">
                    <a:moveTo>
                      <a:pt x="346" y="86"/>
                    </a:moveTo>
                    <a:cubicBezTo>
                      <a:pt x="345" y="82"/>
                      <a:pt x="335" y="31"/>
                      <a:pt x="300" y="11"/>
                    </a:cubicBezTo>
                    <a:cubicBezTo>
                      <a:pt x="283" y="1"/>
                      <a:pt x="264" y="0"/>
                      <a:pt x="242" y="8"/>
                    </a:cubicBezTo>
                    <a:cubicBezTo>
                      <a:pt x="242" y="8"/>
                      <a:pt x="149" y="47"/>
                      <a:pt x="141" y="50"/>
                    </a:cubicBezTo>
                    <a:cubicBezTo>
                      <a:pt x="139" y="50"/>
                      <a:pt x="49" y="46"/>
                      <a:pt x="49" y="46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144" y="106"/>
                      <a:pt x="144" y="106"/>
                      <a:pt x="144" y="106"/>
                    </a:cubicBezTo>
                    <a:cubicBezTo>
                      <a:pt x="144" y="106"/>
                      <a:pt x="219" y="85"/>
                      <a:pt x="224" y="83"/>
                    </a:cubicBezTo>
                    <a:cubicBezTo>
                      <a:pt x="225" y="85"/>
                      <a:pt x="228" y="96"/>
                      <a:pt x="232" y="110"/>
                    </a:cubicBezTo>
                    <a:cubicBezTo>
                      <a:pt x="214" y="112"/>
                      <a:pt x="192" y="118"/>
                      <a:pt x="166" y="129"/>
                    </a:cubicBezTo>
                    <a:cubicBezTo>
                      <a:pt x="159" y="132"/>
                      <a:pt x="152" y="136"/>
                      <a:pt x="145" y="139"/>
                    </a:cubicBezTo>
                    <a:cubicBezTo>
                      <a:pt x="115" y="154"/>
                      <a:pt x="83" y="169"/>
                      <a:pt x="52" y="157"/>
                    </a:cubicBezTo>
                    <a:cubicBezTo>
                      <a:pt x="9" y="140"/>
                      <a:pt x="21" y="91"/>
                      <a:pt x="21" y="89"/>
                    </a:cubicBezTo>
                    <a:cubicBezTo>
                      <a:pt x="5" y="85"/>
                      <a:pt x="5" y="85"/>
                      <a:pt x="5" y="85"/>
                    </a:cubicBezTo>
                    <a:cubicBezTo>
                      <a:pt x="0" y="107"/>
                      <a:pt x="1" y="155"/>
                      <a:pt x="46" y="172"/>
                    </a:cubicBezTo>
                    <a:cubicBezTo>
                      <a:pt x="84" y="187"/>
                      <a:pt x="120" y="169"/>
                      <a:pt x="152" y="154"/>
                    </a:cubicBezTo>
                    <a:cubicBezTo>
                      <a:pt x="160" y="150"/>
                      <a:pt x="166" y="147"/>
                      <a:pt x="173" y="144"/>
                    </a:cubicBezTo>
                    <a:cubicBezTo>
                      <a:pt x="198" y="133"/>
                      <a:pt x="220" y="128"/>
                      <a:pt x="237" y="126"/>
                    </a:cubicBezTo>
                    <a:cubicBezTo>
                      <a:pt x="245" y="154"/>
                      <a:pt x="254" y="186"/>
                      <a:pt x="254" y="189"/>
                    </a:cubicBezTo>
                    <a:cubicBezTo>
                      <a:pt x="249" y="190"/>
                      <a:pt x="149" y="215"/>
                      <a:pt x="149" y="215"/>
                    </a:cubicBezTo>
                    <a:cubicBezTo>
                      <a:pt x="149" y="411"/>
                      <a:pt x="149" y="411"/>
                      <a:pt x="149" y="411"/>
                    </a:cubicBezTo>
                    <a:cubicBezTo>
                      <a:pt x="194" y="411"/>
                      <a:pt x="194" y="411"/>
                      <a:pt x="194" y="411"/>
                    </a:cubicBezTo>
                    <a:cubicBezTo>
                      <a:pt x="194" y="411"/>
                      <a:pt x="215" y="279"/>
                      <a:pt x="216" y="274"/>
                    </a:cubicBezTo>
                    <a:cubicBezTo>
                      <a:pt x="220" y="274"/>
                      <a:pt x="310" y="274"/>
                      <a:pt x="310" y="274"/>
                    </a:cubicBezTo>
                    <a:cubicBezTo>
                      <a:pt x="311" y="274"/>
                      <a:pt x="337" y="274"/>
                      <a:pt x="354" y="257"/>
                    </a:cubicBezTo>
                    <a:cubicBezTo>
                      <a:pt x="364" y="246"/>
                      <a:pt x="369" y="232"/>
                      <a:pt x="369" y="215"/>
                    </a:cubicBezTo>
                    <a:cubicBezTo>
                      <a:pt x="369" y="215"/>
                      <a:pt x="369" y="215"/>
                      <a:pt x="369" y="215"/>
                    </a:cubicBezTo>
                    <a:cubicBezTo>
                      <a:pt x="369" y="159"/>
                      <a:pt x="346" y="88"/>
                      <a:pt x="346" y="86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622" name="Freeform 9"/>
              <p:cNvSpPr/>
              <p:nvPr/>
            </p:nvSpPr>
            <p:spPr>
              <a:xfrm>
                <a:off x="6382800" y="3868920"/>
                <a:ext cx="225720" cy="26856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1" h="53">
                    <a:moveTo>
                      <a:pt x="13" y="0"/>
                    </a:moveTo>
                    <a:lnTo>
                      <a:pt x="12" y="6"/>
                    </a:lnTo>
                    <a:lnTo>
                      <a:pt x="0" y="53"/>
                    </a:lnTo>
                    <a:lnTo>
                      <a:pt x="41" y="3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623" name="组合 40"/>
            <p:cNvGrpSpPr/>
            <p:nvPr/>
          </p:nvGrpSpPr>
          <p:grpSpPr>
            <a:xfrm>
              <a:off x="6200640" y="1986480"/>
              <a:ext cx="1758240" cy="2035440"/>
              <a:chOff x="6200640" y="1986480"/>
              <a:chExt cx="1758240" cy="2035440"/>
            </a:xfrm>
          </p:grpSpPr>
          <p:sp>
            <p:nvSpPr>
              <p:cNvPr id="624" name="椭圆 41"/>
              <p:cNvSpPr/>
              <p:nvPr/>
            </p:nvSpPr>
            <p:spPr>
              <a:xfrm>
                <a:off x="6339600" y="2508120"/>
                <a:ext cx="1464840" cy="14648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625" name="矩形 42"/>
              <p:cNvSpPr/>
              <p:nvPr/>
            </p:nvSpPr>
            <p:spPr>
              <a:xfrm>
                <a:off x="6527520" y="3333600"/>
                <a:ext cx="510840" cy="55080"/>
              </a:xfrm>
              <a:prstGeom prst="rect">
                <a:avLst/>
              </a:prstGeom>
              <a:solidFill>
                <a:srgbClr val="2e2e2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26" name="矩形 43"/>
              <p:cNvSpPr/>
              <p:nvPr/>
            </p:nvSpPr>
            <p:spPr>
              <a:xfrm>
                <a:off x="7173000" y="3333600"/>
                <a:ext cx="510840" cy="55080"/>
              </a:xfrm>
              <a:prstGeom prst="rect">
                <a:avLst/>
              </a:prstGeom>
              <a:solidFill>
                <a:srgbClr val="2e2e2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27" name="椭圆 44"/>
              <p:cNvSpPr/>
              <p:nvPr/>
            </p:nvSpPr>
            <p:spPr>
              <a:xfrm>
                <a:off x="6581880" y="3338640"/>
                <a:ext cx="141840" cy="97200"/>
              </a:xfrm>
              <a:prstGeom prst="ellipse">
                <a:avLst/>
              </a:prstGeom>
              <a:solidFill>
                <a:srgbClr val="2e2e2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28" name="椭圆 45"/>
              <p:cNvSpPr/>
              <p:nvPr/>
            </p:nvSpPr>
            <p:spPr>
              <a:xfrm>
                <a:off x="7210080" y="3337200"/>
                <a:ext cx="141840" cy="97200"/>
              </a:xfrm>
              <a:prstGeom prst="ellipse">
                <a:avLst/>
              </a:prstGeom>
              <a:solidFill>
                <a:srgbClr val="2e2e2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29" name="同心圆 46"/>
              <p:cNvSpPr/>
              <p:nvPr/>
            </p:nvSpPr>
            <p:spPr>
              <a:xfrm>
                <a:off x="6316200" y="2510640"/>
                <a:ext cx="1511280" cy="1511280"/>
              </a:xfrm>
              <a:prstGeom prst="donut">
                <a:avLst>
                  <a:gd name="adj" fmla="val 3806"/>
                </a:avLst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630" name="任意多边形 47"/>
              <p:cNvSpPr/>
              <p:nvPr/>
            </p:nvSpPr>
            <p:spPr>
              <a:xfrm>
                <a:off x="6200640" y="1986480"/>
                <a:ext cx="1758240" cy="1360440"/>
              </a:xfrm>
              <a:custGeom>
                <a:avLst/>
                <a:gdLst>
                  <a:gd name="textAreaLeft" fmla="*/ 0 w 1758240"/>
                  <a:gd name="textAreaRight" fmla="*/ 1758600 w 1758240"/>
                  <a:gd name="textAreaTop" fmla="*/ 0 h 1360440"/>
                  <a:gd name="textAreaBottom" fmla="*/ 1360800 h 1360440"/>
                </a:gdLst>
                <a:ahLst/>
                <a:rect l="textAreaLeft" t="textAreaTop" r="textAreaRight" b="textAreaBottom"/>
                <a:pathLst>
                  <a:path w="2051532" h="1587287">
                    <a:moveTo>
                      <a:pt x="808911" y="351"/>
                    </a:moveTo>
                    <a:cubicBezTo>
                      <a:pt x="990198" y="7057"/>
                      <a:pt x="1214599" y="108722"/>
                      <a:pt x="1338958" y="216375"/>
                    </a:cubicBezTo>
                    <a:cubicBezTo>
                      <a:pt x="1490933" y="168997"/>
                      <a:pt x="1765935" y="292781"/>
                      <a:pt x="1853582" y="451008"/>
                    </a:cubicBezTo>
                    <a:cubicBezTo>
                      <a:pt x="1864538" y="470767"/>
                      <a:pt x="1873986" y="493197"/>
                      <a:pt x="1882003" y="517763"/>
                    </a:cubicBezTo>
                    <a:lnTo>
                      <a:pt x="1899991" y="589941"/>
                    </a:lnTo>
                    <a:lnTo>
                      <a:pt x="1934278" y="625455"/>
                    </a:lnTo>
                    <a:cubicBezTo>
                      <a:pt x="2092935" y="826185"/>
                      <a:pt x="2064937" y="1085462"/>
                      <a:pt x="1999607" y="1286192"/>
                    </a:cubicBezTo>
                    <a:cubicBezTo>
                      <a:pt x="1934278" y="1461831"/>
                      <a:pt x="1850283" y="1587287"/>
                      <a:pt x="1850283" y="1587287"/>
                    </a:cubicBezTo>
                    <a:cubicBezTo>
                      <a:pt x="1850283" y="1587287"/>
                      <a:pt x="1850283" y="1578923"/>
                      <a:pt x="1850283" y="1562196"/>
                    </a:cubicBezTo>
                    <a:cubicBezTo>
                      <a:pt x="1850283" y="1553832"/>
                      <a:pt x="1840950" y="1545468"/>
                      <a:pt x="1840950" y="1537105"/>
                    </a:cubicBezTo>
                    <a:cubicBezTo>
                      <a:pt x="1829284" y="1499468"/>
                      <a:pt x="1815869" y="1463399"/>
                      <a:pt x="1799245" y="1428768"/>
                    </a:cubicBezTo>
                    <a:lnTo>
                      <a:pt x="1774996" y="1389101"/>
                    </a:lnTo>
                    <a:lnTo>
                      <a:pt x="1765181" y="1409751"/>
                    </a:lnTo>
                    <a:cubicBezTo>
                      <a:pt x="1735480" y="1470045"/>
                      <a:pt x="1714071" y="1505503"/>
                      <a:pt x="1714071" y="1505503"/>
                    </a:cubicBezTo>
                    <a:lnTo>
                      <a:pt x="1714071" y="1477076"/>
                    </a:lnTo>
                    <a:cubicBezTo>
                      <a:pt x="1714071" y="1467902"/>
                      <a:pt x="1704824" y="1458276"/>
                      <a:pt x="1704824" y="1448800"/>
                    </a:cubicBezTo>
                    <a:cubicBezTo>
                      <a:pt x="1681002" y="1363595"/>
                      <a:pt x="1650095" y="1285535"/>
                      <a:pt x="1600266" y="1213396"/>
                    </a:cubicBezTo>
                    <a:lnTo>
                      <a:pt x="1573925" y="1183121"/>
                    </a:lnTo>
                    <a:lnTo>
                      <a:pt x="1523636" y="1152372"/>
                    </a:lnTo>
                    <a:cubicBezTo>
                      <a:pt x="1467640" y="1319647"/>
                      <a:pt x="1243653" y="1461831"/>
                      <a:pt x="1243653" y="1461831"/>
                    </a:cubicBezTo>
                    <a:cubicBezTo>
                      <a:pt x="1243653" y="1461831"/>
                      <a:pt x="1238987" y="1420012"/>
                      <a:pt x="1223821" y="1363557"/>
                    </a:cubicBezTo>
                    <a:lnTo>
                      <a:pt x="1195741" y="1280924"/>
                    </a:lnTo>
                    <a:lnTo>
                      <a:pt x="1172455" y="1302812"/>
                    </a:lnTo>
                    <a:cubicBezTo>
                      <a:pt x="1129383" y="1341060"/>
                      <a:pt x="1097326" y="1363670"/>
                      <a:pt x="1097326" y="1363670"/>
                    </a:cubicBezTo>
                    <a:cubicBezTo>
                      <a:pt x="1097326" y="1363670"/>
                      <a:pt x="1094668" y="1337063"/>
                      <a:pt x="1086841" y="1296815"/>
                    </a:cubicBezTo>
                    <a:lnTo>
                      <a:pt x="1080356" y="1267013"/>
                    </a:lnTo>
                    <a:lnTo>
                      <a:pt x="1049561" y="1304357"/>
                    </a:lnTo>
                    <a:cubicBezTo>
                      <a:pt x="948504" y="1413739"/>
                      <a:pt x="833011" y="1470195"/>
                      <a:pt x="833011" y="1470195"/>
                    </a:cubicBezTo>
                    <a:cubicBezTo>
                      <a:pt x="833011" y="1470195"/>
                      <a:pt x="828345" y="1428376"/>
                      <a:pt x="814346" y="1370875"/>
                    </a:cubicBezTo>
                    <a:lnTo>
                      <a:pt x="791180" y="1294081"/>
                    </a:lnTo>
                    <a:lnTo>
                      <a:pt x="751575" y="1325636"/>
                    </a:lnTo>
                    <a:cubicBezTo>
                      <a:pt x="709369" y="1357048"/>
                      <a:pt x="679997" y="1372996"/>
                      <a:pt x="679997" y="1372996"/>
                    </a:cubicBezTo>
                    <a:cubicBezTo>
                      <a:pt x="679997" y="1372996"/>
                      <a:pt x="677340" y="1346409"/>
                      <a:pt x="670011" y="1305688"/>
                    </a:cubicBezTo>
                    <a:lnTo>
                      <a:pt x="664046" y="1275752"/>
                    </a:lnTo>
                    <a:lnTo>
                      <a:pt x="605525" y="1338596"/>
                    </a:lnTo>
                    <a:cubicBezTo>
                      <a:pt x="462034" y="1478558"/>
                      <a:pt x="308043" y="1553832"/>
                      <a:pt x="301043" y="1553832"/>
                    </a:cubicBezTo>
                    <a:cubicBezTo>
                      <a:pt x="291711" y="1541286"/>
                      <a:pt x="259629" y="1495809"/>
                      <a:pt x="222736" y="1429421"/>
                    </a:cubicBezTo>
                    <a:lnTo>
                      <a:pt x="218353" y="1421130"/>
                    </a:lnTo>
                    <a:lnTo>
                      <a:pt x="190137" y="1439926"/>
                    </a:lnTo>
                    <a:cubicBezTo>
                      <a:pt x="160498" y="1458426"/>
                      <a:pt x="141551" y="1467902"/>
                      <a:pt x="139240" y="1467902"/>
                    </a:cubicBezTo>
                    <a:cubicBezTo>
                      <a:pt x="101045" y="1410898"/>
                      <a:pt x="-188231" y="747458"/>
                      <a:pt x="200753" y="369037"/>
                    </a:cubicBezTo>
                    <a:cubicBezTo>
                      <a:pt x="210201" y="359711"/>
                      <a:pt x="544506" y="28969"/>
                      <a:pt x="734274" y="3550"/>
                    </a:cubicBezTo>
                    <a:cubicBezTo>
                      <a:pt x="757995" y="373"/>
                      <a:pt x="783013" y="-607"/>
                      <a:pt x="808911" y="351"/>
                    </a:cubicBezTo>
                    <a:close/>
                  </a:path>
                </a:pathLst>
              </a:custGeom>
              <a:solidFill>
                <a:srgbClr val="2e2e2e"/>
              </a:solidFill>
              <a:ln w="55563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631" name="组合 48"/>
            <p:cNvGrpSpPr/>
            <p:nvPr/>
          </p:nvGrpSpPr>
          <p:grpSpPr>
            <a:xfrm>
              <a:off x="4308480" y="1900080"/>
              <a:ext cx="1700640" cy="2072880"/>
              <a:chOff x="4308480" y="1900080"/>
              <a:chExt cx="1700640" cy="2072880"/>
            </a:xfrm>
          </p:grpSpPr>
          <p:sp>
            <p:nvSpPr>
              <p:cNvPr id="632" name="Freeform 17"/>
              <p:cNvSpPr/>
              <p:nvPr/>
            </p:nvSpPr>
            <p:spPr>
              <a:xfrm>
                <a:off x="5145120" y="1900080"/>
                <a:ext cx="864000" cy="11210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121040"/>
                  <a:gd name="textAreaBottom" fmla="*/ 1121400 h 1121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1" y="7"/>
                    </a:moveTo>
                    <a:cubicBezTo>
                      <a:pt x="0" y="6"/>
                      <a:pt x="0" y="5"/>
                      <a:pt x="0" y="4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1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5" y="1"/>
                    </a:cubicBezTo>
                    <a:cubicBezTo>
                      <a:pt x="6" y="1"/>
                      <a:pt x="7" y="2"/>
                      <a:pt x="7" y="3"/>
                    </a:cubicBezTo>
                    <a:cubicBezTo>
                      <a:pt x="7" y="4"/>
                      <a:pt x="7" y="4"/>
                      <a:pt x="8" y="4"/>
                    </a:cubicBezTo>
                    <a:cubicBezTo>
                      <a:pt x="9" y="4"/>
                      <a:pt x="10" y="5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8"/>
                      <a:pt x="12" y="9"/>
                      <a:pt x="12" y="10"/>
                    </a:cubicBezTo>
                    <a:cubicBezTo>
                      <a:pt x="12" y="12"/>
                      <a:pt x="11" y="14"/>
                      <a:pt x="9" y="12"/>
                    </a:cubicBezTo>
                    <a:cubicBezTo>
                      <a:pt x="9" y="12"/>
                      <a:pt x="9" y="11"/>
                      <a:pt x="8" y="11"/>
                    </a:cubicBezTo>
                    <a:cubicBezTo>
                      <a:pt x="8" y="11"/>
                      <a:pt x="7" y="11"/>
                      <a:pt x="7" y="11"/>
                    </a:cubicBezTo>
                    <a:cubicBezTo>
                      <a:pt x="7" y="10"/>
                      <a:pt x="7" y="10"/>
                      <a:pt x="8" y="10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8" y="9"/>
                      <a:pt x="7" y="9"/>
                      <a:pt x="7" y="8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8"/>
                    </a:cubicBez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10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5" y="10"/>
                      <a:pt x="4" y="9"/>
                    </a:cubicBezTo>
                    <a:cubicBezTo>
                      <a:pt x="4" y="9"/>
                      <a:pt x="4" y="9"/>
                      <a:pt x="4" y="8"/>
                    </a:cubicBezTo>
                    <a:cubicBezTo>
                      <a:pt x="5" y="7"/>
                      <a:pt x="5" y="6"/>
                      <a:pt x="5" y="5"/>
                    </a:cubicBezTo>
                    <a:cubicBezTo>
                      <a:pt x="4" y="5"/>
                      <a:pt x="4" y="5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4"/>
                      <a:pt x="3" y="5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5"/>
                      <a:pt x="2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4" y="7"/>
                      <a:pt x="4" y="8"/>
                    </a:cubicBezTo>
                    <a:cubicBezTo>
                      <a:pt x="3" y="8"/>
                      <a:pt x="3" y="8"/>
                      <a:pt x="4" y="9"/>
                    </a:cubicBezTo>
                    <a:cubicBezTo>
                      <a:pt x="5" y="11"/>
                      <a:pt x="3" y="13"/>
                      <a:pt x="1" y="12"/>
                    </a:cubicBezTo>
                    <a:cubicBezTo>
                      <a:pt x="0" y="11"/>
                      <a:pt x="0" y="9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633" name="Freeform 16"/>
              <p:cNvSpPr/>
              <p:nvPr/>
            </p:nvSpPr>
            <p:spPr>
              <a:xfrm>
                <a:off x="4308480" y="1919520"/>
                <a:ext cx="937080" cy="104076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1040760"/>
                  <a:gd name="textAreaBottom" fmla="*/ 1041120 h 10407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10"/>
                    </a:moveTo>
                    <a:cubicBezTo>
                      <a:pt x="8" y="10"/>
                      <a:pt x="7" y="10"/>
                      <a:pt x="7" y="9"/>
                    </a:cubicBezTo>
                    <a:cubicBezTo>
                      <a:pt x="7" y="8"/>
                      <a:pt x="7" y="8"/>
                      <a:pt x="6" y="8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7" y="5"/>
                      <a:pt x="7" y="5"/>
                      <a:pt x="7" y="6"/>
                    </a:cubicBezTo>
                    <a:cubicBezTo>
                      <a:pt x="8" y="6"/>
                      <a:pt x="8" y="6"/>
                      <a:pt x="8" y="7"/>
                    </a:cubicBezTo>
                    <a:cubicBezTo>
                      <a:pt x="9" y="7"/>
                      <a:pt x="9" y="7"/>
                      <a:pt x="9" y="6"/>
                    </a:cubicBezTo>
                    <a:cubicBezTo>
                      <a:pt x="9" y="6"/>
                      <a:pt x="9" y="6"/>
                      <a:pt x="8" y="6"/>
                    </a:cubicBezTo>
                    <a:cubicBezTo>
                      <a:pt x="8" y="5"/>
                      <a:pt x="8" y="4"/>
                      <a:pt x="8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8" y="3"/>
                      <a:pt x="7" y="4"/>
                      <a:pt x="7" y="4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5" y="5"/>
                      <a:pt x="5" y="7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10"/>
                      <a:pt x="7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4" y="11"/>
                      <a:pt x="4" y="12"/>
                    </a:cubicBezTo>
                    <a:cubicBezTo>
                      <a:pt x="3" y="13"/>
                      <a:pt x="3" y="13"/>
                      <a:pt x="2" y="13"/>
                    </a:cubicBezTo>
                    <a:cubicBezTo>
                      <a:pt x="0" y="13"/>
                      <a:pt x="0" y="12"/>
                      <a:pt x="0" y="10"/>
                    </a:cubicBezTo>
                    <a:cubicBezTo>
                      <a:pt x="0" y="9"/>
                      <a:pt x="1" y="8"/>
                      <a:pt x="2" y="7"/>
                    </a:cubicBezTo>
                    <a:cubicBezTo>
                      <a:pt x="2" y="7"/>
                      <a:pt x="2" y="7"/>
                      <a:pt x="2" y="6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3"/>
                    </a:cubicBezTo>
                    <a:cubicBezTo>
                      <a:pt x="5" y="2"/>
                      <a:pt x="6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10" y="0"/>
                      <a:pt x="13" y="2"/>
                      <a:pt x="11" y="4"/>
                    </a:cubicBezTo>
                    <a:cubicBezTo>
                      <a:pt x="11" y="5"/>
                      <a:pt x="11" y="5"/>
                      <a:pt x="11" y="6"/>
                    </a:cubicBezTo>
                    <a:cubicBezTo>
                      <a:pt x="12" y="7"/>
                      <a:pt x="12" y="10"/>
                      <a:pt x="10" y="9"/>
                    </a:cubicBezTo>
                    <a:cubicBezTo>
                      <a:pt x="9" y="9"/>
                      <a:pt x="9" y="9"/>
                      <a:pt x="8" y="10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634" name="Freeform 19"/>
              <p:cNvSpPr/>
              <p:nvPr/>
            </p:nvSpPr>
            <p:spPr>
              <a:xfrm>
                <a:off x="4741200" y="2720520"/>
                <a:ext cx="432360" cy="239760"/>
              </a:xfrm>
              <a:custGeom>
                <a:avLst/>
                <a:gdLst>
                  <a:gd name="textAreaLeft" fmla="*/ 0 w 432360"/>
                  <a:gd name="textAreaRight" fmla="*/ 432720 w 4323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4" y="2"/>
                      <a:pt x="2" y="3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635" name="任意多边形 52"/>
              <p:cNvSpPr/>
              <p:nvPr/>
            </p:nvSpPr>
            <p:spPr>
              <a:xfrm>
                <a:off x="4366440" y="2926080"/>
                <a:ext cx="1639800" cy="1046880"/>
              </a:xfrm>
              <a:custGeom>
                <a:avLst/>
                <a:gdLst>
                  <a:gd name="textAreaLeft" fmla="*/ 0 w 1639800"/>
                  <a:gd name="textAreaRight" fmla="*/ 1640160 w 163980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3713312" h="2370974">
                    <a:moveTo>
                      <a:pt x="0" y="0"/>
                    </a:moveTo>
                    <a:lnTo>
                      <a:pt x="3713312" y="0"/>
                    </a:lnTo>
                    <a:lnTo>
                      <a:pt x="3702869" y="86603"/>
                    </a:lnTo>
                    <a:cubicBezTo>
                      <a:pt x="3685788" y="188493"/>
                      <a:pt x="3660167" y="287034"/>
                      <a:pt x="3630275" y="378878"/>
                    </a:cubicBezTo>
                    <a:cubicBezTo>
                      <a:pt x="3570492" y="539606"/>
                      <a:pt x="3502169" y="677373"/>
                      <a:pt x="3448792" y="774957"/>
                    </a:cubicBezTo>
                    <a:lnTo>
                      <a:pt x="3442867" y="785466"/>
                    </a:lnTo>
                    <a:lnTo>
                      <a:pt x="3435953" y="922398"/>
                    </a:lnTo>
                    <a:cubicBezTo>
                      <a:pt x="3353322" y="1736041"/>
                      <a:pt x="2666174" y="2370974"/>
                      <a:pt x="1830729" y="2370974"/>
                    </a:cubicBezTo>
                    <a:cubicBezTo>
                      <a:pt x="939588" y="2370974"/>
                      <a:pt x="217175" y="1648561"/>
                      <a:pt x="217175" y="757421"/>
                    </a:cubicBezTo>
                    <a:lnTo>
                      <a:pt x="219301" y="701323"/>
                    </a:lnTo>
                    <a:lnTo>
                      <a:pt x="217572" y="698461"/>
                    </a:lnTo>
                    <a:cubicBezTo>
                      <a:pt x="176475" y="625519"/>
                      <a:pt x="62382" y="362363"/>
                      <a:pt x="4783" y="33206"/>
                    </a:cubicBezTo>
                    <a:close/>
                  </a:path>
                </a:pathLst>
              </a:custGeom>
              <a:solidFill>
                <a:schemeClr val="bg1"/>
              </a:solidFill>
              <a:ln w="57150">
                <a:solidFill>
                  <a:srgbClr val="2d2d2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636" name="弦形 53"/>
              <p:cNvSpPr/>
              <p:nvPr/>
            </p:nvSpPr>
            <p:spPr>
              <a:xfrm>
                <a:off x="4650120" y="2963520"/>
                <a:ext cx="584640" cy="584640"/>
              </a:xfrm>
              <a:prstGeom prst="chord">
                <a:avLst>
                  <a:gd name="adj1" fmla="val 92404"/>
                  <a:gd name="adj2" fmla="val 10691083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637" name="弦形 54"/>
              <p:cNvSpPr/>
              <p:nvPr/>
            </p:nvSpPr>
            <p:spPr>
              <a:xfrm>
                <a:off x="5270040" y="2963520"/>
                <a:ext cx="584640" cy="584640"/>
              </a:xfrm>
              <a:prstGeom prst="chord">
                <a:avLst>
                  <a:gd name="adj1" fmla="val 92404"/>
                  <a:gd name="adj2" fmla="val 10691083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grpSp>
            <p:nvGrpSpPr>
              <p:cNvPr id="638" name="组合 55"/>
              <p:cNvGrpSpPr/>
              <p:nvPr/>
            </p:nvGrpSpPr>
            <p:grpSpPr>
              <a:xfrm>
                <a:off x="4471560" y="2931120"/>
                <a:ext cx="1440360" cy="311040"/>
                <a:chOff x="4471560" y="2931120"/>
                <a:chExt cx="1440360" cy="311040"/>
              </a:xfrm>
            </p:grpSpPr>
            <p:sp>
              <p:nvSpPr>
                <p:cNvPr id="639" name="圆角矩形 66"/>
                <p:cNvSpPr/>
                <p:nvPr/>
              </p:nvSpPr>
              <p:spPr>
                <a:xfrm>
                  <a:off x="4471560" y="3055680"/>
                  <a:ext cx="1440360" cy="4356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9800" bIns="19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40" name="圆角矩形 67"/>
                <p:cNvSpPr/>
                <p:nvPr/>
              </p:nvSpPr>
              <p:spPr>
                <a:xfrm rot="5400000">
                  <a:off x="4527000" y="3052080"/>
                  <a:ext cx="151560" cy="604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41" name="圆角矩形 68"/>
                <p:cNvSpPr/>
                <p:nvPr/>
              </p:nvSpPr>
              <p:spPr>
                <a:xfrm rot="5400000">
                  <a:off x="4628520" y="3051720"/>
                  <a:ext cx="183240" cy="604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42" name="圆角矩形 69"/>
                <p:cNvSpPr/>
                <p:nvPr/>
              </p:nvSpPr>
              <p:spPr>
                <a:xfrm rot="5400000">
                  <a:off x="4755240" y="3053520"/>
                  <a:ext cx="201600" cy="604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43" name="圆角矩形 70"/>
                <p:cNvSpPr/>
                <p:nvPr/>
              </p:nvSpPr>
              <p:spPr>
                <a:xfrm rot="5400000">
                  <a:off x="4911840" y="3044520"/>
                  <a:ext cx="183240" cy="604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44" name="圆角矩形 71"/>
                <p:cNvSpPr/>
                <p:nvPr/>
              </p:nvSpPr>
              <p:spPr>
                <a:xfrm rot="5400000">
                  <a:off x="5027760" y="3063960"/>
                  <a:ext cx="295560" cy="604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45" name="圆角矩形 72"/>
                <p:cNvSpPr/>
                <p:nvPr/>
              </p:nvSpPr>
              <p:spPr>
                <a:xfrm rot="5400000">
                  <a:off x="5232600" y="3035160"/>
                  <a:ext cx="268560" cy="604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46" name="圆角矩形 73"/>
                <p:cNvSpPr/>
                <p:nvPr/>
              </p:nvSpPr>
              <p:spPr>
                <a:xfrm rot="5400000">
                  <a:off x="5439600" y="3056400"/>
                  <a:ext cx="166680" cy="550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4840" bIns="24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47" name="圆角矩形 74"/>
                <p:cNvSpPr/>
                <p:nvPr/>
              </p:nvSpPr>
              <p:spPr>
                <a:xfrm rot="5400000">
                  <a:off x="5508360" y="3063960"/>
                  <a:ext cx="244080" cy="604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48" name="圆角矩形 75"/>
                <p:cNvSpPr/>
                <p:nvPr/>
              </p:nvSpPr>
              <p:spPr>
                <a:xfrm rot="5400000">
                  <a:off x="5720760" y="3035160"/>
                  <a:ext cx="201600" cy="604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</p:grpSp>
          <p:grpSp>
            <p:nvGrpSpPr>
              <p:cNvPr id="649" name="组合 56"/>
              <p:cNvGrpSpPr/>
              <p:nvPr/>
            </p:nvGrpSpPr>
            <p:grpSpPr>
              <a:xfrm>
                <a:off x="5361840" y="3581280"/>
                <a:ext cx="302040" cy="217080"/>
                <a:chOff x="5361840" y="3581280"/>
                <a:chExt cx="302040" cy="217080"/>
              </a:xfrm>
            </p:grpSpPr>
            <p:sp>
              <p:nvSpPr>
                <p:cNvPr id="650" name="圆角矩形 62"/>
                <p:cNvSpPr/>
                <p:nvPr/>
              </p:nvSpPr>
              <p:spPr>
                <a:xfrm rot="12242400">
                  <a:off x="5353560" y="3682800"/>
                  <a:ext cx="318240" cy="284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51" name="圆角矩形 63"/>
                <p:cNvSpPr/>
                <p:nvPr/>
              </p:nvSpPr>
              <p:spPr>
                <a:xfrm rot="17643000">
                  <a:off x="5538600" y="3709080"/>
                  <a:ext cx="124200" cy="460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0880" bIns="20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52" name="圆角矩形 64"/>
                <p:cNvSpPr/>
                <p:nvPr/>
              </p:nvSpPr>
              <p:spPr>
                <a:xfrm rot="17643000">
                  <a:off x="5443920" y="3672720"/>
                  <a:ext cx="150480" cy="460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0880" bIns="20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53" name="圆角矩形 65"/>
                <p:cNvSpPr/>
                <p:nvPr/>
              </p:nvSpPr>
              <p:spPr>
                <a:xfrm rot="17643000">
                  <a:off x="5352480" y="3636360"/>
                  <a:ext cx="150480" cy="460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0880" bIns="20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</p:grpSp>
          <p:grpSp>
            <p:nvGrpSpPr>
              <p:cNvPr id="654" name="组合 57"/>
              <p:cNvGrpSpPr/>
              <p:nvPr/>
            </p:nvGrpSpPr>
            <p:grpSpPr>
              <a:xfrm>
                <a:off x="4589640" y="3527640"/>
                <a:ext cx="251640" cy="273240"/>
                <a:chOff x="4589640" y="3527640"/>
                <a:chExt cx="251640" cy="273240"/>
              </a:xfrm>
            </p:grpSpPr>
            <p:sp>
              <p:nvSpPr>
                <p:cNvPr id="655" name="圆角矩形 58"/>
                <p:cNvSpPr/>
                <p:nvPr/>
              </p:nvSpPr>
              <p:spPr>
                <a:xfrm rot="14032200">
                  <a:off x="4560480" y="3650400"/>
                  <a:ext cx="316440" cy="284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56" name="圆角矩形 59"/>
                <p:cNvSpPr/>
                <p:nvPr/>
              </p:nvSpPr>
              <p:spPr>
                <a:xfrm rot="19432200">
                  <a:off x="4715280" y="3715560"/>
                  <a:ext cx="124200" cy="457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0520" bIns="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57" name="圆角矩形 60"/>
                <p:cNvSpPr/>
                <p:nvPr/>
              </p:nvSpPr>
              <p:spPr>
                <a:xfrm rot="19432200">
                  <a:off x="4649760" y="3643920"/>
                  <a:ext cx="150480" cy="457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0520" bIns="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658" name="圆角矩形 61"/>
                <p:cNvSpPr/>
                <p:nvPr/>
              </p:nvSpPr>
              <p:spPr>
                <a:xfrm rot="19432200">
                  <a:off x="4588560" y="3567240"/>
                  <a:ext cx="150480" cy="457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0520" bIns="205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</p:grpSp>
        </p:grpSp>
        <p:grpSp>
          <p:nvGrpSpPr>
            <p:cNvPr id="659" name="组合 81"/>
            <p:cNvGrpSpPr/>
            <p:nvPr/>
          </p:nvGrpSpPr>
          <p:grpSpPr>
            <a:xfrm>
              <a:off x="4580640" y="4065840"/>
              <a:ext cx="538560" cy="876240"/>
              <a:chOff x="4580640" y="4065840"/>
              <a:chExt cx="538560" cy="876240"/>
            </a:xfrm>
          </p:grpSpPr>
          <p:sp>
            <p:nvSpPr>
              <p:cNvPr id="660" name="单圆角矩形 77"/>
              <p:cNvSpPr/>
              <p:nvPr/>
            </p:nvSpPr>
            <p:spPr>
              <a:xfrm>
                <a:off x="4580640" y="4614120"/>
                <a:ext cx="538560" cy="327960"/>
              </a:xfrm>
              <a:prstGeom prst="round1Rect">
                <a:avLst>
                  <a:gd name="adj" fmla="val 50000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661" name="矩形 78"/>
              <p:cNvSpPr/>
              <p:nvPr/>
            </p:nvSpPr>
            <p:spPr>
              <a:xfrm>
                <a:off x="4580640" y="4065840"/>
                <a:ext cx="125640" cy="87624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662" name="组合 82"/>
            <p:cNvGrpSpPr/>
            <p:nvPr/>
          </p:nvGrpSpPr>
          <p:grpSpPr>
            <a:xfrm>
              <a:off x="7159320" y="4065840"/>
              <a:ext cx="538560" cy="876240"/>
              <a:chOff x="7159320" y="4065840"/>
              <a:chExt cx="538560" cy="876240"/>
            </a:xfrm>
          </p:grpSpPr>
          <p:sp>
            <p:nvSpPr>
              <p:cNvPr id="663" name="单圆角矩形 83"/>
              <p:cNvSpPr/>
              <p:nvPr/>
            </p:nvSpPr>
            <p:spPr>
              <a:xfrm flipH="1">
                <a:off x="7159320" y="4614120"/>
                <a:ext cx="538560" cy="327960"/>
              </a:xfrm>
              <a:prstGeom prst="round1Rect">
                <a:avLst>
                  <a:gd name="adj" fmla="val 50000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664" name="矩形 84"/>
              <p:cNvSpPr/>
              <p:nvPr/>
            </p:nvSpPr>
            <p:spPr>
              <a:xfrm flipH="1">
                <a:off x="7571880" y="4065840"/>
                <a:ext cx="125640" cy="87624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</p:grpSp>
      <p:sp>
        <p:nvSpPr>
          <p:cNvPr id="665" name="等腰三角形 86"/>
          <p:cNvSpPr/>
          <p:nvPr/>
        </p:nvSpPr>
        <p:spPr>
          <a:xfrm rot="10800000">
            <a:off x="5616360" y="-11160"/>
            <a:ext cx="960120" cy="6278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66" name="文本框 87"/>
          <p:cNvSpPr/>
          <p:nvPr/>
        </p:nvSpPr>
        <p:spPr>
          <a:xfrm>
            <a:off x="5776560" y="5592240"/>
            <a:ext cx="638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僵尸其实是生了一种怪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95"/>
          <p:cNvSpPr/>
          <p:nvPr/>
        </p:nvSpPr>
        <p:spPr>
          <a:xfrm>
            <a:off x="4422240" y="6162480"/>
            <a:ext cx="334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身为怪病，必须有个很怪的名字</a:t>
            </a:r>
            <a:r>
              <a:rPr b="0" lang="en-US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组合 1"/>
          <p:cNvGrpSpPr/>
          <p:nvPr/>
        </p:nvGrpSpPr>
        <p:grpSpPr>
          <a:xfrm>
            <a:off x="0" y="3048120"/>
            <a:ext cx="12192120" cy="3809520"/>
            <a:chOff x="0" y="3048120"/>
            <a:chExt cx="12192120" cy="3809520"/>
          </a:xfrm>
        </p:grpSpPr>
        <p:sp>
          <p:nvSpPr>
            <p:cNvPr id="669" name="矩形 5"/>
            <p:cNvSpPr/>
            <p:nvPr/>
          </p:nvSpPr>
          <p:spPr>
            <a:xfrm>
              <a:off x="11721960" y="3048120"/>
              <a:ext cx="470160" cy="3809520"/>
            </a:xfrm>
            <a:prstGeom prst="rect">
              <a:avLst/>
            </a:prstGeom>
            <a:solidFill>
              <a:srgbClr val="f2f2f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670" name="矩形 6"/>
            <p:cNvSpPr/>
            <p:nvPr/>
          </p:nvSpPr>
          <p:spPr>
            <a:xfrm>
              <a:off x="0" y="3048120"/>
              <a:ext cx="470160" cy="3809520"/>
            </a:xfrm>
            <a:prstGeom prst="rect">
              <a:avLst/>
            </a:prstGeom>
            <a:solidFill>
              <a:srgbClr val="f2f2f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671" name="矩形 113"/>
          <p:cNvSpPr/>
          <p:nvPr/>
        </p:nvSpPr>
        <p:spPr>
          <a:xfrm>
            <a:off x="0" y="596880"/>
            <a:ext cx="12191760" cy="3720600"/>
          </a:xfrm>
          <a:prstGeom prst="rect">
            <a:avLst/>
          </a:prstGeom>
          <a:solidFill>
            <a:srgbClr val="54545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72" name="矩形 129"/>
          <p:cNvSpPr/>
          <p:nvPr/>
        </p:nvSpPr>
        <p:spPr>
          <a:xfrm>
            <a:off x="1544760" y="1747800"/>
            <a:ext cx="9101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5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意识缺陷活动减退障碍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30"/>
          <p:cNvSpPr/>
          <p:nvPr/>
        </p:nvSpPr>
        <p:spPr>
          <a:xfrm>
            <a:off x="175680" y="2620080"/>
            <a:ext cx="1184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sciousness Deficit Hypoactivi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2"/>
          <p:cNvSpPr/>
          <p:nvPr/>
        </p:nvSpPr>
        <p:spPr>
          <a:xfrm>
            <a:off x="4633560" y="6211800"/>
            <a:ext cx="292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说人话，就是传说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角三角形 8"/>
          <p:cNvSpPr/>
          <p:nvPr/>
        </p:nvSpPr>
        <p:spPr>
          <a:xfrm rot="10800000">
            <a:off x="360" y="4305960"/>
            <a:ext cx="461520" cy="233280"/>
          </a:xfrm>
          <a:prstGeom prst="rtTriangl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76" name="直角三角形 9"/>
          <p:cNvSpPr/>
          <p:nvPr/>
        </p:nvSpPr>
        <p:spPr>
          <a:xfrm flipH="1" rot="10800000">
            <a:off x="11730600" y="4310280"/>
            <a:ext cx="461520" cy="233280"/>
          </a:xfrm>
          <a:prstGeom prst="rtTriangl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流程图: 过程 4"/>
          <p:cNvSpPr/>
          <p:nvPr/>
        </p:nvSpPr>
        <p:spPr>
          <a:xfrm>
            <a:off x="3101040" y="3844080"/>
            <a:ext cx="5989680" cy="10548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78" name="流程图: 过程 53"/>
          <p:cNvSpPr/>
          <p:nvPr/>
        </p:nvSpPr>
        <p:spPr>
          <a:xfrm rot="5400000">
            <a:off x="2457000" y="4383720"/>
            <a:ext cx="1184760" cy="10548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79" name="流程图: 过程 54"/>
          <p:cNvSpPr/>
          <p:nvPr/>
        </p:nvSpPr>
        <p:spPr>
          <a:xfrm rot="5400000">
            <a:off x="8550360" y="4383720"/>
            <a:ext cx="1184760" cy="10548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80" name="矩形 1"/>
          <p:cNvSpPr/>
          <p:nvPr/>
        </p:nvSpPr>
        <p:spPr>
          <a:xfrm>
            <a:off x="6095880" y="5029200"/>
            <a:ext cx="6095520" cy="18284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81" name="矩形 2"/>
          <p:cNvSpPr/>
          <p:nvPr/>
        </p:nvSpPr>
        <p:spPr>
          <a:xfrm>
            <a:off x="2520" y="5029200"/>
            <a:ext cx="6093000" cy="1828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82" name="矩形 15"/>
          <p:cNvSpPr/>
          <p:nvPr/>
        </p:nvSpPr>
        <p:spPr>
          <a:xfrm>
            <a:off x="2120040" y="5577840"/>
            <a:ext cx="1857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缓慢型</a:t>
            </a:r>
            <a:r>
              <a:rPr b="0" lang="zh-CN" sz="4400" spc="-1" strike="noStrike">
                <a:solidFill>
                  <a:srgbClr val="2e2e2e"/>
                </a:solidFill>
                <a:latin typeface="微软雅黑 Light"/>
                <a:ea typeface="微软雅黑 Light"/>
              </a:rPr>
              <a:t>僵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8"/>
          <p:cNvSpPr/>
          <p:nvPr/>
        </p:nvSpPr>
        <p:spPr>
          <a:xfrm>
            <a:off x="8214840" y="5540040"/>
            <a:ext cx="1857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迅速型</a:t>
            </a:r>
            <a:r>
              <a:rPr b="0" lang="zh-CN" sz="4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僵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49"/>
          <p:cNvSpPr/>
          <p:nvPr/>
        </p:nvSpPr>
        <p:spPr>
          <a:xfrm>
            <a:off x="3947040" y="-276840"/>
            <a:ext cx="16974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99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脑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50"/>
          <p:cNvSpPr/>
          <p:nvPr/>
        </p:nvSpPr>
        <p:spPr>
          <a:xfrm>
            <a:off x="6547320" y="-276840"/>
            <a:ext cx="169740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99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残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52"/>
          <p:cNvSpPr/>
          <p:nvPr/>
        </p:nvSpPr>
        <p:spPr>
          <a:xfrm>
            <a:off x="4633560" y="-654840"/>
            <a:ext cx="292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说人话，就是传说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流程图: 过程 55"/>
          <p:cNvSpPr/>
          <p:nvPr/>
        </p:nvSpPr>
        <p:spPr>
          <a:xfrm rot="5400000">
            <a:off x="5691600" y="3492360"/>
            <a:ext cx="808920" cy="10548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88" name="文本框 12"/>
          <p:cNvSpPr/>
          <p:nvPr/>
        </p:nvSpPr>
        <p:spPr>
          <a:xfrm>
            <a:off x="5471640" y="404568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（分两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椭圆 45"/>
          <p:cNvSpPr/>
          <p:nvPr/>
        </p:nvSpPr>
        <p:spPr>
          <a:xfrm flipH="1">
            <a:off x="8255160" y="2710440"/>
            <a:ext cx="1309320" cy="137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90" name="椭圆 44"/>
          <p:cNvSpPr/>
          <p:nvPr/>
        </p:nvSpPr>
        <p:spPr>
          <a:xfrm flipH="1">
            <a:off x="2172960" y="2710440"/>
            <a:ext cx="1309320" cy="137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691" name="文本框 3"/>
          <p:cNvSpPr/>
          <p:nvPr/>
        </p:nvSpPr>
        <p:spPr>
          <a:xfrm>
            <a:off x="1893240" y="3327120"/>
            <a:ext cx="1647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代表影视作品</a:t>
            </a:r>
            <a:r>
              <a:rPr b="1" lang="en-US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4"/>
          <p:cNvSpPr/>
          <p:nvPr/>
        </p:nvSpPr>
        <p:spPr>
          <a:xfrm>
            <a:off x="8142120" y="4478760"/>
            <a:ext cx="1771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《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惊变</a:t>
            </a:r>
            <a:r>
              <a:rPr b="0" lang="en-US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28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天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5"/>
          <p:cNvSpPr/>
          <p:nvPr/>
        </p:nvSpPr>
        <p:spPr>
          <a:xfrm>
            <a:off x="8142120" y="4984200"/>
            <a:ext cx="1771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《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惊变</a:t>
            </a:r>
            <a:r>
              <a:rPr b="0" lang="en-US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28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周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6"/>
          <p:cNvSpPr/>
          <p:nvPr/>
        </p:nvSpPr>
        <p:spPr>
          <a:xfrm>
            <a:off x="8110080" y="3973680"/>
            <a:ext cx="183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《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僵尸世界大战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直接连接符 8"/>
          <p:cNvCxnSpPr/>
          <p:nvPr/>
        </p:nvCxnSpPr>
        <p:spPr>
          <a:xfrm>
            <a:off x="6095880" y="201960"/>
            <a:ext cx="360" cy="6362640"/>
          </a:xfrm>
          <a:prstGeom prst="straightConnector1">
            <a:avLst/>
          </a:prstGeom>
          <a:ln>
            <a:solidFill>
              <a:srgbClr val="2e2e2e"/>
            </a:solidFill>
            <a:prstDash val="dash"/>
          </a:ln>
        </p:spPr>
      </p:cxnSp>
      <p:grpSp>
        <p:nvGrpSpPr>
          <p:cNvPr id="696" name="组合 11"/>
          <p:cNvGrpSpPr/>
          <p:nvPr/>
        </p:nvGrpSpPr>
        <p:grpSpPr>
          <a:xfrm>
            <a:off x="2363760" y="798120"/>
            <a:ext cx="928800" cy="1992960"/>
            <a:chOff x="2363760" y="798120"/>
            <a:chExt cx="928800" cy="1992960"/>
          </a:xfrm>
        </p:grpSpPr>
        <p:sp>
          <p:nvSpPr>
            <p:cNvPr id="697" name="Freeform 23"/>
            <p:cNvSpPr/>
            <p:nvPr/>
          </p:nvSpPr>
          <p:spPr>
            <a:xfrm flipV="1">
              <a:off x="2552400" y="797760"/>
              <a:ext cx="421920" cy="30348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-360 h 303480"/>
                <a:gd name="textAreaBottom" fmla="*/ 303480 h 303480"/>
              </a:gdLst>
              <a:ahLst/>
              <a:rect l="textAreaLeft" t="textAreaTop" r="textAreaRight" b="textAreaBottom"/>
              <a:pathLst>
                <a:path w="2252" h="1625">
                  <a:moveTo>
                    <a:pt x="829" y="1594"/>
                  </a:moveTo>
                  <a:cubicBezTo>
                    <a:pt x="1011" y="1619"/>
                    <a:pt x="1199" y="1625"/>
                    <a:pt x="1381" y="1594"/>
                  </a:cubicBezTo>
                  <a:cubicBezTo>
                    <a:pt x="1663" y="1504"/>
                    <a:pt x="1959" y="1332"/>
                    <a:pt x="2067" y="1041"/>
                  </a:cubicBezTo>
                  <a:cubicBezTo>
                    <a:pt x="2248" y="755"/>
                    <a:pt x="2252" y="383"/>
                    <a:pt x="2126" y="74"/>
                  </a:cubicBezTo>
                  <a:cubicBezTo>
                    <a:pt x="1587" y="77"/>
                    <a:pt x="1047" y="73"/>
                    <a:pt x="508" y="76"/>
                  </a:cubicBezTo>
                  <a:cubicBezTo>
                    <a:pt x="373" y="78"/>
                    <a:pt x="243" y="40"/>
                    <a:pt x="117" y="0"/>
                  </a:cubicBezTo>
                  <a:cubicBezTo>
                    <a:pt x="104" y="37"/>
                    <a:pt x="90" y="73"/>
                    <a:pt x="74" y="109"/>
                  </a:cubicBezTo>
                  <a:cubicBezTo>
                    <a:pt x="4" y="375"/>
                    <a:pt x="0" y="658"/>
                    <a:pt x="80" y="921"/>
                  </a:cubicBezTo>
                  <a:cubicBezTo>
                    <a:pt x="208" y="1247"/>
                    <a:pt x="502" y="1485"/>
                    <a:pt x="829" y="159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698" name="任意多边形 13"/>
            <p:cNvSpPr/>
            <p:nvPr/>
          </p:nvSpPr>
          <p:spPr>
            <a:xfrm flipV="1">
              <a:off x="2363760" y="1096920"/>
              <a:ext cx="928800" cy="169380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-360 h 1693800"/>
                <a:gd name="textAreaBottom" fmla="*/ 1693800 h 1693800"/>
              </a:gdLst>
              <a:ahLst/>
              <a:rect l="textAreaLeft" t="textAreaTop" r="textAreaRight" b="textAreaBottom"/>
              <a:pathLst>
                <a:path w="4331715" h="7896091">
                  <a:moveTo>
                    <a:pt x="2986934" y="7893713"/>
                  </a:moveTo>
                  <a:cubicBezTo>
                    <a:pt x="3224718" y="7907927"/>
                    <a:pt x="3435648" y="7858968"/>
                    <a:pt x="3620591" y="7732623"/>
                  </a:cubicBezTo>
                  <a:cubicBezTo>
                    <a:pt x="3698986" y="7677346"/>
                    <a:pt x="3766553" y="7603907"/>
                    <a:pt x="3807267" y="7515466"/>
                  </a:cubicBezTo>
                  <a:cubicBezTo>
                    <a:pt x="3879165" y="7354375"/>
                    <a:pt x="3979649" y="7205919"/>
                    <a:pt x="4045917" y="7042459"/>
                  </a:cubicBezTo>
                  <a:cubicBezTo>
                    <a:pt x="4173688" y="6687902"/>
                    <a:pt x="4249484" y="6317551"/>
                    <a:pt x="4288032" y="5944041"/>
                  </a:cubicBezTo>
                  <a:cubicBezTo>
                    <a:pt x="4343039" y="5360482"/>
                    <a:pt x="4345637" y="4772975"/>
                    <a:pt x="4298427" y="4188626"/>
                  </a:cubicBezTo>
                  <a:cubicBezTo>
                    <a:pt x="4273739" y="3980945"/>
                    <a:pt x="4045917" y="3838017"/>
                    <a:pt x="3846681" y="3897241"/>
                  </a:cubicBezTo>
                  <a:cubicBezTo>
                    <a:pt x="3711980" y="3959625"/>
                    <a:pt x="3599368" y="4094656"/>
                    <a:pt x="3607164" y="4250220"/>
                  </a:cubicBezTo>
                  <a:cubicBezTo>
                    <a:pt x="3650477" y="5001977"/>
                    <a:pt x="3656540" y="5766368"/>
                    <a:pt x="3487623" y="6503911"/>
                  </a:cubicBezTo>
                  <a:cubicBezTo>
                    <a:pt x="3435648" y="6655526"/>
                    <a:pt x="3393635" y="6811878"/>
                    <a:pt x="3323903" y="6955597"/>
                  </a:cubicBezTo>
                  <a:cubicBezTo>
                    <a:pt x="3313941" y="4804561"/>
                    <a:pt x="3323037" y="2652736"/>
                    <a:pt x="3319138" y="500912"/>
                  </a:cubicBezTo>
                  <a:cubicBezTo>
                    <a:pt x="3309177" y="366669"/>
                    <a:pt x="3264565" y="221372"/>
                    <a:pt x="3154119" y="132140"/>
                  </a:cubicBezTo>
                  <a:cubicBezTo>
                    <a:pt x="3046705" y="37381"/>
                    <a:pt x="2897711" y="-7630"/>
                    <a:pt x="2753481" y="1057"/>
                  </a:cubicBezTo>
                  <a:cubicBezTo>
                    <a:pt x="2552946" y="21588"/>
                    <a:pt x="2381863" y="166096"/>
                    <a:pt x="2292207" y="342190"/>
                  </a:cubicBezTo>
                  <a:cubicBezTo>
                    <a:pt x="2250627" y="440108"/>
                    <a:pt x="2255824" y="549081"/>
                    <a:pt x="2256691" y="653316"/>
                  </a:cubicBezTo>
                  <a:cubicBezTo>
                    <a:pt x="2257557" y="1215554"/>
                    <a:pt x="2255824" y="1779372"/>
                    <a:pt x="2256691" y="2343189"/>
                  </a:cubicBezTo>
                  <a:cubicBezTo>
                    <a:pt x="2265786" y="2436369"/>
                    <a:pt x="2265353" y="2527970"/>
                    <a:pt x="2256691" y="2620360"/>
                  </a:cubicBezTo>
                  <a:cubicBezTo>
                    <a:pt x="2256691" y="3211816"/>
                    <a:pt x="2256691" y="3800903"/>
                    <a:pt x="2257557" y="4391569"/>
                  </a:cubicBezTo>
                  <a:lnTo>
                    <a:pt x="2082143" y="4392359"/>
                  </a:lnTo>
                  <a:cubicBezTo>
                    <a:pt x="2077811" y="3933566"/>
                    <a:pt x="2081276" y="3477142"/>
                    <a:pt x="2080410" y="3019929"/>
                  </a:cubicBezTo>
                  <a:cubicBezTo>
                    <a:pt x="2078677" y="2910166"/>
                    <a:pt x="2087340" y="2800403"/>
                    <a:pt x="2069149" y="2694588"/>
                  </a:cubicBezTo>
                  <a:cubicBezTo>
                    <a:pt x="2076079" y="2649578"/>
                    <a:pt x="2080410" y="2604567"/>
                    <a:pt x="2081276" y="2561136"/>
                  </a:cubicBezTo>
                  <a:cubicBezTo>
                    <a:pt x="2079544" y="1894662"/>
                    <a:pt x="2080410" y="1228189"/>
                    <a:pt x="2080410" y="562505"/>
                  </a:cubicBezTo>
                  <a:cubicBezTo>
                    <a:pt x="2112894" y="210317"/>
                    <a:pt x="1711390" y="-88965"/>
                    <a:pt x="1379619" y="24746"/>
                  </a:cubicBezTo>
                  <a:cubicBezTo>
                    <a:pt x="1168256" y="95026"/>
                    <a:pt x="978115" y="298759"/>
                    <a:pt x="991975" y="530129"/>
                  </a:cubicBezTo>
                  <a:cubicBezTo>
                    <a:pt x="991109" y="1432711"/>
                    <a:pt x="991975" y="2333714"/>
                    <a:pt x="991109" y="3235506"/>
                  </a:cubicBezTo>
                  <a:cubicBezTo>
                    <a:pt x="996739" y="3405283"/>
                    <a:pt x="978981" y="3576639"/>
                    <a:pt x="1003669" y="3744837"/>
                  </a:cubicBezTo>
                  <a:cubicBezTo>
                    <a:pt x="984179" y="3851441"/>
                    <a:pt x="993275" y="3959625"/>
                    <a:pt x="991109" y="4067018"/>
                  </a:cubicBezTo>
                  <a:cubicBezTo>
                    <a:pt x="991975" y="4906428"/>
                    <a:pt x="991109" y="5744257"/>
                    <a:pt x="991975" y="6583666"/>
                  </a:cubicBezTo>
                  <a:cubicBezTo>
                    <a:pt x="991109" y="6698957"/>
                    <a:pt x="998472" y="6815037"/>
                    <a:pt x="978115" y="6930327"/>
                  </a:cubicBezTo>
                  <a:cubicBezTo>
                    <a:pt x="928739" y="6711591"/>
                    <a:pt x="840816" y="6503911"/>
                    <a:pt x="806599" y="6282806"/>
                  </a:cubicBezTo>
                  <a:cubicBezTo>
                    <a:pt x="687491" y="5632126"/>
                    <a:pt x="693554" y="4968021"/>
                    <a:pt x="729936" y="4309444"/>
                  </a:cubicBezTo>
                  <a:cubicBezTo>
                    <a:pt x="731669" y="4230478"/>
                    <a:pt x="741631" y="4138088"/>
                    <a:pt x="678395" y="4078074"/>
                  </a:cubicBezTo>
                  <a:cubicBezTo>
                    <a:pt x="603032" y="3866445"/>
                    <a:pt x="289452" y="3826962"/>
                    <a:pt x="143490" y="3988052"/>
                  </a:cubicBezTo>
                  <a:cubicBezTo>
                    <a:pt x="-34091" y="4170464"/>
                    <a:pt x="51668" y="4449214"/>
                    <a:pt x="10521" y="4675847"/>
                  </a:cubicBezTo>
                  <a:cubicBezTo>
                    <a:pt x="-7237" y="4975918"/>
                    <a:pt x="-5072" y="5409441"/>
                    <a:pt x="36942" y="5788478"/>
                  </a:cubicBezTo>
                  <a:cubicBezTo>
                    <a:pt x="61954" y="6084008"/>
                    <a:pt x="104509" y="6379539"/>
                    <a:pt x="178309" y="6667074"/>
                  </a:cubicBezTo>
                  <a:lnTo>
                    <a:pt x="257848" y="6934239"/>
                  </a:lnTo>
                  <a:lnTo>
                    <a:pt x="247708" y="6924426"/>
                  </a:lnTo>
                  <a:cubicBezTo>
                    <a:pt x="272190" y="6995918"/>
                    <a:pt x="313234" y="7058739"/>
                    <a:pt x="339465" y="7129217"/>
                  </a:cubicBezTo>
                  <a:cubicBezTo>
                    <a:pt x="390178" y="7319248"/>
                    <a:pt x="511663" y="7489261"/>
                    <a:pt x="658556" y="7617394"/>
                  </a:cubicBezTo>
                  <a:cubicBezTo>
                    <a:pt x="800100" y="7709734"/>
                    <a:pt x="924979" y="7778090"/>
                    <a:pt x="1031137" y="7818217"/>
                  </a:cubicBezTo>
                  <a:cubicBezTo>
                    <a:pt x="1110755" y="7848313"/>
                    <a:pt x="1203856" y="7861649"/>
                    <a:pt x="1257234" y="7861999"/>
                  </a:cubicBezTo>
                  <a:lnTo>
                    <a:pt x="1259413" y="7861915"/>
                  </a:lnTo>
                  <a:lnTo>
                    <a:pt x="1259644" y="7862127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699" name="等腰三角形 14"/>
          <p:cNvSpPr/>
          <p:nvPr/>
        </p:nvSpPr>
        <p:spPr>
          <a:xfrm>
            <a:off x="2379600" y="2246040"/>
            <a:ext cx="257760" cy="141480"/>
          </a:xfrm>
          <a:prstGeom prst="triangle">
            <a:avLst>
              <a:gd name="adj" fmla="val 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00" name="等腰三角形 15"/>
          <p:cNvSpPr/>
          <p:nvPr/>
        </p:nvSpPr>
        <p:spPr>
          <a:xfrm>
            <a:off x="3000600" y="2093400"/>
            <a:ext cx="291960" cy="160200"/>
          </a:xfrm>
          <a:prstGeom prst="triangle">
            <a:avLst>
              <a:gd name="adj" fmla="val 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01" name="等腰三角形 16"/>
          <p:cNvSpPr/>
          <p:nvPr/>
        </p:nvSpPr>
        <p:spPr>
          <a:xfrm rot="1875600">
            <a:off x="2542680" y="1545840"/>
            <a:ext cx="132480" cy="101520"/>
          </a:xfrm>
          <a:prstGeom prst="triangle">
            <a:avLst>
              <a:gd name="adj" fmla="val 3036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02" name="等腰三角形 17"/>
          <p:cNvSpPr/>
          <p:nvPr/>
        </p:nvSpPr>
        <p:spPr>
          <a:xfrm>
            <a:off x="3262680" y="1599840"/>
            <a:ext cx="205920" cy="193680"/>
          </a:xfrm>
          <a:prstGeom prst="triangle">
            <a:avLst>
              <a:gd name="adj" fmla="val 4432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03" name="等腰三角形 18"/>
          <p:cNvSpPr/>
          <p:nvPr/>
        </p:nvSpPr>
        <p:spPr>
          <a:xfrm rot="1875600">
            <a:off x="2331000" y="662040"/>
            <a:ext cx="113040" cy="105480"/>
          </a:xfrm>
          <a:prstGeom prst="triangle">
            <a:avLst>
              <a:gd name="adj" fmla="val 3036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920" bIns="7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04" name="文本框 20"/>
          <p:cNvSpPr/>
          <p:nvPr/>
        </p:nvSpPr>
        <p:spPr>
          <a:xfrm>
            <a:off x="1879920" y="3973680"/>
            <a:ext cx="1622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《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活死人之夜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21"/>
          <p:cNvSpPr/>
          <p:nvPr/>
        </p:nvSpPr>
        <p:spPr>
          <a:xfrm>
            <a:off x="1986480" y="4478760"/>
            <a:ext cx="140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《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行尸走肉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2"/>
          <p:cNvSpPr/>
          <p:nvPr/>
        </p:nvSpPr>
        <p:spPr>
          <a:xfrm>
            <a:off x="1986840" y="4984200"/>
            <a:ext cx="140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《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僵尸肖恩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41"/>
          <p:cNvGrpSpPr/>
          <p:nvPr/>
        </p:nvGrpSpPr>
        <p:grpSpPr>
          <a:xfrm>
            <a:off x="8330760" y="763560"/>
            <a:ext cx="1795320" cy="2084400"/>
            <a:chOff x="8330760" y="763560"/>
            <a:chExt cx="1795320" cy="2084400"/>
          </a:xfrm>
        </p:grpSpPr>
        <p:sp>
          <p:nvSpPr>
            <p:cNvPr id="708" name="Freeform 39"/>
            <p:cNvSpPr/>
            <p:nvPr/>
          </p:nvSpPr>
          <p:spPr>
            <a:xfrm flipV="1" rot="21369000">
              <a:off x="9165960" y="779400"/>
              <a:ext cx="492480" cy="501480"/>
            </a:xfrm>
            <a:custGeom>
              <a:avLst/>
              <a:gdLst>
                <a:gd name="textAreaLeft" fmla="*/ 0 w 492480"/>
                <a:gd name="textAreaRight" fmla="*/ 492840 w 492480"/>
                <a:gd name="textAreaTop" fmla="*/ -360 h 501480"/>
                <a:gd name="textAreaBottom" fmla="*/ 501480 h 501480"/>
              </a:gdLst>
              <a:ahLst/>
              <a:rect l="textAreaLeft" t="textAreaTop" r="textAreaRight" b="textAreaBottom"/>
              <a:pathLst>
                <a:path w="1737" h="1770">
                  <a:moveTo>
                    <a:pt x="738" y="1694"/>
                  </a:moveTo>
                  <a:cubicBezTo>
                    <a:pt x="1201" y="1770"/>
                    <a:pt x="1659" y="1389"/>
                    <a:pt x="1697" y="928"/>
                  </a:cubicBezTo>
                  <a:cubicBezTo>
                    <a:pt x="1737" y="572"/>
                    <a:pt x="1503" y="215"/>
                    <a:pt x="1178" y="77"/>
                  </a:cubicBezTo>
                  <a:cubicBezTo>
                    <a:pt x="1027" y="0"/>
                    <a:pt x="851" y="30"/>
                    <a:pt x="689" y="32"/>
                  </a:cubicBezTo>
                  <a:cubicBezTo>
                    <a:pt x="433" y="77"/>
                    <a:pt x="208" y="256"/>
                    <a:pt x="97" y="489"/>
                  </a:cubicBezTo>
                  <a:cubicBezTo>
                    <a:pt x="0" y="664"/>
                    <a:pt x="33" y="873"/>
                    <a:pt x="39" y="1064"/>
                  </a:cubicBezTo>
                  <a:cubicBezTo>
                    <a:pt x="110" y="1395"/>
                    <a:pt x="414" y="1635"/>
                    <a:pt x="738" y="1694"/>
                  </a:cubicBezTo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09" name="Freeform 40"/>
            <p:cNvSpPr/>
            <p:nvPr/>
          </p:nvSpPr>
          <p:spPr>
            <a:xfrm flipV="1" rot="21369000">
              <a:off x="8384040" y="1143720"/>
              <a:ext cx="1688400" cy="164916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-360 h 1649160"/>
                <a:gd name="textAreaBottom" fmla="*/ 1649160 h 1649160"/>
              </a:gdLst>
              <a:ahLst/>
              <a:rect l="textAreaLeft" t="textAreaTop" r="textAreaRight" b="textAreaBottom"/>
              <a:pathLst>
                <a:path w="7265" h="7092">
                  <a:moveTo>
                    <a:pt x="2802" y="6853"/>
                  </a:moveTo>
                  <a:cubicBezTo>
                    <a:pt x="2851" y="7005"/>
                    <a:pt x="3023" y="7092"/>
                    <a:pt x="3175" y="7089"/>
                  </a:cubicBezTo>
                  <a:cubicBezTo>
                    <a:pt x="3773" y="6932"/>
                    <a:pt x="4367" y="6756"/>
                    <a:pt x="4963" y="6590"/>
                  </a:cubicBezTo>
                  <a:cubicBezTo>
                    <a:pt x="5229" y="6490"/>
                    <a:pt x="5402" y="6243"/>
                    <a:pt x="5503" y="5988"/>
                  </a:cubicBezTo>
                  <a:cubicBezTo>
                    <a:pt x="5614" y="5698"/>
                    <a:pt x="5739" y="5415"/>
                    <a:pt x="5849" y="5125"/>
                  </a:cubicBezTo>
                  <a:cubicBezTo>
                    <a:pt x="6089" y="5269"/>
                    <a:pt x="6278" y="5480"/>
                    <a:pt x="6497" y="5650"/>
                  </a:cubicBezTo>
                  <a:cubicBezTo>
                    <a:pt x="6630" y="5748"/>
                    <a:pt x="6753" y="5921"/>
                    <a:pt x="6939" y="5887"/>
                  </a:cubicBezTo>
                  <a:cubicBezTo>
                    <a:pt x="7133" y="5832"/>
                    <a:pt x="7265" y="5623"/>
                    <a:pt x="7215" y="5424"/>
                  </a:cubicBezTo>
                  <a:cubicBezTo>
                    <a:pt x="7096" y="5283"/>
                    <a:pt x="6946" y="5175"/>
                    <a:pt x="6809" y="5054"/>
                  </a:cubicBezTo>
                  <a:cubicBezTo>
                    <a:pt x="6510" y="4802"/>
                    <a:pt x="6214" y="4546"/>
                    <a:pt x="5916" y="4294"/>
                  </a:cubicBezTo>
                  <a:cubicBezTo>
                    <a:pt x="5783" y="4161"/>
                    <a:pt x="5517" y="4215"/>
                    <a:pt x="5451" y="4394"/>
                  </a:cubicBezTo>
                  <a:cubicBezTo>
                    <a:pt x="5370" y="4606"/>
                    <a:pt x="5304" y="4824"/>
                    <a:pt x="5200" y="5026"/>
                  </a:cubicBezTo>
                  <a:cubicBezTo>
                    <a:pt x="5041" y="4648"/>
                    <a:pt x="4858" y="4281"/>
                    <a:pt x="4692" y="3906"/>
                  </a:cubicBezTo>
                  <a:cubicBezTo>
                    <a:pt x="4601" y="3718"/>
                    <a:pt x="4529" y="3515"/>
                    <a:pt x="4385" y="3359"/>
                  </a:cubicBezTo>
                  <a:cubicBezTo>
                    <a:pt x="4605" y="3124"/>
                    <a:pt x="4875" y="2940"/>
                    <a:pt x="5113" y="2723"/>
                  </a:cubicBezTo>
                  <a:cubicBezTo>
                    <a:pt x="5254" y="2585"/>
                    <a:pt x="5456" y="2491"/>
                    <a:pt x="5519" y="2290"/>
                  </a:cubicBezTo>
                  <a:cubicBezTo>
                    <a:pt x="5538" y="2149"/>
                    <a:pt x="5553" y="1984"/>
                    <a:pt x="5455" y="1867"/>
                  </a:cubicBezTo>
                  <a:cubicBezTo>
                    <a:pt x="5366" y="1743"/>
                    <a:pt x="5258" y="1636"/>
                    <a:pt x="5154" y="1526"/>
                  </a:cubicBezTo>
                  <a:cubicBezTo>
                    <a:pt x="4781" y="1091"/>
                    <a:pt x="4393" y="669"/>
                    <a:pt x="4015" y="238"/>
                  </a:cubicBezTo>
                  <a:cubicBezTo>
                    <a:pt x="3918" y="126"/>
                    <a:pt x="3792" y="8"/>
                    <a:pt x="3633" y="17"/>
                  </a:cubicBezTo>
                  <a:cubicBezTo>
                    <a:pt x="3407" y="0"/>
                    <a:pt x="3173" y="200"/>
                    <a:pt x="3186" y="434"/>
                  </a:cubicBezTo>
                  <a:cubicBezTo>
                    <a:pt x="3181" y="539"/>
                    <a:pt x="3184" y="652"/>
                    <a:pt x="3262" y="732"/>
                  </a:cubicBezTo>
                  <a:cubicBezTo>
                    <a:pt x="3556" y="1075"/>
                    <a:pt x="3861" y="1407"/>
                    <a:pt x="4157" y="1748"/>
                  </a:cubicBezTo>
                  <a:cubicBezTo>
                    <a:pt x="4250" y="1867"/>
                    <a:pt x="4371" y="1962"/>
                    <a:pt x="4449" y="2093"/>
                  </a:cubicBezTo>
                  <a:cubicBezTo>
                    <a:pt x="4179" y="2356"/>
                    <a:pt x="3881" y="2588"/>
                    <a:pt x="3597" y="2835"/>
                  </a:cubicBezTo>
                  <a:cubicBezTo>
                    <a:pt x="3518" y="2905"/>
                    <a:pt x="3453" y="3009"/>
                    <a:pt x="3336" y="3008"/>
                  </a:cubicBezTo>
                  <a:cubicBezTo>
                    <a:pt x="3162" y="2693"/>
                    <a:pt x="2973" y="2386"/>
                    <a:pt x="2788" y="2077"/>
                  </a:cubicBezTo>
                  <a:cubicBezTo>
                    <a:pt x="2699" y="1948"/>
                    <a:pt x="2617" y="1784"/>
                    <a:pt x="2454" y="1740"/>
                  </a:cubicBezTo>
                  <a:cubicBezTo>
                    <a:pt x="1797" y="1515"/>
                    <a:pt x="1141" y="1289"/>
                    <a:pt x="487" y="1056"/>
                  </a:cubicBezTo>
                  <a:cubicBezTo>
                    <a:pt x="314" y="1079"/>
                    <a:pt x="146" y="1176"/>
                    <a:pt x="71" y="1341"/>
                  </a:cubicBezTo>
                  <a:cubicBezTo>
                    <a:pt x="0" y="1542"/>
                    <a:pt x="68" y="1838"/>
                    <a:pt x="298" y="1900"/>
                  </a:cubicBezTo>
                  <a:cubicBezTo>
                    <a:pt x="669" y="2021"/>
                    <a:pt x="1038" y="2153"/>
                    <a:pt x="1410" y="2272"/>
                  </a:cubicBezTo>
                  <a:cubicBezTo>
                    <a:pt x="1585" y="2325"/>
                    <a:pt x="1759" y="2383"/>
                    <a:pt x="1929" y="2449"/>
                  </a:cubicBezTo>
                  <a:cubicBezTo>
                    <a:pt x="1985" y="2467"/>
                    <a:pt x="2007" y="2527"/>
                    <a:pt x="2038" y="2571"/>
                  </a:cubicBezTo>
                  <a:cubicBezTo>
                    <a:pt x="2350" y="3104"/>
                    <a:pt x="2678" y="3628"/>
                    <a:pt x="2986" y="4164"/>
                  </a:cubicBezTo>
                  <a:cubicBezTo>
                    <a:pt x="3243" y="4718"/>
                    <a:pt x="3494" y="5275"/>
                    <a:pt x="3754" y="5828"/>
                  </a:cubicBezTo>
                  <a:cubicBezTo>
                    <a:pt x="3815" y="5971"/>
                    <a:pt x="3911" y="6106"/>
                    <a:pt x="3910" y="6267"/>
                  </a:cubicBezTo>
                  <a:cubicBezTo>
                    <a:pt x="3691" y="6296"/>
                    <a:pt x="3491" y="6403"/>
                    <a:pt x="3270" y="6418"/>
                  </a:cubicBezTo>
                  <a:cubicBezTo>
                    <a:pt x="3204" y="6173"/>
                    <a:pt x="3085" y="5948"/>
                    <a:pt x="3004" y="5709"/>
                  </a:cubicBezTo>
                  <a:cubicBezTo>
                    <a:pt x="2937" y="5537"/>
                    <a:pt x="2874" y="5364"/>
                    <a:pt x="2800" y="5195"/>
                  </a:cubicBezTo>
                  <a:cubicBezTo>
                    <a:pt x="2716" y="5005"/>
                    <a:pt x="2431" y="4983"/>
                    <a:pt x="2306" y="5143"/>
                  </a:cubicBezTo>
                  <a:cubicBezTo>
                    <a:pt x="2215" y="5221"/>
                    <a:pt x="2218" y="5352"/>
                    <a:pt x="2252" y="5457"/>
                  </a:cubicBezTo>
                  <a:cubicBezTo>
                    <a:pt x="2447" y="5918"/>
                    <a:pt x="2613" y="6390"/>
                    <a:pt x="2802" y="6853"/>
                  </a:cubicBezTo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cxnSp>
        <p:nvCxnSpPr>
          <p:cNvPr id="710" name="直接连接符 25"/>
          <p:cNvCxnSpPr/>
          <p:nvPr/>
        </p:nvCxnSpPr>
        <p:spPr>
          <a:xfrm>
            <a:off x="8360640" y="987840"/>
            <a:ext cx="614880" cy="3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cxnSp>
        <p:nvCxnSpPr>
          <p:cNvPr id="711" name="直接连接符 26"/>
          <p:cNvCxnSpPr/>
          <p:nvPr/>
        </p:nvCxnSpPr>
        <p:spPr>
          <a:xfrm>
            <a:off x="8496360" y="1199160"/>
            <a:ext cx="381960" cy="3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cxnSp>
        <p:nvCxnSpPr>
          <p:cNvPr id="712" name="直接连接符 27"/>
          <p:cNvCxnSpPr/>
          <p:nvPr/>
        </p:nvCxnSpPr>
        <p:spPr>
          <a:xfrm>
            <a:off x="8108280" y="1964520"/>
            <a:ext cx="614520" cy="3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cxnSp>
        <p:nvCxnSpPr>
          <p:cNvPr id="713" name="直接连接符 28"/>
          <p:cNvCxnSpPr/>
          <p:nvPr/>
        </p:nvCxnSpPr>
        <p:spPr>
          <a:xfrm>
            <a:off x="8108280" y="1703520"/>
            <a:ext cx="802440" cy="3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grpSp>
        <p:nvGrpSpPr>
          <p:cNvPr id="714" name="组合 29"/>
          <p:cNvGrpSpPr/>
          <p:nvPr/>
        </p:nvGrpSpPr>
        <p:grpSpPr>
          <a:xfrm>
            <a:off x="8626680" y="676800"/>
            <a:ext cx="1188000" cy="1963080"/>
            <a:chOff x="8626680" y="676800"/>
            <a:chExt cx="1188000" cy="1963080"/>
          </a:xfrm>
        </p:grpSpPr>
        <p:sp>
          <p:nvSpPr>
            <p:cNvPr id="715" name="等腰三角形 30"/>
            <p:cNvSpPr/>
            <p:nvPr/>
          </p:nvSpPr>
          <p:spPr>
            <a:xfrm rot="976800">
              <a:off x="9622440" y="1314720"/>
              <a:ext cx="172080" cy="16560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16" name="等腰三角形 31"/>
            <p:cNvSpPr/>
            <p:nvPr/>
          </p:nvSpPr>
          <p:spPr>
            <a:xfrm rot="976800">
              <a:off x="9308880" y="697320"/>
              <a:ext cx="172080" cy="16560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17" name="等腰三角形 32"/>
            <p:cNvSpPr/>
            <p:nvPr/>
          </p:nvSpPr>
          <p:spPr>
            <a:xfrm rot="976800">
              <a:off x="8646120" y="2453040"/>
              <a:ext cx="172080" cy="16560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18" name="等腰三角形 33"/>
            <p:cNvSpPr/>
            <p:nvPr/>
          </p:nvSpPr>
          <p:spPr>
            <a:xfrm rot="976800">
              <a:off x="9109800" y="2425320"/>
              <a:ext cx="172080" cy="16560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19" name="等腰三角形 34"/>
            <p:cNvSpPr/>
            <p:nvPr/>
          </p:nvSpPr>
          <p:spPr>
            <a:xfrm rot="2853000">
              <a:off x="8988840" y="1686960"/>
              <a:ext cx="88200" cy="118800"/>
            </a:xfrm>
            <a:prstGeom prst="triangle">
              <a:avLst>
                <a:gd name="adj" fmla="val 30366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20" name="等腰三角形 35"/>
            <p:cNvSpPr/>
            <p:nvPr/>
          </p:nvSpPr>
          <p:spPr>
            <a:xfrm rot="976800">
              <a:off x="9498960" y="1932840"/>
              <a:ext cx="137520" cy="226800"/>
            </a:xfrm>
            <a:prstGeom prst="triangle">
              <a:avLst>
                <a:gd name="adj" fmla="val 4432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21" name="等腰三角形 36"/>
            <p:cNvSpPr/>
            <p:nvPr/>
          </p:nvSpPr>
          <p:spPr>
            <a:xfrm rot="2853000">
              <a:off x="8886600" y="1305720"/>
              <a:ext cx="121320" cy="123480"/>
            </a:xfrm>
            <a:prstGeom prst="triangle">
              <a:avLst>
                <a:gd name="adj" fmla="val 30366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22" name="等腰三角形 37"/>
            <p:cNvSpPr/>
            <p:nvPr/>
          </p:nvSpPr>
          <p:spPr>
            <a:xfrm rot="976800">
              <a:off x="8964360" y="1713240"/>
              <a:ext cx="137520" cy="226800"/>
            </a:xfrm>
            <a:prstGeom prst="triangle">
              <a:avLst>
                <a:gd name="adj" fmla="val 4432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23" name="等腰三角形 38"/>
            <p:cNvSpPr/>
            <p:nvPr/>
          </p:nvSpPr>
          <p:spPr>
            <a:xfrm rot="976800">
              <a:off x="9450000" y="1717200"/>
              <a:ext cx="137520" cy="22680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724" name="等腰三角形 41"/>
          <p:cNvSpPr/>
          <p:nvPr/>
        </p:nvSpPr>
        <p:spPr>
          <a:xfrm>
            <a:off x="2871360" y="756000"/>
            <a:ext cx="291960" cy="160200"/>
          </a:xfrm>
          <a:prstGeom prst="triangle">
            <a:avLst>
              <a:gd name="adj" fmla="val 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25" name="等腰三角形 42"/>
          <p:cNvSpPr/>
          <p:nvPr/>
        </p:nvSpPr>
        <p:spPr>
          <a:xfrm>
            <a:off x="2319120" y="1089000"/>
            <a:ext cx="291960" cy="160200"/>
          </a:xfrm>
          <a:prstGeom prst="triangle">
            <a:avLst>
              <a:gd name="adj" fmla="val 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26" name="等腰三角形 43"/>
          <p:cNvSpPr/>
          <p:nvPr/>
        </p:nvSpPr>
        <p:spPr>
          <a:xfrm rot="3547200">
            <a:off x="3043440" y="2565360"/>
            <a:ext cx="176760" cy="96840"/>
          </a:xfrm>
          <a:prstGeom prst="triangle">
            <a:avLst>
              <a:gd name="adj" fmla="val 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27" name="文本框 46"/>
          <p:cNvSpPr/>
          <p:nvPr/>
        </p:nvSpPr>
        <p:spPr>
          <a:xfrm>
            <a:off x="8229960" y="3327120"/>
            <a:ext cx="1647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代表影视作品</a:t>
            </a:r>
            <a:r>
              <a:rPr b="1" lang="en-US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7"/>
          <p:cNvSpPr/>
          <p:nvPr/>
        </p:nvSpPr>
        <p:spPr>
          <a:xfrm>
            <a:off x="1986840" y="5489280"/>
            <a:ext cx="140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《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生化危机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8"/>
          <p:cNvSpPr/>
          <p:nvPr/>
        </p:nvSpPr>
        <p:spPr>
          <a:xfrm>
            <a:off x="8323560" y="5489280"/>
            <a:ext cx="140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《</a:t>
            </a: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死亡录像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49"/>
          <p:cNvSpPr/>
          <p:nvPr/>
        </p:nvSpPr>
        <p:spPr>
          <a:xfrm>
            <a:off x="8658000" y="5893560"/>
            <a:ext cx="740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50"/>
          <p:cNvSpPr/>
          <p:nvPr/>
        </p:nvSpPr>
        <p:spPr>
          <a:xfrm>
            <a:off x="2320920" y="5893560"/>
            <a:ext cx="740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矩形 7"/>
          <p:cNvSpPr/>
          <p:nvPr/>
        </p:nvSpPr>
        <p:spPr>
          <a:xfrm>
            <a:off x="0" y="1403640"/>
            <a:ext cx="12191760" cy="546192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33" name="梯形 53"/>
          <p:cNvSpPr/>
          <p:nvPr/>
        </p:nvSpPr>
        <p:spPr>
          <a:xfrm>
            <a:off x="0" y="498960"/>
            <a:ext cx="12191760" cy="904320"/>
          </a:xfrm>
          <a:prstGeom prst="trapezoid">
            <a:avLst>
              <a:gd name="adj" fmla="val 47678"/>
            </a:avLst>
          </a:prstGeom>
          <a:solidFill>
            <a:srgbClr val="7f7f7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34" name="Freeform 5"/>
          <p:cNvSpPr/>
          <p:nvPr/>
        </p:nvSpPr>
        <p:spPr>
          <a:xfrm>
            <a:off x="3461040" y="3935520"/>
            <a:ext cx="5270040" cy="11436840"/>
          </a:xfrm>
          <a:custGeom>
            <a:avLst/>
            <a:gdLst>
              <a:gd name="textAreaLeft" fmla="*/ 0 w 5270040"/>
              <a:gd name="textAreaRight" fmla="*/ 5270400 w 5270040"/>
              <a:gd name="textAreaTop" fmla="*/ 0 h 11436840"/>
              <a:gd name="textAreaBottom" fmla="*/ 11437200 h 11436840"/>
            </a:gdLst>
            <a:ahLst/>
            <a:rect l="textAreaLeft" t="textAreaTop" r="textAreaRight" b="textAreaBottom"/>
            <a:pathLst>
              <a:path w="373" h="817">
                <a:moveTo>
                  <a:pt x="371" y="429"/>
                </a:moveTo>
                <a:cubicBezTo>
                  <a:pt x="369" y="428"/>
                  <a:pt x="356" y="413"/>
                  <a:pt x="354" y="411"/>
                </a:cubicBezTo>
                <a:cubicBezTo>
                  <a:pt x="351" y="409"/>
                  <a:pt x="350" y="405"/>
                  <a:pt x="343" y="403"/>
                </a:cubicBezTo>
                <a:cubicBezTo>
                  <a:pt x="337" y="402"/>
                  <a:pt x="334" y="403"/>
                  <a:pt x="334" y="403"/>
                </a:cubicBezTo>
                <a:cubicBezTo>
                  <a:pt x="330" y="398"/>
                  <a:pt x="321" y="371"/>
                  <a:pt x="315" y="349"/>
                </a:cubicBezTo>
                <a:cubicBezTo>
                  <a:pt x="308" y="327"/>
                  <a:pt x="308" y="306"/>
                  <a:pt x="303" y="296"/>
                </a:cubicBezTo>
                <a:cubicBezTo>
                  <a:pt x="298" y="285"/>
                  <a:pt x="295" y="274"/>
                  <a:pt x="292" y="259"/>
                </a:cubicBezTo>
                <a:cubicBezTo>
                  <a:pt x="288" y="244"/>
                  <a:pt x="288" y="206"/>
                  <a:pt x="288" y="181"/>
                </a:cubicBezTo>
                <a:cubicBezTo>
                  <a:pt x="288" y="157"/>
                  <a:pt x="271" y="153"/>
                  <a:pt x="255" y="145"/>
                </a:cubicBezTo>
                <a:cubicBezTo>
                  <a:pt x="240" y="138"/>
                  <a:pt x="219" y="125"/>
                  <a:pt x="215" y="118"/>
                </a:cubicBezTo>
                <a:cubicBezTo>
                  <a:pt x="213" y="113"/>
                  <a:pt x="214" y="102"/>
                  <a:pt x="215" y="94"/>
                </a:cubicBezTo>
                <a:cubicBezTo>
                  <a:pt x="217" y="90"/>
                  <a:pt x="219" y="84"/>
                  <a:pt x="221" y="77"/>
                </a:cubicBezTo>
                <a:cubicBezTo>
                  <a:pt x="221" y="75"/>
                  <a:pt x="221" y="75"/>
                  <a:pt x="221" y="75"/>
                </a:cubicBezTo>
                <a:cubicBezTo>
                  <a:pt x="222" y="76"/>
                  <a:pt x="225" y="75"/>
                  <a:pt x="227" y="73"/>
                </a:cubicBezTo>
                <a:cubicBezTo>
                  <a:pt x="229" y="71"/>
                  <a:pt x="230" y="65"/>
                  <a:pt x="232" y="62"/>
                </a:cubicBezTo>
                <a:cubicBezTo>
                  <a:pt x="235" y="52"/>
                  <a:pt x="235" y="43"/>
                  <a:pt x="222" y="50"/>
                </a:cubicBezTo>
                <a:cubicBezTo>
                  <a:pt x="223" y="36"/>
                  <a:pt x="223" y="36"/>
                  <a:pt x="223" y="36"/>
                </a:cubicBezTo>
                <a:cubicBezTo>
                  <a:pt x="223" y="16"/>
                  <a:pt x="207" y="0"/>
                  <a:pt x="186" y="0"/>
                </a:cubicBezTo>
                <a:cubicBezTo>
                  <a:pt x="166" y="0"/>
                  <a:pt x="150" y="16"/>
                  <a:pt x="150" y="36"/>
                </a:cubicBezTo>
                <a:cubicBezTo>
                  <a:pt x="151" y="49"/>
                  <a:pt x="151" y="49"/>
                  <a:pt x="151" y="49"/>
                </a:cubicBezTo>
                <a:cubicBezTo>
                  <a:pt x="140" y="44"/>
                  <a:pt x="140" y="53"/>
                  <a:pt x="143" y="62"/>
                </a:cubicBezTo>
                <a:cubicBezTo>
                  <a:pt x="144" y="65"/>
                  <a:pt x="146" y="71"/>
                  <a:pt x="148" y="73"/>
                </a:cubicBezTo>
                <a:cubicBezTo>
                  <a:pt x="149" y="75"/>
                  <a:pt x="151" y="76"/>
                  <a:pt x="153" y="75"/>
                </a:cubicBezTo>
                <a:cubicBezTo>
                  <a:pt x="153" y="83"/>
                  <a:pt x="155" y="90"/>
                  <a:pt x="158" y="96"/>
                </a:cubicBezTo>
                <a:cubicBezTo>
                  <a:pt x="160" y="104"/>
                  <a:pt x="160" y="114"/>
                  <a:pt x="158" y="118"/>
                </a:cubicBezTo>
                <a:cubicBezTo>
                  <a:pt x="154" y="125"/>
                  <a:pt x="133" y="138"/>
                  <a:pt x="118" y="145"/>
                </a:cubicBezTo>
                <a:cubicBezTo>
                  <a:pt x="102" y="153"/>
                  <a:pt x="85" y="157"/>
                  <a:pt x="85" y="181"/>
                </a:cubicBezTo>
                <a:cubicBezTo>
                  <a:pt x="85" y="206"/>
                  <a:pt x="85" y="244"/>
                  <a:pt x="82" y="259"/>
                </a:cubicBezTo>
                <a:cubicBezTo>
                  <a:pt x="78" y="274"/>
                  <a:pt x="75" y="285"/>
                  <a:pt x="70" y="296"/>
                </a:cubicBezTo>
                <a:cubicBezTo>
                  <a:pt x="65" y="306"/>
                  <a:pt x="65" y="327"/>
                  <a:pt x="58" y="349"/>
                </a:cubicBezTo>
                <a:cubicBezTo>
                  <a:pt x="52" y="371"/>
                  <a:pt x="43" y="398"/>
                  <a:pt x="39" y="403"/>
                </a:cubicBezTo>
                <a:cubicBezTo>
                  <a:pt x="39" y="403"/>
                  <a:pt x="37" y="404"/>
                  <a:pt x="30" y="405"/>
                </a:cubicBezTo>
                <a:cubicBezTo>
                  <a:pt x="23" y="406"/>
                  <a:pt x="22" y="410"/>
                  <a:pt x="19" y="413"/>
                </a:cubicBezTo>
                <a:cubicBezTo>
                  <a:pt x="17" y="415"/>
                  <a:pt x="4" y="428"/>
                  <a:pt x="2" y="429"/>
                </a:cubicBezTo>
                <a:cubicBezTo>
                  <a:pt x="0" y="430"/>
                  <a:pt x="3" y="434"/>
                  <a:pt x="7" y="433"/>
                </a:cubicBezTo>
                <a:cubicBezTo>
                  <a:pt x="11" y="432"/>
                  <a:pt x="17" y="428"/>
                  <a:pt x="19" y="426"/>
                </a:cubicBezTo>
                <a:cubicBezTo>
                  <a:pt x="22" y="424"/>
                  <a:pt x="25" y="421"/>
                  <a:pt x="26" y="422"/>
                </a:cubicBezTo>
                <a:cubicBezTo>
                  <a:pt x="27" y="423"/>
                  <a:pt x="25" y="439"/>
                  <a:pt x="25" y="442"/>
                </a:cubicBezTo>
                <a:cubicBezTo>
                  <a:pt x="24" y="446"/>
                  <a:pt x="18" y="472"/>
                  <a:pt x="19" y="475"/>
                </a:cubicBezTo>
                <a:cubicBezTo>
                  <a:pt x="20" y="479"/>
                  <a:pt x="24" y="478"/>
                  <a:pt x="25" y="474"/>
                </a:cubicBezTo>
                <a:cubicBezTo>
                  <a:pt x="27" y="469"/>
                  <a:pt x="33" y="449"/>
                  <a:pt x="33" y="449"/>
                </a:cubicBezTo>
                <a:cubicBezTo>
                  <a:pt x="33" y="449"/>
                  <a:pt x="29" y="482"/>
                  <a:pt x="31" y="484"/>
                </a:cubicBezTo>
                <a:cubicBezTo>
                  <a:pt x="34" y="487"/>
                  <a:pt x="37" y="487"/>
                  <a:pt x="38" y="483"/>
                </a:cubicBezTo>
                <a:cubicBezTo>
                  <a:pt x="39" y="478"/>
                  <a:pt x="42" y="451"/>
                  <a:pt x="42" y="451"/>
                </a:cubicBezTo>
                <a:cubicBezTo>
                  <a:pt x="42" y="451"/>
                  <a:pt x="43" y="479"/>
                  <a:pt x="45" y="481"/>
                </a:cubicBezTo>
                <a:cubicBezTo>
                  <a:pt x="46" y="483"/>
                  <a:pt x="52" y="485"/>
                  <a:pt x="52" y="479"/>
                </a:cubicBezTo>
                <a:cubicBezTo>
                  <a:pt x="52" y="473"/>
                  <a:pt x="53" y="451"/>
                  <a:pt x="53" y="451"/>
                </a:cubicBezTo>
                <a:cubicBezTo>
                  <a:pt x="53" y="451"/>
                  <a:pt x="59" y="467"/>
                  <a:pt x="62" y="470"/>
                </a:cubicBezTo>
                <a:cubicBezTo>
                  <a:pt x="64" y="473"/>
                  <a:pt x="68" y="475"/>
                  <a:pt x="67" y="469"/>
                </a:cubicBezTo>
                <a:cubicBezTo>
                  <a:pt x="66" y="464"/>
                  <a:pt x="63" y="445"/>
                  <a:pt x="63" y="442"/>
                </a:cubicBezTo>
                <a:cubicBezTo>
                  <a:pt x="63" y="438"/>
                  <a:pt x="64" y="428"/>
                  <a:pt x="65" y="427"/>
                </a:cubicBezTo>
                <a:cubicBezTo>
                  <a:pt x="66" y="425"/>
                  <a:pt x="66" y="412"/>
                  <a:pt x="66" y="409"/>
                </a:cubicBezTo>
                <a:cubicBezTo>
                  <a:pt x="65" y="406"/>
                  <a:pt x="96" y="347"/>
                  <a:pt x="99" y="340"/>
                </a:cubicBezTo>
                <a:cubicBezTo>
                  <a:pt x="102" y="333"/>
                  <a:pt x="108" y="317"/>
                  <a:pt x="109" y="313"/>
                </a:cubicBezTo>
                <a:cubicBezTo>
                  <a:pt x="110" y="308"/>
                  <a:pt x="109" y="294"/>
                  <a:pt x="110" y="292"/>
                </a:cubicBezTo>
                <a:cubicBezTo>
                  <a:pt x="110" y="290"/>
                  <a:pt x="117" y="258"/>
                  <a:pt x="119" y="255"/>
                </a:cubicBezTo>
                <a:cubicBezTo>
                  <a:pt x="121" y="251"/>
                  <a:pt x="121" y="266"/>
                  <a:pt x="121" y="268"/>
                </a:cubicBezTo>
                <a:cubicBezTo>
                  <a:pt x="121" y="270"/>
                  <a:pt x="120" y="338"/>
                  <a:pt x="120" y="345"/>
                </a:cubicBezTo>
                <a:cubicBezTo>
                  <a:pt x="120" y="351"/>
                  <a:pt x="114" y="379"/>
                  <a:pt x="114" y="388"/>
                </a:cubicBezTo>
                <a:cubicBezTo>
                  <a:pt x="114" y="398"/>
                  <a:pt x="108" y="478"/>
                  <a:pt x="113" y="501"/>
                </a:cubicBezTo>
                <a:cubicBezTo>
                  <a:pt x="118" y="523"/>
                  <a:pt x="121" y="555"/>
                  <a:pt x="121" y="560"/>
                </a:cubicBezTo>
                <a:cubicBezTo>
                  <a:pt x="121" y="566"/>
                  <a:pt x="124" y="595"/>
                  <a:pt x="122" y="602"/>
                </a:cubicBezTo>
                <a:cubicBezTo>
                  <a:pt x="120" y="609"/>
                  <a:pt x="115" y="658"/>
                  <a:pt x="121" y="687"/>
                </a:cubicBezTo>
                <a:cubicBezTo>
                  <a:pt x="127" y="716"/>
                  <a:pt x="131" y="735"/>
                  <a:pt x="131" y="748"/>
                </a:cubicBezTo>
                <a:cubicBezTo>
                  <a:pt x="131" y="760"/>
                  <a:pt x="127" y="775"/>
                  <a:pt x="125" y="783"/>
                </a:cubicBezTo>
                <a:cubicBezTo>
                  <a:pt x="122" y="791"/>
                  <a:pt x="110" y="800"/>
                  <a:pt x="113" y="805"/>
                </a:cubicBezTo>
                <a:cubicBezTo>
                  <a:pt x="116" y="810"/>
                  <a:pt x="122" y="811"/>
                  <a:pt x="122" y="811"/>
                </a:cubicBezTo>
                <a:cubicBezTo>
                  <a:pt x="122" y="811"/>
                  <a:pt x="128" y="810"/>
                  <a:pt x="132" y="812"/>
                </a:cubicBezTo>
                <a:cubicBezTo>
                  <a:pt x="136" y="814"/>
                  <a:pt x="141" y="817"/>
                  <a:pt x="147" y="815"/>
                </a:cubicBezTo>
                <a:cubicBezTo>
                  <a:pt x="153" y="813"/>
                  <a:pt x="157" y="810"/>
                  <a:pt x="158" y="805"/>
                </a:cubicBezTo>
                <a:cubicBezTo>
                  <a:pt x="159" y="800"/>
                  <a:pt x="158" y="789"/>
                  <a:pt x="159" y="780"/>
                </a:cubicBezTo>
                <a:cubicBezTo>
                  <a:pt x="160" y="771"/>
                  <a:pt x="162" y="759"/>
                  <a:pt x="162" y="755"/>
                </a:cubicBezTo>
                <a:cubicBezTo>
                  <a:pt x="162" y="750"/>
                  <a:pt x="153" y="732"/>
                  <a:pt x="154" y="725"/>
                </a:cubicBezTo>
                <a:cubicBezTo>
                  <a:pt x="155" y="718"/>
                  <a:pt x="161" y="677"/>
                  <a:pt x="166" y="666"/>
                </a:cubicBezTo>
                <a:cubicBezTo>
                  <a:pt x="170" y="654"/>
                  <a:pt x="167" y="641"/>
                  <a:pt x="166" y="634"/>
                </a:cubicBezTo>
                <a:cubicBezTo>
                  <a:pt x="165" y="626"/>
                  <a:pt x="166" y="616"/>
                  <a:pt x="170" y="607"/>
                </a:cubicBezTo>
                <a:cubicBezTo>
                  <a:pt x="175" y="598"/>
                  <a:pt x="177" y="566"/>
                  <a:pt x="177" y="555"/>
                </a:cubicBezTo>
                <a:cubicBezTo>
                  <a:pt x="177" y="545"/>
                  <a:pt x="177" y="504"/>
                  <a:pt x="178" y="495"/>
                </a:cubicBezTo>
                <a:cubicBezTo>
                  <a:pt x="179" y="486"/>
                  <a:pt x="184" y="452"/>
                  <a:pt x="184" y="452"/>
                </a:cubicBezTo>
                <a:cubicBezTo>
                  <a:pt x="189" y="452"/>
                  <a:pt x="189" y="452"/>
                  <a:pt x="189" y="452"/>
                </a:cubicBezTo>
                <a:cubicBezTo>
                  <a:pt x="189" y="452"/>
                  <a:pt x="194" y="486"/>
                  <a:pt x="195" y="495"/>
                </a:cubicBezTo>
                <a:cubicBezTo>
                  <a:pt x="196" y="504"/>
                  <a:pt x="196" y="545"/>
                  <a:pt x="196" y="555"/>
                </a:cubicBezTo>
                <a:cubicBezTo>
                  <a:pt x="196" y="566"/>
                  <a:pt x="198" y="598"/>
                  <a:pt x="203" y="607"/>
                </a:cubicBezTo>
                <a:cubicBezTo>
                  <a:pt x="207" y="616"/>
                  <a:pt x="208" y="626"/>
                  <a:pt x="207" y="634"/>
                </a:cubicBezTo>
                <a:cubicBezTo>
                  <a:pt x="206" y="641"/>
                  <a:pt x="203" y="654"/>
                  <a:pt x="207" y="666"/>
                </a:cubicBezTo>
                <a:cubicBezTo>
                  <a:pt x="212" y="677"/>
                  <a:pt x="218" y="718"/>
                  <a:pt x="219" y="725"/>
                </a:cubicBezTo>
                <a:cubicBezTo>
                  <a:pt x="220" y="732"/>
                  <a:pt x="211" y="750"/>
                  <a:pt x="211" y="755"/>
                </a:cubicBezTo>
                <a:cubicBezTo>
                  <a:pt x="211" y="759"/>
                  <a:pt x="213" y="771"/>
                  <a:pt x="214" y="780"/>
                </a:cubicBezTo>
                <a:cubicBezTo>
                  <a:pt x="215" y="789"/>
                  <a:pt x="214" y="800"/>
                  <a:pt x="215" y="805"/>
                </a:cubicBezTo>
                <a:cubicBezTo>
                  <a:pt x="216" y="810"/>
                  <a:pt x="220" y="813"/>
                  <a:pt x="226" y="815"/>
                </a:cubicBezTo>
                <a:cubicBezTo>
                  <a:pt x="232" y="817"/>
                  <a:pt x="237" y="814"/>
                  <a:pt x="241" y="812"/>
                </a:cubicBezTo>
                <a:cubicBezTo>
                  <a:pt x="245" y="810"/>
                  <a:pt x="251" y="811"/>
                  <a:pt x="251" y="811"/>
                </a:cubicBezTo>
                <a:cubicBezTo>
                  <a:pt x="251" y="811"/>
                  <a:pt x="257" y="810"/>
                  <a:pt x="260" y="805"/>
                </a:cubicBezTo>
                <a:cubicBezTo>
                  <a:pt x="263" y="800"/>
                  <a:pt x="251" y="791"/>
                  <a:pt x="248" y="783"/>
                </a:cubicBezTo>
                <a:cubicBezTo>
                  <a:pt x="246" y="775"/>
                  <a:pt x="242" y="760"/>
                  <a:pt x="242" y="748"/>
                </a:cubicBezTo>
                <a:cubicBezTo>
                  <a:pt x="242" y="735"/>
                  <a:pt x="246" y="716"/>
                  <a:pt x="252" y="687"/>
                </a:cubicBezTo>
                <a:cubicBezTo>
                  <a:pt x="258" y="658"/>
                  <a:pt x="253" y="609"/>
                  <a:pt x="251" y="602"/>
                </a:cubicBezTo>
                <a:cubicBezTo>
                  <a:pt x="249" y="595"/>
                  <a:pt x="252" y="566"/>
                  <a:pt x="252" y="560"/>
                </a:cubicBezTo>
                <a:cubicBezTo>
                  <a:pt x="252" y="555"/>
                  <a:pt x="255" y="523"/>
                  <a:pt x="260" y="501"/>
                </a:cubicBezTo>
                <a:cubicBezTo>
                  <a:pt x="265" y="478"/>
                  <a:pt x="259" y="398"/>
                  <a:pt x="259" y="388"/>
                </a:cubicBezTo>
                <a:cubicBezTo>
                  <a:pt x="259" y="379"/>
                  <a:pt x="253" y="351"/>
                  <a:pt x="253" y="345"/>
                </a:cubicBezTo>
                <a:cubicBezTo>
                  <a:pt x="253" y="338"/>
                  <a:pt x="252" y="270"/>
                  <a:pt x="252" y="268"/>
                </a:cubicBezTo>
                <a:cubicBezTo>
                  <a:pt x="252" y="266"/>
                  <a:pt x="252" y="251"/>
                  <a:pt x="254" y="255"/>
                </a:cubicBezTo>
                <a:cubicBezTo>
                  <a:pt x="256" y="258"/>
                  <a:pt x="263" y="290"/>
                  <a:pt x="263" y="292"/>
                </a:cubicBezTo>
                <a:cubicBezTo>
                  <a:pt x="264" y="294"/>
                  <a:pt x="263" y="308"/>
                  <a:pt x="264" y="313"/>
                </a:cubicBezTo>
                <a:cubicBezTo>
                  <a:pt x="265" y="317"/>
                  <a:pt x="271" y="333"/>
                  <a:pt x="274" y="340"/>
                </a:cubicBezTo>
                <a:cubicBezTo>
                  <a:pt x="277" y="347"/>
                  <a:pt x="308" y="406"/>
                  <a:pt x="307" y="409"/>
                </a:cubicBezTo>
                <a:cubicBezTo>
                  <a:pt x="307" y="412"/>
                  <a:pt x="307" y="425"/>
                  <a:pt x="308" y="427"/>
                </a:cubicBezTo>
                <a:cubicBezTo>
                  <a:pt x="309" y="428"/>
                  <a:pt x="310" y="438"/>
                  <a:pt x="310" y="442"/>
                </a:cubicBezTo>
                <a:cubicBezTo>
                  <a:pt x="310" y="445"/>
                  <a:pt x="307" y="464"/>
                  <a:pt x="306" y="469"/>
                </a:cubicBezTo>
                <a:cubicBezTo>
                  <a:pt x="305" y="475"/>
                  <a:pt x="309" y="473"/>
                  <a:pt x="311" y="470"/>
                </a:cubicBezTo>
                <a:cubicBezTo>
                  <a:pt x="314" y="467"/>
                  <a:pt x="320" y="451"/>
                  <a:pt x="320" y="451"/>
                </a:cubicBezTo>
                <a:cubicBezTo>
                  <a:pt x="320" y="451"/>
                  <a:pt x="321" y="473"/>
                  <a:pt x="321" y="479"/>
                </a:cubicBezTo>
                <a:cubicBezTo>
                  <a:pt x="321" y="485"/>
                  <a:pt x="327" y="483"/>
                  <a:pt x="328" y="481"/>
                </a:cubicBezTo>
                <a:cubicBezTo>
                  <a:pt x="330" y="479"/>
                  <a:pt x="331" y="451"/>
                  <a:pt x="331" y="451"/>
                </a:cubicBezTo>
                <a:cubicBezTo>
                  <a:pt x="331" y="451"/>
                  <a:pt x="334" y="478"/>
                  <a:pt x="335" y="483"/>
                </a:cubicBezTo>
                <a:cubicBezTo>
                  <a:pt x="336" y="487"/>
                  <a:pt x="339" y="487"/>
                  <a:pt x="342" y="484"/>
                </a:cubicBezTo>
                <a:cubicBezTo>
                  <a:pt x="344" y="482"/>
                  <a:pt x="340" y="449"/>
                  <a:pt x="340" y="449"/>
                </a:cubicBezTo>
                <a:cubicBezTo>
                  <a:pt x="340" y="449"/>
                  <a:pt x="346" y="469"/>
                  <a:pt x="348" y="474"/>
                </a:cubicBezTo>
                <a:cubicBezTo>
                  <a:pt x="349" y="478"/>
                  <a:pt x="353" y="479"/>
                  <a:pt x="354" y="475"/>
                </a:cubicBezTo>
                <a:cubicBezTo>
                  <a:pt x="355" y="472"/>
                  <a:pt x="349" y="446"/>
                  <a:pt x="348" y="442"/>
                </a:cubicBezTo>
                <a:cubicBezTo>
                  <a:pt x="348" y="439"/>
                  <a:pt x="346" y="423"/>
                  <a:pt x="347" y="422"/>
                </a:cubicBezTo>
                <a:cubicBezTo>
                  <a:pt x="348" y="421"/>
                  <a:pt x="352" y="423"/>
                  <a:pt x="354" y="425"/>
                </a:cubicBezTo>
                <a:cubicBezTo>
                  <a:pt x="357" y="427"/>
                  <a:pt x="362" y="432"/>
                  <a:pt x="366" y="433"/>
                </a:cubicBezTo>
                <a:cubicBezTo>
                  <a:pt x="370" y="434"/>
                  <a:pt x="373" y="430"/>
                  <a:pt x="371" y="429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735" name="组合 10"/>
          <p:cNvGrpSpPr/>
          <p:nvPr/>
        </p:nvGrpSpPr>
        <p:grpSpPr>
          <a:xfrm>
            <a:off x="6768000" y="5830200"/>
            <a:ext cx="447120" cy="365040"/>
            <a:chOff x="6768000" y="5830200"/>
            <a:chExt cx="447120" cy="365040"/>
          </a:xfrm>
        </p:grpSpPr>
        <p:sp>
          <p:nvSpPr>
            <p:cNvPr id="736" name="等腰三角形 8"/>
            <p:cNvSpPr/>
            <p:nvPr/>
          </p:nvSpPr>
          <p:spPr>
            <a:xfrm rot="16200000">
              <a:off x="6824160" y="5774040"/>
              <a:ext cx="189360" cy="30168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37" name="等腰三角形 9"/>
            <p:cNvSpPr/>
            <p:nvPr/>
          </p:nvSpPr>
          <p:spPr>
            <a:xfrm rot="9461400">
              <a:off x="6975360" y="5868720"/>
              <a:ext cx="189360" cy="30168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38" name="组合 11"/>
          <p:cNvGrpSpPr/>
          <p:nvPr/>
        </p:nvGrpSpPr>
        <p:grpSpPr>
          <a:xfrm>
            <a:off x="7338960" y="6426360"/>
            <a:ext cx="246960" cy="389880"/>
            <a:chOff x="7338960" y="6426360"/>
            <a:chExt cx="246960" cy="389880"/>
          </a:xfrm>
        </p:grpSpPr>
        <p:sp>
          <p:nvSpPr>
            <p:cNvPr id="739" name="等腰三角形 12"/>
            <p:cNvSpPr/>
            <p:nvPr/>
          </p:nvSpPr>
          <p:spPr>
            <a:xfrm rot="16200000">
              <a:off x="7301880" y="646308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40" name="等腰三角形 13"/>
            <p:cNvSpPr/>
            <p:nvPr/>
          </p:nvSpPr>
          <p:spPr>
            <a:xfrm rot="9461400">
              <a:off x="7435800" y="646992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41" name="组合 14"/>
          <p:cNvGrpSpPr/>
          <p:nvPr/>
        </p:nvGrpSpPr>
        <p:grpSpPr>
          <a:xfrm>
            <a:off x="5252040" y="5731920"/>
            <a:ext cx="246960" cy="389880"/>
            <a:chOff x="5252040" y="5731920"/>
            <a:chExt cx="246960" cy="389880"/>
          </a:xfrm>
        </p:grpSpPr>
        <p:sp>
          <p:nvSpPr>
            <p:cNvPr id="742" name="等腰三角形 15"/>
            <p:cNvSpPr/>
            <p:nvPr/>
          </p:nvSpPr>
          <p:spPr>
            <a:xfrm rot="16200000">
              <a:off x="5214960" y="576864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43" name="等腰三角形 16"/>
            <p:cNvSpPr/>
            <p:nvPr/>
          </p:nvSpPr>
          <p:spPr>
            <a:xfrm rot="9461400">
              <a:off x="5348880" y="577548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44" name="组合 17"/>
          <p:cNvGrpSpPr/>
          <p:nvPr/>
        </p:nvGrpSpPr>
        <p:grpSpPr>
          <a:xfrm>
            <a:off x="4503240" y="6494040"/>
            <a:ext cx="327240" cy="371520"/>
            <a:chOff x="4503240" y="6494040"/>
            <a:chExt cx="327240" cy="371520"/>
          </a:xfrm>
        </p:grpSpPr>
        <p:sp>
          <p:nvSpPr>
            <p:cNvPr id="745" name="等腰三角形 18"/>
            <p:cNvSpPr/>
            <p:nvPr/>
          </p:nvSpPr>
          <p:spPr>
            <a:xfrm rot="15342000">
              <a:off x="4490280" y="654480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46" name="等腰三角形 19"/>
            <p:cNvSpPr/>
            <p:nvPr/>
          </p:nvSpPr>
          <p:spPr>
            <a:xfrm rot="8603400">
              <a:off x="4648680" y="653040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47" name="组合 20"/>
          <p:cNvGrpSpPr/>
          <p:nvPr/>
        </p:nvGrpSpPr>
        <p:grpSpPr>
          <a:xfrm>
            <a:off x="5252040" y="4444920"/>
            <a:ext cx="327600" cy="371160"/>
            <a:chOff x="5252040" y="4444920"/>
            <a:chExt cx="327600" cy="371160"/>
          </a:xfrm>
        </p:grpSpPr>
        <p:sp>
          <p:nvSpPr>
            <p:cNvPr id="748" name="等腰三角形 21"/>
            <p:cNvSpPr/>
            <p:nvPr/>
          </p:nvSpPr>
          <p:spPr>
            <a:xfrm rot="15342000">
              <a:off x="5239080" y="449568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49" name="等腰三角形 22"/>
            <p:cNvSpPr/>
            <p:nvPr/>
          </p:nvSpPr>
          <p:spPr>
            <a:xfrm rot="8603400">
              <a:off x="5397840" y="448092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50" name="组合 23"/>
          <p:cNvGrpSpPr/>
          <p:nvPr/>
        </p:nvGrpSpPr>
        <p:grpSpPr>
          <a:xfrm>
            <a:off x="5322960" y="4878360"/>
            <a:ext cx="288720" cy="168840"/>
            <a:chOff x="5322960" y="4878360"/>
            <a:chExt cx="288720" cy="168840"/>
          </a:xfrm>
        </p:grpSpPr>
        <p:sp>
          <p:nvSpPr>
            <p:cNvPr id="751" name="等腰三角形 24"/>
            <p:cNvSpPr/>
            <p:nvPr/>
          </p:nvSpPr>
          <p:spPr>
            <a:xfrm rot="11580600">
              <a:off x="5334120" y="4915440"/>
              <a:ext cx="145440" cy="116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9160" bIns="29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52" name="等腰三角形 25"/>
            <p:cNvSpPr/>
            <p:nvPr/>
          </p:nvSpPr>
          <p:spPr>
            <a:xfrm rot="4842000">
              <a:off x="5454360" y="4816800"/>
              <a:ext cx="73080" cy="23220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53" name="组合 26"/>
          <p:cNvGrpSpPr/>
          <p:nvPr/>
        </p:nvGrpSpPr>
        <p:grpSpPr>
          <a:xfrm>
            <a:off x="6581880" y="4892400"/>
            <a:ext cx="288720" cy="168480"/>
            <a:chOff x="6581880" y="4892400"/>
            <a:chExt cx="288720" cy="168480"/>
          </a:xfrm>
        </p:grpSpPr>
        <p:sp>
          <p:nvSpPr>
            <p:cNvPr id="754" name="等腰三角形 27"/>
            <p:cNvSpPr/>
            <p:nvPr/>
          </p:nvSpPr>
          <p:spPr>
            <a:xfrm rot="11580600">
              <a:off x="6593040" y="4929120"/>
              <a:ext cx="145440" cy="116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9160" bIns="29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55" name="等腰三角形 28"/>
            <p:cNvSpPr/>
            <p:nvPr/>
          </p:nvSpPr>
          <p:spPr>
            <a:xfrm rot="4842000">
              <a:off x="6713280" y="4830840"/>
              <a:ext cx="73080" cy="23220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56" name="组合 30"/>
          <p:cNvGrpSpPr/>
          <p:nvPr/>
        </p:nvGrpSpPr>
        <p:grpSpPr>
          <a:xfrm>
            <a:off x="6517080" y="5693760"/>
            <a:ext cx="289080" cy="168840"/>
            <a:chOff x="6517080" y="5693760"/>
            <a:chExt cx="289080" cy="168840"/>
          </a:xfrm>
        </p:grpSpPr>
        <p:sp>
          <p:nvSpPr>
            <p:cNvPr id="757" name="等腰三角形 31"/>
            <p:cNvSpPr/>
            <p:nvPr/>
          </p:nvSpPr>
          <p:spPr>
            <a:xfrm rot="11580600">
              <a:off x="6528240" y="5730840"/>
              <a:ext cx="145440" cy="116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9160" bIns="29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58" name="等腰三角形 32"/>
            <p:cNvSpPr/>
            <p:nvPr/>
          </p:nvSpPr>
          <p:spPr>
            <a:xfrm rot="4842000">
              <a:off x="6648840" y="5632200"/>
              <a:ext cx="73080" cy="23220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59" name="组合 33"/>
          <p:cNvGrpSpPr/>
          <p:nvPr/>
        </p:nvGrpSpPr>
        <p:grpSpPr>
          <a:xfrm>
            <a:off x="5499360" y="5608800"/>
            <a:ext cx="288720" cy="168840"/>
            <a:chOff x="5499360" y="5608800"/>
            <a:chExt cx="288720" cy="168840"/>
          </a:xfrm>
        </p:grpSpPr>
        <p:sp>
          <p:nvSpPr>
            <p:cNvPr id="760" name="等腰三角形 34"/>
            <p:cNvSpPr/>
            <p:nvPr/>
          </p:nvSpPr>
          <p:spPr>
            <a:xfrm rot="11580600">
              <a:off x="5510520" y="5645880"/>
              <a:ext cx="145440" cy="116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9160" bIns="29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61" name="等腰三角形 35"/>
            <p:cNvSpPr/>
            <p:nvPr/>
          </p:nvSpPr>
          <p:spPr>
            <a:xfrm rot="4842000">
              <a:off x="5630760" y="5547240"/>
              <a:ext cx="73080" cy="23220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62" name="组合 41"/>
          <p:cNvGrpSpPr/>
          <p:nvPr/>
        </p:nvGrpSpPr>
        <p:grpSpPr>
          <a:xfrm>
            <a:off x="5580000" y="5226840"/>
            <a:ext cx="298080" cy="209880"/>
            <a:chOff x="5580000" y="5226840"/>
            <a:chExt cx="298080" cy="209880"/>
          </a:xfrm>
        </p:grpSpPr>
        <p:sp>
          <p:nvSpPr>
            <p:cNvPr id="763" name="等腰三角形 42"/>
            <p:cNvSpPr/>
            <p:nvPr/>
          </p:nvSpPr>
          <p:spPr>
            <a:xfrm rot="14043600">
              <a:off x="5596920" y="5261400"/>
              <a:ext cx="145440" cy="116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9160" bIns="29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64" name="等腰三角形 43"/>
            <p:cNvSpPr/>
            <p:nvPr/>
          </p:nvSpPr>
          <p:spPr>
            <a:xfrm rot="7304400">
              <a:off x="5723280" y="5228280"/>
              <a:ext cx="73080" cy="23220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65" name="组合 44"/>
          <p:cNvGrpSpPr/>
          <p:nvPr/>
        </p:nvGrpSpPr>
        <p:grpSpPr>
          <a:xfrm>
            <a:off x="6297480" y="5226480"/>
            <a:ext cx="259920" cy="236520"/>
            <a:chOff x="6297480" y="5226480"/>
            <a:chExt cx="259920" cy="236520"/>
          </a:xfrm>
        </p:grpSpPr>
        <p:sp>
          <p:nvSpPr>
            <p:cNvPr id="766" name="等腰三角形 45"/>
            <p:cNvSpPr/>
            <p:nvPr/>
          </p:nvSpPr>
          <p:spPr>
            <a:xfrm rot="20947200">
              <a:off x="6401880" y="5238720"/>
              <a:ext cx="145440" cy="116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9160" bIns="29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67" name="等腰三角形 46"/>
            <p:cNvSpPr/>
            <p:nvPr/>
          </p:nvSpPr>
          <p:spPr>
            <a:xfrm rot="14208600">
              <a:off x="6377760" y="5252760"/>
              <a:ext cx="73080" cy="23220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768" name="椭圆 36"/>
          <p:cNvSpPr/>
          <p:nvPr/>
        </p:nvSpPr>
        <p:spPr>
          <a:xfrm>
            <a:off x="885600" y="4066560"/>
            <a:ext cx="3504240" cy="35042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69" name="椭圆 49"/>
          <p:cNvSpPr/>
          <p:nvPr/>
        </p:nvSpPr>
        <p:spPr>
          <a:xfrm>
            <a:off x="7516800" y="4293000"/>
            <a:ext cx="2286000" cy="228600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770" name="组合 40"/>
          <p:cNvGrpSpPr/>
          <p:nvPr/>
        </p:nvGrpSpPr>
        <p:grpSpPr>
          <a:xfrm>
            <a:off x="5667480" y="4066920"/>
            <a:ext cx="849240" cy="559800"/>
            <a:chOff x="5667480" y="4066920"/>
            <a:chExt cx="849240" cy="559800"/>
          </a:xfrm>
        </p:grpSpPr>
        <p:sp>
          <p:nvSpPr>
            <p:cNvPr id="771" name="Freeform 17"/>
            <p:cNvSpPr/>
            <p:nvPr/>
          </p:nvSpPr>
          <p:spPr>
            <a:xfrm>
              <a:off x="6085440" y="4066920"/>
              <a:ext cx="431280" cy="55980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12" h="14">
                  <a:moveTo>
                    <a:pt x="1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6" y="1"/>
                    <a:pt x="7" y="2"/>
                    <a:pt x="7" y="3"/>
                  </a:cubicBezTo>
                  <a:cubicBezTo>
                    <a:pt x="7" y="4"/>
                    <a:pt x="7" y="4"/>
                    <a:pt x="8" y="4"/>
                  </a:cubicBezTo>
                  <a:cubicBezTo>
                    <a:pt x="9" y="4"/>
                    <a:pt x="10" y="5"/>
                    <a:pt x="10" y="6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2" y="9"/>
                    <a:pt x="12" y="10"/>
                  </a:cubicBezTo>
                  <a:cubicBezTo>
                    <a:pt x="12" y="12"/>
                    <a:pt x="11" y="14"/>
                    <a:pt x="9" y="12"/>
                  </a:cubicBezTo>
                  <a:cubicBezTo>
                    <a:pt x="9" y="12"/>
                    <a:pt x="9" y="11"/>
                    <a:pt x="8" y="11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7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8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7" y="9"/>
                    <a:pt x="7" y="9"/>
                    <a:pt x="7" y="10"/>
                  </a:cubicBezTo>
                  <a:cubicBezTo>
                    <a:pt x="7" y="10"/>
                    <a:pt x="7" y="10"/>
                    <a:pt x="7" y="11"/>
                  </a:cubicBezTo>
                  <a:cubicBezTo>
                    <a:pt x="7" y="11"/>
                    <a:pt x="7" y="11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5" y="12"/>
                    <a:pt x="5" y="10"/>
                    <a:pt x="4" y="9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4" y="5"/>
                    <a:pt x="4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"/>
                    <a:pt x="3" y="5"/>
                    <a:pt x="3" y="4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3" y="8"/>
                    <a:pt x="3" y="8"/>
                    <a:pt x="4" y="9"/>
                  </a:cubicBezTo>
                  <a:cubicBezTo>
                    <a:pt x="5" y="11"/>
                    <a:pt x="3" y="13"/>
                    <a:pt x="1" y="12"/>
                  </a:cubicBezTo>
                  <a:cubicBezTo>
                    <a:pt x="0" y="11"/>
                    <a:pt x="0" y="9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772" name="Freeform 16"/>
            <p:cNvSpPr/>
            <p:nvPr/>
          </p:nvSpPr>
          <p:spPr>
            <a:xfrm>
              <a:off x="5667480" y="4076640"/>
              <a:ext cx="467640" cy="519480"/>
            </a:xfrm>
            <a:custGeom>
              <a:avLst/>
              <a:gdLst>
                <a:gd name="textAreaLeft" fmla="*/ 0 w 467640"/>
                <a:gd name="textAreaRight" fmla="*/ 468000 w 467640"/>
                <a:gd name="textAreaTop" fmla="*/ 0 h 519480"/>
                <a:gd name="textAreaBottom" fmla="*/ 519840 h 519480"/>
              </a:gdLst>
              <a:ahLst/>
              <a:rect l="textAreaLeft" t="textAreaTop" r="textAreaRight" b="textAreaBottom"/>
              <a:pathLst>
                <a:path w="13" h="13">
                  <a:moveTo>
                    <a:pt x="8" y="10"/>
                  </a:moveTo>
                  <a:cubicBezTo>
                    <a:pt x="8" y="10"/>
                    <a:pt x="7" y="10"/>
                    <a:pt x="7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5" y="7"/>
                    <a:pt x="6" y="6"/>
                    <a:pt x="6" y="5"/>
                  </a:cubicBezTo>
                  <a:cubicBezTo>
                    <a:pt x="7" y="5"/>
                    <a:pt x="7" y="5"/>
                    <a:pt x="7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9" y="7"/>
                    <a:pt x="9" y="7"/>
                    <a:pt x="9" y="6"/>
                  </a:cubicBezTo>
                  <a:cubicBezTo>
                    <a:pt x="9" y="6"/>
                    <a:pt x="9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7" y="4"/>
                    <a:pt x="7" y="4"/>
                  </a:cubicBezTo>
                  <a:cubicBezTo>
                    <a:pt x="7" y="4"/>
                    <a:pt x="7" y="4"/>
                    <a:pt x="6" y="5"/>
                  </a:cubicBezTo>
                  <a:cubicBezTo>
                    <a:pt x="5" y="5"/>
                    <a:pt x="5" y="7"/>
                    <a:pt x="6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4" y="11"/>
                    <a:pt x="4" y="12"/>
                  </a:cubicBezTo>
                  <a:cubicBezTo>
                    <a:pt x="3" y="13"/>
                    <a:pt x="3" y="13"/>
                    <a:pt x="2" y="13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5"/>
                    <a:pt x="3" y="4"/>
                    <a:pt x="4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0"/>
                    <a:pt x="13" y="2"/>
                    <a:pt x="11" y="4"/>
                  </a:cubicBezTo>
                  <a:cubicBezTo>
                    <a:pt x="11" y="5"/>
                    <a:pt x="11" y="5"/>
                    <a:pt x="11" y="6"/>
                  </a:cubicBezTo>
                  <a:cubicBezTo>
                    <a:pt x="12" y="7"/>
                    <a:pt x="12" y="10"/>
                    <a:pt x="10" y="9"/>
                  </a:cubicBezTo>
                  <a:cubicBezTo>
                    <a:pt x="9" y="9"/>
                    <a:pt x="9" y="9"/>
                    <a:pt x="8" y="10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773" name="Freeform 19"/>
            <p:cNvSpPr/>
            <p:nvPr/>
          </p:nvSpPr>
          <p:spPr>
            <a:xfrm>
              <a:off x="5883480" y="4476600"/>
              <a:ext cx="215640" cy="1195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6" h="3">
                  <a:moveTo>
                    <a:pt x="2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3"/>
                    <a:pt x="4" y="2"/>
                    <a:pt x="2" y="3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</p:grpSp>
      <p:sp>
        <p:nvSpPr>
          <p:cNvPr id="774" name="梯形 6"/>
          <p:cNvSpPr/>
          <p:nvPr/>
        </p:nvSpPr>
        <p:spPr>
          <a:xfrm flipV="1">
            <a:off x="0" y="0"/>
            <a:ext cx="12191760" cy="497520"/>
          </a:xfrm>
          <a:prstGeom prst="trapezoid">
            <a:avLst>
              <a:gd name="adj" fmla="val 88112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75" name="矩形 29"/>
          <p:cNvSpPr/>
          <p:nvPr/>
        </p:nvSpPr>
        <p:spPr>
          <a:xfrm>
            <a:off x="7693200" y="5018400"/>
            <a:ext cx="19159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TT1404o00"/>
                <a:ea typeface="微软雅黑 Light"/>
              </a:rPr>
              <a:t>语言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TT1404o00"/>
                <a:ea typeface="微软雅黑 Light"/>
              </a:rPr>
              <a:t>衰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椭圆 54"/>
          <p:cNvSpPr/>
          <p:nvPr/>
        </p:nvSpPr>
        <p:spPr>
          <a:xfrm>
            <a:off x="9783720" y="5704920"/>
            <a:ext cx="1115640" cy="111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77" name="矩形 55"/>
          <p:cNvSpPr/>
          <p:nvPr/>
        </p:nvSpPr>
        <p:spPr>
          <a:xfrm>
            <a:off x="9754560" y="5999400"/>
            <a:ext cx="1189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TT1404o00"/>
                <a:ea typeface="微软雅黑 Light"/>
              </a:rPr>
              <a:t>失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56"/>
          <p:cNvSpPr/>
          <p:nvPr/>
        </p:nvSpPr>
        <p:spPr>
          <a:xfrm>
            <a:off x="1172520" y="5280840"/>
            <a:ext cx="3010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2e2e2e"/>
                </a:solidFill>
                <a:latin typeface="微软雅黑"/>
                <a:ea typeface="微软雅黑"/>
              </a:rPr>
              <a:t>想吃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61"/>
          <p:cNvGrpSpPr/>
          <p:nvPr/>
        </p:nvGrpSpPr>
        <p:grpSpPr>
          <a:xfrm>
            <a:off x="6113160" y="3836520"/>
            <a:ext cx="1094760" cy="794880"/>
            <a:chOff x="6113160" y="3836520"/>
            <a:chExt cx="1094760" cy="794880"/>
          </a:xfrm>
        </p:grpSpPr>
        <p:sp>
          <p:nvSpPr>
            <p:cNvPr id="780" name="等腰三角形 62"/>
            <p:cNvSpPr/>
            <p:nvPr/>
          </p:nvSpPr>
          <p:spPr>
            <a:xfrm rot="14101200">
              <a:off x="6272640" y="3861720"/>
              <a:ext cx="362880" cy="5781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81" name="等腰三角形 63"/>
            <p:cNvSpPr/>
            <p:nvPr/>
          </p:nvSpPr>
          <p:spPr>
            <a:xfrm rot="7362600">
              <a:off x="6684840" y="4033440"/>
              <a:ext cx="362880" cy="5781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782" name="组合 64"/>
          <p:cNvGrpSpPr/>
          <p:nvPr/>
        </p:nvGrpSpPr>
        <p:grpSpPr>
          <a:xfrm>
            <a:off x="6110640" y="3592800"/>
            <a:ext cx="644760" cy="829080"/>
            <a:chOff x="6110640" y="3592800"/>
            <a:chExt cx="644760" cy="829080"/>
          </a:xfrm>
        </p:grpSpPr>
        <p:sp>
          <p:nvSpPr>
            <p:cNvPr id="783" name="等腰三角形 65"/>
            <p:cNvSpPr/>
            <p:nvPr/>
          </p:nvSpPr>
          <p:spPr>
            <a:xfrm rot="11361000">
              <a:off x="6170400" y="3817800"/>
              <a:ext cx="362880" cy="5781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84" name="等腰三角形 66"/>
            <p:cNvSpPr/>
            <p:nvPr/>
          </p:nvSpPr>
          <p:spPr>
            <a:xfrm rot="4621800">
              <a:off x="6251400" y="3545280"/>
              <a:ext cx="362880" cy="5781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785" name="等腰三角形 2"/>
          <p:cNvSpPr/>
          <p:nvPr/>
        </p:nvSpPr>
        <p:spPr>
          <a:xfrm rot="11700000">
            <a:off x="6287400" y="3007440"/>
            <a:ext cx="520200" cy="92772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86" name="矩形 1"/>
          <p:cNvSpPr/>
          <p:nvPr/>
        </p:nvSpPr>
        <p:spPr>
          <a:xfrm>
            <a:off x="1783440" y="2183760"/>
            <a:ext cx="8623080" cy="11311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egoe UI Light 8"/>
              <a:ea typeface="微软雅黑 Light"/>
            </a:endParaRPr>
          </a:p>
        </p:txBody>
      </p:sp>
      <p:sp>
        <p:nvSpPr>
          <p:cNvPr id="787" name="文本框 39"/>
          <p:cNvSpPr/>
          <p:nvPr/>
        </p:nvSpPr>
        <p:spPr>
          <a:xfrm>
            <a:off x="4560480" y="2426400"/>
            <a:ext cx="347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无论快慢，症状均表现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椭圆 78"/>
          <p:cNvSpPr/>
          <p:nvPr/>
        </p:nvSpPr>
        <p:spPr>
          <a:xfrm>
            <a:off x="1911240" y="3251160"/>
            <a:ext cx="2921760" cy="292176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超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吃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7"/>
          <p:cNvSpPr/>
          <p:nvPr/>
        </p:nvSpPr>
        <p:spPr>
          <a:xfrm>
            <a:off x="7859880" y="509400"/>
            <a:ext cx="1977120" cy="1977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睡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失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77"/>
          <p:cNvSpPr/>
          <p:nvPr/>
        </p:nvSpPr>
        <p:spPr>
          <a:xfrm>
            <a:off x="8748000" y="2444040"/>
            <a:ext cx="2749320" cy="274932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缺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愉悦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79"/>
          <p:cNvSpPr/>
          <p:nvPr/>
        </p:nvSpPr>
        <p:spPr>
          <a:xfrm>
            <a:off x="2789640" y="837360"/>
            <a:ext cx="1616760" cy="161676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丧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80"/>
          <p:cNvSpPr/>
          <p:nvPr/>
        </p:nvSpPr>
        <p:spPr>
          <a:xfrm>
            <a:off x="692280" y="1441440"/>
            <a:ext cx="2054880" cy="20548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攻击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81"/>
          <p:cNvSpPr/>
          <p:nvPr/>
        </p:nvSpPr>
        <p:spPr>
          <a:xfrm>
            <a:off x="6802560" y="4392720"/>
            <a:ext cx="2266920" cy="2266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肢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不协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椭圆 82"/>
          <p:cNvSpPr/>
          <p:nvPr/>
        </p:nvSpPr>
        <p:spPr>
          <a:xfrm>
            <a:off x="10011600" y="181800"/>
            <a:ext cx="1527120" cy="1527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好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吃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椭圆 83"/>
          <p:cNvSpPr/>
          <p:nvPr/>
        </p:nvSpPr>
        <p:spPr>
          <a:xfrm>
            <a:off x="885600" y="-2800080"/>
            <a:ext cx="3504240" cy="35042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796" name="Freeform 5"/>
          <p:cNvSpPr/>
          <p:nvPr/>
        </p:nvSpPr>
        <p:spPr>
          <a:xfrm>
            <a:off x="3461040" y="-2947680"/>
            <a:ext cx="5270040" cy="11436840"/>
          </a:xfrm>
          <a:custGeom>
            <a:avLst/>
            <a:gdLst>
              <a:gd name="textAreaLeft" fmla="*/ 0 w 5270040"/>
              <a:gd name="textAreaRight" fmla="*/ 5270400 w 5270040"/>
              <a:gd name="textAreaTop" fmla="*/ 0 h 11436840"/>
              <a:gd name="textAreaBottom" fmla="*/ 11437200 h 11436840"/>
            </a:gdLst>
            <a:ahLst/>
            <a:rect l="textAreaLeft" t="textAreaTop" r="textAreaRight" b="textAreaBottom"/>
            <a:pathLst>
              <a:path w="373" h="817">
                <a:moveTo>
                  <a:pt x="371" y="429"/>
                </a:moveTo>
                <a:cubicBezTo>
                  <a:pt x="369" y="428"/>
                  <a:pt x="356" y="413"/>
                  <a:pt x="354" y="411"/>
                </a:cubicBezTo>
                <a:cubicBezTo>
                  <a:pt x="351" y="409"/>
                  <a:pt x="350" y="405"/>
                  <a:pt x="343" y="403"/>
                </a:cubicBezTo>
                <a:cubicBezTo>
                  <a:pt x="337" y="402"/>
                  <a:pt x="334" y="403"/>
                  <a:pt x="334" y="403"/>
                </a:cubicBezTo>
                <a:cubicBezTo>
                  <a:pt x="330" y="398"/>
                  <a:pt x="321" y="371"/>
                  <a:pt x="315" y="349"/>
                </a:cubicBezTo>
                <a:cubicBezTo>
                  <a:pt x="308" y="327"/>
                  <a:pt x="308" y="306"/>
                  <a:pt x="303" y="296"/>
                </a:cubicBezTo>
                <a:cubicBezTo>
                  <a:pt x="298" y="285"/>
                  <a:pt x="295" y="274"/>
                  <a:pt x="292" y="259"/>
                </a:cubicBezTo>
                <a:cubicBezTo>
                  <a:pt x="288" y="244"/>
                  <a:pt x="288" y="206"/>
                  <a:pt x="288" y="181"/>
                </a:cubicBezTo>
                <a:cubicBezTo>
                  <a:pt x="288" y="157"/>
                  <a:pt x="271" y="153"/>
                  <a:pt x="255" y="145"/>
                </a:cubicBezTo>
                <a:cubicBezTo>
                  <a:pt x="240" y="138"/>
                  <a:pt x="219" y="125"/>
                  <a:pt x="215" y="118"/>
                </a:cubicBezTo>
                <a:cubicBezTo>
                  <a:pt x="213" y="113"/>
                  <a:pt x="214" y="102"/>
                  <a:pt x="215" y="94"/>
                </a:cubicBezTo>
                <a:cubicBezTo>
                  <a:pt x="217" y="90"/>
                  <a:pt x="219" y="84"/>
                  <a:pt x="221" y="77"/>
                </a:cubicBezTo>
                <a:cubicBezTo>
                  <a:pt x="221" y="75"/>
                  <a:pt x="221" y="75"/>
                  <a:pt x="221" y="75"/>
                </a:cubicBezTo>
                <a:cubicBezTo>
                  <a:pt x="222" y="76"/>
                  <a:pt x="225" y="75"/>
                  <a:pt x="227" y="73"/>
                </a:cubicBezTo>
                <a:cubicBezTo>
                  <a:pt x="229" y="71"/>
                  <a:pt x="230" y="65"/>
                  <a:pt x="232" y="62"/>
                </a:cubicBezTo>
                <a:cubicBezTo>
                  <a:pt x="235" y="52"/>
                  <a:pt x="235" y="43"/>
                  <a:pt x="222" y="50"/>
                </a:cubicBezTo>
                <a:cubicBezTo>
                  <a:pt x="223" y="36"/>
                  <a:pt x="223" y="36"/>
                  <a:pt x="223" y="36"/>
                </a:cubicBezTo>
                <a:cubicBezTo>
                  <a:pt x="223" y="16"/>
                  <a:pt x="207" y="0"/>
                  <a:pt x="186" y="0"/>
                </a:cubicBezTo>
                <a:cubicBezTo>
                  <a:pt x="166" y="0"/>
                  <a:pt x="150" y="16"/>
                  <a:pt x="150" y="36"/>
                </a:cubicBezTo>
                <a:cubicBezTo>
                  <a:pt x="151" y="49"/>
                  <a:pt x="151" y="49"/>
                  <a:pt x="151" y="49"/>
                </a:cubicBezTo>
                <a:cubicBezTo>
                  <a:pt x="140" y="44"/>
                  <a:pt x="140" y="53"/>
                  <a:pt x="143" y="62"/>
                </a:cubicBezTo>
                <a:cubicBezTo>
                  <a:pt x="144" y="65"/>
                  <a:pt x="146" y="71"/>
                  <a:pt x="148" y="73"/>
                </a:cubicBezTo>
                <a:cubicBezTo>
                  <a:pt x="149" y="75"/>
                  <a:pt x="151" y="76"/>
                  <a:pt x="153" y="75"/>
                </a:cubicBezTo>
                <a:cubicBezTo>
                  <a:pt x="153" y="83"/>
                  <a:pt x="155" y="90"/>
                  <a:pt x="158" y="96"/>
                </a:cubicBezTo>
                <a:cubicBezTo>
                  <a:pt x="160" y="104"/>
                  <a:pt x="160" y="114"/>
                  <a:pt x="158" y="118"/>
                </a:cubicBezTo>
                <a:cubicBezTo>
                  <a:pt x="154" y="125"/>
                  <a:pt x="133" y="138"/>
                  <a:pt x="118" y="145"/>
                </a:cubicBezTo>
                <a:cubicBezTo>
                  <a:pt x="102" y="153"/>
                  <a:pt x="85" y="157"/>
                  <a:pt x="85" y="181"/>
                </a:cubicBezTo>
                <a:cubicBezTo>
                  <a:pt x="85" y="206"/>
                  <a:pt x="85" y="244"/>
                  <a:pt x="82" y="259"/>
                </a:cubicBezTo>
                <a:cubicBezTo>
                  <a:pt x="78" y="274"/>
                  <a:pt x="75" y="285"/>
                  <a:pt x="70" y="296"/>
                </a:cubicBezTo>
                <a:cubicBezTo>
                  <a:pt x="65" y="306"/>
                  <a:pt x="65" y="327"/>
                  <a:pt x="58" y="349"/>
                </a:cubicBezTo>
                <a:cubicBezTo>
                  <a:pt x="52" y="371"/>
                  <a:pt x="43" y="398"/>
                  <a:pt x="39" y="403"/>
                </a:cubicBezTo>
                <a:cubicBezTo>
                  <a:pt x="39" y="403"/>
                  <a:pt x="37" y="404"/>
                  <a:pt x="30" y="405"/>
                </a:cubicBezTo>
                <a:cubicBezTo>
                  <a:pt x="23" y="406"/>
                  <a:pt x="22" y="410"/>
                  <a:pt x="19" y="413"/>
                </a:cubicBezTo>
                <a:cubicBezTo>
                  <a:pt x="17" y="415"/>
                  <a:pt x="4" y="428"/>
                  <a:pt x="2" y="429"/>
                </a:cubicBezTo>
                <a:cubicBezTo>
                  <a:pt x="0" y="430"/>
                  <a:pt x="3" y="434"/>
                  <a:pt x="7" y="433"/>
                </a:cubicBezTo>
                <a:cubicBezTo>
                  <a:pt x="11" y="432"/>
                  <a:pt x="17" y="428"/>
                  <a:pt x="19" y="426"/>
                </a:cubicBezTo>
                <a:cubicBezTo>
                  <a:pt x="22" y="424"/>
                  <a:pt x="25" y="421"/>
                  <a:pt x="26" y="422"/>
                </a:cubicBezTo>
                <a:cubicBezTo>
                  <a:pt x="27" y="423"/>
                  <a:pt x="25" y="439"/>
                  <a:pt x="25" y="442"/>
                </a:cubicBezTo>
                <a:cubicBezTo>
                  <a:pt x="24" y="446"/>
                  <a:pt x="18" y="472"/>
                  <a:pt x="19" y="475"/>
                </a:cubicBezTo>
                <a:cubicBezTo>
                  <a:pt x="20" y="479"/>
                  <a:pt x="24" y="478"/>
                  <a:pt x="25" y="474"/>
                </a:cubicBezTo>
                <a:cubicBezTo>
                  <a:pt x="27" y="469"/>
                  <a:pt x="33" y="449"/>
                  <a:pt x="33" y="449"/>
                </a:cubicBezTo>
                <a:cubicBezTo>
                  <a:pt x="33" y="449"/>
                  <a:pt x="29" y="482"/>
                  <a:pt x="31" y="484"/>
                </a:cubicBezTo>
                <a:cubicBezTo>
                  <a:pt x="34" y="487"/>
                  <a:pt x="37" y="487"/>
                  <a:pt x="38" y="483"/>
                </a:cubicBezTo>
                <a:cubicBezTo>
                  <a:pt x="39" y="478"/>
                  <a:pt x="42" y="451"/>
                  <a:pt x="42" y="451"/>
                </a:cubicBezTo>
                <a:cubicBezTo>
                  <a:pt x="42" y="451"/>
                  <a:pt x="43" y="479"/>
                  <a:pt x="45" y="481"/>
                </a:cubicBezTo>
                <a:cubicBezTo>
                  <a:pt x="46" y="483"/>
                  <a:pt x="52" y="485"/>
                  <a:pt x="52" y="479"/>
                </a:cubicBezTo>
                <a:cubicBezTo>
                  <a:pt x="52" y="473"/>
                  <a:pt x="53" y="451"/>
                  <a:pt x="53" y="451"/>
                </a:cubicBezTo>
                <a:cubicBezTo>
                  <a:pt x="53" y="451"/>
                  <a:pt x="59" y="467"/>
                  <a:pt x="62" y="470"/>
                </a:cubicBezTo>
                <a:cubicBezTo>
                  <a:pt x="64" y="473"/>
                  <a:pt x="68" y="475"/>
                  <a:pt x="67" y="469"/>
                </a:cubicBezTo>
                <a:cubicBezTo>
                  <a:pt x="66" y="464"/>
                  <a:pt x="63" y="445"/>
                  <a:pt x="63" y="442"/>
                </a:cubicBezTo>
                <a:cubicBezTo>
                  <a:pt x="63" y="438"/>
                  <a:pt x="64" y="428"/>
                  <a:pt x="65" y="427"/>
                </a:cubicBezTo>
                <a:cubicBezTo>
                  <a:pt x="66" y="425"/>
                  <a:pt x="66" y="412"/>
                  <a:pt x="66" y="409"/>
                </a:cubicBezTo>
                <a:cubicBezTo>
                  <a:pt x="65" y="406"/>
                  <a:pt x="96" y="347"/>
                  <a:pt x="99" y="340"/>
                </a:cubicBezTo>
                <a:cubicBezTo>
                  <a:pt x="102" y="333"/>
                  <a:pt x="108" y="317"/>
                  <a:pt x="109" y="313"/>
                </a:cubicBezTo>
                <a:cubicBezTo>
                  <a:pt x="110" y="308"/>
                  <a:pt x="109" y="294"/>
                  <a:pt x="110" y="292"/>
                </a:cubicBezTo>
                <a:cubicBezTo>
                  <a:pt x="110" y="290"/>
                  <a:pt x="117" y="258"/>
                  <a:pt x="119" y="255"/>
                </a:cubicBezTo>
                <a:cubicBezTo>
                  <a:pt x="121" y="251"/>
                  <a:pt x="121" y="266"/>
                  <a:pt x="121" y="268"/>
                </a:cubicBezTo>
                <a:cubicBezTo>
                  <a:pt x="121" y="270"/>
                  <a:pt x="120" y="338"/>
                  <a:pt x="120" y="345"/>
                </a:cubicBezTo>
                <a:cubicBezTo>
                  <a:pt x="120" y="351"/>
                  <a:pt x="114" y="379"/>
                  <a:pt x="114" y="388"/>
                </a:cubicBezTo>
                <a:cubicBezTo>
                  <a:pt x="114" y="398"/>
                  <a:pt x="108" y="478"/>
                  <a:pt x="113" y="501"/>
                </a:cubicBezTo>
                <a:cubicBezTo>
                  <a:pt x="118" y="523"/>
                  <a:pt x="121" y="555"/>
                  <a:pt x="121" y="560"/>
                </a:cubicBezTo>
                <a:cubicBezTo>
                  <a:pt x="121" y="566"/>
                  <a:pt x="124" y="595"/>
                  <a:pt x="122" y="602"/>
                </a:cubicBezTo>
                <a:cubicBezTo>
                  <a:pt x="120" y="609"/>
                  <a:pt x="115" y="658"/>
                  <a:pt x="121" y="687"/>
                </a:cubicBezTo>
                <a:cubicBezTo>
                  <a:pt x="127" y="716"/>
                  <a:pt x="131" y="735"/>
                  <a:pt x="131" y="748"/>
                </a:cubicBezTo>
                <a:cubicBezTo>
                  <a:pt x="131" y="760"/>
                  <a:pt x="127" y="775"/>
                  <a:pt x="125" y="783"/>
                </a:cubicBezTo>
                <a:cubicBezTo>
                  <a:pt x="122" y="791"/>
                  <a:pt x="110" y="800"/>
                  <a:pt x="113" y="805"/>
                </a:cubicBezTo>
                <a:cubicBezTo>
                  <a:pt x="116" y="810"/>
                  <a:pt x="122" y="811"/>
                  <a:pt x="122" y="811"/>
                </a:cubicBezTo>
                <a:cubicBezTo>
                  <a:pt x="122" y="811"/>
                  <a:pt x="128" y="810"/>
                  <a:pt x="132" y="812"/>
                </a:cubicBezTo>
                <a:cubicBezTo>
                  <a:pt x="136" y="814"/>
                  <a:pt x="141" y="817"/>
                  <a:pt x="147" y="815"/>
                </a:cubicBezTo>
                <a:cubicBezTo>
                  <a:pt x="153" y="813"/>
                  <a:pt x="157" y="810"/>
                  <a:pt x="158" y="805"/>
                </a:cubicBezTo>
                <a:cubicBezTo>
                  <a:pt x="159" y="800"/>
                  <a:pt x="158" y="789"/>
                  <a:pt x="159" y="780"/>
                </a:cubicBezTo>
                <a:cubicBezTo>
                  <a:pt x="160" y="771"/>
                  <a:pt x="162" y="759"/>
                  <a:pt x="162" y="755"/>
                </a:cubicBezTo>
                <a:cubicBezTo>
                  <a:pt x="162" y="750"/>
                  <a:pt x="153" y="732"/>
                  <a:pt x="154" y="725"/>
                </a:cubicBezTo>
                <a:cubicBezTo>
                  <a:pt x="155" y="718"/>
                  <a:pt x="161" y="677"/>
                  <a:pt x="166" y="666"/>
                </a:cubicBezTo>
                <a:cubicBezTo>
                  <a:pt x="170" y="654"/>
                  <a:pt x="167" y="641"/>
                  <a:pt x="166" y="634"/>
                </a:cubicBezTo>
                <a:cubicBezTo>
                  <a:pt x="165" y="626"/>
                  <a:pt x="166" y="616"/>
                  <a:pt x="170" y="607"/>
                </a:cubicBezTo>
                <a:cubicBezTo>
                  <a:pt x="175" y="598"/>
                  <a:pt x="177" y="566"/>
                  <a:pt x="177" y="555"/>
                </a:cubicBezTo>
                <a:cubicBezTo>
                  <a:pt x="177" y="545"/>
                  <a:pt x="177" y="504"/>
                  <a:pt x="178" y="495"/>
                </a:cubicBezTo>
                <a:cubicBezTo>
                  <a:pt x="179" y="486"/>
                  <a:pt x="184" y="452"/>
                  <a:pt x="184" y="452"/>
                </a:cubicBezTo>
                <a:cubicBezTo>
                  <a:pt x="189" y="452"/>
                  <a:pt x="189" y="452"/>
                  <a:pt x="189" y="452"/>
                </a:cubicBezTo>
                <a:cubicBezTo>
                  <a:pt x="189" y="452"/>
                  <a:pt x="194" y="486"/>
                  <a:pt x="195" y="495"/>
                </a:cubicBezTo>
                <a:cubicBezTo>
                  <a:pt x="196" y="504"/>
                  <a:pt x="196" y="545"/>
                  <a:pt x="196" y="555"/>
                </a:cubicBezTo>
                <a:cubicBezTo>
                  <a:pt x="196" y="566"/>
                  <a:pt x="198" y="598"/>
                  <a:pt x="203" y="607"/>
                </a:cubicBezTo>
                <a:cubicBezTo>
                  <a:pt x="207" y="616"/>
                  <a:pt x="208" y="626"/>
                  <a:pt x="207" y="634"/>
                </a:cubicBezTo>
                <a:cubicBezTo>
                  <a:pt x="206" y="641"/>
                  <a:pt x="203" y="654"/>
                  <a:pt x="207" y="666"/>
                </a:cubicBezTo>
                <a:cubicBezTo>
                  <a:pt x="212" y="677"/>
                  <a:pt x="218" y="718"/>
                  <a:pt x="219" y="725"/>
                </a:cubicBezTo>
                <a:cubicBezTo>
                  <a:pt x="220" y="732"/>
                  <a:pt x="211" y="750"/>
                  <a:pt x="211" y="755"/>
                </a:cubicBezTo>
                <a:cubicBezTo>
                  <a:pt x="211" y="759"/>
                  <a:pt x="213" y="771"/>
                  <a:pt x="214" y="780"/>
                </a:cubicBezTo>
                <a:cubicBezTo>
                  <a:pt x="215" y="789"/>
                  <a:pt x="214" y="800"/>
                  <a:pt x="215" y="805"/>
                </a:cubicBezTo>
                <a:cubicBezTo>
                  <a:pt x="216" y="810"/>
                  <a:pt x="220" y="813"/>
                  <a:pt x="226" y="815"/>
                </a:cubicBezTo>
                <a:cubicBezTo>
                  <a:pt x="232" y="817"/>
                  <a:pt x="237" y="814"/>
                  <a:pt x="241" y="812"/>
                </a:cubicBezTo>
                <a:cubicBezTo>
                  <a:pt x="245" y="810"/>
                  <a:pt x="251" y="811"/>
                  <a:pt x="251" y="811"/>
                </a:cubicBezTo>
                <a:cubicBezTo>
                  <a:pt x="251" y="811"/>
                  <a:pt x="257" y="810"/>
                  <a:pt x="260" y="805"/>
                </a:cubicBezTo>
                <a:cubicBezTo>
                  <a:pt x="263" y="800"/>
                  <a:pt x="251" y="791"/>
                  <a:pt x="248" y="783"/>
                </a:cubicBezTo>
                <a:cubicBezTo>
                  <a:pt x="246" y="775"/>
                  <a:pt x="242" y="760"/>
                  <a:pt x="242" y="748"/>
                </a:cubicBezTo>
                <a:cubicBezTo>
                  <a:pt x="242" y="735"/>
                  <a:pt x="246" y="716"/>
                  <a:pt x="252" y="687"/>
                </a:cubicBezTo>
                <a:cubicBezTo>
                  <a:pt x="258" y="658"/>
                  <a:pt x="253" y="609"/>
                  <a:pt x="251" y="602"/>
                </a:cubicBezTo>
                <a:cubicBezTo>
                  <a:pt x="249" y="595"/>
                  <a:pt x="252" y="566"/>
                  <a:pt x="252" y="560"/>
                </a:cubicBezTo>
                <a:cubicBezTo>
                  <a:pt x="252" y="555"/>
                  <a:pt x="255" y="523"/>
                  <a:pt x="260" y="501"/>
                </a:cubicBezTo>
                <a:cubicBezTo>
                  <a:pt x="265" y="478"/>
                  <a:pt x="259" y="398"/>
                  <a:pt x="259" y="388"/>
                </a:cubicBezTo>
                <a:cubicBezTo>
                  <a:pt x="259" y="379"/>
                  <a:pt x="253" y="351"/>
                  <a:pt x="253" y="345"/>
                </a:cubicBezTo>
                <a:cubicBezTo>
                  <a:pt x="253" y="338"/>
                  <a:pt x="252" y="270"/>
                  <a:pt x="252" y="268"/>
                </a:cubicBezTo>
                <a:cubicBezTo>
                  <a:pt x="252" y="266"/>
                  <a:pt x="252" y="251"/>
                  <a:pt x="254" y="255"/>
                </a:cubicBezTo>
                <a:cubicBezTo>
                  <a:pt x="256" y="258"/>
                  <a:pt x="263" y="290"/>
                  <a:pt x="263" y="292"/>
                </a:cubicBezTo>
                <a:cubicBezTo>
                  <a:pt x="264" y="294"/>
                  <a:pt x="263" y="308"/>
                  <a:pt x="264" y="313"/>
                </a:cubicBezTo>
                <a:cubicBezTo>
                  <a:pt x="265" y="317"/>
                  <a:pt x="271" y="333"/>
                  <a:pt x="274" y="340"/>
                </a:cubicBezTo>
                <a:cubicBezTo>
                  <a:pt x="277" y="347"/>
                  <a:pt x="308" y="406"/>
                  <a:pt x="307" y="409"/>
                </a:cubicBezTo>
                <a:cubicBezTo>
                  <a:pt x="307" y="412"/>
                  <a:pt x="307" y="425"/>
                  <a:pt x="308" y="427"/>
                </a:cubicBezTo>
                <a:cubicBezTo>
                  <a:pt x="309" y="428"/>
                  <a:pt x="310" y="438"/>
                  <a:pt x="310" y="442"/>
                </a:cubicBezTo>
                <a:cubicBezTo>
                  <a:pt x="310" y="445"/>
                  <a:pt x="307" y="464"/>
                  <a:pt x="306" y="469"/>
                </a:cubicBezTo>
                <a:cubicBezTo>
                  <a:pt x="305" y="475"/>
                  <a:pt x="309" y="473"/>
                  <a:pt x="311" y="470"/>
                </a:cubicBezTo>
                <a:cubicBezTo>
                  <a:pt x="314" y="467"/>
                  <a:pt x="320" y="451"/>
                  <a:pt x="320" y="451"/>
                </a:cubicBezTo>
                <a:cubicBezTo>
                  <a:pt x="320" y="451"/>
                  <a:pt x="321" y="473"/>
                  <a:pt x="321" y="479"/>
                </a:cubicBezTo>
                <a:cubicBezTo>
                  <a:pt x="321" y="485"/>
                  <a:pt x="327" y="483"/>
                  <a:pt x="328" y="481"/>
                </a:cubicBezTo>
                <a:cubicBezTo>
                  <a:pt x="330" y="479"/>
                  <a:pt x="331" y="451"/>
                  <a:pt x="331" y="451"/>
                </a:cubicBezTo>
                <a:cubicBezTo>
                  <a:pt x="331" y="451"/>
                  <a:pt x="334" y="478"/>
                  <a:pt x="335" y="483"/>
                </a:cubicBezTo>
                <a:cubicBezTo>
                  <a:pt x="336" y="487"/>
                  <a:pt x="339" y="487"/>
                  <a:pt x="342" y="484"/>
                </a:cubicBezTo>
                <a:cubicBezTo>
                  <a:pt x="344" y="482"/>
                  <a:pt x="340" y="449"/>
                  <a:pt x="340" y="449"/>
                </a:cubicBezTo>
                <a:cubicBezTo>
                  <a:pt x="340" y="449"/>
                  <a:pt x="346" y="469"/>
                  <a:pt x="348" y="474"/>
                </a:cubicBezTo>
                <a:cubicBezTo>
                  <a:pt x="349" y="478"/>
                  <a:pt x="353" y="479"/>
                  <a:pt x="354" y="475"/>
                </a:cubicBezTo>
                <a:cubicBezTo>
                  <a:pt x="355" y="472"/>
                  <a:pt x="349" y="446"/>
                  <a:pt x="348" y="442"/>
                </a:cubicBezTo>
                <a:cubicBezTo>
                  <a:pt x="348" y="439"/>
                  <a:pt x="346" y="423"/>
                  <a:pt x="347" y="422"/>
                </a:cubicBezTo>
                <a:cubicBezTo>
                  <a:pt x="348" y="421"/>
                  <a:pt x="352" y="423"/>
                  <a:pt x="354" y="425"/>
                </a:cubicBezTo>
                <a:cubicBezTo>
                  <a:pt x="357" y="427"/>
                  <a:pt x="362" y="432"/>
                  <a:pt x="366" y="433"/>
                </a:cubicBezTo>
                <a:cubicBezTo>
                  <a:pt x="370" y="434"/>
                  <a:pt x="373" y="430"/>
                  <a:pt x="371" y="429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797" name="组合 8"/>
          <p:cNvGrpSpPr/>
          <p:nvPr/>
        </p:nvGrpSpPr>
        <p:grpSpPr>
          <a:xfrm>
            <a:off x="4556160" y="578880"/>
            <a:ext cx="247320" cy="389880"/>
            <a:chOff x="4556160" y="578880"/>
            <a:chExt cx="247320" cy="389880"/>
          </a:xfrm>
        </p:grpSpPr>
        <p:sp>
          <p:nvSpPr>
            <p:cNvPr id="798" name="等腰三角形 9"/>
            <p:cNvSpPr/>
            <p:nvPr/>
          </p:nvSpPr>
          <p:spPr>
            <a:xfrm rot="16200000">
              <a:off x="4519080" y="61560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799" name="等腰三角形 10"/>
            <p:cNvSpPr/>
            <p:nvPr/>
          </p:nvSpPr>
          <p:spPr>
            <a:xfrm rot="9461400">
              <a:off x="4653360" y="62244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00" name="组合 15"/>
          <p:cNvGrpSpPr/>
          <p:nvPr/>
        </p:nvGrpSpPr>
        <p:grpSpPr>
          <a:xfrm>
            <a:off x="4566600" y="1895400"/>
            <a:ext cx="247320" cy="389880"/>
            <a:chOff x="4566600" y="1895400"/>
            <a:chExt cx="247320" cy="389880"/>
          </a:xfrm>
        </p:grpSpPr>
        <p:sp>
          <p:nvSpPr>
            <p:cNvPr id="801" name="等腰三角形 16"/>
            <p:cNvSpPr/>
            <p:nvPr/>
          </p:nvSpPr>
          <p:spPr>
            <a:xfrm rot="16200000">
              <a:off x="4529520" y="193212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02" name="等腰三角形 17"/>
            <p:cNvSpPr/>
            <p:nvPr/>
          </p:nvSpPr>
          <p:spPr>
            <a:xfrm rot="9461400">
              <a:off x="4663800" y="193896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03" name="组合 18"/>
          <p:cNvGrpSpPr/>
          <p:nvPr/>
        </p:nvGrpSpPr>
        <p:grpSpPr>
          <a:xfrm>
            <a:off x="4806000" y="2935440"/>
            <a:ext cx="433080" cy="242640"/>
            <a:chOff x="4806000" y="2935440"/>
            <a:chExt cx="433080" cy="242640"/>
          </a:xfrm>
        </p:grpSpPr>
        <p:sp>
          <p:nvSpPr>
            <p:cNvPr id="804" name="等腰三角形 19"/>
            <p:cNvSpPr/>
            <p:nvPr/>
          </p:nvSpPr>
          <p:spPr>
            <a:xfrm rot="13072200">
              <a:off x="4826520" y="298620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05" name="等腰三角形 20"/>
            <p:cNvSpPr/>
            <p:nvPr/>
          </p:nvSpPr>
          <p:spPr>
            <a:xfrm rot="6332400">
              <a:off x="5018040" y="289548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06" name="组合 21"/>
          <p:cNvGrpSpPr/>
          <p:nvPr/>
        </p:nvGrpSpPr>
        <p:grpSpPr>
          <a:xfrm>
            <a:off x="3700800" y="3024360"/>
            <a:ext cx="433440" cy="242640"/>
            <a:chOff x="3700800" y="3024360"/>
            <a:chExt cx="433440" cy="242640"/>
          </a:xfrm>
        </p:grpSpPr>
        <p:sp>
          <p:nvSpPr>
            <p:cNvPr id="807" name="等腰三角形 22"/>
            <p:cNvSpPr/>
            <p:nvPr/>
          </p:nvSpPr>
          <p:spPr>
            <a:xfrm rot="13072200">
              <a:off x="3721320" y="307512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08" name="等腰三角形 23"/>
            <p:cNvSpPr/>
            <p:nvPr/>
          </p:nvSpPr>
          <p:spPr>
            <a:xfrm rot="6332400">
              <a:off x="3913200" y="298440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09" name="组合 24"/>
          <p:cNvGrpSpPr/>
          <p:nvPr/>
        </p:nvGrpSpPr>
        <p:grpSpPr>
          <a:xfrm>
            <a:off x="4403160" y="2400480"/>
            <a:ext cx="198720" cy="420480"/>
            <a:chOff x="4403160" y="2400480"/>
            <a:chExt cx="198720" cy="420480"/>
          </a:xfrm>
        </p:grpSpPr>
        <p:sp>
          <p:nvSpPr>
            <p:cNvPr id="810" name="等腰三角形 25"/>
            <p:cNvSpPr/>
            <p:nvPr/>
          </p:nvSpPr>
          <p:spPr>
            <a:xfrm rot="6357000">
              <a:off x="4397400" y="262800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11" name="等腰三角形 26"/>
            <p:cNvSpPr/>
            <p:nvPr/>
          </p:nvSpPr>
          <p:spPr>
            <a:xfrm rot="21217800">
              <a:off x="4421520" y="240408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12" name="组合 27"/>
          <p:cNvGrpSpPr/>
          <p:nvPr/>
        </p:nvGrpSpPr>
        <p:grpSpPr>
          <a:xfrm>
            <a:off x="4156920" y="2180160"/>
            <a:ext cx="198720" cy="420120"/>
            <a:chOff x="4156920" y="2180160"/>
            <a:chExt cx="198720" cy="420120"/>
          </a:xfrm>
        </p:grpSpPr>
        <p:sp>
          <p:nvSpPr>
            <p:cNvPr id="813" name="等腰三角形 28"/>
            <p:cNvSpPr/>
            <p:nvPr/>
          </p:nvSpPr>
          <p:spPr>
            <a:xfrm rot="6357000">
              <a:off x="4151160" y="240732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14" name="等腰三角形 29"/>
            <p:cNvSpPr/>
            <p:nvPr/>
          </p:nvSpPr>
          <p:spPr>
            <a:xfrm rot="21217800">
              <a:off x="4175280" y="218376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15" name="组合 30"/>
          <p:cNvGrpSpPr/>
          <p:nvPr/>
        </p:nvGrpSpPr>
        <p:grpSpPr>
          <a:xfrm>
            <a:off x="6129720" y="3655440"/>
            <a:ext cx="257760" cy="349920"/>
            <a:chOff x="6129720" y="3655440"/>
            <a:chExt cx="257760" cy="349920"/>
          </a:xfrm>
        </p:grpSpPr>
        <p:sp>
          <p:nvSpPr>
            <p:cNvPr id="816" name="等腰三角形 31"/>
            <p:cNvSpPr/>
            <p:nvPr/>
          </p:nvSpPr>
          <p:spPr>
            <a:xfrm rot="6357000">
              <a:off x="6183000" y="375984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17" name="等腰三角形 32"/>
            <p:cNvSpPr/>
            <p:nvPr/>
          </p:nvSpPr>
          <p:spPr>
            <a:xfrm rot="21217800">
              <a:off x="6148080" y="365904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18" name="组合 33"/>
          <p:cNvGrpSpPr/>
          <p:nvPr/>
        </p:nvGrpSpPr>
        <p:grpSpPr>
          <a:xfrm>
            <a:off x="7605000" y="2283120"/>
            <a:ext cx="198720" cy="420480"/>
            <a:chOff x="7605000" y="2283120"/>
            <a:chExt cx="198720" cy="420480"/>
          </a:xfrm>
        </p:grpSpPr>
        <p:sp>
          <p:nvSpPr>
            <p:cNvPr id="819" name="等腰三角形 34"/>
            <p:cNvSpPr/>
            <p:nvPr/>
          </p:nvSpPr>
          <p:spPr>
            <a:xfrm rot="6357000">
              <a:off x="7599240" y="251064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20" name="等腰三角形 35"/>
            <p:cNvSpPr/>
            <p:nvPr/>
          </p:nvSpPr>
          <p:spPr>
            <a:xfrm rot="21217800">
              <a:off x="7623360" y="228672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21" name="组合 36"/>
          <p:cNvGrpSpPr/>
          <p:nvPr/>
        </p:nvGrpSpPr>
        <p:grpSpPr>
          <a:xfrm>
            <a:off x="7043760" y="1989000"/>
            <a:ext cx="198720" cy="420120"/>
            <a:chOff x="7043760" y="1989000"/>
            <a:chExt cx="198720" cy="420120"/>
          </a:xfrm>
        </p:grpSpPr>
        <p:sp>
          <p:nvSpPr>
            <p:cNvPr id="822" name="等腰三角形 37"/>
            <p:cNvSpPr/>
            <p:nvPr/>
          </p:nvSpPr>
          <p:spPr>
            <a:xfrm rot="6357000">
              <a:off x="7038000" y="221616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23" name="等腰三角形 38"/>
            <p:cNvSpPr/>
            <p:nvPr/>
          </p:nvSpPr>
          <p:spPr>
            <a:xfrm rot="21217800">
              <a:off x="7062120" y="199260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24" name="组合 39"/>
          <p:cNvGrpSpPr/>
          <p:nvPr/>
        </p:nvGrpSpPr>
        <p:grpSpPr>
          <a:xfrm>
            <a:off x="7711920" y="1020960"/>
            <a:ext cx="198720" cy="420120"/>
            <a:chOff x="7711920" y="1020960"/>
            <a:chExt cx="198720" cy="420120"/>
          </a:xfrm>
        </p:grpSpPr>
        <p:sp>
          <p:nvSpPr>
            <p:cNvPr id="825" name="等腰三角形 40"/>
            <p:cNvSpPr/>
            <p:nvPr/>
          </p:nvSpPr>
          <p:spPr>
            <a:xfrm rot="6357000">
              <a:off x="7706160" y="124812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26" name="等腰三角形 41"/>
            <p:cNvSpPr/>
            <p:nvPr/>
          </p:nvSpPr>
          <p:spPr>
            <a:xfrm rot="21217800">
              <a:off x="7730280" y="102456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27" name="组合 42"/>
          <p:cNvGrpSpPr/>
          <p:nvPr/>
        </p:nvGrpSpPr>
        <p:grpSpPr>
          <a:xfrm>
            <a:off x="7066080" y="716760"/>
            <a:ext cx="198720" cy="420120"/>
            <a:chOff x="7066080" y="716760"/>
            <a:chExt cx="198720" cy="420120"/>
          </a:xfrm>
        </p:grpSpPr>
        <p:sp>
          <p:nvSpPr>
            <p:cNvPr id="828" name="等腰三角形 43"/>
            <p:cNvSpPr/>
            <p:nvPr/>
          </p:nvSpPr>
          <p:spPr>
            <a:xfrm rot="6357000">
              <a:off x="7060320" y="94392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29" name="等腰三角形 44"/>
            <p:cNvSpPr/>
            <p:nvPr/>
          </p:nvSpPr>
          <p:spPr>
            <a:xfrm rot="21217800">
              <a:off x="7084440" y="72036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30" name="组合 45"/>
          <p:cNvGrpSpPr/>
          <p:nvPr/>
        </p:nvGrpSpPr>
        <p:grpSpPr>
          <a:xfrm>
            <a:off x="6846120" y="1623240"/>
            <a:ext cx="423360" cy="212040"/>
            <a:chOff x="6846120" y="1623240"/>
            <a:chExt cx="423360" cy="212040"/>
          </a:xfrm>
        </p:grpSpPr>
        <p:sp>
          <p:nvSpPr>
            <p:cNvPr id="831" name="等腰三角形 46"/>
            <p:cNvSpPr/>
            <p:nvPr/>
          </p:nvSpPr>
          <p:spPr>
            <a:xfrm rot="1344000">
              <a:off x="7036200" y="165852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32" name="等腰三角形 47"/>
            <p:cNvSpPr/>
            <p:nvPr/>
          </p:nvSpPr>
          <p:spPr>
            <a:xfrm rot="16204800">
              <a:off x="6973200" y="158256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33" name="组合 48"/>
          <p:cNvGrpSpPr/>
          <p:nvPr/>
        </p:nvGrpSpPr>
        <p:grpSpPr>
          <a:xfrm>
            <a:off x="7386480" y="227520"/>
            <a:ext cx="384480" cy="285480"/>
            <a:chOff x="7386480" y="227520"/>
            <a:chExt cx="384480" cy="285480"/>
          </a:xfrm>
        </p:grpSpPr>
        <p:sp>
          <p:nvSpPr>
            <p:cNvPr id="834" name="等腰三角形 49"/>
            <p:cNvSpPr/>
            <p:nvPr/>
          </p:nvSpPr>
          <p:spPr>
            <a:xfrm rot="21212400">
              <a:off x="7549200" y="23904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35" name="等腰三角形 50"/>
            <p:cNvSpPr/>
            <p:nvPr/>
          </p:nvSpPr>
          <p:spPr>
            <a:xfrm rot="14473800">
              <a:off x="7513560" y="22068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36" name="组合 51"/>
          <p:cNvGrpSpPr/>
          <p:nvPr/>
        </p:nvGrpSpPr>
        <p:grpSpPr>
          <a:xfrm>
            <a:off x="5167080" y="470520"/>
            <a:ext cx="197280" cy="420840"/>
            <a:chOff x="5167080" y="470520"/>
            <a:chExt cx="197280" cy="420840"/>
          </a:xfrm>
        </p:grpSpPr>
        <p:sp>
          <p:nvSpPr>
            <p:cNvPr id="837" name="等腰三角形 52"/>
            <p:cNvSpPr/>
            <p:nvPr/>
          </p:nvSpPr>
          <p:spPr>
            <a:xfrm rot="6379800">
              <a:off x="5159160" y="69804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38" name="等腰三角形 53"/>
            <p:cNvSpPr/>
            <p:nvPr/>
          </p:nvSpPr>
          <p:spPr>
            <a:xfrm rot="21241200">
              <a:off x="5184360" y="47412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39" name="组合 54"/>
          <p:cNvGrpSpPr/>
          <p:nvPr/>
        </p:nvGrpSpPr>
        <p:grpSpPr>
          <a:xfrm>
            <a:off x="5026320" y="2037240"/>
            <a:ext cx="197280" cy="420480"/>
            <a:chOff x="5026320" y="2037240"/>
            <a:chExt cx="197280" cy="420480"/>
          </a:xfrm>
        </p:grpSpPr>
        <p:sp>
          <p:nvSpPr>
            <p:cNvPr id="840" name="等腰三角形 55"/>
            <p:cNvSpPr/>
            <p:nvPr/>
          </p:nvSpPr>
          <p:spPr>
            <a:xfrm rot="6379800">
              <a:off x="5018400" y="2264400"/>
              <a:ext cx="214560" cy="1407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5280" bIns="35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41" name="等腰三角形 56"/>
            <p:cNvSpPr/>
            <p:nvPr/>
          </p:nvSpPr>
          <p:spPr>
            <a:xfrm rot="21241200">
              <a:off x="5043600" y="2040840"/>
              <a:ext cx="88200" cy="34236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42" name="组合 64"/>
          <p:cNvGrpSpPr/>
          <p:nvPr/>
        </p:nvGrpSpPr>
        <p:grpSpPr>
          <a:xfrm>
            <a:off x="4958280" y="5244840"/>
            <a:ext cx="534960" cy="726840"/>
            <a:chOff x="4958280" y="5244840"/>
            <a:chExt cx="534960" cy="726840"/>
          </a:xfrm>
        </p:grpSpPr>
        <p:sp>
          <p:nvSpPr>
            <p:cNvPr id="843" name="等腰三角形 65"/>
            <p:cNvSpPr/>
            <p:nvPr/>
          </p:nvSpPr>
          <p:spPr>
            <a:xfrm rot="6357000">
              <a:off x="5068080" y="5462280"/>
              <a:ext cx="446040" cy="29232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44" name="等腰三角形 66"/>
            <p:cNvSpPr/>
            <p:nvPr/>
          </p:nvSpPr>
          <p:spPr>
            <a:xfrm rot="21217800">
              <a:off x="4996800" y="5252760"/>
              <a:ext cx="183600" cy="710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45" name="组合 67"/>
          <p:cNvGrpSpPr/>
          <p:nvPr/>
        </p:nvGrpSpPr>
        <p:grpSpPr>
          <a:xfrm>
            <a:off x="6659280" y="3965040"/>
            <a:ext cx="641160" cy="693000"/>
            <a:chOff x="6659280" y="3965040"/>
            <a:chExt cx="641160" cy="693000"/>
          </a:xfrm>
        </p:grpSpPr>
        <p:sp>
          <p:nvSpPr>
            <p:cNvPr id="846" name="等腰三角形 68"/>
            <p:cNvSpPr/>
            <p:nvPr/>
          </p:nvSpPr>
          <p:spPr>
            <a:xfrm rot="4711800">
              <a:off x="6889680" y="4071960"/>
              <a:ext cx="446040" cy="29232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47" name="等腰三角形 69"/>
            <p:cNvSpPr/>
            <p:nvPr/>
          </p:nvSpPr>
          <p:spPr>
            <a:xfrm rot="19573200">
              <a:off x="6841080" y="3956040"/>
              <a:ext cx="183600" cy="710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48" name="组合 70"/>
          <p:cNvGrpSpPr/>
          <p:nvPr/>
        </p:nvGrpSpPr>
        <p:grpSpPr>
          <a:xfrm>
            <a:off x="6791760" y="2809800"/>
            <a:ext cx="655560" cy="727920"/>
            <a:chOff x="6791760" y="2809800"/>
            <a:chExt cx="655560" cy="727920"/>
          </a:xfrm>
        </p:grpSpPr>
        <p:sp>
          <p:nvSpPr>
            <p:cNvPr id="849" name="等腰三角形 71"/>
            <p:cNvSpPr/>
            <p:nvPr/>
          </p:nvSpPr>
          <p:spPr>
            <a:xfrm rot="18843000">
              <a:off x="6828840" y="2931840"/>
              <a:ext cx="446040" cy="29232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50" name="等腰三角形 72"/>
            <p:cNvSpPr/>
            <p:nvPr/>
          </p:nvSpPr>
          <p:spPr>
            <a:xfrm rot="12104400">
              <a:off x="7138440" y="2818080"/>
              <a:ext cx="183600" cy="710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851" name="组合 73"/>
          <p:cNvGrpSpPr/>
          <p:nvPr/>
        </p:nvGrpSpPr>
        <p:grpSpPr>
          <a:xfrm>
            <a:off x="4596120" y="3889440"/>
            <a:ext cx="655560" cy="727920"/>
            <a:chOff x="4596120" y="3889440"/>
            <a:chExt cx="655560" cy="727920"/>
          </a:xfrm>
        </p:grpSpPr>
        <p:sp>
          <p:nvSpPr>
            <p:cNvPr id="852" name="等腰三角形 74"/>
            <p:cNvSpPr/>
            <p:nvPr/>
          </p:nvSpPr>
          <p:spPr>
            <a:xfrm rot="18843000">
              <a:off x="4633200" y="4011480"/>
              <a:ext cx="446040" cy="29232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53" name="等腰三角形 75"/>
            <p:cNvSpPr/>
            <p:nvPr/>
          </p:nvSpPr>
          <p:spPr>
            <a:xfrm rot="12104400">
              <a:off x="4942800" y="3897720"/>
              <a:ext cx="183600" cy="710640"/>
            </a:xfrm>
            <a:prstGeom prst="triangle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矩形 3"/>
          <p:cNvSpPr/>
          <p:nvPr/>
        </p:nvSpPr>
        <p:spPr>
          <a:xfrm>
            <a:off x="0" y="0"/>
            <a:ext cx="12191760" cy="368928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855" name="组合 8"/>
          <p:cNvGrpSpPr/>
          <p:nvPr/>
        </p:nvGrpSpPr>
        <p:grpSpPr>
          <a:xfrm>
            <a:off x="360" y="360"/>
            <a:ext cx="12191760" cy="2171520"/>
            <a:chOff x="360" y="360"/>
            <a:chExt cx="12191760" cy="2171520"/>
          </a:xfrm>
        </p:grpSpPr>
        <p:sp>
          <p:nvSpPr>
            <p:cNvPr id="856" name="梯形 6"/>
            <p:cNvSpPr/>
            <p:nvPr/>
          </p:nvSpPr>
          <p:spPr>
            <a:xfrm rot="10800000">
              <a:off x="360" y="0"/>
              <a:ext cx="12191760" cy="956880"/>
            </a:xfrm>
            <a:prstGeom prst="trapezoid">
              <a:avLst>
                <a:gd name="adj" fmla="val 75727"/>
              </a:avLst>
            </a:prstGeom>
            <a:solidFill>
              <a:srgbClr val="7f7f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57" name="梯形 7"/>
            <p:cNvSpPr/>
            <p:nvPr/>
          </p:nvSpPr>
          <p:spPr>
            <a:xfrm flipV="1" rot="10800000">
              <a:off x="360" y="957960"/>
              <a:ext cx="12191760" cy="1213920"/>
            </a:xfrm>
            <a:prstGeom prst="trapezoid">
              <a:avLst>
                <a:gd name="adj" fmla="val 57002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858" name="椭圆 4"/>
          <p:cNvSpPr/>
          <p:nvPr/>
        </p:nvSpPr>
        <p:spPr>
          <a:xfrm>
            <a:off x="4214160" y="1284840"/>
            <a:ext cx="3763080" cy="519480"/>
          </a:xfrm>
          <a:prstGeom prst="ellipse">
            <a:avLst/>
          </a:prstGeom>
          <a:solidFill>
            <a:schemeClr val="bg2">
              <a:lumMod val="10000"/>
              <a:alpha val="2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59" name="Freeform 5"/>
          <p:cNvSpPr/>
          <p:nvPr/>
        </p:nvSpPr>
        <p:spPr>
          <a:xfrm>
            <a:off x="3461040" y="-9805680"/>
            <a:ext cx="5270040" cy="11436840"/>
          </a:xfrm>
          <a:custGeom>
            <a:avLst/>
            <a:gdLst>
              <a:gd name="textAreaLeft" fmla="*/ 0 w 5270040"/>
              <a:gd name="textAreaRight" fmla="*/ 5270400 w 5270040"/>
              <a:gd name="textAreaTop" fmla="*/ 0 h 11436840"/>
              <a:gd name="textAreaBottom" fmla="*/ 11437200 h 11436840"/>
            </a:gdLst>
            <a:ahLst/>
            <a:rect l="textAreaLeft" t="textAreaTop" r="textAreaRight" b="textAreaBottom"/>
            <a:pathLst>
              <a:path w="373" h="817">
                <a:moveTo>
                  <a:pt x="371" y="429"/>
                </a:moveTo>
                <a:cubicBezTo>
                  <a:pt x="369" y="428"/>
                  <a:pt x="356" y="413"/>
                  <a:pt x="354" y="411"/>
                </a:cubicBezTo>
                <a:cubicBezTo>
                  <a:pt x="351" y="409"/>
                  <a:pt x="350" y="405"/>
                  <a:pt x="343" y="403"/>
                </a:cubicBezTo>
                <a:cubicBezTo>
                  <a:pt x="337" y="402"/>
                  <a:pt x="334" y="403"/>
                  <a:pt x="334" y="403"/>
                </a:cubicBezTo>
                <a:cubicBezTo>
                  <a:pt x="330" y="398"/>
                  <a:pt x="321" y="371"/>
                  <a:pt x="315" y="349"/>
                </a:cubicBezTo>
                <a:cubicBezTo>
                  <a:pt x="308" y="327"/>
                  <a:pt x="308" y="306"/>
                  <a:pt x="303" y="296"/>
                </a:cubicBezTo>
                <a:cubicBezTo>
                  <a:pt x="298" y="285"/>
                  <a:pt x="295" y="274"/>
                  <a:pt x="292" y="259"/>
                </a:cubicBezTo>
                <a:cubicBezTo>
                  <a:pt x="288" y="244"/>
                  <a:pt x="288" y="206"/>
                  <a:pt x="288" y="181"/>
                </a:cubicBezTo>
                <a:cubicBezTo>
                  <a:pt x="288" y="157"/>
                  <a:pt x="271" y="153"/>
                  <a:pt x="255" y="145"/>
                </a:cubicBezTo>
                <a:cubicBezTo>
                  <a:pt x="240" y="138"/>
                  <a:pt x="219" y="125"/>
                  <a:pt x="215" y="118"/>
                </a:cubicBezTo>
                <a:cubicBezTo>
                  <a:pt x="213" y="113"/>
                  <a:pt x="214" y="102"/>
                  <a:pt x="215" y="94"/>
                </a:cubicBezTo>
                <a:cubicBezTo>
                  <a:pt x="217" y="90"/>
                  <a:pt x="219" y="84"/>
                  <a:pt x="221" y="77"/>
                </a:cubicBezTo>
                <a:cubicBezTo>
                  <a:pt x="221" y="75"/>
                  <a:pt x="221" y="75"/>
                  <a:pt x="221" y="75"/>
                </a:cubicBezTo>
                <a:cubicBezTo>
                  <a:pt x="222" y="76"/>
                  <a:pt x="225" y="75"/>
                  <a:pt x="227" y="73"/>
                </a:cubicBezTo>
                <a:cubicBezTo>
                  <a:pt x="229" y="71"/>
                  <a:pt x="230" y="65"/>
                  <a:pt x="232" y="62"/>
                </a:cubicBezTo>
                <a:cubicBezTo>
                  <a:pt x="235" y="52"/>
                  <a:pt x="235" y="43"/>
                  <a:pt x="222" y="50"/>
                </a:cubicBezTo>
                <a:cubicBezTo>
                  <a:pt x="223" y="36"/>
                  <a:pt x="223" y="36"/>
                  <a:pt x="223" y="36"/>
                </a:cubicBezTo>
                <a:cubicBezTo>
                  <a:pt x="223" y="16"/>
                  <a:pt x="207" y="0"/>
                  <a:pt x="186" y="0"/>
                </a:cubicBezTo>
                <a:cubicBezTo>
                  <a:pt x="166" y="0"/>
                  <a:pt x="150" y="16"/>
                  <a:pt x="150" y="36"/>
                </a:cubicBezTo>
                <a:cubicBezTo>
                  <a:pt x="151" y="49"/>
                  <a:pt x="151" y="49"/>
                  <a:pt x="151" y="49"/>
                </a:cubicBezTo>
                <a:cubicBezTo>
                  <a:pt x="140" y="44"/>
                  <a:pt x="140" y="53"/>
                  <a:pt x="143" y="62"/>
                </a:cubicBezTo>
                <a:cubicBezTo>
                  <a:pt x="144" y="65"/>
                  <a:pt x="146" y="71"/>
                  <a:pt x="148" y="73"/>
                </a:cubicBezTo>
                <a:cubicBezTo>
                  <a:pt x="149" y="75"/>
                  <a:pt x="151" y="76"/>
                  <a:pt x="153" y="75"/>
                </a:cubicBezTo>
                <a:cubicBezTo>
                  <a:pt x="153" y="83"/>
                  <a:pt x="155" y="90"/>
                  <a:pt x="158" y="96"/>
                </a:cubicBezTo>
                <a:cubicBezTo>
                  <a:pt x="160" y="104"/>
                  <a:pt x="160" y="114"/>
                  <a:pt x="158" y="118"/>
                </a:cubicBezTo>
                <a:cubicBezTo>
                  <a:pt x="154" y="125"/>
                  <a:pt x="133" y="138"/>
                  <a:pt x="118" y="145"/>
                </a:cubicBezTo>
                <a:cubicBezTo>
                  <a:pt x="102" y="153"/>
                  <a:pt x="85" y="157"/>
                  <a:pt x="85" y="181"/>
                </a:cubicBezTo>
                <a:cubicBezTo>
                  <a:pt x="85" y="206"/>
                  <a:pt x="85" y="244"/>
                  <a:pt x="82" y="259"/>
                </a:cubicBezTo>
                <a:cubicBezTo>
                  <a:pt x="78" y="274"/>
                  <a:pt x="75" y="285"/>
                  <a:pt x="70" y="296"/>
                </a:cubicBezTo>
                <a:cubicBezTo>
                  <a:pt x="65" y="306"/>
                  <a:pt x="65" y="327"/>
                  <a:pt x="58" y="349"/>
                </a:cubicBezTo>
                <a:cubicBezTo>
                  <a:pt x="52" y="371"/>
                  <a:pt x="43" y="398"/>
                  <a:pt x="39" y="403"/>
                </a:cubicBezTo>
                <a:cubicBezTo>
                  <a:pt x="39" y="403"/>
                  <a:pt x="37" y="404"/>
                  <a:pt x="30" y="405"/>
                </a:cubicBezTo>
                <a:cubicBezTo>
                  <a:pt x="23" y="406"/>
                  <a:pt x="22" y="410"/>
                  <a:pt x="19" y="413"/>
                </a:cubicBezTo>
                <a:cubicBezTo>
                  <a:pt x="17" y="415"/>
                  <a:pt x="4" y="428"/>
                  <a:pt x="2" y="429"/>
                </a:cubicBezTo>
                <a:cubicBezTo>
                  <a:pt x="0" y="430"/>
                  <a:pt x="3" y="434"/>
                  <a:pt x="7" y="433"/>
                </a:cubicBezTo>
                <a:cubicBezTo>
                  <a:pt x="11" y="432"/>
                  <a:pt x="17" y="428"/>
                  <a:pt x="19" y="426"/>
                </a:cubicBezTo>
                <a:cubicBezTo>
                  <a:pt x="22" y="424"/>
                  <a:pt x="25" y="421"/>
                  <a:pt x="26" y="422"/>
                </a:cubicBezTo>
                <a:cubicBezTo>
                  <a:pt x="27" y="423"/>
                  <a:pt x="25" y="439"/>
                  <a:pt x="25" y="442"/>
                </a:cubicBezTo>
                <a:cubicBezTo>
                  <a:pt x="24" y="446"/>
                  <a:pt x="18" y="472"/>
                  <a:pt x="19" y="475"/>
                </a:cubicBezTo>
                <a:cubicBezTo>
                  <a:pt x="20" y="479"/>
                  <a:pt x="24" y="478"/>
                  <a:pt x="25" y="474"/>
                </a:cubicBezTo>
                <a:cubicBezTo>
                  <a:pt x="27" y="469"/>
                  <a:pt x="33" y="449"/>
                  <a:pt x="33" y="449"/>
                </a:cubicBezTo>
                <a:cubicBezTo>
                  <a:pt x="33" y="449"/>
                  <a:pt x="29" y="482"/>
                  <a:pt x="31" y="484"/>
                </a:cubicBezTo>
                <a:cubicBezTo>
                  <a:pt x="34" y="487"/>
                  <a:pt x="37" y="487"/>
                  <a:pt x="38" y="483"/>
                </a:cubicBezTo>
                <a:cubicBezTo>
                  <a:pt x="39" y="478"/>
                  <a:pt x="42" y="451"/>
                  <a:pt x="42" y="451"/>
                </a:cubicBezTo>
                <a:cubicBezTo>
                  <a:pt x="42" y="451"/>
                  <a:pt x="43" y="479"/>
                  <a:pt x="45" y="481"/>
                </a:cubicBezTo>
                <a:cubicBezTo>
                  <a:pt x="46" y="483"/>
                  <a:pt x="52" y="485"/>
                  <a:pt x="52" y="479"/>
                </a:cubicBezTo>
                <a:cubicBezTo>
                  <a:pt x="52" y="473"/>
                  <a:pt x="53" y="451"/>
                  <a:pt x="53" y="451"/>
                </a:cubicBezTo>
                <a:cubicBezTo>
                  <a:pt x="53" y="451"/>
                  <a:pt x="59" y="467"/>
                  <a:pt x="62" y="470"/>
                </a:cubicBezTo>
                <a:cubicBezTo>
                  <a:pt x="64" y="473"/>
                  <a:pt x="68" y="475"/>
                  <a:pt x="67" y="469"/>
                </a:cubicBezTo>
                <a:cubicBezTo>
                  <a:pt x="66" y="464"/>
                  <a:pt x="63" y="445"/>
                  <a:pt x="63" y="442"/>
                </a:cubicBezTo>
                <a:cubicBezTo>
                  <a:pt x="63" y="438"/>
                  <a:pt x="64" y="428"/>
                  <a:pt x="65" y="427"/>
                </a:cubicBezTo>
                <a:cubicBezTo>
                  <a:pt x="66" y="425"/>
                  <a:pt x="66" y="412"/>
                  <a:pt x="66" y="409"/>
                </a:cubicBezTo>
                <a:cubicBezTo>
                  <a:pt x="65" y="406"/>
                  <a:pt x="96" y="347"/>
                  <a:pt x="99" y="340"/>
                </a:cubicBezTo>
                <a:cubicBezTo>
                  <a:pt x="102" y="333"/>
                  <a:pt x="108" y="317"/>
                  <a:pt x="109" y="313"/>
                </a:cubicBezTo>
                <a:cubicBezTo>
                  <a:pt x="110" y="308"/>
                  <a:pt x="109" y="294"/>
                  <a:pt x="110" y="292"/>
                </a:cubicBezTo>
                <a:cubicBezTo>
                  <a:pt x="110" y="290"/>
                  <a:pt x="117" y="258"/>
                  <a:pt x="119" y="255"/>
                </a:cubicBezTo>
                <a:cubicBezTo>
                  <a:pt x="121" y="251"/>
                  <a:pt x="121" y="266"/>
                  <a:pt x="121" y="268"/>
                </a:cubicBezTo>
                <a:cubicBezTo>
                  <a:pt x="121" y="270"/>
                  <a:pt x="120" y="338"/>
                  <a:pt x="120" y="345"/>
                </a:cubicBezTo>
                <a:cubicBezTo>
                  <a:pt x="120" y="351"/>
                  <a:pt x="114" y="379"/>
                  <a:pt x="114" y="388"/>
                </a:cubicBezTo>
                <a:cubicBezTo>
                  <a:pt x="114" y="398"/>
                  <a:pt x="108" y="478"/>
                  <a:pt x="113" y="501"/>
                </a:cubicBezTo>
                <a:cubicBezTo>
                  <a:pt x="118" y="523"/>
                  <a:pt x="121" y="555"/>
                  <a:pt x="121" y="560"/>
                </a:cubicBezTo>
                <a:cubicBezTo>
                  <a:pt x="121" y="566"/>
                  <a:pt x="124" y="595"/>
                  <a:pt x="122" y="602"/>
                </a:cubicBezTo>
                <a:cubicBezTo>
                  <a:pt x="120" y="609"/>
                  <a:pt x="115" y="658"/>
                  <a:pt x="121" y="687"/>
                </a:cubicBezTo>
                <a:cubicBezTo>
                  <a:pt x="127" y="716"/>
                  <a:pt x="131" y="735"/>
                  <a:pt x="131" y="748"/>
                </a:cubicBezTo>
                <a:cubicBezTo>
                  <a:pt x="131" y="760"/>
                  <a:pt x="127" y="775"/>
                  <a:pt x="125" y="783"/>
                </a:cubicBezTo>
                <a:cubicBezTo>
                  <a:pt x="122" y="791"/>
                  <a:pt x="110" y="800"/>
                  <a:pt x="113" y="805"/>
                </a:cubicBezTo>
                <a:cubicBezTo>
                  <a:pt x="116" y="810"/>
                  <a:pt x="122" y="811"/>
                  <a:pt x="122" y="811"/>
                </a:cubicBezTo>
                <a:cubicBezTo>
                  <a:pt x="122" y="811"/>
                  <a:pt x="128" y="810"/>
                  <a:pt x="132" y="812"/>
                </a:cubicBezTo>
                <a:cubicBezTo>
                  <a:pt x="136" y="814"/>
                  <a:pt x="141" y="817"/>
                  <a:pt x="147" y="815"/>
                </a:cubicBezTo>
                <a:cubicBezTo>
                  <a:pt x="153" y="813"/>
                  <a:pt x="157" y="810"/>
                  <a:pt x="158" y="805"/>
                </a:cubicBezTo>
                <a:cubicBezTo>
                  <a:pt x="159" y="800"/>
                  <a:pt x="158" y="789"/>
                  <a:pt x="159" y="780"/>
                </a:cubicBezTo>
                <a:cubicBezTo>
                  <a:pt x="160" y="771"/>
                  <a:pt x="162" y="759"/>
                  <a:pt x="162" y="755"/>
                </a:cubicBezTo>
                <a:cubicBezTo>
                  <a:pt x="162" y="750"/>
                  <a:pt x="153" y="732"/>
                  <a:pt x="154" y="725"/>
                </a:cubicBezTo>
                <a:cubicBezTo>
                  <a:pt x="155" y="718"/>
                  <a:pt x="161" y="677"/>
                  <a:pt x="166" y="666"/>
                </a:cubicBezTo>
                <a:cubicBezTo>
                  <a:pt x="170" y="654"/>
                  <a:pt x="167" y="641"/>
                  <a:pt x="166" y="634"/>
                </a:cubicBezTo>
                <a:cubicBezTo>
                  <a:pt x="165" y="626"/>
                  <a:pt x="166" y="616"/>
                  <a:pt x="170" y="607"/>
                </a:cubicBezTo>
                <a:cubicBezTo>
                  <a:pt x="175" y="598"/>
                  <a:pt x="177" y="566"/>
                  <a:pt x="177" y="555"/>
                </a:cubicBezTo>
                <a:cubicBezTo>
                  <a:pt x="177" y="545"/>
                  <a:pt x="177" y="504"/>
                  <a:pt x="178" y="495"/>
                </a:cubicBezTo>
                <a:cubicBezTo>
                  <a:pt x="179" y="486"/>
                  <a:pt x="184" y="452"/>
                  <a:pt x="184" y="452"/>
                </a:cubicBezTo>
                <a:cubicBezTo>
                  <a:pt x="189" y="452"/>
                  <a:pt x="189" y="452"/>
                  <a:pt x="189" y="452"/>
                </a:cubicBezTo>
                <a:cubicBezTo>
                  <a:pt x="189" y="452"/>
                  <a:pt x="194" y="486"/>
                  <a:pt x="195" y="495"/>
                </a:cubicBezTo>
                <a:cubicBezTo>
                  <a:pt x="196" y="504"/>
                  <a:pt x="196" y="545"/>
                  <a:pt x="196" y="555"/>
                </a:cubicBezTo>
                <a:cubicBezTo>
                  <a:pt x="196" y="566"/>
                  <a:pt x="198" y="598"/>
                  <a:pt x="203" y="607"/>
                </a:cubicBezTo>
                <a:cubicBezTo>
                  <a:pt x="207" y="616"/>
                  <a:pt x="208" y="626"/>
                  <a:pt x="207" y="634"/>
                </a:cubicBezTo>
                <a:cubicBezTo>
                  <a:pt x="206" y="641"/>
                  <a:pt x="203" y="654"/>
                  <a:pt x="207" y="666"/>
                </a:cubicBezTo>
                <a:cubicBezTo>
                  <a:pt x="212" y="677"/>
                  <a:pt x="218" y="718"/>
                  <a:pt x="219" y="725"/>
                </a:cubicBezTo>
                <a:cubicBezTo>
                  <a:pt x="220" y="732"/>
                  <a:pt x="211" y="750"/>
                  <a:pt x="211" y="755"/>
                </a:cubicBezTo>
                <a:cubicBezTo>
                  <a:pt x="211" y="759"/>
                  <a:pt x="213" y="771"/>
                  <a:pt x="214" y="780"/>
                </a:cubicBezTo>
                <a:cubicBezTo>
                  <a:pt x="215" y="789"/>
                  <a:pt x="214" y="800"/>
                  <a:pt x="215" y="805"/>
                </a:cubicBezTo>
                <a:cubicBezTo>
                  <a:pt x="216" y="810"/>
                  <a:pt x="220" y="813"/>
                  <a:pt x="226" y="815"/>
                </a:cubicBezTo>
                <a:cubicBezTo>
                  <a:pt x="232" y="817"/>
                  <a:pt x="237" y="814"/>
                  <a:pt x="241" y="812"/>
                </a:cubicBezTo>
                <a:cubicBezTo>
                  <a:pt x="245" y="810"/>
                  <a:pt x="251" y="811"/>
                  <a:pt x="251" y="811"/>
                </a:cubicBezTo>
                <a:cubicBezTo>
                  <a:pt x="251" y="811"/>
                  <a:pt x="257" y="810"/>
                  <a:pt x="260" y="805"/>
                </a:cubicBezTo>
                <a:cubicBezTo>
                  <a:pt x="263" y="800"/>
                  <a:pt x="251" y="791"/>
                  <a:pt x="248" y="783"/>
                </a:cubicBezTo>
                <a:cubicBezTo>
                  <a:pt x="246" y="775"/>
                  <a:pt x="242" y="760"/>
                  <a:pt x="242" y="748"/>
                </a:cubicBezTo>
                <a:cubicBezTo>
                  <a:pt x="242" y="735"/>
                  <a:pt x="246" y="716"/>
                  <a:pt x="252" y="687"/>
                </a:cubicBezTo>
                <a:cubicBezTo>
                  <a:pt x="258" y="658"/>
                  <a:pt x="253" y="609"/>
                  <a:pt x="251" y="602"/>
                </a:cubicBezTo>
                <a:cubicBezTo>
                  <a:pt x="249" y="595"/>
                  <a:pt x="252" y="566"/>
                  <a:pt x="252" y="560"/>
                </a:cubicBezTo>
                <a:cubicBezTo>
                  <a:pt x="252" y="555"/>
                  <a:pt x="255" y="523"/>
                  <a:pt x="260" y="501"/>
                </a:cubicBezTo>
                <a:cubicBezTo>
                  <a:pt x="265" y="478"/>
                  <a:pt x="259" y="398"/>
                  <a:pt x="259" y="388"/>
                </a:cubicBezTo>
                <a:cubicBezTo>
                  <a:pt x="259" y="379"/>
                  <a:pt x="253" y="351"/>
                  <a:pt x="253" y="345"/>
                </a:cubicBezTo>
                <a:cubicBezTo>
                  <a:pt x="253" y="338"/>
                  <a:pt x="252" y="270"/>
                  <a:pt x="252" y="268"/>
                </a:cubicBezTo>
                <a:cubicBezTo>
                  <a:pt x="252" y="266"/>
                  <a:pt x="252" y="251"/>
                  <a:pt x="254" y="255"/>
                </a:cubicBezTo>
                <a:cubicBezTo>
                  <a:pt x="256" y="258"/>
                  <a:pt x="263" y="290"/>
                  <a:pt x="263" y="292"/>
                </a:cubicBezTo>
                <a:cubicBezTo>
                  <a:pt x="264" y="294"/>
                  <a:pt x="263" y="308"/>
                  <a:pt x="264" y="313"/>
                </a:cubicBezTo>
                <a:cubicBezTo>
                  <a:pt x="265" y="317"/>
                  <a:pt x="271" y="333"/>
                  <a:pt x="274" y="340"/>
                </a:cubicBezTo>
                <a:cubicBezTo>
                  <a:pt x="277" y="347"/>
                  <a:pt x="308" y="406"/>
                  <a:pt x="307" y="409"/>
                </a:cubicBezTo>
                <a:cubicBezTo>
                  <a:pt x="307" y="412"/>
                  <a:pt x="307" y="425"/>
                  <a:pt x="308" y="427"/>
                </a:cubicBezTo>
                <a:cubicBezTo>
                  <a:pt x="309" y="428"/>
                  <a:pt x="310" y="438"/>
                  <a:pt x="310" y="442"/>
                </a:cubicBezTo>
                <a:cubicBezTo>
                  <a:pt x="310" y="445"/>
                  <a:pt x="307" y="464"/>
                  <a:pt x="306" y="469"/>
                </a:cubicBezTo>
                <a:cubicBezTo>
                  <a:pt x="305" y="475"/>
                  <a:pt x="309" y="473"/>
                  <a:pt x="311" y="470"/>
                </a:cubicBezTo>
                <a:cubicBezTo>
                  <a:pt x="314" y="467"/>
                  <a:pt x="320" y="451"/>
                  <a:pt x="320" y="451"/>
                </a:cubicBezTo>
                <a:cubicBezTo>
                  <a:pt x="320" y="451"/>
                  <a:pt x="321" y="473"/>
                  <a:pt x="321" y="479"/>
                </a:cubicBezTo>
                <a:cubicBezTo>
                  <a:pt x="321" y="485"/>
                  <a:pt x="327" y="483"/>
                  <a:pt x="328" y="481"/>
                </a:cubicBezTo>
                <a:cubicBezTo>
                  <a:pt x="330" y="479"/>
                  <a:pt x="331" y="451"/>
                  <a:pt x="331" y="451"/>
                </a:cubicBezTo>
                <a:cubicBezTo>
                  <a:pt x="331" y="451"/>
                  <a:pt x="334" y="478"/>
                  <a:pt x="335" y="483"/>
                </a:cubicBezTo>
                <a:cubicBezTo>
                  <a:pt x="336" y="487"/>
                  <a:pt x="339" y="487"/>
                  <a:pt x="342" y="484"/>
                </a:cubicBezTo>
                <a:cubicBezTo>
                  <a:pt x="344" y="482"/>
                  <a:pt x="340" y="449"/>
                  <a:pt x="340" y="449"/>
                </a:cubicBezTo>
                <a:cubicBezTo>
                  <a:pt x="340" y="449"/>
                  <a:pt x="346" y="469"/>
                  <a:pt x="348" y="474"/>
                </a:cubicBezTo>
                <a:cubicBezTo>
                  <a:pt x="349" y="478"/>
                  <a:pt x="353" y="479"/>
                  <a:pt x="354" y="475"/>
                </a:cubicBezTo>
                <a:cubicBezTo>
                  <a:pt x="355" y="472"/>
                  <a:pt x="349" y="446"/>
                  <a:pt x="348" y="442"/>
                </a:cubicBezTo>
                <a:cubicBezTo>
                  <a:pt x="348" y="439"/>
                  <a:pt x="346" y="423"/>
                  <a:pt x="347" y="422"/>
                </a:cubicBezTo>
                <a:cubicBezTo>
                  <a:pt x="348" y="421"/>
                  <a:pt x="352" y="423"/>
                  <a:pt x="354" y="425"/>
                </a:cubicBezTo>
                <a:cubicBezTo>
                  <a:pt x="357" y="427"/>
                  <a:pt x="362" y="432"/>
                  <a:pt x="366" y="433"/>
                </a:cubicBezTo>
                <a:cubicBezTo>
                  <a:pt x="370" y="434"/>
                  <a:pt x="373" y="430"/>
                  <a:pt x="371" y="429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860" name="矩形 9"/>
          <p:cNvSpPr/>
          <p:nvPr/>
        </p:nvSpPr>
        <p:spPr>
          <a:xfrm>
            <a:off x="0" y="2171880"/>
            <a:ext cx="12191760" cy="468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cxnSp>
        <p:nvCxnSpPr>
          <p:cNvPr id="861" name="直接连接符 10"/>
          <p:cNvCxnSpPr/>
          <p:nvPr/>
        </p:nvCxnSpPr>
        <p:spPr>
          <a:xfrm>
            <a:off x="2425680" y="5864760"/>
            <a:ext cx="3377160" cy="3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cxnSp>
        <p:nvCxnSpPr>
          <p:cNvPr id="862" name="直接连接符 11"/>
          <p:cNvCxnSpPr/>
          <p:nvPr/>
        </p:nvCxnSpPr>
        <p:spPr>
          <a:xfrm>
            <a:off x="6388920" y="5864760"/>
            <a:ext cx="3403080" cy="3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grpSp>
        <p:nvGrpSpPr>
          <p:cNvPr id="863" name="组合 12"/>
          <p:cNvGrpSpPr/>
          <p:nvPr/>
        </p:nvGrpSpPr>
        <p:grpSpPr>
          <a:xfrm>
            <a:off x="5802480" y="5861160"/>
            <a:ext cx="586440" cy="330120"/>
            <a:chOff x="5802480" y="5861160"/>
            <a:chExt cx="586440" cy="330120"/>
          </a:xfrm>
        </p:grpSpPr>
        <p:cxnSp>
          <p:nvCxnSpPr>
            <p:cNvPr id="864" name="直接连接符 13"/>
            <p:cNvCxnSpPr/>
            <p:nvPr/>
          </p:nvCxnSpPr>
          <p:spPr>
            <a:xfrm>
              <a:off x="5802480" y="5861160"/>
              <a:ext cx="293760" cy="330480"/>
            </a:xfrm>
            <a:prstGeom prst="straightConnector1">
              <a:avLst/>
            </a:prstGeom>
            <a:ln>
              <a:solidFill>
                <a:srgbClr val="2e2e2e"/>
              </a:solidFill>
            </a:ln>
          </p:spPr>
        </p:cxnSp>
        <p:cxnSp>
          <p:nvCxnSpPr>
            <p:cNvPr id="865" name="直接连接符 14"/>
            <p:cNvCxnSpPr/>
            <p:nvPr/>
          </p:nvCxnSpPr>
          <p:spPr>
            <a:xfrm flipH="1">
              <a:off x="6095880" y="5861160"/>
              <a:ext cx="293400" cy="330480"/>
            </a:xfrm>
            <a:prstGeom prst="straightConnector1">
              <a:avLst/>
            </a:prstGeom>
            <a:ln>
              <a:solidFill>
                <a:srgbClr val="2e2e2e"/>
              </a:solidFill>
            </a:ln>
          </p:spPr>
        </p:cxnSp>
      </p:grpSp>
      <p:sp>
        <p:nvSpPr>
          <p:cNvPr id="866" name="文本框 16"/>
          <p:cNvSpPr/>
          <p:nvPr/>
        </p:nvSpPr>
        <p:spPr>
          <a:xfrm>
            <a:off x="3738240" y="4196880"/>
            <a:ext cx="471492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500" spc="-1" strike="noStrike">
                <a:solidFill>
                  <a:srgbClr val="2e2e2e"/>
                </a:solidFill>
                <a:latin typeface="微软雅黑"/>
                <a:ea typeface="微软雅黑"/>
              </a:rPr>
              <a:t>衰退或亢进影响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17"/>
          <p:cNvSpPr/>
          <p:nvPr/>
        </p:nvSpPr>
        <p:spPr>
          <a:xfrm>
            <a:off x="3742200" y="3400200"/>
            <a:ext cx="4707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不同的症状受不同脑区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1"/>
          <p:cNvGrpSpPr/>
          <p:nvPr/>
        </p:nvGrpSpPr>
        <p:grpSpPr>
          <a:xfrm>
            <a:off x="8618040" y="4002120"/>
            <a:ext cx="2601360" cy="2567880"/>
            <a:chOff x="8618040" y="4002120"/>
            <a:chExt cx="2601360" cy="2567880"/>
          </a:xfrm>
        </p:grpSpPr>
        <p:sp>
          <p:nvSpPr>
            <p:cNvPr id="160" name="Freeform 17"/>
            <p:cNvSpPr/>
            <p:nvPr/>
          </p:nvSpPr>
          <p:spPr>
            <a:xfrm rot="3066600">
              <a:off x="10098360" y="4755960"/>
              <a:ext cx="849960" cy="1102680"/>
            </a:xfrm>
            <a:custGeom>
              <a:avLst/>
              <a:gdLst>
                <a:gd name="textAreaLeft" fmla="*/ 0 w 849960"/>
                <a:gd name="textAreaRight" fmla="*/ 850320 w 849960"/>
                <a:gd name="textAreaTop" fmla="*/ 0 h 1102680"/>
                <a:gd name="textAreaBottom" fmla="*/ 1103040 h 1102680"/>
              </a:gdLst>
              <a:ahLst/>
              <a:rect l="textAreaLeft" t="textAreaTop" r="textAreaRight" b="textAreaBottom"/>
              <a:pathLst>
                <a:path w="12" h="14">
                  <a:moveTo>
                    <a:pt x="1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6" y="1"/>
                    <a:pt x="7" y="2"/>
                    <a:pt x="7" y="3"/>
                  </a:cubicBezTo>
                  <a:cubicBezTo>
                    <a:pt x="7" y="4"/>
                    <a:pt x="7" y="4"/>
                    <a:pt x="8" y="4"/>
                  </a:cubicBezTo>
                  <a:cubicBezTo>
                    <a:pt x="9" y="4"/>
                    <a:pt x="10" y="5"/>
                    <a:pt x="10" y="6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2" y="9"/>
                    <a:pt x="12" y="10"/>
                  </a:cubicBezTo>
                  <a:cubicBezTo>
                    <a:pt x="12" y="12"/>
                    <a:pt x="11" y="14"/>
                    <a:pt x="9" y="12"/>
                  </a:cubicBezTo>
                  <a:cubicBezTo>
                    <a:pt x="9" y="12"/>
                    <a:pt x="9" y="11"/>
                    <a:pt x="8" y="11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7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8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7" y="9"/>
                    <a:pt x="7" y="9"/>
                    <a:pt x="7" y="10"/>
                  </a:cubicBezTo>
                  <a:cubicBezTo>
                    <a:pt x="7" y="10"/>
                    <a:pt x="7" y="10"/>
                    <a:pt x="7" y="11"/>
                  </a:cubicBezTo>
                  <a:cubicBezTo>
                    <a:pt x="7" y="11"/>
                    <a:pt x="7" y="11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5" y="12"/>
                    <a:pt x="5" y="10"/>
                    <a:pt x="4" y="9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4" y="5"/>
                    <a:pt x="4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"/>
                    <a:pt x="3" y="5"/>
                    <a:pt x="3" y="4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3" y="8"/>
                    <a:pt x="3" y="8"/>
                    <a:pt x="4" y="9"/>
                  </a:cubicBezTo>
                  <a:cubicBezTo>
                    <a:pt x="5" y="11"/>
                    <a:pt x="3" y="13"/>
                    <a:pt x="1" y="12"/>
                  </a:cubicBezTo>
                  <a:cubicBezTo>
                    <a:pt x="0" y="11"/>
                    <a:pt x="0" y="9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 rot="3066600">
              <a:off x="9584280" y="4170240"/>
              <a:ext cx="921600" cy="1023840"/>
            </a:xfrm>
            <a:custGeom>
              <a:avLst/>
              <a:gdLst>
                <a:gd name="textAreaLeft" fmla="*/ 0 w 921600"/>
                <a:gd name="textAreaRight" fmla="*/ 921960 w 9216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3" h="13">
                  <a:moveTo>
                    <a:pt x="8" y="10"/>
                  </a:moveTo>
                  <a:cubicBezTo>
                    <a:pt x="8" y="10"/>
                    <a:pt x="7" y="10"/>
                    <a:pt x="7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5" y="7"/>
                    <a:pt x="6" y="6"/>
                    <a:pt x="6" y="5"/>
                  </a:cubicBezTo>
                  <a:cubicBezTo>
                    <a:pt x="7" y="5"/>
                    <a:pt x="7" y="5"/>
                    <a:pt x="7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9" y="7"/>
                    <a:pt x="9" y="7"/>
                    <a:pt x="9" y="6"/>
                  </a:cubicBezTo>
                  <a:cubicBezTo>
                    <a:pt x="9" y="6"/>
                    <a:pt x="9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7" y="4"/>
                    <a:pt x="7" y="4"/>
                  </a:cubicBezTo>
                  <a:cubicBezTo>
                    <a:pt x="7" y="4"/>
                    <a:pt x="7" y="4"/>
                    <a:pt x="6" y="5"/>
                  </a:cubicBezTo>
                  <a:cubicBezTo>
                    <a:pt x="5" y="5"/>
                    <a:pt x="5" y="7"/>
                    <a:pt x="6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4" y="11"/>
                    <a:pt x="4" y="12"/>
                  </a:cubicBezTo>
                  <a:cubicBezTo>
                    <a:pt x="3" y="13"/>
                    <a:pt x="3" y="13"/>
                    <a:pt x="2" y="13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5"/>
                    <a:pt x="3" y="4"/>
                    <a:pt x="4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0"/>
                    <a:pt x="13" y="2"/>
                    <a:pt x="11" y="4"/>
                  </a:cubicBezTo>
                  <a:cubicBezTo>
                    <a:pt x="11" y="5"/>
                    <a:pt x="11" y="5"/>
                    <a:pt x="11" y="6"/>
                  </a:cubicBezTo>
                  <a:cubicBezTo>
                    <a:pt x="12" y="7"/>
                    <a:pt x="12" y="10"/>
                    <a:pt x="10" y="9"/>
                  </a:cubicBezTo>
                  <a:cubicBezTo>
                    <a:pt x="9" y="9"/>
                    <a:pt x="9" y="9"/>
                    <a:pt x="8" y="10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2" name="Freeform 19"/>
            <p:cNvSpPr/>
            <p:nvPr/>
          </p:nvSpPr>
          <p:spPr>
            <a:xfrm rot="3066600">
              <a:off x="9637560" y="4949280"/>
              <a:ext cx="425160" cy="2358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6" h="3">
                  <a:moveTo>
                    <a:pt x="2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3"/>
                    <a:pt x="4" y="2"/>
                    <a:pt x="2" y="3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3" name="任意多边形 5"/>
            <p:cNvSpPr/>
            <p:nvPr/>
          </p:nvSpPr>
          <p:spPr>
            <a:xfrm rot="3066600">
              <a:off x="8718480" y="5103720"/>
              <a:ext cx="1613160" cy="1029960"/>
            </a:xfrm>
            <a:custGeom>
              <a:avLst/>
              <a:gdLst>
                <a:gd name="textAreaLeft" fmla="*/ 0 w 1613160"/>
                <a:gd name="textAreaRight" fmla="*/ 1613520 w 16131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3713312" h="2370974">
                  <a:moveTo>
                    <a:pt x="0" y="0"/>
                  </a:moveTo>
                  <a:lnTo>
                    <a:pt x="3713312" y="0"/>
                  </a:lnTo>
                  <a:lnTo>
                    <a:pt x="3702869" y="86603"/>
                  </a:lnTo>
                  <a:cubicBezTo>
                    <a:pt x="3685788" y="188493"/>
                    <a:pt x="3660167" y="287034"/>
                    <a:pt x="3630275" y="378878"/>
                  </a:cubicBezTo>
                  <a:cubicBezTo>
                    <a:pt x="3570492" y="539606"/>
                    <a:pt x="3502169" y="677373"/>
                    <a:pt x="3448792" y="774957"/>
                  </a:cubicBezTo>
                  <a:lnTo>
                    <a:pt x="3442867" y="785466"/>
                  </a:lnTo>
                  <a:lnTo>
                    <a:pt x="3435953" y="922398"/>
                  </a:lnTo>
                  <a:cubicBezTo>
                    <a:pt x="3353322" y="1736041"/>
                    <a:pt x="2666174" y="2370974"/>
                    <a:pt x="1830729" y="2370974"/>
                  </a:cubicBezTo>
                  <a:cubicBezTo>
                    <a:pt x="939588" y="2370974"/>
                    <a:pt x="217175" y="1648561"/>
                    <a:pt x="217175" y="757421"/>
                  </a:cubicBezTo>
                  <a:lnTo>
                    <a:pt x="219301" y="701323"/>
                  </a:lnTo>
                  <a:lnTo>
                    <a:pt x="217572" y="698461"/>
                  </a:lnTo>
                  <a:cubicBezTo>
                    <a:pt x="176475" y="625519"/>
                    <a:pt x="62382" y="362363"/>
                    <a:pt x="4783" y="33206"/>
                  </a:cubicBezTo>
                  <a:close/>
                </a:path>
              </a:pathLst>
            </a:custGeom>
            <a:solidFill>
              <a:schemeClr val="bg1"/>
            </a:solidFill>
            <a:ln w="76200">
              <a:solidFill>
                <a:srgbClr val="2d2d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4" name="弦形 6"/>
            <p:cNvSpPr/>
            <p:nvPr/>
          </p:nvSpPr>
          <p:spPr>
            <a:xfrm rot="3066600">
              <a:off x="9208800" y="4943880"/>
              <a:ext cx="575280" cy="57528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5" name="弦形 7"/>
            <p:cNvSpPr/>
            <p:nvPr/>
          </p:nvSpPr>
          <p:spPr>
            <a:xfrm rot="3066600">
              <a:off x="9628200" y="5463720"/>
              <a:ext cx="575280" cy="57528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grpSp>
          <p:nvGrpSpPr>
            <p:cNvPr id="166" name="组合 8"/>
            <p:cNvGrpSpPr/>
            <p:nvPr/>
          </p:nvGrpSpPr>
          <p:grpSpPr>
            <a:xfrm>
              <a:off x="9351720" y="4828320"/>
              <a:ext cx="955800" cy="1129680"/>
              <a:chOff x="9351720" y="4828320"/>
              <a:chExt cx="955800" cy="1129680"/>
            </a:xfrm>
          </p:grpSpPr>
          <p:sp>
            <p:nvSpPr>
              <p:cNvPr id="167" name="圆角矩形 19"/>
              <p:cNvSpPr/>
              <p:nvPr/>
            </p:nvSpPr>
            <p:spPr>
              <a:xfrm rot="3066600">
                <a:off x="9104760" y="5371560"/>
                <a:ext cx="1416600" cy="428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9440" bIns="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8" name="圆角矩形 20"/>
              <p:cNvSpPr/>
              <p:nvPr/>
            </p:nvSpPr>
            <p:spPr>
              <a:xfrm rot="8466600">
                <a:off x="9371160" y="4915440"/>
                <a:ext cx="14904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9" name="圆角矩形 21"/>
              <p:cNvSpPr/>
              <p:nvPr/>
            </p:nvSpPr>
            <p:spPr>
              <a:xfrm rot="8466600">
                <a:off x="9428040" y="5005080"/>
                <a:ext cx="18036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70" name="圆角矩形 22"/>
              <p:cNvSpPr/>
              <p:nvPr/>
            </p:nvSpPr>
            <p:spPr>
              <a:xfrm rot="8466600">
                <a:off x="9501480" y="5110200"/>
                <a:ext cx="19836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71" name="圆角矩形 23"/>
              <p:cNvSpPr/>
              <p:nvPr/>
            </p:nvSpPr>
            <p:spPr>
              <a:xfrm rot="8466600">
                <a:off x="9608760" y="5217480"/>
                <a:ext cx="18036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72" name="圆角矩形 24"/>
              <p:cNvSpPr/>
              <p:nvPr/>
            </p:nvSpPr>
            <p:spPr>
              <a:xfrm rot="8466600">
                <a:off x="9645120" y="5361120"/>
                <a:ext cx="29052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73" name="圆角矩形 25"/>
              <p:cNvSpPr/>
              <p:nvPr/>
            </p:nvSpPr>
            <p:spPr>
              <a:xfrm rot="8466600">
                <a:off x="9798480" y="5490000"/>
                <a:ext cx="26424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74" name="圆角矩形 26"/>
              <p:cNvSpPr/>
              <p:nvPr/>
            </p:nvSpPr>
            <p:spPr>
              <a:xfrm rot="8466600">
                <a:off x="9930960" y="5623560"/>
                <a:ext cx="163800" cy="543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480" bIns="24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75" name="圆角矩形 27"/>
              <p:cNvSpPr/>
              <p:nvPr/>
            </p:nvSpPr>
            <p:spPr>
              <a:xfrm rot="8466600">
                <a:off x="9950760" y="5709240"/>
                <a:ext cx="24012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76" name="圆角矩形 28"/>
              <p:cNvSpPr/>
              <p:nvPr/>
            </p:nvSpPr>
            <p:spPr>
              <a:xfrm rot="8466600">
                <a:off x="10112040" y="5838120"/>
                <a:ext cx="19836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77" name="组合 9"/>
            <p:cNvGrpSpPr/>
            <p:nvPr/>
          </p:nvGrpSpPr>
          <p:grpSpPr>
            <a:xfrm>
              <a:off x="9435960" y="5866560"/>
              <a:ext cx="193320" cy="309960"/>
              <a:chOff x="9435960" y="5866560"/>
              <a:chExt cx="193320" cy="309960"/>
            </a:xfrm>
          </p:grpSpPr>
          <p:sp>
            <p:nvSpPr>
              <p:cNvPr id="178" name="圆角矩形 15"/>
              <p:cNvSpPr/>
              <p:nvPr/>
            </p:nvSpPr>
            <p:spPr>
              <a:xfrm rot="15309000">
                <a:off x="9380520" y="6007320"/>
                <a:ext cx="313200" cy="280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2960" bIns="12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79" name="圆角矩形 16"/>
              <p:cNvSpPr/>
              <p:nvPr/>
            </p:nvSpPr>
            <p:spPr>
              <a:xfrm rot="20709000">
                <a:off x="9503280" y="6088320"/>
                <a:ext cx="12204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80" name="圆角矩形 17"/>
              <p:cNvSpPr/>
              <p:nvPr/>
            </p:nvSpPr>
            <p:spPr>
              <a:xfrm rot="20709000">
                <a:off x="9468000" y="6003360"/>
                <a:ext cx="14796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81" name="圆角矩形 18"/>
              <p:cNvSpPr/>
              <p:nvPr/>
            </p:nvSpPr>
            <p:spPr>
              <a:xfrm rot="20709000">
                <a:off x="9439200" y="5910840"/>
                <a:ext cx="14796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82" name="组合 10"/>
            <p:cNvGrpSpPr/>
            <p:nvPr/>
          </p:nvGrpSpPr>
          <p:grpSpPr>
            <a:xfrm>
              <a:off x="8986680" y="5239440"/>
              <a:ext cx="185400" cy="308160"/>
              <a:chOff x="8986680" y="5239440"/>
              <a:chExt cx="185400" cy="308160"/>
            </a:xfrm>
          </p:grpSpPr>
          <p:sp>
            <p:nvSpPr>
              <p:cNvPr id="183" name="圆角矩形 11"/>
              <p:cNvSpPr/>
              <p:nvPr/>
            </p:nvSpPr>
            <p:spPr>
              <a:xfrm rot="17098800">
                <a:off x="8915760" y="5379480"/>
                <a:ext cx="311400" cy="280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2960" bIns="12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84" name="圆角矩形 12"/>
              <p:cNvSpPr/>
              <p:nvPr/>
            </p:nvSpPr>
            <p:spPr>
              <a:xfrm rot="898800">
                <a:off x="8990280" y="5461560"/>
                <a:ext cx="122040" cy="450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160" bIns="20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85" name="圆角矩形 13"/>
              <p:cNvSpPr/>
              <p:nvPr/>
            </p:nvSpPr>
            <p:spPr>
              <a:xfrm rot="898800">
                <a:off x="8999640" y="5377320"/>
                <a:ext cx="147960" cy="450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160" bIns="20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86" name="圆角矩形 14"/>
              <p:cNvSpPr/>
              <p:nvPr/>
            </p:nvSpPr>
            <p:spPr>
              <a:xfrm rot="898800">
                <a:off x="9020520" y="5283000"/>
                <a:ext cx="147960" cy="450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160" bIns="20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</p:grpSp>
      <p:sp>
        <p:nvSpPr>
          <p:cNvPr id="187" name="Freeform 6"/>
          <p:cNvSpPr/>
          <p:nvPr/>
        </p:nvSpPr>
        <p:spPr>
          <a:xfrm rot="771000">
            <a:off x="4606560" y="3384720"/>
            <a:ext cx="2504880" cy="280368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1807" h="2029">
                <a:moveTo>
                  <a:pt x="644" y="63"/>
                </a:moveTo>
                <a:cubicBezTo>
                  <a:pt x="676" y="35"/>
                  <a:pt x="716" y="20"/>
                  <a:pt x="757" y="12"/>
                </a:cubicBezTo>
                <a:cubicBezTo>
                  <a:pt x="830" y="0"/>
                  <a:pt x="906" y="17"/>
                  <a:pt x="968" y="57"/>
                </a:cubicBezTo>
                <a:cubicBezTo>
                  <a:pt x="998" y="78"/>
                  <a:pt x="1022" y="108"/>
                  <a:pt x="1056" y="124"/>
                </a:cubicBezTo>
                <a:cubicBezTo>
                  <a:pt x="1126" y="161"/>
                  <a:pt x="1204" y="178"/>
                  <a:pt x="1281" y="195"/>
                </a:cubicBezTo>
                <a:cubicBezTo>
                  <a:pt x="1334" y="206"/>
                  <a:pt x="1387" y="216"/>
                  <a:pt x="1441" y="225"/>
                </a:cubicBezTo>
                <a:cubicBezTo>
                  <a:pt x="1409" y="252"/>
                  <a:pt x="1372" y="271"/>
                  <a:pt x="1341" y="299"/>
                </a:cubicBezTo>
                <a:cubicBezTo>
                  <a:pt x="1388" y="294"/>
                  <a:pt x="1433" y="279"/>
                  <a:pt x="1479" y="270"/>
                </a:cubicBezTo>
                <a:cubicBezTo>
                  <a:pt x="1485" y="269"/>
                  <a:pt x="1493" y="264"/>
                  <a:pt x="1499" y="270"/>
                </a:cubicBezTo>
                <a:cubicBezTo>
                  <a:pt x="1515" y="286"/>
                  <a:pt x="1531" y="303"/>
                  <a:pt x="1547" y="319"/>
                </a:cubicBezTo>
                <a:cubicBezTo>
                  <a:pt x="1557" y="298"/>
                  <a:pt x="1555" y="274"/>
                  <a:pt x="1562" y="253"/>
                </a:cubicBezTo>
                <a:cubicBezTo>
                  <a:pt x="1575" y="239"/>
                  <a:pt x="1596" y="242"/>
                  <a:pt x="1613" y="242"/>
                </a:cubicBezTo>
                <a:cubicBezTo>
                  <a:pt x="1645" y="244"/>
                  <a:pt x="1677" y="240"/>
                  <a:pt x="1709" y="244"/>
                </a:cubicBezTo>
                <a:cubicBezTo>
                  <a:pt x="1738" y="248"/>
                  <a:pt x="1764" y="265"/>
                  <a:pt x="1783" y="288"/>
                </a:cubicBezTo>
                <a:cubicBezTo>
                  <a:pt x="1779" y="311"/>
                  <a:pt x="1770" y="333"/>
                  <a:pt x="1770" y="356"/>
                </a:cubicBezTo>
                <a:cubicBezTo>
                  <a:pt x="1781" y="353"/>
                  <a:pt x="1793" y="348"/>
                  <a:pt x="1804" y="344"/>
                </a:cubicBezTo>
                <a:cubicBezTo>
                  <a:pt x="1807" y="372"/>
                  <a:pt x="1797" y="401"/>
                  <a:pt x="1781" y="424"/>
                </a:cubicBezTo>
                <a:cubicBezTo>
                  <a:pt x="1761" y="448"/>
                  <a:pt x="1731" y="465"/>
                  <a:pt x="1700" y="467"/>
                </a:cubicBezTo>
                <a:cubicBezTo>
                  <a:pt x="1603" y="472"/>
                  <a:pt x="1506" y="465"/>
                  <a:pt x="1411" y="449"/>
                </a:cubicBezTo>
                <a:cubicBezTo>
                  <a:pt x="1367" y="444"/>
                  <a:pt x="1325" y="430"/>
                  <a:pt x="1281" y="423"/>
                </a:cubicBezTo>
                <a:cubicBezTo>
                  <a:pt x="1235" y="413"/>
                  <a:pt x="1190" y="396"/>
                  <a:pt x="1144" y="385"/>
                </a:cubicBezTo>
                <a:cubicBezTo>
                  <a:pt x="1151" y="402"/>
                  <a:pt x="1163" y="416"/>
                  <a:pt x="1173" y="432"/>
                </a:cubicBezTo>
                <a:cubicBezTo>
                  <a:pt x="1205" y="482"/>
                  <a:pt x="1239" y="535"/>
                  <a:pt x="1293" y="564"/>
                </a:cubicBezTo>
                <a:cubicBezTo>
                  <a:pt x="1376" y="612"/>
                  <a:pt x="1465" y="650"/>
                  <a:pt x="1555" y="686"/>
                </a:cubicBezTo>
                <a:cubicBezTo>
                  <a:pt x="1580" y="694"/>
                  <a:pt x="1604" y="709"/>
                  <a:pt x="1618" y="732"/>
                </a:cubicBezTo>
                <a:cubicBezTo>
                  <a:pt x="1635" y="755"/>
                  <a:pt x="1638" y="786"/>
                  <a:pt x="1635" y="815"/>
                </a:cubicBezTo>
                <a:cubicBezTo>
                  <a:pt x="1622" y="819"/>
                  <a:pt x="1608" y="822"/>
                  <a:pt x="1595" y="826"/>
                </a:cubicBezTo>
                <a:cubicBezTo>
                  <a:pt x="1589" y="845"/>
                  <a:pt x="1587" y="865"/>
                  <a:pt x="1582" y="885"/>
                </a:cubicBezTo>
                <a:cubicBezTo>
                  <a:pt x="1581" y="893"/>
                  <a:pt x="1572" y="896"/>
                  <a:pt x="1565" y="900"/>
                </a:cubicBezTo>
                <a:cubicBezTo>
                  <a:pt x="1541" y="909"/>
                  <a:pt x="1514" y="911"/>
                  <a:pt x="1490" y="902"/>
                </a:cubicBezTo>
                <a:cubicBezTo>
                  <a:pt x="1441" y="884"/>
                  <a:pt x="1393" y="864"/>
                  <a:pt x="1345" y="844"/>
                </a:cubicBezTo>
                <a:cubicBezTo>
                  <a:pt x="1285" y="815"/>
                  <a:pt x="1224" y="789"/>
                  <a:pt x="1168" y="752"/>
                </a:cubicBezTo>
                <a:cubicBezTo>
                  <a:pt x="1178" y="746"/>
                  <a:pt x="1188" y="741"/>
                  <a:pt x="1197" y="734"/>
                </a:cubicBezTo>
                <a:cubicBezTo>
                  <a:pt x="1176" y="723"/>
                  <a:pt x="1155" y="714"/>
                  <a:pt x="1133" y="704"/>
                </a:cubicBezTo>
                <a:cubicBezTo>
                  <a:pt x="1129" y="684"/>
                  <a:pt x="1125" y="663"/>
                  <a:pt x="1121" y="643"/>
                </a:cubicBezTo>
                <a:cubicBezTo>
                  <a:pt x="1103" y="651"/>
                  <a:pt x="1092" y="668"/>
                  <a:pt x="1077" y="680"/>
                </a:cubicBezTo>
                <a:cubicBezTo>
                  <a:pt x="1037" y="639"/>
                  <a:pt x="1007" y="590"/>
                  <a:pt x="974" y="544"/>
                </a:cubicBezTo>
                <a:cubicBezTo>
                  <a:pt x="915" y="646"/>
                  <a:pt x="859" y="749"/>
                  <a:pt x="800" y="851"/>
                </a:cubicBezTo>
                <a:cubicBezTo>
                  <a:pt x="799" y="856"/>
                  <a:pt x="793" y="862"/>
                  <a:pt x="799" y="865"/>
                </a:cubicBezTo>
                <a:cubicBezTo>
                  <a:pt x="853" y="907"/>
                  <a:pt x="909" y="945"/>
                  <a:pt x="962" y="988"/>
                </a:cubicBezTo>
                <a:cubicBezTo>
                  <a:pt x="963" y="1013"/>
                  <a:pt x="962" y="1038"/>
                  <a:pt x="963" y="1063"/>
                </a:cubicBezTo>
                <a:cubicBezTo>
                  <a:pt x="965" y="1066"/>
                  <a:pt x="965" y="1066"/>
                  <a:pt x="965" y="1066"/>
                </a:cubicBezTo>
                <a:cubicBezTo>
                  <a:pt x="996" y="1067"/>
                  <a:pt x="1026" y="1065"/>
                  <a:pt x="1056" y="1066"/>
                </a:cubicBezTo>
                <a:cubicBezTo>
                  <a:pt x="1062" y="1066"/>
                  <a:pt x="1066" y="1071"/>
                  <a:pt x="1071" y="1074"/>
                </a:cubicBezTo>
                <a:cubicBezTo>
                  <a:pt x="1119" y="1117"/>
                  <a:pt x="1169" y="1158"/>
                  <a:pt x="1206" y="1211"/>
                </a:cubicBezTo>
                <a:cubicBezTo>
                  <a:pt x="1229" y="1248"/>
                  <a:pt x="1238" y="1290"/>
                  <a:pt x="1249" y="1332"/>
                </a:cubicBezTo>
                <a:cubicBezTo>
                  <a:pt x="1260" y="1372"/>
                  <a:pt x="1265" y="1413"/>
                  <a:pt x="1274" y="1453"/>
                </a:cubicBezTo>
                <a:cubicBezTo>
                  <a:pt x="1280" y="1483"/>
                  <a:pt x="1283" y="1514"/>
                  <a:pt x="1288" y="1544"/>
                </a:cubicBezTo>
                <a:cubicBezTo>
                  <a:pt x="1297" y="1586"/>
                  <a:pt x="1300" y="1630"/>
                  <a:pt x="1306" y="1673"/>
                </a:cubicBezTo>
                <a:cubicBezTo>
                  <a:pt x="1307" y="1682"/>
                  <a:pt x="1308" y="1690"/>
                  <a:pt x="1308" y="1699"/>
                </a:cubicBezTo>
                <a:cubicBezTo>
                  <a:pt x="1305" y="1706"/>
                  <a:pt x="1301" y="1713"/>
                  <a:pt x="1299" y="1722"/>
                </a:cubicBezTo>
                <a:cubicBezTo>
                  <a:pt x="1292" y="1761"/>
                  <a:pt x="1282" y="1800"/>
                  <a:pt x="1277" y="1840"/>
                </a:cubicBezTo>
                <a:cubicBezTo>
                  <a:pt x="1293" y="1829"/>
                  <a:pt x="1306" y="1814"/>
                  <a:pt x="1323" y="1804"/>
                </a:cubicBezTo>
                <a:cubicBezTo>
                  <a:pt x="1326" y="1840"/>
                  <a:pt x="1332" y="1878"/>
                  <a:pt x="1323" y="1914"/>
                </a:cubicBezTo>
                <a:cubicBezTo>
                  <a:pt x="1305" y="1981"/>
                  <a:pt x="1238" y="2029"/>
                  <a:pt x="1169" y="2027"/>
                </a:cubicBezTo>
                <a:cubicBezTo>
                  <a:pt x="1120" y="2024"/>
                  <a:pt x="1072" y="1998"/>
                  <a:pt x="1046" y="1956"/>
                </a:cubicBezTo>
                <a:cubicBezTo>
                  <a:pt x="1020" y="1916"/>
                  <a:pt x="1019" y="1867"/>
                  <a:pt x="1014" y="1822"/>
                </a:cubicBezTo>
                <a:cubicBezTo>
                  <a:pt x="1008" y="1757"/>
                  <a:pt x="996" y="1694"/>
                  <a:pt x="989" y="1629"/>
                </a:cubicBezTo>
                <a:cubicBezTo>
                  <a:pt x="984" y="1581"/>
                  <a:pt x="973" y="1533"/>
                  <a:pt x="966" y="1485"/>
                </a:cubicBezTo>
                <a:cubicBezTo>
                  <a:pt x="960" y="1448"/>
                  <a:pt x="951" y="1413"/>
                  <a:pt x="944" y="1377"/>
                </a:cubicBezTo>
                <a:cubicBezTo>
                  <a:pt x="927" y="1349"/>
                  <a:pt x="889" y="1337"/>
                  <a:pt x="881" y="1304"/>
                </a:cubicBezTo>
                <a:cubicBezTo>
                  <a:pt x="866" y="1269"/>
                  <a:pt x="854" y="1233"/>
                  <a:pt x="837" y="1200"/>
                </a:cubicBezTo>
                <a:cubicBezTo>
                  <a:pt x="829" y="1221"/>
                  <a:pt x="824" y="1243"/>
                  <a:pt x="819" y="1264"/>
                </a:cubicBezTo>
                <a:cubicBezTo>
                  <a:pt x="811" y="1261"/>
                  <a:pt x="804" y="1256"/>
                  <a:pt x="798" y="1251"/>
                </a:cubicBezTo>
                <a:cubicBezTo>
                  <a:pt x="723" y="1192"/>
                  <a:pt x="646" y="1135"/>
                  <a:pt x="569" y="1080"/>
                </a:cubicBezTo>
                <a:cubicBezTo>
                  <a:pt x="558" y="1104"/>
                  <a:pt x="553" y="1131"/>
                  <a:pt x="544" y="1156"/>
                </a:cubicBezTo>
                <a:cubicBezTo>
                  <a:pt x="496" y="1308"/>
                  <a:pt x="449" y="1461"/>
                  <a:pt x="402" y="1613"/>
                </a:cubicBezTo>
                <a:cubicBezTo>
                  <a:pt x="373" y="1626"/>
                  <a:pt x="342" y="1633"/>
                  <a:pt x="315" y="1648"/>
                </a:cubicBezTo>
                <a:cubicBezTo>
                  <a:pt x="336" y="1662"/>
                  <a:pt x="358" y="1673"/>
                  <a:pt x="379" y="1687"/>
                </a:cubicBezTo>
                <a:cubicBezTo>
                  <a:pt x="363" y="1741"/>
                  <a:pt x="345" y="1795"/>
                  <a:pt x="329" y="1849"/>
                </a:cubicBezTo>
                <a:cubicBezTo>
                  <a:pt x="316" y="1886"/>
                  <a:pt x="309" y="1925"/>
                  <a:pt x="288" y="1959"/>
                </a:cubicBezTo>
                <a:cubicBezTo>
                  <a:pt x="261" y="2000"/>
                  <a:pt x="213" y="2026"/>
                  <a:pt x="163" y="2028"/>
                </a:cubicBezTo>
                <a:cubicBezTo>
                  <a:pt x="151" y="2028"/>
                  <a:pt x="151" y="2028"/>
                  <a:pt x="151" y="2028"/>
                </a:cubicBezTo>
                <a:cubicBezTo>
                  <a:pt x="105" y="2024"/>
                  <a:pt x="61" y="2001"/>
                  <a:pt x="34" y="1963"/>
                </a:cubicBezTo>
                <a:cubicBezTo>
                  <a:pt x="11" y="1929"/>
                  <a:pt x="0" y="1887"/>
                  <a:pt x="8" y="1846"/>
                </a:cubicBezTo>
                <a:cubicBezTo>
                  <a:pt x="13" y="1823"/>
                  <a:pt x="22" y="1801"/>
                  <a:pt x="28" y="1779"/>
                </a:cubicBezTo>
                <a:cubicBezTo>
                  <a:pt x="61" y="1673"/>
                  <a:pt x="93" y="1567"/>
                  <a:pt x="127" y="1461"/>
                </a:cubicBezTo>
                <a:cubicBezTo>
                  <a:pt x="145" y="1469"/>
                  <a:pt x="163" y="1477"/>
                  <a:pt x="181" y="1483"/>
                </a:cubicBezTo>
                <a:cubicBezTo>
                  <a:pt x="178" y="1460"/>
                  <a:pt x="172" y="1437"/>
                  <a:pt x="166" y="1414"/>
                </a:cubicBezTo>
                <a:cubicBezTo>
                  <a:pt x="186" y="1398"/>
                  <a:pt x="210" y="1387"/>
                  <a:pt x="229" y="1370"/>
                </a:cubicBezTo>
                <a:cubicBezTo>
                  <a:pt x="207" y="1361"/>
                  <a:pt x="185" y="1353"/>
                  <a:pt x="162" y="1345"/>
                </a:cubicBezTo>
                <a:cubicBezTo>
                  <a:pt x="183" y="1279"/>
                  <a:pt x="203" y="1212"/>
                  <a:pt x="225" y="1146"/>
                </a:cubicBezTo>
                <a:cubicBezTo>
                  <a:pt x="236" y="1152"/>
                  <a:pt x="247" y="1158"/>
                  <a:pt x="258" y="1163"/>
                </a:cubicBezTo>
                <a:cubicBezTo>
                  <a:pt x="281" y="1123"/>
                  <a:pt x="304" y="1084"/>
                  <a:pt x="328" y="1045"/>
                </a:cubicBezTo>
                <a:cubicBezTo>
                  <a:pt x="300" y="1052"/>
                  <a:pt x="275" y="1066"/>
                  <a:pt x="247" y="1072"/>
                </a:cubicBezTo>
                <a:cubicBezTo>
                  <a:pt x="264" y="1019"/>
                  <a:pt x="280" y="966"/>
                  <a:pt x="297" y="913"/>
                </a:cubicBezTo>
                <a:cubicBezTo>
                  <a:pt x="298" y="908"/>
                  <a:pt x="301" y="903"/>
                  <a:pt x="298" y="898"/>
                </a:cubicBezTo>
                <a:cubicBezTo>
                  <a:pt x="284" y="871"/>
                  <a:pt x="269" y="843"/>
                  <a:pt x="265" y="812"/>
                </a:cubicBezTo>
                <a:cubicBezTo>
                  <a:pt x="258" y="767"/>
                  <a:pt x="262" y="719"/>
                  <a:pt x="285" y="679"/>
                </a:cubicBezTo>
                <a:cubicBezTo>
                  <a:pt x="317" y="621"/>
                  <a:pt x="350" y="563"/>
                  <a:pt x="382" y="505"/>
                </a:cubicBezTo>
                <a:cubicBezTo>
                  <a:pt x="406" y="464"/>
                  <a:pt x="427" y="422"/>
                  <a:pt x="452" y="382"/>
                </a:cubicBezTo>
                <a:cubicBezTo>
                  <a:pt x="479" y="425"/>
                  <a:pt x="500" y="471"/>
                  <a:pt x="527" y="513"/>
                </a:cubicBezTo>
                <a:cubicBezTo>
                  <a:pt x="532" y="463"/>
                  <a:pt x="530" y="412"/>
                  <a:pt x="535" y="362"/>
                </a:cubicBezTo>
                <a:cubicBezTo>
                  <a:pt x="548" y="339"/>
                  <a:pt x="569" y="322"/>
                  <a:pt x="581" y="299"/>
                </a:cubicBezTo>
                <a:cubicBezTo>
                  <a:pt x="558" y="291"/>
                  <a:pt x="535" y="283"/>
                  <a:pt x="513" y="272"/>
                </a:cubicBezTo>
                <a:cubicBezTo>
                  <a:pt x="534" y="233"/>
                  <a:pt x="557" y="195"/>
                  <a:pt x="578" y="156"/>
                </a:cubicBezTo>
                <a:cubicBezTo>
                  <a:pt x="597" y="124"/>
                  <a:pt x="614" y="87"/>
                  <a:pt x="644" y="63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188" name="组合 60"/>
          <p:cNvGrpSpPr/>
          <p:nvPr/>
        </p:nvGrpSpPr>
        <p:grpSpPr>
          <a:xfrm>
            <a:off x="-1152720" y="5395680"/>
            <a:ext cx="13649400" cy="901800"/>
            <a:chOff x="-1152720" y="5395680"/>
            <a:chExt cx="13649400" cy="901800"/>
          </a:xfrm>
        </p:grpSpPr>
        <p:sp>
          <p:nvSpPr>
            <p:cNvPr id="189" name="Freeform 9"/>
            <p:cNvSpPr/>
            <p:nvPr/>
          </p:nvSpPr>
          <p:spPr>
            <a:xfrm>
              <a:off x="3579480" y="5395680"/>
              <a:ext cx="2462400" cy="90180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90" name="Freeform 9"/>
            <p:cNvSpPr/>
            <p:nvPr/>
          </p:nvSpPr>
          <p:spPr>
            <a:xfrm flipH="1">
              <a:off x="1126080" y="5395680"/>
              <a:ext cx="2462400" cy="901800"/>
            </a:xfrm>
            <a:custGeom>
              <a:avLst/>
              <a:gdLst>
                <a:gd name="textAreaLeft" fmla="*/ 360 w 2462400"/>
                <a:gd name="textAreaRight" fmla="*/ 246312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 flipH="1">
              <a:off x="-1152720" y="5395680"/>
              <a:ext cx="2462400" cy="901800"/>
            </a:xfrm>
            <a:custGeom>
              <a:avLst/>
              <a:gdLst>
                <a:gd name="textAreaLeft" fmla="*/ 360 w 2462400"/>
                <a:gd name="textAreaRight" fmla="*/ 246312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92" name="Freeform 9"/>
            <p:cNvSpPr/>
            <p:nvPr/>
          </p:nvSpPr>
          <p:spPr>
            <a:xfrm>
              <a:off x="5570640" y="5395680"/>
              <a:ext cx="2462400" cy="90180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854480" y="5395680"/>
              <a:ext cx="2462400" cy="90180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10034280" y="5395680"/>
              <a:ext cx="2462400" cy="90180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195" name="组合 70"/>
          <p:cNvGrpSpPr/>
          <p:nvPr/>
        </p:nvGrpSpPr>
        <p:grpSpPr>
          <a:xfrm>
            <a:off x="270360" y="4189680"/>
            <a:ext cx="1159560" cy="2079360"/>
            <a:chOff x="270360" y="4189680"/>
            <a:chExt cx="1159560" cy="2079360"/>
          </a:xfrm>
        </p:grpSpPr>
        <p:grpSp>
          <p:nvGrpSpPr>
            <p:cNvPr id="196" name="组合 71"/>
            <p:cNvGrpSpPr/>
            <p:nvPr/>
          </p:nvGrpSpPr>
          <p:grpSpPr>
            <a:xfrm>
              <a:off x="270360" y="4806000"/>
              <a:ext cx="1159560" cy="1463040"/>
              <a:chOff x="270360" y="4806000"/>
              <a:chExt cx="1159560" cy="1463040"/>
            </a:xfrm>
          </p:grpSpPr>
          <p:sp>
            <p:nvSpPr>
              <p:cNvPr id="197" name="梯形 75"/>
              <p:cNvSpPr/>
              <p:nvPr/>
            </p:nvSpPr>
            <p:spPr>
              <a:xfrm rot="21091800">
                <a:off x="280080" y="4876200"/>
                <a:ext cx="973440" cy="206280"/>
              </a:xfrm>
              <a:prstGeom prst="trapezoid">
                <a:avLst>
                  <a:gd name="adj" fmla="val 24517"/>
                </a:avLst>
              </a:prstGeom>
              <a:solidFill>
                <a:schemeClr val="accent2"/>
              </a:solidFill>
              <a:ln>
                <a:solidFill>
                  <a:srgbClr val="2d2d2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98" name="矩形 76"/>
              <p:cNvSpPr/>
              <p:nvPr/>
            </p:nvSpPr>
            <p:spPr>
              <a:xfrm rot="21091800">
                <a:off x="378360" y="5075640"/>
                <a:ext cx="973440" cy="1127520"/>
              </a:xfrm>
              <a:prstGeom prst="rect">
                <a:avLst/>
              </a:prstGeom>
              <a:solidFill>
                <a:schemeClr val="accent2"/>
              </a:solidFill>
              <a:ln>
                <a:solidFill>
                  <a:srgbClr val="2d2d2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199" name="组合 72"/>
            <p:cNvGrpSpPr/>
            <p:nvPr/>
          </p:nvGrpSpPr>
          <p:grpSpPr>
            <a:xfrm>
              <a:off x="322200" y="4189680"/>
              <a:ext cx="763920" cy="1117080"/>
              <a:chOff x="322200" y="4189680"/>
              <a:chExt cx="763920" cy="1117080"/>
            </a:xfrm>
          </p:grpSpPr>
          <p:sp>
            <p:nvSpPr>
              <p:cNvPr id="200" name="矩形 73"/>
              <p:cNvSpPr/>
              <p:nvPr/>
            </p:nvSpPr>
            <p:spPr>
              <a:xfrm rot="21091800">
                <a:off x="653040" y="4196160"/>
                <a:ext cx="174240" cy="110340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01" name="矩形 74"/>
              <p:cNvSpPr/>
              <p:nvPr/>
            </p:nvSpPr>
            <p:spPr>
              <a:xfrm rot="4891800">
                <a:off x="636480" y="4178520"/>
                <a:ext cx="134640" cy="75240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</p:grpSp>
      <p:grpSp>
        <p:nvGrpSpPr>
          <p:cNvPr id="202" name="组合 77"/>
          <p:cNvGrpSpPr/>
          <p:nvPr/>
        </p:nvGrpSpPr>
        <p:grpSpPr>
          <a:xfrm>
            <a:off x="11578320" y="5131080"/>
            <a:ext cx="708840" cy="1171800"/>
            <a:chOff x="11578320" y="5131080"/>
            <a:chExt cx="708840" cy="1171800"/>
          </a:xfrm>
        </p:grpSpPr>
        <p:grpSp>
          <p:nvGrpSpPr>
            <p:cNvPr id="203" name="组合 78"/>
            <p:cNvGrpSpPr/>
            <p:nvPr/>
          </p:nvGrpSpPr>
          <p:grpSpPr>
            <a:xfrm>
              <a:off x="11578320" y="5435640"/>
              <a:ext cx="691200" cy="867240"/>
              <a:chOff x="11578320" y="5435640"/>
              <a:chExt cx="691200" cy="867240"/>
            </a:xfrm>
          </p:grpSpPr>
          <p:sp>
            <p:nvSpPr>
              <p:cNvPr id="204" name="梯形 82"/>
              <p:cNvSpPr/>
              <p:nvPr/>
            </p:nvSpPr>
            <p:spPr>
              <a:xfrm rot="1085400">
                <a:off x="11782800" y="5507280"/>
                <a:ext cx="480240" cy="116640"/>
              </a:xfrm>
              <a:prstGeom prst="trapezoid">
                <a:avLst>
                  <a:gd name="adj" fmla="val 24517"/>
                </a:avLst>
              </a:prstGeom>
              <a:solidFill>
                <a:schemeClr val="accent2"/>
              </a:solidFill>
              <a:ln>
                <a:solidFill>
                  <a:srgbClr val="2d2d2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05" name="矩形 83"/>
              <p:cNvSpPr/>
              <p:nvPr/>
            </p:nvSpPr>
            <p:spPr>
              <a:xfrm rot="1085400">
                <a:off x="11665440" y="5605560"/>
                <a:ext cx="480240" cy="638280"/>
              </a:xfrm>
              <a:prstGeom prst="rect">
                <a:avLst/>
              </a:prstGeom>
              <a:solidFill>
                <a:schemeClr val="accent2"/>
              </a:solidFill>
              <a:ln>
                <a:solidFill>
                  <a:srgbClr val="2d2d2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206" name="组合 79"/>
            <p:cNvGrpSpPr/>
            <p:nvPr/>
          </p:nvGrpSpPr>
          <p:grpSpPr>
            <a:xfrm>
              <a:off x="11910600" y="5131080"/>
              <a:ext cx="376560" cy="620280"/>
              <a:chOff x="11910600" y="5131080"/>
              <a:chExt cx="376560" cy="620280"/>
            </a:xfrm>
          </p:grpSpPr>
          <p:sp>
            <p:nvSpPr>
              <p:cNvPr id="207" name="矩形 80"/>
              <p:cNvSpPr/>
              <p:nvPr/>
            </p:nvSpPr>
            <p:spPr>
              <a:xfrm rot="1085400">
                <a:off x="12024360" y="5128920"/>
                <a:ext cx="85680" cy="62460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08" name="矩形 81"/>
              <p:cNvSpPr/>
              <p:nvPr/>
            </p:nvSpPr>
            <p:spPr>
              <a:xfrm rot="6485400">
                <a:off x="12060720" y="5148720"/>
                <a:ext cx="75960" cy="37116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</p:grpSp>
      <p:sp>
        <p:nvSpPr>
          <p:cNvPr id="209" name="文本框 88"/>
          <p:cNvSpPr/>
          <p:nvPr/>
        </p:nvSpPr>
        <p:spPr>
          <a:xfrm>
            <a:off x="1319040" y="38160"/>
            <a:ext cx="9553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2e2e2e"/>
                </a:solidFill>
                <a:latin typeface="微软雅黑"/>
                <a:ea typeface="微软雅黑"/>
              </a:rPr>
              <a:t>How To Survive In Zombi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9"/>
          <p:cNvSpPr/>
          <p:nvPr/>
        </p:nvSpPr>
        <p:spPr>
          <a:xfrm>
            <a:off x="0" y="6176520"/>
            <a:ext cx="12191760" cy="6811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211" name="组合 342"/>
          <p:cNvGrpSpPr/>
          <p:nvPr/>
        </p:nvGrpSpPr>
        <p:grpSpPr>
          <a:xfrm>
            <a:off x="1167120" y="4651200"/>
            <a:ext cx="1432080" cy="2084040"/>
            <a:chOff x="1167120" y="4651200"/>
            <a:chExt cx="1432080" cy="2084040"/>
          </a:xfrm>
        </p:grpSpPr>
        <p:grpSp>
          <p:nvGrpSpPr>
            <p:cNvPr id="212" name="组合 343"/>
            <p:cNvGrpSpPr/>
            <p:nvPr/>
          </p:nvGrpSpPr>
          <p:grpSpPr>
            <a:xfrm>
              <a:off x="1167120" y="5138280"/>
              <a:ext cx="1391760" cy="1596960"/>
              <a:chOff x="1167120" y="5138280"/>
              <a:chExt cx="1391760" cy="1596960"/>
            </a:xfrm>
          </p:grpSpPr>
          <p:sp>
            <p:nvSpPr>
              <p:cNvPr id="213" name="梯形 347"/>
              <p:cNvSpPr/>
              <p:nvPr/>
            </p:nvSpPr>
            <p:spPr>
              <a:xfrm rot="1278600">
                <a:off x="1581120" y="5307840"/>
                <a:ext cx="973440" cy="206280"/>
              </a:xfrm>
              <a:prstGeom prst="trapezoid">
                <a:avLst>
                  <a:gd name="adj" fmla="val 24517"/>
                </a:avLst>
              </a:prstGeom>
              <a:solidFill>
                <a:schemeClr val="accent2"/>
              </a:solidFill>
              <a:ln>
                <a:solidFill>
                  <a:srgbClr val="2d2d2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14" name="矩形 348"/>
              <p:cNvSpPr/>
              <p:nvPr/>
            </p:nvSpPr>
            <p:spPr>
              <a:xfrm rot="1278600">
                <a:off x="1338480" y="5469120"/>
                <a:ext cx="973440" cy="1127520"/>
              </a:xfrm>
              <a:prstGeom prst="rect">
                <a:avLst/>
              </a:prstGeom>
              <a:solidFill>
                <a:schemeClr val="accent2"/>
              </a:solidFill>
              <a:ln>
                <a:solidFill>
                  <a:srgbClr val="2d2d2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215" name="组合 344"/>
            <p:cNvGrpSpPr/>
            <p:nvPr/>
          </p:nvGrpSpPr>
          <p:grpSpPr>
            <a:xfrm>
              <a:off x="1849320" y="4651200"/>
              <a:ext cx="749880" cy="1091160"/>
              <a:chOff x="1849320" y="4651200"/>
              <a:chExt cx="749880" cy="1091160"/>
            </a:xfrm>
          </p:grpSpPr>
          <p:sp>
            <p:nvSpPr>
              <p:cNvPr id="216" name="矩形 345"/>
              <p:cNvSpPr/>
              <p:nvPr/>
            </p:nvSpPr>
            <p:spPr>
              <a:xfrm rot="1278600">
                <a:off x="2072160" y="4645080"/>
                <a:ext cx="174240" cy="110340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17" name="矩形 346"/>
              <p:cNvSpPr/>
              <p:nvPr/>
            </p:nvSpPr>
            <p:spPr>
              <a:xfrm rot="6678600">
                <a:off x="2156760" y="4635000"/>
                <a:ext cx="134640" cy="75240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8" name="直接连接符 45"/>
          <p:cNvCxnSpPr/>
          <p:nvPr/>
        </p:nvCxnSpPr>
        <p:spPr>
          <a:xfrm flipV="1">
            <a:off x="3977280" y="3825000"/>
            <a:ext cx="1357560" cy="713880"/>
          </a:xfrm>
          <a:prstGeom prst="straightConnector1">
            <a:avLst/>
          </a:prstGeom>
          <a:ln w="19050">
            <a:solidFill>
              <a:srgbClr val="2d2d2d"/>
            </a:solidFill>
          </a:ln>
        </p:spPr>
      </p:cxnSp>
      <p:sp>
        <p:nvSpPr>
          <p:cNvPr id="869" name="文本框 46"/>
          <p:cNvSpPr/>
          <p:nvPr/>
        </p:nvSpPr>
        <p:spPr>
          <a:xfrm>
            <a:off x="3098160" y="4542840"/>
            <a:ext cx="144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颞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直接连接符 18"/>
          <p:cNvCxnSpPr/>
          <p:nvPr/>
        </p:nvCxnSpPr>
        <p:spPr>
          <a:xfrm flipV="1">
            <a:off x="7092000" y="981000"/>
            <a:ext cx="452160" cy="530640"/>
          </a:xfrm>
          <a:prstGeom prst="straightConnector1">
            <a:avLst/>
          </a:prstGeom>
          <a:ln w="19050">
            <a:solidFill>
              <a:srgbClr val="2d2d2d"/>
            </a:solidFill>
          </a:ln>
        </p:spPr>
      </p:cxnSp>
      <p:sp>
        <p:nvSpPr>
          <p:cNvPr id="871" name="文本框 48"/>
          <p:cNvSpPr/>
          <p:nvPr/>
        </p:nvSpPr>
        <p:spPr>
          <a:xfrm>
            <a:off x="7245360" y="445320"/>
            <a:ext cx="144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顶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直接连接符 18"/>
          <p:cNvCxnSpPr/>
          <p:nvPr/>
        </p:nvCxnSpPr>
        <p:spPr>
          <a:xfrm flipH="1" flipV="1">
            <a:off x="4259160" y="1093320"/>
            <a:ext cx="351000" cy="385920"/>
          </a:xfrm>
          <a:prstGeom prst="straightConnector1">
            <a:avLst/>
          </a:prstGeom>
          <a:ln w="19050">
            <a:solidFill>
              <a:srgbClr val="2d2d2d"/>
            </a:solidFill>
          </a:ln>
        </p:spPr>
      </p:cxnSp>
      <p:cxnSp>
        <p:nvCxnSpPr>
          <p:cNvPr id="873" name="直接连接符 18"/>
          <p:cNvCxnSpPr/>
          <p:nvPr/>
        </p:nvCxnSpPr>
        <p:spPr>
          <a:xfrm flipH="1" flipV="1">
            <a:off x="3132000" y="2463840"/>
            <a:ext cx="587520" cy="97920"/>
          </a:xfrm>
          <a:prstGeom prst="straightConnector1">
            <a:avLst/>
          </a:prstGeom>
          <a:ln w="19050">
            <a:solidFill>
              <a:srgbClr val="2d2d2d"/>
            </a:solidFill>
          </a:ln>
        </p:spPr>
      </p:cxnSp>
      <p:sp>
        <p:nvSpPr>
          <p:cNvPr id="874" name="文本框 51"/>
          <p:cNvSpPr/>
          <p:nvPr/>
        </p:nvSpPr>
        <p:spPr>
          <a:xfrm>
            <a:off x="1822320" y="2202120"/>
            <a:ext cx="144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前额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52"/>
          <p:cNvSpPr/>
          <p:nvPr/>
        </p:nvSpPr>
        <p:spPr>
          <a:xfrm>
            <a:off x="3209040" y="655200"/>
            <a:ext cx="144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后额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直接连接符 18"/>
          <p:cNvCxnSpPr/>
          <p:nvPr/>
        </p:nvCxnSpPr>
        <p:spPr>
          <a:xfrm flipH="1" flipV="1">
            <a:off x="7617600" y="4427640"/>
            <a:ext cx="563040" cy="208440"/>
          </a:xfrm>
          <a:prstGeom prst="straightConnector1">
            <a:avLst/>
          </a:prstGeom>
          <a:ln w="19050">
            <a:solidFill>
              <a:srgbClr val="2d2d2d"/>
            </a:solidFill>
          </a:ln>
        </p:spPr>
      </p:cxnSp>
      <p:sp>
        <p:nvSpPr>
          <p:cNvPr id="877" name="文本框 54"/>
          <p:cNvSpPr/>
          <p:nvPr/>
        </p:nvSpPr>
        <p:spPr>
          <a:xfrm>
            <a:off x="7938360" y="4417560"/>
            <a:ext cx="144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小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直接连接符 18"/>
          <p:cNvCxnSpPr/>
          <p:nvPr/>
        </p:nvCxnSpPr>
        <p:spPr>
          <a:xfrm flipH="1" flipV="1">
            <a:off x="6989760" y="4661280"/>
            <a:ext cx="1524600" cy="836280"/>
          </a:xfrm>
          <a:prstGeom prst="straightConnector1">
            <a:avLst/>
          </a:prstGeom>
          <a:ln w="19050">
            <a:solidFill>
              <a:srgbClr val="2d2d2d"/>
            </a:solidFill>
          </a:ln>
        </p:spPr>
      </p:cxnSp>
      <p:sp>
        <p:nvSpPr>
          <p:cNvPr id="879" name="文本框 56"/>
          <p:cNvSpPr/>
          <p:nvPr/>
        </p:nvSpPr>
        <p:spPr>
          <a:xfrm>
            <a:off x="8476200" y="5350680"/>
            <a:ext cx="144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下丘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文本框 57"/>
          <p:cNvSpPr/>
          <p:nvPr/>
        </p:nvSpPr>
        <p:spPr>
          <a:xfrm>
            <a:off x="6620400" y="5675040"/>
            <a:ext cx="144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中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1" name="直接连接符 18"/>
          <p:cNvCxnSpPr/>
          <p:nvPr/>
        </p:nvCxnSpPr>
        <p:spPr>
          <a:xfrm flipH="1" flipV="1">
            <a:off x="6501600" y="4546080"/>
            <a:ext cx="726480" cy="1172880"/>
          </a:xfrm>
          <a:prstGeom prst="straightConnector1">
            <a:avLst/>
          </a:prstGeom>
          <a:ln w="19050">
            <a:solidFill>
              <a:srgbClr val="2d2d2d"/>
            </a:solidFill>
          </a:ln>
        </p:spPr>
      </p:cxnSp>
      <p:cxnSp>
        <p:nvCxnSpPr>
          <p:cNvPr id="882" name="直接连接符 18"/>
          <p:cNvCxnSpPr/>
          <p:nvPr/>
        </p:nvCxnSpPr>
        <p:spPr>
          <a:xfrm flipV="1">
            <a:off x="5159160" y="4218480"/>
            <a:ext cx="595800" cy="1244880"/>
          </a:xfrm>
          <a:prstGeom prst="straightConnector1">
            <a:avLst/>
          </a:prstGeom>
          <a:ln w="19050">
            <a:solidFill>
              <a:srgbClr val="2d2d2d"/>
            </a:solidFill>
          </a:ln>
        </p:spPr>
      </p:cxnSp>
      <p:sp>
        <p:nvSpPr>
          <p:cNvPr id="883" name="文本框 60"/>
          <p:cNvSpPr/>
          <p:nvPr/>
        </p:nvSpPr>
        <p:spPr>
          <a:xfrm>
            <a:off x="4308120" y="5532480"/>
            <a:ext cx="144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杏仁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62"/>
          <p:cNvSpPr/>
          <p:nvPr/>
        </p:nvSpPr>
        <p:spPr>
          <a:xfrm>
            <a:off x="5338080" y="4739040"/>
            <a:ext cx="144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脑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直接连接符 18"/>
          <p:cNvCxnSpPr>
            <a:endCxn id="886" idx="3"/>
          </p:cNvCxnSpPr>
          <p:nvPr/>
        </p:nvCxnSpPr>
        <p:spPr>
          <a:xfrm flipV="1">
            <a:off x="5955120" y="4501080"/>
            <a:ext cx="95760" cy="245520"/>
          </a:xfrm>
          <a:prstGeom prst="straightConnector1">
            <a:avLst/>
          </a:prstGeom>
          <a:ln w="19050">
            <a:solidFill>
              <a:srgbClr val="2d2d2d"/>
            </a:solidFill>
          </a:ln>
        </p:spPr>
      </p:cxnSp>
      <p:sp>
        <p:nvSpPr>
          <p:cNvPr id="887" name="椭圆 2"/>
          <p:cNvSpPr/>
          <p:nvPr/>
        </p:nvSpPr>
        <p:spPr>
          <a:xfrm>
            <a:off x="3825720" y="2103480"/>
            <a:ext cx="1132920" cy="1132920"/>
          </a:xfrm>
          <a:prstGeom prst="ellipse">
            <a:avLst/>
          </a:prstGeom>
          <a:solidFill>
            <a:srgbClr val="c00000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88" name="椭圆 66"/>
          <p:cNvSpPr/>
          <p:nvPr/>
        </p:nvSpPr>
        <p:spPr>
          <a:xfrm>
            <a:off x="4519080" y="1509480"/>
            <a:ext cx="1229400" cy="1229400"/>
          </a:xfrm>
          <a:prstGeom prst="ellipse">
            <a:avLst/>
          </a:prstGeom>
          <a:solidFill>
            <a:srgbClr val="c00000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89" name="椭圆 67"/>
          <p:cNvSpPr/>
          <p:nvPr/>
        </p:nvSpPr>
        <p:spPr>
          <a:xfrm>
            <a:off x="6837480" y="3814200"/>
            <a:ext cx="680040" cy="680040"/>
          </a:xfrm>
          <a:prstGeom prst="ellipse">
            <a:avLst/>
          </a:prstGeom>
          <a:solidFill>
            <a:srgbClr val="c00000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90" name="椭圆 68"/>
          <p:cNvSpPr/>
          <p:nvPr/>
        </p:nvSpPr>
        <p:spPr>
          <a:xfrm>
            <a:off x="6281640" y="4076640"/>
            <a:ext cx="558720" cy="558720"/>
          </a:xfrm>
          <a:prstGeom prst="ellipse">
            <a:avLst/>
          </a:prstGeom>
          <a:solidFill>
            <a:srgbClr val="c00000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91" name="椭圆 69"/>
          <p:cNvSpPr/>
          <p:nvPr/>
        </p:nvSpPr>
        <p:spPr>
          <a:xfrm>
            <a:off x="5888520" y="3956760"/>
            <a:ext cx="558720" cy="558720"/>
          </a:xfrm>
          <a:prstGeom prst="ellipse">
            <a:avLst/>
          </a:prstGeom>
          <a:solidFill>
            <a:srgbClr val="c00000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92" name="椭圆 71"/>
          <p:cNvSpPr/>
          <p:nvPr/>
        </p:nvSpPr>
        <p:spPr>
          <a:xfrm>
            <a:off x="5644800" y="3641760"/>
            <a:ext cx="629640" cy="629640"/>
          </a:xfrm>
          <a:prstGeom prst="ellipse">
            <a:avLst/>
          </a:prstGeom>
          <a:solidFill>
            <a:schemeClr val="accent1">
              <a:alpha val="6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93" name="椭圆 73"/>
          <p:cNvSpPr/>
          <p:nvPr/>
        </p:nvSpPr>
        <p:spPr>
          <a:xfrm>
            <a:off x="6735600" y="4238640"/>
            <a:ext cx="335880" cy="335880"/>
          </a:xfrm>
          <a:prstGeom prst="ellipse">
            <a:avLst/>
          </a:prstGeom>
          <a:solidFill>
            <a:schemeClr val="accent1">
              <a:alpha val="6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94" name="椭圆 74"/>
          <p:cNvSpPr/>
          <p:nvPr/>
        </p:nvSpPr>
        <p:spPr>
          <a:xfrm>
            <a:off x="4965840" y="3290760"/>
            <a:ext cx="879120" cy="879120"/>
          </a:xfrm>
          <a:prstGeom prst="ellipse">
            <a:avLst/>
          </a:prstGeom>
          <a:solidFill>
            <a:srgbClr val="c00000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895" name="椭圆 105"/>
          <p:cNvSpPr/>
          <p:nvPr/>
        </p:nvSpPr>
        <p:spPr>
          <a:xfrm>
            <a:off x="5652360" y="1456920"/>
            <a:ext cx="1771200" cy="1771200"/>
          </a:xfrm>
          <a:prstGeom prst="ellipse">
            <a:avLst/>
          </a:prstGeom>
          <a:solidFill>
            <a:srgbClr val="c00000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3779640" y="1356840"/>
            <a:ext cx="4393440" cy="3745080"/>
            <a:chOff x="3779640" y="1356840"/>
            <a:chExt cx="4393440" cy="3745080"/>
          </a:xfrm>
        </p:grpSpPr>
        <p:sp>
          <p:nvSpPr>
            <p:cNvPr id="897" name="Freeform 5"/>
            <p:cNvSpPr/>
            <p:nvPr/>
          </p:nvSpPr>
          <p:spPr>
            <a:xfrm>
              <a:off x="3779640" y="1356840"/>
              <a:ext cx="3556440" cy="2885040"/>
            </a:xfrm>
            <a:custGeom>
              <a:avLst/>
              <a:gdLst>
                <a:gd name="textAreaLeft" fmla="*/ 0 w 3556440"/>
                <a:gd name="textAreaRight" fmla="*/ 3556800 w 3556440"/>
                <a:gd name="textAreaTop" fmla="*/ 0 h 2885040"/>
                <a:gd name="textAreaBottom" fmla="*/ 2885400 h 2885040"/>
              </a:gdLst>
              <a:ahLst/>
              <a:rect l="textAreaLeft" t="textAreaTop" r="textAreaRight" b="textAreaBottom"/>
              <a:pathLst>
                <a:path w="1059" h="859">
                  <a:moveTo>
                    <a:pt x="299" y="56"/>
                  </a:moveTo>
                  <a:cubicBezTo>
                    <a:pt x="389" y="25"/>
                    <a:pt x="482" y="6"/>
                    <a:pt x="577" y="2"/>
                  </a:cubicBezTo>
                  <a:cubicBezTo>
                    <a:pt x="654" y="1"/>
                    <a:pt x="733" y="0"/>
                    <a:pt x="809" y="17"/>
                  </a:cubicBezTo>
                  <a:cubicBezTo>
                    <a:pt x="882" y="34"/>
                    <a:pt x="953" y="64"/>
                    <a:pt x="1014" y="108"/>
                  </a:cubicBezTo>
                  <a:cubicBezTo>
                    <a:pt x="1030" y="120"/>
                    <a:pt x="1043" y="134"/>
                    <a:pt x="1059" y="145"/>
                  </a:cubicBezTo>
                  <a:cubicBezTo>
                    <a:pt x="1054" y="151"/>
                    <a:pt x="1049" y="157"/>
                    <a:pt x="1043" y="163"/>
                  </a:cubicBezTo>
                  <a:cubicBezTo>
                    <a:pt x="1032" y="153"/>
                    <a:pt x="1023" y="140"/>
                    <a:pt x="1009" y="135"/>
                  </a:cubicBezTo>
                  <a:cubicBezTo>
                    <a:pt x="998" y="130"/>
                    <a:pt x="985" y="137"/>
                    <a:pt x="980" y="147"/>
                  </a:cubicBezTo>
                  <a:cubicBezTo>
                    <a:pt x="973" y="159"/>
                    <a:pt x="976" y="173"/>
                    <a:pt x="975" y="186"/>
                  </a:cubicBezTo>
                  <a:cubicBezTo>
                    <a:pt x="971" y="173"/>
                    <a:pt x="966" y="159"/>
                    <a:pt x="966" y="144"/>
                  </a:cubicBezTo>
                  <a:cubicBezTo>
                    <a:pt x="967" y="132"/>
                    <a:pt x="975" y="121"/>
                    <a:pt x="976" y="108"/>
                  </a:cubicBezTo>
                  <a:cubicBezTo>
                    <a:pt x="972" y="100"/>
                    <a:pt x="963" y="102"/>
                    <a:pt x="956" y="104"/>
                  </a:cubicBezTo>
                  <a:cubicBezTo>
                    <a:pt x="941" y="108"/>
                    <a:pt x="932" y="122"/>
                    <a:pt x="917" y="126"/>
                  </a:cubicBezTo>
                  <a:cubicBezTo>
                    <a:pt x="895" y="125"/>
                    <a:pt x="879" y="109"/>
                    <a:pt x="866" y="93"/>
                  </a:cubicBezTo>
                  <a:cubicBezTo>
                    <a:pt x="881" y="101"/>
                    <a:pt x="896" y="112"/>
                    <a:pt x="913" y="112"/>
                  </a:cubicBezTo>
                  <a:cubicBezTo>
                    <a:pt x="925" y="111"/>
                    <a:pt x="935" y="105"/>
                    <a:pt x="945" y="99"/>
                  </a:cubicBezTo>
                  <a:cubicBezTo>
                    <a:pt x="942" y="88"/>
                    <a:pt x="932" y="80"/>
                    <a:pt x="920" y="78"/>
                  </a:cubicBezTo>
                  <a:cubicBezTo>
                    <a:pt x="889" y="69"/>
                    <a:pt x="852" y="69"/>
                    <a:pt x="824" y="87"/>
                  </a:cubicBezTo>
                  <a:cubicBezTo>
                    <a:pt x="816" y="92"/>
                    <a:pt x="815" y="102"/>
                    <a:pt x="814" y="110"/>
                  </a:cubicBezTo>
                  <a:cubicBezTo>
                    <a:pt x="777" y="112"/>
                    <a:pt x="739" y="125"/>
                    <a:pt x="712" y="152"/>
                  </a:cubicBezTo>
                  <a:cubicBezTo>
                    <a:pt x="706" y="158"/>
                    <a:pt x="698" y="167"/>
                    <a:pt x="702" y="176"/>
                  </a:cubicBezTo>
                  <a:cubicBezTo>
                    <a:pt x="709" y="188"/>
                    <a:pt x="724" y="191"/>
                    <a:pt x="731" y="203"/>
                  </a:cubicBezTo>
                  <a:cubicBezTo>
                    <a:pt x="735" y="211"/>
                    <a:pt x="728" y="218"/>
                    <a:pt x="721" y="222"/>
                  </a:cubicBezTo>
                  <a:cubicBezTo>
                    <a:pt x="698" y="233"/>
                    <a:pt x="670" y="231"/>
                    <a:pt x="646" y="242"/>
                  </a:cubicBezTo>
                  <a:cubicBezTo>
                    <a:pt x="627" y="252"/>
                    <a:pt x="617" y="273"/>
                    <a:pt x="607" y="291"/>
                  </a:cubicBezTo>
                  <a:cubicBezTo>
                    <a:pt x="591" y="322"/>
                    <a:pt x="577" y="357"/>
                    <a:pt x="580" y="393"/>
                  </a:cubicBezTo>
                  <a:cubicBezTo>
                    <a:pt x="580" y="410"/>
                    <a:pt x="590" y="425"/>
                    <a:pt x="603" y="436"/>
                  </a:cubicBezTo>
                  <a:cubicBezTo>
                    <a:pt x="596" y="450"/>
                    <a:pt x="584" y="467"/>
                    <a:pt x="591" y="483"/>
                  </a:cubicBezTo>
                  <a:cubicBezTo>
                    <a:pt x="592" y="484"/>
                    <a:pt x="596" y="486"/>
                    <a:pt x="597" y="487"/>
                  </a:cubicBezTo>
                  <a:cubicBezTo>
                    <a:pt x="618" y="476"/>
                    <a:pt x="636" y="460"/>
                    <a:pt x="657" y="449"/>
                  </a:cubicBezTo>
                  <a:cubicBezTo>
                    <a:pt x="678" y="436"/>
                    <a:pt x="705" y="427"/>
                    <a:pt x="716" y="403"/>
                  </a:cubicBezTo>
                  <a:cubicBezTo>
                    <a:pt x="723" y="382"/>
                    <a:pt x="704" y="362"/>
                    <a:pt x="707" y="341"/>
                  </a:cubicBezTo>
                  <a:cubicBezTo>
                    <a:pt x="708" y="331"/>
                    <a:pt x="715" y="324"/>
                    <a:pt x="720" y="316"/>
                  </a:cubicBezTo>
                  <a:cubicBezTo>
                    <a:pt x="709" y="348"/>
                    <a:pt x="724" y="384"/>
                    <a:pt x="751" y="402"/>
                  </a:cubicBezTo>
                  <a:cubicBezTo>
                    <a:pt x="768" y="412"/>
                    <a:pt x="790" y="411"/>
                    <a:pt x="809" y="410"/>
                  </a:cubicBezTo>
                  <a:cubicBezTo>
                    <a:pt x="837" y="407"/>
                    <a:pt x="858" y="385"/>
                    <a:pt x="868" y="360"/>
                  </a:cubicBezTo>
                  <a:cubicBezTo>
                    <a:pt x="882" y="330"/>
                    <a:pt x="883" y="288"/>
                    <a:pt x="918" y="273"/>
                  </a:cubicBezTo>
                  <a:cubicBezTo>
                    <a:pt x="904" y="289"/>
                    <a:pt x="890" y="307"/>
                    <a:pt x="887" y="329"/>
                  </a:cubicBezTo>
                  <a:cubicBezTo>
                    <a:pt x="885" y="341"/>
                    <a:pt x="887" y="353"/>
                    <a:pt x="884" y="364"/>
                  </a:cubicBezTo>
                  <a:cubicBezTo>
                    <a:pt x="874" y="388"/>
                    <a:pt x="845" y="398"/>
                    <a:pt x="836" y="423"/>
                  </a:cubicBezTo>
                  <a:cubicBezTo>
                    <a:pt x="856" y="435"/>
                    <a:pt x="870" y="458"/>
                    <a:pt x="864" y="481"/>
                  </a:cubicBezTo>
                  <a:cubicBezTo>
                    <a:pt x="860" y="467"/>
                    <a:pt x="854" y="452"/>
                    <a:pt x="841" y="444"/>
                  </a:cubicBezTo>
                  <a:cubicBezTo>
                    <a:pt x="825" y="432"/>
                    <a:pt x="804" y="434"/>
                    <a:pt x="785" y="433"/>
                  </a:cubicBezTo>
                  <a:cubicBezTo>
                    <a:pt x="761" y="431"/>
                    <a:pt x="736" y="428"/>
                    <a:pt x="713" y="439"/>
                  </a:cubicBezTo>
                  <a:cubicBezTo>
                    <a:pt x="664" y="461"/>
                    <a:pt x="625" y="499"/>
                    <a:pt x="582" y="530"/>
                  </a:cubicBezTo>
                  <a:cubicBezTo>
                    <a:pt x="546" y="546"/>
                    <a:pt x="527" y="587"/>
                    <a:pt x="530" y="625"/>
                  </a:cubicBezTo>
                  <a:cubicBezTo>
                    <a:pt x="524" y="642"/>
                    <a:pt x="533" y="661"/>
                    <a:pt x="545" y="673"/>
                  </a:cubicBezTo>
                  <a:cubicBezTo>
                    <a:pt x="561" y="666"/>
                    <a:pt x="570" y="651"/>
                    <a:pt x="576" y="636"/>
                  </a:cubicBezTo>
                  <a:cubicBezTo>
                    <a:pt x="579" y="658"/>
                    <a:pt x="558" y="671"/>
                    <a:pt x="549" y="689"/>
                  </a:cubicBezTo>
                  <a:cubicBezTo>
                    <a:pt x="546" y="710"/>
                    <a:pt x="566" y="725"/>
                    <a:pt x="582" y="733"/>
                  </a:cubicBezTo>
                  <a:cubicBezTo>
                    <a:pt x="565" y="734"/>
                    <a:pt x="555" y="720"/>
                    <a:pt x="544" y="710"/>
                  </a:cubicBezTo>
                  <a:cubicBezTo>
                    <a:pt x="515" y="705"/>
                    <a:pt x="490" y="725"/>
                    <a:pt x="472" y="746"/>
                  </a:cubicBezTo>
                  <a:cubicBezTo>
                    <a:pt x="479" y="724"/>
                    <a:pt x="500" y="709"/>
                    <a:pt x="521" y="701"/>
                  </a:cubicBezTo>
                  <a:cubicBezTo>
                    <a:pt x="529" y="699"/>
                    <a:pt x="536" y="689"/>
                    <a:pt x="532" y="681"/>
                  </a:cubicBezTo>
                  <a:cubicBezTo>
                    <a:pt x="525" y="664"/>
                    <a:pt x="512" y="648"/>
                    <a:pt x="514" y="629"/>
                  </a:cubicBezTo>
                  <a:cubicBezTo>
                    <a:pt x="512" y="605"/>
                    <a:pt x="509" y="582"/>
                    <a:pt x="511" y="558"/>
                  </a:cubicBezTo>
                  <a:cubicBezTo>
                    <a:pt x="512" y="558"/>
                    <a:pt x="512" y="558"/>
                    <a:pt x="512" y="558"/>
                  </a:cubicBezTo>
                  <a:cubicBezTo>
                    <a:pt x="511" y="574"/>
                    <a:pt x="511" y="590"/>
                    <a:pt x="513" y="606"/>
                  </a:cubicBezTo>
                  <a:cubicBezTo>
                    <a:pt x="518" y="585"/>
                    <a:pt x="531" y="565"/>
                    <a:pt x="527" y="543"/>
                  </a:cubicBezTo>
                  <a:cubicBezTo>
                    <a:pt x="523" y="537"/>
                    <a:pt x="515" y="539"/>
                    <a:pt x="509" y="537"/>
                  </a:cubicBezTo>
                  <a:cubicBezTo>
                    <a:pt x="497" y="534"/>
                    <a:pt x="485" y="534"/>
                    <a:pt x="474" y="534"/>
                  </a:cubicBezTo>
                  <a:cubicBezTo>
                    <a:pt x="474" y="526"/>
                    <a:pt x="474" y="519"/>
                    <a:pt x="474" y="511"/>
                  </a:cubicBezTo>
                  <a:cubicBezTo>
                    <a:pt x="486" y="512"/>
                    <a:pt x="498" y="515"/>
                    <a:pt x="510" y="515"/>
                  </a:cubicBezTo>
                  <a:cubicBezTo>
                    <a:pt x="516" y="515"/>
                    <a:pt x="518" y="505"/>
                    <a:pt x="523" y="513"/>
                  </a:cubicBezTo>
                  <a:cubicBezTo>
                    <a:pt x="524" y="510"/>
                    <a:pt x="525" y="504"/>
                    <a:pt x="525" y="500"/>
                  </a:cubicBezTo>
                  <a:cubicBezTo>
                    <a:pt x="526" y="504"/>
                    <a:pt x="526" y="512"/>
                    <a:pt x="527" y="515"/>
                  </a:cubicBezTo>
                  <a:cubicBezTo>
                    <a:pt x="557" y="510"/>
                    <a:pt x="578" y="481"/>
                    <a:pt x="585" y="453"/>
                  </a:cubicBezTo>
                  <a:cubicBezTo>
                    <a:pt x="592" y="431"/>
                    <a:pt x="569" y="417"/>
                    <a:pt x="566" y="397"/>
                  </a:cubicBezTo>
                  <a:cubicBezTo>
                    <a:pt x="557" y="365"/>
                    <a:pt x="568" y="333"/>
                    <a:pt x="574" y="301"/>
                  </a:cubicBezTo>
                  <a:cubicBezTo>
                    <a:pt x="582" y="262"/>
                    <a:pt x="613" y="230"/>
                    <a:pt x="652" y="222"/>
                  </a:cubicBezTo>
                  <a:cubicBezTo>
                    <a:pt x="664" y="219"/>
                    <a:pt x="680" y="220"/>
                    <a:pt x="687" y="207"/>
                  </a:cubicBezTo>
                  <a:cubicBezTo>
                    <a:pt x="695" y="185"/>
                    <a:pt x="683" y="158"/>
                    <a:pt x="661" y="149"/>
                  </a:cubicBezTo>
                  <a:cubicBezTo>
                    <a:pt x="670" y="151"/>
                    <a:pt x="679" y="154"/>
                    <a:pt x="687" y="159"/>
                  </a:cubicBezTo>
                  <a:cubicBezTo>
                    <a:pt x="702" y="135"/>
                    <a:pt x="727" y="120"/>
                    <a:pt x="753" y="112"/>
                  </a:cubicBezTo>
                  <a:cubicBezTo>
                    <a:pt x="773" y="105"/>
                    <a:pt x="796" y="103"/>
                    <a:pt x="812" y="87"/>
                  </a:cubicBezTo>
                  <a:cubicBezTo>
                    <a:pt x="818" y="80"/>
                    <a:pt x="810" y="72"/>
                    <a:pt x="806" y="66"/>
                  </a:cubicBezTo>
                  <a:cubicBezTo>
                    <a:pt x="821" y="71"/>
                    <a:pt x="840" y="73"/>
                    <a:pt x="852" y="60"/>
                  </a:cubicBezTo>
                  <a:cubicBezTo>
                    <a:pt x="845" y="47"/>
                    <a:pt x="831" y="41"/>
                    <a:pt x="817" y="40"/>
                  </a:cubicBezTo>
                  <a:cubicBezTo>
                    <a:pt x="785" y="36"/>
                    <a:pt x="756" y="59"/>
                    <a:pt x="724" y="53"/>
                  </a:cubicBezTo>
                  <a:cubicBezTo>
                    <a:pt x="730" y="49"/>
                    <a:pt x="736" y="46"/>
                    <a:pt x="740" y="41"/>
                  </a:cubicBezTo>
                  <a:cubicBezTo>
                    <a:pt x="744" y="33"/>
                    <a:pt x="733" y="29"/>
                    <a:pt x="728" y="26"/>
                  </a:cubicBezTo>
                  <a:cubicBezTo>
                    <a:pt x="701" y="15"/>
                    <a:pt x="670" y="14"/>
                    <a:pt x="641" y="14"/>
                  </a:cubicBezTo>
                  <a:cubicBezTo>
                    <a:pt x="618" y="15"/>
                    <a:pt x="590" y="15"/>
                    <a:pt x="574" y="34"/>
                  </a:cubicBezTo>
                  <a:cubicBezTo>
                    <a:pt x="566" y="44"/>
                    <a:pt x="570" y="56"/>
                    <a:pt x="572" y="67"/>
                  </a:cubicBezTo>
                  <a:cubicBezTo>
                    <a:pt x="563" y="59"/>
                    <a:pt x="560" y="48"/>
                    <a:pt x="557" y="37"/>
                  </a:cubicBezTo>
                  <a:cubicBezTo>
                    <a:pt x="556" y="32"/>
                    <a:pt x="549" y="30"/>
                    <a:pt x="545" y="31"/>
                  </a:cubicBezTo>
                  <a:cubicBezTo>
                    <a:pt x="524" y="32"/>
                    <a:pt x="504" y="45"/>
                    <a:pt x="496" y="65"/>
                  </a:cubicBezTo>
                  <a:cubicBezTo>
                    <a:pt x="472" y="65"/>
                    <a:pt x="448" y="70"/>
                    <a:pt x="428" y="83"/>
                  </a:cubicBezTo>
                  <a:cubicBezTo>
                    <a:pt x="439" y="68"/>
                    <a:pt x="458" y="58"/>
                    <a:pt x="477" y="57"/>
                  </a:cubicBezTo>
                  <a:cubicBezTo>
                    <a:pt x="488" y="57"/>
                    <a:pt x="502" y="48"/>
                    <a:pt x="501" y="35"/>
                  </a:cubicBezTo>
                  <a:cubicBezTo>
                    <a:pt x="458" y="34"/>
                    <a:pt x="416" y="47"/>
                    <a:pt x="375" y="59"/>
                  </a:cubicBezTo>
                  <a:cubicBezTo>
                    <a:pt x="355" y="62"/>
                    <a:pt x="336" y="75"/>
                    <a:pt x="333" y="96"/>
                  </a:cubicBezTo>
                  <a:cubicBezTo>
                    <a:pt x="350" y="100"/>
                    <a:pt x="368" y="95"/>
                    <a:pt x="383" y="102"/>
                  </a:cubicBezTo>
                  <a:cubicBezTo>
                    <a:pt x="397" y="107"/>
                    <a:pt x="406" y="121"/>
                    <a:pt x="405" y="135"/>
                  </a:cubicBezTo>
                  <a:cubicBezTo>
                    <a:pt x="414" y="125"/>
                    <a:pt x="425" y="116"/>
                    <a:pt x="438" y="112"/>
                  </a:cubicBezTo>
                  <a:cubicBezTo>
                    <a:pt x="420" y="127"/>
                    <a:pt x="403" y="145"/>
                    <a:pt x="400" y="169"/>
                  </a:cubicBezTo>
                  <a:cubicBezTo>
                    <a:pt x="397" y="184"/>
                    <a:pt x="412" y="192"/>
                    <a:pt x="421" y="200"/>
                  </a:cubicBezTo>
                  <a:cubicBezTo>
                    <a:pt x="434" y="209"/>
                    <a:pt x="442" y="222"/>
                    <a:pt x="453" y="232"/>
                  </a:cubicBezTo>
                  <a:cubicBezTo>
                    <a:pt x="468" y="240"/>
                    <a:pt x="491" y="234"/>
                    <a:pt x="496" y="217"/>
                  </a:cubicBezTo>
                  <a:cubicBezTo>
                    <a:pt x="498" y="198"/>
                    <a:pt x="488" y="180"/>
                    <a:pt x="494" y="161"/>
                  </a:cubicBezTo>
                  <a:cubicBezTo>
                    <a:pt x="501" y="138"/>
                    <a:pt x="511" y="113"/>
                    <a:pt x="503" y="89"/>
                  </a:cubicBezTo>
                  <a:cubicBezTo>
                    <a:pt x="511" y="102"/>
                    <a:pt x="518" y="117"/>
                    <a:pt x="515" y="132"/>
                  </a:cubicBezTo>
                  <a:cubicBezTo>
                    <a:pt x="512" y="155"/>
                    <a:pt x="499" y="178"/>
                    <a:pt x="510" y="200"/>
                  </a:cubicBezTo>
                  <a:cubicBezTo>
                    <a:pt x="514" y="209"/>
                    <a:pt x="525" y="210"/>
                    <a:pt x="533" y="210"/>
                  </a:cubicBezTo>
                  <a:cubicBezTo>
                    <a:pt x="556" y="208"/>
                    <a:pt x="575" y="193"/>
                    <a:pt x="589" y="177"/>
                  </a:cubicBezTo>
                  <a:cubicBezTo>
                    <a:pt x="577" y="209"/>
                    <a:pt x="542" y="221"/>
                    <a:pt x="514" y="234"/>
                  </a:cubicBezTo>
                  <a:cubicBezTo>
                    <a:pt x="499" y="241"/>
                    <a:pt x="481" y="248"/>
                    <a:pt x="475" y="265"/>
                  </a:cubicBezTo>
                  <a:cubicBezTo>
                    <a:pt x="479" y="281"/>
                    <a:pt x="485" y="297"/>
                    <a:pt x="482" y="313"/>
                  </a:cubicBezTo>
                  <a:cubicBezTo>
                    <a:pt x="480" y="329"/>
                    <a:pt x="467" y="345"/>
                    <a:pt x="477" y="360"/>
                  </a:cubicBezTo>
                  <a:cubicBezTo>
                    <a:pt x="490" y="380"/>
                    <a:pt x="502" y="402"/>
                    <a:pt x="500" y="426"/>
                  </a:cubicBezTo>
                  <a:cubicBezTo>
                    <a:pt x="493" y="411"/>
                    <a:pt x="489" y="394"/>
                    <a:pt x="478" y="381"/>
                  </a:cubicBezTo>
                  <a:cubicBezTo>
                    <a:pt x="473" y="375"/>
                    <a:pt x="466" y="373"/>
                    <a:pt x="462" y="367"/>
                  </a:cubicBezTo>
                  <a:cubicBezTo>
                    <a:pt x="454" y="356"/>
                    <a:pt x="443" y="347"/>
                    <a:pt x="434" y="337"/>
                  </a:cubicBezTo>
                  <a:cubicBezTo>
                    <a:pt x="449" y="331"/>
                    <a:pt x="465" y="319"/>
                    <a:pt x="468" y="301"/>
                  </a:cubicBezTo>
                  <a:cubicBezTo>
                    <a:pt x="471" y="284"/>
                    <a:pt x="456" y="271"/>
                    <a:pt x="449" y="257"/>
                  </a:cubicBezTo>
                  <a:cubicBezTo>
                    <a:pt x="439" y="238"/>
                    <a:pt x="429" y="219"/>
                    <a:pt x="411" y="206"/>
                  </a:cubicBezTo>
                  <a:cubicBezTo>
                    <a:pt x="403" y="200"/>
                    <a:pt x="392" y="197"/>
                    <a:pt x="383" y="191"/>
                  </a:cubicBezTo>
                  <a:cubicBezTo>
                    <a:pt x="382" y="171"/>
                    <a:pt x="398" y="153"/>
                    <a:pt x="394" y="133"/>
                  </a:cubicBezTo>
                  <a:cubicBezTo>
                    <a:pt x="394" y="118"/>
                    <a:pt x="379" y="109"/>
                    <a:pt x="365" y="109"/>
                  </a:cubicBezTo>
                  <a:cubicBezTo>
                    <a:pt x="343" y="109"/>
                    <a:pt x="316" y="114"/>
                    <a:pt x="302" y="134"/>
                  </a:cubicBezTo>
                  <a:cubicBezTo>
                    <a:pt x="295" y="142"/>
                    <a:pt x="296" y="155"/>
                    <a:pt x="305" y="161"/>
                  </a:cubicBezTo>
                  <a:cubicBezTo>
                    <a:pt x="316" y="164"/>
                    <a:pt x="327" y="164"/>
                    <a:pt x="337" y="169"/>
                  </a:cubicBezTo>
                  <a:cubicBezTo>
                    <a:pt x="302" y="170"/>
                    <a:pt x="264" y="186"/>
                    <a:pt x="249" y="221"/>
                  </a:cubicBezTo>
                  <a:cubicBezTo>
                    <a:pt x="243" y="235"/>
                    <a:pt x="236" y="254"/>
                    <a:pt x="249" y="266"/>
                  </a:cubicBezTo>
                  <a:cubicBezTo>
                    <a:pt x="268" y="263"/>
                    <a:pt x="287" y="256"/>
                    <a:pt x="307" y="259"/>
                  </a:cubicBezTo>
                  <a:cubicBezTo>
                    <a:pt x="324" y="261"/>
                    <a:pt x="337" y="275"/>
                    <a:pt x="353" y="278"/>
                  </a:cubicBezTo>
                  <a:cubicBezTo>
                    <a:pt x="365" y="281"/>
                    <a:pt x="378" y="280"/>
                    <a:pt x="390" y="280"/>
                  </a:cubicBezTo>
                  <a:cubicBezTo>
                    <a:pt x="378" y="285"/>
                    <a:pt x="366" y="289"/>
                    <a:pt x="353" y="287"/>
                  </a:cubicBezTo>
                  <a:cubicBezTo>
                    <a:pt x="331" y="285"/>
                    <a:pt x="311" y="270"/>
                    <a:pt x="289" y="273"/>
                  </a:cubicBezTo>
                  <a:cubicBezTo>
                    <a:pt x="274" y="274"/>
                    <a:pt x="256" y="280"/>
                    <a:pt x="252" y="296"/>
                  </a:cubicBezTo>
                  <a:cubicBezTo>
                    <a:pt x="246" y="316"/>
                    <a:pt x="247" y="342"/>
                    <a:pt x="227" y="354"/>
                  </a:cubicBezTo>
                  <a:cubicBezTo>
                    <a:pt x="228" y="339"/>
                    <a:pt x="234" y="325"/>
                    <a:pt x="237" y="310"/>
                  </a:cubicBezTo>
                  <a:cubicBezTo>
                    <a:pt x="228" y="312"/>
                    <a:pt x="216" y="313"/>
                    <a:pt x="208" y="306"/>
                  </a:cubicBezTo>
                  <a:cubicBezTo>
                    <a:pt x="197" y="295"/>
                    <a:pt x="187" y="278"/>
                    <a:pt x="169" y="280"/>
                  </a:cubicBezTo>
                  <a:cubicBezTo>
                    <a:pt x="154" y="284"/>
                    <a:pt x="142" y="293"/>
                    <a:pt x="130" y="302"/>
                  </a:cubicBezTo>
                  <a:cubicBezTo>
                    <a:pt x="112" y="316"/>
                    <a:pt x="92" y="329"/>
                    <a:pt x="81" y="349"/>
                  </a:cubicBezTo>
                  <a:cubicBezTo>
                    <a:pt x="67" y="374"/>
                    <a:pt x="57" y="401"/>
                    <a:pt x="55" y="429"/>
                  </a:cubicBezTo>
                  <a:cubicBezTo>
                    <a:pt x="53" y="438"/>
                    <a:pt x="56" y="446"/>
                    <a:pt x="59" y="453"/>
                  </a:cubicBezTo>
                  <a:cubicBezTo>
                    <a:pt x="43" y="457"/>
                    <a:pt x="43" y="476"/>
                    <a:pt x="42" y="489"/>
                  </a:cubicBezTo>
                  <a:cubicBezTo>
                    <a:pt x="43" y="514"/>
                    <a:pt x="44" y="541"/>
                    <a:pt x="54" y="564"/>
                  </a:cubicBezTo>
                  <a:cubicBezTo>
                    <a:pt x="66" y="586"/>
                    <a:pt x="98" y="592"/>
                    <a:pt x="118" y="578"/>
                  </a:cubicBezTo>
                  <a:cubicBezTo>
                    <a:pt x="127" y="567"/>
                    <a:pt x="130" y="553"/>
                    <a:pt x="136" y="541"/>
                  </a:cubicBezTo>
                  <a:cubicBezTo>
                    <a:pt x="135" y="553"/>
                    <a:pt x="134" y="566"/>
                    <a:pt x="141" y="576"/>
                  </a:cubicBezTo>
                  <a:cubicBezTo>
                    <a:pt x="153" y="595"/>
                    <a:pt x="175" y="603"/>
                    <a:pt x="194" y="612"/>
                  </a:cubicBezTo>
                  <a:cubicBezTo>
                    <a:pt x="215" y="619"/>
                    <a:pt x="235" y="630"/>
                    <a:pt x="257" y="631"/>
                  </a:cubicBezTo>
                  <a:cubicBezTo>
                    <a:pt x="277" y="632"/>
                    <a:pt x="299" y="628"/>
                    <a:pt x="312" y="612"/>
                  </a:cubicBezTo>
                  <a:cubicBezTo>
                    <a:pt x="327" y="593"/>
                    <a:pt x="346" y="579"/>
                    <a:pt x="362" y="562"/>
                  </a:cubicBezTo>
                  <a:cubicBezTo>
                    <a:pt x="369" y="572"/>
                    <a:pt x="366" y="585"/>
                    <a:pt x="368" y="597"/>
                  </a:cubicBezTo>
                  <a:cubicBezTo>
                    <a:pt x="351" y="615"/>
                    <a:pt x="328" y="626"/>
                    <a:pt x="316" y="648"/>
                  </a:cubicBezTo>
                  <a:cubicBezTo>
                    <a:pt x="296" y="677"/>
                    <a:pt x="302" y="715"/>
                    <a:pt x="316" y="746"/>
                  </a:cubicBezTo>
                  <a:cubicBezTo>
                    <a:pt x="333" y="773"/>
                    <a:pt x="360" y="793"/>
                    <a:pt x="389" y="805"/>
                  </a:cubicBezTo>
                  <a:cubicBezTo>
                    <a:pt x="378" y="806"/>
                    <a:pt x="367" y="806"/>
                    <a:pt x="357" y="802"/>
                  </a:cubicBezTo>
                  <a:cubicBezTo>
                    <a:pt x="349" y="800"/>
                    <a:pt x="341" y="793"/>
                    <a:pt x="334" y="799"/>
                  </a:cubicBezTo>
                  <a:cubicBezTo>
                    <a:pt x="331" y="819"/>
                    <a:pt x="352" y="830"/>
                    <a:pt x="365" y="841"/>
                  </a:cubicBezTo>
                  <a:cubicBezTo>
                    <a:pt x="358" y="847"/>
                    <a:pt x="352" y="854"/>
                    <a:pt x="345" y="859"/>
                  </a:cubicBezTo>
                  <a:cubicBezTo>
                    <a:pt x="325" y="846"/>
                    <a:pt x="307" y="829"/>
                    <a:pt x="299" y="805"/>
                  </a:cubicBezTo>
                  <a:cubicBezTo>
                    <a:pt x="289" y="779"/>
                    <a:pt x="301" y="750"/>
                    <a:pt x="291" y="723"/>
                  </a:cubicBezTo>
                  <a:cubicBezTo>
                    <a:pt x="288" y="713"/>
                    <a:pt x="284" y="704"/>
                    <a:pt x="281" y="694"/>
                  </a:cubicBezTo>
                  <a:cubicBezTo>
                    <a:pt x="238" y="697"/>
                    <a:pt x="194" y="690"/>
                    <a:pt x="153" y="677"/>
                  </a:cubicBezTo>
                  <a:cubicBezTo>
                    <a:pt x="131" y="670"/>
                    <a:pt x="108" y="662"/>
                    <a:pt x="89" y="647"/>
                  </a:cubicBezTo>
                  <a:cubicBezTo>
                    <a:pt x="59" y="623"/>
                    <a:pt x="36" y="589"/>
                    <a:pt x="26" y="552"/>
                  </a:cubicBezTo>
                  <a:cubicBezTo>
                    <a:pt x="14" y="499"/>
                    <a:pt x="0" y="444"/>
                    <a:pt x="11" y="389"/>
                  </a:cubicBezTo>
                  <a:cubicBezTo>
                    <a:pt x="20" y="353"/>
                    <a:pt x="29" y="316"/>
                    <a:pt x="46" y="282"/>
                  </a:cubicBezTo>
                  <a:cubicBezTo>
                    <a:pt x="60" y="253"/>
                    <a:pt x="83" y="228"/>
                    <a:pt x="101" y="201"/>
                  </a:cubicBezTo>
                  <a:cubicBezTo>
                    <a:pt x="130" y="167"/>
                    <a:pt x="163" y="138"/>
                    <a:pt x="200" y="113"/>
                  </a:cubicBezTo>
                  <a:cubicBezTo>
                    <a:pt x="231" y="91"/>
                    <a:pt x="263" y="68"/>
                    <a:pt x="299" y="56"/>
                  </a:cubicBezTo>
                  <a:close/>
                  <a:moveTo>
                    <a:pt x="263" y="99"/>
                  </a:moveTo>
                  <a:cubicBezTo>
                    <a:pt x="234" y="124"/>
                    <a:pt x="200" y="140"/>
                    <a:pt x="169" y="161"/>
                  </a:cubicBezTo>
                  <a:cubicBezTo>
                    <a:pt x="153" y="172"/>
                    <a:pt x="133" y="182"/>
                    <a:pt x="126" y="201"/>
                  </a:cubicBezTo>
                  <a:cubicBezTo>
                    <a:pt x="123" y="209"/>
                    <a:pt x="135" y="211"/>
                    <a:pt x="140" y="207"/>
                  </a:cubicBezTo>
                  <a:cubicBezTo>
                    <a:pt x="154" y="200"/>
                    <a:pt x="164" y="186"/>
                    <a:pt x="177" y="177"/>
                  </a:cubicBezTo>
                  <a:cubicBezTo>
                    <a:pt x="191" y="167"/>
                    <a:pt x="209" y="167"/>
                    <a:pt x="225" y="167"/>
                  </a:cubicBezTo>
                  <a:cubicBezTo>
                    <a:pt x="199" y="177"/>
                    <a:pt x="165" y="185"/>
                    <a:pt x="155" y="216"/>
                  </a:cubicBezTo>
                  <a:cubicBezTo>
                    <a:pt x="128" y="219"/>
                    <a:pt x="108" y="239"/>
                    <a:pt x="92" y="259"/>
                  </a:cubicBezTo>
                  <a:cubicBezTo>
                    <a:pt x="80" y="274"/>
                    <a:pt x="66" y="290"/>
                    <a:pt x="61" y="309"/>
                  </a:cubicBezTo>
                  <a:cubicBezTo>
                    <a:pt x="60" y="321"/>
                    <a:pt x="72" y="326"/>
                    <a:pt x="81" y="327"/>
                  </a:cubicBezTo>
                  <a:cubicBezTo>
                    <a:pt x="105" y="298"/>
                    <a:pt x="138" y="272"/>
                    <a:pt x="177" y="271"/>
                  </a:cubicBezTo>
                  <a:cubicBezTo>
                    <a:pt x="194" y="271"/>
                    <a:pt x="203" y="288"/>
                    <a:pt x="217" y="294"/>
                  </a:cubicBezTo>
                  <a:cubicBezTo>
                    <a:pt x="229" y="294"/>
                    <a:pt x="240" y="281"/>
                    <a:pt x="236" y="269"/>
                  </a:cubicBezTo>
                  <a:cubicBezTo>
                    <a:pt x="232" y="254"/>
                    <a:pt x="219" y="243"/>
                    <a:pt x="204" y="239"/>
                  </a:cubicBezTo>
                  <a:cubicBezTo>
                    <a:pt x="186" y="235"/>
                    <a:pt x="166" y="238"/>
                    <a:pt x="148" y="242"/>
                  </a:cubicBezTo>
                  <a:cubicBezTo>
                    <a:pt x="168" y="228"/>
                    <a:pt x="194" y="231"/>
                    <a:pt x="217" y="225"/>
                  </a:cubicBezTo>
                  <a:cubicBezTo>
                    <a:pt x="233" y="222"/>
                    <a:pt x="239" y="205"/>
                    <a:pt x="251" y="195"/>
                  </a:cubicBezTo>
                  <a:cubicBezTo>
                    <a:pt x="263" y="183"/>
                    <a:pt x="282" y="176"/>
                    <a:pt x="285" y="158"/>
                  </a:cubicBezTo>
                  <a:cubicBezTo>
                    <a:pt x="288" y="144"/>
                    <a:pt x="281" y="131"/>
                    <a:pt x="270" y="124"/>
                  </a:cubicBezTo>
                  <a:cubicBezTo>
                    <a:pt x="286" y="126"/>
                    <a:pt x="303" y="122"/>
                    <a:pt x="312" y="108"/>
                  </a:cubicBezTo>
                  <a:cubicBezTo>
                    <a:pt x="319" y="96"/>
                    <a:pt x="331" y="84"/>
                    <a:pt x="328" y="69"/>
                  </a:cubicBezTo>
                  <a:cubicBezTo>
                    <a:pt x="304" y="74"/>
                    <a:pt x="281" y="83"/>
                    <a:pt x="263" y="99"/>
                  </a:cubicBezTo>
                  <a:close/>
                  <a:moveTo>
                    <a:pt x="49" y="332"/>
                  </a:moveTo>
                  <a:cubicBezTo>
                    <a:pt x="38" y="359"/>
                    <a:pt x="27" y="387"/>
                    <a:pt x="26" y="417"/>
                  </a:cubicBezTo>
                  <a:cubicBezTo>
                    <a:pt x="24" y="439"/>
                    <a:pt x="28" y="460"/>
                    <a:pt x="32" y="482"/>
                  </a:cubicBezTo>
                  <a:cubicBezTo>
                    <a:pt x="37" y="456"/>
                    <a:pt x="38" y="430"/>
                    <a:pt x="45" y="405"/>
                  </a:cubicBezTo>
                  <a:cubicBezTo>
                    <a:pt x="51" y="385"/>
                    <a:pt x="59" y="366"/>
                    <a:pt x="61" y="345"/>
                  </a:cubicBezTo>
                  <a:cubicBezTo>
                    <a:pt x="62" y="337"/>
                    <a:pt x="55" y="334"/>
                    <a:pt x="49" y="332"/>
                  </a:cubicBezTo>
                  <a:close/>
                  <a:moveTo>
                    <a:pt x="67" y="595"/>
                  </a:moveTo>
                  <a:cubicBezTo>
                    <a:pt x="77" y="607"/>
                    <a:pt x="85" y="621"/>
                    <a:pt x="99" y="628"/>
                  </a:cubicBezTo>
                  <a:cubicBezTo>
                    <a:pt x="123" y="635"/>
                    <a:pt x="149" y="631"/>
                    <a:pt x="174" y="626"/>
                  </a:cubicBezTo>
                  <a:cubicBezTo>
                    <a:pt x="163" y="613"/>
                    <a:pt x="149" y="603"/>
                    <a:pt x="132" y="598"/>
                  </a:cubicBezTo>
                  <a:cubicBezTo>
                    <a:pt x="111" y="595"/>
                    <a:pt x="89" y="600"/>
                    <a:pt x="67" y="595"/>
                  </a:cubicBezTo>
                  <a:close/>
                  <a:moveTo>
                    <a:pt x="159" y="648"/>
                  </a:moveTo>
                  <a:cubicBezTo>
                    <a:pt x="185" y="664"/>
                    <a:pt x="216" y="668"/>
                    <a:pt x="245" y="665"/>
                  </a:cubicBezTo>
                  <a:cubicBezTo>
                    <a:pt x="256" y="664"/>
                    <a:pt x="271" y="662"/>
                    <a:pt x="275" y="649"/>
                  </a:cubicBezTo>
                  <a:cubicBezTo>
                    <a:pt x="266" y="646"/>
                    <a:pt x="258" y="643"/>
                    <a:pt x="249" y="644"/>
                  </a:cubicBezTo>
                  <a:cubicBezTo>
                    <a:pt x="226" y="646"/>
                    <a:pt x="202" y="642"/>
                    <a:pt x="181" y="630"/>
                  </a:cubicBezTo>
                  <a:cubicBezTo>
                    <a:pt x="172" y="634"/>
                    <a:pt x="163" y="639"/>
                    <a:pt x="159" y="648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98" name="Freeform 6"/>
            <p:cNvSpPr/>
            <p:nvPr/>
          </p:nvSpPr>
          <p:spPr>
            <a:xfrm>
              <a:off x="5631480" y="1481400"/>
              <a:ext cx="478800" cy="34668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143" h="103">
                  <a:moveTo>
                    <a:pt x="51" y="67"/>
                  </a:moveTo>
                  <a:cubicBezTo>
                    <a:pt x="41" y="43"/>
                    <a:pt x="52" y="15"/>
                    <a:pt x="73" y="0"/>
                  </a:cubicBezTo>
                  <a:cubicBezTo>
                    <a:pt x="65" y="12"/>
                    <a:pt x="56" y="25"/>
                    <a:pt x="58" y="40"/>
                  </a:cubicBezTo>
                  <a:cubicBezTo>
                    <a:pt x="59" y="52"/>
                    <a:pt x="69" y="66"/>
                    <a:pt x="82" y="63"/>
                  </a:cubicBezTo>
                  <a:cubicBezTo>
                    <a:pt x="93" y="62"/>
                    <a:pt x="97" y="51"/>
                    <a:pt x="103" y="44"/>
                  </a:cubicBezTo>
                  <a:cubicBezTo>
                    <a:pt x="112" y="31"/>
                    <a:pt x="127" y="23"/>
                    <a:pt x="143" y="24"/>
                  </a:cubicBezTo>
                  <a:cubicBezTo>
                    <a:pt x="129" y="30"/>
                    <a:pt x="116" y="40"/>
                    <a:pt x="107" y="53"/>
                  </a:cubicBezTo>
                  <a:cubicBezTo>
                    <a:pt x="97" y="68"/>
                    <a:pt x="84" y="83"/>
                    <a:pt x="84" y="103"/>
                  </a:cubicBezTo>
                  <a:cubicBezTo>
                    <a:pt x="74" y="89"/>
                    <a:pt x="59" y="79"/>
                    <a:pt x="42" y="77"/>
                  </a:cubicBezTo>
                  <a:cubicBezTo>
                    <a:pt x="28" y="75"/>
                    <a:pt x="14" y="80"/>
                    <a:pt x="0" y="82"/>
                  </a:cubicBezTo>
                  <a:cubicBezTo>
                    <a:pt x="14" y="70"/>
                    <a:pt x="33" y="66"/>
                    <a:pt x="51" y="67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86" name="Freeform 7"/>
            <p:cNvSpPr/>
            <p:nvPr/>
          </p:nvSpPr>
          <p:spPr>
            <a:xfrm>
              <a:off x="4952520" y="1866240"/>
              <a:ext cx="3220560" cy="3235680"/>
            </a:xfrm>
            <a:custGeom>
              <a:avLst/>
              <a:gdLst>
                <a:gd name="textAreaLeft" fmla="*/ 0 w 3220560"/>
                <a:gd name="textAreaRight" fmla="*/ 3220920 w 3220560"/>
                <a:gd name="textAreaTop" fmla="*/ 0 h 3235680"/>
                <a:gd name="textAreaBottom" fmla="*/ 3236040 h 3235680"/>
              </a:gdLst>
              <a:ahLst/>
              <a:rect l="textAreaLeft" t="textAreaTop" r="textAreaRight" b="textAreaBottom"/>
              <a:pathLst>
                <a:path w="959" h="964">
                  <a:moveTo>
                    <a:pt x="698" y="16"/>
                  </a:moveTo>
                  <a:cubicBezTo>
                    <a:pt x="704" y="10"/>
                    <a:pt x="710" y="5"/>
                    <a:pt x="716" y="0"/>
                  </a:cubicBezTo>
                  <a:cubicBezTo>
                    <a:pt x="732" y="17"/>
                    <a:pt x="752" y="32"/>
                    <a:pt x="768" y="50"/>
                  </a:cubicBezTo>
                  <a:cubicBezTo>
                    <a:pt x="812" y="96"/>
                    <a:pt x="848" y="148"/>
                    <a:pt x="880" y="202"/>
                  </a:cubicBezTo>
                  <a:cubicBezTo>
                    <a:pt x="927" y="277"/>
                    <a:pt x="955" y="365"/>
                    <a:pt x="959" y="454"/>
                  </a:cubicBezTo>
                  <a:cubicBezTo>
                    <a:pt x="957" y="518"/>
                    <a:pt x="942" y="584"/>
                    <a:pt x="900" y="634"/>
                  </a:cubicBezTo>
                  <a:cubicBezTo>
                    <a:pt x="888" y="647"/>
                    <a:pt x="879" y="663"/>
                    <a:pt x="862" y="671"/>
                  </a:cubicBezTo>
                  <a:cubicBezTo>
                    <a:pt x="837" y="684"/>
                    <a:pt x="808" y="685"/>
                    <a:pt x="781" y="686"/>
                  </a:cubicBezTo>
                  <a:cubicBezTo>
                    <a:pt x="773" y="713"/>
                    <a:pt x="766" y="740"/>
                    <a:pt x="747" y="761"/>
                  </a:cubicBezTo>
                  <a:cubicBezTo>
                    <a:pt x="726" y="787"/>
                    <a:pt x="693" y="798"/>
                    <a:pt x="661" y="804"/>
                  </a:cubicBezTo>
                  <a:cubicBezTo>
                    <a:pt x="614" y="812"/>
                    <a:pt x="566" y="810"/>
                    <a:pt x="520" y="819"/>
                  </a:cubicBezTo>
                  <a:cubicBezTo>
                    <a:pt x="521" y="857"/>
                    <a:pt x="553" y="883"/>
                    <a:pt x="564" y="918"/>
                  </a:cubicBezTo>
                  <a:cubicBezTo>
                    <a:pt x="569" y="931"/>
                    <a:pt x="556" y="942"/>
                    <a:pt x="546" y="948"/>
                  </a:cubicBezTo>
                  <a:cubicBezTo>
                    <a:pt x="529" y="958"/>
                    <a:pt x="509" y="964"/>
                    <a:pt x="490" y="961"/>
                  </a:cubicBezTo>
                  <a:cubicBezTo>
                    <a:pt x="453" y="905"/>
                    <a:pt x="409" y="854"/>
                    <a:pt x="360" y="809"/>
                  </a:cubicBezTo>
                  <a:cubicBezTo>
                    <a:pt x="350" y="800"/>
                    <a:pt x="341" y="789"/>
                    <a:pt x="327" y="785"/>
                  </a:cubicBezTo>
                  <a:cubicBezTo>
                    <a:pt x="301" y="777"/>
                    <a:pt x="281" y="755"/>
                    <a:pt x="267" y="732"/>
                  </a:cubicBezTo>
                  <a:cubicBezTo>
                    <a:pt x="213" y="751"/>
                    <a:pt x="154" y="756"/>
                    <a:pt x="98" y="744"/>
                  </a:cubicBezTo>
                  <a:cubicBezTo>
                    <a:pt x="64" y="736"/>
                    <a:pt x="32" y="724"/>
                    <a:pt x="0" y="710"/>
                  </a:cubicBezTo>
                  <a:cubicBezTo>
                    <a:pt x="7" y="704"/>
                    <a:pt x="13" y="697"/>
                    <a:pt x="20" y="691"/>
                  </a:cubicBezTo>
                  <a:cubicBezTo>
                    <a:pt x="27" y="696"/>
                    <a:pt x="34" y="701"/>
                    <a:pt x="42" y="704"/>
                  </a:cubicBezTo>
                  <a:cubicBezTo>
                    <a:pt x="106" y="727"/>
                    <a:pt x="178" y="729"/>
                    <a:pt x="244" y="712"/>
                  </a:cubicBezTo>
                  <a:cubicBezTo>
                    <a:pt x="287" y="701"/>
                    <a:pt x="329" y="684"/>
                    <a:pt x="369" y="665"/>
                  </a:cubicBezTo>
                  <a:cubicBezTo>
                    <a:pt x="346" y="653"/>
                    <a:pt x="326" y="633"/>
                    <a:pt x="317" y="609"/>
                  </a:cubicBezTo>
                  <a:cubicBezTo>
                    <a:pt x="294" y="612"/>
                    <a:pt x="264" y="614"/>
                    <a:pt x="249" y="635"/>
                  </a:cubicBezTo>
                  <a:cubicBezTo>
                    <a:pt x="245" y="649"/>
                    <a:pt x="247" y="665"/>
                    <a:pt x="241" y="679"/>
                  </a:cubicBezTo>
                  <a:cubicBezTo>
                    <a:pt x="237" y="690"/>
                    <a:pt x="229" y="699"/>
                    <a:pt x="220" y="706"/>
                  </a:cubicBezTo>
                  <a:cubicBezTo>
                    <a:pt x="227" y="691"/>
                    <a:pt x="239" y="675"/>
                    <a:pt x="234" y="657"/>
                  </a:cubicBezTo>
                  <a:cubicBezTo>
                    <a:pt x="233" y="646"/>
                    <a:pt x="223" y="637"/>
                    <a:pt x="212" y="637"/>
                  </a:cubicBezTo>
                  <a:cubicBezTo>
                    <a:pt x="197" y="635"/>
                    <a:pt x="184" y="640"/>
                    <a:pt x="171" y="646"/>
                  </a:cubicBezTo>
                  <a:cubicBezTo>
                    <a:pt x="180" y="636"/>
                    <a:pt x="191" y="628"/>
                    <a:pt x="203" y="625"/>
                  </a:cubicBezTo>
                  <a:cubicBezTo>
                    <a:pt x="230" y="618"/>
                    <a:pt x="259" y="615"/>
                    <a:pt x="282" y="600"/>
                  </a:cubicBezTo>
                  <a:cubicBezTo>
                    <a:pt x="293" y="594"/>
                    <a:pt x="290" y="580"/>
                    <a:pt x="292" y="570"/>
                  </a:cubicBezTo>
                  <a:cubicBezTo>
                    <a:pt x="292" y="556"/>
                    <a:pt x="298" y="543"/>
                    <a:pt x="308" y="532"/>
                  </a:cubicBezTo>
                  <a:cubicBezTo>
                    <a:pt x="303" y="547"/>
                    <a:pt x="295" y="563"/>
                    <a:pt x="304" y="578"/>
                  </a:cubicBezTo>
                  <a:cubicBezTo>
                    <a:pt x="316" y="599"/>
                    <a:pt x="346" y="601"/>
                    <a:pt x="367" y="592"/>
                  </a:cubicBezTo>
                  <a:cubicBezTo>
                    <a:pt x="377" y="582"/>
                    <a:pt x="379" y="565"/>
                    <a:pt x="392" y="557"/>
                  </a:cubicBezTo>
                  <a:cubicBezTo>
                    <a:pt x="389" y="568"/>
                    <a:pt x="382" y="583"/>
                    <a:pt x="393" y="593"/>
                  </a:cubicBezTo>
                  <a:cubicBezTo>
                    <a:pt x="407" y="602"/>
                    <a:pt x="425" y="602"/>
                    <a:pt x="440" y="597"/>
                  </a:cubicBezTo>
                  <a:cubicBezTo>
                    <a:pt x="456" y="593"/>
                    <a:pt x="471" y="582"/>
                    <a:pt x="488" y="587"/>
                  </a:cubicBezTo>
                  <a:cubicBezTo>
                    <a:pt x="509" y="594"/>
                    <a:pt x="525" y="610"/>
                    <a:pt x="546" y="616"/>
                  </a:cubicBezTo>
                  <a:cubicBezTo>
                    <a:pt x="579" y="625"/>
                    <a:pt x="614" y="625"/>
                    <a:pt x="648" y="622"/>
                  </a:cubicBezTo>
                  <a:cubicBezTo>
                    <a:pt x="672" y="622"/>
                    <a:pt x="694" y="605"/>
                    <a:pt x="706" y="584"/>
                  </a:cubicBezTo>
                  <a:cubicBezTo>
                    <a:pt x="721" y="557"/>
                    <a:pt x="714" y="524"/>
                    <a:pt x="706" y="495"/>
                  </a:cubicBezTo>
                  <a:cubicBezTo>
                    <a:pt x="702" y="479"/>
                    <a:pt x="684" y="485"/>
                    <a:pt x="672" y="486"/>
                  </a:cubicBezTo>
                  <a:cubicBezTo>
                    <a:pt x="639" y="492"/>
                    <a:pt x="611" y="469"/>
                    <a:pt x="580" y="464"/>
                  </a:cubicBezTo>
                  <a:cubicBezTo>
                    <a:pt x="558" y="466"/>
                    <a:pt x="541" y="481"/>
                    <a:pt x="520" y="486"/>
                  </a:cubicBezTo>
                  <a:cubicBezTo>
                    <a:pt x="508" y="490"/>
                    <a:pt x="495" y="492"/>
                    <a:pt x="482" y="490"/>
                  </a:cubicBezTo>
                  <a:cubicBezTo>
                    <a:pt x="499" y="480"/>
                    <a:pt x="520" y="479"/>
                    <a:pt x="536" y="467"/>
                  </a:cubicBezTo>
                  <a:cubicBezTo>
                    <a:pt x="559" y="457"/>
                    <a:pt x="576" y="432"/>
                    <a:pt x="571" y="406"/>
                  </a:cubicBezTo>
                  <a:cubicBezTo>
                    <a:pt x="557" y="406"/>
                    <a:pt x="545" y="411"/>
                    <a:pt x="532" y="415"/>
                  </a:cubicBezTo>
                  <a:cubicBezTo>
                    <a:pt x="529" y="414"/>
                    <a:pt x="522" y="412"/>
                    <a:pt x="519" y="411"/>
                  </a:cubicBezTo>
                  <a:cubicBezTo>
                    <a:pt x="545" y="398"/>
                    <a:pt x="573" y="384"/>
                    <a:pt x="591" y="360"/>
                  </a:cubicBezTo>
                  <a:cubicBezTo>
                    <a:pt x="604" y="343"/>
                    <a:pt x="613" y="323"/>
                    <a:pt x="622" y="303"/>
                  </a:cubicBezTo>
                  <a:cubicBezTo>
                    <a:pt x="646" y="253"/>
                    <a:pt x="652" y="197"/>
                    <a:pt x="656" y="142"/>
                  </a:cubicBezTo>
                  <a:cubicBezTo>
                    <a:pt x="658" y="116"/>
                    <a:pt x="651" y="88"/>
                    <a:pt x="635" y="67"/>
                  </a:cubicBezTo>
                  <a:cubicBezTo>
                    <a:pt x="629" y="58"/>
                    <a:pt x="618" y="56"/>
                    <a:pt x="607" y="55"/>
                  </a:cubicBezTo>
                  <a:cubicBezTo>
                    <a:pt x="623" y="51"/>
                    <a:pt x="640" y="54"/>
                    <a:pt x="651" y="66"/>
                  </a:cubicBezTo>
                  <a:cubicBezTo>
                    <a:pt x="658" y="73"/>
                    <a:pt x="664" y="88"/>
                    <a:pt x="676" y="83"/>
                  </a:cubicBezTo>
                  <a:cubicBezTo>
                    <a:pt x="691" y="78"/>
                    <a:pt x="708" y="82"/>
                    <a:pt x="723" y="77"/>
                  </a:cubicBezTo>
                  <a:cubicBezTo>
                    <a:pt x="730" y="75"/>
                    <a:pt x="734" y="69"/>
                    <a:pt x="734" y="62"/>
                  </a:cubicBezTo>
                  <a:cubicBezTo>
                    <a:pt x="732" y="41"/>
                    <a:pt x="710" y="31"/>
                    <a:pt x="698" y="16"/>
                  </a:cubicBezTo>
                  <a:close/>
                  <a:moveTo>
                    <a:pt x="673" y="105"/>
                  </a:moveTo>
                  <a:cubicBezTo>
                    <a:pt x="671" y="126"/>
                    <a:pt x="675" y="146"/>
                    <a:pt x="670" y="167"/>
                  </a:cubicBezTo>
                  <a:cubicBezTo>
                    <a:pt x="663" y="199"/>
                    <a:pt x="658" y="233"/>
                    <a:pt x="657" y="266"/>
                  </a:cubicBezTo>
                  <a:cubicBezTo>
                    <a:pt x="658" y="299"/>
                    <a:pt x="678" y="330"/>
                    <a:pt x="705" y="349"/>
                  </a:cubicBezTo>
                  <a:cubicBezTo>
                    <a:pt x="711" y="352"/>
                    <a:pt x="714" y="358"/>
                    <a:pt x="714" y="365"/>
                  </a:cubicBezTo>
                  <a:cubicBezTo>
                    <a:pt x="692" y="358"/>
                    <a:pt x="672" y="342"/>
                    <a:pt x="660" y="322"/>
                  </a:cubicBezTo>
                  <a:cubicBezTo>
                    <a:pt x="656" y="316"/>
                    <a:pt x="650" y="310"/>
                    <a:pt x="644" y="307"/>
                  </a:cubicBezTo>
                  <a:cubicBezTo>
                    <a:pt x="630" y="320"/>
                    <a:pt x="627" y="339"/>
                    <a:pt x="617" y="355"/>
                  </a:cubicBezTo>
                  <a:cubicBezTo>
                    <a:pt x="605" y="378"/>
                    <a:pt x="580" y="395"/>
                    <a:pt x="578" y="423"/>
                  </a:cubicBezTo>
                  <a:cubicBezTo>
                    <a:pt x="574" y="435"/>
                    <a:pt x="578" y="448"/>
                    <a:pt x="590" y="455"/>
                  </a:cubicBezTo>
                  <a:cubicBezTo>
                    <a:pt x="590" y="448"/>
                    <a:pt x="590" y="441"/>
                    <a:pt x="590" y="434"/>
                  </a:cubicBezTo>
                  <a:cubicBezTo>
                    <a:pt x="590" y="440"/>
                    <a:pt x="590" y="446"/>
                    <a:pt x="591" y="451"/>
                  </a:cubicBezTo>
                  <a:cubicBezTo>
                    <a:pt x="612" y="461"/>
                    <a:pt x="634" y="469"/>
                    <a:pt x="656" y="473"/>
                  </a:cubicBezTo>
                  <a:cubicBezTo>
                    <a:pt x="675" y="475"/>
                    <a:pt x="694" y="470"/>
                    <a:pt x="712" y="475"/>
                  </a:cubicBezTo>
                  <a:cubicBezTo>
                    <a:pt x="715" y="481"/>
                    <a:pt x="713" y="488"/>
                    <a:pt x="717" y="494"/>
                  </a:cubicBezTo>
                  <a:cubicBezTo>
                    <a:pt x="718" y="506"/>
                    <a:pt x="718" y="520"/>
                    <a:pt x="723" y="532"/>
                  </a:cubicBezTo>
                  <a:cubicBezTo>
                    <a:pt x="735" y="550"/>
                    <a:pt x="760" y="553"/>
                    <a:pt x="780" y="550"/>
                  </a:cubicBezTo>
                  <a:cubicBezTo>
                    <a:pt x="809" y="548"/>
                    <a:pt x="834" y="529"/>
                    <a:pt x="851" y="506"/>
                  </a:cubicBezTo>
                  <a:cubicBezTo>
                    <a:pt x="843" y="522"/>
                    <a:pt x="833" y="538"/>
                    <a:pt x="818" y="548"/>
                  </a:cubicBezTo>
                  <a:cubicBezTo>
                    <a:pt x="791" y="566"/>
                    <a:pt x="756" y="571"/>
                    <a:pt x="726" y="558"/>
                  </a:cubicBezTo>
                  <a:cubicBezTo>
                    <a:pt x="726" y="576"/>
                    <a:pt x="715" y="590"/>
                    <a:pt x="708" y="606"/>
                  </a:cubicBezTo>
                  <a:cubicBezTo>
                    <a:pt x="703" y="620"/>
                    <a:pt x="707" y="639"/>
                    <a:pt x="722" y="644"/>
                  </a:cubicBezTo>
                  <a:cubicBezTo>
                    <a:pt x="757" y="662"/>
                    <a:pt x="799" y="667"/>
                    <a:pt x="836" y="655"/>
                  </a:cubicBezTo>
                  <a:cubicBezTo>
                    <a:pt x="856" y="649"/>
                    <a:pt x="873" y="636"/>
                    <a:pt x="885" y="620"/>
                  </a:cubicBezTo>
                  <a:cubicBezTo>
                    <a:pt x="890" y="613"/>
                    <a:pt x="893" y="602"/>
                    <a:pt x="885" y="597"/>
                  </a:cubicBezTo>
                  <a:cubicBezTo>
                    <a:pt x="874" y="588"/>
                    <a:pt x="860" y="596"/>
                    <a:pt x="849" y="600"/>
                  </a:cubicBezTo>
                  <a:cubicBezTo>
                    <a:pt x="842" y="604"/>
                    <a:pt x="831" y="604"/>
                    <a:pt x="828" y="613"/>
                  </a:cubicBezTo>
                  <a:cubicBezTo>
                    <a:pt x="820" y="630"/>
                    <a:pt x="801" y="637"/>
                    <a:pt x="784" y="641"/>
                  </a:cubicBezTo>
                  <a:cubicBezTo>
                    <a:pt x="796" y="632"/>
                    <a:pt x="810" y="624"/>
                    <a:pt x="816" y="610"/>
                  </a:cubicBezTo>
                  <a:cubicBezTo>
                    <a:pt x="804" y="606"/>
                    <a:pt x="793" y="601"/>
                    <a:pt x="785" y="592"/>
                  </a:cubicBezTo>
                  <a:cubicBezTo>
                    <a:pt x="809" y="604"/>
                    <a:pt x="840" y="602"/>
                    <a:pt x="859" y="581"/>
                  </a:cubicBezTo>
                  <a:cubicBezTo>
                    <a:pt x="880" y="593"/>
                    <a:pt x="915" y="581"/>
                    <a:pt x="917" y="554"/>
                  </a:cubicBezTo>
                  <a:cubicBezTo>
                    <a:pt x="918" y="532"/>
                    <a:pt x="900" y="515"/>
                    <a:pt x="884" y="503"/>
                  </a:cubicBezTo>
                  <a:cubicBezTo>
                    <a:pt x="900" y="506"/>
                    <a:pt x="913" y="516"/>
                    <a:pt x="925" y="527"/>
                  </a:cubicBezTo>
                  <a:cubicBezTo>
                    <a:pt x="927" y="523"/>
                    <a:pt x="933" y="520"/>
                    <a:pt x="932" y="514"/>
                  </a:cubicBezTo>
                  <a:cubicBezTo>
                    <a:pt x="934" y="494"/>
                    <a:pt x="937" y="471"/>
                    <a:pt x="925" y="454"/>
                  </a:cubicBezTo>
                  <a:cubicBezTo>
                    <a:pt x="916" y="439"/>
                    <a:pt x="901" y="432"/>
                    <a:pt x="886" y="426"/>
                  </a:cubicBezTo>
                  <a:cubicBezTo>
                    <a:pt x="886" y="448"/>
                    <a:pt x="882" y="471"/>
                    <a:pt x="865" y="486"/>
                  </a:cubicBezTo>
                  <a:cubicBezTo>
                    <a:pt x="876" y="464"/>
                    <a:pt x="882" y="433"/>
                    <a:pt x="861" y="414"/>
                  </a:cubicBezTo>
                  <a:cubicBezTo>
                    <a:pt x="871" y="396"/>
                    <a:pt x="882" y="375"/>
                    <a:pt x="875" y="354"/>
                  </a:cubicBezTo>
                  <a:cubicBezTo>
                    <a:pt x="873" y="343"/>
                    <a:pt x="863" y="336"/>
                    <a:pt x="853" y="330"/>
                  </a:cubicBezTo>
                  <a:cubicBezTo>
                    <a:pt x="863" y="322"/>
                    <a:pt x="873" y="313"/>
                    <a:pt x="879" y="301"/>
                  </a:cubicBezTo>
                  <a:cubicBezTo>
                    <a:pt x="893" y="277"/>
                    <a:pt x="891" y="243"/>
                    <a:pt x="871" y="222"/>
                  </a:cubicBezTo>
                  <a:cubicBezTo>
                    <a:pt x="858" y="209"/>
                    <a:pt x="836" y="208"/>
                    <a:pt x="822" y="221"/>
                  </a:cubicBezTo>
                  <a:cubicBezTo>
                    <a:pt x="804" y="237"/>
                    <a:pt x="795" y="263"/>
                    <a:pt x="772" y="274"/>
                  </a:cubicBezTo>
                  <a:cubicBezTo>
                    <a:pt x="754" y="280"/>
                    <a:pt x="732" y="270"/>
                    <a:pt x="726" y="252"/>
                  </a:cubicBezTo>
                  <a:cubicBezTo>
                    <a:pt x="720" y="231"/>
                    <a:pt x="724" y="209"/>
                    <a:pt x="719" y="188"/>
                  </a:cubicBezTo>
                  <a:cubicBezTo>
                    <a:pt x="716" y="178"/>
                    <a:pt x="709" y="170"/>
                    <a:pt x="704" y="162"/>
                  </a:cubicBezTo>
                  <a:cubicBezTo>
                    <a:pt x="720" y="171"/>
                    <a:pt x="730" y="188"/>
                    <a:pt x="731" y="207"/>
                  </a:cubicBezTo>
                  <a:cubicBezTo>
                    <a:pt x="746" y="206"/>
                    <a:pt x="760" y="196"/>
                    <a:pt x="764" y="182"/>
                  </a:cubicBezTo>
                  <a:cubicBezTo>
                    <a:pt x="769" y="167"/>
                    <a:pt x="763" y="152"/>
                    <a:pt x="758" y="139"/>
                  </a:cubicBezTo>
                  <a:cubicBezTo>
                    <a:pt x="773" y="157"/>
                    <a:pt x="783" y="193"/>
                    <a:pt x="757" y="207"/>
                  </a:cubicBezTo>
                  <a:cubicBezTo>
                    <a:pt x="745" y="212"/>
                    <a:pt x="733" y="224"/>
                    <a:pt x="738" y="238"/>
                  </a:cubicBezTo>
                  <a:cubicBezTo>
                    <a:pt x="744" y="258"/>
                    <a:pt x="771" y="261"/>
                    <a:pt x="785" y="247"/>
                  </a:cubicBezTo>
                  <a:cubicBezTo>
                    <a:pt x="800" y="235"/>
                    <a:pt x="795" y="212"/>
                    <a:pt x="808" y="198"/>
                  </a:cubicBezTo>
                  <a:cubicBezTo>
                    <a:pt x="819" y="191"/>
                    <a:pt x="832" y="195"/>
                    <a:pt x="844" y="194"/>
                  </a:cubicBezTo>
                  <a:cubicBezTo>
                    <a:pt x="847" y="190"/>
                    <a:pt x="849" y="186"/>
                    <a:pt x="851" y="182"/>
                  </a:cubicBezTo>
                  <a:cubicBezTo>
                    <a:pt x="828" y="152"/>
                    <a:pt x="806" y="117"/>
                    <a:pt x="768" y="105"/>
                  </a:cubicBezTo>
                  <a:cubicBezTo>
                    <a:pt x="750" y="101"/>
                    <a:pt x="731" y="97"/>
                    <a:pt x="713" y="91"/>
                  </a:cubicBezTo>
                  <a:cubicBezTo>
                    <a:pt x="698" y="86"/>
                    <a:pt x="677" y="88"/>
                    <a:pt x="673" y="105"/>
                  </a:cubicBezTo>
                  <a:close/>
                  <a:moveTo>
                    <a:pt x="872" y="327"/>
                  </a:moveTo>
                  <a:cubicBezTo>
                    <a:pt x="892" y="350"/>
                    <a:pt x="890" y="384"/>
                    <a:pt x="874" y="408"/>
                  </a:cubicBezTo>
                  <a:cubicBezTo>
                    <a:pt x="888" y="412"/>
                    <a:pt x="901" y="420"/>
                    <a:pt x="916" y="423"/>
                  </a:cubicBezTo>
                  <a:cubicBezTo>
                    <a:pt x="926" y="425"/>
                    <a:pt x="927" y="413"/>
                    <a:pt x="927" y="406"/>
                  </a:cubicBezTo>
                  <a:cubicBezTo>
                    <a:pt x="924" y="379"/>
                    <a:pt x="918" y="352"/>
                    <a:pt x="912" y="326"/>
                  </a:cubicBezTo>
                  <a:cubicBezTo>
                    <a:pt x="910" y="317"/>
                    <a:pt x="905" y="309"/>
                    <a:pt x="897" y="305"/>
                  </a:cubicBezTo>
                  <a:cubicBezTo>
                    <a:pt x="888" y="311"/>
                    <a:pt x="880" y="320"/>
                    <a:pt x="872" y="327"/>
                  </a:cubicBezTo>
                  <a:close/>
                  <a:moveTo>
                    <a:pt x="428" y="615"/>
                  </a:moveTo>
                  <a:cubicBezTo>
                    <a:pt x="403" y="618"/>
                    <a:pt x="381" y="599"/>
                    <a:pt x="356" y="605"/>
                  </a:cubicBezTo>
                  <a:cubicBezTo>
                    <a:pt x="349" y="606"/>
                    <a:pt x="346" y="616"/>
                    <a:pt x="348" y="623"/>
                  </a:cubicBezTo>
                  <a:cubicBezTo>
                    <a:pt x="352" y="638"/>
                    <a:pt x="365" y="649"/>
                    <a:pt x="378" y="656"/>
                  </a:cubicBezTo>
                  <a:cubicBezTo>
                    <a:pt x="383" y="660"/>
                    <a:pt x="390" y="657"/>
                    <a:pt x="396" y="657"/>
                  </a:cubicBezTo>
                  <a:cubicBezTo>
                    <a:pt x="420" y="652"/>
                    <a:pt x="444" y="656"/>
                    <a:pt x="468" y="653"/>
                  </a:cubicBezTo>
                  <a:cubicBezTo>
                    <a:pt x="489" y="650"/>
                    <a:pt x="512" y="646"/>
                    <a:pt x="527" y="630"/>
                  </a:cubicBezTo>
                  <a:cubicBezTo>
                    <a:pt x="521" y="618"/>
                    <a:pt x="508" y="612"/>
                    <a:pt x="498" y="604"/>
                  </a:cubicBezTo>
                  <a:cubicBezTo>
                    <a:pt x="493" y="600"/>
                    <a:pt x="487" y="594"/>
                    <a:pt x="480" y="595"/>
                  </a:cubicBezTo>
                  <a:cubicBezTo>
                    <a:pt x="461" y="598"/>
                    <a:pt x="447" y="614"/>
                    <a:pt x="428" y="615"/>
                  </a:cubicBezTo>
                  <a:close/>
                  <a:moveTo>
                    <a:pt x="580" y="659"/>
                  </a:moveTo>
                  <a:cubicBezTo>
                    <a:pt x="639" y="663"/>
                    <a:pt x="704" y="669"/>
                    <a:pt x="754" y="705"/>
                  </a:cubicBezTo>
                  <a:cubicBezTo>
                    <a:pt x="755" y="698"/>
                    <a:pt x="757" y="690"/>
                    <a:pt x="758" y="683"/>
                  </a:cubicBezTo>
                  <a:cubicBezTo>
                    <a:pt x="740" y="677"/>
                    <a:pt x="724" y="668"/>
                    <a:pt x="706" y="664"/>
                  </a:cubicBezTo>
                  <a:cubicBezTo>
                    <a:pt x="688" y="659"/>
                    <a:pt x="670" y="655"/>
                    <a:pt x="652" y="652"/>
                  </a:cubicBezTo>
                  <a:cubicBezTo>
                    <a:pt x="628" y="648"/>
                    <a:pt x="603" y="652"/>
                    <a:pt x="580" y="659"/>
                  </a:cubicBezTo>
                  <a:close/>
                  <a:moveTo>
                    <a:pt x="494" y="671"/>
                  </a:moveTo>
                  <a:cubicBezTo>
                    <a:pt x="481" y="710"/>
                    <a:pt x="450" y="741"/>
                    <a:pt x="411" y="753"/>
                  </a:cubicBezTo>
                  <a:cubicBezTo>
                    <a:pt x="427" y="753"/>
                    <a:pt x="441" y="747"/>
                    <a:pt x="454" y="740"/>
                  </a:cubicBezTo>
                  <a:cubicBezTo>
                    <a:pt x="485" y="724"/>
                    <a:pt x="513" y="700"/>
                    <a:pt x="525" y="668"/>
                  </a:cubicBezTo>
                  <a:cubicBezTo>
                    <a:pt x="515" y="669"/>
                    <a:pt x="503" y="667"/>
                    <a:pt x="494" y="671"/>
                  </a:cubicBezTo>
                  <a:close/>
                  <a:moveTo>
                    <a:pt x="392" y="736"/>
                  </a:moveTo>
                  <a:cubicBezTo>
                    <a:pt x="393" y="737"/>
                    <a:pt x="396" y="741"/>
                    <a:pt x="397" y="743"/>
                  </a:cubicBezTo>
                  <a:cubicBezTo>
                    <a:pt x="433" y="733"/>
                    <a:pt x="465" y="707"/>
                    <a:pt x="478" y="671"/>
                  </a:cubicBezTo>
                  <a:cubicBezTo>
                    <a:pt x="471" y="672"/>
                    <a:pt x="463" y="672"/>
                    <a:pt x="456" y="674"/>
                  </a:cubicBezTo>
                  <a:cubicBezTo>
                    <a:pt x="438" y="697"/>
                    <a:pt x="423" y="728"/>
                    <a:pt x="392" y="736"/>
                  </a:cubicBezTo>
                  <a:close/>
                  <a:moveTo>
                    <a:pt x="544" y="688"/>
                  </a:moveTo>
                  <a:cubicBezTo>
                    <a:pt x="584" y="687"/>
                    <a:pt x="625" y="692"/>
                    <a:pt x="663" y="703"/>
                  </a:cubicBezTo>
                  <a:cubicBezTo>
                    <a:pt x="689" y="710"/>
                    <a:pt x="715" y="720"/>
                    <a:pt x="735" y="738"/>
                  </a:cubicBezTo>
                  <a:cubicBezTo>
                    <a:pt x="739" y="732"/>
                    <a:pt x="744" y="726"/>
                    <a:pt x="748" y="720"/>
                  </a:cubicBezTo>
                  <a:cubicBezTo>
                    <a:pt x="721" y="698"/>
                    <a:pt x="686" y="688"/>
                    <a:pt x="652" y="682"/>
                  </a:cubicBezTo>
                  <a:cubicBezTo>
                    <a:pt x="619" y="677"/>
                    <a:pt x="585" y="673"/>
                    <a:pt x="551" y="673"/>
                  </a:cubicBezTo>
                  <a:cubicBezTo>
                    <a:pt x="549" y="678"/>
                    <a:pt x="547" y="683"/>
                    <a:pt x="544" y="688"/>
                  </a:cubicBezTo>
                  <a:close/>
                  <a:moveTo>
                    <a:pt x="384" y="698"/>
                  </a:moveTo>
                  <a:cubicBezTo>
                    <a:pt x="377" y="707"/>
                    <a:pt x="384" y="717"/>
                    <a:pt x="388" y="726"/>
                  </a:cubicBezTo>
                  <a:cubicBezTo>
                    <a:pt x="411" y="719"/>
                    <a:pt x="425" y="697"/>
                    <a:pt x="435" y="676"/>
                  </a:cubicBezTo>
                  <a:cubicBezTo>
                    <a:pt x="417" y="681"/>
                    <a:pt x="397" y="684"/>
                    <a:pt x="384" y="698"/>
                  </a:cubicBezTo>
                  <a:close/>
                  <a:moveTo>
                    <a:pt x="534" y="704"/>
                  </a:moveTo>
                  <a:cubicBezTo>
                    <a:pt x="528" y="711"/>
                    <a:pt x="521" y="718"/>
                    <a:pt x="515" y="725"/>
                  </a:cubicBezTo>
                  <a:cubicBezTo>
                    <a:pt x="557" y="753"/>
                    <a:pt x="605" y="779"/>
                    <a:pt x="657" y="780"/>
                  </a:cubicBezTo>
                  <a:cubicBezTo>
                    <a:pt x="616" y="762"/>
                    <a:pt x="572" y="742"/>
                    <a:pt x="548" y="702"/>
                  </a:cubicBezTo>
                  <a:cubicBezTo>
                    <a:pt x="543" y="703"/>
                    <a:pt x="539" y="704"/>
                    <a:pt x="534" y="704"/>
                  </a:cubicBezTo>
                  <a:close/>
                  <a:moveTo>
                    <a:pt x="566" y="702"/>
                  </a:moveTo>
                  <a:cubicBezTo>
                    <a:pt x="594" y="738"/>
                    <a:pt x="638" y="758"/>
                    <a:pt x="680" y="771"/>
                  </a:cubicBezTo>
                  <a:cubicBezTo>
                    <a:pt x="687" y="775"/>
                    <a:pt x="694" y="769"/>
                    <a:pt x="700" y="768"/>
                  </a:cubicBezTo>
                  <a:cubicBezTo>
                    <a:pt x="668" y="754"/>
                    <a:pt x="637" y="735"/>
                    <a:pt x="617" y="706"/>
                  </a:cubicBezTo>
                  <a:cubicBezTo>
                    <a:pt x="600" y="704"/>
                    <a:pt x="583" y="702"/>
                    <a:pt x="566" y="702"/>
                  </a:cubicBezTo>
                  <a:close/>
                  <a:moveTo>
                    <a:pt x="319" y="716"/>
                  </a:moveTo>
                  <a:cubicBezTo>
                    <a:pt x="335" y="745"/>
                    <a:pt x="367" y="759"/>
                    <a:pt x="396" y="770"/>
                  </a:cubicBezTo>
                  <a:cubicBezTo>
                    <a:pt x="380" y="750"/>
                    <a:pt x="364" y="729"/>
                    <a:pt x="352" y="706"/>
                  </a:cubicBezTo>
                  <a:cubicBezTo>
                    <a:pt x="341" y="709"/>
                    <a:pt x="330" y="712"/>
                    <a:pt x="319" y="716"/>
                  </a:cubicBezTo>
                  <a:close/>
                  <a:moveTo>
                    <a:pt x="632" y="709"/>
                  </a:moveTo>
                  <a:cubicBezTo>
                    <a:pt x="653" y="733"/>
                    <a:pt x="681" y="750"/>
                    <a:pt x="711" y="760"/>
                  </a:cubicBezTo>
                  <a:cubicBezTo>
                    <a:pt x="715" y="757"/>
                    <a:pt x="720" y="753"/>
                    <a:pt x="724" y="750"/>
                  </a:cubicBezTo>
                  <a:cubicBezTo>
                    <a:pt x="698" y="727"/>
                    <a:pt x="665" y="716"/>
                    <a:pt x="632" y="709"/>
                  </a:cubicBezTo>
                  <a:close/>
                  <a:moveTo>
                    <a:pt x="282" y="727"/>
                  </a:moveTo>
                  <a:cubicBezTo>
                    <a:pt x="289" y="738"/>
                    <a:pt x="297" y="749"/>
                    <a:pt x="308" y="758"/>
                  </a:cubicBezTo>
                  <a:cubicBezTo>
                    <a:pt x="327" y="773"/>
                    <a:pt x="352" y="777"/>
                    <a:pt x="376" y="779"/>
                  </a:cubicBezTo>
                  <a:cubicBezTo>
                    <a:pt x="347" y="767"/>
                    <a:pt x="318" y="750"/>
                    <a:pt x="305" y="720"/>
                  </a:cubicBezTo>
                  <a:cubicBezTo>
                    <a:pt x="297" y="722"/>
                    <a:pt x="290" y="725"/>
                    <a:pt x="282" y="727"/>
                  </a:cubicBezTo>
                  <a:close/>
                  <a:moveTo>
                    <a:pt x="502" y="735"/>
                  </a:moveTo>
                  <a:cubicBezTo>
                    <a:pt x="499" y="737"/>
                    <a:pt x="495" y="740"/>
                    <a:pt x="492" y="742"/>
                  </a:cubicBezTo>
                  <a:cubicBezTo>
                    <a:pt x="518" y="769"/>
                    <a:pt x="551" y="800"/>
                    <a:pt x="592" y="794"/>
                  </a:cubicBezTo>
                  <a:cubicBezTo>
                    <a:pt x="607" y="793"/>
                    <a:pt x="622" y="793"/>
                    <a:pt x="637" y="792"/>
                  </a:cubicBezTo>
                  <a:cubicBezTo>
                    <a:pt x="588" y="784"/>
                    <a:pt x="543" y="762"/>
                    <a:pt x="502" y="735"/>
                  </a:cubicBezTo>
                  <a:close/>
                  <a:moveTo>
                    <a:pt x="468" y="756"/>
                  </a:moveTo>
                  <a:cubicBezTo>
                    <a:pt x="482" y="783"/>
                    <a:pt x="511" y="808"/>
                    <a:pt x="543" y="801"/>
                  </a:cubicBezTo>
                  <a:cubicBezTo>
                    <a:pt x="518" y="789"/>
                    <a:pt x="498" y="770"/>
                    <a:pt x="479" y="750"/>
                  </a:cubicBezTo>
                  <a:cubicBezTo>
                    <a:pt x="475" y="752"/>
                    <a:pt x="472" y="754"/>
                    <a:pt x="468" y="756"/>
                  </a:cubicBezTo>
                  <a:close/>
                  <a:moveTo>
                    <a:pt x="419" y="773"/>
                  </a:moveTo>
                  <a:cubicBezTo>
                    <a:pt x="427" y="784"/>
                    <a:pt x="435" y="795"/>
                    <a:pt x="448" y="800"/>
                  </a:cubicBezTo>
                  <a:cubicBezTo>
                    <a:pt x="462" y="805"/>
                    <a:pt x="477" y="805"/>
                    <a:pt x="492" y="806"/>
                  </a:cubicBezTo>
                  <a:cubicBezTo>
                    <a:pt x="476" y="794"/>
                    <a:pt x="462" y="780"/>
                    <a:pt x="455" y="762"/>
                  </a:cubicBezTo>
                  <a:cubicBezTo>
                    <a:pt x="443" y="766"/>
                    <a:pt x="431" y="770"/>
                    <a:pt x="419" y="773"/>
                  </a:cubicBezTo>
                  <a:close/>
                  <a:moveTo>
                    <a:pt x="379" y="794"/>
                  </a:moveTo>
                  <a:cubicBezTo>
                    <a:pt x="397" y="811"/>
                    <a:pt x="411" y="832"/>
                    <a:pt x="429" y="849"/>
                  </a:cubicBezTo>
                  <a:cubicBezTo>
                    <a:pt x="448" y="868"/>
                    <a:pt x="466" y="889"/>
                    <a:pt x="481" y="913"/>
                  </a:cubicBezTo>
                  <a:cubicBezTo>
                    <a:pt x="491" y="925"/>
                    <a:pt x="502" y="942"/>
                    <a:pt x="520" y="941"/>
                  </a:cubicBezTo>
                  <a:cubicBezTo>
                    <a:pt x="531" y="937"/>
                    <a:pt x="542" y="929"/>
                    <a:pt x="547" y="918"/>
                  </a:cubicBezTo>
                  <a:cubicBezTo>
                    <a:pt x="544" y="903"/>
                    <a:pt x="532" y="891"/>
                    <a:pt x="523" y="879"/>
                  </a:cubicBezTo>
                  <a:cubicBezTo>
                    <a:pt x="510" y="862"/>
                    <a:pt x="498" y="843"/>
                    <a:pt x="492" y="823"/>
                  </a:cubicBezTo>
                  <a:cubicBezTo>
                    <a:pt x="476" y="823"/>
                    <a:pt x="459" y="824"/>
                    <a:pt x="444" y="818"/>
                  </a:cubicBezTo>
                  <a:cubicBezTo>
                    <a:pt x="431" y="813"/>
                    <a:pt x="421" y="803"/>
                    <a:pt x="412" y="793"/>
                  </a:cubicBezTo>
                  <a:cubicBezTo>
                    <a:pt x="401" y="794"/>
                    <a:pt x="390" y="794"/>
                    <a:pt x="379" y="79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899" name="Freeform 8"/>
            <p:cNvSpPr/>
            <p:nvPr/>
          </p:nvSpPr>
          <p:spPr>
            <a:xfrm>
              <a:off x="6012360" y="1918800"/>
              <a:ext cx="893520" cy="59544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66" h="178">
                  <a:moveTo>
                    <a:pt x="112" y="1"/>
                  </a:moveTo>
                  <a:cubicBezTo>
                    <a:pt x="121" y="1"/>
                    <a:pt x="131" y="0"/>
                    <a:pt x="140" y="4"/>
                  </a:cubicBezTo>
                  <a:cubicBezTo>
                    <a:pt x="150" y="8"/>
                    <a:pt x="158" y="15"/>
                    <a:pt x="168" y="18"/>
                  </a:cubicBezTo>
                  <a:cubicBezTo>
                    <a:pt x="184" y="16"/>
                    <a:pt x="199" y="8"/>
                    <a:pt x="216" y="9"/>
                  </a:cubicBezTo>
                  <a:cubicBezTo>
                    <a:pt x="233" y="11"/>
                    <a:pt x="249" y="9"/>
                    <a:pt x="266" y="7"/>
                  </a:cubicBezTo>
                  <a:cubicBezTo>
                    <a:pt x="251" y="18"/>
                    <a:pt x="230" y="19"/>
                    <a:pt x="212" y="19"/>
                  </a:cubicBezTo>
                  <a:cubicBezTo>
                    <a:pt x="201" y="19"/>
                    <a:pt x="190" y="21"/>
                    <a:pt x="183" y="29"/>
                  </a:cubicBezTo>
                  <a:cubicBezTo>
                    <a:pt x="166" y="49"/>
                    <a:pt x="154" y="75"/>
                    <a:pt x="133" y="91"/>
                  </a:cubicBezTo>
                  <a:cubicBezTo>
                    <a:pt x="109" y="113"/>
                    <a:pt x="101" y="148"/>
                    <a:pt x="112" y="178"/>
                  </a:cubicBezTo>
                  <a:cubicBezTo>
                    <a:pt x="105" y="172"/>
                    <a:pt x="97" y="165"/>
                    <a:pt x="97" y="155"/>
                  </a:cubicBezTo>
                  <a:cubicBezTo>
                    <a:pt x="94" y="141"/>
                    <a:pt x="100" y="124"/>
                    <a:pt x="91" y="112"/>
                  </a:cubicBezTo>
                  <a:cubicBezTo>
                    <a:pt x="61" y="96"/>
                    <a:pt x="28" y="113"/>
                    <a:pt x="0" y="126"/>
                  </a:cubicBezTo>
                  <a:cubicBezTo>
                    <a:pt x="20" y="105"/>
                    <a:pt x="47" y="91"/>
                    <a:pt x="76" y="93"/>
                  </a:cubicBezTo>
                  <a:cubicBezTo>
                    <a:pt x="90" y="94"/>
                    <a:pt x="106" y="102"/>
                    <a:pt x="118" y="92"/>
                  </a:cubicBezTo>
                  <a:cubicBezTo>
                    <a:pt x="137" y="77"/>
                    <a:pt x="152" y="54"/>
                    <a:pt x="156" y="30"/>
                  </a:cubicBezTo>
                  <a:cubicBezTo>
                    <a:pt x="150" y="11"/>
                    <a:pt x="129" y="4"/>
                    <a:pt x="112" y="1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00" name="Freeform 9"/>
            <p:cNvSpPr/>
            <p:nvPr/>
          </p:nvSpPr>
          <p:spPr>
            <a:xfrm>
              <a:off x="4115160" y="2431800"/>
              <a:ext cx="316440" cy="3276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94" h="98">
                  <a:moveTo>
                    <a:pt x="47" y="0"/>
                  </a:moveTo>
                  <a:cubicBezTo>
                    <a:pt x="56" y="21"/>
                    <a:pt x="72" y="39"/>
                    <a:pt x="94" y="48"/>
                  </a:cubicBezTo>
                  <a:cubicBezTo>
                    <a:pt x="58" y="53"/>
                    <a:pt x="26" y="72"/>
                    <a:pt x="0" y="98"/>
                  </a:cubicBezTo>
                  <a:cubicBezTo>
                    <a:pt x="8" y="72"/>
                    <a:pt x="31" y="55"/>
                    <a:pt x="55" y="43"/>
                  </a:cubicBezTo>
                  <a:cubicBezTo>
                    <a:pt x="45" y="31"/>
                    <a:pt x="44" y="15"/>
                    <a:pt x="47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01" name="Freeform 10"/>
            <p:cNvSpPr/>
            <p:nvPr/>
          </p:nvSpPr>
          <p:spPr>
            <a:xfrm>
              <a:off x="4077360" y="2492280"/>
              <a:ext cx="1225440" cy="7614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761400"/>
                <a:gd name="textAreaBottom" fmla="*/ 761760 h 761400"/>
              </a:gdLst>
              <a:ahLst/>
              <a:rect l="textAreaLeft" t="textAreaTop" r="textAreaRight" b="textAreaBottom"/>
              <a:pathLst>
                <a:path w="365" h="227">
                  <a:moveTo>
                    <a:pt x="303" y="26"/>
                  </a:moveTo>
                  <a:cubicBezTo>
                    <a:pt x="315" y="15"/>
                    <a:pt x="329" y="6"/>
                    <a:pt x="343" y="0"/>
                  </a:cubicBezTo>
                  <a:cubicBezTo>
                    <a:pt x="347" y="5"/>
                    <a:pt x="348" y="13"/>
                    <a:pt x="354" y="17"/>
                  </a:cubicBezTo>
                  <a:cubicBezTo>
                    <a:pt x="358" y="19"/>
                    <a:pt x="365" y="21"/>
                    <a:pt x="365" y="26"/>
                  </a:cubicBezTo>
                  <a:cubicBezTo>
                    <a:pt x="353" y="29"/>
                    <a:pt x="340" y="29"/>
                    <a:pt x="328" y="35"/>
                  </a:cubicBezTo>
                  <a:cubicBezTo>
                    <a:pt x="304" y="45"/>
                    <a:pt x="278" y="54"/>
                    <a:pt x="252" y="58"/>
                  </a:cubicBezTo>
                  <a:cubicBezTo>
                    <a:pt x="233" y="63"/>
                    <a:pt x="212" y="63"/>
                    <a:pt x="193" y="73"/>
                  </a:cubicBezTo>
                  <a:cubicBezTo>
                    <a:pt x="181" y="78"/>
                    <a:pt x="176" y="93"/>
                    <a:pt x="169" y="104"/>
                  </a:cubicBezTo>
                  <a:cubicBezTo>
                    <a:pt x="158" y="125"/>
                    <a:pt x="130" y="130"/>
                    <a:pt x="119" y="151"/>
                  </a:cubicBezTo>
                  <a:cubicBezTo>
                    <a:pt x="112" y="163"/>
                    <a:pt x="114" y="180"/>
                    <a:pt x="125" y="190"/>
                  </a:cubicBezTo>
                  <a:cubicBezTo>
                    <a:pt x="134" y="199"/>
                    <a:pt x="146" y="206"/>
                    <a:pt x="159" y="211"/>
                  </a:cubicBezTo>
                  <a:cubicBezTo>
                    <a:pt x="172" y="215"/>
                    <a:pt x="184" y="220"/>
                    <a:pt x="197" y="225"/>
                  </a:cubicBezTo>
                  <a:cubicBezTo>
                    <a:pt x="171" y="227"/>
                    <a:pt x="143" y="225"/>
                    <a:pt x="120" y="210"/>
                  </a:cubicBezTo>
                  <a:cubicBezTo>
                    <a:pt x="101" y="199"/>
                    <a:pt x="96" y="173"/>
                    <a:pt x="76" y="162"/>
                  </a:cubicBezTo>
                  <a:cubicBezTo>
                    <a:pt x="58" y="153"/>
                    <a:pt x="36" y="155"/>
                    <a:pt x="19" y="144"/>
                  </a:cubicBezTo>
                  <a:cubicBezTo>
                    <a:pt x="10" y="140"/>
                    <a:pt x="5" y="132"/>
                    <a:pt x="0" y="124"/>
                  </a:cubicBezTo>
                  <a:cubicBezTo>
                    <a:pt x="25" y="143"/>
                    <a:pt x="60" y="146"/>
                    <a:pt x="90" y="138"/>
                  </a:cubicBezTo>
                  <a:cubicBezTo>
                    <a:pt x="99" y="136"/>
                    <a:pt x="108" y="129"/>
                    <a:pt x="113" y="121"/>
                  </a:cubicBezTo>
                  <a:cubicBezTo>
                    <a:pt x="98" y="112"/>
                    <a:pt x="82" y="104"/>
                    <a:pt x="77" y="87"/>
                  </a:cubicBezTo>
                  <a:cubicBezTo>
                    <a:pt x="93" y="103"/>
                    <a:pt x="116" y="114"/>
                    <a:pt x="139" y="106"/>
                  </a:cubicBezTo>
                  <a:cubicBezTo>
                    <a:pt x="166" y="96"/>
                    <a:pt x="169" y="59"/>
                    <a:pt x="198" y="52"/>
                  </a:cubicBezTo>
                  <a:cubicBezTo>
                    <a:pt x="233" y="46"/>
                    <a:pt x="273" y="49"/>
                    <a:pt x="303" y="26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02" name="Freeform 11"/>
            <p:cNvSpPr/>
            <p:nvPr/>
          </p:nvSpPr>
          <p:spPr>
            <a:xfrm>
              <a:off x="4801680" y="2688120"/>
              <a:ext cx="561600" cy="6710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" h="200">
                  <a:moveTo>
                    <a:pt x="122" y="0"/>
                  </a:moveTo>
                  <a:cubicBezTo>
                    <a:pt x="130" y="19"/>
                    <a:pt x="136" y="40"/>
                    <a:pt x="134" y="61"/>
                  </a:cubicBezTo>
                  <a:cubicBezTo>
                    <a:pt x="133" y="77"/>
                    <a:pt x="120" y="90"/>
                    <a:pt x="116" y="105"/>
                  </a:cubicBezTo>
                  <a:cubicBezTo>
                    <a:pt x="114" y="113"/>
                    <a:pt x="120" y="119"/>
                    <a:pt x="123" y="125"/>
                  </a:cubicBezTo>
                  <a:cubicBezTo>
                    <a:pt x="137" y="117"/>
                    <a:pt x="152" y="113"/>
                    <a:pt x="168" y="114"/>
                  </a:cubicBezTo>
                  <a:cubicBezTo>
                    <a:pt x="168" y="122"/>
                    <a:pt x="168" y="131"/>
                    <a:pt x="168" y="139"/>
                  </a:cubicBezTo>
                  <a:cubicBezTo>
                    <a:pt x="165" y="139"/>
                    <a:pt x="160" y="141"/>
                    <a:pt x="157" y="141"/>
                  </a:cubicBezTo>
                  <a:cubicBezTo>
                    <a:pt x="135" y="144"/>
                    <a:pt x="116" y="157"/>
                    <a:pt x="98" y="170"/>
                  </a:cubicBezTo>
                  <a:cubicBezTo>
                    <a:pt x="98" y="158"/>
                    <a:pt x="98" y="145"/>
                    <a:pt x="98" y="133"/>
                  </a:cubicBezTo>
                  <a:cubicBezTo>
                    <a:pt x="95" y="146"/>
                    <a:pt x="96" y="159"/>
                    <a:pt x="96" y="172"/>
                  </a:cubicBezTo>
                  <a:cubicBezTo>
                    <a:pt x="85" y="181"/>
                    <a:pt x="75" y="191"/>
                    <a:pt x="64" y="200"/>
                  </a:cubicBezTo>
                  <a:cubicBezTo>
                    <a:pt x="60" y="188"/>
                    <a:pt x="70" y="175"/>
                    <a:pt x="64" y="164"/>
                  </a:cubicBezTo>
                  <a:cubicBezTo>
                    <a:pt x="69" y="159"/>
                    <a:pt x="75" y="153"/>
                    <a:pt x="80" y="147"/>
                  </a:cubicBezTo>
                  <a:cubicBezTo>
                    <a:pt x="40" y="141"/>
                    <a:pt x="13" y="106"/>
                    <a:pt x="0" y="69"/>
                  </a:cubicBezTo>
                  <a:cubicBezTo>
                    <a:pt x="19" y="90"/>
                    <a:pt x="38" y="112"/>
                    <a:pt x="65" y="120"/>
                  </a:cubicBezTo>
                  <a:cubicBezTo>
                    <a:pt x="79" y="124"/>
                    <a:pt x="95" y="115"/>
                    <a:pt x="97" y="101"/>
                  </a:cubicBezTo>
                  <a:cubicBezTo>
                    <a:pt x="100" y="85"/>
                    <a:pt x="115" y="75"/>
                    <a:pt x="119" y="59"/>
                  </a:cubicBezTo>
                  <a:cubicBezTo>
                    <a:pt x="125" y="40"/>
                    <a:pt x="122" y="20"/>
                    <a:pt x="122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03" name="Freeform 12"/>
            <p:cNvSpPr/>
            <p:nvPr/>
          </p:nvSpPr>
          <p:spPr>
            <a:xfrm>
              <a:off x="7343640" y="2846880"/>
              <a:ext cx="406800" cy="64476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21" h="192">
                  <a:moveTo>
                    <a:pt x="77" y="50"/>
                  </a:moveTo>
                  <a:cubicBezTo>
                    <a:pt x="90" y="36"/>
                    <a:pt x="92" y="17"/>
                    <a:pt x="98" y="0"/>
                  </a:cubicBezTo>
                  <a:cubicBezTo>
                    <a:pt x="121" y="63"/>
                    <a:pt x="112" y="137"/>
                    <a:pt x="72" y="192"/>
                  </a:cubicBezTo>
                  <a:cubicBezTo>
                    <a:pt x="70" y="192"/>
                    <a:pt x="66" y="192"/>
                    <a:pt x="64" y="192"/>
                  </a:cubicBezTo>
                  <a:cubicBezTo>
                    <a:pt x="80" y="170"/>
                    <a:pt x="85" y="143"/>
                    <a:pt x="92" y="117"/>
                  </a:cubicBezTo>
                  <a:cubicBezTo>
                    <a:pt x="95" y="98"/>
                    <a:pt x="99" y="79"/>
                    <a:pt x="92" y="60"/>
                  </a:cubicBezTo>
                  <a:cubicBezTo>
                    <a:pt x="79" y="56"/>
                    <a:pt x="69" y="66"/>
                    <a:pt x="60" y="73"/>
                  </a:cubicBezTo>
                  <a:cubicBezTo>
                    <a:pt x="49" y="83"/>
                    <a:pt x="46" y="99"/>
                    <a:pt x="38" y="111"/>
                  </a:cubicBezTo>
                  <a:cubicBezTo>
                    <a:pt x="30" y="121"/>
                    <a:pt x="22" y="132"/>
                    <a:pt x="10" y="138"/>
                  </a:cubicBezTo>
                  <a:cubicBezTo>
                    <a:pt x="23" y="120"/>
                    <a:pt x="43" y="101"/>
                    <a:pt x="39" y="77"/>
                  </a:cubicBezTo>
                  <a:cubicBezTo>
                    <a:pt x="26" y="73"/>
                    <a:pt x="0" y="84"/>
                    <a:pt x="1" y="61"/>
                  </a:cubicBezTo>
                  <a:cubicBezTo>
                    <a:pt x="26" y="73"/>
                    <a:pt x="58" y="71"/>
                    <a:pt x="77" y="5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04" name="Freeform 13"/>
            <p:cNvSpPr/>
            <p:nvPr/>
          </p:nvSpPr>
          <p:spPr>
            <a:xfrm>
              <a:off x="5785920" y="3223800"/>
              <a:ext cx="606960" cy="51624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181" h="154">
                  <a:moveTo>
                    <a:pt x="0" y="0"/>
                  </a:moveTo>
                  <a:cubicBezTo>
                    <a:pt x="10" y="1"/>
                    <a:pt x="19" y="3"/>
                    <a:pt x="29" y="5"/>
                  </a:cubicBezTo>
                  <a:cubicBezTo>
                    <a:pt x="34" y="6"/>
                    <a:pt x="39" y="7"/>
                    <a:pt x="44" y="9"/>
                  </a:cubicBezTo>
                  <a:cubicBezTo>
                    <a:pt x="59" y="16"/>
                    <a:pt x="75" y="20"/>
                    <a:pt x="92" y="22"/>
                  </a:cubicBezTo>
                  <a:cubicBezTo>
                    <a:pt x="103" y="21"/>
                    <a:pt x="113" y="18"/>
                    <a:pt x="124" y="15"/>
                  </a:cubicBezTo>
                  <a:cubicBezTo>
                    <a:pt x="120" y="20"/>
                    <a:pt x="123" y="25"/>
                    <a:pt x="126" y="29"/>
                  </a:cubicBezTo>
                  <a:cubicBezTo>
                    <a:pt x="112" y="34"/>
                    <a:pt x="93" y="40"/>
                    <a:pt x="90" y="58"/>
                  </a:cubicBezTo>
                  <a:cubicBezTo>
                    <a:pt x="114" y="87"/>
                    <a:pt x="160" y="80"/>
                    <a:pt x="181" y="113"/>
                  </a:cubicBezTo>
                  <a:cubicBezTo>
                    <a:pt x="161" y="104"/>
                    <a:pt x="142" y="93"/>
                    <a:pt x="120" y="92"/>
                  </a:cubicBezTo>
                  <a:cubicBezTo>
                    <a:pt x="113" y="91"/>
                    <a:pt x="103" y="94"/>
                    <a:pt x="101" y="101"/>
                  </a:cubicBezTo>
                  <a:cubicBezTo>
                    <a:pt x="93" y="118"/>
                    <a:pt x="92" y="136"/>
                    <a:pt x="88" y="154"/>
                  </a:cubicBezTo>
                  <a:cubicBezTo>
                    <a:pt x="81" y="124"/>
                    <a:pt x="96" y="90"/>
                    <a:pt x="78" y="62"/>
                  </a:cubicBezTo>
                  <a:cubicBezTo>
                    <a:pt x="63" y="31"/>
                    <a:pt x="30" y="15"/>
                    <a:pt x="0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05" name="Freeform 14"/>
            <p:cNvSpPr/>
            <p:nvPr/>
          </p:nvSpPr>
          <p:spPr>
            <a:xfrm>
              <a:off x="6189480" y="3250440"/>
              <a:ext cx="320400" cy="75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6" h="22">
                  <a:moveTo>
                    <a:pt x="5" y="4"/>
                  </a:moveTo>
                  <a:cubicBezTo>
                    <a:pt x="35" y="2"/>
                    <a:pt x="66" y="0"/>
                    <a:pt x="96" y="4"/>
                  </a:cubicBezTo>
                  <a:cubicBezTo>
                    <a:pt x="72" y="9"/>
                    <a:pt x="47" y="8"/>
                    <a:pt x="25" y="18"/>
                  </a:cubicBezTo>
                  <a:cubicBezTo>
                    <a:pt x="16" y="22"/>
                    <a:pt x="0" y="17"/>
                    <a:pt x="5" y="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06" name="Freeform 15"/>
            <p:cNvSpPr/>
            <p:nvPr/>
          </p:nvSpPr>
          <p:spPr>
            <a:xfrm>
              <a:off x="4914720" y="3318120"/>
              <a:ext cx="587880" cy="9237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75" h="275">
                  <a:moveTo>
                    <a:pt x="113" y="38"/>
                  </a:moveTo>
                  <a:cubicBezTo>
                    <a:pt x="126" y="28"/>
                    <a:pt x="135" y="15"/>
                    <a:pt x="142" y="0"/>
                  </a:cubicBezTo>
                  <a:cubicBezTo>
                    <a:pt x="142" y="14"/>
                    <a:pt x="137" y="28"/>
                    <a:pt x="127" y="37"/>
                  </a:cubicBezTo>
                  <a:cubicBezTo>
                    <a:pt x="116" y="47"/>
                    <a:pt x="103" y="57"/>
                    <a:pt x="97" y="70"/>
                  </a:cubicBezTo>
                  <a:cubicBezTo>
                    <a:pt x="89" y="88"/>
                    <a:pt x="90" y="107"/>
                    <a:pt x="86" y="125"/>
                  </a:cubicBezTo>
                  <a:cubicBezTo>
                    <a:pt x="79" y="159"/>
                    <a:pt x="87" y="199"/>
                    <a:pt x="115" y="222"/>
                  </a:cubicBezTo>
                  <a:cubicBezTo>
                    <a:pt x="132" y="236"/>
                    <a:pt x="154" y="240"/>
                    <a:pt x="175" y="243"/>
                  </a:cubicBezTo>
                  <a:cubicBezTo>
                    <a:pt x="159" y="248"/>
                    <a:pt x="143" y="242"/>
                    <a:pt x="127" y="242"/>
                  </a:cubicBezTo>
                  <a:cubicBezTo>
                    <a:pt x="112" y="247"/>
                    <a:pt x="110" y="265"/>
                    <a:pt x="99" y="275"/>
                  </a:cubicBezTo>
                  <a:cubicBezTo>
                    <a:pt x="102" y="264"/>
                    <a:pt x="108" y="253"/>
                    <a:pt x="104" y="242"/>
                  </a:cubicBezTo>
                  <a:cubicBezTo>
                    <a:pt x="98" y="210"/>
                    <a:pt x="73" y="186"/>
                    <a:pt x="66" y="155"/>
                  </a:cubicBezTo>
                  <a:cubicBezTo>
                    <a:pt x="62" y="126"/>
                    <a:pt x="25" y="113"/>
                    <a:pt x="0" y="124"/>
                  </a:cubicBezTo>
                  <a:cubicBezTo>
                    <a:pt x="16" y="113"/>
                    <a:pt x="37" y="110"/>
                    <a:pt x="55" y="117"/>
                  </a:cubicBezTo>
                  <a:cubicBezTo>
                    <a:pt x="62" y="122"/>
                    <a:pt x="70" y="118"/>
                    <a:pt x="72" y="110"/>
                  </a:cubicBezTo>
                  <a:cubicBezTo>
                    <a:pt x="77" y="93"/>
                    <a:pt x="78" y="76"/>
                    <a:pt x="86" y="60"/>
                  </a:cubicBezTo>
                  <a:cubicBezTo>
                    <a:pt x="91" y="49"/>
                    <a:pt x="104" y="45"/>
                    <a:pt x="113" y="38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07" name="Freeform 16"/>
            <p:cNvSpPr/>
            <p:nvPr/>
          </p:nvSpPr>
          <p:spPr>
            <a:xfrm>
              <a:off x="7355160" y="3389760"/>
              <a:ext cx="154440" cy="1051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6" h="32">
                  <a:moveTo>
                    <a:pt x="8" y="15"/>
                  </a:moveTo>
                  <a:cubicBezTo>
                    <a:pt x="22" y="16"/>
                    <a:pt x="36" y="11"/>
                    <a:pt x="46" y="0"/>
                  </a:cubicBezTo>
                  <a:cubicBezTo>
                    <a:pt x="39" y="18"/>
                    <a:pt x="18" y="23"/>
                    <a:pt x="4" y="32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1" y="29"/>
                    <a:pt x="0" y="23"/>
                    <a:pt x="0" y="20"/>
                  </a:cubicBezTo>
                  <a:cubicBezTo>
                    <a:pt x="2" y="19"/>
                    <a:pt x="6" y="16"/>
                    <a:pt x="8" y="1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08" name="Freeform 17"/>
            <p:cNvSpPr/>
            <p:nvPr/>
          </p:nvSpPr>
          <p:spPr>
            <a:xfrm>
              <a:off x="6627240" y="3631320"/>
              <a:ext cx="421920" cy="14688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125" h="44">
                  <a:moveTo>
                    <a:pt x="53" y="20"/>
                  </a:moveTo>
                  <a:cubicBezTo>
                    <a:pt x="76" y="10"/>
                    <a:pt x="100" y="0"/>
                    <a:pt x="125" y="7"/>
                  </a:cubicBezTo>
                  <a:cubicBezTo>
                    <a:pt x="113" y="12"/>
                    <a:pt x="95" y="9"/>
                    <a:pt x="91" y="24"/>
                  </a:cubicBezTo>
                  <a:cubicBezTo>
                    <a:pt x="93" y="32"/>
                    <a:pt x="100" y="38"/>
                    <a:pt x="105" y="44"/>
                  </a:cubicBezTo>
                  <a:cubicBezTo>
                    <a:pt x="90" y="37"/>
                    <a:pt x="75" y="26"/>
                    <a:pt x="57" y="31"/>
                  </a:cubicBezTo>
                  <a:cubicBezTo>
                    <a:pt x="37" y="35"/>
                    <a:pt x="16" y="28"/>
                    <a:pt x="0" y="14"/>
                  </a:cubicBezTo>
                  <a:cubicBezTo>
                    <a:pt x="17" y="23"/>
                    <a:pt x="36" y="27"/>
                    <a:pt x="53" y="2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909" name="组合 1"/>
          <p:cNvGrpSpPr/>
          <p:nvPr/>
        </p:nvGrpSpPr>
        <p:grpSpPr>
          <a:xfrm>
            <a:off x="9652680" y="2060640"/>
            <a:ext cx="1990080" cy="1571760"/>
            <a:chOff x="9652680" y="2060640"/>
            <a:chExt cx="1990080" cy="1571760"/>
          </a:xfrm>
        </p:grpSpPr>
        <p:sp>
          <p:nvSpPr>
            <p:cNvPr id="910" name="矩形 3"/>
            <p:cNvSpPr/>
            <p:nvPr/>
          </p:nvSpPr>
          <p:spPr>
            <a:xfrm>
              <a:off x="9652680" y="2060640"/>
              <a:ext cx="1990080" cy="1571760"/>
            </a:xfrm>
            <a:prstGeom prst="rect">
              <a:avLst/>
            </a:prstGeom>
            <a:noFill/>
            <a:ln>
              <a:solidFill>
                <a:srgbClr val="2e2e2e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11" name="椭圆 106"/>
            <p:cNvSpPr/>
            <p:nvPr/>
          </p:nvSpPr>
          <p:spPr>
            <a:xfrm>
              <a:off x="9922680" y="2197800"/>
              <a:ext cx="586080" cy="586080"/>
            </a:xfrm>
            <a:prstGeom prst="ellipse">
              <a:avLst/>
            </a:prstGeom>
            <a:solidFill>
              <a:srgbClr val="c00000">
                <a:alpha val="4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12" name="椭圆 107"/>
            <p:cNvSpPr/>
            <p:nvPr/>
          </p:nvSpPr>
          <p:spPr>
            <a:xfrm>
              <a:off x="9933840" y="2931120"/>
              <a:ext cx="578880" cy="578880"/>
            </a:xfrm>
            <a:prstGeom prst="ellipse">
              <a:avLst/>
            </a:prstGeom>
            <a:solidFill>
              <a:schemeClr val="accent1">
                <a:alpha val="6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13" name="文本框 108"/>
            <p:cNvSpPr/>
            <p:nvPr/>
          </p:nvSpPr>
          <p:spPr>
            <a:xfrm>
              <a:off x="10196280" y="2197800"/>
              <a:ext cx="1446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衰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文本框 109"/>
            <p:cNvSpPr/>
            <p:nvPr/>
          </p:nvSpPr>
          <p:spPr>
            <a:xfrm>
              <a:off x="10196280" y="2946600"/>
              <a:ext cx="1446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亢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Text Box 8"/>
          <p:cNvSpPr/>
          <p:nvPr/>
        </p:nvSpPr>
        <p:spPr>
          <a:xfrm>
            <a:off x="0" y="64065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文本框 47"/>
          <p:cNvSpPr/>
          <p:nvPr/>
        </p:nvSpPr>
        <p:spPr>
          <a:xfrm>
            <a:off x="4054680" y="852120"/>
            <a:ext cx="408240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针对衰退的脑区，我们就可以总结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该如何逃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组合 49"/>
          <p:cNvGrpSpPr/>
          <p:nvPr/>
        </p:nvGrpSpPr>
        <p:grpSpPr>
          <a:xfrm>
            <a:off x="4376880" y="5677200"/>
            <a:ext cx="3399840" cy="1666440"/>
            <a:chOff x="4376880" y="5677200"/>
            <a:chExt cx="3399840" cy="1666440"/>
          </a:xfrm>
        </p:grpSpPr>
        <p:sp>
          <p:nvSpPr>
            <p:cNvPr id="918" name="Oval 7"/>
            <p:cNvSpPr/>
            <p:nvPr/>
          </p:nvSpPr>
          <p:spPr>
            <a:xfrm>
              <a:off x="7265880" y="5677200"/>
              <a:ext cx="491040" cy="49788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19" name="Freeform 8"/>
            <p:cNvSpPr/>
            <p:nvPr/>
          </p:nvSpPr>
          <p:spPr>
            <a:xfrm>
              <a:off x="4376880" y="6334560"/>
              <a:ext cx="3399840" cy="1009080"/>
            </a:xfrm>
            <a:custGeom>
              <a:avLst/>
              <a:gdLst>
                <a:gd name="textAreaLeft" fmla="*/ 0 w 3399840"/>
                <a:gd name="textAreaRight" fmla="*/ 3400200 w 339984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573" h="156">
                  <a:moveTo>
                    <a:pt x="56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573" y="156"/>
                    <a:pt x="573" y="156"/>
                    <a:pt x="573" y="156"/>
                  </a:cubicBezTo>
                  <a:cubicBezTo>
                    <a:pt x="573" y="0"/>
                    <a:pt x="573" y="0"/>
                    <a:pt x="573" y="0"/>
                  </a:cubicBezTo>
                  <a:lnTo>
                    <a:pt x="568" y="0"/>
                  </a:lnTo>
                  <a:close/>
                  <a:moveTo>
                    <a:pt x="563" y="146"/>
                  </a:moveTo>
                  <a:cubicBezTo>
                    <a:pt x="553" y="146"/>
                    <a:pt x="20" y="146"/>
                    <a:pt x="10" y="146"/>
                  </a:cubicBezTo>
                  <a:cubicBezTo>
                    <a:pt x="10" y="137"/>
                    <a:pt x="10" y="19"/>
                    <a:pt x="10" y="10"/>
                  </a:cubicBezTo>
                  <a:cubicBezTo>
                    <a:pt x="20" y="10"/>
                    <a:pt x="553" y="10"/>
                    <a:pt x="563" y="10"/>
                  </a:cubicBezTo>
                  <a:cubicBezTo>
                    <a:pt x="563" y="19"/>
                    <a:pt x="563" y="137"/>
                    <a:pt x="563" y="146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20" name="Freeform 9"/>
            <p:cNvSpPr/>
            <p:nvPr/>
          </p:nvSpPr>
          <p:spPr>
            <a:xfrm>
              <a:off x="4376880" y="5683680"/>
              <a:ext cx="2768760" cy="537480"/>
            </a:xfrm>
            <a:custGeom>
              <a:avLst/>
              <a:gdLst>
                <a:gd name="textAreaLeft" fmla="*/ 0 w 2768760"/>
                <a:gd name="textAreaRight" fmla="*/ 2769120 w 27687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467" h="91">
                  <a:moveTo>
                    <a:pt x="0" y="51"/>
                  </a:moveTo>
                  <a:cubicBezTo>
                    <a:pt x="0" y="58"/>
                    <a:pt x="0" y="84"/>
                    <a:pt x="0" y="91"/>
                  </a:cubicBezTo>
                  <a:cubicBezTo>
                    <a:pt x="10" y="91"/>
                    <a:pt x="402" y="91"/>
                    <a:pt x="402" y="91"/>
                  </a:cubicBezTo>
                  <a:cubicBezTo>
                    <a:pt x="427" y="91"/>
                    <a:pt x="445" y="86"/>
                    <a:pt x="456" y="74"/>
                  </a:cubicBezTo>
                  <a:cubicBezTo>
                    <a:pt x="467" y="62"/>
                    <a:pt x="466" y="47"/>
                    <a:pt x="466" y="47"/>
                  </a:cubicBezTo>
                  <a:cubicBezTo>
                    <a:pt x="465" y="33"/>
                    <a:pt x="461" y="23"/>
                    <a:pt x="452" y="15"/>
                  </a:cubicBezTo>
                  <a:cubicBezTo>
                    <a:pt x="435" y="0"/>
                    <a:pt x="408" y="1"/>
                    <a:pt x="408" y="1"/>
                  </a:cubicBezTo>
                  <a:cubicBezTo>
                    <a:pt x="407" y="1"/>
                    <a:pt x="407" y="1"/>
                    <a:pt x="407" y="1"/>
                  </a:cubicBezTo>
                  <a:cubicBezTo>
                    <a:pt x="407" y="1"/>
                    <a:pt x="407" y="1"/>
                    <a:pt x="407" y="1"/>
                  </a:cubicBezTo>
                  <a:cubicBezTo>
                    <a:pt x="362" y="0"/>
                    <a:pt x="276" y="13"/>
                    <a:pt x="275" y="14"/>
                  </a:cubicBezTo>
                  <a:cubicBezTo>
                    <a:pt x="275" y="14"/>
                    <a:pt x="9" y="50"/>
                    <a:pt x="0" y="51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921" name="Freeform 5"/>
          <p:cNvSpPr/>
          <p:nvPr/>
        </p:nvSpPr>
        <p:spPr>
          <a:xfrm>
            <a:off x="4663800" y="4740840"/>
            <a:ext cx="2377440" cy="1057680"/>
          </a:xfrm>
          <a:custGeom>
            <a:avLst/>
            <a:gdLst>
              <a:gd name="textAreaLeft" fmla="*/ 0 w 2377440"/>
              <a:gd name="textAreaRight" fmla="*/ 2377800 w 2377440"/>
              <a:gd name="textAreaTop" fmla="*/ 0 h 1057680"/>
              <a:gd name="textAreaBottom" fmla="*/ 1058040 h 1057680"/>
            </a:gdLst>
            <a:ahLst/>
            <a:rect l="textAreaLeft" t="textAreaTop" r="textAreaRight" b="textAreaBottom"/>
            <a:pathLst>
              <a:path w="448" h="199">
                <a:moveTo>
                  <a:pt x="174" y="198"/>
                </a:moveTo>
                <a:cubicBezTo>
                  <a:pt x="174" y="90"/>
                  <a:pt x="174" y="90"/>
                  <a:pt x="174" y="90"/>
                </a:cubicBezTo>
                <a:cubicBezTo>
                  <a:pt x="143" y="132"/>
                  <a:pt x="143" y="132"/>
                  <a:pt x="143" y="132"/>
                </a:cubicBezTo>
                <a:cubicBezTo>
                  <a:pt x="142" y="133"/>
                  <a:pt x="133" y="145"/>
                  <a:pt x="117" y="145"/>
                </a:cubicBezTo>
                <a:cubicBezTo>
                  <a:pt x="99" y="145"/>
                  <a:pt x="85" y="123"/>
                  <a:pt x="85" y="123"/>
                </a:cubicBezTo>
                <a:cubicBezTo>
                  <a:pt x="85" y="123"/>
                  <a:pt x="64" y="90"/>
                  <a:pt x="57" y="79"/>
                </a:cubicBezTo>
                <a:cubicBezTo>
                  <a:pt x="61" y="76"/>
                  <a:pt x="65" y="73"/>
                  <a:pt x="69" y="70"/>
                </a:cubicBezTo>
                <a:cubicBezTo>
                  <a:pt x="74" y="76"/>
                  <a:pt x="114" y="117"/>
                  <a:pt x="114" y="117"/>
                </a:cubicBezTo>
                <a:cubicBezTo>
                  <a:pt x="137" y="71"/>
                  <a:pt x="137" y="71"/>
                  <a:pt x="137" y="71"/>
                </a:cubicBezTo>
                <a:cubicBezTo>
                  <a:pt x="156" y="31"/>
                  <a:pt x="178" y="30"/>
                  <a:pt x="196" y="28"/>
                </a:cubicBezTo>
                <a:cubicBezTo>
                  <a:pt x="196" y="28"/>
                  <a:pt x="224" y="28"/>
                  <a:pt x="224" y="28"/>
                </a:cubicBezTo>
                <a:cubicBezTo>
                  <a:pt x="224" y="28"/>
                  <a:pt x="251" y="28"/>
                  <a:pt x="251" y="28"/>
                </a:cubicBezTo>
                <a:cubicBezTo>
                  <a:pt x="269" y="30"/>
                  <a:pt x="291" y="31"/>
                  <a:pt x="311" y="71"/>
                </a:cubicBezTo>
                <a:cubicBezTo>
                  <a:pt x="311" y="71"/>
                  <a:pt x="334" y="117"/>
                  <a:pt x="334" y="117"/>
                </a:cubicBezTo>
                <a:cubicBezTo>
                  <a:pt x="334" y="117"/>
                  <a:pt x="373" y="76"/>
                  <a:pt x="379" y="70"/>
                </a:cubicBezTo>
                <a:cubicBezTo>
                  <a:pt x="382" y="73"/>
                  <a:pt x="387" y="76"/>
                  <a:pt x="390" y="79"/>
                </a:cubicBezTo>
                <a:cubicBezTo>
                  <a:pt x="386" y="86"/>
                  <a:pt x="363" y="123"/>
                  <a:pt x="363" y="123"/>
                </a:cubicBezTo>
                <a:cubicBezTo>
                  <a:pt x="363" y="123"/>
                  <a:pt x="349" y="145"/>
                  <a:pt x="331" y="145"/>
                </a:cubicBezTo>
                <a:cubicBezTo>
                  <a:pt x="314" y="145"/>
                  <a:pt x="305" y="133"/>
                  <a:pt x="305" y="132"/>
                </a:cubicBezTo>
                <a:cubicBezTo>
                  <a:pt x="305" y="132"/>
                  <a:pt x="273" y="90"/>
                  <a:pt x="273" y="90"/>
                </a:cubicBezTo>
                <a:cubicBezTo>
                  <a:pt x="273" y="185"/>
                  <a:pt x="273" y="185"/>
                  <a:pt x="273" y="185"/>
                </a:cubicBezTo>
                <a:cubicBezTo>
                  <a:pt x="277" y="184"/>
                  <a:pt x="280" y="184"/>
                  <a:pt x="284" y="183"/>
                </a:cubicBezTo>
                <a:cubicBezTo>
                  <a:pt x="284" y="158"/>
                  <a:pt x="284" y="132"/>
                  <a:pt x="284" y="120"/>
                </a:cubicBezTo>
                <a:cubicBezTo>
                  <a:pt x="290" y="129"/>
                  <a:pt x="297" y="138"/>
                  <a:pt x="297" y="138"/>
                </a:cubicBezTo>
                <a:cubicBezTo>
                  <a:pt x="297" y="139"/>
                  <a:pt x="309" y="155"/>
                  <a:pt x="331" y="155"/>
                </a:cubicBezTo>
                <a:cubicBezTo>
                  <a:pt x="354" y="155"/>
                  <a:pt x="371" y="129"/>
                  <a:pt x="371" y="128"/>
                </a:cubicBezTo>
                <a:cubicBezTo>
                  <a:pt x="404" y="77"/>
                  <a:pt x="404" y="77"/>
                  <a:pt x="404" y="77"/>
                </a:cubicBezTo>
                <a:cubicBezTo>
                  <a:pt x="398" y="72"/>
                  <a:pt x="398" y="72"/>
                  <a:pt x="398" y="72"/>
                </a:cubicBezTo>
                <a:cubicBezTo>
                  <a:pt x="448" y="0"/>
                  <a:pt x="448" y="0"/>
                  <a:pt x="448" y="0"/>
                </a:cubicBezTo>
                <a:cubicBezTo>
                  <a:pt x="441" y="0"/>
                  <a:pt x="441" y="0"/>
                  <a:pt x="441" y="0"/>
                </a:cubicBezTo>
                <a:cubicBezTo>
                  <a:pt x="441" y="0"/>
                  <a:pt x="405" y="3"/>
                  <a:pt x="400" y="37"/>
                </a:cubicBezTo>
                <a:cubicBezTo>
                  <a:pt x="399" y="38"/>
                  <a:pt x="391" y="50"/>
                  <a:pt x="383" y="61"/>
                </a:cubicBezTo>
                <a:cubicBezTo>
                  <a:pt x="378" y="57"/>
                  <a:pt x="378" y="57"/>
                  <a:pt x="378" y="57"/>
                </a:cubicBezTo>
                <a:cubicBezTo>
                  <a:pt x="378" y="57"/>
                  <a:pt x="344" y="91"/>
                  <a:pt x="337" y="100"/>
                </a:cubicBezTo>
                <a:cubicBezTo>
                  <a:pt x="332" y="91"/>
                  <a:pt x="320" y="66"/>
                  <a:pt x="320" y="66"/>
                </a:cubicBezTo>
                <a:cubicBezTo>
                  <a:pt x="298" y="22"/>
                  <a:pt x="270" y="20"/>
                  <a:pt x="252" y="18"/>
                </a:cubicBezTo>
                <a:cubicBezTo>
                  <a:pt x="252" y="18"/>
                  <a:pt x="252" y="18"/>
                  <a:pt x="252" y="18"/>
                </a:cubicBezTo>
                <a:cubicBezTo>
                  <a:pt x="224" y="18"/>
                  <a:pt x="224" y="18"/>
                  <a:pt x="224" y="18"/>
                </a:cubicBezTo>
                <a:cubicBezTo>
                  <a:pt x="224" y="18"/>
                  <a:pt x="196" y="18"/>
                  <a:pt x="196" y="18"/>
                </a:cubicBezTo>
                <a:cubicBezTo>
                  <a:pt x="196" y="18"/>
                  <a:pt x="196" y="18"/>
                  <a:pt x="196" y="18"/>
                </a:cubicBezTo>
                <a:cubicBezTo>
                  <a:pt x="195" y="18"/>
                  <a:pt x="195" y="18"/>
                  <a:pt x="195" y="18"/>
                </a:cubicBezTo>
                <a:cubicBezTo>
                  <a:pt x="177" y="20"/>
                  <a:pt x="150" y="22"/>
                  <a:pt x="128" y="67"/>
                </a:cubicBezTo>
                <a:cubicBezTo>
                  <a:pt x="128" y="67"/>
                  <a:pt x="117" y="88"/>
                  <a:pt x="111" y="100"/>
                </a:cubicBezTo>
                <a:cubicBezTo>
                  <a:pt x="103" y="91"/>
                  <a:pt x="70" y="57"/>
                  <a:pt x="70" y="57"/>
                </a:cubicBezTo>
                <a:cubicBezTo>
                  <a:pt x="65" y="61"/>
                  <a:pt x="65" y="61"/>
                  <a:pt x="65" y="61"/>
                </a:cubicBezTo>
                <a:cubicBezTo>
                  <a:pt x="57" y="50"/>
                  <a:pt x="48" y="38"/>
                  <a:pt x="48" y="37"/>
                </a:cubicBezTo>
                <a:cubicBezTo>
                  <a:pt x="43" y="3"/>
                  <a:pt x="6" y="0"/>
                  <a:pt x="6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5"/>
                  <a:pt x="3" y="5"/>
                  <a:pt x="3" y="5"/>
                </a:cubicBezTo>
                <a:cubicBezTo>
                  <a:pt x="50" y="72"/>
                  <a:pt x="50" y="72"/>
                  <a:pt x="50" y="72"/>
                </a:cubicBezTo>
                <a:cubicBezTo>
                  <a:pt x="44" y="77"/>
                  <a:pt x="44" y="77"/>
                  <a:pt x="44" y="77"/>
                </a:cubicBezTo>
                <a:cubicBezTo>
                  <a:pt x="76" y="128"/>
                  <a:pt x="76" y="128"/>
                  <a:pt x="76" y="128"/>
                </a:cubicBezTo>
                <a:cubicBezTo>
                  <a:pt x="77" y="129"/>
                  <a:pt x="93" y="155"/>
                  <a:pt x="117" y="155"/>
                </a:cubicBezTo>
                <a:cubicBezTo>
                  <a:pt x="139" y="155"/>
                  <a:pt x="150" y="139"/>
                  <a:pt x="151" y="138"/>
                </a:cubicBezTo>
                <a:cubicBezTo>
                  <a:pt x="151" y="138"/>
                  <a:pt x="158" y="129"/>
                  <a:pt x="164" y="120"/>
                </a:cubicBezTo>
                <a:cubicBezTo>
                  <a:pt x="164" y="134"/>
                  <a:pt x="164" y="170"/>
                  <a:pt x="164" y="199"/>
                </a:cubicBezTo>
                <a:cubicBezTo>
                  <a:pt x="167" y="199"/>
                  <a:pt x="171" y="198"/>
                  <a:pt x="174" y="198"/>
                </a:cubicBezTo>
                <a:close/>
                <a:moveTo>
                  <a:pt x="405" y="40"/>
                </a:moveTo>
                <a:cubicBezTo>
                  <a:pt x="406" y="40"/>
                  <a:pt x="406" y="40"/>
                  <a:pt x="406" y="40"/>
                </a:cubicBezTo>
                <a:cubicBezTo>
                  <a:pt x="406" y="39"/>
                  <a:pt x="406" y="39"/>
                  <a:pt x="406" y="39"/>
                </a:cubicBezTo>
                <a:cubicBezTo>
                  <a:pt x="408" y="17"/>
                  <a:pt x="425" y="10"/>
                  <a:pt x="435" y="8"/>
                </a:cubicBezTo>
                <a:cubicBezTo>
                  <a:pt x="430" y="15"/>
                  <a:pt x="406" y="50"/>
                  <a:pt x="393" y="68"/>
                </a:cubicBezTo>
                <a:cubicBezTo>
                  <a:pt x="388" y="64"/>
                  <a:pt x="388" y="64"/>
                  <a:pt x="388" y="64"/>
                </a:cubicBezTo>
                <a:cubicBezTo>
                  <a:pt x="395" y="54"/>
                  <a:pt x="405" y="40"/>
                  <a:pt x="405" y="40"/>
                </a:cubicBezTo>
                <a:close/>
                <a:moveTo>
                  <a:pt x="12" y="8"/>
                </a:moveTo>
                <a:cubicBezTo>
                  <a:pt x="22" y="10"/>
                  <a:pt x="39" y="17"/>
                  <a:pt x="42" y="39"/>
                </a:cubicBezTo>
                <a:cubicBezTo>
                  <a:pt x="42" y="40"/>
                  <a:pt x="42" y="40"/>
                  <a:pt x="42" y="40"/>
                </a:cubicBezTo>
                <a:cubicBezTo>
                  <a:pt x="42" y="40"/>
                  <a:pt x="52" y="54"/>
                  <a:pt x="60" y="64"/>
                </a:cubicBezTo>
                <a:cubicBezTo>
                  <a:pt x="55" y="68"/>
                  <a:pt x="55" y="68"/>
                  <a:pt x="55" y="68"/>
                </a:cubicBezTo>
                <a:cubicBezTo>
                  <a:pt x="42" y="50"/>
                  <a:pt x="18" y="15"/>
                  <a:pt x="12" y="8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922" name="组合 55"/>
          <p:cNvGrpSpPr/>
          <p:nvPr/>
        </p:nvGrpSpPr>
        <p:grpSpPr>
          <a:xfrm>
            <a:off x="4794120" y="2622600"/>
            <a:ext cx="2141280" cy="2478600"/>
            <a:chOff x="4794120" y="2622600"/>
            <a:chExt cx="2141280" cy="2478600"/>
          </a:xfrm>
        </p:grpSpPr>
        <p:sp>
          <p:nvSpPr>
            <p:cNvPr id="923" name="椭圆 56"/>
            <p:cNvSpPr/>
            <p:nvPr/>
          </p:nvSpPr>
          <p:spPr>
            <a:xfrm>
              <a:off x="4962960" y="3257640"/>
              <a:ext cx="1783800" cy="17838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24" name="矩形 57"/>
            <p:cNvSpPr/>
            <p:nvPr/>
          </p:nvSpPr>
          <p:spPr>
            <a:xfrm>
              <a:off x="5191920" y="4263120"/>
              <a:ext cx="622080" cy="6732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25" name="矩形 58"/>
            <p:cNvSpPr/>
            <p:nvPr/>
          </p:nvSpPr>
          <p:spPr>
            <a:xfrm>
              <a:off x="5978160" y="4263120"/>
              <a:ext cx="622080" cy="6732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26" name="椭圆 59"/>
            <p:cNvSpPr/>
            <p:nvPr/>
          </p:nvSpPr>
          <p:spPr>
            <a:xfrm>
              <a:off x="5400360" y="4268880"/>
              <a:ext cx="173160" cy="11808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27" name="椭圆 60"/>
            <p:cNvSpPr/>
            <p:nvPr/>
          </p:nvSpPr>
          <p:spPr>
            <a:xfrm>
              <a:off x="6165360" y="4267080"/>
              <a:ext cx="173160" cy="11808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28" name="同心圆 61"/>
            <p:cNvSpPr/>
            <p:nvPr/>
          </p:nvSpPr>
          <p:spPr>
            <a:xfrm>
              <a:off x="4934520" y="3260880"/>
              <a:ext cx="1840320" cy="1840320"/>
            </a:xfrm>
            <a:prstGeom prst="donut">
              <a:avLst>
                <a:gd name="adj" fmla="val 3806"/>
              </a:avLst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29" name="任意多边形 62"/>
            <p:cNvSpPr/>
            <p:nvPr/>
          </p:nvSpPr>
          <p:spPr>
            <a:xfrm>
              <a:off x="4794120" y="2622600"/>
              <a:ext cx="2141280" cy="1656720"/>
            </a:xfrm>
            <a:custGeom>
              <a:avLst/>
              <a:gdLst>
                <a:gd name="textAreaLeft" fmla="*/ 0 w 2141280"/>
                <a:gd name="textAreaRight" fmla="*/ 2141640 w 2141280"/>
                <a:gd name="textAreaTop" fmla="*/ 0 h 1656720"/>
                <a:gd name="textAreaBottom" fmla="*/ 1657080 h 1656720"/>
              </a:gdLst>
              <a:ahLst/>
              <a:rect l="textAreaLeft" t="textAreaTop" r="textAreaRight" b="textAreaBottom"/>
              <a:pathLst>
                <a:path w="2051532" h="1587287">
                  <a:moveTo>
                    <a:pt x="808911" y="351"/>
                  </a:moveTo>
                  <a:cubicBezTo>
                    <a:pt x="990198" y="7057"/>
                    <a:pt x="1214599" y="108722"/>
                    <a:pt x="1338958" y="216375"/>
                  </a:cubicBezTo>
                  <a:cubicBezTo>
                    <a:pt x="1490933" y="168997"/>
                    <a:pt x="1765935" y="292781"/>
                    <a:pt x="1853582" y="451008"/>
                  </a:cubicBezTo>
                  <a:cubicBezTo>
                    <a:pt x="1864538" y="470767"/>
                    <a:pt x="1873986" y="493197"/>
                    <a:pt x="1882003" y="517763"/>
                  </a:cubicBezTo>
                  <a:lnTo>
                    <a:pt x="1899991" y="589941"/>
                  </a:lnTo>
                  <a:lnTo>
                    <a:pt x="1934278" y="625455"/>
                  </a:lnTo>
                  <a:cubicBezTo>
                    <a:pt x="2092935" y="826185"/>
                    <a:pt x="2064937" y="1085462"/>
                    <a:pt x="1999607" y="1286192"/>
                  </a:cubicBezTo>
                  <a:cubicBezTo>
                    <a:pt x="1934278" y="1461831"/>
                    <a:pt x="1850283" y="1587287"/>
                    <a:pt x="1850283" y="1587287"/>
                  </a:cubicBezTo>
                  <a:cubicBezTo>
                    <a:pt x="1850283" y="1587287"/>
                    <a:pt x="1850283" y="1578923"/>
                    <a:pt x="1850283" y="1562196"/>
                  </a:cubicBezTo>
                  <a:cubicBezTo>
                    <a:pt x="1850283" y="1553832"/>
                    <a:pt x="1840950" y="1545468"/>
                    <a:pt x="1840950" y="1537105"/>
                  </a:cubicBezTo>
                  <a:cubicBezTo>
                    <a:pt x="1829284" y="1499468"/>
                    <a:pt x="1815869" y="1463399"/>
                    <a:pt x="1799245" y="1428768"/>
                  </a:cubicBezTo>
                  <a:lnTo>
                    <a:pt x="1774996" y="1389101"/>
                  </a:lnTo>
                  <a:lnTo>
                    <a:pt x="1765181" y="1409751"/>
                  </a:lnTo>
                  <a:cubicBezTo>
                    <a:pt x="1735480" y="1470045"/>
                    <a:pt x="1714071" y="1505503"/>
                    <a:pt x="1714071" y="1505503"/>
                  </a:cubicBezTo>
                  <a:lnTo>
                    <a:pt x="1714071" y="1477076"/>
                  </a:lnTo>
                  <a:cubicBezTo>
                    <a:pt x="1714071" y="1467902"/>
                    <a:pt x="1704824" y="1458276"/>
                    <a:pt x="1704824" y="1448800"/>
                  </a:cubicBezTo>
                  <a:cubicBezTo>
                    <a:pt x="1681002" y="1363595"/>
                    <a:pt x="1650095" y="1285535"/>
                    <a:pt x="1600266" y="1213396"/>
                  </a:cubicBezTo>
                  <a:lnTo>
                    <a:pt x="1573925" y="1183121"/>
                  </a:lnTo>
                  <a:lnTo>
                    <a:pt x="1523636" y="1152372"/>
                  </a:lnTo>
                  <a:cubicBezTo>
                    <a:pt x="1467640" y="1319647"/>
                    <a:pt x="1243653" y="1461831"/>
                    <a:pt x="1243653" y="1461831"/>
                  </a:cubicBezTo>
                  <a:cubicBezTo>
                    <a:pt x="1243653" y="1461831"/>
                    <a:pt x="1238987" y="1420012"/>
                    <a:pt x="1223821" y="1363557"/>
                  </a:cubicBezTo>
                  <a:lnTo>
                    <a:pt x="1195741" y="1280924"/>
                  </a:lnTo>
                  <a:lnTo>
                    <a:pt x="1172455" y="1302812"/>
                  </a:lnTo>
                  <a:cubicBezTo>
                    <a:pt x="1129383" y="1341060"/>
                    <a:pt x="1097326" y="1363670"/>
                    <a:pt x="1097326" y="1363670"/>
                  </a:cubicBezTo>
                  <a:cubicBezTo>
                    <a:pt x="1097326" y="1363670"/>
                    <a:pt x="1094668" y="1337063"/>
                    <a:pt x="1086841" y="1296815"/>
                  </a:cubicBezTo>
                  <a:lnTo>
                    <a:pt x="1080356" y="1267013"/>
                  </a:lnTo>
                  <a:lnTo>
                    <a:pt x="1049561" y="1304357"/>
                  </a:lnTo>
                  <a:cubicBezTo>
                    <a:pt x="948504" y="1413739"/>
                    <a:pt x="833011" y="1470195"/>
                    <a:pt x="833011" y="1470195"/>
                  </a:cubicBezTo>
                  <a:cubicBezTo>
                    <a:pt x="833011" y="1470195"/>
                    <a:pt x="828345" y="1428376"/>
                    <a:pt x="814346" y="1370875"/>
                  </a:cubicBezTo>
                  <a:lnTo>
                    <a:pt x="791180" y="1294081"/>
                  </a:lnTo>
                  <a:lnTo>
                    <a:pt x="751575" y="1325636"/>
                  </a:lnTo>
                  <a:cubicBezTo>
                    <a:pt x="709369" y="1357048"/>
                    <a:pt x="679997" y="1372996"/>
                    <a:pt x="679997" y="1372996"/>
                  </a:cubicBezTo>
                  <a:cubicBezTo>
                    <a:pt x="679997" y="1372996"/>
                    <a:pt x="677340" y="1346409"/>
                    <a:pt x="670011" y="1305688"/>
                  </a:cubicBezTo>
                  <a:lnTo>
                    <a:pt x="664046" y="1275752"/>
                  </a:lnTo>
                  <a:lnTo>
                    <a:pt x="605525" y="1338596"/>
                  </a:lnTo>
                  <a:cubicBezTo>
                    <a:pt x="462034" y="1478558"/>
                    <a:pt x="308043" y="1553832"/>
                    <a:pt x="301043" y="1553832"/>
                  </a:cubicBezTo>
                  <a:cubicBezTo>
                    <a:pt x="291711" y="1541286"/>
                    <a:pt x="259629" y="1495809"/>
                    <a:pt x="222736" y="1429421"/>
                  </a:cubicBezTo>
                  <a:lnTo>
                    <a:pt x="218353" y="1421130"/>
                  </a:lnTo>
                  <a:lnTo>
                    <a:pt x="190137" y="1439926"/>
                  </a:lnTo>
                  <a:cubicBezTo>
                    <a:pt x="160498" y="1458426"/>
                    <a:pt x="141551" y="1467902"/>
                    <a:pt x="139240" y="1467902"/>
                  </a:cubicBezTo>
                  <a:cubicBezTo>
                    <a:pt x="101045" y="1410898"/>
                    <a:pt x="-188231" y="747458"/>
                    <a:pt x="200753" y="369037"/>
                  </a:cubicBezTo>
                  <a:cubicBezTo>
                    <a:pt x="210201" y="359711"/>
                    <a:pt x="544506" y="28969"/>
                    <a:pt x="734274" y="3550"/>
                  </a:cubicBezTo>
                  <a:cubicBezTo>
                    <a:pt x="757995" y="373"/>
                    <a:pt x="783013" y="-607"/>
                    <a:pt x="808911" y="351"/>
                  </a:cubicBezTo>
                  <a:close/>
                </a:path>
              </a:pathLst>
            </a:custGeom>
            <a:solidFill>
              <a:srgbClr val="2e2e2e"/>
            </a:solidFill>
            <a:ln w="55563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cxnSp>
        <p:nvCxnSpPr>
          <p:cNvPr id="930" name="直接连接符 15"/>
          <p:cNvCxnSpPr/>
          <p:nvPr/>
        </p:nvCxnSpPr>
        <p:spPr>
          <a:xfrm>
            <a:off x="748440" y="71640"/>
            <a:ext cx="1069488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矩形 3"/>
          <p:cNvSpPr/>
          <p:nvPr/>
        </p:nvSpPr>
        <p:spPr>
          <a:xfrm>
            <a:off x="0" y="0"/>
            <a:ext cx="12191760" cy="59432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932" name="文本框 6"/>
          <p:cNvSpPr/>
          <p:nvPr/>
        </p:nvSpPr>
        <p:spPr>
          <a:xfrm>
            <a:off x="6345720" y="1896480"/>
            <a:ext cx="1827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学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48"/>
          <p:cNvSpPr/>
          <p:nvPr/>
        </p:nvSpPr>
        <p:spPr>
          <a:xfrm>
            <a:off x="3305160" y="1931400"/>
            <a:ext cx="2255040" cy="225504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Segoe UI Light 8"/>
              <a:ea typeface="微软雅黑 Light"/>
            </a:endParaRPr>
          </a:p>
        </p:txBody>
      </p:sp>
      <p:sp>
        <p:nvSpPr>
          <p:cNvPr id="934" name="同心圆 39"/>
          <p:cNvSpPr/>
          <p:nvPr/>
        </p:nvSpPr>
        <p:spPr>
          <a:xfrm>
            <a:off x="3355920" y="1982160"/>
            <a:ext cx="2153160" cy="2153160"/>
          </a:xfrm>
          <a:prstGeom prst="donut">
            <a:avLst>
              <a:gd name="adj" fmla="val 468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ffffff"/>
              </a:solidFill>
              <a:latin typeface="Segoe UI Light 8"/>
              <a:ea typeface="微软雅黑 Light"/>
            </a:endParaRPr>
          </a:p>
        </p:txBody>
      </p:sp>
      <p:sp>
        <p:nvSpPr>
          <p:cNvPr id="935" name="文本框 43"/>
          <p:cNvSpPr/>
          <p:nvPr/>
        </p:nvSpPr>
        <p:spPr>
          <a:xfrm>
            <a:off x="5812560" y="3791160"/>
            <a:ext cx="329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ientific Survival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组合 50"/>
          <p:cNvGrpSpPr/>
          <p:nvPr/>
        </p:nvGrpSpPr>
        <p:grpSpPr>
          <a:xfrm>
            <a:off x="3380040" y="1715040"/>
            <a:ext cx="5431680" cy="2670480"/>
            <a:chOff x="3380040" y="1715040"/>
            <a:chExt cx="5431680" cy="2670480"/>
          </a:xfrm>
        </p:grpSpPr>
        <p:cxnSp>
          <p:nvCxnSpPr>
            <p:cNvPr id="937" name="直接连接符 45"/>
            <p:cNvCxnSpPr/>
            <p:nvPr/>
          </p:nvCxnSpPr>
          <p:spPr>
            <a:xfrm>
              <a:off x="3380040" y="1715040"/>
              <a:ext cx="543204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938" name="直接连接符 46"/>
            <p:cNvCxnSpPr/>
            <p:nvPr/>
          </p:nvCxnSpPr>
          <p:spPr>
            <a:xfrm>
              <a:off x="3380040" y="4385520"/>
              <a:ext cx="543204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</p:grpSp>
      <p:sp>
        <p:nvSpPr>
          <p:cNvPr id="939" name="文本框 49"/>
          <p:cNvSpPr/>
          <p:nvPr/>
        </p:nvSpPr>
        <p:spPr>
          <a:xfrm>
            <a:off x="6345720" y="2960640"/>
            <a:ext cx="1827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求生技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0" name="直接连接符 53"/>
          <p:cNvCxnSpPr/>
          <p:nvPr/>
        </p:nvCxnSpPr>
        <p:spPr>
          <a:xfrm>
            <a:off x="5695560" y="2095920"/>
            <a:ext cx="360" cy="19904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grpSp>
        <p:nvGrpSpPr>
          <p:cNvPr id="941" name="组合 2"/>
          <p:cNvGrpSpPr/>
          <p:nvPr/>
        </p:nvGrpSpPr>
        <p:grpSpPr>
          <a:xfrm>
            <a:off x="3647520" y="2320920"/>
            <a:ext cx="1430280" cy="1670040"/>
            <a:chOff x="3647520" y="2320920"/>
            <a:chExt cx="1430280" cy="1670040"/>
          </a:xfrm>
        </p:grpSpPr>
        <p:grpSp>
          <p:nvGrpSpPr>
            <p:cNvPr id="942" name="组合 1"/>
            <p:cNvGrpSpPr/>
            <p:nvPr/>
          </p:nvGrpSpPr>
          <p:grpSpPr>
            <a:xfrm>
              <a:off x="3647520" y="2320920"/>
              <a:ext cx="1430280" cy="1670040"/>
              <a:chOff x="3647520" y="2320920"/>
              <a:chExt cx="1430280" cy="1670040"/>
            </a:xfrm>
          </p:grpSpPr>
          <p:sp>
            <p:nvSpPr>
              <p:cNvPr id="943" name="Freeform 60"/>
              <p:cNvSpPr/>
              <p:nvPr/>
            </p:nvSpPr>
            <p:spPr>
              <a:xfrm flipV="1" rot="1523400">
                <a:off x="4528440" y="2374920"/>
                <a:ext cx="325800" cy="326160"/>
              </a:xfrm>
              <a:custGeom>
                <a:avLst/>
                <a:gdLst>
                  <a:gd name="textAreaLeft" fmla="*/ 0 w 325800"/>
                  <a:gd name="textAreaRight" fmla="*/ 326160 w 325800"/>
                  <a:gd name="textAreaTop" fmla="*/ 360 h 326160"/>
                  <a:gd name="textAreaBottom" fmla="*/ 326880 h 326160"/>
                </a:gdLst>
                <a:ahLst/>
                <a:rect l="textAreaLeft" t="textAreaTop" r="textAreaRight" b="textAreaBottom"/>
                <a:pathLst>
                  <a:path w="844" h="842">
                    <a:moveTo>
                      <a:pt x="350" y="782"/>
                    </a:moveTo>
                    <a:cubicBezTo>
                      <a:pt x="581" y="842"/>
                      <a:pt x="835" y="649"/>
                      <a:pt x="829" y="409"/>
                    </a:cubicBezTo>
                    <a:cubicBezTo>
                      <a:pt x="844" y="197"/>
                      <a:pt x="655" y="4"/>
                      <a:pt x="445" y="6"/>
                    </a:cubicBezTo>
                    <a:cubicBezTo>
                      <a:pt x="266" y="0"/>
                      <a:pt x="97" y="132"/>
                      <a:pt x="56" y="306"/>
                    </a:cubicBezTo>
                    <a:cubicBezTo>
                      <a:pt x="0" y="510"/>
                      <a:pt x="142" y="741"/>
                      <a:pt x="350" y="782"/>
                    </a:cubicBezTo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944" name="Freeform 63"/>
              <p:cNvSpPr/>
              <p:nvPr/>
            </p:nvSpPr>
            <p:spPr>
              <a:xfrm flipV="1" rot="1523400">
                <a:off x="3857040" y="2626560"/>
                <a:ext cx="1011240" cy="1205640"/>
              </a:xfrm>
              <a:custGeom>
                <a:avLst/>
                <a:gdLst>
                  <a:gd name="textAreaLeft" fmla="*/ 0 w 1011240"/>
                  <a:gd name="textAreaRight" fmla="*/ 1011600 w 1011240"/>
                  <a:gd name="textAreaTop" fmla="*/ -360 h 1205640"/>
                  <a:gd name="textAreaBottom" fmla="*/ 1205640 h 1205640"/>
                </a:gdLst>
                <a:ahLst/>
                <a:rect l="textAreaLeft" t="textAreaTop" r="textAreaRight" b="textAreaBottom"/>
                <a:pathLst>
                  <a:path w="2619" h="3119">
                    <a:moveTo>
                      <a:pt x="87" y="2607"/>
                    </a:moveTo>
                    <a:cubicBezTo>
                      <a:pt x="388" y="2978"/>
                      <a:pt x="901" y="3119"/>
                      <a:pt x="1363" y="3074"/>
                    </a:cubicBezTo>
                    <a:cubicBezTo>
                      <a:pt x="1544" y="3021"/>
                      <a:pt x="1576" y="2784"/>
                      <a:pt x="1524" y="2628"/>
                    </a:cubicBezTo>
                    <a:cubicBezTo>
                      <a:pt x="1465" y="2708"/>
                      <a:pt x="1445" y="2815"/>
                      <a:pt x="1370" y="2880"/>
                    </a:cubicBezTo>
                    <a:cubicBezTo>
                      <a:pt x="1257" y="2969"/>
                      <a:pt x="1074" y="2851"/>
                      <a:pt x="1100" y="2713"/>
                    </a:cubicBezTo>
                    <a:cubicBezTo>
                      <a:pt x="1148" y="2518"/>
                      <a:pt x="1285" y="2353"/>
                      <a:pt x="1455" y="2249"/>
                    </a:cubicBezTo>
                    <a:cubicBezTo>
                      <a:pt x="1437" y="2131"/>
                      <a:pt x="1426" y="2012"/>
                      <a:pt x="1427" y="1892"/>
                    </a:cubicBezTo>
                    <a:cubicBezTo>
                      <a:pt x="1646" y="1836"/>
                      <a:pt x="1897" y="1853"/>
                      <a:pt x="2093" y="1735"/>
                    </a:cubicBezTo>
                    <a:cubicBezTo>
                      <a:pt x="2265" y="1438"/>
                      <a:pt x="2394" y="1113"/>
                      <a:pt x="2540" y="802"/>
                    </a:cubicBezTo>
                    <a:cubicBezTo>
                      <a:pt x="2619" y="586"/>
                      <a:pt x="2294" y="418"/>
                      <a:pt x="2162" y="604"/>
                    </a:cubicBezTo>
                    <a:cubicBezTo>
                      <a:pt x="2023" y="856"/>
                      <a:pt x="1917" y="1127"/>
                      <a:pt x="1788" y="1384"/>
                    </a:cubicBezTo>
                    <a:cubicBezTo>
                      <a:pt x="1663" y="1407"/>
                      <a:pt x="1537" y="1429"/>
                      <a:pt x="1412" y="1453"/>
                    </a:cubicBezTo>
                    <a:cubicBezTo>
                      <a:pt x="1392" y="855"/>
                      <a:pt x="975" y="333"/>
                      <a:pt x="451" y="80"/>
                    </a:cubicBezTo>
                    <a:cubicBezTo>
                      <a:pt x="216" y="0"/>
                      <a:pt x="63" y="363"/>
                      <a:pt x="278" y="476"/>
                    </a:cubicBezTo>
                    <a:cubicBezTo>
                      <a:pt x="665" y="686"/>
                      <a:pt x="997" y="1078"/>
                      <a:pt x="972" y="1541"/>
                    </a:cubicBezTo>
                    <a:cubicBezTo>
                      <a:pt x="912" y="1600"/>
                      <a:pt x="848" y="1661"/>
                      <a:pt x="828" y="1746"/>
                    </a:cubicBezTo>
                    <a:cubicBezTo>
                      <a:pt x="753" y="2087"/>
                      <a:pt x="798" y="2444"/>
                      <a:pt x="909" y="2773"/>
                    </a:cubicBezTo>
                    <a:cubicBezTo>
                      <a:pt x="704" y="2725"/>
                      <a:pt x="499" y="2641"/>
                      <a:pt x="355" y="2482"/>
                    </a:cubicBezTo>
                    <a:cubicBezTo>
                      <a:pt x="303" y="2432"/>
                      <a:pt x="258" y="2347"/>
                      <a:pt x="172" y="2362"/>
                    </a:cubicBezTo>
                    <a:cubicBezTo>
                      <a:pt x="50" y="2362"/>
                      <a:pt x="0" y="2529"/>
                      <a:pt x="87" y="2607"/>
                    </a:cubicBezTo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sp>
          <p:nvSpPr>
            <p:cNvPr id="945" name="Freeform 65"/>
            <p:cNvSpPr/>
            <p:nvPr/>
          </p:nvSpPr>
          <p:spPr>
            <a:xfrm flipV="1" rot="1523400">
              <a:off x="4432320" y="2817720"/>
              <a:ext cx="449640" cy="25848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360 h 258480"/>
                <a:gd name="textAreaBottom" fmla="*/ 259200 h 258480"/>
              </a:gdLst>
              <a:ahLst/>
              <a:rect l="textAreaLeft" t="textAreaTop" r="textAreaRight" b="textAreaBottom"/>
              <a:pathLst>
                <a:path w="1162" h="666">
                  <a:moveTo>
                    <a:pt x="163" y="662"/>
                  </a:moveTo>
                  <a:cubicBezTo>
                    <a:pt x="339" y="659"/>
                    <a:pt x="314" y="407"/>
                    <a:pt x="462" y="343"/>
                  </a:cubicBezTo>
                  <a:cubicBezTo>
                    <a:pt x="636" y="262"/>
                    <a:pt x="782" y="426"/>
                    <a:pt x="913" y="515"/>
                  </a:cubicBezTo>
                  <a:cubicBezTo>
                    <a:pt x="1037" y="577"/>
                    <a:pt x="1162" y="417"/>
                    <a:pt x="1085" y="307"/>
                  </a:cubicBezTo>
                  <a:cubicBezTo>
                    <a:pt x="923" y="140"/>
                    <a:pt x="691" y="0"/>
                    <a:pt x="450" y="49"/>
                  </a:cubicBezTo>
                  <a:cubicBezTo>
                    <a:pt x="250" y="97"/>
                    <a:pt x="112" y="277"/>
                    <a:pt x="43" y="461"/>
                  </a:cubicBezTo>
                  <a:cubicBezTo>
                    <a:pt x="0" y="548"/>
                    <a:pt x="63" y="666"/>
                    <a:pt x="163" y="662"/>
                  </a:cubicBezTo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椭圆 96"/>
          <p:cNvSpPr/>
          <p:nvPr/>
        </p:nvSpPr>
        <p:spPr>
          <a:xfrm flipH="1">
            <a:off x="5413680" y="6020280"/>
            <a:ext cx="1364400" cy="18036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947" name="禁止符 1"/>
          <p:cNvSpPr/>
          <p:nvPr/>
        </p:nvSpPr>
        <p:spPr>
          <a:xfrm>
            <a:off x="5563800" y="3116520"/>
            <a:ext cx="1054800" cy="1054800"/>
          </a:xfrm>
          <a:prstGeom prst="noSmoking">
            <a:avLst>
              <a:gd name="adj" fmla="val 12755"/>
            </a:avLst>
          </a:prstGeom>
          <a:solidFill>
            <a:srgbClr val="a500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948" name="圆角矩形 36"/>
          <p:cNvSpPr/>
          <p:nvPr/>
        </p:nvSpPr>
        <p:spPr>
          <a:xfrm>
            <a:off x="0" y="277200"/>
            <a:ext cx="12191760" cy="1010880"/>
          </a:xfrm>
          <a:prstGeom prst="roundRect">
            <a:avLst>
              <a:gd name="adj" fmla="val 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949" name="组合 34"/>
          <p:cNvGrpSpPr/>
          <p:nvPr/>
        </p:nvGrpSpPr>
        <p:grpSpPr>
          <a:xfrm>
            <a:off x="190080" y="115560"/>
            <a:ext cx="1333440" cy="1333440"/>
            <a:chOff x="190080" y="115560"/>
            <a:chExt cx="1333440" cy="1333440"/>
          </a:xfrm>
        </p:grpSpPr>
        <p:sp>
          <p:nvSpPr>
            <p:cNvPr id="950" name="椭圆 2"/>
            <p:cNvSpPr/>
            <p:nvPr/>
          </p:nvSpPr>
          <p:spPr>
            <a:xfrm>
              <a:off x="190080" y="115560"/>
              <a:ext cx="1333440" cy="133344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951" name="组合 32"/>
            <p:cNvGrpSpPr/>
            <p:nvPr/>
          </p:nvGrpSpPr>
          <p:grpSpPr>
            <a:xfrm>
              <a:off x="253440" y="178920"/>
              <a:ext cx="1206720" cy="1206720"/>
              <a:chOff x="253440" y="178920"/>
              <a:chExt cx="1206720" cy="1206720"/>
            </a:xfrm>
          </p:grpSpPr>
          <p:sp>
            <p:nvSpPr>
              <p:cNvPr id="952" name="椭圆 31"/>
              <p:cNvSpPr/>
              <p:nvPr/>
            </p:nvSpPr>
            <p:spPr>
              <a:xfrm>
                <a:off x="253440" y="178920"/>
                <a:ext cx="1206720" cy="120672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grpSp>
            <p:nvGrpSpPr>
              <p:cNvPr id="953" name="组合 3"/>
              <p:cNvGrpSpPr/>
              <p:nvPr/>
            </p:nvGrpSpPr>
            <p:grpSpPr>
              <a:xfrm>
                <a:off x="442440" y="277200"/>
                <a:ext cx="829080" cy="1010520"/>
                <a:chOff x="442440" y="277200"/>
                <a:chExt cx="829080" cy="1010520"/>
              </a:xfrm>
            </p:grpSpPr>
            <p:sp>
              <p:nvSpPr>
                <p:cNvPr id="954" name="Freeform 17"/>
                <p:cNvSpPr/>
                <p:nvPr/>
              </p:nvSpPr>
              <p:spPr>
                <a:xfrm>
                  <a:off x="850320" y="277200"/>
                  <a:ext cx="421200" cy="54648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546480"/>
                    <a:gd name="textAreaBottom" fmla="*/ 546840 h 54648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1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1"/>
                        <a:pt x="2" y="0"/>
                        <a:pt x="4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6" y="1"/>
                        <a:pt x="7" y="2"/>
                        <a:pt x="7" y="3"/>
                      </a:cubicBezTo>
                      <a:cubicBezTo>
                        <a:pt x="7" y="4"/>
                        <a:pt x="7" y="4"/>
                        <a:pt x="8" y="4"/>
                      </a:cubicBezTo>
                      <a:cubicBezTo>
                        <a:pt x="9" y="4"/>
                        <a:pt x="10" y="5"/>
                        <a:pt x="10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8"/>
                        <a:pt x="12" y="9"/>
                        <a:pt x="12" y="10"/>
                      </a:cubicBezTo>
                      <a:cubicBezTo>
                        <a:pt x="12" y="12"/>
                        <a:pt x="11" y="14"/>
                        <a:pt x="9" y="12"/>
                      </a:cubicBezTo>
                      <a:cubicBezTo>
                        <a:pt x="9" y="12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7" y="10"/>
                        <a:pt x="7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8" y="9"/>
                        <a:pt x="7" y="9"/>
                        <a:pt x="7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8"/>
                      </a:cubicBezTo>
                      <a:cubicBezTo>
                        <a:pt x="7" y="8"/>
                        <a:pt x="7" y="8"/>
                        <a:pt x="7" y="9"/>
                      </a:cubicBezTo>
                      <a:cubicBezTo>
                        <a:pt x="7" y="9"/>
                        <a:pt x="7" y="9"/>
                        <a:pt x="7" y="10"/>
                      </a:cubicBezTo>
                      <a:cubicBezTo>
                        <a:pt x="7" y="10"/>
                        <a:pt x="7" y="10"/>
                        <a:pt x="7" y="11"/>
                      </a:cubicBezTo>
                      <a:cubicBezTo>
                        <a:pt x="7" y="11"/>
                        <a:pt x="7" y="11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5" y="12"/>
                        <a:pt x="5" y="10"/>
                        <a:pt x="4" y="9"/>
                      </a:cubicBezTo>
                      <a:cubicBezTo>
                        <a:pt x="4" y="9"/>
                        <a:pt x="4" y="9"/>
                        <a:pt x="4" y="8"/>
                      </a:cubicBezTo>
                      <a:cubicBezTo>
                        <a:pt x="5" y="7"/>
                        <a:pt x="5" y="6"/>
                        <a:pt x="5" y="5"/>
                      </a:cubicBezTo>
                      <a:cubicBezTo>
                        <a:pt x="4" y="5"/>
                        <a:pt x="4" y="5"/>
                        <a:pt x="5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3" y="5"/>
                        <a:pt x="3" y="4"/>
                      </a:cubicBezTo>
                      <a:cubicBezTo>
                        <a:pt x="2" y="4"/>
                        <a:pt x="2" y="4"/>
                        <a:pt x="2" y="5"/>
                      </a:cubicBezTo>
                      <a:cubicBezTo>
                        <a:pt x="2" y="5"/>
                        <a:pt x="2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6"/>
                        <a:pt x="4" y="7"/>
                        <a:pt x="4" y="8"/>
                      </a:cubicBezTo>
                      <a:cubicBezTo>
                        <a:pt x="3" y="8"/>
                        <a:pt x="3" y="8"/>
                        <a:pt x="4" y="9"/>
                      </a:cubicBezTo>
                      <a:cubicBezTo>
                        <a:pt x="5" y="11"/>
                        <a:pt x="3" y="13"/>
                        <a:pt x="1" y="12"/>
                      </a:cubicBezTo>
                      <a:cubicBezTo>
                        <a:pt x="0" y="11"/>
                        <a:pt x="0" y="9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55" name="Freeform 16"/>
                <p:cNvSpPr/>
                <p:nvPr/>
              </p:nvSpPr>
              <p:spPr>
                <a:xfrm>
                  <a:off x="442440" y="286560"/>
                  <a:ext cx="456840" cy="50760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507600"/>
                    <a:gd name="textAreaBottom" fmla="*/ 507960 h 5076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8" y="10"/>
                      </a:moveTo>
                      <a:cubicBezTo>
                        <a:pt x="8" y="10"/>
                        <a:pt x="7" y="10"/>
                        <a:pt x="7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7"/>
                        <a:pt x="6" y="6"/>
                        <a:pt x="6" y="5"/>
                      </a:cubicBezTo>
                      <a:cubicBezTo>
                        <a:pt x="7" y="5"/>
                        <a:pt x="7" y="5"/>
                        <a:pt x="7" y="6"/>
                      </a:cubicBezTo>
                      <a:cubicBezTo>
                        <a:pt x="8" y="6"/>
                        <a:pt x="8" y="6"/>
                        <a:pt x="8" y="7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8" y="3"/>
                        <a:pt x="8" y="3"/>
                      </a:cubicBezTo>
                      <a:cubicBezTo>
                        <a:pt x="8" y="3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5"/>
                      </a:cubicBezTo>
                      <a:cubicBezTo>
                        <a:pt x="5" y="5"/>
                        <a:pt x="5" y="7"/>
                        <a:pt x="6" y="8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9"/>
                        <a:pt x="5" y="9"/>
                        <a:pt x="4" y="10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3" y="13"/>
                        <a:pt x="3" y="13"/>
                        <a:pt x="2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9"/>
                        <a:pt x="1" y="8"/>
                        <a:pt x="2" y="7"/>
                      </a:cubicBezTo>
                      <a:cubicBezTo>
                        <a:pt x="2" y="7"/>
                        <a:pt x="2" y="7"/>
                        <a:pt x="2" y="6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4"/>
                        <a:pt x="5" y="4"/>
                        <a:pt x="5" y="3"/>
                      </a:cubicBezTo>
                      <a:cubicBezTo>
                        <a:pt x="5" y="2"/>
                        <a:pt x="6" y="1"/>
                        <a:pt x="7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0" y="0"/>
                        <a:pt x="13" y="2"/>
                        <a:pt x="11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2" y="7"/>
                        <a:pt x="12" y="10"/>
                        <a:pt x="10" y="9"/>
                      </a:cubicBezTo>
                      <a:cubicBezTo>
                        <a:pt x="9" y="9"/>
                        <a:pt x="9" y="9"/>
                        <a:pt x="8" y="10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56" name="Freeform 19"/>
                <p:cNvSpPr/>
                <p:nvPr/>
              </p:nvSpPr>
              <p:spPr>
                <a:xfrm>
                  <a:off x="653400" y="677160"/>
                  <a:ext cx="210600" cy="116640"/>
                </a:xfrm>
                <a:custGeom>
                  <a:avLst/>
                  <a:gdLst>
                    <a:gd name="textAreaLeft" fmla="*/ 0 w 210600"/>
                    <a:gd name="textAreaRight" fmla="*/ 210960 w 2106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6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3"/>
                        <a:pt x="4" y="2"/>
                        <a:pt x="2" y="3"/>
                      </a:cubicBezTo>
                      <a:close/>
                    </a:path>
                  </a:pathLst>
                </a:custGeom>
                <a:solidFill>
                  <a:schemeClr val="accent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57" name="任意多边形 7"/>
                <p:cNvSpPr/>
                <p:nvPr/>
              </p:nvSpPr>
              <p:spPr>
                <a:xfrm>
                  <a:off x="470520" y="777240"/>
                  <a:ext cx="799560" cy="510480"/>
                </a:xfrm>
                <a:custGeom>
                  <a:avLst/>
                  <a:gdLst>
                    <a:gd name="textAreaLeft" fmla="*/ 0 w 799560"/>
                    <a:gd name="textAreaRight" fmla="*/ 799920 w 79956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3713312" h="2370974">
                      <a:moveTo>
                        <a:pt x="0" y="0"/>
                      </a:moveTo>
                      <a:lnTo>
                        <a:pt x="3713312" y="0"/>
                      </a:lnTo>
                      <a:lnTo>
                        <a:pt x="3702869" y="86603"/>
                      </a:lnTo>
                      <a:cubicBezTo>
                        <a:pt x="3685788" y="188493"/>
                        <a:pt x="3660167" y="287034"/>
                        <a:pt x="3630275" y="378878"/>
                      </a:cubicBezTo>
                      <a:cubicBezTo>
                        <a:pt x="3570492" y="539606"/>
                        <a:pt x="3502169" y="677373"/>
                        <a:pt x="3448792" y="774957"/>
                      </a:cubicBezTo>
                      <a:lnTo>
                        <a:pt x="3442867" y="785466"/>
                      </a:lnTo>
                      <a:lnTo>
                        <a:pt x="3435953" y="922398"/>
                      </a:lnTo>
                      <a:cubicBezTo>
                        <a:pt x="3353322" y="1736041"/>
                        <a:pt x="2666174" y="2370974"/>
                        <a:pt x="1830729" y="2370974"/>
                      </a:cubicBezTo>
                      <a:cubicBezTo>
                        <a:pt x="939588" y="2370974"/>
                        <a:pt x="217175" y="1648561"/>
                        <a:pt x="217175" y="757421"/>
                      </a:cubicBezTo>
                      <a:lnTo>
                        <a:pt x="219301" y="701323"/>
                      </a:lnTo>
                      <a:lnTo>
                        <a:pt x="217572" y="698461"/>
                      </a:lnTo>
                      <a:cubicBezTo>
                        <a:pt x="176475" y="625519"/>
                        <a:pt x="62382" y="362363"/>
                        <a:pt x="4783" y="33206"/>
                      </a:cubicBezTo>
                      <a:close/>
                    </a:path>
                  </a:pathLst>
                </a:custGeom>
                <a:noFill/>
                <a:ln w="60325">
                  <a:solidFill>
                    <a:srgbClr val="2d2d2d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58" name="弦形 8"/>
                <p:cNvSpPr/>
                <p:nvPr/>
              </p:nvSpPr>
              <p:spPr>
                <a:xfrm>
                  <a:off x="5695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59" name="弦形 9"/>
                <p:cNvSpPr/>
                <p:nvPr/>
              </p:nvSpPr>
              <p:spPr>
                <a:xfrm>
                  <a:off x="9007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grpSp>
              <p:nvGrpSpPr>
                <p:cNvPr id="960" name="组合 10"/>
                <p:cNvGrpSpPr/>
                <p:nvPr/>
              </p:nvGrpSpPr>
              <p:grpSpPr>
                <a:xfrm>
                  <a:off x="521640" y="780120"/>
                  <a:ext cx="702360" cy="151200"/>
                  <a:chOff x="521640" y="780120"/>
                  <a:chExt cx="702360" cy="151200"/>
                </a:xfrm>
              </p:grpSpPr>
              <p:sp>
                <p:nvSpPr>
                  <p:cNvPr id="961" name="圆角矩形 21"/>
                  <p:cNvSpPr/>
                  <p:nvPr/>
                </p:nvSpPr>
                <p:spPr>
                  <a:xfrm>
                    <a:off x="521640" y="840600"/>
                    <a:ext cx="702360" cy="21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62" name="圆角矩形 22"/>
                  <p:cNvSpPr/>
                  <p:nvPr/>
                </p:nvSpPr>
                <p:spPr>
                  <a:xfrm rot="5400000">
                    <a:off x="549000" y="838800"/>
                    <a:ext cx="73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63" name="圆角矩形 23"/>
                  <p:cNvSpPr/>
                  <p:nvPr/>
                </p:nvSpPr>
                <p:spPr>
                  <a:xfrm rot="5400000">
                    <a:off x="598680" y="8388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64" name="圆角矩形 24"/>
                  <p:cNvSpPr/>
                  <p:nvPr/>
                </p:nvSpPr>
                <p:spPr>
                  <a:xfrm rot="5400000">
                    <a:off x="659880" y="839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65" name="圆角矩形 25"/>
                  <p:cNvSpPr/>
                  <p:nvPr/>
                </p:nvSpPr>
                <p:spPr>
                  <a:xfrm rot="5400000">
                    <a:off x="736560" y="8352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66" name="圆角矩形 26"/>
                  <p:cNvSpPr/>
                  <p:nvPr/>
                </p:nvSpPr>
                <p:spPr>
                  <a:xfrm rot="5400000">
                    <a:off x="793080" y="844560"/>
                    <a:ext cx="1440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67" name="圆角矩形 27"/>
                  <p:cNvSpPr/>
                  <p:nvPr/>
                </p:nvSpPr>
                <p:spPr>
                  <a:xfrm rot="5400000">
                    <a:off x="893160" y="830520"/>
                    <a:ext cx="1306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68" name="圆角矩形 28"/>
                  <p:cNvSpPr/>
                  <p:nvPr/>
                </p:nvSpPr>
                <p:spPr>
                  <a:xfrm rot="5400000">
                    <a:off x="993960" y="840600"/>
                    <a:ext cx="81000" cy="2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2240" bIns="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69" name="圆角矩形 29"/>
                  <p:cNvSpPr/>
                  <p:nvPr/>
                </p:nvSpPr>
                <p:spPr>
                  <a:xfrm rot="5400000">
                    <a:off x="1027440" y="844560"/>
                    <a:ext cx="118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70" name="圆角矩形 30"/>
                  <p:cNvSpPr/>
                  <p:nvPr/>
                </p:nvSpPr>
                <p:spPr>
                  <a:xfrm rot="5400000">
                    <a:off x="1131120" y="830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971" name="组合 11"/>
                <p:cNvGrpSpPr/>
                <p:nvPr/>
              </p:nvGrpSpPr>
              <p:grpSpPr>
                <a:xfrm>
                  <a:off x="955800" y="1097640"/>
                  <a:ext cx="147240" cy="105120"/>
                  <a:chOff x="955800" y="1097640"/>
                  <a:chExt cx="147240" cy="105120"/>
                </a:xfrm>
              </p:grpSpPr>
              <p:sp>
                <p:nvSpPr>
                  <p:cNvPr id="972" name="圆角矩形 17"/>
                  <p:cNvSpPr/>
                  <p:nvPr/>
                </p:nvSpPr>
                <p:spPr>
                  <a:xfrm rot="12242400">
                    <a:off x="951840" y="1146600"/>
                    <a:ext cx="15516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73" name="圆角矩形 18"/>
                  <p:cNvSpPr/>
                  <p:nvPr/>
                </p:nvSpPr>
                <p:spPr>
                  <a:xfrm rot="17643000">
                    <a:off x="1042200" y="1159200"/>
                    <a:ext cx="604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74" name="圆角矩形 19"/>
                  <p:cNvSpPr/>
                  <p:nvPr/>
                </p:nvSpPr>
                <p:spPr>
                  <a:xfrm rot="17643000">
                    <a:off x="996120" y="114156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75" name="圆角矩形 20"/>
                  <p:cNvSpPr/>
                  <p:nvPr/>
                </p:nvSpPr>
                <p:spPr>
                  <a:xfrm rot="17643000">
                    <a:off x="951480" y="112392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976" name="组合 12"/>
                <p:cNvGrpSpPr/>
                <p:nvPr/>
              </p:nvGrpSpPr>
              <p:grpSpPr>
                <a:xfrm>
                  <a:off x="579600" y="1070640"/>
                  <a:ext cx="122040" cy="133560"/>
                  <a:chOff x="579600" y="1070640"/>
                  <a:chExt cx="122040" cy="133560"/>
                </a:xfrm>
              </p:grpSpPr>
              <p:sp>
                <p:nvSpPr>
                  <p:cNvPr id="977" name="圆角矩形 13"/>
                  <p:cNvSpPr/>
                  <p:nvPr/>
                </p:nvSpPr>
                <p:spPr>
                  <a:xfrm rot="14032200">
                    <a:off x="565200" y="1130760"/>
                    <a:ext cx="15408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78" name="圆角矩形 14"/>
                  <p:cNvSpPr/>
                  <p:nvPr/>
                </p:nvSpPr>
                <p:spPr>
                  <a:xfrm rot="19432200">
                    <a:off x="640080" y="1162440"/>
                    <a:ext cx="604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79" name="圆角矩形 15"/>
                  <p:cNvSpPr/>
                  <p:nvPr/>
                </p:nvSpPr>
                <p:spPr>
                  <a:xfrm rot="19432200">
                    <a:off x="608400" y="112752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980" name="圆角矩形 16"/>
                  <p:cNvSpPr/>
                  <p:nvPr/>
                </p:nvSpPr>
                <p:spPr>
                  <a:xfrm rot="19432200">
                    <a:off x="578880" y="109008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</p:grpSp>
        </p:grpSp>
      </p:grpSp>
      <p:sp>
        <p:nvSpPr>
          <p:cNvPr id="981" name="矩形 37"/>
          <p:cNvSpPr/>
          <p:nvPr/>
        </p:nvSpPr>
        <p:spPr>
          <a:xfrm>
            <a:off x="4734360" y="459360"/>
            <a:ext cx="272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和僵尸战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组合 33"/>
          <p:cNvGrpSpPr/>
          <p:nvPr/>
        </p:nvGrpSpPr>
        <p:grpSpPr>
          <a:xfrm>
            <a:off x="8686800" y="2476440"/>
            <a:ext cx="2018880" cy="3724200"/>
            <a:chOff x="8686800" y="2476440"/>
            <a:chExt cx="2018880" cy="3724200"/>
          </a:xfrm>
        </p:grpSpPr>
        <p:sp>
          <p:nvSpPr>
            <p:cNvPr id="983" name="椭圆 43"/>
            <p:cNvSpPr/>
            <p:nvPr/>
          </p:nvSpPr>
          <p:spPr>
            <a:xfrm flipH="1">
              <a:off x="8756640" y="6031800"/>
              <a:ext cx="1710000" cy="1688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984" name="Freeform 11"/>
            <p:cNvSpPr/>
            <p:nvPr/>
          </p:nvSpPr>
          <p:spPr>
            <a:xfrm flipH="1" rot="152400">
              <a:off x="8970120" y="4784760"/>
              <a:ext cx="1425960" cy="1347480"/>
            </a:xfrm>
            <a:custGeom>
              <a:avLst/>
              <a:gdLst>
                <a:gd name="textAreaLeft" fmla="*/ -360 w 1425960"/>
                <a:gd name="textAreaRight" fmla="*/ 1425960 w 1425960"/>
                <a:gd name="textAreaTop" fmla="*/ 0 h 1347480"/>
                <a:gd name="textAreaBottom" fmla="*/ 1347840 h 1347480"/>
              </a:gdLst>
              <a:ahLst/>
              <a:rect l="textAreaLeft" t="textAreaTop" r="textAreaRight" b="textAreaBottom"/>
              <a:pathLst>
                <a:path w="639" h="663">
                  <a:moveTo>
                    <a:pt x="397" y="0"/>
                  </a:moveTo>
                  <a:cubicBezTo>
                    <a:pt x="411" y="1"/>
                    <a:pt x="425" y="4"/>
                    <a:pt x="439" y="7"/>
                  </a:cubicBezTo>
                  <a:cubicBezTo>
                    <a:pt x="473" y="13"/>
                    <a:pt x="509" y="18"/>
                    <a:pt x="540" y="34"/>
                  </a:cubicBezTo>
                  <a:cubicBezTo>
                    <a:pt x="558" y="46"/>
                    <a:pt x="568" y="65"/>
                    <a:pt x="580" y="82"/>
                  </a:cubicBezTo>
                  <a:cubicBezTo>
                    <a:pt x="575" y="87"/>
                    <a:pt x="570" y="91"/>
                    <a:pt x="565" y="96"/>
                  </a:cubicBezTo>
                  <a:cubicBezTo>
                    <a:pt x="574" y="98"/>
                    <a:pt x="583" y="100"/>
                    <a:pt x="592" y="102"/>
                  </a:cubicBezTo>
                  <a:cubicBezTo>
                    <a:pt x="606" y="127"/>
                    <a:pt x="620" y="151"/>
                    <a:pt x="633" y="177"/>
                  </a:cubicBezTo>
                  <a:cubicBezTo>
                    <a:pt x="639" y="189"/>
                    <a:pt x="635" y="202"/>
                    <a:pt x="630" y="214"/>
                  </a:cubicBezTo>
                  <a:cubicBezTo>
                    <a:pt x="626" y="212"/>
                    <a:pt x="623" y="211"/>
                    <a:pt x="620" y="209"/>
                  </a:cubicBezTo>
                  <a:cubicBezTo>
                    <a:pt x="620" y="214"/>
                    <a:pt x="620" y="219"/>
                    <a:pt x="620" y="223"/>
                  </a:cubicBezTo>
                  <a:cubicBezTo>
                    <a:pt x="618" y="225"/>
                    <a:pt x="613" y="228"/>
                    <a:pt x="610" y="229"/>
                  </a:cubicBezTo>
                  <a:cubicBezTo>
                    <a:pt x="605" y="220"/>
                    <a:pt x="600" y="210"/>
                    <a:pt x="595" y="200"/>
                  </a:cubicBezTo>
                  <a:cubicBezTo>
                    <a:pt x="594" y="200"/>
                    <a:pt x="592" y="201"/>
                    <a:pt x="591" y="201"/>
                  </a:cubicBezTo>
                  <a:cubicBezTo>
                    <a:pt x="587" y="210"/>
                    <a:pt x="583" y="219"/>
                    <a:pt x="579" y="228"/>
                  </a:cubicBezTo>
                  <a:cubicBezTo>
                    <a:pt x="570" y="221"/>
                    <a:pt x="562" y="212"/>
                    <a:pt x="557" y="201"/>
                  </a:cubicBezTo>
                  <a:cubicBezTo>
                    <a:pt x="538" y="167"/>
                    <a:pt x="520" y="133"/>
                    <a:pt x="498" y="101"/>
                  </a:cubicBezTo>
                  <a:cubicBezTo>
                    <a:pt x="486" y="98"/>
                    <a:pt x="474" y="94"/>
                    <a:pt x="463" y="91"/>
                  </a:cubicBezTo>
                  <a:cubicBezTo>
                    <a:pt x="463" y="82"/>
                    <a:pt x="463" y="73"/>
                    <a:pt x="463" y="63"/>
                  </a:cubicBezTo>
                  <a:cubicBezTo>
                    <a:pt x="457" y="70"/>
                    <a:pt x="450" y="76"/>
                    <a:pt x="444" y="81"/>
                  </a:cubicBezTo>
                  <a:cubicBezTo>
                    <a:pt x="437" y="75"/>
                    <a:pt x="430" y="68"/>
                    <a:pt x="422" y="62"/>
                  </a:cubicBezTo>
                  <a:cubicBezTo>
                    <a:pt x="426" y="70"/>
                    <a:pt x="429" y="78"/>
                    <a:pt x="432" y="86"/>
                  </a:cubicBezTo>
                  <a:cubicBezTo>
                    <a:pt x="425" y="85"/>
                    <a:pt x="419" y="84"/>
                    <a:pt x="412" y="83"/>
                  </a:cubicBezTo>
                  <a:cubicBezTo>
                    <a:pt x="420" y="115"/>
                    <a:pt x="430" y="147"/>
                    <a:pt x="438" y="180"/>
                  </a:cubicBezTo>
                  <a:cubicBezTo>
                    <a:pt x="429" y="185"/>
                    <a:pt x="421" y="191"/>
                    <a:pt x="412" y="197"/>
                  </a:cubicBezTo>
                  <a:cubicBezTo>
                    <a:pt x="423" y="199"/>
                    <a:pt x="434" y="200"/>
                    <a:pt x="445" y="201"/>
                  </a:cubicBezTo>
                  <a:cubicBezTo>
                    <a:pt x="448" y="216"/>
                    <a:pt x="449" y="230"/>
                    <a:pt x="445" y="245"/>
                  </a:cubicBezTo>
                  <a:cubicBezTo>
                    <a:pt x="460" y="270"/>
                    <a:pt x="475" y="294"/>
                    <a:pt x="490" y="319"/>
                  </a:cubicBezTo>
                  <a:cubicBezTo>
                    <a:pt x="481" y="326"/>
                    <a:pt x="472" y="334"/>
                    <a:pt x="463" y="341"/>
                  </a:cubicBezTo>
                  <a:cubicBezTo>
                    <a:pt x="478" y="345"/>
                    <a:pt x="493" y="347"/>
                    <a:pt x="508" y="350"/>
                  </a:cubicBezTo>
                  <a:cubicBezTo>
                    <a:pt x="512" y="357"/>
                    <a:pt x="516" y="364"/>
                    <a:pt x="520" y="370"/>
                  </a:cubicBezTo>
                  <a:cubicBezTo>
                    <a:pt x="517" y="374"/>
                    <a:pt x="513" y="378"/>
                    <a:pt x="509" y="382"/>
                  </a:cubicBezTo>
                  <a:cubicBezTo>
                    <a:pt x="518" y="386"/>
                    <a:pt x="526" y="391"/>
                    <a:pt x="535" y="394"/>
                  </a:cubicBezTo>
                  <a:cubicBezTo>
                    <a:pt x="552" y="416"/>
                    <a:pt x="553" y="444"/>
                    <a:pt x="554" y="470"/>
                  </a:cubicBezTo>
                  <a:cubicBezTo>
                    <a:pt x="548" y="475"/>
                    <a:pt x="541" y="480"/>
                    <a:pt x="535" y="485"/>
                  </a:cubicBezTo>
                  <a:cubicBezTo>
                    <a:pt x="540" y="496"/>
                    <a:pt x="545" y="507"/>
                    <a:pt x="551" y="518"/>
                  </a:cubicBezTo>
                  <a:cubicBezTo>
                    <a:pt x="559" y="532"/>
                    <a:pt x="559" y="548"/>
                    <a:pt x="560" y="563"/>
                  </a:cubicBezTo>
                  <a:cubicBezTo>
                    <a:pt x="560" y="583"/>
                    <a:pt x="563" y="603"/>
                    <a:pt x="562" y="623"/>
                  </a:cubicBezTo>
                  <a:cubicBezTo>
                    <a:pt x="561" y="645"/>
                    <a:pt x="540" y="660"/>
                    <a:pt x="520" y="663"/>
                  </a:cubicBezTo>
                  <a:cubicBezTo>
                    <a:pt x="516" y="663"/>
                    <a:pt x="516" y="663"/>
                    <a:pt x="516" y="663"/>
                  </a:cubicBezTo>
                  <a:cubicBezTo>
                    <a:pt x="494" y="662"/>
                    <a:pt x="474" y="646"/>
                    <a:pt x="470" y="625"/>
                  </a:cubicBezTo>
                  <a:cubicBezTo>
                    <a:pt x="465" y="566"/>
                    <a:pt x="463" y="506"/>
                    <a:pt x="457" y="447"/>
                  </a:cubicBezTo>
                  <a:cubicBezTo>
                    <a:pt x="430" y="402"/>
                    <a:pt x="404" y="358"/>
                    <a:pt x="376" y="313"/>
                  </a:cubicBezTo>
                  <a:cubicBezTo>
                    <a:pt x="364" y="317"/>
                    <a:pt x="351" y="319"/>
                    <a:pt x="338" y="321"/>
                  </a:cubicBezTo>
                  <a:cubicBezTo>
                    <a:pt x="335" y="370"/>
                    <a:pt x="326" y="418"/>
                    <a:pt x="321" y="467"/>
                  </a:cubicBezTo>
                  <a:cubicBezTo>
                    <a:pt x="321" y="483"/>
                    <a:pt x="311" y="497"/>
                    <a:pt x="302" y="509"/>
                  </a:cubicBezTo>
                  <a:cubicBezTo>
                    <a:pt x="293" y="509"/>
                    <a:pt x="285" y="509"/>
                    <a:pt x="277" y="509"/>
                  </a:cubicBezTo>
                  <a:cubicBezTo>
                    <a:pt x="277" y="519"/>
                    <a:pt x="277" y="529"/>
                    <a:pt x="277" y="540"/>
                  </a:cubicBezTo>
                  <a:cubicBezTo>
                    <a:pt x="253" y="568"/>
                    <a:pt x="230" y="598"/>
                    <a:pt x="206" y="627"/>
                  </a:cubicBezTo>
                  <a:cubicBezTo>
                    <a:pt x="189" y="647"/>
                    <a:pt x="154" y="646"/>
                    <a:pt x="136" y="626"/>
                  </a:cubicBezTo>
                  <a:cubicBezTo>
                    <a:pt x="121" y="610"/>
                    <a:pt x="121" y="583"/>
                    <a:pt x="135" y="566"/>
                  </a:cubicBezTo>
                  <a:cubicBezTo>
                    <a:pt x="165" y="527"/>
                    <a:pt x="197" y="489"/>
                    <a:pt x="227" y="450"/>
                  </a:cubicBezTo>
                  <a:cubicBezTo>
                    <a:pt x="233" y="436"/>
                    <a:pt x="233" y="419"/>
                    <a:pt x="234" y="404"/>
                  </a:cubicBezTo>
                  <a:cubicBezTo>
                    <a:pt x="245" y="400"/>
                    <a:pt x="256" y="397"/>
                    <a:pt x="267" y="394"/>
                  </a:cubicBezTo>
                  <a:cubicBezTo>
                    <a:pt x="258" y="381"/>
                    <a:pt x="249" y="368"/>
                    <a:pt x="240" y="355"/>
                  </a:cubicBezTo>
                  <a:cubicBezTo>
                    <a:pt x="243" y="334"/>
                    <a:pt x="246" y="313"/>
                    <a:pt x="249" y="291"/>
                  </a:cubicBezTo>
                  <a:cubicBezTo>
                    <a:pt x="253" y="271"/>
                    <a:pt x="238" y="253"/>
                    <a:pt x="236" y="234"/>
                  </a:cubicBezTo>
                  <a:cubicBezTo>
                    <a:pt x="249" y="224"/>
                    <a:pt x="264" y="214"/>
                    <a:pt x="277" y="204"/>
                  </a:cubicBezTo>
                  <a:cubicBezTo>
                    <a:pt x="258" y="197"/>
                    <a:pt x="240" y="192"/>
                    <a:pt x="222" y="185"/>
                  </a:cubicBezTo>
                  <a:cubicBezTo>
                    <a:pt x="216" y="156"/>
                    <a:pt x="206" y="128"/>
                    <a:pt x="200" y="100"/>
                  </a:cubicBezTo>
                  <a:cubicBezTo>
                    <a:pt x="168" y="104"/>
                    <a:pt x="137" y="111"/>
                    <a:pt x="106" y="117"/>
                  </a:cubicBezTo>
                  <a:cubicBezTo>
                    <a:pt x="100" y="144"/>
                    <a:pt x="91" y="170"/>
                    <a:pt x="85" y="197"/>
                  </a:cubicBezTo>
                  <a:cubicBezTo>
                    <a:pt x="81" y="213"/>
                    <a:pt x="75" y="233"/>
                    <a:pt x="58" y="240"/>
                  </a:cubicBezTo>
                  <a:cubicBezTo>
                    <a:pt x="43" y="245"/>
                    <a:pt x="23" y="244"/>
                    <a:pt x="12" y="230"/>
                  </a:cubicBezTo>
                  <a:cubicBezTo>
                    <a:pt x="0" y="217"/>
                    <a:pt x="0" y="198"/>
                    <a:pt x="6" y="182"/>
                  </a:cubicBezTo>
                  <a:cubicBezTo>
                    <a:pt x="18" y="180"/>
                    <a:pt x="31" y="178"/>
                    <a:pt x="44" y="176"/>
                  </a:cubicBezTo>
                  <a:cubicBezTo>
                    <a:pt x="33" y="172"/>
                    <a:pt x="22" y="168"/>
                    <a:pt x="12" y="164"/>
                  </a:cubicBezTo>
                  <a:cubicBezTo>
                    <a:pt x="15" y="151"/>
                    <a:pt x="18" y="138"/>
                    <a:pt x="22" y="125"/>
                  </a:cubicBezTo>
                  <a:cubicBezTo>
                    <a:pt x="29" y="123"/>
                    <a:pt x="36" y="121"/>
                    <a:pt x="43" y="119"/>
                  </a:cubicBezTo>
                  <a:cubicBezTo>
                    <a:pt x="38" y="115"/>
                    <a:pt x="33" y="112"/>
                    <a:pt x="27" y="108"/>
                  </a:cubicBezTo>
                  <a:cubicBezTo>
                    <a:pt x="33" y="86"/>
                    <a:pt x="34" y="57"/>
                    <a:pt x="58" y="47"/>
                  </a:cubicBezTo>
                  <a:cubicBezTo>
                    <a:pt x="81" y="40"/>
                    <a:pt x="104" y="36"/>
                    <a:pt x="128" y="32"/>
                  </a:cubicBezTo>
                  <a:cubicBezTo>
                    <a:pt x="135" y="37"/>
                    <a:pt x="143" y="42"/>
                    <a:pt x="151" y="46"/>
                  </a:cubicBezTo>
                  <a:cubicBezTo>
                    <a:pt x="158" y="42"/>
                    <a:pt x="164" y="38"/>
                    <a:pt x="171" y="35"/>
                  </a:cubicBezTo>
                  <a:cubicBezTo>
                    <a:pt x="179" y="35"/>
                    <a:pt x="187" y="38"/>
                    <a:pt x="194" y="39"/>
                  </a:cubicBezTo>
                  <a:cubicBezTo>
                    <a:pt x="192" y="47"/>
                    <a:pt x="190" y="55"/>
                    <a:pt x="189" y="63"/>
                  </a:cubicBezTo>
                  <a:cubicBezTo>
                    <a:pt x="200" y="58"/>
                    <a:pt x="211" y="53"/>
                    <a:pt x="223" y="47"/>
                  </a:cubicBezTo>
                  <a:cubicBezTo>
                    <a:pt x="248" y="59"/>
                    <a:pt x="275" y="68"/>
                    <a:pt x="303" y="67"/>
                  </a:cubicBezTo>
                  <a:cubicBezTo>
                    <a:pt x="344" y="64"/>
                    <a:pt x="380" y="37"/>
                    <a:pt x="397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985" name="组合 46"/>
            <p:cNvGrpSpPr/>
            <p:nvPr/>
          </p:nvGrpSpPr>
          <p:grpSpPr>
            <a:xfrm>
              <a:off x="8686800" y="2476440"/>
              <a:ext cx="2018880" cy="2460960"/>
              <a:chOff x="8686800" y="2476440"/>
              <a:chExt cx="2018880" cy="2460960"/>
            </a:xfrm>
          </p:grpSpPr>
          <p:sp>
            <p:nvSpPr>
              <p:cNvPr id="986" name="Freeform 17"/>
              <p:cNvSpPr/>
              <p:nvPr/>
            </p:nvSpPr>
            <p:spPr>
              <a:xfrm flipH="1">
                <a:off x="8686800" y="2476440"/>
                <a:ext cx="1026000" cy="1330920"/>
              </a:xfrm>
              <a:custGeom>
                <a:avLst/>
                <a:gdLst>
                  <a:gd name="textAreaLeft" fmla="*/ 360 w 1026000"/>
                  <a:gd name="textAreaRight" fmla="*/ 1026720 w 1026000"/>
                  <a:gd name="textAreaTop" fmla="*/ 0 h 1330920"/>
                  <a:gd name="textAreaBottom" fmla="*/ 1331280 h 133092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1" y="7"/>
                    </a:moveTo>
                    <a:cubicBezTo>
                      <a:pt x="0" y="6"/>
                      <a:pt x="0" y="5"/>
                      <a:pt x="0" y="4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1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5" y="1"/>
                    </a:cubicBezTo>
                    <a:cubicBezTo>
                      <a:pt x="6" y="1"/>
                      <a:pt x="7" y="2"/>
                      <a:pt x="7" y="3"/>
                    </a:cubicBezTo>
                    <a:cubicBezTo>
                      <a:pt x="7" y="4"/>
                      <a:pt x="7" y="4"/>
                      <a:pt x="8" y="4"/>
                    </a:cubicBezTo>
                    <a:cubicBezTo>
                      <a:pt x="9" y="4"/>
                      <a:pt x="10" y="5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8"/>
                      <a:pt x="12" y="9"/>
                      <a:pt x="12" y="10"/>
                    </a:cubicBezTo>
                    <a:cubicBezTo>
                      <a:pt x="12" y="12"/>
                      <a:pt x="11" y="14"/>
                      <a:pt x="9" y="12"/>
                    </a:cubicBezTo>
                    <a:cubicBezTo>
                      <a:pt x="9" y="12"/>
                      <a:pt x="9" y="11"/>
                      <a:pt x="8" y="11"/>
                    </a:cubicBezTo>
                    <a:cubicBezTo>
                      <a:pt x="8" y="11"/>
                      <a:pt x="7" y="11"/>
                      <a:pt x="7" y="11"/>
                    </a:cubicBezTo>
                    <a:cubicBezTo>
                      <a:pt x="7" y="10"/>
                      <a:pt x="7" y="10"/>
                      <a:pt x="8" y="10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8" y="9"/>
                      <a:pt x="7" y="9"/>
                      <a:pt x="7" y="8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8"/>
                    </a:cubicBez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10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5" y="10"/>
                      <a:pt x="4" y="9"/>
                    </a:cubicBezTo>
                    <a:cubicBezTo>
                      <a:pt x="4" y="9"/>
                      <a:pt x="4" y="9"/>
                      <a:pt x="4" y="8"/>
                    </a:cubicBezTo>
                    <a:cubicBezTo>
                      <a:pt x="5" y="7"/>
                      <a:pt x="5" y="6"/>
                      <a:pt x="5" y="5"/>
                    </a:cubicBezTo>
                    <a:cubicBezTo>
                      <a:pt x="4" y="5"/>
                      <a:pt x="4" y="5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4"/>
                      <a:pt x="3" y="5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5"/>
                      <a:pt x="2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4" y="7"/>
                      <a:pt x="4" y="8"/>
                    </a:cubicBezTo>
                    <a:cubicBezTo>
                      <a:pt x="3" y="8"/>
                      <a:pt x="3" y="8"/>
                      <a:pt x="4" y="9"/>
                    </a:cubicBezTo>
                    <a:cubicBezTo>
                      <a:pt x="5" y="11"/>
                      <a:pt x="3" y="13"/>
                      <a:pt x="1" y="12"/>
                    </a:cubicBezTo>
                    <a:cubicBezTo>
                      <a:pt x="0" y="11"/>
                      <a:pt x="0" y="9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987" name="Freeform 16"/>
              <p:cNvSpPr/>
              <p:nvPr/>
            </p:nvSpPr>
            <p:spPr>
              <a:xfrm flipH="1">
                <a:off x="9593280" y="2499480"/>
                <a:ext cx="1112400" cy="1235520"/>
              </a:xfrm>
              <a:custGeom>
                <a:avLst/>
                <a:gdLst>
                  <a:gd name="textAreaLeft" fmla="*/ 360 w 1112400"/>
                  <a:gd name="textAreaRight" fmla="*/ 1113120 w 1112400"/>
                  <a:gd name="textAreaTop" fmla="*/ 0 h 1235520"/>
                  <a:gd name="textAreaBottom" fmla="*/ 1235880 h 1235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10"/>
                    </a:moveTo>
                    <a:cubicBezTo>
                      <a:pt x="8" y="10"/>
                      <a:pt x="7" y="10"/>
                      <a:pt x="7" y="9"/>
                    </a:cubicBezTo>
                    <a:cubicBezTo>
                      <a:pt x="7" y="8"/>
                      <a:pt x="7" y="8"/>
                      <a:pt x="6" y="8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7" y="5"/>
                      <a:pt x="7" y="5"/>
                      <a:pt x="7" y="6"/>
                    </a:cubicBezTo>
                    <a:cubicBezTo>
                      <a:pt x="8" y="6"/>
                      <a:pt x="8" y="6"/>
                      <a:pt x="8" y="7"/>
                    </a:cubicBezTo>
                    <a:cubicBezTo>
                      <a:pt x="9" y="7"/>
                      <a:pt x="9" y="7"/>
                      <a:pt x="9" y="6"/>
                    </a:cubicBezTo>
                    <a:cubicBezTo>
                      <a:pt x="9" y="6"/>
                      <a:pt x="9" y="6"/>
                      <a:pt x="8" y="6"/>
                    </a:cubicBezTo>
                    <a:cubicBezTo>
                      <a:pt x="8" y="5"/>
                      <a:pt x="8" y="4"/>
                      <a:pt x="8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8" y="3"/>
                      <a:pt x="7" y="4"/>
                      <a:pt x="7" y="4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5" y="5"/>
                      <a:pt x="5" y="7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10"/>
                      <a:pt x="7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4" y="11"/>
                      <a:pt x="4" y="12"/>
                    </a:cubicBezTo>
                    <a:cubicBezTo>
                      <a:pt x="3" y="13"/>
                      <a:pt x="3" y="13"/>
                      <a:pt x="2" y="13"/>
                    </a:cubicBezTo>
                    <a:cubicBezTo>
                      <a:pt x="0" y="13"/>
                      <a:pt x="0" y="12"/>
                      <a:pt x="0" y="10"/>
                    </a:cubicBezTo>
                    <a:cubicBezTo>
                      <a:pt x="0" y="9"/>
                      <a:pt x="1" y="8"/>
                      <a:pt x="2" y="7"/>
                    </a:cubicBezTo>
                    <a:cubicBezTo>
                      <a:pt x="2" y="7"/>
                      <a:pt x="2" y="7"/>
                      <a:pt x="2" y="6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3"/>
                    </a:cubicBezTo>
                    <a:cubicBezTo>
                      <a:pt x="5" y="2"/>
                      <a:pt x="6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10" y="0"/>
                      <a:pt x="13" y="2"/>
                      <a:pt x="11" y="4"/>
                    </a:cubicBezTo>
                    <a:cubicBezTo>
                      <a:pt x="11" y="5"/>
                      <a:pt x="11" y="5"/>
                      <a:pt x="11" y="6"/>
                    </a:cubicBezTo>
                    <a:cubicBezTo>
                      <a:pt x="12" y="7"/>
                      <a:pt x="12" y="10"/>
                      <a:pt x="10" y="9"/>
                    </a:cubicBezTo>
                    <a:cubicBezTo>
                      <a:pt x="9" y="9"/>
                      <a:pt x="9" y="9"/>
                      <a:pt x="8" y="10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988" name="Freeform 19"/>
              <p:cNvSpPr/>
              <p:nvPr/>
            </p:nvSpPr>
            <p:spPr>
              <a:xfrm flipH="1">
                <a:off x="9678960" y="3450240"/>
                <a:ext cx="513360" cy="284760"/>
              </a:xfrm>
              <a:custGeom>
                <a:avLst/>
                <a:gdLst>
                  <a:gd name="textAreaLeft" fmla="*/ 360 w 513360"/>
                  <a:gd name="textAreaRight" fmla="*/ 514080 w 51336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4" y="2"/>
                      <a:pt x="2" y="3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989" name="任意多边形 50"/>
              <p:cNvSpPr/>
              <p:nvPr/>
            </p:nvSpPr>
            <p:spPr>
              <a:xfrm flipH="1">
                <a:off x="8690400" y="3694320"/>
                <a:ext cx="1946880" cy="1243080"/>
              </a:xfrm>
              <a:custGeom>
                <a:avLst/>
                <a:gdLst>
                  <a:gd name="textAreaLeft" fmla="*/ 360 w 1946880"/>
                  <a:gd name="textAreaRight" fmla="*/ 1947600 w 1946880"/>
                  <a:gd name="textAreaTop" fmla="*/ 0 h 1243080"/>
                  <a:gd name="textAreaBottom" fmla="*/ 1243440 h 1243080"/>
                </a:gdLst>
                <a:ahLst/>
                <a:rect l="textAreaLeft" t="textAreaTop" r="textAreaRight" b="textAreaBottom"/>
                <a:pathLst>
                  <a:path w="3713312" h="2370974">
                    <a:moveTo>
                      <a:pt x="0" y="0"/>
                    </a:moveTo>
                    <a:lnTo>
                      <a:pt x="3713312" y="0"/>
                    </a:lnTo>
                    <a:lnTo>
                      <a:pt x="3702869" y="86603"/>
                    </a:lnTo>
                    <a:cubicBezTo>
                      <a:pt x="3685788" y="188493"/>
                      <a:pt x="3660167" y="287034"/>
                      <a:pt x="3630275" y="378878"/>
                    </a:cubicBezTo>
                    <a:cubicBezTo>
                      <a:pt x="3570492" y="539606"/>
                      <a:pt x="3502169" y="677373"/>
                      <a:pt x="3448792" y="774957"/>
                    </a:cubicBezTo>
                    <a:lnTo>
                      <a:pt x="3442867" y="785466"/>
                    </a:lnTo>
                    <a:lnTo>
                      <a:pt x="3435953" y="922398"/>
                    </a:lnTo>
                    <a:cubicBezTo>
                      <a:pt x="3353322" y="1736041"/>
                      <a:pt x="2666174" y="2370974"/>
                      <a:pt x="1830729" y="2370974"/>
                    </a:cubicBezTo>
                    <a:cubicBezTo>
                      <a:pt x="939588" y="2370974"/>
                      <a:pt x="217175" y="1648561"/>
                      <a:pt x="217175" y="757421"/>
                    </a:cubicBezTo>
                    <a:lnTo>
                      <a:pt x="219301" y="701323"/>
                    </a:lnTo>
                    <a:lnTo>
                      <a:pt x="217572" y="698461"/>
                    </a:lnTo>
                    <a:cubicBezTo>
                      <a:pt x="176475" y="625519"/>
                      <a:pt x="62382" y="362363"/>
                      <a:pt x="4783" y="33206"/>
                    </a:cubicBezTo>
                    <a:close/>
                  </a:path>
                </a:pathLst>
              </a:custGeom>
              <a:solidFill>
                <a:schemeClr val="bg1"/>
              </a:solidFill>
              <a:ln w="88900">
                <a:solidFill>
                  <a:srgbClr val="2d2d2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990" name="弦形 51"/>
              <p:cNvSpPr/>
              <p:nvPr/>
            </p:nvSpPr>
            <p:spPr>
              <a:xfrm flipH="1">
                <a:off x="9701280" y="3701880"/>
                <a:ext cx="694440" cy="694440"/>
              </a:xfrm>
              <a:prstGeom prst="chord">
                <a:avLst>
                  <a:gd name="adj1" fmla="val 92404"/>
                  <a:gd name="adj2" fmla="val 10691083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991" name="弦形 52"/>
              <p:cNvSpPr/>
              <p:nvPr/>
            </p:nvSpPr>
            <p:spPr>
              <a:xfrm flipH="1">
                <a:off x="8895240" y="3701880"/>
                <a:ext cx="694440" cy="694440"/>
              </a:xfrm>
              <a:prstGeom prst="chord">
                <a:avLst>
                  <a:gd name="adj1" fmla="val 92404"/>
                  <a:gd name="adj2" fmla="val 10691083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grpSp>
            <p:nvGrpSpPr>
              <p:cNvPr id="992" name="组合 53"/>
              <p:cNvGrpSpPr/>
              <p:nvPr/>
            </p:nvGrpSpPr>
            <p:grpSpPr>
              <a:xfrm>
                <a:off x="8802720" y="3700440"/>
                <a:ext cx="1710000" cy="369000"/>
                <a:chOff x="8802720" y="3700440"/>
                <a:chExt cx="1710000" cy="369000"/>
              </a:xfrm>
            </p:grpSpPr>
            <p:sp>
              <p:nvSpPr>
                <p:cNvPr id="993" name="圆角矩形 64"/>
                <p:cNvSpPr/>
                <p:nvPr/>
              </p:nvSpPr>
              <p:spPr>
                <a:xfrm flipH="1">
                  <a:off x="8802720" y="3848040"/>
                  <a:ext cx="1710000" cy="518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94" name="圆角矩形 65"/>
                <p:cNvSpPr/>
                <p:nvPr/>
              </p:nvSpPr>
              <p:spPr>
                <a:xfrm flipH="1" rot="16200000">
                  <a:off x="10267200" y="3844080"/>
                  <a:ext cx="180000" cy="72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95" name="圆角矩形 66"/>
                <p:cNvSpPr/>
                <p:nvPr/>
              </p:nvSpPr>
              <p:spPr>
                <a:xfrm flipH="1" rot="16200000">
                  <a:off x="10108800" y="3843720"/>
                  <a:ext cx="217800" cy="72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96" name="圆角矩形 67"/>
                <p:cNvSpPr/>
                <p:nvPr/>
              </p:nvSpPr>
              <p:spPr>
                <a:xfrm flipH="1" rot="16200000">
                  <a:off x="9936720" y="3845520"/>
                  <a:ext cx="239400" cy="72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97" name="圆角矩形 68"/>
                <p:cNvSpPr/>
                <p:nvPr/>
              </p:nvSpPr>
              <p:spPr>
                <a:xfrm flipH="1" rot="16200000">
                  <a:off x="9772560" y="3835080"/>
                  <a:ext cx="217800" cy="72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98" name="圆角矩形 69"/>
                <p:cNvSpPr/>
                <p:nvPr/>
              </p:nvSpPr>
              <p:spPr>
                <a:xfrm flipH="1" rot="16200000">
                  <a:off x="9502200" y="3858120"/>
                  <a:ext cx="350640" cy="72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999" name="圆角矩形 70"/>
                <p:cNvSpPr/>
                <p:nvPr/>
              </p:nvSpPr>
              <p:spPr>
                <a:xfrm flipH="1" rot="16200000">
                  <a:off x="9290880" y="3823920"/>
                  <a:ext cx="318960" cy="72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00" name="圆角矩形 71"/>
                <p:cNvSpPr/>
                <p:nvPr/>
              </p:nvSpPr>
              <p:spPr>
                <a:xfrm flipH="1" rot="16200000">
                  <a:off x="9165960" y="3849120"/>
                  <a:ext cx="198000" cy="655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9880" bIns="298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01" name="圆角矩形 72"/>
                <p:cNvSpPr/>
                <p:nvPr/>
              </p:nvSpPr>
              <p:spPr>
                <a:xfrm flipH="1" rot="16200000">
                  <a:off x="8992800" y="3857760"/>
                  <a:ext cx="289800" cy="72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02" name="圆角矩形 73"/>
                <p:cNvSpPr/>
                <p:nvPr/>
              </p:nvSpPr>
              <p:spPr>
                <a:xfrm flipH="1" rot="16200000">
                  <a:off x="8790480" y="3823920"/>
                  <a:ext cx="239400" cy="720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</p:grpSp>
          <p:grpSp>
            <p:nvGrpSpPr>
              <p:cNvPr id="1003" name="组合 54"/>
              <p:cNvGrpSpPr/>
              <p:nvPr/>
            </p:nvGrpSpPr>
            <p:grpSpPr>
              <a:xfrm>
                <a:off x="9097560" y="4471920"/>
                <a:ext cx="358920" cy="257760"/>
                <a:chOff x="9097560" y="4471920"/>
                <a:chExt cx="358920" cy="257760"/>
              </a:xfrm>
            </p:grpSpPr>
            <p:sp>
              <p:nvSpPr>
                <p:cNvPr id="1004" name="圆角矩形 60"/>
                <p:cNvSpPr/>
                <p:nvPr/>
              </p:nvSpPr>
              <p:spPr>
                <a:xfrm flipV="1" rot="20157600">
                  <a:off x="9087840" y="4592160"/>
                  <a:ext cx="378000" cy="338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5480" bIns="154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05" name="圆角矩形 61"/>
                <p:cNvSpPr/>
                <p:nvPr/>
              </p:nvSpPr>
              <p:spPr>
                <a:xfrm flipV="1" rot="14757600">
                  <a:off x="9098280" y="4623840"/>
                  <a:ext cx="147600" cy="547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4840" bIns="24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06" name="圆角矩形 62"/>
                <p:cNvSpPr/>
                <p:nvPr/>
              </p:nvSpPr>
              <p:spPr>
                <a:xfrm flipV="1" rot="14757600">
                  <a:off x="9179280" y="4579920"/>
                  <a:ext cx="178560" cy="547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4840" bIns="24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07" name="圆角矩形 63"/>
                <p:cNvSpPr/>
                <p:nvPr/>
              </p:nvSpPr>
              <p:spPr>
                <a:xfrm flipV="1" rot="14757600">
                  <a:off x="9288000" y="4536720"/>
                  <a:ext cx="178560" cy="547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4840" bIns="24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</p:grpSp>
          <p:grpSp>
            <p:nvGrpSpPr>
              <p:cNvPr id="1008" name="组合 55"/>
              <p:cNvGrpSpPr/>
              <p:nvPr/>
            </p:nvGrpSpPr>
            <p:grpSpPr>
              <a:xfrm>
                <a:off x="10074240" y="4408560"/>
                <a:ext cx="298440" cy="323640"/>
                <a:chOff x="10074240" y="4408560"/>
                <a:chExt cx="298440" cy="323640"/>
              </a:xfrm>
            </p:grpSpPr>
            <p:sp>
              <p:nvSpPr>
                <p:cNvPr id="1009" name="圆角矩形 56"/>
                <p:cNvSpPr/>
                <p:nvPr/>
              </p:nvSpPr>
              <p:spPr>
                <a:xfrm flipV="1" rot="18367800">
                  <a:off x="10031400" y="4553640"/>
                  <a:ext cx="375840" cy="338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5480" bIns="154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10" name="圆角矩形 57"/>
                <p:cNvSpPr/>
                <p:nvPr/>
              </p:nvSpPr>
              <p:spPr>
                <a:xfrm flipV="1" rot="12967800">
                  <a:off x="10075680" y="4631760"/>
                  <a:ext cx="14760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11" name="圆角矩形 58"/>
                <p:cNvSpPr/>
                <p:nvPr/>
              </p:nvSpPr>
              <p:spPr>
                <a:xfrm flipV="1" rot="12967800">
                  <a:off x="10122480" y="4546800"/>
                  <a:ext cx="17856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12" name="圆角矩形 59"/>
                <p:cNvSpPr/>
                <p:nvPr/>
              </p:nvSpPr>
              <p:spPr>
                <a:xfrm flipV="1" rot="12967800">
                  <a:off x="10195200" y="4455720"/>
                  <a:ext cx="178560" cy="5436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</p:grpSp>
        </p:grpSp>
      </p:grpSp>
      <p:grpSp>
        <p:nvGrpSpPr>
          <p:cNvPr id="1013" name="组合 110"/>
          <p:cNvGrpSpPr/>
          <p:nvPr/>
        </p:nvGrpSpPr>
        <p:grpSpPr>
          <a:xfrm>
            <a:off x="1523520" y="2710080"/>
            <a:ext cx="2554200" cy="3490560"/>
            <a:chOff x="1523520" y="2710080"/>
            <a:chExt cx="2554200" cy="3490560"/>
          </a:xfrm>
        </p:grpSpPr>
        <p:sp>
          <p:nvSpPr>
            <p:cNvPr id="1014" name="椭圆 77"/>
            <p:cNvSpPr/>
            <p:nvPr/>
          </p:nvSpPr>
          <p:spPr>
            <a:xfrm flipH="1">
              <a:off x="1523160" y="6031800"/>
              <a:ext cx="2058120" cy="1688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1015" name="Group 4"/>
            <p:cNvGrpSpPr/>
            <p:nvPr/>
          </p:nvGrpSpPr>
          <p:grpSpPr>
            <a:xfrm>
              <a:off x="1702080" y="4717080"/>
              <a:ext cx="1722240" cy="1414080"/>
              <a:chOff x="1702080" y="4717080"/>
              <a:chExt cx="1722240" cy="1414080"/>
            </a:xfrm>
          </p:grpSpPr>
          <p:sp>
            <p:nvSpPr>
              <p:cNvPr id="1016" name="Freeform 6"/>
              <p:cNvSpPr/>
              <p:nvPr/>
            </p:nvSpPr>
            <p:spPr>
              <a:xfrm flipH="1">
                <a:off x="1758240" y="5370840"/>
                <a:ext cx="1665720" cy="760320"/>
              </a:xfrm>
              <a:custGeom>
                <a:avLst/>
                <a:gdLst>
                  <a:gd name="textAreaLeft" fmla="*/ -360 w 1665720"/>
                  <a:gd name="textAreaRight" fmla="*/ 1665720 w 1665720"/>
                  <a:gd name="textAreaTop" fmla="*/ 0 h 760320"/>
                  <a:gd name="textAreaBottom" fmla="*/ 760680 h 760320"/>
                </a:gdLst>
                <a:ahLst/>
                <a:rect l="textAreaLeft" t="textAreaTop" r="textAreaRight" b="textAreaBottom"/>
                <a:pathLst>
                  <a:path w="10227" h="10221">
                    <a:moveTo>
                      <a:pt x="2" y="9695"/>
                    </a:moveTo>
                    <a:cubicBezTo>
                      <a:pt x="-68" y="11241"/>
                      <a:pt x="2668" y="8960"/>
                      <a:pt x="4064" y="8237"/>
                    </a:cubicBezTo>
                    <a:cubicBezTo>
                      <a:pt x="5460" y="7514"/>
                      <a:pt x="7439" y="5064"/>
                      <a:pt x="8381" y="5359"/>
                    </a:cubicBezTo>
                    <a:cubicBezTo>
                      <a:pt x="9323" y="5654"/>
                      <a:pt x="8921" y="10560"/>
                      <a:pt x="9714" y="10006"/>
                    </a:cubicBezTo>
                    <a:cubicBezTo>
                      <a:pt x="10507" y="9452"/>
                      <a:pt x="10326" y="1194"/>
                      <a:pt x="9551" y="268"/>
                    </a:cubicBezTo>
                    <a:cubicBezTo>
                      <a:pt x="8776" y="-658"/>
                      <a:pt x="8144" y="1058"/>
                      <a:pt x="7890" y="1662"/>
                    </a:cubicBezTo>
                    <a:lnTo>
                      <a:pt x="7890" y="1910"/>
                    </a:lnTo>
                    <a:cubicBezTo>
                      <a:pt x="7890" y="2587"/>
                      <a:pt x="7798" y="3154"/>
                      <a:pt x="7634" y="3546"/>
                    </a:cubicBezTo>
                    <a:cubicBezTo>
                      <a:pt x="7434" y="4045"/>
                      <a:pt x="7179" y="4115"/>
                      <a:pt x="7143" y="4151"/>
                    </a:cubicBezTo>
                    <a:lnTo>
                      <a:pt x="7143" y="4151"/>
                    </a:lnTo>
                    <a:lnTo>
                      <a:pt x="7125" y="4151"/>
                    </a:lnTo>
                    <a:lnTo>
                      <a:pt x="7143" y="4151"/>
                    </a:lnTo>
                    <a:cubicBezTo>
                      <a:pt x="6688" y="4293"/>
                      <a:pt x="6358" y="3866"/>
                      <a:pt x="6121" y="3298"/>
                    </a:cubicBezTo>
                    <a:cubicBezTo>
                      <a:pt x="6121" y="3688"/>
                      <a:pt x="6086" y="4115"/>
                      <a:pt x="5959" y="4506"/>
                    </a:cubicBezTo>
                    <a:cubicBezTo>
                      <a:pt x="5830" y="4897"/>
                      <a:pt x="5630" y="5111"/>
                      <a:pt x="5375" y="5216"/>
                    </a:cubicBezTo>
                    <a:cubicBezTo>
                      <a:pt x="5120" y="5288"/>
                      <a:pt x="4593" y="5180"/>
                      <a:pt x="4283" y="4257"/>
                    </a:cubicBezTo>
                    <a:cubicBezTo>
                      <a:pt x="2910" y="6176"/>
                      <a:pt x="72" y="8149"/>
                      <a:pt x="2" y="9695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>
                <a:off x="1701720" y="4717080"/>
                <a:ext cx="855720" cy="94428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944280"/>
                  <a:gd name="textAreaBottom" fmla="*/ 944640 h 944280"/>
                </a:gdLst>
                <a:ahLst/>
                <a:rect l="textAreaLeft" t="textAreaTop" r="textAreaRight" b="textAreaBottom"/>
                <a:pathLst>
                  <a:path w="289" h="356">
                    <a:moveTo>
                      <a:pt x="98" y="349"/>
                    </a:moveTo>
                    <a:cubicBezTo>
                      <a:pt x="98" y="349"/>
                      <a:pt x="98" y="349"/>
                      <a:pt x="98" y="349"/>
                    </a:cubicBezTo>
                    <a:cubicBezTo>
                      <a:pt x="98" y="349"/>
                      <a:pt x="109" y="348"/>
                      <a:pt x="117" y="337"/>
                    </a:cubicBezTo>
                    <a:cubicBezTo>
                      <a:pt x="126" y="325"/>
                      <a:pt x="131" y="305"/>
                      <a:pt x="126" y="281"/>
                    </a:cubicBezTo>
                    <a:cubicBezTo>
                      <a:pt x="104" y="180"/>
                      <a:pt x="104" y="180"/>
                      <a:pt x="104" y="180"/>
                    </a:cubicBezTo>
                    <a:cubicBezTo>
                      <a:pt x="218" y="103"/>
                      <a:pt x="218" y="103"/>
                      <a:pt x="218" y="103"/>
                    </a:cubicBezTo>
                    <a:cubicBezTo>
                      <a:pt x="227" y="117"/>
                      <a:pt x="227" y="117"/>
                      <a:pt x="227" y="117"/>
                    </a:cubicBezTo>
                    <a:cubicBezTo>
                      <a:pt x="289" y="80"/>
                      <a:pt x="289" y="80"/>
                      <a:pt x="289" y="80"/>
                    </a:cubicBezTo>
                    <a:cubicBezTo>
                      <a:pt x="240" y="0"/>
                      <a:pt x="240" y="0"/>
                      <a:pt x="240" y="0"/>
                    </a:cubicBezTo>
                    <a:cubicBezTo>
                      <a:pt x="0" y="144"/>
                      <a:pt x="0" y="144"/>
                      <a:pt x="0" y="144"/>
                    </a:cubicBezTo>
                    <a:cubicBezTo>
                      <a:pt x="6" y="165"/>
                      <a:pt x="23" y="228"/>
                      <a:pt x="40" y="296"/>
                    </a:cubicBezTo>
                    <a:cubicBezTo>
                      <a:pt x="42" y="305"/>
                      <a:pt x="57" y="356"/>
                      <a:pt x="98" y="349"/>
                    </a:cubicBezTo>
                    <a:close/>
                    <a:moveTo>
                      <a:pt x="231" y="98"/>
                    </a:moveTo>
                    <a:cubicBezTo>
                      <a:pt x="226" y="90"/>
                      <a:pt x="202" y="52"/>
                      <a:pt x="197" y="43"/>
                    </a:cubicBezTo>
                    <a:cubicBezTo>
                      <a:pt x="205" y="38"/>
                      <a:pt x="227" y="24"/>
                      <a:pt x="235" y="19"/>
                    </a:cubicBezTo>
                    <a:cubicBezTo>
                      <a:pt x="241" y="28"/>
                      <a:pt x="264" y="66"/>
                      <a:pt x="270" y="75"/>
                    </a:cubicBezTo>
                    <a:cubicBezTo>
                      <a:pt x="262" y="80"/>
                      <a:pt x="239" y="94"/>
                      <a:pt x="231" y="98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18" name="Freeform 8"/>
              <p:cNvSpPr/>
              <p:nvPr/>
            </p:nvSpPr>
            <p:spPr>
              <a:xfrm flipH="1">
                <a:off x="2452320" y="5118120"/>
                <a:ext cx="922320" cy="617760"/>
              </a:xfrm>
              <a:custGeom>
                <a:avLst/>
                <a:gdLst>
                  <a:gd name="textAreaLeft" fmla="*/ 360 w 922320"/>
                  <a:gd name="textAreaRight" fmla="*/ 923040 w 922320"/>
                  <a:gd name="textAreaTop" fmla="*/ 0 h 617760"/>
                  <a:gd name="textAreaBottom" fmla="*/ 618120 h 617760"/>
                </a:gdLst>
                <a:ahLst/>
                <a:rect l="textAreaLeft" t="textAreaTop" r="textAreaRight" b="textAreaBottom"/>
                <a:pathLst>
                  <a:path w="311" h="233">
                    <a:moveTo>
                      <a:pt x="276" y="228"/>
                    </a:moveTo>
                    <a:cubicBezTo>
                      <a:pt x="286" y="226"/>
                      <a:pt x="294" y="222"/>
                      <a:pt x="299" y="214"/>
                    </a:cubicBezTo>
                    <a:cubicBezTo>
                      <a:pt x="311" y="196"/>
                      <a:pt x="304" y="164"/>
                      <a:pt x="304" y="164"/>
                    </a:cubicBezTo>
                    <a:cubicBezTo>
                      <a:pt x="302" y="153"/>
                      <a:pt x="269" y="24"/>
                      <a:pt x="263" y="0"/>
                    </a:cubicBezTo>
                    <a:cubicBezTo>
                      <a:pt x="0" y="148"/>
                      <a:pt x="0" y="148"/>
                      <a:pt x="0" y="148"/>
                    </a:cubicBezTo>
                    <a:cubicBezTo>
                      <a:pt x="46" y="229"/>
                      <a:pt x="46" y="229"/>
                      <a:pt x="46" y="229"/>
                    </a:cubicBezTo>
                    <a:cubicBezTo>
                      <a:pt x="110" y="194"/>
                      <a:pt x="110" y="194"/>
                      <a:pt x="110" y="194"/>
                    </a:cubicBezTo>
                    <a:cubicBezTo>
                      <a:pt x="101" y="178"/>
                      <a:pt x="101" y="178"/>
                      <a:pt x="101" y="178"/>
                    </a:cubicBezTo>
                    <a:cubicBezTo>
                      <a:pt x="209" y="122"/>
                      <a:pt x="209" y="122"/>
                      <a:pt x="209" y="122"/>
                    </a:cubicBezTo>
                    <a:cubicBezTo>
                      <a:pt x="226" y="202"/>
                      <a:pt x="226" y="202"/>
                      <a:pt x="226" y="202"/>
                    </a:cubicBezTo>
                    <a:cubicBezTo>
                      <a:pt x="237" y="233"/>
                      <a:pt x="275" y="229"/>
                      <a:pt x="276" y="228"/>
                    </a:cubicBezTo>
                    <a:close/>
                    <a:moveTo>
                      <a:pt x="91" y="188"/>
                    </a:moveTo>
                    <a:cubicBezTo>
                      <a:pt x="82" y="193"/>
                      <a:pt x="60" y="206"/>
                      <a:pt x="52" y="210"/>
                    </a:cubicBezTo>
                    <a:cubicBezTo>
                      <a:pt x="47" y="201"/>
                      <a:pt x="24" y="162"/>
                      <a:pt x="19" y="153"/>
                    </a:cubicBezTo>
                    <a:cubicBezTo>
                      <a:pt x="27" y="149"/>
                      <a:pt x="50" y="136"/>
                      <a:pt x="58" y="132"/>
                    </a:cubicBezTo>
                    <a:cubicBezTo>
                      <a:pt x="63" y="140"/>
                      <a:pt x="85" y="179"/>
                      <a:pt x="91" y="188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19" name="Freeform 9"/>
              <p:cNvSpPr/>
              <p:nvPr/>
            </p:nvSpPr>
            <p:spPr>
              <a:xfrm flipH="1">
                <a:off x="2578680" y="5418360"/>
                <a:ext cx="2880" cy="2520"/>
              </a:xfrm>
              <a:custGeom>
                <a:avLst/>
                <a:gdLst>
                  <a:gd name="textAreaLeft" fmla="*/ 360 w 2880"/>
                  <a:gd name="textAreaRight" fmla="*/ 360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1020" name="组合 78"/>
            <p:cNvGrpSpPr/>
            <p:nvPr/>
          </p:nvGrpSpPr>
          <p:grpSpPr>
            <a:xfrm>
              <a:off x="1756080" y="2710080"/>
              <a:ext cx="2321640" cy="2696400"/>
              <a:chOff x="1756080" y="2710080"/>
              <a:chExt cx="2321640" cy="2696400"/>
            </a:xfrm>
          </p:grpSpPr>
          <p:sp>
            <p:nvSpPr>
              <p:cNvPr id="1021" name="椭圆 79"/>
              <p:cNvSpPr/>
              <p:nvPr/>
            </p:nvSpPr>
            <p:spPr>
              <a:xfrm rot="498000">
                <a:off x="1929960" y="3470400"/>
                <a:ext cx="1756080" cy="17560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22" name="矩形 80"/>
              <p:cNvSpPr/>
              <p:nvPr/>
            </p:nvSpPr>
            <p:spPr>
              <a:xfrm rot="498000">
                <a:off x="2138040" y="4408560"/>
                <a:ext cx="612360" cy="66240"/>
              </a:xfrm>
              <a:prstGeom prst="rect">
                <a:avLst/>
              </a:prstGeom>
              <a:solidFill>
                <a:srgbClr val="2e2e2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023" name="矩形 81"/>
              <p:cNvSpPr/>
              <p:nvPr/>
            </p:nvSpPr>
            <p:spPr>
              <a:xfrm rot="498000">
                <a:off x="2903760" y="4520160"/>
                <a:ext cx="612360" cy="66240"/>
              </a:xfrm>
              <a:prstGeom prst="rect">
                <a:avLst/>
              </a:prstGeom>
              <a:solidFill>
                <a:srgbClr val="2e2e2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024" name="椭圆 82"/>
              <p:cNvSpPr/>
              <p:nvPr/>
            </p:nvSpPr>
            <p:spPr>
              <a:xfrm rot="498000">
                <a:off x="2501280" y="4435560"/>
                <a:ext cx="170280" cy="116280"/>
              </a:xfrm>
              <a:prstGeom prst="ellipse">
                <a:avLst/>
              </a:prstGeom>
              <a:solidFill>
                <a:srgbClr val="2e2e2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025" name="椭圆 83"/>
              <p:cNvSpPr/>
              <p:nvPr/>
            </p:nvSpPr>
            <p:spPr>
              <a:xfrm rot="498000">
                <a:off x="3246480" y="4542480"/>
                <a:ext cx="170280" cy="116280"/>
              </a:xfrm>
              <a:prstGeom prst="ellipse">
                <a:avLst/>
              </a:prstGeom>
              <a:solidFill>
                <a:srgbClr val="2e2e2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026" name="同心圆 84"/>
              <p:cNvSpPr/>
              <p:nvPr/>
            </p:nvSpPr>
            <p:spPr>
              <a:xfrm rot="498000">
                <a:off x="1897560" y="3472920"/>
                <a:ext cx="1811880" cy="1811880"/>
              </a:xfrm>
              <a:prstGeom prst="donut">
                <a:avLst>
                  <a:gd name="adj" fmla="val 3806"/>
                </a:avLst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27" name="任意多边形 85"/>
              <p:cNvSpPr/>
              <p:nvPr/>
            </p:nvSpPr>
            <p:spPr>
              <a:xfrm rot="498000">
                <a:off x="1862640" y="2853360"/>
                <a:ext cx="2108160" cy="1631160"/>
              </a:xfrm>
              <a:custGeom>
                <a:avLst/>
                <a:gdLst>
                  <a:gd name="textAreaLeft" fmla="*/ 0 w 2108160"/>
                  <a:gd name="textAreaRight" fmla="*/ 2108520 w 2108160"/>
                  <a:gd name="textAreaTop" fmla="*/ 0 h 1631160"/>
                  <a:gd name="textAreaBottom" fmla="*/ 1631520 h 1631160"/>
                </a:gdLst>
                <a:ahLst/>
                <a:rect l="textAreaLeft" t="textAreaTop" r="textAreaRight" b="textAreaBottom"/>
                <a:pathLst>
                  <a:path w="2051532" h="1587287">
                    <a:moveTo>
                      <a:pt x="808911" y="351"/>
                    </a:moveTo>
                    <a:cubicBezTo>
                      <a:pt x="990198" y="7057"/>
                      <a:pt x="1214599" y="108722"/>
                      <a:pt x="1338958" y="216375"/>
                    </a:cubicBezTo>
                    <a:cubicBezTo>
                      <a:pt x="1490933" y="168997"/>
                      <a:pt x="1765935" y="292781"/>
                      <a:pt x="1853582" y="451008"/>
                    </a:cubicBezTo>
                    <a:cubicBezTo>
                      <a:pt x="1864538" y="470767"/>
                      <a:pt x="1873986" y="493197"/>
                      <a:pt x="1882003" y="517763"/>
                    </a:cubicBezTo>
                    <a:lnTo>
                      <a:pt x="1899991" y="589941"/>
                    </a:lnTo>
                    <a:lnTo>
                      <a:pt x="1934278" y="625455"/>
                    </a:lnTo>
                    <a:cubicBezTo>
                      <a:pt x="2092935" y="826185"/>
                      <a:pt x="2064937" y="1085462"/>
                      <a:pt x="1999607" y="1286192"/>
                    </a:cubicBezTo>
                    <a:cubicBezTo>
                      <a:pt x="1934278" y="1461831"/>
                      <a:pt x="1850283" y="1587287"/>
                      <a:pt x="1850283" y="1587287"/>
                    </a:cubicBezTo>
                    <a:cubicBezTo>
                      <a:pt x="1850283" y="1587287"/>
                      <a:pt x="1850283" y="1578923"/>
                      <a:pt x="1850283" y="1562196"/>
                    </a:cubicBezTo>
                    <a:cubicBezTo>
                      <a:pt x="1850283" y="1553832"/>
                      <a:pt x="1840950" y="1545468"/>
                      <a:pt x="1840950" y="1537105"/>
                    </a:cubicBezTo>
                    <a:cubicBezTo>
                      <a:pt x="1829284" y="1499468"/>
                      <a:pt x="1815869" y="1463399"/>
                      <a:pt x="1799245" y="1428768"/>
                    </a:cubicBezTo>
                    <a:lnTo>
                      <a:pt x="1774996" y="1389101"/>
                    </a:lnTo>
                    <a:lnTo>
                      <a:pt x="1765181" y="1409751"/>
                    </a:lnTo>
                    <a:cubicBezTo>
                      <a:pt x="1735480" y="1470045"/>
                      <a:pt x="1714071" y="1505503"/>
                      <a:pt x="1714071" y="1505503"/>
                    </a:cubicBezTo>
                    <a:lnTo>
                      <a:pt x="1714071" y="1477076"/>
                    </a:lnTo>
                    <a:cubicBezTo>
                      <a:pt x="1714071" y="1467902"/>
                      <a:pt x="1704824" y="1458276"/>
                      <a:pt x="1704824" y="1448800"/>
                    </a:cubicBezTo>
                    <a:cubicBezTo>
                      <a:pt x="1681002" y="1363595"/>
                      <a:pt x="1650095" y="1285535"/>
                      <a:pt x="1600266" y="1213396"/>
                    </a:cubicBezTo>
                    <a:lnTo>
                      <a:pt x="1573925" y="1183121"/>
                    </a:lnTo>
                    <a:lnTo>
                      <a:pt x="1523636" y="1152372"/>
                    </a:lnTo>
                    <a:cubicBezTo>
                      <a:pt x="1467640" y="1319647"/>
                      <a:pt x="1243653" y="1461831"/>
                      <a:pt x="1243653" y="1461831"/>
                    </a:cubicBezTo>
                    <a:cubicBezTo>
                      <a:pt x="1243653" y="1461831"/>
                      <a:pt x="1238987" y="1420012"/>
                      <a:pt x="1223821" y="1363557"/>
                    </a:cubicBezTo>
                    <a:lnTo>
                      <a:pt x="1195741" y="1280924"/>
                    </a:lnTo>
                    <a:lnTo>
                      <a:pt x="1172455" y="1302812"/>
                    </a:lnTo>
                    <a:cubicBezTo>
                      <a:pt x="1129383" y="1341060"/>
                      <a:pt x="1097326" y="1363670"/>
                      <a:pt x="1097326" y="1363670"/>
                    </a:cubicBezTo>
                    <a:cubicBezTo>
                      <a:pt x="1097326" y="1363670"/>
                      <a:pt x="1094668" y="1337063"/>
                      <a:pt x="1086841" y="1296815"/>
                    </a:cubicBezTo>
                    <a:lnTo>
                      <a:pt x="1080356" y="1267013"/>
                    </a:lnTo>
                    <a:lnTo>
                      <a:pt x="1049561" y="1304357"/>
                    </a:lnTo>
                    <a:cubicBezTo>
                      <a:pt x="948504" y="1413739"/>
                      <a:pt x="833011" y="1470195"/>
                      <a:pt x="833011" y="1470195"/>
                    </a:cubicBezTo>
                    <a:cubicBezTo>
                      <a:pt x="833011" y="1470195"/>
                      <a:pt x="828345" y="1428376"/>
                      <a:pt x="814346" y="1370875"/>
                    </a:cubicBezTo>
                    <a:lnTo>
                      <a:pt x="791180" y="1294081"/>
                    </a:lnTo>
                    <a:lnTo>
                      <a:pt x="751575" y="1325636"/>
                    </a:lnTo>
                    <a:cubicBezTo>
                      <a:pt x="709369" y="1357048"/>
                      <a:pt x="679997" y="1372996"/>
                      <a:pt x="679997" y="1372996"/>
                    </a:cubicBezTo>
                    <a:cubicBezTo>
                      <a:pt x="679997" y="1372996"/>
                      <a:pt x="677340" y="1346409"/>
                      <a:pt x="670011" y="1305688"/>
                    </a:cubicBezTo>
                    <a:lnTo>
                      <a:pt x="664046" y="1275752"/>
                    </a:lnTo>
                    <a:lnTo>
                      <a:pt x="605525" y="1338596"/>
                    </a:lnTo>
                    <a:cubicBezTo>
                      <a:pt x="462034" y="1478558"/>
                      <a:pt x="308043" y="1553832"/>
                      <a:pt x="301043" y="1553832"/>
                    </a:cubicBezTo>
                    <a:cubicBezTo>
                      <a:pt x="291711" y="1541286"/>
                      <a:pt x="259629" y="1495809"/>
                      <a:pt x="222736" y="1429421"/>
                    </a:cubicBezTo>
                    <a:lnTo>
                      <a:pt x="218353" y="1421130"/>
                    </a:lnTo>
                    <a:lnTo>
                      <a:pt x="190137" y="1439926"/>
                    </a:lnTo>
                    <a:cubicBezTo>
                      <a:pt x="160498" y="1458426"/>
                      <a:pt x="141551" y="1467902"/>
                      <a:pt x="139240" y="1467902"/>
                    </a:cubicBezTo>
                    <a:cubicBezTo>
                      <a:pt x="101045" y="1410898"/>
                      <a:pt x="-188231" y="747458"/>
                      <a:pt x="200753" y="369037"/>
                    </a:cubicBezTo>
                    <a:cubicBezTo>
                      <a:pt x="210201" y="359711"/>
                      <a:pt x="544506" y="28969"/>
                      <a:pt x="734274" y="3550"/>
                    </a:cubicBezTo>
                    <a:cubicBezTo>
                      <a:pt x="757995" y="373"/>
                      <a:pt x="783013" y="-607"/>
                      <a:pt x="808911" y="351"/>
                    </a:cubicBezTo>
                    <a:close/>
                  </a:path>
                </a:pathLst>
              </a:custGeom>
              <a:solidFill>
                <a:srgbClr val="2e2e2e"/>
              </a:solidFill>
              <a:ln w="55563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</p:grpSp>
      <p:sp>
        <p:nvSpPr>
          <p:cNvPr id="1028" name="Freeform 6"/>
          <p:cNvSpPr/>
          <p:nvPr/>
        </p:nvSpPr>
        <p:spPr>
          <a:xfrm flipH="1" flipV="1">
            <a:off x="5087160" y="4190400"/>
            <a:ext cx="1593360" cy="1954080"/>
          </a:xfrm>
          <a:custGeom>
            <a:avLst/>
            <a:gdLst>
              <a:gd name="textAreaLeft" fmla="*/ 360 w 1593360"/>
              <a:gd name="textAreaRight" fmla="*/ 1594080 w 1593360"/>
              <a:gd name="textAreaTop" fmla="*/ 360 h 1954080"/>
              <a:gd name="textAreaBottom" fmla="*/ 1954800 h 1954080"/>
            </a:gdLst>
            <a:ahLst/>
            <a:rect l="textAreaLeft" t="textAreaTop" r="textAreaRight" b="textAreaBottom"/>
            <a:pathLst>
              <a:path w="3526" h="4343">
                <a:moveTo>
                  <a:pt x="392" y="4067"/>
                </a:moveTo>
                <a:cubicBezTo>
                  <a:pt x="497" y="4171"/>
                  <a:pt x="593" y="4331"/>
                  <a:pt x="759" y="4329"/>
                </a:cubicBezTo>
                <a:cubicBezTo>
                  <a:pt x="1596" y="4331"/>
                  <a:pt x="2433" y="4343"/>
                  <a:pt x="3270" y="4334"/>
                </a:cubicBezTo>
                <a:cubicBezTo>
                  <a:pt x="3490" y="4337"/>
                  <a:pt x="3526" y="3977"/>
                  <a:pt x="3303" y="3942"/>
                </a:cubicBezTo>
                <a:cubicBezTo>
                  <a:pt x="2837" y="3932"/>
                  <a:pt x="2370" y="3941"/>
                  <a:pt x="1904" y="3937"/>
                </a:cubicBezTo>
                <a:cubicBezTo>
                  <a:pt x="1903" y="2740"/>
                  <a:pt x="1908" y="1543"/>
                  <a:pt x="1902" y="346"/>
                </a:cubicBezTo>
                <a:cubicBezTo>
                  <a:pt x="1888" y="18"/>
                  <a:pt x="1349" y="0"/>
                  <a:pt x="1310" y="325"/>
                </a:cubicBezTo>
                <a:cubicBezTo>
                  <a:pt x="1294" y="979"/>
                  <a:pt x="1309" y="1635"/>
                  <a:pt x="1303" y="2290"/>
                </a:cubicBezTo>
                <a:cubicBezTo>
                  <a:pt x="1275" y="2291"/>
                  <a:pt x="1219" y="2291"/>
                  <a:pt x="1191" y="2291"/>
                </a:cubicBezTo>
                <a:cubicBezTo>
                  <a:pt x="1189" y="1666"/>
                  <a:pt x="1191" y="1041"/>
                  <a:pt x="1190" y="415"/>
                </a:cubicBezTo>
                <a:cubicBezTo>
                  <a:pt x="1193" y="327"/>
                  <a:pt x="1162" y="242"/>
                  <a:pt x="1112" y="170"/>
                </a:cubicBezTo>
                <a:cubicBezTo>
                  <a:pt x="951" y="5"/>
                  <a:pt x="601" y="97"/>
                  <a:pt x="592" y="345"/>
                </a:cubicBezTo>
                <a:cubicBezTo>
                  <a:pt x="585" y="1012"/>
                  <a:pt x="593" y="1680"/>
                  <a:pt x="588" y="2347"/>
                </a:cubicBezTo>
                <a:cubicBezTo>
                  <a:pt x="481" y="2421"/>
                  <a:pt x="413" y="2535"/>
                  <a:pt x="334" y="2636"/>
                </a:cubicBezTo>
                <a:cubicBezTo>
                  <a:pt x="0" y="3036"/>
                  <a:pt x="8" y="3701"/>
                  <a:pt x="392" y="4067"/>
                </a:cubicBezTo>
                <a:moveTo>
                  <a:pt x="588" y="2963"/>
                </a:moveTo>
                <a:cubicBezTo>
                  <a:pt x="590" y="3207"/>
                  <a:pt x="591" y="3451"/>
                  <a:pt x="587" y="3695"/>
                </a:cubicBezTo>
                <a:cubicBezTo>
                  <a:pt x="437" y="3481"/>
                  <a:pt x="431" y="3175"/>
                  <a:pt x="588" y="2963"/>
                </a:cubicBezTo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1029" name="Freeform 15"/>
          <p:cNvSpPr/>
          <p:nvPr/>
        </p:nvSpPr>
        <p:spPr>
          <a:xfrm flipH="1">
            <a:off x="6049080" y="4548240"/>
            <a:ext cx="111240" cy="212040"/>
          </a:xfrm>
          <a:custGeom>
            <a:avLst/>
            <a:gdLst>
              <a:gd name="textAreaLeft" fmla="*/ -360 w 111240"/>
              <a:gd name="textAreaRight" fmla="*/ 111240 w 111240"/>
              <a:gd name="textAreaTop" fmla="*/ 0 h 212040"/>
              <a:gd name="textAreaBottom" fmla="*/ 212400 h 212040"/>
            </a:gdLst>
            <a:ahLst/>
            <a:rect l="textAreaLeft" t="textAreaTop" r="textAreaRight" b="textAreaBottom"/>
            <a:pathLst>
              <a:path w="23" h="45">
                <a:moveTo>
                  <a:pt x="14" y="1"/>
                </a:moveTo>
                <a:cubicBezTo>
                  <a:pt x="19" y="2"/>
                  <a:pt x="23" y="6"/>
                  <a:pt x="23" y="12"/>
                </a:cubicBezTo>
                <a:cubicBezTo>
                  <a:pt x="23" y="18"/>
                  <a:pt x="18" y="23"/>
                  <a:pt x="12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40"/>
                  <a:pt x="8" y="45"/>
                </a:cubicBezTo>
                <a:cubicBezTo>
                  <a:pt x="6" y="45"/>
                  <a:pt x="3" y="45"/>
                  <a:pt x="0" y="45"/>
                </a:cubicBezTo>
                <a:cubicBezTo>
                  <a:pt x="0" y="39"/>
                  <a:pt x="0" y="12"/>
                  <a:pt x="0" y="12"/>
                </a:cubicBezTo>
                <a:cubicBezTo>
                  <a:pt x="0" y="6"/>
                  <a:pt x="5" y="1"/>
                  <a:pt x="10" y="1"/>
                </a:cubicBezTo>
                <a:cubicBezTo>
                  <a:pt x="12" y="0"/>
                  <a:pt x="14" y="1"/>
                  <a:pt x="14" y="1"/>
                </a:cubicBezTo>
                <a:close/>
              </a:path>
            </a:pathLst>
          </a:custGeom>
          <a:solidFill>
            <a:schemeClr val="bg1"/>
          </a:soli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1030" name="圆角矩形 100"/>
          <p:cNvSpPr/>
          <p:nvPr/>
        </p:nvSpPr>
        <p:spPr>
          <a:xfrm rot="21213000">
            <a:off x="5108040" y="4046400"/>
            <a:ext cx="147240" cy="327240"/>
          </a:xfrm>
          <a:prstGeom prst="roundRect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cxnSp>
        <p:nvCxnSpPr>
          <p:cNvPr id="1031" name="直接连接符 103"/>
          <p:cNvCxnSpPr/>
          <p:nvPr/>
        </p:nvCxnSpPr>
        <p:spPr>
          <a:xfrm>
            <a:off x="5935680" y="4190040"/>
            <a:ext cx="180000" cy="353880"/>
          </a:xfrm>
          <a:prstGeom prst="straightConnector1">
            <a:avLst/>
          </a:prstGeom>
          <a:ln w="19050">
            <a:solidFill>
              <a:srgbClr val="ffd23c"/>
            </a:solidFill>
          </a:ln>
        </p:spPr>
      </p:cxnSp>
      <p:cxnSp>
        <p:nvCxnSpPr>
          <p:cNvPr id="1032" name="直接连接符 104"/>
          <p:cNvCxnSpPr>
            <a:endCxn id="1029" idx="1"/>
          </p:cNvCxnSpPr>
          <p:nvPr/>
        </p:nvCxnSpPr>
        <p:spPr>
          <a:xfrm flipH="1">
            <a:off x="6112800" y="4194360"/>
            <a:ext cx="164520" cy="358920"/>
          </a:xfrm>
          <a:prstGeom prst="straightConnector1">
            <a:avLst/>
          </a:prstGeom>
          <a:ln w="19050">
            <a:solidFill>
              <a:srgbClr val="ffd23c"/>
            </a:solidFill>
          </a:ln>
        </p:spPr>
      </p:cxnSp>
      <p:grpSp>
        <p:nvGrpSpPr>
          <p:cNvPr id="1033" name="组合 115"/>
          <p:cNvGrpSpPr/>
          <p:nvPr/>
        </p:nvGrpSpPr>
        <p:grpSpPr>
          <a:xfrm>
            <a:off x="3196080" y="5751720"/>
            <a:ext cx="5428440" cy="860760"/>
            <a:chOff x="3196080" y="5751720"/>
            <a:chExt cx="5428440" cy="860760"/>
          </a:xfrm>
        </p:grpSpPr>
        <p:cxnSp>
          <p:nvCxnSpPr>
            <p:cNvPr id="1034" name="直接连接符 112"/>
            <p:cNvCxnSpPr/>
            <p:nvPr/>
          </p:nvCxnSpPr>
          <p:spPr>
            <a:xfrm flipV="1">
              <a:off x="3196080" y="5751720"/>
              <a:ext cx="1745640" cy="86112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dash"/>
            </a:ln>
          </p:spPr>
        </p:cxnSp>
        <p:cxnSp>
          <p:nvCxnSpPr>
            <p:cNvPr id="1035" name="直接连接符 114"/>
            <p:cNvCxnSpPr/>
            <p:nvPr/>
          </p:nvCxnSpPr>
          <p:spPr>
            <a:xfrm flipV="1">
              <a:off x="6879600" y="5751720"/>
              <a:ext cx="1745280" cy="861120"/>
            </a:xfrm>
            <a:prstGeom prst="straightConnector1">
              <a:avLst/>
            </a:prstGeom>
            <a:ln w="19050">
              <a:solidFill>
                <a:srgbClr val="ffffff">
                  <a:lumMod val="50000"/>
                </a:srgbClr>
              </a:solidFill>
              <a:prstDash val="dash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矩形 1"/>
          <p:cNvSpPr/>
          <p:nvPr/>
        </p:nvSpPr>
        <p:spPr>
          <a:xfrm>
            <a:off x="6526080" y="3778560"/>
            <a:ext cx="461988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僵尸用于加工对疼痛的情感反应的神经回路并没有完整保存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6513120" y="2940480"/>
            <a:ext cx="46198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僵尸没有痛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空心弧 32"/>
          <p:cNvSpPr/>
          <p:nvPr/>
        </p:nvSpPr>
        <p:spPr>
          <a:xfrm>
            <a:off x="1732680" y="2738520"/>
            <a:ext cx="3321720" cy="3321720"/>
          </a:xfrm>
          <a:prstGeom prst="blockArc">
            <a:avLst>
              <a:gd name="adj1" fmla="val 10800000"/>
              <a:gd name="adj2" fmla="val 6474253"/>
              <a:gd name="adj3" fmla="val 5724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1039" name="闪电形 34"/>
          <p:cNvSpPr/>
          <p:nvPr/>
        </p:nvSpPr>
        <p:spPr>
          <a:xfrm rot="5560800">
            <a:off x="4453200" y="3643200"/>
            <a:ext cx="711360" cy="45900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040" name="闪电形 35"/>
          <p:cNvSpPr/>
          <p:nvPr/>
        </p:nvSpPr>
        <p:spPr>
          <a:xfrm rot="10375800">
            <a:off x="2889000" y="2801880"/>
            <a:ext cx="430200" cy="27756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041" name="椭圆 40"/>
          <p:cNvSpPr/>
          <p:nvPr/>
        </p:nvSpPr>
        <p:spPr>
          <a:xfrm>
            <a:off x="1456200" y="3872880"/>
            <a:ext cx="837720" cy="83772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042" name="椭圆 41"/>
          <p:cNvSpPr/>
          <p:nvPr/>
        </p:nvSpPr>
        <p:spPr>
          <a:xfrm>
            <a:off x="2719440" y="5661000"/>
            <a:ext cx="456120" cy="45612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043" name="矩形 43"/>
          <p:cNvSpPr/>
          <p:nvPr/>
        </p:nvSpPr>
        <p:spPr>
          <a:xfrm>
            <a:off x="4933440" y="1326240"/>
            <a:ext cx="2324520" cy="6645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Segoe UI Light 8"/>
                <a:ea typeface="微软雅黑 Light"/>
              </a:rPr>
              <a:t>科学依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4" name="直接连接符 13"/>
          <p:cNvCxnSpPr/>
          <p:nvPr/>
        </p:nvCxnSpPr>
        <p:spPr>
          <a:xfrm>
            <a:off x="755640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cxnSp>
        <p:nvCxnSpPr>
          <p:cNvPr id="1045" name="直接连接符 15"/>
          <p:cNvCxnSpPr/>
          <p:nvPr/>
        </p:nvCxnSpPr>
        <p:spPr>
          <a:xfrm>
            <a:off x="99036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cxnSp>
        <p:nvCxnSpPr>
          <p:cNvPr id="1046" name="直接连接符 22"/>
          <p:cNvCxnSpPr/>
          <p:nvPr/>
        </p:nvCxnSpPr>
        <p:spPr>
          <a:xfrm>
            <a:off x="6095880" y="2338920"/>
            <a:ext cx="360" cy="43700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椭圆 117"/>
          <p:cNvSpPr/>
          <p:nvPr/>
        </p:nvSpPr>
        <p:spPr>
          <a:xfrm>
            <a:off x="9712800" y="6334200"/>
            <a:ext cx="1862640" cy="110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048" name="矩形 1"/>
          <p:cNvSpPr/>
          <p:nvPr/>
        </p:nvSpPr>
        <p:spPr>
          <a:xfrm>
            <a:off x="6111000" y="777240"/>
            <a:ext cx="5613480" cy="543060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049" name="圆角矩形 2"/>
          <p:cNvSpPr/>
          <p:nvPr/>
        </p:nvSpPr>
        <p:spPr>
          <a:xfrm>
            <a:off x="0" y="277200"/>
            <a:ext cx="12191760" cy="1010880"/>
          </a:xfrm>
          <a:prstGeom prst="roundRect">
            <a:avLst>
              <a:gd name="adj" fmla="val 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050" name="组合 3"/>
          <p:cNvGrpSpPr/>
          <p:nvPr/>
        </p:nvGrpSpPr>
        <p:grpSpPr>
          <a:xfrm>
            <a:off x="190080" y="115560"/>
            <a:ext cx="1333440" cy="1333440"/>
            <a:chOff x="190080" y="115560"/>
            <a:chExt cx="1333440" cy="1333440"/>
          </a:xfrm>
        </p:grpSpPr>
        <p:sp>
          <p:nvSpPr>
            <p:cNvPr id="1051" name="椭圆 4"/>
            <p:cNvSpPr/>
            <p:nvPr/>
          </p:nvSpPr>
          <p:spPr>
            <a:xfrm>
              <a:off x="190080" y="115560"/>
              <a:ext cx="1333440" cy="133344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1052" name="组合 5"/>
            <p:cNvGrpSpPr/>
            <p:nvPr/>
          </p:nvGrpSpPr>
          <p:grpSpPr>
            <a:xfrm>
              <a:off x="253440" y="178920"/>
              <a:ext cx="1206720" cy="1206720"/>
              <a:chOff x="253440" y="178920"/>
              <a:chExt cx="1206720" cy="1206720"/>
            </a:xfrm>
          </p:grpSpPr>
          <p:sp>
            <p:nvSpPr>
              <p:cNvPr id="1053" name="椭圆 6"/>
              <p:cNvSpPr/>
              <p:nvPr/>
            </p:nvSpPr>
            <p:spPr>
              <a:xfrm>
                <a:off x="253440" y="178920"/>
                <a:ext cx="1206720" cy="120672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grpSp>
            <p:nvGrpSpPr>
              <p:cNvPr id="1054" name="组合 7"/>
              <p:cNvGrpSpPr/>
              <p:nvPr/>
            </p:nvGrpSpPr>
            <p:grpSpPr>
              <a:xfrm>
                <a:off x="442440" y="277200"/>
                <a:ext cx="829080" cy="1010520"/>
                <a:chOff x="442440" y="277200"/>
                <a:chExt cx="829080" cy="1010520"/>
              </a:xfrm>
            </p:grpSpPr>
            <p:sp>
              <p:nvSpPr>
                <p:cNvPr id="1055" name="Freeform 17"/>
                <p:cNvSpPr/>
                <p:nvPr/>
              </p:nvSpPr>
              <p:spPr>
                <a:xfrm>
                  <a:off x="850320" y="277200"/>
                  <a:ext cx="421200" cy="54648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546480"/>
                    <a:gd name="textAreaBottom" fmla="*/ 546840 h 54648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1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1"/>
                        <a:pt x="2" y="0"/>
                        <a:pt x="4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6" y="1"/>
                        <a:pt x="7" y="2"/>
                        <a:pt x="7" y="3"/>
                      </a:cubicBezTo>
                      <a:cubicBezTo>
                        <a:pt x="7" y="4"/>
                        <a:pt x="7" y="4"/>
                        <a:pt x="8" y="4"/>
                      </a:cubicBezTo>
                      <a:cubicBezTo>
                        <a:pt x="9" y="4"/>
                        <a:pt x="10" y="5"/>
                        <a:pt x="10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8"/>
                        <a:pt x="12" y="9"/>
                        <a:pt x="12" y="10"/>
                      </a:cubicBezTo>
                      <a:cubicBezTo>
                        <a:pt x="12" y="12"/>
                        <a:pt x="11" y="14"/>
                        <a:pt x="9" y="12"/>
                      </a:cubicBezTo>
                      <a:cubicBezTo>
                        <a:pt x="9" y="12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7" y="10"/>
                        <a:pt x="7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8" y="9"/>
                        <a:pt x="7" y="9"/>
                        <a:pt x="7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8"/>
                      </a:cubicBezTo>
                      <a:cubicBezTo>
                        <a:pt x="7" y="8"/>
                        <a:pt x="7" y="8"/>
                        <a:pt x="7" y="9"/>
                      </a:cubicBezTo>
                      <a:cubicBezTo>
                        <a:pt x="7" y="9"/>
                        <a:pt x="7" y="9"/>
                        <a:pt x="7" y="10"/>
                      </a:cubicBezTo>
                      <a:cubicBezTo>
                        <a:pt x="7" y="10"/>
                        <a:pt x="7" y="10"/>
                        <a:pt x="7" y="11"/>
                      </a:cubicBezTo>
                      <a:cubicBezTo>
                        <a:pt x="7" y="11"/>
                        <a:pt x="7" y="11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5" y="12"/>
                        <a:pt x="5" y="10"/>
                        <a:pt x="4" y="9"/>
                      </a:cubicBezTo>
                      <a:cubicBezTo>
                        <a:pt x="4" y="9"/>
                        <a:pt x="4" y="9"/>
                        <a:pt x="4" y="8"/>
                      </a:cubicBezTo>
                      <a:cubicBezTo>
                        <a:pt x="5" y="7"/>
                        <a:pt x="5" y="6"/>
                        <a:pt x="5" y="5"/>
                      </a:cubicBezTo>
                      <a:cubicBezTo>
                        <a:pt x="4" y="5"/>
                        <a:pt x="4" y="5"/>
                        <a:pt x="5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3" y="5"/>
                        <a:pt x="3" y="4"/>
                      </a:cubicBezTo>
                      <a:cubicBezTo>
                        <a:pt x="2" y="4"/>
                        <a:pt x="2" y="4"/>
                        <a:pt x="2" y="5"/>
                      </a:cubicBezTo>
                      <a:cubicBezTo>
                        <a:pt x="2" y="5"/>
                        <a:pt x="2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6"/>
                        <a:pt x="4" y="7"/>
                        <a:pt x="4" y="8"/>
                      </a:cubicBezTo>
                      <a:cubicBezTo>
                        <a:pt x="3" y="8"/>
                        <a:pt x="3" y="8"/>
                        <a:pt x="4" y="9"/>
                      </a:cubicBezTo>
                      <a:cubicBezTo>
                        <a:pt x="5" y="11"/>
                        <a:pt x="3" y="13"/>
                        <a:pt x="1" y="12"/>
                      </a:cubicBezTo>
                      <a:cubicBezTo>
                        <a:pt x="0" y="11"/>
                        <a:pt x="0" y="9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56" name="Freeform 16"/>
                <p:cNvSpPr/>
                <p:nvPr/>
              </p:nvSpPr>
              <p:spPr>
                <a:xfrm>
                  <a:off x="442440" y="286560"/>
                  <a:ext cx="456840" cy="50760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507600"/>
                    <a:gd name="textAreaBottom" fmla="*/ 507960 h 5076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8" y="10"/>
                      </a:moveTo>
                      <a:cubicBezTo>
                        <a:pt x="8" y="10"/>
                        <a:pt x="7" y="10"/>
                        <a:pt x="7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7"/>
                        <a:pt x="6" y="6"/>
                        <a:pt x="6" y="5"/>
                      </a:cubicBezTo>
                      <a:cubicBezTo>
                        <a:pt x="7" y="5"/>
                        <a:pt x="7" y="5"/>
                        <a:pt x="7" y="6"/>
                      </a:cubicBezTo>
                      <a:cubicBezTo>
                        <a:pt x="8" y="6"/>
                        <a:pt x="8" y="6"/>
                        <a:pt x="8" y="7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8" y="3"/>
                        <a:pt x="8" y="3"/>
                      </a:cubicBezTo>
                      <a:cubicBezTo>
                        <a:pt x="8" y="3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5"/>
                      </a:cubicBezTo>
                      <a:cubicBezTo>
                        <a:pt x="5" y="5"/>
                        <a:pt x="5" y="7"/>
                        <a:pt x="6" y="8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9"/>
                        <a:pt x="5" y="9"/>
                        <a:pt x="4" y="10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3" y="13"/>
                        <a:pt x="3" y="13"/>
                        <a:pt x="2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9"/>
                        <a:pt x="1" y="8"/>
                        <a:pt x="2" y="7"/>
                      </a:cubicBezTo>
                      <a:cubicBezTo>
                        <a:pt x="2" y="7"/>
                        <a:pt x="2" y="7"/>
                        <a:pt x="2" y="6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4"/>
                        <a:pt x="5" y="4"/>
                        <a:pt x="5" y="3"/>
                      </a:cubicBezTo>
                      <a:cubicBezTo>
                        <a:pt x="5" y="2"/>
                        <a:pt x="6" y="1"/>
                        <a:pt x="7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0" y="0"/>
                        <a:pt x="13" y="2"/>
                        <a:pt x="11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2" y="7"/>
                        <a:pt x="12" y="10"/>
                        <a:pt x="10" y="9"/>
                      </a:cubicBezTo>
                      <a:cubicBezTo>
                        <a:pt x="9" y="9"/>
                        <a:pt x="9" y="9"/>
                        <a:pt x="8" y="10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57" name="Freeform 19"/>
                <p:cNvSpPr/>
                <p:nvPr/>
              </p:nvSpPr>
              <p:spPr>
                <a:xfrm>
                  <a:off x="653400" y="677160"/>
                  <a:ext cx="210600" cy="116640"/>
                </a:xfrm>
                <a:custGeom>
                  <a:avLst/>
                  <a:gdLst>
                    <a:gd name="textAreaLeft" fmla="*/ 0 w 210600"/>
                    <a:gd name="textAreaRight" fmla="*/ 210960 w 2106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6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3"/>
                        <a:pt x="4" y="2"/>
                        <a:pt x="2" y="3"/>
                      </a:cubicBezTo>
                      <a:close/>
                    </a:path>
                  </a:pathLst>
                </a:custGeom>
                <a:solidFill>
                  <a:schemeClr val="accent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58" name="任意多边形 11"/>
                <p:cNvSpPr/>
                <p:nvPr/>
              </p:nvSpPr>
              <p:spPr>
                <a:xfrm>
                  <a:off x="470520" y="777240"/>
                  <a:ext cx="799560" cy="510480"/>
                </a:xfrm>
                <a:custGeom>
                  <a:avLst/>
                  <a:gdLst>
                    <a:gd name="textAreaLeft" fmla="*/ 0 w 799560"/>
                    <a:gd name="textAreaRight" fmla="*/ 799920 w 79956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3713312" h="2370974">
                      <a:moveTo>
                        <a:pt x="0" y="0"/>
                      </a:moveTo>
                      <a:lnTo>
                        <a:pt x="3713312" y="0"/>
                      </a:lnTo>
                      <a:lnTo>
                        <a:pt x="3702869" y="86603"/>
                      </a:lnTo>
                      <a:cubicBezTo>
                        <a:pt x="3685788" y="188493"/>
                        <a:pt x="3660167" y="287034"/>
                        <a:pt x="3630275" y="378878"/>
                      </a:cubicBezTo>
                      <a:cubicBezTo>
                        <a:pt x="3570492" y="539606"/>
                        <a:pt x="3502169" y="677373"/>
                        <a:pt x="3448792" y="774957"/>
                      </a:cubicBezTo>
                      <a:lnTo>
                        <a:pt x="3442867" y="785466"/>
                      </a:lnTo>
                      <a:lnTo>
                        <a:pt x="3435953" y="922398"/>
                      </a:lnTo>
                      <a:cubicBezTo>
                        <a:pt x="3353322" y="1736041"/>
                        <a:pt x="2666174" y="2370974"/>
                        <a:pt x="1830729" y="2370974"/>
                      </a:cubicBezTo>
                      <a:cubicBezTo>
                        <a:pt x="939588" y="2370974"/>
                        <a:pt x="217175" y="1648561"/>
                        <a:pt x="217175" y="757421"/>
                      </a:cubicBezTo>
                      <a:lnTo>
                        <a:pt x="219301" y="701323"/>
                      </a:lnTo>
                      <a:lnTo>
                        <a:pt x="217572" y="698461"/>
                      </a:lnTo>
                      <a:cubicBezTo>
                        <a:pt x="176475" y="625519"/>
                        <a:pt x="62382" y="362363"/>
                        <a:pt x="4783" y="33206"/>
                      </a:cubicBezTo>
                      <a:close/>
                    </a:path>
                  </a:pathLst>
                </a:custGeom>
                <a:noFill/>
                <a:ln w="60325">
                  <a:solidFill>
                    <a:srgbClr val="2d2d2d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59" name="弦形 12"/>
                <p:cNvSpPr/>
                <p:nvPr/>
              </p:nvSpPr>
              <p:spPr>
                <a:xfrm>
                  <a:off x="5695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060" name="弦形 13"/>
                <p:cNvSpPr/>
                <p:nvPr/>
              </p:nvSpPr>
              <p:spPr>
                <a:xfrm>
                  <a:off x="9007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grpSp>
              <p:nvGrpSpPr>
                <p:cNvPr id="1061" name="组合 14"/>
                <p:cNvGrpSpPr/>
                <p:nvPr/>
              </p:nvGrpSpPr>
              <p:grpSpPr>
                <a:xfrm>
                  <a:off x="521640" y="780120"/>
                  <a:ext cx="702360" cy="151200"/>
                  <a:chOff x="521640" y="780120"/>
                  <a:chExt cx="702360" cy="151200"/>
                </a:xfrm>
              </p:grpSpPr>
              <p:sp>
                <p:nvSpPr>
                  <p:cNvPr id="1062" name="圆角矩形 25"/>
                  <p:cNvSpPr/>
                  <p:nvPr/>
                </p:nvSpPr>
                <p:spPr>
                  <a:xfrm>
                    <a:off x="521640" y="840600"/>
                    <a:ext cx="702360" cy="21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63" name="圆角矩形 26"/>
                  <p:cNvSpPr/>
                  <p:nvPr/>
                </p:nvSpPr>
                <p:spPr>
                  <a:xfrm rot="5400000">
                    <a:off x="549000" y="838800"/>
                    <a:ext cx="73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64" name="圆角矩形 27"/>
                  <p:cNvSpPr/>
                  <p:nvPr/>
                </p:nvSpPr>
                <p:spPr>
                  <a:xfrm rot="5400000">
                    <a:off x="598680" y="8388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65" name="圆角矩形 28"/>
                  <p:cNvSpPr/>
                  <p:nvPr/>
                </p:nvSpPr>
                <p:spPr>
                  <a:xfrm rot="5400000">
                    <a:off x="659880" y="839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66" name="圆角矩形 29"/>
                  <p:cNvSpPr/>
                  <p:nvPr/>
                </p:nvSpPr>
                <p:spPr>
                  <a:xfrm rot="5400000">
                    <a:off x="736560" y="8352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67" name="圆角矩形 30"/>
                  <p:cNvSpPr/>
                  <p:nvPr/>
                </p:nvSpPr>
                <p:spPr>
                  <a:xfrm rot="5400000">
                    <a:off x="793080" y="844560"/>
                    <a:ext cx="1440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68" name="圆角矩形 31"/>
                  <p:cNvSpPr/>
                  <p:nvPr/>
                </p:nvSpPr>
                <p:spPr>
                  <a:xfrm rot="5400000">
                    <a:off x="893160" y="830520"/>
                    <a:ext cx="1306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69" name="圆角矩形 32"/>
                  <p:cNvSpPr/>
                  <p:nvPr/>
                </p:nvSpPr>
                <p:spPr>
                  <a:xfrm rot="5400000">
                    <a:off x="993960" y="840600"/>
                    <a:ext cx="81000" cy="2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2240" bIns="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70" name="圆角矩形 33"/>
                  <p:cNvSpPr/>
                  <p:nvPr/>
                </p:nvSpPr>
                <p:spPr>
                  <a:xfrm rot="5400000">
                    <a:off x="1027440" y="844560"/>
                    <a:ext cx="118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71" name="圆角矩形 34"/>
                  <p:cNvSpPr/>
                  <p:nvPr/>
                </p:nvSpPr>
                <p:spPr>
                  <a:xfrm rot="5400000">
                    <a:off x="1131120" y="830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072" name="组合 15"/>
                <p:cNvGrpSpPr/>
                <p:nvPr/>
              </p:nvGrpSpPr>
              <p:grpSpPr>
                <a:xfrm>
                  <a:off x="955800" y="1097640"/>
                  <a:ext cx="147240" cy="105120"/>
                  <a:chOff x="955800" y="1097640"/>
                  <a:chExt cx="147240" cy="105120"/>
                </a:xfrm>
              </p:grpSpPr>
              <p:sp>
                <p:nvSpPr>
                  <p:cNvPr id="1073" name="圆角矩形 21"/>
                  <p:cNvSpPr/>
                  <p:nvPr/>
                </p:nvSpPr>
                <p:spPr>
                  <a:xfrm rot="12242400">
                    <a:off x="951840" y="1146600"/>
                    <a:ext cx="15516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74" name="圆角矩形 22"/>
                  <p:cNvSpPr/>
                  <p:nvPr/>
                </p:nvSpPr>
                <p:spPr>
                  <a:xfrm rot="17643000">
                    <a:off x="1042200" y="1159200"/>
                    <a:ext cx="604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75" name="圆角矩形 23"/>
                  <p:cNvSpPr/>
                  <p:nvPr/>
                </p:nvSpPr>
                <p:spPr>
                  <a:xfrm rot="17643000">
                    <a:off x="996120" y="114156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76" name="圆角矩形 24"/>
                  <p:cNvSpPr/>
                  <p:nvPr/>
                </p:nvSpPr>
                <p:spPr>
                  <a:xfrm rot="17643000">
                    <a:off x="951480" y="112392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077" name="组合 16"/>
                <p:cNvGrpSpPr/>
                <p:nvPr/>
              </p:nvGrpSpPr>
              <p:grpSpPr>
                <a:xfrm>
                  <a:off x="579600" y="1070640"/>
                  <a:ext cx="122040" cy="133560"/>
                  <a:chOff x="579600" y="1070640"/>
                  <a:chExt cx="122040" cy="133560"/>
                </a:xfrm>
              </p:grpSpPr>
              <p:sp>
                <p:nvSpPr>
                  <p:cNvPr id="1078" name="圆角矩形 17"/>
                  <p:cNvSpPr/>
                  <p:nvPr/>
                </p:nvSpPr>
                <p:spPr>
                  <a:xfrm rot="14032200">
                    <a:off x="565200" y="1130760"/>
                    <a:ext cx="15408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79" name="圆角矩形 18"/>
                  <p:cNvSpPr/>
                  <p:nvPr/>
                </p:nvSpPr>
                <p:spPr>
                  <a:xfrm rot="19432200">
                    <a:off x="640080" y="1162440"/>
                    <a:ext cx="604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80" name="圆角矩形 19"/>
                  <p:cNvSpPr/>
                  <p:nvPr/>
                </p:nvSpPr>
                <p:spPr>
                  <a:xfrm rot="19432200">
                    <a:off x="608400" y="112752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081" name="圆角矩形 20"/>
                  <p:cNvSpPr/>
                  <p:nvPr/>
                </p:nvSpPr>
                <p:spPr>
                  <a:xfrm rot="19432200">
                    <a:off x="578880" y="109008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</p:grpSp>
        </p:grpSp>
      </p:grpSp>
      <p:sp>
        <p:nvSpPr>
          <p:cNvPr id="1082" name="矩形 35"/>
          <p:cNvSpPr/>
          <p:nvPr/>
        </p:nvSpPr>
        <p:spPr>
          <a:xfrm>
            <a:off x="4323240" y="459360"/>
            <a:ext cx="354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持安静，等它们离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组合 187"/>
          <p:cNvGrpSpPr/>
          <p:nvPr/>
        </p:nvGrpSpPr>
        <p:grpSpPr>
          <a:xfrm>
            <a:off x="5677200" y="4402440"/>
            <a:ext cx="2670840" cy="2060640"/>
            <a:chOff x="5677200" y="4402440"/>
            <a:chExt cx="2670840" cy="2060640"/>
          </a:xfrm>
        </p:grpSpPr>
        <p:sp>
          <p:nvSpPr>
            <p:cNvPr id="1084" name="椭圆 72"/>
            <p:cNvSpPr/>
            <p:nvPr/>
          </p:nvSpPr>
          <p:spPr>
            <a:xfrm>
              <a:off x="6042240" y="6297120"/>
              <a:ext cx="2305800" cy="16596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1085" name="组合 109"/>
            <p:cNvGrpSpPr/>
            <p:nvPr/>
          </p:nvGrpSpPr>
          <p:grpSpPr>
            <a:xfrm>
              <a:off x="5677200" y="4402440"/>
              <a:ext cx="2606760" cy="2020320"/>
              <a:chOff x="5677200" y="4402440"/>
              <a:chExt cx="2606760" cy="2020320"/>
            </a:xfrm>
          </p:grpSpPr>
          <p:sp>
            <p:nvSpPr>
              <p:cNvPr id="1086" name="Freeform 30"/>
              <p:cNvSpPr/>
              <p:nvPr/>
            </p:nvSpPr>
            <p:spPr>
              <a:xfrm flipH="1" flipV="1">
                <a:off x="6432480" y="4881240"/>
                <a:ext cx="1695960" cy="1476000"/>
              </a:xfrm>
              <a:custGeom>
                <a:avLst/>
                <a:gdLst>
                  <a:gd name="textAreaLeft" fmla="*/ -360 w 1695960"/>
                  <a:gd name="textAreaRight" fmla="*/ 1695960 w 1695960"/>
                  <a:gd name="textAreaTop" fmla="*/ 360 h 1476000"/>
                  <a:gd name="textAreaBottom" fmla="*/ 1476720 h 1476000"/>
                </a:gdLst>
                <a:ahLst/>
                <a:rect l="textAreaLeft" t="textAreaTop" r="textAreaRight" b="textAreaBottom"/>
                <a:pathLst>
                  <a:path w="10104" h="9459">
                    <a:moveTo>
                      <a:pt x="7153" y="9192"/>
                    </a:moveTo>
                    <a:cubicBezTo>
                      <a:pt x="9247" y="10330"/>
                      <a:pt x="11368" y="7540"/>
                      <a:pt x="9184" y="6421"/>
                    </a:cubicBezTo>
                    <a:cubicBezTo>
                      <a:pt x="9316" y="7141"/>
                      <a:pt x="9506" y="8043"/>
                      <a:pt x="8896" y="8585"/>
                    </a:cubicBezTo>
                    <a:cubicBezTo>
                      <a:pt x="8276" y="9295"/>
                      <a:pt x="7085" y="9026"/>
                      <a:pt x="6735" y="8149"/>
                    </a:cubicBezTo>
                    <a:cubicBezTo>
                      <a:pt x="6367" y="6918"/>
                      <a:pt x="6367" y="5586"/>
                      <a:pt x="5981" y="4368"/>
                    </a:cubicBezTo>
                    <a:cubicBezTo>
                      <a:pt x="5493" y="3932"/>
                      <a:pt x="4924" y="3614"/>
                      <a:pt x="4384" y="3254"/>
                    </a:cubicBezTo>
                    <a:cubicBezTo>
                      <a:pt x="4740" y="2596"/>
                      <a:pt x="5205" y="1991"/>
                      <a:pt x="5453" y="1270"/>
                    </a:cubicBezTo>
                    <a:cubicBezTo>
                      <a:pt x="5534" y="405"/>
                      <a:pt x="4655" y="-123"/>
                      <a:pt x="3954" y="26"/>
                    </a:cubicBezTo>
                    <a:cubicBezTo>
                      <a:pt x="2874" y="180"/>
                      <a:pt x="1790" y="-12"/>
                      <a:pt x="716" y="44"/>
                    </a:cubicBezTo>
                    <a:cubicBezTo>
                      <a:pt x="-232" y="213"/>
                      <a:pt x="-237" y="1998"/>
                      <a:pt x="693" y="2184"/>
                    </a:cubicBezTo>
                    <a:cubicBezTo>
                      <a:pt x="1314" y="2246"/>
                      <a:pt x="1934" y="2209"/>
                      <a:pt x="2551" y="2221"/>
                    </a:cubicBezTo>
                    <a:cubicBezTo>
                      <a:pt x="1890" y="3527"/>
                      <a:pt x="1795" y="4661"/>
                      <a:pt x="3110" y="6092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87" name="Freeform 31"/>
              <p:cNvSpPr/>
              <p:nvPr/>
            </p:nvSpPr>
            <p:spPr>
              <a:xfrm flipH="1" flipV="1">
                <a:off x="6191280" y="5005080"/>
                <a:ext cx="2052000" cy="1417680"/>
              </a:xfrm>
              <a:custGeom>
                <a:avLst/>
                <a:gdLst>
                  <a:gd name="textAreaLeft" fmla="*/ 360 w 2052000"/>
                  <a:gd name="textAreaRight" fmla="*/ 2052720 w 2052000"/>
                  <a:gd name="textAreaTop" fmla="*/ 360 h 1417680"/>
                  <a:gd name="textAreaBottom" fmla="*/ 1418400 h 1417680"/>
                </a:gdLst>
                <a:ahLst/>
                <a:rect l="textAreaLeft" t="textAreaTop" r="textAreaRight" b="textAreaBottom"/>
                <a:pathLst>
                  <a:path w="2125" h="1461">
                    <a:moveTo>
                      <a:pt x="1362" y="1298"/>
                    </a:moveTo>
                    <a:cubicBezTo>
                      <a:pt x="1373" y="1461"/>
                      <a:pt x="1640" y="1450"/>
                      <a:pt x="1640" y="1288"/>
                    </a:cubicBezTo>
                    <a:cubicBezTo>
                      <a:pt x="1615" y="1074"/>
                      <a:pt x="1562" y="864"/>
                      <a:pt x="1527" y="651"/>
                    </a:cubicBezTo>
                    <a:cubicBezTo>
                      <a:pt x="1630" y="537"/>
                      <a:pt x="1740" y="430"/>
                      <a:pt x="1843" y="316"/>
                    </a:cubicBezTo>
                    <a:cubicBezTo>
                      <a:pt x="1923" y="246"/>
                      <a:pt x="1899" y="77"/>
                      <a:pt x="1772" y="87"/>
                    </a:cubicBezTo>
                    <a:cubicBezTo>
                      <a:pt x="1798" y="71"/>
                      <a:pt x="1825" y="56"/>
                      <a:pt x="1852" y="41"/>
                    </a:cubicBezTo>
                    <a:cubicBezTo>
                      <a:pt x="2072" y="237"/>
                      <a:pt x="1786" y="416"/>
                      <a:pt x="1660" y="560"/>
                    </a:cubicBezTo>
                    <a:cubicBezTo>
                      <a:pt x="1522" y="658"/>
                      <a:pt x="1628" y="827"/>
                      <a:pt x="1637" y="961"/>
                    </a:cubicBezTo>
                    <a:cubicBezTo>
                      <a:pt x="1673" y="983"/>
                      <a:pt x="1709" y="1005"/>
                      <a:pt x="1745" y="1027"/>
                    </a:cubicBezTo>
                    <a:cubicBezTo>
                      <a:pt x="1720" y="902"/>
                      <a:pt x="1698" y="777"/>
                      <a:pt x="1676" y="651"/>
                    </a:cubicBezTo>
                    <a:cubicBezTo>
                      <a:pt x="1789" y="517"/>
                      <a:pt x="1929" y="405"/>
                      <a:pt x="2028" y="259"/>
                    </a:cubicBezTo>
                    <a:cubicBezTo>
                      <a:pt x="2072" y="153"/>
                      <a:pt x="1968" y="80"/>
                      <a:pt x="1883" y="47"/>
                    </a:cubicBezTo>
                    <a:cubicBezTo>
                      <a:pt x="1963" y="50"/>
                      <a:pt x="2044" y="51"/>
                      <a:pt x="2125" y="52"/>
                    </a:cubicBezTo>
                    <a:lnTo>
                      <a:pt x="2121" y="5"/>
                    </a:lnTo>
                    <a:cubicBezTo>
                      <a:pt x="1435" y="8"/>
                      <a:pt x="749" y="0"/>
                      <a:pt x="64" y="8"/>
                    </a:cubicBezTo>
                    <a:cubicBezTo>
                      <a:pt x="48" y="16"/>
                      <a:pt x="16" y="33"/>
                      <a:pt x="0" y="41"/>
                    </a:cubicBezTo>
                    <a:cubicBezTo>
                      <a:pt x="571" y="87"/>
                      <a:pt x="1142" y="36"/>
                      <a:pt x="1715" y="51"/>
                    </a:cubicBezTo>
                    <a:cubicBezTo>
                      <a:pt x="1549" y="214"/>
                      <a:pt x="1378" y="376"/>
                      <a:pt x="1236" y="559"/>
                    </a:cubicBezTo>
                    <a:cubicBezTo>
                      <a:pt x="1250" y="808"/>
                      <a:pt x="1317" y="1053"/>
                      <a:pt x="1362" y="129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88" name="Freeform 32"/>
              <p:cNvSpPr/>
              <p:nvPr/>
            </p:nvSpPr>
            <p:spPr>
              <a:xfrm flipH="1" flipV="1">
                <a:off x="7807320" y="5877720"/>
                <a:ext cx="476280" cy="357840"/>
              </a:xfrm>
              <a:custGeom>
                <a:avLst/>
                <a:gdLst>
                  <a:gd name="textAreaLeft" fmla="*/ -360 w 476280"/>
                  <a:gd name="textAreaRight" fmla="*/ 476280 w 476280"/>
                  <a:gd name="textAreaTop" fmla="*/ 360 h 357840"/>
                  <a:gd name="textAreaBottom" fmla="*/ 358560 h 357840"/>
                </a:gdLst>
                <a:ahLst/>
                <a:rect l="textAreaLeft" t="textAreaTop" r="textAreaRight" b="textAreaBottom"/>
                <a:pathLst>
                  <a:path w="493" h="369">
                    <a:moveTo>
                      <a:pt x="127" y="338"/>
                    </a:moveTo>
                    <a:cubicBezTo>
                      <a:pt x="231" y="369"/>
                      <a:pt x="345" y="347"/>
                      <a:pt x="453" y="353"/>
                    </a:cubicBezTo>
                    <a:cubicBezTo>
                      <a:pt x="463" y="335"/>
                      <a:pt x="483" y="300"/>
                      <a:pt x="493" y="283"/>
                    </a:cubicBezTo>
                    <a:cubicBezTo>
                      <a:pt x="294" y="327"/>
                      <a:pt x="48" y="255"/>
                      <a:pt x="114" y="0"/>
                    </a:cubicBezTo>
                    <a:cubicBezTo>
                      <a:pt x="33" y="91"/>
                      <a:pt x="0" y="270"/>
                      <a:pt x="127" y="338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89" name="椭圆 113"/>
              <p:cNvSpPr/>
              <p:nvPr/>
            </p:nvSpPr>
            <p:spPr>
              <a:xfrm flipH="1">
                <a:off x="5676840" y="4402440"/>
                <a:ext cx="817560" cy="81756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  <p:sp>
          <p:nvSpPr>
            <p:cNvPr id="1090" name="矩形 71"/>
            <p:cNvSpPr/>
            <p:nvPr/>
          </p:nvSpPr>
          <p:spPr>
            <a:xfrm>
              <a:off x="6191280" y="6357960"/>
              <a:ext cx="2052000" cy="65160"/>
            </a:xfrm>
            <a:prstGeom prst="rect">
              <a:avLst/>
            </a:prstGeom>
            <a:solidFill>
              <a:srgbClr val="d9d9d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091" name="Freeform 6"/>
          <p:cNvSpPr/>
          <p:nvPr/>
        </p:nvSpPr>
        <p:spPr>
          <a:xfrm flipH="1" rot="20711400">
            <a:off x="10042560" y="4618440"/>
            <a:ext cx="1293480" cy="1900080"/>
          </a:xfrm>
          <a:custGeom>
            <a:avLst/>
            <a:gdLst>
              <a:gd name="textAreaLeft" fmla="*/ -360 w 1293480"/>
              <a:gd name="textAreaRight" fmla="*/ 1293480 w 1293480"/>
              <a:gd name="textAreaTop" fmla="*/ 0 h 1900080"/>
              <a:gd name="textAreaBottom" fmla="*/ 1900440 h 1900080"/>
            </a:gdLst>
            <a:ahLst/>
            <a:rect l="textAreaLeft" t="textAreaTop" r="textAreaRight" b="textAreaBottom"/>
            <a:pathLst>
              <a:path w="1236" h="1950">
                <a:moveTo>
                  <a:pt x="198" y="9"/>
                </a:moveTo>
                <a:cubicBezTo>
                  <a:pt x="228" y="6"/>
                  <a:pt x="258" y="0"/>
                  <a:pt x="287" y="6"/>
                </a:cubicBezTo>
                <a:cubicBezTo>
                  <a:pt x="352" y="17"/>
                  <a:pt x="413" y="51"/>
                  <a:pt x="455" y="101"/>
                </a:cubicBezTo>
                <a:cubicBezTo>
                  <a:pt x="499" y="101"/>
                  <a:pt x="543" y="99"/>
                  <a:pt x="586" y="101"/>
                </a:cubicBezTo>
                <a:cubicBezTo>
                  <a:pt x="620" y="114"/>
                  <a:pt x="653" y="131"/>
                  <a:pt x="687" y="146"/>
                </a:cubicBezTo>
                <a:cubicBezTo>
                  <a:pt x="699" y="126"/>
                  <a:pt x="707" y="104"/>
                  <a:pt x="718" y="84"/>
                </a:cubicBezTo>
                <a:cubicBezTo>
                  <a:pt x="788" y="81"/>
                  <a:pt x="858" y="77"/>
                  <a:pt x="928" y="74"/>
                </a:cubicBezTo>
                <a:cubicBezTo>
                  <a:pt x="961" y="70"/>
                  <a:pt x="994" y="73"/>
                  <a:pt x="1027" y="69"/>
                </a:cubicBezTo>
                <a:cubicBezTo>
                  <a:pt x="1056" y="66"/>
                  <a:pt x="1085" y="68"/>
                  <a:pt x="1114" y="64"/>
                </a:cubicBezTo>
                <a:cubicBezTo>
                  <a:pt x="1152" y="59"/>
                  <a:pt x="1191" y="75"/>
                  <a:pt x="1214" y="106"/>
                </a:cubicBezTo>
                <a:cubicBezTo>
                  <a:pt x="1226" y="124"/>
                  <a:pt x="1235" y="144"/>
                  <a:pt x="1233" y="166"/>
                </a:cubicBezTo>
                <a:cubicBezTo>
                  <a:pt x="1236" y="203"/>
                  <a:pt x="1214" y="239"/>
                  <a:pt x="1183" y="258"/>
                </a:cubicBezTo>
                <a:cubicBezTo>
                  <a:pt x="1145" y="279"/>
                  <a:pt x="1100" y="274"/>
                  <a:pt x="1058" y="276"/>
                </a:cubicBezTo>
                <a:cubicBezTo>
                  <a:pt x="970" y="282"/>
                  <a:pt x="882" y="282"/>
                  <a:pt x="794" y="290"/>
                </a:cubicBezTo>
                <a:cubicBezTo>
                  <a:pt x="729" y="292"/>
                  <a:pt x="663" y="298"/>
                  <a:pt x="598" y="301"/>
                </a:cubicBezTo>
                <a:cubicBezTo>
                  <a:pt x="564" y="304"/>
                  <a:pt x="530" y="303"/>
                  <a:pt x="496" y="309"/>
                </a:cubicBezTo>
                <a:cubicBezTo>
                  <a:pt x="496" y="393"/>
                  <a:pt x="495" y="476"/>
                  <a:pt x="494" y="560"/>
                </a:cubicBezTo>
                <a:cubicBezTo>
                  <a:pt x="470" y="560"/>
                  <a:pt x="446" y="560"/>
                  <a:pt x="422" y="561"/>
                </a:cubicBezTo>
                <a:cubicBezTo>
                  <a:pt x="437" y="600"/>
                  <a:pt x="458" y="636"/>
                  <a:pt x="473" y="675"/>
                </a:cubicBezTo>
                <a:cubicBezTo>
                  <a:pt x="450" y="684"/>
                  <a:pt x="428" y="694"/>
                  <a:pt x="405" y="702"/>
                </a:cubicBezTo>
                <a:cubicBezTo>
                  <a:pt x="390" y="708"/>
                  <a:pt x="373" y="713"/>
                  <a:pt x="359" y="723"/>
                </a:cubicBezTo>
                <a:cubicBezTo>
                  <a:pt x="403" y="730"/>
                  <a:pt x="448" y="727"/>
                  <a:pt x="493" y="732"/>
                </a:cubicBezTo>
                <a:cubicBezTo>
                  <a:pt x="490" y="787"/>
                  <a:pt x="488" y="841"/>
                  <a:pt x="478" y="895"/>
                </a:cubicBezTo>
                <a:cubicBezTo>
                  <a:pt x="570" y="956"/>
                  <a:pt x="662" y="1014"/>
                  <a:pt x="754" y="1074"/>
                </a:cubicBezTo>
                <a:cubicBezTo>
                  <a:pt x="764" y="1081"/>
                  <a:pt x="768" y="1092"/>
                  <a:pt x="774" y="1102"/>
                </a:cubicBezTo>
                <a:cubicBezTo>
                  <a:pt x="783" y="1124"/>
                  <a:pt x="795" y="1144"/>
                  <a:pt x="805" y="1165"/>
                </a:cubicBezTo>
                <a:cubicBezTo>
                  <a:pt x="823" y="1160"/>
                  <a:pt x="839" y="1146"/>
                  <a:pt x="858" y="1143"/>
                </a:cubicBezTo>
                <a:cubicBezTo>
                  <a:pt x="875" y="1150"/>
                  <a:pt x="889" y="1162"/>
                  <a:pt x="905" y="1171"/>
                </a:cubicBezTo>
                <a:cubicBezTo>
                  <a:pt x="971" y="1214"/>
                  <a:pt x="1038" y="1257"/>
                  <a:pt x="1104" y="1300"/>
                </a:cubicBezTo>
                <a:cubicBezTo>
                  <a:pt x="1130" y="1317"/>
                  <a:pt x="1150" y="1342"/>
                  <a:pt x="1160" y="1371"/>
                </a:cubicBezTo>
                <a:cubicBezTo>
                  <a:pt x="1185" y="1433"/>
                  <a:pt x="1156" y="1510"/>
                  <a:pt x="1098" y="1542"/>
                </a:cubicBezTo>
                <a:cubicBezTo>
                  <a:pt x="1068" y="1561"/>
                  <a:pt x="1031" y="1564"/>
                  <a:pt x="996" y="1559"/>
                </a:cubicBezTo>
                <a:cubicBezTo>
                  <a:pt x="971" y="1555"/>
                  <a:pt x="950" y="1540"/>
                  <a:pt x="929" y="1527"/>
                </a:cubicBezTo>
                <a:cubicBezTo>
                  <a:pt x="746" y="1409"/>
                  <a:pt x="563" y="1290"/>
                  <a:pt x="380" y="1172"/>
                </a:cubicBezTo>
                <a:cubicBezTo>
                  <a:pt x="366" y="1163"/>
                  <a:pt x="352" y="1153"/>
                  <a:pt x="337" y="1147"/>
                </a:cubicBezTo>
                <a:cubicBezTo>
                  <a:pt x="336" y="1366"/>
                  <a:pt x="338" y="1586"/>
                  <a:pt x="337" y="1806"/>
                </a:cubicBezTo>
                <a:cubicBezTo>
                  <a:pt x="337" y="1842"/>
                  <a:pt x="322" y="1878"/>
                  <a:pt x="297" y="1905"/>
                </a:cubicBezTo>
                <a:cubicBezTo>
                  <a:pt x="273" y="1931"/>
                  <a:pt x="239" y="1946"/>
                  <a:pt x="204" y="1950"/>
                </a:cubicBezTo>
                <a:cubicBezTo>
                  <a:pt x="184" y="1950"/>
                  <a:pt x="184" y="1950"/>
                  <a:pt x="184" y="1950"/>
                </a:cubicBezTo>
                <a:cubicBezTo>
                  <a:pt x="152" y="1947"/>
                  <a:pt x="121" y="1933"/>
                  <a:pt x="97" y="1911"/>
                </a:cubicBezTo>
                <a:cubicBezTo>
                  <a:pt x="67" y="1884"/>
                  <a:pt x="50" y="1843"/>
                  <a:pt x="51" y="1802"/>
                </a:cubicBezTo>
                <a:cubicBezTo>
                  <a:pt x="51" y="1697"/>
                  <a:pt x="51" y="1591"/>
                  <a:pt x="51" y="1486"/>
                </a:cubicBezTo>
                <a:cubicBezTo>
                  <a:pt x="67" y="1493"/>
                  <a:pt x="81" y="1504"/>
                  <a:pt x="97" y="1511"/>
                </a:cubicBezTo>
                <a:cubicBezTo>
                  <a:pt x="94" y="1475"/>
                  <a:pt x="87" y="1439"/>
                  <a:pt x="83" y="1403"/>
                </a:cubicBezTo>
                <a:cubicBezTo>
                  <a:pt x="73" y="1402"/>
                  <a:pt x="62" y="1403"/>
                  <a:pt x="52" y="1405"/>
                </a:cubicBezTo>
                <a:cubicBezTo>
                  <a:pt x="50" y="1389"/>
                  <a:pt x="51" y="1374"/>
                  <a:pt x="51" y="1358"/>
                </a:cubicBezTo>
                <a:cubicBezTo>
                  <a:pt x="51" y="1222"/>
                  <a:pt x="51" y="1086"/>
                  <a:pt x="51" y="950"/>
                </a:cubicBezTo>
                <a:cubicBezTo>
                  <a:pt x="52" y="930"/>
                  <a:pt x="31" y="920"/>
                  <a:pt x="25" y="903"/>
                </a:cubicBezTo>
                <a:cubicBezTo>
                  <a:pt x="2" y="866"/>
                  <a:pt x="1" y="821"/>
                  <a:pt x="1" y="778"/>
                </a:cubicBezTo>
                <a:cubicBezTo>
                  <a:pt x="2" y="737"/>
                  <a:pt x="0" y="695"/>
                  <a:pt x="3" y="654"/>
                </a:cubicBezTo>
                <a:cubicBezTo>
                  <a:pt x="18" y="661"/>
                  <a:pt x="32" y="672"/>
                  <a:pt x="49" y="674"/>
                </a:cubicBezTo>
                <a:cubicBezTo>
                  <a:pt x="67" y="633"/>
                  <a:pt x="88" y="593"/>
                  <a:pt x="105" y="551"/>
                </a:cubicBezTo>
                <a:cubicBezTo>
                  <a:pt x="71" y="566"/>
                  <a:pt x="38" y="585"/>
                  <a:pt x="3" y="599"/>
                </a:cubicBezTo>
                <a:cubicBezTo>
                  <a:pt x="2" y="522"/>
                  <a:pt x="3" y="446"/>
                  <a:pt x="3" y="370"/>
                </a:cubicBezTo>
                <a:cubicBezTo>
                  <a:pt x="2" y="348"/>
                  <a:pt x="15" y="331"/>
                  <a:pt x="24" y="312"/>
                </a:cubicBezTo>
                <a:cubicBezTo>
                  <a:pt x="32" y="293"/>
                  <a:pt x="43" y="274"/>
                  <a:pt x="50" y="254"/>
                </a:cubicBezTo>
                <a:cubicBezTo>
                  <a:pt x="33" y="258"/>
                  <a:pt x="18" y="267"/>
                  <a:pt x="3" y="274"/>
                </a:cubicBezTo>
                <a:cubicBezTo>
                  <a:pt x="3" y="243"/>
                  <a:pt x="2" y="213"/>
                  <a:pt x="6" y="182"/>
                </a:cubicBezTo>
                <a:cubicBezTo>
                  <a:pt x="11" y="156"/>
                  <a:pt x="23" y="132"/>
                  <a:pt x="37" y="110"/>
                </a:cubicBezTo>
                <a:cubicBezTo>
                  <a:pt x="76" y="58"/>
                  <a:pt x="135" y="21"/>
                  <a:pt x="198" y="9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1092" name="组合 136"/>
          <p:cNvGrpSpPr/>
          <p:nvPr/>
        </p:nvGrpSpPr>
        <p:grpSpPr>
          <a:xfrm>
            <a:off x="3117960" y="2848680"/>
            <a:ext cx="1089720" cy="2401920"/>
            <a:chOff x="3117960" y="2848680"/>
            <a:chExt cx="1089720" cy="2401920"/>
          </a:xfrm>
        </p:grpSpPr>
        <p:grpSp>
          <p:nvGrpSpPr>
            <p:cNvPr id="1093" name="组合 119"/>
            <p:cNvGrpSpPr/>
            <p:nvPr/>
          </p:nvGrpSpPr>
          <p:grpSpPr>
            <a:xfrm>
              <a:off x="3117960" y="2848680"/>
              <a:ext cx="1089720" cy="2401920"/>
              <a:chOff x="3117960" y="2848680"/>
              <a:chExt cx="1089720" cy="2401920"/>
            </a:xfrm>
          </p:grpSpPr>
          <p:sp>
            <p:nvSpPr>
              <p:cNvPr id="1094" name="Freeform 5"/>
              <p:cNvSpPr/>
              <p:nvPr/>
            </p:nvSpPr>
            <p:spPr>
              <a:xfrm rot="16954200">
                <a:off x="3227400" y="2937960"/>
                <a:ext cx="896760" cy="889560"/>
              </a:xfrm>
              <a:custGeom>
                <a:avLst/>
                <a:gdLst>
                  <a:gd name="textAreaLeft" fmla="*/ 0 w 896760"/>
                  <a:gd name="textAreaRight" fmla="*/ 897120 w 896760"/>
                  <a:gd name="textAreaTop" fmla="*/ 0 h 889560"/>
                  <a:gd name="textAreaBottom" fmla="*/ 889920 h 889560"/>
                </a:gdLst>
                <a:ahLst/>
                <a:rect l="textAreaLeft" t="textAreaTop" r="textAreaRight" b="textAreaBottom"/>
                <a:pathLst>
                  <a:path w="549" h="546">
                    <a:moveTo>
                      <a:pt x="263" y="0"/>
                    </a:moveTo>
                    <a:cubicBezTo>
                      <a:pt x="283" y="0"/>
                      <a:pt x="283" y="0"/>
                      <a:pt x="283" y="0"/>
                    </a:cubicBezTo>
                    <a:cubicBezTo>
                      <a:pt x="325" y="1"/>
                      <a:pt x="367" y="14"/>
                      <a:pt x="404" y="33"/>
                    </a:cubicBezTo>
                    <a:cubicBezTo>
                      <a:pt x="405" y="62"/>
                      <a:pt x="402" y="90"/>
                      <a:pt x="406" y="118"/>
                    </a:cubicBezTo>
                    <a:cubicBezTo>
                      <a:pt x="437" y="118"/>
                      <a:pt x="467" y="118"/>
                      <a:pt x="497" y="118"/>
                    </a:cubicBezTo>
                    <a:cubicBezTo>
                      <a:pt x="521" y="153"/>
                      <a:pt x="536" y="194"/>
                      <a:pt x="542" y="236"/>
                    </a:cubicBezTo>
                    <a:cubicBezTo>
                      <a:pt x="549" y="301"/>
                      <a:pt x="535" y="370"/>
                      <a:pt x="496" y="423"/>
                    </a:cubicBezTo>
                    <a:cubicBezTo>
                      <a:pt x="456" y="482"/>
                      <a:pt x="392" y="524"/>
                      <a:pt x="321" y="535"/>
                    </a:cubicBezTo>
                    <a:cubicBezTo>
                      <a:pt x="254" y="546"/>
                      <a:pt x="183" y="533"/>
                      <a:pt x="126" y="495"/>
                    </a:cubicBezTo>
                    <a:cubicBezTo>
                      <a:pt x="73" y="460"/>
                      <a:pt x="33" y="407"/>
                      <a:pt x="16" y="346"/>
                    </a:cubicBezTo>
                    <a:cubicBezTo>
                      <a:pt x="0" y="298"/>
                      <a:pt x="2" y="245"/>
                      <a:pt x="15" y="197"/>
                    </a:cubicBezTo>
                    <a:cubicBezTo>
                      <a:pt x="41" y="196"/>
                      <a:pt x="66" y="198"/>
                      <a:pt x="91" y="196"/>
                    </a:cubicBezTo>
                    <a:cubicBezTo>
                      <a:pt x="75" y="177"/>
                      <a:pt x="53" y="164"/>
                      <a:pt x="34" y="147"/>
                    </a:cubicBezTo>
                    <a:cubicBezTo>
                      <a:pt x="43" y="133"/>
                      <a:pt x="51" y="118"/>
                      <a:pt x="62" y="105"/>
                    </a:cubicBezTo>
                    <a:cubicBezTo>
                      <a:pt x="109" y="43"/>
                      <a:pt x="185" y="5"/>
                      <a:pt x="263" y="0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95" name="椭圆 36"/>
              <p:cNvSpPr/>
              <p:nvPr/>
            </p:nvSpPr>
            <p:spPr>
              <a:xfrm>
                <a:off x="3117960" y="5137560"/>
                <a:ext cx="1089720" cy="11304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096" name="任意多边形 73"/>
              <p:cNvSpPr/>
              <p:nvPr/>
            </p:nvSpPr>
            <p:spPr>
              <a:xfrm flipV="1">
                <a:off x="3263760" y="3765600"/>
                <a:ext cx="782280" cy="1427400"/>
              </a:xfrm>
              <a:custGeom>
                <a:avLst/>
                <a:gdLst>
                  <a:gd name="textAreaLeft" fmla="*/ 0 w 782280"/>
                  <a:gd name="textAreaRight" fmla="*/ 782640 w 782280"/>
                  <a:gd name="textAreaTop" fmla="*/ -360 h 1427400"/>
                  <a:gd name="textAreaBottom" fmla="*/ 1427400 h 1427400"/>
                </a:gdLst>
                <a:ahLst/>
                <a:rect l="textAreaLeft" t="textAreaTop" r="textAreaRight" b="textAreaBottom"/>
                <a:pathLst>
                  <a:path w="4331715" h="7896091">
                    <a:moveTo>
                      <a:pt x="2986934" y="7893713"/>
                    </a:moveTo>
                    <a:cubicBezTo>
                      <a:pt x="3224718" y="7907927"/>
                      <a:pt x="3435648" y="7858968"/>
                      <a:pt x="3620591" y="7732623"/>
                    </a:cubicBezTo>
                    <a:cubicBezTo>
                      <a:pt x="3698986" y="7677346"/>
                      <a:pt x="3766553" y="7603907"/>
                      <a:pt x="3807267" y="7515466"/>
                    </a:cubicBezTo>
                    <a:cubicBezTo>
                      <a:pt x="3879165" y="7354375"/>
                      <a:pt x="3979649" y="7205919"/>
                      <a:pt x="4045917" y="7042459"/>
                    </a:cubicBezTo>
                    <a:cubicBezTo>
                      <a:pt x="4173688" y="6687902"/>
                      <a:pt x="4249484" y="6317551"/>
                      <a:pt x="4288032" y="5944041"/>
                    </a:cubicBezTo>
                    <a:cubicBezTo>
                      <a:pt x="4343039" y="5360482"/>
                      <a:pt x="4345637" y="4772975"/>
                      <a:pt x="4298427" y="4188626"/>
                    </a:cubicBezTo>
                    <a:cubicBezTo>
                      <a:pt x="4273739" y="3980945"/>
                      <a:pt x="4045917" y="3838017"/>
                      <a:pt x="3846681" y="3897241"/>
                    </a:cubicBezTo>
                    <a:cubicBezTo>
                      <a:pt x="3711980" y="3959625"/>
                      <a:pt x="3599368" y="4094656"/>
                      <a:pt x="3607164" y="4250220"/>
                    </a:cubicBezTo>
                    <a:cubicBezTo>
                      <a:pt x="3650477" y="5001977"/>
                      <a:pt x="3656540" y="5766368"/>
                      <a:pt x="3487623" y="6503911"/>
                    </a:cubicBezTo>
                    <a:cubicBezTo>
                      <a:pt x="3435648" y="6655526"/>
                      <a:pt x="3393635" y="6811878"/>
                      <a:pt x="3323903" y="6955597"/>
                    </a:cubicBezTo>
                    <a:cubicBezTo>
                      <a:pt x="3313941" y="4804561"/>
                      <a:pt x="3323037" y="2652736"/>
                      <a:pt x="3319138" y="500912"/>
                    </a:cubicBezTo>
                    <a:cubicBezTo>
                      <a:pt x="3309177" y="366669"/>
                      <a:pt x="3264565" y="221372"/>
                      <a:pt x="3154119" y="132140"/>
                    </a:cubicBezTo>
                    <a:cubicBezTo>
                      <a:pt x="3046705" y="37381"/>
                      <a:pt x="2897711" y="-7630"/>
                      <a:pt x="2753481" y="1057"/>
                    </a:cubicBezTo>
                    <a:cubicBezTo>
                      <a:pt x="2552946" y="21588"/>
                      <a:pt x="2381863" y="166096"/>
                      <a:pt x="2292207" y="342190"/>
                    </a:cubicBezTo>
                    <a:cubicBezTo>
                      <a:pt x="2250627" y="440108"/>
                      <a:pt x="2255824" y="549081"/>
                      <a:pt x="2256691" y="653316"/>
                    </a:cubicBezTo>
                    <a:cubicBezTo>
                      <a:pt x="2257557" y="1215554"/>
                      <a:pt x="2255824" y="1779372"/>
                      <a:pt x="2256691" y="2343189"/>
                    </a:cubicBezTo>
                    <a:cubicBezTo>
                      <a:pt x="2265786" y="2436369"/>
                      <a:pt x="2265353" y="2527970"/>
                      <a:pt x="2256691" y="2620360"/>
                    </a:cubicBezTo>
                    <a:cubicBezTo>
                      <a:pt x="2256691" y="3211816"/>
                      <a:pt x="2256691" y="3800903"/>
                      <a:pt x="2257557" y="4391569"/>
                    </a:cubicBezTo>
                    <a:lnTo>
                      <a:pt x="2082143" y="4392359"/>
                    </a:lnTo>
                    <a:cubicBezTo>
                      <a:pt x="2077811" y="3933566"/>
                      <a:pt x="2081276" y="3477142"/>
                      <a:pt x="2080410" y="3019929"/>
                    </a:cubicBezTo>
                    <a:cubicBezTo>
                      <a:pt x="2078677" y="2910166"/>
                      <a:pt x="2087340" y="2800403"/>
                      <a:pt x="2069149" y="2694588"/>
                    </a:cubicBezTo>
                    <a:cubicBezTo>
                      <a:pt x="2076079" y="2649578"/>
                      <a:pt x="2080410" y="2604567"/>
                      <a:pt x="2081276" y="2561136"/>
                    </a:cubicBezTo>
                    <a:cubicBezTo>
                      <a:pt x="2079544" y="1894662"/>
                      <a:pt x="2080410" y="1228189"/>
                      <a:pt x="2080410" y="562505"/>
                    </a:cubicBezTo>
                    <a:cubicBezTo>
                      <a:pt x="2112894" y="210317"/>
                      <a:pt x="1711390" y="-88965"/>
                      <a:pt x="1379619" y="24746"/>
                    </a:cubicBezTo>
                    <a:cubicBezTo>
                      <a:pt x="1168256" y="95026"/>
                      <a:pt x="978115" y="298759"/>
                      <a:pt x="991975" y="530129"/>
                    </a:cubicBezTo>
                    <a:cubicBezTo>
                      <a:pt x="991109" y="1432711"/>
                      <a:pt x="991975" y="2333714"/>
                      <a:pt x="991109" y="3235506"/>
                    </a:cubicBezTo>
                    <a:cubicBezTo>
                      <a:pt x="996739" y="3405283"/>
                      <a:pt x="978981" y="3576639"/>
                      <a:pt x="1003669" y="3744837"/>
                    </a:cubicBezTo>
                    <a:cubicBezTo>
                      <a:pt x="984179" y="3851441"/>
                      <a:pt x="993275" y="3959625"/>
                      <a:pt x="991109" y="4067018"/>
                    </a:cubicBezTo>
                    <a:cubicBezTo>
                      <a:pt x="991975" y="4906428"/>
                      <a:pt x="991109" y="5744257"/>
                      <a:pt x="991975" y="6583666"/>
                    </a:cubicBezTo>
                    <a:cubicBezTo>
                      <a:pt x="991109" y="6698957"/>
                      <a:pt x="998472" y="6815037"/>
                      <a:pt x="978115" y="6930327"/>
                    </a:cubicBezTo>
                    <a:cubicBezTo>
                      <a:pt x="928739" y="6711591"/>
                      <a:pt x="840816" y="6503911"/>
                      <a:pt x="806599" y="6282806"/>
                    </a:cubicBezTo>
                    <a:cubicBezTo>
                      <a:pt x="687491" y="5632126"/>
                      <a:pt x="693554" y="4968021"/>
                      <a:pt x="729936" y="4309444"/>
                    </a:cubicBezTo>
                    <a:cubicBezTo>
                      <a:pt x="731669" y="4230478"/>
                      <a:pt x="741631" y="4138088"/>
                      <a:pt x="678395" y="4078074"/>
                    </a:cubicBezTo>
                    <a:cubicBezTo>
                      <a:pt x="603032" y="3866445"/>
                      <a:pt x="289452" y="3826962"/>
                      <a:pt x="143490" y="3988052"/>
                    </a:cubicBezTo>
                    <a:cubicBezTo>
                      <a:pt x="-34091" y="4170464"/>
                      <a:pt x="51668" y="4449214"/>
                      <a:pt x="10521" y="4675847"/>
                    </a:cubicBezTo>
                    <a:cubicBezTo>
                      <a:pt x="-7237" y="4975918"/>
                      <a:pt x="-5072" y="5409441"/>
                      <a:pt x="36942" y="5788478"/>
                    </a:cubicBezTo>
                    <a:cubicBezTo>
                      <a:pt x="61954" y="6084008"/>
                      <a:pt x="104509" y="6379539"/>
                      <a:pt x="178309" y="6667074"/>
                    </a:cubicBezTo>
                    <a:lnTo>
                      <a:pt x="257848" y="6934239"/>
                    </a:lnTo>
                    <a:lnTo>
                      <a:pt x="247708" y="6924426"/>
                    </a:lnTo>
                    <a:cubicBezTo>
                      <a:pt x="272190" y="6995918"/>
                      <a:pt x="313234" y="7058739"/>
                      <a:pt x="339465" y="7129217"/>
                    </a:cubicBezTo>
                    <a:cubicBezTo>
                      <a:pt x="390178" y="7319248"/>
                      <a:pt x="511663" y="7489261"/>
                      <a:pt x="658556" y="7617394"/>
                    </a:cubicBezTo>
                    <a:cubicBezTo>
                      <a:pt x="800100" y="7709734"/>
                      <a:pt x="924979" y="7778090"/>
                      <a:pt x="1031137" y="7818217"/>
                    </a:cubicBezTo>
                    <a:cubicBezTo>
                      <a:pt x="1110755" y="7848313"/>
                      <a:pt x="1203856" y="7861649"/>
                      <a:pt x="1257234" y="7861999"/>
                    </a:cubicBezTo>
                    <a:lnTo>
                      <a:pt x="1259413" y="7861915"/>
                    </a:lnTo>
                    <a:lnTo>
                      <a:pt x="1259644" y="7862127"/>
                    </a:lnTo>
                    <a:close/>
                  </a:path>
                </a:pathLst>
              </a:custGeom>
              <a:solidFill>
                <a:schemeClr val="accent2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sp>
          <p:nvSpPr>
            <p:cNvPr id="1097" name="等腰三角形 124"/>
            <p:cNvSpPr/>
            <p:nvPr/>
          </p:nvSpPr>
          <p:spPr>
            <a:xfrm>
              <a:off x="3234240" y="3889080"/>
              <a:ext cx="134280" cy="11304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098" name="等腰三角形 125"/>
            <p:cNvSpPr/>
            <p:nvPr/>
          </p:nvSpPr>
          <p:spPr>
            <a:xfrm rot="1587000">
              <a:off x="3202560" y="4208400"/>
              <a:ext cx="134280" cy="6912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099" name="等腰三角形 126"/>
            <p:cNvSpPr/>
            <p:nvPr/>
          </p:nvSpPr>
          <p:spPr>
            <a:xfrm rot="1587000">
              <a:off x="3999960" y="4043160"/>
              <a:ext cx="134280" cy="6912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00" name="等腰三角形 127"/>
            <p:cNvSpPr/>
            <p:nvPr/>
          </p:nvSpPr>
          <p:spPr>
            <a:xfrm rot="1587000">
              <a:off x="3924360" y="3824280"/>
              <a:ext cx="134280" cy="6912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01" name="等腰三角形 128"/>
            <p:cNvSpPr/>
            <p:nvPr/>
          </p:nvSpPr>
          <p:spPr>
            <a:xfrm rot="1587000">
              <a:off x="3773160" y="4228920"/>
              <a:ext cx="134280" cy="6912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02" name="等腰三角形 129"/>
            <p:cNvSpPr/>
            <p:nvPr/>
          </p:nvSpPr>
          <p:spPr>
            <a:xfrm rot="6918600">
              <a:off x="3392280" y="4568040"/>
              <a:ext cx="134280" cy="6912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03" name="等腰三角形 130"/>
            <p:cNvSpPr/>
            <p:nvPr/>
          </p:nvSpPr>
          <p:spPr>
            <a:xfrm rot="1587000">
              <a:off x="3827520" y="4776840"/>
              <a:ext cx="134280" cy="6912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04" name="等腰三角形 131"/>
            <p:cNvSpPr/>
            <p:nvPr/>
          </p:nvSpPr>
          <p:spPr>
            <a:xfrm rot="1587000">
              <a:off x="3392280" y="4969440"/>
              <a:ext cx="134280" cy="6912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05" name="等腰三角形 132"/>
            <p:cNvSpPr/>
            <p:nvPr/>
          </p:nvSpPr>
          <p:spPr>
            <a:xfrm rot="1587000">
              <a:off x="3997440" y="4420800"/>
              <a:ext cx="88200" cy="4536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06" name="等腰三角形 133"/>
            <p:cNvSpPr/>
            <p:nvPr/>
          </p:nvSpPr>
          <p:spPr>
            <a:xfrm rot="5400000">
              <a:off x="3790080" y="4584240"/>
              <a:ext cx="88200" cy="4536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960" bIns="-21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07" name="等腰三角形 134"/>
            <p:cNvSpPr/>
            <p:nvPr/>
          </p:nvSpPr>
          <p:spPr>
            <a:xfrm rot="12890400">
              <a:off x="3403080" y="4047480"/>
              <a:ext cx="124200" cy="61560"/>
            </a:xfrm>
            <a:prstGeom prst="triangle">
              <a:avLst>
                <a:gd name="adj" fmla="val 2757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08" name="等腰三角形 135"/>
            <p:cNvSpPr/>
            <p:nvPr/>
          </p:nvSpPr>
          <p:spPr>
            <a:xfrm flipH="1" rot="12890400">
              <a:off x="3424680" y="4396320"/>
              <a:ext cx="60840" cy="249120"/>
            </a:xfrm>
            <a:prstGeom prst="triangle">
              <a:avLst>
                <a:gd name="adj" fmla="val 2757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1109" name="组合 137"/>
          <p:cNvGrpSpPr/>
          <p:nvPr/>
        </p:nvGrpSpPr>
        <p:grpSpPr>
          <a:xfrm>
            <a:off x="4728240" y="1958040"/>
            <a:ext cx="802080" cy="1645920"/>
            <a:chOff x="4728240" y="1958040"/>
            <a:chExt cx="802080" cy="1645920"/>
          </a:xfrm>
        </p:grpSpPr>
        <p:grpSp>
          <p:nvGrpSpPr>
            <p:cNvPr id="1110" name="组合 138"/>
            <p:cNvGrpSpPr/>
            <p:nvPr/>
          </p:nvGrpSpPr>
          <p:grpSpPr>
            <a:xfrm>
              <a:off x="4728240" y="1958040"/>
              <a:ext cx="802080" cy="1645920"/>
              <a:chOff x="4728240" y="1958040"/>
              <a:chExt cx="802080" cy="1645920"/>
            </a:xfrm>
          </p:grpSpPr>
          <p:sp>
            <p:nvSpPr>
              <p:cNvPr id="1111" name="Freeform 5"/>
              <p:cNvSpPr/>
              <p:nvPr/>
            </p:nvSpPr>
            <p:spPr>
              <a:xfrm flipH="1" rot="14535600">
                <a:off x="4830480" y="2063880"/>
                <a:ext cx="597240" cy="592200"/>
              </a:xfrm>
              <a:custGeom>
                <a:avLst/>
                <a:gdLst>
                  <a:gd name="textAreaLeft" fmla="*/ -360 w 597240"/>
                  <a:gd name="textAreaRight" fmla="*/ 597240 w 5972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549" h="546">
                    <a:moveTo>
                      <a:pt x="263" y="0"/>
                    </a:moveTo>
                    <a:cubicBezTo>
                      <a:pt x="283" y="0"/>
                      <a:pt x="283" y="0"/>
                      <a:pt x="283" y="0"/>
                    </a:cubicBezTo>
                    <a:cubicBezTo>
                      <a:pt x="325" y="1"/>
                      <a:pt x="367" y="14"/>
                      <a:pt x="404" y="33"/>
                    </a:cubicBezTo>
                    <a:cubicBezTo>
                      <a:pt x="405" y="62"/>
                      <a:pt x="402" y="90"/>
                      <a:pt x="406" y="118"/>
                    </a:cubicBezTo>
                    <a:cubicBezTo>
                      <a:pt x="437" y="118"/>
                      <a:pt x="467" y="118"/>
                      <a:pt x="497" y="118"/>
                    </a:cubicBezTo>
                    <a:cubicBezTo>
                      <a:pt x="521" y="153"/>
                      <a:pt x="536" y="194"/>
                      <a:pt x="542" y="236"/>
                    </a:cubicBezTo>
                    <a:cubicBezTo>
                      <a:pt x="549" y="301"/>
                      <a:pt x="535" y="370"/>
                      <a:pt x="496" y="423"/>
                    </a:cubicBezTo>
                    <a:cubicBezTo>
                      <a:pt x="456" y="482"/>
                      <a:pt x="392" y="524"/>
                      <a:pt x="321" y="535"/>
                    </a:cubicBezTo>
                    <a:cubicBezTo>
                      <a:pt x="254" y="546"/>
                      <a:pt x="183" y="533"/>
                      <a:pt x="126" y="495"/>
                    </a:cubicBezTo>
                    <a:cubicBezTo>
                      <a:pt x="73" y="460"/>
                      <a:pt x="33" y="407"/>
                      <a:pt x="16" y="346"/>
                    </a:cubicBezTo>
                    <a:cubicBezTo>
                      <a:pt x="0" y="298"/>
                      <a:pt x="2" y="245"/>
                      <a:pt x="15" y="197"/>
                    </a:cubicBezTo>
                    <a:cubicBezTo>
                      <a:pt x="41" y="196"/>
                      <a:pt x="66" y="198"/>
                      <a:pt x="91" y="196"/>
                    </a:cubicBezTo>
                    <a:cubicBezTo>
                      <a:pt x="75" y="177"/>
                      <a:pt x="53" y="164"/>
                      <a:pt x="34" y="147"/>
                    </a:cubicBezTo>
                    <a:cubicBezTo>
                      <a:pt x="43" y="133"/>
                      <a:pt x="51" y="118"/>
                      <a:pt x="62" y="105"/>
                    </a:cubicBezTo>
                    <a:cubicBezTo>
                      <a:pt x="109" y="43"/>
                      <a:pt x="185" y="5"/>
                      <a:pt x="263" y="0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112" name="椭圆 152"/>
              <p:cNvSpPr/>
              <p:nvPr/>
            </p:nvSpPr>
            <p:spPr>
              <a:xfrm flipH="1">
                <a:off x="4775040" y="3528720"/>
                <a:ext cx="725760" cy="7524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6640" bIns="266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113" name="任意多边形 153"/>
              <p:cNvSpPr/>
              <p:nvPr/>
            </p:nvSpPr>
            <p:spPr>
              <a:xfrm flipH="1" flipV="1">
                <a:off x="4881960" y="2615760"/>
                <a:ext cx="520920" cy="950400"/>
              </a:xfrm>
              <a:custGeom>
                <a:avLst/>
                <a:gdLst>
                  <a:gd name="textAreaLeft" fmla="*/ -360 w 520920"/>
                  <a:gd name="textAreaRight" fmla="*/ 520920 w 520920"/>
                  <a:gd name="textAreaTop" fmla="*/ 360 h 950400"/>
                  <a:gd name="textAreaBottom" fmla="*/ 951120 h 950400"/>
                </a:gdLst>
                <a:ahLst/>
                <a:rect l="textAreaLeft" t="textAreaTop" r="textAreaRight" b="textAreaBottom"/>
                <a:pathLst>
                  <a:path w="4331715" h="7896091">
                    <a:moveTo>
                      <a:pt x="2986934" y="7893713"/>
                    </a:moveTo>
                    <a:cubicBezTo>
                      <a:pt x="3224718" y="7907927"/>
                      <a:pt x="3435648" y="7858968"/>
                      <a:pt x="3620591" y="7732623"/>
                    </a:cubicBezTo>
                    <a:cubicBezTo>
                      <a:pt x="3698986" y="7677346"/>
                      <a:pt x="3766553" y="7603907"/>
                      <a:pt x="3807267" y="7515466"/>
                    </a:cubicBezTo>
                    <a:cubicBezTo>
                      <a:pt x="3879165" y="7354375"/>
                      <a:pt x="3979649" y="7205919"/>
                      <a:pt x="4045917" y="7042459"/>
                    </a:cubicBezTo>
                    <a:cubicBezTo>
                      <a:pt x="4173688" y="6687902"/>
                      <a:pt x="4249484" y="6317551"/>
                      <a:pt x="4288032" y="5944041"/>
                    </a:cubicBezTo>
                    <a:cubicBezTo>
                      <a:pt x="4343039" y="5360482"/>
                      <a:pt x="4345637" y="4772975"/>
                      <a:pt x="4298427" y="4188626"/>
                    </a:cubicBezTo>
                    <a:cubicBezTo>
                      <a:pt x="4273739" y="3980945"/>
                      <a:pt x="4045917" y="3838017"/>
                      <a:pt x="3846681" y="3897241"/>
                    </a:cubicBezTo>
                    <a:cubicBezTo>
                      <a:pt x="3711980" y="3959625"/>
                      <a:pt x="3599368" y="4094656"/>
                      <a:pt x="3607164" y="4250220"/>
                    </a:cubicBezTo>
                    <a:cubicBezTo>
                      <a:pt x="3650477" y="5001977"/>
                      <a:pt x="3656540" y="5766368"/>
                      <a:pt x="3487623" y="6503911"/>
                    </a:cubicBezTo>
                    <a:cubicBezTo>
                      <a:pt x="3435648" y="6655526"/>
                      <a:pt x="3393635" y="6811878"/>
                      <a:pt x="3323903" y="6955597"/>
                    </a:cubicBezTo>
                    <a:cubicBezTo>
                      <a:pt x="3313941" y="4804561"/>
                      <a:pt x="3323037" y="2652736"/>
                      <a:pt x="3319138" y="500912"/>
                    </a:cubicBezTo>
                    <a:cubicBezTo>
                      <a:pt x="3309177" y="366669"/>
                      <a:pt x="3264565" y="221372"/>
                      <a:pt x="3154119" y="132140"/>
                    </a:cubicBezTo>
                    <a:cubicBezTo>
                      <a:pt x="3046705" y="37381"/>
                      <a:pt x="2897711" y="-7630"/>
                      <a:pt x="2753481" y="1057"/>
                    </a:cubicBezTo>
                    <a:cubicBezTo>
                      <a:pt x="2552946" y="21588"/>
                      <a:pt x="2381863" y="166096"/>
                      <a:pt x="2292207" y="342190"/>
                    </a:cubicBezTo>
                    <a:cubicBezTo>
                      <a:pt x="2250627" y="440108"/>
                      <a:pt x="2255824" y="549081"/>
                      <a:pt x="2256691" y="653316"/>
                    </a:cubicBezTo>
                    <a:cubicBezTo>
                      <a:pt x="2257557" y="1215554"/>
                      <a:pt x="2255824" y="1779372"/>
                      <a:pt x="2256691" y="2343189"/>
                    </a:cubicBezTo>
                    <a:cubicBezTo>
                      <a:pt x="2265786" y="2436369"/>
                      <a:pt x="2265353" y="2527970"/>
                      <a:pt x="2256691" y="2620360"/>
                    </a:cubicBezTo>
                    <a:cubicBezTo>
                      <a:pt x="2256691" y="3211816"/>
                      <a:pt x="2256691" y="3800903"/>
                      <a:pt x="2257557" y="4391569"/>
                    </a:cubicBezTo>
                    <a:lnTo>
                      <a:pt x="2082143" y="4392359"/>
                    </a:lnTo>
                    <a:cubicBezTo>
                      <a:pt x="2077811" y="3933566"/>
                      <a:pt x="2081276" y="3477142"/>
                      <a:pt x="2080410" y="3019929"/>
                    </a:cubicBezTo>
                    <a:cubicBezTo>
                      <a:pt x="2078677" y="2910166"/>
                      <a:pt x="2087340" y="2800403"/>
                      <a:pt x="2069149" y="2694588"/>
                    </a:cubicBezTo>
                    <a:cubicBezTo>
                      <a:pt x="2076079" y="2649578"/>
                      <a:pt x="2080410" y="2604567"/>
                      <a:pt x="2081276" y="2561136"/>
                    </a:cubicBezTo>
                    <a:cubicBezTo>
                      <a:pt x="2079544" y="1894662"/>
                      <a:pt x="2080410" y="1228189"/>
                      <a:pt x="2080410" y="562505"/>
                    </a:cubicBezTo>
                    <a:cubicBezTo>
                      <a:pt x="2112894" y="210317"/>
                      <a:pt x="1711390" y="-88965"/>
                      <a:pt x="1379619" y="24746"/>
                    </a:cubicBezTo>
                    <a:cubicBezTo>
                      <a:pt x="1168256" y="95026"/>
                      <a:pt x="978115" y="298759"/>
                      <a:pt x="991975" y="530129"/>
                    </a:cubicBezTo>
                    <a:cubicBezTo>
                      <a:pt x="991109" y="1432711"/>
                      <a:pt x="991975" y="2333714"/>
                      <a:pt x="991109" y="3235506"/>
                    </a:cubicBezTo>
                    <a:cubicBezTo>
                      <a:pt x="996739" y="3405283"/>
                      <a:pt x="978981" y="3576639"/>
                      <a:pt x="1003669" y="3744837"/>
                    </a:cubicBezTo>
                    <a:cubicBezTo>
                      <a:pt x="984179" y="3851441"/>
                      <a:pt x="993275" y="3959625"/>
                      <a:pt x="991109" y="4067018"/>
                    </a:cubicBezTo>
                    <a:cubicBezTo>
                      <a:pt x="991975" y="4906428"/>
                      <a:pt x="991109" y="5744257"/>
                      <a:pt x="991975" y="6583666"/>
                    </a:cubicBezTo>
                    <a:cubicBezTo>
                      <a:pt x="991109" y="6698957"/>
                      <a:pt x="998472" y="6815037"/>
                      <a:pt x="978115" y="6930327"/>
                    </a:cubicBezTo>
                    <a:cubicBezTo>
                      <a:pt x="928739" y="6711591"/>
                      <a:pt x="840816" y="6503911"/>
                      <a:pt x="806599" y="6282806"/>
                    </a:cubicBezTo>
                    <a:cubicBezTo>
                      <a:pt x="687491" y="5632126"/>
                      <a:pt x="693554" y="4968021"/>
                      <a:pt x="729936" y="4309444"/>
                    </a:cubicBezTo>
                    <a:cubicBezTo>
                      <a:pt x="731669" y="4230478"/>
                      <a:pt x="741631" y="4138088"/>
                      <a:pt x="678395" y="4078074"/>
                    </a:cubicBezTo>
                    <a:cubicBezTo>
                      <a:pt x="603032" y="3866445"/>
                      <a:pt x="289452" y="3826962"/>
                      <a:pt x="143490" y="3988052"/>
                    </a:cubicBezTo>
                    <a:cubicBezTo>
                      <a:pt x="-34091" y="4170464"/>
                      <a:pt x="51668" y="4449214"/>
                      <a:pt x="10521" y="4675847"/>
                    </a:cubicBezTo>
                    <a:cubicBezTo>
                      <a:pt x="-7237" y="4975918"/>
                      <a:pt x="-5072" y="5409441"/>
                      <a:pt x="36942" y="5788478"/>
                    </a:cubicBezTo>
                    <a:cubicBezTo>
                      <a:pt x="61954" y="6084008"/>
                      <a:pt x="104509" y="6379539"/>
                      <a:pt x="178309" y="6667074"/>
                    </a:cubicBezTo>
                    <a:lnTo>
                      <a:pt x="257848" y="6934239"/>
                    </a:lnTo>
                    <a:lnTo>
                      <a:pt x="247708" y="6924426"/>
                    </a:lnTo>
                    <a:cubicBezTo>
                      <a:pt x="272190" y="6995918"/>
                      <a:pt x="313234" y="7058739"/>
                      <a:pt x="339465" y="7129217"/>
                    </a:cubicBezTo>
                    <a:cubicBezTo>
                      <a:pt x="390178" y="7319248"/>
                      <a:pt x="511663" y="7489261"/>
                      <a:pt x="658556" y="7617394"/>
                    </a:cubicBezTo>
                    <a:cubicBezTo>
                      <a:pt x="800100" y="7709734"/>
                      <a:pt x="924979" y="7778090"/>
                      <a:pt x="1031137" y="7818217"/>
                    </a:cubicBezTo>
                    <a:cubicBezTo>
                      <a:pt x="1110755" y="7848313"/>
                      <a:pt x="1203856" y="7861649"/>
                      <a:pt x="1257234" y="7861999"/>
                    </a:cubicBezTo>
                    <a:lnTo>
                      <a:pt x="1259413" y="7861915"/>
                    </a:lnTo>
                    <a:lnTo>
                      <a:pt x="1259644" y="7862127"/>
                    </a:lnTo>
                    <a:close/>
                  </a:path>
                </a:pathLst>
              </a:custGeom>
              <a:solidFill>
                <a:schemeClr val="accent2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sp>
          <p:nvSpPr>
            <p:cNvPr id="1114" name="等腰三角形 139"/>
            <p:cNvSpPr/>
            <p:nvPr/>
          </p:nvSpPr>
          <p:spPr>
            <a:xfrm flipH="1">
              <a:off x="5333760" y="2697120"/>
              <a:ext cx="89280" cy="7524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15" name="等腰三角形 140"/>
            <p:cNvSpPr/>
            <p:nvPr/>
          </p:nvSpPr>
          <p:spPr>
            <a:xfrm flipH="1" rot="20013000">
              <a:off x="5353920" y="2909880"/>
              <a:ext cx="89280" cy="4608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16" name="等腰三角形 141"/>
            <p:cNvSpPr/>
            <p:nvPr/>
          </p:nvSpPr>
          <p:spPr>
            <a:xfrm flipH="1" rot="20013000">
              <a:off x="4822920" y="2799720"/>
              <a:ext cx="89280" cy="4608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17" name="等腰三角形 142"/>
            <p:cNvSpPr/>
            <p:nvPr/>
          </p:nvSpPr>
          <p:spPr>
            <a:xfrm flipH="1" rot="20013000">
              <a:off x="4873320" y="2653920"/>
              <a:ext cx="89280" cy="4608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18" name="等腰三角形 143"/>
            <p:cNvSpPr/>
            <p:nvPr/>
          </p:nvSpPr>
          <p:spPr>
            <a:xfrm flipH="1" rot="20013000">
              <a:off x="4973760" y="2923560"/>
              <a:ext cx="89280" cy="4608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19" name="等腰三角形 144"/>
            <p:cNvSpPr/>
            <p:nvPr/>
          </p:nvSpPr>
          <p:spPr>
            <a:xfrm flipH="1" rot="14681400">
              <a:off x="5228640" y="3149280"/>
              <a:ext cx="89280" cy="46080"/>
            </a:xfrm>
            <a:prstGeom prst="triangle">
              <a:avLst>
                <a:gd name="adj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20" name="等腰三角形 145"/>
            <p:cNvSpPr/>
            <p:nvPr/>
          </p:nvSpPr>
          <p:spPr>
            <a:xfrm flipH="1" rot="20013000">
              <a:off x="4937760" y="3288600"/>
              <a:ext cx="89280" cy="4608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21" name="等腰三角形 146"/>
            <p:cNvSpPr/>
            <p:nvPr/>
          </p:nvSpPr>
          <p:spPr>
            <a:xfrm flipH="1" rot="20013000">
              <a:off x="5227560" y="3416400"/>
              <a:ext cx="89280" cy="4608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1600" bIns="-21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22" name="等腰三角形 147"/>
            <p:cNvSpPr/>
            <p:nvPr/>
          </p:nvSpPr>
          <p:spPr>
            <a:xfrm flipH="1" rot="20013000">
              <a:off x="4855320" y="3051720"/>
              <a:ext cx="58680" cy="3024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23" name="等腰三角形 148"/>
            <p:cNvSpPr/>
            <p:nvPr/>
          </p:nvSpPr>
          <p:spPr>
            <a:xfrm flipH="1" rot="16200000">
              <a:off x="4994280" y="3160080"/>
              <a:ext cx="58680" cy="30240"/>
            </a:xfrm>
            <a:prstGeom prst="triangle">
              <a:avLst>
                <a:gd name="adj" fmla="val 2957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24" name="等腰三角形 149"/>
            <p:cNvSpPr/>
            <p:nvPr/>
          </p:nvSpPr>
          <p:spPr>
            <a:xfrm flipH="1" rot="8709600">
              <a:off x="5227560" y="2802600"/>
              <a:ext cx="82800" cy="41040"/>
            </a:xfrm>
            <a:prstGeom prst="triangle">
              <a:avLst>
                <a:gd name="adj" fmla="val 2757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120" bIns="-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25" name="等腰三角形 150"/>
            <p:cNvSpPr/>
            <p:nvPr/>
          </p:nvSpPr>
          <p:spPr>
            <a:xfrm rot="8709600">
              <a:off x="5256000" y="3035160"/>
              <a:ext cx="40680" cy="165960"/>
            </a:xfrm>
            <a:prstGeom prst="triangle">
              <a:avLst>
                <a:gd name="adj" fmla="val 2757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1126" name="组合 159"/>
          <p:cNvGrpSpPr/>
          <p:nvPr/>
        </p:nvGrpSpPr>
        <p:grpSpPr>
          <a:xfrm>
            <a:off x="9410040" y="1811520"/>
            <a:ext cx="2394360" cy="2918520"/>
            <a:chOff x="9410040" y="1811520"/>
            <a:chExt cx="2394360" cy="2918520"/>
          </a:xfrm>
        </p:grpSpPr>
        <p:sp>
          <p:nvSpPr>
            <p:cNvPr id="1127" name="Freeform 17"/>
            <p:cNvSpPr/>
            <p:nvPr/>
          </p:nvSpPr>
          <p:spPr>
            <a:xfrm flipH="1">
              <a:off x="9410040" y="1811520"/>
              <a:ext cx="1216800" cy="1578600"/>
            </a:xfrm>
            <a:custGeom>
              <a:avLst/>
              <a:gdLst>
                <a:gd name="textAreaLeft" fmla="*/ 360 w 1216800"/>
                <a:gd name="textAreaRight" fmla="*/ 1217520 w 1216800"/>
                <a:gd name="textAreaTop" fmla="*/ 0 h 1578600"/>
                <a:gd name="textAreaBottom" fmla="*/ 1578960 h 1578600"/>
              </a:gdLst>
              <a:ahLst/>
              <a:rect l="textAreaLeft" t="textAreaTop" r="textAreaRight" b="textAreaBottom"/>
              <a:pathLst>
                <a:path w="12" h="14">
                  <a:moveTo>
                    <a:pt x="1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6" y="1"/>
                    <a:pt x="7" y="2"/>
                    <a:pt x="7" y="3"/>
                  </a:cubicBezTo>
                  <a:cubicBezTo>
                    <a:pt x="7" y="4"/>
                    <a:pt x="7" y="4"/>
                    <a:pt x="8" y="4"/>
                  </a:cubicBezTo>
                  <a:cubicBezTo>
                    <a:pt x="9" y="4"/>
                    <a:pt x="10" y="5"/>
                    <a:pt x="10" y="6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2" y="9"/>
                    <a:pt x="12" y="10"/>
                  </a:cubicBezTo>
                  <a:cubicBezTo>
                    <a:pt x="12" y="12"/>
                    <a:pt x="11" y="14"/>
                    <a:pt x="9" y="12"/>
                  </a:cubicBezTo>
                  <a:cubicBezTo>
                    <a:pt x="9" y="12"/>
                    <a:pt x="9" y="11"/>
                    <a:pt x="8" y="11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7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8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7" y="9"/>
                    <a:pt x="7" y="9"/>
                    <a:pt x="7" y="10"/>
                  </a:cubicBezTo>
                  <a:cubicBezTo>
                    <a:pt x="7" y="10"/>
                    <a:pt x="7" y="10"/>
                    <a:pt x="7" y="11"/>
                  </a:cubicBezTo>
                  <a:cubicBezTo>
                    <a:pt x="7" y="11"/>
                    <a:pt x="7" y="11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5" y="12"/>
                    <a:pt x="5" y="10"/>
                    <a:pt x="4" y="9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4" y="5"/>
                    <a:pt x="4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"/>
                    <a:pt x="3" y="5"/>
                    <a:pt x="3" y="4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3" y="8"/>
                    <a:pt x="3" y="8"/>
                    <a:pt x="4" y="9"/>
                  </a:cubicBezTo>
                  <a:cubicBezTo>
                    <a:pt x="5" y="11"/>
                    <a:pt x="3" y="13"/>
                    <a:pt x="1" y="12"/>
                  </a:cubicBezTo>
                  <a:cubicBezTo>
                    <a:pt x="0" y="11"/>
                    <a:pt x="0" y="9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128" name="Freeform 16"/>
            <p:cNvSpPr/>
            <p:nvPr/>
          </p:nvSpPr>
          <p:spPr>
            <a:xfrm flipH="1">
              <a:off x="10484640" y="1838880"/>
              <a:ext cx="1319400" cy="1465560"/>
            </a:xfrm>
            <a:custGeom>
              <a:avLst/>
              <a:gdLst>
                <a:gd name="textAreaLeft" fmla="*/ -360 w 1319400"/>
                <a:gd name="textAreaRight" fmla="*/ 1319400 w 1319400"/>
                <a:gd name="textAreaTop" fmla="*/ 0 h 1465560"/>
                <a:gd name="textAreaBottom" fmla="*/ 1465920 h 1465560"/>
              </a:gdLst>
              <a:ahLst/>
              <a:rect l="textAreaLeft" t="textAreaTop" r="textAreaRight" b="textAreaBottom"/>
              <a:pathLst>
                <a:path w="13" h="13">
                  <a:moveTo>
                    <a:pt x="8" y="10"/>
                  </a:moveTo>
                  <a:cubicBezTo>
                    <a:pt x="8" y="10"/>
                    <a:pt x="7" y="10"/>
                    <a:pt x="7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5" y="7"/>
                    <a:pt x="6" y="6"/>
                    <a:pt x="6" y="5"/>
                  </a:cubicBezTo>
                  <a:cubicBezTo>
                    <a:pt x="7" y="5"/>
                    <a:pt x="7" y="5"/>
                    <a:pt x="7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9" y="7"/>
                    <a:pt x="9" y="7"/>
                    <a:pt x="9" y="6"/>
                  </a:cubicBezTo>
                  <a:cubicBezTo>
                    <a:pt x="9" y="6"/>
                    <a:pt x="9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7" y="4"/>
                    <a:pt x="7" y="4"/>
                  </a:cubicBezTo>
                  <a:cubicBezTo>
                    <a:pt x="7" y="4"/>
                    <a:pt x="7" y="4"/>
                    <a:pt x="6" y="5"/>
                  </a:cubicBezTo>
                  <a:cubicBezTo>
                    <a:pt x="5" y="5"/>
                    <a:pt x="5" y="7"/>
                    <a:pt x="6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4" y="11"/>
                    <a:pt x="4" y="12"/>
                  </a:cubicBezTo>
                  <a:cubicBezTo>
                    <a:pt x="3" y="13"/>
                    <a:pt x="3" y="13"/>
                    <a:pt x="2" y="13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5"/>
                    <a:pt x="3" y="4"/>
                    <a:pt x="4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0"/>
                    <a:pt x="13" y="2"/>
                    <a:pt x="11" y="4"/>
                  </a:cubicBezTo>
                  <a:cubicBezTo>
                    <a:pt x="11" y="5"/>
                    <a:pt x="11" y="5"/>
                    <a:pt x="11" y="6"/>
                  </a:cubicBezTo>
                  <a:cubicBezTo>
                    <a:pt x="12" y="7"/>
                    <a:pt x="12" y="10"/>
                    <a:pt x="10" y="9"/>
                  </a:cubicBezTo>
                  <a:cubicBezTo>
                    <a:pt x="9" y="9"/>
                    <a:pt x="9" y="9"/>
                    <a:pt x="8" y="10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129" name="Freeform 19"/>
            <p:cNvSpPr/>
            <p:nvPr/>
          </p:nvSpPr>
          <p:spPr>
            <a:xfrm flipH="1">
              <a:off x="10586520" y="2966400"/>
              <a:ext cx="609120" cy="337680"/>
            </a:xfrm>
            <a:custGeom>
              <a:avLst/>
              <a:gdLst>
                <a:gd name="textAreaLeft" fmla="*/ 360 w 609120"/>
                <a:gd name="textAreaRight" fmla="*/ 609840 w 60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6" h="3">
                  <a:moveTo>
                    <a:pt x="2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3"/>
                    <a:pt x="4" y="2"/>
                    <a:pt x="2" y="3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130" name="任意多边形 163"/>
            <p:cNvSpPr/>
            <p:nvPr/>
          </p:nvSpPr>
          <p:spPr>
            <a:xfrm flipH="1">
              <a:off x="9414000" y="3255840"/>
              <a:ext cx="2309040" cy="1474200"/>
            </a:xfrm>
            <a:custGeom>
              <a:avLst/>
              <a:gdLst>
                <a:gd name="textAreaLeft" fmla="*/ 360 w 2309040"/>
                <a:gd name="textAreaRight" fmla="*/ 2309760 w 2309040"/>
                <a:gd name="textAreaTop" fmla="*/ 0 h 1474200"/>
                <a:gd name="textAreaBottom" fmla="*/ 1474560 h 1474200"/>
              </a:gdLst>
              <a:ahLst/>
              <a:rect l="textAreaLeft" t="textAreaTop" r="textAreaRight" b="textAreaBottom"/>
              <a:pathLst>
                <a:path w="3713312" h="2370974">
                  <a:moveTo>
                    <a:pt x="0" y="0"/>
                  </a:moveTo>
                  <a:lnTo>
                    <a:pt x="3713312" y="0"/>
                  </a:lnTo>
                  <a:lnTo>
                    <a:pt x="3702869" y="86603"/>
                  </a:lnTo>
                  <a:cubicBezTo>
                    <a:pt x="3685788" y="188493"/>
                    <a:pt x="3660167" y="287034"/>
                    <a:pt x="3630275" y="378878"/>
                  </a:cubicBezTo>
                  <a:cubicBezTo>
                    <a:pt x="3570492" y="539606"/>
                    <a:pt x="3502169" y="677373"/>
                    <a:pt x="3448792" y="774957"/>
                  </a:cubicBezTo>
                  <a:lnTo>
                    <a:pt x="3442867" y="785466"/>
                  </a:lnTo>
                  <a:lnTo>
                    <a:pt x="3435953" y="922398"/>
                  </a:lnTo>
                  <a:cubicBezTo>
                    <a:pt x="3353322" y="1736041"/>
                    <a:pt x="2666174" y="2370974"/>
                    <a:pt x="1830729" y="2370974"/>
                  </a:cubicBezTo>
                  <a:cubicBezTo>
                    <a:pt x="939588" y="2370974"/>
                    <a:pt x="217175" y="1648561"/>
                    <a:pt x="217175" y="757421"/>
                  </a:cubicBezTo>
                  <a:lnTo>
                    <a:pt x="219301" y="701323"/>
                  </a:lnTo>
                  <a:lnTo>
                    <a:pt x="217572" y="698461"/>
                  </a:lnTo>
                  <a:cubicBezTo>
                    <a:pt x="176475" y="625519"/>
                    <a:pt x="62382" y="362363"/>
                    <a:pt x="4783" y="33206"/>
                  </a:cubicBezTo>
                  <a:close/>
                </a:path>
              </a:pathLst>
            </a:custGeom>
            <a:solidFill>
              <a:schemeClr val="bg1"/>
            </a:solidFill>
            <a:ln w="88900">
              <a:solidFill>
                <a:srgbClr val="2d2d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131" name="弦形 164"/>
            <p:cNvSpPr/>
            <p:nvPr/>
          </p:nvSpPr>
          <p:spPr>
            <a:xfrm flipH="1">
              <a:off x="10613880" y="3265200"/>
              <a:ext cx="823680" cy="82368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132" name="弦形 165"/>
            <p:cNvSpPr/>
            <p:nvPr/>
          </p:nvSpPr>
          <p:spPr>
            <a:xfrm flipH="1">
              <a:off x="9658080" y="3265200"/>
              <a:ext cx="823680" cy="82368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grpSp>
          <p:nvGrpSpPr>
            <p:cNvPr id="1133" name="组合 166"/>
            <p:cNvGrpSpPr/>
            <p:nvPr/>
          </p:nvGrpSpPr>
          <p:grpSpPr>
            <a:xfrm>
              <a:off x="9547200" y="3263400"/>
              <a:ext cx="2028240" cy="437760"/>
              <a:chOff x="9547200" y="3263400"/>
              <a:chExt cx="2028240" cy="437760"/>
            </a:xfrm>
          </p:grpSpPr>
          <p:sp>
            <p:nvSpPr>
              <p:cNvPr id="1134" name="圆角矩形 177"/>
              <p:cNvSpPr/>
              <p:nvPr/>
            </p:nvSpPr>
            <p:spPr>
              <a:xfrm flipH="1">
                <a:off x="9547200" y="3438360"/>
                <a:ext cx="2028240" cy="61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720" bIns="27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35" name="圆角矩形 178"/>
              <p:cNvSpPr/>
              <p:nvPr/>
            </p:nvSpPr>
            <p:spPr>
              <a:xfrm flipH="1" rot="16200000">
                <a:off x="11284200" y="3433320"/>
                <a:ext cx="213480" cy="856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36" name="圆角矩形 179"/>
              <p:cNvSpPr/>
              <p:nvPr/>
            </p:nvSpPr>
            <p:spPr>
              <a:xfrm flipH="1" rot="16200000">
                <a:off x="11096640" y="3432960"/>
                <a:ext cx="258120" cy="856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37" name="圆角矩形 180"/>
              <p:cNvSpPr/>
              <p:nvPr/>
            </p:nvSpPr>
            <p:spPr>
              <a:xfrm flipH="1" rot="16200000">
                <a:off x="10892520" y="3435120"/>
                <a:ext cx="284040" cy="856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38" name="圆角矩形 181"/>
              <p:cNvSpPr/>
              <p:nvPr/>
            </p:nvSpPr>
            <p:spPr>
              <a:xfrm flipH="1" rot="16200000">
                <a:off x="10697760" y="3422880"/>
                <a:ext cx="258120" cy="856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39" name="圆角矩形 182"/>
              <p:cNvSpPr/>
              <p:nvPr/>
            </p:nvSpPr>
            <p:spPr>
              <a:xfrm flipH="1" rot="16200000">
                <a:off x="10376640" y="3450240"/>
                <a:ext cx="416160" cy="856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40" name="圆角矩形 183"/>
              <p:cNvSpPr/>
              <p:nvPr/>
            </p:nvSpPr>
            <p:spPr>
              <a:xfrm flipH="1" rot="16200000">
                <a:off x="10126080" y="3409560"/>
                <a:ext cx="378360" cy="856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41" name="圆角矩形 184"/>
              <p:cNvSpPr/>
              <p:nvPr/>
            </p:nvSpPr>
            <p:spPr>
              <a:xfrm flipH="1" rot="16200000">
                <a:off x="9978480" y="3439440"/>
                <a:ext cx="234720" cy="777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5280" bIns="35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42" name="圆角矩形 185"/>
              <p:cNvSpPr/>
              <p:nvPr/>
            </p:nvSpPr>
            <p:spPr>
              <a:xfrm flipH="1" rot="16200000">
                <a:off x="9772560" y="3449880"/>
                <a:ext cx="343800" cy="856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43" name="圆角矩形 186"/>
              <p:cNvSpPr/>
              <p:nvPr/>
            </p:nvSpPr>
            <p:spPr>
              <a:xfrm flipH="1" rot="16200000">
                <a:off x="9532800" y="3409560"/>
                <a:ext cx="284040" cy="856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144" name="组合 167"/>
            <p:cNvGrpSpPr/>
            <p:nvPr/>
          </p:nvGrpSpPr>
          <p:grpSpPr>
            <a:xfrm>
              <a:off x="9896760" y="4179240"/>
              <a:ext cx="425880" cy="304560"/>
              <a:chOff x="9896760" y="4179240"/>
              <a:chExt cx="425880" cy="304560"/>
            </a:xfrm>
          </p:grpSpPr>
          <p:sp>
            <p:nvSpPr>
              <p:cNvPr id="1145" name="圆角矩形 173"/>
              <p:cNvSpPr/>
              <p:nvPr/>
            </p:nvSpPr>
            <p:spPr>
              <a:xfrm flipV="1" rot="20157600">
                <a:off x="9885600" y="4320000"/>
                <a:ext cx="448200" cy="403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8360" bIns="18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46" name="圆角矩形 174"/>
              <p:cNvSpPr/>
              <p:nvPr/>
            </p:nvSpPr>
            <p:spPr>
              <a:xfrm flipV="1" rot="14757600">
                <a:off x="9897840" y="4357800"/>
                <a:ext cx="174960" cy="648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520" bIns="29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47" name="圆角矩形 175"/>
              <p:cNvSpPr/>
              <p:nvPr/>
            </p:nvSpPr>
            <p:spPr>
              <a:xfrm flipV="1" rot="14757600">
                <a:off x="9993960" y="4307400"/>
                <a:ext cx="211680" cy="648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520" bIns="29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48" name="圆角矩形 176"/>
              <p:cNvSpPr/>
              <p:nvPr/>
            </p:nvSpPr>
            <p:spPr>
              <a:xfrm flipV="1" rot="14757600">
                <a:off x="10123200" y="4256280"/>
                <a:ext cx="211680" cy="648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520" bIns="29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149" name="组合 168"/>
            <p:cNvGrpSpPr/>
            <p:nvPr/>
          </p:nvGrpSpPr>
          <p:grpSpPr>
            <a:xfrm>
              <a:off x="11055240" y="4102920"/>
              <a:ext cx="353880" cy="384480"/>
              <a:chOff x="11055240" y="4102920"/>
              <a:chExt cx="353880" cy="384480"/>
            </a:xfrm>
          </p:grpSpPr>
          <p:sp>
            <p:nvSpPr>
              <p:cNvPr id="1150" name="圆角矩形 169"/>
              <p:cNvSpPr/>
              <p:nvPr/>
            </p:nvSpPr>
            <p:spPr>
              <a:xfrm flipV="1" rot="18367800">
                <a:off x="11004480" y="4275000"/>
                <a:ext cx="445680" cy="403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8360" bIns="18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51" name="圆角矩形 170"/>
              <p:cNvSpPr/>
              <p:nvPr/>
            </p:nvSpPr>
            <p:spPr>
              <a:xfrm flipV="1" rot="12967800">
                <a:off x="11057400" y="4367880"/>
                <a:ext cx="175320" cy="644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52" name="圆角矩形 171"/>
              <p:cNvSpPr/>
              <p:nvPr/>
            </p:nvSpPr>
            <p:spPr>
              <a:xfrm flipV="1" rot="12967800">
                <a:off x="11112480" y="4266360"/>
                <a:ext cx="211680" cy="644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153" name="圆角矩形 172"/>
              <p:cNvSpPr/>
              <p:nvPr/>
            </p:nvSpPr>
            <p:spPr>
              <a:xfrm flipV="1" rot="12967800">
                <a:off x="11198520" y="4158360"/>
                <a:ext cx="211680" cy="644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组合 4"/>
          <p:cNvGrpSpPr/>
          <p:nvPr/>
        </p:nvGrpSpPr>
        <p:grpSpPr>
          <a:xfrm>
            <a:off x="2396520" y="3241080"/>
            <a:ext cx="1898640" cy="2095560"/>
            <a:chOff x="2396520" y="3241080"/>
            <a:chExt cx="1898640" cy="2095560"/>
          </a:xfrm>
        </p:grpSpPr>
        <p:sp>
          <p:nvSpPr>
            <p:cNvPr id="1155" name="椭圆 81"/>
            <p:cNvSpPr/>
            <p:nvPr/>
          </p:nvSpPr>
          <p:spPr>
            <a:xfrm>
              <a:off x="2396520" y="4657680"/>
              <a:ext cx="678960" cy="678960"/>
            </a:xfrm>
            <a:prstGeom prst="ellipse">
              <a:avLst/>
            </a:prstGeom>
            <a:solidFill>
              <a:srgbClr val="c00000">
                <a:alpha val="4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56" name="椭圆 82"/>
            <p:cNvSpPr/>
            <p:nvPr/>
          </p:nvSpPr>
          <p:spPr>
            <a:xfrm>
              <a:off x="2926800" y="3241080"/>
              <a:ext cx="1368360" cy="1368360"/>
            </a:xfrm>
            <a:prstGeom prst="ellipse">
              <a:avLst/>
            </a:prstGeom>
            <a:solidFill>
              <a:srgbClr val="c00000">
                <a:alpha val="4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157" name="矩形 22"/>
          <p:cNvSpPr/>
          <p:nvPr/>
        </p:nvSpPr>
        <p:spPr>
          <a:xfrm>
            <a:off x="6526080" y="3959640"/>
            <a:ext cx="46749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僵尸的内侧颞叶有可能有损伤而且顶叶也有受损，记忆力很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40"/>
          <p:cNvSpPr/>
          <p:nvPr/>
        </p:nvSpPr>
        <p:spPr>
          <a:xfrm>
            <a:off x="6513120" y="3121560"/>
            <a:ext cx="50274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僵尸的记忆力很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闪电形 43"/>
          <p:cNvSpPr/>
          <p:nvPr/>
        </p:nvSpPr>
        <p:spPr>
          <a:xfrm rot="5560800">
            <a:off x="4453200" y="3694320"/>
            <a:ext cx="711360" cy="45900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1483560" y="3106080"/>
            <a:ext cx="3488760" cy="2973960"/>
            <a:chOff x="1483560" y="3106080"/>
            <a:chExt cx="3488760" cy="2973960"/>
          </a:xfrm>
        </p:grpSpPr>
        <p:sp>
          <p:nvSpPr>
            <p:cNvPr id="1161" name="Freeform 5"/>
            <p:cNvSpPr/>
            <p:nvPr/>
          </p:nvSpPr>
          <p:spPr>
            <a:xfrm>
              <a:off x="1483560" y="3106080"/>
              <a:ext cx="2824200" cy="2291040"/>
            </a:xfrm>
            <a:custGeom>
              <a:avLst/>
              <a:gdLst>
                <a:gd name="textAreaLeft" fmla="*/ 0 w 2824200"/>
                <a:gd name="textAreaRight" fmla="*/ 2824560 w 2824200"/>
                <a:gd name="textAreaTop" fmla="*/ 0 h 2291040"/>
                <a:gd name="textAreaBottom" fmla="*/ 2291400 h 2291040"/>
              </a:gdLst>
              <a:ahLst/>
              <a:rect l="textAreaLeft" t="textAreaTop" r="textAreaRight" b="textAreaBottom"/>
              <a:pathLst>
                <a:path w="1059" h="859">
                  <a:moveTo>
                    <a:pt x="299" y="56"/>
                  </a:moveTo>
                  <a:cubicBezTo>
                    <a:pt x="389" y="25"/>
                    <a:pt x="482" y="6"/>
                    <a:pt x="577" y="2"/>
                  </a:cubicBezTo>
                  <a:cubicBezTo>
                    <a:pt x="654" y="1"/>
                    <a:pt x="733" y="0"/>
                    <a:pt x="809" y="17"/>
                  </a:cubicBezTo>
                  <a:cubicBezTo>
                    <a:pt x="882" y="34"/>
                    <a:pt x="953" y="64"/>
                    <a:pt x="1014" y="108"/>
                  </a:cubicBezTo>
                  <a:cubicBezTo>
                    <a:pt x="1030" y="120"/>
                    <a:pt x="1043" y="134"/>
                    <a:pt x="1059" y="145"/>
                  </a:cubicBezTo>
                  <a:cubicBezTo>
                    <a:pt x="1054" y="151"/>
                    <a:pt x="1049" y="157"/>
                    <a:pt x="1043" y="163"/>
                  </a:cubicBezTo>
                  <a:cubicBezTo>
                    <a:pt x="1032" y="153"/>
                    <a:pt x="1023" y="140"/>
                    <a:pt x="1009" y="135"/>
                  </a:cubicBezTo>
                  <a:cubicBezTo>
                    <a:pt x="998" y="130"/>
                    <a:pt x="985" y="137"/>
                    <a:pt x="980" y="147"/>
                  </a:cubicBezTo>
                  <a:cubicBezTo>
                    <a:pt x="973" y="159"/>
                    <a:pt x="976" y="173"/>
                    <a:pt x="975" y="186"/>
                  </a:cubicBezTo>
                  <a:cubicBezTo>
                    <a:pt x="971" y="173"/>
                    <a:pt x="966" y="159"/>
                    <a:pt x="966" y="144"/>
                  </a:cubicBezTo>
                  <a:cubicBezTo>
                    <a:pt x="967" y="132"/>
                    <a:pt x="975" y="121"/>
                    <a:pt x="976" y="108"/>
                  </a:cubicBezTo>
                  <a:cubicBezTo>
                    <a:pt x="972" y="100"/>
                    <a:pt x="963" y="102"/>
                    <a:pt x="956" y="104"/>
                  </a:cubicBezTo>
                  <a:cubicBezTo>
                    <a:pt x="941" y="108"/>
                    <a:pt x="932" y="122"/>
                    <a:pt x="917" y="126"/>
                  </a:cubicBezTo>
                  <a:cubicBezTo>
                    <a:pt x="895" y="125"/>
                    <a:pt x="879" y="109"/>
                    <a:pt x="866" y="93"/>
                  </a:cubicBezTo>
                  <a:cubicBezTo>
                    <a:pt x="881" y="101"/>
                    <a:pt x="896" y="112"/>
                    <a:pt x="913" y="112"/>
                  </a:cubicBezTo>
                  <a:cubicBezTo>
                    <a:pt x="925" y="111"/>
                    <a:pt x="935" y="105"/>
                    <a:pt x="945" y="99"/>
                  </a:cubicBezTo>
                  <a:cubicBezTo>
                    <a:pt x="942" y="88"/>
                    <a:pt x="932" y="80"/>
                    <a:pt x="920" y="78"/>
                  </a:cubicBezTo>
                  <a:cubicBezTo>
                    <a:pt x="889" y="69"/>
                    <a:pt x="852" y="69"/>
                    <a:pt x="824" y="87"/>
                  </a:cubicBezTo>
                  <a:cubicBezTo>
                    <a:pt x="816" y="92"/>
                    <a:pt x="815" y="102"/>
                    <a:pt x="814" y="110"/>
                  </a:cubicBezTo>
                  <a:cubicBezTo>
                    <a:pt x="777" y="112"/>
                    <a:pt x="739" y="125"/>
                    <a:pt x="712" y="152"/>
                  </a:cubicBezTo>
                  <a:cubicBezTo>
                    <a:pt x="706" y="158"/>
                    <a:pt x="698" y="167"/>
                    <a:pt x="702" y="176"/>
                  </a:cubicBezTo>
                  <a:cubicBezTo>
                    <a:pt x="709" y="188"/>
                    <a:pt x="724" y="191"/>
                    <a:pt x="731" y="203"/>
                  </a:cubicBezTo>
                  <a:cubicBezTo>
                    <a:pt x="735" y="211"/>
                    <a:pt x="728" y="218"/>
                    <a:pt x="721" y="222"/>
                  </a:cubicBezTo>
                  <a:cubicBezTo>
                    <a:pt x="698" y="233"/>
                    <a:pt x="670" y="231"/>
                    <a:pt x="646" y="242"/>
                  </a:cubicBezTo>
                  <a:cubicBezTo>
                    <a:pt x="627" y="252"/>
                    <a:pt x="617" y="273"/>
                    <a:pt x="607" y="291"/>
                  </a:cubicBezTo>
                  <a:cubicBezTo>
                    <a:pt x="591" y="322"/>
                    <a:pt x="577" y="357"/>
                    <a:pt x="580" y="393"/>
                  </a:cubicBezTo>
                  <a:cubicBezTo>
                    <a:pt x="580" y="410"/>
                    <a:pt x="590" y="425"/>
                    <a:pt x="603" y="436"/>
                  </a:cubicBezTo>
                  <a:cubicBezTo>
                    <a:pt x="596" y="450"/>
                    <a:pt x="584" y="467"/>
                    <a:pt x="591" y="483"/>
                  </a:cubicBezTo>
                  <a:cubicBezTo>
                    <a:pt x="592" y="484"/>
                    <a:pt x="596" y="486"/>
                    <a:pt x="597" y="487"/>
                  </a:cubicBezTo>
                  <a:cubicBezTo>
                    <a:pt x="618" y="476"/>
                    <a:pt x="636" y="460"/>
                    <a:pt x="657" y="449"/>
                  </a:cubicBezTo>
                  <a:cubicBezTo>
                    <a:pt x="678" y="436"/>
                    <a:pt x="705" y="427"/>
                    <a:pt x="716" y="403"/>
                  </a:cubicBezTo>
                  <a:cubicBezTo>
                    <a:pt x="723" y="382"/>
                    <a:pt x="704" y="362"/>
                    <a:pt x="707" y="341"/>
                  </a:cubicBezTo>
                  <a:cubicBezTo>
                    <a:pt x="708" y="331"/>
                    <a:pt x="715" y="324"/>
                    <a:pt x="720" y="316"/>
                  </a:cubicBezTo>
                  <a:cubicBezTo>
                    <a:pt x="709" y="348"/>
                    <a:pt x="724" y="384"/>
                    <a:pt x="751" y="402"/>
                  </a:cubicBezTo>
                  <a:cubicBezTo>
                    <a:pt x="768" y="412"/>
                    <a:pt x="790" y="411"/>
                    <a:pt x="809" y="410"/>
                  </a:cubicBezTo>
                  <a:cubicBezTo>
                    <a:pt x="837" y="407"/>
                    <a:pt x="858" y="385"/>
                    <a:pt x="868" y="360"/>
                  </a:cubicBezTo>
                  <a:cubicBezTo>
                    <a:pt x="882" y="330"/>
                    <a:pt x="883" y="288"/>
                    <a:pt x="918" y="273"/>
                  </a:cubicBezTo>
                  <a:cubicBezTo>
                    <a:pt x="904" y="289"/>
                    <a:pt x="890" y="307"/>
                    <a:pt x="887" y="329"/>
                  </a:cubicBezTo>
                  <a:cubicBezTo>
                    <a:pt x="885" y="341"/>
                    <a:pt x="887" y="353"/>
                    <a:pt x="884" y="364"/>
                  </a:cubicBezTo>
                  <a:cubicBezTo>
                    <a:pt x="874" y="388"/>
                    <a:pt x="845" y="398"/>
                    <a:pt x="836" y="423"/>
                  </a:cubicBezTo>
                  <a:cubicBezTo>
                    <a:pt x="856" y="435"/>
                    <a:pt x="870" y="458"/>
                    <a:pt x="864" y="481"/>
                  </a:cubicBezTo>
                  <a:cubicBezTo>
                    <a:pt x="860" y="467"/>
                    <a:pt x="854" y="452"/>
                    <a:pt x="841" y="444"/>
                  </a:cubicBezTo>
                  <a:cubicBezTo>
                    <a:pt x="825" y="432"/>
                    <a:pt x="804" y="434"/>
                    <a:pt x="785" y="433"/>
                  </a:cubicBezTo>
                  <a:cubicBezTo>
                    <a:pt x="761" y="431"/>
                    <a:pt x="736" y="428"/>
                    <a:pt x="713" y="439"/>
                  </a:cubicBezTo>
                  <a:cubicBezTo>
                    <a:pt x="664" y="461"/>
                    <a:pt x="625" y="499"/>
                    <a:pt x="582" y="530"/>
                  </a:cubicBezTo>
                  <a:cubicBezTo>
                    <a:pt x="546" y="546"/>
                    <a:pt x="527" y="587"/>
                    <a:pt x="530" y="625"/>
                  </a:cubicBezTo>
                  <a:cubicBezTo>
                    <a:pt x="524" y="642"/>
                    <a:pt x="533" y="661"/>
                    <a:pt x="545" y="673"/>
                  </a:cubicBezTo>
                  <a:cubicBezTo>
                    <a:pt x="561" y="666"/>
                    <a:pt x="570" y="651"/>
                    <a:pt x="576" y="636"/>
                  </a:cubicBezTo>
                  <a:cubicBezTo>
                    <a:pt x="579" y="658"/>
                    <a:pt x="558" y="671"/>
                    <a:pt x="549" y="689"/>
                  </a:cubicBezTo>
                  <a:cubicBezTo>
                    <a:pt x="546" y="710"/>
                    <a:pt x="566" y="725"/>
                    <a:pt x="582" y="733"/>
                  </a:cubicBezTo>
                  <a:cubicBezTo>
                    <a:pt x="565" y="734"/>
                    <a:pt x="555" y="720"/>
                    <a:pt x="544" y="710"/>
                  </a:cubicBezTo>
                  <a:cubicBezTo>
                    <a:pt x="515" y="705"/>
                    <a:pt x="490" y="725"/>
                    <a:pt x="472" y="746"/>
                  </a:cubicBezTo>
                  <a:cubicBezTo>
                    <a:pt x="479" y="724"/>
                    <a:pt x="500" y="709"/>
                    <a:pt x="521" y="701"/>
                  </a:cubicBezTo>
                  <a:cubicBezTo>
                    <a:pt x="529" y="699"/>
                    <a:pt x="536" y="689"/>
                    <a:pt x="532" y="681"/>
                  </a:cubicBezTo>
                  <a:cubicBezTo>
                    <a:pt x="525" y="664"/>
                    <a:pt x="512" y="648"/>
                    <a:pt x="514" y="629"/>
                  </a:cubicBezTo>
                  <a:cubicBezTo>
                    <a:pt x="512" y="605"/>
                    <a:pt x="509" y="582"/>
                    <a:pt x="511" y="558"/>
                  </a:cubicBezTo>
                  <a:cubicBezTo>
                    <a:pt x="512" y="558"/>
                    <a:pt x="512" y="558"/>
                    <a:pt x="512" y="558"/>
                  </a:cubicBezTo>
                  <a:cubicBezTo>
                    <a:pt x="511" y="574"/>
                    <a:pt x="511" y="590"/>
                    <a:pt x="513" y="606"/>
                  </a:cubicBezTo>
                  <a:cubicBezTo>
                    <a:pt x="518" y="585"/>
                    <a:pt x="531" y="565"/>
                    <a:pt x="527" y="543"/>
                  </a:cubicBezTo>
                  <a:cubicBezTo>
                    <a:pt x="523" y="537"/>
                    <a:pt x="515" y="539"/>
                    <a:pt x="509" y="537"/>
                  </a:cubicBezTo>
                  <a:cubicBezTo>
                    <a:pt x="497" y="534"/>
                    <a:pt x="485" y="534"/>
                    <a:pt x="474" y="534"/>
                  </a:cubicBezTo>
                  <a:cubicBezTo>
                    <a:pt x="474" y="526"/>
                    <a:pt x="474" y="519"/>
                    <a:pt x="474" y="511"/>
                  </a:cubicBezTo>
                  <a:cubicBezTo>
                    <a:pt x="486" y="512"/>
                    <a:pt x="498" y="515"/>
                    <a:pt x="510" y="515"/>
                  </a:cubicBezTo>
                  <a:cubicBezTo>
                    <a:pt x="516" y="515"/>
                    <a:pt x="518" y="505"/>
                    <a:pt x="523" y="513"/>
                  </a:cubicBezTo>
                  <a:cubicBezTo>
                    <a:pt x="524" y="510"/>
                    <a:pt x="525" y="504"/>
                    <a:pt x="525" y="500"/>
                  </a:cubicBezTo>
                  <a:cubicBezTo>
                    <a:pt x="526" y="504"/>
                    <a:pt x="526" y="512"/>
                    <a:pt x="527" y="515"/>
                  </a:cubicBezTo>
                  <a:cubicBezTo>
                    <a:pt x="557" y="510"/>
                    <a:pt x="578" y="481"/>
                    <a:pt x="585" y="453"/>
                  </a:cubicBezTo>
                  <a:cubicBezTo>
                    <a:pt x="592" y="431"/>
                    <a:pt x="569" y="417"/>
                    <a:pt x="566" y="397"/>
                  </a:cubicBezTo>
                  <a:cubicBezTo>
                    <a:pt x="557" y="365"/>
                    <a:pt x="568" y="333"/>
                    <a:pt x="574" y="301"/>
                  </a:cubicBezTo>
                  <a:cubicBezTo>
                    <a:pt x="582" y="262"/>
                    <a:pt x="613" y="230"/>
                    <a:pt x="652" y="222"/>
                  </a:cubicBezTo>
                  <a:cubicBezTo>
                    <a:pt x="664" y="219"/>
                    <a:pt x="680" y="220"/>
                    <a:pt x="687" y="207"/>
                  </a:cubicBezTo>
                  <a:cubicBezTo>
                    <a:pt x="695" y="185"/>
                    <a:pt x="683" y="158"/>
                    <a:pt x="661" y="149"/>
                  </a:cubicBezTo>
                  <a:cubicBezTo>
                    <a:pt x="670" y="151"/>
                    <a:pt x="679" y="154"/>
                    <a:pt x="687" y="159"/>
                  </a:cubicBezTo>
                  <a:cubicBezTo>
                    <a:pt x="702" y="135"/>
                    <a:pt x="727" y="120"/>
                    <a:pt x="753" y="112"/>
                  </a:cubicBezTo>
                  <a:cubicBezTo>
                    <a:pt x="773" y="105"/>
                    <a:pt x="796" y="103"/>
                    <a:pt x="812" y="87"/>
                  </a:cubicBezTo>
                  <a:cubicBezTo>
                    <a:pt x="818" y="80"/>
                    <a:pt x="810" y="72"/>
                    <a:pt x="806" y="66"/>
                  </a:cubicBezTo>
                  <a:cubicBezTo>
                    <a:pt x="821" y="71"/>
                    <a:pt x="840" y="73"/>
                    <a:pt x="852" y="60"/>
                  </a:cubicBezTo>
                  <a:cubicBezTo>
                    <a:pt x="845" y="47"/>
                    <a:pt x="831" y="41"/>
                    <a:pt x="817" y="40"/>
                  </a:cubicBezTo>
                  <a:cubicBezTo>
                    <a:pt x="785" y="36"/>
                    <a:pt x="756" y="59"/>
                    <a:pt x="724" y="53"/>
                  </a:cubicBezTo>
                  <a:cubicBezTo>
                    <a:pt x="730" y="49"/>
                    <a:pt x="736" y="46"/>
                    <a:pt x="740" y="41"/>
                  </a:cubicBezTo>
                  <a:cubicBezTo>
                    <a:pt x="744" y="33"/>
                    <a:pt x="733" y="29"/>
                    <a:pt x="728" y="26"/>
                  </a:cubicBezTo>
                  <a:cubicBezTo>
                    <a:pt x="701" y="15"/>
                    <a:pt x="670" y="14"/>
                    <a:pt x="641" y="14"/>
                  </a:cubicBezTo>
                  <a:cubicBezTo>
                    <a:pt x="618" y="15"/>
                    <a:pt x="590" y="15"/>
                    <a:pt x="574" y="34"/>
                  </a:cubicBezTo>
                  <a:cubicBezTo>
                    <a:pt x="566" y="44"/>
                    <a:pt x="570" y="56"/>
                    <a:pt x="572" y="67"/>
                  </a:cubicBezTo>
                  <a:cubicBezTo>
                    <a:pt x="563" y="59"/>
                    <a:pt x="560" y="48"/>
                    <a:pt x="557" y="37"/>
                  </a:cubicBezTo>
                  <a:cubicBezTo>
                    <a:pt x="556" y="32"/>
                    <a:pt x="549" y="30"/>
                    <a:pt x="545" y="31"/>
                  </a:cubicBezTo>
                  <a:cubicBezTo>
                    <a:pt x="524" y="32"/>
                    <a:pt x="504" y="45"/>
                    <a:pt x="496" y="65"/>
                  </a:cubicBezTo>
                  <a:cubicBezTo>
                    <a:pt x="472" y="65"/>
                    <a:pt x="448" y="70"/>
                    <a:pt x="428" y="83"/>
                  </a:cubicBezTo>
                  <a:cubicBezTo>
                    <a:pt x="439" y="68"/>
                    <a:pt x="458" y="58"/>
                    <a:pt x="477" y="57"/>
                  </a:cubicBezTo>
                  <a:cubicBezTo>
                    <a:pt x="488" y="57"/>
                    <a:pt x="502" y="48"/>
                    <a:pt x="501" y="35"/>
                  </a:cubicBezTo>
                  <a:cubicBezTo>
                    <a:pt x="458" y="34"/>
                    <a:pt x="416" y="47"/>
                    <a:pt x="375" y="59"/>
                  </a:cubicBezTo>
                  <a:cubicBezTo>
                    <a:pt x="355" y="62"/>
                    <a:pt x="336" y="75"/>
                    <a:pt x="333" y="96"/>
                  </a:cubicBezTo>
                  <a:cubicBezTo>
                    <a:pt x="350" y="100"/>
                    <a:pt x="368" y="95"/>
                    <a:pt x="383" y="102"/>
                  </a:cubicBezTo>
                  <a:cubicBezTo>
                    <a:pt x="397" y="107"/>
                    <a:pt x="406" y="121"/>
                    <a:pt x="405" y="135"/>
                  </a:cubicBezTo>
                  <a:cubicBezTo>
                    <a:pt x="414" y="125"/>
                    <a:pt x="425" y="116"/>
                    <a:pt x="438" y="112"/>
                  </a:cubicBezTo>
                  <a:cubicBezTo>
                    <a:pt x="420" y="127"/>
                    <a:pt x="403" y="145"/>
                    <a:pt x="400" y="169"/>
                  </a:cubicBezTo>
                  <a:cubicBezTo>
                    <a:pt x="397" y="184"/>
                    <a:pt x="412" y="192"/>
                    <a:pt x="421" y="200"/>
                  </a:cubicBezTo>
                  <a:cubicBezTo>
                    <a:pt x="434" y="209"/>
                    <a:pt x="442" y="222"/>
                    <a:pt x="453" y="232"/>
                  </a:cubicBezTo>
                  <a:cubicBezTo>
                    <a:pt x="468" y="240"/>
                    <a:pt x="491" y="234"/>
                    <a:pt x="496" y="217"/>
                  </a:cubicBezTo>
                  <a:cubicBezTo>
                    <a:pt x="498" y="198"/>
                    <a:pt x="488" y="180"/>
                    <a:pt x="494" y="161"/>
                  </a:cubicBezTo>
                  <a:cubicBezTo>
                    <a:pt x="501" y="138"/>
                    <a:pt x="511" y="113"/>
                    <a:pt x="503" y="89"/>
                  </a:cubicBezTo>
                  <a:cubicBezTo>
                    <a:pt x="511" y="102"/>
                    <a:pt x="518" y="117"/>
                    <a:pt x="515" y="132"/>
                  </a:cubicBezTo>
                  <a:cubicBezTo>
                    <a:pt x="512" y="155"/>
                    <a:pt x="499" y="178"/>
                    <a:pt x="510" y="200"/>
                  </a:cubicBezTo>
                  <a:cubicBezTo>
                    <a:pt x="514" y="209"/>
                    <a:pt x="525" y="210"/>
                    <a:pt x="533" y="210"/>
                  </a:cubicBezTo>
                  <a:cubicBezTo>
                    <a:pt x="556" y="208"/>
                    <a:pt x="575" y="193"/>
                    <a:pt x="589" y="177"/>
                  </a:cubicBezTo>
                  <a:cubicBezTo>
                    <a:pt x="577" y="209"/>
                    <a:pt x="542" y="221"/>
                    <a:pt x="514" y="234"/>
                  </a:cubicBezTo>
                  <a:cubicBezTo>
                    <a:pt x="499" y="241"/>
                    <a:pt x="481" y="248"/>
                    <a:pt x="475" y="265"/>
                  </a:cubicBezTo>
                  <a:cubicBezTo>
                    <a:pt x="479" y="281"/>
                    <a:pt x="485" y="297"/>
                    <a:pt x="482" y="313"/>
                  </a:cubicBezTo>
                  <a:cubicBezTo>
                    <a:pt x="480" y="329"/>
                    <a:pt x="467" y="345"/>
                    <a:pt x="477" y="360"/>
                  </a:cubicBezTo>
                  <a:cubicBezTo>
                    <a:pt x="490" y="380"/>
                    <a:pt x="502" y="402"/>
                    <a:pt x="500" y="426"/>
                  </a:cubicBezTo>
                  <a:cubicBezTo>
                    <a:pt x="493" y="411"/>
                    <a:pt x="489" y="394"/>
                    <a:pt x="478" y="381"/>
                  </a:cubicBezTo>
                  <a:cubicBezTo>
                    <a:pt x="473" y="375"/>
                    <a:pt x="466" y="373"/>
                    <a:pt x="462" y="367"/>
                  </a:cubicBezTo>
                  <a:cubicBezTo>
                    <a:pt x="454" y="356"/>
                    <a:pt x="443" y="347"/>
                    <a:pt x="434" y="337"/>
                  </a:cubicBezTo>
                  <a:cubicBezTo>
                    <a:pt x="449" y="331"/>
                    <a:pt x="465" y="319"/>
                    <a:pt x="468" y="301"/>
                  </a:cubicBezTo>
                  <a:cubicBezTo>
                    <a:pt x="471" y="284"/>
                    <a:pt x="456" y="271"/>
                    <a:pt x="449" y="257"/>
                  </a:cubicBezTo>
                  <a:cubicBezTo>
                    <a:pt x="439" y="238"/>
                    <a:pt x="429" y="219"/>
                    <a:pt x="411" y="206"/>
                  </a:cubicBezTo>
                  <a:cubicBezTo>
                    <a:pt x="403" y="200"/>
                    <a:pt x="392" y="197"/>
                    <a:pt x="383" y="191"/>
                  </a:cubicBezTo>
                  <a:cubicBezTo>
                    <a:pt x="382" y="171"/>
                    <a:pt x="398" y="153"/>
                    <a:pt x="394" y="133"/>
                  </a:cubicBezTo>
                  <a:cubicBezTo>
                    <a:pt x="394" y="118"/>
                    <a:pt x="379" y="109"/>
                    <a:pt x="365" y="109"/>
                  </a:cubicBezTo>
                  <a:cubicBezTo>
                    <a:pt x="343" y="109"/>
                    <a:pt x="316" y="114"/>
                    <a:pt x="302" y="134"/>
                  </a:cubicBezTo>
                  <a:cubicBezTo>
                    <a:pt x="295" y="142"/>
                    <a:pt x="296" y="155"/>
                    <a:pt x="305" y="161"/>
                  </a:cubicBezTo>
                  <a:cubicBezTo>
                    <a:pt x="316" y="164"/>
                    <a:pt x="327" y="164"/>
                    <a:pt x="337" y="169"/>
                  </a:cubicBezTo>
                  <a:cubicBezTo>
                    <a:pt x="302" y="170"/>
                    <a:pt x="264" y="186"/>
                    <a:pt x="249" y="221"/>
                  </a:cubicBezTo>
                  <a:cubicBezTo>
                    <a:pt x="243" y="235"/>
                    <a:pt x="236" y="254"/>
                    <a:pt x="249" y="266"/>
                  </a:cubicBezTo>
                  <a:cubicBezTo>
                    <a:pt x="268" y="263"/>
                    <a:pt x="287" y="256"/>
                    <a:pt x="307" y="259"/>
                  </a:cubicBezTo>
                  <a:cubicBezTo>
                    <a:pt x="324" y="261"/>
                    <a:pt x="337" y="275"/>
                    <a:pt x="353" y="278"/>
                  </a:cubicBezTo>
                  <a:cubicBezTo>
                    <a:pt x="365" y="281"/>
                    <a:pt x="378" y="280"/>
                    <a:pt x="390" y="280"/>
                  </a:cubicBezTo>
                  <a:cubicBezTo>
                    <a:pt x="378" y="285"/>
                    <a:pt x="366" y="289"/>
                    <a:pt x="353" y="287"/>
                  </a:cubicBezTo>
                  <a:cubicBezTo>
                    <a:pt x="331" y="285"/>
                    <a:pt x="311" y="270"/>
                    <a:pt x="289" y="273"/>
                  </a:cubicBezTo>
                  <a:cubicBezTo>
                    <a:pt x="274" y="274"/>
                    <a:pt x="256" y="280"/>
                    <a:pt x="252" y="296"/>
                  </a:cubicBezTo>
                  <a:cubicBezTo>
                    <a:pt x="246" y="316"/>
                    <a:pt x="247" y="342"/>
                    <a:pt x="227" y="354"/>
                  </a:cubicBezTo>
                  <a:cubicBezTo>
                    <a:pt x="228" y="339"/>
                    <a:pt x="234" y="325"/>
                    <a:pt x="237" y="310"/>
                  </a:cubicBezTo>
                  <a:cubicBezTo>
                    <a:pt x="228" y="312"/>
                    <a:pt x="216" y="313"/>
                    <a:pt x="208" y="306"/>
                  </a:cubicBezTo>
                  <a:cubicBezTo>
                    <a:pt x="197" y="295"/>
                    <a:pt x="187" y="278"/>
                    <a:pt x="169" y="280"/>
                  </a:cubicBezTo>
                  <a:cubicBezTo>
                    <a:pt x="154" y="284"/>
                    <a:pt x="142" y="293"/>
                    <a:pt x="130" y="302"/>
                  </a:cubicBezTo>
                  <a:cubicBezTo>
                    <a:pt x="112" y="316"/>
                    <a:pt x="92" y="329"/>
                    <a:pt x="81" y="349"/>
                  </a:cubicBezTo>
                  <a:cubicBezTo>
                    <a:pt x="67" y="374"/>
                    <a:pt x="57" y="401"/>
                    <a:pt x="55" y="429"/>
                  </a:cubicBezTo>
                  <a:cubicBezTo>
                    <a:pt x="53" y="438"/>
                    <a:pt x="56" y="446"/>
                    <a:pt x="59" y="453"/>
                  </a:cubicBezTo>
                  <a:cubicBezTo>
                    <a:pt x="43" y="457"/>
                    <a:pt x="43" y="476"/>
                    <a:pt x="42" y="489"/>
                  </a:cubicBezTo>
                  <a:cubicBezTo>
                    <a:pt x="43" y="514"/>
                    <a:pt x="44" y="541"/>
                    <a:pt x="54" y="564"/>
                  </a:cubicBezTo>
                  <a:cubicBezTo>
                    <a:pt x="66" y="586"/>
                    <a:pt x="98" y="592"/>
                    <a:pt x="118" y="578"/>
                  </a:cubicBezTo>
                  <a:cubicBezTo>
                    <a:pt x="127" y="567"/>
                    <a:pt x="130" y="553"/>
                    <a:pt x="136" y="541"/>
                  </a:cubicBezTo>
                  <a:cubicBezTo>
                    <a:pt x="135" y="553"/>
                    <a:pt x="134" y="566"/>
                    <a:pt x="141" y="576"/>
                  </a:cubicBezTo>
                  <a:cubicBezTo>
                    <a:pt x="153" y="595"/>
                    <a:pt x="175" y="603"/>
                    <a:pt x="194" y="612"/>
                  </a:cubicBezTo>
                  <a:cubicBezTo>
                    <a:pt x="215" y="619"/>
                    <a:pt x="235" y="630"/>
                    <a:pt x="257" y="631"/>
                  </a:cubicBezTo>
                  <a:cubicBezTo>
                    <a:pt x="277" y="632"/>
                    <a:pt x="299" y="628"/>
                    <a:pt x="312" y="612"/>
                  </a:cubicBezTo>
                  <a:cubicBezTo>
                    <a:pt x="327" y="593"/>
                    <a:pt x="346" y="579"/>
                    <a:pt x="362" y="562"/>
                  </a:cubicBezTo>
                  <a:cubicBezTo>
                    <a:pt x="369" y="572"/>
                    <a:pt x="366" y="585"/>
                    <a:pt x="368" y="597"/>
                  </a:cubicBezTo>
                  <a:cubicBezTo>
                    <a:pt x="351" y="615"/>
                    <a:pt x="328" y="626"/>
                    <a:pt x="316" y="648"/>
                  </a:cubicBezTo>
                  <a:cubicBezTo>
                    <a:pt x="296" y="677"/>
                    <a:pt x="302" y="715"/>
                    <a:pt x="316" y="746"/>
                  </a:cubicBezTo>
                  <a:cubicBezTo>
                    <a:pt x="333" y="773"/>
                    <a:pt x="360" y="793"/>
                    <a:pt x="389" y="805"/>
                  </a:cubicBezTo>
                  <a:cubicBezTo>
                    <a:pt x="378" y="806"/>
                    <a:pt x="367" y="806"/>
                    <a:pt x="357" y="802"/>
                  </a:cubicBezTo>
                  <a:cubicBezTo>
                    <a:pt x="349" y="800"/>
                    <a:pt x="341" y="793"/>
                    <a:pt x="334" y="799"/>
                  </a:cubicBezTo>
                  <a:cubicBezTo>
                    <a:pt x="331" y="819"/>
                    <a:pt x="352" y="830"/>
                    <a:pt x="365" y="841"/>
                  </a:cubicBezTo>
                  <a:cubicBezTo>
                    <a:pt x="358" y="847"/>
                    <a:pt x="352" y="854"/>
                    <a:pt x="345" y="859"/>
                  </a:cubicBezTo>
                  <a:cubicBezTo>
                    <a:pt x="325" y="846"/>
                    <a:pt x="307" y="829"/>
                    <a:pt x="299" y="805"/>
                  </a:cubicBezTo>
                  <a:cubicBezTo>
                    <a:pt x="289" y="779"/>
                    <a:pt x="301" y="750"/>
                    <a:pt x="291" y="723"/>
                  </a:cubicBezTo>
                  <a:cubicBezTo>
                    <a:pt x="288" y="713"/>
                    <a:pt x="284" y="704"/>
                    <a:pt x="281" y="694"/>
                  </a:cubicBezTo>
                  <a:cubicBezTo>
                    <a:pt x="238" y="697"/>
                    <a:pt x="194" y="690"/>
                    <a:pt x="153" y="677"/>
                  </a:cubicBezTo>
                  <a:cubicBezTo>
                    <a:pt x="131" y="670"/>
                    <a:pt x="108" y="662"/>
                    <a:pt x="89" y="647"/>
                  </a:cubicBezTo>
                  <a:cubicBezTo>
                    <a:pt x="59" y="623"/>
                    <a:pt x="36" y="589"/>
                    <a:pt x="26" y="552"/>
                  </a:cubicBezTo>
                  <a:cubicBezTo>
                    <a:pt x="14" y="499"/>
                    <a:pt x="0" y="444"/>
                    <a:pt x="11" y="389"/>
                  </a:cubicBezTo>
                  <a:cubicBezTo>
                    <a:pt x="20" y="353"/>
                    <a:pt x="29" y="316"/>
                    <a:pt x="46" y="282"/>
                  </a:cubicBezTo>
                  <a:cubicBezTo>
                    <a:pt x="60" y="253"/>
                    <a:pt x="83" y="228"/>
                    <a:pt x="101" y="201"/>
                  </a:cubicBezTo>
                  <a:cubicBezTo>
                    <a:pt x="130" y="167"/>
                    <a:pt x="163" y="138"/>
                    <a:pt x="200" y="113"/>
                  </a:cubicBezTo>
                  <a:cubicBezTo>
                    <a:pt x="231" y="91"/>
                    <a:pt x="263" y="68"/>
                    <a:pt x="299" y="56"/>
                  </a:cubicBezTo>
                  <a:close/>
                  <a:moveTo>
                    <a:pt x="263" y="99"/>
                  </a:moveTo>
                  <a:cubicBezTo>
                    <a:pt x="234" y="124"/>
                    <a:pt x="200" y="140"/>
                    <a:pt x="169" y="161"/>
                  </a:cubicBezTo>
                  <a:cubicBezTo>
                    <a:pt x="153" y="172"/>
                    <a:pt x="133" y="182"/>
                    <a:pt x="126" y="201"/>
                  </a:cubicBezTo>
                  <a:cubicBezTo>
                    <a:pt x="123" y="209"/>
                    <a:pt x="135" y="211"/>
                    <a:pt x="140" y="207"/>
                  </a:cubicBezTo>
                  <a:cubicBezTo>
                    <a:pt x="154" y="200"/>
                    <a:pt x="164" y="186"/>
                    <a:pt x="177" y="177"/>
                  </a:cubicBezTo>
                  <a:cubicBezTo>
                    <a:pt x="191" y="167"/>
                    <a:pt x="209" y="167"/>
                    <a:pt x="225" y="167"/>
                  </a:cubicBezTo>
                  <a:cubicBezTo>
                    <a:pt x="199" y="177"/>
                    <a:pt x="165" y="185"/>
                    <a:pt x="155" y="216"/>
                  </a:cubicBezTo>
                  <a:cubicBezTo>
                    <a:pt x="128" y="219"/>
                    <a:pt x="108" y="239"/>
                    <a:pt x="92" y="259"/>
                  </a:cubicBezTo>
                  <a:cubicBezTo>
                    <a:pt x="80" y="274"/>
                    <a:pt x="66" y="290"/>
                    <a:pt x="61" y="309"/>
                  </a:cubicBezTo>
                  <a:cubicBezTo>
                    <a:pt x="60" y="321"/>
                    <a:pt x="72" y="326"/>
                    <a:pt x="81" y="327"/>
                  </a:cubicBezTo>
                  <a:cubicBezTo>
                    <a:pt x="105" y="298"/>
                    <a:pt x="138" y="272"/>
                    <a:pt x="177" y="271"/>
                  </a:cubicBezTo>
                  <a:cubicBezTo>
                    <a:pt x="194" y="271"/>
                    <a:pt x="203" y="288"/>
                    <a:pt x="217" y="294"/>
                  </a:cubicBezTo>
                  <a:cubicBezTo>
                    <a:pt x="229" y="294"/>
                    <a:pt x="240" y="281"/>
                    <a:pt x="236" y="269"/>
                  </a:cubicBezTo>
                  <a:cubicBezTo>
                    <a:pt x="232" y="254"/>
                    <a:pt x="219" y="243"/>
                    <a:pt x="204" y="239"/>
                  </a:cubicBezTo>
                  <a:cubicBezTo>
                    <a:pt x="186" y="235"/>
                    <a:pt x="166" y="238"/>
                    <a:pt x="148" y="242"/>
                  </a:cubicBezTo>
                  <a:cubicBezTo>
                    <a:pt x="168" y="228"/>
                    <a:pt x="194" y="231"/>
                    <a:pt x="217" y="225"/>
                  </a:cubicBezTo>
                  <a:cubicBezTo>
                    <a:pt x="233" y="222"/>
                    <a:pt x="239" y="205"/>
                    <a:pt x="251" y="195"/>
                  </a:cubicBezTo>
                  <a:cubicBezTo>
                    <a:pt x="263" y="183"/>
                    <a:pt x="282" y="176"/>
                    <a:pt x="285" y="158"/>
                  </a:cubicBezTo>
                  <a:cubicBezTo>
                    <a:pt x="288" y="144"/>
                    <a:pt x="281" y="131"/>
                    <a:pt x="270" y="124"/>
                  </a:cubicBezTo>
                  <a:cubicBezTo>
                    <a:pt x="286" y="126"/>
                    <a:pt x="303" y="122"/>
                    <a:pt x="312" y="108"/>
                  </a:cubicBezTo>
                  <a:cubicBezTo>
                    <a:pt x="319" y="96"/>
                    <a:pt x="331" y="84"/>
                    <a:pt x="328" y="69"/>
                  </a:cubicBezTo>
                  <a:cubicBezTo>
                    <a:pt x="304" y="74"/>
                    <a:pt x="281" y="83"/>
                    <a:pt x="263" y="99"/>
                  </a:cubicBezTo>
                  <a:close/>
                  <a:moveTo>
                    <a:pt x="49" y="332"/>
                  </a:moveTo>
                  <a:cubicBezTo>
                    <a:pt x="38" y="359"/>
                    <a:pt x="27" y="387"/>
                    <a:pt x="26" y="417"/>
                  </a:cubicBezTo>
                  <a:cubicBezTo>
                    <a:pt x="24" y="439"/>
                    <a:pt x="28" y="460"/>
                    <a:pt x="32" y="482"/>
                  </a:cubicBezTo>
                  <a:cubicBezTo>
                    <a:pt x="37" y="456"/>
                    <a:pt x="38" y="430"/>
                    <a:pt x="45" y="405"/>
                  </a:cubicBezTo>
                  <a:cubicBezTo>
                    <a:pt x="51" y="385"/>
                    <a:pt x="59" y="366"/>
                    <a:pt x="61" y="345"/>
                  </a:cubicBezTo>
                  <a:cubicBezTo>
                    <a:pt x="62" y="337"/>
                    <a:pt x="55" y="334"/>
                    <a:pt x="49" y="332"/>
                  </a:cubicBezTo>
                  <a:close/>
                  <a:moveTo>
                    <a:pt x="67" y="595"/>
                  </a:moveTo>
                  <a:cubicBezTo>
                    <a:pt x="77" y="607"/>
                    <a:pt x="85" y="621"/>
                    <a:pt x="99" y="628"/>
                  </a:cubicBezTo>
                  <a:cubicBezTo>
                    <a:pt x="123" y="635"/>
                    <a:pt x="149" y="631"/>
                    <a:pt x="174" y="626"/>
                  </a:cubicBezTo>
                  <a:cubicBezTo>
                    <a:pt x="163" y="613"/>
                    <a:pt x="149" y="603"/>
                    <a:pt x="132" y="598"/>
                  </a:cubicBezTo>
                  <a:cubicBezTo>
                    <a:pt x="111" y="595"/>
                    <a:pt x="89" y="600"/>
                    <a:pt x="67" y="595"/>
                  </a:cubicBezTo>
                  <a:close/>
                  <a:moveTo>
                    <a:pt x="159" y="648"/>
                  </a:moveTo>
                  <a:cubicBezTo>
                    <a:pt x="185" y="664"/>
                    <a:pt x="216" y="668"/>
                    <a:pt x="245" y="665"/>
                  </a:cubicBezTo>
                  <a:cubicBezTo>
                    <a:pt x="256" y="664"/>
                    <a:pt x="271" y="662"/>
                    <a:pt x="275" y="649"/>
                  </a:cubicBezTo>
                  <a:cubicBezTo>
                    <a:pt x="266" y="646"/>
                    <a:pt x="258" y="643"/>
                    <a:pt x="249" y="644"/>
                  </a:cubicBezTo>
                  <a:cubicBezTo>
                    <a:pt x="226" y="646"/>
                    <a:pt x="202" y="642"/>
                    <a:pt x="181" y="630"/>
                  </a:cubicBezTo>
                  <a:cubicBezTo>
                    <a:pt x="172" y="634"/>
                    <a:pt x="163" y="639"/>
                    <a:pt x="159" y="6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62" name="Freeform 6"/>
            <p:cNvSpPr/>
            <p:nvPr/>
          </p:nvSpPr>
          <p:spPr>
            <a:xfrm>
              <a:off x="2954160" y="3204720"/>
              <a:ext cx="380160" cy="27504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43" h="103">
                  <a:moveTo>
                    <a:pt x="51" y="67"/>
                  </a:moveTo>
                  <a:cubicBezTo>
                    <a:pt x="41" y="43"/>
                    <a:pt x="52" y="15"/>
                    <a:pt x="73" y="0"/>
                  </a:cubicBezTo>
                  <a:cubicBezTo>
                    <a:pt x="65" y="12"/>
                    <a:pt x="56" y="25"/>
                    <a:pt x="58" y="40"/>
                  </a:cubicBezTo>
                  <a:cubicBezTo>
                    <a:pt x="59" y="52"/>
                    <a:pt x="69" y="66"/>
                    <a:pt x="82" y="63"/>
                  </a:cubicBezTo>
                  <a:cubicBezTo>
                    <a:pt x="93" y="62"/>
                    <a:pt x="97" y="51"/>
                    <a:pt x="103" y="44"/>
                  </a:cubicBezTo>
                  <a:cubicBezTo>
                    <a:pt x="112" y="31"/>
                    <a:pt x="127" y="23"/>
                    <a:pt x="143" y="24"/>
                  </a:cubicBezTo>
                  <a:cubicBezTo>
                    <a:pt x="129" y="30"/>
                    <a:pt x="116" y="40"/>
                    <a:pt x="107" y="53"/>
                  </a:cubicBezTo>
                  <a:cubicBezTo>
                    <a:pt x="97" y="68"/>
                    <a:pt x="84" y="83"/>
                    <a:pt x="84" y="103"/>
                  </a:cubicBezTo>
                  <a:cubicBezTo>
                    <a:pt x="74" y="89"/>
                    <a:pt x="59" y="79"/>
                    <a:pt x="42" y="77"/>
                  </a:cubicBezTo>
                  <a:cubicBezTo>
                    <a:pt x="28" y="75"/>
                    <a:pt x="14" y="80"/>
                    <a:pt x="0" y="82"/>
                  </a:cubicBezTo>
                  <a:cubicBezTo>
                    <a:pt x="14" y="70"/>
                    <a:pt x="33" y="66"/>
                    <a:pt x="51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63" name="Freeform 7"/>
            <p:cNvSpPr/>
            <p:nvPr/>
          </p:nvSpPr>
          <p:spPr>
            <a:xfrm>
              <a:off x="2414880" y="3510360"/>
              <a:ext cx="2557440" cy="256968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959" h="964">
                  <a:moveTo>
                    <a:pt x="698" y="16"/>
                  </a:moveTo>
                  <a:cubicBezTo>
                    <a:pt x="704" y="10"/>
                    <a:pt x="710" y="5"/>
                    <a:pt x="716" y="0"/>
                  </a:cubicBezTo>
                  <a:cubicBezTo>
                    <a:pt x="732" y="17"/>
                    <a:pt x="752" y="32"/>
                    <a:pt x="768" y="50"/>
                  </a:cubicBezTo>
                  <a:cubicBezTo>
                    <a:pt x="812" y="96"/>
                    <a:pt x="848" y="148"/>
                    <a:pt x="880" y="202"/>
                  </a:cubicBezTo>
                  <a:cubicBezTo>
                    <a:pt x="927" y="277"/>
                    <a:pt x="955" y="365"/>
                    <a:pt x="959" y="454"/>
                  </a:cubicBezTo>
                  <a:cubicBezTo>
                    <a:pt x="957" y="518"/>
                    <a:pt x="942" y="584"/>
                    <a:pt x="900" y="634"/>
                  </a:cubicBezTo>
                  <a:cubicBezTo>
                    <a:pt x="888" y="647"/>
                    <a:pt x="879" y="663"/>
                    <a:pt x="862" y="671"/>
                  </a:cubicBezTo>
                  <a:cubicBezTo>
                    <a:pt x="837" y="684"/>
                    <a:pt x="808" y="685"/>
                    <a:pt x="781" y="686"/>
                  </a:cubicBezTo>
                  <a:cubicBezTo>
                    <a:pt x="773" y="713"/>
                    <a:pt x="766" y="740"/>
                    <a:pt x="747" y="761"/>
                  </a:cubicBezTo>
                  <a:cubicBezTo>
                    <a:pt x="726" y="787"/>
                    <a:pt x="693" y="798"/>
                    <a:pt x="661" y="804"/>
                  </a:cubicBezTo>
                  <a:cubicBezTo>
                    <a:pt x="614" y="812"/>
                    <a:pt x="566" y="810"/>
                    <a:pt x="520" y="819"/>
                  </a:cubicBezTo>
                  <a:cubicBezTo>
                    <a:pt x="521" y="857"/>
                    <a:pt x="553" y="883"/>
                    <a:pt x="564" y="918"/>
                  </a:cubicBezTo>
                  <a:cubicBezTo>
                    <a:pt x="569" y="931"/>
                    <a:pt x="556" y="942"/>
                    <a:pt x="546" y="948"/>
                  </a:cubicBezTo>
                  <a:cubicBezTo>
                    <a:pt x="529" y="958"/>
                    <a:pt x="509" y="964"/>
                    <a:pt x="490" y="961"/>
                  </a:cubicBezTo>
                  <a:cubicBezTo>
                    <a:pt x="453" y="905"/>
                    <a:pt x="409" y="854"/>
                    <a:pt x="360" y="809"/>
                  </a:cubicBezTo>
                  <a:cubicBezTo>
                    <a:pt x="350" y="800"/>
                    <a:pt x="341" y="789"/>
                    <a:pt x="327" y="785"/>
                  </a:cubicBezTo>
                  <a:cubicBezTo>
                    <a:pt x="301" y="777"/>
                    <a:pt x="281" y="755"/>
                    <a:pt x="267" y="732"/>
                  </a:cubicBezTo>
                  <a:cubicBezTo>
                    <a:pt x="213" y="751"/>
                    <a:pt x="154" y="756"/>
                    <a:pt x="98" y="744"/>
                  </a:cubicBezTo>
                  <a:cubicBezTo>
                    <a:pt x="64" y="736"/>
                    <a:pt x="32" y="724"/>
                    <a:pt x="0" y="710"/>
                  </a:cubicBezTo>
                  <a:cubicBezTo>
                    <a:pt x="7" y="704"/>
                    <a:pt x="13" y="697"/>
                    <a:pt x="20" y="691"/>
                  </a:cubicBezTo>
                  <a:cubicBezTo>
                    <a:pt x="27" y="696"/>
                    <a:pt x="34" y="701"/>
                    <a:pt x="42" y="704"/>
                  </a:cubicBezTo>
                  <a:cubicBezTo>
                    <a:pt x="106" y="727"/>
                    <a:pt x="178" y="729"/>
                    <a:pt x="244" y="712"/>
                  </a:cubicBezTo>
                  <a:cubicBezTo>
                    <a:pt x="287" y="701"/>
                    <a:pt x="329" y="684"/>
                    <a:pt x="369" y="665"/>
                  </a:cubicBezTo>
                  <a:cubicBezTo>
                    <a:pt x="346" y="653"/>
                    <a:pt x="326" y="633"/>
                    <a:pt x="317" y="609"/>
                  </a:cubicBezTo>
                  <a:cubicBezTo>
                    <a:pt x="294" y="612"/>
                    <a:pt x="264" y="614"/>
                    <a:pt x="249" y="635"/>
                  </a:cubicBezTo>
                  <a:cubicBezTo>
                    <a:pt x="245" y="649"/>
                    <a:pt x="247" y="665"/>
                    <a:pt x="241" y="679"/>
                  </a:cubicBezTo>
                  <a:cubicBezTo>
                    <a:pt x="237" y="690"/>
                    <a:pt x="229" y="699"/>
                    <a:pt x="220" y="706"/>
                  </a:cubicBezTo>
                  <a:cubicBezTo>
                    <a:pt x="227" y="691"/>
                    <a:pt x="239" y="675"/>
                    <a:pt x="234" y="657"/>
                  </a:cubicBezTo>
                  <a:cubicBezTo>
                    <a:pt x="233" y="646"/>
                    <a:pt x="223" y="637"/>
                    <a:pt x="212" y="637"/>
                  </a:cubicBezTo>
                  <a:cubicBezTo>
                    <a:pt x="197" y="635"/>
                    <a:pt x="184" y="640"/>
                    <a:pt x="171" y="646"/>
                  </a:cubicBezTo>
                  <a:cubicBezTo>
                    <a:pt x="180" y="636"/>
                    <a:pt x="191" y="628"/>
                    <a:pt x="203" y="625"/>
                  </a:cubicBezTo>
                  <a:cubicBezTo>
                    <a:pt x="230" y="618"/>
                    <a:pt x="259" y="615"/>
                    <a:pt x="282" y="600"/>
                  </a:cubicBezTo>
                  <a:cubicBezTo>
                    <a:pt x="293" y="594"/>
                    <a:pt x="290" y="580"/>
                    <a:pt x="292" y="570"/>
                  </a:cubicBezTo>
                  <a:cubicBezTo>
                    <a:pt x="292" y="556"/>
                    <a:pt x="298" y="543"/>
                    <a:pt x="308" y="532"/>
                  </a:cubicBezTo>
                  <a:cubicBezTo>
                    <a:pt x="303" y="547"/>
                    <a:pt x="295" y="563"/>
                    <a:pt x="304" y="578"/>
                  </a:cubicBezTo>
                  <a:cubicBezTo>
                    <a:pt x="316" y="599"/>
                    <a:pt x="346" y="601"/>
                    <a:pt x="367" y="592"/>
                  </a:cubicBezTo>
                  <a:cubicBezTo>
                    <a:pt x="377" y="582"/>
                    <a:pt x="379" y="565"/>
                    <a:pt x="392" y="557"/>
                  </a:cubicBezTo>
                  <a:cubicBezTo>
                    <a:pt x="389" y="568"/>
                    <a:pt x="382" y="583"/>
                    <a:pt x="393" y="593"/>
                  </a:cubicBezTo>
                  <a:cubicBezTo>
                    <a:pt x="407" y="602"/>
                    <a:pt x="425" y="602"/>
                    <a:pt x="440" y="597"/>
                  </a:cubicBezTo>
                  <a:cubicBezTo>
                    <a:pt x="456" y="593"/>
                    <a:pt x="471" y="582"/>
                    <a:pt x="488" y="587"/>
                  </a:cubicBezTo>
                  <a:cubicBezTo>
                    <a:pt x="509" y="594"/>
                    <a:pt x="525" y="610"/>
                    <a:pt x="546" y="616"/>
                  </a:cubicBezTo>
                  <a:cubicBezTo>
                    <a:pt x="579" y="625"/>
                    <a:pt x="614" y="625"/>
                    <a:pt x="648" y="622"/>
                  </a:cubicBezTo>
                  <a:cubicBezTo>
                    <a:pt x="672" y="622"/>
                    <a:pt x="694" y="605"/>
                    <a:pt x="706" y="584"/>
                  </a:cubicBezTo>
                  <a:cubicBezTo>
                    <a:pt x="721" y="557"/>
                    <a:pt x="714" y="524"/>
                    <a:pt x="706" y="495"/>
                  </a:cubicBezTo>
                  <a:cubicBezTo>
                    <a:pt x="702" y="479"/>
                    <a:pt x="684" y="485"/>
                    <a:pt x="672" y="486"/>
                  </a:cubicBezTo>
                  <a:cubicBezTo>
                    <a:pt x="639" y="492"/>
                    <a:pt x="611" y="469"/>
                    <a:pt x="580" y="464"/>
                  </a:cubicBezTo>
                  <a:cubicBezTo>
                    <a:pt x="558" y="466"/>
                    <a:pt x="541" y="481"/>
                    <a:pt x="520" y="486"/>
                  </a:cubicBezTo>
                  <a:cubicBezTo>
                    <a:pt x="508" y="490"/>
                    <a:pt x="495" y="492"/>
                    <a:pt x="482" y="490"/>
                  </a:cubicBezTo>
                  <a:cubicBezTo>
                    <a:pt x="499" y="480"/>
                    <a:pt x="520" y="479"/>
                    <a:pt x="536" y="467"/>
                  </a:cubicBezTo>
                  <a:cubicBezTo>
                    <a:pt x="559" y="457"/>
                    <a:pt x="576" y="432"/>
                    <a:pt x="571" y="406"/>
                  </a:cubicBezTo>
                  <a:cubicBezTo>
                    <a:pt x="557" y="406"/>
                    <a:pt x="545" y="411"/>
                    <a:pt x="532" y="415"/>
                  </a:cubicBezTo>
                  <a:cubicBezTo>
                    <a:pt x="529" y="414"/>
                    <a:pt x="522" y="412"/>
                    <a:pt x="519" y="411"/>
                  </a:cubicBezTo>
                  <a:cubicBezTo>
                    <a:pt x="545" y="398"/>
                    <a:pt x="573" y="384"/>
                    <a:pt x="591" y="360"/>
                  </a:cubicBezTo>
                  <a:cubicBezTo>
                    <a:pt x="604" y="343"/>
                    <a:pt x="613" y="323"/>
                    <a:pt x="622" y="303"/>
                  </a:cubicBezTo>
                  <a:cubicBezTo>
                    <a:pt x="646" y="253"/>
                    <a:pt x="652" y="197"/>
                    <a:pt x="656" y="142"/>
                  </a:cubicBezTo>
                  <a:cubicBezTo>
                    <a:pt x="658" y="116"/>
                    <a:pt x="651" y="88"/>
                    <a:pt x="635" y="67"/>
                  </a:cubicBezTo>
                  <a:cubicBezTo>
                    <a:pt x="629" y="58"/>
                    <a:pt x="618" y="56"/>
                    <a:pt x="607" y="55"/>
                  </a:cubicBezTo>
                  <a:cubicBezTo>
                    <a:pt x="623" y="51"/>
                    <a:pt x="640" y="54"/>
                    <a:pt x="651" y="66"/>
                  </a:cubicBezTo>
                  <a:cubicBezTo>
                    <a:pt x="658" y="73"/>
                    <a:pt x="664" y="88"/>
                    <a:pt x="676" y="83"/>
                  </a:cubicBezTo>
                  <a:cubicBezTo>
                    <a:pt x="691" y="78"/>
                    <a:pt x="708" y="82"/>
                    <a:pt x="723" y="77"/>
                  </a:cubicBezTo>
                  <a:cubicBezTo>
                    <a:pt x="730" y="75"/>
                    <a:pt x="734" y="69"/>
                    <a:pt x="734" y="62"/>
                  </a:cubicBezTo>
                  <a:cubicBezTo>
                    <a:pt x="732" y="41"/>
                    <a:pt x="710" y="31"/>
                    <a:pt x="698" y="16"/>
                  </a:cubicBezTo>
                  <a:close/>
                  <a:moveTo>
                    <a:pt x="673" y="105"/>
                  </a:moveTo>
                  <a:cubicBezTo>
                    <a:pt x="671" y="126"/>
                    <a:pt x="675" y="146"/>
                    <a:pt x="670" y="167"/>
                  </a:cubicBezTo>
                  <a:cubicBezTo>
                    <a:pt x="663" y="199"/>
                    <a:pt x="658" y="233"/>
                    <a:pt x="657" y="266"/>
                  </a:cubicBezTo>
                  <a:cubicBezTo>
                    <a:pt x="658" y="299"/>
                    <a:pt x="678" y="330"/>
                    <a:pt x="705" y="349"/>
                  </a:cubicBezTo>
                  <a:cubicBezTo>
                    <a:pt x="711" y="352"/>
                    <a:pt x="714" y="358"/>
                    <a:pt x="714" y="365"/>
                  </a:cubicBezTo>
                  <a:cubicBezTo>
                    <a:pt x="692" y="358"/>
                    <a:pt x="672" y="342"/>
                    <a:pt x="660" y="322"/>
                  </a:cubicBezTo>
                  <a:cubicBezTo>
                    <a:pt x="656" y="316"/>
                    <a:pt x="650" y="310"/>
                    <a:pt x="644" y="307"/>
                  </a:cubicBezTo>
                  <a:cubicBezTo>
                    <a:pt x="630" y="320"/>
                    <a:pt x="627" y="339"/>
                    <a:pt x="617" y="355"/>
                  </a:cubicBezTo>
                  <a:cubicBezTo>
                    <a:pt x="605" y="378"/>
                    <a:pt x="580" y="395"/>
                    <a:pt x="578" y="423"/>
                  </a:cubicBezTo>
                  <a:cubicBezTo>
                    <a:pt x="574" y="435"/>
                    <a:pt x="578" y="448"/>
                    <a:pt x="590" y="455"/>
                  </a:cubicBezTo>
                  <a:cubicBezTo>
                    <a:pt x="590" y="448"/>
                    <a:pt x="590" y="441"/>
                    <a:pt x="590" y="434"/>
                  </a:cubicBezTo>
                  <a:cubicBezTo>
                    <a:pt x="590" y="440"/>
                    <a:pt x="590" y="446"/>
                    <a:pt x="591" y="451"/>
                  </a:cubicBezTo>
                  <a:cubicBezTo>
                    <a:pt x="612" y="461"/>
                    <a:pt x="634" y="469"/>
                    <a:pt x="656" y="473"/>
                  </a:cubicBezTo>
                  <a:cubicBezTo>
                    <a:pt x="675" y="475"/>
                    <a:pt x="694" y="470"/>
                    <a:pt x="712" y="475"/>
                  </a:cubicBezTo>
                  <a:cubicBezTo>
                    <a:pt x="715" y="481"/>
                    <a:pt x="713" y="488"/>
                    <a:pt x="717" y="494"/>
                  </a:cubicBezTo>
                  <a:cubicBezTo>
                    <a:pt x="718" y="506"/>
                    <a:pt x="718" y="520"/>
                    <a:pt x="723" y="532"/>
                  </a:cubicBezTo>
                  <a:cubicBezTo>
                    <a:pt x="735" y="550"/>
                    <a:pt x="760" y="553"/>
                    <a:pt x="780" y="550"/>
                  </a:cubicBezTo>
                  <a:cubicBezTo>
                    <a:pt x="809" y="548"/>
                    <a:pt x="834" y="529"/>
                    <a:pt x="851" y="506"/>
                  </a:cubicBezTo>
                  <a:cubicBezTo>
                    <a:pt x="843" y="522"/>
                    <a:pt x="833" y="538"/>
                    <a:pt x="818" y="548"/>
                  </a:cubicBezTo>
                  <a:cubicBezTo>
                    <a:pt x="791" y="566"/>
                    <a:pt x="756" y="571"/>
                    <a:pt x="726" y="558"/>
                  </a:cubicBezTo>
                  <a:cubicBezTo>
                    <a:pt x="726" y="576"/>
                    <a:pt x="715" y="590"/>
                    <a:pt x="708" y="606"/>
                  </a:cubicBezTo>
                  <a:cubicBezTo>
                    <a:pt x="703" y="620"/>
                    <a:pt x="707" y="639"/>
                    <a:pt x="722" y="644"/>
                  </a:cubicBezTo>
                  <a:cubicBezTo>
                    <a:pt x="757" y="662"/>
                    <a:pt x="799" y="667"/>
                    <a:pt x="836" y="655"/>
                  </a:cubicBezTo>
                  <a:cubicBezTo>
                    <a:pt x="856" y="649"/>
                    <a:pt x="873" y="636"/>
                    <a:pt x="885" y="620"/>
                  </a:cubicBezTo>
                  <a:cubicBezTo>
                    <a:pt x="890" y="613"/>
                    <a:pt x="893" y="602"/>
                    <a:pt x="885" y="597"/>
                  </a:cubicBezTo>
                  <a:cubicBezTo>
                    <a:pt x="874" y="588"/>
                    <a:pt x="860" y="596"/>
                    <a:pt x="849" y="600"/>
                  </a:cubicBezTo>
                  <a:cubicBezTo>
                    <a:pt x="842" y="604"/>
                    <a:pt x="831" y="604"/>
                    <a:pt x="828" y="613"/>
                  </a:cubicBezTo>
                  <a:cubicBezTo>
                    <a:pt x="820" y="630"/>
                    <a:pt x="801" y="637"/>
                    <a:pt x="784" y="641"/>
                  </a:cubicBezTo>
                  <a:cubicBezTo>
                    <a:pt x="796" y="632"/>
                    <a:pt x="810" y="624"/>
                    <a:pt x="816" y="610"/>
                  </a:cubicBezTo>
                  <a:cubicBezTo>
                    <a:pt x="804" y="606"/>
                    <a:pt x="793" y="601"/>
                    <a:pt x="785" y="592"/>
                  </a:cubicBezTo>
                  <a:cubicBezTo>
                    <a:pt x="809" y="604"/>
                    <a:pt x="840" y="602"/>
                    <a:pt x="859" y="581"/>
                  </a:cubicBezTo>
                  <a:cubicBezTo>
                    <a:pt x="880" y="593"/>
                    <a:pt x="915" y="581"/>
                    <a:pt x="917" y="554"/>
                  </a:cubicBezTo>
                  <a:cubicBezTo>
                    <a:pt x="918" y="532"/>
                    <a:pt x="900" y="515"/>
                    <a:pt x="884" y="503"/>
                  </a:cubicBezTo>
                  <a:cubicBezTo>
                    <a:pt x="900" y="506"/>
                    <a:pt x="913" y="516"/>
                    <a:pt x="925" y="527"/>
                  </a:cubicBezTo>
                  <a:cubicBezTo>
                    <a:pt x="927" y="523"/>
                    <a:pt x="933" y="520"/>
                    <a:pt x="932" y="514"/>
                  </a:cubicBezTo>
                  <a:cubicBezTo>
                    <a:pt x="934" y="494"/>
                    <a:pt x="937" y="471"/>
                    <a:pt x="925" y="454"/>
                  </a:cubicBezTo>
                  <a:cubicBezTo>
                    <a:pt x="916" y="439"/>
                    <a:pt x="901" y="432"/>
                    <a:pt x="886" y="426"/>
                  </a:cubicBezTo>
                  <a:cubicBezTo>
                    <a:pt x="886" y="448"/>
                    <a:pt x="882" y="471"/>
                    <a:pt x="865" y="486"/>
                  </a:cubicBezTo>
                  <a:cubicBezTo>
                    <a:pt x="876" y="464"/>
                    <a:pt x="882" y="433"/>
                    <a:pt x="861" y="414"/>
                  </a:cubicBezTo>
                  <a:cubicBezTo>
                    <a:pt x="871" y="396"/>
                    <a:pt x="882" y="375"/>
                    <a:pt x="875" y="354"/>
                  </a:cubicBezTo>
                  <a:cubicBezTo>
                    <a:pt x="873" y="343"/>
                    <a:pt x="863" y="336"/>
                    <a:pt x="853" y="330"/>
                  </a:cubicBezTo>
                  <a:cubicBezTo>
                    <a:pt x="863" y="322"/>
                    <a:pt x="873" y="313"/>
                    <a:pt x="879" y="301"/>
                  </a:cubicBezTo>
                  <a:cubicBezTo>
                    <a:pt x="893" y="277"/>
                    <a:pt x="891" y="243"/>
                    <a:pt x="871" y="222"/>
                  </a:cubicBezTo>
                  <a:cubicBezTo>
                    <a:pt x="858" y="209"/>
                    <a:pt x="836" y="208"/>
                    <a:pt x="822" y="221"/>
                  </a:cubicBezTo>
                  <a:cubicBezTo>
                    <a:pt x="804" y="237"/>
                    <a:pt x="795" y="263"/>
                    <a:pt x="772" y="274"/>
                  </a:cubicBezTo>
                  <a:cubicBezTo>
                    <a:pt x="754" y="280"/>
                    <a:pt x="732" y="270"/>
                    <a:pt x="726" y="252"/>
                  </a:cubicBezTo>
                  <a:cubicBezTo>
                    <a:pt x="720" y="231"/>
                    <a:pt x="724" y="209"/>
                    <a:pt x="719" y="188"/>
                  </a:cubicBezTo>
                  <a:cubicBezTo>
                    <a:pt x="716" y="178"/>
                    <a:pt x="709" y="170"/>
                    <a:pt x="704" y="162"/>
                  </a:cubicBezTo>
                  <a:cubicBezTo>
                    <a:pt x="720" y="171"/>
                    <a:pt x="730" y="188"/>
                    <a:pt x="731" y="207"/>
                  </a:cubicBezTo>
                  <a:cubicBezTo>
                    <a:pt x="746" y="206"/>
                    <a:pt x="760" y="196"/>
                    <a:pt x="764" y="182"/>
                  </a:cubicBezTo>
                  <a:cubicBezTo>
                    <a:pt x="769" y="167"/>
                    <a:pt x="763" y="152"/>
                    <a:pt x="758" y="139"/>
                  </a:cubicBezTo>
                  <a:cubicBezTo>
                    <a:pt x="773" y="157"/>
                    <a:pt x="783" y="193"/>
                    <a:pt x="757" y="207"/>
                  </a:cubicBezTo>
                  <a:cubicBezTo>
                    <a:pt x="745" y="212"/>
                    <a:pt x="733" y="224"/>
                    <a:pt x="738" y="238"/>
                  </a:cubicBezTo>
                  <a:cubicBezTo>
                    <a:pt x="744" y="258"/>
                    <a:pt x="771" y="261"/>
                    <a:pt x="785" y="247"/>
                  </a:cubicBezTo>
                  <a:cubicBezTo>
                    <a:pt x="800" y="235"/>
                    <a:pt x="795" y="212"/>
                    <a:pt x="808" y="198"/>
                  </a:cubicBezTo>
                  <a:cubicBezTo>
                    <a:pt x="819" y="191"/>
                    <a:pt x="832" y="195"/>
                    <a:pt x="844" y="194"/>
                  </a:cubicBezTo>
                  <a:cubicBezTo>
                    <a:pt x="847" y="190"/>
                    <a:pt x="849" y="186"/>
                    <a:pt x="851" y="182"/>
                  </a:cubicBezTo>
                  <a:cubicBezTo>
                    <a:pt x="828" y="152"/>
                    <a:pt x="806" y="117"/>
                    <a:pt x="768" y="105"/>
                  </a:cubicBezTo>
                  <a:cubicBezTo>
                    <a:pt x="750" y="101"/>
                    <a:pt x="731" y="97"/>
                    <a:pt x="713" y="91"/>
                  </a:cubicBezTo>
                  <a:cubicBezTo>
                    <a:pt x="698" y="86"/>
                    <a:pt x="677" y="88"/>
                    <a:pt x="673" y="105"/>
                  </a:cubicBezTo>
                  <a:close/>
                  <a:moveTo>
                    <a:pt x="872" y="327"/>
                  </a:moveTo>
                  <a:cubicBezTo>
                    <a:pt x="892" y="350"/>
                    <a:pt x="890" y="384"/>
                    <a:pt x="874" y="408"/>
                  </a:cubicBezTo>
                  <a:cubicBezTo>
                    <a:pt x="888" y="412"/>
                    <a:pt x="901" y="420"/>
                    <a:pt x="916" y="423"/>
                  </a:cubicBezTo>
                  <a:cubicBezTo>
                    <a:pt x="926" y="425"/>
                    <a:pt x="927" y="413"/>
                    <a:pt x="927" y="406"/>
                  </a:cubicBezTo>
                  <a:cubicBezTo>
                    <a:pt x="924" y="379"/>
                    <a:pt x="918" y="352"/>
                    <a:pt x="912" y="326"/>
                  </a:cubicBezTo>
                  <a:cubicBezTo>
                    <a:pt x="910" y="317"/>
                    <a:pt x="905" y="309"/>
                    <a:pt x="897" y="305"/>
                  </a:cubicBezTo>
                  <a:cubicBezTo>
                    <a:pt x="888" y="311"/>
                    <a:pt x="880" y="320"/>
                    <a:pt x="872" y="327"/>
                  </a:cubicBezTo>
                  <a:close/>
                  <a:moveTo>
                    <a:pt x="428" y="615"/>
                  </a:moveTo>
                  <a:cubicBezTo>
                    <a:pt x="403" y="618"/>
                    <a:pt x="381" y="599"/>
                    <a:pt x="356" y="605"/>
                  </a:cubicBezTo>
                  <a:cubicBezTo>
                    <a:pt x="349" y="606"/>
                    <a:pt x="346" y="616"/>
                    <a:pt x="348" y="623"/>
                  </a:cubicBezTo>
                  <a:cubicBezTo>
                    <a:pt x="352" y="638"/>
                    <a:pt x="365" y="649"/>
                    <a:pt x="378" y="656"/>
                  </a:cubicBezTo>
                  <a:cubicBezTo>
                    <a:pt x="383" y="660"/>
                    <a:pt x="390" y="657"/>
                    <a:pt x="396" y="657"/>
                  </a:cubicBezTo>
                  <a:cubicBezTo>
                    <a:pt x="420" y="652"/>
                    <a:pt x="444" y="656"/>
                    <a:pt x="468" y="653"/>
                  </a:cubicBezTo>
                  <a:cubicBezTo>
                    <a:pt x="489" y="650"/>
                    <a:pt x="512" y="646"/>
                    <a:pt x="527" y="630"/>
                  </a:cubicBezTo>
                  <a:cubicBezTo>
                    <a:pt x="521" y="618"/>
                    <a:pt x="508" y="612"/>
                    <a:pt x="498" y="604"/>
                  </a:cubicBezTo>
                  <a:cubicBezTo>
                    <a:pt x="493" y="600"/>
                    <a:pt x="487" y="594"/>
                    <a:pt x="480" y="595"/>
                  </a:cubicBezTo>
                  <a:cubicBezTo>
                    <a:pt x="461" y="598"/>
                    <a:pt x="447" y="614"/>
                    <a:pt x="428" y="615"/>
                  </a:cubicBezTo>
                  <a:close/>
                  <a:moveTo>
                    <a:pt x="580" y="659"/>
                  </a:moveTo>
                  <a:cubicBezTo>
                    <a:pt x="639" y="663"/>
                    <a:pt x="704" y="669"/>
                    <a:pt x="754" y="705"/>
                  </a:cubicBezTo>
                  <a:cubicBezTo>
                    <a:pt x="755" y="698"/>
                    <a:pt x="757" y="690"/>
                    <a:pt x="758" y="683"/>
                  </a:cubicBezTo>
                  <a:cubicBezTo>
                    <a:pt x="740" y="677"/>
                    <a:pt x="724" y="668"/>
                    <a:pt x="706" y="664"/>
                  </a:cubicBezTo>
                  <a:cubicBezTo>
                    <a:pt x="688" y="659"/>
                    <a:pt x="670" y="655"/>
                    <a:pt x="652" y="652"/>
                  </a:cubicBezTo>
                  <a:cubicBezTo>
                    <a:pt x="628" y="648"/>
                    <a:pt x="603" y="652"/>
                    <a:pt x="580" y="659"/>
                  </a:cubicBezTo>
                  <a:close/>
                  <a:moveTo>
                    <a:pt x="494" y="671"/>
                  </a:moveTo>
                  <a:cubicBezTo>
                    <a:pt x="481" y="710"/>
                    <a:pt x="450" y="741"/>
                    <a:pt x="411" y="753"/>
                  </a:cubicBezTo>
                  <a:cubicBezTo>
                    <a:pt x="427" y="753"/>
                    <a:pt x="441" y="747"/>
                    <a:pt x="454" y="740"/>
                  </a:cubicBezTo>
                  <a:cubicBezTo>
                    <a:pt x="485" y="724"/>
                    <a:pt x="513" y="700"/>
                    <a:pt x="525" y="668"/>
                  </a:cubicBezTo>
                  <a:cubicBezTo>
                    <a:pt x="515" y="669"/>
                    <a:pt x="503" y="667"/>
                    <a:pt x="494" y="671"/>
                  </a:cubicBezTo>
                  <a:close/>
                  <a:moveTo>
                    <a:pt x="392" y="736"/>
                  </a:moveTo>
                  <a:cubicBezTo>
                    <a:pt x="393" y="737"/>
                    <a:pt x="396" y="741"/>
                    <a:pt x="397" y="743"/>
                  </a:cubicBezTo>
                  <a:cubicBezTo>
                    <a:pt x="433" y="733"/>
                    <a:pt x="465" y="707"/>
                    <a:pt x="478" y="671"/>
                  </a:cubicBezTo>
                  <a:cubicBezTo>
                    <a:pt x="471" y="672"/>
                    <a:pt x="463" y="672"/>
                    <a:pt x="456" y="674"/>
                  </a:cubicBezTo>
                  <a:cubicBezTo>
                    <a:pt x="438" y="697"/>
                    <a:pt x="423" y="728"/>
                    <a:pt x="392" y="736"/>
                  </a:cubicBezTo>
                  <a:close/>
                  <a:moveTo>
                    <a:pt x="544" y="688"/>
                  </a:moveTo>
                  <a:cubicBezTo>
                    <a:pt x="584" y="687"/>
                    <a:pt x="625" y="692"/>
                    <a:pt x="663" y="703"/>
                  </a:cubicBezTo>
                  <a:cubicBezTo>
                    <a:pt x="689" y="710"/>
                    <a:pt x="715" y="720"/>
                    <a:pt x="735" y="738"/>
                  </a:cubicBezTo>
                  <a:cubicBezTo>
                    <a:pt x="739" y="732"/>
                    <a:pt x="744" y="726"/>
                    <a:pt x="748" y="720"/>
                  </a:cubicBezTo>
                  <a:cubicBezTo>
                    <a:pt x="721" y="698"/>
                    <a:pt x="686" y="688"/>
                    <a:pt x="652" y="682"/>
                  </a:cubicBezTo>
                  <a:cubicBezTo>
                    <a:pt x="619" y="677"/>
                    <a:pt x="585" y="673"/>
                    <a:pt x="551" y="673"/>
                  </a:cubicBezTo>
                  <a:cubicBezTo>
                    <a:pt x="549" y="678"/>
                    <a:pt x="547" y="683"/>
                    <a:pt x="544" y="688"/>
                  </a:cubicBezTo>
                  <a:close/>
                  <a:moveTo>
                    <a:pt x="384" y="698"/>
                  </a:moveTo>
                  <a:cubicBezTo>
                    <a:pt x="377" y="707"/>
                    <a:pt x="384" y="717"/>
                    <a:pt x="388" y="726"/>
                  </a:cubicBezTo>
                  <a:cubicBezTo>
                    <a:pt x="411" y="719"/>
                    <a:pt x="425" y="697"/>
                    <a:pt x="435" y="676"/>
                  </a:cubicBezTo>
                  <a:cubicBezTo>
                    <a:pt x="417" y="681"/>
                    <a:pt x="397" y="684"/>
                    <a:pt x="384" y="698"/>
                  </a:cubicBezTo>
                  <a:close/>
                  <a:moveTo>
                    <a:pt x="534" y="704"/>
                  </a:moveTo>
                  <a:cubicBezTo>
                    <a:pt x="528" y="711"/>
                    <a:pt x="521" y="718"/>
                    <a:pt x="515" y="725"/>
                  </a:cubicBezTo>
                  <a:cubicBezTo>
                    <a:pt x="557" y="753"/>
                    <a:pt x="605" y="779"/>
                    <a:pt x="657" y="780"/>
                  </a:cubicBezTo>
                  <a:cubicBezTo>
                    <a:pt x="616" y="762"/>
                    <a:pt x="572" y="742"/>
                    <a:pt x="548" y="702"/>
                  </a:cubicBezTo>
                  <a:cubicBezTo>
                    <a:pt x="543" y="703"/>
                    <a:pt x="539" y="704"/>
                    <a:pt x="534" y="704"/>
                  </a:cubicBezTo>
                  <a:close/>
                  <a:moveTo>
                    <a:pt x="566" y="702"/>
                  </a:moveTo>
                  <a:cubicBezTo>
                    <a:pt x="594" y="738"/>
                    <a:pt x="638" y="758"/>
                    <a:pt x="680" y="771"/>
                  </a:cubicBezTo>
                  <a:cubicBezTo>
                    <a:pt x="687" y="775"/>
                    <a:pt x="694" y="769"/>
                    <a:pt x="700" y="768"/>
                  </a:cubicBezTo>
                  <a:cubicBezTo>
                    <a:pt x="668" y="754"/>
                    <a:pt x="637" y="735"/>
                    <a:pt x="617" y="706"/>
                  </a:cubicBezTo>
                  <a:cubicBezTo>
                    <a:pt x="600" y="704"/>
                    <a:pt x="583" y="702"/>
                    <a:pt x="566" y="702"/>
                  </a:cubicBezTo>
                  <a:close/>
                  <a:moveTo>
                    <a:pt x="319" y="716"/>
                  </a:moveTo>
                  <a:cubicBezTo>
                    <a:pt x="335" y="745"/>
                    <a:pt x="367" y="759"/>
                    <a:pt x="396" y="770"/>
                  </a:cubicBezTo>
                  <a:cubicBezTo>
                    <a:pt x="380" y="750"/>
                    <a:pt x="364" y="729"/>
                    <a:pt x="352" y="706"/>
                  </a:cubicBezTo>
                  <a:cubicBezTo>
                    <a:pt x="341" y="709"/>
                    <a:pt x="330" y="712"/>
                    <a:pt x="319" y="716"/>
                  </a:cubicBezTo>
                  <a:close/>
                  <a:moveTo>
                    <a:pt x="632" y="709"/>
                  </a:moveTo>
                  <a:cubicBezTo>
                    <a:pt x="653" y="733"/>
                    <a:pt x="681" y="750"/>
                    <a:pt x="711" y="760"/>
                  </a:cubicBezTo>
                  <a:cubicBezTo>
                    <a:pt x="715" y="757"/>
                    <a:pt x="720" y="753"/>
                    <a:pt x="724" y="750"/>
                  </a:cubicBezTo>
                  <a:cubicBezTo>
                    <a:pt x="698" y="727"/>
                    <a:pt x="665" y="716"/>
                    <a:pt x="632" y="709"/>
                  </a:cubicBezTo>
                  <a:close/>
                  <a:moveTo>
                    <a:pt x="282" y="727"/>
                  </a:moveTo>
                  <a:cubicBezTo>
                    <a:pt x="289" y="738"/>
                    <a:pt x="297" y="749"/>
                    <a:pt x="308" y="758"/>
                  </a:cubicBezTo>
                  <a:cubicBezTo>
                    <a:pt x="327" y="773"/>
                    <a:pt x="352" y="777"/>
                    <a:pt x="376" y="779"/>
                  </a:cubicBezTo>
                  <a:cubicBezTo>
                    <a:pt x="347" y="767"/>
                    <a:pt x="318" y="750"/>
                    <a:pt x="305" y="720"/>
                  </a:cubicBezTo>
                  <a:cubicBezTo>
                    <a:pt x="297" y="722"/>
                    <a:pt x="290" y="725"/>
                    <a:pt x="282" y="727"/>
                  </a:cubicBezTo>
                  <a:close/>
                  <a:moveTo>
                    <a:pt x="502" y="735"/>
                  </a:moveTo>
                  <a:cubicBezTo>
                    <a:pt x="499" y="737"/>
                    <a:pt x="495" y="740"/>
                    <a:pt x="492" y="742"/>
                  </a:cubicBezTo>
                  <a:cubicBezTo>
                    <a:pt x="518" y="769"/>
                    <a:pt x="551" y="800"/>
                    <a:pt x="592" y="794"/>
                  </a:cubicBezTo>
                  <a:cubicBezTo>
                    <a:pt x="607" y="793"/>
                    <a:pt x="622" y="793"/>
                    <a:pt x="637" y="792"/>
                  </a:cubicBezTo>
                  <a:cubicBezTo>
                    <a:pt x="588" y="784"/>
                    <a:pt x="543" y="762"/>
                    <a:pt x="502" y="735"/>
                  </a:cubicBezTo>
                  <a:close/>
                  <a:moveTo>
                    <a:pt x="468" y="756"/>
                  </a:moveTo>
                  <a:cubicBezTo>
                    <a:pt x="482" y="783"/>
                    <a:pt x="511" y="808"/>
                    <a:pt x="543" y="801"/>
                  </a:cubicBezTo>
                  <a:cubicBezTo>
                    <a:pt x="518" y="789"/>
                    <a:pt x="498" y="770"/>
                    <a:pt x="479" y="750"/>
                  </a:cubicBezTo>
                  <a:cubicBezTo>
                    <a:pt x="475" y="752"/>
                    <a:pt x="472" y="754"/>
                    <a:pt x="468" y="756"/>
                  </a:cubicBezTo>
                  <a:close/>
                  <a:moveTo>
                    <a:pt x="419" y="773"/>
                  </a:moveTo>
                  <a:cubicBezTo>
                    <a:pt x="427" y="784"/>
                    <a:pt x="435" y="795"/>
                    <a:pt x="448" y="800"/>
                  </a:cubicBezTo>
                  <a:cubicBezTo>
                    <a:pt x="462" y="805"/>
                    <a:pt x="477" y="805"/>
                    <a:pt x="492" y="806"/>
                  </a:cubicBezTo>
                  <a:cubicBezTo>
                    <a:pt x="476" y="794"/>
                    <a:pt x="462" y="780"/>
                    <a:pt x="455" y="762"/>
                  </a:cubicBezTo>
                  <a:cubicBezTo>
                    <a:pt x="443" y="766"/>
                    <a:pt x="431" y="770"/>
                    <a:pt x="419" y="773"/>
                  </a:cubicBezTo>
                  <a:close/>
                  <a:moveTo>
                    <a:pt x="379" y="794"/>
                  </a:moveTo>
                  <a:cubicBezTo>
                    <a:pt x="397" y="811"/>
                    <a:pt x="411" y="832"/>
                    <a:pt x="429" y="849"/>
                  </a:cubicBezTo>
                  <a:cubicBezTo>
                    <a:pt x="448" y="868"/>
                    <a:pt x="466" y="889"/>
                    <a:pt x="481" y="913"/>
                  </a:cubicBezTo>
                  <a:cubicBezTo>
                    <a:pt x="491" y="925"/>
                    <a:pt x="502" y="942"/>
                    <a:pt x="520" y="941"/>
                  </a:cubicBezTo>
                  <a:cubicBezTo>
                    <a:pt x="531" y="937"/>
                    <a:pt x="542" y="929"/>
                    <a:pt x="547" y="918"/>
                  </a:cubicBezTo>
                  <a:cubicBezTo>
                    <a:pt x="544" y="903"/>
                    <a:pt x="532" y="891"/>
                    <a:pt x="523" y="879"/>
                  </a:cubicBezTo>
                  <a:cubicBezTo>
                    <a:pt x="510" y="862"/>
                    <a:pt x="498" y="843"/>
                    <a:pt x="492" y="823"/>
                  </a:cubicBezTo>
                  <a:cubicBezTo>
                    <a:pt x="476" y="823"/>
                    <a:pt x="459" y="824"/>
                    <a:pt x="444" y="818"/>
                  </a:cubicBezTo>
                  <a:cubicBezTo>
                    <a:pt x="431" y="813"/>
                    <a:pt x="421" y="803"/>
                    <a:pt x="412" y="793"/>
                  </a:cubicBezTo>
                  <a:cubicBezTo>
                    <a:pt x="401" y="794"/>
                    <a:pt x="390" y="794"/>
                    <a:pt x="379" y="79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64" name="Freeform 8"/>
            <p:cNvSpPr/>
            <p:nvPr/>
          </p:nvSpPr>
          <p:spPr>
            <a:xfrm>
              <a:off x="3256560" y="3552120"/>
              <a:ext cx="709560" cy="473040"/>
            </a:xfrm>
            <a:custGeom>
              <a:avLst/>
              <a:gdLst>
                <a:gd name="textAreaLeft" fmla="*/ 0 w 709560"/>
                <a:gd name="textAreaRight" fmla="*/ 709920 w 7095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66" h="178">
                  <a:moveTo>
                    <a:pt x="112" y="1"/>
                  </a:moveTo>
                  <a:cubicBezTo>
                    <a:pt x="121" y="1"/>
                    <a:pt x="131" y="0"/>
                    <a:pt x="140" y="4"/>
                  </a:cubicBezTo>
                  <a:cubicBezTo>
                    <a:pt x="150" y="8"/>
                    <a:pt x="158" y="15"/>
                    <a:pt x="168" y="18"/>
                  </a:cubicBezTo>
                  <a:cubicBezTo>
                    <a:pt x="184" y="16"/>
                    <a:pt x="199" y="8"/>
                    <a:pt x="216" y="9"/>
                  </a:cubicBezTo>
                  <a:cubicBezTo>
                    <a:pt x="233" y="11"/>
                    <a:pt x="249" y="9"/>
                    <a:pt x="266" y="7"/>
                  </a:cubicBezTo>
                  <a:cubicBezTo>
                    <a:pt x="251" y="18"/>
                    <a:pt x="230" y="19"/>
                    <a:pt x="212" y="19"/>
                  </a:cubicBezTo>
                  <a:cubicBezTo>
                    <a:pt x="201" y="19"/>
                    <a:pt x="190" y="21"/>
                    <a:pt x="183" y="29"/>
                  </a:cubicBezTo>
                  <a:cubicBezTo>
                    <a:pt x="166" y="49"/>
                    <a:pt x="154" y="75"/>
                    <a:pt x="133" y="91"/>
                  </a:cubicBezTo>
                  <a:cubicBezTo>
                    <a:pt x="109" y="113"/>
                    <a:pt x="101" y="148"/>
                    <a:pt x="112" y="178"/>
                  </a:cubicBezTo>
                  <a:cubicBezTo>
                    <a:pt x="105" y="172"/>
                    <a:pt x="97" y="165"/>
                    <a:pt x="97" y="155"/>
                  </a:cubicBezTo>
                  <a:cubicBezTo>
                    <a:pt x="94" y="141"/>
                    <a:pt x="100" y="124"/>
                    <a:pt x="91" y="112"/>
                  </a:cubicBezTo>
                  <a:cubicBezTo>
                    <a:pt x="61" y="96"/>
                    <a:pt x="28" y="113"/>
                    <a:pt x="0" y="126"/>
                  </a:cubicBezTo>
                  <a:cubicBezTo>
                    <a:pt x="20" y="105"/>
                    <a:pt x="47" y="91"/>
                    <a:pt x="76" y="93"/>
                  </a:cubicBezTo>
                  <a:cubicBezTo>
                    <a:pt x="90" y="94"/>
                    <a:pt x="106" y="102"/>
                    <a:pt x="118" y="92"/>
                  </a:cubicBezTo>
                  <a:cubicBezTo>
                    <a:pt x="137" y="77"/>
                    <a:pt x="152" y="54"/>
                    <a:pt x="156" y="30"/>
                  </a:cubicBezTo>
                  <a:cubicBezTo>
                    <a:pt x="150" y="11"/>
                    <a:pt x="129" y="4"/>
                    <a:pt x="112" y="1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65" name="Freeform 9"/>
            <p:cNvSpPr/>
            <p:nvPr/>
          </p:nvSpPr>
          <p:spPr>
            <a:xfrm>
              <a:off x="1749960" y="3959640"/>
              <a:ext cx="251280" cy="2602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4" h="98">
                  <a:moveTo>
                    <a:pt x="47" y="0"/>
                  </a:moveTo>
                  <a:cubicBezTo>
                    <a:pt x="56" y="21"/>
                    <a:pt x="72" y="39"/>
                    <a:pt x="94" y="48"/>
                  </a:cubicBezTo>
                  <a:cubicBezTo>
                    <a:pt x="58" y="53"/>
                    <a:pt x="26" y="72"/>
                    <a:pt x="0" y="98"/>
                  </a:cubicBezTo>
                  <a:cubicBezTo>
                    <a:pt x="8" y="72"/>
                    <a:pt x="31" y="55"/>
                    <a:pt x="55" y="43"/>
                  </a:cubicBezTo>
                  <a:cubicBezTo>
                    <a:pt x="45" y="31"/>
                    <a:pt x="44" y="15"/>
                    <a:pt x="47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66" name="Freeform 10"/>
            <p:cNvSpPr/>
            <p:nvPr/>
          </p:nvSpPr>
          <p:spPr>
            <a:xfrm>
              <a:off x="1720080" y="4007520"/>
              <a:ext cx="973080" cy="60480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365" h="227">
                  <a:moveTo>
                    <a:pt x="303" y="26"/>
                  </a:moveTo>
                  <a:cubicBezTo>
                    <a:pt x="315" y="15"/>
                    <a:pt x="329" y="6"/>
                    <a:pt x="343" y="0"/>
                  </a:cubicBezTo>
                  <a:cubicBezTo>
                    <a:pt x="347" y="5"/>
                    <a:pt x="348" y="13"/>
                    <a:pt x="354" y="17"/>
                  </a:cubicBezTo>
                  <a:cubicBezTo>
                    <a:pt x="358" y="19"/>
                    <a:pt x="365" y="21"/>
                    <a:pt x="365" y="26"/>
                  </a:cubicBezTo>
                  <a:cubicBezTo>
                    <a:pt x="353" y="29"/>
                    <a:pt x="340" y="29"/>
                    <a:pt x="328" y="35"/>
                  </a:cubicBezTo>
                  <a:cubicBezTo>
                    <a:pt x="304" y="45"/>
                    <a:pt x="278" y="54"/>
                    <a:pt x="252" y="58"/>
                  </a:cubicBezTo>
                  <a:cubicBezTo>
                    <a:pt x="233" y="63"/>
                    <a:pt x="212" y="63"/>
                    <a:pt x="193" y="73"/>
                  </a:cubicBezTo>
                  <a:cubicBezTo>
                    <a:pt x="181" y="78"/>
                    <a:pt x="176" y="93"/>
                    <a:pt x="169" y="104"/>
                  </a:cubicBezTo>
                  <a:cubicBezTo>
                    <a:pt x="158" y="125"/>
                    <a:pt x="130" y="130"/>
                    <a:pt x="119" y="151"/>
                  </a:cubicBezTo>
                  <a:cubicBezTo>
                    <a:pt x="112" y="163"/>
                    <a:pt x="114" y="180"/>
                    <a:pt x="125" y="190"/>
                  </a:cubicBezTo>
                  <a:cubicBezTo>
                    <a:pt x="134" y="199"/>
                    <a:pt x="146" y="206"/>
                    <a:pt x="159" y="211"/>
                  </a:cubicBezTo>
                  <a:cubicBezTo>
                    <a:pt x="172" y="215"/>
                    <a:pt x="184" y="220"/>
                    <a:pt x="197" y="225"/>
                  </a:cubicBezTo>
                  <a:cubicBezTo>
                    <a:pt x="171" y="227"/>
                    <a:pt x="143" y="225"/>
                    <a:pt x="120" y="210"/>
                  </a:cubicBezTo>
                  <a:cubicBezTo>
                    <a:pt x="101" y="199"/>
                    <a:pt x="96" y="173"/>
                    <a:pt x="76" y="162"/>
                  </a:cubicBezTo>
                  <a:cubicBezTo>
                    <a:pt x="58" y="153"/>
                    <a:pt x="36" y="155"/>
                    <a:pt x="19" y="144"/>
                  </a:cubicBezTo>
                  <a:cubicBezTo>
                    <a:pt x="10" y="140"/>
                    <a:pt x="5" y="132"/>
                    <a:pt x="0" y="124"/>
                  </a:cubicBezTo>
                  <a:cubicBezTo>
                    <a:pt x="25" y="143"/>
                    <a:pt x="60" y="146"/>
                    <a:pt x="90" y="138"/>
                  </a:cubicBezTo>
                  <a:cubicBezTo>
                    <a:pt x="99" y="136"/>
                    <a:pt x="108" y="129"/>
                    <a:pt x="113" y="121"/>
                  </a:cubicBezTo>
                  <a:cubicBezTo>
                    <a:pt x="98" y="112"/>
                    <a:pt x="82" y="104"/>
                    <a:pt x="77" y="87"/>
                  </a:cubicBezTo>
                  <a:cubicBezTo>
                    <a:pt x="93" y="103"/>
                    <a:pt x="116" y="114"/>
                    <a:pt x="139" y="106"/>
                  </a:cubicBezTo>
                  <a:cubicBezTo>
                    <a:pt x="166" y="96"/>
                    <a:pt x="169" y="59"/>
                    <a:pt x="198" y="52"/>
                  </a:cubicBezTo>
                  <a:cubicBezTo>
                    <a:pt x="233" y="46"/>
                    <a:pt x="273" y="49"/>
                    <a:pt x="303" y="2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67" name="Freeform 11"/>
            <p:cNvSpPr/>
            <p:nvPr/>
          </p:nvSpPr>
          <p:spPr>
            <a:xfrm>
              <a:off x="2295000" y="4163400"/>
              <a:ext cx="446040" cy="5328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800"/>
                <a:gd name="textAreaBottom" fmla="*/ 533160 h 532800"/>
              </a:gdLst>
              <a:ahLst/>
              <a:rect l="textAreaLeft" t="textAreaTop" r="textAreaRight" b="textAreaBottom"/>
              <a:pathLst>
                <a:path w="168" h="200">
                  <a:moveTo>
                    <a:pt x="122" y="0"/>
                  </a:moveTo>
                  <a:cubicBezTo>
                    <a:pt x="130" y="19"/>
                    <a:pt x="136" y="40"/>
                    <a:pt x="134" y="61"/>
                  </a:cubicBezTo>
                  <a:cubicBezTo>
                    <a:pt x="133" y="77"/>
                    <a:pt x="120" y="90"/>
                    <a:pt x="116" y="105"/>
                  </a:cubicBezTo>
                  <a:cubicBezTo>
                    <a:pt x="114" y="113"/>
                    <a:pt x="120" y="119"/>
                    <a:pt x="123" y="125"/>
                  </a:cubicBezTo>
                  <a:cubicBezTo>
                    <a:pt x="137" y="117"/>
                    <a:pt x="152" y="113"/>
                    <a:pt x="168" y="114"/>
                  </a:cubicBezTo>
                  <a:cubicBezTo>
                    <a:pt x="168" y="122"/>
                    <a:pt x="168" y="131"/>
                    <a:pt x="168" y="139"/>
                  </a:cubicBezTo>
                  <a:cubicBezTo>
                    <a:pt x="165" y="139"/>
                    <a:pt x="160" y="141"/>
                    <a:pt x="157" y="141"/>
                  </a:cubicBezTo>
                  <a:cubicBezTo>
                    <a:pt x="135" y="144"/>
                    <a:pt x="116" y="157"/>
                    <a:pt x="98" y="170"/>
                  </a:cubicBezTo>
                  <a:cubicBezTo>
                    <a:pt x="98" y="158"/>
                    <a:pt x="98" y="145"/>
                    <a:pt x="98" y="133"/>
                  </a:cubicBezTo>
                  <a:cubicBezTo>
                    <a:pt x="95" y="146"/>
                    <a:pt x="96" y="159"/>
                    <a:pt x="96" y="172"/>
                  </a:cubicBezTo>
                  <a:cubicBezTo>
                    <a:pt x="85" y="181"/>
                    <a:pt x="75" y="191"/>
                    <a:pt x="64" y="200"/>
                  </a:cubicBezTo>
                  <a:cubicBezTo>
                    <a:pt x="60" y="188"/>
                    <a:pt x="70" y="175"/>
                    <a:pt x="64" y="164"/>
                  </a:cubicBezTo>
                  <a:cubicBezTo>
                    <a:pt x="69" y="159"/>
                    <a:pt x="75" y="153"/>
                    <a:pt x="80" y="147"/>
                  </a:cubicBezTo>
                  <a:cubicBezTo>
                    <a:pt x="40" y="141"/>
                    <a:pt x="13" y="106"/>
                    <a:pt x="0" y="69"/>
                  </a:cubicBezTo>
                  <a:cubicBezTo>
                    <a:pt x="19" y="90"/>
                    <a:pt x="38" y="112"/>
                    <a:pt x="65" y="120"/>
                  </a:cubicBezTo>
                  <a:cubicBezTo>
                    <a:pt x="79" y="124"/>
                    <a:pt x="95" y="115"/>
                    <a:pt x="97" y="101"/>
                  </a:cubicBezTo>
                  <a:cubicBezTo>
                    <a:pt x="100" y="85"/>
                    <a:pt x="115" y="75"/>
                    <a:pt x="119" y="59"/>
                  </a:cubicBezTo>
                  <a:cubicBezTo>
                    <a:pt x="125" y="40"/>
                    <a:pt x="122" y="20"/>
                    <a:pt x="122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68" name="Freeform 12"/>
            <p:cNvSpPr/>
            <p:nvPr/>
          </p:nvSpPr>
          <p:spPr>
            <a:xfrm>
              <a:off x="4313880" y="4289040"/>
              <a:ext cx="323280" cy="5119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21" h="192">
                  <a:moveTo>
                    <a:pt x="77" y="50"/>
                  </a:moveTo>
                  <a:cubicBezTo>
                    <a:pt x="90" y="36"/>
                    <a:pt x="92" y="17"/>
                    <a:pt x="98" y="0"/>
                  </a:cubicBezTo>
                  <a:cubicBezTo>
                    <a:pt x="121" y="63"/>
                    <a:pt x="112" y="137"/>
                    <a:pt x="72" y="192"/>
                  </a:cubicBezTo>
                  <a:cubicBezTo>
                    <a:pt x="70" y="192"/>
                    <a:pt x="66" y="192"/>
                    <a:pt x="64" y="192"/>
                  </a:cubicBezTo>
                  <a:cubicBezTo>
                    <a:pt x="80" y="170"/>
                    <a:pt x="85" y="143"/>
                    <a:pt x="92" y="117"/>
                  </a:cubicBezTo>
                  <a:cubicBezTo>
                    <a:pt x="95" y="98"/>
                    <a:pt x="99" y="79"/>
                    <a:pt x="92" y="60"/>
                  </a:cubicBezTo>
                  <a:cubicBezTo>
                    <a:pt x="79" y="56"/>
                    <a:pt x="69" y="66"/>
                    <a:pt x="60" y="73"/>
                  </a:cubicBezTo>
                  <a:cubicBezTo>
                    <a:pt x="49" y="83"/>
                    <a:pt x="46" y="99"/>
                    <a:pt x="38" y="111"/>
                  </a:cubicBezTo>
                  <a:cubicBezTo>
                    <a:pt x="30" y="121"/>
                    <a:pt x="22" y="132"/>
                    <a:pt x="10" y="138"/>
                  </a:cubicBezTo>
                  <a:cubicBezTo>
                    <a:pt x="23" y="120"/>
                    <a:pt x="43" y="101"/>
                    <a:pt x="39" y="77"/>
                  </a:cubicBezTo>
                  <a:cubicBezTo>
                    <a:pt x="26" y="73"/>
                    <a:pt x="0" y="84"/>
                    <a:pt x="1" y="61"/>
                  </a:cubicBezTo>
                  <a:cubicBezTo>
                    <a:pt x="26" y="73"/>
                    <a:pt x="58" y="71"/>
                    <a:pt x="77" y="5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69" name="Freeform 13"/>
            <p:cNvSpPr/>
            <p:nvPr/>
          </p:nvSpPr>
          <p:spPr>
            <a:xfrm>
              <a:off x="3076920" y="4588560"/>
              <a:ext cx="482040" cy="410040"/>
            </a:xfrm>
            <a:custGeom>
              <a:avLst/>
              <a:gdLst>
                <a:gd name="textAreaLeft" fmla="*/ 0 w 482040"/>
                <a:gd name="textAreaRight" fmla="*/ 482400 w 48204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81" h="154">
                  <a:moveTo>
                    <a:pt x="0" y="0"/>
                  </a:moveTo>
                  <a:cubicBezTo>
                    <a:pt x="10" y="1"/>
                    <a:pt x="19" y="3"/>
                    <a:pt x="29" y="5"/>
                  </a:cubicBezTo>
                  <a:cubicBezTo>
                    <a:pt x="34" y="6"/>
                    <a:pt x="39" y="7"/>
                    <a:pt x="44" y="9"/>
                  </a:cubicBezTo>
                  <a:cubicBezTo>
                    <a:pt x="59" y="16"/>
                    <a:pt x="75" y="20"/>
                    <a:pt x="92" y="22"/>
                  </a:cubicBezTo>
                  <a:cubicBezTo>
                    <a:pt x="103" y="21"/>
                    <a:pt x="113" y="18"/>
                    <a:pt x="124" y="15"/>
                  </a:cubicBezTo>
                  <a:cubicBezTo>
                    <a:pt x="120" y="20"/>
                    <a:pt x="123" y="25"/>
                    <a:pt x="126" y="29"/>
                  </a:cubicBezTo>
                  <a:cubicBezTo>
                    <a:pt x="112" y="34"/>
                    <a:pt x="93" y="40"/>
                    <a:pt x="90" y="58"/>
                  </a:cubicBezTo>
                  <a:cubicBezTo>
                    <a:pt x="114" y="87"/>
                    <a:pt x="160" y="80"/>
                    <a:pt x="181" y="113"/>
                  </a:cubicBezTo>
                  <a:cubicBezTo>
                    <a:pt x="161" y="104"/>
                    <a:pt x="142" y="93"/>
                    <a:pt x="120" y="92"/>
                  </a:cubicBezTo>
                  <a:cubicBezTo>
                    <a:pt x="113" y="91"/>
                    <a:pt x="103" y="94"/>
                    <a:pt x="101" y="101"/>
                  </a:cubicBezTo>
                  <a:cubicBezTo>
                    <a:pt x="93" y="118"/>
                    <a:pt x="92" y="136"/>
                    <a:pt x="88" y="154"/>
                  </a:cubicBezTo>
                  <a:cubicBezTo>
                    <a:pt x="81" y="124"/>
                    <a:pt x="96" y="90"/>
                    <a:pt x="78" y="62"/>
                  </a:cubicBezTo>
                  <a:cubicBezTo>
                    <a:pt x="63" y="31"/>
                    <a:pt x="30" y="15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70" name="Freeform 14"/>
            <p:cNvSpPr/>
            <p:nvPr/>
          </p:nvSpPr>
          <p:spPr>
            <a:xfrm>
              <a:off x="3397320" y="4609440"/>
              <a:ext cx="254160" cy="594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6" h="22">
                  <a:moveTo>
                    <a:pt x="5" y="4"/>
                  </a:moveTo>
                  <a:cubicBezTo>
                    <a:pt x="35" y="2"/>
                    <a:pt x="66" y="0"/>
                    <a:pt x="96" y="4"/>
                  </a:cubicBezTo>
                  <a:cubicBezTo>
                    <a:pt x="72" y="9"/>
                    <a:pt x="47" y="8"/>
                    <a:pt x="25" y="18"/>
                  </a:cubicBezTo>
                  <a:cubicBezTo>
                    <a:pt x="16" y="22"/>
                    <a:pt x="0" y="17"/>
                    <a:pt x="5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71" name="Freeform 15"/>
            <p:cNvSpPr/>
            <p:nvPr/>
          </p:nvSpPr>
          <p:spPr>
            <a:xfrm>
              <a:off x="2385000" y="4663440"/>
              <a:ext cx="466920" cy="7333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175" h="275">
                  <a:moveTo>
                    <a:pt x="113" y="38"/>
                  </a:moveTo>
                  <a:cubicBezTo>
                    <a:pt x="126" y="28"/>
                    <a:pt x="135" y="15"/>
                    <a:pt x="142" y="0"/>
                  </a:cubicBezTo>
                  <a:cubicBezTo>
                    <a:pt x="142" y="14"/>
                    <a:pt x="137" y="28"/>
                    <a:pt x="127" y="37"/>
                  </a:cubicBezTo>
                  <a:cubicBezTo>
                    <a:pt x="116" y="47"/>
                    <a:pt x="103" y="57"/>
                    <a:pt x="97" y="70"/>
                  </a:cubicBezTo>
                  <a:cubicBezTo>
                    <a:pt x="89" y="88"/>
                    <a:pt x="90" y="107"/>
                    <a:pt x="86" y="125"/>
                  </a:cubicBezTo>
                  <a:cubicBezTo>
                    <a:pt x="79" y="159"/>
                    <a:pt x="87" y="199"/>
                    <a:pt x="115" y="222"/>
                  </a:cubicBezTo>
                  <a:cubicBezTo>
                    <a:pt x="132" y="236"/>
                    <a:pt x="154" y="240"/>
                    <a:pt x="175" y="243"/>
                  </a:cubicBezTo>
                  <a:cubicBezTo>
                    <a:pt x="159" y="248"/>
                    <a:pt x="143" y="242"/>
                    <a:pt x="127" y="242"/>
                  </a:cubicBezTo>
                  <a:cubicBezTo>
                    <a:pt x="112" y="247"/>
                    <a:pt x="110" y="265"/>
                    <a:pt x="99" y="275"/>
                  </a:cubicBezTo>
                  <a:cubicBezTo>
                    <a:pt x="102" y="264"/>
                    <a:pt x="108" y="253"/>
                    <a:pt x="104" y="242"/>
                  </a:cubicBezTo>
                  <a:cubicBezTo>
                    <a:pt x="98" y="210"/>
                    <a:pt x="73" y="186"/>
                    <a:pt x="66" y="155"/>
                  </a:cubicBezTo>
                  <a:cubicBezTo>
                    <a:pt x="62" y="126"/>
                    <a:pt x="25" y="113"/>
                    <a:pt x="0" y="124"/>
                  </a:cubicBezTo>
                  <a:cubicBezTo>
                    <a:pt x="16" y="113"/>
                    <a:pt x="37" y="110"/>
                    <a:pt x="55" y="117"/>
                  </a:cubicBezTo>
                  <a:cubicBezTo>
                    <a:pt x="62" y="122"/>
                    <a:pt x="70" y="118"/>
                    <a:pt x="72" y="110"/>
                  </a:cubicBezTo>
                  <a:cubicBezTo>
                    <a:pt x="77" y="93"/>
                    <a:pt x="78" y="76"/>
                    <a:pt x="86" y="60"/>
                  </a:cubicBezTo>
                  <a:cubicBezTo>
                    <a:pt x="91" y="49"/>
                    <a:pt x="104" y="45"/>
                    <a:pt x="113" y="3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72" name="Freeform 16"/>
            <p:cNvSpPr/>
            <p:nvPr/>
          </p:nvSpPr>
          <p:spPr>
            <a:xfrm>
              <a:off x="4322880" y="4720320"/>
              <a:ext cx="122400" cy="835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6" h="32">
                  <a:moveTo>
                    <a:pt x="8" y="15"/>
                  </a:moveTo>
                  <a:cubicBezTo>
                    <a:pt x="22" y="16"/>
                    <a:pt x="36" y="11"/>
                    <a:pt x="46" y="0"/>
                  </a:cubicBezTo>
                  <a:cubicBezTo>
                    <a:pt x="39" y="18"/>
                    <a:pt x="18" y="23"/>
                    <a:pt x="4" y="32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1" y="29"/>
                    <a:pt x="0" y="23"/>
                    <a:pt x="0" y="20"/>
                  </a:cubicBezTo>
                  <a:cubicBezTo>
                    <a:pt x="2" y="19"/>
                    <a:pt x="6" y="16"/>
                    <a:pt x="8" y="1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173" name="Freeform 17"/>
            <p:cNvSpPr/>
            <p:nvPr/>
          </p:nvSpPr>
          <p:spPr>
            <a:xfrm>
              <a:off x="3744720" y="4912200"/>
              <a:ext cx="335160" cy="1162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25" h="44">
                  <a:moveTo>
                    <a:pt x="53" y="20"/>
                  </a:moveTo>
                  <a:cubicBezTo>
                    <a:pt x="76" y="10"/>
                    <a:pt x="100" y="0"/>
                    <a:pt x="125" y="7"/>
                  </a:cubicBezTo>
                  <a:cubicBezTo>
                    <a:pt x="113" y="12"/>
                    <a:pt x="95" y="9"/>
                    <a:pt x="91" y="24"/>
                  </a:cubicBezTo>
                  <a:cubicBezTo>
                    <a:pt x="93" y="32"/>
                    <a:pt x="100" y="38"/>
                    <a:pt x="105" y="44"/>
                  </a:cubicBezTo>
                  <a:cubicBezTo>
                    <a:pt x="90" y="37"/>
                    <a:pt x="75" y="26"/>
                    <a:pt x="57" y="31"/>
                  </a:cubicBezTo>
                  <a:cubicBezTo>
                    <a:pt x="37" y="35"/>
                    <a:pt x="16" y="28"/>
                    <a:pt x="0" y="14"/>
                  </a:cubicBezTo>
                  <a:cubicBezTo>
                    <a:pt x="17" y="23"/>
                    <a:pt x="36" y="27"/>
                    <a:pt x="53" y="2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cxnSp>
        <p:nvCxnSpPr>
          <p:cNvPr id="1174" name="直接连接符 83"/>
          <p:cNvCxnSpPr/>
          <p:nvPr/>
        </p:nvCxnSpPr>
        <p:spPr>
          <a:xfrm>
            <a:off x="6095880" y="2338920"/>
            <a:ext cx="360" cy="43700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sp>
        <p:nvSpPr>
          <p:cNvPr id="1175" name="矩形 84"/>
          <p:cNvSpPr/>
          <p:nvPr/>
        </p:nvSpPr>
        <p:spPr>
          <a:xfrm>
            <a:off x="4933440" y="1326240"/>
            <a:ext cx="2324520" cy="6645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Segoe UI Light 8"/>
                <a:ea typeface="微软雅黑 Light"/>
              </a:rPr>
              <a:t>科学依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6" name="直接连接符 85"/>
          <p:cNvCxnSpPr/>
          <p:nvPr/>
        </p:nvCxnSpPr>
        <p:spPr>
          <a:xfrm>
            <a:off x="755640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cxnSp>
        <p:nvCxnSpPr>
          <p:cNvPr id="1177" name="直接连接符 86"/>
          <p:cNvCxnSpPr/>
          <p:nvPr/>
        </p:nvCxnSpPr>
        <p:spPr>
          <a:xfrm>
            <a:off x="99036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椭圆 81"/>
          <p:cNvSpPr/>
          <p:nvPr/>
        </p:nvSpPr>
        <p:spPr>
          <a:xfrm>
            <a:off x="3922200" y="6582960"/>
            <a:ext cx="1399320" cy="110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179" name="椭圆 80"/>
          <p:cNvSpPr/>
          <p:nvPr/>
        </p:nvSpPr>
        <p:spPr>
          <a:xfrm>
            <a:off x="9061920" y="6582960"/>
            <a:ext cx="1399320" cy="110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180" name="圆角矩形 2"/>
          <p:cNvSpPr/>
          <p:nvPr/>
        </p:nvSpPr>
        <p:spPr>
          <a:xfrm>
            <a:off x="0" y="277200"/>
            <a:ext cx="12191760" cy="1010880"/>
          </a:xfrm>
          <a:prstGeom prst="roundRect">
            <a:avLst>
              <a:gd name="adj" fmla="val 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181" name="组合 3"/>
          <p:cNvGrpSpPr/>
          <p:nvPr/>
        </p:nvGrpSpPr>
        <p:grpSpPr>
          <a:xfrm>
            <a:off x="190080" y="115560"/>
            <a:ext cx="1333440" cy="1333440"/>
            <a:chOff x="190080" y="115560"/>
            <a:chExt cx="1333440" cy="1333440"/>
          </a:xfrm>
        </p:grpSpPr>
        <p:sp>
          <p:nvSpPr>
            <p:cNvPr id="1182" name="椭圆 4"/>
            <p:cNvSpPr/>
            <p:nvPr/>
          </p:nvSpPr>
          <p:spPr>
            <a:xfrm>
              <a:off x="190080" y="115560"/>
              <a:ext cx="1333440" cy="133344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1183" name="组合 5"/>
            <p:cNvGrpSpPr/>
            <p:nvPr/>
          </p:nvGrpSpPr>
          <p:grpSpPr>
            <a:xfrm>
              <a:off x="253440" y="178920"/>
              <a:ext cx="1206720" cy="1206720"/>
              <a:chOff x="253440" y="178920"/>
              <a:chExt cx="1206720" cy="1206720"/>
            </a:xfrm>
          </p:grpSpPr>
          <p:sp>
            <p:nvSpPr>
              <p:cNvPr id="1184" name="椭圆 6"/>
              <p:cNvSpPr/>
              <p:nvPr/>
            </p:nvSpPr>
            <p:spPr>
              <a:xfrm>
                <a:off x="253440" y="178920"/>
                <a:ext cx="1206720" cy="120672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grpSp>
            <p:nvGrpSpPr>
              <p:cNvPr id="1185" name="组合 7"/>
              <p:cNvGrpSpPr/>
              <p:nvPr/>
            </p:nvGrpSpPr>
            <p:grpSpPr>
              <a:xfrm>
                <a:off x="442440" y="277200"/>
                <a:ext cx="829080" cy="1010520"/>
                <a:chOff x="442440" y="277200"/>
                <a:chExt cx="829080" cy="1010520"/>
              </a:xfrm>
            </p:grpSpPr>
            <p:sp>
              <p:nvSpPr>
                <p:cNvPr id="1186" name="Freeform 17"/>
                <p:cNvSpPr/>
                <p:nvPr/>
              </p:nvSpPr>
              <p:spPr>
                <a:xfrm>
                  <a:off x="850320" y="277200"/>
                  <a:ext cx="421200" cy="54648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546480"/>
                    <a:gd name="textAreaBottom" fmla="*/ 546840 h 54648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1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1"/>
                        <a:pt x="2" y="0"/>
                        <a:pt x="4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6" y="1"/>
                        <a:pt x="7" y="2"/>
                        <a:pt x="7" y="3"/>
                      </a:cubicBezTo>
                      <a:cubicBezTo>
                        <a:pt x="7" y="4"/>
                        <a:pt x="7" y="4"/>
                        <a:pt x="8" y="4"/>
                      </a:cubicBezTo>
                      <a:cubicBezTo>
                        <a:pt x="9" y="4"/>
                        <a:pt x="10" y="5"/>
                        <a:pt x="10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8"/>
                        <a:pt x="12" y="9"/>
                        <a:pt x="12" y="10"/>
                      </a:cubicBezTo>
                      <a:cubicBezTo>
                        <a:pt x="12" y="12"/>
                        <a:pt x="11" y="14"/>
                        <a:pt x="9" y="12"/>
                      </a:cubicBezTo>
                      <a:cubicBezTo>
                        <a:pt x="9" y="12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7" y="10"/>
                        <a:pt x="7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8" y="9"/>
                        <a:pt x="7" y="9"/>
                        <a:pt x="7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8"/>
                      </a:cubicBezTo>
                      <a:cubicBezTo>
                        <a:pt x="7" y="8"/>
                        <a:pt x="7" y="8"/>
                        <a:pt x="7" y="9"/>
                      </a:cubicBezTo>
                      <a:cubicBezTo>
                        <a:pt x="7" y="9"/>
                        <a:pt x="7" y="9"/>
                        <a:pt x="7" y="10"/>
                      </a:cubicBezTo>
                      <a:cubicBezTo>
                        <a:pt x="7" y="10"/>
                        <a:pt x="7" y="10"/>
                        <a:pt x="7" y="11"/>
                      </a:cubicBezTo>
                      <a:cubicBezTo>
                        <a:pt x="7" y="11"/>
                        <a:pt x="7" y="11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5" y="12"/>
                        <a:pt x="5" y="10"/>
                        <a:pt x="4" y="9"/>
                      </a:cubicBezTo>
                      <a:cubicBezTo>
                        <a:pt x="4" y="9"/>
                        <a:pt x="4" y="9"/>
                        <a:pt x="4" y="8"/>
                      </a:cubicBezTo>
                      <a:cubicBezTo>
                        <a:pt x="5" y="7"/>
                        <a:pt x="5" y="6"/>
                        <a:pt x="5" y="5"/>
                      </a:cubicBezTo>
                      <a:cubicBezTo>
                        <a:pt x="4" y="5"/>
                        <a:pt x="4" y="5"/>
                        <a:pt x="5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3" y="5"/>
                        <a:pt x="3" y="4"/>
                      </a:cubicBezTo>
                      <a:cubicBezTo>
                        <a:pt x="2" y="4"/>
                        <a:pt x="2" y="4"/>
                        <a:pt x="2" y="5"/>
                      </a:cubicBezTo>
                      <a:cubicBezTo>
                        <a:pt x="2" y="5"/>
                        <a:pt x="2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6"/>
                        <a:pt x="4" y="7"/>
                        <a:pt x="4" y="8"/>
                      </a:cubicBezTo>
                      <a:cubicBezTo>
                        <a:pt x="3" y="8"/>
                        <a:pt x="3" y="8"/>
                        <a:pt x="4" y="9"/>
                      </a:cubicBezTo>
                      <a:cubicBezTo>
                        <a:pt x="5" y="11"/>
                        <a:pt x="3" y="13"/>
                        <a:pt x="1" y="12"/>
                      </a:cubicBezTo>
                      <a:cubicBezTo>
                        <a:pt x="0" y="11"/>
                        <a:pt x="0" y="9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187" name="Freeform 16"/>
                <p:cNvSpPr/>
                <p:nvPr/>
              </p:nvSpPr>
              <p:spPr>
                <a:xfrm>
                  <a:off x="442440" y="286560"/>
                  <a:ext cx="456840" cy="50760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507600"/>
                    <a:gd name="textAreaBottom" fmla="*/ 507960 h 5076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8" y="10"/>
                      </a:moveTo>
                      <a:cubicBezTo>
                        <a:pt x="8" y="10"/>
                        <a:pt x="7" y="10"/>
                        <a:pt x="7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7"/>
                        <a:pt x="6" y="6"/>
                        <a:pt x="6" y="5"/>
                      </a:cubicBezTo>
                      <a:cubicBezTo>
                        <a:pt x="7" y="5"/>
                        <a:pt x="7" y="5"/>
                        <a:pt x="7" y="6"/>
                      </a:cubicBezTo>
                      <a:cubicBezTo>
                        <a:pt x="8" y="6"/>
                        <a:pt x="8" y="6"/>
                        <a:pt x="8" y="7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8" y="3"/>
                        <a:pt x="8" y="3"/>
                      </a:cubicBezTo>
                      <a:cubicBezTo>
                        <a:pt x="8" y="3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5"/>
                      </a:cubicBezTo>
                      <a:cubicBezTo>
                        <a:pt x="5" y="5"/>
                        <a:pt x="5" y="7"/>
                        <a:pt x="6" y="8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9"/>
                        <a:pt x="5" y="9"/>
                        <a:pt x="4" y="10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3" y="13"/>
                        <a:pt x="3" y="13"/>
                        <a:pt x="2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9"/>
                        <a:pt x="1" y="8"/>
                        <a:pt x="2" y="7"/>
                      </a:cubicBezTo>
                      <a:cubicBezTo>
                        <a:pt x="2" y="7"/>
                        <a:pt x="2" y="7"/>
                        <a:pt x="2" y="6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4"/>
                        <a:pt x="5" y="4"/>
                        <a:pt x="5" y="3"/>
                      </a:cubicBezTo>
                      <a:cubicBezTo>
                        <a:pt x="5" y="2"/>
                        <a:pt x="6" y="1"/>
                        <a:pt x="7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0" y="0"/>
                        <a:pt x="13" y="2"/>
                        <a:pt x="11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2" y="7"/>
                        <a:pt x="12" y="10"/>
                        <a:pt x="10" y="9"/>
                      </a:cubicBezTo>
                      <a:cubicBezTo>
                        <a:pt x="9" y="9"/>
                        <a:pt x="9" y="9"/>
                        <a:pt x="8" y="10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188" name="Freeform 19"/>
                <p:cNvSpPr/>
                <p:nvPr/>
              </p:nvSpPr>
              <p:spPr>
                <a:xfrm>
                  <a:off x="653400" y="677160"/>
                  <a:ext cx="210600" cy="116640"/>
                </a:xfrm>
                <a:custGeom>
                  <a:avLst/>
                  <a:gdLst>
                    <a:gd name="textAreaLeft" fmla="*/ 0 w 210600"/>
                    <a:gd name="textAreaRight" fmla="*/ 210960 w 2106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6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3"/>
                        <a:pt x="4" y="2"/>
                        <a:pt x="2" y="3"/>
                      </a:cubicBezTo>
                      <a:close/>
                    </a:path>
                  </a:pathLst>
                </a:custGeom>
                <a:solidFill>
                  <a:schemeClr val="accent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189" name="任意多边形 11"/>
                <p:cNvSpPr/>
                <p:nvPr/>
              </p:nvSpPr>
              <p:spPr>
                <a:xfrm>
                  <a:off x="470520" y="777240"/>
                  <a:ext cx="799560" cy="510480"/>
                </a:xfrm>
                <a:custGeom>
                  <a:avLst/>
                  <a:gdLst>
                    <a:gd name="textAreaLeft" fmla="*/ 0 w 799560"/>
                    <a:gd name="textAreaRight" fmla="*/ 799920 w 79956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3713312" h="2370974">
                      <a:moveTo>
                        <a:pt x="0" y="0"/>
                      </a:moveTo>
                      <a:lnTo>
                        <a:pt x="3713312" y="0"/>
                      </a:lnTo>
                      <a:lnTo>
                        <a:pt x="3702869" y="86603"/>
                      </a:lnTo>
                      <a:cubicBezTo>
                        <a:pt x="3685788" y="188493"/>
                        <a:pt x="3660167" y="287034"/>
                        <a:pt x="3630275" y="378878"/>
                      </a:cubicBezTo>
                      <a:cubicBezTo>
                        <a:pt x="3570492" y="539606"/>
                        <a:pt x="3502169" y="677373"/>
                        <a:pt x="3448792" y="774957"/>
                      </a:cubicBezTo>
                      <a:lnTo>
                        <a:pt x="3442867" y="785466"/>
                      </a:lnTo>
                      <a:lnTo>
                        <a:pt x="3435953" y="922398"/>
                      </a:lnTo>
                      <a:cubicBezTo>
                        <a:pt x="3353322" y="1736041"/>
                        <a:pt x="2666174" y="2370974"/>
                        <a:pt x="1830729" y="2370974"/>
                      </a:cubicBezTo>
                      <a:cubicBezTo>
                        <a:pt x="939588" y="2370974"/>
                        <a:pt x="217175" y="1648561"/>
                        <a:pt x="217175" y="757421"/>
                      </a:cubicBezTo>
                      <a:lnTo>
                        <a:pt x="219301" y="701323"/>
                      </a:lnTo>
                      <a:lnTo>
                        <a:pt x="217572" y="698461"/>
                      </a:lnTo>
                      <a:cubicBezTo>
                        <a:pt x="176475" y="625519"/>
                        <a:pt x="62382" y="362363"/>
                        <a:pt x="4783" y="33206"/>
                      </a:cubicBezTo>
                      <a:close/>
                    </a:path>
                  </a:pathLst>
                </a:custGeom>
                <a:noFill/>
                <a:ln w="60325">
                  <a:solidFill>
                    <a:srgbClr val="2d2d2d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190" name="弦形 12"/>
                <p:cNvSpPr/>
                <p:nvPr/>
              </p:nvSpPr>
              <p:spPr>
                <a:xfrm>
                  <a:off x="5695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191" name="弦形 13"/>
                <p:cNvSpPr/>
                <p:nvPr/>
              </p:nvSpPr>
              <p:spPr>
                <a:xfrm>
                  <a:off x="9007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grpSp>
              <p:nvGrpSpPr>
                <p:cNvPr id="1192" name="组合 14"/>
                <p:cNvGrpSpPr/>
                <p:nvPr/>
              </p:nvGrpSpPr>
              <p:grpSpPr>
                <a:xfrm>
                  <a:off x="521640" y="780120"/>
                  <a:ext cx="702360" cy="151200"/>
                  <a:chOff x="521640" y="780120"/>
                  <a:chExt cx="702360" cy="151200"/>
                </a:xfrm>
              </p:grpSpPr>
              <p:sp>
                <p:nvSpPr>
                  <p:cNvPr id="1193" name="圆角矩形 25"/>
                  <p:cNvSpPr/>
                  <p:nvPr/>
                </p:nvSpPr>
                <p:spPr>
                  <a:xfrm>
                    <a:off x="521640" y="840600"/>
                    <a:ext cx="702360" cy="21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194" name="圆角矩形 26"/>
                  <p:cNvSpPr/>
                  <p:nvPr/>
                </p:nvSpPr>
                <p:spPr>
                  <a:xfrm rot="5400000">
                    <a:off x="549000" y="838800"/>
                    <a:ext cx="73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195" name="圆角矩形 27"/>
                  <p:cNvSpPr/>
                  <p:nvPr/>
                </p:nvSpPr>
                <p:spPr>
                  <a:xfrm rot="5400000">
                    <a:off x="598680" y="8388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196" name="圆角矩形 28"/>
                  <p:cNvSpPr/>
                  <p:nvPr/>
                </p:nvSpPr>
                <p:spPr>
                  <a:xfrm rot="5400000">
                    <a:off x="659880" y="839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197" name="圆角矩形 29"/>
                  <p:cNvSpPr/>
                  <p:nvPr/>
                </p:nvSpPr>
                <p:spPr>
                  <a:xfrm rot="5400000">
                    <a:off x="736560" y="8352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198" name="圆角矩形 30"/>
                  <p:cNvSpPr/>
                  <p:nvPr/>
                </p:nvSpPr>
                <p:spPr>
                  <a:xfrm rot="5400000">
                    <a:off x="793080" y="844560"/>
                    <a:ext cx="1440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199" name="圆角矩形 31"/>
                  <p:cNvSpPr/>
                  <p:nvPr/>
                </p:nvSpPr>
                <p:spPr>
                  <a:xfrm rot="5400000">
                    <a:off x="893160" y="830520"/>
                    <a:ext cx="1306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200" name="圆角矩形 32"/>
                  <p:cNvSpPr/>
                  <p:nvPr/>
                </p:nvSpPr>
                <p:spPr>
                  <a:xfrm rot="5400000">
                    <a:off x="993960" y="840600"/>
                    <a:ext cx="81000" cy="2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2240" bIns="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201" name="圆角矩形 33"/>
                  <p:cNvSpPr/>
                  <p:nvPr/>
                </p:nvSpPr>
                <p:spPr>
                  <a:xfrm rot="5400000">
                    <a:off x="1027440" y="844560"/>
                    <a:ext cx="118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202" name="圆角矩形 34"/>
                  <p:cNvSpPr/>
                  <p:nvPr/>
                </p:nvSpPr>
                <p:spPr>
                  <a:xfrm rot="5400000">
                    <a:off x="1131120" y="830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203" name="组合 15"/>
                <p:cNvGrpSpPr/>
                <p:nvPr/>
              </p:nvGrpSpPr>
              <p:grpSpPr>
                <a:xfrm>
                  <a:off x="955800" y="1097640"/>
                  <a:ext cx="147240" cy="105120"/>
                  <a:chOff x="955800" y="1097640"/>
                  <a:chExt cx="147240" cy="105120"/>
                </a:xfrm>
              </p:grpSpPr>
              <p:sp>
                <p:nvSpPr>
                  <p:cNvPr id="1204" name="圆角矩形 21"/>
                  <p:cNvSpPr/>
                  <p:nvPr/>
                </p:nvSpPr>
                <p:spPr>
                  <a:xfrm rot="12242400">
                    <a:off x="951840" y="1146600"/>
                    <a:ext cx="15516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205" name="圆角矩形 22"/>
                  <p:cNvSpPr/>
                  <p:nvPr/>
                </p:nvSpPr>
                <p:spPr>
                  <a:xfrm rot="17643000">
                    <a:off x="1042200" y="1159200"/>
                    <a:ext cx="604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206" name="圆角矩形 23"/>
                  <p:cNvSpPr/>
                  <p:nvPr/>
                </p:nvSpPr>
                <p:spPr>
                  <a:xfrm rot="17643000">
                    <a:off x="996120" y="114156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207" name="圆角矩形 24"/>
                  <p:cNvSpPr/>
                  <p:nvPr/>
                </p:nvSpPr>
                <p:spPr>
                  <a:xfrm rot="17643000">
                    <a:off x="951480" y="112392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208" name="组合 16"/>
                <p:cNvGrpSpPr/>
                <p:nvPr/>
              </p:nvGrpSpPr>
              <p:grpSpPr>
                <a:xfrm>
                  <a:off x="579600" y="1070640"/>
                  <a:ext cx="122040" cy="133560"/>
                  <a:chOff x="579600" y="1070640"/>
                  <a:chExt cx="122040" cy="133560"/>
                </a:xfrm>
              </p:grpSpPr>
              <p:sp>
                <p:nvSpPr>
                  <p:cNvPr id="1209" name="圆角矩形 17"/>
                  <p:cNvSpPr/>
                  <p:nvPr/>
                </p:nvSpPr>
                <p:spPr>
                  <a:xfrm rot="14032200">
                    <a:off x="565200" y="1130760"/>
                    <a:ext cx="15408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210" name="圆角矩形 18"/>
                  <p:cNvSpPr/>
                  <p:nvPr/>
                </p:nvSpPr>
                <p:spPr>
                  <a:xfrm rot="19432200">
                    <a:off x="640080" y="1162440"/>
                    <a:ext cx="604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211" name="圆角矩形 19"/>
                  <p:cNvSpPr/>
                  <p:nvPr/>
                </p:nvSpPr>
                <p:spPr>
                  <a:xfrm rot="19432200">
                    <a:off x="608400" y="112752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212" name="圆角矩形 20"/>
                  <p:cNvSpPr/>
                  <p:nvPr/>
                </p:nvSpPr>
                <p:spPr>
                  <a:xfrm rot="19432200">
                    <a:off x="578880" y="109008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</p:grpSp>
        </p:grpSp>
      </p:grpSp>
      <p:sp>
        <p:nvSpPr>
          <p:cNvPr id="1213" name="矩形 35"/>
          <p:cNvSpPr/>
          <p:nvPr/>
        </p:nvSpPr>
        <p:spPr>
          <a:xfrm>
            <a:off x="4597200" y="450720"/>
            <a:ext cx="299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散它们的注意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6"/>
          <p:cNvSpPr/>
          <p:nvPr/>
        </p:nvSpPr>
        <p:spPr>
          <a:xfrm>
            <a:off x="9328320" y="5127840"/>
            <a:ext cx="726480" cy="1510200"/>
          </a:xfrm>
          <a:custGeom>
            <a:avLst/>
            <a:gdLst>
              <a:gd name="textAreaLeft" fmla="*/ 0 w 726480"/>
              <a:gd name="textAreaRight" fmla="*/ 726840 w 726480"/>
              <a:gd name="textAreaTop" fmla="*/ 0 h 1510200"/>
              <a:gd name="textAreaBottom" fmla="*/ 1510560 h 1510200"/>
            </a:gdLst>
            <a:ahLst/>
            <a:rect l="textAreaLeft" t="textAreaTop" r="textAreaRight" b="textAreaBottom"/>
            <a:pathLst>
              <a:path w="140" h="295">
                <a:moveTo>
                  <a:pt x="95" y="4"/>
                </a:moveTo>
                <a:cubicBezTo>
                  <a:pt x="70" y="0"/>
                  <a:pt x="50" y="24"/>
                  <a:pt x="50" y="24"/>
                </a:cubicBezTo>
                <a:cubicBezTo>
                  <a:pt x="33" y="42"/>
                  <a:pt x="0" y="102"/>
                  <a:pt x="0" y="102"/>
                </a:cubicBezTo>
                <a:cubicBezTo>
                  <a:pt x="17" y="115"/>
                  <a:pt x="17" y="115"/>
                  <a:pt x="17" y="115"/>
                </a:cubicBezTo>
                <a:cubicBezTo>
                  <a:pt x="56" y="65"/>
                  <a:pt x="56" y="65"/>
                  <a:pt x="56" y="65"/>
                </a:cubicBezTo>
                <a:cubicBezTo>
                  <a:pt x="56" y="65"/>
                  <a:pt x="35" y="98"/>
                  <a:pt x="40" y="166"/>
                </a:cubicBezTo>
                <a:cubicBezTo>
                  <a:pt x="45" y="235"/>
                  <a:pt x="70" y="295"/>
                  <a:pt x="70" y="295"/>
                </a:cubicBezTo>
                <a:cubicBezTo>
                  <a:pt x="110" y="295"/>
                  <a:pt x="110" y="295"/>
                  <a:pt x="110" y="295"/>
                </a:cubicBezTo>
                <a:cubicBezTo>
                  <a:pt x="110" y="295"/>
                  <a:pt x="103" y="225"/>
                  <a:pt x="107" y="171"/>
                </a:cubicBezTo>
                <a:cubicBezTo>
                  <a:pt x="112" y="116"/>
                  <a:pt x="126" y="61"/>
                  <a:pt x="126" y="61"/>
                </a:cubicBezTo>
                <a:cubicBezTo>
                  <a:pt x="126" y="61"/>
                  <a:pt x="140" y="11"/>
                  <a:pt x="95" y="4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1215" name="组合 71"/>
          <p:cNvGrpSpPr/>
          <p:nvPr/>
        </p:nvGrpSpPr>
        <p:grpSpPr>
          <a:xfrm>
            <a:off x="8775360" y="2898000"/>
            <a:ext cx="2072520" cy="2399040"/>
            <a:chOff x="8775360" y="2898000"/>
            <a:chExt cx="2072520" cy="2399040"/>
          </a:xfrm>
        </p:grpSpPr>
        <p:sp>
          <p:nvSpPr>
            <p:cNvPr id="1216" name="椭圆 72"/>
            <p:cNvSpPr/>
            <p:nvPr/>
          </p:nvSpPr>
          <p:spPr>
            <a:xfrm>
              <a:off x="8939160" y="3512880"/>
              <a:ext cx="1726200" cy="1726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17" name="矩形 73"/>
            <p:cNvSpPr/>
            <p:nvPr/>
          </p:nvSpPr>
          <p:spPr>
            <a:xfrm>
              <a:off x="9160920" y="4485960"/>
              <a:ext cx="602280" cy="6516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18" name="矩形 74"/>
            <p:cNvSpPr/>
            <p:nvPr/>
          </p:nvSpPr>
          <p:spPr>
            <a:xfrm>
              <a:off x="9921600" y="4485960"/>
              <a:ext cx="602280" cy="6516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19" name="椭圆 75"/>
            <p:cNvSpPr/>
            <p:nvPr/>
          </p:nvSpPr>
          <p:spPr>
            <a:xfrm>
              <a:off x="9224640" y="4491720"/>
              <a:ext cx="167400" cy="11448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20" name="椭圆 76"/>
            <p:cNvSpPr/>
            <p:nvPr/>
          </p:nvSpPr>
          <p:spPr>
            <a:xfrm>
              <a:off x="9965160" y="4489920"/>
              <a:ext cx="167400" cy="11448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21" name="同心圆 77"/>
            <p:cNvSpPr/>
            <p:nvPr/>
          </p:nvSpPr>
          <p:spPr>
            <a:xfrm>
              <a:off x="8911800" y="3515760"/>
              <a:ext cx="1781280" cy="1781280"/>
            </a:xfrm>
            <a:prstGeom prst="donut">
              <a:avLst>
                <a:gd name="adj" fmla="val 3806"/>
              </a:avLst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22" name="任意多边形 78"/>
            <p:cNvSpPr/>
            <p:nvPr/>
          </p:nvSpPr>
          <p:spPr>
            <a:xfrm>
              <a:off x="8775360" y="2898000"/>
              <a:ext cx="2072520" cy="1603440"/>
            </a:xfrm>
            <a:custGeom>
              <a:avLst/>
              <a:gdLst>
                <a:gd name="textAreaLeft" fmla="*/ 0 w 2072520"/>
                <a:gd name="textAreaRight" fmla="*/ 2072880 w 207252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051532" h="1587287">
                  <a:moveTo>
                    <a:pt x="808911" y="351"/>
                  </a:moveTo>
                  <a:cubicBezTo>
                    <a:pt x="990198" y="7057"/>
                    <a:pt x="1214599" y="108722"/>
                    <a:pt x="1338958" y="216375"/>
                  </a:cubicBezTo>
                  <a:cubicBezTo>
                    <a:pt x="1490933" y="168997"/>
                    <a:pt x="1765935" y="292781"/>
                    <a:pt x="1853582" y="451008"/>
                  </a:cubicBezTo>
                  <a:cubicBezTo>
                    <a:pt x="1864538" y="470767"/>
                    <a:pt x="1873986" y="493197"/>
                    <a:pt x="1882003" y="517763"/>
                  </a:cubicBezTo>
                  <a:lnTo>
                    <a:pt x="1899991" y="589941"/>
                  </a:lnTo>
                  <a:lnTo>
                    <a:pt x="1934278" y="625455"/>
                  </a:lnTo>
                  <a:cubicBezTo>
                    <a:pt x="2092935" y="826185"/>
                    <a:pt x="2064937" y="1085462"/>
                    <a:pt x="1999607" y="1286192"/>
                  </a:cubicBezTo>
                  <a:cubicBezTo>
                    <a:pt x="1934278" y="1461831"/>
                    <a:pt x="1850283" y="1587287"/>
                    <a:pt x="1850283" y="1587287"/>
                  </a:cubicBezTo>
                  <a:cubicBezTo>
                    <a:pt x="1850283" y="1587287"/>
                    <a:pt x="1850283" y="1578923"/>
                    <a:pt x="1850283" y="1562196"/>
                  </a:cubicBezTo>
                  <a:cubicBezTo>
                    <a:pt x="1850283" y="1553832"/>
                    <a:pt x="1840950" y="1545468"/>
                    <a:pt x="1840950" y="1537105"/>
                  </a:cubicBezTo>
                  <a:cubicBezTo>
                    <a:pt x="1829284" y="1499468"/>
                    <a:pt x="1815869" y="1463399"/>
                    <a:pt x="1799245" y="1428768"/>
                  </a:cubicBezTo>
                  <a:lnTo>
                    <a:pt x="1774996" y="1389101"/>
                  </a:lnTo>
                  <a:lnTo>
                    <a:pt x="1765181" y="1409751"/>
                  </a:lnTo>
                  <a:cubicBezTo>
                    <a:pt x="1735480" y="1470045"/>
                    <a:pt x="1714071" y="1505503"/>
                    <a:pt x="1714071" y="1505503"/>
                  </a:cubicBezTo>
                  <a:lnTo>
                    <a:pt x="1714071" y="1477076"/>
                  </a:lnTo>
                  <a:cubicBezTo>
                    <a:pt x="1714071" y="1467902"/>
                    <a:pt x="1704824" y="1458276"/>
                    <a:pt x="1704824" y="1448800"/>
                  </a:cubicBezTo>
                  <a:cubicBezTo>
                    <a:pt x="1681002" y="1363595"/>
                    <a:pt x="1650095" y="1285535"/>
                    <a:pt x="1600266" y="1213396"/>
                  </a:cubicBezTo>
                  <a:lnTo>
                    <a:pt x="1573925" y="1183121"/>
                  </a:lnTo>
                  <a:lnTo>
                    <a:pt x="1523636" y="1152372"/>
                  </a:lnTo>
                  <a:cubicBezTo>
                    <a:pt x="1467640" y="1319647"/>
                    <a:pt x="1243653" y="1461831"/>
                    <a:pt x="1243653" y="1461831"/>
                  </a:cubicBezTo>
                  <a:cubicBezTo>
                    <a:pt x="1243653" y="1461831"/>
                    <a:pt x="1238987" y="1420012"/>
                    <a:pt x="1223821" y="1363557"/>
                  </a:cubicBezTo>
                  <a:lnTo>
                    <a:pt x="1195741" y="1280924"/>
                  </a:lnTo>
                  <a:lnTo>
                    <a:pt x="1172455" y="1302812"/>
                  </a:lnTo>
                  <a:cubicBezTo>
                    <a:pt x="1129383" y="1341060"/>
                    <a:pt x="1097326" y="1363670"/>
                    <a:pt x="1097326" y="1363670"/>
                  </a:cubicBezTo>
                  <a:cubicBezTo>
                    <a:pt x="1097326" y="1363670"/>
                    <a:pt x="1094668" y="1337063"/>
                    <a:pt x="1086841" y="1296815"/>
                  </a:cubicBezTo>
                  <a:lnTo>
                    <a:pt x="1080356" y="1267013"/>
                  </a:lnTo>
                  <a:lnTo>
                    <a:pt x="1049561" y="1304357"/>
                  </a:lnTo>
                  <a:cubicBezTo>
                    <a:pt x="948504" y="1413739"/>
                    <a:pt x="833011" y="1470195"/>
                    <a:pt x="833011" y="1470195"/>
                  </a:cubicBezTo>
                  <a:cubicBezTo>
                    <a:pt x="833011" y="1470195"/>
                    <a:pt x="828345" y="1428376"/>
                    <a:pt x="814346" y="1370875"/>
                  </a:cubicBezTo>
                  <a:lnTo>
                    <a:pt x="791180" y="1294081"/>
                  </a:lnTo>
                  <a:lnTo>
                    <a:pt x="751575" y="1325636"/>
                  </a:lnTo>
                  <a:cubicBezTo>
                    <a:pt x="709369" y="1357048"/>
                    <a:pt x="679997" y="1372996"/>
                    <a:pt x="679997" y="1372996"/>
                  </a:cubicBezTo>
                  <a:cubicBezTo>
                    <a:pt x="679997" y="1372996"/>
                    <a:pt x="677340" y="1346409"/>
                    <a:pt x="670011" y="1305688"/>
                  </a:cubicBezTo>
                  <a:lnTo>
                    <a:pt x="664046" y="1275752"/>
                  </a:lnTo>
                  <a:lnTo>
                    <a:pt x="605525" y="1338596"/>
                  </a:lnTo>
                  <a:cubicBezTo>
                    <a:pt x="462034" y="1478558"/>
                    <a:pt x="308043" y="1553832"/>
                    <a:pt x="301043" y="1553832"/>
                  </a:cubicBezTo>
                  <a:cubicBezTo>
                    <a:pt x="291711" y="1541286"/>
                    <a:pt x="259629" y="1495809"/>
                    <a:pt x="222736" y="1429421"/>
                  </a:cubicBezTo>
                  <a:lnTo>
                    <a:pt x="218353" y="1421130"/>
                  </a:lnTo>
                  <a:lnTo>
                    <a:pt x="190137" y="1439926"/>
                  </a:lnTo>
                  <a:cubicBezTo>
                    <a:pt x="160498" y="1458426"/>
                    <a:pt x="141551" y="1467902"/>
                    <a:pt x="139240" y="1467902"/>
                  </a:cubicBezTo>
                  <a:cubicBezTo>
                    <a:pt x="101045" y="1410898"/>
                    <a:pt x="-188231" y="747458"/>
                    <a:pt x="200753" y="369037"/>
                  </a:cubicBezTo>
                  <a:cubicBezTo>
                    <a:pt x="210201" y="359711"/>
                    <a:pt x="544506" y="28969"/>
                    <a:pt x="734274" y="3550"/>
                  </a:cubicBezTo>
                  <a:cubicBezTo>
                    <a:pt x="757995" y="373"/>
                    <a:pt x="783013" y="-607"/>
                    <a:pt x="808911" y="351"/>
                  </a:cubicBezTo>
                  <a:close/>
                </a:path>
              </a:pathLst>
            </a:custGeom>
            <a:solidFill>
              <a:srgbClr val="2e2e2e"/>
            </a:solidFill>
            <a:ln w="55563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223" name="任意多边形 79"/>
          <p:cNvSpPr/>
          <p:nvPr/>
        </p:nvSpPr>
        <p:spPr>
          <a:xfrm>
            <a:off x="1163880" y="2327760"/>
            <a:ext cx="8332560" cy="4210200"/>
          </a:xfrm>
          <a:custGeom>
            <a:avLst/>
            <a:gdLst>
              <a:gd name="textAreaLeft" fmla="*/ 0 w 8332560"/>
              <a:gd name="textAreaRight" fmla="*/ 8332920 w 8332560"/>
              <a:gd name="textAreaTop" fmla="*/ 0 h 4210200"/>
              <a:gd name="textAreaBottom" fmla="*/ 4210560 h 4210200"/>
            </a:gdLst>
            <a:ahLst/>
            <a:rect l="textAreaLeft" t="textAreaTop" r="textAreaRight" b="textAreaBottom"/>
            <a:pathLst>
              <a:path w="6570982" h="2468746">
                <a:moveTo>
                  <a:pt x="997" y="2468746"/>
                </a:moveTo>
                <a:cubicBezTo>
                  <a:pt x="-60551" y="261238"/>
                  <a:pt x="2735668" y="-1599763"/>
                  <a:pt x="6570982" y="2128921"/>
                </a:cubicBezTo>
              </a:path>
            </a:pathLst>
          </a:custGeom>
          <a:noFill/>
          <a:ln w="28575">
            <a:solidFill>
              <a:srgbClr val="2e2e2e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224" name="组合 65"/>
          <p:cNvGrpSpPr/>
          <p:nvPr/>
        </p:nvGrpSpPr>
        <p:grpSpPr>
          <a:xfrm>
            <a:off x="3078000" y="3012840"/>
            <a:ext cx="2120040" cy="3936240"/>
            <a:chOff x="3078000" y="3012840"/>
            <a:chExt cx="2120040" cy="3936240"/>
          </a:xfrm>
        </p:grpSpPr>
        <p:sp>
          <p:nvSpPr>
            <p:cNvPr id="1225" name="Freeform 6"/>
            <p:cNvSpPr/>
            <p:nvPr/>
          </p:nvSpPr>
          <p:spPr>
            <a:xfrm flipH="1" rot="20299200">
              <a:off x="3928320" y="5303880"/>
              <a:ext cx="1027080" cy="1508400"/>
            </a:xfrm>
            <a:custGeom>
              <a:avLst/>
              <a:gdLst>
                <a:gd name="textAreaLeft" fmla="*/ -360 w 1027080"/>
                <a:gd name="textAreaRight" fmla="*/ 1027080 w 1027080"/>
                <a:gd name="textAreaTop" fmla="*/ 0 h 1508400"/>
                <a:gd name="textAreaBottom" fmla="*/ 1508760 h 1508400"/>
              </a:gdLst>
              <a:ahLst/>
              <a:rect l="textAreaLeft" t="textAreaTop" r="textAreaRight" b="textAreaBottom"/>
              <a:pathLst>
                <a:path w="1236" h="1950">
                  <a:moveTo>
                    <a:pt x="198" y="9"/>
                  </a:moveTo>
                  <a:cubicBezTo>
                    <a:pt x="228" y="6"/>
                    <a:pt x="258" y="0"/>
                    <a:pt x="287" y="6"/>
                  </a:cubicBezTo>
                  <a:cubicBezTo>
                    <a:pt x="352" y="17"/>
                    <a:pt x="413" y="51"/>
                    <a:pt x="455" y="101"/>
                  </a:cubicBezTo>
                  <a:cubicBezTo>
                    <a:pt x="499" y="101"/>
                    <a:pt x="543" y="99"/>
                    <a:pt x="586" y="101"/>
                  </a:cubicBezTo>
                  <a:cubicBezTo>
                    <a:pt x="620" y="114"/>
                    <a:pt x="653" y="131"/>
                    <a:pt x="687" y="146"/>
                  </a:cubicBezTo>
                  <a:cubicBezTo>
                    <a:pt x="699" y="126"/>
                    <a:pt x="707" y="104"/>
                    <a:pt x="718" y="84"/>
                  </a:cubicBezTo>
                  <a:cubicBezTo>
                    <a:pt x="788" y="81"/>
                    <a:pt x="858" y="77"/>
                    <a:pt x="928" y="74"/>
                  </a:cubicBezTo>
                  <a:cubicBezTo>
                    <a:pt x="961" y="70"/>
                    <a:pt x="994" y="73"/>
                    <a:pt x="1027" y="69"/>
                  </a:cubicBezTo>
                  <a:cubicBezTo>
                    <a:pt x="1056" y="66"/>
                    <a:pt x="1085" y="68"/>
                    <a:pt x="1114" y="64"/>
                  </a:cubicBezTo>
                  <a:cubicBezTo>
                    <a:pt x="1152" y="59"/>
                    <a:pt x="1191" y="75"/>
                    <a:pt x="1214" y="106"/>
                  </a:cubicBezTo>
                  <a:cubicBezTo>
                    <a:pt x="1226" y="124"/>
                    <a:pt x="1235" y="144"/>
                    <a:pt x="1233" y="166"/>
                  </a:cubicBezTo>
                  <a:cubicBezTo>
                    <a:pt x="1236" y="203"/>
                    <a:pt x="1214" y="239"/>
                    <a:pt x="1183" y="258"/>
                  </a:cubicBezTo>
                  <a:cubicBezTo>
                    <a:pt x="1145" y="279"/>
                    <a:pt x="1100" y="274"/>
                    <a:pt x="1058" y="276"/>
                  </a:cubicBezTo>
                  <a:cubicBezTo>
                    <a:pt x="970" y="282"/>
                    <a:pt x="882" y="282"/>
                    <a:pt x="794" y="290"/>
                  </a:cubicBezTo>
                  <a:cubicBezTo>
                    <a:pt x="729" y="292"/>
                    <a:pt x="663" y="298"/>
                    <a:pt x="598" y="301"/>
                  </a:cubicBezTo>
                  <a:cubicBezTo>
                    <a:pt x="564" y="304"/>
                    <a:pt x="530" y="303"/>
                    <a:pt x="496" y="309"/>
                  </a:cubicBezTo>
                  <a:cubicBezTo>
                    <a:pt x="496" y="393"/>
                    <a:pt x="495" y="476"/>
                    <a:pt x="494" y="560"/>
                  </a:cubicBezTo>
                  <a:cubicBezTo>
                    <a:pt x="470" y="560"/>
                    <a:pt x="446" y="560"/>
                    <a:pt x="422" y="561"/>
                  </a:cubicBezTo>
                  <a:cubicBezTo>
                    <a:pt x="437" y="600"/>
                    <a:pt x="458" y="636"/>
                    <a:pt x="473" y="675"/>
                  </a:cubicBezTo>
                  <a:cubicBezTo>
                    <a:pt x="450" y="684"/>
                    <a:pt x="428" y="694"/>
                    <a:pt x="405" y="702"/>
                  </a:cubicBezTo>
                  <a:cubicBezTo>
                    <a:pt x="390" y="708"/>
                    <a:pt x="373" y="713"/>
                    <a:pt x="359" y="723"/>
                  </a:cubicBezTo>
                  <a:cubicBezTo>
                    <a:pt x="403" y="730"/>
                    <a:pt x="448" y="727"/>
                    <a:pt x="493" y="732"/>
                  </a:cubicBezTo>
                  <a:cubicBezTo>
                    <a:pt x="490" y="787"/>
                    <a:pt x="488" y="841"/>
                    <a:pt x="478" y="895"/>
                  </a:cubicBezTo>
                  <a:cubicBezTo>
                    <a:pt x="570" y="956"/>
                    <a:pt x="662" y="1014"/>
                    <a:pt x="754" y="1074"/>
                  </a:cubicBezTo>
                  <a:cubicBezTo>
                    <a:pt x="764" y="1081"/>
                    <a:pt x="768" y="1092"/>
                    <a:pt x="774" y="1102"/>
                  </a:cubicBezTo>
                  <a:cubicBezTo>
                    <a:pt x="783" y="1124"/>
                    <a:pt x="795" y="1144"/>
                    <a:pt x="805" y="1165"/>
                  </a:cubicBezTo>
                  <a:cubicBezTo>
                    <a:pt x="823" y="1160"/>
                    <a:pt x="839" y="1146"/>
                    <a:pt x="858" y="1143"/>
                  </a:cubicBezTo>
                  <a:cubicBezTo>
                    <a:pt x="875" y="1150"/>
                    <a:pt x="889" y="1162"/>
                    <a:pt x="905" y="1171"/>
                  </a:cubicBezTo>
                  <a:cubicBezTo>
                    <a:pt x="971" y="1214"/>
                    <a:pt x="1038" y="1257"/>
                    <a:pt x="1104" y="1300"/>
                  </a:cubicBezTo>
                  <a:cubicBezTo>
                    <a:pt x="1130" y="1317"/>
                    <a:pt x="1150" y="1342"/>
                    <a:pt x="1160" y="1371"/>
                  </a:cubicBezTo>
                  <a:cubicBezTo>
                    <a:pt x="1185" y="1433"/>
                    <a:pt x="1156" y="1510"/>
                    <a:pt x="1098" y="1542"/>
                  </a:cubicBezTo>
                  <a:cubicBezTo>
                    <a:pt x="1068" y="1561"/>
                    <a:pt x="1031" y="1564"/>
                    <a:pt x="996" y="1559"/>
                  </a:cubicBezTo>
                  <a:cubicBezTo>
                    <a:pt x="971" y="1555"/>
                    <a:pt x="950" y="1540"/>
                    <a:pt x="929" y="1527"/>
                  </a:cubicBezTo>
                  <a:cubicBezTo>
                    <a:pt x="746" y="1409"/>
                    <a:pt x="563" y="1290"/>
                    <a:pt x="380" y="1172"/>
                  </a:cubicBezTo>
                  <a:cubicBezTo>
                    <a:pt x="366" y="1163"/>
                    <a:pt x="352" y="1153"/>
                    <a:pt x="337" y="1147"/>
                  </a:cubicBezTo>
                  <a:cubicBezTo>
                    <a:pt x="336" y="1366"/>
                    <a:pt x="338" y="1586"/>
                    <a:pt x="337" y="1806"/>
                  </a:cubicBezTo>
                  <a:cubicBezTo>
                    <a:pt x="337" y="1842"/>
                    <a:pt x="322" y="1878"/>
                    <a:pt x="297" y="1905"/>
                  </a:cubicBezTo>
                  <a:cubicBezTo>
                    <a:pt x="273" y="1931"/>
                    <a:pt x="239" y="1946"/>
                    <a:pt x="204" y="1950"/>
                  </a:cubicBezTo>
                  <a:cubicBezTo>
                    <a:pt x="184" y="1950"/>
                    <a:pt x="184" y="1950"/>
                    <a:pt x="184" y="1950"/>
                  </a:cubicBezTo>
                  <a:cubicBezTo>
                    <a:pt x="152" y="1947"/>
                    <a:pt x="121" y="1933"/>
                    <a:pt x="97" y="1911"/>
                  </a:cubicBezTo>
                  <a:cubicBezTo>
                    <a:pt x="67" y="1884"/>
                    <a:pt x="50" y="1843"/>
                    <a:pt x="51" y="1802"/>
                  </a:cubicBezTo>
                  <a:cubicBezTo>
                    <a:pt x="51" y="1697"/>
                    <a:pt x="51" y="1591"/>
                    <a:pt x="51" y="1486"/>
                  </a:cubicBezTo>
                  <a:cubicBezTo>
                    <a:pt x="67" y="1493"/>
                    <a:pt x="81" y="1504"/>
                    <a:pt x="97" y="1511"/>
                  </a:cubicBezTo>
                  <a:cubicBezTo>
                    <a:pt x="94" y="1475"/>
                    <a:pt x="87" y="1439"/>
                    <a:pt x="83" y="1403"/>
                  </a:cubicBezTo>
                  <a:cubicBezTo>
                    <a:pt x="73" y="1402"/>
                    <a:pt x="62" y="1403"/>
                    <a:pt x="52" y="1405"/>
                  </a:cubicBezTo>
                  <a:cubicBezTo>
                    <a:pt x="50" y="1389"/>
                    <a:pt x="51" y="1374"/>
                    <a:pt x="51" y="1358"/>
                  </a:cubicBezTo>
                  <a:cubicBezTo>
                    <a:pt x="51" y="1222"/>
                    <a:pt x="51" y="1086"/>
                    <a:pt x="51" y="950"/>
                  </a:cubicBezTo>
                  <a:cubicBezTo>
                    <a:pt x="52" y="930"/>
                    <a:pt x="31" y="920"/>
                    <a:pt x="25" y="903"/>
                  </a:cubicBezTo>
                  <a:cubicBezTo>
                    <a:pt x="2" y="866"/>
                    <a:pt x="1" y="821"/>
                    <a:pt x="1" y="778"/>
                  </a:cubicBezTo>
                  <a:cubicBezTo>
                    <a:pt x="2" y="737"/>
                    <a:pt x="0" y="695"/>
                    <a:pt x="3" y="654"/>
                  </a:cubicBezTo>
                  <a:cubicBezTo>
                    <a:pt x="18" y="661"/>
                    <a:pt x="32" y="672"/>
                    <a:pt x="49" y="674"/>
                  </a:cubicBezTo>
                  <a:cubicBezTo>
                    <a:pt x="67" y="633"/>
                    <a:pt x="88" y="593"/>
                    <a:pt x="105" y="551"/>
                  </a:cubicBezTo>
                  <a:cubicBezTo>
                    <a:pt x="71" y="566"/>
                    <a:pt x="38" y="585"/>
                    <a:pt x="3" y="599"/>
                  </a:cubicBezTo>
                  <a:cubicBezTo>
                    <a:pt x="2" y="522"/>
                    <a:pt x="3" y="446"/>
                    <a:pt x="3" y="370"/>
                  </a:cubicBezTo>
                  <a:cubicBezTo>
                    <a:pt x="2" y="348"/>
                    <a:pt x="15" y="331"/>
                    <a:pt x="24" y="312"/>
                  </a:cubicBezTo>
                  <a:cubicBezTo>
                    <a:pt x="32" y="293"/>
                    <a:pt x="43" y="274"/>
                    <a:pt x="50" y="254"/>
                  </a:cubicBezTo>
                  <a:cubicBezTo>
                    <a:pt x="33" y="258"/>
                    <a:pt x="18" y="267"/>
                    <a:pt x="3" y="274"/>
                  </a:cubicBezTo>
                  <a:cubicBezTo>
                    <a:pt x="3" y="243"/>
                    <a:pt x="2" y="213"/>
                    <a:pt x="6" y="182"/>
                  </a:cubicBezTo>
                  <a:cubicBezTo>
                    <a:pt x="11" y="156"/>
                    <a:pt x="23" y="132"/>
                    <a:pt x="37" y="110"/>
                  </a:cubicBezTo>
                  <a:cubicBezTo>
                    <a:pt x="76" y="58"/>
                    <a:pt x="135" y="21"/>
                    <a:pt x="198" y="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1226" name="组合 37"/>
            <p:cNvGrpSpPr/>
            <p:nvPr/>
          </p:nvGrpSpPr>
          <p:grpSpPr>
            <a:xfrm>
              <a:off x="3078000" y="3012840"/>
              <a:ext cx="2099880" cy="2505600"/>
              <a:chOff x="3078000" y="3012840"/>
              <a:chExt cx="2099880" cy="2505600"/>
            </a:xfrm>
          </p:grpSpPr>
          <p:sp>
            <p:nvSpPr>
              <p:cNvPr id="1227" name="Freeform 17"/>
              <p:cNvSpPr/>
              <p:nvPr/>
            </p:nvSpPr>
            <p:spPr>
              <a:xfrm flipV="1" rot="10388400">
                <a:off x="3149280" y="3155760"/>
                <a:ext cx="965880" cy="1253880"/>
              </a:xfrm>
              <a:custGeom>
                <a:avLst/>
                <a:gdLst>
                  <a:gd name="textAreaLeft" fmla="*/ 0 w 965880"/>
                  <a:gd name="textAreaRight" fmla="*/ 966240 w 965880"/>
                  <a:gd name="textAreaTop" fmla="*/ -360 h 1253880"/>
                  <a:gd name="textAreaBottom" fmla="*/ 1253880 h 125388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1" y="7"/>
                    </a:moveTo>
                    <a:cubicBezTo>
                      <a:pt x="0" y="6"/>
                      <a:pt x="0" y="5"/>
                      <a:pt x="0" y="4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1" y="1"/>
                      <a:pt x="2" y="0"/>
                      <a:pt x="4" y="1"/>
                    </a:cubicBezTo>
                    <a:cubicBezTo>
                      <a:pt x="4" y="1"/>
                      <a:pt x="4" y="1"/>
                      <a:pt x="5" y="1"/>
                    </a:cubicBezTo>
                    <a:cubicBezTo>
                      <a:pt x="6" y="1"/>
                      <a:pt x="7" y="2"/>
                      <a:pt x="7" y="3"/>
                    </a:cubicBezTo>
                    <a:cubicBezTo>
                      <a:pt x="7" y="4"/>
                      <a:pt x="7" y="4"/>
                      <a:pt x="8" y="4"/>
                    </a:cubicBezTo>
                    <a:cubicBezTo>
                      <a:pt x="9" y="4"/>
                      <a:pt x="10" y="5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8"/>
                      <a:pt x="12" y="9"/>
                      <a:pt x="12" y="10"/>
                    </a:cubicBezTo>
                    <a:cubicBezTo>
                      <a:pt x="12" y="12"/>
                      <a:pt x="11" y="14"/>
                      <a:pt x="9" y="12"/>
                    </a:cubicBezTo>
                    <a:cubicBezTo>
                      <a:pt x="9" y="12"/>
                      <a:pt x="9" y="11"/>
                      <a:pt x="8" y="11"/>
                    </a:cubicBezTo>
                    <a:cubicBezTo>
                      <a:pt x="8" y="11"/>
                      <a:pt x="7" y="11"/>
                      <a:pt x="7" y="11"/>
                    </a:cubicBezTo>
                    <a:cubicBezTo>
                      <a:pt x="7" y="10"/>
                      <a:pt x="7" y="10"/>
                      <a:pt x="8" y="10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8" y="9"/>
                      <a:pt x="7" y="9"/>
                      <a:pt x="7" y="8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8"/>
                    </a:cubicBez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10"/>
                    </a:cubicBezTo>
                    <a:cubicBezTo>
                      <a:pt x="7" y="10"/>
                      <a:pt x="7" y="10"/>
                      <a:pt x="7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5" y="10"/>
                      <a:pt x="4" y="9"/>
                    </a:cubicBezTo>
                    <a:cubicBezTo>
                      <a:pt x="4" y="9"/>
                      <a:pt x="4" y="9"/>
                      <a:pt x="4" y="8"/>
                    </a:cubicBezTo>
                    <a:cubicBezTo>
                      <a:pt x="5" y="7"/>
                      <a:pt x="5" y="6"/>
                      <a:pt x="5" y="5"/>
                    </a:cubicBezTo>
                    <a:cubicBezTo>
                      <a:pt x="4" y="5"/>
                      <a:pt x="4" y="5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4"/>
                      <a:pt x="3" y="5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5"/>
                      <a:pt x="2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4" y="7"/>
                      <a:pt x="4" y="8"/>
                    </a:cubicBezTo>
                    <a:cubicBezTo>
                      <a:pt x="3" y="8"/>
                      <a:pt x="3" y="8"/>
                      <a:pt x="4" y="9"/>
                    </a:cubicBezTo>
                    <a:cubicBezTo>
                      <a:pt x="5" y="11"/>
                      <a:pt x="3" y="13"/>
                      <a:pt x="1" y="12"/>
                    </a:cubicBezTo>
                    <a:cubicBezTo>
                      <a:pt x="0" y="11"/>
                      <a:pt x="0" y="9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228" name="Freeform 16"/>
              <p:cNvSpPr/>
              <p:nvPr/>
            </p:nvSpPr>
            <p:spPr>
              <a:xfrm flipV="1" rot="10388400">
                <a:off x="3993480" y="3071160"/>
                <a:ext cx="1047600" cy="1163160"/>
              </a:xfrm>
              <a:custGeom>
                <a:avLst/>
                <a:gdLst>
                  <a:gd name="textAreaLeft" fmla="*/ 0 w 1047600"/>
                  <a:gd name="textAreaRight" fmla="*/ 1047960 w 1047600"/>
                  <a:gd name="textAreaTop" fmla="*/ -360 h 1163160"/>
                  <a:gd name="textAreaBottom" fmla="*/ 1163160 h 116316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8" y="10"/>
                    </a:moveTo>
                    <a:cubicBezTo>
                      <a:pt x="8" y="10"/>
                      <a:pt x="7" y="10"/>
                      <a:pt x="7" y="9"/>
                    </a:cubicBezTo>
                    <a:cubicBezTo>
                      <a:pt x="7" y="8"/>
                      <a:pt x="7" y="8"/>
                      <a:pt x="6" y="8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7" y="5"/>
                      <a:pt x="7" y="5"/>
                      <a:pt x="7" y="6"/>
                    </a:cubicBezTo>
                    <a:cubicBezTo>
                      <a:pt x="8" y="6"/>
                      <a:pt x="8" y="6"/>
                      <a:pt x="8" y="7"/>
                    </a:cubicBezTo>
                    <a:cubicBezTo>
                      <a:pt x="9" y="7"/>
                      <a:pt x="9" y="7"/>
                      <a:pt x="9" y="6"/>
                    </a:cubicBezTo>
                    <a:cubicBezTo>
                      <a:pt x="9" y="6"/>
                      <a:pt x="9" y="6"/>
                      <a:pt x="8" y="6"/>
                    </a:cubicBezTo>
                    <a:cubicBezTo>
                      <a:pt x="8" y="5"/>
                      <a:pt x="8" y="4"/>
                      <a:pt x="8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8" y="3"/>
                      <a:pt x="7" y="4"/>
                      <a:pt x="7" y="4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5" y="5"/>
                      <a:pt x="5" y="7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10"/>
                      <a:pt x="7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4" y="11"/>
                      <a:pt x="4" y="12"/>
                    </a:cubicBezTo>
                    <a:cubicBezTo>
                      <a:pt x="3" y="13"/>
                      <a:pt x="3" y="13"/>
                      <a:pt x="2" y="13"/>
                    </a:cubicBezTo>
                    <a:cubicBezTo>
                      <a:pt x="0" y="13"/>
                      <a:pt x="0" y="12"/>
                      <a:pt x="0" y="10"/>
                    </a:cubicBezTo>
                    <a:cubicBezTo>
                      <a:pt x="0" y="9"/>
                      <a:pt x="1" y="8"/>
                      <a:pt x="2" y="7"/>
                    </a:cubicBezTo>
                    <a:cubicBezTo>
                      <a:pt x="2" y="7"/>
                      <a:pt x="2" y="7"/>
                      <a:pt x="2" y="6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3"/>
                    </a:cubicBezTo>
                    <a:cubicBezTo>
                      <a:pt x="5" y="2"/>
                      <a:pt x="6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10" y="0"/>
                      <a:pt x="13" y="2"/>
                      <a:pt x="11" y="4"/>
                    </a:cubicBezTo>
                    <a:cubicBezTo>
                      <a:pt x="11" y="5"/>
                      <a:pt x="11" y="5"/>
                      <a:pt x="11" y="6"/>
                    </a:cubicBezTo>
                    <a:cubicBezTo>
                      <a:pt x="12" y="7"/>
                      <a:pt x="12" y="10"/>
                      <a:pt x="10" y="9"/>
                    </a:cubicBezTo>
                    <a:cubicBezTo>
                      <a:pt x="9" y="9"/>
                      <a:pt x="9" y="9"/>
                      <a:pt x="8" y="10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229" name="Freeform 19"/>
              <p:cNvSpPr/>
              <p:nvPr/>
            </p:nvSpPr>
            <p:spPr>
              <a:xfrm flipV="1" rot="10388400">
                <a:off x="4128840" y="3987360"/>
                <a:ext cx="483480" cy="26820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-360 h 268200"/>
                  <a:gd name="textAreaBottom" fmla="*/ 268200 h 2682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3" y="3"/>
                      <a:pt x="4" y="2"/>
                      <a:pt x="2" y="3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230" name="任意多边形 41"/>
              <p:cNvSpPr/>
              <p:nvPr/>
            </p:nvSpPr>
            <p:spPr>
              <a:xfrm flipV="1" rot="10388400">
                <a:off x="3281040" y="4241880"/>
                <a:ext cx="1833480" cy="1170720"/>
              </a:xfrm>
              <a:custGeom>
                <a:avLst/>
                <a:gdLst>
                  <a:gd name="textAreaLeft" fmla="*/ 0 w 1833480"/>
                  <a:gd name="textAreaRight" fmla="*/ 1833840 w 1833480"/>
                  <a:gd name="textAreaTop" fmla="*/ 360 h 1170720"/>
                  <a:gd name="textAreaBottom" fmla="*/ 1171440 h 1170720"/>
                </a:gdLst>
                <a:ahLst/>
                <a:rect l="textAreaLeft" t="textAreaTop" r="textAreaRight" b="textAreaBottom"/>
                <a:pathLst>
                  <a:path w="3713312" h="2370974">
                    <a:moveTo>
                      <a:pt x="0" y="0"/>
                    </a:moveTo>
                    <a:lnTo>
                      <a:pt x="3713312" y="0"/>
                    </a:lnTo>
                    <a:lnTo>
                      <a:pt x="3702869" y="86603"/>
                    </a:lnTo>
                    <a:cubicBezTo>
                      <a:pt x="3685788" y="188493"/>
                      <a:pt x="3660167" y="287034"/>
                      <a:pt x="3630275" y="378878"/>
                    </a:cubicBezTo>
                    <a:cubicBezTo>
                      <a:pt x="3570492" y="539606"/>
                      <a:pt x="3502169" y="677373"/>
                      <a:pt x="3448792" y="774957"/>
                    </a:cubicBezTo>
                    <a:lnTo>
                      <a:pt x="3442867" y="785466"/>
                    </a:lnTo>
                    <a:lnTo>
                      <a:pt x="3435953" y="922398"/>
                    </a:lnTo>
                    <a:cubicBezTo>
                      <a:pt x="3353322" y="1736041"/>
                      <a:pt x="2666174" y="2370974"/>
                      <a:pt x="1830729" y="2370974"/>
                    </a:cubicBezTo>
                    <a:cubicBezTo>
                      <a:pt x="939588" y="2370974"/>
                      <a:pt x="217175" y="1648561"/>
                      <a:pt x="217175" y="757421"/>
                    </a:cubicBezTo>
                    <a:lnTo>
                      <a:pt x="219301" y="701323"/>
                    </a:lnTo>
                    <a:lnTo>
                      <a:pt x="217572" y="698461"/>
                    </a:lnTo>
                    <a:cubicBezTo>
                      <a:pt x="176475" y="625519"/>
                      <a:pt x="62382" y="362363"/>
                      <a:pt x="4783" y="33206"/>
                    </a:cubicBezTo>
                    <a:close/>
                  </a:path>
                </a:pathLst>
              </a:custGeom>
              <a:solidFill>
                <a:schemeClr val="bg1"/>
              </a:solidFill>
              <a:ln w="88900">
                <a:solidFill>
                  <a:srgbClr val="2d2d2d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2e2e2e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231" name="弦形 42"/>
              <p:cNvSpPr/>
              <p:nvPr/>
            </p:nvSpPr>
            <p:spPr>
              <a:xfrm flipV="1" rot="10388400">
                <a:off x="4201200" y="4208760"/>
                <a:ext cx="653760" cy="653760"/>
              </a:xfrm>
              <a:prstGeom prst="chord">
                <a:avLst>
                  <a:gd name="adj1" fmla="val 92404"/>
                  <a:gd name="adj2" fmla="val 10691083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232" name="弦形 43"/>
              <p:cNvSpPr/>
              <p:nvPr/>
            </p:nvSpPr>
            <p:spPr>
              <a:xfrm flipV="1" rot="10388400">
                <a:off x="3447720" y="4299480"/>
                <a:ext cx="653760" cy="653760"/>
              </a:xfrm>
              <a:prstGeom prst="chord">
                <a:avLst>
                  <a:gd name="adj1" fmla="val 92404"/>
                  <a:gd name="adj2" fmla="val 10691083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grpSp>
            <p:nvGrpSpPr>
              <p:cNvPr id="1233" name="组合 44"/>
              <p:cNvGrpSpPr/>
              <p:nvPr/>
            </p:nvGrpSpPr>
            <p:grpSpPr>
              <a:xfrm>
                <a:off x="3340440" y="4252320"/>
                <a:ext cx="1604520" cy="379800"/>
                <a:chOff x="3340440" y="4252320"/>
                <a:chExt cx="1604520" cy="379800"/>
              </a:xfrm>
            </p:grpSpPr>
            <p:sp>
              <p:nvSpPr>
                <p:cNvPr id="1234" name="圆角矩形 55"/>
                <p:cNvSpPr/>
                <p:nvPr/>
              </p:nvSpPr>
              <p:spPr>
                <a:xfrm flipV="1" rot="10388400">
                  <a:off x="3337560" y="4390560"/>
                  <a:ext cx="1610280" cy="4896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2320" bIns="22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35" name="圆角矩形 56"/>
                <p:cNvSpPr/>
                <p:nvPr/>
              </p:nvSpPr>
              <p:spPr>
                <a:xfrm flipV="1" rot="4988400">
                  <a:off x="4712040" y="4307760"/>
                  <a:ext cx="169200" cy="676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36" name="圆角矩形 57"/>
                <p:cNvSpPr/>
                <p:nvPr/>
              </p:nvSpPr>
              <p:spPr>
                <a:xfrm flipV="1" rot="4988400">
                  <a:off x="4563720" y="4323600"/>
                  <a:ext cx="204840" cy="676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37" name="圆角矩形 58"/>
                <p:cNvSpPr/>
                <p:nvPr/>
              </p:nvSpPr>
              <p:spPr>
                <a:xfrm flipV="1" rot="4988400">
                  <a:off x="4402440" y="4343400"/>
                  <a:ext cx="225720" cy="673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38" name="圆角矩形 59"/>
                <p:cNvSpPr/>
                <p:nvPr/>
              </p:nvSpPr>
              <p:spPr>
                <a:xfrm flipV="1" rot="4988400">
                  <a:off x="4248360" y="4353120"/>
                  <a:ext cx="204840" cy="676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39" name="圆角矩形 60"/>
                <p:cNvSpPr/>
                <p:nvPr/>
              </p:nvSpPr>
              <p:spPr>
                <a:xfrm flipV="1" rot="4988400">
                  <a:off x="3997080" y="4398120"/>
                  <a:ext cx="330480" cy="673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40" name="圆角矩形 61"/>
                <p:cNvSpPr/>
                <p:nvPr/>
              </p:nvSpPr>
              <p:spPr>
                <a:xfrm flipV="1" rot="4988400">
                  <a:off x="3795840" y="4392360"/>
                  <a:ext cx="300240" cy="673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41" name="圆角矩形 62"/>
                <p:cNvSpPr/>
                <p:nvPr/>
              </p:nvSpPr>
              <p:spPr>
                <a:xfrm flipV="1" rot="4988400">
                  <a:off x="3682440" y="4435920"/>
                  <a:ext cx="186120" cy="6156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42" name="圆角矩形 63"/>
                <p:cNvSpPr/>
                <p:nvPr/>
              </p:nvSpPr>
              <p:spPr>
                <a:xfrm flipV="1" rot="4988400">
                  <a:off x="3521160" y="4458600"/>
                  <a:ext cx="272880" cy="673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43" name="圆角矩形 64"/>
                <p:cNvSpPr/>
                <p:nvPr/>
              </p:nvSpPr>
              <p:spPr>
                <a:xfrm flipV="1" rot="4988400">
                  <a:off x="3328200" y="4452120"/>
                  <a:ext cx="225720" cy="673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</p:grpSp>
          <p:grpSp>
            <p:nvGrpSpPr>
              <p:cNvPr id="1244" name="组合 45"/>
              <p:cNvGrpSpPr/>
              <p:nvPr/>
            </p:nvGrpSpPr>
            <p:grpSpPr>
              <a:xfrm>
                <a:off x="3708360" y="5007960"/>
                <a:ext cx="321840" cy="262440"/>
                <a:chOff x="3708360" y="5007960"/>
                <a:chExt cx="321840" cy="262440"/>
              </a:xfrm>
            </p:grpSpPr>
            <p:sp>
              <p:nvSpPr>
                <p:cNvPr id="1245" name="圆角矩形 51"/>
                <p:cNvSpPr/>
                <p:nvPr/>
              </p:nvSpPr>
              <p:spPr>
                <a:xfrm flipV="1" rot="19745400">
                  <a:off x="3691080" y="5129640"/>
                  <a:ext cx="356040" cy="320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4400" bIns="14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46" name="圆角矩形 52"/>
                <p:cNvSpPr/>
                <p:nvPr/>
              </p:nvSpPr>
              <p:spPr>
                <a:xfrm flipV="1" rot="14345400">
                  <a:off x="3706200" y="5171400"/>
                  <a:ext cx="138960" cy="514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3040" bIns="230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47" name="圆角矩形 53"/>
                <p:cNvSpPr/>
                <p:nvPr/>
              </p:nvSpPr>
              <p:spPr>
                <a:xfrm flipV="1" rot="14345400">
                  <a:off x="3776760" y="5119560"/>
                  <a:ext cx="168120" cy="518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48" name="圆角矩形 54"/>
                <p:cNvSpPr/>
                <p:nvPr/>
              </p:nvSpPr>
              <p:spPr>
                <a:xfrm flipV="1" rot="14345400">
                  <a:off x="3873960" y="5067000"/>
                  <a:ext cx="168120" cy="518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</p:grpSp>
          <p:grpSp>
            <p:nvGrpSpPr>
              <p:cNvPr id="1249" name="组合 46"/>
              <p:cNvGrpSpPr/>
              <p:nvPr/>
            </p:nvGrpSpPr>
            <p:grpSpPr>
              <a:xfrm>
                <a:off x="4617720" y="4841280"/>
                <a:ext cx="264960" cy="324360"/>
                <a:chOff x="4617720" y="4841280"/>
                <a:chExt cx="264960" cy="324360"/>
              </a:xfrm>
            </p:grpSpPr>
            <p:sp>
              <p:nvSpPr>
                <p:cNvPr id="1250" name="圆角矩形 47"/>
                <p:cNvSpPr/>
                <p:nvPr/>
              </p:nvSpPr>
              <p:spPr>
                <a:xfrm flipV="1" rot="17955600">
                  <a:off x="4569120" y="4987080"/>
                  <a:ext cx="353880" cy="316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14400" bIns="14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51" name="圆角矩形 48"/>
                <p:cNvSpPr/>
                <p:nvPr/>
              </p:nvSpPr>
              <p:spPr>
                <a:xfrm flipV="1" rot="12555600">
                  <a:off x="4620960" y="5067720"/>
                  <a:ext cx="138960" cy="511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52" name="圆角矩形 49"/>
                <p:cNvSpPr/>
                <p:nvPr/>
              </p:nvSpPr>
              <p:spPr>
                <a:xfrm flipV="1" rot="12555600">
                  <a:off x="4655160" y="4982040"/>
                  <a:ext cx="168120" cy="511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53" name="圆角矩形 50"/>
                <p:cNvSpPr/>
                <p:nvPr/>
              </p:nvSpPr>
              <p:spPr>
                <a:xfrm flipV="1" rot="12555600">
                  <a:off x="4712760" y="4888800"/>
                  <a:ext cx="168120" cy="511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</p:grpSp>
        </p:grpSp>
      </p:grpSp>
      <p:sp>
        <p:nvSpPr>
          <p:cNvPr id="1254" name="空心弧 82"/>
          <p:cNvSpPr/>
          <p:nvPr/>
        </p:nvSpPr>
        <p:spPr>
          <a:xfrm rot="10800000">
            <a:off x="948600" y="6484320"/>
            <a:ext cx="410400" cy="134640"/>
          </a:xfrm>
          <a:prstGeom prst="blockArc">
            <a:avLst>
              <a:gd name="adj1" fmla="val 10800000"/>
              <a:gd name="adj2" fmla="val 20801051"/>
              <a:gd name="adj3" fmla="val 524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1255" name="空心弧 83"/>
          <p:cNvSpPr/>
          <p:nvPr/>
        </p:nvSpPr>
        <p:spPr>
          <a:xfrm rot="10800000">
            <a:off x="905040" y="6498720"/>
            <a:ext cx="516240" cy="169200"/>
          </a:xfrm>
          <a:prstGeom prst="blockArc">
            <a:avLst>
              <a:gd name="adj1" fmla="val 10800000"/>
              <a:gd name="adj2" fmla="val 21420672"/>
              <a:gd name="adj3" fmla="val 18872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600" bIns="39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1256" name="Freeform 7"/>
          <p:cNvSpPr/>
          <p:nvPr/>
        </p:nvSpPr>
        <p:spPr>
          <a:xfrm rot="18393000">
            <a:off x="1454040" y="6336000"/>
            <a:ext cx="201960" cy="167400"/>
          </a:xfrm>
          <a:custGeom>
            <a:avLst/>
            <a:gdLst>
              <a:gd name="textAreaLeft" fmla="*/ 0 w 201960"/>
              <a:gd name="textAreaRight" fmla="*/ 202320 w 201960"/>
              <a:gd name="textAreaTop" fmla="*/ 0 h 167400"/>
              <a:gd name="textAreaBottom" fmla="*/ 167760 h 167400"/>
            </a:gdLst>
            <a:ahLst/>
            <a:rect l="textAreaLeft" t="textAreaTop" r="textAreaRight" b="textAreaBottom"/>
            <a:pathLst>
              <a:path w="62" h="52">
                <a:moveTo>
                  <a:pt x="51" y="32"/>
                </a:moveTo>
                <a:cubicBezTo>
                  <a:pt x="62" y="4"/>
                  <a:pt x="0" y="0"/>
                  <a:pt x="0" y="0"/>
                </a:cubicBezTo>
                <a:cubicBezTo>
                  <a:pt x="0" y="0"/>
                  <a:pt x="43" y="52"/>
                  <a:pt x="51" y="32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sp>
        <p:nvSpPr>
          <p:cNvPr id="1257" name="Freeform 8"/>
          <p:cNvSpPr/>
          <p:nvPr/>
        </p:nvSpPr>
        <p:spPr>
          <a:xfrm rot="15991800">
            <a:off x="758520" y="6277680"/>
            <a:ext cx="207000" cy="174600"/>
          </a:xfrm>
          <a:custGeom>
            <a:avLst/>
            <a:gdLst>
              <a:gd name="textAreaLeft" fmla="*/ 0 w 207000"/>
              <a:gd name="textAreaRight" fmla="*/ 207360 w 2070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94" h="73">
                <a:moveTo>
                  <a:pt x="76" y="35"/>
                </a:moveTo>
                <a:cubicBezTo>
                  <a:pt x="49" y="0"/>
                  <a:pt x="0" y="73"/>
                  <a:pt x="0" y="73"/>
                </a:cubicBezTo>
                <a:cubicBezTo>
                  <a:pt x="0" y="73"/>
                  <a:pt x="94" y="59"/>
                  <a:pt x="76" y="35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sp>
        <p:nvSpPr>
          <p:cNvPr id="1258" name="Freeform 9"/>
          <p:cNvSpPr/>
          <p:nvPr/>
        </p:nvSpPr>
        <p:spPr>
          <a:xfrm rot="17521200">
            <a:off x="1248480" y="6192720"/>
            <a:ext cx="307800" cy="260280"/>
          </a:xfrm>
          <a:custGeom>
            <a:avLst/>
            <a:gdLst>
              <a:gd name="textAreaLeft" fmla="*/ 0 w 307800"/>
              <a:gd name="textAreaRight" fmla="*/ 308160 w 3078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4" h="81">
                <a:moveTo>
                  <a:pt x="0" y="23"/>
                </a:moveTo>
                <a:cubicBezTo>
                  <a:pt x="0" y="23"/>
                  <a:pt x="86" y="81"/>
                  <a:pt x="89" y="48"/>
                </a:cubicBezTo>
                <a:cubicBezTo>
                  <a:pt x="94" y="0"/>
                  <a:pt x="0" y="23"/>
                  <a:pt x="0" y="23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矩形 1"/>
          <p:cNvSpPr/>
          <p:nvPr/>
        </p:nvSpPr>
        <p:spPr>
          <a:xfrm>
            <a:off x="6526080" y="3774240"/>
            <a:ext cx="46749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僵尸很容易被分散注意力。它们后侧顶叶的损伤引发了非常严重的注意力缺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矩形 2"/>
          <p:cNvSpPr/>
          <p:nvPr/>
        </p:nvSpPr>
        <p:spPr>
          <a:xfrm>
            <a:off x="6513120" y="2932560"/>
            <a:ext cx="50367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僵尸的注意力很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椭圆 23"/>
          <p:cNvSpPr/>
          <p:nvPr/>
        </p:nvSpPr>
        <p:spPr>
          <a:xfrm>
            <a:off x="2926800" y="3067920"/>
            <a:ext cx="1368360" cy="1368360"/>
          </a:xfrm>
          <a:prstGeom prst="ellipse">
            <a:avLst/>
          </a:prstGeom>
          <a:solidFill>
            <a:srgbClr val="c00000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262" name="闪电形 24"/>
          <p:cNvSpPr/>
          <p:nvPr/>
        </p:nvSpPr>
        <p:spPr>
          <a:xfrm rot="5560800">
            <a:off x="4453200" y="3521160"/>
            <a:ext cx="711360" cy="45900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263" name="Group 4"/>
          <p:cNvGrpSpPr/>
          <p:nvPr/>
        </p:nvGrpSpPr>
        <p:grpSpPr>
          <a:xfrm>
            <a:off x="1483560" y="2932560"/>
            <a:ext cx="3488760" cy="2974320"/>
            <a:chOff x="1483560" y="2932560"/>
            <a:chExt cx="3488760" cy="2974320"/>
          </a:xfrm>
        </p:grpSpPr>
        <p:sp>
          <p:nvSpPr>
            <p:cNvPr id="1264" name="Freeform 5"/>
            <p:cNvSpPr/>
            <p:nvPr/>
          </p:nvSpPr>
          <p:spPr>
            <a:xfrm>
              <a:off x="1483560" y="2932560"/>
              <a:ext cx="2824200" cy="2291040"/>
            </a:xfrm>
            <a:custGeom>
              <a:avLst/>
              <a:gdLst>
                <a:gd name="textAreaLeft" fmla="*/ 0 w 2824200"/>
                <a:gd name="textAreaRight" fmla="*/ 2824560 w 2824200"/>
                <a:gd name="textAreaTop" fmla="*/ 0 h 2291040"/>
                <a:gd name="textAreaBottom" fmla="*/ 2291400 h 2291040"/>
              </a:gdLst>
              <a:ahLst/>
              <a:rect l="textAreaLeft" t="textAreaTop" r="textAreaRight" b="textAreaBottom"/>
              <a:pathLst>
                <a:path w="1059" h="859">
                  <a:moveTo>
                    <a:pt x="299" y="56"/>
                  </a:moveTo>
                  <a:cubicBezTo>
                    <a:pt x="389" y="25"/>
                    <a:pt x="482" y="6"/>
                    <a:pt x="577" y="2"/>
                  </a:cubicBezTo>
                  <a:cubicBezTo>
                    <a:pt x="654" y="1"/>
                    <a:pt x="733" y="0"/>
                    <a:pt x="809" y="17"/>
                  </a:cubicBezTo>
                  <a:cubicBezTo>
                    <a:pt x="882" y="34"/>
                    <a:pt x="953" y="64"/>
                    <a:pt x="1014" y="108"/>
                  </a:cubicBezTo>
                  <a:cubicBezTo>
                    <a:pt x="1030" y="120"/>
                    <a:pt x="1043" y="134"/>
                    <a:pt x="1059" y="145"/>
                  </a:cubicBezTo>
                  <a:cubicBezTo>
                    <a:pt x="1054" y="151"/>
                    <a:pt x="1049" y="157"/>
                    <a:pt x="1043" y="163"/>
                  </a:cubicBezTo>
                  <a:cubicBezTo>
                    <a:pt x="1032" y="153"/>
                    <a:pt x="1023" y="140"/>
                    <a:pt x="1009" y="135"/>
                  </a:cubicBezTo>
                  <a:cubicBezTo>
                    <a:pt x="998" y="130"/>
                    <a:pt x="985" y="137"/>
                    <a:pt x="980" y="147"/>
                  </a:cubicBezTo>
                  <a:cubicBezTo>
                    <a:pt x="973" y="159"/>
                    <a:pt x="976" y="173"/>
                    <a:pt x="975" y="186"/>
                  </a:cubicBezTo>
                  <a:cubicBezTo>
                    <a:pt x="971" y="173"/>
                    <a:pt x="966" y="159"/>
                    <a:pt x="966" y="144"/>
                  </a:cubicBezTo>
                  <a:cubicBezTo>
                    <a:pt x="967" y="132"/>
                    <a:pt x="975" y="121"/>
                    <a:pt x="976" y="108"/>
                  </a:cubicBezTo>
                  <a:cubicBezTo>
                    <a:pt x="972" y="100"/>
                    <a:pt x="963" y="102"/>
                    <a:pt x="956" y="104"/>
                  </a:cubicBezTo>
                  <a:cubicBezTo>
                    <a:pt x="941" y="108"/>
                    <a:pt x="932" y="122"/>
                    <a:pt x="917" y="126"/>
                  </a:cubicBezTo>
                  <a:cubicBezTo>
                    <a:pt x="895" y="125"/>
                    <a:pt x="879" y="109"/>
                    <a:pt x="866" y="93"/>
                  </a:cubicBezTo>
                  <a:cubicBezTo>
                    <a:pt x="881" y="101"/>
                    <a:pt x="896" y="112"/>
                    <a:pt x="913" y="112"/>
                  </a:cubicBezTo>
                  <a:cubicBezTo>
                    <a:pt x="925" y="111"/>
                    <a:pt x="935" y="105"/>
                    <a:pt x="945" y="99"/>
                  </a:cubicBezTo>
                  <a:cubicBezTo>
                    <a:pt x="942" y="88"/>
                    <a:pt x="932" y="80"/>
                    <a:pt x="920" y="78"/>
                  </a:cubicBezTo>
                  <a:cubicBezTo>
                    <a:pt x="889" y="69"/>
                    <a:pt x="852" y="69"/>
                    <a:pt x="824" y="87"/>
                  </a:cubicBezTo>
                  <a:cubicBezTo>
                    <a:pt x="816" y="92"/>
                    <a:pt x="815" y="102"/>
                    <a:pt x="814" y="110"/>
                  </a:cubicBezTo>
                  <a:cubicBezTo>
                    <a:pt x="777" y="112"/>
                    <a:pt x="739" y="125"/>
                    <a:pt x="712" y="152"/>
                  </a:cubicBezTo>
                  <a:cubicBezTo>
                    <a:pt x="706" y="158"/>
                    <a:pt x="698" y="167"/>
                    <a:pt x="702" y="176"/>
                  </a:cubicBezTo>
                  <a:cubicBezTo>
                    <a:pt x="709" y="188"/>
                    <a:pt x="724" y="191"/>
                    <a:pt x="731" y="203"/>
                  </a:cubicBezTo>
                  <a:cubicBezTo>
                    <a:pt x="735" y="211"/>
                    <a:pt x="728" y="218"/>
                    <a:pt x="721" y="222"/>
                  </a:cubicBezTo>
                  <a:cubicBezTo>
                    <a:pt x="698" y="233"/>
                    <a:pt x="670" y="231"/>
                    <a:pt x="646" y="242"/>
                  </a:cubicBezTo>
                  <a:cubicBezTo>
                    <a:pt x="627" y="252"/>
                    <a:pt x="617" y="273"/>
                    <a:pt x="607" y="291"/>
                  </a:cubicBezTo>
                  <a:cubicBezTo>
                    <a:pt x="591" y="322"/>
                    <a:pt x="577" y="357"/>
                    <a:pt x="580" y="393"/>
                  </a:cubicBezTo>
                  <a:cubicBezTo>
                    <a:pt x="580" y="410"/>
                    <a:pt x="590" y="425"/>
                    <a:pt x="603" y="436"/>
                  </a:cubicBezTo>
                  <a:cubicBezTo>
                    <a:pt x="596" y="450"/>
                    <a:pt x="584" y="467"/>
                    <a:pt x="591" y="483"/>
                  </a:cubicBezTo>
                  <a:cubicBezTo>
                    <a:pt x="592" y="484"/>
                    <a:pt x="596" y="486"/>
                    <a:pt x="597" y="487"/>
                  </a:cubicBezTo>
                  <a:cubicBezTo>
                    <a:pt x="618" y="476"/>
                    <a:pt x="636" y="460"/>
                    <a:pt x="657" y="449"/>
                  </a:cubicBezTo>
                  <a:cubicBezTo>
                    <a:pt x="678" y="436"/>
                    <a:pt x="705" y="427"/>
                    <a:pt x="716" y="403"/>
                  </a:cubicBezTo>
                  <a:cubicBezTo>
                    <a:pt x="723" y="382"/>
                    <a:pt x="704" y="362"/>
                    <a:pt x="707" y="341"/>
                  </a:cubicBezTo>
                  <a:cubicBezTo>
                    <a:pt x="708" y="331"/>
                    <a:pt x="715" y="324"/>
                    <a:pt x="720" y="316"/>
                  </a:cubicBezTo>
                  <a:cubicBezTo>
                    <a:pt x="709" y="348"/>
                    <a:pt x="724" y="384"/>
                    <a:pt x="751" y="402"/>
                  </a:cubicBezTo>
                  <a:cubicBezTo>
                    <a:pt x="768" y="412"/>
                    <a:pt x="790" y="411"/>
                    <a:pt x="809" y="410"/>
                  </a:cubicBezTo>
                  <a:cubicBezTo>
                    <a:pt x="837" y="407"/>
                    <a:pt x="858" y="385"/>
                    <a:pt x="868" y="360"/>
                  </a:cubicBezTo>
                  <a:cubicBezTo>
                    <a:pt x="882" y="330"/>
                    <a:pt x="883" y="288"/>
                    <a:pt x="918" y="273"/>
                  </a:cubicBezTo>
                  <a:cubicBezTo>
                    <a:pt x="904" y="289"/>
                    <a:pt x="890" y="307"/>
                    <a:pt x="887" y="329"/>
                  </a:cubicBezTo>
                  <a:cubicBezTo>
                    <a:pt x="885" y="341"/>
                    <a:pt x="887" y="353"/>
                    <a:pt x="884" y="364"/>
                  </a:cubicBezTo>
                  <a:cubicBezTo>
                    <a:pt x="874" y="388"/>
                    <a:pt x="845" y="398"/>
                    <a:pt x="836" y="423"/>
                  </a:cubicBezTo>
                  <a:cubicBezTo>
                    <a:pt x="856" y="435"/>
                    <a:pt x="870" y="458"/>
                    <a:pt x="864" y="481"/>
                  </a:cubicBezTo>
                  <a:cubicBezTo>
                    <a:pt x="860" y="467"/>
                    <a:pt x="854" y="452"/>
                    <a:pt x="841" y="444"/>
                  </a:cubicBezTo>
                  <a:cubicBezTo>
                    <a:pt x="825" y="432"/>
                    <a:pt x="804" y="434"/>
                    <a:pt x="785" y="433"/>
                  </a:cubicBezTo>
                  <a:cubicBezTo>
                    <a:pt x="761" y="431"/>
                    <a:pt x="736" y="428"/>
                    <a:pt x="713" y="439"/>
                  </a:cubicBezTo>
                  <a:cubicBezTo>
                    <a:pt x="664" y="461"/>
                    <a:pt x="625" y="499"/>
                    <a:pt x="582" y="530"/>
                  </a:cubicBezTo>
                  <a:cubicBezTo>
                    <a:pt x="546" y="546"/>
                    <a:pt x="527" y="587"/>
                    <a:pt x="530" y="625"/>
                  </a:cubicBezTo>
                  <a:cubicBezTo>
                    <a:pt x="524" y="642"/>
                    <a:pt x="533" y="661"/>
                    <a:pt x="545" y="673"/>
                  </a:cubicBezTo>
                  <a:cubicBezTo>
                    <a:pt x="561" y="666"/>
                    <a:pt x="570" y="651"/>
                    <a:pt x="576" y="636"/>
                  </a:cubicBezTo>
                  <a:cubicBezTo>
                    <a:pt x="579" y="658"/>
                    <a:pt x="558" y="671"/>
                    <a:pt x="549" y="689"/>
                  </a:cubicBezTo>
                  <a:cubicBezTo>
                    <a:pt x="546" y="710"/>
                    <a:pt x="566" y="725"/>
                    <a:pt x="582" y="733"/>
                  </a:cubicBezTo>
                  <a:cubicBezTo>
                    <a:pt x="565" y="734"/>
                    <a:pt x="555" y="720"/>
                    <a:pt x="544" y="710"/>
                  </a:cubicBezTo>
                  <a:cubicBezTo>
                    <a:pt x="515" y="705"/>
                    <a:pt x="490" y="725"/>
                    <a:pt x="472" y="746"/>
                  </a:cubicBezTo>
                  <a:cubicBezTo>
                    <a:pt x="479" y="724"/>
                    <a:pt x="500" y="709"/>
                    <a:pt x="521" y="701"/>
                  </a:cubicBezTo>
                  <a:cubicBezTo>
                    <a:pt x="529" y="699"/>
                    <a:pt x="536" y="689"/>
                    <a:pt x="532" y="681"/>
                  </a:cubicBezTo>
                  <a:cubicBezTo>
                    <a:pt x="525" y="664"/>
                    <a:pt x="512" y="648"/>
                    <a:pt x="514" y="629"/>
                  </a:cubicBezTo>
                  <a:cubicBezTo>
                    <a:pt x="512" y="605"/>
                    <a:pt x="509" y="582"/>
                    <a:pt x="511" y="558"/>
                  </a:cubicBezTo>
                  <a:cubicBezTo>
                    <a:pt x="512" y="558"/>
                    <a:pt x="512" y="558"/>
                    <a:pt x="512" y="558"/>
                  </a:cubicBezTo>
                  <a:cubicBezTo>
                    <a:pt x="511" y="574"/>
                    <a:pt x="511" y="590"/>
                    <a:pt x="513" y="606"/>
                  </a:cubicBezTo>
                  <a:cubicBezTo>
                    <a:pt x="518" y="585"/>
                    <a:pt x="531" y="565"/>
                    <a:pt x="527" y="543"/>
                  </a:cubicBezTo>
                  <a:cubicBezTo>
                    <a:pt x="523" y="537"/>
                    <a:pt x="515" y="539"/>
                    <a:pt x="509" y="537"/>
                  </a:cubicBezTo>
                  <a:cubicBezTo>
                    <a:pt x="497" y="534"/>
                    <a:pt x="485" y="534"/>
                    <a:pt x="474" y="534"/>
                  </a:cubicBezTo>
                  <a:cubicBezTo>
                    <a:pt x="474" y="526"/>
                    <a:pt x="474" y="519"/>
                    <a:pt x="474" y="511"/>
                  </a:cubicBezTo>
                  <a:cubicBezTo>
                    <a:pt x="486" y="512"/>
                    <a:pt x="498" y="515"/>
                    <a:pt x="510" y="515"/>
                  </a:cubicBezTo>
                  <a:cubicBezTo>
                    <a:pt x="516" y="515"/>
                    <a:pt x="518" y="505"/>
                    <a:pt x="523" y="513"/>
                  </a:cubicBezTo>
                  <a:cubicBezTo>
                    <a:pt x="524" y="510"/>
                    <a:pt x="525" y="504"/>
                    <a:pt x="525" y="500"/>
                  </a:cubicBezTo>
                  <a:cubicBezTo>
                    <a:pt x="526" y="504"/>
                    <a:pt x="526" y="512"/>
                    <a:pt x="527" y="515"/>
                  </a:cubicBezTo>
                  <a:cubicBezTo>
                    <a:pt x="557" y="510"/>
                    <a:pt x="578" y="481"/>
                    <a:pt x="585" y="453"/>
                  </a:cubicBezTo>
                  <a:cubicBezTo>
                    <a:pt x="592" y="431"/>
                    <a:pt x="569" y="417"/>
                    <a:pt x="566" y="397"/>
                  </a:cubicBezTo>
                  <a:cubicBezTo>
                    <a:pt x="557" y="365"/>
                    <a:pt x="568" y="333"/>
                    <a:pt x="574" y="301"/>
                  </a:cubicBezTo>
                  <a:cubicBezTo>
                    <a:pt x="582" y="262"/>
                    <a:pt x="613" y="230"/>
                    <a:pt x="652" y="222"/>
                  </a:cubicBezTo>
                  <a:cubicBezTo>
                    <a:pt x="664" y="219"/>
                    <a:pt x="680" y="220"/>
                    <a:pt x="687" y="207"/>
                  </a:cubicBezTo>
                  <a:cubicBezTo>
                    <a:pt x="695" y="185"/>
                    <a:pt x="683" y="158"/>
                    <a:pt x="661" y="149"/>
                  </a:cubicBezTo>
                  <a:cubicBezTo>
                    <a:pt x="670" y="151"/>
                    <a:pt x="679" y="154"/>
                    <a:pt x="687" y="159"/>
                  </a:cubicBezTo>
                  <a:cubicBezTo>
                    <a:pt x="702" y="135"/>
                    <a:pt x="727" y="120"/>
                    <a:pt x="753" y="112"/>
                  </a:cubicBezTo>
                  <a:cubicBezTo>
                    <a:pt x="773" y="105"/>
                    <a:pt x="796" y="103"/>
                    <a:pt x="812" y="87"/>
                  </a:cubicBezTo>
                  <a:cubicBezTo>
                    <a:pt x="818" y="80"/>
                    <a:pt x="810" y="72"/>
                    <a:pt x="806" y="66"/>
                  </a:cubicBezTo>
                  <a:cubicBezTo>
                    <a:pt x="821" y="71"/>
                    <a:pt x="840" y="73"/>
                    <a:pt x="852" y="60"/>
                  </a:cubicBezTo>
                  <a:cubicBezTo>
                    <a:pt x="845" y="47"/>
                    <a:pt x="831" y="41"/>
                    <a:pt x="817" y="40"/>
                  </a:cubicBezTo>
                  <a:cubicBezTo>
                    <a:pt x="785" y="36"/>
                    <a:pt x="756" y="59"/>
                    <a:pt x="724" y="53"/>
                  </a:cubicBezTo>
                  <a:cubicBezTo>
                    <a:pt x="730" y="49"/>
                    <a:pt x="736" y="46"/>
                    <a:pt x="740" y="41"/>
                  </a:cubicBezTo>
                  <a:cubicBezTo>
                    <a:pt x="744" y="33"/>
                    <a:pt x="733" y="29"/>
                    <a:pt x="728" y="26"/>
                  </a:cubicBezTo>
                  <a:cubicBezTo>
                    <a:pt x="701" y="15"/>
                    <a:pt x="670" y="14"/>
                    <a:pt x="641" y="14"/>
                  </a:cubicBezTo>
                  <a:cubicBezTo>
                    <a:pt x="618" y="15"/>
                    <a:pt x="590" y="15"/>
                    <a:pt x="574" y="34"/>
                  </a:cubicBezTo>
                  <a:cubicBezTo>
                    <a:pt x="566" y="44"/>
                    <a:pt x="570" y="56"/>
                    <a:pt x="572" y="67"/>
                  </a:cubicBezTo>
                  <a:cubicBezTo>
                    <a:pt x="563" y="59"/>
                    <a:pt x="560" y="48"/>
                    <a:pt x="557" y="37"/>
                  </a:cubicBezTo>
                  <a:cubicBezTo>
                    <a:pt x="556" y="32"/>
                    <a:pt x="549" y="30"/>
                    <a:pt x="545" y="31"/>
                  </a:cubicBezTo>
                  <a:cubicBezTo>
                    <a:pt x="524" y="32"/>
                    <a:pt x="504" y="45"/>
                    <a:pt x="496" y="65"/>
                  </a:cubicBezTo>
                  <a:cubicBezTo>
                    <a:pt x="472" y="65"/>
                    <a:pt x="448" y="70"/>
                    <a:pt x="428" y="83"/>
                  </a:cubicBezTo>
                  <a:cubicBezTo>
                    <a:pt x="439" y="68"/>
                    <a:pt x="458" y="58"/>
                    <a:pt x="477" y="57"/>
                  </a:cubicBezTo>
                  <a:cubicBezTo>
                    <a:pt x="488" y="57"/>
                    <a:pt x="502" y="48"/>
                    <a:pt x="501" y="35"/>
                  </a:cubicBezTo>
                  <a:cubicBezTo>
                    <a:pt x="458" y="34"/>
                    <a:pt x="416" y="47"/>
                    <a:pt x="375" y="59"/>
                  </a:cubicBezTo>
                  <a:cubicBezTo>
                    <a:pt x="355" y="62"/>
                    <a:pt x="336" y="75"/>
                    <a:pt x="333" y="96"/>
                  </a:cubicBezTo>
                  <a:cubicBezTo>
                    <a:pt x="350" y="100"/>
                    <a:pt x="368" y="95"/>
                    <a:pt x="383" y="102"/>
                  </a:cubicBezTo>
                  <a:cubicBezTo>
                    <a:pt x="397" y="107"/>
                    <a:pt x="406" y="121"/>
                    <a:pt x="405" y="135"/>
                  </a:cubicBezTo>
                  <a:cubicBezTo>
                    <a:pt x="414" y="125"/>
                    <a:pt x="425" y="116"/>
                    <a:pt x="438" y="112"/>
                  </a:cubicBezTo>
                  <a:cubicBezTo>
                    <a:pt x="420" y="127"/>
                    <a:pt x="403" y="145"/>
                    <a:pt x="400" y="169"/>
                  </a:cubicBezTo>
                  <a:cubicBezTo>
                    <a:pt x="397" y="184"/>
                    <a:pt x="412" y="192"/>
                    <a:pt x="421" y="200"/>
                  </a:cubicBezTo>
                  <a:cubicBezTo>
                    <a:pt x="434" y="209"/>
                    <a:pt x="442" y="222"/>
                    <a:pt x="453" y="232"/>
                  </a:cubicBezTo>
                  <a:cubicBezTo>
                    <a:pt x="468" y="240"/>
                    <a:pt x="491" y="234"/>
                    <a:pt x="496" y="217"/>
                  </a:cubicBezTo>
                  <a:cubicBezTo>
                    <a:pt x="498" y="198"/>
                    <a:pt x="488" y="180"/>
                    <a:pt x="494" y="161"/>
                  </a:cubicBezTo>
                  <a:cubicBezTo>
                    <a:pt x="501" y="138"/>
                    <a:pt x="511" y="113"/>
                    <a:pt x="503" y="89"/>
                  </a:cubicBezTo>
                  <a:cubicBezTo>
                    <a:pt x="511" y="102"/>
                    <a:pt x="518" y="117"/>
                    <a:pt x="515" y="132"/>
                  </a:cubicBezTo>
                  <a:cubicBezTo>
                    <a:pt x="512" y="155"/>
                    <a:pt x="499" y="178"/>
                    <a:pt x="510" y="200"/>
                  </a:cubicBezTo>
                  <a:cubicBezTo>
                    <a:pt x="514" y="209"/>
                    <a:pt x="525" y="210"/>
                    <a:pt x="533" y="210"/>
                  </a:cubicBezTo>
                  <a:cubicBezTo>
                    <a:pt x="556" y="208"/>
                    <a:pt x="575" y="193"/>
                    <a:pt x="589" y="177"/>
                  </a:cubicBezTo>
                  <a:cubicBezTo>
                    <a:pt x="577" y="209"/>
                    <a:pt x="542" y="221"/>
                    <a:pt x="514" y="234"/>
                  </a:cubicBezTo>
                  <a:cubicBezTo>
                    <a:pt x="499" y="241"/>
                    <a:pt x="481" y="248"/>
                    <a:pt x="475" y="265"/>
                  </a:cubicBezTo>
                  <a:cubicBezTo>
                    <a:pt x="479" y="281"/>
                    <a:pt x="485" y="297"/>
                    <a:pt x="482" y="313"/>
                  </a:cubicBezTo>
                  <a:cubicBezTo>
                    <a:pt x="480" y="329"/>
                    <a:pt x="467" y="345"/>
                    <a:pt x="477" y="360"/>
                  </a:cubicBezTo>
                  <a:cubicBezTo>
                    <a:pt x="490" y="380"/>
                    <a:pt x="502" y="402"/>
                    <a:pt x="500" y="426"/>
                  </a:cubicBezTo>
                  <a:cubicBezTo>
                    <a:pt x="493" y="411"/>
                    <a:pt x="489" y="394"/>
                    <a:pt x="478" y="381"/>
                  </a:cubicBezTo>
                  <a:cubicBezTo>
                    <a:pt x="473" y="375"/>
                    <a:pt x="466" y="373"/>
                    <a:pt x="462" y="367"/>
                  </a:cubicBezTo>
                  <a:cubicBezTo>
                    <a:pt x="454" y="356"/>
                    <a:pt x="443" y="347"/>
                    <a:pt x="434" y="337"/>
                  </a:cubicBezTo>
                  <a:cubicBezTo>
                    <a:pt x="449" y="331"/>
                    <a:pt x="465" y="319"/>
                    <a:pt x="468" y="301"/>
                  </a:cubicBezTo>
                  <a:cubicBezTo>
                    <a:pt x="471" y="284"/>
                    <a:pt x="456" y="271"/>
                    <a:pt x="449" y="257"/>
                  </a:cubicBezTo>
                  <a:cubicBezTo>
                    <a:pt x="439" y="238"/>
                    <a:pt x="429" y="219"/>
                    <a:pt x="411" y="206"/>
                  </a:cubicBezTo>
                  <a:cubicBezTo>
                    <a:pt x="403" y="200"/>
                    <a:pt x="392" y="197"/>
                    <a:pt x="383" y="191"/>
                  </a:cubicBezTo>
                  <a:cubicBezTo>
                    <a:pt x="382" y="171"/>
                    <a:pt x="398" y="153"/>
                    <a:pt x="394" y="133"/>
                  </a:cubicBezTo>
                  <a:cubicBezTo>
                    <a:pt x="394" y="118"/>
                    <a:pt x="379" y="109"/>
                    <a:pt x="365" y="109"/>
                  </a:cubicBezTo>
                  <a:cubicBezTo>
                    <a:pt x="343" y="109"/>
                    <a:pt x="316" y="114"/>
                    <a:pt x="302" y="134"/>
                  </a:cubicBezTo>
                  <a:cubicBezTo>
                    <a:pt x="295" y="142"/>
                    <a:pt x="296" y="155"/>
                    <a:pt x="305" y="161"/>
                  </a:cubicBezTo>
                  <a:cubicBezTo>
                    <a:pt x="316" y="164"/>
                    <a:pt x="327" y="164"/>
                    <a:pt x="337" y="169"/>
                  </a:cubicBezTo>
                  <a:cubicBezTo>
                    <a:pt x="302" y="170"/>
                    <a:pt x="264" y="186"/>
                    <a:pt x="249" y="221"/>
                  </a:cubicBezTo>
                  <a:cubicBezTo>
                    <a:pt x="243" y="235"/>
                    <a:pt x="236" y="254"/>
                    <a:pt x="249" y="266"/>
                  </a:cubicBezTo>
                  <a:cubicBezTo>
                    <a:pt x="268" y="263"/>
                    <a:pt x="287" y="256"/>
                    <a:pt x="307" y="259"/>
                  </a:cubicBezTo>
                  <a:cubicBezTo>
                    <a:pt x="324" y="261"/>
                    <a:pt x="337" y="275"/>
                    <a:pt x="353" y="278"/>
                  </a:cubicBezTo>
                  <a:cubicBezTo>
                    <a:pt x="365" y="281"/>
                    <a:pt x="378" y="280"/>
                    <a:pt x="390" y="280"/>
                  </a:cubicBezTo>
                  <a:cubicBezTo>
                    <a:pt x="378" y="285"/>
                    <a:pt x="366" y="289"/>
                    <a:pt x="353" y="287"/>
                  </a:cubicBezTo>
                  <a:cubicBezTo>
                    <a:pt x="331" y="285"/>
                    <a:pt x="311" y="270"/>
                    <a:pt x="289" y="273"/>
                  </a:cubicBezTo>
                  <a:cubicBezTo>
                    <a:pt x="274" y="274"/>
                    <a:pt x="256" y="280"/>
                    <a:pt x="252" y="296"/>
                  </a:cubicBezTo>
                  <a:cubicBezTo>
                    <a:pt x="246" y="316"/>
                    <a:pt x="247" y="342"/>
                    <a:pt x="227" y="354"/>
                  </a:cubicBezTo>
                  <a:cubicBezTo>
                    <a:pt x="228" y="339"/>
                    <a:pt x="234" y="325"/>
                    <a:pt x="237" y="310"/>
                  </a:cubicBezTo>
                  <a:cubicBezTo>
                    <a:pt x="228" y="312"/>
                    <a:pt x="216" y="313"/>
                    <a:pt x="208" y="306"/>
                  </a:cubicBezTo>
                  <a:cubicBezTo>
                    <a:pt x="197" y="295"/>
                    <a:pt x="187" y="278"/>
                    <a:pt x="169" y="280"/>
                  </a:cubicBezTo>
                  <a:cubicBezTo>
                    <a:pt x="154" y="284"/>
                    <a:pt x="142" y="293"/>
                    <a:pt x="130" y="302"/>
                  </a:cubicBezTo>
                  <a:cubicBezTo>
                    <a:pt x="112" y="316"/>
                    <a:pt x="92" y="329"/>
                    <a:pt x="81" y="349"/>
                  </a:cubicBezTo>
                  <a:cubicBezTo>
                    <a:pt x="67" y="374"/>
                    <a:pt x="57" y="401"/>
                    <a:pt x="55" y="429"/>
                  </a:cubicBezTo>
                  <a:cubicBezTo>
                    <a:pt x="53" y="438"/>
                    <a:pt x="56" y="446"/>
                    <a:pt x="59" y="453"/>
                  </a:cubicBezTo>
                  <a:cubicBezTo>
                    <a:pt x="43" y="457"/>
                    <a:pt x="43" y="476"/>
                    <a:pt x="42" y="489"/>
                  </a:cubicBezTo>
                  <a:cubicBezTo>
                    <a:pt x="43" y="514"/>
                    <a:pt x="44" y="541"/>
                    <a:pt x="54" y="564"/>
                  </a:cubicBezTo>
                  <a:cubicBezTo>
                    <a:pt x="66" y="586"/>
                    <a:pt x="98" y="592"/>
                    <a:pt x="118" y="578"/>
                  </a:cubicBezTo>
                  <a:cubicBezTo>
                    <a:pt x="127" y="567"/>
                    <a:pt x="130" y="553"/>
                    <a:pt x="136" y="541"/>
                  </a:cubicBezTo>
                  <a:cubicBezTo>
                    <a:pt x="135" y="553"/>
                    <a:pt x="134" y="566"/>
                    <a:pt x="141" y="576"/>
                  </a:cubicBezTo>
                  <a:cubicBezTo>
                    <a:pt x="153" y="595"/>
                    <a:pt x="175" y="603"/>
                    <a:pt x="194" y="612"/>
                  </a:cubicBezTo>
                  <a:cubicBezTo>
                    <a:pt x="215" y="619"/>
                    <a:pt x="235" y="630"/>
                    <a:pt x="257" y="631"/>
                  </a:cubicBezTo>
                  <a:cubicBezTo>
                    <a:pt x="277" y="632"/>
                    <a:pt x="299" y="628"/>
                    <a:pt x="312" y="612"/>
                  </a:cubicBezTo>
                  <a:cubicBezTo>
                    <a:pt x="327" y="593"/>
                    <a:pt x="346" y="579"/>
                    <a:pt x="362" y="562"/>
                  </a:cubicBezTo>
                  <a:cubicBezTo>
                    <a:pt x="369" y="572"/>
                    <a:pt x="366" y="585"/>
                    <a:pt x="368" y="597"/>
                  </a:cubicBezTo>
                  <a:cubicBezTo>
                    <a:pt x="351" y="615"/>
                    <a:pt x="328" y="626"/>
                    <a:pt x="316" y="648"/>
                  </a:cubicBezTo>
                  <a:cubicBezTo>
                    <a:pt x="296" y="677"/>
                    <a:pt x="302" y="715"/>
                    <a:pt x="316" y="746"/>
                  </a:cubicBezTo>
                  <a:cubicBezTo>
                    <a:pt x="333" y="773"/>
                    <a:pt x="360" y="793"/>
                    <a:pt x="389" y="805"/>
                  </a:cubicBezTo>
                  <a:cubicBezTo>
                    <a:pt x="378" y="806"/>
                    <a:pt x="367" y="806"/>
                    <a:pt x="357" y="802"/>
                  </a:cubicBezTo>
                  <a:cubicBezTo>
                    <a:pt x="349" y="800"/>
                    <a:pt x="341" y="793"/>
                    <a:pt x="334" y="799"/>
                  </a:cubicBezTo>
                  <a:cubicBezTo>
                    <a:pt x="331" y="819"/>
                    <a:pt x="352" y="830"/>
                    <a:pt x="365" y="841"/>
                  </a:cubicBezTo>
                  <a:cubicBezTo>
                    <a:pt x="358" y="847"/>
                    <a:pt x="352" y="854"/>
                    <a:pt x="345" y="859"/>
                  </a:cubicBezTo>
                  <a:cubicBezTo>
                    <a:pt x="325" y="846"/>
                    <a:pt x="307" y="829"/>
                    <a:pt x="299" y="805"/>
                  </a:cubicBezTo>
                  <a:cubicBezTo>
                    <a:pt x="289" y="779"/>
                    <a:pt x="301" y="750"/>
                    <a:pt x="291" y="723"/>
                  </a:cubicBezTo>
                  <a:cubicBezTo>
                    <a:pt x="288" y="713"/>
                    <a:pt x="284" y="704"/>
                    <a:pt x="281" y="694"/>
                  </a:cubicBezTo>
                  <a:cubicBezTo>
                    <a:pt x="238" y="697"/>
                    <a:pt x="194" y="690"/>
                    <a:pt x="153" y="677"/>
                  </a:cubicBezTo>
                  <a:cubicBezTo>
                    <a:pt x="131" y="670"/>
                    <a:pt x="108" y="662"/>
                    <a:pt x="89" y="647"/>
                  </a:cubicBezTo>
                  <a:cubicBezTo>
                    <a:pt x="59" y="623"/>
                    <a:pt x="36" y="589"/>
                    <a:pt x="26" y="552"/>
                  </a:cubicBezTo>
                  <a:cubicBezTo>
                    <a:pt x="14" y="499"/>
                    <a:pt x="0" y="444"/>
                    <a:pt x="11" y="389"/>
                  </a:cubicBezTo>
                  <a:cubicBezTo>
                    <a:pt x="20" y="353"/>
                    <a:pt x="29" y="316"/>
                    <a:pt x="46" y="282"/>
                  </a:cubicBezTo>
                  <a:cubicBezTo>
                    <a:pt x="60" y="253"/>
                    <a:pt x="83" y="228"/>
                    <a:pt x="101" y="201"/>
                  </a:cubicBezTo>
                  <a:cubicBezTo>
                    <a:pt x="130" y="167"/>
                    <a:pt x="163" y="138"/>
                    <a:pt x="200" y="113"/>
                  </a:cubicBezTo>
                  <a:cubicBezTo>
                    <a:pt x="231" y="91"/>
                    <a:pt x="263" y="68"/>
                    <a:pt x="299" y="56"/>
                  </a:cubicBezTo>
                  <a:close/>
                  <a:moveTo>
                    <a:pt x="263" y="99"/>
                  </a:moveTo>
                  <a:cubicBezTo>
                    <a:pt x="234" y="124"/>
                    <a:pt x="200" y="140"/>
                    <a:pt x="169" y="161"/>
                  </a:cubicBezTo>
                  <a:cubicBezTo>
                    <a:pt x="153" y="172"/>
                    <a:pt x="133" y="182"/>
                    <a:pt x="126" y="201"/>
                  </a:cubicBezTo>
                  <a:cubicBezTo>
                    <a:pt x="123" y="209"/>
                    <a:pt x="135" y="211"/>
                    <a:pt x="140" y="207"/>
                  </a:cubicBezTo>
                  <a:cubicBezTo>
                    <a:pt x="154" y="200"/>
                    <a:pt x="164" y="186"/>
                    <a:pt x="177" y="177"/>
                  </a:cubicBezTo>
                  <a:cubicBezTo>
                    <a:pt x="191" y="167"/>
                    <a:pt x="209" y="167"/>
                    <a:pt x="225" y="167"/>
                  </a:cubicBezTo>
                  <a:cubicBezTo>
                    <a:pt x="199" y="177"/>
                    <a:pt x="165" y="185"/>
                    <a:pt x="155" y="216"/>
                  </a:cubicBezTo>
                  <a:cubicBezTo>
                    <a:pt x="128" y="219"/>
                    <a:pt x="108" y="239"/>
                    <a:pt x="92" y="259"/>
                  </a:cubicBezTo>
                  <a:cubicBezTo>
                    <a:pt x="80" y="274"/>
                    <a:pt x="66" y="290"/>
                    <a:pt x="61" y="309"/>
                  </a:cubicBezTo>
                  <a:cubicBezTo>
                    <a:pt x="60" y="321"/>
                    <a:pt x="72" y="326"/>
                    <a:pt x="81" y="327"/>
                  </a:cubicBezTo>
                  <a:cubicBezTo>
                    <a:pt x="105" y="298"/>
                    <a:pt x="138" y="272"/>
                    <a:pt x="177" y="271"/>
                  </a:cubicBezTo>
                  <a:cubicBezTo>
                    <a:pt x="194" y="271"/>
                    <a:pt x="203" y="288"/>
                    <a:pt x="217" y="294"/>
                  </a:cubicBezTo>
                  <a:cubicBezTo>
                    <a:pt x="229" y="294"/>
                    <a:pt x="240" y="281"/>
                    <a:pt x="236" y="269"/>
                  </a:cubicBezTo>
                  <a:cubicBezTo>
                    <a:pt x="232" y="254"/>
                    <a:pt x="219" y="243"/>
                    <a:pt x="204" y="239"/>
                  </a:cubicBezTo>
                  <a:cubicBezTo>
                    <a:pt x="186" y="235"/>
                    <a:pt x="166" y="238"/>
                    <a:pt x="148" y="242"/>
                  </a:cubicBezTo>
                  <a:cubicBezTo>
                    <a:pt x="168" y="228"/>
                    <a:pt x="194" y="231"/>
                    <a:pt x="217" y="225"/>
                  </a:cubicBezTo>
                  <a:cubicBezTo>
                    <a:pt x="233" y="222"/>
                    <a:pt x="239" y="205"/>
                    <a:pt x="251" y="195"/>
                  </a:cubicBezTo>
                  <a:cubicBezTo>
                    <a:pt x="263" y="183"/>
                    <a:pt x="282" y="176"/>
                    <a:pt x="285" y="158"/>
                  </a:cubicBezTo>
                  <a:cubicBezTo>
                    <a:pt x="288" y="144"/>
                    <a:pt x="281" y="131"/>
                    <a:pt x="270" y="124"/>
                  </a:cubicBezTo>
                  <a:cubicBezTo>
                    <a:pt x="286" y="126"/>
                    <a:pt x="303" y="122"/>
                    <a:pt x="312" y="108"/>
                  </a:cubicBezTo>
                  <a:cubicBezTo>
                    <a:pt x="319" y="96"/>
                    <a:pt x="331" y="84"/>
                    <a:pt x="328" y="69"/>
                  </a:cubicBezTo>
                  <a:cubicBezTo>
                    <a:pt x="304" y="74"/>
                    <a:pt x="281" y="83"/>
                    <a:pt x="263" y="99"/>
                  </a:cubicBezTo>
                  <a:close/>
                  <a:moveTo>
                    <a:pt x="49" y="332"/>
                  </a:moveTo>
                  <a:cubicBezTo>
                    <a:pt x="38" y="359"/>
                    <a:pt x="27" y="387"/>
                    <a:pt x="26" y="417"/>
                  </a:cubicBezTo>
                  <a:cubicBezTo>
                    <a:pt x="24" y="439"/>
                    <a:pt x="28" y="460"/>
                    <a:pt x="32" y="482"/>
                  </a:cubicBezTo>
                  <a:cubicBezTo>
                    <a:pt x="37" y="456"/>
                    <a:pt x="38" y="430"/>
                    <a:pt x="45" y="405"/>
                  </a:cubicBezTo>
                  <a:cubicBezTo>
                    <a:pt x="51" y="385"/>
                    <a:pt x="59" y="366"/>
                    <a:pt x="61" y="345"/>
                  </a:cubicBezTo>
                  <a:cubicBezTo>
                    <a:pt x="62" y="337"/>
                    <a:pt x="55" y="334"/>
                    <a:pt x="49" y="332"/>
                  </a:cubicBezTo>
                  <a:close/>
                  <a:moveTo>
                    <a:pt x="67" y="595"/>
                  </a:moveTo>
                  <a:cubicBezTo>
                    <a:pt x="77" y="607"/>
                    <a:pt x="85" y="621"/>
                    <a:pt x="99" y="628"/>
                  </a:cubicBezTo>
                  <a:cubicBezTo>
                    <a:pt x="123" y="635"/>
                    <a:pt x="149" y="631"/>
                    <a:pt x="174" y="626"/>
                  </a:cubicBezTo>
                  <a:cubicBezTo>
                    <a:pt x="163" y="613"/>
                    <a:pt x="149" y="603"/>
                    <a:pt x="132" y="598"/>
                  </a:cubicBezTo>
                  <a:cubicBezTo>
                    <a:pt x="111" y="595"/>
                    <a:pt x="89" y="600"/>
                    <a:pt x="67" y="595"/>
                  </a:cubicBezTo>
                  <a:close/>
                  <a:moveTo>
                    <a:pt x="159" y="648"/>
                  </a:moveTo>
                  <a:cubicBezTo>
                    <a:pt x="185" y="664"/>
                    <a:pt x="216" y="668"/>
                    <a:pt x="245" y="665"/>
                  </a:cubicBezTo>
                  <a:cubicBezTo>
                    <a:pt x="256" y="664"/>
                    <a:pt x="271" y="662"/>
                    <a:pt x="275" y="649"/>
                  </a:cubicBezTo>
                  <a:cubicBezTo>
                    <a:pt x="266" y="646"/>
                    <a:pt x="258" y="643"/>
                    <a:pt x="249" y="644"/>
                  </a:cubicBezTo>
                  <a:cubicBezTo>
                    <a:pt x="226" y="646"/>
                    <a:pt x="202" y="642"/>
                    <a:pt x="181" y="630"/>
                  </a:cubicBezTo>
                  <a:cubicBezTo>
                    <a:pt x="172" y="634"/>
                    <a:pt x="163" y="639"/>
                    <a:pt x="159" y="6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65" name="Freeform 6"/>
            <p:cNvSpPr/>
            <p:nvPr/>
          </p:nvSpPr>
          <p:spPr>
            <a:xfrm>
              <a:off x="2954160" y="3031560"/>
              <a:ext cx="380160" cy="27504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43" h="103">
                  <a:moveTo>
                    <a:pt x="51" y="67"/>
                  </a:moveTo>
                  <a:cubicBezTo>
                    <a:pt x="41" y="43"/>
                    <a:pt x="52" y="15"/>
                    <a:pt x="73" y="0"/>
                  </a:cubicBezTo>
                  <a:cubicBezTo>
                    <a:pt x="65" y="12"/>
                    <a:pt x="56" y="25"/>
                    <a:pt x="58" y="40"/>
                  </a:cubicBezTo>
                  <a:cubicBezTo>
                    <a:pt x="59" y="52"/>
                    <a:pt x="69" y="66"/>
                    <a:pt x="82" y="63"/>
                  </a:cubicBezTo>
                  <a:cubicBezTo>
                    <a:pt x="93" y="62"/>
                    <a:pt x="97" y="51"/>
                    <a:pt x="103" y="44"/>
                  </a:cubicBezTo>
                  <a:cubicBezTo>
                    <a:pt x="112" y="31"/>
                    <a:pt x="127" y="23"/>
                    <a:pt x="143" y="24"/>
                  </a:cubicBezTo>
                  <a:cubicBezTo>
                    <a:pt x="129" y="30"/>
                    <a:pt x="116" y="40"/>
                    <a:pt x="107" y="53"/>
                  </a:cubicBezTo>
                  <a:cubicBezTo>
                    <a:pt x="97" y="68"/>
                    <a:pt x="84" y="83"/>
                    <a:pt x="84" y="103"/>
                  </a:cubicBezTo>
                  <a:cubicBezTo>
                    <a:pt x="74" y="89"/>
                    <a:pt x="59" y="79"/>
                    <a:pt x="42" y="77"/>
                  </a:cubicBezTo>
                  <a:cubicBezTo>
                    <a:pt x="28" y="75"/>
                    <a:pt x="14" y="80"/>
                    <a:pt x="0" y="82"/>
                  </a:cubicBezTo>
                  <a:cubicBezTo>
                    <a:pt x="14" y="70"/>
                    <a:pt x="33" y="66"/>
                    <a:pt x="51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2414880" y="3337200"/>
              <a:ext cx="2557440" cy="256968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959" h="964">
                  <a:moveTo>
                    <a:pt x="698" y="16"/>
                  </a:moveTo>
                  <a:cubicBezTo>
                    <a:pt x="704" y="10"/>
                    <a:pt x="710" y="5"/>
                    <a:pt x="716" y="0"/>
                  </a:cubicBezTo>
                  <a:cubicBezTo>
                    <a:pt x="732" y="17"/>
                    <a:pt x="752" y="32"/>
                    <a:pt x="768" y="50"/>
                  </a:cubicBezTo>
                  <a:cubicBezTo>
                    <a:pt x="812" y="96"/>
                    <a:pt x="848" y="148"/>
                    <a:pt x="880" y="202"/>
                  </a:cubicBezTo>
                  <a:cubicBezTo>
                    <a:pt x="927" y="277"/>
                    <a:pt x="955" y="365"/>
                    <a:pt x="959" y="454"/>
                  </a:cubicBezTo>
                  <a:cubicBezTo>
                    <a:pt x="957" y="518"/>
                    <a:pt x="942" y="584"/>
                    <a:pt x="900" y="634"/>
                  </a:cubicBezTo>
                  <a:cubicBezTo>
                    <a:pt x="888" y="647"/>
                    <a:pt x="879" y="663"/>
                    <a:pt x="862" y="671"/>
                  </a:cubicBezTo>
                  <a:cubicBezTo>
                    <a:pt x="837" y="684"/>
                    <a:pt x="808" y="685"/>
                    <a:pt x="781" y="686"/>
                  </a:cubicBezTo>
                  <a:cubicBezTo>
                    <a:pt x="773" y="713"/>
                    <a:pt x="766" y="740"/>
                    <a:pt x="747" y="761"/>
                  </a:cubicBezTo>
                  <a:cubicBezTo>
                    <a:pt x="726" y="787"/>
                    <a:pt x="693" y="798"/>
                    <a:pt x="661" y="804"/>
                  </a:cubicBezTo>
                  <a:cubicBezTo>
                    <a:pt x="614" y="812"/>
                    <a:pt x="566" y="810"/>
                    <a:pt x="520" y="819"/>
                  </a:cubicBezTo>
                  <a:cubicBezTo>
                    <a:pt x="521" y="857"/>
                    <a:pt x="553" y="883"/>
                    <a:pt x="564" y="918"/>
                  </a:cubicBezTo>
                  <a:cubicBezTo>
                    <a:pt x="569" y="931"/>
                    <a:pt x="556" y="942"/>
                    <a:pt x="546" y="948"/>
                  </a:cubicBezTo>
                  <a:cubicBezTo>
                    <a:pt x="529" y="958"/>
                    <a:pt x="509" y="964"/>
                    <a:pt x="490" y="961"/>
                  </a:cubicBezTo>
                  <a:cubicBezTo>
                    <a:pt x="453" y="905"/>
                    <a:pt x="409" y="854"/>
                    <a:pt x="360" y="809"/>
                  </a:cubicBezTo>
                  <a:cubicBezTo>
                    <a:pt x="350" y="800"/>
                    <a:pt x="341" y="789"/>
                    <a:pt x="327" y="785"/>
                  </a:cubicBezTo>
                  <a:cubicBezTo>
                    <a:pt x="301" y="777"/>
                    <a:pt x="281" y="755"/>
                    <a:pt x="267" y="732"/>
                  </a:cubicBezTo>
                  <a:cubicBezTo>
                    <a:pt x="213" y="751"/>
                    <a:pt x="154" y="756"/>
                    <a:pt x="98" y="744"/>
                  </a:cubicBezTo>
                  <a:cubicBezTo>
                    <a:pt x="64" y="736"/>
                    <a:pt x="32" y="724"/>
                    <a:pt x="0" y="710"/>
                  </a:cubicBezTo>
                  <a:cubicBezTo>
                    <a:pt x="7" y="704"/>
                    <a:pt x="13" y="697"/>
                    <a:pt x="20" y="691"/>
                  </a:cubicBezTo>
                  <a:cubicBezTo>
                    <a:pt x="27" y="696"/>
                    <a:pt x="34" y="701"/>
                    <a:pt x="42" y="704"/>
                  </a:cubicBezTo>
                  <a:cubicBezTo>
                    <a:pt x="106" y="727"/>
                    <a:pt x="178" y="729"/>
                    <a:pt x="244" y="712"/>
                  </a:cubicBezTo>
                  <a:cubicBezTo>
                    <a:pt x="287" y="701"/>
                    <a:pt x="329" y="684"/>
                    <a:pt x="369" y="665"/>
                  </a:cubicBezTo>
                  <a:cubicBezTo>
                    <a:pt x="346" y="653"/>
                    <a:pt x="326" y="633"/>
                    <a:pt x="317" y="609"/>
                  </a:cubicBezTo>
                  <a:cubicBezTo>
                    <a:pt x="294" y="612"/>
                    <a:pt x="264" y="614"/>
                    <a:pt x="249" y="635"/>
                  </a:cubicBezTo>
                  <a:cubicBezTo>
                    <a:pt x="245" y="649"/>
                    <a:pt x="247" y="665"/>
                    <a:pt x="241" y="679"/>
                  </a:cubicBezTo>
                  <a:cubicBezTo>
                    <a:pt x="237" y="690"/>
                    <a:pt x="229" y="699"/>
                    <a:pt x="220" y="706"/>
                  </a:cubicBezTo>
                  <a:cubicBezTo>
                    <a:pt x="227" y="691"/>
                    <a:pt x="239" y="675"/>
                    <a:pt x="234" y="657"/>
                  </a:cubicBezTo>
                  <a:cubicBezTo>
                    <a:pt x="233" y="646"/>
                    <a:pt x="223" y="637"/>
                    <a:pt x="212" y="637"/>
                  </a:cubicBezTo>
                  <a:cubicBezTo>
                    <a:pt x="197" y="635"/>
                    <a:pt x="184" y="640"/>
                    <a:pt x="171" y="646"/>
                  </a:cubicBezTo>
                  <a:cubicBezTo>
                    <a:pt x="180" y="636"/>
                    <a:pt x="191" y="628"/>
                    <a:pt x="203" y="625"/>
                  </a:cubicBezTo>
                  <a:cubicBezTo>
                    <a:pt x="230" y="618"/>
                    <a:pt x="259" y="615"/>
                    <a:pt x="282" y="600"/>
                  </a:cubicBezTo>
                  <a:cubicBezTo>
                    <a:pt x="293" y="594"/>
                    <a:pt x="290" y="580"/>
                    <a:pt x="292" y="570"/>
                  </a:cubicBezTo>
                  <a:cubicBezTo>
                    <a:pt x="292" y="556"/>
                    <a:pt x="298" y="543"/>
                    <a:pt x="308" y="532"/>
                  </a:cubicBezTo>
                  <a:cubicBezTo>
                    <a:pt x="303" y="547"/>
                    <a:pt x="295" y="563"/>
                    <a:pt x="304" y="578"/>
                  </a:cubicBezTo>
                  <a:cubicBezTo>
                    <a:pt x="316" y="599"/>
                    <a:pt x="346" y="601"/>
                    <a:pt x="367" y="592"/>
                  </a:cubicBezTo>
                  <a:cubicBezTo>
                    <a:pt x="377" y="582"/>
                    <a:pt x="379" y="565"/>
                    <a:pt x="392" y="557"/>
                  </a:cubicBezTo>
                  <a:cubicBezTo>
                    <a:pt x="389" y="568"/>
                    <a:pt x="382" y="583"/>
                    <a:pt x="393" y="593"/>
                  </a:cubicBezTo>
                  <a:cubicBezTo>
                    <a:pt x="407" y="602"/>
                    <a:pt x="425" y="602"/>
                    <a:pt x="440" y="597"/>
                  </a:cubicBezTo>
                  <a:cubicBezTo>
                    <a:pt x="456" y="593"/>
                    <a:pt x="471" y="582"/>
                    <a:pt x="488" y="587"/>
                  </a:cubicBezTo>
                  <a:cubicBezTo>
                    <a:pt x="509" y="594"/>
                    <a:pt x="525" y="610"/>
                    <a:pt x="546" y="616"/>
                  </a:cubicBezTo>
                  <a:cubicBezTo>
                    <a:pt x="579" y="625"/>
                    <a:pt x="614" y="625"/>
                    <a:pt x="648" y="622"/>
                  </a:cubicBezTo>
                  <a:cubicBezTo>
                    <a:pt x="672" y="622"/>
                    <a:pt x="694" y="605"/>
                    <a:pt x="706" y="584"/>
                  </a:cubicBezTo>
                  <a:cubicBezTo>
                    <a:pt x="721" y="557"/>
                    <a:pt x="714" y="524"/>
                    <a:pt x="706" y="495"/>
                  </a:cubicBezTo>
                  <a:cubicBezTo>
                    <a:pt x="702" y="479"/>
                    <a:pt x="684" y="485"/>
                    <a:pt x="672" y="486"/>
                  </a:cubicBezTo>
                  <a:cubicBezTo>
                    <a:pt x="639" y="492"/>
                    <a:pt x="611" y="469"/>
                    <a:pt x="580" y="464"/>
                  </a:cubicBezTo>
                  <a:cubicBezTo>
                    <a:pt x="558" y="466"/>
                    <a:pt x="541" y="481"/>
                    <a:pt x="520" y="486"/>
                  </a:cubicBezTo>
                  <a:cubicBezTo>
                    <a:pt x="508" y="490"/>
                    <a:pt x="495" y="492"/>
                    <a:pt x="482" y="490"/>
                  </a:cubicBezTo>
                  <a:cubicBezTo>
                    <a:pt x="499" y="480"/>
                    <a:pt x="520" y="479"/>
                    <a:pt x="536" y="467"/>
                  </a:cubicBezTo>
                  <a:cubicBezTo>
                    <a:pt x="559" y="457"/>
                    <a:pt x="576" y="432"/>
                    <a:pt x="571" y="406"/>
                  </a:cubicBezTo>
                  <a:cubicBezTo>
                    <a:pt x="557" y="406"/>
                    <a:pt x="545" y="411"/>
                    <a:pt x="532" y="415"/>
                  </a:cubicBezTo>
                  <a:cubicBezTo>
                    <a:pt x="529" y="414"/>
                    <a:pt x="522" y="412"/>
                    <a:pt x="519" y="411"/>
                  </a:cubicBezTo>
                  <a:cubicBezTo>
                    <a:pt x="545" y="398"/>
                    <a:pt x="573" y="384"/>
                    <a:pt x="591" y="360"/>
                  </a:cubicBezTo>
                  <a:cubicBezTo>
                    <a:pt x="604" y="343"/>
                    <a:pt x="613" y="323"/>
                    <a:pt x="622" y="303"/>
                  </a:cubicBezTo>
                  <a:cubicBezTo>
                    <a:pt x="646" y="253"/>
                    <a:pt x="652" y="197"/>
                    <a:pt x="656" y="142"/>
                  </a:cubicBezTo>
                  <a:cubicBezTo>
                    <a:pt x="658" y="116"/>
                    <a:pt x="651" y="88"/>
                    <a:pt x="635" y="67"/>
                  </a:cubicBezTo>
                  <a:cubicBezTo>
                    <a:pt x="629" y="58"/>
                    <a:pt x="618" y="56"/>
                    <a:pt x="607" y="55"/>
                  </a:cubicBezTo>
                  <a:cubicBezTo>
                    <a:pt x="623" y="51"/>
                    <a:pt x="640" y="54"/>
                    <a:pt x="651" y="66"/>
                  </a:cubicBezTo>
                  <a:cubicBezTo>
                    <a:pt x="658" y="73"/>
                    <a:pt x="664" y="88"/>
                    <a:pt x="676" y="83"/>
                  </a:cubicBezTo>
                  <a:cubicBezTo>
                    <a:pt x="691" y="78"/>
                    <a:pt x="708" y="82"/>
                    <a:pt x="723" y="77"/>
                  </a:cubicBezTo>
                  <a:cubicBezTo>
                    <a:pt x="730" y="75"/>
                    <a:pt x="734" y="69"/>
                    <a:pt x="734" y="62"/>
                  </a:cubicBezTo>
                  <a:cubicBezTo>
                    <a:pt x="732" y="41"/>
                    <a:pt x="710" y="31"/>
                    <a:pt x="698" y="16"/>
                  </a:cubicBezTo>
                  <a:close/>
                  <a:moveTo>
                    <a:pt x="673" y="105"/>
                  </a:moveTo>
                  <a:cubicBezTo>
                    <a:pt x="671" y="126"/>
                    <a:pt x="675" y="146"/>
                    <a:pt x="670" y="167"/>
                  </a:cubicBezTo>
                  <a:cubicBezTo>
                    <a:pt x="663" y="199"/>
                    <a:pt x="658" y="233"/>
                    <a:pt x="657" y="266"/>
                  </a:cubicBezTo>
                  <a:cubicBezTo>
                    <a:pt x="658" y="299"/>
                    <a:pt x="678" y="330"/>
                    <a:pt x="705" y="349"/>
                  </a:cubicBezTo>
                  <a:cubicBezTo>
                    <a:pt x="711" y="352"/>
                    <a:pt x="714" y="358"/>
                    <a:pt x="714" y="365"/>
                  </a:cubicBezTo>
                  <a:cubicBezTo>
                    <a:pt x="692" y="358"/>
                    <a:pt x="672" y="342"/>
                    <a:pt x="660" y="322"/>
                  </a:cubicBezTo>
                  <a:cubicBezTo>
                    <a:pt x="656" y="316"/>
                    <a:pt x="650" y="310"/>
                    <a:pt x="644" y="307"/>
                  </a:cubicBezTo>
                  <a:cubicBezTo>
                    <a:pt x="630" y="320"/>
                    <a:pt x="627" y="339"/>
                    <a:pt x="617" y="355"/>
                  </a:cubicBezTo>
                  <a:cubicBezTo>
                    <a:pt x="605" y="378"/>
                    <a:pt x="580" y="395"/>
                    <a:pt x="578" y="423"/>
                  </a:cubicBezTo>
                  <a:cubicBezTo>
                    <a:pt x="574" y="435"/>
                    <a:pt x="578" y="448"/>
                    <a:pt x="590" y="455"/>
                  </a:cubicBezTo>
                  <a:cubicBezTo>
                    <a:pt x="590" y="448"/>
                    <a:pt x="590" y="441"/>
                    <a:pt x="590" y="434"/>
                  </a:cubicBezTo>
                  <a:cubicBezTo>
                    <a:pt x="590" y="440"/>
                    <a:pt x="590" y="446"/>
                    <a:pt x="591" y="451"/>
                  </a:cubicBezTo>
                  <a:cubicBezTo>
                    <a:pt x="612" y="461"/>
                    <a:pt x="634" y="469"/>
                    <a:pt x="656" y="473"/>
                  </a:cubicBezTo>
                  <a:cubicBezTo>
                    <a:pt x="675" y="475"/>
                    <a:pt x="694" y="470"/>
                    <a:pt x="712" y="475"/>
                  </a:cubicBezTo>
                  <a:cubicBezTo>
                    <a:pt x="715" y="481"/>
                    <a:pt x="713" y="488"/>
                    <a:pt x="717" y="494"/>
                  </a:cubicBezTo>
                  <a:cubicBezTo>
                    <a:pt x="718" y="506"/>
                    <a:pt x="718" y="520"/>
                    <a:pt x="723" y="532"/>
                  </a:cubicBezTo>
                  <a:cubicBezTo>
                    <a:pt x="735" y="550"/>
                    <a:pt x="760" y="553"/>
                    <a:pt x="780" y="550"/>
                  </a:cubicBezTo>
                  <a:cubicBezTo>
                    <a:pt x="809" y="548"/>
                    <a:pt x="834" y="529"/>
                    <a:pt x="851" y="506"/>
                  </a:cubicBezTo>
                  <a:cubicBezTo>
                    <a:pt x="843" y="522"/>
                    <a:pt x="833" y="538"/>
                    <a:pt x="818" y="548"/>
                  </a:cubicBezTo>
                  <a:cubicBezTo>
                    <a:pt x="791" y="566"/>
                    <a:pt x="756" y="571"/>
                    <a:pt x="726" y="558"/>
                  </a:cubicBezTo>
                  <a:cubicBezTo>
                    <a:pt x="726" y="576"/>
                    <a:pt x="715" y="590"/>
                    <a:pt x="708" y="606"/>
                  </a:cubicBezTo>
                  <a:cubicBezTo>
                    <a:pt x="703" y="620"/>
                    <a:pt x="707" y="639"/>
                    <a:pt x="722" y="644"/>
                  </a:cubicBezTo>
                  <a:cubicBezTo>
                    <a:pt x="757" y="662"/>
                    <a:pt x="799" y="667"/>
                    <a:pt x="836" y="655"/>
                  </a:cubicBezTo>
                  <a:cubicBezTo>
                    <a:pt x="856" y="649"/>
                    <a:pt x="873" y="636"/>
                    <a:pt x="885" y="620"/>
                  </a:cubicBezTo>
                  <a:cubicBezTo>
                    <a:pt x="890" y="613"/>
                    <a:pt x="893" y="602"/>
                    <a:pt x="885" y="597"/>
                  </a:cubicBezTo>
                  <a:cubicBezTo>
                    <a:pt x="874" y="588"/>
                    <a:pt x="860" y="596"/>
                    <a:pt x="849" y="600"/>
                  </a:cubicBezTo>
                  <a:cubicBezTo>
                    <a:pt x="842" y="604"/>
                    <a:pt x="831" y="604"/>
                    <a:pt x="828" y="613"/>
                  </a:cubicBezTo>
                  <a:cubicBezTo>
                    <a:pt x="820" y="630"/>
                    <a:pt x="801" y="637"/>
                    <a:pt x="784" y="641"/>
                  </a:cubicBezTo>
                  <a:cubicBezTo>
                    <a:pt x="796" y="632"/>
                    <a:pt x="810" y="624"/>
                    <a:pt x="816" y="610"/>
                  </a:cubicBezTo>
                  <a:cubicBezTo>
                    <a:pt x="804" y="606"/>
                    <a:pt x="793" y="601"/>
                    <a:pt x="785" y="592"/>
                  </a:cubicBezTo>
                  <a:cubicBezTo>
                    <a:pt x="809" y="604"/>
                    <a:pt x="840" y="602"/>
                    <a:pt x="859" y="581"/>
                  </a:cubicBezTo>
                  <a:cubicBezTo>
                    <a:pt x="880" y="593"/>
                    <a:pt x="915" y="581"/>
                    <a:pt x="917" y="554"/>
                  </a:cubicBezTo>
                  <a:cubicBezTo>
                    <a:pt x="918" y="532"/>
                    <a:pt x="900" y="515"/>
                    <a:pt x="884" y="503"/>
                  </a:cubicBezTo>
                  <a:cubicBezTo>
                    <a:pt x="900" y="506"/>
                    <a:pt x="913" y="516"/>
                    <a:pt x="925" y="527"/>
                  </a:cubicBezTo>
                  <a:cubicBezTo>
                    <a:pt x="927" y="523"/>
                    <a:pt x="933" y="520"/>
                    <a:pt x="932" y="514"/>
                  </a:cubicBezTo>
                  <a:cubicBezTo>
                    <a:pt x="934" y="494"/>
                    <a:pt x="937" y="471"/>
                    <a:pt x="925" y="454"/>
                  </a:cubicBezTo>
                  <a:cubicBezTo>
                    <a:pt x="916" y="439"/>
                    <a:pt x="901" y="432"/>
                    <a:pt x="886" y="426"/>
                  </a:cubicBezTo>
                  <a:cubicBezTo>
                    <a:pt x="886" y="448"/>
                    <a:pt x="882" y="471"/>
                    <a:pt x="865" y="486"/>
                  </a:cubicBezTo>
                  <a:cubicBezTo>
                    <a:pt x="876" y="464"/>
                    <a:pt x="882" y="433"/>
                    <a:pt x="861" y="414"/>
                  </a:cubicBezTo>
                  <a:cubicBezTo>
                    <a:pt x="871" y="396"/>
                    <a:pt x="882" y="375"/>
                    <a:pt x="875" y="354"/>
                  </a:cubicBezTo>
                  <a:cubicBezTo>
                    <a:pt x="873" y="343"/>
                    <a:pt x="863" y="336"/>
                    <a:pt x="853" y="330"/>
                  </a:cubicBezTo>
                  <a:cubicBezTo>
                    <a:pt x="863" y="322"/>
                    <a:pt x="873" y="313"/>
                    <a:pt x="879" y="301"/>
                  </a:cubicBezTo>
                  <a:cubicBezTo>
                    <a:pt x="893" y="277"/>
                    <a:pt x="891" y="243"/>
                    <a:pt x="871" y="222"/>
                  </a:cubicBezTo>
                  <a:cubicBezTo>
                    <a:pt x="858" y="209"/>
                    <a:pt x="836" y="208"/>
                    <a:pt x="822" y="221"/>
                  </a:cubicBezTo>
                  <a:cubicBezTo>
                    <a:pt x="804" y="237"/>
                    <a:pt x="795" y="263"/>
                    <a:pt x="772" y="274"/>
                  </a:cubicBezTo>
                  <a:cubicBezTo>
                    <a:pt x="754" y="280"/>
                    <a:pt x="732" y="270"/>
                    <a:pt x="726" y="252"/>
                  </a:cubicBezTo>
                  <a:cubicBezTo>
                    <a:pt x="720" y="231"/>
                    <a:pt x="724" y="209"/>
                    <a:pt x="719" y="188"/>
                  </a:cubicBezTo>
                  <a:cubicBezTo>
                    <a:pt x="716" y="178"/>
                    <a:pt x="709" y="170"/>
                    <a:pt x="704" y="162"/>
                  </a:cubicBezTo>
                  <a:cubicBezTo>
                    <a:pt x="720" y="171"/>
                    <a:pt x="730" y="188"/>
                    <a:pt x="731" y="207"/>
                  </a:cubicBezTo>
                  <a:cubicBezTo>
                    <a:pt x="746" y="206"/>
                    <a:pt x="760" y="196"/>
                    <a:pt x="764" y="182"/>
                  </a:cubicBezTo>
                  <a:cubicBezTo>
                    <a:pt x="769" y="167"/>
                    <a:pt x="763" y="152"/>
                    <a:pt x="758" y="139"/>
                  </a:cubicBezTo>
                  <a:cubicBezTo>
                    <a:pt x="773" y="157"/>
                    <a:pt x="783" y="193"/>
                    <a:pt x="757" y="207"/>
                  </a:cubicBezTo>
                  <a:cubicBezTo>
                    <a:pt x="745" y="212"/>
                    <a:pt x="733" y="224"/>
                    <a:pt x="738" y="238"/>
                  </a:cubicBezTo>
                  <a:cubicBezTo>
                    <a:pt x="744" y="258"/>
                    <a:pt x="771" y="261"/>
                    <a:pt x="785" y="247"/>
                  </a:cubicBezTo>
                  <a:cubicBezTo>
                    <a:pt x="800" y="235"/>
                    <a:pt x="795" y="212"/>
                    <a:pt x="808" y="198"/>
                  </a:cubicBezTo>
                  <a:cubicBezTo>
                    <a:pt x="819" y="191"/>
                    <a:pt x="832" y="195"/>
                    <a:pt x="844" y="194"/>
                  </a:cubicBezTo>
                  <a:cubicBezTo>
                    <a:pt x="847" y="190"/>
                    <a:pt x="849" y="186"/>
                    <a:pt x="851" y="182"/>
                  </a:cubicBezTo>
                  <a:cubicBezTo>
                    <a:pt x="828" y="152"/>
                    <a:pt x="806" y="117"/>
                    <a:pt x="768" y="105"/>
                  </a:cubicBezTo>
                  <a:cubicBezTo>
                    <a:pt x="750" y="101"/>
                    <a:pt x="731" y="97"/>
                    <a:pt x="713" y="91"/>
                  </a:cubicBezTo>
                  <a:cubicBezTo>
                    <a:pt x="698" y="86"/>
                    <a:pt x="677" y="88"/>
                    <a:pt x="673" y="105"/>
                  </a:cubicBezTo>
                  <a:close/>
                  <a:moveTo>
                    <a:pt x="872" y="327"/>
                  </a:moveTo>
                  <a:cubicBezTo>
                    <a:pt x="892" y="350"/>
                    <a:pt x="890" y="384"/>
                    <a:pt x="874" y="408"/>
                  </a:cubicBezTo>
                  <a:cubicBezTo>
                    <a:pt x="888" y="412"/>
                    <a:pt x="901" y="420"/>
                    <a:pt x="916" y="423"/>
                  </a:cubicBezTo>
                  <a:cubicBezTo>
                    <a:pt x="926" y="425"/>
                    <a:pt x="927" y="413"/>
                    <a:pt x="927" y="406"/>
                  </a:cubicBezTo>
                  <a:cubicBezTo>
                    <a:pt x="924" y="379"/>
                    <a:pt x="918" y="352"/>
                    <a:pt x="912" y="326"/>
                  </a:cubicBezTo>
                  <a:cubicBezTo>
                    <a:pt x="910" y="317"/>
                    <a:pt x="905" y="309"/>
                    <a:pt x="897" y="305"/>
                  </a:cubicBezTo>
                  <a:cubicBezTo>
                    <a:pt x="888" y="311"/>
                    <a:pt x="880" y="320"/>
                    <a:pt x="872" y="327"/>
                  </a:cubicBezTo>
                  <a:close/>
                  <a:moveTo>
                    <a:pt x="428" y="615"/>
                  </a:moveTo>
                  <a:cubicBezTo>
                    <a:pt x="403" y="618"/>
                    <a:pt x="381" y="599"/>
                    <a:pt x="356" y="605"/>
                  </a:cubicBezTo>
                  <a:cubicBezTo>
                    <a:pt x="349" y="606"/>
                    <a:pt x="346" y="616"/>
                    <a:pt x="348" y="623"/>
                  </a:cubicBezTo>
                  <a:cubicBezTo>
                    <a:pt x="352" y="638"/>
                    <a:pt x="365" y="649"/>
                    <a:pt x="378" y="656"/>
                  </a:cubicBezTo>
                  <a:cubicBezTo>
                    <a:pt x="383" y="660"/>
                    <a:pt x="390" y="657"/>
                    <a:pt x="396" y="657"/>
                  </a:cubicBezTo>
                  <a:cubicBezTo>
                    <a:pt x="420" y="652"/>
                    <a:pt x="444" y="656"/>
                    <a:pt x="468" y="653"/>
                  </a:cubicBezTo>
                  <a:cubicBezTo>
                    <a:pt x="489" y="650"/>
                    <a:pt x="512" y="646"/>
                    <a:pt x="527" y="630"/>
                  </a:cubicBezTo>
                  <a:cubicBezTo>
                    <a:pt x="521" y="618"/>
                    <a:pt x="508" y="612"/>
                    <a:pt x="498" y="604"/>
                  </a:cubicBezTo>
                  <a:cubicBezTo>
                    <a:pt x="493" y="600"/>
                    <a:pt x="487" y="594"/>
                    <a:pt x="480" y="595"/>
                  </a:cubicBezTo>
                  <a:cubicBezTo>
                    <a:pt x="461" y="598"/>
                    <a:pt x="447" y="614"/>
                    <a:pt x="428" y="615"/>
                  </a:cubicBezTo>
                  <a:close/>
                  <a:moveTo>
                    <a:pt x="580" y="659"/>
                  </a:moveTo>
                  <a:cubicBezTo>
                    <a:pt x="639" y="663"/>
                    <a:pt x="704" y="669"/>
                    <a:pt x="754" y="705"/>
                  </a:cubicBezTo>
                  <a:cubicBezTo>
                    <a:pt x="755" y="698"/>
                    <a:pt x="757" y="690"/>
                    <a:pt x="758" y="683"/>
                  </a:cubicBezTo>
                  <a:cubicBezTo>
                    <a:pt x="740" y="677"/>
                    <a:pt x="724" y="668"/>
                    <a:pt x="706" y="664"/>
                  </a:cubicBezTo>
                  <a:cubicBezTo>
                    <a:pt x="688" y="659"/>
                    <a:pt x="670" y="655"/>
                    <a:pt x="652" y="652"/>
                  </a:cubicBezTo>
                  <a:cubicBezTo>
                    <a:pt x="628" y="648"/>
                    <a:pt x="603" y="652"/>
                    <a:pt x="580" y="659"/>
                  </a:cubicBezTo>
                  <a:close/>
                  <a:moveTo>
                    <a:pt x="494" y="671"/>
                  </a:moveTo>
                  <a:cubicBezTo>
                    <a:pt x="481" y="710"/>
                    <a:pt x="450" y="741"/>
                    <a:pt x="411" y="753"/>
                  </a:cubicBezTo>
                  <a:cubicBezTo>
                    <a:pt x="427" y="753"/>
                    <a:pt x="441" y="747"/>
                    <a:pt x="454" y="740"/>
                  </a:cubicBezTo>
                  <a:cubicBezTo>
                    <a:pt x="485" y="724"/>
                    <a:pt x="513" y="700"/>
                    <a:pt x="525" y="668"/>
                  </a:cubicBezTo>
                  <a:cubicBezTo>
                    <a:pt x="515" y="669"/>
                    <a:pt x="503" y="667"/>
                    <a:pt x="494" y="671"/>
                  </a:cubicBezTo>
                  <a:close/>
                  <a:moveTo>
                    <a:pt x="392" y="736"/>
                  </a:moveTo>
                  <a:cubicBezTo>
                    <a:pt x="393" y="737"/>
                    <a:pt x="396" y="741"/>
                    <a:pt x="397" y="743"/>
                  </a:cubicBezTo>
                  <a:cubicBezTo>
                    <a:pt x="433" y="733"/>
                    <a:pt x="465" y="707"/>
                    <a:pt x="478" y="671"/>
                  </a:cubicBezTo>
                  <a:cubicBezTo>
                    <a:pt x="471" y="672"/>
                    <a:pt x="463" y="672"/>
                    <a:pt x="456" y="674"/>
                  </a:cubicBezTo>
                  <a:cubicBezTo>
                    <a:pt x="438" y="697"/>
                    <a:pt x="423" y="728"/>
                    <a:pt x="392" y="736"/>
                  </a:cubicBezTo>
                  <a:close/>
                  <a:moveTo>
                    <a:pt x="544" y="688"/>
                  </a:moveTo>
                  <a:cubicBezTo>
                    <a:pt x="584" y="687"/>
                    <a:pt x="625" y="692"/>
                    <a:pt x="663" y="703"/>
                  </a:cubicBezTo>
                  <a:cubicBezTo>
                    <a:pt x="689" y="710"/>
                    <a:pt x="715" y="720"/>
                    <a:pt x="735" y="738"/>
                  </a:cubicBezTo>
                  <a:cubicBezTo>
                    <a:pt x="739" y="732"/>
                    <a:pt x="744" y="726"/>
                    <a:pt x="748" y="720"/>
                  </a:cubicBezTo>
                  <a:cubicBezTo>
                    <a:pt x="721" y="698"/>
                    <a:pt x="686" y="688"/>
                    <a:pt x="652" y="682"/>
                  </a:cubicBezTo>
                  <a:cubicBezTo>
                    <a:pt x="619" y="677"/>
                    <a:pt x="585" y="673"/>
                    <a:pt x="551" y="673"/>
                  </a:cubicBezTo>
                  <a:cubicBezTo>
                    <a:pt x="549" y="678"/>
                    <a:pt x="547" y="683"/>
                    <a:pt x="544" y="688"/>
                  </a:cubicBezTo>
                  <a:close/>
                  <a:moveTo>
                    <a:pt x="384" y="698"/>
                  </a:moveTo>
                  <a:cubicBezTo>
                    <a:pt x="377" y="707"/>
                    <a:pt x="384" y="717"/>
                    <a:pt x="388" y="726"/>
                  </a:cubicBezTo>
                  <a:cubicBezTo>
                    <a:pt x="411" y="719"/>
                    <a:pt x="425" y="697"/>
                    <a:pt x="435" y="676"/>
                  </a:cubicBezTo>
                  <a:cubicBezTo>
                    <a:pt x="417" y="681"/>
                    <a:pt x="397" y="684"/>
                    <a:pt x="384" y="698"/>
                  </a:cubicBezTo>
                  <a:close/>
                  <a:moveTo>
                    <a:pt x="534" y="704"/>
                  </a:moveTo>
                  <a:cubicBezTo>
                    <a:pt x="528" y="711"/>
                    <a:pt x="521" y="718"/>
                    <a:pt x="515" y="725"/>
                  </a:cubicBezTo>
                  <a:cubicBezTo>
                    <a:pt x="557" y="753"/>
                    <a:pt x="605" y="779"/>
                    <a:pt x="657" y="780"/>
                  </a:cubicBezTo>
                  <a:cubicBezTo>
                    <a:pt x="616" y="762"/>
                    <a:pt x="572" y="742"/>
                    <a:pt x="548" y="702"/>
                  </a:cubicBezTo>
                  <a:cubicBezTo>
                    <a:pt x="543" y="703"/>
                    <a:pt x="539" y="704"/>
                    <a:pt x="534" y="704"/>
                  </a:cubicBezTo>
                  <a:close/>
                  <a:moveTo>
                    <a:pt x="566" y="702"/>
                  </a:moveTo>
                  <a:cubicBezTo>
                    <a:pt x="594" y="738"/>
                    <a:pt x="638" y="758"/>
                    <a:pt x="680" y="771"/>
                  </a:cubicBezTo>
                  <a:cubicBezTo>
                    <a:pt x="687" y="775"/>
                    <a:pt x="694" y="769"/>
                    <a:pt x="700" y="768"/>
                  </a:cubicBezTo>
                  <a:cubicBezTo>
                    <a:pt x="668" y="754"/>
                    <a:pt x="637" y="735"/>
                    <a:pt x="617" y="706"/>
                  </a:cubicBezTo>
                  <a:cubicBezTo>
                    <a:pt x="600" y="704"/>
                    <a:pt x="583" y="702"/>
                    <a:pt x="566" y="702"/>
                  </a:cubicBezTo>
                  <a:close/>
                  <a:moveTo>
                    <a:pt x="319" y="716"/>
                  </a:moveTo>
                  <a:cubicBezTo>
                    <a:pt x="335" y="745"/>
                    <a:pt x="367" y="759"/>
                    <a:pt x="396" y="770"/>
                  </a:cubicBezTo>
                  <a:cubicBezTo>
                    <a:pt x="380" y="750"/>
                    <a:pt x="364" y="729"/>
                    <a:pt x="352" y="706"/>
                  </a:cubicBezTo>
                  <a:cubicBezTo>
                    <a:pt x="341" y="709"/>
                    <a:pt x="330" y="712"/>
                    <a:pt x="319" y="716"/>
                  </a:cubicBezTo>
                  <a:close/>
                  <a:moveTo>
                    <a:pt x="632" y="709"/>
                  </a:moveTo>
                  <a:cubicBezTo>
                    <a:pt x="653" y="733"/>
                    <a:pt x="681" y="750"/>
                    <a:pt x="711" y="760"/>
                  </a:cubicBezTo>
                  <a:cubicBezTo>
                    <a:pt x="715" y="757"/>
                    <a:pt x="720" y="753"/>
                    <a:pt x="724" y="750"/>
                  </a:cubicBezTo>
                  <a:cubicBezTo>
                    <a:pt x="698" y="727"/>
                    <a:pt x="665" y="716"/>
                    <a:pt x="632" y="709"/>
                  </a:cubicBezTo>
                  <a:close/>
                  <a:moveTo>
                    <a:pt x="282" y="727"/>
                  </a:moveTo>
                  <a:cubicBezTo>
                    <a:pt x="289" y="738"/>
                    <a:pt x="297" y="749"/>
                    <a:pt x="308" y="758"/>
                  </a:cubicBezTo>
                  <a:cubicBezTo>
                    <a:pt x="327" y="773"/>
                    <a:pt x="352" y="777"/>
                    <a:pt x="376" y="779"/>
                  </a:cubicBezTo>
                  <a:cubicBezTo>
                    <a:pt x="347" y="767"/>
                    <a:pt x="318" y="750"/>
                    <a:pt x="305" y="720"/>
                  </a:cubicBezTo>
                  <a:cubicBezTo>
                    <a:pt x="297" y="722"/>
                    <a:pt x="290" y="725"/>
                    <a:pt x="282" y="727"/>
                  </a:cubicBezTo>
                  <a:close/>
                  <a:moveTo>
                    <a:pt x="502" y="735"/>
                  </a:moveTo>
                  <a:cubicBezTo>
                    <a:pt x="499" y="737"/>
                    <a:pt x="495" y="740"/>
                    <a:pt x="492" y="742"/>
                  </a:cubicBezTo>
                  <a:cubicBezTo>
                    <a:pt x="518" y="769"/>
                    <a:pt x="551" y="800"/>
                    <a:pt x="592" y="794"/>
                  </a:cubicBezTo>
                  <a:cubicBezTo>
                    <a:pt x="607" y="793"/>
                    <a:pt x="622" y="793"/>
                    <a:pt x="637" y="792"/>
                  </a:cubicBezTo>
                  <a:cubicBezTo>
                    <a:pt x="588" y="784"/>
                    <a:pt x="543" y="762"/>
                    <a:pt x="502" y="735"/>
                  </a:cubicBezTo>
                  <a:close/>
                  <a:moveTo>
                    <a:pt x="468" y="756"/>
                  </a:moveTo>
                  <a:cubicBezTo>
                    <a:pt x="482" y="783"/>
                    <a:pt x="511" y="808"/>
                    <a:pt x="543" y="801"/>
                  </a:cubicBezTo>
                  <a:cubicBezTo>
                    <a:pt x="518" y="789"/>
                    <a:pt x="498" y="770"/>
                    <a:pt x="479" y="750"/>
                  </a:cubicBezTo>
                  <a:cubicBezTo>
                    <a:pt x="475" y="752"/>
                    <a:pt x="472" y="754"/>
                    <a:pt x="468" y="756"/>
                  </a:cubicBezTo>
                  <a:close/>
                  <a:moveTo>
                    <a:pt x="419" y="773"/>
                  </a:moveTo>
                  <a:cubicBezTo>
                    <a:pt x="427" y="784"/>
                    <a:pt x="435" y="795"/>
                    <a:pt x="448" y="800"/>
                  </a:cubicBezTo>
                  <a:cubicBezTo>
                    <a:pt x="462" y="805"/>
                    <a:pt x="477" y="805"/>
                    <a:pt x="492" y="806"/>
                  </a:cubicBezTo>
                  <a:cubicBezTo>
                    <a:pt x="476" y="794"/>
                    <a:pt x="462" y="780"/>
                    <a:pt x="455" y="762"/>
                  </a:cubicBezTo>
                  <a:cubicBezTo>
                    <a:pt x="443" y="766"/>
                    <a:pt x="431" y="770"/>
                    <a:pt x="419" y="773"/>
                  </a:cubicBezTo>
                  <a:close/>
                  <a:moveTo>
                    <a:pt x="379" y="794"/>
                  </a:moveTo>
                  <a:cubicBezTo>
                    <a:pt x="397" y="811"/>
                    <a:pt x="411" y="832"/>
                    <a:pt x="429" y="849"/>
                  </a:cubicBezTo>
                  <a:cubicBezTo>
                    <a:pt x="448" y="868"/>
                    <a:pt x="466" y="889"/>
                    <a:pt x="481" y="913"/>
                  </a:cubicBezTo>
                  <a:cubicBezTo>
                    <a:pt x="491" y="925"/>
                    <a:pt x="502" y="942"/>
                    <a:pt x="520" y="941"/>
                  </a:cubicBezTo>
                  <a:cubicBezTo>
                    <a:pt x="531" y="937"/>
                    <a:pt x="542" y="929"/>
                    <a:pt x="547" y="918"/>
                  </a:cubicBezTo>
                  <a:cubicBezTo>
                    <a:pt x="544" y="903"/>
                    <a:pt x="532" y="891"/>
                    <a:pt x="523" y="879"/>
                  </a:cubicBezTo>
                  <a:cubicBezTo>
                    <a:pt x="510" y="862"/>
                    <a:pt x="498" y="843"/>
                    <a:pt x="492" y="823"/>
                  </a:cubicBezTo>
                  <a:cubicBezTo>
                    <a:pt x="476" y="823"/>
                    <a:pt x="459" y="824"/>
                    <a:pt x="444" y="818"/>
                  </a:cubicBezTo>
                  <a:cubicBezTo>
                    <a:pt x="431" y="813"/>
                    <a:pt x="421" y="803"/>
                    <a:pt x="412" y="793"/>
                  </a:cubicBezTo>
                  <a:cubicBezTo>
                    <a:pt x="401" y="794"/>
                    <a:pt x="390" y="794"/>
                    <a:pt x="379" y="79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67" name="Freeform 8"/>
            <p:cNvSpPr/>
            <p:nvPr/>
          </p:nvSpPr>
          <p:spPr>
            <a:xfrm>
              <a:off x="3256560" y="3378960"/>
              <a:ext cx="709560" cy="473040"/>
            </a:xfrm>
            <a:custGeom>
              <a:avLst/>
              <a:gdLst>
                <a:gd name="textAreaLeft" fmla="*/ 0 w 709560"/>
                <a:gd name="textAreaRight" fmla="*/ 709920 w 7095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66" h="178">
                  <a:moveTo>
                    <a:pt x="112" y="1"/>
                  </a:moveTo>
                  <a:cubicBezTo>
                    <a:pt x="121" y="1"/>
                    <a:pt x="131" y="0"/>
                    <a:pt x="140" y="4"/>
                  </a:cubicBezTo>
                  <a:cubicBezTo>
                    <a:pt x="150" y="8"/>
                    <a:pt x="158" y="15"/>
                    <a:pt x="168" y="18"/>
                  </a:cubicBezTo>
                  <a:cubicBezTo>
                    <a:pt x="184" y="16"/>
                    <a:pt x="199" y="8"/>
                    <a:pt x="216" y="9"/>
                  </a:cubicBezTo>
                  <a:cubicBezTo>
                    <a:pt x="233" y="11"/>
                    <a:pt x="249" y="9"/>
                    <a:pt x="266" y="7"/>
                  </a:cubicBezTo>
                  <a:cubicBezTo>
                    <a:pt x="251" y="18"/>
                    <a:pt x="230" y="19"/>
                    <a:pt x="212" y="19"/>
                  </a:cubicBezTo>
                  <a:cubicBezTo>
                    <a:pt x="201" y="19"/>
                    <a:pt x="190" y="21"/>
                    <a:pt x="183" y="29"/>
                  </a:cubicBezTo>
                  <a:cubicBezTo>
                    <a:pt x="166" y="49"/>
                    <a:pt x="154" y="75"/>
                    <a:pt x="133" y="91"/>
                  </a:cubicBezTo>
                  <a:cubicBezTo>
                    <a:pt x="109" y="113"/>
                    <a:pt x="101" y="148"/>
                    <a:pt x="112" y="178"/>
                  </a:cubicBezTo>
                  <a:cubicBezTo>
                    <a:pt x="105" y="172"/>
                    <a:pt x="97" y="165"/>
                    <a:pt x="97" y="155"/>
                  </a:cubicBezTo>
                  <a:cubicBezTo>
                    <a:pt x="94" y="141"/>
                    <a:pt x="100" y="124"/>
                    <a:pt x="91" y="112"/>
                  </a:cubicBezTo>
                  <a:cubicBezTo>
                    <a:pt x="61" y="96"/>
                    <a:pt x="28" y="113"/>
                    <a:pt x="0" y="126"/>
                  </a:cubicBezTo>
                  <a:cubicBezTo>
                    <a:pt x="20" y="105"/>
                    <a:pt x="47" y="91"/>
                    <a:pt x="76" y="93"/>
                  </a:cubicBezTo>
                  <a:cubicBezTo>
                    <a:pt x="90" y="94"/>
                    <a:pt x="106" y="102"/>
                    <a:pt x="118" y="92"/>
                  </a:cubicBezTo>
                  <a:cubicBezTo>
                    <a:pt x="137" y="77"/>
                    <a:pt x="152" y="54"/>
                    <a:pt x="156" y="30"/>
                  </a:cubicBezTo>
                  <a:cubicBezTo>
                    <a:pt x="150" y="11"/>
                    <a:pt x="129" y="4"/>
                    <a:pt x="112" y="1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>
              <a:off x="1749960" y="3786480"/>
              <a:ext cx="251280" cy="2602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4" h="98">
                  <a:moveTo>
                    <a:pt x="47" y="0"/>
                  </a:moveTo>
                  <a:cubicBezTo>
                    <a:pt x="56" y="21"/>
                    <a:pt x="72" y="39"/>
                    <a:pt x="94" y="48"/>
                  </a:cubicBezTo>
                  <a:cubicBezTo>
                    <a:pt x="58" y="53"/>
                    <a:pt x="26" y="72"/>
                    <a:pt x="0" y="98"/>
                  </a:cubicBezTo>
                  <a:cubicBezTo>
                    <a:pt x="8" y="72"/>
                    <a:pt x="31" y="55"/>
                    <a:pt x="55" y="43"/>
                  </a:cubicBezTo>
                  <a:cubicBezTo>
                    <a:pt x="45" y="31"/>
                    <a:pt x="44" y="15"/>
                    <a:pt x="47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69" name="Freeform 10"/>
            <p:cNvSpPr/>
            <p:nvPr/>
          </p:nvSpPr>
          <p:spPr>
            <a:xfrm>
              <a:off x="1720080" y="3834360"/>
              <a:ext cx="973080" cy="60480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365" h="227">
                  <a:moveTo>
                    <a:pt x="303" y="26"/>
                  </a:moveTo>
                  <a:cubicBezTo>
                    <a:pt x="315" y="15"/>
                    <a:pt x="329" y="6"/>
                    <a:pt x="343" y="0"/>
                  </a:cubicBezTo>
                  <a:cubicBezTo>
                    <a:pt x="347" y="5"/>
                    <a:pt x="348" y="13"/>
                    <a:pt x="354" y="17"/>
                  </a:cubicBezTo>
                  <a:cubicBezTo>
                    <a:pt x="358" y="19"/>
                    <a:pt x="365" y="21"/>
                    <a:pt x="365" y="26"/>
                  </a:cubicBezTo>
                  <a:cubicBezTo>
                    <a:pt x="353" y="29"/>
                    <a:pt x="340" y="29"/>
                    <a:pt x="328" y="35"/>
                  </a:cubicBezTo>
                  <a:cubicBezTo>
                    <a:pt x="304" y="45"/>
                    <a:pt x="278" y="54"/>
                    <a:pt x="252" y="58"/>
                  </a:cubicBezTo>
                  <a:cubicBezTo>
                    <a:pt x="233" y="63"/>
                    <a:pt x="212" y="63"/>
                    <a:pt x="193" y="73"/>
                  </a:cubicBezTo>
                  <a:cubicBezTo>
                    <a:pt x="181" y="78"/>
                    <a:pt x="176" y="93"/>
                    <a:pt x="169" y="104"/>
                  </a:cubicBezTo>
                  <a:cubicBezTo>
                    <a:pt x="158" y="125"/>
                    <a:pt x="130" y="130"/>
                    <a:pt x="119" y="151"/>
                  </a:cubicBezTo>
                  <a:cubicBezTo>
                    <a:pt x="112" y="163"/>
                    <a:pt x="114" y="180"/>
                    <a:pt x="125" y="190"/>
                  </a:cubicBezTo>
                  <a:cubicBezTo>
                    <a:pt x="134" y="199"/>
                    <a:pt x="146" y="206"/>
                    <a:pt x="159" y="211"/>
                  </a:cubicBezTo>
                  <a:cubicBezTo>
                    <a:pt x="172" y="215"/>
                    <a:pt x="184" y="220"/>
                    <a:pt x="197" y="225"/>
                  </a:cubicBezTo>
                  <a:cubicBezTo>
                    <a:pt x="171" y="227"/>
                    <a:pt x="143" y="225"/>
                    <a:pt x="120" y="210"/>
                  </a:cubicBezTo>
                  <a:cubicBezTo>
                    <a:pt x="101" y="199"/>
                    <a:pt x="96" y="173"/>
                    <a:pt x="76" y="162"/>
                  </a:cubicBezTo>
                  <a:cubicBezTo>
                    <a:pt x="58" y="153"/>
                    <a:pt x="36" y="155"/>
                    <a:pt x="19" y="144"/>
                  </a:cubicBezTo>
                  <a:cubicBezTo>
                    <a:pt x="10" y="140"/>
                    <a:pt x="5" y="132"/>
                    <a:pt x="0" y="124"/>
                  </a:cubicBezTo>
                  <a:cubicBezTo>
                    <a:pt x="25" y="143"/>
                    <a:pt x="60" y="146"/>
                    <a:pt x="90" y="138"/>
                  </a:cubicBezTo>
                  <a:cubicBezTo>
                    <a:pt x="99" y="136"/>
                    <a:pt x="108" y="129"/>
                    <a:pt x="113" y="121"/>
                  </a:cubicBezTo>
                  <a:cubicBezTo>
                    <a:pt x="98" y="112"/>
                    <a:pt x="82" y="104"/>
                    <a:pt x="77" y="87"/>
                  </a:cubicBezTo>
                  <a:cubicBezTo>
                    <a:pt x="93" y="103"/>
                    <a:pt x="116" y="114"/>
                    <a:pt x="139" y="106"/>
                  </a:cubicBezTo>
                  <a:cubicBezTo>
                    <a:pt x="166" y="96"/>
                    <a:pt x="169" y="59"/>
                    <a:pt x="198" y="52"/>
                  </a:cubicBezTo>
                  <a:cubicBezTo>
                    <a:pt x="233" y="46"/>
                    <a:pt x="273" y="49"/>
                    <a:pt x="303" y="2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2295000" y="3989880"/>
              <a:ext cx="446040" cy="5328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800"/>
                <a:gd name="textAreaBottom" fmla="*/ 533160 h 532800"/>
              </a:gdLst>
              <a:ahLst/>
              <a:rect l="textAreaLeft" t="textAreaTop" r="textAreaRight" b="textAreaBottom"/>
              <a:pathLst>
                <a:path w="168" h="200">
                  <a:moveTo>
                    <a:pt x="122" y="0"/>
                  </a:moveTo>
                  <a:cubicBezTo>
                    <a:pt x="130" y="19"/>
                    <a:pt x="136" y="40"/>
                    <a:pt x="134" y="61"/>
                  </a:cubicBezTo>
                  <a:cubicBezTo>
                    <a:pt x="133" y="77"/>
                    <a:pt x="120" y="90"/>
                    <a:pt x="116" y="105"/>
                  </a:cubicBezTo>
                  <a:cubicBezTo>
                    <a:pt x="114" y="113"/>
                    <a:pt x="120" y="119"/>
                    <a:pt x="123" y="125"/>
                  </a:cubicBezTo>
                  <a:cubicBezTo>
                    <a:pt x="137" y="117"/>
                    <a:pt x="152" y="113"/>
                    <a:pt x="168" y="114"/>
                  </a:cubicBezTo>
                  <a:cubicBezTo>
                    <a:pt x="168" y="122"/>
                    <a:pt x="168" y="131"/>
                    <a:pt x="168" y="139"/>
                  </a:cubicBezTo>
                  <a:cubicBezTo>
                    <a:pt x="165" y="139"/>
                    <a:pt x="160" y="141"/>
                    <a:pt x="157" y="141"/>
                  </a:cubicBezTo>
                  <a:cubicBezTo>
                    <a:pt x="135" y="144"/>
                    <a:pt x="116" y="157"/>
                    <a:pt x="98" y="170"/>
                  </a:cubicBezTo>
                  <a:cubicBezTo>
                    <a:pt x="98" y="158"/>
                    <a:pt x="98" y="145"/>
                    <a:pt x="98" y="133"/>
                  </a:cubicBezTo>
                  <a:cubicBezTo>
                    <a:pt x="95" y="146"/>
                    <a:pt x="96" y="159"/>
                    <a:pt x="96" y="172"/>
                  </a:cubicBezTo>
                  <a:cubicBezTo>
                    <a:pt x="85" y="181"/>
                    <a:pt x="75" y="191"/>
                    <a:pt x="64" y="200"/>
                  </a:cubicBezTo>
                  <a:cubicBezTo>
                    <a:pt x="60" y="188"/>
                    <a:pt x="70" y="175"/>
                    <a:pt x="64" y="164"/>
                  </a:cubicBezTo>
                  <a:cubicBezTo>
                    <a:pt x="69" y="159"/>
                    <a:pt x="75" y="153"/>
                    <a:pt x="80" y="147"/>
                  </a:cubicBezTo>
                  <a:cubicBezTo>
                    <a:pt x="40" y="141"/>
                    <a:pt x="13" y="106"/>
                    <a:pt x="0" y="69"/>
                  </a:cubicBezTo>
                  <a:cubicBezTo>
                    <a:pt x="19" y="90"/>
                    <a:pt x="38" y="112"/>
                    <a:pt x="65" y="120"/>
                  </a:cubicBezTo>
                  <a:cubicBezTo>
                    <a:pt x="79" y="124"/>
                    <a:pt x="95" y="115"/>
                    <a:pt x="97" y="101"/>
                  </a:cubicBezTo>
                  <a:cubicBezTo>
                    <a:pt x="100" y="85"/>
                    <a:pt x="115" y="75"/>
                    <a:pt x="119" y="59"/>
                  </a:cubicBezTo>
                  <a:cubicBezTo>
                    <a:pt x="125" y="40"/>
                    <a:pt x="122" y="20"/>
                    <a:pt x="122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71" name="Freeform 12"/>
            <p:cNvSpPr/>
            <p:nvPr/>
          </p:nvSpPr>
          <p:spPr>
            <a:xfrm>
              <a:off x="4313880" y="4115880"/>
              <a:ext cx="323280" cy="5119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21" h="192">
                  <a:moveTo>
                    <a:pt x="77" y="50"/>
                  </a:moveTo>
                  <a:cubicBezTo>
                    <a:pt x="90" y="36"/>
                    <a:pt x="92" y="17"/>
                    <a:pt x="98" y="0"/>
                  </a:cubicBezTo>
                  <a:cubicBezTo>
                    <a:pt x="121" y="63"/>
                    <a:pt x="112" y="137"/>
                    <a:pt x="72" y="192"/>
                  </a:cubicBezTo>
                  <a:cubicBezTo>
                    <a:pt x="70" y="192"/>
                    <a:pt x="66" y="192"/>
                    <a:pt x="64" y="192"/>
                  </a:cubicBezTo>
                  <a:cubicBezTo>
                    <a:pt x="80" y="170"/>
                    <a:pt x="85" y="143"/>
                    <a:pt x="92" y="117"/>
                  </a:cubicBezTo>
                  <a:cubicBezTo>
                    <a:pt x="95" y="98"/>
                    <a:pt x="99" y="79"/>
                    <a:pt x="92" y="60"/>
                  </a:cubicBezTo>
                  <a:cubicBezTo>
                    <a:pt x="79" y="56"/>
                    <a:pt x="69" y="66"/>
                    <a:pt x="60" y="73"/>
                  </a:cubicBezTo>
                  <a:cubicBezTo>
                    <a:pt x="49" y="83"/>
                    <a:pt x="46" y="99"/>
                    <a:pt x="38" y="111"/>
                  </a:cubicBezTo>
                  <a:cubicBezTo>
                    <a:pt x="30" y="121"/>
                    <a:pt x="22" y="132"/>
                    <a:pt x="10" y="138"/>
                  </a:cubicBezTo>
                  <a:cubicBezTo>
                    <a:pt x="23" y="120"/>
                    <a:pt x="43" y="101"/>
                    <a:pt x="39" y="77"/>
                  </a:cubicBezTo>
                  <a:cubicBezTo>
                    <a:pt x="26" y="73"/>
                    <a:pt x="0" y="84"/>
                    <a:pt x="1" y="61"/>
                  </a:cubicBezTo>
                  <a:cubicBezTo>
                    <a:pt x="26" y="73"/>
                    <a:pt x="58" y="71"/>
                    <a:pt x="77" y="5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>
              <a:off x="3076920" y="4415400"/>
              <a:ext cx="482040" cy="410040"/>
            </a:xfrm>
            <a:custGeom>
              <a:avLst/>
              <a:gdLst>
                <a:gd name="textAreaLeft" fmla="*/ 0 w 482040"/>
                <a:gd name="textAreaRight" fmla="*/ 482400 w 48204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81" h="154">
                  <a:moveTo>
                    <a:pt x="0" y="0"/>
                  </a:moveTo>
                  <a:cubicBezTo>
                    <a:pt x="10" y="1"/>
                    <a:pt x="19" y="3"/>
                    <a:pt x="29" y="5"/>
                  </a:cubicBezTo>
                  <a:cubicBezTo>
                    <a:pt x="34" y="6"/>
                    <a:pt x="39" y="7"/>
                    <a:pt x="44" y="9"/>
                  </a:cubicBezTo>
                  <a:cubicBezTo>
                    <a:pt x="59" y="16"/>
                    <a:pt x="75" y="20"/>
                    <a:pt x="92" y="22"/>
                  </a:cubicBezTo>
                  <a:cubicBezTo>
                    <a:pt x="103" y="21"/>
                    <a:pt x="113" y="18"/>
                    <a:pt x="124" y="15"/>
                  </a:cubicBezTo>
                  <a:cubicBezTo>
                    <a:pt x="120" y="20"/>
                    <a:pt x="123" y="25"/>
                    <a:pt x="126" y="29"/>
                  </a:cubicBezTo>
                  <a:cubicBezTo>
                    <a:pt x="112" y="34"/>
                    <a:pt x="93" y="40"/>
                    <a:pt x="90" y="58"/>
                  </a:cubicBezTo>
                  <a:cubicBezTo>
                    <a:pt x="114" y="87"/>
                    <a:pt x="160" y="80"/>
                    <a:pt x="181" y="113"/>
                  </a:cubicBezTo>
                  <a:cubicBezTo>
                    <a:pt x="161" y="104"/>
                    <a:pt x="142" y="93"/>
                    <a:pt x="120" y="92"/>
                  </a:cubicBezTo>
                  <a:cubicBezTo>
                    <a:pt x="113" y="91"/>
                    <a:pt x="103" y="94"/>
                    <a:pt x="101" y="101"/>
                  </a:cubicBezTo>
                  <a:cubicBezTo>
                    <a:pt x="93" y="118"/>
                    <a:pt x="92" y="136"/>
                    <a:pt x="88" y="154"/>
                  </a:cubicBezTo>
                  <a:cubicBezTo>
                    <a:pt x="81" y="124"/>
                    <a:pt x="96" y="90"/>
                    <a:pt x="78" y="62"/>
                  </a:cubicBezTo>
                  <a:cubicBezTo>
                    <a:pt x="63" y="31"/>
                    <a:pt x="30" y="15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>
              <a:off x="3397320" y="4436280"/>
              <a:ext cx="254160" cy="594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6" h="22">
                  <a:moveTo>
                    <a:pt x="5" y="4"/>
                  </a:moveTo>
                  <a:cubicBezTo>
                    <a:pt x="35" y="2"/>
                    <a:pt x="66" y="0"/>
                    <a:pt x="96" y="4"/>
                  </a:cubicBezTo>
                  <a:cubicBezTo>
                    <a:pt x="72" y="9"/>
                    <a:pt x="47" y="8"/>
                    <a:pt x="25" y="18"/>
                  </a:cubicBezTo>
                  <a:cubicBezTo>
                    <a:pt x="16" y="22"/>
                    <a:pt x="0" y="17"/>
                    <a:pt x="5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>
              <a:off x="2385000" y="4490280"/>
              <a:ext cx="466920" cy="7333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175" h="275">
                  <a:moveTo>
                    <a:pt x="113" y="38"/>
                  </a:moveTo>
                  <a:cubicBezTo>
                    <a:pt x="126" y="28"/>
                    <a:pt x="135" y="15"/>
                    <a:pt x="142" y="0"/>
                  </a:cubicBezTo>
                  <a:cubicBezTo>
                    <a:pt x="142" y="14"/>
                    <a:pt x="137" y="28"/>
                    <a:pt x="127" y="37"/>
                  </a:cubicBezTo>
                  <a:cubicBezTo>
                    <a:pt x="116" y="47"/>
                    <a:pt x="103" y="57"/>
                    <a:pt x="97" y="70"/>
                  </a:cubicBezTo>
                  <a:cubicBezTo>
                    <a:pt x="89" y="88"/>
                    <a:pt x="90" y="107"/>
                    <a:pt x="86" y="125"/>
                  </a:cubicBezTo>
                  <a:cubicBezTo>
                    <a:pt x="79" y="159"/>
                    <a:pt x="87" y="199"/>
                    <a:pt x="115" y="222"/>
                  </a:cubicBezTo>
                  <a:cubicBezTo>
                    <a:pt x="132" y="236"/>
                    <a:pt x="154" y="240"/>
                    <a:pt x="175" y="243"/>
                  </a:cubicBezTo>
                  <a:cubicBezTo>
                    <a:pt x="159" y="248"/>
                    <a:pt x="143" y="242"/>
                    <a:pt x="127" y="242"/>
                  </a:cubicBezTo>
                  <a:cubicBezTo>
                    <a:pt x="112" y="247"/>
                    <a:pt x="110" y="265"/>
                    <a:pt x="99" y="275"/>
                  </a:cubicBezTo>
                  <a:cubicBezTo>
                    <a:pt x="102" y="264"/>
                    <a:pt x="108" y="253"/>
                    <a:pt x="104" y="242"/>
                  </a:cubicBezTo>
                  <a:cubicBezTo>
                    <a:pt x="98" y="210"/>
                    <a:pt x="73" y="186"/>
                    <a:pt x="66" y="155"/>
                  </a:cubicBezTo>
                  <a:cubicBezTo>
                    <a:pt x="62" y="126"/>
                    <a:pt x="25" y="113"/>
                    <a:pt x="0" y="124"/>
                  </a:cubicBezTo>
                  <a:cubicBezTo>
                    <a:pt x="16" y="113"/>
                    <a:pt x="37" y="110"/>
                    <a:pt x="55" y="117"/>
                  </a:cubicBezTo>
                  <a:cubicBezTo>
                    <a:pt x="62" y="122"/>
                    <a:pt x="70" y="118"/>
                    <a:pt x="72" y="110"/>
                  </a:cubicBezTo>
                  <a:cubicBezTo>
                    <a:pt x="77" y="93"/>
                    <a:pt x="78" y="76"/>
                    <a:pt x="86" y="60"/>
                  </a:cubicBezTo>
                  <a:cubicBezTo>
                    <a:pt x="91" y="49"/>
                    <a:pt x="104" y="45"/>
                    <a:pt x="113" y="3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75" name="Freeform 16"/>
            <p:cNvSpPr/>
            <p:nvPr/>
          </p:nvSpPr>
          <p:spPr>
            <a:xfrm>
              <a:off x="4322880" y="4547160"/>
              <a:ext cx="122400" cy="835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6" h="32">
                  <a:moveTo>
                    <a:pt x="8" y="15"/>
                  </a:moveTo>
                  <a:cubicBezTo>
                    <a:pt x="22" y="16"/>
                    <a:pt x="36" y="11"/>
                    <a:pt x="46" y="0"/>
                  </a:cubicBezTo>
                  <a:cubicBezTo>
                    <a:pt x="39" y="18"/>
                    <a:pt x="18" y="23"/>
                    <a:pt x="4" y="32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1" y="29"/>
                    <a:pt x="0" y="23"/>
                    <a:pt x="0" y="20"/>
                  </a:cubicBezTo>
                  <a:cubicBezTo>
                    <a:pt x="2" y="19"/>
                    <a:pt x="6" y="16"/>
                    <a:pt x="8" y="1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3744720" y="4738680"/>
              <a:ext cx="335160" cy="1162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25" h="44">
                  <a:moveTo>
                    <a:pt x="53" y="20"/>
                  </a:moveTo>
                  <a:cubicBezTo>
                    <a:pt x="76" y="10"/>
                    <a:pt x="100" y="0"/>
                    <a:pt x="125" y="7"/>
                  </a:cubicBezTo>
                  <a:cubicBezTo>
                    <a:pt x="113" y="12"/>
                    <a:pt x="95" y="9"/>
                    <a:pt x="91" y="24"/>
                  </a:cubicBezTo>
                  <a:cubicBezTo>
                    <a:pt x="93" y="32"/>
                    <a:pt x="100" y="38"/>
                    <a:pt x="105" y="44"/>
                  </a:cubicBezTo>
                  <a:cubicBezTo>
                    <a:pt x="90" y="37"/>
                    <a:pt x="75" y="26"/>
                    <a:pt x="57" y="31"/>
                  </a:cubicBezTo>
                  <a:cubicBezTo>
                    <a:pt x="37" y="35"/>
                    <a:pt x="16" y="28"/>
                    <a:pt x="0" y="14"/>
                  </a:cubicBezTo>
                  <a:cubicBezTo>
                    <a:pt x="17" y="23"/>
                    <a:pt x="36" y="27"/>
                    <a:pt x="53" y="2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cxnSp>
        <p:nvCxnSpPr>
          <p:cNvPr id="1277" name="直接连接符 39"/>
          <p:cNvCxnSpPr/>
          <p:nvPr/>
        </p:nvCxnSpPr>
        <p:spPr>
          <a:xfrm>
            <a:off x="6095880" y="2338920"/>
            <a:ext cx="360" cy="43700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sp>
        <p:nvSpPr>
          <p:cNvPr id="1278" name="矩形 40"/>
          <p:cNvSpPr/>
          <p:nvPr/>
        </p:nvSpPr>
        <p:spPr>
          <a:xfrm>
            <a:off x="4933440" y="1326240"/>
            <a:ext cx="2324520" cy="6645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Segoe UI Light 8"/>
                <a:ea typeface="微软雅黑 Light"/>
              </a:rPr>
              <a:t>科学依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9" name="直接连接符 41"/>
          <p:cNvCxnSpPr/>
          <p:nvPr/>
        </p:nvCxnSpPr>
        <p:spPr>
          <a:xfrm>
            <a:off x="755640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cxnSp>
        <p:nvCxnSpPr>
          <p:cNvPr id="1280" name="直接连接符 42"/>
          <p:cNvCxnSpPr/>
          <p:nvPr/>
        </p:nvCxnSpPr>
        <p:spPr>
          <a:xfrm>
            <a:off x="99036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矩形 164"/>
          <p:cNvSpPr/>
          <p:nvPr/>
        </p:nvSpPr>
        <p:spPr>
          <a:xfrm flipH="1" rot="1534200">
            <a:off x="9636480" y="6200280"/>
            <a:ext cx="1598760" cy="132840"/>
          </a:xfrm>
          <a:custGeom>
            <a:avLst/>
            <a:gdLst>
              <a:gd name="textAreaLeft" fmla="*/ -360 w 1598760"/>
              <a:gd name="textAreaRight" fmla="*/ 1598760 w 1598760"/>
              <a:gd name="textAreaTop" fmla="*/ 0 h 132840"/>
              <a:gd name="textAreaBottom" fmla="*/ 133200 h 132840"/>
            </a:gdLst>
            <a:ahLst/>
            <a:rect l="textAreaLeft" t="textAreaTop" r="textAreaRight" b="textAreaBottom"/>
            <a:pathLst>
              <a:path w="1599095" h="133163">
                <a:moveTo>
                  <a:pt x="0" y="0"/>
                </a:moveTo>
                <a:lnTo>
                  <a:pt x="1550179" y="64846"/>
                </a:lnTo>
                <a:lnTo>
                  <a:pt x="1599095" y="114414"/>
                </a:lnTo>
                <a:lnTo>
                  <a:pt x="0" y="133163"/>
                </a:lnTo>
                <a:lnTo>
                  <a:pt x="0" y="0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282" name="矩形 165"/>
          <p:cNvSpPr/>
          <p:nvPr/>
        </p:nvSpPr>
        <p:spPr>
          <a:xfrm>
            <a:off x="9965160" y="6098760"/>
            <a:ext cx="397440" cy="1162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283" name="椭圆 145"/>
          <p:cNvSpPr/>
          <p:nvPr/>
        </p:nvSpPr>
        <p:spPr>
          <a:xfrm flipH="1">
            <a:off x="7482240" y="6215400"/>
            <a:ext cx="1081800" cy="9396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3120" bIns="33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284" name="Group 4"/>
          <p:cNvGrpSpPr/>
          <p:nvPr/>
        </p:nvGrpSpPr>
        <p:grpSpPr>
          <a:xfrm>
            <a:off x="7286400" y="4851720"/>
            <a:ext cx="1457640" cy="1399320"/>
            <a:chOff x="7286400" y="4851720"/>
            <a:chExt cx="1457640" cy="1399320"/>
          </a:xfrm>
        </p:grpSpPr>
        <p:sp>
          <p:nvSpPr>
            <p:cNvPr id="1285" name="Freeform 5"/>
            <p:cNvSpPr/>
            <p:nvPr/>
          </p:nvSpPr>
          <p:spPr>
            <a:xfrm rot="21103200">
              <a:off x="8096400" y="6085440"/>
              <a:ext cx="147240" cy="1504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8" h="48">
                  <a:moveTo>
                    <a:pt x="38" y="41"/>
                  </a:moveTo>
                  <a:cubicBezTo>
                    <a:pt x="28" y="48"/>
                    <a:pt x="15" y="47"/>
                    <a:pt x="7" y="38"/>
                  </a:cubicBezTo>
                  <a:cubicBezTo>
                    <a:pt x="0" y="29"/>
                    <a:pt x="1" y="16"/>
                    <a:pt x="10" y="8"/>
                  </a:cubicBezTo>
                  <a:cubicBezTo>
                    <a:pt x="19" y="0"/>
                    <a:pt x="33" y="2"/>
                    <a:pt x="40" y="11"/>
                  </a:cubicBezTo>
                  <a:cubicBezTo>
                    <a:pt x="48" y="20"/>
                    <a:pt x="47" y="33"/>
                    <a:pt x="38" y="41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86" name="Freeform 6"/>
            <p:cNvSpPr/>
            <p:nvPr/>
          </p:nvSpPr>
          <p:spPr>
            <a:xfrm rot="21103200">
              <a:off x="8513280" y="5608800"/>
              <a:ext cx="154080" cy="1504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9" h="48">
                  <a:moveTo>
                    <a:pt x="38" y="41"/>
                  </a:moveTo>
                  <a:cubicBezTo>
                    <a:pt x="29" y="48"/>
                    <a:pt x="16" y="47"/>
                    <a:pt x="8" y="38"/>
                  </a:cubicBezTo>
                  <a:cubicBezTo>
                    <a:pt x="0" y="29"/>
                    <a:pt x="2" y="15"/>
                    <a:pt x="11" y="8"/>
                  </a:cubicBezTo>
                  <a:cubicBezTo>
                    <a:pt x="20" y="0"/>
                    <a:pt x="33" y="1"/>
                    <a:pt x="41" y="10"/>
                  </a:cubicBezTo>
                  <a:cubicBezTo>
                    <a:pt x="49" y="20"/>
                    <a:pt x="47" y="33"/>
                    <a:pt x="38" y="41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87" name="Freeform 7"/>
            <p:cNvSpPr/>
            <p:nvPr/>
          </p:nvSpPr>
          <p:spPr>
            <a:xfrm rot="21103200">
              <a:off x="7872480" y="5486040"/>
              <a:ext cx="824760" cy="709200"/>
            </a:xfrm>
            <a:custGeom>
              <a:avLst/>
              <a:gdLst>
                <a:gd name="textAreaLeft" fmla="*/ 0 w 824760"/>
                <a:gd name="textAreaRight" fmla="*/ 825120 w 82476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35" h="202">
                  <a:moveTo>
                    <a:pt x="0" y="190"/>
                  </a:moveTo>
                  <a:lnTo>
                    <a:pt x="10" y="202"/>
                  </a:lnTo>
                  <a:lnTo>
                    <a:pt x="235" y="11"/>
                  </a:lnTo>
                  <a:lnTo>
                    <a:pt x="225" y="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288" name="Freeform 8"/>
            <p:cNvSpPr/>
            <p:nvPr/>
          </p:nvSpPr>
          <p:spPr>
            <a:xfrm rot="21103200">
              <a:off x="7356600" y="4939560"/>
              <a:ext cx="1298880" cy="1070640"/>
            </a:xfrm>
            <a:custGeom>
              <a:avLst/>
              <a:gdLst>
                <a:gd name="textAreaLeft" fmla="*/ 0 w 1298880"/>
                <a:gd name="textAreaRight" fmla="*/ 1299240 w 1298880"/>
                <a:gd name="textAreaTop" fmla="*/ 0 h 1070640"/>
                <a:gd name="textAreaBottom" fmla="*/ 1071000 h 1070640"/>
              </a:gdLst>
              <a:ahLst/>
              <a:rect l="textAreaLeft" t="textAreaTop" r="textAreaRight" b="textAreaBottom"/>
              <a:pathLst>
                <a:path w="414" h="342">
                  <a:moveTo>
                    <a:pt x="170" y="256"/>
                  </a:moveTo>
                  <a:cubicBezTo>
                    <a:pt x="233" y="162"/>
                    <a:pt x="233" y="162"/>
                    <a:pt x="233" y="162"/>
                  </a:cubicBezTo>
                  <a:cubicBezTo>
                    <a:pt x="318" y="181"/>
                    <a:pt x="318" y="181"/>
                    <a:pt x="318" y="181"/>
                  </a:cubicBezTo>
                  <a:cubicBezTo>
                    <a:pt x="326" y="225"/>
                    <a:pt x="326" y="225"/>
                    <a:pt x="326" y="225"/>
                  </a:cubicBezTo>
                  <a:cubicBezTo>
                    <a:pt x="328" y="224"/>
                    <a:pt x="328" y="224"/>
                    <a:pt x="328" y="224"/>
                  </a:cubicBezTo>
                  <a:cubicBezTo>
                    <a:pt x="350" y="206"/>
                    <a:pt x="350" y="206"/>
                    <a:pt x="350" y="206"/>
                  </a:cubicBezTo>
                  <a:cubicBezTo>
                    <a:pt x="348" y="155"/>
                    <a:pt x="348" y="155"/>
                    <a:pt x="348" y="155"/>
                  </a:cubicBezTo>
                  <a:cubicBezTo>
                    <a:pt x="286" y="114"/>
                    <a:pt x="286" y="114"/>
                    <a:pt x="286" y="114"/>
                  </a:cubicBezTo>
                  <a:cubicBezTo>
                    <a:pt x="270" y="47"/>
                    <a:pt x="270" y="47"/>
                    <a:pt x="270" y="47"/>
                  </a:cubicBezTo>
                  <a:cubicBezTo>
                    <a:pt x="337" y="59"/>
                    <a:pt x="337" y="59"/>
                    <a:pt x="337" y="59"/>
                  </a:cubicBezTo>
                  <a:cubicBezTo>
                    <a:pt x="397" y="97"/>
                    <a:pt x="397" y="97"/>
                    <a:pt x="397" y="97"/>
                  </a:cubicBezTo>
                  <a:cubicBezTo>
                    <a:pt x="414" y="81"/>
                    <a:pt x="414" y="81"/>
                    <a:pt x="414" y="81"/>
                  </a:cubicBezTo>
                  <a:cubicBezTo>
                    <a:pt x="350" y="29"/>
                    <a:pt x="350" y="29"/>
                    <a:pt x="350" y="29"/>
                  </a:cubicBezTo>
                  <a:cubicBezTo>
                    <a:pt x="350" y="29"/>
                    <a:pt x="305" y="8"/>
                    <a:pt x="272" y="3"/>
                  </a:cubicBezTo>
                  <a:cubicBezTo>
                    <a:pt x="265" y="2"/>
                    <a:pt x="260" y="1"/>
                    <a:pt x="254" y="0"/>
                  </a:cubicBezTo>
                  <a:cubicBezTo>
                    <a:pt x="248" y="19"/>
                    <a:pt x="229" y="32"/>
                    <a:pt x="208" y="31"/>
                  </a:cubicBezTo>
                  <a:cubicBezTo>
                    <a:pt x="192" y="29"/>
                    <a:pt x="178" y="20"/>
                    <a:pt x="171" y="6"/>
                  </a:cubicBezTo>
                  <a:cubicBezTo>
                    <a:pt x="116" y="20"/>
                    <a:pt x="0" y="53"/>
                    <a:pt x="0" y="53"/>
                  </a:cubicBezTo>
                  <a:cubicBezTo>
                    <a:pt x="5" y="74"/>
                    <a:pt x="5" y="74"/>
                    <a:pt x="5" y="74"/>
                  </a:cubicBezTo>
                  <a:cubicBezTo>
                    <a:pt x="173" y="46"/>
                    <a:pt x="173" y="46"/>
                    <a:pt x="173" y="46"/>
                  </a:cubicBezTo>
                  <a:cubicBezTo>
                    <a:pt x="176" y="143"/>
                    <a:pt x="176" y="143"/>
                    <a:pt x="176" y="143"/>
                  </a:cubicBezTo>
                  <a:cubicBezTo>
                    <a:pt x="124" y="259"/>
                    <a:pt x="124" y="259"/>
                    <a:pt x="124" y="259"/>
                  </a:cubicBezTo>
                  <a:cubicBezTo>
                    <a:pt x="189" y="342"/>
                    <a:pt x="189" y="342"/>
                    <a:pt x="189" y="342"/>
                  </a:cubicBezTo>
                  <a:cubicBezTo>
                    <a:pt x="214" y="321"/>
                    <a:pt x="214" y="321"/>
                    <a:pt x="214" y="321"/>
                  </a:cubicBezTo>
                  <a:lnTo>
                    <a:pt x="170" y="256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289" name="圆角矩形 2"/>
          <p:cNvSpPr/>
          <p:nvPr/>
        </p:nvSpPr>
        <p:spPr>
          <a:xfrm>
            <a:off x="0" y="277200"/>
            <a:ext cx="12191760" cy="1010880"/>
          </a:xfrm>
          <a:prstGeom prst="roundRect">
            <a:avLst>
              <a:gd name="adj" fmla="val 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290" name="组合 3"/>
          <p:cNvGrpSpPr/>
          <p:nvPr/>
        </p:nvGrpSpPr>
        <p:grpSpPr>
          <a:xfrm>
            <a:off x="190080" y="115560"/>
            <a:ext cx="1333440" cy="1333440"/>
            <a:chOff x="190080" y="115560"/>
            <a:chExt cx="1333440" cy="1333440"/>
          </a:xfrm>
        </p:grpSpPr>
        <p:sp>
          <p:nvSpPr>
            <p:cNvPr id="1291" name="椭圆 4"/>
            <p:cNvSpPr/>
            <p:nvPr/>
          </p:nvSpPr>
          <p:spPr>
            <a:xfrm>
              <a:off x="190080" y="115560"/>
              <a:ext cx="1333440" cy="133344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1292" name="组合 5"/>
            <p:cNvGrpSpPr/>
            <p:nvPr/>
          </p:nvGrpSpPr>
          <p:grpSpPr>
            <a:xfrm>
              <a:off x="253440" y="178920"/>
              <a:ext cx="1206720" cy="1206720"/>
              <a:chOff x="253440" y="178920"/>
              <a:chExt cx="1206720" cy="1206720"/>
            </a:xfrm>
          </p:grpSpPr>
          <p:sp>
            <p:nvSpPr>
              <p:cNvPr id="1293" name="椭圆 6"/>
              <p:cNvSpPr/>
              <p:nvPr/>
            </p:nvSpPr>
            <p:spPr>
              <a:xfrm>
                <a:off x="253440" y="178920"/>
                <a:ext cx="1206720" cy="120672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grpSp>
            <p:nvGrpSpPr>
              <p:cNvPr id="1294" name="组合 7"/>
              <p:cNvGrpSpPr/>
              <p:nvPr/>
            </p:nvGrpSpPr>
            <p:grpSpPr>
              <a:xfrm>
                <a:off x="442440" y="277200"/>
                <a:ext cx="829080" cy="1010520"/>
                <a:chOff x="442440" y="277200"/>
                <a:chExt cx="829080" cy="1010520"/>
              </a:xfrm>
            </p:grpSpPr>
            <p:sp>
              <p:nvSpPr>
                <p:cNvPr id="1295" name="Freeform 17"/>
                <p:cNvSpPr/>
                <p:nvPr/>
              </p:nvSpPr>
              <p:spPr>
                <a:xfrm>
                  <a:off x="850320" y="277200"/>
                  <a:ext cx="421200" cy="54648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546480"/>
                    <a:gd name="textAreaBottom" fmla="*/ 546840 h 54648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1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1"/>
                        <a:pt x="2" y="0"/>
                        <a:pt x="4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6" y="1"/>
                        <a:pt x="7" y="2"/>
                        <a:pt x="7" y="3"/>
                      </a:cubicBezTo>
                      <a:cubicBezTo>
                        <a:pt x="7" y="4"/>
                        <a:pt x="7" y="4"/>
                        <a:pt x="8" y="4"/>
                      </a:cubicBezTo>
                      <a:cubicBezTo>
                        <a:pt x="9" y="4"/>
                        <a:pt x="10" y="5"/>
                        <a:pt x="10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8"/>
                        <a:pt x="12" y="9"/>
                        <a:pt x="12" y="10"/>
                      </a:cubicBezTo>
                      <a:cubicBezTo>
                        <a:pt x="12" y="12"/>
                        <a:pt x="11" y="14"/>
                        <a:pt x="9" y="12"/>
                      </a:cubicBezTo>
                      <a:cubicBezTo>
                        <a:pt x="9" y="12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7" y="10"/>
                        <a:pt x="7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8" y="9"/>
                        <a:pt x="7" y="9"/>
                        <a:pt x="7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8"/>
                      </a:cubicBezTo>
                      <a:cubicBezTo>
                        <a:pt x="7" y="8"/>
                        <a:pt x="7" y="8"/>
                        <a:pt x="7" y="9"/>
                      </a:cubicBezTo>
                      <a:cubicBezTo>
                        <a:pt x="7" y="9"/>
                        <a:pt x="7" y="9"/>
                        <a:pt x="7" y="10"/>
                      </a:cubicBezTo>
                      <a:cubicBezTo>
                        <a:pt x="7" y="10"/>
                        <a:pt x="7" y="10"/>
                        <a:pt x="7" y="11"/>
                      </a:cubicBezTo>
                      <a:cubicBezTo>
                        <a:pt x="7" y="11"/>
                        <a:pt x="7" y="11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5" y="12"/>
                        <a:pt x="5" y="10"/>
                        <a:pt x="4" y="9"/>
                      </a:cubicBezTo>
                      <a:cubicBezTo>
                        <a:pt x="4" y="9"/>
                        <a:pt x="4" y="9"/>
                        <a:pt x="4" y="8"/>
                      </a:cubicBezTo>
                      <a:cubicBezTo>
                        <a:pt x="5" y="7"/>
                        <a:pt x="5" y="6"/>
                        <a:pt x="5" y="5"/>
                      </a:cubicBezTo>
                      <a:cubicBezTo>
                        <a:pt x="4" y="5"/>
                        <a:pt x="4" y="5"/>
                        <a:pt x="5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3" y="5"/>
                        <a:pt x="3" y="4"/>
                      </a:cubicBezTo>
                      <a:cubicBezTo>
                        <a:pt x="2" y="4"/>
                        <a:pt x="2" y="4"/>
                        <a:pt x="2" y="5"/>
                      </a:cubicBezTo>
                      <a:cubicBezTo>
                        <a:pt x="2" y="5"/>
                        <a:pt x="2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6"/>
                        <a:pt x="4" y="7"/>
                        <a:pt x="4" y="8"/>
                      </a:cubicBezTo>
                      <a:cubicBezTo>
                        <a:pt x="3" y="8"/>
                        <a:pt x="3" y="8"/>
                        <a:pt x="4" y="9"/>
                      </a:cubicBezTo>
                      <a:cubicBezTo>
                        <a:pt x="5" y="11"/>
                        <a:pt x="3" y="13"/>
                        <a:pt x="1" y="12"/>
                      </a:cubicBezTo>
                      <a:cubicBezTo>
                        <a:pt x="0" y="11"/>
                        <a:pt x="0" y="9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96" name="Freeform 16"/>
                <p:cNvSpPr/>
                <p:nvPr/>
              </p:nvSpPr>
              <p:spPr>
                <a:xfrm>
                  <a:off x="442440" y="286560"/>
                  <a:ext cx="456840" cy="50760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507600"/>
                    <a:gd name="textAreaBottom" fmla="*/ 507960 h 5076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8" y="10"/>
                      </a:moveTo>
                      <a:cubicBezTo>
                        <a:pt x="8" y="10"/>
                        <a:pt x="7" y="10"/>
                        <a:pt x="7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7"/>
                        <a:pt x="6" y="6"/>
                        <a:pt x="6" y="5"/>
                      </a:cubicBezTo>
                      <a:cubicBezTo>
                        <a:pt x="7" y="5"/>
                        <a:pt x="7" y="5"/>
                        <a:pt x="7" y="6"/>
                      </a:cubicBezTo>
                      <a:cubicBezTo>
                        <a:pt x="8" y="6"/>
                        <a:pt x="8" y="6"/>
                        <a:pt x="8" y="7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8" y="3"/>
                        <a:pt x="8" y="3"/>
                      </a:cubicBezTo>
                      <a:cubicBezTo>
                        <a:pt x="8" y="3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5"/>
                      </a:cubicBezTo>
                      <a:cubicBezTo>
                        <a:pt x="5" y="5"/>
                        <a:pt x="5" y="7"/>
                        <a:pt x="6" y="8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9"/>
                        <a:pt x="5" y="9"/>
                        <a:pt x="4" y="10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3" y="13"/>
                        <a:pt x="3" y="13"/>
                        <a:pt x="2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9"/>
                        <a:pt x="1" y="8"/>
                        <a:pt x="2" y="7"/>
                      </a:cubicBezTo>
                      <a:cubicBezTo>
                        <a:pt x="2" y="7"/>
                        <a:pt x="2" y="7"/>
                        <a:pt x="2" y="6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4"/>
                        <a:pt x="5" y="4"/>
                        <a:pt x="5" y="3"/>
                      </a:cubicBezTo>
                      <a:cubicBezTo>
                        <a:pt x="5" y="2"/>
                        <a:pt x="6" y="1"/>
                        <a:pt x="7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0" y="0"/>
                        <a:pt x="13" y="2"/>
                        <a:pt x="11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2" y="7"/>
                        <a:pt x="12" y="10"/>
                        <a:pt x="10" y="9"/>
                      </a:cubicBezTo>
                      <a:cubicBezTo>
                        <a:pt x="9" y="9"/>
                        <a:pt x="9" y="9"/>
                        <a:pt x="8" y="10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97" name="Freeform 19"/>
                <p:cNvSpPr/>
                <p:nvPr/>
              </p:nvSpPr>
              <p:spPr>
                <a:xfrm>
                  <a:off x="653400" y="677160"/>
                  <a:ext cx="210600" cy="116640"/>
                </a:xfrm>
                <a:custGeom>
                  <a:avLst/>
                  <a:gdLst>
                    <a:gd name="textAreaLeft" fmla="*/ 0 w 210600"/>
                    <a:gd name="textAreaRight" fmla="*/ 210960 w 2106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6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3"/>
                        <a:pt x="4" y="2"/>
                        <a:pt x="2" y="3"/>
                      </a:cubicBezTo>
                      <a:close/>
                    </a:path>
                  </a:pathLst>
                </a:custGeom>
                <a:solidFill>
                  <a:schemeClr val="accent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98" name="任意多边形 11"/>
                <p:cNvSpPr/>
                <p:nvPr/>
              </p:nvSpPr>
              <p:spPr>
                <a:xfrm>
                  <a:off x="470520" y="777240"/>
                  <a:ext cx="799560" cy="510480"/>
                </a:xfrm>
                <a:custGeom>
                  <a:avLst/>
                  <a:gdLst>
                    <a:gd name="textAreaLeft" fmla="*/ 0 w 799560"/>
                    <a:gd name="textAreaRight" fmla="*/ 799920 w 79956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3713312" h="2370974">
                      <a:moveTo>
                        <a:pt x="0" y="0"/>
                      </a:moveTo>
                      <a:lnTo>
                        <a:pt x="3713312" y="0"/>
                      </a:lnTo>
                      <a:lnTo>
                        <a:pt x="3702869" y="86603"/>
                      </a:lnTo>
                      <a:cubicBezTo>
                        <a:pt x="3685788" y="188493"/>
                        <a:pt x="3660167" y="287034"/>
                        <a:pt x="3630275" y="378878"/>
                      </a:cubicBezTo>
                      <a:cubicBezTo>
                        <a:pt x="3570492" y="539606"/>
                        <a:pt x="3502169" y="677373"/>
                        <a:pt x="3448792" y="774957"/>
                      </a:cubicBezTo>
                      <a:lnTo>
                        <a:pt x="3442867" y="785466"/>
                      </a:lnTo>
                      <a:lnTo>
                        <a:pt x="3435953" y="922398"/>
                      </a:lnTo>
                      <a:cubicBezTo>
                        <a:pt x="3353322" y="1736041"/>
                        <a:pt x="2666174" y="2370974"/>
                        <a:pt x="1830729" y="2370974"/>
                      </a:cubicBezTo>
                      <a:cubicBezTo>
                        <a:pt x="939588" y="2370974"/>
                        <a:pt x="217175" y="1648561"/>
                        <a:pt x="217175" y="757421"/>
                      </a:cubicBezTo>
                      <a:lnTo>
                        <a:pt x="219301" y="701323"/>
                      </a:lnTo>
                      <a:lnTo>
                        <a:pt x="217572" y="698461"/>
                      </a:lnTo>
                      <a:cubicBezTo>
                        <a:pt x="176475" y="625519"/>
                        <a:pt x="62382" y="362363"/>
                        <a:pt x="4783" y="33206"/>
                      </a:cubicBezTo>
                      <a:close/>
                    </a:path>
                  </a:pathLst>
                </a:custGeom>
                <a:noFill/>
                <a:ln w="60325">
                  <a:solidFill>
                    <a:srgbClr val="2d2d2d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299" name="弦形 12"/>
                <p:cNvSpPr/>
                <p:nvPr/>
              </p:nvSpPr>
              <p:spPr>
                <a:xfrm>
                  <a:off x="5695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300" name="弦形 13"/>
                <p:cNvSpPr/>
                <p:nvPr/>
              </p:nvSpPr>
              <p:spPr>
                <a:xfrm>
                  <a:off x="9007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grpSp>
              <p:nvGrpSpPr>
                <p:cNvPr id="1301" name="组合 14"/>
                <p:cNvGrpSpPr/>
                <p:nvPr/>
              </p:nvGrpSpPr>
              <p:grpSpPr>
                <a:xfrm>
                  <a:off x="521640" y="780120"/>
                  <a:ext cx="702360" cy="151200"/>
                  <a:chOff x="521640" y="780120"/>
                  <a:chExt cx="702360" cy="151200"/>
                </a:xfrm>
              </p:grpSpPr>
              <p:sp>
                <p:nvSpPr>
                  <p:cNvPr id="1302" name="圆角矩形 25"/>
                  <p:cNvSpPr/>
                  <p:nvPr/>
                </p:nvSpPr>
                <p:spPr>
                  <a:xfrm>
                    <a:off x="521640" y="840600"/>
                    <a:ext cx="702360" cy="21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03" name="圆角矩形 26"/>
                  <p:cNvSpPr/>
                  <p:nvPr/>
                </p:nvSpPr>
                <p:spPr>
                  <a:xfrm rot="5400000">
                    <a:off x="549000" y="838800"/>
                    <a:ext cx="73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04" name="圆角矩形 27"/>
                  <p:cNvSpPr/>
                  <p:nvPr/>
                </p:nvSpPr>
                <p:spPr>
                  <a:xfrm rot="5400000">
                    <a:off x="598680" y="8388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05" name="圆角矩形 28"/>
                  <p:cNvSpPr/>
                  <p:nvPr/>
                </p:nvSpPr>
                <p:spPr>
                  <a:xfrm rot="5400000">
                    <a:off x="659880" y="839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06" name="圆角矩形 29"/>
                  <p:cNvSpPr/>
                  <p:nvPr/>
                </p:nvSpPr>
                <p:spPr>
                  <a:xfrm rot="5400000">
                    <a:off x="736560" y="8352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07" name="圆角矩形 30"/>
                  <p:cNvSpPr/>
                  <p:nvPr/>
                </p:nvSpPr>
                <p:spPr>
                  <a:xfrm rot="5400000">
                    <a:off x="793080" y="844560"/>
                    <a:ext cx="1440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08" name="圆角矩形 31"/>
                  <p:cNvSpPr/>
                  <p:nvPr/>
                </p:nvSpPr>
                <p:spPr>
                  <a:xfrm rot="5400000">
                    <a:off x="893160" y="830520"/>
                    <a:ext cx="1306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09" name="圆角矩形 32"/>
                  <p:cNvSpPr/>
                  <p:nvPr/>
                </p:nvSpPr>
                <p:spPr>
                  <a:xfrm rot="5400000">
                    <a:off x="993960" y="840600"/>
                    <a:ext cx="81000" cy="2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2240" bIns="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10" name="圆角矩形 33"/>
                  <p:cNvSpPr/>
                  <p:nvPr/>
                </p:nvSpPr>
                <p:spPr>
                  <a:xfrm rot="5400000">
                    <a:off x="1027440" y="844560"/>
                    <a:ext cx="118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11" name="圆角矩形 34"/>
                  <p:cNvSpPr/>
                  <p:nvPr/>
                </p:nvSpPr>
                <p:spPr>
                  <a:xfrm rot="5400000">
                    <a:off x="1131120" y="830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312" name="组合 15"/>
                <p:cNvGrpSpPr/>
                <p:nvPr/>
              </p:nvGrpSpPr>
              <p:grpSpPr>
                <a:xfrm>
                  <a:off x="955800" y="1097640"/>
                  <a:ext cx="147240" cy="105120"/>
                  <a:chOff x="955800" y="1097640"/>
                  <a:chExt cx="147240" cy="105120"/>
                </a:xfrm>
              </p:grpSpPr>
              <p:sp>
                <p:nvSpPr>
                  <p:cNvPr id="1313" name="圆角矩形 21"/>
                  <p:cNvSpPr/>
                  <p:nvPr/>
                </p:nvSpPr>
                <p:spPr>
                  <a:xfrm rot="12242400">
                    <a:off x="951840" y="1146600"/>
                    <a:ext cx="15516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14" name="圆角矩形 22"/>
                  <p:cNvSpPr/>
                  <p:nvPr/>
                </p:nvSpPr>
                <p:spPr>
                  <a:xfrm rot="17643000">
                    <a:off x="1042200" y="1159200"/>
                    <a:ext cx="604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15" name="圆角矩形 23"/>
                  <p:cNvSpPr/>
                  <p:nvPr/>
                </p:nvSpPr>
                <p:spPr>
                  <a:xfrm rot="17643000">
                    <a:off x="996120" y="114156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16" name="圆角矩形 24"/>
                  <p:cNvSpPr/>
                  <p:nvPr/>
                </p:nvSpPr>
                <p:spPr>
                  <a:xfrm rot="17643000">
                    <a:off x="951480" y="112392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317" name="组合 16"/>
                <p:cNvGrpSpPr/>
                <p:nvPr/>
              </p:nvGrpSpPr>
              <p:grpSpPr>
                <a:xfrm>
                  <a:off x="579600" y="1070640"/>
                  <a:ext cx="122040" cy="133560"/>
                  <a:chOff x="579600" y="1070640"/>
                  <a:chExt cx="122040" cy="133560"/>
                </a:xfrm>
              </p:grpSpPr>
              <p:sp>
                <p:nvSpPr>
                  <p:cNvPr id="1318" name="圆角矩形 17"/>
                  <p:cNvSpPr/>
                  <p:nvPr/>
                </p:nvSpPr>
                <p:spPr>
                  <a:xfrm rot="14032200">
                    <a:off x="565200" y="1130760"/>
                    <a:ext cx="15408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19" name="圆角矩形 18"/>
                  <p:cNvSpPr/>
                  <p:nvPr/>
                </p:nvSpPr>
                <p:spPr>
                  <a:xfrm rot="19432200">
                    <a:off x="640080" y="1162440"/>
                    <a:ext cx="604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20" name="圆角矩形 19"/>
                  <p:cNvSpPr/>
                  <p:nvPr/>
                </p:nvSpPr>
                <p:spPr>
                  <a:xfrm rot="19432200">
                    <a:off x="608400" y="112752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321" name="圆角矩形 20"/>
                  <p:cNvSpPr/>
                  <p:nvPr/>
                </p:nvSpPr>
                <p:spPr>
                  <a:xfrm rot="19432200">
                    <a:off x="578880" y="109008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</p:grpSp>
        </p:grpSp>
      </p:grpSp>
      <p:sp>
        <p:nvSpPr>
          <p:cNvPr id="1322" name="矩形 35"/>
          <p:cNvSpPr/>
          <p:nvPr/>
        </p:nvSpPr>
        <p:spPr>
          <a:xfrm>
            <a:off x="5145840" y="459360"/>
            <a:ext cx="189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4.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甩掉它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组合 62"/>
          <p:cNvGrpSpPr/>
          <p:nvPr/>
        </p:nvGrpSpPr>
        <p:grpSpPr>
          <a:xfrm>
            <a:off x="6834600" y="2709000"/>
            <a:ext cx="2072520" cy="2398680"/>
            <a:chOff x="6834600" y="2709000"/>
            <a:chExt cx="2072520" cy="2398680"/>
          </a:xfrm>
        </p:grpSpPr>
        <p:sp>
          <p:nvSpPr>
            <p:cNvPr id="1324" name="椭圆 63"/>
            <p:cNvSpPr/>
            <p:nvPr/>
          </p:nvSpPr>
          <p:spPr>
            <a:xfrm>
              <a:off x="6998040" y="3323520"/>
              <a:ext cx="1726200" cy="1726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25" name="矩形 64"/>
            <p:cNvSpPr/>
            <p:nvPr/>
          </p:nvSpPr>
          <p:spPr>
            <a:xfrm>
              <a:off x="7219800" y="4296600"/>
              <a:ext cx="602280" cy="6516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26" name="矩形 65"/>
            <p:cNvSpPr/>
            <p:nvPr/>
          </p:nvSpPr>
          <p:spPr>
            <a:xfrm>
              <a:off x="7980480" y="4296600"/>
              <a:ext cx="602280" cy="6516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27" name="椭圆 66"/>
            <p:cNvSpPr/>
            <p:nvPr/>
          </p:nvSpPr>
          <p:spPr>
            <a:xfrm>
              <a:off x="7283880" y="4302360"/>
              <a:ext cx="167400" cy="11448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28" name="椭圆 67"/>
            <p:cNvSpPr/>
            <p:nvPr/>
          </p:nvSpPr>
          <p:spPr>
            <a:xfrm>
              <a:off x="8024040" y="4300560"/>
              <a:ext cx="167400" cy="11448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29" name="同心圆 68"/>
            <p:cNvSpPr/>
            <p:nvPr/>
          </p:nvSpPr>
          <p:spPr>
            <a:xfrm>
              <a:off x="6970680" y="3326400"/>
              <a:ext cx="1781280" cy="1781280"/>
            </a:xfrm>
            <a:prstGeom prst="donut">
              <a:avLst>
                <a:gd name="adj" fmla="val 3806"/>
              </a:avLst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30" name="任意多边形 69"/>
            <p:cNvSpPr/>
            <p:nvPr/>
          </p:nvSpPr>
          <p:spPr>
            <a:xfrm>
              <a:off x="6834600" y="2709000"/>
              <a:ext cx="2072520" cy="1603440"/>
            </a:xfrm>
            <a:custGeom>
              <a:avLst/>
              <a:gdLst>
                <a:gd name="textAreaLeft" fmla="*/ 0 w 2072520"/>
                <a:gd name="textAreaRight" fmla="*/ 2072880 w 207252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051532" h="1587287">
                  <a:moveTo>
                    <a:pt x="808911" y="351"/>
                  </a:moveTo>
                  <a:cubicBezTo>
                    <a:pt x="990198" y="7057"/>
                    <a:pt x="1214599" y="108722"/>
                    <a:pt x="1338958" y="216375"/>
                  </a:cubicBezTo>
                  <a:cubicBezTo>
                    <a:pt x="1490933" y="168997"/>
                    <a:pt x="1765935" y="292781"/>
                    <a:pt x="1853582" y="451008"/>
                  </a:cubicBezTo>
                  <a:cubicBezTo>
                    <a:pt x="1864538" y="470767"/>
                    <a:pt x="1873986" y="493197"/>
                    <a:pt x="1882003" y="517763"/>
                  </a:cubicBezTo>
                  <a:lnTo>
                    <a:pt x="1899991" y="589941"/>
                  </a:lnTo>
                  <a:lnTo>
                    <a:pt x="1934278" y="625455"/>
                  </a:lnTo>
                  <a:cubicBezTo>
                    <a:pt x="2092935" y="826185"/>
                    <a:pt x="2064937" y="1085462"/>
                    <a:pt x="1999607" y="1286192"/>
                  </a:cubicBezTo>
                  <a:cubicBezTo>
                    <a:pt x="1934278" y="1461831"/>
                    <a:pt x="1850283" y="1587287"/>
                    <a:pt x="1850283" y="1587287"/>
                  </a:cubicBezTo>
                  <a:cubicBezTo>
                    <a:pt x="1850283" y="1587287"/>
                    <a:pt x="1850283" y="1578923"/>
                    <a:pt x="1850283" y="1562196"/>
                  </a:cubicBezTo>
                  <a:cubicBezTo>
                    <a:pt x="1850283" y="1553832"/>
                    <a:pt x="1840950" y="1545468"/>
                    <a:pt x="1840950" y="1537105"/>
                  </a:cubicBezTo>
                  <a:cubicBezTo>
                    <a:pt x="1829284" y="1499468"/>
                    <a:pt x="1815869" y="1463399"/>
                    <a:pt x="1799245" y="1428768"/>
                  </a:cubicBezTo>
                  <a:lnTo>
                    <a:pt x="1774996" y="1389101"/>
                  </a:lnTo>
                  <a:lnTo>
                    <a:pt x="1765181" y="1409751"/>
                  </a:lnTo>
                  <a:cubicBezTo>
                    <a:pt x="1735480" y="1470045"/>
                    <a:pt x="1714071" y="1505503"/>
                    <a:pt x="1714071" y="1505503"/>
                  </a:cubicBezTo>
                  <a:lnTo>
                    <a:pt x="1714071" y="1477076"/>
                  </a:lnTo>
                  <a:cubicBezTo>
                    <a:pt x="1714071" y="1467902"/>
                    <a:pt x="1704824" y="1458276"/>
                    <a:pt x="1704824" y="1448800"/>
                  </a:cubicBezTo>
                  <a:cubicBezTo>
                    <a:pt x="1681002" y="1363595"/>
                    <a:pt x="1650095" y="1285535"/>
                    <a:pt x="1600266" y="1213396"/>
                  </a:cubicBezTo>
                  <a:lnTo>
                    <a:pt x="1573925" y="1183121"/>
                  </a:lnTo>
                  <a:lnTo>
                    <a:pt x="1523636" y="1152372"/>
                  </a:lnTo>
                  <a:cubicBezTo>
                    <a:pt x="1467640" y="1319647"/>
                    <a:pt x="1243653" y="1461831"/>
                    <a:pt x="1243653" y="1461831"/>
                  </a:cubicBezTo>
                  <a:cubicBezTo>
                    <a:pt x="1243653" y="1461831"/>
                    <a:pt x="1238987" y="1420012"/>
                    <a:pt x="1223821" y="1363557"/>
                  </a:cubicBezTo>
                  <a:lnTo>
                    <a:pt x="1195741" y="1280924"/>
                  </a:lnTo>
                  <a:lnTo>
                    <a:pt x="1172455" y="1302812"/>
                  </a:lnTo>
                  <a:cubicBezTo>
                    <a:pt x="1129383" y="1341060"/>
                    <a:pt x="1097326" y="1363670"/>
                    <a:pt x="1097326" y="1363670"/>
                  </a:cubicBezTo>
                  <a:cubicBezTo>
                    <a:pt x="1097326" y="1363670"/>
                    <a:pt x="1094668" y="1337063"/>
                    <a:pt x="1086841" y="1296815"/>
                  </a:cubicBezTo>
                  <a:lnTo>
                    <a:pt x="1080356" y="1267013"/>
                  </a:lnTo>
                  <a:lnTo>
                    <a:pt x="1049561" y="1304357"/>
                  </a:lnTo>
                  <a:cubicBezTo>
                    <a:pt x="948504" y="1413739"/>
                    <a:pt x="833011" y="1470195"/>
                    <a:pt x="833011" y="1470195"/>
                  </a:cubicBezTo>
                  <a:cubicBezTo>
                    <a:pt x="833011" y="1470195"/>
                    <a:pt x="828345" y="1428376"/>
                    <a:pt x="814346" y="1370875"/>
                  </a:cubicBezTo>
                  <a:lnTo>
                    <a:pt x="791180" y="1294081"/>
                  </a:lnTo>
                  <a:lnTo>
                    <a:pt x="751575" y="1325636"/>
                  </a:lnTo>
                  <a:cubicBezTo>
                    <a:pt x="709369" y="1357048"/>
                    <a:pt x="679997" y="1372996"/>
                    <a:pt x="679997" y="1372996"/>
                  </a:cubicBezTo>
                  <a:cubicBezTo>
                    <a:pt x="679997" y="1372996"/>
                    <a:pt x="677340" y="1346409"/>
                    <a:pt x="670011" y="1305688"/>
                  </a:cubicBezTo>
                  <a:lnTo>
                    <a:pt x="664046" y="1275752"/>
                  </a:lnTo>
                  <a:lnTo>
                    <a:pt x="605525" y="1338596"/>
                  </a:lnTo>
                  <a:cubicBezTo>
                    <a:pt x="462034" y="1478558"/>
                    <a:pt x="308043" y="1553832"/>
                    <a:pt x="301043" y="1553832"/>
                  </a:cubicBezTo>
                  <a:cubicBezTo>
                    <a:pt x="291711" y="1541286"/>
                    <a:pt x="259629" y="1495809"/>
                    <a:pt x="222736" y="1429421"/>
                  </a:cubicBezTo>
                  <a:lnTo>
                    <a:pt x="218353" y="1421130"/>
                  </a:lnTo>
                  <a:lnTo>
                    <a:pt x="190137" y="1439926"/>
                  </a:lnTo>
                  <a:cubicBezTo>
                    <a:pt x="160498" y="1458426"/>
                    <a:pt x="141551" y="1467902"/>
                    <a:pt x="139240" y="1467902"/>
                  </a:cubicBezTo>
                  <a:cubicBezTo>
                    <a:pt x="101045" y="1410898"/>
                    <a:pt x="-188231" y="747458"/>
                    <a:pt x="200753" y="369037"/>
                  </a:cubicBezTo>
                  <a:cubicBezTo>
                    <a:pt x="210201" y="359711"/>
                    <a:pt x="544506" y="28969"/>
                    <a:pt x="734274" y="3550"/>
                  </a:cubicBezTo>
                  <a:cubicBezTo>
                    <a:pt x="757995" y="373"/>
                    <a:pt x="783013" y="-607"/>
                    <a:pt x="808911" y="351"/>
                  </a:cubicBezTo>
                  <a:close/>
                </a:path>
              </a:pathLst>
            </a:custGeom>
            <a:solidFill>
              <a:srgbClr val="2e2e2e"/>
            </a:solidFill>
            <a:ln w="55563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331" name="椭圆 106"/>
          <p:cNvSpPr/>
          <p:nvPr/>
        </p:nvSpPr>
        <p:spPr>
          <a:xfrm flipH="1">
            <a:off x="2718720" y="6215400"/>
            <a:ext cx="1584000" cy="9396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33120" bIns="33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332" name="Freeform 6"/>
          <p:cNvSpPr/>
          <p:nvPr/>
        </p:nvSpPr>
        <p:spPr>
          <a:xfrm rot="720600">
            <a:off x="3213000" y="4781880"/>
            <a:ext cx="1063800" cy="156240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236" h="1950">
                <a:moveTo>
                  <a:pt x="198" y="9"/>
                </a:moveTo>
                <a:cubicBezTo>
                  <a:pt x="228" y="6"/>
                  <a:pt x="258" y="0"/>
                  <a:pt x="287" y="6"/>
                </a:cubicBezTo>
                <a:cubicBezTo>
                  <a:pt x="352" y="17"/>
                  <a:pt x="413" y="51"/>
                  <a:pt x="455" y="101"/>
                </a:cubicBezTo>
                <a:cubicBezTo>
                  <a:pt x="499" y="101"/>
                  <a:pt x="543" y="99"/>
                  <a:pt x="586" y="101"/>
                </a:cubicBezTo>
                <a:cubicBezTo>
                  <a:pt x="620" y="114"/>
                  <a:pt x="653" y="131"/>
                  <a:pt x="687" y="146"/>
                </a:cubicBezTo>
                <a:cubicBezTo>
                  <a:pt x="699" y="126"/>
                  <a:pt x="707" y="104"/>
                  <a:pt x="718" y="84"/>
                </a:cubicBezTo>
                <a:cubicBezTo>
                  <a:pt x="788" y="81"/>
                  <a:pt x="858" y="77"/>
                  <a:pt x="928" y="74"/>
                </a:cubicBezTo>
                <a:cubicBezTo>
                  <a:pt x="961" y="70"/>
                  <a:pt x="994" y="73"/>
                  <a:pt x="1027" y="69"/>
                </a:cubicBezTo>
                <a:cubicBezTo>
                  <a:pt x="1056" y="66"/>
                  <a:pt x="1085" y="68"/>
                  <a:pt x="1114" y="64"/>
                </a:cubicBezTo>
                <a:cubicBezTo>
                  <a:pt x="1152" y="59"/>
                  <a:pt x="1191" y="75"/>
                  <a:pt x="1214" y="106"/>
                </a:cubicBezTo>
                <a:cubicBezTo>
                  <a:pt x="1226" y="124"/>
                  <a:pt x="1235" y="144"/>
                  <a:pt x="1233" y="166"/>
                </a:cubicBezTo>
                <a:cubicBezTo>
                  <a:pt x="1236" y="203"/>
                  <a:pt x="1214" y="239"/>
                  <a:pt x="1183" y="258"/>
                </a:cubicBezTo>
                <a:cubicBezTo>
                  <a:pt x="1145" y="279"/>
                  <a:pt x="1100" y="274"/>
                  <a:pt x="1058" y="276"/>
                </a:cubicBezTo>
                <a:cubicBezTo>
                  <a:pt x="970" y="282"/>
                  <a:pt x="882" y="282"/>
                  <a:pt x="794" y="290"/>
                </a:cubicBezTo>
                <a:cubicBezTo>
                  <a:pt x="729" y="292"/>
                  <a:pt x="663" y="298"/>
                  <a:pt x="598" y="301"/>
                </a:cubicBezTo>
                <a:cubicBezTo>
                  <a:pt x="564" y="304"/>
                  <a:pt x="530" y="303"/>
                  <a:pt x="496" y="309"/>
                </a:cubicBezTo>
                <a:cubicBezTo>
                  <a:pt x="496" y="393"/>
                  <a:pt x="495" y="476"/>
                  <a:pt x="494" y="560"/>
                </a:cubicBezTo>
                <a:cubicBezTo>
                  <a:pt x="470" y="560"/>
                  <a:pt x="446" y="560"/>
                  <a:pt x="422" y="561"/>
                </a:cubicBezTo>
                <a:cubicBezTo>
                  <a:pt x="437" y="600"/>
                  <a:pt x="458" y="636"/>
                  <a:pt x="473" y="675"/>
                </a:cubicBezTo>
                <a:cubicBezTo>
                  <a:pt x="450" y="684"/>
                  <a:pt x="428" y="694"/>
                  <a:pt x="405" y="702"/>
                </a:cubicBezTo>
                <a:cubicBezTo>
                  <a:pt x="390" y="708"/>
                  <a:pt x="373" y="713"/>
                  <a:pt x="359" y="723"/>
                </a:cubicBezTo>
                <a:cubicBezTo>
                  <a:pt x="403" y="730"/>
                  <a:pt x="448" y="727"/>
                  <a:pt x="493" y="732"/>
                </a:cubicBezTo>
                <a:cubicBezTo>
                  <a:pt x="490" y="787"/>
                  <a:pt x="488" y="841"/>
                  <a:pt x="478" y="895"/>
                </a:cubicBezTo>
                <a:cubicBezTo>
                  <a:pt x="570" y="956"/>
                  <a:pt x="662" y="1014"/>
                  <a:pt x="754" y="1074"/>
                </a:cubicBezTo>
                <a:cubicBezTo>
                  <a:pt x="764" y="1081"/>
                  <a:pt x="768" y="1092"/>
                  <a:pt x="774" y="1102"/>
                </a:cubicBezTo>
                <a:cubicBezTo>
                  <a:pt x="783" y="1124"/>
                  <a:pt x="795" y="1144"/>
                  <a:pt x="805" y="1165"/>
                </a:cubicBezTo>
                <a:cubicBezTo>
                  <a:pt x="823" y="1160"/>
                  <a:pt x="839" y="1146"/>
                  <a:pt x="858" y="1143"/>
                </a:cubicBezTo>
                <a:cubicBezTo>
                  <a:pt x="875" y="1150"/>
                  <a:pt x="889" y="1162"/>
                  <a:pt x="905" y="1171"/>
                </a:cubicBezTo>
                <a:cubicBezTo>
                  <a:pt x="971" y="1214"/>
                  <a:pt x="1038" y="1257"/>
                  <a:pt x="1104" y="1300"/>
                </a:cubicBezTo>
                <a:cubicBezTo>
                  <a:pt x="1130" y="1317"/>
                  <a:pt x="1150" y="1342"/>
                  <a:pt x="1160" y="1371"/>
                </a:cubicBezTo>
                <a:cubicBezTo>
                  <a:pt x="1185" y="1433"/>
                  <a:pt x="1156" y="1510"/>
                  <a:pt x="1098" y="1542"/>
                </a:cubicBezTo>
                <a:cubicBezTo>
                  <a:pt x="1068" y="1561"/>
                  <a:pt x="1031" y="1564"/>
                  <a:pt x="996" y="1559"/>
                </a:cubicBezTo>
                <a:cubicBezTo>
                  <a:pt x="971" y="1555"/>
                  <a:pt x="950" y="1540"/>
                  <a:pt x="929" y="1527"/>
                </a:cubicBezTo>
                <a:cubicBezTo>
                  <a:pt x="746" y="1409"/>
                  <a:pt x="563" y="1290"/>
                  <a:pt x="380" y="1172"/>
                </a:cubicBezTo>
                <a:cubicBezTo>
                  <a:pt x="366" y="1163"/>
                  <a:pt x="352" y="1153"/>
                  <a:pt x="337" y="1147"/>
                </a:cubicBezTo>
                <a:cubicBezTo>
                  <a:pt x="336" y="1366"/>
                  <a:pt x="338" y="1586"/>
                  <a:pt x="337" y="1806"/>
                </a:cubicBezTo>
                <a:cubicBezTo>
                  <a:pt x="337" y="1842"/>
                  <a:pt x="322" y="1878"/>
                  <a:pt x="297" y="1905"/>
                </a:cubicBezTo>
                <a:cubicBezTo>
                  <a:pt x="273" y="1931"/>
                  <a:pt x="239" y="1946"/>
                  <a:pt x="204" y="1950"/>
                </a:cubicBezTo>
                <a:cubicBezTo>
                  <a:pt x="184" y="1950"/>
                  <a:pt x="184" y="1950"/>
                  <a:pt x="184" y="1950"/>
                </a:cubicBezTo>
                <a:cubicBezTo>
                  <a:pt x="152" y="1947"/>
                  <a:pt x="121" y="1933"/>
                  <a:pt x="97" y="1911"/>
                </a:cubicBezTo>
                <a:cubicBezTo>
                  <a:pt x="67" y="1884"/>
                  <a:pt x="50" y="1843"/>
                  <a:pt x="51" y="1802"/>
                </a:cubicBezTo>
                <a:cubicBezTo>
                  <a:pt x="51" y="1697"/>
                  <a:pt x="51" y="1591"/>
                  <a:pt x="51" y="1486"/>
                </a:cubicBezTo>
                <a:cubicBezTo>
                  <a:pt x="67" y="1493"/>
                  <a:pt x="81" y="1504"/>
                  <a:pt x="97" y="1511"/>
                </a:cubicBezTo>
                <a:cubicBezTo>
                  <a:pt x="94" y="1475"/>
                  <a:pt x="87" y="1439"/>
                  <a:pt x="83" y="1403"/>
                </a:cubicBezTo>
                <a:cubicBezTo>
                  <a:pt x="73" y="1402"/>
                  <a:pt x="62" y="1403"/>
                  <a:pt x="52" y="1405"/>
                </a:cubicBezTo>
                <a:cubicBezTo>
                  <a:pt x="50" y="1389"/>
                  <a:pt x="51" y="1374"/>
                  <a:pt x="51" y="1358"/>
                </a:cubicBezTo>
                <a:cubicBezTo>
                  <a:pt x="51" y="1222"/>
                  <a:pt x="51" y="1086"/>
                  <a:pt x="51" y="950"/>
                </a:cubicBezTo>
                <a:cubicBezTo>
                  <a:pt x="52" y="930"/>
                  <a:pt x="31" y="920"/>
                  <a:pt x="25" y="903"/>
                </a:cubicBezTo>
                <a:cubicBezTo>
                  <a:pt x="2" y="866"/>
                  <a:pt x="1" y="821"/>
                  <a:pt x="1" y="778"/>
                </a:cubicBezTo>
                <a:cubicBezTo>
                  <a:pt x="2" y="737"/>
                  <a:pt x="0" y="695"/>
                  <a:pt x="3" y="654"/>
                </a:cubicBezTo>
                <a:cubicBezTo>
                  <a:pt x="18" y="661"/>
                  <a:pt x="32" y="672"/>
                  <a:pt x="49" y="674"/>
                </a:cubicBezTo>
                <a:cubicBezTo>
                  <a:pt x="67" y="633"/>
                  <a:pt x="88" y="593"/>
                  <a:pt x="105" y="551"/>
                </a:cubicBezTo>
                <a:cubicBezTo>
                  <a:pt x="71" y="566"/>
                  <a:pt x="38" y="585"/>
                  <a:pt x="3" y="599"/>
                </a:cubicBezTo>
                <a:cubicBezTo>
                  <a:pt x="2" y="522"/>
                  <a:pt x="3" y="446"/>
                  <a:pt x="3" y="370"/>
                </a:cubicBezTo>
                <a:cubicBezTo>
                  <a:pt x="2" y="348"/>
                  <a:pt x="15" y="331"/>
                  <a:pt x="24" y="312"/>
                </a:cubicBezTo>
                <a:cubicBezTo>
                  <a:pt x="32" y="293"/>
                  <a:pt x="43" y="274"/>
                  <a:pt x="50" y="254"/>
                </a:cubicBezTo>
                <a:cubicBezTo>
                  <a:pt x="33" y="258"/>
                  <a:pt x="18" y="267"/>
                  <a:pt x="3" y="274"/>
                </a:cubicBezTo>
                <a:cubicBezTo>
                  <a:pt x="3" y="243"/>
                  <a:pt x="2" y="213"/>
                  <a:pt x="6" y="182"/>
                </a:cubicBezTo>
                <a:cubicBezTo>
                  <a:pt x="11" y="156"/>
                  <a:pt x="23" y="132"/>
                  <a:pt x="37" y="110"/>
                </a:cubicBezTo>
                <a:cubicBezTo>
                  <a:pt x="76" y="58"/>
                  <a:pt x="135" y="21"/>
                  <a:pt x="198" y="9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1333" name="组合 108"/>
          <p:cNvGrpSpPr/>
          <p:nvPr/>
        </p:nvGrpSpPr>
        <p:grpSpPr>
          <a:xfrm>
            <a:off x="2593800" y="2368800"/>
            <a:ext cx="2036880" cy="2482560"/>
            <a:chOff x="2593800" y="2368800"/>
            <a:chExt cx="2036880" cy="2482560"/>
          </a:xfrm>
        </p:grpSpPr>
        <p:sp>
          <p:nvSpPr>
            <p:cNvPr id="1334" name="Freeform 17"/>
            <p:cNvSpPr/>
            <p:nvPr/>
          </p:nvSpPr>
          <p:spPr>
            <a:xfrm>
              <a:off x="3595680" y="2368800"/>
              <a:ext cx="1035000" cy="13428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12" h="14">
                  <a:moveTo>
                    <a:pt x="1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6" y="1"/>
                    <a:pt x="7" y="2"/>
                    <a:pt x="7" y="3"/>
                  </a:cubicBezTo>
                  <a:cubicBezTo>
                    <a:pt x="7" y="4"/>
                    <a:pt x="7" y="4"/>
                    <a:pt x="8" y="4"/>
                  </a:cubicBezTo>
                  <a:cubicBezTo>
                    <a:pt x="9" y="4"/>
                    <a:pt x="10" y="5"/>
                    <a:pt x="10" y="6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2" y="9"/>
                    <a:pt x="12" y="10"/>
                  </a:cubicBezTo>
                  <a:cubicBezTo>
                    <a:pt x="12" y="12"/>
                    <a:pt x="11" y="14"/>
                    <a:pt x="9" y="12"/>
                  </a:cubicBezTo>
                  <a:cubicBezTo>
                    <a:pt x="9" y="12"/>
                    <a:pt x="9" y="11"/>
                    <a:pt x="8" y="11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7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8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7" y="9"/>
                    <a:pt x="7" y="9"/>
                    <a:pt x="7" y="10"/>
                  </a:cubicBezTo>
                  <a:cubicBezTo>
                    <a:pt x="7" y="10"/>
                    <a:pt x="7" y="10"/>
                    <a:pt x="7" y="11"/>
                  </a:cubicBezTo>
                  <a:cubicBezTo>
                    <a:pt x="7" y="11"/>
                    <a:pt x="7" y="11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5" y="12"/>
                    <a:pt x="5" y="10"/>
                    <a:pt x="4" y="9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4" y="5"/>
                    <a:pt x="4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"/>
                    <a:pt x="3" y="5"/>
                    <a:pt x="3" y="4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3" y="8"/>
                    <a:pt x="3" y="8"/>
                    <a:pt x="4" y="9"/>
                  </a:cubicBezTo>
                  <a:cubicBezTo>
                    <a:pt x="5" y="11"/>
                    <a:pt x="3" y="13"/>
                    <a:pt x="1" y="12"/>
                  </a:cubicBezTo>
                  <a:cubicBezTo>
                    <a:pt x="0" y="11"/>
                    <a:pt x="0" y="9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335" name="Freeform 16"/>
            <p:cNvSpPr/>
            <p:nvPr/>
          </p:nvSpPr>
          <p:spPr>
            <a:xfrm>
              <a:off x="2593800" y="2391840"/>
              <a:ext cx="1122120" cy="124632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1246320"/>
                <a:gd name="textAreaBottom" fmla="*/ 1246680 h 1246320"/>
              </a:gdLst>
              <a:ahLst/>
              <a:rect l="textAreaLeft" t="textAreaTop" r="textAreaRight" b="textAreaBottom"/>
              <a:pathLst>
                <a:path w="13" h="13">
                  <a:moveTo>
                    <a:pt x="8" y="10"/>
                  </a:moveTo>
                  <a:cubicBezTo>
                    <a:pt x="8" y="10"/>
                    <a:pt x="7" y="10"/>
                    <a:pt x="7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5" y="7"/>
                    <a:pt x="6" y="6"/>
                    <a:pt x="6" y="5"/>
                  </a:cubicBezTo>
                  <a:cubicBezTo>
                    <a:pt x="7" y="5"/>
                    <a:pt x="7" y="5"/>
                    <a:pt x="7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9" y="7"/>
                    <a:pt x="9" y="7"/>
                    <a:pt x="9" y="6"/>
                  </a:cubicBezTo>
                  <a:cubicBezTo>
                    <a:pt x="9" y="6"/>
                    <a:pt x="9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7" y="4"/>
                    <a:pt x="7" y="4"/>
                  </a:cubicBezTo>
                  <a:cubicBezTo>
                    <a:pt x="7" y="4"/>
                    <a:pt x="7" y="4"/>
                    <a:pt x="6" y="5"/>
                  </a:cubicBezTo>
                  <a:cubicBezTo>
                    <a:pt x="5" y="5"/>
                    <a:pt x="5" y="7"/>
                    <a:pt x="6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4" y="11"/>
                    <a:pt x="4" y="12"/>
                  </a:cubicBezTo>
                  <a:cubicBezTo>
                    <a:pt x="3" y="13"/>
                    <a:pt x="3" y="13"/>
                    <a:pt x="2" y="13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5"/>
                    <a:pt x="3" y="4"/>
                    <a:pt x="4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0"/>
                    <a:pt x="13" y="2"/>
                    <a:pt x="11" y="4"/>
                  </a:cubicBezTo>
                  <a:cubicBezTo>
                    <a:pt x="11" y="5"/>
                    <a:pt x="11" y="5"/>
                    <a:pt x="11" y="6"/>
                  </a:cubicBezTo>
                  <a:cubicBezTo>
                    <a:pt x="12" y="7"/>
                    <a:pt x="12" y="10"/>
                    <a:pt x="10" y="9"/>
                  </a:cubicBezTo>
                  <a:cubicBezTo>
                    <a:pt x="9" y="9"/>
                    <a:pt x="9" y="9"/>
                    <a:pt x="8" y="10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336" name="Freeform 19"/>
            <p:cNvSpPr/>
            <p:nvPr/>
          </p:nvSpPr>
          <p:spPr>
            <a:xfrm>
              <a:off x="3112200" y="3351240"/>
              <a:ext cx="518040" cy="28728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6" h="3">
                  <a:moveTo>
                    <a:pt x="2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3"/>
                    <a:pt x="4" y="2"/>
                    <a:pt x="2" y="3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337" name="任意多边形 112"/>
            <p:cNvSpPr/>
            <p:nvPr/>
          </p:nvSpPr>
          <p:spPr>
            <a:xfrm>
              <a:off x="2663280" y="3597480"/>
              <a:ext cx="1964160" cy="1253880"/>
            </a:xfrm>
            <a:custGeom>
              <a:avLst/>
              <a:gdLst>
                <a:gd name="textAreaLeft" fmla="*/ 0 w 1964160"/>
                <a:gd name="textAreaRight" fmla="*/ 1964520 w 1964160"/>
                <a:gd name="textAreaTop" fmla="*/ 0 h 1253880"/>
                <a:gd name="textAreaBottom" fmla="*/ 1254240 h 1253880"/>
              </a:gdLst>
              <a:ahLst/>
              <a:rect l="textAreaLeft" t="textAreaTop" r="textAreaRight" b="textAreaBottom"/>
              <a:pathLst>
                <a:path w="3713312" h="2370974">
                  <a:moveTo>
                    <a:pt x="0" y="0"/>
                  </a:moveTo>
                  <a:lnTo>
                    <a:pt x="3713312" y="0"/>
                  </a:lnTo>
                  <a:lnTo>
                    <a:pt x="3702869" y="86603"/>
                  </a:lnTo>
                  <a:cubicBezTo>
                    <a:pt x="3685788" y="188493"/>
                    <a:pt x="3660167" y="287034"/>
                    <a:pt x="3630275" y="378878"/>
                  </a:cubicBezTo>
                  <a:cubicBezTo>
                    <a:pt x="3570492" y="539606"/>
                    <a:pt x="3502169" y="677373"/>
                    <a:pt x="3448792" y="774957"/>
                  </a:cubicBezTo>
                  <a:lnTo>
                    <a:pt x="3442867" y="785466"/>
                  </a:lnTo>
                  <a:lnTo>
                    <a:pt x="3435953" y="922398"/>
                  </a:lnTo>
                  <a:cubicBezTo>
                    <a:pt x="3353322" y="1736041"/>
                    <a:pt x="2666174" y="2370974"/>
                    <a:pt x="1830729" y="2370974"/>
                  </a:cubicBezTo>
                  <a:cubicBezTo>
                    <a:pt x="939588" y="2370974"/>
                    <a:pt x="217175" y="1648561"/>
                    <a:pt x="217175" y="757421"/>
                  </a:cubicBezTo>
                  <a:lnTo>
                    <a:pt x="219301" y="701323"/>
                  </a:lnTo>
                  <a:lnTo>
                    <a:pt x="217572" y="698461"/>
                  </a:lnTo>
                  <a:cubicBezTo>
                    <a:pt x="176475" y="625519"/>
                    <a:pt x="62382" y="362363"/>
                    <a:pt x="4783" y="33206"/>
                  </a:cubicBezTo>
                  <a:close/>
                </a:path>
              </a:pathLst>
            </a:custGeom>
            <a:solidFill>
              <a:schemeClr val="bg1"/>
            </a:solidFill>
            <a:ln w="88900">
              <a:solidFill>
                <a:srgbClr val="2d2d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338" name="弦形 113"/>
            <p:cNvSpPr/>
            <p:nvPr/>
          </p:nvSpPr>
          <p:spPr>
            <a:xfrm>
              <a:off x="3002760" y="3642480"/>
              <a:ext cx="700560" cy="70056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339" name="弦形 114"/>
            <p:cNvSpPr/>
            <p:nvPr/>
          </p:nvSpPr>
          <p:spPr>
            <a:xfrm>
              <a:off x="3745080" y="3642480"/>
              <a:ext cx="700560" cy="70056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grpSp>
          <p:nvGrpSpPr>
            <p:cNvPr id="1340" name="组合 115"/>
            <p:cNvGrpSpPr/>
            <p:nvPr/>
          </p:nvGrpSpPr>
          <p:grpSpPr>
            <a:xfrm>
              <a:off x="2788920" y="3603600"/>
              <a:ext cx="1724760" cy="372240"/>
              <a:chOff x="2788920" y="3603600"/>
              <a:chExt cx="1724760" cy="372240"/>
            </a:xfrm>
          </p:grpSpPr>
          <p:sp>
            <p:nvSpPr>
              <p:cNvPr id="1341" name="圆角矩形 126"/>
              <p:cNvSpPr/>
              <p:nvPr/>
            </p:nvSpPr>
            <p:spPr>
              <a:xfrm>
                <a:off x="2788920" y="3752640"/>
                <a:ext cx="1724760" cy="522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42" name="圆角矩形 127"/>
              <p:cNvSpPr/>
              <p:nvPr/>
            </p:nvSpPr>
            <p:spPr>
              <a:xfrm rot="5400000">
                <a:off x="2855880" y="3748320"/>
                <a:ext cx="181440" cy="72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43" name="圆角矩形 128"/>
              <p:cNvSpPr/>
              <p:nvPr/>
            </p:nvSpPr>
            <p:spPr>
              <a:xfrm rot="5400000">
                <a:off x="2977200" y="3748320"/>
                <a:ext cx="219600" cy="72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44" name="圆角矩形 129"/>
              <p:cNvSpPr/>
              <p:nvPr/>
            </p:nvSpPr>
            <p:spPr>
              <a:xfrm rot="5400000">
                <a:off x="3128400" y="3749760"/>
                <a:ext cx="241560" cy="72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45" name="圆角矩形 130"/>
              <p:cNvSpPr/>
              <p:nvPr/>
            </p:nvSpPr>
            <p:spPr>
              <a:xfrm rot="5400000">
                <a:off x="3316320" y="3739320"/>
                <a:ext cx="219600" cy="72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46" name="圆角矩形 131"/>
              <p:cNvSpPr/>
              <p:nvPr/>
            </p:nvSpPr>
            <p:spPr>
              <a:xfrm rot="5400000">
                <a:off x="3454920" y="3762360"/>
                <a:ext cx="353880" cy="72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47" name="圆角矩形 132"/>
              <p:cNvSpPr/>
              <p:nvPr/>
            </p:nvSpPr>
            <p:spPr>
              <a:xfrm rot="5400000">
                <a:off x="3700440" y="3727800"/>
                <a:ext cx="321480" cy="72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48" name="圆角矩形 133"/>
              <p:cNvSpPr/>
              <p:nvPr/>
            </p:nvSpPr>
            <p:spPr>
              <a:xfrm rot="5400000">
                <a:off x="3948480" y="3753360"/>
                <a:ext cx="199440" cy="658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49" name="圆角矩形 134"/>
              <p:cNvSpPr/>
              <p:nvPr/>
            </p:nvSpPr>
            <p:spPr>
              <a:xfrm rot="5400000">
                <a:off x="4030560" y="3762360"/>
                <a:ext cx="292320" cy="72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50" name="圆角矩形 135"/>
              <p:cNvSpPr/>
              <p:nvPr/>
            </p:nvSpPr>
            <p:spPr>
              <a:xfrm rot="5400000">
                <a:off x="4285080" y="3727800"/>
                <a:ext cx="241560" cy="72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351" name="组合 116"/>
            <p:cNvGrpSpPr/>
            <p:nvPr/>
          </p:nvGrpSpPr>
          <p:grpSpPr>
            <a:xfrm>
              <a:off x="3854880" y="4382640"/>
              <a:ext cx="362160" cy="259200"/>
              <a:chOff x="3854880" y="4382640"/>
              <a:chExt cx="362160" cy="259200"/>
            </a:xfrm>
          </p:grpSpPr>
          <p:sp>
            <p:nvSpPr>
              <p:cNvPr id="1352" name="圆角矩形 122"/>
              <p:cNvSpPr/>
              <p:nvPr/>
            </p:nvSpPr>
            <p:spPr>
              <a:xfrm rot="12242400">
                <a:off x="3845160" y="4503600"/>
                <a:ext cx="381240" cy="342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5480" bIns="15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53" name="圆角矩形 123"/>
              <p:cNvSpPr/>
              <p:nvPr/>
            </p:nvSpPr>
            <p:spPr>
              <a:xfrm rot="17643000">
                <a:off x="4066920" y="4535280"/>
                <a:ext cx="148680" cy="550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54" name="圆角矩形 124"/>
              <p:cNvSpPr/>
              <p:nvPr/>
            </p:nvSpPr>
            <p:spPr>
              <a:xfrm rot="17643000">
                <a:off x="3953880" y="4491720"/>
                <a:ext cx="180000" cy="550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55" name="圆角矩形 125"/>
              <p:cNvSpPr/>
              <p:nvPr/>
            </p:nvSpPr>
            <p:spPr>
              <a:xfrm rot="17643000">
                <a:off x="3844080" y="4448520"/>
                <a:ext cx="180000" cy="550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356" name="组合 117"/>
            <p:cNvGrpSpPr/>
            <p:nvPr/>
          </p:nvGrpSpPr>
          <p:grpSpPr>
            <a:xfrm>
              <a:off x="2930760" y="4317840"/>
              <a:ext cx="300600" cy="327240"/>
              <a:chOff x="2930760" y="4317840"/>
              <a:chExt cx="300600" cy="327240"/>
            </a:xfrm>
          </p:grpSpPr>
          <p:sp>
            <p:nvSpPr>
              <p:cNvPr id="1357" name="圆角矩形 118"/>
              <p:cNvSpPr/>
              <p:nvPr/>
            </p:nvSpPr>
            <p:spPr>
              <a:xfrm rot="14032200">
                <a:off x="2895480" y="4464720"/>
                <a:ext cx="379080" cy="342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5480" bIns="15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58" name="圆角矩形 119"/>
              <p:cNvSpPr/>
              <p:nvPr/>
            </p:nvSpPr>
            <p:spPr>
              <a:xfrm rot="19432200">
                <a:off x="3080880" y="4542840"/>
                <a:ext cx="148680" cy="54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59" name="圆角矩形 120"/>
              <p:cNvSpPr/>
              <p:nvPr/>
            </p:nvSpPr>
            <p:spPr>
              <a:xfrm rot="19432200">
                <a:off x="3002400" y="4457160"/>
                <a:ext cx="180000" cy="54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360" name="圆角矩形 121"/>
              <p:cNvSpPr/>
              <p:nvPr/>
            </p:nvSpPr>
            <p:spPr>
              <a:xfrm rot="19432200">
                <a:off x="2929320" y="4365360"/>
                <a:ext cx="180000" cy="5472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</p:grpSp>
      <p:grpSp>
        <p:nvGrpSpPr>
          <p:cNvPr id="1361" name="组合 161"/>
          <p:cNvGrpSpPr/>
          <p:nvPr/>
        </p:nvGrpSpPr>
        <p:grpSpPr>
          <a:xfrm>
            <a:off x="5343480" y="4852800"/>
            <a:ext cx="1626840" cy="584280"/>
            <a:chOff x="5343480" y="4852800"/>
            <a:chExt cx="1626840" cy="584280"/>
          </a:xfrm>
        </p:grpSpPr>
        <p:cxnSp>
          <p:nvCxnSpPr>
            <p:cNvPr id="1362" name="直接连接符 147"/>
            <p:cNvCxnSpPr/>
            <p:nvPr/>
          </p:nvCxnSpPr>
          <p:spPr>
            <a:xfrm>
              <a:off x="5865480" y="4852800"/>
              <a:ext cx="1105200" cy="360"/>
            </a:xfrm>
            <a:prstGeom prst="straightConnector1">
              <a:avLst/>
            </a:prstGeom>
            <a:ln w="28575">
              <a:solidFill>
                <a:srgbClr val="2e2e2e"/>
              </a:solidFill>
            </a:ln>
          </p:spPr>
        </p:cxnSp>
        <p:cxnSp>
          <p:nvCxnSpPr>
            <p:cNvPr id="1363" name="直接连接符 148"/>
            <p:cNvCxnSpPr/>
            <p:nvPr/>
          </p:nvCxnSpPr>
          <p:spPr>
            <a:xfrm>
              <a:off x="5343480" y="5064480"/>
              <a:ext cx="1627200" cy="360"/>
            </a:xfrm>
            <a:prstGeom prst="straightConnector1">
              <a:avLst/>
            </a:prstGeom>
            <a:ln w="28575">
              <a:solidFill>
                <a:srgbClr val="2e2e2e"/>
              </a:solidFill>
            </a:ln>
          </p:spPr>
        </p:cxnSp>
        <p:cxnSp>
          <p:nvCxnSpPr>
            <p:cNvPr id="1364" name="直接连接符 149"/>
            <p:cNvCxnSpPr/>
            <p:nvPr/>
          </p:nvCxnSpPr>
          <p:spPr>
            <a:xfrm>
              <a:off x="5865480" y="5268960"/>
              <a:ext cx="1105200" cy="360"/>
            </a:xfrm>
            <a:prstGeom prst="straightConnector1">
              <a:avLst/>
            </a:prstGeom>
            <a:ln w="28575">
              <a:solidFill>
                <a:srgbClr val="2e2e2e"/>
              </a:solidFill>
            </a:ln>
          </p:spPr>
        </p:cxnSp>
        <p:cxnSp>
          <p:nvCxnSpPr>
            <p:cNvPr id="1365" name="直接连接符 162"/>
            <p:cNvCxnSpPr/>
            <p:nvPr/>
          </p:nvCxnSpPr>
          <p:spPr>
            <a:xfrm>
              <a:off x="6373440" y="5437080"/>
              <a:ext cx="597240" cy="360"/>
            </a:xfrm>
            <a:prstGeom prst="straightConnector1">
              <a:avLst/>
            </a:prstGeom>
            <a:ln w="28575">
              <a:solidFill>
                <a:srgbClr val="2e2e2e"/>
              </a:solidFill>
            </a:ln>
          </p:spPr>
        </p:cxnSp>
      </p:grpSp>
      <p:grpSp>
        <p:nvGrpSpPr>
          <p:cNvPr id="1366" name="Group 12"/>
          <p:cNvGrpSpPr/>
          <p:nvPr/>
        </p:nvGrpSpPr>
        <p:grpSpPr>
          <a:xfrm>
            <a:off x="9189720" y="6079320"/>
            <a:ext cx="2058120" cy="291600"/>
            <a:chOff x="9189720" y="6079320"/>
            <a:chExt cx="2058120" cy="291600"/>
          </a:xfrm>
        </p:grpSpPr>
        <p:sp>
          <p:nvSpPr>
            <p:cNvPr id="1367" name="Freeform 13"/>
            <p:cNvSpPr/>
            <p:nvPr/>
          </p:nvSpPr>
          <p:spPr>
            <a:xfrm rot="10800000">
              <a:off x="9189720" y="6079320"/>
              <a:ext cx="2058120" cy="164880"/>
            </a:xfrm>
            <a:custGeom>
              <a:avLst/>
              <a:gdLst>
                <a:gd name="textAreaLeft" fmla="*/ 0 w 2058120"/>
                <a:gd name="textAreaRight" fmla="*/ 2058480 w 20581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39" h="148">
                  <a:moveTo>
                    <a:pt x="320" y="148"/>
                  </a:moveTo>
                  <a:cubicBezTo>
                    <a:pt x="496" y="148"/>
                    <a:pt x="639" y="89"/>
                    <a:pt x="639" y="17"/>
                  </a:cubicBezTo>
                  <a:cubicBezTo>
                    <a:pt x="639" y="11"/>
                    <a:pt x="638" y="5"/>
                    <a:pt x="636" y="0"/>
                  </a:cubicBezTo>
                  <a:cubicBezTo>
                    <a:pt x="593" y="58"/>
                    <a:pt x="469" y="99"/>
                    <a:pt x="320" y="99"/>
                  </a:cubicBezTo>
                  <a:cubicBezTo>
                    <a:pt x="170" y="99"/>
                    <a:pt x="46" y="58"/>
                    <a:pt x="3" y="0"/>
                  </a:cubicBezTo>
                  <a:cubicBezTo>
                    <a:pt x="1" y="5"/>
                    <a:pt x="0" y="11"/>
                    <a:pt x="0" y="17"/>
                  </a:cubicBezTo>
                  <a:cubicBezTo>
                    <a:pt x="0" y="89"/>
                    <a:pt x="143" y="148"/>
                    <a:pt x="320" y="1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68" name="Freeform 14"/>
            <p:cNvSpPr/>
            <p:nvPr/>
          </p:nvSpPr>
          <p:spPr>
            <a:xfrm rot="10800000">
              <a:off x="9247680" y="6163920"/>
              <a:ext cx="1938960" cy="207000"/>
            </a:xfrm>
            <a:custGeom>
              <a:avLst/>
              <a:gdLst>
                <a:gd name="textAreaLeft" fmla="*/ 0 w 1938960"/>
                <a:gd name="textAreaRight" fmla="*/ 1939320 w 193896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602" h="186">
                  <a:moveTo>
                    <a:pt x="301" y="186"/>
                  </a:moveTo>
                  <a:cubicBezTo>
                    <a:pt x="463" y="186"/>
                    <a:pt x="578" y="138"/>
                    <a:pt x="602" y="88"/>
                  </a:cubicBezTo>
                  <a:cubicBezTo>
                    <a:pt x="558" y="37"/>
                    <a:pt x="440" y="0"/>
                    <a:pt x="301" y="0"/>
                  </a:cubicBezTo>
                  <a:cubicBezTo>
                    <a:pt x="161" y="0"/>
                    <a:pt x="43" y="37"/>
                    <a:pt x="0" y="88"/>
                  </a:cubicBezTo>
                  <a:cubicBezTo>
                    <a:pt x="23" y="138"/>
                    <a:pt x="138" y="186"/>
                    <a:pt x="301" y="18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1369" name="组合 160"/>
          <p:cNvGrpSpPr/>
          <p:nvPr/>
        </p:nvGrpSpPr>
        <p:grpSpPr>
          <a:xfrm>
            <a:off x="8678520" y="5144040"/>
            <a:ext cx="3265920" cy="1122840"/>
            <a:chOff x="8678520" y="5144040"/>
            <a:chExt cx="3265920" cy="1122840"/>
          </a:xfrm>
        </p:grpSpPr>
        <p:sp>
          <p:nvSpPr>
            <p:cNvPr id="1370" name="矩形 158"/>
            <p:cNvSpPr/>
            <p:nvPr/>
          </p:nvSpPr>
          <p:spPr>
            <a:xfrm rot="42600">
              <a:off x="9230400" y="5658120"/>
              <a:ext cx="149760" cy="58320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accent2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71" name="圆角矩形 159"/>
            <p:cNvSpPr/>
            <p:nvPr/>
          </p:nvSpPr>
          <p:spPr>
            <a:xfrm rot="42600">
              <a:off x="11198520" y="5682600"/>
              <a:ext cx="149760" cy="5832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accent2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72" name="矩形 157"/>
            <p:cNvSpPr/>
            <p:nvPr/>
          </p:nvSpPr>
          <p:spPr>
            <a:xfrm rot="42600">
              <a:off x="8681400" y="5164200"/>
              <a:ext cx="3259800" cy="53172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  <a:scene3d>
              <a:camera prst="orthographicFront"/>
              <a:lightRig rig="threePt" dir="t"/>
            </a:scene3d>
            <a:sp3d prstMaterial="matte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DAN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Text Box 8"/>
          <p:cNvSpPr/>
          <p:nvPr/>
        </p:nvSpPr>
        <p:spPr>
          <a:xfrm>
            <a:off x="0" y="64065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6"/>
          <p:cNvSpPr/>
          <p:nvPr/>
        </p:nvSpPr>
        <p:spPr>
          <a:xfrm>
            <a:off x="6345720" y="1985400"/>
            <a:ext cx="1827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僵尸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组合 51"/>
          <p:cNvGrpSpPr/>
          <p:nvPr/>
        </p:nvGrpSpPr>
        <p:grpSpPr>
          <a:xfrm>
            <a:off x="3305160" y="2020320"/>
            <a:ext cx="2255040" cy="2255040"/>
            <a:chOff x="3305160" y="2020320"/>
            <a:chExt cx="2255040" cy="2255040"/>
          </a:xfrm>
        </p:grpSpPr>
        <p:sp>
          <p:nvSpPr>
            <p:cNvPr id="220" name="椭圆 48"/>
            <p:cNvSpPr/>
            <p:nvPr/>
          </p:nvSpPr>
          <p:spPr>
            <a:xfrm>
              <a:off x="3305160" y="2020320"/>
              <a:ext cx="2255040" cy="225504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221" name="Group 8"/>
            <p:cNvGrpSpPr/>
            <p:nvPr/>
          </p:nvGrpSpPr>
          <p:grpSpPr>
            <a:xfrm>
              <a:off x="3660120" y="2440080"/>
              <a:ext cx="1545120" cy="1415160"/>
              <a:chOff x="3660120" y="2440080"/>
              <a:chExt cx="1545120" cy="1415160"/>
            </a:xfrm>
          </p:grpSpPr>
          <p:sp>
            <p:nvSpPr>
              <p:cNvPr id="222" name="Freeform 9"/>
              <p:cNvSpPr/>
              <p:nvPr/>
            </p:nvSpPr>
            <p:spPr>
              <a:xfrm>
                <a:off x="4446720" y="2440080"/>
                <a:ext cx="758520" cy="1030680"/>
              </a:xfrm>
              <a:custGeom>
                <a:avLst/>
                <a:gdLst>
                  <a:gd name="textAreaLeft" fmla="*/ 0 w 758520"/>
                  <a:gd name="textAreaRight" fmla="*/ 758880 w 758520"/>
                  <a:gd name="textAreaTop" fmla="*/ 0 h 1030680"/>
                  <a:gd name="textAreaBottom" fmla="*/ 1031040 h 1030680"/>
                </a:gdLst>
                <a:ahLst/>
                <a:rect l="textAreaLeft" t="textAreaTop" r="textAreaRight" b="textAreaBottom"/>
                <a:pathLst>
                  <a:path w="341" h="463">
                    <a:moveTo>
                      <a:pt x="60" y="0"/>
                    </a:moveTo>
                    <a:cubicBezTo>
                      <a:pt x="123" y="26"/>
                      <a:pt x="168" y="89"/>
                      <a:pt x="168" y="162"/>
                    </a:cubicBezTo>
                    <a:cubicBezTo>
                      <a:pt x="168" y="201"/>
                      <a:pt x="155" y="238"/>
                      <a:pt x="133" y="267"/>
                    </a:cubicBezTo>
                    <a:cubicBezTo>
                      <a:pt x="171" y="261"/>
                      <a:pt x="211" y="268"/>
                      <a:pt x="246" y="288"/>
                    </a:cubicBezTo>
                    <a:cubicBezTo>
                      <a:pt x="309" y="325"/>
                      <a:pt x="341" y="395"/>
                      <a:pt x="333" y="463"/>
                    </a:cubicBezTo>
                    <a:cubicBezTo>
                      <a:pt x="336" y="406"/>
                      <a:pt x="307" y="349"/>
                      <a:pt x="254" y="318"/>
                    </a:cubicBezTo>
                    <a:cubicBezTo>
                      <a:pt x="179" y="275"/>
                      <a:pt x="84" y="299"/>
                      <a:pt x="42" y="373"/>
                    </a:cubicBezTo>
                    <a:cubicBezTo>
                      <a:pt x="27" y="364"/>
                      <a:pt x="27" y="364"/>
                      <a:pt x="27" y="364"/>
                    </a:cubicBezTo>
                    <a:cubicBezTo>
                      <a:pt x="28" y="361"/>
                      <a:pt x="29" y="357"/>
                      <a:pt x="29" y="352"/>
                    </a:cubicBezTo>
                    <a:cubicBezTo>
                      <a:pt x="29" y="344"/>
                      <a:pt x="26" y="337"/>
                      <a:pt x="21" y="331"/>
                    </a:cubicBezTo>
                    <a:cubicBezTo>
                      <a:pt x="16" y="324"/>
                      <a:pt x="9" y="320"/>
                      <a:pt x="0" y="318"/>
                    </a:cubicBezTo>
                    <a:cubicBezTo>
                      <a:pt x="0" y="297"/>
                      <a:pt x="0" y="297"/>
                      <a:pt x="0" y="297"/>
                    </a:cubicBezTo>
                    <a:cubicBezTo>
                      <a:pt x="82" y="292"/>
                      <a:pt x="146" y="224"/>
                      <a:pt x="146" y="140"/>
                    </a:cubicBezTo>
                    <a:cubicBezTo>
                      <a:pt x="146" y="79"/>
                      <a:pt x="111" y="25"/>
                      <a:pt x="60" y="0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23" name="Freeform 10"/>
              <p:cNvSpPr/>
              <p:nvPr/>
            </p:nvSpPr>
            <p:spPr>
              <a:xfrm>
                <a:off x="3660120" y="2440080"/>
                <a:ext cx="756000" cy="1045800"/>
              </a:xfrm>
              <a:custGeom>
                <a:avLst/>
                <a:gdLst>
                  <a:gd name="textAreaLeft" fmla="*/ 0 w 756000"/>
                  <a:gd name="textAreaRight" fmla="*/ 756360 w 756000"/>
                  <a:gd name="textAreaTop" fmla="*/ 0 h 1045800"/>
                  <a:gd name="textAreaBottom" fmla="*/ 1046160 h 1045800"/>
                </a:gdLst>
                <a:ahLst/>
                <a:rect l="textAreaLeft" t="textAreaTop" r="textAreaRight" b="textAreaBottom"/>
                <a:pathLst>
                  <a:path w="340" h="469">
                    <a:moveTo>
                      <a:pt x="9" y="469"/>
                    </a:moveTo>
                    <a:cubicBezTo>
                      <a:pt x="0" y="401"/>
                      <a:pt x="32" y="331"/>
                      <a:pt x="95" y="295"/>
                    </a:cubicBezTo>
                    <a:cubicBezTo>
                      <a:pt x="131" y="274"/>
                      <a:pt x="172" y="267"/>
                      <a:pt x="210" y="273"/>
                    </a:cubicBezTo>
                    <a:cubicBezTo>
                      <a:pt x="185" y="243"/>
                      <a:pt x="170" y="204"/>
                      <a:pt x="170" y="162"/>
                    </a:cubicBezTo>
                    <a:cubicBezTo>
                      <a:pt x="170" y="89"/>
                      <a:pt x="214" y="26"/>
                      <a:pt x="278" y="0"/>
                    </a:cubicBezTo>
                    <a:cubicBezTo>
                      <a:pt x="227" y="25"/>
                      <a:pt x="191" y="79"/>
                      <a:pt x="191" y="140"/>
                    </a:cubicBezTo>
                    <a:cubicBezTo>
                      <a:pt x="191" y="225"/>
                      <a:pt x="258" y="294"/>
                      <a:pt x="340" y="297"/>
                    </a:cubicBezTo>
                    <a:cubicBezTo>
                      <a:pt x="340" y="318"/>
                      <a:pt x="340" y="318"/>
                      <a:pt x="340" y="318"/>
                    </a:cubicBezTo>
                    <a:cubicBezTo>
                      <a:pt x="331" y="320"/>
                      <a:pt x="322" y="326"/>
                      <a:pt x="317" y="335"/>
                    </a:cubicBezTo>
                    <a:cubicBezTo>
                      <a:pt x="317" y="335"/>
                      <a:pt x="317" y="335"/>
                      <a:pt x="317" y="335"/>
                    </a:cubicBezTo>
                    <a:cubicBezTo>
                      <a:pt x="317" y="335"/>
                      <a:pt x="317" y="335"/>
                      <a:pt x="317" y="335"/>
                    </a:cubicBezTo>
                    <a:cubicBezTo>
                      <a:pt x="314" y="340"/>
                      <a:pt x="312" y="346"/>
                      <a:pt x="312" y="352"/>
                    </a:cubicBezTo>
                    <a:cubicBezTo>
                      <a:pt x="312" y="357"/>
                      <a:pt x="313" y="360"/>
                      <a:pt x="314" y="364"/>
                    </a:cubicBezTo>
                    <a:cubicBezTo>
                      <a:pt x="297" y="374"/>
                      <a:pt x="297" y="374"/>
                      <a:pt x="297" y="374"/>
                    </a:cubicBezTo>
                    <a:cubicBezTo>
                      <a:pt x="253" y="304"/>
                      <a:pt x="160" y="282"/>
                      <a:pt x="87" y="324"/>
                    </a:cubicBezTo>
                    <a:cubicBezTo>
                      <a:pt x="34" y="355"/>
                      <a:pt x="5" y="412"/>
                      <a:pt x="9" y="469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24" name="Freeform 11"/>
              <p:cNvSpPr/>
              <p:nvPr/>
            </p:nvSpPr>
            <p:spPr>
              <a:xfrm>
                <a:off x="3830040" y="3276360"/>
                <a:ext cx="1207800" cy="578880"/>
              </a:xfrm>
              <a:custGeom>
                <a:avLst/>
                <a:gdLst>
                  <a:gd name="textAreaLeft" fmla="*/ 0 w 1207800"/>
                  <a:gd name="textAreaRight" fmla="*/ 1208160 w 1207800"/>
                  <a:gd name="textAreaTop" fmla="*/ 0 h 578880"/>
                  <a:gd name="textAreaBottom" fmla="*/ 579240 h 578880"/>
                </a:gdLst>
                <a:ahLst/>
                <a:rect l="textAreaLeft" t="textAreaTop" r="textAreaRight" b="textAreaBottom"/>
                <a:pathLst>
                  <a:path w="542" h="260">
                    <a:moveTo>
                      <a:pt x="542" y="205"/>
                    </a:moveTo>
                    <a:cubicBezTo>
                      <a:pt x="487" y="247"/>
                      <a:pt x="411" y="254"/>
                      <a:pt x="348" y="218"/>
                    </a:cubicBezTo>
                    <a:cubicBezTo>
                      <a:pt x="312" y="197"/>
                      <a:pt x="286" y="166"/>
                      <a:pt x="272" y="130"/>
                    </a:cubicBezTo>
                    <a:cubicBezTo>
                      <a:pt x="259" y="168"/>
                      <a:pt x="232" y="202"/>
                      <a:pt x="194" y="224"/>
                    </a:cubicBezTo>
                    <a:cubicBezTo>
                      <a:pt x="131" y="260"/>
                      <a:pt x="55" y="253"/>
                      <a:pt x="0" y="211"/>
                    </a:cubicBezTo>
                    <a:cubicBezTo>
                      <a:pt x="48" y="243"/>
                      <a:pt x="112" y="247"/>
                      <a:pt x="165" y="216"/>
                    </a:cubicBezTo>
                    <a:cubicBezTo>
                      <a:pt x="238" y="174"/>
                      <a:pt x="265" y="83"/>
                      <a:pt x="227" y="10"/>
                    </a:cubicBezTo>
                    <a:cubicBezTo>
                      <a:pt x="245" y="0"/>
                      <a:pt x="245" y="0"/>
                      <a:pt x="245" y="0"/>
                    </a:cubicBezTo>
                    <a:cubicBezTo>
                      <a:pt x="250" y="7"/>
                      <a:pt x="259" y="11"/>
                      <a:pt x="268" y="12"/>
                    </a:cubicBezTo>
                    <a:cubicBezTo>
                      <a:pt x="268" y="12"/>
                      <a:pt x="268" y="12"/>
                      <a:pt x="268" y="12"/>
                    </a:cubicBezTo>
                    <a:cubicBezTo>
                      <a:pt x="269" y="12"/>
                      <a:pt x="269" y="12"/>
                      <a:pt x="269" y="12"/>
                    </a:cubicBezTo>
                    <a:cubicBezTo>
                      <a:pt x="269" y="12"/>
                      <a:pt x="269" y="12"/>
                      <a:pt x="269" y="12"/>
                    </a:cubicBezTo>
                    <a:cubicBezTo>
                      <a:pt x="269" y="12"/>
                      <a:pt x="269" y="12"/>
                      <a:pt x="269" y="12"/>
                    </a:cubicBezTo>
                    <a:cubicBezTo>
                      <a:pt x="269" y="12"/>
                      <a:pt x="269" y="12"/>
                      <a:pt x="269" y="12"/>
                    </a:cubicBezTo>
                    <a:cubicBezTo>
                      <a:pt x="269" y="12"/>
                      <a:pt x="269" y="12"/>
                      <a:pt x="269" y="12"/>
                    </a:cubicBezTo>
                    <a:cubicBezTo>
                      <a:pt x="269" y="12"/>
                      <a:pt x="269" y="12"/>
                      <a:pt x="269" y="12"/>
                    </a:cubicBezTo>
                    <a:cubicBezTo>
                      <a:pt x="269" y="12"/>
                      <a:pt x="269" y="12"/>
                      <a:pt x="269" y="12"/>
                    </a:cubicBezTo>
                    <a:cubicBezTo>
                      <a:pt x="269" y="12"/>
                      <a:pt x="269" y="12"/>
                      <a:pt x="269" y="12"/>
                    </a:cubicBezTo>
                    <a:cubicBezTo>
                      <a:pt x="269" y="12"/>
                      <a:pt x="269" y="12"/>
                      <a:pt x="269" y="12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1" y="12"/>
                      <a:pt x="271" y="12"/>
                      <a:pt x="271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72" y="12"/>
                      <a:pt x="272" y="12"/>
                      <a:pt x="272" y="12"/>
                    </a:cubicBezTo>
                    <a:cubicBezTo>
                      <a:pt x="282" y="12"/>
                      <a:pt x="291" y="7"/>
                      <a:pt x="297" y="0"/>
                    </a:cubicBezTo>
                    <a:cubicBezTo>
                      <a:pt x="313" y="9"/>
                      <a:pt x="313" y="9"/>
                      <a:pt x="313" y="9"/>
                    </a:cubicBezTo>
                    <a:cubicBezTo>
                      <a:pt x="279" y="81"/>
                      <a:pt x="306" y="169"/>
                      <a:pt x="377" y="210"/>
                    </a:cubicBezTo>
                    <a:cubicBezTo>
                      <a:pt x="430" y="240"/>
                      <a:pt x="494" y="237"/>
                      <a:pt x="542" y="205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25" name="Freeform 12"/>
              <p:cNvSpPr/>
              <p:nvPr/>
            </p:nvSpPr>
            <p:spPr>
              <a:xfrm>
                <a:off x="4084560" y="3131640"/>
                <a:ext cx="271800" cy="431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122" h="194">
                    <a:moveTo>
                      <a:pt x="26" y="6"/>
                    </a:moveTo>
                    <a:cubicBezTo>
                      <a:pt x="23" y="17"/>
                      <a:pt x="21" y="30"/>
                      <a:pt x="21" y="43"/>
                    </a:cubicBezTo>
                    <a:cubicBezTo>
                      <a:pt x="21" y="101"/>
                      <a:pt x="58" y="150"/>
                      <a:pt x="110" y="169"/>
                    </a:cubicBezTo>
                    <a:cubicBezTo>
                      <a:pt x="114" y="171"/>
                      <a:pt x="118" y="172"/>
                      <a:pt x="122" y="173"/>
                    </a:cubicBezTo>
                    <a:cubicBezTo>
                      <a:pt x="121" y="180"/>
                      <a:pt x="119" y="187"/>
                      <a:pt x="117" y="194"/>
                    </a:cubicBezTo>
                    <a:cubicBezTo>
                      <a:pt x="114" y="193"/>
                      <a:pt x="111" y="192"/>
                      <a:pt x="108" y="191"/>
                    </a:cubicBezTo>
                    <a:cubicBezTo>
                      <a:pt x="45" y="171"/>
                      <a:pt x="0" y="112"/>
                      <a:pt x="0" y="43"/>
                    </a:cubicBezTo>
                    <a:cubicBezTo>
                      <a:pt x="0" y="28"/>
                      <a:pt x="2" y="14"/>
                      <a:pt x="6" y="0"/>
                    </a:cubicBezTo>
                    <a:cubicBezTo>
                      <a:pt x="13" y="1"/>
                      <a:pt x="20" y="3"/>
                      <a:pt x="26" y="6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26" name="Freeform 13"/>
              <p:cNvSpPr/>
              <p:nvPr/>
            </p:nvSpPr>
            <p:spPr>
              <a:xfrm>
                <a:off x="4511520" y="3116880"/>
                <a:ext cx="269280" cy="443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443880"/>
                  <a:gd name="textAreaBottom" fmla="*/ 444240 h 443880"/>
                </a:gdLst>
                <a:ahLst/>
                <a:rect l="textAreaLeft" t="textAreaTop" r="textAreaRight" b="textAreaBottom"/>
                <a:pathLst>
                  <a:path w="121" h="199">
                    <a:moveTo>
                      <a:pt x="113" y="0"/>
                    </a:moveTo>
                    <a:cubicBezTo>
                      <a:pt x="118" y="16"/>
                      <a:pt x="121" y="32"/>
                      <a:pt x="121" y="49"/>
                    </a:cubicBezTo>
                    <a:cubicBezTo>
                      <a:pt x="121" y="107"/>
                      <a:pt x="88" y="158"/>
                      <a:pt x="41" y="185"/>
                    </a:cubicBezTo>
                    <a:cubicBezTo>
                      <a:pt x="30" y="191"/>
                      <a:pt x="18" y="196"/>
                      <a:pt x="6" y="199"/>
                    </a:cubicBezTo>
                    <a:cubicBezTo>
                      <a:pt x="4" y="192"/>
                      <a:pt x="2" y="186"/>
                      <a:pt x="0" y="179"/>
                    </a:cubicBezTo>
                    <a:cubicBezTo>
                      <a:pt x="10" y="176"/>
                      <a:pt x="20" y="172"/>
                      <a:pt x="29" y="167"/>
                    </a:cubicBezTo>
                    <a:cubicBezTo>
                      <a:pt x="71" y="144"/>
                      <a:pt x="100" y="100"/>
                      <a:pt x="100" y="49"/>
                    </a:cubicBezTo>
                    <a:cubicBezTo>
                      <a:pt x="100" y="34"/>
                      <a:pt x="97" y="20"/>
                      <a:pt x="93" y="6"/>
                    </a:cubicBezTo>
                    <a:cubicBezTo>
                      <a:pt x="99" y="4"/>
                      <a:pt x="106" y="2"/>
                      <a:pt x="113" y="0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27" name="Freeform 14"/>
              <p:cNvSpPr/>
              <p:nvPr/>
            </p:nvSpPr>
            <p:spPr>
              <a:xfrm>
                <a:off x="4184280" y="2879640"/>
                <a:ext cx="493920" cy="134280"/>
              </a:xfrm>
              <a:custGeom>
                <a:avLst/>
                <a:gdLst>
                  <a:gd name="textAreaLeft" fmla="*/ 0 w 493920"/>
                  <a:gd name="textAreaRight" fmla="*/ 494280 w 49392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22" h="61">
                    <a:moveTo>
                      <a:pt x="112" y="0"/>
                    </a:moveTo>
                    <a:cubicBezTo>
                      <a:pt x="155" y="0"/>
                      <a:pt x="194" y="17"/>
                      <a:pt x="222" y="45"/>
                    </a:cubicBezTo>
                    <a:cubicBezTo>
                      <a:pt x="217" y="50"/>
                      <a:pt x="212" y="55"/>
                      <a:pt x="207" y="60"/>
                    </a:cubicBezTo>
                    <a:cubicBezTo>
                      <a:pt x="182" y="36"/>
                      <a:pt x="149" y="21"/>
                      <a:pt x="112" y="21"/>
                    </a:cubicBezTo>
                    <a:cubicBezTo>
                      <a:pt x="74" y="21"/>
                      <a:pt x="40" y="36"/>
                      <a:pt x="16" y="61"/>
                    </a:cubicBezTo>
                    <a:cubicBezTo>
                      <a:pt x="13" y="59"/>
                      <a:pt x="11" y="57"/>
                      <a:pt x="9" y="55"/>
                    </a:cubicBezTo>
                    <a:cubicBezTo>
                      <a:pt x="6" y="53"/>
                      <a:pt x="3" y="50"/>
                      <a:pt x="0" y="47"/>
                    </a:cubicBezTo>
                    <a:cubicBezTo>
                      <a:pt x="29" y="18"/>
                      <a:pt x="68" y="0"/>
                      <a:pt x="112" y="0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28" name="Freeform 15"/>
              <p:cNvSpPr/>
              <p:nvPr/>
            </p:nvSpPr>
            <p:spPr>
              <a:xfrm>
                <a:off x="4581360" y="2440080"/>
                <a:ext cx="169560" cy="14688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77" h="66">
                    <a:moveTo>
                      <a:pt x="0" y="0"/>
                    </a:moveTo>
                    <a:cubicBezTo>
                      <a:pt x="29" y="14"/>
                      <a:pt x="53" y="37"/>
                      <a:pt x="68" y="66"/>
                    </a:cubicBezTo>
                    <a:cubicBezTo>
                      <a:pt x="71" y="65"/>
                      <a:pt x="74" y="63"/>
                      <a:pt x="77" y="62"/>
                    </a:cubicBezTo>
                    <a:cubicBezTo>
                      <a:pt x="58" y="35"/>
                      <a:pt x="31" y="13"/>
                      <a:pt x="0" y="0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229" name="Freeform 16"/>
              <p:cNvSpPr/>
              <p:nvPr/>
            </p:nvSpPr>
            <p:spPr>
              <a:xfrm>
                <a:off x="3660120" y="2440080"/>
                <a:ext cx="618840" cy="1045800"/>
              </a:xfrm>
              <a:custGeom>
                <a:avLst/>
                <a:gdLst>
                  <a:gd name="textAreaLeft" fmla="*/ 0 w 618840"/>
                  <a:gd name="textAreaRight" fmla="*/ 619200 w 618840"/>
                  <a:gd name="textAreaTop" fmla="*/ 0 h 1045800"/>
                  <a:gd name="textAreaBottom" fmla="*/ 1046160 h 1045800"/>
                </a:gdLst>
                <a:ahLst/>
                <a:rect l="textAreaLeft" t="textAreaTop" r="textAreaRight" b="textAreaBottom"/>
                <a:pathLst>
                  <a:path w="278" h="469">
                    <a:moveTo>
                      <a:pt x="183" y="271"/>
                    </a:moveTo>
                    <a:cubicBezTo>
                      <a:pt x="153" y="271"/>
                      <a:pt x="123" y="279"/>
                      <a:pt x="95" y="295"/>
                    </a:cubicBezTo>
                    <a:cubicBezTo>
                      <a:pt x="32" y="331"/>
                      <a:pt x="0" y="401"/>
                      <a:pt x="9" y="469"/>
                    </a:cubicBezTo>
                    <a:cubicBezTo>
                      <a:pt x="5" y="412"/>
                      <a:pt x="34" y="355"/>
                      <a:pt x="87" y="324"/>
                    </a:cubicBezTo>
                    <a:cubicBezTo>
                      <a:pt x="112" y="310"/>
                      <a:pt x="139" y="303"/>
                      <a:pt x="166" y="303"/>
                    </a:cubicBezTo>
                    <a:cubicBezTo>
                      <a:pt x="171" y="303"/>
                      <a:pt x="176" y="303"/>
                      <a:pt x="180" y="303"/>
                    </a:cubicBezTo>
                    <a:cubicBezTo>
                      <a:pt x="189" y="293"/>
                      <a:pt x="198" y="283"/>
                      <a:pt x="206" y="273"/>
                    </a:cubicBezTo>
                    <a:cubicBezTo>
                      <a:pt x="199" y="272"/>
                      <a:pt x="191" y="271"/>
                      <a:pt x="183" y="271"/>
                    </a:cubicBezTo>
                    <a:close/>
                    <a:moveTo>
                      <a:pt x="278" y="0"/>
                    </a:moveTo>
                    <a:cubicBezTo>
                      <a:pt x="214" y="26"/>
                      <a:pt x="170" y="89"/>
                      <a:pt x="170" y="162"/>
                    </a:cubicBezTo>
                    <a:cubicBezTo>
                      <a:pt x="170" y="203"/>
                      <a:pt x="184" y="241"/>
                      <a:pt x="208" y="271"/>
                    </a:cubicBezTo>
                    <a:cubicBezTo>
                      <a:pt x="216" y="262"/>
                      <a:pt x="224" y="254"/>
                      <a:pt x="232" y="246"/>
                    </a:cubicBezTo>
                    <a:cubicBezTo>
                      <a:pt x="207" y="218"/>
                      <a:pt x="191" y="181"/>
                      <a:pt x="191" y="140"/>
                    </a:cubicBezTo>
                    <a:cubicBezTo>
                      <a:pt x="191" y="79"/>
                      <a:pt x="227" y="25"/>
                      <a:pt x="278" y="0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2e2e2e"/>
                  </a:solidFill>
                  <a:latin typeface="Segoe UI Light 8"/>
                  <a:ea typeface="微软雅黑 Light"/>
                </a:endParaRPr>
              </a:p>
            </p:txBody>
          </p:sp>
        </p:grpSp>
        <p:sp>
          <p:nvSpPr>
            <p:cNvPr id="230" name="同心圆 39"/>
            <p:cNvSpPr/>
            <p:nvPr/>
          </p:nvSpPr>
          <p:spPr>
            <a:xfrm>
              <a:off x="3355920" y="2071080"/>
              <a:ext cx="2153160" cy="2153160"/>
            </a:xfrm>
            <a:prstGeom prst="donut">
              <a:avLst>
                <a:gd name="adj" fmla="val 4680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231" name="文本框 43"/>
          <p:cNvSpPr/>
          <p:nvPr/>
        </p:nvSpPr>
        <p:spPr>
          <a:xfrm>
            <a:off x="5845680" y="3832560"/>
            <a:ext cx="2799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ere are they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组合 50"/>
          <p:cNvGrpSpPr/>
          <p:nvPr/>
        </p:nvGrpSpPr>
        <p:grpSpPr>
          <a:xfrm>
            <a:off x="3380040" y="1803960"/>
            <a:ext cx="5431680" cy="2670480"/>
            <a:chOff x="3380040" y="1803960"/>
            <a:chExt cx="5431680" cy="2670480"/>
          </a:xfrm>
        </p:grpSpPr>
        <p:cxnSp>
          <p:nvCxnSpPr>
            <p:cNvPr id="233" name="直接连接符 45"/>
            <p:cNvCxnSpPr/>
            <p:nvPr/>
          </p:nvCxnSpPr>
          <p:spPr>
            <a:xfrm>
              <a:off x="3380040" y="1803960"/>
              <a:ext cx="543204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234" name="直接连接符 46"/>
            <p:cNvCxnSpPr/>
            <p:nvPr/>
          </p:nvCxnSpPr>
          <p:spPr>
            <a:xfrm>
              <a:off x="3380040" y="4474440"/>
              <a:ext cx="543204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</p:grpSp>
      <p:sp>
        <p:nvSpPr>
          <p:cNvPr id="235" name="文本框 49"/>
          <p:cNvSpPr/>
          <p:nvPr/>
        </p:nvSpPr>
        <p:spPr>
          <a:xfrm>
            <a:off x="6235920" y="3049560"/>
            <a:ext cx="209340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9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怎么来的</a:t>
            </a:r>
            <a:r>
              <a:rPr b="0" lang="en-US" sz="49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?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直接连接符 53"/>
          <p:cNvCxnSpPr/>
          <p:nvPr/>
        </p:nvCxnSpPr>
        <p:spPr>
          <a:xfrm>
            <a:off x="5695560" y="2184840"/>
            <a:ext cx="360" cy="19904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矩形 1"/>
          <p:cNvSpPr/>
          <p:nvPr/>
        </p:nvSpPr>
        <p:spPr>
          <a:xfrm>
            <a:off x="6526080" y="3908160"/>
            <a:ext cx="47160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它们小脑可能存在的损伤让它们行动迟缓且不协调，这使得</a:t>
            </a:r>
            <a:r>
              <a:rPr b="0" lang="en-US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CDHD-1</a:t>
            </a:r>
            <a:r>
              <a:rPr b="0" lang="zh-CN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型病患不可能进行全力冲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2"/>
          <p:cNvSpPr/>
          <p:nvPr/>
        </p:nvSpPr>
        <p:spPr>
          <a:xfrm>
            <a:off x="6513120" y="2710800"/>
            <a:ext cx="46198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僵尸行动迟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椭圆 22"/>
          <p:cNvSpPr/>
          <p:nvPr/>
        </p:nvSpPr>
        <p:spPr>
          <a:xfrm>
            <a:off x="3795120" y="4872600"/>
            <a:ext cx="678960" cy="678960"/>
          </a:xfrm>
          <a:prstGeom prst="ellipse">
            <a:avLst/>
          </a:prstGeom>
          <a:solidFill>
            <a:srgbClr val="c00000">
              <a:alpha val="4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377" name="闪电形 24"/>
          <p:cNvSpPr/>
          <p:nvPr/>
        </p:nvSpPr>
        <p:spPr>
          <a:xfrm rot="5560800">
            <a:off x="4453200" y="3588480"/>
            <a:ext cx="711360" cy="45900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378" name="Group 4"/>
          <p:cNvGrpSpPr/>
          <p:nvPr/>
        </p:nvGrpSpPr>
        <p:grpSpPr>
          <a:xfrm>
            <a:off x="1483560" y="3000240"/>
            <a:ext cx="3488760" cy="2973960"/>
            <a:chOff x="1483560" y="3000240"/>
            <a:chExt cx="3488760" cy="2973960"/>
          </a:xfrm>
        </p:grpSpPr>
        <p:sp>
          <p:nvSpPr>
            <p:cNvPr id="1379" name="Freeform 5"/>
            <p:cNvSpPr/>
            <p:nvPr/>
          </p:nvSpPr>
          <p:spPr>
            <a:xfrm>
              <a:off x="1483560" y="3000240"/>
              <a:ext cx="2824200" cy="2291040"/>
            </a:xfrm>
            <a:custGeom>
              <a:avLst/>
              <a:gdLst>
                <a:gd name="textAreaLeft" fmla="*/ 0 w 2824200"/>
                <a:gd name="textAreaRight" fmla="*/ 2824560 w 2824200"/>
                <a:gd name="textAreaTop" fmla="*/ 0 h 2291040"/>
                <a:gd name="textAreaBottom" fmla="*/ 2291400 h 2291040"/>
              </a:gdLst>
              <a:ahLst/>
              <a:rect l="textAreaLeft" t="textAreaTop" r="textAreaRight" b="textAreaBottom"/>
              <a:pathLst>
                <a:path w="1059" h="859">
                  <a:moveTo>
                    <a:pt x="299" y="56"/>
                  </a:moveTo>
                  <a:cubicBezTo>
                    <a:pt x="389" y="25"/>
                    <a:pt x="482" y="6"/>
                    <a:pt x="577" y="2"/>
                  </a:cubicBezTo>
                  <a:cubicBezTo>
                    <a:pt x="654" y="1"/>
                    <a:pt x="733" y="0"/>
                    <a:pt x="809" y="17"/>
                  </a:cubicBezTo>
                  <a:cubicBezTo>
                    <a:pt x="882" y="34"/>
                    <a:pt x="953" y="64"/>
                    <a:pt x="1014" y="108"/>
                  </a:cubicBezTo>
                  <a:cubicBezTo>
                    <a:pt x="1030" y="120"/>
                    <a:pt x="1043" y="134"/>
                    <a:pt x="1059" y="145"/>
                  </a:cubicBezTo>
                  <a:cubicBezTo>
                    <a:pt x="1054" y="151"/>
                    <a:pt x="1049" y="157"/>
                    <a:pt x="1043" y="163"/>
                  </a:cubicBezTo>
                  <a:cubicBezTo>
                    <a:pt x="1032" y="153"/>
                    <a:pt x="1023" y="140"/>
                    <a:pt x="1009" y="135"/>
                  </a:cubicBezTo>
                  <a:cubicBezTo>
                    <a:pt x="998" y="130"/>
                    <a:pt x="985" y="137"/>
                    <a:pt x="980" y="147"/>
                  </a:cubicBezTo>
                  <a:cubicBezTo>
                    <a:pt x="973" y="159"/>
                    <a:pt x="976" y="173"/>
                    <a:pt x="975" y="186"/>
                  </a:cubicBezTo>
                  <a:cubicBezTo>
                    <a:pt x="971" y="173"/>
                    <a:pt x="966" y="159"/>
                    <a:pt x="966" y="144"/>
                  </a:cubicBezTo>
                  <a:cubicBezTo>
                    <a:pt x="967" y="132"/>
                    <a:pt x="975" y="121"/>
                    <a:pt x="976" y="108"/>
                  </a:cubicBezTo>
                  <a:cubicBezTo>
                    <a:pt x="972" y="100"/>
                    <a:pt x="963" y="102"/>
                    <a:pt x="956" y="104"/>
                  </a:cubicBezTo>
                  <a:cubicBezTo>
                    <a:pt x="941" y="108"/>
                    <a:pt x="932" y="122"/>
                    <a:pt x="917" y="126"/>
                  </a:cubicBezTo>
                  <a:cubicBezTo>
                    <a:pt x="895" y="125"/>
                    <a:pt x="879" y="109"/>
                    <a:pt x="866" y="93"/>
                  </a:cubicBezTo>
                  <a:cubicBezTo>
                    <a:pt x="881" y="101"/>
                    <a:pt x="896" y="112"/>
                    <a:pt x="913" y="112"/>
                  </a:cubicBezTo>
                  <a:cubicBezTo>
                    <a:pt x="925" y="111"/>
                    <a:pt x="935" y="105"/>
                    <a:pt x="945" y="99"/>
                  </a:cubicBezTo>
                  <a:cubicBezTo>
                    <a:pt x="942" y="88"/>
                    <a:pt x="932" y="80"/>
                    <a:pt x="920" y="78"/>
                  </a:cubicBezTo>
                  <a:cubicBezTo>
                    <a:pt x="889" y="69"/>
                    <a:pt x="852" y="69"/>
                    <a:pt x="824" y="87"/>
                  </a:cubicBezTo>
                  <a:cubicBezTo>
                    <a:pt x="816" y="92"/>
                    <a:pt x="815" y="102"/>
                    <a:pt x="814" y="110"/>
                  </a:cubicBezTo>
                  <a:cubicBezTo>
                    <a:pt x="777" y="112"/>
                    <a:pt x="739" y="125"/>
                    <a:pt x="712" y="152"/>
                  </a:cubicBezTo>
                  <a:cubicBezTo>
                    <a:pt x="706" y="158"/>
                    <a:pt x="698" y="167"/>
                    <a:pt x="702" y="176"/>
                  </a:cubicBezTo>
                  <a:cubicBezTo>
                    <a:pt x="709" y="188"/>
                    <a:pt x="724" y="191"/>
                    <a:pt x="731" y="203"/>
                  </a:cubicBezTo>
                  <a:cubicBezTo>
                    <a:pt x="735" y="211"/>
                    <a:pt x="728" y="218"/>
                    <a:pt x="721" y="222"/>
                  </a:cubicBezTo>
                  <a:cubicBezTo>
                    <a:pt x="698" y="233"/>
                    <a:pt x="670" y="231"/>
                    <a:pt x="646" y="242"/>
                  </a:cubicBezTo>
                  <a:cubicBezTo>
                    <a:pt x="627" y="252"/>
                    <a:pt x="617" y="273"/>
                    <a:pt x="607" y="291"/>
                  </a:cubicBezTo>
                  <a:cubicBezTo>
                    <a:pt x="591" y="322"/>
                    <a:pt x="577" y="357"/>
                    <a:pt x="580" y="393"/>
                  </a:cubicBezTo>
                  <a:cubicBezTo>
                    <a:pt x="580" y="410"/>
                    <a:pt x="590" y="425"/>
                    <a:pt x="603" y="436"/>
                  </a:cubicBezTo>
                  <a:cubicBezTo>
                    <a:pt x="596" y="450"/>
                    <a:pt x="584" y="467"/>
                    <a:pt x="591" y="483"/>
                  </a:cubicBezTo>
                  <a:cubicBezTo>
                    <a:pt x="592" y="484"/>
                    <a:pt x="596" y="486"/>
                    <a:pt x="597" y="487"/>
                  </a:cubicBezTo>
                  <a:cubicBezTo>
                    <a:pt x="618" y="476"/>
                    <a:pt x="636" y="460"/>
                    <a:pt x="657" y="449"/>
                  </a:cubicBezTo>
                  <a:cubicBezTo>
                    <a:pt x="678" y="436"/>
                    <a:pt x="705" y="427"/>
                    <a:pt x="716" y="403"/>
                  </a:cubicBezTo>
                  <a:cubicBezTo>
                    <a:pt x="723" y="382"/>
                    <a:pt x="704" y="362"/>
                    <a:pt x="707" y="341"/>
                  </a:cubicBezTo>
                  <a:cubicBezTo>
                    <a:pt x="708" y="331"/>
                    <a:pt x="715" y="324"/>
                    <a:pt x="720" y="316"/>
                  </a:cubicBezTo>
                  <a:cubicBezTo>
                    <a:pt x="709" y="348"/>
                    <a:pt x="724" y="384"/>
                    <a:pt x="751" y="402"/>
                  </a:cubicBezTo>
                  <a:cubicBezTo>
                    <a:pt x="768" y="412"/>
                    <a:pt x="790" y="411"/>
                    <a:pt x="809" y="410"/>
                  </a:cubicBezTo>
                  <a:cubicBezTo>
                    <a:pt x="837" y="407"/>
                    <a:pt x="858" y="385"/>
                    <a:pt x="868" y="360"/>
                  </a:cubicBezTo>
                  <a:cubicBezTo>
                    <a:pt x="882" y="330"/>
                    <a:pt x="883" y="288"/>
                    <a:pt x="918" y="273"/>
                  </a:cubicBezTo>
                  <a:cubicBezTo>
                    <a:pt x="904" y="289"/>
                    <a:pt x="890" y="307"/>
                    <a:pt x="887" y="329"/>
                  </a:cubicBezTo>
                  <a:cubicBezTo>
                    <a:pt x="885" y="341"/>
                    <a:pt x="887" y="353"/>
                    <a:pt x="884" y="364"/>
                  </a:cubicBezTo>
                  <a:cubicBezTo>
                    <a:pt x="874" y="388"/>
                    <a:pt x="845" y="398"/>
                    <a:pt x="836" y="423"/>
                  </a:cubicBezTo>
                  <a:cubicBezTo>
                    <a:pt x="856" y="435"/>
                    <a:pt x="870" y="458"/>
                    <a:pt x="864" y="481"/>
                  </a:cubicBezTo>
                  <a:cubicBezTo>
                    <a:pt x="860" y="467"/>
                    <a:pt x="854" y="452"/>
                    <a:pt x="841" y="444"/>
                  </a:cubicBezTo>
                  <a:cubicBezTo>
                    <a:pt x="825" y="432"/>
                    <a:pt x="804" y="434"/>
                    <a:pt x="785" y="433"/>
                  </a:cubicBezTo>
                  <a:cubicBezTo>
                    <a:pt x="761" y="431"/>
                    <a:pt x="736" y="428"/>
                    <a:pt x="713" y="439"/>
                  </a:cubicBezTo>
                  <a:cubicBezTo>
                    <a:pt x="664" y="461"/>
                    <a:pt x="625" y="499"/>
                    <a:pt x="582" y="530"/>
                  </a:cubicBezTo>
                  <a:cubicBezTo>
                    <a:pt x="546" y="546"/>
                    <a:pt x="527" y="587"/>
                    <a:pt x="530" y="625"/>
                  </a:cubicBezTo>
                  <a:cubicBezTo>
                    <a:pt x="524" y="642"/>
                    <a:pt x="533" y="661"/>
                    <a:pt x="545" y="673"/>
                  </a:cubicBezTo>
                  <a:cubicBezTo>
                    <a:pt x="561" y="666"/>
                    <a:pt x="570" y="651"/>
                    <a:pt x="576" y="636"/>
                  </a:cubicBezTo>
                  <a:cubicBezTo>
                    <a:pt x="579" y="658"/>
                    <a:pt x="558" y="671"/>
                    <a:pt x="549" y="689"/>
                  </a:cubicBezTo>
                  <a:cubicBezTo>
                    <a:pt x="546" y="710"/>
                    <a:pt x="566" y="725"/>
                    <a:pt x="582" y="733"/>
                  </a:cubicBezTo>
                  <a:cubicBezTo>
                    <a:pt x="565" y="734"/>
                    <a:pt x="555" y="720"/>
                    <a:pt x="544" y="710"/>
                  </a:cubicBezTo>
                  <a:cubicBezTo>
                    <a:pt x="515" y="705"/>
                    <a:pt x="490" y="725"/>
                    <a:pt x="472" y="746"/>
                  </a:cubicBezTo>
                  <a:cubicBezTo>
                    <a:pt x="479" y="724"/>
                    <a:pt x="500" y="709"/>
                    <a:pt x="521" y="701"/>
                  </a:cubicBezTo>
                  <a:cubicBezTo>
                    <a:pt x="529" y="699"/>
                    <a:pt x="536" y="689"/>
                    <a:pt x="532" y="681"/>
                  </a:cubicBezTo>
                  <a:cubicBezTo>
                    <a:pt x="525" y="664"/>
                    <a:pt x="512" y="648"/>
                    <a:pt x="514" y="629"/>
                  </a:cubicBezTo>
                  <a:cubicBezTo>
                    <a:pt x="512" y="605"/>
                    <a:pt x="509" y="582"/>
                    <a:pt x="511" y="558"/>
                  </a:cubicBezTo>
                  <a:cubicBezTo>
                    <a:pt x="512" y="558"/>
                    <a:pt x="512" y="558"/>
                    <a:pt x="512" y="558"/>
                  </a:cubicBezTo>
                  <a:cubicBezTo>
                    <a:pt x="511" y="574"/>
                    <a:pt x="511" y="590"/>
                    <a:pt x="513" y="606"/>
                  </a:cubicBezTo>
                  <a:cubicBezTo>
                    <a:pt x="518" y="585"/>
                    <a:pt x="531" y="565"/>
                    <a:pt x="527" y="543"/>
                  </a:cubicBezTo>
                  <a:cubicBezTo>
                    <a:pt x="523" y="537"/>
                    <a:pt x="515" y="539"/>
                    <a:pt x="509" y="537"/>
                  </a:cubicBezTo>
                  <a:cubicBezTo>
                    <a:pt x="497" y="534"/>
                    <a:pt x="485" y="534"/>
                    <a:pt x="474" y="534"/>
                  </a:cubicBezTo>
                  <a:cubicBezTo>
                    <a:pt x="474" y="526"/>
                    <a:pt x="474" y="519"/>
                    <a:pt x="474" y="511"/>
                  </a:cubicBezTo>
                  <a:cubicBezTo>
                    <a:pt x="486" y="512"/>
                    <a:pt x="498" y="515"/>
                    <a:pt x="510" y="515"/>
                  </a:cubicBezTo>
                  <a:cubicBezTo>
                    <a:pt x="516" y="515"/>
                    <a:pt x="518" y="505"/>
                    <a:pt x="523" y="513"/>
                  </a:cubicBezTo>
                  <a:cubicBezTo>
                    <a:pt x="524" y="510"/>
                    <a:pt x="525" y="504"/>
                    <a:pt x="525" y="500"/>
                  </a:cubicBezTo>
                  <a:cubicBezTo>
                    <a:pt x="526" y="504"/>
                    <a:pt x="526" y="512"/>
                    <a:pt x="527" y="515"/>
                  </a:cubicBezTo>
                  <a:cubicBezTo>
                    <a:pt x="557" y="510"/>
                    <a:pt x="578" y="481"/>
                    <a:pt x="585" y="453"/>
                  </a:cubicBezTo>
                  <a:cubicBezTo>
                    <a:pt x="592" y="431"/>
                    <a:pt x="569" y="417"/>
                    <a:pt x="566" y="397"/>
                  </a:cubicBezTo>
                  <a:cubicBezTo>
                    <a:pt x="557" y="365"/>
                    <a:pt x="568" y="333"/>
                    <a:pt x="574" y="301"/>
                  </a:cubicBezTo>
                  <a:cubicBezTo>
                    <a:pt x="582" y="262"/>
                    <a:pt x="613" y="230"/>
                    <a:pt x="652" y="222"/>
                  </a:cubicBezTo>
                  <a:cubicBezTo>
                    <a:pt x="664" y="219"/>
                    <a:pt x="680" y="220"/>
                    <a:pt x="687" y="207"/>
                  </a:cubicBezTo>
                  <a:cubicBezTo>
                    <a:pt x="695" y="185"/>
                    <a:pt x="683" y="158"/>
                    <a:pt x="661" y="149"/>
                  </a:cubicBezTo>
                  <a:cubicBezTo>
                    <a:pt x="670" y="151"/>
                    <a:pt x="679" y="154"/>
                    <a:pt x="687" y="159"/>
                  </a:cubicBezTo>
                  <a:cubicBezTo>
                    <a:pt x="702" y="135"/>
                    <a:pt x="727" y="120"/>
                    <a:pt x="753" y="112"/>
                  </a:cubicBezTo>
                  <a:cubicBezTo>
                    <a:pt x="773" y="105"/>
                    <a:pt x="796" y="103"/>
                    <a:pt x="812" y="87"/>
                  </a:cubicBezTo>
                  <a:cubicBezTo>
                    <a:pt x="818" y="80"/>
                    <a:pt x="810" y="72"/>
                    <a:pt x="806" y="66"/>
                  </a:cubicBezTo>
                  <a:cubicBezTo>
                    <a:pt x="821" y="71"/>
                    <a:pt x="840" y="73"/>
                    <a:pt x="852" y="60"/>
                  </a:cubicBezTo>
                  <a:cubicBezTo>
                    <a:pt x="845" y="47"/>
                    <a:pt x="831" y="41"/>
                    <a:pt x="817" y="40"/>
                  </a:cubicBezTo>
                  <a:cubicBezTo>
                    <a:pt x="785" y="36"/>
                    <a:pt x="756" y="59"/>
                    <a:pt x="724" y="53"/>
                  </a:cubicBezTo>
                  <a:cubicBezTo>
                    <a:pt x="730" y="49"/>
                    <a:pt x="736" y="46"/>
                    <a:pt x="740" y="41"/>
                  </a:cubicBezTo>
                  <a:cubicBezTo>
                    <a:pt x="744" y="33"/>
                    <a:pt x="733" y="29"/>
                    <a:pt x="728" y="26"/>
                  </a:cubicBezTo>
                  <a:cubicBezTo>
                    <a:pt x="701" y="15"/>
                    <a:pt x="670" y="14"/>
                    <a:pt x="641" y="14"/>
                  </a:cubicBezTo>
                  <a:cubicBezTo>
                    <a:pt x="618" y="15"/>
                    <a:pt x="590" y="15"/>
                    <a:pt x="574" y="34"/>
                  </a:cubicBezTo>
                  <a:cubicBezTo>
                    <a:pt x="566" y="44"/>
                    <a:pt x="570" y="56"/>
                    <a:pt x="572" y="67"/>
                  </a:cubicBezTo>
                  <a:cubicBezTo>
                    <a:pt x="563" y="59"/>
                    <a:pt x="560" y="48"/>
                    <a:pt x="557" y="37"/>
                  </a:cubicBezTo>
                  <a:cubicBezTo>
                    <a:pt x="556" y="32"/>
                    <a:pt x="549" y="30"/>
                    <a:pt x="545" y="31"/>
                  </a:cubicBezTo>
                  <a:cubicBezTo>
                    <a:pt x="524" y="32"/>
                    <a:pt x="504" y="45"/>
                    <a:pt x="496" y="65"/>
                  </a:cubicBezTo>
                  <a:cubicBezTo>
                    <a:pt x="472" y="65"/>
                    <a:pt x="448" y="70"/>
                    <a:pt x="428" y="83"/>
                  </a:cubicBezTo>
                  <a:cubicBezTo>
                    <a:pt x="439" y="68"/>
                    <a:pt x="458" y="58"/>
                    <a:pt x="477" y="57"/>
                  </a:cubicBezTo>
                  <a:cubicBezTo>
                    <a:pt x="488" y="57"/>
                    <a:pt x="502" y="48"/>
                    <a:pt x="501" y="35"/>
                  </a:cubicBezTo>
                  <a:cubicBezTo>
                    <a:pt x="458" y="34"/>
                    <a:pt x="416" y="47"/>
                    <a:pt x="375" y="59"/>
                  </a:cubicBezTo>
                  <a:cubicBezTo>
                    <a:pt x="355" y="62"/>
                    <a:pt x="336" y="75"/>
                    <a:pt x="333" y="96"/>
                  </a:cubicBezTo>
                  <a:cubicBezTo>
                    <a:pt x="350" y="100"/>
                    <a:pt x="368" y="95"/>
                    <a:pt x="383" y="102"/>
                  </a:cubicBezTo>
                  <a:cubicBezTo>
                    <a:pt x="397" y="107"/>
                    <a:pt x="406" y="121"/>
                    <a:pt x="405" y="135"/>
                  </a:cubicBezTo>
                  <a:cubicBezTo>
                    <a:pt x="414" y="125"/>
                    <a:pt x="425" y="116"/>
                    <a:pt x="438" y="112"/>
                  </a:cubicBezTo>
                  <a:cubicBezTo>
                    <a:pt x="420" y="127"/>
                    <a:pt x="403" y="145"/>
                    <a:pt x="400" y="169"/>
                  </a:cubicBezTo>
                  <a:cubicBezTo>
                    <a:pt x="397" y="184"/>
                    <a:pt x="412" y="192"/>
                    <a:pt x="421" y="200"/>
                  </a:cubicBezTo>
                  <a:cubicBezTo>
                    <a:pt x="434" y="209"/>
                    <a:pt x="442" y="222"/>
                    <a:pt x="453" y="232"/>
                  </a:cubicBezTo>
                  <a:cubicBezTo>
                    <a:pt x="468" y="240"/>
                    <a:pt x="491" y="234"/>
                    <a:pt x="496" y="217"/>
                  </a:cubicBezTo>
                  <a:cubicBezTo>
                    <a:pt x="498" y="198"/>
                    <a:pt x="488" y="180"/>
                    <a:pt x="494" y="161"/>
                  </a:cubicBezTo>
                  <a:cubicBezTo>
                    <a:pt x="501" y="138"/>
                    <a:pt x="511" y="113"/>
                    <a:pt x="503" y="89"/>
                  </a:cubicBezTo>
                  <a:cubicBezTo>
                    <a:pt x="511" y="102"/>
                    <a:pt x="518" y="117"/>
                    <a:pt x="515" y="132"/>
                  </a:cubicBezTo>
                  <a:cubicBezTo>
                    <a:pt x="512" y="155"/>
                    <a:pt x="499" y="178"/>
                    <a:pt x="510" y="200"/>
                  </a:cubicBezTo>
                  <a:cubicBezTo>
                    <a:pt x="514" y="209"/>
                    <a:pt x="525" y="210"/>
                    <a:pt x="533" y="210"/>
                  </a:cubicBezTo>
                  <a:cubicBezTo>
                    <a:pt x="556" y="208"/>
                    <a:pt x="575" y="193"/>
                    <a:pt x="589" y="177"/>
                  </a:cubicBezTo>
                  <a:cubicBezTo>
                    <a:pt x="577" y="209"/>
                    <a:pt x="542" y="221"/>
                    <a:pt x="514" y="234"/>
                  </a:cubicBezTo>
                  <a:cubicBezTo>
                    <a:pt x="499" y="241"/>
                    <a:pt x="481" y="248"/>
                    <a:pt x="475" y="265"/>
                  </a:cubicBezTo>
                  <a:cubicBezTo>
                    <a:pt x="479" y="281"/>
                    <a:pt x="485" y="297"/>
                    <a:pt x="482" y="313"/>
                  </a:cubicBezTo>
                  <a:cubicBezTo>
                    <a:pt x="480" y="329"/>
                    <a:pt x="467" y="345"/>
                    <a:pt x="477" y="360"/>
                  </a:cubicBezTo>
                  <a:cubicBezTo>
                    <a:pt x="490" y="380"/>
                    <a:pt x="502" y="402"/>
                    <a:pt x="500" y="426"/>
                  </a:cubicBezTo>
                  <a:cubicBezTo>
                    <a:pt x="493" y="411"/>
                    <a:pt x="489" y="394"/>
                    <a:pt x="478" y="381"/>
                  </a:cubicBezTo>
                  <a:cubicBezTo>
                    <a:pt x="473" y="375"/>
                    <a:pt x="466" y="373"/>
                    <a:pt x="462" y="367"/>
                  </a:cubicBezTo>
                  <a:cubicBezTo>
                    <a:pt x="454" y="356"/>
                    <a:pt x="443" y="347"/>
                    <a:pt x="434" y="337"/>
                  </a:cubicBezTo>
                  <a:cubicBezTo>
                    <a:pt x="449" y="331"/>
                    <a:pt x="465" y="319"/>
                    <a:pt x="468" y="301"/>
                  </a:cubicBezTo>
                  <a:cubicBezTo>
                    <a:pt x="471" y="284"/>
                    <a:pt x="456" y="271"/>
                    <a:pt x="449" y="257"/>
                  </a:cubicBezTo>
                  <a:cubicBezTo>
                    <a:pt x="439" y="238"/>
                    <a:pt x="429" y="219"/>
                    <a:pt x="411" y="206"/>
                  </a:cubicBezTo>
                  <a:cubicBezTo>
                    <a:pt x="403" y="200"/>
                    <a:pt x="392" y="197"/>
                    <a:pt x="383" y="191"/>
                  </a:cubicBezTo>
                  <a:cubicBezTo>
                    <a:pt x="382" y="171"/>
                    <a:pt x="398" y="153"/>
                    <a:pt x="394" y="133"/>
                  </a:cubicBezTo>
                  <a:cubicBezTo>
                    <a:pt x="394" y="118"/>
                    <a:pt x="379" y="109"/>
                    <a:pt x="365" y="109"/>
                  </a:cubicBezTo>
                  <a:cubicBezTo>
                    <a:pt x="343" y="109"/>
                    <a:pt x="316" y="114"/>
                    <a:pt x="302" y="134"/>
                  </a:cubicBezTo>
                  <a:cubicBezTo>
                    <a:pt x="295" y="142"/>
                    <a:pt x="296" y="155"/>
                    <a:pt x="305" y="161"/>
                  </a:cubicBezTo>
                  <a:cubicBezTo>
                    <a:pt x="316" y="164"/>
                    <a:pt x="327" y="164"/>
                    <a:pt x="337" y="169"/>
                  </a:cubicBezTo>
                  <a:cubicBezTo>
                    <a:pt x="302" y="170"/>
                    <a:pt x="264" y="186"/>
                    <a:pt x="249" y="221"/>
                  </a:cubicBezTo>
                  <a:cubicBezTo>
                    <a:pt x="243" y="235"/>
                    <a:pt x="236" y="254"/>
                    <a:pt x="249" y="266"/>
                  </a:cubicBezTo>
                  <a:cubicBezTo>
                    <a:pt x="268" y="263"/>
                    <a:pt x="287" y="256"/>
                    <a:pt x="307" y="259"/>
                  </a:cubicBezTo>
                  <a:cubicBezTo>
                    <a:pt x="324" y="261"/>
                    <a:pt x="337" y="275"/>
                    <a:pt x="353" y="278"/>
                  </a:cubicBezTo>
                  <a:cubicBezTo>
                    <a:pt x="365" y="281"/>
                    <a:pt x="378" y="280"/>
                    <a:pt x="390" y="280"/>
                  </a:cubicBezTo>
                  <a:cubicBezTo>
                    <a:pt x="378" y="285"/>
                    <a:pt x="366" y="289"/>
                    <a:pt x="353" y="287"/>
                  </a:cubicBezTo>
                  <a:cubicBezTo>
                    <a:pt x="331" y="285"/>
                    <a:pt x="311" y="270"/>
                    <a:pt x="289" y="273"/>
                  </a:cubicBezTo>
                  <a:cubicBezTo>
                    <a:pt x="274" y="274"/>
                    <a:pt x="256" y="280"/>
                    <a:pt x="252" y="296"/>
                  </a:cubicBezTo>
                  <a:cubicBezTo>
                    <a:pt x="246" y="316"/>
                    <a:pt x="247" y="342"/>
                    <a:pt x="227" y="354"/>
                  </a:cubicBezTo>
                  <a:cubicBezTo>
                    <a:pt x="228" y="339"/>
                    <a:pt x="234" y="325"/>
                    <a:pt x="237" y="310"/>
                  </a:cubicBezTo>
                  <a:cubicBezTo>
                    <a:pt x="228" y="312"/>
                    <a:pt x="216" y="313"/>
                    <a:pt x="208" y="306"/>
                  </a:cubicBezTo>
                  <a:cubicBezTo>
                    <a:pt x="197" y="295"/>
                    <a:pt x="187" y="278"/>
                    <a:pt x="169" y="280"/>
                  </a:cubicBezTo>
                  <a:cubicBezTo>
                    <a:pt x="154" y="284"/>
                    <a:pt x="142" y="293"/>
                    <a:pt x="130" y="302"/>
                  </a:cubicBezTo>
                  <a:cubicBezTo>
                    <a:pt x="112" y="316"/>
                    <a:pt x="92" y="329"/>
                    <a:pt x="81" y="349"/>
                  </a:cubicBezTo>
                  <a:cubicBezTo>
                    <a:pt x="67" y="374"/>
                    <a:pt x="57" y="401"/>
                    <a:pt x="55" y="429"/>
                  </a:cubicBezTo>
                  <a:cubicBezTo>
                    <a:pt x="53" y="438"/>
                    <a:pt x="56" y="446"/>
                    <a:pt x="59" y="453"/>
                  </a:cubicBezTo>
                  <a:cubicBezTo>
                    <a:pt x="43" y="457"/>
                    <a:pt x="43" y="476"/>
                    <a:pt x="42" y="489"/>
                  </a:cubicBezTo>
                  <a:cubicBezTo>
                    <a:pt x="43" y="514"/>
                    <a:pt x="44" y="541"/>
                    <a:pt x="54" y="564"/>
                  </a:cubicBezTo>
                  <a:cubicBezTo>
                    <a:pt x="66" y="586"/>
                    <a:pt x="98" y="592"/>
                    <a:pt x="118" y="578"/>
                  </a:cubicBezTo>
                  <a:cubicBezTo>
                    <a:pt x="127" y="567"/>
                    <a:pt x="130" y="553"/>
                    <a:pt x="136" y="541"/>
                  </a:cubicBezTo>
                  <a:cubicBezTo>
                    <a:pt x="135" y="553"/>
                    <a:pt x="134" y="566"/>
                    <a:pt x="141" y="576"/>
                  </a:cubicBezTo>
                  <a:cubicBezTo>
                    <a:pt x="153" y="595"/>
                    <a:pt x="175" y="603"/>
                    <a:pt x="194" y="612"/>
                  </a:cubicBezTo>
                  <a:cubicBezTo>
                    <a:pt x="215" y="619"/>
                    <a:pt x="235" y="630"/>
                    <a:pt x="257" y="631"/>
                  </a:cubicBezTo>
                  <a:cubicBezTo>
                    <a:pt x="277" y="632"/>
                    <a:pt x="299" y="628"/>
                    <a:pt x="312" y="612"/>
                  </a:cubicBezTo>
                  <a:cubicBezTo>
                    <a:pt x="327" y="593"/>
                    <a:pt x="346" y="579"/>
                    <a:pt x="362" y="562"/>
                  </a:cubicBezTo>
                  <a:cubicBezTo>
                    <a:pt x="369" y="572"/>
                    <a:pt x="366" y="585"/>
                    <a:pt x="368" y="597"/>
                  </a:cubicBezTo>
                  <a:cubicBezTo>
                    <a:pt x="351" y="615"/>
                    <a:pt x="328" y="626"/>
                    <a:pt x="316" y="648"/>
                  </a:cubicBezTo>
                  <a:cubicBezTo>
                    <a:pt x="296" y="677"/>
                    <a:pt x="302" y="715"/>
                    <a:pt x="316" y="746"/>
                  </a:cubicBezTo>
                  <a:cubicBezTo>
                    <a:pt x="333" y="773"/>
                    <a:pt x="360" y="793"/>
                    <a:pt x="389" y="805"/>
                  </a:cubicBezTo>
                  <a:cubicBezTo>
                    <a:pt x="378" y="806"/>
                    <a:pt x="367" y="806"/>
                    <a:pt x="357" y="802"/>
                  </a:cubicBezTo>
                  <a:cubicBezTo>
                    <a:pt x="349" y="800"/>
                    <a:pt x="341" y="793"/>
                    <a:pt x="334" y="799"/>
                  </a:cubicBezTo>
                  <a:cubicBezTo>
                    <a:pt x="331" y="819"/>
                    <a:pt x="352" y="830"/>
                    <a:pt x="365" y="841"/>
                  </a:cubicBezTo>
                  <a:cubicBezTo>
                    <a:pt x="358" y="847"/>
                    <a:pt x="352" y="854"/>
                    <a:pt x="345" y="859"/>
                  </a:cubicBezTo>
                  <a:cubicBezTo>
                    <a:pt x="325" y="846"/>
                    <a:pt x="307" y="829"/>
                    <a:pt x="299" y="805"/>
                  </a:cubicBezTo>
                  <a:cubicBezTo>
                    <a:pt x="289" y="779"/>
                    <a:pt x="301" y="750"/>
                    <a:pt x="291" y="723"/>
                  </a:cubicBezTo>
                  <a:cubicBezTo>
                    <a:pt x="288" y="713"/>
                    <a:pt x="284" y="704"/>
                    <a:pt x="281" y="694"/>
                  </a:cubicBezTo>
                  <a:cubicBezTo>
                    <a:pt x="238" y="697"/>
                    <a:pt x="194" y="690"/>
                    <a:pt x="153" y="677"/>
                  </a:cubicBezTo>
                  <a:cubicBezTo>
                    <a:pt x="131" y="670"/>
                    <a:pt x="108" y="662"/>
                    <a:pt x="89" y="647"/>
                  </a:cubicBezTo>
                  <a:cubicBezTo>
                    <a:pt x="59" y="623"/>
                    <a:pt x="36" y="589"/>
                    <a:pt x="26" y="552"/>
                  </a:cubicBezTo>
                  <a:cubicBezTo>
                    <a:pt x="14" y="499"/>
                    <a:pt x="0" y="444"/>
                    <a:pt x="11" y="389"/>
                  </a:cubicBezTo>
                  <a:cubicBezTo>
                    <a:pt x="20" y="353"/>
                    <a:pt x="29" y="316"/>
                    <a:pt x="46" y="282"/>
                  </a:cubicBezTo>
                  <a:cubicBezTo>
                    <a:pt x="60" y="253"/>
                    <a:pt x="83" y="228"/>
                    <a:pt x="101" y="201"/>
                  </a:cubicBezTo>
                  <a:cubicBezTo>
                    <a:pt x="130" y="167"/>
                    <a:pt x="163" y="138"/>
                    <a:pt x="200" y="113"/>
                  </a:cubicBezTo>
                  <a:cubicBezTo>
                    <a:pt x="231" y="91"/>
                    <a:pt x="263" y="68"/>
                    <a:pt x="299" y="56"/>
                  </a:cubicBezTo>
                  <a:close/>
                  <a:moveTo>
                    <a:pt x="263" y="99"/>
                  </a:moveTo>
                  <a:cubicBezTo>
                    <a:pt x="234" y="124"/>
                    <a:pt x="200" y="140"/>
                    <a:pt x="169" y="161"/>
                  </a:cubicBezTo>
                  <a:cubicBezTo>
                    <a:pt x="153" y="172"/>
                    <a:pt x="133" y="182"/>
                    <a:pt x="126" y="201"/>
                  </a:cubicBezTo>
                  <a:cubicBezTo>
                    <a:pt x="123" y="209"/>
                    <a:pt x="135" y="211"/>
                    <a:pt x="140" y="207"/>
                  </a:cubicBezTo>
                  <a:cubicBezTo>
                    <a:pt x="154" y="200"/>
                    <a:pt x="164" y="186"/>
                    <a:pt x="177" y="177"/>
                  </a:cubicBezTo>
                  <a:cubicBezTo>
                    <a:pt x="191" y="167"/>
                    <a:pt x="209" y="167"/>
                    <a:pt x="225" y="167"/>
                  </a:cubicBezTo>
                  <a:cubicBezTo>
                    <a:pt x="199" y="177"/>
                    <a:pt x="165" y="185"/>
                    <a:pt x="155" y="216"/>
                  </a:cubicBezTo>
                  <a:cubicBezTo>
                    <a:pt x="128" y="219"/>
                    <a:pt x="108" y="239"/>
                    <a:pt x="92" y="259"/>
                  </a:cubicBezTo>
                  <a:cubicBezTo>
                    <a:pt x="80" y="274"/>
                    <a:pt x="66" y="290"/>
                    <a:pt x="61" y="309"/>
                  </a:cubicBezTo>
                  <a:cubicBezTo>
                    <a:pt x="60" y="321"/>
                    <a:pt x="72" y="326"/>
                    <a:pt x="81" y="327"/>
                  </a:cubicBezTo>
                  <a:cubicBezTo>
                    <a:pt x="105" y="298"/>
                    <a:pt x="138" y="272"/>
                    <a:pt x="177" y="271"/>
                  </a:cubicBezTo>
                  <a:cubicBezTo>
                    <a:pt x="194" y="271"/>
                    <a:pt x="203" y="288"/>
                    <a:pt x="217" y="294"/>
                  </a:cubicBezTo>
                  <a:cubicBezTo>
                    <a:pt x="229" y="294"/>
                    <a:pt x="240" y="281"/>
                    <a:pt x="236" y="269"/>
                  </a:cubicBezTo>
                  <a:cubicBezTo>
                    <a:pt x="232" y="254"/>
                    <a:pt x="219" y="243"/>
                    <a:pt x="204" y="239"/>
                  </a:cubicBezTo>
                  <a:cubicBezTo>
                    <a:pt x="186" y="235"/>
                    <a:pt x="166" y="238"/>
                    <a:pt x="148" y="242"/>
                  </a:cubicBezTo>
                  <a:cubicBezTo>
                    <a:pt x="168" y="228"/>
                    <a:pt x="194" y="231"/>
                    <a:pt x="217" y="225"/>
                  </a:cubicBezTo>
                  <a:cubicBezTo>
                    <a:pt x="233" y="222"/>
                    <a:pt x="239" y="205"/>
                    <a:pt x="251" y="195"/>
                  </a:cubicBezTo>
                  <a:cubicBezTo>
                    <a:pt x="263" y="183"/>
                    <a:pt x="282" y="176"/>
                    <a:pt x="285" y="158"/>
                  </a:cubicBezTo>
                  <a:cubicBezTo>
                    <a:pt x="288" y="144"/>
                    <a:pt x="281" y="131"/>
                    <a:pt x="270" y="124"/>
                  </a:cubicBezTo>
                  <a:cubicBezTo>
                    <a:pt x="286" y="126"/>
                    <a:pt x="303" y="122"/>
                    <a:pt x="312" y="108"/>
                  </a:cubicBezTo>
                  <a:cubicBezTo>
                    <a:pt x="319" y="96"/>
                    <a:pt x="331" y="84"/>
                    <a:pt x="328" y="69"/>
                  </a:cubicBezTo>
                  <a:cubicBezTo>
                    <a:pt x="304" y="74"/>
                    <a:pt x="281" y="83"/>
                    <a:pt x="263" y="99"/>
                  </a:cubicBezTo>
                  <a:close/>
                  <a:moveTo>
                    <a:pt x="49" y="332"/>
                  </a:moveTo>
                  <a:cubicBezTo>
                    <a:pt x="38" y="359"/>
                    <a:pt x="27" y="387"/>
                    <a:pt x="26" y="417"/>
                  </a:cubicBezTo>
                  <a:cubicBezTo>
                    <a:pt x="24" y="439"/>
                    <a:pt x="28" y="460"/>
                    <a:pt x="32" y="482"/>
                  </a:cubicBezTo>
                  <a:cubicBezTo>
                    <a:pt x="37" y="456"/>
                    <a:pt x="38" y="430"/>
                    <a:pt x="45" y="405"/>
                  </a:cubicBezTo>
                  <a:cubicBezTo>
                    <a:pt x="51" y="385"/>
                    <a:pt x="59" y="366"/>
                    <a:pt x="61" y="345"/>
                  </a:cubicBezTo>
                  <a:cubicBezTo>
                    <a:pt x="62" y="337"/>
                    <a:pt x="55" y="334"/>
                    <a:pt x="49" y="332"/>
                  </a:cubicBezTo>
                  <a:close/>
                  <a:moveTo>
                    <a:pt x="67" y="595"/>
                  </a:moveTo>
                  <a:cubicBezTo>
                    <a:pt x="77" y="607"/>
                    <a:pt x="85" y="621"/>
                    <a:pt x="99" y="628"/>
                  </a:cubicBezTo>
                  <a:cubicBezTo>
                    <a:pt x="123" y="635"/>
                    <a:pt x="149" y="631"/>
                    <a:pt x="174" y="626"/>
                  </a:cubicBezTo>
                  <a:cubicBezTo>
                    <a:pt x="163" y="613"/>
                    <a:pt x="149" y="603"/>
                    <a:pt x="132" y="598"/>
                  </a:cubicBezTo>
                  <a:cubicBezTo>
                    <a:pt x="111" y="595"/>
                    <a:pt x="89" y="600"/>
                    <a:pt x="67" y="595"/>
                  </a:cubicBezTo>
                  <a:close/>
                  <a:moveTo>
                    <a:pt x="159" y="648"/>
                  </a:moveTo>
                  <a:cubicBezTo>
                    <a:pt x="185" y="664"/>
                    <a:pt x="216" y="668"/>
                    <a:pt x="245" y="665"/>
                  </a:cubicBezTo>
                  <a:cubicBezTo>
                    <a:pt x="256" y="664"/>
                    <a:pt x="271" y="662"/>
                    <a:pt x="275" y="649"/>
                  </a:cubicBezTo>
                  <a:cubicBezTo>
                    <a:pt x="266" y="646"/>
                    <a:pt x="258" y="643"/>
                    <a:pt x="249" y="644"/>
                  </a:cubicBezTo>
                  <a:cubicBezTo>
                    <a:pt x="226" y="646"/>
                    <a:pt x="202" y="642"/>
                    <a:pt x="181" y="630"/>
                  </a:cubicBezTo>
                  <a:cubicBezTo>
                    <a:pt x="172" y="634"/>
                    <a:pt x="163" y="639"/>
                    <a:pt x="159" y="6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0" name="Freeform 6"/>
            <p:cNvSpPr/>
            <p:nvPr/>
          </p:nvSpPr>
          <p:spPr>
            <a:xfrm>
              <a:off x="2954160" y="3098880"/>
              <a:ext cx="380160" cy="275040"/>
            </a:xfrm>
            <a:custGeom>
              <a:avLst/>
              <a:gdLst>
                <a:gd name="textAreaLeft" fmla="*/ 0 w 380160"/>
                <a:gd name="textAreaRight" fmla="*/ 380520 w 38016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43" h="103">
                  <a:moveTo>
                    <a:pt x="51" y="67"/>
                  </a:moveTo>
                  <a:cubicBezTo>
                    <a:pt x="41" y="43"/>
                    <a:pt x="52" y="15"/>
                    <a:pt x="73" y="0"/>
                  </a:cubicBezTo>
                  <a:cubicBezTo>
                    <a:pt x="65" y="12"/>
                    <a:pt x="56" y="25"/>
                    <a:pt x="58" y="40"/>
                  </a:cubicBezTo>
                  <a:cubicBezTo>
                    <a:pt x="59" y="52"/>
                    <a:pt x="69" y="66"/>
                    <a:pt x="82" y="63"/>
                  </a:cubicBezTo>
                  <a:cubicBezTo>
                    <a:pt x="93" y="62"/>
                    <a:pt x="97" y="51"/>
                    <a:pt x="103" y="44"/>
                  </a:cubicBezTo>
                  <a:cubicBezTo>
                    <a:pt x="112" y="31"/>
                    <a:pt x="127" y="23"/>
                    <a:pt x="143" y="24"/>
                  </a:cubicBezTo>
                  <a:cubicBezTo>
                    <a:pt x="129" y="30"/>
                    <a:pt x="116" y="40"/>
                    <a:pt x="107" y="53"/>
                  </a:cubicBezTo>
                  <a:cubicBezTo>
                    <a:pt x="97" y="68"/>
                    <a:pt x="84" y="83"/>
                    <a:pt x="84" y="103"/>
                  </a:cubicBezTo>
                  <a:cubicBezTo>
                    <a:pt x="74" y="89"/>
                    <a:pt x="59" y="79"/>
                    <a:pt x="42" y="77"/>
                  </a:cubicBezTo>
                  <a:cubicBezTo>
                    <a:pt x="28" y="75"/>
                    <a:pt x="14" y="80"/>
                    <a:pt x="0" y="82"/>
                  </a:cubicBezTo>
                  <a:cubicBezTo>
                    <a:pt x="14" y="70"/>
                    <a:pt x="33" y="66"/>
                    <a:pt x="51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1" name="Freeform 7"/>
            <p:cNvSpPr/>
            <p:nvPr/>
          </p:nvSpPr>
          <p:spPr>
            <a:xfrm>
              <a:off x="2414880" y="3404520"/>
              <a:ext cx="2557440" cy="2569680"/>
            </a:xfrm>
            <a:custGeom>
              <a:avLst/>
              <a:gdLst>
                <a:gd name="textAreaLeft" fmla="*/ 0 w 2557440"/>
                <a:gd name="textAreaRight" fmla="*/ 2557800 w 255744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959" h="964">
                  <a:moveTo>
                    <a:pt x="698" y="16"/>
                  </a:moveTo>
                  <a:cubicBezTo>
                    <a:pt x="704" y="10"/>
                    <a:pt x="710" y="5"/>
                    <a:pt x="716" y="0"/>
                  </a:cubicBezTo>
                  <a:cubicBezTo>
                    <a:pt x="732" y="17"/>
                    <a:pt x="752" y="32"/>
                    <a:pt x="768" y="50"/>
                  </a:cubicBezTo>
                  <a:cubicBezTo>
                    <a:pt x="812" y="96"/>
                    <a:pt x="848" y="148"/>
                    <a:pt x="880" y="202"/>
                  </a:cubicBezTo>
                  <a:cubicBezTo>
                    <a:pt x="927" y="277"/>
                    <a:pt x="955" y="365"/>
                    <a:pt x="959" y="454"/>
                  </a:cubicBezTo>
                  <a:cubicBezTo>
                    <a:pt x="957" y="518"/>
                    <a:pt x="942" y="584"/>
                    <a:pt x="900" y="634"/>
                  </a:cubicBezTo>
                  <a:cubicBezTo>
                    <a:pt x="888" y="647"/>
                    <a:pt x="879" y="663"/>
                    <a:pt x="862" y="671"/>
                  </a:cubicBezTo>
                  <a:cubicBezTo>
                    <a:pt x="837" y="684"/>
                    <a:pt x="808" y="685"/>
                    <a:pt x="781" y="686"/>
                  </a:cubicBezTo>
                  <a:cubicBezTo>
                    <a:pt x="773" y="713"/>
                    <a:pt x="766" y="740"/>
                    <a:pt x="747" y="761"/>
                  </a:cubicBezTo>
                  <a:cubicBezTo>
                    <a:pt x="726" y="787"/>
                    <a:pt x="693" y="798"/>
                    <a:pt x="661" y="804"/>
                  </a:cubicBezTo>
                  <a:cubicBezTo>
                    <a:pt x="614" y="812"/>
                    <a:pt x="566" y="810"/>
                    <a:pt x="520" y="819"/>
                  </a:cubicBezTo>
                  <a:cubicBezTo>
                    <a:pt x="521" y="857"/>
                    <a:pt x="553" y="883"/>
                    <a:pt x="564" y="918"/>
                  </a:cubicBezTo>
                  <a:cubicBezTo>
                    <a:pt x="569" y="931"/>
                    <a:pt x="556" y="942"/>
                    <a:pt x="546" y="948"/>
                  </a:cubicBezTo>
                  <a:cubicBezTo>
                    <a:pt x="529" y="958"/>
                    <a:pt x="509" y="964"/>
                    <a:pt x="490" y="961"/>
                  </a:cubicBezTo>
                  <a:cubicBezTo>
                    <a:pt x="453" y="905"/>
                    <a:pt x="409" y="854"/>
                    <a:pt x="360" y="809"/>
                  </a:cubicBezTo>
                  <a:cubicBezTo>
                    <a:pt x="350" y="800"/>
                    <a:pt x="341" y="789"/>
                    <a:pt x="327" y="785"/>
                  </a:cubicBezTo>
                  <a:cubicBezTo>
                    <a:pt x="301" y="777"/>
                    <a:pt x="281" y="755"/>
                    <a:pt x="267" y="732"/>
                  </a:cubicBezTo>
                  <a:cubicBezTo>
                    <a:pt x="213" y="751"/>
                    <a:pt x="154" y="756"/>
                    <a:pt x="98" y="744"/>
                  </a:cubicBezTo>
                  <a:cubicBezTo>
                    <a:pt x="64" y="736"/>
                    <a:pt x="32" y="724"/>
                    <a:pt x="0" y="710"/>
                  </a:cubicBezTo>
                  <a:cubicBezTo>
                    <a:pt x="7" y="704"/>
                    <a:pt x="13" y="697"/>
                    <a:pt x="20" y="691"/>
                  </a:cubicBezTo>
                  <a:cubicBezTo>
                    <a:pt x="27" y="696"/>
                    <a:pt x="34" y="701"/>
                    <a:pt x="42" y="704"/>
                  </a:cubicBezTo>
                  <a:cubicBezTo>
                    <a:pt x="106" y="727"/>
                    <a:pt x="178" y="729"/>
                    <a:pt x="244" y="712"/>
                  </a:cubicBezTo>
                  <a:cubicBezTo>
                    <a:pt x="287" y="701"/>
                    <a:pt x="329" y="684"/>
                    <a:pt x="369" y="665"/>
                  </a:cubicBezTo>
                  <a:cubicBezTo>
                    <a:pt x="346" y="653"/>
                    <a:pt x="326" y="633"/>
                    <a:pt x="317" y="609"/>
                  </a:cubicBezTo>
                  <a:cubicBezTo>
                    <a:pt x="294" y="612"/>
                    <a:pt x="264" y="614"/>
                    <a:pt x="249" y="635"/>
                  </a:cubicBezTo>
                  <a:cubicBezTo>
                    <a:pt x="245" y="649"/>
                    <a:pt x="247" y="665"/>
                    <a:pt x="241" y="679"/>
                  </a:cubicBezTo>
                  <a:cubicBezTo>
                    <a:pt x="237" y="690"/>
                    <a:pt x="229" y="699"/>
                    <a:pt x="220" y="706"/>
                  </a:cubicBezTo>
                  <a:cubicBezTo>
                    <a:pt x="227" y="691"/>
                    <a:pt x="239" y="675"/>
                    <a:pt x="234" y="657"/>
                  </a:cubicBezTo>
                  <a:cubicBezTo>
                    <a:pt x="233" y="646"/>
                    <a:pt x="223" y="637"/>
                    <a:pt x="212" y="637"/>
                  </a:cubicBezTo>
                  <a:cubicBezTo>
                    <a:pt x="197" y="635"/>
                    <a:pt x="184" y="640"/>
                    <a:pt x="171" y="646"/>
                  </a:cubicBezTo>
                  <a:cubicBezTo>
                    <a:pt x="180" y="636"/>
                    <a:pt x="191" y="628"/>
                    <a:pt x="203" y="625"/>
                  </a:cubicBezTo>
                  <a:cubicBezTo>
                    <a:pt x="230" y="618"/>
                    <a:pt x="259" y="615"/>
                    <a:pt x="282" y="600"/>
                  </a:cubicBezTo>
                  <a:cubicBezTo>
                    <a:pt x="293" y="594"/>
                    <a:pt x="290" y="580"/>
                    <a:pt x="292" y="570"/>
                  </a:cubicBezTo>
                  <a:cubicBezTo>
                    <a:pt x="292" y="556"/>
                    <a:pt x="298" y="543"/>
                    <a:pt x="308" y="532"/>
                  </a:cubicBezTo>
                  <a:cubicBezTo>
                    <a:pt x="303" y="547"/>
                    <a:pt x="295" y="563"/>
                    <a:pt x="304" y="578"/>
                  </a:cubicBezTo>
                  <a:cubicBezTo>
                    <a:pt x="316" y="599"/>
                    <a:pt x="346" y="601"/>
                    <a:pt x="367" y="592"/>
                  </a:cubicBezTo>
                  <a:cubicBezTo>
                    <a:pt x="377" y="582"/>
                    <a:pt x="379" y="565"/>
                    <a:pt x="392" y="557"/>
                  </a:cubicBezTo>
                  <a:cubicBezTo>
                    <a:pt x="389" y="568"/>
                    <a:pt x="382" y="583"/>
                    <a:pt x="393" y="593"/>
                  </a:cubicBezTo>
                  <a:cubicBezTo>
                    <a:pt x="407" y="602"/>
                    <a:pt x="425" y="602"/>
                    <a:pt x="440" y="597"/>
                  </a:cubicBezTo>
                  <a:cubicBezTo>
                    <a:pt x="456" y="593"/>
                    <a:pt x="471" y="582"/>
                    <a:pt x="488" y="587"/>
                  </a:cubicBezTo>
                  <a:cubicBezTo>
                    <a:pt x="509" y="594"/>
                    <a:pt x="525" y="610"/>
                    <a:pt x="546" y="616"/>
                  </a:cubicBezTo>
                  <a:cubicBezTo>
                    <a:pt x="579" y="625"/>
                    <a:pt x="614" y="625"/>
                    <a:pt x="648" y="622"/>
                  </a:cubicBezTo>
                  <a:cubicBezTo>
                    <a:pt x="672" y="622"/>
                    <a:pt x="694" y="605"/>
                    <a:pt x="706" y="584"/>
                  </a:cubicBezTo>
                  <a:cubicBezTo>
                    <a:pt x="721" y="557"/>
                    <a:pt x="714" y="524"/>
                    <a:pt x="706" y="495"/>
                  </a:cubicBezTo>
                  <a:cubicBezTo>
                    <a:pt x="702" y="479"/>
                    <a:pt x="684" y="485"/>
                    <a:pt x="672" y="486"/>
                  </a:cubicBezTo>
                  <a:cubicBezTo>
                    <a:pt x="639" y="492"/>
                    <a:pt x="611" y="469"/>
                    <a:pt x="580" y="464"/>
                  </a:cubicBezTo>
                  <a:cubicBezTo>
                    <a:pt x="558" y="466"/>
                    <a:pt x="541" y="481"/>
                    <a:pt x="520" y="486"/>
                  </a:cubicBezTo>
                  <a:cubicBezTo>
                    <a:pt x="508" y="490"/>
                    <a:pt x="495" y="492"/>
                    <a:pt x="482" y="490"/>
                  </a:cubicBezTo>
                  <a:cubicBezTo>
                    <a:pt x="499" y="480"/>
                    <a:pt x="520" y="479"/>
                    <a:pt x="536" y="467"/>
                  </a:cubicBezTo>
                  <a:cubicBezTo>
                    <a:pt x="559" y="457"/>
                    <a:pt x="576" y="432"/>
                    <a:pt x="571" y="406"/>
                  </a:cubicBezTo>
                  <a:cubicBezTo>
                    <a:pt x="557" y="406"/>
                    <a:pt x="545" y="411"/>
                    <a:pt x="532" y="415"/>
                  </a:cubicBezTo>
                  <a:cubicBezTo>
                    <a:pt x="529" y="414"/>
                    <a:pt x="522" y="412"/>
                    <a:pt x="519" y="411"/>
                  </a:cubicBezTo>
                  <a:cubicBezTo>
                    <a:pt x="545" y="398"/>
                    <a:pt x="573" y="384"/>
                    <a:pt x="591" y="360"/>
                  </a:cubicBezTo>
                  <a:cubicBezTo>
                    <a:pt x="604" y="343"/>
                    <a:pt x="613" y="323"/>
                    <a:pt x="622" y="303"/>
                  </a:cubicBezTo>
                  <a:cubicBezTo>
                    <a:pt x="646" y="253"/>
                    <a:pt x="652" y="197"/>
                    <a:pt x="656" y="142"/>
                  </a:cubicBezTo>
                  <a:cubicBezTo>
                    <a:pt x="658" y="116"/>
                    <a:pt x="651" y="88"/>
                    <a:pt x="635" y="67"/>
                  </a:cubicBezTo>
                  <a:cubicBezTo>
                    <a:pt x="629" y="58"/>
                    <a:pt x="618" y="56"/>
                    <a:pt x="607" y="55"/>
                  </a:cubicBezTo>
                  <a:cubicBezTo>
                    <a:pt x="623" y="51"/>
                    <a:pt x="640" y="54"/>
                    <a:pt x="651" y="66"/>
                  </a:cubicBezTo>
                  <a:cubicBezTo>
                    <a:pt x="658" y="73"/>
                    <a:pt x="664" y="88"/>
                    <a:pt x="676" y="83"/>
                  </a:cubicBezTo>
                  <a:cubicBezTo>
                    <a:pt x="691" y="78"/>
                    <a:pt x="708" y="82"/>
                    <a:pt x="723" y="77"/>
                  </a:cubicBezTo>
                  <a:cubicBezTo>
                    <a:pt x="730" y="75"/>
                    <a:pt x="734" y="69"/>
                    <a:pt x="734" y="62"/>
                  </a:cubicBezTo>
                  <a:cubicBezTo>
                    <a:pt x="732" y="41"/>
                    <a:pt x="710" y="31"/>
                    <a:pt x="698" y="16"/>
                  </a:cubicBezTo>
                  <a:close/>
                  <a:moveTo>
                    <a:pt x="673" y="105"/>
                  </a:moveTo>
                  <a:cubicBezTo>
                    <a:pt x="671" y="126"/>
                    <a:pt x="675" y="146"/>
                    <a:pt x="670" y="167"/>
                  </a:cubicBezTo>
                  <a:cubicBezTo>
                    <a:pt x="663" y="199"/>
                    <a:pt x="658" y="233"/>
                    <a:pt x="657" y="266"/>
                  </a:cubicBezTo>
                  <a:cubicBezTo>
                    <a:pt x="658" y="299"/>
                    <a:pt x="678" y="330"/>
                    <a:pt x="705" y="349"/>
                  </a:cubicBezTo>
                  <a:cubicBezTo>
                    <a:pt x="711" y="352"/>
                    <a:pt x="714" y="358"/>
                    <a:pt x="714" y="365"/>
                  </a:cubicBezTo>
                  <a:cubicBezTo>
                    <a:pt x="692" y="358"/>
                    <a:pt x="672" y="342"/>
                    <a:pt x="660" y="322"/>
                  </a:cubicBezTo>
                  <a:cubicBezTo>
                    <a:pt x="656" y="316"/>
                    <a:pt x="650" y="310"/>
                    <a:pt x="644" y="307"/>
                  </a:cubicBezTo>
                  <a:cubicBezTo>
                    <a:pt x="630" y="320"/>
                    <a:pt x="627" y="339"/>
                    <a:pt x="617" y="355"/>
                  </a:cubicBezTo>
                  <a:cubicBezTo>
                    <a:pt x="605" y="378"/>
                    <a:pt x="580" y="395"/>
                    <a:pt x="578" y="423"/>
                  </a:cubicBezTo>
                  <a:cubicBezTo>
                    <a:pt x="574" y="435"/>
                    <a:pt x="578" y="448"/>
                    <a:pt x="590" y="455"/>
                  </a:cubicBezTo>
                  <a:cubicBezTo>
                    <a:pt x="590" y="448"/>
                    <a:pt x="590" y="441"/>
                    <a:pt x="590" y="434"/>
                  </a:cubicBezTo>
                  <a:cubicBezTo>
                    <a:pt x="590" y="440"/>
                    <a:pt x="590" y="446"/>
                    <a:pt x="591" y="451"/>
                  </a:cubicBezTo>
                  <a:cubicBezTo>
                    <a:pt x="612" y="461"/>
                    <a:pt x="634" y="469"/>
                    <a:pt x="656" y="473"/>
                  </a:cubicBezTo>
                  <a:cubicBezTo>
                    <a:pt x="675" y="475"/>
                    <a:pt x="694" y="470"/>
                    <a:pt x="712" y="475"/>
                  </a:cubicBezTo>
                  <a:cubicBezTo>
                    <a:pt x="715" y="481"/>
                    <a:pt x="713" y="488"/>
                    <a:pt x="717" y="494"/>
                  </a:cubicBezTo>
                  <a:cubicBezTo>
                    <a:pt x="718" y="506"/>
                    <a:pt x="718" y="520"/>
                    <a:pt x="723" y="532"/>
                  </a:cubicBezTo>
                  <a:cubicBezTo>
                    <a:pt x="735" y="550"/>
                    <a:pt x="760" y="553"/>
                    <a:pt x="780" y="550"/>
                  </a:cubicBezTo>
                  <a:cubicBezTo>
                    <a:pt x="809" y="548"/>
                    <a:pt x="834" y="529"/>
                    <a:pt x="851" y="506"/>
                  </a:cubicBezTo>
                  <a:cubicBezTo>
                    <a:pt x="843" y="522"/>
                    <a:pt x="833" y="538"/>
                    <a:pt x="818" y="548"/>
                  </a:cubicBezTo>
                  <a:cubicBezTo>
                    <a:pt x="791" y="566"/>
                    <a:pt x="756" y="571"/>
                    <a:pt x="726" y="558"/>
                  </a:cubicBezTo>
                  <a:cubicBezTo>
                    <a:pt x="726" y="576"/>
                    <a:pt x="715" y="590"/>
                    <a:pt x="708" y="606"/>
                  </a:cubicBezTo>
                  <a:cubicBezTo>
                    <a:pt x="703" y="620"/>
                    <a:pt x="707" y="639"/>
                    <a:pt x="722" y="644"/>
                  </a:cubicBezTo>
                  <a:cubicBezTo>
                    <a:pt x="757" y="662"/>
                    <a:pt x="799" y="667"/>
                    <a:pt x="836" y="655"/>
                  </a:cubicBezTo>
                  <a:cubicBezTo>
                    <a:pt x="856" y="649"/>
                    <a:pt x="873" y="636"/>
                    <a:pt x="885" y="620"/>
                  </a:cubicBezTo>
                  <a:cubicBezTo>
                    <a:pt x="890" y="613"/>
                    <a:pt x="893" y="602"/>
                    <a:pt x="885" y="597"/>
                  </a:cubicBezTo>
                  <a:cubicBezTo>
                    <a:pt x="874" y="588"/>
                    <a:pt x="860" y="596"/>
                    <a:pt x="849" y="600"/>
                  </a:cubicBezTo>
                  <a:cubicBezTo>
                    <a:pt x="842" y="604"/>
                    <a:pt x="831" y="604"/>
                    <a:pt x="828" y="613"/>
                  </a:cubicBezTo>
                  <a:cubicBezTo>
                    <a:pt x="820" y="630"/>
                    <a:pt x="801" y="637"/>
                    <a:pt x="784" y="641"/>
                  </a:cubicBezTo>
                  <a:cubicBezTo>
                    <a:pt x="796" y="632"/>
                    <a:pt x="810" y="624"/>
                    <a:pt x="816" y="610"/>
                  </a:cubicBezTo>
                  <a:cubicBezTo>
                    <a:pt x="804" y="606"/>
                    <a:pt x="793" y="601"/>
                    <a:pt x="785" y="592"/>
                  </a:cubicBezTo>
                  <a:cubicBezTo>
                    <a:pt x="809" y="604"/>
                    <a:pt x="840" y="602"/>
                    <a:pt x="859" y="581"/>
                  </a:cubicBezTo>
                  <a:cubicBezTo>
                    <a:pt x="880" y="593"/>
                    <a:pt x="915" y="581"/>
                    <a:pt x="917" y="554"/>
                  </a:cubicBezTo>
                  <a:cubicBezTo>
                    <a:pt x="918" y="532"/>
                    <a:pt x="900" y="515"/>
                    <a:pt x="884" y="503"/>
                  </a:cubicBezTo>
                  <a:cubicBezTo>
                    <a:pt x="900" y="506"/>
                    <a:pt x="913" y="516"/>
                    <a:pt x="925" y="527"/>
                  </a:cubicBezTo>
                  <a:cubicBezTo>
                    <a:pt x="927" y="523"/>
                    <a:pt x="933" y="520"/>
                    <a:pt x="932" y="514"/>
                  </a:cubicBezTo>
                  <a:cubicBezTo>
                    <a:pt x="934" y="494"/>
                    <a:pt x="937" y="471"/>
                    <a:pt x="925" y="454"/>
                  </a:cubicBezTo>
                  <a:cubicBezTo>
                    <a:pt x="916" y="439"/>
                    <a:pt x="901" y="432"/>
                    <a:pt x="886" y="426"/>
                  </a:cubicBezTo>
                  <a:cubicBezTo>
                    <a:pt x="886" y="448"/>
                    <a:pt x="882" y="471"/>
                    <a:pt x="865" y="486"/>
                  </a:cubicBezTo>
                  <a:cubicBezTo>
                    <a:pt x="876" y="464"/>
                    <a:pt x="882" y="433"/>
                    <a:pt x="861" y="414"/>
                  </a:cubicBezTo>
                  <a:cubicBezTo>
                    <a:pt x="871" y="396"/>
                    <a:pt x="882" y="375"/>
                    <a:pt x="875" y="354"/>
                  </a:cubicBezTo>
                  <a:cubicBezTo>
                    <a:pt x="873" y="343"/>
                    <a:pt x="863" y="336"/>
                    <a:pt x="853" y="330"/>
                  </a:cubicBezTo>
                  <a:cubicBezTo>
                    <a:pt x="863" y="322"/>
                    <a:pt x="873" y="313"/>
                    <a:pt x="879" y="301"/>
                  </a:cubicBezTo>
                  <a:cubicBezTo>
                    <a:pt x="893" y="277"/>
                    <a:pt x="891" y="243"/>
                    <a:pt x="871" y="222"/>
                  </a:cubicBezTo>
                  <a:cubicBezTo>
                    <a:pt x="858" y="209"/>
                    <a:pt x="836" y="208"/>
                    <a:pt x="822" y="221"/>
                  </a:cubicBezTo>
                  <a:cubicBezTo>
                    <a:pt x="804" y="237"/>
                    <a:pt x="795" y="263"/>
                    <a:pt x="772" y="274"/>
                  </a:cubicBezTo>
                  <a:cubicBezTo>
                    <a:pt x="754" y="280"/>
                    <a:pt x="732" y="270"/>
                    <a:pt x="726" y="252"/>
                  </a:cubicBezTo>
                  <a:cubicBezTo>
                    <a:pt x="720" y="231"/>
                    <a:pt x="724" y="209"/>
                    <a:pt x="719" y="188"/>
                  </a:cubicBezTo>
                  <a:cubicBezTo>
                    <a:pt x="716" y="178"/>
                    <a:pt x="709" y="170"/>
                    <a:pt x="704" y="162"/>
                  </a:cubicBezTo>
                  <a:cubicBezTo>
                    <a:pt x="720" y="171"/>
                    <a:pt x="730" y="188"/>
                    <a:pt x="731" y="207"/>
                  </a:cubicBezTo>
                  <a:cubicBezTo>
                    <a:pt x="746" y="206"/>
                    <a:pt x="760" y="196"/>
                    <a:pt x="764" y="182"/>
                  </a:cubicBezTo>
                  <a:cubicBezTo>
                    <a:pt x="769" y="167"/>
                    <a:pt x="763" y="152"/>
                    <a:pt x="758" y="139"/>
                  </a:cubicBezTo>
                  <a:cubicBezTo>
                    <a:pt x="773" y="157"/>
                    <a:pt x="783" y="193"/>
                    <a:pt x="757" y="207"/>
                  </a:cubicBezTo>
                  <a:cubicBezTo>
                    <a:pt x="745" y="212"/>
                    <a:pt x="733" y="224"/>
                    <a:pt x="738" y="238"/>
                  </a:cubicBezTo>
                  <a:cubicBezTo>
                    <a:pt x="744" y="258"/>
                    <a:pt x="771" y="261"/>
                    <a:pt x="785" y="247"/>
                  </a:cubicBezTo>
                  <a:cubicBezTo>
                    <a:pt x="800" y="235"/>
                    <a:pt x="795" y="212"/>
                    <a:pt x="808" y="198"/>
                  </a:cubicBezTo>
                  <a:cubicBezTo>
                    <a:pt x="819" y="191"/>
                    <a:pt x="832" y="195"/>
                    <a:pt x="844" y="194"/>
                  </a:cubicBezTo>
                  <a:cubicBezTo>
                    <a:pt x="847" y="190"/>
                    <a:pt x="849" y="186"/>
                    <a:pt x="851" y="182"/>
                  </a:cubicBezTo>
                  <a:cubicBezTo>
                    <a:pt x="828" y="152"/>
                    <a:pt x="806" y="117"/>
                    <a:pt x="768" y="105"/>
                  </a:cubicBezTo>
                  <a:cubicBezTo>
                    <a:pt x="750" y="101"/>
                    <a:pt x="731" y="97"/>
                    <a:pt x="713" y="91"/>
                  </a:cubicBezTo>
                  <a:cubicBezTo>
                    <a:pt x="698" y="86"/>
                    <a:pt x="677" y="88"/>
                    <a:pt x="673" y="105"/>
                  </a:cubicBezTo>
                  <a:close/>
                  <a:moveTo>
                    <a:pt x="872" y="327"/>
                  </a:moveTo>
                  <a:cubicBezTo>
                    <a:pt x="892" y="350"/>
                    <a:pt x="890" y="384"/>
                    <a:pt x="874" y="408"/>
                  </a:cubicBezTo>
                  <a:cubicBezTo>
                    <a:pt x="888" y="412"/>
                    <a:pt x="901" y="420"/>
                    <a:pt x="916" y="423"/>
                  </a:cubicBezTo>
                  <a:cubicBezTo>
                    <a:pt x="926" y="425"/>
                    <a:pt x="927" y="413"/>
                    <a:pt x="927" y="406"/>
                  </a:cubicBezTo>
                  <a:cubicBezTo>
                    <a:pt x="924" y="379"/>
                    <a:pt x="918" y="352"/>
                    <a:pt x="912" y="326"/>
                  </a:cubicBezTo>
                  <a:cubicBezTo>
                    <a:pt x="910" y="317"/>
                    <a:pt x="905" y="309"/>
                    <a:pt x="897" y="305"/>
                  </a:cubicBezTo>
                  <a:cubicBezTo>
                    <a:pt x="888" y="311"/>
                    <a:pt x="880" y="320"/>
                    <a:pt x="872" y="327"/>
                  </a:cubicBezTo>
                  <a:close/>
                  <a:moveTo>
                    <a:pt x="428" y="615"/>
                  </a:moveTo>
                  <a:cubicBezTo>
                    <a:pt x="403" y="618"/>
                    <a:pt x="381" y="599"/>
                    <a:pt x="356" y="605"/>
                  </a:cubicBezTo>
                  <a:cubicBezTo>
                    <a:pt x="349" y="606"/>
                    <a:pt x="346" y="616"/>
                    <a:pt x="348" y="623"/>
                  </a:cubicBezTo>
                  <a:cubicBezTo>
                    <a:pt x="352" y="638"/>
                    <a:pt x="365" y="649"/>
                    <a:pt x="378" y="656"/>
                  </a:cubicBezTo>
                  <a:cubicBezTo>
                    <a:pt x="383" y="660"/>
                    <a:pt x="390" y="657"/>
                    <a:pt x="396" y="657"/>
                  </a:cubicBezTo>
                  <a:cubicBezTo>
                    <a:pt x="420" y="652"/>
                    <a:pt x="444" y="656"/>
                    <a:pt x="468" y="653"/>
                  </a:cubicBezTo>
                  <a:cubicBezTo>
                    <a:pt x="489" y="650"/>
                    <a:pt x="512" y="646"/>
                    <a:pt x="527" y="630"/>
                  </a:cubicBezTo>
                  <a:cubicBezTo>
                    <a:pt x="521" y="618"/>
                    <a:pt x="508" y="612"/>
                    <a:pt x="498" y="604"/>
                  </a:cubicBezTo>
                  <a:cubicBezTo>
                    <a:pt x="493" y="600"/>
                    <a:pt x="487" y="594"/>
                    <a:pt x="480" y="595"/>
                  </a:cubicBezTo>
                  <a:cubicBezTo>
                    <a:pt x="461" y="598"/>
                    <a:pt x="447" y="614"/>
                    <a:pt x="428" y="615"/>
                  </a:cubicBezTo>
                  <a:close/>
                  <a:moveTo>
                    <a:pt x="580" y="659"/>
                  </a:moveTo>
                  <a:cubicBezTo>
                    <a:pt x="639" y="663"/>
                    <a:pt x="704" y="669"/>
                    <a:pt x="754" y="705"/>
                  </a:cubicBezTo>
                  <a:cubicBezTo>
                    <a:pt x="755" y="698"/>
                    <a:pt x="757" y="690"/>
                    <a:pt x="758" y="683"/>
                  </a:cubicBezTo>
                  <a:cubicBezTo>
                    <a:pt x="740" y="677"/>
                    <a:pt x="724" y="668"/>
                    <a:pt x="706" y="664"/>
                  </a:cubicBezTo>
                  <a:cubicBezTo>
                    <a:pt x="688" y="659"/>
                    <a:pt x="670" y="655"/>
                    <a:pt x="652" y="652"/>
                  </a:cubicBezTo>
                  <a:cubicBezTo>
                    <a:pt x="628" y="648"/>
                    <a:pt x="603" y="652"/>
                    <a:pt x="580" y="659"/>
                  </a:cubicBezTo>
                  <a:close/>
                  <a:moveTo>
                    <a:pt x="494" y="671"/>
                  </a:moveTo>
                  <a:cubicBezTo>
                    <a:pt x="481" y="710"/>
                    <a:pt x="450" y="741"/>
                    <a:pt x="411" y="753"/>
                  </a:cubicBezTo>
                  <a:cubicBezTo>
                    <a:pt x="427" y="753"/>
                    <a:pt x="441" y="747"/>
                    <a:pt x="454" y="740"/>
                  </a:cubicBezTo>
                  <a:cubicBezTo>
                    <a:pt x="485" y="724"/>
                    <a:pt x="513" y="700"/>
                    <a:pt x="525" y="668"/>
                  </a:cubicBezTo>
                  <a:cubicBezTo>
                    <a:pt x="515" y="669"/>
                    <a:pt x="503" y="667"/>
                    <a:pt x="494" y="671"/>
                  </a:cubicBezTo>
                  <a:close/>
                  <a:moveTo>
                    <a:pt x="392" y="736"/>
                  </a:moveTo>
                  <a:cubicBezTo>
                    <a:pt x="393" y="737"/>
                    <a:pt x="396" y="741"/>
                    <a:pt x="397" y="743"/>
                  </a:cubicBezTo>
                  <a:cubicBezTo>
                    <a:pt x="433" y="733"/>
                    <a:pt x="465" y="707"/>
                    <a:pt x="478" y="671"/>
                  </a:cubicBezTo>
                  <a:cubicBezTo>
                    <a:pt x="471" y="672"/>
                    <a:pt x="463" y="672"/>
                    <a:pt x="456" y="674"/>
                  </a:cubicBezTo>
                  <a:cubicBezTo>
                    <a:pt x="438" y="697"/>
                    <a:pt x="423" y="728"/>
                    <a:pt x="392" y="736"/>
                  </a:cubicBezTo>
                  <a:close/>
                  <a:moveTo>
                    <a:pt x="544" y="688"/>
                  </a:moveTo>
                  <a:cubicBezTo>
                    <a:pt x="584" y="687"/>
                    <a:pt x="625" y="692"/>
                    <a:pt x="663" y="703"/>
                  </a:cubicBezTo>
                  <a:cubicBezTo>
                    <a:pt x="689" y="710"/>
                    <a:pt x="715" y="720"/>
                    <a:pt x="735" y="738"/>
                  </a:cubicBezTo>
                  <a:cubicBezTo>
                    <a:pt x="739" y="732"/>
                    <a:pt x="744" y="726"/>
                    <a:pt x="748" y="720"/>
                  </a:cubicBezTo>
                  <a:cubicBezTo>
                    <a:pt x="721" y="698"/>
                    <a:pt x="686" y="688"/>
                    <a:pt x="652" y="682"/>
                  </a:cubicBezTo>
                  <a:cubicBezTo>
                    <a:pt x="619" y="677"/>
                    <a:pt x="585" y="673"/>
                    <a:pt x="551" y="673"/>
                  </a:cubicBezTo>
                  <a:cubicBezTo>
                    <a:pt x="549" y="678"/>
                    <a:pt x="547" y="683"/>
                    <a:pt x="544" y="688"/>
                  </a:cubicBezTo>
                  <a:close/>
                  <a:moveTo>
                    <a:pt x="384" y="698"/>
                  </a:moveTo>
                  <a:cubicBezTo>
                    <a:pt x="377" y="707"/>
                    <a:pt x="384" y="717"/>
                    <a:pt x="388" y="726"/>
                  </a:cubicBezTo>
                  <a:cubicBezTo>
                    <a:pt x="411" y="719"/>
                    <a:pt x="425" y="697"/>
                    <a:pt x="435" y="676"/>
                  </a:cubicBezTo>
                  <a:cubicBezTo>
                    <a:pt x="417" y="681"/>
                    <a:pt x="397" y="684"/>
                    <a:pt x="384" y="698"/>
                  </a:cubicBezTo>
                  <a:close/>
                  <a:moveTo>
                    <a:pt x="534" y="704"/>
                  </a:moveTo>
                  <a:cubicBezTo>
                    <a:pt x="528" y="711"/>
                    <a:pt x="521" y="718"/>
                    <a:pt x="515" y="725"/>
                  </a:cubicBezTo>
                  <a:cubicBezTo>
                    <a:pt x="557" y="753"/>
                    <a:pt x="605" y="779"/>
                    <a:pt x="657" y="780"/>
                  </a:cubicBezTo>
                  <a:cubicBezTo>
                    <a:pt x="616" y="762"/>
                    <a:pt x="572" y="742"/>
                    <a:pt x="548" y="702"/>
                  </a:cubicBezTo>
                  <a:cubicBezTo>
                    <a:pt x="543" y="703"/>
                    <a:pt x="539" y="704"/>
                    <a:pt x="534" y="704"/>
                  </a:cubicBezTo>
                  <a:close/>
                  <a:moveTo>
                    <a:pt x="566" y="702"/>
                  </a:moveTo>
                  <a:cubicBezTo>
                    <a:pt x="594" y="738"/>
                    <a:pt x="638" y="758"/>
                    <a:pt x="680" y="771"/>
                  </a:cubicBezTo>
                  <a:cubicBezTo>
                    <a:pt x="687" y="775"/>
                    <a:pt x="694" y="769"/>
                    <a:pt x="700" y="768"/>
                  </a:cubicBezTo>
                  <a:cubicBezTo>
                    <a:pt x="668" y="754"/>
                    <a:pt x="637" y="735"/>
                    <a:pt x="617" y="706"/>
                  </a:cubicBezTo>
                  <a:cubicBezTo>
                    <a:pt x="600" y="704"/>
                    <a:pt x="583" y="702"/>
                    <a:pt x="566" y="702"/>
                  </a:cubicBezTo>
                  <a:close/>
                  <a:moveTo>
                    <a:pt x="319" y="716"/>
                  </a:moveTo>
                  <a:cubicBezTo>
                    <a:pt x="335" y="745"/>
                    <a:pt x="367" y="759"/>
                    <a:pt x="396" y="770"/>
                  </a:cubicBezTo>
                  <a:cubicBezTo>
                    <a:pt x="380" y="750"/>
                    <a:pt x="364" y="729"/>
                    <a:pt x="352" y="706"/>
                  </a:cubicBezTo>
                  <a:cubicBezTo>
                    <a:pt x="341" y="709"/>
                    <a:pt x="330" y="712"/>
                    <a:pt x="319" y="716"/>
                  </a:cubicBezTo>
                  <a:close/>
                  <a:moveTo>
                    <a:pt x="632" y="709"/>
                  </a:moveTo>
                  <a:cubicBezTo>
                    <a:pt x="653" y="733"/>
                    <a:pt x="681" y="750"/>
                    <a:pt x="711" y="760"/>
                  </a:cubicBezTo>
                  <a:cubicBezTo>
                    <a:pt x="715" y="757"/>
                    <a:pt x="720" y="753"/>
                    <a:pt x="724" y="750"/>
                  </a:cubicBezTo>
                  <a:cubicBezTo>
                    <a:pt x="698" y="727"/>
                    <a:pt x="665" y="716"/>
                    <a:pt x="632" y="709"/>
                  </a:cubicBezTo>
                  <a:close/>
                  <a:moveTo>
                    <a:pt x="282" y="727"/>
                  </a:moveTo>
                  <a:cubicBezTo>
                    <a:pt x="289" y="738"/>
                    <a:pt x="297" y="749"/>
                    <a:pt x="308" y="758"/>
                  </a:cubicBezTo>
                  <a:cubicBezTo>
                    <a:pt x="327" y="773"/>
                    <a:pt x="352" y="777"/>
                    <a:pt x="376" y="779"/>
                  </a:cubicBezTo>
                  <a:cubicBezTo>
                    <a:pt x="347" y="767"/>
                    <a:pt x="318" y="750"/>
                    <a:pt x="305" y="720"/>
                  </a:cubicBezTo>
                  <a:cubicBezTo>
                    <a:pt x="297" y="722"/>
                    <a:pt x="290" y="725"/>
                    <a:pt x="282" y="727"/>
                  </a:cubicBezTo>
                  <a:close/>
                  <a:moveTo>
                    <a:pt x="502" y="735"/>
                  </a:moveTo>
                  <a:cubicBezTo>
                    <a:pt x="499" y="737"/>
                    <a:pt x="495" y="740"/>
                    <a:pt x="492" y="742"/>
                  </a:cubicBezTo>
                  <a:cubicBezTo>
                    <a:pt x="518" y="769"/>
                    <a:pt x="551" y="800"/>
                    <a:pt x="592" y="794"/>
                  </a:cubicBezTo>
                  <a:cubicBezTo>
                    <a:pt x="607" y="793"/>
                    <a:pt x="622" y="793"/>
                    <a:pt x="637" y="792"/>
                  </a:cubicBezTo>
                  <a:cubicBezTo>
                    <a:pt x="588" y="784"/>
                    <a:pt x="543" y="762"/>
                    <a:pt x="502" y="735"/>
                  </a:cubicBezTo>
                  <a:close/>
                  <a:moveTo>
                    <a:pt x="468" y="756"/>
                  </a:moveTo>
                  <a:cubicBezTo>
                    <a:pt x="482" y="783"/>
                    <a:pt x="511" y="808"/>
                    <a:pt x="543" y="801"/>
                  </a:cubicBezTo>
                  <a:cubicBezTo>
                    <a:pt x="518" y="789"/>
                    <a:pt x="498" y="770"/>
                    <a:pt x="479" y="750"/>
                  </a:cubicBezTo>
                  <a:cubicBezTo>
                    <a:pt x="475" y="752"/>
                    <a:pt x="472" y="754"/>
                    <a:pt x="468" y="756"/>
                  </a:cubicBezTo>
                  <a:close/>
                  <a:moveTo>
                    <a:pt x="419" y="773"/>
                  </a:moveTo>
                  <a:cubicBezTo>
                    <a:pt x="427" y="784"/>
                    <a:pt x="435" y="795"/>
                    <a:pt x="448" y="800"/>
                  </a:cubicBezTo>
                  <a:cubicBezTo>
                    <a:pt x="462" y="805"/>
                    <a:pt x="477" y="805"/>
                    <a:pt x="492" y="806"/>
                  </a:cubicBezTo>
                  <a:cubicBezTo>
                    <a:pt x="476" y="794"/>
                    <a:pt x="462" y="780"/>
                    <a:pt x="455" y="762"/>
                  </a:cubicBezTo>
                  <a:cubicBezTo>
                    <a:pt x="443" y="766"/>
                    <a:pt x="431" y="770"/>
                    <a:pt x="419" y="773"/>
                  </a:cubicBezTo>
                  <a:close/>
                  <a:moveTo>
                    <a:pt x="379" y="794"/>
                  </a:moveTo>
                  <a:cubicBezTo>
                    <a:pt x="397" y="811"/>
                    <a:pt x="411" y="832"/>
                    <a:pt x="429" y="849"/>
                  </a:cubicBezTo>
                  <a:cubicBezTo>
                    <a:pt x="448" y="868"/>
                    <a:pt x="466" y="889"/>
                    <a:pt x="481" y="913"/>
                  </a:cubicBezTo>
                  <a:cubicBezTo>
                    <a:pt x="491" y="925"/>
                    <a:pt x="502" y="942"/>
                    <a:pt x="520" y="941"/>
                  </a:cubicBezTo>
                  <a:cubicBezTo>
                    <a:pt x="531" y="937"/>
                    <a:pt x="542" y="929"/>
                    <a:pt x="547" y="918"/>
                  </a:cubicBezTo>
                  <a:cubicBezTo>
                    <a:pt x="544" y="903"/>
                    <a:pt x="532" y="891"/>
                    <a:pt x="523" y="879"/>
                  </a:cubicBezTo>
                  <a:cubicBezTo>
                    <a:pt x="510" y="862"/>
                    <a:pt x="498" y="843"/>
                    <a:pt x="492" y="823"/>
                  </a:cubicBezTo>
                  <a:cubicBezTo>
                    <a:pt x="476" y="823"/>
                    <a:pt x="459" y="824"/>
                    <a:pt x="444" y="818"/>
                  </a:cubicBezTo>
                  <a:cubicBezTo>
                    <a:pt x="431" y="813"/>
                    <a:pt x="421" y="803"/>
                    <a:pt x="412" y="793"/>
                  </a:cubicBezTo>
                  <a:cubicBezTo>
                    <a:pt x="401" y="794"/>
                    <a:pt x="390" y="794"/>
                    <a:pt x="379" y="79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2" name="Freeform 8"/>
            <p:cNvSpPr/>
            <p:nvPr/>
          </p:nvSpPr>
          <p:spPr>
            <a:xfrm>
              <a:off x="3256560" y="3446280"/>
              <a:ext cx="709560" cy="473040"/>
            </a:xfrm>
            <a:custGeom>
              <a:avLst/>
              <a:gdLst>
                <a:gd name="textAreaLeft" fmla="*/ 0 w 709560"/>
                <a:gd name="textAreaRight" fmla="*/ 709920 w 7095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66" h="178">
                  <a:moveTo>
                    <a:pt x="112" y="1"/>
                  </a:moveTo>
                  <a:cubicBezTo>
                    <a:pt x="121" y="1"/>
                    <a:pt x="131" y="0"/>
                    <a:pt x="140" y="4"/>
                  </a:cubicBezTo>
                  <a:cubicBezTo>
                    <a:pt x="150" y="8"/>
                    <a:pt x="158" y="15"/>
                    <a:pt x="168" y="18"/>
                  </a:cubicBezTo>
                  <a:cubicBezTo>
                    <a:pt x="184" y="16"/>
                    <a:pt x="199" y="8"/>
                    <a:pt x="216" y="9"/>
                  </a:cubicBezTo>
                  <a:cubicBezTo>
                    <a:pt x="233" y="11"/>
                    <a:pt x="249" y="9"/>
                    <a:pt x="266" y="7"/>
                  </a:cubicBezTo>
                  <a:cubicBezTo>
                    <a:pt x="251" y="18"/>
                    <a:pt x="230" y="19"/>
                    <a:pt x="212" y="19"/>
                  </a:cubicBezTo>
                  <a:cubicBezTo>
                    <a:pt x="201" y="19"/>
                    <a:pt x="190" y="21"/>
                    <a:pt x="183" y="29"/>
                  </a:cubicBezTo>
                  <a:cubicBezTo>
                    <a:pt x="166" y="49"/>
                    <a:pt x="154" y="75"/>
                    <a:pt x="133" y="91"/>
                  </a:cubicBezTo>
                  <a:cubicBezTo>
                    <a:pt x="109" y="113"/>
                    <a:pt x="101" y="148"/>
                    <a:pt x="112" y="178"/>
                  </a:cubicBezTo>
                  <a:cubicBezTo>
                    <a:pt x="105" y="172"/>
                    <a:pt x="97" y="165"/>
                    <a:pt x="97" y="155"/>
                  </a:cubicBezTo>
                  <a:cubicBezTo>
                    <a:pt x="94" y="141"/>
                    <a:pt x="100" y="124"/>
                    <a:pt x="91" y="112"/>
                  </a:cubicBezTo>
                  <a:cubicBezTo>
                    <a:pt x="61" y="96"/>
                    <a:pt x="28" y="113"/>
                    <a:pt x="0" y="126"/>
                  </a:cubicBezTo>
                  <a:cubicBezTo>
                    <a:pt x="20" y="105"/>
                    <a:pt x="47" y="91"/>
                    <a:pt x="76" y="93"/>
                  </a:cubicBezTo>
                  <a:cubicBezTo>
                    <a:pt x="90" y="94"/>
                    <a:pt x="106" y="102"/>
                    <a:pt x="118" y="92"/>
                  </a:cubicBezTo>
                  <a:cubicBezTo>
                    <a:pt x="137" y="77"/>
                    <a:pt x="152" y="54"/>
                    <a:pt x="156" y="30"/>
                  </a:cubicBezTo>
                  <a:cubicBezTo>
                    <a:pt x="150" y="11"/>
                    <a:pt x="129" y="4"/>
                    <a:pt x="112" y="1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3" name="Freeform 9"/>
            <p:cNvSpPr/>
            <p:nvPr/>
          </p:nvSpPr>
          <p:spPr>
            <a:xfrm>
              <a:off x="1749960" y="3853800"/>
              <a:ext cx="251280" cy="2602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4" h="98">
                  <a:moveTo>
                    <a:pt x="47" y="0"/>
                  </a:moveTo>
                  <a:cubicBezTo>
                    <a:pt x="56" y="21"/>
                    <a:pt x="72" y="39"/>
                    <a:pt x="94" y="48"/>
                  </a:cubicBezTo>
                  <a:cubicBezTo>
                    <a:pt x="58" y="53"/>
                    <a:pt x="26" y="72"/>
                    <a:pt x="0" y="98"/>
                  </a:cubicBezTo>
                  <a:cubicBezTo>
                    <a:pt x="8" y="72"/>
                    <a:pt x="31" y="55"/>
                    <a:pt x="55" y="43"/>
                  </a:cubicBezTo>
                  <a:cubicBezTo>
                    <a:pt x="45" y="31"/>
                    <a:pt x="44" y="15"/>
                    <a:pt x="47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4" name="Freeform 10"/>
            <p:cNvSpPr/>
            <p:nvPr/>
          </p:nvSpPr>
          <p:spPr>
            <a:xfrm>
              <a:off x="1720080" y="3901680"/>
              <a:ext cx="973080" cy="60480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365" h="227">
                  <a:moveTo>
                    <a:pt x="303" y="26"/>
                  </a:moveTo>
                  <a:cubicBezTo>
                    <a:pt x="315" y="15"/>
                    <a:pt x="329" y="6"/>
                    <a:pt x="343" y="0"/>
                  </a:cubicBezTo>
                  <a:cubicBezTo>
                    <a:pt x="347" y="5"/>
                    <a:pt x="348" y="13"/>
                    <a:pt x="354" y="17"/>
                  </a:cubicBezTo>
                  <a:cubicBezTo>
                    <a:pt x="358" y="19"/>
                    <a:pt x="365" y="21"/>
                    <a:pt x="365" y="26"/>
                  </a:cubicBezTo>
                  <a:cubicBezTo>
                    <a:pt x="353" y="29"/>
                    <a:pt x="340" y="29"/>
                    <a:pt x="328" y="35"/>
                  </a:cubicBezTo>
                  <a:cubicBezTo>
                    <a:pt x="304" y="45"/>
                    <a:pt x="278" y="54"/>
                    <a:pt x="252" y="58"/>
                  </a:cubicBezTo>
                  <a:cubicBezTo>
                    <a:pt x="233" y="63"/>
                    <a:pt x="212" y="63"/>
                    <a:pt x="193" y="73"/>
                  </a:cubicBezTo>
                  <a:cubicBezTo>
                    <a:pt x="181" y="78"/>
                    <a:pt x="176" y="93"/>
                    <a:pt x="169" y="104"/>
                  </a:cubicBezTo>
                  <a:cubicBezTo>
                    <a:pt x="158" y="125"/>
                    <a:pt x="130" y="130"/>
                    <a:pt x="119" y="151"/>
                  </a:cubicBezTo>
                  <a:cubicBezTo>
                    <a:pt x="112" y="163"/>
                    <a:pt x="114" y="180"/>
                    <a:pt x="125" y="190"/>
                  </a:cubicBezTo>
                  <a:cubicBezTo>
                    <a:pt x="134" y="199"/>
                    <a:pt x="146" y="206"/>
                    <a:pt x="159" y="211"/>
                  </a:cubicBezTo>
                  <a:cubicBezTo>
                    <a:pt x="172" y="215"/>
                    <a:pt x="184" y="220"/>
                    <a:pt x="197" y="225"/>
                  </a:cubicBezTo>
                  <a:cubicBezTo>
                    <a:pt x="171" y="227"/>
                    <a:pt x="143" y="225"/>
                    <a:pt x="120" y="210"/>
                  </a:cubicBezTo>
                  <a:cubicBezTo>
                    <a:pt x="101" y="199"/>
                    <a:pt x="96" y="173"/>
                    <a:pt x="76" y="162"/>
                  </a:cubicBezTo>
                  <a:cubicBezTo>
                    <a:pt x="58" y="153"/>
                    <a:pt x="36" y="155"/>
                    <a:pt x="19" y="144"/>
                  </a:cubicBezTo>
                  <a:cubicBezTo>
                    <a:pt x="10" y="140"/>
                    <a:pt x="5" y="132"/>
                    <a:pt x="0" y="124"/>
                  </a:cubicBezTo>
                  <a:cubicBezTo>
                    <a:pt x="25" y="143"/>
                    <a:pt x="60" y="146"/>
                    <a:pt x="90" y="138"/>
                  </a:cubicBezTo>
                  <a:cubicBezTo>
                    <a:pt x="99" y="136"/>
                    <a:pt x="108" y="129"/>
                    <a:pt x="113" y="121"/>
                  </a:cubicBezTo>
                  <a:cubicBezTo>
                    <a:pt x="98" y="112"/>
                    <a:pt x="82" y="104"/>
                    <a:pt x="77" y="87"/>
                  </a:cubicBezTo>
                  <a:cubicBezTo>
                    <a:pt x="93" y="103"/>
                    <a:pt x="116" y="114"/>
                    <a:pt x="139" y="106"/>
                  </a:cubicBezTo>
                  <a:cubicBezTo>
                    <a:pt x="166" y="96"/>
                    <a:pt x="169" y="59"/>
                    <a:pt x="198" y="52"/>
                  </a:cubicBezTo>
                  <a:cubicBezTo>
                    <a:pt x="233" y="46"/>
                    <a:pt x="273" y="49"/>
                    <a:pt x="303" y="2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5" name="Freeform 11"/>
            <p:cNvSpPr/>
            <p:nvPr/>
          </p:nvSpPr>
          <p:spPr>
            <a:xfrm>
              <a:off x="2295000" y="4057560"/>
              <a:ext cx="446040" cy="5328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800"/>
                <a:gd name="textAreaBottom" fmla="*/ 533160 h 532800"/>
              </a:gdLst>
              <a:ahLst/>
              <a:rect l="textAreaLeft" t="textAreaTop" r="textAreaRight" b="textAreaBottom"/>
              <a:pathLst>
                <a:path w="168" h="200">
                  <a:moveTo>
                    <a:pt x="122" y="0"/>
                  </a:moveTo>
                  <a:cubicBezTo>
                    <a:pt x="130" y="19"/>
                    <a:pt x="136" y="40"/>
                    <a:pt x="134" y="61"/>
                  </a:cubicBezTo>
                  <a:cubicBezTo>
                    <a:pt x="133" y="77"/>
                    <a:pt x="120" y="90"/>
                    <a:pt x="116" y="105"/>
                  </a:cubicBezTo>
                  <a:cubicBezTo>
                    <a:pt x="114" y="113"/>
                    <a:pt x="120" y="119"/>
                    <a:pt x="123" y="125"/>
                  </a:cubicBezTo>
                  <a:cubicBezTo>
                    <a:pt x="137" y="117"/>
                    <a:pt x="152" y="113"/>
                    <a:pt x="168" y="114"/>
                  </a:cubicBezTo>
                  <a:cubicBezTo>
                    <a:pt x="168" y="122"/>
                    <a:pt x="168" y="131"/>
                    <a:pt x="168" y="139"/>
                  </a:cubicBezTo>
                  <a:cubicBezTo>
                    <a:pt x="165" y="139"/>
                    <a:pt x="160" y="141"/>
                    <a:pt x="157" y="141"/>
                  </a:cubicBezTo>
                  <a:cubicBezTo>
                    <a:pt x="135" y="144"/>
                    <a:pt x="116" y="157"/>
                    <a:pt x="98" y="170"/>
                  </a:cubicBezTo>
                  <a:cubicBezTo>
                    <a:pt x="98" y="158"/>
                    <a:pt x="98" y="145"/>
                    <a:pt x="98" y="133"/>
                  </a:cubicBezTo>
                  <a:cubicBezTo>
                    <a:pt x="95" y="146"/>
                    <a:pt x="96" y="159"/>
                    <a:pt x="96" y="172"/>
                  </a:cubicBezTo>
                  <a:cubicBezTo>
                    <a:pt x="85" y="181"/>
                    <a:pt x="75" y="191"/>
                    <a:pt x="64" y="200"/>
                  </a:cubicBezTo>
                  <a:cubicBezTo>
                    <a:pt x="60" y="188"/>
                    <a:pt x="70" y="175"/>
                    <a:pt x="64" y="164"/>
                  </a:cubicBezTo>
                  <a:cubicBezTo>
                    <a:pt x="69" y="159"/>
                    <a:pt x="75" y="153"/>
                    <a:pt x="80" y="147"/>
                  </a:cubicBezTo>
                  <a:cubicBezTo>
                    <a:pt x="40" y="141"/>
                    <a:pt x="13" y="106"/>
                    <a:pt x="0" y="69"/>
                  </a:cubicBezTo>
                  <a:cubicBezTo>
                    <a:pt x="19" y="90"/>
                    <a:pt x="38" y="112"/>
                    <a:pt x="65" y="120"/>
                  </a:cubicBezTo>
                  <a:cubicBezTo>
                    <a:pt x="79" y="124"/>
                    <a:pt x="95" y="115"/>
                    <a:pt x="97" y="101"/>
                  </a:cubicBezTo>
                  <a:cubicBezTo>
                    <a:pt x="100" y="85"/>
                    <a:pt x="115" y="75"/>
                    <a:pt x="119" y="59"/>
                  </a:cubicBezTo>
                  <a:cubicBezTo>
                    <a:pt x="125" y="40"/>
                    <a:pt x="122" y="20"/>
                    <a:pt x="122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6" name="Freeform 12"/>
            <p:cNvSpPr/>
            <p:nvPr/>
          </p:nvSpPr>
          <p:spPr>
            <a:xfrm>
              <a:off x="4313880" y="4183200"/>
              <a:ext cx="323280" cy="5119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21" h="192">
                  <a:moveTo>
                    <a:pt x="77" y="50"/>
                  </a:moveTo>
                  <a:cubicBezTo>
                    <a:pt x="90" y="36"/>
                    <a:pt x="92" y="17"/>
                    <a:pt x="98" y="0"/>
                  </a:cubicBezTo>
                  <a:cubicBezTo>
                    <a:pt x="121" y="63"/>
                    <a:pt x="112" y="137"/>
                    <a:pt x="72" y="192"/>
                  </a:cubicBezTo>
                  <a:cubicBezTo>
                    <a:pt x="70" y="192"/>
                    <a:pt x="66" y="192"/>
                    <a:pt x="64" y="192"/>
                  </a:cubicBezTo>
                  <a:cubicBezTo>
                    <a:pt x="80" y="170"/>
                    <a:pt x="85" y="143"/>
                    <a:pt x="92" y="117"/>
                  </a:cubicBezTo>
                  <a:cubicBezTo>
                    <a:pt x="95" y="98"/>
                    <a:pt x="99" y="79"/>
                    <a:pt x="92" y="60"/>
                  </a:cubicBezTo>
                  <a:cubicBezTo>
                    <a:pt x="79" y="56"/>
                    <a:pt x="69" y="66"/>
                    <a:pt x="60" y="73"/>
                  </a:cubicBezTo>
                  <a:cubicBezTo>
                    <a:pt x="49" y="83"/>
                    <a:pt x="46" y="99"/>
                    <a:pt x="38" y="111"/>
                  </a:cubicBezTo>
                  <a:cubicBezTo>
                    <a:pt x="30" y="121"/>
                    <a:pt x="22" y="132"/>
                    <a:pt x="10" y="138"/>
                  </a:cubicBezTo>
                  <a:cubicBezTo>
                    <a:pt x="23" y="120"/>
                    <a:pt x="43" y="101"/>
                    <a:pt x="39" y="77"/>
                  </a:cubicBezTo>
                  <a:cubicBezTo>
                    <a:pt x="26" y="73"/>
                    <a:pt x="0" y="84"/>
                    <a:pt x="1" y="61"/>
                  </a:cubicBezTo>
                  <a:cubicBezTo>
                    <a:pt x="26" y="73"/>
                    <a:pt x="58" y="71"/>
                    <a:pt x="77" y="5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7" name="Freeform 13"/>
            <p:cNvSpPr/>
            <p:nvPr/>
          </p:nvSpPr>
          <p:spPr>
            <a:xfrm>
              <a:off x="3076920" y="4482720"/>
              <a:ext cx="482040" cy="410040"/>
            </a:xfrm>
            <a:custGeom>
              <a:avLst/>
              <a:gdLst>
                <a:gd name="textAreaLeft" fmla="*/ 0 w 482040"/>
                <a:gd name="textAreaRight" fmla="*/ 482400 w 48204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81" h="154">
                  <a:moveTo>
                    <a:pt x="0" y="0"/>
                  </a:moveTo>
                  <a:cubicBezTo>
                    <a:pt x="10" y="1"/>
                    <a:pt x="19" y="3"/>
                    <a:pt x="29" y="5"/>
                  </a:cubicBezTo>
                  <a:cubicBezTo>
                    <a:pt x="34" y="6"/>
                    <a:pt x="39" y="7"/>
                    <a:pt x="44" y="9"/>
                  </a:cubicBezTo>
                  <a:cubicBezTo>
                    <a:pt x="59" y="16"/>
                    <a:pt x="75" y="20"/>
                    <a:pt x="92" y="22"/>
                  </a:cubicBezTo>
                  <a:cubicBezTo>
                    <a:pt x="103" y="21"/>
                    <a:pt x="113" y="18"/>
                    <a:pt x="124" y="15"/>
                  </a:cubicBezTo>
                  <a:cubicBezTo>
                    <a:pt x="120" y="20"/>
                    <a:pt x="123" y="25"/>
                    <a:pt x="126" y="29"/>
                  </a:cubicBezTo>
                  <a:cubicBezTo>
                    <a:pt x="112" y="34"/>
                    <a:pt x="93" y="40"/>
                    <a:pt x="90" y="58"/>
                  </a:cubicBezTo>
                  <a:cubicBezTo>
                    <a:pt x="114" y="87"/>
                    <a:pt x="160" y="80"/>
                    <a:pt x="181" y="113"/>
                  </a:cubicBezTo>
                  <a:cubicBezTo>
                    <a:pt x="161" y="104"/>
                    <a:pt x="142" y="93"/>
                    <a:pt x="120" y="92"/>
                  </a:cubicBezTo>
                  <a:cubicBezTo>
                    <a:pt x="113" y="91"/>
                    <a:pt x="103" y="94"/>
                    <a:pt x="101" y="101"/>
                  </a:cubicBezTo>
                  <a:cubicBezTo>
                    <a:pt x="93" y="118"/>
                    <a:pt x="92" y="136"/>
                    <a:pt x="88" y="154"/>
                  </a:cubicBezTo>
                  <a:cubicBezTo>
                    <a:pt x="81" y="124"/>
                    <a:pt x="96" y="90"/>
                    <a:pt x="78" y="62"/>
                  </a:cubicBezTo>
                  <a:cubicBezTo>
                    <a:pt x="63" y="31"/>
                    <a:pt x="30" y="15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8" name="Freeform 14"/>
            <p:cNvSpPr/>
            <p:nvPr/>
          </p:nvSpPr>
          <p:spPr>
            <a:xfrm>
              <a:off x="3397320" y="4503600"/>
              <a:ext cx="254160" cy="594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6" h="22">
                  <a:moveTo>
                    <a:pt x="5" y="4"/>
                  </a:moveTo>
                  <a:cubicBezTo>
                    <a:pt x="35" y="2"/>
                    <a:pt x="66" y="0"/>
                    <a:pt x="96" y="4"/>
                  </a:cubicBezTo>
                  <a:cubicBezTo>
                    <a:pt x="72" y="9"/>
                    <a:pt x="47" y="8"/>
                    <a:pt x="25" y="18"/>
                  </a:cubicBezTo>
                  <a:cubicBezTo>
                    <a:pt x="16" y="22"/>
                    <a:pt x="0" y="17"/>
                    <a:pt x="5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89" name="Freeform 15"/>
            <p:cNvSpPr/>
            <p:nvPr/>
          </p:nvSpPr>
          <p:spPr>
            <a:xfrm>
              <a:off x="2385000" y="4557600"/>
              <a:ext cx="466920" cy="7333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175" h="275">
                  <a:moveTo>
                    <a:pt x="113" y="38"/>
                  </a:moveTo>
                  <a:cubicBezTo>
                    <a:pt x="126" y="28"/>
                    <a:pt x="135" y="15"/>
                    <a:pt x="142" y="0"/>
                  </a:cubicBezTo>
                  <a:cubicBezTo>
                    <a:pt x="142" y="14"/>
                    <a:pt x="137" y="28"/>
                    <a:pt x="127" y="37"/>
                  </a:cubicBezTo>
                  <a:cubicBezTo>
                    <a:pt x="116" y="47"/>
                    <a:pt x="103" y="57"/>
                    <a:pt x="97" y="70"/>
                  </a:cubicBezTo>
                  <a:cubicBezTo>
                    <a:pt x="89" y="88"/>
                    <a:pt x="90" y="107"/>
                    <a:pt x="86" y="125"/>
                  </a:cubicBezTo>
                  <a:cubicBezTo>
                    <a:pt x="79" y="159"/>
                    <a:pt x="87" y="199"/>
                    <a:pt x="115" y="222"/>
                  </a:cubicBezTo>
                  <a:cubicBezTo>
                    <a:pt x="132" y="236"/>
                    <a:pt x="154" y="240"/>
                    <a:pt x="175" y="243"/>
                  </a:cubicBezTo>
                  <a:cubicBezTo>
                    <a:pt x="159" y="248"/>
                    <a:pt x="143" y="242"/>
                    <a:pt x="127" y="242"/>
                  </a:cubicBezTo>
                  <a:cubicBezTo>
                    <a:pt x="112" y="247"/>
                    <a:pt x="110" y="265"/>
                    <a:pt x="99" y="275"/>
                  </a:cubicBezTo>
                  <a:cubicBezTo>
                    <a:pt x="102" y="264"/>
                    <a:pt x="108" y="253"/>
                    <a:pt x="104" y="242"/>
                  </a:cubicBezTo>
                  <a:cubicBezTo>
                    <a:pt x="98" y="210"/>
                    <a:pt x="73" y="186"/>
                    <a:pt x="66" y="155"/>
                  </a:cubicBezTo>
                  <a:cubicBezTo>
                    <a:pt x="62" y="126"/>
                    <a:pt x="25" y="113"/>
                    <a:pt x="0" y="124"/>
                  </a:cubicBezTo>
                  <a:cubicBezTo>
                    <a:pt x="16" y="113"/>
                    <a:pt x="37" y="110"/>
                    <a:pt x="55" y="117"/>
                  </a:cubicBezTo>
                  <a:cubicBezTo>
                    <a:pt x="62" y="122"/>
                    <a:pt x="70" y="118"/>
                    <a:pt x="72" y="110"/>
                  </a:cubicBezTo>
                  <a:cubicBezTo>
                    <a:pt x="77" y="93"/>
                    <a:pt x="78" y="76"/>
                    <a:pt x="86" y="60"/>
                  </a:cubicBezTo>
                  <a:cubicBezTo>
                    <a:pt x="91" y="49"/>
                    <a:pt x="104" y="45"/>
                    <a:pt x="113" y="3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90" name="Freeform 16"/>
            <p:cNvSpPr/>
            <p:nvPr/>
          </p:nvSpPr>
          <p:spPr>
            <a:xfrm>
              <a:off x="4322880" y="4614480"/>
              <a:ext cx="122400" cy="835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6" h="32">
                  <a:moveTo>
                    <a:pt x="8" y="15"/>
                  </a:moveTo>
                  <a:cubicBezTo>
                    <a:pt x="22" y="16"/>
                    <a:pt x="36" y="11"/>
                    <a:pt x="46" y="0"/>
                  </a:cubicBezTo>
                  <a:cubicBezTo>
                    <a:pt x="39" y="18"/>
                    <a:pt x="18" y="23"/>
                    <a:pt x="4" y="32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1" y="29"/>
                    <a:pt x="0" y="23"/>
                    <a:pt x="0" y="20"/>
                  </a:cubicBezTo>
                  <a:cubicBezTo>
                    <a:pt x="2" y="19"/>
                    <a:pt x="6" y="16"/>
                    <a:pt x="8" y="1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391" name="Freeform 17"/>
            <p:cNvSpPr/>
            <p:nvPr/>
          </p:nvSpPr>
          <p:spPr>
            <a:xfrm>
              <a:off x="3744720" y="4806360"/>
              <a:ext cx="335160" cy="1162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25" h="44">
                  <a:moveTo>
                    <a:pt x="53" y="20"/>
                  </a:moveTo>
                  <a:cubicBezTo>
                    <a:pt x="76" y="10"/>
                    <a:pt x="100" y="0"/>
                    <a:pt x="125" y="7"/>
                  </a:cubicBezTo>
                  <a:cubicBezTo>
                    <a:pt x="113" y="12"/>
                    <a:pt x="95" y="9"/>
                    <a:pt x="91" y="24"/>
                  </a:cubicBezTo>
                  <a:cubicBezTo>
                    <a:pt x="93" y="32"/>
                    <a:pt x="100" y="38"/>
                    <a:pt x="105" y="44"/>
                  </a:cubicBezTo>
                  <a:cubicBezTo>
                    <a:pt x="90" y="37"/>
                    <a:pt x="75" y="26"/>
                    <a:pt x="57" y="31"/>
                  </a:cubicBezTo>
                  <a:cubicBezTo>
                    <a:pt x="37" y="35"/>
                    <a:pt x="16" y="28"/>
                    <a:pt x="0" y="14"/>
                  </a:cubicBezTo>
                  <a:cubicBezTo>
                    <a:pt x="17" y="23"/>
                    <a:pt x="36" y="27"/>
                    <a:pt x="53" y="2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cxnSp>
        <p:nvCxnSpPr>
          <p:cNvPr id="1392" name="直接连接符 39"/>
          <p:cNvCxnSpPr/>
          <p:nvPr/>
        </p:nvCxnSpPr>
        <p:spPr>
          <a:xfrm>
            <a:off x="6095880" y="2338920"/>
            <a:ext cx="360" cy="43700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sp>
        <p:nvSpPr>
          <p:cNvPr id="1393" name="矩形 40"/>
          <p:cNvSpPr/>
          <p:nvPr/>
        </p:nvSpPr>
        <p:spPr>
          <a:xfrm>
            <a:off x="4933440" y="1326240"/>
            <a:ext cx="2324520" cy="6645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Segoe UI Light 8"/>
                <a:ea typeface="微软雅黑 Light"/>
              </a:rPr>
              <a:t>科学依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4" name="直接连接符 41"/>
          <p:cNvCxnSpPr/>
          <p:nvPr/>
        </p:nvCxnSpPr>
        <p:spPr>
          <a:xfrm>
            <a:off x="755640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cxnSp>
        <p:nvCxnSpPr>
          <p:cNvPr id="1395" name="直接连接符 42"/>
          <p:cNvCxnSpPr/>
          <p:nvPr/>
        </p:nvCxnSpPr>
        <p:spPr>
          <a:xfrm>
            <a:off x="99036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sp>
        <p:nvSpPr>
          <p:cNvPr id="1396" name="矩形 43"/>
          <p:cNvSpPr/>
          <p:nvPr/>
        </p:nvSpPr>
        <p:spPr>
          <a:xfrm>
            <a:off x="6513120" y="3385080"/>
            <a:ext cx="4619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2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只适用于缓慢型僵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圆角矩形 2"/>
          <p:cNvSpPr/>
          <p:nvPr/>
        </p:nvSpPr>
        <p:spPr>
          <a:xfrm>
            <a:off x="0" y="277200"/>
            <a:ext cx="12191760" cy="1010880"/>
          </a:xfrm>
          <a:prstGeom prst="roundRect">
            <a:avLst>
              <a:gd name="adj" fmla="val 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398" name="组合 3"/>
          <p:cNvGrpSpPr/>
          <p:nvPr/>
        </p:nvGrpSpPr>
        <p:grpSpPr>
          <a:xfrm>
            <a:off x="190080" y="115560"/>
            <a:ext cx="1333440" cy="1333440"/>
            <a:chOff x="190080" y="115560"/>
            <a:chExt cx="1333440" cy="1333440"/>
          </a:xfrm>
        </p:grpSpPr>
        <p:sp>
          <p:nvSpPr>
            <p:cNvPr id="1399" name="椭圆 4"/>
            <p:cNvSpPr/>
            <p:nvPr/>
          </p:nvSpPr>
          <p:spPr>
            <a:xfrm>
              <a:off x="190080" y="115560"/>
              <a:ext cx="1333440" cy="133344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1400" name="组合 5"/>
            <p:cNvGrpSpPr/>
            <p:nvPr/>
          </p:nvGrpSpPr>
          <p:grpSpPr>
            <a:xfrm>
              <a:off x="253440" y="178920"/>
              <a:ext cx="1206720" cy="1206720"/>
              <a:chOff x="253440" y="178920"/>
              <a:chExt cx="1206720" cy="1206720"/>
            </a:xfrm>
          </p:grpSpPr>
          <p:sp>
            <p:nvSpPr>
              <p:cNvPr id="1401" name="椭圆 6"/>
              <p:cNvSpPr/>
              <p:nvPr/>
            </p:nvSpPr>
            <p:spPr>
              <a:xfrm>
                <a:off x="253440" y="178920"/>
                <a:ext cx="1206720" cy="120672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grpSp>
            <p:nvGrpSpPr>
              <p:cNvPr id="1402" name="组合 7"/>
              <p:cNvGrpSpPr/>
              <p:nvPr/>
            </p:nvGrpSpPr>
            <p:grpSpPr>
              <a:xfrm>
                <a:off x="442440" y="277200"/>
                <a:ext cx="829080" cy="1010520"/>
                <a:chOff x="442440" y="277200"/>
                <a:chExt cx="829080" cy="1010520"/>
              </a:xfrm>
            </p:grpSpPr>
            <p:sp>
              <p:nvSpPr>
                <p:cNvPr id="1403" name="Freeform 17"/>
                <p:cNvSpPr/>
                <p:nvPr/>
              </p:nvSpPr>
              <p:spPr>
                <a:xfrm>
                  <a:off x="850320" y="277200"/>
                  <a:ext cx="421200" cy="54648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546480"/>
                    <a:gd name="textAreaBottom" fmla="*/ 546840 h 54648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1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1"/>
                        <a:pt x="2" y="0"/>
                        <a:pt x="4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6" y="1"/>
                        <a:pt x="7" y="2"/>
                        <a:pt x="7" y="3"/>
                      </a:cubicBezTo>
                      <a:cubicBezTo>
                        <a:pt x="7" y="4"/>
                        <a:pt x="7" y="4"/>
                        <a:pt x="8" y="4"/>
                      </a:cubicBezTo>
                      <a:cubicBezTo>
                        <a:pt x="9" y="4"/>
                        <a:pt x="10" y="5"/>
                        <a:pt x="10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8"/>
                        <a:pt x="12" y="9"/>
                        <a:pt x="12" y="10"/>
                      </a:cubicBezTo>
                      <a:cubicBezTo>
                        <a:pt x="12" y="12"/>
                        <a:pt x="11" y="14"/>
                        <a:pt x="9" y="12"/>
                      </a:cubicBezTo>
                      <a:cubicBezTo>
                        <a:pt x="9" y="12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7" y="10"/>
                        <a:pt x="7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8" y="9"/>
                        <a:pt x="7" y="9"/>
                        <a:pt x="7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8"/>
                      </a:cubicBezTo>
                      <a:cubicBezTo>
                        <a:pt x="7" y="8"/>
                        <a:pt x="7" y="8"/>
                        <a:pt x="7" y="9"/>
                      </a:cubicBezTo>
                      <a:cubicBezTo>
                        <a:pt x="7" y="9"/>
                        <a:pt x="7" y="9"/>
                        <a:pt x="7" y="10"/>
                      </a:cubicBezTo>
                      <a:cubicBezTo>
                        <a:pt x="7" y="10"/>
                        <a:pt x="7" y="10"/>
                        <a:pt x="7" y="11"/>
                      </a:cubicBezTo>
                      <a:cubicBezTo>
                        <a:pt x="7" y="11"/>
                        <a:pt x="7" y="11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5" y="12"/>
                        <a:pt x="5" y="10"/>
                        <a:pt x="4" y="9"/>
                      </a:cubicBezTo>
                      <a:cubicBezTo>
                        <a:pt x="4" y="9"/>
                        <a:pt x="4" y="9"/>
                        <a:pt x="4" y="8"/>
                      </a:cubicBezTo>
                      <a:cubicBezTo>
                        <a:pt x="5" y="7"/>
                        <a:pt x="5" y="6"/>
                        <a:pt x="5" y="5"/>
                      </a:cubicBezTo>
                      <a:cubicBezTo>
                        <a:pt x="4" y="5"/>
                        <a:pt x="4" y="5"/>
                        <a:pt x="5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3" y="5"/>
                        <a:pt x="3" y="4"/>
                      </a:cubicBezTo>
                      <a:cubicBezTo>
                        <a:pt x="2" y="4"/>
                        <a:pt x="2" y="4"/>
                        <a:pt x="2" y="5"/>
                      </a:cubicBezTo>
                      <a:cubicBezTo>
                        <a:pt x="2" y="5"/>
                        <a:pt x="2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6"/>
                        <a:pt x="4" y="7"/>
                        <a:pt x="4" y="8"/>
                      </a:cubicBezTo>
                      <a:cubicBezTo>
                        <a:pt x="3" y="8"/>
                        <a:pt x="3" y="8"/>
                        <a:pt x="4" y="9"/>
                      </a:cubicBezTo>
                      <a:cubicBezTo>
                        <a:pt x="5" y="11"/>
                        <a:pt x="3" y="13"/>
                        <a:pt x="1" y="12"/>
                      </a:cubicBezTo>
                      <a:cubicBezTo>
                        <a:pt x="0" y="11"/>
                        <a:pt x="0" y="9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404" name="Freeform 16"/>
                <p:cNvSpPr/>
                <p:nvPr/>
              </p:nvSpPr>
              <p:spPr>
                <a:xfrm>
                  <a:off x="442440" y="286560"/>
                  <a:ext cx="456840" cy="50760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507600"/>
                    <a:gd name="textAreaBottom" fmla="*/ 507960 h 5076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8" y="10"/>
                      </a:moveTo>
                      <a:cubicBezTo>
                        <a:pt x="8" y="10"/>
                        <a:pt x="7" y="10"/>
                        <a:pt x="7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7"/>
                        <a:pt x="6" y="6"/>
                        <a:pt x="6" y="5"/>
                      </a:cubicBezTo>
                      <a:cubicBezTo>
                        <a:pt x="7" y="5"/>
                        <a:pt x="7" y="5"/>
                        <a:pt x="7" y="6"/>
                      </a:cubicBezTo>
                      <a:cubicBezTo>
                        <a:pt x="8" y="6"/>
                        <a:pt x="8" y="6"/>
                        <a:pt x="8" y="7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8" y="3"/>
                        <a:pt x="8" y="3"/>
                      </a:cubicBezTo>
                      <a:cubicBezTo>
                        <a:pt x="8" y="3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5"/>
                      </a:cubicBezTo>
                      <a:cubicBezTo>
                        <a:pt x="5" y="5"/>
                        <a:pt x="5" y="7"/>
                        <a:pt x="6" y="8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9"/>
                        <a:pt x="5" y="9"/>
                        <a:pt x="4" y="10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3" y="13"/>
                        <a:pt x="3" y="13"/>
                        <a:pt x="2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9"/>
                        <a:pt x="1" y="8"/>
                        <a:pt x="2" y="7"/>
                      </a:cubicBezTo>
                      <a:cubicBezTo>
                        <a:pt x="2" y="7"/>
                        <a:pt x="2" y="7"/>
                        <a:pt x="2" y="6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4"/>
                        <a:pt x="5" y="4"/>
                        <a:pt x="5" y="3"/>
                      </a:cubicBezTo>
                      <a:cubicBezTo>
                        <a:pt x="5" y="2"/>
                        <a:pt x="6" y="1"/>
                        <a:pt x="7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0" y="0"/>
                        <a:pt x="13" y="2"/>
                        <a:pt x="11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2" y="7"/>
                        <a:pt x="12" y="10"/>
                        <a:pt x="10" y="9"/>
                      </a:cubicBezTo>
                      <a:cubicBezTo>
                        <a:pt x="9" y="9"/>
                        <a:pt x="9" y="9"/>
                        <a:pt x="8" y="10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405" name="Freeform 19"/>
                <p:cNvSpPr/>
                <p:nvPr/>
              </p:nvSpPr>
              <p:spPr>
                <a:xfrm>
                  <a:off x="653400" y="677160"/>
                  <a:ext cx="210600" cy="116640"/>
                </a:xfrm>
                <a:custGeom>
                  <a:avLst/>
                  <a:gdLst>
                    <a:gd name="textAreaLeft" fmla="*/ 0 w 210600"/>
                    <a:gd name="textAreaRight" fmla="*/ 210960 w 2106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6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3"/>
                        <a:pt x="4" y="2"/>
                        <a:pt x="2" y="3"/>
                      </a:cubicBezTo>
                      <a:close/>
                    </a:path>
                  </a:pathLst>
                </a:custGeom>
                <a:solidFill>
                  <a:schemeClr val="accent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406" name="任意多边形 11"/>
                <p:cNvSpPr/>
                <p:nvPr/>
              </p:nvSpPr>
              <p:spPr>
                <a:xfrm>
                  <a:off x="470520" y="777240"/>
                  <a:ext cx="799560" cy="510480"/>
                </a:xfrm>
                <a:custGeom>
                  <a:avLst/>
                  <a:gdLst>
                    <a:gd name="textAreaLeft" fmla="*/ 0 w 799560"/>
                    <a:gd name="textAreaRight" fmla="*/ 799920 w 79956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3713312" h="2370974">
                      <a:moveTo>
                        <a:pt x="0" y="0"/>
                      </a:moveTo>
                      <a:lnTo>
                        <a:pt x="3713312" y="0"/>
                      </a:lnTo>
                      <a:lnTo>
                        <a:pt x="3702869" y="86603"/>
                      </a:lnTo>
                      <a:cubicBezTo>
                        <a:pt x="3685788" y="188493"/>
                        <a:pt x="3660167" y="287034"/>
                        <a:pt x="3630275" y="378878"/>
                      </a:cubicBezTo>
                      <a:cubicBezTo>
                        <a:pt x="3570492" y="539606"/>
                        <a:pt x="3502169" y="677373"/>
                        <a:pt x="3448792" y="774957"/>
                      </a:cubicBezTo>
                      <a:lnTo>
                        <a:pt x="3442867" y="785466"/>
                      </a:lnTo>
                      <a:lnTo>
                        <a:pt x="3435953" y="922398"/>
                      </a:lnTo>
                      <a:cubicBezTo>
                        <a:pt x="3353322" y="1736041"/>
                        <a:pt x="2666174" y="2370974"/>
                        <a:pt x="1830729" y="2370974"/>
                      </a:cubicBezTo>
                      <a:cubicBezTo>
                        <a:pt x="939588" y="2370974"/>
                        <a:pt x="217175" y="1648561"/>
                        <a:pt x="217175" y="757421"/>
                      </a:cubicBezTo>
                      <a:lnTo>
                        <a:pt x="219301" y="701323"/>
                      </a:lnTo>
                      <a:lnTo>
                        <a:pt x="217572" y="698461"/>
                      </a:lnTo>
                      <a:cubicBezTo>
                        <a:pt x="176475" y="625519"/>
                        <a:pt x="62382" y="362363"/>
                        <a:pt x="4783" y="33206"/>
                      </a:cubicBezTo>
                      <a:close/>
                    </a:path>
                  </a:pathLst>
                </a:custGeom>
                <a:noFill/>
                <a:ln w="60325">
                  <a:solidFill>
                    <a:srgbClr val="2d2d2d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407" name="弦形 12"/>
                <p:cNvSpPr/>
                <p:nvPr/>
              </p:nvSpPr>
              <p:spPr>
                <a:xfrm>
                  <a:off x="5695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408" name="弦形 13"/>
                <p:cNvSpPr/>
                <p:nvPr/>
              </p:nvSpPr>
              <p:spPr>
                <a:xfrm>
                  <a:off x="9007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grpSp>
              <p:nvGrpSpPr>
                <p:cNvPr id="1409" name="组合 14"/>
                <p:cNvGrpSpPr/>
                <p:nvPr/>
              </p:nvGrpSpPr>
              <p:grpSpPr>
                <a:xfrm>
                  <a:off x="521640" y="780120"/>
                  <a:ext cx="702360" cy="151200"/>
                  <a:chOff x="521640" y="780120"/>
                  <a:chExt cx="702360" cy="151200"/>
                </a:xfrm>
              </p:grpSpPr>
              <p:sp>
                <p:nvSpPr>
                  <p:cNvPr id="1410" name="圆角矩形 25"/>
                  <p:cNvSpPr/>
                  <p:nvPr/>
                </p:nvSpPr>
                <p:spPr>
                  <a:xfrm>
                    <a:off x="521640" y="840600"/>
                    <a:ext cx="702360" cy="21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11" name="圆角矩形 26"/>
                  <p:cNvSpPr/>
                  <p:nvPr/>
                </p:nvSpPr>
                <p:spPr>
                  <a:xfrm rot="5400000">
                    <a:off x="549000" y="838800"/>
                    <a:ext cx="73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12" name="圆角矩形 27"/>
                  <p:cNvSpPr/>
                  <p:nvPr/>
                </p:nvSpPr>
                <p:spPr>
                  <a:xfrm rot="5400000">
                    <a:off x="598680" y="8388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13" name="圆角矩形 28"/>
                  <p:cNvSpPr/>
                  <p:nvPr/>
                </p:nvSpPr>
                <p:spPr>
                  <a:xfrm rot="5400000">
                    <a:off x="659880" y="839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14" name="圆角矩形 29"/>
                  <p:cNvSpPr/>
                  <p:nvPr/>
                </p:nvSpPr>
                <p:spPr>
                  <a:xfrm rot="5400000">
                    <a:off x="736560" y="8352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15" name="圆角矩形 30"/>
                  <p:cNvSpPr/>
                  <p:nvPr/>
                </p:nvSpPr>
                <p:spPr>
                  <a:xfrm rot="5400000">
                    <a:off x="793080" y="844560"/>
                    <a:ext cx="1440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16" name="圆角矩形 31"/>
                  <p:cNvSpPr/>
                  <p:nvPr/>
                </p:nvSpPr>
                <p:spPr>
                  <a:xfrm rot="5400000">
                    <a:off x="893160" y="830520"/>
                    <a:ext cx="1306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17" name="圆角矩形 32"/>
                  <p:cNvSpPr/>
                  <p:nvPr/>
                </p:nvSpPr>
                <p:spPr>
                  <a:xfrm rot="5400000">
                    <a:off x="993960" y="840600"/>
                    <a:ext cx="81000" cy="2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2240" bIns="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18" name="圆角矩形 33"/>
                  <p:cNvSpPr/>
                  <p:nvPr/>
                </p:nvSpPr>
                <p:spPr>
                  <a:xfrm rot="5400000">
                    <a:off x="1027440" y="844560"/>
                    <a:ext cx="118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19" name="圆角矩形 34"/>
                  <p:cNvSpPr/>
                  <p:nvPr/>
                </p:nvSpPr>
                <p:spPr>
                  <a:xfrm rot="5400000">
                    <a:off x="1131120" y="830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420" name="组合 15"/>
                <p:cNvGrpSpPr/>
                <p:nvPr/>
              </p:nvGrpSpPr>
              <p:grpSpPr>
                <a:xfrm>
                  <a:off x="955800" y="1097640"/>
                  <a:ext cx="147240" cy="105120"/>
                  <a:chOff x="955800" y="1097640"/>
                  <a:chExt cx="147240" cy="105120"/>
                </a:xfrm>
              </p:grpSpPr>
              <p:sp>
                <p:nvSpPr>
                  <p:cNvPr id="1421" name="圆角矩形 21"/>
                  <p:cNvSpPr/>
                  <p:nvPr/>
                </p:nvSpPr>
                <p:spPr>
                  <a:xfrm rot="12242400">
                    <a:off x="951840" y="1146600"/>
                    <a:ext cx="15516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22" name="圆角矩形 22"/>
                  <p:cNvSpPr/>
                  <p:nvPr/>
                </p:nvSpPr>
                <p:spPr>
                  <a:xfrm rot="17643000">
                    <a:off x="1042200" y="1159200"/>
                    <a:ext cx="604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23" name="圆角矩形 23"/>
                  <p:cNvSpPr/>
                  <p:nvPr/>
                </p:nvSpPr>
                <p:spPr>
                  <a:xfrm rot="17643000">
                    <a:off x="996120" y="114156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24" name="圆角矩形 24"/>
                  <p:cNvSpPr/>
                  <p:nvPr/>
                </p:nvSpPr>
                <p:spPr>
                  <a:xfrm rot="17643000">
                    <a:off x="951480" y="112392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425" name="组合 16"/>
                <p:cNvGrpSpPr/>
                <p:nvPr/>
              </p:nvGrpSpPr>
              <p:grpSpPr>
                <a:xfrm>
                  <a:off x="579600" y="1070640"/>
                  <a:ext cx="122040" cy="133560"/>
                  <a:chOff x="579600" y="1070640"/>
                  <a:chExt cx="122040" cy="133560"/>
                </a:xfrm>
              </p:grpSpPr>
              <p:sp>
                <p:nvSpPr>
                  <p:cNvPr id="1426" name="圆角矩形 17"/>
                  <p:cNvSpPr/>
                  <p:nvPr/>
                </p:nvSpPr>
                <p:spPr>
                  <a:xfrm rot="14032200">
                    <a:off x="565200" y="1130760"/>
                    <a:ext cx="15408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27" name="圆角矩形 18"/>
                  <p:cNvSpPr/>
                  <p:nvPr/>
                </p:nvSpPr>
                <p:spPr>
                  <a:xfrm rot="19432200">
                    <a:off x="640080" y="1162440"/>
                    <a:ext cx="604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28" name="圆角矩形 19"/>
                  <p:cNvSpPr/>
                  <p:nvPr/>
                </p:nvSpPr>
                <p:spPr>
                  <a:xfrm rot="19432200">
                    <a:off x="608400" y="112752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429" name="圆角矩形 20"/>
                  <p:cNvSpPr/>
                  <p:nvPr/>
                </p:nvSpPr>
                <p:spPr>
                  <a:xfrm rot="19432200">
                    <a:off x="578880" y="109008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</p:grpSp>
        </p:grpSp>
      </p:grpSp>
      <p:sp>
        <p:nvSpPr>
          <p:cNvPr id="1430" name="矩形 35"/>
          <p:cNvSpPr/>
          <p:nvPr/>
        </p:nvSpPr>
        <p:spPr>
          <a:xfrm>
            <a:off x="5009040" y="459360"/>
            <a:ext cx="217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5.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讲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组合 52"/>
          <p:cNvGrpSpPr/>
          <p:nvPr/>
        </p:nvGrpSpPr>
        <p:grpSpPr>
          <a:xfrm>
            <a:off x="2320200" y="3268080"/>
            <a:ext cx="1061280" cy="1811520"/>
            <a:chOff x="2320200" y="3268080"/>
            <a:chExt cx="1061280" cy="1811520"/>
          </a:xfrm>
        </p:grpSpPr>
        <p:sp>
          <p:nvSpPr>
            <p:cNvPr id="1432" name="Freeform 5"/>
            <p:cNvSpPr/>
            <p:nvPr/>
          </p:nvSpPr>
          <p:spPr>
            <a:xfrm flipV="1" rot="3525000">
              <a:off x="2216160" y="3722040"/>
              <a:ext cx="1298520" cy="419040"/>
            </a:xfrm>
            <a:custGeom>
              <a:avLst/>
              <a:gdLst>
                <a:gd name="textAreaLeft" fmla="*/ 0 w 1298520"/>
                <a:gd name="textAreaRight" fmla="*/ 1298880 w 1298520"/>
                <a:gd name="textAreaTop" fmla="*/ 360 h 419040"/>
                <a:gd name="textAreaBottom" fmla="*/ 419760 h 419040"/>
              </a:gdLst>
              <a:ahLst/>
              <a:rect l="textAreaLeft" t="textAreaTop" r="textAreaRight" b="textAreaBottom"/>
              <a:pathLst>
                <a:path w="138" h="64">
                  <a:moveTo>
                    <a:pt x="0" y="9"/>
                  </a:moveTo>
                  <a:cubicBezTo>
                    <a:pt x="74" y="58"/>
                    <a:pt x="74" y="58"/>
                    <a:pt x="74" y="58"/>
                  </a:cubicBezTo>
                  <a:cubicBezTo>
                    <a:pt x="74" y="58"/>
                    <a:pt x="78" y="35"/>
                    <a:pt x="80" y="26"/>
                  </a:cubicBezTo>
                  <a:cubicBezTo>
                    <a:pt x="91" y="34"/>
                    <a:pt x="132" y="64"/>
                    <a:pt x="132" y="64"/>
                  </a:cubicBezTo>
                  <a:cubicBezTo>
                    <a:pt x="138" y="55"/>
                    <a:pt x="138" y="55"/>
                    <a:pt x="138" y="55"/>
                  </a:cubicBezTo>
                  <a:cubicBezTo>
                    <a:pt x="72" y="7"/>
                    <a:pt x="72" y="7"/>
                    <a:pt x="72" y="7"/>
                  </a:cubicBezTo>
                  <a:cubicBezTo>
                    <a:pt x="72" y="7"/>
                    <a:pt x="68" y="30"/>
                    <a:pt x="66" y="39"/>
                  </a:cubicBezTo>
                  <a:cubicBezTo>
                    <a:pt x="55" y="32"/>
                    <a:pt x="6" y="0"/>
                    <a:pt x="6" y="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433" name="Freeform 6"/>
            <p:cNvSpPr/>
            <p:nvPr/>
          </p:nvSpPr>
          <p:spPr>
            <a:xfrm flipV="1" rot="500400">
              <a:off x="2356560" y="4443120"/>
              <a:ext cx="918720" cy="572400"/>
            </a:xfrm>
            <a:custGeom>
              <a:avLst/>
              <a:gdLst>
                <a:gd name="textAreaLeft" fmla="*/ 0 w 918720"/>
                <a:gd name="textAreaRight" fmla="*/ 919080 w 918720"/>
                <a:gd name="textAreaTop" fmla="*/ 360 h 572400"/>
                <a:gd name="textAreaBottom" fmla="*/ 573120 h 572400"/>
              </a:gdLst>
              <a:ahLst/>
              <a:rect l="textAreaLeft" t="textAreaTop" r="textAreaRight" b="textAreaBottom"/>
              <a:pathLst>
                <a:path w="108" h="109">
                  <a:moveTo>
                    <a:pt x="0" y="6"/>
                  </a:moveTo>
                  <a:cubicBezTo>
                    <a:pt x="48" y="80"/>
                    <a:pt x="48" y="80"/>
                    <a:pt x="48" y="80"/>
                  </a:cubicBezTo>
                  <a:cubicBezTo>
                    <a:pt x="48" y="80"/>
                    <a:pt x="61" y="61"/>
                    <a:pt x="66" y="53"/>
                  </a:cubicBezTo>
                  <a:cubicBezTo>
                    <a:pt x="73" y="65"/>
                    <a:pt x="98" y="109"/>
                    <a:pt x="98" y="109"/>
                  </a:cubicBezTo>
                  <a:cubicBezTo>
                    <a:pt x="108" y="104"/>
                    <a:pt x="108" y="104"/>
                    <a:pt x="108" y="104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32"/>
                    <a:pt x="53" y="53"/>
                    <a:pt x="48" y="60"/>
                  </a:cubicBezTo>
                  <a:cubicBezTo>
                    <a:pt x="41" y="49"/>
                    <a:pt x="9" y="0"/>
                    <a:pt x="9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434" name="Freeform 10"/>
          <p:cNvSpPr/>
          <p:nvPr/>
        </p:nvSpPr>
        <p:spPr>
          <a:xfrm flipH="1">
            <a:off x="4329360" y="5493240"/>
            <a:ext cx="961200" cy="956160"/>
          </a:xfrm>
          <a:custGeom>
            <a:avLst/>
            <a:gdLst>
              <a:gd name="textAreaLeft" fmla="*/ 360 w 961200"/>
              <a:gd name="textAreaRight" fmla="*/ 961920 w 961200"/>
              <a:gd name="textAreaTop" fmla="*/ 0 h 956160"/>
              <a:gd name="textAreaBottom" fmla="*/ 956520 h 956160"/>
            </a:gdLst>
            <a:ahLst/>
            <a:rect l="textAreaLeft" t="textAreaTop" r="textAreaRight" b="textAreaBottom"/>
            <a:pathLst>
              <a:path w="200" h="200">
                <a:moveTo>
                  <a:pt x="196" y="200"/>
                </a:moveTo>
                <a:cubicBezTo>
                  <a:pt x="196" y="86"/>
                  <a:pt x="196" y="86"/>
                  <a:pt x="196" y="86"/>
                </a:cubicBezTo>
                <a:cubicBezTo>
                  <a:pt x="196" y="86"/>
                  <a:pt x="200" y="46"/>
                  <a:pt x="184" y="25"/>
                </a:cubicBezTo>
                <a:cubicBezTo>
                  <a:pt x="165" y="0"/>
                  <a:pt x="138" y="3"/>
                  <a:pt x="138" y="3"/>
                </a:cubicBezTo>
                <a:cubicBezTo>
                  <a:pt x="138" y="3"/>
                  <a:pt x="113" y="0"/>
                  <a:pt x="87" y="25"/>
                </a:cubicBezTo>
                <a:cubicBezTo>
                  <a:pt x="64" y="46"/>
                  <a:pt x="47" y="68"/>
                  <a:pt x="47" y="68"/>
                </a:cubicBezTo>
                <a:cubicBezTo>
                  <a:pt x="18" y="20"/>
                  <a:pt x="18" y="20"/>
                  <a:pt x="18" y="2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12" y="108"/>
                  <a:pt x="41" y="111"/>
                </a:cubicBezTo>
                <a:cubicBezTo>
                  <a:pt x="61" y="113"/>
                  <a:pt x="89" y="88"/>
                  <a:pt x="89" y="88"/>
                </a:cubicBezTo>
                <a:cubicBezTo>
                  <a:pt x="88" y="200"/>
                  <a:pt x="88" y="200"/>
                  <a:pt x="88" y="200"/>
                </a:cubicBezTo>
                <a:lnTo>
                  <a:pt x="196" y="200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1435" name="组合 92"/>
          <p:cNvGrpSpPr/>
          <p:nvPr/>
        </p:nvGrpSpPr>
        <p:grpSpPr>
          <a:xfrm>
            <a:off x="3459600" y="2740680"/>
            <a:ext cx="2518920" cy="2916000"/>
            <a:chOff x="3459600" y="2740680"/>
            <a:chExt cx="2518920" cy="2916000"/>
          </a:xfrm>
        </p:grpSpPr>
        <p:sp>
          <p:nvSpPr>
            <p:cNvPr id="1436" name="椭圆 93"/>
            <p:cNvSpPr/>
            <p:nvPr/>
          </p:nvSpPr>
          <p:spPr>
            <a:xfrm>
              <a:off x="3658680" y="3488040"/>
              <a:ext cx="2098080" cy="20980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437" name="矩形 94"/>
            <p:cNvSpPr/>
            <p:nvPr/>
          </p:nvSpPr>
          <p:spPr>
            <a:xfrm>
              <a:off x="3927960" y="4670640"/>
              <a:ext cx="731880" cy="7920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38" name="矩形 95"/>
            <p:cNvSpPr/>
            <p:nvPr/>
          </p:nvSpPr>
          <p:spPr>
            <a:xfrm>
              <a:off x="4852800" y="4670640"/>
              <a:ext cx="731880" cy="7920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39" name="椭圆 96"/>
            <p:cNvSpPr/>
            <p:nvPr/>
          </p:nvSpPr>
          <p:spPr>
            <a:xfrm>
              <a:off x="4389840" y="4677480"/>
              <a:ext cx="203400" cy="13932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40" name="椭圆 97"/>
            <p:cNvSpPr/>
            <p:nvPr/>
          </p:nvSpPr>
          <p:spPr>
            <a:xfrm>
              <a:off x="5289840" y="4675320"/>
              <a:ext cx="203400" cy="13932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41" name="同心圆 98"/>
            <p:cNvSpPr/>
            <p:nvPr/>
          </p:nvSpPr>
          <p:spPr>
            <a:xfrm>
              <a:off x="3625200" y="3491640"/>
              <a:ext cx="2165040" cy="2165040"/>
            </a:xfrm>
            <a:prstGeom prst="donut">
              <a:avLst>
                <a:gd name="adj" fmla="val 3806"/>
              </a:avLst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442" name="任意多边形 99"/>
            <p:cNvSpPr/>
            <p:nvPr/>
          </p:nvSpPr>
          <p:spPr>
            <a:xfrm>
              <a:off x="3459600" y="2740680"/>
              <a:ext cx="2518920" cy="1948680"/>
            </a:xfrm>
            <a:custGeom>
              <a:avLst/>
              <a:gdLst>
                <a:gd name="textAreaLeft" fmla="*/ 0 w 2518920"/>
                <a:gd name="textAreaRight" fmla="*/ 2519280 w 2518920"/>
                <a:gd name="textAreaTop" fmla="*/ 0 h 1948680"/>
                <a:gd name="textAreaBottom" fmla="*/ 1949040 h 1948680"/>
              </a:gdLst>
              <a:ahLst/>
              <a:rect l="textAreaLeft" t="textAreaTop" r="textAreaRight" b="textAreaBottom"/>
              <a:pathLst>
                <a:path w="2051532" h="1587287">
                  <a:moveTo>
                    <a:pt x="808911" y="351"/>
                  </a:moveTo>
                  <a:cubicBezTo>
                    <a:pt x="990198" y="7057"/>
                    <a:pt x="1214599" y="108722"/>
                    <a:pt x="1338958" y="216375"/>
                  </a:cubicBezTo>
                  <a:cubicBezTo>
                    <a:pt x="1490933" y="168997"/>
                    <a:pt x="1765935" y="292781"/>
                    <a:pt x="1853582" y="451008"/>
                  </a:cubicBezTo>
                  <a:cubicBezTo>
                    <a:pt x="1864538" y="470767"/>
                    <a:pt x="1873986" y="493197"/>
                    <a:pt x="1882003" y="517763"/>
                  </a:cubicBezTo>
                  <a:lnTo>
                    <a:pt x="1899991" y="589941"/>
                  </a:lnTo>
                  <a:lnTo>
                    <a:pt x="1934278" y="625455"/>
                  </a:lnTo>
                  <a:cubicBezTo>
                    <a:pt x="2092935" y="826185"/>
                    <a:pt x="2064937" y="1085462"/>
                    <a:pt x="1999607" y="1286192"/>
                  </a:cubicBezTo>
                  <a:cubicBezTo>
                    <a:pt x="1934278" y="1461831"/>
                    <a:pt x="1850283" y="1587287"/>
                    <a:pt x="1850283" y="1587287"/>
                  </a:cubicBezTo>
                  <a:cubicBezTo>
                    <a:pt x="1850283" y="1587287"/>
                    <a:pt x="1850283" y="1578923"/>
                    <a:pt x="1850283" y="1562196"/>
                  </a:cubicBezTo>
                  <a:cubicBezTo>
                    <a:pt x="1850283" y="1553832"/>
                    <a:pt x="1840950" y="1545468"/>
                    <a:pt x="1840950" y="1537105"/>
                  </a:cubicBezTo>
                  <a:cubicBezTo>
                    <a:pt x="1829284" y="1499468"/>
                    <a:pt x="1815869" y="1463399"/>
                    <a:pt x="1799245" y="1428768"/>
                  </a:cubicBezTo>
                  <a:lnTo>
                    <a:pt x="1774996" y="1389101"/>
                  </a:lnTo>
                  <a:lnTo>
                    <a:pt x="1765181" y="1409751"/>
                  </a:lnTo>
                  <a:cubicBezTo>
                    <a:pt x="1735480" y="1470045"/>
                    <a:pt x="1714071" y="1505503"/>
                    <a:pt x="1714071" y="1505503"/>
                  </a:cubicBezTo>
                  <a:lnTo>
                    <a:pt x="1714071" y="1477076"/>
                  </a:lnTo>
                  <a:cubicBezTo>
                    <a:pt x="1714071" y="1467902"/>
                    <a:pt x="1704824" y="1458276"/>
                    <a:pt x="1704824" y="1448800"/>
                  </a:cubicBezTo>
                  <a:cubicBezTo>
                    <a:pt x="1681002" y="1363595"/>
                    <a:pt x="1650095" y="1285535"/>
                    <a:pt x="1600266" y="1213396"/>
                  </a:cubicBezTo>
                  <a:lnTo>
                    <a:pt x="1573925" y="1183121"/>
                  </a:lnTo>
                  <a:lnTo>
                    <a:pt x="1523636" y="1152372"/>
                  </a:lnTo>
                  <a:cubicBezTo>
                    <a:pt x="1467640" y="1319647"/>
                    <a:pt x="1243653" y="1461831"/>
                    <a:pt x="1243653" y="1461831"/>
                  </a:cubicBezTo>
                  <a:cubicBezTo>
                    <a:pt x="1243653" y="1461831"/>
                    <a:pt x="1238987" y="1420012"/>
                    <a:pt x="1223821" y="1363557"/>
                  </a:cubicBezTo>
                  <a:lnTo>
                    <a:pt x="1195741" y="1280924"/>
                  </a:lnTo>
                  <a:lnTo>
                    <a:pt x="1172455" y="1302812"/>
                  </a:lnTo>
                  <a:cubicBezTo>
                    <a:pt x="1129383" y="1341060"/>
                    <a:pt x="1097326" y="1363670"/>
                    <a:pt x="1097326" y="1363670"/>
                  </a:cubicBezTo>
                  <a:cubicBezTo>
                    <a:pt x="1097326" y="1363670"/>
                    <a:pt x="1094668" y="1337063"/>
                    <a:pt x="1086841" y="1296815"/>
                  </a:cubicBezTo>
                  <a:lnTo>
                    <a:pt x="1080356" y="1267013"/>
                  </a:lnTo>
                  <a:lnTo>
                    <a:pt x="1049561" y="1304357"/>
                  </a:lnTo>
                  <a:cubicBezTo>
                    <a:pt x="948504" y="1413739"/>
                    <a:pt x="833011" y="1470195"/>
                    <a:pt x="833011" y="1470195"/>
                  </a:cubicBezTo>
                  <a:cubicBezTo>
                    <a:pt x="833011" y="1470195"/>
                    <a:pt x="828345" y="1428376"/>
                    <a:pt x="814346" y="1370875"/>
                  </a:cubicBezTo>
                  <a:lnTo>
                    <a:pt x="791180" y="1294081"/>
                  </a:lnTo>
                  <a:lnTo>
                    <a:pt x="751575" y="1325636"/>
                  </a:lnTo>
                  <a:cubicBezTo>
                    <a:pt x="709369" y="1357048"/>
                    <a:pt x="679997" y="1372996"/>
                    <a:pt x="679997" y="1372996"/>
                  </a:cubicBezTo>
                  <a:cubicBezTo>
                    <a:pt x="679997" y="1372996"/>
                    <a:pt x="677340" y="1346409"/>
                    <a:pt x="670011" y="1305688"/>
                  </a:cubicBezTo>
                  <a:lnTo>
                    <a:pt x="664046" y="1275752"/>
                  </a:lnTo>
                  <a:lnTo>
                    <a:pt x="605525" y="1338596"/>
                  </a:lnTo>
                  <a:cubicBezTo>
                    <a:pt x="462034" y="1478558"/>
                    <a:pt x="308043" y="1553832"/>
                    <a:pt x="301043" y="1553832"/>
                  </a:cubicBezTo>
                  <a:cubicBezTo>
                    <a:pt x="291711" y="1541286"/>
                    <a:pt x="259629" y="1495809"/>
                    <a:pt x="222736" y="1429421"/>
                  </a:cubicBezTo>
                  <a:lnTo>
                    <a:pt x="218353" y="1421130"/>
                  </a:lnTo>
                  <a:lnTo>
                    <a:pt x="190137" y="1439926"/>
                  </a:lnTo>
                  <a:cubicBezTo>
                    <a:pt x="160498" y="1458426"/>
                    <a:pt x="141551" y="1467902"/>
                    <a:pt x="139240" y="1467902"/>
                  </a:cubicBezTo>
                  <a:cubicBezTo>
                    <a:pt x="101045" y="1410898"/>
                    <a:pt x="-188231" y="747458"/>
                    <a:pt x="200753" y="369037"/>
                  </a:cubicBezTo>
                  <a:cubicBezTo>
                    <a:pt x="210201" y="359711"/>
                    <a:pt x="544506" y="28969"/>
                    <a:pt x="734274" y="3550"/>
                  </a:cubicBezTo>
                  <a:cubicBezTo>
                    <a:pt x="757995" y="373"/>
                    <a:pt x="783013" y="-607"/>
                    <a:pt x="808911" y="351"/>
                  </a:cubicBezTo>
                  <a:close/>
                </a:path>
              </a:pathLst>
            </a:custGeom>
            <a:solidFill>
              <a:srgbClr val="2e2e2e"/>
            </a:solidFill>
            <a:ln w="55563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443" name="Freeform 7"/>
          <p:cNvSpPr/>
          <p:nvPr/>
        </p:nvSpPr>
        <p:spPr>
          <a:xfrm>
            <a:off x="7516440" y="5517720"/>
            <a:ext cx="552600" cy="940320"/>
          </a:xfrm>
          <a:custGeom>
            <a:avLst/>
            <a:gdLst>
              <a:gd name="textAreaLeft" fmla="*/ 0 w 552600"/>
              <a:gd name="textAreaRight" fmla="*/ 552960 w 552600"/>
              <a:gd name="textAreaTop" fmla="*/ 0 h 940320"/>
              <a:gd name="textAreaBottom" fmla="*/ 940680 h 940320"/>
            </a:gdLst>
            <a:ahLst/>
            <a:rect l="textAreaLeft" t="textAreaTop" r="textAreaRight" b="textAreaBottom"/>
            <a:pathLst>
              <a:path w="114" h="205">
                <a:moveTo>
                  <a:pt x="57" y="205"/>
                </a:moveTo>
                <a:cubicBezTo>
                  <a:pt x="3" y="205"/>
                  <a:pt x="3" y="205"/>
                  <a:pt x="3" y="205"/>
                </a:cubicBezTo>
                <a:cubicBezTo>
                  <a:pt x="3" y="93"/>
                  <a:pt x="3" y="93"/>
                  <a:pt x="3" y="93"/>
                </a:cubicBezTo>
                <a:cubicBezTo>
                  <a:pt x="0" y="0"/>
                  <a:pt x="57" y="7"/>
                  <a:pt x="57" y="7"/>
                </a:cubicBezTo>
                <a:cubicBezTo>
                  <a:pt x="57" y="7"/>
                  <a:pt x="114" y="0"/>
                  <a:pt x="111" y="93"/>
                </a:cubicBezTo>
                <a:cubicBezTo>
                  <a:pt x="111" y="205"/>
                  <a:pt x="111" y="205"/>
                  <a:pt x="111" y="205"/>
                </a:cubicBezTo>
                <a:lnTo>
                  <a:pt x="57" y="205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1444" name="组合 61"/>
          <p:cNvGrpSpPr/>
          <p:nvPr/>
        </p:nvGrpSpPr>
        <p:grpSpPr>
          <a:xfrm>
            <a:off x="6461280" y="2699280"/>
            <a:ext cx="2453760" cy="2990520"/>
            <a:chOff x="6461280" y="2699280"/>
            <a:chExt cx="2453760" cy="2990520"/>
          </a:xfrm>
        </p:grpSpPr>
        <p:sp>
          <p:nvSpPr>
            <p:cNvPr id="1445" name="Freeform 17"/>
            <p:cNvSpPr/>
            <p:nvPr/>
          </p:nvSpPr>
          <p:spPr>
            <a:xfrm>
              <a:off x="7668360" y="2699280"/>
              <a:ext cx="1246680" cy="1617840"/>
            </a:xfrm>
            <a:custGeom>
              <a:avLst/>
              <a:gdLst>
                <a:gd name="textAreaLeft" fmla="*/ 0 w 1246680"/>
                <a:gd name="textAreaRight" fmla="*/ 1247040 w 124668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2" h="14">
                  <a:moveTo>
                    <a:pt x="1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6" y="1"/>
                    <a:pt x="7" y="2"/>
                    <a:pt x="7" y="3"/>
                  </a:cubicBezTo>
                  <a:cubicBezTo>
                    <a:pt x="7" y="4"/>
                    <a:pt x="7" y="4"/>
                    <a:pt x="8" y="4"/>
                  </a:cubicBezTo>
                  <a:cubicBezTo>
                    <a:pt x="9" y="4"/>
                    <a:pt x="10" y="5"/>
                    <a:pt x="10" y="6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2" y="9"/>
                    <a:pt x="12" y="10"/>
                  </a:cubicBezTo>
                  <a:cubicBezTo>
                    <a:pt x="12" y="12"/>
                    <a:pt x="11" y="14"/>
                    <a:pt x="9" y="12"/>
                  </a:cubicBezTo>
                  <a:cubicBezTo>
                    <a:pt x="9" y="12"/>
                    <a:pt x="9" y="11"/>
                    <a:pt x="8" y="11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7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8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7" y="9"/>
                    <a:pt x="7" y="9"/>
                    <a:pt x="7" y="10"/>
                  </a:cubicBezTo>
                  <a:cubicBezTo>
                    <a:pt x="7" y="10"/>
                    <a:pt x="7" y="10"/>
                    <a:pt x="7" y="11"/>
                  </a:cubicBezTo>
                  <a:cubicBezTo>
                    <a:pt x="7" y="11"/>
                    <a:pt x="7" y="11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5" y="12"/>
                    <a:pt x="5" y="10"/>
                    <a:pt x="4" y="9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4" y="5"/>
                    <a:pt x="4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"/>
                    <a:pt x="3" y="5"/>
                    <a:pt x="3" y="4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3" y="8"/>
                    <a:pt x="3" y="8"/>
                    <a:pt x="4" y="9"/>
                  </a:cubicBezTo>
                  <a:cubicBezTo>
                    <a:pt x="5" y="11"/>
                    <a:pt x="3" y="13"/>
                    <a:pt x="1" y="12"/>
                  </a:cubicBezTo>
                  <a:cubicBezTo>
                    <a:pt x="0" y="11"/>
                    <a:pt x="0" y="9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446" name="Freeform 16"/>
            <p:cNvSpPr/>
            <p:nvPr/>
          </p:nvSpPr>
          <p:spPr>
            <a:xfrm>
              <a:off x="6461280" y="2727360"/>
              <a:ext cx="1352160" cy="1501560"/>
            </a:xfrm>
            <a:custGeom>
              <a:avLst/>
              <a:gdLst>
                <a:gd name="textAreaLeft" fmla="*/ 0 w 1352160"/>
                <a:gd name="textAreaRight" fmla="*/ 1352520 w 135216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13" h="13">
                  <a:moveTo>
                    <a:pt x="8" y="10"/>
                  </a:moveTo>
                  <a:cubicBezTo>
                    <a:pt x="8" y="10"/>
                    <a:pt x="7" y="10"/>
                    <a:pt x="7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5" y="7"/>
                    <a:pt x="6" y="6"/>
                    <a:pt x="6" y="5"/>
                  </a:cubicBezTo>
                  <a:cubicBezTo>
                    <a:pt x="7" y="5"/>
                    <a:pt x="7" y="5"/>
                    <a:pt x="7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9" y="7"/>
                    <a:pt x="9" y="7"/>
                    <a:pt x="9" y="6"/>
                  </a:cubicBezTo>
                  <a:cubicBezTo>
                    <a:pt x="9" y="6"/>
                    <a:pt x="9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7" y="4"/>
                    <a:pt x="7" y="4"/>
                  </a:cubicBezTo>
                  <a:cubicBezTo>
                    <a:pt x="7" y="4"/>
                    <a:pt x="7" y="4"/>
                    <a:pt x="6" y="5"/>
                  </a:cubicBezTo>
                  <a:cubicBezTo>
                    <a:pt x="5" y="5"/>
                    <a:pt x="5" y="7"/>
                    <a:pt x="6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4" y="11"/>
                    <a:pt x="4" y="12"/>
                  </a:cubicBezTo>
                  <a:cubicBezTo>
                    <a:pt x="3" y="13"/>
                    <a:pt x="3" y="13"/>
                    <a:pt x="2" y="13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5"/>
                    <a:pt x="3" y="4"/>
                    <a:pt x="4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0"/>
                    <a:pt x="13" y="2"/>
                    <a:pt x="11" y="4"/>
                  </a:cubicBezTo>
                  <a:cubicBezTo>
                    <a:pt x="11" y="5"/>
                    <a:pt x="11" y="5"/>
                    <a:pt x="11" y="6"/>
                  </a:cubicBezTo>
                  <a:cubicBezTo>
                    <a:pt x="12" y="7"/>
                    <a:pt x="12" y="10"/>
                    <a:pt x="10" y="9"/>
                  </a:cubicBezTo>
                  <a:cubicBezTo>
                    <a:pt x="9" y="9"/>
                    <a:pt x="9" y="9"/>
                    <a:pt x="8" y="10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447" name="Freeform 19"/>
            <p:cNvSpPr/>
            <p:nvPr/>
          </p:nvSpPr>
          <p:spPr>
            <a:xfrm>
              <a:off x="7085880" y="3882600"/>
              <a:ext cx="623880" cy="3463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6" h="3">
                  <a:moveTo>
                    <a:pt x="2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3"/>
                    <a:pt x="4" y="2"/>
                    <a:pt x="2" y="3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448" name="任意多边形 65"/>
            <p:cNvSpPr/>
            <p:nvPr/>
          </p:nvSpPr>
          <p:spPr>
            <a:xfrm>
              <a:off x="6544800" y="4179240"/>
              <a:ext cx="2366280" cy="1510560"/>
            </a:xfrm>
            <a:custGeom>
              <a:avLst/>
              <a:gdLst>
                <a:gd name="textAreaLeft" fmla="*/ 0 w 2366280"/>
                <a:gd name="textAreaRight" fmla="*/ 2366640 w 2366280"/>
                <a:gd name="textAreaTop" fmla="*/ 0 h 1510560"/>
                <a:gd name="textAreaBottom" fmla="*/ 1510920 h 1510560"/>
              </a:gdLst>
              <a:ahLst/>
              <a:rect l="textAreaLeft" t="textAreaTop" r="textAreaRight" b="textAreaBottom"/>
              <a:pathLst>
                <a:path w="3713312" h="2370974">
                  <a:moveTo>
                    <a:pt x="0" y="0"/>
                  </a:moveTo>
                  <a:lnTo>
                    <a:pt x="3713312" y="0"/>
                  </a:lnTo>
                  <a:lnTo>
                    <a:pt x="3702869" y="86603"/>
                  </a:lnTo>
                  <a:cubicBezTo>
                    <a:pt x="3685788" y="188493"/>
                    <a:pt x="3660167" y="287034"/>
                    <a:pt x="3630275" y="378878"/>
                  </a:cubicBezTo>
                  <a:cubicBezTo>
                    <a:pt x="3570492" y="539606"/>
                    <a:pt x="3502169" y="677373"/>
                    <a:pt x="3448792" y="774957"/>
                  </a:cubicBezTo>
                  <a:lnTo>
                    <a:pt x="3442867" y="785466"/>
                  </a:lnTo>
                  <a:lnTo>
                    <a:pt x="3435953" y="922398"/>
                  </a:lnTo>
                  <a:cubicBezTo>
                    <a:pt x="3353322" y="1736041"/>
                    <a:pt x="2666174" y="2370974"/>
                    <a:pt x="1830729" y="2370974"/>
                  </a:cubicBezTo>
                  <a:cubicBezTo>
                    <a:pt x="939588" y="2370974"/>
                    <a:pt x="217175" y="1648561"/>
                    <a:pt x="217175" y="757421"/>
                  </a:cubicBezTo>
                  <a:lnTo>
                    <a:pt x="219301" y="701323"/>
                  </a:lnTo>
                  <a:lnTo>
                    <a:pt x="217572" y="698461"/>
                  </a:lnTo>
                  <a:cubicBezTo>
                    <a:pt x="176475" y="625519"/>
                    <a:pt x="62382" y="362363"/>
                    <a:pt x="4783" y="33206"/>
                  </a:cubicBezTo>
                  <a:close/>
                </a:path>
              </a:pathLst>
            </a:custGeom>
            <a:solidFill>
              <a:schemeClr val="bg1"/>
            </a:solidFill>
            <a:ln w="63500">
              <a:solidFill>
                <a:srgbClr val="2d2d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449" name="弦形 66"/>
            <p:cNvSpPr/>
            <p:nvPr/>
          </p:nvSpPr>
          <p:spPr>
            <a:xfrm>
              <a:off x="6772320" y="4188600"/>
              <a:ext cx="843840" cy="84384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450" name="弦形 67"/>
            <p:cNvSpPr/>
            <p:nvPr/>
          </p:nvSpPr>
          <p:spPr>
            <a:xfrm>
              <a:off x="7751880" y="4188600"/>
              <a:ext cx="843840" cy="84384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grpSp>
          <p:nvGrpSpPr>
            <p:cNvPr id="1451" name="组合 68"/>
            <p:cNvGrpSpPr/>
            <p:nvPr/>
          </p:nvGrpSpPr>
          <p:grpSpPr>
            <a:xfrm>
              <a:off x="6696360" y="4186800"/>
              <a:ext cx="2078280" cy="448560"/>
              <a:chOff x="6696360" y="4186800"/>
              <a:chExt cx="2078280" cy="448560"/>
            </a:xfrm>
          </p:grpSpPr>
          <p:sp>
            <p:nvSpPr>
              <p:cNvPr id="1452" name="圆角矩形 79"/>
              <p:cNvSpPr/>
              <p:nvPr/>
            </p:nvSpPr>
            <p:spPr>
              <a:xfrm>
                <a:off x="6696360" y="4366440"/>
                <a:ext cx="2078280" cy="630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8440" bIns="28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53" name="圆角矩形 80"/>
              <p:cNvSpPr/>
              <p:nvPr/>
            </p:nvSpPr>
            <p:spPr>
              <a:xfrm rot="5400000">
                <a:off x="6777000" y="4361040"/>
                <a:ext cx="21852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54" name="圆角矩形 81"/>
              <p:cNvSpPr/>
              <p:nvPr/>
            </p:nvSpPr>
            <p:spPr>
              <a:xfrm rot="5400000">
                <a:off x="6923160" y="4361040"/>
                <a:ext cx="26460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55" name="圆角矩形 82"/>
              <p:cNvSpPr/>
              <p:nvPr/>
            </p:nvSpPr>
            <p:spPr>
              <a:xfrm rot="5400000">
                <a:off x="7105680" y="4363560"/>
                <a:ext cx="29124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56" name="圆角矩形 83"/>
              <p:cNvSpPr/>
              <p:nvPr/>
            </p:nvSpPr>
            <p:spPr>
              <a:xfrm rot="5400000">
                <a:off x="7331760" y="4350600"/>
                <a:ext cx="26460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57" name="圆角矩形 84"/>
              <p:cNvSpPr/>
              <p:nvPr/>
            </p:nvSpPr>
            <p:spPr>
              <a:xfrm rot="5400000">
                <a:off x="7498800" y="4378320"/>
                <a:ext cx="42624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58" name="圆角矩形 85"/>
              <p:cNvSpPr/>
              <p:nvPr/>
            </p:nvSpPr>
            <p:spPr>
              <a:xfrm rot="5400000">
                <a:off x="7794360" y="4336920"/>
                <a:ext cx="38772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59" name="圆角矩形 86"/>
              <p:cNvSpPr/>
              <p:nvPr/>
            </p:nvSpPr>
            <p:spPr>
              <a:xfrm rot="5400000">
                <a:off x="8093160" y="4367160"/>
                <a:ext cx="240480" cy="79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6000" bIns="3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60" name="圆角矩形 87"/>
              <p:cNvSpPr/>
              <p:nvPr/>
            </p:nvSpPr>
            <p:spPr>
              <a:xfrm rot="5400000">
                <a:off x="8191800" y="4378680"/>
                <a:ext cx="35244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61" name="圆角矩形 88"/>
              <p:cNvSpPr/>
              <p:nvPr/>
            </p:nvSpPr>
            <p:spPr>
              <a:xfrm rot="5400000">
                <a:off x="8498880" y="4336920"/>
                <a:ext cx="29124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462" name="组合 69"/>
            <p:cNvGrpSpPr/>
            <p:nvPr/>
          </p:nvGrpSpPr>
          <p:grpSpPr>
            <a:xfrm>
              <a:off x="7980480" y="5124960"/>
              <a:ext cx="436320" cy="313200"/>
              <a:chOff x="7980480" y="5124960"/>
              <a:chExt cx="436320" cy="313200"/>
            </a:xfrm>
          </p:grpSpPr>
          <p:sp>
            <p:nvSpPr>
              <p:cNvPr id="1463" name="圆角矩形 75"/>
              <p:cNvSpPr/>
              <p:nvPr/>
            </p:nvSpPr>
            <p:spPr>
              <a:xfrm rot="12242400">
                <a:off x="7968600" y="5271120"/>
                <a:ext cx="459360" cy="414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8720" bIns="18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64" name="圆角矩形 76"/>
              <p:cNvSpPr/>
              <p:nvPr/>
            </p:nvSpPr>
            <p:spPr>
              <a:xfrm rot="17643000">
                <a:off x="8236080" y="5309280"/>
                <a:ext cx="179280" cy="666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65" name="圆角矩形 77"/>
              <p:cNvSpPr/>
              <p:nvPr/>
            </p:nvSpPr>
            <p:spPr>
              <a:xfrm rot="17643000">
                <a:off x="8099640" y="5256720"/>
                <a:ext cx="217080" cy="666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66" name="圆角矩形 78"/>
              <p:cNvSpPr/>
              <p:nvPr/>
            </p:nvSpPr>
            <p:spPr>
              <a:xfrm rot="17643000">
                <a:off x="7967160" y="5204160"/>
                <a:ext cx="217080" cy="666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467" name="组合 70"/>
            <p:cNvGrpSpPr/>
            <p:nvPr/>
          </p:nvGrpSpPr>
          <p:grpSpPr>
            <a:xfrm>
              <a:off x="6867000" y="5046840"/>
              <a:ext cx="362880" cy="394920"/>
              <a:chOff x="6867000" y="5046840"/>
              <a:chExt cx="362880" cy="394920"/>
            </a:xfrm>
          </p:grpSpPr>
          <p:sp>
            <p:nvSpPr>
              <p:cNvPr id="1468" name="圆角矩形 71"/>
              <p:cNvSpPr/>
              <p:nvPr/>
            </p:nvSpPr>
            <p:spPr>
              <a:xfrm rot="14032200">
                <a:off x="6824520" y="5224320"/>
                <a:ext cx="456840" cy="414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8720" bIns="18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69" name="圆角矩形 72"/>
              <p:cNvSpPr/>
              <p:nvPr/>
            </p:nvSpPr>
            <p:spPr>
              <a:xfrm rot="19432200">
                <a:off x="7048080" y="5318640"/>
                <a:ext cx="179280" cy="662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70" name="圆角矩形 73"/>
              <p:cNvSpPr/>
              <p:nvPr/>
            </p:nvSpPr>
            <p:spPr>
              <a:xfrm rot="19432200">
                <a:off x="6953760" y="5215320"/>
                <a:ext cx="217080" cy="662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471" name="圆角矩形 74"/>
              <p:cNvSpPr/>
              <p:nvPr/>
            </p:nvSpPr>
            <p:spPr>
              <a:xfrm rot="19432200">
                <a:off x="6865560" y="5104440"/>
                <a:ext cx="217080" cy="662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</p:grpSp>
      <p:sp>
        <p:nvSpPr>
          <p:cNvPr id="1472" name="文本框 51"/>
          <p:cNvSpPr/>
          <p:nvPr/>
        </p:nvSpPr>
        <p:spPr>
          <a:xfrm>
            <a:off x="968040" y="3614040"/>
            <a:ext cx="1535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喂喂喂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不要吃人啦</a:t>
            </a:r>
            <a:r>
              <a:rPr b="1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组合 105"/>
          <p:cNvGrpSpPr/>
          <p:nvPr/>
        </p:nvGrpSpPr>
        <p:grpSpPr>
          <a:xfrm>
            <a:off x="9190800" y="2740680"/>
            <a:ext cx="1867680" cy="1910520"/>
            <a:chOff x="9190800" y="2740680"/>
            <a:chExt cx="1867680" cy="1910520"/>
          </a:xfrm>
        </p:grpSpPr>
        <p:sp>
          <p:nvSpPr>
            <p:cNvPr id="1474" name="椭圆 103"/>
            <p:cNvSpPr/>
            <p:nvPr/>
          </p:nvSpPr>
          <p:spPr>
            <a:xfrm>
              <a:off x="9224640" y="2740680"/>
              <a:ext cx="1833840" cy="18338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6600" spc="-1" strike="noStrike">
                <a:solidFill>
                  <a:schemeClr val="accent2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75" name="等腰三角形 104"/>
            <p:cNvSpPr/>
            <p:nvPr/>
          </p:nvSpPr>
          <p:spPr>
            <a:xfrm rot="13275600">
              <a:off x="9390240" y="3872880"/>
              <a:ext cx="376200" cy="74700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476" name="文本框 89"/>
          <p:cNvSpPr/>
          <p:nvPr/>
        </p:nvSpPr>
        <p:spPr>
          <a:xfrm>
            <a:off x="9747720" y="3377160"/>
            <a:ext cx="78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矩形 30"/>
          <p:cNvSpPr/>
          <p:nvPr/>
        </p:nvSpPr>
        <p:spPr>
          <a:xfrm>
            <a:off x="6526080" y="3518280"/>
            <a:ext cx="4606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僵尸大脑中的语言回路存在大面积的功能失调</a:t>
            </a:r>
            <a:r>
              <a:rPr b="0" lang="en-US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,</a:t>
            </a:r>
            <a:r>
              <a:rPr b="0" lang="zh-CN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僵尸真的只能理解两种情绪：愤怒和饥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31"/>
          <p:cNvSpPr/>
          <p:nvPr/>
        </p:nvSpPr>
        <p:spPr>
          <a:xfrm>
            <a:off x="6513120" y="2710800"/>
            <a:ext cx="46198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僵尸听不懂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9" name="直接连接符 48"/>
          <p:cNvCxnSpPr/>
          <p:nvPr/>
        </p:nvCxnSpPr>
        <p:spPr>
          <a:xfrm>
            <a:off x="6095880" y="2338920"/>
            <a:ext cx="360" cy="43700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sp>
        <p:nvSpPr>
          <p:cNvPr id="1480" name="矩形 49"/>
          <p:cNvSpPr/>
          <p:nvPr/>
        </p:nvSpPr>
        <p:spPr>
          <a:xfrm>
            <a:off x="4933440" y="1326240"/>
            <a:ext cx="2324520" cy="6645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Segoe UI Light 8"/>
                <a:ea typeface="微软雅黑 Light"/>
              </a:rPr>
              <a:t>科学依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1" name="直接连接符 50"/>
          <p:cNvCxnSpPr/>
          <p:nvPr/>
        </p:nvCxnSpPr>
        <p:spPr>
          <a:xfrm>
            <a:off x="755640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cxnSp>
        <p:nvCxnSpPr>
          <p:cNvPr id="1482" name="直接连接符 51"/>
          <p:cNvCxnSpPr/>
          <p:nvPr/>
        </p:nvCxnSpPr>
        <p:spPr>
          <a:xfrm>
            <a:off x="99036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sp>
        <p:nvSpPr>
          <p:cNvPr id="1483" name="Freeform 5"/>
          <p:cNvSpPr/>
          <p:nvPr/>
        </p:nvSpPr>
        <p:spPr>
          <a:xfrm>
            <a:off x="1873440" y="2870280"/>
            <a:ext cx="2671560" cy="2789280"/>
          </a:xfrm>
          <a:custGeom>
            <a:avLst/>
            <a:gdLst>
              <a:gd name="textAreaLeft" fmla="*/ 0 w 2671560"/>
              <a:gd name="textAreaRight" fmla="*/ 2671920 w 2671560"/>
              <a:gd name="textAreaTop" fmla="*/ 0 h 2789280"/>
              <a:gd name="textAreaBottom" fmla="*/ 2789640 h 2789280"/>
            </a:gdLst>
            <a:ahLst/>
            <a:rect l="textAreaLeft" t="textAreaTop" r="textAreaRight" b="textAreaBottom"/>
            <a:pathLst>
              <a:path w="193" h="202">
                <a:moveTo>
                  <a:pt x="182" y="25"/>
                </a:moveTo>
                <a:cubicBezTo>
                  <a:pt x="177" y="25"/>
                  <a:pt x="172" y="22"/>
                  <a:pt x="171" y="17"/>
                </a:cubicBezTo>
                <a:cubicBezTo>
                  <a:pt x="163" y="16"/>
                  <a:pt x="158" y="21"/>
                  <a:pt x="155" y="25"/>
                </a:cubicBezTo>
                <a:cubicBezTo>
                  <a:pt x="158" y="27"/>
                  <a:pt x="161" y="30"/>
                  <a:pt x="164" y="32"/>
                </a:cubicBezTo>
                <a:cubicBezTo>
                  <a:pt x="164" y="33"/>
                  <a:pt x="164" y="33"/>
                  <a:pt x="165" y="33"/>
                </a:cubicBezTo>
                <a:cubicBezTo>
                  <a:pt x="167" y="32"/>
                  <a:pt x="170" y="31"/>
                  <a:pt x="173" y="31"/>
                </a:cubicBezTo>
                <a:cubicBezTo>
                  <a:pt x="182" y="31"/>
                  <a:pt x="189" y="38"/>
                  <a:pt x="189" y="47"/>
                </a:cubicBezTo>
                <a:cubicBezTo>
                  <a:pt x="189" y="54"/>
                  <a:pt x="184" y="60"/>
                  <a:pt x="176" y="62"/>
                </a:cubicBezTo>
                <a:cubicBezTo>
                  <a:pt x="176" y="62"/>
                  <a:pt x="177" y="63"/>
                  <a:pt x="177" y="64"/>
                </a:cubicBezTo>
                <a:cubicBezTo>
                  <a:pt x="177" y="64"/>
                  <a:pt x="177" y="64"/>
                  <a:pt x="177" y="64"/>
                </a:cubicBezTo>
                <a:cubicBezTo>
                  <a:pt x="177" y="70"/>
                  <a:pt x="175" y="76"/>
                  <a:pt x="173" y="81"/>
                </a:cubicBezTo>
                <a:cubicBezTo>
                  <a:pt x="172" y="83"/>
                  <a:pt x="171" y="85"/>
                  <a:pt x="170" y="87"/>
                </a:cubicBezTo>
                <a:cubicBezTo>
                  <a:pt x="180" y="95"/>
                  <a:pt x="183" y="110"/>
                  <a:pt x="184" y="120"/>
                </a:cubicBezTo>
                <a:cubicBezTo>
                  <a:pt x="189" y="121"/>
                  <a:pt x="193" y="125"/>
                  <a:pt x="193" y="130"/>
                </a:cubicBezTo>
                <a:cubicBezTo>
                  <a:pt x="193" y="136"/>
                  <a:pt x="188" y="141"/>
                  <a:pt x="182" y="141"/>
                </a:cubicBezTo>
                <a:cubicBezTo>
                  <a:pt x="176" y="141"/>
                  <a:pt x="171" y="136"/>
                  <a:pt x="171" y="130"/>
                </a:cubicBezTo>
                <a:cubicBezTo>
                  <a:pt x="171" y="126"/>
                  <a:pt x="173" y="123"/>
                  <a:pt x="177" y="121"/>
                </a:cubicBezTo>
                <a:cubicBezTo>
                  <a:pt x="174" y="113"/>
                  <a:pt x="170" y="103"/>
                  <a:pt x="163" y="96"/>
                </a:cubicBezTo>
                <a:cubicBezTo>
                  <a:pt x="162" y="97"/>
                  <a:pt x="161" y="97"/>
                  <a:pt x="160" y="98"/>
                </a:cubicBezTo>
                <a:cubicBezTo>
                  <a:pt x="158" y="100"/>
                  <a:pt x="155" y="102"/>
                  <a:pt x="153" y="103"/>
                </a:cubicBezTo>
                <a:cubicBezTo>
                  <a:pt x="153" y="104"/>
                  <a:pt x="153" y="104"/>
                  <a:pt x="153" y="105"/>
                </a:cubicBezTo>
                <a:cubicBezTo>
                  <a:pt x="153" y="108"/>
                  <a:pt x="151" y="112"/>
                  <a:pt x="147" y="113"/>
                </a:cubicBezTo>
                <a:cubicBezTo>
                  <a:pt x="146" y="118"/>
                  <a:pt x="143" y="122"/>
                  <a:pt x="139" y="125"/>
                </a:cubicBezTo>
                <a:cubicBezTo>
                  <a:pt x="155" y="144"/>
                  <a:pt x="151" y="165"/>
                  <a:pt x="146" y="177"/>
                </a:cubicBezTo>
                <a:cubicBezTo>
                  <a:pt x="148" y="180"/>
                  <a:pt x="149" y="183"/>
                  <a:pt x="149" y="186"/>
                </a:cubicBezTo>
                <a:cubicBezTo>
                  <a:pt x="149" y="195"/>
                  <a:pt x="142" y="202"/>
                  <a:pt x="134" y="202"/>
                </a:cubicBezTo>
                <a:cubicBezTo>
                  <a:pt x="125" y="202"/>
                  <a:pt x="119" y="195"/>
                  <a:pt x="119" y="186"/>
                </a:cubicBezTo>
                <a:cubicBezTo>
                  <a:pt x="119" y="178"/>
                  <a:pt x="125" y="171"/>
                  <a:pt x="134" y="171"/>
                </a:cubicBezTo>
                <a:cubicBezTo>
                  <a:pt x="135" y="171"/>
                  <a:pt x="137" y="171"/>
                  <a:pt x="138" y="172"/>
                </a:cubicBezTo>
                <a:cubicBezTo>
                  <a:pt x="139" y="161"/>
                  <a:pt x="138" y="147"/>
                  <a:pt x="130" y="134"/>
                </a:cubicBezTo>
                <a:cubicBezTo>
                  <a:pt x="124" y="157"/>
                  <a:pt x="105" y="174"/>
                  <a:pt x="82" y="177"/>
                </a:cubicBezTo>
                <a:cubicBezTo>
                  <a:pt x="82" y="178"/>
                  <a:pt x="82" y="178"/>
                  <a:pt x="82" y="179"/>
                </a:cubicBezTo>
                <a:cubicBezTo>
                  <a:pt x="82" y="186"/>
                  <a:pt x="76" y="192"/>
                  <a:pt x="69" y="192"/>
                </a:cubicBezTo>
                <a:cubicBezTo>
                  <a:pt x="61" y="192"/>
                  <a:pt x="56" y="186"/>
                  <a:pt x="56" y="179"/>
                </a:cubicBezTo>
                <a:cubicBezTo>
                  <a:pt x="56" y="177"/>
                  <a:pt x="56" y="176"/>
                  <a:pt x="56" y="175"/>
                </a:cubicBezTo>
                <a:cubicBezTo>
                  <a:pt x="44" y="170"/>
                  <a:pt x="33" y="162"/>
                  <a:pt x="26" y="151"/>
                </a:cubicBezTo>
                <a:cubicBezTo>
                  <a:pt x="20" y="153"/>
                  <a:pt x="12" y="159"/>
                  <a:pt x="11" y="177"/>
                </a:cubicBezTo>
                <a:cubicBezTo>
                  <a:pt x="16" y="178"/>
                  <a:pt x="19" y="182"/>
                  <a:pt x="19" y="186"/>
                </a:cubicBezTo>
                <a:cubicBezTo>
                  <a:pt x="19" y="192"/>
                  <a:pt x="15" y="196"/>
                  <a:pt x="10" y="196"/>
                </a:cubicBezTo>
                <a:cubicBezTo>
                  <a:pt x="5" y="196"/>
                  <a:pt x="1" y="192"/>
                  <a:pt x="1" y="186"/>
                </a:cubicBezTo>
                <a:cubicBezTo>
                  <a:pt x="1" y="184"/>
                  <a:pt x="2" y="181"/>
                  <a:pt x="3" y="180"/>
                </a:cubicBezTo>
                <a:cubicBezTo>
                  <a:pt x="1" y="167"/>
                  <a:pt x="0" y="144"/>
                  <a:pt x="20" y="139"/>
                </a:cubicBezTo>
                <a:cubicBezTo>
                  <a:pt x="19" y="133"/>
                  <a:pt x="18" y="127"/>
                  <a:pt x="18" y="121"/>
                </a:cubicBezTo>
                <a:cubicBezTo>
                  <a:pt x="18" y="119"/>
                  <a:pt x="18" y="118"/>
                  <a:pt x="18" y="116"/>
                </a:cubicBezTo>
                <a:cubicBezTo>
                  <a:pt x="6" y="108"/>
                  <a:pt x="5" y="92"/>
                  <a:pt x="6" y="83"/>
                </a:cubicBezTo>
                <a:cubicBezTo>
                  <a:pt x="3" y="81"/>
                  <a:pt x="1" y="78"/>
                  <a:pt x="1" y="74"/>
                </a:cubicBezTo>
                <a:cubicBezTo>
                  <a:pt x="1" y="69"/>
                  <a:pt x="5" y="65"/>
                  <a:pt x="10" y="65"/>
                </a:cubicBezTo>
                <a:cubicBezTo>
                  <a:pt x="15" y="65"/>
                  <a:pt x="19" y="69"/>
                  <a:pt x="19" y="74"/>
                </a:cubicBezTo>
                <a:cubicBezTo>
                  <a:pt x="19" y="79"/>
                  <a:pt x="16" y="82"/>
                  <a:pt x="12" y="83"/>
                </a:cubicBezTo>
                <a:cubicBezTo>
                  <a:pt x="13" y="89"/>
                  <a:pt x="16" y="97"/>
                  <a:pt x="21" y="102"/>
                </a:cubicBezTo>
                <a:cubicBezTo>
                  <a:pt x="24" y="94"/>
                  <a:pt x="28" y="87"/>
                  <a:pt x="34" y="81"/>
                </a:cubicBezTo>
                <a:cubicBezTo>
                  <a:pt x="33" y="79"/>
                  <a:pt x="32" y="77"/>
                  <a:pt x="32" y="74"/>
                </a:cubicBezTo>
                <a:cubicBezTo>
                  <a:pt x="32" y="67"/>
                  <a:pt x="38" y="62"/>
                  <a:pt x="45" y="62"/>
                </a:cubicBezTo>
                <a:cubicBezTo>
                  <a:pt x="49" y="62"/>
                  <a:pt x="53" y="64"/>
                  <a:pt x="55" y="67"/>
                </a:cubicBezTo>
                <a:cubicBezTo>
                  <a:pt x="60" y="66"/>
                  <a:pt x="65" y="65"/>
                  <a:pt x="69" y="64"/>
                </a:cubicBezTo>
                <a:cubicBezTo>
                  <a:pt x="69" y="64"/>
                  <a:pt x="69" y="63"/>
                  <a:pt x="69" y="63"/>
                </a:cubicBezTo>
                <a:cubicBezTo>
                  <a:pt x="69" y="55"/>
                  <a:pt x="75" y="49"/>
                  <a:pt x="83" y="49"/>
                </a:cubicBezTo>
                <a:cubicBezTo>
                  <a:pt x="85" y="49"/>
                  <a:pt x="87" y="50"/>
                  <a:pt x="89" y="51"/>
                </a:cubicBezTo>
                <a:cubicBezTo>
                  <a:pt x="90" y="49"/>
                  <a:pt x="90" y="48"/>
                  <a:pt x="91" y="46"/>
                </a:cubicBezTo>
                <a:cubicBezTo>
                  <a:pt x="92" y="44"/>
                  <a:pt x="93" y="43"/>
                  <a:pt x="94" y="41"/>
                </a:cubicBezTo>
                <a:cubicBezTo>
                  <a:pt x="82" y="23"/>
                  <a:pt x="70" y="20"/>
                  <a:pt x="61" y="21"/>
                </a:cubicBezTo>
                <a:cubicBezTo>
                  <a:pt x="61" y="21"/>
                  <a:pt x="61" y="22"/>
                  <a:pt x="61" y="22"/>
                </a:cubicBezTo>
                <a:cubicBezTo>
                  <a:pt x="61" y="31"/>
                  <a:pt x="54" y="38"/>
                  <a:pt x="46" y="38"/>
                </a:cubicBezTo>
                <a:cubicBezTo>
                  <a:pt x="37" y="38"/>
                  <a:pt x="31" y="31"/>
                  <a:pt x="31" y="22"/>
                </a:cubicBezTo>
                <a:cubicBezTo>
                  <a:pt x="31" y="14"/>
                  <a:pt x="37" y="7"/>
                  <a:pt x="46" y="7"/>
                </a:cubicBezTo>
                <a:cubicBezTo>
                  <a:pt x="51" y="7"/>
                  <a:pt x="56" y="10"/>
                  <a:pt x="59" y="15"/>
                </a:cubicBezTo>
                <a:cubicBezTo>
                  <a:pt x="70" y="10"/>
                  <a:pt x="89" y="7"/>
                  <a:pt x="105" y="28"/>
                </a:cubicBezTo>
                <a:cubicBezTo>
                  <a:pt x="113" y="23"/>
                  <a:pt x="122" y="19"/>
                  <a:pt x="132" y="19"/>
                </a:cubicBezTo>
                <a:cubicBezTo>
                  <a:pt x="134" y="19"/>
                  <a:pt x="136" y="19"/>
                  <a:pt x="138" y="20"/>
                </a:cubicBezTo>
                <a:cubicBezTo>
                  <a:pt x="142" y="11"/>
                  <a:pt x="153" y="0"/>
                  <a:pt x="173" y="9"/>
                </a:cubicBezTo>
                <a:cubicBezTo>
                  <a:pt x="174" y="6"/>
                  <a:pt x="178" y="4"/>
                  <a:pt x="182" y="4"/>
                </a:cubicBezTo>
                <a:cubicBezTo>
                  <a:pt x="188" y="4"/>
                  <a:pt x="193" y="8"/>
                  <a:pt x="193" y="14"/>
                </a:cubicBezTo>
                <a:cubicBezTo>
                  <a:pt x="193" y="20"/>
                  <a:pt x="188" y="25"/>
                  <a:pt x="182" y="25"/>
                </a:cubicBezTo>
                <a:close/>
                <a:moveTo>
                  <a:pt x="167" y="54"/>
                </a:moveTo>
                <a:cubicBezTo>
                  <a:pt x="170" y="54"/>
                  <a:pt x="172" y="52"/>
                  <a:pt x="172" y="49"/>
                </a:cubicBezTo>
                <a:cubicBezTo>
                  <a:pt x="172" y="47"/>
                  <a:pt x="170" y="45"/>
                  <a:pt x="167" y="45"/>
                </a:cubicBezTo>
                <a:cubicBezTo>
                  <a:pt x="165" y="45"/>
                  <a:pt x="163" y="47"/>
                  <a:pt x="163" y="49"/>
                </a:cubicBezTo>
                <a:cubicBezTo>
                  <a:pt x="163" y="52"/>
                  <a:pt x="165" y="54"/>
                  <a:pt x="167" y="54"/>
                </a:cubicBezTo>
                <a:close/>
                <a:moveTo>
                  <a:pt x="50" y="107"/>
                </a:moveTo>
                <a:cubicBezTo>
                  <a:pt x="50" y="107"/>
                  <a:pt x="49" y="107"/>
                  <a:pt x="48" y="107"/>
                </a:cubicBezTo>
                <a:cubicBezTo>
                  <a:pt x="48" y="107"/>
                  <a:pt x="48" y="107"/>
                  <a:pt x="48" y="107"/>
                </a:cubicBezTo>
                <a:cubicBezTo>
                  <a:pt x="48" y="103"/>
                  <a:pt x="45" y="100"/>
                  <a:pt x="41" y="100"/>
                </a:cubicBezTo>
                <a:cubicBezTo>
                  <a:pt x="38" y="100"/>
                  <a:pt x="35" y="103"/>
                  <a:pt x="35" y="107"/>
                </a:cubicBezTo>
                <a:cubicBezTo>
                  <a:pt x="35" y="109"/>
                  <a:pt x="36" y="111"/>
                  <a:pt x="38" y="112"/>
                </a:cubicBezTo>
                <a:cubicBezTo>
                  <a:pt x="36" y="115"/>
                  <a:pt x="35" y="118"/>
                  <a:pt x="35" y="122"/>
                </a:cubicBezTo>
                <a:cubicBezTo>
                  <a:pt x="35" y="130"/>
                  <a:pt x="42" y="137"/>
                  <a:pt x="50" y="137"/>
                </a:cubicBezTo>
                <a:cubicBezTo>
                  <a:pt x="59" y="137"/>
                  <a:pt x="66" y="130"/>
                  <a:pt x="66" y="122"/>
                </a:cubicBezTo>
                <a:cubicBezTo>
                  <a:pt x="66" y="113"/>
                  <a:pt x="59" y="107"/>
                  <a:pt x="50" y="107"/>
                </a:cubicBezTo>
                <a:close/>
                <a:moveTo>
                  <a:pt x="78" y="87"/>
                </a:moveTo>
                <a:cubicBezTo>
                  <a:pt x="76" y="87"/>
                  <a:pt x="74" y="89"/>
                  <a:pt x="74" y="91"/>
                </a:cubicBezTo>
                <a:cubicBezTo>
                  <a:pt x="74" y="94"/>
                  <a:pt x="76" y="96"/>
                  <a:pt x="78" y="96"/>
                </a:cubicBezTo>
                <a:cubicBezTo>
                  <a:pt x="81" y="96"/>
                  <a:pt x="83" y="94"/>
                  <a:pt x="83" y="91"/>
                </a:cubicBezTo>
                <a:cubicBezTo>
                  <a:pt x="83" y="89"/>
                  <a:pt x="81" y="87"/>
                  <a:pt x="78" y="87"/>
                </a:cubicBezTo>
                <a:close/>
                <a:moveTo>
                  <a:pt x="82" y="153"/>
                </a:moveTo>
                <a:cubicBezTo>
                  <a:pt x="82" y="156"/>
                  <a:pt x="84" y="158"/>
                  <a:pt x="86" y="158"/>
                </a:cubicBezTo>
                <a:cubicBezTo>
                  <a:pt x="89" y="158"/>
                  <a:pt x="91" y="156"/>
                  <a:pt x="91" y="153"/>
                </a:cubicBezTo>
                <a:cubicBezTo>
                  <a:pt x="91" y="151"/>
                  <a:pt x="89" y="149"/>
                  <a:pt x="86" y="149"/>
                </a:cubicBezTo>
                <a:cubicBezTo>
                  <a:pt x="84" y="149"/>
                  <a:pt x="82" y="151"/>
                  <a:pt x="82" y="153"/>
                </a:cubicBezTo>
                <a:close/>
                <a:moveTo>
                  <a:pt x="88" y="65"/>
                </a:moveTo>
                <a:cubicBezTo>
                  <a:pt x="85" y="65"/>
                  <a:pt x="83" y="67"/>
                  <a:pt x="83" y="70"/>
                </a:cubicBezTo>
                <a:cubicBezTo>
                  <a:pt x="83" y="72"/>
                  <a:pt x="85" y="74"/>
                  <a:pt x="88" y="74"/>
                </a:cubicBezTo>
                <a:cubicBezTo>
                  <a:pt x="90" y="74"/>
                  <a:pt x="93" y="72"/>
                  <a:pt x="93" y="70"/>
                </a:cubicBezTo>
                <a:cubicBezTo>
                  <a:pt x="93" y="67"/>
                  <a:pt x="90" y="65"/>
                  <a:pt x="88" y="65"/>
                </a:cubicBezTo>
                <a:close/>
                <a:moveTo>
                  <a:pt x="106" y="112"/>
                </a:moveTo>
                <a:cubicBezTo>
                  <a:pt x="106" y="116"/>
                  <a:pt x="110" y="120"/>
                  <a:pt x="114" y="120"/>
                </a:cubicBezTo>
                <a:cubicBezTo>
                  <a:pt x="118" y="120"/>
                  <a:pt x="121" y="116"/>
                  <a:pt x="121" y="112"/>
                </a:cubicBezTo>
                <a:cubicBezTo>
                  <a:pt x="121" y="108"/>
                  <a:pt x="118" y="105"/>
                  <a:pt x="114" y="105"/>
                </a:cubicBezTo>
                <a:cubicBezTo>
                  <a:pt x="110" y="105"/>
                  <a:pt x="106" y="108"/>
                  <a:pt x="106" y="112"/>
                </a:cubicBezTo>
                <a:close/>
                <a:moveTo>
                  <a:pt x="126" y="36"/>
                </a:moveTo>
                <a:cubicBezTo>
                  <a:pt x="122" y="36"/>
                  <a:pt x="119" y="40"/>
                  <a:pt x="119" y="44"/>
                </a:cubicBezTo>
                <a:cubicBezTo>
                  <a:pt x="119" y="48"/>
                  <a:pt x="122" y="51"/>
                  <a:pt x="126" y="51"/>
                </a:cubicBezTo>
                <a:cubicBezTo>
                  <a:pt x="130" y="51"/>
                  <a:pt x="134" y="48"/>
                  <a:pt x="134" y="44"/>
                </a:cubicBezTo>
                <a:cubicBezTo>
                  <a:pt x="134" y="40"/>
                  <a:pt x="130" y="36"/>
                  <a:pt x="126" y="36"/>
                </a:cubicBezTo>
                <a:close/>
                <a:moveTo>
                  <a:pt x="141" y="62"/>
                </a:moveTo>
                <a:cubicBezTo>
                  <a:pt x="135" y="62"/>
                  <a:pt x="130" y="67"/>
                  <a:pt x="130" y="73"/>
                </a:cubicBezTo>
                <a:cubicBezTo>
                  <a:pt x="130" y="79"/>
                  <a:pt x="135" y="84"/>
                  <a:pt x="141" y="84"/>
                </a:cubicBezTo>
                <a:cubicBezTo>
                  <a:pt x="147" y="84"/>
                  <a:pt x="152" y="79"/>
                  <a:pt x="152" y="73"/>
                </a:cubicBezTo>
                <a:cubicBezTo>
                  <a:pt x="152" y="67"/>
                  <a:pt x="147" y="62"/>
                  <a:pt x="141" y="62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1484" name="矩形 56"/>
          <p:cNvSpPr/>
          <p:nvPr/>
        </p:nvSpPr>
        <p:spPr>
          <a:xfrm rot="1685400">
            <a:off x="1803960" y="2564640"/>
            <a:ext cx="8143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4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57"/>
          <p:cNvSpPr/>
          <p:nvPr/>
        </p:nvSpPr>
        <p:spPr>
          <a:xfrm rot="20485800">
            <a:off x="1218960" y="3490920"/>
            <a:ext cx="8143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4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58"/>
          <p:cNvSpPr/>
          <p:nvPr/>
        </p:nvSpPr>
        <p:spPr>
          <a:xfrm rot="18825600">
            <a:off x="4199400" y="4678920"/>
            <a:ext cx="8143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5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@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59"/>
          <p:cNvSpPr/>
          <p:nvPr/>
        </p:nvSpPr>
        <p:spPr>
          <a:xfrm>
            <a:off x="4506120" y="2851920"/>
            <a:ext cx="8143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4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60"/>
          <p:cNvSpPr/>
          <p:nvPr/>
        </p:nvSpPr>
        <p:spPr>
          <a:xfrm rot="3070800">
            <a:off x="1921680" y="5477040"/>
            <a:ext cx="8143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4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椭圆 83"/>
          <p:cNvSpPr/>
          <p:nvPr/>
        </p:nvSpPr>
        <p:spPr>
          <a:xfrm flipH="1">
            <a:off x="7881840" y="6616440"/>
            <a:ext cx="1584000" cy="137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490" name="椭圆 82"/>
          <p:cNvSpPr/>
          <p:nvPr/>
        </p:nvSpPr>
        <p:spPr>
          <a:xfrm flipH="1">
            <a:off x="2718720" y="6616440"/>
            <a:ext cx="1584000" cy="137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491" name="圆角矩形 2"/>
          <p:cNvSpPr/>
          <p:nvPr/>
        </p:nvSpPr>
        <p:spPr>
          <a:xfrm>
            <a:off x="0" y="277200"/>
            <a:ext cx="12191760" cy="1010880"/>
          </a:xfrm>
          <a:prstGeom prst="roundRect">
            <a:avLst>
              <a:gd name="adj" fmla="val 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492" name="组合 3"/>
          <p:cNvGrpSpPr/>
          <p:nvPr/>
        </p:nvGrpSpPr>
        <p:grpSpPr>
          <a:xfrm>
            <a:off x="190080" y="115560"/>
            <a:ext cx="1333440" cy="1333440"/>
            <a:chOff x="190080" y="115560"/>
            <a:chExt cx="1333440" cy="1333440"/>
          </a:xfrm>
        </p:grpSpPr>
        <p:sp>
          <p:nvSpPr>
            <p:cNvPr id="1493" name="椭圆 4"/>
            <p:cNvSpPr/>
            <p:nvPr/>
          </p:nvSpPr>
          <p:spPr>
            <a:xfrm>
              <a:off x="190080" y="115560"/>
              <a:ext cx="1333440" cy="133344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grpSp>
          <p:nvGrpSpPr>
            <p:cNvPr id="1494" name="组合 5"/>
            <p:cNvGrpSpPr/>
            <p:nvPr/>
          </p:nvGrpSpPr>
          <p:grpSpPr>
            <a:xfrm>
              <a:off x="253440" y="178920"/>
              <a:ext cx="1206720" cy="1206720"/>
              <a:chOff x="253440" y="178920"/>
              <a:chExt cx="1206720" cy="1206720"/>
            </a:xfrm>
          </p:grpSpPr>
          <p:sp>
            <p:nvSpPr>
              <p:cNvPr id="1495" name="椭圆 6"/>
              <p:cNvSpPr/>
              <p:nvPr/>
            </p:nvSpPr>
            <p:spPr>
              <a:xfrm>
                <a:off x="253440" y="178920"/>
                <a:ext cx="1206720" cy="1206720"/>
              </a:xfrm>
              <a:prstGeom prst="ellipse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grpSp>
            <p:nvGrpSpPr>
              <p:cNvPr id="1496" name="组合 7"/>
              <p:cNvGrpSpPr/>
              <p:nvPr/>
            </p:nvGrpSpPr>
            <p:grpSpPr>
              <a:xfrm>
                <a:off x="442440" y="277200"/>
                <a:ext cx="829080" cy="1010520"/>
                <a:chOff x="442440" y="277200"/>
                <a:chExt cx="829080" cy="1010520"/>
              </a:xfrm>
            </p:grpSpPr>
            <p:sp>
              <p:nvSpPr>
                <p:cNvPr id="1497" name="Freeform 17"/>
                <p:cNvSpPr/>
                <p:nvPr/>
              </p:nvSpPr>
              <p:spPr>
                <a:xfrm>
                  <a:off x="850320" y="277200"/>
                  <a:ext cx="421200" cy="546480"/>
                </a:xfrm>
                <a:custGeom>
                  <a:avLst/>
                  <a:gdLst>
                    <a:gd name="textAreaLeft" fmla="*/ 0 w 421200"/>
                    <a:gd name="textAreaRight" fmla="*/ 421560 w 421200"/>
                    <a:gd name="textAreaTop" fmla="*/ 0 h 546480"/>
                    <a:gd name="textAreaBottom" fmla="*/ 546840 h 54648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1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1"/>
                        <a:pt x="2" y="0"/>
                        <a:pt x="4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6" y="1"/>
                        <a:pt x="7" y="2"/>
                        <a:pt x="7" y="3"/>
                      </a:cubicBezTo>
                      <a:cubicBezTo>
                        <a:pt x="7" y="4"/>
                        <a:pt x="7" y="4"/>
                        <a:pt x="8" y="4"/>
                      </a:cubicBezTo>
                      <a:cubicBezTo>
                        <a:pt x="9" y="4"/>
                        <a:pt x="10" y="5"/>
                        <a:pt x="10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8"/>
                        <a:pt x="12" y="9"/>
                        <a:pt x="12" y="10"/>
                      </a:cubicBezTo>
                      <a:cubicBezTo>
                        <a:pt x="12" y="12"/>
                        <a:pt x="11" y="14"/>
                        <a:pt x="9" y="12"/>
                      </a:cubicBezTo>
                      <a:cubicBezTo>
                        <a:pt x="9" y="12"/>
                        <a:pt x="9" y="11"/>
                        <a:pt x="8" y="11"/>
                      </a:cubicBezTo>
                      <a:cubicBezTo>
                        <a:pt x="8" y="11"/>
                        <a:pt x="7" y="11"/>
                        <a:pt x="7" y="11"/>
                      </a:cubicBezTo>
                      <a:cubicBezTo>
                        <a:pt x="7" y="10"/>
                        <a:pt x="7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8" y="9"/>
                        <a:pt x="7" y="9"/>
                        <a:pt x="7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8"/>
                      </a:cubicBezTo>
                      <a:cubicBezTo>
                        <a:pt x="7" y="8"/>
                        <a:pt x="7" y="8"/>
                        <a:pt x="7" y="9"/>
                      </a:cubicBezTo>
                      <a:cubicBezTo>
                        <a:pt x="7" y="9"/>
                        <a:pt x="7" y="9"/>
                        <a:pt x="7" y="10"/>
                      </a:cubicBezTo>
                      <a:cubicBezTo>
                        <a:pt x="7" y="10"/>
                        <a:pt x="7" y="10"/>
                        <a:pt x="7" y="11"/>
                      </a:cubicBezTo>
                      <a:cubicBezTo>
                        <a:pt x="7" y="11"/>
                        <a:pt x="7" y="11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5" y="12"/>
                        <a:pt x="5" y="10"/>
                        <a:pt x="4" y="9"/>
                      </a:cubicBezTo>
                      <a:cubicBezTo>
                        <a:pt x="4" y="9"/>
                        <a:pt x="4" y="9"/>
                        <a:pt x="4" y="8"/>
                      </a:cubicBezTo>
                      <a:cubicBezTo>
                        <a:pt x="5" y="7"/>
                        <a:pt x="5" y="6"/>
                        <a:pt x="5" y="5"/>
                      </a:cubicBezTo>
                      <a:cubicBezTo>
                        <a:pt x="4" y="5"/>
                        <a:pt x="4" y="5"/>
                        <a:pt x="5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3" y="5"/>
                        <a:pt x="3" y="4"/>
                      </a:cubicBezTo>
                      <a:cubicBezTo>
                        <a:pt x="2" y="4"/>
                        <a:pt x="2" y="4"/>
                        <a:pt x="2" y="5"/>
                      </a:cubicBezTo>
                      <a:cubicBezTo>
                        <a:pt x="2" y="5"/>
                        <a:pt x="2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6"/>
                        <a:pt x="4" y="7"/>
                        <a:pt x="4" y="8"/>
                      </a:cubicBezTo>
                      <a:cubicBezTo>
                        <a:pt x="3" y="8"/>
                        <a:pt x="3" y="8"/>
                        <a:pt x="4" y="9"/>
                      </a:cubicBezTo>
                      <a:cubicBezTo>
                        <a:pt x="5" y="11"/>
                        <a:pt x="3" y="13"/>
                        <a:pt x="1" y="12"/>
                      </a:cubicBezTo>
                      <a:cubicBezTo>
                        <a:pt x="0" y="11"/>
                        <a:pt x="0" y="9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498" name="Freeform 16"/>
                <p:cNvSpPr/>
                <p:nvPr/>
              </p:nvSpPr>
              <p:spPr>
                <a:xfrm>
                  <a:off x="442440" y="286560"/>
                  <a:ext cx="456840" cy="50760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507600"/>
                    <a:gd name="textAreaBottom" fmla="*/ 507960 h 5076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8" y="10"/>
                      </a:moveTo>
                      <a:cubicBezTo>
                        <a:pt x="8" y="10"/>
                        <a:pt x="7" y="10"/>
                        <a:pt x="7" y="9"/>
                      </a:cubicBezTo>
                      <a:cubicBezTo>
                        <a:pt x="7" y="8"/>
                        <a:pt x="7" y="8"/>
                        <a:pt x="6" y="8"/>
                      </a:cubicBezTo>
                      <a:cubicBezTo>
                        <a:pt x="5" y="7"/>
                        <a:pt x="6" y="6"/>
                        <a:pt x="6" y="5"/>
                      </a:cubicBezTo>
                      <a:cubicBezTo>
                        <a:pt x="7" y="5"/>
                        <a:pt x="7" y="5"/>
                        <a:pt x="7" y="6"/>
                      </a:cubicBezTo>
                      <a:cubicBezTo>
                        <a:pt x="8" y="6"/>
                        <a:pt x="8" y="6"/>
                        <a:pt x="8" y="7"/>
                      </a:cubicBezTo>
                      <a:cubicBezTo>
                        <a:pt x="9" y="7"/>
                        <a:pt x="9" y="7"/>
                        <a:pt x="9" y="6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8" y="3"/>
                        <a:pt x="8" y="3"/>
                      </a:cubicBezTo>
                      <a:cubicBezTo>
                        <a:pt x="8" y="3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6" y="5"/>
                      </a:cubicBezTo>
                      <a:cubicBezTo>
                        <a:pt x="5" y="5"/>
                        <a:pt x="5" y="7"/>
                        <a:pt x="6" y="8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9"/>
                        <a:pt x="5" y="9"/>
                        <a:pt x="4" y="10"/>
                      </a:cubicBezTo>
                      <a:cubicBezTo>
                        <a:pt x="4" y="10"/>
                        <a:pt x="4" y="11"/>
                        <a:pt x="4" y="12"/>
                      </a:cubicBezTo>
                      <a:cubicBezTo>
                        <a:pt x="3" y="13"/>
                        <a:pt x="3" y="13"/>
                        <a:pt x="2" y="13"/>
                      </a:cubicBezTo>
                      <a:cubicBezTo>
                        <a:pt x="0" y="13"/>
                        <a:pt x="0" y="12"/>
                        <a:pt x="0" y="10"/>
                      </a:cubicBezTo>
                      <a:cubicBezTo>
                        <a:pt x="0" y="9"/>
                        <a:pt x="1" y="8"/>
                        <a:pt x="2" y="7"/>
                      </a:cubicBezTo>
                      <a:cubicBezTo>
                        <a:pt x="2" y="7"/>
                        <a:pt x="2" y="7"/>
                        <a:pt x="2" y="6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4"/>
                        <a:pt x="5" y="4"/>
                        <a:pt x="5" y="3"/>
                      </a:cubicBezTo>
                      <a:cubicBezTo>
                        <a:pt x="5" y="2"/>
                        <a:pt x="6" y="1"/>
                        <a:pt x="7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0" y="0"/>
                        <a:pt x="13" y="2"/>
                        <a:pt x="11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2" y="7"/>
                        <a:pt x="12" y="10"/>
                        <a:pt x="10" y="9"/>
                      </a:cubicBezTo>
                      <a:cubicBezTo>
                        <a:pt x="9" y="9"/>
                        <a:pt x="9" y="9"/>
                        <a:pt x="8" y="10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499" name="Freeform 19"/>
                <p:cNvSpPr/>
                <p:nvPr/>
              </p:nvSpPr>
              <p:spPr>
                <a:xfrm>
                  <a:off x="653400" y="677160"/>
                  <a:ext cx="210600" cy="116640"/>
                </a:xfrm>
                <a:custGeom>
                  <a:avLst/>
                  <a:gdLst>
                    <a:gd name="textAreaLeft" fmla="*/ 0 w 210600"/>
                    <a:gd name="textAreaRight" fmla="*/ 210960 w 2106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6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3"/>
                        <a:pt x="4" y="2"/>
                        <a:pt x="2" y="3"/>
                      </a:cubicBezTo>
                      <a:close/>
                    </a:path>
                  </a:pathLst>
                </a:custGeom>
                <a:solidFill>
                  <a:schemeClr val="accent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500" name="任意多边形 11"/>
                <p:cNvSpPr/>
                <p:nvPr/>
              </p:nvSpPr>
              <p:spPr>
                <a:xfrm>
                  <a:off x="470520" y="777240"/>
                  <a:ext cx="799560" cy="510480"/>
                </a:xfrm>
                <a:custGeom>
                  <a:avLst/>
                  <a:gdLst>
                    <a:gd name="textAreaLeft" fmla="*/ 0 w 799560"/>
                    <a:gd name="textAreaRight" fmla="*/ 799920 w 79956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3713312" h="2370974">
                      <a:moveTo>
                        <a:pt x="0" y="0"/>
                      </a:moveTo>
                      <a:lnTo>
                        <a:pt x="3713312" y="0"/>
                      </a:lnTo>
                      <a:lnTo>
                        <a:pt x="3702869" y="86603"/>
                      </a:lnTo>
                      <a:cubicBezTo>
                        <a:pt x="3685788" y="188493"/>
                        <a:pt x="3660167" y="287034"/>
                        <a:pt x="3630275" y="378878"/>
                      </a:cubicBezTo>
                      <a:cubicBezTo>
                        <a:pt x="3570492" y="539606"/>
                        <a:pt x="3502169" y="677373"/>
                        <a:pt x="3448792" y="774957"/>
                      </a:cubicBezTo>
                      <a:lnTo>
                        <a:pt x="3442867" y="785466"/>
                      </a:lnTo>
                      <a:lnTo>
                        <a:pt x="3435953" y="922398"/>
                      </a:lnTo>
                      <a:cubicBezTo>
                        <a:pt x="3353322" y="1736041"/>
                        <a:pt x="2666174" y="2370974"/>
                        <a:pt x="1830729" y="2370974"/>
                      </a:cubicBezTo>
                      <a:cubicBezTo>
                        <a:pt x="939588" y="2370974"/>
                        <a:pt x="217175" y="1648561"/>
                        <a:pt x="217175" y="757421"/>
                      </a:cubicBezTo>
                      <a:lnTo>
                        <a:pt x="219301" y="701323"/>
                      </a:lnTo>
                      <a:lnTo>
                        <a:pt x="217572" y="698461"/>
                      </a:lnTo>
                      <a:cubicBezTo>
                        <a:pt x="176475" y="625519"/>
                        <a:pt x="62382" y="362363"/>
                        <a:pt x="4783" y="33206"/>
                      </a:cubicBezTo>
                      <a:close/>
                    </a:path>
                  </a:pathLst>
                </a:custGeom>
                <a:noFill/>
                <a:ln w="60325">
                  <a:solidFill>
                    <a:srgbClr val="2d2d2d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2e2e2e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501" name="弦形 12"/>
                <p:cNvSpPr/>
                <p:nvPr/>
              </p:nvSpPr>
              <p:spPr>
                <a:xfrm>
                  <a:off x="5695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sp>
              <p:nvSpPr>
                <p:cNvPr id="1502" name="弦形 13"/>
                <p:cNvSpPr/>
                <p:nvPr/>
              </p:nvSpPr>
              <p:spPr>
                <a:xfrm>
                  <a:off x="900720" y="780480"/>
                  <a:ext cx="285120" cy="285120"/>
                </a:xfrm>
                <a:prstGeom prst="chord">
                  <a:avLst>
                    <a:gd name="adj1" fmla="val 92404"/>
                    <a:gd name="adj2" fmla="val 10691083"/>
                  </a:avLst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chemeClr val="lt1"/>
                    </a:solidFill>
                    <a:latin typeface="微软雅黑 Light"/>
                    <a:ea typeface="微软雅黑 Light"/>
                  </a:endParaRPr>
                </a:p>
              </p:txBody>
            </p:sp>
            <p:grpSp>
              <p:nvGrpSpPr>
                <p:cNvPr id="1503" name="组合 14"/>
                <p:cNvGrpSpPr/>
                <p:nvPr/>
              </p:nvGrpSpPr>
              <p:grpSpPr>
                <a:xfrm>
                  <a:off x="521640" y="780120"/>
                  <a:ext cx="702360" cy="151200"/>
                  <a:chOff x="521640" y="780120"/>
                  <a:chExt cx="702360" cy="151200"/>
                </a:xfrm>
              </p:grpSpPr>
              <p:sp>
                <p:nvSpPr>
                  <p:cNvPr id="1504" name="圆角矩形 25"/>
                  <p:cNvSpPr/>
                  <p:nvPr/>
                </p:nvSpPr>
                <p:spPr>
                  <a:xfrm>
                    <a:off x="521640" y="840600"/>
                    <a:ext cx="702360" cy="21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05" name="圆角矩形 26"/>
                  <p:cNvSpPr/>
                  <p:nvPr/>
                </p:nvSpPr>
                <p:spPr>
                  <a:xfrm rot="5400000">
                    <a:off x="549000" y="838800"/>
                    <a:ext cx="73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06" name="圆角矩形 27"/>
                  <p:cNvSpPr/>
                  <p:nvPr/>
                </p:nvSpPr>
                <p:spPr>
                  <a:xfrm rot="5400000">
                    <a:off x="598680" y="8388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07" name="圆角矩形 28"/>
                  <p:cNvSpPr/>
                  <p:nvPr/>
                </p:nvSpPr>
                <p:spPr>
                  <a:xfrm rot="5400000">
                    <a:off x="659880" y="839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08" name="圆角矩形 29"/>
                  <p:cNvSpPr/>
                  <p:nvPr/>
                </p:nvSpPr>
                <p:spPr>
                  <a:xfrm rot="5400000">
                    <a:off x="736560" y="835200"/>
                    <a:ext cx="89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09" name="圆角矩形 30"/>
                  <p:cNvSpPr/>
                  <p:nvPr/>
                </p:nvSpPr>
                <p:spPr>
                  <a:xfrm rot="5400000">
                    <a:off x="793080" y="844560"/>
                    <a:ext cx="1440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10" name="圆角矩形 31"/>
                  <p:cNvSpPr/>
                  <p:nvPr/>
                </p:nvSpPr>
                <p:spPr>
                  <a:xfrm rot="5400000">
                    <a:off x="893160" y="830520"/>
                    <a:ext cx="1306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11" name="圆角矩形 32"/>
                  <p:cNvSpPr/>
                  <p:nvPr/>
                </p:nvSpPr>
                <p:spPr>
                  <a:xfrm rot="5400000">
                    <a:off x="993960" y="840600"/>
                    <a:ext cx="81000" cy="2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2240" bIns="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12" name="圆角矩形 33"/>
                  <p:cNvSpPr/>
                  <p:nvPr/>
                </p:nvSpPr>
                <p:spPr>
                  <a:xfrm rot="5400000">
                    <a:off x="1027440" y="844560"/>
                    <a:ext cx="11880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13" name="圆角矩形 34"/>
                  <p:cNvSpPr/>
                  <p:nvPr/>
                </p:nvSpPr>
                <p:spPr>
                  <a:xfrm rot="5400000">
                    <a:off x="1131120" y="830520"/>
                    <a:ext cx="98280" cy="29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3320" bIns="13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514" name="组合 15"/>
                <p:cNvGrpSpPr/>
                <p:nvPr/>
              </p:nvGrpSpPr>
              <p:grpSpPr>
                <a:xfrm>
                  <a:off x="955800" y="1097640"/>
                  <a:ext cx="147240" cy="105120"/>
                  <a:chOff x="955800" y="1097640"/>
                  <a:chExt cx="147240" cy="105120"/>
                </a:xfrm>
              </p:grpSpPr>
              <p:sp>
                <p:nvSpPr>
                  <p:cNvPr id="1515" name="圆角矩形 21"/>
                  <p:cNvSpPr/>
                  <p:nvPr/>
                </p:nvSpPr>
                <p:spPr>
                  <a:xfrm rot="12242400">
                    <a:off x="951840" y="1146600"/>
                    <a:ext cx="15516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16" name="圆角矩形 22"/>
                  <p:cNvSpPr/>
                  <p:nvPr/>
                </p:nvSpPr>
                <p:spPr>
                  <a:xfrm rot="17643000">
                    <a:off x="1042200" y="1159200"/>
                    <a:ext cx="604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17" name="圆角矩形 23"/>
                  <p:cNvSpPr/>
                  <p:nvPr/>
                </p:nvSpPr>
                <p:spPr>
                  <a:xfrm rot="17643000">
                    <a:off x="996120" y="114156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18" name="圆角矩形 24"/>
                  <p:cNvSpPr/>
                  <p:nvPr/>
                </p:nvSpPr>
                <p:spPr>
                  <a:xfrm rot="17643000">
                    <a:off x="951480" y="1123920"/>
                    <a:ext cx="73080" cy="22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10080" bIns="10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  <p:grpSp>
              <p:nvGrpSpPr>
                <p:cNvPr id="1519" name="组合 16"/>
                <p:cNvGrpSpPr/>
                <p:nvPr/>
              </p:nvGrpSpPr>
              <p:grpSpPr>
                <a:xfrm>
                  <a:off x="579600" y="1070640"/>
                  <a:ext cx="122040" cy="133560"/>
                  <a:chOff x="579600" y="1070640"/>
                  <a:chExt cx="122040" cy="133560"/>
                </a:xfrm>
              </p:grpSpPr>
              <p:sp>
                <p:nvSpPr>
                  <p:cNvPr id="1520" name="圆角矩形 17"/>
                  <p:cNvSpPr/>
                  <p:nvPr/>
                </p:nvSpPr>
                <p:spPr>
                  <a:xfrm rot="14032200">
                    <a:off x="565200" y="1130760"/>
                    <a:ext cx="154080" cy="136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6480" bIns="6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21" name="圆角矩形 18"/>
                  <p:cNvSpPr/>
                  <p:nvPr/>
                </p:nvSpPr>
                <p:spPr>
                  <a:xfrm rot="19432200">
                    <a:off x="640080" y="1162440"/>
                    <a:ext cx="604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22" name="圆角矩形 19"/>
                  <p:cNvSpPr/>
                  <p:nvPr/>
                </p:nvSpPr>
                <p:spPr>
                  <a:xfrm rot="19432200">
                    <a:off x="608400" y="112752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  <p:sp>
                <p:nvSpPr>
                  <p:cNvPr id="1523" name="圆角矩形 20"/>
                  <p:cNvSpPr/>
                  <p:nvPr/>
                </p:nvSpPr>
                <p:spPr>
                  <a:xfrm rot="19432200">
                    <a:off x="578880" y="1090080"/>
                    <a:ext cx="73080" cy="21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chemeClr val="accent2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tIns="9720" bIns="9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2400" spc="-1" strike="noStrike">
                      <a:solidFill>
                        <a:schemeClr val="lt1"/>
                      </a:solidFill>
                      <a:latin typeface="微软雅黑 Light"/>
                      <a:ea typeface="微软雅黑 Light"/>
                    </a:endParaRPr>
                  </a:p>
                </p:txBody>
              </p:sp>
            </p:grpSp>
          </p:grpSp>
        </p:grpSp>
      </p:grpSp>
      <p:sp>
        <p:nvSpPr>
          <p:cNvPr id="1524" name="矩形 35"/>
          <p:cNvSpPr/>
          <p:nvPr/>
        </p:nvSpPr>
        <p:spPr>
          <a:xfrm>
            <a:off x="5145840" y="459360"/>
            <a:ext cx="189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6.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仿它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Group 4"/>
          <p:cNvGrpSpPr/>
          <p:nvPr/>
        </p:nvGrpSpPr>
        <p:grpSpPr>
          <a:xfrm>
            <a:off x="3034080" y="5338800"/>
            <a:ext cx="1050840" cy="1332720"/>
            <a:chOff x="3034080" y="5338800"/>
            <a:chExt cx="1050840" cy="1332720"/>
          </a:xfrm>
        </p:grpSpPr>
        <p:sp>
          <p:nvSpPr>
            <p:cNvPr id="1526" name="Freeform 6"/>
            <p:cNvSpPr/>
            <p:nvPr/>
          </p:nvSpPr>
          <p:spPr>
            <a:xfrm>
              <a:off x="3034080" y="5520240"/>
              <a:ext cx="816480" cy="1151280"/>
            </a:xfrm>
            <a:custGeom>
              <a:avLst/>
              <a:gdLst>
                <a:gd name="textAreaLeft" fmla="*/ 0 w 816480"/>
                <a:gd name="textAreaRight" fmla="*/ 816840 w 81648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190" h="269">
                  <a:moveTo>
                    <a:pt x="34" y="152"/>
                  </a:move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5" y="0"/>
                    <a:pt x="27" y="1"/>
                  </a:cubicBezTo>
                  <a:cubicBezTo>
                    <a:pt x="22" y="1"/>
                    <a:pt x="19" y="7"/>
                    <a:pt x="17" y="13"/>
                  </a:cubicBezTo>
                  <a:cubicBezTo>
                    <a:pt x="8" y="36"/>
                    <a:pt x="0" y="91"/>
                    <a:pt x="20" y="152"/>
                  </a:cubicBezTo>
                  <a:cubicBezTo>
                    <a:pt x="19" y="182"/>
                    <a:pt x="35" y="194"/>
                    <a:pt x="45" y="208"/>
                  </a:cubicBezTo>
                  <a:cubicBezTo>
                    <a:pt x="55" y="221"/>
                    <a:pt x="56" y="232"/>
                    <a:pt x="50" y="249"/>
                  </a:cubicBezTo>
                  <a:cubicBezTo>
                    <a:pt x="45" y="260"/>
                    <a:pt x="45" y="269"/>
                    <a:pt x="45" y="269"/>
                  </a:cubicBezTo>
                  <a:cubicBezTo>
                    <a:pt x="132" y="269"/>
                    <a:pt x="132" y="269"/>
                    <a:pt x="132" y="269"/>
                  </a:cubicBezTo>
                  <a:cubicBezTo>
                    <a:pt x="132" y="260"/>
                    <a:pt x="127" y="257"/>
                    <a:pt x="123" y="250"/>
                  </a:cubicBezTo>
                  <a:cubicBezTo>
                    <a:pt x="118" y="243"/>
                    <a:pt x="115" y="238"/>
                    <a:pt x="115" y="229"/>
                  </a:cubicBezTo>
                  <a:cubicBezTo>
                    <a:pt x="116" y="217"/>
                    <a:pt x="122" y="212"/>
                    <a:pt x="129" y="210"/>
                  </a:cubicBezTo>
                  <a:cubicBezTo>
                    <a:pt x="137" y="209"/>
                    <a:pt x="148" y="207"/>
                    <a:pt x="148" y="207"/>
                  </a:cubicBezTo>
                  <a:cubicBezTo>
                    <a:pt x="178" y="202"/>
                    <a:pt x="183" y="191"/>
                    <a:pt x="190" y="179"/>
                  </a:cubicBezTo>
                  <a:cubicBezTo>
                    <a:pt x="187" y="165"/>
                    <a:pt x="184" y="154"/>
                    <a:pt x="184" y="153"/>
                  </a:cubicBezTo>
                  <a:cubicBezTo>
                    <a:pt x="177" y="152"/>
                    <a:pt x="34" y="152"/>
                    <a:pt x="34" y="15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527" name="Freeform 7"/>
            <p:cNvSpPr/>
            <p:nvPr/>
          </p:nvSpPr>
          <p:spPr>
            <a:xfrm>
              <a:off x="3277800" y="5338800"/>
              <a:ext cx="807120" cy="1332720"/>
            </a:xfrm>
            <a:custGeom>
              <a:avLst/>
              <a:gdLst>
                <a:gd name="textAreaLeft" fmla="*/ 0 w 807120"/>
                <a:gd name="textAreaRight" fmla="*/ 807480 w 807120"/>
                <a:gd name="textAreaTop" fmla="*/ 0 h 1332720"/>
                <a:gd name="textAreaBottom" fmla="*/ 1333080 h 1332720"/>
              </a:gdLst>
              <a:ahLst/>
              <a:rect l="textAreaLeft" t="textAreaTop" r="textAreaRight" b="textAreaBottom"/>
              <a:pathLst>
                <a:path w="187" h="312">
                  <a:moveTo>
                    <a:pt x="169" y="159"/>
                  </a:moveTo>
                  <a:cubicBezTo>
                    <a:pt x="158" y="140"/>
                    <a:pt x="131" y="138"/>
                    <a:pt x="131" y="138"/>
                  </a:cubicBezTo>
                  <a:cubicBezTo>
                    <a:pt x="85" y="132"/>
                    <a:pt x="85" y="132"/>
                    <a:pt x="85" y="132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165" y="142"/>
                    <a:pt x="165" y="142"/>
                    <a:pt x="165" y="142"/>
                  </a:cubicBezTo>
                  <a:cubicBezTo>
                    <a:pt x="177" y="128"/>
                    <a:pt x="177" y="128"/>
                    <a:pt x="177" y="128"/>
                  </a:cubicBezTo>
                  <a:cubicBezTo>
                    <a:pt x="177" y="128"/>
                    <a:pt x="90" y="27"/>
                    <a:pt x="86" y="24"/>
                  </a:cubicBezTo>
                  <a:cubicBezTo>
                    <a:pt x="65" y="2"/>
                    <a:pt x="55" y="2"/>
                    <a:pt x="45" y="1"/>
                  </a:cubicBezTo>
                  <a:cubicBezTo>
                    <a:pt x="34" y="0"/>
                    <a:pt x="21" y="4"/>
                    <a:pt x="13" y="12"/>
                  </a:cubicBezTo>
                  <a:cubicBezTo>
                    <a:pt x="1" y="25"/>
                    <a:pt x="0" y="41"/>
                    <a:pt x="0" y="50"/>
                  </a:cubicBezTo>
                  <a:cubicBezTo>
                    <a:pt x="0" y="51"/>
                    <a:pt x="0" y="130"/>
                    <a:pt x="0" y="130"/>
                  </a:cubicBezTo>
                  <a:cubicBezTo>
                    <a:pt x="0" y="186"/>
                    <a:pt x="53" y="185"/>
                    <a:pt x="54" y="186"/>
                  </a:cubicBezTo>
                  <a:cubicBezTo>
                    <a:pt x="133" y="187"/>
                    <a:pt x="133" y="187"/>
                    <a:pt x="133" y="187"/>
                  </a:cubicBezTo>
                  <a:cubicBezTo>
                    <a:pt x="158" y="312"/>
                    <a:pt x="158" y="312"/>
                    <a:pt x="158" y="312"/>
                  </a:cubicBezTo>
                  <a:cubicBezTo>
                    <a:pt x="158" y="312"/>
                    <a:pt x="182" y="312"/>
                    <a:pt x="187" y="312"/>
                  </a:cubicBezTo>
                  <a:cubicBezTo>
                    <a:pt x="187" y="305"/>
                    <a:pt x="179" y="205"/>
                    <a:pt x="179" y="205"/>
                  </a:cubicBezTo>
                  <a:cubicBezTo>
                    <a:pt x="179" y="204"/>
                    <a:pt x="176" y="172"/>
                    <a:pt x="169" y="15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1528" name="Group 4"/>
          <p:cNvGrpSpPr/>
          <p:nvPr/>
        </p:nvGrpSpPr>
        <p:grpSpPr>
          <a:xfrm>
            <a:off x="8308800" y="5338800"/>
            <a:ext cx="1050840" cy="1332720"/>
            <a:chOff x="8308800" y="5338800"/>
            <a:chExt cx="1050840" cy="1332720"/>
          </a:xfrm>
        </p:grpSpPr>
        <p:sp>
          <p:nvSpPr>
            <p:cNvPr id="1529" name="Freeform 6"/>
            <p:cNvSpPr/>
            <p:nvPr/>
          </p:nvSpPr>
          <p:spPr>
            <a:xfrm flipH="1">
              <a:off x="8543160" y="5520240"/>
              <a:ext cx="816480" cy="1151280"/>
            </a:xfrm>
            <a:custGeom>
              <a:avLst/>
              <a:gdLst>
                <a:gd name="textAreaLeft" fmla="*/ 360 w 816480"/>
                <a:gd name="textAreaRight" fmla="*/ 817200 w 81648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190" h="269">
                  <a:moveTo>
                    <a:pt x="34" y="152"/>
                  </a:move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5" y="0"/>
                    <a:pt x="27" y="1"/>
                  </a:cubicBezTo>
                  <a:cubicBezTo>
                    <a:pt x="22" y="1"/>
                    <a:pt x="19" y="7"/>
                    <a:pt x="17" y="13"/>
                  </a:cubicBezTo>
                  <a:cubicBezTo>
                    <a:pt x="8" y="36"/>
                    <a:pt x="0" y="91"/>
                    <a:pt x="20" y="152"/>
                  </a:cubicBezTo>
                  <a:cubicBezTo>
                    <a:pt x="19" y="182"/>
                    <a:pt x="35" y="194"/>
                    <a:pt x="45" y="208"/>
                  </a:cubicBezTo>
                  <a:cubicBezTo>
                    <a:pt x="55" y="221"/>
                    <a:pt x="56" y="232"/>
                    <a:pt x="50" y="249"/>
                  </a:cubicBezTo>
                  <a:cubicBezTo>
                    <a:pt x="45" y="260"/>
                    <a:pt x="45" y="269"/>
                    <a:pt x="45" y="269"/>
                  </a:cubicBezTo>
                  <a:cubicBezTo>
                    <a:pt x="132" y="269"/>
                    <a:pt x="132" y="269"/>
                    <a:pt x="132" y="269"/>
                  </a:cubicBezTo>
                  <a:cubicBezTo>
                    <a:pt x="132" y="260"/>
                    <a:pt x="127" y="257"/>
                    <a:pt x="123" y="250"/>
                  </a:cubicBezTo>
                  <a:cubicBezTo>
                    <a:pt x="118" y="243"/>
                    <a:pt x="115" y="238"/>
                    <a:pt x="115" y="229"/>
                  </a:cubicBezTo>
                  <a:cubicBezTo>
                    <a:pt x="116" y="217"/>
                    <a:pt x="122" y="212"/>
                    <a:pt x="129" y="210"/>
                  </a:cubicBezTo>
                  <a:cubicBezTo>
                    <a:pt x="137" y="209"/>
                    <a:pt x="148" y="207"/>
                    <a:pt x="148" y="207"/>
                  </a:cubicBezTo>
                  <a:cubicBezTo>
                    <a:pt x="178" y="202"/>
                    <a:pt x="183" y="191"/>
                    <a:pt x="190" y="179"/>
                  </a:cubicBezTo>
                  <a:cubicBezTo>
                    <a:pt x="187" y="165"/>
                    <a:pt x="184" y="154"/>
                    <a:pt x="184" y="153"/>
                  </a:cubicBezTo>
                  <a:cubicBezTo>
                    <a:pt x="177" y="152"/>
                    <a:pt x="34" y="152"/>
                    <a:pt x="34" y="15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530" name="Freeform 7"/>
            <p:cNvSpPr/>
            <p:nvPr/>
          </p:nvSpPr>
          <p:spPr>
            <a:xfrm flipH="1">
              <a:off x="8308800" y="5338800"/>
              <a:ext cx="807120" cy="1332720"/>
            </a:xfrm>
            <a:custGeom>
              <a:avLst/>
              <a:gdLst>
                <a:gd name="textAreaLeft" fmla="*/ 360 w 807120"/>
                <a:gd name="textAreaRight" fmla="*/ 807840 w 807120"/>
                <a:gd name="textAreaTop" fmla="*/ 0 h 1332720"/>
                <a:gd name="textAreaBottom" fmla="*/ 1333080 h 1332720"/>
              </a:gdLst>
              <a:ahLst/>
              <a:rect l="textAreaLeft" t="textAreaTop" r="textAreaRight" b="textAreaBottom"/>
              <a:pathLst>
                <a:path w="187" h="312">
                  <a:moveTo>
                    <a:pt x="169" y="159"/>
                  </a:moveTo>
                  <a:cubicBezTo>
                    <a:pt x="158" y="140"/>
                    <a:pt x="131" y="138"/>
                    <a:pt x="131" y="138"/>
                  </a:cubicBezTo>
                  <a:cubicBezTo>
                    <a:pt x="85" y="132"/>
                    <a:pt x="85" y="132"/>
                    <a:pt x="85" y="132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165" y="142"/>
                    <a:pt x="165" y="142"/>
                    <a:pt x="165" y="142"/>
                  </a:cubicBezTo>
                  <a:cubicBezTo>
                    <a:pt x="177" y="128"/>
                    <a:pt x="177" y="128"/>
                    <a:pt x="177" y="128"/>
                  </a:cubicBezTo>
                  <a:cubicBezTo>
                    <a:pt x="177" y="128"/>
                    <a:pt x="90" y="27"/>
                    <a:pt x="86" y="24"/>
                  </a:cubicBezTo>
                  <a:cubicBezTo>
                    <a:pt x="65" y="2"/>
                    <a:pt x="55" y="2"/>
                    <a:pt x="45" y="1"/>
                  </a:cubicBezTo>
                  <a:cubicBezTo>
                    <a:pt x="34" y="0"/>
                    <a:pt x="21" y="4"/>
                    <a:pt x="13" y="12"/>
                  </a:cubicBezTo>
                  <a:cubicBezTo>
                    <a:pt x="1" y="25"/>
                    <a:pt x="0" y="41"/>
                    <a:pt x="0" y="50"/>
                  </a:cubicBezTo>
                  <a:cubicBezTo>
                    <a:pt x="0" y="51"/>
                    <a:pt x="0" y="130"/>
                    <a:pt x="0" y="130"/>
                  </a:cubicBezTo>
                  <a:cubicBezTo>
                    <a:pt x="0" y="186"/>
                    <a:pt x="53" y="185"/>
                    <a:pt x="54" y="186"/>
                  </a:cubicBezTo>
                  <a:cubicBezTo>
                    <a:pt x="133" y="187"/>
                    <a:pt x="133" y="187"/>
                    <a:pt x="133" y="187"/>
                  </a:cubicBezTo>
                  <a:cubicBezTo>
                    <a:pt x="158" y="312"/>
                    <a:pt x="158" y="312"/>
                    <a:pt x="158" y="312"/>
                  </a:cubicBezTo>
                  <a:cubicBezTo>
                    <a:pt x="158" y="312"/>
                    <a:pt x="182" y="312"/>
                    <a:pt x="187" y="312"/>
                  </a:cubicBezTo>
                  <a:cubicBezTo>
                    <a:pt x="187" y="305"/>
                    <a:pt x="179" y="205"/>
                    <a:pt x="179" y="205"/>
                  </a:cubicBezTo>
                  <a:cubicBezTo>
                    <a:pt x="179" y="204"/>
                    <a:pt x="176" y="172"/>
                    <a:pt x="169" y="15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1531" name="组合 45"/>
          <p:cNvGrpSpPr/>
          <p:nvPr/>
        </p:nvGrpSpPr>
        <p:grpSpPr>
          <a:xfrm>
            <a:off x="2354400" y="2521440"/>
            <a:ext cx="2518920" cy="2916000"/>
            <a:chOff x="2354400" y="2521440"/>
            <a:chExt cx="2518920" cy="2916000"/>
          </a:xfrm>
        </p:grpSpPr>
        <p:sp>
          <p:nvSpPr>
            <p:cNvPr id="1532" name="椭圆 46"/>
            <p:cNvSpPr/>
            <p:nvPr/>
          </p:nvSpPr>
          <p:spPr>
            <a:xfrm>
              <a:off x="2553120" y="3268800"/>
              <a:ext cx="2098080" cy="20980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533" name="矩形 47"/>
            <p:cNvSpPr/>
            <p:nvPr/>
          </p:nvSpPr>
          <p:spPr>
            <a:xfrm>
              <a:off x="2822400" y="4451040"/>
              <a:ext cx="731880" cy="7920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34" name="矩形 48"/>
            <p:cNvSpPr/>
            <p:nvPr/>
          </p:nvSpPr>
          <p:spPr>
            <a:xfrm>
              <a:off x="3747240" y="4451040"/>
              <a:ext cx="731880" cy="79200"/>
            </a:xfrm>
            <a:prstGeom prst="rect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35" name="椭圆 49"/>
            <p:cNvSpPr/>
            <p:nvPr/>
          </p:nvSpPr>
          <p:spPr>
            <a:xfrm>
              <a:off x="3284280" y="4458240"/>
              <a:ext cx="203400" cy="13932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36" name="椭圆 50"/>
            <p:cNvSpPr/>
            <p:nvPr/>
          </p:nvSpPr>
          <p:spPr>
            <a:xfrm>
              <a:off x="4184280" y="4456080"/>
              <a:ext cx="203400" cy="139320"/>
            </a:xfrm>
            <a:prstGeom prst="ellipse">
              <a:avLst/>
            </a:prstGeom>
            <a:solidFill>
              <a:srgbClr val="2e2e2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37" name="同心圆 51"/>
            <p:cNvSpPr/>
            <p:nvPr/>
          </p:nvSpPr>
          <p:spPr>
            <a:xfrm>
              <a:off x="2519640" y="3272400"/>
              <a:ext cx="2165040" cy="2165040"/>
            </a:xfrm>
            <a:prstGeom prst="donut">
              <a:avLst>
                <a:gd name="adj" fmla="val 3806"/>
              </a:avLst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538" name="任意多边形 52"/>
            <p:cNvSpPr/>
            <p:nvPr/>
          </p:nvSpPr>
          <p:spPr>
            <a:xfrm>
              <a:off x="2354400" y="2521440"/>
              <a:ext cx="2518920" cy="1948680"/>
            </a:xfrm>
            <a:custGeom>
              <a:avLst/>
              <a:gdLst>
                <a:gd name="textAreaLeft" fmla="*/ 0 w 2518920"/>
                <a:gd name="textAreaRight" fmla="*/ 2519280 w 2518920"/>
                <a:gd name="textAreaTop" fmla="*/ 0 h 1948680"/>
                <a:gd name="textAreaBottom" fmla="*/ 1949040 h 1948680"/>
              </a:gdLst>
              <a:ahLst/>
              <a:rect l="textAreaLeft" t="textAreaTop" r="textAreaRight" b="textAreaBottom"/>
              <a:pathLst>
                <a:path w="2051532" h="1587287">
                  <a:moveTo>
                    <a:pt x="808911" y="351"/>
                  </a:moveTo>
                  <a:cubicBezTo>
                    <a:pt x="990198" y="7057"/>
                    <a:pt x="1214599" y="108722"/>
                    <a:pt x="1338958" y="216375"/>
                  </a:cubicBezTo>
                  <a:cubicBezTo>
                    <a:pt x="1490933" y="168997"/>
                    <a:pt x="1765935" y="292781"/>
                    <a:pt x="1853582" y="451008"/>
                  </a:cubicBezTo>
                  <a:cubicBezTo>
                    <a:pt x="1864538" y="470767"/>
                    <a:pt x="1873986" y="493197"/>
                    <a:pt x="1882003" y="517763"/>
                  </a:cubicBezTo>
                  <a:lnTo>
                    <a:pt x="1899991" y="589941"/>
                  </a:lnTo>
                  <a:lnTo>
                    <a:pt x="1934278" y="625455"/>
                  </a:lnTo>
                  <a:cubicBezTo>
                    <a:pt x="2092935" y="826185"/>
                    <a:pt x="2064937" y="1085462"/>
                    <a:pt x="1999607" y="1286192"/>
                  </a:cubicBezTo>
                  <a:cubicBezTo>
                    <a:pt x="1934278" y="1461831"/>
                    <a:pt x="1850283" y="1587287"/>
                    <a:pt x="1850283" y="1587287"/>
                  </a:cubicBezTo>
                  <a:cubicBezTo>
                    <a:pt x="1850283" y="1587287"/>
                    <a:pt x="1850283" y="1578923"/>
                    <a:pt x="1850283" y="1562196"/>
                  </a:cubicBezTo>
                  <a:cubicBezTo>
                    <a:pt x="1850283" y="1553832"/>
                    <a:pt x="1840950" y="1545468"/>
                    <a:pt x="1840950" y="1537105"/>
                  </a:cubicBezTo>
                  <a:cubicBezTo>
                    <a:pt x="1829284" y="1499468"/>
                    <a:pt x="1815869" y="1463399"/>
                    <a:pt x="1799245" y="1428768"/>
                  </a:cubicBezTo>
                  <a:lnTo>
                    <a:pt x="1774996" y="1389101"/>
                  </a:lnTo>
                  <a:lnTo>
                    <a:pt x="1765181" y="1409751"/>
                  </a:lnTo>
                  <a:cubicBezTo>
                    <a:pt x="1735480" y="1470045"/>
                    <a:pt x="1714071" y="1505503"/>
                    <a:pt x="1714071" y="1505503"/>
                  </a:cubicBezTo>
                  <a:lnTo>
                    <a:pt x="1714071" y="1477076"/>
                  </a:lnTo>
                  <a:cubicBezTo>
                    <a:pt x="1714071" y="1467902"/>
                    <a:pt x="1704824" y="1458276"/>
                    <a:pt x="1704824" y="1448800"/>
                  </a:cubicBezTo>
                  <a:cubicBezTo>
                    <a:pt x="1681002" y="1363595"/>
                    <a:pt x="1650095" y="1285535"/>
                    <a:pt x="1600266" y="1213396"/>
                  </a:cubicBezTo>
                  <a:lnTo>
                    <a:pt x="1573925" y="1183121"/>
                  </a:lnTo>
                  <a:lnTo>
                    <a:pt x="1523636" y="1152372"/>
                  </a:lnTo>
                  <a:cubicBezTo>
                    <a:pt x="1467640" y="1319647"/>
                    <a:pt x="1243653" y="1461831"/>
                    <a:pt x="1243653" y="1461831"/>
                  </a:cubicBezTo>
                  <a:cubicBezTo>
                    <a:pt x="1243653" y="1461831"/>
                    <a:pt x="1238987" y="1420012"/>
                    <a:pt x="1223821" y="1363557"/>
                  </a:cubicBezTo>
                  <a:lnTo>
                    <a:pt x="1195741" y="1280924"/>
                  </a:lnTo>
                  <a:lnTo>
                    <a:pt x="1172455" y="1302812"/>
                  </a:lnTo>
                  <a:cubicBezTo>
                    <a:pt x="1129383" y="1341060"/>
                    <a:pt x="1097326" y="1363670"/>
                    <a:pt x="1097326" y="1363670"/>
                  </a:cubicBezTo>
                  <a:cubicBezTo>
                    <a:pt x="1097326" y="1363670"/>
                    <a:pt x="1094668" y="1337063"/>
                    <a:pt x="1086841" y="1296815"/>
                  </a:cubicBezTo>
                  <a:lnTo>
                    <a:pt x="1080356" y="1267013"/>
                  </a:lnTo>
                  <a:lnTo>
                    <a:pt x="1049561" y="1304357"/>
                  </a:lnTo>
                  <a:cubicBezTo>
                    <a:pt x="948504" y="1413739"/>
                    <a:pt x="833011" y="1470195"/>
                    <a:pt x="833011" y="1470195"/>
                  </a:cubicBezTo>
                  <a:cubicBezTo>
                    <a:pt x="833011" y="1470195"/>
                    <a:pt x="828345" y="1428376"/>
                    <a:pt x="814346" y="1370875"/>
                  </a:cubicBezTo>
                  <a:lnTo>
                    <a:pt x="791180" y="1294081"/>
                  </a:lnTo>
                  <a:lnTo>
                    <a:pt x="751575" y="1325636"/>
                  </a:lnTo>
                  <a:cubicBezTo>
                    <a:pt x="709369" y="1357048"/>
                    <a:pt x="679997" y="1372996"/>
                    <a:pt x="679997" y="1372996"/>
                  </a:cubicBezTo>
                  <a:cubicBezTo>
                    <a:pt x="679997" y="1372996"/>
                    <a:pt x="677340" y="1346409"/>
                    <a:pt x="670011" y="1305688"/>
                  </a:cubicBezTo>
                  <a:lnTo>
                    <a:pt x="664046" y="1275752"/>
                  </a:lnTo>
                  <a:lnTo>
                    <a:pt x="605525" y="1338596"/>
                  </a:lnTo>
                  <a:cubicBezTo>
                    <a:pt x="462034" y="1478558"/>
                    <a:pt x="308043" y="1553832"/>
                    <a:pt x="301043" y="1553832"/>
                  </a:cubicBezTo>
                  <a:cubicBezTo>
                    <a:pt x="291711" y="1541286"/>
                    <a:pt x="259629" y="1495809"/>
                    <a:pt x="222736" y="1429421"/>
                  </a:cubicBezTo>
                  <a:lnTo>
                    <a:pt x="218353" y="1421130"/>
                  </a:lnTo>
                  <a:lnTo>
                    <a:pt x="190137" y="1439926"/>
                  </a:lnTo>
                  <a:cubicBezTo>
                    <a:pt x="160498" y="1458426"/>
                    <a:pt x="141551" y="1467902"/>
                    <a:pt x="139240" y="1467902"/>
                  </a:cubicBezTo>
                  <a:cubicBezTo>
                    <a:pt x="101045" y="1410898"/>
                    <a:pt x="-188231" y="747458"/>
                    <a:pt x="200753" y="369037"/>
                  </a:cubicBezTo>
                  <a:cubicBezTo>
                    <a:pt x="210201" y="359711"/>
                    <a:pt x="544506" y="28969"/>
                    <a:pt x="734274" y="3550"/>
                  </a:cubicBezTo>
                  <a:cubicBezTo>
                    <a:pt x="757995" y="373"/>
                    <a:pt x="783013" y="-607"/>
                    <a:pt x="808911" y="351"/>
                  </a:cubicBezTo>
                  <a:close/>
                </a:path>
              </a:pathLst>
            </a:custGeom>
            <a:solidFill>
              <a:srgbClr val="2e2e2e"/>
            </a:solidFill>
            <a:ln w="55563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1539" name="组合 53"/>
          <p:cNvGrpSpPr/>
          <p:nvPr/>
        </p:nvGrpSpPr>
        <p:grpSpPr>
          <a:xfrm>
            <a:off x="7383600" y="2438280"/>
            <a:ext cx="2453760" cy="2990520"/>
            <a:chOff x="7383600" y="2438280"/>
            <a:chExt cx="2453760" cy="2990520"/>
          </a:xfrm>
        </p:grpSpPr>
        <p:sp>
          <p:nvSpPr>
            <p:cNvPr id="1540" name="Freeform 17"/>
            <p:cNvSpPr/>
            <p:nvPr/>
          </p:nvSpPr>
          <p:spPr>
            <a:xfrm>
              <a:off x="8590680" y="2438280"/>
              <a:ext cx="1246680" cy="1617840"/>
            </a:xfrm>
            <a:custGeom>
              <a:avLst/>
              <a:gdLst>
                <a:gd name="textAreaLeft" fmla="*/ 0 w 1246680"/>
                <a:gd name="textAreaRight" fmla="*/ 1247040 w 124668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2" h="14">
                  <a:moveTo>
                    <a:pt x="1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6" y="1"/>
                    <a:pt x="7" y="2"/>
                    <a:pt x="7" y="3"/>
                  </a:cubicBezTo>
                  <a:cubicBezTo>
                    <a:pt x="7" y="4"/>
                    <a:pt x="7" y="4"/>
                    <a:pt x="8" y="4"/>
                  </a:cubicBezTo>
                  <a:cubicBezTo>
                    <a:pt x="9" y="4"/>
                    <a:pt x="10" y="5"/>
                    <a:pt x="10" y="6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2" y="9"/>
                    <a:pt x="12" y="10"/>
                  </a:cubicBezTo>
                  <a:cubicBezTo>
                    <a:pt x="12" y="12"/>
                    <a:pt x="11" y="14"/>
                    <a:pt x="9" y="12"/>
                  </a:cubicBezTo>
                  <a:cubicBezTo>
                    <a:pt x="9" y="12"/>
                    <a:pt x="9" y="11"/>
                    <a:pt x="8" y="11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7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8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7" y="9"/>
                    <a:pt x="7" y="9"/>
                    <a:pt x="7" y="10"/>
                  </a:cubicBezTo>
                  <a:cubicBezTo>
                    <a:pt x="7" y="10"/>
                    <a:pt x="7" y="10"/>
                    <a:pt x="7" y="11"/>
                  </a:cubicBezTo>
                  <a:cubicBezTo>
                    <a:pt x="7" y="11"/>
                    <a:pt x="7" y="11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5" y="12"/>
                    <a:pt x="5" y="10"/>
                    <a:pt x="4" y="9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4" y="5"/>
                    <a:pt x="4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"/>
                    <a:pt x="3" y="5"/>
                    <a:pt x="3" y="4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3" y="8"/>
                    <a:pt x="3" y="8"/>
                    <a:pt x="4" y="9"/>
                  </a:cubicBezTo>
                  <a:cubicBezTo>
                    <a:pt x="5" y="11"/>
                    <a:pt x="3" y="13"/>
                    <a:pt x="1" y="12"/>
                  </a:cubicBezTo>
                  <a:cubicBezTo>
                    <a:pt x="0" y="11"/>
                    <a:pt x="0" y="9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541" name="Freeform 16"/>
            <p:cNvSpPr/>
            <p:nvPr/>
          </p:nvSpPr>
          <p:spPr>
            <a:xfrm>
              <a:off x="7383600" y="2466360"/>
              <a:ext cx="1352160" cy="1501560"/>
            </a:xfrm>
            <a:custGeom>
              <a:avLst/>
              <a:gdLst>
                <a:gd name="textAreaLeft" fmla="*/ 0 w 1352160"/>
                <a:gd name="textAreaRight" fmla="*/ 1352520 w 135216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13" h="13">
                  <a:moveTo>
                    <a:pt x="8" y="10"/>
                  </a:moveTo>
                  <a:cubicBezTo>
                    <a:pt x="8" y="10"/>
                    <a:pt x="7" y="10"/>
                    <a:pt x="7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5" y="7"/>
                    <a:pt x="6" y="6"/>
                    <a:pt x="6" y="5"/>
                  </a:cubicBezTo>
                  <a:cubicBezTo>
                    <a:pt x="7" y="5"/>
                    <a:pt x="7" y="5"/>
                    <a:pt x="7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9" y="7"/>
                    <a:pt x="9" y="7"/>
                    <a:pt x="9" y="6"/>
                  </a:cubicBezTo>
                  <a:cubicBezTo>
                    <a:pt x="9" y="6"/>
                    <a:pt x="9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7" y="4"/>
                    <a:pt x="7" y="4"/>
                  </a:cubicBezTo>
                  <a:cubicBezTo>
                    <a:pt x="7" y="4"/>
                    <a:pt x="7" y="4"/>
                    <a:pt x="6" y="5"/>
                  </a:cubicBezTo>
                  <a:cubicBezTo>
                    <a:pt x="5" y="5"/>
                    <a:pt x="5" y="7"/>
                    <a:pt x="6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4" y="11"/>
                    <a:pt x="4" y="12"/>
                  </a:cubicBezTo>
                  <a:cubicBezTo>
                    <a:pt x="3" y="13"/>
                    <a:pt x="3" y="13"/>
                    <a:pt x="2" y="13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5"/>
                    <a:pt x="3" y="4"/>
                    <a:pt x="4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0"/>
                    <a:pt x="13" y="2"/>
                    <a:pt x="11" y="4"/>
                  </a:cubicBezTo>
                  <a:cubicBezTo>
                    <a:pt x="11" y="5"/>
                    <a:pt x="11" y="5"/>
                    <a:pt x="11" y="6"/>
                  </a:cubicBezTo>
                  <a:cubicBezTo>
                    <a:pt x="12" y="7"/>
                    <a:pt x="12" y="10"/>
                    <a:pt x="10" y="9"/>
                  </a:cubicBezTo>
                  <a:cubicBezTo>
                    <a:pt x="9" y="9"/>
                    <a:pt x="9" y="9"/>
                    <a:pt x="8" y="10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542" name="Freeform 19"/>
            <p:cNvSpPr/>
            <p:nvPr/>
          </p:nvSpPr>
          <p:spPr>
            <a:xfrm>
              <a:off x="8007840" y="3621960"/>
              <a:ext cx="623880" cy="3463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6" h="3">
                  <a:moveTo>
                    <a:pt x="2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3"/>
                    <a:pt x="4" y="2"/>
                    <a:pt x="2" y="3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543" name="任意多边形 57"/>
            <p:cNvSpPr/>
            <p:nvPr/>
          </p:nvSpPr>
          <p:spPr>
            <a:xfrm>
              <a:off x="7467120" y="3918240"/>
              <a:ext cx="2366280" cy="1510560"/>
            </a:xfrm>
            <a:custGeom>
              <a:avLst/>
              <a:gdLst>
                <a:gd name="textAreaLeft" fmla="*/ 0 w 2366280"/>
                <a:gd name="textAreaRight" fmla="*/ 2366640 w 2366280"/>
                <a:gd name="textAreaTop" fmla="*/ 0 h 1510560"/>
                <a:gd name="textAreaBottom" fmla="*/ 1510920 h 1510560"/>
              </a:gdLst>
              <a:ahLst/>
              <a:rect l="textAreaLeft" t="textAreaTop" r="textAreaRight" b="textAreaBottom"/>
              <a:pathLst>
                <a:path w="3713312" h="2370974">
                  <a:moveTo>
                    <a:pt x="0" y="0"/>
                  </a:moveTo>
                  <a:lnTo>
                    <a:pt x="3713312" y="0"/>
                  </a:lnTo>
                  <a:lnTo>
                    <a:pt x="3702869" y="86603"/>
                  </a:lnTo>
                  <a:cubicBezTo>
                    <a:pt x="3685788" y="188493"/>
                    <a:pt x="3660167" y="287034"/>
                    <a:pt x="3630275" y="378878"/>
                  </a:cubicBezTo>
                  <a:cubicBezTo>
                    <a:pt x="3570492" y="539606"/>
                    <a:pt x="3502169" y="677373"/>
                    <a:pt x="3448792" y="774957"/>
                  </a:cubicBezTo>
                  <a:lnTo>
                    <a:pt x="3442867" y="785466"/>
                  </a:lnTo>
                  <a:lnTo>
                    <a:pt x="3435953" y="922398"/>
                  </a:lnTo>
                  <a:cubicBezTo>
                    <a:pt x="3353322" y="1736041"/>
                    <a:pt x="2666174" y="2370974"/>
                    <a:pt x="1830729" y="2370974"/>
                  </a:cubicBezTo>
                  <a:cubicBezTo>
                    <a:pt x="939588" y="2370974"/>
                    <a:pt x="217175" y="1648561"/>
                    <a:pt x="217175" y="757421"/>
                  </a:cubicBezTo>
                  <a:lnTo>
                    <a:pt x="219301" y="701323"/>
                  </a:lnTo>
                  <a:lnTo>
                    <a:pt x="217572" y="698461"/>
                  </a:lnTo>
                  <a:cubicBezTo>
                    <a:pt x="176475" y="625519"/>
                    <a:pt x="62382" y="362363"/>
                    <a:pt x="4783" y="33206"/>
                  </a:cubicBezTo>
                  <a:close/>
                </a:path>
              </a:pathLst>
            </a:custGeom>
            <a:solidFill>
              <a:schemeClr val="bg1"/>
            </a:solidFill>
            <a:ln w="63500">
              <a:solidFill>
                <a:srgbClr val="2d2d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544" name="弦形 58"/>
            <p:cNvSpPr/>
            <p:nvPr/>
          </p:nvSpPr>
          <p:spPr>
            <a:xfrm>
              <a:off x="7694640" y="3927600"/>
              <a:ext cx="843840" cy="84384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545" name="弦形 59"/>
            <p:cNvSpPr/>
            <p:nvPr/>
          </p:nvSpPr>
          <p:spPr>
            <a:xfrm>
              <a:off x="8673840" y="3927600"/>
              <a:ext cx="843840" cy="84384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grpSp>
          <p:nvGrpSpPr>
            <p:cNvPr id="1546" name="组合 60"/>
            <p:cNvGrpSpPr/>
            <p:nvPr/>
          </p:nvGrpSpPr>
          <p:grpSpPr>
            <a:xfrm>
              <a:off x="7618680" y="3926160"/>
              <a:ext cx="2078280" cy="448200"/>
              <a:chOff x="7618680" y="3926160"/>
              <a:chExt cx="2078280" cy="448200"/>
            </a:xfrm>
          </p:grpSpPr>
          <p:sp>
            <p:nvSpPr>
              <p:cNvPr id="1547" name="圆角矩形 71"/>
              <p:cNvSpPr/>
              <p:nvPr/>
            </p:nvSpPr>
            <p:spPr>
              <a:xfrm>
                <a:off x="7618680" y="4105440"/>
                <a:ext cx="2078280" cy="630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8440" bIns="28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48" name="圆角矩形 72"/>
              <p:cNvSpPr/>
              <p:nvPr/>
            </p:nvSpPr>
            <p:spPr>
              <a:xfrm rot="5400000">
                <a:off x="7698960" y="4100040"/>
                <a:ext cx="21852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49" name="圆角矩形 73"/>
              <p:cNvSpPr/>
              <p:nvPr/>
            </p:nvSpPr>
            <p:spPr>
              <a:xfrm rot="5400000">
                <a:off x="7845480" y="4100400"/>
                <a:ext cx="26460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50" name="圆角矩形 74"/>
              <p:cNvSpPr/>
              <p:nvPr/>
            </p:nvSpPr>
            <p:spPr>
              <a:xfrm rot="5400000">
                <a:off x="8028000" y="4102560"/>
                <a:ext cx="29124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51" name="圆角矩形 75"/>
              <p:cNvSpPr/>
              <p:nvPr/>
            </p:nvSpPr>
            <p:spPr>
              <a:xfrm rot="5400000">
                <a:off x="8254080" y="4089600"/>
                <a:ext cx="26460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52" name="圆角矩形 76"/>
              <p:cNvSpPr/>
              <p:nvPr/>
            </p:nvSpPr>
            <p:spPr>
              <a:xfrm rot="5400000">
                <a:off x="8421120" y="4117320"/>
                <a:ext cx="42624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53" name="圆角矩形 77"/>
              <p:cNvSpPr/>
              <p:nvPr/>
            </p:nvSpPr>
            <p:spPr>
              <a:xfrm rot="5400000">
                <a:off x="8716680" y="4076280"/>
                <a:ext cx="38772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54" name="圆角矩形 78"/>
              <p:cNvSpPr/>
              <p:nvPr/>
            </p:nvSpPr>
            <p:spPr>
              <a:xfrm rot="5400000">
                <a:off x="9015120" y="4106520"/>
                <a:ext cx="240480" cy="79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6000" bIns="3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55" name="圆角矩形 79"/>
              <p:cNvSpPr/>
              <p:nvPr/>
            </p:nvSpPr>
            <p:spPr>
              <a:xfrm rot="5400000">
                <a:off x="9114120" y="4117680"/>
                <a:ext cx="35244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56" name="圆角矩形 80"/>
              <p:cNvSpPr/>
              <p:nvPr/>
            </p:nvSpPr>
            <p:spPr>
              <a:xfrm rot="5400000">
                <a:off x="9420840" y="4076280"/>
                <a:ext cx="291240" cy="874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600" bIns="396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557" name="组合 61"/>
            <p:cNvGrpSpPr/>
            <p:nvPr/>
          </p:nvGrpSpPr>
          <p:grpSpPr>
            <a:xfrm>
              <a:off x="8902800" y="4864320"/>
              <a:ext cx="436320" cy="312840"/>
              <a:chOff x="8902800" y="4864320"/>
              <a:chExt cx="436320" cy="312840"/>
            </a:xfrm>
          </p:grpSpPr>
          <p:sp>
            <p:nvSpPr>
              <p:cNvPr id="1558" name="圆角矩形 67"/>
              <p:cNvSpPr/>
              <p:nvPr/>
            </p:nvSpPr>
            <p:spPr>
              <a:xfrm rot="12242400">
                <a:off x="8890920" y="5010120"/>
                <a:ext cx="459360" cy="414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8720" bIns="18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59" name="圆角矩形 68"/>
              <p:cNvSpPr/>
              <p:nvPr/>
            </p:nvSpPr>
            <p:spPr>
              <a:xfrm rot="17643000">
                <a:off x="9158040" y="5048280"/>
                <a:ext cx="179280" cy="666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60" name="圆角矩形 69"/>
              <p:cNvSpPr/>
              <p:nvPr/>
            </p:nvSpPr>
            <p:spPr>
              <a:xfrm rot="17643000">
                <a:off x="9021960" y="4995720"/>
                <a:ext cx="217080" cy="666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61" name="圆角矩形 70"/>
              <p:cNvSpPr/>
              <p:nvPr/>
            </p:nvSpPr>
            <p:spPr>
              <a:xfrm rot="17643000">
                <a:off x="8889480" y="4943520"/>
                <a:ext cx="217080" cy="666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562" name="组合 62"/>
            <p:cNvGrpSpPr/>
            <p:nvPr/>
          </p:nvGrpSpPr>
          <p:grpSpPr>
            <a:xfrm>
              <a:off x="7789320" y="4786200"/>
              <a:ext cx="362880" cy="394560"/>
              <a:chOff x="7789320" y="4786200"/>
              <a:chExt cx="362880" cy="394560"/>
            </a:xfrm>
          </p:grpSpPr>
          <p:sp>
            <p:nvSpPr>
              <p:cNvPr id="1563" name="圆角矩形 63"/>
              <p:cNvSpPr/>
              <p:nvPr/>
            </p:nvSpPr>
            <p:spPr>
              <a:xfrm rot="14032200">
                <a:off x="7746840" y="4963320"/>
                <a:ext cx="456840" cy="414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8720" bIns="187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64" name="圆角矩形 64"/>
              <p:cNvSpPr/>
              <p:nvPr/>
            </p:nvSpPr>
            <p:spPr>
              <a:xfrm rot="19432200">
                <a:off x="7970400" y="5057640"/>
                <a:ext cx="179280" cy="662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65" name="圆角矩形 65"/>
              <p:cNvSpPr/>
              <p:nvPr/>
            </p:nvSpPr>
            <p:spPr>
              <a:xfrm rot="19432200">
                <a:off x="7876080" y="4954320"/>
                <a:ext cx="217080" cy="662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566" name="圆角矩形 66"/>
              <p:cNvSpPr/>
              <p:nvPr/>
            </p:nvSpPr>
            <p:spPr>
              <a:xfrm rot="19432200">
                <a:off x="7787880" y="4843800"/>
                <a:ext cx="217080" cy="6624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9880" bIns="29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矩形 29"/>
          <p:cNvSpPr/>
          <p:nvPr/>
        </p:nvSpPr>
        <p:spPr>
          <a:xfrm>
            <a:off x="6526080" y="3518280"/>
            <a:ext cx="46069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由于腹侧视觉通路大面积受损，僵尸无法识别面孔，只能通过其他线索判断猎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矩形 30"/>
          <p:cNvSpPr/>
          <p:nvPr/>
        </p:nvSpPr>
        <p:spPr>
          <a:xfrm>
            <a:off x="6513120" y="2710800"/>
            <a:ext cx="5479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僵尸识别不了人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9" name="直接连接符 47"/>
          <p:cNvCxnSpPr/>
          <p:nvPr/>
        </p:nvCxnSpPr>
        <p:spPr>
          <a:xfrm>
            <a:off x="6095880" y="2338920"/>
            <a:ext cx="360" cy="437004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sp>
        <p:nvSpPr>
          <p:cNvPr id="1570" name="矩形 48"/>
          <p:cNvSpPr/>
          <p:nvPr/>
        </p:nvSpPr>
        <p:spPr>
          <a:xfrm>
            <a:off x="4933440" y="1326240"/>
            <a:ext cx="2324520" cy="6645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Segoe UI Light 8"/>
                <a:ea typeface="微软雅黑 Light"/>
              </a:rPr>
              <a:t>科学依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1" name="直接连接符 49"/>
          <p:cNvCxnSpPr/>
          <p:nvPr/>
        </p:nvCxnSpPr>
        <p:spPr>
          <a:xfrm>
            <a:off x="755640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cxnSp>
        <p:nvCxnSpPr>
          <p:cNvPr id="1572" name="直接连接符 50"/>
          <p:cNvCxnSpPr/>
          <p:nvPr/>
        </p:nvCxnSpPr>
        <p:spPr>
          <a:xfrm>
            <a:off x="990360" y="1650960"/>
            <a:ext cx="3645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grpSp>
        <p:nvGrpSpPr>
          <p:cNvPr id="1573" name="组合 53"/>
          <p:cNvGrpSpPr/>
          <p:nvPr/>
        </p:nvGrpSpPr>
        <p:grpSpPr>
          <a:xfrm>
            <a:off x="360" y="6630120"/>
            <a:ext cx="12191760" cy="237600"/>
            <a:chOff x="360" y="6630120"/>
            <a:chExt cx="12191760" cy="237600"/>
          </a:xfrm>
        </p:grpSpPr>
        <p:sp>
          <p:nvSpPr>
            <p:cNvPr id="1574" name="直角三角形 51"/>
            <p:cNvSpPr/>
            <p:nvPr/>
          </p:nvSpPr>
          <p:spPr>
            <a:xfrm flipV="1" rot="10800000">
              <a:off x="360" y="6634440"/>
              <a:ext cx="461520" cy="233280"/>
            </a:xfrm>
            <a:prstGeom prst="rtTriangl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575" name="直角三角形 52"/>
            <p:cNvSpPr/>
            <p:nvPr/>
          </p:nvSpPr>
          <p:spPr>
            <a:xfrm flipH="1" flipV="1" rot="10800000">
              <a:off x="11730600" y="6630120"/>
              <a:ext cx="461520" cy="233280"/>
            </a:xfrm>
            <a:prstGeom prst="rtTriangl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576" name="Freeform 9"/>
          <p:cNvSpPr/>
          <p:nvPr/>
        </p:nvSpPr>
        <p:spPr>
          <a:xfrm>
            <a:off x="1924560" y="2933640"/>
            <a:ext cx="2710440" cy="2710440"/>
          </a:xfrm>
          <a:custGeom>
            <a:avLst/>
            <a:gdLst>
              <a:gd name="textAreaLeft" fmla="*/ 0 w 2710440"/>
              <a:gd name="textAreaRight" fmla="*/ 2710800 w 2710440"/>
              <a:gd name="textAreaTop" fmla="*/ 0 h 2710440"/>
              <a:gd name="textAreaBottom" fmla="*/ 2710800 h 2710440"/>
            </a:gdLst>
            <a:ahLst/>
            <a:rect l="textAreaLeft" t="textAreaTop" r="textAreaRight" b="textAreaBottom"/>
            <a:pathLst>
              <a:path w="200" h="200">
                <a:moveTo>
                  <a:pt x="24" y="31"/>
                </a:moveTo>
                <a:cubicBezTo>
                  <a:pt x="24" y="169"/>
                  <a:pt x="24" y="169"/>
                  <a:pt x="24" y="169"/>
                </a:cubicBezTo>
                <a:cubicBezTo>
                  <a:pt x="24" y="173"/>
                  <a:pt x="27" y="175"/>
                  <a:pt x="30" y="175"/>
                </a:cubicBezTo>
                <a:cubicBezTo>
                  <a:pt x="170" y="175"/>
                  <a:pt x="170" y="175"/>
                  <a:pt x="170" y="175"/>
                </a:cubicBezTo>
                <a:cubicBezTo>
                  <a:pt x="173" y="175"/>
                  <a:pt x="176" y="173"/>
                  <a:pt x="176" y="169"/>
                </a:cubicBezTo>
                <a:cubicBezTo>
                  <a:pt x="176" y="31"/>
                  <a:pt x="176" y="31"/>
                  <a:pt x="176" y="31"/>
                </a:cubicBezTo>
                <a:cubicBezTo>
                  <a:pt x="176" y="27"/>
                  <a:pt x="173" y="24"/>
                  <a:pt x="170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27" y="24"/>
                  <a:pt x="24" y="27"/>
                  <a:pt x="24" y="31"/>
                </a:cubicBezTo>
                <a:close/>
                <a:moveTo>
                  <a:pt x="194" y="0"/>
                </a:move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0" y="3"/>
                  <a:pt x="150" y="6"/>
                </a:cubicBezTo>
                <a:cubicBezTo>
                  <a:pt x="150" y="10"/>
                  <a:pt x="153" y="12"/>
                  <a:pt x="156" y="12"/>
                </a:cubicBezTo>
                <a:cubicBezTo>
                  <a:pt x="188" y="12"/>
                  <a:pt x="188" y="12"/>
                  <a:pt x="188" y="12"/>
                </a:cubicBezTo>
                <a:cubicBezTo>
                  <a:pt x="188" y="44"/>
                  <a:pt x="188" y="44"/>
                  <a:pt x="188" y="44"/>
                </a:cubicBezTo>
                <a:cubicBezTo>
                  <a:pt x="188" y="47"/>
                  <a:pt x="190" y="50"/>
                  <a:pt x="194" y="50"/>
                </a:cubicBezTo>
                <a:cubicBezTo>
                  <a:pt x="197" y="50"/>
                  <a:pt x="200" y="47"/>
                  <a:pt x="200" y="44"/>
                </a:cubicBezTo>
                <a:cubicBezTo>
                  <a:pt x="200" y="6"/>
                  <a:pt x="200" y="6"/>
                  <a:pt x="200" y="6"/>
                </a:cubicBezTo>
                <a:cubicBezTo>
                  <a:pt x="200" y="3"/>
                  <a:pt x="197" y="0"/>
                  <a:pt x="194" y="0"/>
                </a:cubicBezTo>
                <a:close/>
                <a:moveTo>
                  <a:pt x="194" y="150"/>
                </a:moveTo>
                <a:cubicBezTo>
                  <a:pt x="190" y="150"/>
                  <a:pt x="188" y="153"/>
                  <a:pt x="188" y="156"/>
                </a:cubicBezTo>
                <a:cubicBezTo>
                  <a:pt x="188" y="188"/>
                  <a:pt x="188" y="188"/>
                  <a:pt x="188" y="188"/>
                </a:cubicBezTo>
                <a:cubicBezTo>
                  <a:pt x="156" y="188"/>
                  <a:pt x="156" y="188"/>
                  <a:pt x="156" y="188"/>
                </a:cubicBezTo>
                <a:cubicBezTo>
                  <a:pt x="153" y="188"/>
                  <a:pt x="150" y="190"/>
                  <a:pt x="150" y="194"/>
                </a:cubicBezTo>
                <a:cubicBezTo>
                  <a:pt x="150" y="197"/>
                  <a:pt x="153" y="200"/>
                  <a:pt x="156" y="200"/>
                </a:cubicBezTo>
                <a:cubicBezTo>
                  <a:pt x="194" y="200"/>
                  <a:pt x="194" y="200"/>
                  <a:pt x="194" y="200"/>
                </a:cubicBezTo>
                <a:cubicBezTo>
                  <a:pt x="197" y="200"/>
                  <a:pt x="200" y="197"/>
                  <a:pt x="200" y="194"/>
                </a:cubicBezTo>
                <a:cubicBezTo>
                  <a:pt x="200" y="156"/>
                  <a:pt x="200" y="156"/>
                  <a:pt x="200" y="156"/>
                </a:cubicBezTo>
                <a:cubicBezTo>
                  <a:pt x="200" y="153"/>
                  <a:pt x="197" y="150"/>
                  <a:pt x="194" y="150"/>
                </a:cubicBezTo>
                <a:close/>
                <a:moveTo>
                  <a:pt x="6" y="50"/>
                </a:moveTo>
                <a:cubicBezTo>
                  <a:pt x="10" y="50"/>
                  <a:pt x="12" y="47"/>
                  <a:pt x="12" y="44"/>
                </a:cubicBezTo>
                <a:cubicBezTo>
                  <a:pt x="12" y="12"/>
                  <a:pt x="12" y="12"/>
                  <a:pt x="12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7" y="12"/>
                  <a:pt x="50" y="10"/>
                  <a:pt x="50" y="6"/>
                </a:cubicBezTo>
                <a:cubicBezTo>
                  <a:pt x="50" y="3"/>
                  <a:pt x="47" y="0"/>
                  <a:pt x="44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7"/>
                  <a:pt x="3" y="50"/>
                  <a:pt x="6" y="50"/>
                </a:cubicBezTo>
                <a:close/>
                <a:moveTo>
                  <a:pt x="44" y="188"/>
                </a:moveTo>
                <a:cubicBezTo>
                  <a:pt x="12" y="188"/>
                  <a:pt x="12" y="188"/>
                  <a:pt x="12" y="188"/>
                </a:cubicBezTo>
                <a:cubicBezTo>
                  <a:pt x="12" y="156"/>
                  <a:pt x="12" y="156"/>
                  <a:pt x="12" y="156"/>
                </a:cubicBezTo>
                <a:cubicBezTo>
                  <a:pt x="12" y="153"/>
                  <a:pt x="10" y="150"/>
                  <a:pt x="6" y="150"/>
                </a:cubicBezTo>
                <a:cubicBezTo>
                  <a:pt x="3" y="150"/>
                  <a:pt x="0" y="153"/>
                  <a:pt x="0" y="156"/>
                </a:cubicBezTo>
                <a:cubicBezTo>
                  <a:pt x="0" y="194"/>
                  <a:pt x="0" y="194"/>
                  <a:pt x="0" y="194"/>
                </a:cubicBezTo>
                <a:cubicBezTo>
                  <a:pt x="0" y="197"/>
                  <a:pt x="3" y="200"/>
                  <a:pt x="6" y="200"/>
                </a:cubicBezTo>
                <a:cubicBezTo>
                  <a:pt x="44" y="200"/>
                  <a:pt x="44" y="200"/>
                  <a:pt x="44" y="200"/>
                </a:cubicBezTo>
                <a:cubicBezTo>
                  <a:pt x="47" y="200"/>
                  <a:pt x="50" y="197"/>
                  <a:pt x="50" y="194"/>
                </a:cubicBezTo>
                <a:cubicBezTo>
                  <a:pt x="50" y="190"/>
                  <a:pt x="47" y="188"/>
                  <a:pt x="44" y="188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1577" name="矩形 62"/>
          <p:cNvSpPr/>
          <p:nvPr/>
        </p:nvSpPr>
        <p:spPr>
          <a:xfrm>
            <a:off x="2861280" y="3216600"/>
            <a:ext cx="1398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15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组合 2"/>
          <p:cNvGrpSpPr/>
          <p:nvPr/>
        </p:nvGrpSpPr>
        <p:grpSpPr>
          <a:xfrm>
            <a:off x="3794760" y="1728720"/>
            <a:ext cx="4602240" cy="3390840"/>
            <a:chOff x="3794760" y="1728720"/>
            <a:chExt cx="4602240" cy="3390840"/>
          </a:xfrm>
        </p:grpSpPr>
        <p:sp>
          <p:nvSpPr>
            <p:cNvPr id="1579" name="矩形 34"/>
            <p:cNvSpPr/>
            <p:nvPr/>
          </p:nvSpPr>
          <p:spPr>
            <a:xfrm>
              <a:off x="4633560" y="2544120"/>
              <a:ext cx="292428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别作死</a:t>
              </a:r>
              <a:endParaRPr b="0" lang="en-US" sz="1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矩形 35"/>
            <p:cNvSpPr/>
            <p:nvPr/>
          </p:nvSpPr>
          <p:spPr>
            <a:xfrm>
              <a:off x="4633560" y="1728720"/>
              <a:ext cx="29242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说人话，就是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文本框 1"/>
            <p:cNvSpPr/>
            <p:nvPr/>
          </p:nvSpPr>
          <p:spPr>
            <a:xfrm>
              <a:off x="3794760" y="4329000"/>
              <a:ext cx="46022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600" spc="-1" strike="noStrike">
                  <a:solidFill>
                    <a:schemeClr val="accent1"/>
                  </a:solidFill>
                  <a:latin typeface="微软雅黑 Light"/>
                  <a:ea typeface="微软雅黑 Light"/>
                </a:rPr>
                <a:t>NO ZUO NO DIE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2" name="矩形 3"/>
          <p:cNvSpPr/>
          <p:nvPr/>
        </p:nvSpPr>
        <p:spPr>
          <a:xfrm>
            <a:off x="3277800" y="1381320"/>
            <a:ext cx="5494680" cy="4094640"/>
          </a:xfrm>
          <a:prstGeom prst="rect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矩形 3"/>
          <p:cNvSpPr/>
          <p:nvPr/>
        </p:nvSpPr>
        <p:spPr>
          <a:xfrm>
            <a:off x="0" y="0"/>
            <a:ext cx="69480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584" name="矩形 4"/>
          <p:cNvSpPr/>
          <p:nvPr/>
        </p:nvSpPr>
        <p:spPr>
          <a:xfrm>
            <a:off x="11492640" y="0"/>
            <a:ext cx="69480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585" name="梯形 2"/>
          <p:cNvSpPr/>
          <p:nvPr/>
        </p:nvSpPr>
        <p:spPr>
          <a:xfrm rot="10800000">
            <a:off x="360" y="0"/>
            <a:ext cx="12191760" cy="536400"/>
          </a:xfrm>
          <a:prstGeom prst="trapezoid">
            <a:avLst>
              <a:gd name="adj" fmla="val 129625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cxnSp>
        <p:nvCxnSpPr>
          <p:cNvPr id="1586" name="直接连接符 7"/>
          <p:cNvCxnSpPr/>
          <p:nvPr/>
        </p:nvCxnSpPr>
        <p:spPr>
          <a:xfrm>
            <a:off x="863280" y="5689440"/>
            <a:ext cx="4939560" cy="360"/>
          </a:xfrm>
          <a:prstGeom prst="straightConnector1">
            <a:avLst/>
          </a:prstGeom>
          <a:ln>
            <a:solidFill>
              <a:srgbClr val="2e2e2e"/>
            </a:solidFill>
            <a:prstDash val="dash"/>
          </a:ln>
        </p:spPr>
      </p:cxnSp>
      <p:cxnSp>
        <p:nvCxnSpPr>
          <p:cNvPr id="1587" name="直接连接符 8"/>
          <p:cNvCxnSpPr/>
          <p:nvPr/>
        </p:nvCxnSpPr>
        <p:spPr>
          <a:xfrm>
            <a:off x="6388920" y="5689440"/>
            <a:ext cx="4876200" cy="360"/>
          </a:xfrm>
          <a:prstGeom prst="straightConnector1">
            <a:avLst/>
          </a:prstGeom>
          <a:ln>
            <a:solidFill>
              <a:srgbClr val="2e2e2e"/>
            </a:solidFill>
            <a:prstDash val="dash"/>
          </a:ln>
        </p:spPr>
      </p:cxnSp>
      <p:grpSp>
        <p:nvGrpSpPr>
          <p:cNvPr id="1588" name="组合 9"/>
          <p:cNvGrpSpPr/>
          <p:nvPr/>
        </p:nvGrpSpPr>
        <p:grpSpPr>
          <a:xfrm>
            <a:off x="5802480" y="5685840"/>
            <a:ext cx="586440" cy="330120"/>
            <a:chOff x="5802480" y="5685840"/>
            <a:chExt cx="586440" cy="330120"/>
          </a:xfrm>
        </p:grpSpPr>
        <p:cxnSp>
          <p:nvCxnSpPr>
            <p:cNvPr id="1589" name="直接连接符 10"/>
            <p:cNvCxnSpPr/>
            <p:nvPr/>
          </p:nvCxnSpPr>
          <p:spPr>
            <a:xfrm>
              <a:off x="5802480" y="5685840"/>
              <a:ext cx="293760" cy="330480"/>
            </a:xfrm>
            <a:prstGeom prst="straightConnector1">
              <a:avLst/>
            </a:prstGeom>
            <a:ln>
              <a:solidFill>
                <a:srgbClr val="2e2e2e"/>
              </a:solidFill>
              <a:prstDash val="dash"/>
            </a:ln>
          </p:spPr>
        </p:cxnSp>
        <p:cxnSp>
          <p:nvCxnSpPr>
            <p:cNvPr id="1590" name="直接连接符 11"/>
            <p:cNvCxnSpPr/>
            <p:nvPr/>
          </p:nvCxnSpPr>
          <p:spPr>
            <a:xfrm flipH="1">
              <a:off x="6095880" y="5685840"/>
              <a:ext cx="293400" cy="330480"/>
            </a:xfrm>
            <a:prstGeom prst="straightConnector1">
              <a:avLst/>
            </a:prstGeom>
            <a:ln>
              <a:solidFill>
                <a:srgbClr val="2e2e2e"/>
              </a:solidFill>
              <a:prstDash val="dash"/>
            </a:ln>
          </p:spPr>
        </p:cxnSp>
      </p:grpSp>
      <p:sp>
        <p:nvSpPr>
          <p:cNvPr id="1591" name="文本框 12"/>
          <p:cNvSpPr/>
          <p:nvPr/>
        </p:nvSpPr>
        <p:spPr>
          <a:xfrm>
            <a:off x="4404960" y="2994120"/>
            <a:ext cx="3381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更多内容自己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文本框 13"/>
          <p:cNvSpPr/>
          <p:nvPr/>
        </p:nvSpPr>
        <p:spPr>
          <a:xfrm>
            <a:off x="4404960" y="2094120"/>
            <a:ext cx="3381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好了，不唠叨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矩形 32"/>
          <p:cNvSpPr/>
          <p:nvPr/>
        </p:nvSpPr>
        <p:spPr>
          <a:xfrm>
            <a:off x="5438880" y="1928160"/>
            <a:ext cx="2895840" cy="5929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 Light"/>
                <a:ea typeface="微软雅黑 Light"/>
              </a:rPr>
              <a:t>机械工业出版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矩形 31"/>
          <p:cNvSpPr/>
          <p:nvPr/>
        </p:nvSpPr>
        <p:spPr>
          <a:xfrm>
            <a:off x="5192280" y="1054080"/>
            <a:ext cx="3833640" cy="837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《</a:t>
            </a:r>
            <a:r>
              <a:rPr b="1" lang="zh-CN" sz="4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僵尸玩过界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矩形 1"/>
          <p:cNvSpPr/>
          <p:nvPr/>
        </p:nvSpPr>
        <p:spPr>
          <a:xfrm>
            <a:off x="0" y="0"/>
            <a:ext cx="69480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596" name="矩形 2"/>
          <p:cNvSpPr/>
          <p:nvPr/>
        </p:nvSpPr>
        <p:spPr>
          <a:xfrm>
            <a:off x="11492640" y="0"/>
            <a:ext cx="69480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597" name="梯形 3"/>
          <p:cNvSpPr/>
          <p:nvPr/>
        </p:nvSpPr>
        <p:spPr>
          <a:xfrm>
            <a:off x="0" y="6321240"/>
            <a:ext cx="12191760" cy="536400"/>
          </a:xfrm>
          <a:prstGeom prst="trapezoid">
            <a:avLst>
              <a:gd name="adj" fmla="val 129625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598" name="椭圆 4"/>
          <p:cNvSpPr/>
          <p:nvPr/>
        </p:nvSpPr>
        <p:spPr>
          <a:xfrm>
            <a:off x="6859800" y="6503040"/>
            <a:ext cx="1213200" cy="173160"/>
          </a:xfrm>
          <a:prstGeom prst="ellipse">
            <a:avLst/>
          </a:prstGeom>
          <a:solidFill>
            <a:schemeClr val="accent2">
              <a:alpha val="4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1599" name="椭圆 5"/>
          <p:cNvSpPr/>
          <p:nvPr/>
        </p:nvSpPr>
        <p:spPr>
          <a:xfrm>
            <a:off x="8293320" y="6503040"/>
            <a:ext cx="1213200" cy="173160"/>
          </a:xfrm>
          <a:prstGeom prst="ellipse">
            <a:avLst/>
          </a:prstGeom>
          <a:solidFill>
            <a:schemeClr val="accent2">
              <a:alpha val="4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600" name="Group 4"/>
          <p:cNvGrpSpPr/>
          <p:nvPr/>
        </p:nvGrpSpPr>
        <p:grpSpPr>
          <a:xfrm>
            <a:off x="8393400" y="3654000"/>
            <a:ext cx="1048680" cy="2956680"/>
            <a:chOff x="8393400" y="3654000"/>
            <a:chExt cx="1048680" cy="2956680"/>
          </a:xfrm>
        </p:grpSpPr>
        <p:sp>
          <p:nvSpPr>
            <p:cNvPr id="1601" name="Freeform 5"/>
            <p:cNvSpPr/>
            <p:nvPr/>
          </p:nvSpPr>
          <p:spPr>
            <a:xfrm>
              <a:off x="8393400" y="465984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02" name="Freeform 6"/>
            <p:cNvSpPr/>
            <p:nvPr/>
          </p:nvSpPr>
          <p:spPr>
            <a:xfrm>
              <a:off x="9433800" y="465984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03" name="Oval 7"/>
            <p:cNvSpPr/>
            <p:nvPr/>
          </p:nvSpPr>
          <p:spPr>
            <a:xfrm>
              <a:off x="8575200" y="3654000"/>
              <a:ext cx="450720" cy="4417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04" name="Freeform 8"/>
            <p:cNvSpPr/>
            <p:nvPr/>
          </p:nvSpPr>
          <p:spPr>
            <a:xfrm>
              <a:off x="8393400" y="4165560"/>
              <a:ext cx="1040040" cy="244512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2445120"/>
                <a:gd name="textAreaBottom" fmla="*/ 2445480 h 2445120"/>
              </a:gdLst>
              <a:ahLst/>
              <a:rect l="textAreaLeft" t="textAreaTop" r="textAreaRight" b="textAreaBottom"/>
              <a:pathLst>
                <a:path w="132" h="315">
                  <a:moveTo>
                    <a:pt x="104" y="3"/>
                  </a:moveTo>
                  <a:cubicBezTo>
                    <a:pt x="100" y="2"/>
                    <a:pt x="96" y="1"/>
                    <a:pt x="9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78" y="25"/>
                    <a:pt x="71" y="43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1" y="32"/>
                    <a:pt x="61" y="32"/>
                    <a:pt x="61" y="32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54" y="25"/>
                    <a:pt x="44" y="0"/>
                    <a:pt x="44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6" y="1"/>
                    <a:pt x="32" y="2"/>
                    <a:pt x="28" y="3"/>
                  </a:cubicBezTo>
                  <a:cubicBezTo>
                    <a:pt x="1" y="14"/>
                    <a:pt x="0" y="44"/>
                    <a:pt x="0" y="55"/>
                  </a:cubicBezTo>
                  <a:cubicBezTo>
                    <a:pt x="0" y="55"/>
                    <a:pt x="0" y="56"/>
                    <a:pt x="0" y="56"/>
                  </a:cubicBezTo>
                  <a:cubicBezTo>
                    <a:pt x="0" y="57"/>
                    <a:pt x="1" y="59"/>
                    <a:pt x="1" y="59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9"/>
                    <a:pt x="5" y="121"/>
                    <a:pt x="5" y="122"/>
                  </a:cubicBezTo>
                  <a:cubicBezTo>
                    <a:pt x="6" y="138"/>
                    <a:pt x="7" y="151"/>
                    <a:pt x="7" y="151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21" y="155"/>
                    <a:pt x="26" y="155"/>
                  </a:cubicBezTo>
                  <a:cubicBezTo>
                    <a:pt x="26" y="158"/>
                    <a:pt x="26" y="193"/>
                    <a:pt x="26" y="229"/>
                  </a:cubicBezTo>
                  <a:cubicBezTo>
                    <a:pt x="26" y="271"/>
                    <a:pt x="26" y="315"/>
                    <a:pt x="26" y="315"/>
                  </a:cubicBezTo>
                  <a:cubicBezTo>
                    <a:pt x="57" y="315"/>
                    <a:pt x="57" y="315"/>
                    <a:pt x="57" y="315"/>
                  </a:cubicBezTo>
                  <a:cubicBezTo>
                    <a:pt x="57" y="315"/>
                    <a:pt x="61" y="267"/>
                    <a:pt x="65" y="229"/>
                  </a:cubicBezTo>
                  <a:cubicBezTo>
                    <a:pt x="67" y="229"/>
                    <a:pt x="67" y="229"/>
                    <a:pt x="67" y="229"/>
                  </a:cubicBezTo>
                  <a:cubicBezTo>
                    <a:pt x="71" y="267"/>
                    <a:pt x="75" y="315"/>
                    <a:pt x="75" y="315"/>
                  </a:cubicBezTo>
                  <a:cubicBezTo>
                    <a:pt x="106" y="315"/>
                    <a:pt x="106" y="315"/>
                    <a:pt x="106" y="315"/>
                  </a:cubicBezTo>
                  <a:cubicBezTo>
                    <a:pt x="106" y="315"/>
                    <a:pt x="106" y="271"/>
                    <a:pt x="106" y="229"/>
                  </a:cubicBezTo>
                  <a:cubicBezTo>
                    <a:pt x="106" y="193"/>
                    <a:pt x="106" y="158"/>
                    <a:pt x="106" y="155"/>
                  </a:cubicBezTo>
                  <a:cubicBezTo>
                    <a:pt x="111" y="155"/>
                    <a:pt x="125" y="155"/>
                    <a:pt x="125" y="155"/>
                  </a:cubicBezTo>
                  <a:cubicBezTo>
                    <a:pt x="131" y="59"/>
                    <a:pt x="131" y="59"/>
                    <a:pt x="131" y="59"/>
                  </a:cubicBezTo>
                  <a:cubicBezTo>
                    <a:pt x="131" y="59"/>
                    <a:pt x="131" y="57"/>
                    <a:pt x="132" y="56"/>
                  </a:cubicBezTo>
                  <a:cubicBezTo>
                    <a:pt x="132" y="55"/>
                    <a:pt x="132" y="55"/>
                    <a:pt x="132" y="55"/>
                  </a:cubicBezTo>
                  <a:cubicBezTo>
                    <a:pt x="132" y="55"/>
                    <a:pt x="132" y="54"/>
                    <a:pt x="132" y="53"/>
                  </a:cubicBezTo>
                  <a:cubicBezTo>
                    <a:pt x="132" y="40"/>
                    <a:pt x="129" y="13"/>
                    <a:pt x="104" y="3"/>
                  </a:cubicBezTo>
                  <a:close/>
                  <a:moveTo>
                    <a:pt x="125" y="58"/>
                  </a:moveTo>
                  <a:cubicBezTo>
                    <a:pt x="124" y="58"/>
                    <a:pt x="120" y="132"/>
                    <a:pt x="119" y="148"/>
                  </a:cubicBezTo>
                  <a:cubicBezTo>
                    <a:pt x="116" y="148"/>
                    <a:pt x="111" y="148"/>
                    <a:pt x="106" y="148"/>
                  </a:cubicBezTo>
                  <a:cubicBezTo>
                    <a:pt x="106" y="59"/>
                    <a:pt x="106" y="59"/>
                    <a:pt x="106" y="59"/>
                  </a:cubicBezTo>
                  <a:cubicBezTo>
                    <a:pt x="100" y="59"/>
                    <a:pt x="100" y="59"/>
                    <a:pt x="100" y="59"/>
                  </a:cubicBezTo>
                  <a:cubicBezTo>
                    <a:pt x="100" y="148"/>
                    <a:pt x="100" y="148"/>
                    <a:pt x="100" y="148"/>
                  </a:cubicBezTo>
                  <a:cubicBezTo>
                    <a:pt x="100" y="148"/>
                    <a:pt x="100" y="149"/>
                    <a:pt x="100" y="151"/>
                  </a:cubicBezTo>
                  <a:cubicBezTo>
                    <a:pt x="100" y="161"/>
                    <a:pt x="100" y="191"/>
                    <a:pt x="100" y="222"/>
                  </a:cubicBezTo>
                  <a:cubicBezTo>
                    <a:pt x="94" y="222"/>
                    <a:pt x="38" y="222"/>
                    <a:pt x="32" y="222"/>
                  </a:cubicBezTo>
                  <a:cubicBezTo>
                    <a:pt x="32" y="191"/>
                    <a:pt x="32" y="161"/>
                    <a:pt x="32" y="151"/>
                  </a:cubicBezTo>
                  <a:cubicBezTo>
                    <a:pt x="32" y="149"/>
                    <a:pt x="32" y="148"/>
                    <a:pt x="32" y="148"/>
                  </a:cubicBezTo>
                  <a:cubicBezTo>
                    <a:pt x="32" y="59"/>
                    <a:pt x="32" y="59"/>
                    <a:pt x="32" y="59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6" y="148"/>
                    <a:pt x="26" y="148"/>
                    <a:pt x="26" y="148"/>
                  </a:cubicBezTo>
                  <a:cubicBezTo>
                    <a:pt x="21" y="148"/>
                    <a:pt x="16" y="148"/>
                    <a:pt x="13" y="148"/>
                  </a:cubicBezTo>
                  <a:cubicBezTo>
                    <a:pt x="13" y="142"/>
                    <a:pt x="7" y="59"/>
                    <a:pt x="7" y="59"/>
                  </a:cubicBezTo>
                  <a:cubicBezTo>
                    <a:pt x="7" y="58"/>
                    <a:pt x="7" y="56"/>
                    <a:pt x="7" y="53"/>
                  </a:cubicBezTo>
                  <a:cubicBezTo>
                    <a:pt x="7" y="42"/>
                    <a:pt x="10" y="18"/>
                    <a:pt x="30" y="10"/>
                  </a:cubicBezTo>
                  <a:cubicBezTo>
                    <a:pt x="33" y="8"/>
                    <a:pt x="36" y="8"/>
                    <a:pt x="40" y="7"/>
                  </a:cubicBezTo>
                  <a:cubicBezTo>
                    <a:pt x="41" y="12"/>
                    <a:pt x="66" y="74"/>
                    <a:pt x="66" y="74"/>
                  </a:cubicBezTo>
                  <a:cubicBezTo>
                    <a:pt x="66" y="74"/>
                    <a:pt x="91" y="12"/>
                    <a:pt x="93" y="7"/>
                  </a:cubicBezTo>
                  <a:cubicBezTo>
                    <a:pt x="96" y="8"/>
                    <a:pt x="99" y="9"/>
                    <a:pt x="102" y="10"/>
                  </a:cubicBezTo>
                  <a:cubicBezTo>
                    <a:pt x="122" y="18"/>
                    <a:pt x="125" y="42"/>
                    <a:pt x="125" y="53"/>
                  </a:cubicBezTo>
                  <a:cubicBezTo>
                    <a:pt x="125" y="56"/>
                    <a:pt x="125" y="58"/>
                    <a:pt x="125" y="5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1605" name="Group 4"/>
          <p:cNvGrpSpPr/>
          <p:nvPr/>
        </p:nvGrpSpPr>
        <p:grpSpPr>
          <a:xfrm>
            <a:off x="7027920" y="3807720"/>
            <a:ext cx="994320" cy="2802600"/>
            <a:chOff x="7027920" y="3807720"/>
            <a:chExt cx="994320" cy="2802600"/>
          </a:xfrm>
        </p:grpSpPr>
        <p:sp>
          <p:nvSpPr>
            <p:cNvPr id="1606" name="Freeform 5"/>
            <p:cNvSpPr/>
            <p:nvPr/>
          </p:nvSpPr>
          <p:spPr>
            <a:xfrm>
              <a:off x="7027920" y="476136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07" name="Freeform 6"/>
            <p:cNvSpPr/>
            <p:nvPr/>
          </p:nvSpPr>
          <p:spPr>
            <a:xfrm>
              <a:off x="8014320" y="476136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08" name="Oval 7"/>
            <p:cNvSpPr/>
            <p:nvPr/>
          </p:nvSpPr>
          <p:spPr>
            <a:xfrm>
              <a:off x="7381440" y="3807720"/>
              <a:ext cx="426960" cy="41904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09" name="Freeform 8"/>
            <p:cNvSpPr/>
            <p:nvPr/>
          </p:nvSpPr>
          <p:spPr>
            <a:xfrm>
              <a:off x="7027920" y="4292640"/>
              <a:ext cx="986040" cy="231768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132" h="315">
                  <a:moveTo>
                    <a:pt x="104" y="3"/>
                  </a:moveTo>
                  <a:cubicBezTo>
                    <a:pt x="100" y="2"/>
                    <a:pt x="96" y="1"/>
                    <a:pt x="9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78" y="25"/>
                    <a:pt x="71" y="43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1" y="32"/>
                    <a:pt x="61" y="32"/>
                    <a:pt x="61" y="32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54" y="25"/>
                    <a:pt x="44" y="0"/>
                    <a:pt x="44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6" y="1"/>
                    <a:pt x="32" y="2"/>
                    <a:pt x="28" y="3"/>
                  </a:cubicBezTo>
                  <a:cubicBezTo>
                    <a:pt x="1" y="14"/>
                    <a:pt x="0" y="44"/>
                    <a:pt x="0" y="55"/>
                  </a:cubicBezTo>
                  <a:cubicBezTo>
                    <a:pt x="0" y="55"/>
                    <a:pt x="0" y="56"/>
                    <a:pt x="0" y="56"/>
                  </a:cubicBezTo>
                  <a:cubicBezTo>
                    <a:pt x="0" y="57"/>
                    <a:pt x="1" y="59"/>
                    <a:pt x="1" y="59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9"/>
                    <a:pt x="5" y="121"/>
                    <a:pt x="5" y="122"/>
                  </a:cubicBezTo>
                  <a:cubicBezTo>
                    <a:pt x="6" y="138"/>
                    <a:pt x="7" y="151"/>
                    <a:pt x="7" y="151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21" y="155"/>
                    <a:pt x="26" y="155"/>
                  </a:cubicBezTo>
                  <a:cubicBezTo>
                    <a:pt x="26" y="158"/>
                    <a:pt x="26" y="193"/>
                    <a:pt x="26" y="229"/>
                  </a:cubicBezTo>
                  <a:cubicBezTo>
                    <a:pt x="26" y="271"/>
                    <a:pt x="26" y="315"/>
                    <a:pt x="26" y="315"/>
                  </a:cubicBezTo>
                  <a:cubicBezTo>
                    <a:pt x="57" y="315"/>
                    <a:pt x="57" y="315"/>
                    <a:pt x="57" y="315"/>
                  </a:cubicBezTo>
                  <a:cubicBezTo>
                    <a:pt x="57" y="315"/>
                    <a:pt x="61" y="267"/>
                    <a:pt x="65" y="229"/>
                  </a:cubicBezTo>
                  <a:cubicBezTo>
                    <a:pt x="67" y="229"/>
                    <a:pt x="67" y="229"/>
                    <a:pt x="67" y="229"/>
                  </a:cubicBezTo>
                  <a:cubicBezTo>
                    <a:pt x="71" y="267"/>
                    <a:pt x="75" y="315"/>
                    <a:pt x="75" y="315"/>
                  </a:cubicBezTo>
                  <a:cubicBezTo>
                    <a:pt x="106" y="315"/>
                    <a:pt x="106" y="315"/>
                    <a:pt x="106" y="315"/>
                  </a:cubicBezTo>
                  <a:cubicBezTo>
                    <a:pt x="106" y="315"/>
                    <a:pt x="106" y="271"/>
                    <a:pt x="106" y="229"/>
                  </a:cubicBezTo>
                  <a:cubicBezTo>
                    <a:pt x="106" y="193"/>
                    <a:pt x="106" y="158"/>
                    <a:pt x="106" y="155"/>
                  </a:cubicBezTo>
                  <a:cubicBezTo>
                    <a:pt x="111" y="155"/>
                    <a:pt x="125" y="155"/>
                    <a:pt x="125" y="155"/>
                  </a:cubicBezTo>
                  <a:cubicBezTo>
                    <a:pt x="131" y="59"/>
                    <a:pt x="131" y="59"/>
                    <a:pt x="131" y="59"/>
                  </a:cubicBezTo>
                  <a:cubicBezTo>
                    <a:pt x="131" y="59"/>
                    <a:pt x="131" y="57"/>
                    <a:pt x="132" y="56"/>
                  </a:cubicBezTo>
                  <a:cubicBezTo>
                    <a:pt x="132" y="55"/>
                    <a:pt x="132" y="55"/>
                    <a:pt x="132" y="55"/>
                  </a:cubicBezTo>
                  <a:cubicBezTo>
                    <a:pt x="132" y="55"/>
                    <a:pt x="132" y="54"/>
                    <a:pt x="132" y="53"/>
                  </a:cubicBezTo>
                  <a:cubicBezTo>
                    <a:pt x="132" y="40"/>
                    <a:pt x="129" y="13"/>
                    <a:pt x="104" y="3"/>
                  </a:cubicBezTo>
                  <a:close/>
                  <a:moveTo>
                    <a:pt x="125" y="58"/>
                  </a:moveTo>
                  <a:cubicBezTo>
                    <a:pt x="124" y="58"/>
                    <a:pt x="120" y="132"/>
                    <a:pt x="119" y="148"/>
                  </a:cubicBezTo>
                  <a:cubicBezTo>
                    <a:pt x="116" y="148"/>
                    <a:pt x="111" y="148"/>
                    <a:pt x="106" y="148"/>
                  </a:cubicBezTo>
                  <a:cubicBezTo>
                    <a:pt x="106" y="59"/>
                    <a:pt x="106" y="59"/>
                    <a:pt x="106" y="59"/>
                  </a:cubicBezTo>
                  <a:cubicBezTo>
                    <a:pt x="100" y="59"/>
                    <a:pt x="100" y="59"/>
                    <a:pt x="100" y="59"/>
                  </a:cubicBezTo>
                  <a:cubicBezTo>
                    <a:pt x="100" y="148"/>
                    <a:pt x="100" y="148"/>
                    <a:pt x="100" y="148"/>
                  </a:cubicBezTo>
                  <a:cubicBezTo>
                    <a:pt x="100" y="148"/>
                    <a:pt x="100" y="149"/>
                    <a:pt x="100" y="151"/>
                  </a:cubicBezTo>
                  <a:cubicBezTo>
                    <a:pt x="100" y="161"/>
                    <a:pt x="100" y="191"/>
                    <a:pt x="100" y="222"/>
                  </a:cubicBezTo>
                  <a:cubicBezTo>
                    <a:pt x="94" y="222"/>
                    <a:pt x="38" y="222"/>
                    <a:pt x="32" y="222"/>
                  </a:cubicBezTo>
                  <a:cubicBezTo>
                    <a:pt x="32" y="191"/>
                    <a:pt x="32" y="161"/>
                    <a:pt x="32" y="151"/>
                  </a:cubicBezTo>
                  <a:cubicBezTo>
                    <a:pt x="32" y="149"/>
                    <a:pt x="32" y="148"/>
                    <a:pt x="32" y="148"/>
                  </a:cubicBezTo>
                  <a:cubicBezTo>
                    <a:pt x="32" y="59"/>
                    <a:pt x="32" y="59"/>
                    <a:pt x="32" y="59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6" y="148"/>
                    <a:pt x="26" y="148"/>
                    <a:pt x="26" y="148"/>
                  </a:cubicBezTo>
                  <a:cubicBezTo>
                    <a:pt x="21" y="148"/>
                    <a:pt x="16" y="148"/>
                    <a:pt x="13" y="148"/>
                  </a:cubicBezTo>
                  <a:cubicBezTo>
                    <a:pt x="13" y="142"/>
                    <a:pt x="7" y="59"/>
                    <a:pt x="7" y="59"/>
                  </a:cubicBezTo>
                  <a:cubicBezTo>
                    <a:pt x="7" y="58"/>
                    <a:pt x="7" y="56"/>
                    <a:pt x="7" y="53"/>
                  </a:cubicBezTo>
                  <a:cubicBezTo>
                    <a:pt x="7" y="42"/>
                    <a:pt x="10" y="18"/>
                    <a:pt x="30" y="10"/>
                  </a:cubicBezTo>
                  <a:cubicBezTo>
                    <a:pt x="33" y="8"/>
                    <a:pt x="36" y="8"/>
                    <a:pt x="40" y="7"/>
                  </a:cubicBezTo>
                  <a:cubicBezTo>
                    <a:pt x="41" y="12"/>
                    <a:pt x="66" y="74"/>
                    <a:pt x="66" y="74"/>
                  </a:cubicBezTo>
                  <a:cubicBezTo>
                    <a:pt x="66" y="74"/>
                    <a:pt x="91" y="12"/>
                    <a:pt x="93" y="7"/>
                  </a:cubicBezTo>
                  <a:cubicBezTo>
                    <a:pt x="96" y="8"/>
                    <a:pt x="99" y="9"/>
                    <a:pt x="102" y="10"/>
                  </a:cubicBezTo>
                  <a:cubicBezTo>
                    <a:pt x="122" y="18"/>
                    <a:pt x="125" y="42"/>
                    <a:pt x="125" y="53"/>
                  </a:cubicBezTo>
                  <a:cubicBezTo>
                    <a:pt x="125" y="56"/>
                    <a:pt x="125" y="58"/>
                    <a:pt x="125" y="5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1610" name="矩形 18"/>
          <p:cNvSpPr/>
          <p:nvPr/>
        </p:nvSpPr>
        <p:spPr>
          <a:xfrm>
            <a:off x="5908320" y="516888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chemeClr val="accent2"/>
                </a:solidFill>
                <a:latin typeface="Segoe UI Light 8"/>
                <a:ea typeface="微软雅黑 Light"/>
              </a:rPr>
              <a:t>蒂莫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矩形 19"/>
          <p:cNvSpPr/>
          <p:nvPr/>
        </p:nvSpPr>
        <p:spPr>
          <a:xfrm>
            <a:off x="9785880" y="4842360"/>
            <a:ext cx="103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布拉德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椭圆 30"/>
          <p:cNvSpPr/>
          <p:nvPr/>
        </p:nvSpPr>
        <p:spPr>
          <a:xfrm>
            <a:off x="1011240" y="6401160"/>
            <a:ext cx="4723560" cy="275400"/>
          </a:xfrm>
          <a:prstGeom prst="ellipse">
            <a:avLst/>
          </a:prstGeom>
          <a:solidFill>
            <a:schemeClr val="accent2">
              <a:alpha val="4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cxnSp>
        <p:nvCxnSpPr>
          <p:cNvPr id="1613" name="直接连接符 35"/>
          <p:cNvCxnSpPr/>
          <p:nvPr/>
        </p:nvCxnSpPr>
        <p:spPr>
          <a:xfrm flipV="1">
            <a:off x="6391440" y="4554000"/>
            <a:ext cx="468720" cy="4773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cxnSp>
        <p:nvCxnSpPr>
          <p:cNvPr id="1614" name="直接连接符 37"/>
          <p:cNvCxnSpPr/>
          <p:nvPr/>
        </p:nvCxnSpPr>
        <p:spPr>
          <a:xfrm>
            <a:off x="9619560" y="4566960"/>
            <a:ext cx="384480" cy="2757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pic>
        <p:nvPicPr>
          <p:cNvPr id="1615" name="图片 25" descr=""/>
          <p:cNvPicPr/>
          <p:nvPr/>
        </p:nvPicPr>
        <p:blipFill>
          <a:blip r:embed="rId1"/>
          <a:srcRect l="0" t="0" r="0" b="1169"/>
          <a:stretch/>
        </p:blipFill>
        <p:spPr>
          <a:xfrm>
            <a:off x="1256400" y="568800"/>
            <a:ext cx="4197960" cy="59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1617" name="组合 3"/>
          <p:cNvGrpSpPr/>
          <p:nvPr/>
        </p:nvGrpSpPr>
        <p:grpSpPr>
          <a:xfrm>
            <a:off x="8618040" y="4849920"/>
            <a:ext cx="2601360" cy="2568240"/>
            <a:chOff x="8618040" y="4849920"/>
            <a:chExt cx="2601360" cy="2568240"/>
          </a:xfrm>
        </p:grpSpPr>
        <p:sp>
          <p:nvSpPr>
            <p:cNvPr id="1618" name="Freeform 17"/>
            <p:cNvSpPr/>
            <p:nvPr/>
          </p:nvSpPr>
          <p:spPr>
            <a:xfrm rot="3066600">
              <a:off x="10098360" y="5603760"/>
              <a:ext cx="849960" cy="1102680"/>
            </a:xfrm>
            <a:custGeom>
              <a:avLst/>
              <a:gdLst>
                <a:gd name="textAreaLeft" fmla="*/ 0 w 849960"/>
                <a:gd name="textAreaRight" fmla="*/ 850320 w 849960"/>
                <a:gd name="textAreaTop" fmla="*/ 0 h 1102680"/>
                <a:gd name="textAreaBottom" fmla="*/ 1103040 h 1102680"/>
              </a:gdLst>
              <a:ahLst/>
              <a:rect l="textAreaLeft" t="textAreaTop" r="textAreaRight" b="textAreaBottom"/>
              <a:pathLst>
                <a:path w="12" h="14">
                  <a:moveTo>
                    <a:pt x="1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6" y="1"/>
                    <a:pt x="7" y="2"/>
                    <a:pt x="7" y="3"/>
                  </a:cubicBezTo>
                  <a:cubicBezTo>
                    <a:pt x="7" y="4"/>
                    <a:pt x="7" y="4"/>
                    <a:pt x="8" y="4"/>
                  </a:cubicBezTo>
                  <a:cubicBezTo>
                    <a:pt x="9" y="4"/>
                    <a:pt x="10" y="5"/>
                    <a:pt x="10" y="6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2" y="9"/>
                    <a:pt x="12" y="10"/>
                  </a:cubicBezTo>
                  <a:cubicBezTo>
                    <a:pt x="12" y="12"/>
                    <a:pt x="11" y="14"/>
                    <a:pt x="9" y="12"/>
                  </a:cubicBezTo>
                  <a:cubicBezTo>
                    <a:pt x="9" y="12"/>
                    <a:pt x="9" y="11"/>
                    <a:pt x="8" y="11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7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8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7" y="9"/>
                    <a:pt x="7" y="9"/>
                    <a:pt x="7" y="10"/>
                  </a:cubicBezTo>
                  <a:cubicBezTo>
                    <a:pt x="7" y="10"/>
                    <a:pt x="7" y="10"/>
                    <a:pt x="7" y="11"/>
                  </a:cubicBezTo>
                  <a:cubicBezTo>
                    <a:pt x="7" y="11"/>
                    <a:pt x="7" y="11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5" y="12"/>
                    <a:pt x="5" y="10"/>
                    <a:pt x="4" y="9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4" y="5"/>
                    <a:pt x="4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"/>
                    <a:pt x="3" y="5"/>
                    <a:pt x="3" y="4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3" y="8"/>
                    <a:pt x="3" y="8"/>
                    <a:pt x="4" y="9"/>
                  </a:cubicBezTo>
                  <a:cubicBezTo>
                    <a:pt x="5" y="11"/>
                    <a:pt x="3" y="13"/>
                    <a:pt x="1" y="12"/>
                  </a:cubicBezTo>
                  <a:cubicBezTo>
                    <a:pt x="0" y="11"/>
                    <a:pt x="0" y="9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19" name="Freeform 16"/>
            <p:cNvSpPr/>
            <p:nvPr/>
          </p:nvSpPr>
          <p:spPr>
            <a:xfrm rot="3066600">
              <a:off x="9584280" y="5018040"/>
              <a:ext cx="921600" cy="1023840"/>
            </a:xfrm>
            <a:custGeom>
              <a:avLst/>
              <a:gdLst>
                <a:gd name="textAreaLeft" fmla="*/ 0 w 921600"/>
                <a:gd name="textAreaRight" fmla="*/ 921960 w 9216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3" h="13">
                  <a:moveTo>
                    <a:pt x="8" y="10"/>
                  </a:moveTo>
                  <a:cubicBezTo>
                    <a:pt x="8" y="10"/>
                    <a:pt x="7" y="10"/>
                    <a:pt x="7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5" y="7"/>
                    <a:pt x="6" y="6"/>
                    <a:pt x="6" y="5"/>
                  </a:cubicBezTo>
                  <a:cubicBezTo>
                    <a:pt x="7" y="5"/>
                    <a:pt x="7" y="5"/>
                    <a:pt x="7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9" y="7"/>
                    <a:pt x="9" y="7"/>
                    <a:pt x="9" y="6"/>
                  </a:cubicBezTo>
                  <a:cubicBezTo>
                    <a:pt x="9" y="6"/>
                    <a:pt x="9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7" y="4"/>
                    <a:pt x="7" y="4"/>
                  </a:cubicBezTo>
                  <a:cubicBezTo>
                    <a:pt x="7" y="4"/>
                    <a:pt x="7" y="4"/>
                    <a:pt x="6" y="5"/>
                  </a:cubicBezTo>
                  <a:cubicBezTo>
                    <a:pt x="5" y="5"/>
                    <a:pt x="5" y="7"/>
                    <a:pt x="6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4" y="11"/>
                    <a:pt x="4" y="12"/>
                  </a:cubicBezTo>
                  <a:cubicBezTo>
                    <a:pt x="3" y="13"/>
                    <a:pt x="3" y="13"/>
                    <a:pt x="2" y="13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5"/>
                    <a:pt x="3" y="4"/>
                    <a:pt x="4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0"/>
                    <a:pt x="13" y="2"/>
                    <a:pt x="11" y="4"/>
                  </a:cubicBezTo>
                  <a:cubicBezTo>
                    <a:pt x="11" y="5"/>
                    <a:pt x="11" y="5"/>
                    <a:pt x="11" y="6"/>
                  </a:cubicBezTo>
                  <a:cubicBezTo>
                    <a:pt x="12" y="7"/>
                    <a:pt x="12" y="10"/>
                    <a:pt x="10" y="9"/>
                  </a:cubicBezTo>
                  <a:cubicBezTo>
                    <a:pt x="9" y="9"/>
                    <a:pt x="9" y="9"/>
                    <a:pt x="8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20" name="Freeform 19"/>
            <p:cNvSpPr/>
            <p:nvPr/>
          </p:nvSpPr>
          <p:spPr>
            <a:xfrm rot="3066600">
              <a:off x="9637560" y="5797080"/>
              <a:ext cx="425160" cy="2358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6" h="3">
                  <a:moveTo>
                    <a:pt x="2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3"/>
                    <a:pt x="4" y="2"/>
                    <a:pt x="2" y="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21" name="任意多边形 7"/>
            <p:cNvSpPr/>
            <p:nvPr/>
          </p:nvSpPr>
          <p:spPr>
            <a:xfrm rot="3066600">
              <a:off x="8718480" y="5951880"/>
              <a:ext cx="1613160" cy="1029960"/>
            </a:xfrm>
            <a:custGeom>
              <a:avLst/>
              <a:gdLst>
                <a:gd name="textAreaLeft" fmla="*/ 0 w 1613160"/>
                <a:gd name="textAreaRight" fmla="*/ 1613520 w 16131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3713312" h="2370974">
                  <a:moveTo>
                    <a:pt x="0" y="0"/>
                  </a:moveTo>
                  <a:lnTo>
                    <a:pt x="3713312" y="0"/>
                  </a:lnTo>
                  <a:lnTo>
                    <a:pt x="3702869" y="86603"/>
                  </a:lnTo>
                  <a:cubicBezTo>
                    <a:pt x="3685788" y="188493"/>
                    <a:pt x="3660167" y="287034"/>
                    <a:pt x="3630275" y="378878"/>
                  </a:cubicBezTo>
                  <a:cubicBezTo>
                    <a:pt x="3570492" y="539606"/>
                    <a:pt x="3502169" y="677373"/>
                    <a:pt x="3448792" y="774957"/>
                  </a:cubicBezTo>
                  <a:lnTo>
                    <a:pt x="3442867" y="785466"/>
                  </a:lnTo>
                  <a:lnTo>
                    <a:pt x="3435953" y="922398"/>
                  </a:lnTo>
                  <a:cubicBezTo>
                    <a:pt x="3353322" y="1736041"/>
                    <a:pt x="2666174" y="2370974"/>
                    <a:pt x="1830729" y="2370974"/>
                  </a:cubicBezTo>
                  <a:cubicBezTo>
                    <a:pt x="939588" y="2370974"/>
                    <a:pt x="217175" y="1648561"/>
                    <a:pt x="217175" y="757421"/>
                  </a:cubicBezTo>
                  <a:lnTo>
                    <a:pt x="219301" y="701323"/>
                  </a:lnTo>
                  <a:lnTo>
                    <a:pt x="217572" y="698461"/>
                  </a:lnTo>
                  <a:cubicBezTo>
                    <a:pt x="176475" y="625519"/>
                    <a:pt x="62382" y="362363"/>
                    <a:pt x="4783" y="33206"/>
                  </a:cubicBezTo>
                  <a:close/>
                </a:path>
              </a:pathLst>
            </a:custGeom>
            <a:solidFill>
              <a:schemeClr val="bg1"/>
            </a:solidFill>
            <a:ln w="76200">
              <a:solidFill>
                <a:srgbClr val="2d2d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22" name="弦形 8"/>
            <p:cNvSpPr/>
            <p:nvPr/>
          </p:nvSpPr>
          <p:spPr>
            <a:xfrm rot="3066600">
              <a:off x="9208800" y="5791680"/>
              <a:ext cx="575280" cy="57528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1623" name="弦形 9"/>
            <p:cNvSpPr/>
            <p:nvPr/>
          </p:nvSpPr>
          <p:spPr>
            <a:xfrm rot="3066600">
              <a:off x="9628200" y="6311520"/>
              <a:ext cx="575280" cy="57528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grpSp>
          <p:nvGrpSpPr>
            <p:cNvPr id="1624" name="组合 10"/>
            <p:cNvGrpSpPr/>
            <p:nvPr/>
          </p:nvGrpSpPr>
          <p:grpSpPr>
            <a:xfrm>
              <a:off x="9351720" y="5676120"/>
              <a:ext cx="955800" cy="1129680"/>
              <a:chOff x="9351720" y="5676120"/>
              <a:chExt cx="955800" cy="1129680"/>
            </a:xfrm>
          </p:grpSpPr>
          <p:sp>
            <p:nvSpPr>
              <p:cNvPr id="1625" name="圆角矩形 21"/>
              <p:cNvSpPr/>
              <p:nvPr/>
            </p:nvSpPr>
            <p:spPr>
              <a:xfrm rot="3066600">
                <a:off x="9104760" y="6219360"/>
                <a:ext cx="1416600" cy="4284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9440" bIns="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26" name="圆角矩形 22"/>
              <p:cNvSpPr/>
              <p:nvPr/>
            </p:nvSpPr>
            <p:spPr>
              <a:xfrm rot="8466600">
                <a:off x="9371160" y="5763240"/>
                <a:ext cx="14904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27" name="圆角矩形 23"/>
              <p:cNvSpPr/>
              <p:nvPr/>
            </p:nvSpPr>
            <p:spPr>
              <a:xfrm rot="8466600">
                <a:off x="9428040" y="5852880"/>
                <a:ext cx="18036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28" name="圆角矩形 24"/>
              <p:cNvSpPr/>
              <p:nvPr/>
            </p:nvSpPr>
            <p:spPr>
              <a:xfrm rot="8466600">
                <a:off x="9501480" y="5958000"/>
                <a:ext cx="19836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29" name="圆角矩形 25"/>
              <p:cNvSpPr/>
              <p:nvPr/>
            </p:nvSpPr>
            <p:spPr>
              <a:xfrm rot="8466600">
                <a:off x="9608760" y="6065280"/>
                <a:ext cx="18036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30" name="圆角矩形 26"/>
              <p:cNvSpPr/>
              <p:nvPr/>
            </p:nvSpPr>
            <p:spPr>
              <a:xfrm rot="8466600">
                <a:off x="9645120" y="6208920"/>
                <a:ext cx="29052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31" name="圆角矩形 27"/>
              <p:cNvSpPr/>
              <p:nvPr/>
            </p:nvSpPr>
            <p:spPr>
              <a:xfrm rot="8466600">
                <a:off x="9798480" y="6337800"/>
                <a:ext cx="26424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32" name="圆角矩形 28"/>
              <p:cNvSpPr/>
              <p:nvPr/>
            </p:nvSpPr>
            <p:spPr>
              <a:xfrm rot="8466600">
                <a:off x="9930960" y="6471360"/>
                <a:ext cx="163800" cy="543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4480" bIns="24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33" name="圆角矩形 29"/>
              <p:cNvSpPr/>
              <p:nvPr/>
            </p:nvSpPr>
            <p:spPr>
              <a:xfrm rot="8466600">
                <a:off x="9950760" y="6557040"/>
                <a:ext cx="24012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34" name="圆角矩形 30"/>
              <p:cNvSpPr/>
              <p:nvPr/>
            </p:nvSpPr>
            <p:spPr>
              <a:xfrm rot="8466600">
                <a:off x="10112040" y="6685920"/>
                <a:ext cx="198360" cy="59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635" name="组合 11"/>
            <p:cNvGrpSpPr/>
            <p:nvPr/>
          </p:nvGrpSpPr>
          <p:grpSpPr>
            <a:xfrm>
              <a:off x="9435960" y="6714720"/>
              <a:ext cx="193320" cy="309960"/>
              <a:chOff x="9435960" y="6714720"/>
              <a:chExt cx="193320" cy="309960"/>
            </a:xfrm>
          </p:grpSpPr>
          <p:sp>
            <p:nvSpPr>
              <p:cNvPr id="1636" name="圆角矩形 17"/>
              <p:cNvSpPr/>
              <p:nvPr/>
            </p:nvSpPr>
            <p:spPr>
              <a:xfrm rot="15309000">
                <a:off x="9380520" y="6855480"/>
                <a:ext cx="313200" cy="2808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2960" bIns="12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37" name="圆角矩形 18"/>
              <p:cNvSpPr/>
              <p:nvPr/>
            </p:nvSpPr>
            <p:spPr>
              <a:xfrm rot="20709000">
                <a:off x="9503280" y="6936120"/>
                <a:ext cx="12204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38" name="圆角矩形 19"/>
              <p:cNvSpPr/>
              <p:nvPr/>
            </p:nvSpPr>
            <p:spPr>
              <a:xfrm rot="20709000">
                <a:off x="9468000" y="6851160"/>
                <a:ext cx="14796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39" name="圆角矩形 20"/>
              <p:cNvSpPr/>
              <p:nvPr/>
            </p:nvSpPr>
            <p:spPr>
              <a:xfrm rot="20709000">
                <a:off x="9439200" y="6758640"/>
                <a:ext cx="14796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1640" name="组合 12"/>
            <p:cNvGrpSpPr/>
            <p:nvPr/>
          </p:nvGrpSpPr>
          <p:grpSpPr>
            <a:xfrm>
              <a:off x="8986680" y="6087600"/>
              <a:ext cx="185400" cy="308160"/>
              <a:chOff x="8986680" y="6087600"/>
              <a:chExt cx="185400" cy="308160"/>
            </a:xfrm>
          </p:grpSpPr>
          <p:sp>
            <p:nvSpPr>
              <p:cNvPr id="1641" name="圆角矩形 13"/>
              <p:cNvSpPr/>
              <p:nvPr/>
            </p:nvSpPr>
            <p:spPr>
              <a:xfrm rot="17098800">
                <a:off x="8915760" y="6227640"/>
                <a:ext cx="311400" cy="2808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12960" bIns="12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42" name="圆角矩形 14"/>
              <p:cNvSpPr/>
              <p:nvPr/>
            </p:nvSpPr>
            <p:spPr>
              <a:xfrm rot="898800">
                <a:off x="8990280" y="6309360"/>
                <a:ext cx="122040" cy="4500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160" bIns="20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43" name="圆角矩形 15"/>
              <p:cNvSpPr/>
              <p:nvPr/>
            </p:nvSpPr>
            <p:spPr>
              <a:xfrm rot="898800">
                <a:off x="8999640" y="6225120"/>
                <a:ext cx="147960" cy="4500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160" bIns="20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1644" name="圆角矩形 16"/>
              <p:cNvSpPr/>
              <p:nvPr/>
            </p:nvSpPr>
            <p:spPr>
              <a:xfrm rot="898800">
                <a:off x="9020520" y="6130800"/>
                <a:ext cx="147960" cy="4500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160" bIns="20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</p:grpSp>
      <p:sp>
        <p:nvSpPr>
          <p:cNvPr id="1645" name="Freeform 6"/>
          <p:cNvSpPr/>
          <p:nvPr/>
        </p:nvSpPr>
        <p:spPr>
          <a:xfrm rot="771000">
            <a:off x="4606560" y="4232520"/>
            <a:ext cx="2504880" cy="2803680"/>
          </a:xfrm>
          <a:custGeom>
            <a:avLst/>
            <a:gdLst>
              <a:gd name="textAreaLeft" fmla="*/ 0 w 2504880"/>
              <a:gd name="textAreaRight" fmla="*/ 2505240 w 250488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1807" h="2029">
                <a:moveTo>
                  <a:pt x="644" y="63"/>
                </a:moveTo>
                <a:cubicBezTo>
                  <a:pt x="676" y="35"/>
                  <a:pt x="716" y="20"/>
                  <a:pt x="757" y="12"/>
                </a:cubicBezTo>
                <a:cubicBezTo>
                  <a:pt x="830" y="0"/>
                  <a:pt x="906" y="17"/>
                  <a:pt x="968" y="57"/>
                </a:cubicBezTo>
                <a:cubicBezTo>
                  <a:pt x="998" y="78"/>
                  <a:pt x="1022" y="108"/>
                  <a:pt x="1056" y="124"/>
                </a:cubicBezTo>
                <a:cubicBezTo>
                  <a:pt x="1126" y="161"/>
                  <a:pt x="1204" y="178"/>
                  <a:pt x="1281" y="195"/>
                </a:cubicBezTo>
                <a:cubicBezTo>
                  <a:pt x="1334" y="206"/>
                  <a:pt x="1387" y="216"/>
                  <a:pt x="1441" y="225"/>
                </a:cubicBezTo>
                <a:cubicBezTo>
                  <a:pt x="1409" y="252"/>
                  <a:pt x="1372" y="271"/>
                  <a:pt x="1341" y="299"/>
                </a:cubicBezTo>
                <a:cubicBezTo>
                  <a:pt x="1388" y="294"/>
                  <a:pt x="1433" y="279"/>
                  <a:pt x="1479" y="270"/>
                </a:cubicBezTo>
                <a:cubicBezTo>
                  <a:pt x="1485" y="269"/>
                  <a:pt x="1493" y="264"/>
                  <a:pt x="1499" y="270"/>
                </a:cubicBezTo>
                <a:cubicBezTo>
                  <a:pt x="1515" y="286"/>
                  <a:pt x="1531" y="303"/>
                  <a:pt x="1547" y="319"/>
                </a:cubicBezTo>
                <a:cubicBezTo>
                  <a:pt x="1557" y="298"/>
                  <a:pt x="1555" y="274"/>
                  <a:pt x="1562" y="253"/>
                </a:cubicBezTo>
                <a:cubicBezTo>
                  <a:pt x="1575" y="239"/>
                  <a:pt x="1596" y="242"/>
                  <a:pt x="1613" y="242"/>
                </a:cubicBezTo>
                <a:cubicBezTo>
                  <a:pt x="1645" y="244"/>
                  <a:pt x="1677" y="240"/>
                  <a:pt x="1709" y="244"/>
                </a:cubicBezTo>
                <a:cubicBezTo>
                  <a:pt x="1738" y="248"/>
                  <a:pt x="1764" y="265"/>
                  <a:pt x="1783" y="288"/>
                </a:cubicBezTo>
                <a:cubicBezTo>
                  <a:pt x="1779" y="311"/>
                  <a:pt x="1770" y="333"/>
                  <a:pt x="1770" y="356"/>
                </a:cubicBezTo>
                <a:cubicBezTo>
                  <a:pt x="1781" y="353"/>
                  <a:pt x="1793" y="348"/>
                  <a:pt x="1804" y="344"/>
                </a:cubicBezTo>
                <a:cubicBezTo>
                  <a:pt x="1807" y="372"/>
                  <a:pt x="1797" y="401"/>
                  <a:pt x="1781" y="424"/>
                </a:cubicBezTo>
                <a:cubicBezTo>
                  <a:pt x="1761" y="448"/>
                  <a:pt x="1731" y="465"/>
                  <a:pt x="1700" y="467"/>
                </a:cubicBezTo>
                <a:cubicBezTo>
                  <a:pt x="1603" y="472"/>
                  <a:pt x="1506" y="465"/>
                  <a:pt x="1411" y="449"/>
                </a:cubicBezTo>
                <a:cubicBezTo>
                  <a:pt x="1367" y="444"/>
                  <a:pt x="1325" y="430"/>
                  <a:pt x="1281" y="423"/>
                </a:cubicBezTo>
                <a:cubicBezTo>
                  <a:pt x="1235" y="413"/>
                  <a:pt x="1190" y="396"/>
                  <a:pt x="1144" y="385"/>
                </a:cubicBezTo>
                <a:cubicBezTo>
                  <a:pt x="1151" y="402"/>
                  <a:pt x="1163" y="416"/>
                  <a:pt x="1173" y="432"/>
                </a:cubicBezTo>
                <a:cubicBezTo>
                  <a:pt x="1205" y="482"/>
                  <a:pt x="1239" y="535"/>
                  <a:pt x="1293" y="564"/>
                </a:cubicBezTo>
                <a:cubicBezTo>
                  <a:pt x="1376" y="612"/>
                  <a:pt x="1465" y="650"/>
                  <a:pt x="1555" y="686"/>
                </a:cubicBezTo>
                <a:cubicBezTo>
                  <a:pt x="1580" y="694"/>
                  <a:pt x="1604" y="709"/>
                  <a:pt x="1618" y="732"/>
                </a:cubicBezTo>
                <a:cubicBezTo>
                  <a:pt x="1635" y="755"/>
                  <a:pt x="1638" y="786"/>
                  <a:pt x="1635" y="815"/>
                </a:cubicBezTo>
                <a:cubicBezTo>
                  <a:pt x="1622" y="819"/>
                  <a:pt x="1608" y="822"/>
                  <a:pt x="1595" y="826"/>
                </a:cubicBezTo>
                <a:cubicBezTo>
                  <a:pt x="1589" y="845"/>
                  <a:pt x="1587" y="865"/>
                  <a:pt x="1582" y="885"/>
                </a:cubicBezTo>
                <a:cubicBezTo>
                  <a:pt x="1581" y="893"/>
                  <a:pt x="1572" y="896"/>
                  <a:pt x="1565" y="900"/>
                </a:cubicBezTo>
                <a:cubicBezTo>
                  <a:pt x="1541" y="909"/>
                  <a:pt x="1514" y="911"/>
                  <a:pt x="1490" y="902"/>
                </a:cubicBezTo>
                <a:cubicBezTo>
                  <a:pt x="1441" y="884"/>
                  <a:pt x="1393" y="864"/>
                  <a:pt x="1345" y="844"/>
                </a:cubicBezTo>
                <a:cubicBezTo>
                  <a:pt x="1285" y="815"/>
                  <a:pt x="1224" y="789"/>
                  <a:pt x="1168" y="752"/>
                </a:cubicBezTo>
                <a:cubicBezTo>
                  <a:pt x="1178" y="746"/>
                  <a:pt x="1188" y="741"/>
                  <a:pt x="1197" y="734"/>
                </a:cubicBezTo>
                <a:cubicBezTo>
                  <a:pt x="1176" y="723"/>
                  <a:pt x="1155" y="714"/>
                  <a:pt x="1133" y="704"/>
                </a:cubicBezTo>
                <a:cubicBezTo>
                  <a:pt x="1129" y="684"/>
                  <a:pt x="1125" y="663"/>
                  <a:pt x="1121" y="643"/>
                </a:cubicBezTo>
                <a:cubicBezTo>
                  <a:pt x="1103" y="651"/>
                  <a:pt x="1092" y="668"/>
                  <a:pt x="1077" y="680"/>
                </a:cubicBezTo>
                <a:cubicBezTo>
                  <a:pt x="1037" y="639"/>
                  <a:pt x="1007" y="590"/>
                  <a:pt x="974" y="544"/>
                </a:cubicBezTo>
                <a:cubicBezTo>
                  <a:pt x="915" y="646"/>
                  <a:pt x="859" y="749"/>
                  <a:pt x="800" y="851"/>
                </a:cubicBezTo>
                <a:cubicBezTo>
                  <a:pt x="799" y="856"/>
                  <a:pt x="793" y="862"/>
                  <a:pt x="799" y="865"/>
                </a:cubicBezTo>
                <a:cubicBezTo>
                  <a:pt x="853" y="907"/>
                  <a:pt x="909" y="945"/>
                  <a:pt x="962" y="988"/>
                </a:cubicBezTo>
                <a:cubicBezTo>
                  <a:pt x="963" y="1013"/>
                  <a:pt x="962" y="1038"/>
                  <a:pt x="963" y="1063"/>
                </a:cubicBezTo>
                <a:cubicBezTo>
                  <a:pt x="965" y="1066"/>
                  <a:pt x="965" y="1066"/>
                  <a:pt x="965" y="1066"/>
                </a:cubicBezTo>
                <a:cubicBezTo>
                  <a:pt x="996" y="1067"/>
                  <a:pt x="1026" y="1065"/>
                  <a:pt x="1056" y="1066"/>
                </a:cubicBezTo>
                <a:cubicBezTo>
                  <a:pt x="1062" y="1066"/>
                  <a:pt x="1066" y="1071"/>
                  <a:pt x="1071" y="1074"/>
                </a:cubicBezTo>
                <a:cubicBezTo>
                  <a:pt x="1119" y="1117"/>
                  <a:pt x="1169" y="1158"/>
                  <a:pt x="1206" y="1211"/>
                </a:cubicBezTo>
                <a:cubicBezTo>
                  <a:pt x="1229" y="1248"/>
                  <a:pt x="1238" y="1290"/>
                  <a:pt x="1249" y="1332"/>
                </a:cubicBezTo>
                <a:cubicBezTo>
                  <a:pt x="1260" y="1372"/>
                  <a:pt x="1265" y="1413"/>
                  <a:pt x="1274" y="1453"/>
                </a:cubicBezTo>
                <a:cubicBezTo>
                  <a:pt x="1280" y="1483"/>
                  <a:pt x="1283" y="1514"/>
                  <a:pt x="1288" y="1544"/>
                </a:cubicBezTo>
                <a:cubicBezTo>
                  <a:pt x="1297" y="1586"/>
                  <a:pt x="1300" y="1630"/>
                  <a:pt x="1306" y="1673"/>
                </a:cubicBezTo>
                <a:cubicBezTo>
                  <a:pt x="1307" y="1682"/>
                  <a:pt x="1308" y="1690"/>
                  <a:pt x="1308" y="1699"/>
                </a:cubicBezTo>
                <a:cubicBezTo>
                  <a:pt x="1305" y="1706"/>
                  <a:pt x="1301" y="1713"/>
                  <a:pt x="1299" y="1722"/>
                </a:cubicBezTo>
                <a:cubicBezTo>
                  <a:pt x="1292" y="1761"/>
                  <a:pt x="1282" y="1800"/>
                  <a:pt x="1277" y="1840"/>
                </a:cubicBezTo>
                <a:cubicBezTo>
                  <a:pt x="1293" y="1829"/>
                  <a:pt x="1306" y="1814"/>
                  <a:pt x="1323" y="1804"/>
                </a:cubicBezTo>
                <a:cubicBezTo>
                  <a:pt x="1326" y="1840"/>
                  <a:pt x="1332" y="1878"/>
                  <a:pt x="1323" y="1914"/>
                </a:cubicBezTo>
                <a:cubicBezTo>
                  <a:pt x="1305" y="1981"/>
                  <a:pt x="1238" y="2029"/>
                  <a:pt x="1169" y="2027"/>
                </a:cubicBezTo>
                <a:cubicBezTo>
                  <a:pt x="1120" y="2024"/>
                  <a:pt x="1072" y="1998"/>
                  <a:pt x="1046" y="1956"/>
                </a:cubicBezTo>
                <a:cubicBezTo>
                  <a:pt x="1020" y="1916"/>
                  <a:pt x="1019" y="1867"/>
                  <a:pt x="1014" y="1822"/>
                </a:cubicBezTo>
                <a:cubicBezTo>
                  <a:pt x="1008" y="1757"/>
                  <a:pt x="996" y="1694"/>
                  <a:pt x="989" y="1629"/>
                </a:cubicBezTo>
                <a:cubicBezTo>
                  <a:pt x="984" y="1581"/>
                  <a:pt x="973" y="1533"/>
                  <a:pt x="966" y="1485"/>
                </a:cubicBezTo>
                <a:cubicBezTo>
                  <a:pt x="960" y="1448"/>
                  <a:pt x="951" y="1413"/>
                  <a:pt x="944" y="1377"/>
                </a:cubicBezTo>
                <a:cubicBezTo>
                  <a:pt x="927" y="1349"/>
                  <a:pt x="889" y="1337"/>
                  <a:pt x="881" y="1304"/>
                </a:cubicBezTo>
                <a:cubicBezTo>
                  <a:pt x="866" y="1269"/>
                  <a:pt x="854" y="1233"/>
                  <a:pt x="837" y="1200"/>
                </a:cubicBezTo>
                <a:cubicBezTo>
                  <a:pt x="829" y="1221"/>
                  <a:pt x="824" y="1243"/>
                  <a:pt x="819" y="1264"/>
                </a:cubicBezTo>
                <a:cubicBezTo>
                  <a:pt x="811" y="1261"/>
                  <a:pt x="804" y="1256"/>
                  <a:pt x="798" y="1251"/>
                </a:cubicBezTo>
                <a:cubicBezTo>
                  <a:pt x="723" y="1192"/>
                  <a:pt x="646" y="1135"/>
                  <a:pt x="569" y="1080"/>
                </a:cubicBezTo>
                <a:cubicBezTo>
                  <a:pt x="558" y="1104"/>
                  <a:pt x="553" y="1131"/>
                  <a:pt x="544" y="1156"/>
                </a:cubicBezTo>
                <a:cubicBezTo>
                  <a:pt x="496" y="1308"/>
                  <a:pt x="449" y="1461"/>
                  <a:pt x="402" y="1613"/>
                </a:cubicBezTo>
                <a:cubicBezTo>
                  <a:pt x="373" y="1626"/>
                  <a:pt x="342" y="1633"/>
                  <a:pt x="315" y="1648"/>
                </a:cubicBezTo>
                <a:cubicBezTo>
                  <a:pt x="336" y="1662"/>
                  <a:pt x="358" y="1673"/>
                  <a:pt x="379" y="1687"/>
                </a:cubicBezTo>
                <a:cubicBezTo>
                  <a:pt x="363" y="1741"/>
                  <a:pt x="345" y="1795"/>
                  <a:pt x="329" y="1849"/>
                </a:cubicBezTo>
                <a:cubicBezTo>
                  <a:pt x="316" y="1886"/>
                  <a:pt x="309" y="1925"/>
                  <a:pt x="288" y="1959"/>
                </a:cubicBezTo>
                <a:cubicBezTo>
                  <a:pt x="261" y="2000"/>
                  <a:pt x="213" y="2026"/>
                  <a:pt x="163" y="2028"/>
                </a:cubicBezTo>
                <a:cubicBezTo>
                  <a:pt x="151" y="2028"/>
                  <a:pt x="151" y="2028"/>
                  <a:pt x="151" y="2028"/>
                </a:cubicBezTo>
                <a:cubicBezTo>
                  <a:pt x="105" y="2024"/>
                  <a:pt x="61" y="2001"/>
                  <a:pt x="34" y="1963"/>
                </a:cubicBezTo>
                <a:cubicBezTo>
                  <a:pt x="11" y="1929"/>
                  <a:pt x="0" y="1887"/>
                  <a:pt x="8" y="1846"/>
                </a:cubicBezTo>
                <a:cubicBezTo>
                  <a:pt x="13" y="1823"/>
                  <a:pt x="22" y="1801"/>
                  <a:pt x="28" y="1779"/>
                </a:cubicBezTo>
                <a:cubicBezTo>
                  <a:pt x="61" y="1673"/>
                  <a:pt x="93" y="1567"/>
                  <a:pt x="127" y="1461"/>
                </a:cubicBezTo>
                <a:cubicBezTo>
                  <a:pt x="145" y="1469"/>
                  <a:pt x="163" y="1477"/>
                  <a:pt x="181" y="1483"/>
                </a:cubicBezTo>
                <a:cubicBezTo>
                  <a:pt x="178" y="1460"/>
                  <a:pt x="172" y="1437"/>
                  <a:pt x="166" y="1414"/>
                </a:cubicBezTo>
                <a:cubicBezTo>
                  <a:pt x="186" y="1398"/>
                  <a:pt x="210" y="1387"/>
                  <a:pt x="229" y="1370"/>
                </a:cubicBezTo>
                <a:cubicBezTo>
                  <a:pt x="207" y="1361"/>
                  <a:pt x="185" y="1353"/>
                  <a:pt x="162" y="1345"/>
                </a:cubicBezTo>
                <a:cubicBezTo>
                  <a:pt x="183" y="1279"/>
                  <a:pt x="203" y="1212"/>
                  <a:pt x="225" y="1146"/>
                </a:cubicBezTo>
                <a:cubicBezTo>
                  <a:pt x="236" y="1152"/>
                  <a:pt x="247" y="1158"/>
                  <a:pt x="258" y="1163"/>
                </a:cubicBezTo>
                <a:cubicBezTo>
                  <a:pt x="281" y="1123"/>
                  <a:pt x="304" y="1084"/>
                  <a:pt x="328" y="1045"/>
                </a:cubicBezTo>
                <a:cubicBezTo>
                  <a:pt x="300" y="1052"/>
                  <a:pt x="275" y="1066"/>
                  <a:pt x="247" y="1072"/>
                </a:cubicBezTo>
                <a:cubicBezTo>
                  <a:pt x="264" y="1019"/>
                  <a:pt x="280" y="966"/>
                  <a:pt x="297" y="913"/>
                </a:cubicBezTo>
                <a:cubicBezTo>
                  <a:pt x="298" y="908"/>
                  <a:pt x="301" y="903"/>
                  <a:pt x="298" y="898"/>
                </a:cubicBezTo>
                <a:cubicBezTo>
                  <a:pt x="284" y="871"/>
                  <a:pt x="269" y="843"/>
                  <a:pt x="265" y="812"/>
                </a:cubicBezTo>
                <a:cubicBezTo>
                  <a:pt x="258" y="767"/>
                  <a:pt x="262" y="719"/>
                  <a:pt x="285" y="679"/>
                </a:cubicBezTo>
                <a:cubicBezTo>
                  <a:pt x="317" y="621"/>
                  <a:pt x="350" y="563"/>
                  <a:pt x="382" y="505"/>
                </a:cubicBezTo>
                <a:cubicBezTo>
                  <a:pt x="406" y="464"/>
                  <a:pt x="427" y="422"/>
                  <a:pt x="452" y="382"/>
                </a:cubicBezTo>
                <a:cubicBezTo>
                  <a:pt x="479" y="425"/>
                  <a:pt x="500" y="471"/>
                  <a:pt x="527" y="513"/>
                </a:cubicBezTo>
                <a:cubicBezTo>
                  <a:pt x="532" y="463"/>
                  <a:pt x="530" y="412"/>
                  <a:pt x="535" y="362"/>
                </a:cubicBezTo>
                <a:cubicBezTo>
                  <a:pt x="548" y="339"/>
                  <a:pt x="569" y="322"/>
                  <a:pt x="581" y="299"/>
                </a:cubicBezTo>
                <a:cubicBezTo>
                  <a:pt x="558" y="291"/>
                  <a:pt x="535" y="283"/>
                  <a:pt x="513" y="272"/>
                </a:cubicBezTo>
                <a:cubicBezTo>
                  <a:pt x="534" y="233"/>
                  <a:pt x="557" y="195"/>
                  <a:pt x="578" y="156"/>
                </a:cubicBezTo>
                <a:cubicBezTo>
                  <a:pt x="597" y="124"/>
                  <a:pt x="614" y="87"/>
                  <a:pt x="644" y="63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1646" name="组合 32"/>
          <p:cNvGrpSpPr/>
          <p:nvPr/>
        </p:nvGrpSpPr>
        <p:grpSpPr>
          <a:xfrm>
            <a:off x="-1152720" y="6243480"/>
            <a:ext cx="13649400" cy="901800"/>
            <a:chOff x="-1152720" y="6243480"/>
            <a:chExt cx="13649400" cy="901800"/>
          </a:xfrm>
        </p:grpSpPr>
        <p:sp>
          <p:nvSpPr>
            <p:cNvPr id="1647" name="Freeform 9"/>
            <p:cNvSpPr/>
            <p:nvPr/>
          </p:nvSpPr>
          <p:spPr>
            <a:xfrm>
              <a:off x="3579480" y="6243480"/>
              <a:ext cx="2462400" cy="90180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48" name="Freeform 9"/>
            <p:cNvSpPr/>
            <p:nvPr/>
          </p:nvSpPr>
          <p:spPr>
            <a:xfrm flipH="1">
              <a:off x="1126080" y="6243480"/>
              <a:ext cx="2462400" cy="901800"/>
            </a:xfrm>
            <a:custGeom>
              <a:avLst/>
              <a:gdLst>
                <a:gd name="textAreaLeft" fmla="*/ 360 w 2462400"/>
                <a:gd name="textAreaRight" fmla="*/ 246312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49" name="Freeform 9"/>
            <p:cNvSpPr/>
            <p:nvPr/>
          </p:nvSpPr>
          <p:spPr>
            <a:xfrm flipH="1">
              <a:off x="-1152720" y="6243480"/>
              <a:ext cx="2462400" cy="901800"/>
            </a:xfrm>
            <a:custGeom>
              <a:avLst/>
              <a:gdLst>
                <a:gd name="textAreaLeft" fmla="*/ 360 w 2462400"/>
                <a:gd name="textAreaRight" fmla="*/ 246312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5570640" y="6243480"/>
              <a:ext cx="2462400" cy="90180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51" name="Freeform 9"/>
            <p:cNvSpPr/>
            <p:nvPr/>
          </p:nvSpPr>
          <p:spPr>
            <a:xfrm>
              <a:off x="7854480" y="6243480"/>
              <a:ext cx="2462400" cy="90180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1652" name="Freeform 9"/>
            <p:cNvSpPr/>
            <p:nvPr/>
          </p:nvSpPr>
          <p:spPr>
            <a:xfrm>
              <a:off x="10034280" y="6243480"/>
              <a:ext cx="2462400" cy="90180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1653" name="组合 39"/>
          <p:cNvGrpSpPr/>
          <p:nvPr/>
        </p:nvGrpSpPr>
        <p:grpSpPr>
          <a:xfrm>
            <a:off x="270360" y="5037480"/>
            <a:ext cx="1159560" cy="2079360"/>
            <a:chOff x="270360" y="5037480"/>
            <a:chExt cx="1159560" cy="2079360"/>
          </a:xfrm>
        </p:grpSpPr>
        <p:grpSp>
          <p:nvGrpSpPr>
            <p:cNvPr id="1654" name="组合 40"/>
            <p:cNvGrpSpPr/>
            <p:nvPr/>
          </p:nvGrpSpPr>
          <p:grpSpPr>
            <a:xfrm>
              <a:off x="270360" y="5653800"/>
              <a:ext cx="1159560" cy="1463040"/>
              <a:chOff x="270360" y="5653800"/>
              <a:chExt cx="1159560" cy="1463040"/>
            </a:xfrm>
          </p:grpSpPr>
          <p:sp>
            <p:nvSpPr>
              <p:cNvPr id="1655" name="梯形 44"/>
              <p:cNvSpPr/>
              <p:nvPr/>
            </p:nvSpPr>
            <p:spPr>
              <a:xfrm rot="21091800">
                <a:off x="280080" y="5724000"/>
                <a:ext cx="973440" cy="206280"/>
              </a:xfrm>
              <a:prstGeom prst="trapezoid">
                <a:avLst>
                  <a:gd name="adj" fmla="val 2451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656" name="矩形 45"/>
              <p:cNvSpPr/>
              <p:nvPr/>
            </p:nvSpPr>
            <p:spPr>
              <a:xfrm rot="21091800">
                <a:off x="378360" y="5923440"/>
                <a:ext cx="973440" cy="1127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1657" name="组合 41"/>
            <p:cNvGrpSpPr/>
            <p:nvPr/>
          </p:nvGrpSpPr>
          <p:grpSpPr>
            <a:xfrm>
              <a:off x="322200" y="5037480"/>
              <a:ext cx="763920" cy="1117080"/>
              <a:chOff x="322200" y="5037480"/>
              <a:chExt cx="763920" cy="1117080"/>
            </a:xfrm>
          </p:grpSpPr>
          <p:sp>
            <p:nvSpPr>
              <p:cNvPr id="1658" name="矩形 42"/>
              <p:cNvSpPr/>
              <p:nvPr/>
            </p:nvSpPr>
            <p:spPr>
              <a:xfrm rot="21091800">
                <a:off x="653040" y="5043960"/>
                <a:ext cx="174240" cy="11034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659" name="矩形 43"/>
              <p:cNvSpPr/>
              <p:nvPr/>
            </p:nvSpPr>
            <p:spPr>
              <a:xfrm rot="4891800">
                <a:off x="636480" y="5026680"/>
                <a:ext cx="134640" cy="7524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</p:grpSp>
      <p:grpSp>
        <p:nvGrpSpPr>
          <p:cNvPr id="1660" name="组合 46"/>
          <p:cNvGrpSpPr/>
          <p:nvPr/>
        </p:nvGrpSpPr>
        <p:grpSpPr>
          <a:xfrm>
            <a:off x="11578320" y="5978880"/>
            <a:ext cx="708840" cy="1171800"/>
            <a:chOff x="11578320" y="5978880"/>
            <a:chExt cx="708840" cy="1171800"/>
          </a:xfrm>
        </p:grpSpPr>
        <p:grpSp>
          <p:nvGrpSpPr>
            <p:cNvPr id="1661" name="组合 47"/>
            <p:cNvGrpSpPr/>
            <p:nvPr/>
          </p:nvGrpSpPr>
          <p:grpSpPr>
            <a:xfrm>
              <a:off x="11578320" y="6283440"/>
              <a:ext cx="691200" cy="867240"/>
              <a:chOff x="11578320" y="6283440"/>
              <a:chExt cx="691200" cy="867240"/>
            </a:xfrm>
          </p:grpSpPr>
          <p:sp>
            <p:nvSpPr>
              <p:cNvPr id="1662" name="梯形 51"/>
              <p:cNvSpPr/>
              <p:nvPr/>
            </p:nvSpPr>
            <p:spPr>
              <a:xfrm rot="1085400">
                <a:off x="11782800" y="6355080"/>
                <a:ext cx="480240" cy="116640"/>
              </a:xfrm>
              <a:prstGeom prst="trapezoid">
                <a:avLst>
                  <a:gd name="adj" fmla="val 2451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663" name="矩形 52"/>
              <p:cNvSpPr/>
              <p:nvPr/>
            </p:nvSpPr>
            <p:spPr>
              <a:xfrm rot="1085400">
                <a:off x="11665440" y="6453360"/>
                <a:ext cx="480240" cy="6382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1664" name="组合 48"/>
            <p:cNvGrpSpPr/>
            <p:nvPr/>
          </p:nvGrpSpPr>
          <p:grpSpPr>
            <a:xfrm>
              <a:off x="11910600" y="5978880"/>
              <a:ext cx="376560" cy="620280"/>
              <a:chOff x="11910600" y="5978880"/>
              <a:chExt cx="376560" cy="620280"/>
            </a:xfrm>
          </p:grpSpPr>
          <p:sp>
            <p:nvSpPr>
              <p:cNvPr id="1665" name="矩形 49"/>
              <p:cNvSpPr/>
              <p:nvPr/>
            </p:nvSpPr>
            <p:spPr>
              <a:xfrm rot="1085400">
                <a:off x="12024360" y="5976720"/>
                <a:ext cx="85680" cy="6246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666" name="矩形 50"/>
              <p:cNvSpPr/>
              <p:nvPr/>
            </p:nvSpPr>
            <p:spPr>
              <a:xfrm rot="6485400">
                <a:off x="12060720" y="5996880"/>
                <a:ext cx="75960" cy="37116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</p:grpSp>
      <p:grpSp>
        <p:nvGrpSpPr>
          <p:cNvPr id="1667" name="组合 54"/>
          <p:cNvGrpSpPr/>
          <p:nvPr/>
        </p:nvGrpSpPr>
        <p:grpSpPr>
          <a:xfrm>
            <a:off x="1167120" y="5499000"/>
            <a:ext cx="1432080" cy="2084040"/>
            <a:chOff x="1167120" y="5499000"/>
            <a:chExt cx="1432080" cy="2084040"/>
          </a:xfrm>
        </p:grpSpPr>
        <p:grpSp>
          <p:nvGrpSpPr>
            <p:cNvPr id="1668" name="组合 55"/>
            <p:cNvGrpSpPr/>
            <p:nvPr/>
          </p:nvGrpSpPr>
          <p:grpSpPr>
            <a:xfrm>
              <a:off x="1167120" y="5986080"/>
              <a:ext cx="1391760" cy="1596960"/>
              <a:chOff x="1167120" y="5986080"/>
              <a:chExt cx="1391760" cy="1596960"/>
            </a:xfrm>
          </p:grpSpPr>
          <p:sp>
            <p:nvSpPr>
              <p:cNvPr id="1669" name="梯形 59"/>
              <p:cNvSpPr/>
              <p:nvPr/>
            </p:nvSpPr>
            <p:spPr>
              <a:xfrm rot="1278600">
                <a:off x="1581120" y="6155640"/>
                <a:ext cx="973440" cy="206280"/>
              </a:xfrm>
              <a:prstGeom prst="trapezoid">
                <a:avLst>
                  <a:gd name="adj" fmla="val 2451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670" name="矩形 60"/>
              <p:cNvSpPr/>
              <p:nvPr/>
            </p:nvSpPr>
            <p:spPr>
              <a:xfrm rot="1278600">
                <a:off x="1338480" y="6316920"/>
                <a:ext cx="973440" cy="1127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  <p:grpSp>
          <p:nvGrpSpPr>
            <p:cNvPr id="1671" name="组合 56"/>
            <p:cNvGrpSpPr/>
            <p:nvPr/>
          </p:nvGrpSpPr>
          <p:grpSpPr>
            <a:xfrm>
              <a:off x="1849320" y="5499000"/>
              <a:ext cx="749880" cy="1091160"/>
              <a:chOff x="1849320" y="5499000"/>
              <a:chExt cx="749880" cy="1091160"/>
            </a:xfrm>
          </p:grpSpPr>
          <p:sp>
            <p:nvSpPr>
              <p:cNvPr id="1672" name="矩形 57"/>
              <p:cNvSpPr/>
              <p:nvPr/>
            </p:nvSpPr>
            <p:spPr>
              <a:xfrm rot="1278600">
                <a:off x="2072160" y="5492880"/>
                <a:ext cx="174240" cy="11034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  <p:sp>
            <p:nvSpPr>
              <p:cNvPr id="1673" name="矩形 58"/>
              <p:cNvSpPr/>
              <p:nvPr/>
            </p:nvSpPr>
            <p:spPr>
              <a:xfrm rot="6678600">
                <a:off x="2156760" y="5482800"/>
                <a:ext cx="134640" cy="7524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 8"/>
                  <a:ea typeface="微软雅黑 Light"/>
                </a:endParaRPr>
              </a:p>
            </p:txBody>
          </p:sp>
        </p:grpSp>
      </p:grpSp>
      <p:sp>
        <p:nvSpPr>
          <p:cNvPr id="1674" name="矩形 62"/>
          <p:cNvSpPr/>
          <p:nvPr/>
        </p:nvSpPr>
        <p:spPr>
          <a:xfrm>
            <a:off x="4444920" y="1818000"/>
            <a:ext cx="3301560" cy="9745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SIMON 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文本框 63"/>
          <p:cNvSpPr/>
          <p:nvPr/>
        </p:nvSpPr>
        <p:spPr>
          <a:xfrm>
            <a:off x="4161960" y="2915640"/>
            <a:ext cx="38678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ffffff"/>
                </a:solidFill>
                <a:latin typeface="Segoe UI Light 8"/>
                <a:ea typeface="微软雅黑 Light"/>
              </a:rPr>
              <a:t>Simon PPT, more than PP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文本框 1"/>
          <p:cNvSpPr/>
          <p:nvPr/>
        </p:nvSpPr>
        <p:spPr>
          <a:xfrm>
            <a:off x="3975840" y="3075120"/>
            <a:ext cx="423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下面是</a:t>
            </a:r>
            <a:r>
              <a:rPr b="1" lang="zh-CN" sz="4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丧心病狂</a:t>
            </a:r>
            <a:r>
              <a:rPr b="0" lang="zh-CN" sz="40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的广告时间</a:t>
            </a:r>
            <a:r>
              <a:rPr b="0" lang="en-US" sz="40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椭圆 42"/>
          <p:cNvSpPr/>
          <p:nvPr/>
        </p:nvSpPr>
        <p:spPr>
          <a:xfrm>
            <a:off x="9137520" y="5181840"/>
            <a:ext cx="1920600" cy="1897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38" name="Freeform 11"/>
          <p:cNvSpPr/>
          <p:nvPr/>
        </p:nvSpPr>
        <p:spPr>
          <a:xfrm rot="21447600">
            <a:off x="9216360" y="3780720"/>
            <a:ext cx="1601640" cy="1513440"/>
          </a:xfrm>
          <a:custGeom>
            <a:avLst/>
            <a:gdLst>
              <a:gd name="textAreaLeft" fmla="*/ 0 w 1601640"/>
              <a:gd name="textAreaRight" fmla="*/ 1602000 w 1601640"/>
              <a:gd name="textAreaTop" fmla="*/ 0 h 1513440"/>
              <a:gd name="textAreaBottom" fmla="*/ 1513800 h 1513440"/>
            </a:gdLst>
            <a:ahLst/>
            <a:rect l="textAreaLeft" t="textAreaTop" r="textAreaRight" b="textAreaBottom"/>
            <a:pathLst>
              <a:path w="639" h="663">
                <a:moveTo>
                  <a:pt x="397" y="0"/>
                </a:moveTo>
                <a:cubicBezTo>
                  <a:pt x="411" y="1"/>
                  <a:pt x="425" y="4"/>
                  <a:pt x="439" y="7"/>
                </a:cubicBezTo>
                <a:cubicBezTo>
                  <a:pt x="473" y="13"/>
                  <a:pt x="509" y="18"/>
                  <a:pt x="540" y="34"/>
                </a:cubicBezTo>
                <a:cubicBezTo>
                  <a:pt x="558" y="46"/>
                  <a:pt x="568" y="65"/>
                  <a:pt x="580" y="82"/>
                </a:cubicBezTo>
                <a:cubicBezTo>
                  <a:pt x="575" y="87"/>
                  <a:pt x="570" y="91"/>
                  <a:pt x="565" y="96"/>
                </a:cubicBezTo>
                <a:cubicBezTo>
                  <a:pt x="574" y="98"/>
                  <a:pt x="583" y="100"/>
                  <a:pt x="592" y="102"/>
                </a:cubicBezTo>
                <a:cubicBezTo>
                  <a:pt x="606" y="127"/>
                  <a:pt x="620" y="151"/>
                  <a:pt x="633" y="177"/>
                </a:cubicBezTo>
                <a:cubicBezTo>
                  <a:pt x="639" y="189"/>
                  <a:pt x="635" y="202"/>
                  <a:pt x="630" y="214"/>
                </a:cubicBezTo>
                <a:cubicBezTo>
                  <a:pt x="626" y="212"/>
                  <a:pt x="623" y="211"/>
                  <a:pt x="620" y="209"/>
                </a:cubicBezTo>
                <a:cubicBezTo>
                  <a:pt x="620" y="214"/>
                  <a:pt x="620" y="219"/>
                  <a:pt x="620" y="223"/>
                </a:cubicBezTo>
                <a:cubicBezTo>
                  <a:pt x="618" y="225"/>
                  <a:pt x="613" y="228"/>
                  <a:pt x="610" y="229"/>
                </a:cubicBezTo>
                <a:cubicBezTo>
                  <a:pt x="605" y="220"/>
                  <a:pt x="600" y="210"/>
                  <a:pt x="595" y="200"/>
                </a:cubicBezTo>
                <a:cubicBezTo>
                  <a:pt x="594" y="200"/>
                  <a:pt x="592" y="201"/>
                  <a:pt x="591" y="201"/>
                </a:cubicBezTo>
                <a:cubicBezTo>
                  <a:pt x="587" y="210"/>
                  <a:pt x="583" y="219"/>
                  <a:pt x="579" y="228"/>
                </a:cubicBezTo>
                <a:cubicBezTo>
                  <a:pt x="570" y="221"/>
                  <a:pt x="562" y="212"/>
                  <a:pt x="557" y="201"/>
                </a:cubicBezTo>
                <a:cubicBezTo>
                  <a:pt x="538" y="167"/>
                  <a:pt x="520" y="133"/>
                  <a:pt x="498" y="101"/>
                </a:cubicBezTo>
                <a:cubicBezTo>
                  <a:pt x="486" y="98"/>
                  <a:pt x="474" y="94"/>
                  <a:pt x="463" y="91"/>
                </a:cubicBezTo>
                <a:cubicBezTo>
                  <a:pt x="463" y="82"/>
                  <a:pt x="463" y="73"/>
                  <a:pt x="463" y="63"/>
                </a:cubicBezTo>
                <a:cubicBezTo>
                  <a:pt x="457" y="70"/>
                  <a:pt x="450" y="76"/>
                  <a:pt x="444" y="81"/>
                </a:cubicBezTo>
                <a:cubicBezTo>
                  <a:pt x="437" y="75"/>
                  <a:pt x="430" y="68"/>
                  <a:pt x="422" y="62"/>
                </a:cubicBezTo>
                <a:cubicBezTo>
                  <a:pt x="426" y="70"/>
                  <a:pt x="429" y="78"/>
                  <a:pt x="432" y="86"/>
                </a:cubicBezTo>
                <a:cubicBezTo>
                  <a:pt x="425" y="85"/>
                  <a:pt x="419" y="84"/>
                  <a:pt x="412" y="83"/>
                </a:cubicBezTo>
                <a:cubicBezTo>
                  <a:pt x="420" y="115"/>
                  <a:pt x="430" y="147"/>
                  <a:pt x="438" y="180"/>
                </a:cubicBezTo>
                <a:cubicBezTo>
                  <a:pt x="429" y="185"/>
                  <a:pt x="421" y="191"/>
                  <a:pt x="412" y="197"/>
                </a:cubicBezTo>
                <a:cubicBezTo>
                  <a:pt x="423" y="199"/>
                  <a:pt x="434" y="200"/>
                  <a:pt x="445" y="201"/>
                </a:cubicBezTo>
                <a:cubicBezTo>
                  <a:pt x="448" y="216"/>
                  <a:pt x="449" y="230"/>
                  <a:pt x="445" y="245"/>
                </a:cubicBezTo>
                <a:cubicBezTo>
                  <a:pt x="460" y="270"/>
                  <a:pt x="475" y="294"/>
                  <a:pt x="490" y="319"/>
                </a:cubicBezTo>
                <a:cubicBezTo>
                  <a:pt x="481" y="326"/>
                  <a:pt x="472" y="334"/>
                  <a:pt x="463" y="341"/>
                </a:cubicBezTo>
                <a:cubicBezTo>
                  <a:pt x="478" y="345"/>
                  <a:pt x="493" y="347"/>
                  <a:pt x="508" y="350"/>
                </a:cubicBezTo>
                <a:cubicBezTo>
                  <a:pt x="512" y="357"/>
                  <a:pt x="516" y="364"/>
                  <a:pt x="520" y="370"/>
                </a:cubicBezTo>
                <a:cubicBezTo>
                  <a:pt x="517" y="374"/>
                  <a:pt x="513" y="378"/>
                  <a:pt x="509" y="382"/>
                </a:cubicBezTo>
                <a:cubicBezTo>
                  <a:pt x="518" y="386"/>
                  <a:pt x="526" y="391"/>
                  <a:pt x="535" y="394"/>
                </a:cubicBezTo>
                <a:cubicBezTo>
                  <a:pt x="552" y="416"/>
                  <a:pt x="553" y="444"/>
                  <a:pt x="554" y="470"/>
                </a:cubicBezTo>
                <a:cubicBezTo>
                  <a:pt x="548" y="475"/>
                  <a:pt x="541" y="480"/>
                  <a:pt x="535" y="485"/>
                </a:cubicBezTo>
                <a:cubicBezTo>
                  <a:pt x="540" y="496"/>
                  <a:pt x="545" y="507"/>
                  <a:pt x="551" y="518"/>
                </a:cubicBezTo>
                <a:cubicBezTo>
                  <a:pt x="559" y="532"/>
                  <a:pt x="559" y="548"/>
                  <a:pt x="560" y="563"/>
                </a:cubicBezTo>
                <a:cubicBezTo>
                  <a:pt x="560" y="583"/>
                  <a:pt x="563" y="603"/>
                  <a:pt x="562" y="623"/>
                </a:cubicBezTo>
                <a:cubicBezTo>
                  <a:pt x="561" y="645"/>
                  <a:pt x="540" y="660"/>
                  <a:pt x="520" y="663"/>
                </a:cubicBezTo>
                <a:cubicBezTo>
                  <a:pt x="516" y="663"/>
                  <a:pt x="516" y="663"/>
                  <a:pt x="516" y="663"/>
                </a:cubicBezTo>
                <a:cubicBezTo>
                  <a:pt x="494" y="662"/>
                  <a:pt x="474" y="646"/>
                  <a:pt x="470" y="625"/>
                </a:cubicBezTo>
                <a:cubicBezTo>
                  <a:pt x="465" y="566"/>
                  <a:pt x="463" y="506"/>
                  <a:pt x="457" y="447"/>
                </a:cubicBezTo>
                <a:cubicBezTo>
                  <a:pt x="430" y="402"/>
                  <a:pt x="404" y="358"/>
                  <a:pt x="376" y="313"/>
                </a:cubicBezTo>
                <a:cubicBezTo>
                  <a:pt x="364" y="317"/>
                  <a:pt x="351" y="319"/>
                  <a:pt x="338" y="321"/>
                </a:cubicBezTo>
                <a:cubicBezTo>
                  <a:pt x="335" y="370"/>
                  <a:pt x="326" y="418"/>
                  <a:pt x="321" y="467"/>
                </a:cubicBezTo>
                <a:cubicBezTo>
                  <a:pt x="321" y="483"/>
                  <a:pt x="311" y="497"/>
                  <a:pt x="302" y="509"/>
                </a:cubicBezTo>
                <a:cubicBezTo>
                  <a:pt x="293" y="509"/>
                  <a:pt x="285" y="509"/>
                  <a:pt x="277" y="509"/>
                </a:cubicBezTo>
                <a:cubicBezTo>
                  <a:pt x="277" y="519"/>
                  <a:pt x="277" y="529"/>
                  <a:pt x="277" y="540"/>
                </a:cubicBezTo>
                <a:cubicBezTo>
                  <a:pt x="253" y="568"/>
                  <a:pt x="230" y="598"/>
                  <a:pt x="206" y="627"/>
                </a:cubicBezTo>
                <a:cubicBezTo>
                  <a:pt x="189" y="647"/>
                  <a:pt x="154" y="646"/>
                  <a:pt x="136" y="626"/>
                </a:cubicBezTo>
                <a:cubicBezTo>
                  <a:pt x="121" y="610"/>
                  <a:pt x="121" y="583"/>
                  <a:pt x="135" y="566"/>
                </a:cubicBezTo>
                <a:cubicBezTo>
                  <a:pt x="165" y="527"/>
                  <a:pt x="197" y="489"/>
                  <a:pt x="227" y="450"/>
                </a:cubicBezTo>
                <a:cubicBezTo>
                  <a:pt x="233" y="436"/>
                  <a:pt x="233" y="419"/>
                  <a:pt x="234" y="404"/>
                </a:cubicBezTo>
                <a:cubicBezTo>
                  <a:pt x="245" y="400"/>
                  <a:pt x="256" y="397"/>
                  <a:pt x="267" y="394"/>
                </a:cubicBezTo>
                <a:cubicBezTo>
                  <a:pt x="258" y="381"/>
                  <a:pt x="249" y="368"/>
                  <a:pt x="240" y="355"/>
                </a:cubicBezTo>
                <a:cubicBezTo>
                  <a:pt x="243" y="334"/>
                  <a:pt x="246" y="313"/>
                  <a:pt x="249" y="291"/>
                </a:cubicBezTo>
                <a:cubicBezTo>
                  <a:pt x="253" y="271"/>
                  <a:pt x="238" y="253"/>
                  <a:pt x="236" y="234"/>
                </a:cubicBezTo>
                <a:cubicBezTo>
                  <a:pt x="249" y="224"/>
                  <a:pt x="264" y="214"/>
                  <a:pt x="277" y="204"/>
                </a:cubicBezTo>
                <a:cubicBezTo>
                  <a:pt x="258" y="197"/>
                  <a:pt x="240" y="192"/>
                  <a:pt x="222" y="185"/>
                </a:cubicBezTo>
                <a:cubicBezTo>
                  <a:pt x="216" y="156"/>
                  <a:pt x="206" y="128"/>
                  <a:pt x="200" y="100"/>
                </a:cubicBezTo>
                <a:cubicBezTo>
                  <a:pt x="168" y="104"/>
                  <a:pt x="137" y="111"/>
                  <a:pt x="106" y="117"/>
                </a:cubicBezTo>
                <a:cubicBezTo>
                  <a:pt x="100" y="144"/>
                  <a:pt x="91" y="170"/>
                  <a:pt x="85" y="197"/>
                </a:cubicBezTo>
                <a:cubicBezTo>
                  <a:pt x="81" y="213"/>
                  <a:pt x="75" y="233"/>
                  <a:pt x="58" y="240"/>
                </a:cubicBezTo>
                <a:cubicBezTo>
                  <a:pt x="43" y="245"/>
                  <a:pt x="23" y="244"/>
                  <a:pt x="12" y="230"/>
                </a:cubicBezTo>
                <a:cubicBezTo>
                  <a:pt x="0" y="217"/>
                  <a:pt x="0" y="198"/>
                  <a:pt x="6" y="182"/>
                </a:cubicBezTo>
                <a:cubicBezTo>
                  <a:pt x="18" y="180"/>
                  <a:pt x="31" y="178"/>
                  <a:pt x="44" y="176"/>
                </a:cubicBezTo>
                <a:cubicBezTo>
                  <a:pt x="33" y="172"/>
                  <a:pt x="22" y="168"/>
                  <a:pt x="12" y="164"/>
                </a:cubicBezTo>
                <a:cubicBezTo>
                  <a:pt x="15" y="151"/>
                  <a:pt x="18" y="138"/>
                  <a:pt x="22" y="125"/>
                </a:cubicBezTo>
                <a:cubicBezTo>
                  <a:pt x="29" y="123"/>
                  <a:pt x="36" y="121"/>
                  <a:pt x="43" y="119"/>
                </a:cubicBezTo>
                <a:cubicBezTo>
                  <a:pt x="38" y="115"/>
                  <a:pt x="33" y="112"/>
                  <a:pt x="27" y="108"/>
                </a:cubicBezTo>
                <a:cubicBezTo>
                  <a:pt x="33" y="86"/>
                  <a:pt x="34" y="57"/>
                  <a:pt x="58" y="47"/>
                </a:cubicBezTo>
                <a:cubicBezTo>
                  <a:pt x="81" y="40"/>
                  <a:pt x="104" y="36"/>
                  <a:pt x="128" y="32"/>
                </a:cubicBezTo>
                <a:cubicBezTo>
                  <a:pt x="135" y="37"/>
                  <a:pt x="143" y="42"/>
                  <a:pt x="151" y="46"/>
                </a:cubicBezTo>
                <a:cubicBezTo>
                  <a:pt x="158" y="42"/>
                  <a:pt x="164" y="38"/>
                  <a:pt x="171" y="35"/>
                </a:cubicBezTo>
                <a:cubicBezTo>
                  <a:pt x="179" y="35"/>
                  <a:pt x="187" y="38"/>
                  <a:pt x="194" y="39"/>
                </a:cubicBezTo>
                <a:cubicBezTo>
                  <a:pt x="192" y="47"/>
                  <a:pt x="190" y="55"/>
                  <a:pt x="189" y="63"/>
                </a:cubicBezTo>
                <a:cubicBezTo>
                  <a:pt x="200" y="58"/>
                  <a:pt x="211" y="53"/>
                  <a:pt x="223" y="47"/>
                </a:cubicBezTo>
                <a:cubicBezTo>
                  <a:pt x="248" y="59"/>
                  <a:pt x="275" y="68"/>
                  <a:pt x="303" y="67"/>
                </a:cubicBezTo>
                <a:cubicBezTo>
                  <a:pt x="344" y="64"/>
                  <a:pt x="380" y="37"/>
                  <a:pt x="397" y="0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239" name="Freeform 17"/>
          <p:cNvSpPr/>
          <p:nvPr/>
        </p:nvSpPr>
        <p:spPr>
          <a:xfrm>
            <a:off x="9984240" y="1188720"/>
            <a:ext cx="1152360" cy="1495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495080"/>
              <a:gd name="textAreaBottom" fmla="*/ 1495440 h 1495080"/>
            </a:gdLst>
            <a:ahLst/>
            <a:rect l="textAreaLeft" t="textAreaTop" r="textAreaRight" b="textAreaBottom"/>
            <a:pathLst>
              <a:path w="12" h="14">
                <a:moveTo>
                  <a:pt x="1" y="7"/>
                </a:moveTo>
                <a:cubicBezTo>
                  <a:pt x="0" y="6"/>
                  <a:pt x="0" y="5"/>
                  <a:pt x="0" y="4"/>
                </a:cubicBezTo>
                <a:cubicBezTo>
                  <a:pt x="1" y="3"/>
                  <a:pt x="1" y="3"/>
                  <a:pt x="1" y="2"/>
                </a:cubicBezTo>
                <a:cubicBezTo>
                  <a:pt x="1" y="1"/>
                  <a:pt x="2" y="0"/>
                  <a:pt x="4" y="1"/>
                </a:cubicBezTo>
                <a:cubicBezTo>
                  <a:pt x="4" y="1"/>
                  <a:pt x="4" y="1"/>
                  <a:pt x="5" y="1"/>
                </a:cubicBezTo>
                <a:cubicBezTo>
                  <a:pt x="6" y="1"/>
                  <a:pt x="7" y="2"/>
                  <a:pt x="7" y="3"/>
                </a:cubicBezTo>
                <a:cubicBezTo>
                  <a:pt x="7" y="4"/>
                  <a:pt x="7" y="4"/>
                  <a:pt x="8" y="4"/>
                </a:cubicBezTo>
                <a:cubicBezTo>
                  <a:pt x="9" y="4"/>
                  <a:pt x="10" y="5"/>
                  <a:pt x="10" y="6"/>
                </a:cubicBezTo>
                <a:cubicBezTo>
                  <a:pt x="10" y="7"/>
                  <a:pt x="10" y="7"/>
                  <a:pt x="10" y="7"/>
                </a:cubicBezTo>
                <a:cubicBezTo>
                  <a:pt x="11" y="8"/>
                  <a:pt x="12" y="9"/>
                  <a:pt x="12" y="10"/>
                </a:cubicBezTo>
                <a:cubicBezTo>
                  <a:pt x="12" y="12"/>
                  <a:pt x="11" y="14"/>
                  <a:pt x="9" y="12"/>
                </a:cubicBezTo>
                <a:cubicBezTo>
                  <a:pt x="9" y="12"/>
                  <a:pt x="9" y="11"/>
                  <a:pt x="8" y="11"/>
                </a:cubicBezTo>
                <a:cubicBezTo>
                  <a:pt x="8" y="11"/>
                  <a:pt x="7" y="11"/>
                  <a:pt x="7" y="11"/>
                </a:cubicBezTo>
                <a:cubicBezTo>
                  <a:pt x="7" y="10"/>
                  <a:pt x="7" y="10"/>
                  <a:pt x="8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9"/>
                  <a:pt x="9" y="9"/>
                  <a:pt x="9" y="9"/>
                </a:cubicBezTo>
                <a:cubicBezTo>
                  <a:pt x="8" y="9"/>
                  <a:pt x="7" y="9"/>
                  <a:pt x="7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8"/>
                  <a:pt x="7" y="8"/>
                  <a:pt x="7" y="9"/>
                </a:cubicBezTo>
                <a:cubicBezTo>
                  <a:pt x="7" y="9"/>
                  <a:pt x="7" y="9"/>
                  <a:pt x="7" y="10"/>
                </a:cubicBezTo>
                <a:cubicBezTo>
                  <a:pt x="7" y="10"/>
                  <a:pt x="7" y="10"/>
                  <a:pt x="7" y="11"/>
                </a:cubicBezTo>
                <a:cubicBezTo>
                  <a:pt x="7" y="11"/>
                  <a:pt x="7" y="11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5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3" y="13"/>
                  <a:pt x="3" y="13"/>
                  <a:pt x="3" y="13"/>
                </a:cubicBezTo>
                <a:cubicBezTo>
                  <a:pt x="5" y="12"/>
                  <a:pt x="5" y="10"/>
                  <a:pt x="4" y="9"/>
                </a:cubicBezTo>
                <a:cubicBezTo>
                  <a:pt x="4" y="9"/>
                  <a:pt x="4" y="9"/>
                  <a:pt x="4" y="8"/>
                </a:cubicBezTo>
                <a:cubicBezTo>
                  <a:pt x="5" y="7"/>
                  <a:pt x="5" y="6"/>
                  <a:pt x="5" y="5"/>
                </a:cubicBezTo>
                <a:cubicBezTo>
                  <a:pt x="4" y="5"/>
                  <a:pt x="4" y="5"/>
                  <a:pt x="5" y="4"/>
                </a:cubicBezTo>
                <a:cubicBezTo>
                  <a:pt x="5" y="4"/>
                  <a:pt x="5" y="3"/>
                  <a:pt x="5" y="3"/>
                </a:cubicBezTo>
                <a:cubicBezTo>
                  <a:pt x="5" y="3"/>
                  <a:pt x="5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"/>
                  <a:pt x="3" y="5"/>
                  <a:pt x="3" y="4"/>
                </a:cubicBezTo>
                <a:cubicBezTo>
                  <a:pt x="2" y="4"/>
                  <a:pt x="2" y="4"/>
                  <a:pt x="2" y="5"/>
                </a:cubicBezTo>
                <a:cubicBezTo>
                  <a:pt x="2" y="5"/>
                  <a:pt x="2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6"/>
                  <a:pt x="4" y="7"/>
                  <a:pt x="4" y="8"/>
                </a:cubicBezTo>
                <a:cubicBezTo>
                  <a:pt x="3" y="8"/>
                  <a:pt x="3" y="8"/>
                  <a:pt x="4" y="9"/>
                </a:cubicBezTo>
                <a:cubicBezTo>
                  <a:pt x="5" y="11"/>
                  <a:pt x="3" y="13"/>
                  <a:pt x="1" y="12"/>
                </a:cubicBezTo>
                <a:cubicBezTo>
                  <a:pt x="0" y="11"/>
                  <a:pt x="0" y="9"/>
                  <a:pt x="1" y="8"/>
                </a:cubicBezTo>
                <a:cubicBezTo>
                  <a:pt x="1" y="7"/>
                  <a:pt x="1" y="7"/>
                  <a:pt x="1" y="7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2e2e2e"/>
              </a:solidFill>
              <a:latin typeface="微软雅黑 Light"/>
              <a:ea typeface="微软雅黑 Light"/>
            </a:endParaRPr>
          </a:p>
        </p:txBody>
      </p:sp>
      <p:sp>
        <p:nvSpPr>
          <p:cNvPr id="240" name="Freeform 16"/>
          <p:cNvSpPr/>
          <p:nvPr/>
        </p:nvSpPr>
        <p:spPr>
          <a:xfrm>
            <a:off x="8868600" y="1214280"/>
            <a:ext cx="1249560" cy="1387800"/>
          </a:xfrm>
          <a:custGeom>
            <a:avLst/>
            <a:gdLst>
              <a:gd name="textAreaLeft" fmla="*/ 0 w 1249560"/>
              <a:gd name="textAreaRight" fmla="*/ 1249920 w 1249560"/>
              <a:gd name="textAreaTop" fmla="*/ 0 h 1387800"/>
              <a:gd name="textAreaBottom" fmla="*/ 1388160 h 1387800"/>
            </a:gdLst>
            <a:ahLst/>
            <a:rect l="textAreaLeft" t="textAreaTop" r="textAreaRight" b="textAreaBottom"/>
            <a:pathLst>
              <a:path w="13" h="13">
                <a:moveTo>
                  <a:pt x="8" y="10"/>
                </a:moveTo>
                <a:cubicBezTo>
                  <a:pt x="8" y="10"/>
                  <a:pt x="7" y="10"/>
                  <a:pt x="7" y="9"/>
                </a:cubicBezTo>
                <a:cubicBezTo>
                  <a:pt x="7" y="8"/>
                  <a:pt x="7" y="8"/>
                  <a:pt x="6" y="8"/>
                </a:cubicBezTo>
                <a:cubicBezTo>
                  <a:pt x="5" y="7"/>
                  <a:pt x="6" y="6"/>
                  <a:pt x="6" y="5"/>
                </a:cubicBezTo>
                <a:cubicBezTo>
                  <a:pt x="7" y="5"/>
                  <a:pt x="7" y="5"/>
                  <a:pt x="7" y="6"/>
                </a:cubicBezTo>
                <a:cubicBezTo>
                  <a:pt x="8" y="6"/>
                  <a:pt x="8" y="6"/>
                  <a:pt x="8" y="7"/>
                </a:cubicBezTo>
                <a:cubicBezTo>
                  <a:pt x="9" y="7"/>
                  <a:pt x="9" y="7"/>
                  <a:pt x="9" y="6"/>
                </a:cubicBezTo>
                <a:cubicBezTo>
                  <a:pt x="9" y="6"/>
                  <a:pt x="9" y="6"/>
                  <a:pt x="8" y="6"/>
                </a:cubicBezTo>
                <a:cubicBezTo>
                  <a:pt x="8" y="5"/>
                  <a:pt x="8" y="4"/>
                  <a:pt x="8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8" y="3"/>
                  <a:pt x="8" y="3"/>
                </a:cubicBezTo>
                <a:cubicBezTo>
                  <a:pt x="8" y="3"/>
                  <a:pt x="7" y="4"/>
                  <a:pt x="7" y="4"/>
                </a:cubicBezTo>
                <a:cubicBezTo>
                  <a:pt x="7" y="4"/>
                  <a:pt x="7" y="4"/>
                  <a:pt x="6" y="5"/>
                </a:cubicBezTo>
                <a:cubicBezTo>
                  <a:pt x="5" y="5"/>
                  <a:pt x="5" y="7"/>
                  <a:pt x="6" y="8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10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9"/>
                  <a:pt x="5" y="9"/>
                  <a:pt x="4" y="10"/>
                </a:cubicBezTo>
                <a:cubicBezTo>
                  <a:pt x="4" y="10"/>
                  <a:pt x="4" y="11"/>
                  <a:pt x="4" y="12"/>
                </a:cubicBezTo>
                <a:cubicBezTo>
                  <a:pt x="3" y="13"/>
                  <a:pt x="3" y="13"/>
                  <a:pt x="2" y="13"/>
                </a:cubicBezTo>
                <a:cubicBezTo>
                  <a:pt x="0" y="13"/>
                  <a:pt x="0" y="12"/>
                  <a:pt x="0" y="10"/>
                </a:cubicBezTo>
                <a:cubicBezTo>
                  <a:pt x="0" y="9"/>
                  <a:pt x="1" y="8"/>
                  <a:pt x="2" y="7"/>
                </a:cubicBezTo>
                <a:cubicBezTo>
                  <a:pt x="2" y="7"/>
                  <a:pt x="2" y="7"/>
                  <a:pt x="2" y="6"/>
                </a:cubicBezTo>
                <a:cubicBezTo>
                  <a:pt x="2" y="5"/>
                  <a:pt x="3" y="4"/>
                  <a:pt x="4" y="4"/>
                </a:cubicBezTo>
                <a:cubicBezTo>
                  <a:pt x="5" y="4"/>
                  <a:pt x="5" y="4"/>
                  <a:pt x="5" y="3"/>
                </a:cubicBezTo>
                <a:cubicBezTo>
                  <a:pt x="5" y="2"/>
                  <a:pt x="6" y="1"/>
                  <a:pt x="7" y="1"/>
                </a:cubicBezTo>
                <a:cubicBezTo>
                  <a:pt x="8" y="1"/>
                  <a:pt x="8" y="1"/>
                  <a:pt x="8" y="1"/>
                </a:cubicBezTo>
                <a:cubicBezTo>
                  <a:pt x="10" y="0"/>
                  <a:pt x="13" y="2"/>
                  <a:pt x="11" y="4"/>
                </a:cubicBezTo>
                <a:cubicBezTo>
                  <a:pt x="11" y="5"/>
                  <a:pt x="11" y="5"/>
                  <a:pt x="11" y="6"/>
                </a:cubicBezTo>
                <a:cubicBezTo>
                  <a:pt x="12" y="7"/>
                  <a:pt x="12" y="10"/>
                  <a:pt x="10" y="9"/>
                </a:cubicBezTo>
                <a:cubicBezTo>
                  <a:pt x="9" y="9"/>
                  <a:pt x="9" y="9"/>
                  <a:pt x="8" y="1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2e2e2e"/>
              </a:solidFill>
              <a:latin typeface="微软雅黑 Light"/>
              <a:ea typeface="微软雅黑 Light"/>
            </a:endParaRPr>
          </a:p>
        </p:txBody>
      </p:sp>
      <p:sp>
        <p:nvSpPr>
          <p:cNvPr id="241" name="Freeform 19"/>
          <p:cNvSpPr/>
          <p:nvPr/>
        </p:nvSpPr>
        <p:spPr>
          <a:xfrm>
            <a:off x="9445680" y="2282400"/>
            <a:ext cx="576720" cy="320040"/>
          </a:xfrm>
          <a:custGeom>
            <a:avLst/>
            <a:gdLst>
              <a:gd name="textAreaLeft" fmla="*/ 0 w 576720"/>
              <a:gd name="textAreaRight" fmla="*/ 577080 w 576720"/>
              <a:gd name="textAreaTop" fmla="*/ 0 h 320040"/>
              <a:gd name="textAreaBottom" fmla="*/ 320400 h 320040"/>
            </a:gdLst>
            <a:ahLst/>
            <a:rect l="textAreaLeft" t="textAreaTop" r="textAreaRight" b="textAreaBottom"/>
            <a:pathLst>
              <a:path w="6" h="3">
                <a:moveTo>
                  <a:pt x="2" y="3"/>
                </a:moveTo>
                <a:cubicBezTo>
                  <a:pt x="2" y="3"/>
                  <a:pt x="1" y="3"/>
                  <a:pt x="1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6" y="2"/>
                  <a:pt x="5" y="2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4" y="2"/>
                  <a:pt x="2" y="3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2e2e2e"/>
              </a:solidFill>
              <a:latin typeface="微软雅黑 Light"/>
              <a:ea typeface="微软雅黑 Light"/>
            </a:endParaRPr>
          </a:p>
        </p:txBody>
      </p:sp>
      <p:sp>
        <p:nvSpPr>
          <p:cNvPr id="242" name="任意多边形 17"/>
          <p:cNvSpPr/>
          <p:nvPr/>
        </p:nvSpPr>
        <p:spPr>
          <a:xfrm>
            <a:off x="8945640" y="2556360"/>
            <a:ext cx="2186640" cy="1396080"/>
          </a:xfrm>
          <a:custGeom>
            <a:avLst/>
            <a:gdLst>
              <a:gd name="textAreaLeft" fmla="*/ 0 w 2186640"/>
              <a:gd name="textAreaRight" fmla="*/ 2187000 w 2186640"/>
              <a:gd name="textAreaTop" fmla="*/ 0 h 1396080"/>
              <a:gd name="textAreaBottom" fmla="*/ 1396440 h 1396080"/>
            </a:gdLst>
            <a:ahLst/>
            <a:rect l="textAreaLeft" t="textAreaTop" r="textAreaRight" b="textAreaBottom"/>
            <a:pathLst>
              <a:path w="3713312" h="2370974">
                <a:moveTo>
                  <a:pt x="0" y="0"/>
                </a:moveTo>
                <a:lnTo>
                  <a:pt x="3713312" y="0"/>
                </a:lnTo>
                <a:lnTo>
                  <a:pt x="3702869" y="86603"/>
                </a:lnTo>
                <a:cubicBezTo>
                  <a:pt x="3685788" y="188493"/>
                  <a:pt x="3660167" y="287034"/>
                  <a:pt x="3630275" y="378878"/>
                </a:cubicBezTo>
                <a:cubicBezTo>
                  <a:pt x="3570492" y="539606"/>
                  <a:pt x="3502169" y="677373"/>
                  <a:pt x="3448792" y="774957"/>
                </a:cubicBezTo>
                <a:lnTo>
                  <a:pt x="3442867" y="785466"/>
                </a:lnTo>
                <a:lnTo>
                  <a:pt x="3435953" y="922398"/>
                </a:lnTo>
                <a:cubicBezTo>
                  <a:pt x="3353322" y="1736041"/>
                  <a:pt x="2666174" y="2370974"/>
                  <a:pt x="1830729" y="2370974"/>
                </a:cubicBezTo>
                <a:cubicBezTo>
                  <a:pt x="939588" y="2370974"/>
                  <a:pt x="217175" y="1648561"/>
                  <a:pt x="217175" y="757421"/>
                </a:cubicBezTo>
                <a:lnTo>
                  <a:pt x="219301" y="701323"/>
                </a:lnTo>
                <a:lnTo>
                  <a:pt x="217572" y="698461"/>
                </a:lnTo>
                <a:cubicBezTo>
                  <a:pt x="176475" y="625519"/>
                  <a:pt x="62382" y="362363"/>
                  <a:pt x="4783" y="33206"/>
                </a:cubicBezTo>
                <a:close/>
              </a:path>
            </a:pathLst>
          </a:custGeom>
          <a:solidFill>
            <a:schemeClr val="bg1"/>
          </a:solidFill>
          <a:ln w="88900">
            <a:solidFill>
              <a:srgbClr val="2d2d2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e2e2e"/>
              </a:solidFill>
              <a:latin typeface="微软雅黑 Light"/>
              <a:ea typeface="微软雅黑 Light"/>
            </a:endParaRPr>
          </a:p>
        </p:txBody>
      </p:sp>
      <p:sp>
        <p:nvSpPr>
          <p:cNvPr id="243" name="弦形 18"/>
          <p:cNvSpPr/>
          <p:nvPr/>
        </p:nvSpPr>
        <p:spPr>
          <a:xfrm>
            <a:off x="9216360" y="2565000"/>
            <a:ext cx="779760" cy="779760"/>
          </a:xfrm>
          <a:prstGeom prst="chord">
            <a:avLst>
              <a:gd name="adj1" fmla="val 92404"/>
              <a:gd name="adj2" fmla="val 10691083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 Light"/>
              <a:ea typeface="微软雅黑 Light"/>
            </a:endParaRPr>
          </a:p>
        </p:txBody>
      </p:sp>
      <p:sp>
        <p:nvSpPr>
          <p:cNvPr id="244" name="弦形 19"/>
          <p:cNvSpPr/>
          <p:nvPr/>
        </p:nvSpPr>
        <p:spPr>
          <a:xfrm>
            <a:off x="10121400" y="2565000"/>
            <a:ext cx="779760" cy="779760"/>
          </a:xfrm>
          <a:prstGeom prst="chord">
            <a:avLst>
              <a:gd name="adj1" fmla="val 92404"/>
              <a:gd name="adj2" fmla="val 10691083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 Light"/>
              <a:ea typeface="微软雅黑 Light"/>
            </a:endParaRPr>
          </a:p>
        </p:txBody>
      </p:sp>
      <p:grpSp>
        <p:nvGrpSpPr>
          <p:cNvPr id="245" name="组合 20"/>
          <p:cNvGrpSpPr/>
          <p:nvPr/>
        </p:nvGrpSpPr>
        <p:grpSpPr>
          <a:xfrm>
            <a:off x="9085680" y="2563560"/>
            <a:ext cx="1920600" cy="414720"/>
            <a:chOff x="9085680" y="2563560"/>
            <a:chExt cx="1920600" cy="414720"/>
          </a:xfrm>
        </p:grpSpPr>
        <p:sp>
          <p:nvSpPr>
            <p:cNvPr id="246" name="圆角矩形 31"/>
            <p:cNvSpPr/>
            <p:nvPr/>
          </p:nvSpPr>
          <p:spPr>
            <a:xfrm>
              <a:off x="9085680" y="2729160"/>
              <a:ext cx="1920600" cy="5832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47" name="圆角矩形 32"/>
            <p:cNvSpPr/>
            <p:nvPr/>
          </p:nvSpPr>
          <p:spPr>
            <a:xfrm rot="5400000">
              <a:off x="9160200" y="2724480"/>
              <a:ext cx="201960" cy="81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6360" bIns="36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48" name="圆角矩形 33"/>
            <p:cNvSpPr/>
            <p:nvPr/>
          </p:nvSpPr>
          <p:spPr>
            <a:xfrm rot="5400000">
              <a:off x="9295200" y="2724480"/>
              <a:ext cx="244440" cy="81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6360" bIns="36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49" name="圆角矩形 34"/>
            <p:cNvSpPr/>
            <p:nvPr/>
          </p:nvSpPr>
          <p:spPr>
            <a:xfrm rot="5400000">
              <a:off x="9464040" y="2726640"/>
              <a:ext cx="268920" cy="81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6360" bIns="36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50" name="圆角矩形 35"/>
            <p:cNvSpPr/>
            <p:nvPr/>
          </p:nvSpPr>
          <p:spPr>
            <a:xfrm rot="5400000">
              <a:off x="9672840" y="2714760"/>
              <a:ext cx="244440" cy="81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6360" bIns="36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51" name="圆角矩形 36"/>
            <p:cNvSpPr/>
            <p:nvPr/>
          </p:nvSpPr>
          <p:spPr>
            <a:xfrm rot="5400000">
              <a:off x="9827280" y="2740680"/>
              <a:ext cx="394200" cy="81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6360" bIns="36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52" name="圆角矩形 37"/>
            <p:cNvSpPr/>
            <p:nvPr/>
          </p:nvSpPr>
          <p:spPr>
            <a:xfrm rot="5400000">
              <a:off x="10100520" y="2702160"/>
              <a:ext cx="358200" cy="81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6360" bIns="36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53" name="圆角矩形 38"/>
            <p:cNvSpPr/>
            <p:nvPr/>
          </p:nvSpPr>
          <p:spPr>
            <a:xfrm rot="5400000">
              <a:off x="10376640" y="2730240"/>
              <a:ext cx="222120" cy="7344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3120" bIns="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54" name="圆角矩形 39"/>
            <p:cNvSpPr/>
            <p:nvPr/>
          </p:nvSpPr>
          <p:spPr>
            <a:xfrm rot="5400000">
              <a:off x="10467720" y="2740320"/>
              <a:ext cx="325440" cy="81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6360" bIns="36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55" name="圆角矩形 40"/>
            <p:cNvSpPr/>
            <p:nvPr/>
          </p:nvSpPr>
          <p:spPr>
            <a:xfrm rot="5400000">
              <a:off x="10751400" y="2702160"/>
              <a:ext cx="268920" cy="81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6360" bIns="36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</p:grpSp>
      <p:grpSp>
        <p:nvGrpSpPr>
          <p:cNvPr id="256" name="组合 21"/>
          <p:cNvGrpSpPr/>
          <p:nvPr/>
        </p:nvGrpSpPr>
        <p:grpSpPr>
          <a:xfrm>
            <a:off x="10272600" y="3430800"/>
            <a:ext cx="403200" cy="289080"/>
            <a:chOff x="10272600" y="3430800"/>
            <a:chExt cx="403200" cy="289080"/>
          </a:xfrm>
        </p:grpSpPr>
        <p:sp>
          <p:nvSpPr>
            <p:cNvPr id="257" name="圆角矩形 27"/>
            <p:cNvSpPr/>
            <p:nvPr/>
          </p:nvSpPr>
          <p:spPr>
            <a:xfrm rot="12242400">
              <a:off x="10261800" y="3565440"/>
              <a:ext cx="424440" cy="3816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7280" bIns="17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58" name="圆角矩形 28"/>
            <p:cNvSpPr/>
            <p:nvPr/>
          </p:nvSpPr>
          <p:spPr>
            <a:xfrm rot="17643000">
              <a:off x="10508760" y="3600720"/>
              <a:ext cx="165600" cy="6156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59" name="圆角矩形 29"/>
            <p:cNvSpPr/>
            <p:nvPr/>
          </p:nvSpPr>
          <p:spPr>
            <a:xfrm rot="17643000">
              <a:off x="10383120" y="3552120"/>
              <a:ext cx="200520" cy="6156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60" name="圆角矩形 30"/>
            <p:cNvSpPr/>
            <p:nvPr/>
          </p:nvSpPr>
          <p:spPr>
            <a:xfrm rot="17643000">
              <a:off x="10260720" y="3503880"/>
              <a:ext cx="200520" cy="6156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</p:grpSp>
      <p:grpSp>
        <p:nvGrpSpPr>
          <p:cNvPr id="261" name="组合 22"/>
          <p:cNvGrpSpPr/>
          <p:nvPr/>
        </p:nvGrpSpPr>
        <p:grpSpPr>
          <a:xfrm>
            <a:off x="9243360" y="3358800"/>
            <a:ext cx="335520" cy="364320"/>
            <a:chOff x="9243360" y="3358800"/>
            <a:chExt cx="335520" cy="364320"/>
          </a:xfrm>
        </p:grpSpPr>
        <p:sp>
          <p:nvSpPr>
            <p:cNvPr id="262" name="圆角矩形 23"/>
            <p:cNvSpPr/>
            <p:nvPr/>
          </p:nvSpPr>
          <p:spPr>
            <a:xfrm rot="14032200">
              <a:off x="9204480" y="3522240"/>
              <a:ext cx="421920" cy="3816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7280" bIns="17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63" name="圆角矩形 24"/>
            <p:cNvSpPr/>
            <p:nvPr/>
          </p:nvSpPr>
          <p:spPr>
            <a:xfrm rot="19432200">
              <a:off x="9410760" y="3609360"/>
              <a:ext cx="165600" cy="612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64" name="圆角矩形 25"/>
            <p:cNvSpPr/>
            <p:nvPr/>
          </p:nvSpPr>
          <p:spPr>
            <a:xfrm rot="19432200">
              <a:off x="9323640" y="3513960"/>
              <a:ext cx="200520" cy="612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265" name="圆角矩形 26"/>
            <p:cNvSpPr/>
            <p:nvPr/>
          </p:nvSpPr>
          <p:spPr>
            <a:xfrm rot="19432200">
              <a:off x="9241920" y="3411720"/>
              <a:ext cx="200520" cy="612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</p:grpSp>
      <p:sp>
        <p:nvSpPr>
          <p:cNvPr id="266" name="等腰三角形 43"/>
          <p:cNvSpPr/>
          <p:nvPr/>
        </p:nvSpPr>
        <p:spPr>
          <a:xfrm rot="10800000">
            <a:off x="5616360" y="-11160"/>
            <a:ext cx="960120" cy="6278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67" name="椭圆 55"/>
          <p:cNvSpPr/>
          <p:nvPr/>
        </p:nvSpPr>
        <p:spPr>
          <a:xfrm>
            <a:off x="1351800" y="5181840"/>
            <a:ext cx="1920600" cy="1897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68" name="Freeform 6"/>
          <p:cNvSpPr/>
          <p:nvPr/>
        </p:nvSpPr>
        <p:spPr>
          <a:xfrm>
            <a:off x="1860840" y="3874320"/>
            <a:ext cx="932040" cy="1396440"/>
          </a:xfrm>
          <a:custGeom>
            <a:avLst/>
            <a:gdLst>
              <a:gd name="textAreaLeft" fmla="*/ 0 w 932040"/>
              <a:gd name="textAreaRight" fmla="*/ 932400 w 932040"/>
              <a:gd name="textAreaTop" fmla="*/ 0 h 1396440"/>
              <a:gd name="textAreaBottom" fmla="*/ 1396800 h 1396440"/>
            </a:gdLst>
            <a:ahLst/>
            <a:rect l="textAreaLeft" t="textAreaTop" r="textAreaRight" b="textAreaBottom"/>
            <a:pathLst>
              <a:path w="101" h="178">
                <a:moveTo>
                  <a:pt x="51" y="0"/>
                </a:moveTo>
                <a:cubicBezTo>
                  <a:pt x="51" y="0"/>
                  <a:pt x="50" y="0"/>
                  <a:pt x="50" y="0"/>
                </a:cubicBezTo>
                <a:cubicBezTo>
                  <a:pt x="37" y="0"/>
                  <a:pt x="24" y="5"/>
                  <a:pt x="15" y="15"/>
                </a:cubicBezTo>
                <a:cubicBezTo>
                  <a:pt x="6" y="25"/>
                  <a:pt x="0" y="37"/>
                  <a:pt x="1" y="50"/>
                </a:cubicBezTo>
                <a:cubicBezTo>
                  <a:pt x="1" y="72"/>
                  <a:pt x="1" y="72"/>
                  <a:pt x="1" y="72"/>
                </a:cubicBezTo>
                <a:cubicBezTo>
                  <a:pt x="1" y="78"/>
                  <a:pt x="5" y="83"/>
                  <a:pt x="11" y="83"/>
                </a:cubicBezTo>
                <a:cubicBezTo>
                  <a:pt x="16" y="83"/>
                  <a:pt x="21" y="78"/>
                  <a:pt x="21" y="72"/>
                </a:cubicBezTo>
                <a:cubicBezTo>
                  <a:pt x="21" y="50"/>
                  <a:pt x="21" y="50"/>
                  <a:pt x="21" y="50"/>
                </a:cubicBezTo>
                <a:cubicBezTo>
                  <a:pt x="21" y="43"/>
                  <a:pt x="23" y="36"/>
                  <a:pt x="28" y="31"/>
                </a:cubicBezTo>
                <a:cubicBezTo>
                  <a:pt x="28" y="81"/>
                  <a:pt x="28" y="81"/>
                  <a:pt x="28" y="81"/>
                </a:cubicBezTo>
                <a:cubicBezTo>
                  <a:pt x="28" y="81"/>
                  <a:pt x="28" y="81"/>
                  <a:pt x="28" y="81"/>
                </a:cubicBezTo>
                <a:cubicBezTo>
                  <a:pt x="28" y="168"/>
                  <a:pt x="28" y="168"/>
                  <a:pt x="28" y="168"/>
                </a:cubicBezTo>
                <a:cubicBezTo>
                  <a:pt x="28" y="174"/>
                  <a:pt x="33" y="178"/>
                  <a:pt x="38" y="178"/>
                </a:cubicBezTo>
                <a:cubicBezTo>
                  <a:pt x="44" y="178"/>
                  <a:pt x="48" y="174"/>
                  <a:pt x="48" y="168"/>
                </a:cubicBezTo>
                <a:cubicBezTo>
                  <a:pt x="48" y="91"/>
                  <a:pt x="48" y="91"/>
                  <a:pt x="48" y="91"/>
                </a:cubicBezTo>
                <a:cubicBezTo>
                  <a:pt x="53" y="91"/>
                  <a:pt x="53" y="91"/>
                  <a:pt x="53" y="91"/>
                </a:cubicBezTo>
                <a:cubicBezTo>
                  <a:pt x="53" y="168"/>
                  <a:pt x="53" y="168"/>
                  <a:pt x="53" y="168"/>
                </a:cubicBezTo>
                <a:cubicBezTo>
                  <a:pt x="53" y="174"/>
                  <a:pt x="58" y="178"/>
                  <a:pt x="63" y="178"/>
                </a:cubicBezTo>
                <a:cubicBezTo>
                  <a:pt x="69" y="178"/>
                  <a:pt x="74" y="174"/>
                  <a:pt x="74" y="168"/>
                </a:cubicBezTo>
                <a:cubicBezTo>
                  <a:pt x="74" y="81"/>
                  <a:pt x="74" y="81"/>
                  <a:pt x="74" y="81"/>
                </a:cubicBezTo>
                <a:cubicBezTo>
                  <a:pt x="74" y="81"/>
                  <a:pt x="74" y="81"/>
                  <a:pt x="74" y="81"/>
                </a:cubicBezTo>
                <a:cubicBezTo>
                  <a:pt x="74" y="31"/>
                  <a:pt x="74" y="31"/>
                  <a:pt x="74" y="31"/>
                </a:cubicBezTo>
                <a:cubicBezTo>
                  <a:pt x="78" y="36"/>
                  <a:pt x="81" y="42"/>
                  <a:pt x="81" y="50"/>
                </a:cubicBezTo>
                <a:cubicBezTo>
                  <a:pt x="81" y="72"/>
                  <a:pt x="81" y="72"/>
                  <a:pt x="81" y="72"/>
                </a:cubicBezTo>
                <a:cubicBezTo>
                  <a:pt x="81" y="78"/>
                  <a:pt x="85" y="83"/>
                  <a:pt x="91" y="83"/>
                </a:cubicBezTo>
                <a:cubicBezTo>
                  <a:pt x="96" y="83"/>
                  <a:pt x="101" y="78"/>
                  <a:pt x="101" y="72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22"/>
                  <a:pt x="78" y="0"/>
                  <a:pt x="51" y="0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269" name="椭圆 48"/>
          <p:cNvSpPr/>
          <p:nvPr/>
        </p:nvSpPr>
        <p:spPr>
          <a:xfrm>
            <a:off x="1311120" y="1904400"/>
            <a:ext cx="2009520" cy="20095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70" name="矩形 49"/>
          <p:cNvSpPr/>
          <p:nvPr/>
        </p:nvSpPr>
        <p:spPr>
          <a:xfrm>
            <a:off x="1569240" y="3036960"/>
            <a:ext cx="700920" cy="75600"/>
          </a:xfrm>
          <a:prstGeom prst="rect">
            <a:avLst/>
          </a:prstGeom>
          <a:solidFill>
            <a:srgbClr val="2e2e2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71" name="矩形 50"/>
          <p:cNvSpPr/>
          <p:nvPr/>
        </p:nvSpPr>
        <p:spPr>
          <a:xfrm>
            <a:off x="2454480" y="3036960"/>
            <a:ext cx="700920" cy="75600"/>
          </a:xfrm>
          <a:prstGeom prst="rect">
            <a:avLst/>
          </a:prstGeom>
          <a:solidFill>
            <a:srgbClr val="2e2e2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72" name="椭圆 51"/>
          <p:cNvSpPr/>
          <p:nvPr/>
        </p:nvSpPr>
        <p:spPr>
          <a:xfrm>
            <a:off x="1803960" y="3043440"/>
            <a:ext cx="195120" cy="133200"/>
          </a:xfrm>
          <a:prstGeom prst="ellipse">
            <a:avLst/>
          </a:prstGeom>
          <a:solidFill>
            <a:srgbClr val="2e2e2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73" name="椭圆 52"/>
          <p:cNvSpPr/>
          <p:nvPr/>
        </p:nvSpPr>
        <p:spPr>
          <a:xfrm>
            <a:off x="2665800" y="3041640"/>
            <a:ext cx="195120" cy="133200"/>
          </a:xfrm>
          <a:prstGeom prst="ellipse">
            <a:avLst/>
          </a:prstGeom>
          <a:solidFill>
            <a:srgbClr val="2e2e2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74" name="同心圆 53"/>
          <p:cNvSpPr/>
          <p:nvPr/>
        </p:nvSpPr>
        <p:spPr>
          <a:xfrm>
            <a:off x="1279080" y="1907640"/>
            <a:ext cx="2073240" cy="2073240"/>
          </a:xfrm>
          <a:prstGeom prst="donut">
            <a:avLst>
              <a:gd name="adj" fmla="val 3806"/>
            </a:avLst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275" name="任意多边形 54"/>
          <p:cNvSpPr/>
          <p:nvPr/>
        </p:nvSpPr>
        <p:spPr>
          <a:xfrm>
            <a:off x="1120680" y="1188720"/>
            <a:ext cx="2412360" cy="1866240"/>
          </a:xfrm>
          <a:custGeom>
            <a:avLst/>
            <a:gdLst>
              <a:gd name="textAreaLeft" fmla="*/ 0 w 2412360"/>
              <a:gd name="textAreaRight" fmla="*/ 2412720 w 2412360"/>
              <a:gd name="textAreaTop" fmla="*/ 0 h 1866240"/>
              <a:gd name="textAreaBottom" fmla="*/ 1866600 h 1866240"/>
            </a:gdLst>
            <a:ahLst/>
            <a:rect l="textAreaLeft" t="textAreaTop" r="textAreaRight" b="textAreaBottom"/>
            <a:pathLst>
              <a:path w="2051532" h="1587287">
                <a:moveTo>
                  <a:pt x="808911" y="351"/>
                </a:moveTo>
                <a:cubicBezTo>
                  <a:pt x="990198" y="7057"/>
                  <a:pt x="1214599" y="108722"/>
                  <a:pt x="1338958" y="216375"/>
                </a:cubicBezTo>
                <a:cubicBezTo>
                  <a:pt x="1490933" y="168997"/>
                  <a:pt x="1765935" y="292781"/>
                  <a:pt x="1853582" y="451008"/>
                </a:cubicBezTo>
                <a:cubicBezTo>
                  <a:pt x="1864538" y="470767"/>
                  <a:pt x="1873986" y="493197"/>
                  <a:pt x="1882003" y="517763"/>
                </a:cubicBezTo>
                <a:lnTo>
                  <a:pt x="1899991" y="589941"/>
                </a:lnTo>
                <a:lnTo>
                  <a:pt x="1934278" y="625455"/>
                </a:lnTo>
                <a:cubicBezTo>
                  <a:pt x="2092935" y="826185"/>
                  <a:pt x="2064937" y="1085462"/>
                  <a:pt x="1999607" y="1286192"/>
                </a:cubicBezTo>
                <a:cubicBezTo>
                  <a:pt x="1934278" y="1461831"/>
                  <a:pt x="1850283" y="1587287"/>
                  <a:pt x="1850283" y="1587287"/>
                </a:cubicBezTo>
                <a:cubicBezTo>
                  <a:pt x="1850283" y="1587287"/>
                  <a:pt x="1850283" y="1578923"/>
                  <a:pt x="1850283" y="1562196"/>
                </a:cubicBezTo>
                <a:cubicBezTo>
                  <a:pt x="1850283" y="1553832"/>
                  <a:pt x="1840950" y="1545468"/>
                  <a:pt x="1840950" y="1537105"/>
                </a:cubicBezTo>
                <a:cubicBezTo>
                  <a:pt x="1829284" y="1499468"/>
                  <a:pt x="1815869" y="1463399"/>
                  <a:pt x="1799245" y="1428768"/>
                </a:cubicBezTo>
                <a:lnTo>
                  <a:pt x="1774996" y="1389101"/>
                </a:lnTo>
                <a:lnTo>
                  <a:pt x="1765181" y="1409751"/>
                </a:lnTo>
                <a:cubicBezTo>
                  <a:pt x="1735480" y="1470045"/>
                  <a:pt x="1714071" y="1505503"/>
                  <a:pt x="1714071" y="1505503"/>
                </a:cubicBezTo>
                <a:lnTo>
                  <a:pt x="1714071" y="1477076"/>
                </a:lnTo>
                <a:cubicBezTo>
                  <a:pt x="1714071" y="1467902"/>
                  <a:pt x="1704824" y="1458276"/>
                  <a:pt x="1704824" y="1448800"/>
                </a:cubicBezTo>
                <a:cubicBezTo>
                  <a:pt x="1681002" y="1363595"/>
                  <a:pt x="1650095" y="1285535"/>
                  <a:pt x="1600266" y="1213396"/>
                </a:cubicBezTo>
                <a:lnTo>
                  <a:pt x="1573925" y="1183121"/>
                </a:lnTo>
                <a:lnTo>
                  <a:pt x="1523636" y="1152372"/>
                </a:lnTo>
                <a:cubicBezTo>
                  <a:pt x="1467640" y="1319647"/>
                  <a:pt x="1243653" y="1461831"/>
                  <a:pt x="1243653" y="1461831"/>
                </a:cubicBezTo>
                <a:cubicBezTo>
                  <a:pt x="1243653" y="1461831"/>
                  <a:pt x="1238987" y="1420012"/>
                  <a:pt x="1223821" y="1363557"/>
                </a:cubicBezTo>
                <a:lnTo>
                  <a:pt x="1195741" y="1280924"/>
                </a:lnTo>
                <a:lnTo>
                  <a:pt x="1172455" y="1302812"/>
                </a:lnTo>
                <a:cubicBezTo>
                  <a:pt x="1129383" y="1341060"/>
                  <a:pt x="1097326" y="1363670"/>
                  <a:pt x="1097326" y="1363670"/>
                </a:cubicBezTo>
                <a:cubicBezTo>
                  <a:pt x="1097326" y="1363670"/>
                  <a:pt x="1094668" y="1337063"/>
                  <a:pt x="1086841" y="1296815"/>
                </a:cubicBezTo>
                <a:lnTo>
                  <a:pt x="1080356" y="1267013"/>
                </a:lnTo>
                <a:lnTo>
                  <a:pt x="1049561" y="1304357"/>
                </a:lnTo>
                <a:cubicBezTo>
                  <a:pt x="948504" y="1413739"/>
                  <a:pt x="833011" y="1470195"/>
                  <a:pt x="833011" y="1470195"/>
                </a:cubicBezTo>
                <a:cubicBezTo>
                  <a:pt x="833011" y="1470195"/>
                  <a:pt x="828345" y="1428376"/>
                  <a:pt x="814346" y="1370875"/>
                </a:cubicBezTo>
                <a:lnTo>
                  <a:pt x="791180" y="1294081"/>
                </a:lnTo>
                <a:lnTo>
                  <a:pt x="751575" y="1325636"/>
                </a:lnTo>
                <a:cubicBezTo>
                  <a:pt x="709369" y="1357048"/>
                  <a:pt x="679997" y="1372996"/>
                  <a:pt x="679997" y="1372996"/>
                </a:cubicBezTo>
                <a:cubicBezTo>
                  <a:pt x="679997" y="1372996"/>
                  <a:pt x="677340" y="1346409"/>
                  <a:pt x="670011" y="1305688"/>
                </a:cubicBezTo>
                <a:lnTo>
                  <a:pt x="664046" y="1275752"/>
                </a:lnTo>
                <a:lnTo>
                  <a:pt x="605525" y="1338596"/>
                </a:lnTo>
                <a:cubicBezTo>
                  <a:pt x="462034" y="1478558"/>
                  <a:pt x="308043" y="1553832"/>
                  <a:pt x="301043" y="1553832"/>
                </a:cubicBezTo>
                <a:cubicBezTo>
                  <a:pt x="291711" y="1541286"/>
                  <a:pt x="259629" y="1495809"/>
                  <a:pt x="222736" y="1429421"/>
                </a:cubicBezTo>
                <a:lnTo>
                  <a:pt x="218353" y="1421130"/>
                </a:lnTo>
                <a:lnTo>
                  <a:pt x="190137" y="1439926"/>
                </a:lnTo>
                <a:cubicBezTo>
                  <a:pt x="160498" y="1458426"/>
                  <a:pt x="141551" y="1467902"/>
                  <a:pt x="139240" y="1467902"/>
                </a:cubicBezTo>
                <a:cubicBezTo>
                  <a:pt x="101045" y="1410898"/>
                  <a:pt x="-188231" y="747458"/>
                  <a:pt x="200753" y="369037"/>
                </a:cubicBezTo>
                <a:cubicBezTo>
                  <a:pt x="210201" y="359711"/>
                  <a:pt x="544506" y="28969"/>
                  <a:pt x="734274" y="3550"/>
                </a:cubicBezTo>
                <a:cubicBezTo>
                  <a:pt x="757995" y="373"/>
                  <a:pt x="783013" y="-607"/>
                  <a:pt x="808911" y="351"/>
                </a:cubicBezTo>
                <a:close/>
              </a:path>
            </a:pathLst>
          </a:custGeom>
          <a:solidFill>
            <a:srgbClr val="2e2e2e"/>
          </a:solidFill>
          <a:ln w="55563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sp>
        <p:nvSpPr>
          <p:cNvPr id="276" name="右箭头 56"/>
          <p:cNvSpPr/>
          <p:nvPr/>
        </p:nvSpPr>
        <p:spPr>
          <a:xfrm>
            <a:off x="7331760" y="2919600"/>
            <a:ext cx="938520" cy="87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77" name="矩形 59"/>
          <p:cNvSpPr/>
          <p:nvPr/>
        </p:nvSpPr>
        <p:spPr>
          <a:xfrm>
            <a:off x="695160" y="6090120"/>
            <a:ext cx="10801080" cy="7714440"/>
          </a:xfrm>
          <a:prstGeom prst="rect">
            <a:avLst/>
          </a:prstGeom>
          <a:noFill/>
          <a:ln>
            <a:solidFill>
              <a:srgbClr val="2d2d2d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78" name="矩形 4"/>
          <p:cNvSpPr/>
          <p:nvPr/>
        </p:nvSpPr>
        <p:spPr>
          <a:xfrm>
            <a:off x="2602080" y="5729040"/>
            <a:ext cx="6987960" cy="7214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Segoe UI Light 8"/>
                <a:ea typeface="微软雅黑 Light"/>
              </a:rPr>
              <a:t>大概总结为</a:t>
            </a:r>
            <a:r>
              <a:rPr b="0" lang="en-US" sz="2800" spc="-1" strike="noStrike">
                <a:solidFill>
                  <a:schemeClr val="lt1"/>
                </a:solidFill>
                <a:latin typeface="Segoe UI Light 8"/>
                <a:ea typeface="微软雅黑 Ligh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文本框 5"/>
          <p:cNvSpPr/>
          <p:nvPr/>
        </p:nvSpPr>
        <p:spPr>
          <a:xfrm>
            <a:off x="4825440" y="3130200"/>
            <a:ext cx="2541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10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60"/>
          <p:cNvSpPr/>
          <p:nvPr/>
        </p:nvSpPr>
        <p:spPr>
          <a:xfrm>
            <a:off x="4686840" y="3914280"/>
            <a:ext cx="2818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多种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61"/>
          <p:cNvSpPr/>
          <p:nvPr/>
        </p:nvSpPr>
        <p:spPr>
          <a:xfrm>
            <a:off x="4490640" y="1942920"/>
            <a:ext cx="3210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2e2e2e"/>
                </a:solidFill>
                <a:latin typeface="微软雅黑 Light"/>
                <a:ea typeface="微软雅黑 Light"/>
              </a:rPr>
              <a:t>文学</a:t>
            </a:r>
            <a:r>
              <a:rPr b="0" lang="en-US" sz="4000" spc="-1" strike="noStrike">
                <a:solidFill>
                  <a:srgbClr val="2e2e2e"/>
                </a:solidFill>
                <a:latin typeface="微软雅黑 Light"/>
                <a:ea typeface="微软雅黑 Light"/>
              </a:rPr>
              <a:t>/</a:t>
            </a:r>
            <a:r>
              <a:rPr b="0" lang="zh-CN" sz="4000" spc="-1" strike="noStrike">
                <a:solidFill>
                  <a:srgbClr val="2e2e2e"/>
                </a:solidFill>
                <a:latin typeface="微软雅黑 Light"/>
                <a:ea typeface="微软雅黑 Light"/>
              </a:rPr>
              <a:t>影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62"/>
          <p:cNvSpPr/>
          <p:nvPr/>
        </p:nvSpPr>
        <p:spPr>
          <a:xfrm>
            <a:off x="4490640" y="2531160"/>
            <a:ext cx="3210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微软雅黑 Light"/>
                <a:ea typeface="微软雅黑 Light"/>
              </a:rPr>
              <a:t>作品中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右箭头 63"/>
          <p:cNvSpPr/>
          <p:nvPr/>
        </p:nvSpPr>
        <p:spPr>
          <a:xfrm>
            <a:off x="3938400" y="2919600"/>
            <a:ext cx="895320" cy="876960"/>
          </a:xfrm>
          <a:prstGeom prst="rightArrow">
            <a:avLst>
              <a:gd name="adj1" fmla="val 50000"/>
              <a:gd name="adj2" fmla="val 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椭圆 31"/>
          <p:cNvSpPr/>
          <p:nvPr/>
        </p:nvSpPr>
        <p:spPr>
          <a:xfrm>
            <a:off x="1460520" y="601200"/>
            <a:ext cx="1880640" cy="188064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85" name="椭圆 32"/>
          <p:cNvSpPr/>
          <p:nvPr/>
        </p:nvSpPr>
        <p:spPr>
          <a:xfrm>
            <a:off x="5155560" y="618120"/>
            <a:ext cx="1880640" cy="188064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86" name="椭圆 33"/>
          <p:cNvSpPr/>
          <p:nvPr/>
        </p:nvSpPr>
        <p:spPr>
          <a:xfrm>
            <a:off x="8850600" y="618120"/>
            <a:ext cx="1880640" cy="188064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87" name="文本框 39"/>
          <p:cNvSpPr/>
          <p:nvPr/>
        </p:nvSpPr>
        <p:spPr>
          <a:xfrm>
            <a:off x="1476000" y="2591640"/>
            <a:ext cx="184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空间辐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5171040" y="2591640"/>
            <a:ext cx="184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化学武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8866440" y="2591640"/>
            <a:ext cx="184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病毒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2"/>
          <p:cNvSpPr/>
          <p:nvPr/>
        </p:nvSpPr>
        <p:spPr>
          <a:xfrm>
            <a:off x="1476000" y="5787360"/>
            <a:ext cx="184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超自然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5"/>
          <p:cNvSpPr/>
          <p:nvPr/>
        </p:nvSpPr>
        <p:spPr>
          <a:xfrm>
            <a:off x="5193720" y="5787360"/>
            <a:ext cx="184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基因操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27"/>
          <p:cNvSpPr/>
          <p:nvPr/>
        </p:nvSpPr>
        <p:spPr>
          <a:xfrm>
            <a:off x="1460520" y="3774960"/>
            <a:ext cx="1880640" cy="188064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93" name="椭圆 28"/>
          <p:cNvSpPr/>
          <p:nvPr/>
        </p:nvSpPr>
        <p:spPr>
          <a:xfrm>
            <a:off x="5155560" y="3774960"/>
            <a:ext cx="1880640" cy="188064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94" name="椭圆 29"/>
          <p:cNvSpPr/>
          <p:nvPr/>
        </p:nvSpPr>
        <p:spPr>
          <a:xfrm>
            <a:off x="8850600" y="3774960"/>
            <a:ext cx="1880640" cy="1880640"/>
          </a:xfrm>
          <a:prstGeom prst="ellips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295" name="Freeform 9"/>
          <p:cNvSpPr/>
          <p:nvPr/>
        </p:nvSpPr>
        <p:spPr>
          <a:xfrm>
            <a:off x="9105480" y="974520"/>
            <a:ext cx="1391400" cy="1185120"/>
          </a:xfrm>
          <a:custGeom>
            <a:avLst/>
            <a:gdLst>
              <a:gd name="textAreaLeft" fmla="*/ 0 w 1391400"/>
              <a:gd name="textAreaRight" fmla="*/ 1391760 w 1391400"/>
              <a:gd name="textAreaTop" fmla="*/ 0 h 1185120"/>
              <a:gd name="textAreaBottom" fmla="*/ 1185480 h 1185120"/>
            </a:gdLst>
            <a:ahLst/>
            <a:rect l="textAreaLeft" t="textAreaTop" r="textAreaRight" b="textAreaBottom"/>
            <a:pathLst>
              <a:path w="383" h="327">
                <a:moveTo>
                  <a:pt x="371" y="177"/>
                </a:moveTo>
                <a:cubicBezTo>
                  <a:pt x="360" y="169"/>
                  <a:pt x="345" y="171"/>
                  <a:pt x="337" y="181"/>
                </a:cubicBezTo>
                <a:cubicBezTo>
                  <a:pt x="336" y="182"/>
                  <a:pt x="336" y="184"/>
                  <a:pt x="335" y="185"/>
                </a:cubicBezTo>
                <a:cubicBezTo>
                  <a:pt x="276" y="175"/>
                  <a:pt x="276" y="175"/>
                  <a:pt x="276" y="175"/>
                </a:cubicBezTo>
                <a:cubicBezTo>
                  <a:pt x="277" y="171"/>
                  <a:pt x="277" y="167"/>
                  <a:pt x="277" y="162"/>
                </a:cubicBezTo>
                <a:cubicBezTo>
                  <a:pt x="277" y="145"/>
                  <a:pt x="273" y="129"/>
                  <a:pt x="264" y="116"/>
                </a:cubicBezTo>
                <a:cubicBezTo>
                  <a:pt x="302" y="91"/>
                  <a:pt x="302" y="91"/>
                  <a:pt x="302" y="91"/>
                </a:cubicBezTo>
                <a:cubicBezTo>
                  <a:pt x="304" y="93"/>
                  <a:pt x="307" y="94"/>
                  <a:pt x="310" y="94"/>
                </a:cubicBezTo>
                <a:cubicBezTo>
                  <a:pt x="317" y="93"/>
                  <a:pt x="323" y="87"/>
                  <a:pt x="322" y="79"/>
                </a:cubicBezTo>
                <a:cubicBezTo>
                  <a:pt x="321" y="72"/>
                  <a:pt x="315" y="67"/>
                  <a:pt x="308" y="68"/>
                </a:cubicBezTo>
                <a:cubicBezTo>
                  <a:pt x="301" y="68"/>
                  <a:pt x="296" y="75"/>
                  <a:pt x="296" y="82"/>
                </a:cubicBezTo>
                <a:cubicBezTo>
                  <a:pt x="296" y="83"/>
                  <a:pt x="296" y="83"/>
                  <a:pt x="297" y="84"/>
                </a:cubicBezTo>
                <a:cubicBezTo>
                  <a:pt x="259" y="108"/>
                  <a:pt x="259" y="108"/>
                  <a:pt x="259" y="108"/>
                </a:cubicBezTo>
                <a:cubicBezTo>
                  <a:pt x="252" y="98"/>
                  <a:pt x="243" y="89"/>
                  <a:pt x="232" y="83"/>
                </a:cubicBezTo>
                <a:cubicBezTo>
                  <a:pt x="259" y="41"/>
                  <a:pt x="259" y="41"/>
                  <a:pt x="259" y="41"/>
                </a:cubicBezTo>
                <a:cubicBezTo>
                  <a:pt x="261" y="41"/>
                  <a:pt x="264" y="41"/>
                  <a:pt x="267" y="39"/>
                </a:cubicBezTo>
                <a:cubicBezTo>
                  <a:pt x="273" y="36"/>
                  <a:pt x="275" y="28"/>
                  <a:pt x="272" y="22"/>
                </a:cubicBezTo>
                <a:cubicBezTo>
                  <a:pt x="268" y="15"/>
                  <a:pt x="260" y="13"/>
                  <a:pt x="254" y="17"/>
                </a:cubicBezTo>
                <a:cubicBezTo>
                  <a:pt x="248" y="20"/>
                  <a:pt x="246" y="28"/>
                  <a:pt x="249" y="35"/>
                </a:cubicBezTo>
                <a:cubicBezTo>
                  <a:pt x="250" y="35"/>
                  <a:pt x="250" y="36"/>
                  <a:pt x="251" y="36"/>
                </a:cubicBezTo>
                <a:cubicBezTo>
                  <a:pt x="224" y="79"/>
                  <a:pt x="224" y="79"/>
                  <a:pt x="224" y="79"/>
                </a:cubicBezTo>
                <a:cubicBezTo>
                  <a:pt x="215" y="75"/>
                  <a:pt x="205" y="72"/>
                  <a:pt x="194" y="7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2" y="38"/>
                  <a:pt x="204" y="37"/>
                  <a:pt x="205" y="35"/>
                </a:cubicBezTo>
                <a:cubicBezTo>
                  <a:pt x="208" y="31"/>
                  <a:pt x="208" y="25"/>
                  <a:pt x="203" y="22"/>
                </a:cubicBezTo>
                <a:cubicBezTo>
                  <a:pt x="199" y="19"/>
                  <a:pt x="193" y="19"/>
                  <a:pt x="190" y="24"/>
                </a:cubicBezTo>
                <a:cubicBezTo>
                  <a:pt x="187" y="28"/>
                  <a:pt x="188" y="34"/>
                  <a:pt x="192" y="37"/>
                </a:cubicBezTo>
                <a:cubicBezTo>
                  <a:pt x="192" y="37"/>
                  <a:pt x="193" y="37"/>
                  <a:pt x="193" y="38"/>
                </a:cubicBezTo>
                <a:cubicBezTo>
                  <a:pt x="188" y="71"/>
                  <a:pt x="188" y="71"/>
                  <a:pt x="188" y="71"/>
                </a:cubicBezTo>
                <a:cubicBezTo>
                  <a:pt x="187" y="70"/>
                  <a:pt x="186" y="70"/>
                  <a:pt x="185" y="70"/>
                </a:cubicBezTo>
                <a:cubicBezTo>
                  <a:pt x="174" y="70"/>
                  <a:pt x="162" y="73"/>
                  <a:pt x="152" y="77"/>
                </a:cubicBezTo>
                <a:cubicBezTo>
                  <a:pt x="126" y="30"/>
                  <a:pt x="126" y="30"/>
                  <a:pt x="126" y="30"/>
                </a:cubicBezTo>
                <a:cubicBezTo>
                  <a:pt x="128" y="26"/>
                  <a:pt x="130" y="22"/>
                  <a:pt x="130" y="18"/>
                </a:cubicBezTo>
                <a:cubicBezTo>
                  <a:pt x="130" y="8"/>
                  <a:pt x="121" y="0"/>
                  <a:pt x="111" y="0"/>
                </a:cubicBezTo>
                <a:cubicBezTo>
                  <a:pt x="101" y="0"/>
                  <a:pt x="93" y="9"/>
                  <a:pt x="94" y="19"/>
                </a:cubicBezTo>
                <a:cubicBezTo>
                  <a:pt x="94" y="29"/>
                  <a:pt x="102" y="37"/>
                  <a:pt x="112" y="36"/>
                </a:cubicBezTo>
                <a:cubicBezTo>
                  <a:pt x="113" y="36"/>
                  <a:pt x="114" y="36"/>
                  <a:pt x="115" y="36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28" y="90"/>
                  <a:pt x="117" y="100"/>
                  <a:pt x="109" y="112"/>
                </a:cubicBezTo>
                <a:cubicBezTo>
                  <a:pt x="71" y="82"/>
                  <a:pt x="71" y="82"/>
                  <a:pt x="71" y="82"/>
                </a:cubicBezTo>
                <a:cubicBezTo>
                  <a:pt x="72" y="79"/>
                  <a:pt x="72" y="76"/>
                  <a:pt x="70" y="73"/>
                </a:cubicBezTo>
                <a:cubicBezTo>
                  <a:pt x="68" y="67"/>
                  <a:pt x="60" y="64"/>
                  <a:pt x="53" y="67"/>
                </a:cubicBezTo>
                <a:cubicBezTo>
                  <a:pt x="47" y="70"/>
                  <a:pt x="44" y="78"/>
                  <a:pt x="47" y="84"/>
                </a:cubicBezTo>
                <a:cubicBezTo>
                  <a:pt x="50" y="91"/>
                  <a:pt x="57" y="94"/>
                  <a:pt x="64" y="91"/>
                </a:cubicBezTo>
                <a:cubicBezTo>
                  <a:pt x="65" y="90"/>
                  <a:pt x="65" y="90"/>
                  <a:pt x="66" y="90"/>
                </a:cubicBezTo>
                <a:cubicBezTo>
                  <a:pt x="104" y="120"/>
                  <a:pt x="104" y="120"/>
                  <a:pt x="104" y="120"/>
                </a:cubicBezTo>
                <a:cubicBezTo>
                  <a:pt x="98" y="130"/>
                  <a:pt x="95" y="143"/>
                  <a:pt x="94" y="155"/>
                </a:cubicBezTo>
                <a:cubicBezTo>
                  <a:pt x="37" y="155"/>
                  <a:pt x="37" y="155"/>
                  <a:pt x="37" y="155"/>
                </a:cubicBezTo>
                <a:cubicBezTo>
                  <a:pt x="36" y="152"/>
                  <a:pt x="33" y="148"/>
                  <a:pt x="29" y="146"/>
                </a:cubicBezTo>
                <a:cubicBezTo>
                  <a:pt x="20" y="142"/>
                  <a:pt x="9" y="145"/>
                  <a:pt x="5" y="154"/>
                </a:cubicBezTo>
                <a:cubicBezTo>
                  <a:pt x="0" y="163"/>
                  <a:pt x="3" y="174"/>
                  <a:pt x="12" y="178"/>
                </a:cubicBezTo>
                <a:cubicBezTo>
                  <a:pt x="21" y="183"/>
                  <a:pt x="32" y="180"/>
                  <a:pt x="37" y="171"/>
                </a:cubicBezTo>
                <a:cubicBezTo>
                  <a:pt x="37" y="170"/>
                  <a:pt x="38" y="169"/>
                  <a:pt x="38" y="168"/>
                </a:cubicBezTo>
                <a:cubicBezTo>
                  <a:pt x="94" y="168"/>
                  <a:pt x="94" y="168"/>
                  <a:pt x="94" y="168"/>
                </a:cubicBezTo>
                <a:cubicBezTo>
                  <a:pt x="94" y="175"/>
                  <a:pt x="96" y="183"/>
                  <a:pt x="98" y="189"/>
                </a:cubicBezTo>
                <a:cubicBezTo>
                  <a:pt x="61" y="203"/>
                  <a:pt x="61" y="203"/>
                  <a:pt x="61" y="203"/>
                </a:cubicBezTo>
                <a:cubicBezTo>
                  <a:pt x="59" y="201"/>
                  <a:pt x="57" y="200"/>
                  <a:pt x="54" y="199"/>
                </a:cubicBezTo>
                <a:cubicBezTo>
                  <a:pt x="47" y="199"/>
                  <a:pt x="40" y="204"/>
                  <a:pt x="39" y="211"/>
                </a:cubicBezTo>
                <a:cubicBezTo>
                  <a:pt x="39" y="218"/>
                  <a:pt x="44" y="224"/>
                  <a:pt x="51" y="225"/>
                </a:cubicBezTo>
                <a:cubicBezTo>
                  <a:pt x="58" y="226"/>
                  <a:pt x="64" y="221"/>
                  <a:pt x="65" y="214"/>
                </a:cubicBezTo>
                <a:cubicBezTo>
                  <a:pt x="65" y="213"/>
                  <a:pt x="65" y="212"/>
                  <a:pt x="65" y="212"/>
                </a:cubicBezTo>
                <a:cubicBezTo>
                  <a:pt x="101" y="198"/>
                  <a:pt x="101" y="198"/>
                  <a:pt x="101" y="198"/>
                </a:cubicBezTo>
                <a:cubicBezTo>
                  <a:pt x="108" y="215"/>
                  <a:pt x="120" y="229"/>
                  <a:pt x="135" y="239"/>
                </a:cubicBezTo>
                <a:cubicBezTo>
                  <a:pt x="117" y="257"/>
                  <a:pt x="117" y="257"/>
                  <a:pt x="117" y="257"/>
                </a:cubicBezTo>
                <a:cubicBezTo>
                  <a:pt x="114" y="256"/>
                  <a:pt x="111" y="256"/>
                  <a:pt x="108" y="257"/>
                </a:cubicBezTo>
                <a:cubicBezTo>
                  <a:pt x="102" y="259"/>
                  <a:pt x="98" y="266"/>
                  <a:pt x="100" y="273"/>
                </a:cubicBezTo>
                <a:cubicBezTo>
                  <a:pt x="102" y="280"/>
                  <a:pt x="110" y="283"/>
                  <a:pt x="117" y="281"/>
                </a:cubicBezTo>
                <a:cubicBezTo>
                  <a:pt x="123" y="279"/>
                  <a:pt x="127" y="272"/>
                  <a:pt x="125" y="265"/>
                </a:cubicBezTo>
                <a:cubicBezTo>
                  <a:pt x="125" y="264"/>
                  <a:pt x="124" y="264"/>
                  <a:pt x="124" y="263"/>
                </a:cubicBezTo>
                <a:cubicBezTo>
                  <a:pt x="143" y="244"/>
                  <a:pt x="143" y="244"/>
                  <a:pt x="143" y="244"/>
                </a:cubicBezTo>
                <a:cubicBezTo>
                  <a:pt x="152" y="248"/>
                  <a:pt x="161" y="252"/>
                  <a:pt x="172" y="253"/>
                </a:cubicBezTo>
                <a:cubicBezTo>
                  <a:pt x="167" y="300"/>
                  <a:pt x="167" y="300"/>
                  <a:pt x="167" y="300"/>
                </a:cubicBezTo>
                <a:cubicBezTo>
                  <a:pt x="164" y="300"/>
                  <a:pt x="161" y="302"/>
                  <a:pt x="159" y="304"/>
                </a:cubicBezTo>
                <a:cubicBezTo>
                  <a:pt x="155" y="310"/>
                  <a:pt x="156" y="318"/>
                  <a:pt x="162" y="323"/>
                </a:cubicBezTo>
                <a:cubicBezTo>
                  <a:pt x="167" y="327"/>
                  <a:pt x="175" y="326"/>
                  <a:pt x="180" y="320"/>
                </a:cubicBezTo>
                <a:cubicBezTo>
                  <a:pt x="184" y="315"/>
                  <a:pt x="183" y="306"/>
                  <a:pt x="177" y="302"/>
                </a:cubicBezTo>
                <a:cubicBezTo>
                  <a:pt x="177" y="302"/>
                  <a:pt x="176" y="301"/>
                  <a:pt x="176" y="301"/>
                </a:cubicBezTo>
                <a:cubicBezTo>
                  <a:pt x="181" y="254"/>
                  <a:pt x="181" y="254"/>
                  <a:pt x="181" y="254"/>
                </a:cubicBezTo>
                <a:cubicBezTo>
                  <a:pt x="182" y="254"/>
                  <a:pt x="184" y="254"/>
                  <a:pt x="185" y="254"/>
                </a:cubicBezTo>
                <a:cubicBezTo>
                  <a:pt x="197" y="254"/>
                  <a:pt x="209" y="252"/>
                  <a:pt x="219" y="248"/>
                </a:cubicBezTo>
                <a:cubicBezTo>
                  <a:pt x="229" y="289"/>
                  <a:pt x="229" y="289"/>
                  <a:pt x="229" y="289"/>
                </a:cubicBezTo>
                <a:cubicBezTo>
                  <a:pt x="226" y="291"/>
                  <a:pt x="224" y="293"/>
                  <a:pt x="224" y="296"/>
                </a:cubicBezTo>
                <a:cubicBezTo>
                  <a:pt x="222" y="303"/>
                  <a:pt x="226" y="310"/>
                  <a:pt x="233" y="312"/>
                </a:cubicBezTo>
                <a:cubicBezTo>
                  <a:pt x="240" y="314"/>
                  <a:pt x="247" y="310"/>
                  <a:pt x="249" y="303"/>
                </a:cubicBezTo>
                <a:cubicBezTo>
                  <a:pt x="250" y="296"/>
                  <a:pt x="246" y="289"/>
                  <a:pt x="239" y="287"/>
                </a:cubicBezTo>
                <a:cubicBezTo>
                  <a:pt x="239" y="287"/>
                  <a:pt x="238" y="287"/>
                  <a:pt x="237" y="287"/>
                </a:cubicBezTo>
                <a:cubicBezTo>
                  <a:pt x="228" y="244"/>
                  <a:pt x="228" y="244"/>
                  <a:pt x="228" y="244"/>
                </a:cubicBezTo>
                <a:cubicBezTo>
                  <a:pt x="234" y="240"/>
                  <a:pt x="241" y="236"/>
                  <a:pt x="246" y="231"/>
                </a:cubicBezTo>
                <a:cubicBezTo>
                  <a:pt x="259" y="249"/>
                  <a:pt x="259" y="249"/>
                  <a:pt x="259" y="249"/>
                </a:cubicBezTo>
                <a:cubicBezTo>
                  <a:pt x="258" y="251"/>
                  <a:pt x="257" y="253"/>
                  <a:pt x="257" y="255"/>
                </a:cubicBezTo>
                <a:cubicBezTo>
                  <a:pt x="258" y="260"/>
                  <a:pt x="263" y="264"/>
                  <a:pt x="268" y="263"/>
                </a:cubicBezTo>
                <a:cubicBezTo>
                  <a:pt x="273" y="263"/>
                  <a:pt x="277" y="258"/>
                  <a:pt x="276" y="253"/>
                </a:cubicBezTo>
                <a:cubicBezTo>
                  <a:pt x="276" y="247"/>
                  <a:pt x="271" y="244"/>
                  <a:pt x="266" y="245"/>
                </a:cubicBezTo>
                <a:cubicBezTo>
                  <a:pt x="265" y="245"/>
                  <a:pt x="265" y="245"/>
                  <a:pt x="264" y="245"/>
                </a:cubicBezTo>
                <a:cubicBezTo>
                  <a:pt x="251" y="227"/>
                  <a:pt x="251" y="227"/>
                  <a:pt x="251" y="227"/>
                </a:cubicBezTo>
                <a:cubicBezTo>
                  <a:pt x="261" y="217"/>
                  <a:pt x="268" y="205"/>
                  <a:pt x="273" y="191"/>
                </a:cubicBezTo>
                <a:cubicBezTo>
                  <a:pt x="333" y="201"/>
                  <a:pt x="333" y="201"/>
                  <a:pt x="333" y="201"/>
                </a:cubicBezTo>
                <a:cubicBezTo>
                  <a:pt x="334" y="207"/>
                  <a:pt x="337" y="212"/>
                  <a:pt x="342" y="215"/>
                </a:cubicBezTo>
                <a:cubicBezTo>
                  <a:pt x="352" y="223"/>
                  <a:pt x="367" y="221"/>
                  <a:pt x="375" y="210"/>
                </a:cubicBezTo>
                <a:cubicBezTo>
                  <a:pt x="383" y="200"/>
                  <a:pt x="381" y="185"/>
                  <a:pt x="371" y="177"/>
                </a:cubicBezTo>
                <a:moveTo>
                  <a:pt x="157" y="158"/>
                </a:moveTo>
                <a:cubicBezTo>
                  <a:pt x="149" y="158"/>
                  <a:pt x="143" y="152"/>
                  <a:pt x="143" y="144"/>
                </a:cubicBezTo>
                <a:cubicBezTo>
                  <a:pt x="143" y="137"/>
                  <a:pt x="149" y="131"/>
                  <a:pt x="157" y="131"/>
                </a:cubicBezTo>
                <a:cubicBezTo>
                  <a:pt x="164" y="131"/>
                  <a:pt x="171" y="137"/>
                  <a:pt x="171" y="144"/>
                </a:cubicBezTo>
                <a:cubicBezTo>
                  <a:pt x="171" y="152"/>
                  <a:pt x="164" y="158"/>
                  <a:pt x="157" y="158"/>
                </a:cubicBezTo>
                <a:moveTo>
                  <a:pt x="192" y="188"/>
                </a:moveTo>
                <a:cubicBezTo>
                  <a:pt x="187" y="188"/>
                  <a:pt x="182" y="183"/>
                  <a:pt x="182" y="178"/>
                </a:cubicBezTo>
                <a:cubicBezTo>
                  <a:pt x="182" y="172"/>
                  <a:pt x="187" y="168"/>
                  <a:pt x="192" y="168"/>
                </a:cubicBezTo>
                <a:cubicBezTo>
                  <a:pt x="198" y="168"/>
                  <a:pt x="202" y="172"/>
                  <a:pt x="202" y="178"/>
                </a:cubicBezTo>
                <a:cubicBezTo>
                  <a:pt x="202" y="183"/>
                  <a:pt x="198" y="188"/>
                  <a:pt x="192" y="188"/>
                </a:cubicBezTo>
                <a:moveTo>
                  <a:pt x="215" y="130"/>
                </a:moveTo>
                <a:cubicBezTo>
                  <a:pt x="215" y="122"/>
                  <a:pt x="222" y="115"/>
                  <a:pt x="230" y="115"/>
                </a:cubicBezTo>
                <a:cubicBezTo>
                  <a:pt x="238" y="115"/>
                  <a:pt x="245" y="122"/>
                  <a:pt x="245" y="130"/>
                </a:cubicBezTo>
                <a:cubicBezTo>
                  <a:pt x="245" y="139"/>
                  <a:pt x="238" y="145"/>
                  <a:pt x="230" y="145"/>
                </a:cubicBezTo>
                <a:cubicBezTo>
                  <a:pt x="222" y="145"/>
                  <a:pt x="215" y="139"/>
                  <a:pt x="215" y="130"/>
                </a:cubicBezTo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296" name="Group 12"/>
          <p:cNvGrpSpPr/>
          <p:nvPr/>
        </p:nvGrpSpPr>
        <p:grpSpPr>
          <a:xfrm>
            <a:off x="5614920" y="1019880"/>
            <a:ext cx="1019520" cy="1029600"/>
            <a:chOff x="5614920" y="1019880"/>
            <a:chExt cx="1019520" cy="1029600"/>
          </a:xfrm>
        </p:grpSpPr>
        <p:sp>
          <p:nvSpPr>
            <p:cNvPr id="297" name="Freeform 13"/>
            <p:cNvSpPr/>
            <p:nvPr/>
          </p:nvSpPr>
          <p:spPr>
            <a:xfrm>
              <a:off x="5700240" y="1722960"/>
              <a:ext cx="853560" cy="255960"/>
            </a:xfrm>
            <a:custGeom>
              <a:avLst/>
              <a:gdLst>
                <a:gd name="textAreaLeft" fmla="*/ 0 w 853560"/>
                <a:gd name="textAreaRight" fmla="*/ 853920 w 8535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90" h="56">
                  <a:moveTo>
                    <a:pt x="168" y="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0" y="28"/>
                    <a:pt x="0" y="56"/>
                    <a:pt x="37" y="56"/>
                  </a:cubicBezTo>
                  <a:cubicBezTo>
                    <a:pt x="163" y="56"/>
                    <a:pt x="163" y="56"/>
                    <a:pt x="163" y="56"/>
                  </a:cubicBezTo>
                  <a:cubicBezTo>
                    <a:pt x="163" y="56"/>
                    <a:pt x="165" y="56"/>
                    <a:pt x="167" y="56"/>
                  </a:cubicBezTo>
                  <a:cubicBezTo>
                    <a:pt x="175" y="56"/>
                    <a:pt x="190" y="54"/>
                    <a:pt x="183" y="33"/>
                  </a:cubicBezTo>
                  <a:cubicBezTo>
                    <a:pt x="168" y="0"/>
                    <a:pt x="168" y="0"/>
                    <a:pt x="168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298" name="Oval 14"/>
            <p:cNvSpPr/>
            <p:nvPr/>
          </p:nvSpPr>
          <p:spPr>
            <a:xfrm>
              <a:off x="6147360" y="1582560"/>
              <a:ext cx="105120" cy="1051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299" name="Oval 15"/>
            <p:cNvSpPr/>
            <p:nvPr/>
          </p:nvSpPr>
          <p:spPr>
            <a:xfrm>
              <a:off x="5996880" y="1552320"/>
              <a:ext cx="105120" cy="1051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440" bIns="37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00" name="Oval 16"/>
            <p:cNvSpPr/>
            <p:nvPr/>
          </p:nvSpPr>
          <p:spPr>
            <a:xfrm>
              <a:off x="6117480" y="1476720"/>
              <a:ext cx="74880" cy="748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5614920" y="1019880"/>
              <a:ext cx="1019520" cy="1029600"/>
            </a:xfrm>
            <a:custGeom>
              <a:avLst/>
              <a:gdLst>
                <a:gd name="textAreaLeft" fmla="*/ 0 w 1019520"/>
                <a:gd name="textAreaRight" fmla="*/ 1019880 w 1019520"/>
                <a:gd name="textAreaTop" fmla="*/ 0 h 1029600"/>
                <a:gd name="textAreaBottom" fmla="*/ 1029960 h 1029600"/>
              </a:gdLst>
              <a:ahLst/>
              <a:rect l="textAreaLeft" t="textAreaTop" r="textAreaRight" b="textAreaBottom"/>
              <a:pathLst>
                <a:path w="225" h="228">
                  <a:moveTo>
                    <a:pt x="218" y="187"/>
                  </a:moveTo>
                  <a:cubicBezTo>
                    <a:pt x="218" y="187"/>
                    <a:pt x="190" y="135"/>
                    <a:pt x="144" y="59"/>
                  </a:cubicBezTo>
                  <a:cubicBezTo>
                    <a:pt x="144" y="15"/>
                    <a:pt x="144" y="15"/>
                    <a:pt x="144" y="15"/>
                  </a:cubicBezTo>
                  <a:cubicBezTo>
                    <a:pt x="146" y="15"/>
                    <a:pt x="146" y="15"/>
                    <a:pt x="146" y="15"/>
                  </a:cubicBezTo>
                  <a:cubicBezTo>
                    <a:pt x="151" y="15"/>
                    <a:pt x="154" y="11"/>
                    <a:pt x="154" y="7"/>
                  </a:cubicBezTo>
                  <a:cubicBezTo>
                    <a:pt x="154" y="3"/>
                    <a:pt x="151" y="0"/>
                    <a:pt x="146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75" y="0"/>
                    <a:pt x="71" y="3"/>
                    <a:pt x="71" y="7"/>
                  </a:cubicBezTo>
                  <a:cubicBezTo>
                    <a:pt x="71" y="11"/>
                    <a:pt x="75" y="15"/>
                    <a:pt x="79" y="15"/>
                  </a:cubicBezTo>
                  <a:cubicBezTo>
                    <a:pt x="82" y="15"/>
                    <a:pt x="82" y="15"/>
                    <a:pt x="82" y="15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35" y="135"/>
                    <a:pt x="7" y="187"/>
                    <a:pt x="7" y="187"/>
                  </a:cubicBezTo>
                  <a:cubicBezTo>
                    <a:pt x="0" y="209"/>
                    <a:pt x="8" y="228"/>
                    <a:pt x="31" y="228"/>
                  </a:cubicBezTo>
                  <a:cubicBezTo>
                    <a:pt x="194" y="228"/>
                    <a:pt x="194" y="228"/>
                    <a:pt x="194" y="228"/>
                  </a:cubicBezTo>
                  <a:cubicBezTo>
                    <a:pt x="217" y="228"/>
                    <a:pt x="225" y="209"/>
                    <a:pt x="218" y="187"/>
                  </a:cubicBezTo>
                  <a:moveTo>
                    <a:pt x="179" y="212"/>
                  </a:moveTo>
                  <a:cubicBezTo>
                    <a:pt x="57" y="212"/>
                    <a:pt x="57" y="212"/>
                    <a:pt x="57" y="212"/>
                  </a:cubicBezTo>
                  <a:cubicBezTo>
                    <a:pt x="20" y="212"/>
                    <a:pt x="30" y="184"/>
                    <a:pt x="30" y="184"/>
                  </a:cubicBezTo>
                  <a:cubicBezTo>
                    <a:pt x="30" y="184"/>
                    <a:pt x="39" y="164"/>
                    <a:pt x="43" y="157"/>
                  </a:cubicBezTo>
                  <a:cubicBezTo>
                    <a:pt x="47" y="150"/>
                    <a:pt x="83" y="86"/>
                    <a:pt x="95" y="67"/>
                  </a:cubicBezTo>
                  <a:cubicBezTo>
                    <a:pt x="97" y="64"/>
                    <a:pt x="97" y="64"/>
                    <a:pt x="97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30" y="67"/>
                    <a:pt x="130" y="67"/>
                    <a:pt x="130" y="67"/>
                  </a:cubicBezTo>
                  <a:cubicBezTo>
                    <a:pt x="142" y="86"/>
                    <a:pt x="182" y="155"/>
                    <a:pt x="184" y="159"/>
                  </a:cubicBezTo>
                  <a:cubicBezTo>
                    <a:pt x="186" y="163"/>
                    <a:pt x="199" y="189"/>
                    <a:pt x="199" y="189"/>
                  </a:cubicBezTo>
                  <a:cubicBezTo>
                    <a:pt x="209" y="217"/>
                    <a:pt x="179" y="212"/>
                    <a:pt x="179" y="212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5558040" y="4195800"/>
            <a:ext cx="1095840" cy="1112040"/>
            <a:chOff x="5558040" y="4195800"/>
            <a:chExt cx="1095840" cy="1112040"/>
          </a:xfrm>
        </p:grpSpPr>
        <p:sp>
          <p:nvSpPr>
            <p:cNvPr id="303" name="Freeform 21"/>
            <p:cNvSpPr/>
            <p:nvPr/>
          </p:nvSpPr>
          <p:spPr>
            <a:xfrm>
              <a:off x="5619240" y="4236480"/>
              <a:ext cx="289080" cy="284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71" h="70">
                  <a:moveTo>
                    <a:pt x="61" y="0"/>
                  </a:moveTo>
                  <a:lnTo>
                    <a:pt x="0" y="60"/>
                  </a:lnTo>
                  <a:lnTo>
                    <a:pt x="10" y="70"/>
                  </a:lnTo>
                  <a:lnTo>
                    <a:pt x="71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5619240" y="4236480"/>
              <a:ext cx="289080" cy="284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71" h="70">
                  <a:moveTo>
                    <a:pt x="61" y="0"/>
                  </a:moveTo>
                  <a:lnTo>
                    <a:pt x="0" y="60"/>
                  </a:lnTo>
                  <a:lnTo>
                    <a:pt x="10" y="70"/>
                  </a:lnTo>
                  <a:lnTo>
                    <a:pt x="71" y="10"/>
                  </a:lnTo>
                  <a:lnTo>
                    <a:pt x="61" y="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5741640" y="4379400"/>
              <a:ext cx="211680" cy="2156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2" h="53">
                  <a:moveTo>
                    <a:pt x="42" y="0"/>
                  </a:moveTo>
                  <a:lnTo>
                    <a:pt x="0" y="43"/>
                  </a:lnTo>
                  <a:lnTo>
                    <a:pt x="10" y="53"/>
                  </a:lnTo>
                  <a:lnTo>
                    <a:pt x="52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5741640" y="4379400"/>
              <a:ext cx="211680" cy="2156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2" h="53">
                  <a:moveTo>
                    <a:pt x="42" y="0"/>
                  </a:moveTo>
                  <a:lnTo>
                    <a:pt x="0" y="43"/>
                  </a:lnTo>
                  <a:lnTo>
                    <a:pt x="10" y="53"/>
                  </a:lnTo>
                  <a:lnTo>
                    <a:pt x="52" y="10"/>
                  </a:lnTo>
                  <a:lnTo>
                    <a:pt x="42" y="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5908680" y="4550400"/>
              <a:ext cx="248040" cy="24804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61" h="61">
                  <a:moveTo>
                    <a:pt x="51" y="0"/>
                  </a:moveTo>
                  <a:lnTo>
                    <a:pt x="0" y="50"/>
                  </a:lnTo>
                  <a:lnTo>
                    <a:pt x="10" y="61"/>
                  </a:lnTo>
                  <a:lnTo>
                    <a:pt x="61" y="1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5908680" y="4550400"/>
              <a:ext cx="248040" cy="24804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61" h="61">
                  <a:moveTo>
                    <a:pt x="51" y="0"/>
                  </a:moveTo>
                  <a:lnTo>
                    <a:pt x="0" y="50"/>
                  </a:lnTo>
                  <a:lnTo>
                    <a:pt x="10" y="61"/>
                  </a:lnTo>
                  <a:lnTo>
                    <a:pt x="61" y="11"/>
                  </a:lnTo>
                  <a:lnTo>
                    <a:pt x="51" y="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6006240" y="4648320"/>
              <a:ext cx="240120" cy="2361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59" h="58">
                  <a:moveTo>
                    <a:pt x="49" y="0"/>
                  </a:moveTo>
                  <a:lnTo>
                    <a:pt x="0" y="48"/>
                  </a:lnTo>
                  <a:lnTo>
                    <a:pt x="11" y="58"/>
                  </a:lnTo>
                  <a:lnTo>
                    <a:pt x="59" y="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6006240" y="4648320"/>
              <a:ext cx="240120" cy="2361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59" h="58">
                  <a:moveTo>
                    <a:pt x="49" y="0"/>
                  </a:moveTo>
                  <a:lnTo>
                    <a:pt x="0" y="48"/>
                  </a:lnTo>
                  <a:lnTo>
                    <a:pt x="11" y="58"/>
                  </a:lnTo>
                  <a:lnTo>
                    <a:pt x="59" y="10"/>
                  </a:lnTo>
                  <a:lnTo>
                    <a:pt x="49" y="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6095880" y="4737960"/>
              <a:ext cx="244080" cy="240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60" h="59">
                  <a:moveTo>
                    <a:pt x="50" y="0"/>
                  </a:moveTo>
                  <a:lnTo>
                    <a:pt x="0" y="48"/>
                  </a:lnTo>
                  <a:lnTo>
                    <a:pt x="10" y="59"/>
                  </a:lnTo>
                  <a:lnTo>
                    <a:pt x="60" y="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6095880" y="4737960"/>
              <a:ext cx="244080" cy="240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60" h="59">
                  <a:moveTo>
                    <a:pt x="50" y="0"/>
                  </a:moveTo>
                  <a:lnTo>
                    <a:pt x="0" y="48"/>
                  </a:lnTo>
                  <a:lnTo>
                    <a:pt x="10" y="59"/>
                  </a:lnTo>
                  <a:lnTo>
                    <a:pt x="60" y="9"/>
                  </a:lnTo>
                  <a:lnTo>
                    <a:pt x="50" y="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6283440" y="4917240"/>
              <a:ext cx="244080" cy="240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60" h="59">
                  <a:moveTo>
                    <a:pt x="50" y="0"/>
                  </a:moveTo>
                  <a:lnTo>
                    <a:pt x="0" y="49"/>
                  </a:lnTo>
                  <a:lnTo>
                    <a:pt x="10" y="59"/>
                  </a:lnTo>
                  <a:lnTo>
                    <a:pt x="60" y="1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6283440" y="4917240"/>
              <a:ext cx="244080" cy="240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60" h="59">
                  <a:moveTo>
                    <a:pt x="50" y="0"/>
                  </a:moveTo>
                  <a:lnTo>
                    <a:pt x="0" y="49"/>
                  </a:lnTo>
                  <a:lnTo>
                    <a:pt x="10" y="59"/>
                  </a:lnTo>
                  <a:lnTo>
                    <a:pt x="60" y="10"/>
                  </a:lnTo>
                  <a:lnTo>
                    <a:pt x="50" y="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6340320" y="5002560"/>
              <a:ext cx="264600" cy="26028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5" h="64">
                  <a:moveTo>
                    <a:pt x="55" y="0"/>
                  </a:moveTo>
                  <a:lnTo>
                    <a:pt x="0" y="55"/>
                  </a:lnTo>
                  <a:lnTo>
                    <a:pt x="10" y="64"/>
                  </a:lnTo>
                  <a:lnTo>
                    <a:pt x="65" y="1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6340320" y="5002560"/>
              <a:ext cx="264600" cy="26028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5" h="64">
                  <a:moveTo>
                    <a:pt x="55" y="0"/>
                  </a:moveTo>
                  <a:lnTo>
                    <a:pt x="0" y="55"/>
                  </a:lnTo>
                  <a:lnTo>
                    <a:pt x="10" y="64"/>
                  </a:lnTo>
                  <a:lnTo>
                    <a:pt x="65" y="10"/>
                  </a:lnTo>
                  <a:lnTo>
                    <a:pt x="55" y="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5558040" y="4195800"/>
              <a:ext cx="1095840" cy="1112040"/>
            </a:xfrm>
            <a:custGeom>
              <a:avLst/>
              <a:gdLst>
                <a:gd name="textAreaLeft" fmla="*/ 0 w 1095840"/>
                <a:gd name="textAreaRight" fmla="*/ 1096200 w 1095840"/>
                <a:gd name="textAreaTop" fmla="*/ 0 h 1112040"/>
                <a:gd name="textAreaBottom" fmla="*/ 1112400 h 1112040"/>
              </a:gdLst>
              <a:ahLst/>
              <a:rect l="textAreaLeft" t="textAreaTop" r="textAreaRight" b="textAreaBottom"/>
              <a:pathLst>
                <a:path w="299" h="305">
                  <a:moveTo>
                    <a:pt x="216" y="215"/>
                  </a:moveTo>
                  <a:cubicBezTo>
                    <a:pt x="240" y="211"/>
                    <a:pt x="267" y="218"/>
                    <a:pt x="286" y="237"/>
                  </a:cubicBezTo>
                  <a:cubicBezTo>
                    <a:pt x="299" y="224"/>
                    <a:pt x="299" y="224"/>
                    <a:pt x="299" y="224"/>
                  </a:cubicBezTo>
                  <a:cubicBezTo>
                    <a:pt x="277" y="202"/>
                    <a:pt x="248" y="193"/>
                    <a:pt x="219" y="195"/>
                  </a:cubicBezTo>
                  <a:cubicBezTo>
                    <a:pt x="222" y="167"/>
                    <a:pt x="212" y="137"/>
                    <a:pt x="190" y="115"/>
                  </a:cubicBezTo>
                  <a:cubicBezTo>
                    <a:pt x="168" y="93"/>
                    <a:pt x="139" y="84"/>
                    <a:pt x="110" y="86"/>
                  </a:cubicBezTo>
                  <a:cubicBezTo>
                    <a:pt x="115" y="56"/>
                    <a:pt x="106" y="23"/>
                    <a:pt x="82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90" y="34"/>
                    <a:pt x="97" y="63"/>
                    <a:pt x="90" y="90"/>
                  </a:cubicBezTo>
                  <a:cubicBezTo>
                    <a:pt x="63" y="97"/>
                    <a:pt x="34" y="89"/>
                    <a:pt x="13" y="69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24" y="106"/>
                    <a:pt x="56" y="115"/>
                    <a:pt x="86" y="110"/>
                  </a:cubicBezTo>
                  <a:cubicBezTo>
                    <a:pt x="84" y="139"/>
                    <a:pt x="93" y="168"/>
                    <a:pt x="115" y="190"/>
                  </a:cubicBezTo>
                  <a:cubicBezTo>
                    <a:pt x="137" y="212"/>
                    <a:pt x="167" y="222"/>
                    <a:pt x="195" y="219"/>
                  </a:cubicBezTo>
                  <a:cubicBezTo>
                    <a:pt x="190" y="250"/>
                    <a:pt x="200" y="282"/>
                    <a:pt x="223" y="305"/>
                  </a:cubicBezTo>
                  <a:cubicBezTo>
                    <a:pt x="237" y="292"/>
                    <a:pt x="237" y="292"/>
                    <a:pt x="237" y="292"/>
                  </a:cubicBezTo>
                  <a:cubicBezTo>
                    <a:pt x="216" y="271"/>
                    <a:pt x="209" y="242"/>
                    <a:pt x="216" y="215"/>
                  </a:cubicBezTo>
                  <a:moveTo>
                    <a:pt x="128" y="177"/>
                  </a:moveTo>
                  <a:cubicBezTo>
                    <a:pt x="109" y="157"/>
                    <a:pt x="102" y="131"/>
                    <a:pt x="106" y="106"/>
                  </a:cubicBezTo>
                  <a:cubicBezTo>
                    <a:pt x="131" y="102"/>
                    <a:pt x="158" y="109"/>
                    <a:pt x="177" y="128"/>
                  </a:cubicBezTo>
                  <a:cubicBezTo>
                    <a:pt x="196" y="148"/>
                    <a:pt x="204" y="174"/>
                    <a:pt x="199" y="199"/>
                  </a:cubicBezTo>
                  <a:cubicBezTo>
                    <a:pt x="174" y="204"/>
                    <a:pt x="148" y="196"/>
                    <a:pt x="128" y="177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318" name="椭圆 64"/>
          <p:cNvSpPr/>
          <p:nvPr/>
        </p:nvSpPr>
        <p:spPr>
          <a:xfrm>
            <a:off x="10285200" y="1587600"/>
            <a:ext cx="218880" cy="21888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319" name="椭圆 65"/>
          <p:cNvSpPr/>
          <p:nvPr/>
        </p:nvSpPr>
        <p:spPr>
          <a:xfrm>
            <a:off x="10171800" y="1188720"/>
            <a:ext cx="139680" cy="13968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320" name="椭圆 66"/>
          <p:cNvSpPr/>
          <p:nvPr/>
        </p:nvSpPr>
        <p:spPr>
          <a:xfrm>
            <a:off x="9248400" y="1188720"/>
            <a:ext cx="139680" cy="13968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321" name="椭圆 67"/>
          <p:cNvSpPr/>
          <p:nvPr/>
        </p:nvSpPr>
        <p:spPr>
          <a:xfrm>
            <a:off x="9441000" y="1877040"/>
            <a:ext cx="139680" cy="139680"/>
          </a:xfrm>
          <a:prstGeom prst="ellipse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322" name="矩形 68"/>
          <p:cNvSpPr/>
          <p:nvPr/>
        </p:nvSpPr>
        <p:spPr>
          <a:xfrm>
            <a:off x="695160" y="-673920"/>
            <a:ext cx="10801080" cy="7531560"/>
          </a:xfrm>
          <a:prstGeom prst="rect">
            <a:avLst/>
          </a:prstGeom>
          <a:noFill/>
          <a:ln>
            <a:solidFill>
              <a:srgbClr val="2d2d2d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323" name="文本框 70"/>
          <p:cNvSpPr/>
          <p:nvPr/>
        </p:nvSpPr>
        <p:spPr>
          <a:xfrm>
            <a:off x="8895240" y="5787360"/>
            <a:ext cx="1849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剧情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38"/>
          <p:cNvGrpSpPr/>
          <p:nvPr/>
        </p:nvGrpSpPr>
        <p:grpSpPr>
          <a:xfrm>
            <a:off x="9314280" y="4229640"/>
            <a:ext cx="973800" cy="952200"/>
            <a:chOff x="9314280" y="4229640"/>
            <a:chExt cx="973800" cy="952200"/>
          </a:xfrm>
        </p:grpSpPr>
        <p:sp>
          <p:nvSpPr>
            <p:cNvPr id="325" name="AutoShape 37"/>
            <p:cNvSpPr/>
            <p:nvPr/>
          </p:nvSpPr>
          <p:spPr>
            <a:xfrm>
              <a:off x="9460440" y="4267440"/>
              <a:ext cx="795240" cy="27576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94679" h="277887">
                  <a:moveTo>
                    <a:pt x="0" y="132080"/>
                  </a:moveTo>
                  <a:lnTo>
                    <a:pt x="733719" y="0"/>
                  </a:lnTo>
                  <a:lnTo>
                    <a:pt x="794679" y="145883"/>
                  </a:lnTo>
                  <a:lnTo>
                    <a:pt x="45663" y="277887"/>
                  </a:lnTo>
                  <a:lnTo>
                    <a:pt x="0" y="1320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9314280" y="4229640"/>
              <a:ext cx="973800" cy="952200"/>
            </a:xfrm>
            <a:custGeom>
              <a:avLst/>
              <a:gdLst>
                <a:gd name="textAreaLeft" fmla="*/ 0 w 973800"/>
                <a:gd name="textAreaRight" fmla="*/ 974160 w 97380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80" h="176">
                  <a:moveTo>
                    <a:pt x="26" y="68"/>
                  </a:moveTo>
                  <a:lnTo>
                    <a:pt x="4" y="46"/>
                  </a:lnTo>
                  <a:lnTo>
                    <a:pt x="4" y="91"/>
                  </a:lnTo>
                  <a:lnTo>
                    <a:pt x="26" y="68"/>
                  </a:lnTo>
                  <a:close/>
                  <a:moveTo>
                    <a:pt x="176" y="37"/>
                  </a:moveTo>
                  <a:lnTo>
                    <a:pt x="169" y="0"/>
                  </a:lnTo>
                  <a:lnTo>
                    <a:pt x="0" y="31"/>
                  </a:lnTo>
                  <a:lnTo>
                    <a:pt x="32" y="63"/>
                  </a:lnTo>
                  <a:lnTo>
                    <a:pt x="176" y="37"/>
                  </a:lnTo>
                  <a:close/>
                  <a:moveTo>
                    <a:pt x="158" y="9"/>
                  </a:moveTo>
                  <a:lnTo>
                    <a:pt x="167" y="25"/>
                  </a:lnTo>
                  <a:lnTo>
                    <a:pt x="168" y="31"/>
                  </a:lnTo>
                  <a:lnTo>
                    <a:pt x="148" y="35"/>
                  </a:lnTo>
                  <a:lnTo>
                    <a:pt x="135" y="13"/>
                  </a:lnTo>
                  <a:lnTo>
                    <a:pt x="158" y="9"/>
                  </a:lnTo>
                  <a:close/>
                  <a:moveTo>
                    <a:pt x="111" y="17"/>
                  </a:moveTo>
                  <a:lnTo>
                    <a:pt x="123" y="39"/>
                  </a:lnTo>
                  <a:lnTo>
                    <a:pt x="101" y="44"/>
                  </a:lnTo>
                  <a:lnTo>
                    <a:pt x="88" y="22"/>
                  </a:lnTo>
                  <a:lnTo>
                    <a:pt x="111" y="17"/>
                  </a:lnTo>
                  <a:close/>
                  <a:moveTo>
                    <a:pt x="65" y="26"/>
                  </a:moveTo>
                  <a:lnTo>
                    <a:pt x="77" y="48"/>
                  </a:lnTo>
                  <a:lnTo>
                    <a:pt x="55" y="52"/>
                  </a:lnTo>
                  <a:lnTo>
                    <a:pt x="41" y="30"/>
                  </a:lnTo>
                  <a:lnTo>
                    <a:pt x="65" y="26"/>
                  </a:lnTo>
                  <a:close/>
                  <a:moveTo>
                    <a:pt x="37" y="68"/>
                  </a:moveTo>
                  <a:lnTo>
                    <a:pt x="4" y="102"/>
                  </a:lnTo>
                  <a:lnTo>
                    <a:pt x="4" y="176"/>
                  </a:lnTo>
                  <a:lnTo>
                    <a:pt x="180" y="176"/>
                  </a:lnTo>
                  <a:lnTo>
                    <a:pt x="180" y="68"/>
                  </a:lnTo>
                  <a:lnTo>
                    <a:pt x="37" y="68"/>
                  </a:lnTo>
                  <a:close/>
                  <a:moveTo>
                    <a:pt x="143" y="140"/>
                  </a:moveTo>
                  <a:lnTo>
                    <a:pt x="42" y="140"/>
                  </a:lnTo>
                  <a:lnTo>
                    <a:pt x="42" y="129"/>
                  </a:lnTo>
                  <a:lnTo>
                    <a:pt x="143" y="129"/>
                  </a:lnTo>
                  <a:lnTo>
                    <a:pt x="143" y="140"/>
                  </a:lnTo>
                  <a:close/>
                  <a:moveTo>
                    <a:pt x="143" y="115"/>
                  </a:moveTo>
                  <a:lnTo>
                    <a:pt x="42" y="115"/>
                  </a:lnTo>
                  <a:lnTo>
                    <a:pt x="42" y="104"/>
                  </a:lnTo>
                  <a:lnTo>
                    <a:pt x="143" y="104"/>
                  </a:lnTo>
                  <a:lnTo>
                    <a:pt x="143" y="115"/>
                  </a:ln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327" name="Group 42"/>
          <p:cNvGrpSpPr/>
          <p:nvPr/>
        </p:nvGrpSpPr>
        <p:grpSpPr>
          <a:xfrm>
            <a:off x="1589040" y="914400"/>
            <a:ext cx="1591200" cy="1486080"/>
            <a:chOff x="1589040" y="914400"/>
            <a:chExt cx="1591200" cy="1486080"/>
          </a:xfrm>
        </p:grpSpPr>
        <p:sp>
          <p:nvSpPr>
            <p:cNvPr id="328" name="Freeform 43"/>
            <p:cNvSpPr/>
            <p:nvPr/>
          </p:nvSpPr>
          <p:spPr>
            <a:xfrm rot="3600000">
              <a:off x="2055240" y="1718640"/>
              <a:ext cx="580320" cy="57348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289" h="286">
                  <a:moveTo>
                    <a:pt x="120" y="286"/>
                  </a:moveTo>
                  <a:cubicBezTo>
                    <a:pt x="219" y="231"/>
                    <a:pt x="287" y="126"/>
                    <a:pt x="289" y="4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28"/>
                    <a:pt x="26" y="55"/>
                    <a:pt x="0" y="70"/>
                  </a:cubicBezTo>
                  <a:lnTo>
                    <a:pt x="120" y="286"/>
                  </a:ln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 rot="3600000">
              <a:off x="1692360" y="1067760"/>
              <a:ext cx="580320" cy="57348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289" h="287">
                  <a:moveTo>
                    <a:pt x="1" y="0"/>
                  </a:moveTo>
                  <a:cubicBezTo>
                    <a:pt x="0" y="114"/>
                    <a:pt x="57" y="225"/>
                    <a:pt x="162" y="287"/>
                  </a:cubicBezTo>
                  <a:cubicBezTo>
                    <a:pt x="289" y="75"/>
                    <a:pt x="289" y="75"/>
                    <a:pt x="289" y="75"/>
                  </a:cubicBezTo>
                  <a:cubicBezTo>
                    <a:pt x="277" y="68"/>
                    <a:pt x="266" y="58"/>
                    <a:pt x="259" y="45"/>
                  </a:cubicBezTo>
                  <a:cubicBezTo>
                    <a:pt x="252" y="32"/>
                    <a:pt x="249" y="18"/>
                    <a:pt x="249" y="4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 rot="3600000">
              <a:off x="2443320" y="1061640"/>
              <a:ext cx="661320" cy="55548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329" h="277">
                  <a:moveTo>
                    <a:pt x="329" y="64"/>
                  </a:moveTo>
                  <a:cubicBezTo>
                    <a:pt x="231" y="6"/>
                    <a:pt x="106" y="0"/>
                    <a:pt x="0" y="59"/>
                  </a:cubicBezTo>
                  <a:cubicBezTo>
                    <a:pt x="121" y="275"/>
                    <a:pt x="121" y="275"/>
                    <a:pt x="121" y="275"/>
                  </a:cubicBezTo>
                  <a:cubicBezTo>
                    <a:pt x="147" y="261"/>
                    <a:pt x="178" y="262"/>
                    <a:pt x="202" y="277"/>
                  </a:cubicBezTo>
                  <a:cubicBezTo>
                    <a:pt x="329" y="64"/>
                    <a:pt x="329" y="64"/>
                    <a:pt x="329" y="64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 rot="3600000">
              <a:off x="2287080" y="1418040"/>
              <a:ext cx="244800" cy="24480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23" h="123">
                  <a:moveTo>
                    <a:pt x="14" y="87"/>
                  </a:moveTo>
                  <a:cubicBezTo>
                    <a:pt x="29" y="113"/>
                    <a:pt x="61" y="123"/>
                    <a:pt x="87" y="108"/>
                  </a:cubicBezTo>
                  <a:cubicBezTo>
                    <a:pt x="113" y="94"/>
                    <a:pt x="123" y="61"/>
                    <a:pt x="108" y="35"/>
                  </a:cubicBezTo>
                  <a:cubicBezTo>
                    <a:pt x="94" y="9"/>
                    <a:pt x="61" y="0"/>
                    <a:pt x="35" y="14"/>
                  </a:cubicBezTo>
                  <a:cubicBezTo>
                    <a:pt x="9" y="29"/>
                    <a:pt x="0" y="62"/>
                    <a:pt x="14" y="8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332" name="Group 49"/>
          <p:cNvGrpSpPr/>
          <p:nvPr/>
        </p:nvGrpSpPr>
        <p:grpSpPr>
          <a:xfrm>
            <a:off x="1883160" y="4253040"/>
            <a:ext cx="969480" cy="969120"/>
            <a:chOff x="1883160" y="4253040"/>
            <a:chExt cx="969480" cy="969120"/>
          </a:xfrm>
        </p:grpSpPr>
        <p:sp>
          <p:nvSpPr>
            <p:cNvPr id="333" name="Freeform 50"/>
            <p:cNvSpPr/>
            <p:nvPr/>
          </p:nvSpPr>
          <p:spPr>
            <a:xfrm>
              <a:off x="1883160" y="4635000"/>
              <a:ext cx="587160" cy="58716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60" h="60">
                  <a:moveTo>
                    <a:pt x="0" y="54"/>
                  </a:moveTo>
                  <a:lnTo>
                    <a:pt x="6" y="6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34" name="Freeform 51"/>
            <p:cNvSpPr/>
            <p:nvPr/>
          </p:nvSpPr>
          <p:spPr>
            <a:xfrm>
              <a:off x="2294640" y="4253040"/>
              <a:ext cx="558000" cy="548280"/>
            </a:xfrm>
            <a:custGeom>
              <a:avLst/>
              <a:gdLst>
                <a:gd name="textAreaLeft" fmla="*/ 0 w 558000"/>
                <a:gd name="textAreaRight" fmla="*/ 558360 w 5580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57" h="56">
                  <a:moveTo>
                    <a:pt x="57" y="22"/>
                  </a:moveTo>
                  <a:lnTo>
                    <a:pt x="56" y="20"/>
                  </a:lnTo>
                  <a:lnTo>
                    <a:pt x="36" y="2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5" y="16"/>
                  </a:lnTo>
                  <a:lnTo>
                    <a:pt x="9" y="7"/>
                  </a:lnTo>
                  <a:lnTo>
                    <a:pt x="8" y="9"/>
                  </a:lnTo>
                  <a:lnTo>
                    <a:pt x="17" y="25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20" y="35"/>
                  </a:lnTo>
                  <a:lnTo>
                    <a:pt x="20" y="47"/>
                  </a:lnTo>
                  <a:lnTo>
                    <a:pt x="20" y="55"/>
                  </a:lnTo>
                  <a:lnTo>
                    <a:pt x="22" y="56"/>
                  </a:lnTo>
                  <a:lnTo>
                    <a:pt x="32" y="40"/>
                  </a:lnTo>
                  <a:lnTo>
                    <a:pt x="48" y="48"/>
                  </a:lnTo>
                  <a:lnTo>
                    <a:pt x="50" y="47"/>
                  </a:lnTo>
                  <a:lnTo>
                    <a:pt x="41" y="32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组合 71"/>
          <p:cNvGrpSpPr/>
          <p:nvPr/>
        </p:nvGrpSpPr>
        <p:grpSpPr>
          <a:xfrm>
            <a:off x="8854920" y="3062160"/>
            <a:ext cx="5577480" cy="1293120"/>
            <a:chOff x="8854920" y="3062160"/>
            <a:chExt cx="5577480" cy="1293120"/>
          </a:xfrm>
        </p:grpSpPr>
        <p:sp>
          <p:nvSpPr>
            <p:cNvPr id="336" name="流程图: 可选过程 20"/>
            <p:cNvSpPr/>
            <p:nvPr/>
          </p:nvSpPr>
          <p:spPr>
            <a:xfrm rot="6000">
              <a:off x="8884440" y="3271320"/>
              <a:ext cx="5546880" cy="900720"/>
            </a:xfrm>
            <a:custGeom>
              <a:avLst/>
              <a:gdLst>
                <a:gd name="textAreaLeft" fmla="*/ 0 w 5546880"/>
                <a:gd name="textAreaRight" fmla="*/ 5547240 w 554688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5147765" h="900985">
                  <a:moveTo>
                    <a:pt x="27832" y="461225"/>
                  </a:moveTo>
                  <a:cubicBezTo>
                    <a:pt x="27832" y="426814"/>
                    <a:pt x="332065" y="403836"/>
                    <a:pt x="366476" y="403836"/>
                  </a:cubicBezTo>
                  <a:lnTo>
                    <a:pt x="4857560" y="0"/>
                  </a:lnTo>
                  <a:cubicBezTo>
                    <a:pt x="4891971" y="0"/>
                    <a:pt x="5126255" y="310983"/>
                    <a:pt x="5126255" y="345394"/>
                  </a:cubicBezTo>
                  <a:lnTo>
                    <a:pt x="5126255" y="594620"/>
                  </a:lnTo>
                  <a:cubicBezTo>
                    <a:pt x="5126255" y="629031"/>
                    <a:pt x="5168725" y="900985"/>
                    <a:pt x="5134314" y="900985"/>
                  </a:cubicBezTo>
                  <a:cubicBezTo>
                    <a:pt x="3475819" y="900985"/>
                    <a:pt x="1942363" y="549834"/>
                    <a:pt x="283868" y="549834"/>
                  </a:cubicBezTo>
                  <a:cubicBezTo>
                    <a:pt x="249457" y="549834"/>
                    <a:pt x="0" y="545638"/>
                    <a:pt x="0" y="511227"/>
                  </a:cubicBezTo>
                  <a:lnTo>
                    <a:pt x="27832" y="461225"/>
                  </a:lnTo>
                  <a:close/>
                </a:path>
              </a:pathLst>
            </a:cu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37" name="椭圆 32"/>
            <p:cNvSpPr/>
            <p:nvPr/>
          </p:nvSpPr>
          <p:spPr>
            <a:xfrm rot="1267200">
              <a:off x="9873000" y="4209840"/>
              <a:ext cx="120240" cy="658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38" name="椭圆 33"/>
            <p:cNvSpPr/>
            <p:nvPr/>
          </p:nvSpPr>
          <p:spPr>
            <a:xfrm rot="1267200">
              <a:off x="11062080" y="3103560"/>
              <a:ext cx="258120" cy="1418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39" name="椭圆 34"/>
            <p:cNvSpPr/>
            <p:nvPr/>
          </p:nvSpPr>
          <p:spPr>
            <a:xfrm rot="334200">
              <a:off x="9991080" y="4040640"/>
              <a:ext cx="385920" cy="14436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40" name="椭圆 35"/>
            <p:cNvSpPr/>
            <p:nvPr/>
          </p:nvSpPr>
          <p:spPr>
            <a:xfrm rot="1267200">
              <a:off x="9635400" y="4132800"/>
              <a:ext cx="120240" cy="658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41" name="椭圆 36"/>
            <p:cNvSpPr/>
            <p:nvPr/>
          </p:nvSpPr>
          <p:spPr>
            <a:xfrm rot="1267200">
              <a:off x="11619000" y="4269960"/>
              <a:ext cx="120240" cy="658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42" name="椭圆 37"/>
            <p:cNvSpPr/>
            <p:nvPr/>
          </p:nvSpPr>
          <p:spPr>
            <a:xfrm rot="588000">
              <a:off x="8890200" y="3882960"/>
              <a:ext cx="956160" cy="13860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43" name="椭圆 38"/>
            <p:cNvSpPr/>
            <p:nvPr/>
          </p:nvSpPr>
          <p:spPr>
            <a:xfrm rot="20505000">
              <a:off x="8836560" y="3435840"/>
              <a:ext cx="1514160" cy="12816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45360" bIns="45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44" name="椭圆 39"/>
            <p:cNvSpPr/>
            <p:nvPr/>
          </p:nvSpPr>
          <p:spPr>
            <a:xfrm rot="19417200">
              <a:off x="8878320" y="3487680"/>
              <a:ext cx="258120" cy="10836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45" name="椭圆 40"/>
            <p:cNvSpPr/>
            <p:nvPr/>
          </p:nvSpPr>
          <p:spPr>
            <a:xfrm rot="19417200">
              <a:off x="9157680" y="3368520"/>
              <a:ext cx="88920" cy="658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46" name="椭圆 41"/>
            <p:cNvSpPr/>
            <p:nvPr/>
          </p:nvSpPr>
          <p:spPr>
            <a:xfrm rot="19417200">
              <a:off x="9352440" y="3270960"/>
              <a:ext cx="88920" cy="658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347" name="矩形 79"/>
          <p:cNvSpPr/>
          <p:nvPr/>
        </p:nvSpPr>
        <p:spPr>
          <a:xfrm>
            <a:off x="0" y="536760"/>
            <a:ext cx="12191760" cy="10918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348" name="组合 42"/>
          <p:cNvGrpSpPr/>
          <p:nvPr/>
        </p:nvGrpSpPr>
        <p:grpSpPr>
          <a:xfrm>
            <a:off x="6364080" y="2920320"/>
            <a:ext cx="2733120" cy="3331080"/>
            <a:chOff x="6364080" y="2920320"/>
            <a:chExt cx="2733120" cy="3331080"/>
          </a:xfrm>
        </p:grpSpPr>
        <p:sp>
          <p:nvSpPr>
            <p:cNvPr id="349" name="Freeform 17"/>
            <p:cNvSpPr/>
            <p:nvPr/>
          </p:nvSpPr>
          <p:spPr>
            <a:xfrm>
              <a:off x="7708680" y="2920320"/>
              <a:ext cx="1388520" cy="1801800"/>
            </a:xfrm>
            <a:custGeom>
              <a:avLst/>
              <a:gdLst>
                <a:gd name="textAreaLeft" fmla="*/ 0 w 1388520"/>
                <a:gd name="textAreaRight" fmla="*/ 1388880 w 1388520"/>
                <a:gd name="textAreaTop" fmla="*/ 0 h 1801800"/>
                <a:gd name="textAreaBottom" fmla="*/ 1802160 h 1801800"/>
              </a:gdLst>
              <a:ahLst/>
              <a:rect l="textAreaLeft" t="textAreaTop" r="textAreaRight" b="textAreaBottom"/>
              <a:pathLst>
                <a:path w="12" h="14">
                  <a:moveTo>
                    <a:pt x="1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6" y="1"/>
                    <a:pt x="7" y="2"/>
                    <a:pt x="7" y="3"/>
                  </a:cubicBezTo>
                  <a:cubicBezTo>
                    <a:pt x="7" y="4"/>
                    <a:pt x="7" y="4"/>
                    <a:pt x="8" y="4"/>
                  </a:cubicBezTo>
                  <a:cubicBezTo>
                    <a:pt x="9" y="4"/>
                    <a:pt x="10" y="5"/>
                    <a:pt x="10" y="6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2" y="9"/>
                    <a:pt x="12" y="10"/>
                  </a:cubicBezTo>
                  <a:cubicBezTo>
                    <a:pt x="12" y="12"/>
                    <a:pt x="11" y="14"/>
                    <a:pt x="9" y="12"/>
                  </a:cubicBezTo>
                  <a:cubicBezTo>
                    <a:pt x="9" y="12"/>
                    <a:pt x="9" y="11"/>
                    <a:pt x="8" y="11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7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8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7" y="9"/>
                    <a:pt x="7" y="9"/>
                    <a:pt x="7" y="10"/>
                  </a:cubicBezTo>
                  <a:cubicBezTo>
                    <a:pt x="7" y="10"/>
                    <a:pt x="7" y="10"/>
                    <a:pt x="7" y="11"/>
                  </a:cubicBezTo>
                  <a:cubicBezTo>
                    <a:pt x="7" y="11"/>
                    <a:pt x="7" y="11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5" y="12"/>
                    <a:pt x="5" y="10"/>
                    <a:pt x="4" y="9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4" y="5"/>
                    <a:pt x="4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"/>
                    <a:pt x="3" y="5"/>
                    <a:pt x="3" y="4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3" y="8"/>
                    <a:pt x="3" y="8"/>
                    <a:pt x="4" y="9"/>
                  </a:cubicBezTo>
                  <a:cubicBezTo>
                    <a:pt x="5" y="11"/>
                    <a:pt x="3" y="13"/>
                    <a:pt x="1" y="12"/>
                  </a:cubicBezTo>
                  <a:cubicBezTo>
                    <a:pt x="0" y="11"/>
                    <a:pt x="0" y="9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6364080" y="2951280"/>
              <a:ext cx="1505880" cy="1672560"/>
            </a:xfrm>
            <a:custGeom>
              <a:avLst/>
              <a:gdLst>
                <a:gd name="textAreaLeft" fmla="*/ 0 w 1505880"/>
                <a:gd name="textAreaRight" fmla="*/ 1506240 w 1505880"/>
                <a:gd name="textAreaTop" fmla="*/ 0 h 1672560"/>
                <a:gd name="textAreaBottom" fmla="*/ 1672920 h 1672560"/>
              </a:gdLst>
              <a:ahLst/>
              <a:rect l="textAreaLeft" t="textAreaTop" r="textAreaRight" b="textAreaBottom"/>
              <a:pathLst>
                <a:path w="13" h="13">
                  <a:moveTo>
                    <a:pt x="8" y="10"/>
                  </a:moveTo>
                  <a:cubicBezTo>
                    <a:pt x="8" y="10"/>
                    <a:pt x="7" y="10"/>
                    <a:pt x="7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5" y="7"/>
                    <a:pt x="6" y="6"/>
                    <a:pt x="6" y="5"/>
                  </a:cubicBezTo>
                  <a:cubicBezTo>
                    <a:pt x="7" y="5"/>
                    <a:pt x="7" y="5"/>
                    <a:pt x="7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9" y="7"/>
                    <a:pt x="9" y="7"/>
                    <a:pt x="9" y="6"/>
                  </a:cubicBezTo>
                  <a:cubicBezTo>
                    <a:pt x="9" y="6"/>
                    <a:pt x="9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7" y="4"/>
                    <a:pt x="7" y="4"/>
                  </a:cubicBezTo>
                  <a:cubicBezTo>
                    <a:pt x="7" y="4"/>
                    <a:pt x="7" y="4"/>
                    <a:pt x="6" y="5"/>
                  </a:cubicBezTo>
                  <a:cubicBezTo>
                    <a:pt x="5" y="5"/>
                    <a:pt x="5" y="7"/>
                    <a:pt x="6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4" y="11"/>
                    <a:pt x="4" y="12"/>
                  </a:cubicBezTo>
                  <a:cubicBezTo>
                    <a:pt x="3" y="13"/>
                    <a:pt x="3" y="13"/>
                    <a:pt x="2" y="13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5"/>
                    <a:pt x="3" y="4"/>
                    <a:pt x="4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0"/>
                    <a:pt x="13" y="2"/>
                    <a:pt x="11" y="4"/>
                  </a:cubicBezTo>
                  <a:cubicBezTo>
                    <a:pt x="11" y="5"/>
                    <a:pt x="11" y="5"/>
                    <a:pt x="11" y="6"/>
                  </a:cubicBezTo>
                  <a:cubicBezTo>
                    <a:pt x="12" y="7"/>
                    <a:pt x="12" y="10"/>
                    <a:pt x="10" y="9"/>
                  </a:cubicBezTo>
                  <a:cubicBezTo>
                    <a:pt x="9" y="9"/>
                    <a:pt x="9" y="9"/>
                    <a:pt x="8" y="10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351" name="Freeform 19"/>
            <p:cNvSpPr/>
            <p:nvPr/>
          </p:nvSpPr>
          <p:spPr>
            <a:xfrm>
              <a:off x="7059600" y="4238280"/>
              <a:ext cx="695160" cy="38556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" h="3">
                  <a:moveTo>
                    <a:pt x="2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3"/>
                    <a:pt x="4" y="2"/>
                    <a:pt x="2" y="3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352" name="任意多边形 46"/>
            <p:cNvSpPr/>
            <p:nvPr/>
          </p:nvSpPr>
          <p:spPr>
            <a:xfrm>
              <a:off x="6457320" y="4568760"/>
              <a:ext cx="2635200" cy="1682640"/>
            </a:xfrm>
            <a:custGeom>
              <a:avLst/>
              <a:gdLst>
                <a:gd name="textAreaLeft" fmla="*/ 0 w 2635200"/>
                <a:gd name="textAreaRight" fmla="*/ 2635560 w 26352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3713312" h="2370974">
                  <a:moveTo>
                    <a:pt x="0" y="0"/>
                  </a:moveTo>
                  <a:lnTo>
                    <a:pt x="3713312" y="0"/>
                  </a:lnTo>
                  <a:lnTo>
                    <a:pt x="3702869" y="86603"/>
                  </a:lnTo>
                  <a:cubicBezTo>
                    <a:pt x="3685788" y="188493"/>
                    <a:pt x="3660167" y="287034"/>
                    <a:pt x="3630275" y="378878"/>
                  </a:cubicBezTo>
                  <a:cubicBezTo>
                    <a:pt x="3570492" y="539606"/>
                    <a:pt x="3502169" y="677373"/>
                    <a:pt x="3448792" y="774957"/>
                  </a:cubicBezTo>
                  <a:lnTo>
                    <a:pt x="3442867" y="785466"/>
                  </a:lnTo>
                  <a:lnTo>
                    <a:pt x="3435953" y="922398"/>
                  </a:lnTo>
                  <a:cubicBezTo>
                    <a:pt x="3353322" y="1736041"/>
                    <a:pt x="2666174" y="2370974"/>
                    <a:pt x="1830729" y="2370974"/>
                  </a:cubicBezTo>
                  <a:cubicBezTo>
                    <a:pt x="939588" y="2370974"/>
                    <a:pt x="217175" y="1648561"/>
                    <a:pt x="217175" y="757421"/>
                  </a:cubicBezTo>
                  <a:lnTo>
                    <a:pt x="219301" y="701323"/>
                  </a:lnTo>
                  <a:lnTo>
                    <a:pt x="217572" y="698461"/>
                  </a:lnTo>
                  <a:cubicBezTo>
                    <a:pt x="176475" y="625519"/>
                    <a:pt x="62382" y="362363"/>
                    <a:pt x="4783" y="33206"/>
                  </a:cubicBezTo>
                  <a:close/>
                </a:path>
              </a:pathLst>
            </a:custGeom>
            <a:solidFill>
              <a:schemeClr val="bg1"/>
            </a:solidFill>
            <a:ln w="161925">
              <a:solidFill>
                <a:srgbClr val="2d2d2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353" name="弦形 47"/>
            <p:cNvSpPr/>
            <p:nvPr/>
          </p:nvSpPr>
          <p:spPr>
            <a:xfrm>
              <a:off x="6783480" y="4579200"/>
              <a:ext cx="939960" cy="93996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354" name="弦形 48"/>
            <p:cNvSpPr/>
            <p:nvPr/>
          </p:nvSpPr>
          <p:spPr>
            <a:xfrm>
              <a:off x="7873920" y="4579200"/>
              <a:ext cx="939960" cy="939960"/>
            </a:xfrm>
            <a:prstGeom prst="chord">
              <a:avLst>
                <a:gd name="adj1" fmla="val 92404"/>
                <a:gd name="adj2" fmla="val 1069108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微软雅黑 Light"/>
                <a:ea typeface="微软雅黑 Light"/>
              </a:endParaRPr>
            </a:p>
          </p:txBody>
        </p:sp>
        <p:grpSp>
          <p:nvGrpSpPr>
            <p:cNvPr id="355" name="组合 49"/>
            <p:cNvGrpSpPr/>
            <p:nvPr/>
          </p:nvGrpSpPr>
          <p:grpSpPr>
            <a:xfrm>
              <a:off x="6625800" y="4577400"/>
              <a:ext cx="2314440" cy="499320"/>
              <a:chOff x="6625800" y="4577400"/>
              <a:chExt cx="2314440" cy="499320"/>
            </a:xfrm>
          </p:grpSpPr>
          <p:sp>
            <p:nvSpPr>
              <p:cNvPr id="356" name="圆角矩形 60"/>
              <p:cNvSpPr/>
              <p:nvPr/>
            </p:nvSpPr>
            <p:spPr>
              <a:xfrm>
                <a:off x="6625800" y="4776840"/>
                <a:ext cx="2314440" cy="702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1680" bIns="316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57" name="圆角矩形 61"/>
              <p:cNvSpPr/>
              <p:nvPr/>
            </p:nvSpPr>
            <p:spPr>
              <a:xfrm rot="5400000">
                <a:off x="6715440" y="4771080"/>
                <a:ext cx="243360" cy="97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58" name="圆角矩形 62"/>
              <p:cNvSpPr/>
              <p:nvPr/>
            </p:nvSpPr>
            <p:spPr>
              <a:xfrm rot="5400000">
                <a:off x="6878160" y="4771440"/>
                <a:ext cx="294840" cy="97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59" name="圆角矩形 63"/>
              <p:cNvSpPr/>
              <p:nvPr/>
            </p:nvSpPr>
            <p:spPr>
              <a:xfrm rot="5400000">
                <a:off x="7081560" y="4773600"/>
                <a:ext cx="324360" cy="97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60" name="圆角矩形 64"/>
              <p:cNvSpPr/>
              <p:nvPr/>
            </p:nvSpPr>
            <p:spPr>
              <a:xfrm rot="5400000">
                <a:off x="7333560" y="4759560"/>
                <a:ext cx="294840" cy="97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61" name="圆角矩形 65"/>
              <p:cNvSpPr/>
              <p:nvPr/>
            </p:nvSpPr>
            <p:spPr>
              <a:xfrm rot="5400000">
                <a:off x="7519680" y="4790520"/>
                <a:ext cx="474840" cy="97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62" name="圆角矩形 66"/>
              <p:cNvSpPr/>
              <p:nvPr/>
            </p:nvSpPr>
            <p:spPr>
              <a:xfrm rot="5400000">
                <a:off x="7849080" y="4744440"/>
                <a:ext cx="431640" cy="97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63" name="圆角矩形 67"/>
              <p:cNvSpPr/>
              <p:nvPr/>
            </p:nvSpPr>
            <p:spPr>
              <a:xfrm rot="5400000">
                <a:off x="8181720" y="4778280"/>
                <a:ext cx="267840" cy="88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64" name="圆角矩形 68"/>
              <p:cNvSpPr/>
              <p:nvPr/>
            </p:nvSpPr>
            <p:spPr>
              <a:xfrm rot="5400000">
                <a:off x="8291520" y="4790160"/>
                <a:ext cx="392400" cy="97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65" name="圆角矩形 69"/>
              <p:cNvSpPr/>
              <p:nvPr/>
            </p:nvSpPr>
            <p:spPr>
              <a:xfrm rot="5400000">
                <a:off x="8633160" y="4744440"/>
                <a:ext cx="324360" cy="975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366" name="组合 50"/>
            <p:cNvGrpSpPr/>
            <p:nvPr/>
          </p:nvGrpSpPr>
          <p:grpSpPr>
            <a:xfrm>
              <a:off x="8056080" y="5622120"/>
              <a:ext cx="486000" cy="348840"/>
              <a:chOff x="8056080" y="5622120"/>
              <a:chExt cx="486000" cy="348840"/>
            </a:xfrm>
          </p:grpSpPr>
          <p:sp>
            <p:nvSpPr>
              <p:cNvPr id="367" name="圆角矩形 56"/>
              <p:cNvSpPr/>
              <p:nvPr/>
            </p:nvSpPr>
            <p:spPr>
              <a:xfrm rot="12242400">
                <a:off x="8043120" y="5784840"/>
                <a:ext cx="511560" cy="460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880" bIns="20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68" name="圆角矩形 57"/>
              <p:cNvSpPr/>
              <p:nvPr/>
            </p:nvSpPr>
            <p:spPr>
              <a:xfrm rot="17643000">
                <a:off x="8340840" y="5827320"/>
                <a:ext cx="199800" cy="741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480" bIns="33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69" name="圆角矩形 58"/>
              <p:cNvSpPr/>
              <p:nvPr/>
            </p:nvSpPr>
            <p:spPr>
              <a:xfrm rot="17643000">
                <a:off x="8188920" y="5769000"/>
                <a:ext cx="241920" cy="741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480" bIns="33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70" name="圆角矩形 59"/>
              <p:cNvSpPr/>
              <p:nvPr/>
            </p:nvSpPr>
            <p:spPr>
              <a:xfrm rot="17643000">
                <a:off x="8041320" y="5710680"/>
                <a:ext cx="241920" cy="7416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480" bIns="334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  <p:grpSp>
          <p:nvGrpSpPr>
            <p:cNvPr id="371" name="组合 51"/>
            <p:cNvGrpSpPr/>
            <p:nvPr/>
          </p:nvGrpSpPr>
          <p:grpSpPr>
            <a:xfrm>
              <a:off x="6815880" y="5535360"/>
              <a:ext cx="404280" cy="439200"/>
              <a:chOff x="6815880" y="5535360"/>
              <a:chExt cx="404280" cy="439200"/>
            </a:xfrm>
          </p:grpSpPr>
          <p:sp>
            <p:nvSpPr>
              <p:cNvPr id="372" name="圆角矩形 52"/>
              <p:cNvSpPr/>
              <p:nvPr/>
            </p:nvSpPr>
            <p:spPr>
              <a:xfrm rot="14032200">
                <a:off x="6768720" y="5732280"/>
                <a:ext cx="508680" cy="4608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20880" bIns="20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73" name="圆角矩形 53"/>
              <p:cNvSpPr/>
              <p:nvPr/>
            </p:nvSpPr>
            <p:spPr>
              <a:xfrm rot="19432200">
                <a:off x="7017840" y="5837400"/>
                <a:ext cx="199800" cy="738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74" name="圆角矩形 54"/>
              <p:cNvSpPr/>
              <p:nvPr/>
            </p:nvSpPr>
            <p:spPr>
              <a:xfrm rot="19432200">
                <a:off x="6912360" y="5722560"/>
                <a:ext cx="241920" cy="738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  <p:sp>
            <p:nvSpPr>
              <p:cNvPr id="375" name="圆角矩形 55"/>
              <p:cNvSpPr/>
              <p:nvPr/>
            </p:nvSpPr>
            <p:spPr>
              <a:xfrm rot="19432200">
                <a:off x="6814080" y="5599440"/>
                <a:ext cx="241920" cy="73800"/>
              </a:xfrm>
              <a:prstGeom prst="roundRect">
                <a:avLst>
                  <a:gd name="adj" fmla="val 16667"/>
                </a:avLst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 Light"/>
                  <a:ea typeface="微软雅黑 Light"/>
                </a:endParaRPr>
              </a:p>
            </p:txBody>
          </p:sp>
        </p:grpSp>
      </p:grpSp>
      <p:sp>
        <p:nvSpPr>
          <p:cNvPr id="376" name="矩形 81"/>
          <p:cNvSpPr/>
          <p:nvPr/>
        </p:nvSpPr>
        <p:spPr>
          <a:xfrm rot="5400000">
            <a:off x="759960" y="4433040"/>
            <a:ext cx="2885040" cy="699120"/>
          </a:xfrm>
          <a:prstGeom prst="rect">
            <a:avLst/>
          </a:prstGeom>
          <a:noFill/>
          <a:ln w="0">
            <a:solidFill>
              <a:srgbClr val="2d2d2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HEADS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138"/>
          <p:cNvGrpSpPr/>
          <p:nvPr/>
        </p:nvGrpSpPr>
        <p:grpSpPr>
          <a:xfrm>
            <a:off x="2721240" y="2889360"/>
            <a:ext cx="2622960" cy="3731760"/>
            <a:chOff x="2721240" y="2889360"/>
            <a:chExt cx="2622960" cy="3731760"/>
          </a:xfrm>
        </p:grpSpPr>
        <p:sp>
          <p:nvSpPr>
            <p:cNvPr id="378" name="文本框 72"/>
            <p:cNvSpPr/>
            <p:nvPr/>
          </p:nvSpPr>
          <p:spPr>
            <a:xfrm>
              <a:off x="3341880" y="2889360"/>
              <a:ext cx="2002320" cy="37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39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爆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74"/>
            <p:cNvSpPr/>
            <p:nvPr/>
          </p:nvSpPr>
          <p:spPr>
            <a:xfrm>
              <a:off x="4172760" y="3692880"/>
              <a:ext cx="1097280" cy="3718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80" name="矩形 137"/>
            <p:cNvSpPr/>
            <p:nvPr/>
          </p:nvSpPr>
          <p:spPr>
            <a:xfrm>
              <a:off x="3584880" y="3226320"/>
              <a:ext cx="280080" cy="12380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81" name="矩形 139"/>
            <p:cNvSpPr/>
            <p:nvPr/>
          </p:nvSpPr>
          <p:spPr>
            <a:xfrm>
              <a:off x="2721240" y="3642480"/>
              <a:ext cx="500760" cy="12844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382" name="Group 4"/>
          <p:cNvGrpSpPr/>
          <p:nvPr/>
        </p:nvGrpSpPr>
        <p:grpSpPr>
          <a:xfrm>
            <a:off x="2668320" y="3615840"/>
            <a:ext cx="3469320" cy="990000"/>
            <a:chOff x="2668320" y="3615840"/>
            <a:chExt cx="3469320" cy="990000"/>
          </a:xfrm>
        </p:grpSpPr>
        <p:sp>
          <p:nvSpPr>
            <p:cNvPr id="383" name="Freeform 5"/>
            <p:cNvSpPr/>
            <p:nvPr/>
          </p:nvSpPr>
          <p:spPr>
            <a:xfrm>
              <a:off x="4452480" y="3775320"/>
              <a:ext cx="1685160" cy="9612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143" h="58">
                  <a:moveTo>
                    <a:pt x="0" y="0"/>
                  </a:moveTo>
                  <a:lnTo>
                    <a:pt x="1143" y="0"/>
                  </a:lnTo>
                  <a:lnTo>
                    <a:pt x="1143" y="58"/>
                  </a:lnTo>
                  <a:lnTo>
                    <a:pt x="157" y="58"/>
                  </a:ln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84" name="Rectangle 6"/>
            <p:cNvSpPr/>
            <p:nvPr/>
          </p:nvSpPr>
          <p:spPr>
            <a:xfrm>
              <a:off x="5673600" y="3931560"/>
              <a:ext cx="240120" cy="94320"/>
            </a:xfrm>
            <a:prstGeom prst="rect">
              <a:avLst/>
            </a:pr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4374360" y="3915000"/>
              <a:ext cx="278280" cy="2952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89" h="18">
                  <a:moveTo>
                    <a:pt x="189" y="18"/>
                  </a:moveTo>
                  <a:lnTo>
                    <a:pt x="122" y="18"/>
                  </a:lnTo>
                  <a:lnTo>
                    <a:pt x="122" y="10"/>
                  </a:lnTo>
                  <a:lnTo>
                    <a:pt x="62" y="10"/>
                  </a:lnTo>
                  <a:lnTo>
                    <a:pt x="62" y="0"/>
                  </a:lnTo>
                  <a:lnTo>
                    <a:pt x="0" y="0"/>
                  </a:ln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4349520" y="3727080"/>
              <a:ext cx="475920" cy="29880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189" h="93">
                  <a:moveTo>
                    <a:pt x="0" y="0"/>
                  </a:moveTo>
                  <a:lnTo>
                    <a:pt x="0" y="93"/>
                  </a:lnTo>
                  <a:lnTo>
                    <a:pt x="62" y="93"/>
                  </a:lnTo>
                  <a:lnTo>
                    <a:pt x="122" y="93"/>
                  </a:lnTo>
                  <a:lnTo>
                    <a:pt x="189" y="93"/>
                  </a:lnTo>
                  <a:lnTo>
                    <a:pt x="189" y="53"/>
                  </a:ln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5913720" y="3871800"/>
              <a:ext cx="95400" cy="170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65" h="103">
                  <a:moveTo>
                    <a:pt x="62" y="103"/>
                  </a:moveTo>
                  <a:lnTo>
                    <a:pt x="0" y="103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5" y="26"/>
                  </a:ln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88" name="Line 10"/>
            <p:cNvSpPr/>
            <p:nvPr/>
          </p:nvSpPr>
          <p:spPr>
            <a:xfrm>
              <a:off x="5913720" y="3909960"/>
              <a:ext cx="91440" cy="3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6005160" y="3915000"/>
              <a:ext cx="132480" cy="12744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00" h="144">
                  <a:moveTo>
                    <a:pt x="0" y="144"/>
                  </a:moveTo>
                  <a:cubicBezTo>
                    <a:pt x="119" y="144"/>
                    <a:pt x="119" y="144"/>
                    <a:pt x="119" y="144"/>
                  </a:cubicBezTo>
                  <a:cubicBezTo>
                    <a:pt x="119" y="144"/>
                    <a:pt x="151" y="124"/>
                    <a:pt x="171" y="124"/>
                  </a:cubicBezTo>
                  <a:cubicBezTo>
                    <a:pt x="190" y="124"/>
                    <a:pt x="190" y="124"/>
                    <a:pt x="190" y="124"/>
                  </a:cubicBezTo>
                  <a:cubicBezTo>
                    <a:pt x="195" y="124"/>
                    <a:pt x="200" y="119"/>
                    <a:pt x="200" y="113"/>
                  </a:cubicBezTo>
                  <a:cubicBezTo>
                    <a:pt x="200" y="31"/>
                    <a:pt x="200" y="31"/>
                    <a:pt x="200" y="31"/>
                  </a:cubicBezTo>
                  <a:cubicBezTo>
                    <a:pt x="200" y="25"/>
                    <a:pt x="195" y="21"/>
                    <a:pt x="190" y="21"/>
                  </a:cubicBezTo>
                  <a:cubicBezTo>
                    <a:pt x="171" y="21"/>
                    <a:pt x="171" y="21"/>
                    <a:pt x="171" y="21"/>
                  </a:cubicBezTo>
                  <a:cubicBezTo>
                    <a:pt x="151" y="21"/>
                    <a:pt x="119" y="0"/>
                    <a:pt x="119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0" name="Line 12"/>
            <p:cNvSpPr/>
            <p:nvPr/>
          </p:nvSpPr>
          <p:spPr>
            <a:xfrm>
              <a:off x="6005160" y="3914640"/>
              <a:ext cx="360" cy="1281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1" name="Line 13"/>
            <p:cNvSpPr/>
            <p:nvPr/>
          </p:nvSpPr>
          <p:spPr>
            <a:xfrm>
              <a:off x="6028560" y="3919680"/>
              <a:ext cx="360" cy="12312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2" name="Line 14"/>
            <p:cNvSpPr/>
            <p:nvPr/>
          </p:nvSpPr>
          <p:spPr>
            <a:xfrm>
              <a:off x="6069960" y="3919680"/>
              <a:ext cx="360" cy="12312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3" name="Line 15"/>
            <p:cNvSpPr/>
            <p:nvPr/>
          </p:nvSpPr>
          <p:spPr>
            <a:xfrm>
              <a:off x="5581800" y="3909960"/>
              <a:ext cx="91440" cy="3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4" name="Line 16"/>
            <p:cNvSpPr/>
            <p:nvPr/>
          </p:nvSpPr>
          <p:spPr>
            <a:xfrm>
              <a:off x="5581800" y="4046040"/>
              <a:ext cx="91440" cy="3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5582160" y="3871800"/>
              <a:ext cx="91080" cy="2455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62" h="148">
                  <a:moveTo>
                    <a:pt x="0" y="0"/>
                  </a:moveTo>
                  <a:lnTo>
                    <a:pt x="0" y="103"/>
                  </a:lnTo>
                  <a:lnTo>
                    <a:pt x="16" y="148"/>
                  </a:lnTo>
                  <a:lnTo>
                    <a:pt x="43" y="148"/>
                  </a:lnTo>
                  <a:lnTo>
                    <a:pt x="43" y="135"/>
                  </a:lnTo>
                  <a:lnTo>
                    <a:pt x="62" y="135"/>
                  </a:lnTo>
                  <a:lnTo>
                    <a:pt x="62" y="103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6" name="Freeform 18"/>
            <p:cNvSpPr/>
            <p:nvPr/>
          </p:nvSpPr>
          <p:spPr>
            <a:xfrm>
              <a:off x="5405040" y="3931560"/>
              <a:ext cx="176760" cy="9432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20" h="57">
                  <a:moveTo>
                    <a:pt x="0" y="57"/>
                  </a:moveTo>
                  <a:lnTo>
                    <a:pt x="120" y="57"/>
                  </a:lnTo>
                  <a:lnTo>
                    <a:pt x="120" y="0"/>
                  </a:lnTo>
                  <a:lnTo>
                    <a:pt x="0" y="0"/>
                  </a:ln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7" name="Freeform 19"/>
            <p:cNvSpPr/>
            <p:nvPr/>
          </p:nvSpPr>
          <p:spPr>
            <a:xfrm>
              <a:off x="5375520" y="3909960"/>
              <a:ext cx="36360" cy="137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25" h="83">
                  <a:moveTo>
                    <a:pt x="25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25" y="83"/>
                  </a:ln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8" name="Freeform 20"/>
            <p:cNvSpPr/>
            <p:nvPr/>
          </p:nvSpPr>
          <p:spPr>
            <a:xfrm>
              <a:off x="4653000" y="3871800"/>
              <a:ext cx="722160" cy="21744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079" h="247">
                  <a:moveTo>
                    <a:pt x="156" y="247"/>
                  </a:moveTo>
                  <a:cubicBezTo>
                    <a:pt x="45" y="247"/>
                    <a:pt x="45" y="247"/>
                    <a:pt x="45" y="247"/>
                  </a:cubicBezTo>
                  <a:cubicBezTo>
                    <a:pt x="20" y="247"/>
                    <a:pt x="0" y="226"/>
                    <a:pt x="0" y="201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0"/>
                    <a:pt x="20" y="0"/>
                    <a:pt x="45" y="0"/>
                  </a:cubicBezTo>
                  <a:cubicBezTo>
                    <a:pt x="1043" y="0"/>
                    <a:pt x="1043" y="0"/>
                    <a:pt x="1043" y="0"/>
                  </a:cubicBezTo>
                  <a:cubicBezTo>
                    <a:pt x="1063" y="0"/>
                    <a:pt x="1079" y="16"/>
                    <a:pt x="1079" y="36"/>
                  </a:cubicBezTo>
                  <a:cubicBezTo>
                    <a:pt x="1079" y="192"/>
                    <a:pt x="1079" y="192"/>
                    <a:pt x="1079" y="192"/>
                  </a:cubicBezTo>
                  <a:cubicBezTo>
                    <a:pt x="1079" y="214"/>
                    <a:pt x="1062" y="232"/>
                    <a:pt x="1041" y="234"/>
                  </a:cubicBezTo>
                  <a:cubicBezTo>
                    <a:pt x="913" y="247"/>
                    <a:pt x="913" y="247"/>
                    <a:pt x="913" y="247"/>
                  </a:cubicBezTo>
                  <a:cubicBezTo>
                    <a:pt x="857" y="247"/>
                    <a:pt x="857" y="247"/>
                    <a:pt x="857" y="247"/>
                  </a:cubicBezTo>
                  <a:cubicBezTo>
                    <a:pt x="856" y="247"/>
                    <a:pt x="856" y="247"/>
                    <a:pt x="856" y="247"/>
                  </a:cubicBezTo>
                  <a:cubicBezTo>
                    <a:pt x="856" y="232"/>
                    <a:pt x="843" y="220"/>
                    <a:pt x="827" y="220"/>
                  </a:cubicBezTo>
                  <a:cubicBezTo>
                    <a:pt x="811" y="220"/>
                    <a:pt x="798" y="232"/>
                    <a:pt x="798" y="247"/>
                  </a:cubicBezTo>
                  <a:cubicBezTo>
                    <a:pt x="798" y="232"/>
                    <a:pt x="785" y="220"/>
                    <a:pt x="769" y="220"/>
                  </a:cubicBezTo>
                  <a:cubicBezTo>
                    <a:pt x="753" y="220"/>
                    <a:pt x="740" y="232"/>
                    <a:pt x="740" y="247"/>
                  </a:cubicBezTo>
                  <a:cubicBezTo>
                    <a:pt x="740" y="232"/>
                    <a:pt x="727" y="220"/>
                    <a:pt x="711" y="220"/>
                  </a:cubicBezTo>
                  <a:cubicBezTo>
                    <a:pt x="694" y="220"/>
                    <a:pt x="681" y="232"/>
                    <a:pt x="681" y="247"/>
                  </a:cubicBezTo>
                  <a:cubicBezTo>
                    <a:pt x="681" y="232"/>
                    <a:pt x="668" y="220"/>
                    <a:pt x="652" y="220"/>
                  </a:cubicBezTo>
                  <a:cubicBezTo>
                    <a:pt x="636" y="220"/>
                    <a:pt x="623" y="232"/>
                    <a:pt x="623" y="247"/>
                  </a:cubicBezTo>
                  <a:cubicBezTo>
                    <a:pt x="623" y="232"/>
                    <a:pt x="610" y="220"/>
                    <a:pt x="594" y="220"/>
                  </a:cubicBezTo>
                  <a:cubicBezTo>
                    <a:pt x="578" y="220"/>
                    <a:pt x="565" y="232"/>
                    <a:pt x="565" y="247"/>
                  </a:cubicBezTo>
                  <a:cubicBezTo>
                    <a:pt x="565" y="232"/>
                    <a:pt x="551" y="220"/>
                    <a:pt x="535" y="220"/>
                  </a:cubicBezTo>
                  <a:cubicBezTo>
                    <a:pt x="519" y="220"/>
                    <a:pt x="506" y="232"/>
                    <a:pt x="506" y="247"/>
                  </a:cubicBezTo>
                  <a:cubicBezTo>
                    <a:pt x="506" y="232"/>
                    <a:pt x="493" y="220"/>
                    <a:pt x="477" y="220"/>
                  </a:cubicBezTo>
                  <a:cubicBezTo>
                    <a:pt x="461" y="220"/>
                    <a:pt x="448" y="232"/>
                    <a:pt x="448" y="247"/>
                  </a:cubicBezTo>
                  <a:cubicBezTo>
                    <a:pt x="448" y="232"/>
                    <a:pt x="435" y="220"/>
                    <a:pt x="419" y="220"/>
                  </a:cubicBezTo>
                  <a:cubicBezTo>
                    <a:pt x="402" y="220"/>
                    <a:pt x="389" y="232"/>
                    <a:pt x="389" y="247"/>
                  </a:cubicBezTo>
                  <a:cubicBezTo>
                    <a:pt x="389" y="232"/>
                    <a:pt x="376" y="220"/>
                    <a:pt x="360" y="220"/>
                  </a:cubicBezTo>
                  <a:cubicBezTo>
                    <a:pt x="344" y="220"/>
                    <a:pt x="331" y="232"/>
                    <a:pt x="331" y="247"/>
                  </a:cubicBezTo>
                  <a:cubicBezTo>
                    <a:pt x="331" y="232"/>
                    <a:pt x="318" y="220"/>
                    <a:pt x="302" y="220"/>
                  </a:cubicBezTo>
                  <a:cubicBezTo>
                    <a:pt x="286" y="220"/>
                    <a:pt x="273" y="232"/>
                    <a:pt x="273" y="247"/>
                  </a:cubicBezTo>
                  <a:cubicBezTo>
                    <a:pt x="273" y="232"/>
                    <a:pt x="260" y="220"/>
                    <a:pt x="243" y="220"/>
                  </a:cubicBezTo>
                  <a:cubicBezTo>
                    <a:pt x="227" y="220"/>
                    <a:pt x="214" y="232"/>
                    <a:pt x="214" y="247"/>
                  </a:cubicBezTo>
                  <a:cubicBezTo>
                    <a:pt x="214" y="232"/>
                    <a:pt x="201" y="220"/>
                    <a:pt x="185" y="220"/>
                  </a:cubicBezTo>
                  <a:cubicBezTo>
                    <a:pt x="169" y="220"/>
                    <a:pt x="156" y="232"/>
                    <a:pt x="156" y="247"/>
                  </a:cubicBezTo>
                  <a:close/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399" name="Line 21"/>
            <p:cNvSpPr/>
            <p:nvPr/>
          </p:nvSpPr>
          <p:spPr>
            <a:xfrm>
              <a:off x="475776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0" name="Line 22"/>
            <p:cNvSpPr/>
            <p:nvPr/>
          </p:nvSpPr>
          <p:spPr>
            <a:xfrm>
              <a:off x="479592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1" name="Line 23"/>
            <p:cNvSpPr/>
            <p:nvPr/>
          </p:nvSpPr>
          <p:spPr>
            <a:xfrm>
              <a:off x="483588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2" name="Line 24"/>
            <p:cNvSpPr/>
            <p:nvPr/>
          </p:nvSpPr>
          <p:spPr>
            <a:xfrm>
              <a:off x="487404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3" name="Line 25"/>
            <p:cNvSpPr/>
            <p:nvPr/>
          </p:nvSpPr>
          <p:spPr>
            <a:xfrm>
              <a:off x="491400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4" name="Line 26"/>
            <p:cNvSpPr/>
            <p:nvPr/>
          </p:nvSpPr>
          <p:spPr>
            <a:xfrm>
              <a:off x="495396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5" name="Line 27"/>
            <p:cNvSpPr/>
            <p:nvPr/>
          </p:nvSpPr>
          <p:spPr>
            <a:xfrm>
              <a:off x="499212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6" name="Line 28"/>
            <p:cNvSpPr/>
            <p:nvPr/>
          </p:nvSpPr>
          <p:spPr>
            <a:xfrm>
              <a:off x="503208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507024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8" name="Line 30"/>
            <p:cNvSpPr/>
            <p:nvPr/>
          </p:nvSpPr>
          <p:spPr>
            <a:xfrm>
              <a:off x="510876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>
              <a:off x="514836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0" name="Line 32"/>
            <p:cNvSpPr/>
            <p:nvPr/>
          </p:nvSpPr>
          <p:spPr>
            <a:xfrm>
              <a:off x="518832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1" name="Line 33"/>
            <p:cNvSpPr/>
            <p:nvPr/>
          </p:nvSpPr>
          <p:spPr>
            <a:xfrm>
              <a:off x="5226480" y="3871440"/>
              <a:ext cx="360" cy="2178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2" name="Freeform 34"/>
            <p:cNvSpPr/>
            <p:nvPr/>
          </p:nvSpPr>
          <p:spPr>
            <a:xfrm>
              <a:off x="5947920" y="3642480"/>
              <a:ext cx="131040" cy="1324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97" h="151">
                  <a:moveTo>
                    <a:pt x="5" y="108"/>
                  </a:moveTo>
                  <a:cubicBezTo>
                    <a:pt x="27" y="15"/>
                    <a:pt x="27" y="15"/>
                    <a:pt x="27" y="15"/>
                  </a:cubicBezTo>
                  <a:cubicBezTo>
                    <a:pt x="29" y="6"/>
                    <a:pt x="37" y="0"/>
                    <a:pt x="46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41" y="0"/>
                    <a:pt x="148" y="5"/>
                    <a:pt x="151" y="12"/>
                  </a:cubicBezTo>
                  <a:cubicBezTo>
                    <a:pt x="188" y="103"/>
                    <a:pt x="188" y="103"/>
                    <a:pt x="188" y="103"/>
                  </a:cubicBezTo>
                  <a:cubicBezTo>
                    <a:pt x="197" y="126"/>
                    <a:pt x="180" y="151"/>
                    <a:pt x="155" y="151"/>
                  </a:cubicBezTo>
                  <a:cubicBezTo>
                    <a:pt x="39" y="151"/>
                    <a:pt x="39" y="151"/>
                    <a:pt x="39" y="151"/>
                  </a:cubicBezTo>
                  <a:cubicBezTo>
                    <a:pt x="17" y="151"/>
                    <a:pt x="0" y="130"/>
                    <a:pt x="5" y="108"/>
                  </a:cubicBezTo>
                  <a:close/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3" name="Line 35"/>
            <p:cNvSpPr/>
            <p:nvPr/>
          </p:nvSpPr>
          <p:spPr>
            <a:xfrm>
              <a:off x="5960880" y="3680640"/>
              <a:ext cx="95760" cy="3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4" name="Line 36"/>
            <p:cNvSpPr/>
            <p:nvPr/>
          </p:nvSpPr>
          <p:spPr>
            <a:xfrm>
              <a:off x="5405040" y="3909960"/>
              <a:ext cx="360" cy="13788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5" name="Freeform 37"/>
            <p:cNvSpPr/>
            <p:nvPr/>
          </p:nvSpPr>
          <p:spPr>
            <a:xfrm>
              <a:off x="4374360" y="3767040"/>
              <a:ext cx="77760" cy="104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3" h="63">
                  <a:moveTo>
                    <a:pt x="0" y="63"/>
                  </a:moveTo>
                  <a:lnTo>
                    <a:pt x="0" y="0"/>
                  </a:lnTo>
                  <a:lnTo>
                    <a:pt x="53" y="0"/>
                  </a:ln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6" name="Line 38"/>
            <p:cNvSpPr/>
            <p:nvPr/>
          </p:nvSpPr>
          <p:spPr>
            <a:xfrm>
              <a:off x="4448160" y="3767040"/>
              <a:ext cx="360" cy="10440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7" name="Line 39"/>
            <p:cNvSpPr/>
            <p:nvPr/>
          </p:nvSpPr>
          <p:spPr>
            <a:xfrm>
              <a:off x="4374360" y="3871440"/>
              <a:ext cx="293400" cy="3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8" name="Freeform 40"/>
            <p:cNvSpPr/>
            <p:nvPr/>
          </p:nvSpPr>
          <p:spPr>
            <a:xfrm>
              <a:off x="3480840" y="3805200"/>
              <a:ext cx="627840" cy="464760"/>
            </a:xfrm>
            <a:custGeom>
              <a:avLst/>
              <a:gdLst>
                <a:gd name="textAreaLeft" fmla="*/ 0 w 627840"/>
                <a:gd name="textAreaRight" fmla="*/ 628200 w 6278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938" h="527">
                  <a:moveTo>
                    <a:pt x="938" y="0"/>
                  </a:moveTo>
                  <a:cubicBezTo>
                    <a:pt x="920" y="0"/>
                    <a:pt x="933" y="0"/>
                    <a:pt x="920" y="0"/>
                  </a:cubicBezTo>
                  <a:cubicBezTo>
                    <a:pt x="767" y="0"/>
                    <a:pt x="420" y="16"/>
                    <a:pt x="193" y="243"/>
                  </a:cubicBezTo>
                  <a:cubicBezTo>
                    <a:pt x="114" y="322"/>
                    <a:pt x="53" y="390"/>
                    <a:pt x="15" y="427"/>
                  </a:cubicBezTo>
                  <a:cubicBezTo>
                    <a:pt x="0" y="441"/>
                    <a:pt x="8" y="466"/>
                    <a:pt x="29" y="469"/>
                  </a:cubicBezTo>
                  <a:cubicBezTo>
                    <a:pt x="286" y="527"/>
                    <a:pt x="286" y="527"/>
                    <a:pt x="286" y="527"/>
                  </a:cubicBez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19" name="Freeform 41"/>
            <p:cNvSpPr/>
            <p:nvPr/>
          </p:nvSpPr>
          <p:spPr>
            <a:xfrm>
              <a:off x="4321440" y="3805200"/>
              <a:ext cx="52560" cy="1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0" h="0">
                  <a:moveTo>
                    <a:pt x="80" y="0"/>
                  </a:moveTo>
                  <a:cubicBezTo>
                    <a:pt x="80" y="0"/>
                    <a:pt x="67" y="0"/>
                    <a:pt x="0" y="0"/>
                  </a:cubicBez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0" name="Freeform 42"/>
            <p:cNvSpPr/>
            <p:nvPr/>
          </p:nvSpPr>
          <p:spPr>
            <a:xfrm>
              <a:off x="4098600" y="3790440"/>
              <a:ext cx="226800" cy="10584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39" h="120">
                  <a:moveTo>
                    <a:pt x="301" y="120"/>
                  </a:moveTo>
                  <a:cubicBezTo>
                    <a:pt x="55" y="120"/>
                    <a:pt x="55" y="120"/>
                    <a:pt x="55" y="120"/>
                  </a:cubicBezTo>
                  <a:cubicBezTo>
                    <a:pt x="24" y="120"/>
                    <a:pt x="0" y="96"/>
                    <a:pt x="0" y="66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25"/>
                    <a:pt x="24" y="0"/>
                    <a:pt x="55" y="0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322" y="0"/>
                    <a:pt x="339" y="17"/>
                    <a:pt x="339" y="38"/>
                  </a:cubicBezTo>
                  <a:cubicBezTo>
                    <a:pt x="339" y="83"/>
                    <a:pt x="339" y="83"/>
                    <a:pt x="339" y="83"/>
                  </a:cubicBezTo>
                  <a:cubicBezTo>
                    <a:pt x="339" y="104"/>
                    <a:pt x="322" y="120"/>
                    <a:pt x="301" y="120"/>
                  </a:cubicBezTo>
                  <a:close/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1" name="Freeform 43"/>
            <p:cNvSpPr/>
            <p:nvPr/>
          </p:nvSpPr>
          <p:spPr>
            <a:xfrm>
              <a:off x="2728800" y="4014720"/>
              <a:ext cx="63000" cy="5680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96" h="646">
                  <a:moveTo>
                    <a:pt x="13" y="0"/>
                  </a:moveTo>
                  <a:cubicBezTo>
                    <a:pt x="0" y="18"/>
                    <a:pt x="79" y="619"/>
                    <a:pt x="96" y="646"/>
                  </a:cubicBez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2" name="Line 44"/>
            <p:cNvSpPr/>
            <p:nvPr/>
          </p:nvSpPr>
          <p:spPr>
            <a:xfrm>
              <a:off x="3738600" y="3843360"/>
              <a:ext cx="79920" cy="21924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3" name="Line 45"/>
            <p:cNvSpPr/>
            <p:nvPr/>
          </p:nvSpPr>
          <p:spPr>
            <a:xfrm flipH="1">
              <a:off x="3750480" y="4007880"/>
              <a:ext cx="616320" cy="3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4" name="Freeform 46"/>
            <p:cNvSpPr/>
            <p:nvPr/>
          </p:nvSpPr>
          <p:spPr>
            <a:xfrm>
              <a:off x="2668320" y="3727080"/>
              <a:ext cx="1705680" cy="878760"/>
            </a:xfrm>
            <a:custGeom>
              <a:avLst/>
              <a:gdLst>
                <a:gd name="textAreaLeft" fmla="*/ 0 w 1705680"/>
                <a:gd name="textAreaRight" fmla="*/ 1706040 w 1705680"/>
                <a:gd name="textAreaTop" fmla="*/ 0 h 878760"/>
                <a:gd name="textAreaBottom" fmla="*/ 879120 h 878760"/>
              </a:gdLst>
              <a:ahLst/>
              <a:rect l="textAreaLeft" t="textAreaTop" r="textAreaRight" b="textAreaBottom"/>
              <a:pathLst>
                <a:path w="2549" h="997">
                  <a:moveTo>
                    <a:pt x="2549" y="25"/>
                  </a:moveTo>
                  <a:cubicBezTo>
                    <a:pt x="2135" y="25"/>
                    <a:pt x="2135" y="25"/>
                    <a:pt x="2135" y="25"/>
                  </a:cubicBezTo>
                  <a:cubicBezTo>
                    <a:pt x="2135" y="25"/>
                    <a:pt x="1694" y="0"/>
                    <a:pt x="1408" y="260"/>
                  </a:cubicBezTo>
                  <a:cubicBezTo>
                    <a:pt x="1388" y="278"/>
                    <a:pt x="1363" y="290"/>
                    <a:pt x="1334" y="290"/>
                  </a:cubicBezTo>
                  <a:cubicBezTo>
                    <a:pt x="1311" y="290"/>
                    <a:pt x="1290" y="283"/>
                    <a:pt x="1273" y="271"/>
                  </a:cubicBezTo>
                  <a:cubicBezTo>
                    <a:pt x="1263" y="264"/>
                    <a:pt x="1252" y="260"/>
                    <a:pt x="1240" y="260"/>
                  </a:cubicBezTo>
                  <a:cubicBezTo>
                    <a:pt x="46" y="330"/>
                    <a:pt x="46" y="330"/>
                    <a:pt x="46" y="330"/>
                  </a:cubicBezTo>
                  <a:cubicBezTo>
                    <a:pt x="0" y="334"/>
                    <a:pt x="19" y="400"/>
                    <a:pt x="20" y="415"/>
                  </a:cubicBezTo>
                  <a:cubicBezTo>
                    <a:pt x="20" y="415"/>
                    <a:pt x="46" y="524"/>
                    <a:pt x="58" y="662"/>
                  </a:cubicBezTo>
                  <a:cubicBezTo>
                    <a:pt x="69" y="803"/>
                    <a:pt x="78" y="942"/>
                    <a:pt x="78" y="942"/>
                  </a:cubicBezTo>
                  <a:cubicBezTo>
                    <a:pt x="78" y="974"/>
                    <a:pt x="109" y="997"/>
                    <a:pt x="140" y="988"/>
                  </a:cubicBezTo>
                  <a:cubicBezTo>
                    <a:pt x="1214" y="592"/>
                    <a:pt x="1214" y="592"/>
                    <a:pt x="1214" y="592"/>
                  </a:cubicBezTo>
                  <a:cubicBezTo>
                    <a:pt x="1235" y="586"/>
                    <a:pt x="1255" y="600"/>
                    <a:pt x="1259" y="620"/>
                  </a:cubicBezTo>
                  <a:cubicBezTo>
                    <a:pt x="1261" y="628"/>
                    <a:pt x="1268" y="635"/>
                    <a:pt x="1277" y="636"/>
                  </a:cubicBezTo>
                  <a:cubicBezTo>
                    <a:pt x="1467" y="679"/>
                    <a:pt x="1467" y="679"/>
                    <a:pt x="1467" y="679"/>
                  </a:cubicBezTo>
                  <a:cubicBezTo>
                    <a:pt x="1476" y="680"/>
                    <a:pt x="1482" y="673"/>
                    <a:pt x="1485" y="665"/>
                  </a:cubicBezTo>
                  <a:cubicBezTo>
                    <a:pt x="1578" y="370"/>
                    <a:pt x="1686" y="357"/>
                    <a:pt x="1937" y="357"/>
                  </a:cubicBezTo>
                  <a:cubicBezTo>
                    <a:pt x="2037" y="357"/>
                    <a:pt x="2037" y="357"/>
                    <a:pt x="2037" y="357"/>
                  </a:cubicBezTo>
                  <a:cubicBezTo>
                    <a:pt x="2037" y="357"/>
                    <a:pt x="2037" y="357"/>
                    <a:pt x="2037" y="357"/>
                  </a:cubicBezTo>
                  <a:cubicBezTo>
                    <a:pt x="2095" y="357"/>
                    <a:pt x="2107" y="384"/>
                    <a:pt x="2107" y="427"/>
                  </a:cubicBezTo>
                  <a:cubicBezTo>
                    <a:pt x="2108" y="421"/>
                    <a:pt x="2109" y="415"/>
                    <a:pt x="2110" y="409"/>
                  </a:cubicBezTo>
                  <a:cubicBezTo>
                    <a:pt x="2118" y="376"/>
                    <a:pt x="2156" y="357"/>
                    <a:pt x="2193" y="357"/>
                  </a:cubicBezTo>
                  <a:cubicBezTo>
                    <a:pt x="2464" y="357"/>
                    <a:pt x="2464" y="357"/>
                    <a:pt x="2464" y="357"/>
                  </a:cubicBezTo>
                  <a:cubicBezTo>
                    <a:pt x="2469" y="357"/>
                    <a:pt x="2474" y="361"/>
                    <a:pt x="2475" y="366"/>
                  </a:cubicBezTo>
                  <a:cubicBezTo>
                    <a:pt x="2476" y="368"/>
                    <a:pt x="2477" y="369"/>
                    <a:pt x="2479" y="369"/>
                  </a:cubicBezTo>
                  <a:cubicBezTo>
                    <a:pt x="2549" y="369"/>
                    <a:pt x="2549" y="369"/>
                    <a:pt x="2549" y="369"/>
                  </a:cubicBez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5" name="Freeform 47"/>
            <p:cNvSpPr/>
            <p:nvPr/>
          </p:nvSpPr>
          <p:spPr>
            <a:xfrm>
              <a:off x="3904200" y="4042800"/>
              <a:ext cx="174960" cy="126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262" h="143">
                  <a:moveTo>
                    <a:pt x="65" y="0"/>
                  </a:moveTo>
                  <a:cubicBezTo>
                    <a:pt x="30" y="0"/>
                    <a:pt x="0" y="32"/>
                    <a:pt x="0" y="68"/>
                  </a:cubicBezTo>
                  <a:cubicBezTo>
                    <a:pt x="0" y="104"/>
                    <a:pt x="25" y="143"/>
                    <a:pt x="65" y="142"/>
                  </a:cubicBezTo>
                  <a:cubicBezTo>
                    <a:pt x="179" y="141"/>
                    <a:pt x="179" y="141"/>
                    <a:pt x="179" y="141"/>
                  </a:cubicBezTo>
                  <a:cubicBezTo>
                    <a:pt x="247" y="133"/>
                    <a:pt x="257" y="96"/>
                    <a:pt x="262" y="69"/>
                  </a:cubicBez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6" name="Freeform 48"/>
            <p:cNvSpPr/>
            <p:nvPr/>
          </p:nvSpPr>
          <p:spPr>
            <a:xfrm>
              <a:off x="3939480" y="4042800"/>
              <a:ext cx="27720" cy="82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3" h="94">
                  <a:moveTo>
                    <a:pt x="43" y="0"/>
                  </a:moveTo>
                  <a:cubicBezTo>
                    <a:pt x="19" y="0"/>
                    <a:pt x="0" y="21"/>
                    <a:pt x="0" y="45"/>
                  </a:cubicBezTo>
                  <a:cubicBezTo>
                    <a:pt x="0" y="69"/>
                    <a:pt x="17" y="94"/>
                    <a:pt x="43" y="94"/>
                  </a:cubicBezTo>
                </a:path>
              </a:pathLst>
            </a:custGeom>
            <a:solidFill>
              <a:schemeClr val="accent2"/>
            </a:solidFill>
            <a:ln cap="rnd"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7" name="Freeform 49"/>
            <p:cNvSpPr/>
            <p:nvPr/>
          </p:nvSpPr>
          <p:spPr>
            <a:xfrm>
              <a:off x="3904200" y="4041360"/>
              <a:ext cx="42480" cy="579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65" h="66">
                  <a:moveTo>
                    <a:pt x="65" y="1"/>
                  </a:moveTo>
                  <a:cubicBezTo>
                    <a:pt x="17" y="0"/>
                    <a:pt x="0" y="30"/>
                    <a:pt x="0" y="66"/>
                  </a:cubicBez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8" name="Freeform 50"/>
            <p:cNvSpPr/>
            <p:nvPr/>
          </p:nvSpPr>
          <p:spPr>
            <a:xfrm>
              <a:off x="3871800" y="4056120"/>
              <a:ext cx="32040" cy="42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8" h="49">
                  <a:moveTo>
                    <a:pt x="0" y="0"/>
                  </a:moveTo>
                  <a:cubicBezTo>
                    <a:pt x="36" y="0"/>
                    <a:pt x="48" y="22"/>
                    <a:pt x="48" y="49"/>
                  </a:cubicBez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29" name="Freeform 51"/>
            <p:cNvSpPr/>
            <p:nvPr/>
          </p:nvSpPr>
          <p:spPr>
            <a:xfrm>
              <a:off x="4011840" y="3695760"/>
              <a:ext cx="329760" cy="1944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4" h="12">
                  <a:moveTo>
                    <a:pt x="0" y="0"/>
                  </a:moveTo>
                  <a:lnTo>
                    <a:pt x="0" y="12"/>
                  </a:lnTo>
                  <a:lnTo>
                    <a:pt x="224" y="12"/>
                  </a:lnTo>
                  <a:lnTo>
                    <a:pt x="224" y="0"/>
                  </a:lnTo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30" name="Line 52"/>
            <p:cNvSpPr/>
            <p:nvPr/>
          </p:nvSpPr>
          <p:spPr>
            <a:xfrm>
              <a:off x="4058640" y="3695400"/>
              <a:ext cx="360" cy="201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31" name="Line 53"/>
            <p:cNvSpPr/>
            <p:nvPr/>
          </p:nvSpPr>
          <p:spPr>
            <a:xfrm>
              <a:off x="4247640" y="3695400"/>
              <a:ext cx="360" cy="201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32" name="Line 54"/>
            <p:cNvSpPr/>
            <p:nvPr/>
          </p:nvSpPr>
          <p:spPr>
            <a:xfrm>
              <a:off x="4294800" y="3695400"/>
              <a:ext cx="360" cy="20160"/>
            </a:xfrm>
            <a:prstGeom prst="line">
              <a:avLst/>
            </a:prstGeom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33" name="Freeform 55"/>
            <p:cNvSpPr/>
            <p:nvPr/>
          </p:nvSpPr>
          <p:spPr>
            <a:xfrm>
              <a:off x="4097160" y="3615840"/>
              <a:ext cx="135360" cy="9936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4" h="113">
                  <a:moveTo>
                    <a:pt x="68" y="19"/>
                  </a:moveTo>
                  <a:cubicBezTo>
                    <a:pt x="60" y="7"/>
                    <a:pt x="47" y="0"/>
                    <a:pt x="31" y="2"/>
                  </a:cubicBezTo>
                  <a:cubicBezTo>
                    <a:pt x="13" y="5"/>
                    <a:pt x="0" y="21"/>
                    <a:pt x="0" y="39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204" y="113"/>
                    <a:pt x="204" y="113"/>
                    <a:pt x="204" y="113"/>
                  </a:cubicBezTo>
                  <a:cubicBezTo>
                    <a:pt x="198" y="62"/>
                    <a:pt x="198" y="62"/>
                    <a:pt x="198" y="62"/>
                  </a:cubicBezTo>
                  <a:cubicBezTo>
                    <a:pt x="197" y="49"/>
                    <a:pt x="185" y="38"/>
                    <a:pt x="171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89" y="38"/>
                    <a:pt x="75" y="31"/>
                    <a:pt x="68" y="19"/>
                  </a:cubicBezTo>
                  <a:close/>
                </a:path>
              </a:pathLst>
            </a:cu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34" name="Oval 56"/>
            <p:cNvSpPr/>
            <p:nvPr/>
          </p:nvSpPr>
          <p:spPr>
            <a:xfrm>
              <a:off x="4118040" y="3648960"/>
              <a:ext cx="5400" cy="6120"/>
            </a:xfrm>
            <a:prstGeom prst="ellipse">
              <a:avLst/>
            </a:prstGeom>
            <a:solidFill>
              <a:schemeClr val="accent2"/>
            </a:solidFill>
            <a:ln w="28575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435" name="组合 140"/>
          <p:cNvGrpSpPr/>
          <p:nvPr/>
        </p:nvGrpSpPr>
        <p:grpSpPr>
          <a:xfrm>
            <a:off x="6276960" y="3139560"/>
            <a:ext cx="417960" cy="745200"/>
            <a:chOff x="6276960" y="3139560"/>
            <a:chExt cx="417960" cy="745200"/>
          </a:xfrm>
        </p:grpSpPr>
        <p:sp>
          <p:nvSpPr>
            <p:cNvPr id="436" name="椭圆 142"/>
            <p:cNvSpPr/>
            <p:nvPr/>
          </p:nvSpPr>
          <p:spPr>
            <a:xfrm rot="16895400">
              <a:off x="6669000" y="3576240"/>
              <a:ext cx="27720" cy="190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37" name="椭圆 143"/>
            <p:cNvSpPr/>
            <p:nvPr/>
          </p:nvSpPr>
          <p:spPr>
            <a:xfrm rot="16895400">
              <a:off x="6273360" y="3272400"/>
              <a:ext cx="59760" cy="4140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38" name="椭圆 144"/>
            <p:cNvSpPr/>
            <p:nvPr/>
          </p:nvSpPr>
          <p:spPr>
            <a:xfrm rot="15961800">
              <a:off x="6584760" y="3504960"/>
              <a:ext cx="89640" cy="4212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39" name="椭圆 145"/>
            <p:cNvSpPr/>
            <p:nvPr/>
          </p:nvSpPr>
          <p:spPr>
            <a:xfrm rot="16895400">
              <a:off x="6664680" y="3636000"/>
              <a:ext cx="27720" cy="190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40" name="椭圆 146"/>
            <p:cNvSpPr/>
            <p:nvPr/>
          </p:nvSpPr>
          <p:spPr>
            <a:xfrm rot="16895400">
              <a:off x="6561720" y="3145320"/>
              <a:ext cx="27720" cy="190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41" name="椭圆 147"/>
            <p:cNvSpPr/>
            <p:nvPr/>
          </p:nvSpPr>
          <p:spPr>
            <a:xfrm rot="16216200">
              <a:off x="6532560" y="3709440"/>
              <a:ext cx="222120" cy="4032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4400" bIns="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42" name="椭圆 148"/>
            <p:cNvSpPr/>
            <p:nvPr/>
          </p:nvSpPr>
          <p:spPr>
            <a:xfrm rot="14533200">
              <a:off x="6283080" y="3666960"/>
              <a:ext cx="443160" cy="2952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0440" bIns="10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43" name="椭圆 149"/>
            <p:cNvSpPr/>
            <p:nvPr/>
          </p:nvSpPr>
          <p:spPr>
            <a:xfrm rot="13445400">
              <a:off x="6519600" y="3812760"/>
              <a:ext cx="75600" cy="248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8640" bIns="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44" name="椭圆 150"/>
            <p:cNvSpPr/>
            <p:nvPr/>
          </p:nvSpPr>
          <p:spPr>
            <a:xfrm rot="13445400">
              <a:off x="6492600" y="3771720"/>
              <a:ext cx="25920" cy="1512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5400" bIns="5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45" name="椭圆 151"/>
            <p:cNvSpPr/>
            <p:nvPr/>
          </p:nvSpPr>
          <p:spPr>
            <a:xfrm rot="13445400">
              <a:off x="6452280" y="3725640"/>
              <a:ext cx="25920" cy="1512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5400" bIns="5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446" name="组合 163"/>
          <p:cNvGrpSpPr/>
          <p:nvPr/>
        </p:nvGrpSpPr>
        <p:grpSpPr>
          <a:xfrm>
            <a:off x="6051240" y="3939480"/>
            <a:ext cx="561600" cy="426600"/>
            <a:chOff x="6051240" y="3939480"/>
            <a:chExt cx="561600" cy="426600"/>
          </a:xfrm>
        </p:grpSpPr>
        <p:sp>
          <p:nvSpPr>
            <p:cNvPr id="447" name="椭圆 153"/>
            <p:cNvSpPr/>
            <p:nvPr/>
          </p:nvSpPr>
          <p:spPr>
            <a:xfrm rot="9207000">
              <a:off x="6323040" y="3980880"/>
              <a:ext cx="27360" cy="3420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48" name="椭圆 155"/>
            <p:cNvSpPr/>
            <p:nvPr/>
          </p:nvSpPr>
          <p:spPr>
            <a:xfrm rot="8274000">
              <a:off x="6279840" y="4038480"/>
              <a:ext cx="87840" cy="748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49" name="椭圆 156"/>
            <p:cNvSpPr/>
            <p:nvPr/>
          </p:nvSpPr>
          <p:spPr>
            <a:xfrm rot="9207000">
              <a:off x="6371640" y="3947760"/>
              <a:ext cx="27360" cy="3420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50" name="椭圆 157"/>
            <p:cNvSpPr/>
            <p:nvPr/>
          </p:nvSpPr>
          <p:spPr>
            <a:xfrm rot="9207000">
              <a:off x="6057000" y="4327200"/>
              <a:ext cx="27360" cy="3420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51" name="椭圆 158"/>
            <p:cNvSpPr/>
            <p:nvPr/>
          </p:nvSpPr>
          <p:spPr>
            <a:xfrm rot="10112400">
              <a:off x="6369480" y="3959640"/>
              <a:ext cx="178560" cy="4176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52" name="椭圆 159"/>
            <p:cNvSpPr/>
            <p:nvPr/>
          </p:nvSpPr>
          <p:spPr>
            <a:xfrm rot="8368200">
              <a:off x="6391440" y="4010760"/>
              <a:ext cx="235800" cy="4176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53" name="椭圆 160"/>
            <p:cNvSpPr/>
            <p:nvPr/>
          </p:nvSpPr>
          <p:spPr>
            <a:xfrm rot="5757000">
              <a:off x="6303600" y="4182120"/>
              <a:ext cx="75600" cy="4356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5480" bIns="15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54" name="椭圆 161"/>
            <p:cNvSpPr/>
            <p:nvPr/>
          </p:nvSpPr>
          <p:spPr>
            <a:xfrm rot="5757000">
              <a:off x="6582240" y="4006440"/>
              <a:ext cx="25920" cy="262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55" name="椭圆 162"/>
            <p:cNvSpPr/>
            <p:nvPr/>
          </p:nvSpPr>
          <p:spPr>
            <a:xfrm rot="5757000">
              <a:off x="6571440" y="4066560"/>
              <a:ext cx="25920" cy="2628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456" name="组合 176"/>
          <p:cNvGrpSpPr/>
          <p:nvPr/>
        </p:nvGrpSpPr>
        <p:grpSpPr>
          <a:xfrm>
            <a:off x="6246000" y="3788640"/>
            <a:ext cx="333000" cy="177840"/>
            <a:chOff x="6246000" y="3788640"/>
            <a:chExt cx="333000" cy="177840"/>
          </a:xfrm>
        </p:grpSpPr>
        <p:cxnSp>
          <p:nvCxnSpPr>
            <p:cNvPr id="457" name="直接连接符 167"/>
            <p:cNvCxnSpPr/>
            <p:nvPr/>
          </p:nvCxnSpPr>
          <p:spPr>
            <a:xfrm>
              <a:off x="6268320" y="3788640"/>
              <a:ext cx="288360" cy="360"/>
            </a:xfrm>
            <a:prstGeom prst="straightConnector1">
              <a:avLst/>
            </a:prstGeom>
            <a:ln>
              <a:solidFill>
                <a:srgbClr val="2d2d2d"/>
              </a:solidFill>
            </a:ln>
          </p:spPr>
        </p:cxnSp>
        <p:cxnSp>
          <p:nvCxnSpPr>
            <p:cNvPr id="458" name="直接连接符 168"/>
            <p:cNvCxnSpPr/>
            <p:nvPr/>
          </p:nvCxnSpPr>
          <p:spPr>
            <a:xfrm>
              <a:off x="6278040" y="3854160"/>
              <a:ext cx="288000" cy="360"/>
            </a:xfrm>
            <a:prstGeom prst="straightConnector1">
              <a:avLst/>
            </a:prstGeom>
            <a:ln>
              <a:solidFill>
                <a:srgbClr val="2d2d2d"/>
              </a:solidFill>
            </a:ln>
          </p:spPr>
        </p:cxnSp>
        <p:cxnSp>
          <p:nvCxnSpPr>
            <p:cNvPr id="459" name="直接连接符 169"/>
            <p:cNvCxnSpPr/>
            <p:nvPr/>
          </p:nvCxnSpPr>
          <p:spPr>
            <a:xfrm>
              <a:off x="6246000" y="3912480"/>
              <a:ext cx="288000" cy="360"/>
            </a:xfrm>
            <a:prstGeom prst="straightConnector1">
              <a:avLst/>
            </a:prstGeom>
            <a:ln>
              <a:solidFill>
                <a:srgbClr val="2d2d2d"/>
              </a:solidFill>
            </a:ln>
          </p:spPr>
        </p:cxnSp>
        <p:cxnSp>
          <p:nvCxnSpPr>
            <p:cNvPr id="460" name="直接连接符 170"/>
            <p:cNvCxnSpPr/>
            <p:nvPr/>
          </p:nvCxnSpPr>
          <p:spPr>
            <a:xfrm>
              <a:off x="6291000" y="3966480"/>
              <a:ext cx="288360" cy="360"/>
            </a:xfrm>
            <a:prstGeom prst="straightConnector1">
              <a:avLst/>
            </a:prstGeom>
            <a:ln>
              <a:solidFill>
                <a:srgbClr val="2d2d2d"/>
              </a:solidFill>
            </a:ln>
          </p:spPr>
        </p:cxnSp>
      </p:grpSp>
      <p:grpSp>
        <p:nvGrpSpPr>
          <p:cNvPr id="461" name="组合 177"/>
          <p:cNvGrpSpPr/>
          <p:nvPr/>
        </p:nvGrpSpPr>
        <p:grpSpPr>
          <a:xfrm>
            <a:off x="6246000" y="3830760"/>
            <a:ext cx="333000" cy="177840"/>
            <a:chOff x="6246000" y="3830760"/>
            <a:chExt cx="333000" cy="177840"/>
          </a:xfrm>
        </p:grpSpPr>
        <p:cxnSp>
          <p:nvCxnSpPr>
            <p:cNvPr id="462" name="直接连接符 178"/>
            <p:cNvCxnSpPr/>
            <p:nvPr/>
          </p:nvCxnSpPr>
          <p:spPr>
            <a:xfrm>
              <a:off x="6268320" y="3830760"/>
              <a:ext cx="288360" cy="360"/>
            </a:xfrm>
            <a:prstGeom prst="straightConnector1">
              <a:avLst/>
            </a:prstGeom>
            <a:ln>
              <a:solidFill>
                <a:srgbClr val="2d2d2d"/>
              </a:solidFill>
            </a:ln>
          </p:spPr>
        </p:cxnSp>
        <p:cxnSp>
          <p:nvCxnSpPr>
            <p:cNvPr id="463" name="直接连接符 179"/>
            <p:cNvCxnSpPr/>
            <p:nvPr/>
          </p:nvCxnSpPr>
          <p:spPr>
            <a:xfrm>
              <a:off x="6278040" y="3896280"/>
              <a:ext cx="288000" cy="360"/>
            </a:xfrm>
            <a:prstGeom prst="straightConnector1">
              <a:avLst/>
            </a:prstGeom>
            <a:ln>
              <a:solidFill>
                <a:srgbClr val="2d2d2d"/>
              </a:solidFill>
            </a:ln>
          </p:spPr>
        </p:cxnSp>
        <p:cxnSp>
          <p:nvCxnSpPr>
            <p:cNvPr id="464" name="直接连接符 180"/>
            <p:cNvCxnSpPr/>
            <p:nvPr/>
          </p:nvCxnSpPr>
          <p:spPr>
            <a:xfrm>
              <a:off x="6246000" y="3954600"/>
              <a:ext cx="288000" cy="360"/>
            </a:xfrm>
            <a:prstGeom prst="straightConnector1">
              <a:avLst/>
            </a:prstGeom>
            <a:ln>
              <a:solidFill>
                <a:srgbClr val="2d2d2d"/>
              </a:solidFill>
            </a:ln>
          </p:spPr>
        </p:cxnSp>
        <p:cxnSp>
          <p:nvCxnSpPr>
            <p:cNvPr id="465" name="直接连接符 181"/>
            <p:cNvCxnSpPr/>
            <p:nvPr/>
          </p:nvCxnSpPr>
          <p:spPr>
            <a:xfrm>
              <a:off x="6291000" y="4008600"/>
              <a:ext cx="288360" cy="360"/>
            </a:xfrm>
            <a:prstGeom prst="straightConnector1">
              <a:avLst/>
            </a:prstGeom>
            <a:ln>
              <a:solidFill>
                <a:srgbClr val="2d2d2d"/>
              </a:solidFill>
            </a:ln>
          </p:spPr>
        </p:cxnSp>
      </p:grpSp>
      <p:sp>
        <p:nvSpPr>
          <p:cNvPr id="466" name="文本框 1"/>
          <p:cNvSpPr/>
          <p:nvPr/>
        </p:nvSpPr>
        <p:spPr>
          <a:xfrm>
            <a:off x="3837600" y="821160"/>
            <a:ext cx="487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有很多，但杀死他们的方法都是不约而同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等腰三角形 141"/>
          <p:cNvSpPr/>
          <p:nvPr/>
        </p:nvSpPr>
        <p:spPr>
          <a:xfrm rot="10800000">
            <a:off x="5616360" y="1404000"/>
            <a:ext cx="960120" cy="6278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468" name="梯形 152"/>
          <p:cNvSpPr/>
          <p:nvPr/>
        </p:nvSpPr>
        <p:spPr>
          <a:xfrm>
            <a:off x="0" y="-4320"/>
            <a:ext cx="12191760" cy="536400"/>
          </a:xfrm>
          <a:prstGeom prst="trapezoid">
            <a:avLst>
              <a:gd name="adj" fmla="val 129625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矩形 22"/>
          <p:cNvSpPr/>
          <p:nvPr/>
        </p:nvSpPr>
        <p:spPr>
          <a:xfrm>
            <a:off x="0" y="6319080"/>
            <a:ext cx="12191760" cy="53856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1238760" y="1742040"/>
            <a:ext cx="4393440" cy="3745080"/>
            <a:chOff x="1238760" y="1742040"/>
            <a:chExt cx="4393440" cy="3745080"/>
          </a:xfrm>
        </p:grpSpPr>
        <p:sp>
          <p:nvSpPr>
            <p:cNvPr id="471" name="Freeform 5"/>
            <p:cNvSpPr/>
            <p:nvPr/>
          </p:nvSpPr>
          <p:spPr>
            <a:xfrm>
              <a:off x="1238760" y="1742040"/>
              <a:ext cx="3556440" cy="2885040"/>
            </a:xfrm>
            <a:custGeom>
              <a:avLst/>
              <a:gdLst>
                <a:gd name="textAreaLeft" fmla="*/ 0 w 3556440"/>
                <a:gd name="textAreaRight" fmla="*/ 3556800 w 3556440"/>
                <a:gd name="textAreaTop" fmla="*/ 0 h 2885040"/>
                <a:gd name="textAreaBottom" fmla="*/ 2885400 h 2885040"/>
              </a:gdLst>
              <a:ahLst/>
              <a:rect l="textAreaLeft" t="textAreaTop" r="textAreaRight" b="textAreaBottom"/>
              <a:pathLst>
                <a:path w="1059" h="859">
                  <a:moveTo>
                    <a:pt x="299" y="56"/>
                  </a:moveTo>
                  <a:cubicBezTo>
                    <a:pt x="389" y="25"/>
                    <a:pt x="482" y="6"/>
                    <a:pt x="577" y="2"/>
                  </a:cubicBezTo>
                  <a:cubicBezTo>
                    <a:pt x="654" y="1"/>
                    <a:pt x="733" y="0"/>
                    <a:pt x="809" y="17"/>
                  </a:cubicBezTo>
                  <a:cubicBezTo>
                    <a:pt x="882" y="34"/>
                    <a:pt x="953" y="64"/>
                    <a:pt x="1014" y="108"/>
                  </a:cubicBezTo>
                  <a:cubicBezTo>
                    <a:pt x="1030" y="120"/>
                    <a:pt x="1043" y="134"/>
                    <a:pt x="1059" y="145"/>
                  </a:cubicBezTo>
                  <a:cubicBezTo>
                    <a:pt x="1054" y="151"/>
                    <a:pt x="1049" y="157"/>
                    <a:pt x="1043" y="163"/>
                  </a:cubicBezTo>
                  <a:cubicBezTo>
                    <a:pt x="1032" y="153"/>
                    <a:pt x="1023" y="140"/>
                    <a:pt x="1009" y="135"/>
                  </a:cubicBezTo>
                  <a:cubicBezTo>
                    <a:pt x="998" y="130"/>
                    <a:pt x="985" y="137"/>
                    <a:pt x="980" y="147"/>
                  </a:cubicBezTo>
                  <a:cubicBezTo>
                    <a:pt x="973" y="159"/>
                    <a:pt x="976" y="173"/>
                    <a:pt x="975" y="186"/>
                  </a:cubicBezTo>
                  <a:cubicBezTo>
                    <a:pt x="971" y="173"/>
                    <a:pt x="966" y="159"/>
                    <a:pt x="966" y="144"/>
                  </a:cubicBezTo>
                  <a:cubicBezTo>
                    <a:pt x="967" y="132"/>
                    <a:pt x="975" y="121"/>
                    <a:pt x="976" y="108"/>
                  </a:cubicBezTo>
                  <a:cubicBezTo>
                    <a:pt x="972" y="100"/>
                    <a:pt x="963" y="102"/>
                    <a:pt x="956" y="104"/>
                  </a:cubicBezTo>
                  <a:cubicBezTo>
                    <a:pt x="941" y="108"/>
                    <a:pt x="932" y="122"/>
                    <a:pt x="917" y="126"/>
                  </a:cubicBezTo>
                  <a:cubicBezTo>
                    <a:pt x="895" y="125"/>
                    <a:pt x="879" y="109"/>
                    <a:pt x="866" y="93"/>
                  </a:cubicBezTo>
                  <a:cubicBezTo>
                    <a:pt x="881" y="101"/>
                    <a:pt x="896" y="112"/>
                    <a:pt x="913" y="112"/>
                  </a:cubicBezTo>
                  <a:cubicBezTo>
                    <a:pt x="925" y="111"/>
                    <a:pt x="935" y="105"/>
                    <a:pt x="945" y="99"/>
                  </a:cubicBezTo>
                  <a:cubicBezTo>
                    <a:pt x="942" y="88"/>
                    <a:pt x="932" y="80"/>
                    <a:pt x="920" y="78"/>
                  </a:cubicBezTo>
                  <a:cubicBezTo>
                    <a:pt x="889" y="69"/>
                    <a:pt x="852" y="69"/>
                    <a:pt x="824" y="87"/>
                  </a:cubicBezTo>
                  <a:cubicBezTo>
                    <a:pt x="816" y="92"/>
                    <a:pt x="815" y="102"/>
                    <a:pt x="814" y="110"/>
                  </a:cubicBezTo>
                  <a:cubicBezTo>
                    <a:pt x="777" y="112"/>
                    <a:pt x="739" y="125"/>
                    <a:pt x="712" y="152"/>
                  </a:cubicBezTo>
                  <a:cubicBezTo>
                    <a:pt x="706" y="158"/>
                    <a:pt x="698" y="167"/>
                    <a:pt x="702" y="176"/>
                  </a:cubicBezTo>
                  <a:cubicBezTo>
                    <a:pt x="709" y="188"/>
                    <a:pt x="724" y="191"/>
                    <a:pt x="731" y="203"/>
                  </a:cubicBezTo>
                  <a:cubicBezTo>
                    <a:pt x="735" y="211"/>
                    <a:pt x="728" y="218"/>
                    <a:pt x="721" y="222"/>
                  </a:cubicBezTo>
                  <a:cubicBezTo>
                    <a:pt x="698" y="233"/>
                    <a:pt x="670" y="231"/>
                    <a:pt x="646" y="242"/>
                  </a:cubicBezTo>
                  <a:cubicBezTo>
                    <a:pt x="627" y="252"/>
                    <a:pt x="617" y="273"/>
                    <a:pt x="607" y="291"/>
                  </a:cubicBezTo>
                  <a:cubicBezTo>
                    <a:pt x="591" y="322"/>
                    <a:pt x="577" y="357"/>
                    <a:pt x="580" y="393"/>
                  </a:cubicBezTo>
                  <a:cubicBezTo>
                    <a:pt x="580" y="410"/>
                    <a:pt x="590" y="425"/>
                    <a:pt x="603" y="436"/>
                  </a:cubicBezTo>
                  <a:cubicBezTo>
                    <a:pt x="596" y="450"/>
                    <a:pt x="584" y="467"/>
                    <a:pt x="591" y="483"/>
                  </a:cubicBezTo>
                  <a:cubicBezTo>
                    <a:pt x="592" y="484"/>
                    <a:pt x="596" y="486"/>
                    <a:pt x="597" y="487"/>
                  </a:cubicBezTo>
                  <a:cubicBezTo>
                    <a:pt x="618" y="476"/>
                    <a:pt x="636" y="460"/>
                    <a:pt x="657" y="449"/>
                  </a:cubicBezTo>
                  <a:cubicBezTo>
                    <a:pt x="678" y="436"/>
                    <a:pt x="705" y="427"/>
                    <a:pt x="716" y="403"/>
                  </a:cubicBezTo>
                  <a:cubicBezTo>
                    <a:pt x="723" y="382"/>
                    <a:pt x="704" y="362"/>
                    <a:pt x="707" y="341"/>
                  </a:cubicBezTo>
                  <a:cubicBezTo>
                    <a:pt x="708" y="331"/>
                    <a:pt x="715" y="324"/>
                    <a:pt x="720" y="316"/>
                  </a:cubicBezTo>
                  <a:cubicBezTo>
                    <a:pt x="709" y="348"/>
                    <a:pt x="724" y="384"/>
                    <a:pt x="751" y="402"/>
                  </a:cubicBezTo>
                  <a:cubicBezTo>
                    <a:pt x="768" y="412"/>
                    <a:pt x="790" y="411"/>
                    <a:pt x="809" y="410"/>
                  </a:cubicBezTo>
                  <a:cubicBezTo>
                    <a:pt x="837" y="407"/>
                    <a:pt x="858" y="385"/>
                    <a:pt x="868" y="360"/>
                  </a:cubicBezTo>
                  <a:cubicBezTo>
                    <a:pt x="882" y="330"/>
                    <a:pt x="883" y="288"/>
                    <a:pt x="918" y="273"/>
                  </a:cubicBezTo>
                  <a:cubicBezTo>
                    <a:pt x="904" y="289"/>
                    <a:pt x="890" y="307"/>
                    <a:pt x="887" y="329"/>
                  </a:cubicBezTo>
                  <a:cubicBezTo>
                    <a:pt x="885" y="341"/>
                    <a:pt x="887" y="353"/>
                    <a:pt x="884" y="364"/>
                  </a:cubicBezTo>
                  <a:cubicBezTo>
                    <a:pt x="874" y="388"/>
                    <a:pt x="845" y="398"/>
                    <a:pt x="836" y="423"/>
                  </a:cubicBezTo>
                  <a:cubicBezTo>
                    <a:pt x="856" y="435"/>
                    <a:pt x="870" y="458"/>
                    <a:pt x="864" y="481"/>
                  </a:cubicBezTo>
                  <a:cubicBezTo>
                    <a:pt x="860" y="467"/>
                    <a:pt x="854" y="452"/>
                    <a:pt x="841" y="444"/>
                  </a:cubicBezTo>
                  <a:cubicBezTo>
                    <a:pt x="825" y="432"/>
                    <a:pt x="804" y="434"/>
                    <a:pt x="785" y="433"/>
                  </a:cubicBezTo>
                  <a:cubicBezTo>
                    <a:pt x="761" y="431"/>
                    <a:pt x="736" y="428"/>
                    <a:pt x="713" y="439"/>
                  </a:cubicBezTo>
                  <a:cubicBezTo>
                    <a:pt x="664" y="461"/>
                    <a:pt x="625" y="499"/>
                    <a:pt x="582" y="530"/>
                  </a:cubicBezTo>
                  <a:cubicBezTo>
                    <a:pt x="546" y="546"/>
                    <a:pt x="527" y="587"/>
                    <a:pt x="530" y="625"/>
                  </a:cubicBezTo>
                  <a:cubicBezTo>
                    <a:pt x="524" y="642"/>
                    <a:pt x="533" y="661"/>
                    <a:pt x="545" y="673"/>
                  </a:cubicBezTo>
                  <a:cubicBezTo>
                    <a:pt x="561" y="666"/>
                    <a:pt x="570" y="651"/>
                    <a:pt x="576" y="636"/>
                  </a:cubicBezTo>
                  <a:cubicBezTo>
                    <a:pt x="579" y="658"/>
                    <a:pt x="558" y="671"/>
                    <a:pt x="549" y="689"/>
                  </a:cubicBezTo>
                  <a:cubicBezTo>
                    <a:pt x="546" y="710"/>
                    <a:pt x="566" y="725"/>
                    <a:pt x="582" y="733"/>
                  </a:cubicBezTo>
                  <a:cubicBezTo>
                    <a:pt x="565" y="734"/>
                    <a:pt x="555" y="720"/>
                    <a:pt x="544" y="710"/>
                  </a:cubicBezTo>
                  <a:cubicBezTo>
                    <a:pt x="515" y="705"/>
                    <a:pt x="490" y="725"/>
                    <a:pt x="472" y="746"/>
                  </a:cubicBezTo>
                  <a:cubicBezTo>
                    <a:pt x="479" y="724"/>
                    <a:pt x="500" y="709"/>
                    <a:pt x="521" y="701"/>
                  </a:cubicBezTo>
                  <a:cubicBezTo>
                    <a:pt x="529" y="699"/>
                    <a:pt x="536" y="689"/>
                    <a:pt x="532" y="681"/>
                  </a:cubicBezTo>
                  <a:cubicBezTo>
                    <a:pt x="525" y="664"/>
                    <a:pt x="512" y="648"/>
                    <a:pt x="514" y="629"/>
                  </a:cubicBezTo>
                  <a:cubicBezTo>
                    <a:pt x="512" y="605"/>
                    <a:pt x="509" y="582"/>
                    <a:pt x="511" y="558"/>
                  </a:cubicBezTo>
                  <a:cubicBezTo>
                    <a:pt x="512" y="558"/>
                    <a:pt x="512" y="558"/>
                    <a:pt x="512" y="558"/>
                  </a:cubicBezTo>
                  <a:cubicBezTo>
                    <a:pt x="511" y="574"/>
                    <a:pt x="511" y="590"/>
                    <a:pt x="513" y="606"/>
                  </a:cubicBezTo>
                  <a:cubicBezTo>
                    <a:pt x="518" y="585"/>
                    <a:pt x="531" y="565"/>
                    <a:pt x="527" y="543"/>
                  </a:cubicBezTo>
                  <a:cubicBezTo>
                    <a:pt x="523" y="537"/>
                    <a:pt x="515" y="539"/>
                    <a:pt x="509" y="537"/>
                  </a:cubicBezTo>
                  <a:cubicBezTo>
                    <a:pt x="497" y="534"/>
                    <a:pt x="485" y="534"/>
                    <a:pt x="474" y="534"/>
                  </a:cubicBezTo>
                  <a:cubicBezTo>
                    <a:pt x="474" y="526"/>
                    <a:pt x="474" y="519"/>
                    <a:pt x="474" y="511"/>
                  </a:cubicBezTo>
                  <a:cubicBezTo>
                    <a:pt x="486" y="512"/>
                    <a:pt x="498" y="515"/>
                    <a:pt x="510" y="515"/>
                  </a:cubicBezTo>
                  <a:cubicBezTo>
                    <a:pt x="516" y="515"/>
                    <a:pt x="518" y="505"/>
                    <a:pt x="523" y="513"/>
                  </a:cubicBezTo>
                  <a:cubicBezTo>
                    <a:pt x="524" y="510"/>
                    <a:pt x="525" y="504"/>
                    <a:pt x="525" y="500"/>
                  </a:cubicBezTo>
                  <a:cubicBezTo>
                    <a:pt x="526" y="504"/>
                    <a:pt x="526" y="512"/>
                    <a:pt x="527" y="515"/>
                  </a:cubicBezTo>
                  <a:cubicBezTo>
                    <a:pt x="557" y="510"/>
                    <a:pt x="578" y="481"/>
                    <a:pt x="585" y="453"/>
                  </a:cubicBezTo>
                  <a:cubicBezTo>
                    <a:pt x="592" y="431"/>
                    <a:pt x="569" y="417"/>
                    <a:pt x="566" y="397"/>
                  </a:cubicBezTo>
                  <a:cubicBezTo>
                    <a:pt x="557" y="365"/>
                    <a:pt x="568" y="333"/>
                    <a:pt x="574" y="301"/>
                  </a:cubicBezTo>
                  <a:cubicBezTo>
                    <a:pt x="582" y="262"/>
                    <a:pt x="613" y="230"/>
                    <a:pt x="652" y="222"/>
                  </a:cubicBezTo>
                  <a:cubicBezTo>
                    <a:pt x="664" y="219"/>
                    <a:pt x="680" y="220"/>
                    <a:pt x="687" y="207"/>
                  </a:cubicBezTo>
                  <a:cubicBezTo>
                    <a:pt x="695" y="185"/>
                    <a:pt x="683" y="158"/>
                    <a:pt x="661" y="149"/>
                  </a:cubicBezTo>
                  <a:cubicBezTo>
                    <a:pt x="670" y="151"/>
                    <a:pt x="679" y="154"/>
                    <a:pt x="687" y="159"/>
                  </a:cubicBezTo>
                  <a:cubicBezTo>
                    <a:pt x="702" y="135"/>
                    <a:pt x="727" y="120"/>
                    <a:pt x="753" y="112"/>
                  </a:cubicBezTo>
                  <a:cubicBezTo>
                    <a:pt x="773" y="105"/>
                    <a:pt x="796" y="103"/>
                    <a:pt x="812" y="87"/>
                  </a:cubicBezTo>
                  <a:cubicBezTo>
                    <a:pt x="818" y="80"/>
                    <a:pt x="810" y="72"/>
                    <a:pt x="806" y="66"/>
                  </a:cubicBezTo>
                  <a:cubicBezTo>
                    <a:pt x="821" y="71"/>
                    <a:pt x="840" y="73"/>
                    <a:pt x="852" y="60"/>
                  </a:cubicBezTo>
                  <a:cubicBezTo>
                    <a:pt x="845" y="47"/>
                    <a:pt x="831" y="41"/>
                    <a:pt x="817" y="40"/>
                  </a:cubicBezTo>
                  <a:cubicBezTo>
                    <a:pt x="785" y="36"/>
                    <a:pt x="756" y="59"/>
                    <a:pt x="724" y="53"/>
                  </a:cubicBezTo>
                  <a:cubicBezTo>
                    <a:pt x="730" y="49"/>
                    <a:pt x="736" y="46"/>
                    <a:pt x="740" y="41"/>
                  </a:cubicBezTo>
                  <a:cubicBezTo>
                    <a:pt x="744" y="33"/>
                    <a:pt x="733" y="29"/>
                    <a:pt x="728" y="26"/>
                  </a:cubicBezTo>
                  <a:cubicBezTo>
                    <a:pt x="701" y="15"/>
                    <a:pt x="670" y="14"/>
                    <a:pt x="641" y="14"/>
                  </a:cubicBezTo>
                  <a:cubicBezTo>
                    <a:pt x="618" y="15"/>
                    <a:pt x="590" y="15"/>
                    <a:pt x="574" y="34"/>
                  </a:cubicBezTo>
                  <a:cubicBezTo>
                    <a:pt x="566" y="44"/>
                    <a:pt x="570" y="56"/>
                    <a:pt x="572" y="67"/>
                  </a:cubicBezTo>
                  <a:cubicBezTo>
                    <a:pt x="563" y="59"/>
                    <a:pt x="560" y="48"/>
                    <a:pt x="557" y="37"/>
                  </a:cubicBezTo>
                  <a:cubicBezTo>
                    <a:pt x="556" y="32"/>
                    <a:pt x="549" y="30"/>
                    <a:pt x="545" y="31"/>
                  </a:cubicBezTo>
                  <a:cubicBezTo>
                    <a:pt x="524" y="32"/>
                    <a:pt x="504" y="45"/>
                    <a:pt x="496" y="65"/>
                  </a:cubicBezTo>
                  <a:cubicBezTo>
                    <a:pt x="472" y="65"/>
                    <a:pt x="448" y="70"/>
                    <a:pt x="428" y="83"/>
                  </a:cubicBezTo>
                  <a:cubicBezTo>
                    <a:pt x="439" y="68"/>
                    <a:pt x="458" y="58"/>
                    <a:pt x="477" y="57"/>
                  </a:cubicBezTo>
                  <a:cubicBezTo>
                    <a:pt x="488" y="57"/>
                    <a:pt x="502" y="48"/>
                    <a:pt x="501" y="35"/>
                  </a:cubicBezTo>
                  <a:cubicBezTo>
                    <a:pt x="458" y="34"/>
                    <a:pt x="416" y="47"/>
                    <a:pt x="375" y="59"/>
                  </a:cubicBezTo>
                  <a:cubicBezTo>
                    <a:pt x="355" y="62"/>
                    <a:pt x="336" y="75"/>
                    <a:pt x="333" y="96"/>
                  </a:cubicBezTo>
                  <a:cubicBezTo>
                    <a:pt x="350" y="100"/>
                    <a:pt x="368" y="95"/>
                    <a:pt x="383" y="102"/>
                  </a:cubicBezTo>
                  <a:cubicBezTo>
                    <a:pt x="397" y="107"/>
                    <a:pt x="406" y="121"/>
                    <a:pt x="405" y="135"/>
                  </a:cubicBezTo>
                  <a:cubicBezTo>
                    <a:pt x="414" y="125"/>
                    <a:pt x="425" y="116"/>
                    <a:pt x="438" y="112"/>
                  </a:cubicBezTo>
                  <a:cubicBezTo>
                    <a:pt x="420" y="127"/>
                    <a:pt x="403" y="145"/>
                    <a:pt x="400" y="169"/>
                  </a:cubicBezTo>
                  <a:cubicBezTo>
                    <a:pt x="397" y="184"/>
                    <a:pt x="412" y="192"/>
                    <a:pt x="421" y="200"/>
                  </a:cubicBezTo>
                  <a:cubicBezTo>
                    <a:pt x="434" y="209"/>
                    <a:pt x="442" y="222"/>
                    <a:pt x="453" y="232"/>
                  </a:cubicBezTo>
                  <a:cubicBezTo>
                    <a:pt x="468" y="240"/>
                    <a:pt x="491" y="234"/>
                    <a:pt x="496" y="217"/>
                  </a:cubicBezTo>
                  <a:cubicBezTo>
                    <a:pt x="498" y="198"/>
                    <a:pt x="488" y="180"/>
                    <a:pt x="494" y="161"/>
                  </a:cubicBezTo>
                  <a:cubicBezTo>
                    <a:pt x="501" y="138"/>
                    <a:pt x="511" y="113"/>
                    <a:pt x="503" y="89"/>
                  </a:cubicBezTo>
                  <a:cubicBezTo>
                    <a:pt x="511" y="102"/>
                    <a:pt x="518" y="117"/>
                    <a:pt x="515" y="132"/>
                  </a:cubicBezTo>
                  <a:cubicBezTo>
                    <a:pt x="512" y="155"/>
                    <a:pt x="499" y="178"/>
                    <a:pt x="510" y="200"/>
                  </a:cubicBezTo>
                  <a:cubicBezTo>
                    <a:pt x="514" y="209"/>
                    <a:pt x="525" y="210"/>
                    <a:pt x="533" y="210"/>
                  </a:cubicBezTo>
                  <a:cubicBezTo>
                    <a:pt x="556" y="208"/>
                    <a:pt x="575" y="193"/>
                    <a:pt x="589" y="177"/>
                  </a:cubicBezTo>
                  <a:cubicBezTo>
                    <a:pt x="577" y="209"/>
                    <a:pt x="542" y="221"/>
                    <a:pt x="514" y="234"/>
                  </a:cubicBezTo>
                  <a:cubicBezTo>
                    <a:pt x="499" y="241"/>
                    <a:pt x="481" y="248"/>
                    <a:pt x="475" y="265"/>
                  </a:cubicBezTo>
                  <a:cubicBezTo>
                    <a:pt x="479" y="281"/>
                    <a:pt x="485" y="297"/>
                    <a:pt x="482" y="313"/>
                  </a:cubicBezTo>
                  <a:cubicBezTo>
                    <a:pt x="480" y="329"/>
                    <a:pt x="467" y="345"/>
                    <a:pt x="477" y="360"/>
                  </a:cubicBezTo>
                  <a:cubicBezTo>
                    <a:pt x="490" y="380"/>
                    <a:pt x="502" y="402"/>
                    <a:pt x="500" y="426"/>
                  </a:cubicBezTo>
                  <a:cubicBezTo>
                    <a:pt x="493" y="411"/>
                    <a:pt x="489" y="394"/>
                    <a:pt x="478" y="381"/>
                  </a:cubicBezTo>
                  <a:cubicBezTo>
                    <a:pt x="473" y="375"/>
                    <a:pt x="466" y="373"/>
                    <a:pt x="462" y="367"/>
                  </a:cubicBezTo>
                  <a:cubicBezTo>
                    <a:pt x="454" y="356"/>
                    <a:pt x="443" y="347"/>
                    <a:pt x="434" y="337"/>
                  </a:cubicBezTo>
                  <a:cubicBezTo>
                    <a:pt x="449" y="331"/>
                    <a:pt x="465" y="319"/>
                    <a:pt x="468" y="301"/>
                  </a:cubicBezTo>
                  <a:cubicBezTo>
                    <a:pt x="471" y="284"/>
                    <a:pt x="456" y="271"/>
                    <a:pt x="449" y="257"/>
                  </a:cubicBezTo>
                  <a:cubicBezTo>
                    <a:pt x="439" y="238"/>
                    <a:pt x="429" y="219"/>
                    <a:pt x="411" y="206"/>
                  </a:cubicBezTo>
                  <a:cubicBezTo>
                    <a:pt x="403" y="200"/>
                    <a:pt x="392" y="197"/>
                    <a:pt x="383" y="191"/>
                  </a:cubicBezTo>
                  <a:cubicBezTo>
                    <a:pt x="382" y="171"/>
                    <a:pt x="398" y="153"/>
                    <a:pt x="394" y="133"/>
                  </a:cubicBezTo>
                  <a:cubicBezTo>
                    <a:pt x="394" y="118"/>
                    <a:pt x="379" y="109"/>
                    <a:pt x="365" y="109"/>
                  </a:cubicBezTo>
                  <a:cubicBezTo>
                    <a:pt x="343" y="109"/>
                    <a:pt x="316" y="114"/>
                    <a:pt x="302" y="134"/>
                  </a:cubicBezTo>
                  <a:cubicBezTo>
                    <a:pt x="295" y="142"/>
                    <a:pt x="296" y="155"/>
                    <a:pt x="305" y="161"/>
                  </a:cubicBezTo>
                  <a:cubicBezTo>
                    <a:pt x="316" y="164"/>
                    <a:pt x="327" y="164"/>
                    <a:pt x="337" y="169"/>
                  </a:cubicBezTo>
                  <a:cubicBezTo>
                    <a:pt x="302" y="170"/>
                    <a:pt x="264" y="186"/>
                    <a:pt x="249" y="221"/>
                  </a:cubicBezTo>
                  <a:cubicBezTo>
                    <a:pt x="243" y="235"/>
                    <a:pt x="236" y="254"/>
                    <a:pt x="249" y="266"/>
                  </a:cubicBezTo>
                  <a:cubicBezTo>
                    <a:pt x="268" y="263"/>
                    <a:pt x="287" y="256"/>
                    <a:pt x="307" y="259"/>
                  </a:cubicBezTo>
                  <a:cubicBezTo>
                    <a:pt x="324" y="261"/>
                    <a:pt x="337" y="275"/>
                    <a:pt x="353" y="278"/>
                  </a:cubicBezTo>
                  <a:cubicBezTo>
                    <a:pt x="365" y="281"/>
                    <a:pt x="378" y="280"/>
                    <a:pt x="390" y="280"/>
                  </a:cubicBezTo>
                  <a:cubicBezTo>
                    <a:pt x="378" y="285"/>
                    <a:pt x="366" y="289"/>
                    <a:pt x="353" y="287"/>
                  </a:cubicBezTo>
                  <a:cubicBezTo>
                    <a:pt x="331" y="285"/>
                    <a:pt x="311" y="270"/>
                    <a:pt x="289" y="273"/>
                  </a:cubicBezTo>
                  <a:cubicBezTo>
                    <a:pt x="274" y="274"/>
                    <a:pt x="256" y="280"/>
                    <a:pt x="252" y="296"/>
                  </a:cubicBezTo>
                  <a:cubicBezTo>
                    <a:pt x="246" y="316"/>
                    <a:pt x="247" y="342"/>
                    <a:pt x="227" y="354"/>
                  </a:cubicBezTo>
                  <a:cubicBezTo>
                    <a:pt x="228" y="339"/>
                    <a:pt x="234" y="325"/>
                    <a:pt x="237" y="310"/>
                  </a:cubicBezTo>
                  <a:cubicBezTo>
                    <a:pt x="228" y="312"/>
                    <a:pt x="216" y="313"/>
                    <a:pt x="208" y="306"/>
                  </a:cubicBezTo>
                  <a:cubicBezTo>
                    <a:pt x="197" y="295"/>
                    <a:pt x="187" y="278"/>
                    <a:pt x="169" y="280"/>
                  </a:cubicBezTo>
                  <a:cubicBezTo>
                    <a:pt x="154" y="284"/>
                    <a:pt x="142" y="293"/>
                    <a:pt x="130" y="302"/>
                  </a:cubicBezTo>
                  <a:cubicBezTo>
                    <a:pt x="112" y="316"/>
                    <a:pt x="92" y="329"/>
                    <a:pt x="81" y="349"/>
                  </a:cubicBezTo>
                  <a:cubicBezTo>
                    <a:pt x="67" y="374"/>
                    <a:pt x="57" y="401"/>
                    <a:pt x="55" y="429"/>
                  </a:cubicBezTo>
                  <a:cubicBezTo>
                    <a:pt x="53" y="438"/>
                    <a:pt x="56" y="446"/>
                    <a:pt x="59" y="453"/>
                  </a:cubicBezTo>
                  <a:cubicBezTo>
                    <a:pt x="43" y="457"/>
                    <a:pt x="43" y="476"/>
                    <a:pt x="42" y="489"/>
                  </a:cubicBezTo>
                  <a:cubicBezTo>
                    <a:pt x="43" y="514"/>
                    <a:pt x="44" y="541"/>
                    <a:pt x="54" y="564"/>
                  </a:cubicBezTo>
                  <a:cubicBezTo>
                    <a:pt x="66" y="586"/>
                    <a:pt x="98" y="592"/>
                    <a:pt x="118" y="578"/>
                  </a:cubicBezTo>
                  <a:cubicBezTo>
                    <a:pt x="127" y="567"/>
                    <a:pt x="130" y="553"/>
                    <a:pt x="136" y="541"/>
                  </a:cubicBezTo>
                  <a:cubicBezTo>
                    <a:pt x="135" y="553"/>
                    <a:pt x="134" y="566"/>
                    <a:pt x="141" y="576"/>
                  </a:cubicBezTo>
                  <a:cubicBezTo>
                    <a:pt x="153" y="595"/>
                    <a:pt x="175" y="603"/>
                    <a:pt x="194" y="612"/>
                  </a:cubicBezTo>
                  <a:cubicBezTo>
                    <a:pt x="215" y="619"/>
                    <a:pt x="235" y="630"/>
                    <a:pt x="257" y="631"/>
                  </a:cubicBezTo>
                  <a:cubicBezTo>
                    <a:pt x="277" y="632"/>
                    <a:pt x="299" y="628"/>
                    <a:pt x="312" y="612"/>
                  </a:cubicBezTo>
                  <a:cubicBezTo>
                    <a:pt x="327" y="593"/>
                    <a:pt x="346" y="579"/>
                    <a:pt x="362" y="562"/>
                  </a:cubicBezTo>
                  <a:cubicBezTo>
                    <a:pt x="369" y="572"/>
                    <a:pt x="366" y="585"/>
                    <a:pt x="368" y="597"/>
                  </a:cubicBezTo>
                  <a:cubicBezTo>
                    <a:pt x="351" y="615"/>
                    <a:pt x="328" y="626"/>
                    <a:pt x="316" y="648"/>
                  </a:cubicBezTo>
                  <a:cubicBezTo>
                    <a:pt x="296" y="677"/>
                    <a:pt x="302" y="715"/>
                    <a:pt x="316" y="746"/>
                  </a:cubicBezTo>
                  <a:cubicBezTo>
                    <a:pt x="333" y="773"/>
                    <a:pt x="360" y="793"/>
                    <a:pt x="389" y="805"/>
                  </a:cubicBezTo>
                  <a:cubicBezTo>
                    <a:pt x="378" y="806"/>
                    <a:pt x="367" y="806"/>
                    <a:pt x="357" y="802"/>
                  </a:cubicBezTo>
                  <a:cubicBezTo>
                    <a:pt x="349" y="800"/>
                    <a:pt x="341" y="793"/>
                    <a:pt x="334" y="799"/>
                  </a:cubicBezTo>
                  <a:cubicBezTo>
                    <a:pt x="331" y="819"/>
                    <a:pt x="352" y="830"/>
                    <a:pt x="365" y="841"/>
                  </a:cubicBezTo>
                  <a:cubicBezTo>
                    <a:pt x="358" y="847"/>
                    <a:pt x="352" y="854"/>
                    <a:pt x="345" y="859"/>
                  </a:cubicBezTo>
                  <a:cubicBezTo>
                    <a:pt x="325" y="846"/>
                    <a:pt x="307" y="829"/>
                    <a:pt x="299" y="805"/>
                  </a:cubicBezTo>
                  <a:cubicBezTo>
                    <a:pt x="289" y="779"/>
                    <a:pt x="301" y="750"/>
                    <a:pt x="291" y="723"/>
                  </a:cubicBezTo>
                  <a:cubicBezTo>
                    <a:pt x="288" y="713"/>
                    <a:pt x="284" y="704"/>
                    <a:pt x="281" y="694"/>
                  </a:cubicBezTo>
                  <a:cubicBezTo>
                    <a:pt x="238" y="697"/>
                    <a:pt x="194" y="690"/>
                    <a:pt x="153" y="677"/>
                  </a:cubicBezTo>
                  <a:cubicBezTo>
                    <a:pt x="131" y="670"/>
                    <a:pt x="108" y="662"/>
                    <a:pt x="89" y="647"/>
                  </a:cubicBezTo>
                  <a:cubicBezTo>
                    <a:pt x="59" y="623"/>
                    <a:pt x="36" y="589"/>
                    <a:pt x="26" y="552"/>
                  </a:cubicBezTo>
                  <a:cubicBezTo>
                    <a:pt x="14" y="499"/>
                    <a:pt x="0" y="444"/>
                    <a:pt x="11" y="389"/>
                  </a:cubicBezTo>
                  <a:cubicBezTo>
                    <a:pt x="20" y="353"/>
                    <a:pt x="29" y="316"/>
                    <a:pt x="46" y="282"/>
                  </a:cubicBezTo>
                  <a:cubicBezTo>
                    <a:pt x="60" y="253"/>
                    <a:pt x="83" y="228"/>
                    <a:pt x="101" y="201"/>
                  </a:cubicBezTo>
                  <a:cubicBezTo>
                    <a:pt x="130" y="167"/>
                    <a:pt x="163" y="138"/>
                    <a:pt x="200" y="113"/>
                  </a:cubicBezTo>
                  <a:cubicBezTo>
                    <a:pt x="231" y="91"/>
                    <a:pt x="263" y="68"/>
                    <a:pt x="299" y="56"/>
                  </a:cubicBezTo>
                  <a:close/>
                  <a:moveTo>
                    <a:pt x="263" y="99"/>
                  </a:moveTo>
                  <a:cubicBezTo>
                    <a:pt x="234" y="124"/>
                    <a:pt x="200" y="140"/>
                    <a:pt x="169" y="161"/>
                  </a:cubicBezTo>
                  <a:cubicBezTo>
                    <a:pt x="153" y="172"/>
                    <a:pt x="133" y="182"/>
                    <a:pt x="126" y="201"/>
                  </a:cubicBezTo>
                  <a:cubicBezTo>
                    <a:pt x="123" y="209"/>
                    <a:pt x="135" y="211"/>
                    <a:pt x="140" y="207"/>
                  </a:cubicBezTo>
                  <a:cubicBezTo>
                    <a:pt x="154" y="200"/>
                    <a:pt x="164" y="186"/>
                    <a:pt x="177" y="177"/>
                  </a:cubicBezTo>
                  <a:cubicBezTo>
                    <a:pt x="191" y="167"/>
                    <a:pt x="209" y="167"/>
                    <a:pt x="225" y="167"/>
                  </a:cubicBezTo>
                  <a:cubicBezTo>
                    <a:pt x="199" y="177"/>
                    <a:pt x="165" y="185"/>
                    <a:pt x="155" y="216"/>
                  </a:cubicBezTo>
                  <a:cubicBezTo>
                    <a:pt x="128" y="219"/>
                    <a:pt x="108" y="239"/>
                    <a:pt x="92" y="259"/>
                  </a:cubicBezTo>
                  <a:cubicBezTo>
                    <a:pt x="80" y="274"/>
                    <a:pt x="66" y="290"/>
                    <a:pt x="61" y="309"/>
                  </a:cubicBezTo>
                  <a:cubicBezTo>
                    <a:pt x="60" y="321"/>
                    <a:pt x="72" y="326"/>
                    <a:pt x="81" y="327"/>
                  </a:cubicBezTo>
                  <a:cubicBezTo>
                    <a:pt x="105" y="298"/>
                    <a:pt x="138" y="272"/>
                    <a:pt x="177" y="271"/>
                  </a:cubicBezTo>
                  <a:cubicBezTo>
                    <a:pt x="194" y="271"/>
                    <a:pt x="203" y="288"/>
                    <a:pt x="217" y="294"/>
                  </a:cubicBezTo>
                  <a:cubicBezTo>
                    <a:pt x="229" y="294"/>
                    <a:pt x="240" y="281"/>
                    <a:pt x="236" y="269"/>
                  </a:cubicBezTo>
                  <a:cubicBezTo>
                    <a:pt x="232" y="254"/>
                    <a:pt x="219" y="243"/>
                    <a:pt x="204" y="239"/>
                  </a:cubicBezTo>
                  <a:cubicBezTo>
                    <a:pt x="186" y="235"/>
                    <a:pt x="166" y="238"/>
                    <a:pt x="148" y="242"/>
                  </a:cubicBezTo>
                  <a:cubicBezTo>
                    <a:pt x="168" y="228"/>
                    <a:pt x="194" y="231"/>
                    <a:pt x="217" y="225"/>
                  </a:cubicBezTo>
                  <a:cubicBezTo>
                    <a:pt x="233" y="222"/>
                    <a:pt x="239" y="205"/>
                    <a:pt x="251" y="195"/>
                  </a:cubicBezTo>
                  <a:cubicBezTo>
                    <a:pt x="263" y="183"/>
                    <a:pt x="282" y="176"/>
                    <a:pt x="285" y="158"/>
                  </a:cubicBezTo>
                  <a:cubicBezTo>
                    <a:pt x="288" y="144"/>
                    <a:pt x="281" y="131"/>
                    <a:pt x="270" y="124"/>
                  </a:cubicBezTo>
                  <a:cubicBezTo>
                    <a:pt x="286" y="126"/>
                    <a:pt x="303" y="122"/>
                    <a:pt x="312" y="108"/>
                  </a:cubicBezTo>
                  <a:cubicBezTo>
                    <a:pt x="319" y="96"/>
                    <a:pt x="331" y="84"/>
                    <a:pt x="328" y="69"/>
                  </a:cubicBezTo>
                  <a:cubicBezTo>
                    <a:pt x="304" y="74"/>
                    <a:pt x="281" y="83"/>
                    <a:pt x="263" y="99"/>
                  </a:cubicBezTo>
                  <a:close/>
                  <a:moveTo>
                    <a:pt x="49" y="332"/>
                  </a:moveTo>
                  <a:cubicBezTo>
                    <a:pt x="38" y="359"/>
                    <a:pt x="27" y="387"/>
                    <a:pt x="26" y="417"/>
                  </a:cubicBezTo>
                  <a:cubicBezTo>
                    <a:pt x="24" y="439"/>
                    <a:pt x="28" y="460"/>
                    <a:pt x="32" y="482"/>
                  </a:cubicBezTo>
                  <a:cubicBezTo>
                    <a:pt x="37" y="456"/>
                    <a:pt x="38" y="430"/>
                    <a:pt x="45" y="405"/>
                  </a:cubicBezTo>
                  <a:cubicBezTo>
                    <a:pt x="51" y="385"/>
                    <a:pt x="59" y="366"/>
                    <a:pt x="61" y="345"/>
                  </a:cubicBezTo>
                  <a:cubicBezTo>
                    <a:pt x="62" y="337"/>
                    <a:pt x="55" y="334"/>
                    <a:pt x="49" y="332"/>
                  </a:cubicBezTo>
                  <a:close/>
                  <a:moveTo>
                    <a:pt x="67" y="595"/>
                  </a:moveTo>
                  <a:cubicBezTo>
                    <a:pt x="77" y="607"/>
                    <a:pt x="85" y="621"/>
                    <a:pt x="99" y="628"/>
                  </a:cubicBezTo>
                  <a:cubicBezTo>
                    <a:pt x="123" y="635"/>
                    <a:pt x="149" y="631"/>
                    <a:pt x="174" y="626"/>
                  </a:cubicBezTo>
                  <a:cubicBezTo>
                    <a:pt x="163" y="613"/>
                    <a:pt x="149" y="603"/>
                    <a:pt x="132" y="598"/>
                  </a:cubicBezTo>
                  <a:cubicBezTo>
                    <a:pt x="111" y="595"/>
                    <a:pt x="89" y="600"/>
                    <a:pt x="67" y="595"/>
                  </a:cubicBezTo>
                  <a:close/>
                  <a:moveTo>
                    <a:pt x="159" y="648"/>
                  </a:moveTo>
                  <a:cubicBezTo>
                    <a:pt x="185" y="664"/>
                    <a:pt x="216" y="668"/>
                    <a:pt x="245" y="665"/>
                  </a:cubicBezTo>
                  <a:cubicBezTo>
                    <a:pt x="256" y="664"/>
                    <a:pt x="271" y="662"/>
                    <a:pt x="275" y="649"/>
                  </a:cubicBezTo>
                  <a:cubicBezTo>
                    <a:pt x="266" y="646"/>
                    <a:pt x="258" y="643"/>
                    <a:pt x="249" y="644"/>
                  </a:cubicBezTo>
                  <a:cubicBezTo>
                    <a:pt x="226" y="646"/>
                    <a:pt x="202" y="642"/>
                    <a:pt x="181" y="630"/>
                  </a:cubicBezTo>
                  <a:cubicBezTo>
                    <a:pt x="172" y="634"/>
                    <a:pt x="163" y="639"/>
                    <a:pt x="159" y="6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>
              <a:off x="3090600" y="1866600"/>
              <a:ext cx="478800" cy="34668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143" h="103">
                  <a:moveTo>
                    <a:pt x="51" y="67"/>
                  </a:moveTo>
                  <a:cubicBezTo>
                    <a:pt x="41" y="43"/>
                    <a:pt x="52" y="15"/>
                    <a:pt x="73" y="0"/>
                  </a:cubicBezTo>
                  <a:cubicBezTo>
                    <a:pt x="65" y="12"/>
                    <a:pt x="56" y="25"/>
                    <a:pt x="58" y="40"/>
                  </a:cubicBezTo>
                  <a:cubicBezTo>
                    <a:pt x="59" y="52"/>
                    <a:pt x="69" y="66"/>
                    <a:pt x="82" y="63"/>
                  </a:cubicBezTo>
                  <a:cubicBezTo>
                    <a:pt x="93" y="62"/>
                    <a:pt x="97" y="51"/>
                    <a:pt x="103" y="44"/>
                  </a:cubicBezTo>
                  <a:cubicBezTo>
                    <a:pt x="112" y="31"/>
                    <a:pt x="127" y="23"/>
                    <a:pt x="143" y="24"/>
                  </a:cubicBezTo>
                  <a:cubicBezTo>
                    <a:pt x="129" y="30"/>
                    <a:pt x="116" y="40"/>
                    <a:pt x="107" y="53"/>
                  </a:cubicBezTo>
                  <a:cubicBezTo>
                    <a:pt x="97" y="68"/>
                    <a:pt x="84" y="83"/>
                    <a:pt x="84" y="103"/>
                  </a:cubicBezTo>
                  <a:cubicBezTo>
                    <a:pt x="74" y="89"/>
                    <a:pt x="59" y="79"/>
                    <a:pt x="42" y="77"/>
                  </a:cubicBezTo>
                  <a:cubicBezTo>
                    <a:pt x="28" y="75"/>
                    <a:pt x="14" y="80"/>
                    <a:pt x="0" y="82"/>
                  </a:cubicBezTo>
                  <a:cubicBezTo>
                    <a:pt x="14" y="70"/>
                    <a:pt x="33" y="66"/>
                    <a:pt x="51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73" name="Freeform 7"/>
            <p:cNvSpPr/>
            <p:nvPr/>
          </p:nvSpPr>
          <p:spPr>
            <a:xfrm>
              <a:off x="2411640" y="2251440"/>
              <a:ext cx="3220560" cy="3235680"/>
            </a:xfrm>
            <a:custGeom>
              <a:avLst/>
              <a:gdLst>
                <a:gd name="textAreaLeft" fmla="*/ 0 w 3220560"/>
                <a:gd name="textAreaRight" fmla="*/ 3220920 w 3220560"/>
                <a:gd name="textAreaTop" fmla="*/ 0 h 3235680"/>
                <a:gd name="textAreaBottom" fmla="*/ 3236040 h 3235680"/>
              </a:gdLst>
              <a:ahLst/>
              <a:rect l="textAreaLeft" t="textAreaTop" r="textAreaRight" b="textAreaBottom"/>
              <a:pathLst>
                <a:path w="959" h="964">
                  <a:moveTo>
                    <a:pt x="698" y="16"/>
                  </a:moveTo>
                  <a:cubicBezTo>
                    <a:pt x="704" y="10"/>
                    <a:pt x="710" y="5"/>
                    <a:pt x="716" y="0"/>
                  </a:cubicBezTo>
                  <a:cubicBezTo>
                    <a:pt x="732" y="17"/>
                    <a:pt x="752" y="32"/>
                    <a:pt x="768" y="50"/>
                  </a:cubicBezTo>
                  <a:cubicBezTo>
                    <a:pt x="812" y="96"/>
                    <a:pt x="848" y="148"/>
                    <a:pt x="880" y="202"/>
                  </a:cubicBezTo>
                  <a:cubicBezTo>
                    <a:pt x="927" y="277"/>
                    <a:pt x="955" y="365"/>
                    <a:pt x="959" y="454"/>
                  </a:cubicBezTo>
                  <a:cubicBezTo>
                    <a:pt x="957" y="518"/>
                    <a:pt x="942" y="584"/>
                    <a:pt x="900" y="634"/>
                  </a:cubicBezTo>
                  <a:cubicBezTo>
                    <a:pt x="888" y="647"/>
                    <a:pt x="879" y="663"/>
                    <a:pt x="862" y="671"/>
                  </a:cubicBezTo>
                  <a:cubicBezTo>
                    <a:pt x="837" y="684"/>
                    <a:pt x="808" y="685"/>
                    <a:pt x="781" y="686"/>
                  </a:cubicBezTo>
                  <a:cubicBezTo>
                    <a:pt x="773" y="713"/>
                    <a:pt x="766" y="740"/>
                    <a:pt x="747" y="761"/>
                  </a:cubicBezTo>
                  <a:cubicBezTo>
                    <a:pt x="726" y="787"/>
                    <a:pt x="693" y="798"/>
                    <a:pt x="661" y="804"/>
                  </a:cubicBezTo>
                  <a:cubicBezTo>
                    <a:pt x="614" y="812"/>
                    <a:pt x="566" y="810"/>
                    <a:pt x="520" y="819"/>
                  </a:cubicBezTo>
                  <a:cubicBezTo>
                    <a:pt x="521" y="857"/>
                    <a:pt x="553" y="883"/>
                    <a:pt x="564" y="918"/>
                  </a:cubicBezTo>
                  <a:cubicBezTo>
                    <a:pt x="569" y="931"/>
                    <a:pt x="556" y="942"/>
                    <a:pt x="546" y="948"/>
                  </a:cubicBezTo>
                  <a:cubicBezTo>
                    <a:pt x="529" y="958"/>
                    <a:pt x="509" y="964"/>
                    <a:pt x="490" y="961"/>
                  </a:cubicBezTo>
                  <a:cubicBezTo>
                    <a:pt x="453" y="905"/>
                    <a:pt x="409" y="854"/>
                    <a:pt x="360" y="809"/>
                  </a:cubicBezTo>
                  <a:cubicBezTo>
                    <a:pt x="350" y="800"/>
                    <a:pt x="341" y="789"/>
                    <a:pt x="327" y="785"/>
                  </a:cubicBezTo>
                  <a:cubicBezTo>
                    <a:pt x="301" y="777"/>
                    <a:pt x="281" y="755"/>
                    <a:pt x="267" y="732"/>
                  </a:cubicBezTo>
                  <a:cubicBezTo>
                    <a:pt x="213" y="751"/>
                    <a:pt x="154" y="756"/>
                    <a:pt x="98" y="744"/>
                  </a:cubicBezTo>
                  <a:cubicBezTo>
                    <a:pt x="64" y="736"/>
                    <a:pt x="32" y="724"/>
                    <a:pt x="0" y="710"/>
                  </a:cubicBezTo>
                  <a:cubicBezTo>
                    <a:pt x="7" y="704"/>
                    <a:pt x="13" y="697"/>
                    <a:pt x="20" y="691"/>
                  </a:cubicBezTo>
                  <a:cubicBezTo>
                    <a:pt x="27" y="696"/>
                    <a:pt x="34" y="701"/>
                    <a:pt x="42" y="704"/>
                  </a:cubicBezTo>
                  <a:cubicBezTo>
                    <a:pt x="106" y="727"/>
                    <a:pt x="178" y="729"/>
                    <a:pt x="244" y="712"/>
                  </a:cubicBezTo>
                  <a:cubicBezTo>
                    <a:pt x="287" y="701"/>
                    <a:pt x="329" y="684"/>
                    <a:pt x="369" y="665"/>
                  </a:cubicBezTo>
                  <a:cubicBezTo>
                    <a:pt x="346" y="653"/>
                    <a:pt x="326" y="633"/>
                    <a:pt x="317" y="609"/>
                  </a:cubicBezTo>
                  <a:cubicBezTo>
                    <a:pt x="294" y="612"/>
                    <a:pt x="264" y="614"/>
                    <a:pt x="249" y="635"/>
                  </a:cubicBezTo>
                  <a:cubicBezTo>
                    <a:pt x="245" y="649"/>
                    <a:pt x="247" y="665"/>
                    <a:pt x="241" y="679"/>
                  </a:cubicBezTo>
                  <a:cubicBezTo>
                    <a:pt x="237" y="690"/>
                    <a:pt x="229" y="699"/>
                    <a:pt x="220" y="706"/>
                  </a:cubicBezTo>
                  <a:cubicBezTo>
                    <a:pt x="227" y="691"/>
                    <a:pt x="239" y="675"/>
                    <a:pt x="234" y="657"/>
                  </a:cubicBezTo>
                  <a:cubicBezTo>
                    <a:pt x="233" y="646"/>
                    <a:pt x="223" y="637"/>
                    <a:pt x="212" y="637"/>
                  </a:cubicBezTo>
                  <a:cubicBezTo>
                    <a:pt x="197" y="635"/>
                    <a:pt x="184" y="640"/>
                    <a:pt x="171" y="646"/>
                  </a:cubicBezTo>
                  <a:cubicBezTo>
                    <a:pt x="180" y="636"/>
                    <a:pt x="191" y="628"/>
                    <a:pt x="203" y="625"/>
                  </a:cubicBezTo>
                  <a:cubicBezTo>
                    <a:pt x="230" y="618"/>
                    <a:pt x="259" y="615"/>
                    <a:pt x="282" y="600"/>
                  </a:cubicBezTo>
                  <a:cubicBezTo>
                    <a:pt x="293" y="594"/>
                    <a:pt x="290" y="580"/>
                    <a:pt x="292" y="570"/>
                  </a:cubicBezTo>
                  <a:cubicBezTo>
                    <a:pt x="292" y="556"/>
                    <a:pt x="298" y="543"/>
                    <a:pt x="308" y="532"/>
                  </a:cubicBezTo>
                  <a:cubicBezTo>
                    <a:pt x="303" y="547"/>
                    <a:pt x="295" y="563"/>
                    <a:pt x="304" y="578"/>
                  </a:cubicBezTo>
                  <a:cubicBezTo>
                    <a:pt x="316" y="599"/>
                    <a:pt x="346" y="601"/>
                    <a:pt x="367" y="592"/>
                  </a:cubicBezTo>
                  <a:cubicBezTo>
                    <a:pt x="377" y="582"/>
                    <a:pt x="379" y="565"/>
                    <a:pt x="392" y="557"/>
                  </a:cubicBezTo>
                  <a:cubicBezTo>
                    <a:pt x="389" y="568"/>
                    <a:pt x="382" y="583"/>
                    <a:pt x="393" y="593"/>
                  </a:cubicBezTo>
                  <a:cubicBezTo>
                    <a:pt x="407" y="602"/>
                    <a:pt x="425" y="602"/>
                    <a:pt x="440" y="597"/>
                  </a:cubicBezTo>
                  <a:cubicBezTo>
                    <a:pt x="456" y="593"/>
                    <a:pt x="471" y="582"/>
                    <a:pt x="488" y="587"/>
                  </a:cubicBezTo>
                  <a:cubicBezTo>
                    <a:pt x="509" y="594"/>
                    <a:pt x="525" y="610"/>
                    <a:pt x="546" y="616"/>
                  </a:cubicBezTo>
                  <a:cubicBezTo>
                    <a:pt x="579" y="625"/>
                    <a:pt x="614" y="625"/>
                    <a:pt x="648" y="622"/>
                  </a:cubicBezTo>
                  <a:cubicBezTo>
                    <a:pt x="672" y="622"/>
                    <a:pt x="694" y="605"/>
                    <a:pt x="706" y="584"/>
                  </a:cubicBezTo>
                  <a:cubicBezTo>
                    <a:pt x="721" y="557"/>
                    <a:pt x="714" y="524"/>
                    <a:pt x="706" y="495"/>
                  </a:cubicBezTo>
                  <a:cubicBezTo>
                    <a:pt x="702" y="479"/>
                    <a:pt x="684" y="485"/>
                    <a:pt x="672" y="486"/>
                  </a:cubicBezTo>
                  <a:cubicBezTo>
                    <a:pt x="639" y="492"/>
                    <a:pt x="611" y="469"/>
                    <a:pt x="580" y="464"/>
                  </a:cubicBezTo>
                  <a:cubicBezTo>
                    <a:pt x="558" y="466"/>
                    <a:pt x="541" y="481"/>
                    <a:pt x="520" y="486"/>
                  </a:cubicBezTo>
                  <a:cubicBezTo>
                    <a:pt x="508" y="490"/>
                    <a:pt x="495" y="492"/>
                    <a:pt x="482" y="490"/>
                  </a:cubicBezTo>
                  <a:cubicBezTo>
                    <a:pt x="499" y="480"/>
                    <a:pt x="520" y="479"/>
                    <a:pt x="536" y="467"/>
                  </a:cubicBezTo>
                  <a:cubicBezTo>
                    <a:pt x="559" y="457"/>
                    <a:pt x="576" y="432"/>
                    <a:pt x="571" y="406"/>
                  </a:cubicBezTo>
                  <a:cubicBezTo>
                    <a:pt x="557" y="406"/>
                    <a:pt x="545" y="411"/>
                    <a:pt x="532" y="415"/>
                  </a:cubicBezTo>
                  <a:cubicBezTo>
                    <a:pt x="529" y="414"/>
                    <a:pt x="522" y="412"/>
                    <a:pt x="519" y="411"/>
                  </a:cubicBezTo>
                  <a:cubicBezTo>
                    <a:pt x="545" y="398"/>
                    <a:pt x="573" y="384"/>
                    <a:pt x="591" y="360"/>
                  </a:cubicBezTo>
                  <a:cubicBezTo>
                    <a:pt x="604" y="343"/>
                    <a:pt x="613" y="323"/>
                    <a:pt x="622" y="303"/>
                  </a:cubicBezTo>
                  <a:cubicBezTo>
                    <a:pt x="646" y="253"/>
                    <a:pt x="652" y="197"/>
                    <a:pt x="656" y="142"/>
                  </a:cubicBezTo>
                  <a:cubicBezTo>
                    <a:pt x="658" y="116"/>
                    <a:pt x="651" y="88"/>
                    <a:pt x="635" y="67"/>
                  </a:cubicBezTo>
                  <a:cubicBezTo>
                    <a:pt x="629" y="58"/>
                    <a:pt x="618" y="56"/>
                    <a:pt x="607" y="55"/>
                  </a:cubicBezTo>
                  <a:cubicBezTo>
                    <a:pt x="623" y="51"/>
                    <a:pt x="640" y="54"/>
                    <a:pt x="651" y="66"/>
                  </a:cubicBezTo>
                  <a:cubicBezTo>
                    <a:pt x="658" y="73"/>
                    <a:pt x="664" y="88"/>
                    <a:pt x="676" y="83"/>
                  </a:cubicBezTo>
                  <a:cubicBezTo>
                    <a:pt x="691" y="78"/>
                    <a:pt x="708" y="82"/>
                    <a:pt x="723" y="77"/>
                  </a:cubicBezTo>
                  <a:cubicBezTo>
                    <a:pt x="730" y="75"/>
                    <a:pt x="734" y="69"/>
                    <a:pt x="734" y="62"/>
                  </a:cubicBezTo>
                  <a:cubicBezTo>
                    <a:pt x="732" y="41"/>
                    <a:pt x="710" y="31"/>
                    <a:pt x="698" y="16"/>
                  </a:cubicBezTo>
                  <a:close/>
                  <a:moveTo>
                    <a:pt x="673" y="105"/>
                  </a:moveTo>
                  <a:cubicBezTo>
                    <a:pt x="671" y="126"/>
                    <a:pt x="675" y="146"/>
                    <a:pt x="670" y="167"/>
                  </a:cubicBezTo>
                  <a:cubicBezTo>
                    <a:pt x="663" y="199"/>
                    <a:pt x="658" y="233"/>
                    <a:pt x="657" y="266"/>
                  </a:cubicBezTo>
                  <a:cubicBezTo>
                    <a:pt x="658" y="299"/>
                    <a:pt x="678" y="330"/>
                    <a:pt x="705" y="349"/>
                  </a:cubicBezTo>
                  <a:cubicBezTo>
                    <a:pt x="711" y="352"/>
                    <a:pt x="714" y="358"/>
                    <a:pt x="714" y="365"/>
                  </a:cubicBezTo>
                  <a:cubicBezTo>
                    <a:pt x="692" y="358"/>
                    <a:pt x="672" y="342"/>
                    <a:pt x="660" y="322"/>
                  </a:cubicBezTo>
                  <a:cubicBezTo>
                    <a:pt x="656" y="316"/>
                    <a:pt x="650" y="310"/>
                    <a:pt x="644" y="307"/>
                  </a:cubicBezTo>
                  <a:cubicBezTo>
                    <a:pt x="630" y="320"/>
                    <a:pt x="627" y="339"/>
                    <a:pt x="617" y="355"/>
                  </a:cubicBezTo>
                  <a:cubicBezTo>
                    <a:pt x="605" y="378"/>
                    <a:pt x="580" y="395"/>
                    <a:pt x="578" y="423"/>
                  </a:cubicBezTo>
                  <a:cubicBezTo>
                    <a:pt x="574" y="435"/>
                    <a:pt x="578" y="448"/>
                    <a:pt x="590" y="455"/>
                  </a:cubicBezTo>
                  <a:cubicBezTo>
                    <a:pt x="590" y="448"/>
                    <a:pt x="590" y="441"/>
                    <a:pt x="590" y="434"/>
                  </a:cubicBezTo>
                  <a:cubicBezTo>
                    <a:pt x="590" y="440"/>
                    <a:pt x="590" y="446"/>
                    <a:pt x="591" y="451"/>
                  </a:cubicBezTo>
                  <a:cubicBezTo>
                    <a:pt x="612" y="461"/>
                    <a:pt x="634" y="469"/>
                    <a:pt x="656" y="473"/>
                  </a:cubicBezTo>
                  <a:cubicBezTo>
                    <a:pt x="675" y="475"/>
                    <a:pt x="694" y="470"/>
                    <a:pt x="712" y="475"/>
                  </a:cubicBezTo>
                  <a:cubicBezTo>
                    <a:pt x="715" y="481"/>
                    <a:pt x="713" y="488"/>
                    <a:pt x="717" y="494"/>
                  </a:cubicBezTo>
                  <a:cubicBezTo>
                    <a:pt x="718" y="506"/>
                    <a:pt x="718" y="520"/>
                    <a:pt x="723" y="532"/>
                  </a:cubicBezTo>
                  <a:cubicBezTo>
                    <a:pt x="735" y="550"/>
                    <a:pt x="760" y="553"/>
                    <a:pt x="780" y="550"/>
                  </a:cubicBezTo>
                  <a:cubicBezTo>
                    <a:pt x="809" y="548"/>
                    <a:pt x="834" y="529"/>
                    <a:pt x="851" y="506"/>
                  </a:cubicBezTo>
                  <a:cubicBezTo>
                    <a:pt x="843" y="522"/>
                    <a:pt x="833" y="538"/>
                    <a:pt x="818" y="548"/>
                  </a:cubicBezTo>
                  <a:cubicBezTo>
                    <a:pt x="791" y="566"/>
                    <a:pt x="756" y="571"/>
                    <a:pt x="726" y="558"/>
                  </a:cubicBezTo>
                  <a:cubicBezTo>
                    <a:pt x="726" y="576"/>
                    <a:pt x="715" y="590"/>
                    <a:pt x="708" y="606"/>
                  </a:cubicBezTo>
                  <a:cubicBezTo>
                    <a:pt x="703" y="620"/>
                    <a:pt x="707" y="639"/>
                    <a:pt x="722" y="644"/>
                  </a:cubicBezTo>
                  <a:cubicBezTo>
                    <a:pt x="757" y="662"/>
                    <a:pt x="799" y="667"/>
                    <a:pt x="836" y="655"/>
                  </a:cubicBezTo>
                  <a:cubicBezTo>
                    <a:pt x="856" y="649"/>
                    <a:pt x="873" y="636"/>
                    <a:pt x="885" y="620"/>
                  </a:cubicBezTo>
                  <a:cubicBezTo>
                    <a:pt x="890" y="613"/>
                    <a:pt x="893" y="602"/>
                    <a:pt x="885" y="597"/>
                  </a:cubicBezTo>
                  <a:cubicBezTo>
                    <a:pt x="874" y="588"/>
                    <a:pt x="860" y="596"/>
                    <a:pt x="849" y="600"/>
                  </a:cubicBezTo>
                  <a:cubicBezTo>
                    <a:pt x="842" y="604"/>
                    <a:pt x="831" y="604"/>
                    <a:pt x="828" y="613"/>
                  </a:cubicBezTo>
                  <a:cubicBezTo>
                    <a:pt x="820" y="630"/>
                    <a:pt x="801" y="637"/>
                    <a:pt x="784" y="641"/>
                  </a:cubicBezTo>
                  <a:cubicBezTo>
                    <a:pt x="796" y="632"/>
                    <a:pt x="810" y="624"/>
                    <a:pt x="816" y="610"/>
                  </a:cubicBezTo>
                  <a:cubicBezTo>
                    <a:pt x="804" y="606"/>
                    <a:pt x="793" y="601"/>
                    <a:pt x="785" y="592"/>
                  </a:cubicBezTo>
                  <a:cubicBezTo>
                    <a:pt x="809" y="604"/>
                    <a:pt x="840" y="602"/>
                    <a:pt x="859" y="581"/>
                  </a:cubicBezTo>
                  <a:cubicBezTo>
                    <a:pt x="880" y="593"/>
                    <a:pt x="915" y="581"/>
                    <a:pt x="917" y="554"/>
                  </a:cubicBezTo>
                  <a:cubicBezTo>
                    <a:pt x="918" y="532"/>
                    <a:pt x="900" y="515"/>
                    <a:pt x="884" y="503"/>
                  </a:cubicBezTo>
                  <a:cubicBezTo>
                    <a:pt x="900" y="506"/>
                    <a:pt x="913" y="516"/>
                    <a:pt x="925" y="527"/>
                  </a:cubicBezTo>
                  <a:cubicBezTo>
                    <a:pt x="927" y="523"/>
                    <a:pt x="933" y="520"/>
                    <a:pt x="932" y="514"/>
                  </a:cubicBezTo>
                  <a:cubicBezTo>
                    <a:pt x="934" y="494"/>
                    <a:pt x="937" y="471"/>
                    <a:pt x="925" y="454"/>
                  </a:cubicBezTo>
                  <a:cubicBezTo>
                    <a:pt x="916" y="439"/>
                    <a:pt x="901" y="432"/>
                    <a:pt x="886" y="426"/>
                  </a:cubicBezTo>
                  <a:cubicBezTo>
                    <a:pt x="886" y="448"/>
                    <a:pt x="882" y="471"/>
                    <a:pt x="865" y="486"/>
                  </a:cubicBezTo>
                  <a:cubicBezTo>
                    <a:pt x="876" y="464"/>
                    <a:pt x="882" y="433"/>
                    <a:pt x="861" y="414"/>
                  </a:cubicBezTo>
                  <a:cubicBezTo>
                    <a:pt x="871" y="396"/>
                    <a:pt x="882" y="375"/>
                    <a:pt x="875" y="354"/>
                  </a:cubicBezTo>
                  <a:cubicBezTo>
                    <a:pt x="873" y="343"/>
                    <a:pt x="863" y="336"/>
                    <a:pt x="853" y="330"/>
                  </a:cubicBezTo>
                  <a:cubicBezTo>
                    <a:pt x="863" y="322"/>
                    <a:pt x="873" y="313"/>
                    <a:pt x="879" y="301"/>
                  </a:cubicBezTo>
                  <a:cubicBezTo>
                    <a:pt x="893" y="277"/>
                    <a:pt x="891" y="243"/>
                    <a:pt x="871" y="222"/>
                  </a:cubicBezTo>
                  <a:cubicBezTo>
                    <a:pt x="858" y="209"/>
                    <a:pt x="836" y="208"/>
                    <a:pt x="822" y="221"/>
                  </a:cubicBezTo>
                  <a:cubicBezTo>
                    <a:pt x="804" y="237"/>
                    <a:pt x="795" y="263"/>
                    <a:pt x="772" y="274"/>
                  </a:cubicBezTo>
                  <a:cubicBezTo>
                    <a:pt x="754" y="280"/>
                    <a:pt x="732" y="270"/>
                    <a:pt x="726" y="252"/>
                  </a:cubicBezTo>
                  <a:cubicBezTo>
                    <a:pt x="720" y="231"/>
                    <a:pt x="724" y="209"/>
                    <a:pt x="719" y="188"/>
                  </a:cubicBezTo>
                  <a:cubicBezTo>
                    <a:pt x="716" y="178"/>
                    <a:pt x="709" y="170"/>
                    <a:pt x="704" y="162"/>
                  </a:cubicBezTo>
                  <a:cubicBezTo>
                    <a:pt x="720" y="171"/>
                    <a:pt x="730" y="188"/>
                    <a:pt x="731" y="207"/>
                  </a:cubicBezTo>
                  <a:cubicBezTo>
                    <a:pt x="746" y="206"/>
                    <a:pt x="760" y="196"/>
                    <a:pt x="764" y="182"/>
                  </a:cubicBezTo>
                  <a:cubicBezTo>
                    <a:pt x="769" y="167"/>
                    <a:pt x="763" y="152"/>
                    <a:pt x="758" y="139"/>
                  </a:cubicBezTo>
                  <a:cubicBezTo>
                    <a:pt x="773" y="157"/>
                    <a:pt x="783" y="193"/>
                    <a:pt x="757" y="207"/>
                  </a:cubicBezTo>
                  <a:cubicBezTo>
                    <a:pt x="745" y="212"/>
                    <a:pt x="733" y="224"/>
                    <a:pt x="738" y="238"/>
                  </a:cubicBezTo>
                  <a:cubicBezTo>
                    <a:pt x="744" y="258"/>
                    <a:pt x="771" y="261"/>
                    <a:pt x="785" y="247"/>
                  </a:cubicBezTo>
                  <a:cubicBezTo>
                    <a:pt x="800" y="235"/>
                    <a:pt x="795" y="212"/>
                    <a:pt x="808" y="198"/>
                  </a:cubicBezTo>
                  <a:cubicBezTo>
                    <a:pt x="819" y="191"/>
                    <a:pt x="832" y="195"/>
                    <a:pt x="844" y="194"/>
                  </a:cubicBezTo>
                  <a:cubicBezTo>
                    <a:pt x="847" y="190"/>
                    <a:pt x="849" y="186"/>
                    <a:pt x="851" y="182"/>
                  </a:cubicBezTo>
                  <a:cubicBezTo>
                    <a:pt x="828" y="152"/>
                    <a:pt x="806" y="117"/>
                    <a:pt x="768" y="105"/>
                  </a:cubicBezTo>
                  <a:cubicBezTo>
                    <a:pt x="750" y="101"/>
                    <a:pt x="731" y="97"/>
                    <a:pt x="713" y="91"/>
                  </a:cubicBezTo>
                  <a:cubicBezTo>
                    <a:pt x="698" y="86"/>
                    <a:pt x="677" y="88"/>
                    <a:pt x="673" y="105"/>
                  </a:cubicBezTo>
                  <a:close/>
                  <a:moveTo>
                    <a:pt x="872" y="327"/>
                  </a:moveTo>
                  <a:cubicBezTo>
                    <a:pt x="892" y="350"/>
                    <a:pt x="890" y="384"/>
                    <a:pt x="874" y="408"/>
                  </a:cubicBezTo>
                  <a:cubicBezTo>
                    <a:pt x="888" y="412"/>
                    <a:pt x="901" y="420"/>
                    <a:pt x="916" y="423"/>
                  </a:cubicBezTo>
                  <a:cubicBezTo>
                    <a:pt x="926" y="425"/>
                    <a:pt x="927" y="413"/>
                    <a:pt x="927" y="406"/>
                  </a:cubicBezTo>
                  <a:cubicBezTo>
                    <a:pt x="924" y="379"/>
                    <a:pt x="918" y="352"/>
                    <a:pt x="912" y="326"/>
                  </a:cubicBezTo>
                  <a:cubicBezTo>
                    <a:pt x="910" y="317"/>
                    <a:pt x="905" y="309"/>
                    <a:pt x="897" y="305"/>
                  </a:cubicBezTo>
                  <a:cubicBezTo>
                    <a:pt x="888" y="311"/>
                    <a:pt x="880" y="320"/>
                    <a:pt x="872" y="327"/>
                  </a:cubicBezTo>
                  <a:close/>
                  <a:moveTo>
                    <a:pt x="428" y="615"/>
                  </a:moveTo>
                  <a:cubicBezTo>
                    <a:pt x="403" y="618"/>
                    <a:pt x="381" y="599"/>
                    <a:pt x="356" y="605"/>
                  </a:cubicBezTo>
                  <a:cubicBezTo>
                    <a:pt x="349" y="606"/>
                    <a:pt x="346" y="616"/>
                    <a:pt x="348" y="623"/>
                  </a:cubicBezTo>
                  <a:cubicBezTo>
                    <a:pt x="352" y="638"/>
                    <a:pt x="365" y="649"/>
                    <a:pt x="378" y="656"/>
                  </a:cubicBezTo>
                  <a:cubicBezTo>
                    <a:pt x="383" y="660"/>
                    <a:pt x="390" y="657"/>
                    <a:pt x="396" y="657"/>
                  </a:cubicBezTo>
                  <a:cubicBezTo>
                    <a:pt x="420" y="652"/>
                    <a:pt x="444" y="656"/>
                    <a:pt x="468" y="653"/>
                  </a:cubicBezTo>
                  <a:cubicBezTo>
                    <a:pt x="489" y="650"/>
                    <a:pt x="512" y="646"/>
                    <a:pt x="527" y="630"/>
                  </a:cubicBezTo>
                  <a:cubicBezTo>
                    <a:pt x="521" y="618"/>
                    <a:pt x="508" y="612"/>
                    <a:pt x="498" y="604"/>
                  </a:cubicBezTo>
                  <a:cubicBezTo>
                    <a:pt x="493" y="600"/>
                    <a:pt x="487" y="594"/>
                    <a:pt x="480" y="595"/>
                  </a:cubicBezTo>
                  <a:cubicBezTo>
                    <a:pt x="461" y="598"/>
                    <a:pt x="447" y="614"/>
                    <a:pt x="428" y="615"/>
                  </a:cubicBezTo>
                  <a:close/>
                  <a:moveTo>
                    <a:pt x="580" y="659"/>
                  </a:moveTo>
                  <a:cubicBezTo>
                    <a:pt x="639" y="663"/>
                    <a:pt x="704" y="669"/>
                    <a:pt x="754" y="705"/>
                  </a:cubicBezTo>
                  <a:cubicBezTo>
                    <a:pt x="755" y="698"/>
                    <a:pt x="757" y="690"/>
                    <a:pt x="758" y="683"/>
                  </a:cubicBezTo>
                  <a:cubicBezTo>
                    <a:pt x="740" y="677"/>
                    <a:pt x="724" y="668"/>
                    <a:pt x="706" y="664"/>
                  </a:cubicBezTo>
                  <a:cubicBezTo>
                    <a:pt x="688" y="659"/>
                    <a:pt x="670" y="655"/>
                    <a:pt x="652" y="652"/>
                  </a:cubicBezTo>
                  <a:cubicBezTo>
                    <a:pt x="628" y="648"/>
                    <a:pt x="603" y="652"/>
                    <a:pt x="580" y="659"/>
                  </a:cubicBezTo>
                  <a:close/>
                  <a:moveTo>
                    <a:pt x="494" y="671"/>
                  </a:moveTo>
                  <a:cubicBezTo>
                    <a:pt x="481" y="710"/>
                    <a:pt x="450" y="741"/>
                    <a:pt x="411" y="753"/>
                  </a:cubicBezTo>
                  <a:cubicBezTo>
                    <a:pt x="427" y="753"/>
                    <a:pt x="441" y="747"/>
                    <a:pt x="454" y="740"/>
                  </a:cubicBezTo>
                  <a:cubicBezTo>
                    <a:pt x="485" y="724"/>
                    <a:pt x="513" y="700"/>
                    <a:pt x="525" y="668"/>
                  </a:cubicBezTo>
                  <a:cubicBezTo>
                    <a:pt x="515" y="669"/>
                    <a:pt x="503" y="667"/>
                    <a:pt x="494" y="671"/>
                  </a:cubicBezTo>
                  <a:close/>
                  <a:moveTo>
                    <a:pt x="392" y="736"/>
                  </a:moveTo>
                  <a:cubicBezTo>
                    <a:pt x="393" y="737"/>
                    <a:pt x="396" y="741"/>
                    <a:pt x="397" y="743"/>
                  </a:cubicBezTo>
                  <a:cubicBezTo>
                    <a:pt x="433" y="733"/>
                    <a:pt x="465" y="707"/>
                    <a:pt x="478" y="671"/>
                  </a:cubicBezTo>
                  <a:cubicBezTo>
                    <a:pt x="471" y="672"/>
                    <a:pt x="463" y="672"/>
                    <a:pt x="456" y="674"/>
                  </a:cubicBezTo>
                  <a:cubicBezTo>
                    <a:pt x="438" y="697"/>
                    <a:pt x="423" y="728"/>
                    <a:pt x="392" y="736"/>
                  </a:cubicBezTo>
                  <a:close/>
                  <a:moveTo>
                    <a:pt x="544" y="688"/>
                  </a:moveTo>
                  <a:cubicBezTo>
                    <a:pt x="584" y="687"/>
                    <a:pt x="625" y="692"/>
                    <a:pt x="663" y="703"/>
                  </a:cubicBezTo>
                  <a:cubicBezTo>
                    <a:pt x="689" y="710"/>
                    <a:pt x="715" y="720"/>
                    <a:pt x="735" y="738"/>
                  </a:cubicBezTo>
                  <a:cubicBezTo>
                    <a:pt x="739" y="732"/>
                    <a:pt x="744" y="726"/>
                    <a:pt x="748" y="720"/>
                  </a:cubicBezTo>
                  <a:cubicBezTo>
                    <a:pt x="721" y="698"/>
                    <a:pt x="686" y="688"/>
                    <a:pt x="652" y="682"/>
                  </a:cubicBezTo>
                  <a:cubicBezTo>
                    <a:pt x="619" y="677"/>
                    <a:pt x="585" y="673"/>
                    <a:pt x="551" y="673"/>
                  </a:cubicBezTo>
                  <a:cubicBezTo>
                    <a:pt x="549" y="678"/>
                    <a:pt x="547" y="683"/>
                    <a:pt x="544" y="688"/>
                  </a:cubicBezTo>
                  <a:close/>
                  <a:moveTo>
                    <a:pt x="384" y="698"/>
                  </a:moveTo>
                  <a:cubicBezTo>
                    <a:pt x="377" y="707"/>
                    <a:pt x="384" y="717"/>
                    <a:pt x="388" y="726"/>
                  </a:cubicBezTo>
                  <a:cubicBezTo>
                    <a:pt x="411" y="719"/>
                    <a:pt x="425" y="697"/>
                    <a:pt x="435" y="676"/>
                  </a:cubicBezTo>
                  <a:cubicBezTo>
                    <a:pt x="417" y="681"/>
                    <a:pt x="397" y="684"/>
                    <a:pt x="384" y="698"/>
                  </a:cubicBezTo>
                  <a:close/>
                  <a:moveTo>
                    <a:pt x="534" y="704"/>
                  </a:moveTo>
                  <a:cubicBezTo>
                    <a:pt x="528" y="711"/>
                    <a:pt x="521" y="718"/>
                    <a:pt x="515" y="725"/>
                  </a:cubicBezTo>
                  <a:cubicBezTo>
                    <a:pt x="557" y="753"/>
                    <a:pt x="605" y="779"/>
                    <a:pt x="657" y="780"/>
                  </a:cubicBezTo>
                  <a:cubicBezTo>
                    <a:pt x="616" y="762"/>
                    <a:pt x="572" y="742"/>
                    <a:pt x="548" y="702"/>
                  </a:cubicBezTo>
                  <a:cubicBezTo>
                    <a:pt x="543" y="703"/>
                    <a:pt x="539" y="704"/>
                    <a:pt x="534" y="704"/>
                  </a:cubicBezTo>
                  <a:close/>
                  <a:moveTo>
                    <a:pt x="566" y="702"/>
                  </a:moveTo>
                  <a:cubicBezTo>
                    <a:pt x="594" y="738"/>
                    <a:pt x="638" y="758"/>
                    <a:pt x="680" y="771"/>
                  </a:cubicBezTo>
                  <a:cubicBezTo>
                    <a:pt x="687" y="775"/>
                    <a:pt x="694" y="769"/>
                    <a:pt x="700" y="768"/>
                  </a:cubicBezTo>
                  <a:cubicBezTo>
                    <a:pt x="668" y="754"/>
                    <a:pt x="637" y="735"/>
                    <a:pt x="617" y="706"/>
                  </a:cubicBezTo>
                  <a:cubicBezTo>
                    <a:pt x="600" y="704"/>
                    <a:pt x="583" y="702"/>
                    <a:pt x="566" y="702"/>
                  </a:cubicBezTo>
                  <a:close/>
                  <a:moveTo>
                    <a:pt x="319" y="716"/>
                  </a:moveTo>
                  <a:cubicBezTo>
                    <a:pt x="335" y="745"/>
                    <a:pt x="367" y="759"/>
                    <a:pt x="396" y="770"/>
                  </a:cubicBezTo>
                  <a:cubicBezTo>
                    <a:pt x="380" y="750"/>
                    <a:pt x="364" y="729"/>
                    <a:pt x="352" y="706"/>
                  </a:cubicBezTo>
                  <a:cubicBezTo>
                    <a:pt x="341" y="709"/>
                    <a:pt x="330" y="712"/>
                    <a:pt x="319" y="716"/>
                  </a:cubicBezTo>
                  <a:close/>
                  <a:moveTo>
                    <a:pt x="632" y="709"/>
                  </a:moveTo>
                  <a:cubicBezTo>
                    <a:pt x="653" y="733"/>
                    <a:pt x="681" y="750"/>
                    <a:pt x="711" y="760"/>
                  </a:cubicBezTo>
                  <a:cubicBezTo>
                    <a:pt x="715" y="757"/>
                    <a:pt x="720" y="753"/>
                    <a:pt x="724" y="750"/>
                  </a:cubicBezTo>
                  <a:cubicBezTo>
                    <a:pt x="698" y="727"/>
                    <a:pt x="665" y="716"/>
                    <a:pt x="632" y="709"/>
                  </a:cubicBezTo>
                  <a:close/>
                  <a:moveTo>
                    <a:pt x="282" y="727"/>
                  </a:moveTo>
                  <a:cubicBezTo>
                    <a:pt x="289" y="738"/>
                    <a:pt x="297" y="749"/>
                    <a:pt x="308" y="758"/>
                  </a:cubicBezTo>
                  <a:cubicBezTo>
                    <a:pt x="327" y="773"/>
                    <a:pt x="352" y="777"/>
                    <a:pt x="376" y="779"/>
                  </a:cubicBezTo>
                  <a:cubicBezTo>
                    <a:pt x="347" y="767"/>
                    <a:pt x="318" y="750"/>
                    <a:pt x="305" y="720"/>
                  </a:cubicBezTo>
                  <a:cubicBezTo>
                    <a:pt x="297" y="722"/>
                    <a:pt x="290" y="725"/>
                    <a:pt x="282" y="727"/>
                  </a:cubicBezTo>
                  <a:close/>
                  <a:moveTo>
                    <a:pt x="502" y="735"/>
                  </a:moveTo>
                  <a:cubicBezTo>
                    <a:pt x="499" y="737"/>
                    <a:pt x="495" y="740"/>
                    <a:pt x="492" y="742"/>
                  </a:cubicBezTo>
                  <a:cubicBezTo>
                    <a:pt x="518" y="769"/>
                    <a:pt x="551" y="800"/>
                    <a:pt x="592" y="794"/>
                  </a:cubicBezTo>
                  <a:cubicBezTo>
                    <a:pt x="607" y="793"/>
                    <a:pt x="622" y="793"/>
                    <a:pt x="637" y="792"/>
                  </a:cubicBezTo>
                  <a:cubicBezTo>
                    <a:pt x="588" y="784"/>
                    <a:pt x="543" y="762"/>
                    <a:pt x="502" y="735"/>
                  </a:cubicBezTo>
                  <a:close/>
                  <a:moveTo>
                    <a:pt x="468" y="756"/>
                  </a:moveTo>
                  <a:cubicBezTo>
                    <a:pt x="482" y="783"/>
                    <a:pt x="511" y="808"/>
                    <a:pt x="543" y="801"/>
                  </a:cubicBezTo>
                  <a:cubicBezTo>
                    <a:pt x="518" y="789"/>
                    <a:pt x="498" y="770"/>
                    <a:pt x="479" y="750"/>
                  </a:cubicBezTo>
                  <a:cubicBezTo>
                    <a:pt x="475" y="752"/>
                    <a:pt x="472" y="754"/>
                    <a:pt x="468" y="756"/>
                  </a:cubicBezTo>
                  <a:close/>
                  <a:moveTo>
                    <a:pt x="419" y="773"/>
                  </a:moveTo>
                  <a:cubicBezTo>
                    <a:pt x="427" y="784"/>
                    <a:pt x="435" y="795"/>
                    <a:pt x="448" y="800"/>
                  </a:cubicBezTo>
                  <a:cubicBezTo>
                    <a:pt x="462" y="805"/>
                    <a:pt x="477" y="805"/>
                    <a:pt x="492" y="806"/>
                  </a:cubicBezTo>
                  <a:cubicBezTo>
                    <a:pt x="476" y="794"/>
                    <a:pt x="462" y="780"/>
                    <a:pt x="455" y="762"/>
                  </a:cubicBezTo>
                  <a:cubicBezTo>
                    <a:pt x="443" y="766"/>
                    <a:pt x="431" y="770"/>
                    <a:pt x="419" y="773"/>
                  </a:cubicBezTo>
                  <a:close/>
                  <a:moveTo>
                    <a:pt x="379" y="794"/>
                  </a:moveTo>
                  <a:cubicBezTo>
                    <a:pt x="397" y="811"/>
                    <a:pt x="411" y="832"/>
                    <a:pt x="429" y="849"/>
                  </a:cubicBezTo>
                  <a:cubicBezTo>
                    <a:pt x="448" y="868"/>
                    <a:pt x="466" y="889"/>
                    <a:pt x="481" y="913"/>
                  </a:cubicBezTo>
                  <a:cubicBezTo>
                    <a:pt x="491" y="925"/>
                    <a:pt x="502" y="942"/>
                    <a:pt x="520" y="941"/>
                  </a:cubicBezTo>
                  <a:cubicBezTo>
                    <a:pt x="531" y="937"/>
                    <a:pt x="542" y="929"/>
                    <a:pt x="547" y="918"/>
                  </a:cubicBezTo>
                  <a:cubicBezTo>
                    <a:pt x="544" y="903"/>
                    <a:pt x="532" y="891"/>
                    <a:pt x="523" y="879"/>
                  </a:cubicBezTo>
                  <a:cubicBezTo>
                    <a:pt x="510" y="862"/>
                    <a:pt x="498" y="843"/>
                    <a:pt x="492" y="823"/>
                  </a:cubicBezTo>
                  <a:cubicBezTo>
                    <a:pt x="476" y="823"/>
                    <a:pt x="459" y="824"/>
                    <a:pt x="444" y="818"/>
                  </a:cubicBezTo>
                  <a:cubicBezTo>
                    <a:pt x="431" y="813"/>
                    <a:pt x="421" y="803"/>
                    <a:pt x="412" y="793"/>
                  </a:cubicBezTo>
                  <a:cubicBezTo>
                    <a:pt x="401" y="794"/>
                    <a:pt x="390" y="794"/>
                    <a:pt x="379" y="79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74" name="Freeform 8"/>
            <p:cNvSpPr/>
            <p:nvPr/>
          </p:nvSpPr>
          <p:spPr>
            <a:xfrm>
              <a:off x="3471480" y="2304000"/>
              <a:ext cx="893520" cy="59544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66" h="178">
                  <a:moveTo>
                    <a:pt x="112" y="1"/>
                  </a:moveTo>
                  <a:cubicBezTo>
                    <a:pt x="121" y="1"/>
                    <a:pt x="131" y="0"/>
                    <a:pt x="140" y="4"/>
                  </a:cubicBezTo>
                  <a:cubicBezTo>
                    <a:pt x="150" y="8"/>
                    <a:pt x="158" y="15"/>
                    <a:pt x="168" y="18"/>
                  </a:cubicBezTo>
                  <a:cubicBezTo>
                    <a:pt x="184" y="16"/>
                    <a:pt x="199" y="8"/>
                    <a:pt x="216" y="9"/>
                  </a:cubicBezTo>
                  <a:cubicBezTo>
                    <a:pt x="233" y="11"/>
                    <a:pt x="249" y="9"/>
                    <a:pt x="266" y="7"/>
                  </a:cubicBezTo>
                  <a:cubicBezTo>
                    <a:pt x="251" y="18"/>
                    <a:pt x="230" y="19"/>
                    <a:pt x="212" y="19"/>
                  </a:cubicBezTo>
                  <a:cubicBezTo>
                    <a:pt x="201" y="19"/>
                    <a:pt x="190" y="21"/>
                    <a:pt x="183" y="29"/>
                  </a:cubicBezTo>
                  <a:cubicBezTo>
                    <a:pt x="166" y="49"/>
                    <a:pt x="154" y="75"/>
                    <a:pt x="133" y="91"/>
                  </a:cubicBezTo>
                  <a:cubicBezTo>
                    <a:pt x="109" y="113"/>
                    <a:pt x="101" y="148"/>
                    <a:pt x="112" y="178"/>
                  </a:cubicBezTo>
                  <a:cubicBezTo>
                    <a:pt x="105" y="172"/>
                    <a:pt x="97" y="165"/>
                    <a:pt x="97" y="155"/>
                  </a:cubicBezTo>
                  <a:cubicBezTo>
                    <a:pt x="94" y="141"/>
                    <a:pt x="100" y="124"/>
                    <a:pt x="91" y="112"/>
                  </a:cubicBezTo>
                  <a:cubicBezTo>
                    <a:pt x="61" y="96"/>
                    <a:pt x="28" y="113"/>
                    <a:pt x="0" y="126"/>
                  </a:cubicBezTo>
                  <a:cubicBezTo>
                    <a:pt x="20" y="105"/>
                    <a:pt x="47" y="91"/>
                    <a:pt x="76" y="93"/>
                  </a:cubicBezTo>
                  <a:cubicBezTo>
                    <a:pt x="90" y="94"/>
                    <a:pt x="106" y="102"/>
                    <a:pt x="118" y="92"/>
                  </a:cubicBezTo>
                  <a:cubicBezTo>
                    <a:pt x="137" y="77"/>
                    <a:pt x="152" y="54"/>
                    <a:pt x="156" y="30"/>
                  </a:cubicBezTo>
                  <a:cubicBezTo>
                    <a:pt x="150" y="11"/>
                    <a:pt x="129" y="4"/>
                    <a:pt x="112" y="1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75" name="Freeform 9"/>
            <p:cNvSpPr/>
            <p:nvPr/>
          </p:nvSpPr>
          <p:spPr>
            <a:xfrm>
              <a:off x="1574280" y="2817000"/>
              <a:ext cx="316440" cy="3276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94" h="98">
                  <a:moveTo>
                    <a:pt x="47" y="0"/>
                  </a:moveTo>
                  <a:cubicBezTo>
                    <a:pt x="56" y="21"/>
                    <a:pt x="72" y="39"/>
                    <a:pt x="94" y="48"/>
                  </a:cubicBezTo>
                  <a:cubicBezTo>
                    <a:pt x="58" y="53"/>
                    <a:pt x="26" y="72"/>
                    <a:pt x="0" y="98"/>
                  </a:cubicBezTo>
                  <a:cubicBezTo>
                    <a:pt x="8" y="72"/>
                    <a:pt x="31" y="55"/>
                    <a:pt x="55" y="43"/>
                  </a:cubicBezTo>
                  <a:cubicBezTo>
                    <a:pt x="45" y="31"/>
                    <a:pt x="44" y="15"/>
                    <a:pt x="47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76" name="Freeform 10"/>
            <p:cNvSpPr/>
            <p:nvPr/>
          </p:nvSpPr>
          <p:spPr>
            <a:xfrm>
              <a:off x="1536480" y="2877480"/>
              <a:ext cx="1225440" cy="7614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761400"/>
                <a:gd name="textAreaBottom" fmla="*/ 761760 h 761400"/>
              </a:gdLst>
              <a:ahLst/>
              <a:rect l="textAreaLeft" t="textAreaTop" r="textAreaRight" b="textAreaBottom"/>
              <a:pathLst>
                <a:path w="365" h="227">
                  <a:moveTo>
                    <a:pt x="303" y="26"/>
                  </a:moveTo>
                  <a:cubicBezTo>
                    <a:pt x="315" y="15"/>
                    <a:pt x="329" y="6"/>
                    <a:pt x="343" y="0"/>
                  </a:cubicBezTo>
                  <a:cubicBezTo>
                    <a:pt x="347" y="5"/>
                    <a:pt x="348" y="13"/>
                    <a:pt x="354" y="17"/>
                  </a:cubicBezTo>
                  <a:cubicBezTo>
                    <a:pt x="358" y="19"/>
                    <a:pt x="365" y="21"/>
                    <a:pt x="365" y="26"/>
                  </a:cubicBezTo>
                  <a:cubicBezTo>
                    <a:pt x="353" y="29"/>
                    <a:pt x="340" y="29"/>
                    <a:pt x="328" y="35"/>
                  </a:cubicBezTo>
                  <a:cubicBezTo>
                    <a:pt x="304" y="45"/>
                    <a:pt x="278" y="54"/>
                    <a:pt x="252" y="58"/>
                  </a:cubicBezTo>
                  <a:cubicBezTo>
                    <a:pt x="233" y="63"/>
                    <a:pt x="212" y="63"/>
                    <a:pt x="193" y="73"/>
                  </a:cubicBezTo>
                  <a:cubicBezTo>
                    <a:pt x="181" y="78"/>
                    <a:pt x="176" y="93"/>
                    <a:pt x="169" y="104"/>
                  </a:cubicBezTo>
                  <a:cubicBezTo>
                    <a:pt x="158" y="125"/>
                    <a:pt x="130" y="130"/>
                    <a:pt x="119" y="151"/>
                  </a:cubicBezTo>
                  <a:cubicBezTo>
                    <a:pt x="112" y="163"/>
                    <a:pt x="114" y="180"/>
                    <a:pt x="125" y="190"/>
                  </a:cubicBezTo>
                  <a:cubicBezTo>
                    <a:pt x="134" y="199"/>
                    <a:pt x="146" y="206"/>
                    <a:pt x="159" y="211"/>
                  </a:cubicBezTo>
                  <a:cubicBezTo>
                    <a:pt x="172" y="215"/>
                    <a:pt x="184" y="220"/>
                    <a:pt x="197" y="225"/>
                  </a:cubicBezTo>
                  <a:cubicBezTo>
                    <a:pt x="171" y="227"/>
                    <a:pt x="143" y="225"/>
                    <a:pt x="120" y="210"/>
                  </a:cubicBezTo>
                  <a:cubicBezTo>
                    <a:pt x="101" y="199"/>
                    <a:pt x="96" y="173"/>
                    <a:pt x="76" y="162"/>
                  </a:cubicBezTo>
                  <a:cubicBezTo>
                    <a:pt x="58" y="153"/>
                    <a:pt x="36" y="155"/>
                    <a:pt x="19" y="144"/>
                  </a:cubicBezTo>
                  <a:cubicBezTo>
                    <a:pt x="10" y="140"/>
                    <a:pt x="5" y="132"/>
                    <a:pt x="0" y="124"/>
                  </a:cubicBezTo>
                  <a:cubicBezTo>
                    <a:pt x="25" y="143"/>
                    <a:pt x="60" y="146"/>
                    <a:pt x="90" y="138"/>
                  </a:cubicBezTo>
                  <a:cubicBezTo>
                    <a:pt x="99" y="136"/>
                    <a:pt x="108" y="129"/>
                    <a:pt x="113" y="121"/>
                  </a:cubicBezTo>
                  <a:cubicBezTo>
                    <a:pt x="98" y="112"/>
                    <a:pt x="82" y="104"/>
                    <a:pt x="77" y="87"/>
                  </a:cubicBezTo>
                  <a:cubicBezTo>
                    <a:pt x="93" y="103"/>
                    <a:pt x="116" y="114"/>
                    <a:pt x="139" y="106"/>
                  </a:cubicBezTo>
                  <a:cubicBezTo>
                    <a:pt x="166" y="96"/>
                    <a:pt x="169" y="59"/>
                    <a:pt x="198" y="52"/>
                  </a:cubicBezTo>
                  <a:cubicBezTo>
                    <a:pt x="233" y="46"/>
                    <a:pt x="273" y="49"/>
                    <a:pt x="303" y="2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77" name="Freeform 11"/>
            <p:cNvSpPr/>
            <p:nvPr/>
          </p:nvSpPr>
          <p:spPr>
            <a:xfrm>
              <a:off x="2260800" y="3073320"/>
              <a:ext cx="561600" cy="6710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" h="200">
                  <a:moveTo>
                    <a:pt x="122" y="0"/>
                  </a:moveTo>
                  <a:cubicBezTo>
                    <a:pt x="130" y="19"/>
                    <a:pt x="136" y="40"/>
                    <a:pt x="134" y="61"/>
                  </a:cubicBezTo>
                  <a:cubicBezTo>
                    <a:pt x="133" y="77"/>
                    <a:pt x="120" y="90"/>
                    <a:pt x="116" y="105"/>
                  </a:cubicBezTo>
                  <a:cubicBezTo>
                    <a:pt x="114" y="113"/>
                    <a:pt x="120" y="119"/>
                    <a:pt x="123" y="125"/>
                  </a:cubicBezTo>
                  <a:cubicBezTo>
                    <a:pt x="137" y="117"/>
                    <a:pt x="152" y="113"/>
                    <a:pt x="168" y="114"/>
                  </a:cubicBezTo>
                  <a:cubicBezTo>
                    <a:pt x="168" y="122"/>
                    <a:pt x="168" y="131"/>
                    <a:pt x="168" y="139"/>
                  </a:cubicBezTo>
                  <a:cubicBezTo>
                    <a:pt x="165" y="139"/>
                    <a:pt x="160" y="141"/>
                    <a:pt x="157" y="141"/>
                  </a:cubicBezTo>
                  <a:cubicBezTo>
                    <a:pt x="135" y="144"/>
                    <a:pt x="116" y="157"/>
                    <a:pt x="98" y="170"/>
                  </a:cubicBezTo>
                  <a:cubicBezTo>
                    <a:pt x="98" y="158"/>
                    <a:pt x="98" y="145"/>
                    <a:pt x="98" y="133"/>
                  </a:cubicBezTo>
                  <a:cubicBezTo>
                    <a:pt x="95" y="146"/>
                    <a:pt x="96" y="159"/>
                    <a:pt x="96" y="172"/>
                  </a:cubicBezTo>
                  <a:cubicBezTo>
                    <a:pt x="85" y="181"/>
                    <a:pt x="75" y="191"/>
                    <a:pt x="64" y="200"/>
                  </a:cubicBezTo>
                  <a:cubicBezTo>
                    <a:pt x="60" y="188"/>
                    <a:pt x="70" y="175"/>
                    <a:pt x="64" y="164"/>
                  </a:cubicBezTo>
                  <a:cubicBezTo>
                    <a:pt x="69" y="159"/>
                    <a:pt x="75" y="153"/>
                    <a:pt x="80" y="147"/>
                  </a:cubicBezTo>
                  <a:cubicBezTo>
                    <a:pt x="40" y="141"/>
                    <a:pt x="13" y="106"/>
                    <a:pt x="0" y="69"/>
                  </a:cubicBezTo>
                  <a:cubicBezTo>
                    <a:pt x="19" y="90"/>
                    <a:pt x="38" y="112"/>
                    <a:pt x="65" y="120"/>
                  </a:cubicBezTo>
                  <a:cubicBezTo>
                    <a:pt x="79" y="124"/>
                    <a:pt x="95" y="115"/>
                    <a:pt x="97" y="101"/>
                  </a:cubicBezTo>
                  <a:cubicBezTo>
                    <a:pt x="100" y="85"/>
                    <a:pt x="115" y="75"/>
                    <a:pt x="119" y="59"/>
                  </a:cubicBezTo>
                  <a:cubicBezTo>
                    <a:pt x="125" y="40"/>
                    <a:pt x="122" y="20"/>
                    <a:pt x="122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78" name="Freeform 12"/>
            <p:cNvSpPr/>
            <p:nvPr/>
          </p:nvSpPr>
          <p:spPr>
            <a:xfrm>
              <a:off x="4802760" y="3231720"/>
              <a:ext cx="406800" cy="64476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21" h="192">
                  <a:moveTo>
                    <a:pt x="77" y="50"/>
                  </a:moveTo>
                  <a:cubicBezTo>
                    <a:pt x="90" y="36"/>
                    <a:pt x="92" y="17"/>
                    <a:pt x="98" y="0"/>
                  </a:cubicBezTo>
                  <a:cubicBezTo>
                    <a:pt x="121" y="63"/>
                    <a:pt x="112" y="137"/>
                    <a:pt x="72" y="192"/>
                  </a:cubicBezTo>
                  <a:cubicBezTo>
                    <a:pt x="70" y="192"/>
                    <a:pt x="66" y="192"/>
                    <a:pt x="64" y="192"/>
                  </a:cubicBezTo>
                  <a:cubicBezTo>
                    <a:pt x="80" y="170"/>
                    <a:pt x="85" y="143"/>
                    <a:pt x="92" y="117"/>
                  </a:cubicBezTo>
                  <a:cubicBezTo>
                    <a:pt x="95" y="98"/>
                    <a:pt x="99" y="79"/>
                    <a:pt x="92" y="60"/>
                  </a:cubicBezTo>
                  <a:cubicBezTo>
                    <a:pt x="79" y="56"/>
                    <a:pt x="69" y="66"/>
                    <a:pt x="60" y="73"/>
                  </a:cubicBezTo>
                  <a:cubicBezTo>
                    <a:pt x="49" y="83"/>
                    <a:pt x="46" y="99"/>
                    <a:pt x="38" y="111"/>
                  </a:cubicBezTo>
                  <a:cubicBezTo>
                    <a:pt x="30" y="121"/>
                    <a:pt x="22" y="132"/>
                    <a:pt x="10" y="138"/>
                  </a:cubicBezTo>
                  <a:cubicBezTo>
                    <a:pt x="23" y="120"/>
                    <a:pt x="43" y="101"/>
                    <a:pt x="39" y="77"/>
                  </a:cubicBezTo>
                  <a:cubicBezTo>
                    <a:pt x="26" y="73"/>
                    <a:pt x="0" y="84"/>
                    <a:pt x="1" y="61"/>
                  </a:cubicBezTo>
                  <a:cubicBezTo>
                    <a:pt x="26" y="73"/>
                    <a:pt x="58" y="71"/>
                    <a:pt x="77" y="5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79" name="Freeform 13"/>
            <p:cNvSpPr/>
            <p:nvPr/>
          </p:nvSpPr>
          <p:spPr>
            <a:xfrm>
              <a:off x="3245040" y="3609000"/>
              <a:ext cx="606960" cy="51624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181" h="154">
                  <a:moveTo>
                    <a:pt x="0" y="0"/>
                  </a:moveTo>
                  <a:cubicBezTo>
                    <a:pt x="10" y="1"/>
                    <a:pt x="19" y="3"/>
                    <a:pt x="29" y="5"/>
                  </a:cubicBezTo>
                  <a:cubicBezTo>
                    <a:pt x="34" y="6"/>
                    <a:pt x="39" y="7"/>
                    <a:pt x="44" y="9"/>
                  </a:cubicBezTo>
                  <a:cubicBezTo>
                    <a:pt x="59" y="16"/>
                    <a:pt x="75" y="20"/>
                    <a:pt x="92" y="22"/>
                  </a:cubicBezTo>
                  <a:cubicBezTo>
                    <a:pt x="103" y="21"/>
                    <a:pt x="113" y="18"/>
                    <a:pt x="124" y="15"/>
                  </a:cubicBezTo>
                  <a:cubicBezTo>
                    <a:pt x="120" y="20"/>
                    <a:pt x="123" y="25"/>
                    <a:pt x="126" y="29"/>
                  </a:cubicBezTo>
                  <a:cubicBezTo>
                    <a:pt x="112" y="34"/>
                    <a:pt x="93" y="40"/>
                    <a:pt x="90" y="58"/>
                  </a:cubicBezTo>
                  <a:cubicBezTo>
                    <a:pt x="114" y="87"/>
                    <a:pt x="160" y="80"/>
                    <a:pt x="181" y="113"/>
                  </a:cubicBezTo>
                  <a:cubicBezTo>
                    <a:pt x="161" y="104"/>
                    <a:pt x="142" y="93"/>
                    <a:pt x="120" y="92"/>
                  </a:cubicBezTo>
                  <a:cubicBezTo>
                    <a:pt x="113" y="91"/>
                    <a:pt x="103" y="94"/>
                    <a:pt x="101" y="101"/>
                  </a:cubicBezTo>
                  <a:cubicBezTo>
                    <a:pt x="93" y="118"/>
                    <a:pt x="92" y="136"/>
                    <a:pt x="88" y="154"/>
                  </a:cubicBezTo>
                  <a:cubicBezTo>
                    <a:pt x="81" y="124"/>
                    <a:pt x="96" y="90"/>
                    <a:pt x="78" y="62"/>
                  </a:cubicBezTo>
                  <a:cubicBezTo>
                    <a:pt x="63" y="31"/>
                    <a:pt x="30" y="15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80" name="Freeform 14"/>
            <p:cNvSpPr/>
            <p:nvPr/>
          </p:nvSpPr>
          <p:spPr>
            <a:xfrm>
              <a:off x="3648600" y="3635280"/>
              <a:ext cx="320400" cy="75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6" h="22">
                  <a:moveTo>
                    <a:pt x="5" y="4"/>
                  </a:moveTo>
                  <a:cubicBezTo>
                    <a:pt x="35" y="2"/>
                    <a:pt x="66" y="0"/>
                    <a:pt x="96" y="4"/>
                  </a:cubicBezTo>
                  <a:cubicBezTo>
                    <a:pt x="72" y="9"/>
                    <a:pt x="47" y="8"/>
                    <a:pt x="25" y="18"/>
                  </a:cubicBezTo>
                  <a:cubicBezTo>
                    <a:pt x="16" y="22"/>
                    <a:pt x="0" y="17"/>
                    <a:pt x="5" y="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81" name="Freeform 15"/>
            <p:cNvSpPr/>
            <p:nvPr/>
          </p:nvSpPr>
          <p:spPr>
            <a:xfrm>
              <a:off x="2373840" y="3703320"/>
              <a:ext cx="587880" cy="9237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75" h="275">
                  <a:moveTo>
                    <a:pt x="113" y="38"/>
                  </a:moveTo>
                  <a:cubicBezTo>
                    <a:pt x="126" y="28"/>
                    <a:pt x="135" y="15"/>
                    <a:pt x="142" y="0"/>
                  </a:cubicBezTo>
                  <a:cubicBezTo>
                    <a:pt x="142" y="14"/>
                    <a:pt x="137" y="28"/>
                    <a:pt x="127" y="37"/>
                  </a:cubicBezTo>
                  <a:cubicBezTo>
                    <a:pt x="116" y="47"/>
                    <a:pt x="103" y="57"/>
                    <a:pt x="97" y="70"/>
                  </a:cubicBezTo>
                  <a:cubicBezTo>
                    <a:pt x="89" y="88"/>
                    <a:pt x="90" y="107"/>
                    <a:pt x="86" y="125"/>
                  </a:cubicBezTo>
                  <a:cubicBezTo>
                    <a:pt x="79" y="159"/>
                    <a:pt x="87" y="199"/>
                    <a:pt x="115" y="222"/>
                  </a:cubicBezTo>
                  <a:cubicBezTo>
                    <a:pt x="132" y="236"/>
                    <a:pt x="154" y="240"/>
                    <a:pt x="175" y="243"/>
                  </a:cubicBezTo>
                  <a:cubicBezTo>
                    <a:pt x="159" y="248"/>
                    <a:pt x="143" y="242"/>
                    <a:pt x="127" y="242"/>
                  </a:cubicBezTo>
                  <a:cubicBezTo>
                    <a:pt x="112" y="247"/>
                    <a:pt x="110" y="265"/>
                    <a:pt x="99" y="275"/>
                  </a:cubicBezTo>
                  <a:cubicBezTo>
                    <a:pt x="102" y="264"/>
                    <a:pt x="108" y="253"/>
                    <a:pt x="104" y="242"/>
                  </a:cubicBezTo>
                  <a:cubicBezTo>
                    <a:pt x="98" y="210"/>
                    <a:pt x="73" y="186"/>
                    <a:pt x="66" y="155"/>
                  </a:cubicBezTo>
                  <a:cubicBezTo>
                    <a:pt x="62" y="126"/>
                    <a:pt x="25" y="113"/>
                    <a:pt x="0" y="124"/>
                  </a:cubicBezTo>
                  <a:cubicBezTo>
                    <a:pt x="16" y="113"/>
                    <a:pt x="37" y="110"/>
                    <a:pt x="55" y="117"/>
                  </a:cubicBezTo>
                  <a:cubicBezTo>
                    <a:pt x="62" y="122"/>
                    <a:pt x="70" y="118"/>
                    <a:pt x="72" y="110"/>
                  </a:cubicBezTo>
                  <a:cubicBezTo>
                    <a:pt x="77" y="93"/>
                    <a:pt x="78" y="76"/>
                    <a:pt x="86" y="60"/>
                  </a:cubicBezTo>
                  <a:cubicBezTo>
                    <a:pt x="91" y="49"/>
                    <a:pt x="104" y="45"/>
                    <a:pt x="113" y="3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82" name="Freeform 16"/>
            <p:cNvSpPr/>
            <p:nvPr/>
          </p:nvSpPr>
          <p:spPr>
            <a:xfrm>
              <a:off x="4814280" y="3774960"/>
              <a:ext cx="154440" cy="1051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6" h="32">
                  <a:moveTo>
                    <a:pt x="8" y="15"/>
                  </a:moveTo>
                  <a:cubicBezTo>
                    <a:pt x="22" y="16"/>
                    <a:pt x="36" y="11"/>
                    <a:pt x="46" y="0"/>
                  </a:cubicBezTo>
                  <a:cubicBezTo>
                    <a:pt x="39" y="18"/>
                    <a:pt x="18" y="23"/>
                    <a:pt x="4" y="32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1" y="29"/>
                    <a:pt x="0" y="23"/>
                    <a:pt x="0" y="20"/>
                  </a:cubicBezTo>
                  <a:cubicBezTo>
                    <a:pt x="2" y="19"/>
                    <a:pt x="6" y="16"/>
                    <a:pt x="8" y="15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83" name="Freeform 17"/>
            <p:cNvSpPr/>
            <p:nvPr/>
          </p:nvSpPr>
          <p:spPr>
            <a:xfrm>
              <a:off x="4086360" y="4016520"/>
              <a:ext cx="421920" cy="14688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125" h="44">
                  <a:moveTo>
                    <a:pt x="53" y="20"/>
                  </a:moveTo>
                  <a:cubicBezTo>
                    <a:pt x="76" y="10"/>
                    <a:pt x="100" y="0"/>
                    <a:pt x="125" y="7"/>
                  </a:cubicBezTo>
                  <a:cubicBezTo>
                    <a:pt x="113" y="12"/>
                    <a:pt x="95" y="9"/>
                    <a:pt x="91" y="24"/>
                  </a:cubicBezTo>
                  <a:cubicBezTo>
                    <a:pt x="93" y="32"/>
                    <a:pt x="100" y="38"/>
                    <a:pt x="105" y="44"/>
                  </a:cubicBezTo>
                  <a:cubicBezTo>
                    <a:pt x="90" y="37"/>
                    <a:pt x="75" y="26"/>
                    <a:pt x="57" y="31"/>
                  </a:cubicBezTo>
                  <a:cubicBezTo>
                    <a:pt x="37" y="35"/>
                    <a:pt x="16" y="28"/>
                    <a:pt x="0" y="14"/>
                  </a:cubicBezTo>
                  <a:cubicBezTo>
                    <a:pt x="17" y="23"/>
                    <a:pt x="36" y="27"/>
                    <a:pt x="53" y="2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484" name="文本框 45"/>
          <p:cNvSpPr/>
          <p:nvPr/>
        </p:nvSpPr>
        <p:spPr>
          <a:xfrm>
            <a:off x="7279200" y="2327040"/>
            <a:ext cx="2284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大脑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直接连接符 47"/>
          <p:cNvCxnSpPr/>
          <p:nvPr/>
        </p:nvCxnSpPr>
        <p:spPr>
          <a:xfrm>
            <a:off x="748440" y="669240"/>
            <a:ext cx="1069488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</a:ln>
        </p:spPr>
      </p:cxnSp>
      <p:sp>
        <p:nvSpPr>
          <p:cNvPr id="486" name="文本框 48"/>
          <p:cNvSpPr/>
          <p:nvPr/>
        </p:nvSpPr>
        <p:spPr>
          <a:xfrm>
            <a:off x="7331400" y="4226040"/>
            <a:ext cx="22158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900" spc="-1" strike="noStrike">
                <a:solidFill>
                  <a:srgbClr val="2e2e2e"/>
                </a:solidFill>
                <a:latin typeface="微软雅黑"/>
                <a:ea typeface="微软雅黑"/>
              </a:rPr>
              <a:t>很重要</a:t>
            </a:r>
            <a:endParaRPr b="0" lang="en-US" sz="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49"/>
          <p:cNvSpPr/>
          <p:nvPr/>
        </p:nvSpPr>
        <p:spPr>
          <a:xfrm>
            <a:off x="6633000" y="1742040"/>
            <a:ext cx="3691800" cy="57708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2e2e2e"/>
                </a:solidFill>
                <a:latin typeface="微软雅黑 Light"/>
                <a:ea typeface="微软雅黑 Light"/>
              </a:rPr>
              <a:t>我们都有一个共识</a:t>
            </a:r>
            <a:r>
              <a:rPr b="0" lang="en-US" sz="3200" spc="-1" strike="noStrike">
                <a:solidFill>
                  <a:srgbClr val="2e2e2e"/>
                </a:solidFill>
                <a:latin typeface="微软雅黑 Light"/>
                <a:ea typeface="微软雅黑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直接连接符 51"/>
          <p:cNvCxnSpPr/>
          <p:nvPr/>
        </p:nvCxnSpPr>
        <p:spPr>
          <a:xfrm>
            <a:off x="6095880" y="1775520"/>
            <a:ext cx="360" cy="37119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sp>
        <p:nvSpPr>
          <p:cNvPr id="489" name="梯形 21"/>
          <p:cNvSpPr/>
          <p:nvPr/>
        </p:nvSpPr>
        <p:spPr>
          <a:xfrm rot="10800000">
            <a:off x="360" y="6319440"/>
            <a:ext cx="12191760" cy="536400"/>
          </a:xfrm>
          <a:prstGeom prst="trapezoid">
            <a:avLst>
              <a:gd name="adj" fmla="val 13199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30"/>
          <p:cNvSpPr/>
          <p:nvPr/>
        </p:nvSpPr>
        <p:spPr>
          <a:xfrm>
            <a:off x="695160" y="0"/>
            <a:ext cx="10801080" cy="55630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491" name="矩形 1"/>
          <p:cNvSpPr/>
          <p:nvPr/>
        </p:nvSpPr>
        <p:spPr>
          <a:xfrm>
            <a:off x="1185480" y="974160"/>
            <a:ext cx="9820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到控制着僵尸的认知与行为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5"/>
          <p:cNvSpPr/>
          <p:nvPr/>
        </p:nvSpPr>
        <p:spPr>
          <a:xfrm>
            <a:off x="2853000" y="4574520"/>
            <a:ext cx="2096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Segoe UI Light 8"/>
                <a:ea typeface="微软雅黑 Light"/>
              </a:rPr>
              <a:t>不好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16"/>
          <p:cNvSpPr/>
          <p:nvPr/>
        </p:nvSpPr>
        <p:spPr>
          <a:xfrm>
            <a:off x="7242120" y="4574520"/>
            <a:ext cx="2096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Segoe UI Light 8"/>
                <a:ea typeface="微软雅黑 Light"/>
              </a:rPr>
              <a:t>好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898720" y="4142160"/>
            <a:ext cx="2050560" cy="318600"/>
          </a:xfrm>
          <a:custGeom>
            <a:avLst/>
            <a:gdLst>
              <a:gd name="textAreaLeft" fmla="*/ 0 w 2050560"/>
              <a:gd name="textAreaRight" fmla="*/ 2050920 w 205056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200" h="28">
                <a:moveTo>
                  <a:pt x="44" y="28"/>
                </a:moveTo>
                <a:cubicBezTo>
                  <a:pt x="156" y="28"/>
                  <a:pt x="156" y="28"/>
                  <a:pt x="156" y="28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44" y="20"/>
                  <a:pt x="44" y="20"/>
                  <a:pt x="44" y="20"/>
                </a:cubicBezTo>
                <a:lnTo>
                  <a:pt x="44" y="28"/>
                </a:lnTo>
                <a:close/>
                <a:moveTo>
                  <a:pt x="0" y="0"/>
                </a:moveTo>
                <a:cubicBezTo>
                  <a:pt x="4" y="9"/>
                  <a:pt x="47" y="17"/>
                  <a:pt x="100" y="17"/>
                </a:cubicBezTo>
                <a:cubicBezTo>
                  <a:pt x="153" y="17"/>
                  <a:pt x="196" y="9"/>
                  <a:pt x="200" y="0"/>
                </a:cubicBez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495" name="Group 18"/>
          <p:cNvGrpSpPr/>
          <p:nvPr/>
        </p:nvGrpSpPr>
        <p:grpSpPr>
          <a:xfrm>
            <a:off x="3026880" y="2998800"/>
            <a:ext cx="1922760" cy="1095480"/>
            <a:chOff x="3026880" y="2998800"/>
            <a:chExt cx="1922760" cy="1095480"/>
          </a:xfrm>
        </p:grpSpPr>
        <p:sp>
          <p:nvSpPr>
            <p:cNvPr id="496" name="Freeform 19"/>
            <p:cNvSpPr/>
            <p:nvPr/>
          </p:nvSpPr>
          <p:spPr>
            <a:xfrm>
              <a:off x="3026880" y="3213720"/>
              <a:ext cx="1922760" cy="880560"/>
            </a:xfrm>
            <a:custGeom>
              <a:avLst/>
              <a:gdLst>
                <a:gd name="textAreaLeft" fmla="*/ 0 w 1922760"/>
                <a:gd name="textAreaRight" fmla="*/ 1923120 w 192276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199" h="89">
                  <a:moveTo>
                    <a:pt x="187" y="89"/>
                  </a:moveTo>
                  <a:cubicBezTo>
                    <a:pt x="185" y="89"/>
                    <a:pt x="173" y="89"/>
                    <a:pt x="173" y="89"/>
                  </a:cubicBezTo>
                  <a:cubicBezTo>
                    <a:pt x="173" y="89"/>
                    <a:pt x="164" y="79"/>
                    <a:pt x="158" y="70"/>
                  </a:cubicBezTo>
                  <a:cubicBezTo>
                    <a:pt x="144" y="59"/>
                    <a:pt x="140" y="89"/>
                    <a:pt x="123" y="89"/>
                  </a:cubicBezTo>
                  <a:cubicBezTo>
                    <a:pt x="115" y="89"/>
                    <a:pt x="98" y="89"/>
                    <a:pt x="81" y="89"/>
                  </a:cubicBezTo>
                  <a:cubicBezTo>
                    <a:pt x="84" y="79"/>
                    <a:pt x="94" y="36"/>
                    <a:pt x="61" y="16"/>
                  </a:cubicBezTo>
                  <a:cubicBezTo>
                    <a:pt x="89" y="54"/>
                    <a:pt x="72" y="81"/>
                    <a:pt x="66" y="89"/>
                  </a:cubicBezTo>
                  <a:cubicBezTo>
                    <a:pt x="55" y="89"/>
                    <a:pt x="44" y="89"/>
                    <a:pt x="38" y="89"/>
                  </a:cubicBezTo>
                  <a:cubicBezTo>
                    <a:pt x="18" y="89"/>
                    <a:pt x="0" y="62"/>
                    <a:pt x="0" y="62"/>
                  </a:cubicBezTo>
                  <a:cubicBezTo>
                    <a:pt x="0" y="62"/>
                    <a:pt x="21" y="0"/>
                    <a:pt x="75" y="0"/>
                  </a:cubicBezTo>
                  <a:cubicBezTo>
                    <a:pt x="129" y="0"/>
                    <a:pt x="122" y="57"/>
                    <a:pt x="165" y="56"/>
                  </a:cubicBezTo>
                  <a:cubicBezTo>
                    <a:pt x="181" y="39"/>
                    <a:pt x="199" y="32"/>
                    <a:pt x="199" y="32"/>
                  </a:cubicBezTo>
                  <a:cubicBezTo>
                    <a:pt x="199" y="32"/>
                    <a:pt x="176" y="60"/>
                    <a:pt x="187" y="89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97" name="Oval 20"/>
            <p:cNvSpPr/>
            <p:nvPr/>
          </p:nvSpPr>
          <p:spPr>
            <a:xfrm>
              <a:off x="3370680" y="3557520"/>
              <a:ext cx="171360" cy="1713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98" name="Freeform 21"/>
            <p:cNvSpPr/>
            <p:nvPr/>
          </p:nvSpPr>
          <p:spPr>
            <a:xfrm>
              <a:off x="4262400" y="3450240"/>
              <a:ext cx="257400" cy="2361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7" h="24">
                  <a:moveTo>
                    <a:pt x="0" y="0"/>
                  </a:moveTo>
                  <a:cubicBezTo>
                    <a:pt x="0" y="0"/>
                    <a:pt x="15" y="2"/>
                    <a:pt x="23" y="10"/>
                  </a:cubicBezTo>
                  <a:cubicBezTo>
                    <a:pt x="27" y="15"/>
                    <a:pt x="22" y="24"/>
                    <a:pt x="22" y="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628440" y="2998800"/>
              <a:ext cx="547560" cy="34344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57" h="35">
                  <a:moveTo>
                    <a:pt x="0" y="16"/>
                  </a:moveTo>
                  <a:cubicBezTo>
                    <a:pt x="0" y="16"/>
                    <a:pt x="14" y="0"/>
                    <a:pt x="43" y="4"/>
                  </a:cubicBezTo>
                  <a:cubicBezTo>
                    <a:pt x="42" y="8"/>
                    <a:pt x="38" y="14"/>
                    <a:pt x="57" y="35"/>
                  </a:cubicBezTo>
                  <a:cubicBezTo>
                    <a:pt x="34" y="10"/>
                    <a:pt x="0" y="16"/>
                    <a:pt x="0" y="16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500" name="Group 25"/>
          <p:cNvGrpSpPr/>
          <p:nvPr/>
        </p:nvGrpSpPr>
        <p:grpSpPr>
          <a:xfrm>
            <a:off x="3456360" y="2194200"/>
            <a:ext cx="719640" cy="691200"/>
            <a:chOff x="3456360" y="2194200"/>
            <a:chExt cx="719640" cy="691200"/>
          </a:xfrm>
        </p:grpSpPr>
        <p:sp>
          <p:nvSpPr>
            <p:cNvPr id="501" name="Freeform 26"/>
            <p:cNvSpPr/>
            <p:nvPr/>
          </p:nvSpPr>
          <p:spPr>
            <a:xfrm>
              <a:off x="3555360" y="2194200"/>
              <a:ext cx="620640" cy="57816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45" h="44">
                  <a:moveTo>
                    <a:pt x="27" y="44"/>
                  </a:moveTo>
                  <a:cubicBezTo>
                    <a:pt x="33" y="27"/>
                    <a:pt x="0" y="12"/>
                    <a:pt x="27" y="0"/>
                  </a:cubicBezTo>
                  <a:cubicBezTo>
                    <a:pt x="22" y="10"/>
                    <a:pt x="26" y="17"/>
                    <a:pt x="29" y="20"/>
                  </a:cubicBezTo>
                  <a:cubicBezTo>
                    <a:pt x="45" y="33"/>
                    <a:pt x="30" y="44"/>
                    <a:pt x="27" y="4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502" name="Freeform 27"/>
            <p:cNvSpPr/>
            <p:nvPr/>
          </p:nvSpPr>
          <p:spPr>
            <a:xfrm>
              <a:off x="3456360" y="2490480"/>
              <a:ext cx="408960" cy="39492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30" h="30">
                  <a:moveTo>
                    <a:pt x="18" y="30"/>
                  </a:moveTo>
                  <a:cubicBezTo>
                    <a:pt x="22" y="18"/>
                    <a:pt x="0" y="9"/>
                    <a:pt x="18" y="0"/>
                  </a:cubicBezTo>
                  <a:cubicBezTo>
                    <a:pt x="14" y="7"/>
                    <a:pt x="17" y="11"/>
                    <a:pt x="19" y="14"/>
                  </a:cubicBezTo>
                  <a:cubicBezTo>
                    <a:pt x="30" y="23"/>
                    <a:pt x="20" y="30"/>
                    <a:pt x="18" y="3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503" name="Freeform 11"/>
          <p:cNvSpPr/>
          <p:nvPr/>
        </p:nvSpPr>
        <p:spPr>
          <a:xfrm>
            <a:off x="7242120" y="4142160"/>
            <a:ext cx="2050560" cy="318600"/>
          </a:xfrm>
          <a:custGeom>
            <a:avLst/>
            <a:gdLst>
              <a:gd name="textAreaLeft" fmla="*/ 0 w 2050560"/>
              <a:gd name="textAreaRight" fmla="*/ 2050920 w 205056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200" h="28">
                <a:moveTo>
                  <a:pt x="44" y="28"/>
                </a:moveTo>
                <a:cubicBezTo>
                  <a:pt x="156" y="28"/>
                  <a:pt x="156" y="28"/>
                  <a:pt x="156" y="28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44" y="20"/>
                  <a:pt x="44" y="20"/>
                  <a:pt x="44" y="20"/>
                </a:cubicBezTo>
                <a:lnTo>
                  <a:pt x="44" y="28"/>
                </a:lnTo>
                <a:close/>
                <a:moveTo>
                  <a:pt x="0" y="0"/>
                </a:moveTo>
                <a:cubicBezTo>
                  <a:pt x="4" y="9"/>
                  <a:pt x="47" y="17"/>
                  <a:pt x="100" y="17"/>
                </a:cubicBezTo>
                <a:cubicBezTo>
                  <a:pt x="153" y="17"/>
                  <a:pt x="196" y="9"/>
                  <a:pt x="200" y="0"/>
                </a:cubicBez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Segoe UI Light 8"/>
              <a:ea typeface="微软雅黑 Light"/>
            </a:endParaRPr>
          </a:p>
        </p:txBody>
      </p:sp>
      <p:grpSp>
        <p:nvGrpSpPr>
          <p:cNvPr id="504" name="组合 39"/>
          <p:cNvGrpSpPr/>
          <p:nvPr/>
        </p:nvGrpSpPr>
        <p:grpSpPr>
          <a:xfrm>
            <a:off x="7378920" y="2957400"/>
            <a:ext cx="1776960" cy="1171440"/>
            <a:chOff x="7378920" y="2957400"/>
            <a:chExt cx="1776960" cy="1171440"/>
          </a:xfrm>
        </p:grpSpPr>
        <p:sp>
          <p:nvSpPr>
            <p:cNvPr id="505" name="Freeform 17"/>
            <p:cNvSpPr/>
            <p:nvPr/>
          </p:nvSpPr>
          <p:spPr>
            <a:xfrm>
              <a:off x="8253000" y="2957400"/>
              <a:ext cx="902880" cy="117144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12" h="14">
                  <a:moveTo>
                    <a:pt x="1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1"/>
                    <a:pt x="2" y="0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6" y="1"/>
                    <a:pt x="7" y="2"/>
                    <a:pt x="7" y="3"/>
                  </a:cubicBezTo>
                  <a:cubicBezTo>
                    <a:pt x="7" y="4"/>
                    <a:pt x="7" y="4"/>
                    <a:pt x="8" y="4"/>
                  </a:cubicBezTo>
                  <a:cubicBezTo>
                    <a:pt x="9" y="4"/>
                    <a:pt x="10" y="5"/>
                    <a:pt x="10" y="6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1" y="8"/>
                    <a:pt x="12" y="9"/>
                    <a:pt x="12" y="10"/>
                  </a:cubicBezTo>
                  <a:cubicBezTo>
                    <a:pt x="12" y="12"/>
                    <a:pt x="11" y="14"/>
                    <a:pt x="9" y="12"/>
                  </a:cubicBezTo>
                  <a:cubicBezTo>
                    <a:pt x="9" y="12"/>
                    <a:pt x="9" y="11"/>
                    <a:pt x="8" y="11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7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8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7" y="9"/>
                    <a:pt x="7" y="9"/>
                    <a:pt x="7" y="10"/>
                  </a:cubicBezTo>
                  <a:cubicBezTo>
                    <a:pt x="7" y="10"/>
                    <a:pt x="7" y="10"/>
                    <a:pt x="7" y="11"/>
                  </a:cubicBezTo>
                  <a:cubicBezTo>
                    <a:pt x="7" y="11"/>
                    <a:pt x="7" y="11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5" y="12"/>
                    <a:pt x="5" y="10"/>
                    <a:pt x="4" y="9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4" y="5"/>
                    <a:pt x="4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"/>
                    <a:pt x="3" y="5"/>
                    <a:pt x="3" y="4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6"/>
                    <a:pt x="4" y="7"/>
                    <a:pt x="4" y="8"/>
                  </a:cubicBezTo>
                  <a:cubicBezTo>
                    <a:pt x="3" y="8"/>
                    <a:pt x="3" y="8"/>
                    <a:pt x="4" y="9"/>
                  </a:cubicBezTo>
                  <a:cubicBezTo>
                    <a:pt x="5" y="11"/>
                    <a:pt x="3" y="13"/>
                    <a:pt x="1" y="12"/>
                  </a:cubicBezTo>
                  <a:cubicBezTo>
                    <a:pt x="0" y="11"/>
                    <a:pt x="0" y="9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506" name="Freeform 16"/>
            <p:cNvSpPr/>
            <p:nvPr/>
          </p:nvSpPr>
          <p:spPr>
            <a:xfrm>
              <a:off x="7378920" y="2977560"/>
              <a:ext cx="979200" cy="10875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13" h="13">
                  <a:moveTo>
                    <a:pt x="8" y="10"/>
                  </a:moveTo>
                  <a:cubicBezTo>
                    <a:pt x="8" y="10"/>
                    <a:pt x="7" y="10"/>
                    <a:pt x="7" y="9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5" y="7"/>
                    <a:pt x="6" y="6"/>
                    <a:pt x="6" y="5"/>
                  </a:cubicBezTo>
                  <a:cubicBezTo>
                    <a:pt x="7" y="5"/>
                    <a:pt x="7" y="5"/>
                    <a:pt x="7" y="6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9" y="7"/>
                    <a:pt x="9" y="7"/>
                    <a:pt x="9" y="6"/>
                  </a:cubicBezTo>
                  <a:cubicBezTo>
                    <a:pt x="9" y="6"/>
                    <a:pt x="9" y="6"/>
                    <a:pt x="8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7" y="4"/>
                    <a:pt x="7" y="4"/>
                  </a:cubicBezTo>
                  <a:cubicBezTo>
                    <a:pt x="7" y="4"/>
                    <a:pt x="7" y="4"/>
                    <a:pt x="6" y="5"/>
                  </a:cubicBezTo>
                  <a:cubicBezTo>
                    <a:pt x="5" y="5"/>
                    <a:pt x="5" y="7"/>
                    <a:pt x="6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4" y="11"/>
                    <a:pt x="4" y="12"/>
                  </a:cubicBezTo>
                  <a:cubicBezTo>
                    <a:pt x="3" y="13"/>
                    <a:pt x="3" y="13"/>
                    <a:pt x="2" y="13"/>
                  </a:cubicBezTo>
                  <a:cubicBezTo>
                    <a:pt x="0" y="13"/>
                    <a:pt x="0" y="12"/>
                    <a:pt x="0" y="10"/>
                  </a:cubicBezTo>
                  <a:cubicBezTo>
                    <a:pt x="0" y="9"/>
                    <a:pt x="1" y="8"/>
                    <a:pt x="2" y="7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5"/>
                    <a:pt x="3" y="4"/>
                    <a:pt x="4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5" y="2"/>
                    <a:pt x="6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0"/>
                    <a:pt x="13" y="2"/>
                    <a:pt x="11" y="4"/>
                  </a:cubicBezTo>
                  <a:cubicBezTo>
                    <a:pt x="11" y="5"/>
                    <a:pt x="11" y="5"/>
                    <a:pt x="11" y="6"/>
                  </a:cubicBezTo>
                  <a:cubicBezTo>
                    <a:pt x="12" y="7"/>
                    <a:pt x="12" y="10"/>
                    <a:pt x="10" y="9"/>
                  </a:cubicBezTo>
                  <a:cubicBezTo>
                    <a:pt x="9" y="9"/>
                    <a:pt x="9" y="9"/>
                    <a:pt x="8" y="10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7831080" y="3814560"/>
              <a:ext cx="451800" cy="2505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" h="3">
                  <a:moveTo>
                    <a:pt x="2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3" y="3"/>
                    <a:pt x="4" y="2"/>
                    <a:pt x="2" y="3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 Light"/>
                <a:ea typeface="微软雅黑 Light"/>
              </a:endParaRPr>
            </a:p>
          </p:txBody>
        </p:sp>
      </p:grpSp>
      <p:sp>
        <p:nvSpPr>
          <p:cNvPr id="508" name="矩形 44"/>
          <p:cNvSpPr/>
          <p:nvPr/>
        </p:nvSpPr>
        <p:spPr>
          <a:xfrm>
            <a:off x="2171520" y="803520"/>
            <a:ext cx="7848720" cy="925920"/>
          </a:xfrm>
          <a:prstGeom prst="rect">
            <a:avLst/>
          </a:prstGeom>
          <a:noFill/>
          <a:ln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09" name="矩形 2"/>
          <p:cNvSpPr/>
          <p:nvPr/>
        </p:nvSpPr>
        <p:spPr>
          <a:xfrm>
            <a:off x="0" y="0"/>
            <a:ext cx="69480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10" name="矩形 21"/>
          <p:cNvSpPr/>
          <p:nvPr/>
        </p:nvSpPr>
        <p:spPr>
          <a:xfrm>
            <a:off x="11492640" y="0"/>
            <a:ext cx="69480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0" y="64065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d03b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25"/>
          <p:cNvSpPr/>
          <p:nvPr/>
        </p:nvSpPr>
        <p:spPr>
          <a:xfrm>
            <a:off x="0" y="0"/>
            <a:ext cx="69480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13" name="矩形 26"/>
          <p:cNvSpPr/>
          <p:nvPr/>
        </p:nvSpPr>
        <p:spPr>
          <a:xfrm>
            <a:off x="11492640" y="0"/>
            <a:ext cx="694800" cy="6857640"/>
          </a:xfrm>
          <a:prstGeom prst="rect">
            <a:avLst/>
          </a:prstGeom>
          <a:solidFill>
            <a:srgbClr val="f2f2f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14" name="梯形 29"/>
          <p:cNvSpPr/>
          <p:nvPr/>
        </p:nvSpPr>
        <p:spPr>
          <a:xfrm>
            <a:off x="0" y="6321240"/>
            <a:ext cx="12191760" cy="536400"/>
          </a:xfrm>
          <a:prstGeom prst="trapezoid">
            <a:avLst>
              <a:gd name="adj" fmla="val 129625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15" name="椭圆 1"/>
          <p:cNvSpPr/>
          <p:nvPr/>
        </p:nvSpPr>
        <p:spPr>
          <a:xfrm>
            <a:off x="4589280" y="6503040"/>
            <a:ext cx="1213200" cy="173160"/>
          </a:xfrm>
          <a:prstGeom prst="ellipse">
            <a:avLst/>
          </a:prstGeom>
          <a:solidFill>
            <a:schemeClr val="accent2">
              <a:alpha val="4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16" name="椭圆 31"/>
          <p:cNvSpPr/>
          <p:nvPr/>
        </p:nvSpPr>
        <p:spPr>
          <a:xfrm>
            <a:off x="6022800" y="6503040"/>
            <a:ext cx="1213200" cy="173160"/>
          </a:xfrm>
          <a:prstGeom prst="ellipse">
            <a:avLst/>
          </a:prstGeom>
          <a:solidFill>
            <a:schemeClr val="accent2">
              <a:alpha val="4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17" name="等腰三角形 39"/>
          <p:cNvSpPr/>
          <p:nvPr/>
        </p:nvSpPr>
        <p:spPr>
          <a:xfrm rot="19178400">
            <a:off x="7315920" y="4198680"/>
            <a:ext cx="190440" cy="541800"/>
          </a:xfrm>
          <a:prstGeom prst="triangle">
            <a:avLst>
              <a:gd name="adj" fmla="val 10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sp>
        <p:nvSpPr>
          <p:cNvPr id="518" name="等腰三角形 38"/>
          <p:cNvSpPr/>
          <p:nvPr/>
        </p:nvSpPr>
        <p:spPr>
          <a:xfrm rot="1956600">
            <a:off x="4189680" y="4537440"/>
            <a:ext cx="190440" cy="541800"/>
          </a:xfrm>
          <a:prstGeom prst="triangle">
            <a:avLst>
              <a:gd name="adj" fmla="val 10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Segoe UI Light 8"/>
              <a:ea typeface="微软雅黑 Light"/>
            </a:endParaRPr>
          </a:p>
        </p:txBody>
      </p:sp>
      <p:grpSp>
        <p:nvGrpSpPr>
          <p:cNvPr id="519" name="Group 4"/>
          <p:cNvGrpSpPr/>
          <p:nvPr/>
        </p:nvGrpSpPr>
        <p:grpSpPr>
          <a:xfrm>
            <a:off x="6122880" y="3654000"/>
            <a:ext cx="1048680" cy="2956680"/>
            <a:chOff x="6122880" y="3654000"/>
            <a:chExt cx="1048680" cy="2956680"/>
          </a:xfrm>
        </p:grpSpPr>
        <p:sp>
          <p:nvSpPr>
            <p:cNvPr id="520" name="Freeform 5"/>
            <p:cNvSpPr/>
            <p:nvPr/>
          </p:nvSpPr>
          <p:spPr>
            <a:xfrm>
              <a:off x="6122880" y="465984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521" name="Freeform 6"/>
            <p:cNvSpPr/>
            <p:nvPr/>
          </p:nvSpPr>
          <p:spPr>
            <a:xfrm>
              <a:off x="7163280" y="465984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522" name="Oval 7"/>
            <p:cNvSpPr/>
            <p:nvPr/>
          </p:nvSpPr>
          <p:spPr>
            <a:xfrm>
              <a:off x="6304680" y="3654000"/>
              <a:ext cx="450720" cy="4417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523" name="Freeform 8"/>
            <p:cNvSpPr/>
            <p:nvPr/>
          </p:nvSpPr>
          <p:spPr>
            <a:xfrm>
              <a:off x="6122880" y="4165560"/>
              <a:ext cx="1040040" cy="244512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2445120"/>
                <a:gd name="textAreaBottom" fmla="*/ 2445480 h 2445120"/>
              </a:gdLst>
              <a:ahLst/>
              <a:rect l="textAreaLeft" t="textAreaTop" r="textAreaRight" b="textAreaBottom"/>
              <a:pathLst>
                <a:path w="132" h="315">
                  <a:moveTo>
                    <a:pt x="104" y="3"/>
                  </a:moveTo>
                  <a:cubicBezTo>
                    <a:pt x="100" y="2"/>
                    <a:pt x="96" y="1"/>
                    <a:pt x="9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78" y="25"/>
                    <a:pt x="71" y="43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1" y="32"/>
                    <a:pt x="61" y="32"/>
                    <a:pt x="61" y="32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54" y="25"/>
                    <a:pt x="44" y="0"/>
                    <a:pt x="44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6" y="1"/>
                    <a:pt x="32" y="2"/>
                    <a:pt x="28" y="3"/>
                  </a:cubicBezTo>
                  <a:cubicBezTo>
                    <a:pt x="1" y="14"/>
                    <a:pt x="0" y="44"/>
                    <a:pt x="0" y="55"/>
                  </a:cubicBezTo>
                  <a:cubicBezTo>
                    <a:pt x="0" y="55"/>
                    <a:pt x="0" y="56"/>
                    <a:pt x="0" y="56"/>
                  </a:cubicBezTo>
                  <a:cubicBezTo>
                    <a:pt x="0" y="57"/>
                    <a:pt x="1" y="59"/>
                    <a:pt x="1" y="59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9"/>
                    <a:pt x="5" y="121"/>
                    <a:pt x="5" y="122"/>
                  </a:cubicBezTo>
                  <a:cubicBezTo>
                    <a:pt x="6" y="138"/>
                    <a:pt x="7" y="151"/>
                    <a:pt x="7" y="151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21" y="155"/>
                    <a:pt x="26" y="155"/>
                  </a:cubicBezTo>
                  <a:cubicBezTo>
                    <a:pt x="26" y="158"/>
                    <a:pt x="26" y="193"/>
                    <a:pt x="26" y="229"/>
                  </a:cubicBezTo>
                  <a:cubicBezTo>
                    <a:pt x="26" y="271"/>
                    <a:pt x="26" y="315"/>
                    <a:pt x="26" y="315"/>
                  </a:cubicBezTo>
                  <a:cubicBezTo>
                    <a:pt x="57" y="315"/>
                    <a:pt x="57" y="315"/>
                    <a:pt x="57" y="315"/>
                  </a:cubicBezTo>
                  <a:cubicBezTo>
                    <a:pt x="57" y="315"/>
                    <a:pt x="61" y="267"/>
                    <a:pt x="65" y="229"/>
                  </a:cubicBezTo>
                  <a:cubicBezTo>
                    <a:pt x="67" y="229"/>
                    <a:pt x="67" y="229"/>
                    <a:pt x="67" y="229"/>
                  </a:cubicBezTo>
                  <a:cubicBezTo>
                    <a:pt x="71" y="267"/>
                    <a:pt x="75" y="315"/>
                    <a:pt x="75" y="315"/>
                  </a:cubicBezTo>
                  <a:cubicBezTo>
                    <a:pt x="106" y="315"/>
                    <a:pt x="106" y="315"/>
                    <a:pt x="106" y="315"/>
                  </a:cubicBezTo>
                  <a:cubicBezTo>
                    <a:pt x="106" y="315"/>
                    <a:pt x="106" y="271"/>
                    <a:pt x="106" y="229"/>
                  </a:cubicBezTo>
                  <a:cubicBezTo>
                    <a:pt x="106" y="193"/>
                    <a:pt x="106" y="158"/>
                    <a:pt x="106" y="155"/>
                  </a:cubicBezTo>
                  <a:cubicBezTo>
                    <a:pt x="111" y="155"/>
                    <a:pt x="125" y="155"/>
                    <a:pt x="125" y="155"/>
                  </a:cubicBezTo>
                  <a:cubicBezTo>
                    <a:pt x="131" y="59"/>
                    <a:pt x="131" y="59"/>
                    <a:pt x="131" y="59"/>
                  </a:cubicBezTo>
                  <a:cubicBezTo>
                    <a:pt x="131" y="59"/>
                    <a:pt x="131" y="57"/>
                    <a:pt x="132" y="56"/>
                  </a:cubicBezTo>
                  <a:cubicBezTo>
                    <a:pt x="132" y="55"/>
                    <a:pt x="132" y="55"/>
                    <a:pt x="132" y="55"/>
                  </a:cubicBezTo>
                  <a:cubicBezTo>
                    <a:pt x="132" y="55"/>
                    <a:pt x="132" y="54"/>
                    <a:pt x="132" y="53"/>
                  </a:cubicBezTo>
                  <a:cubicBezTo>
                    <a:pt x="132" y="40"/>
                    <a:pt x="129" y="13"/>
                    <a:pt x="104" y="3"/>
                  </a:cubicBezTo>
                  <a:close/>
                  <a:moveTo>
                    <a:pt x="125" y="58"/>
                  </a:moveTo>
                  <a:cubicBezTo>
                    <a:pt x="124" y="58"/>
                    <a:pt x="120" y="132"/>
                    <a:pt x="119" y="148"/>
                  </a:cubicBezTo>
                  <a:cubicBezTo>
                    <a:pt x="116" y="148"/>
                    <a:pt x="111" y="148"/>
                    <a:pt x="106" y="148"/>
                  </a:cubicBezTo>
                  <a:cubicBezTo>
                    <a:pt x="106" y="59"/>
                    <a:pt x="106" y="59"/>
                    <a:pt x="106" y="59"/>
                  </a:cubicBezTo>
                  <a:cubicBezTo>
                    <a:pt x="100" y="59"/>
                    <a:pt x="100" y="59"/>
                    <a:pt x="100" y="59"/>
                  </a:cubicBezTo>
                  <a:cubicBezTo>
                    <a:pt x="100" y="148"/>
                    <a:pt x="100" y="148"/>
                    <a:pt x="100" y="148"/>
                  </a:cubicBezTo>
                  <a:cubicBezTo>
                    <a:pt x="100" y="148"/>
                    <a:pt x="100" y="149"/>
                    <a:pt x="100" y="151"/>
                  </a:cubicBezTo>
                  <a:cubicBezTo>
                    <a:pt x="100" y="161"/>
                    <a:pt x="100" y="191"/>
                    <a:pt x="100" y="222"/>
                  </a:cubicBezTo>
                  <a:cubicBezTo>
                    <a:pt x="94" y="222"/>
                    <a:pt x="38" y="222"/>
                    <a:pt x="32" y="222"/>
                  </a:cubicBezTo>
                  <a:cubicBezTo>
                    <a:pt x="32" y="191"/>
                    <a:pt x="32" y="161"/>
                    <a:pt x="32" y="151"/>
                  </a:cubicBezTo>
                  <a:cubicBezTo>
                    <a:pt x="32" y="149"/>
                    <a:pt x="32" y="148"/>
                    <a:pt x="32" y="148"/>
                  </a:cubicBezTo>
                  <a:cubicBezTo>
                    <a:pt x="32" y="59"/>
                    <a:pt x="32" y="59"/>
                    <a:pt x="32" y="59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6" y="148"/>
                    <a:pt x="26" y="148"/>
                    <a:pt x="26" y="148"/>
                  </a:cubicBezTo>
                  <a:cubicBezTo>
                    <a:pt x="21" y="148"/>
                    <a:pt x="16" y="148"/>
                    <a:pt x="13" y="148"/>
                  </a:cubicBezTo>
                  <a:cubicBezTo>
                    <a:pt x="13" y="142"/>
                    <a:pt x="7" y="59"/>
                    <a:pt x="7" y="59"/>
                  </a:cubicBezTo>
                  <a:cubicBezTo>
                    <a:pt x="7" y="58"/>
                    <a:pt x="7" y="56"/>
                    <a:pt x="7" y="53"/>
                  </a:cubicBezTo>
                  <a:cubicBezTo>
                    <a:pt x="7" y="42"/>
                    <a:pt x="10" y="18"/>
                    <a:pt x="30" y="10"/>
                  </a:cubicBezTo>
                  <a:cubicBezTo>
                    <a:pt x="33" y="8"/>
                    <a:pt x="36" y="8"/>
                    <a:pt x="40" y="7"/>
                  </a:cubicBezTo>
                  <a:cubicBezTo>
                    <a:pt x="41" y="12"/>
                    <a:pt x="66" y="74"/>
                    <a:pt x="66" y="74"/>
                  </a:cubicBezTo>
                  <a:cubicBezTo>
                    <a:pt x="66" y="74"/>
                    <a:pt x="91" y="12"/>
                    <a:pt x="93" y="7"/>
                  </a:cubicBezTo>
                  <a:cubicBezTo>
                    <a:pt x="96" y="8"/>
                    <a:pt x="99" y="9"/>
                    <a:pt x="102" y="10"/>
                  </a:cubicBezTo>
                  <a:cubicBezTo>
                    <a:pt x="122" y="18"/>
                    <a:pt x="125" y="42"/>
                    <a:pt x="125" y="53"/>
                  </a:cubicBezTo>
                  <a:cubicBezTo>
                    <a:pt x="125" y="56"/>
                    <a:pt x="125" y="58"/>
                    <a:pt x="125" y="5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grpSp>
        <p:nvGrpSpPr>
          <p:cNvPr id="524" name="Group 4"/>
          <p:cNvGrpSpPr/>
          <p:nvPr/>
        </p:nvGrpSpPr>
        <p:grpSpPr>
          <a:xfrm>
            <a:off x="4757400" y="3807720"/>
            <a:ext cx="994320" cy="2802600"/>
            <a:chOff x="4757400" y="3807720"/>
            <a:chExt cx="994320" cy="2802600"/>
          </a:xfrm>
        </p:grpSpPr>
        <p:sp>
          <p:nvSpPr>
            <p:cNvPr id="525" name="Freeform 5"/>
            <p:cNvSpPr/>
            <p:nvPr/>
          </p:nvSpPr>
          <p:spPr>
            <a:xfrm>
              <a:off x="4757400" y="476136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5743800" y="476136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527" name="Oval 7"/>
            <p:cNvSpPr/>
            <p:nvPr/>
          </p:nvSpPr>
          <p:spPr>
            <a:xfrm>
              <a:off x="5110920" y="3807720"/>
              <a:ext cx="426960" cy="41904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4757400" y="4292640"/>
              <a:ext cx="986040" cy="231768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132" h="315">
                  <a:moveTo>
                    <a:pt x="104" y="3"/>
                  </a:moveTo>
                  <a:cubicBezTo>
                    <a:pt x="100" y="2"/>
                    <a:pt x="96" y="1"/>
                    <a:pt x="9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78" y="25"/>
                    <a:pt x="71" y="43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1" y="32"/>
                    <a:pt x="61" y="32"/>
                    <a:pt x="61" y="32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54" y="25"/>
                    <a:pt x="44" y="0"/>
                    <a:pt x="44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6" y="1"/>
                    <a:pt x="32" y="2"/>
                    <a:pt x="28" y="3"/>
                  </a:cubicBezTo>
                  <a:cubicBezTo>
                    <a:pt x="1" y="14"/>
                    <a:pt x="0" y="44"/>
                    <a:pt x="0" y="55"/>
                  </a:cubicBezTo>
                  <a:cubicBezTo>
                    <a:pt x="0" y="55"/>
                    <a:pt x="0" y="56"/>
                    <a:pt x="0" y="56"/>
                  </a:cubicBezTo>
                  <a:cubicBezTo>
                    <a:pt x="0" y="57"/>
                    <a:pt x="1" y="59"/>
                    <a:pt x="1" y="59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9"/>
                    <a:pt x="5" y="121"/>
                    <a:pt x="5" y="122"/>
                  </a:cubicBezTo>
                  <a:cubicBezTo>
                    <a:pt x="6" y="138"/>
                    <a:pt x="7" y="151"/>
                    <a:pt x="7" y="151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21" y="155"/>
                    <a:pt x="26" y="155"/>
                  </a:cubicBezTo>
                  <a:cubicBezTo>
                    <a:pt x="26" y="158"/>
                    <a:pt x="26" y="193"/>
                    <a:pt x="26" y="229"/>
                  </a:cubicBezTo>
                  <a:cubicBezTo>
                    <a:pt x="26" y="271"/>
                    <a:pt x="26" y="315"/>
                    <a:pt x="26" y="315"/>
                  </a:cubicBezTo>
                  <a:cubicBezTo>
                    <a:pt x="57" y="315"/>
                    <a:pt x="57" y="315"/>
                    <a:pt x="57" y="315"/>
                  </a:cubicBezTo>
                  <a:cubicBezTo>
                    <a:pt x="57" y="315"/>
                    <a:pt x="61" y="267"/>
                    <a:pt x="65" y="229"/>
                  </a:cubicBezTo>
                  <a:cubicBezTo>
                    <a:pt x="67" y="229"/>
                    <a:pt x="67" y="229"/>
                    <a:pt x="67" y="229"/>
                  </a:cubicBezTo>
                  <a:cubicBezTo>
                    <a:pt x="71" y="267"/>
                    <a:pt x="75" y="315"/>
                    <a:pt x="75" y="315"/>
                  </a:cubicBezTo>
                  <a:cubicBezTo>
                    <a:pt x="106" y="315"/>
                    <a:pt x="106" y="315"/>
                    <a:pt x="106" y="315"/>
                  </a:cubicBezTo>
                  <a:cubicBezTo>
                    <a:pt x="106" y="315"/>
                    <a:pt x="106" y="271"/>
                    <a:pt x="106" y="229"/>
                  </a:cubicBezTo>
                  <a:cubicBezTo>
                    <a:pt x="106" y="193"/>
                    <a:pt x="106" y="158"/>
                    <a:pt x="106" y="155"/>
                  </a:cubicBezTo>
                  <a:cubicBezTo>
                    <a:pt x="111" y="155"/>
                    <a:pt x="125" y="155"/>
                    <a:pt x="125" y="155"/>
                  </a:cubicBezTo>
                  <a:cubicBezTo>
                    <a:pt x="131" y="59"/>
                    <a:pt x="131" y="59"/>
                    <a:pt x="131" y="59"/>
                  </a:cubicBezTo>
                  <a:cubicBezTo>
                    <a:pt x="131" y="59"/>
                    <a:pt x="131" y="57"/>
                    <a:pt x="132" y="56"/>
                  </a:cubicBezTo>
                  <a:cubicBezTo>
                    <a:pt x="132" y="55"/>
                    <a:pt x="132" y="55"/>
                    <a:pt x="132" y="55"/>
                  </a:cubicBezTo>
                  <a:cubicBezTo>
                    <a:pt x="132" y="55"/>
                    <a:pt x="132" y="54"/>
                    <a:pt x="132" y="53"/>
                  </a:cubicBezTo>
                  <a:cubicBezTo>
                    <a:pt x="132" y="40"/>
                    <a:pt x="129" y="13"/>
                    <a:pt x="104" y="3"/>
                  </a:cubicBezTo>
                  <a:close/>
                  <a:moveTo>
                    <a:pt x="125" y="58"/>
                  </a:moveTo>
                  <a:cubicBezTo>
                    <a:pt x="124" y="58"/>
                    <a:pt x="120" y="132"/>
                    <a:pt x="119" y="148"/>
                  </a:cubicBezTo>
                  <a:cubicBezTo>
                    <a:pt x="116" y="148"/>
                    <a:pt x="111" y="148"/>
                    <a:pt x="106" y="148"/>
                  </a:cubicBezTo>
                  <a:cubicBezTo>
                    <a:pt x="106" y="59"/>
                    <a:pt x="106" y="59"/>
                    <a:pt x="106" y="59"/>
                  </a:cubicBezTo>
                  <a:cubicBezTo>
                    <a:pt x="100" y="59"/>
                    <a:pt x="100" y="59"/>
                    <a:pt x="100" y="59"/>
                  </a:cubicBezTo>
                  <a:cubicBezTo>
                    <a:pt x="100" y="148"/>
                    <a:pt x="100" y="148"/>
                    <a:pt x="100" y="148"/>
                  </a:cubicBezTo>
                  <a:cubicBezTo>
                    <a:pt x="100" y="148"/>
                    <a:pt x="100" y="149"/>
                    <a:pt x="100" y="151"/>
                  </a:cubicBezTo>
                  <a:cubicBezTo>
                    <a:pt x="100" y="161"/>
                    <a:pt x="100" y="191"/>
                    <a:pt x="100" y="222"/>
                  </a:cubicBezTo>
                  <a:cubicBezTo>
                    <a:pt x="94" y="222"/>
                    <a:pt x="38" y="222"/>
                    <a:pt x="32" y="222"/>
                  </a:cubicBezTo>
                  <a:cubicBezTo>
                    <a:pt x="32" y="191"/>
                    <a:pt x="32" y="161"/>
                    <a:pt x="32" y="151"/>
                  </a:cubicBezTo>
                  <a:cubicBezTo>
                    <a:pt x="32" y="149"/>
                    <a:pt x="32" y="148"/>
                    <a:pt x="32" y="148"/>
                  </a:cubicBezTo>
                  <a:cubicBezTo>
                    <a:pt x="32" y="59"/>
                    <a:pt x="32" y="59"/>
                    <a:pt x="32" y="59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6" y="148"/>
                    <a:pt x="26" y="148"/>
                    <a:pt x="26" y="148"/>
                  </a:cubicBezTo>
                  <a:cubicBezTo>
                    <a:pt x="21" y="148"/>
                    <a:pt x="16" y="148"/>
                    <a:pt x="13" y="148"/>
                  </a:cubicBezTo>
                  <a:cubicBezTo>
                    <a:pt x="13" y="142"/>
                    <a:pt x="7" y="59"/>
                    <a:pt x="7" y="59"/>
                  </a:cubicBezTo>
                  <a:cubicBezTo>
                    <a:pt x="7" y="58"/>
                    <a:pt x="7" y="56"/>
                    <a:pt x="7" y="53"/>
                  </a:cubicBezTo>
                  <a:cubicBezTo>
                    <a:pt x="7" y="42"/>
                    <a:pt x="10" y="18"/>
                    <a:pt x="30" y="10"/>
                  </a:cubicBezTo>
                  <a:cubicBezTo>
                    <a:pt x="33" y="8"/>
                    <a:pt x="36" y="8"/>
                    <a:pt x="40" y="7"/>
                  </a:cubicBezTo>
                  <a:cubicBezTo>
                    <a:pt x="41" y="12"/>
                    <a:pt x="66" y="74"/>
                    <a:pt x="66" y="74"/>
                  </a:cubicBezTo>
                  <a:cubicBezTo>
                    <a:pt x="66" y="74"/>
                    <a:pt x="91" y="12"/>
                    <a:pt x="93" y="7"/>
                  </a:cubicBezTo>
                  <a:cubicBezTo>
                    <a:pt x="96" y="8"/>
                    <a:pt x="99" y="9"/>
                    <a:pt x="102" y="10"/>
                  </a:cubicBezTo>
                  <a:cubicBezTo>
                    <a:pt x="122" y="18"/>
                    <a:pt x="125" y="42"/>
                    <a:pt x="125" y="53"/>
                  </a:cubicBezTo>
                  <a:cubicBezTo>
                    <a:pt x="125" y="56"/>
                    <a:pt x="125" y="58"/>
                    <a:pt x="125" y="5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2e2e2e"/>
                </a:solidFill>
                <a:latin typeface="Segoe UI Light 8"/>
                <a:ea typeface="微软雅黑 Light"/>
              </a:endParaRPr>
            </a:p>
          </p:txBody>
        </p:sp>
      </p:grpSp>
      <p:sp>
        <p:nvSpPr>
          <p:cNvPr id="529" name="矩形 27"/>
          <p:cNvSpPr/>
          <p:nvPr/>
        </p:nvSpPr>
        <p:spPr>
          <a:xfrm>
            <a:off x="3547440" y="4959720"/>
            <a:ext cx="821160" cy="5162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蒂莫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8"/>
          <p:cNvSpPr/>
          <p:nvPr/>
        </p:nvSpPr>
        <p:spPr>
          <a:xfrm>
            <a:off x="7632720" y="4484880"/>
            <a:ext cx="1034640" cy="5162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2e2e2e"/>
                </a:solidFill>
                <a:latin typeface="Segoe UI Light 8"/>
                <a:ea typeface="微软雅黑 Light"/>
              </a:rPr>
              <a:t>布拉德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直接连接符 32"/>
          <p:cNvCxnSpPr/>
          <p:nvPr/>
        </p:nvCxnSpPr>
        <p:spPr>
          <a:xfrm>
            <a:off x="3022560" y="2741760"/>
            <a:ext cx="2780280" cy="3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cxnSp>
        <p:nvCxnSpPr>
          <p:cNvPr id="532" name="直接连接符 33"/>
          <p:cNvCxnSpPr/>
          <p:nvPr/>
        </p:nvCxnSpPr>
        <p:spPr>
          <a:xfrm>
            <a:off x="6388920" y="2741760"/>
            <a:ext cx="2763720" cy="360"/>
          </a:xfrm>
          <a:prstGeom prst="straightConnector1">
            <a:avLst/>
          </a:prstGeom>
          <a:ln>
            <a:solidFill>
              <a:srgbClr val="2e2e2e"/>
            </a:solidFill>
          </a:ln>
        </p:spPr>
      </p:cxnSp>
      <p:grpSp>
        <p:nvGrpSpPr>
          <p:cNvPr id="533" name="组合 44"/>
          <p:cNvGrpSpPr/>
          <p:nvPr/>
        </p:nvGrpSpPr>
        <p:grpSpPr>
          <a:xfrm>
            <a:off x="5802480" y="2738160"/>
            <a:ext cx="586440" cy="330120"/>
            <a:chOff x="5802480" y="2738160"/>
            <a:chExt cx="586440" cy="330120"/>
          </a:xfrm>
        </p:grpSpPr>
        <p:cxnSp>
          <p:nvCxnSpPr>
            <p:cNvPr id="534" name="直接连接符 35"/>
            <p:cNvCxnSpPr/>
            <p:nvPr/>
          </p:nvCxnSpPr>
          <p:spPr>
            <a:xfrm>
              <a:off x="5802480" y="2738160"/>
              <a:ext cx="293760" cy="330480"/>
            </a:xfrm>
            <a:prstGeom prst="straightConnector1">
              <a:avLst/>
            </a:prstGeom>
            <a:ln>
              <a:solidFill>
                <a:srgbClr val="2e2e2e"/>
              </a:solidFill>
            </a:ln>
          </p:spPr>
        </p:cxnSp>
        <p:cxnSp>
          <p:nvCxnSpPr>
            <p:cNvPr id="535" name="直接连接符 36"/>
            <p:cNvCxnSpPr/>
            <p:nvPr/>
          </p:nvCxnSpPr>
          <p:spPr>
            <a:xfrm flipH="1">
              <a:off x="6095880" y="2738160"/>
              <a:ext cx="293400" cy="330480"/>
            </a:xfrm>
            <a:prstGeom prst="straightConnector1">
              <a:avLst/>
            </a:prstGeom>
            <a:ln>
              <a:solidFill>
                <a:srgbClr val="2e2e2e"/>
              </a:solidFill>
            </a:ln>
          </p:spPr>
        </p:cxnSp>
      </p:grpSp>
      <p:grpSp>
        <p:nvGrpSpPr>
          <p:cNvPr id="536" name="组合 46"/>
          <p:cNvGrpSpPr/>
          <p:nvPr/>
        </p:nvGrpSpPr>
        <p:grpSpPr>
          <a:xfrm>
            <a:off x="4119120" y="-117360"/>
            <a:ext cx="3953160" cy="2697480"/>
            <a:chOff x="4119120" y="-117360"/>
            <a:chExt cx="3953160" cy="2697480"/>
          </a:xfrm>
        </p:grpSpPr>
        <p:sp>
          <p:nvSpPr>
            <p:cNvPr id="537" name="文本框 10"/>
            <p:cNvSpPr/>
            <p:nvPr/>
          </p:nvSpPr>
          <p:spPr>
            <a:xfrm>
              <a:off x="4138200" y="1424160"/>
              <a:ext cx="3915000" cy="11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700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对僵尸进行研究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文本框 30"/>
            <p:cNvSpPr/>
            <p:nvPr/>
          </p:nvSpPr>
          <p:spPr>
            <a:xfrm>
              <a:off x="4119120" y="-117360"/>
              <a:ext cx="395316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500" spc="-1" strike="noStrike">
                  <a:solidFill>
                    <a:srgbClr val="2e2e2e"/>
                  </a:solidFill>
                  <a:latin typeface="Segoe UI Light 8"/>
                  <a:ea typeface="微软雅黑 Light"/>
                </a:rPr>
                <a:t>于是，有两位神经科学家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40"/>
            <p:cNvSpPr/>
            <p:nvPr/>
          </p:nvSpPr>
          <p:spPr>
            <a:xfrm>
              <a:off x="4146120" y="530280"/>
              <a:ext cx="389952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6100" spc="-1" strike="noStrike">
                  <a:solidFill>
                    <a:srgbClr val="2e2e2e"/>
                  </a:solidFill>
                  <a:latin typeface="Segoe UI Light 8"/>
                  <a:ea typeface="微软雅黑 Light"/>
                </a:rPr>
                <a:t>尝试从大脑的角度</a:t>
              </a: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我懂个P">
      <a:dk1>
        <a:srgbClr val="2e2e2e"/>
      </a:dk1>
      <a:lt1>
        <a:srgbClr val="ffffff"/>
      </a:lt1>
      <a:dk2>
        <a:srgbClr val="44546a"/>
      </a:dk2>
      <a:lt2>
        <a:srgbClr val="e7e6e6"/>
      </a:lt2>
      <a:accent1>
        <a:srgbClr val="ffd23c"/>
      </a:accent1>
      <a:accent2>
        <a:srgbClr val="2d2d2d"/>
      </a:accent2>
      <a:accent3>
        <a:srgbClr val="cacaca"/>
      </a:accent3>
      <a:accent4>
        <a:srgbClr val="ffd23c"/>
      </a:accent4>
      <a:accent5>
        <a:srgbClr val="2d2d2d"/>
      </a:accent5>
      <a:accent6>
        <a:srgbClr val="cacaca"/>
      </a:accent6>
      <a:hlink>
        <a:srgbClr val="ffd03b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我懂个P">
      <a:dk1>
        <a:srgbClr val="2e2e2e"/>
      </a:dk1>
      <a:lt1>
        <a:srgbClr val="ffffff"/>
      </a:lt1>
      <a:dk2>
        <a:srgbClr val="44546a"/>
      </a:dk2>
      <a:lt2>
        <a:srgbClr val="e7e6e6"/>
      </a:lt2>
      <a:accent1>
        <a:srgbClr val="ffd23c"/>
      </a:accent1>
      <a:accent2>
        <a:srgbClr val="2d2d2d"/>
      </a:accent2>
      <a:accent3>
        <a:srgbClr val="cacaca"/>
      </a:accent3>
      <a:accent4>
        <a:srgbClr val="ffd23c"/>
      </a:accent4>
      <a:accent5>
        <a:srgbClr val="2d2d2d"/>
      </a:accent5>
      <a:accent6>
        <a:srgbClr val="cacaca"/>
      </a:accent6>
      <a:hlink>
        <a:srgbClr val="ffd03b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我懂个P">
      <a:dk1>
        <a:srgbClr val="2e2e2e"/>
      </a:dk1>
      <a:lt1>
        <a:srgbClr val="ffffff"/>
      </a:lt1>
      <a:dk2>
        <a:srgbClr val="44546a"/>
      </a:dk2>
      <a:lt2>
        <a:srgbClr val="e7e6e6"/>
      </a:lt2>
      <a:accent1>
        <a:srgbClr val="ffd23c"/>
      </a:accent1>
      <a:accent2>
        <a:srgbClr val="2d2d2d"/>
      </a:accent2>
      <a:accent3>
        <a:srgbClr val="cacaca"/>
      </a:accent3>
      <a:accent4>
        <a:srgbClr val="ffd23c"/>
      </a:accent4>
      <a:accent5>
        <a:srgbClr val="2d2d2d"/>
      </a:accent5>
      <a:accent6>
        <a:srgbClr val="cacaca"/>
      </a:accent6>
      <a:hlink>
        <a:srgbClr val="ffd03b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9</TotalTime>
  <Application>LibreOffice/7.4.7.2$Linux_X86_64 LibreOffice_project/40$Build-2</Application>
  <AppVersion>15.0000</AppVersion>
  <Words>628</Words>
  <Paragraphs>1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06:09:33Z</dcterms:created>
  <dc:creator>LEE SIMON</dc:creator>
  <dc:description/>
  <dc:language>en-US</dc:language>
  <cp:lastModifiedBy>王玉清</cp:lastModifiedBy>
  <dcterms:modified xsi:type="dcterms:W3CDTF">2016-03-01T06:55:55Z</dcterms:modified>
  <cp:revision>3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39</vt:r8>
  </property>
</Properties>
</file>