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1027DD-8EEA-4CF8-BAA8-BEC8DF3D4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7D5AB9-76F7-467B-A176-53BE066A924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6E3CA4-36E8-4067-B0EC-D202F29A112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CBE4-FB13-41AD-93B0-E074B068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15D-AC05-48B1-A3B4-CC3B1718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E95-016D-4E48-9FC1-FD6B21B4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984-C92A-40DC-B1BD-FD80000F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0B79-E50B-4FC0-B018-059B383C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9DCE-216E-47C7-9681-AF768211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67AC-20EE-4D8E-9C86-A4AC16A5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BF8C-58BB-4216-8D5C-1A27AB14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DBDC-82C7-4E54-8D57-644BE410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986B-47D6-42FB-980F-B35E73E0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FDDE-C295-4C2F-A4FF-86D8BF08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E44D-56B1-4430-9316-5EDEF59D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73F9-989D-4DAF-8E4B-8178F75C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BA73-D371-4DD2-8ACA-AB01DB99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A0C1-351B-49E6-B33C-CA1CE30A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CE0A-F0A1-42F7-B1BF-8D82495D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497D-A679-4A3F-9A3F-69F57146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776-B011-4E6D-B8E1-DC39C76D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2D18-1045-4666-AE7A-3ED44087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819-2599-478A-8518-5D4D8E71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952-142C-452B-A2FB-01A9A775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17D-9276-44B4-BB9C-D148BF1F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4C0-0A8F-4EB4-B231-502E43CC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348-2B54-436B-9657-9D2700B0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等线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735056-5B3C-4DA5-BD23-33D6AC306E8A}" type="slidenum">
              <a:rPr b="0" lang="en-US" sz="1200" spc="-1" strike="noStrike">
                <a:solidFill>
                  <a:srgbClr val="8b8b8b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等线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编辑母版文本样式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等线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35FB4E-EC88-4CD9-B558-A064CF204AF5}" type="slidenum">
              <a:rPr b="0" lang="en-US" sz="1200" spc="-1" strike="noStrike">
                <a:solidFill>
                  <a:srgbClr val="8b8b8b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直角三角形 6"/>
          <p:cNvSpPr/>
          <p:nvPr/>
        </p:nvSpPr>
        <p:spPr>
          <a:xfrm>
            <a:off x="9080280" y="2514600"/>
            <a:ext cx="107280" cy="28044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89" name="直角三角形 11"/>
          <p:cNvSpPr/>
          <p:nvPr/>
        </p:nvSpPr>
        <p:spPr>
          <a:xfrm flipV="1">
            <a:off x="9075240" y="4061880"/>
            <a:ext cx="107280" cy="28044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90" name="直角三角形 7"/>
          <p:cNvSpPr/>
          <p:nvPr/>
        </p:nvSpPr>
        <p:spPr>
          <a:xfrm flipH="1">
            <a:off x="3000600" y="2515320"/>
            <a:ext cx="107280" cy="28044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91" name="直角三角形 12"/>
          <p:cNvSpPr/>
          <p:nvPr/>
        </p:nvSpPr>
        <p:spPr>
          <a:xfrm flipH="1" flipV="1">
            <a:off x="3004200" y="4061880"/>
            <a:ext cx="107280" cy="28044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0" y="2791800"/>
            <a:ext cx="12191760" cy="1274040"/>
          </a:xfrm>
          <a:prstGeom prst="rect">
            <a:avLst/>
          </a:prstGeom>
          <a:solidFill>
            <a:srgbClr val="2a2a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3105360" y="2515320"/>
            <a:ext cx="5981040" cy="1824120"/>
          </a:xfrm>
          <a:prstGeom prst="rect">
            <a:avLst/>
          </a:prstGeom>
          <a:solidFill>
            <a:srgbClr val="52c6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94" name="文本框 8"/>
          <p:cNvSpPr/>
          <p:nvPr/>
        </p:nvSpPr>
        <p:spPr>
          <a:xfrm>
            <a:off x="1978560" y="2840400"/>
            <a:ext cx="8234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等线"/>
              </a:rPr>
              <a:t>简约工作汇报通用</a:t>
            </a:r>
            <a:r>
              <a:rPr b="0" lang="en-US" sz="4000" spc="-1" strike="noStrike">
                <a:solidFill>
                  <a:srgbClr val="ffffff"/>
                </a:solidFill>
                <a:latin typeface="等线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等线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9"/>
          <p:cNvSpPr/>
          <p:nvPr/>
        </p:nvSpPr>
        <p:spPr>
          <a:xfrm>
            <a:off x="4170240" y="3647880"/>
            <a:ext cx="3851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</a:rPr>
              <a:t>商务演示</a:t>
            </a:r>
            <a:r>
              <a:rPr b="0" lang="en-US" sz="2000" spc="-1" strike="noStrike">
                <a:solidFill>
                  <a:srgbClr val="ffffff"/>
                </a:solidFill>
                <a:latin typeface="等线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等线"/>
              </a:rPr>
              <a:t>工作汇报</a:t>
            </a:r>
            <a:r>
              <a:rPr b="0" lang="en-US" sz="2000" spc="-1" strike="noStrike">
                <a:solidFill>
                  <a:srgbClr val="ffffff"/>
                </a:solidFill>
                <a:latin typeface="等线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等线"/>
              </a:rPr>
              <a:t>工作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4"/>
          <p:cNvSpPr/>
          <p:nvPr/>
        </p:nvSpPr>
        <p:spPr>
          <a:xfrm>
            <a:off x="0" y="320760"/>
            <a:ext cx="12191760" cy="753480"/>
          </a:xfrm>
          <a:prstGeom prst="rect">
            <a:avLst/>
          </a:prstGeom>
          <a:solidFill>
            <a:srgbClr val="2a2a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98" name="矩形 3"/>
          <p:cNvSpPr/>
          <p:nvPr/>
        </p:nvSpPr>
        <p:spPr>
          <a:xfrm>
            <a:off x="4095720" y="0"/>
            <a:ext cx="4000320" cy="1390320"/>
          </a:xfrm>
          <a:prstGeom prst="rect">
            <a:avLst/>
          </a:prstGeom>
          <a:solidFill>
            <a:srgbClr val="52c6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99" name="直角三角形 5"/>
          <p:cNvSpPr/>
          <p:nvPr/>
        </p:nvSpPr>
        <p:spPr>
          <a:xfrm>
            <a:off x="8096400" y="0"/>
            <a:ext cx="155520" cy="32040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00" name="直角三角形 6"/>
          <p:cNvSpPr/>
          <p:nvPr/>
        </p:nvSpPr>
        <p:spPr>
          <a:xfrm flipH="1">
            <a:off x="3939840" y="0"/>
            <a:ext cx="155520" cy="32040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01" name="文本框 7"/>
          <p:cNvSpPr/>
          <p:nvPr/>
        </p:nvSpPr>
        <p:spPr>
          <a:xfrm>
            <a:off x="5286240" y="297000"/>
            <a:ext cx="1618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等线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角三角形 14"/>
          <p:cNvSpPr/>
          <p:nvPr/>
        </p:nvSpPr>
        <p:spPr>
          <a:xfrm flipV="1">
            <a:off x="2536920" y="3532320"/>
            <a:ext cx="57240" cy="11952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03" name="直角三角形 15"/>
          <p:cNvSpPr/>
          <p:nvPr/>
        </p:nvSpPr>
        <p:spPr>
          <a:xfrm flipH="1" flipV="1">
            <a:off x="1543680" y="3532320"/>
            <a:ext cx="57240" cy="11952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1602000" y="2716920"/>
            <a:ext cx="934560" cy="934560"/>
          </a:xfrm>
          <a:prstGeom prst="rect">
            <a:avLst/>
          </a:prstGeom>
          <a:solidFill>
            <a:srgbClr val="2a2a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05" name="矩形 9"/>
          <p:cNvSpPr/>
          <p:nvPr/>
        </p:nvSpPr>
        <p:spPr>
          <a:xfrm>
            <a:off x="1544400" y="2836800"/>
            <a:ext cx="1049760" cy="694800"/>
          </a:xfrm>
          <a:prstGeom prst="rect">
            <a:avLst/>
          </a:prstGeom>
          <a:solidFill>
            <a:srgbClr val="52c6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06" name="直角三角形 10"/>
          <p:cNvSpPr/>
          <p:nvPr/>
        </p:nvSpPr>
        <p:spPr>
          <a:xfrm>
            <a:off x="2536920" y="2716920"/>
            <a:ext cx="57240" cy="11952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07" name="直角三角形 11"/>
          <p:cNvSpPr/>
          <p:nvPr/>
        </p:nvSpPr>
        <p:spPr>
          <a:xfrm flipH="1">
            <a:off x="1543680" y="2716920"/>
            <a:ext cx="57240" cy="11952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08" name="文本框 12"/>
          <p:cNvSpPr/>
          <p:nvPr/>
        </p:nvSpPr>
        <p:spPr>
          <a:xfrm>
            <a:off x="1594080" y="2954160"/>
            <a:ext cx="950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等线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3"/>
          <p:cNvSpPr/>
          <p:nvPr/>
        </p:nvSpPr>
        <p:spPr>
          <a:xfrm>
            <a:off x="3124440" y="2884680"/>
            <a:ext cx="2589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6"/>
          <p:cNvSpPr/>
          <p:nvPr/>
        </p:nvSpPr>
        <p:spPr>
          <a:xfrm>
            <a:off x="6948000" y="2716920"/>
            <a:ext cx="934560" cy="934560"/>
          </a:xfrm>
          <a:prstGeom prst="rect">
            <a:avLst/>
          </a:prstGeom>
          <a:solidFill>
            <a:srgbClr val="2a2a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11" name="矩形 17"/>
          <p:cNvSpPr/>
          <p:nvPr/>
        </p:nvSpPr>
        <p:spPr>
          <a:xfrm>
            <a:off x="6890760" y="2836800"/>
            <a:ext cx="1049760" cy="694800"/>
          </a:xfrm>
          <a:prstGeom prst="rect">
            <a:avLst/>
          </a:prstGeom>
          <a:solidFill>
            <a:srgbClr val="52c6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12" name="直角三角形 18"/>
          <p:cNvSpPr/>
          <p:nvPr/>
        </p:nvSpPr>
        <p:spPr>
          <a:xfrm>
            <a:off x="7883280" y="2716920"/>
            <a:ext cx="57240" cy="11952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13" name="直角三角形 19"/>
          <p:cNvSpPr/>
          <p:nvPr/>
        </p:nvSpPr>
        <p:spPr>
          <a:xfrm flipH="1">
            <a:off x="6890040" y="2716920"/>
            <a:ext cx="57240" cy="11952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14" name="文本框 20"/>
          <p:cNvSpPr/>
          <p:nvPr/>
        </p:nvSpPr>
        <p:spPr>
          <a:xfrm>
            <a:off x="6940080" y="2941560"/>
            <a:ext cx="950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等线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1"/>
          <p:cNvSpPr/>
          <p:nvPr/>
        </p:nvSpPr>
        <p:spPr>
          <a:xfrm>
            <a:off x="8470800" y="2884680"/>
            <a:ext cx="2589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角三角形 22"/>
          <p:cNvSpPr/>
          <p:nvPr/>
        </p:nvSpPr>
        <p:spPr>
          <a:xfrm flipV="1">
            <a:off x="7883280" y="3532320"/>
            <a:ext cx="57240" cy="11952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17" name="直角三角形 23"/>
          <p:cNvSpPr/>
          <p:nvPr/>
        </p:nvSpPr>
        <p:spPr>
          <a:xfrm flipH="1" flipV="1">
            <a:off x="6890040" y="3532320"/>
            <a:ext cx="57240" cy="11952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18" name="矩形 26"/>
          <p:cNvSpPr/>
          <p:nvPr/>
        </p:nvSpPr>
        <p:spPr>
          <a:xfrm>
            <a:off x="1600920" y="4649760"/>
            <a:ext cx="916200" cy="916200"/>
          </a:xfrm>
          <a:prstGeom prst="rect">
            <a:avLst/>
          </a:prstGeom>
          <a:solidFill>
            <a:srgbClr val="2a2a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19" name="矩形 27"/>
          <p:cNvSpPr/>
          <p:nvPr/>
        </p:nvSpPr>
        <p:spPr>
          <a:xfrm>
            <a:off x="1544400" y="4767120"/>
            <a:ext cx="1029240" cy="681120"/>
          </a:xfrm>
          <a:prstGeom prst="rect">
            <a:avLst/>
          </a:prstGeom>
          <a:solidFill>
            <a:srgbClr val="52c6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20" name="直角三角形 28"/>
          <p:cNvSpPr/>
          <p:nvPr/>
        </p:nvSpPr>
        <p:spPr>
          <a:xfrm>
            <a:off x="2517480" y="4649760"/>
            <a:ext cx="56160" cy="11700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6120" bIns="-6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21" name="直角三角形 29"/>
          <p:cNvSpPr/>
          <p:nvPr/>
        </p:nvSpPr>
        <p:spPr>
          <a:xfrm flipH="1">
            <a:off x="1544400" y="4649760"/>
            <a:ext cx="56160" cy="11700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6120" bIns="-6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22" name="文本框 30"/>
          <p:cNvSpPr/>
          <p:nvPr/>
        </p:nvSpPr>
        <p:spPr>
          <a:xfrm>
            <a:off x="1593000" y="4869000"/>
            <a:ext cx="932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等线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1"/>
          <p:cNvSpPr/>
          <p:nvPr/>
        </p:nvSpPr>
        <p:spPr>
          <a:xfrm>
            <a:off x="3119040" y="4814280"/>
            <a:ext cx="253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角三角形 32"/>
          <p:cNvSpPr/>
          <p:nvPr/>
        </p:nvSpPr>
        <p:spPr>
          <a:xfrm flipV="1">
            <a:off x="2517480" y="5448240"/>
            <a:ext cx="56160" cy="11700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6120" bIns="-6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25" name="直角三角形 33"/>
          <p:cNvSpPr/>
          <p:nvPr/>
        </p:nvSpPr>
        <p:spPr>
          <a:xfrm flipH="1" flipV="1">
            <a:off x="1544400" y="5448240"/>
            <a:ext cx="56160" cy="11700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6120" bIns="-6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26" name="矩形 34"/>
          <p:cNvSpPr/>
          <p:nvPr/>
        </p:nvSpPr>
        <p:spPr>
          <a:xfrm>
            <a:off x="6946920" y="4649760"/>
            <a:ext cx="916200" cy="916200"/>
          </a:xfrm>
          <a:prstGeom prst="rect">
            <a:avLst/>
          </a:prstGeom>
          <a:solidFill>
            <a:srgbClr val="2a2a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27" name="矩形 35"/>
          <p:cNvSpPr/>
          <p:nvPr/>
        </p:nvSpPr>
        <p:spPr>
          <a:xfrm>
            <a:off x="6890760" y="4767120"/>
            <a:ext cx="1029240" cy="681120"/>
          </a:xfrm>
          <a:prstGeom prst="rect">
            <a:avLst/>
          </a:prstGeom>
          <a:solidFill>
            <a:srgbClr val="52c6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28" name="直角三角形 36"/>
          <p:cNvSpPr/>
          <p:nvPr/>
        </p:nvSpPr>
        <p:spPr>
          <a:xfrm>
            <a:off x="7863840" y="4649760"/>
            <a:ext cx="56160" cy="11700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6120" bIns="-6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29" name="直角三角形 37"/>
          <p:cNvSpPr/>
          <p:nvPr/>
        </p:nvSpPr>
        <p:spPr>
          <a:xfrm flipH="1">
            <a:off x="6890760" y="4649760"/>
            <a:ext cx="56160" cy="11700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6120" bIns="-6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30" name="文本框 38"/>
          <p:cNvSpPr/>
          <p:nvPr/>
        </p:nvSpPr>
        <p:spPr>
          <a:xfrm>
            <a:off x="6939360" y="4869000"/>
            <a:ext cx="932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等线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39"/>
          <p:cNvSpPr/>
          <p:nvPr/>
        </p:nvSpPr>
        <p:spPr>
          <a:xfrm>
            <a:off x="8470800" y="4814280"/>
            <a:ext cx="253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角三角形 40"/>
          <p:cNvSpPr/>
          <p:nvPr/>
        </p:nvSpPr>
        <p:spPr>
          <a:xfrm flipV="1">
            <a:off x="7863840" y="5448240"/>
            <a:ext cx="56160" cy="11700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6120" bIns="-6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33" name="直角三角形 41"/>
          <p:cNvSpPr/>
          <p:nvPr/>
        </p:nvSpPr>
        <p:spPr>
          <a:xfrm flipH="1" flipV="1">
            <a:off x="6890760" y="5448240"/>
            <a:ext cx="56160" cy="11700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6120" bIns="-6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34" name="直角三角形 48"/>
          <p:cNvSpPr/>
          <p:nvPr/>
        </p:nvSpPr>
        <p:spPr>
          <a:xfrm flipV="1">
            <a:off x="8096400" y="1074240"/>
            <a:ext cx="155520" cy="32040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35" name="直角三角形 49"/>
          <p:cNvSpPr/>
          <p:nvPr/>
        </p:nvSpPr>
        <p:spPr>
          <a:xfrm flipH="1" flipV="1">
            <a:off x="3939840" y="1074240"/>
            <a:ext cx="155520" cy="32040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4"/>
          <p:cNvSpPr/>
          <p:nvPr/>
        </p:nvSpPr>
        <p:spPr>
          <a:xfrm>
            <a:off x="0" y="320760"/>
            <a:ext cx="12191760" cy="753480"/>
          </a:xfrm>
          <a:prstGeom prst="rect">
            <a:avLst/>
          </a:prstGeom>
          <a:solidFill>
            <a:srgbClr val="2a2a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37" name="矩形 3"/>
          <p:cNvSpPr/>
          <p:nvPr/>
        </p:nvSpPr>
        <p:spPr>
          <a:xfrm>
            <a:off x="4095720" y="0"/>
            <a:ext cx="4000320" cy="1390320"/>
          </a:xfrm>
          <a:prstGeom prst="rect">
            <a:avLst/>
          </a:prstGeom>
          <a:solidFill>
            <a:srgbClr val="52c6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38" name="直角三角形 5"/>
          <p:cNvSpPr/>
          <p:nvPr/>
        </p:nvSpPr>
        <p:spPr>
          <a:xfrm>
            <a:off x="8096400" y="0"/>
            <a:ext cx="155520" cy="32040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39" name="直角三角形 6"/>
          <p:cNvSpPr/>
          <p:nvPr/>
        </p:nvSpPr>
        <p:spPr>
          <a:xfrm flipH="1">
            <a:off x="3939840" y="0"/>
            <a:ext cx="155520" cy="32040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40" name="文本框 7"/>
          <p:cNvSpPr/>
          <p:nvPr/>
        </p:nvSpPr>
        <p:spPr>
          <a:xfrm>
            <a:off x="5286240" y="297000"/>
            <a:ext cx="1618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等线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角三角形 14"/>
          <p:cNvSpPr/>
          <p:nvPr/>
        </p:nvSpPr>
        <p:spPr>
          <a:xfrm flipV="1">
            <a:off x="2536920" y="3532320"/>
            <a:ext cx="57240" cy="11952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42" name="直角三角形 15"/>
          <p:cNvSpPr/>
          <p:nvPr/>
        </p:nvSpPr>
        <p:spPr>
          <a:xfrm flipH="1" flipV="1">
            <a:off x="1543680" y="3532320"/>
            <a:ext cx="57240" cy="11952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43" name="矩形 8"/>
          <p:cNvSpPr/>
          <p:nvPr/>
        </p:nvSpPr>
        <p:spPr>
          <a:xfrm>
            <a:off x="1602000" y="2716920"/>
            <a:ext cx="934560" cy="934560"/>
          </a:xfrm>
          <a:prstGeom prst="rect">
            <a:avLst/>
          </a:prstGeom>
          <a:solidFill>
            <a:srgbClr val="2a2a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44" name="矩形 9"/>
          <p:cNvSpPr/>
          <p:nvPr/>
        </p:nvSpPr>
        <p:spPr>
          <a:xfrm>
            <a:off x="1544400" y="2836800"/>
            <a:ext cx="1049760" cy="694800"/>
          </a:xfrm>
          <a:prstGeom prst="rect">
            <a:avLst/>
          </a:prstGeom>
          <a:solidFill>
            <a:srgbClr val="52c6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45" name="直角三角形 10"/>
          <p:cNvSpPr/>
          <p:nvPr/>
        </p:nvSpPr>
        <p:spPr>
          <a:xfrm>
            <a:off x="2536920" y="2716920"/>
            <a:ext cx="57240" cy="11952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46" name="直角三角形 11"/>
          <p:cNvSpPr/>
          <p:nvPr/>
        </p:nvSpPr>
        <p:spPr>
          <a:xfrm flipH="1">
            <a:off x="1543680" y="2716920"/>
            <a:ext cx="57240" cy="11952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47" name="文本框 12"/>
          <p:cNvSpPr/>
          <p:nvPr/>
        </p:nvSpPr>
        <p:spPr>
          <a:xfrm>
            <a:off x="1594080" y="2954160"/>
            <a:ext cx="950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等线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3"/>
          <p:cNvSpPr/>
          <p:nvPr/>
        </p:nvSpPr>
        <p:spPr>
          <a:xfrm>
            <a:off x="3124440" y="2884680"/>
            <a:ext cx="2589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6"/>
          <p:cNvSpPr/>
          <p:nvPr/>
        </p:nvSpPr>
        <p:spPr>
          <a:xfrm>
            <a:off x="6948000" y="2716920"/>
            <a:ext cx="934560" cy="934560"/>
          </a:xfrm>
          <a:prstGeom prst="rect">
            <a:avLst/>
          </a:prstGeom>
          <a:solidFill>
            <a:srgbClr val="2a2a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50" name="矩形 17"/>
          <p:cNvSpPr/>
          <p:nvPr/>
        </p:nvSpPr>
        <p:spPr>
          <a:xfrm>
            <a:off x="6890760" y="2836800"/>
            <a:ext cx="1049760" cy="69480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51" name="直角三角形 18"/>
          <p:cNvSpPr/>
          <p:nvPr/>
        </p:nvSpPr>
        <p:spPr>
          <a:xfrm>
            <a:off x="7883280" y="2716920"/>
            <a:ext cx="57240" cy="119520"/>
          </a:xfrm>
          <a:prstGeom prst="rtTriangl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52" name="直角三角形 19"/>
          <p:cNvSpPr/>
          <p:nvPr/>
        </p:nvSpPr>
        <p:spPr>
          <a:xfrm flipH="1">
            <a:off x="6890040" y="2716920"/>
            <a:ext cx="57240" cy="119520"/>
          </a:xfrm>
          <a:prstGeom prst="rtTriangl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53" name="文本框 20"/>
          <p:cNvSpPr/>
          <p:nvPr/>
        </p:nvSpPr>
        <p:spPr>
          <a:xfrm>
            <a:off x="6940080" y="2941560"/>
            <a:ext cx="950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等线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1"/>
          <p:cNvSpPr/>
          <p:nvPr/>
        </p:nvSpPr>
        <p:spPr>
          <a:xfrm>
            <a:off x="8470800" y="2884680"/>
            <a:ext cx="2589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角三角形 22"/>
          <p:cNvSpPr/>
          <p:nvPr/>
        </p:nvSpPr>
        <p:spPr>
          <a:xfrm flipV="1">
            <a:off x="7883280" y="3532320"/>
            <a:ext cx="57240" cy="119520"/>
          </a:xfrm>
          <a:prstGeom prst="rtTriangl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56" name="直角三角形 23"/>
          <p:cNvSpPr/>
          <p:nvPr/>
        </p:nvSpPr>
        <p:spPr>
          <a:xfrm flipH="1" flipV="1">
            <a:off x="6890040" y="3532320"/>
            <a:ext cx="57240" cy="119520"/>
          </a:xfrm>
          <a:prstGeom prst="rtTriangl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57" name="矩形 26"/>
          <p:cNvSpPr/>
          <p:nvPr/>
        </p:nvSpPr>
        <p:spPr>
          <a:xfrm>
            <a:off x="1600920" y="4649760"/>
            <a:ext cx="916200" cy="916200"/>
          </a:xfrm>
          <a:prstGeom prst="rect">
            <a:avLst/>
          </a:prstGeom>
          <a:solidFill>
            <a:srgbClr val="2a2a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58" name="矩形 27"/>
          <p:cNvSpPr/>
          <p:nvPr/>
        </p:nvSpPr>
        <p:spPr>
          <a:xfrm>
            <a:off x="1544400" y="4767120"/>
            <a:ext cx="1029240" cy="68112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59" name="直角三角形 28"/>
          <p:cNvSpPr/>
          <p:nvPr/>
        </p:nvSpPr>
        <p:spPr>
          <a:xfrm>
            <a:off x="2517480" y="4649760"/>
            <a:ext cx="56160" cy="117000"/>
          </a:xfrm>
          <a:prstGeom prst="rtTriangl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6120" bIns="-6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60" name="直角三角形 29"/>
          <p:cNvSpPr/>
          <p:nvPr/>
        </p:nvSpPr>
        <p:spPr>
          <a:xfrm flipH="1">
            <a:off x="1544400" y="4649760"/>
            <a:ext cx="56160" cy="117000"/>
          </a:xfrm>
          <a:prstGeom prst="rtTriangl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6120" bIns="-6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61" name="文本框 30"/>
          <p:cNvSpPr/>
          <p:nvPr/>
        </p:nvSpPr>
        <p:spPr>
          <a:xfrm>
            <a:off x="1593000" y="4869000"/>
            <a:ext cx="932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等线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1"/>
          <p:cNvSpPr/>
          <p:nvPr/>
        </p:nvSpPr>
        <p:spPr>
          <a:xfrm>
            <a:off x="3119040" y="4814280"/>
            <a:ext cx="253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角三角形 32"/>
          <p:cNvSpPr/>
          <p:nvPr/>
        </p:nvSpPr>
        <p:spPr>
          <a:xfrm flipV="1">
            <a:off x="2517480" y="5448240"/>
            <a:ext cx="56160" cy="117000"/>
          </a:xfrm>
          <a:prstGeom prst="rtTriangl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6120" bIns="-6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64" name="直角三角形 33"/>
          <p:cNvSpPr/>
          <p:nvPr/>
        </p:nvSpPr>
        <p:spPr>
          <a:xfrm flipH="1" flipV="1">
            <a:off x="1544400" y="5448240"/>
            <a:ext cx="56160" cy="117000"/>
          </a:xfrm>
          <a:prstGeom prst="rtTriangl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6120" bIns="-6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65" name="矩形 34"/>
          <p:cNvSpPr/>
          <p:nvPr/>
        </p:nvSpPr>
        <p:spPr>
          <a:xfrm>
            <a:off x="6946920" y="4649760"/>
            <a:ext cx="916200" cy="916200"/>
          </a:xfrm>
          <a:prstGeom prst="rect">
            <a:avLst/>
          </a:prstGeom>
          <a:solidFill>
            <a:srgbClr val="2a2a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66" name="矩形 35"/>
          <p:cNvSpPr/>
          <p:nvPr/>
        </p:nvSpPr>
        <p:spPr>
          <a:xfrm>
            <a:off x="6890760" y="4767120"/>
            <a:ext cx="1029240" cy="68112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67" name="直角三角形 36"/>
          <p:cNvSpPr/>
          <p:nvPr/>
        </p:nvSpPr>
        <p:spPr>
          <a:xfrm>
            <a:off x="7863840" y="4649760"/>
            <a:ext cx="56160" cy="117000"/>
          </a:xfrm>
          <a:prstGeom prst="rtTriangl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6120" bIns="-6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68" name="直角三角形 37"/>
          <p:cNvSpPr/>
          <p:nvPr/>
        </p:nvSpPr>
        <p:spPr>
          <a:xfrm flipH="1">
            <a:off x="6890760" y="4649760"/>
            <a:ext cx="56160" cy="117000"/>
          </a:xfrm>
          <a:prstGeom prst="rtTriangl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6120" bIns="-6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69" name="文本框 38"/>
          <p:cNvSpPr/>
          <p:nvPr/>
        </p:nvSpPr>
        <p:spPr>
          <a:xfrm>
            <a:off x="6939360" y="4869000"/>
            <a:ext cx="932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等线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9"/>
          <p:cNvSpPr/>
          <p:nvPr/>
        </p:nvSpPr>
        <p:spPr>
          <a:xfrm>
            <a:off x="8470800" y="4814280"/>
            <a:ext cx="253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角三角形 40"/>
          <p:cNvSpPr/>
          <p:nvPr/>
        </p:nvSpPr>
        <p:spPr>
          <a:xfrm flipV="1">
            <a:off x="7863840" y="5448240"/>
            <a:ext cx="56160" cy="117000"/>
          </a:xfrm>
          <a:prstGeom prst="rtTriangl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6120" bIns="-6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72" name="直角三角形 41"/>
          <p:cNvSpPr/>
          <p:nvPr/>
        </p:nvSpPr>
        <p:spPr>
          <a:xfrm flipH="1" flipV="1">
            <a:off x="6890760" y="5448240"/>
            <a:ext cx="56160" cy="117000"/>
          </a:xfrm>
          <a:prstGeom prst="rtTriangl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6120" bIns="-6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73" name="直角三角形 48"/>
          <p:cNvSpPr/>
          <p:nvPr/>
        </p:nvSpPr>
        <p:spPr>
          <a:xfrm flipV="1">
            <a:off x="8096400" y="1074240"/>
            <a:ext cx="155520" cy="32040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74" name="直角三角形 49"/>
          <p:cNvSpPr/>
          <p:nvPr/>
        </p:nvSpPr>
        <p:spPr>
          <a:xfrm flipH="1" flipV="1">
            <a:off x="3939840" y="1074240"/>
            <a:ext cx="155520" cy="32040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直角三角形 62"/>
          <p:cNvSpPr/>
          <p:nvPr/>
        </p:nvSpPr>
        <p:spPr>
          <a:xfrm flipV="1">
            <a:off x="8894520" y="1051200"/>
            <a:ext cx="155520" cy="32040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76" name="直角三角形 63"/>
          <p:cNvSpPr/>
          <p:nvPr/>
        </p:nvSpPr>
        <p:spPr>
          <a:xfrm flipH="1" flipV="1">
            <a:off x="3141720" y="1051200"/>
            <a:ext cx="155520" cy="32040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77" name="直角三角形 5"/>
          <p:cNvSpPr/>
          <p:nvPr/>
        </p:nvSpPr>
        <p:spPr>
          <a:xfrm>
            <a:off x="8894520" y="-7560"/>
            <a:ext cx="155520" cy="32040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78" name="直角三角形 6"/>
          <p:cNvSpPr/>
          <p:nvPr/>
        </p:nvSpPr>
        <p:spPr>
          <a:xfrm flipH="1">
            <a:off x="3141720" y="-7560"/>
            <a:ext cx="155520" cy="32040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0" y="308880"/>
            <a:ext cx="12191760" cy="753480"/>
          </a:xfrm>
          <a:prstGeom prst="rect">
            <a:avLst/>
          </a:prstGeom>
          <a:solidFill>
            <a:srgbClr val="2a2a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3297240" y="0"/>
            <a:ext cx="5596920" cy="1371600"/>
          </a:xfrm>
          <a:prstGeom prst="rect">
            <a:avLst/>
          </a:prstGeom>
          <a:solidFill>
            <a:srgbClr val="52c6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81" name="文本框 7"/>
          <p:cNvSpPr/>
          <p:nvPr/>
        </p:nvSpPr>
        <p:spPr>
          <a:xfrm>
            <a:off x="3643200" y="301320"/>
            <a:ext cx="4905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等线"/>
              </a:rPr>
              <a:t>点击此处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61"/>
          <p:cNvGrpSpPr/>
          <p:nvPr/>
        </p:nvGrpSpPr>
        <p:grpSpPr>
          <a:xfrm>
            <a:off x="1234800" y="2237040"/>
            <a:ext cx="2659680" cy="3760200"/>
            <a:chOff x="1234800" y="2237040"/>
            <a:chExt cx="2659680" cy="3760200"/>
          </a:xfrm>
        </p:grpSpPr>
        <p:sp>
          <p:nvSpPr>
            <p:cNvPr id="183" name="任意多边形 36"/>
            <p:cNvSpPr/>
            <p:nvPr/>
          </p:nvSpPr>
          <p:spPr>
            <a:xfrm>
              <a:off x="1234800" y="2500560"/>
              <a:ext cx="2659680" cy="3496680"/>
            </a:xfrm>
            <a:custGeom>
              <a:avLst/>
              <a:gdLst>
                <a:gd name="textAreaLeft" fmla="*/ 0 w 2659680"/>
                <a:gd name="textAreaRight" fmla="*/ 2660040 w 2659680"/>
                <a:gd name="textAreaTop" fmla="*/ 0 h 3496680"/>
                <a:gd name="textAreaBottom" fmla="*/ 3497040 h 3496680"/>
              </a:gdLst>
              <a:ahLst/>
              <a:rect l="textAreaLeft" t="textAreaTop" r="textAreaRight" b="textAreaBottom"/>
              <a:pathLst>
                <a:path w="2660089" h="3497180">
                  <a:moveTo>
                    <a:pt x="0" y="0"/>
                  </a:moveTo>
                  <a:lnTo>
                    <a:pt x="1209087" y="0"/>
                  </a:lnTo>
                  <a:lnTo>
                    <a:pt x="1217775" y="43034"/>
                  </a:lnTo>
                  <a:cubicBezTo>
                    <a:pt x="1236272" y="86766"/>
                    <a:pt x="1279574" y="117451"/>
                    <a:pt x="1330044" y="117451"/>
                  </a:cubicBezTo>
                  <a:cubicBezTo>
                    <a:pt x="1380514" y="117451"/>
                    <a:pt x="1423816" y="86766"/>
                    <a:pt x="1442313" y="43034"/>
                  </a:cubicBezTo>
                  <a:lnTo>
                    <a:pt x="1451001" y="0"/>
                  </a:lnTo>
                  <a:lnTo>
                    <a:pt x="2660089" y="0"/>
                  </a:lnTo>
                  <a:lnTo>
                    <a:pt x="2660089" y="3497180"/>
                  </a:lnTo>
                  <a:lnTo>
                    <a:pt x="0" y="34971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c6c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184" name="单圆角矩形 19"/>
            <p:cNvSpPr/>
            <p:nvPr/>
          </p:nvSpPr>
          <p:spPr>
            <a:xfrm>
              <a:off x="1234800" y="2755440"/>
              <a:ext cx="2659680" cy="533520"/>
            </a:xfrm>
            <a:prstGeom prst="round1Rect">
              <a:avLst>
                <a:gd name="adj" fmla="val 0"/>
              </a:avLst>
            </a:prstGeom>
            <a:solidFill>
              <a:srgbClr val="2a2a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185" name="文本框 20"/>
            <p:cNvSpPr/>
            <p:nvPr/>
          </p:nvSpPr>
          <p:spPr>
            <a:xfrm>
              <a:off x="1479240" y="3479760"/>
              <a:ext cx="217152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3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186" name="矩形 25"/>
            <p:cNvSpPr/>
            <p:nvPr/>
          </p:nvSpPr>
          <p:spPr>
            <a:xfrm>
              <a:off x="1234800" y="5608080"/>
              <a:ext cx="2659680" cy="240120"/>
            </a:xfrm>
            <a:prstGeom prst="rect">
              <a:avLst/>
            </a:prstGeom>
            <a:solidFill>
              <a:srgbClr val="2a2a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187" name="文本框 23"/>
            <p:cNvSpPr/>
            <p:nvPr/>
          </p:nvSpPr>
          <p:spPr>
            <a:xfrm>
              <a:off x="1682280" y="5597640"/>
              <a:ext cx="1765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11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188" name="任意多边形 40"/>
            <p:cNvSpPr/>
            <p:nvPr/>
          </p:nvSpPr>
          <p:spPr>
            <a:xfrm>
              <a:off x="2305800" y="2237040"/>
              <a:ext cx="518040" cy="51804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518040"/>
                <a:gd name="textAreaBottom" fmla="*/ 518400 h 518040"/>
              </a:gdLst>
              <a:ahLst/>
              <a:rect l="textAreaLeft" t="textAreaTop" r="textAreaRight" b="textAreaBottom"/>
              <a:pathLst>
                <a:path w="518312" h="518312">
                  <a:moveTo>
                    <a:pt x="259156" y="137312"/>
                  </a:moveTo>
                  <a:cubicBezTo>
                    <a:pt x="191863" y="137312"/>
                    <a:pt x="137312" y="191863"/>
                    <a:pt x="137312" y="259156"/>
                  </a:cubicBezTo>
                  <a:cubicBezTo>
                    <a:pt x="137312" y="326449"/>
                    <a:pt x="191863" y="381000"/>
                    <a:pt x="259156" y="381000"/>
                  </a:cubicBezTo>
                  <a:cubicBezTo>
                    <a:pt x="326449" y="381000"/>
                    <a:pt x="381000" y="326449"/>
                    <a:pt x="381000" y="259156"/>
                  </a:cubicBezTo>
                  <a:cubicBezTo>
                    <a:pt x="381000" y="191863"/>
                    <a:pt x="326449" y="137312"/>
                    <a:pt x="259156" y="137312"/>
                  </a:cubicBezTo>
                  <a:close/>
                  <a:moveTo>
                    <a:pt x="0" y="0"/>
                  </a:moveTo>
                  <a:lnTo>
                    <a:pt x="518312" y="0"/>
                  </a:lnTo>
                  <a:lnTo>
                    <a:pt x="518312" y="518312"/>
                  </a:lnTo>
                  <a:lnTo>
                    <a:pt x="0" y="518312"/>
                  </a:lnTo>
                  <a:close/>
                </a:path>
              </a:pathLst>
            </a:custGeom>
            <a:solidFill>
              <a:srgbClr val="2a2a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189" name="文本框 41"/>
            <p:cNvSpPr/>
            <p:nvPr/>
          </p:nvSpPr>
          <p:spPr>
            <a:xfrm>
              <a:off x="1766160" y="2799720"/>
              <a:ext cx="1596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等线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42"/>
            <p:cNvSpPr/>
            <p:nvPr/>
          </p:nvSpPr>
          <p:spPr>
            <a:xfrm>
              <a:off x="2435400" y="2344320"/>
              <a:ext cx="258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等线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60"/>
          <p:cNvGrpSpPr/>
          <p:nvPr/>
        </p:nvGrpSpPr>
        <p:grpSpPr>
          <a:xfrm>
            <a:off x="4766040" y="2237040"/>
            <a:ext cx="2659680" cy="3760200"/>
            <a:chOff x="4766040" y="2237040"/>
            <a:chExt cx="2659680" cy="3760200"/>
          </a:xfrm>
        </p:grpSpPr>
        <p:sp>
          <p:nvSpPr>
            <p:cNvPr id="192" name="任意多边形 43"/>
            <p:cNvSpPr/>
            <p:nvPr/>
          </p:nvSpPr>
          <p:spPr>
            <a:xfrm>
              <a:off x="4766040" y="2500560"/>
              <a:ext cx="2659680" cy="3496680"/>
            </a:xfrm>
            <a:custGeom>
              <a:avLst/>
              <a:gdLst>
                <a:gd name="textAreaLeft" fmla="*/ 0 w 2659680"/>
                <a:gd name="textAreaRight" fmla="*/ 2660040 w 2659680"/>
                <a:gd name="textAreaTop" fmla="*/ 0 h 3496680"/>
                <a:gd name="textAreaBottom" fmla="*/ 3497040 h 3496680"/>
              </a:gdLst>
              <a:ahLst/>
              <a:rect l="textAreaLeft" t="textAreaTop" r="textAreaRight" b="textAreaBottom"/>
              <a:pathLst>
                <a:path w="2660089" h="3497180">
                  <a:moveTo>
                    <a:pt x="0" y="0"/>
                  </a:moveTo>
                  <a:lnTo>
                    <a:pt x="1209087" y="0"/>
                  </a:lnTo>
                  <a:lnTo>
                    <a:pt x="1217775" y="43034"/>
                  </a:lnTo>
                  <a:cubicBezTo>
                    <a:pt x="1236272" y="86766"/>
                    <a:pt x="1279574" y="117451"/>
                    <a:pt x="1330044" y="117451"/>
                  </a:cubicBezTo>
                  <a:cubicBezTo>
                    <a:pt x="1380514" y="117451"/>
                    <a:pt x="1423816" y="86766"/>
                    <a:pt x="1442313" y="43034"/>
                  </a:cubicBezTo>
                  <a:lnTo>
                    <a:pt x="1451001" y="0"/>
                  </a:lnTo>
                  <a:lnTo>
                    <a:pt x="2660089" y="0"/>
                  </a:lnTo>
                  <a:lnTo>
                    <a:pt x="2660089" y="3497180"/>
                  </a:lnTo>
                  <a:lnTo>
                    <a:pt x="0" y="34971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c6c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193" name="单圆角矩形 44"/>
            <p:cNvSpPr/>
            <p:nvPr/>
          </p:nvSpPr>
          <p:spPr>
            <a:xfrm>
              <a:off x="4766040" y="2755440"/>
              <a:ext cx="2659680" cy="533520"/>
            </a:xfrm>
            <a:prstGeom prst="round1Rect">
              <a:avLst>
                <a:gd name="adj" fmla="val 0"/>
              </a:avLst>
            </a:prstGeom>
            <a:solidFill>
              <a:srgbClr val="2a2a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194" name="文本框 45"/>
            <p:cNvSpPr/>
            <p:nvPr/>
          </p:nvSpPr>
          <p:spPr>
            <a:xfrm>
              <a:off x="5010120" y="3479760"/>
              <a:ext cx="217152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3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195" name="矩形 46"/>
            <p:cNvSpPr/>
            <p:nvPr/>
          </p:nvSpPr>
          <p:spPr>
            <a:xfrm>
              <a:off x="4766040" y="5608080"/>
              <a:ext cx="2659680" cy="240120"/>
            </a:xfrm>
            <a:prstGeom prst="rect">
              <a:avLst/>
            </a:prstGeom>
            <a:solidFill>
              <a:srgbClr val="2a2a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196" name="文本框 47"/>
            <p:cNvSpPr/>
            <p:nvPr/>
          </p:nvSpPr>
          <p:spPr>
            <a:xfrm>
              <a:off x="5213160" y="5597640"/>
              <a:ext cx="1765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11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197" name="任意多边形 48"/>
            <p:cNvSpPr/>
            <p:nvPr/>
          </p:nvSpPr>
          <p:spPr>
            <a:xfrm>
              <a:off x="5836680" y="2237040"/>
              <a:ext cx="518040" cy="51804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518040"/>
                <a:gd name="textAreaBottom" fmla="*/ 518400 h 518040"/>
              </a:gdLst>
              <a:ahLst/>
              <a:rect l="textAreaLeft" t="textAreaTop" r="textAreaRight" b="textAreaBottom"/>
              <a:pathLst>
                <a:path w="518312" h="518312">
                  <a:moveTo>
                    <a:pt x="259156" y="137312"/>
                  </a:moveTo>
                  <a:cubicBezTo>
                    <a:pt x="191863" y="137312"/>
                    <a:pt x="137312" y="191863"/>
                    <a:pt x="137312" y="259156"/>
                  </a:cubicBezTo>
                  <a:cubicBezTo>
                    <a:pt x="137312" y="326449"/>
                    <a:pt x="191863" y="381000"/>
                    <a:pt x="259156" y="381000"/>
                  </a:cubicBezTo>
                  <a:cubicBezTo>
                    <a:pt x="326449" y="381000"/>
                    <a:pt x="381000" y="326449"/>
                    <a:pt x="381000" y="259156"/>
                  </a:cubicBezTo>
                  <a:cubicBezTo>
                    <a:pt x="381000" y="191863"/>
                    <a:pt x="326449" y="137312"/>
                    <a:pt x="259156" y="137312"/>
                  </a:cubicBezTo>
                  <a:close/>
                  <a:moveTo>
                    <a:pt x="0" y="0"/>
                  </a:moveTo>
                  <a:lnTo>
                    <a:pt x="518312" y="0"/>
                  </a:lnTo>
                  <a:lnTo>
                    <a:pt x="518312" y="518312"/>
                  </a:lnTo>
                  <a:lnTo>
                    <a:pt x="0" y="518312"/>
                  </a:lnTo>
                  <a:close/>
                </a:path>
              </a:pathLst>
            </a:custGeom>
            <a:solidFill>
              <a:srgbClr val="2a2a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198" name="文本框 49"/>
            <p:cNvSpPr/>
            <p:nvPr/>
          </p:nvSpPr>
          <p:spPr>
            <a:xfrm>
              <a:off x="5297400" y="2799720"/>
              <a:ext cx="1596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等线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50"/>
            <p:cNvSpPr/>
            <p:nvPr/>
          </p:nvSpPr>
          <p:spPr>
            <a:xfrm>
              <a:off x="5966280" y="2344320"/>
              <a:ext cx="258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等线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59"/>
          <p:cNvGrpSpPr/>
          <p:nvPr/>
        </p:nvGrpSpPr>
        <p:grpSpPr>
          <a:xfrm>
            <a:off x="8296920" y="2237040"/>
            <a:ext cx="2659680" cy="3760200"/>
            <a:chOff x="8296920" y="2237040"/>
            <a:chExt cx="2659680" cy="3760200"/>
          </a:xfrm>
        </p:grpSpPr>
        <p:sp>
          <p:nvSpPr>
            <p:cNvPr id="201" name="任意多边形 51"/>
            <p:cNvSpPr/>
            <p:nvPr/>
          </p:nvSpPr>
          <p:spPr>
            <a:xfrm>
              <a:off x="8296920" y="2500560"/>
              <a:ext cx="2659680" cy="3496680"/>
            </a:xfrm>
            <a:custGeom>
              <a:avLst/>
              <a:gdLst>
                <a:gd name="textAreaLeft" fmla="*/ 0 w 2659680"/>
                <a:gd name="textAreaRight" fmla="*/ 2660040 w 2659680"/>
                <a:gd name="textAreaTop" fmla="*/ 0 h 3496680"/>
                <a:gd name="textAreaBottom" fmla="*/ 3497040 h 3496680"/>
              </a:gdLst>
              <a:ahLst/>
              <a:rect l="textAreaLeft" t="textAreaTop" r="textAreaRight" b="textAreaBottom"/>
              <a:pathLst>
                <a:path w="2660089" h="3497180">
                  <a:moveTo>
                    <a:pt x="0" y="0"/>
                  </a:moveTo>
                  <a:lnTo>
                    <a:pt x="1209087" y="0"/>
                  </a:lnTo>
                  <a:lnTo>
                    <a:pt x="1217775" y="43034"/>
                  </a:lnTo>
                  <a:cubicBezTo>
                    <a:pt x="1236272" y="86766"/>
                    <a:pt x="1279574" y="117451"/>
                    <a:pt x="1330044" y="117451"/>
                  </a:cubicBezTo>
                  <a:cubicBezTo>
                    <a:pt x="1380514" y="117451"/>
                    <a:pt x="1423816" y="86766"/>
                    <a:pt x="1442313" y="43034"/>
                  </a:cubicBezTo>
                  <a:lnTo>
                    <a:pt x="1451001" y="0"/>
                  </a:lnTo>
                  <a:lnTo>
                    <a:pt x="2660089" y="0"/>
                  </a:lnTo>
                  <a:lnTo>
                    <a:pt x="2660089" y="3497180"/>
                  </a:lnTo>
                  <a:lnTo>
                    <a:pt x="0" y="34971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c6c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02" name="单圆角矩形 52"/>
            <p:cNvSpPr/>
            <p:nvPr/>
          </p:nvSpPr>
          <p:spPr>
            <a:xfrm>
              <a:off x="8296920" y="2755440"/>
              <a:ext cx="2659680" cy="533520"/>
            </a:xfrm>
            <a:prstGeom prst="round1Rect">
              <a:avLst>
                <a:gd name="adj" fmla="val 0"/>
              </a:avLst>
            </a:prstGeom>
            <a:solidFill>
              <a:srgbClr val="2a2a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03" name="文本框 53"/>
            <p:cNvSpPr/>
            <p:nvPr/>
          </p:nvSpPr>
          <p:spPr>
            <a:xfrm>
              <a:off x="8541360" y="3479760"/>
              <a:ext cx="217152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3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204" name="矩形 54"/>
            <p:cNvSpPr/>
            <p:nvPr/>
          </p:nvSpPr>
          <p:spPr>
            <a:xfrm>
              <a:off x="8296920" y="5608080"/>
              <a:ext cx="2659680" cy="240120"/>
            </a:xfrm>
            <a:prstGeom prst="rect">
              <a:avLst/>
            </a:prstGeom>
            <a:solidFill>
              <a:srgbClr val="2a2a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05" name="文本框 55"/>
            <p:cNvSpPr/>
            <p:nvPr/>
          </p:nvSpPr>
          <p:spPr>
            <a:xfrm>
              <a:off x="8744400" y="5597640"/>
              <a:ext cx="1765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11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206" name="任意多边形 56"/>
            <p:cNvSpPr/>
            <p:nvPr/>
          </p:nvSpPr>
          <p:spPr>
            <a:xfrm>
              <a:off x="9367920" y="2237040"/>
              <a:ext cx="518040" cy="51804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518040"/>
                <a:gd name="textAreaBottom" fmla="*/ 518400 h 518040"/>
              </a:gdLst>
              <a:ahLst/>
              <a:rect l="textAreaLeft" t="textAreaTop" r="textAreaRight" b="textAreaBottom"/>
              <a:pathLst>
                <a:path w="518312" h="518312">
                  <a:moveTo>
                    <a:pt x="259156" y="137312"/>
                  </a:moveTo>
                  <a:cubicBezTo>
                    <a:pt x="191863" y="137312"/>
                    <a:pt x="137312" y="191863"/>
                    <a:pt x="137312" y="259156"/>
                  </a:cubicBezTo>
                  <a:cubicBezTo>
                    <a:pt x="137312" y="326449"/>
                    <a:pt x="191863" y="381000"/>
                    <a:pt x="259156" y="381000"/>
                  </a:cubicBezTo>
                  <a:cubicBezTo>
                    <a:pt x="326449" y="381000"/>
                    <a:pt x="381000" y="326449"/>
                    <a:pt x="381000" y="259156"/>
                  </a:cubicBezTo>
                  <a:cubicBezTo>
                    <a:pt x="381000" y="191863"/>
                    <a:pt x="326449" y="137312"/>
                    <a:pt x="259156" y="137312"/>
                  </a:cubicBezTo>
                  <a:close/>
                  <a:moveTo>
                    <a:pt x="0" y="0"/>
                  </a:moveTo>
                  <a:lnTo>
                    <a:pt x="518312" y="0"/>
                  </a:lnTo>
                  <a:lnTo>
                    <a:pt x="518312" y="518312"/>
                  </a:lnTo>
                  <a:lnTo>
                    <a:pt x="0" y="518312"/>
                  </a:lnTo>
                  <a:close/>
                </a:path>
              </a:pathLst>
            </a:custGeom>
            <a:solidFill>
              <a:srgbClr val="2a2a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07" name="文本框 57"/>
            <p:cNvSpPr/>
            <p:nvPr/>
          </p:nvSpPr>
          <p:spPr>
            <a:xfrm>
              <a:off x="8828280" y="2799720"/>
              <a:ext cx="1596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等线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58"/>
            <p:cNvSpPr/>
            <p:nvPr/>
          </p:nvSpPr>
          <p:spPr>
            <a:xfrm>
              <a:off x="9497520" y="2344320"/>
              <a:ext cx="258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等线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直角三角形 64"/>
          <p:cNvSpPr/>
          <p:nvPr/>
        </p:nvSpPr>
        <p:spPr>
          <a:xfrm flipH="1">
            <a:off x="2243880" y="2238480"/>
            <a:ext cx="60840" cy="26172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210" name="直角三角形 66"/>
          <p:cNvSpPr/>
          <p:nvPr/>
        </p:nvSpPr>
        <p:spPr>
          <a:xfrm>
            <a:off x="2824200" y="2238480"/>
            <a:ext cx="60840" cy="26172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211" name="直角三角形 67"/>
          <p:cNvSpPr/>
          <p:nvPr/>
        </p:nvSpPr>
        <p:spPr>
          <a:xfrm flipH="1">
            <a:off x="9312480" y="2238480"/>
            <a:ext cx="60840" cy="26172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212" name="直角三角形 68"/>
          <p:cNvSpPr/>
          <p:nvPr/>
        </p:nvSpPr>
        <p:spPr>
          <a:xfrm>
            <a:off x="9887760" y="2238480"/>
            <a:ext cx="60840" cy="26172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213" name="直角三角形 69"/>
          <p:cNvSpPr/>
          <p:nvPr/>
        </p:nvSpPr>
        <p:spPr>
          <a:xfrm flipH="1">
            <a:off x="5775120" y="2238480"/>
            <a:ext cx="60840" cy="26172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214" name="直角三角形 70"/>
          <p:cNvSpPr/>
          <p:nvPr/>
        </p:nvSpPr>
        <p:spPr>
          <a:xfrm>
            <a:off x="6355080" y="2238480"/>
            <a:ext cx="60840" cy="26172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215" name="直角三角形 8"/>
          <p:cNvSpPr/>
          <p:nvPr/>
        </p:nvSpPr>
        <p:spPr>
          <a:xfrm>
            <a:off x="3894840" y="2496240"/>
            <a:ext cx="244800" cy="3488040"/>
          </a:xfrm>
          <a:custGeom>
            <a:avLst/>
            <a:gdLst>
              <a:gd name="textAreaLeft" fmla="*/ 0 w 244800"/>
              <a:gd name="textAreaRight" fmla="*/ 245160 w 244800"/>
              <a:gd name="textAreaTop" fmla="*/ 0 h 3488040"/>
              <a:gd name="textAreaBottom" fmla="*/ 3488400 h 3488040"/>
            </a:gdLst>
            <a:ahLst/>
            <a:rect l="textAreaLeft" t="textAreaTop" r="textAreaRight" b="textAreaBottom"/>
            <a:pathLst>
              <a:path w="195852" h="3488419">
                <a:moveTo>
                  <a:pt x="0" y="3488419"/>
                </a:moveTo>
                <a:lnTo>
                  <a:pt x="0" y="0"/>
                </a:lnTo>
                <a:cubicBezTo>
                  <a:pt x="88239" y="1186906"/>
                  <a:pt x="122836" y="1885316"/>
                  <a:pt x="195852" y="2776947"/>
                </a:cubicBezTo>
                <a:lnTo>
                  <a:pt x="0" y="3488419"/>
                </a:lnTo>
                <a:close/>
              </a:path>
            </a:pathLst>
          </a:cu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216" name="直角三角形 8"/>
          <p:cNvSpPr/>
          <p:nvPr/>
        </p:nvSpPr>
        <p:spPr>
          <a:xfrm>
            <a:off x="7421400" y="2496240"/>
            <a:ext cx="244800" cy="3488040"/>
          </a:xfrm>
          <a:custGeom>
            <a:avLst/>
            <a:gdLst>
              <a:gd name="textAreaLeft" fmla="*/ 0 w 244800"/>
              <a:gd name="textAreaRight" fmla="*/ 245160 w 244800"/>
              <a:gd name="textAreaTop" fmla="*/ 0 h 3488040"/>
              <a:gd name="textAreaBottom" fmla="*/ 3488400 h 3488040"/>
            </a:gdLst>
            <a:ahLst/>
            <a:rect l="textAreaLeft" t="textAreaTop" r="textAreaRight" b="textAreaBottom"/>
            <a:pathLst>
              <a:path w="195852" h="3488419">
                <a:moveTo>
                  <a:pt x="0" y="3488419"/>
                </a:moveTo>
                <a:lnTo>
                  <a:pt x="0" y="0"/>
                </a:lnTo>
                <a:cubicBezTo>
                  <a:pt x="88239" y="1186906"/>
                  <a:pt x="122836" y="1885316"/>
                  <a:pt x="195852" y="2776947"/>
                </a:cubicBezTo>
                <a:lnTo>
                  <a:pt x="0" y="3488419"/>
                </a:lnTo>
                <a:close/>
              </a:path>
            </a:pathLst>
          </a:cu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217" name="直角三角形 8"/>
          <p:cNvSpPr/>
          <p:nvPr/>
        </p:nvSpPr>
        <p:spPr>
          <a:xfrm>
            <a:off x="10932840" y="2496240"/>
            <a:ext cx="244800" cy="3488040"/>
          </a:xfrm>
          <a:custGeom>
            <a:avLst/>
            <a:gdLst>
              <a:gd name="textAreaLeft" fmla="*/ 0 w 244800"/>
              <a:gd name="textAreaRight" fmla="*/ 245160 w 244800"/>
              <a:gd name="textAreaTop" fmla="*/ 0 h 3488040"/>
              <a:gd name="textAreaBottom" fmla="*/ 3488400 h 3488040"/>
            </a:gdLst>
            <a:ahLst/>
            <a:rect l="textAreaLeft" t="textAreaTop" r="textAreaRight" b="textAreaBottom"/>
            <a:pathLst>
              <a:path w="195852" h="3488419">
                <a:moveTo>
                  <a:pt x="0" y="3488419"/>
                </a:moveTo>
                <a:lnTo>
                  <a:pt x="0" y="0"/>
                </a:lnTo>
                <a:cubicBezTo>
                  <a:pt x="88239" y="1186906"/>
                  <a:pt x="122836" y="1885316"/>
                  <a:pt x="195852" y="2776947"/>
                </a:cubicBezTo>
                <a:lnTo>
                  <a:pt x="0" y="3488419"/>
                </a:lnTo>
                <a:close/>
              </a:path>
            </a:pathLst>
          </a:cu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738720" y="677376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4"/>
          <p:cNvSpPr/>
          <p:nvPr/>
        </p:nvSpPr>
        <p:spPr>
          <a:xfrm>
            <a:off x="0" y="2791800"/>
            <a:ext cx="12191760" cy="1274040"/>
          </a:xfrm>
          <a:prstGeom prst="rect">
            <a:avLst/>
          </a:prstGeom>
          <a:solidFill>
            <a:srgbClr val="2a2a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220" name="矩形 5"/>
          <p:cNvSpPr/>
          <p:nvPr/>
        </p:nvSpPr>
        <p:spPr>
          <a:xfrm>
            <a:off x="3216600" y="2515320"/>
            <a:ext cx="5758920" cy="1831320"/>
          </a:xfrm>
          <a:prstGeom prst="rect">
            <a:avLst/>
          </a:prstGeom>
          <a:solidFill>
            <a:srgbClr val="52c6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221" name="直角三角形 6"/>
          <p:cNvSpPr/>
          <p:nvPr/>
        </p:nvSpPr>
        <p:spPr>
          <a:xfrm>
            <a:off x="8975520" y="2515320"/>
            <a:ext cx="107280" cy="28044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222" name="直角三角形 7"/>
          <p:cNvSpPr/>
          <p:nvPr/>
        </p:nvSpPr>
        <p:spPr>
          <a:xfrm flipH="1">
            <a:off x="3108960" y="2515320"/>
            <a:ext cx="107280" cy="28044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223" name="文本框 8"/>
          <p:cNvSpPr/>
          <p:nvPr/>
        </p:nvSpPr>
        <p:spPr>
          <a:xfrm>
            <a:off x="3618360" y="2967480"/>
            <a:ext cx="4954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等线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角三角形 9"/>
          <p:cNvSpPr/>
          <p:nvPr/>
        </p:nvSpPr>
        <p:spPr>
          <a:xfrm flipV="1">
            <a:off x="8975520" y="4065480"/>
            <a:ext cx="107280" cy="28044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225" name="直角三角形 11"/>
          <p:cNvSpPr/>
          <p:nvPr/>
        </p:nvSpPr>
        <p:spPr>
          <a:xfrm flipH="1" flipV="1">
            <a:off x="3108960" y="4065480"/>
            <a:ext cx="107280" cy="280440"/>
          </a:xfrm>
          <a:prstGeom prst="rtTriangle">
            <a:avLst/>
          </a:prstGeom>
          <a:solidFill>
            <a:srgbClr val="3286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  <Words>84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15:09:24Z</dcterms:created>
  <dc:creator>王垚</dc:creator>
  <dc:description/>
  <dc:language>en-US</dc:language>
  <cp:lastModifiedBy>王玉清</cp:lastModifiedBy>
  <dcterms:modified xsi:type="dcterms:W3CDTF">2016-03-05T12:48:02Z</dcterms:modified>
  <cp:revision>4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宽屏</vt:lpwstr>
  </property>
  <property fmtid="{D5CDD505-2E9C-101B-9397-08002B2CF9AE}" pid="4" name="Slides">
    <vt:r8>5</vt:r8>
  </property>
</Properties>
</file>