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0F0-1677-4DD3-910B-9E46B7EE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446-DEBD-47EE-BA41-BEDEC5CF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0DB-36D2-43E4-925B-C116CF0E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E09-5998-4509-AC4E-5FEB45F7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2E4D-50B3-4989-8BBF-DE5774BF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7B2-DA3A-4D18-88F3-7CAE3F95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1501-3E8D-4793-A116-E736EEDE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17C-27D7-4662-A2DC-9C5184B6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0C5A-2132-4251-8DEB-AE2B5316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04A-F0BA-4477-A37E-8853832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1E7-8629-490F-BF99-56B5F55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301-DC4E-4586-933E-F84D8D2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F1963-26E7-4D90-9791-F90FEBA0333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072120" y="1357200"/>
            <a:ext cx="1137960" cy="3499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6072120" y="4286160"/>
            <a:ext cx="1045800" cy="81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802560" y="1214280"/>
            <a:ext cx="769680" cy="407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037960" y="317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约清爽主题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715080" y="28584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71168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71152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56884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687744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435456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4258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4258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94872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357800" y="492912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328284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14052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6805800" y="21420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071880" y="4357800"/>
            <a:ext cx="17856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64040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854680" y="4286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6877440" y="2858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9"/>
          <p:cNvSpPr/>
          <p:nvPr/>
        </p:nvSpPr>
        <p:spPr>
          <a:xfrm>
            <a:off x="335448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5497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926320" y="4357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  <Words>82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3-02T10:32:3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