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6c6c6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CA2526-68E0-4498-93B3-9C38BABFB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4D7CD4-414B-440A-B89B-2242FFDDC6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6800"/>
            <a:ext cx="2971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</a:pPr>
            <a:fld id="{1F24ADAF-7B9E-4E6C-A2B5-157855BD1E8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49120" y="4883040"/>
            <a:ext cx="6430680" cy="3766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89640" rIns="89640" tIns="45000" bIns="450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317520" y="0"/>
            <a:ext cx="6222600" cy="4668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0A3A-907E-45B1-BD8D-CCCB9000B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30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F67B8-33B5-4690-9321-EDD63D81F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DF5D0-5062-44C9-BE49-E9DA5DE32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480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872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480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872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916F-EF62-408B-B5DD-7DBE6B67F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8E6A9-B9A0-44FD-8172-702E3B5067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1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E23FD-DEA6-4FD3-9B83-CCA7F93317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1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34129-B10F-4E63-9D30-6E70DCD829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62F7B-D076-49E9-B28B-7C908C9BEC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61C6C-2111-461B-844E-AA8E653D1A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76320"/>
            <a:ext cx="8381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1270A-5228-4037-AB4A-D89C8F7F77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6A8F7-0325-48A4-9E06-434345AB6D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1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87F2A-0809-4102-A9E8-F03001D83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56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2848A-6CFB-458E-BEA3-C2C0F8769E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39D34-3C4D-4CB6-A5B6-7AC03A44F6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6730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DD4B9-FF4F-4922-8093-9B833E5668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56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D1F1F-5DE9-4318-ADAB-D9F78DB75C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480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872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480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872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F8FA7-081C-47D8-AFD1-AA50CEAB37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00E4-6BAD-44FF-867E-DE7CB65745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1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9B41-5D66-487E-B0C6-2FE622EF19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1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414D-CABE-4AD3-984C-8A592A0B0A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5C8D-B708-4310-9BF1-38FBEF263B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9DA1-08F2-4C16-992C-A81D920091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15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65F0-318C-4C95-8870-11C58786F7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76320"/>
            <a:ext cx="8381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2B21-9F4E-476C-A85A-CBBCA5C12D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C768-D373-491A-97D9-EC59FBC899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56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1371-F89C-46C2-8A53-F7FD959061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7A8D-C937-465F-8E20-D52BDB152B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6730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BA10-50D6-4126-B356-0DEA1D0A0A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56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FB7C-B67C-4F7E-BA68-FB77C170A3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480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48720" y="15238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1480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48720" y="3673080"/>
            <a:ext cx="26985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2D51-FF0A-4CDE-8125-83062FE7A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802F-76B9-41BA-9C7B-321D575FD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0A5E4-4951-482E-828E-E7A14B3A0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76320"/>
            <a:ext cx="83815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CCB1-F675-454F-A08E-58DF016B0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ECBF-6481-4CFF-93BA-89A6871B8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36730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08BE-D4E6-4163-AD78-A98A7CDAE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523880"/>
            <a:ext cx="40899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3080"/>
            <a:ext cx="83815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D3BD-83AF-47A3-9400-E5EDEFE53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333333"/>
          <p:cNvPicPr/>
          <p:nvPr/>
        </p:nvPicPr>
        <p:blipFill>
          <a:blip r:embed="rId2"/>
          <a:stretch/>
        </p:blipFill>
        <p:spPr>
          <a:xfrm>
            <a:off x="0" y="0"/>
            <a:ext cx="9145080" cy="6859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Unbranded_Keppie Careers"/>
          <p:cNvPicPr/>
          <p:nvPr/>
        </p:nvPicPr>
        <p:blipFill>
          <a:blip r:embed="rId3"/>
          <a:stretch/>
        </p:blipFill>
        <p:spPr>
          <a:xfrm>
            <a:off x="0" y="0"/>
            <a:ext cx="9145080" cy="685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666880" y="4191120"/>
            <a:ext cx="43430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Click to edit Master title style</a:t>
            </a:r>
            <a:endParaRPr b="0" lang="en-US" sz="36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251460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7010280" y="655308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Rockwel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CB11AF-87C1-45D6-B04B-9C2C121D8ACD}" type="slidenum">
              <a:rPr b="0" lang="en-US" sz="9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6c6c6b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6c6c6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333333"/>
          <p:cNvPicPr/>
          <p:nvPr/>
        </p:nvPicPr>
        <p:blipFill>
          <a:blip r:embed="rId2"/>
          <a:stretch/>
        </p:blipFill>
        <p:spPr>
          <a:xfrm>
            <a:off x="0" y="0"/>
            <a:ext cx="9145080" cy="685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3"/>
          </p:nvPr>
        </p:nvSpPr>
        <p:spPr>
          <a:xfrm>
            <a:off x="3505320" y="6400800"/>
            <a:ext cx="289512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4"/>
          </p:nvPr>
        </p:nvSpPr>
        <p:spPr>
          <a:xfrm>
            <a:off x="6934320" y="6400800"/>
            <a:ext cx="190476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Rockwel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A6422C-E4BB-4DA5-AE5D-411529BAB2D4}" type="slidenum">
              <a:rPr b="0" lang="en-US" sz="9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6c6c6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6c6c6b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6c6c6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c6c6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333333"/>
          <p:cNvPicPr/>
          <p:nvPr/>
        </p:nvPicPr>
        <p:blipFill>
          <a:blip r:embed="rId2"/>
          <a:stretch/>
        </p:blipFill>
        <p:spPr>
          <a:xfrm>
            <a:off x="0" y="0"/>
            <a:ext cx="9145080" cy="6859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4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单击此处编辑母版标题样式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152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6c6c6b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6c6c6b"/>
                </a:solidFill>
                <a:latin typeface="Rockwell"/>
                <a:ea typeface="ＭＳ Ｐゴシック"/>
              </a:rPr>
              <a:t>单击此处编辑母版文本样式</a:t>
            </a:r>
            <a:endParaRPr b="0" lang="en-US" sz="3200" spc="-1" strike="noStrike">
              <a:solidFill>
                <a:srgbClr val="6c6c6b"/>
              </a:solidFill>
              <a:latin typeface="Rockwel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6c6c6b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6c6c6b"/>
                </a:solidFill>
                <a:latin typeface="Rockwell"/>
                <a:ea typeface="ＭＳ Ｐゴシック"/>
              </a:rPr>
              <a:t>第二级</a:t>
            </a:r>
            <a:endParaRPr b="0" lang="en-US" sz="2800" spc="-1" strike="noStrike">
              <a:solidFill>
                <a:srgbClr val="6c6c6b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c6c6b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6c6c6b"/>
                </a:solidFill>
                <a:latin typeface="Arial"/>
                <a:ea typeface="ＭＳ Ｐゴシック"/>
              </a:rPr>
              <a:t>第三级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6c6c6b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6c6c6b"/>
                </a:solidFill>
                <a:latin typeface="Arial"/>
                <a:ea typeface="ＭＳ Ｐゴシック"/>
              </a:rPr>
              <a:t>第四级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6c6c6b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6c6c6b"/>
                </a:solidFill>
                <a:latin typeface="Arial"/>
                <a:ea typeface="ＭＳ Ｐゴシック"/>
              </a:rPr>
              <a:t>第五级</a:t>
            </a:r>
            <a:endParaRPr b="0" lang="en-US" sz="20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505320" y="6400800"/>
            <a:ext cx="289512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190476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ffffff"/>
                </a:solidFill>
                <a:latin typeface="Rockwel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13BA7F-4DA4-4824-8D5D-BF24E52A7DF3}" type="slidenum">
              <a:rPr b="0" lang="en-US" sz="9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640" y="4267080"/>
            <a:ext cx="993672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技实践指导主题班会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339640" y="4941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旅游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12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A4B9-4C62-45AB-A6E7-E3BB960995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Q&amp;A</a:t>
            </a:r>
            <a:br>
              <a:rPr sz="2400"/>
            </a:b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pic>
        <p:nvPicPr>
          <p:cNvPr id="160" name="Picture 2" descr="C:\Users\louis.stuart\Desktop\article-new_ehow_images_a04_an_s2_answer-tough-interview-questions-800x800.jpg"/>
          <p:cNvPicPr/>
          <p:nvPr/>
        </p:nvPicPr>
        <p:blipFill>
          <a:blip r:embed="rId1"/>
          <a:stretch/>
        </p:blipFill>
        <p:spPr>
          <a:xfrm>
            <a:off x="755640" y="1227240"/>
            <a:ext cx="7596720" cy="50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D783-D1CF-48AC-9D4D-3328DB68A8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ummary</a:t>
            </a:r>
            <a:br>
              <a:rPr sz="2400"/>
            </a:b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pic>
        <p:nvPicPr>
          <p:cNvPr id="162" name="Picture 2" descr="E:\学习\PPT\图片\创意图片\创意商务PPT图片（锐普论坛） (2251).jpg"/>
          <p:cNvPicPr/>
          <p:nvPr/>
        </p:nvPicPr>
        <p:blipFill>
          <a:blip r:embed="rId1"/>
          <a:stretch/>
        </p:blipFill>
        <p:spPr>
          <a:xfrm>
            <a:off x="755640" y="1227600"/>
            <a:ext cx="7567200" cy="50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C9BC-51F0-4818-8744-CD7A54E239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0" y="1406520"/>
            <a:ext cx="5333760" cy="53316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</a:pPr>
            <a:endParaRPr b="0" lang="en-US" sz="1700" spc="-1" strike="noStrike">
              <a:solidFill>
                <a:srgbClr val="f3f3f3"/>
              </a:solidFill>
              <a:latin typeface="Arial"/>
              <a:ea typeface="ＭＳ Ｐゴシック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484200" y="1306440"/>
            <a:ext cx="819900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Aft>
                <a:spcPts val="1199"/>
              </a:spcAf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6c6c6b"/>
                </a:solidFill>
                <a:latin typeface="微软雅黑"/>
                <a:ea typeface="微软雅黑"/>
              </a:rPr>
              <a:t>Introduc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6c6c6b"/>
                </a:solidFill>
                <a:latin typeface="微软雅黑"/>
                <a:ea typeface="微软雅黑"/>
              </a:rPr>
              <a:t>Face-to-face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00"/>
              </a:spcAft>
            </a:pPr>
            <a:r>
              <a:rPr b="1" lang="en-US" sz="2200" spc="-1" strike="noStrike">
                <a:solidFill>
                  <a:srgbClr val="6c6c6b"/>
                </a:solidFill>
                <a:latin typeface="微软雅黑"/>
                <a:ea typeface="微软雅黑"/>
              </a:rPr>
              <a:t>Teacher’s  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00"/>
              </a:spcAft>
            </a:pPr>
            <a:r>
              <a:rPr b="1" lang="en-US" sz="2200" spc="-1" strike="noStrike">
                <a:solidFill>
                  <a:srgbClr val="6c6c6b"/>
                </a:solidFill>
                <a:latin typeface="微软雅黑"/>
                <a:ea typeface="微软雅黑"/>
              </a:rPr>
              <a:t>Q&amp;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99"/>
              </a:spcAft>
            </a:pPr>
            <a:r>
              <a:rPr b="1" lang="en-US" sz="2400" spc="-1" strike="noStrike">
                <a:solidFill>
                  <a:srgbClr val="6c6c6b"/>
                </a:solidFill>
                <a:latin typeface="微软雅黑"/>
                <a:ea typeface="微软雅黑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4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目录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B1F76-2CC7-4D89-A08A-3A22681850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troduction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pic>
        <p:nvPicPr>
          <p:cNvPr id="137" name="Picture 2" descr="C:\Users\louis.stuart\Desktop\创意商务PPT图片（锐普论坛） (2248).jpg"/>
          <p:cNvPicPr/>
          <p:nvPr/>
        </p:nvPicPr>
        <p:blipFill>
          <a:blip r:embed="rId1"/>
          <a:stretch/>
        </p:blipFill>
        <p:spPr>
          <a:xfrm>
            <a:off x="1384200" y="1270080"/>
            <a:ext cx="7171920" cy="485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5D83-E11F-420B-8464-70F1085F7F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ce-to-face communication</a:t>
            </a:r>
            <a:br>
              <a:rPr sz="2400"/>
            </a:b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pic>
        <p:nvPicPr>
          <p:cNvPr id="139" name="Picture 3" descr="C:\Users\louis.stuart\Desktop\创意商务PPT图片（锐普论坛） (2230).jpg"/>
          <p:cNvPicPr/>
          <p:nvPr/>
        </p:nvPicPr>
        <p:blipFill>
          <a:blip r:embed="rId1"/>
          <a:stretch/>
        </p:blipFill>
        <p:spPr>
          <a:xfrm>
            <a:off x="1386000" y="1270800"/>
            <a:ext cx="7229160" cy="4816440"/>
          </a:xfrm>
          <a:prstGeom prst="rect">
            <a:avLst/>
          </a:prstGeom>
          <a:ln w="0">
            <a:noFill/>
          </a:ln>
        </p:spPr>
      </p:pic>
      <p:sp>
        <p:nvSpPr>
          <p:cNvPr id="14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6c6c6b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6c6c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6c6c6b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1465-AEBC-458A-8599-03B2E825B8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ce-to-face communication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397520" y="2997000"/>
            <a:ext cx="230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全国大学生“挑战杯”科技创新大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C:\Users\louis.stuart\Desktop\h_large_Mkt7_57ce0004861d2f75.jpg"/>
          <p:cNvPicPr/>
          <p:nvPr/>
        </p:nvPicPr>
        <p:blipFill>
          <a:blip r:embed="rId1"/>
          <a:stretch/>
        </p:blipFill>
        <p:spPr>
          <a:xfrm>
            <a:off x="5310000" y="1340640"/>
            <a:ext cx="3515400" cy="4680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1314000" y="3681000"/>
            <a:ext cx="2472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4"/>
                </a:solidFill>
                <a:latin typeface="Arial"/>
                <a:ea typeface="ＭＳ Ｐゴシック"/>
              </a:rPr>
              <a:t>市场营销</a:t>
            </a:r>
            <a:r>
              <a:rPr b="0" lang="en-US" sz="1800" spc="-1" strike="noStrike">
                <a:solidFill>
                  <a:schemeClr val="accent4"/>
                </a:solidFill>
                <a:latin typeface="Arial"/>
                <a:ea typeface="ＭＳ Ｐゴシック"/>
              </a:rPr>
              <a:t>1011——</a:t>
            </a:r>
            <a:r>
              <a:rPr b="0" lang="zh-CN" sz="1800" spc="-1" strike="noStrike">
                <a:solidFill>
                  <a:schemeClr val="accent4"/>
                </a:solidFill>
                <a:latin typeface="Arial"/>
                <a:ea typeface="ＭＳ Ｐゴシック"/>
              </a:rPr>
              <a:t>裴梦杨同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2803-9330-4481-A77B-19DB1E9D61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ce-to-face communication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447560" y="2703600"/>
            <a:ext cx="148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ERP</a:t>
            </a:r>
            <a:r>
              <a:rPr b="1" lang="zh-CN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沙盘模拟大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1028160" y="3243600"/>
            <a:ext cx="256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工商管理</a:t>
            </a:r>
            <a:r>
              <a:rPr b="0" lang="en-US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1011</a:t>
            </a:r>
            <a:r>
              <a:rPr b="0" lang="en-US" sz="18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 ——</a:t>
            </a:r>
            <a:r>
              <a:rPr b="0" lang="zh-CN" sz="18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高陈宇同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C:\Users\louis.stuart\Desktop\h_large_SBG9_317300002c902f75.jpg"/>
          <p:cNvPicPr/>
          <p:nvPr/>
        </p:nvPicPr>
        <p:blipFill>
          <a:blip r:embed="rId1"/>
          <a:srcRect l="12104" t="0" r="11693" b="0"/>
          <a:stretch/>
        </p:blipFill>
        <p:spPr>
          <a:xfrm>
            <a:off x="5292000" y="1339200"/>
            <a:ext cx="3870720" cy="380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FB3C-D65B-4812-A67E-F4E4479819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ce-to-face communication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1462320" y="270504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暑期社会实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980640" y="3244320"/>
            <a:ext cx="242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旅游管理</a:t>
            </a:r>
            <a:r>
              <a:rPr b="0" lang="en-US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1012</a:t>
            </a:r>
            <a:r>
              <a:rPr b="0" lang="en-US" sz="18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 ——</a:t>
            </a:r>
            <a:r>
              <a:rPr b="0" lang="zh-CN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万莉同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C:\Users\louis.stuart\Desktop\h_large_GAzF_6165000290932f76.jpg"/>
          <p:cNvPicPr/>
          <p:nvPr/>
        </p:nvPicPr>
        <p:blipFill>
          <a:blip r:embed="rId1"/>
          <a:stretch/>
        </p:blipFill>
        <p:spPr>
          <a:xfrm>
            <a:off x="5306400" y="1339200"/>
            <a:ext cx="3516840" cy="46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E7C4-DE2D-427F-B015-7356F4C060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ce-to-face communication</a:t>
            </a: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pic>
        <p:nvPicPr>
          <p:cNvPr id="154" name="Picture 2" descr="C:\Users\louis.stuart\Desktop\h_large_qtKa_68d900038edb2f75.jpg"/>
          <p:cNvPicPr/>
          <p:nvPr/>
        </p:nvPicPr>
        <p:blipFill>
          <a:blip r:embed="rId1"/>
          <a:stretch/>
        </p:blipFill>
        <p:spPr>
          <a:xfrm>
            <a:off x="5306400" y="1339200"/>
            <a:ext cx="3509640" cy="4679640"/>
          </a:xfrm>
          <a:prstGeom prst="rect">
            <a:avLst/>
          </a:prstGeom>
          <a:ln w="0">
            <a:noFill/>
          </a:ln>
        </p:spPr>
      </p:pic>
      <p:sp>
        <p:nvSpPr>
          <p:cNvPr id="155" name="矩形 5"/>
          <p:cNvSpPr/>
          <p:nvPr/>
        </p:nvSpPr>
        <p:spPr>
          <a:xfrm>
            <a:off x="1172880" y="3244320"/>
            <a:ext cx="250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旅游管理</a:t>
            </a:r>
            <a:r>
              <a:rPr b="0" lang="en-US" sz="18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1012——</a:t>
            </a:r>
            <a:r>
              <a:rPr b="0" lang="zh-CN" sz="1800" spc="-1" strike="noStrike">
                <a:solidFill>
                  <a:schemeClr val="accent4"/>
                </a:solidFill>
                <a:latin typeface="微软雅黑"/>
                <a:ea typeface="微软雅黑"/>
              </a:rPr>
              <a:t>黄正余同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1462320" y="270504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6c6c6b"/>
                </a:solidFill>
                <a:latin typeface="微软雅黑"/>
                <a:ea typeface="微软雅黑"/>
              </a:rPr>
              <a:t>暑期社会实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66BA-4047-449F-A143-1B3E757961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15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acher’s  words</a:t>
            </a:r>
            <a:br>
              <a:rPr sz="2400"/>
            </a:br>
            <a:endParaRPr b="0" lang="en-US" sz="2400" spc="-1" strike="noStrike">
              <a:solidFill>
                <a:srgbClr val="6c6c6b"/>
              </a:solidFill>
              <a:latin typeface="Arial"/>
            </a:endParaRPr>
          </a:p>
        </p:txBody>
      </p:sp>
      <p:pic>
        <p:nvPicPr>
          <p:cNvPr id="158" name="Picture 3" descr="C:\Users\louis.stuart\Desktop\solutions.png"/>
          <p:cNvPicPr/>
          <p:nvPr/>
        </p:nvPicPr>
        <p:blipFill>
          <a:blip r:embed="rId1"/>
          <a:stretch/>
        </p:blipFill>
        <p:spPr>
          <a:xfrm>
            <a:off x="2771640" y="1202760"/>
            <a:ext cx="3954240" cy="489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ECEE-E18C-41BE-BFA4-2A3085DAC3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plate">
  <a:themeElements>
    <a:clrScheme name="">
      <a:dk1>
        <a:srgbClr val="6c6c6b"/>
      </a:dk1>
      <a:lt1>
        <a:srgbClr val="ffffff"/>
      </a:lt1>
      <a:dk2>
        <a:srgbClr val="ffffff"/>
      </a:dk2>
      <a:lt2>
        <a:srgbClr val="ffffff"/>
      </a:lt2>
      <a:accent1>
        <a:srgbClr val="659ee5"/>
      </a:accent1>
      <a:accent2>
        <a:srgbClr val="517dbd"/>
      </a:accent2>
      <a:accent3>
        <a:srgbClr val="ffffff"/>
      </a:accent3>
      <a:accent4>
        <a:srgbClr val="5b5b5a"/>
      </a:accent4>
      <a:accent5>
        <a:srgbClr val="b8ccf0"/>
      </a:accent5>
      <a:accent6>
        <a:srgbClr val="4971ab"/>
      </a:accent6>
      <a:hlink>
        <a:srgbClr val="355686"/>
      </a:hlink>
      <a:folHlink>
        <a:srgbClr val="324c7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plate">
  <a:themeElements>
    <a:clrScheme name="">
      <a:dk1>
        <a:srgbClr val="6c6c6b"/>
      </a:dk1>
      <a:lt1>
        <a:srgbClr val="ffffff"/>
      </a:lt1>
      <a:dk2>
        <a:srgbClr val="ffffff"/>
      </a:dk2>
      <a:lt2>
        <a:srgbClr val="ffffff"/>
      </a:lt2>
      <a:accent1>
        <a:srgbClr val="659ee5"/>
      </a:accent1>
      <a:accent2>
        <a:srgbClr val="517dbd"/>
      </a:accent2>
      <a:accent3>
        <a:srgbClr val="ffffff"/>
      </a:accent3>
      <a:accent4>
        <a:srgbClr val="5b5b5a"/>
      </a:accent4>
      <a:accent5>
        <a:srgbClr val="b8ccf0"/>
      </a:accent5>
      <a:accent6>
        <a:srgbClr val="4971ab"/>
      </a:accent6>
      <a:hlink>
        <a:srgbClr val="355686"/>
      </a:hlink>
      <a:folHlink>
        <a:srgbClr val="324c7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emplate">
  <a:themeElements>
    <a:clrScheme name="">
      <a:dk1>
        <a:srgbClr val="6c6c6b"/>
      </a:dk1>
      <a:lt1>
        <a:srgbClr val="ffffff"/>
      </a:lt1>
      <a:dk2>
        <a:srgbClr val="ffffff"/>
      </a:dk2>
      <a:lt2>
        <a:srgbClr val="ffffff"/>
      </a:lt2>
      <a:accent1>
        <a:srgbClr val="659ee5"/>
      </a:accent1>
      <a:accent2>
        <a:srgbClr val="517dbd"/>
      </a:accent2>
      <a:accent3>
        <a:srgbClr val="ffffff"/>
      </a:accent3>
      <a:accent4>
        <a:srgbClr val="5b5b5a"/>
      </a:accent4>
      <a:accent5>
        <a:srgbClr val="b8ccf0"/>
      </a:accent5>
      <a:accent6>
        <a:srgbClr val="4971ab"/>
      </a:accent6>
      <a:hlink>
        <a:srgbClr val="355686"/>
      </a:hlink>
      <a:folHlink>
        <a:srgbClr val="324c7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ffffff"/>
      </a:dk2>
      <a:lt2>
        <a:srgbClr val="ffffff"/>
      </a:lt2>
      <a:accent1>
        <a:srgbClr val="659ee5"/>
      </a:accent1>
      <a:accent2>
        <a:srgbClr val="517dbd"/>
      </a:accent2>
      <a:accent3>
        <a:srgbClr val="ffffff"/>
      </a:accent3>
      <a:accent4>
        <a:srgbClr val="5b5b5a"/>
      </a:accent4>
      <a:accent5>
        <a:srgbClr val="b8ccf0"/>
      </a:accent5>
      <a:accent6>
        <a:srgbClr val="4971ab"/>
      </a:accent6>
      <a:hlink>
        <a:srgbClr val="355686"/>
      </a:hlink>
      <a:folHlink>
        <a:srgbClr val="324c7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ubicle Ninjas - Shaolin:Users:Shaolin:Desktop:template.pot</Template>
  <TotalTime>295</TotalTime>
  <Application>LibreOffice/7.4.7.2$Linux_X86_64 LibreOffice_project/40$Build-2</Application>
  <AppVersion>15.0000</AppVersion>
  <Words>93</Words>
  <Paragraphs>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7:46:30Z</dcterms:created>
  <dc:creator>Administrator</dc:creator>
  <dc:description/>
  <dc:language>en-US</dc:language>
  <cp:lastModifiedBy>王玉清</cp:lastModifiedBy>
  <dcterms:modified xsi:type="dcterms:W3CDTF">2016-02-24T03:32:34Z</dcterms:modified>
  <cp:revision>40</cp:revision>
  <dc:subject/>
  <dc:title>Slide Libr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1</vt:r8>
  </property>
</Properties>
</file>