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A86C-FA92-42EA-8A7F-0D7A5B74E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B18C-CFAE-48FD-9326-8B13B3FBC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9567-0057-41DB-8BF1-131F9E7E6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910-439E-4C67-A019-FC2378C11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1AC9-9962-44D3-A5AB-6D2651CC3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C554-9D94-4C88-ACD4-5130A5C21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4D2-F239-4AD5-AA82-9AB3F5A1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73D-4CB5-456D-B285-D4DFCAE1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846-B05D-4A57-B04C-443C17CD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27A-FB1F-4E14-999B-97FE0368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A06C-BF25-445D-B306-42592C7E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28D6-5024-478A-9EB1-5710A4A4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C95B-0CE1-4083-9DB4-91755D02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4BAD-E3CA-4C68-A777-9546C4B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6013-B2DC-4E77-882E-BBA1C2B9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6C42-13C2-402F-9A1A-59004187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4E8C-CB3D-4B83-9906-6FB1298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B81-48DE-4030-A73F-1768F78D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8929-4632-4CA1-B7C9-8E1E5E69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7891-320E-413F-B758-52C40276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D38A-1601-49AE-AEFD-F337363D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180D-97A0-455C-AAF4-E1102D01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A2EC-DB4C-496F-BA30-F6541EF0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17C9-2C78-408B-B2B4-0B5878D3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FDE6-AFB5-4984-A7A8-4C6918A9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8AA8-CFEA-442F-A53E-9BECD763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6539-C6F1-488F-AD11-2F462908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C619-BBEE-4541-8FB9-F4BBD4D3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A37-7843-43B5-A217-E2339FB6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0242-21E7-4406-81EA-C7645353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9FC3-F39E-46A9-AFC3-A84802C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8245-B530-4645-8B90-FB9CA96A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BE37-EAE5-4E4A-B9BA-11CB1884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B3780-0E81-4C1D-AE48-385108F8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B4106-BB38-4D16-84D9-E93DDED4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69E0-3C39-4BF6-A18D-DFC0623C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AAD-0257-45AA-98E5-CE1A44AA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0A7-42A9-41EC-BACF-E6C62C85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402-90C6-4D9E-8A47-105BBFD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837-03F8-4DA3-BC90-1F43F9D1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B9E-222D-4CBB-AB08-EF4273F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E69-5885-4A84-B3EA-1F85CF35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4187-D422-4CDB-A72F-5436F044A2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F7D6-C6B9-471F-8F8F-67ED8C6A50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14200" y="785880"/>
            <a:ext cx="8715600" cy="40003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114-8641-4C78-8AA0-F6A13F740B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Oval 28"/>
          <p:cNvGrpSpPr/>
          <p:nvPr/>
        </p:nvGrpSpPr>
        <p:grpSpPr>
          <a:xfrm>
            <a:off x="225360" y="3108240"/>
            <a:ext cx="274680" cy="274680"/>
            <a:chOff x="225360" y="3108240"/>
            <a:chExt cx="274680" cy="274680"/>
          </a:xfrm>
        </p:grpSpPr>
        <p:pic>
          <p:nvPicPr>
            <p:cNvPr id="132" name="Oval 28" descr=""/>
            <p:cNvPicPr/>
            <p:nvPr/>
          </p:nvPicPr>
          <p:blipFill>
            <a:blip r:embed="rId1"/>
            <a:stretch/>
          </p:blipFill>
          <p:spPr>
            <a:xfrm>
              <a:off x="225360" y="310824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07800" y="316548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85480" y="1131480"/>
            <a:ext cx="8173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a452a"/>
                </a:solidFill>
                <a:latin typeface="汉仪大宋简"/>
                <a:ea typeface="汉仪大宋简"/>
              </a:rPr>
              <a:t>宽屏鲜花通用</a:t>
            </a:r>
            <a:r>
              <a:rPr b="0" lang="en-US" sz="4000" spc="-1" strike="noStrike">
                <a:solidFill>
                  <a:srgbClr val="4a452a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4a452a"/>
                </a:solidFill>
                <a:latin typeface="汉仪大宋简"/>
                <a:ea typeface="汉仪大宋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314280" y="4638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标题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858960"/>
          </a:xfrm>
          <a:prstGeom prst="rect">
            <a:avLst/>
          </a:prstGeom>
          <a:ln w="0">
            <a:noFill/>
          </a:ln>
        </p:spPr>
      </p:pic>
      <p:pic>
        <p:nvPicPr>
          <p:cNvPr id="137" name="内容占位符 3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77580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标题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3"/>
          <p:cNvSpPr/>
          <p:nvPr/>
        </p:nvSpPr>
        <p:spPr>
          <a:xfrm>
            <a:off x="214200" y="1000080"/>
            <a:ext cx="8572680" cy="37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48a5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48a5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87e4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标题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85896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40"/>
          <p:cNvGrpSpPr/>
          <p:nvPr/>
        </p:nvGrpSpPr>
        <p:grpSpPr>
          <a:xfrm>
            <a:off x="1071720" y="928800"/>
            <a:ext cx="6762600" cy="3844800"/>
            <a:chOff x="1071720" y="928800"/>
            <a:chExt cx="6762600" cy="3844800"/>
          </a:xfrm>
        </p:grpSpPr>
        <p:sp>
          <p:nvSpPr>
            <p:cNvPr id="142" name="AutoShape 10"/>
            <p:cNvSpPr/>
            <p:nvPr/>
          </p:nvSpPr>
          <p:spPr>
            <a:xfrm>
              <a:off x="1071720" y="1465920"/>
              <a:ext cx="1685880" cy="2642760"/>
            </a:xfrm>
            <a:custGeom>
              <a:avLst/>
              <a:gdLst>
                <a:gd name="textAreaLeft" fmla="*/ 82080 w 1685880"/>
                <a:gd name="textAreaRight" fmla="*/ 1603800 w 1685880"/>
                <a:gd name="textAreaTop" fmla="*/ 82080 h 2642760"/>
                <a:gd name="textAreaBottom" fmla="*/ 2560680 h 2642760"/>
              </a:gdLst>
              <a:ahLst/>
              <a:rect l="textAreaLeft" t="textAreaTop" r="textAreaRight" b="textAreaBottom"/>
              <a:pathLst>
                <a:path w="21600" h="33857">
                  <a:moveTo>
                    <a:pt x="3600" y="0"/>
                  </a:moveTo>
                  <a:arcTo wR="3600" hR="3600" stAng="16200000" swAng="-5400000"/>
                  <a:lnTo>
                    <a:pt x="0" y="30257"/>
                  </a:lnTo>
                  <a:arcTo wR="3600" hR="3600" stAng="10800000" swAng="-5400000"/>
                  <a:lnTo>
                    <a:pt x="18000" y="338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1146240" y="1687320"/>
              <a:ext cx="15447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2"/>
            <p:cNvSpPr/>
            <p:nvPr/>
          </p:nvSpPr>
          <p:spPr>
            <a:xfrm>
              <a:off x="6148440" y="1465920"/>
              <a:ext cx="1685880" cy="2642760"/>
            </a:xfrm>
            <a:custGeom>
              <a:avLst/>
              <a:gdLst>
                <a:gd name="textAreaLeft" fmla="*/ 82080 w 1685880"/>
                <a:gd name="textAreaRight" fmla="*/ 1603800 w 1685880"/>
                <a:gd name="textAreaTop" fmla="*/ 82080 h 2642760"/>
                <a:gd name="textAreaBottom" fmla="*/ 2560680 h 2642760"/>
              </a:gdLst>
              <a:ahLst/>
              <a:rect l="textAreaLeft" t="textAreaTop" r="textAreaRight" b="textAreaBottom"/>
              <a:pathLst>
                <a:path w="21600" h="33857">
                  <a:moveTo>
                    <a:pt x="3600" y="0"/>
                  </a:moveTo>
                  <a:arcTo wR="3600" hR="3600" stAng="16200000" swAng="-5400000"/>
                  <a:lnTo>
                    <a:pt x="0" y="30257"/>
                  </a:lnTo>
                  <a:arcTo wR="3600" hR="3600" stAng="10800000" swAng="-5400000"/>
                  <a:lnTo>
                    <a:pt x="18000" y="338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6224040" y="1687320"/>
              <a:ext cx="15447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5"/>
            <p:cNvGrpSpPr/>
            <p:nvPr/>
          </p:nvGrpSpPr>
          <p:grpSpPr>
            <a:xfrm>
              <a:off x="3145680" y="928800"/>
              <a:ext cx="2450520" cy="469800"/>
              <a:chOff x="3145680" y="928800"/>
              <a:chExt cx="2450520" cy="469800"/>
            </a:xfrm>
          </p:grpSpPr>
          <p:pic>
            <p:nvPicPr>
              <p:cNvPr id="147" name="AutoShap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145680" y="928800"/>
                <a:ext cx="24483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3148200" y="1062000"/>
                <a:ext cx="244800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17"/>
            <p:cNvSpPr/>
            <p:nvPr/>
          </p:nvSpPr>
          <p:spPr>
            <a:xfrm>
              <a:off x="3954600" y="1035720"/>
              <a:ext cx="87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AutoShape 18"/>
            <p:cNvGrpSpPr/>
            <p:nvPr/>
          </p:nvGrpSpPr>
          <p:grpSpPr>
            <a:xfrm>
              <a:off x="3182040" y="4165200"/>
              <a:ext cx="2535840" cy="608400"/>
              <a:chOff x="3182040" y="4165200"/>
              <a:chExt cx="2535840" cy="608400"/>
            </a:xfrm>
          </p:grpSpPr>
          <p:pic>
            <p:nvPicPr>
              <p:cNvPr id="151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82040" y="4165200"/>
                <a:ext cx="2535840" cy="60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222720" y="4352040"/>
                <a:ext cx="245016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4052880" y="436644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39"/>
            <p:cNvGrpSpPr/>
            <p:nvPr/>
          </p:nvGrpSpPr>
          <p:grpSpPr>
            <a:xfrm>
              <a:off x="3078360" y="1553760"/>
              <a:ext cx="2865240" cy="2491560"/>
              <a:chOff x="3078360" y="1553760"/>
              <a:chExt cx="2865240" cy="2491560"/>
            </a:xfrm>
          </p:grpSpPr>
          <p:sp>
            <p:nvSpPr>
              <p:cNvPr id="155" name="AutoShape 9"/>
              <p:cNvSpPr/>
              <p:nvPr/>
            </p:nvSpPr>
            <p:spPr>
              <a:xfrm>
                <a:off x="3078360" y="1899000"/>
                <a:ext cx="475920" cy="1381680"/>
              </a:xfrm>
              <a:prstGeom prst="leftArrow">
                <a:avLst>
                  <a:gd name="adj1" fmla="val 65583"/>
                  <a:gd name="adj2" fmla="val 65181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>
                      <a:alpha val="12156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4"/>
              <p:cNvSpPr/>
              <p:nvPr/>
            </p:nvSpPr>
            <p:spPr>
              <a:xfrm>
                <a:off x="5470560" y="1899000"/>
                <a:ext cx="473040" cy="1381680"/>
              </a:xfrm>
              <a:prstGeom prst="rightArrow">
                <a:avLst>
                  <a:gd name="adj1" fmla="val 67750"/>
                  <a:gd name="adj2" fmla="val 66167"/>
                </a:avLst>
              </a:prstGeom>
              <a:gradFill rotWithShape="0">
                <a:gsLst>
                  <a:gs pos="0">
                    <a:srgbClr val="454545">
                      <a:alpha val="12156"/>
                    </a:srgbClr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6"/>
              <p:cNvSpPr/>
              <p:nvPr/>
            </p:nvSpPr>
            <p:spPr>
              <a:xfrm>
                <a:off x="3697200" y="1553760"/>
                <a:ext cx="1566720" cy="357840"/>
              </a:xfrm>
              <a:prstGeom prst="upArrow">
                <a:avLst>
                  <a:gd name="adj1" fmla="val 68380"/>
                  <a:gd name="adj2" fmla="val 70833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bcbcbc">
                      <a:alpha val="1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20"/>
              <p:cNvSpPr/>
              <p:nvPr/>
            </p:nvSpPr>
            <p:spPr>
              <a:xfrm>
                <a:off x="3676680" y="3692160"/>
                <a:ext cx="1568520" cy="353160"/>
              </a:xfrm>
              <a:prstGeom prst="downArrow">
                <a:avLst>
                  <a:gd name="adj1" fmla="val 67093"/>
                  <a:gd name="adj2" fmla="val 64051"/>
                </a:avLst>
              </a:prstGeom>
              <a:gradFill rotWithShape="0">
                <a:gsLst>
                  <a:gs pos="0">
                    <a:srgbClr val="bcbcbc">
                      <a:alpha val="12156"/>
                    </a:srgbClr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3"/>
              <p:cNvSpPr/>
              <p:nvPr/>
            </p:nvSpPr>
            <p:spPr>
              <a:xfrm>
                <a:off x="3648240" y="3054600"/>
                <a:ext cx="1633320" cy="4096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1962a6"/>
                  </a:gs>
                  <a:gs pos="100000">
                    <a:srgbClr val="2183de"/>
                  </a:gs>
                </a:gsLst>
                <a:lin ang="16200000"/>
              </a:gradFill>
              <a:ln w="9360">
                <a:solidFill>
                  <a:srgbClr val="3683c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4"/>
              <p:cNvSpPr/>
              <p:nvPr/>
            </p:nvSpPr>
            <p:spPr>
              <a:xfrm>
                <a:off x="3648240" y="2571120"/>
                <a:ext cx="1633320" cy="4096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1962a6"/>
                  </a:gs>
                  <a:gs pos="100000">
                    <a:srgbClr val="2183de"/>
                  </a:gs>
                </a:gsLst>
                <a:lin ang="16200000"/>
              </a:gradFill>
              <a:ln w="9360">
                <a:solidFill>
                  <a:srgbClr val="3683c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5"/>
              <p:cNvSpPr/>
              <p:nvPr/>
            </p:nvSpPr>
            <p:spPr>
              <a:xfrm>
                <a:off x="3648240" y="2089080"/>
                <a:ext cx="1633320" cy="40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1962a6"/>
                  </a:gs>
                  <a:gs pos="100000">
                    <a:srgbClr val="2183de"/>
                  </a:gs>
                </a:gsLst>
                <a:lin ang="16200000"/>
              </a:gradFill>
              <a:ln w="9360">
                <a:solidFill>
                  <a:srgbClr val="3683c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21"/>
              <p:cNvSpPr/>
              <p:nvPr/>
            </p:nvSpPr>
            <p:spPr>
              <a:xfrm>
                <a:off x="4154400" y="2176920"/>
                <a:ext cx="67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22"/>
              <p:cNvSpPr/>
              <p:nvPr/>
            </p:nvSpPr>
            <p:spPr>
              <a:xfrm>
                <a:off x="4127400" y="2660400"/>
                <a:ext cx="74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23"/>
              <p:cNvSpPr/>
              <p:nvPr/>
            </p:nvSpPr>
            <p:spPr>
              <a:xfrm>
                <a:off x="4092480" y="3145680"/>
                <a:ext cx="81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Text Box 5"/>
          <p:cNvSpPr/>
          <p:nvPr/>
        </p:nvSpPr>
        <p:spPr>
          <a:xfrm>
            <a:off x="480960" y="4762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标题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85896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47"/>
          <p:cNvGrpSpPr/>
          <p:nvPr/>
        </p:nvGrpSpPr>
        <p:grpSpPr>
          <a:xfrm>
            <a:off x="1214280" y="1214280"/>
            <a:ext cx="7172640" cy="3435480"/>
            <a:chOff x="1214280" y="1214280"/>
            <a:chExt cx="7172640" cy="3435480"/>
          </a:xfrm>
        </p:grpSpPr>
        <p:grpSp>
          <p:nvGrpSpPr>
            <p:cNvPr id="168" name="Freeform 3"/>
            <p:cNvGrpSpPr/>
            <p:nvPr/>
          </p:nvGrpSpPr>
          <p:grpSpPr>
            <a:xfrm>
              <a:off x="1250280" y="1462320"/>
              <a:ext cx="4718520" cy="3187440"/>
              <a:chOff x="1250280" y="1462320"/>
              <a:chExt cx="4718520" cy="3187440"/>
            </a:xfrm>
          </p:grpSpPr>
          <p:pic>
            <p:nvPicPr>
              <p:cNvPr id="169" name="Freeform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50280" y="1462320"/>
                <a:ext cx="4718520" cy="31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305720" y="1481040"/>
                <a:ext cx="4611240" cy="30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32"/>
            <p:cNvSpPr/>
            <p:nvPr/>
          </p:nvSpPr>
          <p:spPr>
            <a:xfrm>
              <a:off x="5466960" y="2613240"/>
              <a:ext cx="291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a452a"/>
                  </a:solidFill>
                  <a:latin typeface="Calibri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Oval 35"/>
            <p:cNvGrpSpPr/>
            <p:nvPr/>
          </p:nvGrpSpPr>
          <p:grpSpPr>
            <a:xfrm>
              <a:off x="2508120" y="2875680"/>
              <a:ext cx="1709280" cy="1401480"/>
              <a:chOff x="2508120" y="2875680"/>
              <a:chExt cx="1709280" cy="1401480"/>
            </a:xfrm>
          </p:grpSpPr>
          <p:pic>
            <p:nvPicPr>
              <p:cNvPr id="173" name="Oval 35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8120" y="2875680"/>
                <a:ext cx="170928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3073320" y="3080160"/>
                <a:ext cx="935280" cy="91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1a2c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Oval 35"/>
            <p:cNvGrpSpPr/>
            <p:nvPr/>
          </p:nvGrpSpPr>
          <p:grpSpPr>
            <a:xfrm>
              <a:off x="1214280" y="2497320"/>
              <a:ext cx="1324080" cy="1087920"/>
              <a:chOff x="1214280" y="2497320"/>
              <a:chExt cx="1324080" cy="1087920"/>
            </a:xfrm>
          </p:grpSpPr>
          <p:pic>
            <p:nvPicPr>
              <p:cNvPr id="176" name="Oval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4280" y="2497320"/>
                <a:ext cx="1324080" cy="108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670040" y="2658240"/>
                <a:ext cx="705240" cy="6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1a2c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Oval 35"/>
            <p:cNvGrpSpPr/>
            <p:nvPr/>
          </p:nvGrpSpPr>
          <p:grpSpPr>
            <a:xfrm>
              <a:off x="1599120" y="1486080"/>
              <a:ext cx="1047240" cy="863280"/>
              <a:chOff x="1599120" y="1486080"/>
              <a:chExt cx="1047240" cy="863280"/>
            </a:xfrm>
          </p:grpSpPr>
          <p:pic>
            <p:nvPicPr>
              <p:cNvPr id="179" name="Oval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99120" y="1486080"/>
                <a:ext cx="1047240" cy="8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1969560" y="1611000"/>
                <a:ext cx="5486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1a2c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Oval 35"/>
            <p:cNvGrpSpPr/>
            <p:nvPr/>
          </p:nvGrpSpPr>
          <p:grpSpPr>
            <a:xfrm>
              <a:off x="2809080" y="1214280"/>
              <a:ext cx="782280" cy="644400"/>
              <a:chOff x="2809080" y="1214280"/>
              <a:chExt cx="782280" cy="644400"/>
            </a:xfrm>
          </p:grpSpPr>
          <p:pic>
            <p:nvPicPr>
              <p:cNvPr id="182" name="Oval 35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9080" y="1214280"/>
                <a:ext cx="782280" cy="64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3101040" y="1307160"/>
                <a:ext cx="3916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1a2c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标题 1" descr=""/>
          <p:cNvPicPr/>
          <p:nvPr/>
        </p:nvPicPr>
        <p:blipFill>
          <a:blip r:embed="rId1"/>
          <a:stretch/>
        </p:blipFill>
        <p:spPr>
          <a:xfrm>
            <a:off x="49320" y="1785960"/>
            <a:ext cx="5735520" cy="1103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17600" y="2785680"/>
            <a:ext cx="36432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52a"/>
                </a:solidFill>
                <a:latin typeface="Verdana"/>
              </a:rPr>
              <a:t>Add your company slog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Oval 28"/>
          <p:cNvGrpSpPr/>
          <p:nvPr/>
        </p:nvGrpSpPr>
        <p:grpSpPr>
          <a:xfrm>
            <a:off x="225360" y="2882880"/>
            <a:ext cx="274680" cy="274680"/>
            <a:chOff x="225360" y="2882880"/>
            <a:chExt cx="274680" cy="274680"/>
          </a:xfrm>
        </p:grpSpPr>
        <p:pic>
          <p:nvPicPr>
            <p:cNvPr id="187" name="Oval 28" descr=""/>
            <p:cNvPicPr/>
            <p:nvPr/>
          </p:nvPicPr>
          <p:blipFill>
            <a:blip r:embed="rId2"/>
            <a:stretch/>
          </p:blipFill>
          <p:spPr>
            <a:xfrm>
              <a:off x="225360" y="288288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07800" y="2940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25:48Z</dcterms:created>
  <dc:creator>微软用户</dc:creator>
  <dc:description/>
  <dc:language>en-US</dc:language>
  <cp:lastModifiedBy>王玉清</cp:lastModifiedBy>
  <dcterms:modified xsi:type="dcterms:W3CDTF">2016-02-22T03:43:06Z</dcterms:modified>
  <cp:revision>5</cp:revision>
  <dc:subject/>
  <dc:title>幻灯片 1</dc:title>
</cp:coreProperties>
</file>