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285A-5D0C-4E0D-B89F-6959B6EB9A8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59E0-C0E4-4DD4-8198-555C2622F729}"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48B9-16D7-4FEA-8D66-A4EC75C86644}"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26B0-9758-40AC-A7CC-42260FD896BD}"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59837-74B1-4B45-BA41-E3FC6D3E0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C738-5A82-4CB4-B0ED-1AF2AC29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C0551-716A-4591-A472-0D5671D11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87222-DDD4-496F-A401-0AE35D43D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AE6A9-D889-4727-8147-EBC9FA366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B5E0E-0C40-4878-A03C-0A3C78375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86DD7-9085-4121-A5B2-B54AB7CEC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5ADD3-76B4-4C96-80EB-74ABBDAA7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4C990-78EF-4AD7-8365-4CE6C8372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F4A40-F766-49AF-9A20-82256505D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92D3A-7F19-4BBF-BABC-10088B3B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C4E3-CF4A-4577-86BC-FC1523A6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D79C-19D2-4E4E-A75C-C86D1701C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F34EA-D284-48D0-BA31-D40A5193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43EF2-254D-4A1B-9BC8-D941254E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87A54-0621-48D0-B1D2-3AD6F98A1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77805-4CF8-4AF0-B889-3CACCD9E1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DB58-7481-4E07-A98F-997213F3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67E74-1A33-4D12-A6CE-04DE33D9F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7DDF-B3A7-48E7-963C-F4A1A80B9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5B09-2EB3-4892-892C-E74F3469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340D-875B-4288-8B38-F1C26073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26B2-9F09-4616-8023-DEDC7D05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9087-6CCE-41A6-85E2-759D21A11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D3AE-13C9-4168-8426-DFFB58EE13F3}"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6125-5269-4EC5-B887-7A2163DA1AF9}"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5257440"/>
            <a:ext cx="54864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ahoma"/>
              </a:rPr>
              <a:t>酷炫国外文字通用</a:t>
            </a:r>
            <a:r>
              <a:rPr b="1" lang="en-US" sz="2900" spc="-1" strike="noStrike">
                <a:solidFill>
                  <a:srgbClr val="000000"/>
                </a:solidFill>
                <a:latin typeface="Tahoma"/>
              </a:rPr>
              <a:t>PPT</a:t>
            </a:r>
            <a:r>
              <a:rPr b="1" lang="zh-CN" sz="2900" spc="-1" strike="noStrike">
                <a:solidFill>
                  <a:srgbClr val="000000"/>
                </a:solidFill>
                <a:latin typeface="Tahoma"/>
              </a:rPr>
              <a:t>模板下载</a:t>
            </a:r>
            <a:endParaRPr b="1" lang="en-US" sz="2900" spc="-1" strike="noStrike">
              <a:solidFill>
                <a:srgbClr val="000000"/>
              </a:solidFill>
              <a:latin typeface="Tahoma"/>
            </a:endParaRPr>
          </a:p>
        </p:txBody>
      </p:sp>
      <p:sp>
        <p:nvSpPr>
          <p:cNvPr id="90" name="PlaceHolder 2"/>
          <p:cNvSpPr>
            <a:spLocks noGrp="1"/>
          </p:cNvSpPr>
          <p:nvPr>
            <p:ph type="subTitle"/>
          </p:nvPr>
        </p:nvSpPr>
        <p:spPr>
          <a:xfrm>
            <a:off x="2057400" y="5943240"/>
            <a:ext cx="5029200" cy="609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Presentation Subtitle</a:t>
            </a:r>
            <a:endParaRPr b="0" lang="en-US" sz="2000" spc="-1" strike="noStrike">
              <a:solidFill>
                <a:srgbClr val="000000"/>
              </a:solidFill>
              <a:latin typeface="Calibri"/>
            </a:endParaRPr>
          </a:p>
        </p:txBody>
      </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
        <p:nvSpPr>
          <p:cNvPr id="93" name=""/>
          <p:cNvSpPr txBox="1"/>
          <p:nvPr/>
        </p:nvSpPr>
        <p:spPr>
          <a:xfrm>
            <a:off x="457200" y="2895120"/>
            <a:ext cx="8229600" cy="396252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5"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王玉清</cp:lastModifiedBy>
  <dcterms:modified xsi:type="dcterms:W3CDTF">2016-02-25T02:43:06Z</dcterms:modified>
  <cp:revision>29</cp:revision>
  <dc:subject/>
  <dc:title>PowerPoint Presentation</dc:title>
</cp:coreProperties>
</file>