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D6F-9E0F-43AB-AFCF-9C259D23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6BF-289D-484B-8A83-F1C754B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AB5-E143-4274-A2AA-38A59863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922-FB31-4E6F-8BB9-2D4B8D8A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96CB-737C-47B5-AAC2-D9069307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CAAF-92D8-4B74-AF59-DE9DF749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628-F072-4CD5-B620-97CDF5FC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4C15-F0A3-4878-A2F4-47D2D67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72B-54AE-49E3-80C7-8C825471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19C8-9B86-4A65-A3D4-6A5027D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E10-FC8C-48A0-8769-EF7EB2E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A65-9FE1-46D9-AFE3-2AA78819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91DF-60A4-419F-BCD8-D103311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9118-29AB-4B7B-BB60-4F8A84B7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372A-5969-4389-9E3D-97ED80A8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863E-9EB6-4718-8F80-ADF506F0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89F5-28C9-4790-ABE6-517714F3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05E05-4B7A-49F4-81A6-E0F7618A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DB20-D505-4E28-85BD-51D375AF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980C-2325-421F-82FC-1B8018B0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567F-8A91-48A4-B7E3-4EFA7386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F729-C9C3-4859-8BC6-04232FC7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29B-1343-4DA8-A6F7-512D0FB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DD76-A814-4F53-B0B0-F4C60FCA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872E-DE49-4523-BAB0-819C1BA2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0932-5484-4601-A617-5057F375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BED8-5489-4803-81DD-1CBB4BA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F966-6DB3-4D36-AB4F-6DB05A3B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0AC6-9C45-4BDD-99E6-9CD70F19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BF90-7892-40F9-9B3F-64FC5680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4E82-8B44-43FB-8D4C-2C2DE215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2179-D6D3-4D39-A953-0F3AC1FA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2EC5-D62A-4C0D-AEF6-38FCB823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50A-D8FA-48FE-8D21-B1D20012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ABBB-3A24-4F25-A28D-9A9EF873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7CF80-D3BE-4AEF-9F65-A2A4650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2AC6-8CEB-4820-9B0C-AA5DF494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9C888-E095-49E4-9B1C-B0F8DDCA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CA82-6B5E-4D27-91FA-BB214D0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B194-9A0E-4728-8511-E02BA5A4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BBC18-DB05-4DEB-A02C-7D64B12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65D35-0B6A-446C-913F-2A306F2A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F10F-9F37-4E19-B0CE-97E80AE9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382-8EF6-4AE4-BDE2-55BFFA4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440-1F77-4191-BD10-1FD01F8A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A58-04C0-466A-9BE2-00B1548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55F-11D4-49CA-BDAC-857277E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A0A-54AB-4B17-B422-6A44CC3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981970-4E83-4422-9BDD-DB7512B7F7D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28BE09-D137-4F60-93CE-814B0825274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950FF0-B0DA-4736-BE77-12A781FDAF0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F589F-835D-447D-B1BE-7EE25C6A744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2" descr=""/>
          <p:cNvPicPr/>
          <p:nvPr/>
        </p:nvPicPr>
        <p:blipFill>
          <a:blip r:embed="rId1"/>
          <a:stretch/>
        </p:blipFill>
        <p:spPr>
          <a:xfrm>
            <a:off x="6095880" y="1920240"/>
            <a:ext cx="4937400" cy="4937400"/>
          </a:xfrm>
          <a:prstGeom prst="rect">
            <a:avLst/>
          </a:prstGeom>
          <a:ln w="0">
            <a:noFill/>
          </a:ln>
        </p:spPr>
      </p:pic>
      <p:cxnSp>
        <p:nvCxnSpPr>
          <p:cNvPr id="165" name="直接连接符 13"/>
          <p:cNvCxnSpPr/>
          <p:nvPr/>
        </p:nvCxnSpPr>
        <p:spPr>
          <a:xfrm>
            <a:off x="29520" y="426600"/>
            <a:ext cx="12192480" cy="36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sp>
        <p:nvSpPr>
          <p:cNvPr id="166" name="文本框 15"/>
          <p:cNvSpPr/>
          <p:nvPr/>
        </p:nvSpPr>
        <p:spPr>
          <a:xfrm>
            <a:off x="731520" y="272520"/>
            <a:ext cx="19047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PPT 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笔记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432600" y="130068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雷军教你创业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"/>
          <p:cNvSpPr/>
          <p:nvPr/>
        </p:nvSpPr>
        <p:spPr>
          <a:xfrm>
            <a:off x="727560" y="1951560"/>
            <a:ext cx="6457680" cy="288792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2" name="图片 2" descr=""/>
          <p:cNvPicPr/>
          <p:nvPr/>
        </p:nvPicPr>
        <p:blipFill>
          <a:blip r:embed="rId1"/>
          <a:srcRect l="26649" t="0" r="0" b="0"/>
          <a:stretch/>
        </p:blipFill>
        <p:spPr>
          <a:xfrm>
            <a:off x="8213400" y="1951560"/>
            <a:ext cx="3351960" cy="2855880"/>
          </a:xfrm>
          <a:prstGeom prst="rect">
            <a:avLst/>
          </a:prstGeom>
          <a:ln w="0">
            <a:noFill/>
          </a:ln>
        </p:spPr>
      </p:pic>
      <p:sp>
        <p:nvSpPr>
          <p:cNvPr id="223" name="矩形 7"/>
          <p:cNvSpPr/>
          <p:nvPr/>
        </p:nvSpPr>
        <p:spPr>
          <a:xfrm>
            <a:off x="727560" y="1951560"/>
            <a:ext cx="10837800" cy="2855880"/>
          </a:xfrm>
          <a:prstGeom prst="rect">
            <a:avLst/>
          </a:prstGeom>
          <a:noFill/>
          <a:ln w="38100">
            <a:solidFill>
              <a:srgbClr val="70ad47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文本框 9"/>
          <p:cNvSpPr/>
          <p:nvPr/>
        </p:nvSpPr>
        <p:spPr>
          <a:xfrm>
            <a:off x="932760" y="2216160"/>
            <a:ext cx="6047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业是一个拼图游戏，是一个分享百分之百梦想的过程，学会去跟别人分享，你才有机会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0"/>
          <p:cNvSpPr/>
          <p:nvPr/>
        </p:nvSpPr>
        <p:spPr>
          <a:xfrm>
            <a:off x="727560" y="1453680"/>
            <a:ext cx="10837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方正正中黑简体"/>
                <a:ea typeface="方正正中黑简体"/>
              </a:rPr>
              <a:t>创业初期，创业者唯一唯一的资产就是你那百分之百的股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1"/>
          <p:cNvSpPr/>
          <p:nvPr/>
        </p:nvSpPr>
        <p:spPr>
          <a:xfrm>
            <a:off x="567000" y="4903920"/>
            <a:ext cx="1131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创业过程就是拿这个百分百的梦想去跟最优秀的工程师</a:t>
            </a:r>
            <a:r>
              <a:rPr b="1" lang="en-US" sz="1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Share</a:t>
            </a:r>
            <a:r>
              <a:rPr b="1" lang="zh-CN" sz="1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，跟最好的销售</a:t>
            </a:r>
            <a:r>
              <a:rPr b="1" lang="en-US" sz="1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Share</a:t>
            </a:r>
            <a:r>
              <a:rPr b="1" lang="zh-CN" sz="1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，跟最好的资源</a:t>
            </a:r>
            <a:r>
              <a:rPr b="1" lang="en-US" sz="1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Shar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接连接符 12"/>
          <p:cNvCxnSpPr/>
          <p:nvPr/>
        </p:nvCxnSpPr>
        <p:spPr>
          <a:xfrm>
            <a:off x="727560" y="5305320"/>
            <a:ext cx="10838520" cy="36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2538360" y="1370520"/>
            <a:ext cx="7114680" cy="548712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2"/>
          <p:cNvSpPr/>
          <p:nvPr/>
        </p:nvSpPr>
        <p:spPr>
          <a:xfrm>
            <a:off x="0" y="1318320"/>
            <a:ext cx="12191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chemeClr val="accent6"/>
                </a:solidFill>
                <a:latin typeface="华康俪金黑W8"/>
                <a:ea typeface="华康俪金黑W8"/>
              </a:rPr>
              <a:t>创业，你真的准备好了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769320" y="591480"/>
            <a:ext cx="10653120" cy="567468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文本框 2"/>
          <p:cNvSpPr/>
          <p:nvPr/>
        </p:nvSpPr>
        <p:spPr>
          <a:xfrm>
            <a:off x="903240" y="591480"/>
            <a:ext cx="30704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ffffff"/>
                </a:solidFill>
                <a:latin typeface="Broadway"/>
                <a:ea typeface="Adobe Gothic Std B"/>
              </a:rPr>
              <a:t>01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"/>
          <p:cNvSpPr/>
          <p:nvPr/>
        </p:nvSpPr>
        <p:spPr>
          <a:xfrm>
            <a:off x="3768120" y="2536200"/>
            <a:ext cx="4910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业目标怎么确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7"/>
          <p:cNvCxnSpPr/>
          <p:nvPr/>
        </p:nvCxnSpPr>
        <p:spPr>
          <a:xfrm>
            <a:off x="14400" y="3429000"/>
            <a:ext cx="8200800" cy="3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cxnSp>
        <p:nvCxnSpPr>
          <p:cNvPr id="173" name="直接连接符 9"/>
          <p:cNvCxnSpPr/>
          <p:nvPr/>
        </p:nvCxnSpPr>
        <p:spPr>
          <a:xfrm>
            <a:off x="14400" y="3574080"/>
            <a:ext cx="8200800" cy="360"/>
          </a:xfrm>
          <a:prstGeom prst="straightConnector1">
            <a:avLst/>
          </a:prstGeom>
          <a:ln w="12700">
            <a:solidFill>
              <a:srgbClr val="ffffff"/>
            </a:solidFill>
          </a:ln>
        </p:spPr>
      </p:cxnSp>
      <p:sp>
        <p:nvSpPr>
          <p:cNvPr id="174" name="弧形 3"/>
          <p:cNvSpPr/>
          <p:nvPr/>
        </p:nvSpPr>
        <p:spPr>
          <a:xfrm flipH="1">
            <a:off x="8900280" y="3753000"/>
            <a:ext cx="5043240" cy="5043240"/>
          </a:xfrm>
          <a:prstGeom prst="arc">
            <a:avLst>
              <a:gd name="adj1" fmla="val 16200000"/>
              <a:gd name="adj2" fmla="val 0"/>
            </a:avLst>
          </a:prstGeom>
          <a:noFill/>
          <a:ln w="38100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5"/>
          <p:cNvSpPr/>
          <p:nvPr/>
        </p:nvSpPr>
        <p:spPr>
          <a:xfrm>
            <a:off x="8678520" y="4679640"/>
            <a:ext cx="894240" cy="894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文本框 6"/>
          <p:cNvSpPr/>
          <p:nvPr/>
        </p:nvSpPr>
        <p:spPr>
          <a:xfrm>
            <a:off x="8511480" y="4641120"/>
            <a:ext cx="77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70ad47"/>
                </a:solidFill>
                <a:latin typeface="方正黄草简体"/>
                <a:ea typeface="方正黄草简体"/>
              </a:rPr>
              <a:t>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"/>
          <p:cNvSpPr/>
          <p:nvPr/>
        </p:nvSpPr>
        <p:spPr>
          <a:xfrm>
            <a:off x="8901000" y="4886640"/>
            <a:ext cx="77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70ad47"/>
                </a:solidFill>
                <a:latin typeface="方正黄草简体"/>
                <a:ea typeface="方正黄草简体"/>
              </a:rPr>
              <a:t>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tretch/>
        </p:blipFill>
        <p:spPr>
          <a:xfrm>
            <a:off x="3230280" y="2464560"/>
            <a:ext cx="6483600" cy="3859560"/>
          </a:xfrm>
          <a:prstGeom prst="rect">
            <a:avLst/>
          </a:prstGeom>
          <a:ln w="0">
            <a:noFill/>
          </a:ln>
        </p:spPr>
      </p:pic>
      <p:sp>
        <p:nvSpPr>
          <p:cNvPr id="179" name="文本框 3"/>
          <p:cNvSpPr/>
          <p:nvPr/>
        </p:nvSpPr>
        <p:spPr>
          <a:xfrm>
            <a:off x="2477880" y="956520"/>
            <a:ext cx="72360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确定目标最重要的就是知道你要做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准备好了就直接去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1828800" y="1068480"/>
            <a:ext cx="3705120" cy="536796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2"/>
          <p:cNvSpPr/>
          <p:nvPr/>
        </p:nvSpPr>
        <p:spPr>
          <a:xfrm>
            <a:off x="5775840" y="2403720"/>
            <a:ext cx="4998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可能你最困惑的问题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"/>
          <p:cNvSpPr/>
          <p:nvPr/>
        </p:nvSpPr>
        <p:spPr>
          <a:xfrm>
            <a:off x="5775840" y="2601720"/>
            <a:ext cx="4998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96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没钱啊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" descr=""/>
          <p:cNvPicPr/>
          <p:nvPr/>
        </p:nvPicPr>
        <p:blipFill>
          <a:blip r:embed="rId1"/>
          <a:stretch/>
        </p:blipFill>
        <p:spPr>
          <a:xfrm>
            <a:off x="966600" y="1842480"/>
            <a:ext cx="3304440" cy="329472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2"/>
          <p:cNvSpPr/>
          <p:nvPr/>
        </p:nvSpPr>
        <p:spPr>
          <a:xfrm>
            <a:off x="4827240" y="1589040"/>
            <a:ext cx="4113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说实话其实今天的资本市场真的</a:t>
            </a:r>
            <a:r>
              <a:rPr b="1" lang="zh-CN" sz="60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不缺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99640" y="2828880"/>
            <a:ext cx="36864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全球的资本都在发了疯似地挖掘哪里有赚钱的机会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只要有一丝赚钱的机会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20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钱就像水一样涌过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4"/>
          <p:cNvSpPr/>
          <p:nvPr/>
        </p:nvSpPr>
        <p:spPr>
          <a:xfrm>
            <a:off x="4735440" y="3567600"/>
            <a:ext cx="42958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60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最关键</a:t>
            </a:r>
            <a:r>
              <a:rPr b="0" lang="zh-CN" sz="24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是你能告诉投资者你能帮他们赚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769320" y="591480"/>
            <a:ext cx="10653120" cy="567468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文本框 2"/>
          <p:cNvSpPr/>
          <p:nvPr/>
        </p:nvSpPr>
        <p:spPr>
          <a:xfrm>
            <a:off x="975600" y="591480"/>
            <a:ext cx="30704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ffffff"/>
                </a:solidFill>
                <a:latin typeface="Broadway"/>
                <a:ea typeface="Adobe Gothic Std B"/>
              </a:rPr>
              <a:t>02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"/>
          <p:cNvSpPr/>
          <p:nvPr/>
        </p:nvSpPr>
        <p:spPr>
          <a:xfrm>
            <a:off x="4029480" y="2536200"/>
            <a:ext cx="5955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业前需要认清哪些东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5"/>
          <p:cNvGrpSpPr/>
          <p:nvPr/>
        </p:nvGrpSpPr>
        <p:grpSpPr>
          <a:xfrm>
            <a:off x="14400" y="3429000"/>
            <a:ext cx="9899280" cy="145080"/>
            <a:chOff x="14400" y="3429000"/>
            <a:chExt cx="9899280" cy="145080"/>
          </a:xfrm>
        </p:grpSpPr>
        <p:cxnSp>
          <p:nvCxnSpPr>
            <p:cNvPr id="191" name="直接连接符 7"/>
            <p:cNvCxnSpPr/>
            <p:nvPr/>
          </p:nvCxnSpPr>
          <p:spPr>
            <a:xfrm>
              <a:off x="14400" y="3429000"/>
              <a:ext cx="9899640" cy="3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192" name="直接连接符 9"/>
            <p:cNvCxnSpPr/>
            <p:nvPr/>
          </p:nvCxnSpPr>
          <p:spPr>
            <a:xfrm>
              <a:off x="14400" y="3574080"/>
              <a:ext cx="9899640" cy="3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</p:grpSp>
      <p:sp>
        <p:nvSpPr>
          <p:cNvPr id="193" name="弧形 8"/>
          <p:cNvSpPr/>
          <p:nvPr/>
        </p:nvSpPr>
        <p:spPr>
          <a:xfrm flipH="1">
            <a:off x="8900280" y="3753000"/>
            <a:ext cx="5043240" cy="5043240"/>
          </a:xfrm>
          <a:prstGeom prst="arc">
            <a:avLst>
              <a:gd name="adj1" fmla="val 16200000"/>
              <a:gd name="adj2" fmla="val 0"/>
            </a:avLst>
          </a:prstGeom>
          <a:noFill/>
          <a:ln w="38100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 10"/>
          <p:cNvSpPr/>
          <p:nvPr/>
        </p:nvSpPr>
        <p:spPr>
          <a:xfrm>
            <a:off x="8678520" y="4679640"/>
            <a:ext cx="894240" cy="894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文本框 11"/>
          <p:cNvSpPr/>
          <p:nvPr/>
        </p:nvSpPr>
        <p:spPr>
          <a:xfrm>
            <a:off x="8511480" y="4641120"/>
            <a:ext cx="77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70ad47"/>
                </a:solidFill>
                <a:latin typeface="方正黄草简体"/>
                <a:ea typeface="方正黄草简体"/>
              </a:rPr>
              <a:t>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2"/>
          <p:cNvSpPr/>
          <p:nvPr/>
        </p:nvSpPr>
        <p:spPr>
          <a:xfrm>
            <a:off x="8901000" y="4886640"/>
            <a:ext cx="77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70ad47"/>
                </a:solidFill>
                <a:latin typeface="方正黄草简体"/>
                <a:ea typeface="方正黄草简体"/>
              </a:rPr>
              <a:t>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0" y="2834280"/>
            <a:ext cx="10591560" cy="402336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2"/>
          <p:cNvSpPr/>
          <p:nvPr/>
        </p:nvSpPr>
        <p:spPr>
          <a:xfrm>
            <a:off x="6285960" y="1120680"/>
            <a:ext cx="6095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创业时的长项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是不是自己公司的核心价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做的是不是自己最擅长的东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"/>
          <p:cNvSpPr/>
          <p:nvPr/>
        </p:nvSpPr>
        <p:spPr>
          <a:xfrm>
            <a:off x="3906720" y="824400"/>
            <a:ext cx="24822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78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你</a:t>
            </a:r>
            <a:endParaRPr b="0" lang="en-US" sz="1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769320" y="591480"/>
            <a:ext cx="10653120" cy="567468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文本框 2"/>
          <p:cNvSpPr/>
          <p:nvPr/>
        </p:nvSpPr>
        <p:spPr>
          <a:xfrm>
            <a:off x="975600" y="591480"/>
            <a:ext cx="307044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ffffff"/>
                </a:solidFill>
                <a:latin typeface="Broadway"/>
                <a:ea typeface="Adobe Gothic Std B"/>
              </a:rPr>
              <a:t>03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4190040" y="2536200"/>
            <a:ext cx="6035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看待创业初期的股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5"/>
          <p:cNvGrpSpPr/>
          <p:nvPr/>
        </p:nvGrpSpPr>
        <p:grpSpPr>
          <a:xfrm>
            <a:off x="441000" y="3429000"/>
            <a:ext cx="9118800" cy="145080"/>
            <a:chOff x="441000" y="3429000"/>
            <a:chExt cx="9118800" cy="145080"/>
          </a:xfrm>
        </p:grpSpPr>
        <p:cxnSp>
          <p:nvCxnSpPr>
            <p:cNvPr id="204" name="直接连接符 7"/>
            <p:cNvCxnSpPr/>
            <p:nvPr/>
          </p:nvCxnSpPr>
          <p:spPr>
            <a:xfrm>
              <a:off x="441000" y="3429000"/>
              <a:ext cx="9119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205" name="直接连接符 9"/>
            <p:cNvCxnSpPr/>
            <p:nvPr/>
          </p:nvCxnSpPr>
          <p:spPr>
            <a:xfrm>
              <a:off x="441000" y="3574080"/>
              <a:ext cx="9119160" cy="3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</p:grpSp>
      <p:sp>
        <p:nvSpPr>
          <p:cNvPr id="206" name="弧形 8"/>
          <p:cNvSpPr/>
          <p:nvPr/>
        </p:nvSpPr>
        <p:spPr>
          <a:xfrm flipH="1">
            <a:off x="8900280" y="3753000"/>
            <a:ext cx="5043240" cy="5043240"/>
          </a:xfrm>
          <a:prstGeom prst="arc">
            <a:avLst>
              <a:gd name="adj1" fmla="val 16200000"/>
              <a:gd name="adj2" fmla="val 0"/>
            </a:avLst>
          </a:prstGeom>
          <a:noFill/>
          <a:ln w="38100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椭圆 10"/>
          <p:cNvSpPr/>
          <p:nvPr/>
        </p:nvSpPr>
        <p:spPr>
          <a:xfrm>
            <a:off x="8678520" y="4679640"/>
            <a:ext cx="894240" cy="894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文本框 11"/>
          <p:cNvSpPr/>
          <p:nvPr/>
        </p:nvSpPr>
        <p:spPr>
          <a:xfrm>
            <a:off x="8511480" y="4641120"/>
            <a:ext cx="77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70ad47"/>
                </a:solidFill>
                <a:latin typeface="方正黄草简体"/>
                <a:ea typeface="方正黄草简体"/>
              </a:rPr>
              <a:t>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2"/>
          <p:cNvSpPr/>
          <p:nvPr/>
        </p:nvSpPr>
        <p:spPr>
          <a:xfrm>
            <a:off x="8901000" y="4886640"/>
            <a:ext cx="77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70ad47"/>
                </a:solidFill>
                <a:latin typeface="方正黄草简体"/>
                <a:ea typeface="方正黄草简体"/>
              </a:rPr>
              <a:t>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2"/>
          <p:cNvSpPr/>
          <p:nvPr/>
        </p:nvSpPr>
        <p:spPr>
          <a:xfrm>
            <a:off x="370440" y="3761280"/>
            <a:ext cx="7383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808080">
                    <a:alpha val="45000"/>
                  </a:srgbClr>
                </a:solidFill>
                <a:latin typeface="微软雅黑"/>
                <a:ea typeface="微软雅黑"/>
              </a:rPr>
              <a:t>极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75560" y="3755520"/>
            <a:ext cx="73836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808080">
                    <a:alpha val="84000"/>
                  </a:srgbClr>
                </a:solidFill>
                <a:latin typeface="微软雅黑"/>
                <a:ea typeface="微软雅黑"/>
              </a:rPr>
              <a:t>极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2015640" y="3782520"/>
            <a:ext cx="3420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若一上来就把梦想贱卖，当你换不到足够资源的时候你知道这意味着什么</a:t>
            </a:r>
            <a:r>
              <a: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7133760" y="3837960"/>
            <a:ext cx="32349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今天的互联网创业百分之百持股权想把公司做成，概率几乎为零</a:t>
            </a:r>
            <a:r>
              <a: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2272320" y="3246120"/>
            <a:ext cx="2867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Edo SZ"/>
                <a:ea typeface="微软雅黑"/>
              </a:rPr>
              <a:t>大部分股份交给一个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4"/>
          <p:cNvSpPr/>
          <p:nvPr/>
        </p:nvSpPr>
        <p:spPr>
          <a:xfrm>
            <a:off x="7536960" y="3246120"/>
            <a:ext cx="2465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Edo SZ"/>
                <a:ea typeface="微软雅黑"/>
              </a:rPr>
              <a:t>自己百分之百持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直接连接符 15"/>
          <p:cNvCxnSpPr/>
          <p:nvPr/>
        </p:nvCxnSpPr>
        <p:spPr>
          <a:xfrm>
            <a:off x="2302920" y="5073120"/>
            <a:ext cx="7785360" cy="1800"/>
          </a:xfrm>
          <a:prstGeom prst="straightConnector1">
            <a:avLst/>
          </a:prstGeom>
          <a:ln w="28575">
            <a:solidFill>
              <a:srgbClr val="595959"/>
            </a:solidFill>
            <a:round/>
          </a:ln>
        </p:spPr>
      </p:cxnSp>
      <p:sp>
        <p:nvSpPr>
          <p:cNvPr id="217" name="等腰三角形 16"/>
          <p:cNvSpPr/>
          <p:nvPr/>
        </p:nvSpPr>
        <p:spPr>
          <a:xfrm>
            <a:off x="5863680" y="5074920"/>
            <a:ext cx="441000" cy="399600"/>
          </a:xfrm>
          <a:prstGeom prst="triangle">
            <a:avLst>
              <a:gd name="adj" fmla="val 50000"/>
            </a:avLst>
          </a:prstGeom>
          <a:solidFill>
            <a:schemeClr val="accent6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18" name="文本框 17"/>
          <p:cNvSpPr/>
          <p:nvPr/>
        </p:nvSpPr>
        <p:spPr>
          <a:xfrm>
            <a:off x="0" y="1095840"/>
            <a:ext cx="1219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6"/>
                </a:solidFill>
                <a:latin typeface="微软雅黑"/>
                <a:ea typeface="微软雅黑"/>
              </a:rPr>
              <a:t>股份分配不合理，投资人是不敢投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直接连接符 2"/>
          <p:cNvCxnSpPr/>
          <p:nvPr/>
        </p:nvCxnSpPr>
        <p:spPr>
          <a:xfrm>
            <a:off x="1094400" y="1840320"/>
            <a:ext cx="10003320" cy="360"/>
          </a:xfrm>
          <a:prstGeom prst="straightConnector1">
            <a:avLst/>
          </a:prstGeom>
          <a:ln>
            <a:solidFill>
              <a:srgbClr val="70ad47"/>
            </a:solidFill>
          </a:ln>
        </p:spPr>
      </p:cxnSp>
      <p:sp>
        <p:nvSpPr>
          <p:cNvPr id="220" name="Text Box 6"/>
          <p:cNvSpPr/>
          <p:nvPr/>
        </p:nvSpPr>
        <p:spPr>
          <a:xfrm>
            <a:off x="256680" y="6405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  <Words>309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10:51Z</dcterms:created>
  <dc:creator>admin</dc:creator>
  <dc:description/>
  <dc:language>en-US</dc:language>
  <cp:lastModifiedBy>王玉清</cp:lastModifiedBy>
  <dcterms:modified xsi:type="dcterms:W3CDTF">2016-03-01T07:13:5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