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_rels/item1.xml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D55C-8F29-415B-AB5E-B3C221859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2160" y="424620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4C82-BD96-4DA0-9678-DAB7D0B6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484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2160" y="4246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4840" y="4246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980C-4DD4-4124-9EBB-38ACE9187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0160" y="346248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800" y="346248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2160" y="424620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0160" y="424620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800" y="424620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D07B-E536-4DFE-8234-DB5B567D9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84AA-D498-4306-9EF5-C590ECC18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2160" y="346248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6C4A-4CD0-49BC-B848-3D3E8A9A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D3DF-7E10-4D70-96B5-BBD9B542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4840" y="3462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E79D-E37A-4A97-A04C-CD430A5A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04CB-3632-4A1A-8761-2DFBABC9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22160" y="496260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AF8B-CBE6-4A3B-81A7-4BA9338B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4840" y="3462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2160" y="4246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6EA8-AD37-4A40-B7C8-B2A25992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2160" y="346248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9591-B513-473D-A7E8-C4312D41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484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4840" y="4246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166E-731A-4B38-AB3B-E55F0B6F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484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2160" y="424620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00DA-98C8-4776-8F90-4CD7AF56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2160" y="424620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30F2-8485-4754-93BD-EEF6A727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484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2160" y="4246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4840" y="4246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C990-0491-4FB9-B3B8-FE74F19A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50160" y="346248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7800" y="346248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2160" y="424620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50160" y="424620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7800" y="424620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DB1E-4124-4BAE-A71C-BE6073FF0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AFCF3-F1BD-4B1A-9797-CCF5CF3F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22160" y="346248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1ED83-E0AF-497C-A42D-F78D8C0E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5A032-DF46-43EC-BE63-2D917CE4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4840" y="3462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B4F7D-B886-4901-A274-5AF4ED13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1CD6D-F20B-435D-9EBA-85EBB437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1260-076E-4AF2-B3CD-404C94F9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22160" y="496260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3C857-9F6A-4759-B7EE-0ACCF946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4840" y="3462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22160" y="4246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26282-2541-490F-9CB1-8172A509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484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4840" y="4246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00B6E-5EDC-4A6F-AEDB-9B7243B0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484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22160" y="424620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7AE72-278A-41FB-A0BC-C70DC311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22160" y="424620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4DFFC-85A2-4EAB-9611-A2890C23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484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22160" y="4246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4840" y="4246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3F28C-4A37-4615-872A-1FB02A557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50160" y="346248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77800" y="346248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22160" y="424620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50160" y="424620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77800" y="424620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0A44A-31E5-4DD2-827A-0A8205CF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78329-83E4-4BD4-A17B-185CBF79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22160" y="346248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98E5B-B781-473B-82C0-77F7B4F2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DD572-B26F-4D83-ACFD-9B58A4EB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4840" y="3462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DFCA-EAD2-4439-96C1-2175EA04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4840" y="3462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ECE58-D9B9-49E4-B710-742FEB0E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06A39-8D50-4800-AB5E-299B7468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22160" y="496260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9DC54-D31A-450F-B361-99FA8203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4840" y="3462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22160" y="4246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845FE-5C29-4CE2-A1C4-080201FC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484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4840" y="4246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3FCA9-3A92-44C9-B3C7-5D8ADAE6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484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22160" y="424620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2B084-3C85-4E6B-BC1E-9C2D7253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22160" y="424620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B6EC8-CA68-4DB9-8067-8E81FE2B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484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22160" y="4246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4840" y="4246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A4C6B-DBF6-4BFF-B78F-8839E972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50160" y="346248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77800" y="346248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22160" y="424620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50160" y="424620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77800" y="424620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6D6B7-9154-4EE3-88F3-A5D33B98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7762-9879-4F39-92FE-39848AAA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2160" y="496260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EB87-4C9B-47DD-BE56-757752B9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3462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2160" y="4246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51AC-3A37-4105-90EE-C70A8EE9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484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4840" y="4246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EEC9-AD53-4DB7-BBAA-A8719130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484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2160" y="424620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9AA3-7213-4B78-B539-37B6525E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8120"/>
            <a:ext cx="449532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chemeClr val="accent2">
                    <a:lumMod val="75000"/>
                  </a:schemeClr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48ED22-79D8-4305-B014-F929642AF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8576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chemeClr val="accent2">
                    <a:lumMod val="75000"/>
                  </a:schemeClr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6857640" cy="4038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50151b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50151b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151b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50151b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50151b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EBE61A-8CFA-4716-9E3C-7C8AC4FFC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8576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6857640" cy="4038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F15E98-051E-4912-8858-A0E42338E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 cap="all">
                <a:solidFill>
                  <a:schemeClr val="accent2">
                    <a:lumMod val="75000"/>
                  </a:schemeClr>
                </a:solidFill>
                <a:latin typeface="Calibri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22160" y="346248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单击此处编辑母版文本样式</a:t>
            </a:r>
            <a:endParaRPr b="0" lang="en-US" sz="20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BD175A-2693-4658-A355-89ECB346D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3048120"/>
            <a:ext cx="449532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chemeClr val="accent2">
                    <a:lumMod val="75000"/>
                  </a:schemeClr>
                </a:solidFill>
                <a:latin typeface="Calibri"/>
              </a:rPr>
              <a:t>My Pres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380880" y="4343400"/>
            <a:ext cx="449532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A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"/>
          <p:cNvSpPr/>
          <p:nvPr/>
        </p:nvSpPr>
        <p:spPr>
          <a:xfrm>
            <a:off x="2648880" y="1556640"/>
            <a:ext cx="47635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礼结通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8576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chemeClr val="accent2">
                    <a:lumMod val="75000"/>
                  </a:schemeClr>
                </a:solidFill>
                <a:latin typeface="Calibri"/>
              </a:rPr>
              <a:t>Your Main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6857640" cy="4038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50151b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Your Sub Points Here</a:t>
            </a: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8576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table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6857640" cy="4038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text here</a:t>
            </a: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2">
                    <a:lumMod val="75000"/>
                  </a:schemeClr>
                </a:solidFill>
                <a:latin typeface="Calibri"/>
              </a:rPr>
              <a:t>Transitional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39640" y="632016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6b9f25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S010336805">
  <a:themeElements>
    <a:clrScheme name="Aspect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S010336805">
  <a:themeElements>
    <a:clrScheme name="Aspect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TS010336805">
  <a:themeElements>
    <a:clrScheme name="Aspect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TS010336805">
  <a:themeElements>
    <a:clrScheme name="Aspect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item1.xml><?xml version="1.0" encoding="utf-8"?>
<?mso-contentType ?>
<FormTemplates xmlns="http://schemas.microsoft.com/sharepoint/v3/contenttype/forms">
  <Display>DocumentLibraryForm</Display>
  <Edit>AssetEditForm</Edit>
  <New>DocumentLibraryForm</New>
</FormTemplates>
</file>

<file path=customXml/itemProps1.xml><?xml version="1.0" encoding="utf-8"?>
<ds:datastoreItem xmlns:ds="http://schemas.openxmlformats.org/officeDocument/2006/customXml" ds:itemID="{8BA7A19F-B8B1-416A-B012-C7430CDD8A53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TS010336805</Template>
  <TotalTime>4</TotalTime>
  <Application>LibreOffice/7.4.7.2$Linux_X86_64 LibreOffice_project/40$Build-2</Application>
  <AppVersion>15.0000</AppVersion>
  <Words>48</Words>
  <Paragraphs>1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8T07:09:49Z</dcterms:created>
  <dc:creator>YANGS</dc:creator>
  <dc:description/>
  <dc:language>en-US</dc:language>
  <cp:lastModifiedBy>王玉清</cp:lastModifiedBy>
  <dcterms:modified xsi:type="dcterms:W3CDTF">2016-02-24T02:45:00Z</dcterms:modified>
  <cp:revision>2</cp:revision>
  <dc:subject/>
  <dc:title>My Pres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4</vt:r8>
  </property>
  <property fmtid="{D5CDD505-2E9C-101B-9397-08002B2CF9AE}" pid="4" name="_TemplateID">
    <vt:lpwstr>TC103368059990</vt:lpwstr>
  </property>
</Properties>
</file>