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40C-902B-4946-B4F3-312B4342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FAF-C0C2-4CB2-8872-CA0191F1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39E-C685-4B53-8AAA-F107BCC6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B8A-CC88-480C-AFAD-F1F08DD1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EDF-2B6A-4B87-8F06-8504303D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701-2FBD-4BA3-B481-F5F07FAC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292-9F77-4094-9CD5-ABBD9D1E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528-C106-40F2-A311-32E63F12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1DE-766E-4DDC-89CB-080537B7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6C5-E124-4E7A-8BD7-4A877DF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499-DE3D-467C-AD36-D78C3E17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6E0-A648-4790-9942-1A6F9E8C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ea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402C-4822-4B87-8B42-5B07D00479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AB25-ABFC-45C0-BB4E-6167F815F4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184320" y="320184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6"/>
          <p:cNvGrpSpPr/>
          <p:nvPr/>
        </p:nvGrpSpPr>
        <p:grpSpPr>
          <a:xfrm>
            <a:off x="0" y="3165480"/>
            <a:ext cx="9144000" cy="1978200"/>
            <a:chOff x="0" y="3165480"/>
            <a:chExt cx="9144000" cy="1978200"/>
          </a:xfrm>
        </p:grpSpPr>
        <p:sp>
          <p:nvSpPr>
            <p:cNvPr id="43" name="Rectangle 3"/>
            <p:cNvSpPr/>
            <p:nvPr/>
          </p:nvSpPr>
          <p:spPr>
            <a:xfrm>
              <a:off x="0" y="3165840"/>
              <a:ext cx="9144000" cy="19778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284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0" y="3165480"/>
              <a:ext cx="9144000" cy="217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矩形 1"/>
          <p:cNvSpPr/>
          <p:nvPr/>
        </p:nvSpPr>
        <p:spPr>
          <a:xfrm>
            <a:off x="2149200" y="3031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草丛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530280" y="46544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9ea25"/>
                </a:solidFill>
                <a:latin typeface="Arial"/>
              </a:rPr>
              <a:t>此处添加标题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2065680" y="1463040"/>
            <a:ext cx="4497120" cy="459720"/>
            <a:chOff x="2065680" y="1463040"/>
            <a:chExt cx="4497120" cy="459720"/>
          </a:xfrm>
        </p:grpSpPr>
        <p:sp>
          <p:nvSpPr>
            <p:cNvPr id="49" name="Text Box 11"/>
            <p:cNvSpPr/>
            <p:nvPr/>
          </p:nvSpPr>
          <p:spPr>
            <a:xfrm>
              <a:off x="2981160" y="147456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此处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4"/>
            <p:cNvSpPr/>
            <p:nvPr/>
          </p:nvSpPr>
          <p:spPr>
            <a:xfrm>
              <a:off x="2065680" y="14630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2065680" y="2393280"/>
            <a:ext cx="4497120" cy="459720"/>
            <a:chOff x="2065680" y="2393280"/>
            <a:chExt cx="4497120" cy="459720"/>
          </a:xfrm>
        </p:grpSpPr>
        <p:sp>
          <p:nvSpPr>
            <p:cNvPr id="52" name="Text Box 12"/>
            <p:cNvSpPr/>
            <p:nvPr/>
          </p:nvSpPr>
          <p:spPr>
            <a:xfrm>
              <a:off x="2981160" y="239868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此处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5"/>
            <p:cNvSpPr/>
            <p:nvPr/>
          </p:nvSpPr>
          <p:spPr>
            <a:xfrm>
              <a:off x="2065680" y="23932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3"/>
          <p:cNvGrpSpPr/>
          <p:nvPr/>
        </p:nvGrpSpPr>
        <p:grpSpPr>
          <a:xfrm>
            <a:off x="2065680" y="3332880"/>
            <a:ext cx="4497120" cy="459720"/>
            <a:chOff x="2065680" y="3332880"/>
            <a:chExt cx="4497120" cy="459720"/>
          </a:xfrm>
        </p:grpSpPr>
        <p:sp>
          <p:nvSpPr>
            <p:cNvPr id="55" name="Text Box 6"/>
            <p:cNvSpPr/>
            <p:nvPr/>
          </p:nvSpPr>
          <p:spPr>
            <a:xfrm>
              <a:off x="2981160" y="3363840"/>
              <a:ext cx="35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此处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6"/>
            <p:cNvSpPr/>
            <p:nvPr/>
          </p:nvSpPr>
          <p:spPr>
            <a:xfrm>
              <a:off x="2065680" y="333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9ea25"/>
                </a:solidFill>
                <a:latin typeface="Arial"/>
              </a:rPr>
              <a:t>此处添加标题</a:t>
            </a:r>
            <a:endParaRPr b="0" lang="en-US" sz="3200" spc="-1" strike="noStrike">
              <a:solidFill>
                <a:srgbClr val="a9ea25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4356000" y="1058400"/>
            <a:ext cx="4114800" cy="3751560"/>
            <a:chOff x="4356000" y="1058400"/>
            <a:chExt cx="4114800" cy="3751560"/>
          </a:xfrm>
        </p:grpSpPr>
        <p:sp>
          <p:nvSpPr>
            <p:cNvPr id="59" name="AutoShape 4"/>
            <p:cNvSpPr/>
            <p:nvPr/>
          </p:nvSpPr>
          <p:spPr>
            <a:xfrm flipV="1">
              <a:off x="5898960" y="1058040"/>
              <a:ext cx="1028520" cy="937800"/>
            </a:xfrm>
            <a:custGeom>
              <a:avLst/>
              <a:gdLst>
                <a:gd name="textAreaLeft" fmla="*/ 342720 w 1028520"/>
                <a:gd name="textAreaRight" fmla="*/ 685800 w 1028520"/>
                <a:gd name="textAreaTop" fmla="*/ 312480 h 937800"/>
                <a:gd name="textAreaBottom" fmla="*/ 62532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99" y="21600"/>
                  </a:lnTo>
                  <a:lnTo>
                    <a:pt x="108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5898960" y="1058760"/>
              <a:ext cx="102852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6"/>
            <p:cNvSpPr/>
            <p:nvPr/>
          </p:nvSpPr>
          <p:spPr>
            <a:xfrm flipV="1">
              <a:off x="5384520" y="1995840"/>
              <a:ext cx="2057400" cy="937800"/>
            </a:xfrm>
            <a:custGeom>
              <a:avLst/>
              <a:gdLst>
                <a:gd name="textAreaLeft" fmla="*/ 428400 w 2057400"/>
                <a:gd name="textAreaRight" fmla="*/ 1629000 w 2057400"/>
                <a:gd name="textAreaTop" fmla="*/ 195120 h 937800"/>
                <a:gd name="textAreaBottom" fmla="*/ 74268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4c3f"/>
                </a:gs>
                <a:gs pos="100000">
                  <a:srgbClr val="7066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5744520" y="1996560"/>
              <a:ext cx="13374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8"/>
            <p:cNvSpPr/>
            <p:nvPr/>
          </p:nvSpPr>
          <p:spPr>
            <a:xfrm flipV="1">
              <a:off x="4870080" y="2933280"/>
              <a:ext cx="3086280" cy="937800"/>
            </a:xfrm>
            <a:custGeom>
              <a:avLst/>
              <a:gdLst>
                <a:gd name="textAreaLeft" fmla="*/ 514440 w 3086280"/>
                <a:gd name="textAreaRight" fmla="*/ 2572200 w 3086280"/>
                <a:gd name="textAreaTop" fmla="*/ 156240 h 937800"/>
                <a:gd name="textAreaBottom" fmla="*/ 78156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9" y="21600"/>
                  </a:lnTo>
                  <a:lnTo>
                    <a:pt x="180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e7243"/>
                </a:gs>
                <a:gs pos="100000">
                  <a:srgbClr val="93975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>
              <a:off x="5410440" y="2934360"/>
              <a:ext cx="200592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flipV="1">
              <a:off x="4356000" y="3871440"/>
              <a:ext cx="4114800" cy="937800"/>
            </a:xfrm>
            <a:custGeom>
              <a:avLst/>
              <a:gdLst>
                <a:gd name="textAreaLeft" fmla="*/ 600120 w 4114800"/>
                <a:gd name="textAreaRight" fmla="*/ 3514680 w 4114800"/>
                <a:gd name="textAreaTop" fmla="*/ 136800 h 937800"/>
                <a:gd name="textAreaBottom" fmla="*/ 801000 h 93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99" y="21600"/>
                  </a:lnTo>
                  <a:lnTo>
                    <a:pt x="189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d9200"/>
                </a:gs>
                <a:gs pos="100000">
                  <a:srgbClr val="8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5076000" y="3872160"/>
              <a:ext cx="2674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2"/>
          <p:cNvGrpSpPr/>
          <p:nvPr/>
        </p:nvGrpSpPr>
        <p:grpSpPr>
          <a:xfrm>
            <a:off x="682560" y="1130400"/>
            <a:ext cx="5257800" cy="576000"/>
            <a:chOff x="682560" y="1130400"/>
            <a:chExt cx="5257800" cy="576000"/>
          </a:xfrm>
        </p:grpSpPr>
        <p:sp>
          <p:nvSpPr>
            <p:cNvPr id="68" name="矩形 6"/>
            <p:cNvSpPr/>
            <p:nvPr/>
          </p:nvSpPr>
          <p:spPr>
            <a:xfrm>
              <a:off x="682560" y="1130400"/>
              <a:ext cx="3385080" cy="5760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7"/>
            <p:cNvSpPr/>
            <p:nvPr/>
          </p:nvSpPr>
          <p:spPr>
            <a:xfrm>
              <a:off x="4067640" y="1418400"/>
              <a:ext cx="187272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682560" y="2139840"/>
            <a:ext cx="4826160" cy="574920"/>
            <a:chOff x="682560" y="2139840"/>
            <a:chExt cx="4826160" cy="574920"/>
          </a:xfrm>
        </p:grpSpPr>
        <p:sp>
          <p:nvSpPr>
            <p:cNvPr id="71" name="矩形 9"/>
            <p:cNvSpPr/>
            <p:nvPr/>
          </p:nvSpPr>
          <p:spPr>
            <a:xfrm>
              <a:off x="682560" y="2139840"/>
              <a:ext cx="3385440" cy="57492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10"/>
            <p:cNvSpPr/>
            <p:nvPr/>
          </p:nvSpPr>
          <p:spPr>
            <a:xfrm>
              <a:off x="4068000" y="2427120"/>
              <a:ext cx="144072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682560" y="3105000"/>
            <a:ext cx="4249800" cy="574920"/>
            <a:chOff x="682560" y="3105000"/>
            <a:chExt cx="4249800" cy="574920"/>
          </a:xfrm>
        </p:grpSpPr>
        <p:sp>
          <p:nvSpPr>
            <p:cNvPr id="74" name="矩形 12"/>
            <p:cNvSpPr/>
            <p:nvPr/>
          </p:nvSpPr>
          <p:spPr>
            <a:xfrm>
              <a:off x="682560" y="3105000"/>
              <a:ext cx="3385440" cy="57492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13"/>
            <p:cNvSpPr/>
            <p:nvPr/>
          </p:nvSpPr>
          <p:spPr>
            <a:xfrm>
              <a:off x="4068000" y="3392280"/>
              <a:ext cx="86436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682560" y="4011480"/>
            <a:ext cx="3816360" cy="576360"/>
            <a:chOff x="682560" y="4011480"/>
            <a:chExt cx="3816360" cy="576360"/>
          </a:xfrm>
        </p:grpSpPr>
        <p:sp>
          <p:nvSpPr>
            <p:cNvPr id="77" name="矩形 15"/>
            <p:cNvSpPr/>
            <p:nvPr/>
          </p:nvSpPr>
          <p:spPr>
            <a:xfrm>
              <a:off x="682560" y="4011480"/>
              <a:ext cx="3384360" cy="57636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716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6"/>
            <p:cNvSpPr/>
            <p:nvPr/>
          </p:nvSpPr>
          <p:spPr>
            <a:xfrm>
              <a:off x="4066920" y="4299480"/>
              <a:ext cx="432000" cy="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2"/>
          <p:cNvGrpSpPr/>
          <p:nvPr/>
        </p:nvGrpSpPr>
        <p:grpSpPr>
          <a:xfrm>
            <a:off x="0" y="3165480"/>
            <a:ext cx="9144000" cy="1978200"/>
            <a:chOff x="0" y="3165480"/>
            <a:chExt cx="9144000" cy="1978200"/>
          </a:xfrm>
        </p:grpSpPr>
        <p:sp>
          <p:nvSpPr>
            <p:cNvPr id="80" name="Rectangle 3"/>
            <p:cNvSpPr/>
            <p:nvPr/>
          </p:nvSpPr>
          <p:spPr>
            <a:xfrm>
              <a:off x="0" y="3165840"/>
              <a:ext cx="9144000" cy="19778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284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0" y="3165480"/>
              <a:ext cx="9144000" cy="217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WordArt 7"/>
          <p:cNvSpPr txBox="1"/>
          <p:nvPr/>
        </p:nvSpPr>
        <p:spPr>
          <a:xfrm>
            <a:off x="4371840" y="26676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434128"/>
                  </a:solidFill>
                  <a:miter/>
                </a:ln>
                <a:solidFill>
                  <a:srgbClr val="dbff7d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微软雅黑"/>
              </a:rPr>
              <a:t>谢谢观赏</a:t>
            </a:r>
            <a:endParaRPr b="1" lang="en-US" sz="5400" spc="1" strike="noStrike">
              <a:ln w="12600">
                <a:solidFill>
                  <a:srgbClr val="434128"/>
                </a:solidFill>
                <a:miter/>
              </a:ln>
              <a:solidFill>
                <a:srgbClr val="dbff7d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4371840" y="1003320"/>
            <a:ext cx="3527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434128"/>
                  </a:solidFill>
                  <a:miter/>
                </a:ln>
                <a:solidFill>
                  <a:srgbClr val="dbff7d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Thanks for your attention</a:t>
            </a:r>
            <a:endParaRPr b="1" lang="en-US" sz="2000" spc="1" strike="noStrike">
              <a:ln w="12600">
                <a:solidFill>
                  <a:srgbClr val="434128"/>
                </a:solidFill>
                <a:miter/>
              </a:ln>
              <a:solidFill>
                <a:srgbClr val="dbff7d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87280" y="458784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1:30:00Z</dcterms:created>
  <dc:creator>果因PPT工作室</dc:creator>
  <dc:description/>
  <cp:keywords>XS-普屏 4：3;SC-淡绿色;BG-浅色;DH-静态</cp:keywords>
  <dc:language>en-US</dc:language>
  <cp:lastModifiedBy>王玉清</cp:lastModifiedBy>
  <cp:lastPrinted>1899-12-30T00:00:00Z</cp:lastPrinted>
  <dcterms:modified xsi:type="dcterms:W3CDTF">2016-02-21T03:48:11Z</dcterms:modified>
  <cp:revision>6</cp:revision>
  <dc:subject>TP-植物动物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