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8E1-EE8F-4B41-B722-14D806CE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1F4-698A-4A7D-B0DB-230D2478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D49-DEC9-45F4-9141-FE519EE6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169-A609-4BF2-AE84-2D1FF346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AD8-7649-4064-AE83-4D3230AD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2C3-2077-4CD7-A3B5-A60D7E4D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087-E31B-48F8-8698-6B1C22A5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01C-2BB1-4402-BC9C-482600C9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4F0-3DF6-4936-80A8-70532DB0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00A-1271-4D54-AC37-8DF8AE0F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B44-14E2-4D0C-B50E-2D4BD73B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0B5-4635-450A-A4C8-7FB14AA9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6E77-37F9-494F-BDDB-E9BA583DD6CA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A0AD-39BC-46A3-AB9A-975172CA5565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4400" y="15840"/>
            <a:ext cx="91584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29264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蓝色抽象商务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模板下载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31D-0F7F-4715-806B-CAD87F8063F9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1FEB-0EBE-4CBC-A4CD-202D2E3D3569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006666"/>
          </a:solidFill>
          <a:ln w="9360">
            <a:solidFill>
              <a:srgbClr val="0033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0070c0"/>
          </a:solidFill>
          <a:ln w="9360">
            <a:solidFill>
              <a:srgbClr val="003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直接连接符 150"/>
          <p:cNvSpPr/>
          <p:nvPr/>
        </p:nvSpPr>
        <p:spPr>
          <a:xfrm>
            <a:off x="395280" y="19447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hlinkClick r:id="rId1" action="ppaction://hlinksldjump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11230"/>
          <a:stretch/>
        </p:blipFill>
        <p:spPr>
          <a:xfrm>
            <a:off x="-14400" y="760320"/>
            <a:ext cx="9158400" cy="6097680"/>
          </a:xfrm>
          <a:prstGeom prst="rect">
            <a:avLst/>
          </a:prstGeom>
          <a:ln w="0">
            <a:noFill/>
          </a:ln>
        </p:spPr>
      </p:pic>
      <p:sp>
        <p:nvSpPr>
          <p:cNvPr id="97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1440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E793-D486-476E-BD85-A25B43950904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1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D185-3BCC-48F1-ABAE-0FA557BC1A90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8CAC-1601-4A4C-8E36-86C82F3FF83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883C-D5A8-4BA0-A062-13924BF2D8E4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1480"/>
                <a:gridCol w="1670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2A05-1742-47C2-BCB3-FB5935B66E0C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F31F-1706-4EFD-BEB6-3C533168467D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17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18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69DF-0C10-4E45-AEE6-DB046BEEA0E6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1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039A-1705-45B1-9B74-51D96B9033C9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3642480" y="2943360"/>
            <a:ext cx="39240" cy="33840"/>
            <a:chOff x="3642480" y="2943360"/>
            <a:chExt cx="39240" cy="33840"/>
          </a:xfrm>
        </p:grpSpPr>
        <p:sp>
          <p:nvSpPr>
            <p:cNvPr id="123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00666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4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5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1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57280" y="6054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"/>
          <p:cNvSpPr/>
          <p:nvPr/>
        </p:nvSpPr>
        <p:spPr>
          <a:xfrm>
            <a:off x="565920" y="5938920"/>
            <a:ext cx="218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1ppt.com/moban/ 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-14400" y="-39600"/>
            <a:ext cx="9158400" cy="6869160"/>
          </a:xfrm>
          <a:prstGeom prst="rect">
            <a:avLst/>
          </a:prstGeom>
          <a:ln w="0">
            <a:noFill/>
          </a:ln>
        </p:spPr>
      </p:pic>
      <p:sp>
        <p:nvSpPr>
          <p:cNvPr id="146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www.slideto.me</dc:creator>
  <dc:description/>
  <cp:keywords>我爱PPT中文网; 4.3; 浅蓝色; 静态; L; m</cp:keywords>
  <dc:language>en-US</dc:language>
  <cp:lastModifiedBy>a</cp:lastModifiedBy>
  <cp:lastPrinted>1899-12-30T00:00:00Z</cp:lastPrinted>
  <dcterms:modified xsi:type="dcterms:W3CDTF">2015-07-25T09:02:29Z</dcterms:modified>
  <cp:revision>14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