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D6F-D55D-482E-B961-E2F3A9AF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7F4-3B67-45A7-8DAF-49EB3162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5AB-61D2-4B12-8B2A-5ECDC8DA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C7EB-A3DD-4B34-AF72-BB9631C0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E84-3D34-4205-BE23-69EF750A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E66-8305-4D14-A81F-FCC702EC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E85E-4A3D-4241-83DB-88CAA0FA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718C-13B8-4AC2-AB5D-F13459D4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ED9-ACA3-49CA-A205-79EBD124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A1B-DC9C-4940-B27F-DDBDF92F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22C-1C72-4C99-A21F-D603468F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84F-F269-48C4-998A-416C7264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746431-6E03-4010-8C25-0E18C3D2CF3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14112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2120400" y="1412640"/>
            <a:ext cx="52815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蓝色电话通用</a:t>
            </a: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波形 6"/>
          <p:cNvSpPr/>
          <p:nvPr/>
        </p:nvSpPr>
        <p:spPr>
          <a:xfrm>
            <a:off x="857160" y="1571760"/>
            <a:ext cx="7500600" cy="1785600"/>
          </a:xfrm>
          <a:prstGeom prst="wave">
            <a:avLst>
              <a:gd name="adj1" fmla="val 12500"/>
              <a:gd name="adj2" fmla="val 0"/>
            </a:avLst>
          </a:prstGeom>
          <a:solidFill>
            <a:srgbClr val="3f79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2" name="波形 7"/>
          <p:cNvSpPr/>
          <p:nvPr/>
        </p:nvSpPr>
        <p:spPr>
          <a:xfrm>
            <a:off x="857160" y="3000240"/>
            <a:ext cx="7500600" cy="1785600"/>
          </a:xfrm>
          <a:prstGeom prst="wave">
            <a:avLst>
              <a:gd name="adj1" fmla="val 12500"/>
              <a:gd name="adj2" fmla="val 0"/>
            </a:avLst>
          </a:prstGeom>
          <a:solidFill>
            <a:srgbClr val="003d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2"/>
          <p:cNvSpPr/>
          <p:nvPr/>
        </p:nvSpPr>
        <p:spPr>
          <a:xfrm>
            <a:off x="206856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2"/>
          <p:cNvSpPr/>
          <p:nvPr/>
        </p:nvSpPr>
        <p:spPr>
          <a:xfrm>
            <a:off x="606888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65"/>
          <p:cNvSpPr/>
          <p:nvPr/>
        </p:nvSpPr>
        <p:spPr>
          <a:xfrm>
            <a:off x="1200240" y="3660840"/>
            <a:ext cx="1571400" cy="299520"/>
          </a:xfrm>
          <a:prstGeom prst="ellipse">
            <a:avLst/>
          </a:prstGeom>
          <a:gradFill rotWithShape="0">
            <a:gsLst>
              <a:gs pos="0">
                <a:srgbClr val="404040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50" name="组合 48"/>
          <p:cNvGrpSpPr/>
          <p:nvPr/>
        </p:nvGrpSpPr>
        <p:grpSpPr>
          <a:xfrm>
            <a:off x="1270800" y="2413800"/>
            <a:ext cx="1429920" cy="1429920"/>
            <a:chOff x="1270800" y="2413800"/>
            <a:chExt cx="1429920" cy="1429920"/>
          </a:xfrm>
        </p:grpSpPr>
        <p:sp>
          <p:nvSpPr>
            <p:cNvPr id="51" name="椭圆 11"/>
            <p:cNvSpPr/>
            <p:nvPr/>
          </p:nvSpPr>
          <p:spPr>
            <a:xfrm flipH="1" rot="21322200">
              <a:off x="1321920" y="2465280"/>
              <a:ext cx="1326960" cy="1326960"/>
            </a:xfrm>
            <a:prstGeom prst="ellipse">
              <a:avLst/>
            </a:prstGeom>
            <a:solidFill>
              <a:srgbClr val="003d6d"/>
            </a:solidFill>
            <a:ln w="76200">
              <a:noFill/>
            </a:ln>
            <a:scene3d>
              <a:camera prst="orthographicFront">
                <a:rot lat="0" lon="0" rev="0"/>
              </a:camera>
              <a:lightRig dir="t" rig="glow">
                <a:rot lat="0" lon="0" rev="4800000"/>
              </a:lightRig>
            </a:scene3d>
            <a:sp3d prstMaterial="matte">
              <a:bevelT w="127000" h="635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椭圆 12"/>
            <p:cNvSpPr/>
            <p:nvPr/>
          </p:nvSpPr>
          <p:spPr>
            <a:xfrm flipH="1" rot="21322200">
              <a:off x="1419480" y="2561400"/>
              <a:ext cx="1139040" cy="1139040"/>
            </a:xfrm>
            <a:prstGeom prst="ellipse">
              <a:avLst/>
            </a:prstGeom>
            <a:solidFill>
              <a:srgbClr val="003d6d"/>
            </a:solidFill>
            <a:ln w="2857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" name="圆角矩形 4"/>
          <p:cNvSpPr/>
          <p:nvPr/>
        </p:nvSpPr>
        <p:spPr>
          <a:xfrm rot="19401000">
            <a:off x="1431360" y="1758600"/>
            <a:ext cx="3170160" cy="811440"/>
          </a:xfrm>
          <a:custGeom>
            <a:avLst/>
            <a:gdLst>
              <a:gd name="textAreaLeft" fmla="*/ 0 w 3170160"/>
              <a:gd name="textAreaRight" fmla="*/ 3170520 w 317016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4459202" h="1364927">
                <a:moveTo>
                  <a:pt x="4358903" y="38852"/>
                </a:moveTo>
                <a:cubicBezTo>
                  <a:pt x="4419416" y="79734"/>
                  <a:pt x="4459202" y="148967"/>
                  <a:pt x="4459202" y="227492"/>
                </a:cubicBezTo>
                <a:lnTo>
                  <a:pt x="4459202" y="1137435"/>
                </a:lnTo>
                <a:cubicBezTo>
                  <a:pt x="4459202" y="1263075"/>
                  <a:pt x="4357350" y="1364927"/>
                  <a:pt x="4231710" y="1364927"/>
                </a:cubicBezTo>
                <a:lnTo>
                  <a:pt x="748415" y="1364927"/>
                </a:lnTo>
                <a:lnTo>
                  <a:pt x="0" y="807999"/>
                </a:lnTo>
                <a:lnTo>
                  <a:pt x="0" y="227492"/>
                </a:lnTo>
                <a:cubicBezTo>
                  <a:pt x="0" y="101852"/>
                  <a:pt x="101852" y="0"/>
                  <a:pt x="227492" y="0"/>
                </a:cubicBezTo>
                <a:lnTo>
                  <a:pt x="4231710" y="0"/>
                </a:lnTo>
                <a:cubicBezTo>
                  <a:pt x="4278825" y="0"/>
                  <a:pt x="4322595" y="14323"/>
                  <a:pt x="4358903" y="38852"/>
                </a:cubicBezTo>
                <a:close/>
              </a:path>
            </a:pathLst>
          </a:custGeom>
          <a:solidFill>
            <a:srgbClr val="3f7998"/>
          </a:solidFill>
          <a:ln w="5715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圆角矩形 7"/>
          <p:cNvSpPr/>
          <p:nvPr/>
        </p:nvSpPr>
        <p:spPr>
          <a:xfrm rot="19401000">
            <a:off x="1613160" y="2490840"/>
            <a:ext cx="805320" cy="811440"/>
          </a:xfrm>
          <a:custGeom>
            <a:avLst/>
            <a:gdLst>
              <a:gd name="textAreaLeft" fmla="*/ 0 w 805320"/>
              <a:gd name="textAreaRight" fmla="*/ 805680 w 80532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1355019" h="1364927">
                <a:moveTo>
                  <a:pt x="1343010" y="0"/>
                </a:moveTo>
                <a:lnTo>
                  <a:pt x="1355019" y="1364927"/>
                </a:lnTo>
                <a:lnTo>
                  <a:pt x="822528" y="1364927"/>
                </a:lnTo>
                <a:lnTo>
                  <a:pt x="0" y="752848"/>
                </a:lnTo>
                <a:lnTo>
                  <a:pt x="0" y="227492"/>
                </a:lnTo>
                <a:cubicBezTo>
                  <a:pt x="0" y="101852"/>
                  <a:pt x="101852" y="0"/>
                  <a:pt x="227492" y="0"/>
                </a:cubicBezTo>
                <a:close/>
              </a:path>
            </a:pathLst>
          </a:custGeom>
          <a:gradFill rotWithShape="0">
            <a:gsLst>
              <a:gs pos="0">
                <a:srgbClr val="8f8f8f"/>
              </a:gs>
              <a:gs pos="100000">
                <a:srgbClr val="cbcbcb"/>
              </a:gs>
            </a:gsLst>
            <a:lin ang="11298000"/>
          </a:gradFill>
          <a:ln w="5715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Oval 65"/>
          <p:cNvSpPr/>
          <p:nvPr/>
        </p:nvSpPr>
        <p:spPr>
          <a:xfrm>
            <a:off x="2548080" y="4167360"/>
            <a:ext cx="1571400" cy="298080"/>
          </a:xfrm>
          <a:prstGeom prst="ellipse">
            <a:avLst/>
          </a:prstGeom>
          <a:gradFill rotWithShape="0">
            <a:gsLst>
              <a:gs pos="0">
                <a:srgbClr val="404040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56" name="组合 59"/>
          <p:cNvGrpSpPr/>
          <p:nvPr/>
        </p:nvGrpSpPr>
        <p:grpSpPr>
          <a:xfrm>
            <a:off x="2618640" y="2919600"/>
            <a:ext cx="1429920" cy="1429920"/>
            <a:chOff x="2618640" y="2919600"/>
            <a:chExt cx="1429920" cy="1429920"/>
          </a:xfrm>
        </p:grpSpPr>
        <p:sp>
          <p:nvSpPr>
            <p:cNvPr id="57" name="椭圆 17"/>
            <p:cNvSpPr/>
            <p:nvPr/>
          </p:nvSpPr>
          <p:spPr>
            <a:xfrm flipH="1" rot="21322200">
              <a:off x="2669760" y="2971080"/>
              <a:ext cx="1326960" cy="1326960"/>
            </a:xfrm>
            <a:prstGeom prst="ellipse">
              <a:avLst/>
            </a:prstGeom>
            <a:solidFill>
              <a:srgbClr val="003d6d"/>
            </a:solidFill>
            <a:ln w="76200">
              <a:noFill/>
            </a:ln>
            <a:scene3d>
              <a:camera prst="orthographicFront">
                <a:rot lat="0" lon="0" rev="0"/>
              </a:camera>
              <a:lightRig dir="t" rig="glow">
                <a:rot lat="0" lon="0" rev="4800000"/>
              </a:lightRig>
            </a:scene3d>
            <a:sp3d prstMaterial="matte">
              <a:bevelT w="127000" h="635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椭圆 18"/>
            <p:cNvSpPr/>
            <p:nvPr/>
          </p:nvSpPr>
          <p:spPr>
            <a:xfrm flipH="1" rot="21322200">
              <a:off x="2767320" y="3067200"/>
              <a:ext cx="1139040" cy="1139040"/>
            </a:xfrm>
            <a:prstGeom prst="ellipse">
              <a:avLst/>
            </a:prstGeom>
            <a:solidFill>
              <a:srgbClr val="003d6d"/>
            </a:solidFill>
            <a:ln w="2857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圆角矩形 4"/>
          <p:cNvSpPr/>
          <p:nvPr/>
        </p:nvSpPr>
        <p:spPr>
          <a:xfrm rot="19401000">
            <a:off x="2778840" y="2264400"/>
            <a:ext cx="3170160" cy="811440"/>
          </a:xfrm>
          <a:custGeom>
            <a:avLst/>
            <a:gdLst>
              <a:gd name="textAreaLeft" fmla="*/ 0 w 3170160"/>
              <a:gd name="textAreaRight" fmla="*/ 3170520 w 317016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4459202" h="1364927">
                <a:moveTo>
                  <a:pt x="4358903" y="38852"/>
                </a:moveTo>
                <a:cubicBezTo>
                  <a:pt x="4419416" y="79734"/>
                  <a:pt x="4459202" y="148967"/>
                  <a:pt x="4459202" y="227492"/>
                </a:cubicBezTo>
                <a:lnTo>
                  <a:pt x="4459202" y="1137435"/>
                </a:lnTo>
                <a:cubicBezTo>
                  <a:pt x="4459202" y="1263075"/>
                  <a:pt x="4357350" y="1364927"/>
                  <a:pt x="4231710" y="1364927"/>
                </a:cubicBezTo>
                <a:lnTo>
                  <a:pt x="748415" y="1364927"/>
                </a:lnTo>
                <a:lnTo>
                  <a:pt x="0" y="807999"/>
                </a:lnTo>
                <a:lnTo>
                  <a:pt x="0" y="227492"/>
                </a:lnTo>
                <a:cubicBezTo>
                  <a:pt x="0" y="101852"/>
                  <a:pt x="101852" y="0"/>
                  <a:pt x="227492" y="0"/>
                </a:cubicBezTo>
                <a:lnTo>
                  <a:pt x="4231710" y="0"/>
                </a:lnTo>
                <a:cubicBezTo>
                  <a:pt x="4278825" y="0"/>
                  <a:pt x="4322595" y="14323"/>
                  <a:pt x="4358903" y="38852"/>
                </a:cubicBezTo>
                <a:close/>
              </a:path>
            </a:pathLst>
          </a:custGeom>
          <a:solidFill>
            <a:srgbClr val="3f7998"/>
          </a:solidFill>
          <a:ln w="5715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圆角矩形 7"/>
          <p:cNvSpPr/>
          <p:nvPr/>
        </p:nvSpPr>
        <p:spPr>
          <a:xfrm rot="19401000">
            <a:off x="2961000" y="2996640"/>
            <a:ext cx="805320" cy="811440"/>
          </a:xfrm>
          <a:custGeom>
            <a:avLst/>
            <a:gdLst>
              <a:gd name="textAreaLeft" fmla="*/ 0 w 805320"/>
              <a:gd name="textAreaRight" fmla="*/ 805680 w 80532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1355019" h="1364927">
                <a:moveTo>
                  <a:pt x="1343010" y="0"/>
                </a:moveTo>
                <a:lnTo>
                  <a:pt x="1355019" y="1364927"/>
                </a:lnTo>
                <a:lnTo>
                  <a:pt x="822528" y="1364927"/>
                </a:lnTo>
                <a:lnTo>
                  <a:pt x="0" y="752848"/>
                </a:lnTo>
                <a:lnTo>
                  <a:pt x="0" y="227492"/>
                </a:lnTo>
                <a:cubicBezTo>
                  <a:pt x="0" y="101852"/>
                  <a:pt x="101852" y="0"/>
                  <a:pt x="227492" y="0"/>
                </a:cubicBezTo>
                <a:close/>
              </a:path>
            </a:pathLst>
          </a:custGeom>
          <a:gradFill rotWithShape="0">
            <a:gsLst>
              <a:gs pos="0">
                <a:srgbClr val="8f8f8f"/>
              </a:gs>
              <a:gs pos="100000">
                <a:srgbClr val="cbcbcb"/>
              </a:gs>
            </a:gsLst>
            <a:lin ang="11298000"/>
          </a:gradFill>
          <a:ln w="5715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Oval 65"/>
          <p:cNvSpPr/>
          <p:nvPr/>
        </p:nvSpPr>
        <p:spPr>
          <a:xfrm>
            <a:off x="3846600" y="4770360"/>
            <a:ext cx="1571400" cy="298080"/>
          </a:xfrm>
          <a:prstGeom prst="ellipse">
            <a:avLst/>
          </a:prstGeom>
          <a:gradFill rotWithShape="0">
            <a:gsLst>
              <a:gs pos="0">
                <a:srgbClr val="404040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62" name="组合 70"/>
          <p:cNvGrpSpPr/>
          <p:nvPr/>
        </p:nvGrpSpPr>
        <p:grpSpPr>
          <a:xfrm>
            <a:off x="3916800" y="3522960"/>
            <a:ext cx="1429920" cy="1429920"/>
            <a:chOff x="3916800" y="3522960"/>
            <a:chExt cx="1429920" cy="1429920"/>
          </a:xfrm>
        </p:grpSpPr>
        <p:sp>
          <p:nvSpPr>
            <p:cNvPr id="63" name="椭圆 23"/>
            <p:cNvSpPr/>
            <p:nvPr/>
          </p:nvSpPr>
          <p:spPr>
            <a:xfrm flipH="1" rot="21322200">
              <a:off x="3967920" y="3574440"/>
              <a:ext cx="1326960" cy="1326960"/>
            </a:xfrm>
            <a:prstGeom prst="ellipse">
              <a:avLst/>
            </a:prstGeom>
            <a:solidFill>
              <a:srgbClr val="003d6d"/>
            </a:solidFill>
            <a:ln w="76200">
              <a:noFill/>
            </a:ln>
            <a:scene3d>
              <a:camera prst="orthographicFront">
                <a:rot lat="0" lon="0" rev="0"/>
              </a:camera>
              <a:lightRig dir="t" rig="glow">
                <a:rot lat="0" lon="0" rev="4800000"/>
              </a:lightRig>
            </a:scene3d>
            <a:sp3d prstMaterial="matte">
              <a:bevelT w="127000" h="635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椭圆 24"/>
            <p:cNvSpPr/>
            <p:nvPr/>
          </p:nvSpPr>
          <p:spPr>
            <a:xfrm flipH="1" rot="21322200">
              <a:off x="4065480" y="3670560"/>
              <a:ext cx="1139040" cy="1139040"/>
            </a:xfrm>
            <a:prstGeom prst="ellipse">
              <a:avLst/>
            </a:prstGeom>
            <a:solidFill>
              <a:srgbClr val="003d6d"/>
            </a:solidFill>
            <a:ln w="2857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5" name="圆角矩形 4"/>
          <p:cNvSpPr/>
          <p:nvPr/>
        </p:nvSpPr>
        <p:spPr>
          <a:xfrm rot="19401000">
            <a:off x="4077000" y="2867760"/>
            <a:ext cx="3170160" cy="811440"/>
          </a:xfrm>
          <a:custGeom>
            <a:avLst/>
            <a:gdLst>
              <a:gd name="textAreaLeft" fmla="*/ 0 w 3170160"/>
              <a:gd name="textAreaRight" fmla="*/ 3170520 w 317016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4459202" h="1364927">
                <a:moveTo>
                  <a:pt x="4358903" y="38852"/>
                </a:moveTo>
                <a:cubicBezTo>
                  <a:pt x="4419416" y="79734"/>
                  <a:pt x="4459202" y="148967"/>
                  <a:pt x="4459202" y="227492"/>
                </a:cubicBezTo>
                <a:lnTo>
                  <a:pt x="4459202" y="1137435"/>
                </a:lnTo>
                <a:cubicBezTo>
                  <a:pt x="4459202" y="1263075"/>
                  <a:pt x="4357350" y="1364927"/>
                  <a:pt x="4231710" y="1364927"/>
                </a:cubicBezTo>
                <a:lnTo>
                  <a:pt x="748415" y="1364927"/>
                </a:lnTo>
                <a:lnTo>
                  <a:pt x="0" y="807999"/>
                </a:lnTo>
                <a:lnTo>
                  <a:pt x="0" y="227492"/>
                </a:lnTo>
                <a:cubicBezTo>
                  <a:pt x="0" y="101852"/>
                  <a:pt x="101852" y="0"/>
                  <a:pt x="227492" y="0"/>
                </a:cubicBezTo>
                <a:lnTo>
                  <a:pt x="4231710" y="0"/>
                </a:lnTo>
                <a:cubicBezTo>
                  <a:pt x="4278825" y="0"/>
                  <a:pt x="4322595" y="14323"/>
                  <a:pt x="4358903" y="38852"/>
                </a:cubicBezTo>
                <a:close/>
              </a:path>
            </a:pathLst>
          </a:custGeom>
          <a:solidFill>
            <a:srgbClr val="3f7998"/>
          </a:solidFill>
          <a:ln w="5715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圆角矩形 7"/>
          <p:cNvSpPr/>
          <p:nvPr/>
        </p:nvSpPr>
        <p:spPr>
          <a:xfrm rot="19401000">
            <a:off x="4259160" y="3600000"/>
            <a:ext cx="805320" cy="811440"/>
          </a:xfrm>
          <a:custGeom>
            <a:avLst/>
            <a:gdLst>
              <a:gd name="textAreaLeft" fmla="*/ 0 w 805320"/>
              <a:gd name="textAreaRight" fmla="*/ 805680 w 80532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1355019" h="1364927">
                <a:moveTo>
                  <a:pt x="1343010" y="0"/>
                </a:moveTo>
                <a:lnTo>
                  <a:pt x="1355019" y="1364927"/>
                </a:lnTo>
                <a:lnTo>
                  <a:pt x="822528" y="1364927"/>
                </a:lnTo>
                <a:lnTo>
                  <a:pt x="0" y="752848"/>
                </a:lnTo>
                <a:lnTo>
                  <a:pt x="0" y="227492"/>
                </a:lnTo>
                <a:cubicBezTo>
                  <a:pt x="0" y="101852"/>
                  <a:pt x="101852" y="0"/>
                  <a:pt x="227492" y="0"/>
                </a:cubicBezTo>
                <a:close/>
              </a:path>
            </a:pathLst>
          </a:custGeom>
          <a:gradFill rotWithShape="0">
            <a:gsLst>
              <a:gs pos="0">
                <a:srgbClr val="8f8f8f"/>
              </a:gs>
              <a:gs pos="100000">
                <a:srgbClr val="cbcbcb"/>
              </a:gs>
            </a:gsLst>
            <a:lin ang="11298000"/>
          </a:gradFill>
          <a:ln w="5715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Oval 65"/>
          <p:cNvSpPr/>
          <p:nvPr/>
        </p:nvSpPr>
        <p:spPr>
          <a:xfrm>
            <a:off x="5172120" y="5345280"/>
            <a:ext cx="1569600" cy="298080"/>
          </a:xfrm>
          <a:prstGeom prst="ellipse">
            <a:avLst/>
          </a:prstGeom>
          <a:gradFill rotWithShape="0">
            <a:gsLst>
              <a:gs pos="0">
                <a:srgbClr val="404040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68" name="组合 81"/>
          <p:cNvGrpSpPr/>
          <p:nvPr/>
        </p:nvGrpSpPr>
        <p:grpSpPr>
          <a:xfrm>
            <a:off x="5241600" y="4097160"/>
            <a:ext cx="1429920" cy="1429920"/>
            <a:chOff x="5241600" y="4097160"/>
            <a:chExt cx="1429920" cy="1429920"/>
          </a:xfrm>
        </p:grpSpPr>
        <p:sp>
          <p:nvSpPr>
            <p:cNvPr id="69" name="椭圆 29"/>
            <p:cNvSpPr/>
            <p:nvPr/>
          </p:nvSpPr>
          <p:spPr>
            <a:xfrm flipH="1" rot="21322200">
              <a:off x="5292720" y="4148640"/>
              <a:ext cx="1326960" cy="1326960"/>
            </a:xfrm>
            <a:prstGeom prst="ellipse">
              <a:avLst/>
            </a:prstGeom>
            <a:solidFill>
              <a:srgbClr val="003d6d"/>
            </a:solidFill>
            <a:ln w="76200">
              <a:noFill/>
            </a:ln>
            <a:scene3d>
              <a:camera prst="orthographicFront">
                <a:rot lat="0" lon="0" rev="0"/>
              </a:camera>
              <a:lightRig dir="t" rig="glow">
                <a:rot lat="0" lon="0" rev="4800000"/>
              </a:lightRig>
            </a:scene3d>
            <a:sp3d prstMaterial="matte">
              <a:bevelT w="127000" h="635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椭圆 30"/>
            <p:cNvSpPr/>
            <p:nvPr/>
          </p:nvSpPr>
          <p:spPr>
            <a:xfrm flipH="1" rot="21322200">
              <a:off x="5390280" y="4244760"/>
              <a:ext cx="1139040" cy="1139040"/>
            </a:xfrm>
            <a:prstGeom prst="ellipse">
              <a:avLst/>
            </a:prstGeom>
            <a:solidFill>
              <a:srgbClr val="003d6d"/>
            </a:solidFill>
            <a:ln w="2857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1" name="圆角矩形 4"/>
          <p:cNvSpPr/>
          <p:nvPr/>
        </p:nvSpPr>
        <p:spPr>
          <a:xfrm rot="19401000">
            <a:off x="5402160" y="3441960"/>
            <a:ext cx="3170160" cy="811440"/>
          </a:xfrm>
          <a:custGeom>
            <a:avLst/>
            <a:gdLst>
              <a:gd name="textAreaLeft" fmla="*/ 0 w 3170160"/>
              <a:gd name="textAreaRight" fmla="*/ 3170520 w 317016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4459202" h="1364927">
                <a:moveTo>
                  <a:pt x="4358903" y="38852"/>
                </a:moveTo>
                <a:cubicBezTo>
                  <a:pt x="4419416" y="79734"/>
                  <a:pt x="4459202" y="148967"/>
                  <a:pt x="4459202" y="227492"/>
                </a:cubicBezTo>
                <a:lnTo>
                  <a:pt x="4459202" y="1137435"/>
                </a:lnTo>
                <a:cubicBezTo>
                  <a:pt x="4459202" y="1263075"/>
                  <a:pt x="4357350" y="1364927"/>
                  <a:pt x="4231710" y="1364927"/>
                </a:cubicBezTo>
                <a:lnTo>
                  <a:pt x="748415" y="1364927"/>
                </a:lnTo>
                <a:lnTo>
                  <a:pt x="0" y="807999"/>
                </a:lnTo>
                <a:lnTo>
                  <a:pt x="0" y="227492"/>
                </a:lnTo>
                <a:cubicBezTo>
                  <a:pt x="0" y="101852"/>
                  <a:pt x="101852" y="0"/>
                  <a:pt x="227492" y="0"/>
                </a:cubicBezTo>
                <a:lnTo>
                  <a:pt x="4231710" y="0"/>
                </a:lnTo>
                <a:cubicBezTo>
                  <a:pt x="4278825" y="0"/>
                  <a:pt x="4322595" y="14323"/>
                  <a:pt x="4358903" y="38852"/>
                </a:cubicBezTo>
                <a:close/>
              </a:path>
            </a:pathLst>
          </a:custGeom>
          <a:solidFill>
            <a:srgbClr val="3f7998"/>
          </a:solidFill>
          <a:ln w="5715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圆角矩形 7"/>
          <p:cNvSpPr/>
          <p:nvPr/>
        </p:nvSpPr>
        <p:spPr>
          <a:xfrm rot="19401000">
            <a:off x="5583960" y="4174200"/>
            <a:ext cx="805320" cy="811440"/>
          </a:xfrm>
          <a:custGeom>
            <a:avLst/>
            <a:gdLst>
              <a:gd name="textAreaLeft" fmla="*/ 0 w 805320"/>
              <a:gd name="textAreaRight" fmla="*/ 805680 w 80532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1355019" h="1364927">
                <a:moveTo>
                  <a:pt x="1343010" y="0"/>
                </a:moveTo>
                <a:lnTo>
                  <a:pt x="1355019" y="1364927"/>
                </a:lnTo>
                <a:lnTo>
                  <a:pt x="822528" y="1364927"/>
                </a:lnTo>
                <a:lnTo>
                  <a:pt x="0" y="752848"/>
                </a:lnTo>
                <a:lnTo>
                  <a:pt x="0" y="227492"/>
                </a:lnTo>
                <a:cubicBezTo>
                  <a:pt x="0" y="101852"/>
                  <a:pt x="101852" y="0"/>
                  <a:pt x="227492" y="0"/>
                </a:cubicBezTo>
                <a:close/>
              </a:path>
            </a:pathLst>
          </a:custGeom>
          <a:gradFill rotWithShape="0">
            <a:gsLst>
              <a:gs pos="0">
                <a:srgbClr val="8f8f8f"/>
              </a:gs>
              <a:gs pos="100000">
                <a:srgbClr val="cbcbcb"/>
              </a:gs>
            </a:gsLst>
            <a:lin ang="11298000"/>
          </a:gradFill>
          <a:ln w="5715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矩形 21"/>
          <p:cNvSpPr/>
          <p:nvPr/>
        </p:nvSpPr>
        <p:spPr>
          <a:xfrm rot="19428000">
            <a:off x="2682720" y="1845360"/>
            <a:ext cx="100404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1"/>
          <p:cNvSpPr/>
          <p:nvPr/>
        </p:nvSpPr>
        <p:spPr>
          <a:xfrm rot="19428000">
            <a:off x="4095360" y="2358360"/>
            <a:ext cx="100404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1"/>
          <p:cNvSpPr/>
          <p:nvPr/>
        </p:nvSpPr>
        <p:spPr>
          <a:xfrm rot="19428000">
            <a:off x="5452560" y="2929680"/>
            <a:ext cx="100404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1"/>
          <p:cNvSpPr/>
          <p:nvPr/>
        </p:nvSpPr>
        <p:spPr>
          <a:xfrm rot="19428000">
            <a:off x="6738480" y="3429720"/>
            <a:ext cx="100404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直接箭头连接符 19"/>
          <p:cNvCxnSpPr/>
          <p:nvPr/>
        </p:nvCxnSpPr>
        <p:spPr>
          <a:xfrm>
            <a:off x="1263600" y="2530440"/>
            <a:ext cx="360" cy="970200"/>
          </a:xfrm>
          <a:prstGeom prst="straightConnector1">
            <a:avLst/>
          </a:prstGeom>
          <a:ln w="28575">
            <a:solidFill>
              <a:srgbClr val="3f7998"/>
            </a:solidFill>
            <a:round/>
            <a:tailEnd len="med" type="triangle" w="med"/>
          </a:ln>
        </p:spPr>
      </p:cxnSp>
      <p:cxnSp>
        <p:nvCxnSpPr>
          <p:cNvPr id="83" name="直接箭头连接符 20"/>
          <p:cNvCxnSpPr/>
          <p:nvPr/>
        </p:nvCxnSpPr>
        <p:spPr>
          <a:xfrm>
            <a:off x="3457440" y="2530440"/>
            <a:ext cx="360" cy="970200"/>
          </a:xfrm>
          <a:prstGeom prst="straightConnector1">
            <a:avLst/>
          </a:prstGeom>
          <a:ln w="28575">
            <a:solidFill>
              <a:srgbClr val="003d6d"/>
            </a:solidFill>
            <a:round/>
            <a:tailEnd len="med" type="triangle" w="med"/>
          </a:ln>
        </p:spPr>
      </p:cxnSp>
      <p:cxnSp>
        <p:nvCxnSpPr>
          <p:cNvPr id="84" name="直接箭头连接符 23"/>
          <p:cNvCxnSpPr/>
          <p:nvPr/>
        </p:nvCxnSpPr>
        <p:spPr>
          <a:xfrm>
            <a:off x="5651280" y="2530440"/>
            <a:ext cx="360" cy="970200"/>
          </a:xfrm>
          <a:prstGeom prst="straightConnector1">
            <a:avLst/>
          </a:prstGeom>
          <a:ln w="28575">
            <a:solidFill>
              <a:srgbClr val="3f7998"/>
            </a:solidFill>
            <a:round/>
            <a:tailEnd len="med" type="triangle" w="med"/>
          </a:ln>
        </p:spPr>
      </p:cxnSp>
      <p:cxnSp>
        <p:nvCxnSpPr>
          <p:cNvPr id="85" name="直接箭头连接符 26"/>
          <p:cNvCxnSpPr/>
          <p:nvPr/>
        </p:nvCxnSpPr>
        <p:spPr>
          <a:xfrm>
            <a:off x="7845120" y="2530440"/>
            <a:ext cx="360" cy="970200"/>
          </a:xfrm>
          <a:prstGeom prst="straightConnector1">
            <a:avLst/>
          </a:prstGeom>
          <a:ln w="28575">
            <a:solidFill>
              <a:srgbClr val="003d6d"/>
            </a:solidFill>
            <a:round/>
            <a:tailEnd len="med" type="triangle" w="med"/>
          </a:ln>
        </p:spPr>
      </p:cxnSp>
      <p:sp>
        <p:nvSpPr>
          <p:cNvPr id="86" name="燕尾形 14"/>
          <p:cNvSpPr/>
          <p:nvPr/>
        </p:nvSpPr>
        <p:spPr>
          <a:xfrm>
            <a:off x="214200" y="2286000"/>
            <a:ext cx="2096640" cy="455400"/>
          </a:xfrm>
          <a:prstGeom prst="chevron">
            <a:avLst>
              <a:gd name="adj" fmla="val 50000"/>
            </a:avLst>
          </a:prstGeom>
          <a:solidFill>
            <a:srgbClr val="3f79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7" name="燕尾形 15"/>
          <p:cNvSpPr/>
          <p:nvPr/>
        </p:nvSpPr>
        <p:spPr>
          <a:xfrm>
            <a:off x="2408400" y="2286000"/>
            <a:ext cx="2098440" cy="455400"/>
          </a:xfrm>
          <a:prstGeom prst="chevron">
            <a:avLst>
              <a:gd name="adj" fmla="val 50000"/>
            </a:avLst>
          </a:prstGeom>
          <a:solidFill>
            <a:srgbClr val="003d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8" name="燕尾形 16"/>
          <p:cNvSpPr/>
          <p:nvPr/>
        </p:nvSpPr>
        <p:spPr>
          <a:xfrm>
            <a:off x="4602240" y="2286000"/>
            <a:ext cx="2098440" cy="455400"/>
          </a:xfrm>
          <a:prstGeom prst="chevron">
            <a:avLst>
              <a:gd name="adj" fmla="val 50000"/>
            </a:avLst>
          </a:prstGeom>
          <a:solidFill>
            <a:srgbClr val="3f79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9" name="燕尾形 17"/>
          <p:cNvSpPr/>
          <p:nvPr/>
        </p:nvSpPr>
        <p:spPr>
          <a:xfrm>
            <a:off x="6797520" y="2286000"/>
            <a:ext cx="2096640" cy="455400"/>
          </a:xfrm>
          <a:prstGeom prst="chevron">
            <a:avLst>
              <a:gd name="adj" fmla="val 50000"/>
            </a:avLst>
          </a:prstGeom>
          <a:solidFill>
            <a:srgbClr val="003d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0" name="椭圆 18"/>
          <p:cNvSpPr/>
          <p:nvPr/>
        </p:nvSpPr>
        <p:spPr>
          <a:xfrm>
            <a:off x="843120" y="3591000"/>
            <a:ext cx="839520" cy="837720"/>
          </a:xfrm>
          <a:prstGeom prst="ellipse">
            <a:avLst/>
          </a:prstGeom>
          <a:solidFill>
            <a:srgbClr val="3f7998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椭圆 19"/>
          <p:cNvSpPr/>
          <p:nvPr/>
        </p:nvSpPr>
        <p:spPr>
          <a:xfrm>
            <a:off x="3038400" y="3591000"/>
            <a:ext cx="837720" cy="837720"/>
          </a:xfrm>
          <a:prstGeom prst="ellipse">
            <a:avLst/>
          </a:prstGeom>
          <a:solidFill>
            <a:srgbClr val="003d6d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2" name="椭圆 20"/>
          <p:cNvSpPr/>
          <p:nvPr/>
        </p:nvSpPr>
        <p:spPr>
          <a:xfrm>
            <a:off x="5232240" y="3591000"/>
            <a:ext cx="837720" cy="837720"/>
          </a:xfrm>
          <a:prstGeom prst="ellipse">
            <a:avLst/>
          </a:prstGeom>
          <a:solidFill>
            <a:srgbClr val="3f7998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3" name="椭圆 21"/>
          <p:cNvSpPr/>
          <p:nvPr/>
        </p:nvSpPr>
        <p:spPr>
          <a:xfrm>
            <a:off x="7426440" y="3591000"/>
            <a:ext cx="839520" cy="837720"/>
          </a:xfrm>
          <a:prstGeom prst="ellipse">
            <a:avLst/>
          </a:prstGeom>
          <a:solidFill>
            <a:srgbClr val="003d6d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78264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7354800" y="234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514044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5"/>
          <p:cNvSpPr/>
          <p:nvPr/>
        </p:nvSpPr>
        <p:spPr>
          <a:xfrm>
            <a:off x="2997360" y="234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接箭头连接符 33"/>
          <p:cNvCxnSpPr>
            <a:endCxn id="104" idx="5"/>
          </p:cNvCxnSpPr>
          <p:nvPr/>
        </p:nvCxnSpPr>
        <p:spPr>
          <a:xfrm>
            <a:off x="4771800" y="2182680"/>
            <a:ext cx="2019600" cy="122760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  <a:tailEnd len="med" type="arrow" w="med"/>
          </a:ln>
        </p:spPr>
      </p:cxnSp>
      <p:cxnSp>
        <p:nvCxnSpPr>
          <p:cNvPr id="105" name="直接箭头连接符 34"/>
          <p:cNvCxnSpPr>
            <a:endCxn id="106" idx="5"/>
          </p:cNvCxnSpPr>
          <p:nvPr/>
        </p:nvCxnSpPr>
        <p:spPr>
          <a:xfrm>
            <a:off x="4752720" y="3409920"/>
            <a:ext cx="2038680" cy="128772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  <a:tailEnd len="med" type="arrow" w="med"/>
          </a:ln>
        </p:spPr>
      </p:cxnSp>
      <p:sp>
        <p:nvSpPr>
          <p:cNvPr id="107" name="圆角矩形 7"/>
          <p:cNvSpPr/>
          <p:nvPr/>
        </p:nvSpPr>
        <p:spPr>
          <a:xfrm>
            <a:off x="351000" y="2766960"/>
            <a:ext cx="4420800" cy="1066320"/>
          </a:xfrm>
          <a:custGeom>
            <a:avLst/>
            <a:gdLst>
              <a:gd name="textAreaLeft" fmla="*/ 0 w 4420800"/>
              <a:gd name="textAreaRight" fmla="*/ 4421160 w 4420800"/>
              <a:gd name="textAreaTop" fmla="*/ 0 h 1066320"/>
              <a:gd name="textAreaBottom" fmla="*/ 1066680 h 1066320"/>
            </a:gdLst>
            <a:ahLst/>
            <a:rect l="textAreaLeft" t="textAreaTop" r="textAreaRight" b="textAreaBottom"/>
            <a:pathLst>
              <a:path w="4421028" h="1067482">
                <a:moveTo>
                  <a:pt x="273375" y="0"/>
                </a:moveTo>
                <a:cubicBezTo>
                  <a:pt x="424356" y="0"/>
                  <a:pt x="546750" y="122394"/>
                  <a:pt x="546750" y="273375"/>
                </a:cubicBezTo>
                <a:lnTo>
                  <a:pt x="4288674" y="273375"/>
                </a:lnTo>
                <a:cubicBezTo>
                  <a:pt x="4361771" y="273375"/>
                  <a:pt x="4421028" y="332632"/>
                  <a:pt x="4421028" y="405729"/>
                </a:cubicBezTo>
                <a:lnTo>
                  <a:pt x="4421028" y="935128"/>
                </a:lnTo>
                <a:cubicBezTo>
                  <a:pt x="4421028" y="1008225"/>
                  <a:pt x="4361771" y="1067482"/>
                  <a:pt x="4288674" y="1067482"/>
                </a:cubicBezTo>
                <a:lnTo>
                  <a:pt x="405729" y="1067482"/>
                </a:lnTo>
                <a:cubicBezTo>
                  <a:pt x="332632" y="1067482"/>
                  <a:pt x="273375" y="1008225"/>
                  <a:pt x="273375" y="935128"/>
                </a:cubicBezTo>
                <a:lnTo>
                  <a:pt x="273375" y="546750"/>
                </a:lnTo>
                <a:cubicBezTo>
                  <a:pt x="122394" y="546750"/>
                  <a:pt x="0" y="424356"/>
                  <a:pt x="0" y="273375"/>
                </a:cubicBezTo>
                <a:cubicBezTo>
                  <a:pt x="0" y="122394"/>
                  <a:pt x="122394" y="0"/>
                  <a:pt x="273375" y="0"/>
                </a:cubicBezTo>
                <a:close/>
              </a:path>
            </a:pathLst>
          </a:custGeom>
          <a:solidFill>
            <a:srgbClr val="3f79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圆角矩形 7"/>
          <p:cNvSpPr/>
          <p:nvPr/>
        </p:nvSpPr>
        <p:spPr>
          <a:xfrm>
            <a:off x="331920" y="1509840"/>
            <a:ext cx="4420800" cy="1066320"/>
          </a:xfrm>
          <a:custGeom>
            <a:avLst/>
            <a:gdLst>
              <a:gd name="textAreaLeft" fmla="*/ 0 w 4420800"/>
              <a:gd name="textAreaRight" fmla="*/ 4421160 w 4420800"/>
              <a:gd name="textAreaTop" fmla="*/ 0 h 1066320"/>
              <a:gd name="textAreaBottom" fmla="*/ 1066680 h 1066320"/>
            </a:gdLst>
            <a:ahLst/>
            <a:rect l="textAreaLeft" t="textAreaTop" r="textAreaRight" b="textAreaBottom"/>
            <a:pathLst>
              <a:path w="4421028" h="1067482">
                <a:moveTo>
                  <a:pt x="273375" y="0"/>
                </a:moveTo>
                <a:cubicBezTo>
                  <a:pt x="424356" y="0"/>
                  <a:pt x="546750" y="122394"/>
                  <a:pt x="546750" y="273375"/>
                </a:cubicBezTo>
                <a:lnTo>
                  <a:pt x="4288674" y="273375"/>
                </a:lnTo>
                <a:cubicBezTo>
                  <a:pt x="4361771" y="273375"/>
                  <a:pt x="4421028" y="332632"/>
                  <a:pt x="4421028" y="405729"/>
                </a:cubicBezTo>
                <a:lnTo>
                  <a:pt x="4421028" y="935128"/>
                </a:lnTo>
                <a:cubicBezTo>
                  <a:pt x="4421028" y="1008225"/>
                  <a:pt x="4361771" y="1067482"/>
                  <a:pt x="4288674" y="1067482"/>
                </a:cubicBezTo>
                <a:lnTo>
                  <a:pt x="405729" y="1067482"/>
                </a:lnTo>
                <a:cubicBezTo>
                  <a:pt x="332632" y="1067482"/>
                  <a:pt x="273375" y="1008225"/>
                  <a:pt x="273375" y="935128"/>
                </a:cubicBezTo>
                <a:lnTo>
                  <a:pt x="273375" y="546750"/>
                </a:lnTo>
                <a:cubicBezTo>
                  <a:pt x="122394" y="546750"/>
                  <a:pt x="0" y="424356"/>
                  <a:pt x="0" y="273375"/>
                </a:cubicBezTo>
                <a:cubicBezTo>
                  <a:pt x="0" y="122394"/>
                  <a:pt x="122394" y="0"/>
                  <a:pt x="273375" y="0"/>
                </a:cubicBezTo>
                <a:close/>
              </a:path>
            </a:pathLst>
          </a:custGeom>
          <a:solidFill>
            <a:srgbClr val="003d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09" name="直接箭头连接符 37"/>
          <p:cNvCxnSpPr/>
          <p:nvPr/>
        </p:nvCxnSpPr>
        <p:spPr>
          <a:xfrm flipV="1">
            <a:off x="4856040" y="2212920"/>
            <a:ext cx="1852920" cy="251496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  <a:tailEnd len="med" type="arrow" w="med"/>
          </a:ln>
        </p:spPr>
      </p:cxnSp>
      <p:sp>
        <p:nvSpPr>
          <p:cNvPr id="104" name="平行四边形 38"/>
          <p:cNvSpPr/>
          <p:nvPr/>
        </p:nvSpPr>
        <p:spPr>
          <a:xfrm>
            <a:off x="6708600" y="3084480"/>
            <a:ext cx="1961640" cy="650520"/>
          </a:xfrm>
          <a:prstGeom prst="parallelogram">
            <a:avLst>
              <a:gd name="adj" fmla="val 25000"/>
            </a:avLst>
          </a:prstGeom>
          <a:solidFill>
            <a:srgbClr val="003d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0" name="平行四边形 39"/>
          <p:cNvSpPr/>
          <p:nvPr/>
        </p:nvSpPr>
        <p:spPr>
          <a:xfrm>
            <a:off x="6737400" y="1857240"/>
            <a:ext cx="1961640" cy="649080"/>
          </a:xfrm>
          <a:prstGeom prst="parallelogram">
            <a:avLst>
              <a:gd name="adj" fmla="val 25000"/>
            </a:avLst>
          </a:prstGeom>
          <a:solidFill>
            <a:srgbClr val="3f79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1" name="圆角矩形 7"/>
          <p:cNvSpPr/>
          <p:nvPr/>
        </p:nvSpPr>
        <p:spPr>
          <a:xfrm>
            <a:off x="434880" y="4005360"/>
            <a:ext cx="4420800" cy="1066320"/>
          </a:xfrm>
          <a:custGeom>
            <a:avLst/>
            <a:gdLst>
              <a:gd name="textAreaLeft" fmla="*/ 0 w 4420800"/>
              <a:gd name="textAreaRight" fmla="*/ 4421160 w 4420800"/>
              <a:gd name="textAreaTop" fmla="*/ 0 h 1066320"/>
              <a:gd name="textAreaBottom" fmla="*/ 1066680 h 1066320"/>
            </a:gdLst>
            <a:ahLst/>
            <a:rect l="textAreaLeft" t="textAreaTop" r="textAreaRight" b="textAreaBottom"/>
            <a:pathLst>
              <a:path w="4421028" h="1067482">
                <a:moveTo>
                  <a:pt x="273375" y="0"/>
                </a:moveTo>
                <a:cubicBezTo>
                  <a:pt x="424356" y="0"/>
                  <a:pt x="546750" y="122394"/>
                  <a:pt x="546750" y="273375"/>
                </a:cubicBezTo>
                <a:lnTo>
                  <a:pt x="4288674" y="273375"/>
                </a:lnTo>
                <a:cubicBezTo>
                  <a:pt x="4361771" y="273375"/>
                  <a:pt x="4421028" y="332632"/>
                  <a:pt x="4421028" y="405729"/>
                </a:cubicBezTo>
                <a:lnTo>
                  <a:pt x="4421028" y="935128"/>
                </a:lnTo>
                <a:cubicBezTo>
                  <a:pt x="4421028" y="1008225"/>
                  <a:pt x="4361771" y="1067482"/>
                  <a:pt x="4288674" y="1067482"/>
                </a:cubicBezTo>
                <a:lnTo>
                  <a:pt x="405729" y="1067482"/>
                </a:lnTo>
                <a:cubicBezTo>
                  <a:pt x="332632" y="1067482"/>
                  <a:pt x="273375" y="1008225"/>
                  <a:pt x="273375" y="935128"/>
                </a:cubicBezTo>
                <a:lnTo>
                  <a:pt x="273375" y="546750"/>
                </a:lnTo>
                <a:cubicBezTo>
                  <a:pt x="122394" y="546750"/>
                  <a:pt x="0" y="424356"/>
                  <a:pt x="0" y="273375"/>
                </a:cubicBezTo>
                <a:cubicBezTo>
                  <a:pt x="0" y="122394"/>
                  <a:pt x="122394" y="0"/>
                  <a:pt x="273375" y="0"/>
                </a:cubicBezTo>
                <a:close/>
              </a:path>
            </a:pathLst>
          </a:custGeom>
          <a:solidFill>
            <a:srgbClr val="003d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6" name="平行四边形 41"/>
          <p:cNvSpPr/>
          <p:nvPr/>
        </p:nvSpPr>
        <p:spPr>
          <a:xfrm>
            <a:off x="6708600" y="4371840"/>
            <a:ext cx="1961640" cy="650520"/>
          </a:xfrm>
          <a:prstGeom prst="parallelogram">
            <a:avLst>
              <a:gd name="adj" fmla="val 25000"/>
            </a:avLst>
          </a:prstGeom>
          <a:solidFill>
            <a:srgbClr val="3f79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2068560" y="4510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7211880" y="4510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2139840" y="1938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1925640" y="3224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7211880" y="3224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721188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标注 6"/>
          <p:cNvSpPr/>
          <p:nvPr/>
        </p:nvSpPr>
        <p:spPr>
          <a:xfrm>
            <a:off x="1073160" y="1606680"/>
            <a:ext cx="7121160" cy="1499760"/>
          </a:xfrm>
          <a:prstGeom prst="wedgeRoundRectCallout">
            <a:avLst>
              <a:gd name="adj1" fmla="val -53013"/>
              <a:gd name="adj2" fmla="val -21011"/>
              <a:gd name="adj3" fmla="val 16667"/>
            </a:avLst>
          </a:prstGeom>
          <a:solidFill>
            <a:srgbClr val="3f7998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4" name="圆角矩形标注 7"/>
          <p:cNvSpPr/>
          <p:nvPr/>
        </p:nvSpPr>
        <p:spPr>
          <a:xfrm>
            <a:off x="1071720" y="3456000"/>
            <a:ext cx="3801600" cy="1018800"/>
          </a:xfrm>
          <a:prstGeom prst="wedgeRoundRectCallout">
            <a:avLst>
              <a:gd name="adj1" fmla="val 53427"/>
              <a:gd name="adj2" fmla="val 18381"/>
              <a:gd name="adj3" fmla="val 16667"/>
            </a:avLst>
          </a:prstGeom>
          <a:solidFill>
            <a:srgbClr val="003d6d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5" name="圆角矩形标注 8"/>
          <p:cNvSpPr/>
          <p:nvPr/>
        </p:nvSpPr>
        <p:spPr>
          <a:xfrm>
            <a:off x="1071720" y="4840200"/>
            <a:ext cx="5365440" cy="1017360"/>
          </a:xfrm>
          <a:prstGeom prst="wedgeRoundRectCallout">
            <a:avLst>
              <a:gd name="adj1" fmla="val -53013"/>
              <a:gd name="adj2" fmla="val -21011"/>
              <a:gd name="adj3" fmla="val 16667"/>
            </a:avLst>
          </a:prstGeom>
          <a:solidFill>
            <a:srgbClr val="3f7998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249732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3"/>
          <p:cNvSpPr/>
          <p:nvPr/>
        </p:nvSpPr>
        <p:spPr>
          <a:xfrm>
            <a:off x="2997360" y="5214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4"/>
          <p:cNvSpPr/>
          <p:nvPr/>
        </p:nvSpPr>
        <p:spPr>
          <a:xfrm>
            <a:off x="242568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5"/>
          <p:cNvSpPr/>
          <p:nvPr/>
        </p:nvSpPr>
        <p:spPr>
          <a:xfrm>
            <a:off x="549756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上弧形箭头 6"/>
          <p:cNvSpPr/>
          <p:nvPr/>
        </p:nvSpPr>
        <p:spPr>
          <a:xfrm>
            <a:off x="6156000" y="3049200"/>
            <a:ext cx="2448000" cy="119304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3f7998"/>
          </a:solidFill>
          <a:ln w="12700">
            <a:noFill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6" name="上弧形箭头 7"/>
          <p:cNvSpPr/>
          <p:nvPr/>
        </p:nvSpPr>
        <p:spPr>
          <a:xfrm>
            <a:off x="3367800" y="3091320"/>
            <a:ext cx="2448000" cy="119304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003d6d"/>
          </a:solidFill>
          <a:ln w="12700">
            <a:noFill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上弧形箭头 8"/>
          <p:cNvSpPr/>
          <p:nvPr/>
        </p:nvSpPr>
        <p:spPr>
          <a:xfrm>
            <a:off x="579240" y="3174480"/>
            <a:ext cx="2448000" cy="119304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3f7998"/>
          </a:solidFill>
          <a:ln w="12700">
            <a:noFill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1306440" y="2266920"/>
            <a:ext cx="9932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6"/>
          <p:cNvSpPr/>
          <p:nvPr/>
        </p:nvSpPr>
        <p:spPr>
          <a:xfrm>
            <a:off x="4095720" y="2266920"/>
            <a:ext cx="9918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3"/>
          <p:cNvSpPr/>
          <p:nvPr/>
        </p:nvSpPr>
        <p:spPr>
          <a:xfrm>
            <a:off x="6883560" y="2266920"/>
            <a:ext cx="9932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12"/>
          <p:cNvSpPr/>
          <p:nvPr/>
        </p:nvSpPr>
        <p:spPr>
          <a:xfrm>
            <a:off x="1143000" y="1952640"/>
            <a:ext cx="1190160" cy="1190160"/>
          </a:xfrm>
          <a:prstGeom prst="ellipse">
            <a:avLst/>
          </a:prstGeom>
          <a:solidFill>
            <a:srgbClr val="3f79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2" name="椭圆 13"/>
          <p:cNvSpPr/>
          <p:nvPr/>
        </p:nvSpPr>
        <p:spPr>
          <a:xfrm>
            <a:off x="6715080" y="1809720"/>
            <a:ext cx="1190160" cy="1190160"/>
          </a:xfrm>
          <a:prstGeom prst="ellipse">
            <a:avLst/>
          </a:prstGeom>
          <a:solidFill>
            <a:srgbClr val="3f79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3" name="椭圆 14"/>
          <p:cNvSpPr/>
          <p:nvPr/>
        </p:nvSpPr>
        <p:spPr>
          <a:xfrm>
            <a:off x="3929040" y="1857240"/>
            <a:ext cx="1190160" cy="1190160"/>
          </a:xfrm>
          <a:prstGeom prst="ellipse">
            <a:avLst/>
          </a:prstGeom>
          <a:solidFill>
            <a:srgbClr val="003d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矩形 12"/>
          <p:cNvSpPr/>
          <p:nvPr/>
        </p:nvSpPr>
        <p:spPr>
          <a:xfrm>
            <a:off x="12826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692640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399744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406872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36520" y="626724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156852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3"/>
          <p:cNvSpPr/>
          <p:nvPr/>
        </p:nvSpPr>
        <p:spPr>
          <a:xfrm>
            <a:off x="69976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4"/>
          <p:cNvSpPr/>
          <p:nvPr/>
        </p:nvSpPr>
        <p:spPr>
          <a:xfrm>
            <a:off x="4354560" y="5286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5"/>
          <p:cNvSpPr/>
          <p:nvPr/>
        </p:nvSpPr>
        <p:spPr>
          <a:xfrm>
            <a:off x="4354560" y="1130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79"/>
          <p:cNvSpPr/>
          <p:nvPr/>
        </p:nvSpPr>
        <p:spPr>
          <a:xfrm>
            <a:off x="2857680" y="2263680"/>
            <a:ext cx="1104480" cy="2265120"/>
          </a:xfrm>
          <a:custGeom>
            <a:avLst/>
            <a:gdLst>
              <a:gd name="textAreaLeft" fmla="*/ 0 w 1104480"/>
              <a:gd name="textAreaRight" fmla="*/ 1104840 w 1104480"/>
              <a:gd name="textAreaTop" fmla="*/ 0 h 2265120"/>
              <a:gd name="textAreaBottom" fmla="*/ 2265480 h 2265120"/>
            </a:gdLst>
            <a:ahLst/>
            <a:rect l="textAreaLeft" t="textAreaTop" r="textAreaRight" b="textAreaBottom"/>
            <a:pathLst>
              <a:path w="60" h="123">
                <a:moveTo>
                  <a:pt x="15" y="51"/>
                </a:moveTo>
                <a:cubicBezTo>
                  <a:pt x="0" y="62"/>
                  <a:pt x="0" y="62"/>
                  <a:pt x="0" y="62"/>
                </a:cubicBezTo>
                <a:cubicBezTo>
                  <a:pt x="15" y="73"/>
                  <a:pt x="15" y="73"/>
                  <a:pt x="15" y="73"/>
                </a:cubicBezTo>
                <a:cubicBezTo>
                  <a:pt x="17" y="92"/>
                  <a:pt x="25" y="109"/>
                  <a:pt x="37" y="123"/>
                </a:cubicBezTo>
                <a:cubicBezTo>
                  <a:pt x="59" y="101"/>
                  <a:pt x="59" y="101"/>
                  <a:pt x="59" y="101"/>
                </a:cubicBezTo>
                <a:cubicBezTo>
                  <a:pt x="50" y="90"/>
                  <a:pt x="45" y="77"/>
                  <a:pt x="45" y="62"/>
                </a:cubicBezTo>
                <a:cubicBezTo>
                  <a:pt x="45" y="47"/>
                  <a:pt x="51" y="33"/>
                  <a:pt x="60" y="22"/>
                </a:cubicBezTo>
                <a:cubicBezTo>
                  <a:pt x="39" y="0"/>
                  <a:pt x="39" y="0"/>
                  <a:pt x="39" y="0"/>
                </a:cubicBezTo>
                <a:cubicBezTo>
                  <a:pt x="26" y="14"/>
                  <a:pt x="17" y="32"/>
                  <a:pt x="15" y="51"/>
                </a:cubicBezTo>
                <a:close/>
              </a:path>
            </a:pathLst>
          </a:custGeom>
          <a:solidFill>
            <a:srgbClr val="003d6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9" name="Freeform 80"/>
          <p:cNvSpPr/>
          <p:nvPr/>
        </p:nvSpPr>
        <p:spPr>
          <a:xfrm>
            <a:off x="3594240" y="4181400"/>
            <a:ext cx="2325240" cy="1104480"/>
          </a:xfrm>
          <a:custGeom>
            <a:avLst/>
            <a:gdLst>
              <a:gd name="textAreaLeft" fmla="*/ 0 w 2325240"/>
              <a:gd name="textAreaRight" fmla="*/ 2325600 w 2325240"/>
              <a:gd name="textAreaTop" fmla="*/ 0 h 1104480"/>
              <a:gd name="textAreaBottom" fmla="*/ 1104840 h 1104480"/>
            </a:gdLst>
            <a:ahLst/>
            <a:rect l="textAreaLeft" t="textAreaTop" r="textAreaRight" b="textAreaBottom"/>
            <a:pathLst>
              <a:path w="126" h="60">
                <a:moveTo>
                  <a:pt x="22" y="0"/>
                </a:moveTo>
                <a:cubicBezTo>
                  <a:pt x="0" y="22"/>
                  <a:pt x="0" y="22"/>
                  <a:pt x="0" y="22"/>
                </a:cubicBezTo>
                <a:cubicBezTo>
                  <a:pt x="14" y="36"/>
                  <a:pt x="33" y="46"/>
                  <a:pt x="54" y="48"/>
                </a:cubicBezTo>
                <a:cubicBezTo>
                  <a:pt x="63" y="60"/>
                  <a:pt x="63" y="60"/>
                  <a:pt x="63" y="60"/>
                </a:cubicBezTo>
                <a:cubicBezTo>
                  <a:pt x="72" y="48"/>
                  <a:pt x="72" y="48"/>
                  <a:pt x="72" y="48"/>
                </a:cubicBezTo>
                <a:cubicBezTo>
                  <a:pt x="93" y="47"/>
                  <a:pt x="112" y="38"/>
                  <a:pt x="126" y="24"/>
                </a:cubicBezTo>
                <a:cubicBezTo>
                  <a:pt x="105" y="2"/>
                  <a:pt x="105" y="2"/>
                  <a:pt x="105" y="2"/>
                </a:cubicBezTo>
                <a:cubicBezTo>
                  <a:pt x="94" y="12"/>
                  <a:pt x="80" y="18"/>
                  <a:pt x="64" y="18"/>
                </a:cubicBezTo>
                <a:cubicBezTo>
                  <a:pt x="48" y="18"/>
                  <a:pt x="33" y="11"/>
                  <a:pt x="22" y="0"/>
                </a:cubicBezTo>
                <a:close/>
              </a:path>
            </a:pathLst>
          </a:custGeom>
          <a:solidFill>
            <a:srgbClr val="3f799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0" name="Freeform 81"/>
          <p:cNvSpPr/>
          <p:nvPr/>
        </p:nvSpPr>
        <p:spPr>
          <a:xfrm>
            <a:off x="3630600" y="1490760"/>
            <a:ext cx="2269800" cy="1120320"/>
          </a:xfrm>
          <a:custGeom>
            <a:avLst/>
            <a:gdLst>
              <a:gd name="textAreaLeft" fmla="*/ 0 w 2269800"/>
              <a:gd name="textAreaRight" fmla="*/ 2270160 w 2269800"/>
              <a:gd name="textAreaTop" fmla="*/ 0 h 1120320"/>
              <a:gd name="textAreaBottom" fmla="*/ 1120680 h 1120320"/>
            </a:gdLst>
            <a:ahLst/>
            <a:rect l="textAreaLeft" t="textAreaTop" r="textAreaRight" b="textAreaBottom"/>
            <a:pathLst>
              <a:path w="123" h="61">
                <a:moveTo>
                  <a:pt x="61" y="0"/>
                </a:moveTo>
                <a:cubicBezTo>
                  <a:pt x="50" y="15"/>
                  <a:pt x="50" y="15"/>
                  <a:pt x="50" y="15"/>
                </a:cubicBezTo>
                <a:cubicBezTo>
                  <a:pt x="31" y="17"/>
                  <a:pt x="13" y="26"/>
                  <a:pt x="0" y="39"/>
                </a:cubicBezTo>
                <a:cubicBezTo>
                  <a:pt x="22" y="61"/>
                  <a:pt x="22" y="61"/>
                  <a:pt x="22" y="61"/>
                </a:cubicBezTo>
                <a:cubicBezTo>
                  <a:pt x="32" y="51"/>
                  <a:pt x="47" y="45"/>
                  <a:pt x="62" y="45"/>
                </a:cubicBezTo>
                <a:cubicBezTo>
                  <a:pt x="77" y="45"/>
                  <a:pt x="91" y="50"/>
                  <a:pt x="101" y="59"/>
                </a:cubicBezTo>
                <a:cubicBezTo>
                  <a:pt x="123" y="37"/>
                  <a:pt x="123" y="37"/>
                  <a:pt x="123" y="37"/>
                </a:cubicBezTo>
                <a:cubicBezTo>
                  <a:pt x="109" y="25"/>
                  <a:pt x="91" y="16"/>
                  <a:pt x="72" y="14"/>
                </a:cubicBezTo>
                <a:lnTo>
                  <a:pt x="61" y="0"/>
                </a:lnTo>
                <a:close/>
              </a:path>
            </a:pathLst>
          </a:custGeom>
          <a:solidFill>
            <a:srgbClr val="3f799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1" name="Freeform 82"/>
          <p:cNvSpPr/>
          <p:nvPr/>
        </p:nvSpPr>
        <p:spPr>
          <a:xfrm>
            <a:off x="5567400" y="2227320"/>
            <a:ext cx="1109160" cy="2338200"/>
          </a:xfrm>
          <a:custGeom>
            <a:avLst/>
            <a:gdLst>
              <a:gd name="textAreaLeft" fmla="*/ 0 w 1109160"/>
              <a:gd name="textAreaRight" fmla="*/ 1109520 w 1109160"/>
              <a:gd name="textAreaTop" fmla="*/ 0 h 2338200"/>
              <a:gd name="textAreaBottom" fmla="*/ 2338560 h 2338200"/>
            </a:gdLst>
            <a:ahLst/>
            <a:rect l="textAreaLeft" t="textAreaTop" r="textAreaRight" b="textAreaBottom"/>
            <a:pathLst>
              <a:path w="60" h="127">
                <a:moveTo>
                  <a:pt x="48" y="55"/>
                </a:moveTo>
                <a:cubicBezTo>
                  <a:pt x="45" y="34"/>
                  <a:pt x="36" y="14"/>
                  <a:pt x="21" y="0"/>
                </a:cubicBezTo>
                <a:cubicBezTo>
                  <a:pt x="0" y="22"/>
                  <a:pt x="0" y="22"/>
                  <a:pt x="0" y="22"/>
                </a:cubicBezTo>
                <a:cubicBezTo>
                  <a:pt x="10" y="33"/>
                  <a:pt x="17" y="48"/>
                  <a:pt x="17" y="64"/>
                </a:cubicBezTo>
                <a:cubicBezTo>
                  <a:pt x="17" y="80"/>
                  <a:pt x="11" y="94"/>
                  <a:pt x="1" y="105"/>
                </a:cubicBezTo>
                <a:cubicBezTo>
                  <a:pt x="23" y="127"/>
                  <a:pt x="23" y="127"/>
                  <a:pt x="23" y="127"/>
                </a:cubicBezTo>
                <a:cubicBezTo>
                  <a:pt x="36" y="113"/>
                  <a:pt x="45" y="94"/>
                  <a:pt x="47" y="74"/>
                </a:cubicBezTo>
                <a:cubicBezTo>
                  <a:pt x="60" y="64"/>
                  <a:pt x="60" y="64"/>
                  <a:pt x="60" y="64"/>
                </a:cubicBezTo>
                <a:lnTo>
                  <a:pt x="48" y="55"/>
                </a:lnTo>
                <a:close/>
              </a:path>
            </a:pathLst>
          </a:custGeom>
          <a:solidFill>
            <a:srgbClr val="003d6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"/>
          <p:cNvSpPr/>
          <p:nvPr/>
        </p:nvSpPr>
        <p:spPr>
          <a:xfrm>
            <a:off x="2433600" y="2633760"/>
            <a:ext cx="609120" cy="1218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8" name="Oval 3"/>
          <p:cNvSpPr/>
          <p:nvPr/>
        </p:nvSpPr>
        <p:spPr>
          <a:xfrm>
            <a:off x="681120" y="2481120"/>
            <a:ext cx="1523520" cy="1523520"/>
          </a:xfrm>
          <a:prstGeom prst="ellipse">
            <a:avLst/>
          </a:prstGeom>
          <a:solidFill>
            <a:srgbClr val="003d6d"/>
          </a:solidFill>
          <a:ln cap="rnd"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7386480" y="2786040"/>
            <a:ext cx="828360" cy="788760"/>
          </a:xfrm>
          <a:prstGeom prst="ellipse">
            <a:avLst/>
          </a:prstGeom>
          <a:solidFill>
            <a:srgbClr val="003d6d"/>
          </a:solidFill>
          <a:ln cap="rnd"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3348000" y="1643040"/>
            <a:ext cx="2742840" cy="2971440"/>
            <a:chOff x="3348000" y="1643040"/>
            <a:chExt cx="2742840" cy="2971440"/>
          </a:xfrm>
        </p:grpSpPr>
        <p:sp>
          <p:nvSpPr>
            <p:cNvPr id="171" name="AutoShape 6"/>
            <p:cNvSpPr/>
            <p:nvPr/>
          </p:nvSpPr>
          <p:spPr>
            <a:xfrm>
              <a:off x="3348000" y="1643040"/>
              <a:ext cx="2742840" cy="594000"/>
            </a:xfrm>
            <a:prstGeom prst="roundRect">
              <a:avLst>
                <a:gd name="adj" fmla="val 16667"/>
              </a:avLst>
            </a:prstGeom>
            <a:solidFill>
              <a:srgbClr val="3f799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8000"/>
                </a:solidFill>
                <a:latin typeface="Times New Roman"/>
                <a:ea typeface="华文中宋"/>
              </a:endParaRPr>
            </a:p>
          </p:txBody>
        </p:sp>
        <p:sp>
          <p:nvSpPr>
            <p:cNvPr id="172" name="AutoShape 7"/>
            <p:cNvSpPr/>
            <p:nvPr/>
          </p:nvSpPr>
          <p:spPr>
            <a:xfrm>
              <a:off x="3348000" y="2435400"/>
              <a:ext cx="2742840" cy="594000"/>
            </a:xfrm>
            <a:prstGeom prst="roundRect">
              <a:avLst>
                <a:gd name="adj" fmla="val 16667"/>
              </a:avLst>
            </a:prstGeom>
            <a:solidFill>
              <a:srgbClr val="3f799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8000"/>
                </a:solidFill>
                <a:latin typeface="Times New Roman"/>
                <a:ea typeface="华文中宋"/>
              </a:endParaRPr>
            </a:p>
          </p:txBody>
        </p:sp>
        <p:sp>
          <p:nvSpPr>
            <p:cNvPr id="173" name="AutoShape 8"/>
            <p:cNvSpPr/>
            <p:nvPr/>
          </p:nvSpPr>
          <p:spPr>
            <a:xfrm>
              <a:off x="3348000" y="3228120"/>
              <a:ext cx="2742840" cy="594000"/>
            </a:xfrm>
            <a:prstGeom prst="roundRect">
              <a:avLst>
                <a:gd name="adj" fmla="val 16667"/>
              </a:avLst>
            </a:prstGeom>
            <a:solidFill>
              <a:srgbClr val="3f799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8000"/>
                </a:solidFill>
                <a:latin typeface="Times New Roman"/>
                <a:ea typeface="华文中宋"/>
              </a:endParaRPr>
            </a:p>
          </p:txBody>
        </p:sp>
        <p:sp>
          <p:nvSpPr>
            <p:cNvPr id="174" name="AutoShape 9"/>
            <p:cNvSpPr/>
            <p:nvPr/>
          </p:nvSpPr>
          <p:spPr>
            <a:xfrm>
              <a:off x="3348000" y="4020480"/>
              <a:ext cx="2742840" cy="594000"/>
            </a:xfrm>
            <a:prstGeom prst="roundRect">
              <a:avLst>
                <a:gd name="adj" fmla="val 16667"/>
              </a:avLst>
            </a:prstGeom>
            <a:solidFill>
              <a:srgbClr val="3f799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8000"/>
                </a:solidFill>
                <a:latin typeface="Times New Roman"/>
                <a:ea typeface="华文中宋"/>
              </a:endParaRPr>
            </a:p>
          </p:txBody>
        </p:sp>
      </p:grpSp>
      <p:sp>
        <p:nvSpPr>
          <p:cNvPr id="175" name="AutoShape 10"/>
          <p:cNvSpPr/>
          <p:nvPr/>
        </p:nvSpPr>
        <p:spPr>
          <a:xfrm>
            <a:off x="6396120" y="2633760"/>
            <a:ext cx="609120" cy="1218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414036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3"/>
          <p:cNvSpPr/>
          <p:nvPr/>
        </p:nvSpPr>
        <p:spPr>
          <a:xfrm>
            <a:off x="925560" y="3059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4"/>
          <p:cNvSpPr/>
          <p:nvPr/>
        </p:nvSpPr>
        <p:spPr>
          <a:xfrm>
            <a:off x="421164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5"/>
          <p:cNvSpPr/>
          <p:nvPr/>
        </p:nvSpPr>
        <p:spPr>
          <a:xfrm>
            <a:off x="421164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5"/>
          <p:cNvSpPr/>
          <p:nvPr/>
        </p:nvSpPr>
        <p:spPr>
          <a:xfrm>
            <a:off x="421164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236520" y="626724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3262320" y="1965240"/>
            <a:ext cx="2587320" cy="3381120"/>
          </a:xfrm>
          <a:prstGeom prst="roundRect">
            <a:avLst>
              <a:gd name="adj" fmla="val 4639"/>
            </a:avLst>
          </a:prstGeom>
          <a:noFill/>
          <a:ln w="19050">
            <a:solidFill>
              <a:srgbClr val="003d6d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6026040" y="1965240"/>
            <a:ext cx="2587320" cy="3381120"/>
          </a:xfrm>
          <a:prstGeom prst="roundRect">
            <a:avLst>
              <a:gd name="adj" fmla="val 4639"/>
            </a:avLst>
          </a:prstGeom>
          <a:noFill/>
          <a:ln w="19050">
            <a:solidFill>
              <a:srgbClr val="003d6d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6165720" y="1714320"/>
            <a:ext cx="2355480" cy="708840"/>
            <a:chOff x="6165720" y="1714320"/>
            <a:chExt cx="2355480" cy="708840"/>
          </a:xfrm>
        </p:grpSpPr>
        <p:sp>
          <p:nvSpPr>
            <p:cNvPr id="190" name="AutoShape 6"/>
            <p:cNvSpPr/>
            <p:nvPr/>
          </p:nvSpPr>
          <p:spPr>
            <a:xfrm>
              <a:off x="6165720" y="1714320"/>
              <a:ext cx="2355480" cy="708840"/>
            </a:xfrm>
            <a:prstGeom prst="roundRect">
              <a:avLst>
                <a:gd name="adj" fmla="val 16667"/>
              </a:avLst>
            </a:prstGeom>
            <a:solidFill>
              <a:srgbClr val="3f7998"/>
            </a:solidFill>
            <a:ln w="38100">
              <a:solidFill>
                <a:srgbClr val="ffff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6202440" y="1757520"/>
              <a:ext cx="2273040" cy="287640"/>
            </a:xfrm>
            <a:prstGeom prst="roundRect">
              <a:avLst>
                <a:gd name="adj" fmla="val 28356"/>
              </a:avLst>
            </a:prstGeom>
            <a:solidFill>
              <a:srgbClr val="3f7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3373560" y="1714320"/>
            <a:ext cx="2355480" cy="708840"/>
            <a:chOff x="3373560" y="1714320"/>
            <a:chExt cx="2355480" cy="708840"/>
          </a:xfrm>
        </p:grpSpPr>
        <p:sp>
          <p:nvSpPr>
            <p:cNvPr id="193" name="AutoShape 10"/>
            <p:cNvSpPr/>
            <p:nvPr/>
          </p:nvSpPr>
          <p:spPr>
            <a:xfrm>
              <a:off x="3373560" y="1714320"/>
              <a:ext cx="2355480" cy="708840"/>
            </a:xfrm>
            <a:prstGeom prst="roundRect">
              <a:avLst>
                <a:gd name="adj" fmla="val 16667"/>
              </a:avLst>
            </a:prstGeom>
            <a:solidFill>
              <a:srgbClr val="3f7998"/>
            </a:solidFill>
            <a:ln w="38100">
              <a:solidFill>
                <a:srgbClr val="ffff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4" name="AutoShape 11"/>
            <p:cNvSpPr/>
            <p:nvPr/>
          </p:nvSpPr>
          <p:spPr>
            <a:xfrm>
              <a:off x="3409920" y="1757520"/>
              <a:ext cx="2273040" cy="287640"/>
            </a:xfrm>
            <a:prstGeom prst="roundRect">
              <a:avLst>
                <a:gd name="adj" fmla="val 28356"/>
              </a:avLst>
            </a:prstGeom>
            <a:solidFill>
              <a:srgbClr val="3f7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95" name="AutoShape 13"/>
          <p:cNvSpPr/>
          <p:nvPr/>
        </p:nvSpPr>
        <p:spPr>
          <a:xfrm>
            <a:off x="500040" y="1965240"/>
            <a:ext cx="2587320" cy="3381120"/>
          </a:xfrm>
          <a:prstGeom prst="roundRect">
            <a:avLst>
              <a:gd name="adj" fmla="val 4639"/>
            </a:avLst>
          </a:prstGeom>
          <a:noFill/>
          <a:ln w="19050">
            <a:solidFill>
              <a:srgbClr val="003d6d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598320" y="1714680"/>
            <a:ext cx="2355480" cy="709200"/>
          </a:xfrm>
          <a:prstGeom prst="roundRect">
            <a:avLst>
              <a:gd name="adj" fmla="val 16667"/>
            </a:avLst>
          </a:prstGeom>
          <a:solidFill>
            <a:srgbClr val="3f7998"/>
          </a:solidFill>
          <a:ln w="38100">
            <a:solidFill>
              <a:srgbClr val="ffffff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7" name="矩形 12"/>
          <p:cNvSpPr/>
          <p:nvPr/>
        </p:nvSpPr>
        <p:spPr>
          <a:xfrm>
            <a:off x="121140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3"/>
          <p:cNvSpPr/>
          <p:nvPr/>
        </p:nvSpPr>
        <p:spPr>
          <a:xfrm>
            <a:off x="685476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4"/>
          <p:cNvSpPr/>
          <p:nvPr/>
        </p:nvSpPr>
        <p:spPr>
          <a:xfrm>
            <a:off x="414036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5"/>
          <p:cNvSpPr/>
          <p:nvPr/>
        </p:nvSpPr>
        <p:spPr>
          <a:xfrm>
            <a:off x="414036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1</TotalTime>
  <Application>LibreOffice/7.4.7.2$Linux_X86_64 LibreOffice_project/40$Build-2</Application>
  <AppVersion>15.0000</AppVersion>
  <Words>302</Words>
  <Paragraphs>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12:38:58Z</dcterms:modified>
  <cp:revision>2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