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0006296"/>
        <c:axId val="2634655"/>
      </c:barChart>
      <c:catAx>
        <c:axId val="700062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634655"/>
        <c:crosses val="autoZero"/>
        <c:auto val="1"/>
        <c:lblAlgn val="ctr"/>
        <c:lblOffset val="100"/>
        <c:noMultiLvlLbl val="0"/>
      </c:catAx>
      <c:valAx>
        <c:axId val="2634655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000629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71487974"/>
        <c:axId val="77541595"/>
      </c:barChart>
      <c:catAx>
        <c:axId val="714879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7541595"/>
        <c:crosses val="autoZero"/>
        <c:auto val="1"/>
        <c:lblAlgn val="ctr"/>
        <c:lblOffset val="100"/>
        <c:noMultiLvlLbl val="0"/>
      </c:catAx>
      <c:valAx>
        <c:axId val="77541595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148797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9171429"/>
        <c:axId val="61235611"/>
      </c:lineChart>
      <c:catAx>
        <c:axId val="691714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1235611"/>
        <c:crosses val="autoZero"/>
        <c:auto val="1"/>
        <c:lblAlgn val="ctr"/>
        <c:lblOffset val="100"/>
        <c:noMultiLvlLbl val="0"/>
      </c:catAx>
      <c:valAx>
        <c:axId val="61235611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917142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22841398"/>
        <c:axId val="37930287"/>
      </c:barChart>
      <c:catAx>
        <c:axId val="228413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7930287"/>
        <c:crosses val="autoZero"/>
        <c:auto val="1"/>
        <c:lblAlgn val="ctr"/>
        <c:lblOffset val="100"/>
        <c:noMultiLvlLbl val="0"/>
      </c:catAx>
      <c:valAx>
        <c:axId val="3793028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2841398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7FE2B-FA29-42C3-8FD9-38A60FAF6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B143E96F-8289-4615-BAE5-2614B68167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072-3C3C-4EF4-9267-09BB65B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04B-8201-448E-AC56-DAC025E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E6A-C35A-470C-A0D3-76DCF7ED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762-B267-4969-9D5D-6C66E67D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77E-D3CC-4ADA-B7E6-9E739EA7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2680-8ABC-4D57-ACF2-275155F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F3CC-029E-4A22-B4F2-7A2C8F0C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484-E836-4CE5-AF2E-C6E31D2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39EB-A92F-4F08-88C6-0E80A70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525B-6BAB-4F5E-AA27-F77653B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7C1-58D9-42AB-B0BE-A4F0999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AE9-1575-4DC0-A14E-235B7357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15BE-C646-44D0-902C-D648D15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2BDE-8EE8-4C83-87EA-BA7EF7E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C31-1F0C-4D26-9B24-C23DFDD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FF4F-53F1-4367-A7F9-CA5427A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6AA0-AC06-45FB-BF53-496A2358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DF96-03B3-4621-9B0E-1DE63672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35EE-F171-4E3D-AE0D-552DE58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2189-029A-4356-83B3-02E0F68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0476-F27B-4072-9D0C-137370C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0CAE-D3CB-453A-B2E6-4820FFE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0BF-1DAE-43B1-B440-833DE72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E29C-18FC-40CC-B2BF-F01D8AA1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A851-628F-4BE0-9E93-5051D75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86F3-C7A6-42D1-A360-80A5787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9605-3637-46CE-9BAA-A373C4B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2BCD-8A03-4E3F-B59E-8068F6F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1040-0AF5-400B-8897-1D1DF573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D7F5-5A24-4E71-AA44-361DBF20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D721-52C6-4289-873C-E262E74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509D-6D52-4AE7-84B1-4625ED3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0EC9-7E6E-4378-B8AA-8CF7CF63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5D5-26FF-4C0E-AA3C-9A294842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12E7-1D26-44C2-B4E2-76AB7460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6B8C-5B6F-46A1-8E66-D1D217B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14F6-884B-409E-9039-4CC390D4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B461-BF58-4F85-9D60-B3CE1D8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5634-D6FE-46DD-A6A1-057E0C7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8583-321E-4867-B7CF-F681030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4D48-65CD-43DF-BCB6-7DFF31C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D991-0C72-46FA-ABB9-C2581641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9A67-E7D5-4552-9881-83B29960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19D00-0C36-4AEF-89D9-07EA000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E29-83C8-4EEF-AC32-F61C673C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A617-6A36-44A9-BB8E-036E60AA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F5DB-2A6A-4173-AE3C-FD24572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21EE-7389-4FE7-BD8D-B66E233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B7C6-28B8-43B4-A6A6-96EE7672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E4E6-B506-4782-944B-E329AA1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51C6-2B6D-4E6A-8859-308691B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540B8-0E80-44F4-B9E7-73575A0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BDBE-F368-4FEC-A782-3FF5B28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3940-8A03-4416-A77F-C2D20C73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E4FB-4F7E-4B81-A900-92EDF1DC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ED1-1254-4AC4-989C-A48E2DD3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E974-D913-4B26-B314-EA7C5543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AA9F-5814-4F4E-A1C3-C41FED8D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6A0A-A88E-4768-AC9E-4085D71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3629-BE97-49FD-B6C5-D6EE493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8191-92C6-4991-B0DA-AF89222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C0AA-2F7D-4784-8F8C-229E9DC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C819-DB92-42D6-9B1C-04043A2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C1CD-1E77-4F63-82F3-0609176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0ACD-955C-4F1A-872F-70D75E7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7F72D-7C50-44D2-A679-4B9323CB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321-3A02-4F2B-B835-6D068CC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60BD-0828-4A10-81BC-DBC5E563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1F65-1C59-42C3-B0D5-7671DAA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F6F3-1348-4B3F-95B2-76CCE89D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FFD0D-D159-4351-811C-B7CB18C4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AE1D-BB3B-4606-B928-8CF81DA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73D1-7B54-461F-9EB3-BFF6F6A1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900B-5ECB-4710-9DA6-91B45765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DFD7-434E-450A-83B1-8A787D6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F9E5-0F69-4B36-A6F4-7285011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FE242-0D49-4601-96B8-13BE7A1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E4E-45CB-4BCD-A4CF-E7EA7DB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F639-DFEE-456E-93A8-4B04C88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42B5-874E-4A99-BEB1-CAAB88C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1BCB-FC25-48D8-A7B4-B4AEF653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E207-4C4C-4942-8AD0-942BC54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4A08-3663-49E6-BB06-AB5B9D73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9E5E-D103-4F09-B498-8D83987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50B6B-A64D-4BB4-A328-450169B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B33CD-8276-40A1-B321-6B4A910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0F39-28D6-46FB-AD67-7B8DCF7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AED3-AE6A-4EBF-BE61-312D296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4C8-8E37-400A-B28A-BC250EDF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124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AD71-39C2-4A3E-AA90-C932D5D0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6CEB-9F62-4337-977C-1C88B73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2F426-AE20-4791-BF17-2F222AC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DFFC-09C6-40A7-8996-46F2BCE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FE312-1175-4FF8-B0C6-63F0710E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B503-CDA2-4D18-B278-12000BCA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39D3C-C084-48D7-AC68-4840A48D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2)\新建文件夹\bg1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66E5D8A-F5D0-45E8-9DA7-FCA9BDF950C6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ACE523-5DCC-4BA7-8351-0D5C98A4399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:\SLIDEtoME\TP模板\新建文件夹 (2)\新建文件夹\bg2.jpg"/>
          <p:cNvPicPr/>
          <p:nvPr/>
        </p:nvPicPr>
        <p:blipFill>
          <a:blip r:embed="rId3"/>
          <a:stretch/>
        </p:blipFill>
        <p:spPr>
          <a:xfrm>
            <a:off x="4680" y="3600"/>
            <a:ext cx="9138960" cy="6854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F8FE912-44F9-47A4-8D3F-9A83CEDB2E3F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B4670D-CFCC-499B-9E23-253AFDEFEF6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A0EC885-C175-4F67-A4C9-06F5031FF1B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B61E64-5708-4D09-BB96-5D3ACAB95DC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96720C-AEF1-4265-AFAC-4E2047350DE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D:\SLIDEtoME\TP模板\新建文件夹 (2)\新建文件夹\bg3.jpg"/>
          <p:cNvPicPr/>
          <p:nvPr/>
        </p:nvPicPr>
        <p:blipFill>
          <a:blip r:embed="rId2"/>
          <a:stretch/>
        </p:blipFill>
        <p:spPr>
          <a:xfrm>
            <a:off x="0" y="-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2)\新建文件夹\bg1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B4A8A4E-BF7E-4486-A7AF-B17AAE72C9E1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绿色环保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4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813221C-03ED-4F02-9F37-9FC0DF2336C8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EE9A7-9E6B-417C-B540-9EB90899CBB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40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80D-E4E8-4C99-AF3E-7528857EE2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F8EBEEC-A557-4737-803E-C7EA8E8BE82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12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191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80EB-947A-45B9-954B-6FE0A6F44E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ED5A78C7-5B2C-4568-AFFC-5A656FFC071E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98F044-8BB0-45BB-92E6-102FE3D684F1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30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D35A1-D85A-4B51-B9B9-503E506CA6F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b050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A8B1-0F38-469E-B5D3-7053ACDF7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8155092-A24E-4CFC-A6DB-130316C03972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9"/>
          <p:cNvSpPr/>
          <p:nvPr/>
        </p:nvSpPr>
        <p:spPr>
          <a:xfrm>
            <a:off x="786240" y="30906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5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2280-2D58-4A87-826E-439D88F668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7EBA5032-CAE0-4D33-AB54-9C5BCDC2D2E8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66503056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9" name="Text Box 6"/>
          <p:cNvSpPr/>
          <p:nvPr/>
        </p:nvSpPr>
        <p:spPr>
          <a:xfrm>
            <a:off x="683640" y="6285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6E76-3DEC-43B8-8825-3240FC2DD5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3679B5F-6A83-4D83-AF2E-14EEE54B230C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21264633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67352-D7F2-4857-903F-B3D64DD2CC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9E2541BE-F941-43FB-B01E-37173FBEB700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2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3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BE40-5CA3-44C5-AC5E-F11A736276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907BB428-CC2A-4C5D-93D6-404794C13BC5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8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C518-80C9-44A9-BEF3-99FD809F51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35D0BED0-21AE-47F8-9C36-804EB83781FB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30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1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683640" y="6361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b4b4b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0EB1-CFFB-45B0-8BA4-7F42710F4C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9DE6D0F9-D69F-4A11-A3AD-3FD0B4FE75EA}" type="datetime1">
              <a:rPr lang="en-US"/>
              <a:t>07/30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95">
  <a:themeElements>
    <a:clrScheme name="www.slideto.Me green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b050"/>
      </a:accent1>
      <a:accent2>
        <a:srgbClr val="92d050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95</Template>
  <TotalTime>1</TotalTime>
  <Application>LibreOffice/7.4.7.2$Linux_X86_64 LibreOffice_project/40$Build-2</Application>
  <AppVersion>15.0000</AppVersion>
  <Words>529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13:19:08Z</dcterms:created>
  <dc:creator>lenovo</dc:creator>
  <dc:description>我爱PPT中文网</dc:description>
  <cp:keywords>XS-普屏 4：3 SC-深灰色 BG-浅色 DH-静态 XJ-二级</cp:keywords>
  <dc:language>en-US</dc:language>
  <cp:lastModifiedBy>王玉清</cp:lastModifiedBy>
  <dcterms:modified xsi:type="dcterms:W3CDTF">2016-02-22T02:56:44Z</dcterms:modified>
  <cp:revision>3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