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7BE6A-CF98-42EF-8E9E-B306DA0E4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D4146D-FE50-42D6-88E9-7D7E457C54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40" name="矩形 2"/>
          <p:cNvSpPr/>
          <p:nvPr/>
        </p:nvSpPr>
        <p:spPr>
          <a:xfrm>
            <a:off x="1763640" y="0"/>
            <a:ext cx="7380000" cy="515700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1080"/>
            <a:ext cx="9143640" cy="5140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5157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2"/>
          <p:cNvSpPr/>
          <p:nvPr/>
        </p:nvSpPr>
        <p:spPr>
          <a:xfrm>
            <a:off x="0" y="0"/>
            <a:ext cx="7380000" cy="5157000"/>
          </a:xfrm>
          <a:prstGeom prst="rect">
            <a:avLst/>
          </a:prstGeom>
          <a:solidFill>
            <a:schemeClr val="bg1">
              <a:alpha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hyperlink" Target="http://www.eeppt.com/moban/zhongguofeng/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4" name="直接连接符 5"/>
          <p:cNvCxnSpPr/>
          <p:nvPr/>
        </p:nvCxnSpPr>
        <p:spPr>
          <a:xfrm>
            <a:off x="2569680" y="627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5" name="TextBox 8"/>
          <p:cNvSpPr/>
          <p:nvPr/>
        </p:nvSpPr>
        <p:spPr>
          <a:xfrm>
            <a:off x="569520" y="2296080"/>
            <a:ext cx="149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2786040" y="1360440"/>
            <a:ext cx="6106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蓝色森林动态</a:t>
            </a:r>
            <a:r>
              <a:rPr b="0" lang="en-US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PPT</a:t>
            </a:r>
            <a:r>
              <a:rPr b="0" lang="zh-CN" sz="4000" spc="-1" strike="noStrike">
                <a:ln>
                  <a:solidFill>
                    <a:srgbClr val="d9d9d9"/>
                  </a:solidFill>
                </a:ln>
                <a:solidFill>
                  <a:srgbClr val="ffffff"/>
                </a:solidFill>
                <a:latin typeface="经典特宋简"/>
                <a:ea typeface="经典特宋简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0"/>
          <p:cNvSpPr/>
          <p:nvPr/>
        </p:nvSpPr>
        <p:spPr>
          <a:xfrm>
            <a:off x="2843640" y="2283840"/>
            <a:ext cx="3384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你的副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>
            <a:off x="2876040" y="3147840"/>
            <a:ext cx="4215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负责人：喜洋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2866680" y="3611880"/>
            <a:ext cx="2566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316800" y="47955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圆角矩形 166"/>
          <p:cNvSpPr/>
          <p:nvPr/>
        </p:nvSpPr>
        <p:spPr>
          <a:xfrm>
            <a:off x="323640" y="15048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67" name="Group 2"/>
          <p:cNvGrpSpPr/>
          <p:nvPr/>
        </p:nvGrpSpPr>
        <p:grpSpPr>
          <a:xfrm>
            <a:off x="2855520" y="1060920"/>
            <a:ext cx="4176360" cy="3828600"/>
            <a:chOff x="2855520" y="1060920"/>
            <a:chExt cx="4176360" cy="3828600"/>
          </a:xfrm>
        </p:grpSpPr>
        <p:sp>
          <p:nvSpPr>
            <p:cNvPr id="468" name="Freeform 3"/>
            <p:cNvSpPr/>
            <p:nvPr/>
          </p:nvSpPr>
          <p:spPr>
            <a:xfrm>
              <a:off x="4943880" y="1756440"/>
              <a:ext cx="2088000" cy="31330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3133080"/>
                <a:gd name="textAreaBottom" fmla="*/ 3133440 h 3133080"/>
              </a:gdLst>
              <a:ahLst/>
              <a:rect l="textAreaLeft" t="textAreaTop" r="textAreaRight" b="textAreaBottom"/>
              <a:pathLst>
                <a:path w="1270" h="1905">
                  <a:moveTo>
                    <a:pt x="0" y="1905"/>
                  </a:moveTo>
                  <a:lnTo>
                    <a:pt x="0" y="1481"/>
                  </a:lnTo>
                  <a:lnTo>
                    <a:pt x="423" y="1270"/>
                  </a:lnTo>
                  <a:lnTo>
                    <a:pt x="423" y="847"/>
                  </a:lnTo>
                  <a:lnTo>
                    <a:pt x="846" y="635"/>
                  </a:lnTo>
                  <a:lnTo>
                    <a:pt x="846" y="212"/>
                  </a:lnTo>
                  <a:lnTo>
                    <a:pt x="1270" y="0"/>
                  </a:lnTo>
                  <a:lnTo>
                    <a:pt x="1270" y="1270"/>
                  </a:lnTo>
                  <a:lnTo>
                    <a:pt x="0" y="1905"/>
                  </a:lnTo>
                  <a:close/>
                </a:path>
              </a:pathLst>
            </a:cu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4"/>
            <p:cNvSpPr/>
            <p:nvPr/>
          </p:nvSpPr>
          <p:spPr>
            <a:xfrm>
              <a:off x="2855520" y="3496680"/>
              <a:ext cx="2088000" cy="139284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70" h="847">
                  <a:moveTo>
                    <a:pt x="1270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70" y="847"/>
                  </a:lnTo>
                  <a:lnTo>
                    <a:pt x="1270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5"/>
            <p:cNvSpPr/>
            <p:nvPr/>
          </p:nvSpPr>
          <p:spPr>
            <a:xfrm>
              <a:off x="3552840" y="2452320"/>
              <a:ext cx="2086200" cy="13928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92840"/>
                <a:gd name="textAreaBottom" fmla="*/ 1393200 h 1392840"/>
              </a:gdLst>
              <a:ahLst/>
              <a:rect l="textAreaLeft" t="textAreaTop" r="textAreaRight" b="textAreaBottom"/>
              <a:pathLst>
                <a:path w="1269" h="847">
                  <a:moveTo>
                    <a:pt x="1269" y="424"/>
                  </a:moveTo>
                  <a:lnTo>
                    <a:pt x="0" y="0"/>
                  </a:lnTo>
                  <a:lnTo>
                    <a:pt x="0" y="424"/>
                  </a:lnTo>
                  <a:lnTo>
                    <a:pt x="1269" y="847"/>
                  </a:lnTo>
                  <a:lnTo>
                    <a:pt x="1269" y="424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6"/>
            <p:cNvSpPr/>
            <p:nvPr/>
          </p:nvSpPr>
          <p:spPr>
            <a:xfrm>
              <a:off x="4259880" y="1409400"/>
              <a:ext cx="2086200" cy="1391040"/>
            </a:xfrm>
            <a:custGeom>
              <a:avLst/>
              <a:gdLst>
                <a:gd name="textAreaLeft" fmla="*/ 0 w 2086200"/>
                <a:gd name="textAreaRight" fmla="*/ 2086560 w 2086200"/>
                <a:gd name="textAreaTop" fmla="*/ 0 h 1391040"/>
                <a:gd name="textAreaBottom" fmla="*/ 1391400 h 1391040"/>
              </a:gdLst>
              <a:ahLst/>
              <a:rect l="textAreaLeft" t="textAreaTop" r="textAreaRight" b="textAreaBottom"/>
              <a:pathLst>
                <a:path w="1269" h="846">
                  <a:moveTo>
                    <a:pt x="1269" y="423"/>
                  </a:moveTo>
                  <a:lnTo>
                    <a:pt x="0" y="0"/>
                  </a:lnTo>
                  <a:lnTo>
                    <a:pt x="0" y="423"/>
                  </a:lnTo>
                  <a:lnTo>
                    <a:pt x="1269" y="846"/>
                  </a:lnTo>
                  <a:lnTo>
                    <a:pt x="1269" y="423"/>
                  </a:lnTo>
                  <a:close/>
                </a:path>
              </a:pathLst>
            </a:custGeom>
            <a:solidFill>
              <a:schemeClr val="tx2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7"/>
            <p:cNvSpPr/>
            <p:nvPr/>
          </p:nvSpPr>
          <p:spPr>
            <a:xfrm>
              <a:off x="4248360" y="1060920"/>
              <a:ext cx="2783520" cy="104400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3" h="635">
                  <a:moveTo>
                    <a:pt x="1693" y="423"/>
                  </a:moveTo>
                  <a:lnTo>
                    <a:pt x="423" y="0"/>
                  </a:lnTo>
                  <a:lnTo>
                    <a:pt x="0" y="212"/>
                  </a:lnTo>
                  <a:lnTo>
                    <a:pt x="1269" y="635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8"/>
            <p:cNvSpPr/>
            <p:nvPr/>
          </p:nvSpPr>
          <p:spPr>
            <a:xfrm>
              <a:off x="3552840" y="2105280"/>
              <a:ext cx="2782080" cy="1044000"/>
            </a:xfrm>
            <a:custGeom>
              <a:avLst/>
              <a:gdLst>
                <a:gd name="textAreaLeft" fmla="*/ 0 w 2782080"/>
                <a:gd name="textAreaRight" fmla="*/ 2782440 w 2782080"/>
                <a:gd name="textAreaTop" fmla="*/ 0 h 1044000"/>
                <a:gd name="textAreaBottom" fmla="*/ 1044360 h 1044000"/>
              </a:gdLst>
              <a:ahLst/>
              <a:rect l="textAreaLeft" t="textAreaTop" r="textAreaRight" b="textAreaBottom"/>
              <a:pathLst>
                <a:path w="1692" h="635">
                  <a:moveTo>
                    <a:pt x="1692" y="423"/>
                  </a:moveTo>
                  <a:lnTo>
                    <a:pt x="423" y="0"/>
                  </a:lnTo>
                  <a:lnTo>
                    <a:pt x="0" y="211"/>
                  </a:lnTo>
                  <a:lnTo>
                    <a:pt x="1269" y="635"/>
                  </a:lnTo>
                  <a:lnTo>
                    <a:pt x="1692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9"/>
            <p:cNvSpPr/>
            <p:nvPr/>
          </p:nvSpPr>
          <p:spPr>
            <a:xfrm>
              <a:off x="2855520" y="3149640"/>
              <a:ext cx="2783520" cy="1042560"/>
            </a:xfrm>
            <a:custGeom>
              <a:avLst/>
              <a:gdLst>
                <a:gd name="textAreaLeft" fmla="*/ 0 w 2783520"/>
                <a:gd name="textAreaRight" fmla="*/ 2783880 w 2783520"/>
                <a:gd name="textAreaTop" fmla="*/ 0 h 1042560"/>
                <a:gd name="textAreaBottom" fmla="*/ 1042920 h 1042560"/>
              </a:gdLst>
              <a:ahLst/>
              <a:rect l="textAreaLeft" t="textAreaTop" r="textAreaRight" b="textAreaBottom"/>
              <a:pathLst>
                <a:path w="1693" h="634">
                  <a:moveTo>
                    <a:pt x="1693" y="423"/>
                  </a:moveTo>
                  <a:lnTo>
                    <a:pt x="424" y="0"/>
                  </a:lnTo>
                  <a:lnTo>
                    <a:pt x="0" y="211"/>
                  </a:lnTo>
                  <a:lnTo>
                    <a:pt x="1270" y="634"/>
                  </a:lnTo>
                  <a:lnTo>
                    <a:pt x="1693" y="423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c6d9f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Freeform 10"/>
          <p:cNvSpPr/>
          <p:nvPr/>
        </p:nvSpPr>
        <p:spPr>
          <a:xfrm>
            <a:off x="4944600" y="1748160"/>
            <a:ext cx="2087280" cy="3133440"/>
          </a:xfrm>
          <a:custGeom>
            <a:avLst/>
            <a:gdLst>
              <a:gd name="textAreaLeft" fmla="*/ 0 w 2087280"/>
              <a:gd name="textAreaRight" fmla="*/ 2087640 w 2087280"/>
              <a:gd name="textAreaTop" fmla="*/ 0 h 3133440"/>
              <a:gd name="textAreaBottom" fmla="*/ 3133800 h 3133440"/>
            </a:gdLst>
            <a:ahLst/>
            <a:rect l="textAreaLeft" t="textAreaTop" r="textAreaRight" b="textAreaBottom"/>
            <a:pathLst>
              <a:path w="1270" h="1905">
                <a:moveTo>
                  <a:pt x="0" y="1905"/>
                </a:moveTo>
                <a:lnTo>
                  <a:pt x="0" y="1481"/>
                </a:lnTo>
                <a:lnTo>
                  <a:pt x="423" y="1270"/>
                </a:lnTo>
                <a:lnTo>
                  <a:pt x="423" y="847"/>
                </a:lnTo>
                <a:lnTo>
                  <a:pt x="846" y="635"/>
                </a:lnTo>
                <a:lnTo>
                  <a:pt x="846" y="212"/>
                </a:lnTo>
                <a:lnTo>
                  <a:pt x="1270" y="0"/>
                </a:lnTo>
                <a:lnTo>
                  <a:pt x="1270" y="1270"/>
                </a:lnTo>
                <a:lnTo>
                  <a:pt x="0" y="1905"/>
                </a:lnTo>
                <a:close/>
              </a:path>
            </a:pathLst>
          </a:custGeom>
          <a:gradFill rotWithShape="0">
            <a:gsLst>
              <a:gs pos="10000">
                <a:srgbClr val="002060"/>
              </a:gs>
              <a:gs pos="100000">
                <a:srgbClr val="000000">
                  <a:alpha val="0"/>
                </a:srgbClr>
              </a:gs>
            </a:gsLst>
            <a:lin ang="135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Group 11"/>
          <p:cNvGrpSpPr/>
          <p:nvPr/>
        </p:nvGrpSpPr>
        <p:grpSpPr>
          <a:xfrm>
            <a:off x="3072960" y="3905640"/>
            <a:ext cx="974520" cy="1114200"/>
            <a:chOff x="3072960" y="3905640"/>
            <a:chExt cx="974520" cy="1114200"/>
          </a:xfrm>
        </p:grpSpPr>
        <p:sp>
          <p:nvSpPr>
            <p:cNvPr id="477" name="Oval 12"/>
            <p:cNvSpPr/>
            <p:nvPr/>
          </p:nvSpPr>
          <p:spPr>
            <a:xfrm>
              <a:off x="3072960" y="4696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8" name="Group 13"/>
            <p:cNvGrpSpPr/>
            <p:nvPr/>
          </p:nvGrpSpPr>
          <p:grpSpPr>
            <a:xfrm>
              <a:off x="3074760" y="3905640"/>
              <a:ext cx="972720" cy="972720"/>
              <a:chOff x="3074760" y="3905640"/>
              <a:chExt cx="972720" cy="972720"/>
            </a:xfrm>
          </p:grpSpPr>
          <p:grpSp>
            <p:nvGrpSpPr>
              <p:cNvPr id="479" name="Group 14"/>
              <p:cNvGrpSpPr/>
              <p:nvPr/>
            </p:nvGrpSpPr>
            <p:grpSpPr>
              <a:xfrm>
                <a:off x="3074760" y="3905640"/>
                <a:ext cx="972720" cy="972720"/>
                <a:chOff x="3074760" y="3905640"/>
                <a:chExt cx="972720" cy="972720"/>
              </a:xfrm>
            </p:grpSpPr>
            <p:sp>
              <p:nvSpPr>
                <p:cNvPr id="480" name="Oval 15"/>
                <p:cNvSpPr/>
                <p:nvPr/>
              </p:nvSpPr>
              <p:spPr>
                <a:xfrm>
                  <a:off x="3074760" y="390564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4a45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81" name="Group 16"/>
                <p:cNvGrpSpPr/>
                <p:nvPr/>
              </p:nvGrpSpPr>
              <p:grpSpPr>
                <a:xfrm>
                  <a:off x="3156120" y="3932280"/>
                  <a:ext cx="811080" cy="266040"/>
                  <a:chOff x="3156120" y="3932280"/>
                  <a:chExt cx="811080" cy="266040"/>
                </a:xfrm>
              </p:grpSpPr>
              <p:sp>
                <p:nvSpPr>
                  <p:cNvPr id="482" name="Freeform 17"/>
                  <p:cNvSpPr/>
                  <p:nvPr/>
                </p:nvSpPr>
                <p:spPr>
                  <a:xfrm>
                    <a:off x="3156120" y="393228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83" name="Oval 18"/>
                  <p:cNvSpPr/>
                  <p:nvPr/>
                </p:nvSpPr>
                <p:spPr>
                  <a:xfrm>
                    <a:off x="3460320" y="393228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84" name="Text Box 19"/>
              <p:cNvSpPr/>
              <p:nvPr/>
            </p:nvSpPr>
            <p:spPr>
              <a:xfrm>
                <a:off x="3283560" y="417384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Group 20"/>
          <p:cNvGrpSpPr/>
          <p:nvPr/>
        </p:nvGrpSpPr>
        <p:grpSpPr>
          <a:xfrm>
            <a:off x="3789000" y="2826000"/>
            <a:ext cx="974520" cy="1114200"/>
            <a:chOff x="3789000" y="2826000"/>
            <a:chExt cx="974520" cy="1114200"/>
          </a:xfrm>
        </p:grpSpPr>
        <p:sp>
          <p:nvSpPr>
            <p:cNvPr id="486" name="Oval 21"/>
            <p:cNvSpPr/>
            <p:nvPr/>
          </p:nvSpPr>
          <p:spPr>
            <a:xfrm>
              <a:off x="3789000" y="361656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7" name="Group 22"/>
            <p:cNvGrpSpPr/>
            <p:nvPr/>
          </p:nvGrpSpPr>
          <p:grpSpPr>
            <a:xfrm>
              <a:off x="3790800" y="2826000"/>
              <a:ext cx="972720" cy="972720"/>
              <a:chOff x="3790800" y="2826000"/>
              <a:chExt cx="972720" cy="972720"/>
            </a:xfrm>
          </p:grpSpPr>
          <p:grpSp>
            <p:nvGrpSpPr>
              <p:cNvPr id="488" name="Group 23"/>
              <p:cNvGrpSpPr/>
              <p:nvPr/>
            </p:nvGrpSpPr>
            <p:grpSpPr>
              <a:xfrm>
                <a:off x="3790800" y="2826000"/>
                <a:ext cx="972720" cy="972720"/>
                <a:chOff x="3790800" y="2826000"/>
                <a:chExt cx="972720" cy="972720"/>
              </a:xfrm>
            </p:grpSpPr>
            <p:sp>
              <p:nvSpPr>
                <p:cNvPr id="489" name="Oval 24"/>
                <p:cNvSpPr/>
                <p:nvPr/>
              </p:nvSpPr>
              <p:spPr>
                <a:xfrm>
                  <a:off x="3790800" y="282600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0" name="Group 25"/>
                <p:cNvGrpSpPr/>
                <p:nvPr/>
              </p:nvGrpSpPr>
              <p:grpSpPr>
                <a:xfrm>
                  <a:off x="3872160" y="2853000"/>
                  <a:ext cx="811080" cy="266040"/>
                  <a:chOff x="3872160" y="2853000"/>
                  <a:chExt cx="811080" cy="266040"/>
                </a:xfrm>
              </p:grpSpPr>
              <p:sp>
                <p:nvSpPr>
                  <p:cNvPr id="491" name="Freeform 26"/>
                  <p:cNvSpPr/>
                  <p:nvPr/>
                </p:nvSpPr>
                <p:spPr>
                  <a:xfrm>
                    <a:off x="3872160" y="285300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492" name="Oval 27"/>
                  <p:cNvSpPr/>
                  <p:nvPr/>
                </p:nvSpPr>
                <p:spPr>
                  <a:xfrm>
                    <a:off x="4176000" y="285300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493" name="Text Box 28"/>
              <p:cNvSpPr/>
              <p:nvPr/>
            </p:nvSpPr>
            <p:spPr>
              <a:xfrm>
                <a:off x="3999600" y="309456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29"/>
          <p:cNvGrpSpPr/>
          <p:nvPr/>
        </p:nvGrpSpPr>
        <p:grpSpPr>
          <a:xfrm>
            <a:off x="5160600" y="736920"/>
            <a:ext cx="974520" cy="1114200"/>
            <a:chOff x="5160600" y="736920"/>
            <a:chExt cx="974520" cy="1114200"/>
          </a:xfrm>
        </p:grpSpPr>
        <p:sp>
          <p:nvSpPr>
            <p:cNvPr id="495" name="Oval 30"/>
            <p:cNvSpPr/>
            <p:nvPr/>
          </p:nvSpPr>
          <p:spPr>
            <a:xfrm>
              <a:off x="5160600" y="152748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6" name="Group 31"/>
            <p:cNvGrpSpPr/>
            <p:nvPr/>
          </p:nvGrpSpPr>
          <p:grpSpPr>
            <a:xfrm>
              <a:off x="5162400" y="736920"/>
              <a:ext cx="972720" cy="972720"/>
              <a:chOff x="5162400" y="736920"/>
              <a:chExt cx="972720" cy="972720"/>
            </a:xfrm>
          </p:grpSpPr>
          <p:grpSp>
            <p:nvGrpSpPr>
              <p:cNvPr id="497" name="Group 32"/>
              <p:cNvGrpSpPr/>
              <p:nvPr/>
            </p:nvGrpSpPr>
            <p:grpSpPr>
              <a:xfrm>
                <a:off x="5162400" y="736920"/>
                <a:ext cx="972720" cy="972720"/>
                <a:chOff x="5162400" y="736920"/>
                <a:chExt cx="972720" cy="972720"/>
              </a:xfrm>
            </p:grpSpPr>
            <p:sp>
              <p:nvSpPr>
                <p:cNvPr id="498" name="Oval 33"/>
                <p:cNvSpPr/>
                <p:nvPr/>
              </p:nvSpPr>
              <p:spPr>
                <a:xfrm>
                  <a:off x="5162400" y="736920"/>
                  <a:ext cx="972720" cy="972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70c0"/>
                    </a:gs>
                    <a:gs pos="100000">
                      <a:srgbClr val="00206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499" name="Group 34"/>
                <p:cNvGrpSpPr/>
                <p:nvPr/>
              </p:nvGrpSpPr>
              <p:grpSpPr>
                <a:xfrm>
                  <a:off x="5243760" y="763920"/>
                  <a:ext cx="811080" cy="266040"/>
                  <a:chOff x="5243760" y="763920"/>
                  <a:chExt cx="811080" cy="266040"/>
                </a:xfrm>
              </p:grpSpPr>
              <p:sp>
                <p:nvSpPr>
                  <p:cNvPr id="500" name="Freeform 35"/>
                  <p:cNvSpPr/>
                  <p:nvPr/>
                </p:nvSpPr>
                <p:spPr>
                  <a:xfrm>
                    <a:off x="5243760" y="76392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01" name="Oval 36"/>
                  <p:cNvSpPr/>
                  <p:nvPr/>
                </p:nvSpPr>
                <p:spPr>
                  <a:xfrm>
                    <a:off x="5547600" y="76392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02" name="Text Box 37"/>
              <p:cNvSpPr/>
              <p:nvPr/>
            </p:nvSpPr>
            <p:spPr>
              <a:xfrm>
                <a:off x="5371200" y="100512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Group 38"/>
          <p:cNvGrpSpPr/>
          <p:nvPr/>
        </p:nvGrpSpPr>
        <p:grpSpPr>
          <a:xfrm>
            <a:off x="4476600" y="1781640"/>
            <a:ext cx="974160" cy="1114200"/>
            <a:chOff x="4476600" y="1781640"/>
            <a:chExt cx="974160" cy="1114200"/>
          </a:xfrm>
        </p:grpSpPr>
        <p:sp>
          <p:nvSpPr>
            <p:cNvPr id="504" name="Oval 39"/>
            <p:cNvSpPr/>
            <p:nvPr/>
          </p:nvSpPr>
          <p:spPr>
            <a:xfrm>
              <a:off x="4476600" y="2572200"/>
              <a:ext cx="936360" cy="323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5" name="Group 40"/>
            <p:cNvGrpSpPr/>
            <p:nvPr/>
          </p:nvGrpSpPr>
          <p:grpSpPr>
            <a:xfrm>
              <a:off x="4478040" y="1781640"/>
              <a:ext cx="972720" cy="972720"/>
              <a:chOff x="4478040" y="1781640"/>
              <a:chExt cx="972720" cy="972720"/>
            </a:xfrm>
          </p:grpSpPr>
          <p:grpSp>
            <p:nvGrpSpPr>
              <p:cNvPr id="506" name="Group 41"/>
              <p:cNvGrpSpPr/>
              <p:nvPr/>
            </p:nvGrpSpPr>
            <p:grpSpPr>
              <a:xfrm>
                <a:off x="4478040" y="1781640"/>
                <a:ext cx="972720" cy="972720"/>
                <a:chOff x="4478040" y="1781640"/>
                <a:chExt cx="972720" cy="972720"/>
              </a:xfrm>
            </p:grpSpPr>
            <p:sp>
              <p:nvSpPr>
                <p:cNvPr id="507" name="Oval 42"/>
                <p:cNvSpPr/>
                <p:nvPr/>
              </p:nvSpPr>
              <p:spPr>
                <a:xfrm>
                  <a:off x="4478040" y="1781640"/>
                  <a:ext cx="972720" cy="972720"/>
                </a:xfrm>
                <a:prstGeom prst="ellipse">
                  <a:avLst/>
                </a:prstGeom>
                <a:solidFill>
                  <a:srgbClr val="9e9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08" name="Group 43"/>
                <p:cNvGrpSpPr/>
                <p:nvPr/>
              </p:nvGrpSpPr>
              <p:grpSpPr>
                <a:xfrm>
                  <a:off x="4559400" y="1808280"/>
                  <a:ext cx="811080" cy="266040"/>
                  <a:chOff x="4559400" y="1808280"/>
                  <a:chExt cx="811080" cy="266040"/>
                </a:xfrm>
              </p:grpSpPr>
              <p:sp>
                <p:nvSpPr>
                  <p:cNvPr id="509" name="Freeform 44"/>
                  <p:cNvSpPr/>
                  <p:nvPr/>
                </p:nvSpPr>
                <p:spPr>
                  <a:xfrm>
                    <a:off x="4559400" y="1808280"/>
                    <a:ext cx="811080" cy="266040"/>
                  </a:xfrm>
                  <a:custGeom>
                    <a:avLst/>
                    <a:gdLst>
                      <a:gd name="textAreaLeft" fmla="*/ 0 w 811080"/>
                      <a:gd name="textAreaRight" fmla="*/ 811440 w 811080"/>
                      <a:gd name="textAreaTop" fmla="*/ 0 h 266040"/>
                      <a:gd name="textAreaBottom" fmla="*/ 266400 h 266040"/>
                    </a:gdLst>
                    <a:ahLst/>
                    <a:rect l="textAreaLeft" t="textAreaTop" r="textAreaRight" b="textAreaBottom"/>
                    <a:pathLst>
                      <a:path w="4756" h="1576">
                        <a:moveTo>
                          <a:pt x="0" y="1576"/>
                        </a:moveTo>
                        <a:lnTo>
                          <a:pt x="0" y="1576"/>
                        </a:lnTo>
                        <a:lnTo>
                          <a:pt x="24" y="1518"/>
                        </a:lnTo>
                        <a:lnTo>
                          <a:pt x="50" y="1462"/>
                        </a:lnTo>
                        <a:lnTo>
                          <a:pt x="78" y="1406"/>
                        </a:lnTo>
                        <a:lnTo>
                          <a:pt x="108" y="1350"/>
                        </a:lnTo>
                        <a:lnTo>
                          <a:pt x="138" y="1296"/>
                        </a:lnTo>
                        <a:lnTo>
                          <a:pt x="170" y="1242"/>
                        </a:lnTo>
                        <a:lnTo>
                          <a:pt x="204" y="1190"/>
                        </a:lnTo>
                        <a:lnTo>
                          <a:pt x="238" y="1138"/>
                        </a:lnTo>
                        <a:lnTo>
                          <a:pt x="272" y="1086"/>
                        </a:lnTo>
                        <a:lnTo>
                          <a:pt x="310" y="1036"/>
                        </a:lnTo>
                        <a:lnTo>
                          <a:pt x="348" y="988"/>
                        </a:lnTo>
                        <a:lnTo>
                          <a:pt x="386" y="940"/>
                        </a:lnTo>
                        <a:lnTo>
                          <a:pt x="426" y="892"/>
                        </a:lnTo>
                        <a:lnTo>
                          <a:pt x="468" y="846"/>
                        </a:lnTo>
                        <a:lnTo>
                          <a:pt x="510" y="800"/>
                        </a:lnTo>
                        <a:lnTo>
                          <a:pt x="552" y="756"/>
                        </a:lnTo>
                        <a:lnTo>
                          <a:pt x="552" y="756"/>
                        </a:lnTo>
                        <a:lnTo>
                          <a:pt x="596" y="712"/>
                        </a:lnTo>
                        <a:lnTo>
                          <a:pt x="642" y="670"/>
                        </a:lnTo>
                        <a:lnTo>
                          <a:pt x="688" y="630"/>
                        </a:lnTo>
                        <a:lnTo>
                          <a:pt x="736" y="590"/>
                        </a:lnTo>
                        <a:lnTo>
                          <a:pt x="784" y="550"/>
                        </a:lnTo>
                        <a:lnTo>
                          <a:pt x="834" y="512"/>
                        </a:lnTo>
                        <a:lnTo>
                          <a:pt x="884" y="476"/>
                        </a:lnTo>
                        <a:lnTo>
                          <a:pt x="934" y="440"/>
                        </a:lnTo>
                        <a:lnTo>
                          <a:pt x="986" y="406"/>
                        </a:lnTo>
                        <a:lnTo>
                          <a:pt x="1040" y="374"/>
                        </a:lnTo>
                        <a:lnTo>
                          <a:pt x="1092" y="342"/>
                        </a:lnTo>
                        <a:lnTo>
                          <a:pt x="1148" y="312"/>
                        </a:lnTo>
                        <a:lnTo>
                          <a:pt x="1202" y="282"/>
                        </a:lnTo>
                        <a:lnTo>
                          <a:pt x="1258" y="254"/>
                        </a:lnTo>
                        <a:lnTo>
                          <a:pt x="1316" y="228"/>
                        </a:lnTo>
                        <a:lnTo>
                          <a:pt x="1374" y="202"/>
                        </a:lnTo>
                        <a:lnTo>
                          <a:pt x="1374" y="202"/>
                        </a:lnTo>
                        <a:lnTo>
                          <a:pt x="1432" y="178"/>
                        </a:lnTo>
                        <a:lnTo>
                          <a:pt x="1490" y="156"/>
                        </a:lnTo>
                        <a:lnTo>
                          <a:pt x="1550" y="136"/>
                        </a:lnTo>
                        <a:lnTo>
                          <a:pt x="1610" y="116"/>
                        </a:lnTo>
                        <a:lnTo>
                          <a:pt x="1672" y="98"/>
                        </a:lnTo>
                        <a:lnTo>
                          <a:pt x="1732" y="80"/>
                        </a:lnTo>
                        <a:lnTo>
                          <a:pt x="1794" y="66"/>
                        </a:lnTo>
                        <a:lnTo>
                          <a:pt x="1858" y="52"/>
                        </a:lnTo>
                        <a:lnTo>
                          <a:pt x="1922" y="40"/>
                        </a:lnTo>
                        <a:lnTo>
                          <a:pt x="1984" y="30"/>
                        </a:lnTo>
                        <a:lnTo>
                          <a:pt x="2050" y="20"/>
                        </a:lnTo>
                        <a:lnTo>
                          <a:pt x="2114" y="12"/>
                        </a:lnTo>
                        <a:lnTo>
                          <a:pt x="2180" y="8"/>
                        </a:lnTo>
                        <a:lnTo>
                          <a:pt x="2246" y="2"/>
                        </a:lnTo>
                        <a:lnTo>
                          <a:pt x="2312" y="0"/>
                        </a:lnTo>
                        <a:lnTo>
                          <a:pt x="2378" y="0"/>
                        </a:lnTo>
                        <a:lnTo>
                          <a:pt x="2378" y="0"/>
                        </a:lnTo>
                        <a:lnTo>
                          <a:pt x="2444" y="0"/>
                        </a:lnTo>
                        <a:lnTo>
                          <a:pt x="2510" y="2"/>
                        </a:lnTo>
                        <a:lnTo>
                          <a:pt x="2576" y="8"/>
                        </a:lnTo>
                        <a:lnTo>
                          <a:pt x="2642" y="12"/>
                        </a:lnTo>
                        <a:lnTo>
                          <a:pt x="2706" y="20"/>
                        </a:lnTo>
                        <a:lnTo>
                          <a:pt x="2772" y="30"/>
                        </a:lnTo>
                        <a:lnTo>
                          <a:pt x="2834" y="40"/>
                        </a:lnTo>
                        <a:lnTo>
                          <a:pt x="2898" y="52"/>
                        </a:lnTo>
                        <a:lnTo>
                          <a:pt x="2962" y="66"/>
                        </a:lnTo>
                        <a:lnTo>
                          <a:pt x="3024" y="80"/>
                        </a:lnTo>
                        <a:lnTo>
                          <a:pt x="3084" y="98"/>
                        </a:lnTo>
                        <a:lnTo>
                          <a:pt x="3146" y="116"/>
                        </a:lnTo>
                        <a:lnTo>
                          <a:pt x="3206" y="136"/>
                        </a:lnTo>
                        <a:lnTo>
                          <a:pt x="3266" y="156"/>
                        </a:lnTo>
                        <a:lnTo>
                          <a:pt x="3324" y="178"/>
                        </a:lnTo>
                        <a:lnTo>
                          <a:pt x="3382" y="202"/>
                        </a:lnTo>
                        <a:lnTo>
                          <a:pt x="3382" y="202"/>
                        </a:lnTo>
                        <a:lnTo>
                          <a:pt x="3440" y="228"/>
                        </a:lnTo>
                        <a:lnTo>
                          <a:pt x="3498" y="254"/>
                        </a:lnTo>
                        <a:lnTo>
                          <a:pt x="3554" y="282"/>
                        </a:lnTo>
                        <a:lnTo>
                          <a:pt x="3608" y="312"/>
                        </a:lnTo>
                        <a:lnTo>
                          <a:pt x="3664" y="342"/>
                        </a:lnTo>
                        <a:lnTo>
                          <a:pt x="3716" y="374"/>
                        </a:lnTo>
                        <a:lnTo>
                          <a:pt x="3770" y="406"/>
                        </a:lnTo>
                        <a:lnTo>
                          <a:pt x="3822" y="440"/>
                        </a:lnTo>
                        <a:lnTo>
                          <a:pt x="3872" y="476"/>
                        </a:lnTo>
                        <a:lnTo>
                          <a:pt x="3922" y="512"/>
                        </a:lnTo>
                        <a:lnTo>
                          <a:pt x="3972" y="550"/>
                        </a:lnTo>
                        <a:lnTo>
                          <a:pt x="4020" y="590"/>
                        </a:lnTo>
                        <a:lnTo>
                          <a:pt x="4068" y="630"/>
                        </a:lnTo>
                        <a:lnTo>
                          <a:pt x="4114" y="670"/>
                        </a:lnTo>
                        <a:lnTo>
                          <a:pt x="4160" y="712"/>
                        </a:lnTo>
                        <a:lnTo>
                          <a:pt x="4204" y="756"/>
                        </a:lnTo>
                        <a:lnTo>
                          <a:pt x="4204" y="756"/>
                        </a:lnTo>
                        <a:lnTo>
                          <a:pt x="4246" y="800"/>
                        </a:lnTo>
                        <a:lnTo>
                          <a:pt x="4288" y="846"/>
                        </a:lnTo>
                        <a:lnTo>
                          <a:pt x="4330" y="892"/>
                        </a:lnTo>
                        <a:lnTo>
                          <a:pt x="4370" y="940"/>
                        </a:lnTo>
                        <a:lnTo>
                          <a:pt x="4410" y="988"/>
                        </a:lnTo>
                        <a:lnTo>
                          <a:pt x="4446" y="1036"/>
                        </a:lnTo>
                        <a:lnTo>
                          <a:pt x="4484" y="1086"/>
                        </a:lnTo>
                        <a:lnTo>
                          <a:pt x="4518" y="1138"/>
                        </a:lnTo>
                        <a:lnTo>
                          <a:pt x="4552" y="1190"/>
                        </a:lnTo>
                        <a:lnTo>
                          <a:pt x="4586" y="1242"/>
                        </a:lnTo>
                        <a:lnTo>
                          <a:pt x="4618" y="1296"/>
                        </a:lnTo>
                        <a:lnTo>
                          <a:pt x="4648" y="1350"/>
                        </a:lnTo>
                        <a:lnTo>
                          <a:pt x="4678" y="1406"/>
                        </a:lnTo>
                        <a:lnTo>
                          <a:pt x="4706" y="1462"/>
                        </a:lnTo>
                        <a:lnTo>
                          <a:pt x="4732" y="1518"/>
                        </a:lnTo>
                        <a:lnTo>
                          <a:pt x="4756" y="1576"/>
                        </a:lnTo>
                        <a:lnTo>
                          <a:pt x="0" y="157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>
                          <a:alpha val="75294"/>
                        </a:srgbClr>
                      </a:gs>
                      <a:gs pos="100000">
                        <a:srgbClr val="ffffff">
                          <a:alpha val="0"/>
                        </a:srgbClr>
                      </a:gs>
                    </a:gsLst>
                    <a:lin ang="5400000"/>
                  </a:gradFill>
                  <a:ln w="9525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10" name="Oval 45"/>
                  <p:cNvSpPr/>
                  <p:nvPr/>
                </p:nvSpPr>
                <p:spPr>
                  <a:xfrm>
                    <a:off x="4863600" y="1808280"/>
                    <a:ext cx="202680" cy="18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7abf5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511" name="Text Box 46"/>
              <p:cNvSpPr/>
              <p:nvPr/>
            </p:nvSpPr>
            <p:spPr>
              <a:xfrm>
                <a:off x="4686840" y="2049840"/>
                <a:ext cx="546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单击此处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ko-KR" sz="1200" spc="-1" strike="noStrike">
                    <a:solidFill>
                      <a:srgbClr val="ffffff"/>
                    </a:solidFill>
                    <a:latin typeface="Arial Black"/>
                    <a:ea typeface="微软雅黑"/>
                  </a:rPr>
                  <a:t>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2" name="AutoShape 47"/>
          <p:cNvSpPr/>
          <p:nvPr/>
        </p:nvSpPr>
        <p:spPr>
          <a:xfrm rot="15300000">
            <a:off x="2928600" y="271692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49"/>
          <p:cNvSpPr/>
          <p:nvPr/>
        </p:nvSpPr>
        <p:spPr>
          <a:xfrm rot="14895600">
            <a:off x="2342160" y="362988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8000">
                <a:srgbClr val="ffffff">
                  <a:alpha val="0"/>
                </a:srgbClr>
              </a:gs>
              <a:gs pos="100000">
                <a:srgbClr val="ffc000"/>
              </a:gs>
            </a:gsLst>
            <a:lin ang="148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51"/>
          <p:cNvGrpSpPr/>
          <p:nvPr/>
        </p:nvGrpSpPr>
        <p:grpSpPr>
          <a:xfrm>
            <a:off x="555840" y="1096920"/>
            <a:ext cx="407520" cy="466560"/>
            <a:chOff x="555840" y="1096920"/>
            <a:chExt cx="407520" cy="466560"/>
          </a:xfrm>
        </p:grpSpPr>
        <p:sp>
          <p:nvSpPr>
            <p:cNvPr id="515" name="Oval 52"/>
            <p:cNvSpPr/>
            <p:nvPr/>
          </p:nvSpPr>
          <p:spPr>
            <a:xfrm>
              <a:off x="555840" y="142884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6" name="Group 53"/>
            <p:cNvGrpSpPr/>
            <p:nvPr/>
          </p:nvGrpSpPr>
          <p:grpSpPr>
            <a:xfrm>
              <a:off x="556560" y="1096920"/>
              <a:ext cx="406800" cy="407160"/>
              <a:chOff x="556560" y="1096920"/>
              <a:chExt cx="406800" cy="407160"/>
            </a:xfrm>
          </p:grpSpPr>
          <p:sp>
            <p:nvSpPr>
              <p:cNvPr id="517" name="Oval 54"/>
              <p:cNvSpPr/>
              <p:nvPr/>
            </p:nvSpPr>
            <p:spPr>
              <a:xfrm>
                <a:off x="556560" y="109692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8" name="Group 55"/>
              <p:cNvGrpSpPr/>
              <p:nvPr/>
            </p:nvGrpSpPr>
            <p:grpSpPr>
              <a:xfrm>
                <a:off x="587520" y="1108080"/>
                <a:ext cx="342720" cy="110880"/>
                <a:chOff x="587520" y="1108080"/>
                <a:chExt cx="342720" cy="110880"/>
              </a:xfrm>
            </p:grpSpPr>
            <p:sp>
              <p:nvSpPr>
                <p:cNvPr id="519" name="Freeform 56"/>
                <p:cNvSpPr/>
                <p:nvPr/>
              </p:nvSpPr>
              <p:spPr>
                <a:xfrm>
                  <a:off x="587520" y="110808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0" name="Oval 57"/>
                <p:cNvSpPr/>
                <p:nvPr/>
              </p:nvSpPr>
              <p:spPr>
                <a:xfrm>
                  <a:off x="717840" y="110808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1" name="Group 58"/>
          <p:cNvGrpSpPr/>
          <p:nvPr/>
        </p:nvGrpSpPr>
        <p:grpSpPr>
          <a:xfrm>
            <a:off x="522720" y="2315160"/>
            <a:ext cx="407160" cy="466560"/>
            <a:chOff x="522720" y="2315160"/>
            <a:chExt cx="407160" cy="466560"/>
          </a:xfrm>
        </p:grpSpPr>
        <p:sp>
          <p:nvSpPr>
            <p:cNvPr id="522" name="Oval 59"/>
            <p:cNvSpPr/>
            <p:nvPr/>
          </p:nvSpPr>
          <p:spPr>
            <a:xfrm>
              <a:off x="522720" y="264708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3" name="Group 60"/>
            <p:cNvGrpSpPr/>
            <p:nvPr/>
          </p:nvGrpSpPr>
          <p:grpSpPr>
            <a:xfrm>
              <a:off x="523080" y="2315160"/>
              <a:ext cx="406800" cy="407160"/>
              <a:chOff x="523080" y="2315160"/>
              <a:chExt cx="406800" cy="407160"/>
            </a:xfrm>
          </p:grpSpPr>
          <p:sp>
            <p:nvSpPr>
              <p:cNvPr id="524" name="Oval 61"/>
              <p:cNvSpPr/>
              <p:nvPr/>
            </p:nvSpPr>
            <p:spPr>
              <a:xfrm>
                <a:off x="523080" y="231516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25" name="Group 62"/>
              <p:cNvGrpSpPr/>
              <p:nvPr/>
            </p:nvGrpSpPr>
            <p:grpSpPr>
              <a:xfrm>
                <a:off x="554400" y="2326320"/>
                <a:ext cx="342720" cy="110880"/>
                <a:chOff x="554400" y="2326320"/>
                <a:chExt cx="342720" cy="110880"/>
              </a:xfrm>
            </p:grpSpPr>
            <p:sp>
              <p:nvSpPr>
                <p:cNvPr id="526" name="Freeform 63"/>
                <p:cNvSpPr/>
                <p:nvPr/>
              </p:nvSpPr>
              <p:spPr>
                <a:xfrm>
                  <a:off x="554400" y="232632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27" name="Oval 64"/>
                <p:cNvSpPr/>
                <p:nvPr/>
              </p:nvSpPr>
              <p:spPr>
                <a:xfrm>
                  <a:off x="684720" y="232632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28" name="Group 65"/>
          <p:cNvGrpSpPr/>
          <p:nvPr/>
        </p:nvGrpSpPr>
        <p:grpSpPr>
          <a:xfrm>
            <a:off x="484560" y="3477240"/>
            <a:ext cx="407520" cy="466560"/>
            <a:chOff x="484560" y="3477240"/>
            <a:chExt cx="407520" cy="466560"/>
          </a:xfrm>
        </p:grpSpPr>
        <p:sp>
          <p:nvSpPr>
            <p:cNvPr id="529" name="Oval 66"/>
            <p:cNvSpPr/>
            <p:nvPr/>
          </p:nvSpPr>
          <p:spPr>
            <a:xfrm>
              <a:off x="484560" y="38091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0" name="Group 67"/>
            <p:cNvGrpSpPr/>
            <p:nvPr/>
          </p:nvGrpSpPr>
          <p:grpSpPr>
            <a:xfrm>
              <a:off x="485280" y="3477240"/>
              <a:ext cx="406800" cy="407160"/>
              <a:chOff x="485280" y="3477240"/>
              <a:chExt cx="406800" cy="407160"/>
            </a:xfrm>
          </p:grpSpPr>
          <p:sp>
            <p:nvSpPr>
              <p:cNvPr id="531" name="Oval 68"/>
              <p:cNvSpPr/>
              <p:nvPr/>
            </p:nvSpPr>
            <p:spPr>
              <a:xfrm>
                <a:off x="485280" y="347724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2" name="Group 69"/>
              <p:cNvGrpSpPr/>
              <p:nvPr/>
            </p:nvGrpSpPr>
            <p:grpSpPr>
              <a:xfrm>
                <a:off x="516240" y="3488760"/>
                <a:ext cx="342720" cy="110880"/>
                <a:chOff x="516240" y="3488760"/>
                <a:chExt cx="342720" cy="110880"/>
              </a:xfrm>
            </p:grpSpPr>
            <p:sp>
              <p:nvSpPr>
                <p:cNvPr id="533" name="Freeform 70"/>
                <p:cNvSpPr/>
                <p:nvPr/>
              </p:nvSpPr>
              <p:spPr>
                <a:xfrm>
                  <a:off x="516240" y="34887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Oval 71"/>
                <p:cNvSpPr/>
                <p:nvPr/>
              </p:nvSpPr>
              <p:spPr>
                <a:xfrm>
                  <a:off x="646560" y="34887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35" name="Rectangle 72"/>
          <p:cNvSpPr/>
          <p:nvPr/>
        </p:nvSpPr>
        <p:spPr>
          <a:xfrm>
            <a:off x="395640" y="395532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3"/>
          <p:cNvSpPr/>
          <p:nvPr/>
        </p:nvSpPr>
        <p:spPr>
          <a:xfrm>
            <a:off x="395640" y="269856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4"/>
          <p:cNvSpPr/>
          <p:nvPr/>
        </p:nvSpPr>
        <p:spPr>
          <a:xfrm>
            <a:off x="395640" y="1487160"/>
            <a:ext cx="1971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47"/>
          <p:cNvSpPr/>
          <p:nvPr/>
        </p:nvSpPr>
        <p:spPr>
          <a:xfrm rot="15300000">
            <a:off x="3525120" y="174024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a452a">
                  <a:alpha val="48235"/>
                </a:srgbClr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AutoShape 47"/>
          <p:cNvSpPr/>
          <p:nvPr/>
        </p:nvSpPr>
        <p:spPr>
          <a:xfrm rot="15300000">
            <a:off x="4188960" y="810720"/>
            <a:ext cx="748800" cy="748800"/>
          </a:xfrm>
          <a:custGeom>
            <a:avLst/>
            <a:gdLst>
              <a:gd name="textAreaLeft" fmla="*/ 109440 w 748800"/>
              <a:gd name="textAreaRight" fmla="*/ 639360 w 748800"/>
              <a:gd name="textAreaTop" fmla="*/ 109440 h 748800"/>
              <a:gd name="textAreaBottom" fmla="*/ 639360 h 748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10464" y="5399"/>
                  <a:pt x="10129" y="5431"/>
                  <a:pt x="9799" y="5493"/>
                </a:cubicBezTo>
                <a:lnTo>
                  <a:pt x="8799" y="186"/>
                </a:lnTo>
                <a:cubicBezTo>
                  <a:pt x="9459" y="62"/>
                  <a:pt x="10128" y="-1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70c0"/>
              </a:gs>
            </a:gsLst>
            <a:lin ang="15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161"/>
          <p:cNvSpPr/>
          <p:nvPr/>
        </p:nvSpPr>
        <p:spPr>
          <a:xfrm>
            <a:off x="7626240" y="6994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直接连接符 162"/>
          <p:cNvCxnSpPr/>
          <p:nvPr/>
        </p:nvCxnSpPr>
        <p:spPr>
          <a:xfrm>
            <a:off x="7596000" y="1425240"/>
            <a:ext cx="143244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42" name="矩形 163"/>
          <p:cNvSpPr/>
          <p:nvPr/>
        </p:nvSpPr>
        <p:spPr>
          <a:xfrm>
            <a:off x="7956360" y="1564560"/>
            <a:ext cx="6768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直接连接符 164"/>
          <p:cNvCxnSpPr/>
          <p:nvPr/>
        </p:nvCxnSpPr>
        <p:spPr>
          <a:xfrm>
            <a:off x="323280" y="1073880"/>
            <a:ext cx="360" cy="374472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544" name="WordArt 38"/>
          <p:cNvSpPr txBox="1"/>
          <p:nvPr/>
        </p:nvSpPr>
        <p:spPr>
          <a:xfrm>
            <a:off x="465840" y="31248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545" name="矩形 167"/>
          <p:cNvSpPr/>
          <p:nvPr/>
        </p:nvSpPr>
        <p:spPr>
          <a:xfrm>
            <a:off x="432000" y="19548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Box 1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8" name="直接连接符 4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549" name="Line 2"/>
          <p:cNvSpPr/>
          <p:nvPr/>
        </p:nvSpPr>
        <p:spPr>
          <a:xfrm flipH="1">
            <a:off x="4570560" y="3364560"/>
            <a:ext cx="3240" cy="48816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WordArt 3"/>
          <p:cNvSpPr txBox="1"/>
          <p:nvPr/>
        </p:nvSpPr>
        <p:spPr>
          <a:xfrm>
            <a:off x="3743280" y="1187280"/>
            <a:ext cx="1661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  <a:ea typeface="黑体"/>
              </a:rPr>
              <a:t>双击添加标题文字</a:t>
            </a:r>
            <a:endParaRPr b="0" lang="en-US" sz="2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AutoShape 5"/>
          <p:cNvSpPr/>
          <p:nvPr/>
        </p:nvSpPr>
        <p:spPr>
          <a:xfrm rot="10800000">
            <a:off x="3510000" y="3890160"/>
            <a:ext cx="2128320" cy="893880"/>
          </a:xfrm>
          <a:prstGeom prst="roundRect">
            <a:avLst>
              <a:gd name="adj" fmla="val 6171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6200000"/>
          </a:gradFill>
          <a:ln w="9525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rot="10800000">
            <a:noAutofit/>
          </a:bodyPr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28"/>
          <p:cNvGrpSpPr/>
          <p:nvPr/>
        </p:nvGrpSpPr>
        <p:grpSpPr>
          <a:xfrm>
            <a:off x="802440" y="3890160"/>
            <a:ext cx="7466760" cy="893880"/>
            <a:chOff x="802440" y="3890160"/>
            <a:chExt cx="7466760" cy="893880"/>
          </a:xfrm>
        </p:grpSpPr>
        <p:sp>
          <p:nvSpPr>
            <p:cNvPr id="553" name="AutoShape 4"/>
            <p:cNvSpPr/>
            <p:nvPr/>
          </p:nvSpPr>
          <p:spPr>
            <a:xfrm rot="10800000">
              <a:off x="802440" y="3890160"/>
              <a:ext cx="2128320" cy="89388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AutoShape 6"/>
            <p:cNvSpPr/>
            <p:nvPr/>
          </p:nvSpPr>
          <p:spPr>
            <a:xfrm rot="10800000">
              <a:off x="6140880" y="3890160"/>
              <a:ext cx="2128320" cy="893880"/>
            </a:xfrm>
            <a:prstGeom prst="roundRect">
              <a:avLst>
                <a:gd name="adj" fmla="val 6171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16200000"/>
            </a:gradFill>
            <a:ln w="9525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rot="10800000">
              <a:noAutofit/>
            </a:bodyPr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添加段落文字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Rectangle 7"/>
          <p:cNvSpPr/>
          <p:nvPr/>
        </p:nvSpPr>
        <p:spPr>
          <a:xfrm>
            <a:off x="2964240" y="1485000"/>
            <a:ext cx="3216960" cy="36612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AutoShape 8"/>
          <p:cNvSpPr/>
          <p:nvPr/>
        </p:nvSpPr>
        <p:spPr>
          <a:xfrm>
            <a:off x="2930760" y="987480"/>
            <a:ext cx="3284280" cy="713880"/>
          </a:xfrm>
          <a:prstGeom prst="roundRect">
            <a:avLst>
              <a:gd name="adj" fmla="val 24375"/>
            </a:avLst>
          </a:prstGeom>
          <a:gradFill rotWithShape="0">
            <a:gsLst>
              <a:gs pos="0">
                <a:srgbClr val="002060"/>
              </a:gs>
              <a:gs pos="100000">
                <a:srgbClr val="007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3423960" y="3111120"/>
            <a:ext cx="2296440" cy="325080"/>
          </a:xfrm>
          <a:prstGeom prst="rect">
            <a:avLst/>
          </a:prstGeom>
          <a:gradFill rotWithShape="0">
            <a:gsLst>
              <a:gs pos="0">
                <a:srgbClr val="000000">
                  <a:alpha val="85098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AutoShape 10"/>
          <p:cNvSpPr/>
          <p:nvPr/>
        </p:nvSpPr>
        <p:spPr>
          <a:xfrm>
            <a:off x="3399480" y="2732760"/>
            <a:ext cx="2345040" cy="559800"/>
          </a:xfrm>
          <a:prstGeom prst="roundRect">
            <a:avLst>
              <a:gd name="adj" fmla="val 22537"/>
            </a:avLst>
          </a:prstGeom>
          <a:gradFill rotWithShape="0">
            <a:gsLst>
              <a:gs pos="2000">
                <a:srgbClr val="1e1c11"/>
              </a:gs>
              <a:gs pos="100000">
                <a:srgbClr val="ffc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25"/>
          <p:cNvGrpSpPr/>
          <p:nvPr/>
        </p:nvGrpSpPr>
        <p:grpSpPr>
          <a:xfrm>
            <a:off x="692280" y="2499840"/>
            <a:ext cx="7695720" cy="685800"/>
            <a:chOff x="692280" y="2499840"/>
            <a:chExt cx="7695720" cy="685800"/>
          </a:xfrm>
        </p:grpSpPr>
        <p:sp>
          <p:nvSpPr>
            <p:cNvPr id="560" name="Rectangle 11"/>
            <p:cNvSpPr/>
            <p:nvPr/>
          </p:nvSpPr>
          <p:spPr>
            <a:xfrm>
              <a:off x="71820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AutoShape 12"/>
            <p:cNvSpPr/>
            <p:nvPr/>
          </p:nvSpPr>
          <p:spPr>
            <a:xfrm>
              <a:off x="692280" y="2499840"/>
              <a:ext cx="2345040" cy="547920"/>
            </a:xfrm>
            <a:prstGeom prst="roundRect">
              <a:avLst>
                <a:gd name="adj" fmla="val 22537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3"/>
            <p:cNvSpPr/>
            <p:nvPr/>
          </p:nvSpPr>
          <p:spPr>
            <a:xfrm>
              <a:off x="6068880" y="2860560"/>
              <a:ext cx="2296440" cy="32508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85098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AutoShape 14"/>
            <p:cNvSpPr/>
            <p:nvPr/>
          </p:nvSpPr>
          <p:spPr>
            <a:xfrm>
              <a:off x="6042960" y="2499840"/>
              <a:ext cx="2345040" cy="547920"/>
            </a:xfrm>
            <a:prstGeom prst="roundRect">
              <a:avLst>
                <a:gd name="adj" fmla="val 23944"/>
              </a:avLst>
            </a:prstGeom>
            <a:gradFill rotWithShape="0">
              <a:gsLst>
                <a:gs pos="0">
                  <a:srgbClr val="eeece1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7"/>
          <p:cNvGrpSpPr/>
          <p:nvPr/>
        </p:nvGrpSpPr>
        <p:grpSpPr>
          <a:xfrm>
            <a:off x="1904400" y="3534840"/>
            <a:ext cx="5332680" cy="333000"/>
            <a:chOff x="1904400" y="3534840"/>
            <a:chExt cx="5332680" cy="333000"/>
          </a:xfrm>
        </p:grpSpPr>
        <p:sp>
          <p:nvSpPr>
            <p:cNvPr id="565" name="Line 15"/>
            <p:cNvSpPr/>
            <p:nvPr/>
          </p:nvSpPr>
          <p:spPr>
            <a:xfrm>
              <a:off x="1904400" y="35348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16"/>
            <p:cNvSpPr/>
            <p:nvPr/>
          </p:nvSpPr>
          <p:spPr>
            <a:xfrm>
              <a:off x="1904400" y="3534840"/>
              <a:ext cx="360" cy="33300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17"/>
            <p:cNvSpPr/>
            <p:nvPr/>
          </p:nvSpPr>
          <p:spPr>
            <a:xfrm>
              <a:off x="7236720" y="3534840"/>
              <a:ext cx="360" cy="33300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8" name="Line 18"/>
          <p:cNvSpPr/>
          <p:nvPr/>
        </p:nvSpPr>
        <p:spPr>
          <a:xfrm flipH="1">
            <a:off x="4570560" y="1851480"/>
            <a:ext cx="1440" cy="881280"/>
          </a:xfrm>
          <a:prstGeom prst="line">
            <a:avLst/>
          </a:prstGeom>
          <a:ln cap="rnd" w="19050">
            <a:solidFill>
              <a:srgbClr val="eeece1">
                <a:lumMod val="25000"/>
              </a:srgbClr>
            </a:solidFill>
            <a:prstDash val="sysDot"/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Group 26"/>
          <p:cNvGrpSpPr/>
          <p:nvPr/>
        </p:nvGrpSpPr>
        <p:grpSpPr>
          <a:xfrm>
            <a:off x="1904400" y="1992240"/>
            <a:ext cx="5332680" cy="473400"/>
            <a:chOff x="1904400" y="1992240"/>
            <a:chExt cx="5332680" cy="473400"/>
          </a:xfrm>
        </p:grpSpPr>
        <p:sp>
          <p:nvSpPr>
            <p:cNvPr id="570" name="Line 19"/>
            <p:cNvSpPr/>
            <p:nvPr/>
          </p:nvSpPr>
          <p:spPr>
            <a:xfrm>
              <a:off x="1904400" y="1992240"/>
              <a:ext cx="5332320" cy="360"/>
            </a:xfrm>
            <a:prstGeom prst="line">
              <a:avLst/>
            </a:prstGeom>
            <a:ln cap="rnd" w="19050">
              <a:solidFill>
                <a:srgbClr val="eeece1">
                  <a:lumMod val="25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1" name="Group 20"/>
            <p:cNvGrpSpPr/>
            <p:nvPr/>
          </p:nvGrpSpPr>
          <p:grpSpPr>
            <a:xfrm>
              <a:off x="1904400" y="1992240"/>
              <a:ext cx="5332680" cy="473400"/>
              <a:chOff x="1904400" y="1992240"/>
              <a:chExt cx="5332680" cy="473400"/>
            </a:xfrm>
          </p:grpSpPr>
          <p:sp>
            <p:nvSpPr>
              <p:cNvPr id="572" name="Line 21"/>
              <p:cNvSpPr/>
              <p:nvPr/>
            </p:nvSpPr>
            <p:spPr>
              <a:xfrm>
                <a:off x="1904400" y="1992240"/>
                <a:ext cx="360" cy="47340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Line 22"/>
              <p:cNvSpPr/>
              <p:nvPr/>
            </p:nvSpPr>
            <p:spPr>
              <a:xfrm>
                <a:off x="7236720" y="1992240"/>
                <a:ext cx="360" cy="473400"/>
              </a:xfrm>
              <a:prstGeom prst="line">
                <a:avLst/>
              </a:prstGeom>
              <a:ln cap="rnd" w="19050">
                <a:solidFill>
                  <a:srgbClr val="eeece1">
                    <a:lumMod val="25000"/>
                  </a:srgbClr>
                </a:solidFill>
                <a:prstDash val="sysDot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3"/>
          <p:cNvSpPr/>
          <p:nvPr/>
        </p:nvSpPr>
        <p:spPr>
          <a:xfrm>
            <a:off x="-181080" y="3291840"/>
            <a:ext cx="983880" cy="363240"/>
          </a:xfrm>
          <a:custGeom>
            <a:avLst/>
            <a:gdLst>
              <a:gd name="textAreaLeft" fmla="*/ 0 w 983880"/>
              <a:gd name="textAreaRight" fmla="*/ 984240 w 98388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c0504d">
                  <a:alpha val="0"/>
                </a:srgbClr>
              </a:gs>
              <a:gs pos="100000">
                <a:srgbClr val="26262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"/>
          <p:cNvSpPr/>
          <p:nvPr/>
        </p:nvSpPr>
        <p:spPr>
          <a:xfrm flipH="1">
            <a:off x="5631840" y="3231360"/>
            <a:ext cx="875880" cy="236160"/>
          </a:xfrm>
          <a:custGeom>
            <a:avLst/>
            <a:gdLst>
              <a:gd name="textAreaLeft" fmla="*/ -360 w 875880"/>
              <a:gd name="textAreaRight" fmla="*/ 875880 w 875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4"/>
          <p:cNvSpPr/>
          <p:nvPr/>
        </p:nvSpPr>
        <p:spPr>
          <a:xfrm flipH="1">
            <a:off x="6921360" y="3148560"/>
            <a:ext cx="863280" cy="388440"/>
          </a:xfrm>
          <a:custGeom>
            <a:avLst/>
            <a:gdLst>
              <a:gd name="textAreaLeft" fmla="*/ 360 w 863280"/>
              <a:gd name="textAreaRight" fmla="*/ 864000 w 863280"/>
              <a:gd name="textAreaTop" fmla="*/ 0 h 388440"/>
              <a:gd name="textAreaBottom" fmla="*/ 388800 h 3884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Freeform 5"/>
          <p:cNvSpPr/>
          <p:nvPr/>
        </p:nvSpPr>
        <p:spPr>
          <a:xfrm flipH="1">
            <a:off x="8336880" y="3285360"/>
            <a:ext cx="837720" cy="363240"/>
          </a:xfrm>
          <a:custGeom>
            <a:avLst/>
            <a:gdLst>
              <a:gd name="textAreaLeft" fmla="*/ -360 w 837720"/>
              <a:gd name="textAreaRight" fmla="*/ 83772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1343160" y="3151800"/>
            <a:ext cx="837720" cy="363240"/>
          </a:xfrm>
          <a:custGeom>
            <a:avLst/>
            <a:gdLst>
              <a:gd name="textAreaLeft" fmla="*/ 0 w 837720"/>
              <a:gd name="textAreaRight" fmla="*/ 838080 w 837720"/>
              <a:gd name="textAreaTop" fmla="*/ 0 h 363240"/>
              <a:gd name="textAreaBottom" fmla="*/ 363600 h 36324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2638440" y="3231360"/>
            <a:ext cx="885600" cy="236160"/>
          </a:xfrm>
          <a:custGeom>
            <a:avLst/>
            <a:gdLst>
              <a:gd name="textAreaLeft" fmla="*/ 0 w 885600"/>
              <a:gd name="textAreaRight" fmla="*/ 885960 w 8856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2331" h="688">
                <a:moveTo>
                  <a:pt x="2331" y="688"/>
                </a:moveTo>
                <a:cubicBezTo>
                  <a:pt x="2331" y="688"/>
                  <a:pt x="208" y="159"/>
                  <a:pt x="104" y="138"/>
                </a:cubicBezTo>
                <a:cubicBezTo>
                  <a:pt x="0" y="118"/>
                  <a:pt x="2086" y="0"/>
                  <a:pt x="2086" y="0"/>
                </a:cubicBezTo>
                <a:lnTo>
                  <a:pt x="2331" y="688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666666">
                  <a:alpha val="3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8"/>
          <p:cNvSpPr/>
          <p:nvPr/>
        </p:nvSpPr>
        <p:spPr>
          <a:xfrm>
            <a:off x="806400" y="2259720"/>
            <a:ext cx="1118880" cy="1391760"/>
          </a:xfrm>
          <a:custGeom>
            <a:avLst/>
            <a:gdLst>
              <a:gd name="textAreaLeft" fmla="*/ 0 w 1118880"/>
              <a:gd name="textAreaRight" fmla="*/ 111924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58ed5"/>
              </a:gs>
              <a:gs pos="100000">
                <a:srgbClr val="1737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9"/>
          <p:cNvSpPr/>
          <p:nvPr/>
        </p:nvSpPr>
        <p:spPr>
          <a:xfrm>
            <a:off x="428760" y="2259720"/>
            <a:ext cx="377640" cy="1391760"/>
          </a:xfrm>
          <a:custGeom>
            <a:avLst/>
            <a:gdLst>
              <a:gd name="textAreaLeft" fmla="*/ 0 w 377640"/>
              <a:gd name="textAreaRight" fmla="*/ 37800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20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2195640" y="2356560"/>
            <a:ext cx="1082160" cy="1188720"/>
          </a:xfrm>
          <a:custGeom>
            <a:avLst/>
            <a:gdLst>
              <a:gd name="textAreaLeft" fmla="*/ 0 w 1082160"/>
              <a:gd name="textAreaRight" fmla="*/ 108252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Freeform 11"/>
          <p:cNvSpPr/>
          <p:nvPr/>
        </p:nvSpPr>
        <p:spPr>
          <a:xfrm>
            <a:off x="1986120" y="2342160"/>
            <a:ext cx="218880" cy="1188720"/>
          </a:xfrm>
          <a:custGeom>
            <a:avLst/>
            <a:gdLst>
              <a:gd name="textAreaLeft" fmla="*/ 0 w 218880"/>
              <a:gd name="textAreaRight" fmla="*/ 21924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Freeform 12"/>
          <p:cNvSpPr/>
          <p:nvPr/>
        </p:nvSpPr>
        <p:spPr>
          <a:xfrm>
            <a:off x="3490920" y="2396160"/>
            <a:ext cx="1015560" cy="1080720"/>
          </a:xfrm>
          <a:custGeom>
            <a:avLst/>
            <a:gdLst>
              <a:gd name="textAreaLeft" fmla="*/ 0 w 1015560"/>
              <a:gd name="textAreaRight" fmla="*/ 101592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f8f8f8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Freeform 13"/>
          <p:cNvSpPr/>
          <p:nvPr/>
        </p:nvSpPr>
        <p:spPr>
          <a:xfrm>
            <a:off x="3414600" y="2396160"/>
            <a:ext cx="75960" cy="1080720"/>
          </a:xfrm>
          <a:custGeom>
            <a:avLst/>
            <a:gdLst>
              <a:gd name="textAreaLeft" fmla="*/ 0 w 75960"/>
              <a:gd name="textAreaRight" fmla="*/ 7632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Freeform 14"/>
          <p:cNvSpPr/>
          <p:nvPr/>
        </p:nvSpPr>
        <p:spPr>
          <a:xfrm flipH="1">
            <a:off x="7213680" y="2259720"/>
            <a:ext cx="1118880" cy="1391760"/>
          </a:xfrm>
          <a:custGeom>
            <a:avLst/>
            <a:gdLst>
              <a:gd name="textAreaLeft" fmla="*/ 360 w 1118880"/>
              <a:gd name="textAreaRight" fmla="*/ 1119600 w 111888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1006" h="1251">
                <a:moveTo>
                  <a:pt x="0" y="0"/>
                </a:moveTo>
                <a:lnTo>
                  <a:pt x="0" y="1251"/>
                </a:lnTo>
                <a:lnTo>
                  <a:pt x="1006" y="1154"/>
                </a:lnTo>
                <a:lnTo>
                  <a:pt x="1006" y="8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Freeform 15"/>
          <p:cNvSpPr/>
          <p:nvPr/>
        </p:nvSpPr>
        <p:spPr>
          <a:xfrm flipH="1">
            <a:off x="8332200" y="2259720"/>
            <a:ext cx="377640" cy="1391760"/>
          </a:xfrm>
          <a:custGeom>
            <a:avLst/>
            <a:gdLst>
              <a:gd name="textAreaLeft" fmla="*/ -360 w 377640"/>
              <a:gd name="textAreaRight" fmla="*/ 377640 w 377640"/>
              <a:gd name="textAreaTop" fmla="*/ 0 h 1391760"/>
              <a:gd name="textAreaBottom" fmla="*/ 1392120 h 1391760"/>
            </a:gdLst>
            <a:ahLst/>
            <a:rect l="textAreaLeft" t="textAreaTop" r="textAreaRight" b="textAreaBottom"/>
            <a:pathLst>
              <a:path w="339" h="1251">
                <a:moveTo>
                  <a:pt x="0" y="110"/>
                </a:moveTo>
                <a:lnTo>
                  <a:pt x="0" y="1080"/>
                </a:lnTo>
                <a:lnTo>
                  <a:pt x="339" y="1251"/>
                </a:lnTo>
                <a:lnTo>
                  <a:pt x="339" y="0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reeform 16"/>
          <p:cNvSpPr/>
          <p:nvPr/>
        </p:nvSpPr>
        <p:spPr>
          <a:xfrm flipH="1">
            <a:off x="5851440" y="2342160"/>
            <a:ext cx="1082160" cy="1188720"/>
          </a:xfrm>
          <a:custGeom>
            <a:avLst/>
            <a:gdLst>
              <a:gd name="textAreaLeft" fmla="*/ 360 w 1082160"/>
              <a:gd name="textAreaRight" fmla="*/ 1082880 w 108216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973" h="1069">
                <a:moveTo>
                  <a:pt x="0" y="0"/>
                </a:moveTo>
                <a:lnTo>
                  <a:pt x="0" y="1069"/>
                </a:lnTo>
                <a:lnTo>
                  <a:pt x="973" y="1051"/>
                </a:lnTo>
                <a:lnTo>
                  <a:pt x="973" y="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ffc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Freeform 17"/>
          <p:cNvSpPr/>
          <p:nvPr/>
        </p:nvSpPr>
        <p:spPr>
          <a:xfrm flipH="1">
            <a:off x="6934320" y="2342160"/>
            <a:ext cx="218880" cy="1188720"/>
          </a:xfrm>
          <a:custGeom>
            <a:avLst/>
            <a:gdLst>
              <a:gd name="textAreaLeft" fmla="*/ 360 w 218880"/>
              <a:gd name="textAreaRight" fmla="*/ 219600 w 218880"/>
              <a:gd name="textAreaTop" fmla="*/ 0 h 1188720"/>
              <a:gd name="textAreaBottom" fmla="*/ 1189080 h 1188720"/>
            </a:gdLst>
            <a:ahLst/>
            <a:rect l="textAreaLeft" t="textAreaTop" r="textAreaRight" b="textAreaBottom"/>
            <a:pathLst>
              <a:path w="197" h="1069">
                <a:moveTo>
                  <a:pt x="0" y="123"/>
                </a:moveTo>
                <a:lnTo>
                  <a:pt x="0" y="947"/>
                </a:lnTo>
                <a:lnTo>
                  <a:pt x="197" y="1069"/>
                </a:lnTo>
                <a:lnTo>
                  <a:pt x="197" y="0"/>
                </a:lnTo>
                <a:lnTo>
                  <a:pt x="0" y="123"/>
                </a:lnTo>
                <a:close/>
              </a:path>
            </a:pathLst>
          </a:custGeom>
          <a:gradFill rotWithShape="0">
            <a:gsLst>
              <a:gs pos="0">
                <a:srgbClr val="4a452a"/>
              </a:gs>
              <a:gs pos="100000">
                <a:srgbClr val="1e1c1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Freeform 18"/>
          <p:cNvSpPr/>
          <p:nvPr/>
        </p:nvSpPr>
        <p:spPr>
          <a:xfrm flipH="1">
            <a:off x="4631760" y="2396160"/>
            <a:ext cx="1015560" cy="1080720"/>
          </a:xfrm>
          <a:custGeom>
            <a:avLst/>
            <a:gdLst>
              <a:gd name="textAreaLeft" fmla="*/ -360 w 1015560"/>
              <a:gd name="textAreaRight" fmla="*/ 1015560 w 10155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913" h="972">
                <a:moveTo>
                  <a:pt x="913" y="958"/>
                </a:moveTo>
                <a:lnTo>
                  <a:pt x="0" y="972"/>
                </a:lnTo>
                <a:lnTo>
                  <a:pt x="0" y="0"/>
                </a:lnTo>
                <a:lnTo>
                  <a:pt x="913" y="6"/>
                </a:lnTo>
                <a:lnTo>
                  <a:pt x="913" y="9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8f8f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Freeform 19"/>
          <p:cNvSpPr/>
          <p:nvPr/>
        </p:nvSpPr>
        <p:spPr>
          <a:xfrm flipH="1">
            <a:off x="5647680" y="2396160"/>
            <a:ext cx="75960" cy="1080720"/>
          </a:xfrm>
          <a:custGeom>
            <a:avLst/>
            <a:gdLst>
              <a:gd name="textAreaLeft" fmla="*/ -360 w 75960"/>
              <a:gd name="textAreaRight" fmla="*/ 75960 w 7596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69" h="972">
                <a:moveTo>
                  <a:pt x="0" y="87"/>
                </a:moveTo>
                <a:lnTo>
                  <a:pt x="0" y="906"/>
                </a:lnTo>
                <a:lnTo>
                  <a:pt x="69" y="972"/>
                </a:lnTo>
                <a:lnTo>
                  <a:pt x="69" y="0"/>
                </a:lnTo>
                <a:lnTo>
                  <a:pt x="0" y="87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434880" y="105948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206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1"/>
          <p:cNvSpPr/>
          <p:nvPr/>
        </p:nvSpPr>
        <p:spPr>
          <a:xfrm flipV="1">
            <a:off x="452160" y="1154520"/>
            <a:ext cx="360" cy="1193760"/>
          </a:xfrm>
          <a:prstGeom prst="line">
            <a:avLst/>
          </a:prstGeom>
          <a:ln w="12700">
            <a:solidFill>
              <a:srgbClr val="00206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Line 23"/>
          <p:cNvSpPr/>
          <p:nvPr/>
        </p:nvSpPr>
        <p:spPr>
          <a:xfrm flipV="1">
            <a:off x="3473280" y="1165680"/>
            <a:ext cx="360" cy="1193760"/>
          </a:xfrm>
          <a:prstGeom prst="line">
            <a:avLst/>
          </a:prstGeom>
          <a:ln w="1270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24"/>
          <p:cNvSpPr/>
          <p:nvPr/>
        </p:nvSpPr>
        <p:spPr>
          <a:xfrm>
            <a:off x="5867280" y="117180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4a452a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5"/>
          <p:cNvSpPr/>
          <p:nvPr/>
        </p:nvSpPr>
        <p:spPr>
          <a:xfrm flipV="1">
            <a:off x="5867280" y="1164240"/>
            <a:ext cx="360" cy="1193760"/>
          </a:xfrm>
          <a:prstGeom prst="line">
            <a:avLst/>
          </a:prstGeom>
          <a:ln w="12700">
            <a:solidFill>
              <a:srgbClr val="eeece1">
                <a:lumMod val="25000"/>
              </a:srgbClr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2195640" y="40442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7"/>
          <p:cNvSpPr/>
          <p:nvPr/>
        </p:nvSpPr>
        <p:spPr>
          <a:xfrm flipV="1">
            <a:off x="2215800" y="3539160"/>
            <a:ext cx="360" cy="12380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29"/>
          <p:cNvSpPr/>
          <p:nvPr/>
        </p:nvSpPr>
        <p:spPr>
          <a:xfrm flipV="1">
            <a:off x="4652640" y="3469320"/>
            <a:ext cx="360" cy="133812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31"/>
          <p:cNvSpPr/>
          <p:nvPr/>
        </p:nvSpPr>
        <p:spPr>
          <a:xfrm flipV="1">
            <a:off x="7213320" y="3580200"/>
            <a:ext cx="360" cy="1227240"/>
          </a:xfrm>
          <a:prstGeom prst="line">
            <a:avLst/>
          </a:prstGeom>
          <a:ln w="12700">
            <a:solidFill>
              <a:srgbClr val="80808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Freeform 32"/>
          <p:cNvSpPr/>
          <p:nvPr/>
        </p:nvSpPr>
        <p:spPr>
          <a:xfrm>
            <a:off x="2124000" y="359316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WordArt 33"/>
          <p:cNvSpPr txBox="1"/>
          <p:nvPr/>
        </p:nvSpPr>
        <p:spPr>
          <a:xfrm>
            <a:off x="939960" y="3237480"/>
            <a:ext cx="13788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Broadway"/>
              </a:rPr>
              <a:t>1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WordArt 34"/>
          <p:cNvSpPr txBox="1"/>
          <p:nvPr/>
        </p:nvSpPr>
        <p:spPr>
          <a:xfrm>
            <a:off x="2287440" y="31550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2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4" name="WordArt 35"/>
          <p:cNvSpPr txBox="1"/>
          <p:nvPr/>
        </p:nvSpPr>
        <p:spPr>
          <a:xfrm>
            <a:off x="3575160" y="314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3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5" name="WordArt 36"/>
          <p:cNvSpPr txBox="1"/>
          <p:nvPr/>
        </p:nvSpPr>
        <p:spPr>
          <a:xfrm>
            <a:off x="4711680" y="314856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4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6" name="WordArt 37"/>
          <p:cNvSpPr txBox="1"/>
          <p:nvPr/>
        </p:nvSpPr>
        <p:spPr>
          <a:xfrm>
            <a:off x="5940360" y="3155040"/>
            <a:ext cx="17424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5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7" name="WordArt 38"/>
          <p:cNvSpPr txBox="1"/>
          <p:nvPr/>
        </p:nvSpPr>
        <p:spPr>
          <a:xfrm>
            <a:off x="7308720" y="3220200"/>
            <a:ext cx="182160" cy="2808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002060"/>
                </a:solidFill>
                <a:latin typeface="Broadway"/>
              </a:rPr>
              <a:t>6</a:t>
            </a:r>
            <a:endParaRPr b="0" lang="en-US" sz="3600" spc="-1" strike="noStrike">
              <a:ln w="0">
                <a:noFill/>
              </a:ln>
              <a:solidFill>
                <a:srgbClr val="002060"/>
              </a:solidFill>
              <a:latin typeface="Arial"/>
            </a:endParaRPr>
          </a:p>
        </p:txBody>
      </p:sp>
      <p:sp>
        <p:nvSpPr>
          <p:cNvPr id="608" name="Freeform 39"/>
          <p:cNvSpPr/>
          <p:nvPr/>
        </p:nvSpPr>
        <p:spPr>
          <a:xfrm>
            <a:off x="1781280" y="4082040"/>
            <a:ext cx="23400" cy="1080"/>
          </a:xfrm>
          <a:custGeom>
            <a:avLst/>
            <a:gdLst>
              <a:gd name="textAreaLeft" fmla="*/ 0 w 23400"/>
              <a:gd name="textAreaRight" fmla="*/ 23760 w 23400"/>
              <a:gd name="textAreaTop" fmla="*/ 0 h 1080"/>
              <a:gd name="textAreaBottom" fmla="*/ 1440 h 1080"/>
            </a:gdLst>
            <a:ahLst/>
            <a:rect l="textAreaLeft" t="textAreaTop" r="textAreaRight" b="textAreaBottom"/>
            <a:pathLst>
              <a:path w="12" h="1587">
                <a:moveTo>
                  <a:pt x="12" y="0"/>
                </a:move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202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Rectangle 26"/>
          <p:cNvSpPr/>
          <p:nvPr/>
        </p:nvSpPr>
        <p:spPr>
          <a:xfrm>
            <a:off x="3554280" y="116604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6"/>
          <p:cNvSpPr/>
          <p:nvPr/>
        </p:nvSpPr>
        <p:spPr>
          <a:xfrm>
            <a:off x="4711680" y="405216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6"/>
          <p:cNvSpPr/>
          <p:nvPr/>
        </p:nvSpPr>
        <p:spPr>
          <a:xfrm>
            <a:off x="7213680" y="3980160"/>
            <a:ext cx="190476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2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48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49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直接连接符 50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1"/>
          <p:cNvSpPr/>
          <p:nvPr/>
        </p:nvSpPr>
        <p:spPr>
          <a:xfrm>
            <a:off x="6768360" y="359280"/>
            <a:ext cx="14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结</a:t>
            </a: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2"/>
          <p:cNvSpPr/>
          <p:nvPr/>
        </p:nvSpPr>
        <p:spPr>
          <a:xfrm>
            <a:off x="7961760" y="444600"/>
            <a:ext cx="1181880" cy="53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7925400" y="736920"/>
            <a:ext cx="125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"/>
          <p:cNvSpPr/>
          <p:nvPr/>
        </p:nvSpPr>
        <p:spPr>
          <a:xfrm>
            <a:off x="1006920" y="3147840"/>
            <a:ext cx="56530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感谢我的爸爸、感谢我的妈妈，感谢</a:t>
            </a:r>
            <a:r>
              <a:rPr b="1" lang="en-US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CCTV</a:t>
            </a:r>
            <a:r>
              <a:rPr b="1" lang="zh-CN" sz="2400" spc="-1" strike="noStrike">
                <a:solidFill>
                  <a:srgbClr val="002060"/>
                </a:solidFill>
                <a:latin typeface="微软雅黑"/>
                <a:ea typeface="微软雅黑"/>
              </a:rPr>
              <a:t>给我这次机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燕尾形 5"/>
          <p:cNvSpPr/>
          <p:nvPr/>
        </p:nvSpPr>
        <p:spPr>
          <a:xfrm>
            <a:off x="395640" y="3291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燕尾形 6"/>
          <p:cNvSpPr/>
          <p:nvPr/>
        </p:nvSpPr>
        <p:spPr>
          <a:xfrm>
            <a:off x="611640" y="3291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1" name="直接连接符 7"/>
          <p:cNvCxnSpPr/>
          <p:nvPr/>
        </p:nvCxnSpPr>
        <p:spPr>
          <a:xfrm>
            <a:off x="971280" y="3239280"/>
            <a:ext cx="360" cy="1456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22" name="图片 10"/>
          <p:cNvSpPr/>
          <p:nvPr/>
        </p:nvSpPr>
        <p:spPr>
          <a:xfrm>
            <a:off x="234000" y="123480"/>
            <a:ext cx="6534360" cy="2963880"/>
          </a:xfrm>
          <a:prstGeom prst="roundRect">
            <a:avLst>
              <a:gd name="adj" fmla="val 3814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笑脸 17"/>
          <p:cNvSpPr/>
          <p:nvPr/>
        </p:nvSpPr>
        <p:spPr>
          <a:xfrm>
            <a:off x="1187640" y="4281120"/>
            <a:ext cx="414360" cy="414360"/>
          </a:xfrm>
          <a:prstGeom prst="smileyFace">
            <a:avLst>
              <a:gd name="adj" fmla="val 4653"/>
            </a:avLst>
          </a:prstGeom>
          <a:solidFill>
            <a:srgbClr val="ffc000"/>
          </a:solidFill>
          <a:ln>
            <a:solidFill>
              <a:srgbClr val="1f497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7603920" y="365580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直接连接符 20"/>
          <p:cNvCxnSpPr/>
          <p:nvPr/>
        </p:nvCxnSpPr>
        <p:spPr>
          <a:xfrm>
            <a:off x="6744240" y="3248280"/>
            <a:ext cx="360" cy="145656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626" name="Text Box 9"/>
          <p:cNvSpPr/>
          <p:nvPr/>
        </p:nvSpPr>
        <p:spPr>
          <a:xfrm>
            <a:off x="-164520" y="4778280"/>
            <a:ext cx="6824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中国风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27" name="直接连接符 1"/>
          <p:cNvCxnSpPr/>
          <p:nvPr/>
        </p:nvCxnSpPr>
        <p:spPr>
          <a:xfrm>
            <a:off x="3707640" y="699480"/>
            <a:ext cx="360" cy="410472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628" name="TextBox 2"/>
          <p:cNvSpPr/>
          <p:nvPr/>
        </p:nvSpPr>
        <p:spPr>
          <a:xfrm>
            <a:off x="2009520" y="22006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3"/>
          <p:cNvSpPr/>
          <p:nvPr/>
        </p:nvSpPr>
        <p:spPr>
          <a:xfrm>
            <a:off x="4010040" y="1913400"/>
            <a:ext cx="4161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谢谢大家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4068000" y="2881440"/>
            <a:ext cx="3384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09520" y="372384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"/>
          <p:cNvSpPr/>
          <p:nvPr/>
        </p:nvSpPr>
        <p:spPr>
          <a:xfrm>
            <a:off x="1182240" y="195480"/>
            <a:ext cx="1475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序</a:t>
            </a:r>
            <a:r>
              <a:rPr b="0" lang="zh-CN" sz="4000" spc="-1" strike="noStrike">
                <a:solidFill>
                  <a:srgbClr val="002060"/>
                </a:solidFill>
                <a:latin typeface="经典特宋简"/>
                <a:ea typeface="经典特宋简"/>
              </a:rPr>
              <a:t>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335160"/>
            <a:ext cx="1181880" cy="5367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-36360" y="627480"/>
            <a:ext cx="1259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10243e"/>
                </a:solidFill>
                <a:latin typeface="Britannic Bold"/>
              </a:rPr>
              <a:t>Pre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图片 6"/>
          <p:cNvSpPr/>
          <p:nvPr/>
        </p:nvSpPr>
        <p:spPr>
          <a:xfrm>
            <a:off x="2411640" y="268560"/>
            <a:ext cx="6552360" cy="2937240"/>
          </a:xfrm>
          <a:prstGeom prst="roundRect">
            <a:avLst>
              <a:gd name="adj" fmla="val 3225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燕尾形 8"/>
          <p:cNvSpPr/>
          <p:nvPr/>
        </p:nvSpPr>
        <p:spPr>
          <a:xfrm>
            <a:off x="2483640" y="3363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206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0"/>
          <p:cNvSpPr/>
          <p:nvPr/>
        </p:nvSpPr>
        <p:spPr>
          <a:xfrm>
            <a:off x="2699640" y="3363840"/>
            <a:ext cx="287640" cy="287640"/>
          </a:xfrm>
          <a:prstGeom prst="chevron">
            <a:avLst>
              <a:gd name="adj" fmla="val 50000"/>
            </a:avLst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8" name="直接连接符 12"/>
          <p:cNvCxnSpPr/>
          <p:nvPr/>
        </p:nvCxnSpPr>
        <p:spPr>
          <a:xfrm>
            <a:off x="3059640" y="3363480"/>
            <a:ext cx="360" cy="162000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179" name="矩形 14"/>
          <p:cNvSpPr/>
          <p:nvPr/>
        </p:nvSpPr>
        <p:spPr>
          <a:xfrm>
            <a:off x="3132000" y="3277800"/>
            <a:ext cx="5688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照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，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党组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司、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院的统一部署和关心指导下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以来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凝心聚力、锐意进取、扎实工作、开拓创新，奋力开创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新局面，取得了丰硕的建设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直接连接符 21"/>
          <p:cNvCxnSpPr/>
          <p:nvPr/>
        </p:nvCxnSpPr>
        <p:spPr>
          <a:xfrm>
            <a:off x="8892360" y="3320640"/>
            <a:ext cx="360" cy="161964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0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1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192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sp>
        <p:nvSpPr>
          <p:cNvPr id="193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195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06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07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08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09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211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2"/>
          <p:cNvSpPr/>
          <p:nvPr/>
        </p:nvSpPr>
        <p:spPr>
          <a:xfrm>
            <a:off x="209520" y="279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534960" y="1491480"/>
            <a:ext cx="738360" cy="20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图片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直接连接符 5"/>
          <p:cNvCxnSpPr/>
          <p:nvPr/>
        </p:nvCxnSpPr>
        <p:spPr>
          <a:xfrm>
            <a:off x="666000" y="1545480"/>
            <a:ext cx="360" cy="3330720"/>
          </a:xfrm>
          <a:prstGeom prst="straightConnector1">
            <a:avLst/>
          </a:prstGeom>
          <a:ln w="3175">
            <a:solidFill>
              <a:srgbClr val="ffffff"/>
            </a:solidFill>
            <a:round/>
          </a:ln>
        </p:spPr>
      </p:cxnSp>
      <p:sp>
        <p:nvSpPr>
          <p:cNvPr id="216" name="矩形 7"/>
          <p:cNvSpPr/>
          <p:nvPr/>
        </p:nvSpPr>
        <p:spPr>
          <a:xfrm>
            <a:off x="558360" y="2955240"/>
            <a:ext cx="3690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The picture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0" descr=""/>
          <p:cNvPicPr/>
          <p:nvPr/>
        </p:nvPicPr>
        <p:blipFill>
          <a:blip r:embed="rId1"/>
          <a:stretch/>
        </p:blipFill>
        <p:spPr>
          <a:xfrm>
            <a:off x="2123640" y="260640"/>
            <a:ext cx="4896360" cy="325116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2"/>
          <a:stretch/>
        </p:blipFill>
        <p:spPr>
          <a:xfrm>
            <a:off x="7088040" y="267480"/>
            <a:ext cx="1730520" cy="11592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5" descr=""/>
          <p:cNvPicPr/>
          <p:nvPr/>
        </p:nvPicPr>
        <p:blipFill>
          <a:blip r:embed="rId3"/>
          <a:stretch/>
        </p:blipFill>
        <p:spPr>
          <a:xfrm>
            <a:off x="7088040" y="1851840"/>
            <a:ext cx="1755360" cy="121104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30"/>
          <p:cNvGrpSpPr/>
          <p:nvPr/>
        </p:nvGrpSpPr>
        <p:grpSpPr>
          <a:xfrm>
            <a:off x="2123280" y="3172320"/>
            <a:ext cx="4896360" cy="248760"/>
            <a:chOff x="2123280" y="3172320"/>
            <a:chExt cx="4896360" cy="248760"/>
          </a:xfrm>
        </p:grpSpPr>
        <p:sp>
          <p:nvSpPr>
            <p:cNvPr id="221" name="矩形 20"/>
            <p:cNvSpPr/>
            <p:nvPr/>
          </p:nvSpPr>
          <p:spPr>
            <a:xfrm flipH="1">
              <a:off x="2122920" y="3196080"/>
              <a:ext cx="4896360" cy="225000"/>
            </a:xfrm>
            <a:prstGeom prst="rect">
              <a:avLst/>
            </a:prstGeom>
            <a:gradFill rotWithShape="0">
              <a:gsLst>
                <a:gs pos="0">
                  <a:srgbClr val="002060">
                    <a:alpha val="63137"/>
                  </a:srgbClr>
                </a:gs>
                <a:gs pos="100000">
                  <a:srgbClr val="002060">
                    <a:alpha val="80000"/>
                  </a:srgbClr>
                </a:gs>
              </a:gsLst>
              <a:lin ang="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TextBox 21"/>
            <p:cNvSpPr/>
            <p:nvPr/>
          </p:nvSpPr>
          <p:spPr>
            <a:xfrm>
              <a:off x="2954160" y="3172320"/>
              <a:ext cx="31298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漂亮风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2"/>
          <p:cNvSpPr/>
          <p:nvPr/>
        </p:nvSpPr>
        <p:spPr>
          <a:xfrm>
            <a:off x="3851280" y="2923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50"/>
          <p:cNvGrpSpPr/>
          <p:nvPr/>
        </p:nvGrpSpPr>
        <p:grpSpPr>
          <a:xfrm>
            <a:off x="7059600" y="1432080"/>
            <a:ext cx="1904760" cy="241920"/>
            <a:chOff x="7059600" y="1432080"/>
            <a:chExt cx="1904760" cy="241920"/>
          </a:xfrm>
        </p:grpSpPr>
        <p:sp>
          <p:nvSpPr>
            <p:cNvPr id="225" name="矩形 26"/>
            <p:cNvSpPr/>
            <p:nvPr/>
          </p:nvSpPr>
          <p:spPr>
            <a:xfrm>
              <a:off x="7059600" y="144720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b0f0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27"/>
            <p:cNvSpPr/>
            <p:nvPr/>
          </p:nvSpPr>
          <p:spPr>
            <a:xfrm flipH="1">
              <a:off x="8143560" y="1432080"/>
              <a:ext cx="8208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28"/>
          <p:cNvSpPr/>
          <p:nvPr/>
        </p:nvSpPr>
        <p:spPr>
          <a:xfrm>
            <a:off x="7906680" y="12754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3"/>
          <p:cNvSpPr/>
          <p:nvPr/>
        </p:nvSpPr>
        <p:spPr>
          <a:xfrm>
            <a:off x="8280000" y="1651680"/>
            <a:ext cx="5011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直接连接符 36"/>
          <p:cNvCxnSpPr/>
          <p:nvPr/>
        </p:nvCxnSpPr>
        <p:spPr>
          <a:xfrm>
            <a:off x="2123640" y="3651840"/>
            <a:ext cx="668268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cxnSp>
        <p:nvCxnSpPr>
          <p:cNvPr id="230" name="直接连接符 38"/>
          <p:cNvCxnSpPr/>
          <p:nvPr/>
        </p:nvCxnSpPr>
        <p:spPr>
          <a:xfrm>
            <a:off x="2123640" y="4875840"/>
            <a:ext cx="6682680" cy="360"/>
          </a:xfrm>
          <a:prstGeom prst="straightConnector1">
            <a:avLst/>
          </a:prstGeom>
          <a:ln>
            <a:solidFill>
              <a:srgbClr val="002060"/>
            </a:solidFill>
            <a:round/>
          </a:ln>
        </p:spPr>
      </p:cxnSp>
      <p:grpSp>
        <p:nvGrpSpPr>
          <p:cNvPr id="231" name="组合 50"/>
          <p:cNvGrpSpPr/>
          <p:nvPr/>
        </p:nvGrpSpPr>
        <p:grpSpPr>
          <a:xfrm>
            <a:off x="7059600" y="3073320"/>
            <a:ext cx="1916280" cy="241920"/>
            <a:chOff x="7059600" y="3073320"/>
            <a:chExt cx="1916280" cy="241920"/>
          </a:xfrm>
        </p:grpSpPr>
        <p:sp>
          <p:nvSpPr>
            <p:cNvPr id="232" name="矩形 43"/>
            <p:cNvSpPr/>
            <p:nvPr/>
          </p:nvSpPr>
          <p:spPr>
            <a:xfrm>
              <a:off x="7059600" y="3088440"/>
              <a:ext cx="1758960" cy="209160"/>
            </a:xfrm>
            <a:prstGeom prst="rect">
              <a:avLst/>
            </a:prstGeom>
            <a:gradFill rotWithShape="0">
              <a:gsLst>
                <a:gs pos="0">
                  <a:srgbClr val="002060"/>
                </a:gs>
                <a:gs pos="100000">
                  <a:srgbClr val="00b0f0">
                    <a:alpha val="0"/>
                  </a:srgbClr>
                </a:gs>
              </a:gsLst>
              <a:lin ang="10800000"/>
            </a:gradFill>
            <a:ln w="1270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44"/>
            <p:cNvSpPr/>
            <p:nvPr/>
          </p:nvSpPr>
          <p:spPr>
            <a:xfrm flipH="1">
              <a:off x="8155080" y="3073320"/>
              <a:ext cx="8208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片说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Box 45"/>
          <p:cNvSpPr/>
          <p:nvPr/>
        </p:nvSpPr>
        <p:spPr>
          <a:xfrm>
            <a:off x="7918200" y="2917080"/>
            <a:ext cx="327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  <a:ea typeface="经典特宋简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6"/>
          <p:cNvSpPr/>
          <p:nvPr/>
        </p:nvSpPr>
        <p:spPr>
          <a:xfrm>
            <a:off x="8280000" y="3292920"/>
            <a:ext cx="50112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1"/>
          <p:cNvSpPr/>
          <p:nvPr/>
        </p:nvSpPr>
        <p:spPr>
          <a:xfrm>
            <a:off x="2241360" y="393120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直接连接符 57"/>
          <p:cNvCxnSpPr/>
          <p:nvPr/>
        </p:nvCxnSpPr>
        <p:spPr>
          <a:xfrm>
            <a:off x="2674080" y="387792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38" name="TextBox 58"/>
          <p:cNvSpPr/>
          <p:nvPr/>
        </p:nvSpPr>
        <p:spPr>
          <a:xfrm>
            <a:off x="2680920" y="387972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59"/>
          <p:cNvSpPr/>
          <p:nvPr/>
        </p:nvSpPr>
        <p:spPr>
          <a:xfrm>
            <a:off x="2752920" y="418608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0"/>
          <p:cNvSpPr/>
          <p:nvPr/>
        </p:nvSpPr>
        <p:spPr>
          <a:xfrm>
            <a:off x="4617720" y="39211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直接连接符 61"/>
          <p:cNvCxnSpPr/>
          <p:nvPr/>
        </p:nvCxnSpPr>
        <p:spPr>
          <a:xfrm>
            <a:off x="5050440" y="386784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42" name="TextBox 62"/>
          <p:cNvSpPr/>
          <p:nvPr/>
        </p:nvSpPr>
        <p:spPr>
          <a:xfrm>
            <a:off x="5057280" y="386964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3"/>
          <p:cNvSpPr/>
          <p:nvPr/>
        </p:nvSpPr>
        <p:spPr>
          <a:xfrm>
            <a:off x="5129280" y="417600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64"/>
          <p:cNvSpPr/>
          <p:nvPr/>
        </p:nvSpPr>
        <p:spPr>
          <a:xfrm>
            <a:off x="6850080" y="3921120"/>
            <a:ext cx="4143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2060"/>
                </a:solidFill>
                <a:latin typeface="Broadway"/>
                <a:ea typeface="经典特宋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直接连接符 65"/>
          <p:cNvCxnSpPr/>
          <p:nvPr/>
        </p:nvCxnSpPr>
        <p:spPr>
          <a:xfrm>
            <a:off x="7282440" y="3867840"/>
            <a:ext cx="360" cy="7822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246" name="TextBox 66"/>
          <p:cNvSpPr/>
          <p:nvPr/>
        </p:nvSpPr>
        <p:spPr>
          <a:xfrm>
            <a:off x="7289640" y="3869640"/>
            <a:ext cx="10983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【</a:t>
            </a:r>
            <a:r>
              <a:rPr b="1" lang="zh-CN" sz="11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图片说明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7"/>
          <p:cNvSpPr/>
          <p:nvPr/>
        </p:nvSpPr>
        <p:spPr>
          <a:xfrm>
            <a:off x="7361640" y="4176000"/>
            <a:ext cx="100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补充说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圆角矩形 1"/>
          <p:cNvSpPr/>
          <p:nvPr/>
        </p:nvSpPr>
        <p:spPr>
          <a:xfrm>
            <a:off x="2771640" y="12110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圆角矩形 2"/>
          <p:cNvSpPr/>
          <p:nvPr/>
        </p:nvSpPr>
        <p:spPr>
          <a:xfrm>
            <a:off x="2771640" y="1995840"/>
            <a:ext cx="5328360" cy="568080"/>
          </a:xfrm>
          <a:prstGeom prst="roundRect">
            <a:avLst>
              <a:gd name="adj" fmla="val 50000"/>
            </a:avLst>
          </a:prstGeom>
          <a:solidFill>
            <a:srgbClr val="002060"/>
          </a:solidFill>
          <a:ln w="88900">
            <a:solidFill>
              <a:srgbClr val="ffc000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圆角矩形 3"/>
          <p:cNvSpPr/>
          <p:nvPr/>
        </p:nvSpPr>
        <p:spPr>
          <a:xfrm>
            <a:off x="2807640" y="2787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圆角矩形 4"/>
          <p:cNvSpPr/>
          <p:nvPr/>
        </p:nvSpPr>
        <p:spPr>
          <a:xfrm>
            <a:off x="2807640" y="3579840"/>
            <a:ext cx="5328360" cy="568080"/>
          </a:xfrm>
          <a:prstGeom prst="roundRect">
            <a:avLst>
              <a:gd name="adj" fmla="val 50000"/>
            </a:avLst>
          </a:prstGeom>
          <a:solidFill>
            <a:schemeClr val="bg1">
              <a:lumMod val="85000"/>
            </a:schemeClr>
          </a:solidFill>
          <a:ln w="88900">
            <a:solidFill>
              <a:srgbClr val="f2f2f2"/>
            </a:solidFill>
            <a:round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4214880" y="120672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4214880" y="1999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214880" y="281736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4214880" y="3583080"/>
            <a:ext cx="9612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Broadway"/>
                <a:ea typeface="微软雅黑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一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直接连接符 11"/>
          <p:cNvCxnSpPr/>
          <p:nvPr/>
        </p:nvCxnSpPr>
        <p:spPr>
          <a:xfrm>
            <a:off x="4044600" y="1275480"/>
            <a:ext cx="360" cy="451440"/>
          </a:xfrm>
          <a:prstGeom prst="straightConnector1">
            <a:avLst/>
          </a:prstGeom>
          <a:ln>
            <a:solidFill>
              <a:srgbClr val="ffc000"/>
            </a:solidFill>
            <a:prstDash val="sysDot"/>
            <a:round/>
          </a:ln>
        </p:spPr>
      </p:cxnSp>
      <p:cxnSp>
        <p:nvCxnSpPr>
          <p:cNvPr id="257" name="直接连接符 12"/>
          <p:cNvCxnSpPr/>
          <p:nvPr/>
        </p:nvCxnSpPr>
        <p:spPr>
          <a:xfrm>
            <a:off x="4044600" y="2067480"/>
            <a:ext cx="360" cy="45144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58" name="直接连接符 13"/>
          <p:cNvCxnSpPr/>
          <p:nvPr/>
        </p:nvCxnSpPr>
        <p:spPr>
          <a:xfrm>
            <a:off x="4050000" y="284616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cxnSp>
        <p:nvCxnSpPr>
          <p:cNvPr id="259" name="直接连接符 14"/>
          <p:cNvCxnSpPr/>
          <p:nvPr/>
        </p:nvCxnSpPr>
        <p:spPr>
          <a:xfrm>
            <a:off x="4050000" y="3631320"/>
            <a:ext cx="360" cy="4518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prstDash val="sysDot"/>
            <a:round/>
          </a:ln>
        </p:spPr>
      </p:cxnSp>
      <p:sp>
        <p:nvSpPr>
          <p:cNvPr id="260" name="TextBox 28"/>
          <p:cNvSpPr/>
          <p:nvPr/>
        </p:nvSpPr>
        <p:spPr>
          <a:xfrm>
            <a:off x="213480" y="388008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1"/>
          <a:srcRect l="0" t="0" r="36471" b="0"/>
          <a:stretch/>
        </p:blipFill>
        <p:spPr>
          <a:xfrm>
            <a:off x="840240" y="-187560"/>
            <a:ext cx="925560" cy="3828600"/>
          </a:xfrm>
          <a:prstGeom prst="rect">
            <a:avLst/>
          </a:prstGeom>
          <a:ln w="0">
            <a:noFill/>
          </a:ln>
        </p:spPr>
      </p:pic>
      <p:sp>
        <p:nvSpPr>
          <p:cNvPr id="262" name="燕尾形 33"/>
          <p:cNvSpPr/>
          <p:nvPr/>
        </p:nvSpPr>
        <p:spPr>
          <a:xfrm>
            <a:off x="1836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燕尾形 35"/>
          <p:cNvSpPr/>
          <p:nvPr/>
        </p:nvSpPr>
        <p:spPr>
          <a:xfrm>
            <a:off x="459000" y="339480"/>
            <a:ext cx="503640" cy="503640"/>
          </a:xfrm>
          <a:prstGeom prst="chevron">
            <a:avLst>
              <a:gd name="adj" fmla="val 50000"/>
            </a:avLst>
          </a:prstGeom>
          <a:solidFill>
            <a:schemeClr val="bg1">
              <a:alpha val="6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14720" y="4674960"/>
            <a:ext cx="6824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中国风</a:t>
            </a:r>
            <a:r>
              <a:rPr b="0" lang="en-US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2314440" y="691200"/>
            <a:ext cx="6177960" cy="4033440"/>
            <a:chOff x="2314440" y="691200"/>
            <a:chExt cx="6177960" cy="4033440"/>
          </a:xfrm>
        </p:grpSpPr>
        <p:sp>
          <p:nvSpPr>
            <p:cNvPr id="266" name="Arc 11"/>
            <p:cNvSpPr/>
            <p:nvPr/>
          </p:nvSpPr>
          <p:spPr>
            <a:xfrm>
              <a:off x="3566880" y="691200"/>
              <a:ext cx="2072880" cy="1928520"/>
            </a:xfrm>
            <a:custGeom>
              <a:avLst/>
              <a:gdLst>
                <a:gd name="textAreaLeft" fmla="*/ 0 w 2072880"/>
                <a:gd name="textAreaRight" fmla="*/ 2073240 w 2072880"/>
                <a:gd name="textAreaTop" fmla="*/ 0 h 1928520"/>
                <a:gd name="textAreaBottom" fmla="*/ 1928880 h 1928520"/>
              </a:gdLst>
              <a:ahLst/>
              <a:rect l="textAreaLeft" t="textAreaTop" r="textAreaRight" b="textAreaBottom"/>
              <a:pathLst>
                <a:path fill="none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</a:path>
                <a:path stroke="0" w="14464" h="20295">
                  <a:moveTo>
                    <a:pt x="-1" y="4252"/>
                  </a:moveTo>
                  <a:cubicBezTo>
                    <a:pt x="2061" y="2393"/>
                    <a:pt x="4462" y="949"/>
                    <a:pt x="7070" y="-1"/>
                  </a:cubicBezTo>
                  <a:lnTo>
                    <a:pt x="14464" y="20295"/>
                  </a:lnTo>
                  <a:lnTo>
                    <a:pt x="-1" y="4252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rc 39"/>
            <p:cNvSpPr/>
            <p:nvPr/>
          </p:nvSpPr>
          <p:spPr>
            <a:xfrm rot="413400">
              <a:off x="2376000" y="2675520"/>
              <a:ext cx="3096720" cy="1215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215720"/>
                <a:gd name="textAreaBottom" fmla="*/ 1216080 h 1215720"/>
              </a:gdLst>
              <a:ahLst/>
              <a:rect l="textAreaLeft" t="textAreaTop" r="textAreaRight" b="textAreaBottom"/>
              <a:pathLst>
                <a:path fill="none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</a:path>
                <a:path stroke="0" w="21600" h="12802">
                  <a:moveTo>
                    <a:pt x="3707" y="12801"/>
                  </a:moveTo>
                  <a:cubicBezTo>
                    <a:pt x="1291" y="9229"/>
                    <a:pt x="0" y="5014"/>
                    <a:pt x="0" y="702"/>
                  </a:cubicBezTo>
                  <a:cubicBezTo>
                    <a:pt x="-1" y="467"/>
                    <a:pt x="3" y="233"/>
                    <a:pt x="11" y="0"/>
                  </a:cubicBezTo>
                  <a:lnTo>
                    <a:pt x="21600" y="702"/>
                  </a:lnTo>
                  <a:lnTo>
                    <a:pt x="3707" y="1280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Arc 40"/>
            <p:cNvSpPr/>
            <p:nvPr/>
          </p:nvSpPr>
          <p:spPr>
            <a:xfrm>
              <a:off x="4785840" y="2672280"/>
              <a:ext cx="1344240" cy="2052360"/>
            </a:xfrm>
            <a:custGeom>
              <a:avLst/>
              <a:gdLst>
                <a:gd name="textAreaLeft" fmla="*/ 0 w 1344240"/>
                <a:gd name="textAreaRight" fmla="*/ 1344600 w 1344240"/>
                <a:gd name="textAreaTop" fmla="*/ 0 h 2052360"/>
                <a:gd name="textAreaBottom" fmla="*/ 2052720 h 2052360"/>
              </a:gdLst>
              <a:ahLst/>
              <a:rect l="textAreaLeft" t="textAreaTop" r="textAreaRight" b="textAreaBottom"/>
              <a:pathLst>
                <a:path fill="none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</a:path>
                <a:path stroke="0" w="9377" h="21600">
                  <a:moveTo>
                    <a:pt x="9376" y="20929"/>
                  </a:moveTo>
                  <a:cubicBezTo>
                    <a:pt x="7631" y="21374"/>
                    <a:pt x="5837" y="21599"/>
                    <a:pt x="4037" y="21600"/>
                  </a:cubicBezTo>
                  <a:cubicBezTo>
                    <a:pt x="2682" y="21600"/>
                    <a:pt x="1330" y="21472"/>
                    <a:pt x="-1" y="21219"/>
                  </a:cubicBezTo>
                  <a:lnTo>
                    <a:pt x="4037" y="0"/>
                  </a:lnTo>
                  <a:lnTo>
                    <a:pt x="9376" y="20929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Arc 41"/>
            <p:cNvSpPr/>
            <p:nvPr/>
          </p:nvSpPr>
          <p:spPr>
            <a:xfrm>
              <a:off x="5395680" y="2550240"/>
              <a:ext cx="3096720" cy="1188720"/>
            </a:xfrm>
            <a:custGeom>
              <a:avLst/>
              <a:gdLst>
                <a:gd name="textAreaLeft" fmla="*/ 0 w 3096720"/>
                <a:gd name="textAreaRight" fmla="*/ 3097080 w 309672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fill="none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</a:path>
                <a:path stroke="0" w="21600" h="12526">
                  <a:moveTo>
                    <a:pt x="21527" y="-1"/>
                  </a:moveTo>
                  <a:cubicBezTo>
                    <a:pt x="21575" y="589"/>
                    <a:pt x="21600" y="1181"/>
                    <a:pt x="21600" y="1773"/>
                  </a:cubicBezTo>
                  <a:cubicBezTo>
                    <a:pt x="21600" y="5546"/>
                    <a:pt x="20611" y="9253"/>
                    <a:pt x="18733" y="12526"/>
                  </a:cubicBezTo>
                  <a:lnTo>
                    <a:pt x="0" y="1773"/>
                  </a:lnTo>
                  <a:lnTo>
                    <a:pt x="21527" y="-1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Arc 42"/>
            <p:cNvSpPr/>
            <p:nvPr/>
          </p:nvSpPr>
          <p:spPr>
            <a:xfrm>
              <a:off x="5559120" y="791280"/>
              <a:ext cx="1893600" cy="1956960"/>
            </a:xfrm>
            <a:custGeom>
              <a:avLst/>
              <a:gdLst>
                <a:gd name="textAreaLeft" fmla="*/ 0 w 1893600"/>
                <a:gd name="textAreaRight" fmla="*/ 1893960 w 1893600"/>
                <a:gd name="textAreaTop" fmla="*/ 0 h 1956960"/>
                <a:gd name="textAreaBottom" fmla="*/ 1957320 h 1956960"/>
              </a:gdLst>
              <a:ahLst/>
              <a:rect l="textAreaLeft" t="textAreaTop" r="textAreaRight" b="textAreaBottom"/>
              <a:pathLst>
                <a:path fill="none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</a:path>
                <a:path stroke="0" w="13214" h="20600">
                  <a:moveTo>
                    <a:pt x="6497" y="0"/>
                  </a:moveTo>
                  <a:cubicBezTo>
                    <a:pt x="8926" y="766"/>
                    <a:pt x="11199" y="1955"/>
                    <a:pt x="13213" y="3513"/>
                  </a:cubicBezTo>
                  <a:lnTo>
                    <a:pt x="0" y="20600"/>
                  </a:lnTo>
                  <a:lnTo>
                    <a:pt x="6497" y="0"/>
                  </a:lnTo>
                  <a:close/>
                </a:path>
              </a:pathLst>
            </a:custGeom>
            <a:noFill/>
            <a:ln w="38100">
              <a:solidFill>
                <a:srgbClr val="ffc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4280" bIns="4428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Oval 12"/>
          <p:cNvSpPr/>
          <p:nvPr/>
        </p:nvSpPr>
        <p:spPr>
          <a:xfrm>
            <a:off x="2747520" y="896040"/>
            <a:ext cx="5435280" cy="3603240"/>
          </a:xfrm>
          <a:prstGeom prst="ellipse">
            <a:avLst/>
          </a:prstGeom>
          <a:gradFill rotWithShape="0">
            <a:gsLst>
              <a:gs pos="28000">
                <a:srgbClr val="002060"/>
              </a:gs>
              <a:gs pos="100000">
                <a:srgbClr val="948a5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2887200" y="934200"/>
            <a:ext cx="5157360" cy="32778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77"/>
          <p:cNvSpPr/>
          <p:nvPr/>
        </p:nvSpPr>
        <p:spPr>
          <a:xfrm>
            <a:off x="4870800" y="2248560"/>
            <a:ext cx="1274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2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层并列关系展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04"/>
          <p:cNvGrpSpPr/>
          <p:nvPr/>
        </p:nvGrpSpPr>
        <p:grpSpPr>
          <a:xfrm>
            <a:off x="7092720" y="988200"/>
            <a:ext cx="1844280" cy="1788840"/>
            <a:chOff x="7092720" y="988200"/>
            <a:chExt cx="1844280" cy="1788840"/>
          </a:xfrm>
        </p:grpSpPr>
        <p:sp>
          <p:nvSpPr>
            <p:cNvPr id="275" name="Oval 48"/>
            <p:cNvSpPr/>
            <p:nvPr/>
          </p:nvSpPr>
          <p:spPr>
            <a:xfrm>
              <a:off x="7092720" y="199620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Oval 52"/>
            <p:cNvSpPr/>
            <p:nvPr/>
          </p:nvSpPr>
          <p:spPr>
            <a:xfrm>
              <a:off x="7232400" y="98820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53" descr="Picture2"/>
            <p:cNvPicPr/>
            <p:nvPr/>
          </p:nvPicPr>
          <p:blipFill>
            <a:blip r:embed="rId1"/>
            <a:stretch/>
          </p:blipFill>
          <p:spPr>
            <a:xfrm>
              <a:off x="7392600" y="98820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Group 54"/>
            <p:cNvGrpSpPr/>
            <p:nvPr/>
          </p:nvGrpSpPr>
          <p:grpSpPr>
            <a:xfrm>
              <a:off x="7333920" y="1995480"/>
              <a:ext cx="1366920" cy="544680"/>
              <a:chOff x="7333920" y="1995480"/>
              <a:chExt cx="1366920" cy="544680"/>
            </a:xfrm>
          </p:grpSpPr>
          <p:grpSp>
            <p:nvGrpSpPr>
              <p:cNvPr id="279" name="Group 55"/>
              <p:cNvGrpSpPr/>
              <p:nvPr/>
            </p:nvGrpSpPr>
            <p:grpSpPr>
              <a:xfrm>
                <a:off x="7572600" y="1995480"/>
                <a:ext cx="1128240" cy="512640"/>
                <a:chOff x="7572600" y="1995480"/>
                <a:chExt cx="1128240" cy="512640"/>
              </a:xfrm>
            </p:grpSpPr>
            <p:sp>
              <p:nvSpPr>
                <p:cNvPr id="280" name="AutoShape 56"/>
                <p:cNvSpPr/>
                <p:nvPr/>
              </p:nvSpPr>
              <p:spPr>
                <a:xfrm rot="14766000">
                  <a:off x="8187480" y="1842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7"/>
                <p:cNvSpPr/>
                <p:nvPr/>
              </p:nvSpPr>
              <p:spPr>
                <a:xfrm rot="15580800">
                  <a:off x="8060040" y="18925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8"/>
                <p:cNvSpPr/>
                <p:nvPr/>
              </p:nvSpPr>
              <p:spPr>
                <a:xfrm rot="15876600">
                  <a:off x="7982280" y="190296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3" name="AutoShape 59"/>
                <p:cNvSpPr/>
                <p:nvPr/>
              </p:nvSpPr>
              <p:spPr>
                <a:xfrm rot="16408800">
                  <a:off x="7888320" y="19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4" name="Group 60"/>
              <p:cNvGrpSpPr/>
              <p:nvPr/>
            </p:nvGrpSpPr>
            <p:grpSpPr>
              <a:xfrm>
                <a:off x="7333920" y="2001960"/>
                <a:ext cx="1125720" cy="538200"/>
                <a:chOff x="7333920" y="2001960"/>
                <a:chExt cx="1125720" cy="538200"/>
              </a:xfrm>
            </p:grpSpPr>
            <p:sp>
              <p:nvSpPr>
                <p:cNvPr id="285" name="AutoShape 61"/>
                <p:cNvSpPr/>
                <p:nvPr/>
              </p:nvSpPr>
              <p:spPr>
                <a:xfrm rot="16119000">
                  <a:off x="7948440" y="19119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62"/>
                <p:cNvSpPr/>
                <p:nvPr/>
              </p:nvSpPr>
              <p:spPr>
                <a:xfrm rot="16934400">
                  <a:off x="7812000" y="1909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63"/>
                <p:cNvSpPr/>
                <p:nvPr/>
              </p:nvSpPr>
              <p:spPr>
                <a:xfrm rot="17230200">
                  <a:off x="7736040" y="188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8" name="AutoShape 64"/>
                <p:cNvSpPr/>
                <p:nvPr/>
              </p:nvSpPr>
              <p:spPr>
                <a:xfrm rot="17762400">
                  <a:off x="7646040" y="1861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89" name="Group 105"/>
          <p:cNvGrpSpPr/>
          <p:nvPr/>
        </p:nvGrpSpPr>
        <p:grpSpPr>
          <a:xfrm>
            <a:off x="2123640" y="988200"/>
            <a:ext cx="1844280" cy="1788840"/>
            <a:chOff x="2123640" y="988200"/>
            <a:chExt cx="1844280" cy="1788840"/>
          </a:xfrm>
        </p:grpSpPr>
        <p:sp>
          <p:nvSpPr>
            <p:cNvPr id="290" name="Oval 48"/>
            <p:cNvSpPr/>
            <p:nvPr/>
          </p:nvSpPr>
          <p:spPr>
            <a:xfrm>
              <a:off x="2123640" y="1996200"/>
              <a:ext cx="1844280" cy="780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Oval 52"/>
            <p:cNvSpPr/>
            <p:nvPr/>
          </p:nvSpPr>
          <p:spPr>
            <a:xfrm>
              <a:off x="2263320" y="988200"/>
              <a:ext cx="1564920" cy="155232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4a452a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2" name="Picture 53" descr="Picture2"/>
            <p:cNvPicPr/>
            <p:nvPr/>
          </p:nvPicPr>
          <p:blipFill>
            <a:blip r:embed="rId2"/>
            <a:stretch/>
          </p:blipFill>
          <p:spPr>
            <a:xfrm>
              <a:off x="2423880" y="988200"/>
              <a:ext cx="1244160" cy="54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54"/>
            <p:cNvGrpSpPr/>
            <p:nvPr/>
          </p:nvGrpSpPr>
          <p:grpSpPr>
            <a:xfrm>
              <a:off x="2365200" y="1995480"/>
              <a:ext cx="1366560" cy="544680"/>
              <a:chOff x="2365200" y="1995480"/>
              <a:chExt cx="1366560" cy="544680"/>
            </a:xfrm>
          </p:grpSpPr>
          <p:grpSp>
            <p:nvGrpSpPr>
              <p:cNvPr id="294" name="Group 55"/>
              <p:cNvGrpSpPr/>
              <p:nvPr/>
            </p:nvGrpSpPr>
            <p:grpSpPr>
              <a:xfrm>
                <a:off x="2603880" y="1995480"/>
                <a:ext cx="1127880" cy="512640"/>
                <a:chOff x="2603880" y="1995480"/>
                <a:chExt cx="1127880" cy="512640"/>
              </a:xfrm>
            </p:grpSpPr>
            <p:sp>
              <p:nvSpPr>
                <p:cNvPr id="295" name="AutoShape 56"/>
                <p:cNvSpPr/>
                <p:nvPr/>
              </p:nvSpPr>
              <p:spPr>
                <a:xfrm rot="14766000">
                  <a:off x="3218400" y="18421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6" name="AutoShape 57"/>
                <p:cNvSpPr/>
                <p:nvPr/>
              </p:nvSpPr>
              <p:spPr>
                <a:xfrm rot="15580800">
                  <a:off x="3091320" y="189252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7" name="AutoShape 58"/>
                <p:cNvSpPr/>
                <p:nvPr/>
              </p:nvSpPr>
              <p:spPr>
                <a:xfrm rot="15876600">
                  <a:off x="3013200" y="190296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8" name="AutoShape 59"/>
                <p:cNvSpPr/>
                <p:nvPr/>
              </p:nvSpPr>
              <p:spPr>
                <a:xfrm rot="16408800">
                  <a:off x="2919600" y="1911600"/>
                  <a:ext cx="19764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9" name="Group 60"/>
              <p:cNvGrpSpPr/>
              <p:nvPr/>
            </p:nvGrpSpPr>
            <p:grpSpPr>
              <a:xfrm>
                <a:off x="2365200" y="2001960"/>
                <a:ext cx="1125720" cy="538200"/>
                <a:chOff x="2365200" y="2001960"/>
                <a:chExt cx="1125720" cy="538200"/>
              </a:xfrm>
            </p:grpSpPr>
            <p:sp>
              <p:nvSpPr>
                <p:cNvPr id="300" name="AutoShape 61"/>
                <p:cNvSpPr/>
                <p:nvPr/>
              </p:nvSpPr>
              <p:spPr>
                <a:xfrm rot="16119000">
                  <a:off x="2979720" y="191196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1" name="AutoShape 62"/>
                <p:cNvSpPr/>
                <p:nvPr/>
              </p:nvSpPr>
              <p:spPr>
                <a:xfrm rot="16934400">
                  <a:off x="2843280" y="190944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2" name="AutoShape 63"/>
                <p:cNvSpPr/>
                <p:nvPr/>
              </p:nvSpPr>
              <p:spPr>
                <a:xfrm rot="17230200">
                  <a:off x="2767320" y="188892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3" name="AutoShape 64"/>
                <p:cNvSpPr/>
                <p:nvPr/>
              </p:nvSpPr>
              <p:spPr>
                <a:xfrm rot="17762400">
                  <a:off x="2677320" y="1861200"/>
                  <a:ext cx="198720" cy="8190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04" name="Group 121"/>
          <p:cNvGrpSpPr/>
          <p:nvPr/>
        </p:nvGrpSpPr>
        <p:grpSpPr>
          <a:xfrm>
            <a:off x="2889000" y="3097800"/>
            <a:ext cx="2088720" cy="2025360"/>
            <a:chOff x="2889000" y="3097800"/>
            <a:chExt cx="2088720" cy="2025360"/>
          </a:xfrm>
        </p:grpSpPr>
        <p:sp>
          <p:nvSpPr>
            <p:cNvPr id="305" name="Oval 48"/>
            <p:cNvSpPr/>
            <p:nvPr/>
          </p:nvSpPr>
          <p:spPr>
            <a:xfrm>
              <a:off x="2889000" y="423936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Oval 52"/>
            <p:cNvSpPr/>
            <p:nvPr/>
          </p:nvSpPr>
          <p:spPr>
            <a:xfrm>
              <a:off x="3047040" y="309780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53" descr="Picture2"/>
            <p:cNvPicPr/>
            <p:nvPr/>
          </p:nvPicPr>
          <p:blipFill>
            <a:blip r:embed="rId3"/>
            <a:stretch/>
          </p:blipFill>
          <p:spPr>
            <a:xfrm>
              <a:off x="3228840" y="309780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8" name="Group 54"/>
            <p:cNvGrpSpPr/>
            <p:nvPr/>
          </p:nvGrpSpPr>
          <p:grpSpPr>
            <a:xfrm>
              <a:off x="3162240" y="4238280"/>
              <a:ext cx="1548000" cy="616680"/>
              <a:chOff x="3162240" y="4238280"/>
              <a:chExt cx="1548000" cy="616680"/>
            </a:xfrm>
          </p:grpSpPr>
          <p:grpSp>
            <p:nvGrpSpPr>
              <p:cNvPr id="309" name="Group 55"/>
              <p:cNvGrpSpPr/>
              <p:nvPr/>
            </p:nvGrpSpPr>
            <p:grpSpPr>
              <a:xfrm>
                <a:off x="3432600" y="4238280"/>
                <a:ext cx="1277640" cy="580680"/>
                <a:chOff x="3432600" y="4238280"/>
                <a:chExt cx="1277640" cy="580680"/>
              </a:xfrm>
            </p:grpSpPr>
            <p:sp>
              <p:nvSpPr>
                <p:cNvPr id="310" name="AutoShape 56"/>
                <p:cNvSpPr/>
                <p:nvPr/>
              </p:nvSpPr>
              <p:spPr>
                <a:xfrm rot="14766000">
                  <a:off x="4128840" y="4064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1" name="AutoShape 57"/>
                <p:cNvSpPr/>
                <p:nvPr/>
              </p:nvSpPr>
              <p:spPr>
                <a:xfrm rot="15580800">
                  <a:off x="3984480" y="41216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8"/>
                <p:cNvSpPr/>
                <p:nvPr/>
              </p:nvSpPr>
              <p:spPr>
                <a:xfrm rot="15876600">
                  <a:off x="3896280" y="41331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9"/>
                <p:cNvSpPr/>
                <p:nvPr/>
              </p:nvSpPr>
              <p:spPr>
                <a:xfrm rot="16408800">
                  <a:off x="3790440" y="41436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4" name="Group 60"/>
              <p:cNvGrpSpPr/>
              <p:nvPr/>
            </p:nvGrpSpPr>
            <p:grpSpPr>
              <a:xfrm>
                <a:off x="3162240" y="4245480"/>
                <a:ext cx="1275120" cy="609480"/>
                <a:chOff x="3162240" y="4245480"/>
                <a:chExt cx="1275120" cy="609480"/>
              </a:xfrm>
            </p:grpSpPr>
            <p:sp>
              <p:nvSpPr>
                <p:cNvPr id="315" name="AutoShape 61"/>
                <p:cNvSpPr/>
                <p:nvPr/>
              </p:nvSpPr>
              <p:spPr>
                <a:xfrm rot="16119000">
                  <a:off x="3858120" y="41436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6" name="AutoShape 62"/>
                <p:cNvSpPr/>
                <p:nvPr/>
              </p:nvSpPr>
              <p:spPr>
                <a:xfrm rot="16934400">
                  <a:off x="3703680" y="4140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7" name="AutoShape 63"/>
                <p:cNvSpPr/>
                <p:nvPr/>
              </p:nvSpPr>
              <p:spPr>
                <a:xfrm rot="17230200">
                  <a:off x="3617640" y="41176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8" name="AutoShape 64"/>
                <p:cNvSpPr/>
                <p:nvPr/>
              </p:nvSpPr>
              <p:spPr>
                <a:xfrm rot="17762400">
                  <a:off x="3515760" y="4086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19" name="Group 136"/>
          <p:cNvGrpSpPr/>
          <p:nvPr/>
        </p:nvGrpSpPr>
        <p:grpSpPr>
          <a:xfrm>
            <a:off x="6057720" y="3097800"/>
            <a:ext cx="2088720" cy="2025360"/>
            <a:chOff x="6057720" y="3097800"/>
            <a:chExt cx="2088720" cy="2025360"/>
          </a:xfrm>
        </p:grpSpPr>
        <p:sp>
          <p:nvSpPr>
            <p:cNvPr id="320" name="Oval 48"/>
            <p:cNvSpPr/>
            <p:nvPr/>
          </p:nvSpPr>
          <p:spPr>
            <a:xfrm>
              <a:off x="6057720" y="4239360"/>
              <a:ext cx="2088720" cy="883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Oval 52"/>
            <p:cNvSpPr/>
            <p:nvPr/>
          </p:nvSpPr>
          <p:spPr>
            <a:xfrm>
              <a:off x="6228360" y="3097800"/>
              <a:ext cx="1772280" cy="1757520"/>
            </a:xfrm>
            <a:prstGeom prst="ellipse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02060"/>
                </a:gs>
              </a:gsLst>
              <a:lin ang="2700000"/>
            </a:gradFill>
            <a:ln w="9525">
              <a:solidFill>
                <a:srgbClr val="002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2" name="Picture 53" descr="Picture2"/>
            <p:cNvPicPr/>
            <p:nvPr/>
          </p:nvPicPr>
          <p:blipFill>
            <a:blip r:embed="rId4"/>
            <a:stretch/>
          </p:blipFill>
          <p:spPr>
            <a:xfrm>
              <a:off x="6397200" y="3097800"/>
              <a:ext cx="1409040" cy="619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54"/>
            <p:cNvGrpSpPr/>
            <p:nvPr/>
          </p:nvGrpSpPr>
          <p:grpSpPr>
            <a:xfrm>
              <a:off x="6330960" y="4238280"/>
              <a:ext cx="1548000" cy="616680"/>
              <a:chOff x="6330960" y="4238280"/>
              <a:chExt cx="1548000" cy="616680"/>
            </a:xfrm>
          </p:grpSpPr>
          <p:grpSp>
            <p:nvGrpSpPr>
              <p:cNvPr id="324" name="Group 55"/>
              <p:cNvGrpSpPr/>
              <p:nvPr/>
            </p:nvGrpSpPr>
            <p:grpSpPr>
              <a:xfrm>
                <a:off x="6601320" y="4238280"/>
                <a:ext cx="1277640" cy="580680"/>
                <a:chOff x="6601320" y="4238280"/>
                <a:chExt cx="1277640" cy="580680"/>
              </a:xfrm>
            </p:grpSpPr>
            <p:sp>
              <p:nvSpPr>
                <p:cNvPr id="325" name="AutoShape 56"/>
                <p:cNvSpPr/>
                <p:nvPr/>
              </p:nvSpPr>
              <p:spPr>
                <a:xfrm rot="14766000">
                  <a:off x="7297560" y="40647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6" name="AutoShape 57"/>
                <p:cNvSpPr/>
                <p:nvPr/>
              </p:nvSpPr>
              <p:spPr>
                <a:xfrm rot="15580800">
                  <a:off x="7153200" y="412164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7" name="AutoShape 58"/>
                <p:cNvSpPr/>
                <p:nvPr/>
              </p:nvSpPr>
              <p:spPr>
                <a:xfrm rot="15876600">
                  <a:off x="7065000" y="413316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8" name="AutoShape 59"/>
                <p:cNvSpPr/>
                <p:nvPr/>
              </p:nvSpPr>
              <p:spPr>
                <a:xfrm rot="16408800">
                  <a:off x="6959160" y="4143600"/>
                  <a:ext cx="22392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9" name="Group 60"/>
              <p:cNvGrpSpPr/>
              <p:nvPr/>
            </p:nvGrpSpPr>
            <p:grpSpPr>
              <a:xfrm>
                <a:off x="6330960" y="4245480"/>
                <a:ext cx="1275120" cy="609480"/>
                <a:chOff x="6330960" y="4245480"/>
                <a:chExt cx="1275120" cy="609480"/>
              </a:xfrm>
            </p:grpSpPr>
            <p:sp>
              <p:nvSpPr>
                <p:cNvPr id="330" name="AutoShape 61"/>
                <p:cNvSpPr/>
                <p:nvPr/>
              </p:nvSpPr>
              <p:spPr>
                <a:xfrm rot="16119000">
                  <a:off x="7026840" y="41436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1" name="AutoShape 62"/>
                <p:cNvSpPr/>
                <p:nvPr/>
              </p:nvSpPr>
              <p:spPr>
                <a:xfrm rot="16934400">
                  <a:off x="6872400" y="414072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2" name="AutoShape 63"/>
                <p:cNvSpPr/>
                <p:nvPr/>
              </p:nvSpPr>
              <p:spPr>
                <a:xfrm rot="17230200">
                  <a:off x="6786360" y="411768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3" name="AutoShape 64"/>
                <p:cNvSpPr/>
                <p:nvPr/>
              </p:nvSpPr>
              <p:spPr>
                <a:xfrm rot="17762400">
                  <a:off x="6684480" y="4086000"/>
                  <a:ext cx="225360" cy="927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34" name="Group 153"/>
          <p:cNvGrpSpPr/>
          <p:nvPr/>
        </p:nvGrpSpPr>
        <p:grpSpPr>
          <a:xfrm>
            <a:off x="4723920" y="51480"/>
            <a:ext cx="1657080" cy="1605960"/>
            <a:chOff x="4723920" y="51480"/>
            <a:chExt cx="1657080" cy="1605960"/>
          </a:xfrm>
        </p:grpSpPr>
        <p:sp>
          <p:nvSpPr>
            <p:cNvPr id="335" name="Oval 48"/>
            <p:cNvSpPr/>
            <p:nvPr/>
          </p:nvSpPr>
          <p:spPr>
            <a:xfrm>
              <a:off x="4723920" y="956520"/>
              <a:ext cx="1657080" cy="700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45e7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Oval 52"/>
            <p:cNvSpPr/>
            <p:nvPr/>
          </p:nvSpPr>
          <p:spPr>
            <a:xfrm>
              <a:off x="4849560" y="51480"/>
              <a:ext cx="1405800" cy="139392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c0c0c0"/>
                </a:gs>
              </a:gsLst>
              <a:lin ang="2700000"/>
            </a:gradFill>
            <a:ln w="9525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此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53" descr="Picture2"/>
            <p:cNvPicPr/>
            <p:nvPr/>
          </p:nvPicPr>
          <p:blipFill>
            <a:blip r:embed="rId5"/>
            <a:stretch/>
          </p:blipFill>
          <p:spPr>
            <a:xfrm>
              <a:off x="4993560" y="51480"/>
              <a:ext cx="1117800" cy="491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54"/>
            <p:cNvGrpSpPr/>
            <p:nvPr/>
          </p:nvGrpSpPr>
          <p:grpSpPr>
            <a:xfrm>
              <a:off x="4941000" y="956160"/>
              <a:ext cx="1227960" cy="488880"/>
              <a:chOff x="4941000" y="956160"/>
              <a:chExt cx="1227960" cy="488880"/>
            </a:xfrm>
          </p:grpSpPr>
          <p:grpSp>
            <p:nvGrpSpPr>
              <p:cNvPr id="339" name="Group 55"/>
              <p:cNvGrpSpPr/>
              <p:nvPr/>
            </p:nvGrpSpPr>
            <p:grpSpPr>
              <a:xfrm>
                <a:off x="5155200" y="956160"/>
                <a:ext cx="1013760" cy="460440"/>
                <a:chOff x="5155200" y="956160"/>
                <a:chExt cx="1013760" cy="460440"/>
              </a:xfrm>
            </p:grpSpPr>
            <p:sp>
              <p:nvSpPr>
                <p:cNvPr id="340" name="AutoShape 56"/>
                <p:cNvSpPr/>
                <p:nvPr/>
              </p:nvSpPr>
              <p:spPr>
                <a:xfrm rot="14766000">
                  <a:off x="5707800" y="8182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1" name="AutoShape 57"/>
                <p:cNvSpPr/>
                <p:nvPr/>
              </p:nvSpPr>
              <p:spPr>
                <a:xfrm rot="15580800">
                  <a:off x="5593320" y="86328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2" name="AutoShape 58"/>
                <p:cNvSpPr/>
                <p:nvPr/>
              </p:nvSpPr>
              <p:spPr>
                <a:xfrm rot="15876600">
                  <a:off x="5523120" y="87264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3" name="AutoShape 59"/>
                <p:cNvSpPr/>
                <p:nvPr/>
              </p:nvSpPr>
              <p:spPr>
                <a:xfrm rot="16408800">
                  <a:off x="5438880" y="880560"/>
                  <a:ext cx="17748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4" name="Group 60"/>
              <p:cNvGrpSpPr/>
              <p:nvPr/>
            </p:nvGrpSpPr>
            <p:grpSpPr>
              <a:xfrm>
                <a:off x="4941000" y="961560"/>
                <a:ext cx="1011240" cy="483480"/>
                <a:chOff x="4941000" y="961560"/>
                <a:chExt cx="1011240" cy="483480"/>
              </a:xfrm>
            </p:grpSpPr>
            <p:sp>
              <p:nvSpPr>
                <p:cNvPr id="345" name="AutoShape 61"/>
                <p:cNvSpPr/>
                <p:nvPr/>
              </p:nvSpPr>
              <p:spPr>
                <a:xfrm rot="16119000">
                  <a:off x="5492880" y="8805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6" name="AutoShape 62"/>
                <p:cNvSpPr/>
                <p:nvPr/>
              </p:nvSpPr>
              <p:spPr>
                <a:xfrm rot="16934400">
                  <a:off x="5370480" y="87876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7" name="AutoShape 63"/>
                <p:cNvSpPr/>
                <p:nvPr/>
              </p:nvSpPr>
              <p:spPr>
                <a:xfrm rot="17230200">
                  <a:off x="5302080" y="86004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AutoShape 64"/>
                <p:cNvSpPr/>
                <p:nvPr/>
              </p:nvSpPr>
              <p:spPr>
                <a:xfrm rot="17762400">
                  <a:off x="5221440" y="835200"/>
                  <a:ext cx="178560" cy="735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349" name="TextBox 86"/>
          <p:cNvSpPr/>
          <p:nvPr/>
        </p:nvSpPr>
        <p:spPr>
          <a:xfrm>
            <a:off x="209520" y="69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直接连接符 87"/>
          <p:cNvCxnSpPr/>
          <p:nvPr/>
        </p:nvCxnSpPr>
        <p:spPr>
          <a:xfrm>
            <a:off x="179280" y="1419480"/>
            <a:ext cx="1432080" cy="28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51" name="矩形 91"/>
          <p:cNvSpPr/>
          <p:nvPr/>
        </p:nvSpPr>
        <p:spPr>
          <a:xfrm>
            <a:off x="539640" y="1673280"/>
            <a:ext cx="67680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d6d6d6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4"/>
          <p:cNvSpPr/>
          <p:nvPr/>
        </p:nvSpPr>
        <p:spPr>
          <a:xfrm>
            <a:off x="668880" y="4447080"/>
            <a:ext cx="7708680" cy="572760"/>
          </a:xfrm>
          <a:custGeom>
            <a:avLst/>
            <a:gdLst>
              <a:gd name="textAreaLeft" fmla="*/ 0 w 7708680"/>
              <a:gd name="textAreaRight" fmla="*/ 7709040 w 7708680"/>
              <a:gd name="textAreaTop" fmla="*/ 0 h 572760"/>
              <a:gd name="textAreaBottom" fmla="*/ 573120 h 572760"/>
            </a:gdLst>
            <a:ahLst/>
            <a:rect l="textAreaLeft" t="textAreaTop" r="textAreaRight" b="textAreaBottom"/>
            <a:pathLst>
              <a:path w="4870" h="361">
                <a:moveTo>
                  <a:pt x="0" y="264"/>
                </a:moveTo>
                <a:cubicBezTo>
                  <a:pt x="0" y="132"/>
                  <a:pt x="0" y="0"/>
                  <a:pt x="0" y="0"/>
                </a:cubicBezTo>
                <a:lnTo>
                  <a:pt x="4870" y="0"/>
                </a:lnTo>
                <a:lnTo>
                  <a:pt x="4868" y="244"/>
                </a:lnTo>
                <a:cubicBezTo>
                  <a:pt x="4870" y="337"/>
                  <a:pt x="4838" y="354"/>
                  <a:pt x="4750" y="357"/>
                </a:cubicBezTo>
                <a:lnTo>
                  <a:pt x="118" y="357"/>
                </a:lnTo>
                <a:cubicBezTo>
                  <a:pt x="40" y="361"/>
                  <a:pt x="2" y="309"/>
                  <a:pt x="0" y="264"/>
                </a:cubicBezTo>
                <a:close/>
              </a:path>
            </a:pathLst>
          </a:custGeom>
          <a:solidFill>
            <a:srgbClr val="002060"/>
          </a:solidFill>
          <a:ln w="9525">
            <a:noFill/>
          </a:ln>
          <a:scene3d>
            <a:camera prst="legacyPerspectiveTop"/>
            <a:lightRig dir="t" rig="legacyNormal3"/>
          </a:scene3d>
          <a:sp3d extrusionH="430200" prstMaterial="legacyMatte">
            <a:bevelT prst="angle" w="13500" h="13500"/>
            <a:bevelB prst="angle" w="13500" h="13500"/>
            <a:extrusionClr>
              <a:srgbClr val="6ace32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6499440" y="1716480"/>
            <a:ext cx="1887120" cy="577440"/>
          </a:xfrm>
          <a:custGeom>
            <a:avLst/>
            <a:gdLst>
              <a:gd name="textAreaLeft" fmla="*/ 0 w 1887120"/>
              <a:gd name="textAreaRight" fmla="*/ 1887480 w 18871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ffc000"/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ffcf37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6"/>
          <p:cNvSpPr/>
          <p:nvPr/>
        </p:nvSpPr>
        <p:spPr>
          <a:xfrm>
            <a:off x="5052240" y="1714680"/>
            <a:ext cx="1461600" cy="577440"/>
          </a:xfrm>
          <a:custGeom>
            <a:avLst/>
            <a:gdLst>
              <a:gd name="textAreaLeft" fmla="*/ 0 w 1461600"/>
              <a:gd name="textAreaRight" fmla="*/ 1461960 w 146160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Lef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7"/>
          <p:cNvSpPr/>
          <p:nvPr/>
        </p:nvSpPr>
        <p:spPr>
          <a:xfrm>
            <a:off x="668880" y="1716480"/>
            <a:ext cx="1456920" cy="577440"/>
          </a:xfrm>
          <a:custGeom>
            <a:avLst/>
            <a:gdLst>
              <a:gd name="textAreaLeft" fmla="*/ 0 w 1456920"/>
              <a:gd name="textAreaRight" fmla="*/ 1457280 w 145692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rgbClr val="0070c0"/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rgbClr val="00b0f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8"/>
          <p:cNvSpPr/>
          <p:nvPr/>
        </p:nvSpPr>
        <p:spPr>
          <a:xfrm>
            <a:off x="212292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Right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9"/>
          <p:cNvSpPr/>
          <p:nvPr/>
        </p:nvSpPr>
        <p:spPr>
          <a:xfrm>
            <a:off x="3598560" y="1714680"/>
            <a:ext cx="1468080" cy="577440"/>
          </a:xfrm>
          <a:custGeom>
            <a:avLst/>
            <a:gdLst>
              <a:gd name="textAreaLeft" fmla="*/ 0 w 1468080"/>
              <a:gd name="textAreaRight" fmla="*/ 1468440 w 1468080"/>
              <a:gd name="textAreaTop" fmla="*/ 0 h 577440"/>
              <a:gd name="textAreaBottom" fmla="*/ 577800 h 577440"/>
            </a:gdLst>
            <a:ahLst/>
            <a:rect l="textAreaLeft" t="textAreaTop" r="textAreaRight" b="textAreaBottom"/>
            <a:pathLst>
              <a:path w="925" h="364">
                <a:moveTo>
                  <a:pt x="1" y="100"/>
                </a:moveTo>
                <a:cubicBezTo>
                  <a:pt x="1" y="232"/>
                  <a:pt x="1" y="364"/>
                  <a:pt x="1" y="364"/>
                </a:cubicBezTo>
                <a:lnTo>
                  <a:pt x="923" y="364"/>
                </a:lnTo>
                <a:lnTo>
                  <a:pt x="924" y="98"/>
                </a:lnTo>
                <a:cubicBezTo>
                  <a:pt x="925" y="57"/>
                  <a:pt x="919" y="40"/>
                  <a:pt x="903" y="22"/>
                </a:cubicBezTo>
                <a:cubicBezTo>
                  <a:pt x="887" y="4"/>
                  <a:pt x="862" y="1"/>
                  <a:pt x="822" y="3"/>
                </a:cubicBezTo>
                <a:lnTo>
                  <a:pt x="99" y="2"/>
                </a:lnTo>
                <a:cubicBezTo>
                  <a:pt x="61" y="0"/>
                  <a:pt x="37" y="10"/>
                  <a:pt x="21" y="26"/>
                </a:cubicBezTo>
                <a:cubicBezTo>
                  <a:pt x="5" y="42"/>
                  <a:pt x="0" y="65"/>
                  <a:pt x="1" y="100"/>
                </a:cubicBezTo>
                <a:close/>
              </a:path>
            </a:pathLst>
          </a:custGeom>
          <a:solidFill>
            <a:schemeClr val="bg1">
              <a:lumMod val="65000"/>
            </a:schemeClr>
          </a:solidFill>
          <a:ln w="9525">
            <a:noFill/>
          </a:ln>
          <a:scene3d>
            <a:camera prst="legacyPerspectiveTop"/>
            <a:lightRig dir="t" rig="legacyNormal2"/>
          </a:scene3d>
          <a:sp3d extrusionH="430200" prstMaterial="legacyPlastic">
            <a:bevelT prst="angle" w="13500" h="13500"/>
            <a:bevelB prst="angle" w="13500" h="13500"/>
            <a:extrusionClr>
              <a:schemeClr val="bg1">
                <a:lumMod val="85000"/>
              </a:schemeClr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8" name="Group 8"/>
          <p:cNvGrpSpPr/>
          <p:nvPr/>
        </p:nvGrpSpPr>
        <p:grpSpPr>
          <a:xfrm>
            <a:off x="659160" y="2286000"/>
            <a:ext cx="7729920" cy="2223000"/>
            <a:chOff x="659160" y="2286000"/>
            <a:chExt cx="7729920" cy="2223000"/>
          </a:xfrm>
        </p:grpSpPr>
        <p:sp>
          <p:nvSpPr>
            <p:cNvPr id="359" name="Rectangle 11"/>
            <p:cNvSpPr/>
            <p:nvPr/>
          </p:nvSpPr>
          <p:spPr>
            <a:xfrm>
              <a:off x="504216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3580200" y="395316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211968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59160" y="39531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04216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"/>
            <p:cNvSpPr/>
            <p:nvPr/>
          </p:nvSpPr>
          <p:spPr>
            <a:xfrm>
              <a:off x="3580200" y="339768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7"/>
            <p:cNvSpPr/>
            <p:nvPr/>
          </p:nvSpPr>
          <p:spPr>
            <a:xfrm>
              <a:off x="211968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659160" y="339768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9"/>
            <p:cNvSpPr/>
            <p:nvPr/>
          </p:nvSpPr>
          <p:spPr>
            <a:xfrm>
              <a:off x="504216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0"/>
            <p:cNvSpPr/>
            <p:nvPr/>
          </p:nvSpPr>
          <p:spPr>
            <a:xfrm>
              <a:off x="3580200" y="284184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1"/>
            <p:cNvSpPr/>
            <p:nvPr/>
          </p:nvSpPr>
          <p:spPr>
            <a:xfrm>
              <a:off x="211968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659160" y="284184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3"/>
            <p:cNvSpPr/>
            <p:nvPr/>
          </p:nvSpPr>
          <p:spPr>
            <a:xfrm>
              <a:off x="6502680" y="2286360"/>
              <a:ext cx="1885680" cy="2222280"/>
            </a:xfrm>
            <a:prstGeom prst="rect">
              <a:avLst/>
            </a:prstGeom>
            <a:gradFill rotWithShape="0">
              <a:gsLst>
                <a:gs pos="0">
                  <a:srgbClr val="948a54"/>
                </a:gs>
                <a:gs pos="100000">
                  <a:srgbClr val="ddd9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4"/>
            <p:cNvSpPr/>
            <p:nvPr/>
          </p:nvSpPr>
          <p:spPr>
            <a:xfrm>
              <a:off x="504216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5"/>
            <p:cNvSpPr/>
            <p:nvPr/>
          </p:nvSpPr>
          <p:spPr>
            <a:xfrm>
              <a:off x="3580200" y="2286360"/>
              <a:ext cx="146160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211968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a6a6a6"/>
                </a:gs>
                <a:gs pos="100000">
                  <a:srgbClr val="f2f2f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281"/>
                </a:spcBef>
              </a:pPr>
              <a:r>
                <a:rPr b="1" lang="zh-CN" sz="14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659160" y="2286360"/>
              <a:ext cx="1460160" cy="555120"/>
            </a:xfrm>
            <a:prstGeom prst="rect">
              <a:avLst/>
            </a:prstGeom>
            <a:gradFill rotWithShape="0">
              <a:gsLst>
                <a:gs pos="0">
                  <a:srgbClr val="0070c0"/>
                </a:gs>
                <a:gs pos="100000">
                  <a:srgbClr val="099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zh-CN" sz="16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标题 </a:t>
              </a:r>
              <a:r>
                <a:rPr b="0" lang="en-US" sz="1600" spc="-1" strike="noStrike">
                  <a:solidFill>
                    <a:srgbClr val="080808"/>
                  </a:solidFill>
                  <a:latin typeface="Calibri"/>
                  <a:ea typeface="微软雅黑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8"/>
            <p:cNvSpPr/>
            <p:nvPr/>
          </p:nvSpPr>
          <p:spPr>
            <a:xfrm>
              <a:off x="659160" y="2286000"/>
              <a:ext cx="772956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9"/>
            <p:cNvSpPr/>
            <p:nvPr/>
          </p:nvSpPr>
          <p:spPr>
            <a:xfrm>
              <a:off x="659160" y="2286000"/>
              <a:ext cx="360" cy="222264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30"/>
            <p:cNvSpPr/>
            <p:nvPr/>
          </p:nvSpPr>
          <p:spPr>
            <a:xfrm>
              <a:off x="8388720" y="2286000"/>
              <a:ext cx="360" cy="222264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31"/>
            <p:cNvSpPr/>
            <p:nvPr/>
          </p:nvSpPr>
          <p:spPr>
            <a:xfrm>
              <a:off x="659160" y="4508640"/>
              <a:ext cx="7729560" cy="360"/>
            </a:xfrm>
            <a:prstGeom prst="line">
              <a:avLst/>
            </a:prstGeom>
            <a:ln cap="sq"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32"/>
            <p:cNvSpPr/>
            <p:nvPr/>
          </p:nvSpPr>
          <p:spPr>
            <a:xfrm>
              <a:off x="211968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33"/>
            <p:cNvSpPr/>
            <p:nvPr/>
          </p:nvSpPr>
          <p:spPr>
            <a:xfrm>
              <a:off x="357984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4"/>
            <p:cNvSpPr/>
            <p:nvPr/>
          </p:nvSpPr>
          <p:spPr>
            <a:xfrm>
              <a:off x="504216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5"/>
            <p:cNvSpPr/>
            <p:nvPr/>
          </p:nvSpPr>
          <p:spPr>
            <a:xfrm>
              <a:off x="659160" y="284184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36"/>
            <p:cNvSpPr/>
            <p:nvPr/>
          </p:nvSpPr>
          <p:spPr>
            <a:xfrm>
              <a:off x="659160" y="339732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Line 37"/>
            <p:cNvSpPr/>
            <p:nvPr/>
          </p:nvSpPr>
          <p:spPr>
            <a:xfrm>
              <a:off x="659160" y="3953160"/>
              <a:ext cx="5843520" cy="36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Line 38"/>
            <p:cNvSpPr/>
            <p:nvPr/>
          </p:nvSpPr>
          <p:spPr>
            <a:xfrm>
              <a:off x="6502680" y="2286000"/>
              <a:ext cx="360" cy="2222640"/>
            </a:xfrm>
            <a:prstGeom prst="line">
              <a:avLst/>
            </a:prstGeom>
            <a:ln w="1270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Text Box 39"/>
          <p:cNvSpPr/>
          <p:nvPr/>
        </p:nvSpPr>
        <p:spPr>
          <a:xfrm>
            <a:off x="611640" y="1821240"/>
            <a:ext cx="15444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zh-CN" sz="16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0"/>
          <p:cNvSpPr/>
          <p:nvPr/>
        </p:nvSpPr>
        <p:spPr>
          <a:xfrm>
            <a:off x="207684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1"/>
          <p:cNvSpPr/>
          <p:nvPr/>
        </p:nvSpPr>
        <p:spPr>
          <a:xfrm>
            <a:off x="353556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2"/>
          <p:cNvSpPr/>
          <p:nvPr/>
        </p:nvSpPr>
        <p:spPr>
          <a:xfrm>
            <a:off x="500112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3"/>
          <p:cNvSpPr/>
          <p:nvPr/>
        </p:nvSpPr>
        <p:spPr>
          <a:xfrm>
            <a:off x="6661440" y="1821240"/>
            <a:ext cx="154440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</a:pPr>
            <a:r>
              <a:rPr b="1" lang="zh-CN" sz="1800" spc="-1" strike="noStrike">
                <a:solidFill>
                  <a:srgbClr val="f8f8f8"/>
                </a:solidFill>
                <a:latin typeface="微软雅黑"/>
                <a:ea typeface="微软雅黑"/>
              </a:rPr>
              <a:t>标  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4"/>
          <p:cNvSpPr/>
          <p:nvPr/>
        </p:nvSpPr>
        <p:spPr>
          <a:xfrm>
            <a:off x="1924560" y="4543920"/>
            <a:ext cx="5025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★  </a:t>
            </a:r>
            <a:r>
              <a:rPr b="1" lang="zh-CN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添加总结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2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43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直接连接符 44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396" name="圆角矩形 45"/>
          <p:cNvSpPr/>
          <p:nvPr/>
        </p:nvSpPr>
        <p:spPr>
          <a:xfrm>
            <a:off x="680040" y="1000800"/>
            <a:ext cx="453960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WordArt 38"/>
          <p:cNvSpPr txBox="1"/>
          <p:nvPr/>
        </p:nvSpPr>
        <p:spPr>
          <a:xfrm>
            <a:off x="822600" y="116280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398" name="矩形 47"/>
          <p:cNvSpPr/>
          <p:nvPr/>
        </p:nvSpPr>
        <p:spPr>
          <a:xfrm>
            <a:off x="788400" y="104580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数据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3"/>
          <p:cNvSpPr/>
          <p:nvPr/>
        </p:nvSpPr>
        <p:spPr>
          <a:xfrm>
            <a:off x="226512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Oval 4"/>
          <p:cNvSpPr/>
          <p:nvPr/>
        </p:nvSpPr>
        <p:spPr>
          <a:xfrm>
            <a:off x="227736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Oval 5"/>
          <p:cNvSpPr/>
          <p:nvPr/>
        </p:nvSpPr>
        <p:spPr>
          <a:xfrm>
            <a:off x="254232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Freeform 6"/>
          <p:cNvSpPr/>
          <p:nvPr/>
        </p:nvSpPr>
        <p:spPr>
          <a:xfrm>
            <a:off x="236880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Oval 7"/>
          <p:cNvSpPr/>
          <p:nvPr/>
        </p:nvSpPr>
        <p:spPr>
          <a:xfrm>
            <a:off x="82764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Oval 8"/>
          <p:cNvSpPr/>
          <p:nvPr/>
        </p:nvSpPr>
        <p:spPr>
          <a:xfrm>
            <a:off x="83952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Oval 9"/>
          <p:cNvSpPr/>
          <p:nvPr/>
        </p:nvSpPr>
        <p:spPr>
          <a:xfrm>
            <a:off x="110484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Freeform 10"/>
          <p:cNvSpPr/>
          <p:nvPr/>
        </p:nvSpPr>
        <p:spPr>
          <a:xfrm>
            <a:off x="93096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11"/>
          <p:cNvSpPr/>
          <p:nvPr/>
        </p:nvSpPr>
        <p:spPr>
          <a:xfrm>
            <a:off x="3688560" y="2721600"/>
            <a:ext cx="1387080" cy="5738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Oval 12"/>
          <p:cNvSpPr/>
          <p:nvPr/>
        </p:nvSpPr>
        <p:spPr>
          <a:xfrm>
            <a:off x="3700440" y="1710000"/>
            <a:ext cx="1337760" cy="133236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4a452a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13"/>
          <p:cNvSpPr/>
          <p:nvPr/>
        </p:nvSpPr>
        <p:spPr>
          <a:xfrm>
            <a:off x="3965760" y="1877040"/>
            <a:ext cx="223920" cy="22356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14"/>
          <p:cNvSpPr/>
          <p:nvPr/>
        </p:nvSpPr>
        <p:spPr>
          <a:xfrm>
            <a:off x="3791880" y="1732320"/>
            <a:ext cx="1141560" cy="378720"/>
          </a:xfrm>
          <a:custGeom>
            <a:avLst/>
            <a:gdLst>
              <a:gd name="textAreaLeft" fmla="*/ 0 w 1141560"/>
              <a:gd name="textAreaRight" fmla="*/ 1141920 w 1141560"/>
              <a:gd name="textAreaTop" fmla="*/ 0 h 378720"/>
              <a:gd name="textAreaBottom" fmla="*/ 379080 h 378720"/>
            </a:gdLst>
            <a:ahLst/>
            <a:rect l="textAreaLeft" t="textAreaTop" r="textAreaRight" b="textAreaBottom"/>
            <a:pathLst>
              <a:path w="4756" h="1576">
                <a:moveTo>
                  <a:pt x="0" y="1576"/>
                </a:moveTo>
                <a:lnTo>
                  <a:pt x="0" y="1576"/>
                </a:lnTo>
                <a:lnTo>
                  <a:pt x="24" y="1518"/>
                </a:lnTo>
                <a:lnTo>
                  <a:pt x="50" y="1462"/>
                </a:lnTo>
                <a:lnTo>
                  <a:pt x="78" y="1406"/>
                </a:lnTo>
                <a:lnTo>
                  <a:pt x="108" y="1350"/>
                </a:lnTo>
                <a:lnTo>
                  <a:pt x="138" y="1296"/>
                </a:lnTo>
                <a:lnTo>
                  <a:pt x="170" y="1242"/>
                </a:lnTo>
                <a:lnTo>
                  <a:pt x="204" y="1190"/>
                </a:lnTo>
                <a:lnTo>
                  <a:pt x="238" y="1138"/>
                </a:lnTo>
                <a:lnTo>
                  <a:pt x="272" y="1086"/>
                </a:lnTo>
                <a:lnTo>
                  <a:pt x="310" y="1036"/>
                </a:lnTo>
                <a:lnTo>
                  <a:pt x="348" y="988"/>
                </a:lnTo>
                <a:lnTo>
                  <a:pt x="386" y="940"/>
                </a:lnTo>
                <a:lnTo>
                  <a:pt x="426" y="892"/>
                </a:lnTo>
                <a:lnTo>
                  <a:pt x="468" y="846"/>
                </a:lnTo>
                <a:lnTo>
                  <a:pt x="510" y="800"/>
                </a:lnTo>
                <a:lnTo>
                  <a:pt x="552" y="756"/>
                </a:lnTo>
                <a:lnTo>
                  <a:pt x="596" y="712"/>
                </a:lnTo>
                <a:lnTo>
                  <a:pt x="642" y="670"/>
                </a:lnTo>
                <a:lnTo>
                  <a:pt x="688" y="630"/>
                </a:lnTo>
                <a:lnTo>
                  <a:pt x="736" y="590"/>
                </a:lnTo>
                <a:lnTo>
                  <a:pt x="784" y="550"/>
                </a:lnTo>
                <a:lnTo>
                  <a:pt x="834" y="512"/>
                </a:lnTo>
                <a:lnTo>
                  <a:pt x="884" y="476"/>
                </a:lnTo>
                <a:lnTo>
                  <a:pt x="934" y="440"/>
                </a:lnTo>
                <a:lnTo>
                  <a:pt x="986" y="406"/>
                </a:lnTo>
                <a:lnTo>
                  <a:pt x="1040" y="374"/>
                </a:lnTo>
                <a:lnTo>
                  <a:pt x="1092" y="342"/>
                </a:lnTo>
                <a:lnTo>
                  <a:pt x="1148" y="312"/>
                </a:lnTo>
                <a:lnTo>
                  <a:pt x="1202" y="282"/>
                </a:lnTo>
                <a:lnTo>
                  <a:pt x="1258" y="254"/>
                </a:lnTo>
                <a:lnTo>
                  <a:pt x="1316" y="228"/>
                </a:lnTo>
                <a:lnTo>
                  <a:pt x="1374" y="202"/>
                </a:lnTo>
                <a:lnTo>
                  <a:pt x="1432" y="178"/>
                </a:lnTo>
                <a:lnTo>
                  <a:pt x="1490" y="156"/>
                </a:lnTo>
                <a:lnTo>
                  <a:pt x="1550" y="136"/>
                </a:lnTo>
                <a:lnTo>
                  <a:pt x="1610" y="116"/>
                </a:lnTo>
                <a:lnTo>
                  <a:pt x="1672" y="98"/>
                </a:lnTo>
                <a:lnTo>
                  <a:pt x="1732" y="80"/>
                </a:lnTo>
                <a:lnTo>
                  <a:pt x="1794" y="66"/>
                </a:lnTo>
                <a:lnTo>
                  <a:pt x="1858" y="52"/>
                </a:lnTo>
                <a:lnTo>
                  <a:pt x="1922" y="40"/>
                </a:lnTo>
                <a:lnTo>
                  <a:pt x="1984" y="30"/>
                </a:lnTo>
                <a:lnTo>
                  <a:pt x="2050" y="20"/>
                </a:lnTo>
                <a:lnTo>
                  <a:pt x="2114" y="12"/>
                </a:lnTo>
                <a:lnTo>
                  <a:pt x="2180" y="8"/>
                </a:lnTo>
                <a:lnTo>
                  <a:pt x="2246" y="2"/>
                </a:lnTo>
                <a:lnTo>
                  <a:pt x="2312" y="0"/>
                </a:lnTo>
                <a:lnTo>
                  <a:pt x="2378" y="0"/>
                </a:lnTo>
                <a:lnTo>
                  <a:pt x="2444" y="0"/>
                </a:lnTo>
                <a:lnTo>
                  <a:pt x="2510" y="2"/>
                </a:lnTo>
                <a:lnTo>
                  <a:pt x="2576" y="8"/>
                </a:lnTo>
                <a:lnTo>
                  <a:pt x="2642" y="12"/>
                </a:lnTo>
                <a:lnTo>
                  <a:pt x="2706" y="20"/>
                </a:lnTo>
                <a:lnTo>
                  <a:pt x="2772" y="30"/>
                </a:lnTo>
                <a:lnTo>
                  <a:pt x="2834" y="40"/>
                </a:lnTo>
                <a:lnTo>
                  <a:pt x="2898" y="52"/>
                </a:lnTo>
                <a:lnTo>
                  <a:pt x="2962" y="66"/>
                </a:lnTo>
                <a:lnTo>
                  <a:pt x="3024" y="80"/>
                </a:lnTo>
                <a:lnTo>
                  <a:pt x="3084" y="98"/>
                </a:lnTo>
                <a:lnTo>
                  <a:pt x="3146" y="116"/>
                </a:lnTo>
                <a:lnTo>
                  <a:pt x="3206" y="136"/>
                </a:lnTo>
                <a:lnTo>
                  <a:pt x="3266" y="156"/>
                </a:lnTo>
                <a:lnTo>
                  <a:pt x="3324" y="178"/>
                </a:lnTo>
                <a:lnTo>
                  <a:pt x="3382" y="202"/>
                </a:lnTo>
                <a:lnTo>
                  <a:pt x="3440" y="228"/>
                </a:lnTo>
                <a:lnTo>
                  <a:pt x="3498" y="254"/>
                </a:lnTo>
                <a:lnTo>
                  <a:pt x="3554" y="282"/>
                </a:lnTo>
                <a:lnTo>
                  <a:pt x="3608" y="312"/>
                </a:lnTo>
                <a:lnTo>
                  <a:pt x="3664" y="342"/>
                </a:lnTo>
                <a:lnTo>
                  <a:pt x="3716" y="374"/>
                </a:lnTo>
                <a:lnTo>
                  <a:pt x="3770" y="406"/>
                </a:lnTo>
                <a:lnTo>
                  <a:pt x="3822" y="440"/>
                </a:lnTo>
                <a:lnTo>
                  <a:pt x="3872" y="476"/>
                </a:lnTo>
                <a:lnTo>
                  <a:pt x="3922" y="512"/>
                </a:lnTo>
                <a:lnTo>
                  <a:pt x="3972" y="550"/>
                </a:lnTo>
                <a:lnTo>
                  <a:pt x="4020" y="590"/>
                </a:lnTo>
                <a:lnTo>
                  <a:pt x="4068" y="630"/>
                </a:lnTo>
                <a:lnTo>
                  <a:pt x="4114" y="670"/>
                </a:lnTo>
                <a:lnTo>
                  <a:pt x="4160" y="712"/>
                </a:lnTo>
                <a:lnTo>
                  <a:pt x="4204" y="756"/>
                </a:lnTo>
                <a:lnTo>
                  <a:pt x="4246" y="800"/>
                </a:lnTo>
                <a:lnTo>
                  <a:pt x="4288" y="846"/>
                </a:lnTo>
                <a:lnTo>
                  <a:pt x="4330" y="892"/>
                </a:lnTo>
                <a:lnTo>
                  <a:pt x="4370" y="940"/>
                </a:lnTo>
                <a:lnTo>
                  <a:pt x="4410" y="988"/>
                </a:lnTo>
                <a:lnTo>
                  <a:pt x="4446" y="1036"/>
                </a:lnTo>
                <a:lnTo>
                  <a:pt x="4484" y="1086"/>
                </a:lnTo>
                <a:lnTo>
                  <a:pt x="4518" y="1138"/>
                </a:lnTo>
                <a:lnTo>
                  <a:pt x="4552" y="1190"/>
                </a:lnTo>
                <a:lnTo>
                  <a:pt x="4586" y="1242"/>
                </a:lnTo>
                <a:lnTo>
                  <a:pt x="4618" y="1296"/>
                </a:lnTo>
                <a:lnTo>
                  <a:pt x="4648" y="1350"/>
                </a:lnTo>
                <a:lnTo>
                  <a:pt x="4678" y="1406"/>
                </a:lnTo>
                <a:lnTo>
                  <a:pt x="4706" y="1462"/>
                </a:lnTo>
                <a:lnTo>
                  <a:pt x="4732" y="1518"/>
                </a:lnTo>
                <a:lnTo>
                  <a:pt x="4756" y="1576"/>
                </a:lnTo>
                <a:lnTo>
                  <a:pt x="0" y="157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1" name="Group 15"/>
          <p:cNvGrpSpPr/>
          <p:nvPr/>
        </p:nvGrpSpPr>
        <p:grpSpPr>
          <a:xfrm>
            <a:off x="2967480" y="2365560"/>
            <a:ext cx="1606320" cy="1839600"/>
            <a:chOff x="2967480" y="2365560"/>
            <a:chExt cx="1606320" cy="1839600"/>
          </a:xfrm>
        </p:grpSpPr>
        <p:sp>
          <p:nvSpPr>
            <p:cNvPr id="412" name="Oval 16"/>
            <p:cNvSpPr/>
            <p:nvPr/>
          </p:nvSpPr>
          <p:spPr>
            <a:xfrm>
              <a:off x="2967480" y="3539520"/>
              <a:ext cx="160632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3" name="Group 17"/>
            <p:cNvGrpSpPr/>
            <p:nvPr/>
          </p:nvGrpSpPr>
          <p:grpSpPr>
            <a:xfrm>
              <a:off x="2978640" y="2365560"/>
              <a:ext cx="1550520" cy="1546560"/>
              <a:chOff x="2978640" y="2365560"/>
              <a:chExt cx="1550520" cy="1546560"/>
            </a:xfrm>
          </p:grpSpPr>
          <p:sp>
            <p:nvSpPr>
              <p:cNvPr id="414" name="Oval 18"/>
              <p:cNvSpPr/>
              <p:nvPr/>
            </p:nvSpPr>
            <p:spPr>
              <a:xfrm>
                <a:off x="2978640" y="2365560"/>
                <a:ext cx="155052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Oval 19"/>
              <p:cNvSpPr/>
              <p:nvPr/>
            </p:nvSpPr>
            <p:spPr>
              <a:xfrm>
                <a:off x="3287520" y="2559600"/>
                <a:ext cx="25992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6" name="Freeform 20"/>
            <p:cNvSpPr/>
            <p:nvPr/>
          </p:nvSpPr>
          <p:spPr>
            <a:xfrm>
              <a:off x="3087000" y="2392200"/>
              <a:ext cx="1322640" cy="43884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Group 21"/>
          <p:cNvGrpSpPr/>
          <p:nvPr/>
        </p:nvGrpSpPr>
        <p:grpSpPr>
          <a:xfrm>
            <a:off x="1311840" y="2365560"/>
            <a:ext cx="1607760" cy="1839600"/>
            <a:chOff x="1311840" y="2365560"/>
            <a:chExt cx="1607760" cy="1839600"/>
          </a:xfrm>
        </p:grpSpPr>
        <p:sp>
          <p:nvSpPr>
            <p:cNvPr id="418" name="Oval 22"/>
            <p:cNvSpPr/>
            <p:nvPr/>
          </p:nvSpPr>
          <p:spPr>
            <a:xfrm>
              <a:off x="1311840" y="3539520"/>
              <a:ext cx="1607760" cy="665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9" name="Group 23"/>
            <p:cNvGrpSpPr/>
            <p:nvPr/>
          </p:nvGrpSpPr>
          <p:grpSpPr>
            <a:xfrm>
              <a:off x="1323000" y="2365560"/>
              <a:ext cx="1551960" cy="1546560"/>
              <a:chOff x="1323000" y="2365560"/>
              <a:chExt cx="1551960" cy="1546560"/>
            </a:xfrm>
          </p:grpSpPr>
          <p:sp>
            <p:nvSpPr>
              <p:cNvPr id="420" name="Oval 24"/>
              <p:cNvSpPr/>
              <p:nvPr/>
            </p:nvSpPr>
            <p:spPr>
              <a:xfrm>
                <a:off x="1323000" y="2365560"/>
                <a:ext cx="1551960" cy="154656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595959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Oval 25"/>
              <p:cNvSpPr/>
              <p:nvPr/>
            </p:nvSpPr>
            <p:spPr>
              <a:xfrm>
                <a:off x="1631880" y="2559600"/>
                <a:ext cx="260280" cy="258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2" name="Freeform 26"/>
            <p:cNvSpPr/>
            <p:nvPr/>
          </p:nvSpPr>
          <p:spPr>
            <a:xfrm>
              <a:off x="1431360" y="2392200"/>
              <a:ext cx="1323720" cy="438840"/>
            </a:xfrm>
            <a:custGeom>
              <a:avLst/>
              <a:gdLst>
                <a:gd name="textAreaLeft" fmla="*/ 0 w 1323720"/>
                <a:gd name="textAreaRight" fmla="*/ 1324080 w 132372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Oval 27"/>
          <p:cNvSpPr/>
          <p:nvPr/>
        </p:nvSpPr>
        <p:spPr>
          <a:xfrm>
            <a:off x="2171160" y="4208760"/>
            <a:ext cx="1960200" cy="81072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Group 28"/>
          <p:cNvGrpSpPr/>
          <p:nvPr/>
        </p:nvGrpSpPr>
        <p:grpSpPr>
          <a:xfrm>
            <a:off x="1959480" y="2994120"/>
            <a:ext cx="1891800" cy="1883880"/>
            <a:chOff x="1959480" y="2994120"/>
            <a:chExt cx="1891800" cy="1883880"/>
          </a:xfrm>
        </p:grpSpPr>
        <p:grpSp>
          <p:nvGrpSpPr>
            <p:cNvPr id="425" name="Group 29"/>
            <p:cNvGrpSpPr/>
            <p:nvPr/>
          </p:nvGrpSpPr>
          <p:grpSpPr>
            <a:xfrm>
              <a:off x="1959480" y="2994120"/>
              <a:ext cx="1891800" cy="1883880"/>
              <a:chOff x="1959480" y="2994120"/>
              <a:chExt cx="1891800" cy="1883880"/>
            </a:xfrm>
          </p:grpSpPr>
          <p:sp>
            <p:nvSpPr>
              <p:cNvPr id="426" name="Oval 30"/>
              <p:cNvSpPr/>
              <p:nvPr/>
            </p:nvSpPr>
            <p:spPr>
              <a:xfrm>
                <a:off x="1959480" y="2994120"/>
                <a:ext cx="1891800" cy="188388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31"/>
              <p:cNvSpPr/>
              <p:nvPr/>
            </p:nvSpPr>
            <p:spPr>
              <a:xfrm>
                <a:off x="2333520" y="3230640"/>
                <a:ext cx="317160" cy="31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7abf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8" name="Text Box 32"/>
            <p:cNvSpPr/>
            <p:nvPr/>
          </p:nvSpPr>
          <p:spPr>
            <a:xfrm>
              <a:off x="2506680" y="358164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单击此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8f8f8"/>
                  </a:solidFill>
                  <a:latin typeface="Arial"/>
                  <a:ea typeface="微软雅黑"/>
                </a:rPr>
                <a:t>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3"/>
            <p:cNvSpPr/>
            <p:nvPr/>
          </p:nvSpPr>
          <p:spPr>
            <a:xfrm>
              <a:off x="2089800" y="3025800"/>
              <a:ext cx="1614240" cy="534600"/>
            </a:xfrm>
            <a:custGeom>
              <a:avLst/>
              <a:gdLst>
                <a:gd name="textAreaLeft" fmla="*/ 0 w 1614240"/>
                <a:gd name="textAreaRight" fmla="*/ 1614600 w 1614240"/>
                <a:gd name="textAreaTop" fmla="*/ 0 h 534600"/>
                <a:gd name="textAreaBottom" fmla="*/ 534960 h 534600"/>
              </a:gdLst>
              <a:ahLst/>
              <a:rect l="textAreaLeft" t="textAreaTop" r="textAreaRight" b="textAreaBottom"/>
              <a:pathLst>
                <a:path w="4756" h="1576">
                  <a:moveTo>
                    <a:pt x="0" y="1576"/>
                  </a:moveTo>
                  <a:lnTo>
                    <a:pt x="0" y="1576"/>
                  </a:lnTo>
                  <a:lnTo>
                    <a:pt x="24" y="1518"/>
                  </a:lnTo>
                  <a:lnTo>
                    <a:pt x="50" y="1462"/>
                  </a:lnTo>
                  <a:lnTo>
                    <a:pt x="78" y="1406"/>
                  </a:lnTo>
                  <a:lnTo>
                    <a:pt x="108" y="1350"/>
                  </a:lnTo>
                  <a:lnTo>
                    <a:pt x="138" y="1296"/>
                  </a:lnTo>
                  <a:lnTo>
                    <a:pt x="170" y="1242"/>
                  </a:lnTo>
                  <a:lnTo>
                    <a:pt x="204" y="1190"/>
                  </a:lnTo>
                  <a:lnTo>
                    <a:pt x="238" y="1138"/>
                  </a:lnTo>
                  <a:lnTo>
                    <a:pt x="272" y="1086"/>
                  </a:lnTo>
                  <a:lnTo>
                    <a:pt x="310" y="1036"/>
                  </a:lnTo>
                  <a:lnTo>
                    <a:pt x="348" y="988"/>
                  </a:lnTo>
                  <a:lnTo>
                    <a:pt x="386" y="940"/>
                  </a:lnTo>
                  <a:lnTo>
                    <a:pt x="426" y="892"/>
                  </a:lnTo>
                  <a:lnTo>
                    <a:pt x="468" y="846"/>
                  </a:lnTo>
                  <a:lnTo>
                    <a:pt x="510" y="800"/>
                  </a:lnTo>
                  <a:lnTo>
                    <a:pt x="552" y="756"/>
                  </a:lnTo>
                  <a:lnTo>
                    <a:pt x="596" y="712"/>
                  </a:lnTo>
                  <a:lnTo>
                    <a:pt x="642" y="670"/>
                  </a:lnTo>
                  <a:lnTo>
                    <a:pt x="688" y="630"/>
                  </a:lnTo>
                  <a:lnTo>
                    <a:pt x="736" y="590"/>
                  </a:lnTo>
                  <a:lnTo>
                    <a:pt x="784" y="550"/>
                  </a:lnTo>
                  <a:lnTo>
                    <a:pt x="834" y="512"/>
                  </a:lnTo>
                  <a:lnTo>
                    <a:pt x="884" y="476"/>
                  </a:lnTo>
                  <a:lnTo>
                    <a:pt x="934" y="440"/>
                  </a:lnTo>
                  <a:lnTo>
                    <a:pt x="986" y="406"/>
                  </a:lnTo>
                  <a:lnTo>
                    <a:pt x="1040" y="374"/>
                  </a:lnTo>
                  <a:lnTo>
                    <a:pt x="1092" y="342"/>
                  </a:lnTo>
                  <a:lnTo>
                    <a:pt x="1148" y="312"/>
                  </a:lnTo>
                  <a:lnTo>
                    <a:pt x="1202" y="282"/>
                  </a:lnTo>
                  <a:lnTo>
                    <a:pt x="1258" y="254"/>
                  </a:lnTo>
                  <a:lnTo>
                    <a:pt x="1316" y="228"/>
                  </a:lnTo>
                  <a:lnTo>
                    <a:pt x="1374" y="202"/>
                  </a:lnTo>
                  <a:lnTo>
                    <a:pt x="1432" y="178"/>
                  </a:lnTo>
                  <a:lnTo>
                    <a:pt x="1490" y="156"/>
                  </a:lnTo>
                  <a:lnTo>
                    <a:pt x="1550" y="136"/>
                  </a:lnTo>
                  <a:lnTo>
                    <a:pt x="1610" y="116"/>
                  </a:lnTo>
                  <a:lnTo>
                    <a:pt x="1672" y="98"/>
                  </a:lnTo>
                  <a:lnTo>
                    <a:pt x="1732" y="80"/>
                  </a:lnTo>
                  <a:lnTo>
                    <a:pt x="1794" y="66"/>
                  </a:lnTo>
                  <a:lnTo>
                    <a:pt x="1858" y="52"/>
                  </a:lnTo>
                  <a:lnTo>
                    <a:pt x="1922" y="40"/>
                  </a:lnTo>
                  <a:lnTo>
                    <a:pt x="1984" y="30"/>
                  </a:lnTo>
                  <a:lnTo>
                    <a:pt x="2050" y="20"/>
                  </a:lnTo>
                  <a:lnTo>
                    <a:pt x="2114" y="12"/>
                  </a:lnTo>
                  <a:lnTo>
                    <a:pt x="2180" y="8"/>
                  </a:lnTo>
                  <a:lnTo>
                    <a:pt x="2246" y="2"/>
                  </a:lnTo>
                  <a:lnTo>
                    <a:pt x="2312" y="0"/>
                  </a:lnTo>
                  <a:lnTo>
                    <a:pt x="2378" y="0"/>
                  </a:lnTo>
                  <a:lnTo>
                    <a:pt x="2444" y="0"/>
                  </a:lnTo>
                  <a:lnTo>
                    <a:pt x="2510" y="2"/>
                  </a:lnTo>
                  <a:lnTo>
                    <a:pt x="2576" y="8"/>
                  </a:lnTo>
                  <a:lnTo>
                    <a:pt x="2642" y="12"/>
                  </a:lnTo>
                  <a:lnTo>
                    <a:pt x="2706" y="20"/>
                  </a:lnTo>
                  <a:lnTo>
                    <a:pt x="2772" y="30"/>
                  </a:lnTo>
                  <a:lnTo>
                    <a:pt x="2834" y="40"/>
                  </a:lnTo>
                  <a:lnTo>
                    <a:pt x="2898" y="52"/>
                  </a:lnTo>
                  <a:lnTo>
                    <a:pt x="2962" y="66"/>
                  </a:lnTo>
                  <a:lnTo>
                    <a:pt x="3024" y="80"/>
                  </a:lnTo>
                  <a:lnTo>
                    <a:pt x="3084" y="98"/>
                  </a:lnTo>
                  <a:lnTo>
                    <a:pt x="3146" y="116"/>
                  </a:lnTo>
                  <a:lnTo>
                    <a:pt x="3206" y="136"/>
                  </a:lnTo>
                  <a:lnTo>
                    <a:pt x="3266" y="156"/>
                  </a:lnTo>
                  <a:lnTo>
                    <a:pt x="3324" y="178"/>
                  </a:lnTo>
                  <a:lnTo>
                    <a:pt x="3382" y="202"/>
                  </a:lnTo>
                  <a:lnTo>
                    <a:pt x="3440" y="228"/>
                  </a:lnTo>
                  <a:lnTo>
                    <a:pt x="3498" y="254"/>
                  </a:lnTo>
                  <a:lnTo>
                    <a:pt x="3554" y="282"/>
                  </a:lnTo>
                  <a:lnTo>
                    <a:pt x="3608" y="312"/>
                  </a:lnTo>
                  <a:lnTo>
                    <a:pt x="3664" y="342"/>
                  </a:lnTo>
                  <a:lnTo>
                    <a:pt x="3716" y="374"/>
                  </a:lnTo>
                  <a:lnTo>
                    <a:pt x="3770" y="406"/>
                  </a:lnTo>
                  <a:lnTo>
                    <a:pt x="3822" y="440"/>
                  </a:lnTo>
                  <a:lnTo>
                    <a:pt x="3872" y="476"/>
                  </a:lnTo>
                  <a:lnTo>
                    <a:pt x="3922" y="512"/>
                  </a:lnTo>
                  <a:lnTo>
                    <a:pt x="3972" y="550"/>
                  </a:lnTo>
                  <a:lnTo>
                    <a:pt x="4020" y="590"/>
                  </a:lnTo>
                  <a:lnTo>
                    <a:pt x="4068" y="630"/>
                  </a:lnTo>
                  <a:lnTo>
                    <a:pt x="4114" y="670"/>
                  </a:lnTo>
                  <a:lnTo>
                    <a:pt x="4160" y="712"/>
                  </a:lnTo>
                  <a:lnTo>
                    <a:pt x="4204" y="756"/>
                  </a:lnTo>
                  <a:lnTo>
                    <a:pt x="4246" y="800"/>
                  </a:lnTo>
                  <a:lnTo>
                    <a:pt x="4288" y="846"/>
                  </a:lnTo>
                  <a:lnTo>
                    <a:pt x="4330" y="892"/>
                  </a:lnTo>
                  <a:lnTo>
                    <a:pt x="4370" y="940"/>
                  </a:lnTo>
                  <a:lnTo>
                    <a:pt x="4410" y="988"/>
                  </a:lnTo>
                  <a:lnTo>
                    <a:pt x="4446" y="1036"/>
                  </a:lnTo>
                  <a:lnTo>
                    <a:pt x="4484" y="1086"/>
                  </a:lnTo>
                  <a:lnTo>
                    <a:pt x="4518" y="1138"/>
                  </a:lnTo>
                  <a:lnTo>
                    <a:pt x="4552" y="1190"/>
                  </a:lnTo>
                  <a:lnTo>
                    <a:pt x="4586" y="1242"/>
                  </a:lnTo>
                  <a:lnTo>
                    <a:pt x="4618" y="1296"/>
                  </a:lnTo>
                  <a:lnTo>
                    <a:pt x="4648" y="1350"/>
                  </a:lnTo>
                  <a:lnTo>
                    <a:pt x="4678" y="1406"/>
                  </a:lnTo>
                  <a:lnTo>
                    <a:pt x="4706" y="1462"/>
                  </a:lnTo>
                  <a:lnTo>
                    <a:pt x="4732" y="1518"/>
                  </a:lnTo>
                  <a:lnTo>
                    <a:pt x="4756" y="1576"/>
                  </a:lnTo>
                  <a:lnTo>
                    <a:pt x="0" y="157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Text Box 34"/>
          <p:cNvSpPr/>
          <p:nvPr/>
        </p:nvSpPr>
        <p:spPr>
          <a:xfrm>
            <a:off x="1438920" y="2706840"/>
            <a:ext cx="1296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021480" y="2706840"/>
            <a:ext cx="144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89892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233892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744000" y="2065680"/>
            <a:ext cx="1223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击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38"/>
          <p:cNvSpPr/>
          <p:nvPr/>
        </p:nvSpPr>
        <p:spPr>
          <a:xfrm>
            <a:off x="353520" y="63720"/>
            <a:ext cx="1371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39"/>
          <p:cNvSpPr/>
          <p:nvPr/>
        </p:nvSpPr>
        <p:spPr>
          <a:xfrm>
            <a:off x="2000520" y="114840"/>
            <a:ext cx="5307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经典特宋简"/>
                <a:ea typeface="经典特宋简"/>
              </a:rPr>
              <a:t>添加你的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直接连接符 40"/>
          <p:cNvCxnSpPr/>
          <p:nvPr/>
        </p:nvCxnSpPr>
        <p:spPr>
          <a:xfrm>
            <a:off x="1796760" y="51120"/>
            <a:ext cx="360" cy="8434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grpSp>
        <p:nvGrpSpPr>
          <p:cNvPr id="438" name="Group 51"/>
          <p:cNvGrpSpPr/>
          <p:nvPr/>
        </p:nvGrpSpPr>
        <p:grpSpPr>
          <a:xfrm>
            <a:off x="6017040" y="3837600"/>
            <a:ext cx="407520" cy="466560"/>
            <a:chOff x="6017040" y="3837600"/>
            <a:chExt cx="407520" cy="466560"/>
          </a:xfrm>
        </p:grpSpPr>
        <p:sp>
          <p:nvSpPr>
            <p:cNvPr id="439" name="Oval 52"/>
            <p:cNvSpPr/>
            <p:nvPr/>
          </p:nvSpPr>
          <p:spPr>
            <a:xfrm>
              <a:off x="6017040" y="416952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0" name="Group 53"/>
            <p:cNvGrpSpPr/>
            <p:nvPr/>
          </p:nvGrpSpPr>
          <p:grpSpPr>
            <a:xfrm>
              <a:off x="6017760" y="3837600"/>
              <a:ext cx="406800" cy="407160"/>
              <a:chOff x="6017760" y="3837600"/>
              <a:chExt cx="406800" cy="407160"/>
            </a:xfrm>
          </p:grpSpPr>
          <p:sp>
            <p:nvSpPr>
              <p:cNvPr id="441" name="Oval 54"/>
              <p:cNvSpPr/>
              <p:nvPr/>
            </p:nvSpPr>
            <p:spPr>
              <a:xfrm>
                <a:off x="6017760" y="383760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206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2" name="Group 55"/>
              <p:cNvGrpSpPr/>
              <p:nvPr/>
            </p:nvGrpSpPr>
            <p:grpSpPr>
              <a:xfrm>
                <a:off x="6048720" y="3848760"/>
                <a:ext cx="342720" cy="110880"/>
                <a:chOff x="6048720" y="3848760"/>
                <a:chExt cx="342720" cy="110880"/>
              </a:xfrm>
            </p:grpSpPr>
            <p:sp>
              <p:nvSpPr>
                <p:cNvPr id="443" name="Freeform 56"/>
                <p:cNvSpPr/>
                <p:nvPr/>
              </p:nvSpPr>
              <p:spPr>
                <a:xfrm>
                  <a:off x="6048720" y="38487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4" name="Oval 57"/>
                <p:cNvSpPr/>
                <p:nvPr/>
              </p:nvSpPr>
              <p:spPr>
                <a:xfrm>
                  <a:off x="6179040" y="38487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45" name="Group 58"/>
          <p:cNvGrpSpPr/>
          <p:nvPr/>
        </p:nvGrpSpPr>
        <p:grpSpPr>
          <a:xfrm>
            <a:off x="5983920" y="2764440"/>
            <a:ext cx="407160" cy="466200"/>
            <a:chOff x="5983920" y="2764440"/>
            <a:chExt cx="407160" cy="466200"/>
          </a:xfrm>
        </p:grpSpPr>
        <p:sp>
          <p:nvSpPr>
            <p:cNvPr id="446" name="Oval 59"/>
            <p:cNvSpPr/>
            <p:nvPr/>
          </p:nvSpPr>
          <p:spPr>
            <a:xfrm>
              <a:off x="5983920" y="309600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7" name="Group 60"/>
            <p:cNvGrpSpPr/>
            <p:nvPr/>
          </p:nvGrpSpPr>
          <p:grpSpPr>
            <a:xfrm>
              <a:off x="5984280" y="2764440"/>
              <a:ext cx="406800" cy="407160"/>
              <a:chOff x="5984280" y="2764440"/>
              <a:chExt cx="406800" cy="407160"/>
            </a:xfrm>
          </p:grpSpPr>
          <p:sp>
            <p:nvSpPr>
              <p:cNvPr id="448" name="Oval 61"/>
              <p:cNvSpPr/>
              <p:nvPr/>
            </p:nvSpPr>
            <p:spPr>
              <a:xfrm>
                <a:off x="5984280" y="2764440"/>
                <a:ext cx="406800" cy="407160"/>
              </a:xfrm>
              <a:prstGeom prst="ellipse">
                <a:avLst/>
              </a:prstGeom>
              <a:solidFill>
                <a:srgbClr val="9e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49" name="Group 62"/>
              <p:cNvGrpSpPr/>
              <p:nvPr/>
            </p:nvGrpSpPr>
            <p:grpSpPr>
              <a:xfrm>
                <a:off x="6015600" y="2775600"/>
                <a:ext cx="342720" cy="110880"/>
                <a:chOff x="6015600" y="2775600"/>
                <a:chExt cx="342720" cy="110880"/>
              </a:xfrm>
            </p:grpSpPr>
            <p:sp>
              <p:nvSpPr>
                <p:cNvPr id="450" name="Freeform 63"/>
                <p:cNvSpPr/>
                <p:nvPr/>
              </p:nvSpPr>
              <p:spPr>
                <a:xfrm>
                  <a:off x="6015600" y="277560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1" name="Oval 64"/>
                <p:cNvSpPr/>
                <p:nvPr/>
              </p:nvSpPr>
              <p:spPr>
                <a:xfrm>
                  <a:off x="6145920" y="277560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52" name="Group 65"/>
          <p:cNvGrpSpPr/>
          <p:nvPr/>
        </p:nvGrpSpPr>
        <p:grpSpPr>
          <a:xfrm>
            <a:off x="5945760" y="1698840"/>
            <a:ext cx="407520" cy="466560"/>
            <a:chOff x="5945760" y="1698840"/>
            <a:chExt cx="407520" cy="466560"/>
          </a:xfrm>
        </p:grpSpPr>
        <p:sp>
          <p:nvSpPr>
            <p:cNvPr id="453" name="Oval 66"/>
            <p:cNvSpPr/>
            <p:nvPr/>
          </p:nvSpPr>
          <p:spPr>
            <a:xfrm>
              <a:off x="5945760" y="2030760"/>
              <a:ext cx="391680" cy="134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3175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4" name="Group 67"/>
            <p:cNvGrpSpPr/>
            <p:nvPr/>
          </p:nvGrpSpPr>
          <p:grpSpPr>
            <a:xfrm>
              <a:off x="5946480" y="1698840"/>
              <a:ext cx="406800" cy="407160"/>
              <a:chOff x="5946480" y="1698840"/>
              <a:chExt cx="406800" cy="407160"/>
            </a:xfrm>
          </p:grpSpPr>
          <p:sp>
            <p:nvSpPr>
              <p:cNvPr id="455" name="Oval 68"/>
              <p:cNvSpPr/>
              <p:nvPr/>
            </p:nvSpPr>
            <p:spPr>
              <a:xfrm>
                <a:off x="5946480" y="1698840"/>
                <a:ext cx="406800" cy="407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4a452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56" name="Group 69"/>
              <p:cNvGrpSpPr/>
              <p:nvPr/>
            </p:nvGrpSpPr>
            <p:grpSpPr>
              <a:xfrm>
                <a:off x="5977440" y="1710360"/>
                <a:ext cx="342720" cy="110880"/>
                <a:chOff x="5977440" y="1710360"/>
                <a:chExt cx="342720" cy="110880"/>
              </a:xfrm>
            </p:grpSpPr>
            <p:sp>
              <p:nvSpPr>
                <p:cNvPr id="457" name="Freeform 70"/>
                <p:cNvSpPr/>
                <p:nvPr/>
              </p:nvSpPr>
              <p:spPr>
                <a:xfrm>
                  <a:off x="5977440" y="1710360"/>
                  <a:ext cx="342720" cy="110880"/>
                </a:xfrm>
                <a:custGeom>
                  <a:avLst/>
                  <a:gdLst>
                    <a:gd name="textAreaLeft" fmla="*/ 0 w 342720"/>
                    <a:gd name="textAreaRight" fmla="*/ 343080 w 34272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4756" h="1576">
                      <a:moveTo>
                        <a:pt x="0" y="1576"/>
                      </a:moveTo>
                      <a:lnTo>
                        <a:pt x="0" y="1576"/>
                      </a:lnTo>
                      <a:lnTo>
                        <a:pt x="24" y="1518"/>
                      </a:lnTo>
                      <a:lnTo>
                        <a:pt x="50" y="1462"/>
                      </a:lnTo>
                      <a:lnTo>
                        <a:pt x="78" y="1406"/>
                      </a:lnTo>
                      <a:lnTo>
                        <a:pt x="108" y="1350"/>
                      </a:lnTo>
                      <a:lnTo>
                        <a:pt x="138" y="1296"/>
                      </a:lnTo>
                      <a:lnTo>
                        <a:pt x="170" y="1242"/>
                      </a:lnTo>
                      <a:lnTo>
                        <a:pt x="204" y="1190"/>
                      </a:lnTo>
                      <a:lnTo>
                        <a:pt x="238" y="1138"/>
                      </a:lnTo>
                      <a:lnTo>
                        <a:pt x="272" y="1086"/>
                      </a:lnTo>
                      <a:lnTo>
                        <a:pt x="310" y="1036"/>
                      </a:lnTo>
                      <a:lnTo>
                        <a:pt x="348" y="988"/>
                      </a:lnTo>
                      <a:lnTo>
                        <a:pt x="386" y="940"/>
                      </a:lnTo>
                      <a:lnTo>
                        <a:pt x="426" y="892"/>
                      </a:lnTo>
                      <a:lnTo>
                        <a:pt x="468" y="846"/>
                      </a:lnTo>
                      <a:lnTo>
                        <a:pt x="510" y="800"/>
                      </a:lnTo>
                      <a:lnTo>
                        <a:pt x="552" y="756"/>
                      </a:lnTo>
                      <a:lnTo>
                        <a:pt x="552" y="756"/>
                      </a:lnTo>
                      <a:lnTo>
                        <a:pt x="596" y="712"/>
                      </a:lnTo>
                      <a:lnTo>
                        <a:pt x="642" y="670"/>
                      </a:lnTo>
                      <a:lnTo>
                        <a:pt x="688" y="630"/>
                      </a:lnTo>
                      <a:lnTo>
                        <a:pt x="736" y="590"/>
                      </a:lnTo>
                      <a:lnTo>
                        <a:pt x="784" y="550"/>
                      </a:lnTo>
                      <a:lnTo>
                        <a:pt x="834" y="512"/>
                      </a:lnTo>
                      <a:lnTo>
                        <a:pt x="884" y="476"/>
                      </a:lnTo>
                      <a:lnTo>
                        <a:pt x="934" y="440"/>
                      </a:lnTo>
                      <a:lnTo>
                        <a:pt x="986" y="406"/>
                      </a:lnTo>
                      <a:lnTo>
                        <a:pt x="1040" y="374"/>
                      </a:lnTo>
                      <a:lnTo>
                        <a:pt x="1092" y="342"/>
                      </a:lnTo>
                      <a:lnTo>
                        <a:pt x="1148" y="312"/>
                      </a:lnTo>
                      <a:lnTo>
                        <a:pt x="1202" y="282"/>
                      </a:lnTo>
                      <a:lnTo>
                        <a:pt x="1258" y="254"/>
                      </a:lnTo>
                      <a:lnTo>
                        <a:pt x="1316" y="228"/>
                      </a:lnTo>
                      <a:lnTo>
                        <a:pt x="1374" y="202"/>
                      </a:lnTo>
                      <a:lnTo>
                        <a:pt x="1374" y="202"/>
                      </a:lnTo>
                      <a:lnTo>
                        <a:pt x="1432" y="178"/>
                      </a:lnTo>
                      <a:lnTo>
                        <a:pt x="1490" y="156"/>
                      </a:lnTo>
                      <a:lnTo>
                        <a:pt x="1550" y="136"/>
                      </a:lnTo>
                      <a:lnTo>
                        <a:pt x="1610" y="116"/>
                      </a:lnTo>
                      <a:lnTo>
                        <a:pt x="1672" y="98"/>
                      </a:lnTo>
                      <a:lnTo>
                        <a:pt x="1732" y="80"/>
                      </a:lnTo>
                      <a:lnTo>
                        <a:pt x="1794" y="66"/>
                      </a:lnTo>
                      <a:lnTo>
                        <a:pt x="1858" y="52"/>
                      </a:lnTo>
                      <a:lnTo>
                        <a:pt x="1922" y="40"/>
                      </a:lnTo>
                      <a:lnTo>
                        <a:pt x="1984" y="30"/>
                      </a:lnTo>
                      <a:lnTo>
                        <a:pt x="2050" y="20"/>
                      </a:lnTo>
                      <a:lnTo>
                        <a:pt x="2114" y="12"/>
                      </a:lnTo>
                      <a:lnTo>
                        <a:pt x="2180" y="8"/>
                      </a:lnTo>
                      <a:lnTo>
                        <a:pt x="2246" y="2"/>
                      </a:lnTo>
                      <a:lnTo>
                        <a:pt x="2312" y="0"/>
                      </a:lnTo>
                      <a:lnTo>
                        <a:pt x="2378" y="0"/>
                      </a:lnTo>
                      <a:lnTo>
                        <a:pt x="2378" y="0"/>
                      </a:lnTo>
                      <a:lnTo>
                        <a:pt x="2444" y="0"/>
                      </a:lnTo>
                      <a:lnTo>
                        <a:pt x="2510" y="2"/>
                      </a:lnTo>
                      <a:lnTo>
                        <a:pt x="2576" y="8"/>
                      </a:lnTo>
                      <a:lnTo>
                        <a:pt x="2642" y="12"/>
                      </a:lnTo>
                      <a:lnTo>
                        <a:pt x="2706" y="20"/>
                      </a:lnTo>
                      <a:lnTo>
                        <a:pt x="2772" y="30"/>
                      </a:lnTo>
                      <a:lnTo>
                        <a:pt x="2834" y="40"/>
                      </a:lnTo>
                      <a:lnTo>
                        <a:pt x="2898" y="52"/>
                      </a:lnTo>
                      <a:lnTo>
                        <a:pt x="2962" y="66"/>
                      </a:lnTo>
                      <a:lnTo>
                        <a:pt x="3024" y="80"/>
                      </a:lnTo>
                      <a:lnTo>
                        <a:pt x="3084" y="98"/>
                      </a:lnTo>
                      <a:lnTo>
                        <a:pt x="3146" y="116"/>
                      </a:lnTo>
                      <a:lnTo>
                        <a:pt x="3206" y="136"/>
                      </a:lnTo>
                      <a:lnTo>
                        <a:pt x="3266" y="156"/>
                      </a:lnTo>
                      <a:lnTo>
                        <a:pt x="3324" y="178"/>
                      </a:lnTo>
                      <a:lnTo>
                        <a:pt x="3382" y="202"/>
                      </a:lnTo>
                      <a:lnTo>
                        <a:pt x="3382" y="202"/>
                      </a:lnTo>
                      <a:lnTo>
                        <a:pt x="3440" y="228"/>
                      </a:lnTo>
                      <a:lnTo>
                        <a:pt x="3498" y="254"/>
                      </a:lnTo>
                      <a:lnTo>
                        <a:pt x="3554" y="282"/>
                      </a:lnTo>
                      <a:lnTo>
                        <a:pt x="3608" y="312"/>
                      </a:lnTo>
                      <a:lnTo>
                        <a:pt x="3664" y="342"/>
                      </a:lnTo>
                      <a:lnTo>
                        <a:pt x="3716" y="374"/>
                      </a:lnTo>
                      <a:lnTo>
                        <a:pt x="3770" y="406"/>
                      </a:lnTo>
                      <a:lnTo>
                        <a:pt x="3822" y="440"/>
                      </a:lnTo>
                      <a:lnTo>
                        <a:pt x="3872" y="476"/>
                      </a:lnTo>
                      <a:lnTo>
                        <a:pt x="3922" y="512"/>
                      </a:lnTo>
                      <a:lnTo>
                        <a:pt x="3972" y="550"/>
                      </a:lnTo>
                      <a:lnTo>
                        <a:pt x="4020" y="590"/>
                      </a:lnTo>
                      <a:lnTo>
                        <a:pt x="4068" y="630"/>
                      </a:lnTo>
                      <a:lnTo>
                        <a:pt x="4114" y="670"/>
                      </a:lnTo>
                      <a:lnTo>
                        <a:pt x="4160" y="712"/>
                      </a:lnTo>
                      <a:lnTo>
                        <a:pt x="4204" y="756"/>
                      </a:lnTo>
                      <a:lnTo>
                        <a:pt x="4204" y="756"/>
                      </a:lnTo>
                      <a:lnTo>
                        <a:pt x="4246" y="800"/>
                      </a:lnTo>
                      <a:lnTo>
                        <a:pt x="4288" y="846"/>
                      </a:lnTo>
                      <a:lnTo>
                        <a:pt x="4330" y="892"/>
                      </a:lnTo>
                      <a:lnTo>
                        <a:pt x="4370" y="940"/>
                      </a:lnTo>
                      <a:lnTo>
                        <a:pt x="4410" y="988"/>
                      </a:lnTo>
                      <a:lnTo>
                        <a:pt x="4446" y="1036"/>
                      </a:lnTo>
                      <a:lnTo>
                        <a:pt x="4484" y="1086"/>
                      </a:lnTo>
                      <a:lnTo>
                        <a:pt x="4518" y="1138"/>
                      </a:lnTo>
                      <a:lnTo>
                        <a:pt x="4552" y="1190"/>
                      </a:lnTo>
                      <a:lnTo>
                        <a:pt x="4586" y="1242"/>
                      </a:lnTo>
                      <a:lnTo>
                        <a:pt x="4618" y="1296"/>
                      </a:lnTo>
                      <a:lnTo>
                        <a:pt x="4648" y="1350"/>
                      </a:lnTo>
                      <a:lnTo>
                        <a:pt x="4678" y="1406"/>
                      </a:lnTo>
                      <a:lnTo>
                        <a:pt x="4706" y="1462"/>
                      </a:lnTo>
                      <a:lnTo>
                        <a:pt x="4732" y="1518"/>
                      </a:lnTo>
                      <a:lnTo>
                        <a:pt x="4756" y="1576"/>
                      </a:lnTo>
                      <a:lnTo>
                        <a:pt x="0" y="157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>
                        <a:alpha val="75294"/>
                      </a:srgbClr>
                    </a:gs>
                    <a:gs pos="100000">
                      <a:srgbClr val="ffffff">
                        <a:alpha val="0"/>
                      </a:srgbClr>
                    </a:gs>
                  </a:gsLst>
                  <a:lin ang="5400000"/>
                </a:gra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8" name="Oval 71"/>
                <p:cNvSpPr/>
                <p:nvPr/>
              </p:nvSpPr>
              <p:spPr>
                <a:xfrm>
                  <a:off x="6107760" y="1710360"/>
                  <a:ext cx="8460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67abf5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459" name="Rectangle 72"/>
          <p:cNvSpPr/>
          <p:nvPr/>
        </p:nvSpPr>
        <p:spPr>
          <a:xfrm>
            <a:off x="5856840" y="206748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3"/>
          <p:cNvSpPr/>
          <p:nvPr/>
        </p:nvSpPr>
        <p:spPr>
          <a:xfrm>
            <a:off x="5856840" y="3147840"/>
            <a:ext cx="202716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74"/>
          <p:cNvSpPr/>
          <p:nvPr/>
        </p:nvSpPr>
        <p:spPr>
          <a:xfrm>
            <a:off x="5856840" y="4227840"/>
            <a:ext cx="1971720" cy="7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【</a:t>
            </a:r>
            <a:r>
              <a:rPr b="1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文字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直接连接符 67"/>
          <p:cNvCxnSpPr/>
          <p:nvPr/>
        </p:nvCxnSpPr>
        <p:spPr>
          <a:xfrm>
            <a:off x="5712480" y="1732320"/>
            <a:ext cx="360" cy="3215880"/>
          </a:xfrm>
          <a:prstGeom prst="straightConnector1">
            <a:avLst/>
          </a:prstGeom>
          <a:ln>
            <a:solidFill>
              <a:srgbClr val="eeece1">
                <a:lumMod val="25000"/>
              </a:srgbClr>
            </a:solidFill>
            <a:round/>
          </a:ln>
        </p:spPr>
      </p:cxnSp>
      <p:sp>
        <p:nvSpPr>
          <p:cNvPr id="463" name="圆角矩形 69"/>
          <p:cNvSpPr/>
          <p:nvPr/>
        </p:nvSpPr>
        <p:spPr>
          <a:xfrm flipH="1">
            <a:off x="3416760" y="976320"/>
            <a:ext cx="5472360" cy="53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2060"/>
              </a:gs>
              <a:gs pos="100000">
                <a:srgbClr val="ffc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WordArt 38"/>
          <p:cNvSpPr txBox="1"/>
          <p:nvPr/>
        </p:nvSpPr>
        <p:spPr>
          <a:xfrm>
            <a:off x="442080" y="1113840"/>
            <a:ext cx="3685680" cy="3776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en-US" sz="7200" spc="-1" strike="noStrike">
              <a:ln w="0">
                <a:noFill/>
              </a:ln>
              <a:solidFill>
                <a:srgbClr val="729fcf"/>
              </a:solidFill>
              <a:latin typeface="经典特宋简"/>
              <a:ea typeface="经典特宋简"/>
            </a:endParaRPr>
          </a:p>
        </p:txBody>
      </p:sp>
      <p:sp>
        <p:nvSpPr>
          <p:cNvPr id="465" name="矩形 71"/>
          <p:cNvSpPr/>
          <p:nvPr/>
        </p:nvSpPr>
        <p:spPr>
          <a:xfrm>
            <a:off x="4998240" y="1001880"/>
            <a:ext cx="3744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级递进关系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自定义 62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b0f0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  <Words>587</Words>
  <Paragraphs>181</Paragraphs>
  <Company>pxz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09:19:58Z</dcterms:created>
  <dc:creator>zhangying</dc:creator>
  <dc:description/>
  <dc:language>en-US</dc:language>
  <cp:lastModifiedBy>王玉清</cp:lastModifiedBy>
  <dcterms:modified xsi:type="dcterms:W3CDTF">2016-02-19T04:56:47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4</vt:r8>
  </property>
</Properties>
</file>