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6240-381E-4DF1-BE46-824D25EE1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0468-BF2F-4597-81AF-279ED7BD1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FF35-2AA0-4063-B32C-B9E6E48E4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8E4-D85F-476B-9F85-0D659A5C1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FD4-D2FA-42AC-8297-3D59BF2F8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0FDE-A8BC-467C-814C-658FC4DFA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0DD-C179-4920-8D73-AC226B78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7BE-E7E9-472E-AAF4-E8C3ADF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5AC-CB44-4A6A-97A8-79F419D8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026-61CD-4F29-9769-7E1DDE14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8CF4-9CA4-4B30-9F49-EE1BAFAF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021C-DECF-4148-AF94-C27BAF54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E724-C4AD-47CA-9688-CF65820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CAC9-E735-41FF-BE2F-A336EBD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B6F6-EE7D-4244-A110-0888BB08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5E48-4359-4F39-B400-FC7BEB9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46FC-F439-4485-8B11-12AB800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72E-0DFC-4A69-BD9F-F52CECDE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60DE-0E39-465A-8A52-2DC7C90C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B81A-E326-4DDA-82AF-59A091A7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9E3C-B02E-44E1-8778-EB053AE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CBC8-9A45-43C3-B25B-001D4A74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E6E5-C7E4-48F7-9FEC-6676503D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85F-E4F8-4BB3-AA43-4749097C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937-AC18-484D-9E9E-2CBDB7F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5D1-5CBB-4274-8EE7-863DDA24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AA3-D0B1-4477-AFAA-4C2CF7A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E89-7B5D-4C15-8A35-5EDBC803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EDC-67F3-45F7-8D2A-F8191D7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407-2026-4141-A7CC-B305D1F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numbers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E0E0-5402-432E-87F4-D492979A0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numbers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9C58-6CA5-4041-B47A-1A04A22689B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809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数码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Example of a Bullet Point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Example of a char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4" descr="businesspeople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5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333333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4:52:18Z</dcterms:created>
  <dc:creator>ppt宝藏</dc:creator>
  <dc:description/>
  <dc:language>en-US</dc:language>
  <cp:lastModifiedBy>a</cp:lastModifiedBy>
  <dcterms:modified xsi:type="dcterms:W3CDTF">2015-07-25T06:37:33Z</dcterms:modified>
  <cp:revision>4</cp:revision>
  <dc:subject/>
  <dc:title>www.pptbz.com</dc:title>
</cp:coreProperties>
</file>