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8E2-FABF-4449-97DD-3BD77356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198-67A7-402D-8395-AF551F36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00F-D929-42CA-9250-261816CE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251-B536-4C9B-AF29-11178D87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86D-19E6-4A94-B40C-4B86362C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4B1-2F93-4293-8184-F8D79A9C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523-CE04-48F3-9E69-C209E84D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893-67AE-4E3C-91D2-9B3F0441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262-0789-4F66-8E73-26518600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F36-4117-498A-94D3-06E91DCC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26C-3DDA-4B72-A9CA-25651FDA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16B-5B61-4C3F-A48C-3841790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2BBA-AB74-498C-9B0F-9FF6AE7E65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357440"/>
            <a:ext cx="8350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蓝色水韵科技通用</a:t>
            </a:r>
            <a:r>
              <a:rPr b="0" lang="en-US" sz="40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 Unicode MS"/>
              <a:ea typeface="Arial Unicode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07:52:32Z</dcterms:created>
  <dc:creator>微软中国</dc:creator>
  <dc:description/>
  <dc:language>en-US</dc:language>
  <cp:lastModifiedBy>王玉清</cp:lastModifiedBy>
  <dcterms:modified xsi:type="dcterms:W3CDTF">2016-02-21T04:07:02Z</dcterms:modified>
  <cp:revision>4</cp:revision>
  <dc:subject>Technology</dc:subject>
  <dc:title>PowerPoint 演示文稿</dc:title>
</cp:coreProperties>
</file>