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FC1-70B5-416B-82A3-13F99FBD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3E0-2DE4-474B-B39F-FA299298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D34-B395-4E66-93CE-B9846DAD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13F-3C64-4402-82AB-8C4A34E8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5A0D-0E2F-41A7-87C2-6A5FDF15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AE5-7C0E-4630-87DD-EB75005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B873-07CC-4F17-94F0-B115B8C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6DA8-C891-456F-8D8F-A6658D81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D397-2E6F-4743-8C65-FAB2DB49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A5E0-DC10-485F-A5CD-8C0CE8C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F4F8-0265-4BEC-8C9E-75357894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41F-16E3-4574-8C65-D3A907C7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B551-C942-4D7D-A674-05B34BE4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BE20-4C22-433F-A36B-42FA22F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FE5-198F-4BCD-8AE3-D7952C83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A22D-FCCF-4539-B1C9-CBF8D967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A85-A8F7-4D80-9F03-7AE58ADC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CCF-15DA-4CD9-99D9-277C22EE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D3A-84EF-4C61-AF82-67D3737A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AD0-13D8-4DCB-9AA4-962D22ED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6E3-069F-4C4E-994B-CB4CE2E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389-9E3F-45D5-A1F0-2B68565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03E-2A9B-4E6E-B601-9D515502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F11-7B2A-487B-9E66-7C1ED9C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artoo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D95E-908A-4FC6-9366-F86E3B83A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cartoon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7083-7E44-4A1D-9122-46F73CB56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老鼠赏月通用</a:t>
            </a:r>
            <a:r>
              <a:rPr b="0" lang="en-US" sz="40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4427640" y="2708280"/>
            <a:ext cx="417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0:19:15Z</dcterms:created>
  <dc:creator>User</dc:creator>
  <dc:description/>
  <dc:language>en-US</dc:language>
  <cp:lastModifiedBy>王玉清</cp:lastModifiedBy>
  <dcterms:modified xsi:type="dcterms:W3CDTF">2016-02-20T04:28:41Z</dcterms:modified>
  <cp:revision>4</cp:revision>
  <dc:subject/>
  <dc:title>幻灯片 1</dc:title>
</cp:coreProperties>
</file>