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DC81-03CF-4926-8210-7991FD4C9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34920" y="1600200"/>
            <a:ext cx="70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834920" y="3964320"/>
            <a:ext cx="70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592D-9B58-460D-BC90-60FA3335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834920" y="1600200"/>
            <a:ext cx="344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51480" y="1600200"/>
            <a:ext cx="344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834920" y="3964320"/>
            <a:ext cx="344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51480" y="3964320"/>
            <a:ext cx="344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14CD-00B6-4A5F-AD95-58DD9156D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834920" y="1600200"/>
            <a:ext cx="227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21360" y="1600200"/>
            <a:ext cx="227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07440" y="1600200"/>
            <a:ext cx="227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834920" y="3964320"/>
            <a:ext cx="227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221360" y="3964320"/>
            <a:ext cx="227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07440" y="3964320"/>
            <a:ext cx="227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C066-24E0-43AC-9ECF-1C5EC9989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26CE-DB85-4137-BDC6-97047D84B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834920" y="1600200"/>
            <a:ext cx="70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5163-CC00-4ECF-9FBC-F0907BD1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34920" y="1600200"/>
            <a:ext cx="70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991F-E8F0-4D5F-A3DC-784FAF5F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834920" y="1600200"/>
            <a:ext cx="344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51480" y="1600200"/>
            <a:ext cx="344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A71E-C17F-4E19-B049-C89B4761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5D20-7887-4425-93FA-97270C6A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834920" y="274320"/>
            <a:ext cx="7057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7EFD-1784-4172-99C2-1E7AD517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34920" y="1600200"/>
            <a:ext cx="344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51480" y="1600200"/>
            <a:ext cx="344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834920" y="3964320"/>
            <a:ext cx="344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7622-0EF8-4E0F-A554-665129AF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834920" y="1600200"/>
            <a:ext cx="70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9FCE-192C-4E6F-8654-C7230442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34920" y="1600200"/>
            <a:ext cx="344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51480" y="1600200"/>
            <a:ext cx="344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451480" y="3964320"/>
            <a:ext cx="344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1A34-DA19-41B1-8273-E372D6B6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34920" y="1600200"/>
            <a:ext cx="344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51480" y="1600200"/>
            <a:ext cx="344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834920" y="3964320"/>
            <a:ext cx="70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551C8-6137-4D6E-B292-4B72EE73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34920" y="1600200"/>
            <a:ext cx="70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834920" y="3964320"/>
            <a:ext cx="70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9EC0-3439-4DFE-89CE-1B2E7C23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834920" y="1600200"/>
            <a:ext cx="344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51480" y="1600200"/>
            <a:ext cx="344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834920" y="3964320"/>
            <a:ext cx="344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451480" y="3964320"/>
            <a:ext cx="344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22045-9B50-4DC5-A947-A42F6A8BD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34920" y="1600200"/>
            <a:ext cx="227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21360" y="1600200"/>
            <a:ext cx="227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07440" y="1600200"/>
            <a:ext cx="227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834920" y="3964320"/>
            <a:ext cx="227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221360" y="3964320"/>
            <a:ext cx="227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07440" y="3964320"/>
            <a:ext cx="227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2054-79DD-4436-95F7-6B4478768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834920" y="1600200"/>
            <a:ext cx="70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834920" y="1600200"/>
            <a:ext cx="70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834920" y="1600200"/>
            <a:ext cx="344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451480" y="1600200"/>
            <a:ext cx="344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834920" y="1600200"/>
            <a:ext cx="70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5DAD-29A8-4170-8206-1196A9D6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834920" y="274320"/>
            <a:ext cx="7057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834920" y="1600200"/>
            <a:ext cx="344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451480" y="1600200"/>
            <a:ext cx="344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834920" y="3964320"/>
            <a:ext cx="344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834920" y="1600200"/>
            <a:ext cx="344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451480" y="1600200"/>
            <a:ext cx="344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451480" y="3964320"/>
            <a:ext cx="344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834920" y="1600200"/>
            <a:ext cx="344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451480" y="1600200"/>
            <a:ext cx="344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834920" y="3964320"/>
            <a:ext cx="70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34920" y="1600200"/>
            <a:ext cx="70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834920" y="3964320"/>
            <a:ext cx="70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834920" y="1600200"/>
            <a:ext cx="344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451480" y="1600200"/>
            <a:ext cx="344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834920" y="3964320"/>
            <a:ext cx="344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451480" y="3964320"/>
            <a:ext cx="344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34920" y="1600200"/>
            <a:ext cx="227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221360" y="1600200"/>
            <a:ext cx="227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07440" y="1600200"/>
            <a:ext cx="227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834920" y="3964320"/>
            <a:ext cx="227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221360" y="3964320"/>
            <a:ext cx="227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07440" y="3964320"/>
            <a:ext cx="227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834920" y="1600200"/>
            <a:ext cx="344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51480" y="1600200"/>
            <a:ext cx="344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3A24-9EEE-429D-A707-047676ED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8E27-6721-4A6C-B62E-2096CD62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34920" y="274320"/>
            <a:ext cx="7057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6864-DC41-46E9-8A85-3BA5A6BE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834920" y="1600200"/>
            <a:ext cx="344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51480" y="1600200"/>
            <a:ext cx="344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834920" y="3964320"/>
            <a:ext cx="344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E403-5DFD-450B-AEA4-ADDF661C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34920" y="1600200"/>
            <a:ext cx="344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51480" y="1600200"/>
            <a:ext cx="344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51480" y="3964320"/>
            <a:ext cx="344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E396-535B-4D56-B9E5-8E3963A5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34920" y="1600200"/>
            <a:ext cx="344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51480" y="1600200"/>
            <a:ext cx="3444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834920" y="3964320"/>
            <a:ext cx="70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BC89-AA15-4F18-BCEA-DE20E058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S_DNA305副本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835280" y="1557360"/>
            <a:ext cx="700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CEA1-C8E5-442B-AF2E-52507F1D6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LP_DNA305副本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834920" y="1600200"/>
            <a:ext cx="70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3F7D-761A-4287-A1E6-247E0F0E0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LT_DNA305副本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835280" y="1557360"/>
            <a:ext cx="700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763640" y="981000"/>
            <a:ext cx="7561440" cy="6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Black"/>
              </a:rPr>
              <a:t>螺旋背景商务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 Black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835280" y="1557360"/>
            <a:ext cx="700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834920" y="1600200"/>
            <a:ext cx="70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834920" y="1600200"/>
            <a:ext cx="70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04:24:38Z</dcterms:created>
  <dc:creator>ppt宝藏</dc:creator>
  <dc:description/>
  <dc:language>en-US</dc:language>
  <cp:lastModifiedBy>a</cp:lastModifiedBy>
  <dcterms:modified xsi:type="dcterms:W3CDTF">2015-07-25T06:27:27Z</dcterms:modified>
  <cp:revision>3</cp:revision>
  <dc:subject/>
  <dc:title>www.pptbz.com</dc:title>
</cp:coreProperties>
</file>