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433-8451-439A-BB6A-92E0BF51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9A4-98B5-4864-96ED-9208BE9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83D-1792-4CE4-97D1-6BEC2225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C1F-3329-42BB-ABD2-7A2966A8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F38-2151-439B-ACF9-A4EBEB2F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0F55-5C7A-4F43-B239-77FEF65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996B-3F34-4AEF-8C21-59B96EA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D09-530F-4E68-93F0-93EB0D3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9B4B-566C-4D2E-A3CA-8AA2B90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EE07-DE3F-4A22-AB10-CDDE90A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3EF-D7F3-4A83-ACFF-4ADCAF5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39D-517E-4269-92BC-F0012C2F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D2B-7600-4964-BDD5-571025A5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DDA-1EB1-43E5-9B6D-5775799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66F-E5A1-4F56-86B3-77C91CB7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5A55-434F-467E-86D8-D9C0EED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0C01-3991-4F08-8B46-C9DDDEA7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7A8F-6D0C-4378-A895-A0A29211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039A-0038-4111-AC0B-B2AEC08F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6E17-CE21-4BB0-83C1-7B630E4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79E1-790C-45B6-A544-7A76F8C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EE6E-5623-4D9B-BA32-CD7AD46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7B8-A2EF-45C6-9F96-5170E4D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E49F-33BF-48DC-902D-D3C331F2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B269-8BFB-439B-B115-1BB4285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14AA-18CB-44F7-B870-0366613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CC2B-F6DD-4DCF-B184-4938B90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A419-4341-4F7A-9FEE-07A6467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E7F9-FFF7-4889-9342-EA09865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A265-F261-4587-AAA4-2AB4D2DC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E47-51B4-4884-8146-5773D309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507-7A12-4CE9-87E7-A8C8BC42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2E5-4BBE-4CB5-BB1C-C1616D5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173-ADE4-4197-8CCA-81B6D55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F0E-D342-4E49-9FCB-FF652DA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CCA-8F46-48A0-A8CF-E43413F7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32A-22B5-4911-A6CA-EAA56794A708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38A-BAD1-4A83-AA91-1A2D4B5D4E6E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80EE-1BC9-441D-920E-BD4B3CC1EB6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009-4502-408B-B527-1E6986194837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9F08-69D6-4169-9B2E-B4B5F39BD6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5635-5866-4D5E-A9A1-2A59B3FF4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2068560" y="164772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幻蓝色简洁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5454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28" name="Picture 4" descr="wg_blurred_backgrounds_12"/>
          <p:cNvPicPr/>
          <p:nvPr/>
        </p:nvPicPr>
        <p:blipFill>
          <a:blip r:embed="rId1"/>
          <a:srcRect l="52773" t="0" r="29228" b="0"/>
          <a:stretch/>
        </p:blipFill>
        <p:spPr>
          <a:xfrm>
            <a:off x="0" y="6480"/>
            <a:ext cx="1620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680" y="5397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pptbz.com</dc:creator>
  <dc:description/>
  <dc:language>en-US</dc:language>
  <cp:lastModifiedBy>a</cp:lastModifiedBy>
  <dcterms:modified xsi:type="dcterms:W3CDTF">2015-07-25T02:09:4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