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9EA-CAE3-4D5B-A7D6-13E154A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19F-1281-41E6-9DAE-BA01580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99415-4780-48E7-9223-78E00AC6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F48FC-0485-44F9-81CE-FD0AB50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B50F-B0A2-4314-9B2C-30D91784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3B489-BCE3-4DDE-A79C-04C21E3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D0CB0-C9B5-48BA-A6C4-FE9DCF3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29420-97E5-48CE-B1B4-21C36DC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9F2B5-813C-43F0-8A41-DB2F119A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2D0E6-A827-403B-9A68-E731402B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5EE3-7457-48EA-A250-88865D7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F212E-6C20-48DA-9894-09C36F06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6F5-8149-4210-8122-0038590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86EE3-28CB-4C80-9AF5-1D7E84E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33F10-6623-4BBE-BDBA-C11B8BD1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4F1EC-A570-476F-BD88-8C7675F1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7354-BBDE-4E8E-9E4C-51374D5A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468EE-5241-4365-94DE-F4F725E9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87B67-963D-415B-8C6B-CC94F09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B8729-B494-4368-A68F-D333950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4AEC-B012-42D0-BF0B-284DB2A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B47B3-B58C-4E8B-9CF7-29628B2C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7535D-5B72-42D5-A842-E8006AE5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56B-7C4F-4A7B-96EB-D4E77C25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37760-3FC5-476C-B598-92C9AB77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65BD-FA67-4FB2-9378-B08F3EA1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17E2-C05A-41E0-A06C-545D840B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11CCC-0383-44D9-8912-58DE709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E05A-CDEF-4DFE-BA1A-7FA44BA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07E41-25AD-47CB-B071-11D5DBF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76671-F279-4D79-952B-C9E6780C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69CD9-5049-450F-A03B-7FF8A15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7307-AAB6-4A73-8A2F-9B38DB8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76B5A-A084-4B51-933E-C55C52B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C8B-5D22-4333-809D-98586E4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830A-C4D7-482A-AFE8-A26472F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03D64-889A-450D-BD37-5E62267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DD3D-6DEC-48B8-9BD0-C3F897FF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9AC22-9CBE-4E2C-B9A8-09B84C27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4F0A1-2043-4B6D-9F4E-71B449F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6A84E-F12C-49FD-A97D-12CFA055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9448F-857A-4BC6-9FFF-2E764BD5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2A39E-EC72-4B22-97E7-16CFE91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9912B-9544-4504-8552-25C2BB2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CE042-3FB0-44DF-876E-E0DCBFA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1BC6-9524-454B-8B0F-09496267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39CF9-6EE7-43AA-9BCA-278F6DF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54873-4DA4-411B-A1F6-3E01585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39455-202B-45AC-8815-3619D8E8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04764-BED1-4F89-8E21-5C5128AF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06B8E-3189-47C4-887D-8CC60483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F57-A2F6-4C4A-806B-9AE54FA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C29-F134-431A-92CD-0656FA0F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53B0-1532-46D2-BDA1-B53F67E4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EB6A-4D9A-4743-AF37-74235FE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05F5-8E7F-43A1-9212-67FE972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64B-B72B-4C65-B8AE-4477D6AE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112A-DD4D-4064-A5F4-347E2EF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12D-E415-4EBC-BC5A-04C8A50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B65-3E81-4470-9FF2-481B2956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BCB7-F27A-4B59-996E-A8D9319B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458-B2DE-49B9-AD5D-92FF9A84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B9C7-E8CC-489E-8894-3D5F81F3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3F44-0E59-4DEA-A169-A78A7446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0FA6-C08C-4121-93D4-A95F627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A8D1-DC01-402D-8769-B66FBB3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DAE2-F812-426D-BAE2-61F0273A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CF4-521B-42FE-94DD-C21A0B2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0394-8C46-4E6C-B30E-5766EA4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58C2-F280-4345-A90E-D7C64C0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D8C4-682D-49E9-B75C-6C494CA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F018-D924-481F-AD0C-0095943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5A85-C939-42CF-B0B2-68F036D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DC7D-33C0-4547-9889-EA7F20D2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4010-FAA7-46A9-A2F1-5274345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EDCE-51B9-4659-87E3-644C4856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B459-9E69-4AE5-A057-7B4F1E96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0846-3ED7-41E8-A516-21DE93F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DF0-ABF1-4FFB-8C75-88AE7316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F2D60-3301-48A1-ACA9-6FEE363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65D7-16E6-436A-9D0A-1847E51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A50A-7C0F-4B29-B5FF-FE55AF0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D206E-8220-4D74-92DF-1FEA6A0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7CA6-05A3-4859-9303-2D9F755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BF0B-848B-4392-B81A-D1284F0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8225-8485-4AD5-99C4-6DCDE80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51E3-71ED-4424-BE70-195CC202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E0419-6108-4314-9BE0-E6EC2DF7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8126-41B7-41C4-BBE8-D0E5E88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A49-A25E-4DAB-A561-B092E35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8779-3CB1-49F4-A2E0-8ACEEB6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4D79-A177-497B-B1FF-DB8B6005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AE27-C5F3-46A5-B55E-4E94E593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EF6C-B264-4D86-B28F-E5377D18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E325-2E2A-409A-9030-0FEA948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9F6E-F074-4B30-B6CC-9C51AE6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9B11-7DDA-4FD4-A6C9-9F951B8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D0D7-CBAC-42B2-8D42-D29B671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6A5A-3CEF-43AB-90B1-D70B480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6490-1165-48AC-9037-65022D1B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2C3-FE07-4344-BE03-87AC5B56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8E37-7C1D-4E57-B821-D30A0204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A5C1-7A4A-4AC1-8A67-565A8E13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21E1D-DDDF-4974-A057-1EAC3B3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A0EB-3562-4275-86CF-5C5B144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C8D5-DF9F-4296-8FDE-D12C205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9D36C-3BE5-4FEA-86E3-D72497E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FAB0-AA85-4594-9949-AEDAE42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0B59-B9FD-46C7-B495-B3D3413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D0DB-6977-4134-B8E8-BA83BB3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158A-331E-4C70-B581-D5B6172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CEE-A942-4EA7-8E07-BE2ACEA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0C63-0A4C-4003-9A11-B9F82E7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2378-336D-4AC6-8010-CB0D0BAF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4D22-7AA3-45D5-90B0-011D1EB8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B4C77-BE5E-40F3-AD63-FE4BC56D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E5B1A-A52F-4716-9470-6EE67E9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D293-9E03-4ED6-AA2C-EDF1AEA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F6D2-A2AA-4657-8B12-F27088A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337D-A1AC-4733-9A69-296212A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A178-03B7-4745-AB20-7420F229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A4F01-2826-4CCE-9885-E5870A5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A3C-E166-4DBD-8D50-500F7A1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F87B-06E8-491E-B124-0FF25BD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B66D-B514-4C39-B160-2C8564B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B3448-D315-4142-9327-82925C78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71E3-072E-4FEA-8F8F-DAE4904F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ABB3-675B-45BE-8A5B-6630414B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4C645-ED45-4F6B-8400-4041880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DD0D-E542-42D6-9CAA-1DE7BEC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ECEA8-6D8E-4BDF-9978-D69694B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A2D0-28C2-4A23-8003-CC352C91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89DD9-4B8E-467B-85AB-EC21329C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F48-A959-459F-906A-868DD3A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2D878-C86E-45DF-A347-9B83FE7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901E-3BEB-4CFC-9775-393838B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488F5-2A11-488C-914A-EF40DF63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4EE9-2566-4E68-904E-D024CF0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E0A8-1B6D-47F1-9B82-18C1AC05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5E559-8E6E-44F6-B6DA-DED35049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FB002-AB74-4C5E-A002-9BF503DA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1F02-A899-4B7C-AD33-5BA4F140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7653C-31B4-429D-9E07-0F966DA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7FAB-5A45-47BD-AEC4-9AF96237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D966-D7BD-4BDC-AAEB-48DF32FC178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DD4-36A5-4AFA-B14A-0EE0E1D96B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4DAA-6BB1-418A-BCA0-EC8B824BF8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1320-5BD9-4C24-895B-CE1705AD86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0E5-4970-401A-9C64-E9A8D00E82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27E-B2C8-4E53-9CF3-CF1D05DA2B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C9D7-A00D-44F8-A1A9-6837E0AFE2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453-2180-4BD1-927B-C3D392BAE0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042-4773-428E-A100-BA8DD53335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A75A-D1EF-488D-83D4-D75457B265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782-3FDD-40F8-9132-3ED221DAC5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BE5-97C9-4360-A2D5-DFB8497DE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A4F3-CDCF-4A4A-8514-000A7444D4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424-83E2-4EF6-A328-6BC7D6DF0E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8A42-9724-4BF2-875A-ECA3532742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9CB-9011-4D7D-8A5E-1C0740E05B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A538-3433-4BE1-8091-EAFC8E8809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B02-FEE9-47DF-A73F-633AE1082D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891-FE7D-4D6D-B626-D56B8488A0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513-FC32-44BB-BD97-6F6B59E486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288B-7849-4EE7-A82D-E1D1F47FD0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1096-F5BE-47DC-8939-41B13BB815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92C-E21C-49AF-B7D9-4F8C3C887A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C90-5772-4510-AF4B-4EBD372243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4"/>
          <p:cNvGrpSpPr/>
          <p:nvPr/>
        </p:nvGrpSpPr>
        <p:grpSpPr>
          <a:xfrm>
            <a:off x="3441600" y="4495680"/>
            <a:ext cx="2308320" cy="390600"/>
            <a:chOff x="3441600" y="4495680"/>
            <a:chExt cx="2308320" cy="390600"/>
          </a:xfrm>
        </p:grpSpPr>
        <p:sp>
          <p:nvSpPr>
            <p:cNvPr id="493" name="矩形 3"/>
            <p:cNvSpPr/>
            <p:nvPr/>
          </p:nvSpPr>
          <p:spPr>
            <a:xfrm>
              <a:off x="3762000" y="4495680"/>
              <a:ext cx="1667160" cy="390600"/>
            </a:xfrm>
            <a:prstGeom prst="rect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直角三角形 6"/>
            <p:cNvSpPr/>
            <p:nvPr/>
          </p:nvSpPr>
          <p:spPr>
            <a:xfrm>
              <a:off x="5429520" y="46926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角三角形 7"/>
            <p:cNvSpPr/>
            <p:nvPr/>
          </p:nvSpPr>
          <p:spPr>
            <a:xfrm flipV="1">
              <a:off x="5429520" y="44964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角三角形 8"/>
            <p:cNvSpPr/>
            <p:nvPr/>
          </p:nvSpPr>
          <p:spPr>
            <a:xfrm flipH="1">
              <a:off x="3441600" y="46926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角三角形 9"/>
            <p:cNvSpPr/>
            <p:nvPr/>
          </p:nvSpPr>
          <p:spPr>
            <a:xfrm flipH="1" flipV="1">
              <a:off x="3441600" y="44964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11"/>
            <p:cNvSpPr/>
            <p:nvPr/>
          </p:nvSpPr>
          <p:spPr>
            <a:xfrm>
              <a:off x="3923280" y="45054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f60"/>
                  </a:solidFill>
                  <a:latin typeface="微软雅黑"/>
                  <a:ea typeface="微软雅黑"/>
                </a:rPr>
                <a:t>add the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直接连接符 16"/>
          <p:cNvSpPr/>
          <p:nvPr/>
        </p:nvSpPr>
        <p:spPr>
          <a:xfrm>
            <a:off x="5749920" y="4689360"/>
            <a:ext cx="74628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18"/>
          <p:cNvSpPr/>
          <p:nvPr/>
        </p:nvSpPr>
        <p:spPr>
          <a:xfrm>
            <a:off x="6732720" y="4689360"/>
            <a:ext cx="29664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1"/>
          <p:cNvSpPr/>
          <p:nvPr/>
        </p:nvSpPr>
        <p:spPr>
          <a:xfrm flipH="1">
            <a:off x="6492600" y="465768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22"/>
          <p:cNvSpPr/>
          <p:nvPr/>
        </p:nvSpPr>
        <p:spPr>
          <a:xfrm flipH="1">
            <a:off x="6565680" y="465768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23"/>
          <p:cNvSpPr/>
          <p:nvPr/>
        </p:nvSpPr>
        <p:spPr>
          <a:xfrm flipH="1">
            <a:off x="6638760" y="465768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24"/>
          <p:cNvSpPr/>
          <p:nvPr/>
        </p:nvSpPr>
        <p:spPr>
          <a:xfrm>
            <a:off x="2698920" y="4689360"/>
            <a:ext cx="74772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27"/>
          <p:cNvSpPr/>
          <p:nvPr/>
        </p:nvSpPr>
        <p:spPr>
          <a:xfrm>
            <a:off x="2479680" y="465120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28"/>
          <p:cNvSpPr/>
          <p:nvPr/>
        </p:nvSpPr>
        <p:spPr>
          <a:xfrm>
            <a:off x="2552760" y="465120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9"/>
          <p:cNvSpPr/>
          <p:nvPr/>
        </p:nvSpPr>
        <p:spPr>
          <a:xfrm>
            <a:off x="2625120" y="465120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0"/>
          <p:cNvSpPr/>
          <p:nvPr/>
        </p:nvSpPr>
        <p:spPr>
          <a:xfrm>
            <a:off x="2147760" y="4694400"/>
            <a:ext cx="29700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31"/>
          <p:cNvSpPr/>
          <p:nvPr/>
        </p:nvSpPr>
        <p:spPr>
          <a:xfrm>
            <a:off x="2596320" y="2727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欧美简洁商务</a:t>
            </a:r>
            <a:r>
              <a:rPr b="0" lang="en-US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33"/>
          <p:cNvSpPr/>
          <p:nvPr/>
        </p:nvSpPr>
        <p:spPr>
          <a:xfrm>
            <a:off x="3621240" y="1371600"/>
            <a:ext cx="1666800" cy="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4"/>
          <p:cNvSpPr/>
          <p:nvPr/>
        </p:nvSpPr>
        <p:spPr>
          <a:xfrm rot="2700000">
            <a:off x="5359320" y="1336680"/>
            <a:ext cx="69840" cy="6984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5"/>
          <p:cNvSpPr/>
          <p:nvPr/>
        </p:nvSpPr>
        <p:spPr>
          <a:xfrm rot="2700000">
            <a:off x="3481560" y="1336680"/>
            <a:ext cx="69840" cy="6984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6"/>
          <p:cNvSpPr/>
          <p:nvPr/>
        </p:nvSpPr>
        <p:spPr>
          <a:xfrm rot="2700000">
            <a:off x="5492880" y="1342800"/>
            <a:ext cx="56880" cy="568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0"/>
          <p:cNvSpPr/>
          <p:nvPr/>
        </p:nvSpPr>
        <p:spPr>
          <a:xfrm rot="2700000">
            <a:off x="5608800" y="1348920"/>
            <a:ext cx="44640" cy="4572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41"/>
          <p:cNvSpPr/>
          <p:nvPr/>
        </p:nvSpPr>
        <p:spPr>
          <a:xfrm rot="2700000">
            <a:off x="3359520" y="1342080"/>
            <a:ext cx="56880" cy="586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42"/>
          <p:cNvSpPr/>
          <p:nvPr/>
        </p:nvSpPr>
        <p:spPr>
          <a:xfrm rot="2700000">
            <a:off x="3242160" y="1348560"/>
            <a:ext cx="44640" cy="460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任意多边形 1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3638990" y="981028"/>
                </a:moveTo>
                <a:cubicBezTo>
                  <a:pt x="3692792" y="981028"/>
                  <a:pt x="3735152" y="999222"/>
                  <a:pt x="3766071" y="1035611"/>
                </a:cubicBezTo>
                <a:cubicBezTo>
                  <a:pt x="3796990" y="1071999"/>
                  <a:pt x="3812450" y="1123680"/>
                  <a:pt x="3812450" y="1190652"/>
                </a:cubicBezTo>
                <a:cubicBezTo>
                  <a:pt x="3812450" y="1255839"/>
                  <a:pt x="3796655" y="1306571"/>
                  <a:pt x="3765066" y="1342848"/>
                </a:cubicBezTo>
                <a:cubicBezTo>
                  <a:pt x="3733478" y="1379124"/>
                  <a:pt x="3690001" y="1397263"/>
                  <a:pt x="3634637" y="1397263"/>
                </a:cubicBezTo>
                <a:cubicBezTo>
                  <a:pt x="3583068" y="1397263"/>
                  <a:pt x="3541266" y="1378343"/>
                  <a:pt x="3509231" y="1340504"/>
                </a:cubicBezTo>
                <a:cubicBezTo>
                  <a:pt x="3477195" y="1302664"/>
                  <a:pt x="3461178" y="1252379"/>
                  <a:pt x="3461178" y="1189648"/>
                </a:cubicBezTo>
                <a:cubicBezTo>
                  <a:pt x="3461178" y="1127363"/>
                  <a:pt x="3477586" y="1077022"/>
                  <a:pt x="3510403" y="1038624"/>
                </a:cubicBezTo>
                <a:cubicBezTo>
                  <a:pt x="3543219" y="1000227"/>
                  <a:pt x="3586082" y="981028"/>
                  <a:pt x="3638990" y="981028"/>
                </a:cubicBezTo>
                <a:close/>
                <a:moveTo>
                  <a:pt x="5829219" y="929459"/>
                </a:moveTo>
                <a:lnTo>
                  <a:pt x="5829219" y="989065"/>
                </a:lnTo>
                <a:lnTo>
                  <a:pt x="5978233" y="989065"/>
                </a:lnTo>
                <a:lnTo>
                  <a:pt x="5978233" y="1448162"/>
                </a:lnTo>
                <a:lnTo>
                  <a:pt x="6045541" y="1448162"/>
                </a:lnTo>
                <a:lnTo>
                  <a:pt x="6045541" y="989065"/>
                </a:lnTo>
                <a:lnTo>
                  <a:pt x="6195225" y="989065"/>
                </a:lnTo>
                <a:lnTo>
                  <a:pt x="6195225" y="929459"/>
                </a:lnTo>
                <a:lnTo>
                  <a:pt x="5829219" y="929459"/>
                </a:lnTo>
                <a:close/>
                <a:moveTo>
                  <a:pt x="5319818" y="929459"/>
                </a:moveTo>
                <a:lnTo>
                  <a:pt x="5319818" y="1448162"/>
                </a:lnTo>
                <a:lnTo>
                  <a:pt x="5386121" y="1448162"/>
                </a:lnTo>
                <a:lnTo>
                  <a:pt x="5386121" y="1083496"/>
                </a:lnTo>
                <a:cubicBezTo>
                  <a:pt x="5386121" y="1046661"/>
                  <a:pt x="5385228" y="1022439"/>
                  <a:pt x="5383442" y="1010831"/>
                </a:cubicBezTo>
                <a:lnTo>
                  <a:pt x="5385451" y="1010831"/>
                </a:lnTo>
                <a:cubicBezTo>
                  <a:pt x="5389916" y="1021993"/>
                  <a:pt x="5395832" y="1033267"/>
                  <a:pt x="5403199" y="1044652"/>
                </a:cubicBezTo>
                <a:lnTo>
                  <a:pt x="5664057" y="1448162"/>
                </a:lnTo>
                <a:lnTo>
                  <a:pt x="5743420" y="1448162"/>
                </a:lnTo>
                <a:lnTo>
                  <a:pt x="5743420" y="929459"/>
                </a:lnTo>
                <a:lnTo>
                  <a:pt x="5677117" y="929459"/>
                </a:lnTo>
                <a:lnTo>
                  <a:pt x="5677117" y="1286088"/>
                </a:lnTo>
                <a:cubicBezTo>
                  <a:pt x="5677117" y="1321807"/>
                  <a:pt x="5678233" y="1347033"/>
                  <a:pt x="5680466" y="1361767"/>
                </a:cubicBezTo>
                <a:lnTo>
                  <a:pt x="5679126" y="1361767"/>
                </a:lnTo>
                <a:cubicBezTo>
                  <a:pt x="5676894" y="1356633"/>
                  <a:pt x="5669750" y="1344689"/>
                  <a:pt x="5657695" y="1325937"/>
                </a:cubicBezTo>
                <a:lnTo>
                  <a:pt x="5403869" y="929459"/>
                </a:lnTo>
                <a:lnTo>
                  <a:pt x="5319818" y="929459"/>
                </a:lnTo>
                <a:close/>
                <a:moveTo>
                  <a:pt x="4938818" y="929459"/>
                </a:moveTo>
                <a:lnTo>
                  <a:pt x="4938818" y="1448162"/>
                </a:lnTo>
                <a:lnTo>
                  <a:pt x="5217759" y="1448162"/>
                </a:lnTo>
                <a:lnTo>
                  <a:pt x="5217759" y="1388891"/>
                </a:lnTo>
                <a:lnTo>
                  <a:pt x="5005790" y="1388891"/>
                </a:lnTo>
                <a:lnTo>
                  <a:pt x="5005790" y="1214428"/>
                </a:lnTo>
                <a:lnTo>
                  <a:pt x="5191305" y="1214428"/>
                </a:lnTo>
                <a:lnTo>
                  <a:pt x="5191305" y="1155157"/>
                </a:lnTo>
                <a:lnTo>
                  <a:pt x="5005790" y="1155157"/>
                </a:lnTo>
                <a:lnTo>
                  <a:pt x="5005790" y="989065"/>
                </a:lnTo>
                <a:lnTo>
                  <a:pt x="5206039" y="989065"/>
                </a:lnTo>
                <a:lnTo>
                  <a:pt x="5206039" y="929459"/>
                </a:lnTo>
                <a:lnTo>
                  <a:pt x="4938818" y="929459"/>
                </a:lnTo>
                <a:close/>
                <a:moveTo>
                  <a:pt x="4495719" y="929459"/>
                </a:moveTo>
                <a:lnTo>
                  <a:pt x="4495719" y="989065"/>
                </a:lnTo>
                <a:lnTo>
                  <a:pt x="4644733" y="989065"/>
                </a:lnTo>
                <a:lnTo>
                  <a:pt x="4644733" y="1448162"/>
                </a:lnTo>
                <a:lnTo>
                  <a:pt x="4712041" y="1448162"/>
                </a:lnTo>
                <a:lnTo>
                  <a:pt x="4712041" y="989065"/>
                </a:lnTo>
                <a:lnTo>
                  <a:pt x="4861725" y="989065"/>
                </a:lnTo>
                <a:lnTo>
                  <a:pt x="4861725" y="929459"/>
                </a:lnTo>
                <a:lnTo>
                  <a:pt x="4495719" y="929459"/>
                </a:lnTo>
                <a:close/>
                <a:moveTo>
                  <a:pt x="3986318" y="929459"/>
                </a:moveTo>
                <a:lnTo>
                  <a:pt x="3986318" y="1448162"/>
                </a:lnTo>
                <a:lnTo>
                  <a:pt x="4052621" y="1448162"/>
                </a:lnTo>
                <a:lnTo>
                  <a:pt x="4052621" y="1083496"/>
                </a:lnTo>
                <a:cubicBezTo>
                  <a:pt x="4052621" y="1046661"/>
                  <a:pt x="4051728" y="1022439"/>
                  <a:pt x="4049942" y="1010831"/>
                </a:cubicBezTo>
                <a:lnTo>
                  <a:pt x="4051951" y="1010831"/>
                </a:lnTo>
                <a:cubicBezTo>
                  <a:pt x="4056416" y="1021993"/>
                  <a:pt x="4062332" y="1033267"/>
                  <a:pt x="4069699" y="1044652"/>
                </a:cubicBezTo>
                <a:lnTo>
                  <a:pt x="4330557" y="1448162"/>
                </a:lnTo>
                <a:lnTo>
                  <a:pt x="4409920" y="1448162"/>
                </a:lnTo>
                <a:lnTo>
                  <a:pt x="4409920" y="929459"/>
                </a:lnTo>
                <a:lnTo>
                  <a:pt x="4343617" y="929459"/>
                </a:lnTo>
                <a:lnTo>
                  <a:pt x="4343617" y="1286088"/>
                </a:lnTo>
                <a:cubicBezTo>
                  <a:pt x="4343617" y="1321807"/>
                  <a:pt x="4344733" y="1347033"/>
                  <a:pt x="4346966" y="1361767"/>
                </a:cubicBezTo>
                <a:lnTo>
                  <a:pt x="4345626" y="1361767"/>
                </a:lnTo>
                <a:cubicBezTo>
                  <a:pt x="4343394" y="1356633"/>
                  <a:pt x="4336250" y="1344689"/>
                  <a:pt x="4324195" y="1325937"/>
                </a:cubicBezTo>
                <a:lnTo>
                  <a:pt x="4070369" y="929459"/>
                </a:lnTo>
                <a:lnTo>
                  <a:pt x="3986318" y="929459"/>
                </a:lnTo>
                <a:close/>
                <a:moveTo>
                  <a:pt x="6431378" y="920753"/>
                </a:moveTo>
                <a:cubicBezTo>
                  <a:pt x="6378693" y="920753"/>
                  <a:pt x="6335049" y="933366"/>
                  <a:pt x="6300446" y="958592"/>
                </a:cubicBezTo>
                <a:cubicBezTo>
                  <a:pt x="6265844" y="983818"/>
                  <a:pt x="6248543" y="1017974"/>
                  <a:pt x="6248543" y="1061060"/>
                </a:cubicBezTo>
                <a:cubicBezTo>
                  <a:pt x="6248543" y="1089635"/>
                  <a:pt x="6256803" y="1115029"/>
                  <a:pt x="6273322" y="1137242"/>
                </a:cubicBezTo>
                <a:cubicBezTo>
                  <a:pt x="6289842" y="1159454"/>
                  <a:pt x="6324110" y="1183509"/>
                  <a:pt x="6376125" y="1209405"/>
                </a:cubicBezTo>
                <a:cubicBezTo>
                  <a:pt x="6413630" y="1227934"/>
                  <a:pt x="6439191" y="1241663"/>
                  <a:pt x="6452809" y="1250593"/>
                </a:cubicBezTo>
                <a:cubicBezTo>
                  <a:pt x="6466427" y="1259523"/>
                  <a:pt x="6477143" y="1269792"/>
                  <a:pt x="6484956" y="1281400"/>
                </a:cubicBezTo>
                <a:cubicBezTo>
                  <a:pt x="6492769" y="1293009"/>
                  <a:pt x="6496676" y="1306069"/>
                  <a:pt x="6496676" y="1320579"/>
                </a:cubicBezTo>
                <a:cubicBezTo>
                  <a:pt x="6496676" y="1372371"/>
                  <a:pt x="6460288" y="1398268"/>
                  <a:pt x="6387511" y="1398268"/>
                </a:cubicBezTo>
                <a:cubicBezTo>
                  <a:pt x="6363624" y="1398268"/>
                  <a:pt x="6338398" y="1393803"/>
                  <a:pt x="6311832" y="1384873"/>
                </a:cubicBezTo>
                <a:cubicBezTo>
                  <a:pt x="6285266" y="1375943"/>
                  <a:pt x="6264058" y="1364558"/>
                  <a:pt x="6248208" y="1350717"/>
                </a:cubicBezTo>
                <a:lnTo>
                  <a:pt x="6248208" y="1427066"/>
                </a:lnTo>
                <a:cubicBezTo>
                  <a:pt x="6260709" y="1435549"/>
                  <a:pt x="6280634" y="1442637"/>
                  <a:pt x="6307981" y="1448330"/>
                </a:cubicBezTo>
                <a:cubicBezTo>
                  <a:pt x="6335328" y="1454022"/>
                  <a:pt x="6359271" y="1456869"/>
                  <a:pt x="6379809" y="1456869"/>
                </a:cubicBezTo>
                <a:cubicBezTo>
                  <a:pt x="6438522" y="1456869"/>
                  <a:pt x="6484398" y="1444702"/>
                  <a:pt x="6517438" y="1420369"/>
                </a:cubicBezTo>
                <a:cubicBezTo>
                  <a:pt x="6550478" y="1396035"/>
                  <a:pt x="6566998" y="1361098"/>
                  <a:pt x="6566998" y="1315556"/>
                </a:cubicBezTo>
                <a:cubicBezTo>
                  <a:pt x="6566998" y="1285195"/>
                  <a:pt x="6556840" y="1257848"/>
                  <a:pt x="6536525" y="1233515"/>
                </a:cubicBezTo>
                <a:cubicBezTo>
                  <a:pt x="6516210" y="1209181"/>
                  <a:pt x="6480603" y="1184848"/>
                  <a:pt x="6429704" y="1160515"/>
                </a:cubicBezTo>
                <a:cubicBezTo>
                  <a:pt x="6383492" y="1137744"/>
                  <a:pt x="6353466" y="1119773"/>
                  <a:pt x="6339625" y="1106602"/>
                </a:cubicBezTo>
                <a:cubicBezTo>
                  <a:pt x="6325784" y="1093430"/>
                  <a:pt x="6318864" y="1076352"/>
                  <a:pt x="6318864" y="1055368"/>
                </a:cubicBezTo>
                <a:cubicBezTo>
                  <a:pt x="6318864" y="1031704"/>
                  <a:pt x="6328854" y="1013231"/>
                  <a:pt x="6348834" y="999948"/>
                </a:cubicBezTo>
                <a:cubicBezTo>
                  <a:pt x="6368814" y="986665"/>
                  <a:pt x="6394655" y="980023"/>
                  <a:pt x="6426355" y="980023"/>
                </a:cubicBezTo>
                <a:cubicBezTo>
                  <a:pt x="6474129" y="980023"/>
                  <a:pt x="6513643" y="990851"/>
                  <a:pt x="6544897" y="1012505"/>
                </a:cubicBezTo>
                <a:lnTo>
                  <a:pt x="6544897" y="939505"/>
                </a:lnTo>
                <a:cubicBezTo>
                  <a:pt x="6520786" y="927003"/>
                  <a:pt x="6482947" y="920753"/>
                  <a:pt x="6431378" y="920753"/>
                </a:cubicBezTo>
                <a:close/>
                <a:moveTo>
                  <a:pt x="3643009" y="920753"/>
                </a:moveTo>
                <a:cubicBezTo>
                  <a:pt x="3565544" y="920753"/>
                  <a:pt x="3504152" y="945532"/>
                  <a:pt x="3458834" y="995092"/>
                </a:cubicBezTo>
                <a:cubicBezTo>
                  <a:pt x="3413516" y="1044652"/>
                  <a:pt x="3390857" y="1111290"/>
                  <a:pt x="3390857" y="1195006"/>
                </a:cubicBezTo>
                <a:cubicBezTo>
                  <a:pt x="3390857" y="1272694"/>
                  <a:pt x="3413069" y="1335760"/>
                  <a:pt x="3457495" y="1384203"/>
                </a:cubicBezTo>
                <a:cubicBezTo>
                  <a:pt x="3501920" y="1432647"/>
                  <a:pt x="3560967" y="1456869"/>
                  <a:pt x="3634637" y="1456869"/>
                </a:cubicBezTo>
                <a:cubicBezTo>
                  <a:pt x="3710093" y="1456869"/>
                  <a:pt x="3770368" y="1432200"/>
                  <a:pt x="3815463" y="1382864"/>
                </a:cubicBezTo>
                <a:cubicBezTo>
                  <a:pt x="3860558" y="1333527"/>
                  <a:pt x="3883106" y="1266778"/>
                  <a:pt x="3883106" y="1182616"/>
                </a:cubicBezTo>
                <a:cubicBezTo>
                  <a:pt x="3883106" y="1104927"/>
                  <a:pt x="3861116" y="1041861"/>
                  <a:pt x="3817138" y="993418"/>
                </a:cubicBezTo>
                <a:cubicBezTo>
                  <a:pt x="3773159" y="944974"/>
                  <a:pt x="3715116" y="920753"/>
                  <a:pt x="3643009" y="920753"/>
                </a:cubicBezTo>
                <a:close/>
                <a:moveTo>
                  <a:pt x="3062025" y="473919"/>
                </a:moveTo>
                <a:cubicBezTo>
                  <a:pt x="2919755" y="473919"/>
                  <a:pt x="2802434" y="520930"/>
                  <a:pt x="2710061" y="614953"/>
                </a:cubicBezTo>
                <a:cubicBezTo>
                  <a:pt x="2617688" y="708975"/>
                  <a:pt x="2571502" y="833100"/>
                  <a:pt x="2571502" y="987330"/>
                </a:cubicBezTo>
                <a:cubicBezTo>
                  <a:pt x="2571502" y="1130837"/>
                  <a:pt x="2612534" y="1246200"/>
                  <a:pt x="2694597" y="1333418"/>
                </a:cubicBezTo>
                <a:cubicBezTo>
                  <a:pt x="2776660" y="1420636"/>
                  <a:pt x="2886353" y="1464245"/>
                  <a:pt x="3023674" y="1464245"/>
                </a:cubicBezTo>
                <a:cubicBezTo>
                  <a:pt x="3130068" y="1464245"/>
                  <a:pt x="3218523" y="1445688"/>
                  <a:pt x="3289040" y="1408574"/>
                </a:cubicBezTo>
                <a:lnTo>
                  <a:pt x="3289040" y="1289809"/>
                </a:lnTo>
                <a:cubicBezTo>
                  <a:pt x="3218935" y="1332696"/>
                  <a:pt x="3136460" y="1354140"/>
                  <a:pt x="3041613" y="1354140"/>
                </a:cubicBezTo>
                <a:cubicBezTo>
                  <a:pt x="2940168" y="1354140"/>
                  <a:pt x="2858105" y="1320428"/>
                  <a:pt x="2795423" y="1253004"/>
                </a:cubicBezTo>
                <a:cubicBezTo>
                  <a:pt x="2732742" y="1185581"/>
                  <a:pt x="2701401" y="1094548"/>
                  <a:pt x="2701401" y="979907"/>
                </a:cubicBezTo>
                <a:cubicBezTo>
                  <a:pt x="2701401" y="859080"/>
                  <a:pt x="2735010" y="763099"/>
                  <a:pt x="2802228" y="691964"/>
                </a:cubicBezTo>
                <a:cubicBezTo>
                  <a:pt x="2869445" y="620829"/>
                  <a:pt x="2956457" y="585261"/>
                  <a:pt x="3063263" y="585261"/>
                </a:cubicBezTo>
                <a:cubicBezTo>
                  <a:pt x="3145326" y="585261"/>
                  <a:pt x="3220585" y="604231"/>
                  <a:pt x="3289040" y="642170"/>
                </a:cubicBezTo>
                <a:lnTo>
                  <a:pt x="3289040" y="512889"/>
                </a:lnTo>
                <a:cubicBezTo>
                  <a:pt x="3229245" y="486909"/>
                  <a:pt x="3153573" y="473919"/>
                  <a:pt x="3062025" y="473919"/>
                </a:cubicBezTo>
                <a:close/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KSO_Shape"/>
          <p:cNvSpPr/>
          <p:nvPr/>
        </p:nvSpPr>
        <p:spPr>
          <a:xfrm>
            <a:off x="2517840" y="246384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KSO_Shape"/>
          <p:cNvSpPr/>
          <p:nvPr/>
        </p:nvSpPr>
        <p:spPr>
          <a:xfrm>
            <a:off x="2517840" y="342252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KSO_Shape"/>
          <p:cNvSpPr/>
          <p:nvPr/>
        </p:nvSpPr>
        <p:spPr>
          <a:xfrm>
            <a:off x="2517840" y="437976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3"/>
          <p:cNvSpPr/>
          <p:nvPr/>
        </p:nvSpPr>
        <p:spPr>
          <a:xfrm>
            <a:off x="3793680" y="238140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14"/>
          <p:cNvSpPr/>
          <p:nvPr/>
        </p:nvSpPr>
        <p:spPr>
          <a:xfrm>
            <a:off x="3808080" y="344160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5"/>
          <p:cNvSpPr/>
          <p:nvPr/>
        </p:nvSpPr>
        <p:spPr>
          <a:xfrm>
            <a:off x="3793680" y="437976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26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23"/>
          <p:cNvGrpSpPr/>
          <p:nvPr/>
        </p:nvGrpSpPr>
        <p:grpSpPr>
          <a:xfrm>
            <a:off x="755640" y="1158840"/>
            <a:ext cx="68400" cy="5411880"/>
            <a:chOff x="755640" y="1158840"/>
            <a:chExt cx="68400" cy="5411880"/>
          </a:xfrm>
        </p:grpSpPr>
        <p:sp>
          <p:nvSpPr>
            <p:cNvPr id="531" name="直接连接符 21"/>
            <p:cNvSpPr/>
            <p:nvPr/>
          </p:nvSpPr>
          <p:spPr>
            <a:xfrm>
              <a:off x="824040" y="1158840"/>
              <a:ext cx="0" cy="5411880"/>
            </a:xfrm>
            <a:prstGeom prst="line">
              <a:avLst/>
            </a:prstGeom>
            <a:ln w="6480">
              <a:solidFill>
                <a:srgbClr val="4249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22"/>
            <p:cNvSpPr/>
            <p:nvPr/>
          </p:nvSpPr>
          <p:spPr>
            <a:xfrm>
              <a:off x="755640" y="1158840"/>
              <a:ext cx="0" cy="5411880"/>
            </a:xfrm>
            <a:prstGeom prst="line">
              <a:avLst/>
            </a:prstGeom>
            <a:ln w="6480">
              <a:solidFill>
                <a:srgbClr val="4249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椭圆 24"/>
          <p:cNvSpPr/>
          <p:nvPr/>
        </p:nvSpPr>
        <p:spPr>
          <a:xfrm>
            <a:off x="704880" y="1870200"/>
            <a:ext cx="182520" cy="1825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等腰三角形 35"/>
          <p:cNvSpPr/>
          <p:nvPr/>
        </p:nvSpPr>
        <p:spPr>
          <a:xfrm rot="16200000">
            <a:off x="913680" y="1850400"/>
            <a:ext cx="25704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36"/>
          <p:cNvSpPr/>
          <p:nvPr/>
        </p:nvSpPr>
        <p:spPr>
          <a:xfrm>
            <a:off x="1155600" y="1066680"/>
            <a:ext cx="6921720" cy="1714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8"/>
          <p:cNvSpPr/>
          <p:nvPr/>
        </p:nvSpPr>
        <p:spPr>
          <a:xfrm>
            <a:off x="704880" y="3763800"/>
            <a:ext cx="182520" cy="1843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39"/>
          <p:cNvSpPr/>
          <p:nvPr/>
        </p:nvSpPr>
        <p:spPr>
          <a:xfrm rot="16200000">
            <a:off x="913680" y="3745800"/>
            <a:ext cx="25704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圆角矩形 40"/>
          <p:cNvSpPr/>
          <p:nvPr/>
        </p:nvSpPr>
        <p:spPr>
          <a:xfrm>
            <a:off x="1155600" y="2962440"/>
            <a:ext cx="6921720" cy="1714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41"/>
          <p:cNvSpPr/>
          <p:nvPr/>
        </p:nvSpPr>
        <p:spPr>
          <a:xfrm>
            <a:off x="704880" y="5659560"/>
            <a:ext cx="182520" cy="1825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等腰三角形 42"/>
          <p:cNvSpPr/>
          <p:nvPr/>
        </p:nvSpPr>
        <p:spPr>
          <a:xfrm rot="16200000">
            <a:off x="913320" y="5640840"/>
            <a:ext cx="25740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43"/>
          <p:cNvSpPr/>
          <p:nvPr/>
        </p:nvSpPr>
        <p:spPr>
          <a:xfrm>
            <a:off x="1155600" y="4857840"/>
            <a:ext cx="6921720" cy="1712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4"/>
          <p:cNvSpPr/>
          <p:nvPr/>
        </p:nvSpPr>
        <p:spPr>
          <a:xfrm>
            <a:off x="1114560" y="127800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45"/>
          <p:cNvSpPr/>
          <p:nvPr/>
        </p:nvSpPr>
        <p:spPr>
          <a:xfrm>
            <a:off x="1114560" y="31719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46"/>
          <p:cNvSpPr/>
          <p:nvPr/>
        </p:nvSpPr>
        <p:spPr>
          <a:xfrm>
            <a:off x="1114560" y="50673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7"/>
          <p:cNvSpPr/>
          <p:nvPr/>
        </p:nvSpPr>
        <p:spPr>
          <a:xfrm>
            <a:off x="298800" y="1679400"/>
            <a:ext cx="3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48"/>
          <p:cNvSpPr/>
          <p:nvPr/>
        </p:nvSpPr>
        <p:spPr>
          <a:xfrm>
            <a:off x="249840" y="357984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49"/>
          <p:cNvSpPr/>
          <p:nvPr/>
        </p:nvSpPr>
        <p:spPr>
          <a:xfrm>
            <a:off x="214560" y="54277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直接连接符 18"/>
          <p:cNvSpPr/>
          <p:nvPr/>
        </p:nvSpPr>
        <p:spPr>
          <a:xfrm flipH="1">
            <a:off x="622080" y="4468680"/>
            <a:ext cx="82044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6"/>
          <p:cNvSpPr/>
          <p:nvPr/>
        </p:nvSpPr>
        <p:spPr>
          <a:xfrm>
            <a:off x="622440" y="3138480"/>
            <a:ext cx="82044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4"/>
          <p:cNvSpPr/>
          <p:nvPr/>
        </p:nvSpPr>
        <p:spPr>
          <a:xfrm flipV="1">
            <a:off x="671400" y="1808280"/>
            <a:ext cx="82080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52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501480" y="1638360"/>
            <a:ext cx="1160640" cy="116028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11"/>
          <p:cNvSpPr/>
          <p:nvPr/>
        </p:nvSpPr>
        <p:spPr>
          <a:xfrm>
            <a:off x="1081080" y="2798640"/>
            <a:ext cx="708516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30"/>
          <p:cNvSpPr/>
          <p:nvPr/>
        </p:nvSpPr>
        <p:spPr>
          <a:xfrm>
            <a:off x="450720" y="2968560"/>
            <a:ext cx="1162080" cy="116064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31"/>
          <p:cNvSpPr/>
          <p:nvPr/>
        </p:nvSpPr>
        <p:spPr>
          <a:xfrm>
            <a:off x="1031760" y="4129200"/>
            <a:ext cx="713448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32"/>
          <p:cNvSpPr/>
          <p:nvPr/>
        </p:nvSpPr>
        <p:spPr>
          <a:xfrm>
            <a:off x="450720" y="4299120"/>
            <a:ext cx="1162080" cy="116028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33"/>
          <p:cNvSpPr/>
          <p:nvPr/>
        </p:nvSpPr>
        <p:spPr>
          <a:xfrm>
            <a:off x="1031760" y="5459400"/>
            <a:ext cx="713448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7"/>
          <p:cNvSpPr/>
          <p:nvPr/>
        </p:nvSpPr>
        <p:spPr>
          <a:xfrm>
            <a:off x="1568520" y="15717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47"/>
          <p:cNvSpPr/>
          <p:nvPr/>
        </p:nvSpPr>
        <p:spPr>
          <a:xfrm>
            <a:off x="1568520" y="291132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48"/>
          <p:cNvSpPr/>
          <p:nvPr/>
        </p:nvSpPr>
        <p:spPr>
          <a:xfrm>
            <a:off x="1568520" y="420372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48"/>
          <p:cNvSpPr/>
          <p:nvPr/>
        </p:nvSpPr>
        <p:spPr>
          <a:xfrm>
            <a:off x="554688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47"/>
          <p:cNvSpPr/>
          <p:nvPr/>
        </p:nvSpPr>
        <p:spPr>
          <a:xfrm>
            <a:off x="298764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7"/>
          <p:cNvSpPr/>
          <p:nvPr/>
        </p:nvSpPr>
        <p:spPr>
          <a:xfrm>
            <a:off x="49212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69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2"/>
          <p:cNvSpPr/>
          <p:nvPr/>
        </p:nvSpPr>
        <p:spPr>
          <a:xfrm>
            <a:off x="1306440" y="2732040"/>
            <a:ext cx="11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o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29"/>
          <p:cNvSpPr/>
          <p:nvPr/>
        </p:nvSpPr>
        <p:spPr>
          <a:xfrm>
            <a:off x="3810600" y="27320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t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0"/>
          <p:cNvSpPr/>
          <p:nvPr/>
        </p:nvSpPr>
        <p:spPr>
          <a:xfrm>
            <a:off x="6415560" y="2732040"/>
            <a:ext cx="11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t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h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15"/>
          <p:cNvSpPr/>
          <p:nvPr/>
        </p:nvSpPr>
        <p:spPr>
          <a:xfrm>
            <a:off x="2990880" y="1442880"/>
            <a:ext cx="1440" cy="417852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34"/>
          <p:cNvSpPr/>
          <p:nvPr/>
        </p:nvSpPr>
        <p:spPr>
          <a:xfrm>
            <a:off x="5549760" y="1531800"/>
            <a:ext cx="0" cy="417852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3720" y="6338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任意多边形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7265610" y="3634171"/>
                </a:moveTo>
                <a:cubicBezTo>
                  <a:pt x="7248027" y="3634171"/>
                  <a:pt x="7232932" y="3640225"/>
                  <a:pt x="7220325" y="3652335"/>
                </a:cubicBezTo>
                <a:cubicBezTo>
                  <a:pt x="7207718" y="3664444"/>
                  <a:pt x="7201414" y="3679456"/>
                  <a:pt x="7201414" y="3697372"/>
                </a:cubicBezTo>
                <a:cubicBezTo>
                  <a:pt x="7201414" y="3713960"/>
                  <a:pt x="7207552" y="3728474"/>
                  <a:pt x="7219827" y="3740915"/>
                </a:cubicBezTo>
                <a:cubicBezTo>
                  <a:pt x="7232102" y="3753357"/>
                  <a:pt x="7248193" y="3759577"/>
                  <a:pt x="7268098" y="3759577"/>
                </a:cubicBezTo>
                <a:cubicBezTo>
                  <a:pt x="7284355" y="3759577"/>
                  <a:pt x="7298621" y="3753357"/>
                  <a:pt x="7310896" y="3740915"/>
                </a:cubicBezTo>
                <a:cubicBezTo>
                  <a:pt x="7323171" y="3728474"/>
                  <a:pt x="7329309" y="3713960"/>
                  <a:pt x="7329309" y="3697372"/>
                </a:cubicBezTo>
                <a:cubicBezTo>
                  <a:pt x="7329309" y="3680452"/>
                  <a:pt x="7323005" y="3665688"/>
                  <a:pt x="7310398" y="3653081"/>
                </a:cubicBezTo>
                <a:cubicBezTo>
                  <a:pt x="7297791" y="3640474"/>
                  <a:pt x="7282862" y="3634171"/>
                  <a:pt x="7265610" y="3634171"/>
                </a:cubicBezTo>
                <a:close/>
                <a:moveTo>
                  <a:pt x="3259883" y="3473432"/>
                </a:moveTo>
                <a:lnTo>
                  <a:pt x="3259883" y="3526182"/>
                </a:lnTo>
                <a:cubicBezTo>
                  <a:pt x="3259883" y="3571302"/>
                  <a:pt x="3246115" y="3608791"/>
                  <a:pt x="3218579" y="3638650"/>
                </a:cubicBezTo>
                <a:cubicBezTo>
                  <a:pt x="3191042" y="3668508"/>
                  <a:pt x="3156041" y="3683438"/>
                  <a:pt x="3113576" y="3683438"/>
                </a:cubicBezTo>
                <a:cubicBezTo>
                  <a:pt x="3083053" y="3683438"/>
                  <a:pt x="3058503" y="3675143"/>
                  <a:pt x="3039924" y="3658555"/>
                </a:cubicBezTo>
                <a:cubicBezTo>
                  <a:pt x="3021346" y="3641967"/>
                  <a:pt x="3012056" y="3620568"/>
                  <a:pt x="3012056" y="3594359"/>
                </a:cubicBezTo>
                <a:cubicBezTo>
                  <a:pt x="3012056" y="3564501"/>
                  <a:pt x="3020599" y="3541277"/>
                  <a:pt x="3037685" y="3524689"/>
                </a:cubicBezTo>
                <a:cubicBezTo>
                  <a:pt x="3054771" y="3508101"/>
                  <a:pt x="3085873" y="3496821"/>
                  <a:pt x="3130993" y="3490849"/>
                </a:cubicBezTo>
                <a:lnTo>
                  <a:pt x="3259883" y="3473432"/>
                </a:lnTo>
                <a:close/>
                <a:moveTo>
                  <a:pt x="5766441" y="3266909"/>
                </a:moveTo>
                <a:cubicBezTo>
                  <a:pt x="5822178" y="3266909"/>
                  <a:pt x="5864643" y="3284825"/>
                  <a:pt x="5893838" y="3320655"/>
                </a:cubicBezTo>
                <a:cubicBezTo>
                  <a:pt x="5923034" y="3356485"/>
                  <a:pt x="5937631" y="3407909"/>
                  <a:pt x="5937631" y="3474925"/>
                </a:cubicBezTo>
                <a:cubicBezTo>
                  <a:pt x="5937631" y="3541609"/>
                  <a:pt x="5923034" y="3592783"/>
                  <a:pt x="5893838" y="3628448"/>
                </a:cubicBezTo>
                <a:cubicBezTo>
                  <a:pt x="5864643" y="3664112"/>
                  <a:pt x="5822178" y="3681945"/>
                  <a:pt x="5766441" y="3681945"/>
                </a:cubicBezTo>
                <a:cubicBezTo>
                  <a:pt x="5712364" y="3681945"/>
                  <a:pt x="5669318" y="3663698"/>
                  <a:pt x="5637303" y="3627204"/>
                </a:cubicBezTo>
                <a:cubicBezTo>
                  <a:pt x="5605287" y="3590710"/>
                  <a:pt x="5589280" y="3540780"/>
                  <a:pt x="5589280" y="3477413"/>
                </a:cubicBezTo>
                <a:cubicBezTo>
                  <a:pt x="5589280" y="3412056"/>
                  <a:pt x="5605122" y="3360632"/>
                  <a:pt x="5636805" y="3323143"/>
                </a:cubicBezTo>
                <a:cubicBezTo>
                  <a:pt x="5668488" y="3285654"/>
                  <a:pt x="5711700" y="3266909"/>
                  <a:pt x="5766441" y="3266909"/>
                </a:cubicBezTo>
                <a:close/>
                <a:moveTo>
                  <a:pt x="6163329" y="3199230"/>
                </a:moveTo>
                <a:lnTo>
                  <a:pt x="6163329" y="3528670"/>
                </a:lnTo>
                <a:cubicBezTo>
                  <a:pt x="6163329" y="3684599"/>
                  <a:pt x="6228520" y="3762563"/>
                  <a:pt x="6358903" y="3762563"/>
                </a:cubicBezTo>
                <a:cubicBezTo>
                  <a:pt x="6435208" y="3762563"/>
                  <a:pt x="6491774" y="3729387"/>
                  <a:pt x="6528599" y="3663034"/>
                </a:cubicBezTo>
                <a:lnTo>
                  <a:pt x="6530590" y="3663034"/>
                </a:lnTo>
                <a:lnTo>
                  <a:pt x="6530590" y="3749624"/>
                </a:lnTo>
                <a:lnTo>
                  <a:pt x="6628626" y="3749624"/>
                </a:lnTo>
                <a:lnTo>
                  <a:pt x="6628626" y="3199230"/>
                </a:lnTo>
                <a:lnTo>
                  <a:pt x="6530590" y="3199230"/>
                </a:lnTo>
                <a:lnTo>
                  <a:pt x="6530590" y="3516229"/>
                </a:lnTo>
                <a:cubicBezTo>
                  <a:pt x="6530590" y="3564003"/>
                  <a:pt x="6517485" y="3603566"/>
                  <a:pt x="6491276" y="3634917"/>
                </a:cubicBezTo>
                <a:cubicBezTo>
                  <a:pt x="6465067" y="3666269"/>
                  <a:pt x="6430730" y="3681945"/>
                  <a:pt x="6388264" y="3681945"/>
                </a:cubicBezTo>
                <a:cubicBezTo>
                  <a:pt x="6302669" y="3681945"/>
                  <a:pt x="6259872" y="3626043"/>
                  <a:pt x="6259872" y="3514239"/>
                </a:cubicBezTo>
                <a:lnTo>
                  <a:pt x="6259872" y="3199230"/>
                </a:lnTo>
                <a:lnTo>
                  <a:pt x="6163329" y="3199230"/>
                </a:lnTo>
                <a:close/>
                <a:moveTo>
                  <a:pt x="4912559" y="3199230"/>
                </a:moveTo>
                <a:lnTo>
                  <a:pt x="5128536" y="3748629"/>
                </a:lnTo>
                <a:lnTo>
                  <a:pt x="5086236" y="3848655"/>
                </a:lnTo>
                <a:cubicBezTo>
                  <a:pt x="5064340" y="3900410"/>
                  <a:pt x="5031330" y="3926288"/>
                  <a:pt x="4987205" y="3926288"/>
                </a:cubicBezTo>
                <a:cubicBezTo>
                  <a:pt x="4969622" y="3926288"/>
                  <a:pt x="4951375" y="3922638"/>
                  <a:pt x="4932464" y="3915340"/>
                </a:cubicBezTo>
                <a:lnTo>
                  <a:pt x="4932464" y="4000934"/>
                </a:lnTo>
                <a:cubicBezTo>
                  <a:pt x="4949716" y="4006243"/>
                  <a:pt x="4970451" y="4008897"/>
                  <a:pt x="4994670" y="4008897"/>
                </a:cubicBezTo>
                <a:cubicBezTo>
                  <a:pt x="5079269" y="4008897"/>
                  <a:pt x="5144792" y="3950175"/>
                  <a:pt x="5191239" y="3832731"/>
                </a:cubicBezTo>
                <a:lnTo>
                  <a:pt x="5441057" y="3199230"/>
                </a:lnTo>
                <a:lnTo>
                  <a:pt x="5341030" y="3199230"/>
                </a:lnTo>
                <a:lnTo>
                  <a:pt x="5190742" y="3613767"/>
                </a:lnTo>
                <a:cubicBezTo>
                  <a:pt x="5184770" y="3633010"/>
                  <a:pt x="5180789" y="3647773"/>
                  <a:pt x="5178798" y="3658058"/>
                </a:cubicBezTo>
                <a:lnTo>
                  <a:pt x="5176310" y="3658058"/>
                </a:lnTo>
                <a:lnTo>
                  <a:pt x="5164366" y="3612772"/>
                </a:lnTo>
                <a:lnTo>
                  <a:pt x="5020547" y="3199230"/>
                </a:lnTo>
                <a:lnTo>
                  <a:pt x="4912559" y="3199230"/>
                </a:lnTo>
                <a:close/>
                <a:moveTo>
                  <a:pt x="7046772" y="3189775"/>
                </a:moveTo>
                <a:cubicBezTo>
                  <a:pt x="6978429" y="3189775"/>
                  <a:pt x="6930324" y="3230250"/>
                  <a:pt x="6902456" y="3311200"/>
                </a:cubicBezTo>
                <a:lnTo>
                  <a:pt x="6900465" y="3311200"/>
                </a:lnTo>
                <a:lnTo>
                  <a:pt x="6900465" y="3199230"/>
                </a:lnTo>
                <a:lnTo>
                  <a:pt x="6802927" y="3199230"/>
                </a:lnTo>
                <a:lnTo>
                  <a:pt x="6802927" y="3749624"/>
                </a:lnTo>
                <a:lnTo>
                  <a:pt x="6900465" y="3749624"/>
                </a:lnTo>
                <a:lnTo>
                  <a:pt x="6900465" y="3470944"/>
                </a:lnTo>
                <a:cubicBezTo>
                  <a:pt x="6900465" y="3413217"/>
                  <a:pt x="6912740" y="3366687"/>
                  <a:pt x="6937291" y="3331354"/>
                </a:cubicBezTo>
                <a:cubicBezTo>
                  <a:pt x="6961841" y="3296022"/>
                  <a:pt x="6993027" y="3278355"/>
                  <a:pt x="7030848" y="3278355"/>
                </a:cubicBezTo>
                <a:cubicBezTo>
                  <a:pt x="7059379" y="3278355"/>
                  <a:pt x="7081773" y="3284161"/>
                  <a:pt x="7098030" y="3295773"/>
                </a:cubicBezTo>
                <a:lnTo>
                  <a:pt x="7098030" y="3197239"/>
                </a:lnTo>
                <a:cubicBezTo>
                  <a:pt x="7086086" y="3192263"/>
                  <a:pt x="7069000" y="3189775"/>
                  <a:pt x="7046772" y="3189775"/>
                </a:cubicBezTo>
                <a:close/>
                <a:moveTo>
                  <a:pt x="5772413" y="3186291"/>
                </a:moveTo>
                <a:cubicBezTo>
                  <a:pt x="5685491" y="3186291"/>
                  <a:pt x="5616650" y="3212583"/>
                  <a:pt x="5565891" y="3265168"/>
                </a:cubicBezTo>
                <a:cubicBezTo>
                  <a:pt x="5515131" y="3317752"/>
                  <a:pt x="5489751" y="3389496"/>
                  <a:pt x="5489751" y="3480399"/>
                </a:cubicBezTo>
                <a:cubicBezTo>
                  <a:pt x="5489751" y="3564998"/>
                  <a:pt x="5514301" y="3633175"/>
                  <a:pt x="5563403" y="3684930"/>
                </a:cubicBezTo>
                <a:cubicBezTo>
                  <a:pt x="5612503" y="3736685"/>
                  <a:pt x="5678192" y="3762563"/>
                  <a:pt x="5760470" y="3762563"/>
                </a:cubicBezTo>
                <a:cubicBezTo>
                  <a:pt x="5844737" y="3762563"/>
                  <a:pt x="5911919" y="3735856"/>
                  <a:pt x="5962016" y="3682442"/>
                </a:cubicBezTo>
                <a:cubicBezTo>
                  <a:pt x="6012112" y="3629028"/>
                  <a:pt x="6037160" y="3558861"/>
                  <a:pt x="6037160" y="3471939"/>
                </a:cubicBezTo>
                <a:cubicBezTo>
                  <a:pt x="6037160" y="3382695"/>
                  <a:pt x="6013687" y="3312776"/>
                  <a:pt x="5966743" y="3262182"/>
                </a:cubicBezTo>
                <a:cubicBezTo>
                  <a:pt x="5919799" y="3211588"/>
                  <a:pt x="5855022" y="3186291"/>
                  <a:pt x="5772413" y="3186291"/>
                </a:cubicBezTo>
                <a:close/>
                <a:moveTo>
                  <a:pt x="3796976" y="3186291"/>
                </a:moveTo>
                <a:cubicBezTo>
                  <a:pt x="3718016" y="3186291"/>
                  <a:pt x="3657801" y="3220960"/>
                  <a:pt x="3616331" y="3290299"/>
                </a:cubicBezTo>
                <a:lnTo>
                  <a:pt x="3614340" y="3290299"/>
                </a:lnTo>
                <a:lnTo>
                  <a:pt x="3614340" y="3199230"/>
                </a:lnTo>
                <a:lnTo>
                  <a:pt x="3516802" y="3199230"/>
                </a:lnTo>
                <a:lnTo>
                  <a:pt x="3516802" y="3749624"/>
                </a:lnTo>
                <a:lnTo>
                  <a:pt x="3614340" y="3749624"/>
                </a:lnTo>
                <a:lnTo>
                  <a:pt x="3614340" y="3435611"/>
                </a:lnTo>
                <a:cubicBezTo>
                  <a:pt x="3614340" y="3386842"/>
                  <a:pt x="3628109" y="3346533"/>
                  <a:pt x="3655645" y="3314683"/>
                </a:cubicBezTo>
                <a:cubicBezTo>
                  <a:pt x="3683181" y="3282834"/>
                  <a:pt x="3718348" y="3266909"/>
                  <a:pt x="3761146" y="3266909"/>
                </a:cubicBezTo>
                <a:cubicBezTo>
                  <a:pt x="3843754" y="3266909"/>
                  <a:pt x="3885059" y="3323475"/>
                  <a:pt x="3885059" y="3436606"/>
                </a:cubicBezTo>
                <a:lnTo>
                  <a:pt x="3885059" y="3749624"/>
                </a:lnTo>
                <a:lnTo>
                  <a:pt x="3982099" y="3749624"/>
                </a:lnTo>
                <a:lnTo>
                  <a:pt x="3982099" y="3413217"/>
                </a:lnTo>
                <a:cubicBezTo>
                  <a:pt x="3982099" y="3339234"/>
                  <a:pt x="3966341" y="3282917"/>
                  <a:pt x="3934823" y="3244267"/>
                </a:cubicBezTo>
                <a:cubicBezTo>
                  <a:pt x="3903306" y="3205616"/>
                  <a:pt x="3857357" y="3186291"/>
                  <a:pt x="3796976" y="3186291"/>
                </a:cubicBezTo>
                <a:close/>
                <a:moveTo>
                  <a:pt x="3157368" y="3186291"/>
                </a:moveTo>
                <a:cubicBezTo>
                  <a:pt x="3085707" y="3186291"/>
                  <a:pt x="3022507" y="3203377"/>
                  <a:pt x="2967766" y="3237549"/>
                </a:cubicBezTo>
                <a:lnTo>
                  <a:pt x="2967766" y="3331603"/>
                </a:lnTo>
                <a:cubicBezTo>
                  <a:pt x="3022175" y="3287147"/>
                  <a:pt x="3082390" y="3264919"/>
                  <a:pt x="3148411" y="3264919"/>
                </a:cubicBezTo>
                <a:cubicBezTo>
                  <a:pt x="3222725" y="3264919"/>
                  <a:pt x="3259883" y="3309873"/>
                  <a:pt x="3259883" y="3399781"/>
                </a:cubicBezTo>
                <a:lnTo>
                  <a:pt x="3096656" y="3422672"/>
                </a:lnTo>
                <a:cubicBezTo>
                  <a:pt x="2974899" y="3439592"/>
                  <a:pt x="2914020" y="3499475"/>
                  <a:pt x="2914020" y="3602322"/>
                </a:cubicBezTo>
                <a:cubicBezTo>
                  <a:pt x="2914020" y="3651422"/>
                  <a:pt x="2929779" y="3690405"/>
                  <a:pt x="2961297" y="3719268"/>
                </a:cubicBezTo>
                <a:cubicBezTo>
                  <a:pt x="2992814" y="3748131"/>
                  <a:pt x="3035280" y="3762563"/>
                  <a:pt x="3088693" y="3762563"/>
                </a:cubicBezTo>
                <a:cubicBezTo>
                  <a:pt x="3163008" y="3762563"/>
                  <a:pt x="3219242" y="3729884"/>
                  <a:pt x="3257395" y="3664527"/>
                </a:cubicBezTo>
                <a:lnTo>
                  <a:pt x="3259883" y="3664527"/>
                </a:lnTo>
                <a:lnTo>
                  <a:pt x="3259883" y="3749624"/>
                </a:lnTo>
                <a:lnTo>
                  <a:pt x="3356426" y="3749624"/>
                </a:lnTo>
                <a:lnTo>
                  <a:pt x="3356426" y="3395302"/>
                </a:lnTo>
                <a:cubicBezTo>
                  <a:pt x="3356426" y="3255961"/>
                  <a:pt x="3290073" y="3186291"/>
                  <a:pt x="3157368" y="3186291"/>
                </a:cubicBezTo>
                <a:close/>
                <a:moveTo>
                  <a:pt x="7213357" y="2978774"/>
                </a:moveTo>
                <a:lnTo>
                  <a:pt x="7224306" y="3530163"/>
                </a:lnTo>
                <a:lnTo>
                  <a:pt x="7303929" y="3530163"/>
                </a:lnTo>
                <a:lnTo>
                  <a:pt x="7315375" y="2978774"/>
                </a:lnTo>
                <a:lnTo>
                  <a:pt x="7213357" y="2978774"/>
                </a:lnTo>
                <a:close/>
                <a:moveTo>
                  <a:pt x="1679463" y="2978774"/>
                </a:moveTo>
                <a:lnTo>
                  <a:pt x="1679463" y="3067354"/>
                </a:lnTo>
                <a:lnTo>
                  <a:pt x="1900915" y="3067354"/>
                </a:lnTo>
                <a:lnTo>
                  <a:pt x="1900915" y="3749624"/>
                </a:lnTo>
                <a:lnTo>
                  <a:pt x="2000941" y="3749624"/>
                </a:lnTo>
                <a:lnTo>
                  <a:pt x="2000941" y="3067354"/>
                </a:lnTo>
                <a:lnTo>
                  <a:pt x="2223388" y="3067354"/>
                </a:lnTo>
                <a:lnTo>
                  <a:pt x="2223388" y="2978774"/>
                </a:lnTo>
                <a:lnTo>
                  <a:pt x="1679463" y="2978774"/>
                </a:lnTo>
                <a:close/>
                <a:moveTo>
                  <a:pt x="4145452" y="2934981"/>
                </a:moveTo>
                <a:lnTo>
                  <a:pt x="4145452" y="3749624"/>
                </a:lnTo>
                <a:lnTo>
                  <a:pt x="4242990" y="3749624"/>
                </a:lnTo>
                <a:lnTo>
                  <a:pt x="4242990" y="3484380"/>
                </a:lnTo>
                <a:lnTo>
                  <a:pt x="4244981" y="3484380"/>
                </a:lnTo>
                <a:lnTo>
                  <a:pt x="4480366" y="3749624"/>
                </a:lnTo>
                <a:lnTo>
                  <a:pt x="4613237" y="3749624"/>
                </a:lnTo>
                <a:lnTo>
                  <a:pt x="4345007" y="3463977"/>
                </a:lnTo>
                <a:lnTo>
                  <a:pt x="4593829" y="3199230"/>
                </a:lnTo>
                <a:lnTo>
                  <a:pt x="4468423" y="3199230"/>
                </a:lnTo>
                <a:lnTo>
                  <a:pt x="4244981" y="3451535"/>
                </a:lnTo>
                <a:lnTo>
                  <a:pt x="4242990" y="3451535"/>
                </a:lnTo>
                <a:lnTo>
                  <a:pt x="4242990" y="2934981"/>
                </a:lnTo>
                <a:lnTo>
                  <a:pt x="4145452" y="2934981"/>
                </a:lnTo>
                <a:close/>
                <a:moveTo>
                  <a:pt x="2326177" y="2934981"/>
                </a:moveTo>
                <a:lnTo>
                  <a:pt x="2326177" y="3749624"/>
                </a:lnTo>
                <a:lnTo>
                  <a:pt x="2423715" y="3749624"/>
                </a:lnTo>
                <a:lnTo>
                  <a:pt x="2423715" y="3437601"/>
                </a:lnTo>
                <a:cubicBezTo>
                  <a:pt x="2423715" y="3388501"/>
                  <a:pt x="2437649" y="3347777"/>
                  <a:pt x="2465518" y="3315430"/>
                </a:cubicBezTo>
                <a:cubicBezTo>
                  <a:pt x="2493385" y="3283083"/>
                  <a:pt x="2528386" y="3266909"/>
                  <a:pt x="2570520" y="3266909"/>
                </a:cubicBezTo>
                <a:cubicBezTo>
                  <a:pt x="2652797" y="3266909"/>
                  <a:pt x="2693936" y="3322314"/>
                  <a:pt x="2693936" y="3433123"/>
                </a:cubicBezTo>
                <a:lnTo>
                  <a:pt x="2693936" y="3749624"/>
                </a:lnTo>
                <a:lnTo>
                  <a:pt x="2790977" y="3749624"/>
                </a:lnTo>
                <a:lnTo>
                  <a:pt x="2790977" y="3410729"/>
                </a:lnTo>
                <a:cubicBezTo>
                  <a:pt x="2790977" y="3261104"/>
                  <a:pt x="2729103" y="3186291"/>
                  <a:pt x="2605355" y="3186291"/>
                </a:cubicBezTo>
                <a:cubicBezTo>
                  <a:pt x="2527723" y="3186291"/>
                  <a:pt x="2467840" y="3220795"/>
                  <a:pt x="2425706" y="3289801"/>
                </a:cubicBezTo>
                <a:lnTo>
                  <a:pt x="2423715" y="3289801"/>
                </a:lnTo>
                <a:lnTo>
                  <a:pt x="2423715" y="2934981"/>
                </a:lnTo>
                <a:lnTo>
                  <a:pt x="2326177" y="2934981"/>
                </a:lnTo>
                <a:close/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06:42:00Z</dcterms:created>
  <dc:creator>www.pptbz.com</dc:creator>
  <dc:description/>
  <dc:language>en-US</dc:language>
  <cp:lastModifiedBy>a</cp:lastModifiedBy>
  <dcterms:modified xsi:type="dcterms:W3CDTF">2015-07-25T02:13:48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