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2105-C8A8-4953-A6AA-61C0EDE7B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50CD-F754-4293-826F-FF80F001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0121-B261-4D18-B38C-326E8F1E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CD5B-820C-43E8-9C25-6AEF51137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C094-9479-47DE-BCD6-34CC15AA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7309-8B53-49C9-86D7-DA794083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B86D-B3A8-462E-ACEA-3234B3DD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ECAD-D35E-4A92-A2EC-8E55EF5E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6766-01F8-4DEE-B15D-6EACC872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EC8C-4EB5-48E2-AE06-069AFBFB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C8E6-ECA5-416E-AB4A-76423AA4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F776-F422-4953-B94E-7B4DC1C7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70F0-92BF-44F8-8622-ED567B03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7AC3-D1C5-4119-9B20-B6230AFD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F829-140C-47FF-BA47-EAF7987A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B12A-7623-47C8-BD27-36A6EB884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82E2-63A7-4A81-B0B7-0A308236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B48C-1AF8-4584-84F0-8304BE5E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4EE6-26F0-4F01-BFE5-373CCF51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EBFE-1F3D-4897-96DB-244BCEB1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F713-D847-4671-A688-ED60AA1A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B5E2-564A-4455-B41D-38F097D7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1744-BADE-4834-B5BF-B2613AEF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889F-42CE-48EA-94E4-FF3ADB61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c06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35065F-3967-4E89-A7B4-1A830208230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c06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c06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c06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c06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c06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c06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c06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c06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c06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c06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c06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D6AB66-3FF9-468B-85D9-E3A964C126F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640" y="228600"/>
            <a:ext cx="851112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chemeClr val="accent6">
                    <a:lumMod val="10000"/>
                  </a:schemeClr>
                </a:solidFill>
                <a:latin typeface="Adobe Heiti Std R"/>
                <a:ea typeface="Adobe Heiti Std R"/>
              </a:rPr>
              <a:t>漂亮的海滨现代城通用</a:t>
            </a:r>
            <a:r>
              <a:rPr b="1" lang="en-US" sz="4400" spc="-1" strike="noStrike">
                <a:solidFill>
                  <a:schemeClr val="accent6">
                    <a:lumMod val="10000"/>
                  </a:schemeClr>
                </a:solidFill>
                <a:latin typeface="Adobe Heiti Std R"/>
                <a:ea typeface="Adobe Heiti Std R"/>
              </a:rPr>
              <a:t>PPT</a:t>
            </a:r>
            <a:r>
              <a:rPr b="1" lang="zh-CN" sz="4400" spc="-1" strike="noStrike">
                <a:solidFill>
                  <a:schemeClr val="accent6">
                    <a:lumMod val="10000"/>
                  </a:schemeClr>
                </a:solidFill>
                <a:latin typeface="Adobe Heiti Std R"/>
                <a:ea typeface="Adobe Heiti Std R"/>
              </a:rPr>
              <a:t>模板下载</a:t>
            </a: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81280" y="1371600"/>
            <a:ext cx="518112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dobe Heiti Std R"/>
                <a:ea typeface="Adobe Heiti Std R"/>
              </a:rPr>
              <a:t>Company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0769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Adobe Heiti Std R"/>
                <a:ea typeface="Adobe Heiti Std R"/>
              </a:rPr>
              <a:t>Text Slide</a:t>
            </a:r>
            <a:endParaRPr b="0" lang="en-US" sz="36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000640" cy="51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46712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c0600"/>
                </a:solidFill>
                <a:latin typeface="Adobe Heiti Std R"/>
                <a:ea typeface="Adobe Heiti Std R"/>
              </a:rPr>
              <a:t>Print Slide</a:t>
            </a:r>
            <a:endParaRPr b="0" lang="en-US" sz="36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47920" y="1219320"/>
            <a:ext cx="7238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n0014">
  <a:themeElements>
    <a:clrScheme name="Custom 58">
      <a:dk1>
        <a:srgbClr val="0c0600"/>
      </a:dk1>
      <a:lt1>
        <a:srgbClr val="ffffff"/>
      </a:lt1>
      <a:dk2>
        <a:srgbClr val="03b0b9"/>
      </a:dk2>
      <a:lt2>
        <a:srgbClr val="7bdefd"/>
      </a:lt2>
      <a:accent1>
        <a:srgbClr val="9cbcc4"/>
      </a:accent1>
      <a:accent2>
        <a:srgbClr val="dce9ec"/>
      </a:accent2>
      <a:accent3>
        <a:srgbClr val="9aa5a8"/>
      </a:accent3>
      <a:accent4>
        <a:srgbClr val="005658"/>
      </a:accent4>
      <a:accent5>
        <a:srgbClr val="14cece"/>
      </a:accent5>
      <a:accent6>
        <a:srgbClr val="ecf6f8"/>
      </a:accent6>
      <a:hlink>
        <a:srgbClr val="ffffff"/>
      </a:hlink>
      <a:folHlink>
        <a:srgbClr val="00515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n0014">
  <a:themeElements>
    <a:clrScheme name="Custom 58">
      <a:dk1>
        <a:srgbClr val="0c0600"/>
      </a:dk1>
      <a:lt1>
        <a:srgbClr val="ffffff"/>
      </a:lt1>
      <a:dk2>
        <a:srgbClr val="03b0b9"/>
      </a:dk2>
      <a:lt2>
        <a:srgbClr val="7bdefd"/>
      </a:lt2>
      <a:accent1>
        <a:srgbClr val="9cbcc4"/>
      </a:accent1>
      <a:accent2>
        <a:srgbClr val="dce9ec"/>
      </a:accent2>
      <a:accent3>
        <a:srgbClr val="9aa5a8"/>
      </a:accent3>
      <a:accent4>
        <a:srgbClr val="005658"/>
      </a:accent4>
      <a:accent5>
        <a:srgbClr val="14cece"/>
      </a:accent5>
      <a:accent6>
        <a:srgbClr val="ecf6f8"/>
      </a:accent6>
      <a:hlink>
        <a:srgbClr val="ffffff"/>
      </a:hlink>
      <a:folHlink>
        <a:srgbClr val="00515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n0014</Template>
  <TotalTime>1</TotalTime>
  <Application>LibreOffice/7.4.7.2$Linux_X86_64 LibreOffice_project/40$Build-2</Application>
  <AppVersion>15.0000</AppVersion>
  <Words>101</Words>
  <Paragraphs>9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14:11:25Z</dcterms:created>
  <dc:creator>haobaopc04</dc:creator>
  <dc:description/>
  <dc:language>en-US</dc:language>
  <cp:lastModifiedBy>王玉清</cp:lastModifiedBy>
  <dcterms:modified xsi:type="dcterms:W3CDTF">2016-02-24T03:35:11Z</dcterms:modified>
  <cp:revision>2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