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D61-8217-460B-B021-6C64E535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B26-65F3-4CA1-9D21-63B0530C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42D-F7EC-42C9-B2E3-AE33A996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451-0D9A-410C-B65C-9449E852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71E-95CE-461D-81CE-2B0F66E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DF1-000A-4233-A44A-8E03BE70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1AC-86EB-4869-A837-50DFE70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345-1522-42E6-B11B-BE1B8AD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34A-2B09-4538-9EC0-57AEF12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AFC-03B8-4E52-91C9-CF882754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A93-3707-4C8D-AE09-BD84DED9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3F7-766E-4805-8F92-693228A1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C400-5607-44D3-959A-104006CD26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2076120" y="8380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的蓝色地球背景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3141000" y="1135368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cp:keywords/>
  <dc:language>en-US</dc:language>
  <cp:lastModifiedBy>a</cp:lastModifiedBy>
  <dcterms:modified xsi:type="dcterms:W3CDTF">2015-07-25T02:36:2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