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077-51A7-41F3-9ABE-6CF7F24C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F8C-6D37-41D1-B254-D0A460D8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E84C-ECD8-40BB-BA09-17AE3C27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372-552A-465F-9307-B6E12692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8B8F-E7C9-4C52-9118-9BC56947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D9DE-006C-42C8-A0D2-2652DE07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CC8F-530F-4786-A611-3C7D4C77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5197-61F7-47F5-B6AC-8CCE1B32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DC2E-4ABF-43B8-8651-4DEA6931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A39F-1066-4341-AEF6-C0EB271B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438C-A03C-41B3-85C9-403637AA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EED-B114-4549-9357-5B94DD12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CB17-9026-4957-A3A6-434F4D4F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F6C7-6EB2-4549-AC32-8BF198C9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E198-B3C3-41D5-8784-303F149C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6F66-BD23-4178-8956-0758F3A9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3CF1-D6C7-4341-8EAA-8B77694F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26B-279F-48C0-8748-C604DB65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1FD-077F-4A8E-85EF-90836317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3F2-F582-4CFF-B0D7-22608BB9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2E8-BE66-4438-A9D2-F08AABDD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438-B257-4EFC-9F09-ADC3A74D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2600-20DB-4E7F-A7A4-4636EFD3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7C1-18B8-4990-BC35-5C92C689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96F9-8D83-4C84-B44F-BF37B4681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EDA6-7948-4FFC-A60A-70F795C98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99ff"/>
                </a:solidFill>
                <a:latin typeface="Arial"/>
                <a:ea typeface="宋体"/>
              </a:rPr>
              <a:t>漂亮的紫色弧线国外经典</a:t>
            </a:r>
            <a:r>
              <a:rPr b="0" lang="en-US" sz="4000" spc="-1" strike="noStrike">
                <a:solidFill>
                  <a:srgbClr val="cc99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cc99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  <a:ea typeface="宋体"/>
              </a:rPr>
              <a:t>Add Your Subtitl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Arial"/>
                <a:ea typeface="宋体"/>
              </a:rPr>
              <a:t>Add Your Topic He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  <a:ea typeface="宋体"/>
              </a:rPr>
              <a:t>Add Subtopic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Arial"/>
                <a:ea typeface="宋体"/>
              </a:rPr>
              <a:t>Printable P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d Subtopic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99ff"/>
                </a:solidFill>
                <a:latin typeface="Times New Roman"/>
                <a:ea typeface="宋体"/>
              </a:rPr>
              <a:t>Transition P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22:02:32Z</dcterms:created>
  <dc:creator>eclipse</dc:creator>
  <dc:description/>
  <dc:language>en-US</dc:language>
  <cp:lastModifiedBy>王玉清</cp:lastModifiedBy>
  <dcterms:modified xsi:type="dcterms:W3CDTF">2016-02-21T04:55:20Z</dcterms:modified>
  <cp:revision>6</cp:revision>
  <dc:subject/>
  <dc:title>PURPLE PASSION</dc:title>
</cp:coreProperties>
</file>