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A0A7-FF9F-49C3-8893-95CEBD963AF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8320" y="685440"/>
            <a:ext cx="4581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B9BD-990A-4754-BF17-8D2261BE437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学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大同小异。（要有一定基础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47484240" y="2147484240"/>
            <a:ext cx="0" cy="21474828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什么是图层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+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197-26D6-4424-9B2A-9A4F8411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660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BB7-AED9-4601-99AC-24F69766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66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66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912-654A-4224-93F2-33475CB6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66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66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660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A38-294F-428A-B087-62635BF9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660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F96-D62F-42B7-AFF2-66678BA3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660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BB0-A211-4968-8F0F-D249F3BB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660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660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2E4-8919-4E09-90B6-246AE678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491-CE7B-4D1C-9523-12A367C9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CA2-8B24-4F52-980B-1B65A84F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66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660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301-40FD-4493-AA3F-B97584DC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6600"/>
            <a:ext cx="40158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66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0D9-8A4D-4A6B-95FF-E8375297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66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6600"/>
            <a:ext cx="40158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71C-415B-47EF-93F6-C3DAD703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660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9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133F-234A-4958-A9A5-E18F0B7B3BA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9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9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C24C-1565-4373-B01A-EE4B582F1A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-11160" y="0"/>
            <a:ext cx="9142560" cy="6875640"/>
          </a:xfrm>
          <a:prstGeom prst="rect">
            <a:avLst/>
          </a:prstGeom>
          <a:ln w="0">
            <a:noFill/>
          </a:ln>
        </p:spPr>
      </p:pic>
      <p:sp>
        <p:nvSpPr>
          <p:cNvPr id="50" name="1"/>
          <p:cNvSpPr/>
          <p:nvPr/>
        </p:nvSpPr>
        <p:spPr>
          <a:xfrm>
            <a:off x="0" y="5904000"/>
            <a:ext cx="914400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"/>
          <p:cNvSpPr/>
          <p:nvPr/>
        </p:nvSpPr>
        <p:spPr>
          <a:xfrm>
            <a:off x="-23760" y="4894200"/>
            <a:ext cx="914400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3"/>
          <p:cNvSpPr/>
          <p:nvPr/>
        </p:nvSpPr>
        <p:spPr>
          <a:xfrm>
            <a:off x="0" y="3884760"/>
            <a:ext cx="9144000" cy="89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4"/>
          <p:cNvSpPr/>
          <p:nvPr/>
        </p:nvSpPr>
        <p:spPr>
          <a:xfrm>
            <a:off x="-11160" y="2876400"/>
            <a:ext cx="9142560" cy="8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9"/>
          <p:cNvSpPr/>
          <p:nvPr/>
        </p:nvSpPr>
        <p:spPr>
          <a:xfrm>
            <a:off x="3608280" y="539640"/>
            <a:ext cx="1927440" cy="1927440"/>
          </a:xfrm>
          <a:prstGeom prst="ellipse">
            <a:avLst/>
          </a:prstGeom>
          <a:solidFill>
            <a:srgbClr val="299c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6"/>
          <p:cNvSpPr/>
          <p:nvPr/>
        </p:nvSpPr>
        <p:spPr>
          <a:xfrm>
            <a:off x="3581280" y="512640"/>
            <a:ext cx="1981440" cy="19796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"/>
          <p:cNvSpPr/>
          <p:nvPr/>
        </p:nvSpPr>
        <p:spPr>
          <a:xfrm>
            <a:off x="3677760" y="55548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ffff"/>
                </a:solidFill>
                <a:latin typeface="黑体"/>
                <a:ea typeface="黑体"/>
              </a:rPr>
              <a:t>PS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546200" y="290844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1498680" y="391788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图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1511280" y="492768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排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1487520" y="5904000"/>
            <a:ext cx="61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2505240" y="227160"/>
            <a:ext cx="47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Ps</a:t>
            </a: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的使用动态</a:t>
            </a:r>
            <a:r>
              <a:rPr b="0" lang="en-U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50" fill="hold"/>
                                        <p:tgtEl>
                                          <p:spTgt spid="5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150" fill="hold"/>
                                        <p:tgtEl>
                                          <p:spTgt spid="5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50" fill="hold"/>
                                        <p:tgtEl>
                                          <p:spTgt spid="5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150" fill="hold"/>
                                        <p:tgtEl>
                                          <p:spTgt spid="5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4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CF48-8DA3-4FFF-B9B9-576C5584B3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D:\Graphic Design\素材\排版\排版 19.jpg"/>
          <p:cNvPicPr/>
          <p:nvPr/>
        </p:nvPicPr>
        <p:blipFill>
          <a:blip r:embed="rId2"/>
          <a:stretch/>
        </p:blipFill>
        <p:spPr>
          <a:xfrm>
            <a:off x="2487600" y="642960"/>
            <a:ext cx="4168800" cy="555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D:\Graphic Design\素材\排版\排版 8.jpg"/>
          <p:cNvPicPr/>
          <p:nvPr/>
        </p:nvPicPr>
        <p:blipFill>
          <a:blip r:embed="rId3"/>
          <a:stretch/>
        </p:blipFill>
        <p:spPr>
          <a:xfrm>
            <a:off x="826920" y="1314360"/>
            <a:ext cx="7488360" cy="4211640"/>
          </a:xfrm>
          <a:prstGeom prst="rect">
            <a:avLst/>
          </a:prstGeom>
          <a:ln w="0">
            <a:noFill/>
          </a:ln>
        </p:spPr>
      </p:pic>
      <p:sp>
        <p:nvSpPr>
          <p:cNvPr id="133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图层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排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D:\Graphic Design\素材\排版\排版 18.jpg"/>
          <p:cNvPicPr/>
          <p:nvPr/>
        </p:nvPicPr>
        <p:blipFill>
          <a:blip r:embed="rId4"/>
          <a:stretch/>
        </p:blipFill>
        <p:spPr>
          <a:xfrm>
            <a:off x="4643280" y="641520"/>
            <a:ext cx="417060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4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0991E-006 L -0.23628 0.00023 E">
                                      <p:cBhvr>
                                        <p:cTn id="312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4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4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4A2F-3140-4393-92F8-B196754E11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8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图层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排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"/>
          <p:cNvSpPr/>
          <p:nvPr/>
        </p:nvSpPr>
        <p:spPr>
          <a:xfrm>
            <a:off x="-561960" y="2050920"/>
            <a:ext cx="10009080" cy="31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Users\ASUS\Desktop\5f7e6a548e86c440b0eaa8aee222e86d 副本.jpg"/>
          <p:cNvPicPr/>
          <p:nvPr/>
        </p:nvPicPr>
        <p:blipFill>
          <a:blip r:embed="rId2"/>
          <a:stretch/>
        </p:blipFill>
        <p:spPr>
          <a:xfrm>
            <a:off x="2843280" y="2070000"/>
            <a:ext cx="3456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1" dur="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4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B9BC-DF09-4025-8EB2-7F700C7AC0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45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2016000" y="2570040"/>
            <a:ext cx="51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红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配</a:t>
            </a: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绿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，赛狗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黄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配</a:t>
            </a:r>
            <a:r>
              <a:rPr b="1" lang="zh-CN" sz="4800" spc="-1" strike="noStrike">
                <a:solidFill>
                  <a:srgbClr val="7030a0"/>
                </a:solidFill>
                <a:latin typeface="黑体"/>
                <a:ea typeface="黑体"/>
              </a:rPr>
              <a:t>紫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，不如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/>
          <p:cNvSpPr/>
          <p:nvPr/>
        </p:nvSpPr>
        <p:spPr>
          <a:xfrm>
            <a:off x="-561960" y="2050920"/>
            <a:ext cx="10009080" cy="319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Users\ASUS\Desktop\5f7e6a548e86c440b0eaa8aee222e86d 副本.jpg"/>
          <p:cNvPicPr/>
          <p:nvPr/>
        </p:nvPicPr>
        <p:blipFill>
          <a:blip r:embed="rId2"/>
          <a:stretch/>
        </p:blipFill>
        <p:spPr>
          <a:xfrm>
            <a:off x="2843280" y="2070000"/>
            <a:ext cx="3456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2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3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4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B1BA-8EF3-46F8-B12F-19495ABE93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0" y="0"/>
            <a:ext cx="9144000" cy="684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"/>
          <p:cNvSpPr/>
          <p:nvPr/>
        </p:nvSpPr>
        <p:spPr>
          <a:xfrm>
            <a:off x="2016000" y="2570040"/>
            <a:ext cx="51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红配绿，赛狗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黄配紫，不如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ASUS\Desktop\u=3620503727,44697846&amp;fm=21&amp;gp=0 副本.png"/>
          <p:cNvPicPr/>
          <p:nvPr/>
        </p:nvPicPr>
        <p:blipFill>
          <a:blip r:embed="rId1"/>
          <a:stretch/>
        </p:blipFill>
        <p:spPr>
          <a:xfrm>
            <a:off x="4581360" y="2489040"/>
            <a:ext cx="435780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35BF-6154-4453-AD88-28C35F17C5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58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2016000" y="2570040"/>
            <a:ext cx="51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红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配</a:t>
            </a: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绿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，赛狗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黄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配</a:t>
            </a:r>
            <a:r>
              <a:rPr b="1" lang="zh-CN" sz="4800" spc="-1" strike="noStrike">
                <a:solidFill>
                  <a:srgbClr val="7030a0"/>
                </a:solidFill>
                <a:latin typeface="黑体"/>
                <a:ea typeface="黑体"/>
              </a:rPr>
              <a:t>紫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，不如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7"/>
          <p:cNvSpPr/>
          <p:nvPr/>
        </p:nvSpPr>
        <p:spPr>
          <a:xfrm>
            <a:off x="3608280" y="2403360"/>
            <a:ext cx="1927440" cy="1925640"/>
          </a:xfrm>
          <a:prstGeom prst="ellipse">
            <a:avLst/>
          </a:prstGeom>
          <a:solidFill>
            <a:srgbClr val="299c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8"/>
          <p:cNvSpPr/>
          <p:nvPr/>
        </p:nvSpPr>
        <p:spPr>
          <a:xfrm>
            <a:off x="3581280" y="2376360"/>
            <a:ext cx="1981440" cy="19796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3648960" y="241776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ffff"/>
                </a:solidFill>
                <a:latin typeface="黑体"/>
                <a:ea typeface="黑体"/>
              </a:rPr>
              <a:t>PS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1800360" y="2027160"/>
            <a:ext cx="554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黑体"/>
                <a:ea typeface="黑体"/>
              </a:rPr>
              <a:t>END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60400" y="6405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7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0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3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25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5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5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6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3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8" dur="2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1" dur="250" fill="hold"/>
                                        <p:tgtEl>
                                          <p:spTgt spid="1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3" dur="250" fill="hold"/>
                                        <p:tgtEl>
                                          <p:spTgt spid="1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3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150" fill="hold"/>
                                        <p:tgtEl>
                                          <p:spTgt spid="16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8" dur="150" fill="hold"/>
                                        <p:tgtEl>
                                          <p:spTgt spid="16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251"/>
                            </p:stCondLst>
                            <p:childTnLst>
                              <p:par>
                                <p:cTn id="41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灯片编号占位符 4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638E-3C86-4F98-A801-08662DDA67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5" name="椭圆 11"/>
          <p:cNvSpPr/>
          <p:nvPr/>
        </p:nvSpPr>
        <p:spPr>
          <a:xfrm>
            <a:off x="3608280" y="539640"/>
            <a:ext cx="1927440" cy="1927440"/>
          </a:xfrm>
          <a:prstGeom prst="ellipse">
            <a:avLst/>
          </a:prstGeom>
          <a:solidFill>
            <a:srgbClr val="299c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2"/>
          <p:cNvSpPr/>
          <p:nvPr/>
        </p:nvSpPr>
        <p:spPr>
          <a:xfrm>
            <a:off x="3581280" y="512640"/>
            <a:ext cx="1981440" cy="197964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3677760" y="55548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ffffff"/>
                </a:solidFill>
                <a:latin typeface="黑体"/>
                <a:ea typeface="黑体"/>
              </a:rPr>
              <a:t>PS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"/>
          <p:cNvSpPr/>
          <p:nvPr/>
        </p:nvSpPr>
        <p:spPr>
          <a:xfrm>
            <a:off x="0" y="3060720"/>
            <a:ext cx="9144000" cy="3779640"/>
          </a:xfrm>
          <a:prstGeom prst="rect">
            <a:avLst/>
          </a:prstGeom>
          <a:solidFill>
            <a:srgbClr val="f2f2f2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"/>
          <p:cNvSpPr/>
          <p:nvPr/>
        </p:nvSpPr>
        <p:spPr>
          <a:xfrm>
            <a:off x="0" y="5904000"/>
            <a:ext cx="914400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2"/>
          <p:cNvSpPr/>
          <p:nvPr/>
        </p:nvSpPr>
        <p:spPr>
          <a:xfrm>
            <a:off x="0" y="4968720"/>
            <a:ext cx="9144000" cy="8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3"/>
          <p:cNvSpPr/>
          <p:nvPr/>
        </p:nvSpPr>
        <p:spPr>
          <a:xfrm>
            <a:off x="0" y="4032360"/>
            <a:ext cx="914400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4"/>
          <p:cNvSpPr/>
          <p:nvPr/>
        </p:nvSpPr>
        <p:spPr>
          <a:xfrm>
            <a:off x="0" y="3095640"/>
            <a:ext cx="914400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511280" y="309564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511280" y="403236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图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511280" y="496872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排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511280" y="5904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9"/>
          <p:cNvSpPr/>
          <p:nvPr/>
        </p:nvSpPr>
        <p:spPr>
          <a:xfrm>
            <a:off x="1042920" y="216540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择好的素材，是成功的第一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0"/>
          <p:cNvSpPr/>
          <p:nvPr/>
        </p:nvSpPr>
        <p:spPr>
          <a:xfrm>
            <a:off x="900000" y="27702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天才第一步，雀氏纸尿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6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6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6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6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6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2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" presetSubtype="2">
                                  <p:stCondLst>
                                    <p:cond delay="3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" presetSubtype="2">
                                  <p:stCondLst>
                                    <p:cond delay="3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2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2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2">
                                  <p:stCondLst>
                                    <p:cond delay="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2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2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2">
                                  <p:stCondLst>
                                    <p:cond delay="5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2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201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2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1042920" y="216540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择好的素材，是成功的第一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900000" y="27702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天才第一步，雀氏纸尿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3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7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wallbase" descr="C:\Users\ASUS\Desktop\QQ图片20131031223355.jpg"/>
          <p:cNvPicPr/>
          <p:nvPr/>
        </p:nvPicPr>
        <p:blipFill>
          <a:blip r:embed="rId2"/>
          <a:stretch/>
        </p:blipFill>
        <p:spPr>
          <a:xfrm>
            <a:off x="3851280" y="2432160"/>
            <a:ext cx="4375080" cy="2835000"/>
          </a:xfrm>
          <a:prstGeom prst="rect">
            <a:avLst/>
          </a:prstGeom>
          <a:ln w="0">
            <a:noFill/>
          </a:ln>
        </p:spPr>
      </p:pic>
      <p:pic>
        <p:nvPicPr>
          <p:cNvPr id="90" name="huaban" descr="C:\Users\ASUS\Desktop\QQ图片20131031233824.jpg"/>
          <p:cNvPicPr/>
          <p:nvPr/>
        </p:nvPicPr>
        <p:blipFill>
          <a:blip r:embed="rId3"/>
          <a:stretch/>
        </p:blipFill>
        <p:spPr>
          <a:xfrm>
            <a:off x="3851280" y="2430360"/>
            <a:ext cx="4375080" cy="2830680"/>
          </a:xfrm>
          <a:prstGeom prst="rect">
            <a:avLst/>
          </a:prstGeom>
          <a:ln w="0">
            <a:noFill/>
          </a:ln>
        </p:spPr>
      </p:pic>
      <p:pic>
        <p:nvPicPr>
          <p:cNvPr id="91" name="uisdc" descr="C:\Users\ASUS\Desktop\QQ截图20131031233952.jpg"/>
          <p:cNvPicPr/>
          <p:nvPr/>
        </p:nvPicPr>
        <p:blipFill>
          <a:blip r:embed="rId4"/>
          <a:stretch/>
        </p:blipFill>
        <p:spPr>
          <a:xfrm>
            <a:off x="3851280" y="2432160"/>
            <a:ext cx="4375080" cy="283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3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uisdc" descr="C:\Users\ASUS\Desktop\QQ截图20131031233952.jpg"/>
          <p:cNvPicPr/>
          <p:nvPr/>
        </p:nvPicPr>
        <p:blipFill>
          <a:blip r:embed="rId2"/>
          <a:stretch/>
        </p:blipFill>
        <p:spPr>
          <a:xfrm>
            <a:off x="3851280" y="2432160"/>
            <a:ext cx="4375080" cy="2835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图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2266920" y="2508120"/>
            <a:ext cx="4610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10000" spc="-1" strike="noStrike">
                <a:solidFill>
                  <a:srgbClr val="ffffff"/>
                </a:solidFill>
                <a:latin typeface="Calibri"/>
                <a:ea typeface="Calibri"/>
              </a:rPr>
              <a:t>Layer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68360" y="6467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2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0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图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2266920" y="2508120"/>
            <a:ext cx="4610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Calibri"/>
                <a:ea typeface="Calibri"/>
              </a:rPr>
              <a:t>“</a:t>
            </a:r>
            <a:r>
              <a:rPr b="0" lang="en-US" sz="10000" spc="-1" strike="noStrike">
                <a:solidFill>
                  <a:srgbClr val="ffffff"/>
                </a:solidFill>
                <a:latin typeface="Calibri"/>
                <a:ea typeface="Calibri"/>
              </a:rPr>
              <a:t>Layer”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2266920" y="2484360"/>
            <a:ext cx="4610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ffff"/>
                </a:solidFill>
                <a:latin typeface="黑体"/>
                <a:ea typeface="黑体"/>
              </a:rPr>
              <a:t>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5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5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5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图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3311640" y="2484360"/>
            <a:ext cx="2520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ffff"/>
                </a:solidFill>
                <a:latin typeface="黑体"/>
                <a:ea typeface="黑体"/>
              </a:rPr>
              <a:t>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4017960" y="2484360"/>
            <a:ext cx="2859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ffff"/>
                </a:solidFill>
                <a:latin typeface="黑体"/>
                <a:ea typeface="黑体"/>
              </a:rPr>
              <a:t>次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2843280" y="300024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什么是图层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57077E-006 L -0.09444 -4.57077E-006 E">
                                      <p:cBhvr>
                                        <p:cTn id="211" dur="75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2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0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2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44 -3.97028E-007 L -0.00208 0.0007 E">
                                      <p:cBhvr>
                                        <p:cTn id="228" dur="25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97028E-007 L -0.09566 -3.97028E-007 E">
                                      <p:cBhvr>
                                        <p:cTn id="230" dur="25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4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1328-4918-4DAE-8243-8CD563CAC5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2843280" y="300024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什么是图层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图层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图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排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059280" y="300024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左对齐、右对齐、居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3059280" y="370836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学、历史、文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3059280" y="441648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重点、次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3059280" y="512460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0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5" dur="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4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0C58-8744-493D-9D66-F0BF28E713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blue" descr="C:\Users\Administrator.MLFV6XF344XPKZP\Desktop\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Graphic Design\素材\排版\排版 8.jpg"/>
          <p:cNvPicPr/>
          <p:nvPr/>
        </p:nvPicPr>
        <p:blipFill>
          <a:blip r:embed="rId2"/>
          <a:stretch/>
        </p:blipFill>
        <p:spPr>
          <a:xfrm>
            <a:off x="826920" y="1314360"/>
            <a:ext cx="7488360" cy="4211640"/>
          </a:xfrm>
          <a:prstGeom prst="rect">
            <a:avLst/>
          </a:prstGeom>
          <a:ln w="0">
            <a:noFill/>
          </a:ln>
        </p:spPr>
      </p:pic>
      <p:sp>
        <p:nvSpPr>
          <p:cNvPr id="123" name="4"/>
          <p:cNvSpPr/>
          <p:nvPr/>
        </p:nvSpPr>
        <p:spPr>
          <a:xfrm rot="19891800">
            <a:off x="-609480" y="193680"/>
            <a:ext cx="469728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图层"/>
          <p:cNvSpPr/>
          <p:nvPr/>
        </p:nvSpPr>
        <p:spPr>
          <a:xfrm rot="19893000">
            <a:off x="-101160" y="446400"/>
            <a:ext cx="25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f7f7f"/>
                </a:solidFill>
                <a:latin typeface="黑体"/>
                <a:ea typeface="黑体"/>
              </a:rPr>
              <a:t>排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3059280" y="300024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左对齐、右对齐、居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6"/>
          <p:cNvSpPr/>
          <p:nvPr/>
        </p:nvSpPr>
        <p:spPr>
          <a:xfrm>
            <a:off x="3059280" y="370836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学、历史、文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3059280" y="441648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重点、次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3059280" y="512460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2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2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4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7:14:00Z</dcterms:created>
  <dc:creator>USER</dc:creator>
  <dc:description/>
  <cp:keywords/>
  <dc:language>en-US</dc:language>
  <cp:lastModifiedBy>王玉清</cp:lastModifiedBy>
  <dcterms:modified xsi:type="dcterms:W3CDTF">2016-02-19T07:31:55Z</dcterms:modified>
  <cp:revision>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