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gif" ContentType="image/gi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EC39-62F6-43C3-9855-9BBBABA8A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1393-71ED-408C-8BAC-82F0F50B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78BB-E6CA-4473-899D-5A0431231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CB1C-10C0-4629-BCC5-4BE4424EC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9CD3-F8BF-4AF2-9A05-15290DA38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2B81-4879-4A96-8A57-8972752C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9A39-E05F-4FFC-B1A5-6A33E9EC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778A-EC93-4D4E-BD99-5B18026D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4DFE-57E0-4163-B753-865786E0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DFC5-B00A-4E51-9E8F-1B7BFB69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BB96-F912-437C-BB4E-D4887FBB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BFB9-470A-4B56-9E30-C1EB0D64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3BE7-E615-40BB-B273-070B45AA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AFAC-4331-40DB-9C9E-84CCEA51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D0E0-7434-4B5F-953A-2665B6D3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8205-225B-4E63-8260-20136C026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470A-66E2-4290-B5F2-22DDDFB10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7543-3517-435C-B529-2EB3D091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4FE5-9A10-4375-BA99-AE221327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EA24-C1D1-4EE0-B38F-375E571E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0FB5-1C88-4611-B651-0CDE5CBC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3B99-BA27-4695-829E-1A9630B9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801F-8CFD-47BA-BE45-803A248B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2A35-7E8E-467E-B502-C2E98EC4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1a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79DE-2866-4ABB-94C1-9E70DE944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河山图标"/>
          <p:cNvPicPr/>
          <p:nvPr/>
        </p:nvPicPr>
        <p:blipFill>
          <a:blip r:embed="rId2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1"/>
          <p:cNvPicPr/>
          <p:nvPr/>
        </p:nvPicPr>
        <p:blipFill>
          <a:blip r:embed="rId3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2"/>
          <p:cNvPicPr/>
          <p:nvPr/>
        </p:nvPicPr>
        <p:blipFill>
          <a:blip r:embed="rId4"/>
          <a:stretch/>
        </p:blipFill>
        <p:spPr>
          <a:xfrm>
            <a:off x="0" y="0"/>
            <a:ext cx="9144000" cy="60948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5"/>
          <p:cNvGrpSpPr/>
          <p:nvPr/>
        </p:nvGrpSpPr>
        <p:grpSpPr>
          <a:xfrm>
            <a:off x="6858000" y="0"/>
            <a:ext cx="2286000" cy="6858000"/>
            <a:chOff x="6858000" y="0"/>
            <a:chExt cx="2286000" cy="6858000"/>
          </a:xfrm>
        </p:grpSpPr>
        <p:pic>
          <p:nvPicPr>
            <p:cNvPr id="45" name="Picture 6" descr="silly_toys_bear"/>
            <p:cNvPicPr/>
            <p:nvPr/>
          </p:nvPicPr>
          <p:blipFill>
            <a:blip r:embed="rId5"/>
            <a:stretch/>
          </p:blipFill>
          <p:spPr>
            <a:xfrm>
              <a:off x="6858000" y="0"/>
              <a:ext cx="228600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7" descr="silly_toys_bear"/>
            <p:cNvPicPr/>
            <p:nvPr/>
          </p:nvPicPr>
          <p:blipFill>
            <a:blip r:embed="rId6"/>
            <a:stretch/>
          </p:blipFill>
          <p:spPr>
            <a:xfrm>
              <a:off x="6858000" y="2286000"/>
              <a:ext cx="228600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8" descr="silly_toys_bear"/>
            <p:cNvPicPr/>
            <p:nvPr/>
          </p:nvPicPr>
          <p:blipFill>
            <a:blip r:embed="rId7"/>
            <a:stretch/>
          </p:blipFill>
          <p:spPr>
            <a:xfrm>
              <a:off x="6858000" y="4572000"/>
              <a:ext cx="2286000" cy="228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845F-7ED3-4C98-89F6-C3D8FE10C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演讲比赛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矩形 1"/>
          <p:cNvSpPr/>
          <p:nvPr/>
        </p:nvSpPr>
        <p:spPr>
          <a:xfrm>
            <a:off x="2083680" y="77940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Impact"/>
                <a:ea typeface="华康简综艺"/>
              </a:rPr>
              <a:t>全球炫丽通用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  <a:ea typeface="华康简综艺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Impact"/>
                <a:ea typeface="华康简综艺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封面-形象"/>
          <p:cNvPicPr/>
          <p:nvPr/>
        </p:nvPicPr>
        <p:blipFill>
          <a:blip r:embed="rId1"/>
          <a:stretch/>
        </p:blipFill>
        <p:spPr>
          <a:xfrm>
            <a:off x="-14400" y="-3240"/>
            <a:ext cx="9145800" cy="685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06:55:01Z</dcterms:created>
  <dc:creator>User</dc:creator>
  <dc:description/>
  <dc:language>en-US</dc:language>
  <cp:lastModifiedBy>王玉清</cp:lastModifiedBy>
  <dcterms:modified xsi:type="dcterms:W3CDTF">2016-02-21T07:17:36Z</dcterms:modified>
  <cp:revision>38</cp:revision>
  <dc:subject/>
  <dc:title>幻灯片 1</dc:title>
</cp:coreProperties>
</file>