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3F8-1220-4C8F-BC56-489E6499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FE8-870A-4564-B066-69FD1B8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B1C-55F2-47E4-9B77-31A4892B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3DB-8912-4F0A-A410-F527BF4C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E8E2-00E6-416E-AB60-DB2268B7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DA9E-5C19-43E8-90B8-D15A218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E519-4AAB-4F8B-9930-BB2459EB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5F18-72A8-4D96-B1FD-8F9A2650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BCBB-6AED-40C0-9376-A2616ACE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F7D4-A839-4DB6-9397-E1AE7C0A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1653-773D-47C5-BE12-1DB7D1B9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74F-5038-4D12-BD3B-E6130DA7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8A36-77E3-4B96-AF2D-3D685340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205-D447-4DE7-8432-91FFBDC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8A8-1B86-4DD7-BBC8-EF8181B3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B7F-80DC-417A-B451-BCA4D31C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904-15AE-492D-8A27-F07EF7A3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649-620B-4DB7-8816-AC8F2F6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7D0-BEAE-4CBD-B785-77C6AF45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3F2-F8BB-4885-858E-D312FEA7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ABC-D71A-4096-B3FC-351C2A9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EFF-3662-4499-8AFA-AFBC54F3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4DB-8D7B-42A9-B964-6200351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6B7-CCC4-493F-B901-4AA456D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CB7B-F2B1-498B-B54D-8F4A73ED0921}" type="slidenum">
              <a: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36CD-312C-47BE-8B2C-2AE1F897DFD2}" type="slidenum">
              <a: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762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秋天通用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83" name="Picture 6" descr="leaves"/>
          <p:cNvPicPr/>
          <p:nvPr/>
        </p:nvPicPr>
        <p:blipFill>
          <a:blip r:embed="rId1"/>
          <a:stretch/>
        </p:blipFill>
        <p:spPr>
          <a:xfrm>
            <a:off x="5334120" y="4343400"/>
            <a:ext cx="3614760" cy="238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eaves"/>
          <p:cNvPicPr/>
          <p:nvPr/>
        </p:nvPicPr>
        <p:blipFill>
          <a:blip r:embed="rId2"/>
          <a:stretch/>
        </p:blipFill>
        <p:spPr>
          <a:xfrm>
            <a:off x="304920" y="4411800"/>
            <a:ext cx="3429000" cy="22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leaf"/>
          <p:cNvPicPr/>
          <p:nvPr/>
        </p:nvPicPr>
        <p:blipFill>
          <a:blip r:embed="rId3"/>
          <a:stretch/>
        </p:blipFill>
        <p:spPr>
          <a:xfrm>
            <a:off x="3962520" y="4952880"/>
            <a:ext cx="1752480" cy="1703520"/>
          </a:xfrm>
          <a:prstGeom prst="rect">
            <a:avLst/>
          </a:prstGeom>
          <a:ln w="0">
            <a:noFill/>
          </a:ln>
        </p:spPr>
      </p:pic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  <a:ea typeface="宋体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89" name="Picture 4" descr="leaf"/>
          <p:cNvPicPr/>
          <p:nvPr/>
        </p:nvPicPr>
        <p:blipFill>
          <a:blip r:embed="rId1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Transitional Page</a:t>
            </a:r>
            <a:endParaRPr b="0" lang="en-US" sz="66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d3603"/>
              </a:solidFill>
              <a:latin typeface="Eras Bold ITC"/>
              <a:ea typeface="宋体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  <a:ea typeface="宋体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5" name="Picture 4" descr="leaf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38:10Z</dcterms:created>
  <dc:creator>User</dc:creator>
  <dc:description/>
  <dc:language>en-US</dc:language>
  <cp:lastModifiedBy>王玉清</cp:lastModifiedBy>
  <dcterms:modified xsi:type="dcterms:W3CDTF">2016-02-22T03:08:54Z</dcterms:modified>
  <cp:revision>4</cp:revision>
  <dc:subject/>
  <dc:title>Autumn Myst</dc:title>
</cp:coreProperties>
</file>