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998-85D6-4990-A0FC-97186052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61A-5898-4574-95DD-E85A8910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838-F431-4887-8846-0D3E26E8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77A-356D-4756-991B-9709F154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9FE-3973-4CA7-9F32-966225CF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C88A-D2DB-41B7-B7BB-715AA67B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2925-07E3-413F-8C52-D5EAF427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2423-BB87-42FA-BAA4-3C882EF2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044D-D828-4E30-973E-84BFBFAF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3593-5B7C-40EC-9B56-D1F64E52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86B6-56CF-4077-92B7-C54FC4EB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6BD-1E0D-4082-B5D0-E073E0B8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309F-1996-416D-BD27-29C4BF56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E06E-BAE7-4B09-B2AA-014177F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ED7D-E269-4804-9E28-F68FC737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AC14-5A12-4F34-8E13-08EF83D4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D203-BBEB-4445-922E-A6A49263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79A-A67B-4190-AD61-7E6D4E87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92D-D5E6-46AB-B6B0-D5C388D8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154-F019-4113-A65E-CB0FE44B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56F-A75A-4487-B373-796E0C3F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88B-FE17-404D-9BA1-A046368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FD6-937E-4238-9D74-BE2B068E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3DB-D7C7-4804-AC73-23FB8550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我的文件\素材文件\3D小人\8.JPG"/>
          <p:cNvPicPr/>
          <p:nvPr/>
        </p:nvPicPr>
        <p:blipFill>
          <a:blip r:embed="rId2"/>
          <a:srcRect l="0" t="10264" r="7692" b="12823"/>
          <a:stretch/>
        </p:blipFill>
        <p:spPr>
          <a:xfrm>
            <a:off x="7429680" y="0"/>
            <a:ext cx="1714320" cy="1071720"/>
          </a:xfrm>
          <a:prstGeom prst="rect">
            <a:avLst/>
          </a:prstGeom>
          <a:ln w="0">
            <a:noFill/>
          </a:ln>
        </p:spPr>
      </p:pic>
      <p:sp>
        <p:nvSpPr>
          <p:cNvPr id="1" name="任意多边形 6"/>
          <p:cNvSpPr/>
          <p:nvPr/>
        </p:nvSpPr>
        <p:spPr>
          <a:xfrm>
            <a:off x="0" y="-25560"/>
            <a:ext cx="7858080" cy="1097280"/>
          </a:xfrm>
          <a:custGeom>
            <a:avLst/>
            <a:gdLst>
              <a:gd name="textAreaLeft" fmla="*/ 0 w 7858080"/>
              <a:gd name="textAreaRight" fmla="*/ 7858440 w 7858080"/>
              <a:gd name="textAreaTop" fmla="*/ 0 h 1097280"/>
              <a:gd name="textAreaBottom" fmla="*/ 1097640 h 1097280"/>
            </a:gdLst>
            <a:ahLst/>
            <a:rect l="textAreaLeft" t="textAreaTop" r="textAreaRight" b="textAreaBottom"/>
            <a:pathLst>
              <a:path w="7500958" h="3429024">
                <a:moveTo>
                  <a:pt x="0" y="0"/>
                </a:moveTo>
                <a:lnTo>
                  <a:pt x="7500958" y="0"/>
                </a:lnTo>
                <a:cubicBezTo>
                  <a:pt x="7118923" y="833988"/>
                  <a:pt x="7081776" y="2775409"/>
                  <a:pt x="7500958" y="3429024"/>
                </a:cubicBezTo>
                <a:lnTo>
                  <a:pt x="0" y="342902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87e2"/>
              </a:gs>
              <a:gs pos="100000">
                <a:srgbClr val="94c0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5C99-3701-41E7-81D5-4C2596311C46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6F61-AB23-41A3-89D2-A32AD6A3203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:\我的文件\素材文件\3D小人\8.JPG"/>
          <p:cNvPicPr/>
          <p:nvPr/>
        </p:nvPicPr>
        <p:blipFill>
          <a:blip r:embed="rId2"/>
          <a:srcRect l="27275" t="0" r="0" b="0"/>
          <a:stretch/>
        </p:blipFill>
        <p:spPr>
          <a:xfrm>
            <a:off x="0" y="0"/>
            <a:ext cx="5334120" cy="5500800"/>
          </a:xfrm>
          <a:prstGeom prst="rect">
            <a:avLst/>
          </a:prstGeom>
          <a:ln w="0">
            <a:noFill/>
          </a:ln>
        </p:spPr>
      </p:pic>
      <p:sp>
        <p:nvSpPr>
          <p:cNvPr id="97" name="任意多边形 5"/>
          <p:cNvSpPr/>
          <p:nvPr/>
        </p:nvSpPr>
        <p:spPr>
          <a:xfrm>
            <a:off x="2571840" y="0"/>
            <a:ext cx="6572160" cy="6858000"/>
          </a:xfrm>
          <a:custGeom>
            <a:avLst/>
            <a:gdLst/>
            <a:ahLst/>
            <a:rect l="l" t="t" r="r" b="b"/>
            <a:pathLst>
              <a:path w="6572360" h="5000660">
                <a:moveTo>
                  <a:pt x="857320" y="0"/>
                </a:moveTo>
                <a:lnTo>
                  <a:pt x="6572360" y="0"/>
                </a:lnTo>
                <a:lnTo>
                  <a:pt x="6572360" y="5000660"/>
                </a:lnTo>
                <a:lnTo>
                  <a:pt x="0" y="5000660"/>
                </a:lnTo>
                <a:cubicBezTo>
                  <a:pt x="642817" y="4346076"/>
                  <a:pt x="1643873" y="3303515"/>
                  <a:pt x="1786760" y="2470072"/>
                </a:cubicBezTo>
                <a:cubicBezTo>
                  <a:pt x="1929647" y="1636629"/>
                  <a:pt x="1513584" y="705005"/>
                  <a:pt x="85732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000240" y="0"/>
            <a:ext cx="6143760" cy="6858000"/>
          </a:xfrm>
          <a:custGeom>
            <a:avLst/>
            <a:gdLst/>
            <a:ahLst/>
            <a:rect l="l" t="t" r="r" b="b"/>
            <a:pathLst>
              <a:path w="6143700" h="5000660">
                <a:moveTo>
                  <a:pt x="428660" y="0"/>
                </a:moveTo>
                <a:lnTo>
                  <a:pt x="6143700" y="0"/>
                </a:lnTo>
                <a:lnTo>
                  <a:pt x="6143700" y="5000660"/>
                </a:lnTo>
                <a:lnTo>
                  <a:pt x="0" y="5000660"/>
                </a:lnTo>
                <a:cubicBezTo>
                  <a:pt x="642817" y="4346076"/>
                  <a:pt x="1501004" y="3303515"/>
                  <a:pt x="1572447" y="2470072"/>
                </a:cubicBezTo>
                <a:cubicBezTo>
                  <a:pt x="1643890" y="1636629"/>
                  <a:pt x="1084924" y="705005"/>
                  <a:pt x="428660" y="0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3"/>
          <p:cNvSpPr/>
          <p:nvPr/>
        </p:nvSpPr>
        <p:spPr>
          <a:xfrm>
            <a:off x="3429000" y="0"/>
            <a:ext cx="5715000" cy="6858000"/>
          </a:xfrm>
          <a:custGeom>
            <a:avLst/>
            <a:gdLst/>
            <a:ahLst/>
            <a:rect l="l" t="t" r="r" b="b"/>
            <a:pathLst>
              <a:path w="5715040" h="5000660">
                <a:moveTo>
                  <a:pt x="0" y="0"/>
                </a:moveTo>
                <a:lnTo>
                  <a:pt x="5715040" y="0"/>
                </a:lnTo>
                <a:lnTo>
                  <a:pt x="5715040" y="5000660"/>
                </a:lnTo>
                <a:lnTo>
                  <a:pt x="0" y="5000660"/>
                </a:lnTo>
                <a:cubicBezTo>
                  <a:pt x="642817" y="4346076"/>
                  <a:pt x="1358135" y="3303515"/>
                  <a:pt x="1358135" y="2470072"/>
                </a:cubicBezTo>
                <a:cubicBezTo>
                  <a:pt x="1358135" y="1636629"/>
                  <a:pt x="656264" y="705005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4b9fe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611280" y="1268280"/>
            <a:ext cx="716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人生及选择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Unbenannt-2"/>
          <p:cNvPicPr/>
          <p:nvPr/>
        </p:nvPicPr>
        <p:blipFill>
          <a:blip r:embed="rId1"/>
          <a:stretch/>
        </p:blipFill>
        <p:spPr>
          <a:xfrm>
            <a:off x="6369120" y="3214800"/>
            <a:ext cx="280800" cy="431640"/>
          </a:xfrm>
          <a:prstGeom prst="rect">
            <a:avLst/>
          </a:prstGeom>
          <a:ln w="0">
            <a:noFill/>
          </a:ln>
        </p:spPr>
      </p:pic>
      <p:sp>
        <p:nvSpPr>
          <p:cNvPr id="1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760" y="17859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72080" y="1500120"/>
            <a:ext cx="3214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感谢您的关注！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58:23Z</dcterms:created>
  <dc:creator>dell</dc:creator>
  <dc:description>PowerBar：中国专业ppt设计交流论坛，是基于PowerPoint软件，以设计，创意，技巧，讨论，赏析，模板发布内容为主。
通过Nordri设计团队并汇集国内优秀PowerPoint设计者/爱好者的原创力量，建立更多与PPT相关的专业内容，为网友共享。 
</dc:description>
  <cp:keywords>ppt模板 PPT专业模板 PowerBar 专业PPT论坛</cp:keywords>
  <dc:language>en-US</dc:language>
  <cp:lastModifiedBy>王玉清</cp:lastModifiedBy>
  <dcterms:modified xsi:type="dcterms:W3CDTF">2016-02-24T03:40:49Z</dcterms:modified>
  <cp:revision>5</cp:revision>
  <dc:subject>PowerBar原创专业PPT模板</dc:subject>
  <dc:title>幻灯片 1</dc:title>
</cp:coreProperties>
</file>