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2E0-C2F6-4DC3-B76C-22790E92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38D-F1A1-4114-B835-559A4FE4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F16-1B75-4C4C-A5FD-573FF606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672-C60C-485A-839D-6EABD27E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B55-1B2E-46BE-A2F2-580CCD59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DDF-7CCC-46B6-8CBB-161586C1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CCE-9E7C-40BF-880F-3891B7B3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528-C279-41A5-9DB6-76859417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06F-9916-49D5-BED2-10E8C7E9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1AC-BAFB-4379-85A9-7AA8D4D5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DA0-5201-4F5C-B8AA-53E05E64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7F8-9AD7-41FD-86FB-8A6BAA4C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DD1-5B91-4814-B320-09FC3289E38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686160" y="0"/>
            <a:ext cx="10744200" cy="5943600"/>
            <a:chOff x="-686160" y="0"/>
            <a:chExt cx="10744200" cy="5943600"/>
          </a:xfrm>
        </p:grpSpPr>
        <p:sp>
          <p:nvSpPr>
            <p:cNvPr id="42" name="Freeform 3"/>
            <p:cNvSpPr/>
            <p:nvPr/>
          </p:nvSpPr>
          <p:spPr>
            <a:xfrm flipH="1">
              <a:off x="-686520" y="3276720"/>
              <a:ext cx="10744200" cy="2666880"/>
            </a:xfrm>
            <a:custGeom>
              <a:avLst/>
              <a:gdLst/>
              <a:ahLst/>
              <a:rect l="l" t="t" r="r" b="b"/>
              <a:pathLst>
                <a:path w="5904" h="975">
                  <a:moveTo>
                    <a:pt x="4" y="104"/>
                  </a:moveTo>
                  <a:cubicBezTo>
                    <a:pt x="36" y="88"/>
                    <a:pt x="57" y="81"/>
                    <a:pt x="92" y="74"/>
                  </a:cubicBezTo>
                  <a:cubicBezTo>
                    <a:pt x="136" y="81"/>
                    <a:pt x="148" y="87"/>
                    <a:pt x="196" y="74"/>
                  </a:cubicBezTo>
                  <a:cubicBezTo>
                    <a:pt x="205" y="72"/>
                    <a:pt x="209" y="60"/>
                    <a:pt x="218" y="59"/>
                  </a:cubicBezTo>
                  <a:cubicBezTo>
                    <a:pt x="257" y="53"/>
                    <a:pt x="297" y="54"/>
                    <a:pt x="336" y="52"/>
                  </a:cubicBezTo>
                  <a:cubicBezTo>
                    <a:pt x="422" y="25"/>
                    <a:pt x="439" y="39"/>
                    <a:pt x="565" y="45"/>
                  </a:cubicBezTo>
                  <a:cubicBezTo>
                    <a:pt x="580" y="50"/>
                    <a:pt x="594" y="64"/>
                    <a:pt x="609" y="59"/>
                  </a:cubicBezTo>
                  <a:cubicBezTo>
                    <a:pt x="624" y="54"/>
                    <a:pt x="654" y="45"/>
                    <a:pt x="654" y="45"/>
                  </a:cubicBezTo>
                  <a:cubicBezTo>
                    <a:pt x="729" y="69"/>
                    <a:pt x="683" y="58"/>
                    <a:pt x="794" y="67"/>
                  </a:cubicBezTo>
                  <a:cubicBezTo>
                    <a:pt x="810" y="72"/>
                    <a:pt x="822" y="87"/>
                    <a:pt x="838" y="89"/>
                  </a:cubicBezTo>
                  <a:cubicBezTo>
                    <a:pt x="864" y="92"/>
                    <a:pt x="931" y="70"/>
                    <a:pt x="956" y="67"/>
                  </a:cubicBezTo>
                  <a:cubicBezTo>
                    <a:pt x="1006" y="49"/>
                    <a:pt x="945" y="67"/>
                    <a:pt x="1030" y="67"/>
                  </a:cubicBezTo>
                  <a:cubicBezTo>
                    <a:pt x="1045" y="67"/>
                    <a:pt x="1059" y="57"/>
                    <a:pt x="1074" y="52"/>
                  </a:cubicBezTo>
                  <a:cubicBezTo>
                    <a:pt x="1131" y="61"/>
                    <a:pt x="1188" y="91"/>
                    <a:pt x="1244" y="96"/>
                  </a:cubicBezTo>
                  <a:cubicBezTo>
                    <a:pt x="1288" y="100"/>
                    <a:pt x="1333" y="101"/>
                    <a:pt x="1377" y="104"/>
                  </a:cubicBezTo>
                  <a:cubicBezTo>
                    <a:pt x="1405" y="101"/>
                    <a:pt x="1450" y="97"/>
                    <a:pt x="1481" y="89"/>
                  </a:cubicBezTo>
                  <a:cubicBezTo>
                    <a:pt x="1510" y="82"/>
                    <a:pt x="1540" y="62"/>
                    <a:pt x="1569" y="59"/>
                  </a:cubicBezTo>
                  <a:cubicBezTo>
                    <a:pt x="1611" y="55"/>
                    <a:pt x="1653" y="54"/>
                    <a:pt x="1695" y="52"/>
                  </a:cubicBezTo>
                  <a:cubicBezTo>
                    <a:pt x="1731" y="43"/>
                    <a:pt x="1717" y="52"/>
                    <a:pt x="1739" y="30"/>
                  </a:cubicBezTo>
                  <a:cubicBezTo>
                    <a:pt x="1767" y="25"/>
                    <a:pt x="1795" y="15"/>
                    <a:pt x="1824" y="15"/>
                  </a:cubicBezTo>
                  <a:cubicBezTo>
                    <a:pt x="1832" y="15"/>
                    <a:pt x="1834" y="30"/>
                    <a:pt x="1842" y="30"/>
                  </a:cubicBezTo>
                  <a:cubicBezTo>
                    <a:pt x="1896" y="32"/>
                    <a:pt x="1951" y="25"/>
                    <a:pt x="2005" y="22"/>
                  </a:cubicBezTo>
                  <a:cubicBezTo>
                    <a:pt x="2044" y="10"/>
                    <a:pt x="2086" y="21"/>
                    <a:pt x="2130" y="15"/>
                  </a:cubicBezTo>
                  <a:cubicBezTo>
                    <a:pt x="2145" y="10"/>
                    <a:pt x="2159" y="0"/>
                    <a:pt x="2175" y="0"/>
                  </a:cubicBezTo>
                  <a:cubicBezTo>
                    <a:pt x="2199" y="0"/>
                    <a:pt x="2204" y="13"/>
                    <a:pt x="2226" y="15"/>
                  </a:cubicBezTo>
                  <a:cubicBezTo>
                    <a:pt x="2263" y="19"/>
                    <a:pt x="2300" y="20"/>
                    <a:pt x="2337" y="22"/>
                  </a:cubicBezTo>
                  <a:cubicBezTo>
                    <a:pt x="2367" y="42"/>
                    <a:pt x="2359" y="41"/>
                    <a:pt x="2404" y="45"/>
                  </a:cubicBezTo>
                  <a:cubicBezTo>
                    <a:pt x="2480" y="51"/>
                    <a:pt x="2633" y="59"/>
                    <a:pt x="2633" y="59"/>
                  </a:cubicBezTo>
                  <a:cubicBezTo>
                    <a:pt x="2686" y="78"/>
                    <a:pt x="2628" y="59"/>
                    <a:pt x="2736" y="74"/>
                  </a:cubicBezTo>
                  <a:cubicBezTo>
                    <a:pt x="2783" y="80"/>
                    <a:pt x="2837" y="103"/>
                    <a:pt x="2884" y="104"/>
                  </a:cubicBezTo>
                  <a:cubicBezTo>
                    <a:pt x="2965" y="106"/>
                    <a:pt x="3046" y="109"/>
                    <a:pt x="3127" y="111"/>
                  </a:cubicBezTo>
                  <a:cubicBezTo>
                    <a:pt x="3294" y="143"/>
                    <a:pt x="3459" y="150"/>
                    <a:pt x="3630" y="155"/>
                  </a:cubicBezTo>
                  <a:cubicBezTo>
                    <a:pt x="3667" y="168"/>
                    <a:pt x="3706" y="212"/>
                    <a:pt x="3748" y="214"/>
                  </a:cubicBezTo>
                  <a:cubicBezTo>
                    <a:pt x="3866" y="219"/>
                    <a:pt x="3984" y="219"/>
                    <a:pt x="4102" y="222"/>
                  </a:cubicBezTo>
                  <a:cubicBezTo>
                    <a:pt x="4268" y="239"/>
                    <a:pt x="4420" y="234"/>
                    <a:pt x="4590" y="229"/>
                  </a:cubicBezTo>
                  <a:cubicBezTo>
                    <a:pt x="4622" y="227"/>
                    <a:pt x="4654" y="228"/>
                    <a:pt x="4686" y="222"/>
                  </a:cubicBezTo>
                  <a:cubicBezTo>
                    <a:pt x="4709" y="218"/>
                    <a:pt x="4733" y="194"/>
                    <a:pt x="4759" y="192"/>
                  </a:cubicBezTo>
                  <a:cubicBezTo>
                    <a:pt x="4833" y="187"/>
                    <a:pt x="4907" y="187"/>
                    <a:pt x="4981" y="185"/>
                  </a:cubicBezTo>
                  <a:cubicBezTo>
                    <a:pt x="5114" y="137"/>
                    <a:pt x="4934" y="166"/>
                    <a:pt x="5284" y="155"/>
                  </a:cubicBezTo>
                  <a:cubicBezTo>
                    <a:pt x="5293" y="154"/>
                    <a:pt x="5364" y="151"/>
                    <a:pt x="5387" y="141"/>
                  </a:cubicBezTo>
                  <a:cubicBezTo>
                    <a:pt x="5456" y="111"/>
                    <a:pt x="5335" y="137"/>
                    <a:pt x="5461" y="118"/>
                  </a:cubicBezTo>
                  <a:cubicBezTo>
                    <a:pt x="5705" y="131"/>
                    <a:pt x="5560" y="126"/>
                    <a:pt x="5897" y="126"/>
                  </a:cubicBezTo>
                  <a:lnTo>
                    <a:pt x="5904" y="975"/>
                  </a:lnTo>
                  <a:lnTo>
                    <a:pt x="0" y="927"/>
                  </a:lnTo>
                  <a:lnTo>
                    <a:pt x="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2133720" y="2057400"/>
              <a:ext cx="4343400" cy="236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0" y="0"/>
              <a:ext cx="9144000" cy="5867280"/>
            </a:xfrm>
            <a:prstGeom prst="rect">
              <a:avLst/>
            </a:prstGeom>
            <a:solidFill>
              <a:srgbClr val="ffff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Oval 6"/>
          <p:cNvSpPr/>
          <p:nvPr/>
        </p:nvSpPr>
        <p:spPr>
          <a:xfrm rot="20942400">
            <a:off x="4723920" y="2568240"/>
            <a:ext cx="7620120" cy="1317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c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-2438280" y="2895480"/>
            <a:ext cx="7619760" cy="13176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ffc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-1373400" y="3077640"/>
            <a:ext cx="12093840" cy="3243240"/>
            <a:chOff x="-1373400" y="3077640"/>
            <a:chExt cx="12093840" cy="3243240"/>
          </a:xfrm>
        </p:grpSpPr>
        <p:sp>
          <p:nvSpPr>
            <p:cNvPr id="48" name="Freeform 9"/>
            <p:cNvSpPr/>
            <p:nvPr/>
          </p:nvSpPr>
          <p:spPr>
            <a:xfrm flipH="1" rot="578400">
              <a:off x="4113360" y="3276720"/>
              <a:ext cx="816120" cy="274356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 flipH="1" rot="21465000">
              <a:off x="4669920" y="3276360"/>
              <a:ext cx="81612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 flipH="1" rot="20324400">
              <a:off x="5508360" y="3276360"/>
              <a:ext cx="81576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 rot="20852400">
              <a:off x="3375000" y="3505320"/>
              <a:ext cx="96840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 rot="1140600">
              <a:off x="2209320" y="3429000"/>
              <a:ext cx="96840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 rot="1639800">
              <a:off x="1599840" y="3429000"/>
              <a:ext cx="96840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 rot="1938600">
              <a:off x="-75960" y="3123720"/>
              <a:ext cx="96840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 rot="1938600">
              <a:off x="-685440" y="3225960"/>
              <a:ext cx="58752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 rot="18166200">
              <a:off x="7935840" y="2906640"/>
              <a:ext cx="58752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 rot="17891400">
              <a:off x="8621640" y="2883960"/>
              <a:ext cx="58716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 rot="17891400">
              <a:off x="9078840" y="2829960"/>
              <a:ext cx="587160" cy="2743200"/>
            </a:xfrm>
            <a:custGeom>
              <a:avLst/>
              <a:gdLst/>
              <a:ahLst/>
              <a:rect l="l" t="t" r="r" b="b"/>
              <a:pathLst>
                <a:path w="480" h="1296">
                  <a:moveTo>
                    <a:pt x="384" y="0"/>
                  </a:moveTo>
                  <a:lnTo>
                    <a:pt x="0" y="1296"/>
                  </a:lnTo>
                  <a:lnTo>
                    <a:pt x="96" y="1296"/>
                  </a:lnTo>
                  <a:lnTo>
                    <a:pt x="480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cc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20"/>
          <p:cNvSpPr/>
          <p:nvPr/>
        </p:nvSpPr>
        <p:spPr>
          <a:xfrm>
            <a:off x="-76320" y="5462640"/>
            <a:ext cx="9372600" cy="1547640"/>
          </a:xfrm>
          <a:custGeom>
            <a:avLst/>
            <a:gdLst/>
            <a:ahLst/>
            <a:rect l="l" t="t" r="r" b="b"/>
            <a:pathLst>
              <a:path w="5904" h="975">
                <a:moveTo>
                  <a:pt x="4" y="104"/>
                </a:moveTo>
                <a:cubicBezTo>
                  <a:pt x="36" y="88"/>
                  <a:pt x="57" y="81"/>
                  <a:pt x="92" y="74"/>
                </a:cubicBezTo>
                <a:cubicBezTo>
                  <a:pt x="136" y="81"/>
                  <a:pt x="148" y="87"/>
                  <a:pt x="196" y="74"/>
                </a:cubicBezTo>
                <a:cubicBezTo>
                  <a:pt x="205" y="72"/>
                  <a:pt x="209" y="60"/>
                  <a:pt x="218" y="59"/>
                </a:cubicBezTo>
                <a:cubicBezTo>
                  <a:pt x="257" y="53"/>
                  <a:pt x="297" y="54"/>
                  <a:pt x="336" y="52"/>
                </a:cubicBezTo>
                <a:cubicBezTo>
                  <a:pt x="422" y="25"/>
                  <a:pt x="439" y="39"/>
                  <a:pt x="565" y="45"/>
                </a:cubicBezTo>
                <a:cubicBezTo>
                  <a:pt x="580" y="50"/>
                  <a:pt x="594" y="64"/>
                  <a:pt x="609" y="59"/>
                </a:cubicBezTo>
                <a:cubicBezTo>
                  <a:pt x="624" y="54"/>
                  <a:pt x="654" y="45"/>
                  <a:pt x="654" y="45"/>
                </a:cubicBezTo>
                <a:cubicBezTo>
                  <a:pt x="729" y="69"/>
                  <a:pt x="683" y="58"/>
                  <a:pt x="794" y="67"/>
                </a:cubicBezTo>
                <a:cubicBezTo>
                  <a:pt x="810" y="72"/>
                  <a:pt x="822" y="87"/>
                  <a:pt x="838" y="89"/>
                </a:cubicBezTo>
                <a:cubicBezTo>
                  <a:pt x="864" y="92"/>
                  <a:pt x="931" y="70"/>
                  <a:pt x="956" y="67"/>
                </a:cubicBezTo>
                <a:cubicBezTo>
                  <a:pt x="1006" y="49"/>
                  <a:pt x="945" y="67"/>
                  <a:pt x="1030" y="67"/>
                </a:cubicBezTo>
                <a:cubicBezTo>
                  <a:pt x="1045" y="67"/>
                  <a:pt x="1059" y="57"/>
                  <a:pt x="1074" y="52"/>
                </a:cubicBezTo>
                <a:cubicBezTo>
                  <a:pt x="1131" y="61"/>
                  <a:pt x="1188" y="91"/>
                  <a:pt x="1244" y="96"/>
                </a:cubicBezTo>
                <a:cubicBezTo>
                  <a:pt x="1288" y="100"/>
                  <a:pt x="1333" y="101"/>
                  <a:pt x="1377" y="104"/>
                </a:cubicBezTo>
                <a:cubicBezTo>
                  <a:pt x="1405" y="101"/>
                  <a:pt x="1450" y="97"/>
                  <a:pt x="1481" y="89"/>
                </a:cubicBezTo>
                <a:cubicBezTo>
                  <a:pt x="1510" y="82"/>
                  <a:pt x="1540" y="62"/>
                  <a:pt x="1569" y="59"/>
                </a:cubicBezTo>
                <a:cubicBezTo>
                  <a:pt x="1611" y="55"/>
                  <a:pt x="1653" y="54"/>
                  <a:pt x="1695" y="52"/>
                </a:cubicBezTo>
                <a:cubicBezTo>
                  <a:pt x="1731" y="43"/>
                  <a:pt x="1717" y="52"/>
                  <a:pt x="1739" y="30"/>
                </a:cubicBezTo>
                <a:cubicBezTo>
                  <a:pt x="1767" y="25"/>
                  <a:pt x="1795" y="15"/>
                  <a:pt x="1824" y="15"/>
                </a:cubicBezTo>
                <a:cubicBezTo>
                  <a:pt x="1832" y="15"/>
                  <a:pt x="1834" y="30"/>
                  <a:pt x="1842" y="30"/>
                </a:cubicBezTo>
                <a:cubicBezTo>
                  <a:pt x="1896" y="32"/>
                  <a:pt x="1951" y="25"/>
                  <a:pt x="2005" y="22"/>
                </a:cubicBezTo>
                <a:cubicBezTo>
                  <a:pt x="2044" y="10"/>
                  <a:pt x="2086" y="21"/>
                  <a:pt x="2130" y="15"/>
                </a:cubicBezTo>
                <a:cubicBezTo>
                  <a:pt x="2145" y="10"/>
                  <a:pt x="2159" y="0"/>
                  <a:pt x="2175" y="0"/>
                </a:cubicBezTo>
                <a:cubicBezTo>
                  <a:pt x="2199" y="0"/>
                  <a:pt x="2204" y="13"/>
                  <a:pt x="2226" y="15"/>
                </a:cubicBezTo>
                <a:cubicBezTo>
                  <a:pt x="2263" y="19"/>
                  <a:pt x="2300" y="20"/>
                  <a:pt x="2337" y="22"/>
                </a:cubicBezTo>
                <a:cubicBezTo>
                  <a:pt x="2367" y="42"/>
                  <a:pt x="2359" y="41"/>
                  <a:pt x="2404" y="45"/>
                </a:cubicBezTo>
                <a:cubicBezTo>
                  <a:pt x="2480" y="51"/>
                  <a:pt x="2633" y="59"/>
                  <a:pt x="2633" y="59"/>
                </a:cubicBezTo>
                <a:cubicBezTo>
                  <a:pt x="2686" y="78"/>
                  <a:pt x="2628" y="59"/>
                  <a:pt x="2736" y="74"/>
                </a:cubicBezTo>
                <a:cubicBezTo>
                  <a:pt x="2783" y="80"/>
                  <a:pt x="2837" y="103"/>
                  <a:pt x="2884" y="104"/>
                </a:cubicBezTo>
                <a:cubicBezTo>
                  <a:pt x="2965" y="106"/>
                  <a:pt x="3046" y="109"/>
                  <a:pt x="3127" y="111"/>
                </a:cubicBezTo>
                <a:cubicBezTo>
                  <a:pt x="3294" y="143"/>
                  <a:pt x="3459" y="150"/>
                  <a:pt x="3630" y="155"/>
                </a:cubicBezTo>
                <a:cubicBezTo>
                  <a:pt x="3667" y="168"/>
                  <a:pt x="3706" y="212"/>
                  <a:pt x="3748" y="214"/>
                </a:cubicBezTo>
                <a:cubicBezTo>
                  <a:pt x="3866" y="219"/>
                  <a:pt x="3984" y="219"/>
                  <a:pt x="4102" y="222"/>
                </a:cubicBezTo>
                <a:cubicBezTo>
                  <a:pt x="4268" y="239"/>
                  <a:pt x="4420" y="234"/>
                  <a:pt x="4590" y="229"/>
                </a:cubicBezTo>
                <a:cubicBezTo>
                  <a:pt x="4622" y="227"/>
                  <a:pt x="4654" y="228"/>
                  <a:pt x="4686" y="222"/>
                </a:cubicBezTo>
                <a:cubicBezTo>
                  <a:pt x="4709" y="218"/>
                  <a:pt x="4733" y="194"/>
                  <a:pt x="4759" y="192"/>
                </a:cubicBezTo>
                <a:cubicBezTo>
                  <a:pt x="4833" y="187"/>
                  <a:pt x="4907" y="187"/>
                  <a:pt x="4981" y="185"/>
                </a:cubicBezTo>
                <a:cubicBezTo>
                  <a:pt x="5114" y="137"/>
                  <a:pt x="4934" y="166"/>
                  <a:pt x="5284" y="155"/>
                </a:cubicBezTo>
                <a:cubicBezTo>
                  <a:pt x="5293" y="154"/>
                  <a:pt x="5364" y="151"/>
                  <a:pt x="5387" y="141"/>
                </a:cubicBezTo>
                <a:cubicBezTo>
                  <a:pt x="5456" y="111"/>
                  <a:pt x="5335" y="137"/>
                  <a:pt x="5461" y="118"/>
                </a:cubicBezTo>
                <a:cubicBezTo>
                  <a:pt x="5705" y="131"/>
                  <a:pt x="5560" y="126"/>
                  <a:pt x="5897" y="126"/>
                </a:cubicBezTo>
                <a:lnTo>
                  <a:pt x="5904" y="975"/>
                </a:lnTo>
                <a:lnTo>
                  <a:pt x="0" y="927"/>
                </a:lnTo>
                <a:lnTo>
                  <a:pt x="4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0"/>
          <p:cNvGrpSpPr/>
          <p:nvPr/>
        </p:nvGrpSpPr>
        <p:grpSpPr>
          <a:xfrm>
            <a:off x="4191120" y="5162760"/>
            <a:ext cx="915840" cy="675720"/>
            <a:chOff x="4191120" y="5162760"/>
            <a:chExt cx="915840" cy="675720"/>
          </a:xfrm>
        </p:grpSpPr>
        <p:grpSp>
          <p:nvGrpSpPr>
            <p:cNvPr id="61" name="Group 31"/>
            <p:cNvGrpSpPr/>
            <p:nvPr/>
          </p:nvGrpSpPr>
          <p:grpSpPr>
            <a:xfrm>
              <a:off x="4191120" y="5162760"/>
              <a:ext cx="915840" cy="675720"/>
              <a:chOff x="4191120" y="5162760"/>
              <a:chExt cx="915840" cy="675720"/>
            </a:xfrm>
          </p:grpSpPr>
          <p:sp>
            <p:nvSpPr>
              <p:cNvPr id="62" name="Freeform 32"/>
              <p:cNvSpPr/>
              <p:nvPr/>
            </p:nvSpPr>
            <p:spPr>
              <a:xfrm>
                <a:off x="4191120" y="5333760"/>
                <a:ext cx="786960" cy="504720"/>
              </a:xfrm>
              <a:custGeom>
                <a:avLst/>
                <a:gdLst/>
                <a:ahLst/>
                <a:rect l="l" t="t" r="r" b="b"/>
                <a:pathLst>
                  <a:path w="720" h="461">
                    <a:moveTo>
                      <a:pt x="568" y="55"/>
                    </a:moveTo>
                    <a:cubicBezTo>
                      <a:pt x="457" y="58"/>
                      <a:pt x="321" y="0"/>
                      <a:pt x="235" y="70"/>
                    </a:cubicBezTo>
                    <a:cubicBezTo>
                      <a:pt x="107" y="174"/>
                      <a:pt x="319" y="21"/>
                      <a:pt x="204" y="108"/>
                    </a:cubicBezTo>
                    <a:cubicBezTo>
                      <a:pt x="190" y="119"/>
                      <a:pt x="172" y="125"/>
                      <a:pt x="159" y="138"/>
                    </a:cubicBezTo>
                    <a:cubicBezTo>
                      <a:pt x="144" y="153"/>
                      <a:pt x="113" y="183"/>
                      <a:pt x="113" y="183"/>
                    </a:cubicBezTo>
                    <a:cubicBezTo>
                      <a:pt x="100" y="225"/>
                      <a:pt x="70" y="247"/>
                      <a:pt x="45" y="282"/>
                    </a:cubicBezTo>
                    <a:cubicBezTo>
                      <a:pt x="35" y="297"/>
                      <a:pt x="25" y="312"/>
                      <a:pt x="15" y="327"/>
                    </a:cubicBezTo>
                    <a:cubicBezTo>
                      <a:pt x="10" y="335"/>
                      <a:pt x="0" y="350"/>
                      <a:pt x="0" y="350"/>
                    </a:cubicBezTo>
                    <a:cubicBezTo>
                      <a:pt x="2" y="358"/>
                      <a:pt x="0" y="369"/>
                      <a:pt x="7" y="373"/>
                    </a:cubicBezTo>
                    <a:cubicBezTo>
                      <a:pt x="14" y="377"/>
                      <a:pt x="23" y="369"/>
                      <a:pt x="30" y="365"/>
                    </a:cubicBezTo>
                    <a:cubicBezTo>
                      <a:pt x="62" y="344"/>
                      <a:pt x="75" y="313"/>
                      <a:pt x="91" y="282"/>
                    </a:cubicBezTo>
                    <a:cubicBezTo>
                      <a:pt x="95" y="274"/>
                      <a:pt x="99" y="265"/>
                      <a:pt x="106" y="259"/>
                    </a:cubicBezTo>
                    <a:cubicBezTo>
                      <a:pt x="137" y="232"/>
                      <a:pt x="143" y="232"/>
                      <a:pt x="174" y="221"/>
                    </a:cubicBezTo>
                    <a:cubicBezTo>
                      <a:pt x="196" y="200"/>
                      <a:pt x="206" y="185"/>
                      <a:pt x="235" y="176"/>
                    </a:cubicBezTo>
                    <a:cubicBezTo>
                      <a:pt x="255" y="243"/>
                      <a:pt x="202" y="461"/>
                      <a:pt x="265" y="365"/>
                    </a:cubicBezTo>
                    <a:cubicBezTo>
                      <a:pt x="281" y="305"/>
                      <a:pt x="260" y="221"/>
                      <a:pt x="333" y="199"/>
                    </a:cubicBezTo>
                    <a:cubicBezTo>
                      <a:pt x="354" y="256"/>
                      <a:pt x="325" y="314"/>
                      <a:pt x="341" y="373"/>
                    </a:cubicBezTo>
                    <a:cubicBezTo>
                      <a:pt x="346" y="357"/>
                      <a:pt x="360" y="344"/>
                      <a:pt x="364" y="327"/>
                    </a:cubicBezTo>
                    <a:cubicBezTo>
                      <a:pt x="376" y="278"/>
                      <a:pt x="356" y="229"/>
                      <a:pt x="401" y="199"/>
                    </a:cubicBezTo>
                    <a:cubicBezTo>
                      <a:pt x="431" y="201"/>
                      <a:pt x="480" y="178"/>
                      <a:pt x="492" y="206"/>
                    </a:cubicBezTo>
                    <a:cubicBezTo>
                      <a:pt x="586" y="436"/>
                      <a:pt x="409" y="460"/>
                      <a:pt x="538" y="433"/>
                    </a:cubicBezTo>
                    <a:cubicBezTo>
                      <a:pt x="558" y="370"/>
                      <a:pt x="528" y="297"/>
                      <a:pt x="553" y="236"/>
                    </a:cubicBezTo>
                    <a:cubicBezTo>
                      <a:pt x="561" y="217"/>
                      <a:pt x="594" y="241"/>
                      <a:pt x="614" y="244"/>
                    </a:cubicBezTo>
                    <a:cubicBezTo>
                      <a:pt x="648" y="297"/>
                      <a:pt x="616" y="359"/>
                      <a:pt x="652" y="411"/>
                    </a:cubicBezTo>
                    <a:cubicBezTo>
                      <a:pt x="720" y="393"/>
                      <a:pt x="683" y="350"/>
                      <a:pt x="667" y="297"/>
                    </a:cubicBezTo>
                    <a:cubicBezTo>
                      <a:pt x="665" y="262"/>
                      <a:pt x="684" y="153"/>
                      <a:pt x="636" y="115"/>
                    </a:cubicBezTo>
                    <a:cubicBezTo>
                      <a:pt x="619" y="102"/>
                      <a:pt x="611" y="101"/>
                      <a:pt x="598" y="85"/>
                    </a:cubicBezTo>
                    <a:cubicBezTo>
                      <a:pt x="573" y="54"/>
                      <a:pt x="596" y="68"/>
                      <a:pt x="568" y="5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33"/>
              <p:cNvSpPr/>
              <p:nvPr/>
            </p:nvSpPr>
            <p:spPr>
              <a:xfrm rot="19989600">
                <a:off x="4760640" y="5206680"/>
                <a:ext cx="280800" cy="356760"/>
              </a:xfrm>
              <a:custGeom>
                <a:avLst/>
                <a:gdLst/>
                <a:ahLst/>
                <a:rect l="l" t="t" r="r" b="b"/>
                <a:pathLst>
                  <a:path w="729" h="925">
                    <a:moveTo>
                      <a:pt x="126" y="364"/>
                    </a:moveTo>
                    <a:cubicBezTo>
                      <a:pt x="130" y="336"/>
                      <a:pt x="139" y="309"/>
                      <a:pt x="141" y="281"/>
                    </a:cubicBezTo>
                    <a:cubicBezTo>
                      <a:pt x="146" y="202"/>
                      <a:pt x="107" y="57"/>
                      <a:pt x="194" y="0"/>
                    </a:cubicBezTo>
                    <a:cubicBezTo>
                      <a:pt x="235" y="11"/>
                      <a:pt x="237" y="21"/>
                      <a:pt x="247" y="61"/>
                    </a:cubicBezTo>
                    <a:cubicBezTo>
                      <a:pt x="249" y="94"/>
                      <a:pt x="250" y="126"/>
                      <a:pt x="254" y="159"/>
                    </a:cubicBezTo>
                    <a:cubicBezTo>
                      <a:pt x="258" y="189"/>
                      <a:pt x="278" y="215"/>
                      <a:pt x="292" y="243"/>
                    </a:cubicBezTo>
                    <a:cubicBezTo>
                      <a:pt x="303" y="266"/>
                      <a:pt x="309" y="294"/>
                      <a:pt x="315" y="318"/>
                    </a:cubicBezTo>
                    <a:cubicBezTo>
                      <a:pt x="336" y="314"/>
                      <a:pt x="364" y="320"/>
                      <a:pt x="376" y="303"/>
                    </a:cubicBezTo>
                    <a:cubicBezTo>
                      <a:pt x="388" y="286"/>
                      <a:pt x="392" y="248"/>
                      <a:pt x="398" y="227"/>
                    </a:cubicBezTo>
                    <a:cubicBezTo>
                      <a:pt x="411" y="184"/>
                      <a:pt x="431" y="145"/>
                      <a:pt x="451" y="106"/>
                    </a:cubicBezTo>
                    <a:cubicBezTo>
                      <a:pt x="466" y="75"/>
                      <a:pt x="471" y="42"/>
                      <a:pt x="504" y="30"/>
                    </a:cubicBezTo>
                    <a:cubicBezTo>
                      <a:pt x="540" y="42"/>
                      <a:pt x="532" y="59"/>
                      <a:pt x="558" y="83"/>
                    </a:cubicBezTo>
                    <a:cubicBezTo>
                      <a:pt x="560" y="93"/>
                      <a:pt x="560" y="105"/>
                      <a:pt x="565" y="114"/>
                    </a:cubicBezTo>
                    <a:cubicBezTo>
                      <a:pt x="570" y="123"/>
                      <a:pt x="586" y="126"/>
                      <a:pt x="588" y="137"/>
                    </a:cubicBezTo>
                    <a:cubicBezTo>
                      <a:pt x="621" y="370"/>
                      <a:pt x="525" y="368"/>
                      <a:pt x="664" y="394"/>
                    </a:cubicBezTo>
                    <a:cubicBezTo>
                      <a:pt x="729" y="493"/>
                      <a:pt x="673" y="584"/>
                      <a:pt x="618" y="667"/>
                    </a:cubicBezTo>
                    <a:cubicBezTo>
                      <a:pt x="608" y="682"/>
                      <a:pt x="585" y="684"/>
                      <a:pt x="573" y="697"/>
                    </a:cubicBezTo>
                    <a:cubicBezTo>
                      <a:pt x="555" y="716"/>
                      <a:pt x="546" y="727"/>
                      <a:pt x="520" y="735"/>
                    </a:cubicBezTo>
                    <a:cubicBezTo>
                      <a:pt x="483" y="770"/>
                      <a:pt x="469" y="819"/>
                      <a:pt x="444" y="864"/>
                    </a:cubicBezTo>
                    <a:cubicBezTo>
                      <a:pt x="429" y="890"/>
                      <a:pt x="376" y="925"/>
                      <a:pt x="376" y="925"/>
                    </a:cubicBezTo>
                    <a:cubicBezTo>
                      <a:pt x="361" y="922"/>
                      <a:pt x="345" y="922"/>
                      <a:pt x="330" y="917"/>
                    </a:cubicBezTo>
                    <a:cubicBezTo>
                      <a:pt x="304" y="908"/>
                      <a:pt x="292" y="879"/>
                      <a:pt x="270" y="864"/>
                    </a:cubicBezTo>
                    <a:cubicBezTo>
                      <a:pt x="265" y="856"/>
                      <a:pt x="261" y="848"/>
                      <a:pt x="254" y="841"/>
                    </a:cubicBezTo>
                    <a:cubicBezTo>
                      <a:pt x="248" y="835"/>
                      <a:pt x="237" y="833"/>
                      <a:pt x="232" y="826"/>
                    </a:cubicBezTo>
                    <a:cubicBezTo>
                      <a:pt x="207" y="787"/>
                      <a:pt x="231" y="766"/>
                      <a:pt x="186" y="750"/>
                    </a:cubicBezTo>
                    <a:cubicBezTo>
                      <a:pt x="155" y="719"/>
                      <a:pt x="117" y="668"/>
                      <a:pt x="80" y="644"/>
                    </a:cubicBezTo>
                    <a:cubicBezTo>
                      <a:pt x="63" y="620"/>
                      <a:pt x="52" y="607"/>
                      <a:pt x="27" y="591"/>
                    </a:cubicBezTo>
                    <a:cubicBezTo>
                      <a:pt x="19" y="568"/>
                      <a:pt x="12" y="546"/>
                      <a:pt x="4" y="523"/>
                    </a:cubicBezTo>
                    <a:cubicBezTo>
                      <a:pt x="10" y="478"/>
                      <a:pt x="0" y="447"/>
                      <a:pt x="42" y="432"/>
                    </a:cubicBezTo>
                    <a:cubicBezTo>
                      <a:pt x="83" y="370"/>
                      <a:pt x="64" y="394"/>
                      <a:pt x="126" y="36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4"/>
            <p:cNvGrpSpPr/>
            <p:nvPr/>
          </p:nvGrpSpPr>
          <p:grpSpPr>
            <a:xfrm>
              <a:off x="4813200" y="5308200"/>
              <a:ext cx="218160" cy="159840"/>
              <a:chOff x="4813200" y="5308200"/>
              <a:chExt cx="218160" cy="159840"/>
            </a:xfrm>
          </p:grpSpPr>
          <p:sp>
            <p:nvSpPr>
              <p:cNvPr id="65" name="Oval 35"/>
              <p:cNvSpPr/>
              <p:nvPr/>
            </p:nvSpPr>
            <p:spPr>
              <a:xfrm rot="18188400">
                <a:off x="4852440" y="5321880"/>
                <a:ext cx="87120" cy="14148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36"/>
              <p:cNvSpPr/>
              <p:nvPr/>
            </p:nvSpPr>
            <p:spPr>
              <a:xfrm rot="1988400">
                <a:off x="4929120" y="5319000"/>
                <a:ext cx="75600" cy="11952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37"/>
              <p:cNvSpPr/>
              <p:nvPr/>
            </p:nvSpPr>
            <p:spPr>
              <a:xfrm rot="18188400">
                <a:off x="4878000" y="5361480"/>
                <a:ext cx="37800" cy="62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38"/>
              <p:cNvSpPr/>
              <p:nvPr/>
            </p:nvSpPr>
            <p:spPr>
              <a:xfrm rot="1988400">
                <a:off x="4944600" y="5348880"/>
                <a:ext cx="38880" cy="6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39"/>
          <p:cNvGrpSpPr/>
          <p:nvPr/>
        </p:nvGrpSpPr>
        <p:grpSpPr>
          <a:xfrm>
            <a:off x="3759120" y="5255640"/>
            <a:ext cx="573840" cy="422640"/>
            <a:chOff x="3759120" y="5255640"/>
            <a:chExt cx="573840" cy="422640"/>
          </a:xfrm>
        </p:grpSpPr>
        <p:grpSp>
          <p:nvGrpSpPr>
            <p:cNvPr id="70" name="Group 40"/>
            <p:cNvGrpSpPr/>
            <p:nvPr/>
          </p:nvGrpSpPr>
          <p:grpSpPr>
            <a:xfrm>
              <a:off x="3759120" y="5255640"/>
              <a:ext cx="573840" cy="422640"/>
              <a:chOff x="3759120" y="5255640"/>
              <a:chExt cx="573840" cy="422640"/>
            </a:xfrm>
          </p:grpSpPr>
          <p:sp>
            <p:nvSpPr>
              <p:cNvPr id="71" name="Freeform 41"/>
              <p:cNvSpPr/>
              <p:nvPr/>
            </p:nvSpPr>
            <p:spPr>
              <a:xfrm>
                <a:off x="3759120" y="5362560"/>
                <a:ext cx="493560" cy="315720"/>
              </a:xfrm>
              <a:custGeom>
                <a:avLst/>
                <a:gdLst/>
                <a:ahLst/>
                <a:rect l="l" t="t" r="r" b="b"/>
                <a:pathLst>
                  <a:path w="720" h="461">
                    <a:moveTo>
                      <a:pt x="568" y="55"/>
                    </a:moveTo>
                    <a:cubicBezTo>
                      <a:pt x="457" y="58"/>
                      <a:pt x="321" y="0"/>
                      <a:pt x="235" y="70"/>
                    </a:cubicBezTo>
                    <a:cubicBezTo>
                      <a:pt x="107" y="174"/>
                      <a:pt x="319" y="21"/>
                      <a:pt x="204" y="108"/>
                    </a:cubicBezTo>
                    <a:cubicBezTo>
                      <a:pt x="190" y="119"/>
                      <a:pt x="172" y="125"/>
                      <a:pt x="159" y="138"/>
                    </a:cubicBezTo>
                    <a:cubicBezTo>
                      <a:pt x="144" y="153"/>
                      <a:pt x="113" y="183"/>
                      <a:pt x="113" y="183"/>
                    </a:cubicBezTo>
                    <a:cubicBezTo>
                      <a:pt x="100" y="225"/>
                      <a:pt x="70" y="247"/>
                      <a:pt x="45" y="282"/>
                    </a:cubicBezTo>
                    <a:cubicBezTo>
                      <a:pt x="35" y="297"/>
                      <a:pt x="25" y="312"/>
                      <a:pt x="15" y="327"/>
                    </a:cubicBezTo>
                    <a:cubicBezTo>
                      <a:pt x="10" y="335"/>
                      <a:pt x="0" y="350"/>
                      <a:pt x="0" y="350"/>
                    </a:cubicBezTo>
                    <a:cubicBezTo>
                      <a:pt x="2" y="358"/>
                      <a:pt x="0" y="369"/>
                      <a:pt x="7" y="373"/>
                    </a:cubicBezTo>
                    <a:cubicBezTo>
                      <a:pt x="14" y="377"/>
                      <a:pt x="23" y="369"/>
                      <a:pt x="30" y="365"/>
                    </a:cubicBezTo>
                    <a:cubicBezTo>
                      <a:pt x="62" y="344"/>
                      <a:pt x="75" y="313"/>
                      <a:pt x="91" y="282"/>
                    </a:cubicBezTo>
                    <a:cubicBezTo>
                      <a:pt x="95" y="274"/>
                      <a:pt x="99" y="265"/>
                      <a:pt x="106" y="259"/>
                    </a:cubicBezTo>
                    <a:cubicBezTo>
                      <a:pt x="137" y="232"/>
                      <a:pt x="143" y="232"/>
                      <a:pt x="174" y="221"/>
                    </a:cubicBezTo>
                    <a:cubicBezTo>
                      <a:pt x="196" y="200"/>
                      <a:pt x="206" y="185"/>
                      <a:pt x="235" y="176"/>
                    </a:cubicBezTo>
                    <a:cubicBezTo>
                      <a:pt x="255" y="243"/>
                      <a:pt x="202" y="461"/>
                      <a:pt x="265" y="365"/>
                    </a:cubicBezTo>
                    <a:cubicBezTo>
                      <a:pt x="281" y="305"/>
                      <a:pt x="260" y="221"/>
                      <a:pt x="333" y="199"/>
                    </a:cubicBezTo>
                    <a:cubicBezTo>
                      <a:pt x="354" y="256"/>
                      <a:pt x="325" y="314"/>
                      <a:pt x="341" y="373"/>
                    </a:cubicBezTo>
                    <a:cubicBezTo>
                      <a:pt x="346" y="357"/>
                      <a:pt x="360" y="344"/>
                      <a:pt x="364" y="327"/>
                    </a:cubicBezTo>
                    <a:cubicBezTo>
                      <a:pt x="376" y="278"/>
                      <a:pt x="356" y="229"/>
                      <a:pt x="401" y="199"/>
                    </a:cubicBezTo>
                    <a:cubicBezTo>
                      <a:pt x="431" y="201"/>
                      <a:pt x="480" y="178"/>
                      <a:pt x="492" y="206"/>
                    </a:cubicBezTo>
                    <a:cubicBezTo>
                      <a:pt x="586" y="436"/>
                      <a:pt x="409" y="460"/>
                      <a:pt x="538" y="433"/>
                    </a:cubicBezTo>
                    <a:cubicBezTo>
                      <a:pt x="558" y="370"/>
                      <a:pt x="528" y="297"/>
                      <a:pt x="553" y="236"/>
                    </a:cubicBezTo>
                    <a:cubicBezTo>
                      <a:pt x="561" y="217"/>
                      <a:pt x="594" y="241"/>
                      <a:pt x="614" y="244"/>
                    </a:cubicBezTo>
                    <a:cubicBezTo>
                      <a:pt x="648" y="297"/>
                      <a:pt x="616" y="359"/>
                      <a:pt x="652" y="411"/>
                    </a:cubicBezTo>
                    <a:cubicBezTo>
                      <a:pt x="720" y="393"/>
                      <a:pt x="683" y="350"/>
                      <a:pt x="667" y="297"/>
                    </a:cubicBezTo>
                    <a:cubicBezTo>
                      <a:pt x="665" y="262"/>
                      <a:pt x="684" y="153"/>
                      <a:pt x="636" y="115"/>
                    </a:cubicBezTo>
                    <a:cubicBezTo>
                      <a:pt x="619" y="102"/>
                      <a:pt x="611" y="101"/>
                      <a:pt x="598" y="85"/>
                    </a:cubicBezTo>
                    <a:cubicBezTo>
                      <a:pt x="573" y="54"/>
                      <a:pt x="596" y="68"/>
                      <a:pt x="568" y="5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2"/>
              <p:cNvSpPr/>
              <p:nvPr/>
            </p:nvSpPr>
            <p:spPr>
              <a:xfrm rot="19989600">
                <a:off x="4115880" y="5283360"/>
                <a:ext cx="176040" cy="223200"/>
              </a:xfrm>
              <a:custGeom>
                <a:avLst/>
                <a:gdLst/>
                <a:ahLst/>
                <a:rect l="l" t="t" r="r" b="b"/>
                <a:pathLst>
                  <a:path w="729" h="925">
                    <a:moveTo>
                      <a:pt x="126" y="364"/>
                    </a:moveTo>
                    <a:cubicBezTo>
                      <a:pt x="130" y="336"/>
                      <a:pt x="139" y="309"/>
                      <a:pt x="141" y="281"/>
                    </a:cubicBezTo>
                    <a:cubicBezTo>
                      <a:pt x="146" y="202"/>
                      <a:pt x="107" y="57"/>
                      <a:pt x="194" y="0"/>
                    </a:cubicBezTo>
                    <a:cubicBezTo>
                      <a:pt x="235" y="11"/>
                      <a:pt x="237" y="21"/>
                      <a:pt x="247" y="61"/>
                    </a:cubicBezTo>
                    <a:cubicBezTo>
                      <a:pt x="249" y="94"/>
                      <a:pt x="250" y="126"/>
                      <a:pt x="254" y="159"/>
                    </a:cubicBezTo>
                    <a:cubicBezTo>
                      <a:pt x="258" y="189"/>
                      <a:pt x="278" y="215"/>
                      <a:pt x="292" y="243"/>
                    </a:cubicBezTo>
                    <a:cubicBezTo>
                      <a:pt x="303" y="266"/>
                      <a:pt x="309" y="294"/>
                      <a:pt x="315" y="318"/>
                    </a:cubicBezTo>
                    <a:cubicBezTo>
                      <a:pt x="336" y="314"/>
                      <a:pt x="364" y="320"/>
                      <a:pt x="376" y="303"/>
                    </a:cubicBezTo>
                    <a:cubicBezTo>
                      <a:pt x="388" y="286"/>
                      <a:pt x="392" y="248"/>
                      <a:pt x="398" y="227"/>
                    </a:cubicBezTo>
                    <a:cubicBezTo>
                      <a:pt x="411" y="184"/>
                      <a:pt x="431" y="145"/>
                      <a:pt x="451" y="106"/>
                    </a:cubicBezTo>
                    <a:cubicBezTo>
                      <a:pt x="466" y="75"/>
                      <a:pt x="471" y="42"/>
                      <a:pt x="504" y="30"/>
                    </a:cubicBezTo>
                    <a:cubicBezTo>
                      <a:pt x="540" y="42"/>
                      <a:pt x="532" y="59"/>
                      <a:pt x="558" y="83"/>
                    </a:cubicBezTo>
                    <a:cubicBezTo>
                      <a:pt x="560" y="93"/>
                      <a:pt x="560" y="105"/>
                      <a:pt x="565" y="114"/>
                    </a:cubicBezTo>
                    <a:cubicBezTo>
                      <a:pt x="570" y="123"/>
                      <a:pt x="586" y="126"/>
                      <a:pt x="588" y="137"/>
                    </a:cubicBezTo>
                    <a:cubicBezTo>
                      <a:pt x="621" y="370"/>
                      <a:pt x="525" y="368"/>
                      <a:pt x="664" y="394"/>
                    </a:cubicBezTo>
                    <a:cubicBezTo>
                      <a:pt x="729" y="493"/>
                      <a:pt x="673" y="584"/>
                      <a:pt x="618" y="667"/>
                    </a:cubicBezTo>
                    <a:cubicBezTo>
                      <a:pt x="608" y="682"/>
                      <a:pt x="585" y="684"/>
                      <a:pt x="573" y="697"/>
                    </a:cubicBezTo>
                    <a:cubicBezTo>
                      <a:pt x="555" y="716"/>
                      <a:pt x="546" y="727"/>
                      <a:pt x="520" y="735"/>
                    </a:cubicBezTo>
                    <a:cubicBezTo>
                      <a:pt x="483" y="770"/>
                      <a:pt x="469" y="819"/>
                      <a:pt x="444" y="864"/>
                    </a:cubicBezTo>
                    <a:cubicBezTo>
                      <a:pt x="429" y="890"/>
                      <a:pt x="376" y="925"/>
                      <a:pt x="376" y="925"/>
                    </a:cubicBezTo>
                    <a:cubicBezTo>
                      <a:pt x="361" y="922"/>
                      <a:pt x="345" y="922"/>
                      <a:pt x="330" y="917"/>
                    </a:cubicBezTo>
                    <a:cubicBezTo>
                      <a:pt x="304" y="908"/>
                      <a:pt x="292" y="879"/>
                      <a:pt x="270" y="864"/>
                    </a:cubicBezTo>
                    <a:cubicBezTo>
                      <a:pt x="265" y="856"/>
                      <a:pt x="261" y="848"/>
                      <a:pt x="254" y="841"/>
                    </a:cubicBezTo>
                    <a:cubicBezTo>
                      <a:pt x="248" y="835"/>
                      <a:pt x="237" y="833"/>
                      <a:pt x="232" y="826"/>
                    </a:cubicBezTo>
                    <a:cubicBezTo>
                      <a:pt x="207" y="787"/>
                      <a:pt x="231" y="766"/>
                      <a:pt x="186" y="750"/>
                    </a:cubicBezTo>
                    <a:cubicBezTo>
                      <a:pt x="155" y="719"/>
                      <a:pt x="117" y="668"/>
                      <a:pt x="80" y="644"/>
                    </a:cubicBezTo>
                    <a:cubicBezTo>
                      <a:pt x="63" y="620"/>
                      <a:pt x="52" y="607"/>
                      <a:pt x="27" y="591"/>
                    </a:cubicBezTo>
                    <a:cubicBezTo>
                      <a:pt x="19" y="568"/>
                      <a:pt x="12" y="546"/>
                      <a:pt x="4" y="523"/>
                    </a:cubicBezTo>
                    <a:cubicBezTo>
                      <a:pt x="10" y="478"/>
                      <a:pt x="0" y="447"/>
                      <a:pt x="42" y="432"/>
                    </a:cubicBezTo>
                    <a:cubicBezTo>
                      <a:pt x="83" y="370"/>
                      <a:pt x="64" y="394"/>
                      <a:pt x="126" y="36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43"/>
            <p:cNvGrpSpPr/>
            <p:nvPr/>
          </p:nvGrpSpPr>
          <p:grpSpPr>
            <a:xfrm>
              <a:off x="4149360" y="5346360"/>
              <a:ext cx="136800" cy="99720"/>
              <a:chOff x="4149360" y="5346360"/>
              <a:chExt cx="136800" cy="99720"/>
            </a:xfrm>
          </p:grpSpPr>
          <p:sp>
            <p:nvSpPr>
              <p:cNvPr id="74" name="Oval 44"/>
              <p:cNvSpPr/>
              <p:nvPr/>
            </p:nvSpPr>
            <p:spPr>
              <a:xfrm rot="18188400">
                <a:off x="4173840" y="5354640"/>
                <a:ext cx="54720" cy="8820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45"/>
              <p:cNvSpPr/>
              <p:nvPr/>
            </p:nvSpPr>
            <p:spPr>
              <a:xfrm rot="1988400">
                <a:off x="4222080" y="5352840"/>
                <a:ext cx="47160" cy="7488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46"/>
              <p:cNvSpPr/>
              <p:nvPr/>
            </p:nvSpPr>
            <p:spPr>
              <a:xfrm rot="18188400">
                <a:off x="4189680" y="5379480"/>
                <a:ext cx="23760" cy="38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47"/>
              <p:cNvSpPr/>
              <p:nvPr/>
            </p:nvSpPr>
            <p:spPr>
              <a:xfrm rot="1988400">
                <a:off x="4231440" y="5371200"/>
                <a:ext cx="24120" cy="3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48"/>
          <p:cNvGrpSpPr/>
          <p:nvPr/>
        </p:nvGrpSpPr>
        <p:grpSpPr>
          <a:xfrm>
            <a:off x="1055160" y="5300640"/>
            <a:ext cx="498240" cy="413280"/>
            <a:chOff x="1055160" y="5300640"/>
            <a:chExt cx="498240" cy="413280"/>
          </a:xfrm>
        </p:grpSpPr>
        <p:grpSp>
          <p:nvGrpSpPr>
            <p:cNvPr id="79" name="Group 49"/>
            <p:cNvGrpSpPr/>
            <p:nvPr/>
          </p:nvGrpSpPr>
          <p:grpSpPr>
            <a:xfrm>
              <a:off x="1055160" y="5300640"/>
              <a:ext cx="498240" cy="413280"/>
              <a:chOff x="1055160" y="5300640"/>
              <a:chExt cx="498240" cy="413280"/>
            </a:xfrm>
          </p:grpSpPr>
          <p:sp>
            <p:nvSpPr>
              <p:cNvPr id="80" name="Freeform 50"/>
              <p:cNvSpPr/>
              <p:nvPr/>
            </p:nvSpPr>
            <p:spPr>
              <a:xfrm rot="21131400">
                <a:off x="1071360" y="5416200"/>
                <a:ext cx="423000" cy="270000"/>
              </a:xfrm>
              <a:custGeom>
                <a:avLst/>
                <a:gdLst/>
                <a:ahLst/>
                <a:rect l="l" t="t" r="r" b="b"/>
                <a:pathLst>
                  <a:path w="720" h="461">
                    <a:moveTo>
                      <a:pt x="568" y="55"/>
                    </a:moveTo>
                    <a:cubicBezTo>
                      <a:pt x="457" y="58"/>
                      <a:pt x="321" y="0"/>
                      <a:pt x="235" y="70"/>
                    </a:cubicBezTo>
                    <a:cubicBezTo>
                      <a:pt x="107" y="174"/>
                      <a:pt x="319" y="21"/>
                      <a:pt x="204" y="108"/>
                    </a:cubicBezTo>
                    <a:cubicBezTo>
                      <a:pt x="190" y="119"/>
                      <a:pt x="172" y="125"/>
                      <a:pt x="159" y="138"/>
                    </a:cubicBezTo>
                    <a:cubicBezTo>
                      <a:pt x="144" y="153"/>
                      <a:pt x="113" y="183"/>
                      <a:pt x="113" y="183"/>
                    </a:cubicBezTo>
                    <a:cubicBezTo>
                      <a:pt x="100" y="225"/>
                      <a:pt x="70" y="247"/>
                      <a:pt x="45" y="282"/>
                    </a:cubicBezTo>
                    <a:cubicBezTo>
                      <a:pt x="35" y="297"/>
                      <a:pt x="25" y="312"/>
                      <a:pt x="15" y="327"/>
                    </a:cubicBezTo>
                    <a:cubicBezTo>
                      <a:pt x="10" y="335"/>
                      <a:pt x="0" y="350"/>
                      <a:pt x="0" y="350"/>
                    </a:cubicBezTo>
                    <a:cubicBezTo>
                      <a:pt x="2" y="358"/>
                      <a:pt x="0" y="369"/>
                      <a:pt x="7" y="373"/>
                    </a:cubicBezTo>
                    <a:cubicBezTo>
                      <a:pt x="14" y="377"/>
                      <a:pt x="23" y="369"/>
                      <a:pt x="30" y="365"/>
                    </a:cubicBezTo>
                    <a:cubicBezTo>
                      <a:pt x="62" y="344"/>
                      <a:pt x="75" y="313"/>
                      <a:pt x="91" y="282"/>
                    </a:cubicBezTo>
                    <a:cubicBezTo>
                      <a:pt x="95" y="274"/>
                      <a:pt x="99" y="265"/>
                      <a:pt x="106" y="259"/>
                    </a:cubicBezTo>
                    <a:cubicBezTo>
                      <a:pt x="137" y="232"/>
                      <a:pt x="143" y="232"/>
                      <a:pt x="174" y="221"/>
                    </a:cubicBezTo>
                    <a:cubicBezTo>
                      <a:pt x="196" y="200"/>
                      <a:pt x="206" y="185"/>
                      <a:pt x="235" y="176"/>
                    </a:cubicBezTo>
                    <a:cubicBezTo>
                      <a:pt x="255" y="243"/>
                      <a:pt x="202" y="461"/>
                      <a:pt x="265" y="365"/>
                    </a:cubicBezTo>
                    <a:cubicBezTo>
                      <a:pt x="281" y="305"/>
                      <a:pt x="260" y="221"/>
                      <a:pt x="333" y="199"/>
                    </a:cubicBezTo>
                    <a:cubicBezTo>
                      <a:pt x="354" y="256"/>
                      <a:pt x="325" y="314"/>
                      <a:pt x="341" y="373"/>
                    </a:cubicBezTo>
                    <a:cubicBezTo>
                      <a:pt x="346" y="357"/>
                      <a:pt x="360" y="344"/>
                      <a:pt x="364" y="327"/>
                    </a:cubicBezTo>
                    <a:cubicBezTo>
                      <a:pt x="376" y="278"/>
                      <a:pt x="356" y="229"/>
                      <a:pt x="401" y="199"/>
                    </a:cubicBezTo>
                    <a:cubicBezTo>
                      <a:pt x="431" y="201"/>
                      <a:pt x="480" y="178"/>
                      <a:pt x="492" y="206"/>
                    </a:cubicBezTo>
                    <a:cubicBezTo>
                      <a:pt x="586" y="436"/>
                      <a:pt x="409" y="460"/>
                      <a:pt x="538" y="433"/>
                    </a:cubicBezTo>
                    <a:cubicBezTo>
                      <a:pt x="558" y="370"/>
                      <a:pt x="528" y="297"/>
                      <a:pt x="553" y="236"/>
                    </a:cubicBezTo>
                    <a:cubicBezTo>
                      <a:pt x="561" y="217"/>
                      <a:pt x="594" y="241"/>
                      <a:pt x="614" y="244"/>
                    </a:cubicBezTo>
                    <a:cubicBezTo>
                      <a:pt x="648" y="297"/>
                      <a:pt x="616" y="359"/>
                      <a:pt x="652" y="411"/>
                    </a:cubicBezTo>
                    <a:cubicBezTo>
                      <a:pt x="720" y="393"/>
                      <a:pt x="683" y="350"/>
                      <a:pt x="667" y="297"/>
                    </a:cubicBezTo>
                    <a:cubicBezTo>
                      <a:pt x="665" y="262"/>
                      <a:pt x="684" y="153"/>
                      <a:pt x="636" y="115"/>
                    </a:cubicBezTo>
                    <a:cubicBezTo>
                      <a:pt x="619" y="102"/>
                      <a:pt x="611" y="101"/>
                      <a:pt x="598" y="85"/>
                    </a:cubicBezTo>
                    <a:cubicBezTo>
                      <a:pt x="573" y="54"/>
                      <a:pt x="596" y="68"/>
                      <a:pt x="568" y="5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51"/>
              <p:cNvSpPr/>
              <p:nvPr/>
            </p:nvSpPr>
            <p:spPr>
              <a:xfrm rot="19521000">
                <a:off x="1361520" y="5326200"/>
                <a:ext cx="150840" cy="190800"/>
              </a:xfrm>
              <a:custGeom>
                <a:avLst/>
                <a:gdLst/>
                <a:ahLst/>
                <a:rect l="l" t="t" r="r" b="b"/>
                <a:pathLst>
                  <a:path w="729" h="925">
                    <a:moveTo>
                      <a:pt x="126" y="364"/>
                    </a:moveTo>
                    <a:cubicBezTo>
                      <a:pt x="130" y="336"/>
                      <a:pt x="139" y="309"/>
                      <a:pt x="141" y="281"/>
                    </a:cubicBezTo>
                    <a:cubicBezTo>
                      <a:pt x="146" y="202"/>
                      <a:pt x="107" y="57"/>
                      <a:pt x="194" y="0"/>
                    </a:cubicBezTo>
                    <a:cubicBezTo>
                      <a:pt x="235" y="11"/>
                      <a:pt x="237" y="21"/>
                      <a:pt x="247" y="61"/>
                    </a:cubicBezTo>
                    <a:cubicBezTo>
                      <a:pt x="249" y="94"/>
                      <a:pt x="250" y="126"/>
                      <a:pt x="254" y="159"/>
                    </a:cubicBezTo>
                    <a:cubicBezTo>
                      <a:pt x="258" y="189"/>
                      <a:pt x="278" y="215"/>
                      <a:pt x="292" y="243"/>
                    </a:cubicBezTo>
                    <a:cubicBezTo>
                      <a:pt x="303" y="266"/>
                      <a:pt x="309" y="294"/>
                      <a:pt x="315" y="318"/>
                    </a:cubicBezTo>
                    <a:cubicBezTo>
                      <a:pt x="336" y="314"/>
                      <a:pt x="364" y="320"/>
                      <a:pt x="376" y="303"/>
                    </a:cubicBezTo>
                    <a:cubicBezTo>
                      <a:pt x="388" y="286"/>
                      <a:pt x="392" y="248"/>
                      <a:pt x="398" y="227"/>
                    </a:cubicBezTo>
                    <a:cubicBezTo>
                      <a:pt x="411" y="184"/>
                      <a:pt x="431" y="145"/>
                      <a:pt x="451" y="106"/>
                    </a:cubicBezTo>
                    <a:cubicBezTo>
                      <a:pt x="466" y="75"/>
                      <a:pt x="471" y="42"/>
                      <a:pt x="504" y="30"/>
                    </a:cubicBezTo>
                    <a:cubicBezTo>
                      <a:pt x="540" y="42"/>
                      <a:pt x="532" y="59"/>
                      <a:pt x="558" y="83"/>
                    </a:cubicBezTo>
                    <a:cubicBezTo>
                      <a:pt x="560" y="93"/>
                      <a:pt x="560" y="105"/>
                      <a:pt x="565" y="114"/>
                    </a:cubicBezTo>
                    <a:cubicBezTo>
                      <a:pt x="570" y="123"/>
                      <a:pt x="586" y="126"/>
                      <a:pt x="588" y="137"/>
                    </a:cubicBezTo>
                    <a:cubicBezTo>
                      <a:pt x="621" y="370"/>
                      <a:pt x="525" y="368"/>
                      <a:pt x="664" y="394"/>
                    </a:cubicBezTo>
                    <a:cubicBezTo>
                      <a:pt x="729" y="493"/>
                      <a:pt x="673" y="584"/>
                      <a:pt x="618" y="667"/>
                    </a:cubicBezTo>
                    <a:cubicBezTo>
                      <a:pt x="608" y="682"/>
                      <a:pt x="585" y="684"/>
                      <a:pt x="573" y="697"/>
                    </a:cubicBezTo>
                    <a:cubicBezTo>
                      <a:pt x="555" y="716"/>
                      <a:pt x="546" y="727"/>
                      <a:pt x="520" y="735"/>
                    </a:cubicBezTo>
                    <a:cubicBezTo>
                      <a:pt x="483" y="770"/>
                      <a:pt x="469" y="819"/>
                      <a:pt x="444" y="864"/>
                    </a:cubicBezTo>
                    <a:cubicBezTo>
                      <a:pt x="429" y="890"/>
                      <a:pt x="376" y="925"/>
                      <a:pt x="376" y="925"/>
                    </a:cubicBezTo>
                    <a:cubicBezTo>
                      <a:pt x="361" y="922"/>
                      <a:pt x="345" y="922"/>
                      <a:pt x="330" y="917"/>
                    </a:cubicBezTo>
                    <a:cubicBezTo>
                      <a:pt x="304" y="908"/>
                      <a:pt x="292" y="879"/>
                      <a:pt x="270" y="864"/>
                    </a:cubicBezTo>
                    <a:cubicBezTo>
                      <a:pt x="265" y="856"/>
                      <a:pt x="261" y="848"/>
                      <a:pt x="254" y="841"/>
                    </a:cubicBezTo>
                    <a:cubicBezTo>
                      <a:pt x="248" y="835"/>
                      <a:pt x="237" y="833"/>
                      <a:pt x="232" y="826"/>
                    </a:cubicBezTo>
                    <a:cubicBezTo>
                      <a:pt x="207" y="787"/>
                      <a:pt x="231" y="766"/>
                      <a:pt x="186" y="750"/>
                    </a:cubicBezTo>
                    <a:cubicBezTo>
                      <a:pt x="155" y="719"/>
                      <a:pt x="117" y="668"/>
                      <a:pt x="80" y="644"/>
                    </a:cubicBezTo>
                    <a:cubicBezTo>
                      <a:pt x="63" y="620"/>
                      <a:pt x="52" y="607"/>
                      <a:pt x="27" y="591"/>
                    </a:cubicBezTo>
                    <a:cubicBezTo>
                      <a:pt x="19" y="568"/>
                      <a:pt x="12" y="546"/>
                      <a:pt x="4" y="523"/>
                    </a:cubicBezTo>
                    <a:cubicBezTo>
                      <a:pt x="10" y="478"/>
                      <a:pt x="0" y="447"/>
                      <a:pt x="42" y="432"/>
                    </a:cubicBezTo>
                    <a:cubicBezTo>
                      <a:pt x="83" y="370"/>
                      <a:pt x="64" y="394"/>
                      <a:pt x="126" y="36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52"/>
            <p:cNvGrpSpPr/>
            <p:nvPr/>
          </p:nvGrpSpPr>
          <p:grpSpPr>
            <a:xfrm>
              <a:off x="1390680" y="5375880"/>
              <a:ext cx="112680" cy="87840"/>
              <a:chOff x="1390680" y="5375880"/>
              <a:chExt cx="112680" cy="87840"/>
            </a:xfrm>
          </p:grpSpPr>
          <p:sp>
            <p:nvSpPr>
              <p:cNvPr id="83" name="Oval 53"/>
              <p:cNvSpPr/>
              <p:nvPr/>
            </p:nvSpPr>
            <p:spPr>
              <a:xfrm rot="17719800">
                <a:off x="1411200" y="5388480"/>
                <a:ext cx="46800" cy="7560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54"/>
              <p:cNvSpPr/>
              <p:nvPr/>
            </p:nvSpPr>
            <p:spPr>
              <a:xfrm rot="1519800">
                <a:off x="1451160" y="5381280"/>
                <a:ext cx="40320" cy="64080"/>
              </a:xfrm>
              <a:prstGeom prst="ellipse">
                <a:avLst/>
              </a:prstGeom>
              <a:gradFill rotWithShape="0">
                <a:gsLst>
                  <a:gs pos="0">
                    <a:srgbClr val="4d4d4d"/>
                  </a:gs>
                  <a:gs pos="100000">
                    <a:srgbClr val="4d4d4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55"/>
              <p:cNvSpPr/>
              <p:nvPr/>
            </p:nvSpPr>
            <p:spPr>
              <a:xfrm rot="17719800">
                <a:off x="1424880" y="5409000"/>
                <a:ext cx="20160" cy="33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56"/>
              <p:cNvSpPr/>
              <p:nvPr/>
            </p:nvSpPr>
            <p:spPr>
              <a:xfrm rot="1519800">
                <a:off x="1458720" y="5397840"/>
                <a:ext cx="20880" cy="3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Group 57"/>
          <p:cNvGrpSpPr/>
          <p:nvPr/>
        </p:nvGrpSpPr>
        <p:grpSpPr>
          <a:xfrm>
            <a:off x="3048120" y="1219320"/>
            <a:ext cx="2514600" cy="2361960"/>
            <a:chOff x="3048120" y="1219320"/>
            <a:chExt cx="2514600" cy="2361960"/>
          </a:xfrm>
        </p:grpSpPr>
        <p:sp>
          <p:nvSpPr>
            <p:cNvPr id="88" name="Oval 58"/>
            <p:cNvSpPr/>
            <p:nvPr/>
          </p:nvSpPr>
          <p:spPr>
            <a:xfrm>
              <a:off x="3048120" y="1219320"/>
              <a:ext cx="2514600" cy="236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9"/>
            <p:cNvSpPr/>
            <p:nvPr/>
          </p:nvSpPr>
          <p:spPr>
            <a:xfrm>
              <a:off x="3505320" y="1676160"/>
              <a:ext cx="1523880" cy="15238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Freeform 60"/>
          <p:cNvSpPr/>
          <p:nvPr/>
        </p:nvSpPr>
        <p:spPr>
          <a:xfrm>
            <a:off x="2730600" y="1122480"/>
            <a:ext cx="546120" cy="15552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61"/>
          <p:cNvSpPr/>
          <p:nvPr/>
        </p:nvSpPr>
        <p:spPr>
          <a:xfrm rot="21128400">
            <a:off x="3720960" y="1339560"/>
            <a:ext cx="317520" cy="903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2"/>
          <p:cNvSpPr/>
          <p:nvPr/>
        </p:nvSpPr>
        <p:spPr>
          <a:xfrm rot="678000">
            <a:off x="2208240" y="596880"/>
            <a:ext cx="457200" cy="795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63"/>
          <p:cNvSpPr/>
          <p:nvPr/>
        </p:nvSpPr>
        <p:spPr>
          <a:xfrm rot="1811400">
            <a:off x="457200" y="1371240"/>
            <a:ext cx="317520" cy="903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4"/>
          <p:cNvSpPr/>
          <p:nvPr/>
        </p:nvSpPr>
        <p:spPr>
          <a:xfrm>
            <a:off x="6435720" y="5702400"/>
            <a:ext cx="117360" cy="152280"/>
          </a:xfrm>
          <a:custGeom>
            <a:avLst/>
            <a:gdLst/>
            <a:ahLst/>
            <a:rect l="l" t="t" r="r" b="b"/>
            <a:pathLst>
              <a:path w="1185" h="1546">
                <a:moveTo>
                  <a:pt x="114" y="1478"/>
                </a:moveTo>
                <a:cubicBezTo>
                  <a:pt x="122" y="1475"/>
                  <a:pt x="131" y="1476"/>
                  <a:pt x="137" y="1470"/>
                </a:cubicBezTo>
                <a:cubicBezTo>
                  <a:pt x="155" y="1452"/>
                  <a:pt x="144" y="1408"/>
                  <a:pt x="175" y="1379"/>
                </a:cubicBezTo>
                <a:cubicBezTo>
                  <a:pt x="188" y="1340"/>
                  <a:pt x="222" y="1317"/>
                  <a:pt x="250" y="1288"/>
                </a:cubicBezTo>
                <a:cubicBezTo>
                  <a:pt x="293" y="1243"/>
                  <a:pt x="330" y="1181"/>
                  <a:pt x="364" y="1129"/>
                </a:cubicBezTo>
                <a:cubicBezTo>
                  <a:pt x="385" y="1096"/>
                  <a:pt x="397" y="1075"/>
                  <a:pt x="409" y="1038"/>
                </a:cubicBezTo>
                <a:cubicBezTo>
                  <a:pt x="414" y="1023"/>
                  <a:pt x="425" y="993"/>
                  <a:pt x="425" y="993"/>
                </a:cubicBezTo>
                <a:cubicBezTo>
                  <a:pt x="434" y="900"/>
                  <a:pt x="433" y="911"/>
                  <a:pt x="440" y="803"/>
                </a:cubicBezTo>
                <a:cubicBezTo>
                  <a:pt x="448" y="674"/>
                  <a:pt x="417" y="710"/>
                  <a:pt x="463" y="667"/>
                </a:cubicBezTo>
                <a:cubicBezTo>
                  <a:pt x="460" y="652"/>
                  <a:pt x="462" y="635"/>
                  <a:pt x="455" y="621"/>
                </a:cubicBezTo>
                <a:cubicBezTo>
                  <a:pt x="450" y="612"/>
                  <a:pt x="419" y="600"/>
                  <a:pt x="409" y="599"/>
                </a:cubicBezTo>
                <a:cubicBezTo>
                  <a:pt x="336" y="594"/>
                  <a:pt x="263" y="594"/>
                  <a:pt x="190" y="591"/>
                </a:cubicBezTo>
                <a:cubicBezTo>
                  <a:pt x="116" y="565"/>
                  <a:pt x="30" y="555"/>
                  <a:pt x="0" y="470"/>
                </a:cubicBezTo>
                <a:cubicBezTo>
                  <a:pt x="3" y="450"/>
                  <a:pt x="3" y="429"/>
                  <a:pt x="8" y="409"/>
                </a:cubicBezTo>
                <a:cubicBezTo>
                  <a:pt x="13" y="389"/>
                  <a:pt x="66" y="343"/>
                  <a:pt x="68" y="341"/>
                </a:cubicBezTo>
                <a:cubicBezTo>
                  <a:pt x="99" y="310"/>
                  <a:pt x="126" y="279"/>
                  <a:pt x="159" y="250"/>
                </a:cubicBezTo>
                <a:cubicBezTo>
                  <a:pt x="191" y="221"/>
                  <a:pt x="211" y="187"/>
                  <a:pt x="243" y="159"/>
                </a:cubicBezTo>
                <a:cubicBezTo>
                  <a:pt x="253" y="151"/>
                  <a:pt x="263" y="143"/>
                  <a:pt x="273" y="136"/>
                </a:cubicBezTo>
                <a:cubicBezTo>
                  <a:pt x="280" y="131"/>
                  <a:pt x="289" y="127"/>
                  <a:pt x="296" y="121"/>
                </a:cubicBezTo>
                <a:cubicBezTo>
                  <a:pt x="326" y="96"/>
                  <a:pt x="334" y="69"/>
                  <a:pt x="379" y="53"/>
                </a:cubicBezTo>
                <a:cubicBezTo>
                  <a:pt x="427" y="36"/>
                  <a:pt x="475" y="19"/>
                  <a:pt x="523" y="0"/>
                </a:cubicBezTo>
                <a:cubicBezTo>
                  <a:pt x="579" y="2"/>
                  <a:pt x="635" y="1"/>
                  <a:pt x="690" y="7"/>
                </a:cubicBezTo>
                <a:cubicBezTo>
                  <a:pt x="729" y="12"/>
                  <a:pt x="752" y="57"/>
                  <a:pt x="788" y="68"/>
                </a:cubicBezTo>
                <a:cubicBezTo>
                  <a:pt x="803" y="83"/>
                  <a:pt x="815" y="104"/>
                  <a:pt x="834" y="114"/>
                </a:cubicBezTo>
                <a:cubicBezTo>
                  <a:pt x="844" y="119"/>
                  <a:pt x="855" y="122"/>
                  <a:pt x="864" y="129"/>
                </a:cubicBezTo>
                <a:cubicBezTo>
                  <a:pt x="883" y="145"/>
                  <a:pt x="895" y="171"/>
                  <a:pt x="917" y="182"/>
                </a:cubicBezTo>
                <a:cubicBezTo>
                  <a:pt x="956" y="201"/>
                  <a:pt x="981" y="227"/>
                  <a:pt x="1016" y="250"/>
                </a:cubicBezTo>
                <a:cubicBezTo>
                  <a:pt x="1031" y="274"/>
                  <a:pt x="1050" y="291"/>
                  <a:pt x="1069" y="311"/>
                </a:cubicBezTo>
                <a:cubicBezTo>
                  <a:pt x="1090" y="377"/>
                  <a:pt x="1051" y="262"/>
                  <a:pt x="1114" y="386"/>
                </a:cubicBezTo>
                <a:cubicBezTo>
                  <a:pt x="1124" y="406"/>
                  <a:pt x="1145" y="447"/>
                  <a:pt x="1145" y="447"/>
                </a:cubicBezTo>
                <a:cubicBezTo>
                  <a:pt x="1185" y="617"/>
                  <a:pt x="1031" y="576"/>
                  <a:pt x="910" y="583"/>
                </a:cubicBezTo>
                <a:cubicBezTo>
                  <a:pt x="847" y="587"/>
                  <a:pt x="796" y="593"/>
                  <a:pt x="735" y="599"/>
                </a:cubicBezTo>
                <a:cubicBezTo>
                  <a:pt x="682" y="617"/>
                  <a:pt x="705" y="609"/>
                  <a:pt x="667" y="621"/>
                </a:cubicBezTo>
                <a:cubicBezTo>
                  <a:pt x="672" y="688"/>
                  <a:pt x="680" y="733"/>
                  <a:pt x="690" y="796"/>
                </a:cubicBezTo>
                <a:cubicBezTo>
                  <a:pt x="692" y="942"/>
                  <a:pt x="690" y="1089"/>
                  <a:pt x="697" y="1235"/>
                </a:cubicBezTo>
                <a:cubicBezTo>
                  <a:pt x="699" y="1280"/>
                  <a:pt x="749" y="1400"/>
                  <a:pt x="766" y="1447"/>
                </a:cubicBezTo>
                <a:cubicBezTo>
                  <a:pt x="741" y="1519"/>
                  <a:pt x="656" y="1529"/>
                  <a:pt x="591" y="1546"/>
                </a:cubicBezTo>
                <a:cubicBezTo>
                  <a:pt x="536" y="1539"/>
                  <a:pt x="492" y="1526"/>
                  <a:pt x="440" y="1508"/>
                </a:cubicBezTo>
                <a:cubicBezTo>
                  <a:pt x="349" y="1476"/>
                  <a:pt x="248" y="1503"/>
                  <a:pt x="152" y="1501"/>
                </a:cubicBezTo>
                <a:cubicBezTo>
                  <a:pt x="141" y="1490"/>
                  <a:pt x="128" y="1462"/>
                  <a:pt x="114" y="147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65"/>
          <p:cNvSpPr/>
          <p:nvPr/>
        </p:nvSpPr>
        <p:spPr>
          <a:xfrm rot="21402000">
            <a:off x="-76320" y="5460480"/>
            <a:ext cx="1074960" cy="165240"/>
          </a:xfrm>
          <a:custGeom>
            <a:avLst/>
            <a:gdLst/>
            <a:ahLst/>
            <a:rect l="l" t="t" r="r" b="b"/>
            <a:pathLst>
              <a:path w="2535" h="391">
                <a:moveTo>
                  <a:pt x="101" y="196"/>
                </a:moveTo>
                <a:cubicBezTo>
                  <a:pt x="92" y="102"/>
                  <a:pt x="81" y="128"/>
                  <a:pt x="124" y="82"/>
                </a:cubicBezTo>
                <a:cubicBezTo>
                  <a:pt x="131" y="87"/>
                  <a:pt x="137" y="98"/>
                  <a:pt x="146" y="98"/>
                </a:cubicBezTo>
                <a:cubicBezTo>
                  <a:pt x="162" y="98"/>
                  <a:pt x="192" y="82"/>
                  <a:pt x="192" y="82"/>
                </a:cubicBezTo>
                <a:cubicBezTo>
                  <a:pt x="250" y="102"/>
                  <a:pt x="181" y="86"/>
                  <a:pt x="230" y="67"/>
                </a:cubicBezTo>
                <a:cubicBezTo>
                  <a:pt x="238" y="64"/>
                  <a:pt x="245" y="72"/>
                  <a:pt x="253" y="75"/>
                </a:cubicBezTo>
                <a:cubicBezTo>
                  <a:pt x="255" y="83"/>
                  <a:pt x="253" y="94"/>
                  <a:pt x="260" y="98"/>
                </a:cubicBezTo>
                <a:cubicBezTo>
                  <a:pt x="267" y="102"/>
                  <a:pt x="276" y="85"/>
                  <a:pt x="283" y="90"/>
                </a:cubicBezTo>
                <a:cubicBezTo>
                  <a:pt x="298" y="101"/>
                  <a:pt x="313" y="136"/>
                  <a:pt x="313" y="136"/>
                </a:cubicBezTo>
                <a:cubicBezTo>
                  <a:pt x="330" y="118"/>
                  <a:pt x="345" y="104"/>
                  <a:pt x="366" y="90"/>
                </a:cubicBezTo>
                <a:cubicBezTo>
                  <a:pt x="382" y="135"/>
                  <a:pt x="361" y="99"/>
                  <a:pt x="404" y="105"/>
                </a:cubicBezTo>
                <a:cubicBezTo>
                  <a:pt x="413" y="106"/>
                  <a:pt x="419" y="115"/>
                  <a:pt x="427" y="120"/>
                </a:cubicBezTo>
                <a:cubicBezTo>
                  <a:pt x="445" y="157"/>
                  <a:pt x="452" y="167"/>
                  <a:pt x="488" y="143"/>
                </a:cubicBezTo>
                <a:cubicBezTo>
                  <a:pt x="506" y="203"/>
                  <a:pt x="475" y="125"/>
                  <a:pt x="533" y="173"/>
                </a:cubicBezTo>
                <a:cubicBezTo>
                  <a:pt x="541" y="180"/>
                  <a:pt x="538" y="194"/>
                  <a:pt x="541" y="204"/>
                </a:cubicBezTo>
                <a:cubicBezTo>
                  <a:pt x="548" y="199"/>
                  <a:pt x="554" y="191"/>
                  <a:pt x="563" y="189"/>
                </a:cubicBezTo>
                <a:cubicBezTo>
                  <a:pt x="571" y="188"/>
                  <a:pt x="578" y="196"/>
                  <a:pt x="586" y="196"/>
                </a:cubicBezTo>
                <a:cubicBezTo>
                  <a:pt x="614" y="196"/>
                  <a:pt x="641" y="185"/>
                  <a:pt x="669" y="181"/>
                </a:cubicBezTo>
                <a:cubicBezTo>
                  <a:pt x="688" y="154"/>
                  <a:pt x="698" y="126"/>
                  <a:pt x="715" y="98"/>
                </a:cubicBezTo>
                <a:cubicBezTo>
                  <a:pt x="728" y="100"/>
                  <a:pt x="740" y="102"/>
                  <a:pt x="753" y="105"/>
                </a:cubicBezTo>
                <a:cubicBezTo>
                  <a:pt x="761" y="107"/>
                  <a:pt x="770" y="118"/>
                  <a:pt x="776" y="113"/>
                </a:cubicBezTo>
                <a:cubicBezTo>
                  <a:pt x="784" y="107"/>
                  <a:pt x="781" y="92"/>
                  <a:pt x="783" y="82"/>
                </a:cubicBezTo>
                <a:cubicBezTo>
                  <a:pt x="812" y="90"/>
                  <a:pt x="824" y="103"/>
                  <a:pt x="851" y="113"/>
                </a:cubicBezTo>
                <a:cubicBezTo>
                  <a:pt x="856" y="103"/>
                  <a:pt x="855" y="85"/>
                  <a:pt x="866" y="82"/>
                </a:cubicBezTo>
                <a:cubicBezTo>
                  <a:pt x="887" y="76"/>
                  <a:pt x="915" y="109"/>
                  <a:pt x="927" y="120"/>
                </a:cubicBezTo>
                <a:cubicBezTo>
                  <a:pt x="956" y="83"/>
                  <a:pt x="958" y="70"/>
                  <a:pt x="1003" y="52"/>
                </a:cubicBezTo>
                <a:cubicBezTo>
                  <a:pt x="1005" y="37"/>
                  <a:pt x="999" y="18"/>
                  <a:pt x="1010" y="7"/>
                </a:cubicBezTo>
                <a:cubicBezTo>
                  <a:pt x="1017" y="0"/>
                  <a:pt x="1034" y="6"/>
                  <a:pt x="1041" y="14"/>
                </a:cubicBezTo>
                <a:cubicBezTo>
                  <a:pt x="1049" y="24"/>
                  <a:pt x="1046" y="39"/>
                  <a:pt x="1048" y="52"/>
                </a:cubicBezTo>
                <a:cubicBezTo>
                  <a:pt x="1053" y="47"/>
                  <a:pt x="1058" y="33"/>
                  <a:pt x="1064" y="37"/>
                </a:cubicBezTo>
                <a:cubicBezTo>
                  <a:pt x="1079" y="47"/>
                  <a:pt x="1094" y="82"/>
                  <a:pt x="1094" y="82"/>
                </a:cubicBezTo>
                <a:cubicBezTo>
                  <a:pt x="1162" y="61"/>
                  <a:pt x="1071" y="81"/>
                  <a:pt x="1132" y="98"/>
                </a:cubicBezTo>
                <a:cubicBezTo>
                  <a:pt x="1144" y="102"/>
                  <a:pt x="1157" y="93"/>
                  <a:pt x="1170" y="90"/>
                </a:cubicBezTo>
                <a:cubicBezTo>
                  <a:pt x="1177" y="93"/>
                  <a:pt x="1187" y="92"/>
                  <a:pt x="1192" y="98"/>
                </a:cubicBezTo>
                <a:cubicBezTo>
                  <a:pt x="1218" y="130"/>
                  <a:pt x="1178" y="136"/>
                  <a:pt x="1223" y="120"/>
                </a:cubicBezTo>
                <a:cubicBezTo>
                  <a:pt x="1225" y="130"/>
                  <a:pt x="1223" y="144"/>
                  <a:pt x="1230" y="151"/>
                </a:cubicBezTo>
                <a:cubicBezTo>
                  <a:pt x="1282" y="203"/>
                  <a:pt x="1248" y="115"/>
                  <a:pt x="1268" y="181"/>
                </a:cubicBezTo>
                <a:cubicBezTo>
                  <a:pt x="1276" y="173"/>
                  <a:pt x="1280" y="158"/>
                  <a:pt x="1291" y="158"/>
                </a:cubicBezTo>
                <a:cubicBezTo>
                  <a:pt x="1302" y="158"/>
                  <a:pt x="1306" y="174"/>
                  <a:pt x="1314" y="181"/>
                </a:cubicBezTo>
                <a:cubicBezTo>
                  <a:pt x="1321" y="187"/>
                  <a:pt x="1329" y="191"/>
                  <a:pt x="1336" y="196"/>
                </a:cubicBezTo>
                <a:cubicBezTo>
                  <a:pt x="1391" y="160"/>
                  <a:pt x="1333" y="187"/>
                  <a:pt x="1367" y="204"/>
                </a:cubicBezTo>
                <a:cubicBezTo>
                  <a:pt x="1374" y="207"/>
                  <a:pt x="1382" y="199"/>
                  <a:pt x="1389" y="196"/>
                </a:cubicBezTo>
                <a:cubicBezTo>
                  <a:pt x="1421" y="166"/>
                  <a:pt x="1386" y="189"/>
                  <a:pt x="1435" y="196"/>
                </a:cubicBezTo>
                <a:cubicBezTo>
                  <a:pt x="1445" y="197"/>
                  <a:pt x="1455" y="191"/>
                  <a:pt x="1465" y="189"/>
                </a:cubicBezTo>
                <a:cubicBezTo>
                  <a:pt x="1486" y="160"/>
                  <a:pt x="1496" y="133"/>
                  <a:pt x="1526" y="113"/>
                </a:cubicBezTo>
                <a:cubicBezTo>
                  <a:pt x="1541" y="162"/>
                  <a:pt x="1538" y="119"/>
                  <a:pt x="1586" y="136"/>
                </a:cubicBezTo>
                <a:cubicBezTo>
                  <a:pt x="1613" y="187"/>
                  <a:pt x="1648" y="181"/>
                  <a:pt x="1700" y="189"/>
                </a:cubicBezTo>
                <a:cubicBezTo>
                  <a:pt x="1703" y="201"/>
                  <a:pt x="1695" y="226"/>
                  <a:pt x="1708" y="226"/>
                </a:cubicBezTo>
                <a:cubicBezTo>
                  <a:pt x="1726" y="226"/>
                  <a:pt x="1746" y="189"/>
                  <a:pt x="1746" y="189"/>
                </a:cubicBezTo>
                <a:cubicBezTo>
                  <a:pt x="1797" y="205"/>
                  <a:pt x="1761" y="220"/>
                  <a:pt x="1821" y="196"/>
                </a:cubicBezTo>
                <a:cubicBezTo>
                  <a:pt x="1826" y="201"/>
                  <a:pt x="1830" y="211"/>
                  <a:pt x="1837" y="211"/>
                </a:cubicBezTo>
                <a:cubicBezTo>
                  <a:pt x="1846" y="211"/>
                  <a:pt x="1851" y="199"/>
                  <a:pt x="1859" y="196"/>
                </a:cubicBezTo>
                <a:cubicBezTo>
                  <a:pt x="1887" y="184"/>
                  <a:pt x="1914" y="180"/>
                  <a:pt x="1943" y="166"/>
                </a:cubicBezTo>
                <a:cubicBezTo>
                  <a:pt x="1956" y="168"/>
                  <a:pt x="1970" y="166"/>
                  <a:pt x="1981" y="173"/>
                </a:cubicBezTo>
                <a:cubicBezTo>
                  <a:pt x="1988" y="177"/>
                  <a:pt x="1982" y="190"/>
                  <a:pt x="1988" y="196"/>
                </a:cubicBezTo>
                <a:cubicBezTo>
                  <a:pt x="2017" y="225"/>
                  <a:pt x="2031" y="225"/>
                  <a:pt x="2064" y="234"/>
                </a:cubicBezTo>
                <a:cubicBezTo>
                  <a:pt x="2084" y="194"/>
                  <a:pt x="2085" y="185"/>
                  <a:pt x="2125" y="211"/>
                </a:cubicBezTo>
                <a:cubicBezTo>
                  <a:pt x="2140" y="146"/>
                  <a:pt x="2116" y="204"/>
                  <a:pt x="2162" y="189"/>
                </a:cubicBezTo>
                <a:cubicBezTo>
                  <a:pt x="2171" y="186"/>
                  <a:pt x="2173" y="174"/>
                  <a:pt x="2178" y="166"/>
                </a:cubicBezTo>
                <a:cubicBezTo>
                  <a:pt x="2191" y="124"/>
                  <a:pt x="2202" y="147"/>
                  <a:pt x="2231" y="166"/>
                </a:cubicBezTo>
                <a:cubicBezTo>
                  <a:pt x="2243" y="126"/>
                  <a:pt x="2252" y="130"/>
                  <a:pt x="2284" y="151"/>
                </a:cubicBezTo>
                <a:cubicBezTo>
                  <a:pt x="2313" y="107"/>
                  <a:pt x="2282" y="86"/>
                  <a:pt x="2337" y="113"/>
                </a:cubicBezTo>
                <a:cubicBezTo>
                  <a:pt x="2341" y="120"/>
                  <a:pt x="2360" y="155"/>
                  <a:pt x="2375" y="151"/>
                </a:cubicBezTo>
                <a:cubicBezTo>
                  <a:pt x="2383" y="149"/>
                  <a:pt x="2380" y="136"/>
                  <a:pt x="2382" y="128"/>
                </a:cubicBezTo>
                <a:cubicBezTo>
                  <a:pt x="2395" y="155"/>
                  <a:pt x="2405" y="182"/>
                  <a:pt x="2413" y="211"/>
                </a:cubicBezTo>
                <a:cubicBezTo>
                  <a:pt x="2416" y="221"/>
                  <a:pt x="2413" y="234"/>
                  <a:pt x="2420" y="242"/>
                </a:cubicBezTo>
                <a:cubicBezTo>
                  <a:pt x="2427" y="249"/>
                  <a:pt x="2440" y="247"/>
                  <a:pt x="2450" y="249"/>
                </a:cubicBezTo>
                <a:cubicBezTo>
                  <a:pt x="2463" y="267"/>
                  <a:pt x="2535" y="360"/>
                  <a:pt x="2458" y="363"/>
                </a:cubicBezTo>
                <a:cubicBezTo>
                  <a:pt x="1647" y="391"/>
                  <a:pt x="836" y="358"/>
                  <a:pt x="25" y="355"/>
                </a:cubicBezTo>
                <a:cubicBezTo>
                  <a:pt x="36" y="180"/>
                  <a:pt x="0" y="223"/>
                  <a:pt x="86" y="249"/>
                </a:cubicBezTo>
                <a:cubicBezTo>
                  <a:pt x="97" y="214"/>
                  <a:pt x="81" y="189"/>
                  <a:pt x="124" y="204"/>
                </a:cubicBezTo>
                <a:cubicBezTo>
                  <a:pt x="106" y="176"/>
                  <a:pt x="113" y="173"/>
                  <a:pt x="101" y="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66"/>
          <p:cNvSpPr/>
          <p:nvPr/>
        </p:nvSpPr>
        <p:spPr>
          <a:xfrm rot="21402000">
            <a:off x="2455560" y="5435280"/>
            <a:ext cx="1074600" cy="165240"/>
          </a:xfrm>
          <a:custGeom>
            <a:avLst/>
            <a:gdLst/>
            <a:ahLst/>
            <a:rect l="l" t="t" r="r" b="b"/>
            <a:pathLst>
              <a:path w="2535" h="391">
                <a:moveTo>
                  <a:pt x="101" y="196"/>
                </a:moveTo>
                <a:cubicBezTo>
                  <a:pt x="92" y="102"/>
                  <a:pt x="81" y="128"/>
                  <a:pt x="124" y="82"/>
                </a:cubicBezTo>
                <a:cubicBezTo>
                  <a:pt x="131" y="87"/>
                  <a:pt x="137" y="98"/>
                  <a:pt x="146" y="98"/>
                </a:cubicBezTo>
                <a:cubicBezTo>
                  <a:pt x="162" y="98"/>
                  <a:pt x="192" y="82"/>
                  <a:pt x="192" y="82"/>
                </a:cubicBezTo>
                <a:cubicBezTo>
                  <a:pt x="250" y="102"/>
                  <a:pt x="181" y="86"/>
                  <a:pt x="230" y="67"/>
                </a:cubicBezTo>
                <a:cubicBezTo>
                  <a:pt x="238" y="64"/>
                  <a:pt x="245" y="72"/>
                  <a:pt x="253" y="75"/>
                </a:cubicBezTo>
                <a:cubicBezTo>
                  <a:pt x="255" y="83"/>
                  <a:pt x="253" y="94"/>
                  <a:pt x="260" y="98"/>
                </a:cubicBezTo>
                <a:cubicBezTo>
                  <a:pt x="267" y="102"/>
                  <a:pt x="276" y="85"/>
                  <a:pt x="283" y="90"/>
                </a:cubicBezTo>
                <a:cubicBezTo>
                  <a:pt x="298" y="101"/>
                  <a:pt x="313" y="136"/>
                  <a:pt x="313" y="136"/>
                </a:cubicBezTo>
                <a:cubicBezTo>
                  <a:pt x="330" y="118"/>
                  <a:pt x="345" y="104"/>
                  <a:pt x="366" y="90"/>
                </a:cubicBezTo>
                <a:cubicBezTo>
                  <a:pt x="382" y="135"/>
                  <a:pt x="361" y="99"/>
                  <a:pt x="404" y="105"/>
                </a:cubicBezTo>
                <a:cubicBezTo>
                  <a:pt x="413" y="106"/>
                  <a:pt x="419" y="115"/>
                  <a:pt x="427" y="120"/>
                </a:cubicBezTo>
                <a:cubicBezTo>
                  <a:pt x="445" y="157"/>
                  <a:pt x="452" y="167"/>
                  <a:pt x="488" y="143"/>
                </a:cubicBezTo>
                <a:cubicBezTo>
                  <a:pt x="506" y="203"/>
                  <a:pt x="475" y="125"/>
                  <a:pt x="533" y="173"/>
                </a:cubicBezTo>
                <a:cubicBezTo>
                  <a:pt x="541" y="180"/>
                  <a:pt x="538" y="194"/>
                  <a:pt x="541" y="204"/>
                </a:cubicBezTo>
                <a:cubicBezTo>
                  <a:pt x="548" y="199"/>
                  <a:pt x="554" y="191"/>
                  <a:pt x="563" y="189"/>
                </a:cubicBezTo>
                <a:cubicBezTo>
                  <a:pt x="571" y="188"/>
                  <a:pt x="578" y="196"/>
                  <a:pt x="586" y="196"/>
                </a:cubicBezTo>
                <a:cubicBezTo>
                  <a:pt x="614" y="196"/>
                  <a:pt x="641" y="185"/>
                  <a:pt x="669" y="181"/>
                </a:cubicBezTo>
                <a:cubicBezTo>
                  <a:pt x="688" y="154"/>
                  <a:pt x="698" y="126"/>
                  <a:pt x="715" y="98"/>
                </a:cubicBezTo>
                <a:cubicBezTo>
                  <a:pt x="728" y="100"/>
                  <a:pt x="740" y="102"/>
                  <a:pt x="753" y="105"/>
                </a:cubicBezTo>
                <a:cubicBezTo>
                  <a:pt x="761" y="107"/>
                  <a:pt x="770" y="118"/>
                  <a:pt x="776" y="113"/>
                </a:cubicBezTo>
                <a:cubicBezTo>
                  <a:pt x="784" y="107"/>
                  <a:pt x="781" y="92"/>
                  <a:pt x="783" y="82"/>
                </a:cubicBezTo>
                <a:cubicBezTo>
                  <a:pt x="812" y="90"/>
                  <a:pt x="824" y="103"/>
                  <a:pt x="851" y="113"/>
                </a:cubicBezTo>
                <a:cubicBezTo>
                  <a:pt x="856" y="103"/>
                  <a:pt x="855" y="85"/>
                  <a:pt x="866" y="82"/>
                </a:cubicBezTo>
                <a:cubicBezTo>
                  <a:pt x="887" y="76"/>
                  <a:pt x="915" y="109"/>
                  <a:pt x="927" y="120"/>
                </a:cubicBezTo>
                <a:cubicBezTo>
                  <a:pt x="956" y="83"/>
                  <a:pt x="958" y="70"/>
                  <a:pt x="1003" y="52"/>
                </a:cubicBezTo>
                <a:cubicBezTo>
                  <a:pt x="1005" y="37"/>
                  <a:pt x="999" y="18"/>
                  <a:pt x="1010" y="7"/>
                </a:cubicBezTo>
                <a:cubicBezTo>
                  <a:pt x="1017" y="0"/>
                  <a:pt x="1034" y="6"/>
                  <a:pt x="1041" y="14"/>
                </a:cubicBezTo>
                <a:cubicBezTo>
                  <a:pt x="1049" y="24"/>
                  <a:pt x="1046" y="39"/>
                  <a:pt x="1048" y="52"/>
                </a:cubicBezTo>
                <a:cubicBezTo>
                  <a:pt x="1053" y="47"/>
                  <a:pt x="1058" y="33"/>
                  <a:pt x="1064" y="37"/>
                </a:cubicBezTo>
                <a:cubicBezTo>
                  <a:pt x="1079" y="47"/>
                  <a:pt x="1094" y="82"/>
                  <a:pt x="1094" y="82"/>
                </a:cubicBezTo>
                <a:cubicBezTo>
                  <a:pt x="1162" y="61"/>
                  <a:pt x="1071" y="81"/>
                  <a:pt x="1132" y="98"/>
                </a:cubicBezTo>
                <a:cubicBezTo>
                  <a:pt x="1144" y="102"/>
                  <a:pt x="1157" y="93"/>
                  <a:pt x="1170" y="90"/>
                </a:cubicBezTo>
                <a:cubicBezTo>
                  <a:pt x="1177" y="93"/>
                  <a:pt x="1187" y="92"/>
                  <a:pt x="1192" y="98"/>
                </a:cubicBezTo>
                <a:cubicBezTo>
                  <a:pt x="1218" y="130"/>
                  <a:pt x="1178" y="136"/>
                  <a:pt x="1223" y="120"/>
                </a:cubicBezTo>
                <a:cubicBezTo>
                  <a:pt x="1225" y="130"/>
                  <a:pt x="1223" y="144"/>
                  <a:pt x="1230" y="151"/>
                </a:cubicBezTo>
                <a:cubicBezTo>
                  <a:pt x="1282" y="203"/>
                  <a:pt x="1248" y="115"/>
                  <a:pt x="1268" y="181"/>
                </a:cubicBezTo>
                <a:cubicBezTo>
                  <a:pt x="1276" y="173"/>
                  <a:pt x="1280" y="158"/>
                  <a:pt x="1291" y="158"/>
                </a:cubicBezTo>
                <a:cubicBezTo>
                  <a:pt x="1302" y="158"/>
                  <a:pt x="1306" y="174"/>
                  <a:pt x="1314" y="181"/>
                </a:cubicBezTo>
                <a:cubicBezTo>
                  <a:pt x="1321" y="187"/>
                  <a:pt x="1329" y="191"/>
                  <a:pt x="1336" y="196"/>
                </a:cubicBezTo>
                <a:cubicBezTo>
                  <a:pt x="1391" y="160"/>
                  <a:pt x="1333" y="187"/>
                  <a:pt x="1367" y="204"/>
                </a:cubicBezTo>
                <a:cubicBezTo>
                  <a:pt x="1374" y="207"/>
                  <a:pt x="1382" y="199"/>
                  <a:pt x="1389" y="196"/>
                </a:cubicBezTo>
                <a:cubicBezTo>
                  <a:pt x="1421" y="166"/>
                  <a:pt x="1386" y="189"/>
                  <a:pt x="1435" y="196"/>
                </a:cubicBezTo>
                <a:cubicBezTo>
                  <a:pt x="1445" y="197"/>
                  <a:pt x="1455" y="191"/>
                  <a:pt x="1465" y="189"/>
                </a:cubicBezTo>
                <a:cubicBezTo>
                  <a:pt x="1486" y="160"/>
                  <a:pt x="1496" y="133"/>
                  <a:pt x="1526" y="113"/>
                </a:cubicBezTo>
                <a:cubicBezTo>
                  <a:pt x="1541" y="162"/>
                  <a:pt x="1538" y="119"/>
                  <a:pt x="1586" y="136"/>
                </a:cubicBezTo>
                <a:cubicBezTo>
                  <a:pt x="1613" y="187"/>
                  <a:pt x="1648" y="181"/>
                  <a:pt x="1700" y="189"/>
                </a:cubicBezTo>
                <a:cubicBezTo>
                  <a:pt x="1703" y="201"/>
                  <a:pt x="1695" y="226"/>
                  <a:pt x="1708" y="226"/>
                </a:cubicBezTo>
                <a:cubicBezTo>
                  <a:pt x="1726" y="226"/>
                  <a:pt x="1746" y="189"/>
                  <a:pt x="1746" y="189"/>
                </a:cubicBezTo>
                <a:cubicBezTo>
                  <a:pt x="1797" y="205"/>
                  <a:pt x="1761" y="220"/>
                  <a:pt x="1821" y="196"/>
                </a:cubicBezTo>
                <a:cubicBezTo>
                  <a:pt x="1826" y="201"/>
                  <a:pt x="1830" y="211"/>
                  <a:pt x="1837" y="211"/>
                </a:cubicBezTo>
                <a:cubicBezTo>
                  <a:pt x="1846" y="211"/>
                  <a:pt x="1851" y="199"/>
                  <a:pt x="1859" y="196"/>
                </a:cubicBezTo>
                <a:cubicBezTo>
                  <a:pt x="1887" y="184"/>
                  <a:pt x="1914" y="180"/>
                  <a:pt x="1943" y="166"/>
                </a:cubicBezTo>
                <a:cubicBezTo>
                  <a:pt x="1956" y="168"/>
                  <a:pt x="1970" y="166"/>
                  <a:pt x="1981" y="173"/>
                </a:cubicBezTo>
                <a:cubicBezTo>
                  <a:pt x="1988" y="177"/>
                  <a:pt x="1982" y="190"/>
                  <a:pt x="1988" y="196"/>
                </a:cubicBezTo>
                <a:cubicBezTo>
                  <a:pt x="2017" y="225"/>
                  <a:pt x="2031" y="225"/>
                  <a:pt x="2064" y="234"/>
                </a:cubicBezTo>
                <a:cubicBezTo>
                  <a:pt x="2084" y="194"/>
                  <a:pt x="2085" y="185"/>
                  <a:pt x="2125" y="211"/>
                </a:cubicBezTo>
                <a:cubicBezTo>
                  <a:pt x="2140" y="146"/>
                  <a:pt x="2116" y="204"/>
                  <a:pt x="2162" y="189"/>
                </a:cubicBezTo>
                <a:cubicBezTo>
                  <a:pt x="2171" y="186"/>
                  <a:pt x="2173" y="174"/>
                  <a:pt x="2178" y="166"/>
                </a:cubicBezTo>
                <a:cubicBezTo>
                  <a:pt x="2191" y="124"/>
                  <a:pt x="2202" y="147"/>
                  <a:pt x="2231" y="166"/>
                </a:cubicBezTo>
                <a:cubicBezTo>
                  <a:pt x="2243" y="126"/>
                  <a:pt x="2252" y="130"/>
                  <a:pt x="2284" y="151"/>
                </a:cubicBezTo>
                <a:cubicBezTo>
                  <a:pt x="2313" y="107"/>
                  <a:pt x="2282" y="86"/>
                  <a:pt x="2337" y="113"/>
                </a:cubicBezTo>
                <a:cubicBezTo>
                  <a:pt x="2341" y="120"/>
                  <a:pt x="2360" y="155"/>
                  <a:pt x="2375" y="151"/>
                </a:cubicBezTo>
                <a:cubicBezTo>
                  <a:pt x="2383" y="149"/>
                  <a:pt x="2380" y="136"/>
                  <a:pt x="2382" y="128"/>
                </a:cubicBezTo>
                <a:cubicBezTo>
                  <a:pt x="2395" y="155"/>
                  <a:pt x="2405" y="182"/>
                  <a:pt x="2413" y="211"/>
                </a:cubicBezTo>
                <a:cubicBezTo>
                  <a:pt x="2416" y="221"/>
                  <a:pt x="2413" y="234"/>
                  <a:pt x="2420" y="242"/>
                </a:cubicBezTo>
                <a:cubicBezTo>
                  <a:pt x="2427" y="249"/>
                  <a:pt x="2440" y="247"/>
                  <a:pt x="2450" y="249"/>
                </a:cubicBezTo>
                <a:cubicBezTo>
                  <a:pt x="2463" y="267"/>
                  <a:pt x="2535" y="360"/>
                  <a:pt x="2458" y="363"/>
                </a:cubicBezTo>
                <a:cubicBezTo>
                  <a:pt x="1647" y="391"/>
                  <a:pt x="836" y="358"/>
                  <a:pt x="25" y="355"/>
                </a:cubicBezTo>
                <a:cubicBezTo>
                  <a:pt x="36" y="180"/>
                  <a:pt x="0" y="223"/>
                  <a:pt x="86" y="249"/>
                </a:cubicBezTo>
                <a:cubicBezTo>
                  <a:pt x="97" y="214"/>
                  <a:pt x="81" y="189"/>
                  <a:pt x="124" y="204"/>
                </a:cubicBezTo>
                <a:cubicBezTo>
                  <a:pt x="106" y="176"/>
                  <a:pt x="113" y="173"/>
                  <a:pt x="101" y="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7"/>
          <p:cNvSpPr/>
          <p:nvPr/>
        </p:nvSpPr>
        <p:spPr>
          <a:xfrm rot="21402000">
            <a:off x="5617800" y="5727240"/>
            <a:ext cx="1074600" cy="165240"/>
          </a:xfrm>
          <a:custGeom>
            <a:avLst/>
            <a:gdLst/>
            <a:ahLst/>
            <a:rect l="l" t="t" r="r" b="b"/>
            <a:pathLst>
              <a:path w="2535" h="391">
                <a:moveTo>
                  <a:pt x="101" y="196"/>
                </a:moveTo>
                <a:cubicBezTo>
                  <a:pt x="92" y="102"/>
                  <a:pt x="81" y="128"/>
                  <a:pt x="124" y="82"/>
                </a:cubicBezTo>
                <a:cubicBezTo>
                  <a:pt x="131" y="87"/>
                  <a:pt x="137" y="98"/>
                  <a:pt x="146" y="98"/>
                </a:cubicBezTo>
                <a:cubicBezTo>
                  <a:pt x="162" y="98"/>
                  <a:pt x="192" y="82"/>
                  <a:pt x="192" y="82"/>
                </a:cubicBezTo>
                <a:cubicBezTo>
                  <a:pt x="250" y="102"/>
                  <a:pt x="181" y="86"/>
                  <a:pt x="230" y="67"/>
                </a:cubicBezTo>
                <a:cubicBezTo>
                  <a:pt x="238" y="64"/>
                  <a:pt x="245" y="72"/>
                  <a:pt x="253" y="75"/>
                </a:cubicBezTo>
                <a:cubicBezTo>
                  <a:pt x="255" y="83"/>
                  <a:pt x="253" y="94"/>
                  <a:pt x="260" y="98"/>
                </a:cubicBezTo>
                <a:cubicBezTo>
                  <a:pt x="267" y="102"/>
                  <a:pt x="276" y="85"/>
                  <a:pt x="283" y="90"/>
                </a:cubicBezTo>
                <a:cubicBezTo>
                  <a:pt x="298" y="101"/>
                  <a:pt x="313" y="136"/>
                  <a:pt x="313" y="136"/>
                </a:cubicBezTo>
                <a:cubicBezTo>
                  <a:pt x="330" y="118"/>
                  <a:pt x="345" y="104"/>
                  <a:pt x="366" y="90"/>
                </a:cubicBezTo>
                <a:cubicBezTo>
                  <a:pt x="382" y="135"/>
                  <a:pt x="361" y="99"/>
                  <a:pt x="404" y="105"/>
                </a:cubicBezTo>
                <a:cubicBezTo>
                  <a:pt x="413" y="106"/>
                  <a:pt x="419" y="115"/>
                  <a:pt x="427" y="120"/>
                </a:cubicBezTo>
                <a:cubicBezTo>
                  <a:pt x="445" y="157"/>
                  <a:pt x="452" y="167"/>
                  <a:pt x="488" y="143"/>
                </a:cubicBezTo>
                <a:cubicBezTo>
                  <a:pt x="506" y="203"/>
                  <a:pt x="475" y="125"/>
                  <a:pt x="533" y="173"/>
                </a:cubicBezTo>
                <a:cubicBezTo>
                  <a:pt x="541" y="180"/>
                  <a:pt x="538" y="194"/>
                  <a:pt x="541" y="204"/>
                </a:cubicBezTo>
                <a:cubicBezTo>
                  <a:pt x="548" y="199"/>
                  <a:pt x="554" y="191"/>
                  <a:pt x="563" y="189"/>
                </a:cubicBezTo>
                <a:cubicBezTo>
                  <a:pt x="571" y="188"/>
                  <a:pt x="578" y="196"/>
                  <a:pt x="586" y="196"/>
                </a:cubicBezTo>
                <a:cubicBezTo>
                  <a:pt x="614" y="196"/>
                  <a:pt x="641" y="185"/>
                  <a:pt x="669" y="181"/>
                </a:cubicBezTo>
                <a:cubicBezTo>
                  <a:pt x="688" y="154"/>
                  <a:pt x="698" y="126"/>
                  <a:pt x="715" y="98"/>
                </a:cubicBezTo>
                <a:cubicBezTo>
                  <a:pt x="728" y="100"/>
                  <a:pt x="740" y="102"/>
                  <a:pt x="753" y="105"/>
                </a:cubicBezTo>
                <a:cubicBezTo>
                  <a:pt x="761" y="107"/>
                  <a:pt x="770" y="118"/>
                  <a:pt x="776" y="113"/>
                </a:cubicBezTo>
                <a:cubicBezTo>
                  <a:pt x="784" y="107"/>
                  <a:pt x="781" y="92"/>
                  <a:pt x="783" y="82"/>
                </a:cubicBezTo>
                <a:cubicBezTo>
                  <a:pt x="812" y="90"/>
                  <a:pt x="824" y="103"/>
                  <a:pt x="851" y="113"/>
                </a:cubicBezTo>
                <a:cubicBezTo>
                  <a:pt x="856" y="103"/>
                  <a:pt x="855" y="85"/>
                  <a:pt x="866" y="82"/>
                </a:cubicBezTo>
                <a:cubicBezTo>
                  <a:pt x="887" y="76"/>
                  <a:pt x="915" y="109"/>
                  <a:pt x="927" y="120"/>
                </a:cubicBezTo>
                <a:cubicBezTo>
                  <a:pt x="956" y="83"/>
                  <a:pt x="958" y="70"/>
                  <a:pt x="1003" y="52"/>
                </a:cubicBezTo>
                <a:cubicBezTo>
                  <a:pt x="1005" y="37"/>
                  <a:pt x="999" y="18"/>
                  <a:pt x="1010" y="7"/>
                </a:cubicBezTo>
                <a:cubicBezTo>
                  <a:pt x="1017" y="0"/>
                  <a:pt x="1034" y="6"/>
                  <a:pt x="1041" y="14"/>
                </a:cubicBezTo>
                <a:cubicBezTo>
                  <a:pt x="1049" y="24"/>
                  <a:pt x="1046" y="39"/>
                  <a:pt x="1048" y="52"/>
                </a:cubicBezTo>
                <a:cubicBezTo>
                  <a:pt x="1053" y="47"/>
                  <a:pt x="1058" y="33"/>
                  <a:pt x="1064" y="37"/>
                </a:cubicBezTo>
                <a:cubicBezTo>
                  <a:pt x="1079" y="47"/>
                  <a:pt x="1094" y="82"/>
                  <a:pt x="1094" y="82"/>
                </a:cubicBezTo>
                <a:cubicBezTo>
                  <a:pt x="1162" y="61"/>
                  <a:pt x="1071" y="81"/>
                  <a:pt x="1132" y="98"/>
                </a:cubicBezTo>
                <a:cubicBezTo>
                  <a:pt x="1144" y="102"/>
                  <a:pt x="1157" y="93"/>
                  <a:pt x="1170" y="90"/>
                </a:cubicBezTo>
                <a:cubicBezTo>
                  <a:pt x="1177" y="93"/>
                  <a:pt x="1187" y="92"/>
                  <a:pt x="1192" y="98"/>
                </a:cubicBezTo>
                <a:cubicBezTo>
                  <a:pt x="1218" y="130"/>
                  <a:pt x="1178" y="136"/>
                  <a:pt x="1223" y="120"/>
                </a:cubicBezTo>
                <a:cubicBezTo>
                  <a:pt x="1225" y="130"/>
                  <a:pt x="1223" y="144"/>
                  <a:pt x="1230" y="151"/>
                </a:cubicBezTo>
                <a:cubicBezTo>
                  <a:pt x="1282" y="203"/>
                  <a:pt x="1248" y="115"/>
                  <a:pt x="1268" y="181"/>
                </a:cubicBezTo>
                <a:cubicBezTo>
                  <a:pt x="1276" y="173"/>
                  <a:pt x="1280" y="158"/>
                  <a:pt x="1291" y="158"/>
                </a:cubicBezTo>
                <a:cubicBezTo>
                  <a:pt x="1302" y="158"/>
                  <a:pt x="1306" y="174"/>
                  <a:pt x="1314" y="181"/>
                </a:cubicBezTo>
                <a:cubicBezTo>
                  <a:pt x="1321" y="187"/>
                  <a:pt x="1329" y="191"/>
                  <a:pt x="1336" y="196"/>
                </a:cubicBezTo>
                <a:cubicBezTo>
                  <a:pt x="1391" y="160"/>
                  <a:pt x="1333" y="187"/>
                  <a:pt x="1367" y="204"/>
                </a:cubicBezTo>
                <a:cubicBezTo>
                  <a:pt x="1374" y="207"/>
                  <a:pt x="1382" y="199"/>
                  <a:pt x="1389" y="196"/>
                </a:cubicBezTo>
                <a:cubicBezTo>
                  <a:pt x="1421" y="166"/>
                  <a:pt x="1386" y="189"/>
                  <a:pt x="1435" y="196"/>
                </a:cubicBezTo>
                <a:cubicBezTo>
                  <a:pt x="1445" y="197"/>
                  <a:pt x="1455" y="191"/>
                  <a:pt x="1465" y="189"/>
                </a:cubicBezTo>
                <a:cubicBezTo>
                  <a:pt x="1486" y="160"/>
                  <a:pt x="1496" y="133"/>
                  <a:pt x="1526" y="113"/>
                </a:cubicBezTo>
                <a:cubicBezTo>
                  <a:pt x="1541" y="162"/>
                  <a:pt x="1538" y="119"/>
                  <a:pt x="1586" y="136"/>
                </a:cubicBezTo>
                <a:cubicBezTo>
                  <a:pt x="1613" y="187"/>
                  <a:pt x="1648" y="181"/>
                  <a:pt x="1700" y="189"/>
                </a:cubicBezTo>
                <a:cubicBezTo>
                  <a:pt x="1703" y="201"/>
                  <a:pt x="1695" y="226"/>
                  <a:pt x="1708" y="226"/>
                </a:cubicBezTo>
                <a:cubicBezTo>
                  <a:pt x="1726" y="226"/>
                  <a:pt x="1746" y="189"/>
                  <a:pt x="1746" y="189"/>
                </a:cubicBezTo>
                <a:cubicBezTo>
                  <a:pt x="1797" y="205"/>
                  <a:pt x="1761" y="220"/>
                  <a:pt x="1821" y="196"/>
                </a:cubicBezTo>
                <a:cubicBezTo>
                  <a:pt x="1826" y="201"/>
                  <a:pt x="1830" y="211"/>
                  <a:pt x="1837" y="211"/>
                </a:cubicBezTo>
                <a:cubicBezTo>
                  <a:pt x="1846" y="211"/>
                  <a:pt x="1851" y="199"/>
                  <a:pt x="1859" y="196"/>
                </a:cubicBezTo>
                <a:cubicBezTo>
                  <a:pt x="1887" y="184"/>
                  <a:pt x="1914" y="180"/>
                  <a:pt x="1943" y="166"/>
                </a:cubicBezTo>
                <a:cubicBezTo>
                  <a:pt x="1956" y="168"/>
                  <a:pt x="1970" y="166"/>
                  <a:pt x="1981" y="173"/>
                </a:cubicBezTo>
                <a:cubicBezTo>
                  <a:pt x="1988" y="177"/>
                  <a:pt x="1982" y="190"/>
                  <a:pt x="1988" y="196"/>
                </a:cubicBezTo>
                <a:cubicBezTo>
                  <a:pt x="2017" y="225"/>
                  <a:pt x="2031" y="225"/>
                  <a:pt x="2064" y="234"/>
                </a:cubicBezTo>
                <a:cubicBezTo>
                  <a:pt x="2084" y="194"/>
                  <a:pt x="2085" y="185"/>
                  <a:pt x="2125" y="211"/>
                </a:cubicBezTo>
                <a:cubicBezTo>
                  <a:pt x="2140" y="146"/>
                  <a:pt x="2116" y="204"/>
                  <a:pt x="2162" y="189"/>
                </a:cubicBezTo>
                <a:cubicBezTo>
                  <a:pt x="2171" y="186"/>
                  <a:pt x="2173" y="174"/>
                  <a:pt x="2178" y="166"/>
                </a:cubicBezTo>
                <a:cubicBezTo>
                  <a:pt x="2191" y="124"/>
                  <a:pt x="2202" y="147"/>
                  <a:pt x="2231" y="166"/>
                </a:cubicBezTo>
                <a:cubicBezTo>
                  <a:pt x="2243" y="126"/>
                  <a:pt x="2252" y="130"/>
                  <a:pt x="2284" y="151"/>
                </a:cubicBezTo>
                <a:cubicBezTo>
                  <a:pt x="2313" y="107"/>
                  <a:pt x="2282" y="86"/>
                  <a:pt x="2337" y="113"/>
                </a:cubicBezTo>
                <a:cubicBezTo>
                  <a:pt x="2341" y="120"/>
                  <a:pt x="2360" y="155"/>
                  <a:pt x="2375" y="151"/>
                </a:cubicBezTo>
                <a:cubicBezTo>
                  <a:pt x="2383" y="149"/>
                  <a:pt x="2380" y="136"/>
                  <a:pt x="2382" y="128"/>
                </a:cubicBezTo>
                <a:cubicBezTo>
                  <a:pt x="2395" y="155"/>
                  <a:pt x="2405" y="182"/>
                  <a:pt x="2413" y="211"/>
                </a:cubicBezTo>
                <a:cubicBezTo>
                  <a:pt x="2416" y="221"/>
                  <a:pt x="2413" y="234"/>
                  <a:pt x="2420" y="242"/>
                </a:cubicBezTo>
                <a:cubicBezTo>
                  <a:pt x="2427" y="249"/>
                  <a:pt x="2440" y="247"/>
                  <a:pt x="2450" y="249"/>
                </a:cubicBezTo>
                <a:cubicBezTo>
                  <a:pt x="2463" y="267"/>
                  <a:pt x="2535" y="360"/>
                  <a:pt x="2458" y="363"/>
                </a:cubicBezTo>
                <a:cubicBezTo>
                  <a:pt x="1647" y="391"/>
                  <a:pt x="836" y="358"/>
                  <a:pt x="25" y="355"/>
                </a:cubicBezTo>
                <a:cubicBezTo>
                  <a:pt x="36" y="180"/>
                  <a:pt x="0" y="223"/>
                  <a:pt x="86" y="249"/>
                </a:cubicBezTo>
                <a:cubicBezTo>
                  <a:pt x="97" y="214"/>
                  <a:pt x="81" y="189"/>
                  <a:pt x="124" y="204"/>
                </a:cubicBezTo>
                <a:cubicBezTo>
                  <a:pt x="106" y="176"/>
                  <a:pt x="113" y="173"/>
                  <a:pt x="101" y="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68"/>
          <p:cNvSpPr/>
          <p:nvPr/>
        </p:nvSpPr>
        <p:spPr>
          <a:xfrm rot="245400">
            <a:off x="4686480" y="5638680"/>
            <a:ext cx="1074600" cy="88920"/>
          </a:xfrm>
          <a:custGeom>
            <a:avLst/>
            <a:gdLst/>
            <a:ahLst/>
            <a:rect l="l" t="t" r="r" b="b"/>
            <a:pathLst>
              <a:path w="2535" h="391">
                <a:moveTo>
                  <a:pt x="101" y="196"/>
                </a:moveTo>
                <a:cubicBezTo>
                  <a:pt x="92" y="102"/>
                  <a:pt x="81" y="128"/>
                  <a:pt x="124" y="82"/>
                </a:cubicBezTo>
                <a:cubicBezTo>
                  <a:pt x="131" y="87"/>
                  <a:pt x="137" y="98"/>
                  <a:pt x="146" y="98"/>
                </a:cubicBezTo>
                <a:cubicBezTo>
                  <a:pt x="162" y="98"/>
                  <a:pt x="192" y="82"/>
                  <a:pt x="192" y="82"/>
                </a:cubicBezTo>
                <a:cubicBezTo>
                  <a:pt x="250" y="102"/>
                  <a:pt x="181" y="86"/>
                  <a:pt x="230" y="67"/>
                </a:cubicBezTo>
                <a:cubicBezTo>
                  <a:pt x="238" y="64"/>
                  <a:pt x="245" y="72"/>
                  <a:pt x="253" y="75"/>
                </a:cubicBezTo>
                <a:cubicBezTo>
                  <a:pt x="255" y="83"/>
                  <a:pt x="253" y="94"/>
                  <a:pt x="260" y="98"/>
                </a:cubicBezTo>
                <a:cubicBezTo>
                  <a:pt x="267" y="102"/>
                  <a:pt x="276" y="85"/>
                  <a:pt x="283" y="90"/>
                </a:cubicBezTo>
                <a:cubicBezTo>
                  <a:pt x="298" y="101"/>
                  <a:pt x="313" y="136"/>
                  <a:pt x="313" y="136"/>
                </a:cubicBezTo>
                <a:cubicBezTo>
                  <a:pt x="330" y="118"/>
                  <a:pt x="345" y="104"/>
                  <a:pt x="366" y="90"/>
                </a:cubicBezTo>
                <a:cubicBezTo>
                  <a:pt x="382" y="135"/>
                  <a:pt x="361" y="99"/>
                  <a:pt x="404" y="105"/>
                </a:cubicBezTo>
                <a:cubicBezTo>
                  <a:pt x="413" y="106"/>
                  <a:pt x="419" y="115"/>
                  <a:pt x="427" y="120"/>
                </a:cubicBezTo>
                <a:cubicBezTo>
                  <a:pt x="445" y="157"/>
                  <a:pt x="452" y="167"/>
                  <a:pt x="488" y="143"/>
                </a:cubicBezTo>
                <a:cubicBezTo>
                  <a:pt x="506" y="203"/>
                  <a:pt x="475" y="125"/>
                  <a:pt x="533" y="173"/>
                </a:cubicBezTo>
                <a:cubicBezTo>
                  <a:pt x="541" y="180"/>
                  <a:pt x="538" y="194"/>
                  <a:pt x="541" y="204"/>
                </a:cubicBezTo>
                <a:cubicBezTo>
                  <a:pt x="548" y="199"/>
                  <a:pt x="554" y="191"/>
                  <a:pt x="563" y="189"/>
                </a:cubicBezTo>
                <a:cubicBezTo>
                  <a:pt x="571" y="188"/>
                  <a:pt x="578" y="196"/>
                  <a:pt x="586" y="196"/>
                </a:cubicBezTo>
                <a:cubicBezTo>
                  <a:pt x="614" y="196"/>
                  <a:pt x="641" y="185"/>
                  <a:pt x="669" y="181"/>
                </a:cubicBezTo>
                <a:cubicBezTo>
                  <a:pt x="688" y="154"/>
                  <a:pt x="698" y="126"/>
                  <a:pt x="715" y="98"/>
                </a:cubicBezTo>
                <a:cubicBezTo>
                  <a:pt x="728" y="100"/>
                  <a:pt x="740" y="102"/>
                  <a:pt x="753" y="105"/>
                </a:cubicBezTo>
                <a:cubicBezTo>
                  <a:pt x="761" y="107"/>
                  <a:pt x="770" y="118"/>
                  <a:pt x="776" y="113"/>
                </a:cubicBezTo>
                <a:cubicBezTo>
                  <a:pt x="784" y="107"/>
                  <a:pt x="781" y="92"/>
                  <a:pt x="783" y="82"/>
                </a:cubicBezTo>
                <a:cubicBezTo>
                  <a:pt x="812" y="90"/>
                  <a:pt x="824" y="103"/>
                  <a:pt x="851" y="113"/>
                </a:cubicBezTo>
                <a:cubicBezTo>
                  <a:pt x="856" y="103"/>
                  <a:pt x="855" y="85"/>
                  <a:pt x="866" y="82"/>
                </a:cubicBezTo>
                <a:cubicBezTo>
                  <a:pt x="887" y="76"/>
                  <a:pt x="915" y="109"/>
                  <a:pt x="927" y="120"/>
                </a:cubicBezTo>
                <a:cubicBezTo>
                  <a:pt x="956" y="83"/>
                  <a:pt x="958" y="70"/>
                  <a:pt x="1003" y="52"/>
                </a:cubicBezTo>
                <a:cubicBezTo>
                  <a:pt x="1005" y="37"/>
                  <a:pt x="999" y="18"/>
                  <a:pt x="1010" y="7"/>
                </a:cubicBezTo>
                <a:cubicBezTo>
                  <a:pt x="1017" y="0"/>
                  <a:pt x="1034" y="6"/>
                  <a:pt x="1041" y="14"/>
                </a:cubicBezTo>
                <a:cubicBezTo>
                  <a:pt x="1049" y="24"/>
                  <a:pt x="1046" y="39"/>
                  <a:pt x="1048" y="52"/>
                </a:cubicBezTo>
                <a:cubicBezTo>
                  <a:pt x="1053" y="47"/>
                  <a:pt x="1058" y="33"/>
                  <a:pt x="1064" y="37"/>
                </a:cubicBezTo>
                <a:cubicBezTo>
                  <a:pt x="1079" y="47"/>
                  <a:pt x="1094" y="82"/>
                  <a:pt x="1094" y="82"/>
                </a:cubicBezTo>
                <a:cubicBezTo>
                  <a:pt x="1162" y="61"/>
                  <a:pt x="1071" y="81"/>
                  <a:pt x="1132" y="98"/>
                </a:cubicBezTo>
                <a:cubicBezTo>
                  <a:pt x="1144" y="102"/>
                  <a:pt x="1157" y="93"/>
                  <a:pt x="1170" y="90"/>
                </a:cubicBezTo>
                <a:cubicBezTo>
                  <a:pt x="1177" y="93"/>
                  <a:pt x="1187" y="92"/>
                  <a:pt x="1192" y="98"/>
                </a:cubicBezTo>
                <a:cubicBezTo>
                  <a:pt x="1218" y="130"/>
                  <a:pt x="1178" y="136"/>
                  <a:pt x="1223" y="120"/>
                </a:cubicBezTo>
                <a:cubicBezTo>
                  <a:pt x="1225" y="130"/>
                  <a:pt x="1223" y="144"/>
                  <a:pt x="1230" y="151"/>
                </a:cubicBezTo>
                <a:cubicBezTo>
                  <a:pt x="1282" y="203"/>
                  <a:pt x="1248" y="115"/>
                  <a:pt x="1268" y="181"/>
                </a:cubicBezTo>
                <a:cubicBezTo>
                  <a:pt x="1276" y="173"/>
                  <a:pt x="1280" y="158"/>
                  <a:pt x="1291" y="158"/>
                </a:cubicBezTo>
                <a:cubicBezTo>
                  <a:pt x="1302" y="158"/>
                  <a:pt x="1306" y="174"/>
                  <a:pt x="1314" y="181"/>
                </a:cubicBezTo>
                <a:cubicBezTo>
                  <a:pt x="1321" y="187"/>
                  <a:pt x="1329" y="191"/>
                  <a:pt x="1336" y="196"/>
                </a:cubicBezTo>
                <a:cubicBezTo>
                  <a:pt x="1391" y="160"/>
                  <a:pt x="1333" y="187"/>
                  <a:pt x="1367" y="204"/>
                </a:cubicBezTo>
                <a:cubicBezTo>
                  <a:pt x="1374" y="207"/>
                  <a:pt x="1382" y="199"/>
                  <a:pt x="1389" y="196"/>
                </a:cubicBezTo>
                <a:cubicBezTo>
                  <a:pt x="1421" y="166"/>
                  <a:pt x="1386" y="189"/>
                  <a:pt x="1435" y="196"/>
                </a:cubicBezTo>
                <a:cubicBezTo>
                  <a:pt x="1445" y="197"/>
                  <a:pt x="1455" y="191"/>
                  <a:pt x="1465" y="189"/>
                </a:cubicBezTo>
                <a:cubicBezTo>
                  <a:pt x="1486" y="160"/>
                  <a:pt x="1496" y="133"/>
                  <a:pt x="1526" y="113"/>
                </a:cubicBezTo>
                <a:cubicBezTo>
                  <a:pt x="1541" y="162"/>
                  <a:pt x="1538" y="119"/>
                  <a:pt x="1586" y="136"/>
                </a:cubicBezTo>
                <a:cubicBezTo>
                  <a:pt x="1613" y="187"/>
                  <a:pt x="1648" y="181"/>
                  <a:pt x="1700" y="189"/>
                </a:cubicBezTo>
                <a:cubicBezTo>
                  <a:pt x="1703" y="201"/>
                  <a:pt x="1695" y="226"/>
                  <a:pt x="1708" y="226"/>
                </a:cubicBezTo>
                <a:cubicBezTo>
                  <a:pt x="1726" y="226"/>
                  <a:pt x="1746" y="189"/>
                  <a:pt x="1746" y="189"/>
                </a:cubicBezTo>
                <a:cubicBezTo>
                  <a:pt x="1797" y="205"/>
                  <a:pt x="1761" y="220"/>
                  <a:pt x="1821" y="196"/>
                </a:cubicBezTo>
                <a:cubicBezTo>
                  <a:pt x="1826" y="201"/>
                  <a:pt x="1830" y="211"/>
                  <a:pt x="1837" y="211"/>
                </a:cubicBezTo>
                <a:cubicBezTo>
                  <a:pt x="1846" y="211"/>
                  <a:pt x="1851" y="199"/>
                  <a:pt x="1859" y="196"/>
                </a:cubicBezTo>
                <a:cubicBezTo>
                  <a:pt x="1887" y="184"/>
                  <a:pt x="1914" y="180"/>
                  <a:pt x="1943" y="166"/>
                </a:cubicBezTo>
                <a:cubicBezTo>
                  <a:pt x="1956" y="168"/>
                  <a:pt x="1970" y="166"/>
                  <a:pt x="1981" y="173"/>
                </a:cubicBezTo>
                <a:cubicBezTo>
                  <a:pt x="1988" y="177"/>
                  <a:pt x="1982" y="190"/>
                  <a:pt x="1988" y="196"/>
                </a:cubicBezTo>
                <a:cubicBezTo>
                  <a:pt x="2017" y="225"/>
                  <a:pt x="2031" y="225"/>
                  <a:pt x="2064" y="234"/>
                </a:cubicBezTo>
                <a:cubicBezTo>
                  <a:pt x="2084" y="194"/>
                  <a:pt x="2085" y="185"/>
                  <a:pt x="2125" y="211"/>
                </a:cubicBezTo>
                <a:cubicBezTo>
                  <a:pt x="2140" y="146"/>
                  <a:pt x="2116" y="204"/>
                  <a:pt x="2162" y="189"/>
                </a:cubicBezTo>
                <a:cubicBezTo>
                  <a:pt x="2171" y="186"/>
                  <a:pt x="2173" y="174"/>
                  <a:pt x="2178" y="166"/>
                </a:cubicBezTo>
                <a:cubicBezTo>
                  <a:pt x="2191" y="124"/>
                  <a:pt x="2202" y="147"/>
                  <a:pt x="2231" y="166"/>
                </a:cubicBezTo>
                <a:cubicBezTo>
                  <a:pt x="2243" y="126"/>
                  <a:pt x="2252" y="130"/>
                  <a:pt x="2284" y="151"/>
                </a:cubicBezTo>
                <a:cubicBezTo>
                  <a:pt x="2313" y="107"/>
                  <a:pt x="2282" y="86"/>
                  <a:pt x="2337" y="113"/>
                </a:cubicBezTo>
                <a:cubicBezTo>
                  <a:pt x="2341" y="120"/>
                  <a:pt x="2360" y="155"/>
                  <a:pt x="2375" y="151"/>
                </a:cubicBezTo>
                <a:cubicBezTo>
                  <a:pt x="2383" y="149"/>
                  <a:pt x="2380" y="136"/>
                  <a:pt x="2382" y="128"/>
                </a:cubicBezTo>
                <a:cubicBezTo>
                  <a:pt x="2395" y="155"/>
                  <a:pt x="2405" y="182"/>
                  <a:pt x="2413" y="211"/>
                </a:cubicBezTo>
                <a:cubicBezTo>
                  <a:pt x="2416" y="221"/>
                  <a:pt x="2413" y="234"/>
                  <a:pt x="2420" y="242"/>
                </a:cubicBezTo>
                <a:cubicBezTo>
                  <a:pt x="2427" y="249"/>
                  <a:pt x="2440" y="247"/>
                  <a:pt x="2450" y="249"/>
                </a:cubicBezTo>
                <a:cubicBezTo>
                  <a:pt x="2463" y="267"/>
                  <a:pt x="2535" y="360"/>
                  <a:pt x="2458" y="363"/>
                </a:cubicBezTo>
                <a:cubicBezTo>
                  <a:pt x="1647" y="391"/>
                  <a:pt x="836" y="358"/>
                  <a:pt x="25" y="355"/>
                </a:cubicBezTo>
                <a:cubicBezTo>
                  <a:pt x="36" y="180"/>
                  <a:pt x="0" y="223"/>
                  <a:pt x="86" y="249"/>
                </a:cubicBezTo>
                <a:cubicBezTo>
                  <a:pt x="97" y="214"/>
                  <a:pt x="81" y="189"/>
                  <a:pt x="124" y="204"/>
                </a:cubicBezTo>
                <a:cubicBezTo>
                  <a:pt x="106" y="176"/>
                  <a:pt x="113" y="173"/>
                  <a:pt x="101" y="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4"/>
          <p:cNvGrpSpPr/>
          <p:nvPr/>
        </p:nvGrpSpPr>
        <p:grpSpPr>
          <a:xfrm>
            <a:off x="5720400" y="3611160"/>
            <a:ext cx="1102320" cy="1246320"/>
            <a:chOff x="5720400" y="3611160"/>
            <a:chExt cx="1102320" cy="1246320"/>
          </a:xfrm>
        </p:grpSpPr>
        <p:sp>
          <p:nvSpPr>
            <p:cNvPr id="100" name="Freeform 95"/>
            <p:cNvSpPr/>
            <p:nvPr/>
          </p:nvSpPr>
          <p:spPr>
            <a:xfrm rot="19521000">
              <a:off x="5967360" y="3719160"/>
              <a:ext cx="608040" cy="105912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96"/>
            <p:cNvSpPr/>
            <p:nvPr/>
          </p:nvSpPr>
          <p:spPr>
            <a:xfrm rot="17366400">
              <a:off x="6045480" y="4341960"/>
              <a:ext cx="33480" cy="1011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7"/>
            <p:cNvSpPr/>
            <p:nvPr/>
          </p:nvSpPr>
          <p:spPr>
            <a:xfrm rot="17898600">
              <a:off x="6021360" y="3691440"/>
              <a:ext cx="40680" cy="867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98"/>
            <p:cNvSpPr/>
            <p:nvPr/>
          </p:nvSpPr>
          <p:spPr>
            <a:xfrm rot="17898600">
              <a:off x="5924880" y="4148280"/>
              <a:ext cx="31320" cy="669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9"/>
            <p:cNvSpPr/>
            <p:nvPr/>
          </p:nvSpPr>
          <p:spPr>
            <a:xfrm flipH="1" rot="19626000">
              <a:off x="6110640" y="3612960"/>
              <a:ext cx="66240" cy="2016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0"/>
            <p:cNvSpPr/>
            <p:nvPr/>
          </p:nvSpPr>
          <p:spPr>
            <a:xfrm rot="576000">
              <a:off x="6317640" y="3900600"/>
              <a:ext cx="75960" cy="25056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1"/>
            <p:cNvSpPr/>
            <p:nvPr/>
          </p:nvSpPr>
          <p:spPr>
            <a:xfrm rot="21412800">
              <a:off x="6234120" y="3901680"/>
              <a:ext cx="38160" cy="817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2"/>
            <p:cNvSpPr/>
            <p:nvPr/>
          </p:nvSpPr>
          <p:spPr>
            <a:xfrm rot="17366400">
              <a:off x="6290280" y="4163760"/>
              <a:ext cx="33480" cy="10152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03"/>
            <p:cNvSpPr/>
            <p:nvPr/>
          </p:nvSpPr>
          <p:spPr>
            <a:xfrm rot="17597400">
              <a:off x="5909040" y="3788280"/>
              <a:ext cx="83880" cy="8100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04"/>
          <p:cNvGrpSpPr/>
          <p:nvPr/>
        </p:nvGrpSpPr>
        <p:grpSpPr>
          <a:xfrm>
            <a:off x="7152480" y="5510520"/>
            <a:ext cx="981720" cy="1830240"/>
            <a:chOff x="7152480" y="5510520"/>
            <a:chExt cx="981720" cy="1830240"/>
          </a:xfrm>
        </p:grpSpPr>
        <p:sp>
          <p:nvSpPr>
            <p:cNvPr id="110" name="Freeform 105"/>
            <p:cNvSpPr/>
            <p:nvPr/>
          </p:nvSpPr>
          <p:spPr>
            <a:xfrm flipH="1">
              <a:off x="7162920" y="5646240"/>
              <a:ext cx="971280" cy="169452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6"/>
            <p:cNvSpPr/>
            <p:nvPr/>
          </p:nvSpPr>
          <p:spPr>
            <a:xfrm flipH="1" rot="2155200">
              <a:off x="8026920" y="6411240"/>
              <a:ext cx="53640" cy="1620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7"/>
            <p:cNvSpPr/>
            <p:nvPr/>
          </p:nvSpPr>
          <p:spPr>
            <a:xfrm flipH="1" rot="1622400">
              <a:off x="7450920" y="5538240"/>
              <a:ext cx="64800" cy="1386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8"/>
            <p:cNvSpPr/>
            <p:nvPr/>
          </p:nvSpPr>
          <p:spPr>
            <a:xfrm flipH="1" rot="1622400">
              <a:off x="7996320" y="6050880"/>
              <a:ext cx="50040" cy="1069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9"/>
            <p:cNvSpPr/>
            <p:nvPr/>
          </p:nvSpPr>
          <p:spPr>
            <a:xfrm rot="21495000">
              <a:off x="7275960" y="5511960"/>
              <a:ext cx="106200" cy="3225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0"/>
            <p:cNvSpPr/>
            <p:nvPr/>
          </p:nvSpPr>
          <p:spPr>
            <a:xfrm flipH="1" rot="18945000">
              <a:off x="7274880" y="6076800"/>
              <a:ext cx="121320" cy="4010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 flipH="1" rot="19708200">
              <a:off x="7363440" y="6008760"/>
              <a:ext cx="60840" cy="13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 flipH="1" rot="2155200">
              <a:off x="7543440" y="6399360"/>
              <a:ext cx="53640" cy="1620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 flipH="1" rot="1923600">
              <a:off x="7620480" y="5584320"/>
              <a:ext cx="133920" cy="12960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14"/>
          <p:cNvGrpSpPr/>
          <p:nvPr/>
        </p:nvGrpSpPr>
        <p:grpSpPr>
          <a:xfrm>
            <a:off x="7509960" y="4644720"/>
            <a:ext cx="1762920" cy="1946520"/>
            <a:chOff x="7509960" y="4644720"/>
            <a:chExt cx="1762920" cy="1946520"/>
          </a:xfrm>
        </p:grpSpPr>
        <p:sp>
          <p:nvSpPr>
            <p:cNvPr id="120" name="Freeform 115"/>
            <p:cNvSpPr/>
            <p:nvPr/>
          </p:nvSpPr>
          <p:spPr>
            <a:xfrm flipH="1" rot="19519200">
              <a:off x="7905240" y="4770360"/>
              <a:ext cx="971280" cy="169488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6"/>
            <p:cNvSpPr/>
            <p:nvPr/>
          </p:nvSpPr>
          <p:spPr>
            <a:xfrm flipH="1" rot="74400">
              <a:off x="8697240" y="5304960"/>
              <a:ext cx="5364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7"/>
            <p:cNvSpPr/>
            <p:nvPr/>
          </p:nvSpPr>
          <p:spPr>
            <a:xfrm flipH="1" rot="21141600">
              <a:off x="7720200" y="4914000"/>
              <a:ext cx="64800" cy="1386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18"/>
            <p:cNvSpPr/>
            <p:nvPr/>
          </p:nvSpPr>
          <p:spPr>
            <a:xfrm flipH="1" rot="21141600">
              <a:off x="8452080" y="5031720"/>
              <a:ext cx="50040" cy="1076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19"/>
            <p:cNvSpPr/>
            <p:nvPr/>
          </p:nvSpPr>
          <p:spPr>
            <a:xfrm rot="19414200">
              <a:off x="7609320" y="4963320"/>
              <a:ext cx="106200" cy="3225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0"/>
            <p:cNvSpPr/>
            <p:nvPr/>
          </p:nvSpPr>
          <p:spPr>
            <a:xfrm flipH="1" rot="16863600">
              <a:off x="7950240" y="5417640"/>
              <a:ext cx="121320" cy="40140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1"/>
            <p:cNvSpPr/>
            <p:nvPr/>
          </p:nvSpPr>
          <p:spPr>
            <a:xfrm flipH="1" rot="17626800">
              <a:off x="7912800" y="5352120"/>
              <a:ext cx="60840" cy="13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2"/>
            <p:cNvSpPr/>
            <p:nvPr/>
          </p:nvSpPr>
          <p:spPr>
            <a:xfrm flipH="1" rot="74400">
              <a:off x="8292960" y="5570280"/>
              <a:ext cx="5364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3"/>
            <p:cNvSpPr/>
            <p:nvPr/>
          </p:nvSpPr>
          <p:spPr>
            <a:xfrm flipH="1" rot="21442800">
              <a:off x="7875720" y="4836960"/>
              <a:ext cx="133920" cy="12996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Freeform 127"/>
          <p:cNvSpPr/>
          <p:nvPr/>
        </p:nvSpPr>
        <p:spPr>
          <a:xfrm rot="20772000">
            <a:off x="1693800" y="2935080"/>
            <a:ext cx="58680" cy="125280"/>
          </a:xfrm>
          <a:custGeom>
            <a:avLst/>
            <a:gdLst/>
            <a:ahLst/>
            <a:rect l="l" t="t" r="r" b="b"/>
            <a:pathLst>
              <a:path w="543" h="1160">
                <a:moveTo>
                  <a:pt x="202" y="1144"/>
                </a:moveTo>
                <a:cubicBezTo>
                  <a:pt x="210" y="1132"/>
                  <a:pt x="224" y="1116"/>
                  <a:pt x="224" y="1100"/>
                </a:cubicBezTo>
                <a:cubicBezTo>
                  <a:pt x="224" y="974"/>
                  <a:pt x="222" y="849"/>
                  <a:pt x="217" y="723"/>
                </a:cubicBezTo>
                <a:cubicBezTo>
                  <a:pt x="216" y="689"/>
                  <a:pt x="189" y="652"/>
                  <a:pt x="172" y="627"/>
                </a:cubicBezTo>
                <a:cubicBezTo>
                  <a:pt x="146" y="588"/>
                  <a:pt x="118" y="559"/>
                  <a:pt x="91" y="524"/>
                </a:cubicBezTo>
                <a:cubicBezTo>
                  <a:pt x="67" y="493"/>
                  <a:pt x="54" y="460"/>
                  <a:pt x="32" y="428"/>
                </a:cubicBezTo>
                <a:cubicBezTo>
                  <a:pt x="23" y="398"/>
                  <a:pt x="13" y="368"/>
                  <a:pt x="2" y="339"/>
                </a:cubicBezTo>
                <a:cubicBezTo>
                  <a:pt x="5" y="317"/>
                  <a:pt x="0" y="293"/>
                  <a:pt x="10" y="273"/>
                </a:cubicBezTo>
                <a:cubicBezTo>
                  <a:pt x="13" y="266"/>
                  <a:pt x="27" y="275"/>
                  <a:pt x="32" y="280"/>
                </a:cubicBezTo>
                <a:cubicBezTo>
                  <a:pt x="37" y="285"/>
                  <a:pt x="35" y="295"/>
                  <a:pt x="39" y="302"/>
                </a:cubicBezTo>
                <a:cubicBezTo>
                  <a:pt x="50" y="320"/>
                  <a:pt x="76" y="354"/>
                  <a:pt x="76" y="354"/>
                </a:cubicBezTo>
                <a:cubicBezTo>
                  <a:pt x="87" y="384"/>
                  <a:pt x="90" y="397"/>
                  <a:pt x="113" y="420"/>
                </a:cubicBezTo>
                <a:cubicBezTo>
                  <a:pt x="129" y="467"/>
                  <a:pt x="176" y="516"/>
                  <a:pt x="224" y="531"/>
                </a:cubicBezTo>
                <a:cubicBezTo>
                  <a:pt x="243" y="472"/>
                  <a:pt x="187" y="371"/>
                  <a:pt x="268" y="391"/>
                </a:cubicBezTo>
                <a:cubicBezTo>
                  <a:pt x="286" y="440"/>
                  <a:pt x="282" y="494"/>
                  <a:pt x="290" y="546"/>
                </a:cubicBezTo>
                <a:cubicBezTo>
                  <a:pt x="339" y="537"/>
                  <a:pt x="340" y="527"/>
                  <a:pt x="364" y="487"/>
                </a:cubicBezTo>
                <a:cubicBezTo>
                  <a:pt x="373" y="472"/>
                  <a:pt x="394" y="443"/>
                  <a:pt x="394" y="443"/>
                </a:cubicBezTo>
                <a:cubicBezTo>
                  <a:pt x="388" y="371"/>
                  <a:pt x="388" y="311"/>
                  <a:pt x="350" y="251"/>
                </a:cubicBezTo>
                <a:cubicBezTo>
                  <a:pt x="341" y="217"/>
                  <a:pt x="339" y="179"/>
                  <a:pt x="327" y="147"/>
                </a:cubicBezTo>
                <a:cubicBezTo>
                  <a:pt x="324" y="139"/>
                  <a:pt x="317" y="133"/>
                  <a:pt x="313" y="125"/>
                </a:cubicBezTo>
                <a:cubicBezTo>
                  <a:pt x="310" y="118"/>
                  <a:pt x="308" y="110"/>
                  <a:pt x="305" y="103"/>
                </a:cubicBezTo>
                <a:cubicBezTo>
                  <a:pt x="311" y="43"/>
                  <a:pt x="296" y="0"/>
                  <a:pt x="357" y="22"/>
                </a:cubicBezTo>
                <a:cubicBezTo>
                  <a:pt x="367" y="63"/>
                  <a:pt x="353" y="110"/>
                  <a:pt x="372" y="147"/>
                </a:cubicBezTo>
                <a:cubicBezTo>
                  <a:pt x="378" y="158"/>
                  <a:pt x="397" y="142"/>
                  <a:pt x="409" y="140"/>
                </a:cubicBezTo>
                <a:cubicBezTo>
                  <a:pt x="414" y="133"/>
                  <a:pt x="417" y="125"/>
                  <a:pt x="423" y="118"/>
                </a:cubicBezTo>
                <a:cubicBezTo>
                  <a:pt x="430" y="110"/>
                  <a:pt x="440" y="105"/>
                  <a:pt x="446" y="96"/>
                </a:cubicBezTo>
                <a:cubicBezTo>
                  <a:pt x="458" y="80"/>
                  <a:pt x="464" y="60"/>
                  <a:pt x="475" y="44"/>
                </a:cubicBezTo>
                <a:cubicBezTo>
                  <a:pt x="511" y="51"/>
                  <a:pt x="529" y="46"/>
                  <a:pt x="542" y="81"/>
                </a:cubicBezTo>
                <a:cubicBezTo>
                  <a:pt x="539" y="96"/>
                  <a:pt x="543" y="113"/>
                  <a:pt x="534" y="125"/>
                </a:cubicBezTo>
                <a:cubicBezTo>
                  <a:pt x="524" y="140"/>
                  <a:pt x="490" y="155"/>
                  <a:pt x="490" y="155"/>
                </a:cubicBezTo>
                <a:cubicBezTo>
                  <a:pt x="477" y="190"/>
                  <a:pt x="453" y="194"/>
                  <a:pt x="438" y="236"/>
                </a:cubicBezTo>
                <a:cubicBezTo>
                  <a:pt x="447" y="340"/>
                  <a:pt x="469" y="458"/>
                  <a:pt x="446" y="561"/>
                </a:cubicBezTo>
                <a:cubicBezTo>
                  <a:pt x="444" y="571"/>
                  <a:pt x="430" y="575"/>
                  <a:pt x="423" y="583"/>
                </a:cubicBezTo>
                <a:cubicBezTo>
                  <a:pt x="393" y="621"/>
                  <a:pt x="359" y="670"/>
                  <a:pt x="342" y="716"/>
                </a:cubicBezTo>
                <a:cubicBezTo>
                  <a:pt x="345" y="743"/>
                  <a:pt x="328" y="781"/>
                  <a:pt x="350" y="797"/>
                </a:cubicBezTo>
                <a:cubicBezTo>
                  <a:pt x="367" y="809"/>
                  <a:pt x="394" y="753"/>
                  <a:pt x="394" y="753"/>
                </a:cubicBezTo>
                <a:cubicBezTo>
                  <a:pt x="404" y="755"/>
                  <a:pt x="417" y="752"/>
                  <a:pt x="423" y="760"/>
                </a:cubicBezTo>
                <a:cubicBezTo>
                  <a:pt x="428" y="766"/>
                  <a:pt x="420" y="775"/>
                  <a:pt x="416" y="782"/>
                </a:cubicBezTo>
                <a:cubicBezTo>
                  <a:pt x="387" y="834"/>
                  <a:pt x="354" y="856"/>
                  <a:pt x="335" y="915"/>
                </a:cubicBezTo>
                <a:cubicBezTo>
                  <a:pt x="343" y="1160"/>
                  <a:pt x="406" y="1156"/>
                  <a:pt x="202" y="11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30"/>
          <p:cNvSpPr/>
          <p:nvPr/>
        </p:nvSpPr>
        <p:spPr>
          <a:xfrm rot="2686800">
            <a:off x="2781000" y="3949200"/>
            <a:ext cx="71280" cy="154080"/>
          </a:xfrm>
          <a:custGeom>
            <a:avLst/>
            <a:gdLst/>
            <a:ahLst/>
            <a:rect l="l" t="t" r="r" b="b"/>
            <a:pathLst>
              <a:path w="543" h="1160">
                <a:moveTo>
                  <a:pt x="202" y="1144"/>
                </a:moveTo>
                <a:cubicBezTo>
                  <a:pt x="210" y="1132"/>
                  <a:pt x="224" y="1116"/>
                  <a:pt x="224" y="1100"/>
                </a:cubicBezTo>
                <a:cubicBezTo>
                  <a:pt x="224" y="974"/>
                  <a:pt x="222" y="849"/>
                  <a:pt x="217" y="723"/>
                </a:cubicBezTo>
                <a:cubicBezTo>
                  <a:pt x="216" y="689"/>
                  <a:pt x="189" y="652"/>
                  <a:pt x="172" y="627"/>
                </a:cubicBezTo>
                <a:cubicBezTo>
                  <a:pt x="146" y="588"/>
                  <a:pt x="118" y="559"/>
                  <a:pt x="91" y="524"/>
                </a:cubicBezTo>
                <a:cubicBezTo>
                  <a:pt x="67" y="493"/>
                  <a:pt x="54" y="460"/>
                  <a:pt x="32" y="428"/>
                </a:cubicBezTo>
                <a:cubicBezTo>
                  <a:pt x="23" y="398"/>
                  <a:pt x="13" y="368"/>
                  <a:pt x="2" y="339"/>
                </a:cubicBezTo>
                <a:cubicBezTo>
                  <a:pt x="5" y="317"/>
                  <a:pt x="0" y="293"/>
                  <a:pt x="10" y="273"/>
                </a:cubicBezTo>
                <a:cubicBezTo>
                  <a:pt x="13" y="266"/>
                  <a:pt x="27" y="275"/>
                  <a:pt x="32" y="280"/>
                </a:cubicBezTo>
                <a:cubicBezTo>
                  <a:pt x="37" y="285"/>
                  <a:pt x="35" y="295"/>
                  <a:pt x="39" y="302"/>
                </a:cubicBezTo>
                <a:cubicBezTo>
                  <a:pt x="50" y="320"/>
                  <a:pt x="76" y="354"/>
                  <a:pt x="76" y="354"/>
                </a:cubicBezTo>
                <a:cubicBezTo>
                  <a:pt x="87" y="384"/>
                  <a:pt x="90" y="397"/>
                  <a:pt x="113" y="420"/>
                </a:cubicBezTo>
                <a:cubicBezTo>
                  <a:pt x="129" y="467"/>
                  <a:pt x="176" y="516"/>
                  <a:pt x="224" y="531"/>
                </a:cubicBezTo>
                <a:cubicBezTo>
                  <a:pt x="243" y="472"/>
                  <a:pt x="187" y="371"/>
                  <a:pt x="268" y="391"/>
                </a:cubicBezTo>
                <a:cubicBezTo>
                  <a:pt x="286" y="440"/>
                  <a:pt x="282" y="494"/>
                  <a:pt x="290" y="546"/>
                </a:cubicBezTo>
                <a:cubicBezTo>
                  <a:pt x="339" y="537"/>
                  <a:pt x="340" y="527"/>
                  <a:pt x="364" y="487"/>
                </a:cubicBezTo>
                <a:cubicBezTo>
                  <a:pt x="373" y="472"/>
                  <a:pt x="394" y="443"/>
                  <a:pt x="394" y="443"/>
                </a:cubicBezTo>
                <a:cubicBezTo>
                  <a:pt x="388" y="371"/>
                  <a:pt x="388" y="311"/>
                  <a:pt x="350" y="251"/>
                </a:cubicBezTo>
                <a:cubicBezTo>
                  <a:pt x="341" y="217"/>
                  <a:pt x="339" y="179"/>
                  <a:pt x="327" y="147"/>
                </a:cubicBezTo>
                <a:cubicBezTo>
                  <a:pt x="324" y="139"/>
                  <a:pt x="317" y="133"/>
                  <a:pt x="313" y="125"/>
                </a:cubicBezTo>
                <a:cubicBezTo>
                  <a:pt x="310" y="118"/>
                  <a:pt x="308" y="110"/>
                  <a:pt x="305" y="103"/>
                </a:cubicBezTo>
                <a:cubicBezTo>
                  <a:pt x="311" y="43"/>
                  <a:pt x="296" y="0"/>
                  <a:pt x="357" y="22"/>
                </a:cubicBezTo>
                <a:cubicBezTo>
                  <a:pt x="367" y="63"/>
                  <a:pt x="353" y="110"/>
                  <a:pt x="372" y="147"/>
                </a:cubicBezTo>
                <a:cubicBezTo>
                  <a:pt x="378" y="158"/>
                  <a:pt x="397" y="142"/>
                  <a:pt x="409" y="140"/>
                </a:cubicBezTo>
                <a:cubicBezTo>
                  <a:pt x="414" y="133"/>
                  <a:pt x="417" y="125"/>
                  <a:pt x="423" y="118"/>
                </a:cubicBezTo>
                <a:cubicBezTo>
                  <a:pt x="430" y="110"/>
                  <a:pt x="440" y="105"/>
                  <a:pt x="446" y="96"/>
                </a:cubicBezTo>
                <a:cubicBezTo>
                  <a:pt x="458" y="80"/>
                  <a:pt x="464" y="60"/>
                  <a:pt x="475" y="44"/>
                </a:cubicBezTo>
                <a:cubicBezTo>
                  <a:pt x="511" y="51"/>
                  <a:pt x="529" y="46"/>
                  <a:pt x="542" y="81"/>
                </a:cubicBezTo>
                <a:cubicBezTo>
                  <a:pt x="539" y="96"/>
                  <a:pt x="543" y="113"/>
                  <a:pt x="534" y="125"/>
                </a:cubicBezTo>
                <a:cubicBezTo>
                  <a:pt x="524" y="140"/>
                  <a:pt x="490" y="155"/>
                  <a:pt x="490" y="155"/>
                </a:cubicBezTo>
                <a:cubicBezTo>
                  <a:pt x="477" y="190"/>
                  <a:pt x="453" y="194"/>
                  <a:pt x="438" y="236"/>
                </a:cubicBezTo>
                <a:cubicBezTo>
                  <a:pt x="447" y="340"/>
                  <a:pt x="469" y="458"/>
                  <a:pt x="446" y="561"/>
                </a:cubicBezTo>
                <a:cubicBezTo>
                  <a:pt x="444" y="571"/>
                  <a:pt x="430" y="575"/>
                  <a:pt x="423" y="583"/>
                </a:cubicBezTo>
                <a:cubicBezTo>
                  <a:pt x="393" y="621"/>
                  <a:pt x="359" y="670"/>
                  <a:pt x="342" y="716"/>
                </a:cubicBezTo>
                <a:cubicBezTo>
                  <a:pt x="345" y="743"/>
                  <a:pt x="328" y="781"/>
                  <a:pt x="350" y="797"/>
                </a:cubicBezTo>
                <a:cubicBezTo>
                  <a:pt x="367" y="809"/>
                  <a:pt x="394" y="753"/>
                  <a:pt x="394" y="753"/>
                </a:cubicBezTo>
                <a:cubicBezTo>
                  <a:pt x="404" y="755"/>
                  <a:pt x="417" y="752"/>
                  <a:pt x="423" y="760"/>
                </a:cubicBezTo>
                <a:cubicBezTo>
                  <a:pt x="428" y="766"/>
                  <a:pt x="420" y="775"/>
                  <a:pt x="416" y="782"/>
                </a:cubicBezTo>
                <a:cubicBezTo>
                  <a:pt x="387" y="834"/>
                  <a:pt x="354" y="856"/>
                  <a:pt x="335" y="915"/>
                </a:cubicBezTo>
                <a:cubicBezTo>
                  <a:pt x="343" y="1160"/>
                  <a:pt x="406" y="1156"/>
                  <a:pt x="202" y="114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31"/>
          <p:cNvSpPr/>
          <p:nvPr/>
        </p:nvSpPr>
        <p:spPr>
          <a:xfrm rot="20239200">
            <a:off x="2536560" y="3174840"/>
            <a:ext cx="61920" cy="190800"/>
          </a:xfrm>
          <a:custGeom>
            <a:avLst/>
            <a:gdLst/>
            <a:ahLst/>
            <a:rect l="l" t="t" r="r" b="b"/>
            <a:pathLst>
              <a:path w="524" h="1580">
                <a:moveTo>
                  <a:pt x="332" y="1504"/>
                </a:moveTo>
                <a:cubicBezTo>
                  <a:pt x="340" y="1479"/>
                  <a:pt x="347" y="1460"/>
                  <a:pt x="362" y="1438"/>
                </a:cubicBezTo>
                <a:cubicBezTo>
                  <a:pt x="384" y="1366"/>
                  <a:pt x="411" y="1253"/>
                  <a:pt x="362" y="1194"/>
                </a:cubicBezTo>
                <a:cubicBezTo>
                  <a:pt x="354" y="1185"/>
                  <a:pt x="341" y="1181"/>
                  <a:pt x="332" y="1172"/>
                </a:cubicBezTo>
                <a:cubicBezTo>
                  <a:pt x="297" y="1138"/>
                  <a:pt x="339" y="1158"/>
                  <a:pt x="295" y="1142"/>
                </a:cubicBezTo>
                <a:cubicBezTo>
                  <a:pt x="261" y="1091"/>
                  <a:pt x="276" y="1113"/>
                  <a:pt x="251" y="1076"/>
                </a:cubicBezTo>
                <a:cubicBezTo>
                  <a:pt x="246" y="1069"/>
                  <a:pt x="241" y="1061"/>
                  <a:pt x="236" y="1054"/>
                </a:cubicBezTo>
                <a:cubicBezTo>
                  <a:pt x="231" y="1047"/>
                  <a:pt x="221" y="1032"/>
                  <a:pt x="221" y="1032"/>
                </a:cubicBezTo>
                <a:cubicBezTo>
                  <a:pt x="205" y="978"/>
                  <a:pt x="168" y="902"/>
                  <a:pt x="110" y="884"/>
                </a:cubicBezTo>
                <a:cubicBezTo>
                  <a:pt x="75" y="830"/>
                  <a:pt x="119" y="892"/>
                  <a:pt x="74" y="847"/>
                </a:cubicBezTo>
                <a:cubicBezTo>
                  <a:pt x="46" y="819"/>
                  <a:pt x="24" y="783"/>
                  <a:pt x="0" y="751"/>
                </a:cubicBezTo>
                <a:cubicBezTo>
                  <a:pt x="33" y="728"/>
                  <a:pt x="35" y="742"/>
                  <a:pt x="74" y="751"/>
                </a:cubicBezTo>
                <a:cubicBezTo>
                  <a:pt x="81" y="756"/>
                  <a:pt x="88" y="762"/>
                  <a:pt x="96" y="766"/>
                </a:cubicBezTo>
                <a:cubicBezTo>
                  <a:pt x="110" y="772"/>
                  <a:pt x="140" y="780"/>
                  <a:pt x="140" y="780"/>
                </a:cubicBezTo>
                <a:cubicBezTo>
                  <a:pt x="190" y="814"/>
                  <a:pt x="167" y="805"/>
                  <a:pt x="206" y="817"/>
                </a:cubicBezTo>
                <a:cubicBezTo>
                  <a:pt x="236" y="856"/>
                  <a:pt x="251" y="855"/>
                  <a:pt x="295" y="869"/>
                </a:cubicBezTo>
                <a:cubicBezTo>
                  <a:pt x="293" y="852"/>
                  <a:pt x="294" y="833"/>
                  <a:pt x="288" y="817"/>
                </a:cubicBezTo>
                <a:cubicBezTo>
                  <a:pt x="282" y="800"/>
                  <a:pt x="258" y="773"/>
                  <a:pt x="258" y="773"/>
                </a:cubicBezTo>
                <a:cubicBezTo>
                  <a:pt x="248" y="741"/>
                  <a:pt x="234" y="710"/>
                  <a:pt x="206" y="692"/>
                </a:cubicBezTo>
                <a:cubicBezTo>
                  <a:pt x="187" y="633"/>
                  <a:pt x="244" y="659"/>
                  <a:pt x="273" y="670"/>
                </a:cubicBezTo>
                <a:cubicBezTo>
                  <a:pt x="293" y="709"/>
                  <a:pt x="300" y="751"/>
                  <a:pt x="325" y="788"/>
                </a:cubicBezTo>
                <a:cubicBezTo>
                  <a:pt x="329" y="800"/>
                  <a:pt x="335" y="844"/>
                  <a:pt x="362" y="795"/>
                </a:cubicBezTo>
                <a:cubicBezTo>
                  <a:pt x="370" y="780"/>
                  <a:pt x="367" y="761"/>
                  <a:pt x="369" y="744"/>
                </a:cubicBezTo>
                <a:cubicBezTo>
                  <a:pt x="367" y="682"/>
                  <a:pt x="366" y="621"/>
                  <a:pt x="362" y="559"/>
                </a:cubicBezTo>
                <a:cubicBezTo>
                  <a:pt x="360" y="526"/>
                  <a:pt x="339" y="492"/>
                  <a:pt x="325" y="463"/>
                </a:cubicBezTo>
                <a:cubicBezTo>
                  <a:pt x="307" y="426"/>
                  <a:pt x="306" y="394"/>
                  <a:pt x="280" y="360"/>
                </a:cubicBezTo>
                <a:cubicBezTo>
                  <a:pt x="278" y="348"/>
                  <a:pt x="277" y="335"/>
                  <a:pt x="273" y="323"/>
                </a:cubicBezTo>
                <a:cubicBezTo>
                  <a:pt x="270" y="312"/>
                  <a:pt x="261" y="304"/>
                  <a:pt x="258" y="293"/>
                </a:cubicBezTo>
                <a:cubicBezTo>
                  <a:pt x="242" y="240"/>
                  <a:pt x="234" y="190"/>
                  <a:pt x="214" y="138"/>
                </a:cubicBezTo>
                <a:cubicBezTo>
                  <a:pt x="207" y="119"/>
                  <a:pt x="208" y="97"/>
                  <a:pt x="199" y="79"/>
                </a:cubicBezTo>
                <a:cubicBezTo>
                  <a:pt x="191" y="63"/>
                  <a:pt x="170" y="35"/>
                  <a:pt x="170" y="35"/>
                </a:cubicBezTo>
                <a:cubicBezTo>
                  <a:pt x="172" y="25"/>
                  <a:pt x="168" y="10"/>
                  <a:pt x="177" y="5"/>
                </a:cubicBezTo>
                <a:cubicBezTo>
                  <a:pt x="186" y="0"/>
                  <a:pt x="225" y="16"/>
                  <a:pt x="236" y="20"/>
                </a:cubicBezTo>
                <a:cubicBezTo>
                  <a:pt x="245" y="50"/>
                  <a:pt x="248" y="75"/>
                  <a:pt x="266" y="101"/>
                </a:cubicBezTo>
                <a:cubicBezTo>
                  <a:pt x="267" y="103"/>
                  <a:pt x="279" y="149"/>
                  <a:pt x="288" y="145"/>
                </a:cubicBezTo>
                <a:cubicBezTo>
                  <a:pt x="298" y="140"/>
                  <a:pt x="324" y="87"/>
                  <a:pt x="332" y="72"/>
                </a:cubicBezTo>
                <a:cubicBezTo>
                  <a:pt x="334" y="57"/>
                  <a:pt x="327" y="37"/>
                  <a:pt x="339" y="27"/>
                </a:cubicBezTo>
                <a:cubicBezTo>
                  <a:pt x="348" y="19"/>
                  <a:pt x="398" y="45"/>
                  <a:pt x="406" y="49"/>
                </a:cubicBezTo>
                <a:cubicBezTo>
                  <a:pt x="427" y="81"/>
                  <a:pt x="419" y="93"/>
                  <a:pt x="398" y="123"/>
                </a:cubicBezTo>
                <a:cubicBezTo>
                  <a:pt x="378" y="207"/>
                  <a:pt x="409" y="108"/>
                  <a:pt x="369" y="168"/>
                </a:cubicBezTo>
                <a:cubicBezTo>
                  <a:pt x="359" y="183"/>
                  <a:pt x="360" y="202"/>
                  <a:pt x="354" y="219"/>
                </a:cubicBezTo>
                <a:cubicBezTo>
                  <a:pt x="368" y="273"/>
                  <a:pt x="377" y="328"/>
                  <a:pt x="391" y="382"/>
                </a:cubicBezTo>
                <a:cubicBezTo>
                  <a:pt x="398" y="406"/>
                  <a:pt x="428" y="448"/>
                  <a:pt x="428" y="448"/>
                </a:cubicBezTo>
                <a:cubicBezTo>
                  <a:pt x="436" y="473"/>
                  <a:pt x="444" y="496"/>
                  <a:pt x="450" y="522"/>
                </a:cubicBezTo>
                <a:cubicBezTo>
                  <a:pt x="445" y="799"/>
                  <a:pt x="524" y="852"/>
                  <a:pt x="369" y="950"/>
                </a:cubicBezTo>
                <a:cubicBezTo>
                  <a:pt x="341" y="1037"/>
                  <a:pt x="431" y="1085"/>
                  <a:pt x="472" y="1150"/>
                </a:cubicBezTo>
                <a:cubicBezTo>
                  <a:pt x="477" y="1264"/>
                  <a:pt x="474" y="1380"/>
                  <a:pt x="509" y="1489"/>
                </a:cubicBezTo>
                <a:cubicBezTo>
                  <a:pt x="485" y="1514"/>
                  <a:pt x="454" y="1530"/>
                  <a:pt x="421" y="1541"/>
                </a:cubicBezTo>
                <a:cubicBezTo>
                  <a:pt x="362" y="1580"/>
                  <a:pt x="348" y="1555"/>
                  <a:pt x="332" y="150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32"/>
          <p:cNvSpPr/>
          <p:nvPr/>
        </p:nvSpPr>
        <p:spPr>
          <a:xfrm rot="20470800">
            <a:off x="2306520" y="2514600"/>
            <a:ext cx="157320" cy="152280"/>
          </a:xfrm>
          <a:custGeom>
            <a:avLst/>
            <a:gdLst/>
            <a:ahLst/>
            <a:rect l="l" t="t" r="r" b="b"/>
            <a:pathLst>
              <a:path w="1308" h="1266">
                <a:moveTo>
                  <a:pt x="746" y="1196"/>
                </a:moveTo>
                <a:cubicBezTo>
                  <a:pt x="775" y="1112"/>
                  <a:pt x="765" y="1006"/>
                  <a:pt x="717" y="930"/>
                </a:cubicBezTo>
                <a:cubicBezTo>
                  <a:pt x="714" y="910"/>
                  <a:pt x="719" y="888"/>
                  <a:pt x="709" y="871"/>
                </a:cubicBezTo>
                <a:cubicBezTo>
                  <a:pt x="700" y="856"/>
                  <a:pt x="665" y="841"/>
                  <a:pt x="665" y="841"/>
                </a:cubicBezTo>
                <a:cubicBezTo>
                  <a:pt x="630" y="790"/>
                  <a:pt x="650" y="807"/>
                  <a:pt x="613" y="782"/>
                </a:cubicBezTo>
                <a:cubicBezTo>
                  <a:pt x="601" y="743"/>
                  <a:pt x="590" y="713"/>
                  <a:pt x="584" y="671"/>
                </a:cubicBezTo>
                <a:cubicBezTo>
                  <a:pt x="576" y="611"/>
                  <a:pt x="572" y="559"/>
                  <a:pt x="517" y="524"/>
                </a:cubicBezTo>
                <a:cubicBezTo>
                  <a:pt x="479" y="462"/>
                  <a:pt x="529" y="533"/>
                  <a:pt x="480" y="494"/>
                </a:cubicBezTo>
                <a:cubicBezTo>
                  <a:pt x="473" y="489"/>
                  <a:pt x="473" y="478"/>
                  <a:pt x="466" y="472"/>
                </a:cubicBezTo>
                <a:cubicBezTo>
                  <a:pt x="432" y="442"/>
                  <a:pt x="396" y="435"/>
                  <a:pt x="355" y="420"/>
                </a:cubicBezTo>
                <a:cubicBezTo>
                  <a:pt x="333" y="388"/>
                  <a:pt x="274" y="329"/>
                  <a:pt x="237" y="317"/>
                </a:cubicBezTo>
                <a:cubicBezTo>
                  <a:pt x="185" y="334"/>
                  <a:pt x="207" y="337"/>
                  <a:pt x="170" y="324"/>
                </a:cubicBezTo>
                <a:cubicBezTo>
                  <a:pt x="241" y="301"/>
                  <a:pt x="177" y="252"/>
                  <a:pt x="148" y="228"/>
                </a:cubicBezTo>
                <a:cubicBezTo>
                  <a:pt x="91" y="180"/>
                  <a:pt x="159" y="228"/>
                  <a:pt x="104" y="191"/>
                </a:cubicBezTo>
                <a:cubicBezTo>
                  <a:pt x="99" y="184"/>
                  <a:pt x="96" y="175"/>
                  <a:pt x="89" y="169"/>
                </a:cubicBezTo>
                <a:cubicBezTo>
                  <a:pt x="76" y="158"/>
                  <a:pt x="45" y="140"/>
                  <a:pt x="45" y="140"/>
                </a:cubicBezTo>
                <a:cubicBezTo>
                  <a:pt x="10" y="88"/>
                  <a:pt x="0" y="105"/>
                  <a:pt x="37" y="81"/>
                </a:cubicBezTo>
                <a:cubicBezTo>
                  <a:pt x="76" y="93"/>
                  <a:pt x="87" y="119"/>
                  <a:pt x="119" y="140"/>
                </a:cubicBezTo>
                <a:cubicBezTo>
                  <a:pt x="132" y="160"/>
                  <a:pt x="132" y="167"/>
                  <a:pt x="155" y="177"/>
                </a:cubicBezTo>
                <a:cubicBezTo>
                  <a:pt x="169" y="183"/>
                  <a:pt x="200" y="191"/>
                  <a:pt x="200" y="191"/>
                </a:cubicBezTo>
                <a:cubicBezTo>
                  <a:pt x="207" y="189"/>
                  <a:pt x="218" y="190"/>
                  <a:pt x="222" y="184"/>
                </a:cubicBezTo>
                <a:cubicBezTo>
                  <a:pt x="229" y="174"/>
                  <a:pt x="217" y="152"/>
                  <a:pt x="229" y="147"/>
                </a:cubicBezTo>
                <a:cubicBezTo>
                  <a:pt x="246" y="140"/>
                  <a:pt x="305" y="178"/>
                  <a:pt x="325" y="184"/>
                </a:cubicBezTo>
                <a:cubicBezTo>
                  <a:pt x="323" y="199"/>
                  <a:pt x="325" y="215"/>
                  <a:pt x="318" y="228"/>
                </a:cubicBezTo>
                <a:cubicBezTo>
                  <a:pt x="314" y="236"/>
                  <a:pt x="302" y="236"/>
                  <a:pt x="296" y="243"/>
                </a:cubicBezTo>
                <a:cubicBezTo>
                  <a:pt x="291" y="249"/>
                  <a:pt x="291" y="258"/>
                  <a:pt x="288" y="265"/>
                </a:cubicBezTo>
                <a:cubicBezTo>
                  <a:pt x="346" y="303"/>
                  <a:pt x="383" y="344"/>
                  <a:pt x="451" y="369"/>
                </a:cubicBezTo>
                <a:cubicBezTo>
                  <a:pt x="471" y="398"/>
                  <a:pt x="483" y="404"/>
                  <a:pt x="517" y="413"/>
                </a:cubicBezTo>
                <a:cubicBezTo>
                  <a:pt x="524" y="418"/>
                  <a:pt x="531" y="424"/>
                  <a:pt x="539" y="428"/>
                </a:cubicBezTo>
                <a:cubicBezTo>
                  <a:pt x="553" y="434"/>
                  <a:pt x="584" y="442"/>
                  <a:pt x="584" y="442"/>
                </a:cubicBezTo>
                <a:cubicBezTo>
                  <a:pt x="577" y="382"/>
                  <a:pt x="586" y="361"/>
                  <a:pt x="539" y="332"/>
                </a:cubicBezTo>
                <a:cubicBezTo>
                  <a:pt x="521" y="275"/>
                  <a:pt x="522" y="302"/>
                  <a:pt x="532" y="250"/>
                </a:cubicBezTo>
                <a:cubicBezTo>
                  <a:pt x="569" y="263"/>
                  <a:pt x="572" y="290"/>
                  <a:pt x="584" y="324"/>
                </a:cubicBezTo>
                <a:cubicBezTo>
                  <a:pt x="623" y="265"/>
                  <a:pt x="596" y="278"/>
                  <a:pt x="665" y="287"/>
                </a:cubicBezTo>
                <a:cubicBezTo>
                  <a:pt x="659" y="327"/>
                  <a:pt x="649" y="360"/>
                  <a:pt x="635" y="398"/>
                </a:cubicBezTo>
                <a:cubicBezTo>
                  <a:pt x="638" y="452"/>
                  <a:pt x="618" y="578"/>
                  <a:pt x="680" y="620"/>
                </a:cubicBezTo>
                <a:cubicBezTo>
                  <a:pt x="691" y="636"/>
                  <a:pt x="706" y="648"/>
                  <a:pt x="717" y="664"/>
                </a:cubicBezTo>
                <a:cubicBezTo>
                  <a:pt x="721" y="670"/>
                  <a:pt x="720" y="679"/>
                  <a:pt x="724" y="686"/>
                </a:cubicBezTo>
                <a:cubicBezTo>
                  <a:pt x="733" y="701"/>
                  <a:pt x="754" y="730"/>
                  <a:pt x="754" y="730"/>
                </a:cubicBezTo>
                <a:cubicBezTo>
                  <a:pt x="770" y="784"/>
                  <a:pt x="764" y="800"/>
                  <a:pt x="805" y="841"/>
                </a:cubicBezTo>
                <a:cubicBezTo>
                  <a:pt x="808" y="858"/>
                  <a:pt x="810" y="876"/>
                  <a:pt x="813" y="893"/>
                </a:cubicBezTo>
                <a:cubicBezTo>
                  <a:pt x="815" y="903"/>
                  <a:pt x="816" y="931"/>
                  <a:pt x="820" y="922"/>
                </a:cubicBezTo>
                <a:cubicBezTo>
                  <a:pt x="855" y="840"/>
                  <a:pt x="821" y="830"/>
                  <a:pt x="887" y="767"/>
                </a:cubicBezTo>
                <a:cubicBezTo>
                  <a:pt x="890" y="680"/>
                  <a:pt x="908" y="529"/>
                  <a:pt x="894" y="428"/>
                </a:cubicBezTo>
                <a:cubicBezTo>
                  <a:pt x="893" y="420"/>
                  <a:pt x="891" y="412"/>
                  <a:pt x="887" y="405"/>
                </a:cubicBezTo>
                <a:cubicBezTo>
                  <a:pt x="868" y="370"/>
                  <a:pt x="842" y="349"/>
                  <a:pt x="820" y="317"/>
                </a:cubicBezTo>
                <a:cubicBezTo>
                  <a:pt x="801" y="259"/>
                  <a:pt x="813" y="198"/>
                  <a:pt x="798" y="140"/>
                </a:cubicBezTo>
                <a:cubicBezTo>
                  <a:pt x="787" y="98"/>
                  <a:pt x="738" y="48"/>
                  <a:pt x="702" y="29"/>
                </a:cubicBezTo>
                <a:cubicBezTo>
                  <a:pt x="697" y="22"/>
                  <a:pt x="683" y="15"/>
                  <a:pt x="687" y="7"/>
                </a:cubicBezTo>
                <a:cubicBezTo>
                  <a:pt x="690" y="0"/>
                  <a:pt x="702" y="12"/>
                  <a:pt x="709" y="14"/>
                </a:cubicBezTo>
                <a:cubicBezTo>
                  <a:pt x="761" y="28"/>
                  <a:pt x="718" y="14"/>
                  <a:pt x="761" y="29"/>
                </a:cubicBezTo>
                <a:cubicBezTo>
                  <a:pt x="784" y="63"/>
                  <a:pt x="783" y="95"/>
                  <a:pt x="813" y="125"/>
                </a:cubicBezTo>
                <a:cubicBezTo>
                  <a:pt x="823" y="156"/>
                  <a:pt x="841" y="176"/>
                  <a:pt x="864" y="199"/>
                </a:cubicBezTo>
                <a:cubicBezTo>
                  <a:pt x="873" y="223"/>
                  <a:pt x="886" y="241"/>
                  <a:pt x="894" y="265"/>
                </a:cubicBezTo>
                <a:cubicBezTo>
                  <a:pt x="897" y="312"/>
                  <a:pt x="885" y="365"/>
                  <a:pt x="909" y="405"/>
                </a:cubicBezTo>
                <a:cubicBezTo>
                  <a:pt x="920" y="423"/>
                  <a:pt x="946" y="457"/>
                  <a:pt x="946" y="457"/>
                </a:cubicBezTo>
                <a:cubicBezTo>
                  <a:pt x="948" y="524"/>
                  <a:pt x="943" y="591"/>
                  <a:pt x="953" y="657"/>
                </a:cubicBezTo>
                <a:cubicBezTo>
                  <a:pt x="954" y="665"/>
                  <a:pt x="969" y="655"/>
                  <a:pt x="975" y="649"/>
                </a:cubicBezTo>
                <a:cubicBezTo>
                  <a:pt x="984" y="640"/>
                  <a:pt x="985" y="604"/>
                  <a:pt x="990" y="597"/>
                </a:cubicBezTo>
                <a:cubicBezTo>
                  <a:pt x="1007" y="573"/>
                  <a:pt x="1027" y="551"/>
                  <a:pt x="1049" y="531"/>
                </a:cubicBezTo>
                <a:cubicBezTo>
                  <a:pt x="1062" y="519"/>
                  <a:pt x="1093" y="501"/>
                  <a:pt x="1093" y="501"/>
                </a:cubicBezTo>
                <a:cubicBezTo>
                  <a:pt x="1107" y="464"/>
                  <a:pt x="1100" y="431"/>
                  <a:pt x="1079" y="398"/>
                </a:cubicBezTo>
                <a:cubicBezTo>
                  <a:pt x="1129" y="382"/>
                  <a:pt x="1131" y="407"/>
                  <a:pt x="1145" y="450"/>
                </a:cubicBezTo>
                <a:cubicBezTo>
                  <a:pt x="1147" y="475"/>
                  <a:pt x="1140" y="502"/>
                  <a:pt x="1152" y="524"/>
                </a:cubicBezTo>
                <a:cubicBezTo>
                  <a:pt x="1157" y="533"/>
                  <a:pt x="1172" y="519"/>
                  <a:pt x="1182" y="516"/>
                </a:cubicBezTo>
                <a:cubicBezTo>
                  <a:pt x="1207" y="509"/>
                  <a:pt x="1231" y="502"/>
                  <a:pt x="1256" y="494"/>
                </a:cubicBezTo>
                <a:cubicBezTo>
                  <a:pt x="1266" y="496"/>
                  <a:pt x="1280" y="492"/>
                  <a:pt x="1285" y="501"/>
                </a:cubicBezTo>
                <a:cubicBezTo>
                  <a:pt x="1308" y="539"/>
                  <a:pt x="1232" y="551"/>
                  <a:pt x="1219" y="553"/>
                </a:cubicBezTo>
                <a:cubicBezTo>
                  <a:pt x="1160" y="593"/>
                  <a:pt x="1179" y="593"/>
                  <a:pt x="1101" y="605"/>
                </a:cubicBezTo>
                <a:cubicBezTo>
                  <a:pt x="1086" y="615"/>
                  <a:pt x="1067" y="620"/>
                  <a:pt x="1056" y="634"/>
                </a:cubicBezTo>
                <a:cubicBezTo>
                  <a:pt x="1051" y="640"/>
                  <a:pt x="1053" y="650"/>
                  <a:pt x="1049" y="657"/>
                </a:cubicBezTo>
                <a:cubicBezTo>
                  <a:pt x="1040" y="676"/>
                  <a:pt x="1027" y="686"/>
                  <a:pt x="1012" y="701"/>
                </a:cubicBezTo>
                <a:cubicBezTo>
                  <a:pt x="997" y="749"/>
                  <a:pt x="1050" y="740"/>
                  <a:pt x="1086" y="745"/>
                </a:cubicBezTo>
                <a:cubicBezTo>
                  <a:pt x="1073" y="784"/>
                  <a:pt x="1086" y="762"/>
                  <a:pt x="1034" y="797"/>
                </a:cubicBezTo>
                <a:cubicBezTo>
                  <a:pt x="1027" y="802"/>
                  <a:pt x="1012" y="812"/>
                  <a:pt x="1012" y="812"/>
                </a:cubicBezTo>
                <a:cubicBezTo>
                  <a:pt x="1000" y="851"/>
                  <a:pt x="1009" y="828"/>
                  <a:pt x="975" y="878"/>
                </a:cubicBezTo>
                <a:cubicBezTo>
                  <a:pt x="970" y="885"/>
                  <a:pt x="960" y="900"/>
                  <a:pt x="960" y="900"/>
                </a:cubicBezTo>
                <a:cubicBezTo>
                  <a:pt x="941" y="959"/>
                  <a:pt x="958" y="945"/>
                  <a:pt x="1012" y="937"/>
                </a:cubicBezTo>
                <a:cubicBezTo>
                  <a:pt x="1058" y="870"/>
                  <a:pt x="996" y="951"/>
                  <a:pt x="1049" y="908"/>
                </a:cubicBezTo>
                <a:cubicBezTo>
                  <a:pt x="1056" y="902"/>
                  <a:pt x="1057" y="891"/>
                  <a:pt x="1064" y="885"/>
                </a:cubicBezTo>
                <a:cubicBezTo>
                  <a:pt x="1081" y="871"/>
                  <a:pt x="1108" y="875"/>
                  <a:pt x="1130" y="871"/>
                </a:cubicBezTo>
                <a:cubicBezTo>
                  <a:pt x="1140" y="867"/>
                  <a:pt x="1176" y="855"/>
                  <a:pt x="1182" y="849"/>
                </a:cubicBezTo>
                <a:cubicBezTo>
                  <a:pt x="1193" y="838"/>
                  <a:pt x="1192" y="819"/>
                  <a:pt x="1197" y="804"/>
                </a:cubicBezTo>
                <a:cubicBezTo>
                  <a:pt x="1199" y="779"/>
                  <a:pt x="1196" y="753"/>
                  <a:pt x="1204" y="730"/>
                </a:cubicBezTo>
                <a:cubicBezTo>
                  <a:pt x="1207" y="723"/>
                  <a:pt x="1223" y="716"/>
                  <a:pt x="1226" y="723"/>
                </a:cubicBezTo>
                <a:cubicBezTo>
                  <a:pt x="1235" y="741"/>
                  <a:pt x="1231" y="814"/>
                  <a:pt x="1241" y="819"/>
                </a:cubicBezTo>
                <a:cubicBezTo>
                  <a:pt x="1261" y="829"/>
                  <a:pt x="1285" y="824"/>
                  <a:pt x="1307" y="826"/>
                </a:cubicBezTo>
                <a:cubicBezTo>
                  <a:pt x="1288" y="857"/>
                  <a:pt x="1276" y="855"/>
                  <a:pt x="1241" y="863"/>
                </a:cubicBezTo>
                <a:cubicBezTo>
                  <a:pt x="1209" y="911"/>
                  <a:pt x="1195" y="926"/>
                  <a:pt x="1145" y="959"/>
                </a:cubicBezTo>
                <a:cubicBezTo>
                  <a:pt x="1128" y="970"/>
                  <a:pt x="1105" y="968"/>
                  <a:pt x="1086" y="974"/>
                </a:cubicBezTo>
                <a:cubicBezTo>
                  <a:pt x="1045" y="1004"/>
                  <a:pt x="1000" y="1003"/>
                  <a:pt x="953" y="1018"/>
                </a:cubicBezTo>
                <a:cubicBezTo>
                  <a:pt x="907" y="1049"/>
                  <a:pt x="874" y="1113"/>
                  <a:pt x="857" y="1166"/>
                </a:cubicBezTo>
                <a:cubicBezTo>
                  <a:pt x="847" y="1266"/>
                  <a:pt x="848" y="1243"/>
                  <a:pt x="746" y="1233"/>
                </a:cubicBezTo>
                <a:cubicBezTo>
                  <a:pt x="737" y="1205"/>
                  <a:pt x="735" y="1217"/>
                  <a:pt x="746" y="119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34"/>
          <p:cNvSpPr/>
          <p:nvPr/>
        </p:nvSpPr>
        <p:spPr>
          <a:xfrm rot="3036600">
            <a:off x="1603800" y="2282040"/>
            <a:ext cx="1744560" cy="2209680"/>
          </a:xfrm>
          <a:custGeom>
            <a:avLst/>
            <a:gdLst/>
            <a:ahLst/>
            <a:rect l="l" t="t" r="r" b="b"/>
            <a:pathLst>
              <a:path w="3191" h="4043">
                <a:moveTo>
                  <a:pt x="2386" y="3782"/>
                </a:moveTo>
                <a:cubicBezTo>
                  <a:pt x="2423" y="3725"/>
                  <a:pt x="2447" y="3669"/>
                  <a:pt x="2467" y="3604"/>
                </a:cubicBezTo>
                <a:cubicBezTo>
                  <a:pt x="2472" y="3517"/>
                  <a:pt x="2459" y="3493"/>
                  <a:pt x="2496" y="3435"/>
                </a:cubicBezTo>
                <a:cubicBezTo>
                  <a:pt x="2505" y="3379"/>
                  <a:pt x="2513" y="3329"/>
                  <a:pt x="2519" y="3272"/>
                </a:cubicBezTo>
                <a:cubicBezTo>
                  <a:pt x="2516" y="3144"/>
                  <a:pt x="2567" y="3000"/>
                  <a:pt x="2504" y="2888"/>
                </a:cubicBezTo>
                <a:cubicBezTo>
                  <a:pt x="2480" y="2846"/>
                  <a:pt x="2457" y="2795"/>
                  <a:pt x="2430" y="2755"/>
                </a:cubicBezTo>
                <a:cubicBezTo>
                  <a:pt x="2420" y="2740"/>
                  <a:pt x="2410" y="2726"/>
                  <a:pt x="2400" y="2711"/>
                </a:cubicBezTo>
                <a:cubicBezTo>
                  <a:pt x="2395" y="2704"/>
                  <a:pt x="2386" y="2689"/>
                  <a:pt x="2386" y="2689"/>
                </a:cubicBezTo>
                <a:cubicBezTo>
                  <a:pt x="2384" y="2639"/>
                  <a:pt x="2408" y="2463"/>
                  <a:pt x="2356" y="2386"/>
                </a:cubicBezTo>
                <a:cubicBezTo>
                  <a:pt x="2338" y="2331"/>
                  <a:pt x="2362" y="2399"/>
                  <a:pt x="2334" y="2342"/>
                </a:cubicBezTo>
                <a:cubicBezTo>
                  <a:pt x="2305" y="2285"/>
                  <a:pt x="2290" y="2230"/>
                  <a:pt x="2223" y="2209"/>
                </a:cubicBezTo>
                <a:cubicBezTo>
                  <a:pt x="2207" y="2198"/>
                  <a:pt x="2187" y="2192"/>
                  <a:pt x="2172" y="2179"/>
                </a:cubicBezTo>
                <a:cubicBezTo>
                  <a:pt x="2165" y="2173"/>
                  <a:pt x="2163" y="2163"/>
                  <a:pt x="2157" y="2157"/>
                </a:cubicBezTo>
                <a:cubicBezTo>
                  <a:pt x="2139" y="2139"/>
                  <a:pt x="2090" y="2105"/>
                  <a:pt x="2068" y="2098"/>
                </a:cubicBezTo>
                <a:cubicBezTo>
                  <a:pt x="2021" y="2051"/>
                  <a:pt x="1961" y="2041"/>
                  <a:pt x="1898" y="2024"/>
                </a:cubicBezTo>
                <a:cubicBezTo>
                  <a:pt x="1827" y="1976"/>
                  <a:pt x="1939" y="2048"/>
                  <a:pt x="1839" y="2002"/>
                </a:cubicBezTo>
                <a:cubicBezTo>
                  <a:pt x="1789" y="1979"/>
                  <a:pt x="1750" y="1936"/>
                  <a:pt x="1706" y="1906"/>
                </a:cubicBezTo>
                <a:cubicBezTo>
                  <a:pt x="1686" y="1874"/>
                  <a:pt x="1661" y="1849"/>
                  <a:pt x="1640" y="1817"/>
                </a:cubicBezTo>
                <a:cubicBezTo>
                  <a:pt x="1635" y="1810"/>
                  <a:pt x="1625" y="1795"/>
                  <a:pt x="1625" y="1795"/>
                </a:cubicBezTo>
                <a:cubicBezTo>
                  <a:pt x="1614" y="1759"/>
                  <a:pt x="1601" y="1734"/>
                  <a:pt x="1566" y="1721"/>
                </a:cubicBezTo>
                <a:cubicBezTo>
                  <a:pt x="1520" y="1653"/>
                  <a:pt x="1481" y="1631"/>
                  <a:pt x="1404" y="1603"/>
                </a:cubicBezTo>
                <a:cubicBezTo>
                  <a:pt x="1372" y="1572"/>
                  <a:pt x="1336" y="1536"/>
                  <a:pt x="1293" y="1522"/>
                </a:cubicBezTo>
                <a:cubicBezTo>
                  <a:pt x="1250" y="1493"/>
                  <a:pt x="1240" y="1501"/>
                  <a:pt x="1182" y="1507"/>
                </a:cubicBezTo>
                <a:cubicBezTo>
                  <a:pt x="1119" y="1524"/>
                  <a:pt x="1072" y="1538"/>
                  <a:pt x="1005" y="1544"/>
                </a:cubicBezTo>
                <a:cubicBezTo>
                  <a:pt x="741" y="1528"/>
                  <a:pt x="842" y="1539"/>
                  <a:pt x="702" y="1522"/>
                </a:cubicBezTo>
                <a:cubicBezTo>
                  <a:pt x="668" y="1524"/>
                  <a:pt x="633" y="1525"/>
                  <a:pt x="599" y="1529"/>
                </a:cubicBezTo>
                <a:cubicBezTo>
                  <a:pt x="537" y="1536"/>
                  <a:pt x="476" y="1563"/>
                  <a:pt x="414" y="1574"/>
                </a:cubicBezTo>
                <a:cubicBezTo>
                  <a:pt x="399" y="1584"/>
                  <a:pt x="380" y="1588"/>
                  <a:pt x="370" y="1603"/>
                </a:cubicBezTo>
                <a:cubicBezTo>
                  <a:pt x="365" y="1610"/>
                  <a:pt x="362" y="1619"/>
                  <a:pt x="355" y="1625"/>
                </a:cubicBezTo>
                <a:cubicBezTo>
                  <a:pt x="352" y="1627"/>
                  <a:pt x="314" y="1639"/>
                  <a:pt x="311" y="1640"/>
                </a:cubicBezTo>
                <a:cubicBezTo>
                  <a:pt x="271" y="1666"/>
                  <a:pt x="239" y="1681"/>
                  <a:pt x="200" y="1714"/>
                </a:cubicBezTo>
                <a:cubicBezTo>
                  <a:pt x="164" y="1744"/>
                  <a:pt x="160" y="1769"/>
                  <a:pt x="111" y="1780"/>
                </a:cubicBezTo>
                <a:cubicBezTo>
                  <a:pt x="78" y="1803"/>
                  <a:pt x="76" y="1817"/>
                  <a:pt x="52" y="1780"/>
                </a:cubicBezTo>
                <a:cubicBezTo>
                  <a:pt x="63" y="1751"/>
                  <a:pt x="74" y="1739"/>
                  <a:pt x="104" y="1729"/>
                </a:cubicBezTo>
                <a:cubicBezTo>
                  <a:pt x="121" y="1704"/>
                  <a:pt x="134" y="1694"/>
                  <a:pt x="163" y="1684"/>
                </a:cubicBezTo>
                <a:cubicBezTo>
                  <a:pt x="187" y="1649"/>
                  <a:pt x="224" y="1605"/>
                  <a:pt x="259" y="1581"/>
                </a:cubicBezTo>
                <a:cubicBezTo>
                  <a:pt x="270" y="1547"/>
                  <a:pt x="275" y="1534"/>
                  <a:pt x="237" y="1522"/>
                </a:cubicBezTo>
                <a:cubicBezTo>
                  <a:pt x="202" y="1534"/>
                  <a:pt x="169" y="1551"/>
                  <a:pt x="133" y="1559"/>
                </a:cubicBezTo>
                <a:cubicBezTo>
                  <a:pt x="68" y="1538"/>
                  <a:pt x="166" y="1491"/>
                  <a:pt x="192" y="1485"/>
                </a:cubicBezTo>
                <a:cubicBezTo>
                  <a:pt x="160" y="1463"/>
                  <a:pt x="119" y="1453"/>
                  <a:pt x="82" y="1441"/>
                </a:cubicBezTo>
                <a:cubicBezTo>
                  <a:pt x="0" y="1385"/>
                  <a:pt x="60" y="1405"/>
                  <a:pt x="156" y="1411"/>
                </a:cubicBezTo>
                <a:cubicBezTo>
                  <a:pt x="222" y="1435"/>
                  <a:pt x="287" y="1460"/>
                  <a:pt x="355" y="1478"/>
                </a:cubicBezTo>
                <a:cubicBezTo>
                  <a:pt x="416" y="1471"/>
                  <a:pt x="448" y="1484"/>
                  <a:pt x="429" y="1426"/>
                </a:cubicBezTo>
                <a:cubicBezTo>
                  <a:pt x="471" y="1413"/>
                  <a:pt x="478" y="1446"/>
                  <a:pt x="517" y="1448"/>
                </a:cubicBezTo>
                <a:cubicBezTo>
                  <a:pt x="621" y="1453"/>
                  <a:pt x="724" y="1453"/>
                  <a:pt x="828" y="1456"/>
                </a:cubicBezTo>
                <a:cubicBezTo>
                  <a:pt x="881" y="1473"/>
                  <a:pt x="867" y="1484"/>
                  <a:pt x="879" y="1448"/>
                </a:cubicBezTo>
                <a:cubicBezTo>
                  <a:pt x="882" y="1441"/>
                  <a:pt x="884" y="1433"/>
                  <a:pt x="887" y="1426"/>
                </a:cubicBezTo>
                <a:cubicBezTo>
                  <a:pt x="882" y="1419"/>
                  <a:pt x="879" y="1410"/>
                  <a:pt x="872" y="1404"/>
                </a:cubicBezTo>
                <a:cubicBezTo>
                  <a:pt x="859" y="1392"/>
                  <a:pt x="828" y="1374"/>
                  <a:pt x="828" y="1374"/>
                </a:cubicBezTo>
                <a:cubicBezTo>
                  <a:pt x="797" y="1329"/>
                  <a:pt x="761" y="1342"/>
                  <a:pt x="702" y="1337"/>
                </a:cubicBezTo>
                <a:cubicBezTo>
                  <a:pt x="673" y="1328"/>
                  <a:pt x="663" y="1306"/>
                  <a:pt x="636" y="1293"/>
                </a:cubicBezTo>
                <a:cubicBezTo>
                  <a:pt x="614" y="1282"/>
                  <a:pt x="561" y="1280"/>
                  <a:pt x="547" y="1278"/>
                </a:cubicBezTo>
                <a:cubicBezTo>
                  <a:pt x="517" y="1273"/>
                  <a:pt x="493" y="1263"/>
                  <a:pt x="466" y="1249"/>
                </a:cubicBezTo>
                <a:cubicBezTo>
                  <a:pt x="403" y="1258"/>
                  <a:pt x="392" y="1264"/>
                  <a:pt x="325" y="1256"/>
                </a:cubicBezTo>
                <a:cubicBezTo>
                  <a:pt x="308" y="1259"/>
                  <a:pt x="290" y="1257"/>
                  <a:pt x="274" y="1264"/>
                </a:cubicBezTo>
                <a:cubicBezTo>
                  <a:pt x="266" y="1268"/>
                  <a:pt x="266" y="1281"/>
                  <a:pt x="259" y="1286"/>
                </a:cubicBezTo>
                <a:cubicBezTo>
                  <a:pt x="253" y="1291"/>
                  <a:pt x="244" y="1291"/>
                  <a:pt x="237" y="1293"/>
                </a:cubicBezTo>
                <a:cubicBezTo>
                  <a:pt x="185" y="1291"/>
                  <a:pt x="133" y="1295"/>
                  <a:pt x="82" y="1286"/>
                </a:cubicBezTo>
                <a:cubicBezTo>
                  <a:pt x="74" y="1285"/>
                  <a:pt x="71" y="1271"/>
                  <a:pt x="74" y="1264"/>
                </a:cubicBezTo>
                <a:cubicBezTo>
                  <a:pt x="75" y="1262"/>
                  <a:pt x="118" y="1249"/>
                  <a:pt x="119" y="1249"/>
                </a:cubicBezTo>
                <a:cubicBezTo>
                  <a:pt x="158" y="1245"/>
                  <a:pt x="198" y="1244"/>
                  <a:pt x="237" y="1241"/>
                </a:cubicBezTo>
                <a:cubicBezTo>
                  <a:pt x="274" y="1232"/>
                  <a:pt x="308" y="1234"/>
                  <a:pt x="340" y="1212"/>
                </a:cubicBezTo>
                <a:cubicBezTo>
                  <a:pt x="483" y="1217"/>
                  <a:pt x="550" y="1228"/>
                  <a:pt x="680" y="1219"/>
                </a:cubicBezTo>
                <a:cubicBezTo>
                  <a:pt x="646" y="1169"/>
                  <a:pt x="633" y="1180"/>
                  <a:pt x="672" y="1168"/>
                </a:cubicBezTo>
                <a:cubicBezTo>
                  <a:pt x="687" y="1173"/>
                  <a:pt x="712" y="1167"/>
                  <a:pt x="717" y="1182"/>
                </a:cubicBezTo>
                <a:cubicBezTo>
                  <a:pt x="724" y="1203"/>
                  <a:pt x="729" y="1257"/>
                  <a:pt x="761" y="1264"/>
                </a:cubicBezTo>
                <a:cubicBezTo>
                  <a:pt x="788" y="1270"/>
                  <a:pt x="815" y="1269"/>
                  <a:pt x="842" y="1271"/>
                </a:cubicBezTo>
                <a:cubicBezTo>
                  <a:pt x="891" y="1287"/>
                  <a:pt x="839" y="1265"/>
                  <a:pt x="879" y="1300"/>
                </a:cubicBezTo>
                <a:cubicBezTo>
                  <a:pt x="901" y="1319"/>
                  <a:pt x="948" y="1348"/>
                  <a:pt x="975" y="1360"/>
                </a:cubicBezTo>
                <a:cubicBezTo>
                  <a:pt x="1043" y="1389"/>
                  <a:pt x="1116" y="1379"/>
                  <a:pt x="1189" y="1382"/>
                </a:cubicBezTo>
                <a:cubicBezTo>
                  <a:pt x="1229" y="1394"/>
                  <a:pt x="1227" y="1425"/>
                  <a:pt x="1241" y="1382"/>
                </a:cubicBezTo>
                <a:cubicBezTo>
                  <a:pt x="1238" y="1342"/>
                  <a:pt x="1251" y="1295"/>
                  <a:pt x="1226" y="1264"/>
                </a:cubicBezTo>
                <a:cubicBezTo>
                  <a:pt x="1192" y="1222"/>
                  <a:pt x="1133" y="1198"/>
                  <a:pt x="1093" y="1160"/>
                </a:cubicBezTo>
                <a:cubicBezTo>
                  <a:pt x="1078" y="1113"/>
                  <a:pt x="1041" y="1094"/>
                  <a:pt x="1005" y="1064"/>
                </a:cubicBezTo>
                <a:cubicBezTo>
                  <a:pt x="975" y="1039"/>
                  <a:pt x="963" y="1005"/>
                  <a:pt x="931" y="983"/>
                </a:cubicBezTo>
                <a:cubicBezTo>
                  <a:pt x="912" y="955"/>
                  <a:pt x="895" y="946"/>
                  <a:pt x="864" y="931"/>
                </a:cubicBezTo>
                <a:cubicBezTo>
                  <a:pt x="835" y="886"/>
                  <a:pt x="842" y="841"/>
                  <a:pt x="850" y="791"/>
                </a:cubicBezTo>
                <a:cubicBezTo>
                  <a:pt x="845" y="708"/>
                  <a:pt x="868" y="632"/>
                  <a:pt x="798" y="584"/>
                </a:cubicBezTo>
                <a:cubicBezTo>
                  <a:pt x="782" y="560"/>
                  <a:pt x="763" y="546"/>
                  <a:pt x="754" y="518"/>
                </a:cubicBezTo>
                <a:cubicBezTo>
                  <a:pt x="785" y="507"/>
                  <a:pt x="767" y="508"/>
                  <a:pt x="798" y="518"/>
                </a:cubicBezTo>
                <a:cubicBezTo>
                  <a:pt x="813" y="523"/>
                  <a:pt x="842" y="532"/>
                  <a:pt x="842" y="532"/>
                </a:cubicBezTo>
                <a:cubicBezTo>
                  <a:pt x="873" y="553"/>
                  <a:pt x="889" y="587"/>
                  <a:pt x="916" y="614"/>
                </a:cubicBezTo>
                <a:cubicBezTo>
                  <a:pt x="931" y="656"/>
                  <a:pt x="894" y="748"/>
                  <a:pt x="953" y="710"/>
                </a:cubicBezTo>
                <a:cubicBezTo>
                  <a:pt x="970" y="712"/>
                  <a:pt x="989" y="710"/>
                  <a:pt x="1005" y="717"/>
                </a:cubicBezTo>
                <a:cubicBezTo>
                  <a:pt x="1062" y="742"/>
                  <a:pt x="969" y="778"/>
                  <a:pt x="953" y="784"/>
                </a:cubicBezTo>
                <a:cubicBezTo>
                  <a:pt x="958" y="845"/>
                  <a:pt x="944" y="878"/>
                  <a:pt x="990" y="909"/>
                </a:cubicBezTo>
                <a:cubicBezTo>
                  <a:pt x="1007" y="907"/>
                  <a:pt x="1030" y="915"/>
                  <a:pt x="1042" y="902"/>
                </a:cubicBezTo>
                <a:cubicBezTo>
                  <a:pt x="1055" y="887"/>
                  <a:pt x="1042" y="861"/>
                  <a:pt x="1049" y="843"/>
                </a:cubicBezTo>
                <a:cubicBezTo>
                  <a:pt x="1052" y="835"/>
                  <a:pt x="1064" y="833"/>
                  <a:pt x="1071" y="828"/>
                </a:cubicBezTo>
                <a:cubicBezTo>
                  <a:pt x="1148" y="852"/>
                  <a:pt x="1087" y="826"/>
                  <a:pt x="1101" y="1005"/>
                </a:cubicBezTo>
                <a:cubicBezTo>
                  <a:pt x="1105" y="1057"/>
                  <a:pt x="1145" y="1063"/>
                  <a:pt x="1182" y="1086"/>
                </a:cubicBezTo>
                <a:cubicBezTo>
                  <a:pt x="1279" y="1055"/>
                  <a:pt x="1238" y="869"/>
                  <a:pt x="1167" y="820"/>
                </a:cubicBezTo>
                <a:cubicBezTo>
                  <a:pt x="1152" y="773"/>
                  <a:pt x="1180" y="790"/>
                  <a:pt x="1204" y="806"/>
                </a:cubicBezTo>
                <a:cubicBezTo>
                  <a:pt x="1224" y="836"/>
                  <a:pt x="1225" y="855"/>
                  <a:pt x="1263" y="843"/>
                </a:cubicBezTo>
                <a:cubicBezTo>
                  <a:pt x="1291" y="814"/>
                  <a:pt x="1298" y="811"/>
                  <a:pt x="1337" y="820"/>
                </a:cubicBezTo>
                <a:cubicBezTo>
                  <a:pt x="1285" y="855"/>
                  <a:pt x="1300" y="848"/>
                  <a:pt x="1271" y="894"/>
                </a:cubicBezTo>
                <a:cubicBezTo>
                  <a:pt x="1275" y="997"/>
                  <a:pt x="1248" y="1218"/>
                  <a:pt x="1359" y="1293"/>
                </a:cubicBezTo>
                <a:cubicBezTo>
                  <a:pt x="1376" y="1341"/>
                  <a:pt x="1353" y="1294"/>
                  <a:pt x="1389" y="1323"/>
                </a:cubicBezTo>
                <a:cubicBezTo>
                  <a:pt x="1396" y="1329"/>
                  <a:pt x="1398" y="1339"/>
                  <a:pt x="1404" y="1345"/>
                </a:cubicBezTo>
                <a:cubicBezTo>
                  <a:pt x="1410" y="1351"/>
                  <a:pt x="1419" y="1355"/>
                  <a:pt x="1426" y="1360"/>
                </a:cubicBezTo>
                <a:cubicBezTo>
                  <a:pt x="1437" y="1393"/>
                  <a:pt x="1475" y="1416"/>
                  <a:pt x="1500" y="1441"/>
                </a:cubicBezTo>
                <a:cubicBezTo>
                  <a:pt x="1506" y="1447"/>
                  <a:pt x="1507" y="1458"/>
                  <a:pt x="1514" y="1463"/>
                </a:cubicBezTo>
                <a:cubicBezTo>
                  <a:pt x="1529" y="1473"/>
                  <a:pt x="1549" y="1472"/>
                  <a:pt x="1566" y="1478"/>
                </a:cubicBezTo>
                <a:cubicBezTo>
                  <a:pt x="1610" y="1522"/>
                  <a:pt x="1650" y="1524"/>
                  <a:pt x="1714" y="1529"/>
                </a:cubicBezTo>
                <a:cubicBezTo>
                  <a:pt x="1750" y="1542"/>
                  <a:pt x="1780" y="1559"/>
                  <a:pt x="1817" y="1566"/>
                </a:cubicBezTo>
                <a:cubicBezTo>
                  <a:pt x="1832" y="1564"/>
                  <a:pt x="1856" y="1573"/>
                  <a:pt x="1861" y="1559"/>
                </a:cubicBezTo>
                <a:cubicBezTo>
                  <a:pt x="1872" y="1531"/>
                  <a:pt x="1858" y="1500"/>
                  <a:pt x="1854" y="1470"/>
                </a:cubicBezTo>
                <a:cubicBezTo>
                  <a:pt x="1850" y="1440"/>
                  <a:pt x="1823" y="1409"/>
                  <a:pt x="1810" y="1382"/>
                </a:cubicBezTo>
                <a:cubicBezTo>
                  <a:pt x="1779" y="1319"/>
                  <a:pt x="1796" y="1294"/>
                  <a:pt x="1728" y="1249"/>
                </a:cubicBezTo>
                <a:cubicBezTo>
                  <a:pt x="1718" y="1234"/>
                  <a:pt x="1701" y="1222"/>
                  <a:pt x="1699" y="1204"/>
                </a:cubicBezTo>
                <a:cubicBezTo>
                  <a:pt x="1697" y="1185"/>
                  <a:pt x="1695" y="1117"/>
                  <a:pt x="1677" y="1094"/>
                </a:cubicBezTo>
                <a:cubicBezTo>
                  <a:pt x="1664" y="1077"/>
                  <a:pt x="1647" y="1064"/>
                  <a:pt x="1632" y="1049"/>
                </a:cubicBezTo>
                <a:cubicBezTo>
                  <a:pt x="1543" y="960"/>
                  <a:pt x="1645" y="1034"/>
                  <a:pt x="1581" y="990"/>
                </a:cubicBezTo>
                <a:cubicBezTo>
                  <a:pt x="1559" y="958"/>
                  <a:pt x="1535" y="933"/>
                  <a:pt x="1514" y="902"/>
                </a:cubicBezTo>
                <a:cubicBezTo>
                  <a:pt x="1493" y="836"/>
                  <a:pt x="1498" y="873"/>
                  <a:pt x="1507" y="791"/>
                </a:cubicBezTo>
                <a:cubicBezTo>
                  <a:pt x="1501" y="732"/>
                  <a:pt x="1508" y="717"/>
                  <a:pt x="1463" y="688"/>
                </a:cubicBezTo>
                <a:cubicBezTo>
                  <a:pt x="1438" y="650"/>
                  <a:pt x="1456" y="670"/>
                  <a:pt x="1404" y="636"/>
                </a:cubicBezTo>
                <a:cubicBezTo>
                  <a:pt x="1395" y="630"/>
                  <a:pt x="1388" y="622"/>
                  <a:pt x="1381" y="614"/>
                </a:cubicBezTo>
                <a:cubicBezTo>
                  <a:pt x="1375" y="607"/>
                  <a:pt x="1359" y="596"/>
                  <a:pt x="1367" y="592"/>
                </a:cubicBezTo>
                <a:cubicBezTo>
                  <a:pt x="1382" y="584"/>
                  <a:pt x="1445" y="609"/>
                  <a:pt x="1463" y="614"/>
                </a:cubicBezTo>
                <a:cubicBezTo>
                  <a:pt x="1470" y="619"/>
                  <a:pt x="1480" y="621"/>
                  <a:pt x="1485" y="628"/>
                </a:cubicBezTo>
                <a:cubicBezTo>
                  <a:pt x="1490" y="634"/>
                  <a:pt x="1486" y="645"/>
                  <a:pt x="1492" y="651"/>
                </a:cubicBezTo>
                <a:cubicBezTo>
                  <a:pt x="1516" y="675"/>
                  <a:pt x="1532" y="679"/>
                  <a:pt x="1559" y="688"/>
                </a:cubicBezTo>
                <a:cubicBezTo>
                  <a:pt x="1578" y="749"/>
                  <a:pt x="1571" y="717"/>
                  <a:pt x="1581" y="784"/>
                </a:cubicBezTo>
                <a:cubicBezTo>
                  <a:pt x="1584" y="783"/>
                  <a:pt x="1646" y="766"/>
                  <a:pt x="1655" y="784"/>
                </a:cubicBezTo>
                <a:cubicBezTo>
                  <a:pt x="1660" y="795"/>
                  <a:pt x="1650" y="808"/>
                  <a:pt x="1647" y="820"/>
                </a:cubicBezTo>
                <a:cubicBezTo>
                  <a:pt x="1650" y="864"/>
                  <a:pt x="1626" y="964"/>
                  <a:pt x="1684" y="983"/>
                </a:cubicBezTo>
                <a:cubicBezTo>
                  <a:pt x="1703" y="1035"/>
                  <a:pt x="1694" y="1045"/>
                  <a:pt x="1743" y="1079"/>
                </a:cubicBezTo>
                <a:cubicBezTo>
                  <a:pt x="1753" y="1094"/>
                  <a:pt x="1767" y="1106"/>
                  <a:pt x="1773" y="1123"/>
                </a:cubicBezTo>
                <a:cubicBezTo>
                  <a:pt x="1778" y="1138"/>
                  <a:pt x="1783" y="1153"/>
                  <a:pt x="1788" y="1168"/>
                </a:cubicBezTo>
                <a:cubicBezTo>
                  <a:pt x="1792" y="1180"/>
                  <a:pt x="1789" y="1193"/>
                  <a:pt x="1795" y="1204"/>
                </a:cubicBezTo>
                <a:cubicBezTo>
                  <a:pt x="1799" y="1212"/>
                  <a:pt x="1810" y="1214"/>
                  <a:pt x="1817" y="1219"/>
                </a:cubicBezTo>
                <a:cubicBezTo>
                  <a:pt x="1823" y="1173"/>
                  <a:pt x="1831" y="1129"/>
                  <a:pt x="1847" y="1086"/>
                </a:cubicBezTo>
                <a:cubicBezTo>
                  <a:pt x="1844" y="993"/>
                  <a:pt x="1846" y="899"/>
                  <a:pt x="1839" y="806"/>
                </a:cubicBezTo>
                <a:cubicBezTo>
                  <a:pt x="1838" y="788"/>
                  <a:pt x="1818" y="777"/>
                  <a:pt x="1810" y="761"/>
                </a:cubicBezTo>
                <a:cubicBezTo>
                  <a:pt x="1774" y="687"/>
                  <a:pt x="1711" y="629"/>
                  <a:pt x="1684" y="555"/>
                </a:cubicBezTo>
                <a:cubicBezTo>
                  <a:pt x="1679" y="460"/>
                  <a:pt x="1704" y="429"/>
                  <a:pt x="1640" y="385"/>
                </a:cubicBezTo>
                <a:cubicBezTo>
                  <a:pt x="1631" y="360"/>
                  <a:pt x="1625" y="340"/>
                  <a:pt x="1610" y="318"/>
                </a:cubicBezTo>
                <a:cubicBezTo>
                  <a:pt x="1592" y="263"/>
                  <a:pt x="1602" y="220"/>
                  <a:pt x="1551" y="185"/>
                </a:cubicBezTo>
                <a:cubicBezTo>
                  <a:pt x="1523" y="144"/>
                  <a:pt x="1477" y="132"/>
                  <a:pt x="1448" y="89"/>
                </a:cubicBezTo>
                <a:cubicBezTo>
                  <a:pt x="1438" y="74"/>
                  <a:pt x="1428" y="60"/>
                  <a:pt x="1418" y="45"/>
                </a:cubicBezTo>
                <a:cubicBezTo>
                  <a:pt x="1413" y="38"/>
                  <a:pt x="1409" y="30"/>
                  <a:pt x="1404" y="23"/>
                </a:cubicBezTo>
                <a:cubicBezTo>
                  <a:pt x="1399" y="16"/>
                  <a:pt x="1380" y="0"/>
                  <a:pt x="1389" y="1"/>
                </a:cubicBezTo>
                <a:cubicBezTo>
                  <a:pt x="1411" y="3"/>
                  <a:pt x="1433" y="6"/>
                  <a:pt x="1455" y="8"/>
                </a:cubicBezTo>
                <a:cubicBezTo>
                  <a:pt x="1508" y="27"/>
                  <a:pt x="1470" y="68"/>
                  <a:pt x="1500" y="97"/>
                </a:cubicBezTo>
                <a:cubicBezTo>
                  <a:pt x="1528" y="124"/>
                  <a:pt x="1581" y="146"/>
                  <a:pt x="1618" y="156"/>
                </a:cubicBezTo>
                <a:cubicBezTo>
                  <a:pt x="1677" y="196"/>
                  <a:pt x="1611" y="161"/>
                  <a:pt x="1647" y="60"/>
                </a:cubicBezTo>
                <a:cubicBezTo>
                  <a:pt x="1649" y="56"/>
                  <a:pt x="1695" y="73"/>
                  <a:pt x="1699" y="75"/>
                </a:cubicBezTo>
                <a:cubicBezTo>
                  <a:pt x="1709" y="107"/>
                  <a:pt x="1714" y="113"/>
                  <a:pt x="1699" y="156"/>
                </a:cubicBezTo>
                <a:cubicBezTo>
                  <a:pt x="1693" y="173"/>
                  <a:pt x="1669" y="200"/>
                  <a:pt x="1669" y="200"/>
                </a:cubicBezTo>
                <a:cubicBezTo>
                  <a:pt x="1653" y="251"/>
                  <a:pt x="1647" y="249"/>
                  <a:pt x="1662" y="311"/>
                </a:cubicBezTo>
                <a:cubicBezTo>
                  <a:pt x="1668" y="336"/>
                  <a:pt x="1721" y="363"/>
                  <a:pt x="1721" y="363"/>
                </a:cubicBezTo>
                <a:cubicBezTo>
                  <a:pt x="1730" y="402"/>
                  <a:pt x="1731" y="442"/>
                  <a:pt x="1743" y="481"/>
                </a:cubicBezTo>
                <a:cubicBezTo>
                  <a:pt x="1752" y="548"/>
                  <a:pt x="1769" y="606"/>
                  <a:pt x="1839" y="628"/>
                </a:cubicBezTo>
                <a:cubicBezTo>
                  <a:pt x="1850" y="644"/>
                  <a:pt x="1867" y="656"/>
                  <a:pt x="1876" y="673"/>
                </a:cubicBezTo>
                <a:cubicBezTo>
                  <a:pt x="1881" y="683"/>
                  <a:pt x="1887" y="736"/>
                  <a:pt x="1891" y="747"/>
                </a:cubicBezTo>
                <a:cubicBezTo>
                  <a:pt x="1893" y="753"/>
                  <a:pt x="1927" y="797"/>
                  <a:pt x="1928" y="798"/>
                </a:cubicBezTo>
                <a:cubicBezTo>
                  <a:pt x="1937" y="827"/>
                  <a:pt x="1941" y="854"/>
                  <a:pt x="1957" y="880"/>
                </a:cubicBezTo>
                <a:cubicBezTo>
                  <a:pt x="1960" y="946"/>
                  <a:pt x="1958" y="1013"/>
                  <a:pt x="1965" y="1079"/>
                </a:cubicBezTo>
                <a:cubicBezTo>
                  <a:pt x="1967" y="1095"/>
                  <a:pt x="1980" y="1108"/>
                  <a:pt x="1987" y="1123"/>
                </a:cubicBezTo>
                <a:cubicBezTo>
                  <a:pt x="1991" y="1131"/>
                  <a:pt x="2002" y="1145"/>
                  <a:pt x="2002" y="1145"/>
                </a:cubicBezTo>
                <a:cubicBezTo>
                  <a:pt x="2033" y="1223"/>
                  <a:pt x="2064" y="1300"/>
                  <a:pt x="2094" y="1378"/>
                </a:cubicBezTo>
                <a:cubicBezTo>
                  <a:pt x="2113" y="1428"/>
                  <a:pt x="2125" y="1484"/>
                  <a:pt x="2172" y="1515"/>
                </a:cubicBezTo>
                <a:cubicBezTo>
                  <a:pt x="2178" y="1534"/>
                  <a:pt x="2183" y="1566"/>
                  <a:pt x="2201" y="1581"/>
                </a:cubicBezTo>
                <a:cubicBezTo>
                  <a:pt x="2214" y="1593"/>
                  <a:pt x="2245" y="1611"/>
                  <a:pt x="2245" y="1611"/>
                </a:cubicBezTo>
                <a:cubicBezTo>
                  <a:pt x="2297" y="1577"/>
                  <a:pt x="2337" y="1609"/>
                  <a:pt x="2386" y="1625"/>
                </a:cubicBezTo>
                <a:cubicBezTo>
                  <a:pt x="2418" y="1650"/>
                  <a:pt x="2435" y="1687"/>
                  <a:pt x="2474" y="1699"/>
                </a:cubicBezTo>
                <a:cubicBezTo>
                  <a:pt x="2512" y="1728"/>
                  <a:pt x="2551" y="1754"/>
                  <a:pt x="2585" y="1788"/>
                </a:cubicBezTo>
                <a:cubicBezTo>
                  <a:pt x="2597" y="1827"/>
                  <a:pt x="2588" y="1804"/>
                  <a:pt x="2622" y="1854"/>
                </a:cubicBezTo>
                <a:cubicBezTo>
                  <a:pt x="2627" y="1861"/>
                  <a:pt x="2637" y="1876"/>
                  <a:pt x="2637" y="1876"/>
                </a:cubicBezTo>
                <a:cubicBezTo>
                  <a:pt x="2648" y="1922"/>
                  <a:pt x="2652" y="1903"/>
                  <a:pt x="2688" y="1928"/>
                </a:cubicBezTo>
                <a:cubicBezTo>
                  <a:pt x="2709" y="1970"/>
                  <a:pt x="2737" y="2007"/>
                  <a:pt x="2762" y="2046"/>
                </a:cubicBezTo>
                <a:cubicBezTo>
                  <a:pt x="2768" y="2055"/>
                  <a:pt x="2770" y="2067"/>
                  <a:pt x="2777" y="2076"/>
                </a:cubicBezTo>
                <a:cubicBezTo>
                  <a:pt x="2783" y="2083"/>
                  <a:pt x="2793" y="2085"/>
                  <a:pt x="2799" y="2091"/>
                </a:cubicBezTo>
                <a:cubicBezTo>
                  <a:pt x="2808" y="2100"/>
                  <a:pt x="2814" y="2110"/>
                  <a:pt x="2821" y="2120"/>
                </a:cubicBezTo>
                <a:cubicBezTo>
                  <a:pt x="2853" y="2165"/>
                  <a:pt x="2878" y="2214"/>
                  <a:pt x="2917" y="2253"/>
                </a:cubicBezTo>
                <a:cubicBezTo>
                  <a:pt x="2926" y="2277"/>
                  <a:pt x="2939" y="2295"/>
                  <a:pt x="2947" y="2320"/>
                </a:cubicBezTo>
                <a:cubicBezTo>
                  <a:pt x="2949" y="2413"/>
                  <a:pt x="2950" y="2507"/>
                  <a:pt x="2954" y="2600"/>
                </a:cubicBezTo>
                <a:cubicBezTo>
                  <a:pt x="2955" y="2630"/>
                  <a:pt x="2963" y="2675"/>
                  <a:pt x="2976" y="2704"/>
                </a:cubicBezTo>
                <a:cubicBezTo>
                  <a:pt x="2985" y="2724"/>
                  <a:pt x="3006" y="2763"/>
                  <a:pt x="3006" y="2763"/>
                </a:cubicBezTo>
                <a:cubicBezTo>
                  <a:pt x="3011" y="2801"/>
                  <a:pt x="3020" y="2830"/>
                  <a:pt x="3028" y="2866"/>
                </a:cubicBezTo>
                <a:cubicBezTo>
                  <a:pt x="3031" y="3048"/>
                  <a:pt x="3031" y="3230"/>
                  <a:pt x="3036" y="3412"/>
                </a:cubicBezTo>
                <a:cubicBezTo>
                  <a:pt x="3037" y="3437"/>
                  <a:pt x="3059" y="3512"/>
                  <a:pt x="3072" y="3531"/>
                </a:cubicBezTo>
                <a:cubicBezTo>
                  <a:pt x="3082" y="3546"/>
                  <a:pt x="3102" y="3575"/>
                  <a:pt x="3102" y="3575"/>
                </a:cubicBezTo>
                <a:cubicBezTo>
                  <a:pt x="3116" y="3620"/>
                  <a:pt x="3127" y="3676"/>
                  <a:pt x="3154" y="3715"/>
                </a:cubicBezTo>
                <a:cubicBezTo>
                  <a:pt x="3164" y="3746"/>
                  <a:pt x="3180" y="3773"/>
                  <a:pt x="3191" y="3804"/>
                </a:cubicBezTo>
                <a:cubicBezTo>
                  <a:pt x="2950" y="3902"/>
                  <a:pt x="2220" y="4043"/>
                  <a:pt x="2393" y="3789"/>
                </a:cubicBezTo>
                <a:cubicBezTo>
                  <a:pt x="2384" y="3762"/>
                  <a:pt x="2386" y="3759"/>
                  <a:pt x="2386" y="37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95"/>
          <p:cNvGrpSpPr/>
          <p:nvPr/>
        </p:nvGrpSpPr>
        <p:grpSpPr>
          <a:xfrm>
            <a:off x="238680" y="2833920"/>
            <a:ext cx="2645280" cy="3060000"/>
            <a:chOff x="238680" y="2833920"/>
            <a:chExt cx="2645280" cy="3060000"/>
          </a:xfrm>
        </p:grpSpPr>
        <p:sp>
          <p:nvSpPr>
            <p:cNvPr id="135" name="Freeform 125"/>
            <p:cNvSpPr/>
            <p:nvPr/>
          </p:nvSpPr>
          <p:spPr>
            <a:xfrm rot="20239200">
              <a:off x="1593720" y="3276720"/>
              <a:ext cx="61920" cy="1904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26"/>
            <p:cNvSpPr/>
            <p:nvPr/>
          </p:nvSpPr>
          <p:spPr>
            <a:xfrm rot="20772000">
              <a:off x="2255400" y="4270320"/>
              <a:ext cx="76320" cy="1620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8"/>
            <p:cNvSpPr/>
            <p:nvPr/>
          </p:nvSpPr>
          <p:spPr>
            <a:xfrm flipH="1" rot="2334000">
              <a:off x="2373840" y="4538160"/>
              <a:ext cx="123840" cy="3780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9"/>
            <p:cNvSpPr/>
            <p:nvPr/>
          </p:nvSpPr>
          <p:spPr>
            <a:xfrm rot="18624000">
              <a:off x="1679760" y="3787200"/>
              <a:ext cx="114480" cy="37620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3"/>
            <p:cNvSpPr/>
            <p:nvPr/>
          </p:nvSpPr>
          <p:spPr>
            <a:xfrm rot="794400">
              <a:off x="514440" y="3038400"/>
              <a:ext cx="2093760" cy="265104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5"/>
            <p:cNvSpPr/>
            <p:nvPr/>
          </p:nvSpPr>
          <p:spPr>
            <a:xfrm rot="222000">
              <a:off x="2091960" y="4381560"/>
              <a:ext cx="290520" cy="30780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6"/>
            <p:cNvSpPr/>
            <p:nvPr/>
          </p:nvSpPr>
          <p:spPr>
            <a:xfrm rot="14685000">
              <a:off x="892080" y="3814920"/>
              <a:ext cx="146160" cy="31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7"/>
            <p:cNvSpPr/>
            <p:nvPr/>
          </p:nvSpPr>
          <p:spPr>
            <a:xfrm flipH="1" rot="21304200">
              <a:off x="2061360" y="4202280"/>
              <a:ext cx="119160" cy="1332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3"/>
          <p:cNvGrpSpPr/>
          <p:nvPr/>
        </p:nvGrpSpPr>
        <p:grpSpPr>
          <a:xfrm>
            <a:off x="5232240" y="1482480"/>
            <a:ext cx="2416680" cy="4498920"/>
            <a:chOff x="5232240" y="1482480"/>
            <a:chExt cx="2416680" cy="4498920"/>
          </a:xfrm>
        </p:grpSpPr>
        <p:sp>
          <p:nvSpPr>
            <p:cNvPr id="144" name="Freeform 74"/>
            <p:cNvSpPr/>
            <p:nvPr/>
          </p:nvSpPr>
          <p:spPr>
            <a:xfrm>
              <a:off x="5232240" y="1816200"/>
              <a:ext cx="2390760" cy="416520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5"/>
            <p:cNvSpPr/>
            <p:nvPr/>
          </p:nvSpPr>
          <p:spPr>
            <a:xfrm rot="19444800">
              <a:off x="5364000" y="3696840"/>
              <a:ext cx="131760" cy="3988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6"/>
            <p:cNvSpPr/>
            <p:nvPr/>
          </p:nvSpPr>
          <p:spPr>
            <a:xfrm rot="19977600">
              <a:off x="6752520" y="1551960"/>
              <a:ext cx="159840" cy="3412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7"/>
            <p:cNvSpPr/>
            <p:nvPr/>
          </p:nvSpPr>
          <p:spPr>
            <a:xfrm rot="19977600">
              <a:off x="5446800" y="2810520"/>
              <a:ext cx="123480" cy="2642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8"/>
            <p:cNvSpPr/>
            <p:nvPr/>
          </p:nvSpPr>
          <p:spPr>
            <a:xfrm flipH="1" rot="105000">
              <a:off x="7083000" y="1486080"/>
              <a:ext cx="261720" cy="793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9"/>
            <p:cNvSpPr/>
            <p:nvPr/>
          </p:nvSpPr>
          <p:spPr>
            <a:xfrm rot="2655000">
              <a:off x="7048080" y="2874240"/>
              <a:ext cx="298800" cy="9860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0"/>
            <p:cNvSpPr/>
            <p:nvPr/>
          </p:nvSpPr>
          <p:spPr>
            <a:xfrm rot="1891800">
              <a:off x="6977880" y="2707200"/>
              <a:ext cx="150120" cy="3222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1"/>
            <p:cNvSpPr/>
            <p:nvPr/>
          </p:nvSpPr>
          <p:spPr>
            <a:xfrm rot="19444800">
              <a:off x="6554160" y="3667680"/>
              <a:ext cx="131760" cy="3992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2"/>
            <p:cNvSpPr/>
            <p:nvPr/>
          </p:nvSpPr>
          <p:spPr>
            <a:xfrm rot="19676400">
              <a:off x="6167160" y="1664640"/>
              <a:ext cx="330120" cy="3193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38"/>
          <p:cNvGrpSpPr/>
          <p:nvPr/>
        </p:nvGrpSpPr>
        <p:grpSpPr>
          <a:xfrm>
            <a:off x="7125840" y="2214720"/>
            <a:ext cx="686520" cy="688680"/>
            <a:chOff x="7125840" y="2214720"/>
            <a:chExt cx="686520" cy="688680"/>
          </a:xfrm>
        </p:grpSpPr>
        <p:sp>
          <p:nvSpPr>
            <p:cNvPr id="154" name="Freeform 139"/>
            <p:cNvSpPr/>
            <p:nvPr/>
          </p:nvSpPr>
          <p:spPr>
            <a:xfrm flipH="1" rot="10732200">
              <a:off x="7544880" y="2716560"/>
              <a:ext cx="13320" cy="378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0"/>
            <p:cNvSpPr/>
            <p:nvPr/>
          </p:nvSpPr>
          <p:spPr>
            <a:xfrm flipH="1" rot="10198800">
              <a:off x="7595640" y="2480400"/>
              <a:ext cx="15840" cy="316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41"/>
            <p:cNvSpPr/>
            <p:nvPr/>
          </p:nvSpPr>
          <p:spPr>
            <a:xfrm flipH="1" rot="10198800">
              <a:off x="7743240" y="2597400"/>
              <a:ext cx="12240" cy="248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42"/>
            <p:cNvSpPr/>
            <p:nvPr/>
          </p:nvSpPr>
          <p:spPr>
            <a:xfrm rot="7037400">
              <a:off x="7589520" y="2377800"/>
              <a:ext cx="26280" cy="7452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3"/>
            <p:cNvSpPr/>
            <p:nvPr/>
          </p:nvSpPr>
          <p:spPr>
            <a:xfrm flipH="1" rot="12347400">
              <a:off x="7515360" y="2574720"/>
              <a:ext cx="22320" cy="7956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4"/>
            <p:cNvSpPr/>
            <p:nvPr/>
          </p:nvSpPr>
          <p:spPr>
            <a:xfrm flipH="1" rot="6685200">
              <a:off x="7661880" y="2486520"/>
              <a:ext cx="15120" cy="302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45"/>
            <p:cNvSpPr/>
            <p:nvPr/>
          </p:nvSpPr>
          <p:spPr>
            <a:xfrm flipH="1" rot="10732200">
              <a:off x="7697520" y="2585160"/>
              <a:ext cx="13320" cy="378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46"/>
            <p:cNvSpPr/>
            <p:nvPr/>
          </p:nvSpPr>
          <p:spPr>
            <a:xfrm flipH="1" rot="10500600">
              <a:off x="7642800" y="2580480"/>
              <a:ext cx="33120" cy="3024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7"/>
            <p:cNvSpPr/>
            <p:nvPr/>
          </p:nvSpPr>
          <p:spPr>
            <a:xfrm flipH="1" rot="8576400">
              <a:off x="7239240" y="2295360"/>
              <a:ext cx="444960" cy="52704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48"/>
            <p:cNvSpPr/>
            <p:nvPr/>
          </p:nvSpPr>
          <p:spPr>
            <a:xfrm flipH="1" rot="6334200">
              <a:off x="7524360" y="2440440"/>
              <a:ext cx="238680" cy="28296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9"/>
            <p:cNvSpPr/>
            <p:nvPr/>
          </p:nvSpPr>
          <p:spPr>
            <a:xfrm flipH="1" rot="9148800">
              <a:off x="7548120" y="2436840"/>
              <a:ext cx="61560" cy="6120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0"/>
            <p:cNvSpPr/>
            <p:nvPr/>
          </p:nvSpPr>
          <p:spPr>
            <a:xfrm flipH="1" rot="16286400">
              <a:off x="7363080" y="2650680"/>
              <a:ext cx="28800" cy="658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1"/>
            <p:cNvSpPr/>
            <p:nvPr/>
          </p:nvSpPr>
          <p:spPr>
            <a:xfrm rot="9667200">
              <a:off x="7564680" y="2513520"/>
              <a:ext cx="25560" cy="262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2"/>
          <p:cNvGrpSpPr/>
          <p:nvPr/>
        </p:nvGrpSpPr>
        <p:grpSpPr>
          <a:xfrm>
            <a:off x="6346800" y="2440080"/>
            <a:ext cx="457200" cy="381240"/>
            <a:chOff x="6346800" y="2440080"/>
            <a:chExt cx="457200" cy="381240"/>
          </a:xfrm>
        </p:grpSpPr>
        <p:sp>
          <p:nvSpPr>
            <p:cNvPr id="168" name="Freeform 153"/>
            <p:cNvSpPr/>
            <p:nvPr/>
          </p:nvSpPr>
          <p:spPr>
            <a:xfrm rot="13515000">
              <a:off x="6442920" y="2670840"/>
              <a:ext cx="9000" cy="28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4"/>
            <p:cNvSpPr/>
            <p:nvPr/>
          </p:nvSpPr>
          <p:spPr>
            <a:xfrm rot="14047800">
              <a:off x="6538680" y="2527200"/>
              <a:ext cx="11160" cy="237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55"/>
            <p:cNvSpPr/>
            <p:nvPr/>
          </p:nvSpPr>
          <p:spPr>
            <a:xfrm rot="14047800">
              <a:off x="6404040" y="2517120"/>
              <a:ext cx="8640" cy="183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6"/>
            <p:cNvSpPr/>
            <p:nvPr/>
          </p:nvSpPr>
          <p:spPr>
            <a:xfrm flipH="1" rot="17209800">
              <a:off x="6578280" y="2470680"/>
              <a:ext cx="18360" cy="558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7"/>
            <p:cNvSpPr/>
            <p:nvPr/>
          </p:nvSpPr>
          <p:spPr>
            <a:xfrm rot="11899800">
              <a:off x="6515280" y="2608200"/>
              <a:ext cx="16560" cy="554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8"/>
            <p:cNvSpPr/>
            <p:nvPr/>
          </p:nvSpPr>
          <p:spPr>
            <a:xfrm rot="17562000">
              <a:off x="6502320" y="2499120"/>
              <a:ext cx="10440" cy="226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59"/>
            <p:cNvSpPr/>
            <p:nvPr/>
          </p:nvSpPr>
          <p:spPr>
            <a:xfrm rot="13515000">
              <a:off x="6430680" y="2531880"/>
              <a:ext cx="9000" cy="28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60"/>
            <p:cNvSpPr/>
            <p:nvPr/>
          </p:nvSpPr>
          <p:spPr>
            <a:xfrm rot="13747200">
              <a:off x="6451920" y="2551320"/>
              <a:ext cx="23040" cy="223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61"/>
            <p:cNvSpPr/>
            <p:nvPr/>
          </p:nvSpPr>
          <p:spPr>
            <a:xfrm rot="15670200">
              <a:off x="6431760" y="2442240"/>
              <a:ext cx="309240" cy="39204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62"/>
            <p:cNvSpPr/>
            <p:nvPr/>
          </p:nvSpPr>
          <p:spPr>
            <a:xfrm rot="17913000">
              <a:off x="6395760" y="2457720"/>
              <a:ext cx="165960" cy="2106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3"/>
            <p:cNvSpPr/>
            <p:nvPr/>
          </p:nvSpPr>
          <p:spPr>
            <a:xfrm rot="15097800">
              <a:off x="6551280" y="2513880"/>
              <a:ext cx="42840" cy="4536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64"/>
            <p:cNvSpPr/>
            <p:nvPr/>
          </p:nvSpPr>
          <p:spPr>
            <a:xfrm rot="7960800">
              <a:off x="6555240" y="2719440"/>
              <a:ext cx="21240" cy="457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65"/>
            <p:cNvSpPr/>
            <p:nvPr/>
          </p:nvSpPr>
          <p:spPr>
            <a:xfrm flipH="1" rot="14580000">
              <a:off x="6533280" y="2556720"/>
              <a:ext cx="17640" cy="198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Freeform 166"/>
          <p:cNvSpPr/>
          <p:nvPr/>
        </p:nvSpPr>
        <p:spPr>
          <a:xfrm>
            <a:off x="5105520" y="2895480"/>
            <a:ext cx="309600" cy="95400"/>
          </a:xfrm>
          <a:custGeom>
            <a:avLst/>
            <a:gdLst/>
            <a:ahLst/>
            <a:rect l="l" t="t" r="r" b="b"/>
            <a:pathLst>
              <a:path w="371" h="114">
                <a:moveTo>
                  <a:pt x="340" y="49"/>
                </a:moveTo>
                <a:cubicBezTo>
                  <a:pt x="290" y="47"/>
                  <a:pt x="239" y="46"/>
                  <a:pt x="189" y="42"/>
                </a:cubicBezTo>
                <a:cubicBezTo>
                  <a:pt x="176" y="41"/>
                  <a:pt x="146" y="23"/>
                  <a:pt x="136" y="19"/>
                </a:cubicBezTo>
                <a:cubicBezTo>
                  <a:pt x="105" y="6"/>
                  <a:pt x="92" y="9"/>
                  <a:pt x="52" y="4"/>
                </a:cubicBezTo>
                <a:cubicBezTo>
                  <a:pt x="37" y="6"/>
                  <a:pt x="18" y="0"/>
                  <a:pt x="7" y="11"/>
                </a:cubicBezTo>
                <a:cubicBezTo>
                  <a:pt x="0" y="18"/>
                  <a:pt x="7" y="34"/>
                  <a:pt x="14" y="42"/>
                </a:cubicBezTo>
                <a:cubicBezTo>
                  <a:pt x="19" y="48"/>
                  <a:pt x="29" y="48"/>
                  <a:pt x="37" y="49"/>
                </a:cubicBezTo>
                <a:cubicBezTo>
                  <a:pt x="57" y="53"/>
                  <a:pt x="78" y="54"/>
                  <a:pt x="98" y="57"/>
                </a:cubicBezTo>
                <a:cubicBezTo>
                  <a:pt x="163" y="79"/>
                  <a:pt x="227" y="94"/>
                  <a:pt x="295" y="102"/>
                </a:cubicBezTo>
                <a:cubicBezTo>
                  <a:pt x="371" y="93"/>
                  <a:pt x="361" y="114"/>
                  <a:pt x="340" y="4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67"/>
          <p:cNvGrpSpPr/>
          <p:nvPr/>
        </p:nvGrpSpPr>
        <p:grpSpPr>
          <a:xfrm>
            <a:off x="7088040" y="1752840"/>
            <a:ext cx="484560" cy="492480"/>
            <a:chOff x="7088040" y="1752840"/>
            <a:chExt cx="484560" cy="492480"/>
          </a:xfrm>
        </p:grpSpPr>
        <p:sp>
          <p:nvSpPr>
            <p:cNvPr id="183" name="Freeform 168"/>
            <p:cNvSpPr/>
            <p:nvPr/>
          </p:nvSpPr>
          <p:spPr>
            <a:xfrm rot="21160200">
              <a:off x="7360200" y="1845720"/>
              <a:ext cx="9000" cy="28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69"/>
            <p:cNvSpPr/>
            <p:nvPr/>
          </p:nvSpPr>
          <p:spPr>
            <a:xfrm rot="93000">
              <a:off x="7416360" y="2013480"/>
              <a:ext cx="11160" cy="237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0"/>
            <p:cNvSpPr/>
            <p:nvPr/>
          </p:nvSpPr>
          <p:spPr>
            <a:xfrm rot="93000">
              <a:off x="7510320" y="1915920"/>
              <a:ext cx="8640" cy="183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71"/>
            <p:cNvSpPr/>
            <p:nvPr/>
          </p:nvSpPr>
          <p:spPr>
            <a:xfrm flipH="1" rot="3255000">
              <a:off x="7418160" y="2056680"/>
              <a:ext cx="18360" cy="558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72"/>
            <p:cNvSpPr/>
            <p:nvPr/>
          </p:nvSpPr>
          <p:spPr>
            <a:xfrm rot="19545000">
              <a:off x="7349400" y="1922400"/>
              <a:ext cx="16560" cy="5508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73"/>
            <p:cNvSpPr/>
            <p:nvPr/>
          </p:nvSpPr>
          <p:spPr>
            <a:xfrm rot="3607200">
              <a:off x="7462080" y="2001960"/>
              <a:ext cx="10440" cy="226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4"/>
            <p:cNvSpPr/>
            <p:nvPr/>
          </p:nvSpPr>
          <p:spPr>
            <a:xfrm rot="21160200">
              <a:off x="7478280" y="1920600"/>
              <a:ext cx="9000" cy="2808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75"/>
            <p:cNvSpPr/>
            <p:nvPr/>
          </p:nvSpPr>
          <p:spPr>
            <a:xfrm rot="21391800">
              <a:off x="7440840" y="1936080"/>
              <a:ext cx="23040" cy="223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6"/>
            <p:cNvSpPr/>
            <p:nvPr/>
          </p:nvSpPr>
          <p:spPr>
            <a:xfrm rot="1715400">
              <a:off x="7162920" y="1802520"/>
              <a:ext cx="308880" cy="3924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7"/>
            <p:cNvSpPr/>
            <p:nvPr/>
          </p:nvSpPr>
          <p:spPr>
            <a:xfrm rot="3958200">
              <a:off x="7359840" y="1852920"/>
              <a:ext cx="165600" cy="2106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8"/>
            <p:cNvSpPr/>
            <p:nvPr/>
          </p:nvSpPr>
          <p:spPr>
            <a:xfrm rot="1143000">
              <a:off x="7385040" y="2026800"/>
              <a:ext cx="42840" cy="4536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79"/>
            <p:cNvSpPr/>
            <p:nvPr/>
          </p:nvSpPr>
          <p:spPr>
            <a:xfrm rot="15606000">
              <a:off x="7237080" y="1896120"/>
              <a:ext cx="21240" cy="457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0"/>
            <p:cNvSpPr/>
            <p:nvPr/>
          </p:nvSpPr>
          <p:spPr>
            <a:xfrm flipH="1" rot="624600">
              <a:off x="7391880" y="1997640"/>
              <a:ext cx="17640" cy="198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1"/>
          <p:cNvGrpSpPr/>
          <p:nvPr/>
        </p:nvGrpSpPr>
        <p:grpSpPr>
          <a:xfrm>
            <a:off x="5887800" y="1903680"/>
            <a:ext cx="375120" cy="374400"/>
            <a:chOff x="5887800" y="1903680"/>
            <a:chExt cx="375120" cy="374400"/>
          </a:xfrm>
        </p:grpSpPr>
        <p:sp>
          <p:nvSpPr>
            <p:cNvPr id="197" name="Freeform 182"/>
            <p:cNvSpPr/>
            <p:nvPr/>
          </p:nvSpPr>
          <p:spPr>
            <a:xfrm rot="16725000">
              <a:off x="5981040" y="2016000"/>
              <a:ext cx="6840" cy="212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83"/>
            <p:cNvSpPr/>
            <p:nvPr/>
          </p:nvSpPr>
          <p:spPr>
            <a:xfrm rot="17257800">
              <a:off x="6112080" y="2011320"/>
              <a:ext cx="8280" cy="180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84"/>
            <p:cNvSpPr/>
            <p:nvPr/>
          </p:nvSpPr>
          <p:spPr>
            <a:xfrm rot="17257800">
              <a:off x="6059520" y="1924920"/>
              <a:ext cx="6480" cy="14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85"/>
            <p:cNvSpPr/>
            <p:nvPr/>
          </p:nvSpPr>
          <p:spPr>
            <a:xfrm flipH="1" rot="20419800">
              <a:off x="6153480" y="2007360"/>
              <a:ext cx="13680" cy="4212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86"/>
            <p:cNvSpPr/>
            <p:nvPr/>
          </p:nvSpPr>
          <p:spPr>
            <a:xfrm rot="15109800">
              <a:off x="6042240" y="2030040"/>
              <a:ext cx="12600" cy="4176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87"/>
            <p:cNvSpPr/>
            <p:nvPr/>
          </p:nvSpPr>
          <p:spPr>
            <a:xfrm rot="20772000">
              <a:off x="6113520" y="1976040"/>
              <a:ext cx="7920" cy="169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88"/>
            <p:cNvSpPr/>
            <p:nvPr/>
          </p:nvSpPr>
          <p:spPr>
            <a:xfrm rot="16725000">
              <a:off x="6059880" y="1945800"/>
              <a:ext cx="6840" cy="212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9"/>
            <p:cNvSpPr/>
            <p:nvPr/>
          </p:nvSpPr>
          <p:spPr>
            <a:xfrm rot="16956600">
              <a:off x="6057000" y="1972800"/>
              <a:ext cx="17280" cy="169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0"/>
            <p:cNvSpPr/>
            <p:nvPr/>
          </p:nvSpPr>
          <p:spPr>
            <a:xfrm rot="18880200">
              <a:off x="5958720" y="1942200"/>
              <a:ext cx="232920" cy="2970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91"/>
            <p:cNvSpPr/>
            <p:nvPr/>
          </p:nvSpPr>
          <p:spPr>
            <a:xfrm rot="21123000">
              <a:off x="6009840" y="1911240"/>
              <a:ext cx="124920" cy="15948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2"/>
            <p:cNvSpPr/>
            <p:nvPr/>
          </p:nvSpPr>
          <p:spPr>
            <a:xfrm rot="18307800">
              <a:off x="6114240" y="2019600"/>
              <a:ext cx="32040" cy="3420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93"/>
            <p:cNvSpPr/>
            <p:nvPr/>
          </p:nvSpPr>
          <p:spPr>
            <a:xfrm rot="11170800">
              <a:off x="5994720" y="2107080"/>
              <a:ext cx="16200" cy="3456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4"/>
            <p:cNvSpPr/>
            <p:nvPr/>
          </p:nvSpPr>
          <p:spPr>
            <a:xfrm flipH="1" rot="17790000">
              <a:off x="6091200" y="2025000"/>
              <a:ext cx="13320" cy="144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196"/>
          <p:cNvSpPr/>
          <p:nvPr/>
        </p:nvSpPr>
        <p:spPr>
          <a:xfrm rot="747000">
            <a:off x="2136240" y="3352320"/>
            <a:ext cx="571680" cy="723960"/>
          </a:xfrm>
          <a:custGeom>
            <a:avLst/>
            <a:gdLst/>
            <a:ahLst/>
            <a:rect l="l" t="t" r="r" b="b"/>
            <a:pathLst>
              <a:path w="3191" h="4043">
                <a:moveTo>
                  <a:pt x="2386" y="3782"/>
                </a:moveTo>
                <a:cubicBezTo>
                  <a:pt x="2423" y="3725"/>
                  <a:pt x="2447" y="3669"/>
                  <a:pt x="2467" y="3604"/>
                </a:cubicBezTo>
                <a:cubicBezTo>
                  <a:pt x="2472" y="3517"/>
                  <a:pt x="2459" y="3493"/>
                  <a:pt x="2496" y="3435"/>
                </a:cubicBezTo>
                <a:cubicBezTo>
                  <a:pt x="2505" y="3379"/>
                  <a:pt x="2513" y="3329"/>
                  <a:pt x="2519" y="3272"/>
                </a:cubicBezTo>
                <a:cubicBezTo>
                  <a:pt x="2516" y="3144"/>
                  <a:pt x="2567" y="3000"/>
                  <a:pt x="2504" y="2888"/>
                </a:cubicBezTo>
                <a:cubicBezTo>
                  <a:pt x="2480" y="2846"/>
                  <a:pt x="2457" y="2795"/>
                  <a:pt x="2430" y="2755"/>
                </a:cubicBezTo>
                <a:cubicBezTo>
                  <a:pt x="2420" y="2740"/>
                  <a:pt x="2410" y="2726"/>
                  <a:pt x="2400" y="2711"/>
                </a:cubicBezTo>
                <a:cubicBezTo>
                  <a:pt x="2395" y="2704"/>
                  <a:pt x="2386" y="2689"/>
                  <a:pt x="2386" y="2689"/>
                </a:cubicBezTo>
                <a:cubicBezTo>
                  <a:pt x="2384" y="2639"/>
                  <a:pt x="2408" y="2463"/>
                  <a:pt x="2356" y="2386"/>
                </a:cubicBezTo>
                <a:cubicBezTo>
                  <a:pt x="2338" y="2331"/>
                  <a:pt x="2362" y="2399"/>
                  <a:pt x="2334" y="2342"/>
                </a:cubicBezTo>
                <a:cubicBezTo>
                  <a:pt x="2305" y="2285"/>
                  <a:pt x="2290" y="2230"/>
                  <a:pt x="2223" y="2209"/>
                </a:cubicBezTo>
                <a:cubicBezTo>
                  <a:pt x="2207" y="2198"/>
                  <a:pt x="2187" y="2192"/>
                  <a:pt x="2172" y="2179"/>
                </a:cubicBezTo>
                <a:cubicBezTo>
                  <a:pt x="2165" y="2173"/>
                  <a:pt x="2163" y="2163"/>
                  <a:pt x="2157" y="2157"/>
                </a:cubicBezTo>
                <a:cubicBezTo>
                  <a:pt x="2139" y="2139"/>
                  <a:pt x="2090" y="2105"/>
                  <a:pt x="2068" y="2098"/>
                </a:cubicBezTo>
                <a:cubicBezTo>
                  <a:pt x="2021" y="2051"/>
                  <a:pt x="1961" y="2041"/>
                  <a:pt x="1898" y="2024"/>
                </a:cubicBezTo>
                <a:cubicBezTo>
                  <a:pt x="1827" y="1976"/>
                  <a:pt x="1939" y="2048"/>
                  <a:pt x="1839" y="2002"/>
                </a:cubicBezTo>
                <a:cubicBezTo>
                  <a:pt x="1789" y="1979"/>
                  <a:pt x="1750" y="1936"/>
                  <a:pt x="1706" y="1906"/>
                </a:cubicBezTo>
                <a:cubicBezTo>
                  <a:pt x="1686" y="1874"/>
                  <a:pt x="1661" y="1849"/>
                  <a:pt x="1640" y="1817"/>
                </a:cubicBezTo>
                <a:cubicBezTo>
                  <a:pt x="1635" y="1810"/>
                  <a:pt x="1625" y="1795"/>
                  <a:pt x="1625" y="1795"/>
                </a:cubicBezTo>
                <a:cubicBezTo>
                  <a:pt x="1614" y="1759"/>
                  <a:pt x="1601" y="1734"/>
                  <a:pt x="1566" y="1721"/>
                </a:cubicBezTo>
                <a:cubicBezTo>
                  <a:pt x="1520" y="1653"/>
                  <a:pt x="1481" y="1631"/>
                  <a:pt x="1404" y="1603"/>
                </a:cubicBezTo>
                <a:cubicBezTo>
                  <a:pt x="1372" y="1572"/>
                  <a:pt x="1336" y="1536"/>
                  <a:pt x="1293" y="1522"/>
                </a:cubicBezTo>
                <a:cubicBezTo>
                  <a:pt x="1250" y="1493"/>
                  <a:pt x="1240" y="1501"/>
                  <a:pt x="1182" y="1507"/>
                </a:cubicBezTo>
                <a:cubicBezTo>
                  <a:pt x="1119" y="1524"/>
                  <a:pt x="1072" y="1538"/>
                  <a:pt x="1005" y="1544"/>
                </a:cubicBezTo>
                <a:cubicBezTo>
                  <a:pt x="741" y="1528"/>
                  <a:pt x="842" y="1539"/>
                  <a:pt x="702" y="1522"/>
                </a:cubicBezTo>
                <a:cubicBezTo>
                  <a:pt x="668" y="1524"/>
                  <a:pt x="633" y="1525"/>
                  <a:pt x="599" y="1529"/>
                </a:cubicBezTo>
                <a:cubicBezTo>
                  <a:pt x="537" y="1536"/>
                  <a:pt x="476" y="1563"/>
                  <a:pt x="414" y="1574"/>
                </a:cubicBezTo>
                <a:cubicBezTo>
                  <a:pt x="399" y="1584"/>
                  <a:pt x="380" y="1588"/>
                  <a:pt x="370" y="1603"/>
                </a:cubicBezTo>
                <a:cubicBezTo>
                  <a:pt x="365" y="1610"/>
                  <a:pt x="362" y="1619"/>
                  <a:pt x="355" y="1625"/>
                </a:cubicBezTo>
                <a:cubicBezTo>
                  <a:pt x="352" y="1627"/>
                  <a:pt x="314" y="1639"/>
                  <a:pt x="311" y="1640"/>
                </a:cubicBezTo>
                <a:cubicBezTo>
                  <a:pt x="271" y="1666"/>
                  <a:pt x="239" y="1681"/>
                  <a:pt x="200" y="1714"/>
                </a:cubicBezTo>
                <a:cubicBezTo>
                  <a:pt x="164" y="1744"/>
                  <a:pt x="160" y="1769"/>
                  <a:pt x="111" y="1780"/>
                </a:cubicBezTo>
                <a:cubicBezTo>
                  <a:pt x="78" y="1803"/>
                  <a:pt x="76" y="1817"/>
                  <a:pt x="52" y="1780"/>
                </a:cubicBezTo>
                <a:cubicBezTo>
                  <a:pt x="63" y="1751"/>
                  <a:pt x="74" y="1739"/>
                  <a:pt x="104" y="1729"/>
                </a:cubicBezTo>
                <a:cubicBezTo>
                  <a:pt x="121" y="1704"/>
                  <a:pt x="134" y="1694"/>
                  <a:pt x="163" y="1684"/>
                </a:cubicBezTo>
                <a:cubicBezTo>
                  <a:pt x="187" y="1649"/>
                  <a:pt x="224" y="1605"/>
                  <a:pt x="259" y="1581"/>
                </a:cubicBezTo>
                <a:cubicBezTo>
                  <a:pt x="270" y="1547"/>
                  <a:pt x="275" y="1534"/>
                  <a:pt x="237" y="1522"/>
                </a:cubicBezTo>
                <a:cubicBezTo>
                  <a:pt x="202" y="1534"/>
                  <a:pt x="169" y="1551"/>
                  <a:pt x="133" y="1559"/>
                </a:cubicBezTo>
                <a:cubicBezTo>
                  <a:pt x="68" y="1538"/>
                  <a:pt x="166" y="1491"/>
                  <a:pt x="192" y="1485"/>
                </a:cubicBezTo>
                <a:cubicBezTo>
                  <a:pt x="160" y="1463"/>
                  <a:pt x="119" y="1453"/>
                  <a:pt x="82" y="1441"/>
                </a:cubicBezTo>
                <a:cubicBezTo>
                  <a:pt x="0" y="1385"/>
                  <a:pt x="60" y="1405"/>
                  <a:pt x="156" y="1411"/>
                </a:cubicBezTo>
                <a:cubicBezTo>
                  <a:pt x="222" y="1435"/>
                  <a:pt x="287" y="1460"/>
                  <a:pt x="355" y="1478"/>
                </a:cubicBezTo>
                <a:cubicBezTo>
                  <a:pt x="416" y="1471"/>
                  <a:pt x="448" y="1484"/>
                  <a:pt x="429" y="1426"/>
                </a:cubicBezTo>
                <a:cubicBezTo>
                  <a:pt x="471" y="1413"/>
                  <a:pt x="478" y="1446"/>
                  <a:pt x="517" y="1448"/>
                </a:cubicBezTo>
                <a:cubicBezTo>
                  <a:pt x="621" y="1453"/>
                  <a:pt x="724" y="1453"/>
                  <a:pt x="828" y="1456"/>
                </a:cubicBezTo>
                <a:cubicBezTo>
                  <a:pt x="881" y="1473"/>
                  <a:pt x="867" y="1484"/>
                  <a:pt x="879" y="1448"/>
                </a:cubicBezTo>
                <a:cubicBezTo>
                  <a:pt x="882" y="1441"/>
                  <a:pt x="884" y="1433"/>
                  <a:pt x="887" y="1426"/>
                </a:cubicBezTo>
                <a:cubicBezTo>
                  <a:pt x="882" y="1419"/>
                  <a:pt x="879" y="1410"/>
                  <a:pt x="872" y="1404"/>
                </a:cubicBezTo>
                <a:cubicBezTo>
                  <a:pt x="859" y="1392"/>
                  <a:pt x="828" y="1374"/>
                  <a:pt x="828" y="1374"/>
                </a:cubicBezTo>
                <a:cubicBezTo>
                  <a:pt x="797" y="1329"/>
                  <a:pt x="761" y="1342"/>
                  <a:pt x="702" y="1337"/>
                </a:cubicBezTo>
                <a:cubicBezTo>
                  <a:pt x="673" y="1328"/>
                  <a:pt x="663" y="1306"/>
                  <a:pt x="636" y="1293"/>
                </a:cubicBezTo>
                <a:cubicBezTo>
                  <a:pt x="614" y="1282"/>
                  <a:pt x="561" y="1280"/>
                  <a:pt x="547" y="1278"/>
                </a:cubicBezTo>
                <a:cubicBezTo>
                  <a:pt x="517" y="1273"/>
                  <a:pt x="493" y="1263"/>
                  <a:pt x="466" y="1249"/>
                </a:cubicBezTo>
                <a:cubicBezTo>
                  <a:pt x="403" y="1258"/>
                  <a:pt x="392" y="1264"/>
                  <a:pt x="325" y="1256"/>
                </a:cubicBezTo>
                <a:cubicBezTo>
                  <a:pt x="308" y="1259"/>
                  <a:pt x="290" y="1257"/>
                  <a:pt x="274" y="1264"/>
                </a:cubicBezTo>
                <a:cubicBezTo>
                  <a:pt x="266" y="1268"/>
                  <a:pt x="266" y="1281"/>
                  <a:pt x="259" y="1286"/>
                </a:cubicBezTo>
                <a:cubicBezTo>
                  <a:pt x="253" y="1291"/>
                  <a:pt x="244" y="1291"/>
                  <a:pt x="237" y="1293"/>
                </a:cubicBezTo>
                <a:cubicBezTo>
                  <a:pt x="185" y="1291"/>
                  <a:pt x="133" y="1295"/>
                  <a:pt x="82" y="1286"/>
                </a:cubicBezTo>
                <a:cubicBezTo>
                  <a:pt x="74" y="1285"/>
                  <a:pt x="71" y="1271"/>
                  <a:pt x="74" y="1264"/>
                </a:cubicBezTo>
                <a:cubicBezTo>
                  <a:pt x="75" y="1262"/>
                  <a:pt x="118" y="1249"/>
                  <a:pt x="119" y="1249"/>
                </a:cubicBezTo>
                <a:cubicBezTo>
                  <a:pt x="158" y="1245"/>
                  <a:pt x="198" y="1244"/>
                  <a:pt x="237" y="1241"/>
                </a:cubicBezTo>
                <a:cubicBezTo>
                  <a:pt x="274" y="1232"/>
                  <a:pt x="308" y="1234"/>
                  <a:pt x="340" y="1212"/>
                </a:cubicBezTo>
                <a:cubicBezTo>
                  <a:pt x="483" y="1217"/>
                  <a:pt x="550" y="1228"/>
                  <a:pt x="680" y="1219"/>
                </a:cubicBezTo>
                <a:cubicBezTo>
                  <a:pt x="646" y="1169"/>
                  <a:pt x="633" y="1180"/>
                  <a:pt x="672" y="1168"/>
                </a:cubicBezTo>
                <a:cubicBezTo>
                  <a:pt x="687" y="1173"/>
                  <a:pt x="712" y="1167"/>
                  <a:pt x="717" y="1182"/>
                </a:cubicBezTo>
                <a:cubicBezTo>
                  <a:pt x="724" y="1203"/>
                  <a:pt x="729" y="1257"/>
                  <a:pt x="761" y="1264"/>
                </a:cubicBezTo>
                <a:cubicBezTo>
                  <a:pt x="788" y="1270"/>
                  <a:pt x="815" y="1269"/>
                  <a:pt x="842" y="1271"/>
                </a:cubicBezTo>
                <a:cubicBezTo>
                  <a:pt x="891" y="1287"/>
                  <a:pt x="839" y="1265"/>
                  <a:pt x="879" y="1300"/>
                </a:cubicBezTo>
                <a:cubicBezTo>
                  <a:pt x="901" y="1319"/>
                  <a:pt x="948" y="1348"/>
                  <a:pt x="975" y="1360"/>
                </a:cubicBezTo>
                <a:cubicBezTo>
                  <a:pt x="1043" y="1389"/>
                  <a:pt x="1116" y="1379"/>
                  <a:pt x="1189" y="1382"/>
                </a:cubicBezTo>
                <a:cubicBezTo>
                  <a:pt x="1229" y="1394"/>
                  <a:pt x="1227" y="1425"/>
                  <a:pt x="1241" y="1382"/>
                </a:cubicBezTo>
                <a:cubicBezTo>
                  <a:pt x="1238" y="1342"/>
                  <a:pt x="1251" y="1295"/>
                  <a:pt x="1226" y="1264"/>
                </a:cubicBezTo>
                <a:cubicBezTo>
                  <a:pt x="1192" y="1222"/>
                  <a:pt x="1133" y="1198"/>
                  <a:pt x="1093" y="1160"/>
                </a:cubicBezTo>
                <a:cubicBezTo>
                  <a:pt x="1078" y="1113"/>
                  <a:pt x="1041" y="1094"/>
                  <a:pt x="1005" y="1064"/>
                </a:cubicBezTo>
                <a:cubicBezTo>
                  <a:pt x="975" y="1039"/>
                  <a:pt x="963" y="1005"/>
                  <a:pt x="931" y="983"/>
                </a:cubicBezTo>
                <a:cubicBezTo>
                  <a:pt x="912" y="955"/>
                  <a:pt x="895" y="946"/>
                  <a:pt x="864" y="931"/>
                </a:cubicBezTo>
                <a:cubicBezTo>
                  <a:pt x="835" y="886"/>
                  <a:pt x="842" y="841"/>
                  <a:pt x="850" y="791"/>
                </a:cubicBezTo>
                <a:cubicBezTo>
                  <a:pt x="845" y="708"/>
                  <a:pt x="868" y="632"/>
                  <a:pt x="798" y="584"/>
                </a:cubicBezTo>
                <a:cubicBezTo>
                  <a:pt x="782" y="560"/>
                  <a:pt x="763" y="546"/>
                  <a:pt x="754" y="518"/>
                </a:cubicBezTo>
                <a:cubicBezTo>
                  <a:pt x="785" y="507"/>
                  <a:pt x="767" y="508"/>
                  <a:pt x="798" y="518"/>
                </a:cubicBezTo>
                <a:cubicBezTo>
                  <a:pt x="813" y="523"/>
                  <a:pt x="842" y="532"/>
                  <a:pt x="842" y="532"/>
                </a:cubicBezTo>
                <a:cubicBezTo>
                  <a:pt x="873" y="553"/>
                  <a:pt x="889" y="587"/>
                  <a:pt x="916" y="614"/>
                </a:cubicBezTo>
                <a:cubicBezTo>
                  <a:pt x="931" y="656"/>
                  <a:pt x="894" y="748"/>
                  <a:pt x="953" y="710"/>
                </a:cubicBezTo>
                <a:cubicBezTo>
                  <a:pt x="970" y="712"/>
                  <a:pt x="989" y="710"/>
                  <a:pt x="1005" y="717"/>
                </a:cubicBezTo>
                <a:cubicBezTo>
                  <a:pt x="1062" y="742"/>
                  <a:pt x="969" y="778"/>
                  <a:pt x="953" y="784"/>
                </a:cubicBezTo>
                <a:cubicBezTo>
                  <a:pt x="958" y="845"/>
                  <a:pt x="944" y="878"/>
                  <a:pt x="990" y="909"/>
                </a:cubicBezTo>
                <a:cubicBezTo>
                  <a:pt x="1007" y="907"/>
                  <a:pt x="1030" y="915"/>
                  <a:pt x="1042" y="902"/>
                </a:cubicBezTo>
                <a:cubicBezTo>
                  <a:pt x="1055" y="887"/>
                  <a:pt x="1042" y="861"/>
                  <a:pt x="1049" y="843"/>
                </a:cubicBezTo>
                <a:cubicBezTo>
                  <a:pt x="1052" y="835"/>
                  <a:pt x="1064" y="833"/>
                  <a:pt x="1071" y="828"/>
                </a:cubicBezTo>
                <a:cubicBezTo>
                  <a:pt x="1148" y="852"/>
                  <a:pt x="1087" y="826"/>
                  <a:pt x="1101" y="1005"/>
                </a:cubicBezTo>
                <a:cubicBezTo>
                  <a:pt x="1105" y="1057"/>
                  <a:pt x="1145" y="1063"/>
                  <a:pt x="1182" y="1086"/>
                </a:cubicBezTo>
                <a:cubicBezTo>
                  <a:pt x="1279" y="1055"/>
                  <a:pt x="1238" y="869"/>
                  <a:pt x="1167" y="820"/>
                </a:cubicBezTo>
                <a:cubicBezTo>
                  <a:pt x="1152" y="773"/>
                  <a:pt x="1180" y="790"/>
                  <a:pt x="1204" y="806"/>
                </a:cubicBezTo>
                <a:cubicBezTo>
                  <a:pt x="1224" y="836"/>
                  <a:pt x="1225" y="855"/>
                  <a:pt x="1263" y="843"/>
                </a:cubicBezTo>
                <a:cubicBezTo>
                  <a:pt x="1291" y="814"/>
                  <a:pt x="1298" y="811"/>
                  <a:pt x="1337" y="820"/>
                </a:cubicBezTo>
                <a:cubicBezTo>
                  <a:pt x="1285" y="855"/>
                  <a:pt x="1300" y="848"/>
                  <a:pt x="1271" y="894"/>
                </a:cubicBezTo>
                <a:cubicBezTo>
                  <a:pt x="1275" y="997"/>
                  <a:pt x="1248" y="1218"/>
                  <a:pt x="1359" y="1293"/>
                </a:cubicBezTo>
                <a:cubicBezTo>
                  <a:pt x="1376" y="1341"/>
                  <a:pt x="1353" y="1294"/>
                  <a:pt x="1389" y="1323"/>
                </a:cubicBezTo>
                <a:cubicBezTo>
                  <a:pt x="1396" y="1329"/>
                  <a:pt x="1398" y="1339"/>
                  <a:pt x="1404" y="1345"/>
                </a:cubicBezTo>
                <a:cubicBezTo>
                  <a:pt x="1410" y="1351"/>
                  <a:pt x="1419" y="1355"/>
                  <a:pt x="1426" y="1360"/>
                </a:cubicBezTo>
                <a:cubicBezTo>
                  <a:pt x="1437" y="1393"/>
                  <a:pt x="1475" y="1416"/>
                  <a:pt x="1500" y="1441"/>
                </a:cubicBezTo>
                <a:cubicBezTo>
                  <a:pt x="1506" y="1447"/>
                  <a:pt x="1507" y="1458"/>
                  <a:pt x="1514" y="1463"/>
                </a:cubicBezTo>
                <a:cubicBezTo>
                  <a:pt x="1529" y="1473"/>
                  <a:pt x="1549" y="1472"/>
                  <a:pt x="1566" y="1478"/>
                </a:cubicBezTo>
                <a:cubicBezTo>
                  <a:pt x="1610" y="1522"/>
                  <a:pt x="1650" y="1524"/>
                  <a:pt x="1714" y="1529"/>
                </a:cubicBezTo>
                <a:cubicBezTo>
                  <a:pt x="1750" y="1542"/>
                  <a:pt x="1780" y="1559"/>
                  <a:pt x="1817" y="1566"/>
                </a:cubicBezTo>
                <a:cubicBezTo>
                  <a:pt x="1832" y="1564"/>
                  <a:pt x="1856" y="1573"/>
                  <a:pt x="1861" y="1559"/>
                </a:cubicBezTo>
                <a:cubicBezTo>
                  <a:pt x="1872" y="1531"/>
                  <a:pt x="1858" y="1500"/>
                  <a:pt x="1854" y="1470"/>
                </a:cubicBezTo>
                <a:cubicBezTo>
                  <a:pt x="1850" y="1440"/>
                  <a:pt x="1823" y="1409"/>
                  <a:pt x="1810" y="1382"/>
                </a:cubicBezTo>
                <a:cubicBezTo>
                  <a:pt x="1779" y="1319"/>
                  <a:pt x="1796" y="1294"/>
                  <a:pt x="1728" y="1249"/>
                </a:cubicBezTo>
                <a:cubicBezTo>
                  <a:pt x="1718" y="1234"/>
                  <a:pt x="1701" y="1222"/>
                  <a:pt x="1699" y="1204"/>
                </a:cubicBezTo>
                <a:cubicBezTo>
                  <a:pt x="1697" y="1185"/>
                  <a:pt x="1695" y="1117"/>
                  <a:pt x="1677" y="1094"/>
                </a:cubicBezTo>
                <a:cubicBezTo>
                  <a:pt x="1664" y="1077"/>
                  <a:pt x="1647" y="1064"/>
                  <a:pt x="1632" y="1049"/>
                </a:cubicBezTo>
                <a:cubicBezTo>
                  <a:pt x="1543" y="960"/>
                  <a:pt x="1645" y="1034"/>
                  <a:pt x="1581" y="990"/>
                </a:cubicBezTo>
                <a:cubicBezTo>
                  <a:pt x="1559" y="958"/>
                  <a:pt x="1535" y="933"/>
                  <a:pt x="1514" y="902"/>
                </a:cubicBezTo>
                <a:cubicBezTo>
                  <a:pt x="1493" y="836"/>
                  <a:pt x="1498" y="873"/>
                  <a:pt x="1507" y="791"/>
                </a:cubicBezTo>
                <a:cubicBezTo>
                  <a:pt x="1501" y="732"/>
                  <a:pt x="1508" y="717"/>
                  <a:pt x="1463" y="688"/>
                </a:cubicBezTo>
                <a:cubicBezTo>
                  <a:pt x="1438" y="650"/>
                  <a:pt x="1456" y="670"/>
                  <a:pt x="1404" y="636"/>
                </a:cubicBezTo>
                <a:cubicBezTo>
                  <a:pt x="1395" y="630"/>
                  <a:pt x="1388" y="622"/>
                  <a:pt x="1381" y="614"/>
                </a:cubicBezTo>
                <a:cubicBezTo>
                  <a:pt x="1375" y="607"/>
                  <a:pt x="1359" y="596"/>
                  <a:pt x="1367" y="592"/>
                </a:cubicBezTo>
                <a:cubicBezTo>
                  <a:pt x="1382" y="584"/>
                  <a:pt x="1445" y="609"/>
                  <a:pt x="1463" y="614"/>
                </a:cubicBezTo>
                <a:cubicBezTo>
                  <a:pt x="1470" y="619"/>
                  <a:pt x="1480" y="621"/>
                  <a:pt x="1485" y="628"/>
                </a:cubicBezTo>
                <a:cubicBezTo>
                  <a:pt x="1490" y="634"/>
                  <a:pt x="1486" y="645"/>
                  <a:pt x="1492" y="651"/>
                </a:cubicBezTo>
                <a:cubicBezTo>
                  <a:pt x="1516" y="675"/>
                  <a:pt x="1532" y="679"/>
                  <a:pt x="1559" y="688"/>
                </a:cubicBezTo>
                <a:cubicBezTo>
                  <a:pt x="1578" y="749"/>
                  <a:pt x="1571" y="717"/>
                  <a:pt x="1581" y="784"/>
                </a:cubicBezTo>
                <a:cubicBezTo>
                  <a:pt x="1584" y="783"/>
                  <a:pt x="1646" y="766"/>
                  <a:pt x="1655" y="784"/>
                </a:cubicBezTo>
                <a:cubicBezTo>
                  <a:pt x="1660" y="795"/>
                  <a:pt x="1650" y="808"/>
                  <a:pt x="1647" y="820"/>
                </a:cubicBezTo>
                <a:cubicBezTo>
                  <a:pt x="1650" y="864"/>
                  <a:pt x="1626" y="964"/>
                  <a:pt x="1684" y="983"/>
                </a:cubicBezTo>
                <a:cubicBezTo>
                  <a:pt x="1703" y="1035"/>
                  <a:pt x="1694" y="1045"/>
                  <a:pt x="1743" y="1079"/>
                </a:cubicBezTo>
                <a:cubicBezTo>
                  <a:pt x="1753" y="1094"/>
                  <a:pt x="1767" y="1106"/>
                  <a:pt x="1773" y="1123"/>
                </a:cubicBezTo>
                <a:cubicBezTo>
                  <a:pt x="1778" y="1138"/>
                  <a:pt x="1783" y="1153"/>
                  <a:pt x="1788" y="1168"/>
                </a:cubicBezTo>
                <a:cubicBezTo>
                  <a:pt x="1792" y="1180"/>
                  <a:pt x="1789" y="1193"/>
                  <a:pt x="1795" y="1204"/>
                </a:cubicBezTo>
                <a:cubicBezTo>
                  <a:pt x="1799" y="1212"/>
                  <a:pt x="1810" y="1214"/>
                  <a:pt x="1817" y="1219"/>
                </a:cubicBezTo>
                <a:cubicBezTo>
                  <a:pt x="1823" y="1173"/>
                  <a:pt x="1831" y="1129"/>
                  <a:pt x="1847" y="1086"/>
                </a:cubicBezTo>
                <a:cubicBezTo>
                  <a:pt x="1844" y="993"/>
                  <a:pt x="1846" y="899"/>
                  <a:pt x="1839" y="806"/>
                </a:cubicBezTo>
                <a:cubicBezTo>
                  <a:pt x="1838" y="788"/>
                  <a:pt x="1818" y="777"/>
                  <a:pt x="1810" y="761"/>
                </a:cubicBezTo>
                <a:cubicBezTo>
                  <a:pt x="1774" y="687"/>
                  <a:pt x="1711" y="629"/>
                  <a:pt x="1684" y="555"/>
                </a:cubicBezTo>
                <a:cubicBezTo>
                  <a:pt x="1679" y="460"/>
                  <a:pt x="1704" y="429"/>
                  <a:pt x="1640" y="385"/>
                </a:cubicBezTo>
                <a:cubicBezTo>
                  <a:pt x="1631" y="360"/>
                  <a:pt x="1625" y="340"/>
                  <a:pt x="1610" y="318"/>
                </a:cubicBezTo>
                <a:cubicBezTo>
                  <a:pt x="1592" y="263"/>
                  <a:pt x="1602" y="220"/>
                  <a:pt x="1551" y="185"/>
                </a:cubicBezTo>
                <a:cubicBezTo>
                  <a:pt x="1523" y="144"/>
                  <a:pt x="1477" y="132"/>
                  <a:pt x="1448" y="89"/>
                </a:cubicBezTo>
                <a:cubicBezTo>
                  <a:pt x="1438" y="74"/>
                  <a:pt x="1428" y="60"/>
                  <a:pt x="1418" y="45"/>
                </a:cubicBezTo>
                <a:cubicBezTo>
                  <a:pt x="1413" y="38"/>
                  <a:pt x="1409" y="30"/>
                  <a:pt x="1404" y="23"/>
                </a:cubicBezTo>
                <a:cubicBezTo>
                  <a:pt x="1399" y="16"/>
                  <a:pt x="1380" y="0"/>
                  <a:pt x="1389" y="1"/>
                </a:cubicBezTo>
                <a:cubicBezTo>
                  <a:pt x="1411" y="3"/>
                  <a:pt x="1433" y="6"/>
                  <a:pt x="1455" y="8"/>
                </a:cubicBezTo>
                <a:cubicBezTo>
                  <a:pt x="1508" y="27"/>
                  <a:pt x="1470" y="68"/>
                  <a:pt x="1500" y="97"/>
                </a:cubicBezTo>
                <a:cubicBezTo>
                  <a:pt x="1528" y="124"/>
                  <a:pt x="1581" y="146"/>
                  <a:pt x="1618" y="156"/>
                </a:cubicBezTo>
                <a:cubicBezTo>
                  <a:pt x="1677" y="196"/>
                  <a:pt x="1611" y="161"/>
                  <a:pt x="1647" y="60"/>
                </a:cubicBezTo>
                <a:cubicBezTo>
                  <a:pt x="1649" y="56"/>
                  <a:pt x="1695" y="73"/>
                  <a:pt x="1699" y="75"/>
                </a:cubicBezTo>
                <a:cubicBezTo>
                  <a:pt x="1709" y="107"/>
                  <a:pt x="1714" y="113"/>
                  <a:pt x="1699" y="156"/>
                </a:cubicBezTo>
                <a:cubicBezTo>
                  <a:pt x="1693" y="173"/>
                  <a:pt x="1669" y="200"/>
                  <a:pt x="1669" y="200"/>
                </a:cubicBezTo>
                <a:cubicBezTo>
                  <a:pt x="1653" y="251"/>
                  <a:pt x="1647" y="249"/>
                  <a:pt x="1662" y="311"/>
                </a:cubicBezTo>
                <a:cubicBezTo>
                  <a:pt x="1668" y="336"/>
                  <a:pt x="1721" y="363"/>
                  <a:pt x="1721" y="363"/>
                </a:cubicBezTo>
                <a:cubicBezTo>
                  <a:pt x="1730" y="402"/>
                  <a:pt x="1731" y="442"/>
                  <a:pt x="1743" y="481"/>
                </a:cubicBezTo>
                <a:cubicBezTo>
                  <a:pt x="1752" y="548"/>
                  <a:pt x="1769" y="606"/>
                  <a:pt x="1839" y="628"/>
                </a:cubicBezTo>
                <a:cubicBezTo>
                  <a:pt x="1850" y="644"/>
                  <a:pt x="1867" y="656"/>
                  <a:pt x="1876" y="673"/>
                </a:cubicBezTo>
                <a:cubicBezTo>
                  <a:pt x="1881" y="683"/>
                  <a:pt x="1887" y="736"/>
                  <a:pt x="1891" y="747"/>
                </a:cubicBezTo>
                <a:cubicBezTo>
                  <a:pt x="1893" y="753"/>
                  <a:pt x="1927" y="797"/>
                  <a:pt x="1928" y="798"/>
                </a:cubicBezTo>
                <a:cubicBezTo>
                  <a:pt x="1937" y="827"/>
                  <a:pt x="1941" y="854"/>
                  <a:pt x="1957" y="880"/>
                </a:cubicBezTo>
                <a:cubicBezTo>
                  <a:pt x="1960" y="946"/>
                  <a:pt x="1958" y="1013"/>
                  <a:pt x="1965" y="1079"/>
                </a:cubicBezTo>
                <a:cubicBezTo>
                  <a:pt x="1967" y="1095"/>
                  <a:pt x="1980" y="1108"/>
                  <a:pt x="1987" y="1123"/>
                </a:cubicBezTo>
                <a:cubicBezTo>
                  <a:pt x="1991" y="1131"/>
                  <a:pt x="2002" y="1145"/>
                  <a:pt x="2002" y="1145"/>
                </a:cubicBezTo>
                <a:cubicBezTo>
                  <a:pt x="2033" y="1223"/>
                  <a:pt x="2064" y="1300"/>
                  <a:pt x="2094" y="1378"/>
                </a:cubicBezTo>
                <a:cubicBezTo>
                  <a:pt x="2113" y="1428"/>
                  <a:pt x="2125" y="1484"/>
                  <a:pt x="2172" y="1515"/>
                </a:cubicBezTo>
                <a:cubicBezTo>
                  <a:pt x="2178" y="1534"/>
                  <a:pt x="2183" y="1566"/>
                  <a:pt x="2201" y="1581"/>
                </a:cubicBezTo>
                <a:cubicBezTo>
                  <a:pt x="2214" y="1593"/>
                  <a:pt x="2245" y="1611"/>
                  <a:pt x="2245" y="1611"/>
                </a:cubicBezTo>
                <a:cubicBezTo>
                  <a:pt x="2297" y="1577"/>
                  <a:pt x="2337" y="1609"/>
                  <a:pt x="2386" y="1625"/>
                </a:cubicBezTo>
                <a:cubicBezTo>
                  <a:pt x="2418" y="1650"/>
                  <a:pt x="2435" y="1687"/>
                  <a:pt x="2474" y="1699"/>
                </a:cubicBezTo>
                <a:cubicBezTo>
                  <a:pt x="2512" y="1728"/>
                  <a:pt x="2551" y="1754"/>
                  <a:pt x="2585" y="1788"/>
                </a:cubicBezTo>
                <a:cubicBezTo>
                  <a:pt x="2597" y="1827"/>
                  <a:pt x="2588" y="1804"/>
                  <a:pt x="2622" y="1854"/>
                </a:cubicBezTo>
                <a:cubicBezTo>
                  <a:pt x="2627" y="1861"/>
                  <a:pt x="2637" y="1876"/>
                  <a:pt x="2637" y="1876"/>
                </a:cubicBezTo>
                <a:cubicBezTo>
                  <a:pt x="2648" y="1922"/>
                  <a:pt x="2652" y="1903"/>
                  <a:pt x="2688" y="1928"/>
                </a:cubicBezTo>
                <a:cubicBezTo>
                  <a:pt x="2709" y="1970"/>
                  <a:pt x="2737" y="2007"/>
                  <a:pt x="2762" y="2046"/>
                </a:cubicBezTo>
                <a:cubicBezTo>
                  <a:pt x="2768" y="2055"/>
                  <a:pt x="2770" y="2067"/>
                  <a:pt x="2777" y="2076"/>
                </a:cubicBezTo>
                <a:cubicBezTo>
                  <a:pt x="2783" y="2083"/>
                  <a:pt x="2793" y="2085"/>
                  <a:pt x="2799" y="2091"/>
                </a:cubicBezTo>
                <a:cubicBezTo>
                  <a:pt x="2808" y="2100"/>
                  <a:pt x="2814" y="2110"/>
                  <a:pt x="2821" y="2120"/>
                </a:cubicBezTo>
                <a:cubicBezTo>
                  <a:pt x="2853" y="2165"/>
                  <a:pt x="2878" y="2214"/>
                  <a:pt x="2917" y="2253"/>
                </a:cubicBezTo>
                <a:cubicBezTo>
                  <a:pt x="2926" y="2277"/>
                  <a:pt x="2939" y="2295"/>
                  <a:pt x="2947" y="2320"/>
                </a:cubicBezTo>
                <a:cubicBezTo>
                  <a:pt x="2949" y="2413"/>
                  <a:pt x="2950" y="2507"/>
                  <a:pt x="2954" y="2600"/>
                </a:cubicBezTo>
                <a:cubicBezTo>
                  <a:pt x="2955" y="2630"/>
                  <a:pt x="2963" y="2675"/>
                  <a:pt x="2976" y="2704"/>
                </a:cubicBezTo>
                <a:cubicBezTo>
                  <a:pt x="2985" y="2724"/>
                  <a:pt x="3006" y="2763"/>
                  <a:pt x="3006" y="2763"/>
                </a:cubicBezTo>
                <a:cubicBezTo>
                  <a:pt x="3011" y="2801"/>
                  <a:pt x="3020" y="2830"/>
                  <a:pt x="3028" y="2866"/>
                </a:cubicBezTo>
                <a:cubicBezTo>
                  <a:pt x="3031" y="3048"/>
                  <a:pt x="3031" y="3230"/>
                  <a:pt x="3036" y="3412"/>
                </a:cubicBezTo>
                <a:cubicBezTo>
                  <a:pt x="3037" y="3437"/>
                  <a:pt x="3059" y="3512"/>
                  <a:pt x="3072" y="3531"/>
                </a:cubicBezTo>
                <a:cubicBezTo>
                  <a:pt x="3082" y="3546"/>
                  <a:pt x="3102" y="3575"/>
                  <a:pt x="3102" y="3575"/>
                </a:cubicBezTo>
                <a:cubicBezTo>
                  <a:pt x="3116" y="3620"/>
                  <a:pt x="3127" y="3676"/>
                  <a:pt x="3154" y="3715"/>
                </a:cubicBezTo>
                <a:cubicBezTo>
                  <a:pt x="3164" y="3746"/>
                  <a:pt x="3180" y="3773"/>
                  <a:pt x="3191" y="3804"/>
                </a:cubicBezTo>
                <a:cubicBezTo>
                  <a:pt x="2950" y="3902"/>
                  <a:pt x="2220" y="4043"/>
                  <a:pt x="2393" y="3789"/>
                </a:cubicBezTo>
                <a:cubicBezTo>
                  <a:pt x="2384" y="3762"/>
                  <a:pt x="2386" y="3759"/>
                  <a:pt x="2386" y="378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97"/>
          <p:cNvGrpSpPr/>
          <p:nvPr/>
        </p:nvGrpSpPr>
        <p:grpSpPr>
          <a:xfrm>
            <a:off x="-941040" y="4758840"/>
            <a:ext cx="2002320" cy="1434960"/>
            <a:chOff x="-941040" y="4758840"/>
            <a:chExt cx="2002320" cy="1434960"/>
          </a:xfrm>
        </p:grpSpPr>
        <p:sp>
          <p:nvSpPr>
            <p:cNvPr id="212" name="Freeform 198"/>
            <p:cNvSpPr/>
            <p:nvPr/>
          </p:nvSpPr>
          <p:spPr>
            <a:xfrm rot="4447200">
              <a:off x="-492840" y="4628880"/>
              <a:ext cx="1009800" cy="169452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9"/>
            <p:cNvSpPr/>
            <p:nvPr/>
          </p:nvSpPr>
          <p:spPr>
            <a:xfrm rot="2292000">
              <a:off x="-130320" y="4989960"/>
              <a:ext cx="5580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0"/>
            <p:cNvSpPr/>
            <p:nvPr/>
          </p:nvSpPr>
          <p:spPr>
            <a:xfrm rot="2824800">
              <a:off x="876960" y="5329080"/>
              <a:ext cx="67320" cy="1386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1"/>
            <p:cNvSpPr/>
            <p:nvPr/>
          </p:nvSpPr>
          <p:spPr>
            <a:xfrm rot="2824800">
              <a:off x="253440" y="4942800"/>
              <a:ext cx="52200" cy="1072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2"/>
            <p:cNvSpPr/>
            <p:nvPr/>
          </p:nvSpPr>
          <p:spPr>
            <a:xfrm flipH="1" rot="4552200">
              <a:off x="835560" y="5409360"/>
              <a:ext cx="110520" cy="32220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3"/>
            <p:cNvSpPr/>
            <p:nvPr/>
          </p:nvSpPr>
          <p:spPr>
            <a:xfrm rot="7102200">
              <a:off x="245520" y="5529240"/>
              <a:ext cx="126000" cy="4010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04"/>
            <p:cNvSpPr/>
            <p:nvPr/>
          </p:nvSpPr>
          <p:spPr>
            <a:xfrm rot="6339000">
              <a:off x="455760" y="5550120"/>
              <a:ext cx="63360" cy="13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5"/>
            <p:cNvSpPr/>
            <p:nvPr/>
          </p:nvSpPr>
          <p:spPr>
            <a:xfrm rot="2292000">
              <a:off x="18360" y="5469480"/>
              <a:ext cx="5580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6"/>
            <p:cNvSpPr/>
            <p:nvPr/>
          </p:nvSpPr>
          <p:spPr>
            <a:xfrm rot="2523600">
              <a:off x="742680" y="5141880"/>
              <a:ext cx="139320" cy="12996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17"/>
          <p:cNvGrpSpPr/>
          <p:nvPr/>
        </p:nvGrpSpPr>
        <p:grpSpPr>
          <a:xfrm>
            <a:off x="2257560" y="5198400"/>
            <a:ext cx="1578600" cy="1943280"/>
            <a:chOff x="2257560" y="5198400"/>
            <a:chExt cx="1578600" cy="1943280"/>
          </a:xfrm>
        </p:grpSpPr>
        <p:sp>
          <p:nvSpPr>
            <p:cNvPr id="222" name="Freeform 218"/>
            <p:cNvSpPr/>
            <p:nvPr/>
          </p:nvSpPr>
          <p:spPr>
            <a:xfrm flipH="1" rot="20155800">
              <a:off x="2560680" y="5322600"/>
              <a:ext cx="971640" cy="1694520"/>
            </a:xfrm>
            <a:custGeom>
              <a:avLst/>
              <a:gdLst/>
              <a:ahLst/>
              <a:rect l="l" t="t" r="r" b="b"/>
              <a:pathLst>
                <a:path w="2221" h="3869">
                  <a:moveTo>
                    <a:pt x="1189" y="3716"/>
                  </a:moveTo>
                  <a:cubicBezTo>
                    <a:pt x="1216" y="3714"/>
                    <a:pt x="1245" y="3717"/>
                    <a:pt x="1271" y="3709"/>
                  </a:cubicBezTo>
                  <a:cubicBezTo>
                    <a:pt x="1280" y="3706"/>
                    <a:pt x="1285" y="3695"/>
                    <a:pt x="1285" y="3686"/>
                  </a:cubicBezTo>
                  <a:cubicBezTo>
                    <a:pt x="1287" y="3637"/>
                    <a:pt x="1284" y="3588"/>
                    <a:pt x="1278" y="3539"/>
                  </a:cubicBezTo>
                  <a:cubicBezTo>
                    <a:pt x="1274" y="3502"/>
                    <a:pt x="1247" y="3437"/>
                    <a:pt x="1226" y="3406"/>
                  </a:cubicBezTo>
                  <a:cubicBezTo>
                    <a:pt x="1211" y="3328"/>
                    <a:pt x="1224" y="3186"/>
                    <a:pt x="1182" y="3110"/>
                  </a:cubicBezTo>
                  <a:cubicBezTo>
                    <a:pt x="1165" y="3079"/>
                    <a:pt x="1142" y="3045"/>
                    <a:pt x="1123" y="3014"/>
                  </a:cubicBezTo>
                  <a:cubicBezTo>
                    <a:pt x="1114" y="2999"/>
                    <a:pt x="1093" y="2970"/>
                    <a:pt x="1093" y="2970"/>
                  </a:cubicBezTo>
                  <a:cubicBezTo>
                    <a:pt x="1078" y="2924"/>
                    <a:pt x="1045" y="2897"/>
                    <a:pt x="1019" y="2859"/>
                  </a:cubicBezTo>
                  <a:cubicBezTo>
                    <a:pt x="1001" y="2804"/>
                    <a:pt x="1025" y="2872"/>
                    <a:pt x="997" y="2815"/>
                  </a:cubicBezTo>
                  <a:cubicBezTo>
                    <a:pt x="977" y="2776"/>
                    <a:pt x="965" y="2731"/>
                    <a:pt x="953" y="2689"/>
                  </a:cubicBezTo>
                  <a:cubicBezTo>
                    <a:pt x="945" y="2662"/>
                    <a:pt x="896" y="2618"/>
                    <a:pt x="879" y="2601"/>
                  </a:cubicBezTo>
                  <a:cubicBezTo>
                    <a:pt x="871" y="2593"/>
                    <a:pt x="871" y="2580"/>
                    <a:pt x="864" y="2571"/>
                  </a:cubicBezTo>
                  <a:cubicBezTo>
                    <a:pt x="821" y="2518"/>
                    <a:pt x="759" y="2483"/>
                    <a:pt x="709" y="2438"/>
                  </a:cubicBezTo>
                  <a:cubicBezTo>
                    <a:pt x="675" y="2408"/>
                    <a:pt x="643" y="2364"/>
                    <a:pt x="599" y="2350"/>
                  </a:cubicBezTo>
                  <a:cubicBezTo>
                    <a:pt x="563" y="2324"/>
                    <a:pt x="560" y="2301"/>
                    <a:pt x="517" y="2291"/>
                  </a:cubicBezTo>
                  <a:cubicBezTo>
                    <a:pt x="468" y="2216"/>
                    <a:pt x="421" y="2134"/>
                    <a:pt x="333" y="2106"/>
                  </a:cubicBezTo>
                  <a:cubicBezTo>
                    <a:pt x="279" y="2108"/>
                    <a:pt x="224" y="2109"/>
                    <a:pt x="170" y="2113"/>
                  </a:cubicBezTo>
                  <a:cubicBezTo>
                    <a:pt x="146" y="2115"/>
                    <a:pt x="119" y="2165"/>
                    <a:pt x="119" y="2165"/>
                  </a:cubicBezTo>
                  <a:cubicBezTo>
                    <a:pt x="116" y="2202"/>
                    <a:pt x="122" y="2241"/>
                    <a:pt x="111" y="2276"/>
                  </a:cubicBezTo>
                  <a:cubicBezTo>
                    <a:pt x="108" y="2284"/>
                    <a:pt x="90" y="2270"/>
                    <a:pt x="89" y="2261"/>
                  </a:cubicBezTo>
                  <a:cubicBezTo>
                    <a:pt x="85" y="2222"/>
                    <a:pt x="94" y="2182"/>
                    <a:pt x="96" y="2143"/>
                  </a:cubicBezTo>
                  <a:cubicBezTo>
                    <a:pt x="58" y="2083"/>
                    <a:pt x="122" y="2171"/>
                    <a:pt x="8" y="2113"/>
                  </a:cubicBezTo>
                  <a:cubicBezTo>
                    <a:pt x="0" y="2109"/>
                    <a:pt x="16" y="2096"/>
                    <a:pt x="23" y="2091"/>
                  </a:cubicBezTo>
                  <a:cubicBezTo>
                    <a:pt x="31" y="2086"/>
                    <a:pt x="42" y="2085"/>
                    <a:pt x="52" y="2084"/>
                  </a:cubicBezTo>
                  <a:cubicBezTo>
                    <a:pt x="77" y="2081"/>
                    <a:pt x="101" y="2079"/>
                    <a:pt x="126" y="2077"/>
                  </a:cubicBezTo>
                  <a:cubicBezTo>
                    <a:pt x="118" y="2052"/>
                    <a:pt x="105" y="2034"/>
                    <a:pt x="96" y="2010"/>
                  </a:cubicBezTo>
                  <a:cubicBezTo>
                    <a:pt x="170" y="1988"/>
                    <a:pt x="158" y="2042"/>
                    <a:pt x="215" y="2062"/>
                  </a:cubicBezTo>
                  <a:cubicBezTo>
                    <a:pt x="242" y="2059"/>
                    <a:pt x="271" y="2064"/>
                    <a:pt x="296" y="2054"/>
                  </a:cubicBezTo>
                  <a:cubicBezTo>
                    <a:pt x="303" y="2051"/>
                    <a:pt x="284" y="2039"/>
                    <a:pt x="288" y="2032"/>
                  </a:cubicBezTo>
                  <a:cubicBezTo>
                    <a:pt x="292" y="2025"/>
                    <a:pt x="303" y="2027"/>
                    <a:pt x="311" y="2025"/>
                  </a:cubicBezTo>
                  <a:cubicBezTo>
                    <a:pt x="359" y="2050"/>
                    <a:pt x="400" y="2090"/>
                    <a:pt x="451" y="2106"/>
                  </a:cubicBezTo>
                  <a:cubicBezTo>
                    <a:pt x="475" y="2122"/>
                    <a:pt x="486" y="2142"/>
                    <a:pt x="510" y="2158"/>
                  </a:cubicBezTo>
                  <a:cubicBezTo>
                    <a:pt x="520" y="2191"/>
                    <a:pt x="548" y="2220"/>
                    <a:pt x="576" y="2239"/>
                  </a:cubicBezTo>
                  <a:cubicBezTo>
                    <a:pt x="598" y="2300"/>
                    <a:pt x="565" y="2227"/>
                    <a:pt x="606" y="2269"/>
                  </a:cubicBezTo>
                  <a:cubicBezTo>
                    <a:pt x="611" y="2275"/>
                    <a:pt x="608" y="2285"/>
                    <a:pt x="613" y="2291"/>
                  </a:cubicBezTo>
                  <a:cubicBezTo>
                    <a:pt x="618" y="2298"/>
                    <a:pt x="628" y="2299"/>
                    <a:pt x="635" y="2305"/>
                  </a:cubicBezTo>
                  <a:cubicBezTo>
                    <a:pt x="643" y="2312"/>
                    <a:pt x="651" y="2319"/>
                    <a:pt x="658" y="2328"/>
                  </a:cubicBezTo>
                  <a:cubicBezTo>
                    <a:pt x="705" y="2388"/>
                    <a:pt x="666" y="2358"/>
                    <a:pt x="709" y="2387"/>
                  </a:cubicBezTo>
                  <a:cubicBezTo>
                    <a:pt x="742" y="2435"/>
                    <a:pt x="821" y="2494"/>
                    <a:pt x="879" y="2512"/>
                  </a:cubicBezTo>
                  <a:cubicBezTo>
                    <a:pt x="886" y="2517"/>
                    <a:pt x="893" y="2523"/>
                    <a:pt x="901" y="2527"/>
                  </a:cubicBezTo>
                  <a:cubicBezTo>
                    <a:pt x="915" y="2533"/>
                    <a:pt x="946" y="2542"/>
                    <a:pt x="946" y="2542"/>
                  </a:cubicBezTo>
                  <a:cubicBezTo>
                    <a:pt x="963" y="2539"/>
                    <a:pt x="987" y="2548"/>
                    <a:pt x="997" y="2534"/>
                  </a:cubicBezTo>
                  <a:cubicBezTo>
                    <a:pt x="1000" y="2530"/>
                    <a:pt x="1001" y="2427"/>
                    <a:pt x="1019" y="2409"/>
                  </a:cubicBezTo>
                  <a:cubicBezTo>
                    <a:pt x="1052" y="2377"/>
                    <a:pt x="1100" y="2374"/>
                    <a:pt x="1145" y="2365"/>
                  </a:cubicBezTo>
                  <a:cubicBezTo>
                    <a:pt x="1177" y="2317"/>
                    <a:pt x="1183" y="2283"/>
                    <a:pt x="1204" y="2232"/>
                  </a:cubicBezTo>
                  <a:cubicBezTo>
                    <a:pt x="1219" y="2196"/>
                    <a:pt x="1218" y="2212"/>
                    <a:pt x="1226" y="2180"/>
                  </a:cubicBezTo>
                  <a:cubicBezTo>
                    <a:pt x="1237" y="2138"/>
                    <a:pt x="1242" y="2095"/>
                    <a:pt x="1256" y="2054"/>
                  </a:cubicBezTo>
                  <a:cubicBezTo>
                    <a:pt x="1266" y="1990"/>
                    <a:pt x="1260" y="1931"/>
                    <a:pt x="1241" y="1870"/>
                  </a:cubicBezTo>
                  <a:cubicBezTo>
                    <a:pt x="1236" y="1839"/>
                    <a:pt x="1219" y="1749"/>
                    <a:pt x="1204" y="1722"/>
                  </a:cubicBezTo>
                  <a:cubicBezTo>
                    <a:pt x="1199" y="1713"/>
                    <a:pt x="1188" y="1708"/>
                    <a:pt x="1182" y="1700"/>
                  </a:cubicBezTo>
                  <a:cubicBezTo>
                    <a:pt x="1158" y="1667"/>
                    <a:pt x="1167" y="1633"/>
                    <a:pt x="1123" y="1619"/>
                  </a:cubicBezTo>
                  <a:cubicBezTo>
                    <a:pt x="1104" y="1605"/>
                    <a:pt x="1082" y="1597"/>
                    <a:pt x="1064" y="1582"/>
                  </a:cubicBezTo>
                  <a:cubicBezTo>
                    <a:pt x="1057" y="1576"/>
                    <a:pt x="1055" y="1566"/>
                    <a:pt x="1049" y="1560"/>
                  </a:cubicBezTo>
                  <a:cubicBezTo>
                    <a:pt x="1036" y="1547"/>
                    <a:pt x="1013" y="1533"/>
                    <a:pt x="997" y="1523"/>
                  </a:cubicBezTo>
                  <a:cubicBezTo>
                    <a:pt x="966" y="1474"/>
                    <a:pt x="898" y="1447"/>
                    <a:pt x="842" y="1434"/>
                  </a:cubicBezTo>
                  <a:cubicBezTo>
                    <a:pt x="809" y="1445"/>
                    <a:pt x="779" y="1461"/>
                    <a:pt x="746" y="1471"/>
                  </a:cubicBezTo>
                  <a:cubicBezTo>
                    <a:pt x="731" y="1481"/>
                    <a:pt x="715" y="1488"/>
                    <a:pt x="702" y="1501"/>
                  </a:cubicBezTo>
                  <a:cubicBezTo>
                    <a:pt x="672" y="1531"/>
                    <a:pt x="652" y="1562"/>
                    <a:pt x="613" y="1574"/>
                  </a:cubicBezTo>
                  <a:cubicBezTo>
                    <a:pt x="552" y="1569"/>
                    <a:pt x="545" y="1581"/>
                    <a:pt x="510" y="1552"/>
                  </a:cubicBezTo>
                  <a:cubicBezTo>
                    <a:pt x="489" y="1534"/>
                    <a:pt x="458" y="1486"/>
                    <a:pt x="458" y="1486"/>
                  </a:cubicBezTo>
                  <a:cubicBezTo>
                    <a:pt x="456" y="1405"/>
                    <a:pt x="463" y="1323"/>
                    <a:pt x="451" y="1242"/>
                  </a:cubicBezTo>
                  <a:cubicBezTo>
                    <a:pt x="449" y="1231"/>
                    <a:pt x="431" y="1233"/>
                    <a:pt x="421" y="1227"/>
                  </a:cubicBezTo>
                  <a:cubicBezTo>
                    <a:pt x="365" y="1194"/>
                    <a:pt x="396" y="1204"/>
                    <a:pt x="355" y="1190"/>
                  </a:cubicBezTo>
                  <a:cubicBezTo>
                    <a:pt x="307" y="1174"/>
                    <a:pt x="266" y="1146"/>
                    <a:pt x="222" y="1124"/>
                  </a:cubicBezTo>
                  <a:cubicBezTo>
                    <a:pt x="187" y="1106"/>
                    <a:pt x="148" y="1099"/>
                    <a:pt x="111" y="1087"/>
                  </a:cubicBezTo>
                  <a:cubicBezTo>
                    <a:pt x="91" y="1060"/>
                    <a:pt x="70" y="1047"/>
                    <a:pt x="52" y="1021"/>
                  </a:cubicBezTo>
                  <a:cubicBezTo>
                    <a:pt x="44" y="995"/>
                    <a:pt x="31" y="977"/>
                    <a:pt x="89" y="1006"/>
                  </a:cubicBezTo>
                  <a:cubicBezTo>
                    <a:pt x="97" y="1010"/>
                    <a:pt x="97" y="1023"/>
                    <a:pt x="104" y="1028"/>
                  </a:cubicBezTo>
                  <a:cubicBezTo>
                    <a:pt x="112" y="1033"/>
                    <a:pt x="123" y="1033"/>
                    <a:pt x="133" y="1035"/>
                  </a:cubicBezTo>
                  <a:cubicBezTo>
                    <a:pt x="158" y="1052"/>
                    <a:pt x="181" y="1072"/>
                    <a:pt x="207" y="1087"/>
                  </a:cubicBezTo>
                  <a:cubicBezTo>
                    <a:pt x="248" y="1110"/>
                    <a:pt x="327" y="1115"/>
                    <a:pt x="377" y="1124"/>
                  </a:cubicBezTo>
                  <a:cubicBezTo>
                    <a:pt x="389" y="1122"/>
                    <a:pt x="408" y="1128"/>
                    <a:pt x="414" y="1117"/>
                  </a:cubicBezTo>
                  <a:cubicBezTo>
                    <a:pt x="430" y="1089"/>
                    <a:pt x="377" y="1028"/>
                    <a:pt x="377" y="1028"/>
                  </a:cubicBezTo>
                  <a:cubicBezTo>
                    <a:pt x="389" y="976"/>
                    <a:pt x="394" y="1000"/>
                    <a:pt x="436" y="1013"/>
                  </a:cubicBezTo>
                  <a:cubicBezTo>
                    <a:pt x="448" y="1050"/>
                    <a:pt x="453" y="1087"/>
                    <a:pt x="466" y="1124"/>
                  </a:cubicBezTo>
                  <a:cubicBezTo>
                    <a:pt x="473" y="1183"/>
                    <a:pt x="466" y="1189"/>
                    <a:pt x="517" y="1205"/>
                  </a:cubicBezTo>
                  <a:cubicBezTo>
                    <a:pt x="570" y="1351"/>
                    <a:pt x="474" y="1402"/>
                    <a:pt x="599" y="1478"/>
                  </a:cubicBezTo>
                  <a:cubicBezTo>
                    <a:pt x="673" y="1460"/>
                    <a:pt x="643" y="1410"/>
                    <a:pt x="635" y="1331"/>
                  </a:cubicBezTo>
                  <a:cubicBezTo>
                    <a:pt x="628" y="1264"/>
                    <a:pt x="599" y="1187"/>
                    <a:pt x="576" y="1124"/>
                  </a:cubicBezTo>
                  <a:cubicBezTo>
                    <a:pt x="566" y="1036"/>
                    <a:pt x="571" y="1085"/>
                    <a:pt x="532" y="1028"/>
                  </a:cubicBezTo>
                  <a:cubicBezTo>
                    <a:pt x="518" y="983"/>
                    <a:pt x="546" y="998"/>
                    <a:pt x="576" y="1006"/>
                  </a:cubicBezTo>
                  <a:cubicBezTo>
                    <a:pt x="619" y="1034"/>
                    <a:pt x="593" y="1051"/>
                    <a:pt x="635" y="1080"/>
                  </a:cubicBezTo>
                  <a:cubicBezTo>
                    <a:pt x="634" y="1049"/>
                    <a:pt x="637" y="885"/>
                    <a:pt x="599" y="829"/>
                  </a:cubicBezTo>
                  <a:cubicBezTo>
                    <a:pt x="593" y="820"/>
                    <a:pt x="583" y="814"/>
                    <a:pt x="576" y="806"/>
                  </a:cubicBezTo>
                  <a:cubicBezTo>
                    <a:pt x="570" y="799"/>
                    <a:pt x="567" y="791"/>
                    <a:pt x="562" y="784"/>
                  </a:cubicBezTo>
                  <a:cubicBezTo>
                    <a:pt x="590" y="775"/>
                    <a:pt x="601" y="782"/>
                    <a:pt x="628" y="792"/>
                  </a:cubicBezTo>
                  <a:cubicBezTo>
                    <a:pt x="637" y="819"/>
                    <a:pt x="650" y="838"/>
                    <a:pt x="658" y="865"/>
                  </a:cubicBezTo>
                  <a:cubicBezTo>
                    <a:pt x="664" y="820"/>
                    <a:pt x="660" y="799"/>
                    <a:pt x="702" y="784"/>
                  </a:cubicBezTo>
                  <a:cubicBezTo>
                    <a:pt x="707" y="786"/>
                    <a:pt x="746" y="798"/>
                    <a:pt x="746" y="806"/>
                  </a:cubicBezTo>
                  <a:cubicBezTo>
                    <a:pt x="746" y="815"/>
                    <a:pt x="731" y="816"/>
                    <a:pt x="724" y="821"/>
                  </a:cubicBezTo>
                  <a:cubicBezTo>
                    <a:pt x="716" y="846"/>
                    <a:pt x="703" y="863"/>
                    <a:pt x="695" y="888"/>
                  </a:cubicBezTo>
                  <a:cubicBezTo>
                    <a:pt x="680" y="1036"/>
                    <a:pt x="606" y="1242"/>
                    <a:pt x="717" y="1353"/>
                  </a:cubicBezTo>
                  <a:cubicBezTo>
                    <a:pt x="755" y="1346"/>
                    <a:pt x="771" y="1335"/>
                    <a:pt x="805" y="1323"/>
                  </a:cubicBezTo>
                  <a:cubicBezTo>
                    <a:pt x="810" y="1330"/>
                    <a:pt x="812" y="1342"/>
                    <a:pt x="820" y="1345"/>
                  </a:cubicBezTo>
                  <a:cubicBezTo>
                    <a:pt x="827" y="1348"/>
                    <a:pt x="834" y="1339"/>
                    <a:pt x="842" y="1338"/>
                  </a:cubicBezTo>
                  <a:cubicBezTo>
                    <a:pt x="859" y="1335"/>
                    <a:pt x="877" y="1333"/>
                    <a:pt x="894" y="1331"/>
                  </a:cubicBezTo>
                  <a:cubicBezTo>
                    <a:pt x="945" y="1256"/>
                    <a:pt x="864" y="1223"/>
                    <a:pt x="842" y="1161"/>
                  </a:cubicBezTo>
                  <a:cubicBezTo>
                    <a:pt x="845" y="1151"/>
                    <a:pt x="841" y="1136"/>
                    <a:pt x="850" y="1131"/>
                  </a:cubicBezTo>
                  <a:cubicBezTo>
                    <a:pt x="867" y="1123"/>
                    <a:pt x="896" y="1145"/>
                    <a:pt x="909" y="1153"/>
                  </a:cubicBezTo>
                  <a:cubicBezTo>
                    <a:pt x="914" y="1161"/>
                    <a:pt x="914" y="1176"/>
                    <a:pt x="923" y="1176"/>
                  </a:cubicBezTo>
                  <a:cubicBezTo>
                    <a:pt x="932" y="1176"/>
                    <a:pt x="936" y="1162"/>
                    <a:pt x="938" y="1153"/>
                  </a:cubicBezTo>
                  <a:cubicBezTo>
                    <a:pt x="944" y="1121"/>
                    <a:pt x="943" y="1089"/>
                    <a:pt x="946" y="1057"/>
                  </a:cubicBezTo>
                  <a:cubicBezTo>
                    <a:pt x="979" y="1063"/>
                    <a:pt x="993" y="1055"/>
                    <a:pt x="1005" y="1087"/>
                  </a:cubicBezTo>
                  <a:cubicBezTo>
                    <a:pt x="1012" y="1106"/>
                    <a:pt x="1019" y="1146"/>
                    <a:pt x="1019" y="1146"/>
                  </a:cubicBezTo>
                  <a:cubicBezTo>
                    <a:pt x="1013" y="1201"/>
                    <a:pt x="1017" y="1213"/>
                    <a:pt x="975" y="1242"/>
                  </a:cubicBezTo>
                  <a:cubicBezTo>
                    <a:pt x="942" y="1290"/>
                    <a:pt x="927" y="1368"/>
                    <a:pt x="983" y="1405"/>
                  </a:cubicBezTo>
                  <a:cubicBezTo>
                    <a:pt x="999" y="1379"/>
                    <a:pt x="996" y="1387"/>
                    <a:pt x="1005" y="1360"/>
                  </a:cubicBezTo>
                  <a:cubicBezTo>
                    <a:pt x="1010" y="1345"/>
                    <a:pt x="1019" y="1316"/>
                    <a:pt x="1019" y="1316"/>
                  </a:cubicBezTo>
                  <a:cubicBezTo>
                    <a:pt x="1029" y="1318"/>
                    <a:pt x="1041" y="1317"/>
                    <a:pt x="1049" y="1323"/>
                  </a:cubicBezTo>
                  <a:cubicBezTo>
                    <a:pt x="1066" y="1336"/>
                    <a:pt x="1033" y="1393"/>
                    <a:pt x="1027" y="1412"/>
                  </a:cubicBezTo>
                  <a:cubicBezTo>
                    <a:pt x="1029" y="1419"/>
                    <a:pt x="1028" y="1430"/>
                    <a:pt x="1034" y="1434"/>
                  </a:cubicBezTo>
                  <a:cubicBezTo>
                    <a:pt x="1047" y="1443"/>
                    <a:pt x="1079" y="1449"/>
                    <a:pt x="1079" y="1449"/>
                  </a:cubicBezTo>
                  <a:cubicBezTo>
                    <a:pt x="1112" y="1482"/>
                    <a:pt x="1103" y="1500"/>
                    <a:pt x="1152" y="1515"/>
                  </a:cubicBezTo>
                  <a:cubicBezTo>
                    <a:pt x="1364" y="1504"/>
                    <a:pt x="1242" y="1528"/>
                    <a:pt x="1330" y="1471"/>
                  </a:cubicBezTo>
                  <a:cubicBezTo>
                    <a:pt x="1369" y="1409"/>
                    <a:pt x="1331" y="1334"/>
                    <a:pt x="1344" y="1264"/>
                  </a:cubicBezTo>
                  <a:cubicBezTo>
                    <a:pt x="1337" y="1187"/>
                    <a:pt x="1348" y="1185"/>
                    <a:pt x="1285" y="1168"/>
                  </a:cubicBezTo>
                  <a:cubicBezTo>
                    <a:pt x="1261" y="1152"/>
                    <a:pt x="1243" y="1132"/>
                    <a:pt x="1219" y="1117"/>
                  </a:cubicBezTo>
                  <a:cubicBezTo>
                    <a:pt x="1214" y="1102"/>
                    <a:pt x="1209" y="1087"/>
                    <a:pt x="1204" y="1072"/>
                  </a:cubicBezTo>
                  <a:cubicBezTo>
                    <a:pt x="1202" y="1065"/>
                    <a:pt x="1197" y="1050"/>
                    <a:pt x="1197" y="1050"/>
                  </a:cubicBezTo>
                  <a:cubicBezTo>
                    <a:pt x="1200" y="1039"/>
                    <a:pt x="1201" y="990"/>
                    <a:pt x="1234" y="1028"/>
                  </a:cubicBezTo>
                  <a:cubicBezTo>
                    <a:pt x="1267" y="1067"/>
                    <a:pt x="1230" y="1091"/>
                    <a:pt x="1293" y="1131"/>
                  </a:cubicBezTo>
                  <a:cubicBezTo>
                    <a:pt x="1316" y="1167"/>
                    <a:pt x="1324" y="1169"/>
                    <a:pt x="1367" y="1161"/>
                  </a:cubicBezTo>
                  <a:cubicBezTo>
                    <a:pt x="1389" y="1126"/>
                    <a:pt x="1424" y="1104"/>
                    <a:pt x="1448" y="1072"/>
                  </a:cubicBezTo>
                  <a:cubicBezTo>
                    <a:pt x="1463" y="1052"/>
                    <a:pt x="1492" y="1013"/>
                    <a:pt x="1492" y="1013"/>
                  </a:cubicBezTo>
                  <a:cubicBezTo>
                    <a:pt x="1497" y="998"/>
                    <a:pt x="1507" y="984"/>
                    <a:pt x="1507" y="969"/>
                  </a:cubicBezTo>
                  <a:cubicBezTo>
                    <a:pt x="1507" y="845"/>
                    <a:pt x="1350" y="883"/>
                    <a:pt x="1271" y="880"/>
                  </a:cubicBezTo>
                  <a:cubicBezTo>
                    <a:pt x="1256" y="870"/>
                    <a:pt x="1239" y="864"/>
                    <a:pt x="1226" y="851"/>
                  </a:cubicBezTo>
                  <a:cubicBezTo>
                    <a:pt x="1198" y="823"/>
                    <a:pt x="1179" y="792"/>
                    <a:pt x="1145" y="769"/>
                  </a:cubicBezTo>
                  <a:cubicBezTo>
                    <a:pt x="1102" y="706"/>
                    <a:pt x="1053" y="650"/>
                    <a:pt x="990" y="607"/>
                  </a:cubicBezTo>
                  <a:cubicBezTo>
                    <a:pt x="959" y="562"/>
                    <a:pt x="993" y="606"/>
                    <a:pt x="953" y="570"/>
                  </a:cubicBezTo>
                  <a:cubicBezTo>
                    <a:pt x="915" y="536"/>
                    <a:pt x="876" y="487"/>
                    <a:pt x="820" y="481"/>
                  </a:cubicBezTo>
                  <a:cubicBezTo>
                    <a:pt x="778" y="477"/>
                    <a:pt x="737" y="476"/>
                    <a:pt x="695" y="474"/>
                  </a:cubicBezTo>
                  <a:cubicBezTo>
                    <a:pt x="687" y="472"/>
                    <a:pt x="678" y="473"/>
                    <a:pt x="672" y="467"/>
                  </a:cubicBezTo>
                  <a:cubicBezTo>
                    <a:pt x="653" y="449"/>
                    <a:pt x="669" y="435"/>
                    <a:pt x="687" y="430"/>
                  </a:cubicBezTo>
                  <a:cubicBezTo>
                    <a:pt x="706" y="425"/>
                    <a:pt x="726" y="425"/>
                    <a:pt x="746" y="422"/>
                  </a:cubicBezTo>
                  <a:cubicBezTo>
                    <a:pt x="738" y="388"/>
                    <a:pt x="722" y="378"/>
                    <a:pt x="695" y="356"/>
                  </a:cubicBezTo>
                  <a:cubicBezTo>
                    <a:pt x="688" y="350"/>
                    <a:pt x="663" y="342"/>
                    <a:pt x="672" y="341"/>
                  </a:cubicBezTo>
                  <a:cubicBezTo>
                    <a:pt x="704" y="338"/>
                    <a:pt x="736" y="346"/>
                    <a:pt x="768" y="349"/>
                  </a:cubicBezTo>
                  <a:cubicBezTo>
                    <a:pt x="799" y="358"/>
                    <a:pt x="810" y="370"/>
                    <a:pt x="820" y="400"/>
                  </a:cubicBezTo>
                  <a:cubicBezTo>
                    <a:pt x="862" y="398"/>
                    <a:pt x="911" y="417"/>
                    <a:pt x="946" y="393"/>
                  </a:cubicBezTo>
                  <a:cubicBezTo>
                    <a:pt x="1004" y="353"/>
                    <a:pt x="907" y="295"/>
                    <a:pt x="887" y="282"/>
                  </a:cubicBezTo>
                  <a:cubicBezTo>
                    <a:pt x="870" y="257"/>
                    <a:pt x="827" y="216"/>
                    <a:pt x="827" y="216"/>
                  </a:cubicBezTo>
                  <a:cubicBezTo>
                    <a:pt x="813" y="171"/>
                    <a:pt x="839" y="185"/>
                    <a:pt x="872" y="193"/>
                  </a:cubicBezTo>
                  <a:cubicBezTo>
                    <a:pt x="895" y="269"/>
                    <a:pt x="929" y="239"/>
                    <a:pt x="983" y="275"/>
                  </a:cubicBezTo>
                  <a:cubicBezTo>
                    <a:pt x="998" y="285"/>
                    <a:pt x="1027" y="304"/>
                    <a:pt x="1027" y="304"/>
                  </a:cubicBezTo>
                  <a:cubicBezTo>
                    <a:pt x="1029" y="311"/>
                    <a:pt x="1027" y="329"/>
                    <a:pt x="1034" y="326"/>
                  </a:cubicBezTo>
                  <a:cubicBezTo>
                    <a:pt x="1037" y="325"/>
                    <a:pt x="1045" y="280"/>
                    <a:pt x="1049" y="275"/>
                  </a:cubicBezTo>
                  <a:cubicBezTo>
                    <a:pt x="1051" y="273"/>
                    <a:pt x="1091" y="261"/>
                    <a:pt x="1093" y="260"/>
                  </a:cubicBezTo>
                  <a:cubicBezTo>
                    <a:pt x="1126" y="271"/>
                    <a:pt x="1153" y="263"/>
                    <a:pt x="1130" y="297"/>
                  </a:cubicBezTo>
                  <a:cubicBezTo>
                    <a:pt x="1124" y="306"/>
                    <a:pt x="1115" y="312"/>
                    <a:pt x="1108" y="319"/>
                  </a:cubicBezTo>
                  <a:cubicBezTo>
                    <a:pt x="1106" y="326"/>
                    <a:pt x="1106" y="335"/>
                    <a:pt x="1101" y="341"/>
                  </a:cubicBezTo>
                  <a:cubicBezTo>
                    <a:pt x="1096" y="347"/>
                    <a:pt x="1085" y="345"/>
                    <a:pt x="1079" y="349"/>
                  </a:cubicBezTo>
                  <a:cubicBezTo>
                    <a:pt x="1027" y="384"/>
                    <a:pt x="1083" y="362"/>
                    <a:pt x="1034" y="378"/>
                  </a:cubicBezTo>
                  <a:cubicBezTo>
                    <a:pt x="1035" y="395"/>
                    <a:pt x="1039" y="495"/>
                    <a:pt x="1056" y="511"/>
                  </a:cubicBezTo>
                  <a:cubicBezTo>
                    <a:pt x="1092" y="545"/>
                    <a:pt x="1147" y="585"/>
                    <a:pt x="1189" y="614"/>
                  </a:cubicBezTo>
                  <a:cubicBezTo>
                    <a:pt x="1203" y="624"/>
                    <a:pt x="1246" y="627"/>
                    <a:pt x="1256" y="629"/>
                  </a:cubicBezTo>
                  <a:cubicBezTo>
                    <a:pt x="1263" y="636"/>
                    <a:pt x="1268" y="653"/>
                    <a:pt x="1278" y="651"/>
                  </a:cubicBezTo>
                  <a:cubicBezTo>
                    <a:pt x="1289" y="649"/>
                    <a:pt x="1292" y="633"/>
                    <a:pt x="1293" y="622"/>
                  </a:cubicBezTo>
                  <a:cubicBezTo>
                    <a:pt x="1295" y="590"/>
                    <a:pt x="1297" y="556"/>
                    <a:pt x="1285" y="526"/>
                  </a:cubicBezTo>
                  <a:cubicBezTo>
                    <a:pt x="1278" y="510"/>
                    <a:pt x="1241" y="496"/>
                    <a:pt x="1241" y="496"/>
                  </a:cubicBezTo>
                  <a:cubicBezTo>
                    <a:pt x="1207" y="446"/>
                    <a:pt x="1216" y="469"/>
                    <a:pt x="1204" y="430"/>
                  </a:cubicBezTo>
                  <a:cubicBezTo>
                    <a:pt x="1211" y="339"/>
                    <a:pt x="1256" y="192"/>
                    <a:pt x="1145" y="157"/>
                  </a:cubicBezTo>
                  <a:cubicBezTo>
                    <a:pt x="1123" y="134"/>
                    <a:pt x="1103" y="127"/>
                    <a:pt x="1093" y="97"/>
                  </a:cubicBezTo>
                  <a:cubicBezTo>
                    <a:pt x="1123" y="87"/>
                    <a:pt x="1146" y="95"/>
                    <a:pt x="1175" y="105"/>
                  </a:cubicBezTo>
                  <a:cubicBezTo>
                    <a:pt x="1212" y="162"/>
                    <a:pt x="1233" y="226"/>
                    <a:pt x="1271" y="282"/>
                  </a:cubicBezTo>
                  <a:cubicBezTo>
                    <a:pt x="1284" y="321"/>
                    <a:pt x="1288" y="361"/>
                    <a:pt x="1300" y="400"/>
                  </a:cubicBezTo>
                  <a:cubicBezTo>
                    <a:pt x="1300" y="401"/>
                    <a:pt x="1290" y="565"/>
                    <a:pt x="1337" y="496"/>
                  </a:cubicBezTo>
                  <a:cubicBezTo>
                    <a:pt x="1329" y="367"/>
                    <a:pt x="1334" y="409"/>
                    <a:pt x="1307" y="334"/>
                  </a:cubicBezTo>
                  <a:cubicBezTo>
                    <a:pt x="1312" y="327"/>
                    <a:pt x="1314" y="315"/>
                    <a:pt x="1322" y="312"/>
                  </a:cubicBezTo>
                  <a:cubicBezTo>
                    <a:pt x="1360" y="299"/>
                    <a:pt x="1362" y="350"/>
                    <a:pt x="1367" y="371"/>
                  </a:cubicBezTo>
                  <a:cubicBezTo>
                    <a:pt x="1404" y="358"/>
                    <a:pt x="1430" y="332"/>
                    <a:pt x="1463" y="312"/>
                  </a:cubicBezTo>
                  <a:cubicBezTo>
                    <a:pt x="1482" y="249"/>
                    <a:pt x="1440" y="174"/>
                    <a:pt x="1499" y="134"/>
                  </a:cubicBezTo>
                  <a:cubicBezTo>
                    <a:pt x="1524" y="98"/>
                    <a:pt x="1530" y="122"/>
                    <a:pt x="1544" y="83"/>
                  </a:cubicBezTo>
                  <a:cubicBezTo>
                    <a:pt x="1541" y="63"/>
                    <a:pt x="1541" y="43"/>
                    <a:pt x="1536" y="24"/>
                  </a:cubicBezTo>
                  <a:cubicBezTo>
                    <a:pt x="1534" y="15"/>
                    <a:pt x="1516" y="7"/>
                    <a:pt x="1522" y="1"/>
                  </a:cubicBezTo>
                  <a:cubicBezTo>
                    <a:pt x="1523" y="0"/>
                    <a:pt x="1568" y="15"/>
                    <a:pt x="1573" y="16"/>
                  </a:cubicBezTo>
                  <a:cubicBezTo>
                    <a:pt x="1578" y="23"/>
                    <a:pt x="1581" y="32"/>
                    <a:pt x="1588" y="38"/>
                  </a:cubicBezTo>
                  <a:cubicBezTo>
                    <a:pt x="1594" y="43"/>
                    <a:pt x="1609" y="38"/>
                    <a:pt x="1610" y="46"/>
                  </a:cubicBezTo>
                  <a:cubicBezTo>
                    <a:pt x="1611" y="52"/>
                    <a:pt x="1599" y="185"/>
                    <a:pt x="1595" y="201"/>
                  </a:cubicBezTo>
                  <a:cubicBezTo>
                    <a:pt x="1593" y="209"/>
                    <a:pt x="1589" y="220"/>
                    <a:pt x="1581" y="223"/>
                  </a:cubicBezTo>
                  <a:cubicBezTo>
                    <a:pt x="1560" y="231"/>
                    <a:pt x="1536" y="228"/>
                    <a:pt x="1514" y="230"/>
                  </a:cubicBezTo>
                  <a:cubicBezTo>
                    <a:pt x="1494" y="296"/>
                    <a:pt x="1483" y="324"/>
                    <a:pt x="1514" y="422"/>
                  </a:cubicBezTo>
                  <a:cubicBezTo>
                    <a:pt x="1519" y="436"/>
                    <a:pt x="1544" y="417"/>
                    <a:pt x="1559" y="415"/>
                  </a:cubicBezTo>
                  <a:cubicBezTo>
                    <a:pt x="1619" y="374"/>
                    <a:pt x="1585" y="387"/>
                    <a:pt x="1662" y="378"/>
                  </a:cubicBezTo>
                  <a:cubicBezTo>
                    <a:pt x="1721" y="319"/>
                    <a:pt x="1802" y="338"/>
                    <a:pt x="1883" y="334"/>
                  </a:cubicBezTo>
                  <a:cubicBezTo>
                    <a:pt x="1907" y="318"/>
                    <a:pt x="1930" y="306"/>
                    <a:pt x="1957" y="297"/>
                  </a:cubicBezTo>
                  <a:cubicBezTo>
                    <a:pt x="1950" y="230"/>
                    <a:pt x="1955" y="226"/>
                    <a:pt x="1906" y="193"/>
                  </a:cubicBezTo>
                  <a:cubicBezTo>
                    <a:pt x="1906" y="192"/>
                    <a:pt x="1890" y="151"/>
                    <a:pt x="1891" y="149"/>
                  </a:cubicBezTo>
                  <a:cubicBezTo>
                    <a:pt x="1896" y="136"/>
                    <a:pt x="1965" y="85"/>
                    <a:pt x="1979" y="75"/>
                  </a:cubicBezTo>
                  <a:cubicBezTo>
                    <a:pt x="2001" y="43"/>
                    <a:pt x="2012" y="51"/>
                    <a:pt x="2046" y="38"/>
                  </a:cubicBezTo>
                  <a:cubicBezTo>
                    <a:pt x="2045" y="42"/>
                    <a:pt x="2030" y="116"/>
                    <a:pt x="2024" y="120"/>
                  </a:cubicBezTo>
                  <a:cubicBezTo>
                    <a:pt x="2014" y="127"/>
                    <a:pt x="1999" y="125"/>
                    <a:pt x="1987" y="127"/>
                  </a:cubicBezTo>
                  <a:cubicBezTo>
                    <a:pt x="2002" y="192"/>
                    <a:pt x="2041" y="173"/>
                    <a:pt x="2112" y="179"/>
                  </a:cubicBezTo>
                  <a:cubicBezTo>
                    <a:pt x="2092" y="241"/>
                    <a:pt x="2064" y="250"/>
                    <a:pt x="2002" y="260"/>
                  </a:cubicBezTo>
                  <a:cubicBezTo>
                    <a:pt x="1999" y="267"/>
                    <a:pt x="1990" y="275"/>
                    <a:pt x="1994" y="282"/>
                  </a:cubicBezTo>
                  <a:cubicBezTo>
                    <a:pt x="2002" y="295"/>
                    <a:pt x="2070" y="313"/>
                    <a:pt x="2090" y="326"/>
                  </a:cubicBezTo>
                  <a:cubicBezTo>
                    <a:pt x="2098" y="350"/>
                    <a:pt x="2102" y="376"/>
                    <a:pt x="2112" y="400"/>
                  </a:cubicBezTo>
                  <a:cubicBezTo>
                    <a:pt x="2131" y="444"/>
                    <a:pt x="2162" y="492"/>
                    <a:pt x="2171" y="541"/>
                  </a:cubicBezTo>
                  <a:cubicBezTo>
                    <a:pt x="2178" y="581"/>
                    <a:pt x="2174" y="606"/>
                    <a:pt x="2208" y="629"/>
                  </a:cubicBezTo>
                  <a:cubicBezTo>
                    <a:pt x="2199" y="728"/>
                    <a:pt x="2221" y="719"/>
                    <a:pt x="2149" y="696"/>
                  </a:cubicBezTo>
                  <a:cubicBezTo>
                    <a:pt x="2129" y="631"/>
                    <a:pt x="2105" y="588"/>
                    <a:pt x="2046" y="548"/>
                  </a:cubicBezTo>
                  <a:cubicBezTo>
                    <a:pt x="2020" y="510"/>
                    <a:pt x="2042" y="528"/>
                    <a:pt x="2016" y="548"/>
                  </a:cubicBezTo>
                  <a:cubicBezTo>
                    <a:pt x="2010" y="553"/>
                    <a:pt x="2001" y="553"/>
                    <a:pt x="1994" y="555"/>
                  </a:cubicBezTo>
                  <a:cubicBezTo>
                    <a:pt x="1982" y="553"/>
                    <a:pt x="1967" y="556"/>
                    <a:pt x="1957" y="548"/>
                  </a:cubicBezTo>
                  <a:cubicBezTo>
                    <a:pt x="1938" y="532"/>
                    <a:pt x="1951" y="498"/>
                    <a:pt x="1943" y="474"/>
                  </a:cubicBezTo>
                  <a:cubicBezTo>
                    <a:pt x="1935" y="449"/>
                    <a:pt x="1883" y="422"/>
                    <a:pt x="1883" y="422"/>
                  </a:cubicBezTo>
                  <a:cubicBezTo>
                    <a:pt x="1822" y="428"/>
                    <a:pt x="1758" y="429"/>
                    <a:pt x="1699" y="445"/>
                  </a:cubicBezTo>
                  <a:cubicBezTo>
                    <a:pt x="1678" y="459"/>
                    <a:pt x="1639" y="496"/>
                    <a:pt x="1618" y="504"/>
                  </a:cubicBezTo>
                  <a:cubicBezTo>
                    <a:pt x="1605" y="523"/>
                    <a:pt x="1603" y="531"/>
                    <a:pt x="1581" y="541"/>
                  </a:cubicBezTo>
                  <a:cubicBezTo>
                    <a:pt x="1567" y="547"/>
                    <a:pt x="1536" y="555"/>
                    <a:pt x="1536" y="555"/>
                  </a:cubicBezTo>
                  <a:cubicBezTo>
                    <a:pt x="1521" y="565"/>
                    <a:pt x="1507" y="575"/>
                    <a:pt x="1492" y="585"/>
                  </a:cubicBezTo>
                  <a:cubicBezTo>
                    <a:pt x="1485" y="590"/>
                    <a:pt x="1470" y="600"/>
                    <a:pt x="1470" y="600"/>
                  </a:cubicBezTo>
                  <a:cubicBezTo>
                    <a:pt x="1460" y="615"/>
                    <a:pt x="1445" y="627"/>
                    <a:pt x="1440" y="644"/>
                  </a:cubicBezTo>
                  <a:cubicBezTo>
                    <a:pt x="1435" y="659"/>
                    <a:pt x="1426" y="688"/>
                    <a:pt x="1426" y="688"/>
                  </a:cubicBezTo>
                  <a:cubicBezTo>
                    <a:pt x="1440" y="718"/>
                    <a:pt x="1466" y="763"/>
                    <a:pt x="1492" y="784"/>
                  </a:cubicBezTo>
                  <a:cubicBezTo>
                    <a:pt x="1524" y="810"/>
                    <a:pt x="1600" y="823"/>
                    <a:pt x="1640" y="836"/>
                  </a:cubicBezTo>
                  <a:cubicBezTo>
                    <a:pt x="1675" y="872"/>
                    <a:pt x="1698" y="887"/>
                    <a:pt x="1714" y="932"/>
                  </a:cubicBezTo>
                  <a:cubicBezTo>
                    <a:pt x="1702" y="974"/>
                    <a:pt x="1675" y="1009"/>
                    <a:pt x="1662" y="1050"/>
                  </a:cubicBezTo>
                  <a:cubicBezTo>
                    <a:pt x="1660" y="1056"/>
                    <a:pt x="1650" y="1088"/>
                    <a:pt x="1647" y="1094"/>
                  </a:cubicBezTo>
                  <a:cubicBezTo>
                    <a:pt x="1638" y="1110"/>
                    <a:pt x="1624" y="1122"/>
                    <a:pt x="1618" y="1139"/>
                  </a:cubicBezTo>
                  <a:cubicBezTo>
                    <a:pt x="1601" y="1186"/>
                    <a:pt x="1588" y="1234"/>
                    <a:pt x="1566" y="1279"/>
                  </a:cubicBezTo>
                  <a:cubicBezTo>
                    <a:pt x="1551" y="1344"/>
                    <a:pt x="1531" y="1407"/>
                    <a:pt x="1514" y="1471"/>
                  </a:cubicBezTo>
                  <a:cubicBezTo>
                    <a:pt x="1519" y="1508"/>
                    <a:pt x="1521" y="1546"/>
                    <a:pt x="1529" y="1582"/>
                  </a:cubicBezTo>
                  <a:cubicBezTo>
                    <a:pt x="1532" y="1594"/>
                    <a:pt x="1554" y="1636"/>
                    <a:pt x="1559" y="1656"/>
                  </a:cubicBezTo>
                  <a:cubicBezTo>
                    <a:pt x="1565" y="1710"/>
                    <a:pt x="1572" y="1765"/>
                    <a:pt x="1603" y="1811"/>
                  </a:cubicBezTo>
                  <a:cubicBezTo>
                    <a:pt x="1600" y="1858"/>
                    <a:pt x="1604" y="1905"/>
                    <a:pt x="1595" y="1951"/>
                  </a:cubicBezTo>
                  <a:cubicBezTo>
                    <a:pt x="1592" y="1968"/>
                    <a:pt x="1576" y="1980"/>
                    <a:pt x="1566" y="1995"/>
                  </a:cubicBezTo>
                  <a:cubicBezTo>
                    <a:pt x="1561" y="2002"/>
                    <a:pt x="1551" y="2017"/>
                    <a:pt x="1551" y="2017"/>
                  </a:cubicBezTo>
                  <a:cubicBezTo>
                    <a:pt x="1538" y="2058"/>
                    <a:pt x="1517" y="2107"/>
                    <a:pt x="1492" y="2143"/>
                  </a:cubicBezTo>
                  <a:cubicBezTo>
                    <a:pt x="1490" y="2153"/>
                    <a:pt x="1489" y="2163"/>
                    <a:pt x="1485" y="2173"/>
                  </a:cubicBezTo>
                  <a:cubicBezTo>
                    <a:pt x="1481" y="2183"/>
                    <a:pt x="1473" y="2191"/>
                    <a:pt x="1470" y="2202"/>
                  </a:cubicBezTo>
                  <a:cubicBezTo>
                    <a:pt x="1465" y="2221"/>
                    <a:pt x="1466" y="2241"/>
                    <a:pt x="1463" y="2261"/>
                  </a:cubicBezTo>
                  <a:cubicBezTo>
                    <a:pt x="1459" y="2284"/>
                    <a:pt x="1453" y="2306"/>
                    <a:pt x="1448" y="2328"/>
                  </a:cubicBezTo>
                  <a:cubicBezTo>
                    <a:pt x="1445" y="2340"/>
                    <a:pt x="1440" y="2365"/>
                    <a:pt x="1440" y="2365"/>
                  </a:cubicBezTo>
                  <a:cubicBezTo>
                    <a:pt x="1425" y="2510"/>
                    <a:pt x="1435" y="2454"/>
                    <a:pt x="1418" y="2534"/>
                  </a:cubicBezTo>
                  <a:cubicBezTo>
                    <a:pt x="1422" y="2679"/>
                    <a:pt x="1400" y="2831"/>
                    <a:pt x="1485" y="2955"/>
                  </a:cubicBezTo>
                  <a:cubicBezTo>
                    <a:pt x="1507" y="3051"/>
                    <a:pt x="1552" y="3203"/>
                    <a:pt x="1610" y="3280"/>
                  </a:cubicBezTo>
                  <a:cubicBezTo>
                    <a:pt x="1617" y="3312"/>
                    <a:pt x="1629" y="3331"/>
                    <a:pt x="1640" y="3361"/>
                  </a:cubicBezTo>
                  <a:cubicBezTo>
                    <a:pt x="1649" y="3418"/>
                    <a:pt x="1682" y="3468"/>
                    <a:pt x="1714" y="3517"/>
                  </a:cubicBezTo>
                  <a:cubicBezTo>
                    <a:pt x="1724" y="3570"/>
                    <a:pt x="1749" y="3612"/>
                    <a:pt x="1765" y="3664"/>
                  </a:cubicBezTo>
                  <a:cubicBezTo>
                    <a:pt x="1767" y="3671"/>
                    <a:pt x="1780" y="3670"/>
                    <a:pt x="1787" y="3672"/>
                  </a:cubicBezTo>
                  <a:cubicBezTo>
                    <a:pt x="1817" y="3681"/>
                    <a:pt x="1836" y="3681"/>
                    <a:pt x="1869" y="3686"/>
                  </a:cubicBezTo>
                  <a:cubicBezTo>
                    <a:pt x="1900" y="3697"/>
                    <a:pt x="1908" y="3719"/>
                    <a:pt x="1928" y="3745"/>
                  </a:cubicBezTo>
                  <a:cubicBezTo>
                    <a:pt x="1902" y="3841"/>
                    <a:pt x="1843" y="3821"/>
                    <a:pt x="1743" y="3827"/>
                  </a:cubicBezTo>
                  <a:cubicBezTo>
                    <a:pt x="1709" y="3838"/>
                    <a:pt x="1674" y="3837"/>
                    <a:pt x="1640" y="3849"/>
                  </a:cubicBezTo>
                  <a:cubicBezTo>
                    <a:pt x="1255" y="3842"/>
                    <a:pt x="1346" y="3869"/>
                    <a:pt x="1167" y="3827"/>
                  </a:cubicBezTo>
                  <a:cubicBezTo>
                    <a:pt x="1144" y="3804"/>
                    <a:pt x="1131" y="3800"/>
                    <a:pt x="1101" y="3790"/>
                  </a:cubicBezTo>
                  <a:cubicBezTo>
                    <a:pt x="1086" y="3749"/>
                    <a:pt x="1115" y="3733"/>
                    <a:pt x="1152" y="3723"/>
                  </a:cubicBezTo>
                  <a:cubicBezTo>
                    <a:pt x="1164" y="3720"/>
                    <a:pt x="1189" y="3716"/>
                    <a:pt x="1189" y="37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19"/>
            <p:cNvSpPr/>
            <p:nvPr/>
          </p:nvSpPr>
          <p:spPr>
            <a:xfrm flipH="1" rot="711000">
              <a:off x="3388680" y="5922360"/>
              <a:ext cx="5364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0"/>
            <p:cNvSpPr/>
            <p:nvPr/>
          </p:nvSpPr>
          <p:spPr>
            <a:xfrm flipH="1" rot="178200">
              <a:off x="2502360" y="5359320"/>
              <a:ext cx="64800" cy="13860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1"/>
            <p:cNvSpPr/>
            <p:nvPr/>
          </p:nvSpPr>
          <p:spPr>
            <a:xfrm flipH="1" rot="178200">
              <a:off x="3204000" y="5609160"/>
              <a:ext cx="50040" cy="1069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2"/>
            <p:cNvSpPr/>
            <p:nvPr/>
          </p:nvSpPr>
          <p:spPr>
            <a:xfrm rot="20051400">
              <a:off x="2367000" y="5389920"/>
              <a:ext cx="106200" cy="32292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3"/>
            <p:cNvSpPr/>
            <p:nvPr/>
          </p:nvSpPr>
          <p:spPr>
            <a:xfrm flipH="1" rot="17500800">
              <a:off x="2612160" y="5899680"/>
              <a:ext cx="121320" cy="40104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24"/>
            <p:cNvSpPr/>
            <p:nvPr/>
          </p:nvSpPr>
          <p:spPr>
            <a:xfrm flipH="1" rot="18264000">
              <a:off x="2612520" y="5825520"/>
              <a:ext cx="60480" cy="131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25"/>
            <p:cNvSpPr/>
            <p:nvPr/>
          </p:nvSpPr>
          <p:spPr>
            <a:xfrm flipH="1" rot="711000">
              <a:off x="2942640" y="6108480"/>
              <a:ext cx="53640" cy="16236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6"/>
            <p:cNvSpPr/>
            <p:nvPr/>
          </p:nvSpPr>
          <p:spPr>
            <a:xfrm flipH="1" rot="479400">
              <a:off x="2670120" y="5318640"/>
              <a:ext cx="134280" cy="13032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27"/>
          <p:cNvGrpSpPr/>
          <p:nvPr/>
        </p:nvGrpSpPr>
        <p:grpSpPr>
          <a:xfrm>
            <a:off x="5106240" y="2748600"/>
            <a:ext cx="244080" cy="331920"/>
            <a:chOff x="5106240" y="2748600"/>
            <a:chExt cx="244080" cy="331920"/>
          </a:xfrm>
        </p:grpSpPr>
        <p:sp>
          <p:nvSpPr>
            <p:cNvPr id="232" name="Freeform 228"/>
            <p:cNvSpPr/>
            <p:nvPr/>
          </p:nvSpPr>
          <p:spPr>
            <a:xfrm rot="300000">
              <a:off x="5119200" y="2757240"/>
              <a:ext cx="217440" cy="314280"/>
            </a:xfrm>
            <a:custGeom>
              <a:avLst/>
              <a:gdLst/>
              <a:ahLst/>
              <a:rect l="l" t="t" r="r" b="b"/>
              <a:pathLst>
                <a:path w="1578" h="2285">
                  <a:moveTo>
                    <a:pt x="202" y="207"/>
                  </a:moveTo>
                  <a:cubicBezTo>
                    <a:pt x="172" y="237"/>
                    <a:pt x="150" y="267"/>
                    <a:pt x="121" y="296"/>
                  </a:cubicBezTo>
                  <a:cubicBezTo>
                    <a:pt x="102" y="348"/>
                    <a:pt x="128" y="283"/>
                    <a:pt x="91" y="347"/>
                  </a:cubicBezTo>
                  <a:cubicBezTo>
                    <a:pt x="62" y="397"/>
                    <a:pt x="42" y="455"/>
                    <a:pt x="25" y="510"/>
                  </a:cubicBezTo>
                  <a:cubicBezTo>
                    <a:pt x="21" y="522"/>
                    <a:pt x="20" y="535"/>
                    <a:pt x="17" y="547"/>
                  </a:cubicBezTo>
                  <a:cubicBezTo>
                    <a:pt x="12" y="567"/>
                    <a:pt x="2" y="606"/>
                    <a:pt x="2" y="606"/>
                  </a:cubicBezTo>
                  <a:cubicBezTo>
                    <a:pt x="5" y="650"/>
                    <a:pt x="0" y="696"/>
                    <a:pt x="10" y="739"/>
                  </a:cubicBezTo>
                  <a:cubicBezTo>
                    <a:pt x="12" y="750"/>
                    <a:pt x="18" y="718"/>
                    <a:pt x="25" y="709"/>
                  </a:cubicBezTo>
                  <a:cubicBezTo>
                    <a:pt x="43" y="687"/>
                    <a:pt x="70" y="664"/>
                    <a:pt x="91" y="643"/>
                  </a:cubicBezTo>
                  <a:cubicBezTo>
                    <a:pt x="103" y="604"/>
                    <a:pt x="120" y="589"/>
                    <a:pt x="158" y="576"/>
                  </a:cubicBezTo>
                  <a:cubicBezTo>
                    <a:pt x="188" y="529"/>
                    <a:pt x="216" y="549"/>
                    <a:pt x="276" y="554"/>
                  </a:cubicBezTo>
                  <a:cubicBezTo>
                    <a:pt x="279" y="729"/>
                    <a:pt x="258" y="849"/>
                    <a:pt x="305" y="997"/>
                  </a:cubicBezTo>
                  <a:cubicBezTo>
                    <a:pt x="308" y="1041"/>
                    <a:pt x="308" y="1086"/>
                    <a:pt x="313" y="1130"/>
                  </a:cubicBezTo>
                  <a:cubicBezTo>
                    <a:pt x="320" y="1188"/>
                    <a:pt x="353" y="1200"/>
                    <a:pt x="372" y="1248"/>
                  </a:cubicBezTo>
                  <a:cubicBezTo>
                    <a:pt x="376" y="1259"/>
                    <a:pt x="390" y="1326"/>
                    <a:pt x="401" y="1337"/>
                  </a:cubicBezTo>
                  <a:cubicBezTo>
                    <a:pt x="414" y="1350"/>
                    <a:pt x="509" y="1365"/>
                    <a:pt x="534" y="1374"/>
                  </a:cubicBezTo>
                  <a:cubicBezTo>
                    <a:pt x="537" y="1381"/>
                    <a:pt x="543" y="1388"/>
                    <a:pt x="542" y="1396"/>
                  </a:cubicBezTo>
                  <a:cubicBezTo>
                    <a:pt x="536" y="1435"/>
                    <a:pt x="506" y="1404"/>
                    <a:pt x="549" y="1433"/>
                  </a:cubicBezTo>
                  <a:cubicBezTo>
                    <a:pt x="637" y="1370"/>
                    <a:pt x="578" y="1387"/>
                    <a:pt x="615" y="1418"/>
                  </a:cubicBezTo>
                  <a:cubicBezTo>
                    <a:pt x="624" y="1425"/>
                    <a:pt x="635" y="1428"/>
                    <a:pt x="645" y="1433"/>
                  </a:cubicBezTo>
                  <a:cubicBezTo>
                    <a:pt x="692" y="1418"/>
                    <a:pt x="658" y="1394"/>
                    <a:pt x="704" y="1411"/>
                  </a:cubicBezTo>
                  <a:cubicBezTo>
                    <a:pt x="753" y="1378"/>
                    <a:pt x="745" y="1430"/>
                    <a:pt x="778" y="1381"/>
                  </a:cubicBezTo>
                  <a:cubicBezTo>
                    <a:pt x="819" y="1396"/>
                    <a:pt x="804" y="1424"/>
                    <a:pt x="844" y="1396"/>
                  </a:cubicBezTo>
                  <a:cubicBezTo>
                    <a:pt x="851" y="1398"/>
                    <a:pt x="859" y="1406"/>
                    <a:pt x="866" y="1403"/>
                  </a:cubicBezTo>
                  <a:cubicBezTo>
                    <a:pt x="873" y="1400"/>
                    <a:pt x="866" y="1381"/>
                    <a:pt x="874" y="1381"/>
                  </a:cubicBezTo>
                  <a:cubicBezTo>
                    <a:pt x="883" y="1381"/>
                    <a:pt x="883" y="1396"/>
                    <a:pt x="889" y="1403"/>
                  </a:cubicBezTo>
                  <a:cubicBezTo>
                    <a:pt x="901" y="1418"/>
                    <a:pt x="914" y="1433"/>
                    <a:pt x="926" y="1448"/>
                  </a:cubicBezTo>
                  <a:cubicBezTo>
                    <a:pt x="990" y="1524"/>
                    <a:pt x="1049" y="1608"/>
                    <a:pt x="1103" y="1691"/>
                  </a:cubicBezTo>
                  <a:cubicBezTo>
                    <a:pt x="1113" y="1706"/>
                    <a:pt x="1126" y="1719"/>
                    <a:pt x="1132" y="1736"/>
                  </a:cubicBezTo>
                  <a:cubicBezTo>
                    <a:pt x="1140" y="1758"/>
                    <a:pt x="1141" y="1783"/>
                    <a:pt x="1154" y="1802"/>
                  </a:cubicBezTo>
                  <a:cubicBezTo>
                    <a:pt x="1164" y="1817"/>
                    <a:pt x="1184" y="1846"/>
                    <a:pt x="1184" y="1846"/>
                  </a:cubicBezTo>
                  <a:cubicBezTo>
                    <a:pt x="1192" y="1881"/>
                    <a:pt x="1201" y="1912"/>
                    <a:pt x="1221" y="1942"/>
                  </a:cubicBezTo>
                  <a:cubicBezTo>
                    <a:pt x="1232" y="1718"/>
                    <a:pt x="1211" y="1792"/>
                    <a:pt x="1258" y="1861"/>
                  </a:cubicBezTo>
                  <a:cubicBezTo>
                    <a:pt x="1276" y="1938"/>
                    <a:pt x="1337" y="1993"/>
                    <a:pt x="1361" y="2068"/>
                  </a:cubicBezTo>
                  <a:cubicBezTo>
                    <a:pt x="1384" y="1946"/>
                    <a:pt x="1375" y="1980"/>
                    <a:pt x="1413" y="2053"/>
                  </a:cubicBezTo>
                  <a:cubicBezTo>
                    <a:pt x="1421" y="2087"/>
                    <a:pt x="1424" y="2107"/>
                    <a:pt x="1442" y="2142"/>
                  </a:cubicBezTo>
                  <a:cubicBezTo>
                    <a:pt x="1452" y="2162"/>
                    <a:pt x="1472" y="2201"/>
                    <a:pt x="1472" y="2201"/>
                  </a:cubicBezTo>
                  <a:cubicBezTo>
                    <a:pt x="1476" y="2220"/>
                    <a:pt x="1477" y="2285"/>
                    <a:pt x="1494" y="2230"/>
                  </a:cubicBezTo>
                  <a:cubicBezTo>
                    <a:pt x="1497" y="2210"/>
                    <a:pt x="1492" y="2188"/>
                    <a:pt x="1502" y="2171"/>
                  </a:cubicBezTo>
                  <a:cubicBezTo>
                    <a:pt x="1507" y="2163"/>
                    <a:pt x="1511" y="2187"/>
                    <a:pt x="1516" y="2194"/>
                  </a:cubicBezTo>
                  <a:cubicBezTo>
                    <a:pt x="1539" y="2227"/>
                    <a:pt x="1531" y="2219"/>
                    <a:pt x="1561" y="2238"/>
                  </a:cubicBezTo>
                  <a:cubicBezTo>
                    <a:pt x="1578" y="2186"/>
                    <a:pt x="1529" y="2058"/>
                    <a:pt x="1487" y="2016"/>
                  </a:cubicBezTo>
                  <a:cubicBezTo>
                    <a:pt x="1479" y="1986"/>
                    <a:pt x="1457" y="1928"/>
                    <a:pt x="1457" y="1928"/>
                  </a:cubicBezTo>
                  <a:cubicBezTo>
                    <a:pt x="1470" y="1880"/>
                    <a:pt x="1457" y="1838"/>
                    <a:pt x="1435" y="1795"/>
                  </a:cubicBezTo>
                  <a:cubicBezTo>
                    <a:pt x="1429" y="1762"/>
                    <a:pt x="1410" y="1744"/>
                    <a:pt x="1420" y="1714"/>
                  </a:cubicBezTo>
                  <a:cubicBezTo>
                    <a:pt x="1446" y="1730"/>
                    <a:pt x="1457" y="1743"/>
                    <a:pt x="1428" y="1691"/>
                  </a:cubicBezTo>
                  <a:cubicBezTo>
                    <a:pt x="1409" y="1657"/>
                    <a:pt x="1406" y="1668"/>
                    <a:pt x="1383" y="1640"/>
                  </a:cubicBezTo>
                  <a:cubicBezTo>
                    <a:pt x="1363" y="1616"/>
                    <a:pt x="1343" y="1591"/>
                    <a:pt x="1324" y="1566"/>
                  </a:cubicBezTo>
                  <a:cubicBezTo>
                    <a:pt x="1339" y="1523"/>
                    <a:pt x="1303" y="1478"/>
                    <a:pt x="1273" y="1448"/>
                  </a:cubicBezTo>
                  <a:cubicBezTo>
                    <a:pt x="1252" y="1390"/>
                    <a:pt x="1283" y="1462"/>
                    <a:pt x="1243" y="1411"/>
                  </a:cubicBezTo>
                  <a:cubicBezTo>
                    <a:pt x="1238" y="1405"/>
                    <a:pt x="1239" y="1396"/>
                    <a:pt x="1236" y="1389"/>
                  </a:cubicBezTo>
                  <a:cubicBezTo>
                    <a:pt x="1232" y="1381"/>
                    <a:pt x="1227" y="1373"/>
                    <a:pt x="1221" y="1366"/>
                  </a:cubicBezTo>
                  <a:cubicBezTo>
                    <a:pt x="1196" y="1335"/>
                    <a:pt x="1168" y="1306"/>
                    <a:pt x="1140" y="1278"/>
                  </a:cubicBezTo>
                  <a:cubicBezTo>
                    <a:pt x="1113" y="1251"/>
                    <a:pt x="1098" y="1218"/>
                    <a:pt x="1066" y="1197"/>
                  </a:cubicBezTo>
                  <a:cubicBezTo>
                    <a:pt x="1045" y="1165"/>
                    <a:pt x="1019" y="1135"/>
                    <a:pt x="992" y="1108"/>
                  </a:cubicBezTo>
                  <a:cubicBezTo>
                    <a:pt x="983" y="1079"/>
                    <a:pt x="944" y="1011"/>
                    <a:pt x="926" y="982"/>
                  </a:cubicBezTo>
                  <a:cubicBezTo>
                    <a:pt x="919" y="957"/>
                    <a:pt x="908" y="931"/>
                    <a:pt x="896" y="909"/>
                  </a:cubicBezTo>
                  <a:cubicBezTo>
                    <a:pt x="887" y="893"/>
                    <a:pt x="866" y="864"/>
                    <a:pt x="866" y="864"/>
                  </a:cubicBezTo>
                  <a:cubicBezTo>
                    <a:pt x="847" y="803"/>
                    <a:pt x="834" y="741"/>
                    <a:pt x="815" y="680"/>
                  </a:cubicBezTo>
                  <a:cubicBezTo>
                    <a:pt x="807" y="418"/>
                    <a:pt x="816" y="448"/>
                    <a:pt x="770" y="266"/>
                  </a:cubicBezTo>
                  <a:cubicBezTo>
                    <a:pt x="758" y="217"/>
                    <a:pt x="756" y="177"/>
                    <a:pt x="711" y="148"/>
                  </a:cubicBezTo>
                  <a:cubicBezTo>
                    <a:pt x="675" y="91"/>
                    <a:pt x="723" y="160"/>
                    <a:pt x="674" y="111"/>
                  </a:cubicBezTo>
                  <a:cubicBezTo>
                    <a:pt x="668" y="105"/>
                    <a:pt x="666" y="95"/>
                    <a:pt x="660" y="89"/>
                  </a:cubicBezTo>
                  <a:cubicBezTo>
                    <a:pt x="654" y="83"/>
                    <a:pt x="645" y="80"/>
                    <a:pt x="638" y="74"/>
                  </a:cubicBezTo>
                  <a:cubicBezTo>
                    <a:pt x="593" y="35"/>
                    <a:pt x="581" y="20"/>
                    <a:pt x="527" y="0"/>
                  </a:cubicBezTo>
                  <a:cubicBezTo>
                    <a:pt x="388" y="9"/>
                    <a:pt x="415" y="12"/>
                    <a:pt x="313" y="37"/>
                  </a:cubicBezTo>
                  <a:cubicBezTo>
                    <a:pt x="266" y="68"/>
                    <a:pt x="249" y="125"/>
                    <a:pt x="202" y="155"/>
                  </a:cubicBezTo>
                  <a:cubicBezTo>
                    <a:pt x="166" y="209"/>
                    <a:pt x="154" y="196"/>
                    <a:pt x="202" y="20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9"/>
            <p:cNvSpPr/>
            <p:nvPr/>
          </p:nvSpPr>
          <p:spPr>
            <a:xfrm rot="21180000">
              <a:off x="5202720" y="2819880"/>
              <a:ext cx="55080" cy="105480"/>
            </a:xfrm>
            <a:custGeom>
              <a:avLst/>
              <a:gdLst/>
              <a:ahLst/>
              <a:rect l="l" t="t" r="r" b="b"/>
              <a:pathLst>
                <a:path w="122" h="212">
                  <a:moveTo>
                    <a:pt x="30" y="0"/>
                  </a:moveTo>
                  <a:cubicBezTo>
                    <a:pt x="100" y="11"/>
                    <a:pt x="98" y="14"/>
                    <a:pt x="111" y="81"/>
                  </a:cubicBezTo>
                  <a:cubicBezTo>
                    <a:pt x="114" y="110"/>
                    <a:pt x="119" y="140"/>
                    <a:pt x="119" y="169"/>
                  </a:cubicBezTo>
                  <a:cubicBezTo>
                    <a:pt x="119" y="182"/>
                    <a:pt x="122" y="199"/>
                    <a:pt x="111" y="206"/>
                  </a:cubicBezTo>
                  <a:cubicBezTo>
                    <a:pt x="102" y="212"/>
                    <a:pt x="92" y="197"/>
                    <a:pt x="82" y="192"/>
                  </a:cubicBezTo>
                  <a:cubicBezTo>
                    <a:pt x="60" y="169"/>
                    <a:pt x="37" y="155"/>
                    <a:pt x="15" y="132"/>
                  </a:cubicBezTo>
                  <a:cubicBezTo>
                    <a:pt x="13" y="125"/>
                    <a:pt x="0" y="86"/>
                    <a:pt x="0" y="81"/>
                  </a:cubicBezTo>
                  <a:cubicBezTo>
                    <a:pt x="0" y="53"/>
                    <a:pt x="23" y="27"/>
                    <a:pt x="3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30"/>
          <p:cNvGrpSpPr/>
          <p:nvPr/>
        </p:nvGrpSpPr>
        <p:grpSpPr>
          <a:xfrm>
            <a:off x="2535480" y="3596400"/>
            <a:ext cx="608040" cy="663120"/>
            <a:chOff x="2535480" y="3596400"/>
            <a:chExt cx="608040" cy="663120"/>
          </a:xfrm>
        </p:grpSpPr>
        <p:sp>
          <p:nvSpPr>
            <p:cNvPr id="235" name="Freeform 231"/>
            <p:cNvSpPr/>
            <p:nvPr/>
          </p:nvSpPr>
          <p:spPr>
            <a:xfrm flipH="1" rot="3453600">
              <a:off x="2937240" y="3745080"/>
              <a:ext cx="13320" cy="374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32"/>
            <p:cNvSpPr/>
            <p:nvPr/>
          </p:nvSpPr>
          <p:spPr>
            <a:xfrm flipH="1" rot="2920800">
              <a:off x="2703960" y="3827520"/>
              <a:ext cx="15840" cy="320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33"/>
            <p:cNvSpPr/>
            <p:nvPr/>
          </p:nvSpPr>
          <p:spPr>
            <a:xfrm flipH="1" rot="2920800">
              <a:off x="2727000" y="3647160"/>
              <a:ext cx="12240" cy="248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4"/>
            <p:cNvSpPr/>
            <p:nvPr/>
          </p:nvSpPr>
          <p:spPr>
            <a:xfrm rot="21359400">
              <a:off x="2629800" y="3849480"/>
              <a:ext cx="26280" cy="752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5"/>
            <p:cNvSpPr/>
            <p:nvPr/>
          </p:nvSpPr>
          <p:spPr>
            <a:xfrm flipH="1" rot="5068800">
              <a:off x="2842200" y="3808440"/>
              <a:ext cx="22320" cy="79560"/>
            </a:xfrm>
            <a:custGeom>
              <a:avLst/>
              <a:gdLst/>
              <a:ahLst/>
              <a:rect l="l" t="t" r="r" b="b"/>
              <a:pathLst>
                <a:path w="946" h="3117">
                  <a:moveTo>
                    <a:pt x="813" y="2706"/>
                  </a:moveTo>
                  <a:cubicBezTo>
                    <a:pt x="811" y="2679"/>
                    <a:pt x="812" y="2652"/>
                    <a:pt x="806" y="2625"/>
                  </a:cubicBezTo>
                  <a:cubicBezTo>
                    <a:pt x="804" y="2616"/>
                    <a:pt x="793" y="2612"/>
                    <a:pt x="791" y="2603"/>
                  </a:cubicBezTo>
                  <a:cubicBezTo>
                    <a:pt x="785" y="2579"/>
                    <a:pt x="791" y="2553"/>
                    <a:pt x="784" y="2529"/>
                  </a:cubicBezTo>
                  <a:cubicBezTo>
                    <a:pt x="776" y="2504"/>
                    <a:pt x="754" y="2485"/>
                    <a:pt x="740" y="2462"/>
                  </a:cubicBezTo>
                  <a:cubicBezTo>
                    <a:pt x="752" y="2424"/>
                    <a:pt x="745" y="2389"/>
                    <a:pt x="732" y="2352"/>
                  </a:cubicBezTo>
                  <a:cubicBezTo>
                    <a:pt x="727" y="2337"/>
                    <a:pt x="717" y="2307"/>
                    <a:pt x="717" y="2307"/>
                  </a:cubicBezTo>
                  <a:cubicBezTo>
                    <a:pt x="723" y="2253"/>
                    <a:pt x="719" y="2230"/>
                    <a:pt x="747" y="2189"/>
                  </a:cubicBezTo>
                  <a:cubicBezTo>
                    <a:pt x="764" y="2120"/>
                    <a:pt x="760" y="2104"/>
                    <a:pt x="769" y="2012"/>
                  </a:cubicBezTo>
                  <a:cubicBezTo>
                    <a:pt x="772" y="1987"/>
                    <a:pt x="783" y="1987"/>
                    <a:pt x="799" y="1968"/>
                  </a:cubicBezTo>
                  <a:cubicBezTo>
                    <a:pt x="816" y="1948"/>
                    <a:pt x="821" y="1923"/>
                    <a:pt x="836" y="1901"/>
                  </a:cubicBezTo>
                  <a:cubicBezTo>
                    <a:pt x="849" y="1859"/>
                    <a:pt x="877" y="1805"/>
                    <a:pt x="902" y="1768"/>
                  </a:cubicBezTo>
                  <a:cubicBezTo>
                    <a:pt x="914" y="1718"/>
                    <a:pt x="940" y="1640"/>
                    <a:pt x="880" y="1621"/>
                  </a:cubicBezTo>
                  <a:cubicBezTo>
                    <a:pt x="873" y="1616"/>
                    <a:pt x="867" y="1604"/>
                    <a:pt x="858" y="1606"/>
                  </a:cubicBezTo>
                  <a:cubicBezTo>
                    <a:pt x="841" y="1609"/>
                    <a:pt x="831" y="1669"/>
                    <a:pt x="828" y="1680"/>
                  </a:cubicBezTo>
                  <a:cubicBezTo>
                    <a:pt x="824" y="1734"/>
                    <a:pt x="827" y="1821"/>
                    <a:pt x="762" y="1842"/>
                  </a:cubicBezTo>
                  <a:cubicBezTo>
                    <a:pt x="738" y="1891"/>
                    <a:pt x="756" y="1858"/>
                    <a:pt x="717" y="1916"/>
                  </a:cubicBezTo>
                  <a:cubicBezTo>
                    <a:pt x="707" y="1931"/>
                    <a:pt x="688" y="1960"/>
                    <a:pt x="688" y="1960"/>
                  </a:cubicBezTo>
                  <a:cubicBezTo>
                    <a:pt x="672" y="2010"/>
                    <a:pt x="695" y="1954"/>
                    <a:pt x="658" y="1997"/>
                  </a:cubicBezTo>
                  <a:cubicBezTo>
                    <a:pt x="646" y="2010"/>
                    <a:pt x="639" y="2027"/>
                    <a:pt x="629" y="2042"/>
                  </a:cubicBezTo>
                  <a:cubicBezTo>
                    <a:pt x="583" y="2114"/>
                    <a:pt x="615" y="2242"/>
                    <a:pt x="540" y="2293"/>
                  </a:cubicBezTo>
                  <a:cubicBezTo>
                    <a:pt x="491" y="2260"/>
                    <a:pt x="520" y="2201"/>
                    <a:pt x="533" y="2152"/>
                  </a:cubicBezTo>
                  <a:cubicBezTo>
                    <a:pt x="538" y="2037"/>
                    <a:pt x="540" y="1942"/>
                    <a:pt x="570" y="1835"/>
                  </a:cubicBezTo>
                  <a:cubicBezTo>
                    <a:pt x="561" y="1794"/>
                    <a:pt x="558" y="1783"/>
                    <a:pt x="518" y="1798"/>
                  </a:cubicBezTo>
                  <a:cubicBezTo>
                    <a:pt x="511" y="1820"/>
                    <a:pt x="503" y="1842"/>
                    <a:pt x="496" y="1864"/>
                  </a:cubicBezTo>
                  <a:cubicBezTo>
                    <a:pt x="496" y="1869"/>
                    <a:pt x="502" y="2017"/>
                    <a:pt x="452" y="1938"/>
                  </a:cubicBezTo>
                  <a:cubicBezTo>
                    <a:pt x="422" y="1983"/>
                    <a:pt x="465" y="2031"/>
                    <a:pt x="437" y="2064"/>
                  </a:cubicBezTo>
                  <a:cubicBezTo>
                    <a:pt x="429" y="2074"/>
                    <a:pt x="412" y="2069"/>
                    <a:pt x="400" y="2071"/>
                  </a:cubicBezTo>
                  <a:cubicBezTo>
                    <a:pt x="410" y="2123"/>
                    <a:pt x="417" y="2106"/>
                    <a:pt x="444" y="2145"/>
                  </a:cubicBezTo>
                  <a:cubicBezTo>
                    <a:pt x="439" y="2305"/>
                    <a:pt x="497" y="2375"/>
                    <a:pt x="378" y="2352"/>
                  </a:cubicBezTo>
                  <a:cubicBezTo>
                    <a:pt x="342" y="2327"/>
                    <a:pt x="360" y="2344"/>
                    <a:pt x="326" y="2293"/>
                  </a:cubicBezTo>
                  <a:cubicBezTo>
                    <a:pt x="321" y="2285"/>
                    <a:pt x="311" y="2270"/>
                    <a:pt x="311" y="2270"/>
                  </a:cubicBezTo>
                  <a:cubicBezTo>
                    <a:pt x="301" y="2237"/>
                    <a:pt x="300" y="2222"/>
                    <a:pt x="274" y="2197"/>
                  </a:cubicBezTo>
                  <a:cubicBezTo>
                    <a:pt x="279" y="2108"/>
                    <a:pt x="284" y="2020"/>
                    <a:pt x="289" y="1931"/>
                  </a:cubicBezTo>
                  <a:cubicBezTo>
                    <a:pt x="290" y="1918"/>
                    <a:pt x="305" y="1895"/>
                    <a:pt x="311" y="1886"/>
                  </a:cubicBezTo>
                  <a:cubicBezTo>
                    <a:pt x="321" y="1871"/>
                    <a:pt x="341" y="1842"/>
                    <a:pt x="341" y="1842"/>
                  </a:cubicBezTo>
                  <a:cubicBezTo>
                    <a:pt x="366" y="1764"/>
                    <a:pt x="335" y="1693"/>
                    <a:pt x="393" y="1635"/>
                  </a:cubicBezTo>
                  <a:cubicBezTo>
                    <a:pt x="411" y="1580"/>
                    <a:pt x="385" y="1646"/>
                    <a:pt x="422" y="1598"/>
                  </a:cubicBezTo>
                  <a:cubicBezTo>
                    <a:pt x="427" y="1592"/>
                    <a:pt x="426" y="1583"/>
                    <a:pt x="429" y="1576"/>
                  </a:cubicBezTo>
                  <a:cubicBezTo>
                    <a:pt x="441" y="1553"/>
                    <a:pt x="451" y="1535"/>
                    <a:pt x="459" y="1510"/>
                  </a:cubicBezTo>
                  <a:cubicBezTo>
                    <a:pt x="454" y="1398"/>
                    <a:pt x="453" y="1385"/>
                    <a:pt x="437" y="1303"/>
                  </a:cubicBezTo>
                  <a:cubicBezTo>
                    <a:pt x="451" y="1196"/>
                    <a:pt x="448" y="1095"/>
                    <a:pt x="481" y="993"/>
                  </a:cubicBezTo>
                  <a:cubicBezTo>
                    <a:pt x="489" y="944"/>
                    <a:pt x="486" y="930"/>
                    <a:pt x="525" y="904"/>
                  </a:cubicBezTo>
                  <a:cubicBezTo>
                    <a:pt x="577" y="761"/>
                    <a:pt x="682" y="771"/>
                    <a:pt x="821" y="764"/>
                  </a:cubicBezTo>
                  <a:cubicBezTo>
                    <a:pt x="839" y="752"/>
                    <a:pt x="863" y="748"/>
                    <a:pt x="880" y="734"/>
                  </a:cubicBezTo>
                  <a:cubicBezTo>
                    <a:pt x="907" y="711"/>
                    <a:pt x="920" y="642"/>
                    <a:pt x="932" y="609"/>
                  </a:cubicBezTo>
                  <a:cubicBezTo>
                    <a:pt x="929" y="573"/>
                    <a:pt x="946" y="479"/>
                    <a:pt x="887" y="498"/>
                  </a:cubicBezTo>
                  <a:cubicBezTo>
                    <a:pt x="885" y="533"/>
                    <a:pt x="888" y="568"/>
                    <a:pt x="880" y="602"/>
                  </a:cubicBezTo>
                  <a:cubicBezTo>
                    <a:pt x="864" y="668"/>
                    <a:pt x="784" y="672"/>
                    <a:pt x="732" y="683"/>
                  </a:cubicBezTo>
                  <a:cubicBezTo>
                    <a:pt x="688" y="713"/>
                    <a:pt x="637" y="726"/>
                    <a:pt x="585" y="734"/>
                  </a:cubicBezTo>
                  <a:cubicBezTo>
                    <a:pt x="579" y="736"/>
                    <a:pt x="539" y="758"/>
                    <a:pt x="548" y="720"/>
                  </a:cubicBezTo>
                  <a:cubicBezTo>
                    <a:pt x="552" y="703"/>
                    <a:pt x="562" y="685"/>
                    <a:pt x="577" y="675"/>
                  </a:cubicBezTo>
                  <a:cubicBezTo>
                    <a:pt x="592" y="665"/>
                    <a:pt x="621" y="646"/>
                    <a:pt x="621" y="646"/>
                  </a:cubicBezTo>
                  <a:cubicBezTo>
                    <a:pt x="634" y="610"/>
                    <a:pt x="656" y="575"/>
                    <a:pt x="607" y="557"/>
                  </a:cubicBezTo>
                  <a:cubicBezTo>
                    <a:pt x="581" y="575"/>
                    <a:pt x="581" y="591"/>
                    <a:pt x="555" y="609"/>
                  </a:cubicBezTo>
                  <a:cubicBezTo>
                    <a:pt x="538" y="634"/>
                    <a:pt x="525" y="660"/>
                    <a:pt x="511" y="616"/>
                  </a:cubicBezTo>
                  <a:cubicBezTo>
                    <a:pt x="521" y="555"/>
                    <a:pt x="541" y="495"/>
                    <a:pt x="503" y="439"/>
                  </a:cubicBezTo>
                  <a:cubicBezTo>
                    <a:pt x="477" y="357"/>
                    <a:pt x="487" y="397"/>
                    <a:pt x="503" y="218"/>
                  </a:cubicBezTo>
                  <a:cubicBezTo>
                    <a:pt x="504" y="202"/>
                    <a:pt x="509" y="186"/>
                    <a:pt x="518" y="173"/>
                  </a:cubicBezTo>
                  <a:cubicBezTo>
                    <a:pt x="528" y="158"/>
                    <a:pt x="548" y="129"/>
                    <a:pt x="548" y="129"/>
                  </a:cubicBezTo>
                  <a:cubicBezTo>
                    <a:pt x="534" y="87"/>
                    <a:pt x="519" y="40"/>
                    <a:pt x="474" y="26"/>
                  </a:cubicBezTo>
                  <a:cubicBezTo>
                    <a:pt x="448" y="8"/>
                    <a:pt x="438" y="0"/>
                    <a:pt x="407" y="11"/>
                  </a:cubicBezTo>
                  <a:cubicBezTo>
                    <a:pt x="394" y="52"/>
                    <a:pt x="408" y="87"/>
                    <a:pt x="429" y="122"/>
                  </a:cubicBezTo>
                  <a:cubicBezTo>
                    <a:pt x="427" y="279"/>
                    <a:pt x="431" y="437"/>
                    <a:pt x="422" y="594"/>
                  </a:cubicBezTo>
                  <a:cubicBezTo>
                    <a:pt x="422" y="602"/>
                    <a:pt x="407" y="606"/>
                    <a:pt x="400" y="602"/>
                  </a:cubicBezTo>
                  <a:cubicBezTo>
                    <a:pt x="393" y="598"/>
                    <a:pt x="398" y="585"/>
                    <a:pt x="393" y="579"/>
                  </a:cubicBezTo>
                  <a:cubicBezTo>
                    <a:pt x="385" y="569"/>
                    <a:pt x="360" y="561"/>
                    <a:pt x="348" y="557"/>
                  </a:cubicBezTo>
                  <a:cubicBezTo>
                    <a:pt x="339" y="586"/>
                    <a:pt x="333" y="593"/>
                    <a:pt x="348" y="631"/>
                  </a:cubicBezTo>
                  <a:cubicBezTo>
                    <a:pt x="354" y="648"/>
                    <a:pt x="378" y="675"/>
                    <a:pt x="378" y="675"/>
                  </a:cubicBezTo>
                  <a:cubicBezTo>
                    <a:pt x="396" y="735"/>
                    <a:pt x="408" y="800"/>
                    <a:pt x="378" y="860"/>
                  </a:cubicBezTo>
                  <a:cubicBezTo>
                    <a:pt x="364" y="888"/>
                    <a:pt x="361" y="878"/>
                    <a:pt x="341" y="904"/>
                  </a:cubicBezTo>
                  <a:cubicBezTo>
                    <a:pt x="328" y="921"/>
                    <a:pt x="304" y="956"/>
                    <a:pt x="304" y="956"/>
                  </a:cubicBezTo>
                  <a:cubicBezTo>
                    <a:pt x="296" y="982"/>
                    <a:pt x="283" y="1004"/>
                    <a:pt x="274" y="1030"/>
                  </a:cubicBezTo>
                  <a:cubicBezTo>
                    <a:pt x="269" y="1045"/>
                    <a:pt x="260" y="1074"/>
                    <a:pt x="260" y="1074"/>
                  </a:cubicBezTo>
                  <a:cubicBezTo>
                    <a:pt x="255" y="1139"/>
                    <a:pt x="273" y="1188"/>
                    <a:pt x="223" y="1222"/>
                  </a:cubicBezTo>
                  <a:cubicBezTo>
                    <a:pt x="204" y="1273"/>
                    <a:pt x="202" y="1325"/>
                    <a:pt x="186" y="1377"/>
                  </a:cubicBezTo>
                  <a:cubicBezTo>
                    <a:pt x="183" y="1429"/>
                    <a:pt x="188" y="1481"/>
                    <a:pt x="178" y="1532"/>
                  </a:cubicBezTo>
                  <a:cubicBezTo>
                    <a:pt x="176" y="1540"/>
                    <a:pt x="163" y="1529"/>
                    <a:pt x="156" y="1525"/>
                  </a:cubicBezTo>
                  <a:cubicBezTo>
                    <a:pt x="118" y="1504"/>
                    <a:pt x="116" y="1499"/>
                    <a:pt x="90" y="1473"/>
                  </a:cubicBezTo>
                  <a:cubicBezTo>
                    <a:pt x="0" y="1494"/>
                    <a:pt x="52" y="1586"/>
                    <a:pt x="105" y="1621"/>
                  </a:cubicBezTo>
                  <a:cubicBezTo>
                    <a:pt x="181" y="1736"/>
                    <a:pt x="92" y="1586"/>
                    <a:pt x="141" y="1724"/>
                  </a:cubicBezTo>
                  <a:cubicBezTo>
                    <a:pt x="147" y="1741"/>
                    <a:pt x="171" y="1768"/>
                    <a:pt x="171" y="1768"/>
                  </a:cubicBezTo>
                  <a:cubicBezTo>
                    <a:pt x="188" y="1820"/>
                    <a:pt x="160" y="1860"/>
                    <a:pt x="149" y="1909"/>
                  </a:cubicBezTo>
                  <a:cubicBezTo>
                    <a:pt x="146" y="1924"/>
                    <a:pt x="145" y="1939"/>
                    <a:pt x="141" y="1953"/>
                  </a:cubicBezTo>
                  <a:cubicBezTo>
                    <a:pt x="137" y="1968"/>
                    <a:pt x="127" y="1997"/>
                    <a:pt x="127" y="1997"/>
                  </a:cubicBezTo>
                  <a:cubicBezTo>
                    <a:pt x="122" y="2083"/>
                    <a:pt x="118" y="2112"/>
                    <a:pt x="105" y="2182"/>
                  </a:cubicBezTo>
                  <a:cubicBezTo>
                    <a:pt x="108" y="2220"/>
                    <a:pt x="106" y="2353"/>
                    <a:pt x="127" y="2389"/>
                  </a:cubicBezTo>
                  <a:cubicBezTo>
                    <a:pt x="136" y="2404"/>
                    <a:pt x="179" y="2416"/>
                    <a:pt x="193" y="2426"/>
                  </a:cubicBezTo>
                  <a:cubicBezTo>
                    <a:pt x="202" y="2449"/>
                    <a:pt x="205" y="2486"/>
                    <a:pt x="215" y="2507"/>
                  </a:cubicBezTo>
                  <a:cubicBezTo>
                    <a:pt x="231" y="2540"/>
                    <a:pt x="289" y="2545"/>
                    <a:pt x="319" y="2551"/>
                  </a:cubicBezTo>
                  <a:cubicBezTo>
                    <a:pt x="347" y="2640"/>
                    <a:pt x="476" y="2539"/>
                    <a:pt x="540" y="2603"/>
                  </a:cubicBezTo>
                  <a:cubicBezTo>
                    <a:pt x="548" y="2625"/>
                    <a:pt x="562" y="2669"/>
                    <a:pt x="562" y="2669"/>
                  </a:cubicBezTo>
                  <a:cubicBezTo>
                    <a:pt x="552" y="2770"/>
                    <a:pt x="580" y="2734"/>
                    <a:pt x="496" y="2750"/>
                  </a:cubicBezTo>
                  <a:cubicBezTo>
                    <a:pt x="488" y="2751"/>
                    <a:pt x="481" y="2755"/>
                    <a:pt x="474" y="2758"/>
                  </a:cubicBezTo>
                  <a:cubicBezTo>
                    <a:pt x="491" y="2830"/>
                    <a:pt x="531" y="2761"/>
                    <a:pt x="570" y="2817"/>
                  </a:cubicBezTo>
                  <a:cubicBezTo>
                    <a:pt x="567" y="2847"/>
                    <a:pt x="567" y="2877"/>
                    <a:pt x="562" y="2906"/>
                  </a:cubicBezTo>
                  <a:cubicBezTo>
                    <a:pt x="559" y="2921"/>
                    <a:pt x="548" y="2950"/>
                    <a:pt x="548" y="2950"/>
                  </a:cubicBezTo>
                  <a:cubicBezTo>
                    <a:pt x="550" y="2979"/>
                    <a:pt x="530" y="3022"/>
                    <a:pt x="555" y="3038"/>
                  </a:cubicBezTo>
                  <a:cubicBezTo>
                    <a:pt x="594" y="3064"/>
                    <a:pt x="649" y="3037"/>
                    <a:pt x="695" y="3046"/>
                  </a:cubicBezTo>
                  <a:cubicBezTo>
                    <a:pt x="705" y="3048"/>
                    <a:pt x="710" y="3061"/>
                    <a:pt x="717" y="3068"/>
                  </a:cubicBezTo>
                  <a:cubicBezTo>
                    <a:pt x="735" y="3117"/>
                    <a:pt x="771" y="3095"/>
                    <a:pt x="821" y="3090"/>
                  </a:cubicBezTo>
                  <a:cubicBezTo>
                    <a:pt x="858" y="3081"/>
                    <a:pt x="866" y="3069"/>
                    <a:pt x="850" y="3031"/>
                  </a:cubicBezTo>
                  <a:cubicBezTo>
                    <a:pt x="840" y="3007"/>
                    <a:pt x="791" y="2979"/>
                    <a:pt x="791" y="2979"/>
                  </a:cubicBezTo>
                  <a:cubicBezTo>
                    <a:pt x="794" y="2959"/>
                    <a:pt x="789" y="2937"/>
                    <a:pt x="799" y="2920"/>
                  </a:cubicBezTo>
                  <a:cubicBezTo>
                    <a:pt x="808" y="2905"/>
                    <a:pt x="843" y="2891"/>
                    <a:pt x="843" y="2891"/>
                  </a:cubicBezTo>
                  <a:cubicBezTo>
                    <a:pt x="841" y="2871"/>
                    <a:pt x="843" y="2850"/>
                    <a:pt x="836" y="2832"/>
                  </a:cubicBezTo>
                  <a:cubicBezTo>
                    <a:pt x="818" y="2788"/>
                    <a:pt x="806" y="2847"/>
                    <a:pt x="806" y="2795"/>
                  </a:cubicBezTo>
                  <a:cubicBezTo>
                    <a:pt x="806" y="2765"/>
                    <a:pt x="811" y="2736"/>
                    <a:pt x="813" y="27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36"/>
            <p:cNvSpPr/>
            <p:nvPr/>
          </p:nvSpPr>
          <p:spPr>
            <a:xfrm flipH="1" rot="21006600">
              <a:off x="2675160" y="3769200"/>
              <a:ext cx="15120" cy="3024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7"/>
            <p:cNvSpPr/>
            <p:nvPr/>
          </p:nvSpPr>
          <p:spPr>
            <a:xfrm flipH="1" rot="3453600">
              <a:off x="2745720" y="3682800"/>
              <a:ext cx="13320" cy="37440"/>
            </a:xfrm>
            <a:custGeom>
              <a:avLst/>
              <a:gdLst/>
              <a:ahLst/>
              <a:rect l="l" t="t" r="r" b="b"/>
              <a:pathLst>
                <a:path w="524" h="1580">
                  <a:moveTo>
                    <a:pt x="332" y="1504"/>
                  </a:moveTo>
                  <a:cubicBezTo>
                    <a:pt x="340" y="1479"/>
                    <a:pt x="347" y="1460"/>
                    <a:pt x="362" y="1438"/>
                  </a:cubicBezTo>
                  <a:cubicBezTo>
                    <a:pt x="384" y="1366"/>
                    <a:pt x="411" y="1253"/>
                    <a:pt x="362" y="1194"/>
                  </a:cubicBezTo>
                  <a:cubicBezTo>
                    <a:pt x="354" y="1185"/>
                    <a:pt x="341" y="1181"/>
                    <a:pt x="332" y="1172"/>
                  </a:cubicBezTo>
                  <a:cubicBezTo>
                    <a:pt x="297" y="1138"/>
                    <a:pt x="339" y="1158"/>
                    <a:pt x="295" y="1142"/>
                  </a:cubicBezTo>
                  <a:cubicBezTo>
                    <a:pt x="261" y="1091"/>
                    <a:pt x="276" y="1113"/>
                    <a:pt x="251" y="1076"/>
                  </a:cubicBezTo>
                  <a:cubicBezTo>
                    <a:pt x="246" y="1069"/>
                    <a:pt x="241" y="1061"/>
                    <a:pt x="236" y="1054"/>
                  </a:cubicBezTo>
                  <a:cubicBezTo>
                    <a:pt x="231" y="1047"/>
                    <a:pt x="221" y="1032"/>
                    <a:pt x="221" y="1032"/>
                  </a:cubicBezTo>
                  <a:cubicBezTo>
                    <a:pt x="205" y="978"/>
                    <a:pt x="168" y="902"/>
                    <a:pt x="110" y="884"/>
                  </a:cubicBezTo>
                  <a:cubicBezTo>
                    <a:pt x="75" y="830"/>
                    <a:pt x="119" y="892"/>
                    <a:pt x="74" y="847"/>
                  </a:cubicBezTo>
                  <a:cubicBezTo>
                    <a:pt x="46" y="819"/>
                    <a:pt x="24" y="783"/>
                    <a:pt x="0" y="751"/>
                  </a:cubicBezTo>
                  <a:cubicBezTo>
                    <a:pt x="33" y="728"/>
                    <a:pt x="35" y="742"/>
                    <a:pt x="74" y="751"/>
                  </a:cubicBezTo>
                  <a:cubicBezTo>
                    <a:pt x="81" y="756"/>
                    <a:pt x="88" y="762"/>
                    <a:pt x="96" y="766"/>
                  </a:cubicBezTo>
                  <a:cubicBezTo>
                    <a:pt x="110" y="772"/>
                    <a:pt x="140" y="780"/>
                    <a:pt x="140" y="780"/>
                  </a:cubicBezTo>
                  <a:cubicBezTo>
                    <a:pt x="190" y="814"/>
                    <a:pt x="167" y="805"/>
                    <a:pt x="206" y="817"/>
                  </a:cubicBezTo>
                  <a:cubicBezTo>
                    <a:pt x="236" y="856"/>
                    <a:pt x="251" y="855"/>
                    <a:pt x="295" y="869"/>
                  </a:cubicBezTo>
                  <a:cubicBezTo>
                    <a:pt x="293" y="852"/>
                    <a:pt x="294" y="833"/>
                    <a:pt x="288" y="817"/>
                  </a:cubicBezTo>
                  <a:cubicBezTo>
                    <a:pt x="282" y="800"/>
                    <a:pt x="258" y="773"/>
                    <a:pt x="258" y="773"/>
                  </a:cubicBezTo>
                  <a:cubicBezTo>
                    <a:pt x="248" y="741"/>
                    <a:pt x="234" y="710"/>
                    <a:pt x="206" y="692"/>
                  </a:cubicBezTo>
                  <a:cubicBezTo>
                    <a:pt x="187" y="633"/>
                    <a:pt x="244" y="659"/>
                    <a:pt x="273" y="670"/>
                  </a:cubicBezTo>
                  <a:cubicBezTo>
                    <a:pt x="293" y="709"/>
                    <a:pt x="300" y="751"/>
                    <a:pt x="325" y="788"/>
                  </a:cubicBezTo>
                  <a:cubicBezTo>
                    <a:pt x="329" y="800"/>
                    <a:pt x="335" y="844"/>
                    <a:pt x="362" y="795"/>
                  </a:cubicBezTo>
                  <a:cubicBezTo>
                    <a:pt x="370" y="780"/>
                    <a:pt x="367" y="761"/>
                    <a:pt x="369" y="744"/>
                  </a:cubicBezTo>
                  <a:cubicBezTo>
                    <a:pt x="367" y="682"/>
                    <a:pt x="366" y="621"/>
                    <a:pt x="362" y="559"/>
                  </a:cubicBezTo>
                  <a:cubicBezTo>
                    <a:pt x="360" y="526"/>
                    <a:pt x="339" y="492"/>
                    <a:pt x="325" y="463"/>
                  </a:cubicBezTo>
                  <a:cubicBezTo>
                    <a:pt x="307" y="426"/>
                    <a:pt x="306" y="394"/>
                    <a:pt x="280" y="360"/>
                  </a:cubicBezTo>
                  <a:cubicBezTo>
                    <a:pt x="278" y="348"/>
                    <a:pt x="277" y="335"/>
                    <a:pt x="273" y="323"/>
                  </a:cubicBezTo>
                  <a:cubicBezTo>
                    <a:pt x="270" y="312"/>
                    <a:pt x="261" y="304"/>
                    <a:pt x="258" y="293"/>
                  </a:cubicBezTo>
                  <a:cubicBezTo>
                    <a:pt x="242" y="240"/>
                    <a:pt x="234" y="190"/>
                    <a:pt x="214" y="138"/>
                  </a:cubicBezTo>
                  <a:cubicBezTo>
                    <a:pt x="207" y="119"/>
                    <a:pt x="208" y="97"/>
                    <a:pt x="199" y="79"/>
                  </a:cubicBezTo>
                  <a:cubicBezTo>
                    <a:pt x="191" y="63"/>
                    <a:pt x="170" y="35"/>
                    <a:pt x="170" y="35"/>
                  </a:cubicBezTo>
                  <a:cubicBezTo>
                    <a:pt x="172" y="25"/>
                    <a:pt x="168" y="10"/>
                    <a:pt x="177" y="5"/>
                  </a:cubicBezTo>
                  <a:cubicBezTo>
                    <a:pt x="186" y="0"/>
                    <a:pt x="225" y="16"/>
                    <a:pt x="236" y="20"/>
                  </a:cubicBezTo>
                  <a:cubicBezTo>
                    <a:pt x="245" y="50"/>
                    <a:pt x="248" y="75"/>
                    <a:pt x="266" y="101"/>
                  </a:cubicBezTo>
                  <a:cubicBezTo>
                    <a:pt x="267" y="103"/>
                    <a:pt x="279" y="149"/>
                    <a:pt x="288" y="145"/>
                  </a:cubicBezTo>
                  <a:cubicBezTo>
                    <a:pt x="298" y="140"/>
                    <a:pt x="324" y="87"/>
                    <a:pt x="332" y="72"/>
                  </a:cubicBezTo>
                  <a:cubicBezTo>
                    <a:pt x="334" y="57"/>
                    <a:pt x="327" y="37"/>
                    <a:pt x="339" y="27"/>
                  </a:cubicBezTo>
                  <a:cubicBezTo>
                    <a:pt x="348" y="19"/>
                    <a:pt x="398" y="45"/>
                    <a:pt x="406" y="49"/>
                  </a:cubicBezTo>
                  <a:cubicBezTo>
                    <a:pt x="427" y="81"/>
                    <a:pt x="419" y="93"/>
                    <a:pt x="398" y="123"/>
                  </a:cubicBezTo>
                  <a:cubicBezTo>
                    <a:pt x="378" y="207"/>
                    <a:pt x="409" y="108"/>
                    <a:pt x="369" y="168"/>
                  </a:cubicBezTo>
                  <a:cubicBezTo>
                    <a:pt x="359" y="183"/>
                    <a:pt x="360" y="202"/>
                    <a:pt x="354" y="219"/>
                  </a:cubicBezTo>
                  <a:cubicBezTo>
                    <a:pt x="368" y="273"/>
                    <a:pt x="377" y="328"/>
                    <a:pt x="391" y="382"/>
                  </a:cubicBezTo>
                  <a:cubicBezTo>
                    <a:pt x="398" y="406"/>
                    <a:pt x="428" y="448"/>
                    <a:pt x="428" y="448"/>
                  </a:cubicBezTo>
                  <a:cubicBezTo>
                    <a:pt x="436" y="473"/>
                    <a:pt x="444" y="496"/>
                    <a:pt x="450" y="522"/>
                  </a:cubicBezTo>
                  <a:cubicBezTo>
                    <a:pt x="445" y="799"/>
                    <a:pt x="524" y="852"/>
                    <a:pt x="369" y="950"/>
                  </a:cubicBezTo>
                  <a:cubicBezTo>
                    <a:pt x="341" y="1037"/>
                    <a:pt x="431" y="1085"/>
                    <a:pt x="472" y="1150"/>
                  </a:cubicBezTo>
                  <a:cubicBezTo>
                    <a:pt x="477" y="1264"/>
                    <a:pt x="474" y="1380"/>
                    <a:pt x="509" y="1489"/>
                  </a:cubicBezTo>
                  <a:cubicBezTo>
                    <a:pt x="485" y="1514"/>
                    <a:pt x="454" y="1530"/>
                    <a:pt x="421" y="1541"/>
                  </a:cubicBezTo>
                  <a:cubicBezTo>
                    <a:pt x="362" y="1580"/>
                    <a:pt x="348" y="1555"/>
                    <a:pt x="332" y="15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38"/>
            <p:cNvSpPr/>
            <p:nvPr/>
          </p:nvSpPr>
          <p:spPr>
            <a:xfrm flipH="1" rot="3222000">
              <a:off x="2751480" y="3728880"/>
              <a:ext cx="33120" cy="30240"/>
            </a:xfrm>
            <a:custGeom>
              <a:avLst/>
              <a:gdLst/>
              <a:ahLst/>
              <a:rect l="l" t="t" r="r" b="b"/>
              <a:pathLst>
                <a:path w="1308" h="1266">
                  <a:moveTo>
                    <a:pt x="746" y="1196"/>
                  </a:moveTo>
                  <a:cubicBezTo>
                    <a:pt x="775" y="1112"/>
                    <a:pt x="765" y="1006"/>
                    <a:pt x="717" y="930"/>
                  </a:cubicBezTo>
                  <a:cubicBezTo>
                    <a:pt x="714" y="910"/>
                    <a:pt x="719" y="888"/>
                    <a:pt x="709" y="871"/>
                  </a:cubicBezTo>
                  <a:cubicBezTo>
                    <a:pt x="700" y="856"/>
                    <a:pt x="665" y="841"/>
                    <a:pt x="665" y="841"/>
                  </a:cubicBezTo>
                  <a:cubicBezTo>
                    <a:pt x="630" y="790"/>
                    <a:pt x="650" y="807"/>
                    <a:pt x="613" y="782"/>
                  </a:cubicBezTo>
                  <a:cubicBezTo>
                    <a:pt x="601" y="743"/>
                    <a:pt x="590" y="713"/>
                    <a:pt x="584" y="671"/>
                  </a:cubicBezTo>
                  <a:cubicBezTo>
                    <a:pt x="576" y="611"/>
                    <a:pt x="572" y="559"/>
                    <a:pt x="517" y="524"/>
                  </a:cubicBezTo>
                  <a:cubicBezTo>
                    <a:pt x="479" y="462"/>
                    <a:pt x="529" y="533"/>
                    <a:pt x="480" y="494"/>
                  </a:cubicBezTo>
                  <a:cubicBezTo>
                    <a:pt x="473" y="489"/>
                    <a:pt x="473" y="478"/>
                    <a:pt x="466" y="472"/>
                  </a:cubicBezTo>
                  <a:cubicBezTo>
                    <a:pt x="432" y="442"/>
                    <a:pt x="396" y="435"/>
                    <a:pt x="355" y="420"/>
                  </a:cubicBezTo>
                  <a:cubicBezTo>
                    <a:pt x="333" y="388"/>
                    <a:pt x="274" y="329"/>
                    <a:pt x="237" y="317"/>
                  </a:cubicBezTo>
                  <a:cubicBezTo>
                    <a:pt x="185" y="334"/>
                    <a:pt x="207" y="337"/>
                    <a:pt x="170" y="324"/>
                  </a:cubicBezTo>
                  <a:cubicBezTo>
                    <a:pt x="241" y="301"/>
                    <a:pt x="177" y="252"/>
                    <a:pt x="148" y="228"/>
                  </a:cubicBezTo>
                  <a:cubicBezTo>
                    <a:pt x="91" y="180"/>
                    <a:pt x="159" y="228"/>
                    <a:pt x="104" y="191"/>
                  </a:cubicBezTo>
                  <a:cubicBezTo>
                    <a:pt x="99" y="184"/>
                    <a:pt x="96" y="175"/>
                    <a:pt x="89" y="169"/>
                  </a:cubicBezTo>
                  <a:cubicBezTo>
                    <a:pt x="76" y="158"/>
                    <a:pt x="45" y="140"/>
                    <a:pt x="45" y="140"/>
                  </a:cubicBezTo>
                  <a:cubicBezTo>
                    <a:pt x="10" y="88"/>
                    <a:pt x="0" y="105"/>
                    <a:pt x="37" y="81"/>
                  </a:cubicBezTo>
                  <a:cubicBezTo>
                    <a:pt x="76" y="93"/>
                    <a:pt x="87" y="119"/>
                    <a:pt x="119" y="140"/>
                  </a:cubicBezTo>
                  <a:cubicBezTo>
                    <a:pt x="132" y="160"/>
                    <a:pt x="132" y="167"/>
                    <a:pt x="155" y="177"/>
                  </a:cubicBezTo>
                  <a:cubicBezTo>
                    <a:pt x="169" y="183"/>
                    <a:pt x="200" y="191"/>
                    <a:pt x="200" y="191"/>
                  </a:cubicBezTo>
                  <a:cubicBezTo>
                    <a:pt x="207" y="189"/>
                    <a:pt x="218" y="190"/>
                    <a:pt x="222" y="184"/>
                  </a:cubicBezTo>
                  <a:cubicBezTo>
                    <a:pt x="229" y="174"/>
                    <a:pt x="217" y="152"/>
                    <a:pt x="229" y="147"/>
                  </a:cubicBezTo>
                  <a:cubicBezTo>
                    <a:pt x="246" y="140"/>
                    <a:pt x="305" y="178"/>
                    <a:pt x="325" y="184"/>
                  </a:cubicBezTo>
                  <a:cubicBezTo>
                    <a:pt x="323" y="199"/>
                    <a:pt x="325" y="215"/>
                    <a:pt x="318" y="228"/>
                  </a:cubicBezTo>
                  <a:cubicBezTo>
                    <a:pt x="314" y="236"/>
                    <a:pt x="302" y="236"/>
                    <a:pt x="296" y="243"/>
                  </a:cubicBezTo>
                  <a:cubicBezTo>
                    <a:pt x="291" y="249"/>
                    <a:pt x="291" y="258"/>
                    <a:pt x="288" y="265"/>
                  </a:cubicBezTo>
                  <a:cubicBezTo>
                    <a:pt x="346" y="303"/>
                    <a:pt x="383" y="344"/>
                    <a:pt x="451" y="369"/>
                  </a:cubicBezTo>
                  <a:cubicBezTo>
                    <a:pt x="471" y="398"/>
                    <a:pt x="483" y="404"/>
                    <a:pt x="517" y="413"/>
                  </a:cubicBezTo>
                  <a:cubicBezTo>
                    <a:pt x="524" y="418"/>
                    <a:pt x="531" y="424"/>
                    <a:pt x="539" y="428"/>
                  </a:cubicBezTo>
                  <a:cubicBezTo>
                    <a:pt x="553" y="434"/>
                    <a:pt x="584" y="442"/>
                    <a:pt x="584" y="442"/>
                  </a:cubicBezTo>
                  <a:cubicBezTo>
                    <a:pt x="577" y="382"/>
                    <a:pt x="586" y="361"/>
                    <a:pt x="539" y="332"/>
                  </a:cubicBezTo>
                  <a:cubicBezTo>
                    <a:pt x="521" y="275"/>
                    <a:pt x="522" y="302"/>
                    <a:pt x="532" y="250"/>
                  </a:cubicBezTo>
                  <a:cubicBezTo>
                    <a:pt x="569" y="263"/>
                    <a:pt x="572" y="290"/>
                    <a:pt x="584" y="324"/>
                  </a:cubicBezTo>
                  <a:cubicBezTo>
                    <a:pt x="623" y="265"/>
                    <a:pt x="596" y="278"/>
                    <a:pt x="665" y="287"/>
                  </a:cubicBezTo>
                  <a:cubicBezTo>
                    <a:pt x="659" y="327"/>
                    <a:pt x="649" y="360"/>
                    <a:pt x="635" y="398"/>
                  </a:cubicBezTo>
                  <a:cubicBezTo>
                    <a:pt x="638" y="452"/>
                    <a:pt x="618" y="578"/>
                    <a:pt x="680" y="620"/>
                  </a:cubicBezTo>
                  <a:cubicBezTo>
                    <a:pt x="691" y="636"/>
                    <a:pt x="706" y="648"/>
                    <a:pt x="717" y="664"/>
                  </a:cubicBezTo>
                  <a:cubicBezTo>
                    <a:pt x="721" y="670"/>
                    <a:pt x="720" y="679"/>
                    <a:pt x="724" y="686"/>
                  </a:cubicBezTo>
                  <a:cubicBezTo>
                    <a:pt x="733" y="701"/>
                    <a:pt x="754" y="730"/>
                    <a:pt x="754" y="730"/>
                  </a:cubicBezTo>
                  <a:cubicBezTo>
                    <a:pt x="770" y="784"/>
                    <a:pt x="764" y="800"/>
                    <a:pt x="805" y="841"/>
                  </a:cubicBezTo>
                  <a:cubicBezTo>
                    <a:pt x="808" y="858"/>
                    <a:pt x="810" y="876"/>
                    <a:pt x="813" y="893"/>
                  </a:cubicBezTo>
                  <a:cubicBezTo>
                    <a:pt x="815" y="903"/>
                    <a:pt x="816" y="931"/>
                    <a:pt x="820" y="922"/>
                  </a:cubicBezTo>
                  <a:cubicBezTo>
                    <a:pt x="855" y="840"/>
                    <a:pt x="821" y="830"/>
                    <a:pt x="887" y="767"/>
                  </a:cubicBezTo>
                  <a:cubicBezTo>
                    <a:pt x="890" y="680"/>
                    <a:pt x="908" y="529"/>
                    <a:pt x="894" y="428"/>
                  </a:cubicBezTo>
                  <a:cubicBezTo>
                    <a:pt x="893" y="420"/>
                    <a:pt x="891" y="412"/>
                    <a:pt x="887" y="405"/>
                  </a:cubicBezTo>
                  <a:cubicBezTo>
                    <a:pt x="868" y="370"/>
                    <a:pt x="842" y="349"/>
                    <a:pt x="820" y="317"/>
                  </a:cubicBezTo>
                  <a:cubicBezTo>
                    <a:pt x="801" y="259"/>
                    <a:pt x="813" y="198"/>
                    <a:pt x="798" y="140"/>
                  </a:cubicBezTo>
                  <a:cubicBezTo>
                    <a:pt x="787" y="98"/>
                    <a:pt x="738" y="48"/>
                    <a:pt x="702" y="29"/>
                  </a:cubicBezTo>
                  <a:cubicBezTo>
                    <a:pt x="697" y="22"/>
                    <a:pt x="683" y="15"/>
                    <a:pt x="687" y="7"/>
                  </a:cubicBezTo>
                  <a:cubicBezTo>
                    <a:pt x="690" y="0"/>
                    <a:pt x="702" y="12"/>
                    <a:pt x="709" y="14"/>
                  </a:cubicBezTo>
                  <a:cubicBezTo>
                    <a:pt x="761" y="28"/>
                    <a:pt x="718" y="14"/>
                    <a:pt x="761" y="29"/>
                  </a:cubicBezTo>
                  <a:cubicBezTo>
                    <a:pt x="784" y="63"/>
                    <a:pt x="783" y="95"/>
                    <a:pt x="813" y="125"/>
                  </a:cubicBezTo>
                  <a:cubicBezTo>
                    <a:pt x="823" y="156"/>
                    <a:pt x="841" y="176"/>
                    <a:pt x="864" y="199"/>
                  </a:cubicBezTo>
                  <a:cubicBezTo>
                    <a:pt x="873" y="223"/>
                    <a:pt x="886" y="241"/>
                    <a:pt x="894" y="265"/>
                  </a:cubicBezTo>
                  <a:cubicBezTo>
                    <a:pt x="897" y="312"/>
                    <a:pt x="885" y="365"/>
                    <a:pt x="909" y="405"/>
                  </a:cubicBezTo>
                  <a:cubicBezTo>
                    <a:pt x="920" y="423"/>
                    <a:pt x="946" y="457"/>
                    <a:pt x="946" y="457"/>
                  </a:cubicBezTo>
                  <a:cubicBezTo>
                    <a:pt x="948" y="524"/>
                    <a:pt x="943" y="591"/>
                    <a:pt x="953" y="657"/>
                  </a:cubicBezTo>
                  <a:cubicBezTo>
                    <a:pt x="954" y="665"/>
                    <a:pt x="969" y="655"/>
                    <a:pt x="975" y="649"/>
                  </a:cubicBezTo>
                  <a:cubicBezTo>
                    <a:pt x="984" y="640"/>
                    <a:pt x="985" y="604"/>
                    <a:pt x="990" y="597"/>
                  </a:cubicBezTo>
                  <a:cubicBezTo>
                    <a:pt x="1007" y="573"/>
                    <a:pt x="1027" y="551"/>
                    <a:pt x="1049" y="531"/>
                  </a:cubicBezTo>
                  <a:cubicBezTo>
                    <a:pt x="1062" y="519"/>
                    <a:pt x="1093" y="501"/>
                    <a:pt x="1093" y="501"/>
                  </a:cubicBezTo>
                  <a:cubicBezTo>
                    <a:pt x="1107" y="464"/>
                    <a:pt x="1100" y="431"/>
                    <a:pt x="1079" y="398"/>
                  </a:cubicBezTo>
                  <a:cubicBezTo>
                    <a:pt x="1129" y="382"/>
                    <a:pt x="1131" y="407"/>
                    <a:pt x="1145" y="450"/>
                  </a:cubicBezTo>
                  <a:cubicBezTo>
                    <a:pt x="1147" y="475"/>
                    <a:pt x="1140" y="502"/>
                    <a:pt x="1152" y="524"/>
                  </a:cubicBezTo>
                  <a:cubicBezTo>
                    <a:pt x="1157" y="533"/>
                    <a:pt x="1172" y="519"/>
                    <a:pt x="1182" y="516"/>
                  </a:cubicBezTo>
                  <a:cubicBezTo>
                    <a:pt x="1207" y="509"/>
                    <a:pt x="1231" y="502"/>
                    <a:pt x="1256" y="494"/>
                  </a:cubicBezTo>
                  <a:cubicBezTo>
                    <a:pt x="1266" y="496"/>
                    <a:pt x="1280" y="492"/>
                    <a:pt x="1285" y="501"/>
                  </a:cubicBezTo>
                  <a:cubicBezTo>
                    <a:pt x="1308" y="539"/>
                    <a:pt x="1232" y="551"/>
                    <a:pt x="1219" y="553"/>
                  </a:cubicBezTo>
                  <a:cubicBezTo>
                    <a:pt x="1160" y="593"/>
                    <a:pt x="1179" y="593"/>
                    <a:pt x="1101" y="605"/>
                  </a:cubicBezTo>
                  <a:cubicBezTo>
                    <a:pt x="1086" y="615"/>
                    <a:pt x="1067" y="620"/>
                    <a:pt x="1056" y="634"/>
                  </a:cubicBezTo>
                  <a:cubicBezTo>
                    <a:pt x="1051" y="640"/>
                    <a:pt x="1053" y="650"/>
                    <a:pt x="1049" y="657"/>
                  </a:cubicBezTo>
                  <a:cubicBezTo>
                    <a:pt x="1040" y="676"/>
                    <a:pt x="1027" y="686"/>
                    <a:pt x="1012" y="701"/>
                  </a:cubicBezTo>
                  <a:cubicBezTo>
                    <a:pt x="997" y="749"/>
                    <a:pt x="1050" y="740"/>
                    <a:pt x="1086" y="745"/>
                  </a:cubicBezTo>
                  <a:cubicBezTo>
                    <a:pt x="1073" y="784"/>
                    <a:pt x="1086" y="762"/>
                    <a:pt x="1034" y="797"/>
                  </a:cubicBezTo>
                  <a:cubicBezTo>
                    <a:pt x="1027" y="802"/>
                    <a:pt x="1012" y="812"/>
                    <a:pt x="1012" y="812"/>
                  </a:cubicBezTo>
                  <a:cubicBezTo>
                    <a:pt x="1000" y="851"/>
                    <a:pt x="1009" y="828"/>
                    <a:pt x="975" y="878"/>
                  </a:cubicBezTo>
                  <a:cubicBezTo>
                    <a:pt x="970" y="885"/>
                    <a:pt x="960" y="900"/>
                    <a:pt x="960" y="900"/>
                  </a:cubicBezTo>
                  <a:cubicBezTo>
                    <a:pt x="941" y="959"/>
                    <a:pt x="958" y="945"/>
                    <a:pt x="1012" y="937"/>
                  </a:cubicBezTo>
                  <a:cubicBezTo>
                    <a:pt x="1058" y="870"/>
                    <a:pt x="996" y="951"/>
                    <a:pt x="1049" y="908"/>
                  </a:cubicBezTo>
                  <a:cubicBezTo>
                    <a:pt x="1056" y="902"/>
                    <a:pt x="1057" y="891"/>
                    <a:pt x="1064" y="885"/>
                  </a:cubicBezTo>
                  <a:cubicBezTo>
                    <a:pt x="1081" y="871"/>
                    <a:pt x="1108" y="875"/>
                    <a:pt x="1130" y="871"/>
                  </a:cubicBezTo>
                  <a:cubicBezTo>
                    <a:pt x="1140" y="867"/>
                    <a:pt x="1176" y="855"/>
                    <a:pt x="1182" y="849"/>
                  </a:cubicBezTo>
                  <a:cubicBezTo>
                    <a:pt x="1193" y="838"/>
                    <a:pt x="1192" y="819"/>
                    <a:pt x="1197" y="804"/>
                  </a:cubicBezTo>
                  <a:cubicBezTo>
                    <a:pt x="1199" y="779"/>
                    <a:pt x="1196" y="753"/>
                    <a:pt x="1204" y="730"/>
                  </a:cubicBezTo>
                  <a:cubicBezTo>
                    <a:pt x="1207" y="723"/>
                    <a:pt x="1223" y="716"/>
                    <a:pt x="1226" y="723"/>
                  </a:cubicBezTo>
                  <a:cubicBezTo>
                    <a:pt x="1235" y="741"/>
                    <a:pt x="1231" y="814"/>
                    <a:pt x="1241" y="819"/>
                  </a:cubicBezTo>
                  <a:cubicBezTo>
                    <a:pt x="1261" y="829"/>
                    <a:pt x="1285" y="824"/>
                    <a:pt x="1307" y="826"/>
                  </a:cubicBezTo>
                  <a:cubicBezTo>
                    <a:pt x="1288" y="857"/>
                    <a:pt x="1276" y="855"/>
                    <a:pt x="1241" y="863"/>
                  </a:cubicBezTo>
                  <a:cubicBezTo>
                    <a:pt x="1209" y="911"/>
                    <a:pt x="1195" y="926"/>
                    <a:pt x="1145" y="959"/>
                  </a:cubicBezTo>
                  <a:cubicBezTo>
                    <a:pt x="1128" y="970"/>
                    <a:pt x="1105" y="968"/>
                    <a:pt x="1086" y="974"/>
                  </a:cubicBezTo>
                  <a:cubicBezTo>
                    <a:pt x="1045" y="1004"/>
                    <a:pt x="1000" y="1003"/>
                    <a:pt x="953" y="1018"/>
                  </a:cubicBezTo>
                  <a:cubicBezTo>
                    <a:pt x="907" y="1049"/>
                    <a:pt x="874" y="1113"/>
                    <a:pt x="857" y="1166"/>
                  </a:cubicBezTo>
                  <a:cubicBezTo>
                    <a:pt x="847" y="1266"/>
                    <a:pt x="848" y="1243"/>
                    <a:pt x="746" y="1233"/>
                  </a:cubicBezTo>
                  <a:cubicBezTo>
                    <a:pt x="737" y="1205"/>
                    <a:pt x="735" y="1217"/>
                    <a:pt x="746" y="119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9"/>
            <p:cNvSpPr/>
            <p:nvPr/>
          </p:nvSpPr>
          <p:spPr>
            <a:xfrm flipH="1" rot="1298400">
              <a:off x="2616480" y="3668400"/>
              <a:ext cx="444960" cy="5274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40"/>
            <p:cNvSpPr/>
            <p:nvPr/>
          </p:nvSpPr>
          <p:spPr>
            <a:xfrm flipH="1" rot="20656200">
              <a:off x="2644920" y="3623400"/>
              <a:ext cx="238680" cy="282600"/>
            </a:xfrm>
            <a:custGeom>
              <a:avLst/>
              <a:gdLst/>
              <a:ahLst/>
              <a:rect l="l" t="t" r="r" b="b"/>
              <a:pathLst>
                <a:path w="3191" h="4043">
                  <a:moveTo>
                    <a:pt x="2386" y="3782"/>
                  </a:moveTo>
                  <a:cubicBezTo>
                    <a:pt x="2423" y="3725"/>
                    <a:pt x="2447" y="3669"/>
                    <a:pt x="2467" y="3604"/>
                  </a:cubicBezTo>
                  <a:cubicBezTo>
                    <a:pt x="2472" y="3517"/>
                    <a:pt x="2459" y="3493"/>
                    <a:pt x="2496" y="3435"/>
                  </a:cubicBezTo>
                  <a:cubicBezTo>
                    <a:pt x="2505" y="3379"/>
                    <a:pt x="2513" y="3329"/>
                    <a:pt x="2519" y="3272"/>
                  </a:cubicBezTo>
                  <a:cubicBezTo>
                    <a:pt x="2516" y="3144"/>
                    <a:pt x="2567" y="3000"/>
                    <a:pt x="2504" y="2888"/>
                  </a:cubicBezTo>
                  <a:cubicBezTo>
                    <a:pt x="2480" y="2846"/>
                    <a:pt x="2457" y="2795"/>
                    <a:pt x="2430" y="2755"/>
                  </a:cubicBezTo>
                  <a:cubicBezTo>
                    <a:pt x="2420" y="2740"/>
                    <a:pt x="2410" y="2726"/>
                    <a:pt x="2400" y="2711"/>
                  </a:cubicBezTo>
                  <a:cubicBezTo>
                    <a:pt x="2395" y="2704"/>
                    <a:pt x="2386" y="2689"/>
                    <a:pt x="2386" y="2689"/>
                  </a:cubicBezTo>
                  <a:cubicBezTo>
                    <a:pt x="2384" y="2639"/>
                    <a:pt x="2408" y="2463"/>
                    <a:pt x="2356" y="2386"/>
                  </a:cubicBezTo>
                  <a:cubicBezTo>
                    <a:pt x="2338" y="2331"/>
                    <a:pt x="2362" y="2399"/>
                    <a:pt x="2334" y="2342"/>
                  </a:cubicBezTo>
                  <a:cubicBezTo>
                    <a:pt x="2305" y="2285"/>
                    <a:pt x="2290" y="2230"/>
                    <a:pt x="2223" y="2209"/>
                  </a:cubicBezTo>
                  <a:cubicBezTo>
                    <a:pt x="2207" y="2198"/>
                    <a:pt x="2187" y="2192"/>
                    <a:pt x="2172" y="2179"/>
                  </a:cubicBezTo>
                  <a:cubicBezTo>
                    <a:pt x="2165" y="2173"/>
                    <a:pt x="2163" y="2163"/>
                    <a:pt x="2157" y="2157"/>
                  </a:cubicBezTo>
                  <a:cubicBezTo>
                    <a:pt x="2139" y="2139"/>
                    <a:pt x="2090" y="2105"/>
                    <a:pt x="2068" y="2098"/>
                  </a:cubicBezTo>
                  <a:cubicBezTo>
                    <a:pt x="2021" y="2051"/>
                    <a:pt x="1961" y="2041"/>
                    <a:pt x="1898" y="2024"/>
                  </a:cubicBezTo>
                  <a:cubicBezTo>
                    <a:pt x="1827" y="1976"/>
                    <a:pt x="1939" y="2048"/>
                    <a:pt x="1839" y="2002"/>
                  </a:cubicBezTo>
                  <a:cubicBezTo>
                    <a:pt x="1789" y="1979"/>
                    <a:pt x="1750" y="1936"/>
                    <a:pt x="1706" y="1906"/>
                  </a:cubicBezTo>
                  <a:cubicBezTo>
                    <a:pt x="1686" y="1874"/>
                    <a:pt x="1661" y="1849"/>
                    <a:pt x="1640" y="1817"/>
                  </a:cubicBezTo>
                  <a:cubicBezTo>
                    <a:pt x="1635" y="1810"/>
                    <a:pt x="1625" y="1795"/>
                    <a:pt x="1625" y="1795"/>
                  </a:cubicBezTo>
                  <a:cubicBezTo>
                    <a:pt x="1614" y="1759"/>
                    <a:pt x="1601" y="1734"/>
                    <a:pt x="1566" y="1721"/>
                  </a:cubicBezTo>
                  <a:cubicBezTo>
                    <a:pt x="1520" y="1653"/>
                    <a:pt x="1481" y="1631"/>
                    <a:pt x="1404" y="1603"/>
                  </a:cubicBezTo>
                  <a:cubicBezTo>
                    <a:pt x="1372" y="1572"/>
                    <a:pt x="1336" y="1536"/>
                    <a:pt x="1293" y="1522"/>
                  </a:cubicBezTo>
                  <a:cubicBezTo>
                    <a:pt x="1250" y="1493"/>
                    <a:pt x="1240" y="1501"/>
                    <a:pt x="1182" y="1507"/>
                  </a:cubicBezTo>
                  <a:cubicBezTo>
                    <a:pt x="1119" y="1524"/>
                    <a:pt x="1072" y="1538"/>
                    <a:pt x="1005" y="1544"/>
                  </a:cubicBezTo>
                  <a:cubicBezTo>
                    <a:pt x="741" y="1528"/>
                    <a:pt x="842" y="1539"/>
                    <a:pt x="702" y="1522"/>
                  </a:cubicBezTo>
                  <a:cubicBezTo>
                    <a:pt x="668" y="1524"/>
                    <a:pt x="633" y="1525"/>
                    <a:pt x="599" y="1529"/>
                  </a:cubicBezTo>
                  <a:cubicBezTo>
                    <a:pt x="537" y="1536"/>
                    <a:pt x="476" y="1563"/>
                    <a:pt x="414" y="1574"/>
                  </a:cubicBezTo>
                  <a:cubicBezTo>
                    <a:pt x="399" y="1584"/>
                    <a:pt x="380" y="1588"/>
                    <a:pt x="370" y="1603"/>
                  </a:cubicBezTo>
                  <a:cubicBezTo>
                    <a:pt x="365" y="1610"/>
                    <a:pt x="362" y="1619"/>
                    <a:pt x="355" y="1625"/>
                  </a:cubicBezTo>
                  <a:cubicBezTo>
                    <a:pt x="352" y="1627"/>
                    <a:pt x="314" y="1639"/>
                    <a:pt x="311" y="1640"/>
                  </a:cubicBezTo>
                  <a:cubicBezTo>
                    <a:pt x="271" y="1666"/>
                    <a:pt x="239" y="1681"/>
                    <a:pt x="200" y="1714"/>
                  </a:cubicBezTo>
                  <a:cubicBezTo>
                    <a:pt x="164" y="1744"/>
                    <a:pt x="160" y="1769"/>
                    <a:pt x="111" y="1780"/>
                  </a:cubicBezTo>
                  <a:cubicBezTo>
                    <a:pt x="78" y="1803"/>
                    <a:pt x="76" y="1817"/>
                    <a:pt x="52" y="1780"/>
                  </a:cubicBezTo>
                  <a:cubicBezTo>
                    <a:pt x="63" y="1751"/>
                    <a:pt x="74" y="1739"/>
                    <a:pt x="104" y="1729"/>
                  </a:cubicBezTo>
                  <a:cubicBezTo>
                    <a:pt x="121" y="1704"/>
                    <a:pt x="134" y="1694"/>
                    <a:pt x="163" y="1684"/>
                  </a:cubicBezTo>
                  <a:cubicBezTo>
                    <a:pt x="187" y="1649"/>
                    <a:pt x="224" y="1605"/>
                    <a:pt x="259" y="1581"/>
                  </a:cubicBezTo>
                  <a:cubicBezTo>
                    <a:pt x="270" y="1547"/>
                    <a:pt x="275" y="1534"/>
                    <a:pt x="237" y="1522"/>
                  </a:cubicBezTo>
                  <a:cubicBezTo>
                    <a:pt x="202" y="1534"/>
                    <a:pt x="169" y="1551"/>
                    <a:pt x="133" y="1559"/>
                  </a:cubicBezTo>
                  <a:cubicBezTo>
                    <a:pt x="68" y="1538"/>
                    <a:pt x="166" y="1491"/>
                    <a:pt x="192" y="1485"/>
                  </a:cubicBezTo>
                  <a:cubicBezTo>
                    <a:pt x="160" y="1463"/>
                    <a:pt x="119" y="1453"/>
                    <a:pt x="82" y="1441"/>
                  </a:cubicBezTo>
                  <a:cubicBezTo>
                    <a:pt x="0" y="1385"/>
                    <a:pt x="60" y="1405"/>
                    <a:pt x="156" y="1411"/>
                  </a:cubicBezTo>
                  <a:cubicBezTo>
                    <a:pt x="222" y="1435"/>
                    <a:pt x="287" y="1460"/>
                    <a:pt x="355" y="1478"/>
                  </a:cubicBezTo>
                  <a:cubicBezTo>
                    <a:pt x="416" y="1471"/>
                    <a:pt x="448" y="1484"/>
                    <a:pt x="429" y="1426"/>
                  </a:cubicBezTo>
                  <a:cubicBezTo>
                    <a:pt x="471" y="1413"/>
                    <a:pt x="478" y="1446"/>
                    <a:pt x="517" y="1448"/>
                  </a:cubicBezTo>
                  <a:cubicBezTo>
                    <a:pt x="621" y="1453"/>
                    <a:pt x="724" y="1453"/>
                    <a:pt x="828" y="1456"/>
                  </a:cubicBezTo>
                  <a:cubicBezTo>
                    <a:pt x="881" y="1473"/>
                    <a:pt x="867" y="1484"/>
                    <a:pt x="879" y="1448"/>
                  </a:cubicBezTo>
                  <a:cubicBezTo>
                    <a:pt x="882" y="1441"/>
                    <a:pt x="884" y="1433"/>
                    <a:pt x="887" y="1426"/>
                  </a:cubicBezTo>
                  <a:cubicBezTo>
                    <a:pt x="882" y="1419"/>
                    <a:pt x="879" y="1410"/>
                    <a:pt x="872" y="1404"/>
                  </a:cubicBezTo>
                  <a:cubicBezTo>
                    <a:pt x="859" y="1392"/>
                    <a:pt x="828" y="1374"/>
                    <a:pt x="828" y="1374"/>
                  </a:cubicBezTo>
                  <a:cubicBezTo>
                    <a:pt x="797" y="1329"/>
                    <a:pt x="761" y="1342"/>
                    <a:pt x="702" y="1337"/>
                  </a:cubicBezTo>
                  <a:cubicBezTo>
                    <a:pt x="673" y="1328"/>
                    <a:pt x="663" y="1306"/>
                    <a:pt x="636" y="1293"/>
                  </a:cubicBezTo>
                  <a:cubicBezTo>
                    <a:pt x="614" y="1282"/>
                    <a:pt x="561" y="1280"/>
                    <a:pt x="547" y="1278"/>
                  </a:cubicBezTo>
                  <a:cubicBezTo>
                    <a:pt x="517" y="1273"/>
                    <a:pt x="493" y="1263"/>
                    <a:pt x="466" y="1249"/>
                  </a:cubicBezTo>
                  <a:cubicBezTo>
                    <a:pt x="403" y="1258"/>
                    <a:pt x="392" y="1264"/>
                    <a:pt x="325" y="1256"/>
                  </a:cubicBezTo>
                  <a:cubicBezTo>
                    <a:pt x="308" y="1259"/>
                    <a:pt x="290" y="1257"/>
                    <a:pt x="274" y="1264"/>
                  </a:cubicBezTo>
                  <a:cubicBezTo>
                    <a:pt x="266" y="1268"/>
                    <a:pt x="266" y="1281"/>
                    <a:pt x="259" y="1286"/>
                  </a:cubicBezTo>
                  <a:cubicBezTo>
                    <a:pt x="253" y="1291"/>
                    <a:pt x="244" y="1291"/>
                    <a:pt x="237" y="1293"/>
                  </a:cubicBezTo>
                  <a:cubicBezTo>
                    <a:pt x="185" y="1291"/>
                    <a:pt x="133" y="1295"/>
                    <a:pt x="82" y="1286"/>
                  </a:cubicBezTo>
                  <a:cubicBezTo>
                    <a:pt x="74" y="1285"/>
                    <a:pt x="71" y="1271"/>
                    <a:pt x="74" y="1264"/>
                  </a:cubicBezTo>
                  <a:cubicBezTo>
                    <a:pt x="75" y="1262"/>
                    <a:pt x="118" y="1249"/>
                    <a:pt x="119" y="1249"/>
                  </a:cubicBezTo>
                  <a:cubicBezTo>
                    <a:pt x="158" y="1245"/>
                    <a:pt x="198" y="1244"/>
                    <a:pt x="237" y="1241"/>
                  </a:cubicBezTo>
                  <a:cubicBezTo>
                    <a:pt x="274" y="1232"/>
                    <a:pt x="308" y="1234"/>
                    <a:pt x="340" y="1212"/>
                  </a:cubicBezTo>
                  <a:cubicBezTo>
                    <a:pt x="483" y="1217"/>
                    <a:pt x="550" y="1228"/>
                    <a:pt x="680" y="1219"/>
                  </a:cubicBezTo>
                  <a:cubicBezTo>
                    <a:pt x="646" y="1169"/>
                    <a:pt x="633" y="1180"/>
                    <a:pt x="672" y="1168"/>
                  </a:cubicBezTo>
                  <a:cubicBezTo>
                    <a:pt x="687" y="1173"/>
                    <a:pt x="712" y="1167"/>
                    <a:pt x="717" y="1182"/>
                  </a:cubicBezTo>
                  <a:cubicBezTo>
                    <a:pt x="724" y="1203"/>
                    <a:pt x="729" y="1257"/>
                    <a:pt x="761" y="1264"/>
                  </a:cubicBezTo>
                  <a:cubicBezTo>
                    <a:pt x="788" y="1270"/>
                    <a:pt x="815" y="1269"/>
                    <a:pt x="842" y="1271"/>
                  </a:cubicBezTo>
                  <a:cubicBezTo>
                    <a:pt x="891" y="1287"/>
                    <a:pt x="839" y="1265"/>
                    <a:pt x="879" y="1300"/>
                  </a:cubicBezTo>
                  <a:cubicBezTo>
                    <a:pt x="901" y="1319"/>
                    <a:pt x="948" y="1348"/>
                    <a:pt x="975" y="1360"/>
                  </a:cubicBezTo>
                  <a:cubicBezTo>
                    <a:pt x="1043" y="1389"/>
                    <a:pt x="1116" y="1379"/>
                    <a:pt x="1189" y="1382"/>
                  </a:cubicBezTo>
                  <a:cubicBezTo>
                    <a:pt x="1229" y="1394"/>
                    <a:pt x="1227" y="1425"/>
                    <a:pt x="1241" y="1382"/>
                  </a:cubicBezTo>
                  <a:cubicBezTo>
                    <a:pt x="1238" y="1342"/>
                    <a:pt x="1251" y="1295"/>
                    <a:pt x="1226" y="1264"/>
                  </a:cubicBezTo>
                  <a:cubicBezTo>
                    <a:pt x="1192" y="1222"/>
                    <a:pt x="1133" y="1198"/>
                    <a:pt x="1093" y="1160"/>
                  </a:cubicBezTo>
                  <a:cubicBezTo>
                    <a:pt x="1078" y="1113"/>
                    <a:pt x="1041" y="1094"/>
                    <a:pt x="1005" y="1064"/>
                  </a:cubicBezTo>
                  <a:cubicBezTo>
                    <a:pt x="975" y="1039"/>
                    <a:pt x="963" y="1005"/>
                    <a:pt x="931" y="983"/>
                  </a:cubicBezTo>
                  <a:cubicBezTo>
                    <a:pt x="912" y="955"/>
                    <a:pt x="895" y="946"/>
                    <a:pt x="864" y="931"/>
                  </a:cubicBezTo>
                  <a:cubicBezTo>
                    <a:pt x="835" y="886"/>
                    <a:pt x="842" y="841"/>
                    <a:pt x="850" y="791"/>
                  </a:cubicBezTo>
                  <a:cubicBezTo>
                    <a:pt x="845" y="708"/>
                    <a:pt x="868" y="632"/>
                    <a:pt x="798" y="584"/>
                  </a:cubicBezTo>
                  <a:cubicBezTo>
                    <a:pt x="782" y="560"/>
                    <a:pt x="763" y="546"/>
                    <a:pt x="754" y="518"/>
                  </a:cubicBezTo>
                  <a:cubicBezTo>
                    <a:pt x="785" y="507"/>
                    <a:pt x="767" y="508"/>
                    <a:pt x="798" y="518"/>
                  </a:cubicBezTo>
                  <a:cubicBezTo>
                    <a:pt x="813" y="523"/>
                    <a:pt x="842" y="532"/>
                    <a:pt x="842" y="532"/>
                  </a:cubicBezTo>
                  <a:cubicBezTo>
                    <a:pt x="873" y="553"/>
                    <a:pt x="889" y="587"/>
                    <a:pt x="916" y="614"/>
                  </a:cubicBezTo>
                  <a:cubicBezTo>
                    <a:pt x="931" y="656"/>
                    <a:pt x="894" y="748"/>
                    <a:pt x="953" y="710"/>
                  </a:cubicBezTo>
                  <a:cubicBezTo>
                    <a:pt x="970" y="712"/>
                    <a:pt x="989" y="710"/>
                    <a:pt x="1005" y="717"/>
                  </a:cubicBezTo>
                  <a:cubicBezTo>
                    <a:pt x="1062" y="742"/>
                    <a:pt x="969" y="778"/>
                    <a:pt x="953" y="784"/>
                  </a:cubicBezTo>
                  <a:cubicBezTo>
                    <a:pt x="958" y="845"/>
                    <a:pt x="944" y="878"/>
                    <a:pt x="990" y="909"/>
                  </a:cubicBezTo>
                  <a:cubicBezTo>
                    <a:pt x="1007" y="907"/>
                    <a:pt x="1030" y="915"/>
                    <a:pt x="1042" y="902"/>
                  </a:cubicBezTo>
                  <a:cubicBezTo>
                    <a:pt x="1055" y="887"/>
                    <a:pt x="1042" y="861"/>
                    <a:pt x="1049" y="843"/>
                  </a:cubicBezTo>
                  <a:cubicBezTo>
                    <a:pt x="1052" y="835"/>
                    <a:pt x="1064" y="833"/>
                    <a:pt x="1071" y="828"/>
                  </a:cubicBezTo>
                  <a:cubicBezTo>
                    <a:pt x="1148" y="852"/>
                    <a:pt x="1087" y="826"/>
                    <a:pt x="1101" y="1005"/>
                  </a:cubicBezTo>
                  <a:cubicBezTo>
                    <a:pt x="1105" y="1057"/>
                    <a:pt x="1145" y="1063"/>
                    <a:pt x="1182" y="1086"/>
                  </a:cubicBezTo>
                  <a:cubicBezTo>
                    <a:pt x="1279" y="1055"/>
                    <a:pt x="1238" y="869"/>
                    <a:pt x="1167" y="820"/>
                  </a:cubicBezTo>
                  <a:cubicBezTo>
                    <a:pt x="1152" y="773"/>
                    <a:pt x="1180" y="790"/>
                    <a:pt x="1204" y="806"/>
                  </a:cubicBezTo>
                  <a:cubicBezTo>
                    <a:pt x="1224" y="836"/>
                    <a:pt x="1225" y="855"/>
                    <a:pt x="1263" y="843"/>
                  </a:cubicBezTo>
                  <a:cubicBezTo>
                    <a:pt x="1291" y="814"/>
                    <a:pt x="1298" y="811"/>
                    <a:pt x="1337" y="820"/>
                  </a:cubicBezTo>
                  <a:cubicBezTo>
                    <a:pt x="1285" y="855"/>
                    <a:pt x="1300" y="848"/>
                    <a:pt x="1271" y="894"/>
                  </a:cubicBezTo>
                  <a:cubicBezTo>
                    <a:pt x="1275" y="997"/>
                    <a:pt x="1248" y="1218"/>
                    <a:pt x="1359" y="1293"/>
                  </a:cubicBezTo>
                  <a:cubicBezTo>
                    <a:pt x="1376" y="1341"/>
                    <a:pt x="1353" y="1294"/>
                    <a:pt x="1389" y="1323"/>
                  </a:cubicBezTo>
                  <a:cubicBezTo>
                    <a:pt x="1396" y="1329"/>
                    <a:pt x="1398" y="1339"/>
                    <a:pt x="1404" y="1345"/>
                  </a:cubicBezTo>
                  <a:cubicBezTo>
                    <a:pt x="1410" y="1351"/>
                    <a:pt x="1419" y="1355"/>
                    <a:pt x="1426" y="1360"/>
                  </a:cubicBezTo>
                  <a:cubicBezTo>
                    <a:pt x="1437" y="1393"/>
                    <a:pt x="1475" y="1416"/>
                    <a:pt x="1500" y="1441"/>
                  </a:cubicBezTo>
                  <a:cubicBezTo>
                    <a:pt x="1506" y="1447"/>
                    <a:pt x="1507" y="1458"/>
                    <a:pt x="1514" y="1463"/>
                  </a:cubicBezTo>
                  <a:cubicBezTo>
                    <a:pt x="1529" y="1473"/>
                    <a:pt x="1549" y="1472"/>
                    <a:pt x="1566" y="1478"/>
                  </a:cubicBezTo>
                  <a:cubicBezTo>
                    <a:pt x="1610" y="1522"/>
                    <a:pt x="1650" y="1524"/>
                    <a:pt x="1714" y="1529"/>
                  </a:cubicBezTo>
                  <a:cubicBezTo>
                    <a:pt x="1750" y="1542"/>
                    <a:pt x="1780" y="1559"/>
                    <a:pt x="1817" y="1566"/>
                  </a:cubicBezTo>
                  <a:cubicBezTo>
                    <a:pt x="1832" y="1564"/>
                    <a:pt x="1856" y="1573"/>
                    <a:pt x="1861" y="1559"/>
                  </a:cubicBezTo>
                  <a:cubicBezTo>
                    <a:pt x="1872" y="1531"/>
                    <a:pt x="1858" y="1500"/>
                    <a:pt x="1854" y="1470"/>
                  </a:cubicBezTo>
                  <a:cubicBezTo>
                    <a:pt x="1850" y="1440"/>
                    <a:pt x="1823" y="1409"/>
                    <a:pt x="1810" y="1382"/>
                  </a:cubicBezTo>
                  <a:cubicBezTo>
                    <a:pt x="1779" y="1319"/>
                    <a:pt x="1796" y="1294"/>
                    <a:pt x="1728" y="1249"/>
                  </a:cubicBezTo>
                  <a:cubicBezTo>
                    <a:pt x="1718" y="1234"/>
                    <a:pt x="1701" y="1222"/>
                    <a:pt x="1699" y="1204"/>
                  </a:cubicBezTo>
                  <a:cubicBezTo>
                    <a:pt x="1697" y="1185"/>
                    <a:pt x="1695" y="1117"/>
                    <a:pt x="1677" y="1094"/>
                  </a:cubicBezTo>
                  <a:cubicBezTo>
                    <a:pt x="1664" y="1077"/>
                    <a:pt x="1647" y="1064"/>
                    <a:pt x="1632" y="1049"/>
                  </a:cubicBezTo>
                  <a:cubicBezTo>
                    <a:pt x="1543" y="960"/>
                    <a:pt x="1645" y="1034"/>
                    <a:pt x="1581" y="990"/>
                  </a:cubicBezTo>
                  <a:cubicBezTo>
                    <a:pt x="1559" y="958"/>
                    <a:pt x="1535" y="933"/>
                    <a:pt x="1514" y="902"/>
                  </a:cubicBezTo>
                  <a:cubicBezTo>
                    <a:pt x="1493" y="836"/>
                    <a:pt x="1498" y="873"/>
                    <a:pt x="1507" y="791"/>
                  </a:cubicBezTo>
                  <a:cubicBezTo>
                    <a:pt x="1501" y="732"/>
                    <a:pt x="1508" y="717"/>
                    <a:pt x="1463" y="688"/>
                  </a:cubicBezTo>
                  <a:cubicBezTo>
                    <a:pt x="1438" y="650"/>
                    <a:pt x="1456" y="670"/>
                    <a:pt x="1404" y="636"/>
                  </a:cubicBezTo>
                  <a:cubicBezTo>
                    <a:pt x="1395" y="630"/>
                    <a:pt x="1388" y="622"/>
                    <a:pt x="1381" y="614"/>
                  </a:cubicBezTo>
                  <a:cubicBezTo>
                    <a:pt x="1375" y="607"/>
                    <a:pt x="1359" y="596"/>
                    <a:pt x="1367" y="592"/>
                  </a:cubicBezTo>
                  <a:cubicBezTo>
                    <a:pt x="1382" y="584"/>
                    <a:pt x="1445" y="609"/>
                    <a:pt x="1463" y="614"/>
                  </a:cubicBezTo>
                  <a:cubicBezTo>
                    <a:pt x="1470" y="619"/>
                    <a:pt x="1480" y="621"/>
                    <a:pt x="1485" y="628"/>
                  </a:cubicBezTo>
                  <a:cubicBezTo>
                    <a:pt x="1490" y="634"/>
                    <a:pt x="1486" y="645"/>
                    <a:pt x="1492" y="651"/>
                  </a:cubicBezTo>
                  <a:cubicBezTo>
                    <a:pt x="1516" y="675"/>
                    <a:pt x="1532" y="679"/>
                    <a:pt x="1559" y="688"/>
                  </a:cubicBezTo>
                  <a:cubicBezTo>
                    <a:pt x="1578" y="749"/>
                    <a:pt x="1571" y="717"/>
                    <a:pt x="1581" y="784"/>
                  </a:cubicBezTo>
                  <a:cubicBezTo>
                    <a:pt x="1584" y="783"/>
                    <a:pt x="1646" y="766"/>
                    <a:pt x="1655" y="784"/>
                  </a:cubicBezTo>
                  <a:cubicBezTo>
                    <a:pt x="1660" y="795"/>
                    <a:pt x="1650" y="808"/>
                    <a:pt x="1647" y="820"/>
                  </a:cubicBezTo>
                  <a:cubicBezTo>
                    <a:pt x="1650" y="864"/>
                    <a:pt x="1626" y="964"/>
                    <a:pt x="1684" y="983"/>
                  </a:cubicBezTo>
                  <a:cubicBezTo>
                    <a:pt x="1703" y="1035"/>
                    <a:pt x="1694" y="1045"/>
                    <a:pt x="1743" y="1079"/>
                  </a:cubicBezTo>
                  <a:cubicBezTo>
                    <a:pt x="1753" y="1094"/>
                    <a:pt x="1767" y="1106"/>
                    <a:pt x="1773" y="1123"/>
                  </a:cubicBezTo>
                  <a:cubicBezTo>
                    <a:pt x="1778" y="1138"/>
                    <a:pt x="1783" y="1153"/>
                    <a:pt x="1788" y="1168"/>
                  </a:cubicBezTo>
                  <a:cubicBezTo>
                    <a:pt x="1792" y="1180"/>
                    <a:pt x="1789" y="1193"/>
                    <a:pt x="1795" y="1204"/>
                  </a:cubicBezTo>
                  <a:cubicBezTo>
                    <a:pt x="1799" y="1212"/>
                    <a:pt x="1810" y="1214"/>
                    <a:pt x="1817" y="1219"/>
                  </a:cubicBezTo>
                  <a:cubicBezTo>
                    <a:pt x="1823" y="1173"/>
                    <a:pt x="1831" y="1129"/>
                    <a:pt x="1847" y="1086"/>
                  </a:cubicBezTo>
                  <a:cubicBezTo>
                    <a:pt x="1844" y="993"/>
                    <a:pt x="1846" y="899"/>
                    <a:pt x="1839" y="806"/>
                  </a:cubicBezTo>
                  <a:cubicBezTo>
                    <a:pt x="1838" y="788"/>
                    <a:pt x="1818" y="777"/>
                    <a:pt x="1810" y="761"/>
                  </a:cubicBezTo>
                  <a:cubicBezTo>
                    <a:pt x="1774" y="687"/>
                    <a:pt x="1711" y="629"/>
                    <a:pt x="1684" y="555"/>
                  </a:cubicBezTo>
                  <a:cubicBezTo>
                    <a:pt x="1679" y="460"/>
                    <a:pt x="1704" y="429"/>
                    <a:pt x="1640" y="385"/>
                  </a:cubicBezTo>
                  <a:cubicBezTo>
                    <a:pt x="1631" y="360"/>
                    <a:pt x="1625" y="340"/>
                    <a:pt x="1610" y="318"/>
                  </a:cubicBezTo>
                  <a:cubicBezTo>
                    <a:pt x="1592" y="263"/>
                    <a:pt x="1602" y="220"/>
                    <a:pt x="1551" y="185"/>
                  </a:cubicBezTo>
                  <a:cubicBezTo>
                    <a:pt x="1523" y="144"/>
                    <a:pt x="1477" y="132"/>
                    <a:pt x="1448" y="89"/>
                  </a:cubicBezTo>
                  <a:cubicBezTo>
                    <a:pt x="1438" y="74"/>
                    <a:pt x="1428" y="60"/>
                    <a:pt x="1418" y="45"/>
                  </a:cubicBezTo>
                  <a:cubicBezTo>
                    <a:pt x="1413" y="38"/>
                    <a:pt x="1409" y="30"/>
                    <a:pt x="1404" y="23"/>
                  </a:cubicBezTo>
                  <a:cubicBezTo>
                    <a:pt x="1399" y="16"/>
                    <a:pt x="1380" y="0"/>
                    <a:pt x="1389" y="1"/>
                  </a:cubicBezTo>
                  <a:cubicBezTo>
                    <a:pt x="1411" y="3"/>
                    <a:pt x="1433" y="6"/>
                    <a:pt x="1455" y="8"/>
                  </a:cubicBezTo>
                  <a:cubicBezTo>
                    <a:pt x="1508" y="27"/>
                    <a:pt x="1470" y="68"/>
                    <a:pt x="1500" y="97"/>
                  </a:cubicBezTo>
                  <a:cubicBezTo>
                    <a:pt x="1528" y="124"/>
                    <a:pt x="1581" y="146"/>
                    <a:pt x="1618" y="156"/>
                  </a:cubicBezTo>
                  <a:cubicBezTo>
                    <a:pt x="1677" y="196"/>
                    <a:pt x="1611" y="161"/>
                    <a:pt x="1647" y="60"/>
                  </a:cubicBezTo>
                  <a:cubicBezTo>
                    <a:pt x="1649" y="56"/>
                    <a:pt x="1695" y="73"/>
                    <a:pt x="1699" y="75"/>
                  </a:cubicBezTo>
                  <a:cubicBezTo>
                    <a:pt x="1709" y="107"/>
                    <a:pt x="1714" y="113"/>
                    <a:pt x="1699" y="156"/>
                  </a:cubicBezTo>
                  <a:cubicBezTo>
                    <a:pt x="1693" y="173"/>
                    <a:pt x="1669" y="200"/>
                    <a:pt x="1669" y="200"/>
                  </a:cubicBezTo>
                  <a:cubicBezTo>
                    <a:pt x="1653" y="251"/>
                    <a:pt x="1647" y="249"/>
                    <a:pt x="1662" y="311"/>
                  </a:cubicBezTo>
                  <a:cubicBezTo>
                    <a:pt x="1668" y="336"/>
                    <a:pt x="1721" y="363"/>
                    <a:pt x="1721" y="363"/>
                  </a:cubicBezTo>
                  <a:cubicBezTo>
                    <a:pt x="1730" y="402"/>
                    <a:pt x="1731" y="442"/>
                    <a:pt x="1743" y="481"/>
                  </a:cubicBezTo>
                  <a:cubicBezTo>
                    <a:pt x="1752" y="548"/>
                    <a:pt x="1769" y="606"/>
                    <a:pt x="1839" y="628"/>
                  </a:cubicBezTo>
                  <a:cubicBezTo>
                    <a:pt x="1850" y="644"/>
                    <a:pt x="1867" y="656"/>
                    <a:pt x="1876" y="673"/>
                  </a:cubicBezTo>
                  <a:cubicBezTo>
                    <a:pt x="1881" y="683"/>
                    <a:pt x="1887" y="736"/>
                    <a:pt x="1891" y="747"/>
                  </a:cubicBezTo>
                  <a:cubicBezTo>
                    <a:pt x="1893" y="753"/>
                    <a:pt x="1927" y="797"/>
                    <a:pt x="1928" y="798"/>
                  </a:cubicBezTo>
                  <a:cubicBezTo>
                    <a:pt x="1937" y="827"/>
                    <a:pt x="1941" y="854"/>
                    <a:pt x="1957" y="880"/>
                  </a:cubicBezTo>
                  <a:cubicBezTo>
                    <a:pt x="1960" y="946"/>
                    <a:pt x="1958" y="1013"/>
                    <a:pt x="1965" y="1079"/>
                  </a:cubicBezTo>
                  <a:cubicBezTo>
                    <a:pt x="1967" y="1095"/>
                    <a:pt x="1980" y="1108"/>
                    <a:pt x="1987" y="1123"/>
                  </a:cubicBezTo>
                  <a:cubicBezTo>
                    <a:pt x="1991" y="1131"/>
                    <a:pt x="2002" y="1145"/>
                    <a:pt x="2002" y="1145"/>
                  </a:cubicBezTo>
                  <a:cubicBezTo>
                    <a:pt x="2033" y="1223"/>
                    <a:pt x="2064" y="1300"/>
                    <a:pt x="2094" y="1378"/>
                  </a:cubicBezTo>
                  <a:cubicBezTo>
                    <a:pt x="2113" y="1428"/>
                    <a:pt x="2125" y="1484"/>
                    <a:pt x="2172" y="1515"/>
                  </a:cubicBezTo>
                  <a:cubicBezTo>
                    <a:pt x="2178" y="1534"/>
                    <a:pt x="2183" y="1566"/>
                    <a:pt x="2201" y="1581"/>
                  </a:cubicBezTo>
                  <a:cubicBezTo>
                    <a:pt x="2214" y="1593"/>
                    <a:pt x="2245" y="1611"/>
                    <a:pt x="2245" y="1611"/>
                  </a:cubicBezTo>
                  <a:cubicBezTo>
                    <a:pt x="2297" y="1577"/>
                    <a:pt x="2337" y="1609"/>
                    <a:pt x="2386" y="1625"/>
                  </a:cubicBezTo>
                  <a:cubicBezTo>
                    <a:pt x="2418" y="1650"/>
                    <a:pt x="2435" y="1687"/>
                    <a:pt x="2474" y="1699"/>
                  </a:cubicBezTo>
                  <a:cubicBezTo>
                    <a:pt x="2512" y="1728"/>
                    <a:pt x="2551" y="1754"/>
                    <a:pt x="2585" y="1788"/>
                  </a:cubicBezTo>
                  <a:cubicBezTo>
                    <a:pt x="2597" y="1827"/>
                    <a:pt x="2588" y="1804"/>
                    <a:pt x="2622" y="1854"/>
                  </a:cubicBezTo>
                  <a:cubicBezTo>
                    <a:pt x="2627" y="1861"/>
                    <a:pt x="2637" y="1876"/>
                    <a:pt x="2637" y="1876"/>
                  </a:cubicBezTo>
                  <a:cubicBezTo>
                    <a:pt x="2648" y="1922"/>
                    <a:pt x="2652" y="1903"/>
                    <a:pt x="2688" y="1928"/>
                  </a:cubicBezTo>
                  <a:cubicBezTo>
                    <a:pt x="2709" y="1970"/>
                    <a:pt x="2737" y="2007"/>
                    <a:pt x="2762" y="2046"/>
                  </a:cubicBezTo>
                  <a:cubicBezTo>
                    <a:pt x="2768" y="2055"/>
                    <a:pt x="2770" y="2067"/>
                    <a:pt x="2777" y="2076"/>
                  </a:cubicBezTo>
                  <a:cubicBezTo>
                    <a:pt x="2783" y="2083"/>
                    <a:pt x="2793" y="2085"/>
                    <a:pt x="2799" y="2091"/>
                  </a:cubicBezTo>
                  <a:cubicBezTo>
                    <a:pt x="2808" y="2100"/>
                    <a:pt x="2814" y="2110"/>
                    <a:pt x="2821" y="2120"/>
                  </a:cubicBezTo>
                  <a:cubicBezTo>
                    <a:pt x="2853" y="2165"/>
                    <a:pt x="2878" y="2214"/>
                    <a:pt x="2917" y="2253"/>
                  </a:cubicBezTo>
                  <a:cubicBezTo>
                    <a:pt x="2926" y="2277"/>
                    <a:pt x="2939" y="2295"/>
                    <a:pt x="2947" y="2320"/>
                  </a:cubicBezTo>
                  <a:cubicBezTo>
                    <a:pt x="2949" y="2413"/>
                    <a:pt x="2950" y="2507"/>
                    <a:pt x="2954" y="2600"/>
                  </a:cubicBezTo>
                  <a:cubicBezTo>
                    <a:pt x="2955" y="2630"/>
                    <a:pt x="2963" y="2675"/>
                    <a:pt x="2976" y="2704"/>
                  </a:cubicBezTo>
                  <a:cubicBezTo>
                    <a:pt x="2985" y="2724"/>
                    <a:pt x="3006" y="2763"/>
                    <a:pt x="3006" y="2763"/>
                  </a:cubicBezTo>
                  <a:cubicBezTo>
                    <a:pt x="3011" y="2801"/>
                    <a:pt x="3020" y="2830"/>
                    <a:pt x="3028" y="2866"/>
                  </a:cubicBezTo>
                  <a:cubicBezTo>
                    <a:pt x="3031" y="3048"/>
                    <a:pt x="3031" y="3230"/>
                    <a:pt x="3036" y="3412"/>
                  </a:cubicBezTo>
                  <a:cubicBezTo>
                    <a:pt x="3037" y="3437"/>
                    <a:pt x="3059" y="3512"/>
                    <a:pt x="3072" y="3531"/>
                  </a:cubicBezTo>
                  <a:cubicBezTo>
                    <a:pt x="3082" y="3546"/>
                    <a:pt x="3102" y="3575"/>
                    <a:pt x="3102" y="3575"/>
                  </a:cubicBezTo>
                  <a:cubicBezTo>
                    <a:pt x="3116" y="3620"/>
                    <a:pt x="3127" y="3676"/>
                    <a:pt x="3154" y="3715"/>
                  </a:cubicBezTo>
                  <a:cubicBezTo>
                    <a:pt x="3164" y="3746"/>
                    <a:pt x="3180" y="3773"/>
                    <a:pt x="3191" y="3804"/>
                  </a:cubicBezTo>
                  <a:cubicBezTo>
                    <a:pt x="2950" y="3902"/>
                    <a:pt x="2220" y="4043"/>
                    <a:pt x="2393" y="3789"/>
                  </a:cubicBezTo>
                  <a:cubicBezTo>
                    <a:pt x="2384" y="3762"/>
                    <a:pt x="2386" y="3759"/>
                    <a:pt x="2386" y="37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41"/>
            <p:cNvSpPr/>
            <p:nvPr/>
          </p:nvSpPr>
          <p:spPr>
            <a:xfrm flipH="1" rot="1870800">
              <a:off x="2669760" y="3849480"/>
              <a:ext cx="61560" cy="61200"/>
            </a:xfrm>
            <a:custGeom>
              <a:avLst/>
              <a:gdLst/>
              <a:ahLst/>
              <a:rect l="l" t="t" r="r" b="b"/>
              <a:pathLst>
                <a:path w="443" h="470">
                  <a:moveTo>
                    <a:pt x="443" y="0"/>
                  </a:moveTo>
                  <a:cubicBezTo>
                    <a:pt x="423" y="38"/>
                    <a:pt x="402" y="76"/>
                    <a:pt x="376" y="110"/>
                  </a:cubicBezTo>
                  <a:cubicBezTo>
                    <a:pt x="370" y="136"/>
                    <a:pt x="362" y="159"/>
                    <a:pt x="354" y="184"/>
                  </a:cubicBezTo>
                  <a:cubicBezTo>
                    <a:pt x="356" y="263"/>
                    <a:pt x="355" y="342"/>
                    <a:pt x="361" y="420"/>
                  </a:cubicBezTo>
                  <a:cubicBezTo>
                    <a:pt x="362" y="436"/>
                    <a:pt x="391" y="470"/>
                    <a:pt x="376" y="465"/>
                  </a:cubicBezTo>
                  <a:cubicBezTo>
                    <a:pt x="354" y="457"/>
                    <a:pt x="310" y="443"/>
                    <a:pt x="310" y="443"/>
                  </a:cubicBezTo>
                  <a:cubicBezTo>
                    <a:pt x="288" y="420"/>
                    <a:pt x="273" y="409"/>
                    <a:pt x="243" y="398"/>
                  </a:cubicBezTo>
                  <a:cubicBezTo>
                    <a:pt x="192" y="347"/>
                    <a:pt x="248" y="396"/>
                    <a:pt x="199" y="369"/>
                  </a:cubicBezTo>
                  <a:cubicBezTo>
                    <a:pt x="165" y="350"/>
                    <a:pt x="157" y="326"/>
                    <a:pt x="118" y="317"/>
                  </a:cubicBezTo>
                  <a:cubicBezTo>
                    <a:pt x="83" y="282"/>
                    <a:pt x="41" y="256"/>
                    <a:pt x="0" y="228"/>
                  </a:cubicBezTo>
                  <a:cubicBezTo>
                    <a:pt x="17" y="211"/>
                    <a:pt x="30" y="188"/>
                    <a:pt x="51" y="177"/>
                  </a:cubicBezTo>
                  <a:cubicBezTo>
                    <a:pt x="98" y="153"/>
                    <a:pt x="149" y="112"/>
                    <a:pt x="199" y="96"/>
                  </a:cubicBezTo>
                  <a:cubicBezTo>
                    <a:pt x="224" y="79"/>
                    <a:pt x="244" y="52"/>
                    <a:pt x="273" y="44"/>
                  </a:cubicBezTo>
                  <a:cubicBezTo>
                    <a:pt x="329" y="28"/>
                    <a:pt x="386" y="15"/>
                    <a:pt x="44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42"/>
            <p:cNvSpPr/>
            <p:nvPr/>
          </p:nvSpPr>
          <p:spPr>
            <a:xfrm flipH="1" rot="9007800">
              <a:off x="2974680" y="3906360"/>
              <a:ext cx="28800" cy="6588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43"/>
            <p:cNvSpPr/>
            <p:nvPr/>
          </p:nvSpPr>
          <p:spPr>
            <a:xfrm rot="2388600">
              <a:off x="2739240" y="3837600"/>
              <a:ext cx="25560" cy="25920"/>
            </a:xfrm>
            <a:custGeom>
              <a:avLst/>
              <a:gdLst/>
              <a:ahLst/>
              <a:rect l="l" t="t" r="r" b="b"/>
              <a:pathLst>
                <a:path w="543" h="1160">
                  <a:moveTo>
                    <a:pt x="202" y="1144"/>
                  </a:moveTo>
                  <a:cubicBezTo>
                    <a:pt x="210" y="1132"/>
                    <a:pt x="224" y="1116"/>
                    <a:pt x="224" y="1100"/>
                  </a:cubicBezTo>
                  <a:cubicBezTo>
                    <a:pt x="224" y="974"/>
                    <a:pt x="222" y="849"/>
                    <a:pt x="217" y="723"/>
                  </a:cubicBezTo>
                  <a:cubicBezTo>
                    <a:pt x="216" y="689"/>
                    <a:pt x="189" y="652"/>
                    <a:pt x="172" y="627"/>
                  </a:cubicBezTo>
                  <a:cubicBezTo>
                    <a:pt x="146" y="588"/>
                    <a:pt x="118" y="559"/>
                    <a:pt x="91" y="524"/>
                  </a:cubicBezTo>
                  <a:cubicBezTo>
                    <a:pt x="67" y="493"/>
                    <a:pt x="54" y="460"/>
                    <a:pt x="32" y="428"/>
                  </a:cubicBezTo>
                  <a:cubicBezTo>
                    <a:pt x="23" y="398"/>
                    <a:pt x="13" y="368"/>
                    <a:pt x="2" y="339"/>
                  </a:cubicBezTo>
                  <a:cubicBezTo>
                    <a:pt x="5" y="317"/>
                    <a:pt x="0" y="293"/>
                    <a:pt x="10" y="273"/>
                  </a:cubicBezTo>
                  <a:cubicBezTo>
                    <a:pt x="13" y="266"/>
                    <a:pt x="27" y="275"/>
                    <a:pt x="32" y="280"/>
                  </a:cubicBezTo>
                  <a:cubicBezTo>
                    <a:pt x="37" y="285"/>
                    <a:pt x="35" y="295"/>
                    <a:pt x="39" y="302"/>
                  </a:cubicBezTo>
                  <a:cubicBezTo>
                    <a:pt x="50" y="320"/>
                    <a:pt x="76" y="354"/>
                    <a:pt x="76" y="354"/>
                  </a:cubicBezTo>
                  <a:cubicBezTo>
                    <a:pt x="87" y="384"/>
                    <a:pt x="90" y="397"/>
                    <a:pt x="113" y="420"/>
                  </a:cubicBezTo>
                  <a:cubicBezTo>
                    <a:pt x="129" y="467"/>
                    <a:pt x="176" y="516"/>
                    <a:pt x="224" y="531"/>
                  </a:cubicBezTo>
                  <a:cubicBezTo>
                    <a:pt x="243" y="472"/>
                    <a:pt x="187" y="371"/>
                    <a:pt x="268" y="391"/>
                  </a:cubicBezTo>
                  <a:cubicBezTo>
                    <a:pt x="286" y="440"/>
                    <a:pt x="282" y="494"/>
                    <a:pt x="290" y="546"/>
                  </a:cubicBezTo>
                  <a:cubicBezTo>
                    <a:pt x="339" y="537"/>
                    <a:pt x="340" y="527"/>
                    <a:pt x="364" y="487"/>
                  </a:cubicBezTo>
                  <a:cubicBezTo>
                    <a:pt x="373" y="472"/>
                    <a:pt x="394" y="443"/>
                    <a:pt x="394" y="443"/>
                  </a:cubicBezTo>
                  <a:cubicBezTo>
                    <a:pt x="388" y="371"/>
                    <a:pt x="388" y="311"/>
                    <a:pt x="350" y="251"/>
                  </a:cubicBezTo>
                  <a:cubicBezTo>
                    <a:pt x="341" y="217"/>
                    <a:pt x="339" y="179"/>
                    <a:pt x="327" y="147"/>
                  </a:cubicBezTo>
                  <a:cubicBezTo>
                    <a:pt x="324" y="139"/>
                    <a:pt x="317" y="133"/>
                    <a:pt x="313" y="125"/>
                  </a:cubicBezTo>
                  <a:cubicBezTo>
                    <a:pt x="310" y="118"/>
                    <a:pt x="308" y="110"/>
                    <a:pt x="305" y="103"/>
                  </a:cubicBezTo>
                  <a:cubicBezTo>
                    <a:pt x="311" y="43"/>
                    <a:pt x="296" y="0"/>
                    <a:pt x="357" y="22"/>
                  </a:cubicBezTo>
                  <a:cubicBezTo>
                    <a:pt x="367" y="63"/>
                    <a:pt x="353" y="110"/>
                    <a:pt x="372" y="147"/>
                  </a:cubicBezTo>
                  <a:cubicBezTo>
                    <a:pt x="378" y="158"/>
                    <a:pt x="397" y="142"/>
                    <a:pt x="409" y="140"/>
                  </a:cubicBezTo>
                  <a:cubicBezTo>
                    <a:pt x="414" y="133"/>
                    <a:pt x="417" y="125"/>
                    <a:pt x="423" y="118"/>
                  </a:cubicBezTo>
                  <a:cubicBezTo>
                    <a:pt x="430" y="110"/>
                    <a:pt x="440" y="105"/>
                    <a:pt x="446" y="96"/>
                  </a:cubicBezTo>
                  <a:cubicBezTo>
                    <a:pt x="458" y="80"/>
                    <a:pt x="464" y="60"/>
                    <a:pt x="475" y="44"/>
                  </a:cubicBezTo>
                  <a:cubicBezTo>
                    <a:pt x="511" y="51"/>
                    <a:pt x="529" y="46"/>
                    <a:pt x="542" y="81"/>
                  </a:cubicBezTo>
                  <a:cubicBezTo>
                    <a:pt x="539" y="96"/>
                    <a:pt x="543" y="113"/>
                    <a:pt x="534" y="125"/>
                  </a:cubicBezTo>
                  <a:cubicBezTo>
                    <a:pt x="524" y="140"/>
                    <a:pt x="490" y="155"/>
                    <a:pt x="490" y="155"/>
                  </a:cubicBezTo>
                  <a:cubicBezTo>
                    <a:pt x="477" y="190"/>
                    <a:pt x="453" y="194"/>
                    <a:pt x="438" y="236"/>
                  </a:cubicBezTo>
                  <a:cubicBezTo>
                    <a:pt x="447" y="340"/>
                    <a:pt x="469" y="458"/>
                    <a:pt x="446" y="561"/>
                  </a:cubicBezTo>
                  <a:cubicBezTo>
                    <a:pt x="444" y="571"/>
                    <a:pt x="430" y="575"/>
                    <a:pt x="423" y="583"/>
                  </a:cubicBezTo>
                  <a:cubicBezTo>
                    <a:pt x="393" y="621"/>
                    <a:pt x="359" y="670"/>
                    <a:pt x="342" y="716"/>
                  </a:cubicBezTo>
                  <a:cubicBezTo>
                    <a:pt x="345" y="743"/>
                    <a:pt x="328" y="781"/>
                    <a:pt x="350" y="797"/>
                  </a:cubicBezTo>
                  <a:cubicBezTo>
                    <a:pt x="367" y="809"/>
                    <a:pt x="394" y="753"/>
                    <a:pt x="394" y="753"/>
                  </a:cubicBezTo>
                  <a:cubicBezTo>
                    <a:pt x="404" y="755"/>
                    <a:pt x="417" y="752"/>
                    <a:pt x="423" y="760"/>
                  </a:cubicBezTo>
                  <a:cubicBezTo>
                    <a:pt x="428" y="766"/>
                    <a:pt x="420" y="775"/>
                    <a:pt x="416" y="782"/>
                  </a:cubicBezTo>
                  <a:cubicBezTo>
                    <a:pt x="387" y="834"/>
                    <a:pt x="354" y="856"/>
                    <a:pt x="335" y="915"/>
                  </a:cubicBezTo>
                  <a:cubicBezTo>
                    <a:pt x="343" y="1160"/>
                    <a:pt x="406" y="1156"/>
                    <a:pt x="202" y="11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76"/>
          <p:cNvGrpSpPr/>
          <p:nvPr/>
        </p:nvGrpSpPr>
        <p:grpSpPr>
          <a:xfrm>
            <a:off x="25560" y="63360"/>
            <a:ext cx="951840" cy="317160"/>
            <a:chOff x="25560" y="63360"/>
            <a:chExt cx="951840" cy="317160"/>
          </a:xfrm>
        </p:grpSpPr>
        <p:grpSp>
          <p:nvGrpSpPr>
            <p:cNvPr id="249" name="Group 277"/>
            <p:cNvGrpSpPr/>
            <p:nvPr/>
          </p:nvGrpSpPr>
          <p:grpSpPr>
            <a:xfrm>
              <a:off x="25560" y="63360"/>
              <a:ext cx="597960" cy="317160"/>
              <a:chOff x="25560" y="63360"/>
              <a:chExt cx="597960" cy="317160"/>
            </a:xfrm>
          </p:grpSpPr>
          <p:sp>
            <p:nvSpPr>
              <p:cNvPr id="250" name="Freeform 278"/>
              <p:cNvSpPr/>
              <p:nvPr/>
            </p:nvSpPr>
            <p:spPr>
              <a:xfrm>
                <a:off x="25560" y="63360"/>
                <a:ext cx="240120" cy="205920"/>
              </a:xfrm>
              <a:custGeom>
                <a:avLst/>
                <a:gdLst/>
                <a:ahLst/>
                <a:rect l="l" t="t" r="r" b="b"/>
                <a:pathLst>
                  <a:path w="1232" h="1056">
                    <a:moveTo>
                      <a:pt x="0" y="0"/>
                    </a:moveTo>
                    <a:cubicBezTo>
                      <a:pt x="260" y="84"/>
                      <a:pt x="520" y="168"/>
                      <a:pt x="720" y="192"/>
                    </a:cubicBezTo>
                    <a:cubicBezTo>
                      <a:pt x="920" y="216"/>
                      <a:pt x="1168" y="160"/>
                      <a:pt x="1200" y="144"/>
                    </a:cubicBezTo>
                    <a:cubicBezTo>
                      <a:pt x="1232" y="128"/>
                      <a:pt x="1008" y="88"/>
                      <a:pt x="912" y="96"/>
                    </a:cubicBezTo>
                    <a:cubicBezTo>
                      <a:pt x="816" y="104"/>
                      <a:pt x="696" y="88"/>
                      <a:pt x="624" y="192"/>
                    </a:cubicBezTo>
                    <a:cubicBezTo>
                      <a:pt x="552" y="296"/>
                      <a:pt x="536" y="576"/>
                      <a:pt x="480" y="720"/>
                    </a:cubicBezTo>
                    <a:cubicBezTo>
                      <a:pt x="424" y="864"/>
                      <a:pt x="356" y="960"/>
                      <a:pt x="288" y="1056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9"/>
              <p:cNvSpPr/>
              <p:nvPr/>
            </p:nvSpPr>
            <p:spPr>
              <a:xfrm>
                <a:off x="119160" y="203760"/>
                <a:ext cx="39960" cy="72000"/>
              </a:xfrm>
              <a:custGeom>
                <a:avLst/>
                <a:gdLst/>
                <a:ahLst/>
                <a:rect l="l" t="t" r="r" b="b"/>
                <a:pathLst>
                  <a:path w="206" h="369">
                    <a:moveTo>
                      <a:pt x="200" y="0"/>
                    </a:moveTo>
                    <a:cubicBezTo>
                      <a:pt x="181" y="105"/>
                      <a:pt x="206" y="1"/>
                      <a:pt x="178" y="66"/>
                    </a:cubicBezTo>
                    <a:cubicBezTo>
                      <a:pt x="166" y="94"/>
                      <a:pt x="163" y="125"/>
                      <a:pt x="155" y="155"/>
                    </a:cubicBezTo>
                    <a:cubicBezTo>
                      <a:pt x="145" y="195"/>
                      <a:pt x="122" y="243"/>
                      <a:pt x="104" y="280"/>
                    </a:cubicBezTo>
                    <a:cubicBezTo>
                      <a:pt x="97" y="295"/>
                      <a:pt x="57" y="344"/>
                      <a:pt x="45" y="354"/>
                    </a:cubicBezTo>
                    <a:cubicBezTo>
                      <a:pt x="33" y="364"/>
                      <a:pt x="0" y="369"/>
                      <a:pt x="0" y="36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0"/>
              <p:cNvSpPr/>
              <p:nvPr/>
            </p:nvSpPr>
            <p:spPr>
              <a:xfrm>
                <a:off x="159840" y="1792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0" y="52"/>
                    </a:moveTo>
                    <a:cubicBezTo>
                      <a:pt x="3" y="45"/>
                      <a:pt x="0" y="32"/>
                      <a:pt x="8" y="30"/>
                    </a:cubicBezTo>
                    <a:cubicBezTo>
                      <a:pt x="45" y="21"/>
                      <a:pt x="20" y="78"/>
                      <a:pt x="37" y="23"/>
                    </a:cubicBezTo>
                    <a:cubicBezTo>
                      <a:pt x="32" y="15"/>
                      <a:pt x="32" y="0"/>
                      <a:pt x="23" y="0"/>
                    </a:cubicBezTo>
                    <a:cubicBezTo>
                      <a:pt x="15" y="0"/>
                      <a:pt x="25" y="17"/>
                      <a:pt x="30" y="23"/>
                    </a:cubicBezTo>
                    <a:cubicBezTo>
                      <a:pt x="42" y="38"/>
                      <a:pt x="82" y="44"/>
                      <a:pt x="23" y="30"/>
                    </a:cubicBezTo>
                    <a:cubicBezTo>
                      <a:pt x="23" y="30"/>
                      <a:pt x="8" y="45"/>
                      <a:pt x="0" y="52"/>
                    </a:cubicBez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81"/>
              <p:cNvSpPr/>
              <p:nvPr/>
            </p:nvSpPr>
            <p:spPr>
              <a:xfrm>
                <a:off x="156600" y="186480"/>
                <a:ext cx="80280" cy="87840"/>
              </a:xfrm>
              <a:custGeom>
                <a:avLst/>
                <a:gdLst/>
                <a:ahLst/>
                <a:rect l="l" t="t" r="r" b="b"/>
                <a:pathLst>
                  <a:path w="413" h="451">
                    <a:moveTo>
                      <a:pt x="154" y="67"/>
                    </a:moveTo>
                    <a:cubicBezTo>
                      <a:pt x="127" y="122"/>
                      <a:pt x="103" y="180"/>
                      <a:pt x="81" y="237"/>
                    </a:cubicBezTo>
                    <a:cubicBezTo>
                      <a:pt x="64" y="282"/>
                      <a:pt x="56" y="322"/>
                      <a:pt x="29" y="362"/>
                    </a:cubicBezTo>
                    <a:cubicBezTo>
                      <a:pt x="27" y="374"/>
                      <a:pt x="26" y="387"/>
                      <a:pt x="22" y="399"/>
                    </a:cubicBezTo>
                    <a:cubicBezTo>
                      <a:pt x="19" y="407"/>
                      <a:pt x="10" y="429"/>
                      <a:pt x="7" y="421"/>
                    </a:cubicBezTo>
                    <a:cubicBezTo>
                      <a:pt x="0" y="402"/>
                      <a:pt x="33" y="326"/>
                      <a:pt x="36" y="318"/>
                    </a:cubicBezTo>
                    <a:cubicBezTo>
                      <a:pt x="50" y="281"/>
                      <a:pt x="64" y="251"/>
                      <a:pt x="81" y="215"/>
                    </a:cubicBezTo>
                    <a:cubicBezTo>
                      <a:pt x="114" y="146"/>
                      <a:pt x="126" y="96"/>
                      <a:pt x="191" y="52"/>
                    </a:cubicBezTo>
                    <a:cubicBezTo>
                      <a:pt x="226" y="103"/>
                      <a:pt x="211" y="71"/>
                      <a:pt x="199" y="185"/>
                    </a:cubicBezTo>
                    <a:cubicBezTo>
                      <a:pt x="198" y="198"/>
                      <a:pt x="194" y="210"/>
                      <a:pt x="191" y="222"/>
                    </a:cubicBezTo>
                    <a:cubicBezTo>
                      <a:pt x="189" y="232"/>
                      <a:pt x="180" y="260"/>
                      <a:pt x="184" y="251"/>
                    </a:cubicBezTo>
                    <a:cubicBezTo>
                      <a:pt x="217" y="172"/>
                      <a:pt x="258" y="105"/>
                      <a:pt x="310" y="37"/>
                    </a:cubicBezTo>
                    <a:cubicBezTo>
                      <a:pt x="321" y="3"/>
                      <a:pt x="329" y="12"/>
                      <a:pt x="361" y="0"/>
                    </a:cubicBezTo>
                    <a:cubicBezTo>
                      <a:pt x="412" y="14"/>
                      <a:pt x="404" y="35"/>
                      <a:pt x="413" y="82"/>
                    </a:cubicBezTo>
                    <a:cubicBezTo>
                      <a:pt x="405" y="154"/>
                      <a:pt x="392" y="324"/>
                      <a:pt x="346" y="392"/>
                    </a:cubicBezTo>
                    <a:cubicBezTo>
                      <a:pt x="342" y="410"/>
                      <a:pt x="332" y="432"/>
                      <a:pt x="332" y="45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82"/>
              <p:cNvSpPr/>
              <p:nvPr/>
            </p:nvSpPr>
            <p:spPr>
              <a:xfrm>
                <a:off x="247320" y="173160"/>
                <a:ext cx="114120" cy="93960"/>
              </a:xfrm>
              <a:custGeom>
                <a:avLst/>
                <a:gdLst/>
                <a:ahLst/>
                <a:rect l="l" t="t" r="r" b="b"/>
                <a:pathLst>
                  <a:path w="586" h="482">
                    <a:moveTo>
                      <a:pt x="143" y="104"/>
                    </a:moveTo>
                    <a:cubicBezTo>
                      <a:pt x="190" y="123"/>
                      <a:pt x="198" y="143"/>
                      <a:pt x="224" y="186"/>
                    </a:cubicBezTo>
                    <a:cubicBezTo>
                      <a:pt x="237" y="266"/>
                      <a:pt x="248" y="371"/>
                      <a:pt x="173" y="422"/>
                    </a:cubicBezTo>
                    <a:cubicBezTo>
                      <a:pt x="132" y="482"/>
                      <a:pt x="119" y="464"/>
                      <a:pt x="40" y="451"/>
                    </a:cubicBezTo>
                    <a:cubicBezTo>
                      <a:pt x="0" y="373"/>
                      <a:pt x="8" y="232"/>
                      <a:pt x="77" y="163"/>
                    </a:cubicBezTo>
                    <a:cubicBezTo>
                      <a:pt x="102" y="138"/>
                      <a:pt x="133" y="129"/>
                      <a:pt x="165" y="119"/>
                    </a:cubicBezTo>
                    <a:cubicBezTo>
                      <a:pt x="230" y="127"/>
                      <a:pt x="242" y="143"/>
                      <a:pt x="306" y="134"/>
                    </a:cubicBezTo>
                    <a:cubicBezTo>
                      <a:pt x="359" y="81"/>
                      <a:pt x="338" y="107"/>
                      <a:pt x="372" y="60"/>
                    </a:cubicBezTo>
                    <a:cubicBezTo>
                      <a:pt x="375" y="50"/>
                      <a:pt x="377" y="40"/>
                      <a:pt x="380" y="30"/>
                    </a:cubicBezTo>
                    <a:cubicBezTo>
                      <a:pt x="382" y="23"/>
                      <a:pt x="386" y="0"/>
                      <a:pt x="387" y="8"/>
                    </a:cubicBezTo>
                    <a:cubicBezTo>
                      <a:pt x="392" y="67"/>
                      <a:pt x="391" y="127"/>
                      <a:pt x="394" y="186"/>
                    </a:cubicBezTo>
                    <a:cubicBezTo>
                      <a:pt x="400" y="328"/>
                      <a:pt x="378" y="371"/>
                      <a:pt x="490" y="429"/>
                    </a:cubicBezTo>
                    <a:cubicBezTo>
                      <a:pt x="561" y="422"/>
                      <a:pt x="562" y="436"/>
                      <a:pt x="586" y="38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83"/>
              <p:cNvSpPr/>
              <p:nvPr/>
            </p:nvSpPr>
            <p:spPr>
              <a:xfrm>
                <a:off x="320760" y="153360"/>
                <a:ext cx="19080" cy="47880"/>
              </a:xfrm>
              <a:custGeom>
                <a:avLst/>
                <a:gdLst/>
                <a:ahLst/>
                <a:rect l="l" t="t" r="r" b="b"/>
                <a:pathLst>
                  <a:path w="99" h="246">
                    <a:moveTo>
                      <a:pt x="3" y="0"/>
                    </a:moveTo>
                    <a:cubicBezTo>
                      <a:pt x="11" y="78"/>
                      <a:pt x="0" y="159"/>
                      <a:pt x="18" y="236"/>
                    </a:cubicBezTo>
                    <a:cubicBezTo>
                      <a:pt x="20" y="246"/>
                      <a:pt x="37" y="229"/>
                      <a:pt x="47" y="228"/>
                    </a:cubicBezTo>
                    <a:cubicBezTo>
                      <a:pt x="64" y="226"/>
                      <a:pt x="82" y="228"/>
                      <a:pt x="99" y="228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284"/>
              <p:cNvSpPr/>
              <p:nvPr/>
            </p:nvSpPr>
            <p:spPr>
              <a:xfrm>
                <a:off x="112320" y="104040"/>
                <a:ext cx="511200" cy="276480"/>
              </a:xfrm>
              <a:custGeom>
                <a:avLst/>
                <a:gdLst/>
                <a:ahLst/>
                <a:rect l="l" t="t" r="r" b="b"/>
                <a:pathLst>
                  <a:path w="2622" h="1418">
                    <a:moveTo>
                      <a:pt x="1116" y="0"/>
                    </a:moveTo>
                    <a:cubicBezTo>
                      <a:pt x="1128" y="39"/>
                      <a:pt x="1138" y="100"/>
                      <a:pt x="1153" y="133"/>
                    </a:cubicBezTo>
                    <a:cubicBezTo>
                      <a:pt x="1162" y="152"/>
                      <a:pt x="1179" y="167"/>
                      <a:pt x="1190" y="185"/>
                    </a:cubicBezTo>
                    <a:cubicBezTo>
                      <a:pt x="1232" y="255"/>
                      <a:pt x="1256" y="343"/>
                      <a:pt x="1278" y="421"/>
                    </a:cubicBezTo>
                    <a:cubicBezTo>
                      <a:pt x="1290" y="511"/>
                      <a:pt x="1310" y="594"/>
                      <a:pt x="1337" y="680"/>
                    </a:cubicBezTo>
                    <a:cubicBezTo>
                      <a:pt x="1325" y="897"/>
                      <a:pt x="1340" y="806"/>
                      <a:pt x="1315" y="739"/>
                    </a:cubicBezTo>
                    <a:cubicBezTo>
                      <a:pt x="1321" y="639"/>
                      <a:pt x="1307" y="581"/>
                      <a:pt x="1389" y="525"/>
                    </a:cubicBezTo>
                    <a:cubicBezTo>
                      <a:pt x="1404" y="530"/>
                      <a:pt x="1421" y="530"/>
                      <a:pt x="1433" y="540"/>
                    </a:cubicBezTo>
                    <a:cubicBezTo>
                      <a:pt x="1447" y="551"/>
                      <a:pt x="1441" y="575"/>
                      <a:pt x="1448" y="591"/>
                    </a:cubicBezTo>
                    <a:cubicBezTo>
                      <a:pt x="1458" y="615"/>
                      <a:pt x="1472" y="636"/>
                      <a:pt x="1485" y="658"/>
                    </a:cubicBezTo>
                    <a:cubicBezTo>
                      <a:pt x="1489" y="674"/>
                      <a:pt x="1522" y="773"/>
                      <a:pt x="1529" y="783"/>
                    </a:cubicBezTo>
                    <a:cubicBezTo>
                      <a:pt x="1534" y="790"/>
                      <a:pt x="1537" y="799"/>
                      <a:pt x="1544" y="805"/>
                    </a:cubicBezTo>
                    <a:cubicBezTo>
                      <a:pt x="1557" y="817"/>
                      <a:pt x="1588" y="835"/>
                      <a:pt x="1588" y="835"/>
                    </a:cubicBezTo>
                    <a:cubicBezTo>
                      <a:pt x="1655" y="781"/>
                      <a:pt x="1671" y="717"/>
                      <a:pt x="1684" y="636"/>
                    </a:cubicBezTo>
                    <a:cubicBezTo>
                      <a:pt x="1710" y="687"/>
                      <a:pt x="1715" y="741"/>
                      <a:pt x="1766" y="776"/>
                    </a:cubicBezTo>
                    <a:cubicBezTo>
                      <a:pt x="1787" y="810"/>
                      <a:pt x="1796" y="808"/>
                      <a:pt x="1832" y="791"/>
                    </a:cubicBezTo>
                    <a:cubicBezTo>
                      <a:pt x="1848" y="766"/>
                      <a:pt x="1852" y="742"/>
                      <a:pt x="1869" y="717"/>
                    </a:cubicBezTo>
                    <a:cubicBezTo>
                      <a:pt x="1880" y="682"/>
                      <a:pt x="1869" y="635"/>
                      <a:pt x="1899" y="695"/>
                    </a:cubicBezTo>
                    <a:cubicBezTo>
                      <a:pt x="1908" y="755"/>
                      <a:pt x="1915" y="813"/>
                      <a:pt x="1928" y="872"/>
                    </a:cubicBezTo>
                    <a:cubicBezTo>
                      <a:pt x="1950" y="1079"/>
                      <a:pt x="1984" y="1366"/>
                      <a:pt x="1736" y="1418"/>
                    </a:cubicBezTo>
                    <a:cubicBezTo>
                      <a:pt x="1594" y="1403"/>
                      <a:pt x="1502" y="1413"/>
                      <a:pt x="1404" y="1315"/>
                    </a:cubicBezTo>
                    <a:cubicBezTo>
                      <a:pt x="1409" y="1288"/>
                      <a:pt x="1407" y="1259"/>
                      <a:pt x="1419" y="1234"/>
                    </a:cubicBezTo>
                    <a:cubicBezTo>
                      <a:pt x="1428" y="1217"/>
                      <a:pt x="1446" y="1206"/>
                      <a:pt x="1463" y="1197"/>
                    </a:cubicBezTo>
                    <a:cubicBezTo>
                      <a:pt x="1654" y="1090"/>
                      <a:pt x="1563" y="1143"/>
                      <a:pt x="1744" y="1101"/>
                    </a:cubicBezTo>
                    <a:cubicBezTo>
                      <a:pt x="1888" y="1067"/>
                      <a:pt x="2017" y="1044"/>
                      <a:pt x="2164" y="1027"/>
                    </a:cubicBezTo>
                    <a:cubicBezTo>
                      <a:pt x="2196" y="1023"/>
                      <a:pt x="2228" y="1024"/>
                      <a:pt x="2260" y="1020"/>
                    </a:cubicBezTo>
                    <a:cubicBezTo>
                      <a:pt x="2327" y="1012"/>
                      <a:pt x="2460" y="990"/>
                      <a:pt x="2460" y="990"/>
                    </a:cubicBezTo>
                    <a:cubicBezTo>
                      <a:pt x="2514" y="963"/>
                      <a:pt x="2570" y="940"/>
                      <a:pt x="2622" y="909"/>
                    </a:cubicBezTo>
                    <a:cubicBezTo>
                      <a:pt x="2566" y="871"/>
                      <a:pt x="2445" y="926"/>
                      <a:pt x="2386" y="938"/>
                    </a:cubicBezTo>
                    <a:cubicBezTo>
                      <a:pt x="2230" y="969"/>
                      <a:pt x="2070" y="996"/>
                      <a:pt x="1913" y="1020"/>
                    </a:cubicBezTo>
                    <a:cubicBezTo>
                      <a:pt x="1408" y="1098"/>
                      <a:pt x="886" y="1107"/>
                      <a:pt x="377" y="1116"/>
                    </a:cubicBezTo>
                    <a:cubicBezTo>
                      <a:pt x="260" y="1122"/>
                      <a:pt x="130" y="1113"/>
                      <a:pt x="16" y="1138"/>
                    </a:cubicBezTo>
                    <a:cubicBezTo>
                      <a:pt x="0" y="1162"/>
                      <a:pt x="1" y="1151"/>
                      <a:pt x="1" y="1167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285"/>
            <p:cNvGrpSpPr/>
            <p:nvPr/>
          </p:nvGrpSpPr>
          <p:grpSpPr>
            <a:xfrm>
              <a:off x="525600" y="93600"/>
              <a:ext cx="451800" cy="239040"/>
              <a:chOff x="525600" y="93600"/>
              <a:chExt cx="451800" cy="239040"/>
            </a:xfrm>
          </p:grpSpPr>
          <p:sp>
            <p:nvSpPr>
              <p:cNvPr id="258" name="Freeform 286"/>
              <p:cNvSpPr/>
              <p:nvPr/>
            </p:nvSpPr>
            <p:spPr>
              <a:xfrm>
                <a:off x="525600" y="93600"/>
                <a:ext cx="232200" cy="239040"/>
              </a:xfrm>
              <a:custGeom>
                <a:avLst/>
                <a:gdLst/>
                <a:ahLst/>
                <a:rect l="l" t="t" r="r" b="b"/>
                <a:pathLst>
                  <a:path w="1676" h="1524">
                    <a:moveTo>
                      <a:pt x="0" y="1524"/>
                    </a:moveTo>
                    <a:cubicBezTo>
                      <a:pt x="124" y="1400"/>
                      <a:pt x="223" y="1254"/>
                      <a:pt x="310" y="1103"/>
                    </a:cubicBezTo>
                    <a:cubicBezTo>
                      <a:pt x="475" y="818"/>
                      <a:pt x="607" y="561"/>
                      <a:pt x="679" y="239"/>
                    </a:cubicBezTo>
                    <a:cubicBezTo>
                      <a:pt x="685" y="175"/>
                      <a:pt x="691" y="117"/>
                      <a:pt x="709" y="55"/>
                    </a:cubicBezTo>
                    <a:cubicBezTo>
                      <a:pt x="711" y="38"/>
                      <a:pt x="699" y="0"/>
                      <a:pt x="716" y="3"/>
                    </a:cubicBezTo>
                    <a:cubicBezTo>
                      <a:pt x="740" y="8"/>
                      <a:pt x="758" y="118"/>
                      <a:pt x="760" y="129"/>
                    </a:cubicBezTo>
                    <a:cubicBezTo>
                      <a:pt x="786" y="285"/>
                      <a:pt x="825" y="421"/>
                      <a:pt x="893" y="564"/>
                    </a:cubicBezTo>
                    <a:cubicBezTo>
                      <a:pt x="990" y="769"/>
                      <a:pt x="1088" y="980"/>
                      <a:pt x="1226" y="1162"/>
                    </a:cubicBezTo>
                    <a:cubicBezTo>
                      <a:pt x="1262" y="1210"/>
                      <a:pt x="1288" y="1267"/>
                      <a:pt x="1336" y="1303"/>
                    </a:cubicBezTo>
                    <a:cubicBezTo>
                      <a:pt x="1411" y="1359"/>
                      <a:pt x="1481" y="1419"/>
                      <a:pt x="1558" y="1473"/>
                    </a:cubicBezTo>
                    <a:cubicBezTo>
                      <a:pt x="1592" y="1497"/>
                      <a:pt x="1638" y="1506"/>
                      <a:pt x="1676" y="152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87"/>
              <p:cNvSpPr/>
              <p:nvPr/>
            </p:nvSpPr>
            <p:spPr>
              <a:xfrm>
                <a:off x="560160" y="223920"/>
                <a:ext cx="149400" cy="7920"/>
              </a:xfrm>
              <a:custGeom>
                <a:avLst/>
                <a:gdLst/>
                <a:ahLst/>
                <a:rect l="l" t="t" r="r" b="b"/>
                <a:pathLst>
                  <a:path w="1078" h="52">
                    <a:moveTo>
                      <a:pt x="1078" y="52"/>
                    </a:moveTo>
                    <a:cubicBezTo>
                      <a:pt x="917" y="40"/>
                      <a:pt x="764" y="19"/>
                      <a:pt x="605" y="0"/>
                    </a:cubicBezTo>
                    <a:cubicBezTo>
                      <a:pt x="404" y="3"/>
                      <a:pt x="201" y="15"/>
                      <a:pt x="0" y="1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88"/>
              <p:cNvSpPr/>
              <p:nvPr/>
            </p:nvSpPr>
            <p:spPr>
              <a:xfrm>
                <a:off x="718920" y="238680"/>
                <a:ext cx="52920" cy="77400"/>
              </a:xfrm>
              <a:custGeom>
                <a:avLst/>
                <a:gdLst/>
                <a:ahLst/>
                <a:rect l="l" t="t" r="r" b="b"/>
                <a:pathLst>
                  <a:path w="384" h="495">
                    <a:moveTo>
                      <a:pt x="0" y="74"/>
                    </a:moveTo>
                    <a:cubicBezTo>
                      <a:pt x="17" y="63"/>
                      <a:pt x="37" y="57"/>
                      <a:pt x="52" y="44"/>
                    </a:cubicBezTo>
                    <a:cubicBezTo>
                      <a:pt x="67" y="32"/>
                      <a:pt x="75" y="14"/>
                      <a:pt x="89" y="0"/>
                    </a:cubicBezTo>
                    <a:cubicBezTo>
                      <a:pt x="116" y="117"/>
                      <a:pt x="100" y="245"/>
                      <a:pt x="96" y="362"/>
                    </a:cubicBezTo>
                    <a:cubicBezTo>
                      <a:pt x="69" y="246"/>
                      <a:pt x="81" y="134"/>
                      <a:pt x="163" y="52"/>
                    </a:cubicBezTo>
                    <a:cubicBezTo>
                      <a:pt x="288" y="63"/>
                      <a:pt x="211" y="48"/>
                      <a:pt x="281" y="96"/>
                    </a:cubicBezTo>
                    <a:cubicBezTo>
                      <a:pt x="291" y="128"/>
                      <a:pt x="312" y="155"/>
                      <a:pt x="325" y="185"/>
                    </a:cubicBezTo>
                    <a:cubicBezTo>
                      <a:pt x="343" y="226"/>
                      <a:pt x="353" y="269"/>
                      <a:pt x="370" y="310"/>
                    </a:cubicBezTo>
                    <a:cubicBezTo>
                      <a:pt x="377" y="486"/>
                      <a:pt x="353" y="429"/>
                      <a:pt x="384" y="49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89"/>
              <p:cNvSpPr/>
              <p:nvPr/>
            </p:nvSpPr>
            <p:spPr>
              <a:xfrm>
                <a:off x="782280" y="240840"/>
                <a:ext cx="43920" cy="73080"/>
              </a:xfrm>
              <a:custGeom>
                <a:avLst/>
                <a:gdLst/>
                <a:ahLst/>
                <a:rect l="l" t="t" r="r" b="b"/>
                <a:pathLst>
                  <a:path w="318" h="466">
                    <a:moveTo>
                      <a:pt x="318" y="55"/>
                    </a:moveTo>
                    <a:cubicBezTo>
                      <a:pt x="298" y="45"/>
                      <a:pt x="279" y="35"/>
                      <a:pt x="259" y="25"/>
                    </a:cubicBezTo>
                    <a:cubicBezTo>
                      <a:pt x="239" y="15"/>
                      <a:pt x="192" y="10"/>
                      <a:pt x="192" y="10"/>
                    </a:cubicBezTo>
                    <a:cubicBezTo>
                      <a:pt x="80" y="19"/>
                      <a:pt x="82" y="0"/>
                      <a:pt x="30" y="77"/>
                    </a:cubicBezTo>
                    <a:cubicBezTo>
                      <a:pt x="35" y="104"/>
                      <a:pt x="38" y="132"/>
                      <a:pt x="45" y="158"/>
                    </a:cubicBezTo>
                    <a:cubicBezTo>
                      <a:pt x="59" y="206"/>
                      <a:pt x="137" y="216"/>
                      <a:pt x="177" y="224"/>
                    </a:cubicBezTo>
                    <a:cubicBezTo>
                      <a:pt x="203" y="241"/>
                      <a:pt x="220" y="258"/>
                      <a:pt x="237" y="284"/>
                    </a:cubicBezTo>
                    <a:cubicBezTo>
                      <a:pt x="272" y="394"/>
                      <a:pt x="199" y="432"/>
                      <a:pt x="111" y="453"/>
                    </a:cubicBezTo>
                    <a:cubicBezTo>
                      <a:pt x="66" y="449"/>
                      <a:pt x="0" y="466"/>
                      <a:pt x="0" y="40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90"/>
              <p:cNvSpPr/>
              <p:nvPr/>
            </p:nvSpPr>
            <p:spPr>
              <a:xfrm>
                <a:off x="837720" y="239040"/>
                <a:ext cx="139680" cy="81360"/>
              </a:xfrm>
              <a:custGeom>
                <a:avLst/>
                <a:gdLst/>
                <a:ahLst/>
                <a:rect l="l" t="t" r="r" b="b"/>
                <a:pathLst>
                  <a:path w="1008" h="520">
                    <a:moveTo>
                      <a:pt x="48" y="216"/>
                    </a:moveTo>
                    <a:cubicBezTo>
                      <a:pt x="132" y="232"/>
                      <a:pt x="216" y="248"/>
                      <a:pt x="240" y="216"/>
                    </a:cubicBezTo>
                    <a:cubicBezTo>
                      <a:pt x="264" y="184"/>
                      <a:pt x="224" y="48"/>
                      <a:pt x="192" y="24"/>
                    </a:cubicBezTo>
                    <a:cubicBezTo>
                      <a:pt x="160" y="0"/>
                      <a:pt x="80" y="32"/>
                      <a:pt x="48" y="72"/>
                    </a:cubicBezTo>
                    <a:cubicBezTo>
                      <a:pt x="16" y="112"/>
                      <a:pt x="0" y="200"/>
                      <a:pt x="0" y="264"/>
                    </a:cubicBezTo>
                    <a:cubicBezTo>
                      <a:pt x="0" y="328"/>
                      <a:pt x="0" y="416"/>
                      <a:pt x="48" y="456"/>
                    </a:cubicBezTo>
                    <a:cubicBezTo>
                      <a:pt x="96" y="496"/>
                      <a:pt x="192" y="520"/>
                      <a:pt x="288" y="504"/>
                    </a:cubicBezTo>
                    <a:cubicBezTo>
                      <a:pt x="384" y="488"/>
                      <a:pt x="504" y="360"/>
                      <a:pt x="624" y="360"/>
                    </a:cubicBezTo>
                    <a:cubicBezTo>
                      <a:pt x="744" y="360"/>
                      <a:pt x="876" y="432"/>
                      <a:pt x="1008" y="50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91"/>
              <p:cNvSpPr/>
              <p:nvPr/>
            </p:nvSpPr>
            <p:spPr>
              <a:xfrm>
                <a:off x="890280" y="168120"/>
                <a:ext cx="29160" cy="123120"/>
              </a:xfrm>
              <a:custGeom>
                <a:avLst/>
                <a:gdLst/>
                <a:ahLst/>
                <a:rect l="l" t="t" r="r" b="b"/>
                <a:pathLst>
                  <a:path w="212" h="786">
                    <a:moveTo>
                      <a:pt x="12" y="0"/>
                    </a:moveTo>
                    <a:cubicBezTo>
                      <a:pt x="10" y="256"/>
                      <a:pt x="0" y="512"/>
                      <a:pt x="5" y="768"/>
                    </a:cubicBezTo>
                    <a:cubicBezTo>
                      <a:pt x="5" y="786"/>
                      <a:pt x="40" y="759"/>
                      <a:pt x="57" y="753"/>
                    </a:cubicBezTo>
                    <a:cubicBezTo>
                      <a:pt x="104" y="738"/>
                      <a:pt x="162" y="701"/>
                      <a:pt x="212" y="70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92"/>
              <p:cNvSpPr/>
              <p:nvPr/>
            </p:nvSpPr>
            <p:spPr>
              <a:xfrm>
                <a:off x="936360" y="170280"/>
                <a:ext cx="26280" cy="122760"/>
              </a:xfrm>
              <a:custGeom>
                <a:avLst/>
                <a:gdLst/>
                <a:ahLst/>
                <a:rect l="l" t="t" r="r" b="b"/>
                <a:pathLst>
                  <a:path w="192" h="783">
                    <a:moveTo>
                      <a:pt x="20" y="0"/>
                    </a:moveTo>
                    <a:cubicBezTo>
                      <a:pt x="35" y="236"/>
                      <a:pt x="0" y="474"/>
                      <a:pt x="20" y="709"/>
                    </a:cubicBezTo>
                    <a:cubicBezTo>
                      <a:pt x="22" y="729"/>
                      <a:pt x="60" y="717"/>
                      <a:pt x="79" y="724"/>
                    </a:cubicBezTo>
                    <a:cubicBezTo>
                      <a:pt x="101" y="732"/>
                      <a:pt x="146" y="746"/>
                      <a:pt x="146" y="746"/>
                    </a:cubicBezTo>
                    <a:cubicBezTo>
                      <a:pt x="153" y="753"/>
                      <a:pt x="159" y="762"/>
                      <a:pt x="168" y="768"/>
                    </a:cubicBezTo>
                    <a:cubicBezTo>
                      <a:pt x="174" y="772"/>
                      <a:pt x="184" y="772"/>
                      <a:pt x="190" y="776"/>
                    </a:cubicBezTo>
                    <a:cubicBezTo>
                      <a:pt x="192" y="777"/>
                      <a:pt x="190" y="781"/>
                      <a:pt x="190" y="783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5" name="Picture 293" descr="Mythiot Powerpoints"/>
          <p:cNvPicPr/>
          <p:nvPr/>
        </p:nvPicPr>
        <p:blipFill>
          <a:blip r:embed="rId1"/>
          <a:stretch/>
        </p:blipFill>
        <p:spPr>
          <a:xfrm>
            <a:off x="8489880" y="76320"/>
            <a:ext cx="5778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294"/>
          <p:cNvSpPr/>
          <p:nvPr/>
        </p:nvSpPr>
        <p:spPr>
          <a:xfrm>
            <a:off x="1676520" y="90360"/>
            <a:ext cx="6095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Sunrise: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Drawn in Microsoft Office Powerpoint 2003,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by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Timothy Anse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"/>
          <p:cNvSpPr/>
          <p:nvPr/>
        </p:nvSpPr>
        <p:spPr>
          <a:xfrm>
            <a:off x="2305440" y="12034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手工绘制风景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05"/>
          <p:cNvSpPr/>
          <p:nvPr/>
        </p:nvSpPr>
        <p:spPr>
          <a:xfrm>
            <a:off x="6219720" y="4836960"/>
            <a:ext cx="3353040" cy="809640"/>
          </a:xfrm>
          <a:custGeom>
            <a:avLst/>
            <a:gdLst/>
            <a:ahLst/>
            <a:rect l="l" t="t" r="r" b="b"/>
            <a:pathLst>
              <a:path w="2112" h="510">
                <a:moveTo>
                  <a:pt x="2054" y="76"/>
                </a:moveTo>
                <a:cubicBezTo>
                  <a:pt x="1932" y="86"/>
                  <a:pt x="1904" y="89"/>
                  <a:pt x="1759" y="83"/>
                </a:cubicBezTo>
                <a:cubicBezTo>
                  <a:pt x="1694" y="68"/>
                  <a:pt x="1633" y="57"/>
                  <a:pt x="1569" y="38"/>
                </a:cubicBezTo>
                <a:cubicBezTo>
                  <a:pt x="1517" y="2"/>
                  <a:pt x="1541" y="12"/>
                  <a:pt x="1501" y="0"/>
                </a:cubicBezTo>
                <a:cubicBezTo>
                  <a:pt x="1452" y="6"/>
                  <a:pt x="1404" y="14"/>
                  <a:pt x="1357" y="30"/>
                </a:cubicBezTo>
                <a:cubicBezTo>
                  <a:pt x="1324" y="55"/>
                  <a:pt x="1290" y="86"/>
                  <a:pt x="1251" y="98"/>
                </a:cubicBezTo>
                <a:cubicBezTo>
                  <a:pt x="1180" y="94"/>
                  <a:pt x="1066" y="84"/>
                  <a:pt x="993" y="98"/>
                </a:cubicBezTo>
                <a:cubicBezTo>
                  <a:pt x="973" y="102"/>
                  <a:pt x="959" y="122"/>
                  <a:pt x="940" y="129"/>
                </a:cubicBezTo>
                <a:cubicBezTo>
                  <a:pt x="839" y="122"/>
                  <a:pt x="737" y="113"/>
                  <a:pt x="637" y="136"/>
                </a:cubicBezTo>
                <a:cubicBezTo>
                  <a:pt x="558" y="130"/>
                  <a:pt x="518" y="121"/>
                  <a:pt x="440" y="129"/>
                </a:cubicBezTo>
                <a:cubicBezTo>
                  <a:pt x="396" y="143"/>
                  <a:pt x="350" y="179"/>
                  <a:pt x="303" y="182"/>
                </a:cubicBezTo>
                <a:cubicBezTo>
                  <a:pt x="268" y="184"/>
                  <a:pt x="232" y="187"/>
                  <a:pt x="197" y="189"/>
                </a:cubicBezTo>
                <a:cubicBezTo>
                  <a:pt x="166" y="200"/>
                  <a:pt x="134" y="217"/>
                  <a:pt x="106" y="235"/>
                </a:cubicBezTo>
                <a:cubicBezTo>
                  <a:pt x="81" y="271"/>
                  <a:pt x="36" y="279"/>
                  <a:pt x="0" y="303"/>
                </a:cubicBezTo>
                <a:cubicBezTo>
                  <a:pt x="317" y="510"/>
                  <a:pt x="26" y="326"/>
                  <a:pt x="1077" y="326"/>
                </a:cubicBezTo>
                <a:cubicBezTo>
                  <a:pt x="1385" y="326"/>
                  <a:pt x="1693" y="321"/>
                  <a:pt x="2001" y="318"/>
                </a:cubicBezTo>
                <a:cubicBezTo>
                  <a:pt x="2112" y="295"/>
                  <a:pt x="2054" y="201"/>
                  <a:pt x="2054" y="76"/>
                </a:cubicBezTo>
                <a:close/>
              </a:path>
            </a:pathLst>
          </a:custGeom>
          <a:gradFill rotWithShape="0">
            <a:gsLst>
              <a:gs pos="0">
                <a:srgbClr val="fdb68b"/>
              </a:gs>
              <a:gs pos="100000">
                <a:srgbClr val="fed0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06"/>
          <p:cNvSpPr/>
          <p:nvPr/>
        </p:nvSpPr>
        <p:spPr>
          <a:xfrm>
            <a:off x="6222960" y="4876920"/>
            <a:ext cx="3352680" cy="809640"/>
          </a:xfrm>
          <a:custGeom>
            <a:avLst/>
            <a:gdLst/>
            <a:ahLst/>
            <a:rect l="l" t="t" r="r" b="b"/>
            <a:pathLst>
              <a:path w="2112" h="510">
                <a:moveTo>
                  <a:pt x="2054" y="76"/>
                </a:moveTo>
                <a:cubicBezTo>
                  <a:pt x="1932" y="86"/>
                  <a:pt x="1904" y="89"/>
                  <a:pt x="1759" y="83"/>
                </a:cubicBezTo>
                <a:cubicBezTo>
                  <a:pt x="1694" y="68"/>
                  <a:pt x="1633" y="57"/>
                  <a:pt x="1569" y="38"/>
                </a:cubicBezTo>
                <a:cubicBezTo>
                  <a:pt x="1517" y="2"/>
                  <a:pt x="1541" y="12"/>
                  <a:pt x="1501" y="0"/>
                </a:cubicBezTo>
                <a:cubicBezTo>
                  <a:pt x="1452" y="6"/>
                  <a:pt x="1404" y="14"/>
                  <a:pt x="1357" y="30"/>
                </a:cubicBezTo>
                <a:cubicBezTo>
                  <a:pt x="1324" y="55"/>
                  <a:pt x="1290" y="86"/>
                  <a:pt x="1251" y="98"/>
                </a:cubicBezTo>
                <a:cubicBezTo>
                  <a:pt x="1180" y="94"/>
                  <a:pt x="1066" y="84"/>
                  <a:pt x="993" y="98"/>
                </a:cubicBezTo>
                <a:cubicBezTo>
                  <a:pt x="973" y="102"/>
                  <a:pt x="959" y="122"/>
                  <a:pt x="940" y="129"/>
                </a:cubicBezTo>
                <a:cubicBezTo>
                  <a:pt x="839" y="122"/>
                  <a:pt x="737" y="113"/>
                  <a:pt x="637" y="136"/>
                </a:cubicBezTo>
                <a:cubicBezTo>
                  <a:pt x="558" y="130"/>
                  <a:pt x="518" y="121"/>
                  <a:pt x="440" y="129"/>
                </a:cubicBezTo>
                <a:cubicBezTo>
                  <a:pt x="396" y="143"/>
                  <a:pt x="350" y="179"/>
                  <a:pt x="303" y="182"/>
                </a:cubicBezTo>
                <a:cubicBezTo>
                  <a:pt x="268" y="184"/>
                  <a:pt x="232" y="187"/>
                  <a:pt x="197" y="189"/>
                </a:cubicBezTo>
                <a:cubicBezTo>
                  <a:pt x="166" y="200"/>
                  <a:pt x="134" y="217"/>
                  <a:pt x="106" y="235"/>
                </a:cubicBezTo>
                <a:cubicBezTo>
                  <a:pt x="81" y="271"/>
                  <a:pt x="36" y="279"/>
                  <a:pt x="0" y="303"/>
                </a:cubicBezTo>
                <a:cubicBezTo>
                  <a:pt x="317" y="510"/>
                  <a:pt x="26" y="326"/>
                  <a:pt x="1077" y="326"/>
                </a:cubicBezTo>
                <a:cubicBezTo>
                  <a:pt x="1385" y="326"/>
                  <a:pt x="1693" y="321"/>
                  <a:pt x="2001" y="318"/>
                </a:cubicBezTo>
                <a:cubicBezTo>
                  <a:pt x="2112" y="295"/>
                  <a:pt x="2054" y="201"/>
                  <a:pt x="2054" y="76"/>
                </a:cubicBezTo>
                <a:close/>
              </a:path>
            </a:pathLst>
          </a:custGeom>
          <a:solidFill>
            <a:srgbClr val="80808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08"/>
          <p:cNvSpPr/>
          <p:nvPr/>
        </p:nvSpPr>
        <p:spPr>
          <a:xfrm>
            <a:off x="-325440" y="2970360"/>
            <a:ext cx="3405240" cy="2744640"/>
          </a:xfrm>
          <a:custGeom>
            <a:avLst/>
            <a:gdLst/>
            <a:ahLst/>
            <a:rect l="l" t="t" r="r" b="b"/>
            <a:pathLst>
              <a:path w="2145" h="1729">
                <a:moveTo>
                  <a:pt x="2145" y="1478"/>
                </a:moveTo>
                <a:cubicBezTo>
                  <a:pt x="2100" y="1462"/>
                  <a:pt x="2084" y="1425"/>
                  <a:pt x="2054" y="1394"/>
                </a:cubicBezTo>
                <a:cubicBezTo>
                  <a:pt x="2017" y="1356"/>
                  <a:pt x="2046" y="1401"/>
                  <a:pt x="2016" y="1364"/>
                </a:cubicBezTo>
                <a:cubicBezTo>
                  <a:pt x="1985" y="1326"/>
                  <a:pt x="2019" y="1353"/>
                  <a:pt x="1978" y="1326"/>
                </a:cubicBezTo>
                <a:cubicBezTo>
                  <a:pt x="1958" y="1297"/>
                  <a:pt x="1931" y="1277"/>
                  <a:pt x="1910" y="1250"/>
                </a:cubicBezTo>
                <a:cubicBezTo>
                  <a:pt x="1892" y="1227"/>
                  <a:pt x="1887" y="1198"/>
                  <a:pt x="1872" y="1175"/>
                </a:cubicBezTo>
                <a:cubicBezTo>
                  <a:pt x="1852" y="1145"/>
                  <a:pt x="1808" y="1109"/>
                  <a:pt x="1774" y="1099"/>
                </a:cubicBezTo>
                <a:cubicBezTo>
                  <a:pt x="1763" y="1082"/>
                  <a:pt x="1709" y="1003"/>
                  <a:pt x="1690" y="1000"/>
                </a:cubicBezTo>
                <a:cubicBezTo>
                  <a:pt x="1650" y="993"/>
                  <a:pt x="1609" y="995"/>
                  <a:pt x="1569" y="993"/>
                </a:cubicBezTo>
                <a:cubicBezTo>
                  <a:pt x="1544" y="984"/>
                  <a:pt x="1526" y="971"/>
                  <a:pt x="1501" y="962"/>
                </a:cubicBezTo>
                <a:cubicBezTo>
                  <a:pt x="1463" y="968"/>
                  <a:pt x="1432" y="976"/>
                  <a:pt x="1395" y="985"/>
                </a:cubicBezTo>
                <a:cubicBezTo>
                  <a:pt x="1325" y="979"/>
                  <a:pt x="1261" y="968"/>
                  <a:pt x="1190" y="962"/>
                </a:cubicBezTo>
                <a:cubicBezTo>
                  <a:pt x="1155" y="938"/>
                  <a:pt x="1112" y="905"/>
                  <a:pt x="1084" y="872"/>
                </a:cubicBezTo>
                <a:cubicBezTo>
                  <a:pt x="1063" y="848"/>
                  <a:pt x="1037" y="814"/>
                  <a:pt x="1001" y="811"/>
                </a:cubicBezTo>
                <a:cubicBezTo>
                  <a:pt x="948" y="807"/>
                  <a:pt x="895" y="806"/>
                  <a:pt x="842" y="803"/>
                </a:cubicBezTo>
                <a:cubicBezTo>
                  <a:pt x="800" y="776"/>
                  <a:pt x="797" y="730"/>
                  <a:pt x="758" y="705"/>
                </a:cubicBezTo>
                <a:cubicBezTo>
                  <a:pt x="735" y="658"/>
                  <a:pt x="692" y="640"/>
                  <a:pt x="660" y="599"/>
                </a:cubicBezTo>
                <a:cubicBezTo>
                  <a:pt x="649" y="584"/>
                  <a:pt x="629" y="553"/>
                  <a:pt x="629" y="553"/>
                </a:cubicBezTo>
                <a:cubicBezTo>
                  <a:pt x="618" y="517"/>
                  <a:pt x="623" y="474"/>
                  <a:pt x="607" y="440"/>
                </a:cubicBezTo>
                <a:cubicBezTo>
                  <a:pt x="593" y="411"/>
                  <a:pt x="548" y="388"/>
                  <a:pt x="523" y="371"/>
                </a:cubicBezTo>
                <a:cubicBezTo>
                  <a:pt x="479" y="306"/>
                  <a:pt x="539" y="385"/>
                  <a:pt x="485" y="341"/>
                </a:cubicBezTo>
                <a:cubicBezTo>
                  <a:pt x="478" y="335"/>
                  <a:pt x="476" y="325"/>
                  <a:pt x="470" y="318"/>
                </a:cubicBezTo>
                <a:cubicBezTo>
                  <a:pt x="464" y="312"/>
                  <a:pt x="455" y="308"/>
                  <a:pt x="448" y="303"/>
                </a:cubicBezTo>
                <a:cubicBezTo>
                  <a:pt x="409" y="247"/>
                  <a:pt x="392" y="221"/>
                  <a:pt x="334" y="182"/>
                </a:cubicBezTo>
                <a:cubicBezTo>
                  <a:pt x="319" y="172"/>
                  <a:pt x="299" y="177"/>
                  <a:pt x="281" y="174"/>
                </a:cubicBezTo>
                <a:cubicBezTo>
                  <a:pt x="236" y="160"/>
                  <a:pt x="200" y="124"/>
                  <a:pt x="167" y="91"/>
                </a:cubicBezTo>
                <a:cubicBezTo>
                  <a:pt x="154" y="48"/>
                  <a:pt x="107" y="31"/>
                  <a:pt x="76" y="0"/>
                </a:cubicBezTo>
                <a:cubicBezTo>
                  <a:pt x="67" y="94"/>
                  <a:pt x="55" y="185"/>
                  <a:pt x="46" y="280"/>
                </a:cubicBezTo>
                <a:cubicBezTo>
                  <a:pt x="48" y="530"/>
                  <a:pt x="50" y="781"/>
                  <a:pt x="53" y="1031"/>
                </a:cubicBezTo>
                <a:cubicBezTo>
                  <a:pt x="55" y="1182"/>
                  <a:pt x="0" y="1346"/>
                  <a:pt x="61" y="1485"/>
                </a:cubicBezTo>
                <a:cubicBezTo>
                  <a:pt x="86" y="1543"/>
                  <a:pt x="187" y="1480"/>
                  <a:pt x="250" y="1478"/>
                </a:cubicBezTo>
                <a:cubicBezTo>
                  <a:pt x="1342" y="1493"/>
                  <a:pt x="993" y="1374"/>
                  <a:pt x="1357" y="1501"/>
                </a:cubicBezTo>
                <a:cubicBezTo>
                  <a:pt x="2144" y="1493"/>
                  <a:pt x="2028" y="1729"/>
                  <a:pt x="2145" y="1478"/>
                </a:cubicBezTo>
                <a:close/>
              </a:path>
            </a:pathLst>
          </a:custGeom>
          <a:gradFill rotWithShape="0">
            <a:gsLst>
              <a:gs pos="0">
                <a:srgbClr val="fdb68b"/>
              </a:gs>
              <a:gs pos="100000">
                <a:srgbClr val="fed0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09"/>
          <p:cNvSpPr/>
          <p:nvPr/>
        </p:nvSpPr>
        <p:spPr>
          <a:xfrm>
            <a:off x="-317520" y="3022560"/>
            <a:ext cx="3405240" cy="2745000"/>
          </a:xfrm>
          <a:custGeom>
            <a:avLst/>
            <a:gdLst/>
            <a:ahLst/>
            <a:rect l="l" t="t" r="r" b="b"/>
            <a:pathLst>
              <a:path w="2145" h="1729">
                <a:moveTo>
                  <a:pt x="2145" y="1478"/>
                </a:moveTo>
                <a:cubicBezTo>
                  <a:pt x="2100" y="1462"/>
                  <a:pt x="2084" y="1425"/>
                  <a:pt x="2054" y="1394"/>
                </a:cubicBezTo>
                <a:cubicBezTo>
                  <a:pt x="2017" y="1356"/>
                  <a:pt x="2046" y="1401"/>
                  <a:pt x="2016" y="1364"/>
                </a:cubicBezTo>
                <a:cubicBezTo>
                  <a:pt x="1985" y="1326"/>
                  <a:pt x="2019" y="1353"/>
                  <a:pt x="1978" y="1326"/>
                </a:cubicBezTo>
                <a:cubicBezTo>
                  <a:pt x="1958" y="1297"/>
                  <a:pt x="1931" y="1277"/>
                  <a:pt x="1910" y="1250"/>
                </a:cubicBezTo>
                <a:cubicBezTo>
                  <a:pt x="1892" y="1227"/>
                  <a:pt x="1887" y="1198"/>
                  <a:pt x="1872" y="1175"/>
                </a:cubicBezTo>
                <a:cubicBezTo>
                  <a:pt x="1852" y="1145"/>
                  <a:pt x="1808" y="1109"/>
                  <a:pt x="1774" y="1099"/>
                </a:cubicBezTo>
                <a:cubicBezTo>
                  <a:pt x="1763" y="1082"/>
                  <a:pt x="1709" y="1003"/>
                  <a:pt x="1690" y="1000"/>
                </a:cubicBezTo>
                <a:cubicBezTo>
                  <a:pt x="1650" y="993"/>
                  <a:pt x="1609" y="995"/>
                  <a:pt x="1569" y="993"/>
                </a:cubicBezTo>
                <a:cubicBezTo>
                  <a:pt x="1544" y="984"/>
                  <a:pt x="1526" y="971"/>
                  <a:pt x="1501" y="962"/>
                </a:cubicBezTo>
                <a:cubicBezTo>
                  <a:pt x="1463" y="968"/>
                  <a:pt x="1432" y="976"/>
                  <a:pt x="1395" y="985"/>
                </a:cubicBezTo>
                <a:cubicBezTo>
                  <a:pt x="1325" y="979"/>
                  <a:pt x="1261" y="968"/>
                  <a:pt x="1190" y="962"/>
                </a:cubicBezTo>
                <a:cubicBezTo>
                  <a:pt x="1155" y="938"/>
                  <a:pt x="1112" y="905"/>
                  <a:pt x="1084" y="872"/>
                </a:cubicBezTo>
                <a:cubicBezTo>
                  <a:pt x="1063" y="848"/>
                  <a:pt x="1037" y="814"/>
                  <a:pt x="1001" y="811"/>
                </a:cubicBezTo>
                <a:cubicBezTo>
                  <a:pt x="948" y="807"/>
                  <a:pt x="895" y="806"/>
                  <a:pt x="842" y="803"/>
                </a:cubicBezTo>
                <a:cubicBezTo>
                  <a:pt x="800" y="776"/>
                  <a:pt x="797" y="730"/>
                  <a:pt x="758" y="705"/>
                </a:cubicBezTo>
                <a:cubicBezTo>
                  <a:pt x="735" y="658"/>
                  <a:pt x="692" y="640"/>
                  <a:pt x="660" y="599"/>
                </a:cubicBezTo>
                <a:cubicBezTo>
                  <a:pt x="649" y="584"/>
                  <a:pt x="629" y="553"/>
                  <a:pt x="629" y="553"/>
                </a:cubicBezTo>
                <a:cubicBezTo>
                  <a:pt x="618" y="517"/>
                  <a:pt x="623" y="474"/>
                  <a:pt x="607" y="440"/>
                </a:cubicBezTo>
                <a:cubicBezTo>
                  <a:pt x="593" y="411"/>
                  <a:pt x="548" y="388"/>
                  <a:pt x="523" y="371"/>
                </a:cubicBezTo>
                <a:cubicBezTo>
                  <a:pt x="479" y="306"/>
                  <a:pt x="539" y="385"/>
                  <a:pt x="485" y="341"/>
                </a:cubicBezTo>
                <a:cubicBezTo>
                  <a:pt x="478" y="335"/>
                  <a:pt x="476" y="325"/>
                  <a:pt x="470" y="318"/>
                </a:cubicBezTo>
                <a:cubicBezTo>
                  <a:pt x="464" y="312"/>
                  <a:pt x="455" y="308"/>
                  <a:pt x="448" y="303"/>
                </a:cubicBezTo>
                <a:cubicBezTo>
                  <a:pt x="409" y="247"/>
                  <a:pt x="392" y="221"/>
                  <a:pt x="334" y="182"/>
                </a:cubicBezTo>
                <a:cubicBezTo>
                  <a:pt x="319" y="172"/>
                  <a:pt x="299" y="177"/>
                  <a:pt x="281" y="174"/>
                </a:cubicBezTo>
                <a:cubicBezTo>
                  <a:pt x="236" y="160"/>
                  <a:pt x="200" y="124"/>
                  <a:pt x="167" y="91"/>
                </a:cubicBezTo>
                <a:cubicBezTo>
                  <a:pt x="154" y="48"/>
                  <a:pt x="107" y="31"/>
                  <a:pt x="76" y="0"/>
                </a:cubicBezTo>
                <a:cubicBezTo>
                  <a:pt x="67" y="94"/>
                  <a:pt x="55" y="185"/>
                  <a:pt x="46" y="280"/>
                </a:cubicBezTo>
                <a:cubicBezTo>
                  <a:pt x="48" y="530"/>
                  <a:pt x="50" y="781"/>
                  <a:pt x="53" y="1031"/>
                </a:cubicBezTo>
                <a:cubicBezTo>
                  <a:pt x="55" y="1182"/>
                  <a:pt x="0" y="1346"/>
                  <a:pt x="61" y="1485"/>
                </a:cubicBezTo>
                <a:cubicBezTo>
                  <a:pt x="86" y="1543"/>
                  <a:pt x="187" y="1480"/>
                  <a:pt x="250" y="1478"/>
                </a:cubicBezTo>
                <a:cubicBezTo>
                  <a:pt x="1342" y="1493"/>
                  <a:pt x="993" y="1374"/>
                  <a:pt x="1357" y="1501"/>
                </a:cubicBezTo>
                <a:cubicBezTo>
                  <a:pt x="2144" y="1493"/>
                  <a:pt x="2028" y="1729"/>
                  <a:pt x="2145" y="1478"/>
                </a:cubicBezTo>
                <a:close/>
              </a:path>
            </a:pathLst>
          </a:custGeom>
          <a:solidFill>
            <a:srgbClr val="80808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5"/>
          <p:cNvSpPr/>
          <p:nvPr/>
        </p:nvSpPr>
        <p:spPr>
          <a:xfrm>
            <a:off x="-228600" y="5232240"/>
            <a:ext cx="9372600" cy="1143000"/>
          </a:xfrm>
          <a:prstGeom prst="rect">
            <a:avLst/>
          </a:prstGeom>
          <a:solidFill>
            <a:srgbClr val="fed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54"/>
          <p:cNvGrpSpPr/>
          <p:nvPr/>
        </p:nvGrpSpPr>
        <p:grpSpPr>
          <a:xfrm>
            <a:off x="3048120" y="3200400"/>
            <a:ext cx="3429000" cy="3222360"/>
            <a:chOff x="3048120" y="3200400"/>
            <a:chExt cx="3429000" cy="3222360"/>
          </a:xfrm>
        </p:grpSpPr>
        <p:sp>
          <p:nvSpPr>
            <p:cNvPr id="275" name="Oval 152"/>
            <p:cNvSpPr/>
            <p:nvPr/>
          </p:nvSpPr>
          <p:spPr>
            <a:xfrm>
              <a:off x="3048120" y="3200400"/>
              <a:ext cx="3429000" cy="322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53"/>
            <p:cNvSpPr/>
            <p:nvPr/>
          </p:nvSpPr>
          <p:spPr>
            <a:xfrm>
              <a:off x="3962520" y="4087800"/>
              <a:ext cx="1523880" cy="15238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Freeform 155"/>
          <p:cNvSpPr/>
          <p:nvPr/>
        </p:nvSpPr>
        <p:spPr>
          <a:xfrm>
            <a:off x="-152280" y="5257800"/>
            <a:ext cx="9372600" cy="1371600"/>
          </a:xfrm>
          <a:custGeom>
            <a:avLst/>
            <a:gdLst/>
            <a:ahLst/>
            <a:rect l="l" t="t" r="r" b="b"/>
            <a:pathLst>
              <a:path w="5904" h="921">
                <a:moveTo>
                  <a:pt x="35" y="19"/>
                </a:moveTo>
                <a:cubicBezTo>
                  <a:pt x="371" y="32"/>
                  <a:pt x="458" y="36"/>
                  <a:pt x="892" y="42"/>
                </a:cubicBezTo>
                <a:cubicBezTo>
                  <a:pt x="1571" y="26"/>
                  <a:pt x="1322" y="13"/>
                  <a:pt x="1642" y="34"/>
                </a:cubicBezTo>
                <a:cubicBezTo>
                  <a:pt x="1814" y="80"/>
                  <a:pt x="1892" y="52"/>
                  <a:pt x="2142" y="57"/>
                </a:cubicBezTo>
                <a:cubicBezTo>
                  <a:pt x="2298" y="97"/>
                  <a:pt x="2142" y="82"/>
                  <a:pt x="2491" y="72"/>
                </a:cubicBezTo>
                <a:cubicBezTo>
                  <a:pt x="2771" y="28"/>
                  <a:pt x="3356" y="70"/>
                  <a:pt x="3673" y="65"/>
                </a:cubicBezTo>
                <a:cubicBezTo>
                  <a:pt x="4076" y="23"/>
                  <a:pt x="4480" y="45"/>
                  <a:pt x="4886" y="42"/>
                </a:cubicBezTo>
                <a:cubicBezTo>
                  <a:pt x="5043" y="0"/>
                  <a:pt x="5283" y="77"/>
                  <a:pt x="5432" y="12"/>
                </a:cubicBezTo>
                <a:lnTo>
                  <a:pt x="5904" y="9"/>
                </a:lnTo>
                <a:lnTo>
                  <a:pt x="5904" y="921"/>
                </a:lnTo>
                <a:lnTo>
                  <a:pt x="0" y="873"/>
                </a:lnTo>
                <a:lnTo>
                  <a:pt x="35" y="19"/>
                </a:lnTo>
                <a:close/>
              </a:path>
            </a:pathLst>
          </a:custGeom>
          <a:solidFill>
            <a:srgbClr val="fed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50"/>
          <p:cNvSpPr/>
          <p:nvPr/>
        </p:nvSpPr>
        <p:spPr>
          <a:xfrm flipH="1">
            <a:off x="-759600" y="5181480"/>
            <a:ext cx="10969560" cy="596880"/>
          </a:xfrm>
          <a:custGeom>
            <a:avLst/>
            <a:gdLst/>
            <a:ahLst/>
            <a:rect l="l" t="t" r="r" b="b"/>
            <a:pathLst>
              <a:path w="6051" h="868">
                <a:moveTo>
                  <a:pt x="0" y="75"/>
                </a:moveTo>
                <a:cubicBezTo>
                  <a:pt x="196" y="69"/>
                  <a:pt x="229" y="69"/>
                  <a:pt x="372" y="44"/>
                </a:cubicBezTo>
                <a:cubicBezTo>
                  <a:pt x="444" y="54"/>
                  <a:pt x="512" y="50"/>
                  <a:pt x="584" y="37"/>
                </a:cubicBezTo>
                <a:cubicBezTo>
                  <a:pt x="614" y="44"/>
                  <a:pt x="624" y="58"/>
                  <a:pt x="652" y="67"/>
                </a:cubicBezTo>
                <a:cubicBezTo>
                  <a:pt x="817" y="48"/>
                  <a:pt x="853" y="54"/>
                  <a:pt x="1084" y="60"/>
                </a:cubicBezTo>
                <a:cubicBezTo>
                  <a:pt x="1169" y="116"/>
                  <a:pt x="1278" y="56"/>
                  <a:pt x="1372" y="90"/>
                </a:cubicBezTo>
                <a:cubicBezTo>
                  <a:pt x="1474" y="83"/>
                  <a:pt x="1567" y="84"/>
                  <a:pt x="1668" y="97"/>
                </a:cubicBezTo>
                <a:cubicBezTo>
                  <a:pt x="1845" y="90"/>
                  <a:pt x="2021" y="98"/>
                  <a:pt x="2198" y="90"/>
                </a:cubicBezTo>
                <a:cubicBezTo>
                  <a:pt x="2240" y="81"/>
                  <a:pt x="2268" y="80"/>
                  <a:pt x="2304" y="105"/>
                </a:cubicBezTo>
                <a:cubicBezTo>
                  <a:pt x="2340" y="102"/>
                  <a:pt x="2376" y="102"/>
                  <a:pt x="2411" y="97"/>
                </a:cubicBezTo>
                <a:cubicBezTo>
                  <a:pt x="2444" y="92"/>
                  <a:pt x="2484" y="74"/>
                  <a:pt x="2517" y="67"/>
                </a:cubicBezTo>
                <a:cubicBezTo>
                  <a:pt x="2573" y="72"/>
                  <a:pt x="2599" y="74"/>
                  <a:pt x="2646" y="90"/>
                </a:cubicBezTo>
                <a:cubicBezTo>
                  <a:pt x="2739" y="86"/>
                  <a:pt x="2817" y="90"/>
                  <a:pt x="2903" y="67"/>
                </a:cubicBezTo>
                <a:cubicBezTo>
                  <a:pt x="2955" y="72"/>
                  <a:pt x="2993" y="74"/>
                  <a:pt x="3040" y="90"/>
                </a:cubicBezTo>
                <a:cubicBezTo>
                  <a:pt x="3161" y="86"/>
                  <a:pt x="3290" y="69"/>
                  <a:pt x="3411" y="97"/>
                </a:cubicBezTo>
                <a:cubicBezTo>
                  <a:pt x="3703" y="91"/>
                  <a:pt x="3975" y="66"/>
                  <a:pt x="4267" y="60"/>
                </a:cubicBezTo>
                <a:cubicBezTo>
                  <a:pt x="4517" y="78"/>
                  <a:pt x="4466" y="81"/>
                  <a:pt x="4866" y="75"/>
                </a:cubicBezTo>
                <a:cubicBezTo>
                  <a:pt x="5148" y="0"/>
                  <a:pt x="5319" y="56"/>
                  <a:pt x="5715" y="52"/>
                </a:cubicBezTo>
                <a:cubicBezTo>
                  <a:pt x="5798" y="23"/>
                  <a:pt x="5942" y="29"/>
                  <a:pt x="6033" y="29"/>
                </a:cubicBezTo>
                <a:lnTo>
                  <a:pt x="6051" y="868"/>
                </a:lnTo>
                <a:lnTo>
                  <a:pt x="3" y="820"/>
                </a:lnTo>
                <a:lnTo>
                  <a:pt x="0" y="75"/>
                </a:lnTo>
                <a:close/>
              </a:path>
            </a:pathLst>
          </a:cu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49"/>
          <p:cNvSpPr/>
          <p:nvPr/>
        </p:nvSpPr>
        <p:spPr>
          <a:xfrm flipH="1">
            <a:off x="-762120" y="5867280"/>
            <a:ext cx="10823760" cy="1219320"/>
          </a:xfrm>
          <a:custGeom>
            <a:avLst/>
            <a:gdLst/>
            <a:ahLst/>
            <a:rect l="l" t="t" r="r" b="b"/>
            <a:pathLst>
              <a:path w="6051" h="868">
                <a:moveTo>
                  <a:pt x="0" y="75"/>
                </a:moveTo>
                <a:cubicBezTo>
                  <a:pt x="196" y="69"/>
                  <a:pt x="229" y="69"/>
                  <a:pt x="372" y="44"/>
                </a:cubicBezTo>
                <a:cubicBezTo>
                  <a:pt x="444" y="54"/>
                  <a:pt x="512" y="50"/>
                  <a:pt x="584" y="37"/>
                </a:cubicBezTo>
                <a:cubicBezTo>
                  <a:pt x="614" y="44"/>
                  <a:pt x="624" y="58"/>
                  <a:pt x="652" y="67"/>
                </a:cubicBezTo>
                <a:cubicBezTo>
                  <a:pt x="817" y="48"/>
                  <a:pt x="853" y="54"/>
                  <a:pt x="1084" y="60"/>
                </a:cubicBezTo>
                <a:cubicBezTo>
                  <a:pt x="1169" y="116"/>
                  <a:pt x="1278" y="56"/>
                  <a:pt x="1372" y="90"/>
                </a:cubicBezTo>
                <a:cubicBezTo>
                  <a:pt x="1474" y="83"/>
                  <a:pt x="1567" y="84"/>
                  <a:pt x="1668" y="97"/>
                </a:cubicBezTo>
                <a:cubicBezTo>
                  <a:pt x="1845" y="90"/>
                  <a:pt x="2021" y="98"/>
                  <a:pt x="2198" y="90"/>
                </a:cubicBezTo>
                <a:cubicBezTo>
                  <a:pt x="2240" y="81"/>
                  <a:pt x="2268" y="80"/>
                  <a:pt x="2304" y="105"/>
                </a:cubicBezTo>
                <a:cubicBezTo>
                  <a:pt x="2340" y="102"/>
                  <a:pt x="2376" y="102"/>
                  <a:pt x="2411" y="97"/>
                </a:cubicBezTo>
                <a:cubicBezTo>
                  <a:pt x="2444" y="92"/>
                  <a:pt x="2484" y="74"/>
                  <a:pt x="2517" y="67"/>
                </a:cubicBezTo>
                <a:cubicBezTo>
                  <a:pt x="2573" y="72"/>
                  <a:pt x="2599" y="74"/>
                  <a:pt x="2646" y="90"/>
                </a:cubicBezTo>
                <a:cubicBezTo>
                  <a:pt x="2739" y="86"/>
                  <a:pt x="2817" y="90"/>
                  <a:pt x="2903" y="67"/>
                </a:cubicBezTo>
                <a:cubicBezTo>
                  <a:pt x="2955" y="72"/>
                  <a:pt x="2993" y="74"/>
                  <a:pt x="3040" y="90"/>
                </a:cubicBezTo>
                <a:cubicBezTo>
                  <a:pt x="3161" y="86"/>
                  <a:pt x="3290" y="69"/>
                  <a:pt x="3411" y="97"/>
                </a:cubicBezTo>
                <a:cubicBezTo>
                  <a:pt x="3703" y="91"/>
                  <a:pt x="3975" y="66"/>
                  <a:pt x="4267" y="60"/>
                </a:cubicBezTo>
                <a:cubicBezTo>
                  <a:pt x="4517" y="78"/>
                  <a:pt x="4466" y="81"/>
                  <a:pt x="4866" y="75"/>
                </a:cubicBezTo>
                <a:cubicBezTo>
                  <a:pt x="5148" y="0"/>
                  <a:pt x="5319" y="56"/>
                  <a:pt x="5715" y="52"/>
                </a:cubicBezTo>
                <a:cubicBezTo>
                  <a:pt x="5798" y="23"/>
                  <a:pt x="5942" y="29"/>
                  <a:pt x="6033" y="29"/>
                </a:cubicBezTo>
                <a:lnTo>
                  <a:pt x="6051" y="868"/>
                </a:lnTo>
                <a:lnTo>
                  <a:pt x="3" y="820"/>
                </a:lnTo>
                <a:lnTo>
                  <a:pt x="0" y="75"/>
                </a:lnTo>
                <a:close/>
              </a:path>
            </a:pathLst>
          </a:cu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48"/>
          <p:cNvSpPr/>
          <p:nvPr/>
        </p:nvSpPr>
        <p:spPr>
          <a:xfrm>
            <a:off x="-152280" y="5638680"/>
            <a:ext cx="9605880" cy="762120"/>
          </a:xfrm>
          <a:custGeom>
            <a:avLst/>
            <a:gdLst/>
            <a:ahLst/>
            <a:rect l="l" t="t" r="r" b="b"/>
            <a:pathLst>
              <a:path w="6051" h="868">
                <a:moveTo>
                  <a:pt x="0" y="75"/>
                </a:moveTo>
                <a:cubicBezTo>
                  <a:pt x="196" y="69"/>
                  <a:pt x="229" y="69"/>
                  <a:pt x="372" y="44"/>
                </a:cubicBezTo>
                <a:cubicBezTo>
                  <a:pt x="444" y="54"/>
                  <a:pt x="512" y="50"/>
                  <a:pt x="584" y="37"/>
                </a:cubicBezTo>
                <a:cubicBezTo>
                  <a:pt x="614" y="44"/>
                  <a:pt x="624" y="58"/>
                  <a:pt x="652" y="67"/>
                </a:cubicBezTo>
                <a:cubicBezTo>
                  <a:pt x="817" y="48"/>
                  <a:pt x="853" y="54"/>
                  <a:pt x="1084" y="60"/>
                </a:cubicBezTo>
                <a:cubicBezTo>
                  <a:pt x="1169" y="116"/>
                  <a:pt x="1278" y="56"/>
                  <a:pt x="1372" y="90"/>
                </a:cubicBezTo>
                <a:cubicBezTo>
                  <a:pt x="1474" y="83"/>
                  <a:pt x="1567" y="84"/>
                  <a:pt x="1668" y="97"/>
                </a:cubicBezTo>
                <a:cubicBezTo>
                  <a:pt x="1845" y="90"/>
                  <a:pt x="2021" y="98"/>
                  <a:pt x="2198" y="90"/>
                </a:cubicBezTo>
                <a:cubicBezTo>
                  <a:pt x="2240" y="81"/>
                  <a:pt x="2268" y="80"/>
                  <a:pt x="2304" y="105"/>
                </a:cubicBezTo>
                <a:cubicBezTo>
                  <a:pt x="2340" y="102"/>
                  <a:pt x="2376" y="102"/>
                  <a:pt x="2411" y="97"/>
                </a:cubicBezTo>
                <a:cubicBezTo>
                  <a:pt x="2444" y="92"/>
                  <a:pt x="2484" y="74"/>
                  <a:pt x="2517" y="67"/>
                </a:cubicBezTo>
                <a:cubicBezTo>
                  <a:pt x="2573" y="72"/>
                  <a:pt x="2599" y="74"/>
                  <a:pt x="2646" y="90"/>
                </a:cubicBezTo>
                <a:cubicBezTo>
                  <a:pt x="2739" y="86"/>
                  <a:pt x="2817" y="90"/>
                  <a:pt x="2903" y="67"/>
                </a:cubicBezTo>
                <a:cubicBezTo>
                  <a:pt x="2955" y="72"/>
                  <a:pt x="2993" y="74"/>
                  <a:pt x="3040" y="90"/>
                </a:cubicBezTo>
                <a:cubicBezTo>
                  <a:pt x="3161" y="86"/>
                  <a:pt x="3290" y="69"/>
                  <a:pt x="3411" y="97"/>
                </a:cubicBezTo>
                <a:cubicBezTo>
                  <a:pt x="3703" y="91"/>
                  <a:pt x="3975" y="66"/>
                  <a:pt x="4267" y="60"/>
                </a:cubicBezTo>
                <a:cubicBezTo>
                  <a:pt x="4517" y="78"/>
                  <a:pt x="4466" y="81"/>
                  <a:pt x="4866" y="75"/>
                </a:cubicBezTo>
                <a:cubicBezTo>
                  <a:pt x="5148" y="0"/>
                  <a:pt x="5319" y="56"/>
                  <a:pt x="5715" y="52"/>
                </a:cubicBezTo>
                <a:cubicBezTo>
                  <a:pt x="5798" y="23"/>
                  <a:pt x="5942" y="29"/>
                  <a:pt x="6033" y="29"/>
                </a:cubicBezTo>
                <a:lnTo>
                  <a:pt x="6051" y="868"/>
                </a:lnTo>
                <a:lnTo>
                  <a:pt x="3" y="820"/>
                </a:lnTo>
                <a:lnTo>
                  <a:pt x="0" y="75"/>
                </a:lnTo>
                <a:close/>
              </a:path>
            </a:pathLst>
          </a:cu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47"/>
          <p:cNvSpPr/>
          <p:nvPr/>
        </p:nvSpPr>
        <p:spPr>
          <a:xfrm>
            <a:off x="-157320" y="5410080"/>
            <a:ext cx="9606240" cy="1219320"/>
          </a:xfrm>
          <a:custGeom>
            <a:avLst/>
            <a:gdLst/>
            <a:ahLst/>
            <a:rect l="l" t="t" r="r" b="b"/>
            <a:pathLst>
              <a:path w="6051" h="868">
                <a:moveTo>
                  <a:pt x="0" y="75"/>
                </a:moveTo>
                <a:cubicBezTo>
                  <a:pt x="196" y="69"/>
                  <a:pt x="229" y="69"/>
                  <a:pt x="372" y="44"/>
                </a:cubicBezTo>
                <a:cubicBezTo>
                  <a:pt x="444" y="54"/>
                  <a:pt x="512" y="50"/>
                  <a:pt x="584" y="37"/>
                </a:cubicBezTo>
                <a:cubicBezTo>
                  <a:pt x="614" y="44"/>
                  <a:pt x="624" y="58"/>
                  <a:pt x="652" y="67"/>
                </a:cubicBezTo>
                <a:cubicBezTo>
                  <a:pt x="817" y="48"/>
                  <a:pt x="853" y="54"/>
                  <a:pt x="1084" y="60"/>
                </a:cubicBezTo>
                <a:cubicBezTo>
                  <a:pt x="1169" y="116"/>
                  <a:pt x="1278" y="56"/>
                  <a:pt x="1372" y="90"/>
                </a:cubicBezTo>
                <a:cubicBezTo>
                  <a:pt x="1474" y="83"/>
                  <a:pt x="1567" y="84"/>
                  <a:pt x="1668" y="97"/>
                </a:cubicBezTo>
                <a:cubicBezTo>
                  <a:pt x="1845" y="90"/>
                  <a:pt x="2021" y="98"/>
                  <a:pt x="2198" y="90"/>
                </a:cubicBezTo>
                <a:cubicBezTo>
                  <a:pt x="2240" y="81"/>
                  <a:pt x="2268" y="80"/>
                  <a:pt x="2304" y="105"/>
                </a:cubicBezTo>
                <a:cubicBezTo>
                  <a:pt x="2340" y="102"/>
                  <a:pt x="2376" y="102"/>
                  <a:pt x="2411" y="97"/>
                </a:cubicBezTo>
                <a:cubicBezTo>
                  <a:pt x="2444" y="92"/>
                  <a:pt x="2484" y="74"/>
                  <a:pt x="2517" y="67"/>
                </a:cubicBezTo>
                <a:cubicBezTo>
                  <a:pt x="2573" y="72"/>
                  <a:pt x="2599" y="74"/>
                  <a:pt x="2646" y="90"/>
                </a:cubicBezTo>
                <a:cubicBezTo>
                  <a:pt x="2739" y="86"/>
                  <a:pt x="2817" y="90"/>
                  <a:pt x="2903" y="67"/>
                </a:cubicBezTo>
                <a:cubicBezTo>
                  <a:pt x="2955" y="72"/>
                  <a:pt x="2993" y="74"/>
                  <a:pt x="3040" y="90"/>
                </a:cubicBezTo>
                <a:cubicBezTo>
                  <a:pt x="3161" y="86"/>
                  <a:pt x="3290" y="69"/>
                  <a:pt x="3411" y="97"/>
                </a:cubicBezTo>
                <a:cubicBezTo>
                  <a:pt x="3703" y="91"/>
                  <a:pt x="3975" y="66"/>
                  <a:pt x="4267" y="60"/>
                </a:cubicBezTo>
                <a:cubicBezTo>
                  <a:pt x="4517" y="78"/>
                  <a:pt x="4466" y="81"/>
                  <a:pt x="4866" y="75"/>
                </a:cubicBezTo>
                <a:cubicBezTo>
                  <a:pt x="5148" y="0"/>
                  <a:pt x="5319" y="56"/>
                  <a:pt x="5715" y="52"/>
                </a:cubicBezTo>
                <a:cubicBezTo>
                  <a:pt x="5798" y="23"/>
                  <a:pt x="5942" y="29"/>
                  <a:pt x="6033" y="29"/>
                </a:cubicBezTo>
                <a:lnTo>
                  <a:pt x="6051" y="868"/>
                </a:lnTo>
                <a:lnTo>
                  <a:pt x="3" y="820"/>
                </a:lnTo>
                <a:lnTo>
                  <a:pt x="0" y="75"/>
                </a:lnTo>
                <a:close/>
              </a:path>
            </a:pathLst>
          </a:cu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60"/>
          <p:cNvSpPr/>
          <p:nvPr/>
        </p:nvSpPr>
        <p:spPr>
          <a:xfrm>
            <a:off x="3013200" y="5237280"/>
            <a:ext cx="3411360" cy="1697040"/>
          </a:xfrm>
          <a:custGeom>
            <a:avLst/>
            <a:gdLst/>
            <a:ahLst/>
            <a:rect l="l" t="t" r="r" b="b"/>
            <a:pathLst>
              <a:path w="2149" h="1069">
                <a:moveTo>
                  <a:pt x="671" y="36"/>
                </a:moveTo>
                <a:cubicBezTo>
                  <a:pt x="666" y="43"/>
                  <a:pt x="662" y="51"/>
                  <a:pt x="656" y="58"/>
                </a:cubicBezTo>
                <a:cubicBezTo>
                  <a:pt x="649" y="66"/>
                  <a:pt x="640" y="72"/>
                  <a:pt x="633" y="81"/>
                </a:cubicBezTo>
                <a:cubicBezTo>
                  <a:pt x="622" y="96"/>
                  <a:pt x="603" y="127"/>
                  <a:pt x="603" y="127"/>
                </a:cubicBezTo>
                <a:cubicBezTo>
                  <a:pt x="600" y="147"/>
                  <a:pt x="607" y="171"/>
                  <a:pt x="595" y="187"/>
                </a:cubicBezTo>
                <a:cubicBezTo>
                  <a:pt x="582" y="205"/>
                  <a:pt x="535" y="218"/>
                  <a:pt x="535" y="218"/>
                </a:cubicBezTo>
                <a:cubicBezTo>
                  <a:pt x="506" y="260"/>
                  <a:pt x="521" y="224"/>
                  <a:pt x="550" y="248"/>
                </a:cubicBezTo>
                <a:cubicBezTo>
                  <a:pt x="556" y="253"/>
                  <a:pt x="555" y="263"/>
                  <a:pt x="558" y="271"/>
                </a:cubicBezTo>
                <a:cubicBezTo>
                  <a:pt x="548" y="272"/>
                  <a:pt x="482" y="280"/>
                  <a:pt x="467" y="286"/>
                </a:cubicBezTo>
                <a:cubicBezTo>
                  <a:pt x="444" y="296"/>
                  <a:pt x="406" y="331"/>
                  <a:pt x="406" y="331"/>
                </a:cubicBezTo>
                <a:cubicBezTo>
                  <a:pt x="411" y="339"/>
                  <a:pt x="424" y="345"/>
                  <a:pt x="421" y="354"/>
                </a:cubicBezTo>
                <a:cubicBezTo>
                  <a:pt x="417" y="364"/>
                  <a:pt x="401" y="365"/>
                  <a:pt x="391" y="369"/>
                </a:cubicBezTo>
                <a:cubicBezTo>
                  <a:pt x="356" y="384"/>
                  <a:pt x="322" y="398"/>
                  <a:pt x="285" y="407"/>
                </a:cubicBezTo>
                <a:cubicBezTo>
                  <a:pt x="258" y="449"/>
                  <a:pt x="279" y="426"/>
                  <a:pt x="307" y="468"/>
                </a:cubicBezTo>
                <a:cubicBezTo>
                  <a:pt x="269" y="477"/>
                  <a:pt x="232" y="490"/>
                  <a:pt x="194" y="498"/>
                </a:cubicBezTo>
                <a:cubicBezTo>
                  <a:pt x="165" y="517"/>
                  <a:pt x="136" y="541"/>
                  <a:pt x="103" y="551"/>
                </a:cubicBezTo>
                <a:cubicBezTo>
                  <a:pt x="0" y="654"/>
                  <a:pt x="99" y="598"/>
                  <a:pt x="323" y="604"/>
                </a:cubicBezTo>
                <a:cubicBezTo>
                  <a:pt x="428" y="611"/>
                  <a:pt x="529" y="627"/>
                  <a:pt x="633" y="634"/>
                </a:cubicBezTo>
                <a:cubicBezTo>
                  <a:pt x="682" y="651"/>
                  <a:pt x="734" y="663"/>
                  <a:pt x="785" y="672"/>
                </a:cubicBezTo>
                <a:cubicBezTo>
                  <a:pt x="1240" y="670"/>
                  <a:pt x="2017" y="1069"/>
                  <a:pt x="2149" y="634"/>
                </a:cubicBezTo>
                <a:cubicBezTo>
                  <a:pt x="2135" y="621"/>
                  <a:pt x="2116" y="612"/>
                  <a:pt x="2104" y="597"/>
                </a:cubicBezTo>
                <a:cubicBezTo>
                  <a:pt x="2099" y="591"/>
                  <a:pt x="2102" y="580"/>
                  <a:pt x="2096" y="574"/>
                </a:cubicBezTo>
                <a:cubicBezTo>
                  <a:pt x="2069" y="547"/>
                  <a:pt x="2035" y="541"/>
                  <a:pt x="2005" y="521"/>
                </a:cubicBezTo>
                <a:cubicBezTo>
                  <a:pt x="1978" y="480"/>
                  <a:pt x="1988" y="511"/>
                  <a:pt x="2020" y="490"/>
                </a:cubicBezTo>
                <a:cubicBezTo>
                  <a:pt x="2027" y="485"/>
                  <a:pt x="2030" y="475"/>
                  <a:pt x="2035" y="468"/>
                </a:cubicBezTo>
                <a:cubicBezTo>
                  <a:pt x="1973" y="420"/>
                  <a:pt x="2040" y="465"/>
                  <a:pt x="1967" y="437"/>
                </a:cubicBezTo>
                <a:cubicBezTo>
                  <a:pt x="1959" y="434"/>
                  <a:pt x="1953" y="426"/>
                  <a:pt x="1945" y="422"/>
                </a:cubicBezTo>
                <a:cubicBezTo>
                  <a:pt x="1923" y="411"/>
                  <a:pt x="1893" y="406"/>
                  <a:pt x="1869" y="400"/>
                </a:cubicBezTo>
                <a:cubicBezTo>
                  <a:pt x="1895" y="381"/>
                  <a:pt x="1919" y="373"/>
                  <a:pt x="1945" y="354"/>
                </a:cubicBezTo>
                <a:cubicBezTo>
                  <a:pt x="1903" y="327"/>
                  <a:pt x="1843" y="318"/>
                  <a:pt x="1793" y="309"/>
                </a:cubicBezTo>
                <a:cubicBezTo>
                  <a:pt x="1765" y="280"/>
                  <a:pt x="1784" y="297"/>
                  <a:pt x="1732" y="263"/>
                </a:cubicBezTo>
                <a:cubicBezTo>
                  <a:pt x="1723" y="257"/>
                  <a:pt x="1719" y="245"/>
                  <a:pt x="1710" y="240"/>
                </a:cubicBezTo>
                <a:cubicBezTo>
                  <a:pt x="1698" y="234"/>
                  <a:pt x="1685" y="235"/>
                  <a:pt x="1672" y="233"/>
                </a:cubicBezTo>
                <a:cubicBezTo>
                  <a:pt x="1640" y="209"/>
                  <a:pt x="1605" y="201"/>
                  <a:pt x="1649" y="172"/>
                </a:cubicBezTo>
                <a:cubicBezTo>
                  <a:pt x="1652" y="164"/>
                  <a:pt x="1661" y="156"/>
                  <a:pt x="1657" y="149"/>
                </a:cubicBezTo>
                <a:cubicBezTo>
                  <a:pt x="1653" y="142"/>
                  <a:pt x="1641" y="145"/>
                  <a:pt x="1634" y="142"/>
                </a:cubicBezTo>
                <a:cubicBezTo>
                  <a:pt x="1591" y="125"/>
                  <a:pt x="1577" y="118"/>
                  <a:pt x="1528" y="112"/>
                </a:cubicBezTo>
                <a:cubicBezTo>
                  <a:pt x="1473" y="93"/>
                  <a:pt x="1528" y="120"/>
                  <a:pt x="1528" y="81"/>
                </a:cubicBezTo>
                <a:cubicBezTo>
                  <a:pt x="1528" y="57"/>
                  <a:pt x="1474" y="48"/>
                  <a:pt x="1459" y="43"/>
                </a:cubicBezTo>
                <a:cubicBezTo>
                  <a:pt x="1452" y="36"/>
                  <a:pt x="1446" y="26"/>
                  <a:pt x="1437" y="21"/>
                </a:cubicBezTo>
                <a:cubicBezTo>
                  <a:pt x="1423" y="13"/>
                  <a:pt x="1391" y="5"/>
                  <a:pt x="1391" y="5"/>
                </a:cubicBezTo>
                <a:cubicBezTo>
                  <a:pt x="1154" y="8"/>
                  <a:pt x="916" y="0"/>
                  <a:pt x="679" y="13"/>
                </a:cubicBezTo>
                <a:cubicBezTo>
                  <a:pt x="670" y="13"/>
                  <a:pt x="671" y="61"/>
                  <a:pt x="671" y="36"/>
                </a:cubicBez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36"/>
          <p:cNvSpPr/>
          <p:nvPr/>
        </p:nvSpPr>
        <p:spPr>
          <a:xfrm>
            <a:off x="-152280" y="6159600"/>
            <a:ext cx="9601200" cy="533160"/>
          </a:xfrm>
          <a:custGeom>
            <a:avLst/>
            <a:gdLst/>
            <a:ahLst/>
            <a:rect l="l" t="t" r="r" b="b"/>
            <a:pathLst>
              <a:path w="6048" h="463">
                <a:moveTo>
                  <a:pt x="52" y="46"/>
                </a:moveTo>
                <a:cubicBezTo>
                  <a:pt x="143" y="48"/>
                  <a:pt x="335" y="80"/>
                  <a:pt x="443" y="46"/>
                </a:cubicBezTo>
                <a:cubicBezTo>
                  <a:pt x="510" y="0"/>
                  <a:pt x="653" y="36"/>
                  <a:pt x="709" y="38"/>
                </a:cubicBezTo>
                <a:cubicBezTo>
                  <a:pt x="773" y="40"/>
                  <a:pt x="837" y="43"/>
                  <a:pt x="901" y="46"/>
                </a:cubicBezTo>
                <a:cubicBezTo>
                  <a:pt x="1019" y="68"/>
                  <a:pt x="1039" y="63"/>
                  <a:pt x="1211" y="68"/>
                </a:cubicBezTo>
                <a:cubicBezTo>
                  <a:pt x="1388" y="56"/>
                  <a:pt x="1369" y="54"/>
                  <a:pt x="1610" y="61"/>
                </a:cubicBezTo>
                <a:cubicBezTo>
                  <a:pt x="1687" y="86"/>
                  <a:pt x="1639" y="76"/>
                  <a:pt x="1758" y="68"/>
                </a:cubicBezTo>
                <a:cubicBezTo>
                  <a:pt x="2024" y="4"/>
                  <a:pt x="2311" y="11"/>
                  <a:pt x="2577" y="75"/>
                </a:cubicBezTo>
                <a:cubicBezTo>
                  <a:pt x="2608" y="91"/>
                  <a:pt x="2632" y="98"/>
                  <a:pt x="2666" y="105"/>
                </a:cubicBezTo>
                <a:cubicBezTo>
                  <a:pt x="2766" y="104"/>
                  <a:pt x="3601" y="143"/>
                  <a:pt x="3980" y="83"/>
                </a:cubicBezTo>
                <a:cubicBezTo>
                  <a:pt x="4193" y="6"/>
                  <a:pt x="4660" y="83"/>
                  <a:pt x="4660" y="83"/>
                </a:cubicBezTo>
                <a:cubicBezTo>
                  <a:pt x="4944" y="75"/>
                  <a:pt x="4858" y="102"/>
                  <a:pt x="4992" y="53"/>
                </a:cubicBezTo>
                <a:cubicBezTo>
                  <a:pt x="5231" y="72"/>
                  <a:pt x="5468" y="66"/>
                  <a:pt x="5708" y="61"/>
                </a:cubicBezTo>
                <a:cubicBezTo>
                  <a:pt x="5744" y="43"/>
                  <a:pt x="5764" y="38"/>
                  <a:pt x="5804" y="38"/>
                </a:cubicBezTo>
                <a:lnTo>
                  <a:pt x="6000" y="31"/>
                </a:lnTo>
                <a:lnTo>
                  <a:pt x="6048" y="463"/>
                </a:lnTo>
                <a:lnTo>
                  <a:pt x="0" y="463"/>
                </a:lnTo>
                <a:lnTo>
                  <a:pt x="52" y="46"/>
                </a:lnTo>
                <a:close/>
              </a:path>
            </a:pathLst>
          </a:custGeom>
          <a:solidFill>
            <a:srgbClr val="a8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19"/>
          <p:cNvSpPr/>
          <p:nvPr/>
        </p:nvSpPr>
        <p:spPr>
          <a:xfrm>
            <a:off x="-152280" y="6211800"/>
            <a:ext cx="9601200" cy="735120"/>
          </a:xfrm>
          <a:custGeom>
            <a:avLst/>
            <a:gdLst/>
            <a:ahLst/>
            <a:rect l="l" t="t" r="r" b="b"/>
            <a:pathLst>
              <a:path w="6048" h="463">
                <a:moveTo>
                  <a:pt x="52" y="46"/>
                </a:moveTo>
                <a:cubicBezTo>
                  <a:pt x="143" y="48"/>
                  <a:pt x="335" y="80"/>
                  <a:pt x="443" y="46"/>
                </a:cubicBezTo>
                <a:cubicBezTo>
                  <a:pt x="510" y="0"/>
                  <a:pt x="653" y="36"/>
                  <a:pt x="709" y="38"/>
                </a:cubicBezTo>
                <a:cubicBezTo>
                  <a:pt x="773" y="40"/>
                  <a:pt x="837" y="43"/>
                  <a:pt x="901" y="46"/>
                </a:cubicBezTo>
                <a:cubicBezTo>
                  <a:pt x="1019" y="68"/>
                  <a:pt x="1039" y="63"/>
                  <a:pt x="1211" y="68"/>
                </a:cubicBezTo>
                <a:cubicBezTo>
                  <a:pt x="1388" y="56"/>
                  <a:pt x="1369" y="54"/>
                  <a:pt x="1610" y="61"/>
                </a:cubicBezTo>
                <a:cubicBezTo>
                  <a:pt x="1687" y="86"/>
                  <a:pt x="1639" y="76"/>
                  <a:pt x="1758" y="68"/>
                </a:cubicBezTo>
                <a:cubicBezTo>
                  <a:pt x="2024" y="4"/>
                  <a:pt x="2311" y="11"/>
                  <a:pt x="2577" y="75"/>
                </a:cubicBezTo>
                <a:cubicBezTo>
                  <a:pt x="2608" y="91"/>
                  <a:pt x="2632" y="98"/>
                  <a:pt x="2666" y="105"/>
                </a:cubicBezTo>
                <a:cubicBezTo>
                  <a:pt x="2766" y="104"/>
                  <a:pt x="3601" y="143"/>
                  <a:pt x="3980" y="83"/>
                </a:cubicBezTo>
                <a:cubicBezTo>
                  <a:pt x="4193" y="6"/>
                  <a:pt x="4660" y="83"/>
                  <a:pt x="4660" y="83"/>
                </a:cubicBezTo>
                <a:cubicBezTo>
                  <a:pt x="4944" y="75"/>
                  <a:pt x="4858" y="102"/>
                  <a:pt x="4992" y="53"/>
                </a:cubicBezTo>
                <a:cubicBezTo>
                  <a:pt x="5231" y="72"/>
                  <a:pt x="5468" y="66"/>
                  <a:pt x="5708" y="61"/>
                </a:cubicBezTo>
                <a:cubicBezTo>
                  <a:pt x="5744" y="43"/>
                  <a:pt x="5764" y="38"/>
                  <a:pt x="5804" y="38"/>
                </a:cubicBezTo>
                <a:lnTo>
                  <a:pt x="6000" y="31"/>
                </a:lnTo>
                <a:lnTo>
                  <a:pt x="6048" y="463"/>
                </a:lnTo>
                <a:lnTo>
                  <a:pt x="0" y="463"/>
                </a:lnTo>
                <a:lnTo>
                  <a:pt x="52" y="46"/>
                </a:lnTo>
                <a:close/>
              </a:path>
            </a:pathLst>
          </a:custGeom>
          <a:solidFill>
            <a:srgbClr val="7a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37"/>
          <p:cNvSpPr/>
          <p:nvPr/>
        </p:nvSpPr>
        <p:spPr>
          <a:xfrm>
            <a:off x="1371600" y="6400800"/>
            <a:ext cx="284040" cy="1540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38"/>
          <p:cNvSpPr/>
          <p:nvPr/>
        </p:nvSpPr>
        <p:spPr>
          <a:xfrm rot="775800">
            <a:off x="914400" y="6400440"/>
            <a:ext cx="284040" cy="1540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39"/>
          <p:cNvSpPr/>
          <p:nvPr/>
        </p:nvSpPr>
        <p:spPr>
          <a:xfrm rot="844200">
            <a:off x="630360" y="6551640"/>
            <a:ext cx="284040" cy="1540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40"/>
          <p:cNvSpPr/>
          <p:nvPr/>
        </p:nvSpPr>
        <p:spPr>
          <a:xfrm>
            <a:off x="76320" y="6477120"/>
            <a:ext cx="284040" cy="15372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41"/>
          <p:cNvSpPr/>
          <p:nvPr/>
        </p:nvSpPr>
        <p:spPr>
          <a:xfrm rot="20880000">
            <a:off x="2514600" y="6440040"/>
            <a:ext cx="20808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42"/>
          <p:cNvSpPr/>
          <p:nvPr/>
        </p:nvSpPr>
        <p:spPr>
          <a:xfrm>
            <a:off x="2154240" y="6477120"/>
            <a:ext cx="20808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43"/>
          <p:cNvSpPr/>
          <p:nvPr/>
        </p:nvSpPr>
        <p:spPr>
          <a:xfrm rot="720000">
            <a:off x="2057400" y="6629040"/>
            <a:ext cx="20808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44"/>
          <p:cNvSpPr/>
          <p:nvPr/>
        </p:nvSpPr>
        <p:spPr>
          <a:xfrm>
            <a:off x="1752480" y="6669000"/>
            <a:ext cx="20808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45"/>
          <p:cNvSpPr/>
          <p:nvPr/>
        </p:nvSpPr>
        <p:spPr>
          <a:xfrm>
            <a:off x="1676520" y="6858000"/>
            <a:ext cx="207720" cy="112680"/>
          </a:xfrm>
          <a:custGeom>
            <a:avLst/>
            <a:gdLst/>
            <a:ahLst/>
            <a:rect l="l" t="t" r="r" b="b"/>
            <a:pathLst>
              <a:path w="179" h="97">
                <a:moveTo>
                  <a:pt x="91" y="71"/>
                </a:moveTo>
                <a:cubicBezTo>
                  <a:pt x="39" y="89"/>
                  <a:pt x="64" y="97"/>
                  <a:pt x="0" y="86"/>
                </a:cubicBezTo>
                <a:cubicBezTo>
                  <a:pt x="14" y="33"/>
                  <a:pt x="41" y="47"/>
                  <a:pt x="99" y="41"/>
                </a:cubicBezTo>
                <a:cubicBezTo>
                  <a:pt x="121" y="8"/>
                  <a:pt x="128" y="0"/>
                  <a:pt x="167" y="11"/>
                </a:cubicBezTo>
                <a:cubicBezTo>
                  <a:pt x="178" y="44"/>
                  <a:pt x="179" y="25"/>
                  <a:pt x="152" y="48"/>
                </a:cubicBezTo>
                <a:cubicBezTo>
                  <a:pt x="146" y="53"/>
                  <a:pt x="143" y="60"/>
                  <a:pt x="137" y="64"/>
                </a:cubicBezTo>
                <a:cubicBezTo>
                  <a:pt x="128" y="69"/>
                  <a:pt x="91" y="87"/>
                  <a:pt x="91" y="71"/>
                </a:cubicBezTo>
                <a:close/>
              </a:path>
            </a:pathLst>
          </a:custGeom>
          <a:solidFill>
            <a:srgbClr val="3e2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161"/>
          <p:cNvSpPr/>
          <p:nvPr/>
        </p:nvSpPr>
        <p:spPr>
          <a:xfrm>
            <a:off x="6019920" y="5562720"/>
            <a:ext cx="858600" cy="75960"/>
          </a:xfrm>
          <a:custGeom>
            <a:avLst/>
            <a:gdLst/>
            <a:ahLst/>
            <a:rect l="l" t="t" r="r" b="b"/>
            <a:pathLst>
              <a:path w="773" h="121">
                <a:moveTo>
                  <a:pt x="144" y="19"/>
                </a:moveTo>
                <a:cubicBezTo>
                  <a:pt x="314" y="14"/>
                  <a:pt x="482" y="0"/>
                  <a:pt x="651" y="11"/>
                </a:cubicBezTo>
                <a:cubicBezTo>
                  <a:pt x="692" y="22"/>
                  <a:pt x="733" y="35"/>
                  <a:pt x="773" y="49"/>
                </a:cubicBezTo>
                <a:cubicBezTo>
                  <a:pt x="536" y="121"/>
                  <a:pt x="253" y="70"/>
                  <a:pt x="0" y="56"/>
                </a:cubicBezTo>
                <a:cubicBezTo>
                  <a:pt x="49" y="47"/>
                  <a:pt x="96" y="31"/>
                  <a:pt x="144" y="19"/>
                </a:cubicBez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62"/>
          <p:cNvSpPr/>
          <p:nvPr/>
        </p:nvSpPr>
        <p:spPr>
          <a:xfrm>
            <a:off x="8229600" y="6019920"/>
            <a:ext cx="533520" cy="75960"/>
          </a:xfrm>
          <a:custGeom>
            <a:avLst/>
            <a:gdLst/>
            <a:ahLst/>
            <a:rect l="l" t="t" r="r" b="b"/>
            <a:pathLst>
              <a:path w="773" h="121">
                <a:moveTo>
                  <a:pt x="144" y="19"/>
                </a:moveTo>
                <a:cubicBezTo>
                  <a:pt x="314" y="14"/>
                  <a:pt x="482" y="0"/>
                  <a:pt x="651" y="11"/>
                </a:cubicBezTo>
                <a:cubicBezTo>
                  <a:pt x="692" y="22"/>
                  <a:pt x="733" y="35"/>
                  <a:pt x="773" y="49"/>
                </a:cubicBezTo>
                <a:cubicBezTo>
                  <a:pt x="536" y="121"/>
                  <a:pt x="253" y="70"/>
                  <a:pt x="0" y="56"/>
                </a:cubicBezTo>
                <a:cubicBezTo>
                  <a:pt x="49" y="47"/>
                  <a:pt x="96" y="31"/>
                  <a:pt x="144" y="19"/>
                </a:cubicBez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63"/>
          <p:cNvSpPr/>
          <p:nvPr/>
        </p:nvSpPr>
        <p:spPr>
          <a:xfrm>
            <a:off x="533520" y="6019920"/>
            <a:ext cx="761760" cy="75960"/>
          </a:xfrm>
          <a:custGeom>
            <a:avLst/>
            <a:gdLst/>
            <a:ahLst/>
            <a:rect l="l" t="t" r="r" b="b"/>
            <a:pathLst>
              <a:path w="773" h="121">
                <a:moveTo>
                  <a:pt x="144" y="19"/>
                </a:moveTo>
                <a:cubicBezTo>
                  <a:pt x="314" y="14"/>
                  <a:pt x="482" y="0"/>
                  <a:pt x="651" y="11"/>
                </a:cubicBezTo>
                <a:cubicBezTo>
                  <a:pt x="692" y="22"/>
                  <a:pt x="733" y="35"/>
                  <a:pt x="773" y="49"/>
                </a:cubicBezTo>
                <a:cubicBezTo>
                  <a:pt x="536" y="121"/>
                  <a:pt x="253" y="70"/>
                  <a:pt x="0" y="56"/>
                </a:cubicBezTo>
                <a:cubicBezTo>
                  <a:pt x="49" y="47"/>
                  <a:pt x="96" y="31"/>
                  <a:pt x="144" y="19"/>
                </a:cubicBez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65"/>
          <p:cNvSpPr/>
          <p:nvPr/>
        </p:nvSpPr>
        <p:spPr>
          <a:xfrm>
            <a:off x="1371600" y="6324480"/>
            <a:ext cx="6324480" cy="1981440"/>
          </a:xfrm>
          <a:prstGeom prst="ellipse">
            <a:avLst/>
          </a:prstGeom>
          <a:gradFill rotWithShape="0">
            <a:gsLst>
              <a:gs pos="0">
                <a:srgbClr val="a87000"/>
              </a:gs>
              <a:gs pos="100000">
                <a:srgbClr val="a87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89"/>
          <p:cNvSpPr/>
          <p:nvPr/>
        </p:nvSpPr>
        <p:spPr>
          <a:xfrm rot="120000">
            <a:off x="8078760" y="6362280"/>
            <a:ext cx="1523880" cy="152640"/>
          </a:xfrm>
          <a:prstGeom prst="ellipse">
            <a:avLst/>
          </a:prstGeom>
          <a:gradFill rotWithShape="0">
            <a:gsLst>
              <a:gs pos="0">
                <a:srgbClr val="3a2700"/>
              </a:gs>
              <a:gs pos="100000">
                <a:srgbClr val="3a2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83"/>
          <p:cNvSpPr/>
          <p:nvPr/>
        </p:nvSpPr>
        <p:spPr>
          <a:xfrm>
            <a:off x="8763120" y="6172200"/>
            <a:ext cx="164880" cy="289080"/>
          </a:xfrm>
          <a:custGeom>
            <a:avLst/>
            <a:gdLst/>
            <a:ahLst/>
            <a:rect l="l" t="t" r="r" b="b"/>
            <a:pathLst>
              <a:path w="144" h="253">
                <a:moveTo>
                  <a:pt x="26" y="220"/>
                </a:moveTo>
                <a:cubicBezTo>
                  <a:pt x="23" y="164"/>
                  <a:pt x="22" y="109"/>
                  <a:pt x="18" y="53"/>
                </a:cubicBezTo>
                <a:cubicBezTo>
                  <a:pt x="17" y="35"/>
                  <a:pt x="0" y="26"/>
                  <a:pt x="18" y="8"/>
                </a:cubicBezTo>
                <a:cubicBezTo>
                  <a:pt x="24" y="2"/>
                  <a:pt x="33" y="3"/>
                  <a:pt x="41" y="0"/>
                </a:cubicBezTo>
                <a:cubicBezTo>
                  <a:pt x="144" y="22"/>
                  <a:pt x="83" y="137"/>
                  <a:pt x="79" y="243"/>
                </a:cubicBezTo>
                <a:cubicBezTo>
                  <a:pt x="12" y="234"/>
                  <a:pt x="8" y="253"/>
                  <a:pt x="26" y="2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84"/>
          <p:cNvSpPr/>
          <p:nvPr/>
        </p:nvSpPr>
        <p:spPr>
          <a:xfrm>
            <a:off x="8928000" y="6159600"/>
            <a:ext cx="165240" cy="288720"/>
          </a:xfrm>
          <a:custGeom>
            <a:avLst/>
            <a:gdLst/>
            <a:ahLst/>
            <a:rect l="l" t="t" r="r" b="b"/>
            <a:pathLst>
              <a:path w="144" h="253">
                <a:moveTo>
                  <a:pt x="26" y="220"/>
                </a:moveTo>
                <a:cubicBezTo>
                  <a:pt x="23" y="164"/>
                  <a:pt x="22" y="109"/>
                  <a:pt x="18" y="53"/>
                </a:cubicBezTo>
                <a:cubicBezTo>
                  <a:pt x="17" y="35"/>
                  <a:pt x="0" y="26"/>
                  <a:pt x="18" y="8"/>
                </a:cubicBezTo>
                <a:cubicBezTo>
                  <a:pt x="24" y="2"/>
                  <a:pt x="33" y="3"/>
                  <a:pt x="41" y="0"/>
                </a:cubicBezTo>
                <a:cubicBezTo>
                  <a:pt x="144" y="22"/>
                  <a:pt x="83" y="137"/>
                  <a:pt x="79" y="243"/>
                </a:cubicBezTo>
                <a:cubicBezTo>
                  <a:pt x="12" y="234"/>
                  <a:pt x="8" y="253"/>
                  <a:pt x="26" y="2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85"/>
          <p:cNvSpPr/>
          <p:nvPr/>
        </p:nvSpPr>
        <p:spPr>
          <a:xfrm>
            <a:off x="8623440" y="6235560"/>
            <a:ext cx="128520" cy="225720"/>
          </a:xfrm>
          <a:custGeom>
            <a:avLst/>
            <a:gdLst/>
            <a:ahLst/>
            <a:rect l="l" t="t" r="r" b="b"/>
            <a:pathLst>
              <a:path w="144" h="253">
                <a:moveTo>
                  <a:pt x="26" y="220"/>
                </a:moveTo>
                <a:cubicBezTo>
                  <a:pt x="23" y="164"/>
                  <a:pt x="22" y="109"/>
                  <a:pt x="18" y="53"/>
                </a:cubicBezTo>
                <a:cubicBezTo>
                  <a:pt x="17" y="35"/>
                  <a:pt x="0" y="26"/>
                  <a:pt x="18" y="8"/>
                </a:cubicBezTo>
                <a:cubicBezTo>
                  <a:pt x="24" y="2"/>
                  <a:pt x="33" y="3"/>
                  <a:pt x="41" y="0"/>
                </a:cubicBezTo>
                <a:cubicBezTo>
                  <a:pt x="144" y="22"/>
                  <a:pt x="83" y="137"/>
                  <a:pt x="79" y="243"/>
                </a:cubicBezTo>
                <a:cubicBezTo>
                  <a:pt x="12" y="234"/>
                  <a:pt x="8" y="253"/>
                  <a:pt x="26" y="2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80"/>
          <p:cNvGrpSpPr/>
          <p:nvPr/>
        </p:nvGrpSpPr>
        <p:grpSpPr>
          <a:xfrm>
            <a:off x="5334120" y="5791320"/>
            <a:ext cx="3324240" cy="792000"/>
            <a:chOff x="5334120" y="5791320"/>
            <a:chExt cx="3324240" cy="792000"/>
          </a:xfrm>
        </p:grpSpPr>
        <p:grpSp>
          <p:nvGrpSpPr>
            <p:cNvPr id="303" name="Group 168"/>
            <p:cNvGrpSpPr/>
            <p:nvPr/>
          </p:nvGrpSpPr>
          <p:grpSpPr>
            <a:xfrm>
              <a:off x="5334120" y="5791320"/>
              <a:ext cx="3324240" cy="792000"/>
              <a:chOff x="5334120" y="5791320"/>
              <a:chExt cx="3324240" cy="792000"/>
            </a:xfrm>
          </p:grpSpPr>
          <p:sp>
            <p:nvSpPr>
              <p:cNvPr id="304" name="Freeform 166"/>
              <p:cNvSpPr/>
              <p:nvPr/>
            </p:nvSpPr>
            <p:spPr>
              <a:xfrm>
                <a:off x="5334120" y="5791320"/>
                <a:ext cx="3207240" cy="792000"/>
              </a:xfrm>
              <a:custGeom>
                <a:avLst/>
                <a:gdLst/>
                <a:ahLst/>
                <a:rect l="l" t="t" r="r" b="b"/>
                <a:pathLst>
                  <a:path w="2391" h="591">
                    <a:moveTo>
                      <a:pt x="496" y="492"/>
                    </a:moveTo>
                    <a:cubicBezTo>
                      <a:pt x="461" y="481"/>
                      <a:pt x="443" y="467"/>
                      <a:pt x="413" y="447"/>
                    </a:cubicBezTo>
                    <a:cubicBezTo>
                      <a:pt x="382" y="399"/>
                      <a:pt x="417" y="442"/>
                      <a:pt x="375" y="417"/>
                    </a:cubicBezTo>
                    <a:cubicBezTo>
                      <a:pt x="341" y="397"/>
                      <a:pt x="325" y="355"/>
                      <a:pt x="291" y="333"/>
                    </a:cubicBezTo>
                    <a:cubicBezTo>
                      <a:pt x="274" y="309"/>
                      <a:pt x="263" y="296"/>
                      <a:pt x="238" y="280"/>
                    </a:cubicBezTo>
                    <a:cubicBezTo>
                      <a:pt x="217" y="247"/>
                      <a:pt x="192" y="222"/>
                      <a:pt x="170" y="189"/>
                    </a:cubicBezTo>
                    <a:cubicBezTo>
                      <a:pt x="161" y="175"/>
                      <a:pt x="159" y="156"/>
                      <a:pt x="147" y="144"/>
                    </a:cubicBezTo>
                    <a:cubicBezTo>
                      <a:pt x="136" y="132"/>
                      <a:pt x="95" y="126"/>
                      <a:pt x="79" y="121"/>
                    </a:cubicBezTo>
                    <a:cubicBezTo>
                      <a:pt x="0" y="0"/>
                      <a:pt x="303" y="76"/>
                      <a:pt x="314" y="76"/>
                    </a:cubicBezTo>
                    <a:cubicBezTo>
                      <a:pt x="371" y="93"/>
                      <a:pt x="421" y="107"/>
                      <a:pt x="481" y="113"/>
                    </a:cubicBezTo>
                    <a:cubicBezTo>
                      <a:pt x="514" y="122"/>
                      <a:pt x="547" y="132"/>
                      <a:pt x="579" y="144"/>
                    </a:cubicBezTo>
                    <a:cubicBezTo>
                      <a:pt x="610" y="173"/>
                      <a:pt x="652" y="174"/>
                      <a:pt x="693" y="182"/>
                    </a:cubicBezTo>
                    <a:cubicBezTo>
                      <a:pt x="772" y="197"/>
                      <a:pt x="847" y="205"/>
                      <a:pt x="928" y="212"/>
                    </a:cubicBezTo>
                    <a:cubicBezTo>
                      <a:pt x="1096" y="247"/>
                      <a:pt x="914" y="211"/>
                      <a:pt x="1352" y="227"/>
                    </a:cubicBezTo>
                    <a:cubicBezTo>
                      <a:pt x="1698" y="239"/>
                      <a:pt x="2045" y="240"/>
                      <a:pt x="2391" y="242"/>
                    </a:cubicBezTo>
                    <a:cubicBezTo>
                      <a:pt x="2386" y="374"/>
                      <a:pt x="2386" y="473"/>
                      <a:pt x="2345" y="591"/>
                    </a:cubicBezTo>
                    <a:cubicBezTo>
                      <a:pt x="1844" y="586"/>
                      <a:pt x="1373" y="567"/>
                      <a:pt x="875" y="561"/>
                    </a:cubicBezTo>
                    <a:cubicBezTo>
                      <a:pt x="798" y="534"/>
                      <a:pt x="697" y="529"/>
                      <a:pt x="617" y="523"/>
                    </a:cubicBezTo>
                    <a:cubicBezTo>
                      <a:pt x="604" y="518"/>
                      <a:pt x="586" y="511"/>
                      <a:pt x="572" y="508"/>
                    </a:cubicBezTo>
                    <a:cubicBezTo>
                      <a:pt x="547" y="502"/>
                      <a:pt x="496" y="492"/>
                      <a:pt x="496" y="4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7"/>
              <p:cNvSpPr/>
              <p:nvPr/>
            </p:nvSpPr>
            <p:spPr>
              <a:xfrm>
                <a:off x="7310160" y="6079320"/>
                <a:ext cx="1348200" cy="317880"/>
              </a:xfrm>
              <a:custGeom>
                <a:avLst/>
                <a:gdLst/>
                <a:ahLst/>
                <a:rect l="l" t="t" r="r" b="b"/>
                <a:pathLst>
                  <a:path w="1005" h="237">
                    <a:moveTo>
                      <a:pt x="538" y="91"/>
                    </a:moveTo>
                    <a:cubicBezTo>
                      <a:pt x="676" y="85"/>
                      <a:pt x="810" y="71"/>
                      <a:pt x="947" y="61"/>
                    </a:cubicBezTo>
                    <a:cubicBezTo>
                      <a:pt x="988" y="47"/>
                      <a:pt x="1005" y="18"/>
                      <a:pt x="955" y="0"/>
                    </a:cubicBezTo>
                    <a:cubicBezTo>
                      <a:pt x="750" y="5"/>
                      <a:pt x="545" y="5"/>
                      <a:pt x="341" y="23"/>
                    </a:cubicBezTo>
                    <a:cubicBezTo>
                      <a:pt x="285" y="40"/>
                      <a:pt x="225" y="41"/>
                      <a:pt x="167" y="46"/>
                    </a:cubicBezTo>
                    <a:cubicBezTo>
                      <a:pt x="112" y="56"/>
                      <a:pt x="56" y="62"/>
                      <a:pt x="0" y="68"/>
                    </a:cubicBezTo>
                    <a:cubicBezTo>
                      <a:pt x="24" y="104"/>
                      <a:pt x="6" y="88"/>
                      <a:pt x="60" y="106"/>
                    </a:cubicBezTo>
                    <a:cubicBezTo>
                      <a:pt x="68" y="109"/>
                      <a:pt x="83" y="114"/>
                      <a:pt x="83" y="114"/>
                    </a:cubicBezTo>
                    <a:cubicBezTo>
                      <a:pt x="536" y="106"/>
                      <a:pt x="460" y="237"/>
                      <a:pt x="538" y="9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169"/>
            <p:cNvSpPr/>
            <p:nvPr/>
          </p:nvSpPr>
          <p:spPr>
            <a:xfrm>
              <a:off x="6282360" y="587052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70"/>
            <p:cNvSpPr/>
            <p:nvPr/>
          </p:nvSpPr>
          <p:spPr>
            <a:xfrm>
              <a:off x="6432840" y="5891760"/>
              <a:ext cx="210240" cy="37116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71"/>
            <p:cNvSpPr/>
            <p:nvPr/>
          </p:nvSpPr>
          <p:spPr>
            <a:xfrm>
              <a:off x="6582960" y="588780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72"/>
            <p:cNvSpPr/>
            <p:nvPr/>
          </p:nvSpPr>
          <p:spPr>
            <a:xfrm>
              <a:off x="6722280" y="5963040"/>
              <a:ext cx="21060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73"/>
            <p:cNvSpPr/>
            <p:nvPr/>
          </p:nvSpPr>
          <p:spPr>
            <a:xfrm>
              <a:off x="6883560" y="591984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4"/>
            <p:cNvSpPr/>
            <p:nvPr/>
          </p:nvSpPr>
          <p:spPr>
            <a:xfrm>
              <a:off x="6997320" y="6041880"/>
              <a:ext cx="21060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75"/>
            <p:cNvSpPr/>
            <p:nvPr/>
          </p:nvSpPr>
          <p:spPr>
            <a:xfrm>
              <a:off x="5988600" y="5898600"/>
              <a:ext cx="210600" cy="37116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76"/>
            <p:cNvSpPr/>
            <p:nvPr/>
          </p:nvSpPr>
          <p:spPr>
            <a:xfrm>
              <a:off x="7763400" y="5984280"/>
              <a:ext cx="210600" cy="37116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77"/>
            <p:cNvSpPr/>
            <p:nvPr/>
          </p:nvSpPr>
          <p:spPr>
            <a:xfrm>
              <a:off x="7587720" y="607032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78"/>
            <p:cNvSpPr/>
            <p:nvPr/>
          </p:nvSpPr>
          <p:spPr>
            <a:xfrm>
              <a:off x="7426800" y="600588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9"/>
            <p:cNvSpPr/>
            <p:nvPr/>
          </p:nvSpPr>
          <p:spPr>
            <a:xfrm>
              <a:off x="7952400" y="5919840"/>
              <a:ext cx="210240" cy="37080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247"/>
                  </a:moveTo>
                  <a:cubicBezTo>
                    <a:pt x="39" y="208"/>
                    <a:pt x="61" y="165"/>
                    <a:pt x="99" y="125"/>
                  </a:cubicBezTo>
                  <a:cubicBezTo>
                    <a:pt x="121" y="58"/>
                    <a:pt x="112" y="96"/>
                    <a:pt x="122" y="12"/>
                  </a:cubicBezTo>
                  <a:cubicBezTo>
                    <a:pt x="145" y="14"/>
                    <a:pt x="177" y="0"/>
                    <a:pt x="190" y="19"/>
                  </a:cubicBezTo>
                  <a:cubicBezTo>
                    <a:pt x="205" y="42"/>
                    <a:pt x="186" y="75"/>
                    <a:pt x="182" y="103"/>
                  </a:cubicBezTo>
                  <a:cubicBezTo>
                    <a:pt x="177" y="141"/>
                    <a:pt x="145" y="189"/>
                    <a:pt x="114" y="209"/>
                  </a:cubicBezTo>
                  <a:cubicBezTo>
                    <a:pt x="110" y="215"/>
                    <a:pt x="78" y="277"/>
                    <a:pt x="76" y="277"/>
                  </a:cubicBezTo>
                  <a:cubicBezTo>
                    <a:pt x="49" y="275"/>
                    <a:pt x="25" y="257"/>
                    <a:pt x="0" y="2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Oval 190"/>
          <p:cNvSpPr/>
          <p:nvPr/>
        </p:nvSpPr>
        <p:spPr>
          <a:xfrm rot="120000">
            <a:off x="990720" y="6278040"/>
            <a:ext cx="2438280" cy="244800"/>
          </a:xfrm>
          <a:prstGeom prst="ellipse">
            <a:avLst/>
          </a:prstGeom>
          <a:gradFill rotWithShape="0">
            <a:gsLst>
              <a:gs pos="0">
                <a:srgbClr val="3a2700"/>
              </a:gs>
              <a:gs pos="100000">
                <a:srgbClr val="3a2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81"/>
          <p:cNvSpPr/>
          <p:nvPr/>
        </p:nvSpPr>
        <p:spPr>
          <a:xfrm rot="120000">
            <a:off x="4723920" y="6350040"/>
            <a:ext cx="4876920" cy="355680"/>
          </a:xfrm>
          <a:prstGeom prst="ellipse">
            <a:avLst/>
          </a:prstGeom>
          <a:gradFill rotWithShape="0">
            <a:gsLst>
              <a:gs pos="0">
                <a:srgbClr val="1e1400"/>
              </a:gs>
              <a:gs pos="100000">
                <a:srgbClr val="1e14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91"/>
          <p:cNvSpPr/>
          <p:nvPr/>
        </p:nvSpPr>
        <p:spPr>
          <a:xfrm>
            <a:off x="3048120" y="6718320"/>
            <a:ext cx="380880" cy="763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92"/>
          <p:cNvSpPr/>
          <p:nvPr/>
        </p:nvSpPr>
        <p:spPr>
          <a:xfrm rot="12217800">
            <a:off x="3538080" y="6705000"/>
            <a:ext cx="195480" cy="889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93"/>
          <p:cNvSpPr/>
          <p:nvPr/>
        </p:nvSpPr>
        <p:spPr>
          <a:xfrm>
            <a:off x="4724280" y="6553080"/>
            <a:ext cx="381240" cy="763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94"/>
          <p:cNvSpPr/>
          <p:nvPr/>
        </p:nvSpPr>
        <p:spPr>
          <a:xfrm flipH="1">
            <a:off x="5029200" y="6705720"/>
            <a:ext cx="380880" cy="7596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95"/>
          <p:cNvSpPr/>
          <p:nvPr/>
        </p:nvSpPr>
        <p:spPr>
          <a:xfrm flipH="1" flipV="1" rot="10635000">
            <a:off x="5775840" y="6705000"/>
            <a:ext cx="380880" cy="7596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96"/>
          <p:cNvSpPr/>
          <p:nvPr/>
        </p:nvSpPr>
        <p:spPr>
          <a:xfrm flipH="1" flipV="1" rot="21435000">
            <a:off x="7085880" y="6780960"/>
            <a:ext cx="380880" cy="763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97"/>
          <p:cNvSpPr/>
          <p:nvPr/>
        </p:nvSpPr>
        <p:spPr>
          <a:xfrm rot="12217800">
            <a:off x="6738480" y="6705000"/>
            <a:ext cx="195480" cy="889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98"/>
          <p:cNvSpPr/>
          <p:nvPr/>
        </p:nvSpPr>
        <p:spPr>
          <a:xfrm flipH="1">
            <a:off x="8229600" y="6705720"/>
            <a:ext cx="380880" cy="7596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99"/>
          <p:cNvSpPr/>
          <p:nvPr/>
        </p:nvSpPr>
        <p:spPr>
          <a:xfrm rot="12217800">
            <a:off x="262080" y="6705000"/>
            <a:ext cx="195120" cy="889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00"/>
          <p:cNvSpPr/>
          <p:nvPr/>
        </p:nvSpPr>
        <p:spPr>
          <a:xfrm>
            <a:off x="533520" y="6781680"/>
            <a:ext cx="380880" cy="76320"/>
          </a:xfrm>
          <a:custGeom>
            <a:avLst/>
            <a:gdLst/>
            <a:ahLst/>
            <a:rect l="l" t="t" r="r" b="b"/>
            <a:pathLst>
              <a:path w="520" h="104">
                <a:moveTo>
                  <a:pt x="88" y="48"/>
                </a:moveTo>
                <a:cubicBezTo>
                  <a:pt x="136" y="32"/>
                  <a:pt x="256" y="0"/>
                  <a:pt x="328" y="0"/>
                </a:cubicBezTo>
                <a:cubicBezTo>
                  <a:pt x="400" y="0"/>
                  <a:pt x="520" y="32"/>
                  <a:pt x="520" y="48"/>
                </a:cubicBezTo>
                <a:cubicBezTo>
                  <a:pt x="520" y="64"/>
                  <a:pt x="408" y="88"/>
                  <a:pt x="328" y="96"/>
                </a:cubicBezTo>
                <a:cubicBezTo>
                  <a:pt x="248" y="104"/>
                  <a:pt x="80" y="104"/>
                  <a:pt x="40" y="96"/>
                </a:cubicBezTo>
                <a:cubicBezTo>
                  <a:pt x="0" y="88"/>
                  <a:pt x="40" y="64"/>
                  <a:pt x="88" y="48"/>
                </a:cubicBezTo>
                <a:close/>
              </a:path>
            </a:pathLst>
          </a:custGeom>
          <a:solidFill>
            <a:srgbClr val="c0c0c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210"/>
          <p:cNvSpPr/>
          <p:nvPr/>
        </p:nvSpPr>
        <p:spPr>
          <a:xfrm>
            <a:off x="4038480" y="762120"/>
            <a:ext cx="546120" cy="15552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11"/>
          <p:cNvSpPr/>
          <p:nvPr/>
        </p:nvSpPr>
        <p:spPr>
          <a:xfrm rot="21128400">
            <a:off x="5321160" y="2423880"/>
            <a:ext cx="317520" cy="903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12"/>
          <p:cNvSpPr/>
          <p:nvPr/>
        </p:nvSpPr>
        <p:spPr>
          <a:xfrm rot="678000">
            <a:off x="4938840" y="1954080"/>
            <a:ext cx="457200" cy="795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13"/>
          <p:cNvSpPr/>
          <p:nvPr/>
        </p:nvSpPr>
        <p:spPr>
          <a:xfrm rot="1811400">
            <a:off x="3187440" y="2728440"/>
            <a:ext cx="317520" cy="9072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4"/>
          <p:cNvSpPr/>
          <p:nvPr/>
        </p:nvSpPr>
        <p:spPr>
          <a:xfrm rot="20873400">
            <a:off x="6845400" y="1371240"/>
            <a:ext cx="317520" cy="90360"/>
          </a:xfrm>
          <a:custGeom>
            <a:avLst/>
            <a:gdLst/>
            <a:ahLst/>
            <a:rect l="l" t="t" r="r" b="b"/>
            <a:pathLst>
              <a:path w="1832" h="520">
                <a:moveTo>
                  <a:pt x="992" y="320"/>
                </a:moveTo>
                <a:cubicBezTo>
                  <a:pt x="912" y="272"/>
                  <a:pt x="720" y="16"/>
                  <a:pt x="560" y="32"/>
                </a:cubicBezTo>
                <a:cubicBezTo>
                  <a:pt x="400" y="48"/>
                  <a:pt x="64" y="392"/>
                  <a:pt x="32" y="416"/>
                </a:cubicBezTo>
                <a:cubicBezTo>
                  <a:pt x="0" y="440"/>
                  <a:pt x="240" y="208"/>
                  <a:pt x="368" y="176"/>
                </a:cubicBezTo>
                <a:cubicBezTo>
                  <a:pt x="496" y="144"/>
                  <a:pt x="696" y="184"/>
                  <a:pt x="800" y="224"/>
                </a:cubicBezTo>
                <a:cubicBezTo>
                  <a:pt x="904" y="264"/>
                  <a:pt x="952" y="368"/>
                  <a:pt x="992" y="416"/>
                </a:cubicBezTo>
                <a:cubicBezTo>
                  <a:pt x="1032" y="464"/>
                  <a:pt x="1008" y="504"/>
                  <a:pt x="1040" y="512"/>
                </a:cubicBezTo>
                <a:cubicBezTo>
                  <a:pt x="1072" y="520"/>
                  <a:pt x="1160" y="488"/>
                  <a:pt x="1184" y="464"/>
                </a:cubicBezTo>
                <a:cubicBezTo>
                  <a:pt x="1208" y="440"/>
                  <a:pt x="1136" y="424"/>
                  <a:pt x="1184" y="368"/>
                </a:cubicBezTo>
                <a:cubicBezTo>
                  <a:pt x="1232" y="312"/>
                  <a:pt x="1368" y="120"/>
                  <a:pt x="1472" y="128"/>
                </a:cubicBezTo>
                <a:cubicBezTo>
                  <a:pt x="1576" y="136"/>
                  <a:pt x="1784" y="416"/>
                  <a:pt x="1808" y="416"/>
                </a:cubicBezTo>
                <a:cubicBezTo>
                  <a:pt x="1832" y="416"/>
                  <a:pt x="1680" y="192"/>
                  <a:pt x="1616" y="128"/>
                </a:cubicBezTo>
                <a:cubicBezTo>
                  <a:pt x="1552" y="64"/>
                  <a:pt x="1504" y="0"/>
                  <a:pt x="1424" y="32"/>
                </a:cubicBezTo>
                <a:cubicBezTo>
                  <a:pt x="1344" y="64"/>
                  <a:pt x="1200" y="272"/>
                  <a:pt x="1136" y="320"/>
                </a:cubicBezTo>
                <a:cubicBezTo>
                  <a:pt x="1072" y="368"/>
                  <a:pt x="1064" y="320"/>
                  <a:pt x="1040" y="320"/>
                </a:cubicBezTo>
                <a:cubicBezTo>
                  <a:pt x="1016" y="320"/>
                  <a:pt x="1072" y="368"/>
                  <a:pt x="992" y="32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6"/>
          <p:cNvSpPr/>
          <p:nvPr/>
        </p:nvSpPr>
        <p:spPr>
          <a:xfrm>
            <a:off x="2387520" y="5029200"/>
            <a:ext cx="4699080" cy="457200"/>
          </a:xfrm>
          <a:prstGeom prst="ellipse">
            <a:avLst/>
          </a:prstGeom>
          <a:gradFill rotWithShape="0">
            <a:gsLst>
              <a:gs pos="0">
                <a:srgbClr val="ffece1"/>
              </a:gs>
              <a:gs pos="100000">
                <a:srgbClr val="ff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63"/>
          <p:cNvGrpSpPr/>
          <p:nvPr/>
        </p:nvGrpSpPr>
        <p:grpSpPr>
          <a:xfrm>
            <a:off x="3504960" y="5105520"/>
            <a:ext cx="1400040" cy="487080"/>
            <a:chOff x="3504960" y="5105520"/>
            <a:chExt cx="1400040" cy="487080"/>
          </a:xfrm>
        </p:grpSpPr>
        <p:grpSp>
          <p:nvGrpSpPr>
            <p:cNvPr id="336" name="Group 217"/>
            <p:cNvGrpSpPr/>
            <p:nvPr/>
          </p:nvGrpSpPr>
          <p:grpSpPr>
            <a:xfrm>
              <a:off x="3504960" y="5304240"/>
              <a:ext cx="1400040" cy="288360"/>
              <a:chOff x="3504960" y="5304240"/>
              <a:chExt cx="1400040" cy="288360"/>
            </a:xfrm>
          </p:grpSpPr>
          <p:sp>
            <p:nvSpPr>
              <p:cNvPr id="337" name="Freeform 218"/>
              <p:cNvSpPr/>
              <p:nvPr/>
            </p:nvSpPr>
            <p:spPr>
              <a:xfrm flipH="1">
                <a:off x="3554280" y="5304240"/>
                <a:ext cx="1350720" cy="288360"/>
              </a:xfrm>
              <a:custGeom>
                <a:avLst/>
                <a:gdLst/>
                <a:ahLst/>
                <a:rect l="l" t="t" r="r" b="b"/>
                <a:pathLst>
                  <a:path w="2391" h="591">
                    <a:moveTo>
                      <a:pt x="496" y="492"/>
                    </a:moveTo>
                    <a:cubicBezTo>
                      <a:pt x="461" y="481"/>
                      <a:pt x="443" y="467"/>
                      <a:pt x="413" y="447"/>
                    </a:cubicBezTo>
                    <a:cubicBezTo>
                      <a:pt x="382" y="399"/>
                      <a:pt x="417" y="442"/>
                      <a:pt x="375" y="417"/>
                    </a:cubicBezTo>
                    <a:cubicBezTo>
                      <a:pt x="341" y="397"/>
                      <a:pt x="325" y="355"/>
                      <a:pt x="291" y="333"/>
                    </a:cubicBezTo>
                    <a:cubicBezTo>
                      <a:pt x="274" y="309"/>
                      <a:pt x="263" y="296"/>
                      <a:pt x="238" y="280"/>
                    </a:cubicBezTo>
                    <a:cubicBezTo>
                      <a:pt x="217" y="247"/>
                      <a:pt x="192" y="222"/>
                      <a:pt x="170" y="189"/>
                    </a:cubicBezTo>
                    <a:cubicBezTo>
                      <a:pt x="161" y="175"/>
                      <a:pt x="159" y="156"/>
                      <a:pt x="147" y="144"/>
                    </a:cubicBezTo>
                    <a:cubicBezTo>
                      <a:pt x="136" y="132"/>
                      <a:pt x="95" y="126"/>
                      <a:pt x="79" y="121"/>
                    </a:cubicBezTo>
                    <a:cubicBezTo>
                      <a:pt x="0" y="0"/>
                      <a:pt x="303" y="76"/>
                      <a:pt x="314" y="76"/>
                    </a:cubicBezTo>
                    <a:cubicBezTo>
                      <a:pt x="371" y="93"/>
                      <a:pt x="421" y="107"/>
                      <a:pt x="481" y="113"/>
                    </a:cubicBezTo>
                    <a:cubicBezTo>
                      <a:pt x="514" y="122"/>
                      <a:pt x="547" y="132"/>
                      <a:pt x="579" y="144"/>
                    </a:cubicBezTo>
                    <a:cubicBezTo>
                      <a:pt x="610" y="173"/>
                      <a:pt x="652" y="174"/>
                      <a:pt x="693" y="182"/>
                    </a:cubicBezTo>
                    <a:cubicBezTo>
                      <a:pt x="772" y="197"/>
                      <a:pt x="847" y="205"/>
                      <a:pt x="928" y="212"/>
                    </a:cubicBezTo>
                    <a:cubicBezTo>
                      <a:pt x="1096" y="247"/>
                      <a:pt x="914" y="211"/>
                      <a:pt x="1352" y="227"/>
                    </a:cubicBezTo>
                    <a:cubicBezTo>
                      <a:pt x="1698" y="239"/>
                      <a:pt x="2045" y="240"/>
                      <a:pt x="2391" y="242"/>
                    </a:cubicBezTo>
                    <a:cubicBezTo>
                      <a:pt x="2386" y="374"/>
                      <a:pt x="2386" y="473"/>
                      <a:pt x="2345" y="591"/>
                    </a:cubicBezTo>
                    <a:cubicBezTo>
                      <a:pt x="1844" y="586"/>
                      <a:pt x="1373" y="567"/>
                      <a:pt x="875" y="561"/>
                    </a:cubicBezTo>
                    <a:cubicBezTo>
                      <a:pt x="798" y="534"/>
                      <a:pt x="697" y="529"/>
                      <a:pt x="617" y="523"/>
                    </a:cubicBezTo>
                    <a:cubicBezTo>
                      <a:pt x="604" y="518"/>
                      <a:pt x="586" y="511"/>
                      <a:pt x="572" y="508"/>
                    </a:cubicBezTo>
                    <a:cubicBezTo>
                      <a:pt x="547" y="502"/>
                      <a:pt x="496" y="492"/>
                      <a:pt x="496" y="49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19"/>
              <p:cNvSpPr/>
              <p:nvPr/>
            </p:nvSpPr>
            <p:spPr>
              <a:xfrm flipH="1">
                <a:off x="3504600" y="5409000"/>
                <a:ext cx="567720" cy="115560"/>
              </a:xfrm>
              <a:custGeom>
                <a:avLst/>
                <a:gdLst/>
                <a:ahLst/>
                <a:rect l="l" t="t" r="r" b="b"/>
                <a:pathLst>
                  <a:path w="1005" h="237">
                    <a:moveTo>
                      <a:pt x="538" y="91"/>
                    </a:moveTo>
                    <a:cubicBezTo>
                      <a:pt x="676" y="85"/>
                      <a:pt x="810" y="71"/>
                      <a:pt x="947" y="61"/>
                    </a:cubicBezTo>
                    <a:cubicBezTo>
                      <a:pt x="988" y="47"/>
                      <a:pt x="1005" y="18"/>
                      <a:pt x="955" y="0"/>
                    </a:cubicBezTo>
                    <a:cubicBezTo>
                      <a:pt x="750" y="5"/>
                      <a:pt x="545" y="5"/>
                      <a:pt x="341" y="23"/>
                    </a:cubicBezTo>
                    <a:cubicBezTo>
                      <a:pt x="285" y="40"/>
                      <a:pt x="225" y="41"/>
                      <a:pt x="167" y="46"/>
                    </a:cubicBezTo>
                    <a:cubicBezTo>
                      <a:pt x="112" y="56"/>
                      <a:pt x="56" y="62"/>
                      <a:pt x="0" y="68"/>
                    </a:cubicBezTo>
                    <a:cubicBezTo>
                      <a:pt x="24" y="104"/>
                      <a:pt x="6" y="88"/>
                      <a:pt x="60" y="106"/>
                    </a:cubicBezTo>
                    <a:cubicBezTo>
                      <a:pt x="68" y="109"/>
                      <a:pt x="83" y="114"/>
                      <a:pt x="83" y="114"/>
                    </a:cubicBezTo>
                    <a:cubicBezTo>
                      <a:pt x="536" y="106"/>
                      <a:pt x="460" y="237"/>
                      <a:pt x="538" y="9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43"/>
            <p:cNvGrpSpPr/>
            <p:nvPr/>
          </p:nvGrpSpPr>
          <p:grpSpPr>
            <a:xfrm>
              <a:off x="4363920" y="5113440"/>
              <a:ext cx="299160" cy="370080"/>
              <a:chOff x="4363920" y="5113440"/>
              <a:chExt cx="299160" cy="370080"/>
            </a:xfrm>
          </p:grpSpPr>
          <p:sp>
            <p:nvSpPr>
              <p:cNvPr id="340" name="Freeform 236"/>
              <p:cNvSpPr/>
              <p:nvPr/>
            </p:nvSpPr>
            <p:spPr>
              <a:xfrm rot="1813800">
                <a:off x="4421880" y="5198040"/>
                <a:ext cx="155160" cy="26424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37"/>
              <p:cNvSpPr/>
              <p:nvPr/>
            </p:nvSpPr>
            <p:spPr>
              <a:xfrm rot="2055000">
                <a:off x="4416840" y="5195160"/>
                <a:ext cx="61200" cy="20808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38"/>
              <p:cNvSpPr/>
              <p:nvPr/>
            </p:nvSpPr>
            <p:spPr>
              <a:xfrm flipH="1" rot="2055000">
                <a:off x="4531680" y="5258880"/>
                <a:ext cx="55080" cy="20808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39"/>
              <p:cNvSpPr/>
              <p:nvPr/>
            </p:nvSpPr>
            <p:spPr>
              <a:xfrm rot="1813800">
                <a:off x="4545720" y="5132160"/>
                <a:ext cx="89640" cy="12312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40"/>
              <p:cNvSpPr/>
              <p:nvPr/>
            </p:nvSpPr>
            <p:spPr>
              <a:xfrm rot="1813800">
                <a:off x="4524120" y="5212440"/>
                <a:ext cx="83880" cy="4752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41"/>
              <p:cNvSpPr/>
              <p:nvPr/>
            </p:nvSpPr>
            <p:spPr>
              <a:xfrm rot="1813800">
                <a:off x="4420440" y="5374080"/>
                <a:ext cx="68760" cy="6876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42"/>
              <p:cNvSpPr/>
              <p:nvPr/>
            </p:nvSpPr>
            <p:spPr>
              <a:xfrm rot="1813800">
                <a:off x="4549680" y="5130360"/>
                <a:ext cx="94680" cy="9900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44"/>
            <p:cNvGrpSpPr/>
            <p:nvPr/>
          </p:nvGrpSpPr>
          <p:grpSpPr>
            <a:xfrm>
              <a:off x="4135320" y="5105520"/>
              <a:ext cx="214920" cy="383400"/>
              <a:chOff x="4135320" y="5105520"/>
              <a:chExt cx="214920" cy="383400"/>
            </a:xfrm>
          </p:grpSpPr>
          <p:sp>
            <p:nvSpPr>
              <p:cNvPr id="348" name="Freeform 245"/>
              <p:cNvSpPr/>
              <p:nvPr/>
            </p:nvSpPr>
            <p:spPr>
              <a:xfrm>
                <a:off x="4156920" y="5208120"/>
                <a:ext cx="165240" cy="28080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46"/>
              <p:cNvSpPr/>
              <p:nvPr/>
            </p:nvSpPr>
            <p:spPr>
              <a:xfrm rot="241200">
                <a:off x="4142880" y="5236920"/>
                <a:ext cx="65160" cy="2214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47"/>
              <p:cNvSpPr/>
              <p:nvPr/>
            </p:nvSpPr>
            <p:spPr>
              <a:xfrm flipH="1" rot="241800">
                <a:off x="4284000" y="5235480"/>
                <a:ext cx="58680" cy="2214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48"/>
              <p:cNvSpPr/>
              <p:nvPr/>
            </p:nvSpPr>
            <p:spPr>
              <a:xfrm>
                <a:off x="4202640" y="5108400"/>
                <a:ext cx="95400" cy="13104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49"/>
              <p:cNvSpPr/>
              <p:nvPr/>
            </p:nvSpPr>
            <p:spPr>
              <a:xfrm>
                <a:off x="4205880" y="5201280"/>
                <a:ext cx="89280" cy="5040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50"/>
              <p:cNvSpPr/>
              <p:nvPr/>
            </p:nvSpPr>
            <p:spPr>
              <a:xfrm>
                <a:off x="4203720" y="5407560"/>
                <a:ext cx="73080" cy="7344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51"/>
              <p:cNvSpPr/>
              <p:nvPr/>
            </p:nvSpPr>
            <p:spPr>
              <a:xfrm>
                <a:off x="4198320" y="5105520"/>
                <a:ext cx="100800" cy="10548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62"/>
            <p:cNvGrpSpPr/>
            <p:nvPr/>
          </p:nvGrpSpPr>
          <p:grpSpPr>
            <a:xfrm>
              <a:off x="3830760" y="5207040"/>
              <a:ext cx="162360" cy="276840"/>
              <a:chOff x="3830760" y="5207040"/>
              <a:chExt cx="162360" cy="276840"/>
            </a:xfrm>
          </p:grpSpPr>
          <p:sp>
            <p:nvSpPr>
              <p:cNvPr id="356" name="Freeform 255"/>
              <p:cNvSpPr/>
              <p:nvPr/>
            </p:nvSpPr>
            <p:spPr>
              <a:xfrm flipH="1">
                <a:off x="3857040" y="5280840"/>
                <a:ext cx="119880" cy="20304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56"/>
              <p:cNvSpPr/>
              <p:nvPr/>
            </p:nvSpPr>
            <p:spPr>
              <a:xfrm flipH="1" rot="21358800">
                <a:off x="3939840" y="5301360"/>
                <a:ext cx="47520" cy="1602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57"/>
              <p:cNvSpPr/>
              <p:nvPr/>
            </p:nvSpPr>
            <p:spPr>
              <a:xfrm rot="300000">
                <a:off x="3837600" y="5290200"/>
                <a:ext cx="42480" cy="16056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58"/>
              <p:cNvSpPr/>
              <p:nvPr/>
            </p:nvSpPr>
            <p:spPr>
              <a:xfrm flipH="1">
                <a:off x="3874320" y="5208840"/>
                <a:ext cx="68760" cy="9504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59"/>
              <p:cNvSpPr/>
              <p:nvPr/>
            </p:nvSpPr>
            <p:spPr>
              <a:xfrm flipH="1">
                <a:off x="3876840" y="5275800"/>
                <a:ext cx="64800" cy="3672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60"/>
              <p:cNvSpPr/>
              <p:nvPr/>
            </p:nvSpPr>
            <p:spPr>
              <a:xfrm flipH="1">
                <a:off x="3890160" y="5425200"/>
                <a:ext cx="53280" cy="5292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61"/>
              <p:cNvSpPr/>
              <p:nvPr/>
            </p:nvSpPr>
            <p:spPr>
              <a:xfrm flipH="1">
                <a:off x="3873960" y="5207040"/>
                <a:ext cx="76320" cy="6804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3" name="Group 264"/>
          <p:cNvGrpSpPr/>
          <p:nvPr/>
        </p:nvGrpSpPr>
        <p:grpSpPr>
          <a:xfrm>
            <a:off x="3504960" y="5562720"/>
            <a:ext cx="1400040" cy="307440"/>
            <a:chOff x="3504960" y="5562720"/>
            <a:chExt cx="1400040" cy="307440"/>
          </a:xfrm>
        </p:grpSpPr>
        <p:grpSp>
          <p:nvGrpSpPr>
            <p:cNvPr id="364" name="Group 265"/>
            <p:cNvGrpSpPr/>
            <p:nvPr/>
          </p:nvGrpSpPr>
          <p:grpSpPr>
            <a:xfrm>
              <a:off x="3504960" y="5562720"/>
              <a:ext cx="1400040" cy="180360"/>
              <a:chOff x="3504960" y="5562720"/>
              <a:chExt cx="1400040" cy="180360"/>
            </a:xfrm>
          </p:grpSpPr>
          <p:sp>
            <p:nvSpPr>
              <p:cNvPr id="365" name="Freeform 266"/>
              <p:cNvSpPr/>
              <p:nvPr/>
            </p:nvSpPr>
            <p:spPr>
              <a:xfrm flipH="1" flipV="1">
                <a:off x="3554280" y="5562360"/>
                <a:ext cx="1350720" cy="180360"/>
              </a:xfrm>
              <a:custGeom>
                <a:avLst/>
                <a:gdLst/>
                <a:ahLst/>
                <a:rect l="l" t="t" r="r" b="b"/>
                <a:pathLst>
                  <a:path w="2391" h="591">
                    <a:moveTo>
                      <a:pt x="496" y="492"/>
                    </a:moveTo>
                    <a:cubicBezTo>
                      <a:pt x="461" y="481"/>
                      <a:pt x="443" y="467"/>
                      <a:pt x="413" y="447"/>
                    </a:cubicBezTo>
                    <a:cubicBezTo>
                      <a:pt x="382" y="399"/>
                      <a:pt x="417" y="442"/>
                      <a:pt x="375" y="417"/>
                    </a:cubicBezTo>
                    <a:cubicBezTo>
                      <a:pt x="341" y="397"/>
                      <a:pt x="325" y="355"/>
                      <a:pt x="291" y="333"/>
                    </a:cubicBezTo>
                    <a:cubicBezTo>
                      <a:pt x="274" y="309"/>
                      <a:pt x="263" y="296"/>
                      <a:pt x="238" y="280"/>
                    </a:cubicBezTo>
                    <a:cubicBezTo>
                      <a:pt x="217" y="247"/>
                      <a:pt x="192" y="222"/>
                      <a:pt x="170" y="189"/>
                    </a:cubicBezTo>
                    <a:cubicBezTo>
                      <a:pt x="161" y="175"/>
                      <a:pt x="159" y="156"/>
                      <a:pt x="147" y="144"/>
                    </a:cubicBezTo>
                    <a:cubicBezTo>
                      <a:pt x="136" y="132"/>
                      <a:pt x="95" y="126"/>
                      <a:pt x="79" y="121"/>
                    </a:cubicBezTo>
                    <a:cubicBezTo>
                      <a:pt x="0" y="0"/>
                      <a:pt x="303" y="76"/>
                      <a:pt x="314" y="76"/>
                    </a:cubicBezTo>
                    <a:cubicBezTo>
                      <a:pt x="371" y="93"/>
                      <a:pt x="421" y="107"/>
                      <a:pt x="481" y="113"/>
                    </a:cubicBezTo>
                    <a:cubicBezTo>
                      <a:pt x="514" y="122"/>
                      <a:pt x="547" y="132"/>
                      <a:pt x="579" y="144"/>
                    </a:cubicBezTo>
                    <a:cubicBezTo>
                      <a:pt x="610" y="173"/>
                      <a:pt x="652" y="174"/>
                      <a:pt x="693" y="182"/>
                    </a:cubicBezTo>
                    <a:cubicBezTo>
                      <a:pt x="772" y="197"/>
                      <a:pt x="847" y="205"/>
                      <a:pt x="928" y="212"/>
                    </a:cubicBezTo>
                    <a:cubicBezTo>
                      <a:pt x="1096" y="247"/>
                      <a:pt x="914" y="211"/>
                      <a:pt x="1352" y="227"/>
                    </a:cubicBezTo>
                    <a:cubicBezTo>
                      <a:pt x="1698" y="239"/>
                      <a:pt x="2045" y="240"/>
                      <a:pt x="2391" y="242"/>
                    </a:cubicBezTo>
                    <a:cubicBezTo>
                      <a:pt x="2386" y="374"/>
                      <a:pt x="2386" y="473"/>
                      <a:pt x="2345" y="591"/>
                    </a:cubicBezTo>
                    <a:cubicBezTo>
                      <a:pt x="1844" y="586"/>
                      <a:pt x="1373" y="567"/>
                      <a:pt x="875" y="561"/>
                    </a:cubicBezTo>
                    <a:cubicBezTo>
                      <a:pt x="798" y="534"/>
                      <a:pt x="697" y="529"/>
                      <a:pt x="617" y="523"/>
                    </a:cubicBezTo>
                    <a:cubicBezTo>
                      <a:pt x="604" y="518"/>
                      <a:pt x="586" y="511"/>
                      <a:pt x="572" y="508"/>
                    </a:cubicBezTo>
                    <a:cubicBezTo>
                      <a:pt x="547" y="502"/>
                      <a:pt x="496" y="492"/>
                      <a:pt x="496" y="492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67"/>
              <p:cNvSpPr/>
              <p:nvPr/>
            </p:nvSpPr>
            <p:spPr>
              <a:xfrm flipH="1" flipV="1">
                <a:off x="3504600" y="5604840"/>
                <a:ext cx="567720" cy="72360"/>
              </a:xfrm>
              <a:custGeom>
                <a:avLst/>
                <a:gdLst/>
                <a:ahLst/>
                <a:rect l="l" t="t" r="r" b="b"/>
                <a:pathLst>
                  <a:path w="1005" h="237">
                    <a:moveTo>
                      <a:pt x="538" y="91"/>
                    </a:moveTo>
                    <a:cubicBezTo>
                      <a:pt x="676" y="85"/>
                      <a:pt x="810" y="71"/>
                      <a:pt x="947" y="61"/>
                    </a:cubicBezTo>
                    <a:cubicBezTo>
                      <a:pt x="988" y="47"/>
                      <a:pt x="1005" y="18"/>
                      <a:pt x="955" y="0"/>
                    </a:cubicBezTo>
                    <a:cubicBezTo>
                      <a:pt x="750" y="5"/>
                      <a:pt x="545" y="5"/>
                      <a:pt x="341" y="23"/>
                    </a:cubicBezTo>
                    <a:cubicBezTo>
                      <a:pt x="285" y="40"/>
                      <a:pt x="225" y="41"/>
                      <a:pt x="167" y="46"/>
                    </a:cubicBezTo>
                    <a:cubicBezTo>
                      <a:pt x="112" y="56"/>
                      <a:pt x="56" y="62"/>
                      <a:pt x="0" y="68"/>
                    </a:cubicBezTo>
                    <a:cubicBezTo>
                      <a:pt x="24" y="104"/>
                      <a:pt x="6" y="88"/>
                      <a:pt x="60" y="106"/>
                    </a:cubicBezTo>
                    <a:cubicBezTo>
                      <a:pt x="68" y="109"/>
                      <a:pt x="83" y="114"/>
                      <a:pt x="83" y="114"/>
                    </a:cubicBezTo>
                    <a:cubicBezTo>
                      <a:pt x="536" y="106"/>
                      <a:pt x="460" y="237"/>
                      <a:pt x="538" y="91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68"/>
            <p:cNvGrpSpPr/>
            <p:nvPr/>
          </p:nvGrpSpPr>
          <p:grpSpPr>
            <a:xfrm>
              <a:off x="4394880" y="5617080"/>
              <a:ext cx="234000" cy="253080"/>
              <a:chOff x="4394880" y="5617080"/>
              <a:chExt cx="234000" cy="253080"/>
            </a:xfrm>
          </p:grpSpPr>
          <p:sp>
            <p:nvSpPr>
              <p:cNvPr id="368" name="Freeform 269"/>
              <p:cNvSpPr/>
              <p:nvPr/>
            </p:nvSpPr>
            <p:spPr>
              <a:xfrm flipV="1" rot="19786200">
                <a:off x="4431240" y="5644440"/>
                <a:ext cx="155160" cy="16488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70"/>
              <p:cNvSpPr/>
              <p:nvPr/>
            </p:nvSpPr>
            <p:spPr>
              <a:xfrm flipV="1" rot="19545000">
                <a:off x="4426200" y="5693040"/>
                <a:ext cx="61560" cy="12996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71"/>
              <p:cNvSpPr/>
              <p:nvPr/>
            </p:nvSpPr>
            <p:spPr>
              <a:xfrm flipH="1" flipV="1" rot="19545000">
                <a:off x="4541040" y="5628600"/>
                <a:ext cx="55080" cy="12996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72"/>
              <p:cNvSpPr/>
              <p:nvPr/>
            </p:nvSpPr>
            <p:spPr>
              <a:xfrm flipV="1" rot="19786200">
                <a:off x="4524120" y="5772240"/>
                <a:ext cx="89640" cy="7704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73"/>
              <p:cNvSpPr/>
              <p:nvPr/>
            </p:nvSpPr>
            <p:spPr>
              <a:xfrm flipV="1" rot="19786200">
                <a:off x="4511880" y="5769360"/>
                <a:ext cx="83880" cy="2952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74"/>
              <p:cNvSpPr/>
              <p:nvPr/>
            </p:nvSpPr>
            <p:spPr>
              <a:xfrm flipV="1" rot="19786200">
                <a:off x="4446720" y="5656320"/>
                <a:ext cx="68760" cy="4284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75"/>
              <p:cNvSpPr/>
              <p:nvPr/>
            </p:nvSpPr>
            <p:spPr>
              <a:xfrm flipV="1" rot="19786200">
                <a:off x="4524840" y="5788080"/>
                <a:ext cx="94680" cy="6192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76"/>
            <p:cNvGrpSpPr/>
            <p:nvPr/>
          </p:nvGrpSpPr>
          <p:grpSpPr>
            <a:xfrm>
              <a:off x="4138200" y="5627520"/>
              <a:ext cx="209160" cy="239760"/>
              <a:chOff x="4138200" y="5627520"/>
              <a:chExt cx="209160" cy="239760"/>
            </a:xfrm>
          </p:grpSpPr>
          <p:sp>
            <p:nvSpPr>
              <p:cNvPr id="376" name="Freeform 277"/>
              <p:cNvSpPr/>
              <p:nvPr/>
            </p:nvSpPr>
            <p:spPr>
              <a:xfrm flipV="1">
                <a:off x="4156920" y="5627520"/>
                <a:ext cx="165240" cy="17568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78"/>
              <p:cNvSpPr/>
              <p:nvPr/>
            </p:nvSpPr>
            <p:spPr>
              <a:xfrm flipV="1" rot="21358800">
                <a:off x="4142520" y="5645520"/>
                <a:ext cx="65160" cy="1386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9"/>
              <p:cNvSpPr/>
              <p:nvPr/>
            </p:nvSpPr>
            <p:spPr>
              <a:xfrm flipH="1" flipV="1" rot="21358200">
                <a:off x="4283280" y="5646600"/>
                <a:ext cx="58680" cy="1386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0"/>
              <p:cNvSpPr/>
              <p:nvPr/>
            </p:nvSpPr>
            <p:spPr>
              <a:xfrm flipV="1">
                <a:off x="4202640" y="5783400"/>
                <a:ext cx="95400" cy="8208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81"/>
              <p:cNvSpPr/>
              <p:nvPr/>
            </p:nvSpPr>
            <p:spPr>
              <a:xfrm flipV="1">
                <a:off x="4205880" y="5775840"/>
                <a:ext cx="89280" cy="3168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82"/>
              <p:cNvSpPr/>
              <p:nvPr/>
            </p:nvSpPr>
            <p:spPr>
              <a:xfrm flipV="1">
                <a:off x="4203720" y="5632200"/>
                <a:ext cx="73080" cy="4572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83"/>
              <p:cNvSpPr/>
              <p:nvPr/>
            </p:nvSpPr>
            <p:spPr>
              <a:xfrm flipV="1">
                <a:off x="4198320" y="5801040"/>
                <a:ext cx="100800" cy="6588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284"/>
            <p:cNvGrpSpPr/>
            <p:nvPr/>
          </p:nvGrpSpPr>
          <p:grpSpPr>
            <a:xfrm>
              <a:off x="3833640" y="5630760"/>
              <a:ext cx="157680" cy="173160"/>
              <a:chOff x="3833640" y="5630760"/>
              <a:chExt cx="157680" cy="173160"/>
            </a:xfrm>
          </p:grpSpPr>
          <p:sp>
            <p:nvSpPr>
              <p:cNvPr id="384" name="Freeform 285"/>
              <p:cNvSpPr/>
              <p:nvPr/>
            </p:nvSpPr>
            <p:spPr>
              <a:xfrm flipH="1" flipV="1">
                <a:off x="3857040" y="5630400"/>
                <a:ext cx="119880" cy="127080"/>
              </a:xfrm>
              <a:custGeom>
                <a:avLst/>
                <a:gdLst/>
                <a:ahLst/>
                <a:rect l="l" t="t" r="r" b="b"/>
                <a:pathLst>
                  <a:path w="675" h="1154">
                    <a:moveTo>
                      <a:pt x="315" y="1111"/>
                    </a:moveTo>
                    <a:cubicBezTo>
                      <a:pt x="336" y="1044"/>
                      <a:pt x="302" y="955"/>
                      <a:pt x="367" y="912"/>
                    </a:cubicBezTo>
                    <a:cubicBezTo>
                      <a:pt x="369" y="900"/>
                      <a:pt x="365" y="884"/>
                      <a:pt x="374" y="875"/>
                    </a:cubicBezTo>
                    <a:cubicBezTo>
                      <a:pt x="379" y="869"/>
                      <a:pt x="379" y="890"/>
                      <a:pt x="381" y="897"/>
                    </a:cubicBezTo>
                    <a:cubicBezTo>
                      <a:pt x="401" y="955"/>
                      <a:pt x="377" y="883"/>
                      <a:pt x="396" y="941"/>
                    </a:cubicBezTo>
                    <a:cubicBezTo>
                      <a:pt x="400" y="986"/>
                      <a:pt x="386" y="1099"/>
                      <a:pt x="440" y="1119"/>
                    </a:cubicBezTo>
                    <a:cubicBezTo>
                      <a:pt x="484" y="1116"/>
                      <a:pt x="561" y="1154"/>
                      <a:pt x="573" y="1111"/>
                    </a:cubicBezTo>
                    <a:cubicBezTo>
                      <a:pt x="621" y="945"/>
                      <a:pt x="556" y="763"/>
                      <a:pt x="588" y="594"/>
                    </a:cubicBezTo>
                    <a:cubicBezTo>
                      <a:pt x="595" y="477"/>
                      <a:pt x="611" y="353"/>
                      <a:pt x="647" y="240"/>
                    </a:cubicBezTo>
                    <a:cubicBezTo>
                      <a:pt x="644" y="173"/>
                      <a:pt x="675" y="86"/>
                      <a:pt x="603" y="63"/>
                    </a:cubicBezTo>
                    <a:cubicBezTo>
                      <a:pt x="510" y="0"/>
                      <a:pt x="442" y="44"/>
                      <a:pt x="300" y="48"/>
                    </a:cubicBezTo>
                    <a:cubicBezTo>
                      <a:pt x="278" y="50"/>
                      <a:pt x="225" y="47"/>
                      <a:pt x="197" y="63"/>
                    </a:cubicBezTo>
                    <a:cubicBezTo>
                      <a:pt x="181" y="72"/>
                      <a:pt x="152" y="92"/>
                      <a:pt x="152" y="92"/>
                    </a:cubicBezTo>
                    <a:cubicBezTo>
                      <a:pt x="132" y="123"/>
                      <a:pt x="121" y="152"/>
                      <a:pt x="101" y="181"/>
                    </a:cubicBezTo>
                    <a:cubicBezTo>
                      <a:pt x="104" y="285"/>
                      <a:pt x="74" y="418"/>
                      <a:pt x="138" y="513"/>
                    </a:cubicBezTo>
                    <a:cubicBezTo>
                      <a:pt x="143" y="528"/>
                      <a:pt x="147" y="542"/>
                      <a:pt x="152" y="557"/>
                    </a:cubicBezTo>
                    <a:cubicBezTo>
                      <a:pt x="155" y="565"/>
                      <a:pt x="160" y="580"/>
                      <a:pt x="160" y="580"/>
                    </a:cubicBezTo>
                    <a:cubicBezTo>
                      <a:pt x="167" y="1114"/>
                      <a:pt x="0" y="1131"/>
                      <a:pt x="315" y="1111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86"/>
              <p:cNvSpPr/>
              <p:nvPr/>
            </p:nvSpPr>
            <p:spPr>
              <a:xfrm flipH="1" flipV="1" rot="241200">
                <a:off x="3939840" y="5643720"/>
                <a:ext cx="47520" cy="10080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87"/>
              <p:cNvSpPr/>
              <p:nvPr/>
            </p:nvSpPr>
            <p:spPr>
              <a:xfrm flipV="1" rot="21300000">
                <a:off x="3837600" y="5651640"/>
                <a:ext cx="42480" cy="100440"/>
              </a:xfrm>
              <a:custGeom>
                <a:avLst/>
                <a:gdLst/>
                <a:ahLst/>
                <a:rect l="l" t="t" r="r" b="b"/>
                <a:pathLst>
                  <a:path w="827" h="2824">
                    <a:moveTo>
                      <a:pt x="481" y="60"/>
                    </a:moveTo>
                    <a:cubicBezTo>
                      <a:pt x="433" y="93"/>
                      <a:pt x="418" y="148"/>
                      <a:pt x="370" y="179"/>
                    </a:cubicBezTo>
                    <a:cubicBezTo>
                      <a:pt x="365" y="186"/>
                      <a:pt x="362" y="195"/>
                      <a:pt x="356" y="201"/>
                    </a:cubicBezTo>
                    <a:cubicBezTo>
                      <a:pt x="347" y="210"/>
                      <a:pt x="333" y="213"/>
                      <a:pt x="326" y="223"/>
                    </a:cubicBezTo>
                    <a:cubicBezTo>
                      <a:pt x="320" y="231"/>
                      <a:pt x="323" y="243"/>
                      <a:pt x="319" y="252"/>
                    </a:cubicBezTo>
                    <a:cubicBezTo>
                      <a:pt x="308" y="277"/>
                      <a:pt x="290" y="298"/>
                      <a:pt x="274" y="319"/>
                    </a:cubicBezTo>
                    <a:cubicBezTo>
                      <a:pt x="261" y="353"/>
                      <a:pt x="243" y="381"/>
                      <a:pt x="230" y="415"/>
                    </a:cubicBezTo>
                    <a:cubicBezTo>
                      <a:pt x="204" y="485"/>
                      <a:pt x="195" y="562"/>
                      <a:pt x="164" y="629"/>
                    </a:cubicBezTo>
                    <a:cubicBezTo>
                      <a:pt x="139" y="743"/>
                      <a:pt x="97" y="854"/>
                      <a:pt x="75" y="969"/>
                    </a:cubicBezTo>
                    <a:cubicBezTo>
                      <a:pt x="51" y="1300"/>
                      <a:pt x="67" y="1052"/>
                      <a:pt x="60" y="1781"/>
                    </a:cubicBezTo>
                    <a:cubicBezTo>
                      <a:pt x="57" y="2091"/>
                      <a:pt x="198" y="2455"/>
                      <a:pt x="23" y="2711"/>
                    </a:cubicBezTo>
                    <a:cubicBezTo>
                      <a:pt x="32" y="2814"/>
                      <a:pt x="0" y="2824"/>
                      <a:pt x="105" y="2800"/>
                    </a:cubicBezTo>
                    <a:cubicBezTo>
                      <a:pt x="114" y="2798"/>
                      <a:pt x="120" y="2790"/>
                      <a:pt x="127" y="2785"/>
                    </a:cubicBezTo>
                    <a:cubicBezTo>
                      <a:pt x="157" y="2740"/>
                      <a:pt x="168" y="2704"/>
                      <a:pt x="186" y="2652"/>
                    </a:cubicBezTo>
                    <a:cubicBezTo>
                      <a:pt x="192" y="2635"/>
                      <a:pt x="205" y="2623"/>
                      <a:pt x="215" y="2608"/>
                    </a:cubicBezTo>
                    <a:cubicBezTo>
                      <a:pt x="230" y="2585"/>
                      <a:pt x="236" y="2559"/>
                      <a:pt x="245" y="2534"/>
                    </a:cubicBezTo>
                    <a:cubicBezTo>
                      <a:pt x="256" y="2124"/>
                      <a:pt x="238" y="2245"/>
                      <a:pt x="267" y="2364"/>
                    </a:cubicBezTo>
                    <a:cubicBezTo>
                      <a:pt x="265" y="2460"/>
                      <a:pt x="266" y="2556"/>
                      <a:pt x="260" y="2652"/>
                    </a:cubicBezTo>
                    <a:cubicBezTo>
                      <a:pt x="259" y="2668"/>
                      <a:pt x="245" y="2697"/>
                      <a:pt x="245" y="2697"/>
                    </a:cubicBezTo>
                    <a:cubicBezTo>
                      <a:pt x="257" y="2735"/>
                      <a:pt x="274" y="2726"/>
                      <a:pt x="311" y="2719"/>
                    </a:cubicBezTo>
                    <a:cubicBezTo>
                      <a:pt x="324" y="2693"/>
                      <a:pt x="339" y="2672"/>
                      <a:pt x="348" y="2645"/>
                    </a:cubicBezTo>
                    <a:cubicBezTo>
                      <a:pt x="373" y="2463"/>
                      <a:pt x="341" y="2711"/>
                      <a:pt x="363" y="2276"/>
                    </a:cubicBezTo>
                    <a:cubicBezTo>
                      <a:pt x="363" y="2266"/>
                      <a:pt x="368" y="2295"/>
                      <a:pt x="370" y="2305"/>
                    </a:cubicBezTo>
                    <a:cubicBezTo>
                      <a:pt x="373" y="2317"/>
                      <a:pt x="375" y="2330"/>
                      <a:pt x="378" y="2342"/>
                    </a:cubicBezTo>
                    <a:cubicBezTo>
                      <a:pt x="390" y="2387"/>
                      <a:pt x="403" y="2430"/>
                      <a:pt x="415" y="2475"/>
                    </a:cubicBezTo>
                    <a:cubicBezTo>
                      <a:pt x="421" y="2532"/>
                      <a:pt x="419" y="2596"/>
                      <a:pt x="452" y="2645"/>
                    </a:cubicBezTo>
                    <a:cubicBezTo>
                      <a:pt x="454" y="2660"/>
                      <a:pt x="449" y="2678"/>
                      <a:pt x="459" y="2689"/>
                    </a:cubicBezTo>
                    <a:cubicBezTo>
                      <a:pt x="465" y="2695"/>
                      <a:pt x="476" y="2682"/>
                      <a:pt x="481" y="2675"/>
                    </a:cubicBezTo>
                    <a:cubicBezTo>
                      <a:pt x="492" y="2662"/>
                      <a:pt x="494" y="2644"/>
                      <a:pt x="503" y="2630"/>
                    </a:cubicBezTo>
                    <a:cubicBezTo>
                      <a:pt x="523" y="2559"/>
                      <a:pt x="524" y="2456"/>
                      <a:pt x="489" y="2387"/>
                    </a:cubicBezTo>
                    <a:cubicBezTo>
                      <a:pt x="477" y="2362"/>
                      <a:pt x="468" y="2347"/>
                      <a:pt x="459" y="2320"/>
                    </a:cubicBezTo>
                    <a:cubicBezTo>
                      <a:pt x="456" y="2311"/>
                      <a:pt x="455" y="2301"/>
                      <a:pt x="452" y="2291"/>
                    </a:cubicBezTo>
                    <a:cubicBezTo>
                      <a:pt x="450" y="2283"/>
                      <a:pt x="436" y="2268"/>
                      <a:pt x="444" y="2268"/>
                    </a:cubicBezTo>
                    <a:cubicBezTo>
                      <a:pt x="455" y="2268"/>
                      <a:pt x="489" y="2327"/>
                      <a:pt x="489" y="2327"/>
                    </a:cubicBezTo>
                    <a:cubicBezTo>
                      <a:pt x="494" y="2337"/>
                      <a:pt x="499" y="2347"/>
                      <a:pt x="503" y="2357"/>
                    </a:cubicBezTo>
                    <a:cubicBezTo>
                      <a:pt x="507" y="2367"/>
                      <a:pt x="506" y="2378"/>
                      <a:pt x="511" y="2387"/>
                    </a:cubicBezTo>
                    <a:cubicBezTo>
                      <a:pt x="526" y="2416"/>
                      <a:pt x="550" y="2449"/>
                      <a:pt x="570" y="2475"/>
                    </a:cubicBezTo>
                    <a:cubicBezTo>
                      <a:pt x="579" y="2502"/>
                      <a:pt x="614" y="2549"/>
                      <a:pt x="614" y="2549"/>
                    </a:cubicBezTo>
                    <a:cubicBezTo>
                      <a:pt x="650" y="2476"/>
                      <a:pt x="620" y="2413"/>
                      <a:pt x="585" y="2350"/>
                    </a:cubicBezTo>
                    <a:cubicBezTo>
                      <a:pt x="580" y="2340"/>
                      <a:pt x="576" y="2330"/>
                      <a:pt x="570" y="2320"/>
                    </a:cubicBezTo>
                    <a:cubicBezTo>
                      <a:pt x="561" y="2305"/>
                      <a:pt x="540" y="2276"/>
                      <a:pt x="540" y="2276"/>
                    </a:cubicBezTo>
                    <a:cubicBezTo>
                      <a:pt x="530" y="2245"/>
                      <a:pt x="537" y="2260"/>
                      <a:pt x="518" y="2231"/>
                    </a:cubicBezTo>
                    <a:cubicBezTo>
                      <a:pt x="513" y="2223"/>
                      <a:pt x="527" y="2247"/>
                      <a:pt x="533" y="2254"/>
                    </a:cubicBezTo>
                    <a:cubicBezTo>
                      <a:pt x="551" y="2276"/>
                      <a:pt x="569" y="2297"/>
                      <a:pt x="592" y="2313"/>
                    </a:cubicBezTo>
                    <a:cubicBezTo>
                      <a:pt x="643" y="2238"/>
                      <a:pt x="572" y="2189"/>
                      <a:pt x="533" y="2135"/>
                    </a:cubicBezTo>
                    <a:cubicBezTo>
                      <a:pt x="515" y="2086"/>
                      <a:pt x="482" y="2044"/>
                      <a:pt x="466" y="1995"/>
                    </a:cubicBezTo>
                    <a:cubicBezTo>
                      <a:pt x="437" y="1907"/>
                      <a:pt x="421" y="1817"/>
                      <a:pt x="393" y="1729"/>
                    </a:cubicBezTo>
                    <a:cubicBezTo>
                      <a:pt x="360" y="1520"/>
                      <a:pt x="381" y="1669"/>
                      <a:pt x="393" y="1190"/>
                    </a:cubicBezTo>
                    <a:cubicBezTo>
                      <a:pt x="395" y="1102"/>
                      <a:pt x="413" y="1001"/>
                      <a:pt x="459" y="924"/>
                    </a:cubicBezTo>
                    <a:cubicBezTo>
                      <a:pt x="490" y="760"/>
                      <a:pt x="615" y="638"/>
                      <a:pt x="703" y="503"/>
                    </a:cubicBezTo>
                    <a:cubicBezTo>
                      <a:pt x="742" y="340"/>
                      <a:pt x="827" y="101"/>
                      <a:pt x="681" y="1"/>
                    </a:cubicBezTo>
                    <a:cubicBezTo>
                      <a:pt x="634" y="6"/>
                      <a:pt x="592" y="0"/>
                      <a:pt x="555" y="31"/>
                    </a:cubicBezTo>
                    <a:cubicBezTo>
                      <a:pt x="547" y="38"/>
                      <a:pt x="542" y="47"/>
                      <a:pt x="533" y="53"/>
                    </a:cubicBezTo>
                    <a:cubicBezTo>
                      <a:pt x="519" y="62"/>
                      <a:pt x="493" y="72"/>
                      <a:pt x="481" y="6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88"/>
              <p:cNvSpPr/>
              <p:nvPr/>
            </p:nvSpPr>
            <p:spPr>
              <a:xfrm flipH="1" flipV="1">
                <a:off x="3874320" y="5743080"/>
                <a:ext cx="68760" cy="59400"/>
              </a:xfrm>
              <a:custGeom>
                <a:avLst/>
                <a:gdLst/>
                <a:ahLst/>
                <a:rect l="l" t="t" r="r" b="b"/>
                <a:pathLst>
                  <a:path w="936" h="1152">
                    <a:moveTo>
                      <a:pt x="336" y="1112"/>
                    </a:moveTo>
                    <a:cubicBezTo>
                      <a:pt x="288" y="1072"/>
                      <a:pt x="408" y="920"/>
                      <a:pt x="384" y="872"/>
                    </a:cubicBezTo>
                    <a:cubicBezTo>
                      <a:pt x="360" y="824"/>
                      <a:pt x="256" y="880"/>
                      <a:pt x="192" y="824"/>
                    </a:cubicBezTo>
                    <a:cubicBezTo>
                      <a:pt x="128" y="768"/>
                      <a:pt x="0" y="656"/>
                      <a:pt x="0" y="536"/>
                    </a:cubicBezTo>
                    <a:cubicBezTo>
                      <a:pt x="0" y="416"/>
                      <a:pt x="88" y="184"/>
                      <a:pt x="192" y="104"/>
                    </a:cubicBezTo>
                    <a:cubicBezTo>
                      <a:pt x="296" y="24"/>
                      <a:pt x="504" y="0"/>
                      <a:pt x="624" y="56"/>
                    </a:cubicBezTo>
                    <a:cubicBezTo>
                      <a:pt x="744" y="112"/>
                      <a:pt x="888" y="312"/>
                      <a:pt x="912" y="440"/>
                    </a:cubicBezTo>
                    <a:cubicBezTo>
                      <a:pt x="936" y="568"/>
                      <a:pt x="824" y="752"/>
                      <a:pt x="768" y="824"/>
                    </a:cubicBezTo>
                    <a:cubicBezTo>
                      <a:pt x="712" y="896"/>
                      <a:pt x="592" y="824"/>
                      <a:pt x="576" y="872"/>
                    </a:cubicBezTo>
                    <a:cubicBezTo>
                      <a:pt x="560" y="920"/>
                      <a:pt x="712" y="1072"/>
                      <a:pt x="672" y="1112"/>
                    </a:cubicBezTo>
                    <a:cubicBezTo>
                      <a:pt x="632" y="1152"/>
                      <a:pt x="384" y="1152"/>
                      <a:pt x="336" y="1112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89"/>
              <p:cNvSpPr/>
              <p:nvPr/>
            </p:nvSpPr>
            <p:spPr>
              <a:xfrm flipH="1" flipV="1">
                <a:off x="3876840" y="5738040"/>
                <a:ext cx="64800" cy="23040"/>
              </a:xfrm>
              <a:custGeom>
                <a:avLst/>
                <a:gdLst/>
                <a:ahLst/>
                <a:rect l="l" t="t" r="r" b="b"/>
                <a:pathLst>
                  <a:path w="406" h="313">
                    <a:moveTo>
                      <a:pt x="101" y="0"/>
                    </a:moveTo>
                    <a:cubicBezTo>
                      <a:pt x="96" y="81"/>
                      <a:pt x="97" y="174"/>
                      <a:pt x="35" y="236"/>
                    </a:cubicBezTo>
                    <a:cubicBezTo>
                      <a:pt x="148" y="313"/>
                      <a:pt x="80" y="273"/>
                      <a:pt x="396" y="244"/>
                    </a:cubicBezTo>
                    <a:cubicBezTo>
                      <a:pt x="406" y="243"/>
                      <a:pt x="380" y="230"/>
                      <a:pt x="374" y="222"/>
                    </a:cubicBezTo>
                    <a:cubicBezTo>
                      <a:pt x="368" y="213"/>
                      <a:pt x="364" y="202"/>
                      <a:pt x="359" y="192"/>
                    </a:cubicBezTo>
                    <a:cubicBezTo>
                      <a:pt x="344" y="166"/>
                      <a:pt x="333" y="143"/>
                      <a:pt x="315" y="118"/>
                    </a:cubicBezTo>
                    <a:cubicBezTo>
                      <a:pt x="304" y="82"/>
                      <a:pt x="334" y="22"/>
                      <a:pt x="300" y="7"/>
                    </a:cubicBezTo>
                    <a:cubicBezTo>
                      <a:pt x="283" y="0"/>
                      <a:pt x="0" y="0"/>
                      <a:pt x="101" y="0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90"/>
              <p:cNvSpPr/>
              <p:nvPr/>
            </p:nvSpPr>
            <p:spPr>
              <a:xfrm flipH="1" flipV="1">
                <a:off x="3890160" y="5634000"/>
                <a:ext cx="53280" cy="33120"/>
              </a:xfrm>
              <a:custGeom>
                <a:avLst/>
                <a:gdLst/>
                <a:ahLst/>
                <a:rect l="l" t="t" r="r" b="b"/>
                <a:pathLst>
                  <a:path w="396" h="459">
                    <a:moveTo>
                      <a:pt x="128" y="445"/>
                    </a:moveTo>
                    <a:cubicBezTo>
                      <a:pt x="140" y="380"/>
                      <a:pt x="183" y="304"/>
                      <a:pt x="239" y="267"/>
                    </a:cubicBezTo>
                    <a:cubicBezTo>
                      <a:pt x="273" y="319"/>
                      <a:pt x="258" y="297"/>
                      <a:pt x="283" y="334"/>
                    </a:cubicBezTo>
                    <a:cubicBezTo>
                      <a:pt x="288" y="341"/>
                      <a:pt x="293" y="349"/>
                      <a:pt x="298" y="356"/>
                    </a:cubicBezTo>
                    <a:cubicBezTo>
                      <a:pt x="303" y="363"/>
                      <a:pt x="312" y="378"/>
                      <a:pt x="312" y="378"/>
                    </a:cubicBezTo>
                    <a:cubicBezTo>
                      <a:pt x="315" y="389"/>
                      <a:pt x="334" y="444"/>
                      <a:pt x="342" y="452"/>
                    </a:cubicBezTo>
                    <a:cubicBezTo>
                      <a:pt x="347" y="457"/>
                      <a:pt x="357" y="457"/>
                      <a:pt x="364" y="459"/>
                    </a:cubicBezTo>
                    <a:cubicBezTo>
                      <a:pt x="382" y="411"/>
                      <a:pt x="377" y="360"/>
                      <a:pt x="394" y="312"/>
                    </a:cubicBezTo>
                    <a:cubicBezTo>
                      <a:pt x="391" y="243"/>
                      <a:pt x="396" y="173"/>
                      <a:pt x="386" y="105"/>
                    </a:cubicBezTo>
                    <a:cubicBezTo>
                      <a:pt x="374" y="24"/>
                      <a:pt x="253" y="17"/>
                      <a:pt x="194" y="1"/>
                    </a:cubicBezTo>
                    <a:cubicBezTo>
                      <a:pt x="140" y="4"/>
                      <a:pt x="85" y="0"/>
                      <a:pt x="32" y="9"/>
                    </a:cubicBezTo>
                    <a:cubicBezTo>
                      <a:pt x="24" y="10"/>
                      <a:pt x="27" y="24"/>
                      <a:pt x="24" y="31"/>
                    </a:cubicBezTo>
                    <a:cubicBezTo>
                      <a:pt x="16" y="56"/>
                      <a:pt x="11" y="81"/>
                      <a:pt x="2" y="105"/>
                    </a:cubicBezTo>
                    <a:cubicBezTo>
                      <a:pt x="5" y="181"/>
                      <a:pt x="0" y="258"/>
                      <a:pt x="10" y="334"/>
                    </a:cubicBezTo>
                    <a:cubicBezTo>
                      <a:pt x="16" y="382"/>
                      <a:pt x="80" y="401"/>
                      <a:pt x="113" y="422"/>
                    </a:cubicBezTo>
                    <a:cubicBezTo>
                      <a:pt x="118" y="430"/>
                      <a:pt x="128" y="445"/>
                      <a:pt x="128" y="445"/>
                    </a:cubicBez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91"/>
              <p:cNvSpPr/>
              <p:nvPr/>
            </p:nvSpPr>
            <p:spPr>
              <a:xfrm flipH="1" flipV="1">
                <a:off x="3873960" y="5761440"/>
                <a:ext cx="76320" cy="42480"/>
              </a:xfrm>
              <a:custGeom>
                <a:avLst/>
                <a:gdLst/>
                <a:ahLst/>
                <a:rect l="l" t="t" r="r" b="b"/>
                <a:pathLst>
                  <a:path w="627" h="638">
                    <a:moveTo>
                      <a:pt x="67" y="387"/>
                    </a:moveTo>
                    <a:cubicBezTo>
                      <a:pt x="27" y="374"/>
                      <a:pt x="0" y="363"/>
                      <a:pt x="31" y="306"/>
                    </a:cubicBezTo>
                    <a:cubicBezTo>
                      <a:pt x="36" y="297"/>
                      <a:pt x="50" y="301"/>
                      <a:pt x="60" y="298"/>
                    </a:cubicBezTo>
                    <a:cubicBezTo>
                      <a:pt x="21" y="259"/>
                      <a:pt x="48" y="279"/>
                      <a:pt x="75" y="239"/>
                    </a:cubicBezTo>
                    <a:cubicBezTo>
                      <a:pt x="72" y="232"/>
                      <a:pt x="66" y="225"/>
                      <a:pt x="67" y="217"/>
                    </a:cubicBezTo>
                    <a:cubicBezTo>
                      <a:pt x="68" y="208"/>
                      <a:pt x="78" y="203"/>
                      <a:pt x="82" y="195"/>
                    </a:cubicBezTo>
                    <a:cubicBezTo>
                      <a:pt x="86" y="188"/>
                      <a:pt x="84" y="179"/>
                      <a:pt x="90" y="173"/>
                    </a:cubicBezTo>
                    <a:cubicBezTo>
                      <a:pt x="96" y="167"/>
                      <a:pt x="105" y="168"/>
                      <a:pt x="112" y="165"/>
                    </a:cubicBezTo>
                    <a:cubicBezTo>
                      <a:pt x="114" y="145"/>
                      <a:pt x="106" y="121"/>
                      <a:pt x="119" y="106"/>
                    </a:cubicBezTo>
                    <a:cubicBezTo>
                      <a:pt x="127" y="96"/>
                      <a:pt x="146" y="121"/>
                      <a:pt x="156" y="114"/>
                    </a:cubicBezTo>
                    <a:cubicBezTo>
                      <a:pt x="169" y="105"/>
                      <a:pt x="171" y="69"/>
                      <a:pt x="171" y="69"/>
                    </a:cubicBezTo>
                    <a:cubicBezTo>
                      <a:pt x="181" y="72"/>
                      <a:pt x="190" y="80"/>
                      <a:pt x="200" y="77"/>
                    </a:cubicBezTo>
                    <a:cubicBezTo>
                      <a:pt x="254" y="62"/>
                      <a:pt x="197" y="53"/>
                      <a:pt x="237" y="32"/>
                    </a:cubicBezTo>
                    <a:cubicBezTo>
                      <a:pt x="251" y="25"/>
                      <a:pt x="267" y="27"/>
                      <a:pt x="282" y="25"/>
                    </a:cubicBezTo>
                    <a:cubicBezTo>
                      <a:pt x="318" y="0"/>
                      <a:pt x="319" y="14"/>
                      <a:pt x="341" y="47"/>
                    </a:cubicBezTo>
                    <a:cubicBezTo>
                      <a:pt x="383" y="34"/>
                      <a:pt x="386" y="32"/>
                      <a:pt x="437" y="40"/>
                    </a:cubicBezTo>
                    <a:cubicBezTo>
                      <a:pt x="441" y="41"/>
                      <a:pt x="477" y="53"/>
                      <a:pt x="481" y="55"/>
                    </a:cubicBezTo>
                    <a:cubicBezTo>
                      <a:pt x="509" y="74"/>
                      <a:pt x="508" y="96"/>
                      <a:pt x="540" y="106"/>
                    </a:cubicBezTo>
                    <a:cubicBezTo>
                      <a:pt x="552" y="143"/>
                      <a:pt x="576" y="141"/>
                      <a:pt x="562" y="180"/>
                    </a:cubicBezTo>
                    <a:cubicBezTo>
                      <a:pt x="565" y="187"/>
                      <a:pt x="573" y="195"/>
                      <a:pt x="570" y="202"/>
                    </a:cubicBezTo>
                    <a:cubicBezTo>
                      <a:pt x="557" y="234"/>
                      <a:pt x="521" y="200"/>
                      <a:pt x="570" y="232"/>
                    </a:cubicBezTo>
                    <a:cubicBezTo>
                      <a:pt x="530" y="258"/>
                      <a:pt x="556" y="251"/>
                      <a:pt x="570" y="291"/>
                    </a:cubicBezTo>
                    <a:cubicBezTo>
                      <a:pt x="553" y="337"/>
                      <a:pt x="583" y="344"/>
                      <a:pt x="607" y="380"/>
                    </a:cubicBezTo>
                    <a:cubicBezTo>
                      <a:pt x="627" y="464"/>
                      <a:pt x="581" y="433"/>
                      <a:pt x="481" y="439"/>
                    </a:cubicBezTo>
                    <a:cubicBezTo>
                      <a:pt x="250" y="434"/>
                      <a:pt x="205" y="457"/>
                      <a:pt x="53" y="409"/>
                    </a:cubicBezTo>
                    <a:cubicBezTo>
                      <a:pt x="25" y="390"/>
                      <a:pt x="37" y="400"/>
                      <a:pt x="16" y="380"/>
                    </a:cubicBezTo>
                    <a:lnTo>
                      <a:pt x="241" y="638"/>
                    </a:lnTo>
                    <a:lnTo>
                      <a:pt x="67" y="387"/>
                    </a:lnTo>
                    <a:close/>
                  </a:path>
                </a:pathLst>
              </a:cu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Oval 293"/>
          <p:cNvSpPr/>
          <p:nvPr/>
        </p:nvSpPr>
        <p:spPr>
          <a:xfrm>
            <a:off x="3200400" y="5465880"/>
            <a:ext cx="1905120" cy="206280"/>
          </a:xfrm>
          <a:prstGeom prst="ellipse">
            <a:avLst/>
          </a:prstGeom>
          <a:gradFill rotWithShape="0">
            <a:gsLst>
              <a:gs pos="0">
                <a:srgbClr val="1e1400"/>
              </a:gs>
              <a:gs pos="100000">
                <a:srgbClr val="1e14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18"/>
          <p:cNvGrpSpPr/>
          <p:nvPr/>
        </p:nvGrpSpPr>
        <p:grpSpPr>
          <a:xfrm>
            <a:off x="2438280" y="5270400"/>
            <a:ext cx="505800" cy="1144440"/>
            <a:chOff x="2438280" y="5270400"/>
            <a:chExt cx="505800" cy="1144440"/>
          </a:xfrm>
        </p:grpSpPr>
        <p:sp>
          <p:nvSpPr>
            <p:cNvPr id="393" name="Freeform 108"/>
            <p:cNvSpPr/>
            <p:nvPr/>
          </p:nvSpPr>
          <p:spPr>
            <a:xfrm flipH="1" rot="240000">
              <a:off x="2693880" y="5971680"/>
              <a:ext cx="235080" cy="435240"/>
            </a:xfrm>
            <a:custGeom>
              <a:avLst/>
              <a:gdLst/>
              <a:ahLst/>
              <a:rect l="l" t="t" r="r" b="b"/>
              <a:pathLst>
                <a:path w="1626" h="3027">
                  <a:moveTo>
                    <a:pt x="849" y="1460"/>
                  </a:moveTo>
                  <a:cubicBezTo>
                    <a:pt x="844" y="1615"/>
                    <a:pt x="854" y="1781"/>
                    <a:pt x="812" y="1932"/>
                  </a:cubicBezTo>
                  <a:cubicBezTo>
                    <a:pt x="808" y="2130"/>
                    <a:pt x="841" y="2325"/>
                    <a:pt x="731" y="2494"/>
                  </a:cubicBezTo>
                  <a:cubicBezTo>
                    <a:pt x="729" y="2501"/>
                    <a:pt x="730" y="2511"/>
                    <a:pt x="724" y="2516"/>
                  </a:cubicBezTo>
                  <a:cubicBezTo>
                    <a:pt x="718" y="2522"/>
                    <a:pt x="708" y="2519"/>
                    <a:pt x="701" y="2523"/>
                  </a:cubicBezTo>
                  <a:cubicBezTo>
                    <a:pt x="676" y="2535"/>
                    <a:pt x="658" y="2559"/>
                    <a:pt x="635" y="2575"/>
                  </a:cubicBezTo>
                  <a:cubicBezTo>
                    <a:pt x="601" y="2625"/>
                    <a:pt x="641" y="2575"/>
                    <a:pt x="598" y="2604"/>
                  </a:cubicBezTo>
                  <a:cubicBezTo>
                    <a:pt x="589" y="2610"/>
                    <a:pt x="584" y="2619"/>
                    <a:pt x="576" y="2626"/>
                  </a:cubicBezTo>
                  <a:cubicBezTo>
                    <a:pt x="546" y="2651"/>
                    <a:pt x="502" y="2666"/>
                    <a:pt x="465" y="2678"/>
                  </a:cubicBezTo>
                  <a:cubicBezTo>
                    <a:pt x="401" y="2722"/>
                    <a:pt x="496" y="2661"/>
                    <a:pt x="406" y="2700"/>
                  </a:cubicBezTo>
                  <a:cubicBezTo>
                    <a:pt x="395" y="2705"/>
                    <a:pt x="387" y="2716"/>
                    <a:pt x="376" y="2722"/>
                  </a:cubicBezTo>
                  <a:cubicBezTo>
                    <a:pt x="338" y="2743"/>
                    <a:pt x="321" y="2739"/>
                    <a:pt x="273" y="2745"/>
                  </a:cubicBezTo>
                  <a:cubicBezTo>
                    <a:pt x="232" y="2758"/>
                    <a:pt x="190" y="2756"/>
                    <a:pt x="148" y="2767"/>
                  </a:cubicBezTo>
                  <a:cubicBezTo>
                    <a:pt x="131" y="2772"/>
                    <a:pt x="96" y="2782"/>
                    <a:pt x="96" y="2782"/>
                  </a:cubicBezTo>
                  <a:cubicBezTo>
                    <a:pt x="79" y="2793"/>
                    <a:pt x="58" y="2797"/>
                    <a:pt x="44" y="2811"/>
                  </a:cubicBezTo>
                  <a:cubicBezTo>
                    <a:pt x="27" y="2828"/>
                    <a:pt x="11" y="2862"/>
                    <a:pt x="0" y="2885"/>
                  </a:cubicBezTo>
                  <a:cubicBezTo>
                    <a:pt x="16" y="2983"/>
                    <a:pt x="92" y="2968"/>
                    <a:pt x="177" y="2988"/>
                  </a:cubicBezTo>
                  <a:cubicBezTo>
                    <a:pt x="340" y="3027"/>
                    <a:pt x="512" y="2993"/>
                    <a:pt x="679" y="2996"/>
                  </a:cubicBezTo>
                  <a:cubicBezTo>
                    <a:pt x="787" y="2993"/>
                    <a:pt x="896" y="2993"/>
                    <a:pt x="1004" y="2988"/>
                  </a:cubicBezTo>
                  <a:cubicBezTo>
                    <a:pt x="1029" y="2987"/>
                    <a:pt x="1071" y="2951"/>
                    <a:pt x="1071" y="2951"/>
                  </a:cubicBezTo>
                  <a:cubicBezTo>
                    <a:pt x="1087" y="2926"/>
                    <a:pt x="1106" y="2917"/>
                    <a:pt x="1122" y="2892"/>
                  </a:cubicBezTo>
                  <a:cubicBezTo>
                    <a:pt x="1133" y="2852"/>
                    <a:pt x="1148" y="2811"/>
                    <a:pt x="1167" y="2774"/>
                  </a:cubicBezTo>
                  <a:cubicBezTo>
                    <a:pt x="1194" y="2572"/>
                    <a:pt x="1191" y="2410"/>
                    <a:pt x="1285" y="2228"/>
                  </a:cubicBezTo>
                  <a:cubicBezTo>
                    <a:pt x="1322" y="2033"/>
                    <a:pt x="1253" y="1813"/>
                    <a:pt x="1314" y="1622"/>
                  </a:cubicBezTo>
                  <a:cubicBezTo>
                    <a:pt x="1320" y="1570"/>
                    <a:pt x="1328" y="1490"/>
                    <a:pt x="1359" y="1445"/>
                  </a:cubicBezTo>
                  <a:cubicBezTo>
                    <a:pt x="1371" y="1371"/>
                    <a:pt x="1400" y="1303"/>
                    <a:pt x="1418" y="1231"/>
                  </a:cubicBezTo>
                  <a:cubicBezTo>
                    <a:pt x="1422" y="1216"/>
                    <a:pt x="1426" y="1201"/>
                    <a:pt x="1432" y="1186"/>
                  </a:cubicBezTo>
                  <a:cubicBezTo>
                    <a:pt x="1442" y="1162"/>
                    <a:pt x="1462" y="1113"/>
                    <a:pt x="1462" y="1113"/>
                  </a:cubicBezTo>
                  <a:cubicBezTo>
                    <a:pt x="1470" y="1051"/>
                    <a:pt x="1482" y="1027"/>
                    <a:pt x="1506" y="965"/>
                  </a:cubicBezTo>
                  <a:cubicBezTo>
                    <a:pt x="1519" y="932"/>
                    <a:pt x="1523" y="889"/>
                    <a:pt x="1536" y="854"/>
                  </a:cubicBezTo>
                  <a:cubicBezTo>
                    <a:pt x="1538" y="753"/>
                    <a:pt x="1499" y="571"/>
                    <a:pt x="1573" y="463"/>
                  </a:cubicBezTo>
                  <a:cubicBezTo>
                    <a:pt x="1626" y="305"/>
                    <a:pt x="1619" y="341"/>
                    <a:pt x="1573" y="27"/>
                  </a:cubicBezTo>
                  <a:cubicBezTo>
                    <a:pt x="1570" y="4"/>
                    <a:pt x="1506" y="5"/>
                    <a:pt x="1506" y="5"/>
                  </a:cubicBezTo>
                  <a:cubicBezTo>
                    <a:pt x="1353" y="7"/>
                    <a:pt x="1200" y="0"/>
                    <a:pt x="1048" y="12"/>
                  </a:cubicBezTo>
                  <a:cubicBezTo>
                    <a:pt x="1037" y="13"/>
                    <a:pt x="1037" y="32"/>
                    <a:pt x="1034" y="42"/>
                  </a:cubicBezTo>
                  <a:cubicBezTo>
                    <a:pt x="1021" y="82"/>
                    <a:pt x="1012" y="167"/>
                    <a:pt x="1012" y="167"/>
                  </a:cubicBezTo>
                  <a:cubicBezTo>
                    <a:pt x="1006" y="460"/>
                    <a:pt x="1036" y="814"/>
                    <a:pt x="893" y="1090"/>
                  </a:cubicBezTo>
                  <a:cubicBezTo>
                    <a:pt x="861" y="1228"/>
                    <a:pt x="859" y="1277"/>
                    <a:pt x="849" y="14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2438280" y="5972040"/>
              <a:ext cx="220680" cy="441360"/>
            </a:xfrm>
            <a:custGeom>
              <a:avLst/>
              <a:gdLst/>
              <a:ahLst/>
              <a:rect l="l" t="t" r="r" b="b"/>
              <a:pathLst>
                <a:path w="1626" h="3027">
                  <a:moveTo>
                    <a:pt x="849" y="1460"/>
                  </a:moveTo>
                  <a:cubicBezTo>
                    <a:pt x="844" y="1615"/>
                    <a:pt x="854" y="1781"/>
                    <a:pt x="812" y="1932"/>
                  </a:cubicBezTo>
                  <a:cubicBezTo>
                    <a:pt x="808" y="2130"/>
                    <a:pt x="841" y="2325"/>
                    <a:pt x="731" y="2494"/>
                  </a:cubicBezTo>
                  <a:cubicBezTo>
                    <a:pt x="729" y="2501"/>
                    <a:pt x="730" y="2511"/>
                    <a:pt x="724" y="2516"/>
                  </a:cubicBezTo>
                  <a:cubicBezTo>
                    <a:pt x="718" y="2522"/>
                    <a:pt x="708" y="2519"/>
                    <a:pt x="701" y="2523"/>
                  </a:cubicBezTo>
                  <a:cubicBezTo>
                    <a:pt x="676" y="2535"/>
                    <a:pt x="658" y="2559"/>
                    <a:pt x="635" y="2575"/>
                  </a:cubicBezTo>
                  <a:cubicBezTo>
                    <a:pt x="601" y="2625"/>
                    <a:pt x="641" y="2575"/>
                    <a:pt x="598" y="2604"/>
                  </a:cubicBezTo>
                  <a:cubicBezTo>
                    <a:pt x="589" y="2610"/>
                    <a:pt x="584" y="2619"/>
                    <a:pt x="576" y="2626"/>
                  </a:cubicBezTo>
                  <a:cubicBezTo>
                    <a:pt x="546" y="2651"/>
                    <a:pt x="502" y="2666"/>
                    <a:pt x="465" y="2678"/>
                  </a:cubicBezTo>
                  <a:cubicBezTo>
                    <a:pt x="401" y="2722"/>
                    <a:pt x="496" y="2661"/>
                    <a:pt x="406" y="2700"/>
                  </a:cubicBezTo>
                  <a:cubicBezTo>
                    <a:pt x="395" y="2705"/>
                    <a:pt x="387" y="2716"/>
                    <a:pt x="376" y="2722"/>
                  </a:cubicBezTo>
                  <a:cubicBezTo>
                    <a:pt x="338" y="2743"/>
                    <a:pt x="321" y="2739"/>
                    <a:pt x="273" y="2745"/>
                  </a:cubicBezTo>
                  <a:cubicBezTo>
                    <a:pt x="232" y="2758"/>
                    <a:pt x="190" y="2756"/>
                    <a:pt x="148" y="2767"/>
                  </a:cubicBezTo>
                  <a:cubicBezTo>
                    <a:pt x="131" y="2772"/>
                    <a:pt x="96" y="2782"/>
                    <a:pt x="96" y="2782"/>
                  </a:cubicBezTo>
                  <a:cubicBezTo>
                    <a:pt x="79" y="2793"/>
                    <a:pt x="58" y="2797"/>
                    <a:pt x="44" y="2811"/>
                  </a:cubicBezTo>
                  <a:cubicBezTo>
                    <a:pt x="27" y="2828"/>
                    <a:pt x="11" y="2862"/>
                    <a:pt x="0" y="2885"/>
                  </a:cubicBezTo>
                  <a:cubicBezTo>
                    <a:pt x="16" y="2983"/>
                    <a:pt x="92" y="2968"/>
                    <a:pt x="177" y="2988"/>
                  </a:cubicBezTo>
                  <a:cubicBezTo>
                    <a:pt x="340" y="3027"/>
                    <a:pt x="512" y="2993"/>
                    <a:pt x="679" y="2996"/>
                  </a:cubicBezTo>
                  <a:cubicBezTo>
                    <a:pt x="787" y="2993"/>
                    <a:pt x="896" y="2993"/>
                    <a:pt x="1004" y="2988"/>
                  </a:cubicBezTo>
                  <a:cubicBezTo>
                    <a:pt x="1029" y="2987"/>
                    <a:pt x="1071" y="2951"/>
                    <a:pt x="1071" y="2951"/>
                  </a:cubicBezTo>
                  <a:cubicBezTo>
                    <a:pt x="1087" y="2926"/>
                    <a:pt x="1106" y="2917"/>
                    <a:pt x="1122" y="2892"/>
                  </a:cubicBezTo>
                  <a:cubicBezTo>
                    <a:pt x="1133" y="2852"/>
                    <a:pt x="1148" y="2811"/>
                    <a:pt x="1167" y="2774"/>
                  </a:cubicBezTo>
                  <a:cubicBezTo>
                    <a:pt x="1194" y="2572"/>
                    <a:pt x="1191" y="2410"/>
                    <a:pt x="1285" y="2228"/>
                  </a:cubicBezTo>
                  <a:cubicBezTo>
                    <a:pt x="1322" y="2033"/>
                    <a:pt x="1253" y="1813"/>
                    <a:pt x="1314" y="1622"/>
                  </a:cubicBezTo>
                  <a:cubicBezTo>
                    <a:pt x="1320" y="1570"/>
                    <a:pt x="1328" y="1490"/>
                    <a:pt x="1359" y="1445"/>
                  </a:cubicBezTo>
                  <a:cubicBezTo>
                    <a:pt x="1371" y="1371"/>
                    <a:pt x="1400" y="1303"/>
                    <a:pt x="1418" y="1231"/>
                  </a:cubicBezTo>
                  <a:cubicBezTo>
                    <a:pt x="1422" y="1216"/>
                    <a:pt x="1426" y="1201"/>
                    <a:pt x="1432" y="1186"/>
                  </a:cubicBezTo>
                  <a:cubicBezTo>
                    <a:pt x="1442" y="1162"/>
                    <a:pt x="1462" y="1113"/>
                    <a:pt x="1462" y="1113"/>
                  </a:cubicBezTo>
                  <a:cubicBezTo>
                    <a:pt x="1470" y="1051"/>
                    <a:pt x="1482" y="1027"/>
                    <a:pt x="1506" y="965"/>
                  </a:cubicBezTo>
                  <a:cubicBezTo>
                    <a:pt x="1519" y="932"/>
                    <a:pt x="1523" y="889"/>
                    <a:pt x="1536" y="854"/>
                  </a:cubicBezTo>
                  <a:cubicBezTo>
                    <a:pt x="1538" y="753"/>
                    <a:pt x="1499" y="571"/>
                    <a:pt x="1573" y="463"/>
                  </a:cubicBezTo>
                  <a:cubicBezTo>
                    <a:pt x="1626" y="305"/>
                    <a:pt x="1619" y="341"/>
                    <a:pt x="1573" y="27"/>
                  </a:cubicBezTo>
                  <a:cubicBezTo>
                    <a:pt x="1570" y="4"/>
                    <a:pt x="1506" y="5"/>
                    <a:pt x="1506" y="5"/>
                  </a:cubicBezTo>
                  <a:cubicBezTo>
                    <a:pt x="1353" y="7"/>
                    <a:pt x="1200" y="0"/>
                    <a:pt x="1048" y="12"/>
                  </a:cubicBezTo>
                  <a:cubicBezTo>
                    <a:pt x="1037" y="13"/>
                    <a:pt x="1037" y="32"/>
                    <a:pt x="1034" y="42"/>
                  </a:cubicBezTo>
                  <a:cubicBezTo>
                    <a:pt x="1021" y="82"/>
                    <a:pt x="1012" y="167"/>
                    <a:pt x="1012" y="167"/>
                  </a:cubicBezTo>
                  <a:cubicBezTo>
                    <a:pt x="1006" y="460"/>
                    <a:pt x="1036" y="814"/>
                    <a:pt x="893" y="1090"/>
                  </a:cubicBezTo>
                  <a:cubicBezTo>
                    <a:pt x="861" y="1228"/>
                    <a:pt x="859" y="1277"/>
                    <a:pt x="849" y="14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 flipH="1">
              <a:off x="2525040" y="5473440"/>
              <a:ext cx="328680" cy="559080"/>
            </a:xfrm>
            <a:custGeom>
              <a:avLst/>
              <a:gdLst/>
              <a:ahLst/>
              <a:rect l="l" t="t" r="r" b="b"/>
              <a:pathLst>
                <a:path w="675" h="1154">
                  <a:moveTo>
                    <a:pt x="315" y="1111"/>
                  </a:moveTo>
                  <a:cubicBezTo>
                    <a:pt x="336" y="1044"/>
                    <a:pt x="302" y="955"/>
                    <a:pt x="367" y="912"/>
                  </a:cubicBezTo>
                  <a:cubicBezTo>
                    <a:pt x="369" y="900"/>
                    <a:pt x="365" y="884"/>
                    <a:pt x="374" y="875"/>
                  </a:cubicBezTo>
                  <a:cubicBezTo>
                    <a:pt x="379" y="869"/>
                    <a:pt x="379" y="890"/>
                    <a:pt x="381" y="897"/>
                  </a:cubicBezTo>
                  <a:cubicBezTo>
                    <a:pt x="401" y="955"/>
                    <a:pt x="377" y="883"/>
                    <a:pt x="396" y="941"/>
                  </a:cubicBezTo>
                  <a:cubicBezTo>
                    <a:pt x="400" y="986"/>
                    <a:pt x="386" y="1099"/>
                    <a:pt x="440" y="1119"/>
                  </a:cubicBezTo>
                  <a:cubicBezTo>
                    <a:pt x="484" y="1116"/>
                    <a:pt x="561" y="1154"/>
                    <a:pt x="573" y="1111"/>
                  </a:cubicBezTo>
                  <a:cubicBezTo>
                    <a:pt x="621" y="945"/>
                    <a:pt x="556" y="763"/>
                    <a:pt x="588" y="594"/>
                  </a:cubicBezTo>
                  <a:cubicBezTo>
                    <a:pt x="595" y="477"/>
                    <a:pt x="611" y="353"/>
                    <a:pt x="647" y="240"/>
                  </a:cubicBezTo>
                  <a:cubicBezTo>
                    <a:pt x="644" y="173"/>
                    <a:pt x="675" y="86"/>
                    <a:pt x="603" y="63"/>
                  </a:cubicBezTo>
                  <a:cubicBezTo>
                    <a:pt x="510" y="0"/>
                    <a:pt x="442" y="44"/>
                    <a:pt x="300" y="48"/>
                  </a:cubicBezTo>
                  <a:cubicBezTo>
                    <a:pt x="278" y="50"/>
                    <a:pt x="225" y="47"/>
                    <a:pt x="197" y="63"/>
                  </a:cubicBezTo>
                  <a:cubicBezTo>
                    <a:pt x="181" y="72"/>
                    <a:pt x="152" y="92"/>
                    <a:pt x="152" y="92"/>
                  </a:cubicBezTo>
                  <a:cubicBezTo>
                    <a:pt x="132" y="123"/>
                    <a:pt x="121" y="152"/>
                    <a:pt x="101" y="181"/>
                  </a:cubicBezTo>
                  <a:cubicBezTo>
                    <a:pt x="104" y="285"/>
                    <a:pt x="74" y="418"/>
                    <a:pt x="138" y="513"/>
                  </a:cubicBezTo>
                  <a:cubicBezTo>
                    <a:pt x="143" y="528"/>
                    <a:pt x="147" y="542"/>
                    <a:pt x="152" y="557"/>
                  </a:cubicBezTo>
                  <a:cubicBezTo>
                    <a:pt x="155" y="565"/>
                    <a:pt x="160" y="580"/>
                    <a:pt x="160" y="580"/>
                  </a:cubicBezTo>
                  <a:cubicBezTo>
                    <a:pt x="167" y="1114"/>
                    <a:pt x="0" y="1131"/>
                    <a:pt x="315" y="11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 flipH="1" rot="21358800">
              <a:off x="2751840" y="5530680"/>
              <a:ext cx="130320" cy="441360"/>
            </a:xfrm>
            <a:custGeom>
              <a:avLst/>
              <a:gdLst/>
              <a:ahLst/>
              <a:rect l="l" t="t" r="r" b="b"/>
              <a:pathLst>
                <a:path w="827" h="2824">
                  <a:moveTo>
                    <a:pt x="481" y="60"/>
                  </a:moveTo>
                  <a:cubicBezTo>
                    <a:pt x="433" y="93"/>
                    <a:pt x="418" y="148"/>
                    <a:pt x="370" y="179"/>
                  </a:cubicBezTo>
                  <a:cubicBezTo>
                    <a:pt x="365" y="186"/>
                    <a:pt x="362" y="195"/>
                    <a:pt x="356" y="201"/>
                  </a:cubicBezTo>
                  <a:cubicBezTo>
                    <a:pt x="347" y="210"/>
                    <a:pt x="333" y="213"/>
                    <a:pt x="326" y="223"/>
                  </a:cubicBezTo>
                  <a:cubicBezTo>
                    <a:pt x="320" y="231"/>
                    <a:pt x="323" y="243"/>
                    <a:pt x="319" y="252"/>
                  </a:cubicBezTo>
                  <a:cubicBezTo>
                    <a:pt x="308" y="277"/>
                    <a:pt x="290" y="298"/>
                    <a:pt x="274" y="319"/>
                  </a:cubicBezTo>
                  <a:cubicBezTo>
                    <a:pt x="261" y="353"/>
                    <a:pt x="243" y="381"/>
                    <a:pt x="230" y="415"/>
                  </a:cubicBezTo>
                  <a:cubicBezTo>
                    <a:pt x="204" y="485"/>
                    <a:pt x="195" y="562"/>
                    <a:pt x="164" y="629"/>
                  </a:cubicBezTo>
                  <a:cubicBezTo>
                    <a:pt x="139" y="743"/>
                    <a:pt x="97" y="854"/>
                    <a:pt x="75" y="969"/>
                  </a:cubicBezTo>
                  <a:cubicBezTo>
                    <a:pt x="51" y="1300"/>
                    <a:pt x="67" y="1052"/>
                    <a:pt x="60" y="1781"/>
                  </a:cubicBezTo>
                  <a:cubicBezTo>
                    <a:pt x="57" y="2091"/>
                    <a:pt x="198" y="2455"/>
                    <a:pt x="23" y="2711"/>
                  </a:cubicBezTo>
                  <a:cubicBezTo>
                    <a:pt x="32" y="2814"/>
                    <a:pt x="0" y="2824"/>
                    <a:pt x="105" y="2800"/>
                  </a:cubicBezTo>
                  <a:cubicBezTo>
                    <a:pt x="114" y="2798"/>
                    <a:pt x="120" y="2790"/>
                    <a:pt x="127" y="2785"/>
                  </a:cubicBezTo>
                  <a:cubicBezTo>
                    <a:pt x="157" y="2740"/>
                    <a:pt x="168" y="2704"/>
                    <a:pt x="186" y="2652"/>
                  </a:cubicBezTo>
                  <a:cubicBezTo>
                    <a:pt x="192" y="2635"/>
                    <a:pt x="205" y="2623"/>
                    <a:pt x="215" y="2608"/>
                  </a:cubicBezTo>
                  <a:cubicBezTo>
                    <a:pt x="230" y="2585"/>
                    <a:pt x="236" y="2559"/>
                    <a:pt x="245" y="2534"/>
                  </a:cubicBezTo>
                  <a:cubicBezTo>
                    <a:pt x="256" y="2124"/>
                    <a:pt x="238" y="2245"/>
                    <a:pt x="267" y="2364"/>
                  </a:cubicBezTo>
                  <a:cubicBezTo>
                    <a:pt x="265" y="2460"/>
                    <a:pt x="266" y="2556"/>
                    <a:pt x="260" y="2652"/>
                  </a:cubicBezTo>
                  <a:cubicBezTo>
                    <a:pt x="259" y="2668"/>
                    <a:pt x="245" y="2697"/>
                    <a:pt x="245" y="2697"/>
                  </a:cubicBezTo>
                  <a:cubicBezTo>
                    <a:pt x="257" y="2735"/>
                    <a:pt x="274" y="2726"/>
                    <a:pt x="311" y="2719"/>
                  </a:cubicBezTo>
                  <a:cubicBezTo>
                    <a:pt x="324" y="2693"/>
                    <a:pt x="339" y="2672"/>
                    <a:pt x="348" y="2645"/>
                  </a:cubicBezTo>
                  <a:cubicBezTo>
                    <a:pt x="373" y="2463"/>
                    <a:pt x="341" y="2711"/>
                    <a:pt x="363" y="2276"/>
                  </a:cubicBezTo>
                  <a:cubicBezTo>
                    <a:pt x="363" y="2266"/>
                    <a:pt x="368" y="2295"/>
                    <a:pt x="370" y="2305"/>
                  </a:cubicBezTo>
                  <a:cubicBezTo>
                    <a:pt x="373" y="2317"/>
                    <a:pt x="375" y="2330"/>
                    <a:pt x="378" y="2342"/>
                  </a:cubicBezTo>
                  <a:cubicBezTo>
                    <a:pt x="390" y="2387"/>
                    <a:pt x="403" y="2430"/>
                    <a:pt x="415" y="2475"/>
                  </a:cubicBezTo>
                  <a:cubicBezTo>
                    <a:pt x="421" y="2532"/>
                    <a:pt x="419" y="2596"/>
                    <a:pt x="452" y="2645"/>
                  </a:cubicBezTo>
                  <a:cubicBezTo>
                    <a:pt x="454" y="2660"/>
                    <a:pt x="449" y="2678"/>
                    <a:pt x="459" y="2689"/>
                  </a:cubicBezTo>
                  <a:cubicBezTo>
                    <a:pt x="465" y="2695"/>
                    <a:pt x="476" y="2682"/>
                    <a:pt x="481" y="2675"/>
                  </a:cubicBezTo>
                  <a:cubicBezTo>
                    <a:pt x="492" y="2662"/>
                    <a:pt x="494" y="2644"/>
                    <a:pt x="503" y="2630"/>
                  </a:cubicBezTo>
                  <a:cubicBezTo>
                    <a:pt x="523" y="2559"/>
                    <a:pt x="524" y="2456"/>
                    <a:pt x="489" y="2387"/>
                  </a:cubicBezTo>
                  <a:cubicBezTo>
                    <a:pt x="477" y="2362"/>
                    <a:pt x="468" y="2347"/>
                    <a:pt x="459" y="2320"/>
                  </a:cubicBezTo>
                  <a:cubicBezTo>
                    <a:pt x="456" y="2311"/>
                    <a:pt x="455" y="2301"/>
                    <a:pt x="452" y="2291"/>
                  </a:cubicBezTo>
                  <a:cubicBezTo>
                    <a:pt x="450" y="2283"/>
                    <a:pt x="436" y="2268"/>
                    <a:pt x="444" y="2268"/>
                  </a:cubicBezTo>
                  <a:cubicBezTo>
                    <a:pt x="455" y="2268"/>
                    <a:pt x="489" y="2327"/>
                    <a:pt x="489" y="2327"/>
                  </a:cubicBezTo>
                  <a:cubicBezTo>
                    <a:pt x="494" y="2337"/>
                    <a:pt x="499" y="2347"/>
                    <a:pt x="503" y="2357"/>
                  </a:cubicBezTo>
                  <a:cubicBezTo>
                    <a:pt x="507" y="2367"/>
                    <a:pt x="506" y="2378"/>
                    <a:pt x="511" y="2387"/>
                  </a:cubicBezTo>
                  <a:cubicBezTo>
                    <a:pt x="526" y="2416"/>
                    <a:pt x="550" y="2449"/>
                    <a:pt x="570" y="2475"/>
                  </a:cubicBezTo>
                  <a:cubicBezTo>
                    <a:pt x="579" y="2502"/>
                    <a:pt x="614" y="2549"/>
                    <a:pt x="614" y="2549"/>
                  </a:cubicBezTo>
                  <a:cubicBezTo>
                    <a:pt x="650" y="2476"/>
                    <a:pt x="620" y="2413"/>
                    <a:pt x="585" y="2350"/>
                  </a:cubicBezTo>
                  <a:cubicBezTo>
                    <a:pt x="580" y="2340"/>
                    <a:pt x="576" y="2330"/>
                    <a:pt x="570" y="2320"/>
                  </a:cubicBezTo>
                  <a:cubicBezTo>
                    <a:pt x="561" y="2305"/>
                    <a:pt x="540" y="2276"/>
                    <a:pt x="540" y="2276"/>
                  </a:cubicBezTo>
                  <a:cubicBezTo>
                    <a:pt x="530" y="2245"/>
                    <a:pt x="537" y="2260"/>
                    <a:pt x="518" y="2231"/>
                  </a:cubicBezTo>
                  <a:cubicBezTo>
                    <a:pt x="513" y="2223"/>
                    <a:pt x="527" y="2247"/>
                    <a:pt x="533" y="2254"/>
                  </a:cubicBezTo>
                  <a:cubicBezTo>
                    <a:pt x="551" y="2276"/>
                    <a:pt x="569" y="2297"/>
                    <a:pt x="592" y="2313"/>
                  </a:cubicBezTo>
                  <a:cubicBezTo>
                    <a:pt x="643" y="2238"/>
                    <a:pt x="572" y="2189"/>
                    <a:pt x="533" y="2135"/>
                  </a:cubicBezTo>
                  <a:cubicBezTo>
                    <a:pt x="515" y="2086"/>
                    <a:pt x="482" y="2044"/>
                    <a:pt x="466" y="1995"/>
                  </a:cubicBezTo>
                  <a:cubicBezTo>
                    <a:pt x="437" y="1907"/>
                    <a:pt x="421" y="1817"/>
                    <a:pt x="393" y="1729"/>
                  </a:cubicBezTo>
                  <a:cubicBezTo>
                    <a:pt x="360" y="1520"/>
                    <a:pt x="381" y="1669"/>
                    <a:pt x="393" y="1190"/>
                  </a:cubicBezTo>
                  <a:cubicBezTo>
                    <a:pt x="395" y="1102"/>
                    <a:pt x="413" y="1001"/>
                    <a:pt x="459" y="924"/>
                  </a:cubicBezTo>
                  <a:cubicBezTo>
                    <a:pt x="490" y="760"/>
                    <a:pt x="615" y="638"/>
                    <a:pt x="703" y="503"/>
                  </a:cubicBezTo>
                  <a:cubicBezTo>
                    <a:pt x="742" y="340"/>
                    <a:pt x="827" y="101"/>
                    <a:pt x="681" y="1"/>
                  </a:cubicBezTo>
                  <a:cubicBezTo>
                    <a:pt x="634" y="6"/>
                    <a:pt x="592" y="0"/>
                    <a:pt x="555" y="31"/>
                  </a:cubicBezTo>
                  <a:cubicBezTo>
                    <a:pt x="547" y="38"/>
                    <a:pt x="542" y="47"/>
                    <a:pt x="533" y="53"/>
                  </a:cubicBezTo>
                  <a:cubicBezTo>
                    <a:pt x="519" y="62"/>
                    <a:pt x="493" y="72"/>
                    <a:pt x="481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 rot="300000">
              <a:off x="2469960" y="5498640"/>
              <a:ext cx="117360" cy="441360"/>
            </a:xfrm>
            <a:custGeom>
              <a:avLst/>
              <a:gdLst/>
              <a:ahLst/>
              <a:rect l="l" t="t" r="r" b="b"/>
              <a:pathLst>
                <a:path w="827" h="2824">
                  <a:moveTo>
                    <a:pt x="481" y="60"/>
                  </a:moveTo>
                  <a:cubicBezTo>
                    <a:pt x="433" y="93"/>
                    <a:pt x="418" y="148"/>
                    <a:pt x="370" y="179"/>
                  </a:cubicBezTo>
                  <a:cubicBezTo>
                    <a:pt x="365" y="186"/>
                    <a:pt x="362" y="195"/>
                    <a:pt x="356" y="201"/>
                  </a:cubicBezTo>
                  <a:cubicBezTo>
                    <a:pt x="347" y="210"/>
                    <a:pt x="333" y="213"/>
                    <a:pt x="326" y="223"/>
                  </a:cubicBezTo>
                  <a:cubicBezTo>
                    <a:pt x="320" y="231"/>
                    <a:pt x="323" y="243"/>
                    <a:pt x="319" y="252"/>
                  </a:cubicBezTo>
                  <a:cubicBezTo>
                    <a:pt x="308" y="277"/>
                    <a:pt x="290" y="298"/>
                    <a:pt x="274" y="319"/>
                  </a:cubicBezTo>
                  <a:cubicBezTo>
                    <a:pt x="261" y="353"/>
                    <a:pt x="243" y="381"/>
                    <a:pt x="230" y="415"/>
                  </a:cubicBezTo>
                  <a:cubicBezTo>
                    <a:pt x="204" y="485"/>
                    <a:pt x="195" y="562"/>
                    <a:pt x="164" y="629"/>
                  </a:cubicBezTo>
                  <a:cubicBezTo>
                    <a:pt x="139" y="743"/>
                    <a:pt x="97" y="854"/>
                    <a:pt x="75" y="969"/>
                  </a:cubicBezTo>
                  <a:cubicBezTo>
                    <a:pt x="51" y="1300"/>
                    <a:pt x="67" y="1052"/>
                    <a:pt x="60" y="1781"/>
                  </a:cubicBezTo>
                  <a:cubicBezTo>
                    <a:pt x="57" y="2091"/>
                    <a:pt x="198" y="2455"/>
                    <a:pt x="23" y="2711"/>
                  </a:cubicBezTo>
                  <a:cubicBezTo>
                    <a:pt x="32" y="2814"/>
                    <a:pt x="0" y="2824"/>
                    <a:pt x="105" y="2800"/>
                  </a:cubicBezTo>
                  <a:cubicBezTo>
                    <a:pt x="114" y="2798"/>
                    <a:pt x="120" y="2790"/>
                    <a:pt x="127" y="2785"/>
                  </a:cubicBezTo>
                  <a:cubicBezTo>
                    <a:pt x="157" y="2740"/>
                    <a:pt x="168" y="2704"/>
                    <a:pt x="186" y="2652"/>
                  </a:cubicBezTo>
                  <a:cubicBezTo>
                    <a:pt x="192" y="2635"/>
                    <a:pt x="205" y="2623"/>
                    <a:pt x="215" y="2608"/>
                  </a:cubicBezTo>
                  <a:cubicBezTo>
                    <a:pt x="230" y="2585"/>
                    <a:pt x="236" y="2559"/>
                    <a:pt x="245" y="2534"/>
                  </a:cubicBezTo>
                  <a:cubicBezTo>
                    <a:pt x="256" y="2124"/>
                    <a:pt x="238" y="2245"/>
                    <a:pt x="267" y="2364"/>
                  </a:cubicBezTo>
                  <a:cubicBezTo>
                    <a:pt x="265" y="2460"/>
                    <a:pt x="266" y="2556"/>
                    <a:pt x="260" y="2652"/>
                  </a:cubicBezTo>
                  <a:cubicBezTo>
                    <a:pt x="259" y="2668"/>
                    <a:pt x="245" y="2697"/>
                    <a:pt x="245" y="2697"/>
                  </a:cubicBezTo>
                  <a:cubicBezTo>
                    <a:pt x="257" y="2735"/>
                    <a:pt x="274" y="2726"/>
                    <a:pt x="311" y="2719"/>
                  </a:cubicBezTo>
                  <a:cubicBezTo>
                    <a:pt x="324" y="2693"/>
                    <a:pt x="339" y="2672"/>
                    <a:pt x="348" y="2645"/>
                  </a:cubicBezTo>
                  <a:cubicBezTo>
                    <a:pt x="373" y="2463"/>
                    <a:pt x="341" y="2711"/>
                    <a:pt x="363" y="2276"/>
                  </a:cubicBezTo>
                  <a:cubicBezTo>
                    <a:pt x="363" y="2266"/>
                    <a:pt x="368" y="2295"/>
                    <a:pt x="370" y="2305"/>
                  </a:cubicBezTo>
                  <a:cubicBezTo>
                    <a:pt x="373" y="2317"/>
                    <a:pt x="375" y="2330"/>
                    <a:pt x="378" y="2342"/>
                  </a:cubicBezTo>
                  <a:cubicBezTo>
                    <a:pt x="390" y="2387"/>
                    <a:pt x="403" y="2430"/>
                    <a:pt x="415" y="2475"/>
                  </a:cubicBezTo>
                  <a:cubicBezTo>
                    <a:pt x="421" y="2532"/>
                    <a:pt x="419" y="2596"/>
                    <a:pt x="452" y="2645"/>
                  </a:cubicBezTo>
                  <a:cubicBezTo>
                    <a:pt x="454" y="2660"/>
                    <a:pt x="449" y="2678"/>
                    <a:pt x="459" y="2689"/>
                  </a:cubicBezTo>
                  <a:cubicBezTo>
                    <a:pt x="465" y="2695"/>
                    <a:pt x="476" y="2682"/>
                    <a:pt x="481" y="2675"/>
                  </a:cubicBezTo>
                  <a:cubicBezTo>
                    <a:pt x="492" y="2662"/>
                    <a:pt x="494" y="2644"/>
                    <a:pt x="503" y="2630"/>
                  </a:cubicBezTo>
                  <a:cubicBezTo>
                    <a:pt x="523" y="2559"/>
                    <a:pt x="524" y="2456"/>
                    <a:pt x="489" y="2387"/>
                  </a:cubicBezTo>
                  <a:cubicBezTo>
                    <a:pt x="477" y="2362"/>
                    <a:pt x="468" y="2347"/>
                    <a:pt x="459" y="2320"/>
                  </a:cubicBezTo>
                  <a:cubicBezTo>
                    <a:pt x="456" y="2311"/>
                    <a:pt x="455" y="2301"/>
                    <a:pt x="452" y="2291"/>
                  </a:cubicBezTo>
                  <a:cubicBezTo>
                    <a:pt x="450" y="2283"/>
                    <a:pt x="436" y="2268"/>
                    <a:pt x="444" y="2268"/>
                  </a:cubicBezTo>
                  <a:cubicBezTo>
                    <a:pt x="455" y="2268"/>
                    <a:pt x="489" y="2327"/>
                    <a:pt x="489" y="2327"/>
                  </a:cubicBezTo>
                  <a:cubicBezTo>
                    <a:pt x="494" y="2337"/>
                    <a:pt x="499" y="2347"/>
                    <a:pt x="503" y="2357"/>
                  </a:cubicBezTo>
                  <a:cubicBezTo>
                    <a:pt x="507" y="2367"/>
                    <a:pt x="506" y="2378"/>
                    <a:pt x="511" y="2387"/>
                  </a:cubicBezTo>
                  <a:cubicBezTo>
                    <a:pt x="526" y="2416"/>
                    <a:pt x="550" y="2449"/>
                    <a:pt x="570" y="2475"/>
                  </a:cubicBezTo>
                  <a:cubicBezTo>
                    <a:pt x="579" y="2502"/>
                    <a:pt x="614" y="2549"/>
                    <a:pt x="614" y="2549"/>
                  </a:cubicBezTo>
                  <a:cubicBezTo>
                    <a:pt x="650" y="2476"/>
                    <a:pt x="620" y="2413"/>
                    <a:pt x="585" y="2350"/>
                  </a:cubicBezTo>
                  <a:cubicBezTo>
                    <a:pt x="580" y="2340"/>
                    <a:pt x="576" y="2330"/>
                    <a:pt x="570" y="2320"/>
                  </a:cubicBezTo>
                  <a:cubicBezTo>
                    <a:pt x="561" y="2305"/>
                    <a:pt x="540" y="2276"/>
                    <a:pt x="540" y="2276"/>
                  </a:cubicBezTo>
                  <a:cubicBezTo>
                    <a:pt x="530" y="2245"/>
                    <a:pt x="537" y="2260"/>
                    <a:pt x="518" y="2231"/>
                  </a:cubicBezTo>
                  <a:cubicBezTo>
                    <a:pt x="513" y="2223"/>
                    <a:pt x="527" y="2247"/>
                    <a:pt x="533" y="2254"/>
                  </a:cubicBezTo>
                  <a:cubicBezTo>
                    <a:pt x="551" y="2276"/>
                    <a:pt x="569" y="2297"/>
                    <a:pt x="592" y="2313"/>
                  </a:cubicBezTo>
                  <a:cubicBezTo>
                    <a:pt x="643" y="2238"/>
                    <a:pt x="572" y="2189"/>
                    <a:pt x="533" y="2135"/>
                  </a:cubicBezTo>
                  <a:cubicBezTo>
                    <a:pt x="515" y="2086"/>
                    <a:pt x="482" y="2044"/>
                    <a:pt x="466" y="1995"/>
                  </a:cubicBezTo>
                  <a:cubicBezTo>
                    <a:pt x="437" y="1907"/>
                    <a:pt x="421" y="1817"/>
                    <a:pt x="393" y="1729"/>
                  </a:cubicBezTo>
                  <a:cubicBezTo>
                    <a:pt x="360" y="1520"/>
                    <a:pt x="381" y="1669"/>
                    <a:pt x="393" y="1190"/>
                  </a:cubicBezTo>
                  <a:cubicBezTo>
                    <a:pt x="395" y="1102"/>
                    <a:pt x="413" y="1001"/>
                    <a:pt x="459" y="924"/>
                  </a:cubicBezTo>
                  <a:cubicBezTo>
                    <a:pt x="490" y="760"/>
                    <a:pt x="615" y="638"/>
                    <a:pt x="703" y="503"/>
                  </a:cubicBezTo>
                  <a:cubicBezTo>
                    <a:pt x="742" y="340"/>
                    <a:pt x="827" y="101"/>
                    <a:pt x="681" y="1"/>
                  </a:cubicBezTo>
                  <a:cubicBezTo>
                    <a:pt x="634" y="6"/>
                    <a:pt x="592" y="0"/>
                    <a:pt x="555" y="31"/>
                  </a:cubicBezTo>
                  <a:cubicBezTo>
                    <a:pt x="547" y="38"/>
                    <a:pt x="542" y="47"/>
                    <a:pt x="533" y="53"/>
                  </a:cubicBezTo>
                  <a:cubicBezTo>
                    <a:pt x="519" y="62"/>
                    <a:pt x="493" y="72"/>
                    <a:pt x="481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13"/>
            <p:cNvSpPr/>
            <p:nvPr/>
          </p:nvSpPr>
          <p:spPr>
            <a:xfrm flipH="1">
              <a:off x="2572560" y="5275080"/>
              <a:ext cx="189000" cy="262080"/>
            </a:xfrm>
            <a:custGeom>
              <a:avLst/>
              <a:gdLst/>
              <a:ahLst/>
              <a:rect l="l" t="t" r="r" b="b"/>
              <a:pathLst>
                <a:path w="936" h="1152">
                  <a:moveTo>
                    <a:pt x="336" y="1112"/>
                  </a:moveTo>
                  <a:cubicBezTo>
                    <a:pt x="288" y="1072"/>
                    <a:pt x="408" y="920"/>
                    <a:pt x="384" y="872"/>
                  </a:cubicBezTo>
                  <a:cubicBezTo>
                    <a:pt x="360" y="824"/>
                    <a:pt x="256" y="880"/>
                    <a:pt x="192" y="824"/>
                  </a:cubicBezTo>
                  <a:cubicBezTo>
                    <a:pt x="128" y="768"/>
                    <a:pt x="0" y="656"/>
                    <a:pt x="0" y="536"/>
                  </a:cubicBezTo>
                  <a:cubicBezTo>
                    <a:pt x="0" y="416"/>
                    <a:pt x="88" y="184"/>
                    <a:pt x="192" y="104"/>
                  </a:cubicBezTo>
                  <a:cubicBezTo>
                    <a:pt x="296" y="24"/>
                    <a:pt x="504" y="0"/>
                    <a:pt x="624" y="56"/>
                  </a:cubicBezTo>
                  <a:cubicBezTo>
                    <a:pt x="744" y="112"/>
                    <a:pt x="888" y="312"/>
                    <a:pt x="912" y="440"/>
                  </a:cubicBezTo>
                  <a:cubicBezTo>
                    <a:pt x="936" y="568"/>
                    <a:pt x="824" y="752"/>
                    <a:pt x="768" y="824"/>
                  </a:cubicBezTo>
                  <a:cubicBezTo>
                    <a:pt x="712" y="896"/>
                    <a:pt x="592" y="824"/>
                    <a:pt x="576" y="872"/>
                  </a:cubicBezTo>
                  <a:cubicBezTo>
                    <a:pt x="560" y="920"/>
                    <a:pt x="712" y="1072"/>
                    <a:pt x="672" y="1112"/>
                  </a:cubicBezTo>
                  <a:cubicBezTo>
                    <a:pt x="632" y="1152"/>
                    <a:pt x="384" y="1152"/>
                    <a:pt x="336" y="11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4"/>
            <p:cNvSpPr/>
            <p:nvPr/>
          </p:nvSpPr>
          <p:spPr>
            <a:xfrm flipH="1">
              <a:off x="2577960" y="5459400"/>
              <a:ext cx="177840" cy="101520"/>
            </a:xfrm>
            <a:custGeom>
              <a:avLst/>
              <a:gdLst/>
              <a:ahLst/>
              <a:rect l="l" t="t" r="r" b="b"/>
              <a:pathLst>
                <a:path w="406" h="313">
                  <a:moveTo>
                    <a:pt x="101" y="0"/>
                  </a:moveTo>
                  <a:cubicBezTo>
                    <a:pt x="96" y="81"/>
                    <a:pt x="97" y="174"/>
                    <a:pt x="35" y="236"/>
                  </a:cubicBezTo>
                  <a:cubicBezTo>
                    <a:pt x="148" y="313"/>
                    <a:pt x="80" y="273"/>
                    <a:pt x="396" y="244"/>
                  </a:cubicBezTo>
                  <a:cubicBezTo>
                    <a:pt x="406" y="243"/>
                    <a:pt x="380" y="230"/>
                    <a:pt x="374" y="222"/>
                  </a:cubicBezTo>
                  <a:cubicBezTo>
                    <a:pt x="368" y="213"/>
                    <a:pt x="364" y="202"/>
                    <a:pt x="359" y="192"/>
                  </a:cubicBezTo>
                  <a:cubicBezTo>
                    <a:pt x="344" y="166"/>
                    <a:pt x="333" y="143"/>
                    <a:pt x="315" y="118"/>
                  </a:cubicBezTo>
                  <a:cubicBezTo>
                    <a:pt x="304" y="82"/>
                    <a:pt x="334" y="22"/>
                    <a:pt x="300" y="7"/>
                  </a:cubicBezTo>
                  <a:cubicBezTo>
                    <a:pt x="283" y="0"/>
                    <a:pt x="0" y="0"/>
                    <a:pt x="10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 flipH="1">
              <a:off x="2614680" y="5870520"/>
              <a:ext cx="146160" cy="146160"/>
            </a:xfrm>
            <a:custGeom>
              <a:avLst/>
              <a:gdLst/>
              <a:ahLst/>
              <a:rect l="l" t="t" r="r" b="b"/>
              <a:pathLst>
                <a:path w="396" h="459">
                  <a:moveTo>
                    <a:pt x="128" y="445"/>
                  </a:moveTo>
                  <a:cubicBezTo>
                    <a:pt x="140" y="380"/>
                    <a:pt x="183" y="304"/>
                    <a:pt x="239" y="267"/>
                  </a:cubicBezTo>
                  <a:cubicBezTo>
                    <a:pt x="273" y="319"/>
                    <a:pt x="258" y="297"/>
                    <a:pt x="283" y="334"/>
                  </a:cubicBezTo>
                  <a:cubicBezTo>
                    <a:pt x="288" y="341"/>
                    <a:pt x="293" y="349"/>
                    <a:pt x="298" y="356"/>
                  </a:cubicBezTo>
                  <a:cubicBezTo>
                    <a:pt x="303" y="363"/>
                    <a:pt x="312" y="378"/>
                    <a:pt x="312" y="378"/>
                  </a:cubicBezTo>
                  <a:cubicBezTo>
                    <a:pt x="315" y="389"/>
                    <a:pt x="334" y="444"/>
                    <a:pt x="342" y="452"/>
                  </a:cubicBezTo>
                  <a:cubicBezTo>
                    <a:pt x="347" y="457"/>
                    <a:pt x="357" y="457"/>
                    <a:pt x="364" y="459"/>
                  </a:cubicBezTo>
                  <a:cubicBezTo>
                    <a:pt x="382" y="411"/>
                    <a:pt x="377" y="360"/>
                    <a:pt x="394" y="312"/>
                  </a:cubicBezTo>
                  <a:cubicBezTo>
                    <a:pt x="391" y="243"/>
                    <a:pt x="396" y="173"/>
                    <a:pt x="386" y="105"/>
                  </a:cubicBezTo>
                  <a:cubicBezTo>
                    <a:pt x="374" y="24"/>
                    <a:pt x="253" y="17"/>
                    <a:pt x="194" y="1"/>
                  </a:cubicBezTo>
                  <a:cubicBezTo>
                    <a:pt x="140" y="4"/>
                    <a:pt x="85" y="0"/>
                    <a:pt x="32" y="9"/>
                  </a:cubicBezTo>
                  <a:cubicBezTo>
                    <a:pt x="24" y="10"/>
                    <a:pt x="27" y="24"/>
                    <a:pt x="24" y="31"/>
                  </a:cubicBezTo>
                  <a:cubicBezTo>
                    <a:pt x="16" y="56"/>
                    <a:pt x="11" y="81"/>
                    <a:pt x="2" y="105"/>
                  </a:cubicBezTo>
                  <a:cubicBezTo>
                    <a:pt x="5" y="181"/>
                    <a:pt x="0" y="258"/>
                    <a:pt x="10" y="334"/>
                  </a:cubicBezTo>
                  <a:cubicBezTo>
                    <a:pt x="16" y="382"/>
                    <a:pt x="80" y="401"/>
                    <a:pt x="113" y="422"/>
                  </a:cubicBezTo>
                  <a:cubicBezTo>
                    <a:pt x="118" y="430"/>
                    <a:pt x="128" y="445"/>
                    <a:pt x="128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 flipH="1">
              <a:off x="2570040" y="5270400"/>
              <a:ext cx="209520" cy="187200"/>
            </a:xfrm>
            <a:custGeom>
              <a:avLst/>
              <a:gdLst/>
              <a:ahLst/>
              <a:rect l="l" t="t" r="r" b="b"/>
              <a:pathLst>
                <a:path w="627" h="638">
                  <a:moveTo>
                    <a:pt x="67" y="387"/>
                  </a:moveTo>
                  <a:cubicBezTo>
                    <a:pt x="27" y="374"/>
                    <a:pt x="0" y="363"/>
                    <a:pt x="31" y="306"/>
                  </a:cubicBezTo>
                  <a:cubicBezTo>
                    <a:pt x="36" y="297"/>
                    <a:pt x="50" y="301"/>
                    <a:pt x="60" y="298"/>
                  </a:cubicBezTo>
                  <a:cubicBezTo>
                    <a:pt x="21" y="259"/>
                    <a:pt x="48" y="279"/>
                    <a:pt x="75" y="239"/>
                  </a:cubicBezTo>
                  <a:cubicBezTo>
                    <a:pt x="72" y="232"/>
                    <a:pt x="66" y="225"/>
                    <a:pt x="67" y="217"/>
                  </a:cubicBezTo>
                  <a:cubicBezTo>
                    <a:pt x="68" y="208"/>
                    <a:pt x="78" y="203"/>
                    <a:pt x="82" y="195"/>
                  </a:cubicBezTo>
                  <a:cubicBezTo>
                    <a:pt x="86" y="188"/>
                    <a:pt x="84" y="179"/>
                    <a:pt x="90" y="173"/>
                  </a:cubicBezTo>
                  <a:cubicBezTo>
                    <a:pt x="96" y="167"/>
                    <a:pt x="105" y="168"/>
                    <a:pt x="112" y="165"/>
                  </a:cubicBezTo>
                  <a:cubicBezTo>
                    <a:pt x="114" y="145"/>
                    <a:pt x="106" y="121"/>
                    <a:pt x="119" y="106"/>
                  </a:cubicBezTo>
                  <a:cubicBezTo>
                    <a:pt x="127" y="96"/>
                    <a:pt x="146" y="121"/>
                    <a:pt x="156" y="114"/>
                  </a:cubicBezTo>
                  <a:cubicBezTo>
                    <a:pt x="169" y="105"/>
                    <a:pt x="171" y="69"/>
                    <a:pt x="171" y="69"/>
                  </a:cubicBezTo>
                  <a:cubicBezTo>
                    <a:pt x="181" y="72"/>
                    <a:pt x="190" y="80"/>
                    <a:pt x="200" y="77"/>
                  </a:cubicBezTo>
                  <a:cubicBezTo>
                    <a:pt x="254" y="62"/>
                    <a:pt x="197" y="53"/>
                    <a:pt x="237" y="32"/>
                  </a:cubicBezTo>
                  <a:cubicBezTo>
                    <a:pt x="251" y="25"/>
                    <a:pt x="267" y="27"/>
                    <a:pt x="282" y="25"/>
                  </a:cubicBezTo>
                  <a:cubicBezTo>
                    <a:pt x="318" y="0"/>
                    <a:pt x="319" y="14"/>
                    <a:pt x="341" y="47"/>
                  </a:cubicBezTo>
                  <a:cubicBezTo>
                    <a:pt x="383" y="34"/>
                    <a:pt x="386" y="32"/>
                    <a:pt x="437" y="40"/>
                  </a:cubicBezTo>
                  <a:cubicBezTo>
                    <a:pt x="441" y="41"/>
                    <a:pt x="477" y="53"/>
                    <a:pt x="481" y="55"/>
                  </a:cubicBezTo>
                  <a:cubicBezTo>
                    <a:pt x="509" y="74"/>
                    <a:pt x="508" y="96"/>
                    <a:pt x="540" y="106"/>
                  </a:cubicBezTo>
                  <a:cubicBezTo>
                    <a:pt x="552" y="143"/>
                    <a:pt x="576" y="141"/>
                    <a:pt x="562" y="180"/>
                  </a:cubicBezTo>
                  <a:cubicBezTo>
                    <a:pt x="565" y="187"/>
                    <a:pt x="573" y="195"/>
                    <a:pt x="570" y="202"/>
                  </a:cubicBezTo>
                  <a:cubicBezTo>
                    <a:pt x="557" y="234"/>
                    <a:pt x="521" y="200"/>
                    <a:pt x="570" y="232"/>
                  </a:cubicBezTo>
                  <a:cubicBezTo>
                    <a:pt x="530" y="258"/>
                    <a:pt x="556" y="251"/>
                    <a:pt x="570" y="291"/>
                  </a:cubicBezTo>
                  <a:cubicBezTo>
                    <a:pt x="553" y="337"/>
                    <a:pt x="583" y="344"/>
                    <a:pt x="607" y="380"/>
                  </a:cubicBezTo>
                  <a:cubicBezTo>
                    <a:pt x="627" y="464"/>
                    <a:pt x="581" y="433"/>
                    <a:pt x="481" y="439"/>
                  </a:cubicBezTo>
                  <a:cubicBezTo>
                    <a:pt x="250" y="434"/>
                    <a:pt x="205" y="457"/>
                    <a:pt x="53" y="409"/>
                  </a:cubicBezTo>
                  <a:cubicBezTo>
                    <a:pt x="25" y="390"/>
                    <a:pt x="37" y="400"/>
                    <a:pt x="16" y="380"/>
                  </a:cubicBezTo>
                  <a:lnTo>
                    <a:pt x="241" y="638"/>
                  </a:lnTo>
                  <a:lnTo>
                    <a:pt x="67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146"/>
          <p:cNvGrpSpPr/>
          <p:nvPr/>
        </p:nvGrpSpPr>
        <p:grpSpPr>
          <a:xfrm>
            <a:off x="844560" y="6340320"/>
            <a:ext cx="2076480" cy="580680"/>
            <a:chOff x="844560" y="6340320"/>
            <a:chExt cx="2076480" cy="580680"/>
          </a:xfrm>
        </p:grpSpPr>
        <p:sp>
          <p:nvSpPr>
            <p:cNvPr id="403" name="Freeform 132"/>
            <p:cNvSpPr/>
            <p:nvPr/>
          </p:nvSpPr>
          <p:spPr>
            <a:xfrm>
              <a:off x="844560" y="6340320"/>
              <a:ext cx="1082520" cy="572400"/>
            </a:xfrm>
            <a:custGeom>
              <a:avLst/>
              <a:gdLst/>
              <a:ahLst/>
              <a:rect l="l" t="t" r="r" b="b"/>
              <a:pathLst>
                <a:path w="682" h="409">
                  <a:moveTo>
                    <a:pt x="682" y="7"/>
                  </a:moveTo>
                  <a:cubicBezTo>
                    <a:pt x="650" y="29"/>
                    <a:pt x="613" y="50"/>
                    <a:pt x="583" y="75"/>
                  </a:cubicBezTo>
                  <a:cubicBezTo>
                    <a:pt x="577" y="80"/>
                    <a:pt x="573" y="85"/>
                    <a:pt x="568" y="91"/>
                  </a:cubicBezTo>
                  <a:cubicBezTo>
                    <a:pt x="560" y="101"/>
                    <a:pt x="555" y="113"/>
                    <a:pt x="545" y="121"/>
                  </a:cubicBezTo>
                  <a:cubicBezTo>
                    <a:pt x="536" y="128"/>
                    <a:pt x="525" y="130"/>
                    <a:pt x="515" y="136"/>
                  </a:cubicBezTo>
                  <a:cubicBezTo>
                    <a:pt x="507" y="141"/>
                    <a:pt x="499" y="145"/>
                    <a:pt x="492" y="151"/>
                  </a:cubicBezTo>
                  <a:cubicBezTo>
                    <a:pt x="432" y="205"/>
                    <a:pt x="394" y="241"/>
                    <a:pt x="326" y="288"/>
                  </a:cubicBezTo>
                  <a:cubicBezTo>
                    <a:pt x="288" y="314"/>
                    <a:pt x="257" y="349"/>
                    <a:pt x="212" y="363"/>
                  </a:cubicBezTo>
                  <a:cubicBezTo>
                    <a:pt x="189" y="388"/>
                    <a:pt x="162" y="390"/>
                    <a:pt x="129" y="401"/>
                  </a:cubicBezTo>
                  <a:cubicBezTo>
                    <a:pt x="121" y="404"/>
                    <a:pt x="106" y="409"/>
                    <a:pt x="106" y="409"/>
                  </a:cubicBezTo>
                  <a:cubicBezTo>
                    <a:pt x="86" y="406"/>
                    <a:pt x="65" y="405"/>
                    <a:pt x="45" y="401"/>
                  </a:cubicBezTo>
                  <a:cubicBezTo>
                    <a:pt x="30" y="398"/>
                    <a:pt x="0" y="386"/>
                    <a:pt x="0" y="386"/>
                  </a:cubicBezTo>
                  <a:cubicBezTo>
                    <a:pt x="22" y="379"/>
                    <a:pt x="46" y="378"/>
                    <a:pt x="68" y="371"/>
                  </a:cubicBezTo>
                  <a:cubicBezTo>
                    <a:pt x="86" y="365"/>
                    <a:pt x="103" y="354"/>
                    <a:pt x="121" y="348"/>
                  </a:cubicBezTo>
                  <a:cubicBezTo>
                    <a:pt x="143" y="287"/>
                    <a:pt x="191" y="268"/>
                    <a:pt x="250" y="250"/>
                  </a:cubicBezTo>
                  <a:cubicBezTo>
                    <a:pt x="296" y="220"/>
                    <a:pt x="340" y="190"/>
                    <a:pt x="386" y="159"/>
                  </a:cubicBezTo>
                  <a:cubicBezTo>
                    <a:pt x="436" y="126"/>
                    <a:pt x="381" y="181"/>
                    <a:pt x="432" y="136"/>
                  </a:cubicBezTo>
                  <a:cubicBezTo>
                    <a:pt x="448" y="122"/>
                    <a:pt x="462" y="106"/>
                    <a:pt x="477" y="91"/>
                  </a:cubicBezTo>
                  <a:cubicBezTo>
                    <a:pt x="482" y="86"/>
                    <a:pt x="492" y="75"/>
                    <a:pt x="492" y="75"/>
                  </a:cubicBezTo>
                  <a:cubicBezTo>
                    <a:pt x="505" y="38"/>
                    <a:pt x="516" y="11"/>
                    <a:pt x="553" y="0"/>
                  </a:cubicBezTo>
                  <a:cubicBezTo>
                    <a:pt x="651" y="8"/>
                    <a:pt x="608" y="7"/>
                    <a:pt x="682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33"/>
            <p:cNvSpPr/>
            <p:nvPr/>
          </p:nvSpPr>
          <p:spPr>
            <a:xfrm>
              <a:off x="1355760" y="6348240"/>
              <a:ext cx="1082520" cy="572760"/>
            </a:xfrm>
            <a:custGeom>
              <a:avLst/>
              <a:gdLst/>
              <a:ahLst/>
              <a:rect l="l" t="t" r="r" b="b"/>
              <a:pathLst>
                <a:path w="682" h="409">
                  <a:moveTo>
                    <a:pt x="682" y="7"/>
                  </a:moveTo>
                  <a:cubicBezTo>
                    <a:pt x="650" y="29"/>
                    <a:pt x="613" y="50"/>
                    <a:pt x="583" y="75"/>
                  </a:cubicBezTo>
                  <a:cubicBezTo>
                    <a:pt x="577" y="80"/>
                    <a:pt x="573" y="85"/>
                    <a:pt x="568" y="91"/>
                  </a:cubicBezTo>
                  <a:cubicBezTo>
                    <a:pt x="560" y="101"/>
                    <a:pt x="555" y="113"/>
                    <a:pt x="545" y="121"/>
                  </a:cubicBezTo>
                  <a:cubicBezTo>
                    <a:pt x="536" y="128"/>
                    <a:pt x="525" y="130"/>
                    <a:pt x="515" y="136"/>
                  </a:cubicBezTo>
                  <a:cubicBezTo>
                    <a:pt x="507" y="141"/>
                    <a:pt x="499" y="145"/>
                    <a:pt x="492" y="151"/>
                  </a:cubicBezTo>
                  <a:cubicBezTo>
                    <a:pt x="432" y="205"/>
                    <a:pt x="394" y="241"/>
                    <a:pt x="326" y="288"/>
                  </a:cubicBezTo>
                  <a:cubicBezTo>
                    <a:pt x="288" y="314"/>
                    <a:pt x="257" y="349"/>
                    <a:pt x="212" y="363"/>
                  </a:cubicBezTo>
                  <a:cubicBezTo>
                    <a:pt x="189" y="388"/>
                    <a:pt x="162" y="390"/>
                    <a:pt x="129" y="401"/>
                  </a:cubicBezTo>
                  <a:cubicBezTo>
                    <a:pt x="121" y="404"/>
                    <a:pt x="106" y="409"/>
                    <a:pt x="106" y="409"/>
                  </a:cubicBezTo>
                  <a:cubicBezTo>
                    <a:pt x="86" y="406"/>
                    <a:pt x="65" y="405"/>
                    <a:pt x="45" y="401"/>
                  </a:cubicBezTo>
                  <a:cubicBezTo>
                    <a:pt x="30" y="398"/>
                    <a:pt x="0" y="386"/>
                    <a:pt x="0" y="386"/>
                  </a:cubicBezTo>
                  <a:cubicBezTo>
                    <a:pt x="22" y="379"/>
                    <a:pt x="46" y="378"/>
                    <a:pt x="68" y="371"/>
                  </a:cubicBezTo>
                  <a:cubicBezTo>
                    <a:pt x="86" y="365"/>
                    <a:pt x="103" y="354"/>
                    <a:pt x="121" y="348"/>
                  </a:cubicBezTo>
                  <a:cubicBezTo>
                    <a:pt x="143" y="287"/>
                    <a:pt x="191" y="268"/>
                    <a:pt x="250" y="250"/>
                  </a:cubicBezTo>
                  <a:cubicBezTo>
                    <a:pt x="296" y="220"/>
                    <a:pt x="340" y="190"/>
                    <a:pt x="386" y="159"/>
                  </a:cubicBezTo>
                  <a:cubicBezTo>
                    <a:pt x="436" y="126"/>
                    <a:pt x="381" y="181"/>
                    <a:pt x="432" y="136"/>
                  </a:cubicBezTo>
                  <a:cubicBezTo>
                    <a:pt x="448" y="122"/>
                    <a:pt x="462" y="106"/>
                    <a:pt x="477" y="91"/>
                  </a:cubicBezTo>
                  <a:cubicBezTo>
                    <a:pt x="482" y="86"/>
                    <a:pt x="492" y="75"/>
                    <a:pt x="492" y="75"/>
                  </a:cubicBezTo>
                  <a:cubicBezTo>
                    <a:pt x="505" y="38"/>
                    <a:pt x="516" y="11"/>
                    <a:pt x="553" y="0"/>
                  </a:cubicBezTo>
                  <a:cubicBezTo>
                    <a:pt x="651" y="8"/>
                    <a:pt x="608" y="7"/>
                    <a:pt x="682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4"/>
            <p:cNvSpPr/>
            <p:nvPr/>
          </p:nvSpPr>
          <p:spPr>
            <a:xfrm>
              <a:off x="1981080" y="6351120"/>
              <a:ext cx="625320" cy="568080"/>
            </a:xfrm>
            <a:custGeom>
              <a:avLst/>
              <a:gdLst/>
              <a:ahLst/>
              <a:rect l="l" t="t" r="r" b="b"/>
              <a:pathLst>
                <a:path w="682" h="409">
                  <a:moveTo>
                    <a:pt x="682" y="7"/>
                  </a:moveTo>
                  <a:cubicBezTo>
                    <a:pt x="650" y="29"/>
                    <a:pt x="613" y="50"/>
                    <a:pt x="583" y="75"/>
                  </a:cubicBezTo>
                  <a:cubicBezTo>
                    <a:pt x="577" y="80"/>
                    <a:pt x="573" y="85"/>
                    <a:pt x="568" y="91"/>
                  </a:cubicBezTo>
                  <a:cubicBezTo>
                    <a:pt x="560" y="101"/>
                    <a:pt x="555" y="113"/>
                    <a:pt x="545" y="121"/>
                  </a:cubicBezTo>
                  <a:cubicBezTo>
                    <a:pt x="536" y="128"/>
                    <a:pt x="525" y="130"/>
                    <a:pt x="515" y="136"/>
                  </a:cubicBezTo>
                  <a:cubicBezTo>
                    <a:pt x="507" y="141"/>
                    <a:pt x="499" y="145"/>
                    <a:pt x="492" y="151"/>
                  </a:cubicBezTo>
                  <a:cubicBezTo>
                    <a:pt x="432" y="205"/>
                    <a:pt x="394" y="241"/>
                    <a:pt x="326" y="288"/>
                  </a:cubicBezTo>
                  <a:cubicBezTo>
                    <a:pt x="288" y="314"/>
                    <a:pt x="257" y="349"/>
                    <a:pt x="212" y="363"/>
                  </a:cubicBezTo>
                  <a:cubicBezTo>
                    <a:pt x="189" y="388"/>
                    <a:pt x="162" y="390"/>
                    <a:pt x="129" y="401"/>
                  </a:cubicBezTo>
                  <a:cubicBezTo>
                    <a:pt x="121" y="404"/>
                    <a:pt x="106" y="409"/>
                    <a:pt x="106" y="409"/>
                  </a:cubicBezTo>
                  <a:cubicBezTo>
                    <a:pt x="86" y="406"/>
                    <a:pt x="65" y="405"/>
                    <a:pt x="45" y="401"/>
                  </a:cubicBezTo>
                  <a:cubicBezTo>
                    <a:pt x="30" y="398"/>
                    <a:pt x="0" y="386"/>
                    <a:pt x="0" y="386"/>
                  </a:cubicBezTo>
                  <a:cubicBezTo>
                    <a:pt x="22" y="379"/>
                    <a:pt x="46" y="378"/>
                    <a:pt x="68" y="371"/>
                  </a:cubicBezTo>
                  <a:cubicBezTo>
                    <a:pt x="86" y="365"/>
                    <a:pt x="103" y="354"/>
                    <a:pt x="121" y="348"/>
                  </a:cubicBezTo>
                  <a:cubicBezTo>
                    <a:pt x="143" y="287"/>
                    <a:pt x="191" y="268"/>
                    <a:pt x="250" y="250"/>
                  </a:cubicBezTo>
                  <a:cubicBezTo>
                    <a:pt x="296" y="220"/>
                    <a:pt x="340" y="190"/>
                    <a:pt x="386" y="159"/>
                  </a:cubicBezTo>
                  <a:cubicBezTo>
                    <a:pt x="436" y="126"/>
                    <a:pt x="381" y="181"/>
                    <a:pt x="432" y="136"/>
                  </a:cubicBezTo>
                  <a:cubicBezTo>
                    <a:pt x="448" y="122"/>
                    <a:pt x="462" y="106"/>
                    <a:pt x="477" y="91"/>
                  </a:cubicBezTo>
                  <a:cubicBezTo>
                    <a:pt x="482" y="86"/>
                    <a:pt x="492" y="75"/>
                    <a:pt x="492" y="75"/>
                  </a:cubicBezTo>
                  <a:cubicBezTo>
                    <a:pt x="505" y="38"/>
                    <a:pt x="516" y="11"/>
                    <a:pt x="553" y="0"/>
                  </a:cubicBezTo>
                  <a:cubicBezTo>
                    <a:pt x="651" y="8"/>
                    <a:pt x="608" y="7"/>
                    <a:pt x="682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5"/>
            <p:cNvSpPr/>
            <p:nvPr/>
          </p:nvSpPr>
          <p:spPr>
            <a:xfrm>
              <a:off x="2295360" y="6348240"/>
              <a:ext cx="625680" cy="568440"/>
            </a:xfrm>
            <a:custGeom>
              <a:avLst/>
              <a:gdLst/>
              <a:ahLst/>
              <a:rect l="l" t="t" r="r" b="b"/>
              <a:pathLst>
                <a:path w="682" h="409">
                  <a:moveTo>
                    <a:pt x="682" y="7"/>
                  </a:moveTo>
                  <a:cubicBezTo>
                    <a:pt x="650" y="29"/>
                    <a:pt x="613" y="50"/>
                    <a:pt x="583" y="75"/>
                  </a:cubicBezTo>
                  <a:cubicBezTo>
                    <a:pt x="577" y="80"/>
                    <a:pt x="573" y="85"/>
                    <a:pt x="568" y="91"/>
                  </a:cubicBezTo>
                  <a:cubicBezTo>
                    <a:pt x="560" y="101"/>
                    <a:pt x="555" y="113"/>
                    <a:pt x="545" y="121"/>
                  </a:cubicBezTo>
                  <a:cubicBezTo>
                    <a:pt x="536" y="128"/>
                    <a:pt x="525" y="130"/>
                    <a:pt x="515" y="136"/>
                  </a:cubicBezTo>
                  <a:cubicBezTo>
                    <a:pt x="507" y="141"/>
                    <a:pt x="499" y="145"/>
                    <a:pt x="492" y="151"/>
                  </a:cubicBezTo>
                  <a:cubicBezTo>
                    <a:pt x="432" y="205"/>
                    <a:pt x="394" y="241"/>
                    <a:pt x="326" y="288"/>
                  </a:cubicBezTo>
                  <a:cubicBezTo>
                    <a:pt x="288" y="314"/>
                    <a:pt x="257" y="349"/>
                    <a:pt x="212" y="363"/>
                  </a:cubicBezTo>
                  <a:cubicBezTo>
                    <a:pt x="189" y="388"/>
                    <a:pt x="162" y="390"/>
                    <a:pt x="129" y="401"/>
                  </a:cubicBezTo>
                  <a:cubicBezTo>
                    <a:pt x="121" y="404"/>
                    <a:pt x="106" y="409"/>
                    <a:pt x="106" y="409"/>
                  </a:cubicBezTo>
                  <a:cubicBezTo>
                    <a:pt x="86" y="406"/>
                    <a:pt x="65" y="405"/>
                    <a:pt x="45" y="401"/>
                  </a:cubicBezTo>
                  <a:cubicBezTo>
                    <a:pt x="30" y="398"/>
                    <a:pt x="0" y="386"/>
                    <a:pt x="0" y="386"/>
                  </a:cubicBezTo>
                  <a:cubicBezTo>
                    <a:pt x="22" y="379"/>
                    <a:pt x="46" y="378"/>
                    <a:pt x="68" y="371"/>
                  </a:cubicBezTo>
                  <a:cubicBezTo>
                    <a:pt x="86" y="365"/>
                    <a:pt x="103" y="354"/>
                    <a:pt x="121" y="348"/>
                  </a:cubicBezTo>
                  <a:cubicBezTo>
                    <a:pt x="143" y="287"/>
                    <a:pt x="191" y="268"/>
                    <a:pt x="250" y="250"/>
                  </a:cubicBezTo>
                  <a:cubicBezTo>
                    <a:pt x="296" y="220"/>
                    <a:pt x="340" y="190"/>
                    <a:pt x="386" y="159"/>
                  </a:cubicBezTo>
                  <a:cubicBezTo>
                    <a:pt x="436" y="126"/>
                    <a:pt x="381" y="181"/>
                    <a:pt x="432" y="136"/>
                  </a:cubicBezTo>
                  <a:cubicBezTo>
                    <a:pt x="448" y="122"/>
                    <a:pt x="462" y="106"/>
                    <a:pt x="477" y="91"/>
                  </a:cubicBezTo>
                  <a:cubicBezTo>
                    <a:pt x="482" y="86"/>
                    <a:pt x="492" y="75"/>
                    <a:pt x="492" y="75"/>
                  </a:cubicBezTo>
                  <a:cubicBezTo>
                    <a:pt x="505" y="38"/>
                    <a:pt x="516" y="11"/>
                    <a:pt x="553" y="0"/>
                  </a:cubicBezTo>
                  <a:cubicBezTo>
                    <a:pt x="651" y="8"/>
                    <a:pt x="608" y="7"/>
                    <a:pt x="682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Freeform 182"/>
          <p:cNvSpPr/>
          <p:nvPr/>
        </p:nvSpPr>
        <p:spPr>
          <a:xfrm>
            <a:off x="5867280" y="6232680"/>
            <a:ext cx="3276720" cy="971280"/>
          </a:xfrm>
          <a:custGeom>
            <a:avLst/>
            <a:gdLst/>
            <a:ahLst/>
            <a:rect l="l" t="t" r="r" b="b"/>
            <a:pathLst>
              <a:path w="2072" h="612">
                <a:moveTo>
                  <a:pt x="0" y="114"/>
                </a:moveTo>
                <a:cubicBezTo>
                  <a:pt x="24" y="136"/>
                  <a:pt x="54" y="142"/>
                  <a:pt x="84" y="151"/>
                </a:cubicBezTo>
                <a:cubicBezTo>
                  <a:pt x="118" y="175"/>
                  <a:pt x="166" y="198"/>
                  <a:pt x="197" y="227"/>
                </a:cubicBezTo>
                <a:cubicBezTo>
                  <a:pt x="225" y="253"/>
                  <a:pt x="246" y="277"/>
                  <a:pt x="281" y="295"/>
                </a:cubicBezTo>
                <a:cubicBezTo>
                  <a:pt x="296" y="318"/>
                  <a:pt x="348" y="371"/>
                  <a:pt x="372" y="386"/>
                </a:cubicBezTo>
                <a:cubicBezTo>
                  <a:pt x="410" y="444"/>
                  <a:pt x="362" y="381"/>
                  <a:pt x="410" y="417"/>
                </a:cubicBezTo>
                <a:cubicBezTo>
                  <a:pt x="424" y="428"/>
                  <a:pt x="433" y="445"/>
                  <a:pt x="448" y="455"/>
                </a:cubicBezTo>
                <a:cubicBezTo>
                  <a:pt x="455" y="460"/>
                  <a:pt x="463" y="465"/>
                  <a:pt x="470" y="470"/>
                </a:cubicBezTo>
                <a:cubicBezTo>
                  <a:pt x="543" y="581"/>
                  <a:pt x="858" y="544"/>
                  <a:pt x="917" y="546"/>
                </a:cubicBezTo>
                <a:cubicBezTo>
                  <a:pt x="1002" y="565"/>
                  <a:pt x="1080" y="571"/>
                  <a:pt x="1168" y="576"/>
                </a:cubicBezTo>
                <a:cubicBezTo>
                  <a:pt x="1223" y="586"/>
                  <a:pt x="1281" y="580"/>
                  <a:pt x="1334" y="599"/>
                </a:cubicBezTo>
                <a:cubicBezTo>
                  <a:pt x="1569" y="596"/>
                  <a:pt x="1804" y="599"/>
                  <a:pt x="2039" y="591"/>
                </a:cubicBezTo>
                <a:cubicBezTo>
                  <a:pt x="2048" y="591"/>
                  <a:pt x="2022" y="582"/>
                  <a:pt x="2016" y="576"/>
                </a:cubicBezTo>
                <a:cubicBezTo>
                  <a:pt x="1930" y="490"/>
                  <a:pt x="2072" y="612"/>
                  <a:pt x="1979" y="538"/>
                </a:cubicBezTo>
                <a:cubicBezTo>
                  <a:pt x="1937" y="505"/>
                  <a:pt x="1920" y="455"/>
                  <a:pt x="1872" y="424"/>
                </a:cubicBezTo>
                <a:cubicBezTo>
                  <a:pt x="1855" y="399"/>
                  <a:pt x="1849" y="388"/>
                  <a:pt x="1819" y="379"/>
                </a:cubicBezTo>
                <a:cubicBezTo>
                  <a:pt x="1748" y="305"/>
                  <a:pt x="1679" y="231"/>
                  <a:pt x="1592" y="174"/>
                </a:cubicBezTo>
                <a:cubicBezTo>
                  <a:pt x="1493" y="22"/>
                  <a:pt x="1142" y="130"/>
                  <a:pt x="1069" y="129"/>
                </a:cubicBezTo>
                <a:cubicBezTo>
                  <a:pt x="956" y="124"/>
                  <a:pt x="840" y="122"/>
                  <a:pt x="728" y="98"/>
                </a:cubicBezTo>
                <a:cubicBezTo>
                  <a:pt x="10" y="106"/>
                  <a:pt x="228" y="0"/>
                  <a:pt x="0" y="114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86"/>
          <p:cNvSpPr/>
          <p:nvPr/>
        </p:nvSpPr>
        <p:spPr>
          <a:xfrm rot="10800000">
            <a:off x="8902440" y="6400800"/>
            <a:ext cx="965160" cy="65088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144" y="0"/>
                </a:moveTo>
                <a:lnTo>
                  <a:pt x="0" y="0"/>
                </a:lnTo>
                <a:lnTo>
                  <a:pt x="864" y="912"/>
                </a:lnTo>
                <a:lnTo>
                  <a:pt x="960" y="912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87"/>
          <p:cNvSpPr/>
          <p:nvPr/>
        </p:nvSpPr>
        <p:spPr>
          <a:xfrm rot="10800000">
            <a:off x="8788320" y="6438960"/>
            <a:ext cx="749520" cy="65088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144" y="0"/>
                </a:moveTo>
                <a:lnTo>
                  <a:pt x="0" y="0"/>
                </a:lnTo>
                <a:lnTo>
                  <a:pt x="864" y="912"/>
                </a:lnTo>
                <a:lnTo>
                  <a:pt x="960" y="912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88"/>
          <p:cNvSpPr/>
          <p:nvPr/>
        </p:nvSpPr>
        <p:spPr>
          <a:xfrm rot="10800000">
            <a:off x="8648640" y="6464160"/>
            <a:ext cx="571680" cy="650880"/>
          </a:xfrm>
          <a:custGeom>
            <a:avLst/>
            <a:gdLst/>
            <a:ahLst/>
            <a:rect l="l" t="t" r="r" b="b"/>
            <a:pathLst>
              <a:path w="960" h="912">
                <a:moveTo>
                  <a:pt x="144" y="0"/>
                </a:moveTo>
                <a:lnTo>
                  <a:pt x="0" y="0"/>
                </a:lnTo>
                <a:lnTo>
                  <a:pt x="864" y="912"/>
                </a:lnTo>
                <a:lnTo>
                  <a:pt x="960" y="912"/>
                </a:lnTo>
                <a:lnTo>
                  <a:pt x="144" y="0"/>
                </a:ln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54"/>
          <p:cNvGrpSpPr/>
          <p:nvPr/>
        </p:nvGrpSpPr>
        <p:grpSpPr>
          <a:xfrm>
            <a:off x="1559160" y="4724280"/>
            <a:ext cx="834840" cy="1676520"/>
            <a:chOff x="1559160" y="4724280"/>
            <a:chExt cx="834840" cy="1676520"/>
          </a:xfrm>
        </p:grpSpPr>
        <p:grpSp>
          <p:nvGrpSpPr>
            <p:cNvPr id="412" name="Group 12"/>
            <p:cNvGrpSpPr/>
            <p:nvPr/>
          </p:nvGrpSpPr>
          <p:grpSpPr>
            <a:xfrm>
              <a:off x="1676520" y="5754600"/>
              <a:ext cx="717480" cy="646200"/>
              <a:chOff x="1676520" y="5754600"/>
              <a:chExt cx="717480" cy="646200"/>
            </a:xfrm>
          </p:grpSpPr>
          <p:sp>
            <p:nvSpPr>
              <p:cNvPr id="413" name="Freeform 10"/>
              <p:cNvSpPr/>
              <p:nvPr/>
            </p:nvSpPr>
            <p:spPr>
              <a:xfrm>
                <a:off x="1676520" y="5754600"/>
                <a:ext cx="342720" cy="636840"/>
              </a:xfrm>
              <a:custGeom>
                <a:avLst/>
                <a:gdLst/>
                <a:ahLst/>
                <a:rect l="l" t="t" r="r" b="b"/>
                <a:pathLst>
                  <a:path w="1626" h="3027">
                    <a:moveTo>
                      <a:pt x="849" y="1460"/>
                    </a:moveTo>
                    <a:cubicBezTo>
                      <a:pt x="844" y="1615"/>
                      <a:pt x="854" y="1781"/>
                      <a:pt x="812" y="1932"/>
                    </a:cubicBezTo>
                    <a:cubicBezTo>
                      <a:pt x="808" y="2130"/>
                      <a:pt x="841" y="2325"/>
                      <a:pt x="731" y="2494"/>
                    </a:cubicBezTo>
                    <a:cubicBezTo>
                      <a:pt x="729" y="2501"/>
                      <a:pt x="730" y="2511"/>
                      <a:pt x="724" y="2516"/>
                    </a:cubicBezTo>
                    <a:cubicBezTo>
                      <a:pt x="718" y="2522"/>
                      <a:pt x="708" y="2519"/>
                      <a:pt x="701" y="2523"/>
                    </a:cubicBezTo>
                    <a:cubicBezTo>
                      <a:pt x="676" y="2535"/>
                      <a:pt x="658" y="2559"/>
                      <a:pt x="635" y="2575"/>
                    </a:cubicBezTo>
                    <a:cubicBezTo>
                      <a:pt x="601" y="2625"/>
                      <a:pt x="641" y="2575"/>
                      <a:pt x="598" y="2604"/>
                    </a:cubicBezTo>
                    <a:cubicBezTo>
                      <a:pt x="589" y="2610"/>
                      <a:pt x="584" y="2619"/>
                      <a:pt x="576" y="2626"/>
                    </a:cubicBezTo>
                    <a:cubicBezTo>
                      <a:pt x="546" y="2651"/>
                      <a:pt x="502" y="2666"/>
                      <a:pt x="465" y="2678"/>
                    </a:cubicBezTo>
                    <a:cubicBezTo>
                      <a:pt x="401" y="2722"/>
                      <a:pt x="496" y="2661"/>
                      <a:pt x="406" y="2700"/>
                    </a:cubicBezTo>
                    <a:cubicBezTo>
                      <a:pt x="395" y="2705"/>
                      <a:pt x="387" y="2716"/>
                      <a:pt x="376" y="2722"/>
                    </a:cubicBezTo>
                    <a:cubicBezTo>
                      <a:pt x="338" y="2743"/>
                      <a:pt x="321" y="2739"/>
                      <a:pt x="273" y="2745"/>
                    </a:cubicBezTo>
                    <a:cubicBezTo>
                      <a:pt x="232" y="2758"/>
                      <a:pt x="190" y="2756"/>
                      <a:pt x="148" y="2767"/>
                    </a:cubicBezTo>
                    <a:cubicBezTo>
                      <a:pt x="131" y="2772"/>
                      <a:pt x="96" y="2782"/>
                      <a:pt x="96" y="2782"/>
                    </a:cubicBezTo>
                    <a:cubicBezTo>
                      <a:pt x="79" y="2793"/>
                      <a:pt x="58" y="2797"/>
                      <a:pt x="44" y="2811"/>
                    </a:cubicBezTo>
                    <a:cubicBezTo>
                      <a:pt x="27" y="2828"/>
                      <a:pt x="11" y="2862"/>
                      <a:pt x="0" y="2885"/>
                    </a:cubicBezTo>
                    <a:cubicBezTo>
                      <a:pt x="16" y="2983"/>
                      <a:pt x="92" y="2968"/>
                      <a:pt x="177" y="2988"/>
                    </a:cubicBezTo>
                    <a:cubicBezTo>
                      <a:pt x="340" y="3027"/>
                      <a:pt x="512" y="2993"/>
                      <a:pt x="679" y="2996"/>
                    </a:cubicBezTo>
                    <a:cubicBezTo>
                      <a:pt x="787" y="2993"/>
                      <a:pt x="896" y="2993"/>
                      <a:pt x="1004" y="2988"/>
                    </a:cubicBezTo>
                    <a:cubicBezTo>
                      <a:pt x="1029" y="2987"/>
                      <a:pt x="1071" y="2951"/>
                      <a:pt x="1071" y="2951"/>
                    </a:cubicBezTo>
                    <a:cubicBezTo>
                      <a:pt x="1087" y="2926"/>
                      <a:pt x="1106" y="2917"/>
                      <a:pt x="1122" y="2892"/>
                    </a:cubicBezTo>
                    <a:cubicBezTo>
                      <a:pt x="1133" y="2852"/>
                      <a:pt x="1148" y="2811"/>
                      <a:pt x="1167" y="2774"/>
                    </a:cubicBezTo>
                    <a:cubicBezTo>
                      <a:pt x="1194" y="2572"/>
                      <a:pt x="1191" y="2410"/>
                      <a:pt x="1285" y="2228"/>
                    </a:cubicBezTo>
                    <a:cubicBezTo>
                      <a:pt x="1322" y="2033"/>
                      <a:pt x="1253" y="1813"/>
                      <a:pt x="1314" y="1622"/>
                    </a:cubicBezTo>
                    <a:cubicBezTo>
                      <a:pt x="1320" y="1570"/>
                      <a:pt x="1328" y="1490"/>
                      <a:pt x="1359" y="1445"/>
                    </a:cubicBezTo>
                    <a:cubicBezTo>
                      <a:pt x="1371" y="1371"/>
                      <a:pt x="1400" y="1303"/>
                      <a:pt x="1418" y="1231"/>
                    </a:cubicBezTo>
                    <a:cubicBezTo>
                      <a:pt x="1422" y="1216"/>
                      <a:pt x="1426" y="1201"/>
                      <a:pt x="1432" y="1186"/>
                    </a:cubicBezTo>
                    <a:cubicBezTo>
                      <a:pt x="1442" y="1162"/>
                      <a:pt x="1462" y="1113"/>
                      <a:pt x="1462" y="1113"/>
                    </a:cubicBezTo>
                    <a:cubicBezTo>
                      <a:pt x="1470" y="1051"/>
                      <a:pt x="1482" y="1027"/>
                      <a:pt x="1506" y="965"/>
                    </a:cubicBezTo>
                    <a:cubicBezTo>
                      <a:pt x="1519" y="932"/>
                      <a:pt x="1523" y="889"/>
                      <a:pt x="1536" y="854"/>
                    </a:cubicBezTo>
                    <a:cubicBezTo>
                      <a:pt x="1538" y="753"/>
                      <a:pt x="1499" y="571"/>
                      <a:pt x="1573" y="463"/>
                    </a:cubicBezTo>
                    <a:cubicBezTo>
                      <a:pt x="1626" y="305"/>
                      <a:pt x="1619" y="341"/>
                      <a:pt x="1573" y="27"/>
                    </a:cubicBezTo>
                    <a:cubicBezTo>
                      <a:pt x="1570" y="4"/>
                      <a:pt x="1506" y="5"/>
                      <a:pt x="1506" y="5"/>
                    </a:cubicBezTo>
                    <a:cubicBezTo>
                      <a:pt x="1353" y="7"/>
                      <a:pt x="1200" y="0"/>
                      <a:pt x="1048" y="12"/>
                    </a:cubicBezTo>
                    <a:cubicBezTo>
                      <a:pt x="1037" y="13"/>
                      <a:pt x="1037" y="32"/>
                      <a:pt x="1034" y="42"/>
                    </a:cubicBezTo>
                    <a:cubicBezTo>
                      <a:pt x="1021" y="82"/>
                      <a:pt x="1012" y="167"/>
                      <a:pt x="1012" y="167"/>
                    </a:cubicBezTo>
                    <a:cubicBezTo>
                      <a:pt x="1006" y="460"/>
                      <a:pt x="1036" y="814"/>
                      <a:pt x="893" y="1090"/>
                    </a:cubicBezTo>
                    <a:cubicBezTo>
                      <a:pt x="861" y="1228"/>
                      <a:pt x="859" y="1277"/>
                      <a:pt x="849" y="14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1"/>
              <p:cNvSpPr/>
              <p:nvPr/>
            </p:nvSpPr>
            <p:spPr>
              <a:xfrm flipH="1">
                <a:off x="2071440" y="5754600"/>
                <a:ext cx="322560" cy="646200"/>
              </a:xfrm>
              <a:custGeom>
                <a:avLst/>
                <a:gdLst/>
                <a:ahLst/>
                <a:rect l="l" t="t" r="r" b="b"/>
                <a:pathLst>
                  <a:path w="1626" h="3027">
                    <a:moveTo>
                      <a:pt x="849" y="1460"/>
                    </a:moveTo>
                    <a:cubicBezTo>
                      <a:pt x="844" y="1615"/>
                      <a:pt x="854" y="1781"/>
                      <a:pt x="812" y="1932"/>
                    </a:cubicBezTo>
                    <a:cubicBezTo>
                      <a:pt x="808" y="2130"/>
                      <a:pt x="841" y="2325"/>
                      <a:pt x="731" y="2494"/>
                    </a:cubicBezTo>
                    <a:cubicBezTo>
                      <a:pt x="729" y="2501"/>
                      <a:pt x="730" y="2511"/>
                      <a:pt x="724" y="2516"/>
                    </a:cubicBezTo>
                    <a:cubicBezTo>
                      <a:pt x="718" y="2522"/>
                      <a:pt x="708" y="2519"/>
                      <a:pt x="701" y="2523"/>
                    </a:cubicBezTo>
                    <a:cubicBezTo>
                      <a:pt x="676" y="2535"/>
                      <a:pt x="658" y="2559"/>
                      <a:pt x="635" y="2575"/>
                    </a:cubicBezTo>
                    <a:cubicBezTo>
                      <a:pt x="601" y="2625"/>
                      <a:pt x="641" y="2575"/>
                      <a:pt x="598" y="2604"/>
                    </a:cubicBezTo>
                    <a:cubicBezTo>
                      <a:pt x="589" y="2610"/>
                      <a:pt x="584" y="2619"/>
                      <a:pt x="576" y="2626"/>
                    </a:cubicBezTo>
                    <a:cubicBezTo>
                      <a:pt x="546" y="2651"/>
                      <a:pt x="502" y="2666"/>
                      <a:pt x="465" y="2678"/>
                    </a:cubicBezTo>
                    <a:cubicBezTo>
                      <a:pt x="401" y="2722"/>
                      <a:pt x="496" y="2661"/>
                      <a:pt x="406" y="2700"/>
                    </a:cubicBezTo>
                    <a:cubicBezTo>
                      <a:pt x="395" y="2705"/>
                      <a:pt x="387" y="2716"/>
                      <a:pt x="376" y="2722"/>
                    </a:cubicBezTo>
                    <a:cubicBezTo>
                      <a:pt x="338" y="2743"/>
                      <a:pt x="321" y="2739"/>
                      <a:pt x="273" y="2745"/>
                    </a:cubicBezTo>
                    <a:cubicBezTo>
                      <a:pt x="232" y="2758"/>
                      <a:pt x="190" y="2756"/>
                      <a:pt x="148" y="2767"/>
                    </a:cubicBezTo>
                    <a:cubicBezTo>
                      <a:pt x="131" y="2772"/>
                      <a:pt x="96" y="2782"/>
                      <a:pt x="96" y="2782"/>
                    </a:cubicBezTo>
                    <a:cubicBezTo>
                      <a:pt x="79" y="2793"/>
                      <a:pt x="58" y="2797"/>
                      <a:pt x="44" y="2811"/>
                    </a:cubicBezTo>
                    <a:cubicBezTo>
                      <a:pt x="27" y="2828"/>
                      <a:pt x="11" y="2862"/>
                      <a:pt x="0" y="2885"/>
                    </a:cubicBezTo>
                    <a:cubicBezTo>
                      <a:pt x="16" y="2983"/>
                      <a:pt x="92" y="2968"/>
                      <a:pt x="177" y="2988"/>
                    </a:cubicBezTo>
                    <a:cubicBezTo>
                      <a:pt x="340" y="3027"/>
                      <a:pt x="512" y="2993"/>
                      <a:pt x="679" y="2996"/>
                    </a:cubicBezTo>
                    <a:cubicBezTo>
                      <a:pt x="787" y="2993"/>
                      <a:pt x="896" y="2993"/>
                      <a:pt x="1004" y="2988"/>
                    </a:cubicBezTo>
                    <a:cubicBezTo>
                      <a:pt x="1029" y="2987"/>
                      <a:pt x="1071" y="2951"/>
                      <a:pt x="1071" y="2951"/>
                    </a:cubicBezTo>
                    <a:cubicBezTo>
                      <a:pt x="1087" y="2926"/>
                      <a:pt x="1106" y="2917"/>
                      <a:pt x="1122" y="2892"/>
                    </a:cubicBezTo>
                    <a:cubicBezTo>
                      <a:pt x="1133" y="2852"/>
                      <a:pt x="1148" y="2811"/>
                      <a:pt x="1167" y="2774"/>
                    </a:cubicBezTo>
                    <a:cubicBezTo>
                      <a:pt x="1194" y="2572"/>
                      <a:pt x="1191" y="2410"/>
                      <a:pt x="1285" y="2228"/>
                    </a:cubicBezTo>
                    <a:cubicBezTo>
                      <a:pt x="1322" y="2033"/>
                      <a:pt x="1253" y="1813"/>
                      <a:pt x="1314" y="1622"/>
                    </a:cubicBezTo>
                    <a:cubicBezTo>
                      <a:pt x="1320" y="1570"/>
                      <a:pt x="1328" y="1490"/>
                      <a:pt x="1359" y="1445"/>
                    </a:cubicBezTo>
                    <a:cubicBezTo>
                      <a:pt x="1371" y="1371"/>
                      <a:pt x="1400" y="1303"/>
                      <a:pt x="1418" y="1231"/>
                    </a:cubicBezTo>
                    <a:cubicBezTo>
                      <a:pt x="1422" y="1216"/>
                      <a:pt x="1426" y="1201"/>
                      <a:pt x="1432" y="1186"/>
                    </a:cubicBezTo>
                    <a:cubicBezTo>
                      <a:pt x="1442" y="1162"/>
                      <a:pt x="1462" y="1113"/>
                      <a:pt x="1462" y="1113"/>
                    </a:cubicBezTo>
                    <a:cubicBezTo>
                      <a:pt x="1470" y="1051"/>
                      <a:pt x="1482" y="1027"/>
                      <a:pt x="1506" y="965"/>
                    </a:cubicBezTo>
                    <a:cubicBezTo>
                      <a:pt x="1519" y="932"/>
                      <a:pt x="1523" y="889"/>
                      <a:pt x="1536" y="854"/>
                    </a:cubicBezTo>
                    <a:cubicBezTo>
                      <a:pt x="1538" y="753"/>
                      <a:pt x="1499" y="571"/>
                      <a:pt x="1573" y="463"/>
                    </a:cubicBezTo>
                    <a:cubicBezTo>
                      <a:pt x="1626" y="305"/>
                      <a:pt x="1619" y="341"/>
                      <a:pt x="1573" y="27"/>
                    </a:cubicBezTo>
                    <a:cubicBezTo>
                      <a:pt x="1570" y="4"/>
                      <a:pt x="1506" y="5"/>
                      <a:pt x="1506" y="5"/>
                    </a:cubicBezTo>
                    <a:cubicBezTo>
                      <a:pt x="1353" y="7"/>
                      <a:pt x="1200" y="0"/>
                      <a:pt x="1048" y="12"/>
                    </a:cubicBezTo>
                    <a:cubicBezTo>
                      <a:pt x="1037" y="13"/>
                      <a:pt x="1037" y="32"/>
                      <a:pt x="1034" y="42"/>
                    </a:cubicBezTo>
                    <a:cubicBezTo>
                      <a:pt x="1021" y="82"/>
                      <a:pt x="1012" y="167"/>
                      <a:pt x="1012" y="167"/>
                    </a:cubicBezTo>
                    <a:cubicBezTo>
                      <a:pt x="1006" y="460"/>
                      <a:pt x="1036" y="814"/>
                      <a:pt x="893" y="1090"/>
                    </a:cubicBezTo>
                    <a:cubicBezTo>
                      <a:pt x="861" y="1228"/>
                      <a:pt x="859" y="1277"/>
                      <a:pt x="849" y="14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13"/>
            <p:cNvSpPr/>
            <p:nvPr/>
          </p:nvSpPr>
          <p:spPr>
            <a:xfrm>
              <a:off x="1785960" y="5024520"/>
              <a:ext cx="480960" cy="819000"/>
            </a:xfrm>
            <a:custGeom>
              <a:avLst/>
              <a:gdLst/>
              <a:ahLst/>
              <a:rect l="l" t="t" r="r" b="b"/>
              <a:pathLst>
                <a:path w="675" h="1154">
                  <a:moveTo>
                    <a:pt x="315" y="1111"/>
                  </a:moveTo>
                  <a:cubicBezTo>
                    <a:pt x="336" y="1044"/>
                    <a:pt x="302" y="955"/>
                    <a:pt x="367" y="912"/>
                  </a:cubicBezTo>
                  <a:cubicBezTo>
                    <a:pt x="369" y="900"/>
                    <a:pt x="365" y="884"/>
                    <a:pt x="374" y="875"/>
                  </a:cubicBezTo>
                  <a:cubicBezTo>
                    <a:pt x="379" y="869"/>
                    <a:pt x="379" y="890"/>
                    <a:pt x="381" y="897"/>
                  </a:cubicBezTo>
                  <a:cubicBezTo>
                    <a:pt x="401" y="955"/>
                    <a:pt x="377" y="883"/>
                    <a:pt x="396" y="941"/>
                  </a:cubicBezTo>
                  <a:cubicBezTo>
                    <a:pt x="400" y="986"/>
                    <a:pt x="386" y="1099"/>
                    <a:pt x="440" y="1119"/>
                  </a:cubicBezTo>
                  <a:cubicBezTo>
                    <a:pt x="484" y="1116"/>
                    <a:pt x="561" y="1154"/>
                    <a:pt x="573" y="1111"/>
                  </a:cubicBezTo>
                  <a:cubicBezTo>
                    <a:pt x="621" y="945"/>
                    <a:pt x="556" y="763"/>
                    <a:pt x="588" y="594"/>
                  </a:cubicBezTo>
                  <a:cubicBezTo>
                    <a:pt x="595" y="477"/>
                    <a:pt x="611" y="353"/>
                    <a:pt x="647" y="240"/>
                  </a:cubicBezTo>
                  <a:cubicBezTo>
                    <a:pt x="644" y="173"/>
                    <a:pt x="675" y="86"/>
                    <a:pt x="603" y="63"/>
                  </a:cubicBezTo>
                  <a:cubicBezTo>
                    <a:pt x="510" y="0"/>
                    <a:pt x="442" y="44"/>
                    <a:pt x="300" y="48"/>
                  </a:cubicBezTo>
                  <a:cubicBezTo>
                    <a:pt x="278" y="50"/>
                    <a:pt x="225" y="47"/>
                    <a:pt x="197" y="63"/>
                  </a:cubicBezTo>
                  <a:cubicBezTo>
                    <a:pt x="181" y="72"/>
                    <a:pt x="152" y="92"/>
                    <a:pt x="152" y="92"/>
                  </a:cubicBezTo>
                  <a:cubicBezTo>
                    <a:pt x="132" y="123"/>
                    <a:pt x="121" y="152"/>
                    <a:pt x="101" y="181"/>
                  </a:cubicBezTo>
                  <a:cubicBezTo>
                    <a:pt x="104" y="285"/>
                    <a:pt x="74" y="418"/>
                    <a:pt x="138" y="513"/>
                  </a:cubicBezTo>
                  <a:cubicBezTo>
                    <a:pt x="143" y="528"/>
                    <a:pt x="147" y="542"/>
                    <a:pt x="152" y="557"/>
                  </a:cubicBezTo>
                  <a:cubicBezTo>
                    <a:pt x="155" y="565"/>
                    <a:pt x="160" y="580"/>
                    <a:pt x="160" y="580"/>
                  </a:cubicBezTo>
                  <a:cubicBezTo>
                    <a:pt x="167" y="1114"/>
                    <a:pt x="0" y="1131"/>
                    <a:pt x="315" y="11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 rot="241200">
              <a:off x="1744560" y="5108400"/>
              <a:ext cx="190440" cy="646200"/>
            </a:xfrm>
            <a:custGeom>
              <a:avLst/>
              <a:gdLst/>
              <a:ahLst/>
              <a:rect l="l" t="t" r="r" b="b"/>
              <a:pathLst>
                <a:path w="827" h="2824">
                  <a:moveTo>
                    <a:pt x="481" y="60"/>
                  </a:moveTo>
                  <a:cubicBezTo>
                    <a:pt x="433" y="93"/>
                    <a:pt x="418" y="148"/>
                    <a:pt x="370" y="179"/>
                  </a:cubicBezTo>
                  <a:cubicBezTo>
                    <a:pt x="365" y="186"/>
                    <a:pt x="362" y="195"/>
                    <a:pt x="356" y="201"/>
                  </a:cubicBezTo>
                  <a:cubicBezTo>
                    <a:pt x="347" y="210"/>
                    <a:pt x="333" y="213"/>
                    <a:pt x="326" y="223"/>
                  </a:cubicBezTo>
                  <a:cubicBezTo>
                    <a:pt x="320" y="231"/>
                    <a:pt x="323" y="243"/>
                    <a:pt x="319" y="252"/>
                  </a:cubicBezTo>
                  <a:cubicBezTo>
                    <a:pt x="308" y="277"/>
                    <a:pt x="290" y="298"/>
                    <a:pt x="274" y="319"/>
                  </a:cubicBezTo>
                  <a:cubicBezTo>
                    <a:pt x="261" y="353"/>
                    <a:pt x="243" y="381"/>
                    <a:pt x="230" y="415"/>
                  </a:cubicBezTo>
                  <a:cubicBezTo>
                    <a:pt x="204" y="485"/>
                    <a:pt x="195" y="562"/>
                    <a:pt x="164" y="629"/>
                  </a:cubicBezTo>
                  <a:cubicBezTo>
                    <a:pt x="139" y="743"/>
                    <a:pt x="97" y="854"/>
                    <a:pt x="75" y="969"/>
                  </a:cubicBezTo>
                  <a:cubicBezTo>
                    <a:pt x="51" y="1300"/>
                    <a:pt x="67" y="1052"/>
                    <a:pt x="60" y="1781"/>
                  </a:cubicBezTo>
                  <a:cubicBezTo>
                    <a:pt x="57" y="2091"/>
                    <a:pt x="198" y="2455"/>
                    <a:pt x="23" y="2711"/>
                  </a:cubicBezTo>
                  <a:cubicBezTo>
                    <a:pt x="32" y="2814"/>
                    <a:pt x="0" y="2824"/>
                    <a:pt x="105" y="2800"/>
                  </a:cubicBezTo>
                  <a:cubicBezTo>
                    <a:pt x="114" y="2798"/>
                    <a:pt x="120" y="2790"/>
                    <a:pt x="127" y="2785"/>
                  </a:cubicBezTo>
                  <a:cubicBezTo>
                    <a:pt x="157" y="2740"/>
                    <a:pt x="168" y="2704"/>
                    <a:pt x="186" y="2652"/>
                  </a:cubicBezTo>
                  <a:cubicBezTo>
                    <a:pt x="192" y="2635"/>
                    <a:pt x="205" y="2623"/>
                    <a:pt x="215" y="2608"/>
                  </a:cubicBezTo>
                  <a:cubicBezTo>
                    <a:pt x="230" y="2585"/>
                    <a:pt x="236" y="2559"/>
                    <a:pt x="245" y="2534"/>
                  </a:cubicBezTo>
                  <a:cubicBezTo>
                    <a:pt x="256" y="2124"/>
                    <a:pt x="238" y="2245"/>
                    <a:pt x="267" y="2364"/>
                  </a:cubicBezTo>
                  <a:cubicBezTo>
                    <a:pt x="265" y="2460"/>
                    <a:pt x="266" y="2556"/>
                    <a:pt x="260" y="2652"/>
                  </a:cubicBezTo>
                  <a:cubicBezTo>
                    <a:pt x="259" y="2668"/>
                    <a:pt x="245" y="2697"/>
                    <a:pt x="245" y="2697"/>
                  </a:cubicBezTo>
                  <a:cubicBezTo>
                    <a:pt x="257" y="2735"/>
                    <a:pt x="274" y="2726"/>
                    <a:pt x="311" y="2719"/>
                  </a:cubicBezTo>
                  <a:cubicBezTo>
                    <a:pt x="324" y="2693"/>
                    <a:pt x="339" y="2672"/>
                    <a:pt x="348" y="2645"/>
                  </a:cubicBezTo>
                  <a:cubicBezTo>
                    <a:pt x="373" y="2463"/>
                    <a:pt x="341" y="2711"/>
                    <a:pt x="363" y="2276"/>
                  </a:cubicBezTo>
                  <a:cubicBezTo>
                    <a:pt x="363" y="2266"/>
                    <a:pt x="368" y="2295"/>
                    <a:pt x="370" y="2305"/>
                  </a:cubicBezTo>
                  <a:cubicBezTo>
                    <a:pt x="373" y="2317"/>
                    <a:pt x="375" y="2330"/>
                    <a:pt x="378" y="2342"/>
                  </a:cubicBezTo>
                  <a:cubicBezTo>
                    <a:pt x="390" y="2387"/>
                    <a:pt x="403" y="2430"/>
                    <a:pt x="415" y="2475"/>
                  </a:cubicBezTo>
                  <a:cubicBezTo>
                    <a:pt x="421" y="2532"/>
                    <a:pt x="419" y="2596"/>
                    <a:pt x="452" y="2645"/>
                  </a:cubicBezTo>
                  <a:cubicBezTo>
                    <a:pt x="454" y="2660"/>
                    <a:pt x="449" y="2678"/>
                    <a:pt x="459" y="2689"/>
                  </a:cubicBezTo>
                  <a:cubicBezTo>
                    <a:pt x="465" y="2695"/>
                    <a:pt x="476" y="2682"/>
                    <a:pt x="481" y="2675"/>
                  </a:cubicBezTo>
                  <a:cubicBezTo>
                    <a:pt x="492" y="2662"/>
                    <a:pt x="494" y="2644"/>
                    <a:pt x="503" y="2630"/>
                  </a:cubicBezTo>
                  <a:cubicBezTo>
                    <a:pt x="523" y="2559"/>
                    <a:pt x="524" y="2456"/>
                    <a:pt x="489" y="2387"/>
                  </a:cubicBezTo>
                  <a:cubicBezTo>
                    <a:pt x="477" y="2362"/>
                    <a:pt x="468" y="2347"/>
                    <a:pt x="459" y="2320"/>
                  </a:cubicBezTo>
                  <a:cubicBezTo>
                    <a:pt x="456" y="2311"/>
                    <a:pt x="455" y="2301"/>
                    <a:pt x="452" y="2291"/>
                  </a:cubicBezTo>
                  <a:cubicBezTo>
                    <a:pt x="450" y="2283"/>
                    <a:pt x="436" y="2268"/>
                    <a:pt x="444" y="2268"/>
                  </a:cubicBezTo>
                  <a:cubicBezTo>
                    <a:pt x="455" y="2268"/>
                    <a:pt x="489" y="2327"/>
                    <a:pt x="489" y="2327"/>
                  </a:cubicBezTo>
                  <a:cubicBezTo>
                    <a:pt x="494" y="2337"/>
                    <a:pt x="499" y="2347"/>
                    <a:pt x="503" y="2357"/>
                  </a:cubicBezTo>
                  <a:cubicBezTo>
                    <a:pt x="507" y="2367"/>
                    <a:pt x="506" y="2378"/>
                    <a:pt x="511" y="2387"/>
                  </a:cubicBezTo>
                  <a:cubicBezTo>
                    <a:pt x="526" y="2416"/>
                    <a:pt x="550" y="2449"/>
                    <a:pt x="570" y="2475"/>
                  </a:cubicBezTo>
                  <a:cubicBezTo>
                    <a:pt x="579" y="2502"/>
                    <a:pt x="614" y="2549"/>
                    <a:pt x="614" y="2549"/>
                  </a:cubicBezTo>
                  <a:cubicBezTo>
                    <a:pt x="650" y="2476"/>
                    <a:pt x="620" y="2413"/>
                    <a:pt x="585" y="2350"/>
                  </a:cubicBezTo>
                  <a:cubicBezTo>
                    <a:pt x="580" y="2340"/>
                    <a:pt x="576" y="2330"/>
                    <a:pt x="570" y="2320"/>
                  </a:cubicBezTo>
                  <a:cubicBezTo>
                    <a:pt x="561" y="2305"/>
                    <a:pt x="540" y="2276"/>
                    <a:pt x="540" y="2276"/>
                  </a:cubicBezTo>
                  <a:cubicBezTo>
                    <a:pt x="530" y="2245"/>
                    <a:pt x="537" y="2260"/>
                    <a:pt x="518" y="2231"/>
                  </a:cubicBezTo>
                  <a:cubicBezTo>
                    <a:pt x="513" y="2223"/>
                    <a:pt x="527" y="2247"/>
                    <a:pt x="533" y="2254"/>
                  </a:cubicBezTo>
                  <a:cubicBezTo>
                    <a:pt x="551" y="2276"/>
                    <a:pt x="569" y="2297"/>
                    <a:pt x="592" y="2313"/>
                  </a:cubicBezTo>
                  <a:cubicBezTo>
                    <a:pt x="643" y="2238"/>
                    <a:pt x="572" y="2189"/>
                    <a:pt x="533" y="2135"/>
                  </a:cubicBezTo>
                  <a:cubicBezTo>
                    <a:pt x="515" y="2086"/>
                    <a:pt x="482" y="2044"/>
                    <a:pt x="466" y="1995"/>
                  </a:cubicBezTo>
                  <a:cubicBezTo>
                    <a:pt x="437" y="1907"/>
                    <a:pt x="421" y="1817"/>
                    <a:pt x="393" y="1729"/>
                  </a:cubicBezTo>
                  <a:cubicBezTo>
                    <a:pt x="360" y="1520"/>
                    <a:pt x="381" y="1669"/>
                    <a:pt x="393" y="1190"/>
                  </a:cubicBezTo>
                  <a:cubicBezTo>
                    <a:pt x="395" y="1102"/>
                    <a:pt x="413" y="1001"/>
                    <a:pt x="459" y="924"/>
                  </a:cubicBezTo>
                  <a:cubicBezTo>
                    <a:pt x="490" y="760"/>
                    <a:pt x="615" y="638"/>
                    <a:pt x="703" y="503"/>
                  </a:cubicBezTo>
                  <a:cubicBezTo>
                    <a:pt x="742" y="340"/>
                    <a:pt x="827" y="101"/>
                    <a:pt x="681" y="1"/>
                  </a:cubicBezTo>
                  <a:cubicBezTo>
                    <a:pt x="634" y="6"/>
                    <a:pt x="592" y="0"/>
                    <a:pt x="555" y="31"/>
                  </a:cubicBezTo>
                  <a:cubicBezTo>
                    <a:pt x="547" y="38"/>
                    <a:pt x="542" y="47"/>
                    <a:pt x="533" y="53"/>
                  </a:cubicBezTo>
                  <a:cubicBezTo>
                    <a:pt x="519" y="62"/>
                    <a:pt x="493" y="72"/>
                    <a:pt x="481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 flipH="1" rot="241800">
              <a:off x="2153880" y="5105520"/>
              <a:ext cx="171360" cy="645480"/>
            </a:xfrm>
            <a:custGeom>
              <a:avLst/>
              <a:gdLst/>
              <a:ahLst/>
              <a:rect l="l" t="t" r="r" b="b"/>
              <a:pathLst>
                <a:path w="827" h="2824">
                  <a:moveTo>
                    <a:pt x="481" y="60"/>
                  </a:moveTo>
                  <a:cubicBezTo>
                    <a:pt x="433" y="93"/>
                    <a:pt x="418" y="148"/>
                    <a:pt x="370" y="179"/>
                  </a:cubicBezTo>
                  <a:cubicBezTo>
                    <a:pt x="365" y="186"/>
                    <a:pt x="362" y="195"/>
                    <a:pt x="356" y="201"/>
                  </a:cubicBezTo>
                  <a:cubicBezTo>
                    <a:pt x="347" y="210"/>
                    <a:pt x="333" y="213"/>
                    <a:pt x="326" y="223"/>
                  </a:cubicBezTo>
                  <a:cubicBezTo>
                    <a:pt x="320" y="231"/>
                    <a:pt x="323" y="243"/>
                    <a:pt x="319" y="252"/>
                  </a:cubicBezTo>
                  <a:cubicBezTo>
                    <a:pt x="308" y="277"/>
                    <a:pt x="290" y="298"/>
                    <a:pt x="274" y="319"/>
                  </a:cubicBezTo>
                  <a:cubicBezTo>
                    <a:pt x="261" y="353"/>
                    <a:pt x="243" y="381"/>
                    <a:pt x="230" y="415"/>
                  </a:cubicBezTo>
                  <a:cubicBezTo>
                    <a:pt x="204" y="485"/>
                    <a:pt x="195" y="562"/>
                    <a:pt x="164" y="629"/>
                  </a:cubicBezTo>
                  <a:cubicBezTo>
                    <a:pt x="139" y="743"/>
                    <a:pt x="97" y="854"/>
                    <a:pt x="75" y="969"/>
                  </a:cubicBezTo>
                  <a:cubicBezTo>
                    <a:pt x="51" y="1300"/>
                    <a:pt x="67" y="1052"/>
                    <a:pt x="60" y="1781"/>
                  </a:cubicBezTo>
                  <a:cubicBezTo>
                    <a:pt x="57" y="2091"/>
                    <a:pt x="198" y="2455"/>
                    <a:pt x="23" y="2711"/>
                  </a:cubicBezTo>
                  <a:cubicBezTo>
                    <a:pt x="32" y="2814"/>
                    <a:pt x="0" y="2824"/>
                    <a:pt x="105" y="2800"/>
                  </a:cubicBezTo>
                  <a:cubicBezTo>
                    <a:pt x="114" y="2798"/>
                    <a:pt x="120" y="2790"/>
                    <a:pt x="127" y="2785"/>
                  </a:cubicBezTo>
                  <a:cubicBezTo>
                    <a:pt x="157" y="2740"/>
                    <a:pt x="168" y="2704"/>
                    <a:pt x="186" y="2652"/>
                  </a:cubicBezTo>
                  <a:cubicBezTo>
                    <a:pt x="192" y="2635"/>
                    <a:pt x="205" y="2623"/>
                    <a:pt x="215" y="2608"/>
                  </a:cubicBezTo>
                  <a:cubicBezTo>
                    <a:pt x="230" y="2585"/>
                    <a:pt x="236" y="2559"/>
                    <a:pt x="245" y="2534"/>
                  </a:cubicBezTo>
                  <a:cubicBezTo>
                    <a:pt x="256" y="2124"/>
                    <a:pt x="238" y="2245"/>
                    <a:pt x="267" y="2364"/>
                  </a:cubicBezTo>
                  <a:cubicBezTo>
                    <a:pt x="265" y="2460"/>
                    <a:pt x="266" y="2556"/>
                    <a:pt x="260" y="2652"/>
                  </a:cubicBezTo>
                  <a:cubicBezTo>
                    <a:pt x="259" y="2668"/>
                    <a:pt x="245" y="2697"/>
                    <a:pt x="245" y="2697"/>
                  </a:cubicBezTo>
                  <a:cubicBezTo>
                    <a:pt x="257" y="2735"/>
                    <a:pt x="274" y="2726"/>
                    <a:pt x="311" y="2719"/>
                  </a:cubicBezTo>
                  <a:cubicBezTo>
                    <a:pt x="324" y="2693"/>
                    <a:pt x="339" y="2672"/>
                    <a:pt x="348" y="2645"/>
                  </a:cubicBezTo>
                  <a:cubicBezTo>
                    <a:pt x="373" y="2463"/>
                    <a:pt x="341" y="2711"/>
                    <a:pt x="363" y="2276"/>
                  </a:cubicBezTo>
                  <a:cubicBezTo>
                    <a:pt x="363" y="2266"/>
                    <a:pt x="368" y="2295"/>
                    <a:pt x="370" y="2305"/>
                  </a:cubicBezTo>
                  <a:cubicBezTo>
                    <a:pt x="373" y="2317"/>
                    <a:pt x="375" y="2330"/>
                    <a:pt x="378" y="2342"/>
                  </a:cubicBezTo>
                  <a:cubicBezTo>
                    <a:pt x="390" y="2387"/>
                    <a:pt x="403" y="2430"/>
                    <a:pt x="415" y="2475"/>
                  </a:cubicBezTo>
                  <a:cubicBezTo>
                    <a:pt x="421" y="2532"/>
                    <a:pt x="419" y="2596"/>
                    <a:pt x="452" y="2645"/>
                  </a:cubicBezTo>
                  <a:cubicBezTo>
                    <a:pt x="454" y="2660"/>
                    <a:pt x="449" y="2678"/>
                    <a:pt x="459" y="2689"/>
                  </a:cubicBezTo>
                  <a:cubicBezTo>
                    <a:pt x="465" y="2695"/>
                    <a:pt x="476" y="2682"/>
                    <a:pt x="481" y="2675"/>
                  </a:cubicBezTo>
                  <a:cubicBezTo>
                    <a:pt x="492" y="2662"/>
                    <a:pt x="494" y="2644"/>
                    <a:pt x="503" y="2630"/>
                  </a:cubicBezTo>
                  <a:cubicBezTo>
                    <a:pt x="523" y="2559"/>
                    <a:pt x="524" y="2456"/>
                    <a:pt x="489" y="2387"/>
                  </a:cubicBezTo>
                  <a:cubicBezTo>
                    <a:pt x="477" y="2362"/>
                    <a:pt x="468" y="2347"/>
                    <a:pt x="459" y="2320"/>
                  </a:cubicBezTo>
                  <a:cubicBezTo>
                    <a:pt x="456" y="2311"/>
                    <a:pt x="455" y="2301"/>
                    <a:pt x="452" y="2291"/>
                  </a:cubicBezTo>
                  <a:cubicBezTo>
                    <a:pt x="450" y="2283"/>
                    <a:pt x="436" y="2268"/>
                    <a:pt x="444" y="2268"/>
                  </a:cubicBezTo>
                  <a:cubicBezTo>
                    <a:pt x="455" y="2268"/>
                    <a:pt x="489" y="2327"/>
                    <a:pt x="489" y="2327"/>
                  </a:cubicBezTo>
                  <a:cubicBezTo>
                    <a:pt x="494" y="2337"/>
                    <a:pt x="499" y="2347"/>
                    <a:pt x="503" y="2357"/>
                  </a:cubicBezTo>
                  <a:cubicBezTo>
                    <a:pt x="507" y="2367"/>
                    <a:pt x="506" y="2378"/>
                    <a:pt x="511" y="2387"/>
                  </a:cubicBezTo>
                  <a:cubicBezTo>
                    <a:pt x="526" y="2416"/>
                    <a:pt x="550" y="2449"/>
                    <a:pt x="570" y="2475"/>
                  </a:cubicBezTo>
                  <a:cubicBezTo>
                    <a:pt x="579" y="2502"/>
                    <a:pt x="614" y="2549"/>
                    <a:pt x="614" y="2549"/>
                  </a:cubicBezTo>
                  <a:cubicBezTo>
                    <a:pt x="650" y="2476"/>
                    <a:pt x="620" y="2413"/>
                    <a:pt x="585" y="2350"/>
                  </a:cubicBezTo>
                  <a:cubicBezTo>
                    <a:pt x="580" y="2340"/>
                    <a:pt x="576" y="2330"/>
                    <a:pt x="570" y="2320"/>
                  </a:cubicBezTo>
                  <a:cubicBezTo>
                    <a:pt x="561" y="2305"/>
                    <a:pt x="540" y="2276"/>
                    <a:pt x="540" y="2276"/>
                  </a:cubicBezTo>
                  <a:cubicBezTo>
                    <a:pt x="530" y="2245"/>
                    <a:pt x="537" y="2260"/>
                    <a:pt x="518" y="2231"/>
                  </a:cubicBezTo>
                  <a:cubicBezTo>
                    <a:pt x="513" y="2223"/>
                    <a:pt x="527" y="2247"/>
                    <a:pt x="533" y="2254"/>
                  </a:cubicBezTo>
                  <a:cubicBezTo>
                    <a:pt x="551" y="2276"/>
                    <a:pt x="569" y="2297"/>
                    <a:pt x="592" y="2313"/>
                  </a:cubicBezTo>
                  <a:cubicBezTo>
                    <a:pt x="643" y="2238"/>
                    <a:pt x="572" y="2189"/>
                    <a:pt x="533" y="2135"/>
                  </a:cubicBezTo>
                  <a:cubicBezTo>
                    <a:pt x="515" y="2086"/>
                    <a:pt x="482" y="2044"/>
                    <a:pt x="466" y="1995"/>
                  </a:cubicBezTo>
                  <a:cubicBezTo>
                    <a:pt x="437" y="1907"/>
                    <a:pt x="421" y="1817"/>
                    <a:pt x="393" y="1729"/>
                  </a:cubicBezTo>
                  <a:cubicBezTo>
                    <a:pt x="360" y="1520"/>
                    <a:pt x="381" y="1669"/>
                    <a:pt x="393" y="1190"/>
                  </a:cubicBezTo>
                  <a:cubicBezTo>
                    <a:pt x="395" y="1102"/>
                    <a:pt x="413" y="1001"/>
                    <a:pt x="459" y="924"/>
                  </a:cubicBezTo>
                  <a:cubicBezTo>
                    <a:pt x="490" y="760"/>
                    <a:pt x="615" y="638"/>
                    <a:pt x="703" y="503"/>
                  </a:cubicBezTo>
                  <a:cubicBezTo>
                    <a:pt x="742" y="340"/>
                    <a:pt x="827" y="101"/>
                    <a:pt x="681" y="1"/>
                  </a:cubicBezTo>
                  <a:cubicBezTo>
                    <a:pt x="634" y="6"/>
                    <a:pt x="592" y="0"/>
                    <a:pt x="555" y="31"/>
                  </a:cubicBezTo>
                  <a:cubicBezTo>
                    <a:pt x="547" y="38"/>
                    <a:pt x="542" y="47"/>
                    <a:pt x="533" y="53"/>
                  </a:cubicBezTo>
                  <a:cubicBezTo>
                    <a:pt x="519" y="62"/>
                    <a:pt x="493" y="72"/>
                    <a:pt x="481" y="6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1919160" y="4734000"/>
              <a:ext cx="277920" cy="382680"/>
            </a:xfrm>
            <a:custGeom>
              <a:avLst/>
              <a:gdLst/>
              <a:ahLst/>
              <a:rect l="l" t="t" r="r" b="b"/>
              <a:pathLst>
                <a:path w="936" h="1152">
                  <a:moveTo>
                    <a:pt x="336" y="1112"/>
                  </a:moveTo>
                  <a:cubicBezTo>
                    <a:pt x="288" y="1072"/>
                    <a:pt x="408" y="920"/>
                    <a:pt x="384" y="872"/>
                  </a:cubicBezTo>
                  <a:cubicBezTo>
                    <a:pt x="360" y="824"/>
                    <a:pt x="256" y="880"/>
                    <a:pt x="192" y="824"/>
                  </a:cubicBezTo>
                  <a:cubicBezTo>
                    <a:pt x="128" y="768"/>
                    <a:pt x="0" y="656"/>
                    <a:pt x="0" y="536"/>
                  </a:cubicBezTo>
                  <a:cubicBezTo>
                    <a:pt x="0" y="416"/>
                    <a:pt x="88" y="184"/>
                    <a:pt x="192" y="104"/>
                  </a:cubicBezTo>
                  <a:cubicBezTo>
                    <a:pt x="296" y="24"/>
                    <a:pt x="504" y="0"/>
                    <a:pt x="624" y="56"/>
                  </a:cubicBezTo>
                  <a:cubicBezTo>
                    <a:pt x="744" y="112"/>
                    <a:pt x="888" y="312"/>
                    <a:pt x="912" y="440"/>
                  </a:cubicBezTo>
                  <a:cubicBezTo>
                    <a:pt x="936" y="568"/>
                    <a:pt x="824" y="752"/>
                    <a:pt x="768" y="824"/>
                  </a:cubicBezTo>
                  <a:cubicBezTo>
                    <a:pt x="712" y="896"/>
                    <a:pt x="592" y="824"/>
                    <a:pt x="576" y="872"/>
                  </a:cubicBezTo>
                  <a:cubicBezTo>
                    <a:pt x="560" y="920"/>
                    <a:pt x="712" y="1072"/>
                    <a:pt x="672" y="1112"/>
                  </a:cubicBezTo>
                  <a:cubicBezTo>
                    <a:pt x="632" y="1152"/>
                    <a:pt x="384" y="1152"/>
                    <a:pt x="336" y="11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1928880" y="5003640"/>
              <a:ext cx="260280" cy="147960"/>
            </a:xfrm>
            <a:custGeom>
              <a:avLst/>
              <a:gdLst/>
              <a:ahLst/>
              <a:rect l="l" t="t" r="r" b="b"/>
              <a:pathLst>
                <a:path w="406" h="313">
                  <a:moveTo>
                    <a:pt x="101" y="0"/>
                  </a:moveTo>
                  <a:cubicBezTo>
                    <a:pt x="96" y="81"/>
                    <a:pt x="97" y="174"/>
                    <a:pt x="35" y="236"/>
                  </a:cubicBezTo>
                  <a:cubicBezTo>
                    <a:pt x="148" y="313"/>
                    <a:pt x="80" y="273"/>
                    <a:pt x="396" y="244"/>
                  </a:cubicBezTo>
                  <a:cubicBezTo>
                    <a:pt x="406" y="243"/>
                    <a:pt x="380" y="230"/>
                    <a:pt x="374" y="222"/>
                  </a:cubicBezTo>
                  <a:cubicBezTo>
                    <a:pt x="368" y="213"/>
                    <a:pt x="364" y="202"/>
                    <a:pt x="359" y="192"/>
                  </a:cubicBezTo>
                  <a:cubicBezTo>
                    <a:pt x="344" y="166"/>
                    <a:pt x="333" y="143"/>
                    <a:pt x="315" y="118"/>
                  </a:cubicBezTo>
                  <a:cubicBezTo>
                    <a:pt x="304" y="82"/>
                    <a:pt x="334" y="22"/>
                    <a:pt x="300" y="7"/>
                  </a:cubicBezTo>
                  <a:cubicBezTo>
                    <a:pt x="283" y="0"/>
                    <a:pt x="0" y="0"/>
                    <a:pt x="101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2"/>
            <p:cNvSpPr/>
            <p:nvPr/>
          </p:nvSpPr>
          <p:spPr>
            <a:xfrm>
              <a:off x="1933560" y="5618160"/>
              <a:ext cx="212760" cy="214200"/>
            </a:xfrm>
            <a:custGeom>
              <a:avLst/>
              <a:gdLst/>
              <a:ahLst/>
              <a:rect l="l" t="t" r="r" b="b"/>
              <a:pathLst>
                <a:path w="396" h="459">
                  <a:moveTo>
                    <a:pt x="128" y="445"/>
                  </a:moveTo>
                  <a:cubicBezTo>
                    <a:pt x="140" y="380"/>
                    <a:pt x="183" y="304"/>
                    <a:pt x="239" y="267"/>
                  </a:cubicBezTo>
                  <a:cubicBezTo>
                    <a:pt x="273" y="319"/>
                    <a:pt x="258" y="297"/>
                    <a:pt x="283" y="334"/>
                  </a:cubicBezTo>
                  <a:cubicBezTo>
                    <a:pt x="288" y="341"/>
                    <a:pt x="293" y="349"/>
                    <a:pt x="298" y="356"/>
                  </a:cubicBezTo>
                  <a:cubicBezTo>
                    <a:pt x="303" y="363"/>
                    <a:pt x="312" y="378"/>
                    <a:pt x="312" y="378"/>
                  </a:cubicBezTo>
                  <a:cubicBezTo>
                    <a:pt x="315" y="389"/>
                    <a:pt x="334" y="444"/>
                    <a:pt x="342" y="452"/>
                  </a:cubicBezTo>
                  <a:cubicBezTo>
                    <a:pt x="347" y="457"/>
                    <a:pt x="357" y="457"/>
                    <a:pt x="364" y="459"/>
                  </a:cubicBezTo>
                  <a:cubicBezTo>
                    <a:pt x="382" y="411"/>
                    <a:pt x="377" y="360"/>
                    <a:pt x="394" y="312"/>
                  </a:cubicBezTo>
                  <a:cubicBezTo>
                    <a:pt x="391" y="243"/>
                    <a:pt x="396" y="173"/>
                    <a:pt x="386" y="105"/>
                  </a:cubicBezTo>
                  <a:cubicBezTo>
                    <a:pt x="374" y="24"/>
                    <a:pt x="253" y="17"/>
                    <a:pt x="194" y="1"/>
                  </a:cubicBezTo>
                  <a:cubicBezTo>
                    <a:pt x="140" y="4"/>
                    <a:pt x="85" y="0"/>
                    <a:pt x="32" y="9"/>
                  </a:cubicBezTo>
                  <a:cubicBezTo>
                    <a:pt x="24" y="10"/>
                    <a:pt x="27" y="24"/>
                    <a:pt x="24" y="31"/>
                  </a:cubicBezTo>
                  <a:cubicBezTo>
                    <a:pt x="16" y="56"/>
                    <a:pt x="11" y="81"/>
                    <a:pt x="2" y="105"/>
                  </a:cubicBezTo>
                  <a:cubicBezTo>
                    <a:pt x="5" y="181"/>
                    <a:pt x="0" y="258"/>
                    <a:pt x="10" y="334"/>
                  </a:cubicBezTo>
                  <a:cubicBezTo>
                    <a:pt x="16" y="382"/>
                    <a:pt x="80" y="401"/>
                    <a:pt x="113" y="422"/>
                  </a:cubicBezTo>
                  <a:cubicBezTo>
                    <a:pt x="118" y="430"/>
                    <a:pt x="128" y="445"/>
                    <a:pt x="128" y="4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8"/>
            <p:cNvSpPr/>
            <p:nvPr/>
          </p:nvSpPr>
          <p:spPr>
            <a:xfrm>
              <a:off x="1906560" y="4724280"/>
              <a:ext cx="293760" cy="308160"/>
            </a:xfrm>
            <a:custGeom>
              <a:avLst/>
              <a:gdLst/>
              <a:ahLst/>
              <a:rect l="l" t="t" r="r" b="b"/>
              <a:pathLst>
                <a:path w="627" h="638">
                  <a:moveTo>
                    <a:pt x="67" y="387"/>
                  </a:moveTo>
                  <a:cubicBezTo>
                    <a:pt x="27" y="374"/>
                    <a:pt x="0" y="363"/>
                    <a:pt x="31" y="306"/>
                  </a:cubicBezTo>
                  <a:cubicBezTo>
                    <a:pt x="36" y="297"/>
                    <a:pt x="50" y="301"/>
                    <a:pt x="60" y="298"/>
                  </a:cubicBezTo>
                  <a:cubicBezTo>
                    <a:pt x="21" y="259"/>
                    <a:pt x="48" y="279"/>
                    <a:pt x="75" y="239"/>
                  </a:cubicBezTo>
                  <a:cubicBezTo>
                    <a:pt x="72" y="232"/>
                    <a:pt x="66" y="225"/>
                    <a:pt x="67" y="217"/>
                  </a:cubicBezTo>
                  <a:cubicBezTo>
                    <a:pt x="68" y="208"/>
                    <a:pt x="78" y="203"/>
                    <a:pt x="82" y="195"/>
                  </a:cubicBezTo>
                  <a:cubicBezTo>
                    <a:pt x="86" y="188"/>
                    <a:pt x="84" y="179"/>
                    <a:pt x="90" y="173"/>
                  </a:cubicBezTo>
                  <a:cubicBezTo>
                    <a:pt x="96" y="167"/>
                    <a:pt x="105" y="168"/>
                    <a:pt x="112" y="165"/>
                  </a:cubicBezTo>
                  <a:cubicBezTo>
                    <a:pt x="114" y="145"/>
                    <a:pt x="106" y="121"/>
                    <a:pt x="119" y="106"/>
                  </a:cubicBezTo>
                  <a:cubicBezTo>
                    <a:pt x="127" y="96"/>
                    <a:pt x="146" y="121"/>
                    <a:pt x="156" y="114"/>
                  </a:cubicBezTo>
                  <a:cubicBezTo>
                    <a:pt x="169" y="105"/>
                    <a:pt x="171" y="69"/>
                    <a:pt x="171" y="69"/>
                  </a:cubicBezTo>
                  <a:cubicBezTo>
                    <a:pt x="181" y="72"/>
                    <a:pt x="190" y="80"/>
                    <a:pt x="200" y="77"/>
                  </a:cubicBezTo>
                  <a:cubicBezTo>
                    <a:pt x="254" y="62"/>
                    <a:pt x="197" y="53"/>
                    <a:pt x="237" y="32"/>
                  </a:cubicBezTo>
                  <a:cubicBezTo>
                    <a:pt x="251" y="25"/>
                    <a:pt x="267" y="27"/>
                    <a:pt x="282" y="25"/>
                  </a:cubicBezTo>
                  <a:cubicBezTo>
                    <a:pt x="318" y="0"/>
                    <a:pt x="319" y="14"/>
                    <a:pt x="341" y="47"/>
                  </a:cubicBezTo>
                  <a:cubicBezTo>
                    <a:pt x="383" y="34"/>
                    <a:pt x="386" y="32"/>
                    <a:pt x="437" y="40"/>
                  </a:cubicBezTo>
                  <a:cubicBezTo>
                    <a:pt x="441" y="41"/>
                    <a:pt x="477" y="53"/>
                    <a:pt x="481" y="55"/>
                  </a:cubicBezTo>
                  <a:cubicBezTo>
                    <a:pt x="509" y="74"/>
                    <a:pt x="508" y="96"/>
                    <a:pt x="540" y="106"/>
                  </a:cubicBezTo>
                  <a:cubicBezTo>
                    <a:pt x="552" y="143"/>
                    <a:pt x="576" y="141"/>
                    <a:pt x="562" y="180"/>
                  </a:cubicBezTo>
                  <a:cubicBezTo>
                    <a:pt x="565" y="187"/>
                    <a:pt x="573" y="195"/>
                    <a:pt x="570" y="202"/>
                  </a:cubicBezTo>
                  <a:cubicBezTo>
                    <a:pt x="557" y="234"/>
                    <a:pt x="521" y="200"/>
                    <a:pt x="570" y="232"/>
                  </a:cubicBezTo>
                  <a:cubicBezTo>
                    <a:pt x="530" y="258"/>
                    <a:pt x="556" y="251"/>
                    <a:pt x="570" y="291"/>
                  </a:cubicBezTo>
                  <a:cubicBezTo>
                    <a:pt x="553" y="337"/>
                    <a:pt x="583" y="344"/>
                    <a:pt x="607" y="380"/>
                  </a:cubicBezTo>
                  <a:cubicBezTo>
                    <a:pt x="627" y="464"/>
                    <a:pt x="581" y="433"/>
                    <a:pt x="481" y="439"/>
                  </a:cubicBezTo>
                  <a:cubicBezTo>
                    <a:pt x="250" y="434"/>
                    <a:pt x="205" y="457"/>
                    <a:pt x="53" y="409"/>
                  </a:cubicBezTo>
                  <a:cubicBezTo>
                    <a:pt x="25" y="390"/>
                    <a:pt x="37" y="400"/>
                    <a:pt x="16" y="380"/>
                  </a:cubicBezTo>
                  <a:lnTo>
                    <a:pt x="241" y="638"/>
                  </a:lnTo>
                  <a:lnTo>
                    <a:pt x="67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204"/>
            <p:cNvGrpSpPr/>
            <p:nvPr/>
          </p:nvGrpSpPr>
          <p:grpSpPr>
            <a:xfrm>
              <a:off x="1559160" y="4759560"/>
              <a:ext cx="340920" cy="1524240"/>
              <a:chOff x="1559160" y="4759560"/>
              <a:chExt cx="340920" cy="1524240"/>
            </a:xfrm>
          </p:grpSpPr>
          <p:sp>
            <p:nvSpPr>
              <p:cNvPr id="423" name="Freeform 202"/>
              <p:cNvSpPr/>
              <p:nvPr/>
            </p:nvSpPr>
            <p:spPr>
              <a:xfrm rot="21240000">
                <a:off x="1726920" y="4967640"/>
                <a:ext cx="104400" cy="1314000"/>
              </a:xfrm>
              <a:custGeom>
                <a:avLst/>
                <a:gdLst/>
                <a:ahLst/>
                <a:rect l="l" t="t" r="r" b="b"/>
                <a:pathLst>
                  <a:path w="263" h="2238">
                    <a:moveTo>
                      <a:pt x="0" y="7"/>
                    </a:moveTo>
                    <a:cubicBezTo>
                      <a:pt x="5" y="110"/>
                      <a:pt x="12" y="204"/>
                      <a:pt x="38" y="303"/>
                    </a:cubicBezTo>
                    <a:cubicBezTo>
                      <a:pt x="48" y="504"/>
                      <a:pt x="29" y="710"/>
                      <a:pt x="60" y="909"/>
                    </a:cubicBezTo>
                    <a:cubicBezTo>
                      <a:pt x="71" y="1082"/>
                      <a:pt x="71" y="1256"/>
                      <a:pt x="113" y="1425"/>
                    </a:cubicBezTo>
                    <a:cubicBezTo>
                      <a:pt x="126" y="1703"/>
                      <a:pt x="132" y="1927"/>
                      <a:pt x="136" y="2228"/>
                    </a:cubicBezTo>
                    <a:cubicBezTo>
                      <a:pt x="169" y="2225"/>
                      <a:pt x="207" y="2238"/>
                      <a:pt x="235" y="2220"/>
                    </a:cubicBezTo>
                    <a:cubicBezTo>
                      <a:pt x="250" y="2210"/>
                      <a:pt x="227" y="2185"/>
                      <a:pt x="227" y="2167"/>
                    </a:cubicBezTo>
                    <a:cubicBezTo>
                      <a:pt x="211" y="1251"/>
                      <a:pt x="263" y="1600"/>
                      <a:pt x="212" y="1273"/>
                    </a:cubicBezTo>
                    <a:cubicBezTo>
                      <a:pt x="197" y="1074"/>
                      <a:pt x="206" y="872"/>
                      <a:pt x="174" y="674"/>
                    </a:cubicBezTo>
                    <a:cubicBezTo>
                      <a:pt x="161" y="591"/>
                      <a:pt x="119" y="515"/>
                      <a:pt x="106" y="432"/>
                    </a:cubicBezTo>
                    <a:cubicBezTo>
                      <a:pt x="100" y="328"/>
                      <a:pt x="89" y="231"/>
                      <a:pt x="75" y="129"/>
                    </a:cubicBezTo>
                    <a:cubicBezTo>
                      <a:pt x="70" y="91"/>
                      <a:pt x="86" y="44"/>
                      <a:pt x="60" y="15"/>
                    </a:cubicBezTo>
                    <a:cubicBezTo>
                      <a:pt x="47" y="0"/>
                      <a:pt x="20" y="10"/>
                      <a:pt x="0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03"/>
              <p:cNvSpPr/>
              <p:nvPr/>
            </p:nvSpPr>
            <p:spPr>
              <a:xfrm rot="21240000">
                <a:off x="1572120" y="4766760"/>
                <a:ext cx="159480" cy="262800"/>
              </a:xfrm>
              <a:custGeom>
                <a:avLst/>
                <a:gdLst/>
                <a:ahLst/>
                <a:rect l="l" t="t" r="r" b="b"/>
                <a:pathLst>
                  <a:path w="815" h="1337">
                    <a:moveTo>
                      <a:pt x="222" y="31"/>
                    </a:moveTo>
                    <a:cubicBezTo>
                      <a:pt x="194" y="71"/>
                      <a:pt x="194" y="110"/>
                      <a:pt x="176" y="153"/>
                    </a:cubicBezTo>
                    <a:cubicBezTo>
                      <a:pt x="170" y="167"/>
                      <a:pt x="159" y="178"/>
                      <a:pt x="153" y="191"/>
                    </a:cubicBezTo>
                    <a:cubicBezTo>
                      <a:pt x="126" y="249"/>
                      <a:pt x="106" y="312"/>
                      <a:pt x="85" y="373"/>
                    </a:cubicBezTo>
                    <a:cubicBezTo>
                      <a:pt x="78" y="426"/>
                      <a:pt x="60" y="464"/>
                      <a:pt x="47" y="517"/>
                    </a:cubicBezTo>
                    <a:cubicBezTo>
                      <a:pt x="35" y="565"/>
                      <a:pt x="39" y="614"/>
                      <a:pt x="25" y="661"/>
                    </a:cubicBezTo>
                    <a:cubicBezTo>
                      <a:pt x="3" y="805"/>
                      <a:pt x="0" y="967"/>
                      <a:pt x="40" y="1108"/>
                    </a:cubicBezTo>
                    <a:cubicBezTo>
                      <a:pt x="53" y="1156"/>
                      <a:pt x="61" y="1193"/>
                      <a:pt x="85" y="1237"/>
                    </a:cubicBezTo>
                    <a:cubicBezTo>
                      <a:pt x="98" y="1261"/>
                      <a:pt x="115" y="1312"/>
                      <a:pt x="115" y="1312"/>
                    </a:cubicBezTo>
                    <a:cubicBezTo>
                      <a:pt x="117" y="1257"/>
                      <a:pt x="84" y="988"/>
                      <a:pt x="206" y="949"/>
                    </a:cubicBezTo>
                    <a:cubicBezTo>
                      <a:pt x="244" y="953"/>
                      <a:pt x="287" y="952"/>
                      <a:pt x="313" y="986"/>
                    </a:cubicBezTo>
                    <a:cubicBezTo>
                      <a:pt x="324" y="1001"/>
                      <a:pt x="333" y="1017"/>
                      <a:pt x="343" y="1032"/>
                    </a:cubicBezTo>
                    <a:cubicBezTo>
                      <a:pt x="348" y="1040"/>
                      <a:pt x="358" y="1055"/>
                      <a:pt x="358" y="1055"/>
                    </a:cubicBezTo>
                    <a:cubicBezTo>
                      <a:pt x="372" y="1132"/>
                      <a:pt x="379" y="1202"/>
                      <a:pt x="358" y="1282"/>
                    </a:cubicBezTo>
                    <a:cubicBezTo>
                      <a:pt x="361" y="1297"/>
                      <a:pt x="351" y="1325"/>
                      <a:pt x="366" y="1327"/>
                    </a:cubicBezTo>
                    <a:cubicBezTo>
                      <a:pt x="439" y="1337"/>
                      <a:pt x="585" y="1312"/>
                      <a:pt x="585" y="1312"/>
                    </a:cubicBezTo>
                    <a:cubicBezTo>
                      <a:pt x="575" y="1281"/>
                      <a:pt x="563" y="1249"/>
                      <a:pt x="547" y="1221"/>
                    </a:cubicBezTo>
                    <a:cubicBezTo>
                      <a:pt x="538" y="1205"/>
                      <a:pt x="517" y="1176"/>
                      <a:pt x="517" y="1176"/>
                    </a:cubicBezTo>
                    <a:cubicBezTo>
                      <a:pt x="520" y="1125"/>
                      <a:pt x="521" y="1075"/>
                      <a:pt x="525" y="1024"/>
                    </a:cubicBezTo>
                    <a:cubicBezTo>
                      <a:pt x="526" y="1014"/>
                      <a:pt x="525" y="1002"/>
                      <a:pt x="532" y="994"/>
                    </a:cubicBezTo>
                    <a:cubicBezTo>
                      <a:pt x="544" y="980"/>
                      <a:pt x="578" y="964"/>
                      <a:pt x="578" y="964"/>
                    </a:cubicBezTo>
                    <a:cubicBezTo>
                      <a:pt x="596" y="966"/>
                      <a:pt x="614" y="966"/>
                      <a:pt x="631" y="971"/>
                    </a:cubicBezTo>
                    <a:cubicBezTo>
                      <a:pt x="656" y="978"/>
                      <a:pt x="665" y="1001"/>
                      <a:pt x="691" y="1009"/>
                    </a:cubicBezTo>
                    <a:cubicBezTo>
                      <a:pt x="722" y="1038"/>
                      <a:pt x="746" y="1076"/>
                      <a:pt x="760" y="1115"/>
                    </a:cubicBezTo>
                    <a:cubicBezTo>
                      <a:pt x="757" y="1168"/>
                      <a:pt x="752" y="1221"/>
                      <a:pt x="752" y="1274"/>
                    </a:cubicBezTo>
                    <a:cubicBezTo>
                      <a:pt x="752" y="1287"/>
                      <a:pt x="760" y="1250"/>
                      <a:pt x="760" y="1237"/>
                    </a:cubicBezTo>
                    <a:cubicBezTo>
                      <a:pt x="760" y="1055"/>
                      <a:pt x="815" y="839"/>
                      <a:pt x="699" y="683"/>
                    </a:cubicBezTo>
                    <a:cubicBezTo>
                      <a:pt x="683" y="640"/>
                      <a:pt x="662" y="609"/>
                      <a:pt x="638" y="570"/>
                    </a:cubicBezTo>
                    <a:cubicBezTo>
                      <a:pt x="626" y="515"/>
                      <a:pt x="587" y="450"/>
                      <a:pt x="547" y="410"/>
                    </a:cubicBezTo>
                    <a:cubicBezTo>
                      <a:pt x="525" y="355"/>
                      <a:pt x="498" y="294"/>
                      <a:pt x="457" y="251"/>
                    </a:cubicBezTo>
                    <a:cubicBezTo>
                      <a:pt x="441" y="192"/>
                      <a:pt x="392" y="149"/>
                      <a:pt x="350" y="107"/>
                    </a:cubicBezTo>
                    <a:cubicBezTo>
                      <a:pt x="327" y="84"/>
                      <a:pt x="330" y="72"/>
                      <a:pt x="297" y="62"/>
                    </a:cubicBezTo>
                    <a:cubicBezTo>
                      <a:pt x="256" y="0"/>
                      <a:pt x="309" y="71"/>
                      <a:pt x="259" y="31"/>
                    </a:cubicBezTo>
                    <a:cubicBezTo>
                      <a:pt x="252" y="26"/>
                      <a:pt x="253" y="9"/>
                      <a:pt x="244" y="9"/>
                    </a:cubicBezTo>
                    <a:cubicBezTo>
                      <a:pt x="234" y="9"/>
                      <a:pt x="229" y="24"/>
                      <a:pt x="222" y="3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Freeform 207"/>
            <p:cNvSpPr/>
            <p:nvPr/>
          </p:nvSpPr>
          <p:spPr>
            <a:xfrm rot="17721600">
              <a:off x="1725480" y="5640480"/>
              <a:ext cx="147600" cy="119160"/>
            </a:xfrm>
            <a:custGeom>
              <a:avLst/>
              <a:gdLst/>
              <a:ahLst/>
              <a:rect l="l" t="t" r="r" b="b"/>
              <a:pathLst>
                <a:path w="513" h="414">
                  <a:moveTo>
                    <a:pt x="471" y="51"/>
                  </a:moveTo>
                  <a:cubicBezTo>
                    <a:pt x="480" y="125"/>
                    <a:pt x="513" y="299"/>
                    <a:pt x="433" y="323"/>
                  </a:cubicBezTo>
                  <a:cubicBezTo>
                    <a:pt x="387" y="385"/>
                    <a:pt x="317" y="403"/>
                    <a:pt x="243" y="414"/>
                  </a:cubicBezTo>
                  <a:cubicBezTo>
                    <a:pt x="198" y="412"/>
                    <a:pt x="152" y="413"/>
                    <a:pt x="107" y="407"/>
                  </a:cubicBezTo>
                  <a:cubicBezTo>
                    <a:pt x="104" y="407"/>
                    <a:pt x="64" y="378"/>
                    <a:pt x="62" y="376"/>
                  </a:cubicBezTo>
                  <a:cubicBezTo>
                    <a:pt x="49" y="364"/>
                    <a:pt x="24" y="339"/>
                    <a:pt x="24" y="339"/>
                  </a:cubicBezTo>
                  <a:cubicBezTo>
                    <a:pt x="8" y="292"/>
                    <a:pt x="0" y="242"/>
                    <a:pt x="24" y="195"/>
                  </a:cubicBezTo>
                  <a:cubicBezTo>
                    <a:pt x="36" y="171"/>
                    <a:pt x="84" y="142"/>
                    <a:pt x="84" y="142"/>
                  </a:cubicBezTo>
                  <a:cubicBezTo>
                    <a:pt x="176" y="0"/>
                    <a:pt x="309" y="45"/>
                    <a:pt x="471" y="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377"/>
          <p:cNvGrpSpPr/>
          <p:nvPr/>
        </p:nvGrpSpPr>
        <p:grpSpPr>
          <a:xfrm>
            <a:off x="25560" y="63360"/>
            <a:ext cx="951840" cy="317160"/>
            <a:chOff x="25560" y="63360"/>
            <a:chExt cx="951840" cy="317160"/>
          </a:xfrm>
        </p:grpSpPr>
        <p:grpSp>
          <p:nvGrpSpPr>
            <p:cNvPr id="427" name="Group 378"/>
            <p:cNvGrpSpPr/>
            <p:nvPr/>
          </p:nvGrpSpPr>
          <p:grpSpPr>
            <a:xfrm>
              <a:off x="25560" y="63360"/>
              <a:ext cx="597960" cy="317160"/>
              <a:chOff x="25560" y="63360"/>
              <a:chExt cx="597960" cy="317160"/>
            </a:xfrm>
          </p:grpSpPr>
          <p:sp>
            <p:nvSpPr>
              <p:cNvPr id="428" name="Freeform 379"/>
              <p:cNvSpPr/>
              <p:nvPr/>
            </p:nvSpPr>
            <p:spPr>
              <a:xfrm>
                <a:off x="25560" y="63360"/>
                <a:ext cx="240120" cy="205920"/>
              </a:xfrm>
              <a:custGeom>
                <a:avLst/>
                <a:gdLst/>
                <a:ahLst/>
                <a:rect l="l" t="t" r="r" b="b"/>
                <a:pathLst>
                  <a:path w="1232" h="1056">
                    <a:moveTo>
                      <a:pt x="0" y="0"/>
                    </a:moveTo>
                    <a:cubicBezTo>
                      <a:pt x="260" y="84"/>
                      <a:pt x="520" y="168"/>
                      <a:pt x="720" y="192"/>
                    </a:cubicBezTo>
                    <a:cubicBezTo>
                      <a:pt x="920" y="216"/>
                      <a:pt x="1168" y="160"/>
                      <a:pt x="1200" y="144"/>
                    </a:cubicBezTo>
                    <a:cubicBezTo>
                      <a:pt x="1232" y="128"/>
                      <a:pt x="1008" y="88"/>
                      <a:pt x="912" y="96"/>
                    </a:cubicBezTo>
                    <a:cubicBezTo>
                      <a:pt x="816" y="104"/>
                      <a:pt x="696" y="88"/>
                      <a:pt x="624" y="192"/>
                    </a:cubicBezTo>
                    <a:cubicBezTo>
                      <a:pt x="552" y="296"/>
                      <a:pt x="536" y="576"/>
                      <a:pt x="480" y="720"/>
                    </a:cubicBezTo>
                    <a:cubicBezTo>
                      <a:pt x="424" y="864"/>
                      <a:pt x="356" y="960"/>
                      <a:pt x="288" y="1056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80"/>
              <p:cNvSpPr/>
              <p:nvPr/>
            </p:nvSpPr>
            <p:spPr>
              <a:xfrm>
                <a:off x="119160" y="203760"/>
                <a:ext cx="39960" cy="72000"/>
              </a:xfrm>
              <a:custGeom>
                <a:avLst/>
                <a:gdLst/>
                <a:ahLst/>
                <a:rect l="l" t="t" r="r" b="b"/>
                <a:pathLst>
                  <a:path w="206" h="369">
                    <a:moveTo>
                      <a:pt x="200" y="0"/>
                    </a:moveTo>
                    <a:cubicBezTo>
                      <a:pt x="181" y="105"/>
                      <a:pt x="206" y="1"/>
                      <a:pt x="178" y="66"/>
                    </a:cubicBezTo>
                    <a:cubicBezTo>
                      <a:pt x="166" y="94"/>
                      <a:pt x="163" y="125"/>
                      <a:pt x="155" y="155"/>
                    </a:cubicBezTo>
                    <a:cubicBezTo>
                      <a:pt x="145" y="195"/>
                      <a:pt x="122" y="243"/>
                      <a:pt x="104" y="280"/>
                    </a:cubicBezTo>
                    <a:cubicBezTo>
                      <a:pt x="97" y="295"/>
                      <a:pt x="57" y="344"/>
                      <a:pt x="45" y="354"/>
                    </a:cubicBezTo>
                    <a:cubicBezTo>
                      <a:pt x="33" y="364"/>
                      <a:pt x="0" y="369"/>
                      <a:pt x="0" y="36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81"/>
              <p:cNvSpPr/>
              <p:nvPr/>
            </p:nvSpPr>
            <p:spPr>
              <a:xfrm>
                <a:off x="159840" y="1792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0" y="52"/>
                    </a:moveTo>
                    <a:cubicBezTo>
                      <a:pt x="3" y="45"/>
                      <a:pt x="0" y="32"/>
                      <a:pt x="8" y="30"/>
                    </a:cubicBezTo>
                    <a:cubicBezTo>
                      <a:pt x="45" y="21"/>
                      <a:pt x="20" y="78"/>
                      <a:pt x="37" y="23"/>
                    </a:cubicBezTo>
                    <a:cubicBezTo>
                      <a:pt x="32" y="15"/>
                      <a:pt x="32" y="0"/>
                      <a:pt x="23" y="0"/>
                    </a:cubicBezTo>
                    <a:cubicBezTo>
                      <a:pt x="15" y="0"/>
                      <a:pt x="25" y="17"/>
                      <a:pt x="30" y="23"/>
                    </a:cubicBezTo>
                    <a:cubicBezTo>
                      <a:pt x="42" y="38"/>
                      <a:pt x="82" y="44"/>
                      <a:pt x="23" y="30"/>
                    </a:cubicBezTo>
                    <a:cubicBezTo>
                      <a:pt x="23" y="30"/>
                      <a:pt x="8" y="45"/>
                      <a:pt x="0" y="52"/>
                    </a:cubicBez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82"/>
              <p:cNvSpPr/>
              <p:nvPr/>
            </p:nvSpPr>
            <p:spPr>
              <a:xfrm>
                <a:off x="156600" y="186480"/>
                <a:ext cx="80280" cy="87840"/>
              </a:xfrm>
              <a:custGeom>
                <a:avLst/>
                <a:gdLst/>
                <a:ahLst/>
                <a:rect l="l" t="t" r="r" b="b"/>
                <a:pathLst>
                  <a:path w="413" h="451">
                    <a:moveTo>
                      <a:pt x="154" y="67"/>
                    </a:moveTo>
                    <a:cubicBezTo>
                      <a:pt x="127" y="122"/>
                      <a:pt x="103" y="180"/>
                      <a:pt x="81" y="237"/>
                    </a:cubicBezTo>
                    <a:cubicBezTo>
                      <a:pt x="64" y="282"/>
                      <a:pt x="56" y="322"/>
                      <a:pt x="29" y="362"/>
                    </a:cubicBezTo>
                    <a:cubicBezTo>
                      <a:pt x="27" y="374"/>
                      <a:pt x="26" y="387"/>
                      <a:pt x="22" y="399"/>
                    </a:cubicBezTo>
                    <a:cubicBezTo>
                      <a:pt x="19" y="407"/>
                      <a:pt x="10" y="429"/>
                      <a:pt x="7" y="421"/>
                    </a:cubicBezTo>
                    <a:cubicBezTo>
                      <a:pt x="0" y="402"/>
                      <a:pt x="33" y="326"/>
                      <a:pt x="36" y="318"/>
                    </a:cubicBezTo>
                    <a:cubicBezTo>
                      <a:pt x="50" y="281"/>
                      <a:pt x="64" y="251"/>
                      <a:pt x="81" y="215"/>
                    </a:cubicBezTo>
                    <a:cubicBezTo>
                      <a:pt x="114" y="146"/>
                      <a:pt x="126" y="96"/>
                      <a:pt x="191" y="52"/>
                    </a:cubicBezTo>
                    <a:cubicBezTo>
                      <a:pt x="226" y="103"/>
                      <a:pt x="211" y="71"/>
                      <a:pt x="199" y="185"/>
                    </a:cubicBezTo>
                    <a:cubicBezTo>
                      <a:pt x="198" y="198"/>
                      <a:pt x="194" y="210"/>
                      <a:pt x="191" y="222"/>
                    </a:cubicBezTo>
                    <a:cubicBezTo>
                      <a:pt x="189" y="232"/>
                      <a:pt x="180" y="260"/>
                      <a:pt x="184" y="251"/>
                    </a:cubicBezTo>
                    <a:cubicBezTo>
                      <a:pt x="217" y="172"/>
                      <a:pt x="258" y="105"/>
                      <a:pt x="310" y="37"/>
                    </a:cubicBezTo>
                    <a:cubicBezTo>
                      <a:pt x="321" y="3"/>
                      <a:pt x="329" y="12"/>
                      <a:pt x="361" y="0"/>
                    </a:cubicBezTo>
                    <a:cubicBezTo>
                      <a:pt x="412" y="14"/>
                      <a:pt x="404" y="35"/>
                      <a:pt x="413" y="82"/>
                    </a:cubicBezTo>
                    <a:cubicBezTo>
                      <a:pt x="405" y="154"/>
                      <a:pt x="392" y="324"/>
                      <a:pt x="346" y="392"/>
                    </a:cubicBezTo>
                    <a:cubicBezTo>
                      <a:pt x="342" y="410"/>
                      <a:pt x="332" y="432"/>
                      <a:pt x="332" y="45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383"/>
              <p:cNvSpPr/>
              <p:nvPr/>
            </p:nvSpPr>
            <p:spPr>
              <a:xfrm>
                <a:off x="247320" y="173160"/>
                <a:ext cx="114120" cy="93960"/>
              </a:xfrm>
              <a:custGeom>
                <a:avLst/>
                <a:gdLst/>
                <a:ahLst/>
                <a:rect l="l" t="t" r="r" b="b"/>
                <a:pathLst>
                  <a:path w="586" h="482">
                    <a:moveTo>
                      <a:pt x="143" y="104"/>
                    </a:moveTo>
                    <a:cubicBezTo>
                      <a:pt x="190" y="123"/>
                      <a:pt x="198" y="143"/>
                      <a:pt x="224" y="186"/>
                    </a:cubicBezTo>
                    <a:cubicBezTo>
                      <a:pt x="237" y="266"/>
                      <a:pt x="248" y="371"/>
                      <a:pt x="173" y="422"/>
                    </a:cubicBezTo>
                    <a:cubicBezTo>
                      <a:pt x="132" y="482"/>
                      <a:pt x="119" y="464"/>
                      <a:pt x="40" y="451"/>
                    </a:cubicBezTo>
                    <a:cubicBezTo>
                      <a:pt x="0" y="373"/>
                      <a:pt x="8" y="232"/>
                      <a:pt x="77" y="163"/>
                    </a:cubicBezTo>
                    <a:cubicBezTo>
                      <a:pt x="102" y="138"/>
                      <a:pt x="133" y="129"/>
                      <a:pt x="165" y="119"/>
                    </a:cubicBezTo>
                    <a:cubicBezTo>
                      <a:pt x="230" y="127"/>
                      <a:pt x="242" y="143"/>
                      <a:pt x="306" y="134"/>
                    </a:cubicBezTo>
                    <a:cubicBezTo>
                      <a:pt x="359" y="81"/>
                      <a:pt x="338" y="107"/>
                      <a:pt x="372" y="60"/>
                    </a:cubicBezTo>
                    <a:cubicBezTo>
                      <a:pt x="375" y="50"/>
                      <a:pt x="377" y="40"/>
                      <a:pt x="380" y="30"/>
                    </a:cubicBezTo>
                    <a:cubicBezTo>
                      <a:pt x="382" y="23"/>
                      <a:pt x="386" y="0"/>
                      <a:pt x="387" y="8"/>
                    </a:cubicBezTo>
                    <a:cubicBezTo>
                      <a:pt x="392" y="67"/>
                      <a:pt x="391" y="127"/>
                      <a:pt x="394" y="186"/>
                    </a:cubicBezTo>
                    <a:cubicBezTo>
                      <a:pt x="400" y="328"/>
                      <a:pt x="378" y="371"/>
                      <a:pt x="490" y="429"/>
                    </a:cubicBezTo>
                    <a:cubicBezTo>
                      <a:pt x="561" y="422"/>
                      <a:pt x="562" y="436"/>
                      <a:pt x="586" y="38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84"/>
              <p:cNvSpPr/>
              <p:nvPr/>
            </p:nvSpPr>
            <p:spPr>
              <a:xfrm>
                <a:off x="320760" y="153360"/>
                <a:ext cx="19080" cy="47880"/>
              </a:xfrm>
              <a:custGeom>
                <a:avLst/>
                <a:gdLst/>
                <a:ahLst/>
                <a:rect l="l" t="t" r="r" b="b"/>
                <a:pathLst>
                  <a:path w="99" h="246">
                    <a:moveTo>
                      <a:pt x="3" y="0"/>
                    </a:moveTo>
                    <a:cubicBezTo>
                      <a:pt x="11" y="78"/>
                      <a:pt x="0" y="159"/>
                      <a:pt x="18" y="236"/>
                    </a:cubicBezTo>
                    <a:cubicBezTo>
                      <a:pt x="20" y="246"/>
                      <a:pt x="37" y="229"/>
                      <a:pt x="47" y="228"/>
                    </a:cubicBezTo>
                    <a:cubicBezTo>
                      <a:pt x="64" y="226"/>
                      <a:pt x="82" y="228"/>
                      <a:pt x="99" y="228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85"/>
              <p:cNvSpPr/>
              <p:nvPr/>
            </p:nvSpPr>
            <p:spPr>
              <a:xfrm>
                <a:off x="112320" y="104040"/>
                <a:ext cx="511200" cy="276480"/>
              </a:xfrm>
              <a:custGeom>
                <a:avLst/>
                <a:gdLst/>
                <a:ahLst/>
                <a:rect l="l" t="t" r="r" b="b"/>
                <a:pathLst>
                  <a:path w="2622" h="1418">
                    <a:moveTo>
                      <a:pt x="1116" y="0"/>
                    </a:moveTo>
                    <a:cubicBezTo>
                      <a:pt x="1128" y="39"/>
                      <a:pt x="1138" y="100"/>
                      <a:pt x="1153" y="133"/>
                    </a:cubicBezTo>
                    <a:cubicBezTo>
                      <a:pt x="1162" y="152"/>
                      <a:pt x="1179" y="167"/>
                      <a:pt x="1190" y="185"/>
                    </a:cubicBezTo>
                    <a:cubicBezTo>
                      <a:pt x="1232" y="255"/>
                      <a:pt x="1256" y="343"/>
                      <a:pt x="1278" y="421"/>
                    </a:cubicBezTo>
                    <a:cubicBezTo>
                      <a:pt x="1290" y="511"/>
                      <a:pt x="1310" y="594"/>
                      <a:pt x="1337" y="680"/>
                    </a:cubicBezTo>
                    <a:cubicBezTo>
                      <a:pt x="1325" y="897"/>
                      <a:pt x="1340" y="806"/>
                      <a:pt x="1315" y="739"/>
                    </a:cubicBezTo>
                    <a:cubicBezTo>
                      <a:pt x="1321" y="639"/>
                      <a:pt x="1307" y="581"/>
                      <a:pt x="1389" y="525"/>
                    </a:cubicBezTo>
                    <a:cubicBezTo>
                      <a:pt x="1404" y="530"/>
                      <a:pt x="1421" y="530"/>
                      <a:pt x="1433" y="540"/>
                    </a:cubicBezTo>
                    <a:cubicBezTo>
                      <a:pt x="1447" y="551"/>
                      <a:pt x="1441" y="575"/>
                      <a:pt x="1448" y="591"/>
                    </a:cubicBezTo>
                    <a:cubicBezTo>
                      <a:pt x="1458" y="615"/>
                      <a:pt x="1472" y="636"/>
                      <a:pt x="1485" y="658"/>
                    </a:cubicBezTo>
                    <a:cubicBezTo>
                      <a:pt x="1489" y="674"/>
                      <a:pt x="1522" y="773"/>
                      <a:pt x="1529" y="783"/>
                    </a:cubicBezTo>
                    <a:cubicBezTo>
                      <a:pt x="1534" y="790"/>
                      <a:pt x="1537" y="799"/>
                      <a:pt x="1544" y="805"/>
                    </a:cubicBezTo>
                    <a:cubicBezTo>
                      <a:pt x="1557" y="817"/>
                      <a:pt x="1588" y="835"/>
                      <a:pt x="1588" y="835"/>
                    </a:cubicBezTo>
                    <a:cubicBezTo>
                      <a:pt x="1655" y="781"/>
                      <a:pt x="1671" y="717"/>
                      <a:pt x="1684" y="636"/>
                    </a:cubicBezTo>
                    <a:cubicBezTo>
                      <a:pt x="1710" y="687"/>
                      <a:pt x="1715" y="741"/>
                      <a:pt x="1766" y="776"/>
                    </a:cubicBezTo>
                    <a:cubicBezTo>
                      <a:pt x="1787" y="810"/>
                      <a:pt x="1796" y="808"/>
                      <a:pt x="1832" y="791"/>
                    </a:cubicBezTo>
                    <a:cubicBezTo>
                      <a:pt x="1848" y="766"/>
                      <a:pt x="1852" y="742"/>
                      <a:pt x="1869" y="717"/>
                    </a:cubicBezTo>
                    <a:cubicBezTo>
                      <a:pt x="1880" y="682"/>
                      <a:pt x="1869" y="635"/>
                      <a:pt x="1899" y="695"/>
                    </a:cubicBezTo>
                    <a:cubicBezTo>
                      <a:pt x="1908" y="755"/>
                      <a:pt x="1915" y="813"/>
                      <a:pt x="1928" y="872"/>
                    </a:cubicBezTo>
                    <a:cubicBezTo>
                      <a:pt x="1950" y="1079"/>
                      <a:pt x="1984" y="1366"/>
                      <a:pt x="1736" y="1418"/>
                    </a:cubicBezTo>
                    <a:cubicBezTo>
                      <a:pt x="1594" y="1403"/>
                      <a:pt x="1502" y="1413"/>
                      <a:pt x="1404" y="1315"/>
                    </a:cubicBezTo>
                    <a:cubicBezTo>
                      <a:pt x="1409" y="1288"/>
                      <a:pt x="1407" y="1259"/>
                      <a:pt x="1419" y="1234"/>
                    </a:cubicBezTo>
                    <a:cubicBezTo>
                      <a:pt x="1428" y="1217"/>
                      <a:pt x="1446" y="1206"/>
                      <a:pt x="1463" y="1197"/>
                    </a:cubicBezTo>
                    <a:cubicBezTo>
                      <a:pt x="1654" y="1090"/>
                      <a:pt x="1563" y="1143"/>
                      <a:pt x="1744" y="1101"/>
                    </a:cubicBezTo>
                    <a:cubicBezTo>
                      <a:pt x="1888" y="1067"/>
                      <a:pt x="2017" y="1044"/>
                      <a:pt x="2164" y="1027"/>
                    </a:cubicBezTo>
                    <a:cubicBezTo>
                      <a:pt x="2196" y="1023"/>
                      <a:pt x="2228" y="1024"/>
                      <a:pt x="2260" y="1020"/>
                    </a:cubicBezTo>
                    <a:cubicBezTo>
                      <a:pt x="2327" y="1012"/>
                      <a:pt x="2460" y="990"/>
                      <a:pt x="2460" y="990"/>
                    </a:cubicBezTo>
                    <a:cubicBezTo>
                      <a:pt x="2514" y="963"/>
                      <a:pt x="2570" y="940"/>
                      <a:pt x="2622" y="909"/>
                    </a:cubicBezTo>
                    <a:cubicBezTo>
                      <a:pt x="2566" y="871"/>
                      <a:pt x="2445" y="926"/>
                      <a:pt x="2386" y="938"/>
                    </a:cubicBezTo>
                    <a:cubicBezTo>
                      <a:pt x="2230" y="969"/>
                      <a:pt x="2070" y="996"/>
                      <a:pt x="1913" y="1020"/>
                    </a:cubicBezTo>
                    <a:cubicBezTo>
                      <a:pt x="1408" y="1098"/>
                      <a:pt x="886" y="1107"/>
                      <a:pt x="377" y="1116"/>
                    </a:cubicBezTo>
                    <a:cubicBezTo>
                      <a:pt x="260" y="1122"/>
                      <a:pt x="130" y="1113"/>
                      <a:pt x="16" y="1138"/>
                    </a:cubicBezTo>
                    <a:cubicBezTo>
                      <a:pt x="0" y="1162"/>
                      <a:pt x="1" y="1151"/>
                      <a:pt x="1" y="1167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386"/>
            <p:cNvGrpSpPr/>
            <p:nvPr/>
          </p:nvGrpSpPr>
          <p:grpSpPr>
            <a:xfrm>
              <a:off x="525600" y="93600"/>
              <a:ext cx="451800" cy="239040"/>
              <a:chOff x="525600" y="93600"/>
              <a:chExt cx="451800" cy="239040"/>
            </a:xfrm>
          </p:grpSpPr>
          <p:sp>
            <p:nvSpPr>
              <p:cNvPr id="436" name="Freeform 387"/>
              <p:cNvSpPr/>
              <p:nvPr/>
            </p:nvSpPr>
            <p:spPr>
              <a:xfrm>
                <a:off x="525600" y="93600"/>
                <a:ext cx="232200" cy="239040"/>
              </a:xfrm>
              <a:custGeom>
                <a:avLst/>
                <a:gdLst/>
                <a:ahLst/>
                <a:rect l="l" t="t" r="r" b="b"/>
                <a:pathLst>
                  <a:path w="1676" h="1524">
                    <a:moveTo>
                      <a:pt x="0" y="1524"/>
                    </a:moveTo>
                    <a:cubicBezTo>
                      <a:pt x="124" y="1400"/>
                      <a:pt x="223" y="1254"/>
                      <a:pt x="310" y="1103"/>
                    </a:cubicBezTo>
                    <a:cubicBezTo>
                      <a:pt x="475" y="818"/>
                      <a:pt x="607" y="561"/>
                      <a:pt x="679" y="239"/>
                    </a:cubicBezTo>
                    <a:cubicBezTo>
                      <a:pt x="685" y="175"/>
                      <a:pt x="691" y="117"/>
                      <a:pt x="709" y="55"/>
                    </a:cubicBezTo>
                    <a:cubicBezTo>
                      <a:pt x="711" y="38"/>
                      <a:pt x="699" y="0"/>
                      <a:pt x="716" y="3"/>
                    </a:cubicBezTo>
                    <a:cubicBezTo>
                      <a:pt x="740" y="8"/>
                      <a:pt x="758" y="118"/>
                      <a:pt x="760" y="129"/>
                    </a:cubicBezTo>
                    <a:cubicBezTo>
                      <a:pt x="786" y="285"/>
                      <a:pt x="825" y="421"/>
                      <a:pt x="893" y="564"/>
                    </a:cubicBezTo>
                    <a:cubicBezTo>
                      <a:pt x="990" y="769"/>
                      <a:pt x="1088" y="980"/>
                      <a:pt x="1226" y="1162"/>
                    </a:cubicBezTo>
                    <a:cubicBezTo>
                      <a:pt x="1262" y="1210"/>
                      <a:pt x="1288" y="1267"/>
                      <a:pt x="1336" y="1303"/>
                    </a:cubicBezTo>
                    <a:cubicBezTo>
                      <a:pt x="1411" y="1359"/>
                      <a:pt x="1481" y="1419"/>
                      <a:pt x="1558" y="1473"/>
                    </a:cubicBezTo>
                    <a:cubicBezTo>
                      <a:pt x="1592" y="1497"/>
                      <a:pt x="1638" y="1506"/>
                      <a:pt x="1676" y="152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88"/>
              <p:cNvSpPr/>
              <p:nvPr/>
            </p:nvSpPr>
            <p:spPr>
              <a:xfrm>
                <a:off x="560160" y="223920"/>
                <a:ext cx="149400" cy="7920"/>
              </a:xfrm>
              <a:custGeom>
                <a:avLst/>
                <a:gdLst/>
                <a:ahLst/>
                <a:rect l="l" t="t" r="r" b="b"/>
                <a:pathLst>
                  <a:path w="1078" h="52">
                    <a:moveTo>
                      <a:pt x="1078" y="52"/>
                    </a:moveTo>
                    <a:cubicBezTo>
                      <a:pt x="917" y="40"/>
                      <a:pt x="764" y="19"/>
                      <a:pt x="605" y="0"/>
                    </a:cubicBezTo>
                    <a:cubicBezTo>
                      <a:pt x="404" y="3"/>
                      <a:pt x="201" y="15"/>
                      <a:pt x="0" y="1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89"/>
              <p:cNvSpPr/>
              <p:nvPr/>
            </p:nvSpPr>
            <p:spPr>
              <a:xfrm>
                <a:off x="718920" y="238680"/>
                <a:ext cx="52920" cy="77400"/>
              </a:xfrm>
              <a:custGeom>
                <a:avLst/>
                <a:gdLst/>
                <a:ahLst/>
                <a:rect l="l" t="t" r="r" b="b"/>
                <a:pathLst>
                  <a:path w="384" h="495">
                    <a:moveTo>
                      <a:pt x="0" y="74"/>
                    </a:moveTo>
                    <a:cubicBezTo>
                      <a:pt x="17" y="63"/>
                      <a:pt x="37" y="57"/>
                      <a:pt x="52" y="44"/>
                    </a:cubicBezTo>
                    <a:cubicBezTo>
                      <a:pt x="67" y="32"/>
                      <a:pt x="75" y="14"/>
                      <a:pt x="89" y="0"/>
                    </a:cubicBezTo>
                    <a:cubicBezTo>
                      <a:pt x="116" y="117"/>
                      <a:pt x="100" y="245"/>
                      <a:pt x="96" y="362"/>
                    </a:cubicBezTo>
                    <a:cubicBezTo>
                      <a:pt x="69" y="246"/>
                      <a:pt x="81" y="134"/>
                      <a:pt x="163" y="52"/>
                    </a:cubicBezTo>
                    <a:cubicBezTo>
                      <a:pt x="288" y="63"/>
                      <a:pt x="211" y="48"/>
                      <a:pt x="281" y="96"/>
                    </a:cubicBezTo>
                    <a:cubicBezTo>
                      <a:pt x="291" y="128"/>
                      <a:pt x="312" y="155"/>
                      <a:pt x="325" y="185"/>
                    </a:cubicBezTo>
                    <a:cubicBezTo>
                      <a:pt x="343" y="226"/>
                      <a:pt x="353" y="269"/>
                      <a:pt x="370" y="310"/>
                    </a:cubicBezTo>
                    <a:cubicBezTo>
                      <a:pt x="377" y="486"/>
                      <a:pt x="353" y="429"/>
                      <a:pt x="384" y="49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90"/>
              <p:cNvSpPr/>
              <p:nvPr/>
            </p:nvSpPr>
            <p:spPr>
              <a:xfrm>
                <a:off x="782280" y="240840"/>
                <a:ext cx="43920" cy="73080"/>
              </a:xfrm>
              <a:custGeom>
                <a:avLst/>
                <a:gdLst/>
                <a:ahLst/>
                <a:rect l="l" t="t" r="r" b="b"/>
                <a:pathLst>
                  <a:path w="318" h="466">
                    <a:moveTo>
                      <a:pt x="318" y="55"/>
                    </a:moveTo>
                    <a:cubicBezTo>
                      <a:pt x="298" y="45"/>
                      <a:pt x="279" y="35"/>
                      <a:pt x="259" y="25"/>
                    </a:cubicBezTo>
                    <a:cubicBezTo>
                      <a:pt x="239" y="15"/>
                      <a:pt x="192" y="10"/>
                      <a:pt x="192" y="10"/>
                    </a:cubicBezTo>
                    <a:cubicBezTo>
                      <a:pt x="80" y="19"/>
                      <a:pt x="82" y="0"/>
                      <a:pt x="30" y="77"/>
                    </a:cubicBezTo>
                    <a:cubicBezTo>
                      <a:pt x="35" y="104"/>
                      <a:pt x="38" y="132"/>
                      <a:pt x="45" y="158"/>
                    </a:cubicBezTo>
                    <a:cubicBezTo>
                      <a:pt x="59" y="206"/>
                      <a:pt x="137" y="216"/>
                      <a:pt x="177" y="224"/>
                    </a:cubicBezTo>
                    <a:cubicBezTo>
                      <a:pt x="203" y="241"/>
                      <a:pt x="220" y="258"/>
                      <a:pt x="237" y="284"/>
                    </a:cubicBezTo>
                    <a:cubicBezTo>
                      <a:pt x="272" y="394"/>
                      <a:pt x="199" y="432"/>
                      <a:pt x="111" y="453"/>
                    </a:cubicBezTo>
                    <a:cubicBezTo>
                      <a:pt x="66" y="449"/>
                      <a:pt x="0" y="466"/>
                      <a:pt x="0" y="40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391"/>
              <p:cNvSpPr/>
              <p:nvPr/>
            </p:nvSpPr>
            <p:spPr>
              <a:xfrm>
                <a:off x="837720" y="239040"/>
                <a:ext cx="139680" cy="81360"/>
              </a:xfrm>
              <a:custGeom>
                <a:avLst/>
                <a:gdLst/>
                <a:ahLst/>
                <a:rect l="l" t="t" r="r" b="b"/>
                <a:pathLst>
                  <a:path w="1008" h="520">
                    <a:moveTo>
                      <a:pt x="48" y="216"/>
                    </a:moveTo>
                    <a:cubicBezTo>
                      <a:pt x="132" y="232"/>
                      <a:pt x="216" y="248"/>
                      <a:pt x="240" y="216"/>
                    </a:cubicBezTo>
                    <a:cubicBezTo>
                      <a:pt x="264" y="184"/>
                      <a:pt x="224" y="48"/>
                      <a:pt x="192" y="24"/>
                    </a:cubicBezTo>
                    <a:cubicBezTo>
                      <a:pt x="160" y="0"/>
                      <a:pt x="80" y="32"/>
                      <a:pt x="48" y="72"/>
                    </a:cubicBezTo>
                    <a:cubicBezTo>
                      <a:pt x="16" y="112"/>
                      <a:pt x="0" y="200"/>
                      <a:pt x="0" y="264"/>
                    </a:cubicBezTo>
                    <a:cubicBezTo>
                      <a:pt x="0" y="328"/>
                      <a:pt x="0" y="416"/>
                      <a:pt x="48" y="456"/>
                    </a:cubicBezTo>
                    <a:cubicBezTo>
                      <a:pt x="96" y="496"/>
                      <a:pt x="192" y="520"/>
                      <a:pt x="288" y="504"/>
                    </a:cubicBezTo>
                    <a:cubicBezTo>
                      <a:pt x="384" y="488"/>
                      <a:pt x="504" y="360"/>
                      <a:pt x="624" y="360"/>
                    </a:cubicBezTo>
                    <a:cubicBezTo>
                      <a:pt x="744" y="360"/>
                      <a:pt x="876" y="432"/>
                      <a:pt x="1008" y="50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92"/>
              <p:cNvSpPr/>
              <p:nvPr/>
            </p:nvSpPr>
            <p:spPr>
              <a:xfrm>
                <a:off x="890280" y="168120"/>
                <a:ext cx="29160" cy="123120"/>
              </a:xfrm>
              <a:custGeom>
                <a:avLst/>
                <a:gdLst/>
                <a:ahLst/>
                <a:rect l="l" t="t" r="r" b="b"/>
                <a:pathLst>
                  <a:path w="212" h="786">
                    <a:moveTo>
                      <a:pt x="12" y="0"/>
                    </a:moveTo>
                    <a:cubicBezTo>
                      <a:pt x="10" y="256"/>
                      <a:pt x="0" y="512"/>
                      <a:pt x="5" y="768"/>
                    </a:cubicBezTo>
                    <a:cubicBezTo>
                      <a:pt x="5" y="786"/>
                      <a:pt x="40" y="759"/>
                      <a:pt x="57" y="753"/>
                    </a:cubicBezTo>
                    <a:cubicBezTo>
                      <a:pt x="104" y="738"/>
                      <a:pt x="162" y="701"/>
                      <a:pt x="212" y="70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93"/>
              <p:cNvSpPr/>
              <p:nvPr/>
            </p:nvSpPr>
            <p:spPr>
              <a:xfrm>
                <a:off x="936360" y="170280"/>
                <a:ext cx="26280" cy="122760"/>
              </a:xfrm>
              <a:custGeom>
                <a:avLst/>
                <a:gdLst/>
                <a:ahLst/>
                <a:rect l="l" t="t" r="r" b="b"/>
                <a:pathLst>
                  <a:path w="192" h="783">
                    <a:moveTo>
                      <a:pt x="20" y="0"/>
                    </a:moveTo>
                    <a:cubicBezTo>
                      <a:pt x="35" y="236"/>
                      <a:pt x="0" y="474"/>
                      <a:pt x="20" y="709"/>
                    </a:cubicBezTo>
                    <a:cubicBezTo>
                      <a:pt x="22" y="729"/>
                      <a:pt x="60" y="717"/>
                      <a:pt x="79" y="724"/>
                    </a:cubicBezTo>
                    <a:cubicBezTo>
                      <a:pt x="101" y="732"/>
                      <a:pt x="146" y="746"/>
                      <a:pt x="146" y="746"/>
                    </a:cubicBezTo>
                    <a:cubicBezTo>
                      <a:pt x="153" y="753"/>
                      <a:pt x="159" y="762"/>
                      <a:pt x="168" y="768"/>
                    </a:cubicBezTo>
                    <a:cubicBezTo>
                      <a:pt x="174" y="772"/>
                      <a:pt x="184" y="772"/>
                      <a:pt x="190" y="776"/>
                    </a:cubicBezTo>
                    <a:cubicBezTo>
                      <a:pt x="192" y="777"/>
                      <a:pt x="190" y="781"/>
                      <a:pt x="190" y="783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3" name="Picture 394" descr="Mythiot Powerpoints"/>
          <p:cNvPicPr/>
          <p:nvPr/>
        </p:nvPicPr>
        <p:blipFill>
          <a:blip r:embed="rId1"/>
          <a:stretch/>
        </p:blipFill>
        <p:spPr>
          <a:xfrm>
            <a:off x="8489880" y="76320"/>
            <a:ext cx="577800" cy="6858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395"/>
          <p:cNvSpPr/>
          <p:nvPr/>
        </p:nvSpPr>
        <p:spPr>
          <a:xfrm>
            <a:off x="1447920" y="90360"/>
            <a:ext cx="6553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Evening Fishing: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Drawn in Microsoft Office Powerpoint 2003,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by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Timothy Anse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1057"/>
          <p:cNvGrpSpPr/>
          <p:nvPr/>
        </p:nvGrpSpPr>
        <p:grpSpPr>
          <a:xfrm>
            <a:off x="-482760" y="885960"/>
            <a:ext cx="10616760" cy="6581160"/>
            <a:chOff x="-482760" y="885960"/>
            <a:chExt cx="10616760" cy="6581160"/>
          </a:xfrm>
        </p:grpSpPr>
        <p:sp>
          <p:nvSpPr>
            <p:cNvPr id="446" name="Freeform 1058"/>
            <p:cNvSpPr/>
            <p:nvPr/>
          </p:nvSpPr>
          <p:spPr>
            <a:xfrm>
              <a:off x="474480" y="2103480"/>
              <a:ext cx="3219120" cy="1742400"/>
            </a:xfrm>
            <a:custGeom>
              <a:avLst/>
              <a:gdLst/>
              <a:ahLst/>
              <a:rect l="l" t="t" r="r" b="b"/>
              <a:pathLst>
                <a:path w="2028" h="1098">
                  <a:moveTo>
                    <a:pt x="2023" y="1069"/>
                  </a:moveTo>
                  <a:cubicBezTo>
                    <a:pt x="2017" y="1013"/>
                    <a:pt x="2022" y="999"/>
                    <a:pt x="1978" y="970"/>
                  </a:cubicBezTo>
                  <a:cubicBezTo>
                    <a:pt x="1973" y="962"/>
                    <a:pt x="1969" y="953"/>
                    <a:pt x="1963" y="947"/>
                  </a:cubicBezTo>
                  <a:cubicBezTo>
                    <a:pt x="1957" y="941"/>
                    <a:pt x="1943" y="941"/>
                    <a:pt x="1940" y="932"/>
                  </a:cubicBezTo>
                  <a:cubicBezTo>
                    <a:pt x="1932" y="911"/>
                    <a:pt x="1939" y="886"/>
                    <a:pt x="1933" y="864"/>
                  </a:cubicBezTo>
                  <a:cubicBezTo>
                    <a:pt x="1930" y="852"/>
                    <a:pt x="1889" y="818"/>
                    <a:pt x="1879" y="811"/>
                  </a:cubicBezTo>
                  <a:cubicBezTo>
                    <a:pt x="1869" y="796"/>
                    <a:pt x="1859" y="780"/>
                    <a:pt x="1849" y="765"/>
                  </a:cubicBezTo>
                  <a:cubicBezTo>
                    <a:pt x="1845" y="759"/>
                    <a:pt x="1847" y="748"/>
                    <a:pt x="1842" y="743"/>
                  </a:cubicBezTo>
                  <a:cubicBezTo>
                    <a:pt x="1822" y="723"/>
                    <a:pt x="1792" y="717"/>
                    <a:pt x="1773" y="697"/>
                  </a:cubicBezTo>
                  <a:cubicBezTo>
                    <a:pt x="1766" y="689"/>
                    <a:pt x="1759" y="682"/>
                    <a:pt x="1751" y="674"/>
                  </a:cubicBezTo>
                  <a:cubicBezTo>
                    <a:pt x="1738" y="661"/>
                    <a:pt x="1713" y="637"/>
                    <a:pt x="1713" y="637"/>
                  </a:cubicBezTo>
                  <a:cubicBezTo>
                    <a:pt x="1697" y="591"/>
                    <a:pt x="1656" y="604"/>
                    <a:pt x="1607" y="599"/>
                  </a:cubicBezTo>
                  <a:cubicBezTo>
                    <a:pt x="1589" y="581"/>
                    <a:pt x="1585" y="546"/>
                    <a:pt x="1561" y="538"/>
                  </a:cubicBezTo>
                  <a:cubicBezTo>
                    <a:pt x="1519" y="523"/>
                    <a:pt x="1475" y="521"/>
                    <a:pt x="1432" y="508"/>
                  </a:cubicBezTo>
                  <a:cubicBezTo>
                    <a:pt x="1406" y="468"/>
                    <a:pt x="1406" y="420"/>
                    <a:pt x="1379" y="379"/>
                  </a:cubicBezTo>
                  <a:cubicBezTo>
                    <a:pt x="1370" y="351"/>
                    <a:pt x="1358" y="340"/>
                    <a:pt x="1341" y="318"/>
                  </a:cubicBezTo>
                  <a:cubicBezTo>
                    <a:pt x="1330" y="304"/>
                    <a:pt x="1311" y="273"/>
                    <a:pt x="1311" y="273"/>
                  </a:cubicBezTo>
                  <a:cubicBezTo>
                    <a:pt x="1298" y="195"/>
                    <a:pt x="1255" y="82"/>
                    <a:pt x="1175" y="53"/>
                  </a:cubicBezTo>
                  <a:cubicBezTo>
                    <a:pt x="1119" y="0"/>
                    <a:pt x="1033" y="45"/>
                    <a:pt x="962" y="23"/>
                  </a:cubicBezTo>
                  <a:cubicBezTo>
                    <a:pt x="947" y="28"/>
                    <a:pt x="931" y="31"/>
                    <a:pt x="917" y="38"/>
                  </a:cubicBezTo>
                  <a:cubicBezTo>
                    <a:pt x="891" y="51"/>
                    <a:pt x="876" y="78"/>
                    <a:pt x="849" y="91"/>
                  </a:cubicBezTo>
                  <a:cubicBezTo>
                    <a:pt x="811" y="110"/>
                    <a:pt x="771" y="120"/>
                    <a:pt x="735" y="144"/>
                  </a:cubicBezTo>
                  <a:cubicBezTo>
                    <a:pt x="707" y="185"/>
                    <a:pt x="706" y="201"/>
                    <a:pt x="659" y="212"/>
                  </a:cubicBezTo>
                  <a:cubicBezTo>
                    <a:pt x="628" y="227"/>
                    <a:pt x="616" y="245"/>
                    <a:pt x="583" y="235"/>
                  </a:cubicBezTo>
                  <a:cubicBezTo>
                    <a:pt x="560" y="220"/>
                    <a:pt x="541" y="213"/>
                    <a:pt x="515" y="205"/>
                  </a:cubicBezTo>
                  <a:cubicBezTo>
                    <a:pt x="453" y="139"/>
                    <a:pt x="318" y="205"/>
                    <a:pt x="235" y="220"/>
                  </a:cubicBezTo>
                  <a:cubicBezTo>
                    <a:pt x="227" y="225"/>
                    <a:pt x="218" y="228"/>
                    <a:pt x="212" y="235"/>
                  </a:cubicBezTo>
                  <a:cubicBezTo>
                    <a:pt x="200" y="249"/>
                    <a:pt x="199" y="274"/>
                    <a:pt x="182" y="280"/>
                  </a:cubicBezTo>
                  <a:cubicBezTo>
                    <a:pt x="151" y="291"/>
                    <a:pt x="167" y="286"/>
                    <a:pt x="136" y="295"/>
                  </a:cubicBezTo>
                  <a:cubicBezTo>
                    <a:pt x="131" y="300"/>
                    <a:pt x="127" y="306"/>
                    <a:pt x="121" y="311"/>
                  </a:cubicBezTo>
                  <a:cubicBezTo>
                    <a:pt x="114" y="317"/>
                    <a:pt x="104" y="320"/>
                    <a:pt x="98" y="326"/>
                  </a:cubicBezTo>
                  <a:cubicBezTo>
                    <a:pt x="65" y="359"/>
                    <a:pt x="48" y="385"/>
                    <a:pt x="0" y="402"/>
                  </a:cubicBezTo>
                  <a:cubicBezTo>
                    <a:pt x="39" y="414"/>
                    <a:pt x="72" y="419"/>
                    <a:pt x="114" y="424"/>
                  </a:cubicBezTo>
                  <a:cubicBezTo>
                    <a:pt x="129" y="429"/>
                    <a:pt x="145" y="431"/>
                    <a:pt x="159" y="439"/>
                  </a:cubicBezTo>
                  <a:cubicBezTo>
                    <a:pt x="215" y="473"/>
                    <a:pt x="128" y="440"/>
                    <a:pt x="197" y="462"/>
                  </a:cubicBezTo>
                  <a:cubicBezTo>
                    <a:pt x="212" y="467"/>
                    <a:pt x="227" y="472"/>
                    <a:pt x="242" y="477"/>
                  </a:cubicBezTo>
                  <a:cubicBezTo>
                    <a:pt x="250" y="480"/>
                    <a:pt x="265" y="485"/>
                    <a:pt x="265" y="485"/>
                  </a:cubicBezTo>
                  <a:cubicBezTo>
                    <a:pt x="278" y="482"/>
                    <a:pt x="299" y="489"/>
                    <a:pt x="303" y="477"/>
                  </a:cubicBezTo>
                  <a:cubicBezTo>
                    <a:pt x="320" y="420"/>
                    <a:pt x="275" y="326"/>
                    <a:pt x="341" y="303"/>
                  </a:cubicBezTo>
                  <a:cubicBezTo>
                    <a:pt x="442" y="313"/>
                    <a:pt x="407" y="301"/>
                    <a:pt x="455" y="349"/>
                  </a:cubicBezTo>
                  <a:cubicBezTo>
                    <a:pt x="469" y="391"/>
                    <a:pt x="478" y="435"/>
                    <a:pt x="493" y="477"/>
                  </a:cubicBezTo>
                  <a:cubicBezTo>
                    <a:pt x="495" y="540"/>
                    <a:pt x="461" y="617"/>
                    <a:pt x="500" y="667"/>
                  </a:cubicBezTo>
                  <a:cubicBezTo>
                    <a:pt x="528" y="703"/>
                    <a:pt x="611" y="697"/>
                    <a:pt x="637" y="659"/>
                  </a:cubicBezTo>
                  <a:cubicBezTo>
                    <a:pt x="675" y="603"/>
                    <a:pt x="640" y="523"/>
                    <a:pt x="644" y="455"/>
                  </a:cubicBezTo>
                  <a:cubicBezTo>
                    <a:pt x="649" y="375"/>
                    <a:pt x="670" y="297"/>
                    <a:pt x="750" y="273"/>
                  </a:cubicBezTo>
                  <a:cubicBezTo>
                    <a:pt x="810" y="281"/>
                    <a:pt x="830" y="283"/>
                    <a:pt x="864" y="333"/>
                  </a:cubicBezTo>
                  <a:cubicBezTo>
                    <a:pt x="872" y="359"/>
                    <a:pt x="886" y="376"/>
                    <a:pt x="894" y="402"/>
                  </a:cubicBezTo>
                  <a:cubicBezTo>
                    <a:pt x="897" y="505"/>
                    <a:pt x="879" y="611"/>
                    <a:pt x="902" y="712"/>
                  </a:cubicBezTo>
                  <a:cubicBezTo>
                    <a:pt x="906" y="732"/>
                    <a:pt x="945" y="716"/>
                    <a:pt x="962" y="705"/>
                  </a:cubicBezTo>
                  <a:cubicBezTo>
                    <a:pt x="973" y="698"/>
                    <a:pt x="964" y="679"/>
                    <a:pt x="970" y="667"/>
                  </a:cubicBezTo>
                  <a:cubicBezTo>
                    <a:pt x="975" y="657"/>
                    <a:pt x="985" y="652"/>
                    <a:pt x="993" y="644"/>
                  </a:cubicBezTo>
                  <a:cubicBezTo>
                    <a:pt x="1027" y="531"/>
                    <a:pt x="962" y="395"/>
                    <a:pt x="1031" y="295"/>
                  </a:cubicBezTo>
                  <a:cubicBezTo>
                    <a:pt x="1142" y="302"/>
                    <a:pt x="1147" y="275"/>
                    <a:pt x="1190" y="341"/>
                  </a:cubicBezTo>
                  <a:cubicBezTo>
                    <a:pt x="1204" y="386"/>
                    <a:pt x="1217" y="438"/>
                    <a:pt x="1243" y="477"/>
                  </a:cubicBezTo>
                  <a:cubicBezTo>
                    <a:pt x="1251" y="505"/>
                    <a:pt x="1266" y="561"/>
                    <a:pt x="1266" y="561"/>
                  </a:cubicBezTo>
                  <a:cubicBezTo>
                    <a:pt x="1268" y="604"/>
                    <a:pt x="1262" y="648"/>
                    <a:pt x="1273" y="690"/>
                  </a:cubicBezTo>
                  <a:cubicBezTo>
                    <a:pt x="1276" y="700"/>
                    <a:pt x="1301" y="687"/>
                    <a:pt x="1303" y="697"/>
                  </a:cubicBezTo>
                  <a:cubicBezTo>
                    <a:pt x="1326" y="818"/>
                    <a:pt x="1323" y="806"/>
                    <a:pt x="1258" y="818"/>
                  </a:cubicBezTo>
                  <a:cubicBezTo>
                    <a:pt x="1261" y="841"/>
                    <a:pt x="1258" y="865"/>
                    <a:pt x="1266" y="887"/>
                  </a:cubicBezTo>
                  <a:cubicBezTo>
                    <a:pt x="1273" y="905"/>
                    <a:pt x="1318" y="925"/>
                    <a:pt x="1334" y="932"/>
                  </a:cubicBezTo>
                  <a:cubicBezTo>
                    <a:pt x="1465" y="990"/>
                    <a:pt x="1429" y="978"/>
                    <a:pt x="1614" y="985"/>
                  </a:cubicBezTo>
                  <a:cubicBezTo>
                    <a:pt x="1666" y="993"/>
                    <a:pt x="1714" y="1008"/>
                    <a:pt x="1766" y="1015"/>
                  </a:cubicBezTo>
                  <a:cubicBezTo>
                    <a:pt x="1799" y="1032"/>
                    <a:pt x="1831" y="1036"/>
                    <a:pt x="1864" y="1053"/>
                  </a:cubicBezTo>
                  <a:cubicBezTo>
                    <a:pt x="1906" y="1098"/>
                    <a:pt x="1866" y="1063"/>
                    <a:pt x="1993" y="1076"/>
                  </a:cubicBezTo>
                  <a:cubicBezTo>
                    <a:pt x="2028" y="1080"/>
                    <a:pt x="2023" y="1097"/>
                    <a:pt x="2023" y="1069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59"/>
            <p:cNvSpPr/>
            <p:nvPr/>
          </p:nvSpPr>
          <p:spPr>
            <a:xfrm>
              <a:off x="3868560" y="3135240"/>
              <a:ext cx="1233360" cy="1093320"/>
            </a:xfrm>
            <a:custGeom>
              <a:avLst/>
              <a:gdLst/>
              <a:ahLst/>
              <a:rect l="l" t="t" r="r" b="b"/>
              <a:pathLst>
                <a:path w="777" h="689">
                  <a:moveTo>
                    <a:pt x="181" y="607"/>
                  </a:moveTo>
                  <a:cubicBezTo>
                    <a:pt x="184" y="526"/>
                    <a:pt x="159" y="405"/>
                    <a:pt x="211" y="326"/>
                  </a:cubicBezTo>
                  <a:cubicBezTo>
                    <a:pt x="227" y="249"/>
                    <a:pt x="272" y="194"/>
                    <a:pt x="348" y="167"/>
                  </a:cubicBezTo>
                  <a:cubicBezTo>
                    <a:pt x="428" y="175"/>
                    <a:pt x="465" y="180"/>
                    <a:pt x="492" y="258"/>
                  </a:cubicBezTo>
                  <a:cubicBezTo>
                    <a:pt x="495" y="335"/>
                    <a:pt x="486" y="443"/>
                    <a:pt x="515" y="523"/>
                  </a:cubicBezTo>
                  <a:cubicBezTo>
                    <a:pt x="517" y="543"/>
                    <a:pt x="503" y="577"/>
                    <a:pt x="522" y="584"/>
                  </a:cubicBezTo>
                  <a:cubicBezTo>
                    <a:pt x="689" y="649"/>
                    <a:pt x="655" y="584"/>
                    <a:pt x="636" y="523"/>
                  </a:cubicBezTo>
                  <a:cubicBezTo>
                    <a:pt x="631" y="232"/>
                    <a:pt x="777" y="0"/>
                    <a:pt x="545" y="31"/>
                  </a:cubicBezTo>
                  <a:cubicBezTo>
                    <a:pt x="410" y="15"/>
                    <a:pt x="263" y="34"/>
                    <a:pt x="128" y="38"/>
                  </a:cubicBezTo>
                  <a:cubicBezTo>
                    <a:pt x="76" y="55"/>
                    <a:pt x="94" y="42"/>
                    <a:pt x="67" y="69"/>
                  </a:cubicBezTo>
                  <a:cubicBezTo>
                    <a:pt x="54" y="109"/>
                    <a:pt x="42" y="143"/>
                    <a:pt x="90" y="160"/>
                  </a:cubicBezTo>
                  <a:cubicBezTo>
                    <a:pt x="63" y="199"/>
                    <a:pt x="67" y="206"/>
                    <a:pt x="75" y="258"/>
                  </a:cubicBezTo>
                  <a:cubicBezTo>
                    <a:pt x="72" y="339"/>
                    <a:pt x="74" y="420"/>
                    <a:pt x="67" y="501"/>
                  </a:cubicBezTo>
                  <a:cubicBezTo>
                    <a:pt x="64" y="535"/>
                    <a:pt x="26" y="565"/>
                    <a:pt x="14" y="599"/>
                  </a:cubicBezTo>
                  <a:cubicBezTo>
                    <a:pt x="0" y="689"/>
                    <a:pt x="34" y="660"/>
                    <a:pt x="128" y="652"/>
                  </a:cubicBezTo>
                  <a:cubicBezTo>
                    <a:pt x="163" y="629"/>
                    <a:pt x="181" y="648"/>
                    <a:pt x="181" y="607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60"/>
            <p:cNvSpPr/>
            <p:nvPr/>
          </p:nvSpPr>
          <p:spPr>
            <a:xfrm>
              <a:off x="-482760" y="3976560"/>
              <a:ext cx="5068800" cy="3490560"/>
            </a:xfrm>
            <a:custGeom>
              <a:avLst/>
              <a:gdLst/>
              <a:ahLst/>
              <a:rect l="l" t="t" r="r" b="b"/>
              <a:pathLst>
                <a:path w="3193" h="2199">
                  <a:moveTo>
                    <a:pt x="2998" y="10"/>
                  </a:moveTo>
                  <a:cubicBezTo>
                    <a:pt x="3013" y="75"/>
                    <a:pt x="2991" y="232"/>
                    <a:pt x="2990" y="260"/>
                  </a:cubicBezTo>
                  <a:cubicBezTo>
                    <a:pt x="2993" y="288"/>
                    <a:pt x="2992" y="316"/>
                    <a:pt x="2998" y="343"/>
                  </a:cubicBezTo>
                  <a:cubicBezTo>
                    <a:pt x="3000" y="352"/>
                    <a:pt x="3009" y="358"/>
                    <a:pt x="3013" y="366"/>
                  </a:cubicBezTo>
                  <a:cubicBezTo>
                    <a:pt x="3033" y="407"/>
                    <a:pt x="3058" y="432"/>
                    <a:pt x="3089" y="465"/>
                  </a:cubicBezTo>
                  <a:cubicBezTo>
                    <a:pt x="3088" y="497"/>
                    <a:pt x="3084" y="710"/>
                    <a:pt x="3066" y="775"/>
                  </a:cubicBezTo>
                  <a:cubicBezTo>
                    <a:pt x="3059" y="800"/>
                    <a:pt x="3037" y="819"/>
                    <a:pt x="3028" y="843"/>
                  </a:cubicBezTo>
                  <a:cubicBezTo>
                    <a:pt x="3017" y="925"/>
                    <a:pt x="3037" y="1014"/>
                    <a:pt x="2990" y="1086"/>
                  </a:cubicBezTo>
                  <a:cubicBezTo>
                    <a:pt x="2996" y="1184"/>
                    <a:pt x="3023" y="1317"/>
                    <a:pt x="2990" y="1412"/>
                  </a:cubicBezTo>
                  <a:cubicBezTo>
                    <a:pt x="2993" y="1442"/>
                    <a:pt x="2992" y="1473"/>
                    <a:pt x="2998" y="1503"/>
                  </a:cubicBezTo>
                  <a:cubicBezTo>
                    <a:pt x="3002" y="1527"/>
                    <a:pt x="3074" y="1594"/>
                    <a:pt x="3096" y="1609"/>
                  </a:cubicBezTo>
                  <a:cubicBezTo>
                    <a:pt x="3193" y="1749"/>
                    <a:pt x="3085" y="1942"/>
                    <a:pt x="3134" y="2102"/>
                  </a:cubicBezTo>
                  <a:cubicBezTo>
                    <a:pt x="2940" y="2199"/>
                    <a:pt x="2569" y="2097"/>
                    <a:pt x="2323" y="2079"/>
                  </a:cubicBezTo>
                  <a:cubicBezTo>
                    <a:pt x="2290" y="2077"/>
                    <a:pt x="2258" y="2073"/>
                    <a:pt x="2225" y="2071"/>
                  </a:cubicBezTo>
                  <a:cubicBezTo>
                    <a:pt x="2131" y="2065"/>
                    <a:pt x="1944" y="2056"/>
                    <a:pt x="1944" y="2056"/>
                  </a:cubicBezTo>
                  <a:cubicBezTo>
                    <a:pt x="1361" y="2061"/>
                    <a:pt x="783" y="2076"/>
                    <a:pt x="201" y="2086"/>
                  </a:cubicBezTo>
                  <a:cubicBezTo>
                    <a:pt x="171" y="2081"/>
                    <a:pt x="138" y="2084"/>
                    <a:pt x="110" y="2071"/>
                  </a:cubicBezTo>
                  <a:cubicBezTo>
                    <a:pt x="101" y="2067"/>
                    <a:pt x="103" y="2051"/>
                    <a:pt x="103" y="2041"/>
                  </a:cubicBezTo>
                  <a:cubicBezTo>
                    <a:pt x="103" y="1437"/>
                    <a:pt x="0" y="1604"/>
                    <a:pt x="125" y="1412"/>
                  </a:cubicBezTo>
                  <a:cubicBezTo>
                    <a:pt x="152" y="1285"/>
                    <a:pt x="237" y="1191"/>
                    <a:pt x="338" y="1116"/>
                  </a:cubicBezTo>
                  <a:cubicBezTo>
                    <a:pt x="371" y="1092"/>
                    <a:pt x="397" y="1068"/>
                    <a:pt x="436" y="1056"/>
                  </a:cubicBezTo>
                  <a:cubicBezTo>
                    <a:pt x="460" y="1032"/>
                    <a:pt x="486" y="1024"/>
                    <a:pt x="512" y="1003"/>
                  </a:cubicBezTo>
                  <a:cubicBezTo>
                    <a:pt x="583" y="945"/>
                    <a:pt x="687" y="891"/>
                    <a:pt x="777" y="874"/>
                  </a:cubicBezTo>
                  <a:cubicBezTo>
                    <a:pt x="834" y="852"/>
                    <a:pt x="894" y="840"/>
                    <a:pt x="952" y="821"/>
                  </a:cubicBezTo>
                  <a:cubicBezTo>
                    <a:pt x="1060" y="785"/>
                    <a:pt x="1167" y="743"/>
                    <a:pt x="1277" y="715"/>
                  </a:cubicBezTo>
                  <a:cubicBezTo>
                    <a:pt x="1323" y="691"/>
                    <a:pt x="1373" y="686"/>
                    <a:pt x="1421" y="669"/>
                  </a:cubicBezTo>
                  <a:cubicBezTo>
                    <a:pt x="1435" y="628"/>
                    <a:pt x="1479" y="625"/>
                    <a:pt x="1512" y="601"/>
                  </a:cubicBezTo>
                  <a:cubicBezTo>
                    <a:pt x="1524" y="592"/>
                    <a:pt x="1532" y="581"/>
                    <a:pt x="1543" y="571"/>
                  </a:cubicBezTo>
                  <a:cubicBezTo>
                    <a:pt x="1555" y="560"/>
                    <a:pt x="1568" y="549"/>
                    <a:pt x="1581" y="540"/>
                  </a:cubicBezTo>
                  <a:cubicBezTo>
                    <a:pt x="1667" y="479"/>
                    <a:pt x="1765" y="435"/>
                    <a:pt x="1838" y="358"/>
                  </a:cubicBezTo>
                  <a:cubicBezTo>
                    <a:pt x="1847" y="323"/>
                    <a:pt x="1856" y="303"/>
                    <a:pt x="1891" y="290"/>
                  </a:cubicBezTo>
                  <a:cubicBezTo>
                    <a:pt x="1936" y="247"/>
                    <a:pt x="1989" y="196"/>
                    <a:pt x="2050" y="177"/>
                  </a:cubicBezTo>
                  <a:cubicBezTo>
                    <a:pt x="2072" y="155"/>
                    <a:pt x="2093" y="159"/>
                    <a:pt x="2119" y="146"/>
                  </a:cubicBezTo>
                  <a:cubicBezTo>
                    <a:pt x="2155" y="128"/>
                    <a:pt x="2166" y="123"/>
                    <a:pt x="2210" y="116"/>
                  </a:cubicBezTo>
                  <a:cubicBezTo>
                    <a:pt x="2255" y="69"/>
                    <a:pt x="2324" y="73"/>
                    <a:pt x="2384" y="55"/>
                  </a:cubicBezTo>
                  <a:cubicBezTo>
                    <a:pt x="2563" y="0"/>
                    <a:pt x="2808" y="30"/>
                    <a:pt x="2998" y="1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061"/>
            <p:cNvGrpSpPr/>
            <p:nvPr/>
          </p:nvGrpSpPr>
          <p:grpSpPr>
            <a:xfrm>
              <a:off x="4592160" y="885960"/>
              <a:ext cx="5541840" cy="6359040"/>
              <a:chOff x="4592160" y="885960"/>
              <a:chExt cx="5541840" cy="6359040"/>
            </a:xfrm>
          </p:grpSpPr>
          <p:sp>
            <p:nvSpPr>
              <p:cNvPr id="450" name="Freeform 1062"/>
              <p:cNvSpPr/>
              <p:nvPr/>
            </p:nvSpPr>
            <p:spPr>
              <a:xfrm>
                <a:off x="4901760" y="2409840"/>
                <a:ext cx="1228680" cy="1412280"/>
              </a:xfrm>
              <a:custGeom>
                <a:avLst/>
                <a:gdLst/>
                <a:ahLst/>
                <a:rect l="l" t="t" r="r" b="b"/>
                <a:pathLst>
                  <a:path w="774" h="890">
                    <a:moveTo>
                      <a:pt x="718" y="420"/>
                    </a:moveTo>
                    <a:cubicBezTo>
                      <a:pt x="712" y="412"/>
                      <a:pt x="708" y="402"/>
                      <a:pt x="701" y="395"/>
                    </a:cubicBezTo>
                    <a:cubicBezTo>
                      <a:pt x="694" y="388"/>
                      <a:pt x="681" y="387"/>
                      <a:pt x="676" y="378"/>
                    </a:cubicBezTo>
                    <a:cubicBezTo>
                      <a:pt x="667" y="363"/>
                      <a:pt x="660" y="328"/>
                      <a:pt x="660" y="328"/>
                    </a:cubicBezTo>
                    <a:cubicBezTo>
                      <a:pt x="666" y="256"/>
                      <a:pt x="674" y="190"/>
                      <a:pt x="651" y="120"/>
                    </a:cubicBezTo>
                    <a:cubicBezTo>
                      <a:pt x="611" y="0"/>
                      <a:pt x="652" y="119"/>
                      <a:pt x="626" y="44"/>
                    </a:cubicBezTo>
                    <a:cubicBezTo>
                      <a:pt x="619" y="25"/>
                      <a:pt x="576" y="11"/>
                      <a:pt x="576" y="11"/>
                    </a:cubicBezTo>
                    <a:cubicBezTo>
                      <a:pt x="547" y="54"/>
                      <a:pt x="573" y="65"/>
                      <a:pt x="518" y="78"/>
                    </a:cubicBezTo>
                    <a:cubicBezTo>
                      <a:pt x="488" y="122"/>
                      <a:pt x="457" y="120"/>
                      <a:pt x="409" y="136"/>
                    </a:cubicBezTo>
                    <a:cubicBezTo>
                      <a:pt x="397" y="173"/>
                      <a:pt x="379" y="172"/>
                      <a:pt x="392" y="211"/>
                    </a:cubicBezTo>
                    <a:cubicBezTo>
                      <a:pt x="383" y="259"/>
                      <a:pt x="393" y="291"/>
                      <a:pt x="351" y="320"/>
                    </a:cubicBezTo>
                    <a:cubicBezTo>
                      <a:pt x="326" y="391"/>
                      <a:pt x="364" y="419"/>
                      <a:pt x="284" y="445"/>
                    </a:cubicBezTo>
                    <a:cubicBezTo>
                      <a:pt x="265" y="474"/>
                      <a:pt x="246" y="493"/>
                      <a:pt x="217" y="512"/>
                    </a:cubicBezTo>
                    <a:cubicBezTo>
                      <a:pt x="205" y="550"/>
                      <a:pt x="206" y="586"/>
                      <a:pt x="184" y="620"/>
                    </a:cubicBezTo>
                    <a:cubicBezTo>
                      <a:pt x="172" y="665"/>
                      <a:pt x="161" y="668"/>
                      <a:pt x="117" y="679"/>
                    </a:cubicBezTo>
                    <a:cubicBezTo>
                      <a:pt x="79" y="705"/>
                      <a:pt x="94" y="709"/>
                      <a:pt x="75" y="746"/>
                    </a:cubicBezTo>
                    <a:cubicBezTo>
                      <a:pt x="62" y="771"/>
                      <a:pt x="54" y="776"/>
                      <a:pt x="34" y="796"/>
                    </a:cubicBezTo>
                    <a:cubicBezTo>
                      <a:pt x="24" y="823"/>
                      <a:pt x="9" y="844"/>
                      <a:pt x="0" y="871"/>
                    </a:cubicBezTo>
                    <a:cubicBezTo>
                      <a:pt x="59" y="890"/>
                      <a:pt x="188" y="889"/>
                      <a:pt x="251" y="854"/>
                    </a:cubicBezTo>
                    <a:cubicBezTo>
                      <a:pt x="337" y="806"/>
                      <a:pt x="269" y="832"/>
                      <a:pt x="326" y="812"/>
                    </a:cubicBezTo>
                    <a:cubicBezTo>
                      <a:pt x="382" y="756"/>
                      <a:pt x="354" y="769"/>
                      <a:pt x="401" y="754"/>
                    </a:cubicBezTo>
                    <a:cubicBezTo>
                      <a:pt x="416" y="744"/>
                      <a:pt x="436" y="741"/>
                      <a:pt x="451" y="729"/>
                    </a:cubicBezTo>
                    <a:cubicBezTo>
                      <a:pt x="459" y="723"/>
                      <a:pt x="461" y="712"/>
                      <a:pt x="468" y="704"/>
                    </a:cubicBezTo>
                    <a:cubicBezTo>
                      <a:pt x="484" y="686"/>
                      <a:pt x="505" y="674"/>
                      <a:pt x="518" y="654"/>
                    </a:cubicBezTo>
                    <a:cubicBezTo>
                      <a:pt x="523" y="646"/>
                      <a:pt x="526" y="635"/>
                      <a:pt x="534" y="629"/>
                    </a:cubicBezTo>
                    <a:cubicBezTo>
                      <a:pt x="541" y="623"/>
                      <a:pt x="551" y="623"/>
                      <a:pt x="559" y="620"/>
                    </a:cubicBezTo>
                    <a:cubicBezTo>
                      <a:pt x="608" y="548"/>
                      <a:pt x="543" y="633"/>
                      <a:pt x="601" y="587"/>
                    </a:cubicBezTo>
                    <a:cubicBezTo>
                      <a:pt x="635" y="560"/>
                      <a:pt x="639" y="519"/>
                      <a:pt x="685" y="504"/>
                    </a:cubicBezTo>
                    <a:cubicBezTo>
                      <a:pt x="710" y="479"/>
                      <a:pt x="731" y="473"/>
                      <a:pt x="760" y="454"/>
                    </a:cubicBezTo>
                    <a:cubicBezTo>
                      <a:pt x="763" y="444"/>
                      <a:pt x="774" y="371"/>
                      <a:pt x="735" y="387"/>
                    </a:cubicBezTo>
                    <a:cubicBezTo>
                      <a:pt x="724" y="392"/>
                      <a:pt x="724" y="409"/>
                      <a:pt x="718" y="42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>
                <a:off x="5822280" y="1458720"/>
                <a:ext cx="1513080" cy="1514160"/>
              </a:xfrm>
              <a:custGeom>
                <a:avLst/>
                <a:gdLst/>
                <a:ahLst/>
                <a:rect l="l" t="t" r="r" b="b"/>
                <a:pathLst>
                  <a:path w="953" h="954">
                    <a:moveTo>
                      <a:pt x="798" y="17"/>
                    </a:moveTo>
                    <a:cubicBezTo>
                      <a:pt x="733" y="39"/>
                      <a:pt x="684" y="32"/>
                      <a:pt x="614" y="26"/>
                    </a:cubicBezTo>
                    <a:cubicBezTo>
                      <a:pt x="541" y="0"/>
                      <a:pt x="294" y="32"/>
                      <a:pt x="238" y="34"/>
                    </a:cubicBezTo>
                    <a:cubicBezTo>
                      <a:pt x="236" y="34"/>
                      <a:pt x="49" y="47"/>
                      <a:pt x="38" y="51"/>
                    </a:cubicBezTo>
                    <a:cubicBezTo>
                      <a:pt x="31" y="53"/>
                      <a:pt x="16" y="118"/>
                      <a:pt x="13" y="126"/>
                    </a:cubicBezTo>
                    <a:cubicBezTo>
                      <a:pt x="29" y="228"/>
                      <a:pt x="0" y="148"/>
                      <a:pt x="146" y="184"/>
                    </a:cubicBezTo>
                    <a:cubicBezTo>
                      <a:pt x="151" y="185"/>
                      <a:pt x="169" y="263"/>
                      <a:pt x="171" y="268"/>
                    </a:cubicBezTo>
                    <a:cubicBezTo>
                      <a:pt x="184" y="298"/>
                      <a:pt x="213" y="318"/>
                      <a:pt x="238" y="335"/>
                    </a:cubicBezTo>
                    <a:cubicBezTo>
                      <a:pt x="276" y="441"/>
                      <a:pt x="254" y="573"/>
                      <a:pt x="247" y="685"/>
                    </a:cubicBezTo>
                    <a:cubicBezTo>
                      <a:pt x="250" y="771"/>
                      <a:pt x="246" y="858"/>
                      <a:pt x="255" y="944"/>
                    </a:cubicBezTo>
                    <a:cubicBezTo>
                      <a:pt x="256" y="954"/>
                      <a:pt x="267" y="928"/>
                      <a:pt x="272" y="919"/>
                    </a:cubicBezTo>
                    <a:cubicBezTo>
                      <a:pt x="276" y="911"/>
                      <a:pt x="275" y="901"/>
                      <a:pt x="280" y="894"/>
                    </a:cubicBezTo>
                    <a:cubicBezTo>
                      <a:pt x="292" y="878"/>
                      <a:pt x="313" y="874"/>
                      <a:pt x="330" y="869"/>
                    </a:cubicBezTo>
                    <a:cubicBezTo>
                      <a:pt x="336" y="861"/>
                      <a:pt x="340" y="851"/>
                      <a:pt x="347" y="844"/>
                    </a:cubicBezTo>
                    <a:cubicBezTo>
                      <a:pt x="354" y="837"/>
                      <a:pt x="371" y="837"/>
                      <a:pt x="372" y="827"/>
                    </a:cubicBezTo>
                    <a:cubicBezTo>
                      <a:pt x="375" y="781"/>
                      <a:pt x="291" y="328"/>
                      <a:pt x="480" y="268"/>
                    </a:cubicBezTo>
                    <a:cubicBezTo>
                      <a:pt x="537" y="286"/>
                      <a:pt x="530" y="359"/>
                      <a:pt x="539" y="410"/>
                    </a:cubicBezTo>
                    <a:cubicBezTo>
                      <a:pt x="542" y="463"/>
                      <a:pt x="544" y="515"/>
                      <a:pt x="547" y="568"/>
                    </a:cubicBezTo>
                    <a:cubicBezTo>
                      <a:pt x="549" y="613"/>
                      <a:pt x="534" y="662"/>
                      <a:pt x="555" y="702"/>
                    </a:cubicBezTo>
                    <a:cubicBezTo>
                      <a:pt x="558" y="709"/>
                      <a:pt x="676" y="681"/>
                      <a:pt x="689" y="677"/>
                    </a:cubicBezTo>
                    <a:cubicBezTo>
                      <a:pt x="697" y="261"/>
                      <a:pt x="581" y="306"/>
                      <a:pt x="781" y="234"/>
                    </a:cubicBezTo>
                    <a:cubicBezTo>
                      <a:pt x="798" y="237"/>
                      <a:pt x="814" y="239"/>
                      <a:pt x="831" y="243"/>
                    </a:cubicBezTo>
                    <a:cubicBezTo>
                      <a:pt x="840" y="245"/>
                      <a:pt x="848" y="254"/>
                      <a:pt x="856" y="251"/>
                    </a:cubicBezTo>
                    <a:cubicBezTo>
                      <a:pt x="875" y="245"/>
                      <a:pt x="887" y="223"/>
                      <a:pt x="906" y="218"/>
                    </a:cubicBezTo>
                    <a:cubicBezTo>
                      <a:pt x="917" y="215"/>
                      <a:pt x="928" y="212"/>
                      <a:pt x="939" y="209"/>
                    </a:cubicBezTo>
                    <a:cubicBezTo>
                      <a:pt x="942" y="201"/>
                      <a:pt x="953" y="191"/>
                      <a:pt x="948" y="184"/>
                    </a:cubicBezTo>
                    <a:cubicBezTo>
                      <a:pt x="936" y="168"/>
                      <a:pt x="898" y="151"/>
                      <a:pt x="898" y="151"/>
                    </a:cubicBezTo>
                    <a:cubicBezTo>
                      <a:pt x="919" y="118"/>
                      <a:pt x="910" y="105"/>
                      <a:pt x="948" y="93"/>
                    </a:cubicBezTo>
                    <a:cubicBezTo>
                      <a:pt x="932" y="47"/>
                      <a:pt x="906" y="34"/>
                      <a:pt x="873" y="1"/>
                    </a:cubicBezTo>
                    <a:cubicBezTo>
                      <a:pt x="845" y="10"/>
                      <a:pt x="818" y="26"/>
                      <a:pt x="789" y="26"/>
                    </a:cubicBezTo>
                    <a:cubicBezTo>
                      <a:pt x="785" y="26"/>
                      <a:pt x="795" y="20"/>
                      <a:pt x="798" y="17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64"/>
              <p:cNvSpPr/>
              <p:nvPr/>
            </p:nvSpPr>
            <p:spPr>
              <a:xfrm>
                <a:off x="7297200" y="934920"/>
                <a:ext cx="1371600" cy="1315800"/>
              </a:xfrm>
              <a:custGeom>
                <a:avLst/>
                <a:gdLst/>
                <a:ahLst/>
                <a:rect l="l" t="t" r="r" b="b"/>
                <a:pathLst>
                  <a:path w="987" h="947">
                    <a:moveTo>
                      <a:pt x="29" y="851"/>
                    </a:moveTo>
                    <a:cubicBezTo>
                      <a:pt x="49" y="788"/>
                      <a:pt x="22" y="865"/>
                      <a:pt x="54" y="801"/>
                    </a:cubicBezTo>
                    <a:cubicBezTo>
                      <a:pt x="65" y="779"/>
                      <a:pt x="71" y="750"/>
                      <a:pt x="79" y="726"/>
                    </a:cubicBezTo>
                    <a:cubicBezTo>
                      <a:pt x="81" y="706"/>
                      <a:pt x="86" y="636"/>
                      <a:pt x="96" y="609"/>
                    </a:cubicBezTo>
                    <a:cubicBezTo>
                      <a:pt x="99" y="600"/>
                      <a:pt x="108" y="593"/>
                      <a:pt x="112" y="584"/>
                    </a:cubicBezTo>
                    <a:cubicBezTo>
                      <a:pt x="116" y="576"/>
                      <a:pt x="118" y="567"/>
                      <a:pt x="121" y="559"/>
                    </a:cubicBezTo>
                    <a:cubicBezTo>
                      <a:pt x="124" y="537"/>
                      <a:pt x="122" y="513"/>
                      <a:pt x="129" y="492"/>
                    </a:cubicBezTo>
                    <a:cubicBezTo>
                      <a:pt x="155" y="418"/>
                      <a:pt x="241" y="371"/>
                      <a:pt x="288" y="309"/>
                    </a:cubicBezTo>
                    <a:cubicBezTo>
                      <a:pt x="312" y="235"/>
                      <a:pt x="302" y="152"/>
                      <a:pt x="313" y="75"/>
                    </a:cubicBezTo>
                    <a:cubicBezTo>
                      <a:pt x="313" y="75"/>
                      <a:pt x="325" y="21"/>
                      <a:pt x="329" y="17"/>
                    </a:cubicBezTo>
                    <a:cubicBezTo>
                      <a:pt x="331" y="15"/>
                      <a:pt x="377" y="1"/>
                      <a:pt x="379" y="0"/>
                    </a:cubicBezTo>
                    <a:cubicBezTo>
                      <a:pt x="549" y="9"/>
                      <a:pt x="719" y="18"/>
                      <a:pt x="889" y="25"/>
                    </a:cubicBezTo>
                    <a:cubicBezTo>
                      <a:pt x="927" y="82"/>
                      <a:pt x="916" y="56"/>
                      <a:pt x="930" y="100"/>
                    </a:cubicBezTo>
                    <a:cubicBezTo>
                      <a:pt x="927" y="362"/>
                      <a:pt x="987" y="632"/>
                      <a:pt x="922" y="885"/>
                    </a:cubicBezTo>
                    <a:cubicBezTo>
                      <a:pt x="906" y="947"/>
                      <a:pt x="752" y="936"/>
                      <a:pt x="730" y="876"/>
                    </a:cubicBezTo>
                    <a:cubicBezTo>
                      <a:pt x="671" y="712"/>
                      <a:pt x="868" y="324"/>
                      <a:pt x="613" y="242"/>
                    </a:cubicBezTo>
                    <a:cubicBezTo>
                      <a:pt x="568" y="212"/>
                      <a:pt x="521" y="232"/>
                      <a:pt x="471" y="242"/>
                    </a:cubicBezTo>
                    <a:cubicBezTo>
                      <a:pt x="442" y="261"/>
                      <a:pt x="423" y="280"/>
                      <a:pt x="404" y="309"/>
                    </a:cubicBezTo>
                    <a:cubicBezTo>
                      <a:pt x="375" y="400"/>
                      <a:pt x="422" y="262"/>
                      <a:pt x="379" y="359"/>
                    </a:cubicBezTo>
                    <a:cubicBezTo>
                      <a:pt x="365" y="391"/>
                      <a:pt x="354" y="433"/>
                      <a:pt x="346" y="467"/>
                    </a:cubicBezTo>
                    <a:cubicBezTo>
                      <a:pt x="346" y="472"/>
                      <a:pt x="332" y="856"/>
                      <a:pt x="329" y="876"/>
                    </a:cubicBezTo>
                    <a:cubicBezTo>
                      <a:pt x="328" y="885"/>
                      <a:pt x="312" y="882"/>
                      <a:pt x="304" y="885"/>
                    </a:cubicBezTo>
                    <a:cubicBezTo>
                      <a:pt x="265" y="882"/>
                      <a:pt x="226" y="883"/>
                      <a:pt x="187" y="876"/>
                    </a:cubicBezTo>
                    <a:cubicBezTo>
                      <a:pt x="177" y="874"/>
                      <a:pt x="172" y="861"/>
                      <a:pt x="162" y="860"/>
                    </a:cubicBezTo>
                    <a:cubicBezTo>
                      <a:pt x="143" y="858"/>
                      <a:pt x="123" y="865"/>
                      <a:pt x="104" y="868"/>
                    </a:cubicBezTo>
                    <a:cubicBezTo>
                      <a:pt x="16" y="860"/>
                      <a:pt x="0" y="880"/>
                      <a:pt x="29" y="851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>
                <a:off x="4630320" y="3948120"/>
                <a:ext cx="4724280" cy="3200040"/>
              </a:xfrm>
              <a:custGeom>
                <a:avLst/>
                <a:gdLst/>
                <a:ahLst/>
                <a:rect l="l" t="t" r="r" b="b"/>
                <a:pathLst>
                  <a:path w="2976" h="2016">
                    <a:moveTo>
                      <a:pt x="384" y="1968"/>
                    </a:moveTo>
                    <a:lnTo>
                      <a:pt x="288" y="1536"/>
                    </a:lnTo>
                    <a:lnTo>
                      <a:pt x="144" y="1008"/>
                    </a:lnTo>
                    <a:lnTo>
                      <a:pt x="96" y="576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336" y="48"/>
                    </a:lnTo>
                    <a:lnTo>
                      <a:pt x="624" y="288"/>
                    </a:lnTo>
                    <a:lnTo>
                      <a:pt x="720" y="624"/>
                    </a:lnTo>
                    <a:lnTo>
                      <a:pt x="2976" y="672"/>
                    </a:lnTo>
                    <a:lnTo>
                      <a:pt x="2976" y="2016"/>
                    </a:lnTo>
                    <a:lnTo>
                      <a:pt x="384" y="2016"/>
                    </a:lnTo>
                    <a:lnTo>
                      <a:pt x="336" y="2016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66"/>
              <p:cNvSpPr/>
              <p:nvPr/>
            </p:nvSpPr>
            <p:spPr>
              <a:xfrm>
                <a:off x="4669920" y="1976400"/>
                <a:ext cx="5464080" cy="3246120"/>
              </a:xfrm>
              <a:custGeom>
                <a:avLst/>
                <a:gdLst/>
                <a:ahLst/>
                <a:rect l="l" t="t" r="r" b="b"/>
                <a:pathLst>
                  <a:path w="3180" h="2045">
                    <a:moveTo>
                      <a:pt x="2755" y="334"/>
                    </a:moveTo>
                    <a:cubicBezTo>
                      <a:pt x="2726" y="327"/>
                      <a:pt x="2699" y="318"/>
                      <a:pt x="2671" y="309"/>
                    </a:cubicBezTo>
                    <a:cubicBezTo>
                      <a:pt x="2608" y="268"/>
                      <a:pt x="2562" y="208"/>
                      <a:pt x="2488" y="184"/>
                    </a:cubicBezTo>
                    <a:cubicBezTo>
                      <a:pt x="2376" y="110"/>
                      <a:pt x="2327" y="101"/>
                      <a:pt x="2187" y="92"/>
                    </a:cubicBezTo>
                    <a:cubicBezTo>
                      <a:pt x="2118" y="70"/>
                      <a:pt x="2034" y="73"/>
                      <a:pt x="1962" y="67"/>
                    </a:cubicBezTo>
                    <a:cubicBezTo>
                      <a:pt x="1894" y="45"/>
                      <a:pt x="1880" y="48"/>
                      <a:pt x="1786" y="42"/>
                    </a:cubicBezTo>
                    <a:cubicBezTo>
                      <a:pt x="1748" y="30"/>
                      <a:pt x="1717" y="11"/>
                      <a:pt x="1678" y="0"/>
                    </a:cubicBezTo>
                    <a:cubicBezTo>
                      <a:pt x="1569" y="11"/>
                      <a:pt x="1615" y="0"/>
                      <a:pt x="1536" y="25"/>
                    </a:cubicBezTo>
                    <a:cubicBezTo>
                      <a:pt x="1500" y="36"/>
                      <a:pt x="1487" y="64"/>
                      <a:pt x="1452" y="75"/>
                    </a:cubicBezTo>
                    <a:cubicBezTo>
                      <a:pt x="1428" y="99"/>
                      <a:pt x="1414" y="123"/>
                      <a:pt x="1386" y="142"/>
                    </a:cubicBezTo>
                    <a:cubicBezTo>
                      <a:pt x="1358" y="183"/>
                      <a:pt x="1318" y="215"/>
                      <a:pt x="1277" y="242"/>
                    </a:cubicBezTo>
                    <a:cubicBezTo>
                      <a:pt x="1247" y="262"/>
                      <a:pt x="1223" y="296"/>
                      <a:pt x="1194" y="317"/>
                    </a:cubicBezTo>
                    <a:cubicBezTo>
                      <a:pt x="1170" y="334"/>
                      <a:pt x="1138" y="342"/>
                      <a:pt x="1110" y="351"/>
                    </a:cubicBezTo>
                    <a:cubicBezTo>
                      <a:pt x="1071" y="411"/>
                      <a:pt x="1091" y="387"/>
                      <a:pt x="1052" y="426"/>
                    </a:cubicBezTo>
                    <a:cubicBezTo>
                      <a:pt x="1025" y="500"/>
                      <a:pt x="1075" y="372"/>
                      <a:pt x="993" y="501"/>
                    </a:cubicBezTo>
                    <a:cubicBezTo>
                      <a:pt x="955" y="561"/>
                      <a:pt x="903" y="611"/>
                      <a:pt x="835" y="635"/>
                    </a:cubicBezTo>
                    <a:cubicBezTo>
                      <a:pt x="802" y="684"/>
                      <a:pt x="754" y="709"/>
                      <a:pt x="718" y="752"/>
                    </a:cubicBezTo>
                    <a:cubicBezTo>
                      <a:pt x="693" y="782"/>
                      <a:pt x="693" y="812"/>
                      <a:pt x="659" y="835"/>
                    </a:cubicBezTo>
                    <a:cubicBezTo>
                      <a:pt x="656" y="843"/>
                      <a:pt x="657" y="854"/>
                      <a:pt x="651" y="860"/>
                    </a:cubicBezTo>
                    <a:cubicBezTo>
                      <a:pt x="647" y="864"/>
                      <a:pt x="576" y="896"/>
                      <a:pt x="568" y="902"/>
                    </a:cubicBezTo>
                    <a:cubicBezTo>
                      <a:pt x="541" y="921"/>
                      <a:pt x="519" y="950"/>
                      <a:pt x="492" y="969"/>
                    </a:cubicBezTo>
                    <a:cubicBezTo>
                      <a:pt x="468" y="985"/>
                      <a:pt x="436" y="993"/>
                      <a:pt x="409" y="1002"/>
                    </a:cubicBezTo>
                    <a:cubicBezTo>
                      <a:pt x="346" y="1045"/>
                      <a:pt x="319" y="1066"/>
                      <a:pt x="242" y="1077"/>
                    </a:cubicBezTo>
                    <a:cubicBezTo>
                      <a:pt x="203" y="1089"/>
                      <a:pt x="164" y="1090"/>
                      <a:pt x="125" y="1102"/>
                    </a:cubicBezTo>
                    <a:cubicBezTo>
                      <a:pt x="81" y="1132"/>
                      <a:pt x="43" y="1165"/>
                      <a:pt x="0" y="1194"/>
                    </a:cubicBezTo>
                    <a:cubicBezTo>
                      <a:pt x="43" y="1223"/>
                      <a:pt x="17" y="1231"/>
                      <a:pt x="42" y="1261"/>
                    </a:cubicBezTo>
                    <a:cubicBezTo>
                      <a:pt x="60" y="1282"/>
                      <a:pt x="94" y="1282"/>
                      <a:pt x="117" y="1286"/>
                    </a:cubicBezTo>
                    <a:cubicBezTo>
                      <a:pt x="135" y="1343"/>
                      <a:pt x="107" y="1281"/>
                      <a:pt x="184" y="1319"/>
                    </a:cubicBezTo>
                    <a:cubicBezTo>
                      <a:pt x="192" y="1323"/>
                      <a:pt x="186" y="1338"/>
                      <a:pt x="192" y="1344"/>
                    </a:cubicBezTo>
                    <a:cubicBezTo>
                      <a:pt x="197" y="1349"/>
                      <a:pt x="247" y="1360"/>
                      <a:pt x="250" y="1361"/>
                    </a:cubicBezTo>
                    <a:cubicBezTo>
                      <a:pt x="272" y="1443"/>
                      <a:pt x="234" y="1341"/>
                      <a:pt x="317" y="1403"/>
                    </a:cubicBezTo>
                    <a:cubicBezTo>
                      <a:pt x="335" y="1417"/>
                      <a:pt x="327" y="1447"/>
                      <a:pt x="334" y="1469"/>
                    </a:cubicBezTo>
                    <a:cubicBezTo>
                      <a:pt x="331" y="1480"/>
                      <a:pt x="333" y="1494"/>
                      <a:pt x="326" y="1503"/>
                    </a:cubicBezTo>
                    <a:cubicBezTo>
                      <a:pt x="315" y="1517"/>
                      <a:pt x="291" y="1511"/>
                      <a:pt x="275" y="1520"/>
                    </a:cubicBezTo>
                    <a:cubicBezTo>
                      <a:pt x="258" y="1530"/>
                      <a:pt x="242" y="1542"/>
                      <a:pt x="225" y="1553"/>
                    </a:cubicBezTo>
                    <a:cubicBezTo>
                      <a:pt x="217" y="1559"/>
                      <a:pt x="208" y="1564"/>
                      <a:pt x="200" y="1570"/>
                    </a:cubicBezTo>
                    <a:cubicBezTo>
                      <a:pt x="192" y="1575"/>
                      <a:pt x="175" y="1586"/>
                      <a:pt x="175" y="1586"/>
                    </a:cubicBezTo>
                    <a:cubicBezTo>
                      <a:pt x="169" y="1603"/>
                      <a:pt x="164" y="1647"/>
                      <a:pt x="184" y="1661"/>
                    </a:cubicBezTo>
                    <a:cubicBezTo>
                      <a:pt x="196" y="1669"/>
                      <a:pt x="211" y="1667"/>
                      <a:pt x="225" y="1670"/>
                    </a:cubicBezTo>
                    <a:cubicBezTo>
                      <a:pt x="183" y="1684"/>
                      <a:pt x="154" y="1704"/>
                      <a:pt x="117" y="1728"/>
                    </a:cubicBezTo>
                    <a:cubicBezTo>
                      <a:pt x="125" y="1734"/>
                      <a:pt x="132" y="1742"/>
                      <a:pt x="142" y="1745"/>
                    </a:cubicBezTo>
                    <a:cubicBezTo>
                      <a:pt x="161" y="1751"/>
                      <a:pt x="182" y="1744"/>
                      <a:pt x="200" y="1753"/>
                    </a:cubicBezTo>
                    <a:cubicBezTo>
                      <a:pt x="208" y="1757"/>
                      <a:pt x="201" y="1774"/>
                      <a:pt x="209" y="1778"/>
                    </a:cubicBezTo>
                    <a:cubicBezTo>
                      <a:pt x="226" y="1787"/>
                      <a:pt x="248" y="1784"/>
                      <a:pt x="267" y="1787"/>
                    </a:cubicBezTo>
                    <a:cubicBezTo>
                      <a:pt x="259" y="1795"/>
                      <a:pt x="239" y="1801"/>
                      <a:pt x="242" y="1812"/>
                    </a:cubicBezTo>
                    <a:cubicBezTo>
                      <a:pt x="245" y="1823"/>
                      <a:pt x="264" y="1818"/>
                      <a:pt x="275" y="1820"/>
                    </a:cubicBezTo>
                    <a:cubicBezTo>
                      <a:pt x="295" y="1823"/>
                      <a:pt x="314" y="1825"/>
                      <a:pt x="334" y="1828"/>
                    </a:cubicBezTo>
                    <a:cubicBezTo>
                      <a:pt x="342" y="1870"/>
                      <a:pt x="330" y="1870"/>
                      <a:pt x="367" y="1879"/>
                    </a:cubicBezTo>
                    <a:cubicBezTo>
                      <a:pt x="395" y="1885"/>
                      <a:pt x="451" y="1895"/>
                      <a:pt x="451" y="1895"/>
                    </a:cubicBezTo>
                    <a:cubicBezTo>
                      <a:pt x="462" y="1929"/>
                      <a:pt x="476" y="1934"/>
                      <a:pt x="509" y="1945"/>
                    </a:cubicBezTo>
                    <a:cubicBezTo>
                      <a:pt x="3180" y="1935"/>
                      <a:pt x="1960" y="2045"/>
                      <a:pt x="2780" y="1920"/>
                    </a:cubicBezTo>
                    <a:cubicBezTo>
                      <a:pt x="2892" y="1848"/>
                      <a:pt x="2803" y="1915"/>
                      <a:pt x="2796" y="1595"/>
                    </a:cubicBezTo>
                    <a:cubicBezTo>
                      <a:pt x="2792" y="1425"/>
                      <a:pt x="2828" y="1063"/>
                      <a:pt x="2763" y="860"/>
                    </a:cubicBezTo>
                    <a:cubicBezTo>
                      <a:pt x="2747" y="697"/>
                      <a:pt x="2743" y="529"/>
                      <a:pt x="2805" y="376"/>
                    </a:cubicBezTo>
                    <a:cubicBezTo>
                      <a:pt x="2808" y="362"/>
                      <a:pt x="2808" y="348"/>
                      <a:pt x="2813" y="334"/>
                    </a:cubicBezTo>
                    <a:cubicBezTo>
                      <a:pt x="2820" y="314"/>
                      <a:pt x="2849" y="273"/>
                      <a:pt x="2813" y="326"/>
                    </a:cubicBezTo>
                    <a:cubicBezTo>
                      <a:pt x="2800" y="368"/>
                      <a:pt x="2813" y="354"/>
                      <a:pt x="2755" y="334"/>
                    </a:cubicBezTo>
                    <a:close/>
                  </a:path>
                </a:pathLst>
              </a:custGeom>
              <a:solidFill>
                <a:srgbClr val="00a85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>
                <a:off x="7081200" y="3251160"/>
                <a:ext cx="2021040" cy="705960"/>
              </a:xfrm>
              <a:custGeom>
                <a:avLst/>
                <a:gdLst/>
                <a:ahLst/>
                <a:rect l="l" t="t" r="r" b="b"/>
                <a:pathLst>
                  <a:path w="1273" h="445">
                    <a:moveTo>
                      <a:pt x="1240" y="399"/>
                    </a:moveTo>
                    <a:cubicBezTo>
                      <a:pt x="1096" y="304"/>
                      <a:pt x="1068" y="331"/>
                      <a:pt x="848" y="324"/>
                    </a:cubicBezTo>
                    <a:cubicBezTo>
                      <a:pt x="828" y="295"/>
                      <a:pt x="803" y="284"/>
                      <a:pt x="781" y="257"/>
                    </a:cubicBezTo>
                    <a:cubicBezTo>
                      <a:pt x="775" y="249"/>
                      <a:pt x="772" y="238"/>
                      <a:pt x="764" y="232"/>
                    </a:cubicBezTo>
                    <a:cubicBezTo>
                      <a:pt x="749" y="220"/>
                      <a:pt x="701" y="205"/>
                      <a:pt x="681" y="199"/>
                    </a:cubicBezTo>
                    <a:cubicBezTo>
                      <a:pt x="664" y="188"/>
                      <a:pt x="645" y="180"/>
                      <a:pt x="631" y="166"/>
                    </a:cubicBezTo>
                    <a:cubicBezTo>
                      <a:pt x="623" y="158"/>
                      <a:pt x="616" y="148"/>
                      <a:pt x="606" y="141"/>
                    </a:cubicBezTo>
                    <a:cubicBezTo>
                      <a:pt x="551" y="103"/>
                      <a:pt x="436" y="103"/>
                      <a:pt x="380" y="99"/>
                    </a:cubicBezTo>
                    <a:cubicBezTo>
                      <a:pt x="343" y="86"/>
                      <a:pt x="313" y="62"/>
                      <a:pt x="280" y="40"/>
                    </a:cubicBezTo>
                    <a:cubicBezTo>
                      <a:pt x="243" y="15"/>
                      <a:pt x="157" y="11"/>
                      <a:pt x="121" y="7"/>
                    </a:cubicBezTo>
                    <a:cubicBezTo>
                      <a:pt x="85" y="10"/>
                      <a:pt x="46" y="0"/>
                      <a:pt x="13" y="15"/>
                    </a:cubicBezTo>
                    <a:cubicBezTo>
                      <a:pt x="0" y="21"/>
                      <a:pt x="36" y="30"/>
                      <a:pt x="46" y="40"/>
                    </a:cubicBezTo>
                    <a:cubicBezTo>
                      <a:pt x="102" y="96"/>
                      <a:pt x="21" y="37"/>
                      <a:pt x="88" y="82"/>
                    </a:cubicBezTo>
                    <a:cubicBezTo>
                      <a:pt x="96" y="79"/>
                      <a:pt x="104" y="73"/>
                      <a:pt x="113" y="74"/>
                    </a:cubicBezTo>
                    <a:cubicBezTo>
                      <a:pt x="123" y="76"/>
                      <a:pt x="128" y="90"/>
                      <a:pt x="138" y="90"/>
                    </a:cubicBezTo>
                    <a:cubicBezTo>
                      <a:pt x="148" y="90"/>
                      <a:pt x="155" y="79"/>
                      <a:pt x="163" y="74"/>
                    </a:cubicBezTo>
                    <a:cubicBezTo>
                      <a:pt x="205" y="99"/>
                      <a:pt x="217" y="123"/>
                      <a:pt x="255" y="149"/>
                    </a:cubicBezTo>
                    <a:cubicBezTo>
                      <a:pt x="309" y="112"/>
                      <a:pt x="320" y="157"/>
                      <a:pt x="372" y="174"/>
                    </a:cubicBezTo>
                    <a:cubicBezTo>
                      <a:pt x="414" y="145"/>
                      <a:pt x="420" y="168"/>
                      <a:pt x="464" y="182"/>
                    </a:cubicBezTo>
                    <a:cubicBezTo>
                      <a:pt x="521" y="221"/>
                      <a:pt x="508" y="235"/>
                      <a:pt x="522" y="191"/>
                    </a:cubicBezTo>
                    <a:cubicBezTo>
                      <a:pt x="607" y="218"/>
                      <a:pt x="678" y="278"/>
                      <a:pt x="764" y="299"/>
                    </a:cubicBezTo>
                    <a:cubicBezTo>
                      <a:pt x="727" y="309"/>
                      <a:pt x="694" y="318"/>
                      <a:pt x="656" y="324"/>
                    </a:cubicBezTo>
                    <a:cubicBezTo>
                      <a:pt x="612" y="388"/>
                      <a:pt x="647" y="321"/>
                      <a:pt x="756" y="358"/>
                    </a:cubicBezTo>
                    <a:cubicBezTo>
                      <a:pt x="767" y="362"/>
                      <a:pt x="761" y="380"/>
                      <a:pt x="764" y="391"/>
                    </a:cubicBezTo>
                    <a:cubicBezTo>
                      <a:pt x="772" y="388"/>
                      <a:pt x="783" y="389"/>
                      <a:pt x="789" y="383"/>
                    </a:cubicBezTo>
                    <a:cubicBezTo>
                      <a:pt x="795" y="377"/>
                      <a:pt x="789" y="360"/>
                      <a:pt x="798" y="358"/>
                    </a:cubicBezTo>
                    <a:cubicBezTo>
                      <a:pt x="814" y="353"/>
                      <a:pt x="831" y="363"/>
                      <a:pt x="848" y="366"/>
                    </a:cubicBezTo>
                    <a:cubicBezTo>
                      <a:pt x="899" y="417"/>
                      <a:pt x="855" y="387"/>
                      <a:pt x="881" y="366"/>
                    </a:cubicBezTo>
                    <a:cubicBezTo>
                      <a:pt x="890" y="359"/>
                      <a:pt x="903" y="361"/>
                      <a:pt x="914" y="358"/>
                    </a:cubicBezTo>
                    <a:cubicBezTo>
                      <a:pt x="960" y="369"/>
                      <a:pt x="991" y="384"/>
                      <a:pt x="1040" y="391"/>
                    </a:cubicBezTo>
                    <a:cubicBezTo>
                      <a:pt x="1098" y="429"/>
                      <a:pt x="1073" y="435"/>
                      <a:pt x="1115" y="408"/>
                    </a:cubicBezTo>
                    <a:cubicBezTo>
                      <a:pt x="1148" y="416"/>
                      <a:pt x="1170" y="422"/>
                      <a:pt x="1198" y="441"/>
                    </a:cubicBezTo>
                    <a:cubicBezTo>
                      <a:pt x="1220" y="438"/>
                      <a:pt x="1246" y="445"/>
                      <a:pt x="1265" y="433"/>
                    </a:cubicBezTo>
                    <a:cubicBezTo>
                      <a:pt x="1273" y="427"/>
                      <a:pt x="1254" y="416"/>
                      <a:pt x="1248" y="408"/>
                    </a:cubicBezTo>
                    <a:cubicBezTo>
                      <a:pt x="1224" y="379"/>
                      <a:pt x="1196" y="358"/>
                      <a:pt x="1157" y="358"/>
                    </a:cubicBezTo>
                    <a:lnTo>
                      <a:pt x="1240" y="399"/>
                    </a:lnTo>
                    <a:close/>
                  </a:path>
                </a:pathLst>
              </a:custGeom>
              <a:solidFill>
                <a:srgbClr val="0070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>
                <a:off x="4622400" y="3844800"/>
                <a:ext cx="663480" cy="1099800"/>
              </a:xfrm>
              <a:custGeom>
                <a:avLst/>
                <a:gdLst/>
                <a:ahLst/>
                <a:rect l="l" t="t" r="r" b="b"/>
                <a:pathLst>
                  <a:path w="386" h="693">
                    <a:moveTo>
                      <a:pt x="44" y="0"/>
                    </a:moveTo>
                    <a:cubicBezTo>
                      <a:pt x="42" y="2"/>
                      <a:pt x="0" y="41"/>
                      <a:pt x="2" y="50"/>
                    </a:cubicBezTo>
                    <a:cubicBezTo>
                      <a:pt x="4" y="59"/>
                      <a:pt x="19" y="56"/>
                      <a:pt x="27" y="59"/>
                    </a:cubicBezTo>
                    <a:cubicBezTo>
                      <a:pt x="24" y="67"/>
                      <a:pt x="15" y="76"/>
                      <a:pt x="19" y="84"/>
                    </a:cubicBezTo>
                    <a:cubicBezTo>
                      <a:pt x="23" y="92"/>
                      <a:pt x="35" y="90"/>
                      <a:pt x="44" y="92"/>
                    </a:cubicBezTo>
                    <a:cubicBezTo>
                      <a:pt x="63" y="96"/>
                      <a:pt x="83" y="97"/>
                      <a:pt x="102" y="100"/>
                    </a:cubicBezTo>
                    <a:cubicBezTo>
                      <a:pt x="96" y="109"/>
                      <a:pt x="83" y="116"/>
                      <a:pt x="85" y="126"/>
                    </a:cubicBezTo>
                    <a:cubicBezTo>
                      <a:pt x="87" y="135"/>
                      <a:pt x="101" y="133"/>
                      <a:pt x="110" y="134"/>
                    </a:cubicBezTo>
                    <a:cubicBezTo>
                      <a:pt x="138" y="138"/>
                      <a:pt x="166" y="139"/>
                      <a:pt x="194" y="142"/>
                    </a:cubicBezTo>
                    <a:cubicBezTo>
                      <a:pt x="186" y="150"/>
                      <a:pt x="158" y="162"/>
                      <a:pt x="169" y="167"/>
                    </a:cubicBezTo>
                    <a:cubicBezTo>
                      <a:pt x="227" y="193"/>
                      <a:pt x="314" y="162"/>
                      <a:pt x="244" y="184"/>
                    </a:cubicBezTo>
                    <a:cubicBezTo>
                      <a:pt x="258" y="187"/>
                      <a:pt x="272" y="188"/>
                      <a:pt x="286" y="192"/>
                    </a:cubicBezTo>
                    <a:cubicBezTo>
                      <a:pt x="295" y="194"/>
                      <a:pt x="311" y="192"/>
                      <a:pt x="311" y="201"/>
                    </a:cubicBezTo>
                    <a:cubicBezTo>
                      <a:pt x="311" y="211"/>
                      <a:pt x="294" y="212"/>
                      <a:pt x="286" y="217"/>
                    </a:cubicBezTo>
                    <a:cubicBezTo>
                      <a:pt x="294" y="223"/>
                      <a:pt x="305" y="226"/>
                      <a:pt x="311" y="234"/>
                    </a:cubicBezTo>
                    <a:cubicBezTo>
                      <a:pt x="316" y="241"/>
                      <a:pt x="312" y="253"/>
                      <a:pt x="319" y="259"/>
                    </a:cubicBezTo>
                    <a:cubicBezTo>
                      <a:pt x="327" y="266"/>
                      <a:pt x="371" y="279"/>
                      <a:pt x="386" y="284"/>
                    </a:cubicBezTo>
                    <a:cubicBezTo>
                      <a:pt x="378" y="290"/>
                      <a:pt x="371" y="298"/>
                      <a:pt x="361" y="301"/>
                    </a:cubicBezTo>
                    <a:cubicBezTo>
                      <a:pt x="345" y="306"/>
                      <a:pt x="326" y="302"/>
                      <a:pt x="311" y="309"/>
                    </a:cubicBezTo>
                    <a:cubicBezTo>
                      <a:pt x="302" y="313"/>
                      <a:pt x="301" y="327"/>
                      <a:pt x="294" y="334"/>
                    </a:cubicBezTo>
                    <a:cubicBezTo>
                      <a:pt x="277" y="351"/>
                      <a:pt x="265" y="352"/>
                      <a:pt x="244" y="359"/>
                    </a:cubicBezTo>
                    <a:cubicBezTo>
                      <a:pt x="241" y="370"/>
                      <a:pt x="242" y="383"/>
                      <a:pt x="236" y="393"/>
                    </a:cubicBezTo>
                    <a:cubicBezTo>
                      <a:pt x="216" y="424"/>
                      <a:pt x="189" y="394"/>
                      <a:pt x="236" y="426"/>
                    </a:cubicBezTo>
                    <a:cubicBezTo>
                      <a:pt x="223" y="461"/>
                      <a:pt x="199" y="465"/>
                      <a:pt x="169" y="484"/>
                    </a:cubicBezTo>
                    <a:cubicBezTo>
                      <a:pt x="177" y="490"/>
                      <a:pt x="191" y="491"/>
                      <a:pt x="194" y="501"/>
                    </a:cubicBezTo>
                    <a:cubicBezTo>
                      <a:pt x="198" y="512"/>
                      <a:pt x="180" y="525"/>
                      <a:pt x="186" y="535"/>
                    </a:cubicBezTo>
                    <a:cubicBezTo>
                      <a:pt x="192" y="545"/>
                      <a:pt x="208" y="541"/>
                      <a:pt x="219" y="543"/>
                    </a:cubicBezTo>
                    <a:cubicBezTo>
                      <a:pt x="233" y="546"/>
                      <a:pt x="247" y="548"/>
                      <a:pt x="261" y="551"/>
                    </a:cubicBezTo>
                    <a:cubicBezTo>
                      <a:pt x="208" y="604"/>
                      <a:pt x="174" y="589"/>
                      <a:pt x="286" y="601"/>
                    </a:cubicBezTo>
                    <a:cubicBezTo>
                      <a:pt x="280" y="609"/>
                      <a:pt x="267" y="616"/>
                      <a:pt x="269" y="626"/>
                    </a:cubicBezTo>
                    <a:cubicBezTo>
                      <a:pt x="271" y="635"/>
                      <a:pt x="286" y="633"/>
                      <a:pt x="294" y="635"/>
                    </a:cubicBezTo>
                    <a:cubicBezTo>
                      <a:pt x="305" y="638"/>
                      <a:pt x="316" y="640"/>
                      <a:pt x="327" y="643"/>
                    </a:cubicBezTo>
                    <a:cubicBezTo>
                      <a:pt x="314" y="684"/>
                      <a:pt x="326" y="677"/>
                      <a:pt x="361" y="69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9"/>
              <p:cNvSpPr/>
              <p:nvPr/>
            </p:nvSpPr>
            <p:spPr>
              <a:xfrm>
                <a:off x="4639680" y="2211120"/>
                <a:ext cx="2381400" cy="1726920"/>
              </a:xfrm>
              <a:custGeom>
                <a:avLst/>
                <a:gdLst/>
                <a:ahLst/>
                <a:rect l="l" t="t" r="r" b="b"/>
                <a:pathLst>
                  <a:path w="1385" h="1088">
                    <a:moveTo>
                      <a:pt x="0" y="1088"/>
                    </a:moveTo>
                    <a:cubicBezTo>
                      <a:pt x="32" y="1045"/>
                      <a:pt x="11" y="1057"/>
                      <a:pt x="59" y="1046"/>
                    </a:cubicBezTo>
                    <a:cubicBezTo>
                      <a:pt x="70" y="1038"/>
                      <a:pt x="84" y="1032"/>
                      <a:pt x="92" y="1021"/>
                    </a:cubicBezTo>
                    <a:cubicBezTo>
                      <a:pt x="100" y="1010"/>
                      <a:pt x="106" y="997"/>
                      <a:pt x="117" y="988"/>
                    </a:cubicBezTo>
                    <a:cubicBezTo>
                      <a:pt x="124" y="982"/>
                      <a:pt x="134" y="982"/>
                      <a:pt x="142" y="979"/>
                    </a:cubicBezTo>
                    <a:cubicBezTo>
                      <a:pt x="150" y="971"/>
                      <a:pt x="167" y="966"/>
                      <a:pt x="167" y="954"/>
                    </a:cubicBezTo>
                    <a:cubicBezTo>
                      <a:pt x="167" y="944"/>
                      <a:pt x="148" y="963"/>
                      <a:pt x="142" y="971"/>
                    </a:cubicBezTo>
                    <a:cubicBezTo>
                      <a:pt x="137" y="978"/>
                      <a:pt x="137" y="988"/>
                      <a:pt x="134" y="996"/>
                    </a:cubicBezTo>
                    <a:cubicBezTo>
                      <a:pt x="130" y="1007"/>
                      <a:pt x="151" y="979"/>
                      <a:pt x="159" y="971"/>
                    </a:cubicBezTo>
                    <a:cubicBezTo>
                      <a:pt x="170" y="988"/>
                      <a:pt x="185" y="1040"/>
                      <a:pt x="192" y="1021"/>
                    </a:cubicBezTo>
                    <a:cubicBezTo>
                      <a:pt x="195" y="1013"/>
                      <a:pt x="194" y="1001"/>
                      <a:pt x="201" y="996"/>
                    </a:cubicBezTo>
                    <a:cubicBezTo>
                      <a:pt x="210" y="989"/>
                      <a:pt x="223" y="991"/>
                      <a:pt x="234" y="988"/>
                    </a:cubicBezTo>
                    <a:cubicBezTo>
                      <a:pt x="169" y="944"/>
                      <a:pt x="246" y="1002"/>
                      <a:pt x="284" y="979"/>
                    </a:cubicBezTo>
                    <a:cubicBezTo>
                      <a:pt x="297" y="971"/>
                      <a:pt x="263" y="956"/>
                      <a:pt x="251" y="946"/>
                    </a:cubicBezTo>
                    <a:cubicBezTo>
                      <a:pt x="243" y="939"/>
                      <a:pt x="217" y="932"/>
                      <a:pt x="226" y="929"/>
                    </a:cubicBezTo>
                    <a:cubicBezTo>
                      <a:pt x="242" y="923"/>
                      <a:pt x="259" y="934"/>
                      <a:pt x="276" y="937"/>
                    </a:cubicBezTo>
                    <a:cubicBezTo>
                      <a:pt x="290" y="940"/>
                      <a:pt x="317" y="946"/>
                      <a:pt x="317" y="946"/>
                    </a:cubicBezTo>
                    <a:cubicBezTo>
                      <a:pt x="326" y="943"/>
                      <a:pt x="334" y="937"/>
                      <a:pt x="343" y="937"/>
                    </a:cubicBezTo>
                    <a:cubicBezTo>
                      <a:pt x="363" y="937"/>
                      <a:pt x="382" y="942"/>
                      <a:pt x="401" y="946"/>
                    </a:cubicBezTo>
                    <a:cubicBezTo>
                      <a:pt x="410" y="948"/>
                      <a:pt x="435" y="954"/>
                      <a:pt x="426" y="954"/>
                    </a:cubicBezTo>
                    <a:cubicBezTo>
                      <a:pt x="412" y="954"/>
                      <a:pt x="398" y="949"/>
                      <a:pt x="384" y="946"/>
                    </a:cubicBezTo>
                    <a:cubicBezTo>
                      <a:pt x="395" y="943"/>
                      <a:pt x="407" y="941"/>
                      <a:pt x="418" y="937"/>
                    </a:cubicBezTo>
                    <a:cubicBezTo>
                      <a:pt x="440" y="929"/>
                      <a:pt x="484" y="912"/>
                      <a:pt x="484" y="912"/>
                    </a:cubicBezTo>
                    <a:cubicBezTo>
                      <a:pt x="426" y="889"/>
                      <a:pt x="427" y="898"/>
                      <a:pt x="501" y="887"/>
                    </a:cubicBezTo>
                    <a:cubicBezTo>
                      <a:pt x="521" y="884"/>
                      <a:pt x="540" y="882"/>
                      <a:pt x="560" y="879"/>
                    </a:cubicBezTo>
                    <a:cubicBezTo>
                      <a:pt x="540" y="876"/>
                      <a:pt x="501" y="891"/>
                      <a:pt x="501" y="871"/>
                    </a:cubicBezTo>
                    <a:cubicBezTo>
                      <a:pt x="501" y="851"/>
                      <a:pt x="540" y="864"/>
                      <a:pt x="560" y="862"/>
                    </a:cubicBezTo>
                    <a:cubicBezTo>
                      <a:pt x="602" y="858"/>
                      <a:pt x="643" y="857"/>
                      <a:pt x="685" y="854"/>
                    </a:cubicBezTo>
                    <a:cubicBezTo>
                      <a:pt x="629" y="851"/>
                      <a:pt x="558" y="885"/>
                      <a:pt x="518" y="846"/>
                    </a:cubicBezTo>
                    <a:cubicBezTo>
                      <a:pt x="486" y="815"/>
                      <a:pt x="607" y="829"/>
                      <a:pt x="651" y="821"/>
                    </a:cubicBezTo>
                    <a:cubicBezTo>
                      <a:pt x="671" y="817"/>
                      <a:pt x="690" y="815"/>
                      <a:pt x="710" y="812"/>
                    </a:cubicBezTo>
                    <a:cubicBezTo>
                      <a:pt x="724" y="810"/>
                      <a:pt x="738" y="807"/>
                      <a:pt x="752" y="804"/>
                    </a:cubicBezTo>
                    <a:cubicBezTo>
                      <a:pt x="768" y="793"/>
                      <a:pt x="808" y="775"/>
                      <a:pt x="743" y="779"/>
                    </a:cubicBezTo>
                    <a:cubicBezTo>
                      <a:pt x="709" y="781"/>
                      <a:pt x="676" y="790"/>
                      <a:pt x="643" y="796"/>
                    </a:cubicBezTo>
                    <a:cubicBezTo>
                      <a:pt x="632" y="798"/>
                      <a:pt x="621" y="802"/>
                      <a:pt x="610" y="804"/>
                    </a:cubicBezTo>
                    <a:cubicBezTo>
                      <a:pt x="582" y="808"/>
                      <a:pt x="554" y="812"/>
                      <a:pt x="526" y="812"/>
                    </a:cubicBezTo>
                    <a:cubicBezTo>
                      <a:pt x="506" y="812"/>
                      <a:pt x="565" y="807"/>
                      <a:pt x="585" y="804"/>
                    </a:cubicBezTo>
                    <a:cubicBezTo>
                      <a:pt x="617" y="782"/>
                      <a:pt x="649" y="769"/>
                      <a:pt x="685" y="754"/>
                    </a:cubicBezTo>
                    <a:cubicBezTo>
                      <a:pt x="642" y="732"/>
                      <a:pt x="643" y="742"/>
                      <a:pt x="601" y="754"/>
                    </a:cubicBezTo>
                    <a:cubicBezTo>
                      <a:pt x="590" y="757"/>
                      <a:pt x="558" y="766"/>
                      <a:pt x="568" y="762"/>
                    </a:cubicBezTo>
                    <a:cubicBezTo>
                      <a:pt x="592" y="752"/>
                      <a:pt x="643" y="737"/>
                      <a:pt x="643" y="737"/>
                    </a:cubicBezTo>
                    <a:cubicBezTo>
                      <a:pt x="673" y="714"/>
                      <a:pt x="699" y="699"/>
                      <a:pt x="735" y="687"/>
                    </a:cubicBezTo>
                    <a:cubicBezTo>
                      <a:pt x="743" y="679"/>
                      <a:pt x="750" y="668"/>
                      <a:pt x="760" y="662"/>
                    </a:cubicBezTo>
                    <a:cubicBezTo>
                      <a:pt x="767" y="657"/>
                      <a:pt x="779" y="660"/>
                      <a:pt x="785" y="654"/>
                    </a:cubicBezTo>
                    <a:cubicBezTo>
                      <a:pt x="829" y="610"/>
                      <a:pt x="768" y="637"/>
                      <a:pt x="768" y="637"/>
                    </a:cubicBezTo>
                    <a:cubicBezTo>
                      <a:pt x="711" y="675"/>
                      <a:pt x="737" y="663"/>
                      <a:pt x="693" y="679"/>
                    </a:cubicBezTo>
                    <a:cubicBezTo>
                      <a:pt x="735" y="649"/>
                      <a:pt x="774" y="622"/>
                      <a:pt x="818" y="595"/>
                    </a:cubicBezTo>
                    <a:cubicBezTo>
                      <a:pt x="807" y="590"/>
                      <a:pt x="785" y="591"/>
                      <a:pt x="785" y="579"/>
                    </a:cubicBezTo>
                    <a:cubicBezTo>
                      <a:pt x="785" y="553"/>
                      <a:pt x="849" y="547"/>
                      <a:pt x="860" y="545"/>
                    </a:cubicBezTo>
                    <a:cubicBezTo>
                      <a:pt x="805" y="490"/>
                      <a:pt x="757" y="499"/>
                      <a:pt x="919" y="512"/>
                    </a:cubicBezTo>
                    <a:cubicBezTo>
                      <a:pt x="854" y="469"/>
                      <a:pt x="911" y="516"/>
                      <a:pt x="919" y="487"/>
                    </a:cubicBezTo>
                    <a:cubicBezTo>
                      <a:pt x="922" y="477"/>
                      <a:pt x="908" y="470"/>
                      <a:pt x="902" y="462"/>
                    </a:cubicBezTo>
                    <a:cubicBezTo>
                      <a:pt x="910" y="459"/>
                      <a:pt x="918" y="453"/>
                      <a:pt x="927" y="453"/>
                    </a:cubicBezTo>
                    <a:cubicBezTo>
                      <a:pt x="944" y="453"/>
                      <a:pt x="961" y="467"/>
                      <a:pt x="977" y="462"/>
                    </a:cubicBezTo>
                    <a:cubicBezTo>
                      <a:pt x="987" y="459"/>
                      <a:pt x="960" y="451"/>
                      <a:pt x="952" y="445"/>
                    </a:cubicBezTo>
                    <a:cubicBezTo>
                      <a:pt x="943" y="437"/>
                      <a:pt x="935" y="428"/>
                      <a:pt x="927" y="420"/>
                    </a:cubicBezTo>
                    <a:cubicBezTo>
                      <a:pt x="949" y="417"/>
                      <a:pt x="974" y="423"/>
                      <a:pt x="994" y="412"/>
                    </a:cubicBezTo>
                    <a:cubicBezTo>
                      <a:pt x="1004" y="406"/>
                      <a:pt x="995" y="387"/>
                      <a:pt x="1002" y="378"/>
                    </a:cubicBezTo>
                    <a:cubicBezTo>
                      <a:pt x="1016" y="360"/>
                      <a:pt x="1046" y="366"/>
                      <a:pt x="1069" y="361"/>
                    </a:cubicBezTo>
                    <a:cubicBezTo>
                      <a:pt x="1107" y="304"/>
                      <a:pt x="1121" y="317"/>
                      <a:pt x="1077" y="303"/>
                    </a:cubicBezTo>
                    <a:cubicBezTo>
                      <a:pt x="1057" y="309"/>
                      <a:pt x="1013" y="322"/>
                      <a:pt x="1094" y="303"/>
                    </a:cubicBezTo>
                    <a:cubicBezTo>
                      <a:pt x="1114" y="298"/>
                      <a:pt x="1133" y="291"/>
                      <a:pt x="1152" y="286"/>
                    </a:cubicBezTo>
                    <a:cubicBezTo>
                      <a:pt x="1148" y="283"/>
                      <a:pt x="1098" y="254"/>
                      <a:pt x="1102" y="245"/>
                    </a:cubicBezTo>
                    <a:cubicBezTo>
                      <a:pt x="1108" y="232"/>
                      <a:pt x="1130" y="239"/>
                      <a:pt x="1144" y="236"/>
                    </a:cubicBezTo>
                    <a:cubicBezTo>
                      <a:pt x="1163" y="239"/>
                      <a:pt x="1183" y="241"/>
                      <a:pt x="1202" y="245"/>
                    </a:cubicBezTo>
                    <a:cubicBezTo>
                      <a:pt x="1211" y="247"/>
                      <a:pt x="1233" y="259"/>
                      <a:pt x="1227" y="253"/>
                    </a:cubicBezTo>
                    <a:cubicBezTo>
                      <a:pt x="1209" y="234"/>
                      <a:pt x="1183" y="226"/>
                      <a:pt x="1161" y="211"/>
                    </a:cubicBezTo>
                    <a:cubicBezTo>
                      <a:pt x="1189" y="202"/>
                      <a:pt x="1296" y="211"/>
                      <a:pt x="1227" y="186"/>
                    </a:cubicBezTo>
                    <a:cubicBezTo>
                      <a:pt x="1238" y="180"/>
                      <a:pt x="1258" y="181"/>
                      <a:pt x="1261" y="169"/>
                    </a:cubicBezTo>
                    <a:cubicBezTo>
                      <a:pt x="1264" y="159"/>
                      <a:pt x="1226" y="156"/>
                      <a:pt x="1236" y="153"/>
                    </a:cubicBezTo>
                    <a:cubicBezTo>
                      <a:pt x="1274" y="143"/>
                      <a:pt x="1314" y="147"/>
                      <a:pt x="1353" y="144"/>
                    </a:cubicBezTo>
                    <a:cubicBezTo>
                      <a:pt x="1313" y="118"/>
                      <a:pt x="1316" y="100"/>
                      <a:pt x="1361" y="86"/>
                    </a:cubicBezTo>
                    <a:cubicBezTo>
                      <a:pt x="1333" y="0"/>
                      <a:pt x="1289" y="107"/>
                      <a:pt x="1269" y="136"/>
                    </a:cubicBezTo>
                    <a:cubicBezTo>
                      <a:pt x="1263" y="144"/>
                      <a:pt x="1285" y="124"/>
                      <a:pt x="1294" y="119"/>
                    </a:cubicBezTo>
                    <a:cubicBezTo>
                      <a:pt x="1302" y="115"/>
                      <a:pt x="1311" y="114"/>
                      <a:pt x="1319" y="111"/>
                    </a:cubicBezTo>
                    <a:cubicBezTo>
                      <a:pt x="1339" y="97"/>
                      <a:pt x="1358" y="83"/>
                      <a:pt x="1378" y="69"/>
                    </a:cubicBezTo>
                    <a:cubicBezTo>
                      <a:pt x="1385" y="64"/>
                      <a:pt x="1361" y="74"/>
                      <a:pt x="1353" y="78"/>
                    </a:cubicBezTo>
                    <a:cubicBezTo>
                      <a:pt x="1338" y="85"/>
                      <a:pt x="1324" y="93"/>
                      <a:pt x="1311" y="103"/>
                    </a:cubicBezTo>
                    <a:cubicBezTo>
                      <a:pt x="1222" y="171"/>
                      <a:pt x="1316" y="105"/>
                      <a:pt x="1261" y="161"/>
                    </a:cubicBezTo>
                    <a:cubicBezTo>
                      <a:pt x="1254" y="168"/>
                      <a:pt x="1243" y="171"/>
                      <a:pt x="1236" y="178"/>
                    </a:cubicBezTo>
                    <a:cubicBezTo>
                      <a:pt x="1226" y="188"/>
                      <a:pt x="1219" y="200"/>
                      <a:pt x="1211" y="211"/>
                    </a:cubicBezTo>
                    <a:cubicBezTo>
                      <a:pt x="1199" y="258"/>
                      <a:pt x="1157" y="280"/>
                      <a:pt x="1136" y="328"/>
                    </a:cubicBezTo>
                    <a:cubicBezTo>
                      <a:pt x="1132" y="336"/>
                      <a:pt x="1131" y="345"/>
                      <a:pt x="1127" y="353"/>
                    </a:cubicBezTo>
                    <a:cubicBezTo>
                      <a:pt x="1123" y="362"/>
                      <a:pt x="1111" y="388"/>
                      <a:pt x="1111" y="378"/>
                    </a:cubicBezTo>
                    <a:cubicBezTo>
                      <a:pt x="1111" y="361"/>
                      <a:pt x="1121" y="344"/>
                      <a:pt x="1127" y="328"/>
                    </a:cubicBezTo>
                    <a:cubicBezTo>
                      <a:pt x="1130" y="320"/>
                      <a:pt x="1144" y="299"/>
                      <a:pt x="1136" y="303"/>
                    </a:cubicBezTo>
                    <a:cubicBezTo>
                      <a:pt x="1082" y="326"/>
                      <a:pt x="1049" y="381"/>
                      <a:pt x="1010" y="420"/>
                    </a:cubicBezTo>
                    <a:cubicBezTo>
                      <a:pt x="996" y="464"/>
                      <a:pt x="1009" y="430"/>
                      <a:pt x="977" y="487"/>
                    </a:cubicBezTo>
                    <a:cubicBezTo>
                      <a:pt x="971" y="498"/>
                      <a:pt x="965" y="509"/>
                      <a:pt x="960" y="520"/>
                    </a:cubicBezTo>
                    <a:cubicBezTo>
                      <a:pt x="957" y="528"/>
                      <a:pt x="952" y="554"/>
                      <a:pt x="952" y="545"/>
                    </a:cubicBezTo>
                    <a:cubicBezTo>
                      <a:pt x="952" y="506"/>
                      <a:pt x="970" y="455"/>
                      <a:pt x="985" y="420"/>
                    </a:cubicBezTo>
                    <a:cubicBezTo>
                      <a:pt x="990" y="409"/>
                      <a:pt x="1007" y="398"/>
                      <a:pt x="1002" y="387"/>
                    </a:cubicBezTo>
                    <a:cubicBezTo>
                      <a:pt x="998" y="378"/>
                      <a:pt x="985" y="398"/>
                      <a:pt x="977" y="403"/>
                    </a:cubicBezTo>
                    <a:cubicBezTo>
                      <a:pt x="955" y="471"/>
                      <a:pt x="987" y="378"/>
                      <a:pt x="919" y="512"/>
                    </a:cubicBezTo>
                    <a:cubicBezTo>
                      <a:pt x="897" y="555"/>
                      <a:pt x="878" y="597"/>
                      <a:pt x="852" y="637"/>
                    </a:cubicBezTo>
                    <a:cubicBezTo>
                      <a:pt x="849" y="654"/>
                      <a:pt x="831" y="675"/>
                      <a:pt x="843" y="687"/>
                    </a:cubicBezTo>
                    <a:cubicBezTo>
                      <a:pt x="854" y="698"/>
                      <a:pt x="854" y="659"/>
                      <a:pt x="860" y="645"/>
                    </a:cubicBezTo>
                    <a:cubicBezTo>
                      <a:pt x="914" y="526"/>
                      <a:pt x="844" y="684"/>
                      <a:pt x="893" y="587"/>
                    </a:cubicBezTo>
                    <a:cubicBezTo>
                      <a:pt x="897" y="579"/>
                      <a:pt x="911" y="562"/>
                      <a:pt x="902" y="562"/>
                    </a:cubicBezTo>
                    <a:cubicBezTo>
                      <a:pt x="892" y="562"/>
                      <a:pt x="892" y="580"/>
                      <a:pt x="885" y="587"/>
                    </a:cubicBezTo>
                    <a:cubicBezTo>
                      <a:pt x="878" y="594"/>
                      <a:pt x="868" y="598"/>
                      <a:pt x="860" y="604"/>
                    </a:cubicBezTo>
                    <a:cubicBezTo>
                      <a:pt x="814" y="695"/>
                      <a:pt x="827" y="657"/>
                      <a:pt x="810" y="712"/>
                    </a:cubicBezTo>
                    <a:cubicBezTo>
                      <a:pt x="801" y="683"/>
                      <a:pt x="809" y="693"/>
                      <a:pt x="793" y="67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>
                <a:off x="6922440" y="2016000"/>
                <a:ext cx="2419560" cy="556920"/>
              </a:xfrm>
              <a:custGeom>
                <a:avLst/>
                <a:gdLst/>
                <a:ahLst/>
                <a:rect l="l" t="t" r="r" b="b"/>
                <a:pathLst>
                  <a:path w="1408" h="351">
                    <a:moveTo>
                      <a:pt x="0" y="167"/>
                    </a:moveTo>
                    <a:cubicBezTo>
                      <a:pt x="22" y="170"/>
                      <a:pt x="44" y="172"/>
                      <a:pt x="66" y="176"/>
                    </a:cubicBezTo>
                    <a:cubicBezTo>
                      <a:pt x="95" y="181"/>
                      <a:pt x="112" y="200"/>
                      <a:pt x="58" y="159"/>
                    </a:cubicBezTo>
                    <a:cubicBezTo>
                      <a:pt x="69" y="156"/>
                      <a:pt x="80" y="151"/>
                      <a:pt x="91" y="151"/>
                    </a:cubicBezTo>
                    <a:cubicBezTo>
                      <a:pt x="103" y="151"/>
                      <a:pt x="125" y="171"/>
                      <a:pt x="125" y="159"/>
                    </a:cubicBezTo>
                    <a:cubicBezTo>
                      <a:pt x="125" y="146"/>
                      <a:pt x="102" y="148"/>
                      <a:pt x="91" y="142"/>
                    </a:cubicBezTo>
                    <a:cubicBezTo>
                      <a:pt x="82" y="137"/>
                      <a:pt x="56" y="126"/>
                      <a:pt x="66" y="126"/>
                    </a:cubicBezTo>
                    <a:cubicBezTo>
                      <a:pt x="86" y="126"/>
                      <a:pt x="105" y="136"/>
                      <a:pt x="125" y="142"/>
                    </a:cubicBezTo>
                    <a:cubicBezTo>
                      <a:pt x="133" y="145"/>
                      <a:pt x="142" y="148"/>
                      <a:pt x="150" y="151"/>
                    </a:cubicBezTo>
                    <a:cubicBezTo>
                      <a:pt x="144" y="143"/>
                      <a:pt x="131" y="136"/>
                      <a:pt x="133" y="126"/>
                    </a:cubicBezTo>
                    <a:cubicBezTo>
                      <a:pt x="140" y="88"/>
                      <a:pt x="194" y="124"/>
                      <a:pt x="200" y="126"/>
                    </a:cubicBezTo>
                    <a:cubicBezTo>
                      <a:pt x="194" y="115"/>
                      <a:pt x="174" y="101"/>
                      <a:pt x="183" y="92"/>
                    </a:cubicBezTo>
                    <a:cubicBezTo>
                      <a:pt x="193" y="82"/>
                      <a:pt x="220" y="113"/>
                      <a:pt x="225" y="100"/>
                    </a:cubicBezTo>
                    <a:cubicBezTo>
                      <a:pt x="237" y="68"/>
                      <a:pt x="128" y="55"/>
                      <a:pt x="233" y="75"/>
                    </a:cubicBezTo>
                    <a:cubicBezTo>
                      <a:pt x="222" y="67"/>
                      <a:pt x="203" y="64"/>
                      <a:pt x="200" y="50"/>
                    </a:cubicBezTo>
                    <a:cubicBezTo>
                      <a:pt x="198" y="40"/>
                      <a:pt x="215" y="34"/>
                      <a:pt x="225" y="34"/>
                    </a:cubicBezTo>
                    <a:cubicBezTo>
                      <a:pt x="235" y="34"/>
                      <a:pt x="250" y="60"/>
                      <a:pt x="250" y="50"/>
                    </a:cubicBezTo>
                    <a:cubicBezTo>
                      <a:pt x="250" y="38"/>
                      <a:pt x="213" y="25"/>
                      <a:pt x="225" y="25"/>
                    </a:cubicBezTo>
                    <a:cubicBezTo>
                      <a:pt x="240" y="25"/>
                      <a:pt x="304" y="49"/>
                      <a:pt x="333" y="59"/>
                    </a:cubicBezTo>
                    <a:cubicBezTo>
                      <a:pt x="347" y="70"/>
                      <a:pt x="360" y="82"/>
                      <a:pt x="375" y="92"/>
                    </a:cubicBezTo>
                    <a:cubicBezTo>
                      <a:pt x="388" y="101"/>
                      <a:pt x="417" y="117"/>
                      <a:pt x="417" y="117"/>
                    </a:cubicBezTo>
                    <a:cubicBezTo>
                      <a:pt x="401" y="67"/>
                      <a:pt x="422" y="114"/>
                      <a:pt x="367" y="67"/>
                    </a:cubicBezTo>
                    <a:cubicBezTo>
                      <a:pt x="359" y="60"/>
                      <a:pt x="341" y="46"/>
                      <a:pt x="350" y="42"/>
                    </a:cubicBezTo>
                    <a:cubicBezTo>
                      <a:pt x="361" y="37"/>
                      <a:pt x="373" y="53"/>
                      <a:pt x="384" y="59"/>
                    </a:cubicBezTo>
                    <a:cubicBezTo>
                      <a:pt x="430" y="84"/>
                      <a:pt x="387" y="70"/>
                      <a:pt x="450" y="84"/>
                    </a:cubicBezTo>
                    <a:cubicBezTo>
                      <a:pt x="470" y="103"/>
                      <a:pt x="489" y="123"/>
                      <a:pt x="509" y="142"/>
                    </a:cubicBezTo>
                    <a:cubicBezTo>
                      <a:pt x="517" y="150"/>
                      <a:pt x="494" y="124"/>
                      <a:pt x="484" y="117"/>
                    </a:cubicBezTo>
                    <a:cubicBezTo>
                      <a:pt x="452" y="95"/>
                      <a:pt x="415" y="83"/>
                      <a:pt x="384" y="59"/>
                    </a:cubicBezTo>
                    <a:cubicBezTo>
                      <a:pt x="375" y="52"/>
                      <a:pt x="348" y="37"/>
                      <a:pt x="359" y="34"/>
                    </a:cubicBezTo>
                    <a:cubicBezTo>
                      <a:pt x="378" y="29"/>
                      <a:pt x="398" y="44"/>
                      <a:pt x="417" y="50"/>
                    </a:cubicBezTo>
                    <a:cubicBezTo>
                      <a:pt x="451" y="61"/>
                      <a:pt x="484" y="73"/>
                      <a:pt x="517" y="84"/>
                    </a:cubicBezTo>
                    <a:cubicBezTo>
                      <a:pt x="529" y="88"/>
                      <a:pt x="551" y="87"/>
                      <a:pt x="551" y="100"/>
                    </a:cubicBezTo>
                    <a:cubicBezTo>
                      <a:pt x="551" y="112"/>
                      <a:pt x="528" y="95"/>
                      <a:pt x="517" y="92"/>
                    </a:cubicBezTo>
                    <a:cubicBezTo>
                      <a:pt x="482" y="69"/>
                      <a:pt x="440" y="47"/>
                      <a:pt x="400" y="34"/>
                    </a:cubicBezTo>
                    <a:cubicBezTo>
                      <a:pt x="353" y="2"/>
                      <a:pt x="269" y="18"/>
                      <a:pt x="384" y="0"/>
                    </a:cubicBezTo>
                    <a:cubicBezTo>
                      <a:pt x="417" y="6"/>
                      <a:pt x="451" y="10"/>
                      <a:pt x="484" y="17"/>
                    </a:cubicBezTo>
                    <a:cubicBezTo>
                      <a:pt x="501" y="21"/>
                      <a:pt x="518" y="27"/>
                      <a:pt x="534" y="34"/>
                    </a:cubicBezTo>
                    <a:cubicBezTo>
                      <a:pt x="545" y="39"/>
                      <a:pt x="567" y="38"/>
                      <a:pt x="567" y="50"/>
                    </a:cubicBezTo>
                    <a:cubicBezTo>
                      <a:pt x="567" y="61"/>
                      <a:pt x="545" y="45"/>
                      <a:pt x="534" y="42"/>
                    </a:cubicBezTo>
                    <a:cubicBezTo>
                      <a:pt x="514" y="32"/>
                      <a:pt x="421" y="7"/>
                      <a:pt x="517" y="25"/>
                    </a:cubicBezTo>
                    <a:cubicBezTo>
                      <a:pt x="563" y="48"/>
                      <a:pt x="561" y="38"/>
                      <a:pt x="592" y="75"/>
                    </a:cubicBezTo>
                    <a:cubicBezTo>
                      <a:pt x="599" y="84"/>
                      <a:pt x="617" y="88"/>
                      <a:pt x="617" y="100"/>
                    </a:cubicBezTo>
                    <a:cubicBezTo>
                      <a:pt x="617" y="110"/>
                      <a:pt x="601" y="88"/>
                      <a:pt x="592" y="84"/>
                    </a:cubicBezTo>
                    <a:cubicBezTo>
                      <a:pt x="584" y="80"/>
                      <a:pt x="575" y="78"/>
                      <a:pt x="567" y="75"/>
                    </a:cubicBezTo>
                    <a:cubicBezTo>
                      <a:pt x="656" y="61"/>
                      <a:pt x="581" y="63"/>
                      <a:pt x="684" y="100"/>
                    </a:cubicBezTo>
                    <a:cubicBezTo>
                      <a:pt x="692" y="103"/>
                      <a:pt x="701" y="105"/>
                      <a:pt x="709" y="109"/>
                    </a:cubicBezTo>
                    <a:cubicBezTo>
                      <a:pt x="718" y="114"/>
                      <a:pt x="734" y="136"/>
                      <a:pt x="734" y="126"/>
                    </a:cubicBezTo>
                    <a:cubicBezTo>
                      <a:pt x="734" y="114"/>
                      <a:pt x="719" y="107"/>
                      <a:pt x="709" y="100"/>
                    </a:cubicBezTo>
                    <a:cubicBezTo>
                      <a:pt x="651" y="58"/>
                      <a:pt x="580" y="39"/>
                      <a:pt x="726" y="75"/>
                    </a:cubicBezTo>
                    <a:cubicBezTo>
                      <a:pt x="743" y="79"/>
                      <a:pt x="759" y="86"/>
                      <a:pt x="776" y="92"/>
                    </a:cubicBezTo>
                    <a:cubicBezTo>
                      <a:pt x="829" y="145"/>
                      <a:pt x="780" y="101"/>
                      <a:pt x="751" y="92"/>
                    </a:cubicBezTo>
                    <a:cubicBezTo>
                      <a:pt x="743" y="86"/>
                      <a:pt x="735" y="80"/>
                      <a:pt x="726" y="75"/>
                    </a:cubicBezTo>
                    <a:cubicBezTo>
                      <a:pt x="715" y="69"/>
                      <a:pt x="695" y="71"/>
                      <a:pt x="692" y="59"/>
                    </a:cubicBezTo>
                    <a:cubicBezTo>
                      <a:pt x="689" y="49"/>
                      <a:pt x="709" y="48"/>
                      <a:pt x="717" y="42"/>
                    </a:cubicBezTo>
                    <a:cubicBezTo>
                      <a:pt x="773" y="55"/>
                      <a:pt x="831" y="85"/>
                      <a:pt x="884" y="109"/>
                    </a:cubicBezTo>
                    <a:cubicBezTo>
                      <a:pt x="901" y="117"/>
                      <a:pt x="923" y="142"/>
                      <a:pt x="943" y="142"/>
                    </a:cubicBezTo>
                    <a:cubicBezTo>
                      <a:pt x="953" y="142"/>
                      <a:pt x="926" y="131"/>
                      <a:pt x="918" y="126"/>
                    </a:cubicBezTo>
                    <a:cubicBezTo>
                      <a:pt x="912" y="117"/>
                      <a:pt x="907" y="109"/>
                      <a:pt x="901" y="100"/>
                    </a:cubicBezTo>
                    <a:cubicBezTo>
                      <a:pt x="893" y="87"/>
                      <a:pt x="929" y="111"/>
                      <a:pt x="943" y="117"/>
                    </a:cubicBezTo>
                    <a:cubicBezTo>
                      <a:pt x="956" y="122"/>
                      <a:pt x="965" y="134"/>
                      <a:pt x="976" y="142"/>
                    </a:cubicBezTo>
                    <a:cubicBezTo>
                      <a:pt x="990" y="151"/>
                      <a:pt x="1004" y="158"/>
                      <a:pt x="1018" y="167"/>
                    </a:cubicBezTo>
                    <a:cubicBezTo>
                      <a:pt x="1035" y="178"/>
                      <a:pt x="1051" y="190"/>
                      <a:pt x="1068" y="201"/>
                    </a:cubicBezTo>
                    <a:cubicBezTo>
                      <a:pt x="1081" y="210"/>
                      <a:pt x="1047" y="177"/>
                      <a:pt x="1035" y="167"/>
                    </a:cubicBezTo>
                    <a:cubicBezTo>
                      <a:pt x="1019" y="154"/>
                      <a:pt x="1002" y="145"/>
                      <a:pt x="985" y="134"/>
                    </a:cubicBezTo>
                    <a:cubicBezTo>
                      <a:pt x="966" y="121"/>
                      <a:pt x="1029" y="144"/>
                      <a:pt x="1051" y="151"/>
                    </a:cubicBezTo>
                    <a:cubicBezTo>
                      <a:pt x="1065" y="155"/>
                      <a:pt x="1080" y="160"/>
                      <a:pt x="1093" y="167"/>
                    </a:cubicBezTo>
                    <a:cubicBezTo>
                      <a:pt x="1100" y="170"/>
                      <a:pt x="1149" y="199"/>
                      <a:pt x="1160" y="209"/>
                    </a:cubicBezTo>
                    <a:cubicBezTo>
                      <a:pt x="1169" y="217"/>
                      <a:pt x="1173" y="234"/>
                      <a:pt x="1185" y="234"/>
                    </a:cubicBezTo>
                    <a:cubicBezTo>
                      <a:pt x="1195" y="234"/>
                      <a:pt x="1176" y="215"/>
                      <a:pt x="1168" y="209"/>
                    </a:cubicBezTo>
                    <a:cubicBezTo>
                      <a:pt x="1161" y="204"/>
                      <a:pt x="1151" y="204"/>
                      <a:pt x="1143" y="201"/>
                    </a:cubicBezTo>
                    <a:cubicBezTo>
                      <a:pt x="1098" y="156"/>
                      <a:pt x="1139" y="190"/>
                      <a:pt x="1093" y="167"/>
                    </a:cubicBezTo>
                    <a:cubicBezTo>
                      <a:pt x="1084" y="163"/>
                      <a:pt x="1061" y="158"/>
                      <a:pt x="1068" y="151"/>
                    </a:cubicBezTo>
                    <a:cubicBezTo>
                      <a:pt x="1076" y="143"/>
                      <a:pt x="1090" y="157"/>
                      <a:pt x="1101" y="159"/>
                    </a:cubicBezTo>
                    <a:cubicBezTo>
                      <a:pt x="1115" y="162"/>
                      <a:pt x="1129" y="164"/>
                      <a:pt x="1143" y="167"/>
                    </a:cubicBezTo>
                    <a:cubicBezTo>
                      <a:pt x="1172" y="187"/>
                      <a:pt x="1230" y="223"/>
                      <a:pt x="1160" y="184"/>
                    </a:cubicBezTo>
                    <a:cubicBezTo>
                      <a:pt x="1103" y="152"/>
                      <a:pt x="1138" y="164"/>
                      <a:pt x="1085" y="151"/>
                    </a:cubicBezTo>
                    <a:cubicBezTo>
                      <a:pt x="1026" y="122"/>
                      <a:pt x="1077" y="143"/>
                      <a:pt x="1010" y="126"/>
                    </a:cubicBezTo>
                    <a:cubicBezTo>
                      <a:pt x="1001" y="124"/>
                      <a:pt x="993" y="120"/>
                      <a:pt x="985" y="117"/>
                    </a:cubicBezTo>
                    <a:cubicBezTo>
                      <a:pt x="977" y="114"/>
                      <a:pt x="951" y="109"/>
                      <a:pt x="960" y="109"/>
                    </a:cubicBezTo>
                    <a:cubicBezTo>
                      <a:pt x="999" y="109"/>
                      <a:pt x="1060" y="120"/>
                      <a:pt x="1101" y="126"/>
                    </a:cubicBezTo>
                    <a:cubicBezTo>
                      <a:pt x="1137" y="137"/>
                      <a:pt x="1177" y="140"/>
                      <a:pt x="1210" y="159"/>
                    </a:cubicBezTo>
                    <a:cubicBezTo>
                      <a:pt x="1244" y="179"/>
                      <a:pt x="1273" y="205"/>
                      <a:pt x="1310" y="217"/>
                    </a:cubicBezTo>
                    <a:cubicBezTo>
                      <a:pt x="1313" y="225"/>
                      <a:pt x="1325" y="236"/>
                      <a:pt x="1319" y="242"/>
                    </a:cubicBezTo>
                    <a:cubicBezTo>
                      <a:pt x="1313" y="248"/>
                      <a:pt x="1301" y="238"/>
                      <a:pt x="1293" y="234"/>
                    </a:cubicBezTo>
                    <a:cubicBezTo>
                      <a:pt x="1275" y="225"/>
                      <a:pt x="1243" y="201"/>
                      <a:pt x="1243" y="201"/>
                    </a:cubicBezTo>
                    <a:cubicBezTo>
                      <a:pt x="1266" y="264"/>
                      <a:pt x="1231" y="178"/>
                      <a:pt x="1285" y="259"/>
                    </a:cubicBezTo>
                    <a:cubicBezTo>
                      <a:pt x="1299" y="280"/>
                      <a:pt x="1308" y="304"/>
                      <a:pt x="1319" y="326"/>
                    </a:cubicBezTo>
                    <a:cubicBezTo>
                      <a:pt x="1323" y="334"/>
                      <a:pt x="1316" y="308"/>
                      <a:pt x="1310" y="301"/>
                    </a:cubicBezTo>
                    <a:cubicBezTo>
                      <a:pt x="1302" y="291"/>
                      <a:pt x="1261" y="271"/>
                      <a:pt x="1252" y="267"/>
                    </a:cubicBezTo>
                    <a:cubicBezTo>
                      <a:pt x="1206" y="199"/>
                      <a:pt x="1291" y="266"/>
                      <a:pt x="1310" y="276"/>
                    </a:cubicBezTo>
                    <a:cubicBezTo>
                      <a:pt x="1321" y="291"/>
                      <a:pt x="1389" y="351"/>
                      <a:pt x="1327" y="309"/>
                    </a:cubicBezTo>
                    <a:cubicBezTo>
                      <a:pt x="1305" y="239"/>
                      <a:pt x="1363" y="323"/>
                      <a:pt x="1377" y="334"/>
                    </a:cubicBezTo>
                    <a:cubicBezTo>
                      <a:pt x="1384" y="340"/>
                      <a:pt x="1396" y="349"/>
                      <a:pt x="1402" y="343"/>
                    </a:cubicBezTo>
                    <a:cubicBezTo>
                      <a:pt x="1408" y="337"/>
                      <a:pt x="1391" y="332"/>
                      <a:pt x="1385" y="32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71"/>
              <p:cNvSpPr/>
              <p:nvPr/>
            </p:nvSpPr>
            <p:spPr>
              <a:xfrm>
                <a:off x="4841280" y="3959280"/>
                <a:ext cx="976320" cy="1083600"/>
              </a:xfrm>
              <a:custGeom>
                <a:avLst/>
                <a:gdLst/>
                <a:ahLst/>
                <a:rect l="l" t="t" r="r" b="b"/>
                <a:pathLst>
                  <a:path w="568" h="683">
                    <a:moveTo>
                      <a:pt x="0" y="3"/>
                    </a:moveTo>
                    <a:cubicBezTo>
                      <a:pt x="45" y="6"/>
                      <a:pt x="91" y="0"/>
                      <a:pt x="134" y="12"/>
                    </a:cubicBezTo>
                    <a:cubicBezTo>
                      <a:pt x="148" y="16"/>
                      <a:pt x="81" y="17"/>
                      <a:pt x="92" y="28"/>
                    </a:cubicBezTo>
                    <a:cubicBezTo>
                      <a:pt x="108" y="44"/>
                      <a:pt x="137" y="34"/>
                      <a:pt x="159" y="37"/>
                    </a:cubicBezTo>
                    <a:cubicBezTo>
                      <a:pt x="171" y="41"/>
                      <a:pt x="223" y="57"/>
                      <a:pt x="226" y="62"/>
                    </a:cubicBezTo>
                    <a:cubicBezTo>
                      <a:pt x="231" y="70"/>
                      <a:pt x="209" y="67"/>
                      <a:pt x="200" y="70"/>
                    </a:cubicBezTo>
                    <a:cubicBezTo>
                      <a:pt x="189" y="73"/>
                      <a:pt x="178" y="76"/>
                      <a:pt x="167" y="79"/>
                    </a:cubicBezTo>
                    <a:cubicBezTo>
                      <a:pt x="251" y="99"/>
                      <a:pt x="167" y="71"/>
                      <a:pt x="167" y="104"/>
                    </a:cubicBezTo>
                    <a:cubicBezTo>
                      <a:pt x="167" y="116"/>
                      <a:pt x="189" y="116"/>
                      <a:pt x="200" y="120"/>
                    </a:cubicBezTo>
                    <a:cubicBezTo>
                      <a:pt x="217" y="127"/>
                      <a:pt x="251" y="137"/>
                      <a:pt x="251" y="137"/>
                    </a:cubicBezTo>
                    <a:cubicBezTo>
                      <a:pt x="243" y="140"/>
                      <a:pt x="220" y="139"/>
                      <a:pt x="226" y="145"/>
                    </a:cubicBezTo>
                    <a:cubicBezTo>
                      <a:pt x="243" y="163"/>
                      <a:pt x="270" y="168"/>
                      <a:pt x="292" y="179"/>
                    </a:cubicBezTo>
                    <a:cubicBezTo>
                      <a:pt x="303" y="185"/>
                      <a:pt x="326" y="195"/>
                      <a:pt x="326" y="195"/>
                    </a:cubicBezTo>
                    <a:cubicBezTo>
                      <a:pt x="293" y="204"/>
                      <a:pt x="257" y="200"/>
                      <a:pt x="226" y="212"/>
                    </a:cubicBezTo>
                    <a:cubicBezTo>
                      <a:pt x="218" y="215"/>
                      <a:pt x="243" y="217"/>
                      <a:pt x="251" y="220"/>
                    </a:cubicBezTo>
                    <a:cubicBezTo>
                      <a:pt x="262" y="225"/>
                      <a:pt x="273" y="231"/>
                      <a:pt x="284" y="237"/>
                    </a:cubicBezTo>
                    <a:cubicBezTo>
                      <a:pt x="276" y="243"/>
                      <a:pt x="269" y="251"/>
                      <a:pt x="259" y="254"/>
                    </a:cubicBezTo>
                    <a:cubicBezTo>
                      <a:pt x="208" y="269"/>
                      <a:pt x="173" y="253"/>
                      <a:pt x="226" y="271"/>
                    </a:cubicBezTo>
                    <a:cubicBezTo>
                      <a:pt x="223" y="279"/>
                      <a:pt x="224" y="291"/>
                      <a:pt x="217" y="296"/>
                    </a:cubicBezTo>
                    <a:cubicBezTo>
                      <a:pt x="206" y="303"/>
                      <a:pt x="128" y="316"/>
                      <a:pt x="109" y="321"/>
                    </a:cubicBezTo>
                    <a:cubicBezTo>
                      <a:pt x="117" y="326"/>
                      <a:pt x="125" y="333"/>
                      <a:pt x="134" y="337"/>
                    </a:cubicBezTo>
                    <a:cubicBezTo>
                      <a:pt x="142" y="341"/>
                      <a:pt x="161" y="337"/>
                      <a:pt x="159" y="346"/>
                    </a:cubicBezTo>
                    <a:cubicBezTo>
                      <a:pt x="154" y="365"/>
                      <a:pt x="116" y="374"/>
                      <a:pt x="100" y="379"/>
                    </a:cubicBezTo>
                    <a:cubicBezTo>
                      <a:pt x="111" y="385"/>
                      <a:pt x="122" y="391"/>
                      <a:pt x="134" y="396"/>
                    </a:cubicBezTo>
                    <a:cubicBezTo>
                      <a:pt x="142" y="399"/>
                      <a:pt x="159" y="395"/>
                      <a:pt x="159" y="404"/>
                    </a:cubicBezTo>
                    <a:cubicBezTo>
                      <a:pt x="159" y="414"/>
                      <a:pt x="142" y="415"/>
                      <a:pt x="134" y="421"/>
                    </a:cubicBezTo>
                    <a:cubicBezTo>
                      <a:pt x="146" y="425"/>
                      <a:pt x="180" y="430"/>
                      <a:pt x="175" y="454"/>
                    </a:cubicBezTo>
                    <a:cubicBezTo>
                      <a:pt x="173" y="464"/>
                      <a:pt x="158" y="465"/>
                      <a:pt x="150" y="471"/>
                    </a:cubicBezTo>
                    <a:cubicBezTo>
                      <a:pt x="190" y="484"/>
                      <a:pt x="225" y="462"/>
                      <a:pt x="209" y="513"/>
                    </a:cubicBezTo>
                    <a:cubicBezTo>
                      <a:pt x="253" y="518"/>
                      <a:pt x="298" y="522"/>
                      <a:pt x="342" y="529"/>
                    </a:cubicBezTo>
                    <a:cubicBezTo>
                      <a:pt x="351" y="530"/>
                      <a:pt x="363" y="530"/>
                      <a:pt x="367" y="538"/>
                    </a:cubicBezTo>
                    <a:cubicBezTo>
                      <a:pt x="371" y="546"/>
                      <a:pt x="362" y="555"/>
                      <a:pt x="359" y="563"/>
                    </a:cubicBezTo>
                    <a:cubicBezTo>
                      <a:pt x="367" y="566"/>
                      <a:pt x="382" y="562"/>
                      <a:pt x="384" y="571"/>
                    </a:cubicBezTo>
                    <a:cubicBezTo>
                      <a:pt x="386" y="581"/>
                      <a:pt x="361" y="588"/>
                      <a:pt x="367" y="596"/>
                    </a:cubicBezTo>
                    <a:cubicBezTo>
                      <a:pt x="376" y="607"/>
                      <a:pt x="395" y="601"/>
                      <a:pt x="409" y="604"/>
                    </a:cubicBezTo>
                    <a:cubicBezTo>
                      <a:pt x="385" y="683"/>
                      <a:pt x="392" y="630"/>
                      <a:pt x="568" y="63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>
                <a:off x="5746320" y="2493720"/>
                <a:ext cx="2508120" cy="1193400"/>
              </a:xfrm>
              <a:custGeom>
                <a:avLst/>
                <a:gdLst/>
                <a:ahLst/>
                <a:rect l="l" t="t" r="r" b="b"/>
                <a:pathLst>
                  <a:path w="1459" h="752">
                    <a:moveTo>
                      <a:pt x="276" y="559"/>
                    </a:moveTo>
                    <a:cubicBezTo>
                      <a:pt x="300" y="510"/>
                      <a:pt x="326" y="485"/>
                      <a:pt x="367" y="451"/>
                    </a:cubicBezTo>
                    <a:cubicBezTo>
                      <a:pt x="402" y="422"/>
                      <a:pt x="388" y="422"/>
                      <a:pt x="426" y="384"/>
                    </a:cubicBezTo>
                    <a:cubicBezTo>
                      <a:pt x="433" y="377"/>
                      <a:pt x="409" y="419"/>
                      <a:pt x="409" y="409"/>
                    </a:cubicBezTo>
                    <a:cubicBezTo>
                      <a:pt x="409" y="377"/>
                      <a:pt x="487" y="294"/>
                      <a:pt x="509" y="275"/>
                    </a:cubicBezTo>
                    <a:cubicBezTo>
                      <a:pt x="512" y="267"/>
                      <a:pt x="526" y="254"/>
                      <a:pt x="518" y="250"/>
                    </a:cubicBezTo>
                    <a:cubicBezTo>
                      <a:pt x="509" y="245"/>
                      <a:pt x="493" y="277"/>
                      <a:pt x="493" y="267"/>
                    </a:cubicBezTo>
                    <a:cubicBezTo>
                      <a:pt x="493" y="265"/>
                      <a:pt x="524" y="203"/>
                      <a:pt x="534" y="192"/>
                    </a:cubicBezTo>
                    <a:cubicBezTo>
                      <a:pt x="547" y="179"/>
                      <a:pt x="561" y="169"/>
                      <a:pt x="576" y="158"/>
                    </a:cubicBezTo>
                    <a:cubicBezTo>
                      <a:pt x="592" y="146"/>
                      <a:pt x="626" y="125"/>
                      <a:pt x="626" y="125"/>
                    </a:cubicBezTo>
                    <a:cubicBezTo>
                      <a:pt x="647" y="95"/>
                      <a:pt x="666" y="78"/>
                      <a:pt x="701" y="67"/>
                    </a:cubicBezTo>
                    <a:cubicBezTo>
                      <a:pt x="734" y="34"/>
                      <a:pt x="773" y="14"/>
                      <a:pt x="818" y="0"/>
                    </a:cubicBezTo>
                    <a:cubicBezTo>
                      <a:pt x="922" y="14"/>
                      <a:pt x="960" y="62"/>
                      <a:pt x="1035" y="125"/>
                    </a:cubicBezTo>
                    <a:cubicBezTo>
                      <a:pt x="1065" y="150"/>
                      <a:pt x="1103" y="161"/>
                      <a:pt x="1135" y="183"/>
                    </a:cubicBezTo>
                    <a:cubicBezTo>
                      <a:pt x="1220" y="243"/>
                      <a:pt x="1172" y="224"/>
                      <a:pt x="1227" y="242"/>
                    </a:cubicBezTo>
                    <a:cubicBezTo>
                      <a:pt x="1248" y="273"/>
                      <a:pt x="1275" y="349"/>
                      <a:pt x="1302" y="367"/>
                    </a:cubicBezTo>
                    <a:cubicBezTo>
                      <a:pt x="1326" y="384"/>
                      <a:pt x="1332" y="385"/>
                      <a:pt x="1352" y="409"/>
                    </a:cubicBezTo>
                    <a:cubicBezTo>
                      <a:pt x="1387" y="451"/>
                      <a:pt x="1348" y="420"/>
                      <a:pt x="1394" y="451"/>
                    </a:cubicBezTo>
                    <a:cubicBezTo>
                      <a:pt x="1413" y="479"/>
                      <a:pt x="1433" y="485"/>
                      <a:pt x="1444" y="517"/>
                    </a:cubicBezTo>
                    <a:cubicBezTo>
                      <a:pt x="1447" y="525"/>
                      <a:pt x="1459" y="536"/>
                      <a:pt x="1453" y="542"/>
                    </a:cubicBezTo>
                    <a:cubicBezTo>
                      <a:pt x="1447" y="548"/>
                      <a:pt x="1436" y="537"/>
                      <a:pt x="1428" y="534"/>
                    </a:cubicBezTo>
                    <a:cubicBezTo>
                      <a:pt x="1420" y="528"/>
                      <a:pt x="1411" y="523"/>
                      <a:pt x="1403" y="517"/>
                    </a:cubicBezTo>
                    <a:cubicBezTo>
                      <a:pt x="1394" y="509"/>
                      <a:pt x="1387" y="499"/>
                      <a:pt x="1377" y="492"/>
                    </a:cubicBezTo>
                    <a:cubicBezTo>
                      <a:pt x="1353" y="476"/>
                      <a:pt x="1321" y="468"/>
                      <a:pt x="1294" y="459"/>
                    </a:cubicBezTo>
                    <a:cubicBezTo>
                      <a:pt x="1282" y="451"/>
                      <a:pt x="1253" y="427"/>
                      <a:pt x="1236" y="434"/>
                    </a:cubicBezTo>
                    <a:cubicBezTo>
                      <a:pt x="1234" y="435"/>
                      <a:pt x="1219" y="483"/>
                      <a:pt x="1219" y="484"/>
                    </a:cubicBezTo>
                    <a:cubicBezTo>
                      <a:pt x="1173" y="452"/>
                      <a:pt x="1107" y="442"/>
                      <a:pt x="1052" y="434"/>
                    </a:cubicBezTo>
                    <a:cubicBezTo>
                      <a:pt x="964" y="398"/>
                      <a:pt x="971" y="410"/>
                      <a:pt x="843" y="417"/>
                    </a:cubicBezTo>
                    <a:cubicBezTo>
                      <a:pt x="835" y="423"/>
                      <a:pt x="825" y="427"/>
                      <a:pt x="818" y="434"/>
                    </a:cubicBezTo>
                    <a:cubicBezTo>
                      <a:pt x="794" y="458"/>
                      <a:pt x="806" y="475"/>
                      <a:pt x="793" y="434"/>
                    </a:cubicBezTo>
                    <a:cubicBezTo>
                      <a:pt x="779" y="437"/>
                      <a:pt x="764" y="436"/>
                      <a:pt x="751" y="442"/>
                    </a:cubicBezTo>
                    <a:cubicBezTo>
                      <a:pt x="740" y="447"/>
                      <a:pt x="736" y="460"/>
                      <a:pt x="726" y="467"/>
                    </a:cubicBezTo>
                    <a:cubicBezTo>
                      <a:pt x="722" y="470"/>
                      <a:pt x="680" y="483"/>
                      <a:pt x="676" y="484"/>
                    </a:cubicBezTo>
                    <a:cubicBezTo>
                      <a:pt x="665" y="481"/>
                      <a:pt x="650" y="485"/>
                      <a:pt x="643" y="476"/>
                    </a:cubicBezTo>
                    <a:cubicBezTo>
                      <a:pt x="604" y="421"/>
                      <a:pt x="671" y="417"/>
                      <a:pt x="601" y="434"/>
                    </a:cubicBezTo>
                    <a:cubicBezTo>
                      <a:pt x="569" y="466"/>
                      <a:pt x="536" y="498"/>
                      <a:pt x="509" y="534"/>
                    </a:cubicBezTo>
                    <a:cubicBezTo>
                      <a:pt x="477" y="575"/>
                      <a:pt x="469" y="597"/>
                      <a:pt x="426" y="626"/>
                    </a:cubicBezTo>
                    <a:cubicBezTo>
                      <a:pt x="397" y="668"/>
                      <a:pt x="350" y="718"/>
                      <a:pt x="301" y="734"/>
                    </a:cubicBezTo>
                    <a:cubicBezTo>
                      <a:pt x="293" y="729"/>
                      <a:pt x="286" y="720"/>
                      <a:pt x="276" y="718"/>
                    </a:cubicBezTo>
                    <a:cubicBezTo>
                      <a:pt x="236" y="712"/>
                      <a:pt x="260" y="751"/>
                      <a:pt x="242" y="701"/>
                    </a:cubicBezTo>
                    <a:cubicBezTo>
                      <a:pt x="177" y="707"/>
                      <a:pt x="149" y="712"/>
                      <a:pt x="92" y="726"/>
                    </a:cubicBezTo>
                    <a:cubicBezTo>
                      <a:pt x="54" y="752"/>
                      <a:pt x="46" y="752"/>
                      <a:pt x="0" y="743"/>
                    </a:cubicBezTo>
                    <a:cubicBezTo>
                      <a:pt x="40" y="716"/>
                      <a:pt x="79" y="683"/>
                      <a:pt x="125" y="668"/>
                    </a:cubicBezTo>
                    <a:cubicBezTo>
                      <a:pt x="197" y="619"/>
                      <a:pt x="106" y="678"/>
                      <a:pt x="175" y="643"/>
                    </a:cubicBezTo>
                    <a:cubicBezTo>
                      <a:pt x="204" y="629"/>
                      <a:pt x="224" y="602"/>
                      <a:pt x="251" y="584"/>
                    </a:cubicBezTo>
                    <a:cubicBezTo>
                      <a:pt x="271" y="553"/>
                      <a:pt x="276" y="487"/>
                      <a:pt x="276" y="559"/>
                    </a:cubicBezTo>
                    <a:close/>
                  </a:path>
                </a:pathLst>
              </a:custGeom>
              <a:solidFill>
                <a:srgbClr val="0070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>
                <a:off x="6181200" y="2388960"/>
                <a:ext cx="1889280" cy="1152360"/>
              </a:xfrm>
              <a:custGeom>
                <a:avLst/>
                <a:gdLst/>
                <a:ahLst/>
                <a:rect l="l" t="t" r="r" b="b"/>
                <a:pathLst>
                  <a:path w="1099" h="726">
                    <a:moveTo>
                      <a:pt x="5" y="684"/>
                    </a:moveTo>
                    <a:cubicBezTo>
                      <a:pt x="57" y="614"/>
                      <a:pt x="0" y="680"/>
                      <a:pt x="63" y="633"/>
                    </a:cubicBezTo>
                    <a:cubicBezTo>
                      <a:pt x="76" y="624"/>
                      <a:pt x="87" y="612"/>
                      <a:pt x="97" y="600"/>
                    </a:cubicBezTo>
                    <a:cubicBezTo>
                      <a:pt x="103" y="593"/>
                      <a:pt x="113" y="565"/>
                      <a:pt x="113" y="575"/>
                    </a:cubicBezTo>
                    <a:cubicBezTo>
                      <a:pt x="113" y="587"/>
                      <a:pt x="101" y="596"/>
                      <a:pt x="97" y="608"/>
                    </a:cubicBezTo>
                    <a:cubicBezTo>
                      <a:pt x="90" y="627"/>
                      <a:pt x="87" y="648"/>
                      <a:pt x="80" y="667"/>
                    </a:cubicBezTo>
                    <a:cubicBezTo>
                      <a:pt x="66" y="706"/>
                      <a:pt x="36" y="726"/>
                      <a:pt x="105" y="659"/>
                    </a:cubicBezTo>
                    <a:cubicBezTo>
                      <a:pt x="133" y="603"/>
                      <a:pt x="163" y="549"/>
                      <a:pt x="188" y="492"/>
                    </a:cubicBezTo>
                    <a:cubicBezTo>
                      <a:pt x="194" y="479"/>
                      <a:pt x="222" y="428"/>
                      <a:pt x="222" y="416"/>
                    </a:cubicBezTo>
                    <a:cubicBezTo>
                      <a:pt x="222" y="406"/>
                      <a:pt x="210" y="432"/>
                      <a:pt x="205" y="441"/>
                    </a:cubicBezTo>
                    <a:cubicBezTo>
                      <a:pt x="196" y="455"/>
                      <a:pt x="187" y="468"/>
                      <a:pt x="180" y="483"/>
                    </a:cubicBezTo>
                    <a:cubicBezTo>
                      <a:pt x="152" y="543"/>
                      <a:pt x="142" y="621"/>
                      <a:pt x="105" y="675"/>
                    </a:cubicBezTo>
                    <a:cubicBezTo>
                      <a:pt x="117" y="587"/>
                      <a:pt x="145" y="577"/>
                      <a:pt x="172" y="492"/>
                    </a:cubicBezTo>
                    <a:cubicBezTo>
                      <a:pt x="183" y="459"/>
                      <a:pt x="194" y="429"/>
                      <a:pt x="214" y="400"/>
                    </a:cubicBezTo>
                    <a:cubicBezTo>
                      <a:pt x="217" y="458"/>
                      <a:pt x="215" y="517"/>
                      <a:pt x="222" y="575"/>
                    </a:cubicBezTo>
                    <a:cubicBezTo>
                      <a:pt x="224" y="592"/>
                      <a:pt x="226" y="541"/>
                      <a:pt x="230" y="525"/>
                    </a:cubicBezTo>
                    <a:cubicBezTo>
                      <a:pt x="232" y="516"/>
                      <a:pt x="236" y="508"/>
                      <a:pt x="239" y="500"/>
                    </a:cubicBezTo>
                    <a:cubicBezTo>
                      <a:pt x="259" y="441"/>
                      <a:pt x="285" y="389"/>
                      <a:pt x="314" y="333"/>
                    </a:cubicBezTo>
                    <a:cubicBezTo>
                      <a:pt x="336" y="370"/>
                      <a:pt x="345" y="392"/>
                      <a:pt x="355" y="433"/>
                    </a:cubicBezTo>
                    <a:cubicBezTo>
                      <a:pt x="370" y="44"/>
                      <a:pt x="347" y="167"/>
                      <a:pt x="380" y="275"/>
                    </a:cubicBezTo>
                    <a:cubicBezTo>
                      <a:pt x="424" y="246"/>
                      <a:pt x="411" y="215"/>
                      <a:pt x="439" y="174"/>
                    </a:cubicBezTo>
                    <a:cubicBezTo>
                      <a:pt x="442" y="166"/>
                      <a:pt x="452" y="131"/>
                      <a:pt x="456" y="124"/>
                    </a:cubicBezTo>
                    <a:cubicBezTo>
                      <a:pt x="460" y="115"/>
                      <a:pt x="477" y="108"/>
                      <a:pt x="472" y="99"/>
                    </a:cubicBezTo>
                    <a:cubicBezTo>
                      <a:pt x="468" y="91"/>
                      <a:pt x="455" y="105"/>
                      <a:pt x="447" y="108"/>
                    </a:cubicBezTo>
                    <a:cubicBezTo>
                      <a:pt x="395" y="173"/>
                      <a:pt x="333" y="244"/>
                      <a:pt x="272" y="300"/>
                    </a:cubicBezTo>
                    <a:cubicBezTo>
                      <a:pt x="216" y="351"/>
                      <a:pt x="219" y="338"/>
                      <a:pt x="180" y="391"/>
                    </a:cubicBezTo>
                    <a:cubicBezTo>
                      <a:pt x="143" y="442"/>
                      <a:pt x="124" y="506"/>
                      <a:pt x="80" y="550"/>
                    </a:cubicBezTo>
                    <a:cubicBezTo>
                      <a:pt x="77" y="558"/>
                      <a:pt x="75" y="567"/>
                      <a:pt x="72" y="575"/>
                    </a:cubicBezTo>
                    <a:cubicBezTo>
                      <a:pt x="69" y="583"/>
                      <a:pt x="54" y="600"/>
                      <a:pt x="63" y="600"/>
                    </a:cubicBezTo>
                    <a:cubicBezTo>
                      <a:pt x="77" y="600"/>
                      <a:pt x="86" y="584"/>
                      <a:pt x="97" y="575"/>
                    </a:cubicBezTo>
                    <a:cubicBezTo>
                      <a:pt x="146" y="533"/>
                      <a:pt x="95" y="564"/>
                      <a:pt x="155" y="533"/>
                    </a:cubicBezTo>
                    <a:cubicBezTo>
                      <a:pt x="186" y="492"/>
                      <a:pt x="226" y="475"/>
                      <a:pt x="264" y="441"/>
                    </a:cubicBezTo>
                    <a:cubicBezTo>
                      <a:pt x="353" y="361"/>
                      <a:pt x="242" y="458"/>
                      <a:pt x="322" y="366"/>
                    </a:cubicBezTo>
                    <a:cubicBezTo>
                      <a:pt x="355" y="328"/>
                      <a:pt x="391" y="315"/>
                      <a:pt x="414" y="266"/>
                    </a:cubicBezTo>
                    <a:cubicBezTo>
                      <a:pt x="418" y="257"/>
                      <a:pt x="402" y="282"/>
                      <a:pt x="397" y="291"/>
                    </a:cubicBezTo>
                    <a:cubicBezTo>
                      <a:pt x="388" y="305"/>
                      <a:pt x="381" y="319"/>
                      <a:pt x="372" y="333"/>
                    </a:cubicBezTo>
                    <a:cubicBezTo>
                      <a:pt x="353" y="361"/>
                      <a:pt x="336" y="390"/>
                      <a:pt x="314" y="416"/>
                    </a:cubicBezTo>
                    <a:cubicBezTo>
                      <a:pt x="291" y="443"/>
                      <a:pt x="259" y="463"/>
                      <a:pt x="239" y="492"/>
                    </a:cubicBezTo>
                    <a:cubicBezTo>
                      <a:pt x="238" y="493"/>
                      <a:pt x="198" y="550"/>
                      <a:pt x="205" y="550"/>
                    </a:cubicBezTo>
                    <a:cubicBezTo>
                      <a:pt x="223" y="550"/>
                      <a:pt x="243" y="481"/>
                      <a:pt x="247" y="475"/>
                    </a:cubicBezTo>
                    <a:cubicBezTo>
                      <a:pt x="274" y="441"/>
                      <a:pt x="339" y="383"/>
                      <a:pt x="339" y="383"/>
                    </a:cubicBezTo>
                    <a:cubicBezTo>
                      <a:pt x="365" y="316"/>
                      <a:pt x="400" y="273"/>
                      <a:pt x="414" y="199"/>
                    </a:cubicBezTo>
                    <a:cubicBezTo>
                      <a:pt x="443" y="270"/>
                      <a:pt x="426" y="236"/>
                      <a:pt x="456" y="191"/>
                    </a:cubicBezTo>
                    <a:cubicBezTo>
                      <a:pt x="476" y="128"/>
                      <a:pt x="446" y="203"/>
                      <a:pt x="489" y="149"/>
                    </a:cubicBezTo>
                    <a:cubicBezTo>
                      <a:pt x="494" y="142"/>
                      <a:pt x="492" y="131"/>
                      <a:pt x="497" y="124"/>
                    </a:cubicBezTo>
                    <a:cubicBezTo>
                      <a:pt x="506" y="111"/>
                      <a:pt x="526" y="106"/>
                      <a:pt x="531" y="91"/>
                    </a:cubicBezTo>
                    <a:cubicBezTo>
                      <a:pt x="534" y="83"/>
                      <a:pt x="514" y="96"/>
                      <a:pt x="506" y="99"/>
                    </a:cubicBezTo>
                    <a:cubicBezTo>
                      <a:pt x="483" y="133"/>
                      <a:pt x="447" y="148"/>
                      <a:pt x="414" y="174"/>
                    </a:cubicBezTo>
                    <a:cubicBezTo>
                      <a:pt x="389" y="216"/>
                      <a:pt x="363" y="233"/>
                      <a:pt x="330" y="266"/>
                    </a:cubicBezTo>
                    <a:cubicBezTo>
                      <a:pt x="327" y="274"/>
                      <a:pt x="313" y="291"/>
                      <a:pt x="322" y="291"/>
                    </a:cubicBezTo>
                    <a:cubicBezTo>
                      <a:pt x="336" y="291"/>
                      <a:pt x="343" y="273"/>
                      <a:pt x="355" y="266"/>
                    </a:cubicBezTo>
                    <a:cubicBezTo>
                      <a:pt x="366" y="259"/>
                      <a:pt x="379" y="256"/>
                      <a:pt x="389" y="249"/>
                    </a:cubicBezTo>
                    <a:cubicBezTo>
                      <a:pt x="487" y="182"/>
                      <a:pt x="560" y="115"/>
                      <a:pt x="673" y="74"/>
                    </a:cubicBezTo>
                    <a:cubicBezTo>
                      <a:pt x="684" y="66"/>
                      <a:pt x="716" y="58"/>
                      <a:pt x="706" y="49"/>
                    </a:cubicBezTo>
                    <a:cubicBezTo>
                      <a:pt x="695" y="39"/>
                      <a:pt x="678" y="61"/>
                      <a:pt x="664" y="66"/>
                    </a:cubicBezTo>
                    <a:cubicBezTo>
                      <a:pt x="629" y="79"/>
                      <a:pt x="589" y="92"/>
                      <a:pt x="556" y="108"/>
                    </a:cubicBezTo>
                    <a:cubicBezTo>
                      <a:pt x="538" y="117"/>
                      <a:pt x="506" y="141"/>
                      <a:pt x="506" y="141"/>
                    </a:cubicBezTo>
                    <a:cubicBezTo>
                      <a:pt x="503" y="149"/>
                      <a:pt x="493" y="158"/>
                      <a:pt x="497" y="166"/>
                    </a:cubicBezTo>
                    <a:cubicBezTo>
                      <a:pt x="501" y="174"/>
                      <a:pt x="524" y="166"/>
                      <a:pt x="522" y="174"/>
                    </a:cubicBezTo>
                    <a:cubicBezTo>
                      <a:pt x="510" y="218"/>
                      <a:pt x="450" y="244"/>
                      <a:pt x="422" y="275"/>
                    </a:cubicBezTo>
                    <a:cubicBezTo>
                      <a:pt x="336" y="370"/>
                      <a:pt x="401" y="333"/>
                      <a:pt x="330" y="366"/>
                    </a:cubicBezTo>
                    <a:cubicBezTo>
                      <a:pt x="265" y="476"/>
                      <a:pt x="362" y="367"/>
                      <a:pt x="414" y="350"/>
                    </a:cubicBezTo>
                    <a:cubicBezTo>
                      <a:pt x="409" y="367"/>
                      <a:pt x="402" y="383"/>
                      <a:pt x="397" y="400"/>
                    </a:cubicBezTo>
                    <a:cubicBezTo>
                      <a:pt x="394" y="411"/>
                      <a:pt x="389" y="444"/>
                      <a:pt x="389" y="433"/>
                    </a:cubicBezTo>
                    <a:cubicBezTo>
                      <a:pt x="389" y="388"/>
                      <a:pt x="408" y="334"/>
                      <a:pt x="422" y="291"/>
                    </a:cubicBezTo>
                    <a:cubicBezTo>
                      <a:pt x="434" y="322"/>
                      <a:pt x="445" y="352"/>
                      <a:pt x="456" y="383"/>
                    </a:cubicBezTo>
                    <a:cubicBezTo>
                      <a:pt x="462" y="307"/>
                      <a:pt x="467" y="252"/>
                      <a:pt x="489" y="183"/>
                    </a:cubicBezTo>
                    <a:cubicBezTo>
                      <a:pt x="533" y="249"/>
                      <a:pt x="519" y="213"/>
                      <a:pt x="531" y="291"/>
                    </a:cubicBezTo>
                    <a:cubicBezTo>
                      <a:pt x="534" y="233"/>
                      <a:pt x="532" y="174"/>
                      <a:pt x="539" y="116"/>
                    </a:cubicBezTo>
                    <a:cubicBezTo>
                      <a:pt x="540" y="105"/>
                      <a:pt x="536" y="146"/>
                      <a:pt x="547" y="149"/>
                    </a:cubicBezTo>
                    <a:cubicBezTo>
                      <a:pt x="557" y="152"/>
                      <a:pt x="557" y="131"/>
                      <a:pt x="564" y="124"/>
                    </a:cubicBezTo>
                    <a:cubicBezTo>
                      <a:pt x="571" y="117"/>
                      <a:pt x="581" y="113"/>
                      <a:pt x="589" y="108"/>
                    </a:cubicBezTo>
                    <a:cubicBezTo>
                      <a:pt x="616" y="54"/>
                      <a:pt x="592" y="90"/>
                      <a:pt x="639" y="49"/>
                    </a:cubicBezTo>
                    <a:cubicBezTo>
                      <a:pt x="648" y="41"/>
                      <a:pt x="655" y="32"/>
                      <a:pt x="664" y="24"/>
                    </a:cubicBezTo>
                    <a:cubicBezTo>
                      <a:pt x="672" y="18"/>
                      <a:pt x="696" y="0"/>
                      <a:pt x="689" y="7"/>
                    </a:cubicBezTo>
                    <a:cubicBezTo>
                      <a:pt x="644" y="52"/>
                      <a:pt x="596" y="96"/>
                      <a:pt x="539" y="124"/>
                    </a:cubicBezTo>
                    <a:cubicBezTo>
                      <a:pt x="519" y="146"/>
                      <a:pt x="533" y="129"/>
                      <a:pt x="572" y="108"/>
                    </a:cubicBezTo>
                    <a:cubicBezTo>
                      <a:pt x="589" y="99"/>
                      <a:pt x="607" y="93"/>
                      <a:pt x="623" y="83"/>
                    </a:cubicBezTo>
                    <a:cubicBezTo>
                      <a:pt x="700" y="38"/>
                      <a:pt x="682" y="47"/>
                      <a:pt x="631" y="57"/>
                    </a:cubicBezTo>
                    <a:cubicBezTo>
                      <a:pt x="623" y="66"/>
                      <a:pt x="603" y="71"/>
                      <a:pt x="606" y="83"/>
                    </a:cubicBezTo>
                    <a:cubicBezTo>
                      <a:pt x="609" y="94"/>
                      <a:pt x="628" y="90"/>
                      <a:pt x="639" y="91"/>
                    </a:cubicBezTo>
                    <a:cubicBezTo>
                      <a:pt x="670" y="95"/>
                      <a:pt x="700" y="96"/>
                      <a:pt x="731" y="99"/>
                    </a:cubicBezTo>
                    <a:cubicBezTo>
                      <a:pt x="793" y="112"/>
                      <a:pt x="781" y="114"/>
                      <a:pt x="731" y="83"/>
                    </a:cubicBezTo>
                    <a:cubicBezTo>
                      <a:pt x="676" y="48"/>
                      <a:pt x="719" y="70"/>
                      <a:pt x="781" y="91"/>
                    </a:cubicBezTo>
                    <a:cubicBezTo>
                      <a:pt x="792" y="99"/>
                      <a:pt x="803" y="109"/>
                      <a:pt x="815" y="116"/>
                    </a:cubicBezTo>
                    <a:cubicBezTo>
                      <a:pt x="822" y="120"/>
                      <a:pt x="897" y="143"/>
                      <a:pt x="890" y="166"/>
                    </a:cubicBezTo>
                    <a:cubicBezTo>
                      <a:pt x="886" y="180"/>
                      <a:pt x="862" y="161"/>
                      <a:pt x="848" y="158"/>
                    </a:cubicBezTo>
                    <a:cubicBezTo>
                      <a:pt x="834" y="150"/>
                      <a:pt x="821" y="139"/>
                      <a:pt x="806" y="133"/>
                    </a:cubicBezTo>
                    <a:cubicBezTo>
                      <a:pt x="768" y="119"/>
                      <a:pt x="728" y="110"/>
                      <a:pt x="689" y="99"/>
                    </a:cubicBezTo>
                    <a:cubicBezTo>
                      <a:pt x="671" y="94"/>
                      <a:pt x="722" y="116"/>
                      <a:pt x="739" y="124"/>
                    </a:cubicBezTo>
                    <a:cubicBezTo>
                      <a:pt x="860" y="184"/>
                      <a:pt x="715" y="113"/>
                      <a:pt x="848" y="174"/>
                    </a:cubicBezTo>
                    <a:cubicBezTo>
                      <a:pt x="859" y="179"/>
                      <a:pt x="889" y="182"/>
                      <a:pt x="881" y="191"/>
                    </a:cubicBezTo>
                    <a:cubicBezTo>
                      <a:pt x="872" y="201"/>
                      <a:pt x="854" y="186"/>
                      <a:pt x="840" y="183"/>
                    </a:cubicBezTo>
                    <a:cubicBezTo>
                      <a:pt x="758" y="142"/>
                      <a:pt x="670" y="118"/>
                      <a:pt x="581" y="99"/>
                    </a:cubicBezTo>
                    <a:cubicBezTo>
                      <a:pt x="584" y="110"/>
                      <a:pt x="583" y="123"/>
                      <a:pt x="589" y="133"/>
                    </a:cubicBezTo>
                    <a:cubicBezTo>
                      <a:pt x="609" y="169"/>
                      <a:pt x="638" y="152"/>
                      <a:pt x="581" y="166"/>
                    </a:cubicBezTo>
                    <a:cubicBezTo>
                      <a:pt x="600" y="169"/>
                      <a:pt x="621" y="167"/>
                      <a:pt x="639" y="174"/>
                    </a:cubicBezTo>
                    <a:cubicBezTo>
                      <a:pt x="652" y="179"/>
                      <a:pt x="659" y="199"/>
                      <a:pt x="673" y="199"/>
                    </a:cubicBezTo>
                    <a:cubicBezTo>
                      <a:pt x="698" y="199"/>
                      <a:pt x="610" y="153"/>
                      <a:pt x="623" y="158"/>
                    </a:cubicBezTo>
                    <a:cubicBezTo>
                      <a:pt x="663" y="173"/>
                      <a:pt x="674" y="184"/>
                      <a:pt x="706" y="208"/>
                    </a:cubicBezTo>
                    <a:cubicBezTo>
                      <a:pt x="703" y="197"/>
                      <a:pt x="687" y="178"/>
                      <a:pt x="698" y="174"/>
                    </a:cubicBezTo>
                    <a:cubicBezTo>
                      <a:pt x="728" y="162"/>
                      <a:pt x="766" y="209"/>
                      <a:pt x="781" y="224"/>
                    </a:cubicBezTo>
                    <a:cubicBezTo>
                      <a:pt x="807" y="295"/>
                      <a:pt x="775" y="191"/>
                      <a:pt x="773" y="183"/>
                    </a:cubicBezTo>
                    <a:cubicBezTo>
                      <a:pt x="781" y="180"/>
                      <a:pt x="790" y="171"/>
                      <a:pt x="798" y="174"/>
                    </a:cubicBezTo>
                    <a:cubicBezTo>
                      <a:pt x="813" y="179"/>
                      <a:pt x="862" y="253"/>
                      <a:pt x="865" y="258"/>
                    </a:cubicBezTo>
                    <a:cubicBezTo>
                      <a:pt x="871" y="266"/>
                      <a:pt x="854" y="241"/>
                      <a:pt x="848" y="233"/>
                    </a:cubicBezTo>
                    <a:cubicBezTo>
                      <a:pt x="840" y="222"/>
                      <a:pt x="831" y="210"/>
                      <a:pt x="823" y="199"/>
                    </a:cubicBezTo>
                    <a:cubicBezTo>
                      <a:pt x="813" y="185"/>
                      <a:pt x="856" y="205"/>
                      <a:pt x="873" y="208"/>
                    </a:cubicBezTo>
                    <a:cubicBezTo>
                      <a:pt x="901" y="236"/>
                      <a:pt x="932" y="278"/>
                      <a:pt x="965" y="300"/>
                    </a:cubicBezTo>
                    <a:cubicBezTo>
                      <a:pt x="965" y="300"/>
                      <a:pt x="926" y="261"/>
                      <a:pt x="906" y="241"/>
                    </a:cubicBezTo>
                    <a:cubicBezTo>
                      <a:pt x="898" y="233"/>
                      <a:pt x="871" y="210"/>
                      <a:pt x="881" y="216"/>
                    </a:cubicBezTo>
                    <a:cubicBezTo>
                      <a:pt x="934" y="247"/>
                      <a:pt x="909" y="234"/>
                      <a:pt x="956" y="258"/>
                    </a:cubicBezTo>
                    <a:cubicBezTo>
                      <a:pt x="998" y="319"/>
                      <a:pt x="986" y="282"/>
                      <a:pt x="948" y="249"/>
                    </a:cubicBezTo>
                    <a:cubicBezTo>
                      <a:pt x="939" y="241"/>
                      <a:pt x="926" y="238"/>
                      <a:pt x="915" y="233"/>
                    </a:cubicBezTo>
                    <a:cubicBezTo>
                      <a:pt x="838" y="156"/>
                      <a:pt x="740" y="123"/>
                      <a:pt x="639" y="91"/>
                    </a:cubicBezTo>
                    <a:cubicBezTo>
                      <a:pt x="592" y="94"/>
                      <a:pt x="544" y="92"/>
                      <a:pt x="497" y="99"/>
                    </a:cubicBezTo>
                    <a:cubicBezTo>
                      <a:pt x="468" y="103"/>
                      <a:pt x="439" y="166"/>
                      <a:pt x="439" y="166"/>
                    </a:cubicBezTo>
                    <a:cubicBezTo>
                      <a:pt x="467" y="177"/>
                      <a:pt x="494" y="188"/>
                      <a:pt x="522" y="199"/>
                    </a:cubicBezTo>
                    <a:cubicBezTo>
                      <a:pt x="535" y="204"/>
                      <a:pt x="537" y="223"/>
                      <a:pt x="547" y="233"/>
                    </a:cubicBezTo>
                    <a:cubicBezTo>
                      <a:pt x="554" y="240"/>
                      <a:pt x="564" y="244"/>
                      <a:pt x="572" y="249"/>
                    </a:cubicBezTo>
                    <a:cubicBezTo>
                      <a:pt x="595" y="337"/>
                      <a:pt x="561" y="238"/>
                      <a:pt x="606" y="300"/>
                    </a:cubicBezTo>
                    <a:cubicBezTo>
                      <a:pt x="620" y="320"/>
                      <a:pt x="626" y="345"/>
                      <a:pt x="639" y="366"/>
                    </a:cubicBezTo>
                    <a:cubicBezTo>
                      <a:pt x="642" y="338"/>
                      <a:pt x="632" y="306"/>
                      <a:pt x="648" y="283"/>
                    </a:cubicBezTo>
                    <a:cubicBezTo>
                      <a:pt x="656" y="272"/>
                      <a:pt x="666" y="304"/>
                      <a:pt x="673" y="316"/>
                    </a:cubicBezTo>
                    <a:cubicBezTo>
                      <a:pt x="728" y="412"/>
                      <a:pt x="608" y="242"/>
                      <a:pt x="706" y="375"/>
                    </a:cubicBezTo>
                    <a:cubicBezTo>
                      <a:pt x="724" y="349"/>
                      <a:pt x="724" y="311"/>
                      <a:pt x="748" y="291"/>
                    </a:cubicBezTo>
                    <a:cubicBezTo>
                      <a:pt x="756" y="285"/>
                      <a:pt x="756" y="310"/>
                      <a:pt x="764" y="316"/>
                    </a:cubicBezTo>
                    <a:cubicBezTo>
                      <a:pt x="774" y="324"/>
                      <a:pt x="787" y="327"/>
                      <a:pt x="798" y="333"/>
                    </a:cubicBezTo>
                    <a:cubicBezTo>
                      <a:pt x="818" y="363"/>
                      <a:pt x="843" y="387"/>
                      <a:pt x="865" y="416"/>
                    </a:cubicBezTo>
                    <a:cubicBezTo>
                      <a:pt x="868" y="402"/>
                      <a:pt x="875" y="389"/>
                      <a:pt x="873" y="375"/>
                    </a:cubicBezTo>
                    <a:cubicBezTo>
                      <a:pt x="872" y="365"/>
                      <a:pt x="861" y="359"/>
                      <a:pt x="856" y="350"/>
                    </a:cubicBezTo>
                    <a:cubicBezTo>
                      <a:pt x="817" y="280"/>
                      <a:pt x="852" y="332"/>
                      <a:pt x="865" y="350"/>
                    </a:cubicBezTo>
                    <a:cubicBezTo>
                      <a:pt x="872" y="373"/>
                      <a:pt x="879" y="434"/>
                      <a:pt x="898" y="375"/>
                    </a:cubicBezTo>
                    <a:cubicBezTo>
                      <a:pt x="906" y="386"/>
                      <a:pt x="913" y="399"/>
                      <a:pt x="923" y="408"/>
                    </a:cubicBezTo>
                    <a:cubicBezTo>
                      <a:pt x="938" y="421"/>
                      <a:pt x="987" y="455"/>
                      <a:pt x="973" y="441"/>
                    </a:cubicBezTo>
                    <a:cubicBezTo>
                      <a:pt x="943" y="411"/>
                      <a:pt x="950" y="420"/>
                      <a:pt x="923" y="383"/>
                    </a:cubicBezTo>
                    <a:cubicBezTo>
                      <a:pt x="917" y="375"/>
                      <a:pt x="898" y="364"/>
                      <a:pt x="906" y="358"/>
                    </a:cubicBezTo>
                    <a:cubicBezTo>
                      <a:pt x="918" y="350"/>
                      <a:pt x="934" y="363"/>
                      <a:pt x="948" y="366"/>
                    </a:cubicBezTo>
                    <a:cubicBezTo>
                      <a:pt x="970" y="388"/>
                      <a:pt x="993" y="411"/>
                      <a:pt x="1015" y="433"/>
                    </a:cubicBezTo>
                    <a:cubicBezTo>
                      <a:pt x="1023" y="441"/>
                      <a:pt x="1040" y="458"/>
                      <a:pt x="1040" y="458"/>
                    </a:cubicBezTo>
                    <a:cubicBezTo>
                      <a:pt x="1062" y="525"/>
                      <a:pt x="1037" y="451"/>
                      <a:pt x="1040" y="450"/>
                    </a:cubicBezTo>
                    <a:cubicBezTo>
                      <a:pt x="1056" y="446"/>
                      <a:pt x="1068" y="467"/>
                      <a:pt x="1082" y="475"/>
                    </a:cubicBezTo>
                    <a:cubicBezTo>
                      <a:pt x="1099" y="502"/>
                      <a:pt x="1098" y="510"/>
                      <a:pt x="1098" y="4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074"/>
              <p:cNvSpPr/>
              <p:nvPr/>
            </p:nvSpPr>
            <p:spPr>
              <a:xfrm>
                <a:off x="5487480" y="3163680"/>
                <a:ext cx="3517920" cy="628560"/>
              </a:xfrm>
              <a:custGeom>
                <a:avLst/>
                <a:gdLst/>
                <a:ahLst/>
                <a:rect l="l" t="t" r="r" b="b"/>
                <a:pathLst>
                  <a:path w="2047" h="396">
                    <a:moveTo>
                      <a:pt x="0" y="396"/>
                    </a:moveTo>
                    <a:cubicBezTo>
                      <a:pt x="39" y="357"/>
                      <a:pt x="15" y="378"/>
                      <a:pt x="75" y="337"/>
                    </a:cubicBezTo>
                    <a:cubicBezTo>
                      <a:pt x="83" y="331"/>
                      <a:pt x="50" y="354"/>
                      <a:pt x="50" y="354"/>
                    </a:cubicBezTo>
                    <a:cubicBezTo>
                      <a:pt x="96" y="364"/>
                      <a:pt x="106" y="357"/>
                      <a:pt x="150" y="346"/>
                    </a:cubicBezTo>
                    <a:cubicBezTo>
                      <a:pt x="152" y="345"/>
                      <a:pt x="222" y="305"/>
                      <a:pt x="225" y="321"/>
                    </a:cubicBezTo>
                    <a:cubicBezTo>
                      <a:pt x="229" y="341"/>
                      <a:pt x="203" y="354"/>
                      <a:pt x="192" y="371"/>
                    </a:cubicBezTo>
                    <a:cubicBezTo>
                      <a:pt x="185" y="381"/>
                      <a:pt x="214" y="360"/>
                      <a:pt x="225" y="354"/>
                    </a:cubicBezTo>
                    <a:cubicBezTo>
                      <a:pt x="273" y="326"/>
                      <a:pt x="224" y="344"/>
                      <a:pt x="292" y="329"/>
                    </a:cubicBezTo>
                    <a:cubicBezTo>
                      <a:pt x="314" y="324"/>
                      <a:pt x="355" y="312"/>
                      <a:pt x="375" y="312"/>
                    </a:cubicBezTo>
                    <a:cubicBezTo>
                      <a:pt x="384" y="312"/>
                      <a:pt x="341" y="321"/>
                      <a:pt x="350" y="321"/>
                    </a:cubicBezTo>
                    <a:cubicBezTo>
                      <a:pt x="378" y="321"/>
                      <a:pt x="406" y="315"/>
                      <a:pt x="434" y="312"/>
                    </a:cubicBezTo>
                    <a:cubicBezTo>
                      <a:pt x="456" y="307"/>
                      <a:pt x="479" y="301"/>
                      <a:pt x="501" y="296"/>
                    </a:cubicBezTo>
                    <a:cubicBezTo>
                      <a:pt x="597" y="274"/>
                      <a:pt x="500" y="305"/>
                      <a:pt x="476" y="321"/>
                    </a:cubicBezTo>
                    <a:cubicBezTo>
                      <a:pt x="473" y="329"/>
                      <a:pt x="458" y="346"/>
                      <a:pt x="467" y="346"/>
                    </a:cubicBezTo>
                    <a:cubicBezTo>
                      <a:pt x="493" y="346"/>
                      <a:pt x="505" y="311"/>
                      <a:pt x="517" y="296"/>
                    </a:cubicBezTo>
                    <a:cubicBezTo>
                      <a:pt x="544" y="263"/>
                      <a:pt x="575" y="223"/>
                      <a:pt x="609" y="196"/>
                    </a:cubicBezTo>
                    <a:cubicBezTo>
                      <a:pt x="622" y="186"/>
                      <a:pt x="638" y="181"/>
                      <a:pt x="651" y="171"/>
                    </a:cubicBezTo>
                    <a:cubicBezTo>
                      <a:pt x="663" y="161"/>
                      <a:pt x="668" y="137"/>
                      <a:pt x="684" y="137"/>
                    </a:cubicBezTo>
                    <a:cubicBezTo>
                      <a:pt x="708" y="137"/>
                      <a:pt x="619" y="196"/>
                      <a:pt x="643" y="196"/>
                    </a:cubicBezTo>
                    <a:cubicBezTo>
                      <a:pt x="662" y="196"/>
                      <a:pt x="676" y="179"/>
                      <a:pt x="693" y="171"/>
                    </a:cubicBezTo>
                    <a:cubicBezTo>
                      <a:pt x="732" y="119"/>
                      <a:pt x="779" y="89"/>
                      <a:pt x="810" y="29"/>
                    </a:cubicBezTo>
                    <a:cubicBezTo>
                      <a:pt x="816" y="17"/>
                      <a:pt x="801" y="84"/>
                      <a:pt x="801" y="70"/>
                    </a:cubicBezTo>
                    <a:cubicBezTo>
                      <a:pt x="801" y="48"/>
                      <a:pt x="807" y="26"/>
                      <a:pt x="810" y="4"/>
                    </a:cubicBezTo>
                    <a:cubicBezTo>
                      <a:pt x="810" y="6"/>
                      <a:pt x="817" y="67"/>
                      <a:pt x="843" y="54"/>
                    </a:cubicBezTo>
                    <a:cubicBezTo>
                      <a:pt x="853" y="49"/>
                      <a:pt x="848" y="31"/>
                      <a:pt x="851" y="20"/>
                    </a:cubicBezTo>
                    <a:cubicBezTo>
                      <a:pt x="893" y="35"/>
                      <a:pt x="909" y="74"/>
                      <a:pt x="951" y="87"/>
                    </a:cubicBezTo>
                    <a:cubicBezTo>
                      <a:pt x="954" y="76"/>
                      <a:pt x="960" y="65"/>
                      <a:pt x="960" y="54"/>
                    </a:cubicBezTo>
                    <a:cubicBezTo>
                      <a:pt x="960" y="42"/>
                      <a:pt x="939" y="18"/>
                      <a:pt x="951" y="20"/>
                    </a:cubicBezTo>
                    <a:cubicBezTo>
                      <a:pt x="997" y="29"/>
                      <a:pt x="996" y="61"/>
                      <a:pt x="1018" y="87"/>
                    </a:cubicBezTo>
                    <a:cubicBezTo>
                      <a:pt x="1049" y="123"/>
                      <a:pt x="1089" y="151"/>
                      <a:pt x="1127" y="179"/>
                    </a:cubicBezTo>
                    <a:cubicBezTo>
                      <a:pt x="1145" y="132"/>
                      <a:pt x="1140" y="125"/>
                      <a:pt x="1127" y="79"/>
                    </a:cubicBezTo>
                    <a:cubicBezTo>
                      <a:pt x="1125" y="71"/>
                      <a:pt x="1121" y="62"/>
                      <a:pt x="1118" y="54"/>
                    </a:cubicBezTo>
                    <a:cubicBezTo>
                      <a:pt x="1113" y="42"/>
                      <a:pt x="1092" y="12"/>
                      <a:pt x="1102" y="20"/>
                    </a:cubicBezTo>
                    <a:cubicBezTo>
                      <a:pt x="1126" y="40"/>
                      <a:pt x="1165" y="71"/>
                      <a:pt x="1185" y="95"/>
                    </a:cubicBezTo>
                    <a:cubicBezTo>
                      <a:pt x="1217" y="134"/>
                      <a:pt x="1249" y="208"/>
                      <a:pt x="1294" y="237"/>
                    </a:cubicBezTo>
                    <a:cubicBezTo>
                      <a:pt x="1271" y="152"/>
                      <a:pt x="1228" y="142"/>
                      <a:pt x="1185" y="79"/>
                    </a:cubicBezTo>
                    <a:cubicBezTo>
                      <a:pt x="1182" y="71"/>
                      <a:pt x="1168" y="54"/>
                      <a:pt x="1177" y="54"/>
                    </a:cubicBezTo>
                    <a:cubicBezTo>
                      <a:pt x="1189" y="54"/>
                      <a:pt x="1193" y="71"/>
                      <a:pt x="1202" y="79"/>
                    </a:cubicBezTo>
                    <a:cubicBezTo>
                      <a:pt x="1226" y="99"/>
                      <a:pt x="1260" y="121"/>
                      <a:pt x="1285" y="137"/>
                    </a:cubicBezTo>
                    <a:cubicBezTo>
                      <a:pt x="1293" y="151"/>
                      <a:pt x="1300" y="166"/>
                      <a:pt x="1310" y="179"/>
                    </a:cubicBezTo>
                    <a:cubicBezTo>
                      <a:pt x="1330" y="206"/>
                      <a:pt x="1360" y="217"/>
                      <a:pt x="1302" y="187"/>
                    </a:cubicBezTo>
                    <a:cubicBezTo>
                      <a:pt x="1254" y="130"/>
                      <a:pt x="1193" y="72"/>
                      <a:pt x="1118" y="54"/>
                    </a:cubicBezTo>
                    <a:cubicBezTo>
                      <a:pt x="1130" y="121"/>
                      <a:pt x="1122" y="88"/>
                      <a:pt x="1143" y="154"/>
                    </a:cubicBezTo>
                    <a:cubicBezTo>
                      <a:pt x="1146" y="162"/>
                      <a:pt x="1142" y="135"/>
                      <a:pt x="1135" y="129"/>
                    </a:cubicBezTo>
                    <a:cubicBezTo>
                      <a:pt x="1118" y="115"/>
                      <a:pt x="1103" y="100"/>
                      <a:pt x="1085" y="87"/>
                    </a:cubicBezTo>
                    <a:cubicBezTo>
                      <a:pt x="1055" y="65"/>
                      <a:pt x="1019" y="45"/>
                      <a:pt x="985" y="29"/>
                    </a:cubicBezTo>
                    <a:cubicBezTo>
                      <a:pt x="998" y="55"/>
                      <a:pt x="1093" y="189"/>
                      <a:pt x="1035" y="95"/>
                    </a:cubicBezTo>
                    <a:cubicBezTo>
                      <a:pt x="1019" y="69"/>
                      <a:pt x="1002" y="45"/>
                      <a:pt x="985" y="20"/>
                    </a:cubicBezTo>
                    <a:cubicBezTo>
                      <a:pt x="975" y="4"/>
                      <a:pt x="1019" y="36"/>
                      <a:pt x="1035" y="45"/>
                    </a:cubicBezTo>
                    <a:cubicBezTo>
                      <a:pt x="1166" y="122"/>
                      <a:pt x="1007" y="40"/>
                      <a:pt x="1135" y="104"/>
                    </a:cubicBezTo>
                    <a:cubicBezTo>
                      <a:pt x="1143" y="115"/>
                      <a:pt x="1146" y="134"/>
                      <a:pt x="1160" y="137"/>
                    </a:cubicBezTo>
                    <a:cubicBezTo>
                      <a:pt x="1170" y="139"/>
                      <a:pt x="1176" y="122"/>
                      <a:pt x="1177" y="112"/>
                    </a:cubicBezTo>
                    <a:cubicBezTo>
                      <a:pt x="1178" y="100"/>
                      <a:pt x="1165" y="60"/>
                      <a:pt x="1160" y="45"/>
                    </a:cubicBezTo>
                    <a:cubicBezTo>
                      <a:pt x="1205" y="16"/>
                      <a:pt x="1167" y="30"/>
                      <a:pt x="1227" y="54"/>
                    </a:cubicBezTo>
                    <a:cubicBezTo>
                      <a:pt x="1240" y="59"/>
                      <a:pt x="1255" y="59"/>
                      <a:pt x="1269" y="62"/>
                    </a:cubicBezTo>
                    <a:cubicBezTo>
                      <a:pt x="1329" y="102"/>
                      <a:pt x="1399" y="152"/>
                      <a:pt x="1469" y="171"/>
                    </a:cubicBezTo>
                    <a:cubicBezTo>
                      <a:pt x="1406" y="107"/>
                      <a:pt x="1409" y="100"/>
                      <a:pt x="1344" y="62"/>
                    </a:cubicBezTo>
                    <a:cubicBezTo>
                      <a:pt x="1328" y="53"/>
                      <a:pt x="1310" y="47"/>
                      <a:pt x="1294" y="37"/>
                    </a:cubicBezTo>
                    <a:cubicBezTo>
                      <a:pt x="1279" y="28"/>
                      <a:pt x="1235" y="8"/>
                      <a:pt x="1252" y="4"/>
                    </a:cubicBezTo>
                    <a:cubicBezTo>
                      <a:pt x="1271" y="0"/>
                      <a:pt x="1379" y="53"/>
                      <a:pt x="1394" y="62"/>
                    </a:cubicBezTo>
                    <a:cubicBezTo>
                      <a:pt x="1465" y="107"/>
                      <a:pt x="1556" y="166"/>
                      <a:pt x="1619" y="229"/>
                    </a:cubicBezTo>
                    <a:cubicBezTo>
                      <a:pt x="1601" y="193"/>
                      <a:pt x="1601" y="186"/>
                      <a:pt x="1569" y="154"/>
                    </a:cubicBezTo>
                    <a:cubicBezTo>
                      <a:pt x="1566" y="151"/>
                      <a:pt x="1506" y="113"/>
                      <a:pt x="1511" y="112"/>
                    </a:cubicBezTo>
                    <a:cubicBezTo>
                      <a:pt x="1536" y="107"/>
                      <a:pt x="1561" y="123"/>
                      <a:pt x="1586" y="129"/>
                    </a:cubicBezTo>
                    <a:cubicBezTo>
                      <a:pt x="1600" y="140"/>
                      <a:pt x="1613" y="152"/>
                      <a:pt x="1628" y="162"/>
                    </a:cubicBezTo>
                    <a:cubicBezTo>
                      <a:pt x="1694" y="208"/>
                      <a:pt x="1669" y="187"/>
                      <a:pt x="1644" y="162"/>
                    </a:cubicBezTo>
                    <a:cubicBezTo>
                      <a:pt x="1626" y="144"/>
                      <a:pt x="1600" y="135"/>
                      <a:pt x="1578" y="120"/>
                    </a:cubicBezTo>
                    <a:cubicBezTo>
                      <a:pt x="1534" y="56"/>
                      <a:pt x="1523" y="62"/>
                      <a:pt x="1603" y="87"/>
                    </a:cubicBezTo>
                    <a:cubicBezTo>
                      <a:pt x="1653" y="103"/>
                      <a:pt x="1696" y="118"/>
                      <a:pt x="1744" y="137"/>
                    </a:cubicBezTo>
                    <a:cubicBezTo>
                      <a:pt x="1764" y="145"/>
                      <a:pt x="1784" y="152"/>
                      <a:pt x="1803" y="162"/>
                    </a:cubicBezTo>
                    <a:cubicBezTo>
                      <a:pt x="1815" y="169"/>
                      <a:pt x="1848" y="194"/>
                      <a:pt x="1836" y="187"/>
                    </a:cubicBezTo>
                    <a:cubicBezTo>
                      <a:pt x="1817" y="176"/>
                      <a:pt x="1796" y="167"/>
                      <a:pt x="1778" y="154"/>
                    </a:cubicBezTo>
                    <a:cubicBezTo>
                      <a:pt x="1768" y="147"/>
                      <a:pt x="1764" y="134"/>
                      <a:pt x="1753" y="129"/>
                    </a:cubicBezTo>
                    <a:cubicBezTo>
                      <a:pt x="1722" y="115"/>
                      <a:pt x="1686" y="114"/>
                      <a:pt x="1653" y="104"/>
                    </a:cubicBezTo>
                    <a:cubicBezTo>
                      <a:pt x="1642" y="96"/>
                      <a:pt x="1631" y="86"/>
                      <a:pt x="1619" y="79"/>
                    </a:cubicBezTo>
                    <a:cubicBezTo>
                      <a:pt x="1611" y="75"/>
                      <a:pt x="1585" y="70"/>
                      <a:pt x="1594" y="70"/>
                    </a:cubicBezTo>
                    <a:cubicBezTo>
                      <a:pt x="1617" y="70"/>
                      <a:pt x="1642" y="87"/>
                      <a:pt x="1661" y="95"/>
                    </a:cubicBezTo>
                    <a:cubicBezTo>
                      <a:pt x="1733" y="127"/>
                      <a:pt x="1836" y="153"/>
                      <a:pt x="1895" y="212"/>
                    </a:cubicBezTo>
                    <a:cubicBezTo>
                      <a:pt x="1902" y="219"/>
                      <a:pt x="1879" y="200"/>
                      <a:pt x="1870" y="196"/>
                    </a:cubicBezTo>
                    <a:cubicBezTo>
                      <a:pt x="1851" y="187"/>
                      <a:pt x="1830" y="180"/>
                      <a:pt x="1811" y="171"/>
                    </a:cubicBezTo>
                    <a:cubicBezTo>
                      <a:pt x="1712" y="126"/>
                      <a:pt x="1854" y="185"/>
                      <a:pt x="1736" y="137"/>
                    </a:cubicBezTo>
                    <a:cubicBezTo>
                      <a:pt x="1792" y="126"/>
                      <a:pt x="1806" y="142"/>
                      <a:pt x="1861" y="162"/>
                    </a:cubicBezTo>
                    <a:cubicBezTo>
                      <a:pt x="1875" y="167"/>
                      <a:pt x="1890" y="172"/>
                      <a:pt x="1903" y="179"/>
                    </a:cubicBezTo>
                    <a:cubicBezTo>
                      <a:pt x="1912" y="184"/>
                      <a:pt x="1938" y="196"/>
                      <a:pt x="1928" y="196"/>
                    </a:cubicBezTo>
                    <a:cubicBezTo>
                      <a:pt x="1916" y="196"/>
                      <a:pt x="1906" y="184"/>
                      <a:pt x="1895" y="179"/>
                    </a:cubicBezTo>
                    <a:cubicBezTo>
                      <a:pt x="1887" y="176"/>
                      <a:pt x="1878" y="174"/>
                      <a:pt x="1870" y="171"/>
                    </a:cubicBezTo>
                    <a:cubicBezTo>
                      <a:pt x="1862" y="168"/>
                      <a:pt x="1853" y="166"/>
                      <a:pt x="1845" y="162"/>
                    </a:cubicBezTo>
                    <a:cubicBezTo>
                      <a:pt x="1833" y="157"/>
                      <a:pt x="1800" y="151"/>
                      <a:pt x="1811" y="145"/>
                    </a:cubicBezTo>
                    <a:cubicBezTo>
                      <a:pt x="1826" y="137"/>
                      <a:pt x="1844" y="151"/>
                      <a:pt x="1861" y="154"/>
                    </a:cubicBezTo>
                    <a:cubicBezTo>
                      <a:pt x="1907" y="163"/>
                      <a:pt x="1959" y="179"/>
                      <a:pt x="2003" y="196"/>
                    </a:cubicBezTo>
                    <a:cubicBezTo>
                      <a:pt x="2015" y="200"/>
                      <a:pt x="2024" y="212"/>
                      <a:pt x="2037" y="212"/>
                    </a:cubicBezTo>
                    <a:cubicBezTo>
                      <a:pt x="2047" y="212"/>
                      <a:pt x="2012" y="196"/>
                      <a:pt x="2012" y="1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>
                <a:off x="6662160" y="2935080"/>
                <a:ext cx="2506680" cy="1023840"/>
              </a:xfrm>
              <a:custGeom>
                <a:avLst/>
                <a:gdLst/>
                <a:ahLst/>
                <a:rect l="l" t="t" r="r" b="b"/>
                <a:pathLst>
                  <a:path w="1458" h="645">
                    <a:moveTo>
                      <a:pt x="0" y="331"/>
                    </a:moveTo>
                    <a:cubicBezTo>
                      <a:pt x="3" y="339"/>
                      <a:pt x="0" y="358"/>
                      <a:pt x="9" y="356"/>
                    </a:cubicBezTo>
                    <a:cubicBezTo>
                      <a:pt x="22" y="353"/>
                      <a:pt x="27" y="335"/>
                      <a:pt x="34" y="323"/>
                    </a:cubicBezTo>
                    <a:cubicBezTo>
                      <a:pt x="74" y="257"/>
                      <a:pt x="38" y="287"/>
                      <a:pt x="84" y="256"/>
                    </a:cubicBezTo>
                    <a:cubicBezTo>
                      <a:pt x="89" y="245"/>
                      <a:pt x="107" y="213"/>
                      <a:pt x="100" y="223"/>
                    </a:cubicBezTo>
                    <a:cubicBezTo>
                      <a:pt x="92" y="234"/>
                      <a:pt x="81" y="244"/>
                      <a:pt x="75" y="256"/>
                    </a:cubicBezTo>
                    <a:cubicBezTo>
                      <a:pt x="64" y="277"/>
                      <a:pt x="39" y="344"/>
                      <a:pt x="50" y="323"/>
                    </a:cubicBezTo>
                    <a:cubicBezTo>
                      <a:pt x="71" y="282"/>
                      <a:pt x="82" y="254"/>
                      <a:pt x="109" y="214"/>
                    </a:cubicBezTo>
                    <a:cubicBezTo>
                      <a:pt x="115" y="206"/>
                      <a:pt x="126" y="189"/>
                      <a:pt x="126" y="189"/>
                    </a:cubicBezTo>
                    <a:cubicBezTo>
                      <a:pt x="137" y="156"/>
                      <a:pt x="142" y="142"/>
                      <a:pt x="176" y="131"/>
                    </a:cubicBezTo>
                    <a:cubicBezTo>
                      <a:pt x="179" y="123"/>
                      <a:pt x="177" y="101"/>
                      <a:pt x="184" y="106"/>
                    </a:cubicBezTo>
                    <a:cubicBezTo>
                      <a:pt x="201" y="116"/>
                      <a:pt x="217" y="156"/>
                      <a:pt x="217" y="156"/>
                    </a:cubicBezTo>
                    <a:cubicBezTo>
                      <a:pt x="220" y="125"/>
                      <a:pt x="204" y="86"/>
                      <a:pt x="226" y="64"/>
                    </a:cubicBezTo>
                    <a:cubicBezTo>
                      <a:pt x="242" y="48"/>
                      <a:pt x="242" y="131"/>
                      <a:pt x="242" y="131"/>
                    </a:cubicBezTo>
                    <a:cubicBezTo>
                      <a:pt x="245" y="117"/>
                      <a:pt x="251" y="103"/>
                      <a:pt x="251" y="89"/>
                    </a:cubicBezTo>
                    <a:cubicBezTo>
                      <a:pt x="251" y="40"/>
                      <a:pt x="226" y="0"/>
                      <a:pt x="259" y="64"/>
                    </a:cubicBezTo>
                    <a:cubicBezTo>
                      <a:pt x="262" y="78"/>
                      <a:pt x="262" y="93"/>
                      <a:pt x="267" y="106"/>
                    </a:cubicBezTo>
                    <a:cubicBezTo>
                      <a:pt x="271" y="115"/>
                      <a:pt x="277" y="138"/>
                      <a:pt x="284" y="131"/>
                    </a:cubicBezTo>
                    <a:cubicBezTo>
                      <a:pt x="296" y="119"/>
                      <a:pt x="289" y="98"/>
                      <a:pt x="292" y="81"/>
                    </a:cubicBezTo>
                    <a:cubicBezTo>
                      <a:pt x="327" y="115"/>
                      <a:pt x="358" y="157"/>
                      <a:pt x="384" y="198"/>
                    </a:cubicBezTo>
                    <a:cubicBezTo>
                      <a:pt x="381" y="187"/>
                      <a:pt x="365" y="168"/>
                      <a:pt x="376" y="164"/>
                    </a:cubicBezTo>
                    <a:cubicBezTo>
                      <a:pt x="409" y="152"/>
                      <a:pt x="409" y="203"/>
                      <a:pt x="418" y="214"/>
                    </a:cubicBezTo>
                    <a:cubicBezTo>
                      <a:pt x="424" y="222"/>
                      <a:pt x="435" y="225"/>
                      <a:pt x="443" y="231"/>
                    </a:cubicBezTo>
                    <a:cubicBezTo>
                      <a:pt x="495" y="270"/>
                      <a:pt x="521" y="283"/>
                      <a:pt x="568" y="315"/>
                    </a:cubicBezTo>
                    <a:cubicBezTo>
                      <a:pt x="574" y="306"/>
                      <a:pt x="585" y="299"/>
                      <a:pt x="585" y="289"/>
                    </a:cubicBezTo>
                    <a:cubicBezTo>
                      <a:pt x="585" y="277"/>
                      <a:pt x="557" y="262"/>
                      <a:pt x="568" y="256"/>
                    </a:cubicBezTo>
                    <a:cubicBezTo>
                      <a:pt x="580" y="250"/>
                      <a:pt x="591" y="271"/>
                      <a:pt x="601" y="281"/>
                    </a:cubicBezTo>
                    <a:cubicBezTo>
                      <a:pt x="611" y="291"/>
                      <a:pt x="616" y="305"/>
                      <a:pt x="626" y="315"/>
                    </a:cubicBezTo>
                    <a:cubicBezTo>
                      <a:pt x="643" y="332"/>
                      <a:pt x="666" y="342"/>
                      <a:pt x="685" y="356"/>
                    </a:cubicBezTo>
                    <a:cubicBezTo>
                      <a:pt x="679" y="339"/>
                      <a:pt x="655" y="318"/>
                      <a:pt x="668" y="306"/>
                    </a:cubicBezTo>
                    <a:cubicBezTo>
                      <a:pt x="680" y="295"/>
                      <a:pt x="690" y="329"/>
                      <a:pt x="702" y="340"/>
                    </a:cubicBezTo>
                    <a:cubicBezTo>
                      <a:pt x="752" y="384"/>
                      <a:pt x="721" y="344"/>
                      <a:pt x="752" y="390"/>
                    </a:cubicBezTo>
                    <a:cubicBezTo>
                      <a:pt x="749" y="379"/>
                      <a:pt x="750" y="366"/>
                      <a:pt x="743" y="356"/>
                    </a:cubicBezTo>
                    <a:cubicBezTo>
                      <a:pt x="734" y="343"/>
                      <a:pt x="684" y="332"/>
                      <a:pt x="693" y="306"/>
                    </a:cubicBezTo>
                    <a:cubicBezTo>
                      <a:pt x="697" y="295"/>
                      <a:pt x="716" y="312"/>
                      <a:pt x="727" y="315"/>
                    </a:cubicBezTo>
                    <a:cubicBezTo>
                      <a:pt x="763" y="337"/>
                      <a:pt x="801" y="358"/>
                      <a:pt x="835" y="381"/>
                    </a:cubicBezTo>
                    <a:cubicBezTo>
                      <a:pt x="850" y="391"/>
                      <a:pt x="863" y="404"/>
                      <a:pt x="877" y="415"/>
                    </a:cubicBezTo>
                    <a:cubicBezTo>
                      <a:pt x="885" y="421"/>
                      <a:pt x="907" y="440"/>
                      <a:pt x="902" y="431"/>
                    </a:cubicBezTo>
                    <a:cubicBezTo>
                      <a:pt x="881" y="391"/>
                      <a:pt x="795" y="381"/>
                      <a:pt x="885" y="398"/>
                    </a:cubicBezTo>
                    <a:cubicBezTo>
                      <a:pt x="906" y="429"/>
                      <a:pt x="934" y="447"/>
                      <a:pt x="960" y="473"/>
                    </a:cubicBezTo>
                    <a:cubicBezTo>
                      <a:pt x="957" y="459"/>
                      <a:pt x="943" y="442"/>
                      <a:pt x="952" y="431"/>
                    </a:cubicBezTo>
                    <a:cubicBezTo>
                      <a:pt x="959" y="422"/>
                      <a:pt x="975" y="435"/>
                      <a:pt x="985" y="440"/>
                    </a:cubicBezTo>
                    <a:cubicBezTo>
                      <a:pt x="1119" y="507"/>
                      <a:pt x="1007" y="465"/>
                      <a:pt x="1077" y="490"/>
                    </a:cubicBezTo>
                    <a:cubicBezTo>
                      <a:pt x="1125" y="457"/>
                      <a:pt x="1275" y="488"/>
                      <a:pt x="1303" y="490"/>
                    </a:cubicBezTo>
                    <a:cubicBezTo>
                      <a:pt x="1314" y="497"/>
                      <a:pt x="1372" y="534"/>
                      <a:pt x="1386" y="548"/>
                    </a:cubicBezTo>
                    <a:cubicBezTo>
                      <a:pt x="1393" y="555"/>
                      <a:pt x="1396" y="566"/>
                      <a:pt x="1403" y="573"/>
                    </a:cubicBezTo>
                    <a:cubicBezTo>
                      <a:pt x="1410" y="580"/>
                      <a:pt x="1428" y="580"/>
                      <a:pt x="1428" y="590"/>
                    </a:cubicBezTo>
                    <a:cubicBezTo>
                      <a:pt x="1428" y="599"/>
                      <a:pt x="1411" y="585"/>
                      <a:pt x="1403" y="582"/>
                    </a:cubicBezTo>
                    <a:cubicBezTo>
                      <a:pt x="1344" y="523"/>
                      <a:pt x="1240" y="526"/>
                      <a:pt x="1161" y="515"/>
                    </a:cubicBezTo>
                    <a:cubicBezTo>
                      <a:pt x="1069" y="518"/>
                      <a:pt x="977" y="529"/>
                      <a:pt x="885" y="523"/>
                    </a:cubicBezTo>
                    <a:cubicBezTo>
                      <a:pt x="873" y="522"/>
                      <a:pt x="900" y="504"/>
                      <a:pt x="910" y="498"/>
                    </a:cubicBezTo>
                    <a:cubicBezTo>
                      <a:pt x="951" y="472"/>
                      <a:pt x="1052" y="465"/>
                      <a:pt x="1052" y="465"/>
                    </a:cubicBezTo>
                    <a:cubicBezTo>
                      <a:pt x="1066" y="468"/>
                      <a:pt x="1105" y="464"/>
                      <a:pt x="1094" y="473"/>
                    </a:cubicBezTo>
                    <a:cubicBezTo>
                      <a:pt x="1088" y="478"/>
                      <a:pt x="991" y="499"/>
                      <a:pt x="969" y="507"/>
                    </a:cubicBezTo>
                    <a:cubicBezTo>
                      <a:pt x="994" y="510"/>
                      <a:pt x="1020" y="507"/>
                      <a:pt x="1044" y="515"/>
                    </a:cubicBezTo>
                    <a:cubicBezTo>
                      <a:pt x="1052" y="518"/>
                      <a:pt x="1019" y="514"/>
                      <a:pt x="1019" y="523"/>
                    </a:cubicBezTo>
                    <a:cubicBezTo>
                      <a:pt x="1019" y="558"/>
                      <a:pt x="1084" y="568"/>
                      <a:pt x="1010" y="548"/>
                    </a:cubicBezTo>
                    <a:cubicBezTo>
                      <a:pt x="1030" y="562"/>
                      <a:pt x="1049" y="576"/>
                      <a:pt x="1069" y="590"/>
                    </a:cubicBezTo>
                    <a:cubicBezTo>
                      <a:pt x="1079" y="597"/>
                      <a:pt x="1086" y="623"/>
                      <a:pt x="1094" y="615"/>
                    </a:cubicBezTo>
                    <a:cubicBezTo>
                      <a:pt x="1107" y="602"/>
                      <a:pt x="988" y="492"/>
                      <a:pt x="1027" y="515"/>
                    </a:cubicBezTo>
                    <a:cubicBezTo>
                      <a:pt x="1041" y="523"/>
                      <a:pt x="1055" y="532"/>
                      <a:pt x="1069" y="540"/>
                    </a:cubicBezTo>
                    <a:cubicBezTo>
                      <a:pt x="1080" y="546"/>
                      <a:pt x="1092" y="550"/>
                      <a:pt x="1102" y="557"/>
                    </a:cubicBezTo>
                    <a:cubicBezTo>
                      <a:pt x="1233" y="645"/>
                      <a:pt x="1153" y="590"/>
                      <a:pt x="1111" y="548"/>
                    </a:cubicBezTo>
                    <a:cubicBezTo>
                      <a:pt x="1101" y="538"/>
                      <a:pt x="1076" y="525"/>
                      <a:pt x="1086" y="515"/>
                    </a:cubicBezTo>
                    <a:cubicBezTo>
                      <a:pt x="1096" y="505"/>
                      <a:pt x="1107" y="533"/>
                      <a:pt x="1119" y="540"/>
                    </a:cubicBezTo>
                    <a:cubicBezTo>
                      <a:pt x="1148" y="559"/>
                      <a:pt x="1173" y="579"/>
                      <a:pt x="1202" y="598"/>
                    </a:cubicBezTo>
                    <a:cubicBezTo>
                      <a:pt x="1165" y="541"/>
                      <a:pt x="1212" y="610"/>
                      <a:pt x="1152" y="540"/>
                    </a:cubicBezTo>
                    <a:cubicBezTo>
                      <a:pt x="1146" y="533"/>
                      <a:pt x="1129" y="522"/>
                      <a:pt x="1136" y="515"/>
                    </a:cubicBezTo>
                    <a:cubicBezTo>
                      <a:pt x="1144" y="507"/>
                      <a:pt x="1158" y="520"/>
                      <a:pt x="1169" y="523"/>
                    </a:cubicBezTo>
                    <a:cubicBezTo>
                      <a:pt x="1183" y="534"/>
                      <a:pt x="1197" y="545"/>
                      <a:pt x="1211" y="557"/>
                    </a:cubicBezTo>
                    <a:cubicBezTo>
                      <a:pt x="1220" y="565"/>
                      <a:pt x="1226" y="588"/>
                      <a:pt x="1236" y="582"/>
                    </a:cubicBezTo>
                    <a:cubicBezTo>
                      <a:pt x="1246" y="576"/>
                      <a:pt x="1232" y="559"/>
                      <a:pt x="1227" y="548"/>
                    </a:cubicBezTo>
                    <a:cubicBezTo>
                      <a:pt x="1211" y="509"/>
                      <a:pt x="1180" y="514"/>
                      <a:pt x="1269" y="540"/>
                    </a:cubicBezTo>
                    <a:cubicBezTo>
                      <a:pt x="1327" y="579"/>
                      <a:pt x="1302" y="562"/>
                      <a:pt x="1344" y="590"/>
                    </a:cubicBezTo>
                    <a:cubicBezTo>
                      <a:pt x="1352" y="596"/>
                      <a:pt x="1375" y="615"/>
                      <a:pt x="1369" y="607"/>
                    </a:cubicBezTo>
                    <a:cubicBezTo>
                      <a:pt x="1352" y="583"/>
                      <a:pt x="1324" y="566"/>
                      <a:pt x="1311" y="540"/>
                    </a:cubicBezTo>
                    <a:cubicBezTo>
                      <a:pt x="1306" y="531"/>
                      <a:pt x="1328" y="551"/>
                      <a:pt x="1336" y="557"/>
                    </a:cubicBezTo>
                    <a:cubicBezTo>
                      <a:pt x="1379" y="588"/>
                      <a:pt x="1354" y="577"/>
                      <a:pt x="1394" y="590"/>
                    </a:cubicBezTo>
                    <a:cubicBezTo>
                      <a:pt x="1405" y="598"/>
                      <a:pt x="1416" y="608"/>
                      <a:pt x="1428" y="615"/>
                    </a:cubicBezTo>
                    <a:cubicBezTo>
                      <a:pt x="1436" y="619"/>
                      <a:pt x="1458" y="630"/>
                      <a:pt x="1453" y="623"/>
                    </a:cubicBezTo>
                    <a:cubicBezTo>
                      <a:pt x="1443" y="608"/>
                      <a:pt x="1424" y="602"/>
                      <a:pt x="1411" y="590"/>
                    </a:cubicBezTo>
                    <a:cubicBezTo>
                      <a:pt x="1402" y="582"/>
                      <a:pt x="1432" y="607"/>
                      <a:pt x="1444" y="6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>
                <a:off x="4592160" y="3911400"/>
                <a:ext cx="1066680" cy="1206360"/>
              </a:xfrm>
              <a:custGeom>
                <a:avLst/>
                <a:gdLst/>
                <a:ahLst/>
                <a:rect l="l" t="t" r="r" b="b"/>
                <a:pathLst>
                  <a:path w="621" h="760">
                    <a:moveTo>
                      <a:pt x="62" y="0"/>
                    </a:moveTo>
                    <a:cubicBezTo>
                      <a:pt x="51" y="3"/>
                      <a:pt x="39" y="3"/>
                      <a:pt x="28" y="8"/>
                    </a:cubicBezTo>
                    <a:cubicBezTo>
                      <a:pt x="19" y="12"/>
                      <a:pt x="0" y="16"/>
                      <a:pt x="3" y="25"/>
                    </a:cubicBezTo>
                    <a:cubicBezTo>
                      <a:pt x="7" y="36"/>
                      <a:pt x="25" y="32"/>
                      <a:pt x="37" y="33"/>
                    </a:cubicBezTo>
                    <a:cubicBezTo>
                      <a:pt x="79" y="37"/>
                      <a:pt x="120" y="39"/>
                      <a:pt x="162" y="42"/>
                    </a:cubicBezTo>
                    <a:cubicBezTo>
                      <a:pt x="203" y="55"/>
                      <a:pt x="192" y="46"/>
                      <a:pt x="145" y="67"/>
                    </a:cubicBezTo>
                    <a:cubicBezTo>
                      <a:pt x="134" y="72"/>
                      <a:pt x="123" y="78"/>
                      <a:pt x="112" y="84"/>
                    </a:cubicBezTo>
                    <a:cubicBezTo>
                      <a:pt x="168" y="87"/>
                      <a:pt x="224" y="82"/>
                      <a:pt x="279" y="92"/>
                    </a:cubicBezTo>
                    <a:cubicBezTo>
                      <a:pt x="289" y="94"/>
                      <a:pt x="249" y="101"/>
                      <a:pt x="254" y="109"/>
                    </a:cubicBezTo>
                    <a:cubicBezTo>
                      <a:pt x="262" y="121"/>
                      <a:pt x="281" y="114"/>
                      <a:pt x="295" y="117"/>
                    </a:cubicBezTo>
                    <a:cubicBezTo>
                      <a:pt x="323" y="124"/>
                      <a:pt x="347" y="135"/>
                      <a:pt x="371" y="150"/>
                    </a:cubicBezTo>
                    <a:cubicBezTo>
                      <a:pt x="362" y="156"/>
                      <a:pt x="345" y="157"/>
                      <a:pt x="345" y="167"/>
                    </a:cubicBezTo>
                    <a:cubicBezTo>
                      <a:pt x="345" y="199"/>
                      <a:pt x="410" y="172"/>
                      <a:pt x="345" y="192"/>
                    </a:cubicBezTo>
                    <a:cubicBezTo>
                      <a:pt x="354" y="198"/>
                      <a:pt x="371" y="199"/>
                      <a:pt x="371" y="209"/>
                    </a:cubicBezTo>
                    <a:cubicBezTo>
                      <a:pt x="371" y="218"/>
                      <a:pt x="354" y="215"/>
                      <a:pt x="345" y="217"/>
                    </a:cubicBezTo>
                    <a:cubicBezTo>
                      <a:pt x="334" y="220"/>
                      <a:pt x="323" y="222"/>
                      <a:pt x="312" y="225"/>
                    </a:cubicBezTo>
                    <a:cubicBezTo>
                      <a:pt x="326" y="228"/>
                      <a:pt x="342" y="226"/>
                      <a:pt x="354" y="234"/>
                    </a:cubicBezTo>
                    <a:cubicBezTo>
                      <a:pt x="396" y="262"/>
                      <a:pt x="308" y="295"/>
                      <a:pt x="295" y="301"/>
                    </a:cubicBezTo>
                    <a:cubicBezTo>
                      <a:pt x="301" y="309"/>
                      <a:pt x="312" y="316"/>
                      <a:pt x="312" y="326"/>
                    </a:cubicBezTo>
                    <a:cubicBezTo>
                      <a:pt x="312" y="357"/>
                      <a:pt x="234" y="373"/>
                      <a:pt x="204" y="392"/>
                    </a:cubicBezTo>
                    <a:cubicBezTo>
                      <a:pt x="212" y="395"/>
                      <a:pt x="225" y="393"/>
                      <a:pt x="229" y="401"/>
                    </a:cubicBezTo>
                    <a:cubicBezTo>
                      <a:pt x="239" y="421"/>
                      <a:pt x="203" y="437"/>
                      <a:pt x="195" y="442"/>
                    </a:cubicBezTo>
                    <a:cubicBezTo>
                      <a:pt x="260" y="465"/>
                      <a:pt x="269" y="450"/>
                      <a:pt x="320" y="501"/>
                    </a:cubicBezTo>
                    <a:cubicBezTo>
                      <a:pt x="317" y="512"/>
                      <a:pt x="318" y="524"/>
                      <a:pt x="312" y="534"/>
                    </a:cubicBezTo>
                    <a:cubicBezTo>
                      <a:pt x="306" y="544"/>
                      <a:pt x="287" y="547"/>
                      <a:pt x="287" y="559"/>
                    </a:cubicBezTo>
                    <a:cubicBezTo>
                      <a:pt x="287" y="568"/>
                      <a:pt x="304" y="564"/>
                      <a:pt x="312" y="568"/>
                    </a:cubicBezTo>
                    <a:cubicBezTo>
                      <a:pt x="321" y="572"/>
                      <a:pt x="329" y="579"/>
                      <a:pt x="337" y="584"/>
                    </a:cubicBezTo>
                    <a:cubicBezTo>
                      <a:pt x="351" y="628"/>
                      <a:pt x="372" y="613"/>
                      <a:pt x="412" y="626"/>
                    </a:cubicBezTo>
                    <a:cubicBezTo>
                      <a:pt x="437" y="695"/>
                      <a:pt x="532" y="723"/>
                      <a:pt x="596" y="743"/>
                    </a:cubicBezTo>
                    <a:cubicBezTo>
                      <a:pt x="604" y="749"/>
                      <a:pt x="621" y="760"/>
                      <a:pt x="621" y="76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077"/>
              <p:cNvSpPr/>
              <p:nvPr/>
            </p:nvSpPr>
            <p:spPr>
              <a:xfrm>
                <a:off x="4899960" y="4707000"/>
                <a:ext cx="687600" cy="2530080"/>
              </a:xfrm>
              <a:custGeom>
                <a:avLst/>
                <a:gdLst/>
                <a:ahLst/>
                <a:rect l="l" t="t" r="r" b="b"/>
                <a:pathLst>
                  <a:path w="400" h="1594">
                    <a:moveTo>
                      <a:pt x="0" y="0"/>
                    </a:moveTo>
                    <a:cubicBezTo>
                      <a:pt x="16" y="25"/>
                      <a:pt x="24" y="47"/>
                      <a:pt x="33" y="75"/>
                    </a:cubicBezTo>
                    <a:cubicBezTo>
                      <a:pt x="41" y="269"/>
                      <a:pt x="22" y="213"/>
                      <a:pt x="75" y="317"/>
                    </a:cubicBezTo>
                    <a:cubicBezTo>
                      <a:pt x="82" y="360"/>
                      <a:pt x="84" y="427"/>
                      <a:pt x="100" y="467"/>
                    </a:cubicBezTo>
                    <a:cubicBezTo>
                      <a:pt x="104" y="478"/>
                      <a:pt x="118" y="483"/>
                      <a:pt x="125" y="492"/>
                    </a:cubicBezTo>
                    <a:cubicBezTo>
                      <a:pt x="137" y="508"/>
                      <a:pt x="158" y="543"/>
                      <a:pt x="158" y="543"/>
                    </a:cubicBezTo>
                    <a:cubicBezTo>
                      <a:pt x="161" y="596"/>
                      <a:pt x="161" y="648"/>
                      <a:pt x="166" y="701"/>
                    </a:cubicBezTo>
                    <a:cubicBezTo>
                      <a:pt x="169" y="738"/>
                      <a:pt x="197" y="775"/>
                      <a:pt x="208" y="810"/>
                    </a:cubicBezTo>
                    <a:cubicBezTo>
                      <a:pt x="216" y="895"/>
                      <a:pt x="228" y="990"/>
                      <a:pt x="267" y="1068"/>
                    </a:cubicBezTo>
                    <a:cubicBezTo>
                      <a:pt x="284" y="1102"/>
                      <a:pt x="304" y="1133"/>
                      <a:pt x="317" y="1169"/>
                    </a:cubicBezTo>
                    <a:cubicBezTo>
                      <a:pt x="323" y="1350"/>
                      <a:pt x="274" y="1367"/>
                      <a:pt x="375" y="1436"/>
                    </a:cubicBezTo>
                    <a:cubicBezTo>
                      <a:pt x="399" y="1504"/>
                      <a:pt x="400" y="1503"/>
                      <a:pt x="400" y="159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>
                <a:off x="4612680" y="3952800"/>
                <a:ext cx="561960" cy="3220560"/>
              </a:xfrm>
              <a:custGeom>
                <a:avLst/>
                <a:gdLst/>
                <a:ahLst/>
                <a:rect l="l" t="t" r="r" b="b"/>
                <a:pathLst>
                  <a:path w="327" h="2029">
                    <a:moveTo>
                      <a:pt x="0" y="0"/>
                    </a:moveTo>
                    <a:cubicBezTo>
                      <a:pt x="4" y="94"/>
                      <a:pt x="0" y="192"/>
                      <a:pt x="25" y="284"/>
                    </a:cubicBezTo>
                    <a:cubicBezTo>
                      <a:pt x="35" y="379"/>
                      <a:pt x="25" y="334"/>
                      <a:pt x="50" y="410"/>
                    </a:cubicBezTo>
                    <a:cubicBezTo>
                      <a:pt x="55" y="427"/>
                      <a:pt x="66" y="460"/>
                      <a:pt x="66" y="460"/>
                    </a:cubicBezTo>
                    <a:cubicBezTo>
                      <a:pt x="75" y="524"/>
                      <a:pt x="78" y="600"/>
                      <a:pt x="100" y="660"/>
                    </a:cubicBezTo>
                    <a:cubicBezTo>
                      <a:pt x="104" y="721"/>
                      <a:pt x="95" y="786"/>
                      <a:pt x="116" y="844"/>
                    </a:cubicBezTo>
                    <a:cubicBezTo>
                      <a:pt x="125" y="869"/>
                      <a:pt x="146" y="887"/>
                      <a:pt x="158" y="910"/>
                    </a:cubicBezTo>
                    <a:cubicBezTo>
                      <a:pt x="168" y="977"/>
                      <a:pt x="163" y="1047"/>
                      <a:pt x="183" y="1111"/>
                    </a:cubicBezTo>
                    <a:cubicBezTo>
                      <a:pt x="190" y="1201"/>
                      <a:pt x="206" y="1269"/>
                      <a:pt x="233" y="1353"/>
                    </a:cubicBezTo>
                    <a:cubicBezTo>
                      <a:pt x="237" y="1366"/>
                      <a:pt x="256" y="1370"/>
                      <a:pt x="267" y="1378"/>
                    </a:cubicBezTo>
                    <a:cubicBezTo>
                      <a:pt x="318" y="1458"/>
                      <a:pt x="291" y="1495"/>
                      <a:pt x="300" y="1620"/>
                    </a:cubicBezTo>
                    <a:cubicBezTo>
                      <a:pt x="302" y="1646"/>
                      <a:pt x="324" y="1669"/>
                      <a:pt x="325" y="1695"/>
                    </a:cubicBezTo>
                    <a:cubicBezTo>
                      <a:pt x="327" y="1806"/>
                      <a:pt x="325" y="1918"/>
                      <a:pt x="325" y="202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>
                <a:off x="5616000" y="5091120"/>
                <a:ext cx="162000" cy="1032840"/>
              </a:xfrm>
              <a:custGeom>
                <a:avLst/>
                <a:gdLst/>
                <a:ahLst/>
                <a:rect l="l" t="t" r="r" b="b"/>
                <a:pathLst>
                  <a:path w="94" h="651">
                    <a:moveTo>
                      <a:pt x="0" y="0"/>
                    </a:moveTo>
                    <a:cubicBezTo>
                      <a:pt x="3" y="42"/>
                      <a:pt x="1" y="84"/>
                      <a:pt x="8" y="125"/>
                    </a:cubicBezTo>
                    <a:cubicBezTo>
                      <a:pt x="10" y="135"/>
                      <a:pt x="24" y="140"/>
                      <a:pt x="25" y="150"/>
                    </a:cubicBezTo>
                    <a:cubicBezTo>
                      <a:pt x="27" y="170"/>
                      <a:pt x="20" y="189"/>
                      <a:pt x="17" y="209"/>
                    </a:cubicBezTo>
                    <a:cubicBezTo>
                      <a:pt x="20" y="267"/>
                      <a:pt x="18" y="326"/>
                      <a:pt x="25" y="384"/>
                    </a:cubicBezTo>
                    <a:cubicBezTo>
                      <a:pt x="29" y="416"/>
                      <a:pt x="75" y="467"/>
                      <a:pt x="75" y="467"/>
                    </a:cubicBezTo>
                    <a:cubicBezTo>
                      <a:pt x="94" y="528"/>
                      <a:pt x="92" y="588"/>
                      <a:pt x="92" y="65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080"/>
              <p:cNvSpPr/>
              <p:nvPr/>
            </p:nvSpPr>
            <p:spPr>
              <a:xfrm>
                <a:off x="5646240" y="4962240"/>
                <a:ext cx="1623960" cy="166680"/>
              </a:xfrm>
              <a:custGeom>
                <a:avLst/>
                <a:gdLst/>
                <a:ahLst/>
                <a:rect l="l" t="t" r="r" b="b"/>
                <a:pathLst>
                  <a:path w="945" h="105">
                    <a:moveTo>
                      <a:pt x="0" y="64"/>
                    </a:moveTo>
                    <a:cubicBezTo>
                      <a:pt x="33" y="67"/>
                      <a:pt x="67" y="78"/>
                      <a:pt x="100" y="73"/>
                    </a:cubicBezTo>
                    <a:cubicBezTo>
                      <a:pt x="109" y="72"/>
                      <a:pt x="100" y="50"/>
                      <a:pt x="108" y="48"/>
                    </a:cubicBezTo>
                    <a:cubicBezTo>
                      <a:pt x="124" y="43"/>
                      <a:pt x="141" y="53"/>
                      <a:pt x="158" y="56"/>
                    </a:cubicBezTo>
                    <a:cubicBezTo>
                      <a:pt x="230" y="105"/>
                      <a:pt x="145" y="59"/>
                      <a:pt x="192" y="48"/>
                    </a:cubicBezTo>
                    <a:cubicBezTo>
                      <a:pt x="214" y="43"/>
                      <a:pt x="236" y="53"/>
                      <a:pt x="258" y="56"/>
                    </a:cubicBezTo>
                    <a:cubicBezTo>
                      <a:pt x="251" y="34"/>
                      <a:pt x="236" y="15"/>
                      <a:pt x="283" y="23"/>
                    </a:cubicBezTo>
                    <a:cubicBezTo>
                      <a:pt x="330" y="31"/>
                      <a:pt x="358" y="58"/>
                      <a:pt x="400" y="73"/>
                    </a:cubicBezTo>
                    <a:cubicBezTo>
                      <a:pt x="432" y="62"/>
                      <a:pt x="444" y="71"/>
                      <a:pt x="475" y="81"/>
                    </a:cubicBezTo>
                    <a:cubicBezTo>
                      <a:pt x="394" y="0"/>
                      <a:pt x="560" y="83"/>
                      <a:pt x="584" y="89"/>
                    </a:cubicBezTo>
                    <a:cubicBezTo>
                      <a:pt x="640" y="71"/>
                      <a:pt x="693" y="64"/>
                      <a:pt x="751" y="64"/>
                    </a:cubicBezTo>
                    <a:lnTo>
                      <a:pt x="945" y="8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081"/>
              <p:cNvSpPr/>
              <p:nvPr/>
            </p:nvSpPr>
            <p:spPr>
              <a:xfrm>
                <a:off x="4615920" y="3990960"/>
                <a:ext cx="725400" cy="3254040"/>
              </a:xfrm>
              <a:custGeom>
                <a:avLst/>
                <a:gdLst/>
                <a:ahLst/>
                <a:rect l="l" t="t" r="r" b="b"/>
                <a:pathLst>
                  <a:path w="457" h="2050">
                    <a:moveTo>
                      <a:pt x="380" y="1979"/>
                    </a:moveTo>
                    <a:cubicBezTo>
                      <a:pt x="401" y="2005"/>
                      <a:pt x="427" y="2050"/>
                      <a:pt x="397" y="1962"/>
                    </a:cubicBezTo>
                    <a:cubicBezTo>
                      <a:pt x="387" y="1933"/>
                      <a:pt x="359" y="1931"/>
                      <a:pt x="406" y="1945"/>
                    </a:cubicBezTo>
                    <a:cubicBezTo>
                      <a:pt x="411" y="1953"/>
                      <a:pt x="412" y="1970"/>
                      <a:pt x="422" y="1970"/>
                    </a:cubicBezTo>
                    <a:cubicBezTo>
                      <a:pt x="431" y="1970"/>
                      <a:pt x="434" y="1953"/>
                      <a:pt x="431" y="1945"/>
                    </a:cubicBezTo>
                    <a:cubicBezTo>
                      <a:pt x="413" y="1891"/>
                      <a:pt x="364" y="1887"/>
                      <a:pt x="431" y="1903"/>
                    </a:cubicBezTo>
                    <a:cubicBezTo>
                      <a:pt x="448" y="1956"/>
                      <a:pt x="436" y="1913"/>
                      <a:pt x="414" y="1887"/>
                    </a:cubicBezTo>
                    <a:cubicBezTo>
                      <a:pt x="400" y="1871"/>
                      <a:pt x="363" y="1862"/>
                      <a:pt x="414" y="1878"/>
                    </a:cubicBezTo>
                    <a:cubicBezTo>
                      <a:pt x="457" y="1941"/>
                      <a:pt x="390" y="1873"/>
                      <a:pt x="372" y="1862"/>
                    </a:cubicBezTo>
                    <a:cubicBezTo>
                      <a:pt x="378" y="1870"/>
                      <a:pt x="380" y="1890"/>
                      <a:pt x="389" y="1887"/>
                    </a:cubicBezTo>
                    <a:cubicBezTo>
                      <a:pt x="400" y="1883"/>
                      <a:pt x="400" y="1864"/>
                      <a:pt x="397" y="1853"/>
                    </a:cubicBezTo>
                    <a:cubicBezTo>
                      <a:pt x="393" y="1837"/>
                      <a:pt x="367" y="1827"/>
                      <a:pt x="372" y="1812"/>
                    </a:cubicBezTo>
                    <a:cubicBezTo>
                      <a:pt x="376" y="1800"/>
                      <a:pt x="394" y="1823"/>
                      <a:pt x="406" y="1828"/>
                    </a:cubicBezTo>
                    <a:cubicBezTo>
                      <a:pt x="414" y="1831"/>
                      <a:pt x="423" y="1834"/>
                      <a:pt x="431" y="1837"/>
                    </a:cubicBezTo>
                    <a:cubicBezTo>
                      <a:pt x="423" y="1826"/>
                      <a:pt x="415" y="1814"/>
                      <a:pt x="406" y="1803"/>
                    </a:cubicBezTo>
                    <a:cubicBezTo>
                      <a:pt x="381" y="1774"/>
                      <a:pt x="363" y="1772"/>
                      <a:pt x="406" y="1787"/>
                    </a:cubicBezTo>
                    <a:cubicBezTo>
                      <a:pt x="389" y="1770"/>
                      <a:pt x="368" y="1756"/>
                      <a:pt x="355" y="1736"/>
                    </a:cubicBezTo>
                    <a:cubicBezTo>
                      <a:pt x="350" y="1728"/>
                      <a:pt x="334" y="1720"/>
                      <a:pt x="339" y="1711"/>
                    </a:cubicBezTo>
                    <a:cubicBezTo>
                      <a:pt x="343" y="1703"/>
                      <a:pt x="356" y="1716"/>
                      <a:pt x="364" y="1720"/>
                    </a:cubicBezTo>
                    <a:cubicBezTo>
                      <a:pt x="375" y="1725"/>
                      <a:pt x="386" y="1731"/>
                      <a:pt x="397" y="1736"/>
                    </a:cubicBezTo>
                    <a:cubicBezTo>
                      <a:pt x="389" y="1728"/>
                      <a:pt x="380" y="1720"/>
                      <a:pt x="372" y="1711"/>
                    </a:cubicBezTo>
                    <a:cubicBezTo>
                      <a:pt x="366" y="1703"/>
                      <a:pt x="348" y="1693"/>
                      <a:pt x="355" y="1686"/>
                    </a:cubicBezTo>
                    <a:cubicBezTo>
                      <a:pt x="364" y="1678"/>
                      <a:pt x="378" y="1692"/>
                      <a:pt x="389" y="1695"/>
                    </a:cubicBezTo>
                    <a:cubicBezTo>
                      <a:pt x="386" y="1684"/>
                      <a:pt x="386" y="1671"/>
                      <a:pt x="380" y="1661"/>
                    </a:cubicBezTo>
                    <a:cubicBezTo>
                      <a:pt x="375" y="1652"/>
                      <a:pt x="298" y="1583"/>
                      <a:pt x="364" y="1628"/>
                    </a:cubicBezTo>
                    <a:cubicBezTo>
                      <a:pt x="349" y="1585"/>
                      <a:pt x="363" y="1618"/>
                      <a:pt x="330" y="1570"/>
                    </a:cubicBezTo>
                    <a:cubicBezTo>
                      <a:pt x="324" y="1562"/>
                      <a:pt x="309" y="1553"/>
                      <a:pt x="314" y="1544"/>
                    </a:cubicBezTo>
                    <a:cubicBezTo>
                      <a:pt x="318" y="1536"/>
                      <a:pt x="331" y="1550"/>
                      <a:pt x="339" y="1553"/>
                    </a:cubicBezTo>
                    <a:cubicBezTo>
                      <a:pt x="336" y="1545"/>
                      <a:pt x="324" y="1534"/>
                      <a:pt x="330" y="1528"/>
                    </a:cubicBezTo>
                    <a:cubicBezTo>
                      <a:pt x="339" y="1519"/>
                      <a:pt x="382" y="1564"/>
                      <a:pt x="347" y="1511"/>
                    </a:cubicBezTo>
                    <a:cubicBezTo>
                      <a:pt x="341" y="1501"/>
                      <a:pt x="331" y="1494"/>
                      <a:pt x="322" y="1486"/>
                    </a:cubicBezTo>
                    <a:cubicBezTo>
                      <a:pt x="314" y="1480"/>
                      <a:pt x="290" y="1476"/>
                      <a:pt x="297" y="1469"/>
                    </a:cubicBezTo>
                    <a:cubicBezTo>
                      <a:pt x="305" y="1461"/>
                      <a:pt x="319" y="1475"/>
                      <a:pt x="330" y="1478"/>
                    </a:cubicBezTo>
                    <a:cubicBezTo>
                      <a:pt x="322" y="1467"/>
                      <a:pt x="314" y="1455"/>
                      <a:pt x="305" y="1444"/>
                    </a:cubicBezTo>
                    <a:cubicBezTo>
                      <a:pt x="297" y="1435"/>
                      <a:pt x="280" y="1431"/>
                      <a:pt x="280" y="1419"/>
                    </a:cubicBezTo>
                    <a:cubicBezTo>
                      <a:pt x="280" y="1410"/>
                      <a:pt x="297" y="1414"/>
                      <a:pt x="305" y="1411"/>
                    </a:cubicBezTo>
                    <a:cubicBezTo>
                      <a:pt x="334" y="1420"/>
                      <a:pt x="350" y="1431"/>
                      <a:pt x="305" y="1386"/>
                    </a:cubicBezTo>
                    <a:cubicBezTo>
                      <a:pt x="272" y="1353"/>
                      <a:pt x="242" y="1356"/>
                      <a:pt x="322" y="1369"/>
                    </a:cubicBezTo>
                    <a:cubicBezTo>
                      <a:pt x="300" y="1352"/>
                      <a:pt x="277" y="1336"/>
                      <a:pt x="255" y="1319"/>
                    </a:cubicBezTo>
                    <a:cubicBezTo>
                      <a:pt x="247" y="1313"/>
                      <a:pt x="234" y="1303"/>
                      <a:pt x="239" y="1294"/>
                    </a:cubicBezTo>
                    <a:cubicBezTo>
                      <a:pt x="243" y="1286"/>
                      <a:pt x="256" y="1299"/>
                      <a:pt x="264" y="1302"/>
                    </a:cubicBezTo>
                    <a:cubicBezTo>
                      <a:pt x="272" y="1305"/>
                      <a:pt x="281" y="1308"/>
                      <a:pt x="289" y="1311"/>
                    </a:cubicBezTo>
                    <a:cubicBezTo>
                      <a:pt x="281" y="1303"/>
                      <a:pt x="273" y="1294"/>
                      <a:pt x="264" y="1286"/>
                    </a:cubicBezTo>
                    <a:cubicBezTo>
                      <a:pt x="256" y="1280"/>
                      <a:pt x="230" y="1274"/>
                      <a:pt x="239" y="1269"/>
                    </a:cubicBezTo>
                    <a:cubicBezTo>
                      <a:pt x="251" y="1262"/>
                      <a:pt x="267" y="1274"/>
                      <a:pt x="280" y="1277"/>
                    </a:cubicBezTo>
                    <a:cubicBezTo>
                      <a:pt x="289" y="1279"/>
                      <a:pt x="311" y="1292"/>
                      <a:pt x="305" y="1286"/>
                    </a:cubicBezTo>
                    <a:cubicBezTo>
                      <a:pt x="287" y="1268"/>
                      <a:pt x="257" y="1262"/>
                      <a:pt x="239" y="1244"/>
                    </a:cubicBezTo>
                    <a:cubicBezTo>
                      <a:pt x="202" y="1207"/>
                      <a:pt x="226" y="1220"/>
                      <a:pt x="247" y="1227"/>
                    </a:cubicBezTo>
                    <a:cubicBezTo>
                      <a:pt x="314" y="1273"/>
                      <a:pt x="235" y="1203"/>
                      <a:pt x="222" y="1194"/>
                    </a:cubicBezTo>
                    <a:cubicBezTo>
                      <a:pt x="233" y="1191"/>
                      <a:pt x="244" y="1186"/>
                      <a:pt x="255" y="1186"/>
                    </a:cubicBezTo>
                    <a:cubicBezTo>
                      <a:pt x="267" y="1186"/>
                      <a:pt x="291" y="1206"/>
                      <a:pt x="289" y="1194"/>
                    </a:cubicBezTo>
                    <a:cubicBezTo>
                      <a:pt x="281" y="1145"/>
                      <a:pt x="174" y="1095"/>
                      <a:pt x="264" y="1119"/>
                    </a:cubicBezTo>
                    <a:cubicBezTo>
                      <a:pt x="243" y="1103"/>
                      <a:pt x="217" y="1094"/>
                      <a:pt x="197" y="1077"/>
                    </a:cubicBezTo>
                    <a:cubicBezTo>
                      <a:pt x="189" y="1071"/>
                      <a:pt x="176" y="1061"/>
                      <a:pt x="180" y="1052"/>
                    </a:cubicBezTo>
                    <a:cubicBezTo>
                      <a:pt x="184" y="1044"/>
                      <a:pt x="197" y="1057"/>
                      <a:pt x="205" y="1060"/>
                    </a:cubicBezTo>
                    <a:cubicBezTo>
                      <a:pt x="213" y="1063"/>
                      <a:pt x="222" y="1066"/>
                      <a:pt x="230" y="1069"/>
                    </a:cubicBezTo>
                    <a:cubicBezTo>
                      <a:pt x="236" y="1080"/>
                      <a:pt x="247" y="1090"/>
                      <a:pt x="247" y="1102"/>
                    </a:cubicBezTo>
                    <a:cubicBezTo>
                      <a:pt x="247" y="1112"/>
                      <a:pt x="240" y="1127"/>
                      <a:pt x="230" y="1127"/>
                    </a:cubicBezTo>
                    <a:cubicBezTo>
                      <a:pt x="216" y="1127"/>
                      <a:pt x="199" y="1052"/>
                      <a:pt x="197" y="1044"/>
                    </a:cubicBezTo>
                    <a:cubicBezTo>
                      <a:pt x="195" y="1036"/>
                      <a:pt x="179" y="1019"/>
                      <a:pt x="188" y="1019"/>
                    </a:cubicBezTo>
                    <a:cubicBezTo>
                      <a:pt x="200" y="1019"/>
                      <a:pt x="205" y="1036"/>
                      <a:pt x="214" y="1044"/>
                    </a:cubicBezTo>
                    <a:cubicBezTo>
                      <a:pt x="217" y="1052"/>
                      <a:pt x="222" y="1078"/>
                      <a:pt x="222" y="1069"/>
                    </a:cubicBezTo>
                    <a:cubicBezTo>
                      <a:pt x="222" y="1057"/>
                      <a:pt x="218" y="1046"/>
                      <a:pt x="214" y="1035"/>
                    </a:cubicBezTo>
                    <a:cubicBezTo>
                      <a:pt x="183" y="960"/>
                      <a:pt x="152" y="961"/>
                      <a:pt x="214" y="977"/>
                    </a:cubicBezTo>
                    <a:cubicBezTo>
                      <a:pt x="210" y="975"/>
                      <a:pt x="164" y="950"/>
                      <a:pt x="172" y="935"/>
                    </a:cubicBezTo>
                    <a:cubicBezTo>
                      <a:pt x="176" y="927"/>
                      <a:pt x="189" y="940"/>
                      <a:pt x="197" y="943"/>
                    </a:cubicBezTo>
                    <a:cubicBezTo>
                      <a:pt x="186" y="912"/>
                      <a:pt x="176" y="882"/>
                      <a:pt x="163" y="852"/>
                    </a:cubicBezTo>
                    <a:cubicBezTo>
                      <a:pt x="171" y="849"/>
                      <a:pt x="188" y="852"/>
                      <a:pt x="188" y="843"/>
                    </a:cubicBezTo>
                    <a:cubicBezTo>
                      <a:pt x="188" y="820"/>
                      <a:pt x="98" y="760"/>
                      <a:pt x="180" y="802"/>
                    </a:cubicBezTo>
                    <a:cubicBezTo>
                      <a:pt x="162" y="742"/>
                      <a:pt x="137" y="717"/>
                      <a:pt x="80" y="701"/>
                    </a:cubicBezTo>
                    <a:cubicBezTo>
                      <a:pt x="83" y="718"/>
                      <a:pt x="79" y="737"/>
                      <a:pt x="88" y="751"/>
                    </a:cubicBezTo>
                    <a:cubicBezTo>
                      <a:pt x="93" y="758"/>
                      <a:pt x="97" y="735"/>
                      <a:pt x="97" y="726"/>
                    </a:cubicBezTo>
                    <a:cubicBezTo>
                      <a:pt x="97" y="715"/>
                      <a:pt x="91" y="704"/>
                      <a:pt x="88" y="693"/>
                    </a:cubicBezTo>
                    <a:cubicBezTo>
                      <a:pt x="86" y="685"/>
                      <a:pt x="74" y="674"/>
                      <a:pt x="80" y="668"/>
                    </a:cubicBezTo>
                    <a:cubicBezTo>
                      <a:pt x="86" y="662"/>
                      <a:pt x="97" y="673"/>
                      <a:pt x="105" y="676"/>
                    </a:cubicBezTo>
                    <a:cubicBezTo>
                      <a:pt x="111" y="684"/>
                      <a:pt x="112" y="701"/>
                      <a:pt x="122" y="701"/>
                    </a:cubicBezTo>
                    <a:cubicBezTo>
                      <a:pt x="131" y="701"/>
                      <a:pt x="132" y="685"/>
                      <a:pt x="130" y="676"/>
                    </a:cubicBezTo>
                    <a:cubicBezTo>
                      <a:pt x="128" y="666"/>
                      <a:pt x="119" y="659"/>
                      <a:pt x="113" y="651"/>
                    </a:cubicBezTo>
                    <a:cubicBezTo>
                      <a:pt x="110" y="643"/>
                      <a:pt x="105" y="617"/>
                      <a:pt x="105" y="626"/>
                    </a:cubicBezTo>
                    <a:cubicBezTo>
                      <a:pt x="105" y="638"/>
                      <a:pt x="113" y="672"/>
                      <a:pt x="113" y="660"/>
                    </a:cubicBezTo>
                    <a:cubicBezTo>
                      <a:pt x="113" y="620"/>
                      <a:pt x="102" y="576"/>
                      <a:pt x="80" y="543"/>
                    </a:cubicBezTo>
                    <a:cubicBezTo>
                      <a:pt x="143" y="529"/>
                      <a:pt x="128" y="532"/>
                      <a:pt x="97" y="484"/>
                    </a:cubicBezTo>
                    <a:cubicBezTo>
                      <a:pt x="94" y="473"/>
                      <a:pt x="94" y="461"/>
                      <a:pt x="88" y="451"/>
                    </a:cubicBezTo>
                    <a:cubicBezTo>
                      <a:pt x="62" y="406"/>
                      <a:pt x="55" y="447"/>
                      <a:pt x="72" y="401"/>
                    </a:cubicBezTo>
                    <a:cubicBezTo>
                      <a:pt x="69" y="390"/>
                      <a:pt x="59" y="378"/>
                      <a:pt x="63" y="367"/>
                    </a:cubicBezTo>
                    <a:cubicBezTo>
                      <a:pt x="66" y="359"/>
                      <a:pt x="86" y="367"/>
                      <a:pt x="88" y="359"/>
                    </a:cubicBezTo>
                    <a:cubicBezTo>
                      <a:pt x="91" y="349"/>
                      <a:pt x="49" y="311"/>
                      <a:pt x="47" y="309"/>
                    </a:cubicBezTo>
                    <a:cubicBezTo>
                      <a:pt x="55" y="306"/>
                      <a:pt x="63" y="300"/>
                      <a:pt x="72" y="301"/>
                    </a:cubicBezTo>
                    <a:cubicBezTo>
                      <a:pt x="82" y="303"/>
                      <a:pt x="102" y="326"/>
                      <a:pt x="97" y="317"/>
                    </a:cubicBezTo>
                    <a:cubicBezTo>
                      <a:pt x="80" y="285"/>
                      <a:pt x="65" y="285"/>
                      <a:pt x="38" y="276"/>
                    </a:cubicBezTo>
                    <a:cubicBezTo>
                      <a:pt x="26" y="238"/>
                      <a:pt x="0" y="224"/>
                      <a:pt x="47" y="209"/>
                    </a:cubicBezTo>
                    <a:cubicBezTo>
                      <a:pt x="3" y="144"/>
                      <a:pt x="44" y="222"/>
                      <a:pt x="63" y="175"/>
                    </a:cubicBezTo>
                    <a:cubicBezTo>
                      <a:pt x="68" y="164"/>
                      <a:pt x="51" y="153"/>
                      <a:pt x="47" y="142"/>
                    </a:cubicBezTo>
                    <a:cubicBezTo>
                      <a:pt x="29" y="95"/>
                      <a:pt x="53" y="119"/>
                      <a:pt x="13" y="92"/>
                    </a:cubicBezTo>
                    <a:cubicBezTo>
                      <a:pt x="24" y="89"/>
                      <a:pt x="42" y="94"/>
                      <a:pt x="47" y="84"/>
                    </a:cubicBezTo>
                    <a:cubicBezTo>
                      <a:pt x="51" y="77"/>
                      <a:pt x="5" y="34"/>
                      <a:pt x="5" y="34"/>
                    </a:cubicBezTo>
                    <a:cubicBezTo>
                      <a:pt x="35" y="13"/>
                      <a:pt x="34" y="26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>
                <a:off x="4919040" y="4786200"/>
                <a:ext cx="725400" cy="2398320"/>
              </a:xfrm>
              <a:custGeom>
                <a:avLst/>
                <a:gdLst/>
                <a:ahLst/>
                <a:rect l="l" t="t" r="r" b="b"/>
                <a:pathLst>
                  <a:path w="457" h="1511">
                    <a:moveTo>
                      <a:pt x="457" y="1511"/>
                    </a:moveTo>
                    <a:cubicBezTo>
                      <a:pt x="452" y="1505"/>
                      <a:pt x="413" y="1457"/>
                      <a:pt x="415" y="1444"/>
                    </a:cubicBezTo>
                    <a:cubicBezTo>
                      <a:pt x="417" y="1435"/>
                      <a:pt x="432" y="1439"/>
                      <a:pt x="440" y="1436"/>
                    </a:cubicBezTo>
                    <a:cubicBezTo>
                      <a:pt x="423" y="1414"/>
                      <a:pt x="407" y="1391"/>
                      <a:pt x="390" y="1369"/>
                    </a:cubicBezTo>
                    <a:cubicBezTo>
                      <a:pt x="384" y="1361"/>
                      <a:pt x="365" y="1350"/>
                      <a:pt x="373" y="1344"/>
                    </a:cubicBezTo>
                    <a:cubicBezTo>
                      <a:pt x="385" y="1336"/>
                      <a:pt x="401" y="1349"/>
                      <a:pt x="415" y="1352"/>
                    </a:cubicBezTo>
                    <a:cubicBezTo>
                      <a:pt x="409" y="1338"/>
                      <a:pt x="405" y="1324"/>
                      <a:pt x="398" y="1311"/>
                    </a:cubicBezTo>
                    <a:cubicBezTo>
                      <a:pt x="393" y="1302"/>
                      <a:pt x="376" y="1295"/>
                      <a:pt x="381" y="1286"/>
                    </a:cubicBezTo>
                    <a:cubicBezTo>
                      <a:pt x="385" y="1278"/>
                      <a:pt x="398" y="1291"/>
                      <a:pt x="407" y="1294"/>
                    </a:cubicBezTo>
                    <a:cubicBezTo>
                      <a:pt x="349" y="1256"/>
                      <a:pt x="375" y="1268"/>
                      <a:pt x="331" y="1252"/>
                    </a:cubicBezTo>
                    <a:cubicBezTo>
                      <a:pt x="339" y="1249"/>
                      <a:pt x="353" y="1252"/>
                      <a:pt x="356" y="1244"/>
                    </a:cubicBezTo>
                    <a:cubicBezTo>
                      <a:pt x="360" y="1233"/>
                      <a:pt x="348" y="1222"/>
                      <a:pt x="348" y="1210"/>
                    </a:cubicBezTo>
                    <a:cubicBezTo>
                      <a:pt x="348" y="1186"/>
                      <a:pt x="369" y="1154"/>
                      <a:pt x="381" y="1135"/>
                    </a:cubicBezTo>
                    <a:cubicBezTo>
                      <a:pt x="334" y="1062"/>
                      <a:pt x="379" y="1149"/>
                      <a:pt x="390" y="1102"/>
                    </a:cubicBezTo>
                    <a:cubicBezTo>
                      <a:pt x="394" y="1087"/>
                      <a:pt x="355" y="1065"/>
                      <a:pt x="348" y="1060"/>
                    </a:cubicBezTo>
                    <a:cubicBezTo>
                      <a:pt x="306" y="999"/>
                      <a:pt x="342" y="1063"/>
                      <a:pt x="365" y="1043"/>
                    </a:cubicBezTo>
                    <a:cubicBezTo>
                      <a:pt x="372" y="1036"/>
                      <a:pt x="349" y="1031"/>
                      <a:pt x="340" y="1027"/>
                    </a:cubicBezTo>
                    <a:cubicBezTo>
                      <a:pt x="329" y="1022"/>
                      <a:pt x="317" y="1021"/>
                      <a:pt x="306" y="1018"/>
                    </a:cubicBezTo>
                    <a:cubicBezTo>
                      <a:pt x="312" y="1026"/>
                      <a:pt x="319" y="1034"/>
                      <a:pt x="323" y="1043"/>
                    </a:cubicBezTo>
                    <a:cubicBezTo>
                      <a:pt x="327" y="1051"/>
                      <a:pt x="339" y="1073"/>
                      <a:pt x="331" y="1069"/>
                    </a:cubicBezTo>
                    <a:cubicBezTo>
                      <a:pt x="305" y="1058"/>
                      <a:pt x="238" y="1011"/>
                      <a:pt x="265" y="1018"/>
                    </a:cubicBezTo>
                    <a:cubicBezTo>
                      <a:pt x="276" y="1021"/>
                      <a:pt x="287" y="1024"/>
                      <a:pt x="298" y="1027"/>
                    </a:cubicBezTo>
                    <a:cubicBezTo>
                      <a:pt x="292" y="1016"/>
                      <a:pt x="287" y="1004"/>
                      <a:pt x="281" y="993"/>
                    </a:cubicBezTo>
                    <a:cubicBezTo>
                      <a:pt x="264" y="962"/>
                      <a:pt x="253" y="964"/>
                      <a:pt x="290" y="977"/>
                    </a:cubicBezTo>
                    <a:cubicBezTo>
                      <a:pt x="298" y="985"/>
                      <a:pt x="305" y="1008"/>
                      <a:pt x="315" y="1002"/>
                    </a:cubicBezTo>
                    <a:cubicBezTo>
                      <a:pt x="325" y="996"/>
                      <a:pt x="312" y="978"/>
                      <a:pt x="306" y="968"/>
                    </a:cubicBezTo>
                    <a:cubicBezTo>
                      <a:pt x="292" y="944"/>
                      <a:pt x="203" y="898"/>
                      <a:pt x="290" y="918"/>
                    </a:cubicBezTo>
                    <a:cubicBezTo>
                      <a:pt x="301" y="935"/>
                      <a:pt x="332" y="986"/>
                      <a:pt x="323" y="968"/>
                    </a:cubicBezTo>
                    <a:cubicBezTo>
                      <a:pt x="301" y="926"/>
                      <a:pt x="313" y="945"/>
                      <a:pt x="290" y="910"/>
                    </a:cubicBezTo>
                    <a:cubicBezTo>
                      <a:pt x="287" y="899"/>
                      <a:pt x="287" y="887"/>
                      <a:pt x="281" y="877"/>
                    </a:cubicBezTo>
                    <a:cubicBezTo>
                      <a:pt x="266" y="851"/>
                      <a:pt x="225" y="836"/>
                      <a:pt x="290" y="868"/>
                    </a:cubicBezTo>
                    <a:cubicBezTo>
                      <a:pt x="298" y="879"/>
                      <a:pt x="315" y="888"/>
                      <a:pt x="315" y="902"/>
                    </a:cubicBezTo>
                    <a:cubicBezTo>
                      <a:pt x="315" y="911"/>
                      <a:pt x="296" y="900"/>
                      <a:pt x="290" y="893"/>
                    </a:cubicBezTo>
                    <a:cubicBezTo>
                      <a:pt x="280" y="881"/>
                      <a:pt x="281" y="864"/>
                      <a:pt x="273" y="851"/>
                    </a:cubicBezTo>
                    <a:cubicBezTo>
                      <a:pt x="267" y="841"/>
                      <a:pt x="256" y="835"/>
                      <a:pt x="248" y="826"/>
                    </a:cubicBezTo>
                    <a:cubicBezTo>
                      <a:pt x="242" y="818"/>
                      <a:pt x="224" y="808"/>
                      <a:pt x="231" y="801"/>
                    </a:cubicBezTo>
                    <a:cubicBezTo>
                      <a:pt x="238" y="794"/>
                      <a:pt x="248" y="812"/>
                      <a:pt x="256" y="818"/>
                    </a:cubicBezTo>
                    <a:cubicBezTo>
                      <a:pt x="265" y="826"/>
                      <a:pt x="273" y="834"/>
                      <a:pt x="281" y="843"/>
                    </a:cubicBezTo>
                    <a:cubicBezTo>
                      <a:pt x="287" y="851"/>
                      <a:pt x="308" y="868"/>
                      <a:pt x="298" y="868"/>
                    </a:cubicBezTo>
                    <a:cubicBezTo>
                      <a:pt x="281" y="868"/>
                      <a:pt x="261" y="818"/>
                      <a:pt x="256" y="810"/>
                    </a:cubicBezTo>
                    <a:cubicBezTo>
                      <a:pt x="251" y="801"/>
                      <a:pt x="230" y="785"/>
                      <a:pt x="240" y="785"/>
                    </a:cubicBezTo>
                    <a:cubicBezTo>
                      <a:pt x="252" y="785"/>
                      <a:pt x="256" y="803"/>
                      <a:pt x="265" y="810"/>
                    </a:cubicBezTo>
                    <a:cubicBezTo>
                      <a:pt x="273" y="816"/>
                      <a:pt x="282" y="821"/>
                      <a:pt x="290" y="826"/>
                    </a:cubicBezTo>
                    <a:cubicBezTo>
                      <a:pt x="270" y="801"/>
                      <a:pt x="251" y="776"/>
                      <a:pt x="231" y="751"/>
                    </a:cubicBezTo>
                    <a:cubicBezTo>
                      <a:pt x="221" y="738"/>
                      <a:pt x="197" y="723"/>
                      <a:pt x="206" y="710"/>
                    </a:cubicBezTo>
                    <a:cubicBezTo>
                      <a:pt x="214" y="698"/>
                      <a:pt x="234" y="721"/>
                      <a:pt x="248" y="726"/>
                    </a:cubicBezTo>
                    <a:cubicBezTo>
                      <a:pt x="237" y="704"/>
                      <a:pt x="229" y="680"/>
                      <a:pt x="215" y="659"/>
                    </a:cubicBezTo>
                    <a:cubicBezTo>
                      <a:pt x="209" y="651"/>
                      <a:pt x="189" y="639"/>
                      <a:pt x="198" y="634"/>
                    </a:cubicBezTo>
                    <a:cubicBezTo>
                      <a:pt x="209" y="628"/>
                      <a:pt x="220" y="645"/>
                      <a:pt x="231" y="651"/>
                    </a:cubicBezTo>
                    <a:cubicBezTo>
                      <a:pt x="240" y="656"/>
                      <a:pt x="262" y="676"/>
                      <a:pt x="256" y="668"/>
                    </a:cubicBezTo>
                    <a:cubicBezTo>
                      <a:pt x="242" y="649"/>
                      <a:pt x="206" y="618"/>
                      <a:pt x="206" y="618"/>
                    </a:cubicBezTo>
                    <a:cubicBezTo>
                      <a:pt x="203" y="610"/>
                      <a:pt x="190" y="597"/>
                      <a:pt x="198" y="593"/>
                    </a:cubicBezTo>
                    <a:cubicBezTo>
                      <a:pt x="207" y="588"/>
                      <a:pt x="228" y="618"/>
                      <a:pt x="223" y="609"/>
                    </a:cubicBezTo>
                    <a:cubicBezTo>
                      <a:pt x="213" y="591"/>
                      <a:pt x="123" y="535"/>
                      <a:pt x="206" y="559"/>
                    </a:cubicBezTo>
                    <a:cubicBezTo>
                      <a:pt x="214" y="561"/>
                      <a:pt x="223" y="565"/>
                      <a:pt x="231" y="568"/>
                    </a:cubicBezTo>
                    <a:cubicBezTo>
                      <a:pt x="220" y="557"/>
                      <a:pt x="210" y="544"/>
                      <a:pt x="198" y="534"/>
                    </a:cubicBezTo>
                    <a:cubicBezTo>
                      <a:pt x="187" y="525"/>
                      <a:pt x="168" y="523"/>
                      <a:pt x="164" y="509"/>
                    </a:cubicBezTo>
                    <a:cubicBezTo>
                      <a:pt x="162" y="501"/>
                      <a:pt x="181" y="504"/>
                      <a:pt x="189" y="501"/>
                    </a:cubicBezTo>
                    <a:cubicBezTo>
                      <a:pt x="175" y="458"/>
                      <a:pt x="190" y="492"/>
                      <a:pt x="156" y="451"/>
                    </a:cubicBezTo>
                    <a:cubicBezTo>
                      <a:pt x="150" y="443"/>
                      <a:pt x="132" y="434"/>
                      <a:pt x="139" y="426"/>
                    </a:cubicBezTo>
                    <a:cubicBezTo>
                      <a:pt x="146" y="419"/>
                      <a:pt x="155" y="438"/>
                      <a:pt x="164" y="442"/>
                    </a:cubicBezTo>
                    <a:cubicBezTo>
                      <a:pt x="172" y="446"/>
                      <a:pt x="198" y="451"/>
                      <a:pt x="189" y="451"/>
                    </a:cubicBezTo>
                    <a:cubicBezTo>
                      <a:pt x="178" y="451"/>
                      <a:pt x="167" y="445"/>
                      <a:pt x="156" y="442"/>
                    </a:cubicBezTo>
                    <a:cubicBezTo>
                      <a:pt x="148" y="437"/>
                      <a:pt x="131" y="436"/>
                      <a:pt x="131" y="426"/>
                    </a:cubicBezTo>
                    <a:cubicBezTo>
                      <a:pt x="131" y="417"/>
                      <a:pt x="165" y="434"/>
                      <a:pt x="156" y="434"/>
                    </a:cubicBezTo>
                    <a:cubicBezTo>
                      <a:pt x="145" y="434"/>
                      <a:pt x="134" y="429"/>
                      <a:pt x="123" y="426"/>
                    </a:cubicBezTo>
                    <a:cubicBezTo>
                      <a:pt x="112" y="420"/>
                      <a:pt x="98" y="418"/>
                      <a:pt x="89" y="409"/>
                    </a:cubicBezTo>
                    <a:cubicBezTo>
                      <a:pt x="83" y="403"/>
                      <a:pt x="108" y="423"/>
                      <a:pt x="114" y="417"/>
                    </a:cubicBezTo>
                    <a:cubicBezTo>
                      <a:pt x="120" y="411"/>
                      <a:pt x="111" y="399"/>
                      <a:pt x="106" y="392"/>
                    </a:cubicBezTo>
                    <a:cubicBezTo>
                      <a:pt x="100" y="382"/>
                      <a:pt x="89" y="376"/>
                      <a:pt x="81" y="367"/>
                    </a:cubicBezTo>
                    <a:cubicBezTo>
                      <a:pt x="75" y="359"/>
                      <a:pt x="57" y="349"/>
                      <a:pt x="64" y="342"/>
                    </a:cubicBezTo>
                    <a:cubicBezTo>
                      <a:pt x="73" y="334"/>
                      <a:pt x="87" y="348"/>
                      <a:pt x="98" y="351"/>
                    </a:cubicBezTo>
                    <a:cubicBezTo>
                      <a:pt x="90" y="345"/>
                      <a:pt x="80" y="341"/>
                      <a:pt x="73" y="334"/>
                    </a:cubicBezTo>
                    <a:cubicBezTo>
                      <a:pt x="35" y="296"/>
                      <a:pt x="60" y="311"/>
                      <a:pt x="81" y="317"/>
                    </a:cubicBezTo>
                    <a:cubicBezTo>
                      <a:pt x="135" y="333"/>
                      <a:pt x="115" y="326"/>
                      <a:pt x="89" y="317"/>
                    </a:cubicBezTo>
                    <a:cubicBezTo>
                      <a:pt x="27" y="255"/>
                      <a:pt x="107" y="315"/>
                      <a:pt x="123" y="326"/>
                    </a:cubicBezTo>
                    <a:cubicBezTo>
                      <a:pt x="117" y="318"/>
                      <a:pt x="113" y="308"/>
                      <a:pt x="106" y="301"/>
                    </a:cubicBezTo>
                    <a:cubicBezTo>
                      <a:pt x="81" y="276"/>
                      <a:pt x="65" y="290"/>
                      <a:pt x="106" y="275"/>
                    </a:cubicBezTo>
                    <a:cubicBezTo>
                      <a:pt x="89" y="258"/>
                      <a:pt x="76" y="238"/>
                      <a:pt x="56" y="225"/>
                    </a:cubicBezTo>
                    <a:cubicBezTo>
                      <a:pt x="48" y="220"/>
                      <a:pt x="24" y="216"/>
                      <a:pt x="31" y="209"/>
                    </a:cubicBezTo>
                    <a:cubicBezTo>
                      <a:pt x="39" y="201"/>
                      <a:pt x="53" y="214"/>
                      <a:pt x="64" y="217"/>
                    </a:cubicBezTo>
                    <a:cubicBezTo>
                      <a:pt x="20" y="149"/>
                      <a:pt x="63" y="228"/>
                      <a:pt x="81" y="200"/>
                    </a:cubicBezTo>
                    <a:cubicBezTo>
                      <a:pt x="88" y="190"/>
                      <a:pt x="70" y="178"/>
                      <a:pt x="64" y="167"/>
                    </a:cubicBezTo>
                    <a:cubicBezTo>
                      <a:pt x="72" y="164"/>
                      <a:pt x="87" y="167"/>
                      <a:pt x="89" y="159"/>
                    </a:cubicBezTo>
                    <a:cubicBezTo>
                      <a:pt x="92" y="149"/>
                      <a:pt x="50" y="111"/>
                      <a:pt x="48" y="109"/>
                    </a:cubicBezTo>
                    <a:cubicBezTo>
                      <a:pt x="33" y="66"/>
                      <a:pt x="0" y="43"/>
                      <a:pt x="4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>
                <a:off x="5628600" y="5103720"/>
                <a:ext cx="227160" cy="1071360"/>
              </a:xfrm>
              <a:custGeom>
                <a:avLst/>
                <a:gdLst/>
                <a:ahLst/>
                <a:rect l="l" t="t" r="r" b="b"/>
                <a:pathLst>
                  <a:path w="143" h="675">
                    <a:moveTo>
                      <a:pt x="110" y="668"/>
                    </a:moveTo>
                    <a:cubicBezTo>
                      <a:pt x="113" y="660"/>
                      <a:pt x="109" y="643"/>
                      <a:pt x="118" y="643"/>
                    </a:cubicBezTo>
                    <a:cubicBezTo>
                      <a:pt x="128" y="643"/>
                      <a:pt x="128" y="675"/>
                      <a:pt x="135" y="668"/>
                    </a:cubicBezTo>
                    <a:cubicBezTo>
                      <a:pt x="143" y="660"/>
                      <a:pt x="129" y="646"/>
                      <a:pt x="126" y="635"/>
                    </a:cubicBezTo>
                    <a:cubicBezTo>
                      <a:pt x="123" y="624"/>
                      <a:pt x="123" y="611"/>
                      <a:pt x="118" y="601"/>
                    </a:cubicBezTo>
                    <a:cubicBezTo>
                      <a:pt x="109" y="583"/>
                      <a:pt x="85" y="551"/>
                      <a:pt x="85" y="551"/>
                    </a:cubicBezTo>
                    <a:cubicBezTo>
                      <a:pt x="96" y="548"/>
                      <a:pt x="111" y="552"/>
                      <a:pt x="118" y="543"/>
                    </a:cubicBezTo>
                    <a:cubicBezTo>
                      <a:pt x="123" y="536"/>
                      <a:pt x="114" y="526"/>
                      <a:pt x="110" y="518"/>
                    </a:cubicBezTo>
                    <a:cubicBezTo>
                      <a:pt x="87" y="478"/>
                      <a:pt x="64" y="480"/>
                      <a:pt x="118" y="493"/>
                    </a:cubicBezTo>
                    <a:cubicBezTo>
                      <a:pt x="96" y="461"/>
                      <a:pt x="38" y="434"/>
                      <a:pt x="110" y="451"/>
                    </a:cubicBezTo>
                    <a:cubicBezTo>
                      <a:pt x="110" y="451"/>
                      <a:pt x="87" y="435"/>
                      <a:pt x="76" y="426"/>
                    </a:cubicBezTo>
                    <a:cubicBezTo>
                      <a:pt x="67" y="418"/>
                      <a:pt x="51" y="413"/>
                      <a:pt x="51" y="401"/>
                    </a:cubicBezTo>
                    <a:cubicBezTo>
                      <a:pt x="51" y="392"/>
                      <a:pt x="68" y="406"/>
                      <a:pt x="76" y="409"/>
                    </a:cubicBezTo>
                    <a:cubicBezTo>
                      <a:pt x="68" y="401"/>
                      <a:pt x="60" y="391"/>
                      <a:pt x="51" y="384"/>
                    </a:cubicBezTo>
                    <a:cubicBezTo>
                      <a:pt x="43" y="378"/>
                      <a:pt x="19" y="375"/>
                      <a:pt x="26" y="368"/>
                    </a:cubicBezTo>
                    <a:cubicBezTo>
                      <a:pt x="37" y="358"/>
                      <a:pt x="128" y="411"/>
                      <a:pt x="60" y="368"/>
                    </a:cubicBezTo>
                    <a:cubicBezTo>
                      <a:pt x="54" y="360"/>
                      <a:pt x="39" y="352"/>
                      <a:pt x="43" y="343"/>
                    </a:cubicBezTo>
                    <a:cubicBezTo>
                      <a:pt x="47" y="335"/>
                      <a:pt x="68" y="360"/>
                      <a:pt x="68" y="351"/>
                    </a:cubicBezTo>
                    <a:cubicBezTo>
                      <a:pt x="68" y="339"/>
                      <a:pt x="43" y="326"/>
                      <a:pt x="43" y="326"/>
                    </a:cubicBezTo>
                    <a:cubicBezTo>
                      <a:pt x="40" y="315"/>
                      <a:pt x="39" y="303"/>
                      <a:pt x="35" y="293"/>
                    </a:cubicBezTo>
                    <a:cubicBezTo>
                      <a:pt x="22" y="263"/>
                      <a:pt x="0" y="261"/>
                      <a:pt x="43" y="276"/>
                    </a:cubicBezTo>
                    <a:cubicBezTo>
                      <a:pt x="40" y="265"/>
                      <a:pt x="41" y="252"/>
                      <a:pt x="35" y="242"/>
                    </a:cubicBezTo>
                    <a:cubicBezTo>
                      <a:pt x="30" y="234"/>
                      <a:pt x="0" y="226"/>
                      <a:pt x="10" y="226"/>
                    </a:cubicBezTo>
                    <a:cubicBezTo>
                      <a:pt x="22" y="226"/>
                      <a:pt x="58" y="252"/>
                      <a:pt x="68" y="259"/>
                    </a:cubicBezTo>
                    <a:cubicBezTo>
                      <a:pt x="62" y="248"/>
                      <a:pt x="59" y="235"/>
                      <a:pt x="51" y="226"/>
                    </a:cubicBezTo>
                    <a:cubicBezTo>
                      <a:pt x="38" y="210"/>
                      <a:pt x="0" y="201"/>
                      <a:pt x="51" y="217"/>
                    </a:cubicBezTo>
                    <a:cubicBezTo>
                      <a:pt x="2" y="141"/>
                      <a:pt x="59" y="238"/>
                      <a:pt x="68" y="209"/>
                    </a:cubicBezTo>
                    <a:cubicBezTo>
                      <a:pt x="73" y="193"/>
                      <a:pt x="51" y="181"/>
                      <a:pt x="43" y="167"/>
                    </a:cubicBezTo>
                    <a:cubicBezTo>
                      <a:pt x="92" y="151"/>
                      <a:pt x="83" y="141"/>
                      <a:pt x="51" y="109"/>
                    </a:cubicBezTo>
                    <a:cubicBezTo>
                      <a:pt x="79" y="68"/>
                      <a:pt x="63" y="67"/>
                      <a:pt x="26" y="42"/>
                    </a:cubicBezTo>
                    <a:cubicBezTo>
                      <a:pt x="51" y="90"/>
                      <a:pt x="37" y="58"/>
                      <a:pt x="51" y="101"/>
                    </a:cubicBezTo>
                    <a:cubicBezTo>
                      <a:pt x="54" y="109"/>
                      <a:pt x="66" y="120"/>
                      <a:pt x="60" y="126"/>
                    </a:cubicBezTo>
                    <a:cubicBezTo>
                      <a:pt x="54" y="132"/>
                      <a:pt x="43" y="120"/>
                      <a:pt x="35" y="117"/>
                    </a:cubicBezTo>
                    <a:cubicBezTo>
                      <a:pt x="25" y="56"/>
                      <a:pt x="35" y="54"/>
                      <a:pt x="3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084"/>
              <p:cNvSpPr/>
              <p:nvPr/>
            </p:nvSpPr>
            <p:spPr>
              <a:xfrm>
                <a:off x="5139720" y="4932360"/>
                <a:ext cx="509760" cy="1314000"/>
              </a:xfrm>
              <a:custGeom>
                <a:avLst/>
                <a:gdLst/>
                <a:ahLst/>
                <a:rect l="l" t="t" r="r" b="b"/>
                <a:pathLst>
                  <a:path w="321" h="828">
                    <a:moveTo>
                      <a:pt x="67" y="0"/>
                    </a:moveTo>
                    <a:cubicBezTo>
                      <a:pt x="76" y="172"/>
                      <a:pt x="68" y="148"/>
                      <a:pt x="134" y="259"/>
                    </a:cubicBezTo>
                    <a:cubicBezTo>
                      <a:pt x="143" y="298"/>
                      <a:pt x="147" y="337"/>
                      <a:pt x="159" y="375"/>
                    </a:cubicBezTo>
                    <a:cubicBezTo>
                      <a:pt x="162" y="448"/>
                      <a:pt x="162" y="520"/>
                      <a:pt x="167" y="593"/>
                    </a:cubicBezTo>
                    <a:cubicBezTo>
                      <a:pt x="170" y="637"/>
                      <a:pt x="172" y="627"/>
                      <a:pt x="201" y="618"/>
                    </a:cubicBezTo>
                    <a:cubicBezTo>
                      <a:pt x="198" y="607"/>
                      <a:pt x="190" y="596"/>
                      <a:pt x="192" y="584"/>
                    </a:cubicBezTo>
                    <a:cubicBezTo>
                      <a:pt x="199" y="533"/>
                      <a:pt x="236" y="586"/>
                      <a:pt x="184" y="534"/>
                    </a:cubicBezTo>
                    <a:cubicBezTo>
                      <a:pt x="204" y="472"/>
                      <a:pt x="175" y="536"/>
                      <a:pt x="217" y="526"/>
                    </a:cubicBezTo>
                    <a:cubicBezTo>
                      <a:pt x="226" y="524"/>
                      <a:pt x="223" y="509"/>
                      <a:pt x="226" y="501"/>
                    </a:cubicBezTo>
                    <a:cubicBezTo>
                      <a:pt x="215" y="493"/>
                      <a:pt x="202" y="486"/>
                      <a:pt x="192" y="476"/>
                    </a:cubicBezTo>
                    <a:cubicBezTo>
                      <a:pt x="185" y="469"/>
                      <a:pt x="168" y="457"/>
                      <a:pt x="176" y="451"/>
                    </a:cubicBezTo>
                    <a:cubicBezTo>
                      <a:pt x="188" y="443"/>
                      <a:pt x="203" y="456"/>
                      <a:pt x="217" y="459"/>
                    </a:cubicBezTo>
                    <a:cubicBezTo>
                      <a:pt x="231" y="419"/>
                      <a:pt x="217" y="409"/>
                      <a:pt x="192" y="375"/>
                    </a:cubicBezTo>
                    <a:cubicBezTo>
                      <a:pt x="191" y="371"/>
                      <a:pt x="166" y="317"/>
                      <a:pt x="209" y="334"/>
                    </a:cubicBezTo>
                    <a:cubicBezTo>
                      <a:pt x="218" y="338"/>
                      <a:pt x="226" y="369"/>
                      <a:pt x="226" y="359"/>
                    </a:cubicBezTo>
                    <a:cubicBezTo>
                      <a:pt x="226" y="346"/>
                      <a:pt x="214" y="337"/>
                      <a:pt x="209" y="325"/>
                    </a:cubicBezTo>
                    <a:cubicBezTo>
                      <a:pt x="206" y="317"/>
                      <a:pt x="205" y="308"/>
                      <a:pt x="201" y="300"/>
                    </a:cubicBezTo>
                    <a:cubicBezTo>
                      <a:pt x="191" y="282"/>
                      <a:pt x="167" y="250"/>
                      <a:pt x="167" y="250"/>
                    </a:cubicBezTo>
                    <a:cubicBezTo>
                      <a:pt x="178" y="247"/>
                      <a:pt x="195" y="252"/>
                      <a:pt x="201" y="242"/>
                    </a:cubicBezTo>
                    <a:cubicBezTo>
                      <a:pt x="202" y="240"/>
                      <a:pt x="186" y="188"/>
                      <a:pt x="184" y="183"/>
                    </a:cubicBezTo>
                    <a:cubicBezTo>
                      <a:pt x="192" y="178"/>
                      <a:pt x="200" y="162"/>
                      <a:pt x="209" y="167"/>
                    </a:cubicBezTo>
                    <a:cubicBezTo>
                      <a:pt x="219" y="172"/>
                      <a:pt x="213" y="189"/>
                      <a:pt x="217" y="200"/>
                    </a:cubicBezTo>
                    <a:cubicBezTo>
                      <a:pt x="221" y="212"/>
                      <a:pt x="228" y="223"/>
                      <a:pt x="234" y="234"/>
                    </a:cubicBezTo>
                    <a:cubicBezTo>
                      <a:pt x="242" y="266"/>
                      <a:pt x="260" y="286"/>
                      <a:pt x="268" y="317"/>
                    </a:cubicBezTo>
                    <a:cubicBezTo>
                      <a:pt x="277" y="353"/>
                      <a:pt x="285" y="390"/>
                      <a:pt x="293" y="426"/>
                    </a:cubicBezTo>
                    <a:cubicBezTo>
                      <a:pt x="298" y="578"/>
                      <a:pt x="321" y="681"/>
                      <a:pt x="284" y="818"/>
                    </a:cubicBezTo>
                    <a:cubicBezTo>
                      <a:pt x="199" y="753"/>
                      <a:pt x="285" y="828"/>
                      <a:pt x="242" y="768"/>
                    </a:cubicBezTo>
                    <a:cubicBezTo>
                      <a:pt x="233" y="755"/>
                      <a:pt x="219" y="746"/>
                      <a:pt x="209" y="734"/>
                    </a:cubicBezTo>
                    <a:cubicBezTo>
                      <a:pt x="202" y="726"/>
                      <a:pt x="198" y="717"/>
                      <a:pt x="192" y="709"/>
                    </a:cubicBezTo>
                    <a:cubicBezTo>
                      <a:pt x="192" y="709"/>
                      <a:pt x="180" y="693"/>
                      <a:pt x="176" y="684"/>
                    </a:cubicBezTo>
                    <a:cubicBezTo>
                      <a:pt x="154" y="641"/>
                      <a:pt x="165" y="641"/>
                      <a:pt x="117" y="618"/>
                    </a:cubicBezTo>
                    <a:cubicBezTo>
                      <a:pt x="73" y="574"/>
                      <a:pt x="93" y="609"/>
                      <a:pt x="126" y="576"/>
                    </a:cubicBezTo>
                    <a:cubicBezTo>
                      <a:pt x="132" y="570"/>
                      <a:pt x="131" y="559"/>
                      <a:pt x="134" y="551"/>
                    </a:cubicBezTo>
                    <a:cubicBezTo>
                      <a:pt x="127" y="499"/>
                      <a:pt x="127" y="481"/>
                      <a:pt x="142" y="434"/>
                    </a:cubicBezTo>
                    <a:cubicBezTo>
                      <a:pt x="131" y="364"/>
                      <a:pt x="109" y="300"/>
                      <a:pt x="59" y="250"/>
                    </a:cubicBezTo>
                    <a:cubicBezTo>
                      <a:pt x="50" y="225"/>
                      <a:pt x="34" y="175"/>
                      <a:pt x="34" y="175"/>
                    </a:cubicBezTo>
                    <a:cubicBezTo>
                      <a:pt x="26" y="90"/>
                      <a:pt x="31" y="97"/>
                      <a:pt x="0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85"/>
              <p:cNvSpPr/>
              <p:nvPr/>
            </p:nvSpPr>
            <p:spPr>
              <a:xfrm>
                <a:off x="5468400" y="5886360"/>
                <a:ext cx="270000" cy="980640"/>
              </a:xfrm>
              <a:custGeom>
                <a:avLst/>
                <a:gdLst/>
                <a:ahLst/>
                <a:rect l="l" t="t" r="r" b="b"/>
                <a:pathLst>
                  <a:path w="170" h="618">
                    <a:moveTo>
                      <a:pt x="136" y="618"/>
                    </a:moveTo>
                    <a:cubicBezTo>
                      <a:pt x="128" y="587"/>
                      <a:pt x="128" y="579"/>
                      <a:pt x="111" y="551"/>
                    </a:cubicBezTo>
                    <a:cubicBezTo>
                      <a:pt x="73" y="489"/>
                      <a:pt x="52" y="493"/>
                      <a:pt x="127" y="517"/>
                    </a:cubicBezTo>
                    <a:cubicBezTo>
                      <a:pt x="138" y="525"/>
                      <a:pt x="147" y="542"/>
                      <a:pt x="161" y="542"/>
                    </a:cubicBezTo>
                    <a:cubicBezTo>
                      <a:pt x="170" y="542"/>
                      <a:pt x="157" y="524"/>
                      <a:pt x="152" y="517"/>
                    </a:cubicBezTo>
                    <a:cubicBezTo>
                      <a:pt x="145" y="507"/>
                      <a:pt x="134" y="501"/>
                      <a:pt x="127" y="492"/>
                    </a:cubicBezTo>
                    <a:cubicBezTo>
                      <a:pt x="115" y="476"/>
                      <a:pt x="94" y="442"/>
                      <a:pt x="94" y="442"/>
                    </a:cubicBezTo>
                    <a:cubicBezTo>
                      <a:pt x="102" y="437"/>
                      <a:pt x="109" y="426"/>
                      <a:pt x="119" y="426"/>
                    </a:cubicBezTo>
                    <a:cubicBezTo>
                      <a:pt x="129" y="426"/>
                      <a:pt x="148" y="451"/>
                      <a:pt x="144" y="442"/>
                    </a:cubicBezTo>
                    <a:cubicBezTo>
                      <a:pt x="132" y="417"/>
                      <a:pt x="90" y="397"/>
                      <a:pt x="69" y="384"/>
                    </a:cubicBezTo>
                    <a:cubicBezTo>
                      <a:pt x="49" y="322"/>
                      <a:pt x="94" y="342"/>
                      <a:pt x="127" y="359"/>
                    </a:cubicBezTo>
                    <a:cubicBezTo>
                      <a:pt x="98" y="316"/>
                      <a:pt x="74" y="299"/>
                      <a:pt x="44" y="259"/>
                    </a:cubicBezTo>
                    <a:cubicBezTo>
                      <a:pt x="57" y="219"/>
                      <a:pt x="49" y="217"/>
                      <a:pt x="119" y="242"/>
                    </a:cubicBezTo>
                    <a:cubicBezTo>
                      <a:pt x="130" y="246"/>
                      <a:pt x="156" y="267"/>
                      <a:pt x="144" y="267"/>
                    </a:cubicBezTo>
                    <a:cubicBezTo>
                      <a:pt x="117" y="267"/>
                      <a:pt x="64" y="186"/>
                      <a:pt x="52" y="167"/>
                    </a:cubicBezTo>
                    <a:cubicBezTo>
                      <a:pt x="93" y="106"/>
                      <a:pt x="35" y="62"/>
                      <a:pt x="35" y="0"/>
                    </a:cubicBezTo>
                    <a:lnTo>
                      <a:pt x="0" y="7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86"/>
              <p:cNvSpPr/>
              <p:nvPr/>
            </p:nvSpPr>
            <p:spPr>
              <a:xfrm>
                <a:off x="5765400" y="5040360"/>
                <a:ext cx="977760" cy="1985400"/>
              </a:xfrm>
              <a:custGeom>
                <a:avLst/>
                <a:gdLst/>
                <a:ahLst/>
                <a:rect l="l" t="t" r="r" b="b"/>
                <a:pathLst>
                  <a:path w="616" h="1251">
                    <a:moveTo>
                      <a:pt x="124" y="1251"/>
                    </a:moveTo>
                    <a:cubicBezTo>
                      <a:pt x="116" y="1201"/>
                      <a:pt x="117" y="1186"/>
                      <a:pt x="82" y="1151"/>
                    </a:cubicBezTo>
                    <a:cubicBezTo>
                      <a:pt x="79" y="1143"/>
                      <a:pt x="65" y="1127"/>
                      <a:pt x="74" y="1126"/>
                    </a:cubicBezTo>
                    <a:cubicBezTo>
                      <a:pt x="97" y="1123"/>
                      <a:pt x="120" y="1133"/>
                      <a:pt x="141" y="1142"/>
                    </a:cubicBezTo>
                    <a:cubicBezTo>
                      <a:pt x="160" y="1150"/>
                      <a:pt x="191" y="1176"/>
                      <a:pt x="191" y="1176"/>
                    </a:cubicBezTo>
                    <a:cubicBezTo>
                      <a:pt x="188" y="1162"/>
                      <a:pt x="187" y="1147"/>
                      <a:pt x="182" y="1134"/>
                    </a:cubicBezTo>
                    <a:cubicBezTo>
                      <a:pt x="150" y="1051"/>
                      <a:pt x="117" y="1063"/>
                      <a:pt x="207" y="1075"/>
                    </a:cubicBezTo>
                    <a:cubicBezTo>
                      <a:pt x="213" y="1086"/>
                      <a:pt x="236" y="1113"/>
                      <a:pt x="224" y="1109"/>
                    </a:cubicBezTo>
                    <a:cubicBezTo>
                      <a:pt x="182" y="1095"/>
                      <a:pt x="189" y="1066"/>
                      <a:pt x="166" y="1042"/>
                    </a:cubicBezTo>
                    <a:cubicBezTo>
                      <a:pt x="158" y="1034"/>
                      <a:pt x="100" y="1000"/>
                      <a:pt x="99" y="1000"/>
                    </a:cubicBezTo>
                    <a:cubicBezTo>
                      <a:pt x="93" y="992"/>
                      <a:pt x="78" y="984"/>
                      <a:pt x="82" y="975"/>
                    </a:cubicBezTo>
                    <a:cubicBezTo>
                      <a:pt x="97" y="939"/>
                      <a:pt x="134" y="968"/>
                      <a:pt x="149" y="975"/>
                    </a:cubicBezTo>
                    <a:cubicBezTo>
                      <a:pt x="146" y="967"/>
                      <a:pt x="146" y="957"/>
                      <a:pt x="141" y="950"/>
                    </a:cubicBezTo>
                    <a:cubicBezTo>
                      <a:pt x="94" y="889"/>
                      <a:pt x="54" y="894"/>
                      <a:pt x="149" y="909"/>
                    </a:cubicBezTo>
                    <a:cubicBezTo>
                      <a:pt x="136" y="887"/>
                      <a:pt x="87" y="837"/>
                      <a:pt x="116" y="808"/>
                    </a:cubicBezTo>
                    <a:cubicBezTo>
                      <a:pt x="124" y="800"/>
                      <a:pt x="138" y="803"/>
                      <a:pt x="149" y="800"/>
                    </a:cubicBezTo>
                    <a:cubicBezTo>
                      <a:pt x="249" y="814"/>
                      <a:pt x="201" y="805"/>
                      <a:pt x="166" y="750"/>
                    </a:cubicBezTo>
                    <a:cubicBezTo>
                      <a:pt x="177" y="744"/>
                      <a:pt x="193" y="744"/>
                      <a:pt x="199" y="733"/>
                    </a:cubicBezTo>
                    <a:cubicBezTo>
                      <a:pt x="203" y="725"/>
                      <a:pt x="196" y="715"/>
                      <a:pt x="191" y="708"/>
                    </a:cubicBezTo>
                    <a:cubicBezTo>
                      <a:pt x="166" y="669"/>
                      <a:pt x="151" y="661"/>
                      <a:pt x="116" y="633"/>
                    </a:cubicBezTo>
                    <a:cubicBezTo>
                      <a:pt x="159" y="566"/>
                      <a:pt x="90" y="657"/>
                      <a:pt x="191" y="616"/>
                    </a:cubicBezTo>
                    <a:cubicBezTo>
                      <a:pt x="200" y="612"/>
                      <a:pt x="180" y="599"/>
                      <a:pt x="174" y="591"/>
                    </a:cubicBezTo>
                    <a:cubicBezTo>
                      <a:pt x="146" y="552"/>
                      <a:pt x="158" y="564"/>
                      <a:pt x="124" y="541"/>
                    </a:cubicBezTo>
                    <a:cubicBezTo>
                      <a:pt x="118" y="530"/>
                      <a:pt x="101" y="519"/>
                      <a:pt x="107" y="508"/>
                    </a:cubicBezTo>
                    <a:cubicBezTo>
                      <a:pt x="126" y="476"/>
                      <a:pt x="206" y="518"/>
                      <a:pt x="224" y="525"/>
                    </a:cubicBezTo>
                    <a:cubicBezTo>
                      <a:pt x="232" y="536"/>
                      <a:pt x="249" y="544"/>
                      <a:pt x="249" y="558"/>
                    </a:cubicBezTo>
                    <a:cubicBezTo>
                      <a:pt x="249" y="570"/>
                      <a:pt x="232" y="542"/>
                      <a:pt x="224" y="533"/>
                    </a:cubicBezTo>
                    <a:cubicBezTo>
                      <a:pt x="212" y="520"/>
                      <a:pt x="203" y="504"/>
                      <a:pt x="191" y="491"/>
                    </a:cubicBezTo>
                    <a:cubicBezTo>
                      <a:pt x="187" y="487"/>
                      <a:pt x="137" y="458"/>
                      <a:pt x="141" y="449"/>
                    </a:cubicBezTo>
                    <a:cubicBezTo>
                      <a:pt x="146" y="439"/>
                      <a:pt x="163" y="454"/>
                      <a:pt x="174" y="458"/>
                    </a:cubicBezTo>
                    <a:cubicBezTo>
                      <a:pt x="185" y="462"/>
                      <a:pt x="196" y="469"/>
                      <a:pt x="207" y="474"/>
                    </a:cubicBezTo>
                    <a:cubicBezTo>
                      <a:pt x="213" y="482"/>
                      <a:pt x="231" y="491"/>
                      <a:pt x="224" y="499"/>
                    </a:cubicBezTo>
                    <a:cubicBezTo>
                      <a:pt x="217" y="506"/>
                      <a:pt x="206" y="490"/>
                      <a:pt x="199" y="483"/>
                    </a:cubicBezTo>
                    <a:cubicBezTo>
                      <a:pt x="118" y="403"/>
                      <a:pt x="197" y="457"/>
                      <a:pt x="116" y="408"/>
                    </a:cubicBezTo>
                    <a:cubicBezTo>
                      <a:pt x="68" y="343"/>
                      <a:pt x="118" y="402"/>
                      <a:pt x="49" y="349"/>
                    </a:cubicBezTo>
                    <a:cubicBezTo>
                      <a:pt x="36" y="339"/>
                      <a:pt x="0" y="320"/>
                      <a:pt x="15" y="316"/>
                    </a:cubicBezTo>
                    <a:cubicBezTo>
                      <a:pt x="48" y="308"/>
                      <a:pt x="82" y="327"/>
                      <a:pt x="116" y="333"/>
                    </a:cubicBezTo>
                    <a:cubicBezTo>
                      <a:pt x="130" y="341"/>
                      <a:pt x="144" y="348"/>
                      <a:pt x="157" y="358"/>
                    </a:cubicBezTo>
                    <a:cubicBezTo>
                      <a:pt x="166" y="365"/>
                      <a:pt x="170" y="383"/>
                      <a:pt x="182" y="383"/>
                    </a:cubicBezTo>
                    <a:cubicBezTo>
                      <a:pt x="192" y="383"/>
                      <a:pt x="172" y="366"/>
                      <a:pt x="166" y="358"/>
                    </a:cubicBezTo>
                    <a:cubicBezTo>
                      <a:pt x="159" y="349"/>
                      <a:pt x="149" y="342"/>
                      <a:pt x="141" y="333"/>
                    </a:cubicBezTo>
                    <a:cubicBezTo>
                      <a:pt x="132" y="322"/>
                      <a:pt x="126" y="308"/>
                      <a:pt x="116" y="299"/>
                    </a:cubicBezTo>
                    <a:cubicBezTo>
                      <a:pt x="98" y="283"/>
                      <a:pt x="57" y="257"/>
                      <a:pt x="57" y="257"/>
                    </a:cubicBezTo>
                    <a:cubicBezTo>
                      <a:pt x="51" y="246"/>
                      <a:pt x="34" y="235"/>
                      <a:pt x="40" y="224"/>
                    </a:cubicBezTo>
                    <a:cubicBezTo>
                      <a:pt x="61" y="189"/>
                      <a:pt x="202" y="266"/>
                      <a:pt x="124" y="241"/>
                    </a:cubicBezTo>
                    <a:cubicBezTo>
                      <a:pt x="97" y="206"/>
                      <a:pt x="76" y="181"/>
                      <a:pt x="40" y="157"/>
                    </a:cubicBezTo>
                    <a:cubicBezTo>
                      <a:pt x="35" y="149"/>
                      <a:pt x="14" y="133"/>
                      <a:pt x="24" y="132"/>
                    </a:cubicBezTo>
                    <a:cubicBezTo>
                      <a:pt x="49" y="129"/>
                      <a:pt x="75" y="140"/>
                      <a:pt x="99" y="149"/>
                    </a:cubicBezTo>
                    <a:cubicBezTo>
                      <a:pt x="122" y="157"/>
                      <a:pt x="166" y="182"/>
                      <a:pt x="166" y="182"/>
                    </a:cubicBezTo>
                    <a:cubicBezTo>
                      <a:pt x="160" y="176"/>
                      <a:pt x="114" y="133"/>
                      <a:pt x="116" y="124"/>
                    </a:cubicBezTo>
                    <a:cubicBezTo>
                      <a:pt x="118" y="113"/>
                      <a:pt x="138" y="118"/>
                      <a:pt x="149" y="115"/>
                    </a:cubicBezTo>
                    <a:cubicBezTo>
                      <a:pt x="157" y="118"/>
                      <a:pt x="166" y="120"/>
                      <a:pt x="174" y="124"/>
                    </a:cubicBezTo>
                    <a:cubicBezTo>
                      <a:pt x="185" y="129"/>
                      <a:pt x="196" y="135"/>
                      <a:pt x="207" y="141"/>
                    </a:cubicBezTo>
                    <a:cubicBezTo>
                      <a:pt x="216" y="146"/>
                      <a:pt x="242" y="157"/>
                      <a:pt x="232" y="157"/>
                    </a:cubicBezTo>
                    <a:cubicBezTo>
                      <a:pt x="220" y="157"/>
                      <a:pt x="210" y="146"/>
                      <a:pt x="199" y="141"/>
                    </a:cubicBezTo>
                    <a:cubicBezTo>
                      <a:pt x="196" y="132"/>
                      <a:pt x="197" y="122"/>
                      <a:pt x="191" y="115"/>
                    </a:cubicBezTo>
                    <a:cubicBezTo>
                      <a:pt x="182" y="104"/>
                      <a:pt x="143" y="92"/>
                      <a:pt x="157" y="90"/>
                    </a:cubicBezTo>
                    <a:cubicBezTo>
                      <a:pt x="166" y="88"/>
                      <a:pt x="247" y="108"/>
                      <a:pt x="274" y="115"/>
                    </a:cubicBezTo>
                    <a:cubicBezTo>
                      <a:pt x="296" y="130"/>
                      <a:pt x="324" y="147"/>
                      <a:pt x="266" y="115"/>
                    </a:cubicBezTo>
                    <a:cubicBezTo>
                      <a:pt x="218" y="88"/>
                      <a:pt x="227" y="92"/>
                      <a:pt x="182" y="57"/>
                    </a:cubicBezTo>
                    <a:cubicBezTo>
                      <a:pt x="236" y="44"/>
                      <a:pt x="198" y="46"/>
                      <a:pt x="249" y="65"/>
                    </a:cubicBezTo>
                    <a:cubicBezTo>
                      <a:pt x="260" y="69"/>
                      <a:pt x="283" y="74"/>
                      <a:pt x="283" y="74"/>
                    </a:cubicBezTo>
                    <a:cubicBezTo>
                      <a:pt x="275" y="66"/>
                      <a:pt x="268" y="56"/>
                      <a:pt x="258" y="49"/>
                    </a:cubicBezTo>
                    <a:cubicBezTo>
                      <a:pt x="232" y="32"/>
                      <a:pt x="192" y="46"/>
                      <a:pt x="283" y="32"/>
                    </a:cubicBezTo>
                    <a:cubicBezTo>
                      <a:pt x="329" y="48"/>
                      <a:pt x="325" y="42"/>
                      <a:pt x="358" y="65"/>
                    </a:cubicBezTo>
                    <a:cubicBezTo>
                      <a:pt x="369" y="73"/>
                      <a:pt x="403" y="96"/>
                      <a:pt x="391" y="90"/>
                    </a:cubicBezTo>
                    <a:cubicBezTo>
                      <a:pt x="367" y="79"/>
                      <a:pt x="324" y="49"/>
                      <a:pt x="324" y="49"/>
                    </a:cubicBezTo>
                    <a:cubicBezTo>
                      <a:pt x="391" y="22"/>
                      <a:pt x="364" y="41"/>
                      <a:pt x="424" y="65"/>
                    </a:cubicBezTo>
                    <a:cubicBezTo>
                      <a:pt x="441" y="72"/>
                      <a:pt x="475" y="82"/>
                      <a:pt x="475" y="82"/>
                    </a:cubicBezTo>
                    <a:cubicBezTo>
                      <a:pt x="419" y="0"/>
                      <a:pt x="575" y="86"/>
                      <a:pt x="591" y="90"/>
                    </a:cubicBezTo>
                    <a:cubicBezTo>
                      <a:pt x="599" y="92"/>
                      <a:pt x="608" y="90"/>
                      <a:pt x="616" y="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>
                <a:off x="4784040" y="4105080"/>
                <a:ext cx="18432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74" y="220"/>
                    </a:moveTo>
                    <a:cubicBezTo>
                      <a:pt x="37" y="146"/>
                      <a:pt x="18" y="147"/>
                      <a:pt x="66" y="162"/>
                    </a:cubicBezTo>
                    <a:cubicBezTo>
                      <a:pt x="74" y="173"/>
                      <a:pt x="84" y="183"/>
                      <a:pt x="91" y="195"/>
                    </a:cubicBezTo>
                    <a:cubicBezTo>
                      <a:pt x="95" y="203"/>
                      <a:pt x="105" y="226"/>
                      <a:pt x="99" y="220"/>
                    </a:cubicBezTo>
                    <a:cubicBezTo>
                      <a:pt x="71" y="192"/>
                      <a:pt x="51" y="157"/>
                      <a:pt x="24" y="128"/>
                    </a:cubicBezTo>
                    <a:cubicBezTo>
                      <a:pt x="0" y="54"/>
                      <a:pt x="84" y="122"/>
                      <a:pt x="99" y="137"/>
                    </a:cubicBezTo>
                    <a:cubicBezTo>
                      <a:pt x="106" y="144"/>
                      <a:pt x="110" y="154"/>
                      <a:pt x="116" y="162"/>
                    </a:cubicBezTo>
                    <a:cubicBezTo>
                      <a:pt x="105" y="126"/>
                      <a:pt x="79" y="118"/>
                      <a:pt x="49" y="95"/>
                    </a:cubicBezTo>
                    <a:cubicBezTo>
                      <a:pt x="89" y="68"/>
                      <a:pt x="59" y="77"/>
                      <a:pt x="108" y="95"/>
                    </a:cubicBezTo>
                    <a:cubicBezTo>
                      <a:pt x="112" y="96"/>
                      <a:pt x="102" y="89"/>
                      <a:pt x="99" y="87"/>
                    </a:cubicBezTo>
                    <a:cubicBezTo>
                      <a:pt x="83" y="75"/>
                      <a:pt x="66" y="64"/>
                      <a:pt x="49" y="53"/>
                    </a:cubicBezTo>
                    <a:cubicBezTo>
                      <a:pt x="37" y="45"/>
                      <a:pt x="77" y="59"/>
                      <a:pt x="91" y="62"/>
                    </a:cubicBezTo>
                    <a:cubicBezTo>
                      <a:pt x="85" y="51"/>
                      <a:pt x="76" y="41"/>
                      <a:pt x="74" y="28"/>
                    </a:cubicBezTo>
                    <a:cubicBezTo>
                      <a:pt x="70" y="0"/>
                      <a:pt x="95" y="3"/>
                      <a:pt x="74" y="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088"/>
              <p:cNvSpPr/>
              <p:nvPr/>
            </p:nvSpPr>
            <p:spPr>
              <a:xfrm>
                <a:off x="5219280" y="3884400"/>
                <a:ext cx="1392120" cy="649080"/>
              </a:xfrm>
              <a:custGeom>
                <a:avLst/>
                <a:gdLst/>
                <a:ahLst/>
                <a:rect l="l" t="t" r="r" b="b"/>
                <a:pathLst>
                  <a:path w="877" h="409">
                    <a:moveTo>
                      <a:pt x="26" y="0"/>
                    </a:moveTo>
                    <a:cubicBezTo>
                      <a:pt x="20" y="8"/>
                      <a:pt x="0" y="21"/>
                      <a:pt x="9" y="25"/>
                    </a:cubicBezTo>
                    <a:cubicBezTo>
                      <a:pt x="26" y="31"/>
                      <a:pt x="170" y="44"/>
                      <a:pt x="209" y="50"/>
                    </a:cubicBezTo>
                    <a:cubicBezTo>
                      <a:pt x="201" y="58"/>
                      <a:pt x="180" y="64"/>
                      <a:pt x="184" y="75"/>
                    </a:cubicBezTo>
                    <a:cubicBezTo>
                      <a:pt x="187" y="83"/>
                      <a:pt x="249" y="98"/>
                      <a:pt x="259" y="101"/>
                    </a:cubicBezTo>
                    <a:cubicBezTo>
                      <a:pt x="254" y="109"/>
                      <a:pt x="250" y="119"/>
                      <a:pt x="243" y="126"/>
                    </a:cubicBezTo>
                    <a:cubicBezTo>
                      <a:pt x="218" y="151"/>
                      <a:pt x="197" y="136"/>
                      <a:pt x="251" y="151"/>
                    </a:cubicBezTo>
                    <a:cubicBezTo>
                      <a:pt x="262" y="148"/>
                      <a:pt x="276" y="134"/>
                      <a:pt x="284" y="142"/>
                    </a:cubicBezTo>
                    <a:cubicBezTo>
                      <a:pt x="291" y="149"/>
                      <a:pt x="275" y="160"/>
                      <a:pt x="268" y="167"/>
                    </a:cubicBezTo>
                    <a:cubicBezTo>
                      <a:pt x="253" y="180"/>
                      <a:pt x="218" y="201"/>
                      <a:pt x="218" y="201"/>
                    </a:cubicBezTo>
                    <a:cubicBezTo>
                      <a:pt x="187" y="287"/>
                      <a:pt x="223" y="162"/>
                      <a:pt x="368" y="234"/>
                    </a:cubicBezTo>
                    <a:cubicBezTo>
                      <a:pt x="390" y="245"/>
                      <a:pt x="329" y="262"/>
                      <a:pt x="309" y="276"/>
                    </a:cubicBezTo>
                    <a:cubicBezTo>
                      <a:pt x="293" y="287"/>
                      <a:pt x="259" y="309"/>
                      <a:pt x="259" y="309"/>
                    </a:cubicBezTo>
                    <a:cubicBezTo>
                      <a:pt x="323" y="341"/>
                      <a:pt x="260" y="318"/>
                      <a:pt x="343" y="318"/>
                    </a:cubicBezTo>
                    <a:cubicBezTo>
                      <a:pt x="365" y="318"/>
                      <a:pt x="498" y="331"/>
                      <a:pt x="526" y="334"/>
                    </a:cubicBezTo>
                    <a:cubicBezTo>
                      <a:pt x="543" y="340"/>
                      <a:pt x="563" y="339"/>
                      <a:pt x="576" y="351"/>
                    </a:cubicBezTo>
                    <a:cubicBezTo>
                      <a:pt x="582" y="357"/>
                      <a:pt x="577" y="373"/>
                      <a:pt x="585" y="376"/>
                    </a:cubicBezTo>
                    <a:cubicBezTo>
                      <a:pt x="631" y="394"/>
                      <a:pt x="743" y="404"/>
                      <a:pt x="794" y="409"/>
                    </a:cubicBezTo>
                    <a:cubicBezTo>
                      <a:pt x="855" y="399"/>
                      <a:pt x="827" y="401"/>
                      <a:pt x="877" y="4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089"/>
              <p:cNvSpPr/>
              <p:nvPr/>
            </p:nvSpPr>
            <p:spPr>
              <a:xfrm>
                <a:off x="7698960" y="1228680"/>
                <a:ext cx="744480" cy="906120"/>
              </a:xfrm>
              <a:custGeom>
                <a:avLst/>
                <a:gdLst/>
                <a:ahLst/>
                <a:rect l="l" t="t" r="r" b="b"/>
                <a:pathLst>
                  <a:path w="469" h="571">
                    <a:moveTo>
                      <a:pt x="41" y="496"/>
                    </a:moveTo>
                    <a:cubicBezTo>
                      <a:pt x="35" y="473"/>
                      <a:pt x="37" y="405"/>
                      <a:pt x="16" y="463"/>
                    </a:cubicBezTo>
                    <a:cubicBezTo>
                      <a:pt x="16" y="463"/>
                      <a:pt x="22" y="480"/>
                      <a:pt x="25" y="488"/>
                    </a:cubicBezTo>
                    <a:cubicBezTo>
                      <a:pt x="22" y="469"/>
                      <a:pt x="20" y="449"/>
                      <a:pt x="16" y="430"/>
                    </a:cubicBezTo>
                    <a:cubicBezTo>
                      <a:pt x="14" y="421"/>
                      <a:pt x="0" y="408"/>
                      <a:pt x="8" y="404"/>
                    </a:cubicBezTo>
                    <a:cubicBezTo>
                      <a:pt x="17" y="399"/>
                      <a:pt x="25" y="415"/>
                      <a:pt x="33" y="421"/>
                    </a:cubicBezTo>
                    <a:cubicBezTo>
                      <a:pt x="23" y="381"/>
                      <a:pt x="4" y="376"/>
                      <a:pt x="16" y="338"/>
                    </a:cubicBezTo>
                    <a:cubicBezTo>
                      <a:pt x="11" y="330"/>
                      <a:pt x="0" y="323"/>
                      <a:pt x="0" y="313"/>
                    </a:cubicBezTo>
                    <a:cubicBezTo>
                      <a:pt x="0" y="273"/>
                      <a:pt x="18" y="235"/>
                      <a:pt x="25" y="196"/>
                    </a:cubicBezTo>
                    <a:cubicBezTo>
                      <a:pt x="30" y="204"/>
                      <a:pt x="38" y="212"/>
                      <a:pt x="41" y="221"/>
                    </a:cubicBezTo>
                    <a:cubicBezTo>
                      <a:pt x="46" y="237"/>
                      <a:pt x="45" y="287"/>
                      <a:pt x="50" y="271"/>
                    </a:cubicBezTo>
                    <a:cubicBezTo>
                      <a:pt x="67" y="212"/>
                      <a:pt x="59" y="148"/>
                      <a:pt x="66" y="87"/>
                    </a:cubicBezTo>
                    <a:cubicBezTo>
                      <a:pt x="72" y="98"/>
                      <a:pt x="71" y="119"/>
                      <a:pt x="83" y="121"/>
                    </a:cubicBezTo>
                    <a:cubicBezTo>
                      <a:pt x="97" y="123"/>
                      <a:pt x="107" y="106"/>
                      <a:pt x="116" y="96"/>
                    </a:cubicBezTo>
                    <a:cubicBezTo>
                      <a:pt x="132" y="78"/>
                      <a:pt x="144" y="56"/>
                      <a:pt x="158" y="37"/>
                    </a:cubicBezTo>
                    <a:cubicBezTo>
                      <a:pt x="164" y="29"/>
                      <a:pt x="141" y="62"/>
                      <a:pt x="141" y="62"/>
                    </a:cubicBezTo>
                    <a:cubicBezTo>
                      <a:pt x="141" y="62"/>
                      <a:pt x="149" y="42"/>
                      <a:pt x="158" y="37"/>
                    </a:cubicBezTo>
                    <a:cubicBezTo>
                      <a:pt x="169" y="31"/>
                      <a:pt x="181" y="26"/>
                      <a:pt x="192" y="20"/>
                    </a:cubicBezTo>
                    <a:cubicBezTo>
                      <a:pt x="232" y="34"/>
                      <a:pt x="229" y="16"/>
                      <a:pt x="267" y="4"/>
                    </a:cubicBezTo>
                    <a:cubicBezTo>
                      <a:pt x="286" y="7"/>
                      <a:pt x="310" y="0"/>
                      <a:pt x="325" y="12"/>
                    </a:cubicBezTo>
                    <a:cubicBezTo>
                      <a:pt x="333" y="18"/>
                      <a:pt x="317" y="32"/>
                      <a:pt x="308" y="37"/>
                    </a:cubicBezTo>
                    <a:cubicBezTo>
                      <a:pt x="296" y="44"/>
                      <a:pt x="281" y="43"/>
                      <a:pt x="267" y="46"/>
                    </a:cubicBezTo>
                    <a:cubicBezTo>
                      <a:pt x="295" y="49"/>
                      <a:pt x="325" y="42"/>
                      <a:pt x="350" y="54"/>
                    </a:cubicBezTo>
                    <a:cubicBezTo>
                      <a:pt x="365" y="61"/>
                      <a:pt x="307" y="47"/>
                      <a:pt x="300" y="62"/>
                    </a:cubicBezTo>
                    <a:cubicBezTo>
                      <a:pt x="294" y="75"/>
                      <a:pt x="328" y="68"/>
                      <a:pt x="342" y="71"/>
                    </a:cubicBezTo>
                    <a:cubicBezTo>
                      <a:pt x="353" y="76"/>
                      <a:pt x="371" y="75"/>
                      <a:pt x="375" y="87"/>
                    </a:cubicBezTo>
                    <a:cubicBezTo>
                      <a:pt x="378" y="95"/>
                      <a:pt x="347" y="88"/>
                      <a:pt x="350" y="96"/>
                    </a:cubicBezTo>
                    <a:cubicBezTo>
                      <a:pt x="354" y="108"/>
                      <a:pt x="373" y="106"/>
                      <a:pt x="384" y="112"/>
                    </a:cubicBezTo>
                    <a:cubicBezTo>
                      <a:pt x="393" y="117"/>
                      <a:pt x="401" y="123"/>
                      <a:pt x="409" y="129"/>
                    </a:cubicBezTo>
                    <a:cubicBezTo>
                      <a:pt x="398" y="132"/>
                      <a:pt x="380" y="127"/>
                      <a:pt x="375" y="137"/>
                    </a:cubicBezTo>
                    <a:cubicBezTo>
                      <a:pt x="364" y="159"/>
                      <a:pt x="430" y="174"/>
                      <a:pt x="367" y="154"/>
                    </a:cubicBezTo>
                    <a:cubicBezTo>
                      <a:pt x="370" y="162"/>
                      <a:pt x="379" y="171"/>
                      <a:pt x="375" y="179"/>
                    </a:cubicBezTo>
                    <a:cubicBezTo>
                      <a:pt x="362" y="205"/>
                      <a:pt x="318" y="165"/>
                      <a:pt x="375" y="204"/>
                    </a:cubicBezTo>
                    <a:cubicBezTo>
                      <a:pt x="410" y="273"/>
                      <a:pt x="391" y="213"/>
                      <a:pt x="342" y="229"/>
                    </a:cubicBezTo>
                    <a:cubicBezTo>
                      <a:pt x="332" y="232"/>
                      <a:pt x="359" y="240"/>
                      <a:pt x="367" y="246"/>
                    </a:cubicBezTo>
                    <a:cubicBezTo>
                      <a:pt x="373" y="250"/>
                      <a:pt x="469" y="304"/>
                      <a:pt x="400" y="279"/>
                    </a:cubicBezTo>
                    <a:cubicBezTo>
                      <a:pt x="411" y="290"/>
                      <a:pt x="424" y="301"/>
                      <a:pt x="434" y="313"/>
                    </a:cubicBezTo>
                    <a:cubicBezTo>
                      <a:pt x="440" y="321"/>
                      <a:pt x="457" y="331"/>
                      <a:pt x="450" y="338"/>
                    </a:cubicBezTo>
                    <a:cubicBezTo>
                      <a:pt x="442" y="346"/>
                      <a:pt x="428" y="332"/>
                      <a:pt x="417" y="329"/>
                    </a:cubicBezTo>
                    <a:cubicBezTo>
                      <a:pt x="374" y="345"/>
                      <a:pt x="396" y="351"/>
                      <a:pt x="409" y="388"/>
                    </a:cubicBezTo>
                    <a:cubicBezTo>
                      <a:pt x="401" y="391"/>
                      <a:pt x="387" y="388"/>
                      <a:pt x="384" y="396"/>
                    </a:cubicBezTo>
                    <a:cubicBezTo>
                      <a:pt x="379" y="409"/>
                      <a:pt x="392" y="424"/>
                      <a:pt x="392" y="438"/>
                    </a:cubicBezTo>
                    <a:cubicBezTo>
                      <a:pt x="392" y="442"/>
                      <a:pt x="376" y="485"/>
                      <a:pt x="375" y="488"/>
                    </a:cubicBezTo>
                    <a:cubicBezTo>
                      <a:pt x="385" y="554"/>
                      <a:pt x="384" y="526"/>
                      <a:pt x="384" y="5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>
                <a:off x="7367040" y="885960"/>
                <a:ext cx="1341360" cy="1198440"/>
              </a:xfrm>
              <a:custGeom>
                <a:avLst/>
                <a:gdLst/>
                <a:ahLst/>
                <a:rect l="l" t="t" r="r" b="b"/>
                <a:pathLst>
                  <a:path w="845" h="755">
                    <a:moveTo>
                      <a:pt x="0" y="687"/>
                    </a:moveTo>
                    <a:cubicBezTo>
                      <a:pt x="8" y="662"/>
                      <a:pt x="17" y="637"/>
                      <a:pt x="25" y="612"/>
                    </a:cubicBezTo>
                    <a:cubicBezTo>
                      <a:pt x="43" y="668"/>
                      <a:pt x="22" y="617"/>
                      <a:pt x="42" y="579"/>
                    </a:cubicBezTo>
                    <a:cubicBezTo>
                      <a:pt x="46" y="571"/>
                      <a:pt x="46" y="596"/>
                      <a:pt x="50" y="604"/>
                    </a:cubicBezTo>
                    <a:cubicBezTo>
                      <a:pt x="55" y="613"/>
                      <a:pt x="61" y="621"/>
                      <a:pt x="67" y="629"/>
                    </a:cubicBezTo>
                    <a:cubicBezTo>
                      <a:pt x="48" y="527"/>
                      <a:pt x="32" y="511"/>
                      <a:pt x="67" y="562"/>
                    </a:cubicBezTo>
                    <a:cubicBezTo>
                      <a:pt x="64" y="548"/>
                      <a:pt x="58" y="520"/>
                      <a:pt x="58" y="520"/>
                    </a:cubicBezTo>
                    <a:cubicBezTo>
                      <a:pt x="61" y="503"/>
                      <a:pt x="55" y="482"/>
                      <a:pt x="67" y="470"/>
                    </a:cubicBezTo>
                    <a:cubicBezTo>
                      <a:pt x="74" y="463"/>
                      <a:pt x="73" y="495"/>
                      <a:pt x="83" y="495"/>
                    </a:cubicBezTo>
                    <a:cubicBezTo>
                      <a:pt x="92" y="495"/>
                      <a:pt x="90" y="479"/>
                      <a:pt x="92" y="470"/>
                    </a:cubicBezTo>
                    <a:cubicBezTo>
                      <a:pt x="103" y="425"/>
                      <a:pt x="100" y="386"/>
                      <a:pt x="150" y="370"/>
                    </a:cubicBezTo>
                    <a:cubicBezTo>
                      <a:pt x="194" y="384"/>
                      <a:pt x="179" y="365"/>
                      <a:pt x="192" y="328"/>
                    </a:cubicBezTo>
                    <a:cubicBezTo>
                      <a:pt x="177" y="288"/>
                      <a:pt x="169" y="260"/>
                      <a:pt x="217" y="245"/>
                    </a:cubicBezTo>
                    <a:cubicBezTo>
                      <a:pt x="220" y="237"/>
                      <a:pt x="217" y="224"/>
                      <a:pt x="225" y="220"/>
                    </a:cubicBezTo>
                    <a:cubicBezTo>
                      <a:pt x="233" y="216"/>
                      <a:pt x="246" y="236"/>
                      <a:pt x="250" y="228"/>
                    </a:cubicBezTo>
                    <a:cubicBezTo>
                      <a:pt x="256" y="215"/>
                      <a:pt x="245" y="200"/>
                      <a:pt x="242" y="186"/>
                    </a:cubicBezTo>
                    <a:cubicBezTo>
                      <a:pt x="256" y="142"/>
                      <a:pt x="230" y="153"/>
                      <a:pt x="217" y="111"/>
                    </a:cubicBezTo>
                    <a:cubicBezTo>
                      <a:pt x="293" y="93"/>
                      <a:pt x="277" y="117"/>
                      <a:pt x="292" y="70"/>
                    </a:cubicBezTo>
                    <a:cubicBezTo>
                      <a:pt x="284" y="64"/>
                      <a:pt x="276" y="58"/>
                      <a:pt x="267" y="53"/>
                    </a:cubicBezTo>
                    <a:cubicBezTo>
                      <a:pt x="256" y="47"/>
                      <a:pt x="234" y="48"/>
                      <a:pt x="234" y="36"/>
                    </a:cubicBezTo>
                    <a:cubicBezTo>
                      <a:pt x="234" y="25"/>
                      <a:pt x="256" y="41"/>
                      <a:pt x="267" y="44"/>
                    </a:cubicBezTo>
                    <a:cubicBezTo>
                      <a:pt x="296" y="52"/>
                      <a:pt x="291" y="53"/>
                      <a:pt x="317" y="70"/>
                    </a:cubicBezTo>
                    <a:cubicBezTo>
                      <a:pt x="325" y="67"/>
                      <a:pt x="333" y="60"/>
                      <a:pt x="342" y="61"/>
                    </a:cubicBezTo>
                    <a:cubicBezTo>
                      <a:pt x="354" y="63"/>
                      <a:pt x="363" y="82"/>
                      <a:pt x="375" y="78"/>
                    </a:cubicBezTo>
                    <a:cubicBezTo>
                      <a:pt x="383" y="75"/>
                      <a:pt x="358" y="53"/>
                      <a:pt x="367" y="53"/>
                    </a:cubicBezTo>
                    <a:cubicBezTo>
                      <a:pt x="381" y="53"/>
                      <a:pt x="389" y="71"/>
                      <a:pt x="401" y="78"/>
                    </a:cubicBezTo>
                    <a:cubicBezTo>
                      <a:pt x="409" y="82"/>
                      <a:pt x="418" y="83"/>
                      <a:pt x="426" y="86"/>
                    </a:cubicBezTo>
                    <a:cubicBezTo>
                      <a:pt x="420" y="75"/>
                      <a:pt x="417" y="62"/>
                      <a:pt x="409" y="53"/>
                    </a:cubicBezTo>
                    <a:cubicBezTo>
                      <a:pt x="403" y="45"/>
                      <a:pt x="374" y="36"/>
                      <a:pt x="384" y="36"/>
                    </a:cubicBezTo>
                    <a:cubicBezTo>
                      <a:pt x="414" y="36"/>
                      <a:pt x="447" y="77"/>
                      <a:pt x="476" y="86"/>
                    </a:cubicBezTo>
                    <a:cubicBezTo>
                      <a:pt x="473" y="75"/>
                      <a:pt x="473" y="62"/>
                      <a:pt x="467" y="53"/>
                    </a:cubicBezTo>
                    <a:cubicBezTo>
                      <a:pt x="461" y="45"/>
                      <a:pt x="432" y="36"/>
                      <a:pt x="442" y="36"/>
                    </a:cubicBezTo>
                    <a:cubicBezTo>
                      <a:pt x="455" y="36"/>
                      <a:pt x="464" y="48"/>
                      <a:pt x="476" y="53"/>
                    </a:cubicBezTo>
                    <a:cubicBezTo>
                      <a:pt x="513" y="70"/>
                      <a:pt x="547" y="88"/>
                      <a:pt x="584" y="103"/>
                    </a:cubicBezTo>
                    <a:cubicBezTo>
                      <a:pt x="561" y="30"/>
                      <a:pt x="634" y="89"/>
                      <a:pt x="659" y="103"/>
                    </a:cubicBezTo>
                    <a:cubicBezTo>
                      <a:pt x="670" y="109"/>
                      <a:pt x="702" y="129"/>
                      <a:pt x="693" y="120"/>
                    </a:cubicBezTo>
                    <a:cubicBezTo>
                      <a:pt x="671" y="97"/>
                      <a:pt x="643" y="81"/>
                      <a:pt x="618" y="61"/>
                    </a:cubicBezTo>
                    <a:cubicBezTo>
                      <a:pt x="602" y="49"/>
                      <a:pt x="696" y="78"/>
                      <a:pt x="676" y="78"/>
                    </a:cubicBezTo>
                    <a:cubicBezTo>
                      <a:pt x="665" y="78"/>
                      <a:pt x="654" y="73"/>
                      <a:pt x="643" y="70"/>
                    </a:cubicBezTo>
                    <a:cubicBezTo>
                      <a:pt x="635" y="64"/>
                      <a:pt x="609" y="58"/>
                      <a:pt x="618" y="53"/>
                    </a:cubicBezTo>
                    <a:cubicBezTo>
                      <a:pt x="630" y="46"/>
                      <a:pt x="646" y="57"/>
                      <a:pt x="659" y="61"/>
                    </a:cubicBezTo>
                    <a:cubicBezTo>
                      <a:pt x="709" y="76"/>
                      <a:pt x="758" y="91"/>
                      <a:pt x="810" y="103"/>
                    </a:cubicBezTo>
                    <a:cubicBezTo>
                      <a:pt x="818" y="109"/>
                      <a:pt x="845" y="120"/>
                      <a:pt x="835" y="120"/>
                    </a:cubicBezTo>
                    <a:cubicBezTo>
                      <a:pt x="822" y="120"/>
                      <a:pt x="813" y="106"/>
                      <a:pt x="801" y="103"/>
                    </a:cubicBezTo>
                    <a:cubicBezTo>
                      <a:pt x="757" y="94"/>
                      <a:pt x="712" y="94"/>
                      <a:pt x="668" y="86"/>
                    </a:cubicBezTo>
                    <a:cubicBezTo>
                      <a:pt x="537" y="89"/>
                      <a:pt x="406" y="95"/>
                      <a:pt x="275" y="95"/>
                    </a:cubicBezTo>
                    <a:cubicBezTo>
                      <a:pt x="229" y="95"/>
                      <a:pt x="236" y="92"/>
                      <a:pt x="225" y="61"/>
                    </a:cubicBezTo>
                    <a:cubicBezTo>
                      <a:pt x="417" y="0"/>
                      <a:pt x="167" y="34"/>
                      <a:pt x="676" y="44"/>
                    </a:cubicBezTo>
                    <a:cubicBezTo>
                      <a:pt x="720" y="60"/>
                      <a:pt x="687" y="43"/>
                      <a:pt x="726" y="86"/>
                    </a:cubicBezTo>
                    <a:cubicBezTo>
                      <a:pt x="742" y="103"/>
                      <a:pt x="776" y="136"/>
                      <a:pt x="776" y="136"/>
                    </a:cubicBezTo>
                    <a:cubicBezTo>
                      <a:pt x="773" y="144"/>
                      <a:pt x="776" y="157"/>
                      <a:pt x="768" y="161"/>
                    </a:cubicBezTo>
                    <a:cubicBezTo>
                      <a:pt x="760" y="165"/>
                      <a:pt x="740" y="145"/>
                      <a:pt x="743" y="153"/>
                    </a:cubicBezTo>
                    <a:cubicBezTo>
                      <a:pt x="763" y="207"/>
                      <a:pt x="752" y="182"/>
                      <a:pt x="776" y="228"/>
                    </a:cubicBezTo>
                    <a:cubicBezTo>
                      <a:pt x="758" y="154"/>
                      <a:pt x="776" y="222"/>
                      <a:pt x="776" y="262"/>
                    </a:cubicBezTo>
                    <a:cubicBezTo>
                      <a:pt x="776" y="298"/>
                      <a:pt x="769" y="302"/>
                      <a:pt x="751" y="328"/>
                    </a:cubicBezTo>
                    <a:cubicBezTo>
                      <a:pt x="760" y="355"/>
                      <a:pt x="753" y="465"/>
                      <a:pt x="776" y="395"/>
                    </a:cubicBezTo>
                    <a:cubicBezTo>
                      <a:pt x="773" y="428"/>
                      <a:pt x="777" y="463"/>
                      <a:pt x="768" y="495"/>
                    </a:cubicBezTo>
                    <a:cubicBezTo>
                      <a:pt x="765" y="505"/>
                      <a:pt x="749" y="504"/>
                      <a:pt x="743" y="512"/>
                    </a:cubicBezTo>
                    <a:cubicBezTo>
                      <a:pt x="737" y="521"/>
                      <a:pt x="737" y="534"/>
                      <a:pt x="734" y="545"/>
                    </a:cubicBezTo>
                    <a:cubicBezTo>
                      <a:pt x="742" y="548"/>
                      <a:pt x="750" y="554"/>
                      <a:pt x="759" y="554"/>
                    </a:cubicBezTo>
                    <a:cubicBezTo>
                      <a:pt x="768" y="554"/>
                      <a:pt x="781" y="537"/>
                      <a:pt x="785" y="545"/>
                    </a:cubicBezTo>
                    <a:cubicBezTo>
                      <a:pt x="796" y="566"/>
                      <a:pt x="762" y="620"/>
                      <a:pt x="751" y="637"/>
                    </a:cubicBezTo>
                    <a:cubicBezTo>
                      <a:pt x="731" y="700"/>
                      <a:pt x="748" y="632"/>
                      <a:pt x="768" y="637"/>
                    </a:cubicBezTo>
                    <a:cubicBezTo>
                      <a:pt x="779" y="640"/>
                      <a:pt x="773" y="660"/>
                      <a:pt x="776" y="671"/>
                    </a:cubicBezTo>
                    <a:cubicBezTo>
                      <a:pt x="773" y="696"/>
                      <a:pt x="768" y="721"/>
                      <a:pt x="768" y="746"/>
                    </a:cubicBezTo>
                    <a:cubicBezTo>
                      <a:pt x="768" y="755"/>
                      <a:pt x="776" y="730"/>
                      <a:pt x="776" y="721"/>
                    </a:cubicBezTo>
                    <a:cubicBezTo>
                      <a:pt x="776" y="559"/>
                      <a:pt x="791" y="600"/>
                      <a:pt x="751" y="520"/>
                    </a:cubicBezTo>
                    <a:cubicBezTo>
                      <a:pt x="754" y="501"/>
                      <a:pt x="759" y="482"/>
                      <a:pt x="759" y="462"/>
                    </a:cubicBezTo>
                    <a:cubicBezTo>
                      <a:pt x="759" y="411"/>
                      <a:pt x="733" y="463"/>
                      <a:pt x="768" y="412"/>
                    </a:cubicBezTo>
                    <a:cubicBezTo>
                      <a:pt x="771" y="401"/>
                      <a:pt x="765" y="382"/>
                      <a:pt x="776" y="378"/>
                    </a:cubicBezTo>
                    <a:cubicBezTo>
                      <a:pt x="781" y="376"/>
                      <a:pt x="807" y="431"/>
                      <a:pt x="785" y="38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091"/>
              <p:cNvSpPr/>
              <p:nvPr/>
            </p:nvSpPr>
            <p:spPr>
              <a:xfrm>
                <a:off x="7556040" y="1199880"/>
                <a:ext cx="566640" cy="815760"/>
              </a:xfrm>
              <a:custGeom>
                <a:avLst/>
                <a:gdLst/>
                <a:ahLst/>
                <a:rect l="l" t="t" r="r" b="b"/>
                <a:pathLst>
                  <a:path w="357" h="514">
                    <a:moveTo>
                      <a:pt x="115" y="514"/>
                    </a:moveTo>
                    <a:cubicBezTo>
                      <a:pt x="112" y="500"/>
                      <a:pt x="98" y="485"/>
                      <a:pt x="106" y="473"/>
                    </a:cubicBezTo>
                    <a:cubicBezTo>
                      <a:pt x="111" y="465"/>
                      <a:pt x="137" y="497"/>
                      <a:pt x="131" y="489"/>
                    </a:cubicBezTo>
                    <a:cubicBezTo>
                      <a:pt x="117" y="470"/>
                      <a:pt x="98" y="456"/>
                      <a:pt x="81" y="439"/>
                    </a:cubicBezTo>
                    <a:cubicBezTo>
                      <a:pt x="50" y="408"/>
                      <a:pt x="45" y="410"/>
                      <a:pt x="81" y="422"/>
                    </a:cubicBezTo>
                    <a:cubicBezTo>
                      <a:pt x="62" y="394"/>
                      <a:pt x="0" y="352"/>
                      <a:pt x="73" y="389"/>
                    </a:cubicBezTo>
                    <a:cubicBezTo>
                      <a:pt x="83" y="357"/>
                      <a:pt x="84" y="371"/>
                      <a:pt x="73" y="339"/>
                    </a:cubicBezTo>
                    <a:cubicBezTo>
                      <a:pt x="70" y="331"/>
                      <a:pt x="58" y="320"/>
                      <a:pt x="64" y="314"/>
                    </a:cubicBezTo>
                    <a:cubicBezTo>
                      <a:pt x="70" y="308"/>
                      <a:pt x="81" y="319"/>
                      <a:pt x="90" y="322"/>
                    </a:cubicBezTo>
                    <a:cubicBezTo>
                      <a:pt x="87" y="308"/>
                      <a:pt x="75" y="294"/>
                      <a:pt x="81" y="281"/>
                    </a:cubicBezTo>
                    <a:cubicBezTo>
                      <a:pt x="85" y="273"/>
                      <a:pt x="98" y="293"/>
                      <a:pt x="106" y="289"/>
                    </a:cubicBezTo>
                    <a:cubicBezTo>
                      <a:pt x="108" y="288"/>
                      <a:pt x="123" y="240"/>
                      <a:pt x="123" y="239"/>
                    </a:cubicBezTo>
                    <a:cubicBezTo>
                      <a:pt x="145" y="307"/>
                      <a:pt x="119" y="216"/>
                      <a:pt x="115" y="205"/>
                    </a:cubicBezTo>
                    <a:cubicBezTo>
                      <a:pt x="135" y="143"/>
                      <a:pt x="123" y="171"/>
                      <a:pt x="148" y="122"/>
                    </a:cubicBezTo>
                    <a:cubicBezTo>
                      <a:pt x="153" y="101"/>
                      <a:pt x="154" y="29"/>
                      <a:pt x="173" y="89"/>
                    </a:cubicBezTo>
                    <a:cubicBezTo>
                      <a:pt x="176" y="78"/>
                      <a:pt x="176" y="65"/>
                      <a:pt x="181" y="55"/>
                    </a:cubicBezTo>
                    <a:cubicBezTo>
                      <a:pt x="190" y="37"/>
                      <a:pt x="215" y="5"/>
                      <a:pt x="215" y="5"/>
                    </a:cubicBezTo>
                    <a:cubicBezTo>
                      <a:pt x="227" y="53"/>
                      <a:pt x="222" y="54"/>
                      <a:pt x="181" y="80"/>
                    </a:cubicBezTo>
                    <a:cubicBezTo>
                      <a:pt x="201" y="51"/>
                      <a:pt x="215" y="41"/>
                      <a:pt x="248" y="30"/>
                    </a:cubicBezTo>
                    <a:cubicBezTo>
                      <a:pt x="293" y="0"/>
                      <a:pt x="280" y="6"/>
                      <a:pt x="223" y="64"/>
                    </a:cubicBezTo>
                    <a:cubicBezTo>
                      <a:pt x="211" y="76"/>
                      <a:pt x="256" y="58"/>
                      <a:pt x="273" y="55"/>
                    </a:cubicBezTo>
                    <a:cubicBezTo>
                      <a:pt x="288" y="45"/>
                      <a:pt x="341" y="13"/>
                      <a:pt x="357" y="1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092"/>
              <p:cNvSpPr/>
              <p:nvPr/>
            </p:nvSpPr>
            <p:spPr>
              <a:xfrm>
                <a:off x="8224200" y="1380960"/>
                <a:ext cx="168480" cy="742680"/>
              </a:xfrm>
              <a:custGeom>
                <a:avLst/>
                <a:gdLst/>
                <a:ahLst/>
                <a:rect l="l" t="t" r="r" b="b"/>
                <a:pathLst>
                  <a:path w="106" h="468">
                    <a:moveTo>
                      <a:pt x="69" y="467"/>
                    </a:moveTo>
                    <a:cubicBezTo>
                      <a:pt x="66" y="459"/>
                      <a:pt x="53" y="446"/>
                      <a:pt x="61" y="442"/>
                    </a:cubicBezTo>
                    <a:cubicBezTo>
                      <a:pt x="70" y="438"/>
                      <a:pt x="82" y="468"/>
                      <a:pt x="86" y="459"/>
                    </a:cubicBezTo>
                    <a:cubicBezTo>
                      <a:pt x="101" y="427"/>
                      <a:pt x="0" y="386"/>
                      <a:pt x="86" y="409"/>
                    </a:cubicBezTo>
                    <a:cubicBezTo>
                      <a:pt x="80" y="401"/>
                      <a:pt x="75" y="392"/>
                      <a:pt x="69" y="384"/>
                    </a:cubicBezTo>
                    <a:cubicBezTo>
                      <a:pt x="45" y="355"/>
                      <a:pt x="28" y="354"/>
                      <a:pt x="69" y="367"/>
                    </a:cubicBezTo>
                    <a:cubicBezTo>
                      <a:pt x="48" y="300"/>
                      <a:pt x="63" y="373"/>
                      <a:pt x="86" y="350"/>
                    </a:cubicBezTo>
                    <a:cubicBezTo>
                      <a:pt x="87" y="349"/>
                      <a:pt x="69" y="300"/>
                      <a:pt x="69" y="300"/>
                    </a:cubicBezTo>
                    <a:cubicBezTo>
                      <a:pt x="93" y="233"/>
                      <a:pt x="69" y="317"/>
                      <a:pt x="69" y="250"/>
                    </a:cubicBezTo>
                    <a:cubicBezTo>
                      <a:pt x="69" y="235"/>
                      <a:pt x="87" y="211"/>
                      <a:pt x="94" y="200"/>
                    </a:cubicBezTo>
                    <a:cubicBezTo>
                      <a:pt x="97" y="189"/>
                      <a:pt x="106" y="178"/>
                      <a:pt x="103" y="167"/>
                    </a:cubicBezTo>
                    <a:cubicBezTo>
                      <a:pt x="92" y="120"/>
                      <a:pt x="53" y="141"/>
                      <a:pt x="103" y="125"/>
                    </a:cubicBezTo>
                    <a:cubicBezTo>
                      <a:pt x="95" y="114"/>
                      <a:pt x="78" y="105"/>
                      <a:pt x="78" y="91"/>
                    </a:cubicBezTo>
                    <a:cubicBezTo>
                      <a:pt x="78" y="82"/>
                      <a:pt x="103" y="92"/>
                      <a:pt x="103" y="83"/>
                    </a:cubicBezTo>
                    <a:cubicBezTo>
                      <a:pt x="103" y="71"/>
                      <a:pt x="86" y="67"/>
                      <a:pt x="78" y="58"/>
                    </a:cubicBezTo>
                    <a:cubicBezTo>
                      <a:pt x="72" y="50"/>
                      <a:pt x="67" y="41"/>
                      <a:pt x="61" y="33"/>
                    </a:cubicBezTo>
                    <a:cubicBezTo>
                      <a:pt x="52" y="4"/>
                      <a:pt x="60" y="14"/>
                      <a:pt x="4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093"/>
              <p:cNvSpPr/>
              <p:nvPr/>
            </p:nvSpPr>
            <p:spPr>
              <a:xfrm>
                <a:off x="8334000" y="1796760"/>
                <a:ext cx="217440" cy="180720"/>
              </a:xfrm>
              <a:custGeom>
                <a:avLst/>
                <a:gdLst/>
                <a:ahLst/>
                <a:rect l="l" t="t" r="r" b="b"/>
                <a:pathLst>
                  <a:path w="137" h="114">
                    <a:moveTo>
                      <a:pt x="34" y="80"/>
                    </a:moveTo>
                    <a:cubicBezTo>
                      <a:pt x="68" y="91"/>
                      <a:pt x="121" y="79"/>
                      <a:pt x="67" y="113"/>
                    </a:cubicBezTo>
                    <a:cubicBezTo>
                      <a:pt x="56" y="110"/>
                      <a:pt x="41" y="114"/>
                      <a:pt x="34" y="105"/>
                    </a:cubicBezTo>
                    <a:cubicBezTo>
                      <a:pt x="29" y="98"/>
                      <a:pt x="34" y="83"/>
                      <a:pt x="42" y="80"/>
                    </a:cubicBezTo>
                    <a:cubicBezTo>
                      <a:pt x="71" y="70"/>
                      <a:pt x="103" y="75"/>
                      <a:pt x="134" y="72"/>
                    </a:cubicBezTo>
                    <a:cubicBezTo>
                      <a:pt x="131" y="58"/>
                      <a:pt x="137" y="37"/>
                      <a:pt x="125" y="30"/>
                    </a:cubicBezTo>
                    <a:cubicBezTo>
                      <a:pt x="115" y="24"/>
                      <a:pt x="66" y="41"/>
                      <a:pt x="50" y="46"/>
                    </a:cubicBezTo>
                    <a:cubicBezTo>
                      <a:pt x="37" y="100"/>
                      <a:pt x="51" y="81"/>
                      <a:pt x="25" y="55"/>
                    </a:cubicBezTo>
                    <a:cubicBezTo>
                      <a:pt x="18" y="48"/>
                      <a:pt x="8" y="44"/>
                      <a:pt x="0" y="38"/>
                    </a:cubicBezTo>
                    <a:cubicBezTo>
                      <a:pt x="23" y="23"/>
                      <a:pt x="75" y="0"/>
                      <a:pt x="75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>
                <a:off x="8141760" y="1109520"/>
                <a:ext cx="441360" cy="388440"/>
              </a:xfrm>
              <a:custGeom>
                <a:avLst/>
                <a:gdLst/>
                <a:ahLst/>
                <a:rect l="l" t="t" r="r" b="b"/>
                <a:pathLst>
                  <a:path w="278" h="245">
                    <a:moveTo>
                      <a:pt x="46" y="20"/>
                    </a:moveTo>
                    <a:cubicBezTo>
                      <a:pt x="54" y="28"/>
                      <a:pt x="59" y="43"/>
                      <a:pt x="71" y="45"/>
                    </a:cubicBezTo>
                    <a:cubicBezTo>
                      <a:pt x="186" y="61"/>
                      <a:pt x="198" y="26"/>
                      <a:pt x="130" y="4"/>
                    </a:cubicBezTo>
                    <a:cubicBezTo>
                      <a:pt x="60" y="11"/>
                      <a:pt x="0" y="0"/>
                      <a:pt x="79" y="54"/>
                    </a:cubicBezTo>
                    <a:cubicBezTo>
                      <a:pt x="113" y="148"/>
                      <a:pt x="66" y="114"/>
                      <a:pt x="238" y="104"/>
                    </a:cubicBezTo>
                    <a:cubicBezTo>
                      <a:pt x="221" y="51"/>
                      <a:pt x="186" y="72"/>
                      <a:pt x="138" y="79"/>
                    </a:cubicBezTo>
                    <a:cubicBezTo>
                      <a:pt x="130" y="82"/>
                      <a:pt x="113" y="78"/>
                      <a:pt x="113" y="87"/>
                    </a:cubicBezTo>
                    <a:cubicBezTo>
                      <a:pt x="113" y="99"/>
                      <a:pt x="127" y="115"/>
                      <a:pt x="138" y="112"/>
                    </a:cubicBezTo>
                    <a:cubicBezTo>
                      <a:pt x="149" y="109"/>
                      <a:pt x="143" y="90"/>
                      <a:pt x="146" y="79"/>
                    </a:cubicBezTo>
                    <a:cubicBezTo>
                      <a:pt x="154" y="82"/>
                      <a:pt x="172" y="78"/>
                      <a:pt x="171" y="87"/>
                    </a:cubicBezTo>
                    <a:cubicBezTo>
                      <a:pt x="168" y="107"/>
                      <a:pt x="138" y="137"/>
                      <a:pt x="138" y="137"/>
                    </a:cubicBezTo>
                    <a:cubicBezTo>
                      <a:pt x="146" y="143"/>
                      <a:pt x="153" y="153"/>
                      <a:pt x="163" y="154"/>
                    </a:cubicBezTo>
                    <a:cubicBezTo>
                      <a:pt x="180" y="156"/>
                      <a:pt x="198" y="137"/>
                      <a:pt x="213" y="146"/>
                    </a:cubicBezTo>
                    <a:cubicBezTo>
                      <a:pt x="223" y="152"/>
                      <a:pt x="215" y="173"/>
                      <a:pt x="205" y="179"/>
                    </a:cubicBezTo>
                    <a:cubicBezTo>
                      <a:pt x="188" y="189"/>
                      <a:pt x="166" y="184"/>
                      <a:pt x="146" y="187"/>
                    </a:cubicBezTo>
                    <a:cubicBezTo>
                      <a:pt x="177" y="208"/>
                      <a:pt x="278" y="245"/>
                      <a:pt x="230" y="171"/>
                    </a:cubicBezTo>
                    <a:cubicBezTo>
                      <a:pt x="213" y="174"/>
                      <a:pt x="180" y="179"/>
                      <a:pt x="180" y="17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095"/>
              <p:cNvSpPr/>
              <p:nvPr/>
            </p:nvSpPr>
            <p:spPr>
              <a:xfrm>
                <a:off x="7774920" y="1076040"/>
                <a:ext cx="411120" cy="145800"/>
              </a:xfrm>
              <a:custGeom>
                <a:avLst/>
                <a:gdLst/>
                <a:ahLst/>
                <a:rect l="l" t="t" r="r" b="b"/>
                <a:pathLst>
                  <a:path w="259" h="92">
                    <a:moveTo>
                      <a:pt x="52" y="16"/>
                    </a:moveTo>
                    <a:cubicBezTo>
                      <a:pt x="55" y="24"/>
                      <a:pt x="51" y="40"/>
                      <a:pt x="60" y="41"/>
                    </a:cubicBezTo>
                    <a:cubicBezTo>
                      <a:pt x="69" y="42"/>
                      <a:pt x="208" y="58"/>
                      <a:pt x="144" y="8"/>
                    </a:cubicBezTo>
                    <a:cubicBezTo>
                      <a:pt x="137" y="2"/>
                      <a:pt x="127" y="3"/>
                      <a:pt x="118" y="0"/>
                    </a:cubicBezTo>
                    <a:cubicBezTo>
                      <a:pt x="0" y="16"/>
                      <a:pt x="81" y="0"/>
                      <a:pt x="118" y="16"/>
                    </a:cubicBezTo>
                    <a:cubicBezTo>
                      <a:pt x="127" y="20"/>
                      <a:pt x="129" y="33"/>
                      <a:pt x="135" y="41"/>
                    </a:cubicBezTo>
                    <a:cubicBezTo>
                      <a:pt x="60" y="92"/>
                      <a:pt x="218" y="58"/>
                      <a:pt x="219" y="58"/>
                    </a:cubicBezTo>
                    <a:cubicBezTo>
                      <a:pt x="211" y="52"/>
                      <a:pt x="204" y="44"/>
                      <a:pt x="194" y="41"/>
                    </a:cubicBezTo>
                    <a:cubicBezTo>
                      <a:pt x="140" y="23"/>
                      <a:pt x="132" y="52"/>
                      <a:pt x="160" y="8"/>
                    </a:cubicBezTo>
                    <a:cubicBezTo>
                      <a:pt x="188" y="11"/>
                      <a:pt x="218" y="7"/>
                      <a:pt x="244" y="16"/>
                    </a:cubicBezTo>
                    <a:cubicBezTo>
                      <a:pt x="252" y="19"/>
                      <a:pt x="259" y="36"/>
                      <a:pt x="252" y="41"/>
                    </a:cubicBezTo>
                    <a:cubicBezTo>
                      <a:pt x="236" y="52"/>
                      <a:pt x="194" y="50"/>
                      <a:pt x="194" y="5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096"/>
              <p:cNvSpPr/>
              <p:nvPr/>
            </p:nvSpPr>
            <p:spPr>
              <a:xfrm>
                <a:off x="7419600" y="2003400"/>
                <a:ext cx="1703160" cy="748800"/>
              </a:xfrm>
              <a:custGeom>
                <a:avLst/>
                <a:gdLst/>
                <a:ahLst/>
                <a:rect l="l" t="t" r="r" b="b"/>
                <a:pathLst>
                  <a:path w="1073" h="472">
                    <a:moveTo>
                      <a:pt x="167" y="8"/>
                    </a:moveTo>
                    <a:cubicBezTo>
                      <a:pt x="131" y="11"/>
                      <a:pt x="91" y="0"/>
                      <a:pt x="59" y="17"/>
                    </a:cubicBezTo>
                    <a:cubicBezTo>
                      <a:pt x="0" y="47"/>
                      <a:pt x="230" y="3"/>
                      <a:pt x="100" y="42"/>
                    </a:cubicBezTo>
                    <a:cubicBezTo>
                      <a:pt x="84" y="47"/>
                      <a:pt x="67" y="47"/>
                      <a:pt x="50" y="50"/>
                    </a:cubicBezTo>
                    <a:cubicBezTo>
                      <a:pt x="86" y="53"/>
                      <a:pt x="123" y="51"/>
                      <a:pt x="159" y="58"/>
                    </a:cubicBezTo>
                    <a:cubicBezTo>
                      <a:pt x="224" y="70"/>
                      <a:pt x="152" y="74"/>
                      <a:pt x="192" y="100"/>
                    </a:cubicBezTo>
                    <a:cubicBezTo>
                      <a:pt x="204" y="108"/>
                      <a:pt x="220" y="105"/>
                      <a:pt x="234" y="108"/>
                    </a:cubicBezTo>
                    <a:cubicBezTo>
                      <a:pt x="231" y="117"/>
                      <a:pt x="219" y="129"/>
                      <a:pt x="226" y="134"/>
                    </a:cubicBezTo>
                    <a:cubicBezTo>
                      <a:pt x="257" y="155"/>
                      <a:pt x="319" y="131"/>
                      <a:pt x="259" y="150"/>
                    </a:cubicBezTo>
                    <a:cubicBezTo>
                      <a:pt x="272" y="152"/>
                      <a:pt x="375" y="154"/>
                      <a:pt x="309" y="175"/>
                    </a:cubicBezTo>
                    <a:cubicBezTo>
                      <a:pt x="362" y="202"/>
                      <a:pt x="418" y="231"/>
                      <a:pt x="476" y="242"/>
                    </a:cubicBezTo>
                    <a:cubicBezTo>
                      <a:pt x="487" y="248"/>
                      <a:pt x="498" y="254"/>
                      <a:pt x="509" y="259"/>
                    </a:cubicBezTo>
                    <a:cubicBezTo>
                      <a:pt x="517" y="262"/>
                      <a:pt x="534" y="258"/>
                      <a:pt x="534" y="267"/>
                    </a:cubicBezTo>
                    <a:cubicBezTo>
                      <a:pt x="534" y="277"/>
                      <a:pt x="517" y="278"/>
                      <a:pt x="509" y="284"/>
                    </a:cubicBezTo>
                    <a:cubicBezTo>
                      <a:pt x="515" y="295"/>
                      <a:pt x="528" y="305"/>
                      <a:pt x="526" y="317"/>
                    </a:cubicBezTo>
                    <a:cubicBezTo>
                      <a:pt x="524" y="326"/>
                      <a:pt x="509" y="324"/>
                      <a:pt x="501" y="326"/>
                    </a:cubicBezTo>
                    <a:cubicBezTo>
                      <a:pt x="490" y="329"/>
                      <a:pt x="479" y="331"/>
                      <a:pt x="468" y="334"/>
                    </a:cubicBezTo>
                    <a:cubicBezTo>
                      <a:pt x="487" y="337"/>
                      <a:pt x="510" y="331"/>
                      <a:pt x="526" y="342"/>
                    </a:cubicBezTo>
                    <a:cubicBezTo>
                      <a:pt x="556" y="362"/>
                      <a:pt x="361" y="342"/>
                      <a:pt x="434" y="342"/>
                    </a:cubicBezTo>
                    <a:cubicBezTo>
                      <a:pt x="501" y="342"/>
                      <a:pt x="568" y="348"/>
                      <a:pt x="635" y="351"/>
                    </a:cubicBezTo>
                    <a:cubicBezTo>
                      <a:pt x="643" y="354"/>
                      <a:pt x="664" y="351"/>
                      <a:pt x="660" y="359"/>
                    </a:cubicBezTo>
                    <a:cubicBezTo>
                      <a:pt x="654" y="369"/>
                      <a:pt x="638" y="367"/>
                      <a:pt x="626" y="367"/>
                    </a:cubicBezTo>
                    <a:cubicBezTo>
                      <a:pt x="584" y="367"/>
                      <a:pt x="543" y="362"/>
                      <a:pt x="501" y="359"/>
                    </a:cubicBezTo>
                    <a:cubicBezTo>
                      <a:pt x="455" y="352"/>
                      <a:pt x="423" y="343"/>
                      <a:pt x="384" y="317"/>
                    </a:cubicBezTo>
                    <a:cubicBezTo>
                      <a:pt x="475" y="296"/>
                      <a:pt x="376" y="324"/>
                      <a:pt x="376" y="300"/>
                    </a:cubicBezTo>
                    <a:cubicBezTo>
                      <a:pt x="376" y="285"/>
                      <a:pt x="404" y="289"/>
                      <a:pt x="418" y="284"/>
                    </a:cubicBezTo>
                    <a:cubicBezTo>
                      <a:pt x="379" y="281"/>
                      <a:pt x="340" y="279"/>
                      <a:pt x="301" y="275"/>
                    </a:cubicBezTo>
                    <a:cubicBezTo>
                      <a:pt x="289" y="274"/>
                      <a:pt x="261" y="277"/>
                      <a:pt x="267" y="267"/>
                    </a:cubicBezTo>
                    <a:cubicBezTo>
                      <a:pt x="276" y="252"/>
                      <a:pt x="300" y="256"/>
                      <a:pt x="317" y="250"/>
                    </a:cubicBezTo>
                    <a:cubicBezTo>
                      <a:pt x="314" y="242"/>
                      <a:pt x="303" y="231"/>
                      <a:pt x="309" y="225"/>
                    </a:cubicBezTo>
                    <a:cubicBezTo>
                      <a:pt x="319" y="215"/>
                      <a:pt x="337" y="217"/>
                      <a:pt x="351" y="217"/>
                    </a:cubicBezTo>
                    <a:cubicBezTo>
                      <a:pt x="376" y="217"/>
                      <a:pt x="451" y="225"/>
                      <a:pt x="426" y="225"/>
                    </a:cubicBezTo>
                    <a:cubicBezTo>
                      <a:pt x="390" y="225"/>
                      <a:pt x="353" y="220"/>
                      <a:pt x="317" y="217"/>
                    </a:cubicBezTo>
                    <a:cubicBezTo>
                      <a:pt x="309" y="214"/>
                      <a:pt x="285" y="214"/>
                      <a:pt x="292" y="209"/>
                    </a:cubicBezTo>
                    <a:cubicBezTo>
                      <a:pt x="326" y="186"/>
                      <a:pt x="411" y="213"/>
                      <a:pt x="434" y="217"/>
                    </a:cubicBezTo>
                    <a:cubicBezTo>
                      <a:pt x="489" y="254"/>
                      <a:pt x="446" y="216"/>
                      <a:pt x="426" y="242"/>
                    </a:cubicBezTo>
                    <a:cubicBezTo>
                      <a:pt x="421" y="249"/>
                      <a:pt x="426" y="263"/>
                      <a:pt x="434" y="267"/>
                    </a:cubicBezTo>
                    <a:cubicBezTo>
                      <a:pt x="452" y="276"/>
                      <a:pt x="473" y="272"/>
                      <a:pt x="493" y="275"/>
                    </a:cubicBezTo>
                    <a:cubicBezTo>
                      <a:pt x="501" y="278"/>
                      <a:pt x="518" y="275"/>
                      <a:pt x="518" y="284"/>
                    </a:cubicBezTo>
                    <a:cubicBezTo>
                      <a:pt x="518" y="294"/>
                      <a:pt x="484" y="296"/>
                      <a:pt x="493" y="300"/>
                    </a:cubicBezTo>
                    <a:cubicBezTo>
                      <a:pt x="532" y="317"/>
                      <a:pt x="577" y="309"/>
                      <a:pt x="618" y="317"/>
                    </a:cubicBezTo>
                    <a:cubicBezTo>
                      <a:pt x="659" y="345"/>
                      <a:pt x="633" y="335"/>
                      <a:pt x="701" y="326"/>
                    </a:cubicBezTo>
                    <a:cubicBezTo>
                      <a:pt x="743" y="329"/>
                      <a:pt x="869" y="334"/>
                      <a:pt x="827" y="334"/>
                    </a:cubicBezTo>
                    <a:cubicBezTo>
                      <a:pt x="780" y="334"/>
                      <a:pt x="732" y="334"/>
                      <a:pt x="685" y="326"/>
                    </a:cubicBezTo>
                    <a:cubicBezTo>
                      <a:pt x="671" y="324"/>
                      <a:pt x="712" y="320"/>
                      <a:pt x="726" y="317"/>
                    </a:cubicBezTo>
                    <a:cubicBezTo>
                      <a:pt x="735" y="315"/>
                      <a:pt x="743" y="311"/>
                      <a:pt x="752" y="309"/>
                    </a:cubicBezTo>
                    <a:cubicBezTo>
                      <a:pt x="785" y="301"/>
                      <a:pt x="819" y="292"/>
                      <a:pt x="852" y="284"/>
                    </a:cubicBezTo>
                    <a:cubicBezTo>
                      <a:pt x="627" y="268"/>
                      <a:pt x="746" y="270"/>
                      <a:pt x="827" y="259"/>
                    </a:cubicBezTo>
                    <a:cubicBezTo>
                      <a:pt x="807" y="256"/>
                      <a:pt x="782" y="264"/>
                      <a:pt x="768" y="250"/>
                    </a:cubicBezTo>
                    <a:cubicBezTo>
                      <a:pt x="752" y="234"/>
                      <a:pt x="817" y="217"/>
                      <a:pt x="818" y="217"/>
                    </a:cubicBezTo>
                    <a:cubicBezTo>
                      <a:pt x="754" y="214"/>
                      <a:pt x="690" y="216"/>
                      <a:pt x="626" y="209"/>
                    </a:cubicBezTo>
                    <a:cubicBezTo>
                      <a:pt x="614" y="208"/>
                      <a:pt x="649" y="203"/>
                      <a:pt x="660" y="200"/>
                    </a:cubicBezTo>
                    <a:cubicBezTo>
                      <a:pt x="712" y="188"/>
                      <a:pt x="720" y="190"/>
                      <a:pt x="785" y="184"/>
                    </a:cubicBezTo>
                    <a:cubicBezTo>
                      <a:pt x="780" y="184"/>
                      <a:pt x="556" y="200"/>
                      <a:pt x="660" y="142"/>
                    </a:cubicBezTo>
                    <a:cubicBezTo>
                      <a:pt x="668" y="138"/>
                      <a:pt x="677" y="137"/>
                      <a:pt x="685" y="134"/>
                    </a:cubicBezTo>
                    <a:cubicBezTo>
                      <a:pt x="657" y="131"/>
                      <a:pt x="628" y="133"/>
                      <a:pt x="601" y="125"/>
                    </a:cubicBezTo>
                    <a:cubicBezTo>
                      <a:pt x="593" y="123"/>
                      <a:pt x="617" y="117"/>
                      <a:pt x="626" y="117"/>
                    </a:cubicBezTo>
                    <a:cubicBezTo>
                      <a:pt x="651" y="117"/>
                      <a:pt x="676" y="122"/>
                      <a:pt x="701" y="125"/>
                    </a:cubicBezTo>
                    <a:cubicBezTo>
                      <a:pt x="747" y="138"/>
                      <a:pt x="787" y="149"/>
                      <a:pt x="827" y="175"/>
                    </a:cubicBezTo>
                    <a:cubicBezTo>
                      <a:pt x="832" y="183"/>
                      <a:pt x="847" y="191"/>
                      <a:pt x="843" y="200"/>
                    </a:cubicBezTo>
                    <a:cubicBezTo>
                      <a:pt x="838" y="210"/>
                      <a:pt x="810" y="198"/>
                      <a:pt x="810" y="209"/>
                    </a:cubicBezTo>
                    <a:cubicBezTo>
                      <a:pt x="810" y="210"/>
                      <a:pt x="868" y="234"/>
                      <a:pt x="893" y="250"/>
                    </a:cubicBezTo>
                    <a:cubicBezTo>
                      <a:pt x="899" y="258"/>
                      <a:pt x="919" y="270"/>
                      <a:pt x="910" y="275"/>
                    </a:cubicBezTo>
                    <a:cubicBezTo>
                      <a:pt x="867" y="300"/>
                      <a:pt x="760" y="266"/>
                      <a:pt x="902" y="300"/>
                    </a:cubicBezTo>
                    <a:cubicBezTo>
                      <a:pt x="894" y="306"/>
                      <a:pt x="886" y="312"/>
                      <a:pt x="877" y="317"/>
                    </a:cubicBezTo>
                    <a:cubicBezTo>
                      <a:pt x="869" y="321"/>
                      <a:pt x="845" y="321"/>
                      <a:pt x="852" y="326"/>
                    </a:cubicBezTo>
                    <a:cubicBezTo>
                      <a:pt x="875" y="342"/>
                      <a:pt x="908" y="335"/>
                      <a:pt x="935" y="342"/>
                    </a:cubicBezTo>
                    <a:cubicBezTo>
                      <a:pt x="946" y="348"/>
                      <a:pt x="972" y="347"/>
                      <a:pt x="969" y="359"/>
                    </a:cubicBezTo>
                    <a:cubicBezTo>
                      <a:pt x="961" y="393"/>
                      <a:pt x="888" y="364"/>
                      <a:pt x="952" y="384"/>
                    </a:cubicBezTo>
                    <a:cubicBezTo>
                      <a:pt x="835" y="406"/>
                      <a:pt x="969" y="384"/>
                      <a:pt x="710" y="384"/>
                    </a:cubicBezTo>
                    <a:cubicBezTo>
                      <a:pt x="690" y="384"/>
                      <a:pt x="749" y="388"/>
                      <a:pt x="768" y="392"/>
                    </a:cubicBezTo>
                    <a:cubicBezTo>
                      <a:pt x="802" y="398"/>
                      <a:pt x="804" y="402"/>
                      <a:pt x="835" y="417"/>
                    </a:cubicBezTo>
                    <a:cubicBezTo>
                      <a:pt x="783" y="431"/>
                      <a:pt x="582" y="399"/>
                      <a:pt x="710" y="426"/>
                    </a:cubicBezTo>
                    <a:cubicBezTo>
                      <a:pt x="628" y="465"/>
                      <a:pt x="740" y="416"/>
                      <a:pt x="601" y="451"/>
                    </a:cubicBezTo>
                    <a:cubicBezTo>
                      <a:pt x="591" y="453"/>
                      <a:pt x="567" y="464"/>
                      <a:pt x="576" y="467"/>
                    </a:cubicBezTo>
                    <a:cubicBezTo>
                      <a:pt x="592" y="472"/>
                      <a:pt x="609" y="462"/>
                      <a:pt x="626" y="459"/>
                    </a:cubicBezTo>
                    <a:cubicBezTo>
                      <a:pt x="700" y="408"/>
                      <a:pt x="649" y="436"/>
                      <a:pt x="835" y="451"/>
                    </a:cubicBezTo>
                    <a:cubicBezTo>
                      <a:pt x="844" y="452"/>
                      <a:pt x="869" y="459"/>
                      <a:pt x="860" y="459"/>
                    </a:cubicBezTo>
                    <a:cubicBezTo>
                      <a:pt x="849" y="459"/>
                      <a:pt x="838" y="454"/>
                      <a:pt x="827" y="451"/>
                    </a:cubicBezTo>
                    <a:cubicBezTo>
                      <a:pt x="816" y="445"/>
                      <a:pt x="793" y="447"/>
                      <a:pt x="793" y="434"/>
                    </a:cubicBezTo>
                    <a:cubicBezTo>
                      <a:pt x="793" y="422"/>
                      <a:pt x="815" y="426"/>
                      <a:pt x="827" y="426"/>
                    </a:cubicBezTo>
                    <a:cubicBezTo>
                      <a:pt x="869" y="426"/>
                      <a:pt x="910" y="431"/>
                      <a:pt x="952" y="434"/>
                    </a:cubicBezTo>
                    <a:cubicBezTo>
                      <a:pt x="1032" y="460"/>
                      <a:pt x="895" y="422"/>
                      <a:pt x="877" y="417"/>
                    </a:cubicBezTo>
                    <a:cubicBezTo>
                      <a:pt x="869" y="415"/>
                      <a:pt x="860" y="412"/>
                      <a:pt x="852" y="409"/>
                    </a:cubicBezTo>
                    <a:cubicBezTo>
                      <a:pt x="900" y="394"/>
                      <a:pt x="1002" y="409"/>
                      <a:pt x="1002" y="409"/>
                    </a:cubicBezTo>
                    <a:cubicBezTo>
                      <a:pt x="994" y="403"/>
                      <a:pt x="967" y="394"/>
                      <a:pt x="977" y="392"/>
                    </a:cubicBezTo>
                    <a:cubicBezTo>
                      <a:pt x="1017" y="384"/>
                      <a:pt x="1073" y="417"/>
                      <a:pt x="1027" y="3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>
                <a:off x="6116040" y="1944720"/>
                <a:ext cx="239760" cy="985320"/>
              </a:xfrm>
              <a:custGeom>
                <a:avLst/>
                <a:gdLst/>
                <a:ahLst/>
                <a:rect l="l" t="t" r="r" b="b"/>
                <a:pathLst>
                  <a:path w="190" h="621">
                    <a:moveTo>
                      <a:pt x="77" y="621"/>
                    </a:moveTo>
                    <a:cubicBezTo>
                      <a:pt x="74" y="610"/>
                      <a:pt x="62" y="598"/>
                      <a:pt x="68" y="588"/>
                    </a:cubicBezTo>
                    <a:cubicBezTo>
                      <a:pt x="73" y="581"/>
                      <a:pt x="93" y="605"/>
                      <a:pt x="93" y="596"/>
                    </a:cubicBezTo>
                    <a:cubicBezTo>
                      <a:pt x="93" y="577"/>
                      <a:pt x="0" y="532"/>
                      <a:pt x="85" y="555"/>
                    </a:cubicBezTo>
                    <a:cubicBezTo>
                      <a:pt x="82" y="546"/>
                      <a:pt x="73" y="537"/>
                      <a:pt x="77" y="529"/>
                    </a:cubicBezTo>
                    <a:cubicBezTo>
                      <a:pt x="89" y="505"/>
                      <a:pt x="146" y="543"/>
                      <a:pt x="68" y="504"/>
                    </a:cubicBezTo>
                    <a:cubicBezTo>
                      <a:pt x="24" y="436"/>
                      <a:pt x="67" y="515"/>
                      <a:pt x="85" y="488"/>
                    </a:cubicBezTo>
                    <a:cubicBezTo>
                      <a:pt x="92" y="477"/>
                      <a:pt x="74" y="465"/>
                      <a:pt x="68" y="454"/>
                    </a:cubicBezTo>
                    <a:cubicBezTo>
                      <a:pt x="76" y="451"/>
                      <a:pt x="85" y="443"/>
                      <a:pt x="93" y="446"/>
                    </a:cubicBezTo>
                    <a:cubicBezTo>
                      <a:pt x="104" y="450"/>
                      <a:pt x="107" y="476"/>
                      <a:pt x="118" y="471"/>
                    </a:cubicBezTo>
                    <a:cubicBezTo>
                      <a:pt x="132" y="464"/>
                      <a:pt x="94" y="415"/>
                      <a:pt x="93" y="413"/>
                    </a:cubicBezTo>
                    <a:cubicBezTo>
                      <a:pt x="106" y="365"/>
                      <a:pt x="89" y="339"/>
                      <a:pt x="77" y="287"/>
                    </a:cubicBezTo>
                    <a:cubicBezTo>
                      <a:pt x="75" y="278"/>
                      <a:pt x="62" y="268"/>
                      <a:pt x="68" y="262"/>
                    </a:cubicBezTo>
                    <a:cubicBezTo>
                      <a:pt x="74" y="256"/>
                      <a:pt x="85" y="268"/>
                      <a:pt x="93" y="271"/>
                    </a:cubicBezTo>
                    <a:cubicBezTo>
                      <a:pt x="119" y="342"/>
                      <a:pt x="93" y="239"/>
                      <a:pt x="85" y="229"/>
                    </a:cubicBezTo>
                    <a:cubicBezTo>
                      <a:pt x="79" y="221"/>
                      <a:pt x="68" y="218"/>
                      <a:pt x="60" y="212"/>
                    </a:cubicBezTo>
                    <a:cubicBezTo>
                      <a:pt x="55" y="196"/>
                      <a:pt x="20" y="128"/>
                      <a:pt x="60" y="187"/>
                    </a:cubicBezTo>
                    <a:cubicBezTo>
                      <a:pt x="63" y="179"/>
                      <a:pt x="68" y="171"/>
                      <a:pt x="68" y="162"/>
                    </a:cubicBezTo>
                    <a:cubicBezTo>
                      <a:pt x="68" y="144"/>
                      <a:pt x="42" y="111"/>
                      <a:pt x="77" y="162"/>
                    </a:cubicBezTo>
                    <a:cubicBezTo>
                      <a:pt x="87" y="129"/>
                      <a:pt x="79" y="110"/>
                      <a:pt x="68" y="79"/>
                    </a:cubicBezTo>
                    <a:cubicBezTo>
                      <a:pt x="71" y="112"/>
                      <a:pt x="74" y="146"/>
                      <a:pt x="77" y="179"/>
                    </a:cubicBezTo>
                    <a:cubicBezTo>
                      <a:pt x="77" y="182"/>
                      <a:pt x="76" y="168"/>
                      <a:pt x="77" y="171"/>
                    </a:cubicBezTo>
                    <a:cubicBezTo>
                      <a:pt x="80" y="185"/>
                      <a:pt x="85" y="198"/>
                      <a:pt x="85" y="212"/>
                    </a:cubicBezTo>
                    <a:cubicBezTo>
                      <a:pt x="85" y="223"/>
                      <a:pt x="80" y="190"/>
                      <a:pt x="77" y="179"/>
                    </a:cubicBezTo>
                    <a:cubicBezTo>
                      <a:pt x="74" y="154"/>
                      <a:pt x="72" y="129"/>
                      <a:pt x="68" y="104"/>
                    </a:cubicBezTo>
                    <a:cubicBezTo>
                      <a:pt x="67" y="95"/>
                      <a:pt x="62" y="88"/>
                      <a:pt x="60" y="79"/>
                    </a:cubicBezTo>
                    <a:cubicBezTo>
                      <a:pt x="56" y="60"/>
                      <a:pt x="52" y="0"/>
                      <a:pt x="52" y="20"/>
                    </a:cubicBezTo>
                    <a:cubicBezTo>
                      <a:pt x="52" y="110"/>
                      <a:pt x="78" y="200"/>
                      <a:pt x="102" y="287"/>
                    </a:cubicBezTo>
                    <a:cubicBezTo>
                      <a:pt x="93" y="619"/>
                      <a:pt x="190" y="564"/>
                      <a:pt x="77" y="621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098"/>
              <p:cNvSpPr/>
              <p:nvPr/>
            </p:nvSpPr>
            <p:spPr>
              <a:xfrm>
                <a:off x="6333480" y="1877760"/>
                <a:ext cx="409680" cy="880920"/>
              </a:xfrm>
              <a:custGeom>
                <a:avLst/>
                <a:gdLst/>
                <a:ahLst/>
                <a:rect l="l" t="t" r="r" b="b"/>
                <a:pathLst>
                  <a:path w="258" h="555">
                    <a:moveTo>
                      <a:pt x="33" y="555"/>
                    </a:moveTo>
                    <a:cubicBezTo>
                      <a:pt x="36" y="527"/>
                      <a:pt x="46" y="499"/>
                      <a:pt x="41" y="471"/>
                    </a:cubicBezTo>
                    <a:cubicBezTo>
                      <a:pt x="39" y="461"/>
                      <a:pt x="22" y="463"/>
                      <a:pt x="16" y="455"/>
                    </a:cubicBezTo>
                    <a:cubicBezTo>
                      <a:pt x="11" y="448"/>
                      <a:pt x="0" y="432"/>
                      <a:pt x="8" y="430"/>
                    </a:cubicBezTo>
                    <a:cubicBezTo>
                      <a:pt x="22" y="426"/>
                      <a:pt x="36" y="441"/>
                      <a:pt x="50" y="446"/>
                    </a:cubicBezTo>
                    <a:cubicBezTo>
                      <a:pt x="92" y="511"/>
                      <a:pt x="47" y="429"/>
                      <a:pt x="41" y="421"/>
                    </a:cubicBezTo>
                    <a:cubicBezTo>
                      <a:pt x="38" y="402"/>
                      <a:pt x="28" y="382"/>
                      <a:pt x="33" y="363"/>
                    </a:cubicBezTo>
                    <a:cubicBezTo>
                      <a:pt x="36" y="353"/>
                      <a:pt x="50" y="398"/>
                      <a:pt x="50" y="388"/>
                    </a:cubicBezTo>
                    <a:cubicBezTo>
                      <a:pt x="50" y="367"/>
                      <a:pt x="32" y="349"/>
                      <a:pt x="25" y="329"/>
                    </a:cubicBezTo>
                    <a:cubicBezTo>
                      <a:pt x="28" y="321"/>
                      <a:pt x="24" y="304"/>
                      <a:pt x="33" y="304"/>
                    </a:cubicBezTo>
                    <a:cubicBezTo>
                      <a:pt x="43" y="304"/>
                      <a:pt x="45" y="338"/>
                      <a:pt x="50" y="329"/>
                    </a:cubicBezTo>
                    <a:cubicBezTo>
                      <a:pt x="53" y="323"/>
                      <a:pt x="37" y="274"/>
                      <a:pt x="33" y="263"/>
                    </a:cubicBezTo>
                    <a:cubicBezTo>
                      <a:pt x="35" y="243"/>
                      <a:pt x="36" y="41"/>
                      <a:pt x="58" y="179"/>
                    </a:cubicBezTo>
                    <a:cubicBezTo>
                      <a:pt x="61" y="162"/>
                      <a:pt x="63" y="146"/>
                      <a:pt x="66" y="129"/>
                    </a:cubicBezTo>
                    <a:cubicBezTo>
                      <a:pt x="69" y="115"/>
                      <a:pt x="85" y="97"/>
                      <a:pt x="75" y="87"/>
                    </a:cubicBezTo>
                    <a:cubicBezTo>
                      <a:pt x="66" y="78"/>
                      <a:pt x="63" y="109"/>
                      <a:pt x="58" y="121"/>
                    </a:cubicBezTo>
                    <a:cubicBezTo>
                      <a:pt x="55" y="129"/>
                      <a:pt x="48" y="155"/>
                      <a:pt x="50" y="146"/>
                    </a:cubicBezTo>
                    <a:cubicBezTo>
                      <a:pt x="60" y="102"/>
                      <a:pt x="51" y="122"/>
                      <a:pt x="75" y="87"/>
                    </a:cubicBezTo>
                    <a:cubicBezTo>
                      <a:pt x="75" y="87"/>
                      <a:pt x="99" y="55"/>
                      <a:pt x="92" y="62"/>
                    </a:cubicBezTo>
                    <a:cubicBezTo>
                      <a:pt x="83" y="70"/>
                      <a:pt x="75" y="79"/>
                      <a:pt x="66" y="87"/>
                    </a:cubicBezTo>
                    <a:cubicBezTo>
                      <a:pt x="69" y="79"/>
                      <a:pt x="69" y="69"/>
                      <a:pt x="75" y="62"/>
                    </a:cubicBezTo>
                    <a:cubicBezTo>
                      <a:pt x="96" y="36"/>
                      <a:pt x="125" y="53"/>
                      <a:pt x="66" y="37"/>
                    </a:cubicBezTo>
                    <a:cubicBezTo>
                      <a:pt x="95" y="9"/>
                      <a:pt x="103" y="0"/>
                      <a:pt x="142" y="12"/>
                    </a:cubicBezTo>
                    <a:cubicBezTo>
                      <a:pt x="159" y="29"/>
                      <a:pt x="200" y="84"/>
                      <a:pt x="192" y="62"/>
                    </a:cubicBezTo>
                    <a:cubicBezTo>
                      <a:pt x="189" y="54"/>
                      <a:pt x="175" y="41"/>
                      <a:pt x="183" y="37"/>
                    </a:cubicBezTo>
                    <a:cubicBezTo>
                      <a:pt x="192" y="32"/>
                      <a:pt x="208" y="44"/>
                      <a:pt x="208" y="54"/>
                    </a:cubicBezTo>
                    <a:cubicBezTo>
                      <a:pt x="208" y="63"/>
                      <a:pt x="191" y="49"/>
                      <a:pt x="183" y="46"/>
                    </a:cubicBezTo>
                    <a:cubicBezTo>
                      <a:pt x="175" y="38"/>
                      <a:pt x="158" y="33"/>
                      <a:pt x="158" y="21"/>
                    </a:cubicBezTo>
                    <a:cubicBezTo>
                      <a:pt x="158" y="11"/>
                      <a:pt x="183" y="37"/>
                      <a:pt x="183" y="37"/>
                    </a:cubicBezTo>
                    <a:cubicBezTo>
                      <a:pt x="180" y="48"/>
                      <a:pt x="173" y="59"/>
                      <a:pt x="175" y="71"/>
                    </a:cubicBezTo>
                    <a:cubicBezTo>
                      <a:pt x="177" y="83"/>
                      <a:pt x="192" y="104"/>
                      <a:pt x="192" y="104"/>
                    </a:cubicBezTo>
                    <a:cubicBezTo>
                      <a:pt x="197" y="180"/>
                      <a:pt x="202" y="242"/>
                      <a:pt x="225" y="313"/>
                    </a:cubicBezTo>
                    <a:cubicBezTo>
                      <a:pt x="222" y="263"/>
                      <a:pt x="222" y="212"/>
                      <a:pt x="217" y="162"/>
                    </a:cubicBezTo>
                    <a:cubicBezTo>
                      <a:pt x="216" y="151"/>
                      <a:pt x="208" y="140"/>
                      <a:pt x="208" y="129"/>
                    </a:cubicBezTo>
                    <a:cubicBezTo>
                      <a:pt x="208" y="120"/>
                      <a:pt x="214" y="146"/>
                      <a:pt x="217" y="154"/>
                    </a:cubicBezTo>
                    <a:cubicBezTo>
                      <a:pt x="220" y="162"/>
                      <a:pt x="222" y="171"/>
                      <a:pt x="225" y="179"/>
                    </a:cubicBezTo>
                    <a:cubicBezTo>
                      <a:pt x="232" y="237"/>
                      <a:pt x="247" y="289"/>
                      <a:pt x="258" y="346"/>
                    </a:cubicBezTo>
                    <a:cubicBezTo>
                      <a:pt x="253" y="259"/>
                      <a:pt x="248" y="187"/>
                      <a:pt x="233" y="104"/>
                    </a:cubicBezTo>
                    <a:cubicBezTo>
                      <a:pt x="226" y="67"/>
                      <a:pt x="222" y="46"/>
                      <a:pt x="183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099"/>
              <p:cNvSpPr/>
              <p:nvPr/>
            </p:nvSpPr>
            <p:spPr>
              <a:xfrm>
                <a:off x="5730480" y="1446120"/>
                <a:ext cx="1622160" cy="928440"/>
              </a:xfrm>
              <a:custGeom>
                <a:avLst/>
                <a:gdLst/>
                <a:ahLst/>
                <a:rect l="l" t="t" r="r" b="b"/>
                <a:pathLst>
                  <a:path w="1022" h="585">
                    <a:moveTo>
                      <a:pt x="739" y="560"/>
                    </a:moveTo>
                    <a:cubicBezTo>
                      <a:pt x="722" y="543"/>
                      <a:pt x="708" y="532"/>
                      <a:pt x="697" y="510"/>
                    </a:cubicBezTo>
                    <a:cubicBezTo>
                      <a:pt x="693" y="502"/>
                      <a:pt x="681" y="488"/>
                      <a:pt x="689" y="485"/>
                    </a:cubicBezTo>
                    <a:cubicBezTo>
                      <a:pt x="701" y="481"/>
                      <a:pt x="711" y="496"/>
                      <a:pt x="722" y="501"/>
                    </a:cubicBezTo>
                    <a:cubicBezTo>
                      <a:pt x="722" y="501"/>
                      <a:pt x="713" y="467"/>
                      <a:pt x="714" y="476"/>
                    </a:cubicBezTo>
                    <a:cubicBezTo>
                      <a:pt x="718" y="504"/>
                      <a:pt x="725" y="532"/>
                      <a:pt x="730" y="560"/>
                    </a:cubicBezTo>
                    <a:cubicBezTo>
                      <a:pt x="735" y="585"/>
                      <a:pt x="725" y="510"/>
                      <a:pt x="722" y="485"/>
                    </a:cubicBezTo>
                    <a:cubicBezTo>
                      <a:pt x="720" y="471"/>
                      <a:pt x="717" y="457"/>
                      <a:pt x="714" y="443"/>
                    </a:cubicBezTo>
                    <a:cubicBezTo>
                      <a:pt x="717" y="435"/>
                      <a:pt x="713" y="418"/>
                      <a:pt x="722" y="418"/>
                    </a:cubicBezTo>
                    <a:cubicBezTo>
                      <a:pt x="731" y="418"/>
                      <a:pt x="727" y="435"/>
                      <a:pt x="730" y="443"/>
                    </a:cubicBezTo>
                    <a:cubicBezTo>
                      <a:pt x="733" y="451"/>
                      <a:pt x="745" y="475"/>
                      <a:pt x="739" y="468"/>
                    </a:cubicBezTo>
                    <a:cubicBezTo>
                      <a:pt x="731" y="459"/>
                      <a:pt x="728" y="445"/>
                      <a:pt x="722" y="434"/>
                    </a:cubicBezTo>
                    <a:cubicBezTo>
                      <a:pt x="703" y="358"/>
                      <a:pt x="722" y="430"/>
                      <a:pt x="722" y="451"/>
                    </a:cubicBezTo>
                    <a:cubicBezTo>
                      <a:pt x="722" y="462"/>
                      <a:pt x="717" y="429"/>
                      <a:pt x="714" y="418"/>
                    </a:cubicBezTo>
                    <a:cubicBezTo>
                      <a:pt x="712" y="410"/>
                      <a:pt x="708" y="401"/>
                      <a:pt x="705" y="393"/>
                    </a:cubicBezTo>
                    <a:cubicBezTo>
                      <a:pt x="700" y="380"/>
                      <a:pt x="700" y="365"/>
                      <a:pt x="697" y="351"/>
                    </a:cubicBezTo>
                    <a:cubicBezTo>
                      <a:pt x="690" y="324"/>
                      <a:pt x="679" y="311"/>
                      <a:pt x="705" y="351"/>
                    </a:cubicBezTo>
                    <a:cubicBezTo>
                      <a:pt x="702" y="337"/>
                      <a:pt x="695" y="323"/>
                      <a:pt x="697" y="309"/>
                    </a:cubicBezTo>
                    <a:cubicBezTo>
                      <a:pt x="701" y="277"/>
                      <a:pt x="766" y="266"/>
                      <a:pt x="789" y="251"/>
                    </a:cubicBezTo>
                    <a:cubicBezTo>
                      <a:pt x="800" y="254"/>
                      <a:pt x="811" y="261"/>
                      <a:pt x="822" y="259"/>
                    </a:cubicBezTo>
                    <a:cubicBezTo>
                      <a:pt x="884" y="249"/>
                      <a:pt x="801" y="191"/>
                      <a:pt x="864" y="234"/>
                    </a:cubicBezTo>
                    <a:cubicBezTo>
                      <a:pt x="902" y="222"/>
                      <a:pt x="906" y="234"/>
                      <a:pt x="939" y="251"/>
                    </a:cubicBezTo>
                    <a:cubicBezTo>
                      <a:pt x="947" y="255"/>
                      <a:pt x="970" y="266"/>
                      <a:pt x="964" y="259"/>
                    </a:cubicBezTo>
                    <a:cubicBezTo>
                      <a:pt x="956" y="250"/>
                      <a:pt x="942" y="248"/>
                      <a:pt x="931" y="242"/>
                    </a:cubicBezTo>
                    <a:cubicBezTo>
                      <a:pt x="923" y="245"/>
                      <a:pt x="915" y="251"/>
                      <a:pt x="906" y="251"/>
                    </a:cubicBezTo>
                    <a:cubicBezTo>
                      <a:pt x="894" y="251"/>
                      <a:pt x="862" y="247"/>
                      <a:pt x="872" y="242"/>
                    </a:cubicBezTo>
                    <a:cubicBezTo>
                      <a:pt x="892" y="232"/>
                      <a:pt x="917" y="237"/>
                      <a:pt x="939" y="234"/>
                    </a:cubicBezTo>
                    <a:cubicBezTo>
                      <a:pt x="844" y="178"/>
                      <a:pt x="924" y="233"/>
                      <a:pt x="956" y="217"/>
                    </a:cubicBezTo>
                    <a:cubicBezTo>
                      <a:pt x="967" y="212"/>
                      <a:pt x="939" y="200"/>
                      <a:pt x="931" y="192"/>
                    </a:cubicBezTo>
                    <a:cubicBezTo>
                      <a:pt x="910" y="114"/>
                      <a:pt x="920" y="191"/>
                      <a:pt x="956" y="167"/>
                    </a:cubicBezTo>
                    <a:cubicBezTo>
                      <a:pt x="963" y="162"/>
                      <a:pt x="949" y="150"/>
                      <a:pt x="947" y="142"/>
                    </a:cubicBezTo>
                    <a:cubicBezTo>
                      <a:pt x="944" y="131"/>
                      <a:pt x="943" y="119"/>
                      <a:pt x="939" y="109"/>
                    </a:cubicBezTo>
                    <a:cubicBezTo>
                      <a:pt x="935" y="100"/>
                      <a:pt x="918" y="93"/>
                      <a:pt x="922" y="84"/>
                    </a:cubicBezTo>
                    <a:cubicBezTo>
                      <a:pt x="926" y="76"/>
                      <a:pt x="939" y="89"/>
                      <a:pt x="947" y="92"/>
                    </a:cubicBezTo>
                    <a:cubicBezTo>
                      <a:pt x="939" y="81"/>
                      <a:pt x="931" y="69"/>
                      <a:pt x="922" y="59"/>
                    </a:cubicBezTo>
                    <a:cubicBezTo>
                      <a:pt x="914" y="50"/>
                      <a:pt x="885" y="32"/>
                      <a:pt x="897" y="34"/>
                    </a:cubicBezTo>
                    <a:cubicBezTo>
                      <a:pt x="921" y="39"/>
                      <a:pt x="942" y="56"/>
                      <a:pt x="964" y="67"/>
                    </a:cubicBezTo>
                    <a:cubicBezTo>
                      <a:pt x="973" y="71"/>
                      <a:pt x="980" y="79"/>
                      <a:pt x="989" y="84"/>
                    </a:cubicBezTo>
                    <a:cubicBezTo>
                      <a:pt x="997" y="88"/>
                      <a:pt x="1022" y="96"/>
                      <a:pt x="1014" y="92"/>
                    </a:cubicBezTo>
                    <a:cubicBezTo>
                      <a:pt x="984" y="76"/>
                      <a:pt x="970" y="74"/>
                      <a:pt x="939" y="67"/>
                    </a:cubicBezTo>
                    <a:cubicBezTo>
                      <a:pt x="878" y="26"/>
                      <a:pt x="954" y="68"/>
                      <a:pt x="881" y="59"/>
                    </a:cubicBezTo>
                    <a:cubicBezTo>
                      <a:pt x="868" y="57"/>
                      <a:pt x="858" y="48"/>
                      <a:pt x="847" y="42"/>
                    </a:cubicBezTo>
                    <a:cubicBezTo>
                      <a:pt x="775" y="45"/>
                      <a:pt x="700" y="32"/>
                      <a:pt x="630" y="50"/>
                    </a:cubicBezTo>
                    <a:cubicBezTo>
                      <a:pt x="610" y="55"/>
                      <a:pt x="680" y="84"/>
                      <a:pt x="680" y="84"/>
                    </a:cubicBezTo>
                    <a:cubicBezTo>
                      <a:pt x="644" y="96"/>
                      <a:pt x="571" y="74"/>
                      <a:pt x="647" y="92"/>
                    </a:cubicBezTo>
                    <a:cubicBezTo>
                      <a:pt x="606" y="51"/>
                      <a:pt x="553" y="54"/>
                      <a:pt x="664" y="67"/>
                    </a:cubicBezTo>
                    <a:cubicBezTo>
                      <a:pt x="689" y="84"/>
                      <a:pt x="711" y="91"/>
                      <a:pt x="739" y="101"/>
                    </a:cubicBezTo>
                    <a:cubicBezTo>
                      <a:pt x="731" y="90"/>
                      <a:pt x="725" y="76"/>
                      <a:pt x="714" y="67"/>
                    </a:cubicBezTo>
                    <a:cubicBezTo>
                      <a:pt x="704" y="59"/>
                      <a:pt x="667" y="50"/>
                      <a:pt x="680" y="50"/>
                    </a:cubicBezTo>
                    <a:cubicBezTo>
                      <a:pt x="709" y="50"/>
                      <a:pt x="736" y="68"/>
                      <a:pt x="764" y="75"/>
                    </a:cubicBezTo>
                    <a:cubicBezTo>
                      <a:pt x="743" y="56"/>
                      <a:pt x="761" y="75"/>
                      <a:pt x="789" y="75"/>
                    </a:cubicBezTo>
                    <a:cubicBezTo>
                      <a:pt x="798" y="75"/>
                      <a:pt x="773" y="68"/>
                      <a:pt x="764" y="67"/>
                    </a:cubicBezTo>
                    <a:cubicBezTo>
                      <a:pt x="736" y="63"/>
                      <a:pt x="708" y="63"/>
                      <a:pt x="680" y="59"/>
                    </a:cubicBezTo>
                    <a:cubicBezTo>
                      <a:pt x="638" y="54"/>
                      <a:pt x="597" y="42"/>
                      <a:pt x="555" y="34"/>
                    </a:cubicBezTo>
                    <a:cubicBezTo>
                      <a:pt x="477" y="53"/>
                      <a:pt x="548" y="28"/>
                      <a:pt x="555" y="59"/>
                    </a:cubicBezTo>
                    <a:cubicBezTo>
                      <a:pt x="557" y="69"/>
                      <a:pt x="538" y="70"/>
                      <a:pt x="530" y="75"/>
                    </a:cubicBezTo>
                    <a:cubicBezTo>
                      <a:pt x="522" y="72"/>
                      <a:pt x="514" y="67"/>
                      <a:pt x="505" y="67"/>
                    </a:cubicBezTo>
                    <a:cubicBezTo>
                      <a:pt x="491" y="67"/>
                      <a:pt x="477" y="77"/>
                      <a:pt x="463" y="75"/>
                    </a:cubicBezTo>
                    <a:cubicBezTo>
                      <a:pt x="428" y="70"/>
                      <a:pt x="397" y="50"/>
                      <a:pt x="363" y="42"/>
                    </a:cubicBezTo>
                    <a:cubicBezTo>
                      <a:pt x="386" y="58"/>
                      <a:pt x="471" y="85"/>
                      <a:pt x="380" y="67"/>
                    </a:cubicBezTo>
                    <a:cubicBezTo>
                      <a:pt x="385" y="75"/>
                      <a:pt x="400" y="83"/>
                      <a:pt x="396" y="92"/>
                    </a:cubicBezTo>
                    <a:cubicBezTo>
                      <a:pt x="384" y="117"/>
                      <a:pt x="313" y="92"/>
                      <a:pt x="313" y="92"/>
                    </a:cubicBezTo>
                    <a:cubicBezTo>
                      <a:pt x="305" y="95"/>
                      <a:pt x="297" y="102"/>
                      <a:pt x="288" y="101"/>
                    </a:cubicBezTo>
                    <a:cubicBezTo>
                      <a:pt x="275" y="99"/>
                      <a:pt x="266" y="88"/>
                      <a:pt x="254" y="84"/>
                    </a:cubicBezTo>
                    <a:cubicBezTo>
                      <a:pt x="224" y="74"/>
                      <a:pt x="193" y="69"/>
                      <a:pt x="163" y="59"/>
                    </a:cubicBezTo>
                    <a:cubicBezTo>
                      <a:pt x="155" y="56"/>
                      <a:pt x="188" y="67"/>
                      <a:pt x="188" y="67"/>
                    </a:cubicBezTo>
                    <a:cubicBezTo>
                      <a:pt x="174" y="73"/>
                      <a:pt x="161" y="82"/>
                      <a:pt x="146" y="84"/>
                    </a:cubicBezTo>
                    <a:cubicBezTo>
                      <a:pt x="137" y="85"/>
                      <a:pt x="113" y="72"/>
                      <a:pt x="121" y="75"/>
                    </a:cubicBezTo>
                    <a:cubicBezTo>
                      <a:pt x="129" y="78"/>
                      <a:pt x="138" y="81"/>
                      <a:pt x="146" y="84"/>
                    </a:cubicBezTo>
                    <a:cubicBezTo>
                      <a:pt x="201" y="69"/>
                      <a:pt x="168" y="78"/>
                      <a:pt x="246" y="59"/>
                    </a:cubicBezTo>
                    <a:cubicBezTo>
                      <a:pt x="268" y="54"/>
                      <a:pt x="335" y="48"/>
                      <a:pt x="313" y="50"/>
                    </a:cubicBezTo>
                    <a:cubicBezTo>
                      <a:pt x="255" y="54"/>
                      <a:pt x="196" y="61"/>
                      <a:pt x="138" y="67"/>
                    </a:cubicBezTo>
                    <a:cubicBezTo>
                      <a:pt x="76" y="109"/>
                      <a:pt x="0" y="97"/>
                      <a:pt x="229" y="84"/>
                    </a:cubicBezTo>
                    <a:cubicBezTo>
                      <a:pt x="249" y="74"/>
                      <a:pt x="267" y="59"/>
                      <a:pt x="288" y="50"/>
                    </a:cubicBezTo>
                    <a:cubicBezTo>
                      <a:pt x="304" y="43"/>
                      <a:pt x="338" y="34"/>
                      <a:pt x="338" y="34"/>
                    </a:cubicBezTo>
                    <a:cubicBezTo>
                      <a:pt x="352" y="37"/>
                      <a:pt x="374" y="29"/>
                      <a:pt x="380" y="42"/>
                    </a:cubicBezTo>
                    <a:cubicBezTo>
                      <a:pt x="385" y="52"/>
                      <a:pt x="335" y="48"/>
                      <a:pt x="346" y="50"/>
                    </a:cubicBezTo>
                    <a:cubicBezTo>
                      <a:pt x="387" y="58"/>
                      <a:pt x="430" y="56"/>
                      <a:pt x="472" y="59"/>
                    </a:cubicBezTo>
                    <a:cubicBezTo>
                      <a:pt x="463" y="53"/>
                      <a:pt x="442" y="51"/>
                      <a:pt x="446" y="42"/>
                    </a:cubicBezTo>
                    <a:cubicBezTo>
                      <a:pt x="466" y="0"/>
                      <a:pt x="497" y="31"/>
                      <a:pt x="513" y="42"/>
                    </a:cubicBezTo>
                    <a:cubicBezTo>
                      <a:pt x="508" y="34"/>
                      <a:pt x="490" y="24"/>
                      <a:pt x="497" y="17"/>
                    </a:cubicBezTo>
                    <a:cubicBezTo>
                      <a:pt x="505" y="9"/>
                      <a:pt x="519" y="22"/>
                      <a:pt x="530" y="25"/>
                    </a:cubicBezTo>
                    <a:cubicBezTo>
                      <a:pt x="604" y="44"/>
                      <a:pt x="521" y="24"/>
                      <a:pt x="597" y="42"/>
                    </a:cubicBezTo>
                    <a:cubicBezTo>
                      <a:pt x="660" y="85"/>
                      <a:pt x="592" y="46"/>
                      <a:pt x="613" y="25"/>
                    </a:cubicBezTo>
                    <a:cubicBezTo>
                      <a:pt x="621" y="17"/>
                      <a:pt x="636" y="31"/>
                      <a:pt x="647" y="34"/>
                    </a:cubicBezTo>
                    <a:cubicBezTo>
                      <a:pt x="675" y="51"/>
                      <a:pt x="702" y="67"/>
                      <a:pt x="730" y="84"/>
                    </a:cubicBezTo>
                    <a:cubicBezTo>
                      <a:pt x="737" y="89"/>
                      <a:pt x="727" y="66"/>
                      <a:pt x="722" y="59"/>
                    </a:cubicBezTo>
                    <a:cubicBezTo>
                      <a:pt x="716" y="51"/>
                      <a:pt x="690" y="35"/>
                      <a:pt x="697" y="42"/>
                    </a:cubicBezTo>
                    <a:cubicBezTo>
                      <a:pt x="707" y="52"/>
                      <a:pt x="718" y="60"/>
                      <a:pt x="730" y="67"/>
                    </a:cubicBezTo>
                    <a:cubicBezTo>
                      <a:pt x="738" y="71"/>
                      <a:pt x="755" y="75"/>
                      <a:pt x="755" y="7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100"/>
              <p:cNvSpPr/>
              <p:nvPr/>
            </p:nvSpPr>
            <p:spPr>
              <a:xfrm>
                <a:off x="5843160" y="1541520"/>
                <a:ext cx="352440" cy="434520"/>
              </a:xfrm>
              <a:custGeom>
                <a:avLst/>
                <a:gdLst/>
                <a:ahLst/>
                <a:rect l="l" t="t" r="r" b="b"/>
                <a:pathLst>
                  <a:path w="222" h="274">
                    <a:moveTo>
                      <a:pt x="42" y="15"/>
                    </a:moveTo>
                    <a:cubicBezTo>
                      <a:pt x="15" y="56"/>
                      <a:pt x="31" y="25"/>
                      <a:pt x="17" y="74"/>
                    </a:cubicBezTo>
                    <a:cubicBezTo>
                      <a:pt x="15" y="82"/>
                      <a:pt x="0" y="95"/>
                      <a:pt x="8" y="99"/>
                    </a:cubicBezTo>
                    <a:cubicBezTo>
                      <a:pt x="17" y="104"/>
                      <a:pt x="25" y="88"/>
                      <a:pt x="33" y="82"/>
                    </a:cubicBezTo>
                    <a:cubicBezTo>
                      <a:pt x="36" y="74"/>
                      <a:pt x="48" y="51"/>
                      <a:pt x="42" y="57"/>
                    </a:cubicBezTo>
                    <a:cubicBezTo>
                      <a:pt x="25" y="74"/>
                      <a:pt x="0" y="116"/>
                      <a:pt x="0" y="116"/>
                    </a:cubicBezTo>
                    <a:cubicBezTo>
                      <a:pt x="15" y="52"/>
                      <a:pt x="12" y="0"/>
                      <a:pt x="25" y="157"/>
                    </a:cubicBezTo>
                    <a:cubicBezTo>
                      <a:pt x="28" y="149"/>
                      <a:pt x="25" y="135"/>
                      <a:pt x="33" y="132"/>
                    </a:cubicBezTo>
                    <a:cubicBezTo>
                      <a:pt x="44" y="128"/>
                      <a:pt x="57" y="136"/>
                      <a:pt x="67" y="141"/>
                    </a:cubicBezTo>
                    <a:cubicBezTo>
                      <a:pt x="85" y="150"/>
                      <a:pt x="100" y="163"/>
                      <a:pt x="117" y="174"/>
                    </a:cubicBezTo>
                    <a:cubicBezTo>
                      <a:pt x="131" y="183"/>
                      <a:pt x="89" y="157"/>
                      <a:pt x="75" y="149"/>
                    </a:cubicBezTo>
                    <a:cubicBezTo>
                      <a:pt x="69" y="141"/>
                      <a:pt x="50" y="130"/>
                      <a:pt x="58" y="124"/>
                    </a:cubicBezTo>
                    <a:cubicBezTo>
                      <a:pt x="70" y="116"/>
                      <a:pt x="93" y="119"/>
                      <a:pt x="100" y="132"/>
                    </a:cubicBezTo>
                    <a:cubicBezTo>
                      <a:pt x="105" y="142"/>
                      <a:pt x="78" y="138"/>
                      <a:pt x="67" y="141"/>
                    </a:cubicBezTo>
                    <a:cubicBezTo>
                      <a:pt x="111" y="144"/>
                      <a:pt x="156" y="149"/>
                      <a:pt x="200" y="149"/>
                    </a:cubicBezTo>
                    <a:cubicBezTo>
                      <a:pt x="222" y="149"/>
                      <a:pt x="155" y="145"/>
                      <a:pt x="133" y="141"/>
                    </a:cubicBezTo>
                    <a:cubicBezTo>
                      <a:pt x="124" y="139"/>
                      <a:pt x="116" y="135"/>
                      <a:pt x="108" y="132"/>
                    </a:cubicBezTo>
                    <a:cubicBezTo>
                      <a:pt x="119" y="129"/>
                      <a:pt x="130" y="124"/>
                      <a:pt x="142" y="124"/>
                    </a:cubicBezTo>
                    <a:cubicBezTo>
                      <a:pt x="151" y="124"/>
                      <a:pt x="176" y="132"/>
                      <a:pt x="167" y="132"/>
                    </a:cubicBezTo>
                    <a:cubicBezTo>
                      <a:pt x="136" y="132"/>
                      <a:pt x="106" y="127"/>
                      <a:pt x="75" y="124"/>
                    </a:cubicBezTo>
                    <a:cubicBezTo>
                      <a:pt x="102" y="164"/>
                      <a:pt x="113" y="141"/>
                      <a:pt x="133" y="182"/>
                    </a:cubicBezTo>
                    <a:cubicBezTo>
                      <a:pt x="167" y="250"/>
                      <a:pt x="125" y="182"/>
                      <a:pt x="150" y="216"/>
                    </a:cubicBezTo>
                    <a:cubicBezTo>
                      <a:pt x="156" y="224"/>
                      <a:pt x="167" y="241"/>
                      <a:pt x="167" y="241"/>
                    </a:cubicBezTo>
                    <a:cubicBezTo>
                      <a:pt x="167" y="241"/>
                      <a:pt x="156" y="224"/>
                      <a:pt x="150" y="216"/>
                    </a:cubicBezTo>
                    <a:cubicBezTo>
                      <a:pt x="144" y="208"/>
                      <a:pt x="139" y="199"/>
                      <a:pt x="133" y="191"/>
                    </a:cubicBezTo>
                    <a:cubicBezTo>
                      <a:pt x="127" y="183"/>
                      <a:pt x="150" y="202"/>
                      <a:pt x="158" y="207"/>
                    </a:cubicBezTo>
                    <a:cubicBezTo>
                      <a:pt x="164" y="216"/>
                      <a:pt x="165" y="229"/>
                      <a:pt x="175" y="233"/>
                    </a:cubicBezTo>
                    <a:cubicBezTo>
                      <a:pt x="183" y="236"/>
                      <a:pt x="193" y="219"/>
                      <a:pt x="200" y="224"/>
                    </a:cubicBezTo>
                    <a:cubicBezTo>
                      <a:pt x="214" y="234"/>
                      <a:pt x="209" y="258"/>
                      <a:pt x="217" y="27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>
                <a:off x="6128640" y="1692000"/>
                <a:ext cx="703440" cy="296640"/>
              </a:xfrm>
              <a:custGeom>
                <a:avLst/>
                <a:gdLst/>
                <a:ahLst/>
                <a:rect l="l" t="t" r="r" b="b"/>
                <a:pathLst>
                  <a:path w="443" h="187">
                    <a:moveTo>
                      <a:pt x="37" y="29"/>
                    </a:moveTo>
                    <a:cubicBezTo>
                      <a:pt x="48" y="37"/>
                      <a:pt x="56" y="52"/>
                      <a:pt x="70" y="54"/>
                    </a:cubicBezTo>
                    <a:cubicBezTo>
                      <a:pt x="98" y="58"/>
                      <a:pt x="129" y="60"/>
                      <a:pt x="154" y="46"/>
                    </a:cubicBezTo>
                    <a:cubicBezTo>
                      <a:pt x="164" y="40"/>
                      <a:pt x="153" y="20"/>
                      <a:pt x="145" y="12"/>
                    </a:cubicBezTo>
                    <a:cubicBezTo>
                      <a:pt x="137" y="4"/>
                      <a:pt x="123" y="7"/>
                      <a:pt x="112" y="4"/>
                    </a:cubicBezTo>
                    <a:cubicBezTo>
                      <a:pt x="79" y="7"/>
                      <a:pt x="43" y="0"/>
                      <a:pt x="12" y="12"/>
                    </a:cubicBezTo>
                    <a:cubicBezTo>
                      <a:pt x="0" y="16"/>
                      <a:pt x="33" y="25"/>
                      <a:pt x="45" y="29"/>
                    </a:cubicBezTo>
                    <a:cubicBezTo>
                      <a:pt x="59" y="34"/>
                      <a:pt x="73" y="34"/>
                      <a:pt x="87" y="37"/>
                    </a:cubicBezTo>
                    <a:cubicBezTo>
                      <a:pt x="125" y="75"/>
                      <a:pt x="255" y="110"/>
                      <a:pt x="229" y="29"/>
                    </a:cubicBezTo>
                    <a:cubicBezTo>
                      <a:pt x="193" y="32"/>
                      <a:pt x="155" y="26"/>
                      <a:pt x="120" y="37"/>
                    </a:cubicBezTo>
                    <a:cubicBezTo>
                      <a:pt x="112" y="40"/>
                      <a:pt x="123" y="56"/>
                      <a:pt x="129" y="62"/>
                    </a:cubicBezTo>
                    <a:cubicBezTo>
                      <a:pt x="135" y="68"/>
                      <a:pt x="184" y="78"/>
                      <a:pt x="187" y="79"/>
                    </a:cubicBezTo>
                    <a:cubicBezTo>
                      <a:pt x="144" y="122"/>
                      <a:pt x="145" y="122"/>
                      <a:pt x="79" y="112"/>
                    </a:cubicBezTo>
                    <a:cubicBezTo>
                      <a:pt x="59" y="58"/>
                      <a:pt x="107" y="81"/>
                      <a:pt x="145" y="87"/>
                    </a:cubicBezTo>
                    <a:cubicBezTo>
                      <a:pt x="195" y="161"/>
                      <a:pt x="374" y="187"/>
                      <a:pt x="346" y="71"/>
                    </a:cubicBezTo>
                    <a:cubicBezTo>
                      <a:pt x="318" y="76"/>
                      <a:pt x="266" y="96"/>
                      <a:pt x="237" y="96"/>
                    </a:cubicBezTo>
                    <a:cubicBezTo>
                      <a:pt x="228" y="96"/>
                      <a:pt x="254" y="90"/>
                      <a:pt x="262" y="87"/>
                    </a:cubicBezTo>
                    <a:cubicBezTo>
                      <a:pt x="318" y="90"/>
                      <a:pt x="376" y="79"/>
                      <a:pt x="429" y="96"/>
                    </a:cubicBezTo>
                    <a:cubicBezTo>
                      <a:pt x="443" y="100"/>
                      <a:pt x="435" y="135"/>
                      <a:pt x="421" y="138"/>
                    </a:cubicBezTo>
                    <a:cubicBezTo>
                      <a:pt x="391" y="146"/>
                      <a:pt x="360" y="127"/>
                      <a:pt x="329" y="121"/>
                    </a:cubicBezTo>
                    <a:cubicBezTo>
                      <a:pt x="317" y="72"/>
                      <a:pt x="276" y="51"/>
                      <a:pt x="346" y="29"/>
                    </a:cubicBezTo>
                    <a:cubicBezTo>
                      <a:pt x="354" y="32"/>
                      <a:pt x="365" y="31"/>
                      <a:pt x="371" y="37"/>
                    </a:cubicBezTo>
                    <a:cubicBezTo>
                      <a:pt x="377" y="43"/>
                      <a:pt x="371" y="60"/>
                      <a:pt x="379" y="62"/>
                    </a:cubicBezTo>
                    <a:cubicBezTo>
                      <a:pt x="398" y="67"/>
                      <a:pt x="418" y="57"/>
                      <a:pt x="438" y="54"/>
                    </a:cubicBezTo>
                    <a:cubicBezTo>
                      <a:pt x="435" y="46"/>
                      <a:pt x="438" y="31"/>
                      <a:pt x="429" y="29"/>
                    </a:cubicBezTo>
                    <a:cubicBezTo>
                      <a:pt x="407" y="24"/>
                      <a:pt x="362" y="37"/>
                      <a:pt x="362" y="3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102"/>
              <p:cNvSpPr/>
              <p:nvPr/>
            </p:nvSpPr>
            <p:spPr>
              <a:xfrm>
                <a:off x="6209640" y="1963800"/>
                <a:ext cx="216000" cy="294840"/>
              </a:xfrm>
              <a:custGeom>
                <a:avLst/>
                <a:gdLst/>
                <a:ahLst/>
                <a:rect l="l" t="t" r="r" b="b"/>
                <a:pathLst>
                  <a:path w="136" h="186">
                    <a:moveTo>
                      <a:pt x="44" y="133"/>
                    </a:moveTo>
                    <a:cubicBezTo>
                      <a:pt x="66" y="166"/>
                      <a:pt x="67" y="186"/>
                      <a:pt x="128" y="150"/>
                    </a:cubicBezTo>
                    <a:cubicBezTo>
                      <a:pt x="136" y="146"/>
                      <a:pt x="123" y="133"/>
                      <a:pt x="119" y="125"/>
                    </a:cubicBezTo>
                    <a:cubicBezTo>
                      <a:pt x="115" y="116"/>
                      <a:pt x="108" y="108"/>
                      <a:pt x="103" y="100"/>
                    </a:cubicBezTo>
                    <a:cubicBezTo>
                      <a:pt x="81" y="103"/>
                      <a:pt x="58" y="110"/>
                      <a:pt x="36" y="108"/>
                    </a:cubicBezTo>
                    <a:cubicBezTo>
                      <a:pt x="8" y="106"/>
                      <a:pt x="0" y="68"/>
                      <a:pt x="3" y="67"/>
                    </a:cubicBezTo>
                    <a:cubicBezTo>
                      <a:pt x="24" y="61"/>
                      <a:pt x="47" y="72"/>
                      <a:pt x="69" y="75"/>
                    </a:cubicBezTo>
                    <a:cubicBezTo>
                      <a:pt x="72" y="67"/>
                      <a:pt x="70" y="54"/>
                      <a:pt x="78" y="50"/>
                    </a:cubicBezTo>
                    <a:cubicBezTo>
                      <a:pt x="93" y="42"/>
                      <a:pt x="128" y="59"/>
                      <a:pt x="128" y="42"/>
                    </a:cubicBezTo>
                    <a:cubicBezTo>
                      <a:pt x="128" y="21"/>
                      <a:pt x="72" y="6"/>
                      <a:pt x="53" y="0"/>
                    </a:cubicBezTo>
                    <a:cubicBezTo>
                      <a:pt x="23" y="44"/>
                      <a:pt x="41" y="22"/>
                      <a:pt x="78" y="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103"/>
              <p:cNvSpPr/>
              <p:nvPr/>
            </p:nvSpPr>
            <p:spPr>
              <a:xfrm>
                <a:off x="6938280" y="1612800"/>
                <a:ext cx="187560" cy="123480"/>
              </a:xfrm>
              <a:custGeom>
                <a:avLst/>
                <a:gdLst/>
                <a:ahLst/>
                <a:rect l="l" t="t" r="r" b="b"/>
                <a:pathLst>
                  <a:path w="118" h="78">
                    <a:moveTo>
                      <a:pt x="3" y="37"/>
                    </a:moveTo>
                    <a:cubicBezTo>
                      <a:pt x="6" y="48"/>
                      <a:pt x="0" y="68"/>
                      <a:pt x="11" y="71"/>
                    </a:cubicBezTo>
                    <a:cubicBezTo>
                      <a:pt x="35" y="78"/>
                      <a:pt x="65" y="75"/>
                      <a:pt x="86" y="62"/>
                    </a:cubicBezTo>
                    <a:cubicBezTo>
                      <a:pt x="96" y="56"/>
                      <a:pt x="87" y="36"/>
                      <a:pt x="78" y="29"/>
                    </a:cubicBezTo>
                    <a:cubicBezTo>
                      <a:pt x="64" y="19"/>
                      <a:pt x="45" y="24"/>
                      <a:pt x="28" y="21"/>
                    </a:cubicBezTo>
                    <a:cubicBezTo>
                      <a:pt x="53" y="14"/>
                      <a:pt x="85" y="0"/>
                      <a:pt x="111" y="21"/>
                    </a:cubicBezTo>
                    <a:cubicBezTo>
                      <a:pt x="118" y="27"/>
                      <a:pt x="111" y="42"/>
                      <a:pt x="103" y="46"/>
                    </a:cubicBezTo>
                    <a:cubicBezTo>
                      <a:pt x="93" y="52"/>
                      <a:pt x="80" y="46"/>
                      <a:pt x="69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104"/>
              <p:cNvSpPr/>
              <p:nvPr/>
            </p:nvSpPr>
            <p:spPr>
              <a:xfrm>
                <a:off x="4968360" y="2484360"/>
                <a:ext cx="1065240" cy="1201320"/>
              </a:xfrm>
              <a:custGeom>
                <a:avLst/>
                <a:gdLst/>
                <a:ahLst/>
                <a:rect l="l" t="t" r="r" b="b"/>
                <a:pathLst>
                  <a:path w="671" h="757">
                    <a:moveTo>
                      <a:pt x="0" y="740"/>
                    </a:moveTo>
                    <a:cubicBezTo>
                      <a:pt x="15" y="694"/>
                      <a:pt x="12" y="646"/>
                      <a:pt x="25" y="757"/>
                    </a:cubicBezTo>
                    <a:cubicBezTo>
                      <a:pt x="33" y="724"/>
                      <a:pt x="48" y="697"/>
                      <a:pt x="58" y="665"/>
                    </a:cubicBezTo>
                    <a:cubicBezTo>
                      <a:pt x="132" y="739"/>
                      <a:pt x="78" y="671"/>
                      <a:pt x="58" y="657"/>
                    </a:cubicBezTo>
                    <a:cubicBezTo>
                      <a:pt x="85" y="648"/>
                      <a:pt x="106" y="633"/>
                      <a:pt x="133" y="624"/>
                    </a:cubicBezTo>
                    <a:cubicBezTo>
                      <a:pt x="182" y="640"/>
                      <a:pt x="145" y="635"/>
                      <a:pt x="150" y="607"/>
                    </a:cubicBezTo>
                    <a:cubicBezTo>
                      <a:pt x="152" y="597"/>
                      <a:pt x="161" y="590"/>
                      <a:pt x="167" y="582"/>
                    </a:cubicBezTo>
                    <a:cubicBezTo>
                      <a:pt x="139" y="554"/>
                      <a:pt x="128" y="545"/>
                      <a:pt x="142" y="507"/>
                    </a:cubicBezTo>
                    <a:cubicBezTo>
                      <a:pt x="168" y="515"/>
                      <a:pt x="170" y="523"/>
                      <a:pt x="192" y="498"/>
                    </a:cubicBezTo>
                    <a:cubicBezTo>
                      <a:pt x="205" y="483"/>
                      <a:pt x="214" y="465"/>
                      <a:pt x="225" y="448"/>
                    </a:cubicBezTo>
                    <a:cubicBezTo>
                      <a:pt x="231" y="438"/>
                      <a:pt x="208" y="464"/>
                      <a:pt x="200" y="473"/>
                    </a:cubicBezTo>
                    <a:cubicBezTo>
                      <a:pt x="191" y="484"/>
                      <a:pt x="183" y="496"/>
                      <a:pt x="175" y="507"/>
                    </a:cubicBezTo>
                    <a:cubicBezTo>
                      <a:pt x="172" y="515"/>
                      <a:pt x="159" y="536"/>
                      <a:pt x="167" y="532"/>
                    </a:cubicBezTo>
                    <a:cubicBezTo>
                      <a:pt x="179" y="525"/>
                      <a:pt x="182" y="508"/>
                      <a:pt x="192" y="498"/>
                    </a:cubicBezTo>
                    <a:cubicBezTo>
                      <a:pt x="209" y="481"/>
                      <a:pt x="230" y="470"/>
                      <a:pt x="250" y="457"/>
                    </a:cubicBezTo>
                    <a:cubicBezTo>
                      <a:pt x="280" y="438"/>
                      <a:pt x="310" y="434"/>
                      <a:pt x="250" y="448"/>
                    </a:cubicBezTo>
                    <a:cubicBezTo>
                      <a:pt x="239" y="456"/>
                      <a:pt x="228" y="465"/>
                      <a:pt x="217" y="473"/>
                    </a:cubicBezTo>
                    <a:cubicBezTo>
                      <a:pt x="203" y="484"/>
                      <a:pt x="250" y="432"/>
                      <a:pt x="250" y="432"/>
                    </a:cubicBezTo>
                    <a:cubicBezTo>
                      <a:pt x="242" y="435"/>
                      <a:pt x="233" y="437"/>
                      <a:pt x="225" y="440"/>
                    </a:cubicBezTo>
                    <a:cubicBezTo>
                      <a:pt x="198" y="496"/>
                      <a:pt x="207" y="471"/>
                      <a:pt x="234" y="440"/>
                    </a:cubicBezTo>
                    <a:cubicBezTo>
                      <a:pt x="242" y="431"/>
                      <a:pt x="251" y="423"/>
                      <a:pt x="259" y="415"/>
                    </a:cubicBezTo>
                    <a:cubicBezTo>
                      <a:pt x="283" y="491"/>
                      <a:pt x="297" y="346"/>
                      <a:pt x="300" y="331"/>
                    </a:cubicBezTo>
                    <a:cubicBezTo>
                      <a:pt x="320" y="441"/>
                      <a:pt x="298" y="348"/>
                      <a:pt x="317" y="315"/>
                    </a:cubicBezTo>
                    <a:cubicBezTo>
                      <a:pt x="321" y="307"/>
                      <a:pt x="334" y="320"/>
                      <a:pt x="342" y="323"/>
                    </a:cubicBezTo>
                    <a:cubicBezTo>
                      <a:pt x="348" y="331"/>
                      <a:pt x="349" y="351"/>
                      <a:pt x="359" y="348"/>
                    </a:cubicBezTo>
                    <a:cubicBezTo>
                      <a:pt x="370" y="345"/>
                      <a:pt x="370" y="326"/>
                      <a:pt x="367" y="315"/>
                    </a:cubicBezTo>
                    <a:cubicBezTo>
                      <a:pt x="361" y="290"/>
                      <a:pt x="327" y="270"/>
                      <a:pt x="309" y="256"/>
                    </a:cubicBezTo>
                    <a:cubicBezTo>
                      <a:pt x="302" y="289"/>
                      <a:pt x="287" y="333"/>
                      <a:pt x="309" y="365"/>
                    </a:cubicBezTo>
                    <a:cubicBezTo>
                      <a:pt x="317" y="377"/>
                      <a:pt x="315" y="337"/>
                      <a:pt x="317" y="323"/>
                    </a:cubicBezTo>
                    <a:cubicBezTo>
                      <a:pt x="320" y="306"/>
                      <a:pt x="322" y="290"/>
                      <a:pt x="325" y="273"/>
                    </a:cubicBezTo>
                    <a:cubicBezTo>
                      <a:pt x="331" y="281"/>
                      <a:pt x="332" y="301"/>
                      <a:pt x="342" y="298"/>
                    </a:cubicBezTo>
                    <a:cubicBezTo>
                      <a:pt x="353" y="295"/>
                      <a:pt x="347" y="276"/>
                      <a:pt x="350" y="265"/>
                    </a:cubicBezTo>
                    <a:cubicBezTo>
                      <a:pt x="353" y="251"/>
                      <a:pt x="356" y="237"/>
                      <a:pt x="359" y="223"/>
                    </a:cubicBezTo>
                    <a:cubicBezTo>
                      <a:pt x="293" y="202"/>
                      <a:pt x="364" y="225"/>
                      <a:pt x="367" y="223"/>
                    </a:cubicBezTo>
                    <a:cubicBezTo>
                      <a:pt x="378" y="214"/>
                      <a:pt x="373" y="195"/>
                      <a:pt x="376" y="181"/>
                    </a:cubicBezTo>
                    <a:cubicBezTo>
                      <a:pt x="391" y="186"/>
                      <a:pt x="436" y="207"/>
                      <a:pt x="384" y="156"/>
                    </a:cubicBezTo>
                    <a:cubicBezTo>
                      <a:pt x="378" y="150"/>
                      <a:pt x="367" y="151"/>
                      <a:pt x="359" y="148"/>
                    </a:cubicBezTo>
                    <a:cubicBezTo>
                      <a:pt x="353" y="140"/>
                      <a:pt x="340" y="133"/>
                      <a:pt x="342" y="123"/>
                    </a:cubicBezTo>
                    <a:cubicBezTo>
                      <a:pt x="351" y="84"/>
                      <a:pt x="427" y="166"/>
                      <a:pt x="359" y="123"/>
                    </a:cubicBezTo>
                    <a:cubicBezTo>
                      <a:pt x="386" y="113"/>
                      <a:pt x="407" y="99"/>
                      <a:pt x="434" y="89"/>
                    </a:cubicBezTo>
                    <a:cubicBezTo>
                      <a:pt x="448" y="92"/>
                      <a:pt x="466" y="108"/>
                      <a:pt x="476" y="98"/>
                    </a:cubicBezTo>
                    <a:cubicBezTo>
                      <a:pt x="485" y="90"/>
                      <a:pt x="451" y="85"/>
                      <a:pt x="451" y="73"/>
                    </a:cubicBezTo>
                    <a:cubicBezTo>
                      <a:pt x="451" y="64"/>
                      <a:pt x="468" y="67"/>
                      <a:pt x="476" y="64"/>
                    </a:cubicBezTo>
                    <a:cubicBezTo>
                      <a:pt x="418" y="6"/>
                      <a:pt x="484" y="57"/>
                      <a:pt x="501" y="64"/>
                    </a:cubicBezTo>
                    <a:cubicBezTo>
                      <a:pt x="511" y="69"/>
                      <a:pt x="523" y="70"/>
                      <a:pt x="534" y="73"/>
                    </a:cubicBezTo>
                    <a:cubicBezTo>
                      <a:pt x="542" y="78"/>
                      <a:pt x="549" y="92"/>
                      <a:pt x="559" y="89"/>
                    </a:cubicBezTo>
                    <a:cubicBezTo>
                      <a:pt x="589" y="81"/>
                      <a:pt x="553" y="41"/>
                      <a:pt x="551" y="39"/>
                    </a:cubicBezTo>
                    <a:cubicBezTo>
                      <a:pt x="557" y="28"/>
                      <a:pt x="559" y="15"/>
                      <a:pt x="568" y="6"/>
                    </a:cubicBezTo>
                    <a:cubicBezTo>
                      <a:pt x="574" y="0"/>
                      <a:pt x="564" y="24"/>
                      <a:pt x="559" y="31"/>
                    </a:cubicBezTo>
                    <a:cubicBezTo>
                      <a:pt x="552" y="41"/>
                      <a:pt x="542" y="48"/>
                      <a:pt x="534" y="56"/>
                    </a:cubicBezTo>
                    <a:cubicBezTo>
                      <a:pt x="528" y="48"/>
                      <a:pt x="527" y="33"/>
                      <a:pt x="517" y="31"/>
                    </a:cubicBezTo>
                    <a:cubicBezTo>
                      <a:pt x="507" y="29"/>
                      <a:pt x="499" y="41"/>
                      <a:pt x="492" y="48"/>
                    </a:cubicBezTo>
                    <a:cubicBezTo>
                      <a:pt x="485" y="55"/>
                      <a:pt x="467" y="70"/>
                      <a:pt x="476" y="73"/>
                    </a:cubicBezTo>
                    <a:cubicBezTo>
                      <a:pt x="490" y="78"/>
                      <a:pt x="567" y="24"/>
                      <a:pt x="568" y="23"/>
                    </a:cubicBezTo>
                    <a:cubicBezTo>
                      <a:pt x="576" y="17"/>
                      <a:pt x="551" y="34"/>
                      <a:pt x="542" y="39"/>
                    </a:cubicBezTo>
                    <a:cubicBezTo>
                      <a:pt x="499" y="65"/>
                      <a:pt x="470" y="118"/>
                      <a:pt x="426" y="148"/>
                    </a:cubicBezTo>
                    <a:cubicBezTo>
                      <a:pt x="420" y="156"/>
                      <a:pt x="409" y="183"/>
                      <a:pt x="409" y="173"/>
                    </a:cubicBezTo>
                    <a:cubicBezTo>
                      <a:pt x="409" y="160"/>
                      <a:pt x="418" y="149"/>
                      <a:pt x="426" y="139"/>
                    </a:cubicBezTo>
                    <a:cubicBezTo>
                      <a:pt x="442" y="119"/>
                      <a:pt x="466" y="107"/>
                      <a:pt x="484" y="89"/>
                    </a:cubicBezTo>
                    <a:cubicBezTo>
                      <a:pt x="487" y="81"/>
                      <a:pt x="483" y="64"/>
                      <a:pt x="492" y="64"/>
                    </a:cubicBezTo>
                    <a:cubicBezTo>
                      <a:pt x="501" y="64"/>
                      <a:pt x="501" y="80"/>
                      <a:pt x="501" y="89"/>
                    </a:cubicBezTo>
                    <a:cubicBezTo>
                      <a:pt x="501" y="116"/>
                      <a:pt x="475" y="147"/>
                      <a:pt x="509" y="98"/>
                    </a:cubicBezTo>
                    <a:cubicBezTo>
                      <a:pt x="512" y="84"/>
                      <a:pt x="506" y="65"/>
                      <a:pt x="517" y="56"/>
                    </a:cubicBezTo>
                    <a:cubicBezTo>
                      <a:pt x="542" y="37"/>
                      <a:pt x="558" y="127"/>
                      <a:pt x="559" y="131"/>
                    </a:cubicBezTo>
                    <a:cubicBezTo>
                      <a:pt x="553" y="145"/>
                      <a:pt x="548" y="159"/>
                      <a:pt x="542" y="173"/>
                    </a:cubicBezTo>
                    <a:cubicBezTo>
                      <a:pt x="524" y="213"/>
                      <a:pt x="514" y="218"/>
                      <a:pt x="551" y="181"/>
                    </a:cubicBezTo>
                    <a:cubicBezTo>
                      <a:pt x="554" y="192"/>
                      <a:pt x="556" y="204"/>
                      <a:pt x="559" y="215"/>
                    </a:cubicBezTo>
                    <a:cubicBezTo>
                      <a:pt x="562" y="226"/>
                      <a:pt x="557" y="248"/>
                      <a:pt x="568" y="248"/>
                    </a:cubicBezTo>
                    <a:cubicBezTo>
                      <a:pt x="579" y="248"/>
                      <a:pt x="572" y="225"/>
                      <a:pt x="576" y="215"/>
                    </a:cubicBezTo>
                    <a:cubicBezTo>
                      <a:pt x="580" y="205"/>
                      <a:pt x="587" y="198"/>
                      <a:pt x="593" y="189"/>
                    </a:cubicBezTo>
                    <a:cubicBezTo>
                      <a:pt x="607" y="465"/>
                      <a:pt x="594" y="347"/>
                      <a:pt x="618" y="256"/>
                    </a:cubicBezTo>
                    <a:cubicBezTo>
                      <a:pt x="628" y="306"/>
                      <a:pt x="596" y="465"/>
                      <a:pt x="651" y="381"/>
                    </a:cubicBezTo>
                    <a:cubicBezTo>
                      <a:pt x="642" y="344"/>
                      <a:pt x="595" y="284"/>
                      <a:pt x="651" y="340"/>
                    </a:cubicBezTo>
                    <a:cubicBezTo>
                      <a:pt x="671" y="403"/>
                      <a:pt x="648" y="331"/>
                      <a:pt x="643" y="298"/>
                    </a:cubicBezTo>
                    <a:cubicBezTo>
                      <a:pt x="642" y="294"/>
                      <a:pt x="653" y="309"/>
                      <a:pt x="651" y="306"/>
                    </a:cubicBezTo>
                    <a:cubicBezTo>
                      <a:pt x="645" y="295"/>
                      <a:pt x="641" y="283"/>
                      <a:pt x="634" y="273"/>
                    </a:cubicBezTo>
                    <a:cubicBezTo>
                      <a:pt x="624" y="258"/>
                      <a:pt x="614" y="244"/>
                      <a:pt x="601" y="231"/>
                    </a:cubicBezTo>
                    <a:cubicBezTo>
                      <a:pt x="594" y="224"/>
                      <a:pt x="569" y="222"/>
                      <a:pt x="576" y="215"/>
                    </a:cubicBezTo>
                    <a:cubicBezTo>
                      <a:pt x="584" y="207"/>
                      <a:pt x="598" y="220"/>
                      <a:pt x="609" y="223"/>
                    </a:cubicBezTo>
                    <a:cubicBezTo>
                      <a:pt x="615" y="231"/>
                      <a:pt x="626" y="258"/>
                      <a:pt x="626" y="248"/>
                    </a:cubicBezTo>
                    <a:cubicBezTo>
                      <a:pt x="626" y="230"/>
                      <a:pt x="596" y="199"/>
                      <a:pt x="584" y="189"/>
                    </a:cubicBezTo>
                    <a:cubicBezTo>
                      <a:pt x="574" y="180"/>
                      <a:pt x="541" y="173"/>
                      <a:pt x="551" y="164"/>
                    </a:cubicBezTo>
                    <a:cubicBezTo>
                      <a:pt x="563" y="152"/>
                      <a:pt x="584" y="170"/>
                      <a:pt x="601" y="173"/>
                    </a:cubicBezTo>
                    <a:cubicBezTo>
                      <a:pt x="593" y="162"/>
                      <a:pt x="585" y="150"/>
                      <a:pt x="576" y="139"/>
                    </a:cubicBezTo>
                    <a:cubicBezTo>
                      <a:pt x="568" y="130"/>
                      <a:pt x="542" y="122"/>
                      <a:pt x="551" y="114"/>
                    </a:cubicBezTo>
                    <a:cubicBezTo>
                      <a:pt x="561" y="104"/>
                      <a:pt x="579" y="120"/>
                      <a:pt x="593" y="123"/>
                    </a:cubicBezTo>
                    <a:cubicBezTo>
                      <a:pt x="585" y="112"/>
                      <a:pt x="577" y="100"/>
                      <a:pt x="568" y="89"/>
                    </a:cubicBezTo>
                    <a:cubicBezTo>
                      <a:pt x="560" y="80"/>
                      <a:pt x="542" y="76"/>
                      <a:pt x="542" y="64"/>
                    </a:cubicBezTo>
                    <a:cubicBezTo>
                      <a:pt x="542" y="55"/>
                      <a:pt x="559" y="59"/>
                      <a:pt x="568" y="56"/>
                    </a:cubicBezTo>
                    <a:cubicBezTo>
                      <a:pt x="538" y="27"/>
                      <a:pt x="553" y="36"/>
                      <a:pt x="526" y="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>
                <a:off x="5166720" y="2757240"/>
                <a:ext cx="542880" cy="933120"/>
              </a:xfrm>
              <a:custGeom>
                <a:avLst/>
                <a:gdLst/>
                <a:ahLst/>
                <a:rect l="l" t="t" r="r" b="b"/>
                <a:pathLst>
                  <a:path w="342" h="588">
                    <a:moveTo>
                      <a:pt x="0" y="535"/>
                    </a:moveTo>
                    <a:cubicBezTo>
                      <a:pt x="21" y="384"/>
                      <a:pt x="11" y="588"/>
                      <a:pt x="33" y="452"/>
                    </a:cubicBezTo>
                    <a:cubicBezTo>
                      <a:pt x="42" y="460"/>
                      <a:pt x="50" y="486"/>
                      <a:pt x="59" y="477"/>
                    </a:cubicBezTo>
                    <a:cubicBezTo>
                      <a:pt x="73" y="463"/>
                      <a:pt x="24" y="397"/>
                      <a:pt x="67" y="460"/>
                    </a:cubicBezTo>
                    <a:cubicBezTo>
                      <a:pt x="64" y="438"/>
                      <a:pt x="55" y="415"/>
                      <a:pt x="59" y="393"/>
                    </a:cubicBezTo>
                    <a:cubicBezTo>
                      <a:pt x="61" y="383"/>
                      <a:pt x="71" y="427"/>
                      <a:pt x="75" y="418"/>
                    </a:cubicBezTo>
                    <a:cubicBezTo>
                      <a:pt x="86" y="395"/>
                      <a:pt x="78" y="367"/>
                      <a:pt x="84" y="343"/>
                    </a:cubicBezTo>
                    <a:cubicBezTo>
                      <a:pt x="86" y="333"/>
                      <a:pt x="95" y="326"/>
                      <a:pt x="100" y="318"/>
                    </a:cubicBezTo>
                    <a:cubicBezTo>
                      <a:pt x="115" y="359"/>
                      <a:pt x="112" y="331"/>
                      <a:pt x="84" y="376"/>
                    </a:cubicBezTo>
                    <a:cubicBezTo>
                      <a:pt x="77" y="387"/>
                      <a:pt x="58" y="419"/>
                      <a:pt x="67" y="410"/>
                    </a:cubicBezTo>
                    <a:cubicBezTo>
                      <a:pt x="81" y="396"/>
                      <a:pt x="100" y="360"/>
                      <a:pt x="100" y="360"/>
                    </a:cubicBezTo>
                    <a:cubicBezTo>
                      <a:pt x="103" y="368"/>
                      <a:pt x="101" y="381"/>
                      <a:pt x="109" y="385"/>
                    </a:cubicBezTo>
                    <a:cubicBezTo>
                      <a:pt x="127" y="394"/>
                      <a:pt x="198" y="321"/>
                      <a:pt x="134" y="385"/>
                    </a:cubicBezTo>
                    <a:cubicBezTo>
                      <a:pt x="137" y="374"/>
                      <a:pt x="138" y="362"/>
                      <a:pt x="142" y="351"/>
                    </a:cubicBezTo>
                    <a:cubicBezTo>
                      <a:pt x="151" y="328"/>
                      <a:pt x="182" y="262"/>
                      <a:pt x="175" y="285"/>
                    </a:cubicBezTo>
                    <a:cubicBezTo>
                      <a:pt x="170" y="302"/>
                      <a:pt x="164" y="318"/>
                      <a:pt x="159" y="335"/>
                    </a:cubicBezTo>
                    <a:cubicBezTo>
                      <a:pt x="155" y="348"/>
                      <a:pt x="176" y="312"/>
                      <a:pt x="184" y="301"/>
                    </a:cubicBezTo>
                    <a:cubicBezTo>
                      <a:pt x="187" y="293"/>
                      <a:pt x="183" y="276"/>
                      <a:pt x="192" y="276"/>
                    </a:cubicBezTo>
                    <a:cubicBezTo>
                      <a:pt x="201" y="276"/>
                      <a:pt x="197" y="309"/>
                      <a:pt x="200" y="301"/>
                    </a:cubicBezTo>
                    <a:cubicBezTo>
                      <a:pt x="209" y="280"/>
                      <a:pt x="206" y="257"/>
                      <a:pt x="209" y="235"/>
                    </a:cubicBezTo>
                    <a:cubicBezTo>
                      <a:pt x="235" y="317"/>
                      <a:pt x="223" y="302"/>
                      <a:pt x="234" y="184"/>
                    </a:cubicBezTo>
                    <a:cubicBezTo>
                      <a:pt x="253" y="266"/>
                      <a:pt x="231" y="179"/>
                      <a:pt x="234" y="151"/>
                    </a:cubicBezTo>
                    <a:cubicBezTo>
                      <a:pt x="235" y="139"/>
                      <a:pt x="245" y="129"/>
                      <a:pt x="251" y="118"/>
                    </a:cubicBezTo>
                    <a:cubicBezTo>
                      <a:pt x="254" y="96"/>
                      <a:pt x="247" y="70"/>
                      <a:pt x="259" y="51"/>
                    </a:cubicBezTo>
                    <a:cubicBezTo>
                      <a:pt x="264" y="42"/>
                      <a:pt x="268" y="82"/>
                      <a:pt x="276" y="76"/>
                    </a:cubicBezTo>
                    <a:cubicBezTo>
                      <a:pt x="288" y="68"/>
                      <a:pt x="275" y="45"/>
                      <a:pt x="284" y="34"/>
                    </a:cubicBezTo>
                    <a:cubicBezTo>
                      <a:pt x="311" y="0"/>
                      <a:pt x="317" y="1"/>
                      <a:pt x="342" y="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06"/>
              <p:cNvSpPr/>
              <p:nvPr/>
            </p:nvSpPr>
            <p:spPr>
              <a:xfrm>
                <a:off x="5392080" y="2838240"/>
                <a:ext cx="495360" cy="588600"/>
              </a:xfrm>
              <a:custGeom>
                <a:avLst/>
                <a:gdLst/>
                <a:ahLst/>
                <a:rect l="l" t="t" r="r" b="b"/>
                <a:pathLst>
                  <a:path w="312" h="371">
                    <a:moveTo>
                      <a:pt x="0" y="334"/>
                    </a:moveTo>
                    <a:cubicBezTo>
                      <a:pt x="55" y="370"/>
                      <a:pt x="48" y="371"/>
                      <a:pt x="159" y="342"/>
                    </a:cubicBezTo>
                    <a:cubicBezTo>
                      <a:pt x="203" y="330"/>
                      <a:pt x="132" y="311"/>
                      <a:pt x="125" y="309"/>
                    </a:cubicBezTo>
                    <a:cubicBezTo>
                      <a:pt x="111" y="305"/>
                      <a:pt x="97" y="303"/>
                      <a:pt x="83" y="300"/>
                    </a:cubicBezTo>
                    <a:cubicBezTo>
                      <a:pt x="97" y="238"/>
                      <a:pt x="98" y="246"/>
                      <a:pt x="159" y="259"/>
                    </a:cubicBezTo>
                    <a:cubicBezTo>
                      <a:pt x="164" y="267"/>
                      <a:pt x="177" y="274"/>
                      <a:pt x="175" y="284"/>
                    </a:cubicBezTo>
                    <a:cubicBezTo>
                      <a:pt x="173" y="294"/>
                      <a:pt x="140" y="299"/>
                      <a:pt x="150" y="300"/>
                    </a:cubicBezTo>
                    <a:cubicBezTo>
                      <a:pt x="178" y="304"/>
                      <a:pt x="206" y="295"/>
                      <a:pt x="234" y="292"/>
                    </a:cubicBezTo>
                    <a:cubicBezTo>
                      <a:pt x="248" y="247"/>
                      <a:pt x="265" y="202"/>
                      <a:pt x="209" y="184"/>
                    </a:cubicBezTo>
                    <a:cubicBezTo>
                      <a:pt x="170" y="196"/>
                      <a:pt x="179" y="206"/>
                      <a:pt x="167" y="242"/>
                    </a:cubicBezTo>
                    <a:cubicBezTo>
                      <a:pt x="145" y="239"/>
                      <a:pt x="120" y="245"/>
                      <a:pt x="100" y="234"/>
                    </a:cubicBezTo>
                    <a:cubicBezTo>
                      <a:pt x="92" y="230"/>
                      <a:pt x="101" y="213"/>
                      <a:pt x="109" y="209"/>
                    </a:cubicBezTo>
                    <a:cubicBezTo>
                      <a:pt x="124" y="201"/>
                      <a:pt x="142" y="203"/>
                      <a:pt x="159" y="200"/>
                    </a:cubicBezTo>
                    <a:cubicBezTo>
                      <a:pt x="162" y="186"/>
                      <a:pt x="157" y="168"/>
                      <a:pt x="167" y="158"/>
                    </a:cubicBezTo>
                    <a:cubicBezTo>
                      <a:pt x="179" y="146"/>
                      <a:pt x="217" y="142"/>
                      <a:pt x="217" y="142"/>
                    </a:cubicBezTo>
                    <a:cubicBezTo>
                      <a:pt x="220" y="150"/>
                      <a:pt x="232" y="162"/>
                      <a:pt x="225" y="167"/>
                    </a:cubicBezTo>
                    <a:cubicBezTo>
                      <a:pt x="209" y="178"/>
                      <a:pt x="147" y="175"/>
                      <a:pt x="167" y="175"/>
                    </a:cubicBezTo>
                    <a:cubicBezTo>
                      <a:pt x="206" y="175"/>
                      <a:pt x="245" y="170"/>
                      <a:pt x="284" y="167"/>
                    </a:cubicBezTo>
                    <a:cubicBezTo>
                      <a:pt x="281" y="153"/>
                      <a:pt x="289" y="130"/>
                      <a:pt x="275" y="125"/>
                    </a:cubicBezTo>
                    <a:cubicBezTo>
                      <a:pt x="95" y="61"/>
                      <a:pt x="175" y="166"/>
                      <a:pt x="125" y="92"/>
                    </a:cubicBezTo>
                    <a:cubicBezTo>
                      <a:pt x="137" y="59"/>
                      <a:pt x="137" y="33"/>
                      <a:pt x="200" y="75"/>
                    </a:cubicBezTo>
                    <a:cubicBezTo>
                      <a:pt x="212" y="83"/>
                      <a:pt x="206" y="103"/>
                      <a:pt x="209" y="117"/>
                    </a:cubicBezTo>
                    <a:cubicBezTo>
                      <a:pt x="212" y="116"/>
                      <a:pt x="312" y="101"/>
                      <a:pt x="234" y="58"/>
                    </a:cubicBezTo>
                    <a:cubicBezTo>
                      <a:pt x="214" y="47"/>
                      <a:pt x="189" y="64"/>
                      <a:pt x="167" y="67"/>
                    </a:cubicBezTo>
                    <a:cubicBezTo>
                      <a:pt x="161" y="59"/>
                      <a:pt x="152" y="52"/>
                      <a:pt x="150" y="42"/>
                    </a:cubicBezTo>
                    <a:cubicBezTo>
                      <a:pt x="144" y="6"/>
                      <a:pt x="195" y="7"/>
                      <a:pt x="217" y="0"/>
                    </a:cubicBezTo>
                    <a:cubicBezTo>
                      <a:pt x="229" y="38"/>
                      <a:pt x="225" y="16"/>
                      <a:pt x="225" y="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Freeform 1107"/>
            <p:cNvSpPr/>
            <p:nvPr/>
          </p:nvSpPr>
          <p:spPr>
            <a:xfrm>
              <a:off x="6059160" y="2492280"/>
              <a:ext cx="2054160" cy="1074240"/>
            </a:xfrm>
            <a:custGeom>
              <a:avLst/>
              <a:gdLst/>
              <a:ahLst/>
              <a:rect l="l" t="t" r="r" b="b"/>
              <a:pathLst>
                <a:path w="1294" h="677">
                  <a:moveTo>
                    <a:pt x="251" y="411"/>
                  </a:moveTo>
                  <a:cubicBezTo>
                    <a:pt x="293" y="398"/>
                    <a:pt x="256" y="414"/>
                    <a:pt x="295" y="374"/>
                  </a:cubicBezTo>
                  <a:cubicBezTo>
                    <a:pt x="301" y="368"/>
                    <a:pt x="317" y="350"/>
                    <a:pt x="317" y="359"/>
                  </a:cubicBezTo>
                  <a:cubicBezTo>
                    <a:pt x="317" y="370"/>
                    <a:pt x="302" y="374"/>
                    <a:pt x="295" y="382"/>
                  </a:cubicBezTo>
                  <a:cubicBezTo>
                    <a:pt x="289" y="389"/>
                    <a:pt x="286" y="398"/>
                    <a:pt x="280" y="404"/>
                  </a:cubicBezTo>
                  <a:cubicBezTo>
                    <a:pt x="274" y="410"/>
                    <a:pt x="253" y="427"/>
                    <a:pt x="258" y="419"/>
                  </a:cubicBezTo>
                  <a:cubicBezTo>
                    <a:pt x="288" y="371"/>
                    <a:pt x="345" y="306"/>
                    <a:pt x="391" y="271"/>
                  </a:cubicBezTo>
                  <a:cubicBezTo>
                    <a:pt x="393" y="264"/>
                    <a:pt x="405" y="247"/>
                    <a:pt x="398" y="249"/>
                  </a:cubicBezTo>
                  <a:cubicBezTo>
                    <a:pt x="348" y="265"/>
                    <a:pt x="382" y="275"/>
                    <a:pt x="362" y="300"/>
                  </a:cubicBezTo>
                  <a:cubicBezTo>
                    <a:pt x="356" y="307"/>
                    <a:pt x="347" y="310"/>
                    <a:pt x="339" y="315"/>
                  </a:cubicBezTo>
                  <a:cubicBezTo>
                    <a:pt x="332" y="325"/>
                    <a:pt x="323" y="334"/>
                    <a:pt x="317" y="345"/>
                  </a:cubicBezTo>
                  <a:cubicBezTo>
                    <a:pt x="313" y="352"/>
                    <a:pt x="304" y="371"/>
                    <a:pt x="310" y="367"/>
                  </a:cubicBezTo>
                  <a:cubicBezTo>
                    <a:pt x="323" y="358"/>
                    <a:pt x="328" y="342"/>
                    <a:pt x="339" y="330"/>
                  </a:cubicBezTo>
                  <a:cubicBezTo>
                    <a:pt x="353" y="315"/>
                    <a:pt x="370" y="302"/>
                    <a:pt x="384" y="286"/>
                  </a:cubicBezTo>
                  <a:cubicBezTo>
                    <a:pt x="398" y="270"/>
                    <a:pt x="409" y="251"/>
                    <a:pt x="421" y="234"/>
                  </a:cubicBezTo>
                  <a:cubicBezTo>
                    <a:pt x="426" y="227"/>
                    <a:pt x="451" y="215"/>
                    <a:pt x="443" y="219"/>
                  </a:cubicBezTo>
                  <a:cubicBezTo>
                    <a:pt x="427" y="227"/>
                    <a:pt x="391" y="250"/>
                    <a:pt x="376" y="263"/>
                  </a:cubicBezTo>
                  <a:cubicBezTo>
                    <a:pt x="320" y="311"/>
                    <a:pt x="368" y="276"/>
                    <a:pt x="376" y="271"/>
                  </a:cubicBezTo>
                  <a:cubicBezTo>
                    <a:pt x="398" y="239"/>
                    <a:pt x="419" y="213"/>
                    <a:pt x="450" y="190"/>
                  </a:cubicBezTo>
                  <a:cubicBezTo>
                    <a:pt x="455" y="180"/>
                    <a:pt x="457" y="168"/>
                    <a:pt x="465" y="160"/>
                  </a:cubicBezTo>
                  <a:cubicBezTo>
                    <a:pt x="470" y="155"/>
                    <a:pt x="462" y="176"/>
                    <a:pt x="458" y="182"/>
                  </a:cubicBezTo>
                  <a:cubicBezTo>
                    <a:pt x="452" y="191"/>
                    <a:pt x="442" y="196"/>
                    <a:pt x="435" y="204"/>
                  </a:cubicBezTo>
                  <a:cubicBezTo>
                    <a:pt x="429" y="211"/>
                    <a:pt x="414" y="233"/>
                    <a:pt x="421" y="227"/>
                  </a:cubicBezTo>
                  <a:cubicBezTo>
                    <a:pt x="451" y="200"/>
                    <a:pt x="474" y="160"/>
                    <a:pt x="502" y="131"/>
                  </a:cubicBezTo>
                  <a:cubicBezTo>
                    <a:pt x="559" y="73"/>
                    <a:pt x="675" y="32"/>
                    <a:pt x="753" y="20"/>
                  </a:cubicBezTo>
                  <a:cubicBezTo>
                    <a:pt x="853" y="29"/>
                    <a:pt x="827" y="38"/>
                    <a:pt x="908" y="64"/>
                  </a:cubicBezTo>
                  <a:cubicBezTo>
                    <a:pt x="984" y="116"/>
                    <a:pt x="865" y="31"/>
                    <a:pt x="952" y="108"/>
                  </a:cubicBezTo>
                  <a:cubicBezTo>
                    <a:pt x="1009" y="158"/>
                    <a:pt x="971" y="105"/>
                    <a:pt x="1011" y="153"/>
                  </a:cubicBezTo>
                  <a:cubicBezTo>
                    <a:pt x="1031" y="177"/>
                    <a:pt x="1023" y="179"/>
                    <a:pt x="1048" y="204"/>
                  </a:cubicBezTo>
                  <a:cubicBezTo>
                    <a:pt x="1054" y="210"/>
                    <a:pt x="1093" y="231"/>
                    <a:pt x="1093" y="241"/>
                  </a:cubicBezTo>
                  <a:cubicBezTo>
                    <a:pt x="1093" y="250"/>
                    <a:pt x="1064" y="233"/>
                    <a:pt x="1070" y="227"/>
                  </a:cubicBezTo>
                  <a:cubicBezTo>
                    <a:pt x="1077" y="220"/>
                    <a:pt x="1090" y="232"/>
                    <a:pt x="1100" y="234"/>
                  </a:cubicBezTo>
                  <a:cubicBezTo>
                    <a:pt x="1132" y="250"/>
                    <a:pt x="1162" y="275"/>
                    <a:pt x="1196" y="286"/>
                  </a:cubicBezTo>
                  <a:cubicBezTo>
                    <a:pt x="1211" y="291"/>
                    <a:pt x="1240" y="300"/>
                    <a:pt x="1240" y="300"/>
                  </a:cubicBezTo>
                  <a:cubicBezTo>
                    <a:pt x="1247" y="308"/>
                    <a:pt x="1254" y="316"/>
                    <a:pt x="1262" y="323"/>
                  </a:cubicBezTo>
                  <a:cubicBezTo>
                    <a:pt x="1269" y="329"/>
                    <a:pt x="1294" y="339"/>
                    <a:pt x="1285" y="337"/>
                  </a:cubicBezTo>
                  <a:cubicBezTo>
                    <a:pt x="1265" y="332"/>
                    <a:pt x="1246" y="322"/>
                    <a:pt x="1226" y="315"/>
                  </a:cubicBezTo>
                  <a:cubicBezTo>
                    <a:pt x="1216" y="311"/>
                    <a:pt x="1188" y="308"/>
                    <a:pt x="1196" y="300"/>
                  </a:cubicBezTo>
                  <a:cubicBezTo>
                    <a:pt x="1205" y="291"/>
                    <a:pt x="1221" y="305"/>
                    <a:pt x="1233" y="308"/>
                  </a:cubicBezTo>
                  <a:cubicBezTo>
                    <a:pt x="1240" y="310"/>
                    <a:pt x="1263" y="315"/>
                    <a:pt x="1255" y="315"/>
                  </a:cubicBezTo>
                  <a:cubicBezTo>
                    <a:pt x="1242" y="315"/>
                    <a:pt x="1230" y="310"/>
                    <a:pt x="1218" y="308"/>
                  </a:cubicBezTo>
                  <a:cubicBezTo>
                    <a:pt x="1185" y="295"/>
                    <a:pt x="1146" y="288"/>
                    <a:pt x="1115" y="271"/>
                  </a:cubicBezTo>
                  <a:cubicBezTo>
                    <a:pt x="1104" y="265"/>
                    <a:pt x="1096" y="255"/>
                    <a:pt x="1085" y="249"/>
                  </a:cubicBezTo>
                  <a:cubicBezTo>
                    <a:pt x="1073" y="243"/>
                    <a:pt x="1060" y="240"/>
                    <a:pt x="1048" y="234"/>
                  </a:cubicBezTo>
                  <a:cubicBezTo>
                    <a:pt x="1040" y="230"/>
                    <a:pt x="1019" y="225"/>
                    <a:pt x="1026" y="219"/>
                  </a:cubicBezTo>
                  <a:cubicBezTo>
                    <a:pt x="1034" y="212"/>
                    <a:pt x="1047" y="223"/>
                    <a:pt x="1056" y="227"/>
                  </a:cubicBezTo>
                  <a:cubicBezTo>
                    <a:pt x="1066" y="232"/>
                    <a:pt x="1093" y="249"/>
                    <a:pt x="1085" y="241"/>
                  </a:cubicBezTo>
                  <a:cubicBezTo>
                    <a:pt x="1044" y="200"/>
                    <a:pt x="997" y="195"/>
                    <a:pt x="952" y="167"/>
                  </a:cubicBezTo>
                  <a:cubicBezTo>
                    <a:pt x="934" y="156"/>
                    <a:pt x="919" y="142"/>
                    <a:pt x="901" y="131"/>
                  </a:cubicBezTo>
                  <a:cubicBezTo>
                    <a:pt x="906" y="138"/>
                    <a:pt x="911" y="145"/>
                    <a:pt x="915" y="153"/>
                  </a:cubicBezTo>
                  <a:cubicBezTo>
                    <a:pt x="918" y="160"/>
                    <a:pt x="931" y="175"/>
                    <a:pt x="923" y="175"/>
                  </a:cubicBezTo>
                  <a:cubicBezTo>
                    <a:pt x="912" y="175"/>
                    <a:pt x="871" y="113"/>
                    <a:pt x="864" y="101"/>
                  </a:cubicBezTo>
                  <a:cubicBezTo>
                    <a:pt x="859" y="115"/>
                    <a:pt x="858" y="140"/>
                    <a:pt x="834" y="116"/>
                  </a:cubicBezTo>
                  <a:cubicBezTo>
                    <a:pt x="824" y="106"/>
                    <a:pt x="799" y="73"/>
                    <a:pt x="812" y="79"/>
                  </a:cubicBezTo>
                  <a:cubicBezTo>
                    <a:pt x="834" y="90"/>
                    <a:pt x="864" y="131"/>
                    <a:pt x="864" y="131"/>
                  </a:cubicBezTo>
                  <a:cubicBezTo>
                    <a:pt x="869" y="141"/>
                    <a:pt x="870" y="152"/>
                    <a:pt x="878" y="160"/>
                  </a:cubicBezTo>
                  <a:cubicBezTo>
                    <a:pt x="883" y="165"/>
                    <a:pt x="873" y="145"/>
                    <a:pt x="871" y="138"/>
                  </a:cubicBezTo>
                  <a:cubicBezTo>
                    <a:pt x="868" y="126"/>
                    <a:pt x="868" y="113"/>
                    <a:pt x="864" y="101"/>
                  </a:cubicBezTo>
                  <a:cubicBezTo>
                    <a:pt x="861" y="93"/>
                    <a:pt x="849" y="70"/>
                    <a:pt x="849" y="79"/>
                  </a:cubicBezTo>
                  <a:cubicBezTo>
                    <a:pt x="849" y="90"/>
                    <a:pt x="860" y="98"/>
                    <a:pt x="864" y="108"/>
                  </a:cubicBezTo>
                  <a:cubicBezTo>
                    <a:pt x="878" y="142"/>
                    <a:pt x="891" y="176"/>
                    <a:pt x="901" y="212"/>
                  </a:cubicBezTo>
                  <a:cubicBezTo>
                    <a:pt x="917" y="162"/>
                    <a:pt x="871" y="142"/>
                    <a:pt x="938" y="182"/>
                  </a:cubicBezTo>
                  <a:cubicBezTo>
                    <a:pt x="943" y="192"/>
                    <a:pt x="946" y="203"/>
                    <a:pt x="952" y="212"/>
                  </a:cubicBezTo>
                  <a:cubicBezTo>
                    <a:pt x="958" y="222"/>
                    <a:pt x="977" y="253"/>
                    <a:pt x="974" y="241"/>
                  </a:cubicBezTo>
                  <a:cubicBezTo>
                    <a:pt x="969" y="220"/>
                    <a:pt x="955" y="202"/>
                    <a:pt x="945" y="182"/>
                  </a:cubicBezTo>
                  <a:cubicBezTo>
                    <a:pt x="940" y="172"/>
                    <a:pt x="933" y="163"/>
                    <a:pt x="930" y="153"/>
                  </a:cubicBezTo>
                  <a:cubicBezTo>
                    <a:pt x="928" y="146"/>
                    <a:pt x="915" y="133"/>
                    <a:pt x="923" y="131"/>
                  </a:cubicBezTo>
                  <a:cubicBezTo>
                    <a:pt x="943" y="127"/>
                    <a:pt x="989" y="158"/>
                    <a:pt x="1004" y="167"/>
                  </a:cubicBezTo>
                  <a:cubicBezTo>
                    <a:pt x="1027" y="198"/>
                    <a:pt x="1045" y="229"/>
                    <a:pt x="1063" y="263"/>
                  </a:cubicBezTo>
                  <a:cubicBezTo>
                    <a:pt x="1059" y="248"/>
                    <a:pt x="1027" y="182"/>
                    <a:pt x="1063" y="234"/>
                  </a:cubicBezTo>
                  <a:cubicBezTo>
                    <a:pt x="1064" y="237"/>
                    <a:pt x="1076" y="275"/>
                    <a:pt x="1078" y="278"/>
                  </a:cubicBezTo>
                  <a:cubicBezTo>
                    <a:pt x="1084" y="285"/>
                    <a:pt x="1105" y="300"/>
                    <a:pt x="1100" y="293"/>
                  </a:cubicBezTo>
                  <a:cubicBezTo>
                    <a:pt x="1076" y="261"/>
                    <a:pt x="1056" y="249"/>
                    <a:pt x="1026" y="227"/>
                  </a:cubicBezTo>
                  <a:cubicBezTo>
                    <a:pt x="1000" y="187"/>
                    <a:pt x="987" y="160"/>
                    <a:pt x="945" y="131"/>
                  </a:cubicBezTo>
                  <a:cubicBezTo>
                    <a:pt x="930" y="121"/>
                    <a:pt x="919" y="103"/>
                    <a:pt x="901" y="101"/>
                  </a:cubicBezTo>
                  <a:cubicBezTo>
                    <a:pt x="874" y="99"/>
                    <a:pt x="846" y="96"/>
                    <a:pt x="819" y="94"/>
                  </a:cubicBezTo>
                  <a:cubicBezTo>
                    <a:pt x="758" y="81"/>
                    <a:pt x="508" y="115"/>
                    <a:pt x="642" y="86"/>
                  </a:cubicBezTo>
                  <a:cubicBezTo>
                    <a:pt x="654" y="91"/>
                    <a:pt x="666" y="101"/>
                    <a:pt x="679" y="101"/>
                  </a:cubicBezTo>
                  <a:cubicBezTo>
                    <a:pt x="688" y="101"/>
                    <a:pt x="651" y="92"/>
                    <a:pt x="657" y="86"/>
                  </a:cubicBezTo>
                  <a:cubicBezTo>
                    <a:pt x="658" y="85"/>
                    <a:pt x="705" y="100"/>
                    <a:pt x="709" y="101"/>
                  </a:cubicBezTo>
                  <a:cubicBezTo>
                    <a:pt x="678" y="56"/>
                    <a:pt x="698" y="96"/>
                    <a:pt x="738" y="86"/>
                  </a:cubicBezTo>
                  <a:cubicBezTo>
                    <a:pt x="747" y="84"/>
                    <a:pt x="748" y="71"/>
                    <a:pt x="753" y="64"/>
                  </a:cubicBezTo>
                  <a:cubicBezTo>
                    <a:pt x="709" y="0"/>
                    <a:pt x="675" y="37"/>
                    <a:pt x="620" y="64"/>
                  </a:cubicBezTo>
                  <a:cubicBezTo>
                    <a:pt x="572" y="88"/>
                    <a:pt x="531" y="103"/>
                    <a:pt x="494" y="145"/>
                  </a:cubicBezTo>
                  <a:cubicBezTo>
                    <a:pt x="486" y="154"/>
                    <a:pt x="479" y="165"/>
                    <a:pt x="472" y="175"/>
                  </a:cubicBezTo>
                  <a:cubicBezTo>
                    <a:pt x="467" y="182"/>
                    <a:pt x="464" y="190"/>
                    <a:pt x="458" y="197"/>
                  </a:cubicBezTo>
                  <a:cubicBezTo>
                    <a:pt x="433" y="227"/>
                    <a:pt x="384" y="286"/>
                    <a:pt x="384" y="286"/>
                  </a:cubicBezTo>
                  <a:cubicBezTo>
                    <a:pt x="369" y="326"/>
                    <a:pt x="385" y="291"/>
                    <a:pt x="354" y="337"/>
                  </a:cubicBezTo>
                  <a:cubicBezTo>
                    <a:pt x="322" y="384"/>
                    <a:pt x="313" y="421"/>
                    <a:pt x="258" y="441"/>
                  </a:cubicBezTo>
                  <a:cubicBezTo>
                    <a:pt x="228" y="471"/>
                    <a:pt x="212" y="506"/>
                    <a:pt x="177" y="529"/>
                  </a:cubicBezTo>
                  <a:cubicBezTo>
                    <a:pt x="172" y="536"/>
                    <a:pt x="169" y="545"/>
                    <a:pt x="162" y="551"/>
                  </a:cubicBezTo>
                  <a:cubicBezTo>
                    <a:pt x="156" y="556"/>
                    <a:pt x="146" y="553"/>
                    <a:pt x="140" y="559"/>
                  </a:cubicBezTo>
                  <a:cubicBezTo>
                    <a:pt x="127" y="572"/>
                    <a:pt x="123" y="590"/>
                    <a:pt x="110" y="603"/>
                  </a:cubicBezTo>
                  <a:cubicBezTo>
                    <a:pt x="79" y="634"/>
                    <a:pt x="43" y="663"/>
                    <a:pt x="0" y="677"/>
                  </a:cubicBezTo>
                  <a:cubicBezTo>
                    <a:pt x="10" y="670"/>
                    <a:pt x="20" y="663"/>
                    <a:pt x="29" y="655"/>
                  </a:cubicBezTo>
                  <a:cubicBezTo>
                    <a:pt x="47" y="638"/>
                    <a:pt x="81" y="603"/>
                    <a:pt x="81" y="603"/>
                  </a:cubicBezTo>
                  <a:cubicBezTo>
                    <a:pt x="83" y="615"/>
                    <a:pt x="77" y="634"/>
                    <a:pt x="88" y="640"/>
                  </a:cubicBezTo>
                  <a:cubicBezTo>
                    <a:pt x="97" y="645"/>
                    <a:pt x="100" y="618"/>
                    <a:pt x="110" y="618"/>
                  </a:cubicBezTo>
                  <a:cubicBezTo>
                    <a:pt x="118" y="618"/>
                    <a:pt x="115" y="633"/>
                    <a:pt x="118" y="640"/>
                  </a:cubicBezTo>
                  <a:cubicBezTo>
                    <a:pt x="124" y="620"/>
                    <a:pt x="130" y="566"/>
                    <a:pt x="147" y="618"/>
                  </a:cubicBezTo>
                  <a:cubicBezTo>
                    <a:pt x="157" y="574"/>
                    <a:pt x="178" y="562"/>
                    <a:pt x="192" y="522"/>
                  </a:cubicBezTo>
                  <a:cubicBezTo>
                    <a:pt x="194" y="532"/>
                    <a:pt x="190" y="547"/>
                    <a:pt x="199" y="551"/>
                  </a:cubicBezTo>
                  <a:cubicBezTo>
                    <a:pt x="206" y="554"/>
                    <a:pt x="204" y="536"/>
                    <a:pt x="206" y="529"/>
                  </a:cubicBezTo>
                  <a:cubicBezTo>
                    <a:pt x="211" y="512"/>
                    <a:pt x="221" y="489"/>
                    <a:pt x="221" y="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108"/>
            <p:cNvSpPr/>
            <p:nvPr/>
          </p:nvSpPr>
          <p:spPr>
            <a:xfrm>
              <a:off x="6891120" y="2004840"/>
              <a:ext cx="1477800" cy="318960"/>
            </a:xfrm>
            <a:custGeom>
              <a:avLst/>
              <a:gdLst/>
              <a:ahLst/>
              <a:rect l="l" t="t" r="r" b="b"/>
              <a:pathLst>
                <a:path w="931" h="201">
                  <a:moveTo>
                    <a:pt x="0" y="201"/>
                  </a:moveTo>
                  <a:cubicBezTo>
                    <a:pt x="30" y="171"/>
                    <a:pt x="64" y="153"/>
                    <a:pt x="96" y="127"/>
                  </a:cubicBezTo>
                  <a:cubicBezTo>
                    <a:pt x="115" y="111"/>
                    <a:pt x="148" y="76"/>
                    <a:pt x="148" y="76"/>
                  </a:cubicBezTo>
                  <a:cubicBezTo>
                    <a:pt x="136" y="109"/>
                    <a:pt x="130" y="117"/>
                    <a:pt x="103" y="135"/>
                  </a:cubicBezTo>
                  <a:cubicBezTo>
                    <a:pt x="83" y="198"/>
                    <a:pt x="148" y="150"/>
                    <a:pt x="170" y="142"/>
                  </a:cubicBezTo>
                  <a:cubicBezTo>
                    <a:pt x="112" y="123"/>
                    <a:pt x="175" y="144"/>
                    <a:pt x="177" y="142"/>
                  </a:cubicBezTo>
                  <a:cubicBezTo>
                    <a:pt x="183" y="135"/>
                    <a:pt x="146" y="127"/>
                    <a:pt x="155" y="127"/>
                  </a:cubicBezTo>
                  <a:cubicBezTo>
                    <a:pt x="176" y="127"/>
                    <a:pt x="194" y="143"/>
                    <a:pt x="214" y="150"/>
                  </a:cubicBezTo>
                  <a:cubicBezTo>
                    <a:pt x="202" y="112"/>
                    <a:pt x="198" y="123"/>
                    <a:pt x="258" y="135"/>
                  </a:cubicBezTo>
                  <a:cubicBezTo>
                    <a:pt x="266" y="137"/>
                    <a:pt x="286" y="148"/>
                    <a:pt x="281" y="142"/>
                  </a:cubicBezTo>
                  <a:cubicBezTo>
                    <a:pt x="274" y="134"/>
                    <a:pt x="260" y="133"/>
                    <a:pt x="251" y="127"/>
                  </a:cubicBezTo>
                  <a:cubicBezTo>
                    <a:pt x="218" y="103"/>
                    <a:pt x="224" y="104"/>
                    <a:pt x="185" y="90"/>
                  </a:cubicBezTo>
                  <a:cubicBezTo>
                    <a:pt x="141" y="158"/>
                    <a:pt x="220" y="66"/>
                    <a:pt x="244" y="61"/>
                  </a:cubicBezTo>
                  <a:cubicBezTo>
                    <a:pt x="256" y="59"/>
                    <a:pt x="290" y="46"/>
                    <a:pt x="281" y="54"/>
                  </a:cubicBezTo>
                  <a:cubicBezTo>
                    <a:pt x="274" y="60"/>
                    <a:pt x="192" y="86"/>
                    <a:pt x="177" y="90"/>
                  </a:cubicBezTo>
                  <a:cubicBezTo>
                    <a:pt x="217" y="105"/>
                    <a:pt x="181" y="97"/>
                    <a:pt x="229" y="83"/>
                  </a:cubicBezTo>
                  <a:cubicBezTo>
                    <a:pt x="263" y="73"/>
                    <a:pt x="305" y="68"/>
                    <a:pt x="340" y="61"/>
                  </a:cubicBezTo>
                  <a:cubicBezTo>
                    <a:pt x="293" y="29"/>
                    <a:pt x="237" y="48"/>
                    <a:pt x="185" y="61"/>
                  </a:cubicBezTo>
                  <a:cubicBezTo>
                    <a:pt x="195" y="63"/>
                    <a:pt x="204" y="70"/>
                    <a:pt x="214" y="68"/>
                  </a:cubicBezTo>
                  <a:cubicBezTo>
                    <a:pt x="261" y="61"/>
                    <a:pt x="337" y="32"/>
                    <a:pt x="384" y="17"/>
                  </a:cubicBezTo>
                  <a:cubicBezTo>
                    <a:pt x="340" y="5"/>
                    <a:pt x="301" y="14"/>
                    <a:pt x="258" y="24"/>
                  </a:cubicBezTo>
                  <a:cubicBezTo>
                    <a:pt x="251" y="29"/>
                    <a:pt x="236" y="30"/>
                    <a:pt x="236" y="39"/>
                  </a:cubicBezTo>
                  <a:cubicBezTo>
                    <a:pt x="236" y="55"/>
                    <a:pt x="265" y="44"/>
                    <a:pt x="281" y="39"/>
                  </a:cubicBezTo>
                  <a:cubicBezTo>
                    <a:pt x="328" y="23"/>
                    <a:pt x="273" y="38"/>
                    <a:pt x="340" y="24"/>
                  </a:cubicBezTo>
                  <a:cubicBezTo>
                    <a:pt x="350" y="22"/>
                    <a:pt x="369" y="17"/>
                    <a:pt x="369" y="17"/>
                  </a:cubicBezTo>
                  <a:cubicBezTo>
                    <a:pt x="411" y="30"/>
                    <a:pt x="447" y="56"/>
                    <a:pt x="487" y="76"/>
                  </a:cubicBezTo>
                  <a:cubicBezTo>
                    <a:pt x="522" y="128"/>
                    <a:pt x="485" y="72"/>
                    <a:pt x="450" y="61"/>
                  </a:cubicBezTo>
                  <a:cubicBezTo>
                    <a:pt x="389" y="0"/>
                    <a:pt x="497" y="62"/>
                    <a:pt x="517" y="68"/>
                  </a:cubicBezTo>
                  <a:cubicBezTo>
                    <a:pt x="522" y="75"/>
                    <a:pt x="541" y="90"/>
                    <a:pt x="532" y="90"/>
                  </a:cubicBezTo>
                  <a:cubicBezTo>
                    <a:pt x="522" y="90"/>
                    <a:pt x="519" y="74"/>
                    <a:pt x="510" y="68"/>
                  </a:cubicBezTo>
                  <a:cubicBezTo>
                    <a:pt x="503" y="64"/>
                    <a:pt x="479" y="59"/>
                    <a:pt x="487" y="61"/>
                  </a:cubicBezTo>
                  <a:cubicBezTo>
                    <a:pt x="507" y="65"/>
                    <a:pt x="526" y="71"/>
                    <a:pt x="546" y="76"/>
                  </a:cubicBezTo>
                  <a:cubicBezTo>
                    <a:pt x="566" y="88"/>
                    <a:pt x="586" y="101"/>
                    <a:pt x="606" y="113"/>
                  </a:cubicBezTo>
                  <a:cubicBezTo>
                    <a:pt x="613" y="117"/>
                    <a:pt x="604" y="96"/>
                    <a:pt x="598" y="90"/>
                  </a:cubicBezTo>
                  <a:cubicBezTo>
                    <a:pt x="593" y="85"/>
                    <a:pt x="568" y="81"/>
                    <a:pt x="576" y="83"/>
                  </a:cubicBezTo>
                  <a:cubicBezTo>
                    <a:pt x="596" y="87"/>
                    <a:pt x="617" y="107"/>
                    <a:pt x="635" y="98"/>
                  </a:cubicBezTo>
                  <a:cubicBezTo>
                    <a:pt x="650" y="91"/>
                    <a:pt x="606" y="82"/>
                    <a:pt x="591" y="76"/>
                  </a:cubicBezTo>
                  <a:cubicBezTo>
                    <a:pt x="581" y="72"/>
                    <a:pt x="551" y="68"/>
                    <a:pt x="561" y="68"/>
                  </a:cubicBezTo>
                  <a:cubicBezTo>
                    <a:pt x="590" y="68"/>
                    <a:pt x="621" y="76"/>
                    <a:pt x="650" y="83"/>
                  </a:cubicBezTo>
                  <a:cubicBezTo>
                    <a:pt x="636" y="70"/>
                    <a:pt x="615" y="62"/>
                    <a:pt x="598" y="54"/>
                  </a:cubicBezTo>
                  <a:cubicBezTo>
                    <a:pt x="591" y="51"/>
                    <a:pt x="569" y="43"/>
                    <a:pt x="576" y="46"/>
                  </a:cubicBezTo>
                  <a:cubicBezTo>
                    <a:pt x="610" y="62"/>
                    <a:pt x="609" y="60"/>
                    <a:pt x="642" y="68"/>
                  </a:cubicBezTo>
                  <a:cubicBezTo>
                    <a:pt x="662" y="78"/>
                    <a:pt x="682" y="88"/>
                    <a:pt x="702" y="98"/>
                  </a:cubicBezTo>
                  <a:cubicBezTo>
                    <a:pt x="712" y="103"/>
                    <a:pt x="731" y="113"/>
                    <a:pt x="731" y="113"/>
                  </a:cubicBezTo>
                  <a:cubicBezTo>
                    <a:pt x="726" y="103"/>
                    <a:pt x="724" y="91"/>
                    <a:pt x="716" y="83"/>
                  </a:cubicBezTo>
                  <a:cubicBezTo>
                    <a:pt x="711" y="78"/>
                    <a:pt x="686" y="76"/>
                    <a:pt x="694" y="76"/>
                  </a:cubicBezTo>
                  <a:cubicBezTo>
                    <a:pt x="721" y="76"/>
                    <a:pt x="762" y="85"/>
                    <a:pt x="790" y="90"/>
                  </a:cubicBezTo>
                  <a:cubicBezTo>
                    <a:pt x="797" y="95"/>
                    <a:pt x="820" y="109"/>
                    <a:pt x="812" y="105"/>
                  </a:cubicBezTo>
                  <a:cubicBezTo>
                    <a:pt x="706" y="56"/>
                    <a:pt x="868" y="97"/>
                    <a:pt x="879" y="98"/>
                  </a:cubicBezTo>
                  <a:cubicBezTo>
                    <a:pt x="894" y="95"/>
                    <a:pt x="923" y="105"/>
                    <a:pt x="923" y="90"/>
                  </a:cubicBezTo>
                  <a:cubicBezTo>
                    <a:pt x="923" y="75"/>
                    <a:pt x="879" y="76"/>
                    <a:pt x="879" y="76"/>
                  </a:cubicBezTo>
                  <a:cubicBezTo>
                    <a:pt x="931" y="57"/>
                    <a:pt x="884" y="76"/>
                    <a:pt x="834" y="76"/>
                  </a:cubicBezTo>
                  <a:cubicBezTo>
                    <a:pt x="750" y="76"/>
                    <a:pt x="667" y="71"/>
                    <a:pt x="583" y="68"/>
                  </a:cubicBezTo>
                  <a:cubicBezTo>
                    <a:pt x="563" y="66"/>
                    <a:pt x="544" y="64"/>
                    <a:pt x="524" y="61"/>
                  </a:cubicBezTo>
                  <a:cubicBezTo>
                    <a:pt x="512" y="59"/>
                    <a:pt x="499" y="56"/>
                    <a:pt x="487" y="54"/>
                  </a:cubicBezTo>
                  <a:cubicBezTo>
                    <a:pt x="475" y="51"/>
                    <a:pt x="437" y="46"/>
                    <a:pt x="450" y="46"/>
                  </a:cubicBezTo>
                  <a:cubicBezTo>
                    <a:pt x="472" y="46"/>
                    <a:pt x="495" y="51"/>
                    <a:pt x="517" y="54"/>
                  </a:cubicBezTo>
                  <a:cubicBezTo>
                    <a:pt x="573" y="72"/>
                    <a:pt x="546" y="71"/>
                    <a:pt x="598" y="61"/>
                  </a:cubicBezTo>
                  <a:cubicBezTo>
                    <a:pt x="580" y="52"/>
                    <a:pt x="564" y="39"/>
                    <a:pt x="546" y="31"/>
                  </a:cubicBezTo>
                  <a:cubicBezTo>
                    <a:pt x="537" y="27"/>
                    <a:pt x="527" y="27"/>
                    <a:pt x="517" y="24"/>
                  </a:cubicBezTo>
                  <a:cubicBezTo>
                    <a:pt x="510" y="22"/>
                    <a:pt x="490" y="12"/>
                    <a:pt x="495" y="17"/>
                  </a:cubicBezTo>
                  <a:cubicBezTo>
                    <a:pt x="522" y="44"/>
                    <a:pt x="547" y="41"/>
                    <a:pt x="583" y="46"/>
                  </a:cubicBezTo>
                  <a:cubicBezTo>
                    <a:pt x="645" y="68"/>
                    <a:pt x="598" y="54"/>
                    <a:pt x="731" y="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109"/>
            <p:cNvSpPr/>
            <p:nvPr/>
          </p:nvSpPr>
          <p:spPr>
            <a:xfrm>
              <a:off x="4992480" y="3004920"/>
              <a:ext cx="1112760" cy="725400"/>
            </a:xfrm>
            <a:custGeom>
              <a:avLst/>
              <a:gdLst/>
              <a:ahLst/>
              <a:rect l="l" t="t" r="r" b="b"/>
              <a:pathLst>
                <a:path w="701" h="457">
                  <a:moveTo>
                    <a:pt x="0" y="457"/>
                  </a:moveTo>
                  <a:cubicBezTo>
                    <a:pt x="15" y="447"/>
                    <a:pt x="27" y="434"/>
                    <a:pt x="44" y="428"/>
                  </a:cubicBezTo>
                  <a:cubicBezTo>
                    <a:pt x="51" y="425"/>
                    <a:pt x="59" y="423"/>
                    <a:pt x="66" y="420"/>
                  </a:cubicBezTo>
                  <a:cubicBezTo>
                    <a:pt x="74" y="416"/>
                    <a:pt x="97" y="406"/>
                    <a:pt x="88" y="406"/>
                  </a:cubicBezTo>
                  <a:cubicBezTo>
                    <a:pt x="73" y="406"/>
                    <a:pt x="29" y="423"/>
                    <a:pt x="44" y="420"/>
                  </a:cubicBezTo>
                  <a:cubicBezTo>
                    <a:pt x="54" y="418"/>
                    <a:pt x="64" y="415"/>
                    <a:pt x="74" y="413"/>
                  </a:cubicBezTo>
                  <a:cubicBezTo>
                    <a:pt x="84" y="408"/>
                    <a:pt x="103" y="398"/>
                    <a:pt x="103" y="398"/>
                  </a:cubicBezTo>
                  <a:cubicBezTo>
                    <a:pt x="76" y="425"/>
                    <a:pt x="23" y="442"/>
                    <a:pt x="96" y="428"/>
                  </a:cubicBezTo>
                  <a:cubicBezTo>
                    <a:pt x="137" y="400"/>
                    <a:pt x="98" y="425"/>
                    <a:pt x="147" y="398"/>
                  </a:cubicBezTo>
                  <a:cubicBezTo>
                    <a:pt x="155" y="394"/>
                    <a:pt x="174" y="376"/>
                    <a:pt x="170" y="384"/>
                  </a:cubicBezTo>
                  <a:cubicBezTo>
                    <a:pt x="164" y="397"/>
                    <a:pt x="151" y="404"/>
                    <a:pt x="140" y="413"/>
                  </a:cubicBezTo>
                  <a:cubicBezTo>
                    <a:pt x="133" y="419"/>
                    <a:pt x="118" y="437"/>
                    <a:pt x="118" y="428"/>
                  </a:cubicBezTo>
                  <a:cubicBezTo>
                    <a:pt x="118" y="404"/>
                    <a:pt x="167" y="400"/>
                    <a:pt x="177" y="398"/>
                  </a:cubicBezTo>
                  <a:cubicBezTo>
                    <a:pt x="236" y="360"/>
                    <a:pt x="166" y="420"/>
                    <a:pt x="155" y="428"/>
                  </a:cubicBezTo>
                  <a:cubicBezTo>
                    <a:pt x="152" y="435"/>
                    <a:pt x="139" y="450"/>
                    <a:pt x="147" y="450"/>
                  </a:cubicBezTo>
                  <a:cubicBezTo>
                    <a:pt x="156" y="450"/>
                    <a:pt x="156" y="435"/>
                    <a:pt x="162" y="428"/>
                  </a:cubicBezTo>
                  <a:cubicBezTo>
                    <a:pt x="178" y="410"/>
                    <a:pt x="214" y="376"/>
                    <a:pt x="214" y="376"/>
                  </a:cubicBezTo>
                  <a:cubicBezTo>
                    <a:pt x="211" y="383"/>
                    <a:pt x="209" y="391"/>
                    <a:pt x="206" y="398"/>
                  </a:cubicBezTo>
                  <a:cubicBezTo>
                    <a:pt x="202" y="408"/>
                    <a:pt x="182" y="423"/>
                    <a:pt x="192" y="428"/>
                  </a:cubicBezTo>
                  <a:cubicBezTo>
                    <a:pt x="203" y="434"/>
                    <a:pt x="213" y="415"/>
                    <a:pt x="221" y="406"/>
                  </a:cubicBezTo>
                  <a:cubicBezTo>
                    <a:pt x="230" y="397"/>
                    <a:pt x="234" y="385"/>
                    <a:pt x="243" y="376"/>
                  </a:cubicBezTo>
                  <a:cubicBezTo>
                    <a:pt x="252" y="367"/>
                    <a:pt x="264" y="363"/>
                    <a:pt x="273" y="354"/>
                  </a:cubicBezTo>
                  <a:cubicBezTo>
                    <a:pt x="279" y="348"/>
                    <a:pt x="279" y="332"/>
                    <a:pt x="288" y="332"/>
                  </a:cubicBezTo>
                  <a:cubicBezTo>
                    <a:pt x="296" y="332"/>
                    <a:pt x="283" y="347"/>
                    <a:pt x="280" y="354"/>
                  </a:cubicBezTo>
                  <a:cubicBezTo>
                    <a:pt x="271" y="374"/>
                    <a:pt x="263" y="395"/>
                    <a:pt x="251" y="413"/>
                  </a:cubicBezTo>
                  <a:cubicBezTo>
                    <a:pt x="246" y="420"/>
                    <a:pt x="227" y="435"/>
                    <a:pt x="236" y="435"/>
                  </a:cubicBezTo>
                  <a:cubicBezTo>
                    <a:pt x="248" y="435"/>
                    <a:pt x="257" y="421"/>
                    <a:pt x="266" y="413"/>
                  </a:cubicBezTo>
                  <a:cubicBezTo>
                    <a:pt x="357" y="330"/>
                    <a:pt x="294" y="375"/>
                    <a:pt x="347" y="339"/>
                  </a:cubicBezTo>
                  <a:cubicBezTo>
                    <a:pt x="342" y="354"/>
                    <a:pt x="339" y="370"/>
                    <a:pt x="332" y="384"/>
                  </a:cubicBezTo>
                  <a:cubicBezTo>
                    <a:pt x="328" y="392"/>
                    <a:pt x="317" y="415"/>
                    <a:pt x="317" y="406"/>
                  </a:cubicBezTo>
                  <a:cubicBezTo>
                    <a:pt x="317" y="391"/>
                    <a:pt x="367" y="325"/>
                    <a:pt x="376" y="310"/>
                  </a:cubicBezTo>
                  <a:cubicBezTo>
                    <a:pt x="359" y="400"/>
                    <a:pt x="403" y="311"/>
                    <a:pt x="421" y="288"/>
                  </a:cubicBezTo>
                  <a:cubicBezTo>
                    <a:pt x="423" y="295"/>
                    <a:pt x="429" y="302"/>
                    <a:pt x="428" y="310"/>
                  </a:cubicBezTo>
                  <a:cubicBezTo>
                    <a:pt x="426" y="319"/>
                    <a:pt x="413" y="341"/>
                    <a:pt x="413" y="332"/>
                  </a:cubicBezTo>
                  <a:cubicBezTo>
                    <a:pt x="413" y="320"/>
                    <a:pt x="437" y="291"/>
                    <a:pt x="443" y="280"/>
                  </a:cubicBezTo>
                  <a:cubicBezTo>
                    <a:pt x="449" y="271"/>
                    <a:pt x="447" y="251"/>
                    <a:pt x="458" y="251"/>
                  </a:cubicBezTo>
                  <a:cubicBezTo>
                    <a:pt x="468" y="251"/>
                    <a:pt x="440" y="280"/>
                    <a:pt x="450" y="280"/>
                  </a:cubicBezTo>
                  <a:cubicBezTo>
                    <a:pt x="464" y="280"/>
                    <a:pt x="470" y="261"/>
                    <a:pt x="480" y="251"/>
                  </a:cubicBezTo>
                  <a:cubicBezTo>
                    <a:pt x="515" y="177"/>
                    <a:pt x="476" y="243"/>
                    <a:pt x="502" y="251"/>
                  </a:cubicBezTo>
                  <a:cubicBezTo>
                    <a:pt x="511" y="254"/>
                    <a:pt x="512" y="235"/>
                    <a:pt x="517" y="228"/>
                  </a:cubicBezTo>
                  <a:cubicBezTo>
                    <a:pt x="583" y="135"/>
                    <a:pt x="504" y="251"/>
                    <a:pt x="554" y="177"/>
                  </a:cubicBezTo>
                  <a:cubicBezTo>
                    <a:pt x="556" y="170"/>
                    <a:pt x="569" y="155"/>
                    <a:pt x="561" y="155"/>
                  </a:cubicBezTo>
                  <a:cubicBezTo>
                    <a:pt x="552" y="155"/>
                    <a:pt x="550" y="169"/>
                    <a:pt x="546" y="177"/>
                  </a:cubicBezTo>
                  <a:cubicBezTo>
                    <a:pt x="543" y="184"/>
                    <a:pt x="539" y="207"/>
                    <a:pt x="539" y="199"/>
                  </a:cubicBezTo>
                  <a:cubicBezTo>
                    <a:pt x="539" y="184"/>
                    <a:pt x="543" y="169"/>
                    <a:pt x="546" y="155"/>
                  </a:cubicBezTo>
                  <a:cubicBezTo>
                    <a:pt x="548" y="147"/>
                    <a:pt x="554" y="124"/>
                    <a:pt x="554" y="132"/>
                  </a:cubicBezTo>
                  <a:cubicBezTo>
                    <a:pt x="554" y="166"/>
                    <a:pt x="529" y="167"/>
                    <a:pt x="568" y="155"/>
                  </a:cubicBezTo>
                  <a:cubicBezTo>
                    <a:pt x="585" y="144"/>
                    <a:pt x="605" y="138"/>
                    <a:pt x="620" y="125"/>
                  </a:cubicBezTo>
                  <a:cubicBezTo>
                    <a:pt x="664" y="89"/>
                    <a:pt x="622" y="107"/>
                    <a:pt x="613" y="110"/>
                  </a:cubicBezTo>
                  <a:cubicBezTo>
                    <a:pt x="629" y="59"/>
                    <a:pt x="642" y="61"/>
                    <a:pt x="605" y="73"/>
                  </a:cubicBezTo>
                  <a:cubicBezTo>
                    <a:pt x="600" y="81"/>
                    <a:pt x="594" y="88"/>
                    <a:pt x="590" y="96"/>
                  </a:cubicBezTo>
                  <a:cubicBezTo>
                    <a:pt x="587" y="103"/>
                    <a:pt x="578" y="123"/>
                    <a:pt x="583" y="118"/>
                  </a:cubicBezTo>
                  <a:cubicBezTo>
                    <a:pt x="596" y="105"/>
                    <a:pt x="603" y="88"/>
                    <a:pt x="613" y="73"/>
                  </a:cubicBezTo>
                  <a:cubicBezTo>
                    <a:pt x="618" y="65"/>
                    <a:pt x="593" y="104"/>
                    <a:pt x="598" y="96"/>
                  </a:cubicBezTo>
                  <a:cubicBezTo>
                    <a:pt x="618" y="66"/>
                    <a:pt x="605" y="78"/>
                    <a:pt x="635" y="59"/>
                  </a:cubicBezTo>
                  <a:cubicBezTo>
                    <a:pt x="653" y="32"/>
                    <a:pt x="679" y="22"/>
                    <a:pt x="70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10"/>
            <p:cNvSpPr/>
            <p:nvPr/>
          </p:nvSpPr>
          <p:spPr>
            <a:xfrm>
              <a:off x="6198840" y="3500280"/>
              <a:ext cx="2298600" cy="558360"/>
            </a:xfrm>
            <a:custGeom>
              <a:avLst/>
              <a:gdLst/>
              <a:ahLst/>
              <a:rect l="l" t="t" r="r" b="b"/>
              <a:pathLst>
                <a:path w="1448" h="352">
                  <a:moveTo>
                    <a:pt x="0" y="212"/>
                  </a:moveTo>
                  <a:cubicBezTo>
                    <a:pt x="9" y="201"/>
                    <a:pt x="63" y="131"/>
                    <a:pt x="82" y="131"/>
                  </a:cubicBezTo>
                  <a:cubicBezTo>
                    <a:pt x="93" y="131"/>
                    <a:pt x="66" y="145"/>
                    <a:pt x="59" y="153"/>
                  </a:cubicBezTo>
                  <a:cubicBezTo>
                    <a:pt x="43" y="174"/>
                    <a:pt x="30" y="197"/>
                    <a:pt x="15" y="219"/>
                  </a:cubicBezTo>
                  <a:cubicBezTo>
                    <a:pt x="3" y="236"/>
                    <a:pt x="44" y="190"/>
                    <a:pt x="59" y="175"/>
                  </a:cubicBezTo>
                  <a:cubicBezTo>
                    <a:pt x="72" y="162"/>
                    <a:pt x="104" y="145"/>
                    <a:pt x="104" y="145"/>
                  </a:cubicBezTo>
                  <a:cubicBezTo>
                    <a:pt x="99" y="153"/>
                    <a:pt x="80" y="165"/>
                    <a:pt x="89" y="168"/>
                  </a:cubicBezTo>
                  <a:cubicBezTo>
                    <a:pt x="102" y="173"/>
                    <a:pt x="114" y="158"/>
                    <a:pt x="126" y="153"/>
                  </a:cubicBezTo>
                  <a:cubicBezTo>
                    <a:pt x="176" y="134"/>
                    <a:pt x="162" y="139"/>
                    <a:pt x="214" y="131"/>
                  </a:cubicBezTo>
                  <a:cubicBezTo>
                    <a:pt x="201" y="173"/>
                    <a:pt x="218" y="138"/>
                    <a:pt x="170" y="168"/>
                  </a:cubicBezTo>
                  <a:cubicBezTo>
                    <a:pt x="161" y="174"/>
                    <a:pt x="138" y="190"/>
                    <a:pt x="148" y="190"/>
                  </a:cubicBezTo>
                  <a:cubicBezTo>
                    <a:pt x="178" y="190"/>
                    <a:pt x="248" y="151"/>
                    <a:pt x="274" y="131"/>
                  </a:cubicBezTo>
                  <a:cubicBezTo>
                    <a:pt x="282" y="125"/>
                    <a:pt x="287" y="113"/>
                    <a:pt x="296" y="108"/>
                  </a:cubicBezTo>
                  <a:cubicBezTo>
                    <a:pt x="309" y="100"/>
                    <a:pt x="340" y="94"/>
                    <a:pt x="340" y="94"/>
                  </a:cubicBezTo>
                  <a:cubicBezTo>
                    <a:pt x="298" y="155"/>
                    <a:pt x="243" y="127"/>
                    <a:pt x="421" y="138"/>
                  </a:cubicBezTo>
                  <a:cubicBezTo>
                    <a:pt x="428" y="136"/>
                    <a:pt x="443" y="139"/>
                    <a:pt x="443" y="131"/>
                  </a:cubicBezTo>
                  <a:cubicBezTo>
                    <a:pt x="443" y="122"/>
                    <a:pt x="429" y="120"/>
                    <a:pt x="421" y="116"/>
                  </a:cubicBezTo>
                  <a:cubicBezTo>
                    <a:pt x="414" y="112"/>
                    <a:pt x="391" y="108"/>
                    <a:pt x="399" y="108"/>
                  </a:cubicBezTo>
                  <a:cubicBezTo>
                    <a:pt x="429" y="108"/>
                    <a:pt x="458" y="113"/>
                    <a:pt x="488" y="116"/>
                  </a:cubicBezTo>
                  <a:cubicBezTo>
                    <a:pt x="522" y="122"/>
                    <a:pt x="551" y="135"/>
                    <a:pt x="584" y="145"/>
                  </a:cubicBezTo>
                  <a:cubicBezTo>
                    <a:pt x="538" y="101"/>
                    <a:pt x="573" y="129"/>
                    <a:pt x="525" y="101"/>
                  </a:cubicBezTo>
                  <a:cubicBezTo>
                    <a:pt x="517" y="96"/>
                    <a:pt x="493" y="86"/>
                    <a:pt x="502" y="86"/>
                  </a:cubicBezTo>
                  <a:cubicBezTo>
                    <a:pt x="541" y="86"/>
                    <a:pt x="564" y="105"/>
                    <a:pt x="598" y="116"/>
                  </a:cubicBezTo>
                  <a:cubicBezTo>
                    <a:pt x="615" y="122"/>
                    <a:pt x="650" y="131"/>
                    <a:pt x="650" y="131"/>
                  </a:cubicBezTo>
                  <a:cubicBezTo>
                    <a:pt x="657" y="138"/>
                    <a:pt x="667" y="162"/>
                    <a:pt x="672" y="153"/>
                  </a:cubicBezTo>
                  <a:cubicBezTo>
                    <a:pt x="678" y="141"/>
                    <a:pt x="667" y="125"/>
                    <a:pt x="658" y="116"/>
                  </a:cubicBezTo>
                  <a:cubicBezTo>
                    <a:pt x="651" y="109"/>
                    <a:pt x="638" y="111"/>
                    <a:pt x="628" y="108"/>
                  </a:cubicBezTo>
                  <a:cubicBezTo>
                    <a:pt x="687" y="94"/>
                    <a:pt x="741" y="141"/>
                    <a:pt x="798" y="153"/>
                  </a:cubicBezTo>
                  <a:cubicBezTo>
                    <a:pt x="831" y="176"/>
                    <a:pt x="844" y="201"/>
                    <a:pt x="872" y="160"/>
                  </a:cubicBezTo>
                  <a:cubicBezTo>
                    <a:pt x="854" y="142"/>
                    <a:pt x="828" y="130"/>
                    <a:pt x="879" y="123"/>
                  </a:cubicBezTo>
                  <a:cubicBezTo>
                    <a:pt x="897" y="121"/>
                    <a:pt x="929" y="147"/>
                    <a:pt x="946" y="153"/>
                  </a:cubicBezTo>
                  <a:cubicBezTo>
                    <a:pt x="920" y="55"/>
                    <a:pt x="746" y="46"/>
                    <a:pt x="665" y="42"/>
                  </a:cubicBezTo>
                  <a:cubicBezTo>
                    <a:pt x="589" y="39"/>
                    <a:pt x="512" y="37"/>
                    <a:pt x="436" y="35"/>
                  </a:cubicBezTo>
                  <a:cubicBezTo>
                    <a:pt x="176" y="0"/>
                    <a:pt x="731" y="38"/>
                    <a:pt x="842" y="57"/>
                  </a:cubicBezTo>
                  <a:cubicBezTo>
                    <a:pt x="941" y="116"/>
                    <a:pt x="1053" y="144"/>
                    <a:pt x="1152" y="204"/>
                  </a:cubicBezTo>
                  <a:cubicBezTo>
                    <a:pt x="1171" y="216"/>
                    <a:pt x="1108" y="196"/>
                    <a:pt x="1086" y="190"/>
                  </a:cubicBezTo>
                  <a:cubicBezTo>
                    <a:pt x="1066" y="184"/>
                    <a:pt x="1027" y="168"/>
                    <a:pt x="1027" y="168"/>
                  </a:cubicBezTo>
                  <a:cubicBezTo>
                    <a:pt x="1012" y="170"/>
                    <a:pt x="991" y="162"/>
                    <a:pt x="982" y="175"/>
                  </a:cubicBezTo>
                  <a:cubicBezTo>
                    <a:pt x="976" y="184"/>
                    <a:pt x="1002" y="185"/>
                    <a:pt x="1012" y="190"/>
                  </a:cubicBezTo>
                  <a:cubicBezTo>
                    <a:pt x="1020" y="194"/>
                    <a:pt x="1043" y="204"/>
                    <a:pt x="1034" y="204"/>
                  </a:cubicBezTo>
                  <a:cubicBezTo>
                    <a:pt x="984" y="204"/>
                    <a:pt x="929" y="184"/>
                    <a:pt x="879" y="175"/>
                  </a:cubicBezTo>
                  <a:cubicBezTo>
                    <a:pt x="872" y="177"/>
                    <a:pt x="857" y="174"/>
                    <a:pt x="857" y="182"/>
                  </a:cubicBezTo>
                  <a:cubicBezTo>
                    <a:pt x="857" y="190"/>
                    <a:pt x="872" y="187"/>
                    <a:pt x="879" y="190"/>
                  </a:cubicBezTo>
                  <a:cubicBezTo>
                    <a:pt x="924" y="212"/>
                    <a:pt x="961" y="227"/>
                    <a:pt x="1012" y="234"/>
                  </a:cubicBezTo>
                  <a:cubicBezTo>
                    <a:pt x="1057" y="256"/>
                    <a:pt x="1105" y="269"/>
                    <a:pt x="1152" y="286"/>
                  </a:cubicBezTo>
                  <a:cubicBezTo>
                    <a:pt x="1162" y="282"/>
                    <a:pt x="1195" y="269"/>
                    <a:pt x="1204" y="271"/>
                  </a:cubicBezTo>
                  <a:cubicBezTo>
                    <a:pt x="1238" y="278"/>
                    <a:pt x="1276" y="308"/>
                    <a:pt x="1307" y="323"/>
                  </a:cubicBezTo>
                  <a:cubicBezTo>
                    <a:pt x="1323" y="331"/>
                    <a:pt x="1361" y="335"/>
                    <a:pt x="1374" y="337"/>
                  </a:cubicBezTo>
                  <a:cubicBezTo>
                    <a:pt x="1399" y="346"/>
                    <a:pt x="1421" y="352"/>
                    <a:pt x="1448" y="3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11"/>
            <p:cNvSpPr/>
            <p:nvPr/>
          </p:nvSpPr>
          <p:spPr>
            <a:xfrm>
              <a:off x="6257520" y="4043160"/>
              <a:ext cx="1665360" cy="304560"/>
            </a:xfrm>
            <a:custGeom>
              <a:avLst/>
              <a:gdLst/>
              <a:ahLst/>
              <a:rect l="l" t="t" r="r" b="b"/>
              <a:pathLst>
                <a:path w="1049" h="192">
                  <a:moveTo>
                    <a:pt x="0" y="25"/>
                  </a:moveTo>
                  <a:cubicBezTo>
                    <a:pt x="61" y="67"/>
                    <a:pt x="151" y="0"/>
                    <a:pt x="89" y="91"/>
                  </a:cubicBezTo>
                  <a:cubicBezTo>
                    <a:pt x="170" y="94"/>
                    <a:pt x="252" y="92"/>
                    <a:pt x="333" y="99"/>
                  </a:cubicBezTo>
                  <a:cubicBezTo>
                    <a:pt x="344" y="100"/>
                    <a:pt x="351" y="112"/>
                    <a:pt x="362" y="114"/>
                  </a:cubicBezTo>
                  <a:cubicBezTo>
                    <a:pt x="389" y="119"/>
                    <a:pt x="416" y="119"/>
                    <a:pt x="443" y="121"/>
                  </a:cubicBezTo>
                  <a:cubicBezTo>
                    <a:pt x="453" y="123"/>
                    <a:pt x="463" y="127"/>
                    <a:pt x="473" y="128"/>
                  </a:cubicBezTo>
                  <a:cubicBezTo>
                    <a:pt x="515" y="132"/>
                    <a:pt x="557" y="127"/>
                    <a:pt x="598" y="136"/>
                  </a:cubicBezTo>
                  <a:cubicBezTo>
                    <a:pt x="607" y="138"/>
                    <a:pt x="606" y="153"/>
                    <a:pt x="613" y="158"/>
                  </a:cubicBezTo>
                  <a:cubicBezTo>
                    <a:pt x="624" y="167"/>
                    <a:pt x="666" y="179"/>
                    <a:pt x="680" y="180"/>
                  </a:cubicBezTo>
                  <a:cubicBezTo>
                    <a:pt x="800" y="192"/>
                    <a:pt x="931" y="187"/>
                    <a:pt x="1049" y="1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12"/>
            <p:cNvSpPr/>
            <p:nvPr/>
          </p:nvSpPr>
          <p:spPr>
            <a:xfrm>
              <a:off x="6516360" y="4257720"/>
              <a:ext cx="914400" cy="199440"/>
            </a:xfrm>
            <a:custGeom>
              <a:avLst/>
              <a:gdLst/>
              <a:ahLst/>
              <a:rect l="l" t="t" r="r" b="b"/>
              <a:pathLst>
                <a:path w="576" h="126">
                  <a:moveTo>
                    <a:pt x="0" y="1"/>
                  </a:moveTo>
                  <a:cubicBezTo>
                    <a:pt x="46" y="10"/>
                    <a:pt x="240" y="0"/>
                    <a:pt x="110" y="23"/>
                  </a:cubicBezTo>
                  <a:cubicBezTo>
                    <a:pt x="140" y="25"/>
                    <a:pt x="169" y="26"/>
                    <a:pt x="199" y="30"/>
                  </a:cubicBezTo>
                  <a:cubicBezTo>
                    <a:pt x="209" y="31"/>
                    <a:pt x="227" y="28"/>
                    <a:pt x="229" y="38"/>
                  </a:cubicBezTo>
                  <a:cubicBezTo>
                    <a:pt x="231" y="48"/>
                    <a:pt x="215" y="54"/>
                    <a:pt x="206" y="60"/>
                  </a:cubicBezTo>
                  <a:cubicBezTo>
                    <a:pt x="200" y="64"/>
                    <a:pt x="191" y="65"/>
                    <a:pt x="184" y="67"/>
                  </a:cubicBezTo>
                  <a:cubicBezTo>
                    <a:pt x="243" y="88"/>
                    <a:pt x="392" y="27"/>
                    <a:pt x="339" y="104"/>
                  </a:cubicBezTo>
                  <a:cubicBezTo>
                    <a:pt x="420" y="112"/>
                    <a:pt x="496" y="126"/>
                    <a:pt x="576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113"/>
            <p:cNvSpPr/>
            <p:nvPr/>
          </p:nvSpPr>
          <p:spPr>
            <a:xfrm>
              <a:off x="-247680" y="2509560"/>
              <a:ext cx="4548240" cy="3601800"/>
            </a:xfrm>
            <a:custGeom>
              <a:avLst/>
              <a:gdLst/>
              <a:ahLst/>
              <a:rect l="l" t="t" r="r" b="b"/>
              <a:pathLst>
                <a:path w="2865" h="2269">
                  <a:moveTo>
                    <a:pt x="152" y="17"/>
                  </a:moveTo>
                  <a:cubicBezTo>
                    <a:pt x="214" y="38"/>
                    <a:pt x="184" y="23"/>
                    <a:pt x="243" y="62"/>
                  </a:cubicBezTo>
                  <a:cubicBezTo>
                    <a:pt x="281" y="87"/>
                    <a:pt x="334" y="67"/>
                    <a:pt x="379" y="70"/>
                  </a:cubicBezTo>
                  <a:cubicBezTo>
                    <a:pt x="399" y="80"/>
                    <a:pt x="434" y="103"/>
                    <a:pt x="455" y="108"/>
                  </a:cubicBezTo>
                  <a:cubicBezTo>
                    <a:pt x="531" y="128"/>
                    <a:pt x="628" y="133"/>
                    <a:pt x="705" y="138"/>
                  </a:cubicBezTo>
                  <a:cubicBezTo>
                    <a:pt x="813" y="208"/>
                    <a:pt x="956" y="197"/>
                    <a:pt x="1076" y="229"/>
                  </a:cubicBezTo>
                  <a:cubicBezTo>
                    <a:pt x="1208" y="315"/>
                    <a:pt x="1427" y="287"/>
                    <a:pt x="1554" y="290"/>
                  </a:cubicBezTo>
                  <a:cubicBezTo>
                    <a:pt x="1597" y="300"/>
                    <a:pt x="1624" y="326"/>
                    <a:pt x="1668" y="335"/>
                  </a:cubicBezTo>
                  <a:cubicBezTo>
                    <a:pt x="1717" y="368"/>
                    <a:pt x="1760" y="381"/>
                    <a:pt x="1819" y="388"/>
                  </a:cubicBezTo>
                  <a:cubicBezTo>
                    <a:pt x="1892" y="436"/>
                    <a:pt x="1793" y="420"/>
                    <a:pt x="1918" y="434"/>
                  </a:cubicBezTo>
                  <a:cubicBezTo>
                    <a:pt x="1968" y="446"/>
                    <a:pt x="1943" y="458"/>
                    <a:pt x="1986" y="471"/>
                  </a:cubicBezTo>
                  <a:cubicBezTo>
                    <a:pt x="2034" y="504"/>
                    <a:pt x="2072" y="549"/>
                    <a:pt x="2130" y="562"/>
                  </a:cubicBezTo>
                  <a:cubicBezTo>
                    <a:pt x="2146" y="573"/>
                    <a:pt x="2164" y="584"/>
                    <a:pt x="2175" y="600"/>
                  </a:cubicBezTo>
                  <a:cubicBezTo>
                    <a:pt x="2180" y="607"/>
                    <a:pt x="2178" y="617"/>
                    <a:pt x="2183" y="623"/>
                  </a:cubicBezTo>
                  <a:cubicBezTo>
                    <a:pt x="2191" y="633"/>
                    <a:pt x="2204" y="638"/>
                    <a:pt x="2213" y="646"/>
                  </a:cubicBezTo>
                  <a:cubicBezTo>
                    <a:pt x="2260" y="688"/>
                    <a:pt x="2273" y="706"/>
                    <a:pt x="2334" y="722"/>
                  </a:cubicBezTo>
                  <a:cubicBezTo>
                    <a:pt x="2354" y="740"/>
                    <a:pt x="2369" y="751"/>
                    <a:pt x="2395" y="759"/>
                  </a:cubicBezTo>
                  <a:cubicBezTo>
                    <a:pt x="2450" y="796"/>
                    <a:pt x="2423" y="786"/>
                    <a:pt x="2471" y="797"/>
                  </a:cubicBezTo>
                  <a:cubicBezTo>
                    <a:pt x="2562" y="860"/>
                    <a:pt x="2629" y="840"/>
                    <a:pt x="2729" y="873"/>
                  </a:cubicBezTo>
                  <a:cubicBezTo>
                    <a:pt x="2759" y="883"/>
                    <a:pt x="2790" y="893"/>
                    <a:pt x="2820" y="903"/>
                  </a:cubicBezTo>
                  <a:cubicBezTo>
                    <a:pt x="2835" y="908"/>
                    <a:pt x="2865" y="919"/>
                    <a:pt x="2865" y="919"/>
                  </a:cubicBezTo>
                  <a:cubicBezTo>
                    <a:pt x="2845" y="975"/>
                    <a:pt x="2830" y="958"/>
                    <a:pt x="2759" y="964"/>
                  </a:cubicBezTo>
                  <a:cubicBezTo>
                    <a:pt x="2818" y="1002"/>
                    <a:pt x="2784" y="974"/>
                    <a:pt x="2660" y="987"/>
                  </a:cubicBezTo>
                  <a:cubicBezTo>
                    <a:pt x="2632" y="990"/>
                    <a:pt x="2605" y="998"/>
                    <a:pt x="2577" y="1002"/>
                  </a:cubicBezTo>
                  <a:cubicBezTo>
                    <a:pt x="2512" y="994"/>
                    <a:pt x="2511" y="985"/>
                    <a:pt x="2494" y="1040"/>
                  </a:cubicBezTo>
                  <a:cubicBezTo>
                    <a:pt x="2474" y="1037"/>
                    <a:pt x="2453" y="1030"/>
                    <a:pt x="2433" y="1032"/>
                  </a:cubicBezTo>
                  <a:cubicBezTo>
                    <a:pt x="2404" y="1034"/>
                    <a:pt x="2373" y="1077"/>
                    <a:pt x="2350" y="1093"/>
                  </a:cubicBezTo>
                  <a:cubicBezTo>
                    <a:pt x="2358" y="1138"/>
                    <a:pt x="2356" y="1145"/>
                    <a:pt x="2319" y="1169"/>
                  </a:cubicBezTo>
                  <a:cubicBezTo>
                    <a:pt x="2262" y="1252"/>
                    <a:pt x="2283" y="1228"/>
                    <a:pt x="2145" y="1237"/>
                  </a:cubicBezTo>
                  <a:cubicBezTo>
                    <a:pt x="2113" y="1248"/>
                    <a:pt x="2112" y="1258"/>
                    <a:pt x="2122" y="1290"/>
                  </a:cubicBezTo>
                  <a:cubicBezTo>
                    <a:pt x="2113" y="1318"/>
                    <a:pt x="2097" y="1330"/>
                    <a:pt x="2077" y="1351"/>
                  </a:cubicBezTo>
                  <a:cubicBezTo>
                    <a:pt x="2079" y="1358"/>
                    <a:pt x="2079" y="1368"/>
                    <a:pt x="2084" y="1373"/>
                  </a:cubicBezTo>
                  <a:cubicBezTo>
                    <a:pt x="2090" y="1379"/>
                    <a:pt x="2142" y="1400"/>
                    <a:pt x="2153" y="1404"/>
                  </a:cubicBezTo>
                  <a:cubicBezTo>
                    <a:pt x="2148" y="1422"/>
                    <a:pt x="2146" y="1444"/>
                    <a:pt x="2130" y="1457"/>
                  </a:cubicBezTo>
                  <a:cubicBezTo>
                    <a:pt x="2101" y="1482"/>
                    <a:pt x="2056" y="1480"/>
                    <a:pt x="2024" y="1502"/>
                  </a:cubicBezTo>
                  <a:cubicBezTo>
                    <a:pt x="2010" y="1543"/>
                    <a:pt x="2024" y="1545"/>
                    <a:pt x="1978" y="1555"/>
                  </a:cubicBezTo>
                  <a:cubicBezTo>
                    <a:pt x="1971" y="1560"/>
                    <a:pt x="1964" y="1566"/>
                    <a:pt x="1956" y="1570"/>
                  </a:cubicBezTo>
                  <a:cubicBezTo>
                    <a:pt x="1949" y="1574"/>
                    <a:pt x="1935" y="1570"/>
                    <a:pt x="1933" y="1578"/>
                  </a:cubicBezTo>
                  <a:cubicBezTo>
                    <a:pt x="1931" y="1587"/>
                    <a:pt x="1944" y="1593"/>
                    <a:pt x="1948" y="1601"/>
                  </a:cubicBezTo>
                  <a:cubicBezTo>
                    <a:pt x="1952" y="1608"/>
                    <a:pt x="1953" y="1616"/>
                    <a:pt x="1956" y="1623"/>
                  </a:cubicBezTo>
                  <a:cubicBezTo>
                    <a:pt x="1923" y="1634"/>
                    <a:pt x="1898" y="1657"/>
                    <a:pt x="1865" y="1669"/>
                  </a:cubicBezTo>
                  <a:cubicBezTo>
                    <a:pt x="1860" y="1684"/>
                    <a:pt x="1855" y="1704"/>
                    <a:pt x="1842" y="1714"/>
                  </a:cubicBezTo>
                  <a:cubicBezTo>
                    <a:pt x="1836" y="1719"/>
                    <a:pt x="1826" y="1718"/>
                    <a:pt x="1819" y="1722"/>
                  </a:cubicBezTo>
                  <a:cubicBezTo>
                    <a:pt x="1786" y="1740"/>
                    <a:pt x="1767" y="1757"/>
                    <a:pt x="1743" y="1783"/>
                  </a:cubicBezTo>
                  <a:cubicBezTo>
                    <a:pt x="1717" y="1864"/>
                    <a:pt x="1751" y="1738"/>
                    <a:pt x="1751" y="1828"/>
                  </a:cubicBezTo>
                  <a:cubicBezTo>
                    <a:pt x="1751" y="1851"/>
                    <a:pt x="1718" y="1859"/>
                    <a:pt x="1705" y="1866"/>
                  </a:cubicBezTo>
                  <a:cubicBezTo>
                    <a:pt x="1672" y="1885"/>
                    <a:pt x="1692" y="1878"/>
                    <a:pt x="1660" y="1904"/>
                  </a:cubicBezTo>
                  <a:cubicBezTo>
                    <a:pt x="1628" y="1930"/>
                    <a:pt x="1577" y="1951"/>
                    <a:pt x="1539" y="1965"/>
                  </a:cubicBezTo>
                  <a:cubicBezTo>
                    <a:pt x="1409" y="2090"/>
                    <a:pt x="1493" y="2032"/>
                    <a:pt x="1167" y="2040"/>
                  </a:cubicBezTo>
                  <a:cubicBezTo>
                    <a:pt x="1056" y="2070"/>
                    <a:pt x="1233" y="2025"/>
                    <a:pt x="925" y="2055"/>
                  </a:cubicBezTo>
                  <a:cubicBezTo>
                    <a:pt x="898" y="2058"/>
                    <a:pt x="871" y="2098"/>
                    <a:pt x="849" y="2109"/>
                  </a:cubicBezTo>
                  <a:cubicBezTo>
                    <a:pt x="837" y="2115"/>
                    <a:pt x="824" y="2114"/>
                    <a:pt x="811" y="2116"/>
                  </a:cubicBezTo>
                  <a:cubicBezTo>
                    <a:pt x="747" y="2158"/>
                    <a:pt x="665" y="2120"/>
                    <a:pt x="591" y="2131"/>
                  </a:cubicBezTo>
                  <a:cubicBezTo>
                    <a:pt x="514" y="2184"/>
                    <a:pt x="451" y="2199"/>
                    <a:pt x="356" y="2207"/>
                  </a:cubicBezTo>
                  <a:cubicBezTo>
                    <a:pt x="295" y="2229"/>
                    <a:pt x="229" y="2241"/>
                    <a:pt x="167" y="2260"/>
                  </a:cubicBezTo>
                  <a:cubicBezTo>
                    <a:pt x="149" y="2258"/>
                    <a:pt x="122" y="2269"/>
                    <a:pt x="114" y="2253"/>
                  </a:cubicBezTo>
                  <a:cubicBezTo>
                    <a:pt x="91" y="2205"/>
                    <a:pt x="107" y="2146"/>
                    <a:pt x="99" y="2093"/>
                  </a:cubicBezTo>
                  <a:cubicBezTo>
                    <a:pt x="94" y="2055"/>
                    <a:pt x="89" y="2018"/>
                    <a:pt x="84" y="1980"/>
                  </a:cubicBezTo>
                  <a:cubicBezTo>
                    <a:pt x="81" y="1960"/>
                    <a:pt x="76" y="1919"/>
                    <a:pt x="76" y="1919"/>
                  </a:cubicBezTo>
                  <a:cubicBezTo>
                    <a:pt x="61" y="1666"/>
                    <a:pt x="52" y="1417"/>
                    <a:pt x="0" y="1169"/>
                  </a:cubicBezTo>
                  <a:cubicBezTo>
                    <a:pt x="1" y="1095"/>
                    <a:pt x="7" y="580"/>
                    <a:pt x="15" y="411"/>
                  </a:cubicBezTo>
                  <a:cubicBezTo>
                    <a:pt x="18" y="354"/>
                    <a:pt x="14" y="275"/>
                    <a:pt x="46" y="229"/>
                  </a:cubicBezTo>
                  <a:cubicBezTo>
                    <a:pt x="55" y="190"/>
                    <a:pt x="59" y="127"/>
                    <a:pt x="84" y="100"/>
                  </a:cubicBezTo>
                  <a:cubicBezTo>
                    <a:pt x="101" y="82"/>
                    <a:pt x="137" y="47"/>
                    <a:pt x="137" y="47"/>
                  </a:cubicBezTo>
                  <a:cubicBezTo>
                    <a:pt x="145" y="5"/>
                    <a:pt x="135" y="0"/>
                    <a:pt x="152" y="17"/>
                  </a:cubicBezTo>
                  <a:close/>
                </a:path>
              </a:pathLst>
            </a:custGeom>
            <a:solidFill>
              <a:srgbClr val="00a85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14"/>
            <p:cNvSpPr/>
            <p:nvPr/>
          </p:nvSpPr>
          <p:spPr>
            <a:xfrm>
              <a:off x="53640" y="2584440"/>
              <a:ext cx="4282920" cy="1418760"/>
            </a:xfrm>
            <a:custGeom>
              <a:avLst/>
              <a:gdLst/>
              <a:ahLst/>
              <a:rect l="l" t="t" r="r" b="b"/>
              <a:pathLst>
                <a:path w="2698" h="894">
                  <a:moveTo>
                    <a:pt x="0" y="0"/>
                  </a:moveTo>
                  <a:cubicBezTo>
                    <a:pt x="19" y="30"/>
                    <a:pt x="36" y="43"/>
                    <a:pt x="68" y="53"/>
                  </a:cubicBezTo>
                  <a:cubicBezTo>
                    <a:pt x="76" y="58"/>
                    <a:pt x="85" y="62"/>
                    <a:pt x="91" y="68"/>
                  </a:cubicBezTo>
                  <a:cubicBezTo>
                    <a:pt x="97" y="74"/>
                    <a:pt x="115" y="91"/>
                    <a:pt x="106" y="91"/>
                  </a:cubicBezTo>
                  <a:cubicBezTo>
                    <a:pt x="95" y="91"/>
                    <a:pt x="92" y="74"/>
                    <a:pt x="83" y="68"/>
                  </a:cubicBezTo>
                  <a:cubicBezTo>
                    <a:pt x="71" y="59"/>
                    <a:pt x="57" y="55"/>
                    <a:pt x="45" y="46"/>
                  </a:cubicBezTo>
                  <a:cubicBezTo>
                    <a:pt x="36" y="40"/>
                    <a:pt x="11" y="25"/>
                    <a:pt x="22" y="23"/>
                  </a:cubicBezTo>
                  <a:cubicBezTo>
                    <a:pt x="65" y="17"/>
                    <a:pt x="119" y="47"/>
                    <a:pt x="159" y="61"/>
                  </a:cubicBezTo>
                  <a:cubicBezTo>
                    <a:pt x="182" y="83"/>
                    <a:pt x="197" y="97"/>
                    <a:pt x="227" y="106"/>
                  </a:cubicBezTo>
                  <a:cubicBezTo>
                    <a:pt x="292" y="148"/>
                    <a:pt x="196" y="95"/>
                    <a:pt x="182" y="83"/>
                  </a:cubicBezTo>
                  <a:cubicBezTo>
                    <a:pt x="174" y="76"/>
                    <a:pt x="167" y="68"/>
                    <a:pt x="159" y="61"/>
                  </a:cubicBezTo>
                  <a:cubicBezTo>
                    <a:pt x="152" y="55"/>
                    <a:pt x="127" y="46"/>
                    <a:pt x="136" y="46"/>
                  </a:cubicBezTo>
                  <a:cubicBezTo>
                    <a:pt x="160" y="46"/>
                    <a:pt x="181" y="63"/>
                    <a:pt x="204" y="68"/>
                  </a:cubicBezTo>
                  <a:cubicBezTo>
                    <a:pt x="258" y="122"/>
                    <a:pt x="270" y="123"/>
                    <a:pt x="219" y="99"/>
                  </a:cubicBezTo>
                  <a:cubicBezTo>
                    <a:pt x="214" y="94"/>
                    <a:pt x="210" y="87"/>
                    <a:pt x="204" y="83"/>
                  </a:cubicBezTo>
                  <a:cubicBezTo>
                    <a:pt x="184" y="70"/>
                    <a:pt x="166" y="82"/>
                    <a:pt x="204" y="68"/>
                  </a:cubicBezTo>
                  <a:cubicBezTo>
                    <a:pt x="233" y="76"/>
                    <a:pt x="243" y="77"/>
                    <a:pt x="272" y="91"/>
                  </a:cubicBezTo>
                  <a:cubicBezTo>
                    <a:pt x="280" y="95"/>
                    <a:pt x="287" y="102"/>
                    <a:pt x="295" y="106"/>
                  </a:cubicBezTo>
                  <a:cubicBezTo>
                    <a:pt x="302" y="110"/>
                    <a:pt x="324" y="120"/>
                    <a:pt x="318" y="114"/>
                  </a:cubicBezTo>
                  <a:cubicBezTo>
                    <a:pt x="295" y="91"/>
                    <a:pt x="234" y="70"/>
                    <a:pt x="204" y="61"/>
                  </a:cubicBezTo>
                  <a:cubicBezTo>
                    <a:pt x="197" y="56"/>
                    <a:pt x="176" y="52"/>
                    <a:pt x="182" y="46"/>
                  </a:cubicBezTo>
                  <a:cubicBezTo>
                    <a:pt x="189" y="39"/>
                    <a:pt x="202" y="51"/>
                    <a:pt x="212" y="53"/>
                  </a:cubicBezTo>
                  <a:cubicBezTo>
                    <a:pt x="242" y="60"/>
                    <a:pt x="271" y="71"/>
                    <a:pt x="295" y="91"/>
                  </a:cubicBezTo>
                  <a:cubicBezTo>
                    <a:pt x="303" y="98"/>
                    <a:pt x="310" y="107"/>
                    <a:pt x="318" y="114"/>
                  </a:cubicBezTo>
                  <a:cubicBezTo>
                    <a:pt x="325" y="120"/>
                    <a:pt x="348" y="135"/>
                    <a:pt x="341" y="129"/>
                  </a:cubicBezTo>
                  <a:cubicBezTo>
                    <a:pt x="321" y="113"/>
                    <a:pt x="300" y="98"/>
                    <a:pt x="280" y="83"/>
                  </a:cubicBezTo>
                  <a:cubicBezTo>
                    <a:pt x="274" y="78"/>
                    <a:pt x="249" y="76"/>
                    <a:pt x="257" y="76"/>
                  </a:cubicBezTo>
                  <a:cubicBezTo>
                    <a:pt x="273" y="76"/>
                    <a:pt x="288" y="81"/>
                    <a:pt x="303" y="83"/>
                  </a:cubicBezTo>
                  <a:cubicBezTo>
                    <a:pt x="332" y="103"/>
                    <a:pt x="359" y="123"/>
                    <a:pt x="386" y="144"/>
                  </a:cubicBezTo>
                  <a:cubicBezTo>
                    <a:pt x="401" y="155"/>
                    <a:pt x="432" y="174"/>
                    <a:pt x="432" y="174"/>
                  </a:cubicBezTo>
                  <a:cubicBezTo>
                    <a:pt x="414" y="126"/>
                    <a:pt x="383" y="134"/>
                    <a:pt x="447" y="121"/>
                  </a:cubicBezTo>
                  <a:cubicBezTo>
                    <a:pt x="462" y="141"/>
                    <a:pt x="477" y="162"/>
                    <a:pt x="492" y="182"/>
                  </a:cubicBezTo>
                  <a:cubicBezTo>
                    <a:pt x="497" y="189"/>
                    <a:pt x="515" y="206"/>
                    <a:pt x="515" y="197"/>
                  </a:cubicBezTo>
                  <a:cubicBezTo>
                    <a:pt x="515" y="178"/>
                    <a:pt x="482" y="171"/>
                    <a:pt x="470" y="167"/>
                  </a:cubicBezTo>
                  <a:cubicBezTo>
                    <a:pt x="440" y="137"/>
                    <a:pt x="411" y="122"/>
                    <a:pt x="371" y="106"/>
                  </a:cubicBezTo>
                  <a:cubicBezTo>
                    <a:pt x="414" y="84"/>
                    <a:pt x="413" y="98"/>
                    <a:pt x="454" y="121"/>
                  </a:cubicBezTo>
                  <a:cubicBezTo>
                    <a:pt x="462" y="126"/>
                    <a:pt x="483" y="142"/>
                    <a:pt x="477" y="136"/>
                  </a:cubicBezTo>
                  <a:cubicBezTo>
                    <a:pt x="457" y="116"/>
                    <a:pt x="368" y="90"/>
                    <a:pt x="454" y="106"/>
                  </a:cubicBezTo>
                  <a:cubicBezTo>
                    <a:pt x="486" y="127"/>
                    <a:pt x="468" y="119"/>
                    <a:pt x="507" y="129"/>
                  </a:cubicBezTo>
                  <a:cubicBezTo>
                    <a:pt x="515" y="131"/>
                    <a:pt x="479" y="116"/>
                    <a:pt x="485" y="121"/>
                  </a:cubicBezTo>
                  <a:cubicBezTo>
                    <a:pt x="500" y="134"/>
                    <a:pt x="527" y="139"/>
                    <a:pt x="545" y="144"/>
                  </a:cubicBezTo>
                  <a:cubicBezTo>
                    <a:pt x="558" y="154"/>
                    <a:pt x="570" y="165"/>
                    <a:pt x="583" y="174"/>
                  </a:cubicBezTo>
                  <a:cubicBezTo>
                    <a:pt x="598" y="185"/>
                    <a:pt x="629" y="205"/>
                    <a:pt x="629" y="205"/>
                  </a:cubicBezTo>
                  <a:cubicBezTo>
                    <a:pt x="624" y="195"/>
                    <a:pt x="622" y="182"/>
                    <a:pt x="614" y="174"/>
                  </a:cubicBezTo>
                  <a:cubicBezTo>
                    <a:pt x="608" y="168"/>
                    <a:pt x="598" y="170"/>
                    <a:pt x="591" y="167"/>
                  </a:cubicBezTo>
                  <a:cubicBezTo>
                    <a:pt x="583" y="163"/>
                    <a:pt x="576" y="157"/>
                    <a:pt x="568" y="152"/>
                  </a:cubicBezTo>
                  <a:cubicBezTo>
                    <a:pt x="557" y="145"/>
                    <a:pt x="594" y="161"/>
                    <a:pt x="606" y="167"/>
                  </a:cubicBezTo>
                  <a:cubicBezTo>
                    <a:pt x="614" y="171"/>
                    <a:pt x="621" y="177"/>
                    <a:pt x="629" y="182"/>
                  </a:cubicBezTo>
                  <a:cubicBezTo>
                    <a:pt x="634" y="190"/>
                    <a:pt x="644" y="214"/>
                    <a:pt x="644" y="205"/>
                  </a:cubicBezTo>
                  <a:cubicBezTo>
                    <a:pt x="644" y="194"/>
                    <a:pt x="638" y="182"/>
                    <a:pt x="629" y="174"/>
                  </a:cubicBezTo>
                  <a:cubicBezTo>
                    <a:pt x="611" y="159"/>
                    <a:pt x="568" y="160"/>
                    <a:pt x="568" y="144"/>
                  </a:cubicBezTo>
                  <a:cubicBezTo>
                    <a:pt x="568" y="136"/>
                    <a:pt x="584" y="149"/>
                    <a:pt x="591" y="152"/>
                  </a:cubicBezTo>
                  <a:cubicBezTo>
                    <a:pt x="601" y="156"/>
                    <a:pt x="611" y="163"/>
                    <a:pt x="621" y="167"/>
                  </a:cubicBezTo>
                  <a:cubicBezTo>
                    <a:pt x="655" y="181"/>
                    <a:pt x="687" y="189"/>
                    <a:pt x="720" y="205"/>
                  </a:cubicBezTo>
                  <a:cubicBezTo>
                    <a:pt x="726" y="211"/>
                    <a:pt x="759" y="249"/>
                    <a:pt x="773" y="243"/>
                  </a:cubicBezTo>
                  <a:cubicBezTo>
                    <a:pt x="781" y="239"/>
                    <a:pt x="764" y="226"/>
                    <a:pt x="758" y="220"/>
                  </a:cubicBezTo>
                  <a:cubicBezTo>
                    <a:pt x="752" y="214"/>
                    <a:pt x="743" y="209"/>
                    <a:pt x="735" y="205"/>
                  </a:cubicBezTo>
                  <a:cubicBezTo>
                    <a:pt x="713" y="196"/>
                    <a:pt x="689" y="191"/>
                    <a:pt x="667" y="182"/>
                  </a:cubicBezTo>
                  <a:cubicBezTo>
                    <a:pt x="708" y="167"/>
                    <a:pt x="771" y="207"/>
                    <a:pt x="811" y="227"/>
                  </a:cubicBezTo>
                  <a:cubicBezTo>
                    <a:pt x="816" y="232"/>
                    <a:pt x="826" y="250"/>
                    <a:pt x="826" y="243"/>
                  </a:cubicBezTo>
                  <a:cubicBezTo>
                    <a:pt x="826" y="232"/>
                    <a:pt x="820" y="220"/>
                    <a:pt x="811" y="212"/>
                  </a:cubicBezTo>
                  <a:cubicBezTo>
                    <a:pt x="798" y="201"/>
                    <a:pt x="759" y="194"/>
                    <a:pt x="742" y="190"/>
                  </a:cubicBezTo>
                  <a:cubicBezTo>
                    <a:pt x="694" y="139"/>
                    <a:pt x="808" y="183"/>
                    <a:pt x="833" y="190"/>
                  </a:cubicBezTo>
                  <a:cubicBezTo>
                    <a:pt x="901" y="235"/>
                    <a:pt x="791" y="177"/>
                    <a:pt x="780" y="174"/>
                  </a:cubicBezTo>
                  <a:cubicBezTo>
                    <a:pt x="765" y="170"/>
                    <a:pt x="750" y="170"/>
                    <a:pt x="735" y="167"/>
                  </a:cubicBezTo>
                  <a:cubicBezTo>
                    <a:pt x="602" y="141"/>
                    <a:pt x="695" y="146"/>
                    <a:pt x="485" y="136"/>
                  </a:cubicBezTo>
                  <a:cubicBezTo>
                    <a:pt x="498" y="134"/>
                    <a:pt x="510" y="129"/>
                    <a:pt x="523" y="129"/>
                  </a:cubicBezTo>
                  <a:cubicBezTo>
                    <a:pt x="531" y="129"/>
                    <a:pt x="545" y="144"/>
                    <a:pt x="545" y="136"/>
                  </a:cubicBezTo>
                  <a:cubicBezTo>
                    <a:pt x="545" y="127"/>
                    <a:pt x="531" y="125"/>
                    <a:pt x="523" y="121"/>
                  </a:cubicBezTo>
                  <a:cubicBezTo>
                    <a:pt x="516" y="117"/>
                    <a:pt x="492" y="114"/>
                    <a:pt x="500" y="114"/>
                  </a:cubicBezTo>
                  <a:cubicBezTo>
                    <a:pt x="525" y="114"/>
                    <a:pt x="551" y="119"/>
                    <a:pt x="576" y="121"/>
                  </a:cubicBezTo>
                  <a:cubicBezTo>
                    <a:pt x="641" y="135"/>
                    <a:pt x="701" y="148"/>
                    <a:pt x="765" y="167"/>
                  </a:cubicBezTo>
                  <a:cubicBezTo>
                    <a:pt x="806" y="180"/>
                    <a:pt x="850" y="205"/>
                    <a:pt x="894" y="205"/>
                  </a:cubicBezTo>
                  <a:cubicBezTo>
                    <a:pt x="902" y="205"/>
                    <a:pt x="863" y="195"/>
                    <a:pt x="871" y="197"/>
                  </a:cubicBezTo>
                  <a:cubicBezTo>
                    <a:pt x="905" y="205"/>
                    <a:pt x="918" y="210"/>
                    <a:pt x="947" y="220"/>
                  </a:cubicBezTo>
                  <a:cubicBezTo>
                    <a:pt x="960" y="233"/>
                    <a:pt x="988" y="265"/>
                    <a:pt x="1008" y="265"/>
                  </a:cubicBezTo>
                  <a:cubicBezTo>
                    <a:pt x="1021" y="265"/>
                    <a:pt x="988" y="250"/>
                    <a:pt x="977" y="243"/>
                  </a:cubicBezTo>
                  <a:cubicBezTo>
                    <a:pt x="950" y="226"/>
                    <a:pt x="950" y="228"/>
                    <a:pt x="924" y="220"/>
                  </a:cubicBezTo>
                  <a:cubicBezTo>
                    <a:pt x="880" y="190"/>
                    <a:pt x="882" y="196"/>
                    <a:pt x="992" y="220"/>
                  </a:cubicBezTo>
                  <a:cubicBezTo>
                    <a:pt x="1037" y="230"/>
                    <a:pt x="1080" y="254"/>
                    <a:pt x="1121" y="273"/>
                  </a:cubicBezTo>
                  <a:cubicBezTo>
                    <a:pt x="1126" y="275"/>
                    <a:pt x="1111" y="268"/>
                    <a:pt x="1106" y="265"/>
                  </a:cubicBezTo>
                  <a:cubicBezTo>
                    <a:pt x="1096" y="260"/>
                    <a:pt x="1086" y="256"/>
                    <a:pt x="1076" y="250"/>
                  </a:cubicBezTo>
                  <a:cubicBezTo>
                    <a:pt x="1068" y="245"/>
                    <a:pt x="1044" y="235"/>
                    <a:pt x="1053" y="235"/>
                  </a:cubicBezTo>
                  <a:cubicBezTo>
                    <a:pt x="1064" y="235"/>
                    <a:pt x="1073" y="246"/>
                    <a:pt x="1083" y="250"/>
                  </a:cubicBezTo>
                  <a:cubicBezTo>
                    <a:pt x="1239" y="308"/>
                    <a:pt x="1125" y="264"/>
                    <a:pt x="1205" y="288"/>
                  </a:cubicBezTo>
                  <a:cubicBezTo>
                    <a:pt x="1233" y="296"/>
                    <a:pt x="1251" y="311"/>
                    <a:pt x="1280" y="318"/>
                  </a:cubicBezTo>
                  <a:cubicBezTo>
                    <a:pt x="1270" y="308"/>
                    <a:pt x="1262" y="295"/>
                    <a:pt x="1250" y="288"/>
                  </a:cubicBezTo>
                  <a:cubicBezTo>
                    <a:pt x="1236" y="280"/>
                    <a:pt x="1189" y="272"/>
                    <a:pt x="1205" y="273"/>
                  </a:cubicBezTo>
                  <a:cubicBezTo>
                    <a:pt x="1230" y="275"/>
                    <a:pt x="1255" y="278"/>
                    <a:pt x="1280" y="280"/>
                  </a:cubicBezTo>
                  <a:cubicBezTo>
                    <a:pt x="1377" y="330"/>
                    <a:pt x="1239" y="263"/>
                    <a:pt x="1349" y="303"/>
                  </a:cubicBezTo>
                  <a:cubicBezTo>
                    <a:pt x="1357" y="306"/>
                    <a:pt x="1371" y="327"/>
                    <a:pt x="1371" y="318"/>
                  </a:cubicBezTo>
                  <a:cubicBezTo>
                    <a:pt x="1371" y="288"/>
                    <a:pt x="1328" y="280"/>
                    <a:pt x="1311" y="273"/>
                  </a:cubicBezTo>
                  <a:cubicBezTo>
                    <a:pt x="1300" y="268"/>
                    <a:pt x="1291" y="263"/>
                    <a:pt x="1280" y="258"/>
                  </a:cubicBezTo>
                  <a:cubicBezTo>
                    <a:pt x="1273" y="255"/>
                    <a:pt x="1250" y="250"/>
                    <a:pt x="1258" y="250"/>
                  </a:cubicBezTo>
                  <a:cubicBezTo>
                    <a:pt x="1271" y="250"/>
                    <a:pt x="1283" y="255"/>
                    <a:pt x="1296" y="258"/>
                  </a:cubicBezTo>
                  <a:cubicBezTo>
                    <a:pt x="1309" y="265"/>
                    <a:pt x="1321" y="274"/>
                    <a:pt x="1334" y="280"/>
                  </a:cubicBezTo>
                  <a:cubicBezTo>
                    <a:pt x="1343" y="284"/>
                    <a:pt x="1355" y="283"/>
                    <a:pt x="1364" y="288"/>
                  </a:cubicBezTo>
                  <a:cubicBezTo>
                    <a:pt x="1375" y="294"/>
                    <a:pt x="1384" y="304"/>
                    <a:pt x="1394" y="311"/>
                  </a:cubicBezTo>
                  <a:cubicBezTo>
                    <a:pt x="1401" y="316"/>
                    <a:pt x="1417" y="335"/>
                    <a:pt x="1417" y="326"/>
                  </a:cubicBezTo>
                  <a:cubicBezTo>
                    <a:pt x="1417" y="316"/>
                    <a:pt x="1378" y="293"/>
                    <a:pt x="1371" y="288"/>
                  </a:cubicBezTo>
                  <a:cubicBezTo>
                    <a:pt x="1336" y="234"/>
                    <a:pt x="1384" y="279"/>
                    <a:pt x="1409" y="288"/>
                  </a:cubicBezTo>
                  <a:cubicBezTo>
                    <a:pt x="1418" y="302"/>
                    <a:pt x="1432" y="312"/>
                    <a:pt x="1440" y="326"/>
                  </a:cubicBezTo>
                  <a:cubicBezTo>
                    <a:pt x="1444" y="333"/>
                    <a:pt x="1447" y="357"/>
                    <a:pt x="1447" y="349"/>
                  </a:cubicBezTo>
                  <a:cubicBezTo>
                    <a:pt x="1447" y="306"/>
                    <a:pt x="1393" y="288"/>
                    <a:pt x="1455" y="318"/>
                  </a:cubicBezTo>
                  <a:cubicBezTo>
                    <a:pt x="1470" y="334"/>
                    <a:pt x="1480" y="344"/>
                    <a:pt x="1493" y="364"/>
                  </a:cubicBezTo>
                  <a:cubicBezTo>
                    <a:pt x="1499" y="373"/>
                    <a:pt x="1508" y="405"/>
                    <a:pt x="1508" y="394"/>
                  </a:cubicBezTo>
                  <a:cubicBezTo>
                    <a:pt x="1508" y="355"/>
                    <a:pt x="1464" y="320"/>
                    <a:pt x="1523" y="379"/>
                  </a:cubicBezTo>
                  <a:cubicBezTo>
                    <a:pt x="1531" y="398"/>
                    <a:pt x="1553" y="498"/>
                    <a:pt x="1576" y="432"/>
                  </a:cubicBezTo>
                  <a:cubicBezTo>
                    <a:pt x="1560" y="385"/>
                    <a:pt x="1490" y="338"/>
                    <a:pt x="1568" y="356"/>
                  </a:cubicBezTo>
                  <a:cubicBezTo>
                    <a:pt x="1610" y="384"/>
                    <a:pt x="1631" y="434"/>
                    <a:pt x="1667" y="470"/>
                  </a:cubicBezTo>
                  <a:cubicBezTo>
                    <a:pt x="1672" y="462"/>
                    <a:pt x="1688" y="454"/>
                    <a:pt x="1682" y="447"/>
                  </a:cubicBezTo>
                  <a:cubicBezTo>
                    <a:pt x="1634" y="387"/>
                    <a:pt x="1491" y="337"/>
                    <a:pt x="1432" y="311"/>
                  </a:cubicBezTo>
                  <a:cubicBezTo>
                    <a:pt x="1414" y="303"/>
                    <a:pt x="1379" y="288"/>
                    <a:pt x="1379" y="288"/>
                  </a:cubicBezTo>
                  <a:cubicBezTo>
                    <a:pt x="1346" y="255"/>
                    <a:pt x="1348" y="262"/>
                    <a:pt x="1387" y="280"/>
                  </a:cubicBezTo>
                  <a:cubicBezTo>
                    <a:pt x="1417" y="294"/>
                    <a:pt x="1447" y="308"/>
                    <a:pt x="1478" y="318"/>
                  </a:cubicBezTo>
                  <a:cubicBezTo>
                    <a:pt x="1532" y="357"/>
                    <a:pt x="1469" y="315"/>
                    <a:pt x="1523" y="341"/>
                  </a:cubicBezTo>
                  <a:cubicBezTo>
                    <a:pt x="1531" y="345"/>
                    <a:pt x="1555" y="356"/>
                    <a:pt x="1546" y="356"/>
                  </a:cubicBezTo>
                  <a:cubicBezTo>
                    <a:pt x="1536" y="356"/>
                    <a:pt x="1481" y="320"/>
                    <a:pt x="1478" y="318"/>
                  </a:cubicBezTo>
                  <a:cubicBezTo>
                    <a:pt x="1524" y="309"/>
                    <a:pt x="1554" y="325"/>
                    <a:pt x="1599" y="334"/>
                  </a:cubicBezTo>
                  <a:cubicBezTo>
                    <a:pt x="1647" y="369"/>
                    <a:pt x="1619" y="351"/>
                    <a:pt x="1690" y="387"/>
                  </a:cubicBezTo>
                  <a:cubicBezTo>
                    <a:pt x="1700" y="392"/>
                    <a:pt x="1720" y="402"/>
                    <a:pt x="1720" y="402"/>
                  </a:cubicBezTo>
                  <a:cubicBezTo>
                    <a:pt x="1764" y="467"/>
                    <a:pt x="1687" y="378"/>
                    <a:pt x="1675" y="371"/>
                  </a:cubicBezTo>
                  <a:cubicBezTo>
                    <a:pt x="1666" y="366"/>
                    <a:pt x="1654" y="366"/>
                    <a:pt x="1644" y="364"/>
                  </a:cubicBezTo>
                  <a:cubicBezTo>
                    <a:pt x="1607" y="326"/>
                    <a:pt x="1546" y="311"/>
                    <a:pt x="1644" y="326"/>
                  </a:cubicBezTo>
                  <a:cubicBezTo>
                    <a:pt x="1677" y="343"/>
                    <a:pt x="1719" y="357"/>
                    <a:pt x="1743" y="387"/>
                  </a:cubicBezTo>
                  <a:cubicBezTo>
                    <a:pt x="1796" y="454"/>
                    <a:pt x="1811" y="454"/>
                    <a:pt x="1766" y="440"/>
                  </a:cubicBezTo>
                  <a:cubicBezTo>
                    <a:pt x="1748" y="427"/>
                    <a:pt x="1730" y="415"/>
                    <a:pt x="1712" y="402"/>
                  </a:cubicBezTo>
                  <a:cubicBezTo>
                    <a:pt x="1705" y="397"/>
                    <a:pt x="1728" y="406"/>
                    <a:pt x="1735" y="409"/>
                  </a:cubicBezTo>
                  <a:cubicBezTo>
                    <a:pt x="1751" y="416"/>
                    <a:pt x="1781" y="432"/>
                    <a:pt x="1796" y="440"/>
                  </a:cubicBezTo>
                  <a:cubicBezTo>
                    <a:pt x="1822" y="508"/>
                    <a:pt x="1832" y="517"/>
                    <a:pt x="1803" y="478"/>
                  </a:cubicBezTo>
                  <a:cubicBezTo>
                    <a:pt x="1801" y="468"/>
                    <a:pt x="1789" y="454"/>
                    <a:pt x="1796" y="447"/>
                  </a:cubicBezTo>
                  <a:cubicBezTo>
                    <a:pt x="1805" y="438"/>
                    <a:pt x="1844" y="467"/>
                    <a:pt x="1849" y="470"/>
                  </a:cubicBezTo>
                  <a:cubicBezTo>
                    <a:pt x="1854" y="487"/>
                    <a:pt x="1863" y="518"/>
                    <a:pt x="1872" y="531"/>
                  </a:cubicBezTo>
                  <a:cubicBezTo>
                    <a:pt x="1877" y="538"/>
                    <a:pt x="1888" y="540"/>
                    <a:pt x="1894" y="546"/>
                  </a:cubicBezTo>
                  <a:cubicBezTo>
                    <a:pt x="1903" y="555"/>
                    <a:pt x="1909" y="566"/>
                    <a:pt x="1917" y="576"/>
                  </a:cubicBezTo>
                  <a:cubicBezTo>
                    <a:pt x="1893" y="503"/>
                    <a:pt x="1917" y="554"/>
                    <a:pt x="1864" y="493"/>
                  </a:cubicBezTo>
                  <a:cubicBezTo>
                    <a:pt x="1858" y="486"/>
                    <a:pt x="1843" y="476"/>
                    <a:pt x="1849" y="470"/>
                  </a:cubicBezTo>
                  <a:cubicBezTo>
                    <a:pt x="1855" y="464"/>
                    <a:pt x="1864" y="481"/>
                    <a:pt x="1872" y="485"/>
                  </a:cubicBezTo>
                  <a:cubicBezTo>
                    <a:pt x="1990" y="551"/>
                    <a:pt x="1850" y="467"/>
                    <a:pt x="1955" y="531"/>
                  </a:cubicBezTo>
                  <a:cubicBezTo>
                    <a:pt x="1987" y="573"/>
                    <a:pt x="2016" y="643"/>
                    <a:pt x="2069" y="659"/>
                  </a:cubicBezTo>
                  <a:cubicBezTo>
                    <a:pt x="2013" y="592"/>
                    <a:pt x="2064" y="648"/>
                    <a:pt x="2008" y="599"/>
                  </a:cubicBezTo>
                  <a:cubicBezTo>
                    <a:pt x="2000" y="592"/>
                    <a:pt x="1993" y="583"/>
                    <a:pt x="1985" y="576"/>
                  </a:cubicBezTo>
                  <a:cubicBezTo>
                    <a:pt x="1978" y="570"/>
                    <a:pt x="1957" y="555"/>
                    <a:pt x="1963" y="561"/>
                  </a:cubicBezTo>
                  <a:cubicBezTo>
                    <a:pt x="2005" y="603"/>
                    <a:pt x="2048" y="641"/>
                    <a:pt x="2084" y="690"/>
                  </a:cubicBezTo>
                  <a:cubicBezTo>
                    <a:pt x="2086" y="697"/>
                    <a:pt x="2096" y="718"/>
                    <a:pt x="2091" y="712"/>
                  </a:cubicBezTo>
                  <a:cubicBezTo>
                    <a:pt x="2081" y="700"/>
                    <a:pt x="2071" y="688"/>
                    <a:pt x="2061" y="675"/>
                  </a:cubicBezTo>
                  <a:cubicBezTo>
                    <a:pt x="2056" y="668"/>
                    <a:pt x="2037" y="652"/>
                    <a:pt x="2046" y="652"/>
                  </a:cubicBezTo>
                  <a:cubicBezTo>
                    <a:pt x="2059" y="652"/>
                    <a:pt x="2065" y="669"/>
                    <a:pt x="2076" y="675"/>
                  </a:cubicBezTo>
                  <a:cubicBezTo>
                    <a:pt x="2088" y="682"/>
                    <a:pt x="2101" y="685"/>
                    <a:pt x="2114" y="690"/>
                  </a:cubicBezTo>
                  <a:cubicBezTo>
                    <a:pt x="2131" y="723"/>
                    <a:pt x="2151" y="732"/>
                    <a:pt x="2167" y="766"/>
                  </a:cubicBezTo>
                  <a:cubicBezTo>
                    <a:pt x="2172" y="761"/>
                    <a:pt x="2180" y="757"/>
                    <a:pt x="2182" y="750"/>
                  </a:cubicBezTo>
                  <a:cubicBezTo>
                    <a:pt x="2184" y="742"/>
                    <a:pt x="2179" y="735"/>
                    <a:pt x="2175" y="728"/>
                  </a:cubicBezTo>
                  <a:cubicBezTo>
                    <a:pt x="2162" y="705"/>
                    <a:pt x="2126" y="700"/>
                    <a:pt x="2205" y="728"/>
                  </a:cubicBezTo>
                  <a:cubicBezTo>
                    <a:pt x="2215" y="738"/>
                    <a:pt x="2226" y="747"/>
                    <a:pt x="2235" y="758"/>
                  </a:cubicBezTo>
                  <a:cubicBezTo>
                    <a:pt x="2243" y="767"/>
                    <a:pt x="2270" y="791"/>
                    <a:pt x="2258" y="788"/>
                  </a:cubicBezTo>
                  <a:cubicBezTo>
                    <a:pt x="2237" y="782"/>
                    <a:pt x="2224" y="760"/>
                    <a:pt x="2205" y="750"/>
                  </a:cubicBezTo>
                  <a:cubicBezTo>
                    <a:pt x="2177" y="735"/>
                    <a:pt x="2096" y="715"/>
                    <a:pt x="2069" y="705"/>
                  </a:cubicBezTo>
                  <a:cubicBezTo>
                    <a:pt x="2033" y="691"/>
                    <a:pt x="1998" y="674"/>
                    <a:pt x="1963" y="659"/>
                  </a:cubicBezTo>
                  <a:cubicBezTo>
                    <a:pt x="1955" y="655"/>
                    <a:pt x="1932" y="648"/>
                    <a:pt x="1940" y="644"/>
                  </a:cubicBezTo>
                  <a:cubicBezTo>
                    <a:pt x="1944" y="642"/>
                    <a:pt x="2023" y="664"/>
                    <a:pt x="2031" y="667"/>
                  </a:cubicBezTo>
                  <a:cubicBezTo>
                    <a:pt x="2124" y="700"/>
                    <a:pt x="2045" y="678"/>
                    <a:pt x="2144" y="728"/>
                  </a:cubicBezTo>
                  <a:cubicBezTo>
                    <a:pt x="2158" y="735"/>
                    <a:pt x="2175" y="736"/>
                    <a:pt x="2190" y="743"/>
                  </a:cubicBezTo>
                  <a:cubicBezTo>
                    <a:pt x="2214" y="754"/>
                    <a:pt x="2235" y="769"/>
                    <a:pt x="2258" y="781"/>
                  </a:cubicBezTo>
                  <a:cubicBezTo>
                    <a:pt x="2293" y="799"/>
                    <a:pt x="2364" y="834"/>
                    <a:pt x="2364" y="834"/>
                  </a:cubicBezTo>
                  <a:cubicBezTo>
                    <a:pt x="2346" y="809"/>
                    <a:pt x="2284" y="764"/>
                    <a:pt x="2258" y="750"/>
                  </a:cubicBezTo>
                  <a:cubicBezTo>
                    <a:pt x="2237" y="739"/>
                    <a:pt x="2168" y="720"/>
                    <a:pt x="2190" y="728"/>
                  </a:cubicBezTo>
                  <a:cubicBezTo>
                    <a:pt x="2210" y="735"/>
                    <a:pt x="2232" y="740"/>
                    <a:pt x="2251" y="750"/>
                  </a:cubicBezTo>
                  <a:cubicBezTo>
                    <a:pt x="2267" y="758"/>
                    <a:pt x="2280" y="772"/>
                    <a:pt x="2296" y="781"/>
                  </a:cubicBezTo>
                  <a:cubicBezTo>
                    <a:pt x="2313" y="790"/>
                    <a:pt x="2331" y="796"/>
                    <a:pt x="2349" y="803"/>
                  </a:cubicBezTo>
                  <a:cubicBezTo>
                    <a:pt x="2359" y="813"/>
                    <a:pt x="2370" y="823"/>
                    <a:pt x="2379" y="834"/>
                  </a:cubicBezTo>
                  <a:cubicBezTo>
                    <a:pt x="2386" y="843"/>
                    <a:pt x="2395" y="853"/>
                    <a:pt x="2395" y="864"/>
                  </a:cubicBezTo>
                  <a:cubicBezTo>
                    <a:pt x="2395" y="871"/>
                    <a:pt x="2384" y="854"/>
                    <a:pt x="2379" y="849"/>
                  </a:cubicBezTo>
                  <a:cubicBezTo>
                    <a:pt x="2371" y="841"/>
                    <a:pt x="2365" y="833"/>
                    <a:pt x="2357" y="826"/>
                  </a:cubicBezTo>
                  <a:cubicBezTo>
                    <a:pt x="2347" y="818"/>
                    <a:pt x="2321" y="815"/>
                    <a:pt x="2326" y="803"/>
                  </a:cubicBezTo>
                  <a:cubicBezTo>
                    <a:pt x="2331" y="791"/>
                    <a:pt x="2352" y="807"/>
                    <a:pt x="2364" y="811"/>
                  </a:cubicBezTo>
                  <a:cubicBezTo>
                    <a:pt x="2392" y="820"/>
                    <a:pt x="2431" y="839"/>
                    <a:pt x="2455" y="856"/>
                  </a:cubicBezTo>
                  <a:cubicBezTo>
                    <a:pt x="2464" y="862"/>
                    <a:pt x="2488" y="884"/>
                    <a:pt x="2478" y="879"/>
                  </a:cubicBezTo>
                  <a:cubicBezTo>
                    <a:pt x="2463" y="872"/>
                    <a:pt x="2454" y="857"/>
                    <a:pt x="2440" y="849"/>
                  </a:cubicBezTo>
                  <a:cubicBezTo>
                    <a:pt x="2421" y="837"/>
                    <a:pt x="2400" y="828"/>
                    <a:pt x="2379" y="819"/>
                  </a:cubicBezTo>
                  <a:cubicBezTo>
                    <a:pt x="2364" y="813"/>
                    <a:pt x="2318" y="803"/>
                    <a:pt x="2334" y="803"/>
                  </a:cubicBezTo>
                  <a:cubicBezTo>
                    <a:pt x="2357" y="803"/>
                    <a:pt x="2380" y="812"/>
                    <a:pt x="2402" y="819"/>
                  </a:cubicBezTo>
                  <a:cubicBezTo>
                    <a:pt x="2433" y="829"/>
                    <a:pt x="2493" y="856"/>
                    <a:pt x="2493" y="856"/>
                  </a:cubicBezTo>
                  <a:cubicBezTo>
                    <a:pt x="2498" y="861"/>
                    <a:pt x="2528" y="894"/>
                    <a:pt x="2539" y="894"/>
                  </a:cubicBezTo>
                  <a:cubicBezTo>
                    <a:pt x="2546" y="894"/>
                    <a:pt x="2529" y="883"/>
                    <a:pt x="2523" y="879"/>
                  </a:cubicBezTo>
                  <a:cubicBezTo>
                    <a:pt x="2457" y="828"/>
                    <a:pt x="2493" y="851"/>
                    <a:pt x="2448" y="834"/>
                  </a:cubicBezTo>
                  <a:cubicBezTo>
                    <a:pt x="2435" y="829"/>
                    <a:pt x="2396" y="817"/>
                    <a:pt x="2410" y="819"/>
                  </a:cubicBezTo>
                  <a:cubicBezTo>
                    <a:pt x="2443" y="823"/>
                    <a:pt x="2508" y="841"/>
                    <a:pt x="2508" y="841"/>
                  </a:cubicBezTo>
                  <a:cubicBezTo>
                    <a:pt x="2526" y="854"/>
                    <a:pt x="2543" y="866"/>
                    <a:pt x="2561" y="879"/>
                  </a:cubicBezTo>
                  <a:cubicBezTo>
                    <a:pt x="2573" y="888"/>
                    <a:pt x="2536" y="864"/>
                    <a:pt x="2523" y="856"/>
                  </a:cubicBezTo>
                  <a:cubicBezTo>
                    <a:pt x="2516" y="851"/>
                    <a:pt x="2508" y="846"/>
                    <a:pt x="2501" y="841"/>
                  </a:cubicBezTo>
                  <a:cubicBezTo>
                    <a:pt x="2539" y="829"/>
                    <a:pt x="2557" y="852"/>
                    <a:pt x="2592" y="864"/>
                  </a:cubicBezTo>
                  <a:cubicBezTo>
                    <a:pt x="2628" y="876"/>
                    <a:pt x="2662" y="880"/>
                    <a:pt x="2698" y="894"/>
                  </a:cubicBezTo>
                  <a:cubicBezTo>
                    <a:pt x="2679" y="876"/>
                    <a:pt x="2666" y="867"/>
                    <a:pt x="2645" y="8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5"/>
            <p:cNvSpPr/>
            <p:nvPr/>
          </p:nvSpPr>
          <p:spPr>
            <a:xfrm>
              <a:off x="1955520" y="3979800"/>
              <a:ext cx="2333520" cy="1780920"/>
            </a:xfrm>
            <a:custGeom>
              <a:avLst/>
              <a:gdLst/>
              <a:ahLst/>
              <a:rect l="l" t="t" r="r" b="b"/>
              <a:pathLst>
                <a:path w="1470" h="1122">
                  <a:moveTo>
                    <a:pt x="37" y="1122"/>
                  </a:moveTo>
                  <a:cubicBezTo>
                    <a:pt x="29" y="1112"/>
                    <a:pt x="20" y="1103"/>
                    <a:pt x="14" y="1092"/>
                  </a:cubicBezTo>
                  <a:cubicBezTo>
                    <a:pt x="10" y="1085"/>
                    <a:pt x="0" y="1072"/>
                    <a:pt x="7" y="1069"/>
                  </a:cubicBezTo>
                  <a:cubicBezTo>
                    <a:pt x="21" y="1063"/>
                    <a:pt x="37" y="1074"/>
                    <a:pt x="52" y="1076"/>
                  </a:cubicBezTo>
                  <a:cubicBezTo>
                    <a:pt x="113" y="1097"/>
                    <a:pt x="45" y="1075"/>
                    <a:pt x="45" y="1069"/>
                  </a:cubicBezTo>
                  <a:cubicBezTo>
                    <a:pt x="45" y="1059"/>
                    <a:pt x="65" y="1064"/>
                    <a:pt x="75" y="1061"/>
                  </a:cubicBezTo>
                  <a:cubicBezTo>
                    <a:pt x="75" y="1061"/>
                    <a:pt x="100" y="1056"/>
                    <a:pt x="113" y="1054"/>
                  </a:cubicBezTo>
                  <a:cubicBezTo>
                    <a:pt x="162" y="1017"/>
                    <a:pt x="173" y="1022"/>
                    <a:pt x="242" y="1016"/>
                  </a:cubicBezTo>
                  <a:cubicBezTo>
                    <a:pt x="252" y="1011"/>
                    <a:pt x="262" y="1005"/>
                    <a:pt x="272" y="1001"/>
                  </a:cubicBezTo>
                  <a:cubicBezTo>
                    <a:pt x="305" y="988"/>
                    <a:pt x="319" y="998"/>
                    <a:pt x="272" y="985"/>
                  </a:cubicBezTo>
                  <a:cubicBezTo>
                    <a:pt x="302" y="957"/>
                    <a:pt x="330" y="962"/>
                    <a:pt x="302" y="932"/>
                  </a:cubicBezTo>
                  <a:cubicBezTo>
                    <a:pt x="308" y="930"/>
                    <a:pt x="348" y="920"/>
                    <a:pt x="348" y="910"/>
                  </a:cubicBezTo>
                  <a:cubicBezTo>
                    <a:pt x="348" y="901"/>
                    <a:pt x="333" y="900"/>
                    <a:pt x="325" y="895"/>
                  </a:cubicBezTo>
                  <a:cubicBezTo>
                    <a:pt x="341" y="848"/>
                    <a:pt x="319" y="894"/>
                    <a:pt x="363" y="857"/>
                  </a:cubicBezTo>
                  <a:cubicBezTo>
                    <a:pt x="380" y="843"/>
                    <a:pt x="388" y="821"/>
                    <a:pt x="401" y="804"/>
                  </a:cubicBezTo>
                  <a:cubicBezTo>
                    <a:pt x="398" y="796"/>
                    <a:pt x="388" y="788"/>
                    <a:pt x="393" y="781"/>
                  </a:cubicBezTo>
                  <a:cubicBezTo>
                    <a:pt x="399" y="772"/>
                    <a:pt x="424" y="784"/>
                    <a:pt x="424" y="773"/>
                  </a:cubicBezTo>
                  <a:cubicBezTo>
                    <a:pt x="424" y="762"/>
                    <a:pt x="403" y="769"/>
                    <a:pt x="393" y="766"/>
                  </a:cubicBezTo>
                  <a:cubicBezTo>
                    <a:pt x="383" y="764"/>
                    <a:pt x="373" y="761"/>
                    <a:pt x="363" y="758"/>
                  </a:cubicBezTo>
                  <a:cubicBezTo>
                    <a:pt x="491" y="750"/>
                    <a:pt x="441" y="763"/>
                    <a:pt x="507" y="720"/>
                  </a:cubicBezTo>
                  <a:cubicBezTo>
                    <a:pt x="474" y="710"/>
                    <a:pt x="362" y="730"/>
                    <a:pt x="469" y="713"/>
                  </a:cubicBezTo>
                  <a:cubicBezTo>
                    <a:pt x="529" y="670"/>
                    <a:pt x="501" y="682"/>
                    <a:pt x="545" y="667"/>
                  </a:cubicBezTo>
                  <a:cubicBezTo>
                    <a:pt x="553" y="659"/>
                    <a:pt x="579" y="646"/>
                    <a:pt x="568" y="644"/>
                  </a:cubicBezTo>
                  <a:cubicBezTo>
                    <a:pt x="507" y="635"/>
                    <a:pt x="355" y="666"/>
                    <a:pt x="499" y="644"/>
                  </a:cubicBezTo>
                  <a:cubicBezTo>
                    <a:pt x="512" y="642"/>
                    <a:pt x="524" y="639"/>
                    <a:pt x="537" y="637"/>
                  </a:cubicBezTo>
                  <a:cubicBezTo>
                    <a:pt x="582" y="615"/>
                    <a:pt x="625" y="593"/>
                    <a:pt x="674" y="584"/>
                  </a:cubicBezTo>
                  <a:cubicBezTo>
                    <a:pt x="659" y="581"/>
                    <a:pt x="641" y="585"/>
                    <a:pt x="628" y="576"/>
                  </a:cubicBezTo>
                  <a:cubicBezTo>
                    <a:pt x="621" y="572"/>
                    <a:pt x="643" y="572"/>
                    <a:pt x="651" y="569"/>
                  </a:cubicBezTo>
                  <a:cubicBezTo>
                    <a:pt x="666" y="564"/>
                    <a:pt x="696" y="553"/>
                    <a:pt x="696" y="553"/>
                  </a:cubicBezTo>
                  <a:cubicBezTo>
                    <a:pt x="638" y="534"/>
                    <a:pt x="715" y="505"/>
                    <a:pt x="734" y="493"/>
                  </a:cubicBezTo>
                  <a:cubicBezTo>
                    <a:pt x="716" y="484"/>
                    <a:pt x="699" y="471"/>
                    <a:pt x="681" y="463"/>
                  </a:cubicBezTo>
                  <a:cubicBezTo>
                    <a:pt x="667" y="456"/>
                    <a:pt x="636" y="447"/>
                    <a:pt x="636" y="447"/>
                  </a:cubicBezTo>
                  <a:cubicBezTo>
                    <a:pt x="728" y="436"/>
                    <a:pt x="694" y="445"/>
                    <a:pt x="658" y="409"/>
                  </a:cubicBezTo>
                  <a:cubicBezTo>
                    <a:pt x="734" y="399"/>
                    <a:pt x="722" y="404"/>
                    <a:pt x="674" y="372"/>
                  </a:cubicBezTo>
                  <a:cubicBezTo>
                    <a:pt x="684" y="367"/>
                    <a:pt x="702" y="367"/>
                    <a:pt x="704" y="356"/>
                  </a:cubicBezTo>
                  <a:cubicBezTo>
                    <a:pt x="706" y="346"/>
                    <a:pt x="679" y="344"/>
                    <a:pt x="681" y="334"/>
                  </a:cubicBezTo>
                  <a:cubicBezTo>
                    <a:pt x="683" y="323"/>
                    <a:pt x="701" y="323"/>
                    <a:pt x="712" y="319"/>
                  </a:cubicBezTo>
                  <a:cubicBezTo>
                    <a:pt x="732" y="312"/>
                    <a:pt x="772" y="303"/>
                    <a:pt x="772" y="303"/>
                  </a:cubicBezTo>
                  <a:cubicBezTo>
                    <a:pt x="705" y="205"/>
                    <a:pt x="942" y="334"/>
                    <a:pt x="848" y="273"/>
                  </a:cubicBezTo>
                  <a:cubicBezTo>
                    <a:pt x="923" y="253"/>
                    <a:pt x="853" y="282"/>
                    <a:pt x="863" y="243"/>
                  </a:cubicBezTo>
                  <a:cubicBezTo>
                    <a:pt x="865" y="235"/>
                    <a:pt x="878" y="237"/>
                    <a:pt x="886" y="235"/>
                  </a:cubicBezTo>
                  <a:cubicBezTo>
                    <a:pt x="899" y="232"/>
                    <a:pt x="911" y="230"/>
                    <a:pt x="924" y="228"/>
                  </a:cubicBezTo>
                  <a:cubicBezTo>
                    <a:pt x="914" y="225"/>
                    <a:pt x="903" y="224"/>
                    <a:pt x="893" y="220"/>
                  </a:cubicBezTo>
                  <a:cubicBezTo>
                    <a:pt x="885" y="216"/>
                    <a:pt x="863" y="209"/>
                    <a:pt x="871" y="205"/>
                  </a:cubicBezTo>
                  <a:cubicBezTo>
                    <a:pt x="891" y="195"/>
                    <a:pt x="916" y="200"/>
                    <a:pt x="939" y="197"/>
                  </a:cubicBezTo>
                  <a:cubicBezTo>
                    <a:pt x="880" y="168"/>
                    <a:pt x="869" y="170"/>
                    <a:pt x="954" y="159"/>
                  </a:cubicBezTo>
                  <a:cubicBezTo>
                    <a:pt x="910" y="131"/>
                    <a:pt x="936" y="156"/>
                    <a:pt x="969" y="129"/>
                  </a:cubicBezTo>
                  <a:cubicBezTo>
                    <a:pt x="975" y="124"/>
                    <a:pt x="974" y="114"/>
                    <a:pt x="977" y="106"/>
                  </a:cubicBezTo>
                  <a:cubicBezTo>
                    <a:pt x="1012" y="109"/>
                    <a:pt x="1048" y="119"/>
                    <a:pt x="1083" y="114"/>
                  </a:cubicBezTo>
                  <a:cubicBezTo>
                    <a:pt x="1091" y="113"/>
                    <a:pt x="1069" y="97"/>
                    <a:pt x="1075" y="91"/>
                  </a:cubicBezTo>
                  <a:cubicBezTo>
                    <a:pt x="1077" y="89"/>
                    <a:pt x="1160" y="77"/>
                    <a:pt x="1166" y="76"/>
                  </a:cubicBezTo>
                  <a:cubicBezTo>
                    <a:pt x="1121" y="45"/>
                    <a:pt x="1166" y="53"/>
                    <a:pt x="1197" y="46"/>
                  </a:cubicBezTo>
                  <a:cubicBezTo>
                    <a:pt x="1119" y="19"/>
                    <a:pt x="1259" y="51"/>
                    <a:pt x="1288" y="61"/>
                  </a:cubicBezTo>
                  <a:cubicBezTo>
                    <a:pt x="1332" y="45"/>
                    <a:pt x="1351" y="47"/>
                    <a:pt x="1401" y="53"/>
                  </a:cubicBezTo>
                  <a:cubicBezTo>
                    <a:pt x="1409" y="48"/>
                    <a:pt x="1415" y="41"/>
                    <a:pt x="1424" y="38"/>
                  </a:cubicBezTo>
                  <a:cubicBezTo>
                    <a:pt x="1438" y="33"/>
                    <a:pt x="1457" y="40"/>
                    <a:pt x="1469" y="31"/>
                  </a:cubicBezTo>
                  <a:cubicBezTo>
                    <a:pt x="1470" y="30"/>
                    <a:pt x="1439" y="0"/>
                    <a:pt x="143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16"/>
            <p:cNvSpPr/>
            <p:nvPr/>
          </p:nvSpPr>
          <p:spPr>
            <a:xfrm>
              <a:off x="2082600" y="3997080"/>
              <a:ext cx="2049480" cy="1715760"/>
            </a:xfrm>
            <a:custGeom>
              <a:avLst/>
              <a:gdLst/>
              <a:ahLst/>
              <a:rect l="l" t="t" r="r" b="b"/>
              <a:pathLst>
                <a:path w="1291" h="1081">
                  <a:moveTo>
                    <a:pt x="18" y="1081"/>
                  </a:moveTo>
                  <a:cubicBezTo>
                    <a:pt x="13" y="1076"/>
                    <a:pt x="0" y="1072"/>
                    <a:pt x="2" y="1065"/>
                  </a:cubicBezTo>
                  <a:cubicBezTo>
                    <a:pt x="4" y="1057"/>
                    <a:pt x="17" y="1059"/>
                    <a:pt x="25" y="1058"/>
                  </a:cubicBezTo>
                  <a:cubicBezTo>
                    <a:pt x="53" y="1054"/>
                    <a:pt x="81" y="1053"/>
                    <a:pt x="109" y="1050"/>
                  </a:cubicBezTo>
                  <a:cubicBezTo>
                    <a:pt x="62" y="1036"/>
                    <a:pt x="101" y="1036"/>
                    <a:pt x="124" y="1012"/>
                  </a:cubicBezTo>
                  <a:cubicBezTo>
                    <a:pt x="55" y="991"/>
                    <a:pt x="148" y="1023"/>
                    <a:pt x="139" y="997"/>
                  </a:cubicBezTo>
                  <a:cubicBezTo>
                    <a:pt x="138" y="995"/>
                    <a:pt x="53" y="970"/>
                    <a:pt x="25" y="959"/>
                  </a:cubicBezTo>
                  <a:cubicBezTo>
                    <a:pt x="77" y="949"/>
                    <a:pt x="65" y="948"/>
                    <a:pt x="131" y="959"/>
                  </a:cubicBezTo>
                  <a:cubicBezTo>
                    <a:pt x="139" y="960"/>
                    <a:pt x="160" y="973"/>
                    <a:pt x="154" y="967"/>
                  </a:cubicBezTo>
                  <a:cubicBezTo>
                    <a:pt x="146" y="959"/>
                    <a:pt x="134" y="957"/>
                    <a:pt x="124" y="952"/>
                  </a:cubicBezTo>
                  <a:cubicBezTo>
                    <a:pt x="154" y="941"/>
                    <a:pt x="184" y="937"/>
                    <a:pt x="215" y="929"/>
                  </a:cubicBezTo>
                  <a:cubicBezTo>
                    <a:pt x="207" y="924"/>
                    <a:pt x="192" y="923"/>
                    <a:pt x="192" y="914"/>
                  </a:cubicBezTo>
                  <a:cubicBezTo>
                    <a:pt x="192" y="906"/>
                    <a:pt x="208" y="910"/>
                    <a:pt x="215" y="906"/>
                  </a:cubicBezTo>
                  <a:cubicBezTo>
                    <a:pt x="232" y="897"/>
                    <a:pt x="240" y="888"/>
                    <a:pt x="253" y="876"/>
                  </a:cubicBezTo>
                  <a:cubicBezTo>
                    <a:pt x="223" y="866"/>
                    <a:pt x="199" y="848"/>
                    <a:pt x="169" y="838"/>
                  </a:cubicBezTo>
                  <a:cubicBezTo>
                    <a:pt x="194" y="835"/>
                    <a:pt x="220" y="837"/>
                    <a:pt x="245" y="830"/>
                  </a:cubicBezTo>
                  <a:cubicBezTo>
                    <a:pt x="253" y="828"/>
                    <a:pt x="218" y="830"/>
                    <a:pt x="222" y="823"/>
                  </a:cubicBezTo>
                  <a:cubicBezTo>
                    <a:pt x="232" y="807"/>
                    <a:pt x="268" y="793"/>
                    <a:pt x="268" y="793"/>
                  </a:cubicBezTo>
                  <a:cubicBezTo>
                    <a:pt x="258" y="790"/>
                    <a:pt x="241" y="795"/>
                    <a:pt x="237" y="785"/>
                  </a:cubicBezTo>
                  <a:cubicBezTo>
                    <a:pt x="234" y="776"/>
                    <a:pt x="252" y="774"/>
                    <a:pt x="260" y="770"/>
                  </a:cubicBezTo>
                  <a:cubicBezTo>
                    <a:pt x="286" y="757"/>
                    <a:pt x="317" y="758"/>
                    <a:pt x="344" y="755"/>
                  </a:cubicBezTo>
                  <a:cubicBezTo>
                    <a:pt x="334" y="747"/>
                    <a:pt x="324" y="739"/>
                    <a:pt x="313" y="732"/>
                  </a:cubicBezTo>
                  <a:cubicBezTo>
                    <a:pt x="304" y="726"/>
                    <a:pt x="277" y="726"/>
                    <a:pt x="283" y="717"/>
                  </a:cubicBezTo>
                  <a:cubicBezTo>
                    <a:pt x="291" y="704"/>
                    <a:pt x="313" y="711"/>
                    <a:pt x="328" y="709"/>
                  </a:cubicBezTo>
                  <a:cubicBezTo>
                    <a:pt x="353" y="706"/>
                    <a:pt x="379" y="704"/>
                    <a:pt x="404" y="702"/>
                  </a:cubicBezTo>
                  <a:cubicBezTo>
                    <a:pt x="396" y="697"/>
                    <a:pt x="390" y="689"/>
                    <a:pt x="381" y="686"/>
                  </a:cubicBezTo>
                  <a:cubicBezTo>
                    <a:pt x="369" y="682"/>
                    <a:pt x="353" y="688"/>
                    <a:pt x="344" y="679"/>
                  </a:cubicBezTo>
                  <a:cubicBezTo>
                    <a:pt x="338" y="673"/>
                    <a:pt x="359" y="673"/>
                    <a:pt x="366" y="671"/>
                  </a:cubicBezTo>
                  <a:cubicBezTo>
                    <a:pt x="374" y="668"/>
                    <a:pt x="381" y="666"/>
                    <a:pt x="389" y="664"/>
                  </a:cubicBezTo>
                  <a:cubicBezTo>
                    <a:pt x="386" y="654"/>
                    <a:pt x="387" y="642"/>
                    <a:pt x="381" y="633"/>
                  </a:cubicBezTo>
                  <a:cubicBezTo>
                    <a:pt x="376" y="626"/>
                    <a:pt x="353" y="624"/>
                    <a:pt x="359" y="618"/>
                  </a:cubicBezTo>
                  <a:cubicBezTo>
                    <a:pt x="370" y="608"/>
                    <a:pt x="389" y="613"/>
                    <a:pt x="404" y="611"/>
                  </a:cubicBezTo>
                  <a:cubicBezTo>
                    <a:pt x="419" y="608"/>
                    <a:pt x="435" y="606"/>
                    <a:pt x="450" y="603"/>
                  </a:cubicBezTo>
                  <a:cubicBezTo>
                    <a:pt x="445" y="595"/>
                    <a:pt x="442" y="585"/>
                    <a:pt x="434" y="580"/>
                  </a:cubicBezTo>
                  <a:cubicBezTo>
                    <a:pt x="423" y="574"/>
                    <a:pt x="386" y="580"/>
                    <a:pt x="397" y="573"/>
                  </a:cubicBezTo>
                  <a:cubicBezTo>
                    <a:pt x="406" y="567"/>
                    <a:pt x="546" y="558"/>
                    <a:pt x="548" y="558"/>
                  </a:cubicBezTo>
                  <a:cubicBezTo>
                    <a:pt x="540" y="553"/>
                    <a:pt x="533" y="546"/>
                    <a:pt x="525" y="542"/>
                  </a:cubicBezTo>
                  <a:cubicBezTo>
                    <a:pt x="513" y="536"/>
                    <a:pt x="492" y="540"/>
                    <a:pt x="488" y="527"/>
                  </a:cubicBezTo>
                  <a:cubicBezTo>
                    <a:pt x="485" y="517"/>
                    <a:pt x="508" y="522"/>
                    <a:pt x="518" y="520"/>
                  </a:cubicBezTo>
                  <a:cubicBezTo>
                    <a:pt x="538" y="517"/>
                    <a:pt x="558" y="515"/>
                    <a:pt x="578" y="512"/>
                  </a:cubicBezTo>
                  <a:cubicBezTo>
                    <a:pt x="537" y="495"/>
                    <a:pt x="500" y="475"/>
                    <a:pt x="457" y="467"/>
                  </a:cubicBezTo>
                  <a:cubicBezTo>
                    <a:pt x="495" y="464"/>
                    <a:pt x="533" y="466"/>
                    <a:pt x="571" y="459"/>
                  </a:cubicBezTo>
                  <a:cubicBezTo>
                    <a:pt x="581" y="457"/>
                    <a:pt x="551" y="455"/>
                    <a:pt x="541" y="452"/>
                  </a:cubicBezTo>
                  <a:cubicBezTo>
                    <a:pt x="525" y="447"/>
                    <a:pt x="495" y="436"/>
                    <a:pt x="495" y="436"/>
                  </a:cubicBezTo>
                  <a:cubicBezTo>
                    <a:pt x="535" y="431"/>
                    <a:pt x="576" y="431"/>
                    <a:pt x="616" y="421"/>
                  </a:cubicBezTo>
                  <a:cubicBezTo>
                    <a:pt x="626" y="419"/>
                    <a:pt x="595" y="419"/>
                    <a:pt x="586" y="414"/>
                  </a:cubicBezTo>
                  <a:cubicBezTo>
                    <a:pt x="579" y="411"/>
                    <a:pt x="576" y="403"/>
                    <a:pt x="571" y="398"/>
                  </a:cubicBezTo>
                  <a:cubicBezTo>
                    <a:pt x="581" y="396"/>
                    <a:pt x="604" y="401"/>
                    <a:pt x="601" y="391"/>
                  </a:cubicBezTo>
                  <a:cubicBezTo>
                    <a:pt x="595" y="370"/>
                    <a:pt x="556" y="345"/>
                    <a:pt x="556" y="345"/>
                  </a:cubicBezTo>
                  <a:cubicBezTo>
                    <a:pt x="574" y="343"/>
                    <a:pt x="593" y="346"/>
                    <a:pt x="609" y="338"/>
                  </a:cubicBezTo>
                  <a:cubicBezTo>
                    <a:pt x="616" y="334"/>
                    <a:pt x="586" y="338"/>
                    <a:pt x="586" y="330"/>
                  </a:cubicBezTo>
                  <a:cubicBezTo>
                    <a:pt x="586" y="321"/>
                    <a:pt x="600" y="318"/>
                    <a:pt x="609" y="315"/>
                  </a:cubicBezTo>
                  <a:cubicBezTo>
                    <a:pt x="623" y="310"/>
                    <a:pt x="639" y="311"/>
                    <a:pt x="654" y="308"/>
                  </a:cubicBezTo>
                  <a:cubicBezTo>
                    <a:pt x="679" y="303"/>
                    <a:pt x="730" y="292"/>
                    <a:pt x="730" y="292"/>
                  </a:cubicBezTo>
                  <a:cubicBezTo>
                    <a:pt x="717" y="288"/>
                    <a:pt x="665" y="276"/>
                    <a:pt x="692" y="262"/>
                  </a:cubicBezTo>
                  <a:cubicBezTo>
                    <a:pt x="719" y="248"/>
                    <a:pt x="753" y="252"/>
                    <a:pt x="783" y="247"/>
                  </a:cubicBezTo>
                  <a:cubicBezTo>
                    <a:pt x="773" y="239"/>
                    <a:pt x="750" y="236"/>
                    <a:pt x="753" y="224"/>
                  </a:cubicBezTo>
                  <a:cubicBezTo>
                    <a:pt x="756" y="212"/>
                    <a:pt x="778" y="220"/>
                    <a:pt x="791" y="217"/>
                  </a:cubicBezTo>
                  <a:cubicBezTo>
                    <a:pt x="814" y="212"/>
                    <a:pt x="836" y="206"/>
                    <a:pt x="859" y="201"/>
                  </a:cubicBezTo>
                  <a:cubicBezTo>
                    <a:pt x="770" y="180"/>
                    <a:pt x="819" y="179"/>
                    <a:pt x="912" y="171"/>
                  </a:cubicBezTo>
                  <a:cubicBezTo>
                    <a:pt x="883" y="152"/>
                    <a:pt x="870" y="160"/>
                    <a:pt x="859" y="126"/>
                  </a:cubicBezTo>
                  <a:cubicBezTo>
                    <a:pt x="879" y="123"/>
                    <a:pt x="901" y="126"/>
                    <a:pt x="920" y="118"/>
                  </a:cubicBezTo>
                  <a:cubicBezTo>
                    <a:pt x="927" y="115"/>
                    <a:pt x="897" y="118"/>
                    <a:pt x="897" y="110"/>
                  </a:cubicBezTo>
                  <a:cubicBezTo>
                    <a:pt x="897" y="101"/>
                    <a:pt x="911" y="97"/>
                    <a:pt x="920" y="95"/>
                  </a:cubicBezTo>
                  <a:cubicBezTo>
                    <a:pt x="939" y="90"/>
                    <a:pt x="960" y="90"/>
                    <a:pt x="980" y="88"/>
                  </a:cubicBezTo>
                  <a:cubicBezTo>
                    <a:pt x="966" y="83"/>
                    <a:pt x="922" y="74"/>
                    <a:pt x="988" y="65"/>
                  </a:cubicBezTo>
                  <a:cubicBezTo>
                    <a:pt x="996" y="64"/>
                    <a:pt x="1002" y="71"/>
                    <a:pt x="1010" y="73"/>
                  </a:cubicBezTo>
                  <a:cubicBezTo>
                    <a:pt x="1022" y="76"/>
                    <a:pt x="1035" y="78"/>
                    <a:pt x="1048" y="80"/>
                  </a:cubicBezTo>
                  <a:cubicBezTo>
                    <a:pt x="1058" y="78"/>
                    <a:pt x="1079" y="84"/>
                    <a:pt x="1079" y="73"/>
                  </a:cubicBezTo>
                  <a:cubicBezTo>
                    <a:pt x="1079" y="61"/>
                    <a:pt x="1058" y="63"/>
                    <a:pt x="1048" y="57"/>
                  </a:cubicBezTo>
                  <a:cubicBezTo>
                    <a:pt x="1040" y="53"/>
                    <a:pt x="1017" y="43"/>
                    <a:pt x="1026" y="42"/>
                  </a:cubicBezTo>
                  <a:cubicBezTo>
                    <a:pt x="1049" y="39"/>
                    <a:pt x="1071" y="47"/>
                    <a:pt x="1094" y="50"/>
                  </a:cubicBezTo>
                  <a:cubicBezTo>
                    <a:pt x="1091" y="42"/>
                    <a:pt x="1092" y="33"/>
                    <a:pt x="1086" y="27"/>
                  </a:cubicBezTo>
                  <a:cubicBezTo>
                    <a:pt x="1071" y="12"/>
                    <a:pt x="1025" y="28"/>
                    <a:pt x="1101" y="12"/>
                  </a:cubicBezTo>
                  <a:cubicBezTo>
                    <a:pt x="1117" y="15"/>
                    <a:pt x="1196" y="49"/>
                    <a:pt x="1139" y="12"/>
                  </a:cubicBezTo>
                  <a:cubicBezTo>
                    <a:pt x="1175" y="0"/>
                    <a:pt x="1225" y="16"/>
                    <a:pt x="1261" y="20"/>
                  </a:cubicBezTo>
                  <a:cubicBezTo>
                    <a:pt x="1287" y="11"/>
                    <a:pt x="1277" y="18"/>
                    <a:pt x="1291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17"/>
            <p:cNvSpPr/>
            <p:nvPr/>
          </p:nvSpPr>
          <p:spPr>
            <a:xfrm>
              <a:off x="4052520" y="4016160"/>
              <a:ext cx="439920" cy="3255840"/>
            </a:xfrm>
            <a:custGeom>
              <a:avLst/>
              <a:gdLst/>
              <a:ahLst/>
              <a:rect l="l" t="t" r="r" b="b"/>
              <a:pathLst>
                <a:path w="277" h="2051">
                  <a:moveTo>
                    <a:pt x="95" y="0"/>
                  </a:moveTo>
                  <a:cubicBezTo>
                    <a:pt x="93" y="25"/>
                    <a:pt x="92" y="51"/>
                    <a:pt x="88" y="76"/>
                  </a:cubicBezTo>
                  <a:cubicBezTo>
                    <a:pt x="85" y="99"/>
                    <a:pt x="71" y="127"/>
                    <a:pt x="88" y="83"/>
                  </a:cubicBezTo>
                  <a:cubicBezTo>
                    <a:pt x="109" y="28"/>
                    <a:pt x="98" y="64"/>
                    <a:pt x="111" y="15"/>
                  </a:cubicBezTo>
                  <a:cubicBezTo>
                    <a:pt x="123" y="69"/>
                    <a:pt x="121" y="45"/>
                    <a:pt x="111" y="129"/>
                  </a:cubicBezTo>
                  <a:cubicBezTo>
                    <a:pt x="109" y="142"/>
                    <a:pt x="94" y="158"/>
                    <a:pt x="103" y="167"/>
                  </a:cubicBezTo>
                  <a:cubicBezTo>
                    <a:pt x="106" y="170"/>
                    <a:pt x="124" y="119"/>
                    <a:pt x="126" y="114"/>
                  </a:cubicBezTo>
                  <a:cubicBezTo>
                    <a:pt x="129" y="106"/>
                    <a:pt x="133" y="83"/>
                    <a:pt x="133" y="91"/>
                  </a:cubicBezTo>
                  <a:cubicBezTo>
                    <a:pt x="133" y="117"/>
                    <a:pt x="116" y="142"/>
                    <a:pt x="111" y="167"/>
                  </a:cubicBezTo>
                  <a:cubicBezTo>
                    <a:pt x="102" y="206"/>
                    <a:pt x="90" y="241"/>
                    <a:pt x="80" y="280"/>
                  </a:cubicBezTo>
                  <a:cubicBezTo>
                    <a:pt x="93" y="482"/>
                    <a:pt x="84" y="397"/>
                    <a:pt x="111" y="318"/>
                  </a:cubicBezTo>
                  <a:cubicBezTo>
                    <a:pt x="116" y="383"/>
                    <a:pt x="128" y="437"/>
                    <a:pt x="141" y="500"/>
                  </a:cubicBezTo>
                  <a:cubicBezTo>
                    <a:pt x="143" y="490"/>
                    <a:pt x="139" y="476"/>
                    <a:pt x="148" y="470"/>
                  </a:cubicBezTo>
                  <a:cubicBezTo>
                    <a:pt x="154" y="466"/>
                    <a:pt x="164" y="492"/>
                    <a:pt x="164" y="485"/>
                  </a:cubicBezTo>
                  <a:cubicBezTo>
                    <a:pt x="164" y="428"/>
                    <a:pt x="123" y="406"/>
                    <a:pt x="171" y="440"/>
                  </a:cubicBezTo>
                  <a:cubicBezTo>
                    <a:pt x="213" y="502"/>
                    <a:pt x="166" y="411"/>
                    <a:pt x="164" y="409"/>
                  </a:cubicBezTo>
                  <a:cubicBezTo>
                    <a:pt x="153" y="393"/>
                    <a:pt x="138" y="380"/>
                    <a:pt x="126" y="364"/>
                  </a:cubicBezTo>
                  <a:cubicBezTo>
                    <a:pt x="123" y="356"/>
                    <a:pt x="110" y="343"/>
                    <a:pt x="118" y="341"/>
                  </a:cubicBezTo>
                  <a:cubicBezTo>
                    <a:pt x="148" y="333"/>
                    <a:pt x="166" y="371"/>
                    <a:pt x="179" y="386"/>
                  </a:cubicBezTo>
                  <a:cubicBezTo>
                    <a:pt x="184" y="392"/>
                    <a:pt x="199" y="397"/>
                    <a:pt x="194" y="402"/>
                  </a:cubicBezTo>
                  <a:cubicBezTo>
                    <a:pt x="188" y="408"/>
                    <a:pt x="179" y="397"/>
                    <a:pt x="171" y="394"/>
                  </a:cubicBezTo>
                  <a:cubicBezTo>
                    <a:pt x="155" y="378"/>
                    <a:pt x="134" y="365"/>
                    <a:pt x="118" y="349"/>
                  </a:cubicBezTo>
                  <a:cubicBezTo>
                    <a:pt x="103" y="334"/>
                    <a:pt x="93" y="313"/>
                    <a:pt x="80" y="296"/>
                  </a:cubicBezTo>
                  <a:cubicBezTo>
                    <a:pt x="60" y="231"/>
                    <a:pt x="80" y="305"/>
                    <a:pt x="88" y="296"/>
                  </a:cubicBezTo>
                  <a:cubicBezTo>
                    <a:pt x="95" y="288"/>
                    <a:pt x="82" y="275"/>
                    <a:pt x="80" y="265"/>
                  </a:cubicBezTo>
                  <a:cubicBezTo>
                    <a:pt x="69" y="216"/>
                    <a:pt x="73" y="226"/>
                    <a:pt x="73" y="167"/>
                  </a:cubicBezTo>
                  <a:cubicBezTo>
                    <a:pt x="69" y="161"/>
                    <a:pt x="55" y="144"/>
                    <a:pt x="60" y="149"/>
                  </a:cubicBezTo>
                  <a:cubicBezTo>
                    <a:pt x="110" y="199"/>
                    <a:pt x="81" y="183"/>
                    <a:pt x="111" y="273"/>
                  </a:cubicBezTo>
                  <a:cubicBezTo>
                    <a:pt x="120" y="301"/>
                    <a:pt x="132" y="328"/>
                    <a:pt x="141" y="356"/>
                  </a:cubicBezTo>
                  <a:cubicBezTo>
                    <a:pt x="147" y="376"/>
                    <a:pt x="167" y="435"/>
                    <a:pt x="156" y="417"/>
                  </a:cubicBezTo>
                  <a:cubicBezTo>
                    <a:pt x="151" y="409"/>
                    <a:pt x="141" y="394"/>
                    <a:pt x="141" y="394"/>
                  </a:cubicBezTo>
                  <a:cubicBezTo>
                    <a:pt x="181" y="452"/>
                    <a:pt x="209" y="530"/>
                    <a:pt x="209" y="455"/>
                  </a:cubicBezTo>
                  <a:cubicBezTo>
                    <a:pt x="209" y="446"/>
                    <a:pt x="198" y="469"/>
                    <a:pt x="194" y="477"/>
                  </a:cubicBezTo>
                  <a:cubicBezTo>
                    <a:pt x="190" y="484"/>
                    <a:pt x="182" y="515"/>
                    <a:pt x="179" y="523"/>
                  </a:cubicBezTo>
                  <a:cubicBezTo>
                    <a:pt x="176" y="531"/>
                    <a:pt x="163" y="546"/>
                    <a:pt x="171" y="546"/>
                  </a:cubicBezTo>
                  <a:cubicBezTo>
                    <a:pt x="180" y="546"/>
                    <a:pt x="182" y="531"/>
                    <a:pt x="186" y="523"/>
                  </a:cubicBezTo>
                  <a:cubicBezTo>
                    <a:pt x="190" y="516"/>
                    <a:pt x="197" y="493"/>
                    <a:pt x="194" y="500"/>
                  </a:cubicBezTo>
                  <a:cubicBezTo>
                    <a:pt x="188" y="512"/>
                    <a:pt x="183" y="525"/>
                    <a:pt x="179" y="538"/>
                  </a:cubicBezTo>
                  <a:cubicBezTo>
                    <a:pt x="175" y="550"/>
                    <a:pt x="176" y="564"/>
                    <a:pt x="171" y="576"/>
                  </a:cubicBezTo>
                  <a:cubicBezTo>
                    <a:pt x="163" y="592"/>
                    <a:pt x="131" y="636"/>
                    <a:pt x="141" y="621"/>
                  </a:cubicBezTo>
                  <a:cubicBezTo>
                    <a:pt x="154" y="601"/>
                    <a:pt x="179" y="561"/>
                    <a:pt x="179" y="561"/>
                  </a:cubicBezTo>
                  <a:cubicBezTo>
                    <a:pt x="181" y="553"/>
                    <a:pt x="186" y="530"/>
                    <a:pt x="186" y="538"/>
                  </a:cubicBezTo>
                  <a:cubicBezTo>
                    <a:pt x="186" y="599"/>
                    <a:pt x="148" y="653"/>
                    <a:pt x="148" y="712"/>
                  </a:cubicBezTo>
                  <a:cubicBezTo>
                    <a:pt x="148" y="720"/>
                    <a:pt x="153" y="697"/>
                    <a:pt x="156" y="690"/>
                  </a:cubicBezTo>
                  <a:cubicBezTo>
                    <a:pt x="175" y="648"/>
                    <a:pt x="174" y="652"/>
                    <a:pt x="194" y="621"/>
                  </a:cubicBezTo>
                  <a:cubicBezTo>
                    <a:pt x="221" y="662"/>
                    <a:pt x="220" y="727"/>
                    <a:pt x="186" y="765"/>
                  </a:cubicBezTo>
                  <a:cubicBezTo>
                    <a:pt x="181" y="771"/>
                    <a:pt x="192" y="751"/>
                    <a:pt x="194" y="743"/>
                  </a:cubicBezTo>
                  <a:cubicBezTo>
                    <a:pt x="197" y="733"/>
                    <a:pt x="197" y="722"/>
                    <a:pt x="201" y="712"/>
                  </a:cubicBezTo>
                  <a:cubicBezTo>
                    <a:pt x="205" y="704"/>
                    <a:pt x="217" y="699"/>
                    <a:pt x="217" y="690"/>
                  </a:cubicBezTo>
                  <a:cubicBezTo>
                    <a:pt x="217" y="683"/>
                    <a:pt x="206" y="699"/>
                    <a:pt x="201" y="705"/>
                  </a:cubicBezTo>
                  <a:cubicBezTo>
                    <a:pt x="195" y="712"/>
                    <a:pt x="191" y="720"/>
                    <a:pt x="186" y="728"/>
                  </a:cubicBezTo>
                  <a:cubicBezTo>
                    <a:pt x="189" y="667"/>
                    <a:pt x="185" y="606"/>
                    <a:pt x="194" y="546"/>
                  </a:cubicBezTo>
                  <a:cubicBezTo>
                    <a:pt x="195" y="537"/>
                    <a:pt x="207" y="577"/>
                    <a:pt x="209" y="568"/>
                  </a:cubicBezTo>
                  <a:cubicBezTo>
                    <a:pt x="212" y="557"/>
                    <a:pt x="198" y="503"/>
                    <a:pt x="194" y="485"/>
                  </a:cubicBezTo>
                  <a:cubicBezTo>
                    <a:pt x="200" y="466"/>
                    <a:pt x="207" y="459"/>
                    <a:pt x="194" y="440"/>
                  </a:cubicBezTo>
                  <a:cubicBezTo>
                    <a:pt x="194" y="440"/>
                    <a:pt x="152" y="401"/>
                    <a:pt x="156" y="394"/>
                  </a:cubicBezTo>
                  <a:cubicBezTo>
                    <a:pt x="160" y="387"/>
                    <a:pt x="171" y="399"/>
                    <a:pt x="179" y="402"/>
                  </a:cubicBezTo>
                  <a:cubicBezTo>
                    <a:pt x="164" y="372"/>
                    <a:pt x="148" y="357"/>
                    <a:pt x="126" y="333"/>
                  </a:cubicBezTo>
                  <a:cubicBezTo>
                    <a:pt x="128" y="444"/>
                    <a:pt x="123" y="556"/>
                    <a:pt x="133" y="667"/>
                  </a:cubicBezTo>
                  <a:cubicBezTo>
                    <a:pt x="134" y="676"/>
                    <a:pt x="147" y="650"/>
                    <a:pt x="156" y="652"/>
                  </a:cubicBezTo>
                  <a:cubicBezTo>
                    <a:pt x="165" y="654"/>
                    <a:pt x="166" y="667"/>
                    <a:pt x="171" y="674"/>
                  </a:cubicBezTo>
                  <a:cubicBezTo>
                    <a:pt x="162" y="744"/>
                    <a:pt x="170" y="711"/>
                    <a:pt x="148" y="773"/>
                  </a:cubicBezTo>
                  <a:cubicBezTo>
                    <a:pt x="145" y="781"/>
                    <a:pt x="134" y="792"/>
                    <a:pt x="141" y="796"/>
                  </a:cubicBezTo>
                  <a:cubicBezTo>
                    <a:pt x="149" y="800"/>
                    <a:pt x="156" y="785"/>
                    <a:pt x="164" y="781"/>
                  </a:cubicBezTo>
                  <a:cubicBezTo>
                    <a:pt x="173" y="777"/>
                    <a:pt x="184" y="776"/>
                    <a:pt x="194" y="773"/>
                  </a:cubicBezTo>
                  <a:cubicBezTo>
                    <a:pt x="163" y="814"/>
                    <a:pt x="121" y="860"/>
                    <a:pt x="103" y="909"/>
                  </a:cubicBezTo>
                  <a:cubicBezTo>
                    <a:pt x="94" y="934"/>
                    <a:pt x="88" y="960"/>
                    <a:pt x="80" y="985"/>
                  </a:cubicBezTo>
                  <a:cubicBezTo>
                    <a:pt x="77" y="994"/>
                    <a:pt x="97" y="976"/>
                    <a:pt x="103" y="970"/>
                  </a:cubicBezTo>
                  <a:cubicBezTo>
                    <a:pt x="114" y="959"/>
                    <a:pt x="133" y="932"/>
                    <a:pt x="133" y="932"/>
                  </a:cubicBezTo>
                  <a:cubicBezTo>
                    <a:pt x="123" y="952"/>
                    <a:pt x="113" y="973"/>
                    <a:pt x="103" y="993"/>
                  </a:cubicBezTo>
                  <a:cubicBezTo>
                    <a:pt x="98" y="1003"/>
                    <a:pt x="93" y="1013"/>
                    <a:pt x="88" y="1023"/>
                  </a:cubicBezTo>
                  <a:cubicBezTo>
                    <a:pt x="84" y="1030"/>
                    <a:pt x="72" y="1046"/>
                    <a:pt x="80" y="1046"/>
                  </a:cubicBezTo>
                  <a:cubicBezTo>
                    <a:pt x="89" y="1046"/>
                    <a:pt x="95" y="1014"/>
                    <a:pt x="95" y="1023"/>
                  </a:cubicBezTo>
                  <a:cubicBezTo>
                    <a:pt x="95" y="1043"/>
                    <a:pt x="58" y="1081"/>
                    <a:pt x="50" y="1099"/>
                  </a:cubicBezTo>
                  <a:cubicBezTo>
                    <a:pt x="47" y="1106"/>
                    <a:pt x="35" y="1126"/>
                    <a:pt x="42" y="1122"/>
                  </a:cubicBezTo>
                  <a:cubicBezTo>
                    <a:pt x="72" y="1104"/>
                    <a:pt x="86" y="1080"/>
                    <a:pt x="103" y="1053"/>
                  </a:cubicBezTo>
                  <a:cubicBezTo>
                    <a:pt x="106" y="1091"/>
                    <a:pt x="89" y="1136"/>
                    <a:pt x="111" y="1167"/>
                  </a:cubicBezTo>
                  <a:cubicBezTo>
                    <a:pt x="112" y="1168"/>
                    <a:pt x="175" y="1045"/>
                    <a:pt x="133" y="1106"/>
                  </a:cubicBezTo>
                  <a:cubicBezTo>
                    <a:pt x="120" y="1147"/>
                    <a:pt x="104" y="1188"/>
                    <a:pt x="88" y="1228"/>
                  </a:cubicBezTo>
                  <a:cubicBezTo>
                    <a:pt x="77" y="1303"/>
                    <a:pt x="86" y="1257"/>
                    <a:pt x="73" y="1304"/>
                  </a:cubicBezTo>
                  <a:cubicBezTo>
                    <a:pt x="70" y="1314"/>
                    <a:pt x="65" y="1344"/>
                    <a:pt x="65" y="1334"/>
                  </a:cubicBezTo>
                  <a:cubicBezTo>
                    <a:pt x="65" y="1293"/>
                    <a:pt x="80" y="1257"/>
                    <a:pt x="95" y="1220"/>
                  </a:cubicBezTo>
                  <a:cubicBezTo>
                    <a:pt x="98" y="1202"/>
                    <a:pt x="99" y="1184"/>
                    <a:pt x="103" y="1167"/>
                  </a:cubicBezTo>
                  <a:cubicBezTo>
                    <a:pt x="114" y="1121"/>
                    <a:pt x="134" y="1101"/>
                    <a:pt x="95" y="1152"/>
                  </a:cubicBezTo>
                  <a:cubicBezTo>
                    <a:pt x="81" y="1199"/>
                    <a:pt x="97" y="1149"/>
                    <a:pt x="73" y="1205"/>
                  </a:cubicBezTo>
                  <a:cubicBezTo>
                    <a:pt x="70" y="1212"/>
                    <a:pt x="65" y="1236"/>
                    <a:pt x="65" y="1228"/>
                  </a:cubicBezTo>
                  <a:cubicBezTo>
                    <a:pt x="65" y="1203"/>
                    <a:pt x="75" y="1193"/>
                    <a:pt x="88" y="1175"/>
                  </a:cubicBezTo>
                  <a:cubicBezTo>
                    <a:pt x="90" y="1162"/>
                    <a:pt x="95" y="1150"/>
                    <a:pt x="95" y="1137"/>
                  </a:cubicBezTo>
                  <a:cubicBezTo>
                    <a:pt x="95" y="1129"/>
                    <a:pt x="95" y="1111"/>
                    <a:pt x="88" y="1114"/>
                  </a:cubicBezTo>
                  <a:cubicBezTo>
                    <a:pt x="79" y="1118"/>
                    <a:pt x="82" y="1134"/>
                    <a:pt x="80" y="1144"/>
                  </a:cubicBezTo>
                  <a:cubicBezTo>
                    <a:pt x="70" y="1187"/>
                    <a:pt x="60" y="1230"/>
                    <a:pt x="50" y="1273"/>
                  </a:cubicBezTo>
                  <a:cubicBezTo>
                    <a:pt x="55" y="1283"/>
                    <a:pt x="64" y="1293"/>
                    <a:pt x="65" y="1304"/>
                  </a:cubicBezTo>
                  <a:cubicBezTo>
                    <a:pt x="70" y="1403"/>
                    <a:pt x="35" y="1458"/>
                    <a:pt x="73" y="1387"/>
                  </a:cubicBezTo>
                  <a:cubicBezTo>
                    <a:pt x="82" y="1350"/>
                    <a:pt x="91" y="1330"/>
                    <a:pt x="118" y="1304"/>
                  </a:cubicBezTo>
                  <a:cubicBezTo>
                    <a:pt x="181" y="1114"/>
                    <a:pt x="141" y="1382"/>
                    <a:pt x="126" y="1463"/>
                  </a:cubicBezTo>
                  <a:cubicBezTo>
                    <a:pt x="121" y="1455"/>
                    <a:pt x="120" y="1438"/>
                    <a:pt x="111" y="1440"/>
                  </a:cubicBezTo>
                  <a:cubicBezTo>
                    <a:pt x="98" y="1443"/>
                    <a:pt x="90" y="1493"/>
                    <a:pt x="88" y="1501"/>
                  </a:cubicBezTo>
                  <a:cubicBezTo>
                    <a:pt x="85" y="1493"/>
                    <a:pt x="80" y="1470"/>
                    <a:pt x="80" y="1478"/>
                  </a:cubicBezTo>
                  <a:cubicBezTo>
                    <a:pt x="80" y="1496"/>
                    <a:pt x="75" y="1518"/>
                    <a:pt x="88" y="1531"/>
                  </a:cubicBezTo>
                  <a:cubicBezTo>
                    <a:pt x="96" y="1539"/>
                    <a:pt x="98" y="1511"/>
                    <a:pt x="103" y="1501"/>
                  </a:cubicBezTo>
                  <a:cubicBezTo>
                    <a:pt x="111" y="1531"/>
                    <a:pt x="121" y="1561"/>
                    <a:pt x="126" y="1592"/>
                  </a:cubicBezTo>
                  <a:cubicBezTo>
                    <a:pt x="128" y="1607"/>
                    <a:pt x="129" y="1622"/>
                    <a:pt x="133" y="1637"/>
                  </a:cubicBezTo>
                  <a:cubicBezTo>
                    <a:pt x="137" y="1652"/>
                    <a:pt x="148" y="1682"/>
                    <a:pt x="148" y="1682"/>
                  </a:cubicBezTo>
                  <a:cubicBezTo>
                    <a:pt x="151" y="1659"/>
                    <a:pt x="140" y="1630"/>
                    <a:pt x="156" y="1614"/>
                  </a:cubicBezTo>
                  <a:cubicBezTo>
                    <a:pt x="166" y="1604"/>
                    <a:pt x="184" y="1667"/>
                    <a:pt x="186" y="1675"/>
                  </a:cubicBezTo>
                  <a:cubicBezTo>
                    <a:pt x="189" y="1685"/>
                    <a:pt x="194" y="1715"/>
                    <a:pt x="194" y="1705"/>
                  </a:cubicBezTo>
                  <a:cubicBezTo>
                    <a:pt x="194" y="1641"/>
                    <a:pt x="131" y="1578"/>
                    <a:pt x="88" y="1538"/>
                  </a:cubicBezTo>
                  <a:cubicBezTo>
                    <a:pt x="75" y="1526"/>
                    <a:pt x="57" y="1518"/>
                    <a:pt x="42" y="1508"/>
                  </a:cubicBezTo>
                  <a:cubicBezTo>
                    <a:pt x="32" y="1501"/>
                    <a:pt x="0" y="1483"/>
                    <a:pt x="12" y="1485"/>
                  </a:cubicBezTo>
                  <a:cubicBezTo>
                    <a:pt x="39" y="1490"/>
                    <a:pt x="63" y="1506"/>
                    <a:pt x="88" y="1516"/>
                  </a:cubicBezTo>
                  <a:cubicBezTo>
                    <a:pt x="127" y="1549"/>
                    <a:pt x="172" y="1587"/>
                    <a:pt x="201" y="1629"/>
                  </a:cubicBezTo>
                  <a:cubicBezTo>
                    <a:pt x="193" y="1594"/>
                    <a:pt x="167" y="1572"/>
                    <a:pt x="141" y="1546"/>
                  </a:cubicBezTo>
                  <a:cubicBezTo>
                    <a:pt x="135" y="1540"/>
                    <a:pt x="109" y="1531"/>
                    <a:pt x="118" y="1531"/>
                  </a:cubicBezTo>
                  <a:cubicBezTo>
                    <a:pt x="152" y="1531"/>
                    <a:pt x="170" y="1579"/>
                    <a:pt x="194" y="1592"/>
                  </a:cubicBezTo>
                  <a:cubicBezTo>
                    <a:pt x="202" y="1596"/>
                    <a:pt x="186" y="1575"/>
                    <a:pt x="179" y="1569"/>
                  </a:cubicBezTo>
                  <a:cubicBezTo>
                    <a:pt x="155" y="1547"/>
                    <a:pt x="132" y="1523"/>
                    <a:pt x="103" y="1508"/>
                  </a:cubicBezTo>
                  <a:cubicBezTo>
                    <a:pt x="93" y="1503"/>
                    <a:pt x="82" y="1499"/>
                    <a:pt x="73" y="1493"/>
                  </a:cubicBezTo>
                  <a:cubicBezTo>
                    <a:pt x="67" y="1489"/>
                    <a:pt x="50" y="1476"/>
                    <a:pt x="57" y="1478"/>
                  </a:cubicBezTo>
                  <a:cubicBezTo>
                    <a:pt x="140" y="1495"/>
                    <a:pt x="177" y="1571"/>
                    <a:pt x="239" y="1614"/>
                  </a:cubicBezTo>
                  <a:cubicBezTo>
                    <a:pt x="249" y="1621"/>
                    <a:pt x="225" y="1593"/>
                    <a:pt x="217" y="1584"/>
                  </a:cubicBezTo>
                  <a:cubicBezTo>
                    <a:pt x="205" y="1570"/>
                    <a:pt x="193" y="1558"/>
                    <a:pt x="179" y="1546"/>
                  </a:cubicBezTo>
                  <a:cubicBezTo>
                    <a:pt x="169" y="1538"/>
                    <a:pt x="148" y="1523"/>
                    <a:pt x="148" y="1523"/>
                  </a:cubicBezTo>
                  <a:cubicBezTo>
                    <a:pt x="204" y="1599"/>
                    <a:pt x="146" y="1518"/>
                    <a:pt x="133" y="1508"/>
                  </a:cubicBezTo>
                  <a:cubicBezTo>
                    <a:pt x="116" y="1494"/>
                    <a:pt x="98" y="1483"/>
                    <a:pt x="80" y="1470"/>
                  </a:cubicBezTo>
                  <a:cubicBezTo>
                    <a:pt x="73" y="1465"/>
                    <a:pt x="50" y="1461"/>
                    <a:pt x="57" y="1455"/>
                  </a:cubicBezTo>
                  <a:cubicBezTo>
                    <a:pt x="65" y="1448"/>
                    <a:pt x="78" y="1460"/>
                    <a:pt x="88" y="1463"/>
                  </a:cubicBezTo>
                  <a:cubicBezTo>
                    <a:pt x="98" y="1473"/>
                    <a:pt x="109" y="1482"/>
                    <a:pt x="118" y="1493"/>
                  </a:cubicBezTo>
                  <a:cubicBezTo>
                    <a:pt x="124" y="1500"/>
                    <a:pt x="142" y="1516"/>
                    <a:pt x="133" y="1516"/>
                  </a:cubicBezTo>
                  <a:cubicBezTo>
                    <a:pt x="127" y="1516"/>
                    <a:pt x="81" y="1456"/>
                    <a:pt x="65" y="1440"/>
                  </a:cubicBezTo>
                  <a:cubicBezTo>
                    <a:pt x="62" y="1432"/>
                    <a:pt x="61" y="1424"/>
                    <a:pt x="57" y="1417"/>
                  </a:cubicBezTo>
                  <a:cubicBezTo>
                    <a:pt x="51" y="1408"/>
                    <a:pt x="35" y="1405"/>
                    <a:pt x="35" y="1394"/>
                  </a:cubicBezTo>
                  <a:cubicBezTo>
                    <a:pt x="35" y="1385"/>
                    <a:pt x="51" y="1404"/>
                    <a:pt x="57" y="1410"/>
                  </a:cubicBezTo>
                  <a:cubicBezTo>
                    <a:pt x="63" y="1416"/>
                    <a:pt x="67" y="1425"/>
                    <a:pt x="73" y="1432"/>
                  </a:cubicBezTo>
                  <a:cubicBezTo>
                    <a:pt x="80" y="1440"/>
                    <a:pt x="100" y="1464"/>
                    <a:pt x="95" y="1455"/>
                  </a:cubicBezTo>
                  <a:cubicBezTo>
                    <a:pt x="85" y="1436"/>
                    <a:pt x="47" y="1383"/>
                    <a:pt x="57" y="1402"/>
                  </a:cubicBezTo>
                  <a:cubicBezTo>
                    <a:pt x="84" y="1455"/>
                    <a:pt x="107" y="1510"/>
                    <a:pt x="148" y="1554"/>
                  </a:cubicBezTo>
                  <a:cubicBezTo>
                    <a:pt x="193" y="1602"/>
                    <a:pt x="239" y="1644"/>
                    <a:pt x="277" y="1698"/>
                  </a:cubicBezTo>
                  <a:cubicBezTo>
                    <a:pt x="238" y="1717"/>
                    <a:pt x="227" y="1747"/>
                    <a:pt x="201" y="1781"/>
                  </a:cubicBezTo>
                  <a:cubicBezTo>
                    <a:pt x="211" y="1752"/>
                    <a:pt x="214" y="1724"/>
                    <a:pt x="232" y="1698"/>
                  </a:cubicBezTo>
                  <a:cubicBezTo>
                    <a:pt x="229" y="1713"/>
                    <a:pt x="229" y="1729"/>
                    <a:pt x="224" y="1743"/>
                  </a:cubicBezTo>
                  <a:cubicBezTo>
                    <a:pt x="221" y="1752"/>
                    <a:pt x="212" y="1757"/>
                    <a:pt x="209" y="1766"/>
                  </a:cubicBezTo>
                  <a:cubicBezTo>
                    <a:pt x="204" y="1778"/>
                    <a:pt x="206" y="1792"/>
                    <a:pt x="201" y="1804"/>
                  </a:cubicBezTo>
                  <a:cubicBezTo>
                    <a:pt x="198" y="1812"/>
                    <a:pt x="183" y="1834"/>
                    <a:pt x="186" y="1826"/>
                  </a:cubicBezTo>
                  <a:cubicBezTo>
                    <a:pt x="195" y="1805"/>
                    <a:pt x="217" y="1766"/>
                    <a:pt x="217" y="1766"/>
                  </a:cubicBezTo>
                  <a:cubicBezTo>
                    <a:pt x="214" y="1794"/>
                    <a:pt x="213" y="1821"/>
                    <a:pt x="209" y="1849"/>
                  </a:cubicBezTo>
                  <a:cubicBezTo>
                    <a:pt x="207" y="1862"/>
                    <a:pt x="204" y="1874"/>
                    <a:pt x="201" y="1887"/>
                  </a:cubicBezTo>
                  <a:cubicBezTo>
                    <a:pt x="199" y="1895"/>
                    <a:pt x="192" y="1918"/>
                    <a:pt x="194" y="1910"/>
                  </a:cubicBezTo>
                  <a:cubicBezTo>
                    <a:pt x="198" y="1890"/>
                    <a:pt x="202" y="1869"/>
                    <a:pt x="209" y="1849"/>
                  </a:cubicBezTo>
                  <a:cubicBezTo>
                    <a:pt x="214" y="1834"/>
                    <a:pt x="224" y="1804"/>
                    <a:pt x="224" y="1804"/>
                  </a:cubicBezTo>
                  <a:cubicBezTo>
                    <a:pt x="219" y="1853"/>
                    <a:pt x="205" y="1901"/>
                    <a:pt x="217" y="1948"/>
                  </a:cubicBezTo>
                  <a:cubicBezTo>
                    <a:pt x="223" y="1894"/>
                    <a:pt x="234" y="1868"/>
                    <a:pt x="247" y="1819"/>
                  </a:cubicBezTo>
                  <a:cubicBezTo>
                    <a:pt x="250" y="1877"/>
                    <a:pt x="255" y="2051"/>
                    <a:pt x="255" y="19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18"/>
            <p:cNvSpPr/>
            <p:nvPr/>
          </p:nvSpPr>
          <p:spPr>
            <a:xfrm>
              <a:off x="2185560" y="4136760"/>
              <a:ext cx="1581120" cy="2509560"/>
            </a:xfrm>
            <a:custGeom>
              <a:avLst/>
              <a:gdLst/>
              <a:ahLst/>
              <a:rect l="l" t="t" r="r" b="b"/>
              <a:pathLst>
                <a:path w="996" h="1581">
                  <a:moveTo>
                    <a:pt x="582" y="401"/>
                  </a:moveTo>
                  <a:cubicBezTo>
                    <a:pt x="573" y="756"/>
                    <a:pt x="589" y="627"/>
                    <a:pt x="536" y="826"/>
                  </a:cubicBezTo>
                  <a:cubicBezTo>
                    <a:pt x="560" y="914"/>
                    <a:pt x="524" y="980"/>
                    <a:pt x="506" y="1061"/>
                  </a:cubicBezTo>
                  <a:cubicBezTo>
                    <a:pt x="495" y="1113"/>
                    <a:pt x="492" y="1168"/>
                    <a:pt x="460" y="1212"/>
                  </a:cubicBezTo>
                  <a:cubicBezTo>
                    <a:pt x="456" y="1229"/>
                    <a:pt x="451" y="1300"/>
                    <a:pt x="430" y="1243"/>
                  </a:cubicBezTo>
                  <a:cubicBezTo>
                    <a:pt x="438" y="1221"/>
                    <a:pt x="429" y="1191"/>
                    <a:pt x="445" y="1174"/>
                  </a:cubicBezTo>
                  <a:cubicBezTo>
                    <a:pt x="451" y="1167"/>
                    <a:pt x="454" y="1191"/>
                    <a:pt x="460" y="1197"/>
                  </a:cubicBezTo>
                  <a:cubicBezTo>
                    <a:pt x="466" y="1203"/>
                    <a:pt x="475" y="1207"/>
                    <a:pt x="483" y="1212"/>
                  </a:cubicBezTo>
                  <a:cubicBezTo>
                    <a:pt x="478" y="1197"/>
                    <a:pt x="474" y="1181"/>
                    <a:pt x="468" y="1167"/>
                  </a:cubicBezTo>
                  <a:cubicBezTo>
                    <a:pt x="464" y="1159"/>
                    <a:pt x="449" y="1152"/>
                    <a:pt x="453" y="1144"/>
                  </a:cubicBezTo>
                  <a:cubicBezTo>
                    <a:pt x="457" y="1137"/>
                    <a:pt x="468" y="1149"/>
                    <a:pt x="476" y="1152"/>
                  </a:cubicBezTo>
                  <a:cubicBezTo>
                    <a:pt x="481" y="1159"/>
                    <a:pt x="485" y="1181"/>
                    <a:pt x="491" y="1174"/>
                  </a:cubicBezTo>
                  <a:cubicBezTo>
                    <a:pt x="498" y="1166"/>
                    <a:pt x="489" y="1153"/>
                    <a:pt x="483" y="1144"/>
                  </a:cubicBezTo>
                  <a:cubicBezTo>
                    <a:pt x="465" y="1116"/>
                    <a:pt x="431" y="1085"/>
                    <a:pt x="407" y="1061"/>
                  </a:cubicBezTo>
                  <a:cubicBezTo>
                    <a:pt x="415" y="1058"/>
                    <a:pt x="423" y="1049"/>
                    <a:pt x="430" y="1053"/>
                  </a:cubicBezTo>
                  <a:cubicBezTo>
                    <a:pt x="449" y="1063"/>
                    <a:pt x="476" y="1099"/>
                    <a:pt x="476" y="1099"/>
                  </a:cubicBezTo>
                  <a:cubicBezTo>
                    <a:pt x="478" y="1106"/>
                    <a:pt x="475" y="1121"/>
                    <a:pt x="483" y="1121"/>
                  </a:cubicBezTo>
                  <a:cubicBezTo>
                    <a:pt x="491" y="1121"/>
                    <a:pt x="494" y="1106"/>
                    <a:pt x="491" y="1099"/>
                  </a:cubicBezTo>
                  <a:cubicBezTo>
                    <a:pt x="488" y="1091"/>
                    <a:pt x="476" y="1089"/>
                    <a:pt x="468" y="1084"/>
                  </a:cubicBezTo>
                  <a:cubicBezTo>
                    <a:pt x="451" y="1048"/>
                    <a:pt x="425" y="1038"/>
                    <a:pt x="438" y="1000"/>
                  </a:cubicBezTo>
                  <a:cubicBezTo>
                    <a:pt x="450" y="1016"/>
                    <a:pt x="466" y="1029"/>
                    <a:pt x="476" y="1046"/>
                  </a:cubicBezTo>
                  <a:cubicBezTo>
                    <a:pt x="480" y="1053"/>
                    <a:pt x="486" y="1075"/>
                    <a:pt x="483" y="1068"/>
                  </a:cubicBezTo>
                  <a:cubicBezTo>
                    <a:pt x="477" y="1056"/>
                    <a:pt x="463" y="1043"/>
                    <a:pt x="468" y="1030"/>
                  </a:cubicBezTo>
                  <a:cubicBezTo>
                    <a:pt x="471" y="1021"/>
                    <a:pt x="495" y="1054"/>
                    <a:pt x="491" y="1046"/>
                  </a:cubicBezTo>
                  <a:cubicBezTo>
                    <a:pt x="478" y="1022"/>
                    <a:pt x="445" y="1001"/>
                    <a:pt x="430" y="977"/>
                  </a:cubicBezTo>
                  <a:cubicBezTo>
                    <a:pt x="424" y="968"/>
                    <a:pt x="409" y="956"/>
                    <a:pt x="415" y="947"/>
                  </a:cubicBezTo>
                  <a:cubicBezTo>
                    <a:pt x="421" y="938"/>
                    <a:pt x="435" y="952"/>
                    <a:pt x="445" y="955"/>
                  </a:cubicBezTo>
                  <a:cubicBezTo>
                    <a:pt x="488" y="1017"/>
                    <a:pt x="479" y="1012"/>
                    <a:pt x="468" y="977"/>
                  </a:cubicBezTo>
                  <a:cubicBezTo>
                    <a:pt x="465" y="967"/>
                    <a:pt x="454" y="956"/>
                    <a:pt x="460" y="947"/>
                  </a:cubicBezTo>
                  <a:cubicBezTo>
                    <a:pt x="465" y="940"/>
                    <a:pt x="475" y="952"/>
                    <a:pt x="483" y="955"/>
                  </a:cubicBezTo>
                  <a:cubicBezTo>
                    <a:pt x="504" y="985"/>
                    <a:pt x="499" y="1024"/>
                    <a:pt x="513" y="977"/>
                  </a:cubicBezTo>
                  <a:cubicBezTo>
                    <a:pt x="511" y="954"/>
                    <a:pt x="510" y="931"/>
                    <a:pt x="506" y="909"/>
                  </a:cubicBezTo>
                  <a:cubicBezTo>
                    <a:pt x="505" y="901"/>
                    <a:pt x="498" y="878"/>
                    <a:pt x="498" y="886"/>
                  </a:cubicBezTo>
                  <a:cubicBezTo>
                    <a:pt x="498" y="909"/>
                    <a:pt x="506" y="933"/>
                    <a:pt x="513" y="955"/>
                  </a:cubicBezTo>
                  <a:cubicBezTo>
                    <a:pt x="525" y="919"/>
                    <a:pt x="507" y="896"/>
                    <a:pt x="491" y="864"/>
                  </a:cubicBezTo>
                  <a:cubicBezTo>
                    <a:pt x="527" y="851"/>
                    <a:pt x="526" y="860"/>
                    <a:pt x="536" y="894"/>
                  </a:cubicBezTo>
                  <a:cubicBezTo>
                    <a:pt x="534" y="876"/>
                    <a:pt x="535" y="858"/>
                    <a:pt x="529" y="841"/>
                  </a:cubicBezTo>
                  <a:cubicBezTo>
                    <a:pt x="521" y="818"/>
                    <a:pt x="483" y="831"/>
                    <a:pt x="506" y="788"/>
                  </a:cubicBezTo>
                  <a:cubicBezTo>
                    <a:pt x="510" y="780"/>
                    <a:pt x="515" y="804"/>
                    <a:pt x="521" y="811"/>
                  </a:cubicBezTo>
                  <a:cubicBezTo>
                    <a:pt x="528" y="819"/>
                    <a:pt x="536" y="826"/>
                    <a:pt x="544" y="833"/>
                  </a:cubicBezTo>
                  <a:cubicBezTo>
                    <a:pt x="541" y="818"/>
                    <a:pt x="540" y="803"/>
                    <a:pt x="536" y="788"/>
                  </a:cubicBezTo>
                  <a:cubicBezTo>
                    <a:pt x="533" y="777"/>
                    <a:pt x="521" y="758"/>
                    <a:pt x="521" y="758"/>
                  </a:cubicBezTo>
                  <a:cubicBezTo>
                    <a:pt x="532" y="725"/>
                    <a:pt x="531" y="745"/>
                    <a:pt x="521" y="712"/>
                  </a:cubicBezTo>
                  <a:cubicBezTo>
                    <a:pt x="518" y="702"/>
                    <a:pt x="508" y="691"/>
                    <a:pt x="513" y="682"/>
                  </a:cubicBezTo>
                  <a:cubicBezTo>
                    <a:pt x="516" y="676"/>
                    <a:pt x="524" y="692"/>
                    <a:pt x="529" y="697"/>
                  </a:cubicBezTo>
                  <a:cubicBezTo>
                    <a:pt x="526" y="682"/>
                    <a:pt x="514" y="666"/>
                    <a:pt x="521" y="652"/>
                  </a:cubicBezTo>
                  <a:cubicBezTo>
                    <a:pt x="525" y="644"/>
                    <a:pt x="538" y="660"/>
                    <a:pt x="544" y="667"/>
                  </a:cubicBezTo>
                  <a:cubicBezTo>
                    <a:pt x="549" y="673"/>
                    <a:pt x="549" y="682"/>
                    <a:pt x="551" y="689"/>
                  </a:cubicBezTo>
                  <a:cubicBezTo>
                    <a:pt x="554" y="682"/>
                    <a:pt x="560" y="675"/>
                    <a:pt x="559" y="667"/>
                  </a:cubicBezTo>
                  <a:cubicBezTo>
                    <a:pt x="556" y="646"/>
                    <a:pt x="526" y="617"/>
                    <a:pt x="559" y="652"/>
                  </a:cubicBezTo>
                  <a:cubicBezTo>
                    <a:pt x="553" y="839"/>
                    <a:pt x="574" y="865"/>
                    <a:pt x="513" y="985"/>
                  </a:cubicBezTo>
                  <a:cubicBezTo>
                    <a:pt x="491" y="1028"/>
                    <a:pt x="484" y="1078"/>
                    <a:pt x="460" y="1121"/>
                  </a:cubicBezTo>
                  <a:cubicBezTo>
                    <a:pt x="451" y="1137"/>
                    <a:pt x="430" y="1167"/>
                    <a:pt x="430" y="1167"/>
                  </a:cubicBezTo>
                  <a:cubicBezTo>
                    <a:pt x="423" y="1196"/>
                    <a:pt x="406" y="1214"/>
                    <a:pt x="400" y="1243"/>
                  </a:cubicBezTo>
                  <a:cubicBezTo>
                    <a:pt x="389" y="1294"/>
                    <a:pt x="383" y="1328"/>
                    <a:pt x="354" y="1372"/>
                  </a:cubicBezTo>
                  <a:cubicBezTo>
                    <a:pt x="364" y="1314"/>
                    <a:pt x="398" y="1262"/>
                    <a:pt x="430" y="1212"/>
                  </a:cubicBezTo>
                  <a:cubicBezTo>
                    <a:pt x="441" y="1243"/>
                    <a:pt x="430" y="1264"/>
                    <a:pt x="423" y="1296"/>
                  </a:cubicBezTo>
                  <a:cubicBezTo>
                    <a:pt x="418" y="1286"/>
                    <a:pt x="415" y="1273"/>
                    <a:pt x="407" y="1265"/>
                  </a:cubicBezTo>
                  <a:cubicBezTo>
                    <a:pt x="402" y="1260"/>
                    <a:pt x="392" y="1262"/>
                    <a:pt x="385" y="1258"/>
                  </a:cubicBezTo>
                  <a:cubicBezTo>
                    <a:pt x="371" y="1250"/>
                    <a:pt x="362" y="1233"/>
                    <a:pt x="354" y="1220"/>
                  </a:cubicBezTo>
                  <a:cubicBezTo>
                    <a:pt x="354" y="1220"/>
                    <a:pt x="353" y="1194"/>
                    <a:pt x="347" y="1182"/>
                  </a:cubicBezTo>
                  <a:cubicBezTo>
                    <a:pt x="342" y="1172"/>
                    <a:pt x="324" y="1148"/>
                    <a:pt x="324" y="1159"/>
                  </a:cubicBezTo>
                  <a:cubicBezTo>
                    <a:pt x="324" y="1172"/>
                    <a:pt x="339" y="1180"/>
                    <a:pt x="347" y="1190"/>
                  </a:cubicBezTo>
                  <a:cubicBezTo>
                    <a:pt x="342" y="1172"/>
                    <a:pt x="341" y="1153"/>
                    <a:pt x="332" y="1137"/>
                  </a:cubicBezTo>
                  <a:cubicBezTo>
                    <a:pt x="319" y="1114"/>
                    <a:pt x="260" y="1058"/>
                    <a:pt x="241" y="1038"/>
                  </a:cubicBezTo>
                  <a:cubicBezTo>
                    <a:pt x="221" y="1045"/>
                    <a:pt x="209" y="1057"/>
                    <a:pt x="203" y="1023"/>
                  </a:cubicBezTo>
                  <a:cubicBezTo>
                    <a:pt x="200" y="1005"/>
                    <a:pt x="211" y="987"/>
                    <a:pt x="218" y="970"/>
                  </a:cubicBezTo>
                  <a:cubicBezTo>
                    <a:pt x="229" y="944"/>
                    <a:pt x="256" y="894"/>
                    <a:pt x="256" y="894"/>
                  </a:cubicBezTo>
                  <a:cubicBezTo>
                    <a:pt x="258" y="869"/>
                    <a:pt x="263" y="793"/>
                    <a:pt x="263" y="818"/>
                  </a:cubicBezTo>
                  <a:cubicBezTo>
                    <a:pt x="263" y="835"/>
                    <a:pt x="255" y="928"/>
                    <a:pt x="248" y="955"/>
                  </a:cubicBezTo>
                  <a:cubicBezTo>
                    <a:pt x="245" y="968"/>
                    <a:pt x="238" y="980"/>
                    <a:pt x="233" y="993"/>
                  </a:cubicBezTo>
                  <a:cubicBezTo>
                    <a:pt x="225" y="1037"/>
                    <a:pt x="210" y="1067"/>
                    <a:pt x="188" y="1106"/>
                  </a:cubicBezTo>
                  <a:cubicBezTo>
                    <a:pt x="181" y="1119"/>
                    <a:pt x="165" y="1159"/>
                    <a:pt x="165" y="1144"/>
                  </a:cubicBezTo>
                  <a:cubicBezTo>
                    <a:pt x="165" y="1119"/>
                    <a:pt x="190" y="1073"/>
                    <a:pt x="203" y="1046"/>
                  </a:cubicBezTo>
                  <a:cubicBezTo>
                    <a:pt x="205" y="1026"/>
                    <a:pt x="207" y="1005"/>
                    <a:pt x="210" y="985"/>
                  </a:cubicBezTo>
                  <a:cubicBezTo>
                    <a:pt x="215" y="957"/>
                    <a:pt x="229" y="932"/>
                    <a:pt x="203" y="985"/>
                  </a:cubicBezTo>
                  <a:cubicBezTo>
                    <a:pt x="181" y="1152"/>
                    <a:pt x="156" y="1348"/>
                    <a:pt x="51" y="1485"/>
                  </a:cubicBezTo>
                  <a:cubicBezTo>
                    <a:pt x="49" y="1493"/>
                    <a:pt x="48" y="1501"/>
                    <a:pt x="44" y="1508"/>
                  </a:cubicBezTo>
                  <a:cubicBezTo>
                    <a:pt x="0" y="1581"/>
                    <a:pt x="35" y="1405"/>
                    <a:pt x="51" y="1372"/>
                  </a:cubicBezTo>
                  <a:cubicBezTo>
                    <a:pt x="54" y="1365"/>
                    <a:pt x="61" y="1361"/>
                    <a:pt x="66" y="1356"/>
                  </a:cubicBezTo>
                  <a:cubicBezTo>
                    <a:pt x="71" y="1361"/>
                    <a:pt x="74" y="1374"/>
                    <a:pt x="81" y="1372"/>
                  </a:cubicBezTo>
                  <a:cubicBezTo>
                    <a:pt x="113" y="1362"/>
                    <a:pt x="66" y="1273"/>
                    <a:pt x="66" y="1273"/>
                  </a:cubicBezTo>
                  <a:cubicBezTo>
                    <a:pt x="69" y="1263"/>
                    <a:pt x="64" y="1246"/>
                    <a:pt x="74" y="1243"/>
                  </a:cubicBezTo>
                  <a:cubicBezTo>
                    <a:pt x="84" y="1240"/>
                    <a:pt x="91" y="1256"/>
                    <a:pt x="97" y="1265"/>
                  </a:cubicBezTo>
                  <a:cubicBezTo>
                    <a:pt x="109" y="1283"/>
                    <a:pt x="114" y="1321"/>
                    <a:pt x="119" y="1341"/>
                  </a:cubicBezTo>
                  <a:cubicBezTo>
                    <a:pt x="135" y="1296"/>
                    <a:pt x="104" y="1272"/>
                    <a:pt x="81" y="1235"/>
                  </a:cubicBezTo>
                  <a:cubicBezTo>
                    <a:pt x="74" y="1225"/>
                    <a:pt x="55" y="1217"/>
                    <a:pt x="59" y="1205"/>
                  </a:cubicBezTo>
                  <a:cubicBezTo>
                    <a:pt x="62" y="1195"/>
                    <a:pt x="79" y="1210"/>
                    <a:pt x="89" y="1212"/>
                  </a:cubicBezTo>
                  <a:cubicBezTo>
                    <a:pt x="97" y="1222"/>
                    <a:pt x="106" y="1231"/>
                    <a:pt x="112" y="1243"/>
                  </a:cubicBezTo>
                  <a:cubicBezTo>
                    <a:pt x="125" y="1269"/>
                    <a:pt x="112" y="1292"/>
                    <a:pt x="127" y="1250"/>
                  </a:cubicBezTo>
                  <a:cubicBezTo>
                    <a:pt x="124" y="1237"/>
                    <a:pt x="123" y="1224"/>
                    <a:pt x="119" y="1212"/>
                  </a:cubicBezTo>
                  <a:cubicBezTo>
                    <a:pt x="115" y="1201"/>
                    <a:pt x="104" y="1193"/>
                    <a:pt x="104" y="1182"/>
                  </a:cubicBezTo>
                  <a:cubicBezTo>
                    <a:pt x="104" y="1173"/>
                    <a:pt x="113" y="1198"/>
                    <a:pt x="119" y="1205"/>
                  </a:cubicBezTo>
                  <a:cubicBezTo>
                    <a:pt x="124" y="1211"/>
                    <a:pt x="130" y="1215"/>
                    <a:pt x="135" y="1220"/>
                  </a:cubicBezTo>
                  <a:cubicBezTo>
                    <a:pt x="147" y="1180"/>
                    <a:pt x="103" y="1071"/>
                    <a:pt x="157" y="1137"/>
                  </a:cubicBezTo>
                  <a:cubicBezTo>
                    <a:pt x="163" y="1144"/>
                    <a:pt x="167" y="1152"/>
                    <a:pt x="172" y="1159"/>
                  </a:cubicBezTo>
                  <a:cubicBezTo>
                    <a:pt x="170" y="1131"/>
                    <a:pt x="169" y="1103"/>
                    <a:pt x="165" y="1076"/>
                  </a:cubicBezTo>
                  <a:cubicBezTo>
                    <a:pt x="164" y="1068"/>
                    <a:pt x="149" y="1053"/>
                    <a:pt x="157" y="1053"/>
                  </a:cubicBezTo>
                  <a:cubicBezTo>
                    <a:pt x="168" y="1053"/>
                    <a:pt x="172" y="1068"/>
                    <a:pt x="180" y="1076"/>
                  </a:cubicBezTo>
                  <a:cubicBezTo>
                    <a:pt x="197" y="1029"/>
                    <a:pt x="190" y="1061"/>
                    <a:pt x="172" y="977"/>
                  </a:cubicBezTo>
                  <a:cubicBezTo>
                    <a:pt x="170" y="969"/>
                    <a:pt x="159" y="960"/>
                    <a:pt x="165" y="955"/>
                  </a:cubicBezTo>
                  <a:cubicBezTo>
                    <a:pt x="171" y="950"/>
                    <a:pt x="180" y="960"/>
                    <a:pt x="188" y="962"/>
                  </a:cubicBezTo>
                  <a:cubicBezTo>
                    <a:pt x="190" y="970"/>
                    <a:pt x="187" y="985"/>
                    <a:pt x="195" y="985"/>
                  </a:cubicBezTo>
                  <a:cubicBezTo>
                    <a:pt x="203" y="985"/>
                    <a:pt x="202" y="970"/>
                    <a:pt x="203" y="962"/>
                  </a:cubicBezTo>
                  <a:cubicBezTo>
                    <a:pt x="207" y="924"/>
                    <a:pt x="208" y="887"/>
                    <a:pt x="210" y="849"/>
                  </a:cubicBezTo>
                  <a:cubicBezTo>
                    <a:pt x="218" y="851"/>
                    <a:pt x="230" y="864"/>
                    <a:pt x="233" y="856"/>
                  </a:cubicBezTo>
                  <a:cubicBezTo>
                    <a:pt x="255" y="792"/>
                    <a:pt x="228" y="717"/>
                    <a:pt x="248" y="780"/>
                  </a:cubicBezTo>
                  <a:cubicBezTo>
                    <a:pt x="271" y="742"/>
                    <a:pt x="283" y="710"/>
                    <a:pt x="294" y="667"/>
                  </a:cubicBezTo>
                  <a:cubicBezTo>
                    <a:pt x="296" y="690"/>
                    <a:pt x="287" y="717"/>
                    <a:pt x="301" y="735"/>
                  </a:cubicBezTo>
                  <a:cubicBezTo>
                    <a:pt x="309" y="745"/>
                    <a:pt x="317" y="715"/>
                    <a:pt x="324" y="705"/>
                  </a:cubicBezTo>
                  <a:cubicBezTo>
                    <a:pt x="344" y="675"/>
                    <a:pt x="358" y="646"/>
                    <a:pt x="385" y="621"/>
                  </a:cubicBezTo>
                  <a:cubicBezTo>
                    <a:pt x="382" y="687"/>
                    <a:pt x="382" y="752"/>
                    <a:pt x="377" y="818"/>
                  </a:cubicBezTo>
                  <a:cubicBezTo>
                    <a:pt x="376" y="826"/>
                    <a:pt x="371" y="833"/>
                    <a:pt x="369" y="841"/>
                  </a:cubicBezTo>
                  <a:cubicBezTo>
                    <a:pt x="366" y="851"/>
                    <a:pt x="362" y="881"/>
                    <a:pt x="362" y="871"/>
                  </a:cubicBezTo>
                  <a:cubicBezTo>
                    <a:pt x="362" y="820"/>
                    <a:pt x="363" y="827"/>
                    <a:pt x="385" y="796"/>
                  </a:cubicBezTo>
                  <a:cubicBezTo>
                    <a:pt x="390" y="763"/>
                    <a:pt x="415" y="667"/>
                    <a:pt x="400" y="697"/>
                  </a:cubicBezTo>
                  <a:cubicBezTo>
                    <a:pt x="386" y="725"/>
                    <a:pt x="377" y="750"/>
                    <a:pt x="369" y="780"/>
                  </a:cubicBezTo>
                  <a:cubicBezTo>
                    <a:pt x="372" y="732"/>
                    <a:pt x="371" y="684"/>
                    <a:pt x="377" y="636"/>
                  </a:cubicBezTo>
                  <a:cubicBezTo>
                    <a:pt x="378" y="628"/>
                    <a:pt x="378" y="655"/>
                    <a:pt x="385" y="659"/>
                  </a:cubicBezTo>
                  <a:cubicBezTo>
                    <a:pt x="392" y="663"/>
                    <a:pt x="400" y="654"/>
                    <a:pt x="407" y="652"/>
                  </a:cubicBezTo>
                  <a:cubicBezTo>
                    <a:pt x="410" y="644"/>
                    <a:pt x="410" y="635"/>
                    <a:pt x="415" y="629"/>
                  </a:cubicBezTo>
                  <a:cubicBezTo>
                    <a:pt x="421" y="622"/>
                    <a:pt x="433" y="622"/>
                    <a:pt x="438" y="614"/>
                  </a:cubicBezTo>
                  <a:cubicBezTo>
                    <a:pt x="475" y="548"/>
                    <a:pt x="414" y="596"/>
                    <a:pt x="468" y="561"/>
                  </a:cubicBezTo>
                  <a:cubicBezTo>
                    <a:pt x="476" y="544"/>
                    <a:pt x="481" y="524"/>
                    <a:pt x="491" y="508"/>
                  </a:cubicBezTo>
                  <a:cubicBezTo>
                    <a:pt x="513" y="472"/>
                    <a:pt x="548" y="442"/>
                    <a:pt x="574" y="409"/>
                  </a:cubicBezTo>
                  <a:cubicBezTo>
                    <a:pt x="616" y="356"/>
                    <a:pt x="656" y="306"/>
                    <a:pt x="711" y="265"/>
                  </a:cubicBezTo>
                  <a:cubicBezTo>
                    <a:pt x="731" y="235"/>
                    <a:pt x="760" y="207"/>
                    <a:pt x="794" y="197"/>
                  </a:cubicBezTo>
                  <a:cubicBezTo>
                    <a:pt x="805" y="146"/>
                    <a:pt x="834" y="111"/>
                    <a:pt x="862" y="68"/>
                  </a:cubicBezTo>
                  <a:cubicBezTo>
                    <a:pt x="839" y="239"/>
                    <a:pt x="865" y="40"/>
                    <a:pt x="832" y="447"/>
                  </a:cubicBezTo>
                  <a:cubicBezTo>
                    <a:pt x="827" y="511"/>
                    <a:pt x="834" y="494"/>
                    <a:pt x="809" y="530"/>
                  </a:cubicBezTo>
                  <a:cubicBezTo>
                    <a:pt x="820" y="420"/>
                    <a:pt x="859" y="315"/>
                    <a:pt x="900" y="212"/>
                  </a:cubicBezTo>
                  <a:cubicBezTo>
                    <a:pt x="906" y="173"/>
                    <a:pt x="910" y="135"/>
                    <a:pt x="923" y="98"/>
                  </a:cubicBezTo>
                  <a:cubicBezTo>
                    <a:pt x="977" y="276"/>
                    <a:pt x="913" y="545"/>
                    <a:pt x="862" y="735"/>
                  </a:cubicBezTo>
                  <a:cubicBezTo>
                    <a:pt x="830" y="686"/>
                    <a:pt x="842" y="715"/>
                    <a:pt x="855" y="614"/>
                  </a:cubicBezTo>
                  <a:cubicBezTo>
                    <a:pt x="859" y="586"/>
                    <a:pt x="873" y="502"/>
                    <a:pt x="870" y="530"/>
                  </a:cubicBezTo>
                  <a:cubicBezTo>
                    <a:pt x="867" y="553"/>
                    <a:pt x="857" y="576"/>
                    <a:pt x="862" y="598"/>
                  </a:cubicBezTo>
                  <a:cubicBezTo>
                    <a:pt x="865" y="611"/>
                    <a:pt x="872" y="574"/>
                    <a:pt x="877" y="561"/>
                  </a:cubicBezTo>
                  <a:cubicBezTo>
                    <a:pt x="882" y="546"/>
                    <a:pt x="886" y="530"/>
                    <a:pt x="892" y="515"/>
                  </a:cubicBezTo>
                  <a:cubicBezTo>
                    <a:pt x="915" y="455"/>
                    <a:pt x="931" y="422"/>
                    <a:pt x="945" y="364"/>
                  </a:cubicBezTo>
                  <a:cubicBezTo>
                    <a:pt x="954" y="278"/>
                    <a:pt x="957" y="298"/>
                    <a:pt x="945" y="212"/>
                  </a:cubicBezTo>
                  <a:cubicBezTo>
                    <a:pt x="941" y="183"/>
                    <a:pt x="911" y="139"/>
                    <a:pt x="915" y="136"/>
                  </a:cubicBezTo>
                  <a:cubicBezTo>
                    <a:pt x="924" y="130"/>
                    <a:pt x="935" y="141"/>
                    <a:pt x="945" y="144"/>
                  </a:cubicBezTo>
                  <a:cubicBezTo>
                    <a:pt x="940" y="136"/>
                    <a:pt x="936" y="128"/>
                    <a:pt x="930" y="121"/>
                  </a:cubicBezTo>
                  <a:cubicBezTo>
                    <a:pt x="901" y="91"/>
                    <a:pt x="883" y="103"/>
                    <a:pt x="923" y="91"/>
                  </a:cubicBezTo>
                  <a:cubicBezTo>
                    <a:pt x="993" y="113"/>
                    <a:pt x="894" y="32"/>
                    <a:pt x="877" y="15"/>
                  </a:cubicBezTo>
                  <a:cubicBezTo>
                    <a:pt x="885" y="10"/>
                    <a:pt x="891" y="0"/>
                    <a:pt x="900" y="0"/>
                  </a:cubicBezTo>
                  <a:cubicBezTo>
                    <a:pt x="906" y="0"/>
                    <a:pt x="996" y="58"/>
                    <a:pt x="930" y="15"/>
                  </a:cubicBezTo>
                  <a:cubicBezTo>
                    <a:pt x="894" y="53"/>
                    <a:pt x="904" y="94"/>
                    <a:pt x="877" y="136"/>
                  </a:cubicBezTo>
                  <a:cubicBezTo>
                    <a:pt x="875" y="144"/>
                    <a:pt x="870" y="167"/>
                    <a:pt x="870" y="159"/>
                  </a:cubicBezTo>
                  <a:cubicBezTo>
                    <a:pt x="870" y="149"/>
                    <a:pt x="872" y="138"/>
                    <a:pt x="877" y="129"/>
                  </a:cubicBezTo>
                  <a:cubicBezTo>
                    <a:pt x="882" y="120"/>
                    <a:pt x="892" y="114"/>
                    <a:pt x="900" y="106"/>
                  </a:cubicBezTo>
                  <a:cubicBezTo>
                    <a:pt x="926" y="182"/>
                    <a:pt x="872" y="290"/>
                    <a:pt x="832" y="356"/>
                  </a:cubicBezTo>
                  <a:cubicBezTo>
                    <a:pt x="810" y="439"/>
                    <a:pt x="878" y="331"/>
                    <a:pt x="908" y="310"/>
                  </a:cubicBezTo>
                  <a:cubicBezTo>
                    <a:pt x="927" y="283"/>
                    <a:pt x="937" y="261"/>
                    <a:pt x="915" y="341"/>
                  </a:cubicBezTo>
                  <a:cubicBezTo>
                    <a:pt x="903" y="386"/>
                    <a:pt x="888" y="406"/>
                    <a:pt x="870" y="447"/>
                  </a:cubicBezTo>
                  <a:cubicBezTo>
                    <a:pt x="861" y="467"/>
                    <a:pt x="849" y="508"/>
                    <a:pt x="839" y="508"/>
                  </a:cubicBezTo>
                  <a:cubicBezTo>
                    <a:pt x="831" y="508"/>
                    <a:pt x="843" y="492"/>
                    <a:pt x="847" y="485"/>
                  </a:cubicBezTo>
                  <a:cubicBezTo>
                    <a:pt x="856" y="469"/>
                    <a:pt x="867" y="454"/>
                    <a:pt x="877" y="439"/>
                  </a:cubicBezTo>
                  <a:cubicBezTo>
                    <a:pt x="882" y="432"/>
                    <a:pt x="892" y="417"/>
                    <a:pt x="892" y="417"/>
                  </a:cubicBezTo>
                  <a:cubicBezTo>
                    <a:pt x="907" y="474"/>
                    <a:pt x="881" y="523"/>
                    <a:pt x="862" y="576"/>
                  </a:cubicBezTo>
                  <a:cubicBezTo>
                    <a:pt x="857" y="591"/>
                    <a:pt x="851" y="606"/>
                    <a:pt x="847" y="621"/>
                  </a:cubicBezTo>
                  <a:cubicBezTo>
                    <a:pt x="844" y="631"/>
                    <a:pt x="839" y="663"/>
                    <a:pt x="839" y="652"/>
                  </a:cubicBezTo>
                  <a:cubicBezTo>
                    <a:pt x="839" y="618"/>
                    <a:pt x="853" y="604"/>
                    <a:pt x="870" y="576"/>
                  </a:cubicBezTo>
                  <a:cubicBezTo>
                    <a:pt x="862" y="623"/>
                    <a:pt x="855" y="675"/>
                    <a:pt x="839" y="720"/>
                  </a:cubicBezTo>
                  <a:cubicBezTo>
                    <a:pt x="842" y="740"/>
                    <a:pt x="839" y="761"/>
                    <a:pt x="847" y="780"/>
                  </a:cubicBezTo>
                  <a:cubicBezTo>
                    <a:pt x="850" y="787"/>
                    <a:pt x="852" y="751"/>
                    <a:pt x="855" y="758"/>
                  </a:cubicBezTo>
                  <a:cubicBezTo>
                    <a:pt x="863" y="774"/>
                    <a:pt x="859" y="794"/>
                    <a:pt x="862" y="811"/>
                  </a:cubicBezTo>
                  <a:cubicBezTo>
                    <a:pt x="868" y="839"/>
                    <a:pt x="879" y="866"/>
                    <a:pt x="885" y="894"/>
                  </a:cubicBezTo>
                  <a:cubicBezTo>
                    <a:pt x="910" y="787"/>
                    <a:pt x="877" y="999"/>
                    <a:pt x="870" y="1023"/>
                  </a:cubicBezTo>
                  <a:cubicBezTo>
                    <a:pt x="874" y="993"/>
                    <a:pt x="876" y="890"/>
                    <a:pt x="892" y="993"/>
                  </a:cubicBezTo>
                  <a:cubicBezTo>
                    <a:pt x="867" y="1170"/>
                    <a:pt x="885" y="1101"/>
                    <a:pt x="855" y="1205"/>
                  </a:cubicBezTo>
                  <a:cubicBezTo>
                    <a:pt x="844" y="1316"/>
                    <a:pt x="842" y="1315"/>
                    <a:pt x="862" y="1205"/>
                  </a:cubicBezTo>
                  <a:cubicBezTo>
                    <a:pt x="863" y="1197"/>
                    <a:pt x="867" y="1190"/>
                    <a:pt x="870" y="1182"/>
                  </a:cubicBezTo>
                  <a:cubicBezTo>
                    <a:pt x="867" y="1230"/>
                    <a:pt x="885" y="1284"/>
                    <a:pt x="862" y="1326"/>
                  </a:cubicBezTo>
                  <a:cubicBezTo>
                    <a:pt x="850" y="1347"/>
                    <a:pt x="837" y="1285"/>
                    <a:pt x="824" y="1265"/>
                  </a:cubicBezTo>
                  <a:cubicBezTo>
                    <a:pt x="819" y="1258"/>
                    <a:pt x="815" y="1250"/>
                    <a:pt x="809" y="1243"/>
                  </a:cubicBezTo>
                  <a:cubicBezTo>
                    <a:pt x="802" y="1235"/>
                    <a:pt x="775" y="1220"/>
                    <a:pt x="786" y="1220"/>
                  </a:cubicBezTo>
                  <a:cubicBezTo>
                    <a:pt x="801" y="1220"/>
                    <a:pt x="811" y="1235"/>
                    <a:pt x="824" y="1243"/>
                  </a:cubicBezTo>
                  <a:cubicBezTo>
                    <a:pt x="832" y="1253"/>
                    <a:pt x="839" y="1264"/>
                    <a:pt x="847" y="1273"/>
                  </a:cubicBezTo>
                  <a:cubicBezTo>
                    <a:pt x="922" y="1358"/>
                    <a:pt x="841" y="1224"/>
                    <a:pt x="839" y="1220"/>
                  </a:cubicBezTo>
                  <a:cubicBezTo>
                    <a:pt x="834" y="1211"/>
                    <a:pt x="824" y="1205"/>
                    <a:pt x="817" y="1197"/>
                  </a:cubicBezTo>
                  <a:cubicBezTo>
                    <a:pt x="819" y="1187"/>
                    <a:pt x="814" y="1167"/>
                    <a:pt x="824" y="1167"/>
                  </a:cubicBezTo>
                  <a:cubicBezTo>
                    <a:pt x="842" y="1167"/>
                    <a:pt x="870" y="1197"/>
                    <a:pt x="870" y="1197"/>
                  </a:cubicBezTo>
                  <a:cubicBezTo>
                    <a:pt x="835" y="1130"/>
                    <a:pt x="818" y="1144"/>
                    <a:pt x="862" y="1129"/>
                  </a:cubicBezTo>
                  <a:cubicBezTo>
                    <a:pt x="860" y="1116"/>
                    <a:pt x="860" y="1103"/>
                    <a:pt x="855" y="1091"/>
                  </a:cubicBezTo>
                  <a:cubicBezTo>
                    <a:pt x="850" y="1079"/>
                    <a:pt x="833" y="1048"/>
                    <a:pt x="832" y="1061"/>
                  </a:cubicBezTo>
                  <a:cubicBezTo>
                    <a:pt x="821" y="1200"/>
                    <a:pt x="829" y="1339"/>
                    <a:pt x="824" y="1478"/>
                  </a:cubicBezTo>
                  <a:cubicBezTo>
                    <a:pt x="823" y="1496"/>
                    <a:pt x="809" y="1531"/>
                    <a:pt x="809" y="15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19"/>
            <p:cNvSpPr/>
            <p:nvPr/>
          </p:nvSpPr>
          <p:spPr>
            <a:xfrm>
              <a:off x="3611160" y="4087800"/>
              <a:ext cx="584280" cy="2364840"/>
            </a:xfrm>
            <a:custGeom>
              <a:avLst/>
              <a:gdLst/>
              <a:ahLst/>
              <a:rect l="l" t="t" r="r" b="b"/>
              <a:pathLst>
                <a:path w="368" h="1490">
                  <a:moveTo>
                    <a:pt x="176" y="0"/>
                  </a:moveTo>
                  <a:cubicBezTo>
                    <a:pt x="187" y="32"/>
                    <a:pt x="192" y="66"/>
                    <a:pt x="199" y="99"/>
                  </a:cubicBezTo>
                  <a:cubicBezTo>
                    <a:pt x="194" y="176"/>
                    <a:pt x="173" y="234"/>
                    <a:pt x="214" y="296"/>
                  </a:cubicBezTo>
                  <a:cubicBezTo>
                    <a:pt x="206" y="368"/>
                    <a:pt x="189" y="363"/>
                    <a:pt x="199" y="432"/>
                  </a:cubicBezTo>
                  <a:cubicBezTo>
                    <a:pt x="196" y="513"/>
                    <a:pt x="196" y="594"/>
                    <a:pt x="191" y="675"/>
                  </a:cubicBezTo>
                  <a:cubicBezTo>
                    <a:pt x="191" y="683"/>
                    <a:pt x="180" y="705"/>
                    <a:pt x="184" y="698"/>
                  </a:cubicBezTo>
                  <a:cubicBezTo>
                    <a:pt x="190" y="686"/>
                    <a:pt x="194" y="673"/>
                    <a:pt x="199" y="660"/>
                  </a:cubicBezTo>
                  <a:cubicBezTo>
                    <a:pt x="202" y="645"/>
                    <a:pt x="196" y="625"/>
                    <a:pt x="207" y="614"/>
                  </a:cubicBezTo>
                  <a:cubicBezTo>
                    <a:pt x="217" y="604"/>
                    <a:pt x="245" y="654"/>
                    <a:pt x="245" y="652"/>
                  </a:cubicBezTo>
                  <a:cubicBezTo>
                    <a:pt x="245" y="626"/>
                    <a:pt x="153" y="519"/>
                    <a:pt x="229" y="569"/>
                  </a:cubicBezTo>
                  <a:cubicBezTo>
                    <a:pt x="235" y="573"/>
                    <a:pt x="240" y="579"/>
                    <a:pt x="245" y="584"/>
                  </a:cubicBezTo>
                  <a:cubicBezTo>
                    <a:pt x="224" y="525"/>
                    <a:pt x="199" y="487"/>
                    <a:pt x="154" y="440"/>
                  </a:cubicBezTo>
                  <a:cubicBezTo>
                    <a:pt x="188" y="427"/>
                    <a:pt x="203" y="441"/>
                    <a:pt x="222" y="470"/>
                  </a:cubicBezTo>
                  <a:cubicBezTo>
                    <a:pt x="219" y="460"/>
                    <a:pt x="218" y="450"/>
                    <a:pt x="214" y="440"/>
                  </a:cubicBezTo>
                  <a:cubicBezTo>
                    <a:pt x="200" y="404"/>
                    <a:pt x="185" y="406"/>
                    <a:pt x="222" y="417"/>
                  </a:cubicBezTo>
                  <a:cubicBezTo>
                    <a:pt x="208" y="390"/>
                    <a:pt x="192" y="374"/>
                    <a:pt x="176" y="349"/>
                  </a:cubicBezTo>
                  <a:cubicBezTo>
                    <a:pt x="184" y="346"/>
                    <a:pt x="191" y="340"/>
                    <a:pt x="199" y="341"/>
                  </a:cubicBezTo>
                  <a:cubicBezTo>
                    <a:pt x="208" y="343"/>
                    <a:pt x="214" y="361"/>
                    <a:pt x="222" y="357"/>
                  </a:cubicBezTo>
                  <a:cubicBezTo>
                    <a:pt x="229" y="354"/>
                    <a:pt x="218" y="341"/>
                    <a:pt x="214" y="334"/>
                  </a:cubicBezTo>
                  <a:cubicBezTo>
                    <a:pt x="182" y="276"/>
                    <a:pt x="160" y="284"/>
                    <a:pt x="229" y="296"/>
                  </a:cubicBezTo>
                  <a:cubicBezTo>
                    <a:pt x="299" y="342"/>
                    <a:pt x="202" y="274"/>
                    <a:pt x="214" y="266"/>
                  </a:cubicBezTo>
                  <a:cubicBezTo>
                    <a:pt x="225" y="259"/>
                    <a:pt x="239" y="271"/>
                    <a:pt x="252" y="273"/>
                  </a:cubicBezTo>
                  <a:cubicBezTo>
                    <a:pt x="229" y="243"/>
                    <a:pt x="207" y="219"/>
                    <a:pt x="176" y="197"/>
                  </a:cubicBezTo>
                  <a:cubicBezTo>
                    <a:pt x="186" y="195"/>
                    <a:pt x="196" y="190"/>
                    <a:pt x="207" y="190"/>
                  </a:cubicBezTo>
                  <a:cubicBezTo>
                    <a:pt x="215" y="190"/>
                    <a:pt x="224" y="202"/>
                    <a:pt x="229" y="197"/>
                  </a:cubicBezTo>
                  <a:cubicBezTo>
                    <a:pt x="239" y="187"/>
                    <a:pt x="214" y="167"/>
                    <a:pt x="199" y="152"/>
                  </a:cubicBezTo>
                  <a:cubicBezTo>
                    <a:pt x="241" y="124"/>
                    <a:pt x="210" y="112"/>
                    <a:pt x="199" y="69"/>
                  </a:cubicBezTo>
                  <a:cubicBezTo>
                    <a:pt x="202" y="59"/>
                    <a:pt x="201" y="47"/>
                    <a:pt x="207" y="38"/>
                  </a:cubicBezTo>
                  <a:cubicBezTo>
                    <a:pt x="217" y="23"/>
                    <a:pt x="245" y="0"/>
                    <a:pt x="245" y="0"/>
                  </a:cubicBezTo>
                  <a:cubicBezTo>
                    <a:pt x="256" y="37"/>
                    <a:pt x="255" y="21"/>
                    <a:pt x="245" y="76"/>
                  </a:cubicBezTo>
                  <a:cubicBezTo>
                    <a:pt x="243" y="87"/>
                    <a:pt x="230" y="99"/>
                    <a:pt x="237" y="107"/>
                  </a:cubicBezTo>
                  <a:cubicBezTo>
                    <a:pt x="243" y="114"/>
                    <a:pt x="247" y="92"/>
                    <a:pt x="252" y="84"/>
                  </a:cubicBezTo>
                  <a:cubicBezTo>
                    <a:pt x="272" y="159"/>
                    <a:pt x="244" y="235"/>
                    <a:pt x="260" y="311"/>
                  </a:cubicBezTo>
                  <a:cubicBezTo>
                    <a:pt x="272" y="271"/>
                    <a:pt x="275" y="242"/>
                    <a:pt x="305" y="213"/>
                  </a:cubicBezTo>
                  <a:cubicBezTo>
                    <a:pt x="317" y="594"/>
                    <a:pt x="290" y="497"/>
                    <a:pt x="351" y="379"/>
                  </a:cubicBezTo>
                  <a:cubicBezTo>
                    <a:pt x="368" y="455"/>
                    <a:pt x="363" y="420"/>
                    <a:pt x="351" y="561"/>
                  </a:cubicBezTo>
                  <a:cubicBezTo>
                    <a:pt x="350" y="569"/>
                    <a:pt x="343" y="592"/>
                    <a:pt x="343" y="584"/>
                  </a:cubicBezTo>
                  <a:cubicBezTo>
                    <a:pt x="343" y="571"/>
                    <a:pt x="351" y="533"/>
                    <a:pt x="351" y="546"/>
                  </a:cubicBezTo>
                  <a:cubicBezTo>
                    <a:pt x="351" y="600"/>
                    <a:pt x="330" y="641"/>
                    <a:pt x="313" y="690"/>
                  </a:cubicBezTo>
                  <a:cubicBezTo>
                    <a:pt x="290" y="757"/>
                    <a:pt x="293" y="830"/>
                    <a:pt x="229" y="872"/>
                  </a:cubicBezTo>
                  <a:cubicBezTo>
                    <a:pt x="224" y="859"/>
                    <a:pt x="220" y="846"/>
                    <a:pt x="214" y="834"/>
                  </a:cubicBezTo>
                  <a:cubicBezTo>
                    <a:pt x="210" y="826"/>
                    <a:pt x="203" y="819"/>
                    <a:pt x="199" y="811"/>
                  </a:cubicBezTo>
                  <a:cubicBezTo>
                    <a:pt x="181" y="770"/>
                    <a:pt x="192" y="753"/>
                    <a:pt x="161" y="713"/>
                  </a:cubicBezTo>
                  <a:cubicBezTo>
                    <a:pt x="151" y="747"/>
                    <a:pt x="177" y="801"/>
                    <a:pt x="146" y="819"/>
                  </a:cubicBezTo>
                  <a:cubicBezTo>
                    <a:pt x="126" y="830"/>
                    <a:pt x="124" y="779"/>
                    <a:pt x="116" y="758"/>
                  </a:cubicBezTo>
                  <a:cubicBezTo>
                    <a:pt x="100" y="717"/>
                    <a:pt x="94" y="674"/>
                    <a:pt x="70" y="637"/>
                  </a:cubicBezTo>
                  <a:cubicBezTo>
                    <a:pt x="73" y="647"/>
                    <a:pt x="78" y="667"/>
                    <a:pt x="78" y="667"/>
                  </a:cubicBezTo>
                  <a:cubicBezTo>
                    <a:pt x="78" y="667"/>
                    <a:pt x="75" y="646"/>
                    <a:pt x="70" y="637"/>
                  </a:cubicBezTo>
                  <a:cubicBezTo>
                    <a:pt x="65" y="627"/>
                    <a:pt x="60" y="617"/>
                    <a:pt x="55" y="607"/>
                  </a:cubicBezTo>
                  <a:cubicBezTo>
                    <a:pt x="63" y="602"/>
                    <a:pt x="69" y="594"/>
                    <a:pt x="78" y="592"/>
                  </a:cubicBezTo>
                  <a:cubicBezTo>
                    <a:pt x="86" y="591"/>
                    <a:pt x="100" y="607"/>
                    <a:pt x="101" y="599"/>
                  </a:cubicBezTo>
                  <a:cubicBezTo>
                    <a:pt x="106" y="570"/>
                    <a:pt x="79" y="548"/>
                    <a:pt x="63" y="531"/>
                  </a:cubicBezTo>
                  <a:cubicBezTo>
                    <a:pt x="110" y="508"/>
                    <a:pt x="94" y="523"/>
                    <a:pt x="138" y="539"/>
                  </a:cubicBezTo>
                  <a:cubicBezTo>
                    <a:pt x="129" y="468"/>
                    <a:pt x="141" y="499"/>
                    <a:pt x="101" y="440"/>
                  </a:cubicBezTo>
                  <a:cubicBezTo>
                    <a:pt x="96" y="432"/>
                    <a:pt x="85" y="417"/>
                    <a:pt x="85" y="417"/>
                  </a:cubicBezTo>
                  <a:cubicBezTo>
                    <a:pt x="64" y="350"/>
                    <a:pt x="89" y="454"/>
                    <a:pt x="123" y="402"/>
                  </a:cubicBezTo>
                  <a:cubicBezTo>
                    <a:pt x="133" y="387"/>
                    <a:pt x="116" y="366"/>
                    <a:pt x="108" y="349"/>
                  </a:cubicBezTo>
                  <a:cubicBezTo>
                    <a:pt x="84" y="298"/>
                    <a:pt x="78" y="296"/>
                    <a:pt x="47" y="266"/>
                  </a:cubicBezTo>
                  <a:cubicBezTo>
                    <a:pt x="50" y="253"/>
                    <a:pt x="43" y="234"/>
                    <a:pt x="55" y="228"/>
                  </a:cubicBezTo>
                  <a:cubicBezTo>
                    <a:pt x="131" y="190"/>
                    <a:pt x="96" y="279"/>
                    <a:pt x="116" y="205"/>
                  </a:cubicBezTo>
                  <a:cubicBezTo>
                    <a:pt x="113" y="187"/>
                    <a:pt x="107" y="138"/>
                    <a:pt x="93" y="122"/>
                  </a:cubicBezTo>
                  <a:cubicBezTo>
                    <a:pt x="86" y="114"/>
                    <a:pt x="97" y="142"/>
                    <a:pt x="101" y="152"/>
                  </a:cubicBezTo>
                  <a:cubicBezTo>
                    <a:pt x="138" y="250"/>
                    <a:pt x="91" y="95"/>
                    <a:pt x="131" y="228"/>
                  </a:cubicBezTo>
                  <a:cubicBezTo>
                    <a:pt x="158" y="317"/>
                    <a:pt x="166" y="410"/>
                    <a:pt x="184" y="501"/>
                  </a:cubicBezTo>
                  <a:cubicBezTo>
                    <a:pt x="189" y="599"/>
                    <a:pt x="178" y="698"/>
                    <a:pt x="184" y="796"/>
                  </a:cubicBezTo>
                  <a:cubicBezTo>
                    <a:pt x="185" y="807"/>
                    <a:pt x="192" y="775"/>
                    <a:pt x="199" y="766"/>
                  </a:cubicBezTo>
                  <a:cubicBezTo>
                    <a:pt x="205" y="757"/>
                    <a:pt x="214" y="751"/>
                    <a:pt x="222" y="743"/>
                  </a:cubicBezTo>
                  <a:cubicBezTo>
                    <a:pt x="209" y="779"/>
                    <a:pt x="200" y="820"/>
                    <a:pt x="191" y="857"/>
                  </a:cubicBezTo>
                  <a:cubicBezTo>
                    <a:pt x="189" y="867"/>
                    <a:pt x="174" y="887"/>
                    <a:pt x="184" y="887"/>
                  </a:cubicBezTo>
                  <a:cubicBezTo>
                    <a:pt x="195" y="887"/>
                    <a:pt x="193" y="866"/>
                    <a:pt x="199" y="857"/>
                  </a:cubicBezTo>
                  <a:cubicBezTo>
                    <a:pt x="217" y="829"/>
                    <a:pt x="236" y="790"/>
                    <a:pt x="260" y="766"/>
                  </a:cubicBezTo>
                  <a:cubicBezTo>
                    <a:pt x="314" y="712"/>
                    <a:pt x="271" y="772"/>
                    <a:pt x="305" y="720"/>
                  </a:cubicBezTo>
                  <a:cubicBezTo>
                    <a:pt x="308" y="730"/>
                    <a:pt x="309" y="741"/>
                    <a:pt x="313" y="751"/>
                  </a:cubicBezTo>
                  <a:cubicBezTo>
                    <a:pt x="317" y="759"/>
                    <a:pt x="328" y="764"/>
                    <a:pt x="328" y="773"/>
                  </a:cubicBezTo>
                  <a:cubicBezTo>
                    <a:pt x="328" y="782"/>
                    <a:pt x="317" y="788"/>
                    <a:pt x="313" y="796"/>
                  </a:cubicBezTo>
                  <a:cubicBezTo>
                    <a:pt x="280" y="873"/>
                    <a:pt x="319" y="812"/>
                    <a:pt x="275" y="887"/>
                  </a:cubicBezTo>
                  <a:cubicBezTo>
                    <a:pt x="258" y="916"/>
                    <a:pt x="240" y="943"/>
                    <a:pt x="222" y="971"/>
                  </a:cubicBezTo>
                  <a:cubicBezTo>
                    <a:pt x="207" y="995"/>
                    <a:pt x="206" y="1029"/>
                    <a:pt x="184" y="1046"/>
                  </a:cubicBezTo>
                  <a:cubicBezTo>
                    <a:pt x="148" y="1073"/>
                    <a:pt x="163" y="1060"/>
                    <a:pt x="138" y="1084"/>
                  </a:cubicBezTo>
                  <a:cubicBezTo>
                    <a:pt x="95" y="1070"/>
                    <a:pt x="114" y="1083"/>
                    <a:pt x="101" y="1008"/>
                  </a:cubicBezTo>
                  <a:cubicBezTo>
                    <a:pt x="85" y="916"/>
                    <a:pt x="68" y="882"/>
                    <a:pt x="17" y="804"/>
                  </a:cubicBezTo>
                  <a:cubicBezTo>
                    <a:pt x="0" y="854"/>
                    <a:pt x="6" y="883"/>
                    <a:pt x="17" y="933"/>
                  </a:cubicBezTo>
                  <a:cubicBezTo>
                    <a:pt x="30" y="895"/>
                    <a:pt x="13" y="801"/>
                    <a:pt x="47" y="887"/>
                  </a:cubicBezTo>
                  <a:cubicBezTo>
                    <a:pt x="55" y="943"/>
                    <a:pt x="61" y="998"/>
                    <a:pt x="70" y="1054"/>
                  </a:cubicBezTo>
                  <a:cubicBezTo>
                    <a:pt x="75" y="1087"/>
                    <a:pt x="85" y="1152"/>
                    <a:pt x="85" y="1152"/>
                  </a:cubicBezTo>
                  <a:cubicBezTo>
                    <a:pt x="93" y="1117"/>
                    <a:pt x="88" y="1076"/>
                    <a:pt x="108" y="1046"/>
                  </a:cubicBezTo>
                  <a:cubicBezTo>
                    <a:pt x="118" y="1031"/>
                    <a:pt x="138" y="1001"/>
                    <a:pt x="138" y="1001"/>
                  </a:cubicBezTo>
                  <a:cubicBezTo>
                    <a:pt x="131" y="1095"/>
                    <a:pt x="119" y="1189"/>
                    <a:pt x="101" y="1281"/>
                  </a:cubicBezTo>
                  <a:cubicBezTo>
                    <a:pt x="97" y="1302"/>
                    <a:pt x="89" y="1321"/>
                    <a:pt x="85" y="1342"/>
                  </a:cubicBezTo>
                  <a:cubicBezTo>
                    <a:pt x="81" y="1359"/>
                    <a:pt x="81" y="1377"/>
                    <a:pt x="78" y="1395"/>
                  </a:cubicBezTo>
                  <a:cubicBezTo>
                    <a:pt x="76" y="1410"/>
                    <a:pt x="60" y="1451"/>
                    <a:pt x="70" y="1440"/>
                  </a:cubicBezTo>
                  <a:cubicBezTo>
                    <a:pt x="82" y="1426"/>
                    <a:pt x="79" y="1404"/>
                    <a:pt x="85" y="1387"/>
                  </a:cubicBezTo>
                  <a:cubicBezTo>
                    <a:pt x="126" y="1274"/>
                    <a:pt x="165" y="1159"/>
                    <a:pt x="207" y="1046"/>
                  </a:cubicBezTo>
                  <a:cubicBezTo>
                    <a:pt x="223" y="924"/>
                    <a:pt x="214" y="909"/>
                    <a:pt x="229" y="1175"/>
                  </a:cubicBezTo>
                  <a:cubicBezTo>
                    <a:pt x="230" y="1195"/>
                    <a:pt x="233" y="1216"/>
                    <a:pt x="237" y="1236"/>
                  </a:cubicBezTo>
                  <a:cubicBezTo>
                    <a:pt x="241" y="1254"/>
                    <a:pt x="254" y="1307"/>
                    <a:pt x="252" y="1289"/>
                  </a:cubicBezTo>
                  <a:cubicBezTo>
                    <a:pt x="247" y="1248"/>
                    <a:pt x="237" y="1208"/>
                    <a:pt x="229" y="1168"/>
                  </a:cubicBezTo>
                  <a:cubicBezTo>
                    <a:pt x="226" y="1153"/>
                    <a:pt x="226" y="1137"/>
                    <a:pt x="222" y="1122"/>
                  </a:cubicBezTo>
                  <a:cubicBezTo>
                    <a:pt x="219" y="1109"/>
                    <a:pt x="201" y="1072"/>
                    <a:pt x="207" y="1084"/>
                  </a:cubicBezTo>
                  <a:cubicBezTo>
                    <a:pt x="240" y="1150"/>
                    <a:pt x="255" y="1195"/>
                    <a:pt x="298" y="1251"/>
                  </a:cubicBezTo>
                  <a:cubicBezTo>
                    <a:pt x="292" y="1169"/>
                    <a:pt x="282" y="1093"/>
                    <a:pt x="252" y="1016"/>
                  </a:cubicBezTo>
                  <a:cubicBezTo>
                    <a:pt x="250" y="1003"/>
                    <a:pt x="239" y="990"/>
                    <a:pt x="245" y="978"/>
                  </a:cubicBezTo>
                  <a:cubicBezTo>
                    <a:pt x="248" y="971"/>
                    <a:pt x="262" y="980"/>
                    <a:pt x="267" y="986"/>
                  </a:cubicBezTo>
                  <a:cubicBezTo>
                    <a:pt x="273" y="994"/>
                    <a:pt x="272" y="1006"/>
                    <a:pt x="275" y="1016"/>
                  </a:cubicBezTo>
                  <a:cubicBezTo>
                    <a:pt x="277" y="1006"/>
                    <a:pt x="279" y="996"/>
                    <a:pt x="282" y="986"/>
                  </a:cubicBezTo>
                  <a:cubicBezTo>
                    <a:pt x="284" y="978"/>
                    <a:pt x="295" y="956"/>
                    <a:pt x="290" y="963"/>
                  </a:cubicBezTo>
                  <a:cubicBezTo>
                    <a:pt x="249" y="1023"/>
                    <a:pt x="241" y="1100"/>
                    <a:pt x="222" y="1168"/>
                  </a:cubicBezTo>
                  <a:cubicBezTo>
                    <a:pt x="217" y="1185"/>
                    <a:pt x="217" y="1203"/>
                    <a:pt x="214" y="1221"/>
                  </a:cubicBezTo>
                  <a:cubicBezTo>
                    <a:pt x="212" y="1234"/>
                    <a:pt x="198" y="1268"/>
                    <a:pt x="207" y="1259"/>
                  </a:cubicBezTo>
                  <a:cubicBezTo>
                    <a:pt x="228" y="1237"/>
                    <a:pt x="232" y="1203"/>
                    <a:pt x="245" y="1175"/>
                  </a:cubicBezTo>
                  <a:cubicBezTo>
                    <a:pt x="256" y="1150"/>
                    <a:pt x="259" y="1139"/>
                    <a:pt x="267" y="1115"/>
                  </a:cubicBezTo>
                  <a:cubicBezTo>
                    <a:pt x="305" y="1219"/>
                    <a:pt x="279" y="1140"/>
                    <a:pt x="267" y="1403"/>
                  </a:cubicBezTo>
                  <a:cubicBezTo>
                    <a:pt x="266" y="1431"/>
                    <a:pt x="272" y="1466"/>
                    <a:pt x="252" y="1486"/>
                  </a:cubicBezTo>
                  <a:cubicBezTo>
                    <a:pt x="248" y="1490"/>
                    <a:pt x="252" y="1476"/>
                    <a:pt x="252" y="14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20"/>
            <p:cNvSpPr/>
            <p:nvPr/>
          </p:nvSpPr>
          <p:spPr>
            <a:xfrm>
              <a:off x="2458800" y="4471920"/>
              <a:ext cx="1006200" cy="2022120"/>
            </a:xfrm>
            <a:custGeom>
              <a:avLst/>
              <a:gdLst/>
              <a:ahLst/>
              <a:rect l="l" t="t" r="r" b="b"/>
              <a:pathLst>
                <a:path w="634" h="1274">
                  <a:moveTo>
                    <a:pt x="478" y="1107"/>
                  </a:moveTo>
                  <a:cubicBezTo>
                    <a:pt x="475" y="1052"/>
                    <a:pt x="465" y="996"/>
                    <a:pt x="470" y="941"/>
                  </a:cubicBezTo>
                  <a:cubicBezTo>
                    <a:pt x="471" y="932"/>
                    <a:pt x="487" y="949"/>
                    <a:pt x="493" y="956"/>
                  </a:cubicBezTo>
                  <a:cubicBezTo>
                    <a:pt x="515" y="981"/>
                    <a:pt x="523" y="1018"/>
                    <a:pt x="539" y="1047"/>
                  </a:cubicBezTo>
                  <a:cubicBezTo>
                    <a:pt x="534" y="1021"/>
                    <a:pt x="528" y="986"/>
                    <a:pt x="516" y="963"/>
                  </a:cubicBezTo>
                  <a:cubicBezTo>
                    <a:pt x="505" y="942"/>
                    <a:pt x="489" y="924"/>
                    <a:pt x="478" y="903"/>
                  </a:cubicBezTo>
                  <a:cubicBezTo>
                    <a:pt x="480" y="890"/>
                    <a:pt x="476" y="874"/>
                    <a:pt x="485" y="865"/>
                  </a:cubicBezTo>
                  <a:cubicBezTo>
                    <a:pt x="500" y="850"/>
                    <a:pt x="539" y="914"/>
                    <a:pt x="546" y="926"/>
                  </a:cubicBezTo>
                  <a:cubicBezTo>
                    <a:pt x="552" y="936"/>
                    <a:pt x="557" y="946"/>
                    <a:pt x="561" y="956"/>
                  </a:cubicBezTo>
                  <a:cubicBezTo>
                    <a:pt x="565" y="966"/>
                    <a:pt x="570" y="996"/>
                    <a:pt x="569" y="986"/>
                  </a:cubicBezTo>
                  <a:cubicBezTo>
                    <a:pt x="566" y="950"/>
                    <a:pt x="563" y="915"/>
                    <a:pt x="554" y="880"/>
                  </a:cubicBezTo>
                  <a:cubicBezTo>
                    <a:pt x="541" y="829"/>
                    <a:pt x="441" y="749"/>
                    <a:pt x="546" y="819"/>
                  </a:cubicBezTo>
                  <a:cubicBezTo>
                    <a:pt x="551" y="829"/>
                    <a:pt x="557" y="839"/>
                    <a:pt x="561" y="850"/>
                  </a:cubicBezTo>
                  <a:cubicBezTo>
                    <a:pt x="565" y="860"/>
                    <a:pt x="569" y="890"/>
                    <a:pt x="569" y="880"/>
                  </a:cubicBezTo>
                  <a:cubicBezTo>
                    <a:pt x="569" y="826"/>
                    <a:pt x="536" y="774"/>
                    <a:pt x="508" y="729"/>
                  </a:cubicBezTo>
                  <a:cubicBezTo>
                    <a:pt x="501" y="698"/>
                    <a:pt x="481" y="660"/>
                    <a:pt x="531" y="675"/>
                  </a:cubicBezTo>
                  <a:cubicBezTo>
                    <a:pt x="567" y="712"/>
                    <a:pt x="586" y="754"/>
                    <a:pt x="614" y="797"/>
                  </a:cubicBezTo>
                  <a:cubicBezTo>
                    <a:pt x="607" y="693"/>
                    <a:pt x="590" y="649"/>
                    <a:pt x="569" y="554"/>
                  </a:cubicBezTo>
                  <a:cubicBezTo>
                    <a:pt x="573" y="612"/>
                    <a:pt x="584" y="670"/>
                    <a:pt x="584" y="729"/>
                  </a:cubicBezTo>
                  <a:cubicBezTo>
                    <a:pt x="584" y="812"/>
                    <a:pt x="582" y="896"/>
                    <a:pt x="576" y="979"/>
                  </a:cubicBezTo>
                  <a:cubicBezTo>
                    <a:pt x="575" y="995"/>
                    <a:pt x="561" y="1024"/>
                    <a:pt x="561" y="1024"/>
                  </a:cubicBezTo>
                  <a:cubicBezTo>
                    <a:pt x="567" y="977"/>
                    <a:pt x="564" y="968"/>
                    <a:pt x="576" y="933"/>
                  </a:cubicBezTo>
                  <a:cubicBezTo>
                    <a:pt x="586" y="905"/>
                    <a:pt x="607" y="850"/>
                    <a:pt x="607" y="850"/>
                  </a:cubicBezTo>
                  <a:cubicBezTo>
                    <a:pt x="621" y="773"/>
                    <a:pt x="634" y="703"/>
                    <a:pt x="614" y="622"/>
                  </a:cubicBezTo>
                  <a:cubicBezTo>
                    <a:pt x="609" y="601"/>
                    <a:pt x="589" y="587"/>
                    <a:pt x="576" y="569"/>
                  </a:cubicBezTo>
                  <a:cubicBezTo>
                    <a:pt x="570" y="560"/>
                    <a:pt x="592" y="584"/>
                    <a:pt x="599" y="592"/>
                  </a:cubicBezTo>
                  <a:cubicBezTo>
                    <a:pt x="605" y="599"/>
                    <a:pt x="609" y="607"/>
                    <a:pt x="614" y="615"/>
                  </a:cubicBezTo>
                  <a:cubicBezTo>
                    <a:pt x="606" y="544"/>
                    <a:pt x="596" y="538"/>
                    <a:pt x="561" y="478"/>
                  </a:cubicBezTo>
                  <a:cubicBezTo>
                    <a:pt x="523" y="412"/>
                    <a:pt x="551" y="455"/>
                    <a:pt x="531" y="410"/>
                  </a:cubicBezTo>
                  <a:cubicBezTo>
                    <a:pt x="527" y="400"/>
                    <a:pt x="508" y="372"/>
                    <a:pt x="516" y="380"/>
                  </a:cubicBezTo>
                  <a:cubicBezTo>
                    <a:pt x="534" y="398"/>
                    <a:pt x="561" y="441"/>
                    <a:pt x="561" y="441"/>
                  </a:cubicBezTo>
                  <a:cubicBezTo>
                    <a:pt x="557" y="393"/>
                    <a:pt x="552" y="350"/>
                    <a:pt x="539" y="304"/>
                  </a:cubicBezTo>
                  <a:cubicBezTo>
                    <a:pt x="535" y="289"/>
                    <a:pt x="523" y="259"/>
                    <a:pt x="523" y="259"/>
                  </a:cubicBezTo>
                  <a:cubicBezTo>
                    <a:pt x="521" y="266"/>
                    <a:pt x="524" y="281"/>
                    <a:pt x="516" y="281"/>
                  </a:cubicBezTo>
                  <a:cubicBezTo>
                    <a:pt x="508" y="281"/>
                    <a:pt x="510" y="266"/>
                    <a:pt x="508" y="259"/>
                  </a:cubicBezTo>
                  <a:cubicBezTo>
                    <a:pt x="495" y="220"/>
                    <a:pt x="508" y="250"/>
                    <a:pt x="485" y="206"/>
                  </a:cubicBezTo>
                  <a:cubicBezTo>
                    <a:pt x="447" y="0"/>
                    <a:pt x="407" y="654"/>
                    <a:pt x="485" y="456"/>
                  </a:cubicBezTo>
                  <a:cubicBezTo>
                    <a:pt x="493" y="392"/>
                    <a:pt x="508" y="330"/>
                    <a:pt x="516" y="266"/>
                  </a:cubicBezTo>
                  <a:cubicBezTo>
                    <a:pt x="538" y="280"/>
                    <a:pt x="554" y="297"/>
                    <a:pt x="576" y="312"/>
                  </a:cubicBezTo>
                  <a:cubicBezTo>
                    <a:pt x="580" y="218"/>
                    <a:pt x="606" y="120"/>
                    <a:pt x="576" y="31"/>
                  </a:cubicBezTo>
                  <a:cubicBezTo>
                    <a:pt x="573" y="21"/>
                    <a:pt x="572" y="52"/>
                    <a:pt x="569" y="62"/>
                  </a:cubicBezTo>
                  <a:cubicBezTo>
                    <a:pt x="565" y="75"/>
                    <a:pt x="560" y="87"/>
                    <a:pt x="554" y="99"/>
                  </a:cubicBezTo>
                  <a:cubicBezTo>
                    <a:pt x="542" y="122"/>
                    <a:pt x="528" y="145"/>
                    <a:pt x="516" y="168"/>
                  </a:cubicBezTo>
                  <a:cubicBezTo>
                    <a:pt x="499" y="262"/>
                    <a:pt x="514" y="226"/>
                    <a:pt x="485" y="281"/>
                  </a:cubicBezTo>
                  <a:cubicBezTo>
                    <a:pt x="466" y="221"/>
                    <a:pt x="445" y="18"/>
                    <a:pt x="501" y="122"/>
                  </a:cubicBezTo>
                  <a:cubicBezTo>
                    <a:pt x="486" y="208"/>
                    <a:pt x="489" y="151"/>
                    <a:pt x="455" y="107"/>
                  </a:cubicBezTo>
                  <a:cubicBezTo>
                    <a:pt x="467" y="74"/>
                    <a:pt x="494" y="59"/>
                    <a:pt x="523" y="39"/>
                  </a:cubicBezTo>
                  <a:cubicBezTo>
                    <a:pt x="494" y="28"/>
                    <a:pt x="478" y="39"/>
                    <a:pt x="448" y="46"/>
                  </a:cubicBezTo>
                  <a:cubicBezTo>
                    <a:pt x="478" y="57"/>
                    <a:pt x="507" y="63"/>
                    <a:pt x="539" y="69"/>
                  </a:cubicBezTo>
                  <a:cubicBezTo>
                    <a:pt x="546" y="74"/>
                    <a:pt x="553" y="87"/>
                    <a:pt x="561" y="84"/>
                  </a:cubicBezTo>
                  <a:cubicBezTo>
                    <a:pt x="577" y="78"/>
                    <a:pt x="577" y="34"/>
                    <a:pt x="584" y="24"/>
                  </a:cubicBezTo>
                  <a:cubicBezTo>
                    <a:pt x="589" y="16"/>
                    <a:pt x="607" y="9"/>
                    <a:pt x="607" y="9"/>
                  </a:cubicBezTo>
                  <a:cubicBezTo>
                    <a:pt x="572" y="201"/>
                    <a:pt x="554" y="394"/>
                    <a:pt x="516" y="585"/>
                  </a:cubicBezTo>
                  <a:cubicBezTo>
                    <a:pt x="497" y="681"/>
                    <a:pt x="479" y="767"/>
                    <a:pt x="425" y="850"/>
                  </a:cubicBezTo>
                  <a:cubicBezTo>
                    <a:pt x="409" y="773"/>
                    <a:pt x="469" y="735"/>
                    <a:pt x="493" y="660"/>
                  </a:cubicBezTo>
                  <a:cubicBezTo>
                    <a:pt x="496" y="642"/>
                    <a:pt x="505" y="624"/>
                    <a:pt x="501" y="607"/>
                  </a:cubicBezTo>
                  <a:cubicBezTo>
                    <a:pt x="499" y="600"/>
                    <a:pt x="489" y="616"/>
                    <a:pt x="485" y="622"/>
                  </a:cubicBezTo>
                  <a:cubicBezTo>
                    <a:pt x="476" y="634"/>
                    <a:pt x="469" y="646"/>
                    <a:pt x="463" y="660"/>
                  </a:cubicBezTo>
                  <a:cubicBezTo>
                    <a:pt x="438" y="722"/>
                    <a:pt x="424" y="787"/>
                    <a:pt x="402" y="850"/>
                  </a:cubicBezTo>
                  <a:cubicBezTo>
                    <a:pt x="408" y="797"/>
                    <a:pt x="414" y="744"/>
                    <a:pt x="425" y="691"/>
                  </a:cubicBezTo>
                  <a:cubicBezTo>
                    <a:pt x="422" y="683"/>
                    <a:pt x="421" y="661"/>
                    <a:pt x="417" y="668"/>
                  </a:cubicBezTo>
                  <a:cubicBezTo>
                    <a:pt x="406" y="686"/>
                    <a:pt x="402" y="729"/>
                    <a:pt x="402" y="729"/>
                  </a:cubicBezTo>
                  <a:cubicBezTo>
                    <a:pt x="397" y="807"/>
                    <a:pt x="407" y="827"/>
                    <a:pt x="372" y="880"/>
                  </a:cubicBezTo>
                  <a:cubicBezTo>
                    <a:pt x="362" y="804"/>
                    <a:pt x="346" y="732"/>
                    <a:pt x="304" y="668"/>
                  </a:cubicBezTo>
                  <a:cubicBezTo>
                    <a:pt x="245" y="677"/>
                    <a:pt x="250" y="679"/>
                    <a:pt x="220" y="729"/>
                  </a:cubicBezTo>
                  <a:cubicBezTo>
                    <a:pt x="220" y="729"/>
                    <a:pt x="231" y="661"/>
                    <a:pt x="235" y="653"/>
                  </a:cubicBezTo>
                  <a:cubicBezTo>
                    <a:pt x="243" y="636"/>
                    <a:pt x="272" y="589"/>
                    <a:pt x="266" y="607"/>
                  </a:cubicBezTo>
                  <a:cubicBezTo>
                    <a:pt x="261" y="622"/>
                    <a:pt x="256" y="638"/>
                    <a:pt x="251" y="653"/>
                  </a:cubicBezTo>
                  <a:cubicBezTo>
                    <a:pt x="248" y="663"/>
                    <a:pt x="246" y="673"/>
                    <a:pt x="243" y="683"/>
                  </a:cubicBezTo>
                  <a:cubicBezTo>
                    <a:pt x="227" y="808"/>
                    <a:pt x="245" y="722"/>
                    <a:pt x="251" y="691"/>
                  </a:cubicBezTo>
                  <a:cubicBezTo>
                    <a:pt x="254" y="676"/>
                    <a:pt x="254" y="660"/>
                    <a:pt x="258" y="645"/>
                  </a:cubicBezTo>
                  <a:cubicBezTo>
                    <a:pt x="261" y="632"/>
                    <a:pt x="268" y="620"/>
                    <a:pt x="273" y="607"/>
                  </a:cubicBezTo>
                  <a:cubicBezTo>
                    <a:pt x="296" y="482"/>
                    <a:pt x="297" y="450"/>
                    <a:pt x="281" y="713"/>
                  </a:cubicBezTo>
                  <a:cubicBezTo>
                    <a:pt x="278" y="767"/>
                    <a:pt x="266" y="828"/>
                    <a:pt x="235" y="873"/>
                  </a:cubicBezTo>
                  <a:cubicBezTo>
                    <a:pt x="216" y="952"/>
                    <a:pt x="213" y="856"/>
                    <a:pt x="205" y="842"/>
                  </a:cubicBezTo>
                  <a:cubicBezTo>
                    <a:pt x="200" y="834"/>
                    <a:pt x="190" y="832"/>
                    <a:pt x="182" y="827"/>
                  </a:cubicBezTo>
                  <a:cubicBezTo>
                    <a:pt x="180" y="840"/>
                    <a:pt x="188" y="865"/>
                    <a:pt x="175" y="865"/>
                  </a:cubicBezTo>
                  <a:cubicBezTo>
                    <a:pt x="160" y="865"/>
                    <a:pt x="159" y="840"/>
                    <a:pt x="152" y="827"/>
                  </a:cubicBezTo>
                  <a:cubicBezTo>
                    <a:pt x="148" y="820"/>
                    <a:pt x="136" y="807"/>
                    <a:pt x="144" y="804"/>
                  </a:cubicBezTo>
                  <a:cubicBezTo>
                    <a:pt x="155" y="800"/>
                    <a:pt x="165" y="814"/>
                    <a:pt x="175" y="819"/>
                  </a:cubicBezTo>
                  <a:cubicBezTo>
                    <a:pt x="229" y="877"/>
                    <a:pt x="121" y="764"/>
                    <a:pt x="114" y="759"/>
                  </a:cubicBezTo>
                  <a:cubicBezTo>
                    <a:pt x="52" y="718"/>
                    <a:pt x="53" y="720"/>
                    <a:pt x="122" y="759"/>
                  </a:cubicBezTo>
                  <a:cubicBezTo>
                    <a:pt x="176" y="833"/>
                    <a:pt x="124" y="751"/>
                    <a:pt x="114" y="736"/>
                  </a:cubicBezTo>
                  <a:cubicBezTo>
                    <a:pt x="102" y="697"/>
                    <a:pt x="85" y="701"/>
                    <a:pt x="122" y="675"/>
                  </a:cubicBezTo>
                  <a:cubicBezTo>
                    <a:pt x="127" y="668"/>
                    <a:pt x="133" y="645"/>
                    <a:pt x="137" y="653"/>
                  </a:cubicBezTo>
                  <a:cubicBezTo>
                    <a:pt x="142" y="665"/>
                    <a:pt x="132" y="678"/>
                    <a:pt x="129" y="691"/>
                  </a:cubicBezTo>
                  <a:cubicBezTo>
                    <a:pt x="121" y="731"/>
                    <a:pt x="121" y="738"/>
                    <a:pt x="114" y="782"/>
                  </a:cubicBezTo>
                  <a:cubicBezTo>
                    <a:pt x="112" y="817"/>
                    <a:pt x="110" y="853"/>
                    <a:pt x="107" y="888"/>
                  </a:cubicBezTo>
                  <a:cubicBezTo>
                    <a:pt x="97" y="1001"/>
                    <a:pt x="93" y="954"/>
                    <a:pt x="122" y="910"/>
                  </a:cubicBezTo>
                  <a:cubicBezTo>
                    <a:pt x="133" y="946"/>
                    <a:pt x="131" y="922"/>
                    <a:pt x="114" y="963"/>
                  </a:cubicBezTo>
                  <a:cubicBezTo>
                    <a:pt x="94" y="1010"/>
                    <a:pt x="82" y="1081"/>
                    <a:pt x="53" y="1123"/>
                  </a:cubicBezTo>
                  <a:cubicBezTo>
                    <a:pt x="51" y="1130"/>
                    <a:pt x="38" y="1145"/>
                    <a:pt x="46" y="1145"/>
                  </a:cubicBezTo>
                  <a:cubicBezTo>
                    <a:pt x="55" y="1145"/>
                    <a:pt x="54" y="1129"/>
                    <a:pt x="61" y="1123"/>
                  </a:cubicBezTo>
                  <a:cubicBezTo>
                    <a:pt x="75" y="1111"/>
                    <a:pt x="107" y="1092"/>
                    <a:pt x="107" y="1092"/>
                  </a:cubicBezTo>
                  <a:cubicBezTo>
                    <a:pt x="99" y="1102"/>
                    <a:pt x="90" y="1112"/>
                    <a:pt x="84" y="1123"/>
                  </a:cubicBezTo>
                  <a:cubicBezTo>
                    <a:pt x="69" y="1152"/>
                    <a:pt x="81" y="1188"/>
                    <a:pt x="69" y="1107"/>
                  </a:cubicBezTo>
                  <a:cubicBezTo>
                    <a:pt x="74" y="1092"/>
                    <a:pt x="92" y="1048"/>
                    <a:pt x="84" y="1062"/>
                  </a:cubicBezTo>
                  <a:cubicBezTo>
                    <a:pt x="57" y="1107"/>
                    <a:pt x="41" y="1156"/>
                    <a:pt x="23" y="1206"/>
                  </a:cubicBezTo>
                  <a:cubicBezTo>
                    <a:pt x="15" y="1229"/>
                    <a:pt x="0" y="1274"/>
                    <a:pt x="0" y="12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21"/>
            <p:cNvSpPr/>
            <p:nvPr/>
          </p:nvSpPr>
          <p:spPr>
            <a:xfrm>
              <a:off x="1677600" y="5629320"/>
              <a:ext cx="709560" cy="507600"/>
            </a:xfrm>
            <a:custGeom>
              <a:avLst/>
              <a:gdLst/>
              <a:ahLst/>
              <a:rect l="l" t="t" r="r" b="b"/>
              <a:pathLst>
                <a:path w="447" h="320">
                  <a:moveTo>
                    <a:pt x="0" y="98"/>
                  </a:moveTo>
                  <a:cubicBezTo>
                    <a:pt x="56" y="76"/>
                    <a:pt x="24" y="96"/>
                    <a:pt x="60" y="53"/>
                  </a:cubicBezTo>
                  <a:cubicBezTo>
                    <a:pt x="65" y="47"/>
                    <a:pt x="76" y="29"/>
                    <a:pt x="76" y="37"/>
                  </a:cubicBezTo>
                  <a:cubicBezTo>
                    <a:pt x="76" y="46"/>
                    <a:pt x="41" y="79"/>
                    <a:pt x="38" y="83"/>
                  </a:cubicBezTo>
                  <a:cubicBezTo>
                    <a:pt x="32" y="90"/>
                    <a:pt x="14" y="104"/>
                    <a:pt x="23" y="106"/>
                  </a:cubicBezTo>
                  <a:cubicBezTo>
                    <a:pt x="39" y="110"/>
                    <a:pt x="53" y="96"/>
                    <a:pt x="68" y="90"/>
                  </a:cubicBezTo>
                  <a:cubicBezTo>
                    <a:pt x="103" y="75"/>
                    <a:pt x="131" y="64"/>
                    <a:pt x="167" y="53"/>
                  </a:cubicBezTo>
                  <a:cubicBezTo>
                    <a:pt x="148" y="78"/>
                    <a:pt x="131" y="103"/>
                    <a:pt x="113" y="128"/>
                  </a:cubicBezTo>
                  <a:cubicBezTo>
                    <a:pt x="111" y="136"/>
                    <a:pt x="109" y="144"/>
                    <a:pt x="106" y="151"/>
                  </a:cubicBezTo>
                  <a:cubicBezTo>
                    <a:pt x="102" y="161"/>
                    <a:pt x="81" y="186"/>
                    <a:pt x="91" y="181"/>
                  </a:cubicBezTo>
                  <a:cubicBezTo>
                    <a:pt x="105" y="174"/>
                    <a:pt x="112" y="157"/>
                    <a:pt x="121" y="144"/>
                  </a:cubicBezTo>
                  <a:cubicBezTo>
                    <a:pt x="127" y="134"/>
                    <a:pt x="129" y="122"/>
                    <a:pt x="136" y="113"/>
                  </a:cubicBezTo>
                  <a:cubicBezTo>
                    <a:pt x="142" y="106"/>
                    <a:pt x="152" y="104"/>
                    <a:pt x="159" y="98"/>
                  </a:cubicBezTo>
                  <a:cubicBezTo>
                    <a:pt x="172" y="87"/>
                    <a:pt x="235" y="16"/>
                    <a:pt x="159" y="113"/>
                  </a:cubicBezTo>
                  <a:cubicBezTo>
                    <a:pt x="152" y="122"/>
                    <a:pt x="144" y="128"/>
                    <a:pt x="136" y="136"/>
                  </a:cubicBezTo>
                  <a:cubicBezTo>
                    <a:pt x="128" y="156"/>
                    <a:pt x="124" y="178"/>
                    <a:pt x="113" y="197"/>
                  </a:cubicBezTo>
                  <a:cubicBezTo>
                    <a:pt x="104" y="213"/>
                    <a:pt x="83" y="242"/>
                    <a:pt x="83" y="242"/>
                  </a:cubicBezTo>
                  <a:cubicBezTo>
                    <a:pt x="92" y="209"/>
                    <a:pt x="104" y="197"/>
                    <a:pt x="129" y="174"/>
                  </a:cubicBezTo>
                  <a:cubicBezTo>
                    <a:pt x="136" y="233"/>
                    <a:pt x="142" y="240"/>
                    <a:pt x="167" y="288"/>
                  </a:cubicBezTo>
                  <a:cubicBezTo>
                    <a:pt x="181" y="241"/>
                    <a:pt x="147" y="92"/>
                    <a:pt x="197" y="166"/>
                  </a:cubicBezTo>
                  <a:cubicBezTo>
                    <a:pt x="213" y="218"/>
                    <a:pt x="204" y="320"/>
                    <a:pt x="220" y="159"/>
                  </a:cubicBezTo>
                  <a:cubicBezTo>
                    <a:pt x="227" y="161"/>
                    <a:pt x="237" y="161"/>
                    <a:pt x="242" y="166"/>
                  </a:cubicBezTo>
                  <a:cubicBezTo>
                    <a:pt x="265" y="189"/>
                    <a:pt x="229" y="203"/>
                    <a:pt x="273" y="174"/>
                  </a:cubicBezTo>
                  <a:cubicBezTo>
                    <a:pt x="285" y="157"/>
                    <a:pt x="304" y="110"/>
                    <a:pt x="318" y="98"/>
                  </a:cubicBezTo>
                  <a:cubicBezTo>
                    <a:pt x="332" y="86"/>
                    <a:pt x="364" y="68"/>
                    <a:pt x="364" y="68"/>
                  </a:cubicBezTo>
                  <a:cubicBezTo>
                    <a:pt x="369" y="60"/>
                    <a:pt x="370" y="45"/>
                    <a:pt x="379" y="45"/>
                  </a:cubicBezTo>
                  <a:cubicBezTo>
                    <a:pt x="387" y="45"/>
                    <a:pt x="375" y="61"/>
                    <a:pt x="371" y="68"/>
                  </a:cubicBezTo>
                  <a:cubicBezTo>
                    <a:pt x="360" y="89"/>
                    <a:pt x="345" y="108"/>
                    <a:pt x="333" y="128"/>
                  </a:cubicBezTo>
                  <a:cubicBezTo>
                    <a:pt x="331" y="141"/>
                    <a:pt x="332" y="154"/>
                    <a:pt x="326" y="166"/>
                  </a:cubicBezTo>
                  <a:cubicBezTo>
                    <a:pt x="321" y="176"/>
                    <a:pt x="310" y="180"/>
                    <a:pt x="303" y="189"/>
                  </a:cubicBezTo>
                  <a:cubicBezTo>
                    <a:pt x="275" y="227"/>
                    <a:pt x="255" y="271"/>
                    <a:pt x="227" y="310"/>
                  </a:cubicBezTo>
                  <a:cubicBezTo>
                    <a:pt x="222" y="316"/>
                    <a:pt x="231" y="295"/>
                    <a:pt x="235" y="288"/>
                  </a:cubicBezTo>
                  <a:cubicBezTo>
                    <a:pt x="239" y="282"/>
                    <a:pt x="246" y="278"/>
                    <a:pt x="250" y="272"/>
                  </a:cubicBezTo>
                  <a:cubicBezTo>
                    <a:pt x="287" y="215"/>
                    <a:pt x="240" y="267"/>
                    <a:pt x="288" y="219"/>
                  </a:cubicBezTo>
                  <a:cubicBezTo>
                    <a:pt x="297" y="191"/>
                    <a:pt x="310" y="168"/>
                    <a:pt x="326" y="144"/>
                  </a:cubicBezTo>
                  <a:cubicBezTo>
                    <a:pt x="350" y="68"/>
                    <a:pt x="340" y="98"/>
                    <a:pt x="356" y="53"/>
                  </a:cubicBezTo>
                  <a:cubicBezTo>
                    <a:pt x="364" y="55"/>
                    <a:pt x="372" y="64"/>
                    <a:pt x="379" y="60"/>
                  </a:cubicBezTo>
                  <a:cubicBezTo>
                    <a:pt x="389" y="54"/>
                    <a:pt x="391" y="19"/>
                    <a:pt x="394" y="30"/>
                  </a:cubicBezTo>
                  <a:cubicBezTo>
                    <a:pt x="399" y="47"/>
                    <a:pt x="389" y="65"/>
                    <a:pt x="386" y="83"/>
                  </a:cubicBezTo>
                  <a:cubicBezTo>
                    <a:pt x="372" y="159"/>
                    <a:pt x="389" y="55"/>
                    <a:pt x="348" y="159"/>
                  </a:cubicBezTo>
                  <a:cubicBezTo>
                    <a:pt x="331" y="202"/>
                    <a:pt x="319" y="254"/>
                    <a:pt x="280" y="280"/>
                  </a:cubicBezTo>
                  <a:cubicBezTo>
                    <a:pt x="289" y="254"/>
                    <a:pt x="323" y="169"/>
                    <a:pt x="341" y="151"/>
                  </a:cubicBezTo>
                  <a:cubicBezTo>
                    <a:pt x="347" y="145"/>
                    <a:pt x="356" y="146"/>
                    <a:pt x="364" y="144"/>
                  </a:cubicBezTo>
                  <a:cubicBezTo>
                    <a:pt x="398" y="120"/>
                    <a:pt x="409" y="87"/>
                    <a:pt x="432" y="53"/>
                  </a:cubicBezTo>
                  <a:cubicBezTo>
                    <a:pt x="437" y="37"/>
                    <a:pt x="447" y="17"/>
                    <a:pt x="4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22"/>
            <p:cNvSpPr/>
            <p:nvPr/>
          </p:nvSpPr>
          <p:spPr>
            <a:xfrm>
              <a:off x="4781160" y="4678200"/>
              <a:ext cx="385920" cy="1334880"/>
            </a:xfrm>
            <a:custGeom>
              <a:avLst/>
              <a:gdLst/>
              <a:ahLst/>
              <a:rect l="l" t="t" r="r" b="b"/>
              <a:pathLst>
                <a:path w="243" h="841">
                  <a:moveTo>
                    <a:pt x="243" y="841"/>
                  </a:moveTo>
                  <a:cubicBezTo>
                    <a:pt x="238" y="831"/>
                    <a:pt x="234" y="820"/>
                    <a:pt x="228" y="811"/>
                  </a:cubicBezTo>
                  <a:cubicBezTo>
                    <a:pt x="221" y="801"/>
                    <a:pt x="164" y="757"/>
                    <a:pt x="220" y="796"/>
                  </a:cubicBezTo>
                  <a:cubicBezTo>
                    <a:pt x="215" y="781"/>
                    <a:pt x="211" y="765"/>
                    <a:pt x="205" y="750"/>
                  </a:cubicBezTo>
                  <a:cubicBezTo>
                    <a:pt x="201" y="742"/>
                    <a:pt x="182" y="731"/>
                    <a:pt x="190" y="727"/>
                  </a:cubicBezTo>
                  <a:cubicBezTo>
                    <a:pt x="204" y="720"/>
                    <a:pt x="220" y="732"/>
                    <a:pt x="235" y="735"/>
                  </a:cubicBezTo>
                  <a:cubicBezTo>
                    <a:pt x="214" y="703"/>
                    <a:pt x="184" y="670"/>
                    <a:pt x="167" y="636"/>
                  </a:cubicBezTo>
                  <a:cubicBezTo>
                    <a:pt x="138" y="579"/>
                    <a:pt x="142" y="502"/>
                    <a:pt x="106" y="447"/>
                  </a:cubicBezTo>
                  <a:cubicBezTo>
                    <a:pt x="113" y="528"/>
                    <a:pt x="117" y="594"/>
                    <a:pt x="167" y="659"/>
                  </a:cubicBezTo>
                  <a:cubicBezTo>
                    <a:pt x="155" y="536"/>
                    <a:pt x="126" y="415"/>
                    <a:pt x="99" y="295"/>
                  </a:cubicBezTo>
                  <a:cubicBezTo>
                    <a:pt x="96" y="257"/>
                    <a:pt x="95" y="220"/>
                    <a:pt x="91" y="182"/>
                  </a:cubicBezTo>
                  <a:cubicBezTo>
                    <a:pt x="90" y="174"/>
                    <a:pt x="90" y="153"/>
                    <a:pt x="84" y="159"/>
                  </a:cubicBezTo>
                  <a:cubicBezTo>
                    <a:pt x="75" y="168"/>
                    <a:pt x="79" y="184"/>
                    <a:pt x="76" y="197"/>
                  </a:cubicBezTo>
                  <a:cubicBezTo>
                    <a:pt x="68" y="138"/>
                    <a:pt x="48" y="97"/>
                    <a:pt x="23" y="45"/>
                  </a:cubicBezTo>
                  <a:cubicBezTo>
                    <a:pt x="14" y="2"/>
                    <a:pt x="27" y="1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23"/>
            <p:cNvSpPr/>
            <p:nvPr/>
          </p:nvSpPr>
          <p:spPr>
            <a:xfrm>
              <a:off x="4011120" y="3354120"/>
              <a:ext cx="757440" cy="588600"/>
            </a:xfrm>
            <a:custGeom>
              <a:avLst/>
              <a:gdLst/>
              <a:ahLst/>
              <a:rect l="l" t="t" r="r" b="b"/>
              <a:pathLst>
                <a:path w="477" h="371">
                  <a:moveTo>
                    <a:pt x="91" y="371"/>
                  </a:moveTo>
                  <a:cubicBezTo>
                    <a:pt x="88" y="364"/>
                    <a:pt x="87" y="356"/>
                    <a:pt x="83" y="349"/>
                  </a:cubicBezTo>
                  <a:cubicBezTo>
                    <a:pt x="79" y="341"/>
                    <a:pt x="62" y="332"/>
                    <a:pt x="68" y="326"/>
                  </a:cubicBezTo>
                  <a:cubicBezTo>
                    <a:pt x="74" y="320"/>
                    <a:pt x="96" y="348"/>
                    <a:pt x="91" y="341"/>
                  </a:cubicBezTo>
                  <a:cubicBezTo>
                    <a:pt x="78" y="324"/>
                    <a:pt x="46" y="296"/>
                    <a:pt x="46" y="296"/>
                  </a:cubicBezTo>
                  <a:cubicBezTo>
                    <a:pt x="53" y="293"/>
                    <a:pt x="61" y="285"/>
                    <a:pt x="68" y="288"/>
                  </a:cubicBezTo>
                  <a:cubicBezTo>
                    <a:pt x="76" y="291"/>
                    <a:pt x="74" y="311"/>
                    <a:pt x="83" y="311"/>
                  </a:cubicBezTo>
                  <a:cubicBezTo>
                    <a:pt x="91" y="311"/>
                    <a:pt x="80" y="295"/>
                    <a:pt x="76" y="288"/>
                  </a:cubicBezTo>
                  <a:cubicBezTo>
                    <a:pt x="59" y="258"/>
                    <a:pt x="34" y="246"/>
                    <a:pt x="76" y="273"/>
                  </a:cubicBezTo>
                  <a:cubicBezTo>
                    <a:pt x="71" y="258"/>
                    <a:pt x="69" y="241"/>
                    <a:pt x="61" y="227"/>
                  </a:cubicBezTo>
                  <a:cubicBezTo>
                    <a:pt x="44" y="196"/>
                    <a:pt x="0" y="154"/>
                    <a:pt x="61" y="205"/>
                  </a:cubicBezTo>
                  <a:cubicBezTo>
                    <a:pt x="69" y="212"/>
                    <a:pt x="76" y="220"/>
                    <a:pt x="83" y="227"/>
                  </a:cubicBezTo>
                  <a:cubicBezTo>
                    <a:pt x="94" y="188"/>
                    <a:pt x="76" y="135"/>
                    <a:pt x="91" y="220"/>
                  </a:cubicBezTo>
                  <a:cubicBezTo>
                    <a:pt x="94" y="205"/>
                    <a:pt x="93" y="188"/>
                    <a:pt x="99" y="174"/>
                  </a:cubicBezTo>
                  <a:cubicBezTo>
                    <a:pt x="106" y="157"/>
                    <a:pt x="129" y="129"/>
                    <a:pt x="129" y="129"/>
                  </a:cubicBezTo>
                  <a:cubicBezTo>
                    <a:pt x="132" y="144"/>
                    <a:pt x="123" y="167"/>
                    <a:pt x="137" y="174"/>
                  </a:cubicBezTo>
                  <a:cubicBezTo>
                    <a:pt x="148" y="180"/>
                    <a:pt x="153" y="155"/>
                    <a:pt x="159" y="144"/>
                  </a:cubicBezTo>
                  <a:cubicBezTo>
                    <a:pt x="163" y="137"/>
                    <a:pt x="174" y="126"/>
                    <a:pt x="167" y="121"/>
                  </a:cubicBezTo>
                  <a:cubicBezTo>
                    <a:pt x="158" y="115"/>
                    <a:pt x="147" y="126"/>
                    <a:pt x="137" y="129"/>
                  </a:cubicBezTo>
                  <a:cubicBezTo>
                    <a:pt x="129" y="134"/>
                    <a:pt x="120" y="150"/>
                    <a:pt x="114" y="144"/>
                  </a:cubicBezTo>
                  <a:cubicBezTo>
                    <a:pt x="108" y="138"/>
                    <a:pt x="122" y="127"/>
                    <a:pt x="129" y="121"/>
                  </a:cubicBezTo>
                  <a:cubicBezTo>
                    <a:pt x="171" y="83"/>
                    <a:pt x="230" y="64"/>
                    <a:pt x="152" y="83"/>
                  </a:cubicBezTo>
                  <a:cubicBezTo>
                    <a:pt x="144" y="85"/>
                    <a:pt x="137" y="88"/>
                    <a:pt x="129" y="91"/>
                  </a:cubicBezTo>
                  <a:cubicBezTo>
                    <a:pt x="152" y="68"/>
                    <a:pt x="170" y="63"/>
                    <a:pt x="197" y="46"/>
                  </a:cubicBezTo>
                  <a:cubicBezTo>
                    <a:pt x="195" y="53"/>
                    <a:pt x="196" y="63"/>
                    <a:pt x="190" y="68"/>
                  </a:cubicBezTo>
                  <a:cubicBezTo>
                    <a:pt x="182" y="75"/>
                    <a:pt x="149" y="79"/>
                    <a:pt x="159" y="76"/>
                  </a:cubicBezTo>
                  <a:cubicBezTo>
                    <a:pt x="169" y="73"/>
                    <a:pt x="180" y="71"/>
                    <a:pt x="190" y="68"/>
                  </a:cubicBezTo>
                  <a:cubicBezTo>
                    <a:pt x="147" y="28"/>
                    <a:pt x="213" y="50"/>
                    <a:pt x="227" y="53"/>
                  </a:cubicBezTo>
                  <a:cubicBezTo>
                    <a:pt x="232" y="58"/>
                    <a:pt x="250" y="71"/>
                    <a:pt x="243" y="68"/>
                  </a:cubicBezTo>
                  <a:cubicBezTo>
                    <a:pt x="232" y="63"/>
                    <a:pt x="212" y="59"/>
                    <a:pt x="212" y="46"/>
                  </a:cubicBezTo>
                  <a:cubicBezTo>
                    <a:pt x="212" y="35"/>
                    <a:pt x="233" y="41"/>
                    <a:pt x="243" y="38"/>
                  </a:cubicBezTo>
                  <a:cubicBezTo>
                    <a:pt x="267" y="44"/>
                    <a:pt x="303" y="58"/>
                    <a:pt x="243" y="23"/>
                  </a:cubicBezTo>
                  <a:cubicBezTo>
                    <a:pt x="227" y="14"/>
                    <a:pt x="171" y="6"/>
                    <a:pt x="265" y="23"/>
                  </a:cubicBezTo>
                  <a:cubicBezTo>
                    <a:pt x="265" y="23"/>
                    <a:pt x="243" y="17"/>
                    <a:pt x="243" y="8"/>
                  </a:cubicBezTo>
                  <a:cubicBezTo>
                    <a:pt x="243" y="0"/>
                    <a:pt x="258" y="13"/>
                    <a:pt x="265" y="15"/>
                  </a:cubicBezTo>
                  <a:cubicBezTo>
                    <a:pt x="270" y="23"/>
                    <a:pt x="272" y="38"/>
                    <a:pt x="281" y="38"/>
                  </a:cubicBezTo>
                  <a:cubicBezTo>
                    <a:pt x="289" y="38"/>
                    <a:pt x="279" y="21"/>
                    <a:pt x="273" y="15"/>
                  </a:cubicBezTo>
                  <a:cubicBezTo>
                    <a:pt x="267" y="9"/>
                    <a:pt x="258" y="10"/>
                    <a:pt x="250" y="8"/>
                  </a:cubicBezTo>
                  <a:cubicBezTo>
                    <a:pt x="305" y="44"/>
                    <a:pt x="280" y="30"/>
                    <a:pt x="326" y="53"/>
                  </a:cubicBezTo>
                  <a:cubicBezTo>
                    <a:pt x="321" y="45"/>
                    <a:pt x="307" y="38"/>
                    <a:pt x="311" y="30"/>
                  </a:cubicBezTo>
                  <a:cubicBezTo>
                    <a:pt x="315" y="23"/>
                    <a:pt x="328" y="33"/>
                    <a:pt x="334" y="38"/>
                  </a:cubicBezTo>
                  <a:cubicBezTo>
                    <a:pt x="341" y="44"/>
                    <a:pt x="343" y="54"/>
                    <a:pt x="349" y="61"/>
                  </a:cubicBezTo>
                  <a:cubicBezTo>
                    <a:pt x="355" y="67"/>
                    <a:pt x="364" y="71"/>
                    <a:pt x="371" y="76"/>
                  </a:cubicBezTo>
                  <a:cubicBezTo>
                    <a:pt x="369" y="68"/>
                    <a:pt x="356" y="53"/>
                    <a:pt x="364" y="53"/>
                  </a:cubicBezTo>
                  <a:cubicBezTo>
                    <a:pt x="373" y="53"/>
                    <a:pt x="375" y="68"/>
                    <a:pt x="379" y="76"/>
                  </a:cubicBezTo>
                  <a:cubicBezTo>
                    <a:pt x="381" y="79"/>
                    <a:pt x="368" y="66"/>
                    <a:pt x="371" y="68"/>
                  </a:cubicBezTo>
                  <a:cubicBezTo>
                    <a:pt x="389" y="84"/>
                    <a:pt x="423" y="119"/>
                    <a:pt x="432" y="129"/>
                  </a:cubicBezTo>
                  <a:cubicBezTo>
                    <a:pt x="439" y="137"/>
                    <a:pt x="417" y="114"/>
                    <a:pt x="409" y="106"/>
                  </a:cubicBezTo>
                  <a:cubicBezTo>
                    <a:pt x="403" y="100"/>
                    <a:pt x="425" y="115"/>
                    <a:pt x="432" y="121"/>
                  </a:cubicBezTo>
                  <a:cubicBezTo>
                    <a:pt x="440" y="128"/>
                    <a:pt x="447" y="136"/>
                    <a:pt x="455" y="144"/>
                  </a:cubicBezTo>
                  <a:cubicBezTo>
                    <a:pt x="447" y="147"/>
                    <a:pt x="432" y="144"/>
                    <a:pt x="432" y="152"/>
                  </a:cubicBezTo>
                  <a:cubicBezTo>
                    <a:pt x="432" y="163"/>
                    <a:pt x="447" y="166"/>
                    <a:pt x="455" y="174"/>
                  </a:cubicBezTo>
                  <a:cubicBezTo>
                    <a:pt x="460" y="179"/>
                    <a:pt x="477" y="188"/>
                    <a:pt x="470" y="190"/>
                  </a:cubicBezTo>
                  <a:cubicBezTo>
                    <a:pt x="458" y="194"/>
                    <a:pt x="445" y="185"/>
                    <a:pt x="432" y="182"/>
                  </a:cubicBezTo>
                  <a:cubicBezTo>
                    <a:pt x="389" y="197"/>
                    <a:pt x="400" y="175"/>
                    <a:pt x="409" y="144"/>
                  </a:cubicBezTo>
                  <a:cubicBezTo>
                    <a:pt x="419" y="201"/>
                    <a:pt x="431" y="291"/>
                    <a:pt x="417" y="114"/>
                  </a:cubicBezTo>
                  <a:cubicBezTo>
                    <a:pt x="400" y="195"/>
                    <a:pt x="429" y="260"/>
                    <a:pt x="455" y="334"/>
                  </a:cubicBezTo>
                  <a:cubicBezTo>
                    <a:pt x="452" y="311"/>
                    <a:pt x="451" y="288"/>
                    <a:pt x="447" y="265"/>
                  </a:cubicBezTo>
                  <a:cubicBezTo>
                    <a:pt x="446" y="257"/>
                    <a:pt x="448" y="243"/>
                    <a:pt x="440" y="243"/>
                  </a:cubicBezTo>
                  <a:cubicBezTo>
                    <a:pt x="432" y="243"/>
                    <a:pt x="435" y="258"/>
                    <a:pt x="432" y="265"/>
                  </a:cubicBezTo>
                  <a:cubicBezTo>
                    <a:pt x="424" y="258"/>
                    <a:pt x="415" y="252"/>
                    <a:pt x="409" y="243"/>
                  </a:cubicBezTo>
                  <a:cubicBezTo>
                    <a:pt x="405" y="236"/>
                    <a:pt x="402" y="212"/>
                    <a:pt x="402" y="220"/>
                  </a:cubicBezTo>
                  <a:cubicBezTo>
                    <a:pt x="402" y="240"/>
                    <a:pt x="403" y="301"/>
                    <a:pt x="409" y="281"/>
                  </a:cubicBezTo>
                  <a:cubicBezTo>
                    <a:pt x="417" y="254"/>
                    <a:pt x="409" y="225"/>
                    <a:pt x="409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24"/>
            <p:cNvSpPr/>
            <p:nvPr/>
          </p:nvSpPr>
          <p:spPr>
            <a:xfrm>
              <a:off x="3879360" y="3166920"/>
              <a:ext cx="1079640" cy="668160"/>
            </a:xfrm>
            <a:custGeom>
              <a:avLst/>
              <a:gdLst/>
              <a:ahLst/>
              <a:rect l="l" t="t" r="r" b="b"/>
              <a:pathLst>
                <a:path w="680" h="421">
                  <a:moveTo>
                    <a:pt x="53" y="421"/>
                  </a:moveTo>
                  <a:cubicBezTo>
                    <a:pt x="55" y="414"/>
                    <a:pt x="58" y="406"/>
                    <a:pt x="60" y="399"/>
                  </a:cubicBezTo>
                  <a:cubicBezTo>
                    <a:pt x="63" y="386"/>
                    <a:pt x="55" y="359"/>
                    <a:pt x="68" y="361"/>
                  </a:cubicBezTo>
                  <a:cubicBezTo>
                    <a:pt x="86" y="364"/>
                    <a:pt x="98" y="406"/>
                    <a:pt x="98" y="406"/>
                  </a:cubicBezTo>
                  <a:cubicBezTo>
                    <a:pt x="96" y="391"/>
                    <a:pt x="102" y="372"/>
                    <a:pt x="91" y="361"/>
                  </a:cubicBezTo>
                  <a:cubicBezTo>
                    <a:pt x="85" y="355"/>
                    <a:pt x="74" y="383"/>
                    <a:pt x="68" y="376"/>
                  </a:cubicBezTo>
                  <a:cubicBezTo>
                    <a:pt x="61" y="368"/>
                    <a:pt x="73" y="355"/>
                    <a:pt x="76" y="345"/>
                  </a:cubicBezTo>
                  <a:cubicBezTo>
                    <a:pt x="69" y="295"/>
                    <a:pt x="58" y="271"/>
                    <a:pt x="68" y="224"/>
                  </a:cubicBezTo>
                  <a:cubicBezTo>
                    <a:pt x="103" y="278"/>
                    <a:pt x="71" y="219"/>
                    <a:pt x="60" y="209"/>
                  </a:cubicBezTo>
                  <a:cubicBezTo>
                    <a:pt x="58" y="201"/>
                    <a:pt x="53" y="194"/>
                    <a:pt x="53" y="186"/>
                  </a:cubicBezTo>
                  <a:cubicBezTo>
                    <a:pt x="53" y="143"/>
                    <a:pt x="77" y="166"/>
                    <a:pt x="38" y="133"/>
                  </a:cubicBezTo>
                  <a:cubicBezTo>
                    <a:pt x="31" y="127"/>
                    <a:pt x="23" y="123"/>
                    <a:pt x="15" y="118"/>
                  </a:cubicBezTo>
                  <a:cubicBezTo>
                    <a:pt x="12" y="110"/>
                    <a:pt x="0" y="99"/>
                    <a:pt x="7" y="95"/>
                  </a:cubicBezTo>
                  <a:cubicBezTo>
                    <a:pt x="15" y="89"/>
                    <a:pt x="71" y="122"/>
                    <a:pt x="83" y="126"/>
                  </a:cubicBezTo>
                  <a:cubicBezTo>
                    <a:pt x="78" y="118"/>
                    <a:pt x="74" y="109"/>
                    <a:pt x="68" y="103"/>
                  </a:cubicBezTo>
                  <a:cubicBezTo>
                    <a:pt x="62" y="97"/>
                    <a:pt x="45" y="88"/>
                    <a:pt x="45" y="88"/>
                  </a:cubicBezTo>
                  <a:cubicBezTo>
                    <a:pt x="103" y="68"/>
                    <a:pt x="45" y="95"/>
                    <a:pt x="45" y="65"/>
                  </a:cubicBezTo>
                  <a:cubicBezTo>
                    <a:pt x="45" y="56"/>
                    <a:pt x="60" y="55"/>
                    <a:pt x="68" y="50"/>
                  </a:cubicBezTo>
                  <a:cubicBezTo>
                    <a:pt x="63" y="42"/>
                    <a:pt x="47" y="33"/>
                    <a:pt x="53" y="27"/>
                  </a:cubicBezTo>
                  <a:cubicBezTo>
                    <a:pt x="60" y="20"/>
                    <a:pt x="73" y="33"/>
                    <a:pt x="83" y="35"/>
                  </a:cubicBezTo>
                  <a:cubicBezTo>
                    <a:pt x="96" y="38"/>
                    <a:pt x="108" y="40"/>
                    <a:pt x="121" y="42"/>
                  </a:cubicBezTo>
                  <a:cubicBezTo>
                    <a:pt x="147" y="3"/>
                    <a:pt x="140" y="33"/>
                    <a:pt x="182" y="20"/>
                  </a:cubicBezTo>
                  <a:cubicBezTo>
                    <a:pt x="197" y="25"/>
                    <a:pt x="240" y="44"/>
                    <a:pt x="227" y="35"/>
                  </a:cubicBezTo>
                  <a:cubicBezTo>
                    <a:pt x="219" y="30"/>
                    <a:pt x="196" y="24"/>
                    <a:pt x="204" y="20"/>
                  </a:cubicBezTo>
                  <a:cubicBezTo>
                    <a:pt x="215" y="14"/>
                    <a:pt x="229" y="25"/>
                    <a:pt x="242" y="27"/>
                  </a:cubicBezTo>
                  <a:cubicBezTo>
                    <a:pt x="250" y="32"/>
                    <a:pt x="257" y="38"/>
                    <a:pt x="265" y="42"/>
                  </a:cubicBezTo>
                  <a:cubicBezTo>
                    <a:pt x="272" y="46"/>
                    <a:pt x="294" y="55"/>
                    <a:pt x="288" y="50"/>
                  </a:cubicBezTo>
                  <a:cubicBezTo>
                    <a:pt x="266" y="31"/>
                    <a:pt x="207" y="28"/>
                    <a:pt x="310" y="42"/>
                  </a:cubicBezTo>
                  <a:cubicBezTo>
                    <a:pt x="303" y="37"/>
                    <a:pt x="279" y="25"/>
                    <a:pt x="288" y="27"/>
                  </a:cubicBezTo>
                  <a:cubicBezTo>
                    <a:pt x="324" y="37"/>
                    <a:pt x="356" y="65"/>
                    <a:pt x="394" y="65"/>
                  </a:cubicBezTo>
                  <a:cubicBezTo>
                    <a:pt x="402" y="65"/>
                    <a:pt x="378" y="61"/>
                    <a:pt x="371" y="57"/>
                  </a:cubicBezTo>
                  <a:cubicBezTo>
                    <a:pt x="363" y="53"/>
                    <a:pt x="356" y="47"/>
                    <a:pt x="348" y="42"/>
                  </a:cubicBezTo>
                  <a:cubicBezTo>
                    <a:pt x="343" y="35"/>
                    <a:pt x="326" y="26"/>
                    <a:pt x="333" y="20"/>
                  </a:cubicBezTo>
                  <a:cubicBezTo>
                    <a:pt x="340" y="14"/>
                    <a:pt x="365" y="35"/>
                    <a:pt x="356" y="35"/>
                  </a:cubicBezTo>
                  <a:cubicBezTo>
                    <a:pt x="326" y="35"/>
                    <a:pt x="301" y="14"/>
                    <a:pt x="273" y="4"/>
                  </a:cubicBezTo>
                  <a:cubicBezTo>
                    <a:pt x="263" y="1"/>
                    <a:pt x="293" y="10"/>
                    <a:pt x="303" y="12"/>
                  </a:cubicBezTo>
                  <a:cubicBezTo>
                    <a:pt x="335" y="17"/>
                    <a:pt x="376" y="18"/>
                    <a:pt x="409" y="27"/>
                  </a:cubicBezTo>
                  <a:cubicBezTo>
                    <a:pt x="424" y="31"/>
                    <a:pt x="454" y="42"/>
                    <a:pt x="454" y="42"/>
                  </a:cubicBezTo>
                  <a:cubicBezTo>
                    <a:pt x="422" y="21"/>
                    <a:pt x="438" y="28"/>
                    <a:pt x="394" y="12"/>
                  </a:cubicBezTo>
                  <a:cubicBezTo>
                    <a:pt x="362" y="0"/>
                    <a:pt x="353" y="1"/>
                    <a:pt x="417" y="12"/>
                  </a:cubicBezTo>
                  <a:cubicBezTo>
                    <a:pt x="456" y="26"/>
                    <a:pt x="457" y="38"/>
                    <a:pt x="500" y="27"/>
                  </a:cubicBezTo>
                  <a:cubicBezTo>
                    <a:pt x="518" y="30"/>
                    <a:pt x="535" y="32"/>
                    <a:pt x="553" y="35"/>
                  </a:cubicBezTo>
                  <a:cubicBezTo>
                    <a:pt x="561" y="37"/>
                    <a:pt x="570" y="48"/>
                    <a:pt x="576" y="42"/>
                  </a:cubicBezTo>
                  <a:cubicBezTo>
                    <a:pt x="595" y="23"/>
                    <a:pt x="544" y="12"/>
                    <a:pt x="545" y="12"/>
                  </a:cubicBezTo>
                  <a:cubicBezTo>
                    <a:pt x="556" y="12"/>
                    <a:pt x="566" y="17"/>
                    <a:pt x="576" y="20"/>
                  </a:cubicBezTo>
                  <a:cubicBezTo>
                    <a:pt x="583" y="22"/>
                    <a:pt x="603" y="32"/>
                    <a:pt x="598" y="27"/>
                  </a:cubicBezTo>
                  <a:cubicBezTo>
                    <a:pt x="590" y="19"/>
                    <a:pt x="578" y="17"/>
                    <a:pt x="568" y="12"/>
                  </a:cubicBezTo>
                  <a:cubicBezTo>
                    <a:pt x="561" y="8"/>
                    <a:pt x="583" y="17"/>
                    <a:pt x="591" y="20"/>
                  </a:cubicBezTo>
                  <a:cubicBezTo>
                    <a:pt x="602" y="24"/>
                    <a:pt x="613" y="27"/>
                    <a:pt x="621" y="35"/>
                  </a:cubicBezTo>
                  <a:cubicBezTo>
                    <a:pt x="633" y="47"/>
                    <a:pt x="564" y="0"/>
                    <a:pt x="576" y="12"/>
                  </a:cubicBezTo>
                  <a:cubicBezTo>
                    <a:pt x="601" y="37"/>
                    <a:pt x="626" y="49"/>
                    <a:pt x="659" y="57"/>
                  </a:cubicBezTo>
                  <a:cubicBezTo>
                    <a:pt x="651" y="62"/>
                    <a:pt x="639" y="64"/>
                    <a:pt x="636" y="73"/>
                  </a:cubicBezTo>
                  <a:cubicBezTo>
                    <a:pt x="633" y="80"/>
                    <a:pt x="644" y="87"/>
                    <a:pt x="644" y="95"/>
                  </a:cubicBezTo>
                  <a:cubicBezTo>
                    <a:pt x="644" y="114"/>
                    <a:pt x="620" y="136"/>
                    <a:pt x="629" y="141"/>
                  </a:cubicBezTo>
                  <a:cubicBezTo>
                    <a:pt x="637" y="145"/>
                    <a:pt x="643" y="126"/>
                    <a:pt x="652" y="126"/>
                  </a:cubicBezTo>
                  <a:cubicBezTo>
                    <a:pt x="659" y="126"/>
                    <a:pt x="641" y="136"/>
                    <a:pt x="636" y="141"/>
                  </a:cubicBezTo>
                  <a:cubicBezTo>
                    <a:pt x="620" y="194"/>
                    <a:pt x="639" y="128"/>
                    <a:pt x="621" y="201"/>
                  </a:cubicBezTo>
                  <a:cubicBezTo>
                    <a:pt x="619" y="209"/>
                    <a:pt x="606" y="224"/>
                    <a:pt x="614" y="224"/>
                  </a:cubicBezTo>
                  <a:cubicBezTo>
                    <a:pt x="627" y="224"/>
                    <a:pt x="634" y="209"/>
                    <a:pt x="644" y="201"/>
                  </a:cubicBezTo>
                  <a:cubicBezTo>
                    <a:pt x="647" y="229"/>
                    <a:pt x="648" y="257"/>
                    <a:pt x="652" y="285"/>
                  </a:cubicBezTo>
                  <a:cubicBezTo>
                    <a:pt x="653" y="295"/>
                    <a:pt x="655" y="306"/>
                    <a:pt x="659" y="315"/>
                  </a:cubicBezTo>
                  <a:cubicBezTo>
                    <a:pt x="663" y="323"/>
                    <a:pt x="680" y="344"/>
                    <a:pt x="674" y="338"/>
                  </a:cubicBezTo>
                  <a:cubicBezTo>
                    <a:pt x="665" y="329"/>
                    <a:pt x="659" y="318"/>
                    <a:pt x="652" y="308"/>
                  </a:cubicBezTo>
                  <a:cubicBezTo>
                    <a:pt x="654" y="318"/>
                    <a:pt x="663" y="329"/>
                    <a:pt x="659" y="338"/>
                  </a:cubicBezTo>
                  <a:cubicBezTo>
                    <a:pt x="649" y="362"/>
                    <a:pt x="619" y="334"/>
                    <a:pt x="614" y="330"/>
                  </a:cubicBezTo>
                  <a:cubicBezTo>
                    <a:pt x="611" y="323"/>
                    <a:pt x="590" y="287"/>
                    <a:pt x="629" y="300"/>
                  </a:cubicBezTo>
                  <a:cubicBezTo>
                    <a:pt x="639" y="303"/>
                    <a:pt x="657" y="333"/>
                    <a:pt x="652" y="323"/>
                  </a:cubicBezTo>
                  <a:cubicBezTo>
                    <a:pt x="642" y="304"/>
                    <a:pt x="614" y="270"/>
                    <a:pt x="614" y="270"/>
                  </a:cubicBezTo>
                  <a:cubicBezTo>
                    <a:pt x="622" y="234"/>
                    <a:pt x="631" y="199"/>
                    <a:pt x="644" y="164"/>
                  </a:cubicBezTo>
                  <a:cubicBezTo>
                    <a:pt x="636" y="124"/>
                    <a:pt x="649" y="126"/>
                    <a:pt x="629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25"/>
            <p:cNvSpPr/>
            <p:nvPr/>
          </p:nvSpPr>
          <p:spPr>
            <a:xfrm>
              <a:off x="4047840" y="3298680"/>
              <a:ext cx="247680" cy="193320"/>
            </a:xfrm>
            <a:custGeom>
              <a:avLst/>
              <a:gdLst/>
              <a:ahLst/>
              <a:rect l="l" t="t" r="r" b="b"/>
              <a:pathLst>
                <a:path w="156" h="122">
                  <a:moveTo>
                    <a:pt x="0" y="88"/>
                  </a:moveTo>
                  <a:cubicBezTo>
                    <a:pt x="19" y="100"/>
                    <a:pt x="42" y="122"/>
                    <a:pt x="68" y="96"/>
                  </a:cubicBezTo>
                  <a:cubicBezTo>
                    <a:pt x="74" y="90"/>
                    <a:pt x="23" y="73"/>
                    <a:pt x="23" y="73"/>
                  </a:cubicBezTo>
                  <a:cubicBezTo>
                    <a:pt x="35" y="55"/>
                    <a:pt x="60" y="0"/>
                    <a:pt x="98" y="58"/>
                  </a:cubicBezTo>
                  <a:cubicBezTo>
                    <a:pt x="107" y="71"/>
                    <a:pt x="37" y="75"/>
                    <a:pt x="53" y="73"/>
                  </a:cubicBezTo>
                  <a:cubicBezTo>
                    <a:pt x="81" y="70"/>
                    <a:pt x="108" y="68"/>
                    <a:pt x="136" y="65"/>
                  </a:cubicBezTo>
                  <a:cubicBezTo>
                    <a:pt x="156" y="36"/>
                    <a:pt x="156" y="24"/>
                    <a:pt x="121" y="12"/>
                  </a:cubicBezTo>
                  <a:cubicBezTo>
                    <a:pt x="113" y="15"/>
                    <a:pt x="103" y="14"/>
                    <a:pt x="98" y="20"/>
                  </a:cubicBezTo>
                  <a:cubicBezTo>
                    <a:pt x="92" y="28"/>
                    <a:pt x="101" y="47"/>
                    <a:pt x="91" y="50"/>
                  </a:cubicBezTo>
                  <a:cubicBezTo>
                    <a:pt x="66" y="57"/>
                    <a:pt x="40" y="45"/>
                    <a:pt x="15" y="43"/>
                  </a:cubicBezTo>
                  <a:cubicBezTo>
                    <a:pt x="63" y="33"/>
                    <a:pt x="40" y="35"/>
                    <a:pt x="83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6"/>
            <p:cNvSpPr/>
            <p:nvPr/>
          </p:nvSpPr>
          <p:spPr>
            <a:xfrm>
              <a:off x="4000320" y="3508200"/>
              <a:ext cx="142560" cy="8208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0" y="17"/>
                  </a:moveTo>
                  <a:cubicBezTo>
                    <a:pt x="27" y="36"/>
                    <a:pt x="40" y="52"/>
                    <a:pt x="83" y="24"/>
                  </a:cubicBezTo>
                  <a:cubicBezTo>
                    <a:pt x="90" y="19"/>
                    <a:pt x="77" y="3"/>
                    <a:pt x="68" y="2"/>
                  </a:cubicBezTo>
                  <a:cubicBezTo>
                    <a:pt x="45" y="0"/>
                    <a:pt x="23" y="12"/>
                    <a:pt x="0" y="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27"/>
            <p:cNvSpPr/>
            <p:nvPr/>
          </p:nvSpPr>
          <p:spPr>
            <a:xfrm>
              <a:off x="4035240" y="3546360"/>
              <a:ext cx="191880" cy="11088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0" y="16"/>
                  </a:moveTo>
                  <a:cubicBezTo>
                    <a:pt x="25" y="28"/>
                    <a:pt x="121" y="70"/>
                    <a:pt x="76" y="0"/>
                  </a:cubicBezTo>
                  <a:cubicBezTo>
                    <a:pt x="47" y="31"/>
                    <a:pt x="68" y="16"/>
                    <a:pt x="0" y="1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28"/>
            <p:cNvSpPr/>
            <p:nvPr/>
          </p:nvSpPr>
          <p:spPr>
            <a:xfrm>
              <a:off x="4431960" y="3213000"/>
              <a:ext cx="322200" cy="186840"/>
            </a:xfrm>
            <a:custGeom>
              <a:avLst/>
              <a:gdLst/>
              <a:ahLst/>
              <a:rect l="l" t="t" r="r" b="b"/>
              <a:pathLst>
                <a:path w="203" h="118">
                  <a:moveTo>
                    <a:pt x="0" y="59"/>
                  </a:moveTo>
                  <a:cubicBezTo>
                    <a:pt x="17" y="107"/>
                    <a:pt x="8" y="107"/>
                    <a:pt x="106" y="74"/>
                  </a:cubicBezTo>
                  <a:cubicBezTo>
                    <a:pt x="114" y="71"/>
                    <a:pt x="91" y="53"/>
                    <a:pt x="99" y="51"/>
                  </a:cubicBezTo>
                  <a:cubicBezTo>
                    <a:pt x="126" y="46"/>
                    <a:pt x="154" y="56"/>
                    <a:pt x="182" y="59"/>
                  </a:cubicBezTo>
                  <a:cubicBezTo>
                    <a:pt x="203" y="118"/>
                    <a:pt x="183" y="104"/>
                    <a:pt x="129" y="97"/>
                  </a:cubicBezTo>
                  <a:cubicBezTo>
                    <a:pt x="119" y="94"/>
                    <a:pt x="106" y="97"/>
                    <a:pt x="99" y="89"/>
                  </a:cubicBezTo>
                  <a:cubicBezTo>
                    <a:pt x="91" y="79"/>
                    <a:pt x="102" y="57"/>
                    <a:pt x="91" y="51"/>
                  </a:cubicBezTo>
                  <a:cubicBezTo>
                    <a:pt x="69" y="39"/>
                    <a:pt x="41" y="46"/>
                    <a:pt x="16" y="44"/>
                  </a:cubicBezTo>
                  <a:cubicBezTo>
                    <a:pt x="39" y="41"/>
                    <a:pt x="64" y="46"/>
                    <a:pt x="84" y="36"/>
                  </a:cubicBezTo>
                  <a:cubicBezTo>
                    <a:pt x="93" y="31"/>
                    <a:pt x="82" y="11"/>
                    <a:pt x="91" y="6"/>
                  </a:cubicBezTo>
                  <a:cubicBezTo>
                    <a:pt x="102" y="0"/>
                    <a:pt x="116" y="11"/>
                    <a:pt x="129" y="13"/>
                  </a:cubicBezTo>
                  <a:cubicBezTo>
                    <a:pt x="140" y="43"/>
                    <a:pt x="137" y="28"/>
                    <a:pt x="137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29"/>
            <p:cNvSpPr/>
            <p:nvPr/>
          </p:nvSpPr>
          <p:spPr>
            <a:xfrm>
              <a:off x="4640040" y="3298680"/>
              <a:ext cx="193680" cy="38376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36" y="88"/>
                  </a:moveTo>
                  <a:cubicBezTo>
                    <a:pt x="44" y="93"/>
                    <a:pt x="50" y="102"/>
                    <a:pt x="59" y="103"/>
                  </a:cubicBezTo>
                  <a:cubicBezTo>
                    <a:pt x="121" y="111"/>
                    <a:pt x="97" y="76"/>
                    <a:pt x="66" y="65"/>
                  </a:cubicBezTo>
                  <a:cubicBezTo>
                    <a:pt x="0" y="89"/>
                    <a:pt x="108" y="74"/>
                    <a:pt x="112" y="73"/>
                  </a:cubicBezTo>
                  <a:cubicBezTo>
                    <a:pt x="92" y="0"/>
                    <a:pt x="87" y="80"/>
                    <a:pt x="82" y="103"/>
                  </a:cubicBezTo>
                  <a:cubicBezTo>
                    <a:pt x="84" y="146"/>
                    <a:pt x="83" y="189"/>
                    <a:pt x="89" y="232"/>
                  </a:cubicBezTo>
                  <a:cubicBezTo>
                    <a:pt x="91" y="242"/>
                    <a:pt x="96" y="212"/>
                    <a:pt x="97" y="202"/>
                  </a:cubicBezTo>
                  <a:cubicBezTo>
                    <a:pt x="101" y="169"/>
                    <a:pt x="98" y="136"/>
                    <a:pt x="104" y="103"/>
                  </a:cubicBezTo>
                  <a:cubicBezTo>
                    <a:pt x="106" y="92"/>
                    <a:pt x="117" y="84"/>
                    <a:pt x="119" y="73"/>
                  </a:cubicBezTo>
                  <a:cubicBezTo>
                    <a:pt x="122" y="53"/>
                    <a:pt x="119" y="32"/>
                    <a:pt x="119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30"/>
            <p:cNvSpPr/>
            <p:nvPr/>
          </p:nvSpPr>
          <p:spPr>
            <a:xfrm>
              <a:off x="561600" y="2149200"/>
              <a:ext cx="3065400" cy="1614240"/>
            </a:xfrm>
            <a:custGeom>
              <a:avLst/>
              <a:gdLst/>
              <a:ahLst/>
              <a:rect l="l" t="t" r="r" b="b"/>
              <a:pathLst>
                <a:path w="1931" h="1017">
                  <a:moveTo>
                    <a:pt x="28" y="342"/>
                  </a:moveTo>
                  <a:cubicBezTo>
                    <a:pt x="61" y="332"/>
                    <a:pt x="72" y="324"/>
                    <a:pt x="43" y="297"/>
                  </a:cubicBezTo>
                  <a:cubicBezTo>
                    <a:pt x="51" y="294"/>
                    <a:pt x="68" y="297"/>
                    <a:pt x="66" y="289"/>
                  </a:cubicBezTo>
                  <a:cubicBezTo>
                    <a:pt x="64" y="283"/>
                    <a:pt x="0" y="261"/>
                    <a:pt x="59" y="282"/>
                  </a:cubicBezTo>
                  <a:cubicBezTo>
                    <a:pt x="125" y="234"/>
                    <a:pt x="41" y="250"/>
                    <a:pt x="157" y="236"/>
                  </a:cubicBezTo>
                  <a:cubicBezTo>
                    <a:pt x="179" y="229"/>
                    <a:pt x="215" y="242"/>
                    <a:pt x="225" y="221"/>
                  </a:cubicBezTo>
                  <a:cubicBezTo>
                    <a:pt x="230" y="210"/>
                    <a:pt x="189" y="209"/>
                    <a:pt x="195" y="198"/>
                  </a:cubicBezTo>
                  <a:cubicBezTo>
                    <a:pt x="201" y="187"/>
                    <a:pt x="220" y="203"/>
                    <a:pt x="233" y="206"/>
                  </a:cubicBezTo>
                  <a:cubicBezTo>
                    <a:pt x="241" y="203"/>
                    <a:pt x="256" y="206"/>
                    <a:pt x="256" y="198"/>
                  </a:cubicBezTo>
                  <a:cubicBezTo>
                    <a:pt x="256" y="189"/>
                    <a:pt x="224" y="183"/>
                    <a:pt x="233" y="183"/>
                  </a:cubicBezTo>
                  <a:cubicBezTo>
                    <a:pt x="249" y="183"/>
                    <a:pt x="263" y="193"/>
                    <a:pt x="278" y="198"/>
                  </a:cubicBezTo>
                  <a:cubicBezTo>
                    <a:pt x="286" y="201"/>
                    <a:pt x="301" y="206"/>
                    <a:pt x="301" y="206"/>
                  </a:cubicBezTo>
                  <a:cubicBezTo>
                    <a:pt x="269" y="174"/>
                    <a:pt x="216" y="165"/>
                    <a:pt x="309" y="191"/>
                  </a:cubicBezTo>
                  <a:cubicBezTo>
                    <a:pt x="368" y="231"/>
                    <a:pt x="295" y="174"/>
                    <a:pt x="286" y="168"/>
                  </a:cubicBezTo>
                  <a:cubicBezTo>
                    <a:pt x="331" y="156"/>
                    <a:pt x="321" y="171"/>
                    <a:pt x="362" y="183"/>
                  </a:cubicBezTo>
                  <a:cubicBezTo>
                    <a:pt x="369" y="194"/>
                    <a:pt x="382" y="221"/>
                    <a:pt x="400" y="221"/>
                  </a:cubicBezTo>
                  <a:cubicBezTo>
                    <a:pt x="407" y="221"/>
                    <a:pt x="389" y="211"/>
                    <a:pt x="384" y="206"/>
                  </a:cubicBezTo>
                  <a:cubicBezTo>
                    <a:pt x="376" y="198"/>
                    <a:pt x="369" y="191"/>
                    <a:pt x="362" y="183"/>
                  </a:cubicBezTo>
                  <a:cubicBezTo>
                    <a:pt x="399" y="174"/>
                    <a:pt x="385" y="170"/>
                    <a:pt x="415" y="191"/>
                  </a:cubicBezTo>
                  <a:cubicBezTo>
                    <a:pt x="433" y="203"/>
                    <a:pt x="468" y="229"/>
                    <a:pt x="468" y="229"/>
                  </a:cubicBezTo>
                  <a:cubicBezTo>
                    <a:pt x="463" y="221"/>
                    <a:pt x="459" y="213"/>
                    <a:pt x="453" y="206"/>
                  </a:cubicBezTo>
                  <a:cubicBezTo>
                    <a:pt x="446" y="198"/>
                    <a:pt x="420" y="188"/>
                    <a:pt x="430" y="183"/>
                  </a:cubicBezTo>
                  <a:cubicBezTo>
                    <a:pt x="440" y="178"/>
                    <a:pt x="481" y="207"/>
                    <a:pt x="491" y="213"/>
                  </a:cubicBezTo>
                  <a:cubicBezTo>
                    <a:pt x="470" y="184"/>
                    <a:pt x="455" y="169"/>
                    <a:pt x="422" y="153"/>
                  </a:cubicBezTo>
                  <a:cubicBezTo>
                    <a:pt x="318" y="158"/>
                    <a:pt x="279" y="157"/>
                    <a:pt x="195" y="183"/>
                  </a:cubicBezTo>
                  <a:cubicBezTo>
                    <a:pt x="187" y="188"/>
                    <a:pt x="181" y="195"/>
                    <a:pt x="172" y="198"/>
                  </a:cubicBezTo>
                  <a:cubicBezTo>
                    <a:pt x="158" y="203"/>
                    <a:pt x="139" y="197"/>
                    <a:pt x="127" y="206"/>
                  </a:cubicBezTo>
                  <a:cubicBezTo>
                    <a:pt x="119" y="212"/>
                    <a:pt x="122" y="226"/>
                    <a:pt x="119" y="236"/>
                  </a:cubicBezTo>
                  <a:cubicBezTo>
                    <a:pt x="127" y="239"/>
                    <a:pt x="142" y="236"/>
                    <a:pt x="142" y="244"/>
                  </a:cubicBezTo>
                  <a:cubicBezTo>
                    <a:pt x="142" y="254"/>
                    <a:pt x="83" y="271"/>
                    <a:pt x="74" y="274"/>
                  </a:cubicBezTo>
                  <a:cubicBezTo>
                    <a:pt x="66" y="282"/>
                    <a:pt x="49" y="286"/>
                    <a:pt x="51" y="297"/>
                  </a:cubicBezTo>
                  <a:cubicBezTo>
                    <a:pt x="57" y="331"/>
                    <a:pt x="125" y="298"/>
                    <a:pt x="127" y="297"/>
                  </a:cubicBezTo>
                  <a:cubicBezTo>
                    <a:pt x="172" y="277"/>
                    <a:pt x="221" y="206"/>
                    <a:pt x="263" y="198"/>
                  </a:cubicBezTo>
                  <a:cubicBezTo>
                    <a:pt x="293" y="193"/>
                    <a:pt x="324" y="193"/>
                    <a:pt x="354" y="191"/>
                  </a:cubicBezTo>
                  <a:cubicBezTo>
                    <a:pt x="415" y="196"/>
                    <a:pt x="434" y="198"/>
                    <a:pt x="483" y="213"/>
                  </a:cubicBezTo>
                  <a:cubicBezTo>
                    <a:pt x="491" y="211"/>
                    <a:pt x="498" y="205"/>
                    <a:pt x="506" y="206"/>
                  </a:cubicBezTo>
                  <a:cubicBezTo>
                    <a:pt x="522" y="208"/>
                    <a:pt x="551" y="221"/>
                    <a:pt x="551" y="221"/>
                  </a:cubicBezTo>
                  <a:cubicBezTo>
                    <a:pt x="554" y="213"/>
                    <a:pt x="552" y="202"/>
                    <a:pt x="559" y="198"/>
                  </a:cubicBezTo>
                  <a:cubicBezTo>
                    <a:pt x="566" y="194"/>
                    <a:pt x="574" y="204"/>
                    <a:pt x="582" y="206"/>
                  </a:cubicBezTo>
                  <a:cubicBezTo>
                    <a:pt x="606" y="213"/>
                    <a:pt x="633" y="217"/>
                    <a:pt x="657" y="221"/>
                  </a:cubicBezTo>
                  <a:cubicBezTo>
                    <a:pt x="637" y="156"/>
                    <a:pt x="655" y="241"/>
                    <a:pt x="680" y="191"/>
                  </a:cubicBezTo>
                  <a:cubicBezTo>
                    <a:pt x="692" y="168"/>
                    <a:pt x="620" y="156"/>
                    <a:pt x="695" y="176"/>
                  </a:cubicBezTo>
                  <a:cubicBezTo>
                    <a:pt x="757" y="217"/>
                    <a:pt x="689" y="174"/>
                    <a:pt x="695" y="168"/>
                  </a:cubicBezTo>
                  <a:cubicBezTo>
                    <a:pt x="704" y="159"/>
                    <a:pt x="720" y="173"/>
                    <a:pt x="733" y="176"/>
                  </a:cubicBezTo>
                  <a:cubicBezTo>
                    <a:pt x="712" y="154"/>
                    <a:pt x="660" y="130"/>
                    <a:pt x="726" y="145"/>
                  </a:cubicBezTo>
                  <a:cubicBezTo>
                    <a:pt x="695" y="116"/>
                    <a:pt x="727" y="138"/>
                    <a:pt x="672" y="138"/>
                  </a:cubicBezTo>
                  <a:cubicBezTo>
                    <a:pt x="661" y="138"/>
                    <a:pt x="693" y="133"/>
                    <a:pt x="703" y="130"/>
                  </a:cubicBezTo>
                  <a:cubicBezTo>
                    <a:pt x="711" y="128"/>
                    <a:pt x="718" y="125"/>
                    <a:pt x="726" y="122"/>
                  </a:cubicBezTo>
                  <a:cubicBezTo>
                    <a:pt x="754" y="111"/>
                    <a:pt x="781" y="102"/>
                    <a:pt x="809" y="92"/>
                  </a:cubicBezTo>
                  <a:cubicBezTo>
                    <a:pt x="762" y="81"/>
                    <a:pt x="769" y="87"/>
                    <a:pt x="832" y="77"/>
                  </a:cubicBezTo>
                  <a:cubicBezTo>
                    <a:pt x="791" y="18"/>
                    <a:pt x="836" y="94"/>
                    <a:pt x="870" y="62"/>
                  </a:cubicBezTo>
                  <a:cubicBezTo>
                    <a:pt x="881" y="52"/>
                    <a:pt x="832" y="54"/>
                    <a:pt x="832" y="39"/>
                  </a:cubicBezTo>
                  <a:cubicBezTo>
                    <a:pt x="832" y="26"/>
                    <a:pt x="857" y="44"/>
                    <a:pt x="870" y="47"/>
                  </a:cubicBezTo>
                  <a:cubicBezTo>
                    <a:pt x="859" y="37"/>
                    <a:pt x="828" y="17"/>
                    <a:pt x="885" y="24"/>
                  </a:cubicBezTo>
                  <a:cubicBezTo>
                    <a:pt x="894" y="25"/>
                    <a:pt x="899" y="35"/>
                    <a:pt x="907" y="39"/>
                  </a:cubicBezTo>
                  <a:cubicBezTo>
                    <a:pt x="914" y="43"/>
                    <a:pt x="923" y="43"/>
                    <a:pt x="930" y="47"/>
                  </a:cubicBezTo>
                  <a:cubicBezTo>
                    <a:pt x="938" y="51"/>
                    <a:pt x="957" y="70"/>
                    <a:pt x="953" y="62"/>
                  </a:cubicBezTo>
                  <a:cubicBezTo>
                    <a:pt x="947" y="49"/>
                    <a:pt x="923" y="32"/>
                    <a:pt x="923" y="32"/>
                  </a:cubicBezTo>
                  <a:cubicBezTo>
                    <a:pt x="918" y="27"/>
                    <a:pt x="913" y="21"/>
                    <a:pt x="907" y="16"/>
                  </a:cubicBezTo>
                  <a:cubicBezTo>
                    <a:pt x="900" y="10"/>
                    <a:pt x="877" y="5"/>
                    <a:pt x="885" y="1"/>
                  </a:cubicBezTo>
                  <a:cubicBezTo>
                    <a:pt x="887" y="0"/>
                    <a:pt x="947" y="15"/>
                    <a:pt x="953" y="16"/>
                  </a:cubicBezTo>
                  <a:cubicBezTo>
                    <a:pt x="953" y="16"/>
                    <a:pt x="983" y="21"/>
                    <a:pt x="998" y="24"/>
                  </a:cubicBezTo>
                  <a:cubicBezTo>
                    <a:pt x="986" y="10"/>
                    <a:pt x="988" y="15"/>
                    <a:pt x="1014" y="24"/>
                  </a:cubicBezTo>
                  <a:cubicBezTo>
                    <a:pt x="1026" y="34"/>
                    <a:pt x="1038" y="44"/>
                    <a:pt x="1051" y="54"/>
                  </a:cubicBezTo>
                  <a:cubicBezTo>
                    <a:pt x="1058" y="59"/>
                    <a:pt x="1067" y="75"/>
                    <a:pt x="1074" y="69"/>
                  </a:cubicBezTo>
                  <a:cubicBezTo>
                    <a:pt x="1102" y="43"/>
                    <a:pt x="1009" y="9"/>
                    <a:pt x="1074" y="32"/>
                  </a:cubicBezTo>
                  <a:cubicBezTo>
                    <a:pt x="1089" y="47"/>
                    <a:pt x="1105" y="62"/>
                    <a:pt x="1120" y="77"/>
                  </a:cubicBezTo>
                  <a:cubicBezTo>
                    <a:pt x="1125" y="82"/>
                    <a:pt x="1109" y="67"/>
                    <a:pt x="1104" y="62"/>
                  </a:cubicBezTo>
                  <a:cubicBezTo>
                    <a:pt x="1095" y="53"/>
                    <a:pt x="1085" y="45"/>
                    <a:pt x="1074" y="39"/>
                  </a:cubicBezTo>
                  <a:cubicBezTo>
                    <a:pt x="1067" y="35"/>
                    <a:pt x="1045" y="26"/>
                    <a:pt x="1051" y="32"/>
                  </a:cubicBezTo>
                  <a:cubicBezTo>
                    <a:pt x="1059" y="40"/>
                    <a:pt x="1072" y="41"/>
                    <a:pt x="1082" y="47"/>
                  </a:cubicBezTo>
                  <a:cubicBezTo>
                    <a:pt x="1100" y="59"/>
                    <a:pt x="1150" y="101"/>
                    <a:pt x="1135" y="85"/>
                  </a:cubicBezTo>
                  <a:cubicBezTo>
                    <a:pt x="1111" y="60"/>
                    <a:pt x="1126" y="73"/>
                    <a:pt x="1089" y="47"/>
                  </a:cubicBezTo>
                  <a:cubicBezTo>
                    <a:pt x="1082" y="42"/>
                    <a:pt x="1104" y="57"/>
                    <a:pt x="1112" y="62"/>
                  </a:cubicBezTo>
                  <a:cubicBezTo>
                    <a:pt x="1122" y="68"/>
                    <a:pt x="1132" y="72"/>
                    <a:pt x="1142" y="77"/>
                  </a:cubicBezTo>
                  <a:cubicBezTo>
                    <a:pt x="1147" y="87"/>
                    <a:pt x="1167" y="101"/>
                    <a:pt x="1158" y="107"/>
                  </a:cubicBezTo>
                  <a:cubicBezTo>
                    <a:pt x="1150" y="113"/>
                    <a:pt x="1106" y="83"/>
                    <a:pt x="1097" y="77"/>
                  </a:cubicBezTo>
                  <a:cubicBezTo>
                    <a:pt x="1087" y="70"/>
                    <a:pt x="1062" y="65"/>
                    <a:pt x="1067" y="54"/>
                  </a:cubicBezTo>
                  <a:cubicBezTo>
                    <a:pt x="1070" y="48"/>
                    <a:pt x="1141" y="74"/>
                    <a:pt x="1150" y="77"/>
                  </a:cubicBezTo>
                  <a:cubicBezTo>
                    <a:pt x="1128" y="43"/>
                    <a:pt x="1079" y="9"/>
                    <a:pt x="1036" y="9"/>
                  </a:cubicBezTo>
                  <a:cubicBezTo>
                    <a:pt x="1025" y="9"/>
                    <a:pt x="1057" y="14"/>
                    <a:pt x="1067" y="16"/>
                  </a:cubicBezTo>
                  <a:cubicBezTo>
                    <a:pt x="1093" y="30"/>
                    <a:pt x="1118" y="38"/>
                    <a:pt x="1142" y="54"/>
                  </a:cubicBezTo>
                  <a:cubicBezTo>
                    <a:pt x="1154" y="89"/>
                    <a:pt x="1147" y="114"/>
                    <a:pt x="1127" y="145"/>
                  </a:cubicBezTo>
                  <a:cubicBezTo>
                    <a:pt x="1125" y="153"/>
                    <a:pt x="1122" y="160"/>
                    <a:pt x="1120" y="168"/>
                  </a:cubicBezTo>
                  <a:cubicBezTo>
                    <a:pt x="1117" y="176"/>
                    <a:pt x="1106" y="197"/>
                    <a:pt x="1112" y="191"/>
                  </a:cubicBezTo>
                  <a:cubicBezTo>
                    <a:pt x="1149" y="154"/>
                    <a:pt x="1128" y="149"/>
                    <a:pt x="1180" y="130"/>
                  </a:cubicBezTo>
                  <a:cubicBezTo>
                    <a:pt x="1178" y="122"/>
                    <a:pt x="1167" y="113"/>
                    <a:pt x="1173" y="107"/>
                  </a:cubicBezTo>
                  <a:cubicBezTo>
                    <a:pt x="1185" y="95"/>
                    <a:pt x="1200" y="123"/>
                    <a:pt x="1211" y="138"/>
                  </a:cubicBezTo>
                  <a:cubicBezTo>
                    <a:pt x="1213" y="145"/>
                    <a:pt x="1216" y="152"/>
                    <a:pt x="1218" y="160"/>
                  </a:cubicBezTo>
                  <a:cubicBezTo>
                    <a:pt x="1222" y="178"/>
                    <a:pt x="1238" y="200"/>
                    <a:pt x="1226" y="213"/>
                  </a:cubicBezTo>
                  <a:cubicBezTo>
                    <a:pt x="1222" y="217"/>
                    <a:pt x="1190" y="149"/>
                    <a:pt x="1188" y="145"/>
                  </a:cubicBezTo>
                  <a:cubicBezTo>
                    <a:pt x="1185" y="138"/>
                    <a:pt x="1172" y="122"/>
                    <a:pt x="1180" y="122"/>
                  </a:cubicBezTo>
                  <a:cubicBezTo>
                    <a:pt x="1189" y="122"/>
                    <a:pt x="1190" y="137"/>
                    <a:pt x="1195" y="145"/>
                  </a:cubicBezTo>
                  <a:cubicBezTo>
                    <a:pt x="1205" y="190"/>
                    <a:pt x="1211" y="239"/>
                    <a:pt x="1226" y="282"/>
                  </a:cubicBezTo>
                  <a:cubicBezTo>
                    <a:pt x="1238" y="227"/>
                    <a:pt x="1230" y="249"/>
                    <a:pt x="1241" y="312"/>
                  </a:cubicBezTo>
                  <a:cubicBezTo>
                    <a:pt x="1246" y="338"/>
                    <a:pt x="1246" y="333"/>
                    <a:pt x="1264" y="350"/>
                  </a:cubicBezTo>
                  <a:cubicBezTo>
                    <a:pt x="1266" y="335"/>
                    <a:pt x="1255" y="304"/>
                    <a:pt x="1271" y="304"/>
                  </a:cubicBezTo>
                  <a:cubicBezTo>
                    <a:pt x="1287" y="304"/>
                    <a:pt x="1276" y="335"/>
                    <a:pt x="1279" y="350"/>
                  </a:cubicBezTo>
                  <a:cubicBezTo>
                    <a:pt x="1286" y="383"/>
                    <a:pt x="1291" y="413"/>
                    <a:pt x="1309" y="441"/>
                  </a:cubicBezTo>
                  <a:cubicBezTo>
                    <a:pt x="1314" y="428"/>
                    <a:pt x="1316" y="392"/>
                    <a:pt x="1324" y="403"/>
                  </a:cubicBezTo>
                  <a:cubicBezTo>
                    <a:pt x="1338" y="421"/>
                    <a:pt x="1348" y="455"/>
                    <a:pt x="1332" y="471"/>
                  </a:cubicBezTo>
                  <a:cubicBezTo>
                    <a:pt x="1317" y="486"/>
                    <a:pt x="1326" y="429"/>
                    <a:pt x="1317" y="410"/>
                  </a:cubicBezTo>
                  <a:cubicBezTo>
                    <a:pt x="1313" y="400"/>
                    <a:pt x="1302" y="395"/>
                    <a:pt x="1294" y="388"/>
                  </a:cubicBezTo>
                  <a:cubicBezTo>
                    <a:pt x="1287" y="382"/>
                    <a:pt x="1263" y="369"/>
                    <a:pt x="1271" y="373"/>
                  </a:cubicBezTo>
                  <a:cubicBezTo>
                    <a:pt x="1284" y="379"/>
                    <a:pt x="1296" y="388"/>
                    <a:pt x="1309" y="395"/>
                  </a:cubicBezTo>
                  <a:cubicBezTo>
                    <a:pt x="1324" y="425"/>
                    <a:pt x="1346" y="469"/>
                    <a:pt x="1377" y="486"/>
                  </a:cubicBezTo>
                  <a:cubicBezTo>
                    <a:pt x="1385" y="490"/>
                    <a:pt x="1368" y="470"/>
                    <a:pt x="1362" y="464"/>
                  </a:cubicBezTo>
                  <a:cubicBezTo>
                    <a:pt x="1343" y="445"/>
                    <a:pt x="1324" y="426"/>
                    <a:pt x="1302" y="410"/>
                  </a:cubicBezTo>
                  <a:cubicBezTo>
                    <a:pt x="1295" y="405"/>
                    <a:pt x="1272" y="399"/>
                    <a:pt x="1279" y="403"/>
                  </a:cubicBezTo>
                  <a:cubicBezTo>
                    <a:pt x="1301" y="414"/>
                    <a:pt x="1324" y="423"/>
                    <a:pt x="1347" y="433"/>
                  </a:cubicBezTo>
                  <a:cubicBezTo>
                    <a:pt x="1423" y="509"/>
                    <a:pt x="1305" y="397"/>
                    <a:pt x="1408" y="471"/>
                  </a:cubicBezTo>
                  <a:cubicBezTo>
                    <a:pt x="1415" y="476"/>
                    <a:pt x="1417" y="488"/>
                    <a:pt x="1423" y="494"/>
                  </a:cubicBezTo>
                  <a:cubicBezTo>
                    <a:pt x="1429" y="500"/>
                    <a:pt x="1438" y="504"/>
                    <a:pt x="1446" y="509"/>
                  </a:cubicBezTo>
                  <a:cubicBezTo>
                    <a:pt x="1430" y="462"/>
                    <a:pt x="1444" y="492"/>
                    <a:pt x="1385" y="433"/>
                  </a:cubicBezTo>
                  <a:cubicBezTo>
                    <a:pt x="1371" y="419"/>
                    <a:pt x="1415" y="458"/>
                    <a:pt x="1430" y="471"/>
                  </a:cubicBezTo>
                  <a:cubicBezTo>
                    <a:pt x="1447" y="486"/>
                    <a:pt x="1484" y="524"/>
                    <a:pt x="1491" y="532"/>
                  </a:cubicBezTo>
                  <a:cubicBezTo>
                    <a:pt x="1498" y="540"/>
                    <a:pt x="1476" y="517"/>
                    <a:pt x="1468" y="509"/>
                  </a:cubicBezTo>
                  <a:cubicBezTo>
                    <a:pt x="1462" y="503"/>
                    <a:pt x="1479" y="524"/>
                    <a:pt x="1483" y="532"/>
                  </a:cubicBezTo>
                  <a:cubicBezTo>
                    <a:pt x="1487" y="539"/>
                    <a:pt x="1487" y="547"/>
                    <a:pt x="1491" y="554"/>
                  </a:cubicBezTo>
                  <a:cubicBezTo>
                    <a:pt x="1495" y="560"/>
                    <a:pt x="1506" y="577"/>
                    <a:pt x="1506" y="570"/>
                  </a:cubicBezTo>
                  <a:cubicBezTo>
                    <a:pt x="1506" y="561"/>
                    <a:pt x="1500" y="547"/>
                    <a:pt x="1491" y="547"/>
                  </a:cubicBezTo>
                  <a:cubicBezTo>
                    <a:pt x="1483" y="547"/>
                    <a:pt x="1496" y="563"/>
                    <a:pt x="1499" y="570"/>
                  </a:cubicBezTo>
                  <a:cubicBezTo>
                    <a:pt x="1503" y="580"/>
                    <a:pt x="1509" y="590"/>
                    <a:pt x="1514" y="600"/>
                  </a:cubicBezTo>
                  <a:cubicBezTo>
                    <a:pt x="1519" y="592"/>
                    <a:pt x="1521" y="573"/>
                    <a:pt x="1529" y="577"/>
                  </a:cubicBezTo>
                  <a:cubicBezTo>
                    <a:pt x="1545" y="585"/>
                    <a:pt x="1559" y="623"/>
                    <a:pt x="1559" y="623"/>
                  </a:cubicBezTo>
                  <a:cubicBezTo>
                    <a:pt x="1562" y="615"/>
                    <a:pt x="1567" y="608"/>
                    <a:pt x="1567" y="600"/>
                  </a:cubicBezTo>
                  <a:cubicBezTo>
                    <a:pt x="1567" y="564"/>
                    <a:pt x="1538" y="560"/>
                    <a:pt x="1590" y="585"/>
                  </a:cubicBezTo>
                  <a:cubicBezTo>
                    <a:pt x="1632" y="668"/>
                    <a:pt x="1587" y="585"/>
                    <a:pt x="1597" y="585"/>
                  </a:cubicBezTo>
                  <a:cubicBezTo>
                    <a:pt x="1611" y="585"/>
                    <a:pt x="1617" y="605"/>
                    <a:pt x="1627" y="615"/>
                  </a:cubicBezTo>
                  <a:cubicBezTo>
                    <a:pt x="1629" y="620"/>
                    <a:pt x="1641" y="661"/>
                    <a:pt x="1650" y="661"/>
                  </a:cubicBezTo>
                  <a:cubicBezTo>
                    <a:pt x="1658" y="661"/>
                    <a:pt x="1645" y="646"/>
                    <a:pt x="1643" y="638"/>
                  </a:cubicBezTo>
                  <a:cubicBezTo>
                    <a:pt x="1639" y="625"/>
                    <a:pt x="1653" y="663"/>
                    <a:pt x="1658" y="676"/>
                  </a:cubicBezTo>
                  <a:cubicBezTo>
                    <a:pt x="1661" y="683"/>
                    <a:pt x="1663" y="691"/>
                    <a:pt x="1665" y="698"/>
                  </a:cubicBezTo>
                  <a:cubicBezTo>
                    <a:pt x="1663" y="683"/>
                    <a:pt x="1647" y="663"/>
                    <a:pt x="1658" y="653"/>
                  </a:cubicBezTo>
                  <a:cubicBezTo>
                    <a:pt x="1667" y="644"/>
                    <a:pt x="1680" y="666"/>
                    <a:pt x="1688" y="676"/>
                  </a:cubicBezTo>
                  <a:cubicBezTo>
                    <a:pt x="1693" y="682"/>
                    <a:pt x="1692" y="691"/>
                    <a:pt x="1696" y="698"/>
                  </a:cubicBezTo>
                  <a:cubicBezTo>
                    <a:pt x="1706" y="715"/>
                    <a:pt x="1722" y="728"/>
                    <a:pt x="1734" y="744"/>
                  </a:cubicBezTo>
                  <a:cubicBezTo>
                    <a:pt x="1729" y="726"/>
                    <a:pt x="1725" y="708"/>
                    <a:pt x="1718" y="691"/>
                  </a:cubicBezTo>
                  <a:cubicBezTo>
                    <a:pt x="1717" y="688"/>
                    <a:pt x="1709" y="680"/>
                    <a:pt x="1711" y="683"/>
                  </a:cubicBezTo>
                  <a:cubicBezTo>
                    <a:pt x="1724" y="707"/>
                    <a:pt x="1733" y="729"/>
                    <a:pt x="1756" y="744"/>
                  </a:cubicBezTo>
                  <a:cubicBezTo>
                    <a:pt x="1756" y="744"/>
                    <a:pt x="1734" y="726"/>
                    <a:pt x="1734" y="714"/>
                  </a:cubicBezTo>
                  <a:cubicBezTo>
                    <a:pt x="1734" y="704"/>
                    <a:pt x="1749" y="729"/>
                    <a:pt x="1756" y="736"/>
                  </a:cubicBezTo>
                  <a:cubicBezTo>
                    <a:pt x="1785" y="766"/>
                    <a:pt x="1757" y="739"/>
                    <a:pt x="1787" y="767"/>
                  </a:cubicBezTo>
                  <a:cubicBezTo>
                    <a:pt x="1792" y="777"/>
                    <a:pt x="1802" y="808"/>
                    <a:pt x="1802" y="797"/>
                  </a:cubicBezTo>
                  <a:cubicBezTo>
                    <a:pt x="1802" y="783"/>
                    <a:pt x="1793" y="747"/>
                    <a:pt x="1787" y="759"/>
                  </a:cubicBezTo>
                  <a:cubicBezTo>
                    <a:pt x="1775" y="782"/>
                    <a:pt x="1808" y="855"/>
                    <a:pt x="1817" y="880"/>
                  </a:cubicBezTo>
                  <a:cubicBezTo>
                    <a:pt x="1819" y="867"/>
                    <a:pt x="1815" y="851"/>
                    <a:pt x="1824" y="842"/>
                  </a:cubicBezTo>
                  <a:cubicBezTo>
                    <a:pt x="1830" y="836"/>
                    <a:pt x="1830" y="857"/>
                    <a:pt x="1832" y="865"/>
                  </a:cubicBezTo>
                  <a:cubicBezTo>
                    <a:pt x="1845" y="909"/>
                    <a:pt x="1832" y="884"/>
                    <a:pt x="1855" y="918"/>
                  </a:cubicBezTo>
                  <a:cubicBezTo>
                    <a:pt x="1857" y="928"/>
                    <a:pt x="1857" y="940"/>
                    <a:pt x="1862" y="949"/>
                  </a:cubicBezTo>
                  <a:cubicBezTo>
                    <a:pt x="1865" y="956"/>
                    <a:pt x="1873" y="969"/>
                    <a:pt x="1878" y="964"/>
                  </a:cubicBezTo>
                  <a:cubicBezTo>
                    <a:pt x="1887" y="955"/>
                    <a:pt x="1883" y="939"/>
                    <a:pt x="1885" y="926"/>
                  </a:cubicBezTo>
                  <a:cubicBezTo>
                    <a:pt x="1873" y="885"/>
                    <a:pt x="1865" y="856"/>
                    <a:pt x="1840" y="820"/>
                  </a:cubicBezTo>
                  <a:cubicBezTo>
                    <a:pt x="1807" y="865"/>
                    <a:pt x="1822" y="825"/>
                    <a:pt x="1779" y="797"/>
                  </a:cubicBezTo>
                  <a:cubicBezTo>
                    <a:pt x="1787" y="812"/>
                    <a:pt x="1796" y="826"/>
                    <a:pt x="1802" y="842"/>
                  </a:cubicBezTo>
                  <a:cubicBezTo>
                    <a:pt x="1806" y="852"/>
                    <a:pt x="1804" y="864"/>
                    <a:pt x="1809" y="873"/>
                  </a:cubicBezTo>
                  <a:cubicBezTo>
                    <a:pt x="1820" y="893"/>
                    <a:pt x="1840" y="908"/>
                    <a:pt x="1855" y="926"/>
                  </a:cubicBezTo>
                  <a:cubicBezTo>
                    <a:pt x="1862" y="934"/>
                    <a:pt x="1871" y="940"/>
                    <a:pt x="1878" y="949"/>
                  </a:cubicBezTo>
                  <a:cubicBezTo>
                    <a:pt x="1889" y="963"/>
                    <a:pt x="1908" y="994"/>
                    <a:pt x="1908" y="994"/>
                  </a:cubicBezTo>
                  <a:cubicBezTo>
                    <a:pt x="1910" y="986"/>
                    <a:pt x="1909" y="965"/>
                    <a:pt x="1915" y="971"/>
                  </a:cubicBezTo>
                  <a:cubicBezTo>
                    <a:pt x="1924" y="980"/>
                    <a:pt x="1923" y="1009"/>
                    <a:pt x="1923" y="1009"/>
                  </a:cubicBezTo>
                  <a:cubicBezTo>
                    <a:pt x="1926" y="1012"/>
                    <a:pt x="1928" y="1014"/>
                    <a:pt x="1931" y="10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31"/>
            <p:cNvSpPr/>
            <p:nvPr/>
          </p:nvSpPr>
          <p:spPr>
            <a:xfrm>
              <a:off x="931680" y="2536560"/>
              <a:ext cx="363240" cy="280800"/>
            </a:xfrm>
            <a:custGeom>
              <a:avLst/>
              <a:gdLst/>
              <a:ahLst/>
              <a:rect l="l" t="t" r="r" b="b"/>
              <a:pathLst>
                <a:path w="229" h="177">
                  <a:moveTo>
                    <a:pt x="0" y="151"/>
                  </a:moveTo>
                  <a:cubicBezTo>
                    <a:pt x="2" y="141"/>
                    <a:pt x="7" y="121"/>
                    <a:pt x="7" y="121"/>
                  </a:cubicBezTo>
                  <a:cubicBezTo>
                    <a:pt x="8" y="117"/>
                    <a:pt x="30" y="38"/>
                    <a:pt x="30" y="38"/>
                  </a:cubicBezTo>
                  <a:cubicBezTo>
                    <a:pt x="42" y="27"/>
                    <a:pt x="61" y="27"/>
                    <a:pt x="76" y="22"/>
                  </a:cubicBezTo>
                  <a:cubicBezTo>
                    <a:pt x="83" y="20"/>
                    <a:pt x="98" y="15"/>
                    <a:pt x="98" y="15"/>
                  </a:cubicBezTo>
                  <a:cubicBezTo>
                    <a:pt x="111" y="17"/>
                    <a:pt x="123" y="20"/>
                    <a:pt x="136" y="22"/>
                  </a:cubicBezTo>
                  <a:cubicBezTo>
                    <a:pt x="145" y="24"/>
                    <a:pt x="159" y="38"/>
                    <a:pt x="159" y="38"/>
                  </a:cubicBezTo>
                  <a:cubicBezTo>
                    <a:pt x="93" y="58"/>
                    <a:pt x="170" y="26"/>
                    <a:pt x="151" y="68"/>
                  </a:cubicBezTo>
                  <a:cubicBezTo>
                    <a:pt x="148" y="75"/>
                    <a:pt x="123" y="54"/>
                    <a:pt x="129" y="60"/>
                  </a:cubicBezTo>
                  <a:cubicBezTo>
                    <a:pt x="137" y="68"/>
                    <a:pt x="149" y="71"/>
                    <a:pt x="159" y="76"/>
                  </a:cubicBezTo>
                  <a:cubicBezTo>
                    <a:pt x="211" y="144"/>
                    <a:pt x="188" y="118"/>
                    <a:pt x="227" y="159"/>
                  </a:cubicBezTo>
                  <a:cubicBezTo>
                    <a:pt x="225" y="146"/>
                    <a:pt x="229" y="130"/>
                    <a:pt x="220" y="121"/>
                  </a:cubicBezTo>
                  <a:cubicBezTo>
                    <a:pt x="214" y="115"/>
                    <a:pt x="220" y="142"/>
                    <a:pt x="212" y="144"/>
                  </a:cubicBezTo>
                  <a:cubicBezTo>
                    <a:pt x="203" y="146"/>
                    <a:pt x="197" y="134"/>
                    <a:pt x="189" y="129"/>
                  </a:cubicBezTo>
                  <a:cubicBezTo>
                    <a:pt x="184" y="119"/>
                    <a:pt x="180" y="108"/>
                    <a:pt x="174" y="98"/>
                  </a:cubicBezTo>
                  <a:cubicBezTo>
                    <a:pt x="170" y="90"/>
                    <a:pt x="159" y="67"/>
                    <a:pt x="159" y="76"/>
                  </a:cubicBezTo>
                  <a:cubicBezTo>
                    <a:pt x="159" y="87"/>
                    <a:pt x="169" y="96"/>
                    <a:pt x="174" y="106"/>
                  </a:cubicBezTo>
                  <a:cubicBezTo>
                    <a:pt x="177" y="124"/>
                    <a:pt x="182" y="177"/>
                    <a:pt x="182" y="159"/>
                  </a:cubicBezTo>
                  <a:cubicBezTo>
                    <a:pt x="182" y="121"/>
                    <a:pt x="187" y="81"/>
                    <a:pt x="174" y="45"/>
                  </a:cubicBezTo>
                  <a:cubicBezTo>
                    <a:pt x="168" y="28"/>
                    <a:pt x="144" y="25"/>
                    <a:pt x="129" y="15"/>
                  </a:cubicBezTo>
                  <a:cubicBezTo>
                    <a:pt x="121" y="10"/>
                    <a:pt x="106" y="0"/>
                    <a:pt x="106" y="0"/>
                  </a:cubicBezTo>
                  <a:cubicBezTo>
                    <a:pt x="22" y="16"/>
                    <a:pt x="0" y="73"/>
                    <a:pt x="0" y="15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132"/>
            <p:cNvSpPr/>
            <p:nvPr/>
          </p:nvSpPr>
          <p:spPr>
            <a:xfrm>
              <a:off x="1485720" y="2533680"/>
              <a:ext cx="490320" cy="459720"/>
            </a:xfrm>
            <a:custGeom>
              <a:avLst/>
              <a:gdLst/>
              <a:ahLst/>
              <a:rect l="l" t="t" r="r" b="b"/>
              <a:pathLst>
                <a:path w="309" h="290">
                  <a:moveTo>
                    <a:pt x="37" y="222"/>
                  </a:moveTo>
                  <a:cubicBezTo>
                    <a:pt x="31" y="196"/>
                    <a:pt x="18" y="150"/>
                    <a:pt x="0" y="206"/>
                  </a:cubicBezTo>
                  <a:cubicBezTo>
                    <a:pt x="2" y="188"/>
                    <a:pt x="5" y="171"/>
                    <a:pt x="7" y="153"/>
                  </a:cubicBezTo>
                  <a:cubicBezTo>
                    <a:pt x="10" y="128"/>
                    <a:pt x="9" y="102"/>
                    <a:pt x="15" y="78"/>
                  </a:cubicBezTo>
                  <a:cubicBezTo>
                    <a:pt x="21" y="56"/>
                    <a:pt x="70" y="30"/>
                    <a:pt x="83" y="17"/>
                  </a:cubicBezTo>
                  <a:cubicBezTo>
                    <a:pt x="80" y="25"/>
                    <a:pt x="68" y="37"/>
                    <a:pt x="75" y="40"/>
                  </a:cubicBezTo>
                  <a:cubicBezTo>
                    <a:pt x="83" y="44"/>
                    <a:pt x="90" y="29"/>
                    <a:pt x="98" y="24"/>
                  </a:cubicBezTo>
                  <a:cubicBezTo>
                    <a:pt x="131" y="5"/>
                    <a:pt x="127" y="9"/>
                    <a:pt x="166" y="2"/>
                  </a:cubicBezTo>
                  <a:cubicBezTo>
                    <a:pt x="179" y="4"/>
                    <a:pt x="195" y="0"/>
                    <a:pt x="204" y="9"/>
                  </a:cubicBezTo>
                  <a:cubicBezTo>
                    <a:pt x="210" y="15"/>
                    <a:pt x="179" y="9"/>
                    <a:pt x="181" y="17"/>
                  </a:cubicBezTo>
                  <a:cubicBezTo>
                    <a:pt x="184" y="29"/>
                    <a:pt x="202" y="32"/>
                    <a:pt x="212" y="40"/>
                  </a:cubicBezTo>
                  <a:cubicBezTo>
                    <a:pt x="214" y="47"/>
                    <a:pt x="219" y="62"/>
                    <a:pt x="219" y="62"/>
                  </a:cubicBezTo>
                  <a:cubicBezTo>
                    <a:pt x="227" y="67"/>
                    <a:pt x="248" y="71"/>
                    <a:pt x="242" y="78"/>
                  </a:cubicBezTo>
                  <a:cubicBezTo>
                    <a:pt x="240" y="81"/>
                    <a:pt x="176" y="57"/>
                    <a:pt x="234" y="78"/>
                  </a:cubicBezTo>
                  <a:cubicBezTo>
                    <a:pt x="275" y="117"/>
                    <a:pt x="233" y="75"/>
                    <a:pt x="227" y="78"/>
                  </a:cubicBezTo>
                  <a:cubicBezTo>
                    <a:pt x="220" y="81"/>
                    <a:pt x="230" y="94"/>
                    <a:pt x="234" y="100"/>
                  </a:cubicBezTo>
                  <a:cubicBezTo>
                    <a:pt x="239" y="108"/>
                    <a:pt x="309" y="171"/>
                    <a:pt x="250" y="131"/>
                  </a:cubicBezTo>
                  <a:cubicBezTo>
                    <a:pt x="261" y="166"/>
                    <a:pt x="294" y="177"/>
                    <a:pt x="250" y="191"/>
                  </a:cubicBezTo>
                  <a:cubicBezTo>
                    <a:pt x="242" y="238"/>
                    <a:pt x="241" y="254"/>
                    <a:pt x="272" y="2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133"/>
            <p:cNvSpPr/>
            <p:nvPr/>
          </p:nvSpPr>
          <p:spPr>
            <a:xfrm>
              <a:off x="1971360" y="2516040"/>
              <a:ext cx="569880" cy="585360"/>
            </a:xfrm>
            <a:custGeom>
              <a:avLst/>
              <a:gdLst/>
              <a:ahLst/>
              <a:rect l="l" t="t" r="r" b="b"/>
              <a:pathLst>
                <a:path w="359" h="369">
                  <a:moveTo>
                    <a:pt x="72" y="293"/>
                  </a:moveTo>
                  <a:cubicBezTo>
                    <a:pt x="61" y="282"/>
                    <a:pt x="0" y="225"/>
                    <a:pt x="65" y="248"/>
                  </a:cubicBezTo>
                  <a:cubicBezTo>
                    <a:pt x="76" y="212"/>
                    <a:pt x="49" y="171"/>
                    <a:pt x="27" y="142"/>
                  </a:cubicBezTo>
                  <a:cubicBezTo>
                    <a:pt x="32" y="137"/>
                    <a:pt x="35" y="126"/>
                    <a:pt x="42" y="126"/>
                  </a:cubicBezTo>
                  <a:cubicBezTo>
                    <a:pt x="49" y="126"/>
                    <a:pt x="51" y="147"/>
                    <a:pt x="57" y="142"/>
                  </a:cubicBezTo>
                  <a:cubicBezTo>
                    <a:pt x="64" y="136"/>
                    <a:pt x="35" y="97"/>
                    <a:pt x="35" y="96"/>
                  </a:cubicBezTo>
                  <a:cubicBezTo>
                    <a:pt x="31" y="89"/>
                    <a:pt x="20" y="76"/>
                    <a:pt x="27" y="73"/>
                  </a:cubicBezTo>
                  <a:cubicBezTo>
                    <a:pt x="35" y="69"/>
                    <a:pt x="42" y="84"/>
                    <a:pt x="50" y="89"/>
                  </a:cubicBezTo>
                  <a:cubicBezTo>
                    <a:pt x="91" y="149"/>
                    <a:pt x="40" y="67"/>
                    <a:pt x="35" y="58"/>
                  </a:cubicBezTo>
                  <a:cubicBezTo>
                    <a:pt x="31" y="51"/>
                    <a:pt x="21" y="41"/>
                    <a:pt x="27" y="35"/>
                  </a:cubicBezTo>
                  <a:cubicBezTo>
                    <a:pt x="33" y="29"/>
                    <a:pt x="42" y="40"/>
                    <a:pt x="50" y="43"/>
                  </a:cubicBezTo>
                  <a:cubicBezTo>
                    <a:pt x="52" y="30"/>
                    <a:pt x="46" y="12"/>
                    <a:pt x="57" y="5"/>
                  </a:cubicBezTo>
                  <a:cubicBezTo>
                    <a:pt x="65" y="0"/>
                    <a:pt x="63" y="28"/>
                    <a:pt x="72" y="28"/>
                  </a:cubicBezTo>
                  <a:cubicBezTo>
                    <a:pt x="80" y="28"/>
                    <a:pt x="77" y="13"/>
                    <a:pt x="80" y="5"/>
                  </a:cubicBezTo>
                  <a:cubicBezTo>
                    <a:pt x="114" y="27"/>
                    <a:pt x="112" y="18"/>
                    <a:pt x="148" y="5"/>
                  </a:cubicBezTo>
                  <a:cubicBezTo>
                    <a:pt x="167" y="59"/>
                    <a:pt x="140" y="7"/>
                    <a:pt x="179" y="20"/>
                  </a:cubicBezTo>
                  <a:cubicBezTo>
                    <a:pt x="189" y="23"/>
                    <a:pt x="191" y="39"/>
                    <a:pt x="201" y="43"/>
                  </a:cubicBezTo>
                  <a:cubicBezTo>
                    <a:pt x="215" y="49"/>
                    <a:pt x="232" y="48"/>
                    <a:pt x="247" y="51"/>
                  </a:cubicBezTo>
                  <a:cubicBezTo>
                    <a:pt x="306" y="89"/>
                    <a:pt x="253" y="52"/>
                    <a:pt x="247" y="58"/>
                  </a:cubicBezTo>
                  <a:cubicBezTo>
                    <a:pt x="238" y="67"/>
                    <a:pt x="242" y="83"/>
                    <a:pt x="239" y="96"/>
                  </a:cubicBezTo>
                  <a:cubicBezTo>
                    <a:pt x="242" y="104"/>
                    <a:pt x="242" y="113"/>
                    <a:pt x="247" y="119"/>
                  </a:cubicBezTo>
                  <a:cubicBezTo>
                    <a:pt x="253" y="126"/>
                    <a:pt x="269" y="125"/>
                    <a:pt x="270" y="134"/>
                  </a:cubicBezTo>
                  <a:cubicBezTo>
                    <a:pt x="272" y="150"/>
                    <a:pt x="254" y="179"/>
                    <a:pt x="254" y="179"/>
                  </a:cubicBezTo>
                  <a:cubicBezTo>
                    <a:pt x="285" y="195"/>
                    <a:pt x="303" y="200"/>
                    <a:pt x="315" y="233"/>
                  </a:cubicBezTo>
                  <a:cubicBezTo>
                    <a:pt x="298" y="280"/>
                    <a:pt x="332" y="245"/>
                    <a:pt x="315" y="293"/>
                  </a:cubicBezTo>
                  <a:cubicBezTo>
                    <a:pt x="359" y="337"/>
                    <a:pt x="338" y="322"/>
                    <a:pt x="338" y="3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134"/>
            <p:cNvSpPr/>
            <p:nvPr/>
          </p:nvSpPr>
          <p:spPr>
            <a:xfrm>
              <a:off x="1864800" y="2244600"/>
              <a:ext cx="474840" cy="231480"/>
            </a:xfrm>
            <a:custGeom>
              <a:avLst/>
              <a:gdLst/>
              <a:ahLst/>
              <a:rect l="l" t="t" r="r" b="b"/>
              <a:pathLst>
                <a:path w="299" h="146">
                  <a:moveTo>
                    <a:pt x="3" y="85"/>
                  </a:moveTo>
                  <a:cubicBezTo>
                    <a:pt x="6" y="95"/>
                    <a:pt x="0" y="114"/>
                    <a:pt x="11" y="116"/>
                  </a:cubicBezTo>
                  <a:cubicBezTo>
                    <a:pt x="160" y="143"/>
                    <a:pt x="156" y="110"/>
                    <a:pt x="94" y="70"/>
                  </a:cubicBezTo>
                  <a:cubicBezTo>
                    <a:pt x="113" y="0"/>
                    <a:pt x="169" y="31"/>
                    <a:pt x="215" y="62"/>
                  </a:cubicBezTo>
                  <a:cubicBezTo>
                    <a:pt x="146" y="87"/>
                    <a:pt x="72" y="46"/>
                    <a:pt x="3" y="70"/>
                  </a:cubicBezTo>
                  <a:cubicBezTo>
                    <a:pt x="65" y="87"/>
                    <a:pt x="129" y="95"/>
                    <a:pt x="193" y="100"/>
                  </a:cubicBezTo>
                  <a:cubicBezTo>
                    <a:pt x="190" y="113"/>
                    <a:pt x="197" y="133"/>
                    <a:pt x="185" y="138"/>
                  </a:cubicBezTo>
                  <a:cubicBezTo>
                    <a:pt x="166" y="146"/>
                    <a:pt x="104" y="134"/>
                    <a:pt x="124" y="131"/>
                  </a:cubicBezTo>
                  <a:cubicBezTo>
                    <a:pt x="182" y="123"/>
                    <a:pt x="241" y="126"/>
                    <a:pt x="299" y="123"/>
                  </a:cubicBezTo>
                  <a:cubicBezTo>
                    <a:pt x="265" y="91"/>
                    <a:pt x="290" y="108"/>
                    <a:pt x="208" y="1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35"/>
            <p:cNvSpPr/>
            <p:nvPr/>
          </p:nvSpPr>
          <p:spPr>
            <a:xfrm>
              <a:off x="1258560" y="2527200"/>
              <a:ext cx="235080" cy="213840"/>
            </a:xfrm>
            <a:custGeom>
              <a:avLst/>
              <a:gdLst/>
              <a:ahLst/>
              <a:rect l="l" t="t" r="r" b="b"/>
              <a:pathLst>
                <a:path w="148" h="135">
                  <a:moveTo>
                    <a:pt x="52" y="135"/>
                  </a:moveTo>
                  <a:cubicBezTo>
                    <a:pt x="49" y="112"/>
                    <a:pt x="47" y="89"/>
                    <a:pt x="44" y="66"/>
                  </a:cubicBezTo>
                  <a:cubicBezTo>
                    <a:pt x="42" y="45"/>
                    <a:pt x="0" y="28"/>
                    <a:pt x="6" y="21"/>
                  </a:cubicBezTo>
                  <a:cubicBezTo>
                    <a:pt x="17" y="8"/>
                    <a:pt x="45" y="49"/>
                    <a:pt x="52" y="51"/>
                  </a:cubicBezTo>
                  <a:cubicBezTo>
                    <a:pt x="69" y="57"/>
                    <a:pt x="87" y="56"/>
                    <a:pt x="105" y="59"/>
                  </a:cubicBezTo>
                  <a:cubicBezTo>
                    <a:pt x="102" y="69"/>
                    <a:pt x="104" y="81"/>
                    <a:pt x="97" y="89"/>
                  </a:cubicBezTo>
                  <a:cubicBezTo>
                    <a:pt x="92" y="95"/>
                    <a:pt x="66" y="97"/>
                    <a:pt x="74" y="97"/>
                  </a:cubicBezTo>
                  <a:cubicBezTo>
                    <a:pt x="95" y="97"/>
                    <a:pt x="115" y="92"/>
                    <a:pt x="135" y="89"/>
                  </a:cubicBezTo>
                  <a:cubicBezTo>
                    <a:pt x="132" y="76"/>
                    <a:pt x="134" y="62"/>
                    <a:pt x="127" y="51"/>
                  </a:cubicBezTo>
                  <a:cubicBezTo>
                    <a:pt x="116" y="35"/>
                    <a:pt x="69" y="54"/>
                    <a:pt x="135" y="36"/>
                  </a:cubicBezTo>
                  <a:cubicBezTo>
                    <a:pt x="138" y="26"/>
                    <a:pt x="148" y="15"/>
                    <a:pt x="143" y="6"/>
                  </a:cubicBezTo>
                  <a:cubicBezTo>
                    <a:pt x="140" y="0"/>
                    <a:pt x="131" y="15"/>
                    <a:pt x="127" y="21"/>
                  </a:cubicBezTo>
                  <a:cubicBezTo>
                    <a:pt x="115" y="40"/>
                    <a:pt x="105" y="61"/>
                    <a:pt x="97" y="82"/>
                  </a:cubicBezTo>
                  <a:cubicBezTo>
                    <a:pt x="84" y="119"/>
                    <a:pt x="95" y="99"/>
                    <a:pt x="52" y="13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36"/>
            <p:cNvSpPr/>
            <p:nvPr/>
          </p:nvSpPr>
          <p:spPr>
            <a:xfrm>
              <a:off x="2555640" y="2928960"/>
              <a:ext cx="249120" cy="102600"/>
            </a:xfrm>
            <a:custGeom>
              <a:avLst/>
              <a:gdLst/>
              <a:ahLst/>
              <a:rect l="l" t="t" r="r" b="b"/>
              <a:pathLst>
                <a:path w="157" h="65">
                  <a:moveTo>
                    <a:pt x="0" y="18"/>
                  </a:moveTo>
                  <a:cubicBezTo>
                    <a:pt x="16" y="65"/>
                    <a:pt x="58" y="51"/>
                    <a:pt x="99" y="63"/>
                  </a:cubicBezTo>
                  <a:cubicBezTo>
                    <a:pt x="111" y="61"/>
                    <a:pt x="127" y="65"/>
                    <a:pt x="136" y="56"/>
                  </a:cubicBezTo>
                  <a:cubicBezTo>
                    <a:pt x="157" y="35"/>
                    <a:pt x="106" y="26"/>
                    <a:pt x="106" y="26"/>
                  </a:cubicBezTo>
                  <a:cubicBezTo>
                    <a:pt x="71" y="15"/>
                    <a:pt x="34" y="0"/>
                    <a:pt x="0" y="1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37"/>
            <p:cNvSpPr/>
            <p:nvPr/>
          </p:nvSpPr>
          <p:spPr>
            <a:xfrm>
              <a:off x="2628720" y="2981160"/>
              <a:ext cx="466560" cy="261720"/>
            </a:xfrm>
            <a:custGeom>
              <a:avLst/>
              <a:gdLst/>
              <a:ahLst/>
              <a:rect l="l" t="t" r="r" b="b"/>
              <a:pathLst>
                <a:path w="294" h="165">
                  <a:moveTo>
                    <a:pt x="0" y="30"/>
                  </a:moveTo>
                  <a:cubicBezTo>
                    <a:pt x="41" y="74"/>
                    <a:pt x="86" y="50"/>
                    <a:pt x="151" y="46"/>
                  </a:cubicBezTo>
                  <a:cubicBezTo>
                    <a:pt x="128" y="21"/>
                    <a:pt x="116" y="9"/>
                    <a:pt x="83" y="0"/>
                  </a:cubicBezTo>
                  <a:cubicBezTo>
                    <a:pt x="91" y="5"/>
                    <a:pt x="104" y="6"/>
                    <a:pt x="106" y="15"/>
                  </a:cubicBezTo>
                  <a:cubicBezTo>
                    <a:pt x="113" y="47"/>
                    <a:pt x="82" y="83"/>
                    <a:pt x="106" y="91"/>
                  </a:cubicBezTo>
                  <a:cubicBezTo>
                    <a:pt x="132" y="100"/>
                    <a:pt x="161" y="96"/>
                    <a:pt x="189" y="99"/>
                  </a:cubicBezTo>
                  <a:cubicBezTo>
                    <a:pt x="197" y="101"/>
                    <a:pt x="206" y="112"/>
                    <a:pt x="212" y="106"/>
                  </a:cubicBezTo>
                  <a:cubicBezTo>
                    <a:pt x="224" y="94"/>
                    <a:pt x="196" y="79"/>
                    <a:pt x="181" y="68"/>
                  </a:cubicBezTo>
                  <a:cubicBezTo>
                    <a:pt x="171" y="71"/>
                    <a:pt x="156" y="67"/>
                    <a:pt x="151" y="76"/>
                  </a:cubicBezTo>
                  <a:cubicBezTo>
                    <a:pt x="146" y="85"/>
                    <a:pt x="157" y="96"/>
                    <a:pt x="159" y="106"/>
                  </a:cubicBezTo>
                  <a:cubicBezTo>
                    <a:pt x="162" y="116"/>
                    <a:pt x="157" y="132"/>
                    <a:pt x="166" y="137"/>
                  </a:cubicBezTo>
                  <a:cubicBezTo>
                    <a:pt x="186" y="147"/>
                    <a:pt x="211" y="142"/>
                    <a:pt x="234" y="144"/>
                  </a:cubicBezTo>
                  <a:cubicBezTo>
                    <a:pt x="244" y="147"/>
                    <a:pt x="255" y="149"/>
                    <a:pt x="265" y="152"/>
                  </a:cubicBezTo>
                  <a:cubicBezTo>
                    <a:pt x="273" y="154"/>
                    <a:pt x="282" y="165"/>
                    <a:pt x="288" y="159"/>
                  </a:cubicBezTo>
                  <a:cubicBezTo>
                    <a:pt x="294" y="153"/>
                    <a:pt x="286" y="142"/>
                    <a:pt x="280" y="137"/>
                  </a:cubicBezTo>
                  <a:cubicBezTo>
                    <a:pt x="268" y="128"/>
                    <a:pt x="230" y="118"/>
                    <a:pt x="219" y="1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38"/>
            <p:cNvSpPr/>
            <p:nvPr/>
          </p:nvSpPr>
          <p:spPr>
            <a:xfrm>
              <a:off x="642600" y="3365280"/>
              <a:ext cx="2959200" cy="1007640"/>
            </a:xfrm>
            <a:custGeom>
              <a:avLst/>
              <a:gdLst/>
              <a:ahLst/>
              <a:rect l="l" t="t" r="r" b="b"/>
              <a:pathLst>
                <a:path w="1864" h="635">
                  <a:moveTo>
                    <a:pt x="1645" y="319"/>
                  </a:moveTo>
                  <a:cubicBezTo>
                    <a:pt x="1620" y="313"/>
                    <a:pt x="1606" y="311"/>
                    <a:pt x="1584" y="296"/>
                  </a:cubicBezTo>
                  <a:cubicBezTo>
                    <a:pt x="1533" y="261"/>
                    <a:pt x="1587" y="284"/>
                    <a:pt x="1539" y="266"/>
                  </a:cubicBezTo>
                  <a:cubicBezTo>
                    <a:pt x="1512" y="240"/>
                    <a:pt x="1476" y="224"/>
                    <a:pt x="1440" y="213"/>
                  </a:cubicBezTo>
                  <a:cubicBezTo>
                    <a:pt x="1393" y="182"/>
                    <a:pt x="1350" y="141"/>
                    <a:pt x="1296" y="122"/>
                  </a:cubicBezTo>
                  <a:cubicBezTo>
                    <a:pt x="1272" y="123"/>
                    <a:pt x="1140" y="146"/>
                    <a:pt x="1099" y="137"/>
                  </a:cubicBezTo>
                  <a:cubicBezTo>
                    <a:pt x="1063" y="146"/>
                    <a:pt x="1058" y="153"/>
                    <a:pt x="1038" y="183"/>
                  </a:cubicBezTo>
                  <a:cubicBezTo>
                    <a:pt x="1002" y="178"/>
                    <a:pt x="974" y="168"/>
                    <a:pt x="940" y="183"/>
                  </a:cubicBezTo>
                  <a:cubicBezTo>
                    <a:pt x="923" y="191"/>
                    <a:pt x="894" y="213"/>
                    <a:pt x="894" y="213"/>
                  </a:cubicBezTo>
                  <a:cubicBezTo>
                    <a:pt x="843" y="199"/>
                    <a:pt x="823" y="145"/>
                    <a:pt x="773" y="130"/>
                  </a:cubicBezTo>
                  <a:cubicBezTo>
                    <a:pt x="756" y="125"/>
                    <a:pt x="738" y="125"/>
                    <a:pt x="720" y="122"/>
                  </a:cubicBezTo>
                  <a:cubicBezTo>
                    <a:pt x="695" y="113"/>
                    <a:pt x="652" y="84"/>
                    <a:pt x="652" y="84"/>
                  </a:cubicBezTo>
                  <a:cubicBezTo>
                    <a:pt x="604" y="11"/>
                    <a:pt x="570" y="29"/>
                    <a:pt x="470" y="23"/>
                  </a:cubicBezTo>
                  <a:cubicBezTo>
                    <a:pt x="393" y="0"/>
                    <a:pt x="315" y="18"/>
                    <a:pt x="235" y="23"/>
                  </a:cubicBezTo>
                  <a:cubicBezTo>
                    <a:pt x="217" y="36"/>
                    <a:pt x="194" y="43"/>
                    <a:pt x="182" y="61"/>
                  </a:cubicBezTo>
                  <a:cubicBezTo>
                    <a:pt x="172" y="76"/>
                    <a:pt x="170" y="102"/>
                    <a:pt x="152" y="107"/>
                  </a:cubicBezTo>
                  <a:cubicBezTo>
                    <a:pt x="101" y="122"/>
                    <a:pt x="51" y="137"/>
                    <a:pt x="0" y="152"/>
                  </a:cubicBezTo>
                  <a:cubicBezTo>
                    <a:pt x="71" y="188"/>
                    <a:pt x="118" y="185"/>
                    <a:pt x="205" y="190"/>
                  </a:cubicBezTo>
                  <a:cubicBezTo>
                    <a:pt x="153" y="224"/>
                    <a:pt x="172" y="207"/>
                    <a:pt x="144" y="236"/>
                  </a:cubicBezTo>
                  <a:cubicBezTo>
                    <a:pt x="222" y="260"/>
                    <a:pt x="221" y="262"/>
                    <a:pt x="364" y="251"/>
                  </a:cubicBezTo>
                  <a:cubicBezTo>
                    <a:pt x="380" y="250"/>
                    <a:pt x="374" y="220"/>
                    <a:pt x="379" y="205"/>
                  </a:cubicBezTo>
                  <a:cubicBezTo>
                    <a:pt x="431" y="217"/>
                    <a:pt x="467" y="233"/>
                    <a:pt x="515" y="251"/>
                  </a:cubicBezTo>
                  <a:cubicBezTo>
                    <a:pt x="520" y="246"/>
                    <a:pt x="524" y="237"/>
                    <a:pt x="531" y="236"/>
                  </a:cubicBezTo>
                  <a:cubicBezTo>
                    <a:pt x="576" y="229"/>
                    <a:pt x="661" y="309"/>
                    <a:pt x="697" y="334"/>
                  </a:cubicBezTo>
                  <a:cubicBezTo>
                    <a:pt x="716" y="278"/>
                    <a:pt x="756" y="313"/>
                    <a:pt x="796" y="327"/>
                  </a:cubicBezTo>
                  <a:cubicBezTo>
                    <a:pt x="850" y="378"/>
                    <a:pt x="886" y="381"/>
                    <a:pt x="963" y="387"/>
                  </a:cubicBezTo>
                  <a:cubicBezTo>
                    <a:pt x="1051" y="406"/>
                    <a:pt x="1008" y="405"/>
                    <a:pt x="1091" y="395"/>
                  </a:cubicBezTo>
                  <a:cubicBezTo>
                    <a:pt x="1094" y="387"/>
                    <a:pt x="1091" y="374"/>
                    <a:pt x="1099" y="372"/>
                  </a:cubicBezTo>
                  <a:cubicBezTo>
                    <a:pt x="1191" y="343"/>
                    <a:pt x="1202" y="398"/>
                    <a:pt x="1182" y="342"/>
                  </a:cubicBezTo>
                  <a:cubicBezTo>
                    <a:pt x="1239" y="322"/>
                    <a:pt x="1320" y="357"/>
                    <a:pt x="1379" y="364"/>
                  </a:cubicBezTo>
                  <a:cubicBezTo>
                    <a:pt x="1337" y="409"/>
                    <a:pt x="1256" y="418"/>
                    <a:pt x="1197" y="433"/>
                  </a:cubicBezTo>
                  <a:cubicBezTo>
                    <a:pt x="1195" y="446"/>
                    <a:pt x="1199" y="462"/>
                    <a:pt x="1190" y="471"/>
                  </a:cubicBezTo>
                  <a:cubicBezTo>
                    <a:pt x="1188" y="473"/>
                    <a:pt x="1105" y="485"/>
                    <a:pt x="1099" y="486"/>
                  </a:cubicBezTo>
                  <a:cubicBezTo>
                    <a:pt x="1081" y="491"/>
                    <a:pt x="1057" y="486"/>
                    <a:pt x="1046" y="501"/>
                  </a:cubicBezTo>
                  <a:cubicBezTo>
                    <a:pt x="1031" y="521"/>
                    <a:pt x="1099" y="554"/>
                    <a:pt x="1099" y="554"/>
                  </a:cubicBezTo>
                  <a:cubicBezTo>
                    <a:pt x="1045" y="635"/>
                    <a:pt x="1051" y="600"/>
                    <a:pt x="1197" y="592"/>
                  </a:cubicBezTo>
                  <a:cubicBezTo>
                    <a:pt x="1209" y="581"/>
                    <a:pt x="1227" y="576"/>
                    <a:pt x="1235" y="562"/>
                  </a:cubicBezTo>
                  <a:cubicBezTo>
                    <a:pt x="1241" y="551"/>
                    <a:pt x="1236" y="535"/>
                    <a:pt x="1243" y="524"/>
                  </a:cubicBezTo>
                  <a:cubicBezTo>
                    <a:pt x="1248" y="517"/>
                    <a:pt x="1258" y="517"/>
                    <a:pt x="1266" y="516"/>
                  </a:cubicBezTo>
                  <a:cubicBezTo>
                    <a:pt x="1314" y="511"/>
                    <a:pt x="1362" y="511"/>
                    <a:pt x="1410" y="508"/>
                  </a:cubicBezTo>
                  <a:cubicBezTo>
                    <a:pt x="1421" y="492"/>
                    <a:pt x="1417" y="467"/>
                    <a:pt x="1432" y="455"/>
                  </a:cubicBezTo>
                  <a:cubicBezTo>
                    <a:pt x="1442" y="447"/>
                    <a:pt x="1457" y="449"/>
                    <a:pt x="1470" y="448"/>
                  </a:cubicBezTo>
                  <a:cubicBezTo>
                    <a:pt x="1521" y="444"/>
                    <a:pt x="1571" y="443"/>
                    <a:pt x="1622" y="440"/>
                  </a:cubicBezTo>
                  <a:cubicBezTo>
                    <a:pt x="1651" y="398"/>
                    <a:pt x="1711" y="406"/>
                    <a:pt x="1758" y="395"/>
                  </a:cubicBezTo>
                  <a:cubicBezTo>
                    <a:pt x="1798" y="376"/>
                    <a:pt x="1818" y="371"/>
                    <a:pt x="1864" y="364"/>
                  </a:cubicBezTo>
                  <a:cubicBezTo>
                    <a:pt x="1795" y="317"/>
                    <a:pt x="1734" y="338"/>
                    <a:pt x="1637" y="334"/>
                  </a:cubicBezTo>
                  <a:cubicBezTo>
                    <a:pt x="1605" y="313"/>
                    <a:pt x="1605" y="319"/>
                    <a:pt x="1645" y="319"/>
                  </a:cubicBez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39"/>
            <p:cNvSpPr/>
            <p:nvPr/>
          </p:nvSpPr>
          <p:spPr>
            <a:xfrm>
              <a:off x="763200" y="3371760"/>
              <a:ext cx="2719440" cy="593280"/>
            </a:xfrm>
            <a:custGeom>
              <a:avLst/>
              <a:gdLst/>
              <a:ahLst/>
              <a:rect l="l" t="t" r="r" b="b"/>
              <a:pathLst>
                <a:path w="1713" h="374">
                  <a:moveTo>
                    <a:pt x="76" y="65"/>
                  </a:moveTo>
                  <a:cubicBezTo>
                    <a:pt x="100" y="48"/>
                    <a:pt x="124" y="39"/>
                    <a:pt x="151" y="27"/>
                  </a:cubicBezTo>
                  <a:cubicBezTo>
                    <a:pt x="162" y="22"/>
                    <a:pt x="182" y="12"/>
                    <a:pt x="182" y="12"/>
                  </a:cubicBezTo>
                  <a:cubicBezTo>
                    <a:pt x="212" y="19"/>
                    <a:pt x="245" y="15"/>
                    <a:pt x="273" y="27"/>
                  </a:cubicBezTo>
                  <a:cubicBezTo>
                    <a:pt x="294" y="36"/>
                    <a:pt x="146" y="42"/>
                    <a:pt x="204" y="42"/>
                  </a:cubicBezTo>
                  <a:cubicBezTo>
                    <a:pt x="242" y="42"/>
                    <a:pt x="280" y="37"/>
                    <a:pt x="318" y="35"/>
                  </a:cubicBezTo>
                  <a:cubicBezTo>
                    <a:pt x="353" y="37"/>
                    <a:pt x="389" y="38"/>
                    <a:pt x="424" y="42"/>
                  </a:cubicBezTo>
                  <a:cubicBezTo>
                    <a:pt x="435" y="43"/>
                    <a:pt x="445" y="47"/>
                    <a:pt x="455" y="50"/>
                  </a:cubicBezTo>
                  <a:cubicBezTo>
                    <a:pt x="468" y="54"/>
                    <a:pt x="500" y="76"/>
                    <a:pt x="492" y="65"/>
                  </a:cubicBezTo>
                  <a:cubicBezTo>
                    <a:pt x="476" y="42"/>
                    <a:pt x="365" y="0"/>
                    <a:pt x="447" y="19"/>
                  </a:cubicBezTo>
                  <a:cubicBezTo>
                    <a:pt x="477" y="35"/>
                    <a:pt x="506" y="47"/>
                    <a:pt x="538" y="57"/>
                  </a:cubicBezTo>
                  <a:cubicBezTo>
                    <a:pt x="566" y="75"/>
                    <a:pt x="590" y="100"/>
                    <a:pt x="621" y="110"/>
                  </a:cubicBezTo>
                  <a:cubicBezTo>
                    <a:pt x="606" y="100"/>
                    <a:pt x="592" y="89"/>
                    <a:pt x="576" y="80"/>
                  </a:cubicBezTo>
                  <a:cubicBezTo>
                    <a:pt x="569" y="76"/>
                    <a:pt x="546" y="68"/>
                    <a:pt x="553" y="72"/>
                  </a:cubicBezTo>
                  <a:cubicBezTo>
                    <a:pt x="575" y="86"/>
                    <a:pt x="611" y="100"/>
                    <a:pt x="636" y="110"/>
                  </a:cubicBezTo>
                  <a:cubicBezTo>
                    <a:pt x="678" y="152"/>
                    <a:pt x="685" y="174"/>
                    <a:pt x="735" y="186"/>
                  </a:cubicBezTo>
                  <a:cubicBezTo>
                    <a:pt x="732" y="178"/>
                    <a:pt x="734" y="168"/>
                    <a:pt x="727" y="163"/>
                  </a:cubicBezTo>
                  <a:cubicBezTo>
                    <a:pt x="691" y="137"/>
                    <a:pt x="646" y="123"/>
                    <a:pt x="606" y="103"/>
                  </a:cubicBezTo>
                  <a:cubicBezTo>
                    <a:pt x="583" y="92"/>
                    <a:pt x="565" y="72"/>
                    <a:pt x="545" y="57"/>
                  </a:cubicBezTo>
                  <a:cubicBezTo>
                    <a:pt x="539" y="52"/>
                    <a:pt x="560" y="62"/>
                    <a:pt x="568" y="65"/>
                  </a:cubicBezTo>
                  <a:cubicBezTo>
                    <a:pt x="578" y="73"/>
                    <a:pt x="590" y="79"/>
                    <a:pt x="599" y="88"/>
                  </a:cubicBezTo>
                  <a:cubicBezTo>
                    <a:pt x="605" y="94"/>
                    <a:pt x="623" y="110"/>
                    <a:pt x="614" y="110"/>
                  </a:cubicBezTo>
                  <a:cubicBezTo>
                    <a:pt x="601" y="110"/>
                    <a:pt x="594" y="95"/>
                    <a:pt x="583" y="88"/>
                  </a:cubicBezTo>
                  <a:cubicBezTo>
                    <a:pt x="547" y="65"/>
                    <a:pt x="512" y="57"/>
                    <a:pt x="470" y="50"/>
                  </a:cubicBezTo>
                  <a:cubicBezTo>
                    <a:pt x="347" y="0"/>
                    <a:pt x="421" y="18"/>
                    <a:pt x="242" y="27"/>
                  </a:cubicBezTo>
                  <a:cubicBezTo>
                    <a:pt x="311" y="61"/>
                    <a:pt x="284" y="45"/>
                    <a:pt x="326" y="72"/>
                  </a:cubicBezTo>
                  <a:cubicBezTo>
                    <a:pt x="321" y="65"/>
                    <a:pt x="303" y="54"/>
                    <a:pt x="311" y="50"/>
                  </a:cubicBezTo>
                  <a:cubicBezTo>
                    <a:pt x="321" y="45"/>
                    <a:pt x="333" y="57"/>
                    <a:pt x="341" y="65"/>
                  </a:cubicBezTo>
                  <a:cubicBezTo>
                    <a:pt x="347" y="71"/>
                    <a:pt x="346" y="80"/>
                    <a:pt x="348" y="88"/>
                  </a:cubicBezTo>
                  <a:cubicBezTo>
                    <a:pt x="351" y="80"/>
                    <a:pt x="360" y="72"/>
                    <a:pt x="356" y="65"/>
                  </a:cubicBezTo>
                  <a:cubicBezTo>
                    <a:pt x="352" y="58"/>
                    <a:pt x="340" y="61"/>
                    <a:pt x="333" y="57"/>
                  </a:cubicBezTo>
                  <a:cubicBezTo>
                    <a:pt x="325" y="53"/>
                    <a:pt x="318" y="47"/>
                    <a:pt x="311" y="42"/>
                  </a:cubicBezTo>
                  <a:cubicBezTo>
                    <a:pt x="305" y="37"/>
                    <a:pt x="288" y="29"/>
                    <a:pt x="295" y="27"/>
                  </a:cubicBezTo>
                  <a:cubicBezTo>
                    <a:pt x="310" y="23"/>
                    <a:pt x="326" y="32"/>
                    <a:pt x="341" y="35"/>
                  </a:cubicBezTo>
                  <a:cubicBezTo>
                    <a:pt x="358" y="46"/>
                    <a:pt x="380" y="50"/>
                    <a:pt x="394" y="65"/>
                  </a:cubicBezTo>
                  <a:cubicBezTo>
                    <a:pt x="400" y="71"/>
                    <a:pt x="397" y="81"/>
                    <a:pt x="401" y="88"/>
                  </a:cubicBezTo>
                  <a:cubicBezTo>
                    <a:pt x="405" y="94"/>
                    <a:pt x="412" y="98"/>
                    <a:pt x="417" y="103"/>
                  </a:cubicBezTo>
                  <a:cubicBezTo>
                    <a:pt x="425" y="111"/>
                    <a:pt x="432" y="134"/>
                    <a:pt x="439" y="126"/>
                  </a:cubicBezTo>
                  <a:cubicBezTo>
                    <a:pt x="457" y="105"/>
                    <a:pt x="386" y="79"/>
                    <a:pt x="409" y="72"/>
                  </a:cubicBezTo>
                  <a:cubicBezTo>
                    <a:pt x="422" y="68"/>
                    <a:pt x="434" y="83"/>
                    <a:pt x="447" y="88"/>
                  </a:cubicBezTo>
                  <a:cubicBezTo>
                    <a:pt x="485" y="126"/>
                    <a:pt x="478" y="132"/>
                    <a:pt x="492" y="179"/>
                  </a:cubicBezTo>
                  <a:cubicBezTo>
                    <a:pt x="495" y="169"/>
                    <a:pt x="503" y="158"/>
                    <a:pt x="500" y="148"/>
                  </a:cubicBezTo>
                  <a:cubicBezTo>
                    <a:pt x="490" y="105"/>
                    <a:pt x="416" y="104"/>
                    <a:pt x="545" y="133"/>
                  </a:cubicBezTo>
                  <a:cubicBezTo>
                    <a:pt x="579" y="155"/>
                    <a:pt x="608" y="173"/>
                    <a:pt x="636" y="201"/>
                  </a:cubicBezTo>
                  <a:cubicBezTo>
                    <a:pt x="639" y="194"/>
                    <a:pt x="647" y="186"/>
                    <a:pt x="644" y="179"/>
                  </a:cubicBezTo>
                  <a:cubicBezTo>
                    <a:pt x="640" y="172"/>
                    <a:pt x="627" y="176"/>
                    <a:pt x="621" y="171"/>
                  </a:cubicBezTo>
                  <a:cubicBezTo>
                    <a:pt x="614" y="165"/>
                    <a:pt x="613" y="154"/>
                    <a:pt x="606" y="148"/>
                  </a:cubicBezTo>
                  <a:cubicBezTo>
                    <a:pt x="597" y="141"/>
                    <a:pt x="585" y="140"/>
                    <a:pt x="576" y="133"/>
                  </a:cubicBezTo>
                  <a:cubicBezTo>
                    <a:pt x="567" y="127"/>
                    <a:pt x="561" y="117"/>
                    <a:pt x="553" y="110"/>
                  </a:cubicBezTo>
                  <a:cubicBezTo>
                    <a:pt x="546" y="104"/>
                    <a:pt x="538" y="100"/>
                    <a:pt x="530" y="95"/>
                  </a:cubicBezTo>
                  <a:cubicBezTo>
                    <a:pt x="525" y="87"/>
                    <a:pt x="507" y="76"/>
                    <a:pt x="515" y="72"/>
                  </a:cubicBezTo>
                  <a:cubicBezTo>
                    <a:pt x="525" y="67"/>
                    <a:pt x="535" y="83"/>
                    <a:pt x="545" y="88"/>
                  </a:cubicBezTo>
                  <a:cubicBezTo>
                    <a:pt x="587" y="109"/>
                    <a:pt x="588" y="109"/>
                    <a:pt x="629" y="126"/>
                  </a:cubicBezTo>
                  <a:cubicBezTo>
                    <a:pt x="654" y="150"/>
                    <a:pt x="672" y="177"/>
                    <a:pt x="697" y="201"/>
                  </a:cubicBezTo>
                  <a:cubicBezTo>
                    <a:pt x="694" y="188"/>
                    <a:pt x="696" y="174"/>
                    <a:pt x="689" y="163"/>
                  </a:cubicBezTo>
                  <a:cubicBezTo>
                    <a:pt x="675" y="140"/>
                    <a:pt x="603" y="108"/>
                    <a:pt x="583" y="95"/>
                  </a:cubicBezTo>
                  <a:cubicBezTo>
                    <a:pt x="571" y="87"/>
                    <a:pt x="558" y="80"/>
                    <a:pt x="545" y="72"/>
                  </a:cubicBezTo>
                  <a:cubicBezTo>
                    <a:pt x="538" y="67"/>
                    <a:pt x="517" y="51"/>
                    <a:pt x="523" y="57"/>
                  </a:cubicBezTo>
                  <a:cubicBezTo>
                    <a:pt x="539" y="73"/>
                    <a:pt x="584" y="99"/>
                    <a:pt x="599" y="110"/>
                  </a:cubicBezTo>
                  <a:cubicBezTo>
                    <a:pt x="609" y="117"/>
                    <a:pt x="619" y="125"/>
                    <a:pt x="629" y="133"/>
                  </a:cubicBezTo>
                  <a:cubicBezTo>
                    <a:pt x="639" y="165"/>
                    <a:pt x="662" y="183"/>
                    <a:pt x="682" y="209"/>
                  </a:cubicBezTo>
                  <a:cubicBezTo>
                    <a:pt x="677" y="194"/>
                    <a:pt x="678" y="174"/>
                    <a:pt x="667" y="163"/>
                  </a:cubicBezTo>
                  <a:cubicBezTo>
                    <a:pt x="657" y="153"/>
                    <a:pt x="641" y="149"/>
                    <a:pt x="629" y="141"/>
                  </a:cubicBezTo>
                  <a:cubicBezTo>
                    <a:pt x="577" y="107"/>
                    <a:pt x="525" y="71"/>
                    <a:pt x="462" y="57"/>
                  </a:cubicBezTo>
                  <a:cubicBezTo>
                    <a:pt x="307" y="23"/>
                    <a:pt x="491" y="72"/>
                    <a:pt x="371" y="42"/>
                  </a:cubicBezTo>
                  <a:cubicBezTo>
                    <a:pt x="278" y="18"/>
                    <a:pt x="358" y="31"/>
                    <a:pt x="242" y="19"/>
                  </a:cubicBezTo>
                  <a:cubicBezTo>
                    <a:pt x="204" y="22"/>
                    <a:pt x="166" y="21"/>
                    <a:pt x="129" y="27"/>
                  </a:cubicBezTo>
                  <a:cubicBezTo>
                    <a:pt x="108" y="30"/>
                    <a:pt x="70" y="53"/>
                    <a:pt x="53" y="65"/>
                  </a:cubicBezTo>
                  <a:cubicBezTo>
                    <a:pt x="43" y="72"/>
                    <a:pt x="33" y="80"/>
                    <a:pt x="23" y="88"/>
                  </a:cubicBezTo>
                  <a:cubicBezTo>
                    <a:pt x="17" y="93"/>
                    <a:pt x="0" y="101"/>
                    <a:pt x="7" y="103"/>
                  </a:cubicBezTo>
                  <a:cubicBezTo>
                    <a:pt x="22" y="107"/>
                    <a:pt x="38" y="98"/>
                    <a:pt x="53" y="95"/>
                  </a:cubicBezTo>
                  <a:cubicBezTo>
                    <a:pt x="101" y="64"/>
                    <a:pt x="164" y="54"/>
                    <a:pt x="220" y="42"/>
                  </a:cubicBezTo>
                  <a:cubicBezTo>
                    <a:pt x="333" y="56"/>
                    <a:pt x="375" y="51"/>
                    <a:pt x="462" y="80"/>
                  </a:cubicBezTo>
                  <a:cubicBezTo>
                    <a:pt x="524" y="101"/>
                    <a:pt x="580" y="136"/>
                    <a:pt x="644" y="148"/>
                  </a:cubicBezTo>
                  <a:cubicBezTo>
                    <a:pt x="674" y="168"/>
                    <a:pt x="709" y="176"/>
                    <a:pt x="743" y="186"/>
                  </a:cubicBezTo>
                  <a:cubicBezTo>
                    <a:pt x="819" y="238"/>
                    <a:pt x="1014" y="203"/>
                    <a:pt x="1061" y="201"/>
                  </a:cubicBezTo>
                  <a:cubicBezTo>
                    <a:pt x="1212" y="155"/>
                    <a:pt x="653" y="173"/>
                    <a:pt x="856" y="209"/>
                  </a:cubicBezTo>
                  <a:cubicBezTo>
                    <a:pt x="1009" y="142"/>
                    <a:pt x="781" y="235"/>
                    <a:pt x="993" y="179"/>
                  </a:cubicBezTo>
                  <a:cubicBezTo>
                    <a:pt x="1046" y="165"/>
                    <a:pt x="1118" y="134"/>
                    <a:pt x="1175" y="110"/>
                  </a:cubicBezTo>
                  <a:cubicBezTo>
                    <a:pt x="1177" y="103"/>
                    <a:pt x="1190" y="89"/>
                    <a:pt x="1182" y="88"/>
                  </a:cubicBezTo>
                  <a:cubicBezTo>
                    <a:pt x="1129" y="83"/>
                    <a:pt x="1026" y="131"/>
                    <a:pt x="970" y="148"/>
                  </a:cubicBezTo>
                  <a:cubicBezTo>
                    <a:pt x="980" y="153"/>
                    <a:pt x="989" y="162"/>
                    <a:pt x="1000" y="163"/>
                  </a:cubicBezTo>
                  <a:cubicBezTo>
                    <a:pt x="1013" y="165"/>
                    <a:pt x="1025" y="158"/>
                    <a:pt x="1038" y="156"/>
                  </a:cubicBezTo>
                  <a:cubicBezTo>
                    <a:pt x="1236" y="132"/>
                    <a:pt x="1218" y="134"/>
                    <a:pt x="1144" y="148"/>
                  </a:cubicBezTo>
                  <a:cubicBezTo>
                    <a:pt x="1218" y="163"/>
                    <a:pt x="1291" y="169"/>
                    <a:pt x="1364" y="186"/>
                  </a:cubicBezTo>
                  <a:cubicBezTo>
                    <a:pt x="1384" y="191"/>
                    <a:pt x="1405" y="196"/>
                    <a:pt x="1425" y="201"/>
                  </a:cubicBezTo>
                  <a:cubicBezTo>
                    <a:pt x="1453" y="208"/>
                    <a:pt x="1534" y="237"/>
                    <a:pt x="1508" y="224"/>
                  </a:cubicBezTo>
                  <a:cubicBezTo>
                    <a:pt x="1466" y="203"/>
                    <a:pt x="1433" y="185"/>
                    <a:pt x="1387" y="171"/>
                  </a:cubicBezTo>
                  <a:cubicBezTo>
                    <a:pt x="1372" y="166"/>
                    <a:pt x="1356" y="162"/>
                    <a:pt x="1341" y="156"/>
                  </a:cubicBezTo>
                  <a:cubicBezTo>
                    <a:pt x="1331" y="152"/>
                    <a:pt x="1303" y="149"/>
                    <a:pt x="1311" y="141"/>
                  </a:cubicBezTo>
                  <a:cubicBezTo>
                    <a:pt x="1320" y="132"/>
                    <a:pt x="1336" y="146"/>
                    <a:pt x="1349" y="148"/>
                  </a:cubicBezTo>
                  <a:cubicBezTo>
                    <a:pt x="1397" y="172"/>
                    <a:pt x="1444" y="189"/>
                    <a:pt x="1485" y="224"/>
                  </a:cubicBezTo>
                  <a:cubicBezTo>
                    <a:pt x="1493" y="231"/>
                    <a:pt x="1500" y="240"/>
                    <a:pt x="1508" y="247"/>
                  </a:cubicBezTo>
                  <a:cubicBezTo>
                    <a:pt x="1515" y="253"/>
                    <a:pt x="1540" y="260"/>
                    <a:pt x="1531" y="262"/>
                  </a:cubicBezTo>
                  <a:cubicBezTo>
                    <a:pt x="1514" y="266"/>
                    <a:pt x="1496" y="257"/>
                    <a:pt x="1478" y="254"/>
                  </a:cubicBezTo>
                  <a:cubicBezTo>
                    <a:pt x="1448" y="240"/>
                    <a:pt x="1416" y="231"/>
                    <a:pt x="1387" y="216"/>
                  </a:cubicBezTo>
                  <a:cubicBezTo>
                    <a:pt x="1336" y="190"/>
                    <a:pt x="1349" y="182"/>
                    <a:pt x="1296" y="163"/>
                  </a:cubicBezTo>
                  <a:cubicBezTo>
                    <a:pt x="1241" y="143"/>
                    <a:pt x="1183" y="139"/>
                    <a:pt x="1129" y="118"/>
                  </a:cubicBezTo>
                  <a:cubicBezTo>
                    <a:pt x="1149" y="176"/>
                    <a:pt x="1131" y="143"/>
                    <a:pt x="1243" y="186"/>
                  </a:cubicBezTo>
                  <a:cubicBezTo>
                    <a:pt x="1333" y="220"/>
                    <a:pt x="1404" y="279"/>
                    <a:pt x="1500" y="300"/>
                  </a:cubicBezTo>
                  <a:cubicBezTo>
                    <a:pt x="1515" y="257"/>
                    <a:pt x="1487" y="252"/>
                    <a:pt x="1455" y="232"/>
                  </a:cubicBezTo>
                  <a:cubicBezTo>
                    <a:pt x="1343" y="161"/>
                    <a:pt x="1322" y="147"/>
                    <a:pt x="1190" y="133"/>
                  </a:cubicBezTo>
                  <a:cubicBezTo>
                    <a:pt x="1134" y="120"/>
                    <a:pt x="1070" y="103"/>
                    <a:pt x="1015" y="133"/>
                  </a:cubicBezTo>
                  <a:cubicBezTo>
                    <a:pt x="995" y="144"/>
                    <a:pt x="1013" y="181"/>
                    <a:pt x="1023" y="201"/>
                  </a:cubicBezTo>
                  <a:cubicBezTo>
                    <a:pt x="1030" y="214"/>
                    <a:pt x="1049" y="215"/>
                    <a:pt x="1061" y="224"/>
                  </a:cubicBezTo>
                  <a:cubicBezTo>
                    <a:pt x="1070" y="231"/>
                    <a:pt x="1074" y="242"/>
                    <a:pt x="1084" y="247"/>
                  </a:cubicBezTo>
                  <a:cubicBezTo>
                    <a:pt x="1089" y="250"/>
                    <a:pt x="1080" y="236"/>
                    <a:pt x="1076" y="232"/>
                  </a:cubicBezTo>
                  <a:cubicBezTo>
                    <a:pt x="1047" y="203"/>
                    <a:pt x="1059" y="218"/>
                    <a:pt x="1038" y="186"/>
                  </a:cubicBezTo>
                  <a:cubicBezTo>
                    <a:pt x="1089" y="170"/>
                    <a:pt x="1070" y="188"/>
                    <a:pt x="1106" y="209"/>
                  </a:cubicBezTo>
                  <a:cubicBezTo>
                    <a:pt x="1115" y="214"/>
                    <a:pt x="1127" y="214"/>
                    <a:pt x="1137" y="216"/>
                  </a:cubicBezTo>
                  <a:cubicBezTo>
                    <a:pt x="1142" y="221"/>
                    <a:pt x="1159" y="232"/>
                    <a:pt x="1152" y="232"/>
                  </a:cubicBezTo>
                  <a:cubicBezTo>
                    <a:pt x="1141" y="232"/>
                    <a:pt x="1087" y="174"/>
                    <a:pt x="1084" y="171"/>
                  </a:cubicBezTo>
                  <a:cubicBezTo>
                    <a:pt x="1075" y="162"/>
                    <a:pt x="1041" y="152"/>
                    <a:pt x="1053" y="148"/>
                  </a:cubicBezTo>
                  <a:cubicBezTo>
                    <a:pt x="1070" y="142"/>
                    <a:pt x="1088" y="158"/>
                    <a:pt x="1106" y="163"/>
                  </a:cubicBezTo>
                  <a:cubicBezTo>
                    <a:pt x="1111" y="168"/>
                    <a:pt x="1116" y="173"/>
                    <a:pt x="1121" y="179"/>
                  </a:cubicBezTo>
                  <a:cubicBezTo>
                    <a:pt x="1127" y="186"/>
                    <a:pt x="1144" y="207"/>
                    <a:pt x="1137" y="201"/>
                  </a:cubicBezTo>
                  <a:cubicBezTo>
                    <a:pt x="1120" y="188"/>
                    <a:pt x="1091" y="156"/>
                    <a:pt x="1091" y="156"/>
                  </a:cubicBezTo>
                  <a:cubicBezTo>
                    <a:pt x="1135" y="141"/>
                    <a:pt x="1150" y="177"/>
                    <a:pt x="1175" y="209"/>
                  </a:cubicBezTo>
                  <a:cubicBezTo>
                    <a:pt x="1157" y="157"/>
                    <a:pt x="1182" y="219"/>
                    <a:pt x="1137" y="156"/>
                  </a:cubicBezTo>
                  <a:cubicBezTo>
                    <a:pt x="1132" y="149"/>
                    <a:pt x="1121" y="136"/>
                    <a:pt x="1129" y="133"/>
                  </a:cubicBezTo>
                  <a:cubicBezTo>
                    <a:pt x="1143" y="127"/>
                    <a:pt x="1160" y="138"/>
                    <a:pt x="1175" y="141"/>
                  </a:cubicBezTo>
                  <a:cubicBezTo>
                    <a:pt x="1189" y="155"/>
                    <a:pt x="1206" y="165"/>
                    <a:pt x="1220" y="179"/>
                  </a:cubicBezTo>
                  <a:cubicBezTo>
                    <a:pt x="1229" y="188"/>
                    <a:pt x="1234" y="201"/>
                    <a:pt x="1243" y="209"/>
                  </a:cubicBezTo>
                  <a:cubicBezTo>
                    <a:pt x="1250" y="215"/>
                    <a:pt x="1234" y="193"/>
                    <a:pt x="1228" y="186"/>
                  </a:cubicBezTo>
                  <a:cubicBezTo>
                    <a:pt x="1226" y="184"/>
                    <a:pt x="1190" y="153"/>
                    <a:pt x="1197" y="148"/>
                  </a:cubicBezTo>
                  <a:cubicBezTo>
                    <a:pt x="1208" y="141"/>
                    <a:pt x="1222" y="153"/>
                    <a:pt x="1235" y="156"/>
                  </a:cubicBezTo>
                  <a:cubicBezTo>
                    <a:pt x="1280" y="185"/>
                    <a:pt x="1311" y="232"/>
                    <a:pt x="1349" y="270"/>
                  </a:cubicBezTo>
                  <a:cubicBezTo>
                    <a:pt x="1342" y="249"/>
                    <a:pt x="1317" y="229"/>
                    <a:pt x="1326" y="209"/>
                  </a:cubicBezTo>
                  <a:cubicBezTo>
                    <a:pt x="1330" y="200"/>
                    <a:pt x="1346" y="214"/>
                    <a:pt x="1356" y="216"/>
                  </a:cubicBezTo>
                  <a:cubicBezTo>
                    <a:pt x="1415" y="292"/>
                    <a:pt x="1385" y="269"/>
                    <a:pt x="1432" y="300"/>
                  </a:cubicBezTo>
                  <a:cubicBezTo>
                    <a:pt x="1430" y="292"/>
                    <a:pt x="1417" y="279"/>
                    <a:pt x="1425" y="277"/>
                  </a:cubicBezTo>
                  <a:cubicBezTo>
                    <a:pt x="1438" y="274"/>
                    <a:pt x="1451" y="287"/>
                    <a:pt x="1463" y="292"/>
                  </a:cubicBezTo>
                  <a:cubicBezTo>
                    <a:pt x="1508" y="312"/>
                    <a:pt x="1543" y="340"/>
                    <a:pt x="1591" y="353"/>
                  </a:cubicBezTo>
                  <a:cubicBezTo>
                    <a:pt x="1599" y="358"/>
                    <a:pt x="1620" y="374"/>
                    <a:pt x="1614" y="368"/>
                  </a:cubicBezTo>
                  <a:cubicBezTo>
                    <a:pt x="1603" y="357"/>
                    <a:pt x="1590" y="346"/>
                    <a:pt x="1576" y="338"/>
                  </a:cubicBezTo>
                  <a:cubicBezTo>
                    <a:pt x="1560" y="329"/>
                    <a:pt x="1541" y="328"/>
                    <a:pt x="1523" y="323"/>
                  </a:cubicBezTo>
                  <a:cubicBezTo>
                    <a:pt x="1573" y="306"/>
                    <a:pt x="1613" y="328"/>
                    <a:pt x="1660" y="338"/>
                  </a:cubicBezTo>
                  <a:cubicBezTo>
                    <a:pt x="1713" y="350"/>
                    <a:pt x="1697" y="330"/>
                    <a:pt x="1713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40"/>
            <p:cNvSpPr/>
            <p:nvPr/>
          </p:nvSpPr>
          <p:spPr>
            <a:xfrm>
              <a:off x="804600" y="3606840"/>
              <a:ext cx="2560680" cy="1767960"/>
            </a:xfrm>
            <a:custGeom>
              <a:avLst/>
              <a:gdLst/>
              <a:ahLst/>
              <a:rect l="l" t="t" r="r" b="b"/>
              <a:pathLst>
                <a:path w="1613" h="1114">
                  <a:moveTo>
                    <a:pt x="141" y="0"/>
                  </a:moveTo>
                  <a:cubicBezTo>
                    <a:pt x="111" y="5"/>
                    <a:pt x="80" y="10"/>
                    <a:pt x="50" y="15"/>
                  </a:cubicBezTo>
                  <a:cubicBezTo>
                    <a:pt x="37" y="17"/>
                    <a:pt x="0" y="28"/>
                    <a:pt x="12" y="23"/>
                  </a:cubicBezTo>
                  <a:cubicBezTo>
                    <a:pt x="31" y="14"/>
                    <a:pt x="80" y="5"/>
                    <a:pt x="103" y="0"/>
                  </a:cubicBezTo>
                  <a:cubicBezTo>
                    <a:pt x="62" y="59"/>
                    <a:pt x="91" y="3"/>
                    <a:pt x="201" y="31"/>
                  </a:cubicBezTo>
                  <a:cubicBezTo>
                    <a:pt x="210" y="33"/>
                    <a:pt x="186" y="41"/>
                    <a:pt x="178" y="46"/>
                  </a:cubicBezTo>
                  <a:cubicBezTo>
                    <a:pt x="154" y="60"/>
                    <a:pt x="129" y="74"/>
                    <a:pt x="103" y="84"/>
                  </a:cubicBezTo>
                  <a:cubicBezTo>
                    <a:pt x="136" y="95"/>
                    <a:pt x="166" y="82"/>
                    <a:pt x="201" y="76"/>
                  </a:cubicBezTo>
                  <a:cubicBezTo>
                    <a:pt x="234" y="79"/>
                    <a:pt x="268" y="77"/>
                    <a:pt x="300" y="84"/>
                  </a:cubicBezTo>
                  <a:cubicBezTo>
                    <a:pt x="310" y="86"/>
                    <a:pt x="279" y="88"/>
                    <a:pt x="269" y="91"/>
                  </a:cubicBezTo>
                  <a:cubicBezTo>
                    <a:pt x="244" y="98"/>
                    <a:pt x="219" y="107"/>
                    <a:pt x="194" y="114"/>
                  </a:cubicBezTo>
                  <a:cubicBezTo>
                    <a:pt x="807" y="126"/>
                    <a:pt x="687" y="118"/>
                    <a:pt x="489" y="137"/>
                  </a:cubicBezTo>
                  <a:cubicBezTo>
                    <a:pt x="335" y="173"/>
                    <a:pt x="708" y="63"/>
                    <a:pt x="747" y="175"/>
                  </a:cubicBezTo>
                  <a:cubicBezTo>
                    <a:pt x="729" y="177"/>
                    <a:pt x="712" y="180"/>
                    <a:pt x="694" y="182"/>
                  </a:cubicBezTo>
                  <a:cubicBezTo>
                    <a:pt x="671" y="185"/>
                    <a:pt x="603" y="192"/>
                    <a:pt x="626" y="190"/>
                  </a:cubicBezTo>
                  <a:cubicBezTo>
                    <a:pt x="684" y="186"/>
                    <a:pt x="742" y="180"/>
                    <a:pt x="800" y="175"/>
                  </a:cubicBezTo>
                  <a:cubicBezTo>
                    <a:pt x="792" y="172"/>
                    <a:pt x="785" y="169"/>
                    <a:pt x="777" y="167"/>
                  </a:cubicBezTo>
                  <a:cubicBezTo>
                    <a:pt x="751" y="159"/>
                    <a:pt x="716" y="153"/>
                    <a:pt x="785" y="167"/>
                  </a:cubicBezTo>
                  <a:cubicBezTo>
                    <a:pt x="802" y="176"/>
                    <a:pt x="824" y="176"/>
                    <a:pt x="838" y="190"/>
                  </a:cubicBezTo>
                  <a:cubicBezTo>
                    <a:pt x="843" y="195"/>
                    <a:pt x="841" y="205"/>
                    <a:pt x="845" y="212"/>
                  </a:cubicBezTo>
                  <a:cubicBezTo>
                    <a:pt x="849" y="218"/>
                    <a:pt x="856" y="223"/>
                    <a:pt x="861" y="228"/>
                  </a:cubicBezTo>
                  <a:cubicBezTo>
                    <a:pt x="863" y="220"/>
                    <a:pt x="871" y="212"/>
                    <a:pt x="868" y="205"/>
                  </a:cubicBezTo>
                  <a:cubicBezTo>
                    <a:pt x="858" y="179"/>
                    <a:pt x="776" y="120"/>
                    <a:pt x="861" y="159"/>
                  </a:cubicBezTo>
                  <a:cubicBezTo>
                    <a:pt x="871" y="164"/>
                    <a:pt x="881" y="170"/>
                    <a:pt x="891" y="175"/>
                  </a:cubicBezTo>
                  <a:cubicBezTo>
                    <a:pt x="896" y="182"/>
                    <a:pt x="900" y="191"/>
                    <a:pt x="906" y="197"/>
                  </a:cubicBezTo>
                  <a:cubicBezTo>
                    <a:pt x="915" y="206"/>
                    <a:pt x="928" y="210"/>
                    <a:pt x="936" y="220"/>
                  </a:cubicBezTo>
                  <a:cubicBezTo>
                    <a:pt x="941" y="226"/>
                    <a:pt x="944" y="251"/>
                    <a:pt x="944" y="243"/>
                  </a:cubicBezTo>
                  <a:cubicBezTo>
                    <a:pt x="944" y="205"/>
                    <a:pt x="921" y="190"/>
                    <a:pt x="891" y="175"/>
                  </a:cubicBezTo>
                  <a:cubicBezTo>
                    <a:pt x="854" y="118"/>
                    <a:pt x="926" y="166"/>
                    <a:pt x="944" y="175"/>
                  </a:cubicBezTo>
                  <a:cubicBezTo>
                    <a:pt x="957" y="182"/>
                    <a:pt x="969" y="189"/>
                    <a:pt x="982" y="197"/>
                  </a:cubicBezTo>
                  <a:cubicBezTo>
                    <a:pt x="990" y="202"/>
                    <a:pt x="1010" y="220"/>
                    <a:pt x="1005" y="212"/>
                  </a:cubicBezTo>
                  <a:cubicBezTo>
                    <a:pt x="980" y="176"/>
                    <a:pt x="975" y="178"/>
                    <a:pt x="944" y="167"/>
                  </a:cubicBezTo>
                  <a:cubicBezTo>
                    <a:pt x="903" y="126"/>
                    <a:pt x="941" y="158"/>
                    <a:pt x="883" y="129"/>
                  </a:cubicBezTo>
                  <a:cubicBezTo>
                    <a:pt x="875" y="125"/>
                    <a:pt x="852" y="114"/>
                    <a:pt x="861" y="114"/>
                  </a:cubicBezTo>
                  <a:cubicBezTo>
                    <a:pt x="887" y="114"/>
                    <a:pt x="910" y="132"/>
                    <a:pt x="936" y="137"/>
                  </a:cubicBezTo>
                  <a:cubicBezTo>
                    <a:pt x="929" y="130"/>
                    <a:pt x="908" y="107"/>
                    <a:pt x="898" y="99"/>
                  </a:cubicBezTo>
                  <a:cubicBezTo>
                    <a:pt x="891" y="94"/>
                    <a:pt x="867" y="84"/>
                    <a:pt x="876" y="84"/>
                  </a:cubicBezTo>
                  <a:cubicBezTo>
                    <a:pt x="901" y="84"/>
                    <a:pt x="935" y="122"/>
                    <a:pt x="959" y="122"/>
                  </a:cubicBezTo>
                  <a:cubicBezTo>
                    <a:pt x="968" y="122"/>
                    <a:pt x="944" y="111"/>
                    <a:pt x="936" y="106"/>
                  </a:cubicBezTo>
                  <a:cubicBezTo>
                    <a:pt x="924" y="98"/>
                    <a:pt x="910" y="92"/>
                    <a:pt x="898" y="84"/>
                  </a:cubicBezTo>
                  <a:cubicBezTo>
                    <a:pt x="890" y="79"/>
                    <a:pt x="867" y="68"/>
                    <a:pt x="876" y="68"/>
                  </a:cubicBezTo>
                  <a:cubicBezTo>
                    <a:pt x="890" y="68"/>
                    <a:pt x="902" y="77"/>
                    <a:pt x="914" y="84"/>
                  </a:cubicBezTo>
                  <a:cubicBezTo>
                    <a:pt x="930" y="93"/>
                    <a:pt x="959" y="114"/>
                    <a:pt x="959" y="114"/>
                  </a:cubicBezTo>
                  <a:cubicBezTo>
                    <a:pt x="956" y="106"/>
                    <a:pt x="955" y="98"/>
                    <a:pt x="951" y="91"/>
                  </a:cubicBezTo>
                  <a:cubicBezTo>
                    <a:pt x="947" y="83"/>
                    <a:pt x="929" y="62"/>
                    <a:pt x="936" y="68"/>
                  </a:cubicBezTo>
                  <a:cubicBezTo>
                    <a:pt x="986" y="112"/>
                    <a:pt x="1033" y="165"/>
                    <a:pt x="1080" y="212"/>
                  </a:cubicBezTo>
                  <a:cubicBezTo>
                    <a:pt x="1086" y="218"/>
                    <a:pt x="1071" y="196"/>
                    <a:pt x="1065" y="190"/>
                  </a:cubicBezTo>
                  <a:cubicBezTo>
                    <a:pt x="1058" y="184"/>
                    <a:pt x="1034" y="179"/>
                    <a:pt x="1042" y="175"/>
                  </a:cubicBezTo>
                  <a:cubicBezTo>
                    <a:pt x="1053" y="169"/>
                    <a:pt x="1067" y="180"/>
                    <a:pt x="1080" y="182"/>
                  </a:cubicBezTo>
                  <a:cubicBezTo>
                    <a:pt x="1093" y="190"/>
                    <a:pt x="1104" y="199"/>
                    <a:pt x="1118" y="205"/>
                  </a:cubicBezTo>
                  <a:cubicBezTo>
                    <a:pt x="1128" y="209"/>
                    <a:pt x="1139" y="207"/>
                    <a:pt x="1149" y="212"/>
                  </a:cubicBezTo>
                  <a:cubicBezTo>
                    <a:pt x="1180" y="227"/>
                    <a:pt x="1192" y="254"/>
                    <a:pt x="1224" y="266"/>
                  </a:cubicBezTo>
                  <a:cubicBezTo>
                    <a:pt x="1222" y="253"/>
                    <a:pt x="1222" y="240"/>
                    <a:pt x="1217" y="228"/>
                  </a:cubicBezTo>
                  <a:cubicBezTo>
                    <a:pt x="1208" y="206"/>
                    <a:pt x="1170" y="205"/>
                    <a:pt x="1239" y="220"/>
                  </a:cubicBezTo>
                  <a:cubicBezTo>
                    <a:pt x="1181" y="180"/>
                    <a:pt x="1255" y="212"/>
                    <a:pt x="1270" y="228"/>
                  </a:cubicBezTo>
                  <a:cubicBezTo>
                    <a:pt x="1228" y="238"/>
                    <a:pt x="1182" y="229"/>
                    <a:pt x="1141" y="243"/>
                  </a:cubicBezTo>
                  <a:cubicBezTo>
                    <a:pt x="1133" y="246"/>
                    <a:pt x="1143" y="261"/>
                    <a:pt x="1149" y="266"/>
                  </a:cubicBezTo>
                  <a:cubicBezTo>
                    <a:pt x="1157" y="272"/>
                    <a:pt x="1169" y="270"/>
                    <a:pt x="1179" y="273"/>
                  </a:cubicBezTo>
                  <a:cubicBezTo>
                    <a:pt x="1187" y="275"/>
                    <a:pt x="1194" y="278"/>
                    <a:pt x="1202" y="281"/>
                  </a:cubicBezTo>
                  <a:cubicBezTo>
                    <a:pt x="1130" y="380"/>
                    <a:pt x="1246" y="232"/>
                    <a:pt x="929" y="319"/>
                  </a:cubicBezTo>
                  <a:cubicBezTo>
                    <a:pt x="912" y="324"/>
                    <a:pt x="1156" y="340"/>
                    <a:pt x="1171" y="341"/>
                  </a:cubicBezTo>
                  <a:cubicBezTo>
                    <a:pt x="1090" y="381"/>
                    <a:pt x="979" y="380"/>
                    <a:pt x="891" y="387"/>
                  </a:cubicBezTo>
                  <a:cubicBezTo>
                    <a:pt x="949" y="392"/>
                    <a:pt x="1007" y="393"/>
                    <a:pt x="1065" y="402"/>
                  </a:cubicBezTo>
                  <a:cubicBezTo>
                    <a:pt x="1073" y="403"/>
                    <a:pt x="1050" y="408"/>
                    <a:pt x="1042" y="410"/>
                  </a:cubicBezTo>
                  <a:cubicBezTo>
                    <a:pt x="1032" y="413"/>
                    <a:pt x="1022" y="416"/>
                    <a:pt x="1012" y="417"/>
                  </a:cubicBezTo>
                  <a:cubicBezTo>
                    <a:pt x="944" y="421"/>
                    <a:pt x="875" y="422"/>
                    <a:pt x="807" y="425"/>
                  </a:cubicBezTo>
                  <a:cubicBezTo>
                    <a:pt x="898" y="427"/>
                    <a:pt x="990" y="421"/>
                    <a:pt x="1080" y="432"/>
                  </a:cubicBezTo>
                  <a:cubicBezTo>
                    <a:pt x="1138" y="439"/>
                    <a:pt x="1046" y="460"/>
                    <a:pt x="1035" y="463"/>
                  </a:cubicBezTo>
                  <a:cubicBezTo>
                    <a:pt x="993" y="490"/>
                    <a:pt x="974" y="494"/>
                    <a:pt x="921" y="500"/>
                  </a:cubicBezTo>
                  <a:cubicBezTo>
                    <a:pt x="888" y="509"/>
                    <a:pt x="856" y="522"/>
                    <a:pt x="823" y="531"/>
                  </a:cubicBezTo>
                  <a:cubicBezTo>
                    <a:pt x="830" y="536"/>
                    <a:pt x="836" y="547"/>
                    <a:pt x="845" y="546"/>
                  </a:cubicBezTo>
                  <a:cubicBezTo>
                    <a:pt x="899" y="541"/>
                    <a:pt x="981" y="496"/>
                    <a:pt x="1042" y="485"/>
                  </a:cubicBezTo>
                  <a:cubicBezTo>
                    <a:pt x="1047" y="480"/>
                    <a:pt x="1064" y="467"/>
                    <a:pt x="1058" y="470"/>
                  </a:cubicBezTo>
                  <a:cubicBezTo>
                    <a:pt x="1015" y="493"/>
                    <a:pt x="1036" y="493"/>
                    <a:pt x="997" y="523"/>
                  </a:cubicBezTo>
                  <a:cubicBezTo>
                    <a:pt x="988" y="530"/>
                    <a:pt x="976" y="532"/>
                    <a:pt x="967" y="538"/>
                  </a:cubicBezTo>
                  <a:cubicBezTo>
                    <a:pt x="961" y="542"/>
                    <a:pt x="946" y="548"/>
                    <a:pt x="951" y="554"/>
                  </a:cubicBezTo>
                  <a:cubicBezTo>
                    <a:pt x="956" y="560"/>
                    <a:pt x="966" y="549"/>
                    <a:pt x="974" y="546"/>
                  </a:cubicBezTo>
                  <a:cubicBezTo>
                    <a:pt x="1018" y="502"/>
                    <a:pt x="988" y="529"/>
                    <a:pt x="1073" y="478"/>
                  </a:cubicBezTo>
                  <a:cubicBezTo>
                    <a:pt x="1093" y="466"/>
                    <a:pt x="1106" y="445"/>
                    <a:pt x="1126" y="432"/>
                  </a:cubicBezTo>
                  <a:cubicBezTo>
                    <a:pt x="1159" y="411"/>
                    <a:pt x="1196" y="396"/>
                    <a:pt x="1232" y="379"/>
                  </a:cubicBezTo>
                  <a:cubicBezTo>
                    <a:pt x="1349" y="324"/>
                    <a:pt x="1250" y="385"/>
                    <a:pt x="1323" y="334"/>
                  </a:cubicBezTo>
                  <a:cubicBezTo>
                    <a:pt x="1331" y="329"/>
                    <a:pt x="1355" y="319"/>
                    <a:pt x="1346" y="319"/>
                  </a:cubicBezTo>
                  <a:cubicBezTo>
                    <a:pt x="1332" y="319"/>
                    <a:pt x="1321" y="329"/>
                    <a:pt x="1308" y="334"/>
                  </a:cubicBezTo>
                  <a:cubicBezTo>
                    <a:pt x="1295" y="347"/>
                    <a:pt x="1284" y="361"/>
                    <a:pt x="1270" y="372"/>
                  </a:cubicBezTo>
                  <a:cubicBezTo>
                    <a:pt x="1264" y="377"/>
                    <a:pt x="1239" y="379"/>
                    <a:pt x="1247" y="379"/>
                  </a:cubicBezTo>
                  <a:cubicBezTo>
                    <a:pt x="1290" y="379"/>
                    <a:pt x="1322" y="350"/>
                    <a:pt x="1361" y="341"/>
                  </a:cubicBezTo>
                  <a:cubicBezTo>
                    <a:pt x="1383" y="336"/>
                    <a:pt x="1406" y="336"/>
                    <a:pt x="1429" y="334"/>
                  </a:cubicBezTo>
                  <a:cubicBezTo>
                    <a:pt x="1437" y="329"/>
                    <a:pt x="1443" y="322"/>
                    <a:pt x="1452" y="319"/>
                  </a:cubicBezTo>
                  <a:cubicBezTo>
                    <a:pt x="1503" y="302"/>
                    <a:pt x="1503" y="330"/>
                    <a:pt x="1490" y="288"/>
                  </a:cubicBezTo>
                  <a:cubicBezTo>
                    <a:pt x="1497" y="283"/>
                    <a:pt x="1504" y="277"/>
                    <a:pt x="1512" y="273"/>
                  </a:cubicBezTo>
                  <a:cubicBezTo>
                    <a:pt x="1524" y="267"/>
                    <a:pt x="1564" y="260"/>
                    <a:pt x="1573" y="258"/>
                  </a:cubicBezTo>
                  <a:cubicBezTo>
                    <a:pt x="1583" y="256"/>
                    <a:pt x="1613" y="250"/>
                    <a:pt x="1603" y="250"/>
                  </a:cubicBezTo>
                  <a:cubicBezTo>
                    <a:pt x="1578" y="250"/>
                    <a:pt x="1552" y="255"/>
                    <a:pt x="1527" y="258"/>
                  </a:cubicBezTo>
                  <a:cubicBezTo>
                    <a:pt x="1478" y="276"/>
                    <a:pt x="1528" y="251"/>
                    <a:pt x="1497" y="288"/>
                  </a:cubicBezTo>
                  <a:cubicBezTo>
                    <a:pt x="1491" y="295"/>
                    <a:pt x="1481" y="297"/>
                    <a:pt x="1474" y="303"/>
                  </a:cubicBezTo>
                  <a:cubicBezTo>
                    <a:pt x="1404" y="365"/>
                    <a:pt x="1466" y="322"/>
                    <a:pt x="1414" y="356"/>
                  </a:cubicBezTo>
                  <a:cubicBezTo>
                    <a:pt x="1399" y="379"/>
                    <a:pt x="1384" y="390"/>
                    <a:pt x="1376" y="417"/>
                  </a:cubicBezTo>
                  <a:cubicBezTo>
                    <a:pt x="1404" y="423"/>
                    <a:pt x="1439" y="412"/>
                    <a:pt x="1459" y="432"/>
                  </a:cubicBezTo>
                  <a:cubicBezTo>
                    <a:pt x="1470" y="443"/>
                    <a:pt x="1437" y="460"/>
                    <a:pt x="1414" y="470"/>
                  </a:cubicBezTo>
                  <a:cubicBezTo>
                    <a:pt x="1342" y="502"/>
                    <a:pt x="1266" y="523"/>
                    <a:pt x="1194" y="554"/>
                  </a:cubicBezTo>
                  <a:cubicBezTo>
                    <a:pt x="1186" y="561"/>
                    <a:pt x="1171" y="565"/>
                    <a:pt x="1171" y="576"/>
                  </a:cubicBezTo>
                  <a:cubicBezTo>
                    <a:pt x="1171" y="584"/>
                    <a:pt x="1197" y="576"/>
                    <a:pt x="1194" y="584"/>
                  </a:cubicBezTo>
                  <a:cubicBezTo>
                    <a:pt x="1182" y="614"/>
                    <a:pt x="1143" y="617"/>
                    <a:pt x="1118" y="622"/>
                  </a:cubicBezTo>
                  <a:cubicBezTo>
                    <a:pt x="1108" y="627"/>
                    <a:pt x="1098" y="631"/>
                    <a:pt x="1088" y="637"/>
                  </a:cubicBezTo>
                  <a:cubicBezTo>
                    <a:pt x="1080" y="642"/>
                    <a:pt x="1062" y="643"/>
                    <a:pt x="1065" y="652"/>
                  </a:cubicBezTo>
                  <a:cubicBezTo>
                    <a:pt x="1068" y="662"/>
                    <a:pt x="1085" y="658"/>
                    <a:pt x="1095" y="660"/>
                  </a:cubicBezTo>
                  <a:cubicBezTo>
                    <a:pt x="1108" y="663"/>
                    <a:pt x="1120" y="665"/>
                    <a:pt x="1133" y="667"/>
                  </a:cubicBezTo>
                  <a:cubicBezTo>
                    <a:pt x="1096" y="706"/>
                    <a:pt x="1079" y="699"/>
                    <a:pt x="1020" y="705"/>
                  </a:cubicBezTo>
                  <a:cubicBezTo>
                    <a:pt x="1010" y="710"/>
                    <a:pt x="1000" y="716"/>
                    <a:pt x="989" y="720"/>
                  </a:cubicBezTo>
                  <a:cubicBezTo>
                    <a:pt x="979" y="724"/>
                    <a:pt x="959" y="718"/>
                    <a:pt x="959" y="728"/>
                  </a:cubicBezTo>
                  <a:cubicBezTo>
                    <a:pt x="959" y="739"/>
                    <a:pt x="980" y="737"/>
                    <a:pt x="989" y="743"/>
                  </a:cubicBezTo>
                  <a:cubicBezTo>
                    <a:pt x="995" y="747"/>
                    <a:pt x="1000" y="753"/>
                    <a:pt x="1005" y="758"/>
                  </a:cubicBezTo>
                  <a:cubicBezTo>
                    <a:pt x="951" y="769"/>
                    <a:pt x="899" y="787"/>
                    <a:pt x="845" y="796"/>
                  </a:cubicBezTo>
                  <a:cubicBezTo>
                    <a:pt x="860" y="799"/>
                    <a:pt x="882" y="792"/>
                    <a:pt x="891" y="804"/>
                  </a:cubicBezTo>
                  <a:cubicBezTo>
                    <a:pt x="897" y="812"/>
                    <a:pt x="878" y="823"/>
                    <a:pt x="868" y="826"/>
                  </a:cubicBezTo>
                  <a:cubicBezTo>
                    <a:pt x="846" y="833"/>
                    <a:pt x="823" y="832"/>
                    <a:pt x="800" y="834"/>
                  </a:cubicBezTo>
                  <a:cubicBezTo>
                    <a:pt x="749" y="838"/>
                    <a:pt x="699" y="839"/>
                    <a:pt x="648" y="842"/>
                  </a:cubicBezTo>
                  <a:cubicBezTo>
                    <a:pt x="710" y="847"/>
                    <a:pt x="775" y="842"/>
                    <a:pt x="823" y="887"/>
                  </a:cubicBezTo>
                  <a:cubicBezTo>
                    <a:pt x="707" y="933"/>
                    <a:pt x="755" y="919"/>
                    <a:pt x="512" y="910"/>
                  </a:cubicBezTo>
                  <a:cubicBezTo>
                    <a:pt x="484" y="909"/>
                    <a:pt x="567" y="900"/>
                    <a:pt x="595" y="895"/>
                  </a:cubicBezTo>
                  <a:cubicBezTo>
                    <a:pt x="613" y="892"/>
                    <a:pt x="630" y="883"/>
                    <a:pt x="648" y="879"/>
                  </a:cubicBezTo>
                  <a:cubicBezTo>
                    <a:pt x="718" y="864"/>
                    <a:pt x="785" y="858"/>
                    <a:pt x="853" y="834"/>
                  </a:cubicBezTo>
                  <a:cubicBezTo>
                    <a:pt x="858" y="826"/>
                    <a:pt x="859" y="812"/>
                    <a:pt x="868" y="811"/>
                  </a:cubicBezTo>
                  <a:cubicBezTo>
                    <a:pt x="901" y="807"/>
                    <a:pt x="937" y="804"/>
                    <a:pt x="967" y="819"/>
                  </a:cubicBezTo>
                  <a:cubicBezTo>
                    <a:pt x="988" y="829"/>
                    <a:pt x="921" y="824"/>
                    <a:pt x="898" y="826"/>
                  </a:cubicBezTo>
                  <a:cubicBezTo>
                    <a:pt x="814" y="862"/>
                    <a:pt x="912" y="823"/>
                    <a:pt x="815" y="849"/>
                  </a:cubicBezTo>
                  <a:cubicBezTo>
                    <a:pt x="762" y="863"/>
                    <a:pt x="714" y="892"/>
                    <a:pt x="671" y="925"/>
                  </a:cubicBezTo>
                  <a:cubicBezTo>
                    <a:pt x="668" y="933"/>
                    <a:pt x="663" y="940"/>
                    <a:pt x="663" y="948"/>
                  </a:cubicBezTo>
                  <a:cubicBezTo>
                    <a:pt x="663" y="956"/>
                    <a:pt x="675" y="963"/>
                    <a:pt x="671" y="970"/>
                  </a:cubicBezTo>
                  <a:cubicBezTo>
                    <a:pt x="662" y="986"/>
                    <a:pt x="612" y="995"/>
                    <a:pt x="595" y="1001"/>
                  </a:cubicBezTo>
                  <a:cubicBezTo>
                    <a:pt x="603" y="1006"/>
                    <a:pt x="621" y="1007"/>
                    <a:pt x="618" y="1016"/>
                  </a:cubicBezTo>
                  <a:cubicBezTo>
                    <a:pt x="609" y="1039"/>
                    <a:pt x="515" y="1053"/>
                    <a:pt x="489" y="1061"/>
                  </a:cubicBezTo>
                  <a:cubicBezTo>
                    <a:pt x="474" y="1066"/>
                    <a:pt x="459" y="1071"/>
                    <a:pt x="444" y="1076"/>
                  </a:cubicBezTo>
                  <a:cubicBezTo>
                    <a:pt x="436" y="1079"/>
                    <a:pt x="421" y="1084"/>
                    <a:pt x="421" y="1084"/>
                  </a:cubicBezTo>
                  <a:cubicBezTo>
                    <a:pt x="418" y="1092"/>
                    <a:pt x="419" y="1101"/>
                    <a:pt x="413" y="1107"/>
                  </a:cubicBezTo>
                  <a:cubicBezTo>
                    <a:pt x="408" y="1112"/>
                    <a:pt x="391" y="1114"/>
                    <a:pt x="391" y="1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41"/>
            <p:cNvSpPr/>
            <p:nvPr/>
          </p:nvSpPr>
          <p:spPr>
            <a:xfrm>
              <a:off x="28080" y="3319200"/>
              <a:ext cx="819360" cy="287280"/>
            </a:xfrm>
            <a:custGeom>
              <a:avLst/>
              <a:gdLst/>
              <a:ahLst/>
              <a:rect l="l" t="t" r="r" b="b"/>
              <a:pathLst>
                <a:path w="516" h="181">
                  <a:moveTo>
                    <a:pt x="516" y="98"/>
                  </a:moveTo>
                  <a:cubicBezTo>
                    <a:pt x="466" y="107"/>
                    <a:pt x="474" y="99"/>
                    <a:pt x="432" y="83"/>
                  </a:cubicBezTo>
                  <a:cubicBezTo>
                    <a:pt x="420" y="78"/>
                    <a:pt x="407" y="78"/>
                    <a:pt x="395" y="75"/>
                  </a:cubicBezTo>
                  <a:cubicBezTo>
                    <a:pt x="387" y="73"/>
                    <a:pt x="379" y="71"/>
                    <a:pt x="372" y="68"/>
                  </a:cubicBezTo>
                  <a:cubicBezTo>
                    <a:pt x="306" y="43"/>
                    <a:pt x="287" y="32"/>
                    <a:pt x="220" y="22"/>
                  </a:cubicBezTo>
                  <a:cubicBezTo>
                    <a:pt x="151" y="27"/>
                    <a:pt x="122" y="22"/>
                    <a:pt x="69" y="37"/>
                  </a:cubicBezTo>
                  <a:cubicBezTo>
                    <a:pt x="50" y="42"/>
                    <a:pt x="16" y="60"/>
                    <a:pt x="16" y="60"/>
                  </a:cubicBezTo>
                  <a:cubicBezTo>
                    <a:pt x="26" y="65"/>
                    <a:pt x="37" y="68"/>
                    <a:pt x="46" y="75"/>
                  </a:cubicBezTo>
                  <a:cubicBezTo>
                    <a:pt x="55" y="81"/>
                    <a:pt x="61" y="105"/>
                    <a:pt x="69" y="98"/>
                  </a:cubicBezTo>
                  <a:cubicBezTo>
                    <a:pt x="77" y="91"/>
                    <a:pt x="43" y="71"/>
                    <a:pt x="54" y="68"/>
                  </a:cubicBezTo>
                  <a:cubicBezTo>
                    <a:pt x="76" y="62"/>
                    <a:pt x="99" y="78"/>
                    <a:pt x="122" y="83"/>
                  </a:cubicBezTo>
                  <a:cubicBezTo>
                    <a:pt x="150" y="105"/>
                    <a:pt x="171" y="133"/>
                    <a:pt x="205" y="143"/>
                  </a:cubicBezTo>
                  <a:cubicBezTo>
                    <a:pt x="203" y="133"/>
                    <a:pt x="203" y="122"/>
                    <a:pt x="198" y="113"/>
                  </a:cubicBezTo>
                  <a:cubicBezTo>
                    <a:pt x="186" y="89"/>
                    <a:pt x="164" y="104"/>
                    <a:pt x="205" y="90"/>
                  </a:cubicBezTo>
                  <a:cubicBezTo>
                    <a:pt x="213" y="98"/>
                    <a:pt x="239" y="113"/>
                    <a:pt x="228" y="113"/>
                  </a:cubicBezTo>
                  <a:cubicBezTo>
                    <a:pt x="213" y="113"/>
                    <a:pt x="178" y="98"/>
                    <a:pt x="190" y="90"/>
                  </a:cubicBezTo>
                  <a:cubicBezTo>
                    <a:pt x="207" y="79"/>
                    <a:pt x="231" y="95"/>
                    <a:pt x="251" y="98"/>
                  </a:cubicBezTo>
                  <a:cubicBezTo>
                    <a:pt x="256" y="108"/>
                    <a:pt x="277" y="128"/>
                    <a:pt x="266" y="128"/>
                  </a:cubicBezTo>
                  <a:cubicBezTo>
                    <a:pt x="250" y="128"/>
                    <a:pt x="241" y="108"/>
                    <a:pt x="228" y="98"/>
                  </a:cubicBezTo>
                  <a:cubicBezTo>
                    <a:pt x="221" y="93"/>
                    <a:pt x="196" y="85"/>
                    <a:pt x="205" y="83"/>
                  </a:cubicBezTo>
                  <a:cubicBezTo>
                    <a:pt x="222" y="78"/>
                    <a:pt x="240" y="88"/>
                    <a:pt x="258" y="90"/>
                  </a:cubicBezTo>
                  <a:cubicBezTo>
                    <a:pt x="268" y="98"/>
                    <a:pt x="277" y="107"/>
                    <a:pt x="288" y="113"/>
                  </a:cubicBezTo>
                  <a:cubicBezTo>
                    <a:pt x="289" y="114"/>
                    <a:pt x="410" y="181"/>
                    <a:pt x="319" y="113"/>
                  </a:cubicBezTo>
                  <a:cubicBezTo>
                    <a:pt x="256" y="66"/>
                    <a:pt x="221" y="70"/>
                    <a:pt x="319" y="83"/>
                  </a:cubicBezTo>
                  <a:cubicBezTo>
                    <a:pt x="354" y="101"/>
                    <a:pt x="379" y="126"/>
                    <a:pt x="417" y="136"/>
                  </a:cubicBezTo>
                  <a:cubicBezTo>
                    <a:pt x="425" y="144"/>
                    <a:pt x="435" y="169"/>
                    <a:pt x="440" y="159"/>
                  </a:cubicBezTo>
                  <a:cubicBezTo>
                    <a:pt x="452" y="136"/>
                    <a:pt x="415" y="113"/>
                    <a:pt x="402" y="105"/>
                  </a:cubicBezTo>
                  <a:cubicBezTo>
                    <a:pt x="349" y="74"/>
                    <a:pt x="294" y="49"/>
                    <a:pt x="235" y="30"/>
                  </a:cubicBezTo>
                  <a:cubicBezTo>
                    <a:pt x="217" y="18"/>
                    <a:pt x="194" y="0"/>
                    <a:pt x="190" y="7"/>
                  </a:cubicBezTo>
                  <a:cubicBezTo>
                    <a:pt x="186" y="15"/>
                    <a:pt x="214" y="29"/>
                    <a:pt x="205" y="30"/>
                  </a:cubicBezTo>
                  <a:cubicBezTo>
                    <a:pt x="137" y="38"/>
                    <a:pt x="68" y="30"/>
                    <a:pt x="0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42"/>
            <p:cNvSpPr/>
            <p:nvPr/>
          </p:nvSpPr>
          <p:spPr>
            <a:xfrm>
              <a:off x="3193560" y="3916080"/>
              <a:ext cx="541440" cy="264960"/>
            </a:xfrm>
            <a:custGeom>
              <a:avLst/>
              <a:gdLst/>
              <a:ahLst/>
              <a:rect l="l" t="t" r="r" b="b"/>
              <a:pathLst>
                <a:path w="341" h="167">
                  <a:moveTo>
                    <a:pt x="0" y="154"/>
                  </a:moveTo>
                  <a:cubicBezTo>
                    <a:pt x="42" y="139"/>
                    <a:pt x="96" y="167"/>
                    <a:pt x="45" y="116"/>
                  </a:cubicBezTo>
                  <a:cubicBezTo>
                    <a:pt x="124" y="95"/>
                    <a:pt x="43" y="126"/>
                    <a:pt x="83" y="86"/>
                  </a:cubicBezTo>
                  <a:cubicBezTo>
                    <a:pt x="104" y="65"/>
                    <a:pt x="153" y="66"/>
                    <a:pt x="174" y="63"/>
                  </a:cubicBezTo>
                  <a:cubicBezTo>
                    <a:pt x="212" y="53"/>
                    <a:pt x="250" y="45"/>
                    <a:pt x="288" y="33"/>
                  </a:cubicBezTo>
                  <a:cubicBezTo>
                    <a:pt x="280" y="25"/>
                    <a:pt x="265" y="21"/>
                    <a:pt x="265" y="10"/>
                  </a:cubicBezTo>
                  <a:cubicBezTo>
                    <a:pt x="265" y="2"/>
                    <a:pt x="280" y="3"/>
                    <a:pt x="288" y="2"/>
                  </a:cubicBezTo>
                  <a:cubicBezTo>
                    <a:pt x="306" y="0"/>
                    <a:pt x="323" y="2"/>
                    <a:pt x="341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43"/>
            <p:cNvSpPr/>
            <p:nvPr/>
          </p:nvSpPr>
          <p:spPr>
            <a:xfrm>
              <a:off x="653760" y="3016080"/>
              <a:ext cx="1681200" cy="426600"/>
            </a:xfrm>
            <a:custGeom>
              <a:avLst/>
              <a:gdLst/>
              <a:ahLst/>
              <a:rect l="l" t="t" r="r" b="b"/>
              <a:pathLst>
                <a:path w="1059" h="269">
                  <a:moveTo>
                    <a:pt x="796" y="198"/>
                  </a:moveTo>
                  <a:cubicBezTo>
                    <a:pt x="773" y="190"/>
                    <a:pt x="750" y="183"/>
                    <a:pt x="728" y="175"/>
                  </a:cubicBezTo>
                  <a:cubicBezTo>
                    <a:pt x="708" y="168"/>
                    <a:pt x="668" y="152"/>
                    <a:pt x="668" y="152"/>
                  </a:cubicBezTo>
                  <a:cubicBezTo>
                    <a:pt x="625" y="112"/>
                    <a:pt x="519" y="107"/>
                    <a:pt x="470" y="99"/>
                  </a:cubicBezTo>
                  <a:cubicBezTo>
                    <a:pt x="358" y="23"/>
                    <a:pt x="320" y="44"/>
                    <a:pt x="145" y="39"/>
                  </a:cubicBezTo>
                  <a:cubicBezTo>
                    <a:pt x="104" y="0"/>
                    <a:pt x="112" y="2"/>
                    <a:pt x="8" y="16"/>
                  </a:cubicBezTo>
                  <a:cubicBezTo>
                    <a:pt x="0" y="17"/>
                    <a:pt x="10" y="33"/>
                    <a:pt x="16" y="39"/>
                  </a:cubicBezTo>
                  <a:cubicBezTo>
                    <a:pt x="40" y="63"/>
                    <a:pt x="96" y="58"/>
                    <a:pt x="129" y="69"/>
                  </a:cubicBezTo>
                  <a:cubicBezTo>
                    <a:pt x="170" y="96"/>
                    <a:pt x="145" y="86"/>
                    <a:pt x="145" y="62"/>
                  </a:cubicBezTo>
                  <a:cubicBezTo>
                    <a:pt x="145" y="54"/>
                    <a:pt x="150" y="47"/>
                    <a:pt x="152" y="39"/>
                  </a:cubicBezTo>
                  <a:cubicBezTo>
                    <a:pt x="171" y="43"/>
                    <a:pt x="198" y="47"/>
                    <a:pt x="213" y="62"/>
                  </a:cubicBezTo>
                  <a:cubicBezTo>
                    <a:pt x="219" y="68"/>
                    <a:pt x="197" y="58"/>
                    <a:pt x="190" y="54"/>
                  </a:cubicBezTo>
                  <a:cubicBezTo>
                    <a:pt x="182" y="50"/>
                    <a:pt x="175" y="44"/>
                    <a:pt x="167" y="39"/>
                  </a:cubicBezTo>
                  <a:cubicBezTo>
                    <a:pt x="252" y="21"/>
                    <a:pt x="256" y="66"/>
                    <a:pt x="319" y="107"/>
                  </a:cubicBezTo>
                  <a:cubicBezTo>
                    <a:pt x="300" y="36"/>
                    <a:pt x="260" y="34"/>
                    <a:pt x="364" y="69"/>
                  </a:cubicBezTo>
                  <a:cubicBezTo>
                    <a:pt x="372" y="77"/>
                    <a:pt x="384" y="82"/>
                    <a:pt x="387" y="92"/>
                  </a:cubicBezTo>
                  <a:cubicBezTo>
                    <a:pt x="390" y="102"/>
                    <a:pt x="390" y="120"/>
                    <a:pt x="380" y="122"/>
                  </a:cubicBezTo>
                  <a:cubicBezTo>
                    <a:pt x="367" y="124"/>
                    <a:pt x="359" y="107"/>
                    <a:pt x="349" y="99"/>
                  </a:cubicBezTo>
                  <a:cubicBezTo>
                    <a:pt x="335" y="56"/>
                    <a:pt x="306" y="69"/>
                    <a:pt x="349" y="54"/>
                  </a:cubicBezTo>
                  <a:cubicBezTo>
                    <a:pt x="384" y="66"/>
                    <a:pt x="395" y="77"/>
                    <a:pt x="417" y="107"/>
                  </a:cubicBezTo>
                  <a:cubicBezTo>
                    <a:pt x="423" y="116"/>
                    <a:pt x="385" y="86"/>
                    <a:pt x="395" y="84"/>
                  </a:cubicBezTo>
                  <a:cubicBezTo>
                    <a:pt x="415" y="80"/>
                    <a:pt x="435" y="94"/>
                    <a:pt x="455" y="99"/>
                  </a:cubicBezTo>
                  <a:cubicBezTo>
                    <a:pt x="483" y="118"/>
                    <a:pt x="500" y="144"/>
                    <a:pt x="524" y="168"/>
                  </a:cubicBezTo>
                  <a:cubicBezTo>
                    <a:pt x="519" y="152"/>
                    <a:pt x="501" y="122"/>
                    <a:pt x="546" y="152"/>
                  </a:cubicBezTo>
                  <a:cubicBezTo>
                    <a:pt x="554" y="157"/>
                    <a:pt x="555" y="169"/>
                    <a:pt x="561" y="175"/>
                  </a:cubicBezTo>
                  <a:cubicBezTo>
                    <a:pt x="567" y="181"/>
                    <a:pt x="576" y="185"/>
                    <a:pt x="584" y="190"/>
                  </a:cubicBezTo>
                  <a:cubicBezTo>
                    <a:pt x="573" y="173"/>
                    <a:pt x="550" y="154"/>
                    <a:pt x="599" y="160"/>
                  </a:cubicBezTo>
                  <a:cubicBezTo>
                    <a:pt x="627" y="163"/>
                    <a:pt x="679" y="200"/>
                    <a:pt x="698" y="213"/>
                  </a:cubicBezTo>
                  <a:cubicBezTo>
                    <a:pt x="705" y="217"/>
                    <a:pt x="727" y="227"/>
                    <a:pt x="721" y="221"/>
                  </a:cubicBezTo>
                  <a:cubicBezTo>
                    <a:pt x="711" y="211"/>
                    <a:pt x="695" y="207"/>
                    <a:pt x="683" y="198"/>
                  </a:cubicBezTo>
                  <a:cubicBezTo>
                    <a:pt x="674" y="191"/>
                    <a:pt x="668" y="183"/>
                    <a:pt x="660" y="175"/>
                  </a:cubicBezTo>
                  <a:cubicBezTo>
                    <a:pt x="704" y="165"/>
                    <a:pt x="697" y="178"/>
                    <a:pt x="736" y="190"/>
                  </a:cubicBezTo>
                  <a:cubicBezTo>
                    <a:pt x="810" y="269"/>
                    <a:pt x="943" y="180"/>
                    <a:pt x="1039" y="228"/>
                  </a:cubicBezTo>
                  <a:cubicBezTo>
                    <a:pt x="1049" y="261"/>
                    <a:pt x="1059" y="265"/>
                    <a:pt x="993" y="259"/>
                  </a:cubicBezTo>
                  <a:cubicBezTo>
                    <a:pt x="982" y="258"/>
                    <a:pt x="973" y="248"/>
                    <a:pt x="963" y="243"/>
                  </a:cubicBezTo>
                  <a:cubicBezTo>
                    <a:pt x="933" y="229"/>
                    <a:pt x="903" y="221"/>
                    <a:pt x="872" y="213"/>
                  </a:cubicBezTo>
                  <a:cubicBezTo>
                    <a:pt x="919" y="244"/>
                    <a:pt x="885" y="217"/>
                    <a:pt x="849" y="221"/>
                  </a:cubicBezTo>
                  <a:cubicBezTo>
                    <a:pt x="843" y="222"/>
                    <a:pt x="804" y="245"/>
                    <a:pt x="804" y="2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Rectangle 9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02"/>
          <p:cNvGrpSpPr/>
          <p:nvPr/>
        </p:nvGrpSpPr>
        <p:grpSpPr>
          <a:xfrm>
            <a:off x="25560" y="63360"/>
            <a:ext cx="951840" cy="317160"/>
            <a:chOff x="25560" y="63360"/>
            <a:chExt cx="951840" cy="317160"/>
          </a:xfrm>
        </p:grpSpPr>
        <p:grpSp>
          <p:nvGrpSpPr>
            <p:cNvPr id="534" name="Group 103"/>
            <p:cNvGrpSpPr/>
            <p:nvPr/>
          </p:nvGrpSpPr>
          <p:grpSpPr>
            <a:xfrm>
              <a:off x="25560" y="63360"/>
              <a:ext cx="597960" cy="317160"/>
              <a:chOff x="25560" y="63360"/>
              <a:chExt cx="597960" cy="317160"/>
            </a:xfrm>
          </p:grpSpPr>
          <p:sp>
            <p:nvSpPr>
              <p:cNvPr id="535" name="Freeform 104"/>
              <p:cNvSpPr/>
              <p:nvPr/>
            </p:nvSpPr>
            <p:spPr>
              <a:xfrm>
                <a:off x="25560" y="63360"/>
                <a:ext cx="240120" cy="205920"/>
              </a:xfrm>
              <a:custGeom>
                <a:avLst/>
                <a:gdLst/>
                <a:ahLst/>
                <a:rect l="l" t="t" r="r" b="b"/>
                <a:pathLst>
                  <a:path w="1232" h="1056">
                    <a:moveTo>
                      <a:pt x="0" y="0"/>
                    </a:moveTo>
                    <a:cubicBezTo>
                      <a:pt x="260" y="84"/>
                      <a:pt x="520" y="168"/>
                      <a:pt x="720" y="192"/>
                    </a:cubicBezTo>
                    <a:cubicBezTo>
                      <a:pt x="920" y="216"/>
                      <a:pt x="1168" y="160"/>
                      <a:pt x="1200" y="144"/>
                    </a:cubicBezTo>
                    <a:cubicBezTo>
                      <a:pt x="1232" y="128"/>
                      <a:pt x="1008" y="88"/>
                      <a:pt x="912" y="96"/>
                    </a:cubicBezTo>
                    <a:cubicBezTo>
                      <a:pt x="816" y="104"/>
                      <a:pt x="696" y="88"/>
                      <a:pt x="624" y="192"/>
                    </a:cubicBezTo>
                    <a:cubicBezTo>
                      <a:pt x="552" y="296"/>
                      <a:pt x="536" y="576"/>
                      <a:pt x="480" y="720"/>
                    </a:cubicBezTo>
                    <a:cubicBezTo>
                      <a:pt x="424" y="864"/>
                      <a:pt x="356" y="960"/>
                      <a:pt x="288" y="1056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05"/>
              <p:cNvSpPr/>
              <p:nvPr/>
            </p:nvSpPr>
            <p:spPr>
              <a:xfrm>
                <a:off x="119160" y="203760"/>
                <a:ext cx="39960" cy="72000"/>
              </a:xfrm>
              <a:custGeom>
                <a:avLst/>
                <a:gdLst/>
                <a:ahLst/>
                <a:rect l="l" t="t" r="r" b="b"/>
                <a:pathLst>
                  <a:path w="206" h="369">
                    <a:moveTo>
                      <a:pt x="200" y="0"/>
                    </a:moveTo>
                    <a:cubicBezTo>
                      <a:pt x="181" y="105"/>
                      <a:pt x="206" y="1"/>
                      <a:pt x="178" y="66"/>
                    </a:cubicBezTo>
                    <a:cubicBezTo>
                      <a:pt x="166" y="94"/>
                      <a:pt x="163" y="125"/>
                      <a:pt x="155" y="155"/>
                    </a:cubicBezTo>
                    <a:cubicBezTo>
                      <a:pt x="145" y="195"/>
                      <a:pt x="122" y="243"/>
                      <a:pt x="104" y="280"/>
                    </a:cubicBezTo>
                    <a:cubicBezTo>
                      <a:pt x="97" y="295"/>
                      <a:pt x="57" y="344"/>
                      <a:pt x="45" y="354"/>
                    </a:cubicBezTo>
                    <a:cubicBezTo>
                      <a:pt x="33" y="364"/>
                      <a:pt x="0" y="369"/>
                      <a:pt x="0" y="36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06"/>
              <p:cNvSpPr/>
              <p:nvPr/>
            </p:nvSpPr>
            <p:spPr>
              <a:xfrm>
                <a:off x="159840" y="1792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82" h="78">
                    <a:moveTo>
                      <a:pt x="0" y="52"/>
                    </a:moveTo>
                    <a:cubicBezTo>
                      <a:pt x="3" y="45"/>
                      <a:pt x="0" y="32"/>
                      <a:pt x="8" y="30"/>
                    </a:cubicBezTo>
                    <a:cubicBezTo>
                      <a:pt x="45" y="21"/>
                      <a:pt x="20" y="78"/>
                      <a:pt x="37" y="23"/>
                    </a:cubicBezTo>
                    <a:cubicBezTo>
                      <a:pt x="32" y="15"/>
                      <a:pt x="32" y="0"/>
                      <a:pt x="23" y="0"/>
                    </a:cubicBezTo>
                    <a:cubicBezTo>
                      <a:pt x="15" y="0"/>
                      <a:pt x="25" y="17"/>
                      <a:pt x="30" y="23"/>
                    </a:cubicBezTo>
                    <a:cubicBezTo>
                      <a:pt x="42" y="38"/>
                      <a:pt x="82" y="44"/>
                      <a:pt x="23" y="30"/>
                    </a:cubicBezTo>
                    <a:cubicBezTo>
                      <a:pt x="23" y="30"/>
                      <a:pt x="8" y="45"/>
                      <a:pt x="0" y="52"/>
                    </a:cubicBez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07"/>
              <p:cNvSpPr/>
              <p:nvPr/>
            </p:nvSpPr>
            <p:spPr>
              <a:xfrm>
                <a:off x="156600" y="186480"/>
                <a:ext cx="80280" cy="87840"/>
              </a:xfrm>
              <a:custGeom>
                <a:avLst/>
                <a:gdLst/>
                <a:ahLst/>
                <a:rect l="l" t="t" r="r" b="b"/>
                <a:pathLst>
                  <a:path w="413" h="451">
                    <a:moveTo>
                      <a:pt x="154" y="67"/>
                    </a:moveTo>
                    <a:cubicBezTo>
                      <a:pt x="127" y="122"/>
                      <a:pt x="103" y="180"/>
                      <a:pt x="81" y="237"/>
                    </a:cubicBezTo>
                    <a:cubicBezTo>
                      <a:pt x="64" y="282"/>
                      <a:pt x="56" y="322"/>
                      <a:pt x="29" y="362"/>
                    </a:cubicBezTo>
                    <a:cubicBezTo>
                      <a:pt x="27" y="374"/>
                      <a:pt x="26" y="387"/>
                      <a:pt x="22" y="399"/>
                    </a:cubicBezTo>
                    <a:cubicBezTo>
                      <a:pt x="19" y="407"/>
                      <a:pt x="10" y="429"/>
                      <a:pt x="7" y="421"/>
                    </a:cubicBezTo>
                    <a:cubicBezTo>
                      <a:pt x="0" y="402"/>
                      <a:pt x="33" y="326"/>
                      <a:pt x="36" y="318"/>
                    </a:cubicBezTo>
                    <a:cubicBezTo>
                      <a:pt x="50" y="281"/>
                      <a:pt x="64" y="251"/>
                      <a:pt x="81" y="215"/>
                    </a:cubicBezTo>
                    <a:cubicBezTo>
                      <a:pt x="114" y="146"/>
                      <a:pt x="126" y="96"/>
                      <a:pt x="191" y="52"/>
                    </a:cubicBezTo>
                    <a:cubicBezTo>
                      <a:pt x="226" y="103"/>
                      <a:pt x="211" y="71"/>
                      <a:pt x="199" y="185"/>
                    </a:cubicBezTo>
                    <a:cubicBezTo>
                      <a:pt x="198" y="198"/>
                      <a:pt x="194" y="210"/>
                      <a:pt x="191" y="222"/>
                    </a:cubicBezTo>
                    <a:cubicBezTo>
                      <a:pt x="189" y="232"/>
                      <a:pt x="180" y="260"/>
                      <a:pt x="184" y="251"/>
                    </a:cubicBezTo>
                    <a:cubicBezTo>
                      <a:pt x="217" y="172"/>
                      <a:pt x="258" y="105"/>
                      <a:pt x="310" y="37"/>
                    </a:cubicBezTo>
                    <a:cubicBezTo>
                      <a:pt x="321" y="3"/>
                      <a:pt x="329" y="12"/>
                      <a:pt x="361" y="0"/>
                    </a:cubicBezTo>
                    <a:cubicBezTo>
                      <a:pt x="412" y="14"/>
                      <a:pt x="404" y="35"/>
                      <a:pt x="413" y="82"/>
                    </a:cubicBezTo>
                    <a:cubicBezTo>
                      <a:pt x="405" y="154"/>
                      <a:pt x="392" y="324"/>
                      <a:pt x="346" y="392"/>
                    </a:cubicBezTo>
                    <a:cubicBezTo>
                      <a:pt x="342" y="410"/>
                      <a:pt x="332" y="432"/>
                      <a:pt x="332" y="45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08"/>
              <p:cNvSpPr/>
              <p:nvPr/>
            </p:nvSpPr>
            <p:spPr>
              <a:xfrm>
                <a:off x="247320" y="173160"/>
                <a:ext cx="114120" cy="93960"/>
              </a:xfrm>
              <a:custGeom>
                <a:avLst/>
                <a:gdLst/>
                <a:ahLst/>
                <a:rect l="l" t="t" r="r" b="b"/>
                <a:pathLst>
                  <a:path w="586" h="482">
                    <a:moveTo>
                      <a:pt x="143" y="104"/>
                    </a:moveTo>
                    <a:cubicBezTo>
                      <a:pt x="190" y="123"/>
                      <a:pt x="198" y="143"/>
                      <a:pt x="224" y="186"/>
                    </a:cubicBezTo>
                    <a:cubicBezTo>
                      <a:pt x="237" y="266"/>
                      <a:pt x="248" y="371"/>
                      <a:pt x="173" y="422"/>
                    </a:cubicBezTo>
                    <a:cubicBezTo>
                      <a:pt x="132" y="482"/>
                      <a:pt x="119" y="464"/>
                      <a:pt x="40" y="451"/>
                    </a:cubicBezTo>
                    <a:cubicBezTo>
                      <a:pt x="0" y="373"/>
                      <a:pt x="8" y="232"/>
                      <a:pt x="77" y="163"/>
                    </a:cubicBezTo>
                    <a:cubicBezTo>
                      <a:pt x="102" y="138"/>
                      <a:pt x="133" y="129"/>
                      <a:pt x="165" y="119"/>
                    </a:cubicBezTo>
                    <a:cubicBezTo>
                      <a:pt x="230" y="127"/>
                      <a:pt x="242" y="143"/>
                      <a:pt x="306" y="134"/>
                    </a:cubicBezTo>
                    <a:cubicBezTo>
                      <a:pt x="359" y="81"/>
                      <a:pt x="338" y="107"/>
                      <a:pt x="372" y="60"/>
                    </a:cubicBezTo>
                    <a:cubicBezTo>
                      <a:pt x="375" y="50"/>
                      <a:pt x="377" y="40"/>
                      <a:pt x="380" y="30"/>
                    </a:cubicBezTo>
                    <a:cubicBezTo>
                      <a:pt x="382" y="23"/>
                      <a:pt x="386" y="0"/>
                      <a:pt x="387" y="8"/>
                    </a:cubicBezTo>
                    <a:cubicBezTo>
                      <a:pt x="392" y="67"/>
                      <a:pt x="391" y="127"/>
                      <a:pt x="394" y="186"/>
                    </a:cubicBezTo>
                    <a:cubicBezTo>
                      <a:pt x="400" y="328"/>
                      <a:pt x="378" y="371"/>
                      <a:pt x="490" y="429"/>
                    </a:cubicBezTo>
                    <a:cubicBezTo>
                      <a:pt x="561" y="422"/>
                      <a:pt x="562" y="436"/>
                      <a:pt x="586" y="38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09"/>
              <p:cNvSpPr/>
              <p:nvPr/>
            </p:nvSpPr>
            <p:spPr>
              <a:xfrm>
                <a:off x="320760" y="153360"/>
                <a:ext cx="19080" cy="47880"/>
              </a:xfrm>
              <a:custGeom>
                <a:avLst/>
                <a:gdLst/>
                <a:ahLst/>
                <a:rect l="l" t="t" r="r" b="b"/>
                <a:pathLst>
                  <a:path w="99" h="246">
                    <a:moveTo>
                      <a:pt x="3" y="0"/>
                    </a:moveTo>
                    <a:cubicBezTo>
                      <a:pt x="11" y="78"/>
                      <a:pt x="0" y="159"/>
                      <a:pt x="18" y="236"/>
                    </a:cubicBezTo>
                    <a:cubicBezTo>
                      <a:pt x="20" y="246"/>
                      <a:pt x="37" y="229"/>
                      <a:pt x="47" y="228"/>
                    </a:cubicBezTo>
                    <a:cubicBezTo>
                      <a:pt x="64" y="226"/>
                      <a:pt x="82" y="228"/>
                      <a:pt x="99" y="228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10"/>
              <p:cNvSpPr/>
              <p:nvPr/>
            </p:nvSpPr>
            <p:spPr>
              <a:xfrm>
                <a:off x="112320" y="104040"/>
                <a:ext cx="511200" cy="276480"/>
              </a:xfrm>
              <a:custGeom>
                <a:avLst/>
                <a:gdLst/>
                <a:ahLst/>
                <a:rect l="l" t="t" r="r" b="b"/>
                <a:pathLst>
                  <a:path w="2622" h="1418">
                    <a:moveTo>
                      <a:pt x="1116" y="0"/>
                    </a:moveTo>
                    <a:cubicBezTo>
                      <a:pt x="1128" y="39"/>
                      <a:pt x="1138" y="100"/>
                      <a:pt x="1153" y="133"/>
                    </a:cubicBezTo>
                    <a:cubicBezTo>
                      <a:pt x="1162" y="152"/>
                      <a:pt x="1179" y="167"/>
                      <a:pt x="1190" y="185"/>
                    </a:cubicBezTo>
                    <a:cubicBezTo>
                      <a:pt x="1232" y="255"/>
                      <a:pt x="1256" y="343"/>
                      <a:pt x="1278" y="421"/>
                    </a:cubicBezTo>
                    <a:cubicBezTo>
                      <a:pt x="1290" y="511"/>
                      <a:pt x="1310" y="594"/>
                      <a:pt x="1337" y="680"/>
                    </a:cubicBezTo>
                    <a:cubicBezTo>
                      <a:pt x="1325" y="897"/>
                      <a:pt x="1340" y="806"/>
                      <a:pt x="1315" y="739"/>
                    </a:cubicBezTo>
                    <a:cubicBezTo>
                      <a:pt x="1321" y="639"/>
                      <a:pt x="1307" y="581"/>
                      <a:pt x="1389" y="525"/>
                    </a:cubicBezTo>
                    <a:cubicBezTo>
                      <a:pt x="1404" y="530"/>
                      <a:pt x="1421" y="530"/>
                      <a:pt x="1433" y="540"/>
                    </a:cubicBezTo>
                    <a:cubicBezTo>
                      <a:pt x="1447" y="551"/>
                      <a:pt x="1441" y="575"/>
                      <a:pt x="1448" y="591"/>
                    </a:cubicBezTo>
                    <a:cubicBezTo>
                      <a:pt x="1458" y="615"/>
                      <a:pt x="1472" y="636"/>
                      <a:pt x="1485" y="658"/>
                    </a:cubicBezTo>
                    <a:cubicBezTo>
                      <a:pt x="1489" y="674"/>
                      <a:pt x="1522" y="773"/>
                      <a:pt x="1529" y="783"/>
                    </a:cubicBezTo>
                    <a:cubicBezTo>
                      <a:pt x="1534" y="790"/>
                      <a:pt x="1537" y="799"/>
                      <a:pt x="1544" y="805"/>
                    </a:cubicBezTo>
                    <a:cubicBezTo>
                      <a:pt x="1557" y="817"/>
                      <a:pt x="1588" y="835"/>
                      <a:pt x="1588" y="835"/>
                    </a:cubicBezTo>
                    <a:cubicBezTo>
                      <a:pt x="1655" y="781"/>
                      <a:pt x="1671" y="717"/>
                      <a:pt x="1684" y="636"/>
                    </a:cubicBezTo>
                    <a:cubicBezTo>
                      <a:pt x="1710" y="687"/>
                      <a:pt x="1715" y="741"/>
                      <a:pt x="1766" y="776"/>
                    </a:cubicBezTo>
                    <a:cubicBezTo>
                      <a:pt x="1787" y="810"/>
                      <a:pt x="1796" y="808"/>
                      <a:pt x="1832" y="791"/>
                    </a:cubicBezTo>
                    <a:cubicBezTo>
                      <a:pt x="1848" y="766"/>
                      <a:pt x="1852" y="742"/>
                      <a:pt x="1869" y="717"/>
                    </a:cubicBezTo>
                    <a:cubicBezTo>
                      <a:pt x="1880" y="682"/>
                      <a:pt x="1869" y="635"/>
                      <a:pt x="1899" y="695"/>
                    </a:cubicBezTo>
                    <a:cubicBezTo>
                      <a:pt x="1908" y="755"/>
                      <a:pt x="1915" y="813"/>
                      <a:pt x="1928" y="872"/>
                    </a:cubicBezTo>
                    <a:cubicBezTo>
                      <a:pt x="1950" y="1079"/>
                      <a:pt x="1984" y="1366"/>
                      <a:pt x="1736" y="1418"/>
                    </a:cubicBezTo>
                    <a:cubicBezTo>
                      <a:pt x="1594" y="1403"/>
                      <a:pt x="1502" y="1413"/>
                      <a:pt x="1404" y="1315"/>
                    </a:cubicBezTo>
                    <a:cubicBezTo>
                      <a:pt x="1409" y="1288"/>
                      <a:pt x="1407" y="1259"/>
                      <a:pt x="1419" y="1234"/>
                    </a:cubicBezTo>
                    <a:cubicBezTo>
                      <a:pt x="1428" y="1217"/>
                      <a:pt x="1446" y="1206"/>
                      <a:pt x="1463" y="1197"/>
                    </a:cubicBezTo>
                    <a:cubicBezTo>
                      <a:pt x="1654" y="1090"/>
                      <a:pt x="1563" y="1143"/>
                      <a:pt x="1744" y="1101"/>
                    </a:cubicBezTo>
                    <a:cubicBezTo>
                      <a:pt x="1888" y="1067"/>
                      <a:pt x="2017" y="1044"/>
                      <a:pt x="2164" y="1027"/>
                    </a:cubicBezTo>
                    <a:cubicBezTo>
                      <a:pt x="2196" y="1023"/>
                      <a:pt x="2228" y="1024"/>
                      <a:pt x="2260" y="1020"/>
                    </a:cubicBezTo>
                    <a:cubicBezTo>
                      <a:pt x="2327" y="1012"/>
                      <a:pt x="2460" y="990"/>
                      <a:pt x="2460" y="990"/>
                    </a:cubicBezTo>
                    <a:cubicBezTo>
                      <a:pt x="2514" y="963"/>
                      <a:pt x="2570" y="940"/>
                      <a:pt x="2622" y="909"/>
                    </a:cubicBezTo>
                    <a:cubicBezTo>
                      <a:pt x="2566" y="871"/>
                      <a:pt x="2445" y="926"/>
                      <a:pt x="2386" y="938"/>
                    </a:cubicBezTo>
                    <a:cubicBezTo>
                      <a:pt x="2230" y="969"/>
                      <a:pt x="2070" y="996"/>
                      <a:pt x="1913" y="1020"/>
                    </a:cubicBezTo>
                    <a:cubicBezTo>
                      <a:pt x="1408" y="1098"/>
                      <a:pt x="886" y="1107"/>
                      <a:pt x="377" y="1116"/>
                    </a:cubicBezTo>
                    <a:cubicBezTo>
                      <a:pt x="260" y="1122"/>
                      <a:pt x="130" y="1113"/>
                      <a:pt x="16" y="1138"/>
                    </a:cubicBezTo>
                    <a:cubicBezTo>
                      <a:pt x="0" y="1162"/>
                      <a:pt x="1" y="1151"/>
                      <a:pt x="1" y="1167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11"/>
            <p:cNvGrpSpPr/>
            <p:nvPr/>
          </p:nvGrpSpPr>
          <p:grpSpPr>
            <a:xfrm>
              <a:off x="525600" y="93600"/>
              <a:ext cx="451800" cy="239040"/>
              <a:chOff x="525600" y="93600"/>
              <a:chExt cx="451800" cy="239040"/>
            </a:xfrm>
          </p:grpSpPr>
          <p:sp>
            <p:nvSpPr>
              <p:cNvPr id="543" name="Freeform 112"/>
              <p:cNvSpPr/>
              <p:nvPr/>
            </p:nvSpPr>
            <p:spPr>
              <a:xfrm>
                <a:off x="525600" y="93600"/>
                <a:ext cx="232200" cy="239040"/>
              </a:xfrm>
              <a:custGeom>
                <a:avLst/>
                <a:gdLst/>
                <a:ahLst/>
                <a:rect l="l" t="t" r="r" b="b"/>
                <a:pathLst>
                  <a:path w="1676" h="1524">
                    <a:moveTo>
                      <a:pt x="0" y="1524"/>
                    </a:moveTo>
                    <a:cubicBezTo>
                      <a:pt x="124" y="1400"/>
                      <a:pt x="223" y="1254"/>
                      <a:pt x="310" y="1103"/>
                    </a:cubicBezTo>
                    <a:cubicBezTo>
                      <a:pt x="475" y="818"/>
                      <a:pt x="607" y="561"/>
                      <a:pt x="679" y="239"/>
                    </a:cubicBezTo>
                    <a:cubicBezTo>
                      <a:pt x="685" y="175"/>
                      <a:pt x="691" y="117"/>
                      <a:pt x="709" y="55"/>
                    </a:cubicBezTo>
                    <a:cubicBezTo>
                      <a:pt x="711" y="38"/>
                      <a:pt x="699" y="0"/>
                      <a:pt x="716" y="3"/>
                    </a:cubicBezTo>
                    <a:cubicBezTo>
                      <a:pt x="740" y="8"/>
                      <a:pt x="758" y="118"/>
                      <a:pt x="760" y="129"/>
                    </a:cubicBezTo>
                    <a:cubicBezTo>
                      <a:pt x="786" y="285"/>
                      <a:pt x="825" y="421"/>
                      <a:pt x="893" y="564"/>
                    </a:cubicBezTo>
                    <a:cubicBezTo>
                      <a:pt x="990" y="769"/>
                      <a:pt x="1088" y="980"/>
                      <a:pt x="1226" y="1162"/>
                    </a:cubicBezTo>
                    <a:cubicBezTo>
                      <a:pt x="1262" y="1210"/>
                      <a:pt x="1288" y="1267"/>
                      <a:pt x="1336" y="1303"/>
                    </a:cubicBezTo>
                    <a:cubicBezTo>
                      <a:pt x="1411" y="1359"/>
                      <a:pt x="1481" y="1419"/>
                      <a:pt x="1558" y="1473"/>
                    </a:cubicBezTo>
                    <a:cubicBezTo>
                      <a:pt x="1592" y="1497"/>
                      <a:pt x="1638" y="1506"/>
                      <a:pt x="1676" y="152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13"/>
              <p:cNvSpPr/>
              <p:nvPr/>
            </p:nvSpPr>
            <p:spPr>
              <a:xfrm>
                <a:off x="560160" y="223920"/>
                <a:ext cx="149400" cy="7920"/>
              </a:xfrm>
              <a:custGeom>
                <a:avLst/>
                <a:gdLst/>
                <a:ahLst/>
                <a:rect l="l" t="t" r="r" b="b"/>
                <a:pathLst>
                  <a:path w="1078" h="52">
                    <a:moveTo>
                      <a:pt x="1078" y="52"/>
                    </a:moveTo>
                    <a:cubicBezTo>
                      <a:pt x="917" y="40"/>
                      <a:pt x="764" y="19"/>
                      <a:pt x="605" y="0"/>
                    </a:cubicBezTo>
                    <a:cubicBezTo>
                      <a:pt x="404" y="3"/>
                      <a:pt x="201" y="15"/>
                      <a:pt x="0" y="1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14"/>
              <p:cNvSpPr/>
              <p:nvPr/>
            </p:nvSpPr>
            <p:spPr>
              <a:xfrm>
                <a:off x="718920" y="238680"/>
                <a:ext cx="52920" cy="77400"/>
              </a:xfrm>
              <a:custGeom>
                <a:avLst/>
                <a:gdLst/>
                <a:ahLst/>
                <a:rect l="l" t="t" r="r" b="b"/>
                <a:pathLst>
                  <a:path w="384" h="495">
                    <a:moveTo>
                      <a:pt x="0" y="74"/>
                    </a:moveTo>
                    <a:cubicBezTo>
                      <a:pt x="17" y="63"/>
                      <a:pt x="37" y="57"/>
                      <a:pt x="52" y="44"/>
                    </a:cubicBezTo>
                    <a:cubicBezTo>
                      <a:pt x="67" y="32"/>
                      <a:pt x="75" y="14"/>
                      <a:pt x="89" y="0"/>
                    </a:cubicBezTo>
                    <a:cubicBezTo>
                      <a:pt x="116" y="117"/>
                      <a:pt x="100" y="245"/>
                      <a:pt x="96" y="362"/>
                    </a:cubicBezTo>
                    <a:cubicBezTo>
                      <a:pt x="69" y="246"/>
                      <a:pt x="81" y="134"/>
                      <a:pt x="163" y="52"/>
                    </a:cubicBezTo>
                    <a:cubicBezTo>
                      <a:pt x="288" y="63"/>
                      <a:pt x="211" y="48"/>
                      <a:pt x="281" y="96"/>
                    </a:cubicBezTo>
                    <a:cubicBezTo>
                      <a:pt x="291" y="128"/>
                      <a:pt x="312" y="155"/>
                      <a:pt x="325" y="185"/>
                    </a:cubicBezTo>
                    <a:cubicBezTo>
                      <a:pt x="343" y="226"/>
                      <a:pt x="353" y="269"/>
                      <a:pt x="370" y="310"/>
                    </a:cubicBezTo>
                    <a:cubicBezTo>
                      <a:pt x="377" y="486"/>
                      <a:pt x="353" y="429"/>
                      <a:pt x="384" y="495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15"/>
              <p:cNvSpPr/>
              <p:nvPr/>
            </p:nvSpPr>
            <p:spPr>
              <a:xfrm>
                <a:off x="782280" y="240840"/>
                <a:ext cx="43920" cy="73080"/>
              </a:xfrm>
              <a:custGeom>
                <a:avLst/>
                <a:gdLst/>
                <a:ahLst/>
                <a:rect l="l" t="t" r="r" b="b"/>
                <a:pathLst>
                  <a:path w="318" h="466">
                    <a:moveTo>
                      <a:pt x="318" y="55"/>
                    </a:moveTo>
                    <a:cubicBezTo>
                      <a:pt x="298" y="45"/>
                      <a:pt x="279" y="35"/>
                      <a:pt x="259" y="25"/>
                    </a:cubicBezTo>
                    <a:cubicBezTo>
                      <a:pt x="239" y="15"/>
                      <a:pt x="192" y="10"/>
                      <a:pt x="192" y="10"/>
                    </a:cubicBezTo>
                    <a:cubicBezTo>
                      <a:pt x="80" y="19"/>
                      <a:pt x="82" y="0"/>
                      <a:pt x="30" y="77"/>
                    </a:cubicBezTo>
                    <a:cubicBezTo>
                      <a:pt x="35" y="104"/>
                      <a:pt x="38" y="132"/>
                      <a:pt x="45" y="158"/>
                    </a:cubicBezTo>
                    <a:cubicBezTo>
                      <a:pt x="59" y="206"/>
                      <a:pt x="137" y="216"/>
                      <a:pt x="177" y="224"/>
                    </a:cubicBezTo>
                    <a:cubicBezTo>
                      <a:pt x="203" y="241"/>
                      <a:pt x="220" y="258"/>
                      <a:pt x="237" y="284"/>
                    </a:cubicBezTo>
                    <a:cubicBezTo>
                      <a:pt x="272" y="394"/>
                      <a:pt x="199" y="432"/>
                      <a:pt x="111" y="453"/>
                    </a:cubicBezTo>
                    <a:cubicBezTo>
                      <a:pt x="66" y="449"/>
                      <a:pt x="0" y="466"/>
                      <a:pt x="0" y="409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16"/>
              <p:cNvSpPr/>
              <p:nvPr/>
            </p:nvSpPr>
            <p:spPr>
              <a:xfrm>
                <a:off x="837720" y="239040"/>
                <a:ext cx="139680" cy="81360"/>
              </a:xfrm>
              <a:custGeom>
                <a:avLst/>
                <a:gdLst/>
                <a:ahLst/>
                <a:rect l="l" t="t" r="r" b="b"/>
                <a:pathLst>
                  <a:path w="1008" h="520">
                    <a:moveTo>
                      <a:pt x="48" y="216"/>
                    </a:moveTo>
                    <a:cubicBezTo>
                      <a:pt x="132" y="232"/>
                      <a:pt x="216" y="248"/>
                      <a:pt x="240" y="216"/>
                    </a:cubicBezTo>
                    <a:cubicBezTo>
                      <a:pt x="264" y="184"/>
                      <a:pt x="224" y="48"/>
                      <a:pt x="192" y="24"/>
                    </a:cubicBezTo>
                    <a:cubicBezTo>
                      <a:pt x="160" y="0"/>
                      <a:pt x="80" y="32"/>
                      <a:pt x="48" y="72"/>
                    </a:cubicBezTo>
                    <a:cubicBezTo>
                      <a:pt x="16" y="112"/>
                      <a:pt x="0" y="200"/>
                      <a:pt x="0" y="264"/>
                    </a:cubicBezTo>
                    <a:cubicBezTo>
                      <a:pt x="0" y="328"/>
                      <a:pt x="0" y="416"/>
                      <a:pt x="48" y="456"/>
                    </a:cubicBezTo>
                    <a:cubicBezTo>
                      <a:pt x="96" y="496"/>
                      <a:pt x="192" y="520"/>
                      <a:pt x="288" y="504"/>
                    </a:cubicBezTo>
                    <a:cubicBezTo>
                      <a:pt x="384" y="488"/>
                      <a:pt x="504" y="360"/>
                      <a:pt x="624" y="360"/>
                    </a:cubicBezTo>
                    <a:cubicBezTo>
                      <a:pt x="744" y="360"/>
                      <a:pt x="876" y="432"/>
                      <a:pt x="1008" y="504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17"/>
              <p:cNvSpPr/>
              <p:nvPr/>
            </p:nvSpPr>
            <p:spPr>
              <a:xfrm>
                <a:off x="890280" y="168120"/>
                <a:ext cx="29160" cy="123120"/>
              </a:xfrm>
              <a:custGeom>
                <a:avLst/>
                <a:gdLst/>
                <a:ahLst/>
                <a:rect l="l" t="t" r="r" b="b"/>
                <a:pathLst>
                  <a:path w="212" h="786">
                    <a:moveTo>
                      <a:pt x="12" y="0"/>
                    </a:moveTo>
                    <a:cubicBezTo>
                      <a:pt x="10" y="256"/>
                      <a:pt x="0" y="512"/>
                      <a:pt x="5" y="768"/>
                    </a:cubicBezTo>
                    <a:cubicBezTo>
                      <a:pt x="5" y="786"/>
                      <a:pt x="40" y="759"/>
                      <a:pt x="57" y="753"/>
                    </a:cubicBezTo>
                    <a:cubicBezTo>
                      <a:pt x="104" y="738"/>
                      <a:pt x="162" y="701"/>
                      <a:pt x="212" y="701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18"/>
              <p:cNvSpPr/>
              <p:nvPr/>
            </p:nvSpPr>
            <p:spPr>
              <a:xfrm>
                <a:off x="936360" y="170280"/>
                <a:ext cx="26280" cy="122760"/>
              </a:xfrm>
              <a:custGeom>
                <a:avLst/>
                <a:gdLst/>
                <a:ahLst/>
                <a:rect l="l" t="t" r="r" b="b"/>
                <a:pathLst>
                  <a:path w="192" h="783">
                    <a:moveTo>
                      <a:pt x="20" y="0"/>
                    </a:moveTo>
                    <a:cubicBezTo>
                      <a:pt x="35" y="236"/>
                      <a:pt x="0" y="474"/>
                      <a:pt x="20" y="709"/>
                    </a:cubicBezTo>
                    <a:cubicBezTo>
                      <a:pt x="22" y="729"/>
                      <a:pt x="60" y="717"/>
                      <a:pt x="79" y="724"/>
                    </a:cubicBezTo>
                    <a:cubicBezTo>
                      <a:pt x="101" y="732"/>
                      <a:pt x="146" y="746"/>
                      <a:pt x="146" y="746"/>
                    </a:cubicBezTo>
                    <a:cubicBezTo>
                      <a:pt x="153" y="753"/>
                      <a:pt x="159" y="762"/>
                      <a:pt x="168" y="768"/>
                    </a:cubicBezTo>
                    <a:cubicBezTo>
                      <a:pt x="174" y="772"/>
                      <a:pt x="184" y="772"/>
                      <a:pt x="190" y="776"/>
                    </a:cubicBezTo>
                    <a:cubicBezTo>
                      <a:pt x="192" y="777"/>
                      <a:pt x="190" y="781"/>
                      <a:pt x="190" y="783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Group 899"/>
          <p:cNvGrpSpPr/>
          <p:nvPr/>
        </p:nvGrpSpPr>
        <p:grpSpPr>
          <a:xfrm>
            <a:off x="-517680" y="457200"/>
            <a:ext cx="10290240" cy="6858000"/>
            <a:chOff x="-517680" y="457200"/>
            <a:chExt cx="10290240" cy="6858000"/>
          </a:xfrm>
        </p:grpSpPr>
        <p:sp>
          <p:nvSpPr>
            <p:cNvPr id="551" name="Freeform 843"/>
            <p:cNvSpPr/>
            <p:nvPr/>
          </p:nvSpPr>
          <p:spPr>
            <a:xfrm>
              <a:off x="4948200" y="4621320"/>
              <a:ext cx="4435560" cy="1216080"/>
            </a:xfrm>
            <a:custGeom>
              <a:avLst/>
              <a:gdLst/>
              <a:ahLst/>
              <a:rect l="l" t="t" r="r" b="b"/>
              <a:pathLst>
                <a:path w="2794" h="766">
                  <a:moveTo>
                    <a:pt x="2710" y="652"/>
                  </a:moveTo>
                  <a:cubicBezTo>
                    <a:pt x="2679" y="660"/>
                    <a:pt x="2650" y="673"/>
                    <a:pt x="2619" y="682"/>
                  </a:cubicBezTo>
                  <a:cubicBezTo>
                    <a:pt x="2580" y="655"/>
                    <a:pt x="2596" y="677"/>
                    <a:pt x="2566" y="705"/>
                  </a:cubicBezTo>
                  <a:cubicBezTo>
                    <a:pt x="2526" y="698"/>
                    <a:pt x="2506" y="688"/>
                    <a:pt x="2468" y="697"/>
                  </a:cubicBezTo>
                  <a:cubicBezTo>
                    <a:pt x="2396" y="690"/>
                    <a:pt x="2369" y="698"/>
                    <a:pt x="2294" y="705"/>
                  </a:cubicBezTo>
                  <a:cubicBezTo>
                    <a:pt x="2221" y="724"/>
                    <a:pt x="2150" y="724"/>
                    <a:pt x="2074" y="728"/>
                  </a:cubicBezTo>
                  <a:cubicBezTo>
                    <a:pt x="2026" y="760"/>
                    <a:pt x="1993" y="725"/>
                    <a:pt x="1945" y="720"/>
                  </a:cubicBezTo>
                  <a:cubicBezTo>
                    <a:pt x="1892" y="714"/>
                    <a:pt x="1839" y="715"/>
                    <a:pt x="1786" y="713"/>
                  </a:cubicBezTo>
                  <a:cubicBezTo>
                    <a:pt x="1859" y="660"/>
                    <a:pt x="1687" y="715"/>
                    <a:pt x="1664" y="720"/>
                  </a:cubicBezTo>
                  <a:cubicBezTo>
                    <a:pt x="1641" y="725"/>
                    <a:pt x="1596" y="735"/>
                    <a:pt x="1596" y="735"/>
                  </a:cubicBezTo>
                  <a:cubicBezTo>
                    <a:pt x="1568" y="749"/>
                    <a:pt x="1542" y="756"/>
                    <a:pt x="1513" y="766"/>
                  </a:cubicBezTo>
                  <a:cubicBezTo>
                    <a:pt x="1366" y="735"/>
                    <a:pt x="1235" y="732"/>
                    <a:pt x="1081" y="728"/>
                  </a:cubicBezTo>
                  <a:cubicBezTo>
                    <a:pt x="1006" y="679"/>
                    <a:pt x="1090" y="728"/>
                    <a:pt x="884" y="705"/>
                  </a:cubicBezTo>
                  <a:cubicBezTo>
                    <a:pt x="873" y="704"/>
                    <a:pt x="865" y="692"/>
                    <a:pt x="854" y="690"/>
                  </a:cubicBezTo>
                  <a:cubicBezTo>
                    <a:pt x="826" y="684"/>
                    <a:pt x="798" y="685"/>
                    <a:pt x="770" y="682"/>
                  </a:cubicBezTo>
                  <a:cubicBezTo>
                    <a:pt x="765" y="675"/>
                    <a:pt x="763" y="663"/>
                    <a:pt x="755" y="660"/>
                  </a:cubicBezTo>
                  <a:cubicBezTo>
                    <a:pt x="721" y="649"/>
                    <a:pt x="649" y="644"/>
                    <a:pt x="649" y="644"/>
                  </a:cubicBezTo>
                  <a:cubicBezTo>
                    <a:pt x="606" y="631"/>
                    <a:pt x="602" y="622"/>
                    <a:pt x="550" y="614"/>
                  </a:cubicBezTo>
                  <a:cubicBezTo>
                    <a:pt x="506" y="598"/>
                    <a:pt x="470" y="566"/>
                    <a:pt x="422" y="553"/>
                  </a:cubicBezTo>
                  <a:cubicBezTo>
                    <a:pt x="408" y="515"/>
                    <a:pt x="384" y="523"/>
                    <a:pt x="346" y="516"/>
                  </a:cubicBezTo>
                  <a:cubicBezTo>
                    <a:pt x="338" y="511"/>
                    <a:pt x="329" y="507"/>
                    <a:pt x="323" y="500"/>
                  </a:cubicBezTo>
                  <a:cubicBezTo>
                    <a:pt x="318" y="494"/>
                    <a:pt x="321" y="484"/>
                    <a:pt x="315" y="478"/>
                  </a:cubicBezTo>
                  <a:cubicBezTo>
                    <a:pt x="306" y="469"/>
                    <a:pt x="247" y="455"/>
                    <a:pt x="232" y="447"/>
                  </a:cubicBezTo>
                  <a:cubicBezTo>
                    <a:pt x="213" y="420"/>
                    <a:pt x="195" y="412"/>
                    <a:pt x="164" y="402"/>
                  </a:cubicBezTo>
                  <a:cubicBezTo>
                    <a:pt x="154" y="373"/>
                    <a:pt x="139" y="370"/>
                    <a:pt x="118" y="349"/>
                  </a:cubicBezTo>
                  <a:cubicBezTo>
                    <a:pt x="90" y="321"/>
                    <a:pt x="71" y="291"/>
                    <a:pt x="35" y="273"/>
                  </a:cubicBezTo>
                  <a:cubicBezTo>
                    <a:pt x="19" y="226"/>
                    <a:pt x="57" y="236"/>
                    <a:pt x="12" y="220"/>
                  </a:cubicBezTo>
                  <a:cubicBezTo>
                    <a:pt x="10" y="212"/>
                    <a:pt x="0" y="203"/>
                    <a:pt x="5" y="197"/>
                  </a:cubicBezTo>
                  <a:cubicBezTo>
                    <a:pt x="20" y="179"/>
                    <a:pt x="104" y="175"/>
                    <a:pt x="111" y="174"/>
                  </a:cubicBezTo>
                  <a:cubicBezTo>
                    <a:pt x="103" y="172"/>
                    <a:pt x="92" y="174"/>
                    <a:pt x="88" y="167"/>
                  </a:cubicBezTo>
                  <a:cubicBezTo>
                    <a:pt x="84" y="160"/>
                    <a:pt x="93" y="152"/>
                    <a:pt x="96" y="144"/>
                  </a:cubicBezTo>
                  <a:cubicBezTo>
                    <a:pt x="106" y="113"/>
                    <a:pt x="95" y="124"/>
                    <a:pt x="126" y="114"/>
                  </a:cubicBezTo>
                  <a:cubicBezTo>
                    <a:pt x="149" y="99"/>
                    <a:pt x="168" y="92"/>
                    <a:pt x="194" y="84"/>
                  </a:cubicBezTo>
                  <a:cubicBezTo>
                    <a:pt x="220" y="56"/>
                    <a:pt x="435" y="73"/>
                    <a:pt x="505" y="68"/>
                  </a:cubicBezTo>
                  <a:cubicBezTo>
                    <a:pt x="616" y="34"/>
                    <a:pt x="914" y="48"/>
                    <a:pt x="1013" y="46"/>
                  </a:cubicBezTo>
                  <a:cubicBezTo>
                    <a:pt x="1115" y="36"/>
                    <a:pt x="1228" y="53"/>
                    <a:pt x="1323" y="23"/>
                  </a:cubicBezTo>
                  <a:cubicBezTo>
                    <a:pt x="1462" y="31"/>
                    <a:pt x="1601" y="16"/>
                    <a:pt x="1740" y="30"/>
                  </a:cubicBezTo>
                  <a:cubicBezTo>
                    <a:pt x="1774" y="39"/>
                    <a:pt x="1784" y="56"/>
                    <a:pt x="1808" y="30"/>
                  </a:cubicBezTo>
                  <a:cubicBezTo>
                    <a:pt x="1828" y="33"/>
                    <a:pt x="1849" y="34"/>
                    <a:pt x="1869" y="38"/>
                  </a:cubicBezTo>
                  <a:cubicBezTo>
                    <a:pt x="1877" y="40"/>
                    <a:pt x="1884" y="47"/>
                    <a:pt x="1892" y="46"/>
                  </a:cubicBezTo>
                  <a:cubicBezTo>
                    <a:pt x="1913" y="44"/>
                    <a:pt x="1952" y="30"/>
                    <a:pt x="1952" y="30"/>
                  </a:cubicBezTo>
                  <a:cubicBezTo>
                    <a:pt x="2003" y="48"/>
                    <a:pt x="2009" y="43"/>
                    <a:pt x="2059" y="30"/>
                  </a:cubicBezTo>
                  <a:cubicBezTo>
                    <a:pt x="2106" y="43"/>
                    <a:pt x="2112" y="46"/>
                    <a:pt x="2165" y="38"/>
                  </a:cubicBezTo>
                  <a:cubicBezTo>
                    <a:pt x="2226" y="16"/>
                    <a:pt x="2292" y="32"/>
                    <a:pt x="2354" y="15"/>
                  </a:cubicBezTo>
                  <a:cubicBezTo>
                    <a:pt x="2437" y="20"/>
                    <a:pt x="2534" y="39"/>
                    <a:pt x="2612" y="0"/>
                  </a:cubicBezTo>
                  <a:cubicBezTo>
                    <a:pt x="2660" y="13"/>
                    <a:pt x="2707" y="24"/>
                    <a:pt x="2756" y="30"/>
                  </a:cubicBezTo>
                  <a:cubicBezTo>
                    <a:pt x="2759" y="116"/>
                    <a:pt x="2739" y="238"/>
                    <a:pt x="2794" y="318"/>
                  </a:cubicBezTo>
                  <a:cubicBezTo>
                    <a:pt x="2791" y="369"/>
                    <a:pt x="2793" y="420"/>
                    <a:pt x="2786" y="470"/>
                  </a:cubicBezTo>
                  <a:cubicBezTo>
                    <a:pt x="2782" y="499"/>
                    <a:pt x="2719" y="590"/>
                    <a:pt x="2695" y="606"/>
                  </a:cubicBezTo>
                  <a:cubicBezTo>
                    <a:pt x="2698" y="616"/>
                    <a:pt x="2699" y="627"/>
                    <a:pt x="2703" y="637"/>
                  </a:cubicBezTo>
                  <a:cubicBezTo>
                    <a:pt x="2710" y="653"/>
                    <a:pt x="2729" y="671"/>
                    <a:pt x="2710" y="652"/>
                  </a:cubicBez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55"/>
            <p:cNvSpPr/>
            <p:nvPr/>
          </p:nvSpPr>
          <p:spPr>
            <a:xfrm>
              <a:off x="7659720" y="4876920"/>
              <a:ext cx="1965240" cy="455400"/>
            </a:xfrm>
            <a:custGeom>
              <a:avLst/>
              <a:gdLst/>
              <a:ahLst/>
              <a:rect l="l" t="t" r="r" b="b"/>
              <a:pathLst>
                <a:path w="1238" h="287">
                  <a:moveTo>
                    <a:pt x="958" y="38"/>
                  </a:moveTo>
                  <a:cubicBezTo>
                    <a:pt x="762" y="45"/>
                    <a:pt x="684" y="63"/>
                    <a:pt x="495" y="53"/>
                  </a:cubicBezTo>
                  <a:cubicBezTo>
                    <a:pt x="465" y="51"/>
                    <a:pt x="434" y="49"/>
                    <a:pt x="404" y="46"/>
                  </a:cubicBezTo>
                  <a:cubicBezTo>
                    <a:pt x="346" y="41"/>
                    <a:pt x="230" y="30"/>
                    <a:pt x="230" y="30"/>
                  </a:cubicBezTo>
                  <a:cubicBezTo>
                    <a:pt x="185" y="16"/>
                    <a:pt x="140" y="8"/>
                    <a:pt x="94" y="0"/>
                  </a:cubicBezTo>
                  <a:cubicBezTo>
                    <a:pt x="76" y="4"/>
                    <a:pt x="0" y="3"/>
                    <a:pt x="56" y="23"/>
                  </a:cubicBezTo>
                  <a:cubicBezTo>
                    <a:pt x="82" y="63"/>
                    <a:pt x="63" y="56"/>
                    <a:pt x="26" y="68"/>
                  </a:cubicBezTo>
                  <a:cubicBezTo>
                    <a:pt x="46" y="72"/>
                    <a:pt x="72" y="73"/>
                    <a:pt x="86" y="91"/>
                  </a:cubicBezTo>
                  <a:cubicBezTo>
                    <a:pt x="102" y="110"/>
                    <a:pt x="82" y="123"/>
                    <a:pt x="116" y="129"/>
                  </a:cubicBezTo>
                  <a:cubicBezTo>
                    <a:pt x="149" y="135"/>
                    <a:pt x="182" y="134"/>
                    <a:pt x="215" y="137"/>
                  </a:cubicBezTo>
                  <a:cubicBezTo>
                    <a:pt x="207" y="139"/>
                    <a:pt x="192" y="136"/>
                    <a:pt x="192" y="144"/>
                  </a:cubicBezTo>
                  <a:cubicBezTo>
                    <a:pt x="192" y="153"/>
                    <a:pt x="206" y="158"/>
                    <a:pt x="215" y="159"/>
                  </a:cubicBezTo>
                  <a:cubicBezTo>
                    <a:pt x="265" y="166"/>
                    <a:pt x="316" y="164"/>
                    <a:pt x="367" y="167"/>
                  </a:cubicBezTo>
                  <a:cubicBezTo>
                    <a:pt x="362" y="175"/>
                    <a:pt x="358" y="184"/>
                    <a:pt x="351" y="190"/>
                  </a:cubicBezTo>
                  <a:cubicBezTo>
                    <a:pt x="337" y="202"/>
                    <a:pt x="306" y="220"/>
                    <a:pt x="306" y="220"/>
                  </a:cubicBezTo>
                  <a:cubicBezTo>
                    <a:pt x="311" y="228"/>
                    <a:pt x="323" y="234"/>
                    <a:pt x="321" y="243"/>
                  </a:cubicBezTo>
                  <a:cubicBezTo>
                    <a:pt x="313" y="287"/>
                    <a:pt x="270" y="245"/>
                    <a:pt x="321" y="281"/>
                  </a:cubicBezTo>
                  <a:cubicBezTo>
                    <a:pt x="382" y="278"/>
                    <a:pt x="443" y="282"/>
                    <a:pt x="503" y="273"/>
                  </a:cubicBezTo>
                  <a:cubicBezTo>
                    <a:pt x="512" y="272"/>
                    <a:pt x="480" y="267"/>
                    <a:pt x="480" y="258"/>
                  </a:cubicBezTo>
                  <a:cubicBezTo>
                    <a:pt x="480" y="248"/>
                    <a:pt x="519" y="225"/>
                    <a:pt x="526" y="220"/>
                  </a:cubicBezTo>
                  <a:cubicBezTo>
                    <a:pt x="521" y="212"/>
                    <a:pt x="517" y="203"/>
                    <a:pt x="511" y="197"/>
                  </a:cubicBezTo>
                  <a:cubicBezTo>
                    <a:pt x="488" y="174"/>
                    <a:pt x="469" y="187"/>
                    <a:pt x="518" y="174"/>
                  </a:cubicBezTo>
                  <a:cubicBezTo>
                    <a:pt x="571" y="177"/>
                    <a:pt x="625" y="171"/>
                    <a:pt x="677" y="182"/>
                  </a:cubicBezTo>
                  <a:cubicBezTo>
                    <a:pt x="686" y="184"/>
                    <a:pt x="657" y="197"/>
                    <a:pt x="662" y="205"/>
                  </a:cubicBezTo>
                  <a:cubicBezTo>
                    <a:pt x="674" y="226"/>
                    <a:pt x="823" y="234"/>
                    <a:pt x="836" y="235"/>
                  </a:cubicBezTo>
                  <a:cubicBezTo>
                    <a:pt x="870" y="244"/>
                    <a:pt x="892" y="258"/>
                    <a:pt x="927" y="265"/>
                  </a:cubicBezTo>
                  <a:cubicBezTo>
                    <a:pt x="940" y="263"/>
                    <a:pt x="953" y="262"/>
                    <a:pt x="965" y="258"/>
                  </a:cubicBezTo>
                  <a:cubicBezTo>
                    <a:pt x="974" y="255"/>
                    <a:pt x="979" y="246"/>
                    <a:pt x="988" y="243"/>
                  </a:cubicBezTo>
                  <a:cubicBezTo>
                    <a:pt x="1008" y="236"/>
                    <a:pt x="1029" y="234"/>
                    <a:pt x="1049" y="227"/>
                  </a:cubicBezTo>
                  <a:cubicBezTo>
                    <a:pt x="1048" y="227"/>
                    <a:pt x="1003" y="213"/>
                    <a:pt x="1003" y="212"/>
                  </a:cubicBezTo>
                  <a:cubicBezTo>
                    <a:pt x="1003" y="204"/>
                    <a:pt x="1018" y="206"/>
                    <a:pt x="1026" y="205"/>
                  </a:cubicBezTo>
                  <a:cubicBezTo>
                    <a:pt x="1093" y="195"/>
                    <a:pt x="1163" y="188"/>
                    <a:pt x="1231" y="182"/>
                  </a:cubicBezTo>
                  <a:cubicBezTo>
                    <a:pt x="1197" y="173"/>
                    <a:pt x="1175" y="171"/>
                    <a:pt x="1162" y="137"/>
                  </a:cubicBezTo>
                  <a:cubicBezTo>
                    <a:pt x="1189" y="118"/>
                    <a:pt x="1214" y="107"/>
                    <a:pt x="1238" y="83"/>
                  </a:cubicBezTo>
                  <a:cubicBezTo>
                    <a:pt x="1176" y="24"/>
                    <a:pt x="1033" y="42"/>
                    <a:pt x="958" y="38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769"/>
            <p:cNvSpPr/>
            <p:nvPr/>
          </p:nvSpPr>
          <p:spPr>
            <a:xfrm>
              <a:off x="-380880" y="4822920"/>
              <a:ext cx="3328920" cy="574560"/>
            </a:xfrm>
            <a:custGeom>
              <a:avLst/>
              <a:gdLst/>
              <a:ahLst/>
              <a:rect l="l" t="t" r="r" b="b"/>
              <a:pathLst>
                <a:path w="2097" h="362">
                  <a:moveTo>
                    <a:pt x="96" y="26"/>
                  </a:moveTo>
                  <a:lnTo>
                    <a:pt x="480" y="26"/>
                  </a:lnTo>
                  <a:cubicBezTo>
                    <a:pt x="688" y="25"/>
                    <a:pt x="896" y="21"/>
                    <a:pt x="1104" y="23"/>
                  </a:cubicBezTo>
                  <a:cubicBezTo>
                    <a:pt x="1182" y="24"/>
                    <a:pt x="1121" y="41"/>
                    <a:pt x="1172" y="23"/>
                  </a:cubicBezTo>
                  <a:cubicBezTo>
                    <a:pt x="1215" y="38"/>
                    <a:pt x="1254" y="28"/>
                    <a:pt x="1293" y="8"/>
                  </a:cubicBezTo>
                  <a:cubicBezTo>
                    <a:pt x="1349" y="27"/>
                    <a:pt x="1282" y="11"/>
                    <a:pt x="1339" y="1"/>
                  </a:cubicBezTo>
                  <a:cubicBezTo>
                    <a:pt x="1342" y="0"/>
                    <a:pt x="1381" y="15"/>
                    <a:pt x="1384" y="16"/>
                  </a:cubicBezTo>
                  <a:cubicBezTo>
                    <a:pt x="1434" y="5"/>
                    <a:pt x="1517" y="27"/>
                    <a:pt x="1566" y="31"/>
                  </a:cubicBezTo>
                  <a:cubicBezTo>
                    <a:pt x="1595" y="37"/>
                    <a:pt x="1622" y="44"/>
                    <a:pt x="1650" y="54"/>
                  </a:cubicBezTo>
                  <a:cubicBezTo>
                    <a:pt x="1657" y="49"/>
                    <a:pt x="1663" y="41"/>
                    <a:pt x="1672" y="39"/>
                  </a:cubicBezTo>
                  <a:cubicBezTo>
                    <a:pt x="1680" y="38"/>
                    <a:pt x="1689" y="52"/>
                    <a:pt x="1695" y="46"/>
                  </a:cubicBezTo>
                  <a:cubicBezTo>
                    <a:pt x="1701" y="40"/>
                    <a:pt x="1682" y="29"/>
                    <a:pt x="1688" y="23"/>
                  </a:cubicBezTo>
                  <a:cubicBezTo>
                    <a:pt x="1694" y="17"/>
                    <a:pt x="1703" y="29"/>
                    <a:pt x="1710" y="31"/>
                  </a:cubicBezTo>
                  <a:cubicBezTo>
                    <a:pt x="1752" y="44"/>
                    <a:pt x="1796" y="45"/>
                    <a:pt x="1839" y="54"/>
                  </a:cubicBezTo>
                  <a:cubicBezTo>
                    <a:pt x="1884" y="83"/>
                    <a:pt x="1919" y="41"/>
                    <a:pt x="1968" y="39"/>
                  </a:cubicBezTo>
                  <a:cubicBezTo>
                    <a:pt x="2011" y="37"/>
                    <a:pt x="2054" y="39"/>
                    <a:pt x="2097" y="39"/>
                  </a:cubicBezTo>
                  <a:lnTo>
                    <a:pt x="1920" y="362"/>
                  </a:lnTo>
                  <a:lnTo>
                    <a:pt x="0" y="314"/>
                  </a:lnTo>
                  <a:lnTo>
                    <a:pt x="144" y="26"/>
                  </a:lnTo>
                  <a:lnTo>
                    <a:pt x="0" y="74"/>
                  </a:lnTo>
                  <a:lnTo>
                    <a:pt x="144" y="26"/>
                  </a:lnTo>
                  <a:lnTo>
                    <a:pt x="192" y="26"/>
                  </a:lnTo>
                  <a:lnTo>
                    <a:pt x="96" y="26"/>
                  </a:ln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25"/>
            <p:cNvSpPr/>
            <p:nvPr/>
          </p:nvSpPr>
          <p:spPr>
            <a:xfrm>
              <a:off x="-517680" y="4511520"/>
              <a:ext cx="5132520" cy="1341720"/>
            </a:xfrm>
            <a:custGeom>
              <a:avLst/>
              <a:gdLst/>
              <a:ahLst/>
              <a:rect l="l" t="t" r="r" b="b"/>
              <a:pathLst>
                <a:path w="3233" h="845">
                  <a:moveTo>
                    <a:pt x="235" y="781"/>
                  </a:moveTo>
                  <a:cubicBezTo>
                    <a:pt x="318" y="808"/>
                    <a:pt x="280" y="799"/>
                    <a:pt x="349" y="811"/>
                  </a:cubicBezTo>
                  <a:cubicBezTo>
                    <a:pt x="412" y="798"/>
                    <a:pt x="387" y="798"/>
                    <a:pt x="478" y="819"/>
                  </a:cubicBezTo>
                  <a:cubicBezTo>
                    <a:pt x="493" y="823"/>
                    <a:pt x="536" y="843"/>
                    <a:pt x="523" y="834"/>
                  </a:cubicBezTo>
                  <a:cubicBezTo>
                    <a:pt x="410" y="761"/>
                    <a:pt x="539" y="805"/>
                    <a:pt x="728" y="811"/>
                  </a:cubicBezTo>
                  <a:cubicBezTo>
                    <a:pt x="821" y="845"/>
                    <a:pt x="687" y="803"/>
                    <a:pt x="743" y="796"/>
                  </a:cubicBezTo>
                  <a:cubicBezTo>
                    <a:pt x="828" y="785"/>
                    <a:pt x="915" y="791"/>
                    <a:pt x="1001" y="788"/>
                  </a:cubicBezTo>
                  <a:cubicBezTo>
                    <a:pt x="993" y="786"/>
                    <a:pt x="978" y="789"/>
                    <a:pt x="978" y="781"/>
                  </a:cubicBezTo>
                  <a:cubicBezTo>
                    <a:pt x="978" y="772"/>
                    <a:pt x="992" y="768"/>
                    <a:pt x="1001" y="766"/>
                  </a:cubicBezTo>
                  <a:cubicBezTo>
                    <a:pt x="1033" y="760"/>
                    <a:pt x="1066" y="761"/>
                    <a:pt x="1099" y="758"/>
                  </a:cubicBezTo>
                  <a:cubicBezTo>
                    <a:pt x="1170" y="723"/>
                    <a:pt x="1110" y="748"/>
                    <a:pt x="1258" y="735"/>
                  </a:cubicBezTo>
                  <a:cubicBezTo>
                    <a:pt x="1355" y="727"/>
                    <a:pt x="1448" y="717"/>
                    <a:pt x="1546" y="713"/>
                  </a:cubicBezTo>
                  <a:cubicBezTo>
                    <a:pt x="1583" y="715"/>
                    <a:pt x="1667" y="739"/>
                    <a:pt x="1705" y="713"/>
                  </a:cubicBezTo>
                  <a:cubicBezTo>
                    <a:pt x="1747" y="721"/>
                    <a:pt x="1754" y="736"/>
                    <a:pt x="1789" y="713"/>
                  </a:cubicBezTo>
                  <a:cubicBezTo>
                    <a:pt x="1844" y="729"/>
                    <a:pt x="1875" y="720"/>
                    <a:pt x="1933" y="728"/>
                  </a:cubicBezTo>
                  <a:cubicBezTo>
                    <a:pt x="1951" y="734"/>
                    <a:pt x="1967" y="748"/>
                    <a:pt x="1986" y="750"/>
                  </a:cubicBezTo>
                  <a:cubicBezTo>
                    <a:pt x="1989" y="750"/>
                    <a:pt x="2043" y="736"/>
                    <a:pt x="2046" y="735"/>
                  </a:cubicBezTo>
                  <a:cubicBezTo>
                    <a:pt x="2088" y="741"/>
                    <a:pt x="2128" y="744"/>
                    <a:pt x="2168" y="758"/>
                  </a:cubicBezTo>
                  <a:cubicBezTo>
                    <a:pt x="2178" y="755"/>
                    <a:pt x="2195" y="760"/>
                    <a:pt x="2198" y="750"/>
                  </a:cubicBezTo>
                  <a:cubicBezTo>
                    <a:pt x="2201" y="741"/>
                    <a:pt x="2183" y="740"/>
                    <a:pt x="2175" y="735"/>
                  </a:cubicBezTo>
                  <a:cubicBezTo>
                    <a:pt x="2165" y="729"/>
                    <a:pt x="2155" y="725"/>
                    <a:pt x="2145" y="720"/>
                  </a:cubicBezTo>
                  <a:cubicBezTo>
                    <a:pt x="2188" y="712"/>
                    <a:pt x="2222" y="720"/>
                    <a:pt x="2266" y="713"/>
                  </a:cubicBezTo>
                  <a:cubicBezTo>
                    <a:pt x="2271" y="708"/>
                    <a:pt x="2274" y="698"/>
                    <a:pt x="2281" y="697"/>
                  </a:cubicBezTo>
                  <a:cubicBezTo>
                    <a:pt x="2343" y="692"/>
                    <a:pt x="2354" y="714"/>
                    <a:pt x="2403" y="720"/>
                  </a:cubicBezTo>
                  <a:cubicBezTo>
                    <a:pt x="2436" y="724"/>
                    <a:pt x="2468" y="725"/>
                    <a:pt x="2501" y="728"/>
                  </a:cubicBezTo>
                  <a:cubicBezTo>
                    <a:pt x="2554" y="744"/>
                    <a:pt x="2592" y="750"/>
                    <a:pt x="2638" y="720"/>
                  </a:cubicBezTo>
                  <a:cubicBezTo>
                    <a:pt x="2652" y="723"/>
                    <a:pt x="2699" y="739"/>
                    <a:pt x="2713" y="720"/>
                  </a:cubicBezTo>
                  <a:cubicBezTo>
                    <a:pt x="2718" y="713"/>
                    <a:pt x="2689" y="699"/>
                    <a:pt x="2698" y="697"/>
                  </a:cubicBezTo>
                  <a:cubicBezTo>
                    <a:pt x="2723" y="691"/>
                    <a:pt x="2749" y="702"/>
                    <a:pt x="2774" y="705"/>
                  </a:cubicBezTo>
                  <a:cubicBezTo>
                    <a:pt x="2823" y="718"/>
                    <a:pt x="2799" y="703"/>
                    <a:pt x="2842" y="690"/>
                  </a:cubicBezTo>
                  <a:cubicBezTo>
                    <a:pt x="3038" y="700"/>
                    <a:pt x="2939" y="688"/>
                    <a:pt x="3085" y="675"/>
                  </a:cubicBezTo>
                  <a:cubicBezTo>
                    <a:pt x="3082" y="667"/>
                    <a:pt x="3070" y="657"/>
                    <a:pt x="3077" y="652"/>
                  </a:cubicBezTo>
                  <a:cubicBezTo>
                    <a:pt x="3092" y="642"/>
                    <a:pt x="3114" y="653"/>
                    <a:pt x="3130" y="644"/>
                  </a:cubicBezTo>
                  <a:cubicBezTo>
                    <a:pt x="3140" y="639"/>
                    <a:pt x="3137" y="622"/>
                    <a:pt x="3145" y="614"/>
                  </a:cubicBezTo>
                  <a:cubicBezTo>
                    <a:pt x="3155" y="604"/>
                    <a:pt x="3208" y="587"/>
                    <a:pt x="3221" y="584"/>
                  </a:cubicBezTo>
                  <a:cubicBezTo>
                    <a:pt x="3181" y="523"/>
                    <a:pt x="3218" y="597"/>
                    <a:pt x="3229" y="546"/>
                  </a:cubicBezTo>
                  <a:cubicBezTo>
                    <a:pt x="3233" y="526"/>
                    <a:pt x="3183" y="498"/>
                    <a:pt x="3168" y="493"/>
                  </a:cubicBezTo>
                  <a:cubicBezTo>
                    <a:pt x="3176" y="488"/>
                    <a:pt x="3191" y="487"/>
                    <a:pt x="3191" y="478"/>
                  </a:cubicBezTo>
                  <a:cubicBezTo>
                    <a:pt x="3191" y="432"/>
                    <a:pt x="3138" y="456"/>
                    <a:pt x="3191" y="440"/>
                  </a:cubicBezTo>
                  <a:cubicBezTo>
                    <a:pt x="3165" y="427"/>
                    <a:pt x="3150" y="410"/>
                    <a:pt x="3123" y="402"/>
                  </a:cubicBezTo>
                  <a:cubicBezTo>
                    <a:pt x="3092" y="373"/>
                    <a:pt x="3058" y="347"/>
                    <a:pt x="3017" y="334"/>
                  </a:cubicBezTo>
                  <a:cubicBezTo>
                    <a:pt x="2982" y="299"/>
                    <a:pt x="2919" y="296"/>
                    <a:pt x="2873" y="281"/>
                  </a:cubicBezTo>
                  <a:cubicBezTo>
                    <a:pt x="2917" y="265"/>
                    <a:pt x="2896" y="252"/>
                    <a:pt x="2865" y="243"/>
                  </a:cubicBezTo>
                  <a:cubicBezTo>
                    <a:pt x="2873" y="240"/>
                    <a:pt x="2888" y="243"/>
                    <a:pt x="2888" y="235"/>
                  </a:cubicBezTo>
                  <a:cubicBezTo>
                    <a:pt x="2888" y="227"/>
                    <a:pt x="2873" y="229"/>
                    <a:pt x="2865" y="227"/>
                  </a:cubicBezTo>
                  <a:cubicBezTo>
                    <a:pt x="2823" y="217"/>
                    <a:pt x="2786" y="200"/>
                    <a:pt x="2744" y="190"/>
                  </a:cubicBezTo>
                  <a:cubicBezTo>
                    <a:pt x="2711" y="140"/>
                    <a:pt x="2669" y="141"/>
                    <a:pt x="2615" y="121"/>
                  </a:cubicBezTo>
                  <a:cubicBezTo>
                    <a:pt x="2607" y="118"/>
                    <a:pt x="2630" y="126"/>
                    <a:pt x="2638" y="129"/>
                  </a:cubicBezTo>
                  <a:cubicBezTo>
                    <a:pt x="2647" y="132"/>
                    <a:pt x="2623" y="119"/>
                    <a:pt x="2615" y="114"/>
                  </a:cubicBezTo>
                  <a:cubicBezTo>
                    <a:pt x="2586" y="98"/>
                    <a:pt x="2588" y="106"/>
                    <a:pt x="2569" y="83"/>
                  </a:cubicBezTo>
                  <a:cubicBezTo>
                    <a:pt x="2529" y="35"/>
                    <a:pt x="2502" y="31"/>
                    <a:pt x="2456" y="0"/>
                  </a:cubicBezTo>
                  <a:cubicBezTo>
                    <a:pt x="2458" y="15"/>
                    <a:pt x="2463" y="30"/>
                    <a:pt x="2463" y="46"/>
                  </a:cubicBezTo>
                  <a:cubicBezTo>
                    <a:pt x="2463" y="54"/>
                    <a:pt x="2454" y="61"/>
                    <a:pt x="2456" y="68"/>
                  </a:cubicBezTo>
                  <a:cubicBezTo>
                    <a:pt x="2457" y="72"/>
                    <a:pt x="2488" y="100"/>
                    <a:pt x="2494" y="106"/>
                  </a:cubicBezTo>
                  <a:cubicBezTo>
                    <a:pt x="2496" y="114"/>
                    <a:pt x="2505" y="122"/>
                    <a:pt x="2501" y="129"/>
                  </a:cubicBezTo>
                  <a:cubicBezTo>
                    <a:pt x="2487" y="156"/>
                    <a:pt x="2469" y="128"/>
                    <a:pt x="2463" y="121"/>
                  </a:cubicBezTo>
                  <a:cubicBezTo>
                    <a:pt x="2423" y="164"/>
                    <a:pt x="2470" y="154"/>
                    <a:pt x="2395" y="167"/>
                  </a:cubicBezTo>
                  <a:cubicBezTo>
                    <a:pt x="2409" y="208"/>
                    <a:pt x="2387" y="195"/>
                    <a:pt x="2350" y="205"/>
                  </a:cubicBezTo>
                  <a:cubicBezTo>
                    <a:pt x="2345" y="210"/>
                    <a:pt x="2341" y="218"/>
                    <a:pt x="2334" y="220"/>
                  </a:cubicBezTo>
                  <a:cubicBezTo>
                    <a:pt x="2310" y="226"/>
                    <a:pt x="2275" y="208"/>
                    <a:pt x="2259" y="227"/>
                  </a:cubicBezTo>
                  <a:cubicBezTo>
                    <a:pt x="2247" y="241"/>
                    <a:pt x="2289" y="273"/>
                    <a:pt x="2289" y="273"/>
                  </a:cubicBezTo>
                  <a:cubicBezTo>
                    <a:pt x="2286" y="288"/>
                    <a:pt x="2292" y="307"/>
                    <a:pt x="2281" y="318"/>
                  </a:cubicBezTo>
                  <a:cubicBezTo>
                    <a:pt x="2270" y="329"/>
                    <a:pt x="2250" y="321"/>
                    <a:pt x="2236" y="326"/>
                  </a:cubicBezTo>
                  <a:cubicBezTo>
                    <a:pt x="2227" y="329"/>
                    <a:pt x="2222" y="338"/>
                    <a:pt x="2213" y="341"/>
                  </a:cubicBezTo>
                  <a:cubicBezTo>
                    <a:pt x="2196" y="346"/>
                    <a:pt x="2178" y="346"/>
                    <a:pt x="2160" y="349"/>
                  </a:cubicBezTo>
                  <a:cubicBezTo>
                    <a:pt x="2097" y="336"/>
                    <a:pt x="2117" y="323"/>
                    <a:pt x="2046" y="334"/>
                  </a:cubicBezTo>
                  <a:cubicBezTo>
                    <a:pt x="1987" y="353"/>
                    <a:pt x="2057" y="324"/>
                    <a:pt x="2016" y="364"/>
                  </a:cubicBezTo>
                  <a:cubicBezTo>
                    <a:pt x="2003" y="377"/>
                    <a:pt x="1981" y="374"/>
                    <a:pt x="1963" y="379"/>
                  </a:cubicBezTo>
                  <a:cubicBezTo>
                    <a:pt x="1914" y="428"/>
                    <a:pt x="1896" y="408"/>
                    <a:pt x="1811" y="402"/>
                  </a:cubicBezTo>
                  <a:cubicBezTo>
                    <a:pt x="1761" y="368"/>
                    <a:pt x="1734" y="381"/>
                    <a:pt x="1667" y="387"/>
                  </a:cubicBezTo>
                  <a:cubicBezTo>
                    <a:pt x="1626" y="408"/>
                    <a:pt x="1490" y="400"/>
                    <a:pt x="1463" y="402"/>
                  </a:cubicBezTo>
                  <a:cubicBezTo>
                    <a:pt x="1471" y="404"/>
                    <a:pt x="1486" y="417"/>
                    <a:pt x="1486" y="409"/>
                  </a:cubicBezTo>
                  <a:cubicBezTo>
                    <a:pt x="1486" y="400"/>
                    <a:pt x="1472" y="397"/>
                    <a:pt x="1463" y="394"/>
                  </a:cubicBezTo>
                  <a:cubicBezTo>
                    <a:pt x="1436" y="384"/>
                    <a:pt x="1407" y="380"/>
                    <a:pt x="1379" y="371"/>
                  </a:cubicBezTo>
                  <a:cubicBezTo>
                    <a:pt x="1364" y="366"/>
                    <a:pt x="1334" y="356"/>
                    <a:pt x="1334" y="356"/>
                  </a:cubicBezTo>
                  <a:cubicBezTo>
                    <a:pt x="1288" y="364"/>
                    <a:pt x="1258" y="359"/>
                    <a:pt x="1213" y="349"/>
                  </a:cubicBezTo>
                  <a:cubicBezTo>
                    <a:pt x="1157" y="362"/>
                    <a:pt x="1178" y="338"/>
                    <a:pt x="1129" y="326"/>
                  </a:cubicBezTo>
                  <a:cubicBezTo>
                    <a:pt x="1109" y="321"/>
                    <a:pt x="1089" y="321"/>
                    <a:pt x="1069" y="318"/>
                  </a:cubicBezTo>
                  <a:cubicBezTo>
                    <a:pt x="1061" y="316"/>
                    <a:pt x="1050" y="304"/>
                    <a:pt x="1046" y="311"/>
                  </a:cubicBezTo>
                  <a:cubicBezTo>
                    <a:pt x="1042" y="319"/>
                    <a:pt x="1070" y="333"/>
                    <a:pt x="1061" y="334"/>
                  </a:cubicBezTo>
                  <a:cubicBezTo>
                    <a:pt x="1035" y="337"/>
                    <a:pt x="985" y="318"/>
                    <a:pt x="985" y="318"/>
                  </a:cubicBezTo>
                  <a:cubicBezTo>
                    <a:pt x="907" y="346"/>
                    <a:pt x="956" y="333"/>
                    <a:pt x="834" y="341"/>
                  </a:cubicBezTo>
                  <a:cubicBezTo>
                    <a:pt x="821" y="346"/>
                    <a:pt x="809" y="354"/>
                    <a:pt x="796" y="356"/>
                  </a:cubicBezTo>
                  <a:cubicBezTo>
                    <a:pt x="680" y="373"/>
                    <a:pt x="634" y="344"/>
                    <a:pt x="705" y="379"/>
                  </a:cubicBezTo>
                  <a:cubicBezTo>
                    <a:pt x="647" y="399"/>
                    <a:pt x="706" y="370"/>
                    <a:pt x="697" y="409"/>
                  </a:cubicBezTo>
                  <a:cubicBezTo>
                    <a:pt x="695" y="417"/>
                    <a:pt x="682" y="415"/>
                    <a:pt x="675" y="417"/>
                  </a:cubicBezTo>
                  <a:cubicBezTo>
                    <a:pt x="665" y="420"/>
                    <a:pt x="654" y="422"/>
                    <a:pt x="644" y="425"/>
                  </a:cubicBezTo>
                  <a:cubicBezTo>
                    <a:pt x="647" y="432"/>
                    <a:pt x="659" y="444"/>
                    <a:pt x="652" y="447"/>
                  </a:cubicBezTo>
                  <a:cubicBezTo>
                    <a:pt x="632" y="455"/>
                    <a:pt x="560" y="429"/>
                    <a:pt x="538" y="425"/>
                  </a:cubicBezTo>
                  <a:cubicBezTo>
                    <a:pt x="489" y="373"/>
                    <a:pt x="368" y="364"/>
                    <a:pt x="303" y="356"/>
                  </a:cubicBezTo>
                  <a:cubicBezTo>
                    <a:pt x="268" y="345"/>
                    <a:pt x="277" y="360"/>
                    <a:pt x="243" y="371"/>
                  </a:cubicBezTo>
                  <a:cubicBezTo>
                    <a:pt x="234" y="413"/>
                    <a:pt x="216" y="454"/>
                    <a:pt x="197" y="493"/>
                  </a:cubicBezTo>
                  <a:cubicBezTo>
                    <a:pt x="177" y="577"/>
                    <a:pt x="124" y="624"/>
                    <a:pt x="53" y="667"/>
                  </a:cubicBezTo>
                  <a:cubicBezTo>
                    <a:pt x="32" y="710"/>
                    <a:pt x="40" y="747"/>
                    <a:pt x="0" y="773"/>
                  </a:cubicBezTo>
                  <a:cubicBezTo>
                    <a:pt x="57" y="785"/>
                    <a:pt x="308" y="845"/>
                    <a:pt x="235" y="781"/>
                  </a:cubicBez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53"/>
            <p:cNvSpPr/>
            <p:nvPr/>
          </p:nvSpPr>
          <p:spPr>
            <a:xfrm>
              <a:off x="5221440" y="4646520"/>
              <a:ext cx="2190600" cy="847800"/>
            </a:xfrm>
            <a:custGeom>
              <a:avLst/>
              <a:gdLst/>
              <a:ahLst/>
              <a:rect l="l" t="t" r="r" b="b"/>
              <a:pathLst>
                <a:path w="1380" h="534">
                  <a:moveTo>
                    <a:pt x="326" y="317"/>
                  </a:moveTo>
                  <a:cubicBezTo>
                    <a:pt x="347" y="285"/>
                    <a:pt x="350" y="249"/>
                    <a:pt x="372" y="218"/>
                  </a:cubicBezTo>
                  <a:cubicBezTo>
                    <a:pt x="377" y="195"/>
                    <a:pt x="368" y="164"/>
                    <a:pt x="387" y="150"/>
                  </a:cubicBezTo>
                  <a:cubicBezTo>
                    <a:pt x="394" y="145"/>
                    <a:pt x="402" y="160"/>
                    <a:pt x="410" y="165"/>
                  </a:cubicBezTo>
                  <a:cubicBezTo>
                    <a:pt x="459" y="132"/>
                    <a:pt x="414" y="114"/>
                    <a:pt x="470" y="142"/>
                  </a:cubicBezTo>
                  <a:cubicBezTo>
                    <a:pt x="473" y="150"/>
                    <a:pt x="470" y="165"/>
                    <a:pt x="478" y="165"/>
                  </a:cubicBezTo>
                  <a:cubicBezTo>
                    <a:pt x="487" y="165"/>
                    <a:pt x="491" y="151"/>
                    <a:pt x="493" y="142"/>
                  </a:cubicBezTo>
                  <a:cubicBezTo>
                    <a:pt x="498" y="120"/>
                    <a:pt x="498" y="97"/>
                    <a:pt x="500" y="74"/>
                  </a:cubicBezTo>
                  <a:cubicBezTo>
                    <a:pt x="530" y="85"/>
                    <a:pt x="543" y="97"/>
                    <a:pt x="554" y="127"/>
                  </a:cubicBezTo>
                  <a:cubicBezTo>
                    <a:pt x="561" y="34"/>
                    <a:pt x="548" y="0"/>
                    <a:pt x="607" y="59"/>
                  </a:cubicBezTo>
                  <a:cubicBezTo>
                    <a:pt x="609" y="67"/>
                    <a:pt x="606" y="82"/>
                    <a:pt x="614" y="82"/>
                  </a:cubicBezTo>
                  <a:cubicBezTo>
                    <a:pt x="623" y="82"/>
                    <a:pt x="626" y="68"/>
                    <a:pt x="629" y="59"/>
                  </a:cubicBezTo>
                  <a:cubicBezTo>
                    <a:pt x="634" y="42"/>
                    <a:pt x="634" y="24"/>
                    <a:pt x="637" y="6"/>
                  </a:cubicBezTo>
                  <a:cubicBezTo>
                    <a:pt x="702" y="29"/>
                    <a:pt x="695" y="83"/>
                    <a:pt x="751" y="120"/>
                  </a:cubicBezTo>
                  <a:cubicBezTo>
                    <a:pt x="756" y="135"/>
                    <a:pt x="761" y="150"/>
                    <a:pt x="766" y="165"/>
                  </a:cubicBezTo>
                  <a:cubicBezTo>
                    <a:pt x="770" y="177"/>
                    <a:pt x="762" y="196"/>
                    <a:pt x="773" y="203"/>
                  </a:cubicBezTo>
                  <a:cubicBezTo>
                    <a:pt x="793" y="215"/>
                    <a:pt x="819" y="208"/>
                    <a:pt x="842" y="211"/>
                  </a:cubicBezTo>
                  <a:cubicBezTo>
                    <a:pt x="888" y="217"/>
                    <a:pt x="922" y="228"/>
                    <a:pt x="970" y="233"/>
                  </a:cubicBezTo>
                  <a:cubicBezTo>
                    <a:pt x="999" y="243"/>
                    <a:pt x="1026" y="251"/>
                    <a:pt x="1054" y="264"/>
                  </a:cubicBezTo>
                  <a:cubicBezTo>
                    <a:pt x="1023" y="350"/>
                    <a:pt x="1037" y="331"/>
                    <a:pt x="1145" y="340"/>
                  </a:cubicBezTo>
                  <a:cubicBezTo>
                    <a:pt x="1220" y="364"/>
                    <a:pt x="1303" y="358"/>
                    <a:pt x="1380" y="370"/>
                  </a:cubicBezTo>
                  <a:cubicBezTo>
                    <a:pt x="1340" y="407"/>
                    <a:pt x="1278" y="359"/>
                    <a:pt x="1258" y="415"/>
                  </a:cubicBezTo>
                  <a:cubicBezTo>
                    <a:pt x="1278" y="434"/>
                    <a:pt x="1293" y="445"/>
                    <a:pt x="1319" y="453"/>
                  </a:cubicBezTo>
                  <a:cubicBezTo>
                    <a:pt x="1260" y="469"/>
                    <a:pt x="1073" y="439"/>
                    <a:pt x="1175" y="506"/>
                  </a:cubicBezTo>
                  <a:cubicBezTo>
                    <a:pt x="1131" y="534"/>
                    <a:pt x="1087" y="516"/>
                    <a:pt x="1039" y="506"/>
                  </a:cubicBezTo>
                  <a:cubicBezTo>
                    <a:pt x="952" y="487"/>
                    <a:pt x="867" y="472"/>
                    <a:pt x="781" y="446"/>
                  </a:cubicBezTo>
                  <a:cubicBezTo>
                    <a:pt x="713" y="467"/>
                    <a:pt x="637" y="436"/>
                    <a:pt x="576" y="476"/>
                  </a:cubicBezTo>
                  <a:cubicBezTo>
                    <a:pt x="514" y="460"/>
                    <a:pt x="463" y="427"/>
                    <a:pt x="402" y="408"/>
                  </a:cubicBezTo>
                  <a:cubicBezTo>
                    <a:pt x="346" y="352"/>
                    <a:pt x="279" y="349"/>
                    <a:pt x="205" y="332"/>
                  </a:cubicBezTo>
                  <a:cubicBezTo>
                    <a:pt x="179" y="326"/>
                    <a:pt x="155" y="315"/>
                    <a:pt x="129" y="309"/>
                  </a:cubicBezTo>
                  <a:cubicBezTo>
                    <a:pt x="94" y="300"/>
                    <a:pt x="76" y="299"/>
                    <a:pt x="46" y="279"/>
                  </a:cubicBezTo>
                  <a:cubicBezTo>
                    <a:pt x="51" y="271"/>
                    <a:pt x="66" y="264"/>
                    <a:pt x="61" y="256"/>
                  </a:cubicBezTo>
                  <a:cubicBezTo>
                    <a:pt x="52" y="240"/>
                    <a:pt x="15" y="226"/>
                    <a:pt x="15" y="226"/>
                  </a:cubicBezTo>
                  <a:cubicBezTo>
                    <a:pt x="23" y="223"/>
                    <a:pt x="36" y="226"/>
                    <a:pt x="38" y="218"/>
                  </a:cubicBezTo>
                  <a:cubicBezTo>
                    <a:pt x="42" y="205"/>
                    <a:pt x="5" y="184"/>
                    <a:pt x="0" y="180"/>
                  </a:cubicBezTo>
                  <a:cubicBezTo>
                    <a:pt x="37" y="169"/>
                    <a:pt x="69" y="180"/>
                    <a:pt x="106" y="188"/>
                  </a:cubicBezTo>
                  <a:cubicBezTo>
                    <a:pt x="111" y="193"/>
                    <a:pt x="122" y="196"/>
                    <a:pt x="122" y="203"/>
                  </a:cubicBezTo>
                  <a:cubicBezTo>
                    <a:pt x="122" y="210"/>
                    <a:pt x="102" y="212"/>
                    <a:pt x="106" y="218"/>
                  </a:cubicBezTo>
                  <a:cubicBezTo>
                    <a:pt x="112" y="227"/>
                    <a:pt x="127" y="222"/>
                    <a:pt x="137" y="226"/>
                  </a:cubicBezTo>
                  <a:cubicBezTo>
                    <a:pt x="209" y="253"/>
                    <a:pt x="121" y="231"/>
                    <a:pt x="205" y="249"/>
                  </a:cubicBezTo>
                  <a:cubicBezTo>
                    <a:pt x="244" y="306"/>
                    <a:pt x="293" y="289"/>
                    <a:pt x="364" y="294"/>
                  </a:cubicBezTo>
                  <a:cubicBezTo>
                    <a:pt x="402" y="281"/>
                    <a:pt x="387" y="293"/>
                    <a:pt x="364" y="271"/>
                  </a:cubicBezTo>
                  <a:cubicBezTo>
                    <a:pt x="358" y="265"/>
                    <a:pt x="354" y="256"/>
                    <a:pt x="349" y="249"/>
                  </a:cubicBezTo>
                  <a:cubicBezTo>
                    <a:pt x="354" y="244"/>
                    <a:pt x="360" y="239"/>
                    <a:pt x="364" y="233"/>
                  </a:cubicBezTo>
                  <a:cubicBezTo>
                    <a:pt x="368" y="226"/>
                    <a:pt x="367" y="217"/>
                    <a:pt x="372" y="211"/>
                  </a:cubicBezTo>
                  <a:cubicBezTo>
                    <a:pt x="403" y="173"/>
                    <a:pt x="394" y="224"/>
                    <a:pt x="394" y="165"/>
                  </a:cubicBezTo>
                  <a:lnTo>
                    <a:pt x="326" y="317"/>
                  </a:ln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95"/>
            <p:cNvSpPr/>
            <p:nvPr/>
          </p:nvSpPr>
          <p:spPr>
            <a:xfrm>
              <a:off x="6172200" y="5183280"/>
              <a:ext cx="709560" cy="326880"/>
            </a:xfrm>
            <a:custGeom>
              <a:avLst/>
              <a:gdLst/>
              <a:ahLst/>
              <a:rect l="l" t="t" r="r" b="b"/>
              <a:pathLst>
                <a:path w="447" h="206">
                  <a:moveTo>
                    <a:pt x="447" y="176"/>
                  </a:moveTo>
                  <a:cubicBezTo>
                    <a:pt x="422" y="167"/>
                    <a:pt x="404" y="154"/>
                    <a:pt x="379" y="146"/>
                  </a:cubicBezTo>
                  <a:cubicBezTo>
                    <a:pt x="354" y="129"/>
                    <a:pt x="347" y="110"/>
                    <a:pt x="318" y="100"/>
                  </a:cubicBezTo>
                  <a:cubicBezTo>
                    <a:pt x="288" y="53"/>
                    <a:pt x="266" y="48"/>
                    <a:pt x="212" y="39"/>
                  </a:cubicBezTo>
                  <a:cubicBezTo>
                    <a:pt x="178" y="6"/>
                    <a:pt x="183" y="0"/>
                    <a:pt x="114" y="24"/>
                  </a:cubicBezTo>
                  <a:cubicBezTo>
                    <a:pt x="93" y="31"/>
                    <a:pt x="61" y="62"/>
                    <a:pt x="61" y="62"/>
                  </a:cubicBezTo>
                  <a:cubicBezTo>
                    <a:pt x="39" y="94"/>
                    <a:pt x="13" y="107"/>
                    <a:pt x="0" y="146"/>
                  </a:cubicBezTo>
                  <a:cubicBezTo>
                    <a:pt x="52" y="162"/>
                    <a:pt x="87" y="170"/>
                    <a:pt x="144" y="176"/>
                  </a:cubicBezTo>
                  <a:cubicBezTo>
                    <a:pt x="207" y="195"/>
                    <a:pt x="128" y="176"/>
                    <a:pt x="189" y="176"/>
                  </a:cubicBezTo>
                  <a:cubicBezTo>
                    <a:pt x="245" y="176"/>
                    <a:pt x="300" y="187"/>
                    <a:pt x="356" y="191"/>
                  </a:cubicBezTo>
                  <a:cubicBezTo>
                    <a:pt x="395" y="204"/>
                    <a:pt x="403" y="206"/>
                    <a:pt x="447" y="199"/>
                  </a:cubicBezTo>
                  <a:cubicBezTo>
                    <a:pt x="439" y="174"/>
                    <a:pt x="432" y="176"/>
                    <a:pt x="447" y="176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92"/>
            <p:cNvSpPr/>
            <p:nvPr/>
          </p:nvSpPr>
          <p:spPr>
            <a:xfrm>
              <a:off x="6934320" y="5100480"/>
              <a:ext cx="1371600" cy="514440"/>
            </a:xfrm>
            <a:custGeom>
              <a:avLst/>
              <a:gdLst/>
              <a:ahLst/>
              <a:rect l="l" t="t" r="r" b="b"/>
              <a:pathLst>
                <a:path w="864" h="324">
                  <a:moveTo>
                    <a:pt x="30" y="235"/>
                  </a:moveTo>
                  <a:cubicBezTo>
                    <a:pt x="46" y="192"/>
                    <a:pt x="84" y="203"/>
                    <a:pt x="129" y="198"/>
                  </a:cubicBezTo>
                  <a:cubicBezTo>
                    <a:pt x="156" y="170"/>
                    <a:pt x="154" y="153"/>
                    <a:pt x="190" y="129"/>
                  </a:cubicBezTo>
                  <a:cubicBezTo>
                    <a:pt x="213" y="95"/>
                    <a:pt x="225" y="72"/>
                    <a:pt x="265" y="61"/>
                  </a:cubicBezTo>
                  <a:cubicBezTo>
                    <a:pt x="293" y="35"/>
                    <a:pt x="312" y="13"/>
                    <a:pt x="349" y="0"/>
                  </a:cubicBezTo>
                  <a:cubicBezTo>
                    <a:pt x="369" y="4"/>
                    <a:pt x="394" y="5"/>
                    <a:pt x="409" y="23"/>
                  </a:cubicBezTo>
                  <a:cubicBezTo>
                    <a:pt x="449" y="73"/>
                    <a:pt x="378" y="20"/>
                    <a:pt x="440" y="61"/>
                  </a:cubicBezTo>
                  <a:cubicBezTo>
                    <a:pt x="532" y="54"/>
                    <a:pt x="613" y="62"/>
                    <a:pt x="705" y="69"/>
                  </a:cubicBezTo>
                  <a:cubicBezTo>
                    <a:pt x="719" y="89"/>
                    <a:pt x="739" y="107"/>
                    <a:pt x="750" y="129"/>
                  </a:cubicBezTo>
                  <a:cubicBezTo>
                    <a:pt x="756" y="140"/>
                    <a:pt x="760" y="168"/>
                    <a:pt x="773" y="175"/>
                  </a:cubicBezTo>
                  <a:cubicBezTo>
                    <a:pt x="787" y="182"/>
                    <a:pt x="804" y="180"/>
                    <a:pt x="819" y="182"/>
                  </a:cubicBezTo>
                  <a:cubicBezTo>
                    <a:pt x="838" y="203"/>
                    <a:pt x="855" y="207"/>
                    <a:pt x="864" y="235"/>
                  </a:cubicBezTo>
                  <a:cubicBezTo>
                    <a:pt x="834" y="267"/>
                    <a:pt x="672" y="278"/>
                    <a:pt x="637" y="281"/>
                  </a:cubicBezTo>
                  <a:cubicBezTo>
                    <a:pt x="571" y="324"/>
                    <a:pt x="486" y="283"/>
                    <a:pt x="409" y="296"/>
                  </a:cubicBezTo>
                  <a:cubicBezTo>
                    <a:pt x="362" y="313"/>
                    <a:pt x="310" y="274"/>
                    <a:pt x="265" y="258"/>
                  </a:cubicBezTo>
                  <a:cubicBezTo>
                    <a:pt x="221" y="262"/>
                    <a:pt x="146" y="274"/>
                    <a:pt x="99" y="258"/>
                  </a:cubicBezTo>
                  <a:cubicBezTo>
                    <a:pt x="0" y="224"/>
                    <a:pt x="179" y="235"/>
                    <a:pt x="30" y="235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51"/>
            <p:cNvSpPr/>
            <p:nvPr/>
          </p:nvSpPr>
          <p:spPr>
            <a:xfrm>
              <a:off x="5029200" y="5791320"/>
              <a:ext cx="4343400" cy="914400"/>
            </a:xfrm>
            <a:custGeom>
              <a:avLst/>
              <a:gdLst/>
              <a:ahLst/>
              <a:rect l="l" t="t" r="r" b="b"/>
              <a:pathLst>
                <a:path w="2736" h="576">
                  <a:moveTo>
                    <a:pt x="192" y="0"/>
                  </a:moveTo>
                  <a:lnTo>
                    <a:pt x="0" y="96"/>
                  </a:lnTo>
                  <a:lnTo>
                    <a:pt x="48" y="144"/>
                  </a:lnTo>
                  <a:lnTo>
                    <a:pt x="288" y="240"/>
                  </a:lnTo>
                  <a:lnTo>
                    <a:pt x="816" y="480"/>
                  </a:lnTo>
                  <a:lnTo>
                    <a:pt x="1344" y="576"/>
                  </a:lnTo>
                  <a:lnTo>
                    <a:pt x="1872" y="576"/>
                  </a:lnTo>
                  <a:lnTo>
                    <a:pt x="2256" y="480"/>
                  </a:lnTo>
                  <a:lnTo>
                    <a:pt x="2736" y="432"/>
                  </a:lnTo>
                  <a:lnTo>
                    <a:pt x="2592" y="240"/>
                  </a:lnTo>
                  <a:lnTo>
                    <a:pt x="2304" y="288"/>
                  </a:lnTo>
                  <a:lnTo>
                    <a:pt x="1632" y="384"/>
                  </a:lnTo>
                  <a:lnTo>
                    <a:pt x="1152" y="336"/>
                  </a:lnTo>
                  <a:lnTo>
                    <a:pt x="576" y="9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53"/>
            <p:cNvSpPr/>
            <p:nvPr/>
          </p:nvSpPr>
          <p:spPr>
            <a:xfrm>
              <a:off x="7623000" y="6405480"/>
              <a:ext cx="1297080" cy="311400"/>
            </a:xfrm>
            <a:custGeom>
              <a:avLst/>
              <a:gdLst/>
              <a:ahLst/>
              <a:rect l="l" t="t" r="r" b="b"/>
              <a:pathLst>
                <a:path w="817" h="196">
                  <a:moveTo>
                    <a:pt x="374" y="126"/>
                  </a:moveTo>
                  <a:cubicBezTo>
                    <a:pt x="416" y="99"/>
                    <a:pt x="462" y="82"/>
                    <a:pt x="511" y="73"/>
                  </a:cubicBezTo>
                  <a:cubicBezTo>
                    <a:pt x="503" y="68"/>
                    <a:pt x="483" y="65"/>
                    <a:pt x="488" y="58"/>
                  </a:cubicBezTo>
                  <a:cubicBezTo>
                    <a:pt x="494" y="50"/>
                    <a:pt x="550" y="38"/>
                    <a:pt x="564" y="35"/>
                  </a:cubicBezTo>
                  <a:cubicBezTo>
                    <a:pt x="618" y="0"/>
                    <a:pt x="683" y="15"/>
                    <a:pt x="738" y="42"/>
                  </a:cubicBezTo>
                  <a:cubicBezTo>
                    <a:pt x="743" y="47"/>
                    <a:pt x="746" y="55"/>
                    <a:pt x="753" y="58"/>
                  </a:cubicBezTo>
                  <a:cubicBezTo>
                    <a:pt x="762" y="63"/>
                    <a:pt x="780" y="55"/>
                    <a:pt x="784" y="65"/>
                  </a:cubicBezTo>
                  <a:cubicBezTo>
                    <a:pt x="787" y="74"/>
                    <a:pt x="768" y="74"/>
                    <a:pt x="761" y="80"/>
                  </a:cubicBezTo>
                  <a:cubicBezTo>
                    <a:pt x="709" y="123"/>
                    <a:pt x="817" y="91"/>
                    <a:pt x="640" y="103"/>
                  </a:cubicBezTo>
                  <a:cubicBezTo>
                    <a:pt x="695" y="123"/>
                    <a:pt x="644" y="99"/>
                    <a:pt x="640" y="118"/>
                  </a:cubicBezTo>
                  <a:cubicBezTo>
                    <a:pt x="638" y="127"/>
                    <a:pt x="650" y="133"/>
                    <a:pt x="655" y="141"/>
                  </a:cubicBezTo>
                  <a:cubicBezTo>
                    <a:pt x="642" y="146"/>
                    <a:pt x="630" y="152"/>
                    <a:pt x="617" y="156"/>
                  </a:cubicBezTo>
                  <a:cubicBezTo>
                    <a:pt x="568" y="169"/>
                    <a:pt x="558" y="151"/>
                    <a:pt x="587" y="179"/>
                  </a:cubicBezTo>
                  <a:cubicBezTo>
                    <a:pt x="408" y="196"/>
                    <a:pt x="246" y="177"/>
                    <a:pt x="64" y="171"/>
                  </a:cubicBezTo>
                  <a:cubicBezTo>
                    <a:pt x="54" y="166"/>
                    <a:pt x="44" y="160"/>
                    <a:pt x="33" y="156"/>
                  </a:cubicBezTo>
                  <a:cubicBezTo>
                    <a:pt x="7" y="145"/>
                    <a:pt x="0" y="153"/>
                    <a:pt x="33" y="141"/>
                  </a:cubicBezTo>
                  <a:cubicBezTo>
                    <a:pt x="74" y="155"/>
                    <a:pt x="68" y="127"/>
                    <a:pt x="109" y="141"/>
                  </a:cubicBezTo>
                  <a:cubicBezTo>
                    <a:pt x="148" y="131"/>
                    <a:pt x="159" y="125"/>
                    <a:pt x="200" y="133"/>
                  </a:cubicBezTo>
                  <a:cubicBezTo>
                    <a:pt x="249" y="121"/>
                    <a:pt x="242" y="120"/>
                    <a:pt x="314" y="133"/>
                  </a:cubicBezTo>
                  <a:cubicBezTo>
                    <a:pt x="330" y="136"/>
                    <a:pt x="359" y="149"/>
                    <a:pt x="359" y="149"/>
                  </a:cubicBezTo>
                  <a:cubicBezTo>
                    <a:pt x="397" y="139"/>
                    <a:pt x="398" y="148"/>
                    <a:pt x="374" y="126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50"/>
            <p:cNvSpPr/>
            <p:nvPr/>
          </p:nvSpPr>
          <p:spPr>
            <a:xfrm>
              <a:off x="4981680" y="5967360"/>
              <a:ext cx="4467240" cy="1347840"/>
            </a:xfrm>
            <a:custGeom>
              <a:avLst/>
              <a:gdLst/>
              <a:ahLst/>
              <a:rect l="l" t="t" r="r" b="b"/>
              <a:pathLst>
                <a:path w="2814" h="849">
                  <a:moveTo>
                    <a:pt x="91" y="629"/>
                  </a:moveTo>
                  <a:cubicBezTo>
                    <a:pt x="86" y="428"/>
                    <a:pt x="106" y="396"/>
                    <a:pt x="60" y="265"/>
                  </a:cubicBezTo>
                  <a:cubicBezTo>
                    <a:pt x="56" y="225"/>
                    <a:pt x="55" y="196"/>
                    <a:pt x="45" y="159"/>
                  </a:cubicBezTo>
                  <a:cubicBezTo>
                    <a:pt x="31" y="107"/>
                    <a:pt x="0" y="54"/>
                    <a:pt x="0" y="0"/>
                  </a:cubicBezTo>
                  <a:lnTo>
                    <a:pt x="366" y="129"/>
                  </a:lnTo>
                  <a:lnTo>
                    <a:pt x="798" y="321"/>
                  </a:lnTo>
                  <a:lnTo>
                    <a:pt x="1134" y="417"/>
                  </a:lnTo>
                  <a:lnTo>
                    <a:pt x="1422" y="417"/>
                  </a:lnTo>
                  <a:lnTo>
                    <a:pt x="1854" y="465"/>
                  </a:lnTo>
                  <a:lnTo>
                    <a:pt x="2190" y="417"/>
                  </a:lnTo>
                  <a:lnTo>
                    <a:pt x="2574" y="321"/>
                  </a:lnTo>
                  <a:lnTo>
                    <a:pt x="2814" y="273"/>
                  </a:lnTo>
                  <a:lnTo>
                    <a:pt x="2814" y="801"/>
                  </a:lnTo>
                  <a:lnTo>
                    <a:pt x="78" y="849"/>
                  </a:lnTo>
                  <a:lnTo>
                    <a:pt x="91" y="62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52"/>
            <p:cNvSpPr/>
            <p:nvPr/>
          </p:nvSpPr>
          <p:spPr>
            <a:xfrm>
              <a:off x="6100920" y="6119640"/>
              <a:ext cx="2582640" cy="343080"/>
            </a:xfrm>
            <a:custGeom>
              <a:avLst/>
              <a:gdLst/>
              <a:ahLst/>
              <a:rect l="l" t="t" r="r" b="b"/>
              <a:pathLst>
                <a:path w="1627" h="216">
                  <a:moveTo>
                    <a:pt x="629" y="161"/>
                  </a:moveTo>
                  <a:cubicBezTo>
                    <a:pt x="661" y="112"/>
                    <a:pt x="742" y="114"/>
                    <a:pt x="795" y="108"/>
                  </a:cubicBezTo>
                  <a:cubicBezTo>
                    <a:pt x="818" y="85"/>
                    <a:pt x="834" y="73"/>
                    <a:pt x="864" y="62"/>
                  </a:cubicBezTo>
                  <a:cubicBezTo>
                    <a:pt x="894" y="65"/>
                    <a:pt x="924" y="66"/>
                    <a:pt x="954" y="70"/>
                  </a:cubicBezTo>
                  <a:cubicBezTo>
                    <a:pt x="1017" y="79"/>
                    <a:pt x="935" y="76"/>
                    <a:pt x="1000" y="93"/>
                  </a:cubicBezTo>
                  <a:cubicBezTo>
                    <a:pt x="1020" y="98"/>
                    <a:pt x="1041" y="98"/>
                    <a:pt x="1061" y="100"/>
                  </a:cubicBezTo>
                  <a:cubicBezTo>
                    <a:pt x="1225" y="94"/>
                    <a:pt x="1382" y="85"/>
                    <a:pt x="1546" y="93"/>
                  </a:cubicBezTo>
                  <a:cubicBezTo>
                    <a:pt x="1627" y="108"/>
                    <a:pt x="1566" y="92"/>
                    <a:pt x="1546" y="108"/>
                  </a:cubicBezTo>
                  <a:cubicBezTo>
                    <a:pt x="1538" y="115"/>
                    <a:pt x="1548" y="134"/>
                    <a:pt x="1538" y="138"/>
                  </a:cubicBezTo>
                  <a:cubicBezTo>
                    <a:pt x="1512" y="149"/>
                    <a:pt x="1483" y="143"/>
                    <a:pt x="1455" y="146"/>
                  </a:cubicBezTo>
                  <a:cubicBezTo>
                    <a:pt x="1452" y="147"/>
                    <a:pt x="1408" y="155"/>
                    <a:pt x="1402" y="161"/>
                  </a:cubicBezTo>
                  <a:cubicBezTo>
                    <a:pt x="1394" y="169"/>
                    <a:pt x="1396" y="186"/>
                    <a:pt x="1386" y="191"/>
                  </a:cubicBezTo>
                  <a:cubicBezTo>
                    <a:pt x="1353" y="206"/>
                    <a:pt x="1315" y="200"/>
                    <a:pt x="1280" y="206"/>
                  </a:cubicBezTo>
                  <a:cubicBezTo>
                    <a:pt x="1257" y="204"/>
                    <a:pt x="1235" y="197"/>
                    <a:pt x="1212" y="199"/>
                  </a:cubicBezTo>
                  <a:cubicBezTo>
                    <a:pt x="1203" y="200"/>
                    <a:pt x="1198" y="213"/>
                    <a:pt x="1189" y="214"/>
                  </a:cubicBezTo>
                  <a:cubicBezTo>
                    <a:pt x="1171" y="216"/>
                    <a:pt x="1154" y="209"/>
                    <a:pt x="1136" y="206"/>
                  </a:cubicBezTo>
                  <a:cubicBezTo>
                    <a:pt x="1078" y="188"/>
                    <a:pt x="1150" y="206"/>
                    <a:pt x="1091" y="206"/>
                  </a:cubicBezTo>
                  <a:cubicBezTo>
                    <a:pt x="1082" y="206"/>
                    <a:pt x="1054" y="192"/>
                    <a:pt x="1045" y="191"/>
                  </a:cubicBezTo>
                  <a:cubicBezTo>
                    <a:pt x="1015" y="187"/>
                    <a:pt x="984" y="186"/>
                    <a:pt x="954" y="184"/>
                  </a:cubicBezTo>
                  <a:cubicBezTo>
                    <a:pt x="895" y="174"/>
                    <a:pt x="883" y="195"/>
                    <a:pt x="818" y="199"/>
                  </a:cubicBezTo>
                  <a:cubicBezTo>
                    <a:pt x="752" y="203"/>
                    <a:pt x="687" y="204"/>
                    <a:pt x="621" y="206"/>
                  </a:cubicBezTo>
                  <a:cubicBezTo>
                    <a:pt x="591" y="204"/>
                    <a:pt x="558" y="211"/>
                    <a:pt x="530" y="199"/>
                  </a:cubicBezTo>
                  <a:cubicBezTo>
                    <a:pt x="520" y="195"/>
                    <a:pt x="564" y="178"/>
                    <a:pt x="553" y="176"/>
                  </a:cubicBezTo>
                  <a:cubicBezTo>
                    <a:pt x="483" y="165"/>
                    <a:pt x="412" y="171"/>
                    <a:pt x="341" y="169"/>
                  </a:cubicBezTo>
                  <a:cubicBezTo>
                    <a:pt x="366" y="156"/>
                    <a:pt x="389" y="148"/>
                    <a:pt x="416" y="138"/>
                  </a:cubicBezTo>
                  <a:cubicBezTo>
                    <a:pt x="380" y="126"/>
                    <a:pt x="347" y="116"/>
                    <a:pt x="310" y="108"/>
                  </a:cubicBezTo>
                  <a:cubicBezTo>
                    <a:pt x="305" y="100"/>
                    <a:pt x="304" y="87"/>
                    <a:pt x="295" y="85"/>
                  </a:cubicBezTo>
                  <a:cubicBezTo>
                    <a:pt x="205" y="61"/>
                    <a:pt x="171" y="106"/>
                    <a:pt x="212" y="62"/>
                  </a:cubicBezTo>
                  <a:cubicBezTo>
                    <a:pt x="151" y="22"/>
                    <a:pt x="70" y="25"/>
                    <a:pt x="0" y="17"/>
                  </a:cubicBezTo>
                  <a:cubicBezTo>
                    <a:pt x="70" y="12"/>
                    <a:pt x="122" y="0"/>
                    <a:pt x="189" y="9"/>
                  </a:cubicBezTo>
                  <a:cubicBezTo>
                    <a:pt x="197" y="12"/>
                    <a:pt x="204" y="15"/>
                    <a:pt x="212" y="17"/>
                  </a:cubicBezTo>
                  <a:cubicBezTo>
                    <a:pt x="237" y="23"/>
                    <a:pt x="263" y="24"/>
                    <a:pt x="288" y="32"/>
                  </a:cubicBezTo>
                  <a:cubicBezTo>
                    <a:pt x="330" y="45"/>
                    <a:pt x="377" y="99"/>
                    <a:pt x="424" y="100"/>
                  </a:cubicBezTo>
                  <a:cubicBezTo>
                    <a:pt x="636" y="105"/>
                    <a:pt x="849" y="100"/>
                    <a:pt x="1061" y="100"/>
                  </a:cubicBezTo>
                  <a:lnTo>
                    <a:pt x="1005" y="113"/>
                  </a:lnTo>
                  <a:lnTo>
                    <a:pt x="1053" y="113"/>
                  </a:lnTo>
                  <a:lnTo>
                    <a:pt x="1101" y="113"/>
                  </a:lnTo>
                  <a:lnTo>
                    <a:pt x="1005" y="113"/>
                  </a:lnTo>
                  <a:lnTo>
                    <a:pt x="1149" y="65"/>
                  </a:lnTo>
                  <a:lnTo>
                    <a:pt x="957" y="113"/>
                  </a:lnTo>
                  <a:lnTo>
                    <a:pt x="1149" y="113"/>
                  </a:lnTo>
                  <a:lnTo>
                    <a:pt x="1053" y="113"/>
                  </a:lnTo>
                  <a:lnTo>
                    <a:pt x="1005" y="113"/>
                  </a:lnTo>
                  <a:lnTo>
                    <a:pt x="1149" y="113"/>
                  </a:lnTo>
                  <a:lnTo>
                    <a:pt x="909" y="113"/>
                  </a:lnTo>
                  <a:lnTo>
                    <a:pt x="861" y="65"/>
                  </a:lnTo>
                  <a:lnTo>
                    <a:pt x="1053" y="65"/>
                  </a:lnTo>
                  <a:lnTo>
                    <a:pt x="909" y="65"/>
                  </a:lnTo>
                  <a:lnTo>
                    <a:pt x="629" y="161"/>
                  </a:ln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26"/>
            <p:cNvSpPr/>
            <p:nvPr/>
          </p:nvSpPr>
          <p:spPr>
            <a:xfrm>
              <a:off x="-420840" y="4522680"/>
              <a:ext cx="4965840" cy="1349640"/>
            </a:xfrm>
            <a:custGeom>
              <a:avLst/>
              <a:gdLst/>
              <a:ahLst/>
              <a:rect l="l" t="t" r="r" b="b"/>
              <a:pathLst>
                <a:path w="3128" h="850">
                  <a:moveTo>
                    <a:pt x="129" y="759"/>
                  </a:moveTo>
                  <a:cubicBezTo>
                    <a:pt x="204" y="773"/>
                    <a:pt x="203" y="790"/>
                    <a:pt x="257" y="827"/>
                  </a:cubicBezTo>
                  <a:cubicBezTo>
                    <a:pt x="280" y="805"/>
                    <a:pt x="274" y="803"/>
                    <a:pt x="318" y="819"/>
                  </a:cubicBezTo>
                  <a:cubicBezTo>
                    <a:pt x="339" y="827"/>
                    <a:pt x="379" y="850"/>
                    <a:pt x="379" y="850"/>
                  </a:cubicBezTo>
                  <a:cubicBezTo>
                    <a:pt x="386" y="847"/>
                    <a:pt x="398" y="849"/>
                    <a:pt x="401" y="842"/>
                  </a:cubicBezTo>
                  <a:cubicBezTo>
                    <a:pt x="404" y="835"/>
                    <a:pt x="386" y="820"/>
                    <a:pt x="394" y="819"/>
                  </a:cubicBezTo>
                  <a:cubicBezTo>
                    <a:pt x="437" y="814"/>
                    <a:pt x="480" y="824"/>
                    <a:pt x="523" y="827"/>
                  </a:cubicBezTo>
                  <a:cubicBezTo>
                    <a:pt x="627" y="813"/>
                    <a:pt x="588" y="802"/>
                    <a:pt x="712" y="812"/>
                  </a:cubicBezTo>
                  <a:cubicBezTo>
                    <a:pt x="776" y="831"/>
                    <a:pt x="673" y="794"/>
                    <a:pt x="750" y="789"/>
                  </a:cubicBezTo>
                  <a:cubicBezTo>
                    <a:pt x="826" y="785"/>
                    <a:pt x="901" y="784"/>
                    <a:pt x="977" y="781"/>
                  </a:cubicBezTo>
                  <a:cubicBezTo>
                    <a:pt x="1103" y="743"/>
                    <a:pt x="1372" y="759"/>
                    <a:pt x="1372" y="759"/>
                  </a:cubicBezTo>
                  <a:cubicBezTo>
                    <a:pt x="1404" y="747"/>
                    <a:pt x="1428" y="767"/>
                    <a:pt x="1462" y="774"/>
                  </a:cubicBezTo>
                  <a:cubicBezTo>
                    <a:pt x="1514" y="808"/>
                    <a:pt x="1456" y="780"/>
                    <a:pt x="1508" y="774"/>
                  </a:cubicBezTo>
                  <a:cubicBezTo>
                    <a:pt x="1563" y="767"/>
                    <a:pt x="1619" y="769"/>
                    <a:pt x="1675" y="766"/>
                  </a:cubicBezTo>
                  <a:cubicBezTo>
                    <a:pt x="1677" y="758"/>
                    <a:pt x="1674" y="745"/>
                    <a:pt x="1682" y="743"/>
                  </a:cubicBezTo>
                  <a:cubicBezTo>
                    <a:pt x="1753" y="729"/>
                    <a:pt x="1901" y="726"/>
                    <a:pt x="1978" y="721"/>
                  </a:cubicBezTo>
                  <a:cubicBezTo>
                    <a:pt x="2034" y="693"/>
                    <a:pt x="2088" y="724"/>
                    <a:pt x="2145" y="736"/>
                  </a:cubicBezTo>
                  <a:cubicBezTo>
                    <a:pt x="2192" y="729"/>
                    <a:pt x="2213" y="720"/>
                    <a:pt x="2258" y="728"/>
                  </a:cubicBezTo>
                  <a:cubicBezTo>
                    <a:pt x="2298" y="747"/>
                    <a:pt x="2344" y="762"/>
                    <a:pt x="2387" y="774"/>
                  </a:cubicBezTo>
                  <a:cubicBezTo>
                    <a:pt x="2382" y="769"/>
                    <a:pt x="2334" y="736"/>
                    <a:pt x="2387" y="736"/>
                  </a:cubicBezTo>
                  <a:cubicBezTo>
                    <a:pt x="2404" y="736"/>
                    <a:pt x="2416" y="756"/>
                    <a:pt x="2433" y="759"/>
                  </a:cubicBezTo>
                  <a:cubicBezTo>
                    <a:pt x="2455" y="763"/>
                    <a:pt x="2478" y="764"/>
                    <a:pt x="2501" y="766"/>
                  </a:cubicBezTo>
                  <a:cubicBezTo>
                    <a:pt x="2551" y="799"/>
                    <a:pt x="2546" y="764"/>
                    <a:pt x="2584" y="759"/>
                  </a:cubicBezTo>
                  <a:cubicBezTo>
                    <a:pt x="2634" y="752"/>
                    <a:pt x="2685" y="754"/>
                    <a:pt x="2736" y="751"/>
                  </a:cubicBezTo>
                  <a:cubicBezTo>
                    <a:pt x="2723" y="743"/>
                    <a:pt x="2686" y="736"/>
                    <a:pt x="2698" y="728"/>
                  </a:cubicBezTo>
                  <a:cubicBezTo>
                    <a:pt x="2715" y="717"/>
                    <a:pt x="2738" y="737"/>
                    <a:pt x="2758" y="736"/>
                  </a:cubicBezTo>
                  <a:cubicBezTo>
                    <a:pt x="2875" y="729"/>
                    <a:pt x="2772" y="721"/>
                    <a:pt x="2857" y="706"/>
                  </a:cubicBezTo>
                  <a:cubicBezTo>
                    <a:pt x="2887" y="701"/>
                    <a:pt x="2918" y="701"/>
                    <a:pt x="2948" y="698"/>
                  </a:cubicBezTo>
                  <a:cubicBezTo>
                    <a:pt x="2945" y="697"/>
                    <a:pt x="2886" y="683"/>
                    <a:pt x="2948" y="675"/>
                  </a:cubicBezTo>
                  <a:cubicBezTo>
                    <a:pt x="2958" y="674"/>
                    <a:pt x="2968" y="680"/>
                    <a:pt x="2978" y="683"/>
                  </a:cubicBezTo>
                  <a:cubicBezTo>
                    <a:pt x="3053" y="667"/>
                    <a:pt x="3030" y="658"/>
                    <a:pt x="3122" y="668"/>
                  </a:cubicBezTo>
                  <a:cubicBezTo>
                    <a:pt x="3109" y="610"/>
                    <a:pt x="3128" y="659"/>
                    <a:pt x="3084" y="622"/>
                  </a:cubicBezTo>
                  <a:cubicBezTo>
                    <a:pt x="3077" y="616"/>
                    <a:pt x="3075" y="605"/>
                    <a:pt x="3069" y="599"/>
                  </a:cubicBezTo>
                  <a:cubicBezTo>
                    <a:pt x="3038" y="568"/>
                    <a:pt x="2998" y="537"/>
                    <a:pt x="2956" y="524"/>
                  </a:cubicBezTo>
                  <a:cubicBezTo>
                    <a:pt x="2932" y="500"/>
                    <a:pt x="2903" y="476"/>
                    <a:pt x="2872" y="463"/>
                  </a:cubicBezTo>
                  <a:cubicBezTo>
                    <a:pt x="2857" y="457"/>
                    <a:pt x="2842" y="453"/>
                    <a:pt x="2827" y="448"/>
                  </a:cubicBezTo>
                  <a:cubicBezTo>
                    <a:pt x="2819" y="445"/>
                    <a:pt x="2804" y="440"/>
                    <a:pt x="2804" y="440"/>
                  </a:cubicBezTo>
                  <a:cubicBezTo>
                    <a:pt x="2801" y="427"/>
                    <a:pt x="2802" y="413"/>
                    <a:pt x="2796" y="402"/>
                  </a:cubicBezTo>
                  <a:cubicBezTo>
                    <a:pt x="2782" y="377"/>
                    <a:pt x="2709" y="352"/>
                    <a:pt x="2683" y="334"/>
                  </a:cubicBezTo>
                  <a:cubicBezTo>
                    <a:pt x="2668" y="290"/>
                    <a:pt x="2687" y="330"/>
                    <a:pt x="2652" y="296"/>
                  </a:cubicBezTo>
                  <a:cubicBezTo>
                    <a:pt x="2640" y="285"/>
                    <a:pt x="2633" y="270"/>
                    <a:pt x="2622" y="258"/>
                  </a:cubicBezTo>
                  <a:cubicBezTo>
                    <a:pt x="2652" y="251"/>
                    <a:pt x="2689" y="263"/>
                    <a:pt x="2713" y="243"/>
                  </a:cubicBezTo>
                  <a:cubicBezTo>
                    <a:pt x="2724" y="234"/>
                    <a:pt x="2676" y="191"/>
                    <a:pt x="2675" y="190"/>
                  </a:cubicBezTo>
                  <a:cubicBezTo>
                    <a:pt x="2685" y="185"/>
                    <a:pt x="2703" y="186"/>
                    <a:pt x="2705" y="175"/>
                  </a:cubicBezTo>
                  <a:cubicBezTo>
                    <a:pt x="2709" y="156"/>
                    <a:pt x="2669" y="148"/>
                    <a:pt x="2660" y="145"/>
                  </a:cubicBezTo>
                  <a:cubicBezTo>
                    <a:pt x="2628" y="96"/>
                    <a:pt x="2664" y="145"/>
                    <a:pt x="2622" y="107"/>
                  </a:cubicBezTo>
                  <a:cubicBezTo>
                    <a:pt x="2600" y="88"/>
                    <a:pt x="2567" y="37"/>
                    <a:pt x="2539" y="23"/>
                  </a:cubicBezTo>
                  <a:cubicBezTo>
                    <a:pt x="2519" y="13"/>
                    <a:pt x="2492" y="8"/>
                    <a:pt x="2470" y="1"/>
                  </a:cubicBezTo>
                  <a:cubicBezTo>
                    <a:pt x="2447" y="3"/>
                    <a:pt x="2423" y="0"/>
                    <a:pt x="2402" y="8"/>
                  </a:cubicBezTo>
                  <a:cubicBezTo>
                    <a:pt x="2383" y="15"/>
                    <a:pt x="2380" y="42"/>
                    <a:pt x="2364" y="54"/>
                  </a:cubicBezTo>
                  <a:cubicBezTo>
                    <a:pt x="2348" y="66"/>
                    <a:pt x="2328" y="73"/>
                    <a:pt x="2311" y="84"/>
                  </a:cubicBezTo>
                  <a:cubicBezTo>
                    <a:pt x="2276" y="138"/>
                    <a:pt x="2296" y="120"/>
                    <a:pt x="2258" y="145"/>
                  </a:cubicBezTo>
                  <a:cubicBezTo>
                    <a:pt x="2235" y="142"/>
                    <a:pt x="2213" y="141"/>
                    <a:pt x="2190" y="137"/>
                  </a:cubicBezTo>
                  <a:cubicBezTo>
                    <a:pt x="2182" y="136"/>
                    <a:pt x="2175" y="127"/>
                    <a:pt x="2167" y="130"/>
                  </a:cubicBezTo>
                  <a:cubicBezTo>
                    <a:pt x="2150" y="136"/>
                    <a:pt x="2139" y="155"/>
                    <a:pt x="2122" y="160"/>
                  </a:cubicBezTo>
                  <a:cubicBezTo>
                    <a:pt x="2114" y="162"/>
                    <a:pt x="2107" y="165"/>
                    <a:pt x="2099" y="167"/>
                  </a:cubicBezTo>
                  <a:cubicBezTo>
                    <a:pt x="2080" y="187"/>
                    <a:pt x="2070" y="205"/>
                    <a:pt x="2046" y="220"/>
                  </a:cubicBezTo>
                  <a:cubicBezTo>
                    <a:pt x="2037" y="246"/>
                    <a:pt x="2031" y="266"/>
                    <a:pt x="2016" y="289"/>
                  </a:cubicBezTo>
                  <a:cubicBezTo>
                    <a:pt x="1995" y="367"/>
                    <a:pt x="1978" y="397"/>
                    <a:pt x="1932" y="463"/>
                  </a:cubicBezTo>
                  <a:cubicBezTo>
                    <a:pt x="1914" y="489"/>
                    <a:pt x="1911" y="513"/>
                    <a:pt x="1879" y="524"/>
                  </a:cubicBezTo>
                  <a:cubicBezTo>
                    <a:pt x="1816" y="511"/>
                    <a:pt x="1729" y="467"/>
                    <a:pt x="1667" y="463"/>
                  </a:cubicBezTo>
                  <a:cubicBezTo>
                    <a:pt x="1594" y="458"/>
                    <a:pt x="1520" y="458"/>
                    <a:pt x="1447" y="455"/>
                  </a:cubicBezTo>
                  <a:cubicBezTo>
                    <a:pt x="1412" y="429"/>
                    <a:pt x="1379" y="431"/>
                    <a:pt x="1341" y="410"/>
                  </a:cubicBezTo>
                  <a:cubicBezTo>
                    <a:pt x="1275" y="373"/>
                    <a:pt x="1342" y="396"/>
                    <a:pt x="1288" y="380"/>
                  </a:cubicBezTo>
                  <a:cubicBezTo>
                    <a:pt x="1219" y="332"/>
                    <a:pt x="1170" y="354"/>
                    <a:pt x="1068" y="349"/>
                  </a:cubicBezTo>
                  <a:cubicBezTo>
                    <a:pt x="1024" y="305"/>
                    <a:pt x="1045" y="321"/>
                    <a:pt x="1008" y="296"/>
                  </a:cubicBezTo>
                  <a:cubicBezTo>
                    <a:pt x="936" y="302"/>
                    <a:pt x="867" y="312"/>
                    <a:pt x="796" y="289"/>
                  </a:cubicBezTo>
                  <a:cubicBezTo>
                    <a:pt x="746" y="336"/>
                    <a:pt x="840" y="254"/>
                    <a:pt x="697" y="311"/>
                  </a:cubicBezTo>
                  <a:cubicBezTo>
                    <a:pt x="689" y="314"/>
                    <a:pt x="712" y="330"/>
                    <a:pt x="705" y="334"/>
                  </a:cubicBezTo>
                  <a:cubicBezTo>
                    <a:pt x="694" y="340"/>
                    <a:pt x="680" y="329"/>
                    <a:pt x="667" y="327"/>
                  </a:cubicBezTo>
                  <a:cubicBezTo>
                    <a:pt x="648" y="355"/>
                    <a:pt x="629" y="357"/>
                    <a:pt x="598" y="372"/>
                  </a:cubicBezTo>
                  <a:cubicBezTo>
                    <a:pt x="581" y="397"/>
                    <a:pt x="563" y="404"/>
                    <a:pt x="553" y="433"/>
                  </a:cubicBezTo>
                  <a:cubicBezTo>
                    <a:pt x="500" y="430"/>
                    <a:pt x="446" y="434"/>
                    <a:pt x="394" y="425"/>
                  </a:cubicBezTo>
                  <a:cubicBezTo>
                    <a:pt x="373" y="421"/>
                    <a:pt x="358" y="377"/>
                    <a:pt x="341" y="364"/>
                  </a:cubicBezTo>
                  <a:cubicBezTo>
                    <a:pt x="326" y="353"/>
                    <a:pt x="310" y="344"/>
                    <a:pt x="295" y="334"/>
                  </a:cubicBezTo>
                  <a:cubicBezTo>
                    <a:pt x="288" y="329"/>
                    <a:pt x="273" y="319"/>
                    <a:pt x="273" y="319"/>
                  </a:cubicBezTo>
                  <a:cubicBezTo>
                    <a:pt x="141" y="347"/>
                    <a:pt x="148" y="524"/>
                    <a:pt x="113" y="630"/>
                  </a:cubicBezTo>
                  <a:cubicBezTo>
                    <a:pt x="95" y="684"/>
                    <a:pt x="95" y="687"/>
                    <a:pt x="45" y="721"/>
                  </a:cubicBezTo>
                  <a:cubicBezTo>
                    <a:pt x="36" y="727"/>
                    <a:pt x="30" y="735"/>
                    <a:pt x="22" y="743"/>
                  </a:cubicBezTo>
                  <a:cubicBezTo>
                    <a:pt x="17" y="748"/>
                    <a:pt x="0" y="758"/>
                    <a:pt x="7" y="759"/>
                  </a:cubicBezTo>
                  <a:cubicBezTo>
                    <a:pt x="47" y="765"/>
                    <a:pt x="88" y="759"/>
                    <a:pt x="129" y="759"/>
                  </a:cubicBez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38"/>
            <p:cNvSpPr/>
            <p:nvPr/>
          </p:nvSpPr>
          <p:spPr>
            <a:xfrm>
              <a:off x="541440" y="5086440"/>
              <a:ext cx="2550960" cy="557280"/>
            </a:xfrm>
            <a:custGeom>
              <a:avLst/>
              <a:gdLst/>
              <a:ahLst/>
              <a:rect l="l" t="t" r="r" b="b"/>
              <a:pathLst>
                <a:path w="1607" h="351">
                  <a:moveTo>
                    <a:pt x="834" y="244"/>
                  </a:moveTo>
                  <a:cubicBezTo>
                    <a:pt x="833" y="244"/>
                    <a:pt x="788" y="230"/>
                    <a:pt x="788" y="229"/>
                  </a:cubicBezTo>
                  <a:cubicBezTo>
                    <a:pt x="788" y="221"/>
                    <a:pt x="803" y="224"/>
                    <a:pt x="811" y="222"/>
                  </a:cubicBezTo>
                  <a:cubicBezTo>
                    <a:pt x="826" y="217"/>
                    <a:pt x="841" y="212"/>
                    <a:pt x="856" y="207"/>
                  </a:cubicBezTo>
                  <a:cubicBezTo>
                    <a:pt x="864" y="204"/>
                    <a:pt x="879" y="199"/>
                    <a:pt x="879" y="199"/>
                  </a:cubicBezTo>
                  <a:cubicBezTo>
                    <a:pt x="913" y="211"/>
                    <a:pt x="920" y="231"/>
                    <a:pt x="932" y="191"/>
                  </a:cubicBezTo>
                  <a:cubicBezTo>
                    <a:pt x="1002" y="209"/>
                    <a:pt x="982" y="225"/>
                    <a:pt x="1008" y="184"/>
                  </a:cubicBezTo>
                  <a:cubicBezTo>
                    <a:pt x="1023" y="186"/>
                    <a:pt x="1039" y="188"/>
                    <a:pt x="1054" y="191"/>
                  </a:cubicBezTo>
                  <a:cubicBezTo>
                    <a:pt x="1062" y="193"/>
                    <a:pt x="1069" y="202"/>
                    <a:pt x="1076" y="199"/>
                  </a:cubicBezTo>
                  <a:cubicBezTo>
                    <a:pt x="1083" y="195"/>
                    <a:pt x="1079" y="182"/>
                    <a:pt x="1084" y="176"/>
                  </a:cubicBezTo>
                  <a:cubicBezTo>
                    <a:pt x="1090" y="169"/>
                    <a:pt x="1099" y="166"/>
                    <a:pt x="1107" y="161"/>
                  </a:cubicBezTo>
                  <a:cubicBezTo>
                    <a:pt x="1159" y="175"/>
                    <a:pt x="1156" y="198"/>
                    <a:pt x="1167" y="138"/>
                  </a:cubicBezTo>
                  <a:cubicBezTo>
                    <a:pt x="1170" y="156"/>
                    <a:pt x="1164" y="177"/>
                    <a:pt x="1175" y="191"/>
                  </a:cubicBezTo>
                  <a:cubicBezTo>
                    <a:pt x="1181" y="198"/>
                    <a:pt x="1192" y="182"/>
                    <a:pt x="1198" y="176"/>
                  </a:cubicBezTo>
                  <a:cubicBezTo>
                    <a:pt x="1204" y="170"/>
                    <a:pt x="1208" y="161"/>
                    <a:pt x="1213" y="153"/>
                  </a:cubicBezTo>
                  <a:cubicBezTo>
                    <a:pt x="1233" y="218"/>
                    <a:pt x="1305" y="185"/>
                    <a:pt x="1357" y="176"/>
                  </a:cubicBezTo>
                  <a:cubicBezTo>
                    <a:pt x="1354" y="184"/>
                    <a:pt x="1343" y="193"/>
                    <a:pt x="1349" y="199"/>
                  </a:cubicBezTo>
                  <a:cubicBezTo>
                    <a:pt x="1355" y="205"/>
                    <a:pt x="1364" y="191"/>
                    <a:pt x="1372" y="191"/>
                  </a:cubicBezTo>
                  <a:cubicBezTo>
                    <a:pt x="1390" y="191"/>
                    <a:pt x="1530" y="205"/>
                    <a:pt x="1554" y="207"/>
                  </a:cubicBezTo>
                  <a:cubicBezTo>
                    <a:pt x="1570" y="258"/>
                    <a:pt x="1547" y="197"/>
                    <a:pt x="1584" y="252"/>
                  </a:cubicBezTo>
                  <a:cubicBezTo>
                    <a:pt x="1589" y="259"/>
                    <a:pt x="1588" y="268"/>
                    <a:pt x="1592" y="275"/>
                  </a:cubicBezTo>
                  <a:cubicBezTo>
                    <a:pt x="1596" y="283"/>
                    <a:pt x="1602" y="290"/>
                    <a:pt x="1607" y="297"/>
                  </a:cubicBezTo>
                  <a:cubicBezTo>
                    <a:pt x="1599" y="302"/>
                    <a:pt x="1584" y="304"/>
                    <a:pt x="1584" y="313"/>
                  </a:cubicBezTo>
                  <a:cubicBezTo>
                    <a:pt x="1584" y="321"/>
                    <a:pt x="1607" y="312"/>
                    <a:pt x="1607" y="320"/>
                  </a:cubicBezTo>
                  <a:cubicBezTo>
                    <a:pt x="1607" y="329"/>
                    <a:pt x="1592" y="330"/>
                    <a:pt x="1584" y="335"/>
                  </a:cubicBezTo>
                  <a:cubicBezTo>
                    <a:pt x="1493" y="319"/>
                    <a:pt x="1528" y="311"/>
                    <a:pt x="1478" y="328"/>
                  </a:cubicBezTo>
                  <a:cubicBezTo>
                    <a:pt x="1447" y="297"/>
                    <a:pt x="1418" y="286"/>
                    <a:pt x="1379" y="267"/>
                  </a:cubicBezTo>
                  <a:cubicBezTo>
                    <a:pt x="1345" y="319"/>
                    <a:pt x="1390" y="266"/>
                    <a:pt x="1326" y="282"/>
                  </a:cubicBezTo>
                  <a:cubicBezTo>
                    <a:pt x="1309" y="286"/>
                    <a:pt x="1301" y="308"/>
                    <a:pt x="1288" y="320"/>
                  </a:cubicBezTo>
                  <a:cubicBezTo>
                    <a:pt x="1270" y="318"/>
                    <a:pt x="1253" y="311"/>
                    <a:pt x="1235" y="313"/>
                  </a:cubicBezTo>
                  <a:cubicBezTo>
                    <a:pt x="1156" y="321"/>
                    <a:pt x="1280" y="345"/>
                    <a:pt x="1182" y="320"/>
                  </a:cubicBezTo>
                  <a:cubicBezTo>
                    <a:pt x="1137" y="351"/>
                    <a:pt x="1130" y="326"/>
                    <a:pt x="1091" y="313"/>
                  </a:cubicBezTo>
                  <a:cubicBezTo>
                    <a:pt x="1077" y="308"/>
                    <a:pt x="1061" y="308"/>
                    <a:pt x="1046" y="305"/>
                  </a:cubicBezTo>
                  <a:cubicBezTo>
                    <a:pt x="1038" y="303"/>
                    <a:pt x="1031" y="300"/>
                    <a:pt x="1023" y="297"/>
                  </a:cubicBezTo>
                  <a:cubicBezTo>
                    <a:pt x="982" y="340"/>
                    <a:pt x="1030" y="298"/>
                    <a:pt x="910" y="305"/>
                  </a:cubicBezTo>
                  <a:cubicBezTo>
                    <a:pt x="903" y="305"/>
                    <a:pt x="901" y="318"/>
                    <a:pt x="894" y="320"/>
                  </a:cubicBezTo>
                  <a:cubicBezTo>
                    <a:pt x="864" y="326"/>
                    <a:pt x="833" y="325"/>
                    <a:pt x="803" y="328"/>
                  </a:cubicBezTo>
                  <a:cubicBezTo>
                    <a:pt x="757" y="343"/>
                    <a:pt x="657" y="321"/>
                    <a:pt x="622" y="320"/>
                  </a:cubicBezTo>
                  <a:cubicBezTo>
                    <a:pt x="533" y="317"/>
                    <a:pt x="445" y="315"/>
                    <a:pt x="356" y="313"/>
                  </a:cubicBezTo>
                  <a:cubicBezTo>
                    <a:pt x="389" y="290"/>
                    <a:pt x="424" y="282"/>
                    <a:pt x="462" y="267"/>
                  </a:cubicBezTo>
                  <a:cubicBezTo>
                    <a:pt x="471" y="264"/>
                    <a:pt x="477" y="256"/>
                    <a:pt x="485" y="252"/>
                  </a:cubicBezTo>
                  <a:cubicBezTo>
                    <a:pt x="492" y="248"/>
                    <a:pt x="500" y="247"/>
                    <a:pt x="508" y="244"/>
                  </a:cubicBezTo>
                  <a:cubicBezTo>
                    <a:pt x="490" y="195"/>
                    <a:pt x="438" y="211"/>
                    <a:pt x="387" y="207"/>
                  </a:cubicBezTo>
                  <a:cubicBezTo>
                    <a:pt x="330" y="195"/>
                    <a:pt x="278" y="178"/>
                    <a:pt x="220" y="169"/>
                  </a:cubicBezTo>
                  <a:cubicBezTo>
                    <a:pt x="322" y="107"/>
                    <a:pt x="362" y="141"/>
                    <a:pt x="61" y="131"/>
                  </a:cubicBezTo>
                  <a:cubicBezTo>
                    <a:pt x="38" y="116"/>
                    <a:pt x="27" y="101"/>
                    <a:pt x="0" y="93"/>
                  </a:cubicBezTo>
                  <a:cubicBezTo>
                    <a:pt x="28" y="89"/>
                    <a:pt x="61" y="95"/>
                    <a:pt x="83" y="78"/>
                  </a:cubicBezTo>
                  <a:cubicBezTo>
                    <a:pt x="89" y="73"/>
                    <a:pt x="85" y="61"/>
                    <a:pt x="91" y="55"/>
                  </a:cubicBezTo>
                  <a:cubicBezTo>
                    <a:pt x="99" y="47"/>
                    <a:pt x="111" y="45"/>
                    <a:pt x="121" y="40"/>
                  </a:cubicBezTo>
                  <a:cubicBezTo>
                    <a:pt x="204" y="55"/>
                    <a:pt x="129" y="54"/>
                    <a:pt x="152" y="9"/>
                  </a:cubicBezTo>
                  <a:cubicBezTo>
                    <a:pt x="157" y="0"/>
                    <a:pt x="172" y="4"/>
                    <a:pt x="182" y="2"/>
                  </a:cubicBezTo>
                  <a:cubicBezTo>
                    <a:pt x="207" y="27"/>
                    <a:pt x="226" y="31"/>
                    <a:pt x="258" y="47"/>
                  </a:cubicBezTo>
                  <a:cubicBezTo>
                    <a:pt x="267" y="18"/>
                    <a:pt x="273" y="11"/>
                    <a:pt x="303" y="2"/>
                  </a:cubicBezTo>
                  <a:cubicBezTo>
                    <a:pt x="306" y="12"/>
                    <a:pt x="303" y="26"/>
                    <a:pt x="311" y="32"/>
                  </a:cubicBezTo>
                  <a:cubicBezTo>
                    <a:pt x="323" y="41"/>
                    <a:pt x="342" y="35"/>
                    <a:pt x="356" y="40"/>
                  </a:cubicBezTo>
                  <a:cubicBezTo>
                    <a:pt x="365" y="43"/>
                    <a:pt x="371" y="51"/>
                    <a:pt x="379" y="55"/>
                  </a:cubicBezTo>
                  <a:cubicBezTo>
                    <a:pt x="388" y="59"/>
                    <a:pt x="399" y="60"/>
                    <a:pt x="409" y="63"/>
                  </a:cubicBezTo>
                  <a:cubicBezTo>
                    <a:pt x="402" y="65"/>
                    <a:pt x="394" y="66"/>
                    <a:pt x="387" y="70"/>
                  </a:cubicBezTo>
                  <a:cubicBezTo>
                    <a:pt x="368" y="81"/>
                    <a:pt x="361" y="94"/>
                    <a:pt x="394" y="100"/>
                  </a:cubicBezTo>
                  <a:cubicBezTo>
                    <a:pt x="427" y="106"/>
                    <a:pt x="460" y="105"/>
                    <a:pt x="493" y="108"/>
                  </a:cubicBezTo>
                  <a:cubicBezTo>
                    <a:pt x="458" y="120"/>
                    <a:pt x="397" y="105"/>
                    <a:pt x="462" y="138"/>
                  </a:cubicBezTo>
                  <a:cubicBezTo>
                    <a:pt x="653" y="128"/>
                    <a:pt x="605" y="155"/>
                    <a:pt x="553" y="100"/>
                  </a:cubicBezTo>
                  <a:cubicBezTo>
                    <a:pt x="716" y="79"/>
                    <a:pt x="493" y="73"/>
                    <a:pt x="811" y="85"/>
                  </a:cubicBezTo>
                  <a:cubicBezTo>
                    <a:pt x="798" y="88"/>
                    <a:pt x="786" y="91"/>
                    <a:pt x="773" y="93"/>
                  </a:cubicBezTo>
                  <a:cubicBezTo>
                    <a:pt x="707" y="103"/>
                    <a:pt x="697" y="85"/>
                    <a:pt x="728" y="116"/>
                  </a:cubicBezTo>
                  <a:cubicBezTo>
                    <a:pt x="705" y="123"/>
                    <a:pt x="679" y="118"/>
                    <a:pt x="659" y="131"/>
                  </a:cubicBezTo>
                  <a:cubicBezTo>
                    <a:pt x="652" y="135"/>
                    <a:pt x="674" y="136"/>
                    <a:pt x="682" y="138"/>
                  </a:cubicBezTo>
                  <a:cubicBezTo>
                    <a:pt x="690" y="141"/>
                    <a:pt x="698" y="143"/>
                    <a:pt x="705" y="146"/>
                  </a:cubicBezTo>
                  <a:cubicBezTo>
                    <a:pt x="740" y="161"/>
                    <a:pt x="732" y="158"/>
                    <a:pt x="758" y="184"/>
                  </a:cubicBezTo>
                  <a:cubicBezTo>
                    <a:pt x="774" y="229"/>
                    <a:pt x="789" y="234"/>
                    <a:pt x="834" y="244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37"/>
            <p:cNvSpPr/>
            <p:nvPr/>
          </p:nvSpPr>
          <p:spPr>
            <a:xfrm>
              <a:off x="2798640" y="4487760"/>
              <a:ext cx="1330560" cy="746280"/>
            </a:xfrm>
            <a:custGeom>
              <a:avLst/>
              <a:gdLst/>
              <a:ahLst/>
              <a:rect l="l" t="t" r="r" b="b"/>
              <a:pathLst>
                <a:path w="838" h="470">
                  <a:moveTo>
                    <a:pt x="101" y="258"/>
                  </a:moveTo>
                  <a:cubicBezTo>
                    <a:pt x="79" y="280"/>
                    <a:pt x="66" y="296"/>
                    <a:pt x="56" y="326"/>
                  </a:cubicBezTo>
                  <a:cubicBezTo>
                    <a:pt x="64" y="328"/>
                    <a:pt x="71" y="334"/>
                    <a:pt x="79" y="333"/>
                  </a:cubicBezTo>
                  <a:cubicBezTo>
                    <a:pt x="88" y="331"/>
                    <a:pt x="92" y="316"/>
                    <a:pt x="101" y="318"/>
                  </a:cubicBezTo>
                  <a:cubicBezTo>
                    <a:pt x="109" y="320"/>
                    <a:pt x="107" y="333"/>
                    <a:pt x="109" y="341"/>
                  </a:cubicBezTo>
                  <a:cubicBezTo>
                    <a:pt x="112" y="356"/>
                    <a:pt x="114" y="371"/>
                    <a:pt x="117" y="386"/>
                  </a:cubicBezTo>
                  <a:cubicBezTo>
                    <a:pt x="139" y="354"/>
                    <a:pt x="131" y="309"/>
                    <a:pt x="162" y="356"/>
                  </a:cubicBezTo>
                  <a:cubicBezTo>
                    <a:pt x="167" y="348"/>
                    <a:pt x="173" y="341"/>
                    <a:pt x="177" y="333"/>
                  </a:cubicBezTo>
                  <a:cubicBezTo>
                    <a:pt x="181" y="326"/>
                    <a:pt x="178" y="308"/>
                    <a:pt x="185" y="311"/>
                  </a:cubicBezTo>
                  <a:cubicBezTo>
                    <a:pt x="196" y="315"/>
                    <a:pt x="192" y="333"/>
                    <a:pt x="200" y="341"/>
                  </a:cubicBezTo>
                  <a:cubicBezTo>
                    <a:pt x="206" y="347"/>
                    <a:pt x="215" y="346"/>
                    <a:pt x="223" y="349"/>
                  </a:cubicBezTo>
                  <a:cubicBezTo>
                    <a:pt x="236" y="307"/>
                    <a:pt x="224" y="328"/>
                    <a:pt x="245" y="364"/>
                  </a:cubicBezTo>
                  <a:cubicBezTo>
                    <a:pt x="253" y="378"/>
                    <a:pt x="267" y="388"/>
                    <a:pt x="276" y="402"/>
                  </a:cubicBezTo>
                  <a:cubicBezTo>
                    <a:pt x="287" y="366"/>
                    <a:pt x="278" y="331"/>
                    <a:pt x="306" y="386"/>
                  </a:cubicBezTo>
                  <a:cubicBezTo>
                    <a:pt x="314" y="363"/>
                    <a:pt x="319" y="364"/>
                    <a:pt x="306" y="341"/>
                  </a:cubicBezTo>
                  <a:cubicBezTo>
                    <a:pt x="276" y="287"/>
                    <a:pt x="253" y="292"/>
                    <a:pt x="314" y="303"/>
                  </a:cubicBezTo>
                  <a:cubicBezTo>
                    <a:pt x="295" y="233"/>
                    <a:pt x="305" y="295"/>
                    <a:pt x="329" y="288"/>
                  </a:cubicBezTo>
                  <a:cubicBezTo>
                    <a:pt x="337" y="286"/>
                    <a:pt x="330" y="271"/>
                    <a:pt x="336" y="265"/>
                  </a:cubicBezTo>
                  <a:cubicBezTo>
                    <a:pt x="342" y="259"/>
                    <a:pt x="351" y="260"/>
                    <a:pt x="359" y="258"/>
                  </a:cubicBezTo>
                  <a:cubicBezTo>
                    <a:pt x="415" y="295"/>
                    <a:pt x="356" y="267"/>
                    <a:pt x="389" y="250"/>
                  </a:cubicBezTo>
                  <a:cubicBezTo>
                    <a:pt x="403" y="243"/>
                    <a:pt x="420" y="260"/>
                    <a:pt x="435" y="265"/>
                  </a:cubicBezTo>
                  <a:cubicBezTo>
                    <a:pt x="430" y="280"/>
                    <a:pt x="427" y="296"/>
                    <a:pt x="420" y="311"/>
                  </a:cubicBezTo>
                  <a:cubicBezTo>
                    <a:pt x="416" y="319"/>
                    <a:pt x="400" y="326"/>
                    <a:pt x="405" y="333"/>
                  </a:cubicBezTo>
                  <a:cubicBezTo>
                    <a:pt x="417" y="351"/>
                    <a:pt x="458" y="371"/>
                    <a:pt x="458" y="371"/>
                  </a:cubicBezTo>
                  <a:cubicBezTo>
                    <a:pt x="463" y="379"/>
                    <a:pt x="473" y="385"/>
                    <a:pt x="473" y="394"/>
                  </a:cubicBezTo>
                  <a:cubicBezTo>
                    <a:pt x="473" y="427"/>
                    <a:pt x="429" y="409"/>
                    <a:pt x="450" y="455"/>
                  </a:cubicBezTo>
                  <a:cubicBezTo>
                    <a:pt x="454" y="463"/>
                    <a:pt x="460" y="440"/>
                    <a:pt x="465" y="432"/>
                  </a:cubicBezTo>
                  <a:cubicBezTo>
                    <a:pt x="468" y="422"/>
                    <a:pt x="463" y="406"/>
                    <a:pt x="473" y="402"/>
                  </a:cubicBezTo>
                  <a:cubicBezTo>
                    <a:pt x="483" y="398"/>
                    <a:pt x="494" y="411"/>
                    <a:pt x="503" y="417"/>
                  </a:cubicBezTo>
                  <a:cubicBezTo>
                    <a:pt x="554" y="449"/>
                    <a:pt x="512" y="433"/>
                    <a:pt x="556" y="447"/>
                  </a:cubicBezTo>
                  <a:cubicBezTo>
                    <a:pt x="564" y="452"/>
                    <a:pt x="574" y="470"/>
                    <a:pt x="579" y="462"/>
                  </a:cubicBezTo>
                  <a:cubicBezTo>
                    <a:pt x="586" y="451"/>
                    <a:pt x="574" y="437"/>
                    <a:pt x="571" y="424"/>
                  </a:cubicBezTo>
                  <a:cubicBezTo>
                    <a:pt x="569" y="417"/>
                    <a:pt x="569" y="408"/>
                    <a:pt x="564" y="402"/>
                  </a:cubicBezTo>
                  <a:cubicBezTo>
                    <a:pt x="553" y="388"/>
                    <a:pt x="516" y="377"/>
                    <a:pt x="564" y="394"/>
                  </a:cubicBezTo>
                  <a:cubicBezTo>
                    <a:pt x="561" y="384"/>
                    <a:pt x="552" y="374"/>
                    <a:pt x="556" y="364"/>
                  </a:cubicBezTo>
                  <a:cubicBezTo>
                    <a:pt x="564" y="344"/>
                    <a:pt x="619" y="375"/>
                    <a:pt x="632" y="379"/>
                  </a:cubicBezTo>
                  <a:cubicBezTo>
                    <a:pt x="637" y="387"/>
                    <a:pt x="641" y="396"/>
                    <a:pt x="647" y="402"/>
                  </a:cubicBezTo>
                  <a:cubicBezTo>
                    <a:pt x="702" y="457"/>
                    <a:pt x="647" y="369"/>
                    <a:pt x="655" y="364"/>
                  </a:cubicBezTo>
                  <a:cubicBezTo>
                    <a:pt x="664" y="358"/>
                    <a:pt x="675" y="369"/>
                    <a:pt x="685" y="371"/>
                  </a:cubicBezTo>
                  <a:cubicBezTo>
                    <a:pt x="695" y="379"/>
                    <a:pt x="706" y="385"/>
                    <a:pt x="715" y="394"/>
                  </a:cubicBezTo>
                  <a:cubicBezTo>
                    <a:pt x="739" y="419"/>
                    <a:pt x="725" y="439"/>
                    <a:pt x="738" y="379"/>
                  </a:cubicBezTo>
                  <a:cubicBezTo>
                    <a:pt x="746" y="389"/>
                    <a:pt x="754" y="399"/>
                    <a:pt x="761" y="409"/>
                  </a:cubicBezTo>
                  <a:cubicBezTo>
                    <a:pt x="766" y="416"/>
                    <a:pt x="770" y="438"/>
                    <a:pt x="776" y="432"/>
                  </a:cubicBezTo>
                  <a:cubicBezTo>
                    <a:pt x="783" y="425"/>
                    <a:pt x="775" y="410"/>
                    <a:pt x="768" y="402"/>
                  </a:cubicBezTo>
                  <a:cubicBezTo>
                    <a:pt x="721" y="349"/>
                    <a:pt x="657" y="341"/>
                    <a:pt x="617" y="280"/>
                  </a:cubicBezTo>
                  <a:cubicBezTo>
                    <a:pt x="627" y="278"/>
                    <a:pt x="637" y="273"/>
                    <a:pt x="647" y="273"/>
                  </a:cubicBezTo>
                  <a:cubicBezTo>
                    <a:pt x="663" y="273"/>
                    <a:pt x="679" y="287"/>
                    <a:pt x="693" y="280"/>
                  </a:cubicBezTo>
                  <a:cubicBezTo>
                    <a:pt x="701" y="276"/>
                    <a:pt x="668" y="259"/>
                    <a:pt x="677" y="258"/>
                  </a:cubicBezTo>
                  <a:cubicBezTo>
                    <a:pt x="700" y="255"/>
                    <a:pt x="746" y="273"/>
                    <a:pt x="746" y="273"/>
                  </a:cubicBezTo>
                  <a:cubicBezTo>
                    <a:pt x="746" y="273"/>
                    <a:pt x="766" y="278"/>
                    <a:pt x="776" y="280"/>
                  </a:cubicBezTo>
                  <a:cubicBezTo>
                    <a:pt x="784" y="289"/>
                    <a:pt x="814" y="326"/>
                    <a:pt x="829" y="311"/>
                  </a:cubicBezTo>
                  <a:cubicBezTo>
                    <a:pt x="838" y="302"/>
                    <a:pt x="760" y="267"/>
                    <a:pt x="753" y="265"/>
                  </a:cubicBezTo>
                  <a:cubicBezTo>
                    <a:pt x="728" y="226"/>
                    <a:pt x="684" y="210"/>
                    <a:pt x="647" y="182"/>
                  </a:cubicBezTo>
                  <a:cubicBezTo>
                    <a:pt x="657" y="177"/>
                    <a:pt x="677" y="178"/>
                    <a:pt x="677" y="167"/>
                  </a:cubicBezTo>
                  <a:cubicBezTo>
                    <a:pt x="677" y="156"/>
                    <a:pt x="656" y="158"/>
                    <a:pt x="647" y="152"/>
                  </a:cubicBezTo>
                  <a:cubicBezTo>
                    <a:pt x="598" y="121"/>
                    <a:pt x="545" y="94"/>
                    <a:pt x="496" y="61"/>
                  </a:cubicBezTo>
                  <a:cubicBezTo>
                    <a:pt x="472" y="128"/>
                    <a:pt x="503" y="25"/>
                    <a:pt x="503" y="114"/>
                  </a:cubicBezTo>
                  <a:cubicBezTo>
                    <a:pt x="503" y="121"/>
                    <a:pt x="493" y="103"/>
                    <a:pt x="488" y="98"/>
                  </a:cubicBezTo>
                  <a:cubicBezTo>
                    <a:pt x="452" y="62"/>
                    <a:pt x="476" y="91"/>
                    <a:pt x="442" y="45"/>
                  </a:cubicBezTo>
                  <a:cubicBezTo>
                    <a:pt x="437" y="50"/>
                    <a:pt x="434" y="63"/>
                    <a:pt x="427" y="61"/>
                  </a:cubicBezTo>
                  <a:cubicBezTo>
                    <a:pt x="419" y="59"/>
                    <a:pt x="423" y="45"/>
                    <a:pt x="420" y="38"/>
                  </a:cubicBezTo>
                  <a:cubicBezTo>
                    <a:pt x="410" y="17"/>
                    <a:pt x="404" y="14"/>
                    <a:pt x="389" y="0"/>
                  </a:cubicBezTo>
                  <a:cubicBezTo>
                    <a:pt x="376" y="42"/>
                    <a:pt x="391" y="49"/>
                    <a:pt x="344" y="38"/>
                  </a:cubicBezTo>
                  <a:cubicBezTo>
                    <a:pt x="341" y="47"/>
                    <a:pt x="319" y="101"/>
                    <a:pt x="314" y="106"/>
                  </a:cubicBezTo>
                  <a:cubicBezTo>
                    <a:pt x="308" y="112"/>
                    <a:pt x="298" y="110"/>
                    <a:pt x="291" y="114"/>
                  </a:cubicBezTo>
                  <a:cubicBezTo>
                    <a:pt x="283" y="118"/>
                    <a:pt x="276" y="124"/>
                    <a:pt x="268" y="129"/>
                  </a:cubicBezTo>
                  <a:cubicBezTo>
                    <a:pt x="251" y="185"/>
                    <a:pt x="276" y="129"/>
                    <a:pt x="238" y="144"/>
                  </a:cubicBezTo>
                  <a:cubicBezTo>
                    <a:pt x="229" y="147"/>
                    <a:pt x="230" y="161"/>
                    <a:pt x="223" y="167"/>
                  </a:cubicBezTo>
                  <a:cubicBezTo>
                    <a:pt x="205" y="182"/>
                    <a:pt x="179" y="180"/>
                    <a:pt x="154" y="205"/>
                  </a:cubicBezTo>
                  <a:cubicBezTo>
                    <a:pt x="128" y="177"/>
                    <a:pt x="123" y="193"/>
                    <a:pt x="94" y="212"/>
                  </a:cubicBezTo>
                  <a:cubicBezTo>
                    <a:pt x="91" y="204"/>
                    <a:pt x="94" y="191"/>
                    <a:pt x="86" y="189"/>
                  </a:cubicBezTo>
                  <a:cubicBezTo>
                    <a:pt x="85" y="189"/>
                    <a:pt x="52" y="237"/>
                    <a:pt x="48" y="242"/>
                  </a:cubicBezTo>
                  <a:cubicBezTo>
                    <a:pt x="37" y="257"/>
                    <a:pt x="0" y="292"/>
                    <a:pt x="18" y="288"/>
                  </a:cubicBezTo>
                  <a:cubicBezTo>
                    <a:pt x="26" y="286"/>
                    <a:pt x="67" y="279"/>
                    <a:pt x="79" y="273"/>
                  </a:cubicBezTo>
                  <a:cubicBezTo>
                    <a:pt x="87" y="269"/>
                    <a:pt x="94" y="263"/>
                    <a:pt x="101" y="258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21"/>
            <p:cNvSpPr/>
            <p:nvPr/>
          </p:nvSpPr>
          <p:spPr>
            <a:xfrm>
              <a:off x="-228600" y="6248520"/>
              <a:ext cx="5105520" cy="761760"/>
            </a:xfrm>
            <a:custGeom>
              <a:avLst/>
              <a:gdLst/>
              <a:ahLst/>
              <a:rect l="l" t="t" r="r" b="b"/>
              <a:pathLst>
                <a:path w="3216" h="480">
                  <a:moveTo>
                    <a:pt x="48" y="192"/>
                  </a:moveTo>
                  <a:lnTo>
                    <a:pt x="864" y="144"/>
                  </a:lnTo>
                  <a:lnTo>
                    <a:pt x="1872" y="96"/>
                  </a:lnTo>
                  <a:lnTo>
                    <a:pt x="2544" y="48"/>
                  </a:lnTo>
                  <a:lnTo>
                    <a:pt x="3216" y="0"/>
                  </a:lnTo>
                  <a:lnTo>
                    <a:pt x="3216" y="432"/>
                  </a:lnTo>
                  <a:lnTo>
                    <a:pt x="0" y="480"/>
                  </a:lnTo>
                  <a:lnTo>
                    <a:pt x="96" y="192"/>
                  </a:lnTo>
                  <a:lnTo>
                    <a:pt x="144" y="144"/>
                  </a:lnTo>
                  <a:lnTo>
                    <a:pt x="144" y="192"/>
                  </a:lnTo>
                  <a:lnTo>
                    <a:pt x="48" y="1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20"/>
            <p:cNvSpPr/>
            <p:nvPr/>
          </p:nvSpPr>
          <p:spPr>
            <a:xfrm>
              <a:off x="-457200" y="6019920"/>
              <a:ext cx="5334120" cy="533160"/>
            </a:xfrm>
            <a:custGeom>
              <a:avLst/>
              <a:gdLst/>
              <a:ahLst/>
              <a:rect l="l" t="t" r="r" b="b"/>
              <a:pathLst>
                <a:path w="3360" h="336">
                  <a:moveTo>
                    <a:pt x="288" y="192"/>
                  </a:moveTo>
                  <a:lnTo>
                    <a:pt x="1200" y="96"/>
                  </a:lnTo>
                  <a:lnTo>
                    <a:pt x="2160" y="96"/>
                  </a:lnTo>
                  <a:lnTo>
                    <a:pt x="3072" y="0"/>
                  </a:lnTo>
                  <a:lnTo>
                    <a:pt x="3360" y="144"/>
                  </a:lnTo>
                  <a:lnTo>
                    <a:pt x="3120" y="192"/>
                  </a:lnTo>
                  <a:lnTo>
                    <a:pt x="1440" y="288"/>
                  </a:lnTo>
                  <a:lnTo>
                    <a:pt x="0" y="336"/>
                  </a:lnTo>
                  <a:lnTo>
                    <a:pt x="288" y="192"/>
                  </a:lnTo>
                  <a:close/>
                </a:path>
              </a:pathLst>
            </a:custGeom>
            <a:solidFill>
              <a:srgbClr val="0070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11"/>
            <p:cNvSpPr/>
            <p:nvPr/>
          </p:nvSpPr>
          <p:spPr>
            <a:xfrm>
              <a:off x="5040360" y="4997520"/>
              <a:ext cx="4570200" cy="1371600"/>
            </a:xfrm>
            <a:custGeom>
              <a:avLst/>
              <a:gdLst/>
              <a:ahLst/>
              <a:rect l="l" t="t" r="r" b="b"/>
              <a:pathLst>
                <a:path w="2879" h="864">
                  <a:moveTo>
                    <a:pt x="0" y="0"/>
                  </a:moveTo>
                  <a:cubicBezTo>
                    <a:pt x="7" y="46"/>
                    <a:pt x="12" y="86"/>
                    <a:pt x="37" y="126"/>
                  </a:cubicBezTo>
                  <a:cubicBezTo>
                    <a:pt x="44" y="171"/>
                    <a:pt x="60" y="202"/>
                    <a:pt x="74" y="244"/>
                  </a:cubicBezTo>
                  <a:cubicBezTo>
                    <a:pt x="81" y="266"/>
                    <a:pt x="96" y="310"/>
                    <a:pt x="96" y="310"/>
                  </a:cubicBezTo>
                  <a:cubicBezTo>
                    <a:pt x="101" y="347"/>
                    <a:pt x="107" y="399"/>
                    <a:pt x="119" y="436"/>
                  </a:cubicBezTo>
                  <a:cubicBezTo>
                    <a:pt x="150" y="528"/>
                    <a:pt x="119" y="393"/>
                    <a:pt x="141" y="480"/>
                  </a:cubicBezTo>
                  <a:cubicBezTo>
                    <a:pt x="144" y="492"/>
                    <a:pt x="141" y="506"/>
                    <a:pt x="148" y="517"/>
                  </a:cubicBezTo>
                  <a:cubicBezTo>
                    <a:pt x="156" y="529"/>
                    <a:pt x="265" y="546"/>
                    <a:pt x="274" y="547"/>
                  </a:cubicBezTo>
                  <a:cubicBezTo>
                    <a:pt x="349" y="571"/>
                    <a:pt x="392" y="603"/>
                    <a:pt x="473" y="613"/>
                  </a:cubicBezTo>
                  <a:cubicBezTo>
                    <a:pt x="476" y="614"/>
                    <a:pt x="519" y="625"/>
                    <a:pt x="525" y="628"/>
                  </a:cubicBezTo>
                  <a:cubicBezTo>
                    <a:pt x="537" y="635"/>
                    <a:pt x="569" y="663"/>
                    <a:pt x="591" y="665"/>
                  </a:cubicBezTo>
                  <a:cubicBezTo>
                    <a:pt x="633" y="669"/>
                    <a:pt x="675" y="670"/>
                    <a:pt x="717" y="672"/>
                  </a:cubicBezTo>
                  <a:cubicBezTo>
                    <a:pt x="741" y="681"/>
                    <a:pt x="766" y="686"/>
                    <a:pt x="791" y="694"/>
                  </a:cubicBezTo>
                  <a:cubicBezTo>
                    <a:pt x="856" y="738"/>
                    <a:pt x="917" y="787"/>
                    <a:pt x="997" y="798"/>
                  </a:cubicBezTo>
                  <a:cubicBezTo>
                    <a:pt x="1044" y="805"/>
                    <a:pt x="1138" y="813"/>
                    <a:pt x="1138" y="813"/>
                  </a:cubicBezTo>
                  <a:cubicBezTo>
                    <a:pt x="1181" y="823"/>
                    <a:pt x="1223" y="844"/>
                    <a:pt x="1263" y="864"/>
                  </a:cubicBezTo>
                  <a:cubicBezTo>
                    <a:pt x="1554" y="862"/>
                    <a:pt x="1844" y="862"/>
                    <a:pt x="2135" y="857"/>
                  </a:cubicBezTo>
                  <a:cubicBezTo>
                    <a:pt x="2158" y="857"/>
                    <a:pt x="2201" y="835"/>
                    <a:pt x="2201" y="835"/>
                  </a:cubicBezTo>
                  <a:cubicBezTo>
                    <a:pt x="2238" y="809"/>
                    <a:pt x="2284" y="802"/>
                    <a:pt x="2327" y="790"/>
                  </a:cubicBezTo>
                  <a:cubicBezTo>
                    <a:pt x="2340" y="786"/>
                    <a:pt x="2378" y="786"/>
                    <a:pt x="2378" y="768"/>
                  </a:cubicBezTo>
                  <a:cubicBezTo>
                    <a:pt x="2748" y="741"/>
                    <a:pt x="2879" y="862"/>
                    <a:pt x="2836" y="591"/>
                  </a:cubicBezTo>
                  <a:cubicBezTo>
                    <a:pt x="2831" y="519"/>
                    <a:pt x="2835" y="425"/>
                    <a:pt x="2792" y="362"/>
                  </a:cubicBezTo>
                  <a:cubicBezTo>
                    <a:pt x="2698" y="369"/>
                    <a:pt x="2605" y="378"/>
                    <a:pt x="2511" y="384"/>
                  </a:cubicBezTo>
                  <a:cubicBezTo>
                    <a:pt x="2424" y="443"/>
                    <a:pt x="2330" y="410"/>
                    <a:pt x="2216" y="414"/>
                  </a:cubicBezTo>
                  <a:cubicBezTo>
                    <a:pt x="2171" y="445"/>
                    <a:pt x="2114" y="435"/>
                    <a:pt x="2061" y="443"/>
                  </a:cubicBezTo>
                  <a:cubicBezTo>
                    <a:pt x="1972" y="475"/>
                    <a:pt x="1768" y="462"/>
                    <a:pt x="1677" y="465"/>
                  </a:cubicBezTo>
                  <a:cubicBezTo>
                    <a:pt x="1203" y="458"/>
                    <a:pt x="1336" y="451"/>
                    <a:pt x="1049" y="436"/>
                  </a:cubicBezTo>
                  <a:cubicBezTo>
                    <a:pt x="1015" y="387"/>
                    <a:pt x="927" y="401"/>
                    <a:pt x="872" y="392"/>
                  </a:cubicBezTo>
                  <a:cubicBezTo>
                    <a:pt x="819" y="356"/>
                    <a:pt x="794" y="367"/>
                    <a:pt x="717" y="362"/>
                  </a:cubicBezTo>
                  <a:cubicBezTo>
                    <a:pt x="678" y="336"/>
                    <a:pt x="657" y="338"/>
                    <a:pt x="606" y="333"/>
                  </a:cubicBezTo>
                  <a:cubicBezTo>
                    <a:pt x="557" y="308"/>
                    <a:pt x="542" y="309"/>
                    <a:pt x="480" y="303"/>
                  </a:cubicBezTo>
                  <a:cubicBezTo>
                    <a:pt x="455" y="297"/>
                    <a:pt x="432" y="289"/>
                    <a:pt x="407" y="281"/>
                  </a:cubicBezTo>
                  <a:cubicBezTo>
                    <a:pt x="430" y="208"/>
                    <a:pt x="302" y="220"/>
                    <a:pt x="259" y="214"/>
                  </a:cubicBezTo>
                  <a:cubicBezTo>
                    <a:pt x="245" y="205"/>
                    <a:pt x="229" y="201"/>
                    <a:pt x="215" y="192"/>
                  </a:cubicBezTo>
                  <a:cubicBezTo>
                    <a:pt x="206" y="186"/>
                    <a:pt x="201" y="176"/>
                    <a:pt x="192" y="170"/>
                  </a:cubicBezTo>
                  <a:cubicBezTo>
                    <a:pt x="183" y="164"/>
                    <a:pt x="173" y="160"/>
                    <a:pt x="163" y="155"/>
                  </a:cubicBezTo>
                  <a:cubicBezTo>
                    <a:pt x="137" y="117"/>
                    <a:pt x="98" y="84"/>
                    <a:pt x="59" y="59"/>
                  </a:cubicBezTo>
                  <a:cubicBezTo>
                    <a:pt x="54" y="52"/>
                    <a:pt x="51" y="43"/>
                    <a:pt x="45" y="37"/>
                  </a:cubicBezTo>
                  <a:cubicBezTo>
                    <a:pt x="33" y="24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07"/>
            <p:cNvSpPr/>
            <p:nvPr/>
          </p:nvSpPr>
          <p:spPr>
            <a:xfrm>
              <a:off x="-304920" y="5427720"/>
              <a:ext cx="4900680" cy="907920"/>
            </a:xfrm>
            <a:custGeom>
              <a:avLst/>
              <a:gdLst/>
              <a:ahLst/>
              <a:rect l="l" t="t" r="r" b="b"/>
              <a:pathLst>
                <a:path w="3087" h="572">
                  <a:moveTo>
                    <a:pt x="148" y="266"/>
                  </a:moveTo>
                  <a:cubicBezTo>
                    <a:pt x="141" y="258"/>
                    <a:pt x="126" y="254"/>
                    <a:pt x="126" y="243"/>
                  </a:cubicBezTo>
                  <a:cubicBezTo>
                    <a:pt x="126" y="235"/>
                    <a:pt x="140" y="236"/>
                    <a:pt x="148" y="236"/>
                  </a:cubicBezTo>
                  <a:cubicBezTo>
                    <a:pt x="175" y="236"/>
                    <a:pt x="202" y="241"/>
                    <a:pt x="229" y="243"/>
                  </a:cubicBezTo>
                  <a:cubicBezTo>
                    <a:pt x="264" y="257"/>
                    <a:pt x="295" y="266"/>
                    <a:pt x="332" y="273"/>
                  </a:cubicBezTo>
                  <a:cubicBezTo>
                    <a:pt x="332" y="273"/>
                    <a:pt x="323" y="258"/>
                    <a:pt x="318" y="251"/>
                  </a:cubicBezTo>
                  <a:cubicBezTo>
                    <a:pt x="373" y="222"/>
                    <a:pt x="532" y="250"/>
                    <a:pt x="450" y="221"/>
                  </a:cubicBezTo>
                  <a:cubicBezTo>
                    <a:pt x="524" y="199"/>
                    <a:pt x="606" y="234"/>
                    <a:pt x="672" y="192"/>
                  </a:cubicBezTo>
                  <a:cubicBezTo>
                    <a:pt x="724" y="197"/>
                    <a:pt x="747" y="198"/>
                    <a:pt x="790" y="214"/>
                  </a:cubicBezTo>
                  <a:cubicBezTo>
                    <a:pt x="827" y="160"/>
                    <a:pt x="839" y="178"/>
                    <a:pt x="916" y="184"/>
                  </a:cubicBezTo>
                  <a:cubicBezTo>
                    <a:pt x="959" y="200"/>
                    <a:pt x="919" y="193"/>
                    <a:pt x="953" y="170"/>
                  </a:cubicBezTo>
                  <a:cubicBezTo>
                    <a:pt x="961" y="164"/>
                    <a:pt x="972" y="165"/>
                    <a:pt x="982" y="162"/>
                  </a:cubicBezTo>
                  <a:cubicBezTo>
                    <a:pt x="1000" y="163"/>
                    <a:pt x="1111" y="183"/>
                    <a:pt x="1152" y="170"/>
                  </a:cubicBezTo>
                  <a:cubicBezTo>
                    <a:pt x="1205" y="134"/>
                    <a:pt x="1173" y="149"/>
                    <a:pt x="1292" y="162"/>
                  </a:cubicBezTo>
                  <a:cubicBezTo>
                    <a:pt x="1320" y="165"/>
                    <a:pt x="1374" y="177"/>
                    <a:pt x="1374" y="177"/>
                  </a:cubicBezTo>
                  <a:cubicBezTo>
                    <a:pt x="1396" y="175"/>
                    <a:pt x="1419" y="177"/>
                    <a:pt x="1440" y="170"/>
                  </a:cubicBezTo>
                  <a:cubicBezTo>
                    <a:pt x="1447" y="167"/>
                    <a:pt x="1414" y="169"/>
                    <a:pt x="1418" y="162"/>
                  </a:cubicBezTo>
                  <a:cubicBezTo>
                    <a:pt x="1425" y="151"/>
                    <a:pt x="1443" y="152"/>
                    <a:pt x="1455" y="147"/>
                  </a:cubicBezTo>
                  <a:cubicBezTo>
                    <a:pt x="1492" y="150"/>
                    <a:pt x="1529" y="152"/>
                    <a:pt x="1566" y="155"/>
                  </a:cubicBezTo>
                  <a:cubicBezTo>
                    <a:pt x="1583" y="157"/>
                    <a:pt x="1601" y="168"/>
                    <a:pt x="1617" y="162"/>
                  </a:cubicBezTo>
                  <a:cubicBezTo>
                    <a:pt x="1624" y="160"/>
                    <a:pt x="1612" y="147"/>
                    <a:pt x="1610" y="140"/>
                  </a:cubicBezTo>
                  <a:cubicBezTo>
                    <a:pt x="1681" y="138"/>
                    <a:pt x="1753" y="141"/>
                    <a:pt x="1824" y="133"/>
                  </a:cubicBezTo>
                  <a:cubicBezTo>
                    <a:pt x="1835" y="132"/>
                    <a:pt x="1794" y="129"/>
                    <a:pt x="1794" y="118"/>
                  </a:cubicBezTo>
                  <a:cubicBezTo>
                    <a:pt x="1794" y="108"/>
                    <a:pt x="1814" y="113"/>
                    <a:pt x="1824" y="110"/>
                  </a:cubicBezTo>
                  <a:cubicBezTo>
                    <a:pt x="1871" y="117"/>
                    <a:pt x="1918" y="125"/>
                    <a:pt x="1964" y="140"/>
                  </a:cubicBezTo>
                  <a:cubicBezTo>
                    <a:pt x="1979" y="138"/>
                    <a:pt x="1998" y="144"/>
                    <a:pt x="2009" y="133"/>
                  </a:cubicBezTo>
                  <a:cubicBezTo>
                    <a:pt x="2015" y="127"/>
                    <a:pt x="1988" y="117"/>
                    <a:pt x="1994" y="110"/>
                  </a:cubicBezTo>
                  <a:cubicBezTo>
                    <a:pt x="2001" y="103"/>
                    <a:pt x="2013" y="115"/>
                    <a:pt x="2023" y="118"/>
                  </a:cubicBezTo>
                  <a:cubicBezTo>
                    <a:pt x="2056" y="127"/>
                    <a:pt x="2087" y="143"/>
                    <a:pt x="2119" y="155"/>
                  </a:cubicBezTo>
                  <a:cubicBezTo>
                    <a:pt x="2180" y="135"/>
                    <a:pt x="2171" y="143"/>
                    <a:pt x="2230" y="162"/>
                  </a:cubicBezTo>
                  <a:cubicBezTo>
                    <a:pt x="2271" y="190"/>
                    <a:pt x="2235" y="176"/>
                    <a:pt x="2267" y="155"/>
                  </a:cubicBezTo>
                  <a:cubicBezTo>
                    <a:pt x="2276" y="149"/>
                    <a:pt x="2287" y="150"/>
                    <a:pt x="2297" y="147"/>
                  </a:cubicBezTo>
                  <a:cubicBezTo>
                    <a:pt x="2327" y="155"/>
                    <a:pt x="2355" y="164"/>
                    <a:pt x="2385" y="170"/>
                  </a:cubicBezTo>
                  <a:cubicBezTo>
                    <a:pt x="2407" y="180"/>
                    <a:pt x="2433" y="199"/>
                    <a:pt x="2459" y="177"/>
                  </a:cubicBezTo>
                  <a:cubicBezTo>
                    <a:pt x="2469" y="169"/>
                    <a:pt x="2464" y="152"/>
                    <a:pt x="2466" y="140"/>
                  </a:cubicBezTo>
                  <a:cubicBezTo>
                    <a:pt x="2527" y="144"/>
                    <a:pt x="2592" y="172"/>
                    <a:pt x="2629" y="118"/>
                  </a:cubicBezTo>
                  <a:cubicBezTo>
                    <a:pt x="2722" y="136"/>
                    <a:pt x="2701" y="134"/>
                    <a:pt x="2865" y="118"/>
                  </a:cubicBezTo>
                  <a:cubicBezTo>
                    <a:pt x="2874" y="117"/>
                    <a:pt x="2878" y="105"/>
                    <a:pt x="2887" y="103"/>
                  </a:cubicBezTo>
                  <a:cubicBezTo>
                    <a:pt x="2909" y="98"/>
                    <a:pt x="2932" y="98"/>
                    <a:pt x="2954" y="96"/>
                  </a:cubicBezTo>
                  <a:cubicBezTo>
                    <a:pt x="2975" y="55"/>
                    <a:pt x="2961" y="48"/>
                    <a:pt x="3006" y="37"/>
                  </a:cubicBezTo>
                  <a:cubicBezTo>
                    <a:pt x="3037" y="16"/>
                    <a:pt x="3050" y="0"/>
                    <a:pt x="3087" y="0"/>
                  </a:cubicBezTo>
                  <a:lnTo>
                    <a:pt x="2976" y="380"/>
                  </a:lnTo>
                  <a:lnTo>
                    <a:pt x="2784" y="428"/>
                  </a:lnTo>
                  <a:lnTo>
                    <a:pt x="2064" y="428"/>
                  </a:lnTo>
                  <a:lnTo>
                    <a:pt x="2112" y="476"/>
                  </a:lnTo>
                  <a:lnTo>
                    <a:pt x="1392" y="476"/>
                  </a:lnTo>
                  <a:lnTo>
                    <a:pt x="480" y="524"/>
                  </a:lnTo>
                  <a:lnTo>
                    <a:pt x="0" y="572"/>
                  </a:lnTo>
                  <a:lnTo>
                    <a:pt x="148" y="26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2"/>
            <p:cNvSpPr/>
            <p:nvPr/>
          </p:nvSpPr>
          <p:spPr>
            <a:xfrm>
              <a:off x="2106720" y="6067440"/>
              <a:ext cx="1743120" cy="249120"/>
            </a:xfrm>
            <a:custGeom>
              <a:avLst/>
              <a:gdLst/>
              <a:ahLst/>
              <a:rect l="l" t="t" r="r" b="b"/>
              <a:pathLst>
                <a:path w="1098" h="157">
                  <a:moveTo>
                    <a:pt x="30" y="81"/>
                  </a:moveTo>
                  <a:cubicBezTo>
                    <a:pt x="77" y="98"/>
                    <a:pt x="127" y="103"/>
                    <a:pt x="174" y="119"/>
                  </a:cubicBezTo>
                  <a:cubicBezTo>
                    <a:pt x="181" y="116"/>
                    <a:pt x="188" y="110"/>
                    <a:pt x="196" y="111"/>
                  </a:cubicBezTo>
                  <a:cubicBezTo>
                    <a:pt x="206" y="113"/>
                    <a:pt x="251" y="143"/>
                    <a:pt x="272" y="149"/>
                  </a:cubicBezTo>
                  <a:cubicBezTo>
                    <a:pt x="244" y="108"/>
                    <a:pt x="254" y="134"/>
                    <a:pt x="310" y="134"/>
                  </a:cubicBezTo>
                  <a:cubicBezTo>
                    <a:pt x="314" y="134"/>
                    <a:pt x="353" y="120"/>
                    <a:pt x="356" y="119"/>
                  </a:cubicBezTo>
                  <a:cubicBezTo>
                    <a:pt x="376" y="122"/>
                    <a:pt x="396" y="122"/>
                    <a:pt x="416" y="127"/>
                  </a:cubicBezTo>
                  <a:cubicBezTo>
                    <a:pt x="427" y="130"/>
                    <a:pt x="435" y="139"/>
                    <a:pt x="446" y="142"/>
                  </a:cubicBezTo>
                  <a:cubicBezTo>
                    <a:pt x="469" y="149"/>
                    <a:pt x="515" y="157"/>
                    <a:pt x="515" y="157"/>
                  </a:cubicBezTo>
                  <a:cubicBezTo>
                    <a:pt x="505" y="149"/>
                    <a:pt x="489" y="146"/>
                    <a:pt x="484" y="134"/>
                  </a:cubicBezTo>
                  <a:cubicBezTo>
                    <a:pt x="481" y="127"/>
                    <a:pt x="494" y="123"/>
                    <a:pt x="500" y="119"/>
                  </a:cubicBezTo>
                  <a:cubicBezTo>
                    <a:pt x="524" y="104"/>
                    <a:pt x="534" y="103"/>
                    <a:pt x="560" y="96"/>
                  </a:cubicBezTo>
                  <a:cubicBezTo>
                    <a:pt x="602" y="101"/>
                    <a:pt x="629" y="105"/>
                    <a:pt x="666" y="119"/>
                  </a:cubicBezTo>
                  <a:cubicBezTo>
                    <a:pt x="711" y="97"/>
                    <a:pt x="686" y="100"/>
                    <a:pt x="742" y="119"/>
                  </a:cubicBezTo>
                  <a:cubicBezTo>
                    <a:pt x="750" y="122"/>
                    <a:pt x="765" y="127"/>
                    <a:pt x="765" y="127"/>
                  </a:cubicBezTo>
                  <a:cubicBezTo>
                    <a:pt x="767" y="119"/>
                    <a:pt x="766" y="109"/>
                    <a:pt x="772" y="104"/>
                  </a:cubicBezTo>
                  <a:cubicBezTo>
                    <a:pt x="792" y="88"/>
                    <a:pt x="838" y="90"/>
                    <a:pt x="863" y="81"/>
                  </a:cubicBezTo>
                  <a:cubicBezTo>
                    <a:pt x="947" y="103"/>
                    <a:pt x="842" y="81"/>
                    <a:pt x="924" y="81"/>
                  </a:cubicBezTo>
                  <a:cubicBezTo>
                    <a:pt x="953" y="81"/>
                    <a:pt x="999" y="90"/>
                    <a:pt x="1030" y="96"/>
                  </a:cubicBezTo>
                  <a:cubicBezTo>
                    <a:pt x="1038" y="94"/>
                    <a:pt x="1047" y="95"/>
                    <a:pt x="1053" y="89"/>
                  </a:cubicBezTo>
                  <a:cubicBezTo>
                    <a:pt x="1059" y="83"/>
                    <a:pt x="1053" y="71"/>
                    <a:pt x="1060" y="66"/>
                  </a:cubicBezTo>
                  <a:cubicBezTo>
                    <a:pt x="1071" y="59"/>
                    <a:pt x="1085" y="61"/>
                    <a:pt x="1098" y="58"/>
                  </a:cubicBezTo>
                  <a:cubicBezTo>
                    <a:pt x="1040" y="0"/>
                    <a:pt x="1011" y="34"/>
                    <a:pt x="909" y="36"/>
                  </a:cubicBezTo>
                  <a:cubicBezTo>
                    <a:pt x="661" y="40"/>
                    <a:pt x="414" y="41"/>
                    <a:pt x="166" y="43"/>
                  </a:cubicBezTo>
                  <a:cubicBezTo>
                    <a:pt x="98" y="55"/>
                    <a:pt x="136" y="48"/>
                    <a:pt x="52" y="66"/>
                  </a:cubicBezTo>
                  <a:cubicBezTo>
                    <a:pt x="37" y="69"/>
                    <a:pt x="20" y="65"/>
                    <a:pt x="7" y="74"/>
                  </a:cubicBezTo>
                  <a:cubicBezTo>
                    <a:pt x="0" y="79"/>
                    <a:pt x="22" y="79"/>
                    <a:pt x="30" y="81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87"/>
            <p:cNvSpPr/>
            <p:nvPr/>
          </p:nvSpPr>
          <p:spPr>
            <a:xfrm>
              <a:off x="-222120" y="1133640"/>
              <a:ext cx="1670040" cy="4047840"/>
            </a:xfrm>
            <a:custGeom>
              <a:avLst/>
              <a:gdLst/>
              <a:ahLst/>
              <a:rect l="l" t="t" r="r" b="b"/>
              <a:pathLst>
                <a:path w="1052" h="2550">
                  <a:moveTo>
                    <a:pt x="92" y="486"/>
                  </a:moveTo>
                  <a:lnTo>
                    <a:pt x="332" y="582"/>
                  </a:lnTo>
                  <a:lnTo>
                    <a:pt x="524" y="774"/>
                  </a:lnTo>
                  <a:lnTo>
                    <a:pt x="524" y="1398"/>
                  </a:lnTo>
                  <a:lnTo>
                    <a:pt x="524" y="2262"/>
                  </a:lnTo>
                  <a:lnTo>
                    <a:pt x="428" y="2550"/>
                  </a:lnTo>
                  <a:cubicBezTo>
                    <a:pt x="476" y="2534"/>
                    <a:pt x="526" y="2523"/>
                    <a:pt x="572" y="2502"/>
                  </a:cubicBezTo>
                  <a:cubicBezTo>
                    <a:pt x="578" y="2499"/>
                    <a:pt x="620" y="2449"/>
                    <a:pt x="635" y="2439"/>
                  </a:cubicBezTo>
                  <a:cubicBezTo>
                    <a:pt x="674" y="2453"/>
                    <a:pt x="660" y="2435"/>
                    <a:pt x="672" y="2402"/>
                  </a:cubicBezTo>
                  <a:cubicBezTo>
                    <a:pt x="679" y="2407"/>
                    <a:pt x="689" y="2410"/>
                    <a:pt x="694" y="2417"/>
                  </a:cubicBezTo>
                  <a:cubicBezTo>
                    <a:pt x="714" y="2443"/>
                    <a:pt x="683" y="2445"/>
                    <a:pt x="723" y="2432"/>
                  </a:cubicBezTo>
                  <a:cubicBezTo>
                    <a:pt x="774" y="2465"/>
                    <a:pt x="763" y="2478"/>
                    <a:pt x="775" y="2439"/>
                  </a:cubicBezTo>
                  <a:cubicBezTo>
                    <a:pt x="806" y="2452"/>
                    <a:pt x="836" y="2457"/>
                    <a:pt x="864" y="2476"/>
                  </a:cubicBezTo>
                  <a:cubicBezTo>
                    <a:pt x="866" y="2461"/>
                    <a:pt x="862" y="2444"/>
                    <a:pt x="871" y="2432"/>
                  </a:cubicBezTo>
                  <a:cubicBezTo>
                    <a:pt x="887" y="2411"/>
                    <a:pt x="897" y="2449"/>
                    <a:pt x="901" y="2461"/>
                  </a:cubicBezTo>
                  <a:cubicBezTo>
                    <a:pt x="908" y="2456"/>
                    <a:pt x="914" y="2447"/>
                    <a:pt x="923" y="2447"/>
                  </a:cubicBezTo>
                  <a:cubicBezTo>
                    <a:pt x="938" y="2447"/>
                    <a:pt x="967" y="2461"/>
                    <a:pt x="967" y="2461"/>
                  </a:cubicBezTo>
                  <a:lnTo>
                    <a:pt x="956" y="2262"/>
                  </a:lnTo>
                  <a:lnTo>
                    <a:pt x="860" y="1974"/>
                  </a:lnTo>
                  <a:lnTo>
                    <a:pt x="860" y="1398"/>
                  </a:lnTo>
                  <a:lnTo>
                    <a:pt x="908" y="1014"/>
                  </a:lnTo>
                  <a:lnTo>
                    <a:pt x="1052" y="726"/>
                  </a:lnTo>
                  <a:cubicBezTo>
                    <a:pt x="1047" y="689"/>
                    <a:pt x="1008" y="448"/>
                    <a:pt x="989" y="386"/>
                  </a:cubicBezTo>
                  <a:cubicBezTo>
                    <a:pt x="983" y="368"/>
                    <a:pt x="963" y="358"/>
                    <a:pt x="952" y="342"/>
                  </a:cubicBezTo>
                  <a:cubicBezTo>
                    <a:pt x="950" y="320"/>
                    <a:pt x="950" y="297"/>
                    <a:pt x="945" y="276"/>
                  </a:cubicBezTo>
                  <a:cubicBezTo>
                    <a:pt x="943" y="267"/>
                    <a:pt x="931" y="262"/>
                    <a:pt x="930" y="253"/>
                  </a:cubicBezTo>
                  <a:cubicBezTo>
                    <a:pt x="914" y="152"/>
                    <a:pt x="955" y="136"/>
                    <a:pt x="878" y="113"/>
                  </a:cubicBezTo>
                  <a:cubicBezTo>
                    <a:pt x="873" y="106"/>
                    <a:pt x="871" y="97"/>
                    <a:pt x="864" y="91"/>
                  </a:cubicBezTo>
                  <a:cubicBezTo>
                    <a:pt x="850" y="79"/>
                    <a:pt x="819" y="61"/>
                    <a:pt x="819" y="61"/>
                  </a:cubicBezTo>
                  <a:cubicBezTo>
                    <a:pt x="814" y="54"/>
                    <a:pt x="814" y="40"/>
                    <a:pt x="805" y="39"/>
                  </a:cubicBezTo>
                  <a:cubicBezTo>
                    <a:pt x="765" y="35"/>
                    <a:pt x="726" y="47"/>
                    <a:pt x="686" y="47"/>
                  </a:cubicBezTo>
                  <a:cubicBezTo>
                    <a:pt x="654" y="47"/>
                    <a:pt x="622" y="42"/>
                    <a:pt x="590" y="39"/>
                  </a:cubicBezTo>
                  <a:cubicBezTo>
                    <a:pt x="549" y="48"/>
                    <a:pt x="522" y="55"/>
                    <a:pt x="480" y="47"/>
                  </a:cubicBezTo>
                  <a:cubicBezTo>
                    <a:pt x="412" y="0"/>
                    <a:pt x="476" y="39"/>
                    <a:pt x="295" y="24"/>
                  </a:cubicBezTo>
                  <a:cubicBezTo>
                    <a:pt x="287" y="23"/>
                    <a:pt x="280" y="19"/>
                    <a:pt x="273" y="17"/>
                  </a:cubicBezTo>
                  <a:cubicBezTo>
                    <a:pt x="263" y="14"/>
                    <a:pt x="253" y="11"/>
                    <a:pt x="243" y="10"/>
                  </a:cubicBezTo>
                  <a:cubicBezTo>
                    <a:pt x="119" y="1"/>
                    <a:pt x="97" y="2"/>
                    <a:pt x="0" y="2"/>
                  </a:cubicBezTo>
                  <a:lnTo>
                    <a:pt x="92" y="4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02"/>
            <p:cNvSpPr/>
            <p:nvPr/>
          </p:nvSpPr>
          <p:spPr>
            <a:xfrm>
              <a:off x="-304920" y="1143000"/>
              <a:ext cx="1600200" cy="380880"/>
            </a:xfrm>
            <a:custGeom>
              <a:avLst/>
              <a:gdLst/>
              <a:ahLst/>
              <a:rect l="l" t="t" r="r" b="b"/>
              <a:pathLst>
                <a:path w="1008" h="240">
                  <a:moveTo>
                    <a:pt x="48" y="0"/>
                  </a:moveTo>
                  <a:lnTo>
                    <a:pt x="480" y="48"/>
                  </a:lnTo>
                  <a:lnTo>
                    <a:pt x="816" y="48"/>
                  </a:lnTo>
                  <a:lnTo>
                    <a:pt x="960" y="144"/>
                  </a:lnTo>
                  <a:lnTo>
                    <a:pt x="1008" y="240"/>
                  </a:lnTo>
                  <a:lnTo>
                    <a:pt x="768" y="192"/>
                  </a:lnTo>
                  <a:lnTo>
                    <a:pt x="384" y="144"/>
                  </a:lnTo>
                  <a:lnTo>
                    <a:pt x="48" y="144"/>
                  </a:lnTo>
                  <a:lnTo>
                    <a:pt x="0" y="0"/>
                  </a:lnTo>
                  <a:lnTo>
                    <a:pt x="96" y="0"/>
                  </a:lnTo>
                  <a:lnTo>
                    <a:pt x="144" y="0"/>
                  </a:lnTo>
                  <a:lnTo>
                    <a:pt x="96" y="0"/>
                  </a:lnTo>
                  <a:lnTo>
                    <a:pt x="144" y="48"/>
                  </a:lnTo>
                  <a:lnTo>
                    <a:pt x="96" y="0"/>
                  </a:lnTo>
                  <a:lnTo>
                    <a:pt x="14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86"/>
            <p:cNvSpPr/>
            <p:nvPr/>
          </p:nvSpPr>
          <p:spPr>
            <a:xfrm>
              <a:off x="-152280" y="1905120"/>
              <a:ext cx="838080" cy="3276360"/>
            </a:xfrm>
            <a:custGeom>
              <a:avLst/>
              <a:gdLst/>
              <a:ahLst/>
              <a:rect l="l" t="t" r="r" b="b"/>
              <a:pathLst>
                <a:path w="528" h="2064">
                  <a:moveTo>
                    <a:pt x="0" y="0"/>
                  </a:moveTo>
                  <a:lnTo>
                    <a:pt x="384" y="144"/>
                  </a:lnTo>
                  <a:lnTo>
                    <a:pt x="480" y="336"/>
                  </a:lnTo>
                  <a:lnTo>
                    <a:pt x="528" y="912"/>
                  </a:lnTo>
                  <a:lnTo>
                    <a:pt x="480" y="1584"/>
                  </a:lnTo>
                  <a:lnTo>
                    <a:pt x="432" y="2064"/>
                  </a:lnTo>
                  <a:lnTo>
                    <a:pt x="192" y="2016"/>
                  </a:lnTo>
                  <a:lnTo>
                    <a:pt x="240" y="1536"/>
                  </a:lnTo>
                  <a:lnTo>
                    <a:pt x="336" y="960"/>
                  </a:lnTo>
                  <a:lnTo>
                    <a:pt x="240" y="480"/>
                  </a:lnTo>
                  <a:lnTo>
                    <a:pt x="192" y="192"/>
                  </a:lnTo>
                  <a:lnTo>
                    <a:pt x="48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8"/>
            <p:cNvSpPr/>
            <p:nvPr/>
          </p:nvSpPr>
          <p:spPr>
            <a:xfrm>
              <a:off x="1687680" y="533520"/>
              <a:ext cx="4876560" cy="4647960"/>
            </a:xfrm>
            <a:custGeom>
              <a:avLst/>
              <a:gdLst/>
              <a:ahLst/>
              <a:rect l="l" t="t" r="r" b="b"/>
              <a:pathLst>
                <a:path w="3072" h="2928">
                  <a:moveTo>
                    <a:pt x="0" y="432"/>
                  </a:moveTo>
                  <a:lnTo>
                    <a:pt x="480" y="336"/>
                  </a:lnTo>
                  <a:lnTo>
                    <a:pt x="1008" y="240"/>
                  </a:lnTo>
                  <a:lnTo>
                    <a:pt x="1488" y="144"/>
                  </a:lnTo>
                  <a:lnTo>
                    <a:pt x="1776" y="0"/>
                  </a:lnTo>
                  <a:lnTo>
                    <a:pt x="2064" y="48"/>
                  </a:lnTo>
                  <a:lnTo>
                    <a:pt x="2448" y="192"/>
                  </a:lnTo>
                  <a:lnTo>
                    <a:pt x="2832" y="144"/>
                  </a:lnTo>
                  <a:lnTo>
                    <a:pt x="2880" y="1776"/>
                  </a:lnTo>
                  <a:lnTo>
                    <a:pt x="2976" y="2544"/>
                  </a:lnTo>
                  <a:lnTo>
                    <a:pt x="3072" y="2784"/>
                  </a:lnTo>
                  <a:lnTo>
                    <a:pt x="2592" y="2928"/>
                  </a:lnTo>
                  <a:lnTo>
                    <a:pt x="2352" y="2832"/>
                  </a:lnTo>
                  <a:lnTo>
                    <a:pt x="2496" y="2112"/>
                  </a:lnTo>
                  <a:lnTo>
                    <a:pt x="2352" y="912"/>
                  </a:lnTo>
                  <a:lnTo>
                    <a:pt x="2064" y="576"/>
                  </a:lnTo>
                  <a:lnTo>
                    <a:pt x="1632" y="576"/>
                  </a:lnTo>
                  <a:lnTo>
                    <a:pt x="1440" y="960"/>
                  </a:lnTo>
                  <a:lnTo>
                    <a:pt x="1296" y="1728"/>
                  </a:lnTo>
                  <a:lnTo>
                    <a:pt x="1296" y="2448"/>
                  </a:lnTo>
                  <a:lnTo>
                    <a:pt x="1344" y="2688"/>
                  </a:lnTo>
                  <a:lnTo>
                    <a:pt x="1152" y="2496"/>
                  </a:lnTo>
                  <a:lnTo>
                    <a:pt x="1008" y="2688"/>
                  </a:lnTo>
                  <a:lnTo>
                    <a:pt x="912" y="2592"/>
                  </a:lnTo>
                  <a:lnTo>
                    <a:pt x="672" y="2832"/>
                  </a:lnTo>
                  <a:lnTo>
                    <a:pt x="912" y="2160"/>
                  </a:lnTo>
                  <a:lnTo>
                    <a:pt x="816" y="1248"/>
                  </a:lnTo>
                  <a:lnTo>
                    <a:pt x="528" y="960"/>
                  </a:lnTo>
                  <a:lnTo>
                    <a:pt x="384" y="816"/>
                  </a:lnTo>
                  <a:lnTo>
                    <a:pt x="192" y="912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97"/>
            <p:cNvSpPr/>
            <p:nvPr/>
          </p:nvSpPr>
          <p:spPr>
            <a:xfrm>
              <a:off x="2286000" y="1065240"/>
              <a:ext cx="1587600" cy="547560"/>
            </a:xfrm>
            <a:custGeom>
              <a:avLst/>
              <a:gdLst/>
              <a:ahLst/>
              <a:rect l="l" t="t" r="r" b="b"/>
              <a:pathLst>
                <a:path w="1000" h="345">
                  <a:moveTo>
                    <a:pt x="167" y="163"/>
                  </a:moveTo>
                  <a:cubicBezTo>
                    <a:pt x="174" y="168"/>
                    <a:pt x="180" y="177"/>
                    <a:pt x="189" y="178"/>
                  </a:cubicBezTo>
                  <a:cubicBezTo>
                    <a:pt x="197" y="179"/>
                    <a:pt x="205" y="165"/>
                    <a:pt x="212" y="170"/>
                  </a:cubicBezTo>
                  <a:cubicBezTo>
                    <a:pt x="227" y="181"/>
                    <a:pt x="243" y="216"/>
                    <a:pt x="243" y="216"/>
                  </a:cubicBezTo>
                  <a:cubicBezTo>
                    <a:pt x="254" y="166"/>
                    <a:pt x="242" y="185"/>
                    <a:pt x="265" y="208"/>
                  </a:cubicBezTo>
                  <a:cubicBezTo>
                    <a:pt x="271" y="214"/>
                    <a:pt x="280" y="218"/>
                    <a:pt x="288" y="223"/>
                  </a:cubicBezTo>
                  <a:cubicBezTo>
                    <a:pt x="301" y="173"/>
                    <a:pt x="307" y="196"/>
                    <a:pt x="349" y="216"/>
                  </a:cubicBezTo>
                  <a:cubicBezTo>
                    <a:pt x="381" y="248"/>
                    <a:pt x="388" y="234"/>
                    <a:pt x="409" y="276"/>
                  </a:cubicBezTo>
                  <a:cubicBezTo>
                    <a:pt x="435" y="204"/>
                    <a:pt x="461" y="262"/>
                    <a:pt x="508" y="276"/>
                  </a:cubicBezTo>
                  <a:cubicBezTo>
                    <a:pt x="553" y="345"/>
                    <a:pt x="493" y="239"/>
                    <a:pt x="500" y="238"/>
                  </a:cubicBezTo>
                  <a:cubicBezTo>
                    <a:pt x="516" y="235"/>
                    <a:pt x="546" y="254"/>
                    <a:pt x="546" y="254"/>
                  </a:cubicBezTo>
                  <a:cubicBezTo>
                    <a:pt x="519" y="225"/>
                    <a:pt x="485" y="210"/>
                    <a:pt x="553" y="223"/>
                  </a:cubicBezTo>
                  <a:cubicBezTo>
                    <a:pt x="546" y="218"/>
                    <a:pt x="531" y="217"/>
                    <a:pt x="531" y="208"/>
                  </a:cubicBezTo>
                  <a:cubicBezTo>
                    <a:pt x="531" y="178"/>
                    <a:pt x="571" y="199"/>
                    <a:pt x="576" y="201"/>
                  </a:cubicBezTo>
                  <a:cubicBezTo>
                    <a:pt x="579" y="186"/>
                    <a:pt x="573" y="166"/>
                    <a:pt x="584" y="155"/>
                  </a:cubicBezTo>
                  <a:cubicBezTo>
                    <a:pt x="591" y="148"/>
                    <a:pt x="604" y="167"/>
                    <a:pt x="614" y="163"/>
                  </a:cubicBezTo>
                  <a:cubicBezTo>
                    <a:pt x="621" y="160"/>
                    <a:pt x="615" y="146"/>
                    <a:pt x="621" y="140"/>
                  </a:cubicBezTo>
                  <a:cubicBezTo>
                    <a:pt x="627" y="134"/>
                    <a:pt x="636" y="135"/>
                    <a:pt x="644" y="132"/>
                  </a:cubicBezTo>
                  <a:cubicBezTo>
                    <a:pt x="671" y="161"/>
                    <a:pt x="674" y="167"/>
                    <a:pt x="697" y="132"/>
                  </a:cubicBezTo>
                  <a:cubicBezTo>
                    <a:pt x="765" y="150"/>
                    <a:pt x="744" y="163"/>
                    <a:pt x="773" y="132"/>
                  </a:cubicBezTo>
                  <a:cubicBezTo>
                    <a:pt x="826" y="150"/>
                    <a:pt x="808" y="160"/>
                    <a:pt x="834" y="132"/>
                  </a:cubicBezTo>
                  <a:cubicBezTo>
                    <a:pt x="788" y="64"/>
                    <a:pt x="887" y="164"/>
                    <a:pt x="841" y="94"/>
                  </a:cubicBezTo>
                  <a:cubicBezTo>
                    <a:pt x="883" y="81"/>
                    <a:pt x="876" y="111"/>
                    <a:pt x="902" y="72"/>
                  </a:cubicBezTo>
                  <a:cubicBezTo>
                    <a:pt x="925" y="74"/>
                    <a:pt x="948" y="75"/>
                    <a:pt x="970" y="79"/>
                  </a:cubicBezTo>
                  <a:cubicBezTo>
                    <a:pt x="978" y="80"/>
                    <a:pt x="986" y="91"/>
                    <a:pt x="993" y="87"/>
                  </a:cubicBezTo>
                  <a:cubicBezTo>
                    <a:pt x="1000" y="83"/>
                    <a:pt x="998" y="72"/>
                    <a:pt x="1000" y="64"/>
                  </a:cubicBezTo>
                  <a:cubicBezTo>
                    <a:pt x="981" y="0"/>
                    <a:pt x="884" y="38"/>
                    <a:pt x="834" y="41"/>
                  </a:cubicBezTo>
                  <a:cubicBezTo>
                    <a:pt x="740" y="55"/>
                    <a:pt x="655" y="72"/>
                    <a:pt x="561" y="79"/>
                  </a:cubicBezTo>
                  <a:cubicBezTo>
                    <a:pt x="533" y="85"/>
                    <a:pt x="504" y="85"/>
                    <a:pt x="477" y="94"/>
                  </a:cubicBezTo>
                  <a:cubicBezTo>
                    <a:pt x="452" y="103"/>
                    <a:pt x="439" y="131"/>
                    <a:pt x="409" y="132"/>
                  </a:cubicBezTo>
                  <a:cubicBezTo>
                    <a:pt x="316" y="137"/>
                    <a:pt x="222" y="137"/>
                    <a:pt x="129" y="140"/>
                  </a:cubicBezTo>
                  <a:cubicBezTo>
                    <a:pt x="121" y="143"/>
                    <a:pt x="113" y="144"/>
                    <a:pt x="106" y="148"/>
                  </a:cubicBezTo>
                  <a:cubicBezTo>
                    <a:pt x="98" y="152"/>
                    <a:pt x="83" y="163"/>
                    <a:pt x="83" y="163"/>
                  </a:cubicBezTo>
                  <a:lnTo>
                    <a:pt x="0" y="193"/>
                  </a:lnTo>
                  <a:lnTo>
                    <a:pt x="167" y="163"/>
                  </a:lnTo>
                  <a:close/>
                </a:path>
              </a:pathLst>
            </a:custGeom>
            <a:solidFill>
              <a:srgbClr val="00a85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03"/>
            <p:cNvSpPr/>
            <p:nvPr/>
          </p:nvSpPr>
          <p:spPr>
            <a:xfrm>
              <a:off x="1676520" y="714240"/>
              <a:ext cx="4430520" cy="681120"/>
            </a:xfrm>
            <a:custGeom>
              <a:avLst/>
              <a:gdLst/>
              <a:ahLst/>
              <a:rect l="l" t="t" r="r" b="b"/>
              <a:pathLst>
                <a:path w="2791" h="429">
                  <a:moveTo>
                    <a:pt x="7" y="348"/>
                  </a:moveTo>
                  <a:cubicBezTo>
                    <a:pt x="46" y="372"/>
                    <a:pt x="80" y="378"/>
                    <a:pt x="126" y="384"/>
                  </a:cubicBezTo>
                  <a:cubicBezTo>
                    <a:pt x="156" y="395"/>
                    <a:pt x="182" y="401"/>
                    <a:pt x="214" y="407"/>
                  </a:cubicBezTo>
                  <a:cubicBezTo>
                    <a:pt x="223" y="413"/>
                    <a:pt x="245" y="429"/>
                    <a:pt x="258" y="429"/>
                  </a:cubicBezTo>
                  <a:cubicBezTo>
                    <a:pt x="276" y="429"/>
                    <a:pt x="292" y="417"/>
                    <a:pt x="310" y="414"/>
                  </a:cubicBezTo>
                  <a:cubicBezTo>
                    <a:pt x="332" y="411"/>
                    <a:pt x="355" y="409"/>
                    <a:pt x="377" y="407"/>
                  </a:cubicBezTo>
                  <a:cubicBezTo>
                    <a:pt x="433" y="387"/>
                    <a:pt x="362" y="416"/>
                    <a:pt x="421" y="377"/>
                  </a:cubicBezTo>
                  <a:cubicBezTo>
                    <a:pt x="429" y="372"/>
                    <a:pt x="479" y="362"/>
                    <a:pt x="480" y="362"/>
                  </a:cubicBezTo>
                  <a:cubicBezTo>
                    <a:pt x="583" y="358"/>
                    <a:pt x="687" y="357"/>
                    <a:pt x="790" y="355"/>
                  </a:cubicBezTo>
                  <a:cubicBezTo>
                    <a:pt x="855" y="334"/>
                    <a:pt x="924" y="350"/>
                    <a:pt x="990" y="333"/>
                  </a:cubicBezTo>
                  <a:cubicBezTo>
                    <a:pt x="1021" y="325"/>
                    <a:pt x="1066" y="319"/>
                    <a:pt x="1093" y="303"/>
                  </a:cubicBezTo>
                  <a:cubicBezTo>
                    <a:pt x="1152" y="267"/>
                    <a:pt x="1177" y="247"/>
                    <a:pt x="1248" y="237"/>
                  </a:cubicBezTo>
                  <a:cubicBezTo>
                    <a:pt x="1285" y="224"/>
                    <a:pt x="1309" y="220"/>
                    <a:pt x="1351" y="215"/>
                  </a:cubicBezTo>
                  <a:cubicBezTo>
                    <a:pt x="1378" y="206"/>
                    <a:pt x="1407" y="204"/>
                    <a:pt x="1433" y="192"/>
                  </a:cubicBezTo>
                  <a:cubicBezTo>
                    <a:pt x="1454" y="182"/>
                    <a:pt x="1474" y="165"/>
                    <a:pt x="1499" y="163"/>
                  </a:cubicBezTo>
                  <a:cubicBezTo>
                    <a:pt x="1541" y="159"/>
                    <a:pt x="1583" y="158"/>
                    <a:pt x="1625" y="156"/>
                  </a:cubicBezTo>
                  <a:cubicBezTo>
                    <a:pt x="1648" y="118"/>
                    <a:pt x="1696" y="101"/>
                    <a:pt x="1735" y="82"/>
                  </a:cubicBezTo>
                  <a:cubicBezTo>
                    <a:pt x="1889" y="93"/>
                    <a:pt x="2040" y="106"/>
                    <a:pt x="2193" y="119"/>
                  </a:cubicBezTo>
                  <a:cubicBezTo>
                    <a:pt x="2234" y="145"/>
                    <a:pt x="2532" y="120"/>
                    <a:pt x="2555" y="119"/>
                  </a:cubicBezTo>
                  <a:cubicBezTo>
                    <a:pt x="2602" y="115"/>
                    <a:pt x="2654" y="127"/>
                    <a:pt x="2695" y="104"/>
                  </a:cubicBezTo>
                  <a:cubicBezTo>
                    <a:pt x="2703" y="100"/>
                    <a:pt x="2703" y="88"/>
                    <a:pt x="2710" y="82"/>
                  </a:cubicBezTo>
                  <a:cubicBezTo>
                    <a:pt x="2732" y="64"/>
                    <a:pt x="2765" y="61"/>
                    <a:pt x="2791" y="52"/>
                  </a:cubicBezTo>
                  <a:cubicBezTo>
                    <a:pt x="2773" y="24"/>
                    <a:pt x="2764" y="20"/>
                    <a:pt x="2732" y="30"/>
                  </a:cubicBezTo>
                  <a:cubicBezTo>
                    <a:pt x="2677" y="68"/>
                    <a:pt x="2541" y="56"/>
                    <a:pt x="2481" y="60"/>
                  </a:cubicBezTo>
                  <a:cubicBezTo>
                    <a:pt x="2405" y="84"/>
                    <a:pt x="2320" y="43"/>
                    <a:pt x="2252" y="89"/>
                  </a:cubicBezTo>
                  <a:cubicBezTo>
                    <a:pt x="2230" y="82"/>
                    <a:pt x="2208" y="74"/>
                    <a:pt x="2186" y="67"/>
                  </a:cubicBezTo>
                  <a:cubicBezTo>
                    <a:pt x="2139" y="35"/>
                    <a:pt x="2189" y="60"/>
                    <a:pt x="2142" y="60"/>
                  </a:cubicBezTo>
                  <a:cubicBezTo>
                    <a:pt x="2118" y="60"/>
                    <a:pt x="2098" y="38"/>
                    <a:pt x="2075" y="30"/>
                  </a:cubicBezTo>
                  <a:cubicBezTo>
                    <a:pt x="2030" y="15"/>
                    <a:pt x="1980" y="16"/>
                    <a:pt x="1935" y="0"/>
                  </a:cubicBezTo>
                  <a:cubicBezTo>
                    <a:pt x="1902" y="22"/>
                    <a:pt x="1903" y="13"/>
                    <a:pt x="1868" y="0"/>
                  </a:cubicBezTo>
                  <a:cubicBezTo>
                    <a:pt x="1846" y="71"/>
                    <a:pt x="1669" y="49"/>
                    <a:pt x="1617" y="52"/>
                  </a:cubicBezTo>
                  <a:cubicBezTo>
                    <a:pt x="1615" y="64"/>
                    <a:pt x="1620" y="82"/>
                    <a:pt x="1610" y="89"/>
                  </a:cubicBezTo>
                  <a:cubicBezTo>
                    <a:pt x="1600" y="96"/>
                    <a:pt x="1585" y="85"/>
                    <a:pt x="1573" y="82"/>
                  </a:cubicBezTo>
                  <a:cubicBezTo>
                    <a:pt x="1553" y="77"/>
                    <a:pt x="1514" y="67"/>
                    <a:pt x="1514" y="67"/>
                  </a:cubicBezTo>
                  <a:cubicBezTo>
                    <a:pt x="1502" y="69"/>
                    <a:pt x="1487" y="67"/>
                    <a:pt x="1477" y="74"/>
                  </a:cubicBezTo>
                  <a:cubicBezTo>
                    <a:pt x="1471" y="78"/>
                    <a:pt x="1477" y="94"/>
                    <a:pt x="1470" y="96"/>
                  </a:cubicBezTo>
                  <a:cubicBezTo>
                    <a:pt x="1444" y="105"/>
                    <a:pt x="1415" y="101"/>
                    <a:pt x="1388" y="104"/>
                  </a:cubicBezTo>
                  <a:cubicBezTo>
                    <a:pt x="1222" y="190"/>
                    <a:pt x="1381" y="132"/>
                    <a:pt x="945" y="141"/>
                  </a:cubicBezTo>
                  <a:cubicBezTo>
                    <a:pt x="872" y="164"/>
                    <a:pt x="846" y="165"/>
                    <a:pt x="753" y="170"/>
                  </a:cubicBezTo>
                  <a:cubicBezTo>
                    <a:pt x="688" y="194"/>
                    <a:pt x="614" y="189"/>
                    <a:pt x="546" y="192"/>
                  </a:cubicBezTo>
                  <a:cubicBezTo>
                    <a:pt x="534" y="193"/>
                    <a:pt x="474" y="195"/>
                    <a:pt x="450" y="207"/>
                  </a:cubicBezTo>
                  <a:cubicBezTo>
                    <a:pt x="421" y="221"/>
                    <a:pt x="437" y="224"/>
                    <a:pt x="406" y="229"/>
                  </a:cubicBezTo>
                  <a:cubicBezTo>
                    <a:pt x="349" y="239"/>
                    <a:pt x="293" y="250"/>
                    <a:pt x="236" y="259"/>
                  </a:cubicBezTo>
                  <a:cubicBezTo>
                    <a:pt x="184" y="276"/>
                    <a:pt x="128" y="293"/>
                    <a:pt x="74" y="303"/>
                  </a:cubicBezTo>
                  <a:cubicBezTo>
                    <a:pt x="49" y="320"/>
                    <a:pt x="25" y="323"/>
                    <a:pt x="0" y="340"/>
                  </a:cubicBezTo>
                  <a:cubicBezTo>
                    <a:pt x="8" y="366"/>
                    <a:pt x="7" y="370"/>
                    <a:pt x="7" y="34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58"/>
            <p:cNvSpPr/>
            <p:nvPr/>
          </p:nvSpPr>
          <p:spPr>
            <a:xfrm>
              <a:off x="3560760" y="649440"/>
              <a:ext cx="1744560" cy="264960"/>
            </a:xfrm>
            <a:custGeom>
              <a:avLst/>
              <a:gdLst/>
              <a:ahLst/>
              <a:rect l="l" t="t" r="r" b="b"/>
              <a:pathLst>
                <a:path w="1099" h="167">
                  <a:moveTo>
                    <a:pt x="0" y="129"/>
                  </a:moveTo>
                  <a:cubicBezTo>
                    <a:pt x="21" y="148"/>
                    <a:pt x="43" y="155"/>
                    <a:pt x="69" y="167"/>
                  </a:cubicBezTo>
                  <a:cubicBezTo>
                    <a:pt x="104" y="158"/>
                    <a:pt x="110" y="140"/>
                    <a:pt x="144" y="152"/>
                  </a:cubicBezTo>
                  <a:cubicBezTo>
                    <a:pt x="172" y="126"/>
                    <a:pt x="202" y="140"/>
                    <a:pt x="235" y="152"/>
                  </a:cubicBezTo>
                  <a:cubicBezTo>
                    <a:pt x="265" y="142"/>
                    <a:pt x="326" y="129"/>
                    <a:pt x="326" y="129"/>
                  </a:cubicBezTo>
                  <a:cubicBezTo>
                    <a:pt x="266" y="88"/>
                    <a:pt x="362" y="125"/>
                    <a:pt x="379" y="129"/>
                  </a:cubicBezTo>
                  <a:cubicBezTo>
                    <a:pt x="399" y="127"/>
                    <a:pt x="420" y="128"/>
                    <a:pt x="440" y="122"/>
                  </a:cubicBezTo>
                  <a:cubicBezTo>
                    <a:pt x="447" y="120"/>
                    <a:pt x="449" y="110"/>
                    <a:pt x="455" y="106"/>
                  </a:cubicBezTo>
                  <a:cubicBezTo>
                    <a:pt x="469" y="98"/>
                    <a:pt x="486" y="96"/>
                    <a:pt x="501" y="91"/>
                  </a:cubicBezTo>
                  <a:cubicBezTo>
                    <a:pt x="523" y="99"/>
                    <a:pt x="527" y="107"/>
                    <a:pt x="546" y="84"/>
                  </a:cubicBezTo>
                  <a:cubicBezTo>
                    <a:pt x="551" y="78"/>
                    <a:pt x="547" y="64"/>
                    <a:pt x="554" y="61"/>
                  </a:cubicBezTo>
                  <a:cubicBezTo>
                    <a:pt x="582" y="48"/>
                    <a:pt x="615" y="53"/>
                    <a:pt x="645" y="46"/>
                  </a:cubicBezTo>
                  <a:cubicBezTo>
                    <a:pt x="678" y="68"/>
                    <a:pt x="714" y="80"/>
                    <a:pt x="751" y="91"/>
                  </a:cubicBezTo>
                  <a:cubicBezTo>
                    <a:pt x="803" y="127"/>
                    <a:pt x="790" y="139"/>
                    <a:pt x="804" y="99"/>
                  </a:cubicBezTo>
                  <a:cubicBezTo>
                    <a:pt x="827" y="101"/>
                    <a:pt x="849" y="106"/>
                    <a:pt x="872" y="106"/>
                  </a:cubicBezTo>
                  <a:cubicBezTo>
                    <a:pt x="882" y="106"/>
                    <a:pt x="892" y="99"/>
                    <a:pt x="902" y="99"/>
                  </a:cubicBezTo>
                  <a:cubicBezTo>
                    <a:pt x="928" y="99"/>
                    <a:pt x="978" y="122"/>
                    <a:pt x="978" y="122"/>
                  </a:cubicBezTo>
                  <a:cubicBezTo>
                    <a:pt x="1025" y="112"/>
                    <a:pt x="1054" y="125"/>
                    <a:pt x="1099" y="137"/>
                  </a:cubicBezTo>
                  <a:cubicBezTo>
                    <a:pt x="1034" y="69"/>
                    <a:pt x="963" y="67"/>
                    <a:pt x="872" y="61"/>
                  </a:cubicBezTo>
                  <a:cubicBezTo>
                    <a:pt x="835" y="55"/>
                    <a:pt x="801" y="50"/>
                    <a:pt x="766" y="38"/>
                  </a:cubicBezTo>
                  <a:cubicBezTo>
                    <a:pt x="748" y="43"/>
                    <a:pt x="731" y="56"/>
                    <a:pt x="713" y="53"/>
                  </a:cubicBezTo>
                  <a:cubicBezTo>
                    <a:pt x="702" y="51"/>
                    <a:pt x="693" y="42"/>
                    <a:pt x="682" y="38"/>
                  </a:cubicBezTo>
                  <a:cubicBezTo>
                    <a:pt x="670" y="34"/>
                    <a:pt x="657" y="33"/>
                    <a:pt x="645" y="31"/>
                  </a:cubicBezTo>
                  <a:cubicBezTo>
                    <a:pt x="640" y="36"/>
                    <a:pt x="636" y="46"/>
                    <a:pt x="629" y="46"/>
                  </a:cubicBezTo>
                  <a:cubicBezTo>
                    <a:pt x="613" y="46"/>
                    <a:pt x="603" y="22"/>
                    <a:pt x="592" y="15"/>
                  </a:cubicBezTo>
                  <a:cubicBezTo>
                    <a:pt x="588" y="12"/>
                    <a:pt x="538" y="0"/>
                    <a:pt x="538" y="0"/>
                  </a:cubicBezTo>
                  <a:cubicBezTo>
                    <a:pt x="502" y="13"/>
                    <a:pt x="478" y="31"/>
                    <a:pt x="440" y="38"/>
                  </a:cubicBezTo>
                  <a:cubicBezTo>
                    <a:pt x="432" y="43"/>
                    <a:pt x="426" y="50"/>
                    <a:pt x="417" y="53"/>
                  </a:cubicBezTo>
                  <a:cubicBezTo>
                    <a:pt x="382" y="66"/>
                    <a:pt x="360" y="55"/>
                    <a:pt x="402" y="68"/>
                  </a:cubicBezTo>
                  <a:cubicBezTo>
                    <a:pt x="359" y="83"/>
                    <a:pt x="364" y="52"/>
                    <a:pt x="334" y="84"/>
                  </a:cubicBezTo>
                  <a:cubicBezTo>
                    <a:pt x="314" y="81"/>
                    <a:pt x="293" y="75"/>
                    <a:pt x="273" y="76"/>
                  </a:cubicBezTo>
                  <a:cubicBezTo>
                    <a:pt x="257" y="77"/>
                    <a:pt x="228" y="91"/>
                    <a:pt x="228" y="91"/>
                  </a:cubicBezTo>
                  <a:cubicBezTo>
                    <a:pt x="160" y="70"/>
                    <a:pt x="244" y="87"/>
                    <a:pt x="197" y="106"/>
                  </a:cubicBezTo>
                  <a:cubicBezTo>
                    <a:pt x="187" y="110"/>
                    <a:pt x="177" y="101"/>
                    <a:pt x="167" y="99"/>
                  </a:cubicBezTo>
                  <a:cubicBezTo>
                    <a:pt x="154" y="142"/>
                    <a:pt x="171" y="109"/>
                    <a:pt x="122" y="129"/>
                  </a:cubicBezTo>
                  <a:cubicBezTo>
                    <a:pt x="115" y="132"/>
                    <a:pt x="113" y="142"/>
                    <a:pt x="106" y="144"/>
                  </a:cubicBezTo>
                  <a:cubicBezTo>
                    <a:pt x="31" y="163"/>
                    <a:pt x="45" y="162"/>
                    <a:pt x="0" y="129"/>
                  </a:cubicBezTo>
                  <a:close/>
                </a:path>
              </a:pathLst>
            </a:custGeom>
            <a:solidFill>
              <a:srgbClr val="00a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81"/>
            <p:cNvSpPr/>
            <p:nvPr/>
          </p:nvSpPr>
          <p:spPr>
            <a:xfrm>
              <a:off x="4267080" y="1295280"/>
              <a:ext cx="1600200" cy="3810240"/>
            </a:xfrm>
            <a:custGeom>
              <a:avLst/>
              <a:gdLst/>
              <a:ahLst/>
              <a:rect l="l" t="t" r="r" b="b"/>
              <a:pathLst>
                <a:path w="1008" h="2400">
                  <a:moveTo>
                    <a:pt x="768" y="2352"/>
                  </a:moveTo>
                  <a:lnTo>
                    <a:pt x="816" y="1920"/>
                  </a:lnTo>
                  <a:lnTo>
                    <a:pt x="816" y="1296"/>
                  </a:lnTo>
                  <a:lnTo>
                    <a:pt x="672" y="432"/>
                  </a:lnTo>
                  <a:lnTo>
                    <a:pt x="576" y="192"/>
                  </a:lnTo>
                  <a:lnTo>
                    <a:pt x="240" y="96"/>
                  </a:lnTo>
                  <a:lnTo>
                    <a:pt x="0" y="144"/>
                  </a:lnTo>
                  <a:lnTo>
                    <a:pt x="192" y="48"/>
                  </a:lnTo>
                  <a:lnTo>
                    <a:pt x="480" y="0"/>
                  </a:lnTo>
                  <a:lnTo>
                    <a:pt x="768" y="192"/>
                  </a:lnTo>
                  <a:lnTo>
                    <a:pt x="912" y="576"/>
                  </a:lnTo>
                  <a:lnTo>
                    <a:pt x="960" y="1488"/>
                  </a:lnTo>
                  <a:lnTo>
                    <a:pt x="1008" y="2064"/>
                  </a:lnTo>
                  <a:lnTo>
                    <a:pt x="960" y="2400"/>
                  </a:lnTo>
                  <a:lnTo>
                    <a:pt x="720" y="2352"/>
                  </a:lnTo>
                  <a:lnTo>
                    <a:pt x="768" y="2256"/>
                  </a:lnTo>
                  <a:lnTo>
                    <a:pt x="768" y="235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5"/>
            <p:cNvSpPr/>
            <p:nvPr/>
          </p:nvSpPr>
          <p:spPr>
            <a:xfrm>
              <a:off x="1371600" y="4994280"/>
              <a:ext cx="762120" cy="76320"/>
            </a:xfrm>
            <a:custGeom>
              <a:avLst/>
              <a:gdLst/>
              <a:ahLst/>
              <a:rect l="l" t="t" r="r" b="b"/>
              <a:pathLst>
                <a:path w="773" h="121">
                  <a:moveTo>
                    <a:pt x="144" y="19"/>
                  </a:moveTo>
                  <a:cubicBezTo>
                    <a:pt x="314" y="14"/>
                    <a:pt x="482" y="0"/>
                    <a:pt x="651" y="11"/>
                  </a:cubicBezTo>
                  <a:cubicBezTo>
                    <a:pt x="692" y="22"/>
                    <a:pt x="733" y="35"/>
                    <a:pt x="773" y="49"/>
                  </a:cubicBezTo>
                  <a:cubicBezTo>
                    <a:pt x="536" y="121"/>
                    <a:pt x="253" y="70"/>
                    <a:pt x="0" y="56"/>
                  </a:cubicBezTo>
                  <a:cubicBezTo>
                    <a:pt x="49" y="47"/>
                    <a:pt x="96" y="31"/>
                    <a:pt x="144" y="19"/>
                  </a:cubicBez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94"/>
            <p:cNvSpPr/>
            <p:nvPr/>
          </p:nvSpPr>
          <p:spPr>
            <a:xfrm>
              <a:off x="1905120" y="498600"/>
              <a:ext cx="4736880" cy="4916520"/>
            </a:xfrm>
            <a:custGeom>
              <a:avLst/>
              <a:gdLst/>
              <a:ahLst/>
              <a:rect l="l" t="t" r="r" b="b"/>
              <a:pathLst>
                <a:path w="2984" h="3097">
                  <a:moveTo>
                    <a:pt x="1212" y="2528"/>
                  </a:moveTo>
                  <a:cubicBezTo>
                    <a:pt x="1209" y="2449"/>
                    <a:pt x="1215" y="2214"/>
                    <a:pt x="1204" y="2292"/>
                  </a:cubicBezTo>
                  <a:cubicBezTo>
                    <a:pt x="1162" y="2604"/>
                    <a:pt x="1269" y="2737"/>
                    <a:pt x="1175" y="2609"/>
                  </a:cubicBezTo>
                  <a:cubicBezTo>
                    <a:pt x="1139" y="2444"/>
                    <a:pt x="1165" y="2274"/>
                    <a:pt x="1175" y="2107"/>
                  </a:cubicBezTo>
                  <a:cubicBezTo>
                    <a:pt x="1180" y="2188"/>
                    <a:pt x="1179" y="2270"/>
                    <a:pt x="1190" y="2351"/>
                  </a:cubicBezTo>
                  <a:cubicBezTo>
                    <a:pt x="1194" y="2380"/>
                    <a:pt x="1194" y="2292"/>
                    <a:pt x="1197" y="2262"/>
                  </a:cubicBezTo>
                  <a:cubicBezTo>
                    <a:pt x="1199" y="2237"/>
                    <a:pt x="1202" y="2213"/>
                    <a:pt x="1204" y="2188"/>
                  </a:cubicBezTo>
                  <a:cubicBezTo>
                    <a:pt x="1207" y="2139"/>
                    <a:pt x="1220" y="1993"/>
                    <a:pt x="1212" y="2041"/>
                  </a:cubicBezTo>
                  <a:cubicBezTo>
                    <a:pt x="1202" y="2104"/>
                    <a:pt x="1206" y="2169"/>
                    <a:pt x="1197" y="2233"/>
                  </a:cubicBezTo>
                  <a:cubicBezTo>
                    <a:pt x="1191" y="2278"/>
                    <a:pt x="1177" y="2321"/>
                    <a:pt x="1167" y="2365"/>
                  </a:cubicBezTo>
                  <a:cubicBezTo>
                    <a:pt x="1164" y="2378"/>
                    <a:pt x="1150" y="2415"/>
                    <a:pt x="1153" y="2402"/>
                  </a:cubicBezTo>
                  <a:cubicBezTo>
                    <a:pt x="1158" y="2385"/>
                    <a:pt x="1167" y="2351"/>
                    <a:pt x="1167" y="2351"/>
                  </a:cubicBezTo>
                  <a:cubicBezTo>
                    <a:pt x="1195" y="2142"/>
                    <a:pt x="1175" y="1932"/>
                    <a:pt x="1197" y="1723"/>
                  </a:cubicBezTo>
                  <a:cubicBezTo>
                    <a:pt x="1193" y="1828"/>
                    <a:pt x="1206" y="1923"/>
                    <a:pt x="1167" y="2018"/>
                  </a:cubicBezTo>
                  <a:cubicBezTo>
                    <a:pt x="1183" y="1890"/>
                    <a:pt x="1194" y="1763"/>
                    <a:pt x="1204" y="1634"/>
                  </a:cubicBezTo>
                  <a:cubicBezTo>
                    <a:pt x="1207" y="1541"/>
                    <a:pt x="1220" y="1447"/>
                    <a:pt x="1212" y="1354"/>
                  </a:cubicBezTo>
                  <a:cubicBezTo>
                    <a:pt x="1206" y="1281"/>
                    <a:pt x="1148" y="1442"/>
                    <a:pt x="1167" y="1391"/>
                  </a:cubicBezTo>
                  <a:cubicBezTo>
                    <a:pt x="1192" y="1322"/>
                    <a:pt x="1223" y="1255"/>
                    <a:pt x="1241" y="1184"/>
                  </a:cubicBezTo>
                  <a:cubicBezTo>
                    <a:pt x="1247" y="1162"/>
                    <a:pt x="1250" y="1139"/>
                    <a:pt x="1256" y="1117"/>
                  </a:cubicBezTo>
                  <a:cubicBezTo>
                    <a:pt x="1260" y="1100"/>
                    <a:pt x="1253" y="1066"/>
                    <a:pt x="1271" y="1066"/>
                  </a:cubicBezTo>
                  <a:cubicBezTo>
                    <a:pt x="1288" y="1066"/>
                    <a:pt x="1266" y="1100"/>
                    <a:pt x="1263" y="1117"/>
                  </a:cubicBezTo>
                  <a:cubicBezTo>
                    <a:pt x="1261" y="1154"/>
                    <a:pt x="1258" y="1191"/>
                    <a:pt x="1256" y="1228"/>
                  </a:cubicBezTo>
                  <a:cubicBezTo>
                    <a:pt x="1253" y="1277"/>
                    <a:pt x="1252" y="1327"/>
                    <a:pt x="1249" y="1376"/>
                  </a:cubicBezTo>
                  <a:cubicBezTo>
                    <a:pt x="1247" y="1401"/>
                    <a:pt x="1245" y="1425"/>
                    <a:pt x="1241" y="1450"/>
                  </a:cubicBezTo>
                  <a:cubicBezTo>
                    <a:pt x="1240" y="1460"/>
                    <a:pt x="1233" y="1489"/>
                    <a:pt x="1234" y="1479"/>
                  </a:cubicBezTo>
                  <a:cubicBezTo>
                    <a:pt x="1252" y="1310"/>
                    <a:pt x="1311" y="1146"/>
                    <a:pt x="1337" y="977"/>
                  </a:cubicBezTo>
                  <a:cubicBezTo>
                    <a:pt x="1341" y="953"/>
                    <a:pt x="1335" y="1027"/>
                    <a:pt x="1330" y="1051"/>
                  </a:cubicBezTo>
                  <a:cubicBezTo>
                    <a:pt x="1325" y="1076"/>
                    <a:pt x="1315" y="1100"/>
                    <a:pt x="1308" y="1125"/>
                  </a:cubicBezTo>
                  <a:cubicBezTo>
                    <a:pt x="1299" y="1190"/>
                    <a:pt x="1284" y="1253"/>
                    <a:pt x="1271" y="1317"/>
                  </a:cubicBezTo>
                  <a:cubicBezTo>
                    <a:pt x="1267" y="1334"/>
                    <a:pt x="1266" y="1352"/>
                    <a:pt x="1263" y="1369"/>
                  </a:cubicBezTo>
                  <a:cubicBezTo>
                    <a:pt x="1259" y="1389"/>
                    <a:pt x="1249" y="1428"/>
                    <a:pt x="1249" y="1428"/>
                  </a:cubicBezTo>
                  <a:cubicBezTo>
                    <a:pt x="1258" y="1307"/>
                    <a:pt x="1276" y="1190"/>
                    <a:pt x="1308" y="1073"/>
                  </a:cubicBezTo>
                  <a:cubicBezTo>
                    <a:pt x="1321" y="1024"/>
                    <a:pt x="1327" y="975"/>
                    <a:pt x="1337" y="925"/>
                  </a:cubicBezTo>
                  <a:cubicBezTo>
                    <a:pt x="1340" y="910"/>
                    <a:pt x="1352" y="894"/>
                    <a:pt x="1345" y="881"/>
                  </a:cubicBezTo>
                  <a:cubicBezTo>
                    <a:pt x="1340" y="871"/>
                    <a:pt x="1335" y="901"/>
                    <a:pt x="1330" y="911"/>
                  </a:cubicBezTo>
                  <a:cubicBezTo>
                    <a:pt x="1321" y="997"/>
                    <a:pt x="1312" y="1077"/>
                    <a:pt x="1293" y="1162"/>
                  </a:cubicBezTo>
                  <a:cubicBezTo>
                    <a:pt x="1291" y="1171"/>
                    <a:pt x="1281" y="1228"/>
                    <a:pt x="1278" y="1236"/>
                  </a:cubicBezTo>
                  <a:cubicBezTo>
                    <a:pt x="1275" y="1244"/>
                    <a:pt x="1263" y="1267"/>
                    <a:pt x="1263" y="1258"/>
                  </a:cubicBezTo>
                  <a:cubicBezTo>
                    <a:pt x="1263" y="1245"/>
                    <a:pt x="1273" y="1233"/>
                    <a:pt x="1278" y="1221"/>
                  </a:cubicBezTo>
                  <a:cubicBezTo>
                    <a:pt x="1295" y="1126"/>
                    <a:pt x="1319" y="1033"/>
                    <a:pt x="1345" y="940"/>
                  </a:cubicBezTo>
                  <a:cubicBezTo>
                    <a:pt x="1354" y="907"/>
                    <a:pt x="1361" y="862"/>
                    <a:pt x="1374" y="829"/>
                  </a:cubicBezTo>
                  <a:cubicBezTo>
                    <a:pt x="1387" y="796"/>
                    <a:pt x="1403" y="765"/>
                    <a:pt x="1418" y="733"/>
                  </a:cubicBezTo>
                  <a:cubicBezTo>
                    <a:pt x="1423" y="723"/>
                    <a:pt x="1427" y="713"/>
                    <a:pt x="1433" y="704"/>
                  </a:cubicBezTo>
                  <a:cubicBezTo>
                    <a:pt x="1438" y="696"/>
                    <a:pt x="1453" y="675"/>
                    <a:pt x="1448" y="682"/>
                  </a:cubicBezTo>
                  <a:cubicBezTo>
                    <a:pt x="1414" y="726"/>
                    <a:pt x="1384" y="783"/>
                    <a:pt x="1345" y="822"/>
                  </a:cubicBezTo>
                  <a:cubicBezTo>
                    <a:pt x="1342" y="832"/>
                    <a:pt x="1340" y="842"/>
                    <a:pt x="1337" y="852"/>
                  </a:cubicBezTo>
                  <a:cubicBezTo>
                    <a:pt x="1335" y="859"/>
                    <a:pt x="1322" y="874"/>
                    <a:pt x="1330" y="874"/>
                  </a:cubicBezTo>
                  <a:cubicBezTo>
                    <a:pt x="1340" y="874"/>
                    <a:pt x="1353" y="826"/>
                    <a:pt x="1367" y="807"/>
                  </a:cubicBezTo>
                  <a:cubicBezTo>
                    <a:pt x="1417" y="741"/>
                    <a:pt x="1488" y="690"/>
                    <a:pt x="1544" y="630"/>
                  </a:cubicBezTo>
                  <a:cubicBezTo>
                    <a:pt x="1563" y="610"/>
                    <a:pt x="1577" y="585"/>
                    <a:pt x="1596" y="564"/>
                  </a:cubicBezTo>
                  <a:cubicBezTo>
                    <a:pt x="1712" y="439"/>
                    <a:pt x="1611" y="567"/>
                    <a:pt x="1662" y="497"/>
                  </a:cubicBezTo>
                  <a:cubicBezTo>
                    <a:pt x="1669" y="487"/>
                    <a:pt x="1696" y="468"/>
                    <a:pt x="1684" y="468"/>
                  </a:cubicBezTo>
                  <a:cubicBezTo>
                    <a:pt x="1668" y="468"/>
                    <a:pt x="1659" y="487"/>
                    <a:pt x="1647" y="497"/>
                  </a:cubicBezTo>
                  <a:cubicBezTo>
                    <a:pt x="1607" y="533"/>
                    <a:pt x="1562" y="558"/>
                    <a:pt x="1522" y="593"/>
                  </a:cubicBezTo>
                  <a:cubicBezTo>
                    <a:pt x="1522" y="593"/>
                    <a:pt x="1482" y="630"/>
                    <a:pt x="1485" y="637"/>
                  </a:cubicBezTo>
                  <a:cubicBezTo>
                    <a:pt x="1489" y="646"/>
                    <a:pt x="1509" y="625"/>
                    <a:pt x="1537" y="615"/>
                  </a:cubicBezTo>
                  <a:cubicBezTo>
                    <a:pt x="1626" y="583"/>
                    <a:pt x="1734" y="555"/>
                    <a:pt x="1810" y="497"/>
                  </a:cubicBezTo>
                  <a:cubicBezTo>
                    <a:pt x="1820" y="490"/>
                    <a:pt x="1828" y="481"/>
                    <a:pt x="1839" y="475"/>
                  </a:cubicBezTo>
                  <a:cubicBezTo>
                    <a:pt x="1846" y="471"/>
                    <a:pt x="1870" y="467"/>
                    <a:pt x="1862" y="468"/>
                  </a:cubicBezTo>
                  <a:cubicBezTo>
                    <a:pt x="1837" y="471"/>
                    <a:pt x="1813" y="477"/>
                    <a:pt x="1788" y="482"/>
                  </a:cubicBezTo>
                  <a:cubicBezTo>
                    <a:pt x="1675" y="526"/>
                    <a:pt x="1553" y="565"/>
                    <a:pt x="1433" y="586"/>
                  </a:cubicBezTo>
                  <a:cubicBezTo>
                    <a:pt x="1403" y="607"/>
                    <a:pt x="1363" y="602"/>
                    <a:pt x="1418" y="615"/>
                  </a:cubicBezTo>
                  <a:cubicBezTo>
                    <a:pt x="1521" y="593"/>
                    <a:pt x="1627" y="581"/>
                    <a:pt x="1729" y="556"/>
                  </a:cubicBezTo>
                  <a:cubicBezTo>
                    <a:pt x="1791" y="541"/>
                    <a:pt x="1851" y="517"/>
                    <a:pt x="1913" y="505"/>
                  </a:cubicBezTo>
                  <a:cubicBezTo>
                    <a:pt x="1870" y="496"/>
                    <a:pt x="1736" y="505"/>
                    <a:pt x="1780" y="505"/>
                  </a:cubicBezTo>
                  <a:cubicBezTo>
                    <a:pt x="1906" y="505"/>
                    <a:pt x="2031" y="500"/>
                    <a:pt x="2157" y="497"/>
                  </a:cubicBezTo>
                  <a:cubicBezTo>
                    <a:pt x="2031" y="480"/>
                    <a:pt x="2083" y="488"/>
                    <a:pt x="2002" y="475"/>
                  </a:cubicBezTo>
                  <a:cubicBezTo>
                    <a:pt x="2012" y="485"/>
                    <a:pt x="2065" y="524"/>
                    <a:pt x="2024" y="549"/>
                  </a:cubicBezTo>
                  <a:cubicBezTo>
                    <a:pt x="2018" y="553"/>
                    <a:pt x="1958" y="538"/>
                    <a:pt x="1943" y="534"/>
                  </a:cubicBezTo>
                  <a:cubicBezTo>
                    <a:pt x="1917" y="517"/>
                    <a:pt x="1927" y="520"/>
                    <a:pt x="1898" y="512"/>
                  </a:cubicBezTo>
                  <a:cubicBezTo>
                    <a:pt x="1888" y="509"/>
                    <a:pt x="1859" y="505"/>
                    <a:pt x="1869" y="505"/>
                  </a:cubicBezTo>
                  <a:cubicBezTo>
                    <a:pt x="1933" y="505"/>
                    <a:pt x="2005" y="522"/>
                    <a:pt x="2068" y="534"/>
                  </a:cubicBezTo>
                  <a:cubicBezTo>
                    <a:pt x="2099" y="550"/>
                    <a:pt x="2131" y="560"/>
                    <a:pt x="2164" y="571"/>
                  </a:cubicBezTo>
                  <a:cubicBezTo>
                    <a:pt x="2104" y="590"/>
                    <a:pt x="2004" y="530"/>
                    <a:pt x="1943" y="512"/>
                  </a:cubicBezTo>
                  <a:cubicBezTo>
                    <a:pt x="1936" y="507"/>
                    <a:pt x="1912" y="497"/>
                    <a:pt x="1921" y="497"/>
                  </a:cubicBezTo>
                  <a:cubicBezTo>
                    <a:pt x="2029" y="497"/>
                    <a:pt x="2133" y="578"/>
                    <a:pt x="2209" y="645"/>
                  </a:cubicBezTo>
                  <a:cubicBezTo>
                    <a:pt x="2232" y="665"/>
                    <a:pt x="2249" y="693"/>
                    <a:pt x="2275" y="711"/>
                  </a:cubicBezTo>
                  <a:cubicBezTo>
                    <a:pt x="2282" y="716"/>
                    <a:pt x="2301" y="734"/>
                    <a:pt x="2297" y="726"/>
                  </a:cubicBezTo>
                  <a:cubicBezTo>
                    <a:pt x="2291" y="714"/>
                    <a:pt x="2276" y="708"/>
                    <a:pt x="2268" y="697"/>
                  </a:cubicBezTo>
                  <a:cubicBezTo>
                    <a:pt x="2259" y="686"/>
                    <a:pt x="2254" y="672"/>
                    <a:pt x="2246" y="660"/>
                  </a:cubicBezTo>
                  <a:cubicBezTo>
                    <a:pt x="2220" y="622"/>
                    <a:pt x="2206" y="623"/>
                    <a:pt x="2260" y="645"/>
                  </a:cubicBezTo>
                  <a:cubicBezTo>
                    <a:pt x="2290" y="689"/>
                    <a:pt x="2313" y="728"/>
                    <a:pt x="2334" y="778"/>
                  </a:cubicBezTo>
                  <a:cubicBezTo>
                    <a:pt x="2339" y="812"/>
                    <a:pt x="2342" y="847"/>
                    <a:pt x="2349" y="881"/>
                  </a:cubicBezTo>
                  <a:cubicBezTo>
                    <a:pt x="2353" y="899"/>
                    <a:pt x="2360" y="915"/>
                    <a:pt x="2364" y="933"/>
                  </a:cubicBezTo>
                  <a:cubicBezTo>
                    <a:pt x="2367" y="945"/>
                    <a:pt x="2382" y="976"/>
                    <a:pt x="2371" y="970"/>
                  </a:cubicBezTo>
                  <a:cubicBezTo>
                    <a:pt x="2344" y="956"/>
                    <a:pt x="2318" y="888"/>
                    <a:pt x="2305" y="859"/>
                  </a:cubicBezTo>
                  <a:cubicBezTo>
                    <a:pt x="2307" y="852"/>
                    <a:pt x="2304" y="837"/>
                    <a:pt x="2312" y="837"/>
                  </a:cubicBezTo>
                  <a:cubicBezTo>
                    <a:pt x="2321" y="837"/>
                    <a:pt x="2322" y="852"/>
                    <a:pt x="2327" y="859"/>
                  </a:cubicBezTo>
                  <a:cubicBezTo>
                    <a:pt x="2357" y="899"/>
                    <a:pt x="2370" y="929"/>
                    <a:pt x="2386" y="977"/>
                  </a:cubicBezTo>
                  <a:cubicBezTo>
                    <a:pt x="2390" y="1054"/>
                    <a:pt x="2385" y="1120"/>
                    <a:pt x="2408" y="1191"/>
                  </a:cubicBezTo>
                  <a:cubicBezTo>
                    <a:pt x="2402" y="1089"/>
                    <a:pt x="2395" y="1057"/>
                    <a:pt x="2356" y="970"/>
                  </a:cubicBezTo>
                  <a:cubicBezTo>
                    <a:pt x="2340" y="936"/>
                    <a:pt x="2327" y="901"/>
                    <a:pt x="2312" y="866"/>
                  </a:cubicBezTo>
                  <a:cubicBezTo>
                    <a:pt x="2308" y="857"/>
                    <a:pt x="2308" y="847"/>
                    <a:pt x="2305" y="837"/>
                  </a:cubicBezTo>
                  <a:cubicBezTo>
                    <a:pt x="2303" y="830"/>
                    <a:pt x="2291" y="809"/>
                    <a:pt x="2297" y="815"/>
                  </a:cubicBezTo>
                  <a:cubicBezTo>
                    <a:pt x="2305" y="823"/>
                    <a:pt x="2307" y="834"/>
                    <a:pt x="2312" y="844"/>
                  </a:cubicBezTo>
                  <a:cubicBezTo>
                    <a:pt x="2327" y="938"/>
                    <a:pt x="2351" y="1030"/>
                    <a:pt x="2364" y="1125"/>
                  </a:cubicBezTo>
                  <a:cubicBezTo>
                    <a:pt x="2365" y="1136"/>
                    <a:pt x="2370" y="1327"/>
                    <a:pt x="2386" y="1354"/>
                  </a:cubicBezTo>
                  <a:cubicBezTo>
                    <a:pt x="2394" y="1368"/>
                    <a:pt x="2396" y="1324"/>
                    <a:pt x="2401" y="1309"/>
                  </a:cubicBezTo>
                  <a:cubicBezTo>
                    <a:pt x="2411" y="1278"/>
                    <a:pt x="2403" y="1294"/>
                    <a:pt x="2423" y="1265"/>
                  </a:cubicBezTo>
                  <a:cubicBezTo>
                    <a:pt x="2435" y="1876"/>
                    <a:pt x="2431" y="1684"/>
                    <a:pt x="2445" y="1509"/>
                  </a:cubicBezTo>
                  <a:cubicBezTo>
                    <a:pt x="2447" y="1718"/>
                    <a:pt x="2446" y="1928"/>
                    <a:pt x="2452" y="2137"/>
                  </a:cubicBezTo>
                  <a:cubicBezTo>
                    <a:pt x="2453" y="2177"/>
                    <a:pt x="2457" y="2058"/>
                    <a:pt x="2460" y="2018"/>
                  </a:cubicBezTo>
                  <a:cubicBezTo>
                    <a:pt x="2464" y="1974"/>
                    <a:pt x="2469" y="1929"/>
                    <a:pt x="2474" y="1885"/>
                  </a:cubicBezTo>
                  <a:cubicBezTo>
                    <a:pt x="2476" y="1863"/>
                    <a:pt x="2479" y="1841"/>
                    <a:pt x="2482" y="1819"/>
                  </a:cubicBezTo>
                  <a:cubicBezTo>
                    <a:pt x="2484" y="1804"/>
                    <a:pt x="2500" y="1765"/>
                    <a:pt x="2489" y="1775"/>
                  </a:cubicBezTo>
                  <a:cubicBezTo>
                    <a:pt x="2476" y="1787"/>
                    <a:pt x="2479" y="1809"/>
                    <a:pt x="2474" y="1826"/>
                  </a:cubicBezTo>
                  <a:cubicBezTo>
                    <a:pt x="2430" y="2357"/>
                    <a:pt x="2474" y="1854"/>
                    <a:pt x="2430" y="2292"/>
                  </a:cubicBezTo>
                  <a:cubicBezTo>
                    <a:pt x="2427" y="2321"/>
                    <a:pt x="2426" y="2351"/>
                    <a:pt x="2423" y="2380"/>
                  </a:cubicBezTo>
                  <a:cubicBezTo>
                    <a:pt x="2421" y="2402"/>
                    <a:pt x="2415" y="2469"/>
                    <a:pt x="2415" y="2447"/>
                  </a:cubicBezTo>
                  <a:cubicBezTo>
                    <a:pt x="2415" y="2325"/>
                    <a:pt x="2431" y="2195"/>
                    <a:pt x="2460" y="2077"/>
                  </a:cubicBezTo>
                  <a:cubicBezTo>
                    <a:pt x="2462" y="2040"/>
                    <a:pt x="2464" y="2004"/>
                    <a:pt x="2467" y="1967"/>
                  </a:cubicBezTo>
                  <a:cubicBezTo>
                    <a:pt x="2469" y="1942"/>
                    <a:pt x="2474" y="1868"/>
                    <a:pt x="2474" y="1893"/>
                  </a:cubicBezTo>
                  <a:cubicBezTo>
                    <a:pt x="2471" y="2068"/>
                    <a:pt x="2463" y="2242"/>
                    <a:pt x="2460" y="2417"/>
                  </a:cubicBezTo>
                  <a:cubicBezTo>
                    <a:pt x="2459" y="2454"/>
                    <a:pt x="2465" y="2343"/>
                    <a:pt x="2467" y="2306"/>
                  </a:cubicBezTo>
                  <a:cubicBezTo>
                    <a:pt x="2471" y="2207"/>
                    <a:pt x="2459" y="2104"/>
                    <a:pt x="2497" y="2011"/>
                  </a:cubicBezTo>
                  <a:cubicBezTo>
                    <a:pt x="2509" y="2193"/>
                    <a:pt x="2557" y="2487"/>
                    <a:pt x="2504" y="2653"/>
                  </a:cubicBezTo>
                  <a:cubicBezTo>
                    <a:pt x="2502" y="2513"/>
                    <a:pt x="2503" y="2373"/>
                    <a:pt x="2497" y="2233"/>
                  </a:cubicBezTo>
                  <a:cubicBezTo>
                    <a:pt x="2496" y="2211"/>
                    <a:pt x="2491" y="2277"/>
                    <a:pt x="2489" y="2299"/>
                  </a:cubicBezTo>
                  <a:cubicBezTo>
                    <a:pt x="2483" y="2373"/>
                    <a:pt x="2480" y="2447"/>
                    <a:pt x="2474" y="2521"/>
                  </a:cubicBezTo>
                  <a:cubicBezTo>
                    <a:pt x="2468" y="2602"/>
                    <a:pt x="2452" y="2685"/>
                    <a:pt x="2430" y="2764"/>
                  </a:cubicBezTo>
                  <a:cubicBezTo>
                    <a:pt x="2433" y="2700"/>
                    <a:pt x="2431" y="2636"/>
                    <a:pt x="2438" y="2572"/>
                  </a:cubicBezTo>
                  <a:cubicBezTo>
                    <a:pt x="2440" y="2552"/>
                    <a:pt x="2437" y="2613"/>
                    <a:pt x="2445" y="2631"/>
                  </a:cubicBezTo>
                  <a:cubicBezTo>
                    <a:pt x="2449" y="2640"/>
                    <a:pt x="2450" y="2612"/>
                    <a:pt x="2452" y="2602"/>
                  </a:cubicBezTo>
                  <a:cubicBezTo>
                    <a:pt x="2455" y="2585"/>
                    <a:pt x="2457" y="2567"/>
                    <a:pt x="2460" y="2550"/>
                  </a:cubicBezTo>
                  <a:cubicBezTo>
                    <a:pt x="2462" y="2513"/>
                    <a:pt x="2464" y="2476"/>
                    <a:pt x="2467" y="2439"/>
                  </a:cubicBezTo>
                  <a:cubicBezTo>
                    <a:pt x="2473" y="2367"/>
                    <a:pt x="2468" y="2364"/>
                    <a:pt x="2482" y="2402"/>
                  </a:cubicBezTo>
                  <a:cubicBezTo>
                    <a:pt x="2497" y="2560"/>
                    <a:pt x="2503" y="2571"/>
                    <a:pt x="2489" y="2794"/>
                  </a:cubicBezTo>
                  <a:cubicBezTo>
                    <a:pt x="2487" y="2821"/>
                    <a:pt x="2471" y="2902"/>
                    <a:pt x="2474" y="2875"/>
                  </a:cubicBezTo>
                  <a:cubicBezTo>
                    <a:pt x="2483" y="2786"/>
                    <a:pt x="2491" y="2769"/>
                    <a:pt x="2474" y="2816"/>
                  </a:cubicBezTo>
                  <a:cubicBezTo>
                    <a:pt x="2468" y="2862"/>
                    <a:pt x="2459" y="2905"/>
                    <a:pt x="2445" y="2949"/>
                  </a:cubicBezTo>
                  <a:cubicBezTo>
                    <a:pt x="2455" y="2951"/>
                    <a:pt x="2468" y="2948"/>
                    <a:pt x="2474" y="2956"/>
                  </a:cubicBezTo>
                  <a:cubicBezTo>
                    <a:pt x="2479" y="2962"/>
                    <a:pt x="2462" y="2983"/>
                    <a:pt x="2467" y="2978"/>
                  </a:cubicBezTo>
                  <a:cubicBezTo>
                    <a:pt x="2543" y="2902"/>
                    <a:pt x="2447" y="2968"/>
                    <a:pt x="2511" y="2927"/>
                  </a:cubicBezTo>
                  <a:cubicBezTo>
                    <a:pt x="2503" y="2954"/>
                    <a:pt x="2464" y="2988"/>
                    <a:pt x="2511" y="2956"/>
                  </a:cubicBezTo>
                  <a:cubicBezTo>
                    <a:pt x="2531" y="2917"/>
                    <a:pt x="2585" y="2845"/>
                    <a:pt x="2585" y="2845"/>
                  </a:cubicBezTo>
                  <a:cubicBezTo>
                    <a:pt x="2588" y="2870"/>
                    <a:pt x="2589" y="2894"/>
                    <a:pt x="2593" y="2919"/>
                  </a:cubicBezTo>
                  <a:cubicBezTo>
                    <a:pt x="2594" y="2927"/>
                    <a:pt x="2593" y="2937"/>
                    <a:pt x="2600" y="2941"/>
                  </a:cubicBezTo>
                  <a:cubicBezTo>
                    <a:pt x="2607" y="2945"/>
                    <a:pt x="2615" y="2936"/>
                    <a:pt x="2622" y="2934"/>
                  </a:cubicBezTo>
                  <a:cubicBezTo>
                    <a:pt x="2641" y="2867"/>
                    <a:pt x="2671" y="2793"/>
                    <a:pt x="2711" y="2735"/>
                  </a:cubicBezTo>
                  <a:cubicBezTo>
                    <a:pt x="2708" y="2755"/>
                    <a:pt x="2707" y="2774"/>
                    <a:pt x="2703" y="2794"/>
                  </a:cubicBezTo>
                  <a:cubicBezTo>
                    <a:pt x="2699" y="2814"/>
                    <a:pt x="2694" y="2833"/>
                    <a:pt x="2689" y="2853"/>
                  </a:cubicBezTo>
                  <a:cubicBezTo>
                    <a:pt x="2668" y="2945"/>
                    <a:pt x="2687" y="2866"/>
                    <a:pt x="2689" y="2860"/>
                  </a:cubicBezTo>
                  <a:cubicBezTo>
                    <a:pt x="2702" y="2830"/>
                    <a:pt x="2717" y="2802"/>
                    <a:pt x="2740" y="2779"/>
                  </a:cubicBezTo>
                  <a:cubicBezTo>
                    <a:pt x="2743" y="2772"/>
                    <a:pt x="2754" y="2751"/>
                    <a:pt x="2748" y="2757"/>
                  </a:cubicBezTo>
                  <a:cubicBezTo>
                    <a:pt x="2740" y="2765"/>
                    <a:pt x="2737" y="2776"/>
                    <a:pt x="2733" y="2786"/>
                  </a:cubicBezTo>
                  <a:cubicBezTo>
                    <a:pt x="2731" y="2792"/>
                    <a:pt x="2715" y="2846"/>
                    <a:pt x="2718" y="2845"/>
                  </a:cubicBezTo>
                  <a:cubicBezTo>
                    <a:pt x="2747" y="2839"/>
                    <a:pt x="2760" y="2802"/>
                    <a:pt x="2785" y="2786"/>
                  </a:cubicBezTo>
                  <a:cubicBezTo>
                    <a:pt x="2790" y="2794"/>
                    <a:pt x="2790" y="2807"/>
                    <a:pt x="2799" y="2809"/>
                  </a:cubicBezTo>
                  <a:cubicBezTo>
                    <a:pt x="2808" y="2811"/>
                    <a:pt x="2813" y="2796"/>
                    <a:pt x="2822" y="2794"/>
                  </a:cubicBezTo>
                  <a:cubicBezTo>
                    <a:pt x="2835" y="2792"/>
                    <a:pt x="2880" y="2822"/>
                    <a:pt x="2881" y="2823"/>
                  </a:cubicBezTo>
                  <a:cubicBezTo>
                    <a:pt x="2903" y="2789"/>
                    <a:pt x="2883" y="2793"/>
                    <a:pt x="2895" y="2757"/>
                  </a:cubicBezTo>
                  <a:cubicBezTo>
                    <a:pt x="2905" y="2762"/>
                    <a:pt x="2914" y="2776"/>
                    <a:pt x="2925" y="2772"/>
                  </a:cubicBezTo>
                  <a:cubicBezTo>
                    <a:pt x="2933" y="2769"/>
                    <a:pt x="2915" y="2742"/>
                    <a:pt x="2918" y="2749"/>
                  </a:cubicBezTo>
                  <a:cubicBezTo>
                    <a:pt x="2923" y="2761"/>
                    <a:pt x="2932" y="2773"/>
                    <a:pt x="2932" y="2786"/>
                  </a:cubicBezTo>
                  <a:cubicBezTo>
                    <a:pt x="2932" y="2795"/>
                    <a:pt x="2922" y="2772"/>
                    <a:pt x="2918" y="2764"/>
                  </a:cubicBezTo>
                  <a:cubicBezTo>
                    <a:pt x="2888" y="2710"/>
                    <a:pt x="2918" y="2758"/>
                    <a:pt x="2888" y="2713"/>
                  </a:cubicBezTo>
                  <a:cubicBezTo>
                    <a:pt x="2878" y="2681"/>
                    <a:pt x="2871" y="2672"/>
                    <a:pt x="2918" y="2720"/>
                  </a:cubicBezTo>
                  <a:cubicBezTo>
                    <a:pt x="2941" y="2743"/>
                    <a:pt x="2953" y="2766"/>
                    <a:pt x="2969" y="2794"/>
                  </a:cubicBezTo>
                  <a:cubicBezTo>
                    <a:pt x="2972" y="2804"/>
                    <a:pt x="2974" y="2813"/>
                    <a:pt x="2977" y="2823"/>
                  </a:cubicBezTo>
                  <a:cubicBezTo>
                    <a:pt x="2979" y="2830"/>
                    <a:pt x="2984" y="2853"/>
                    <a:pt x="2984" y="2845"/>
                  </a:cubicBezTo>
                  <a:cubicBezTo>
                    <a:pt x="2984" y="2799"/>
                    <a:pt x="2921" y="2689"/>
                    <a:pt x="2895" y="2639"/>
                  </a:cubicBezTo>
                  <a:cubicBezTo>
                    <a:pt x="2893" y="2629"/>
                    <a:pt x="2888" y="2599"/>
                    <a:pt x="2888" y="2609"/>
                  </a:cubicBezTo>
                  <a:cubicBezTo>
                    <a:pt x="2888" y="2629"/>
                    <a:pt x="2891" y="2649"/>
                    <a:pt x="2895" y="2668"/>
                  </a:cubicBezTo>
                  <a:cubicBezTo>
                    <a:pt x="2898" y="2684"/>
                    <a:pt x="2905" y="2698"/>
                    <a:pt x="2910" y="2713"/>
                  </a:cubicBezTo>
                  <a:cubicBezTo>
                    <a:pt x="2902" y="2656"/>
                    <a:pt x="2888" y="2610"/>
                    <a:pt x="2866" y="2557"/>
                  </a:cubicBezTo>
                  <a:cubicBezTo>
                    <a:pt x="2855" y="2485"/>
                    <a:pt x="2839" y="2412"/>
                    <a:pt x="2814" y="2343"/>
                  </a:cubicBezTo>
                  <a:cubicBezTo>
                    <a:pt x="2823" y="2421"/>
                    <a:pt x="2827" y="2510"/>
                    <a:pt x="2851" y="2587"/>
                  </a:cubicBezTo>
                  <a:cubicBezTo>
                    <a:pt x="2844" y="2469"/>
                    <a:pt x="2836" y="2351"/>
                    <a:pt x="2829" y="2233"/>
                  </a:cubicBezTo>
                  <a:cubicBezTo>
                    <a:pt x="2827" y="2204"/>
                    <a:pt x="2836" y="2292"/>
                    <a:pt x="2836" y="2321"/>
                  </a:cubicBezTo>
                  <a:cubicBezTo>
                    <a:pt x="2836" y="2346"/>
                    <a:pt x="2831" y="2370"/>
                    <a:pt x="2829" y="2395"/>
                  </a:cubicBezTo>
                  <a:cubicBezTo>
                    <a:pt x="2820" y="2303"/>
                    <a:pt x="2829" y="2345"/>
                    <a:pt x="2807" y="2269"/>
                  </a:cubicBezTo>
                  <a:cubicBezTo>
                    <a:pt x="2795" y="1653"/>
                    <a:pt x="2802" y="1781"/>
                    <a:pt x="2785" y="1974"/>
                  </a:cubicBezTo>
                  <a:cubicBezTo>
                    <a:pt x="2782" y="1871"/>
                    <a:pt x="2782" y="1767"/>
                    <a:pt x="2777" y="1664"/>
                  </a:cubicBezTo>
                  <a:cubicBezTo>
                    <a:pt x="2777" y="1656"/>
                    <a:pt x="2770" y="1694"/>
                    <a:pt x="2770" y="1686"/>
                  </a:cubicBezTo>
                  <a:cubicBezTo>
                    <a:pt x="2770" y="1634"/>
                    <a:pt x="2775" y="1583"/>
                    <a:pt x="2777" y="1531"/>
                  </a:cubicBezTo>
                  <a:cubicBezTo>
                    <a:pt x="2767" y="1328"/>
                    <a:pt x="2770" y="1368"/>
                    <a:pt x="2755" y="1450"/>
                  </a:cubicBezTo>
                  <a:cubicBezTo>
                    <a:pt x="2753" y="1356"/>
                    <a:pt x="2751" y="1263"/>
                    <a:pt x="2748" y="1169"/>
                  </a:cubicBezTo>
                  <a:cubicBezTo>
                    <a:pt x="2741" y="949"/>
                    <a:pt x="2752" y="906"/>
                    <a:pt x="2733" y="1007"/>
                  </a:cubicBezTo>
                  <a:cubicBezTo>
                    <a:pt x="2738" y="952"/>
                    <a:pt x="2745" y="905"/>
                    <a:pt x="2755" y="852"/>
                  </a:cubicBezTo>
                  <a:cubicBezTo>
                    <a:pt x="2753" y="840"/>
                    <a:pt x="2761" y="815"/>
                    <a:pt x="2748" y="815"/>
                  </a:cubicBezTo>
                  <a:cubicBezTo>
                    <a:pt x="2735" y="815"/>
                    <a:pt x="2741" y="865"/>
                    <a:pt x="2740" y="852"/>
                  </a:cubicBezTo>
                  <a:cubicBezTo>
                    <a:pt x="2734" y="756"/>
                    <a:pt x="2735" y="660"/>
                    <a:pt x="2733" y="564"/>
                  </a:cubicBezTo>
                  <a:cubicBezTo>
                    <a:pt x="2731" y="584"/>
                    <a:pt x="2726" y="643"/>
                    <a:pt x="2726" y="623"/>
                  </a:cubicBezTo>
                  <a:cubicBezTo>
                    <a:pt x="2726" y="576"/>
                    <a:pt x="2733" y="529"/>
                    <a:pt x="2733" y="482"/>
                  </a:cubicBezTo>
                  <a:cubicBezTo>
                    <a:pt x="2733" y="426"/>
                    <a:pt x="2728" y="369"/>
                    <a:pt x="2726" y="313"/>
                  </a:cubicBezTo>
                  <a:cubicBezTo>
                    <a:pt x="2671" y="394"/>
                    <a:pt x="2749" y="289"/>
                    <a:pt x="2703" y="150"/>
                  </a:cubicBezTo>
                  <a:cubicBezTo>
                    <a:pt x="2698" y="134"/>
                    <a:pt x="2669" y="155"/>
                    <a:pt x="2652" y="157"/>
                  </a:cubicBezTo>
                  <a:cubicBezTo>
                    <a:pt x="2698" y="128"/>
                    <a:pt x="2667" y="150"/>
                    <a:pt x="2652" y="150"/>
                  </a:cubicBezTo>
                  <a:cubicBezTo>
                    <a:pt x="2642" y="150"/>
                    <a:pt x="2632" y="145"/>
                    <a:pt x="2622" y="143"/>
                  </a:cubicBezTo>
                  <a:cubicBezTo>
                    <a:pt x="2691" y="125"/>
                    <a:pt x="2661" y="133"/>
                    <a:pt x="2711" y="121"/>
                  </a:cubicBezTo>
                  <a:cubicBezTo>
                    <a:pt x="2734" y="116"/>
                    <a:pt x="2666" y="136"/>
                    <a:pt x="2644" y="143"/>
                  </a:cubicBezTo>
                  <a:cubicBezTo>
                    <a:pt x="2624" y="150"/>
                    <a:pt x="2605" y="158"/>
                    <a:pt x="2585" y="165"/>
                  </a:cubicBezTo>
                  <a:cubicBezTo>
                    <a:pt x="2490" y="197"/>
                    <a:pt x="2406" y="223"/>
                    <a:pt x="2305" y="239"/>
                  </a:cubicBezTo>
                  <a:cubicBezTo>
                    <a:pt x="2283" y="242"/>
                    <a:pt x="2349" y="234"/>
                    <a:pt x="2371" y="231"/>
                  </a:cubicBezTo>
                  <a:cubicBezTo>
                    <a:pt x="2401" y="227"/>
                    <a:pt x="2460" y="217"/>
                    <a:pt x="2460" y="217"/>
                  </a:cubicBezTo>
                  <a:cubicBezTo>
                    <a:pt x="2481" y="209"/>
                    <a:pt x="2549" y="213"/>
                    <a:pt x="2497" y="194"/>
                  </a:cubicBezTo>
                  <a:cubicBezTo>
                    <a:pt x="2440" y="197"/>
                    <a:pt x="2384" y="202"/>
                    <a:pt x="2327" y="202"/>
                  </a:cubicBezTo>
                  <a:cubicBezTo>
                    <a:pt x="2302" y="202"/>
                    <a:pt x="2377" y="199"/>
                    <a:pt x="2401" y="194"/>
                  </a:cubicBezTo>
                  <a:cubicBezTo>
                    <a:pt x="2416" y="191"/>
                    <a:pt x="2430" y="185"/>
                    <a:pt x="2445" y="180"/>
                  </a:cubicBezTo>
                  <a:cubicBezTo>
                    <a:pt x="2452" y="175"/>
                    <a:pt x="2459" y="169"/>
                    <a:pt x="2467" y="165"/>
                  </a:cubicBezTo>
                  <a:cubicBezTo>
                    <a:pt x="2474" y="161"/>
                    <a:pt x="2497" y="157"/>
                    <a:pt x="2489" y="157"/>
                  </a:cubicBezTo>
                  <a:cubicBezTo>
                    <a:pt x="2398" y="157"/>
                    <a:pt x="2299" y="174"/>
                    <a:pt x="2209" y="180"/>
                  </a:cubicBezTo>
                  <a:cubicBezTo>
                    <a:pt x="2142" y="189"/>
                    <a:pt x="2069" y="202"/>
                    <a:pt x="2002" y="202"/>
                  </a:cubicBezTo>
                  <a:cubicBezTo>
                    <a:pt x="1992" y="202"/>
                    <a:pt x="2021" y="197"/>
                    <a:pt x="2031" y="194"/>
                  </a:cubicBezTo>
                  <a:cubicBezTo>
                    <a:pt x="1991" y="236"/>
                    <a:pt x="1937" y="226"/>
                    <a:pt x="1891" y="194"/>
                  </a:cubicBezTo>
                  <a:cubicBezTo>
                    <a:pt x="1886" y="187"/>
                    <a:pt x="1874" y="181"/>
                    <a:pt x="1876" y="172"/>
                  </a:cubicBezTo>
                  <a:cubicBezTo>
                    <a:pt x="1880" y="155"/>
                    <a:pt x="1917" y="171"/>
                    <a:pt x="1921" y="172"/>
                  </a:cubicBezTo>
                  <a:cubicBezTo>
                    <a:pt x="1875" y="99"/>
                    <a:pt x="1825" y="57"/>
                    <a:pt x="1743" y="39"/>
                  </a:cubicBezTo>
                  <a:cubicBezTo>
                    <a:pt x="1676" y="45"/>
                    <a:pt x="1647" y="56"/>
                    <a:pt x="1588" y="69"/>
                  </a:cubicBezTo>
                  <a:cubicBezTo>
                    <a:pt x="1587" y="70"/>
                    <a:pt x="1540" y="100"/>
                    <a:pt x="1544" y="113"/>
                  </a:cubicBezTo>
                  <a:cubicBezTo>
                    <a:pt x="1550" y="133"/>
                    <a:pt x="1581" y="165"/>
                    <a:pt x="1581" y="165"/>
                  </a:cubicBezTo>
                  <a:cubicBezTo>
                    <a:pt x="1548" y="187"/>
                    <a:pt x="1515" y="197"/>
                    <a:pt x="1478" y="209"/>
                  </a:cubicBezTo>
                  <a:cubicBezTo>
                    <a:pt x="1473" y="216"/>
                    <a:pt x="1470" y="226"/>
                    <a:pt x="1463" y="231"/>
                  </a:cubicBezTo>
                  <a:cubicBezTo>
                    <a:pt x="1454" y="237"/>
                    <a:pt x="1443" y="236"/>
                    <a:pt x="1433" y="239"/>
                  </a:cubicBezTo>
                  <a:cubicBezTo>
                    <a:pt x="1389" y="252"/>
                    <a:pt x="1325" y="258"/>
                    <a:pt x="1455" y="246"/>
                  </a:cubicBezTo>
                  <a:cubicBezTo>
                    <a:pt x="1516" y="215"/>
                    <a:pt x="1457" y="249"/>
                    <a:pt x="1507" y="209"/>
                  </a:cubicBezTo>
                  <a:cubicBezTo>
                    <a:pt x="1524" y="196"/>
                    <a:pt x="1559" y="172"/>
                    <a:pt x="1559" y="172"/>
                  </a:cubicBezTo>
                  <a:cubicBezTo>
                    <a:pt x="1543" y="127"/>
                    <a:pt x="1549" y="168"/>
                    <a:pt x="1574" y="143"/>
                  </a:cubicBezTo>
                  <a:cubicBezTo>
                    <a:pt x="1582" y="135"/>
                    <a:pt x="1583" y="123"/>
                    <a:pt x="1588" y="113"/>
                  </a:cubicBezTo>
                  <a:cubicBezTo>
                    <a:pt x="1614" y="0"/>
                    <a:pt x="1628" y="31"/>
                    <a:pt x="1751" y="39"/>
                  </a:cubicBezTo>
                  <a:cubicBezTo>
                    <a:pt x="1789" y="58"/>
                    <a:pt x="1798" y="64"/>
                    <a:pt x="1788" y="106"/>
                  </a:cubicBezTo>
                  <a:cubicBezTo>
                    <a:pt x="1790" y="116"/>
                    <a:pt x="1785" y="133"/>
                    <a:pt x="1795" y="135"/>
                  </a:cubicBezTo>
                  <a:cubicBezTo>
                    <a:pt x="1809" y="137"/>
                    <a:pt x="1819" y="119"/>
                    <a:pt x="1832" y="113"/>
                  </a:cubicBezTo>
                  <a:cubicBezTo>
                    <a:pt x="1866" y="96"/>
                    <a:pt x="1870" y="98"/>
                    <a:pt x="1906" y="91"/>
                  </a:cubicBezTo>
                  <a:cubicBezTo>
                    <a:pt x="1931" y="93"/>
                    <a:pt x="1961" y="82"/>
                    <a:pt x="1980" y="98"/>
                  </a:cubicBezTo>
                  <a:cubicBezTo>
                    <a:pt x="1995" y="111"/>
                    <a:pt x="1971" y="146"/>
                    <a:pt x="1987" y="157"/>
                  </a:cubicBezTo>
                  <a:cubicBezTo>
                    <a:pt x="2005" y="170"/>
                    <a:pt x="2032" y="152"/>
                    <a:pt x="2054" y="150"/>
                  </a:cubicBezTo>
                  <a:cubicBezTo>
                    <a:pt x="2071" y="152"/>
                    <a:pt x="2094" y="144"/>
                    <a:pt x="2105" y="157"/>
                  </a:cubicBezTo>
                  <a:cubicBezTo>
                    <a:pt x="2127" y="182"/>
                    <a:pt x="2102" y="253"/>
                    <a:pt x="2120" y="194"/>
                  </a:cubicBezTo>
                  <a:cubicBezTo>
                    <a:pt x="2118" y="177"/>
                    <a:pt x="2128" y="152"/>
                    <a:pt x="2113" y="143"/>
                  </a:cubicBezTo>
                  <a:cubicBezTo>
                    <a:pt x="2098" y="133"/>
                    <a:pt x="2079" y="156"/>
                    <a:pt x="2061" y="157"/>
                  </a:cubicBezTo>
                  <a:cubicBezTo>
                    <a:pt x="2031" y="158"/>
                    <a:pt x="2002" y="152"/>
                    <a:pt x="1972" y="150"/>
                  </a:cubicBezTo>
                  <a:cubicBezTo>
                    <a:pt x="1960" y="148"/>
                    <a:pt x="1941" y="154"/>
                    <a:pt x="1935" y="143"/>
                  </a:cubicBezTo>
                  <a:cubicBezTo>
                    <a:pt x="1882" y="54"/>
                    <a:pt x="1965" y="88"/>
                    <a:pt x="1906" y="69"/>
                  </a:cubicBezTo>
                  <a:cubicBezTo>
                    <a:pt x="1871" y="71"/>
                    <a:pt x="1836" y="70"/>
                    <a:pt x="1802" y="76"/>
                  </a:cubicBezTo>
                  <a:cubicBezTo>
                    <a:pt x="1793" y="78"/>
                    <a:pt x="1788" y="87"/>
                    <a:pt x="1780" y="91"/>
                  </a:cubicBezTo>
                  <a:cubicBezTo>
                    <a:pt x="1714" y="122"/>
                    <a:pt x="1723" y="118"/>
                    <a:pt x="1670" y="128"/>
                  </a:cubicBezTo>
                  <a:cubicBezTo>
                    <a:pt x="1631" y="102"/>
                    <a:pt x="1631" y="71"/>
                    <a:pt x="1588" y="39"/>
                  </a:cubicBezTo>
                  <a:cubicBezTo>
                    <a:pt x="1559" y="44"/>
                    <a:pt x="1529" y="48"/>
                    <a:pt x="1500" y="54"/>
                  </a:cubicBezTo>
                  <a:cubicBezTo>
                    <a:pt x="1492" y="56"/>
                    <a:pt x="1483" y="56"/>
                    <a:pt x="1478" y="61"/>
                  </a:cubicBezTo>
                  <a:cubicBezTo>
                    <a:pt x="1472" y="67"/>
                    <a:pt x="1475" y="78"/>
                    <a:pt x="1470" y="84"/>
                  </a:cubicBezTo>
                  <a:cubicBezTo>
                    <a:pt x="1440" y="121"/>
                    <a:pt x="1413" y="133"/>
                    <a:pt x="1367" y="143"/>
                  </a:cubicBezTo>
                  <a:cubicBezTo>
                    <a:pt x="1344" y="166"/>
                    <a:pt x="1337" y="195"/>
                    <a:pt x="1315" y="217"/>
                  </a:cubicBezTo>
                  <a:cubicBezTo>
                    <a:pt x="1287" y="245"/>
                    <a:pt x="1251" y="261"/>
                    <a:pt x="1219" y="283"/>
                  </a:cubicBezTo>
                  <a:cubicBezTo>
                    <a:pt x="1258" y="285"/>
                    <a:pt x="1300" y="275"/>
                    <a:pt x="1337" y="290"/>
                  </a:cubicBezTo>
                  <a:cubicBezTo>
                    <a:pt x="1352" y="296"/>
                    <a:pt x="1309" y="307"/>
                    <a:pt x="1293" y="313"/>
                  </a:cubicBezTo>
                  <a:cubicBezTo>
                    <a:pt x="1281" y="317"/>
                    <a:pt x="1268" y="317"/>
                    <a:pt x="1256" y="320"/>
                  </a:cubicBezTo>
                  <a:cubicBezTo>
                    <a:pt x="1201" y="334"/>
                    <a:pt x="1150" y="355"/>
                    <a:pt x="1094" y="364"/>
                  </a:cubicBezTo>
                  <a:cubicBezTo>
                    <a:pt x="1059" y="376"/>
                    <a:pt x="1008" y="391"/>
                    <a:pt x="1101" y="379"/>
                  </a:cubicBezTo>
                  <a:cubicBezTo>
                    <a:pt x="1108" y="377"/>
                    <a:pt x="1123" y="380"/>
                    <a:pt x="1123" y="372"/>
                  </a:cubicBezTo>
                  <a:cubicBezTo>
                    <a:pt x="1123" y="361"/>
                    <a:pt x="1112" y="349"/>
                    <a:pt x="1101" y="349"/>
                  </a:cubicBezTo>
                  <a:cubicBezTo>
                    <a:pt x="968" y="344"/>
                    <a:pt x="835" y="354"/>
                    <a:pt x="702" y="357"/>
                  </a:cubicBezTo>
                  <a:cubicBezTo>
                    <a:pt x="877" y="349"/>
                    <a:pt x="995" y="337"/>
                    <a:pt x="1153" y="320"/>
                  </a:cubicBezTo>
                  <a:cubicBezTo>
                    <a:pt x="1163" y="318"/>
                    <a:pt x="1192" y="313"/>
                    <a:pt x="1182" y="313"/>
                  </a:cubicBezTo>
                  <a:cubicBezTo>
                    <a:pt x="1129" y="313"/>
                    <a:pt x="1073" y="336"/>
                    <a:pt x="1020" y="342"/>
                  </a:cubicBezTo>
                  <a:cubicBezTo>
                    <a:pt x="966" y="354"/>
                    <a:pt x="912" y="362"/>
                    <a:pt x="857" y="372"/>
                  </a:cubicBezTo>
                  <a:cubicBezTo>
                    <a:pt x="882" y="374"/>
                    <a:pt x="907" y="385"/>
                    <a:pt x="931" y="379"/>
                  </a:cubicBezTo>
                  <a:cubicBezTo>
                    <a:pt x="940" y="377"/>
                    <a:pt x="923" y="362"/>
                    <a:pt x="916" y="357"/>
                  </a:cubicBezTo>
                  <a:cubicBezTo>
                    <a:pt x="908" y="351"/>
                    <a:pt x="897" y="352"/>
                    <a:pt x="887" y="349"/>
                  </a:cubicBezTo>
                  <a:cubicBezTo>
                    <a:pt x="851" y="361"/>
                    <a:pt x="825" y="374"/>
                    <a:pt x="798" y="401"/>
                  </a:cubicBezTo>
                  <a:cubicBezTo>
                    <a:pt x="747" y="453"/>
                    <a:pt x="803" y="414"/>
                    <a:pt x="754" y="445"/>
                  </a:cubicBezTo>
                  <a:cubicBezTo>
                    <a:pt x="764" y="448"/>
                    <a:pt x="773" y="454"/>
                    <a:pt x="783" y="453"/>
                  </a:cubicBezTo>
                  <a:cubicBezTo>
                    <a:pt x="823" y="448"/>
                    <a:pt x="794" y="405"/>
                    <a:pt x="820" y="475"/>
                  </a:cubicBezTo>
                  <a:cubicBezTo>
                    <a:pt x="818" y="485"/>
                    <a:pt x="822" y="500"/>
                    <a:pt x="813" y="505"/>
                  </a:cubicBezTo>
                  <a:cubicBezTo>
                    <a:pt x="806" y="509"/>
                    <a:pt x="805" y="490"/>
                    <a:pt x="806" y="482"/>
                  </a:cubicBezTo>
                  <a:cubicBezTo>
                    <a:pt x="808" y="463"/>
                    <a:pt x="820" y="430"/>
                    <a:pt x="828" y="409"/>
                  </a:cubicBezTo>
                  <a:cubicBezTo>
                    <a:pt x="820" y="528"/>
                    <a:pt x="823" y="506"/>
                    <a:pt x="791" y="586"/>
                  </a:cubicBezTo>
                  <a:cubicBezTo>
                    <a:pt x="781" y="548"/>
                    <a:pt x="789" y="520"/>
                    <a:pt x="798" y="482"/>
                  </a:cubicBezTo>
                  <a:cubicBezTo>
                    <a:pt x="796" y="470"/>
                    <a:pt x="802" y="451"/>
                    <a:pt x="791" y="445"/>
                  </a:cubicBezTo>
                  <a:cubicBezTo>
                    <a:pt x="779" y="438"/>
                    <a:pt x="698" y="469"/>
                    <a:pt x="680" y="475"/>
                  </a:cubicBezTo>
                  <a:cubicBezTo>
                    <a:pt x="687" y="468"/>
                    <a:pt x="693" y="459"/>
                    <a:pt x="702" y="453"/>
                  </a:cubicBezTo>
                  <a:cubicBezTo>
                    <a:pt x="708" y="449"/>
                    <a:pt x="732" y="445"/>
                    <a:pt x="724" y="445"/>
                  </a:cubicBezTo>
                  <a:cubicBezTo>
                    <a:pt x="719" y="445"/>
                    <a:pt x="680" y="458"/>
                    <a:pt x="673" y="460"/>
                  </a:cubicBezTo>
                  <a:cubicBezTo>
                    <a:pt x="638" y="455"/>
                    <a:pt x="601" y="459"/>
                    <a:pt x="569" y="445"/>
                  </a:cubicBezTo>
                  <a:cubicBezTo>
                    <a:pt x="553" y="438"/>
                    <a:pt x="604" y="441"/>
                    <a:pt x="621" y="438"/>
                  </a:cubicBezTo>
                  <a:cubicBezTo>
                    <a:pt x="771" y="414"/>
                    <a:pt x="729" y="422"/>
                    <a:pt x="370" y="431"/>
                  </a:cubicBezTo>
                  <a:cubicBezTo>
                    <a:pt x="310" y="445"/>
                    <a:pt x="255" y="467"/>
                    <a:pt x="193" y="475"/>
                  </a:cubicBezTo>
                  <a:cubicBezTo>
                    <a:pt x="137" y="494"/>
                    <a:pt x="95" y="538"/>
                    <a:pt x="38" y="556"/>
                  </a:cubicBezTo>
                  <a:cubicBezTo>
                    <a:pt x="96" y="572"/>
                    <a:pt x="89" y="610"/>
                    <a:pt x="104" y="660"/>
                  </a:cubicBezTo>
                  <a:cubicBezTo>
                    <a:pt x="102" y="670"/>
                    <a:pt x="106" y="692"/>
                    <a:pt x="97" y="689"/>
                  </a:cubicBezTo>
                  <a:cubicBezTo>
                    <a:pt x="84" y="684"/>
                    <a:pt x="87" y="664"/>
                    <a:pt x="82" y="652"/>
                  </a:cubicBezTo>
                  <a:cubicBezTo>
                    <a:pt x="65" y="608"/>
                    <a:pt x="52" y="571"/>
                    <a:pt x="23" y="534"/>
                  </a:cubicBezTo>
                  <a:cubicBezTo>
                    <a:pt x="0" y="592"/>
                    <a:pt x="19" y="579"/>
                    <a:pt x="45" y="630"/>
                  </a:cubicBezTo>
                  <a:cubicBezTo>
                    <a:pt x="47" y="645"/>
                    <a:pt x="50" y="659"/>
                    <a:pt x="52" y="674"/>
                  </a:cubicBezTo>
                  <a:cubicBezTo>
                    <a:pt x="63" y="773"/>
                    <a:pt x="42" y="788"/>
                    <a:pt x="82" y="733"/>
                  </a:cubicBezTo>
                  <a:cubicBezTo>
                    <a:pt x="79" y="775"/>
                    <a:pt x="61" y="819"/>
                    <a:pt x="74" y="859"/>
                  </a:cubicBezTo>
                  <a:cubicBezTo>
                    <a:pt x="79" y="876"/>
                    <a:pt x="97" y="832"/>
                    <a:pt x="111" y="822"/>
                  </a:cubicBezTo>
                  <a:cubicBezTo>
                    <a:pt x="139" y="803"/>
                    <a:pt x="163" y="795"/>
                    <a:pt x="193" y="785"/>
                  </a:cubicBezTo>
                  <a:cubicBezTo>
                    <a:pt x="271" y="813"/>
                    <a:pt x="324" y="803"/>
                    <a:pt x="422" y="807"/>
                  </a:cubicBezTo>
                  <a:cubicBezTo>
                    <a:pt x="375" y="823"/>
                    <a:pt x="323" y="822"/>
                    <a:pt x="274" y="829"/>
                  </a:cubicBezTo>
                  <a:cubicBezTo>
                    <a:pt x="404" y="838"/>
                    <a:pt x="433" y="853"/>
                    <a:pt x="577" y="859"/>
                  </a:cubicBezTo>
                  <a:cubicBezTo>
                    <a:pt x="601" y="875"/>
                    <a:pt x="623" y="887"/>
                    <a:pt x="650" y="896"/>
                  </a:cubicBezTo>
                  <a:cubicBezTo>
                    <a:pt x="643" y="901"/>
                    <a:pt x="637" y="911"/>
                    <a:pt x="628" y="911"/>
                  </a:cubicBezTo>
                  <a:cubicBezTo>
                    <a:pt x="603" y="911"/>
                    <a:pt x="509" y="865"/>
                    <a:pt x="481" y="859"/>
                  </a:cubicBezTo>
                  <a:cubicBezTo>
                    <a:pt x="457" y="854"/>
                    <a:pt x="432" y="854"/>
                    <a:pt x="407" y="852"/>
                  </a:cubicBezTo>
                  <a:cubicBezTo>
                    <a:pt x="380" y="844"/>
                    <a:pt x="299" y="821"/>
                    <a:pt x="326" y="829"/>
                  </a:cubicBezTo>
                  <a:cubicBezTo>
                    <a:pt x="350" y="837"/>
                    <a:pt x="374" y="846"/>
                    <a:pt x="399" y="852"/>
                  </a:cubicBezTo>
                  <a:cubicBezTo>
                    <a:pt x="450" y="864"/>
                    <a:pt x="554" y="881"/>
                    <a:pt x="554" y="881"/>
                  </a:cubicBezTo>
                  <a:cubicBezTo>
                    <a:pt x="624" y="912"/>
                    <a:pt x="707" y="925"/>
                    <a:pt x="769" y="970"/>
                  </a:cubicBezTo>
                  <a:cubicBezTo>
                    <a:pt x="780" y="978"/>
                    <a:pt x="810" y="993"/>
                    <a:pt x="798" y="999"/>
                  </a:cubicBezTo>
                  <a:cubicBezTo>
                    <a:pt x="780" y="1008"/>
                    <a:pt x="758" y="991"/>
                    <a:pt x="739" y="985"/>
                  </a:cubicBezTo>
                  <a:cubicBezTo>
                    <a:pt x="660" y="962"/>
                    <a:pt x="581" y="938"/>
                    <a:pt x="503" y="911"/>
                  </a:cubicBezTo>
                  <a:cubicBezTo>
                    <a:pt x="476" y="902"/>
                    <a:pt x="449" y="890"/>
                    <a:pt x="422" y="881"/>
                  </a:cubicBezTo>
                  <a:cubicBezTo>
                    <a:pt x="405" y="875"/>
                    <a:pt x="354" y="859"/>
                    <a:pt x="370" y="866"/>
                  </a:cubicBezTo>
                  <a:cubicBezTo>
                    <a:pt x="470" y="910"/>
                    <a:pt x="570" y="975"/>
                    <a:pt x="643" y="1058"/>
                  </a:cubicBezTo>
                  <a:cubicBezTo>
                    <a:pt x="664" y="1082"/>
                    <a:pt x="683" y="1107"/>
                    <a:pt x="702" y="1132"/>
                  </a:cubicBezTo>
                  <a:cubicBezTo>
                    <a:pt x="710" y="1142"/>
                    <a:pt x="724" y="1162"/>
                    <a:pt x="724" y="1162"/>
                  </a:cubicBezTo>
                  <a:cubicBezTo>
                    <a:pt x="726" y="1157"/>
                    <a:pt x="747" y="1102"/>
                    <a:pt x="769" y="1117"/>
                  </a:cubicBezTo>
                  <a:cubicBezTo>
                    <a:pt x="782" y="1126"/>
                    <a:pt x="783" y="1162"/>
                    <a:pt x="783" y="1162"/>
                  </a:cubicBezTo>
                  <a:cubicBezTo>
                    <a:pt x="776" y="1223"/>
                    <a:pt x="776" y="1286"/>
                    <a:pt x="761" y="1346"/>
                  </a:cubicBezTo>
                  <a:cubicBezTo>
                    <a:pt x="759" y="1353"/>
                    <a:pt x="744" y="1344"/>
                    <a:pt x="739" y="1339"/>
                  </a:cubicBezTo>
                  <a:cubicBezTo>
                    <a:pt x="722" y="1322"/>
                    <a:pt x="710" y="1300"/>
                    <a:pt x="695" y="1280"/>
                  </a:cubicBezTo>
                  <a:cubicBezTo>
                    <a:pt x="680" y="1260"/>
                    <a:pt x="672" y="1235"/>
                    <a:pt x="658" y="1213"/>
                  </a:cubicBezTo>
                  <a:cubicBezTo>
                    <a:pt x="614" y="1143"/>
                    <a:pt x="565" y="1079"/>
                    <a:pt x="540" y="999"/>
                  </a:cubicBezTo>
                  <a:cubicBezTo>
                    <a:pt x="561" y="955"/>
                    <a:pt x="550" y="955"/>
                    <a:pt x="621" y="985"/>
                  </a:cubicBezTo>
                  <a:cubicBezTo>
                    <a:pt x="639" y="993"/>
                    <a:pt x="657" y="1032"/>
                    <a:pt x="665" y="1044"/>
                  </a:cubicBezTo>
                  <a:cubicBezTo>
                    <a:pt x="692" y="1085"/>
                    <a:pt x="724" y="1123"/>
                    <a:pt x="754" y="1162"/>
                  </a:cubicBezTo>
                  <a:cubicBezTo>
                    <a:pt x="774" y="1189"/>
                    <a:pt x="813" y="1243"/>
                    <a:pt x="813" y="1243"/>
                  </a:cubicBezTo>
                  <a:cubicBezTo>
                    <a:pt x="815" y="1250"/>
                    <a:pt x="821" y="1273"/>
                    <a:pt x="820" y="1265"/>
                  </a:cubicBezTo>
                  <a:cubicBezTo>
                    <a:pt x="794" y="1130"/>
                    <a:pt x="819" y="1296"/>
                    <a:pt x="776" y="1117"/>
                  </a:cubicBezTo>
                  <a:cubicBezTo>
                    <a:pt x="774" y="1107"/>
                    <a:pt x="772" y="1098"/>
                    <a:pt x="769" y="1088"/>
                  </a:cubicBezTo>
                  <a:cubicBezTo>
                    <a:pt x="767" y="1081"/>
                    <a:pt x="754" y="1063"/>
                    <a:pt x="761" y="1066"/>
                  </a:cubicBezTo>
                  <a:cubicBezTo>
                    <a:pt x="779" y="1073"/>
                    <a:pt x="793" y="1089"/>
                    <a:pt x="806" y="1103"/>
                  </a:cubicBezTo>
                  <a:cubicBezTo>
                    <a:pt x="818" y="1116"/>
                    <a:pt x="825" y="1132"/>
                    <a:pt x="835" y="1147"/>
                  </a:cubicBezTo>
                  <a:cubicBezTo>
                    <a:pt x="856" y="1220"/>
                    <a:pt x="876" y="1286"/>
                    <a:pt x="887" y="1361"/>
                  </a:cubicBezTo>
                  <a:cubicBezTo>
                    <a:pt x="884" y="1398"/>
                    <a:pt x="889" y="1436"/>
                    <a:pt x="879" y="1472"/>
                  </a:cubicBezTo>
                  <a:cubicBezTo>
                    <a:pt x="876" y="1483"/>
                    <a:pt x="868" y="1453"/>
                    <a:pt x="865" y="1442"/>
                  </a:cubicBezTo>
                  <a:cubicBezTo>
                    <a:pt x="860" y="1425"/>
                    <a:pt x="861" y="1408"/>
                    <a:pt x="857" y="1391"/>
                  </a:cubicBezTo>
                  <a:cubicBezTo>
                    <a:pt x="848" y="1353"/>
                    <a:pt x="823" y="1265"/>
                    <a:pt x="806" y="1221"/>
                  </a:cubicBezTo>
                  <a:cubicBezTo>
                    <a:pt x="761" y="1104"/>
                    <a:pt x="797" y="1217"/>
                    <a:pt x="776" y="1140"/>
                  </a:cubicBezTo>
                  <a:cubicBezTo>
                    <a:pt x="774" y="1132"/>
                    <a:pt x="765" y="1110"/>
                    <a:pt x="769" y="1117"/>
                  </a:cubicBezTo>
                  <a:cubicBezTo>
                    <a:pt x="788" y="1145"/>
                    <a:pt x="820" y="1206"/>
                    <a:pt x="820" y="1206"/>
                  </a:cubicBezTo>
                  <a:cubicBezTo>
                    <a:pt x="836" y="1344"/>
                    <a:pt x="838" y="1482"/>
                    <a:pt x="850" y="1620"/>
                  </a:cubicBezTo>
                  <a:cubicBezTo>
                    <a:pt x="847" y="1664"/>
                    <a:pt x="856" y="1711"/>
                    <a:pt x="842" y="1753"/>
                  </a:cubicBezTo>
                  <a:cubicBezTo>
                    <a:pt x="832" y="1781"/>
                    <a:pt x="838" y="1694"/>
                    <a:pt x="835" y="1664"/>
                  </a:cubicBezTo>
                  <a:cubicBezTo>
                    <a:pt x="822" y="1550"/>
                    <a:pt x="815" y="1526"/>
                    <a:pt x="791" y="1405"/>
                  </a:cubicBezTo>
                  <a:cubicBezTo>
                    <a:pt x="788" y="1388"/>
                    <a:pt x="766" y="1354"/>
                    <a:pt x="783" y="1354"/>
                  </a:cubicBezTo>
                  <a:cubicBezTo>
                    <a:pt x="802" y="1354"/>
                    <a:pt x="798" y="1388"/>
                    <a:pt x="806" y="1405"/>
                  </a:cubicBezTo>
                  <a:cubicBezTo>
                    <a:pt x="827" y="1564"/>
                    <a:pt x="825" y="1725"/>
                    <a:pt x="842" y="1885"/>
                  </a:cubicBezTo>
                  <a:cubicBezTo>
                    <a:pt x="845" y="1794"/>
                    <a:pt x="845" y="1703"/>
                    <a:pt x="850" y="1612"/>
                  </a:cubicBezTo>
                  <a:cubicBezTo>
                    <a:pt x="850" y="1604"/>
                    <a:pt x="850" y="1586"/>
                    <a:pt x="857" y="1590"/>
                  </a:cubicBezTo>
                  <a:cubicBezTo>
                    <a:pt x="870" y="1597"/>
                    <a:pt x="872" y="1615"/>
                    <a:pt x="879" y="1627"/>
                  </a:cubicBezTo>
                  <a:cubicBezTo>
                    <a:pt x="882" y="1642"/>
                    <a:pt x="883" y="1657"/>
                    <a:pt x="887" y="1671"/>
                  </a:cubicBezTo>
                  <a:cubicBezTo>
                    <a:pt x="893" y="1694"/>
                    <a:pt x="905" y="1715"/>
                    <a:pt x="909" y="1738"/>
                  </a:cubicBezTo>
                  <a:cubicBezTo>
                    <a:pt x="927" y="1833"/>
                    <a:pt x="934" y="1930"/>
                    <a:pt x="953" y="2026"/>
                  </a:cubicBezTo>
                  <a:cubicBezTo>
                    <a:pt x="958" y="2087"/>
                    <a:pt x="963" y="2149"/>
                    <a:pt x="968" y="2210"/>
                  </a:cubicBezTo>
                  <a:cubicBezTo>
                    <a:pt x="977" y="2323"/>
                    <a:pt x="921" y="2444"/>
                    <a:pt x="887" y="2550"/>
                  </a:cubicBezTo>
                  <a:cubicBezTo>
                    <a:pt x="851" y="2316"/>
                    <a:pt x="893" y="2075"/>
                    <a:pt x="857" y="1841"/>
                  </a:cubicBezTo>
                  <a:cubicBezTo>
                    <a:pt x="859" y="1884"/>
                    <a:pt x="894" y="2234"/>
                    <a:pt x="835" y="2255"/>
                  </a:cubicBezTo>
                  <a:cubicBezTo>
                    <a:pt x="844" y="1989"/>
                    <a:pt x="835" y="2137"/>
                    <a:pt x="850" y="1974"/>
                  </a:cubicBezTo>
                  <a:cubicBezTo>
                    <a:pt x="852" y="1947"/>
                    <a:pt x="855" y="1920"/>
                    <a:pt x="857" y="1893"/>
                  </a:cubicBezTo>
                  <a:cubicBezTo>
                    <a:pt x="860" y="1866"/>
                    <a:pt x="866" y="1785"/>
                    <a:pt x="865" y="1812"/>
                  </a:cubicBezTo>
                  <a:cubicBezTo>
                    <a:pt x="858" y="2017"/>
                    <a:pt x="834" y="2210"/>
                    <a:pt x="798" y="2410"/>
                  </a:cubicBezTo>
                  <a:cubicBezTo>
                    <a:pt x="781" y="2357"/>
                    <a:pt x="797" y="2294"/>
                    <a:pt x="806" y="2240"/>
                  </a:cubicBezTo>
                  <a:cubicBezTo>
                    <a:pt x="820" y="2152"/>
                    <a:pt x="831" y="2063"/>
                    <a:pt x="842" y="1974"/>
                  </a:cubicBezTo>
                  <a:cubicBezTo>
                    <a:pt x="849" y="1915"/>
                    <a:pt x="850" y="1856"/>
                    <a:pt x="857" y="1797"/>
                  </a:cubicBezTo>
                  <a:cubicBezTo>
                    <a:pt x="861" y="1765"/>
                    <a:pt x="872" y="1701"/>
                    <a:pt x="872" y="1701"/>
                  </a:cubicBezTo>
                  <a:cubicBezTo>
                    <a:pt x="890" y="1835"/>
                    <a:pt x="885" y="1972"/>
                    <a:pt x="894" y="2107"/>
                  </a:cubicBezTo>
                  <a:cubicBezTo>
                    <a:pt x="880" y="2282"/>
                    <a:pt x="875" y="2442"/>
                    <a:pt x="835" y="2609"/>
                  </a:cubicBezTo>
                  <a:cubicBezTo>
                    <a:pt x="848" y="2480"/>
                    <a:pt x="855" y="2352"/>
                    <a:pt x="879" y="2225"/>
                  </a:cubicBezTo>
                  <a:cubicBezTo>
                    <a:pt x="877" y="2338"/>
                    <a:pt x="878" y="2452"/>
                    <a:pt x="872" y="2565"/>
                  </a:cubicBezTo>
                  <a:cubicBezTo>
                    <a:pt x="870" y="2600"/>
                    <a:pt x="852" y="2635"/>
                    <a:pt x="842" y="2668"/>
                  </a:cubicBezTo>
                  <a:cubicBezTo>
                    <a:pt x="839" y="2678"/>
                    <a:pt x="838" y="2688"/>
                    <a:pt x="835" y="2698"/>
                  </a:cubicBezTo>
                  <a:cubicBezTo>
                    <a:pt x="833" y="2705"/>
                    <a:pt x="828" y="2728"/>
                    <a:pt x="828" y="2720"/>
                  </a:cubicBezTo>
                  <a:cubicBezTo>
                    <a:pt x="828" y="2671"/>
                    <a:pt x="849" y="2648"/>
                    <a:pt x="872" y="2602"/>
                  </a:cubicBezTo>
                  <a:cubicBezTo>
                    <a:pt x="879" y="2587"/>
                    <a:pt x="894" y="2557"/>
                    <a:pt x="894" y="2557"/>
                  </a:cubicBezTo>
                  <a:cubicBezTo>
                    <a:pt x="897" y="2545"/>
                    <a:pt x="902" y="2509"/>
                    <a:pt x="902" y="2521"/>
                  </a:cubicBezTo>
                  <a:cubicBezTo>
                    <a:pt x="902" y="2576"/>
                    <a:pt x="876" y="2629"/>
                    <a:pt x="865" y="2683"/>
                  </a:cubicBezTo>
                  <a:cubicBezTo>
                    <a:pt x="851" y="2752"/>
                    <a:pt x="840" y="2806"/>
                    <a:pt x="806" y="2868"/>
                  </a:cubicBezTo>
                  <a:cubicBezTo>
                    <a:pt x="803" y="2880"/>
                    <a:pt x="803" y="2893"/>
                    <a:pt x="798" y="2905"/>
                  </a:cubicBezTo>
                  <a:cubicBezTo>
                    <a:pt x="795" y="2913"/>
                    <a:pt x="784" y="2936"/>
                    <a:pt x="783" y="2927"/>
                  </a:cubicBezTo>
                  <a:cubicBezTo>
                    <a:pt x="776" y="2878"/>
                    <a:pt x="796" y="2817"/>
                    <a:pt x="813" y="2772"/>
                  </a:cubicBezTo>
                  <a:cubicBezTo>
                    <a:pt x="818" y="2757"/>
                    <a:pt x="823" y="2742"/>
                    <a:pt x="828" y="2727"/>
                  </a:cubicBezTo>
                  <a:cubicBezTo>
                    <a:pt x="832" y="2715"/>
                    <a:pt x="854" y="2696"/>
                    <a:pt x="842" y="2690"/>
                  </a:cubicBezTo>
                  <a:cubicBezTo>
                    <a:pt x="829" y="2684"/>
                    <a:pt x="823" y="2710"/>
                    <a:pt x="813" y="2720"/>
                  </a:cubicBezTo>
                  <a:cubicBezTo>
                    <a:pt x="803" y="2763"/>
                    <a:pt x="773" y="2783"/>
                    <a:pt x="754" y="2823"/>
                  </a:cubicBezTo>
                  <a:cubicBezTo>
                    <a:pt x="751" y="2829"/>
                    <a:pt x="769" y="2809"/>
                    <a:pt x="769" y="2809"/>
                  </a:cubicBezTo>
                  <a:cubicBezTo>
                    <a:pt x="757" y="2863"/>
                    <a:pt x="721" y="2901"/>
                    <a:pt x="695" y="2949"/>
                  </a:cubicBezTo>
                  <a:cubicBezTo>
                    <a:pt x="688" y="2962"/>
                    <a:pt x="681" y="2974"/>
                    <a:pt x="673" y="2986"/>
                  </a:cubicBezTo>
                  <a:cubicBezTo>
                    <a:pt x="668" y="2994"/>
                    <a:pt x="649" y="3008"/>
                    <a:pt x="658" y="3008"/>
                  </a:cubicBezTo>
                  <a:cubicBezTo>
                    <a:pt x="668" y="3008"/>
                    <a:pt x="672" y="2992"/>
                    <a:pt x="680" y="2986"/>
                  </a:cubicBezTo>
                  <a:cubicBezTo>
                    <a:pt x="689" y="2980"/>
                    <a:pt x="701" y="2977"/>
                    <a:pt x="710" y="2971"/>
                  </a:cubicBezTo>
                  <a:cubicBezTo>
                    <a:pt x="772" y="2932"/>
                    <a:pt x="816" y="2908"/>
                    <a:pt x="879" y="2875"/>
                  </a:cubicBezTo>
                  <a:cubicBezTo>
                    <a:pt x="863" y="2952"/>
                    <a:pt x="865" y="2963"/>
                    <a:pt x="813" y="3015"/>
                  </a:cubicBezTo>
                  <a:cubicBezTo>
                    <a:pt x="807" y="3021"/>
                    <a:pt x="823" y="3000"/>
                    <a:pt x="828" y="2993"/>
                  </a:cubicBezTo>
                  <a:cubicBezTo>
                    <a:pt x="835" y="2983"/>
                    <a:pt x="841" y="2972"/>
                    <a:pt x="850" y="2964"/>
                  </a:cubicBezTo>
                  <a:cubicBezTo>
                    <a:pt x="858" y="2957"/>
                    <a:pt x="870" y="2956"/>
                    <a:pt x="879" y="2949"/>
                  </a:cubicBezTo>
                  <a:cubicBezTo>
                    <a:pt x="942" y="2901"/>
                    <a:pt x="872" y="2931"/>
                    <a:pt x="953" y="2905"/>
                  </a:cubicBezTo>
                  <a:cubicBezTo>
                    <a:pt x="1008" y="2867"/>
                    <a:pt x="980" y="2924"/>
                    <a:pt x="961" y="2941"/>
                  </a:cubicBezTo>
                  <a:cubicBezTo>
                    <a:pt x="947" y="2953"/>
                    <a:pt x="931" y="2961"/>
                    <a:pt x="916" y="2971"/>
                  </a:cubicBezTo>
                  <a:cubicBezTo>
                    <a:pt x="910" y="2975"/>
                    <a:pt x="886" y="2978"/>
                    <a:pt x="894" y="2978"/>
                  </a:cubicBezTo>
                  <a:cubicBezTo>
                    <a:pt x="946" y="2978"/>
                    <a:pt x="1014" y="2958"/>
                    <a:pt x="1064" y="2949"/>
                  </a:cubicBezTo>
                  <a:cubicBezTo>
                    <a:pt x="1017" y="2936"/>
                    <a:pt x="1040" y="2950"/>
                    <a:pt x="1005" y="2897"/>
                  </a:cubicBezTo>
                  <a:cubicBezTo>
                    <a:pt x="996" y="2884"/>
                    <a:pt x="1035" y="2906"/>
                    <a:pt x="1049" y="2912"/>
                  </a:cubicBezTo>
                  <a:cubicBezTo>
                    <a:pt x="1067" y="2920"/>
                    <a:pt x="1083" y="2933"/>
                    <a:pt x="1101" y="2941"/>
                  </a:cubicBezTo>
                  <a:cubicBezTo>
                    <a:pt x="1121" y="3008"/>
                    <a:pt x="1075" y="2913"/>
                    <a:pt x="1071" y="2905"/>
                  </a:cubicBezTo>
                  <a:cubicBezTo>
                    <a:pt x="1085" y="2866"/>
                    <a:pt x="1074" y="2872"/>
                    <a:pt x="1138" y="2897"/>
                  </a:cubicBezTo>
                  <a:cubicBezTo>
                    <a:pt x="1159" y="2905"/>
                    <a:pt x="1197" y="2927"/>
                    <a:pt x="1197" y="2927"/>
                  </a:cubicBezTo>
                  <a:cubicBezTo>
                    <a:pt x="1246" y="2993"/>
                    <a:pt x="1221" y="2972"/>
                    <a:pt x="1263" y="3001"/>
                  </a:cubicBezTo>
                  <a:cubicBezTo>
                    <a:pt x="1256" y="2981"/>
                    <a:pt x="1248" y="2961"/>
                    <a:pt x="1241" y="2941"/>
                  </a:cubicBezTo>
                  <a:cubicBezTo>
                    <a:pt x="1231" y="2914"/>
                    <a:pt x="1290" y="2971"/>
                    <a:pt x="1315" y="2986"/>
                  </a:cubicBezTo>
                  <a:cubicBezTo>
                    <a:pt x="1327" y="2993"/>
                    <a:pt x="1352" y="3008"/>
                    <a:pt x="1352" y="3008"/>
                  </a:cubicBezTo>
                  <a:cubicBezTo>
                    <a:pt x="1362" y="3020"/>
                    <a:pt x="1370" y="3034"/>
                    <a:pt x="1382" y="3045"/>
                  </a:cubicBezTo>
                  <a:cubicBezTo>
                    <a:pt x="1403" y="3064"/>
                    <a:pt x="1448" y="3097"/>
                    <a:pt x="1448" y="3097"/>
                  </a:cubicBezTo>
                  <a:cubicBezTo>
                    <a:pt x="1423" y="3046"/>
                    <a:pt x="1440" y="3073"/>
                    <a:pt x="1382" y="3015"/>
                  </a:cubicBezTo>
                  <a:cubicBezTo>
                    <a:pt x="1372" y="3005"/>
                    <a:pt x="1362" y="2996"/>
                    <a:pt x="1352" y="2986"/>
                  </a:cubicBezTo>
                  <a:cubicBezTo>
                    <a:pt x="1345" y="2979"/>
                    <a:pt x="1330" y="2964"/>
                    <a:pt x="1330" y="2964"/>
                  </a:cubicBezTo>
                  <a:cubicBezTo>
                    <a:pt x="1332" y="2956"/>
                    <a:pt x="1329" y="2941"/>
                    <a:pt x="1337" y="2941"/>
                  </a:cubicBezTo>
                  <a:cubicBezTo>
                    <a:pt x="1349" y="2941"/>
                    <a:pt x="1439" y="2977"/>
                    <a:pt x="1455" y="2986"/>
                  </a:cubicBezTo>
                  <a:cubicBezTo>
                    <a:pt x="1471" y="2994"/>
                    <a:pt x="1486" y="3004"/>
                    <a:pt x="1500" y="3015"/>
                  </a:cubicBezTo>
                  <a:cubicBezTo>
                    <a:pt x="1508" y="3021"/>
                    <a:pt x="1532" y="3041"/>
                    <a:pt x="1522" y="3037"/>
                  </a:cubicBezTo>
                  <a:cubicBezTo>
                    <a:pt x="1485" y="3021"/>
                    <a:pt x="1453" y="2997"/>
                    <a:pt x="1418" y="2978"/>
                  </a:cubicBezTo>
                  <a:cubicBezTo>
                    <a:pt x="1406" y="2971"/>
                    <a:pt x="1394" y="2964"/>
                    <a:pt x="1382" y="2956"/>
                  </a:cubicBezTo>
                  <a:cubicBezTo>
                    <a:pt x="1372" y="2949"/>
                    <a:pt x="1340" y="2934"/>
                    <a:pt x="1352" y="2934"/>
                  </a:cubicBezTo>
                  <a:cubicBezTo>
                    <a:pt x="1380" y="2934"/>
                    <a:pt x="1406" y="2949"/>
                    <a:pt x="1433" y="2956"/>
                  </a:cubicBezTo>
                  <a:cubicBezTo>
                    <a:pt x="1440" y="2961"/>
                    <a:pt x="1455" y="2962"/>
                    <a:pt x="1455" y="2971"/>
                  </a:cubicBezTo>
                  <a:cubicBezTo>
                    <a:pt x="1455" y="2979"/>
                    <a:pt x="1439" y="2968"/>
                    <a:pt x="1433" y="2964"/>
                  </a:cubicBezTo>
                  <a:cubicBezTo>
                    <a:pt x="1374" y="2924"/>
                    <a:pt x="1457" y="2956"/>
                    <a:pt x="1374" y="2919"/>
                  </a:cubicBezTo>
                  <a:cubicBezTo>
                    <a:pt x="1335" y="2902"/>
                    <a:pt x="1295" y="2886"/>
                    <a:pt x="1256" y="2868"/>
                  </a:cubicBezTo>
                  <a:cubicBezTo>
                    <a:pt x="1239" y="2811"/>
                    <a:pt x="1240" y="2840"/>
                    <a:pt x="1359" y="2853"/>
                  </a:cubicBezTo>
                  <a:cubicBezTo>
                    <a:pt x="1367" y="2854"/>
                    <a:pt x="1387" y="2866"/>
                    <a:pt x="1382" y="2860"/>
                  </a:cubicBezTo>
                  <a:cubicBezTo>
                    <a:pt x="1358" y="2833"/>
                    <a:pt x="1280" y="2812"/>
                    <a:pt x="1249" y="2794"/>
                  </a:cubicBezTo>
                  <a:cubicBezTo>
                    <a:pt x="1231" y="2783"/>
                    <a:pt x="1197" y="2757"/>
                    <a:pt x="1197" y="2757"/>
                  </a:cubicBezTo>
                  <a:cubicBezTo>
                    <a:pt x="1249" y="2730"/>
                    <a:pt x="1264" y="2754"/>
                    <a:pt x="1315" y="2786"/>
                  </a:cubicBezTo>
                  <a:cubicBezTo>
                    <a:pt x="1322" y="2791"/>
                    <a:pt x="1299" y="2778"/>
                    <a:pt x="1293" y="2772"/>
                  </a:cubicBezTo>
                  <a:cubicBezTo>
                    <a:pt x="1158" y="2634"/>
                    <a:pt x="1326" y="2801"/>
                    <a:pt x="1212" y="2698"/>
                  </a:cubicBezTo>
                  <a:cubicBezTo>
                    <a:pt x="1194" y="2682"/>
                    <a:pt x="1160" y="2646"/>
                    <a:pt x="1160" y="2646"/>
                  </a:cubicBezTo>
                  <a:cubicBezTo>
                    <a:pt x="1158" y="2639"/>
                    <a:pt x="1148" y="2629"/>
                    <a:pt x="1153" y="2624"/>
                  </a:cubicBezTo>
                  <a:cubicBezTo>
                    <a:pt x="1158" y="2619"/>
                    <a:pt x="1168" y="2628"/>
                    <a:pt x="1175" y="2631"/>
                  </a:cubicBezTo>
                  <a:cubicBezTo>
                    <a:pt x="1180" y="2633"/>
                    <a:pt x="1231" y="2657"/>
                    <a:pt x="1241" y="2668"/>
                  </a:cubicBezTo>
                  <a:cubicBezTo>
                    <a:pt x="1258" y="2686"/>
                    <a:pt x="1271" y="2707"/>
                    <a:pt x="1286" y="2727"/>
                  </a:cubicBezTo>
                  <a:cubicBezTo>
                    <a:pt x="1293" y="2737"/>
                    <a:pt x="1271" y="2708"/>
                    <a:pt x="1263" y="2698"/>
                  </a:cubicBezTo>
                  <a:cubicBezTo>
                    <a:pt x="1245" y="2675"/>
                    <a:pt x="1233" y="2645"/>
                    <a:pt x="1226" y="2617"/>
                  </a:cubicBezTo>
                  <a:cubicBezTo>
                    <a:pt x="1223" y="2605"/>
                    <a:pt x="1206" y="2580"/>
                    <a:pt x="1219" y="2580"/>
                  </a:cubicBezTo>
                  <a:cubicBezTo>
                    <a:pt x="1232" y="2580"/>
                    <a:pt x="1228" y="2605"/>
                    <a:pt x="1234" y="2617"/>
                  </a:cubicBezTo>
                  <a:cubicBezTo>
                    <a:pt x="1239" y="2627"/>
                    <a:pt x="1312" y="2781"/>
                    <a:pt x="1249" y="2698"/>
                  </a:cubicBezTo>
                  <a:cubicBezTo>
                    <a:pt x="1223" y="2620"/>
                    <a:pt x="1184" y="2557"/>
                    <a:pt x="1167" y="2476"/>
                  </a:cubicBezTo>
                  <a:cubicBezTo>
                    <a:pt x="1170" y="2449"/>
                    <a:pt x="1152" y="2410"/>
                    <a:pt x="1175" y="2395"/>
                  </a:cubicBezTo>
                  <a:cubicBezTo>
                    <a:pt x="1194" y="2383"/>
                    <a:pt x="1182" y="2440"/>
                    <a:pt x="1190" y="2461"/>
                  </a:cubicBezTo>
                  <a:cubicBezTo>
                    <a:pt x="1208" y="2508"/>
                    <a:pt x="1201" y="2485"/>
                    <a:pt x="1212" y="2528"/>
                  </a:cubicBezTo>
                  <a:cubicBezTo>
                    <a:pt x="1197" y="2692"/>
                    <a:pt x="1202" y="2594"/>
                    <a:pt x="1182" y="2535"/>
                  </a:cubicBezTo>
                  <a:cubicBezTo>
                    <a:pt x="1151" y="2337"/>
                    <a:pt x="1197" y="2134"/>
                    <a:pt x="1160" y="1937"/>
                  </a:cubicBezTo>
                  <a:cubicBezTo>
                    <a:pt x="1100" y="2193"/>
                    <a:pt x="1115" y="1723"/>
                    <a:pt x="1167" y="1561"/>
                  </a:cubicBezTo>
                  <a:cubicBezTo>
                    <a:pt x="1186" y="1683"/>
                    <a:pt x="1185" y="1546"/>
                    <a:pt x="1190" y="1516"/>
                  </a:cubicBezTo>
                  <a:cubicBezTo>
                    <a:pt x="1206" y="1250"/>
                    <a:pt x="1190" y="1496"/>
                    <a:pt x="1190" y="1642"/>
                  </a:cubicBezTo>
                  <a:cubicBezTo>
                    <a:pt x="1190" y="1684"/>
                    <a:pt x="1194" y="1558"/>
                    <a:pt x="1197" y="1516"/>
                  </a:cubicBezTo>
                  <a:cubicBezTo>
                    <a:pt x="1204" y="1430"/>
                    <a:pt x="1229" y="1330"/>
                    <a:pt x="1278" y="1258"/>
                  </a:cubicBezTo>
                  <a:cubicBezTo>
                    <a:pt x="1271" y="1285"/>
                    <a:pt x="1262" y="1311"/>
                    <a:pt x="1256" y="1339"/>
                  </a:cubicBezTo>
                  <a:cubicBezTo>
                    <a:pt x="1238" y="1285"/>
                    <a:pt x="1245" y="1250"/>
                    <a:pt x="1271" y="1199"/>
                  </a:cubicBezTo>
                  <a:cubicBezTo>
                    <a:pt x="1273" y="1184"/>
                    <a:pt x="1274" y="1169"/>
                    <a:pt x="1278" y="1154"/>
                  </a:cubicBezTo>
                  <a:cubicBezTo>
                    <a:pt x="1289" y="1115"/>
                    <a:pt x="1330" y="1073"/>
                    <a:pt x="1322" y="1029"/>
                  </a:cubicBezTo>
                  <a:cubicBezTo>
                    <a:pt x="1320" y="1020"/>
                    <a:pt x="1307" y="1039"/>
                    <a:pt x="1300" y="1044"/>
                  </a:cubicBezTo>
                  <a:cubicBezTo>
                    <a:pt x="1295" y="1051"/>
                    <a:pt x="1284" y="1074"/>
                    <a:pt x="1286" y="1066"/>
                  </a:cubicBezTo>
                  <a:cubicBezTo>
                    <a:pt x="1312" y="977"/>
                    <a:pt x="1364" y="901"/>
                    <a:pt x="1411" y="822"/>
                  </a:cubicBezTo>
                  <a:cubicBezTo>
                    <a:pt x="1425" y="799"/>
                    <a:pt x="1422" y="767"/>
                    <a:pt x="1441" y="748"/>
                  </a:cubicBezTo>
                  <a:cubicBezTo>
                    <a:pt x="1451" y="738"/>
                    <a:pt x="1462" y="730"/>
                    <a:pt x="1470" y="719"/>
                  </a:cubicBezTo>
                  <a:cubicBezTo>
                    <a:pt x="1477" y="710"/>
                    <a:pt x="1478" y="698"/>
                    <a:pt x="1485" y="689"/>
                  </a:cubicBezTo>
                  <a:cubicBezTo>
                    <a:pt x="1502" y="668"/>
                    <a:pt x="1535" y="668"/>
                    <a:pt x="1559" y="660"/>
                  </a:cubicBezTo>
                  <a:cubicBezTo>
                    <a:pt x="1577" y="654"/>
                    <a:pt x="1592" y="642"/>
                    <a:pt x="1610" y="637"/>
                  </a:cubicBezTo>
                  <a:cubicBezTo>
                    <a:pt x="1639" y="629"/>
                    <a:pt x="1670" y="630"/>
                    <a:pt x="1699" y="623"/>
                  </a:cubicBezTo>
                  <a:cubicBezTo>
                    <a:pt x="1729" y="615"/>
                    <a:pt x="1759" y="604"/>
                    <a:pt x="1788" y="593"/>
                  </a:cubicBezTo>
                  <a:cubicBezTo>
                    <a:pt x="1899" y="596"/>
                    <a:pt x="2009" y="597"/>
                    <a:pt x="2120" y="601"/>
                  </a:cubicBezTo>
                  <a:cubicBezTo>
                    <a:pt x="2141" y="602"/>
                    <a:pt x="2221" y="640"/>
                    <a:pt x="2150" y="623"/>
                  </a:cubicBezTo>
                  <a:cubicBezTo>
                    <a:pt x="2081" y="577"/>
                    <a:pt x="2120" y="602"/>
                    <a:pt x="2031" y="549"/>
                  </a:cubicBezTo>
                  <a:cubicBezTo>
                    <a:pt x="2023" y="544"/>
                    <a:pt x="2017" y="539"/>
                    <a:pt x="2009" y="534"/>
                  </a:cubicBezTo>
                  <a:cubicBezTo>
                    <a:pt x="2000" y="528"/>
                    <a:pt x="1969" y="517"/>
                    <a:pt x="1980" y="519"/>
                  </a:cubicBezTo>
                  <a:cubicBezTo>
                    <a:pt x="2013" y="525"/>
                    <a:pt x="2044" y="540"/>
                    <a:pt x="2076" y="549"/>
                  </a:cubicBezTo>
                  <a:cubicBezTo>
                    <a:pt x="2083" y="554"/>
                    <a:pt x="2098" y="555"/>
                    <a:pt x="2098" y="564"/>
                  </a:cubicBezTo>
                  <a:cubicBezTo>
                    <a:pt x="2098" y="572"/>
                    <a:pt x="2083" y="559"/>
                    <a:pt x="2076" y="556"/>
                  </a:cubicBezTo>
                  <a:cubicBezTo>
                    <a:pt x="2061" y="549"/>
                    <a:pt x="2046" y="541"/>
                    <a:pt x="2031" y="534"/>
                  </a:cubicBezTo>
                  <a:cubicBezTo>
                    <a:pt x="1995" y="518"/>
                    <a:pt x="1999" y="520"/>
                    <a:pt x="1965" y="512"/>
                  </a:cubicBezTo>
                  <a:cubicBezTo>
                    <a:pt x="1884" y="517"/>
                    <a:pt x="1815" y="532"/>
                    <a:pt x="1736" y="541"/>
                  </a:cubicBezTo>
                  <a:cubicBezTo>
                    <a:pt x="1690" y="564"/>
                    <a:pt x="1639" y="586"/>
                    <a:pt x="1596" y="615"/>
                  </a:cubicBezTo>
                  <a:cubicBezTo>
                    <a:pt x="1578" y="627"/>
                    <a:pt x="1544" y="652"/>
                    <a:pt x="1544" y="652"/>
                  </a:cubicBezTo>
                  <a:cubicBezTo>
                    <a:pt x="1539" y="659"/>
                    <a:pt x="1523" y="667"/>
                    <a:pt x="1529" y="674"/>
                  </a:cubicBezTo>
                  <a:cubicBezTo>
                    <a:pt x="1535" y="681"/>
                    <a:pt x="1544" y="666"/>
                    <a:pt x="1551" y="660"/>
                  </a:cubicBezTo>
                  <a:cubicBezTo>
                    <a:pt x="1562" y="651"/>
                    <a:pt x="1570" y="639"/>
                    <a:pt x="1581" y="630"/>
                  </a:cubicBezTo>
                  <a:cubicBezTo>
                    <a:pt x="1599" y="616"/>
                    <a:pt x="1621" y="606"/>
                    <a:pt x="1640" y="593"/>
                  </a:cubicBezTo>
                  <a:cubicBezTo>
                    <a:pt x="1601" y="650"/>
                    <a:pt x="1624" y="626"/>
                    <a:pt x="1574" y="667"/>
                  </a:cubicBezTo>
                  <a:cubicBezTo>
                    <a:pt x="1532" y="751"/>
                    <a:pt x="1586" y="655"/>
                    <a:pt x="1537" y="711"/>
                  </a:cubicBezTo>
                  <a:cubicBezTo>
                    <a:pt x="1527" y="722"/>
                    <a:pt x="1523" y="736"/>
                    <a:pt x="1514" y="748"/>
                  </a:cubicBezTo>
                  <a:cubicBezTo>
                    <a:pt x="1508" y="756"/>
                    <a:pt x="1502" y="770"/>
                    <a:pt x="1492" y="770"/>
                  </a:cubicBezTo>
                  <a:cubicBezTo>
                    <a:pt x="1483" y="770"/>
                    <a:pt x="1502" y="756"/>
                    <a:pt x="1507" y="748"/>
                  </a:cubicBezTo>
                  <a:cubicBezTo>
                    <a:pt x="1523" y="720"/>
                    <a:pt x="1522" y="729"/>
                    <a:pt x="1522" y="711"/>
                  </a:cubicBezTo>
                  <a:lnTo>
                    <a:pt x="1496" y="6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95"/>
            <p:cNvSpPr/>
            <p:nvPr/>
          </p:nvSpPr>
          <p:spPr>
            <a:xfrm>
              <a:off x="4665600" y="1319040"/>
              <a:ext cx="1166760" cy="3787920"/>
            </a:xfrm>
            <a:custGeom>
              <a:avLst/>
              <a:gdLst/>
              <a:ahLst/>
              <a:rect l="l" t="t" r="r" b="b"/>
              <a:pathLst>
                <a:path w="735" h="2386">
                  <a:moveTo>
                    <a:pt x="0" y="15"/>
                  </a:moveTo>
                  <a:cubicBezTo>
                    <a:pt x="35" y="23"/>
                    <a:pt x="68" y="36"/>
                    <a:pt x="103" y="44"/>
                  </a:cubicBezTo>
                  <a:cubicBezTo>
                    <a:pt x="120" y="52"/>
                    <a:pt x="138" y="58"/>
                    <a:pt x="155" y="66"/>
                  </a:cubicBezTo>
                  <a:cubicBezTo>
                    <a:pt x="163" y="70"/>
                    <a:pt x="185" y="84"/>
                    <a:pt x="177" y="81"/>
                  </a:cubicBezTo>
                  <a:cubicBezTo>
                    <a:pt x="157" y="73"/>
                    <a:pt x="118" y="52"/>
                    <a:pt x="118" y="52"/>
                  </a:cubicBezTo>
                  <a:cubicBezTo>
                    <a:pt x="118" y="52"/>
                    <a:pt x="143" y="61"/>
                    <a:pt x="155" y="66"/>
                  </a:cubicBezTo>
                  <a:cubicBezTo>
                    <a:pt x="170" y="73"/>
                    <a:pt x="184" y="82"/>
                    <a:pt x="199" y="89"/>
                  </a:cubicBezTo>
                  <a:cubicBezTo>
                    <a:pt x="209" y="94"/>
                    <a:pt x="219" y="98"/>
                    <a:pt x="229" y="103"/>
                  </a:cubicBezTo>
                  <a:cubicBezTo>
                    <a:pt x="234" y="110"/>
                    <a:pt x="238" y="118"/>
                    <a:pt x="244" y="125"/>
                  </a:cubicBezTo>
                  <a:cubicBezTo>
                    <a:pt x="251" y="133"/>
                    <a:pt x="260" y="139"/>
                    <a:pt x="266" y="148"/>
                  </a:cubicBezTo>
                  <a:cubicBezTo>
                    <a:pt x="272" y="157"/>
                    <a:pt x="292" y="177"/>
                    <a:pt x="281" y="177"/>
                  </a:cubicBezTo>
                  <a:cubicBezTo>
                    <a:pt x="263" y="177"/>
                    <a:pt x="252" y="157"/>
                    <a:pt x="236" y="148"/>
                  </a:cubicBezTo>
                  <a:cubicBezTo>
                    <a:pt x="219" y="139"/>
                    <a:pt x="186" y="137"/>
                    <a:pt x="177" y="118"/>
                  </a:cubicBezTo>
                  <a:cubicBezTo>
                    <a:pt x="173" y="109"/>
                    <a:pt x="197" y="123"/>
                    <a:pt x="207" y="125"/>
                  </a:cubicBezTo>
                  <a:cubicBezTo>
                    <a:pt x="297" y="172"/>
                    <a:pt x="352" y="219"/>
                    <a:pt x="399" y="310"/>
                  </a:cubicBezTo>
                  <a:cubicBezTo>
                    <a:pt x="404" y="319"/>
                    <a:pt x="384" y="296"/>
                    <a:pt x="377" y="288"/>
                  </a:cubicBezTo>
                  <a:cubicBezTo>
                    <a:pt x="356" y="262"/>
                    <a:pt x="331" y="240"/>
                    <a:pt x="310" y="214"/>
                  </a:cubicBezTo>
                  <a:cubicBezTo>
                    <a:pt x="296" y="196"/>
                    <a:pt x="286" y="174"/>
                    <a:pt x="273" y="155"/>
                  </a:cubicBezTo>
                  <a:cubicBezTo>
                    <a:pt x="261" y="119"/>
                    <a:pt x="261" y="132"/>
                    <a:pt x="295" y="155"/>
                  </a:cubicBezTo>
                  <a:cubicBezTo>
                    <a:pt x="307" y="163"/>
                    <a:pt x="321" y="168"/>
                    <a:pt x="332" y="177"/>
                  </a:cubicBezTo>
                  <a:cubicBezTo>
                    <a:pt x="348" y="190"/>
                    <a:pt x="364" y="204"/>
                    <a:pt x="377" y="221"/>
                  </a:cubicBezTo>
                  <a:cubicBezTo>
                    <a:pt x="399" y="251"/>
                    <a:pt x="436" y="317"/>
                    <a:pt x="436" y="317"/>
                  </a:cubicBezTo>
                  <a:cubicBezTo>
                    <a:pt x="441" y="353"/>
                    <a:pt x="455" y="388"/>
                    <a:pt x="443" y="421"/>
                  </a:cubicBezTo>
                  <a:cubicBezTo>
                    <a:pt x="423" y="358"/>
                    <a:pt x="455" y="452"/>
                    <a:pt x="414" y="369"/>
                  </a:cubicBezTo>
                  <a:cubicBezTo>
                    <a:pt x="372" y="286"/>
                    <a:pt x="339" y="200"/>
                    <a:pt x="281" y="125"/>
                  </a:cubicBezTo>
                  <a:cubicBezTo>
                    <a:pt x="278" y="118"/>
                    <a:pt x="267" y="98"/>
                    <a:pt x="273" y="103"/>
                  </a:cubicBezTo>
                  <a:cubicBezTo>
                    <a:pt x="288" y="115"/>
                    <a:pt x="300" y="131"/>
                    <a:pt x="310" y="148"/>
                  </a:cubicBezTo>
                  <a:cubicBezTo>
                    <a:pt x="330" y="181"/>
                    <a:pt x="362" y="251"/>
                    <a:pt x="362" y="251"/>
                  </a:cubicBezTo>
                  <a:cubicBezTo>
                    <a:pt x="375" y="310"/>
                    <a:pt x="397" y="361"/>
                    <a:pt x="406" y="421"/>
                  </a:cubicBezTo>
                  <a:cubicBezTo>
                    <a:pt x="408" y="436"/>
                    <a:pt x="411" y="450"/>
                    <a:pt x="414" y="465"/>
                  </a:cubicBezTo>
                  <a:cubicBezTo>
                    <a:pt x="416" y="475"/>
                    <a:pt x="421" y="505"/>
                    <a:pt x="421" y="495"/>
                  </a:cubicBezTo>
                  <a:cubicBezTo>
                    <a:pt x="421" y="449"/>
                    <a:pt x="416" y="448"/>
                    <a:pt x="399" y="413"/>
                  </a:cubicBezTo>
                  <a:cubicBezTo>
                    <a:pt x="394" y="389"/>
                    <a:pt x="391" y="364"/>
                    <a:pt x="384" y="340"/>
                  </a:cubicBezTo>
                  <a:cubicBezTo>
                    <a:pt x="366" y="274"/>
                    <a:pt x="346" y="250"/>
                    <a:pt x="377" y="295"/>
                  </a:cubicBezTo>
                  <a:cubicBezTo>
                    <a:pt x="399" y="375"/>
                    <a:pt x="425" y="449"/>
                    <a:pt x="436" y="532"/>
                  </a:cubicBezTo>
                  <a:cubicBezTo>
                    <a:pt x="453" y="423"/>
                    <a:pt x="453" y="547"/>
                    <a:pt x="458" y="576"/>
                  </a:cubicBezTo>
                  <a:cubicBezTo>
                    <a:pt x="467" y="712"/>
                    <a:pt x="471" y="773"/>
                    <a:pt x="495" y="886"/>
                  </a:cubicBezTo>
                  <a:cubicBezTo>
                    <a:pt x="513" y="793"/>
                    <a:pt x="501" y="873"/>
                    <a:pt x="480" y="687"/>
                  </a:cubicBezTo>
                  <a:cubicBezTo>
                    <a:pt x="477" y="657"/>
                    <a:pt x="477" y="628"/>
                    <a:pt x="473" y="598"/>
                  </a:cubicBezTo>
                  <a:cubicBezTo>
                    <a:pt x="472" y="588"/>
                    <a:pt x="465" y="559"/>
                    <a:pt x="465" y="569"/>
                  </a:cubicBezTo>
                  <a:cubicBezTo>
                    <a:pt x="465" y="616"/>
                    <a:pt x="482" y="662"/>
                    <a:pt x="487" y="709"/>
                  </a:cubicBezTo>
                  <a:cubicBezTo>
                    <a:pt x="491" y="743"/>
                    <a:pt x="492" y="778"/>
                    <a:pt x="495" y="812"/>
                  </a:cubicBezTo>
                  <a:cubicBezTo>
                    <a:pt x="484" y="862"/>
                    <a:pt x="478" y="1086"/>
                    <a:pt x="502" y="960"/>
                  </a:cubicBezTo>
                  <a:cubicBezTo>
                    <a:pt x="536" y="1010"/>
                    <a:pt x="531" y="1079"/>
                    <a:pt x="547" y="1137"/>
                  </a:cubicBezTo>
                  <a:cubicBezTo>
                    <a:pt x="554" y="1261"/>
                    <a:pt x="576" y="1390"/>
                    <a:pt x="576" y="1514"/>
                  </a:cubicBezTo>
                  <a:cubicBezTo>
                    <a:pt x="576" y="1522"/>
                    <a:pt x="571" y="1499"/>
                    <a:pt x="569" y="1492"/>
                  </a:cubicBezTo>
                  <a:cubicBezTo>
                    <a:pt x="566" y="1615"/>
                    <a:pt x="567" y="1738"/>
                    <a:pt x="561" y="1861"/>
                  </a:cubicBezTo>
                  <a:cubicBezTo>
                    <a:pt x="560" y="1881"/>
                    <a:pt x="547" y="1920"/>
                    <a:pt x="547" y="1920"/>
                  </a:cubicBezTo>
                  <a:cubicBezTo>
                    <a:pt x="544" y="1962"/>
                    <a:pt x="545" y="2004"/>
                    <a:pt x="539" y="2045"/>
                  </a:cubicBezTo>
                  <a:cubicBezTo>
                    <a:pt x="537" y="2055"/>
                    <a:pt x="541" y="2020"/>
                    <a:pt x="532" y="2016"/>
                  </a:cubicBezTo>
                  <a:cubicBezTo>
                    <a:pt x="525" y="2013"/>
                    <a:pt x="527" y="2031"/>
                    <a:pt x="524" y="2038"/>
                  </a:cubicBezTo>
                  <a:cubicBezTo>
                    <a:pt x="531" y="1868"/>
                    <a:pt x="541" y="1698"/>
                    <a:pt x="554" y="1529"/>
                  </a:cubicBezTo>
                  <a:cubicBezTo>
                    <a:pt x="545" y="1399"/>
                    <a:pt x="532" y="1274"/>
                    <a:pt x="517" y="1145"/>
                  </a:cubicBezTo>
                  <a:cubicBezTo>
                    <a:pt x="519" y="1118"/>
                    <a:pt x="516" y="1037"/>
                    <a:pt x="524" y="1063"/>
                  </a:cubicBezTo>
                  <a:cubicBezTo>
                    <a:pt x="537" y="1106"/>
                    <a:pt x="532" y="1240"/>
                    <a:pt x="532" y="1196"/>
                  </a:cubicBezTo>
                  <a:cubicBezTo>
                    <a:pt x="532" y="1108"/>
                    <a:pt x="533" y="1055"/>
                    <a:pt x="510" y="982"/>
                  </a:cubicBezTo>
                  <a:cubicBezTo>
                    <a:pt x="496" y="1046"/>
                    <a:pt x="509" y="1104"/>
                    <a:pt x="524" y="1167"/>
                  </a:cubicBezTo>
                  <a:cubicBezTo>
                    <a:pt x="540" y="1438"/>
                    <a:pt x="581" y="1722"/>
                    <a:pt x="517" y="1986"/>
                  </a:cubicBezTo>
                  <a:cubicBezTo>
                    <a:pt x="514" y="2028"/>
                    <a:pt x="502" y="2125"/>
                    <a:pt x="517" y="2171"/>
                  </a:cubicBezTo>
                  <a:cubicBezTo>
                    <a:pt x="521" y="2183"/>
                    <a:pt x="521" y="2146"/>
                    <a:pt x="524" y="2134"/>
                  </a:cubicBezTo>
                  <a:cubicBezTo>
                    <a:pt x="531" y="2106"/>
                    <a:pt x="545" y="2080"/>
                    <a:pt x="554" y="2053"/>
                  </a:cubicBezTo>
                  <a:cubicBezTo>
                    <a:pt x="556" y="2033"/>
                    <a:pt x="552" y="2012"/>
                    <a:pt x="561" y="1994"/>
                  </a:cubicBezTo>
                  <a:cubicBezTo>
                    <a:pt x="565" y="1985"/>
                    <a:pt x="569" y="2013"/>
                    <a:pt x="569" y="2023"/>
                  </a:cubicBezTo>
                  <a:cubicBezTo>
                    <a:pt x="569" y="2038"/>
                    <a:pt x="563" y="2053"/>
                    <a:pt x="561" y="2068"/>
                  </a:cubicBezTo>
                  <a:cubicBezTo>
                    <a:pt x="553" y="2131"/>
                    <a:pt x="546" y="2186"/>
                    <a:pt x="524" y="2245"/>
                  </a:cubicBezTo>
                  <a:cubicBezTo>
                    <a:pt x="528" y="2217"/>
                    <a:pt x="528" y="2190"/>
                    <a:pt x="539" y="2164"/>
                  </a:cubicBezTo>
                  <a:cubicBezTo>
                    <a:pt x="543" y="2154"/>
                    <a:pt x="550" y="2144"/>
                    <a:pt x="554" y="2134"/>
                  </a:cubicBezTo>
                  <a:cubicBezTo>
                    <a:pt x="557" y="2127"/>
                    <a:pt x="561" y="2104"/>
                    <a:pt x="561" y="2112"/>
                  </a:cubicBezTo>
                  <a:cubicBezTo>
                    <a:pt x="561" y="2125"/>
                    <a:pt x="556" y="2137"/>
                    <a:pt x="554" y="2149"/>
                  </a:cubicBezTo>
                  <a:cubicBezTo>
                    <a:pt x="551" y="2169"/>
                    <a:pt x="550" y="2188"/>
                    <a:pt x="547" y="2208"/>
                  </a:cubicBezTo>
                  <a:cubicBezTo>
                    <a:pt x="532" y="2323"/>
                    <a:pt x="520" y="2355"/>
                    <a:pt x="539" y="2297"/>
                  </a:cubicBezTo>
                  <a:cubicBezTo>
                    <a:pt x="534" y="2275"/>
                    <a:pt x="546" y="2236"/>
                    <a:pt x="524" y="2230"/>
                  </a:cubicBezTo>
                  <a:cubicBezTo>
                    <a:pt x="505" y="2225"/>
                    <a:pt x="515" y="2269"/>
                    <a:pt x="510" y="2289"/>
                  </a:cubicBezTo>
                  <a:cubicBezTo>
                    <a:pt x="507" y="2302"/>
                    <a:pt x="500" y="2314"/>
                    <a:pt x="495" y="2326"/>
                  </a:cubicBezTo>
                  <a:cubicBezTo>
                    <a:pt x="492" y="2333"/>
                    <a:pt x="487" y="2356"/>
                    <a:pt x="487" y="2348"/>
                  </a:cubicBezTo>
                  <a:cubicBezTo>
                    <a:pt x="487" y="2307"/>
                    <a:pt x="511" y="2256"/>
                    <a:pt x="517" y="2215"/>
                  </a:cubicBezTo>
                  <a:cubicBezTo>
                    <a:pt x="515" y="2203"/>
                    <a:pt x="519" y="2187"/>
                    <a:pt x="510" y="2178"/>
                  </a:cubicBezTo>
                  <a:cubicBezTo>
                    <a:pt x="504" y="2172"/>
                    <a:pt x="505" y="2194"/>
                    <a:pt x="502" y="2201"/>
                  </a:cubicBezTo>
                  <a:cubicBezTo>
                    <a:pt x="469" y="2275"/>
                    <a:pt x="505" y="2175"/>
                    <a:pt x="473" y="2274"/>
                  </a:cubicBezTo>
                  <a:cubicBezTo>
                    <a:pt x="470" y="2282"/>
                    <a:pt x="468" y="2289"/>
                    <a:pt x="465" y="2297"/>
                  </a:cubicBezTo>
                  <a:cubicBezTo>
                    <a:pt x="462" y="2306"/>
                    <a:pt x="458" y="2336"/>
                    <a:pt x="458" y="2326"/>
                  </a:cubicBezTo>
                  <a:cubicBezTo>
                    <a:pt x="458" y="2292"/>
                    <a:pt x="486" y="2238"/>
                    <a:pt x="495" y="2215"/>
                  </a:cubicBezTo>
                  <a:cubicBezTo>
                    <a:pt x="504" y="2194"/>
                    <a:pt x="510" y="2171"/>
                    <a:pt x="517" y="2149"/>
                  </a:cubicBezTo>
                  <a:cubicBezTo>
                    <a:pt x="519" y="2142"/>
                    <a:pt x="528" y="2121"/>
                    <a:pt x="524" y="2127"/>
                  </a:cubicBezTo>
                  <a:cubicBezTo>
                    <a:pt x="499" y="2166"/>
                    <a:pt x="501" y="2190"/>
                    <a:pt x="487" y="2237"/>
                  </a:cubicBezTo>
                  <a:cubicBezTo>
                    <a:pt x="485" y="2245"/>
                    <a:pt x="472" y="2260"/>
                    <a:pt x="480" y="2260"/>
                  </a:cubicBezTo>
                  <a:cubicBezTo>
                    <a:pt x="489" y="2260"/>
                    <a:pt x="490" y="2245"/>
                    <a:pt x="495" y="2237"/>
                  </a:cubicBezTo>
                  <a:cubicBezTo>
                    <a:pt x="497" y="2230"/>
                    <a:pt x="500" y="2222"/>
                    <a:pt x="502" y="2215"/>
                  </a:cubicBezTo>
                  <a:cubicBezTo>
                    <a:pt x="505" y="2208"/>
                    <a:pt x="515" y="2187"/>
                    <a:pt x="510" y="2193"/>
                  </a:cubicBezTo>
                  <a:cubicBezTo>
                    <a:pt x="484" y="2223"/>
                    <a:pt x="481" y="2275"/>
                    <a:pt x="473" y="2311"/>
                  </a:cubicBezTo>
                  <a:cubicBezTo>
                    <a:pt x="471" y="2321"/>
                    <a:pt x="455" y="2341"/>
                    <a:pt x="465" y="2341"/>
                  </a:cubicBezTo>
                  <a:cubicBezTo>
                    <a:pt x="477" y="2341"/>
                    <a:pt x="480" y="2321"/>
                    <a:pt x="487" y="2311"/>
                  </a:cubicBezTo>
                  <a:cubicBezTo>
                    <a:pt x="493" y="2294"/>
                    <a:pt x="557" y="2190"/>
                    <a:pt x="495" y="2252"/>
                  </a:cubicBezTo>
                  <a:cubicBezTo>
                    <a:pt x="500" y="2223"/>
                    <a:pt x="508" y="2199"/>
                    <a:pt x="517" y="2171"/>
                  </a:cubicBezTo>
                  <a:cubicBezTo>
                    <a:pt x="519" y="2151"/>
                    <a:pt x="517" y="2130"/>
                    <a:pt x="524" y="2112"/>
                  </a:cubicBezTo>
                  <a:cubicBezTo>
                    <a:pt x="527" y="2105"/>
                    <a:pt x="530" y="2127"/>
                    <a:pt x="532" y="2134"/>
                  </a:cubicBezTo>
                  <a:cubicBezTo>
                    <a:pt x="535" y="2144"/>
                    <a:pt x="536" y="2154"/>
                    <a:pt x="539" y="2164"/>
                  </a:cubicBezTo>
                  <a:cubicBezTo>
                    <a:pt x="554" y="2214"/>
                    <a:pt x="543" y="2200"/>
                    <a:pt x="576" y="2223"/>
                  </a:cubicBezTo>
                  <a:cubicBezTo>
                    <a:pt x="574" y="2184"/>
                    <a:pt x="573" y="2144"/>
                    <a:pt x="569" y="2105"/>
                  </a:cubicBezTo>
                  <a:cubicBezTo>
                    <a:pt x="568" y="2097"/>
                    <a:pt x="568" y="2079"/>
                    <a:pt x="561" y="2082"/>
                  </a:cubicBezTo>
                  <a:cubicBezTo>
                    <a:pt x="552" y="2086"/>
                    <a:pt x="556" y="2102"/>
                    <a:pt x="554" y="2112"/>
                  </a:cubicBezTo>
                  <a:cubicBezTo>
                    <a:pt x="561" y="2204"/>
                    <a:pt x="554" y="2192"/>
                    <a:pt x="576" y="2267"/>
                  </a:cubicBezTo>
                  <a:cubicBezTo>
                    <a:pt x="584" y="2294"/>
                    <a:pt x="645" y="2386"/>
                    <a:pt x="583" y="2326"/>
                  </a:cubicBezTo>
                  <a:cubicBezTo>
                    <a:pt x="587" y="2342"/>
                    <a:pt x="593" y="2385"/>
                    <a:pt x="620" y="2385"/>
                  </a:cubicBezTo>
                  <a:cubicBezTo>
                    <a:pt x="630" y="2385"/>
                    <a:pt x="625" y="2366"/>
                    <a:pt x="628" y="2356"/>
                  </a:cubicBezTo>
                  <a:cubicBezTo>
                    <a:pt x="613" y="2206"/>
                    <a:pt x="634" y="2333"/>
                    <a:pt x="598" y="2223"/>
                  </a:cubicBezTo>
                  <a:cubicBezTo>
                    <a:pt x="594" y="2211"/>
                    <a:pt x="594" y="2198"/>
                    <a:pt x="591" y="2186"/>
                  </a:cubicBezTo>
                  <a:cubicBezTo>
                    <a:pt x="589" y="2178"/>
                    <a:pt x="577" y="2159"/>
                    <a:pt x="583" y="2164"/>
                  </a:cubicBezTo>
                  <a:cubicBezTo>
                    <a:pt x="605" y="2186"/>
                    <a:pt x="643" y="2237"/>
                    <a:pt x="643" y="2237"/>
                  </a:cubicBezTo>
                  <a:cubicBezTo>
                    <a:pt x="657" y="2273"/>
                    <a:pt x="677" y="2292"/>
                    <a:pt x="694" y="2326"/>
                  </a:cubicBezTo>
                  <a:cubicBezTo>
                    <a:pt x="681" y="2245"/>
                    <a:pt x="645" y="2236"/>
                    <a:pt x="620" y="2171"/>
                  </a:cubicBezTo>
                  <a:cubicBezTo>
                    <a:pt x="614" y="2157"/>
                    <a:pt x="611" y="2142"/>
                    <a:pt x="606" y="2127"/>
                  </a:cubicBezTo>
                  <a:cubicBezTo>
                    <a:pt x="604" y="2120"/>
                    <a:pt x="591" y="2101"/>
                    <a:pt x="598" y="2105"/>
                  </a:cubicBezTo>
                  <a:cubicBezTo>
                    <a:pt x="616" y="2116"/>
                    <a:pt x="628" y="2134"/>
                    <a:pt x="643" y="2149"/>
                  </a:cubicBezTo>
                  <a:cubicBezTo>
                    <a:pt x="657" y="2186"/>
                    <a:pt x="675" y="2197"/>
                    <a:pt x="687" y="2230"/>
                  </a:cubicBezTo>
                  <a:cubicBezTo>
                    <a:pt x="679" y="2179"/>
                    <a:pt x="665" y="2134"/>
                    <a:pt x="628" y="2097"/>
                  </a:cubicBezTo>
                  <a:cubicBezTo>
                    <a:pt x="595" y="2016"/>
                    <a:pt x="633" y="2096"/>
                    <a:pt x="591" y="2038"/>
                  </a:cubicBezTo>
                  <a:cubicBezTo>
                    <a:pt x="585" y="2029"/>
                    <a:pt x="565" y="2009"/>
                    <a:pt x="576" y="2009"/>
                  </a:cubicBezTo>
                  <a:cubicBezTo>
                    <a:pt x="590" y="2009"/>
                    <a:pt x="595" y="2029"/>
                    <a:pt x="606" y="2038"/>
                  </a:cubicBezTo>
                  <a:cubicBezTo>
                    <a:pt x="620" y="2049"/>
                    <a:pt x="637" y="2055"/>
                    <a:pt x="650" y="2068"/>
                  </a:cubicBezTo>
                  <a:cubicBezTo>
                    <a:pt x="670" y="2088"/>
                    <a:pt x="702" y="2134"/>
                    <a:pt x="702" y="2134"/>
                  </a:cubicBezTo>
                  <a:cubicBezTo>
                    <a:pt x="691" y="2074"/>
                    <a:pt x="664" y="2055"/>
                    <a:pt x="635" y="2009"/>
                  </a:cubicBezTo>
                  <a:cubicBezTo>
                    <a:pt x="629" y="2000"/>
                    <a:pt x="624" y="1989"/>
                    <a:pt x="620" y="1979"/>
                  </a:cubicBezTo>
                  <a:cubicBezTo>
                    <a:pt x="617" y="1972"/>
                    <a:pt x="606" y="1960"/>
                    <a:pt x="613" y="1957"/>
                  </a:cubicBezTo>
                  <a:cubicBezTo>
                    <a:pt x="621" y="1953"/>
                    <a:pt x="627" y="1968"/>
                    <a:pt x="635" y="1972"/>
                  </a:cubicBezTo>
                  <a:cubicBezTo>
                    <a:pt x="649" y="1980"/>
                    <a:pt x="665" y="1985"/>
                    <a:pt x="679" y="1994"/>
                  </a:cubicBezTo>
                  <a:cubicBezTo>
                    <a:pt x="695" y="2005"/>
                    <a:pt x="708" y="2020"/>
                    <a:pt x="724" y="2031"/>
                  </a:cubicBezTo>
                  <a:cubicBezTo>
                    <a:pt x="726" y="2038"/>
                    <a:pt x="731" y="2061"/>
                    <a:pt x="731" y="2053"/>
                  </a:cubicBezTo>
                  <a:cubicBezTo>
                    <a:pt x="731" y="1996"/>
                    <a:pt x="673" y="1987"/>
                    <a:pt x="628" y="1957"/>
                  </a:cubicBezTo>
                  <a:cubicBezTo>
                    <a:pt x="616" y="1949"/>
                    <a:pt x="603" y="1942"/>
                    <a:pt x="591" y="1935"/>
                  </a:cubicBezTo>
                  <a:cubicBezTo>
                    <a:pt x="579" y="1928"/>
                    <a:pt x="548" y="1900"/>
                    <a:pt x="561" y="1905"/>
                  </a:cubicBezTo>
                  <a:cubicBezTo>
                    <a:pt x="608" y="1923"/>
                    <a:pt x="645" y="1961"/>
                    <a:pt x="672" y="2001"/>
                  </a:cubicBezTo>
                  <a:cubicBezTo>
                    <a:pt x="674" y="2008"/>
                    <a:pt x="684" y="2028"/>
                    <a:pt x="679" y="2023"/>
                  </a:cubicBezTo>
                  <a:cubicBezTo>
                    <a:pt x="669" y="2013"/>
                    <a:pt x="666" y="1997"/>
                    <a:pt x="657" y="1986"/>
                  </a:cubicBezTo>
                  <a:cubicBezTo>
                    <a:pt x="635" y="1961"/>
                    <a:pt x="598" y="1945"/>
                    <a:pt x="576" y="1920"/>
                  </a:cubicBezTo>
                  <a:cubicBezTo>
                    <a:pt x="562" y="1904"/>
                    <a:pt x="519" y="1860"/>
                    <a:pt x="539" y="1868"/>
                  </a:cubicBezTo>
                  <a:cubicBezTo>
                    <a:pt x="607" y="1897"/>
                    <a:pt x="678" y="1941"/>
                    <a:pt x="731" y="1994"/>
                  </a:cubicBezTo>
                  <a:cubicBezTo>
                    <a:pt x="718" y="1952"/>
                    <a:pt x="685" y="1930"/>
                    <a:pt x="657" y="1898"/>
                  </a:cubicBezTo>
                  <a:cubicBezTo>
                    <a:pt x="649" y="1889"/>
                    <a:pt x="643" y="1877"/>
                    <a:pt x="635" y="1868"/>
                  </a:cubicBezTo>
                  <a:cubicBezTo>
                    <a:pt x="628" y="1860"/>
                    <a:pt x="603" y="1848"/>
                    <a:pt x="613" y="1846"/>
                  </a:cubicBezTo>
                  <a:cubicBezTo>
                    <a:pt x="635" y="1842"/>
                    <a:pt x="657" y="1856"/>
                    <a:pt x="679" y="1861"/>
                  </a:cubicBezTo>
                  <a:cubicBezTo>
                    <a:pt x="689" y="1868"/>
                    <a:pt x="721" y="1883"/>
                    <a:pt x="709" y="1883"/>
                  </a:cubicBezTo>
                  <a:cubicBezTo>
                    <a:pt x="695" y="1883"/>
                    <a:pt x="684" y="1869"/>
                    <a:pt x="672" y="1861"/>
                  </a:cubicBezTo>
                  <a:cubicBezTo>
                    <a:pt x="638" y="1838"/>
                    <a:pt x="606" y="1813"/>
                    <a:pt x="569" y="1794"/>
                  </a:cubicBezTo>
                  <a:cubicBezTo>
                    <a:pt x="564" y="1784"/>
                    <a:pt x="561" y="1773"/>
                    <a:pt x="554" y="1765"/>
                  </a:cubicBezTo>
                  <a:cubicBezTo>
                    <a:pt x="540" y="1748"/>
                    <a:pt x="505" y="1744"/>
                    <a:pt x="561" y="1757"/>
                  </a:cubicBezTo>
                  <a:cubicBezTo>
                    <a:pt x="583" y="1770"/>
                    <a:pt x="609" y="1778"/>
                    <a:pt x="628" y="1794"/>
                  </a:cubicBezTo>
                  <a:cubicBezTo>
                    <a:pt x="637" y="1802"/>
                    <a:pt x="638" y="1824"/>
                    <a:pt x="650" y="1824"/>
                  </a:cubicBezTo>
                  <a:cubicBezTo>
                    <a:pt x="661" y="1824"/>
                    <a:pt x="643" y="1802"/>
                    <a:pt x="635" y="1794"/>
                  </a:cubicBezTo>
                  <a:cubicBezTo>
                    <a:pt x="610" y="1769"/>
                    <a:pt x="548" y="1748"/>
                    <a:pt x="517" y="1728"/>
                  </a:cubicBezTo>
                  <a:cubicBezTo>
                    <a:pt x="508" y="1722"/>
                    <a:pt x="502" y="1714"/>
                    <a:pt x="495" y="1706"/>
                  </a:cubicBezTo>
                  <a:cubicBezTo>
                    <a:pt x="489" y="1699"/>
                    <a:pt x="471" y="1683"/>
                    <a:pt x="480" y="1684"/>
                  </a:cubicBezTo>
                  <a:cubicBezTo>
                    <a:pt x="519" y="1690"/>
                    <a:pt x="558" y="1701"/>
                    <a:pt x="591" y="1721"/>
                  </a:cubicBezTo>
                  <a:cubicBezTo>
                    <a:pt x="671" y="1770"/>
                    <a:pt x="668" y="1771"/>
                    <a:pt x="591" y="1713"/>
                  </a:cubicBezTo>
                  <a:cubicBezTo>
                    <a:pt x="584" y="1708"/>
                    <a:pt x="576" y="1703"/>
                    <a:pt x="569" y="1698"/>
                  </a:cubicBezTo>
                  <a:cubicBezTo>
                    <a:pt x="564" y="1691"/>
                    <a:pt x="550" y="1684"/>
                    <a:pt x="554" y="1676"/>
                  </a:cubicBezTo>
                  <a:cubicBezTo>
                    <a:pt x="562" y="1659"/>
                    <a:pt x="605" y="1674"/>
                    <a:pt x="613" y="1676"/>
                  </a:cubicBezTo>
                  <a:cubicBezTo>
                    <a:pt x="620" y="1683"/>
                    <a:pt x="627" y="1692"/>
                    <a:pt x="635" y="1698"/>
                  </a:cubicBezTo>
                  <a:cubicBezTo>
                    <a:pt x="644" y="1704"/>
                    <a:pt x="673" y="1721"/>
                    <a:pt x="665" y="1713"/>
                  </a:cubicBezTo>
                  <a:cubicBezTo>
                    <a:pt x="618" y="1666"/>
                    <a:pt x="537" y="1645"/>
                    <a:pt x="487" y="1595"/>
                  </a:cubicBezTo>
                  <a:cubicBezTo>
                    <a:pt x="473" y="1552"/>
                    <a:pt x="469" y="1560"/>
                    <a:pt x="554" y="1595"/>
                  </a:cubicBezTo>
                  <a:cubicBezTo>
                    <a:pt x="603" y="1615"/>
                    <a:pt x="654" y="1645"/>
                    <a:pt x="702" y="1669"/>
                  </a:cubicBezTo>
                  <a:cubicBezTo>
                    <a:pt x="707" y="1676"/>
                    <a:pt x="725" y="1691"/>
                    <a:pt x="716" y="1691"/>
                  </a:cubicBezTo>
                  <a:cubicBezTo>
                    <a:pt x="706" y="1691"/>
                    <a:pt x="702" y="1676"/>
                    <a:pt x="694" y="1669"/>
                  </a:cubicBezTo>
                  <a:cubicBezTo>
                    <a:pt x="654" y="1634"/>
                    <a:pt x="607" y="1611"/>
                    <a:pt x="569" y="1573"/>
                  </a:cubicBezTo>
                  <a:cubicBezTo>
                    <a:pt x="579" y="1570"/>
                    <a:pt x="588" y="1563"/>
                    <a:pt x="598" y="1565"/>
                  </a:cubicBezTo>
                  <a:cubicBezTo>
                    <a:pt x="612" y="1568"/>
                    <a:pt x="622" y="1581"/>
                    <a:pt x="635" y="1588"/>
                  </a:cubicBezTo>
                  <a:cubicBezTo>
                    <a:pt x="662" y="1603"/>
                    <a:pt x="665" y="1602"/>
                    <a:pt x="694" y="1610"/>
                  </a:cubicBezTo>
                  <a:cubicBezTo>
                    <a:pt x="628" y="1571"/>
                    <a:pt x="682" y="1606"/>
                    <a:pt x="606" y="1543"/>
                  </a:cubicBezTo>
                  <a:cubicBezTo>
                    <a:pt x="596" y="1535"/>
                    <a:pt x="585" y="1530"/>
                    <a:pt x="576" y="1521"/>
                  </a:cubicBezTo>
                  <a:cubicBezTo>
                    <a:pt x="570" y="1515"/>
                    <a:pt x="552" y="1499"/>
                    <a:pt x="561" y="1499"/>
                  </a:cubicBezTo>
                  <a:cubicBezTo>
                    <a:pt x="572" y="1499"/>
                    <a:pt x="657" y="1529"/>
                    <a:pt x="679" y="1536"/>
                  </a:cubicBezTo>
                  <a:cubicBezTo>
                    <a:pt x="689" y="1543"/>
                    <a:pt x="698" y="1552"/>
                    <a:pt x="709" y="1558"/>
                  </a:cubicBezTo>
                  <a:cubicBezTo>
                    <a:pt x="716" y="1562"/>
                    <a:pt x="728" y="1572"/>
                    <a:pt x="731" y="1565"/>
                  </a:cubicBezTo>
                  <a:cubicBezTo>
                    <a:pt x="735" y="1557"/>
                    <a:pt x="723" y="1549"/>
                    <a:pt x="716" y="1543"/>
                  </a:cubicBezTo>
                  <a:cubicBezTo>
                    <a:pt x="672" y="1503"/>
                    <a:pt x="678" y="1509"/>
                    <a:pt x="635" y="1499"/>
                  </a:cubicBezTo>
                  <a:cubicBezTo>
                    <a:pt x="623" y="1492"/>
                    <a:pt x="611" y="1483"/>
                    <a:pt x="598" y="1477"/>
                  </a:cubicBezTo>
                  <a:cubicBezTo>
                    <a:pt x="586" y="1471"/>
                    <a:pt x="572" y="1470"/>
                    <a:pt x="561" y="1462"/>
                  </a:cubicBezTo>
                  <a:cubicBezTo>
                    <a:pt x="498" y="1416"/>
                    <a:pt x="623" y="1467"/>
                    <a:pt x="628" y="1469"/>
                  </a:cubicBezTo>
                  <a:cubicBezTo>
                    <a:pt x="657" y="1479"/>
                    <a:pt x="673" y="1483"/>
                    <a:pt x="635" y="1462"/>
                  </a:cubicBezTo>
                  <a:cubicBezTo>
                    <a:pt x="621" y="1454"/>
                    <a:pt x="605" y="1449"/>
                    <a:pt x="591" y="1440"/>
                  </a:cubicBezTo>
                  <a:cubicBezTo>
                    <a:pt x="578" y="1431"/>
                    <a:pt x="567" y="1419"/>
                    <a:pt x="554" y="1410"/>
                  </a:cubicBezTo>
                  <a:cubicBezTo>
                    <a:pt x="540" y="1400"/>
                    <a:pt x="525" y="1391"/>
                    <a:pt x="510" y="1381"/>
                  </a:cubicBezTo>
                  <a:cubicBezTo>
                    <a:pt x="505" y="1374"/>
                    <a:pt x="499" y="1367"/>
                    <a:pt x="495" y="1359"/>
                  </a:cubicBezTo>
                  <a:cubicBezTo>
                    <a:pt x="491" y="1352"/>
                    <a:pt x="479" y="1339"/>
                    <a:pt x="487" y="1337"/>
                  </a:cubicBezTo>
                  <a:cubicBezTo>
                    <a:pt x="511" y="1332"/>
                    <a:pt x="565" y="1367"/>
                    <a:pt x="591" y="1373"/>
                  </a:cubicBezTo>
                  <a:cubicBezTo>
                    <a:pt x="598" y="1381"/>
                    <a:pt x="604" y="1390"/>
                    <a:pt x="613" y="1396"/>
                  </a:cubicBezTo>
                  <a:cubicBezTo>
                    <a:pt x="619" y="1400"/>
                    <a:pt x="635" y="1411"/>
                    <a:pt x="635" y="1403"/>
                  </a:cubicBezTo>
                  <a:cubicBezTo>
                    <a:pt x="635" y="1393"/>
                    <a:pt x="620" y="1389"/>
                    <a:pt x="613" y="1381"/>
                  </a:cubicBezTo>
                  <a:cubicBezTo>
                    <a:pt x="605" y="1372"/>
                    <a:pt x="600" y="1360"/>
                    <a:pt x="591" y="1351"/>
                  </a:cubicBezTo>
                  <a:cubicBezTo>
                    <a:pt x="582" y="1342"/>
                    <a:pt x="549" y="1329"/>
                    <a:pt x="561" y="1329"/>
                  </a:cubicBezTo>
                  <a:cubicBezTo>
                    <a:pt x="563" y="1329"/>
                    <a:pt x="668" y="1368"/>
                    <a:pt x="679" y="1373"/>
                  </a:cubicBezTo>
                  <a:cubicBezTo>
                    <a:pt x="689" y="1377"/>
                    <a:pt x="717" y="1396"/>
                    <a:pt x="709" y="1388"/>
                  </a:cubicBezTo>
                  <a:cubicBezTo>
                    <a:pt x="687" y="1366"/>
                    <a:pt x="637" y="1329"/>
                    <a:pt x="606" y="1322"/>
                  </a:cubicBezTo>
                  <a:cubicBezTo>
                    <a:pt x="601" y="1315"/>
                    <a:pt x="583" y="1304"/>
                    <a:pt x="591" y="1300"/>
                  </a:cubicBezTo>
                  <a:cubicBezTo>
                    <a:pt x="619" y="1285"/>
                    <a:pt x="679" y="1337"/>
                    <a:pt x="679" y="1337"/>
                  </a:cubicBezTo>
                  <a:cubicBezTo>
                    <a:pt x="667" y="1297"/>
                    <a:pt x="622" y="1266"/>
                    <a:pt x="583" y="1255"/>
                  </a:cubicBezTo>
                  <a:cubicBezTo>
                    <a:pt x="614" y="1246"/>
                    <a:pt x="626" y="1261"/>
                    <a:pt x="657" y="1270"/>
                  </a:cubicBezTo>
                  <a:cubicBezTo>
                    <a:pt x="664" y="1272"/>
                    <a:pt x="685" y="1281"/>
                    <a:pt x="679" y="1277"/>
                  </a:cubicBezTo>
                  <a:cubicBezTo>
                    <a:pt x="630" y="1246"/>
                    <a:pt x="578" y="1217"/>
                    <a:pt x="532" y="1181"/>
                  </a:cubicBezTo>
                  <a:cubicBezTo>
                    <a:pt x="542" y="1179"/>
                    <a:pt x="552" y="1171"/>
                    <a:pt x="561" y="1174"/>
                  </a:cubicBezTo>
                  <a:cubicBezTo>
                    <a:pt x="578" y="1179"/>
                    <a:pt x="588" y="1201"/>
                    <a:pt x="606" y="1204"/>
                  </a:cubicBezTo>
                  <a:cubicBezTo>
                    <a:pt x="618" y="1206"/>
                    <a:pt x="631" y="1209"/>
                    <a:pt x="643" y="1211"/>
                  </a:cubicBezTo>
                  <a:cubicBezTo>
                    <a:pt x="596" y="1183"/>
                    <a:pt x="556" y="1146"/>
                    <a:pt x="510" y="1115"/>
                  </a:cubicBezTo>
                  <a:cubicBezTo>
                    <a:pt x="543" y="1092"/>
                    <a:pt x="569" y="1104"/>
                    <a:pt x="606" y="1115"/>
                  </a:cubicBezTo>
                  <a:cubicBezTo>
                    <a:pt x="613" y="1120"/>
                    <a:pt x="620" y="1134"/>
                    <a:pt x="628" y="1130"/>
                  </a:cubicBezTo>
                  <a:cubicBezTo>
                    <a:pt x="635" y="1127"/>
                    <a:pt x="626" y="1114"/>
                    <a:pt x="620" y="1108"/>
                  </a:cubicBezTo>
                  <a:cubicBezTo>
                    <a:pt x="614" y="1102"/>
                    <a:pt x="605" y="1103"/>
                    <a:pt x="598" y="1100"/>
                  </a:cubicBezTo>
                  <a:cubicBezTo>
                    <a:pt x="572" y="1080"/>
                    <a:pt x="545" y="1067"/>
                    <a:pt x="517" y="1049"/>
                  </a:cubicBezTo>
                  <a:cubicBezTo>
                    <a:pt x="558" y="1040"/>
                    <a:pt x="579" y="1045"/>
                    <a:pt x="620" y="1063"/>
                  </a:cubicBezTo>
                  <a:cubicBezTo>
                    <a:pt x="633" y="1069"/>
                    <a:pt x="644" y="1078"/>
                    <a:pt x="657" y="1085"/>
                  </a:cubicBezTo>
                  <a:cubicBezTo>
                    <a:pt x="667" y="1090"/>
                    <a:pt x="687" y="1111"/>
                    <a:pt x="687" y="1100"/>
                  </a:cubicBezTo>
                  <a:cubicBezTo>
                    <a:pt x="687" y="1088"/>
                    <a:pt x="668" y="1085"/>
                    <a:pt x="657" y="1078"/>
                  </a:cubicBezTo>
                  <a:cubicBezTo>
                    <a:pt x="628" y="1060"/>
                    <a:pt x="602" y="1042"/>
                    <a:pt x="569" y="1034"/>
                  </a:cubicBezTo>
                  <a:cubicBezTo>
                    <a:pt x="562" y="1027"/>
                    <a:pt x="547" y="1022"/>
                    <a:pt x="547" y="1012"/>
                  </a:cubicBezTo>
                  <a:cubicBezTo>
                    <a:pt x="547" y="1003"/>
                    <a:pt x="560" y="996"/>
                    <a:pt x="569" y="997"/>
                  </a:cubicBezTo>
                  <a:cubicBezTo>
                    <a:pt x="595" y="1001"/>
                    <a:pt x="617" y="1019"/>
                    <a:pt x="643" y="1026"/>
                  </a:cubicBezTo>
                  <a:cubicBezTo>
                    <a:pt x="653" y="1029"/>
                    <a:pt x="662" y="1031"/>
                    <a:pt x="672" y="1034"/>
                  </a:cubicBezTo>
                  <a:cubicBezTo>
                    <a:pt x="679" y="1036"/>
                    <a:pt x="701" y="1045"/>
                    <a:pt x="694" y="1041"/>
                  </a:cubicBezTo>
                  <a:cubicBezTo>
                    <a:pt x="651" y="1018"/>
                    <a:pt x="622" y="995"/>
                    <a:pt x="583" y="967"/>
                  </a:cubicBezTo>
                  <a:cubicBezTo>
                    <a:pt x="564" y="953"/>
                    <a:pt x="524" y="930"/>
                    <a:pt x="524" y="930"/>
                  </a:cubicBezTo>
                  <a:cubicBezTo>
                    <a:pt x="573" y="921"/>
                    <a:pt x="580" y="936"/>
                    <a:pt x="628" y="945"/>
                  </a:cubicBezTo>
                  <a:cubicBezTo>
                    <a:pt x="614" y="933"/>
                    <a:pt x="623" y="939"/>
                    <a:pt x="598" y="930"/>
                  </a:cubicBezTo>
                  <a:cubicBezTo>
                    <a:pt x="586" y="920"/>
                    <a:pt x="574" y="909"/>
                    <a:pt x="561" y="901"/>
                  </a:cubicBezTo>
                  <a:cubicBezTo>
                    <a:pt x="550" y="894"/>
                    <a:pt x="535" y="894"/>
                    <a:pt x="524" y="886"/>
                  </a:cubicBezTo>
                  <a:cubicBezTo>
                    <a:pt x="517" y="881"/>
                    <a:pt x="502" y="867"/>
                    <a:pt x="510" y="864"/>
                  </a:cubicBezTo>
                  <a:cubicBezTo>
                    <a:pt x="529" y="858"/>
                    <a:pt x="549" y="869"/>
                    <a:pt x="569" y="871"/>
                  </a:cubicBezTo>
                  <a:cubicBezTo>
                    <a:pt x="616" y="903"/>
                    <a:pt x="562" y="871"/>
                    <a:pt x="643" y="893"/>
                  </a:cubicBezTo>
                  <a:cubicBezTo>
                    <a:pt x="654" y="896"/>
                    <a:pt x="661" y="908"/>
                    <a:pt x="672" y="908"/>
                  </a:cubicBezTo>
                  <a:cubicBezTo>
                    <a:pt x="681" y="908"/>
                    <a:pt x="657" y="898"/>
                    <a:pt x="650" y="893"/>
                  </a:cubicBezTo>
                  <a:cubicBezTo>
                    <a:pt x="620" y="870"/>
                    <a:pt x="588" y="854"/>
                    <a:pt x="561" y="827"/>
                  </a:cubicBezTo>
                  <a:cubicBezTo>
                    <a:pt x="599" y="815"/>
                    <a:pt x="621" y="838"/>
                    <a:pt x="657" y="849"/>
                  </a:cubicBezTo>
                  <a:cubicBezTo>
                    <a:pt x="667" y="852"/>
                    <a:pt x="687" y="867"/>
                    <a:pt x="687" y="857"/>
                  </a:cubicBezTo>
                  <a:cubicBezTo>
                    <a:pt x="687" y="846"/>
                    <a:pt x="667" y="847"/>
                    <a:pt x="657" y="842"/>
                  </a:cubicBezTo>
                  <a:cubicBezTo>
                    <a:pt x="592" y="774"/>
                    <a:pt x="663" y="842"/>
                    <a:pt x="598" y="797"/>
                  </a:cubicBezTo>
                  <a:cubicBezTo>
                    <a:pt x="575" y="781"/>
                    <a:pt x="532" y="746"/>
                    <a:pt x="532" y="746"/>
                  </a:cubicBezTo>
                  <a:cubicBezTo>
                    <a:pt x="527" y="736"/>
                    <a:pt x="513" y="726"/>
                    <a:pt x="517" y="716"/>
                  </a:cubicBezTo>
                  <a:cubicBezTo>
                    <a:pt x="524" y="699"/>
                    <a:pt x="569" y="714"/>
                    <a:pt x="576" y="716"/>
                  </a:cubicBezTo>
                  <a:cubicBezTo>
                    <a:pt x="583" y="721"/>
                    <a:pt x="590" y="727"/>
                    <a:pt x="598" y="731"/>
                  </a:cubicBezTo>
                  <a:cubicBezTo>
                    <a:pt x="605" y="734"/>
                    <a:pt x="626" y="742"/>
                    <a:pt x="620" y="738"/>
                  </a:cubicBezTo>
                  <a:cubicBezTo>
                    <a:pt x="570" y="704"/>
                    <a:pt x="512" y="670"/>
                    <a:pt x="458" y="642"/>
                  </a:cubicBezTo>
                  <a:cubicBezTo>
                    <a:pt x="436" y="610"/>
                    <a:pt x="424" y="604"/>
                    <a:pt x="502" y="628"/>
                  </a:cubicBezTo>
                  <a:cubicBezTo>
                    <a:pt x="532" y="637"/>
                    <a:pt x="553" y="662"/>
                    <a:pt x="583" y="672"/>
                  </a:cubicBezTo>
                  <a:cubicBezTo>
                    <a:pt x="552" y="651"/>
                    <a:pt x="519" y="634"/>
                    <a:pt x="487" y="613"/>
                  </a:cubicBezTo>
                  <a:cubicBezTo>
                    <a:pt x="465" y="545"/>
                    <a:pt x="570" y="618"/>
                    <a:pt x="598" y="628"/>
                  </a:cubicBezTo>
                  <a:cubicBezTo>
                    <a:pt x="566" y="602"/>
                    <a:pt x="537" y="582"/>
                    <a:pt x="502" y="561"/>
                  </a:cubicBezTo>
                  <a:cubicBezTo>
                    <a:pt x="481" y="533"/>
                    <a:pt x="451" y="516"/>
                    <a:pt x="495" y="502"/>
                  </a:cubicBezTo>
                  <a:cubicBezTo>
                    <a:pt x="520" y="507"/>
                    <a:pt x="544" y="511"/>
                    <a:pt x="569" y="517"/>
                  </a:cubicBezTo>
                  <a:cubicBezTo>
                    <a:pt x="577" y="519"/>
                    <a:pt x="588" y="531"/>
                    <a:pt x="591" y="524"/>
                  </a:cubicBezTo>
                  <a:cubicBezTo>
                    <a:pt x="595" y="516"/>
                    <a:pt x="582" y="509"/>
                    <a:pt x="576" y="502"/>
                  </a:cubicBezTo>
                  <a:cubicBezTo>
                    <a:pt x="562" y="487"/>
                    <a:pt x="548" y="471"/>
                    <a:pt x="532" y="458"/>
                  </a:cubicBezTo>
                  <a:cubicBezTo>
                    <a:pt x="518" y="446"/>
                    <a:pt x="500" y="441"/>
                    <a:pt x="487" y="428"/>
                  </a:cubicBezTo>
                  <a:cubicBezTo>
                    <a:pt x="470" y="411"/>
                    <a:pt x="443" y="369"/>
                    <a:pt x="443" y="369"/>
                  </a:cubicBezTo>
                  <a:cubicBezTo>
                    <a:pt x="481" y="350"/>
                    <a:pt x="467" y="348"/>
                    <a:pt x="510" y="369"/>
                  </a:cubicBezTo>
                  <a:cubicBezTo>
                    <a:pt x="523" y="375"/>
                    <a:pt x="535" y="383"/>
                    <a:pt x="547" y="391"/>
                  </a:cubicBezTo>
                  <a:cubicBezTo>
                    <a:pt x="555" y="396"/>
                    <a:pt x="569" y="415"/>
                    <a:pt x="569" y="406"/>
                  </a:cubicBezTo>
                  <a:cubicBezTo>
                    <a:pt x="569" y="381"/>
                    <a:pt x="500" y="342"/>
                    <a:pt x="480" y="332"/>
                  </a:cubicBezTo>
                  <a:cubicBezTo>
                    <a:pt x="461" y="304"/>
                    <a:pt x="445" y="293"/>
                    <a:pt x="517" y="317"/>
                  </a:cubicBezTo>
                  <a:cubicBezTo>
                    <a:pt x="546" y="327"/>
                    <a:pt x="570" y="349"/>
                    <a:pt x="598" y="362"/>
                  </a:cubicBezTo>
                  <a:cubicBezTo>
                    <a:pt x="603" y="364"/>
                    <a:pt x="588" y="357"/>
                    <a:pt x="583" y="354"/>
                  </a:cubicBezTo>
                  <a:cubicBezTo>
                    <a:pt x="571" y="347"/>
                    <a:pt x="559" y="339"/>
                    <a:pt x="547" y="332"/>
                  </a:cubicBezTo>
                  <a:cubicBezTo>
                    <a:pt x="517" y="313"/>
                    <a:pt x="493" y="292"/>
                    <a:pt x="458" y="281"/>
                  </a:cubicBezTo>
                  <a:cubicBezTo>
                    <a:pt x="397" y="217"/>
                    <a:pt x="510" y="283"/>
                    <a:pt x="532" y="288"/>
                  </a:cubicBezTo>
                  <a:cubicBezTo>
                    <a:pt x="539" y="293"/>
                    <a:pt x="554" y="294"/>
                    <a:pt x="554" y="303"/>
                  </a:cubicBezTo>
                  <a:cubicBezTo>
                    <a:pt x="554" y="311"/>
                    <a:pt x="538" y="299"/>
                    <a:pt x="532" y="295"/>
                  </a:cubicBezTo>
                  <a:cubicBezTo>
                    <a:pt x="523" y="289"/>
                    <a:pt x="519" y="279"/>
                    <a:pt x="510" y="273"/>
                  </a:cubicBezTo>
                  <a:cubicBezTo>
                    <a:pt x="481" y="254"/>
                    <a:pt x="451" y="237"/>
                    <a:pt x="421" y="221"/>
                  </a:cubicBezTo>
                  <a:cubicBezTo>
                    <a:pt x="404" y="212"/>
                    <a:pt x="386" y="207"/>
                    <a:pt x="369" y="199"/>
                  </a:cubicBezTo>
                  <a:cubicBezTo>
                    <a:pt x="359" y="195"/>
                    <a:pt x="330" y="190"/>
                    <a:pt x="340" y="185"/>
                  </a:cubicBezTo>
                  <a:cubicBezTo>
                    <a:pt x="353" y="179"/>
                    <a:pt x="369" y="190"/>
                    <a:pt x="384" y="192"/>
                  </a:cubicBezTo>
                  <a:cubicBezTo>
                    <a:pt x="396" y="199"/>
                    <a:pt x="407" y="209"/>
                    <a:pt x="421" y="214"/>
                  </a:cubicBezTo>
                  <a:cubicBezTo>
                    <a:pt x="435" y="219"/>
                    <a:pt x="451" y="215"/>
                    <a:pt x="465" y="221"/>
                  </a:cubicBezTo>
                  <a:cubicBezTo>
                    <a:pt x="482" y="228"/>
                    <a:pt x="521" y="265"/>
                    <a:pt x="510" y="251"/>
                  </a:cubicBezTo>
                  <a:cubicBezTo>
                    <a:pt x="482" y="215"/>
                    <a:pt x="499" y="225"/>
                    <a:pt x="465" y="214"/>
                  </a:cubicBezTo>
                  <a:cubicBezTo>
                    <a:pt x="455" y="207"/>
                    <a:pt x="446" y="198"/>
                    <a:pt x="436" y="192"/>
                  </a:cubicBezTo>
                  <a:cubicBezTo>
                    <a:pt x="427" y="186"/>
                    <a:pt x="406" y="188"/>
                    <a:pt x="406" y="177"/>
                  </a:cubicBezTo>
                  <a:cubicBezTo>
                    <a:pt x="406" y="167"/>
                    <a:pt x="436" y="185"/>
                    <a:pt x="436" y="185"/>
                  </a:cubicBezTo>
                  <a:cubicBezTo>
                    <a:pt x="443" y="190"/>
                    <a:pt x="450" y="196"/>
                    <a:pt x="458" y="199"/>
                  </a:cubicBezTo>
                  <a:cubicBezTo>
                    <a:pt x="467" y="203"/>
                    <a:pt x="487" y="217"/>
                    <a:pt x="487" y="207"/>
                  </a:cubicBezTo>
                  <a:cubicBezTo>
                    <a:pt x="487" y="196"/>
                    <a:pt x="467" y="198"/>
                    <a:pt x="458" y="192"/>
                  </a:cubicBezTo>
                  <a:cubicBezTo>
                    <a:pt x="411" y="162"/>
                    <a:pt x="364" y="150"/>
                    <a:pt x="310" y="133"/>
                  </a:cubicBezTo>
                  <a:cubicBezTo>
                    <a:pt x="249" y="91"/>
                    <a:pt x="335" y="143"/>
                    <a:pt x="347" y="148"/>
                  </a:cubicBezTo>
                  <a:cubicBezTo>
                    <a:pt x="361" y="154"/>
                    <a:pt x="376" y="157"/>
                    <a:pt x="391" y="162"/>
                  </a:cubicBezTo>
                  <a:cubicBezTo>
                    <a:pt x="399" y="167"/>
                    <a:pt x="406" y="173"/>
                    <a:pt x="414" y="177"/>
                  </a:cubicBezTo>
                  <a:cubicBezTo>
                    <a:pt x="423" y="181"/>
                    <a:pt x="451" y="192"/>
                    <a:pt x="443" y="185"/>
                  </a:cubicBezTo>
                  <a:cubicBezTo>
                    <a:pt x="433" y="176"/>
                    <a:pt x="418" y="176"/>
                    <a:pt x="406" y="170"/>
                  </a:cubicBezTo>
                  <a:cubicBezTo>
                    <a:pt x="351" y="143"/>
                    <a:pt x="348" y="121"/>
                    <a:pt x="273" y="96"/>
                  </a:cubicBezTo>
                  <a:cubicBezTo>
                    <a:pt x="258" y="91"/>
                    <a:pt x="243" y="87"/>
                    <a:pt x="229" y="81"/>
                  </a:cubicBezTo>
                  <a:cubicBezTo>
                    <a:pt x="221" y="77"/>
                    <a:pt x="199" y="70"/>
                    <a:pt x="207" y="66"/>
                  </a:cubicBezTo>
                  <a:cubicBezTo>
                    <a:pt x="224" y="58"/>
                    <a:pt x="295" y="89"/>
                    <a:pt x="310" y="96"/>
                  </a:cubicBezTo>
                  <a:cubicBezTo>
                    <a:pt x="320" y="101"/>
                    <a:pt x="351" y="115"/>
                    <a:pt x="340" y="111"/>
                  </a:cubicBezTo>
                  <a:cubicBezTo>
                    <a:pt x="293" y="95"/>
                    <a:pt x="253" y="67"/>
                    <a:pt x="207" y="52"/>
                  </a:cubicBezTo>
                  <a:cubicBezTo>
                    <a:pt x="202" y="44"/>
                    <a:pt x="200" y="34"/>
                    <a:pt x="192" y="29"/>
                  </a:cubicBezTo>
                  <a:cubicBezTo>
                    <a:pt x="145" y="0"/>
                    <a:pt x="148" y="33"/>
                    <a:pt x="148" y="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6"/>
            <p:cNvSpPr/>
            <p:nvPr/>
          </p:nvSpPr>
          <p:spPr>
            <a:xfrm>
              <a:off x="4229280" y="1335240"/>
              <a:ext cx="1661760" cy="3867120"/>
            </a:xfrm>
            <a:custGeom>
              <a:avLst/>
              <a:gdLst/>
              <a:ahLst/>
              <a:rect l="l" t="t" r="r" b="b"/>
              <a:pathLst>
                <a:path w="1047" h="2436">
                  <a:moveTo>
                    <a:pt x="622" y="64"/>
                  </a:moveTo>
                  <a:cubicBezTo>
                    <a:pt x="632" y="92"/>
                    <a:pt x="659" y="145"/>
                    <a:pt x="659" y="145"/>
                  </a:cubicBezTo>
                  <a:cubicBezTo>
                    <a:pt x="665" y="175"/>
                    <a:pt x="672" y="205"/>
                    <a:pt x="681" y="234"/>
                  </a:cubicBezTo>
                  <a:cubicBezTo>
                    <a:pt x="688" y="254"/>
                    <a:pt x="703" y="293"/>
                    <a:pt x="703" y="293"/>
                  </a:cubicBezTo>
                  <a:cubicBezTo>
                    <a:pt x="710" y="268"/>
                    <a:pt x="717" y="244"/>
                    <a:pt x="726" y="219"/>
                  </a:cubicBezTo>
                  <a:cubicBezTo>
                    <a:pt x="731" y="185"/>
                    <a:pt x="736" y="155"/>
                    <a:pt x="748" y="123"/>
                  </a:cubicBezTo>
                  <a:cubicBezTo>
                    <a:pt x="759" y="504"/>
                    <a:pt x="717" y="389"/>
                    <a:pt x="785" y="300"/>
                  </a:cubicBezTo>
                  <a:cubicBezTo>
                    <a:pt x="787" y="290"/>
                    <a:pt x="788" y="280"/>
                    <a:pt x="792" y="271"/>
                  </a:cubicBezTo>
                  <a:cubicBezTo>
                    <a:pt x="797" y="260"/>
                    <a:pt x="813" y="229"/>
                    <a:pt x="814" y="241"/>
                  </a:cubicBezTo>
                  <a:cubicBezTo>
                    <a:pt x="820" y="297"/>
                    <a:pt x="811" y="354"/>
                    <a:pt x="807" y="411"/>
                  </a:cubicBezTo>
                  <a:cubicBezTo>
                    <a:pt x="805" y="438"/>
                    <a:pt x="797" y="465"/>
                    <a:pt x="792" y="492"/>
                  </a:cubicBezTo>
                  <a:cubicBezTo>
                    <a:pt x="790" y="502"/>
                    <a:pt x="778" y="515"/>
                    <a:pt x="785" y="522"/>
                  </a:cubicBezTo>
                  <a:cubicBezTo>
                    <a:pt x="791" y="528"/>
                    <a:pt x="796" y="507"/>
                    <a:pt x="799" y="499"/>
                  </a:cubicBezTo>
                  <a:cubicBezTo>
                    <a:pt x="818" y="453"/>
                    <a:pt x="827" y="406"/>
                    <a:pt x="844" y="359"/>
                  </a:cubicBezTo>
                  <a:cubicBezTo>
                    <a:pt x="837" y="434"/>
                    <a:pt x="838" y="514"/>
                    <a:pt x="822" y="588"/>
                  </a:cubicBezTo>
                  <a:cubicBezTo>
                    <a:pt x="818" y="606"/>
                    <a:pt x="811" y="622"/>
                    <a:pt x="807" y="640"/>
                  </a:cubicBezTo>
                  <a:cubicBezTo>
                    <a:pt x="803" y="657"/>
                    <a:pt x="782" y="691"/>
                    <a:pt x="799" y="691"/>
                  </a:cubicBezTo>
                  <a:cubicBezTo>
                    <a:pt x="817" y="691"/>
                    <a:pt x="808" y="657"/>
                    <a:pt x="814" y="640"/>
                  </a:cubicBezTo>
                  <a:cubicBezTo>
                    <a:pt x="826" y="604"/>
                    <a:pt x="845" y="571"/>
                    <a:pt x="858" y="536"/>
                  </a:cubicBezTo>
                  <a:cubicBezTo>
                    <a:pt x="851" y="631"/>
                    <a:pt x="845" y="659"/>
                    <a:pt x="858" y="765"/>
                  </a:cubicBezTo>
                  <a:cubicBezTo>
                    <a:pt x="859" y="773"/>
                    <a:pt x="863" y="750"/>
                    <a:pt x="866" y="743"/>
                  </a:cubicBezTo>
                  <a:cubicBezTo>
                    <a:pt x="868" y="736"/>
                    <a:pt x="871" y="728"/>
                    <a:pt x="873" y="721"/>
                  </a:cubicBezTo>
                  <a:cubicBezTo>
                    <a:pt x="886" y="671"/>
                    <a:pt x="872" y="698"/>
                    <a:pt x="895" y="662"/>
                  </a:cubicBezTo>
                  <a:cubicBezTo>
                    <a:pt x="893" y="695"/>
                    <a:pt x="886" y="865"/>
                    <a:pt x="881" y="913"/>
                  </a:cubicBezTo>
                  <a:cubicBezTo>
                    <a:pt x="880" y="924"/>
                    <a:pt x="859" y="981"/>
                    <a:pt x="866" y="987"/>
                  </a:cubicBezTo>
                  <a:cubicBezTo>
                    <a:pt x="876" y="996"/>
                    <a:pt x="877" y="963"/>
                    <a:pt x="881" y="950"/>
                  </a:cubicBezTo>
                  <a:cubicBezTo>
                    <a:pt x="887" y="933"/>
                    <a:pt x="888" y="914"/>
                    <a:pt x="895" y="898"/>
                  </a:cubicBezTo>
                  <a:cubicBezTo>
                    <a:pt x="902" y="882"/>
                    <a:pt x="925" y="854"/>
                    <a:pt x="925" y="854"/>
                  </a:cubicBezTo>
                  <a:cubicBezTo>
                    <a:pt x="923" y="913"/>
                    <a:pt x="922" y="972"/>
                    <a:pt x="918" y="1031"/>
                  </a:cubicBezTo>
                  <a:cubicBezTo>
                    <a:pt x="917" y="1039"/>
                    <a:pt x="912" y="1045"/>
                    <a:pt x="910" y="1053"/>
                  </a:cubicBezTo>
                  <a:cubicBezTo>
                    <a:pt x="870" y="1207"/>
                    <a:pt x="917" y="1056"/>
                    <a:pt x="932" y="1024"/>
                  </a:cubicBezTo>
                  <a:cubicBezTo>
                    <a:pt x="909" y="1121"/>
                    <a:pt x="873" y="1228"/>
                    <a:pt x="873" y="1327"/>
                  </a:cubicBezTo>
                  <a:cubicBezTo>
                    <a:pt x="873" y="1337"/>
                    <a:pt x="878" y="1307"/>
                    <a:pt x="881" y="1297"/>
                  </a:cubicBezTo>
                  <a:cubicBezTo>
                    <a:pt x="888" y="1275"/>
                    <a:pt x="897" y="1253"/>
                    <a:pt x="903" y="1231"/>
                  </a:cubicBezTo>
                  <a:cubicBezTo>
                    <a:pt x="906" y="1221"/>
                    <a:pt x="910" y="1191"/>
                    <a:pt x="910" y="1201"/>
                  </a:cubicBezTo>
                  <a:cubicBezTo>
                    <a:pt x="910" y="1221"/>
                    <a:pt x="899" y="1261"/>
                    <a:pt x="895" y="1282"/>
                  </a:cubicBezTo>
                  <a:cubicBezTo>
                    <a:pt x="886" y="1334"/>
                    <a:pt x="887" y="1386"/>
                    <a:pt x="873" y="1437"/>
                  </a:cubicBezTo>
                  <a:cubicBezTo>
                    <a:pt x="876" y="1444"/>
                    <a:pt x="877" y="1466"/>
                    <a:pt x="881" y="1459"/>
                  </a:cubicBezTo>
                  <a:cubicBezTo>
                    <a:pt x="891" y="1442"/>
                    <a:pt x="889" y="1419"/>
                    <a:pt x="895" y="1400"/>
                  </a:cubicBezTo>
                  <a:cubicBezTo>
                    <a:pt x="908" y="1357"/>
                    <a:pt x="928" y="1318"/>
                    <a:pt x="940" y="1275"/>
                  </a:cubicBezTo>
                  <a:cubicBezTo>
                    <a:pt x="937" y="1317"/>
                    <a:pt x="936" y="1358"/>
                    <a:pt x="932" y="1400"/>
                  </a:cubicBezTo>
                  <a:cubicBezTo>
                    <a:pt x="931" y="1417"/>
                    <a:pt x="926" y="1435"/>
                    <a:pt x="925" y="1452"/>
                  </a:cubicBezTo>
                  <a:cubicBezTo>
                    <a:pt x="922" y="1496"/>
                    <a:pt x="922" y="1541"/>
                    <a:pt x="918" y="1585"/>
                  </a:cubicBezTo>
                  <a:cubicBezTo>
                    <a:pt x="917" y="1600"/>
                    <a:pt x="910" y="1644"/>
                    <a:pt x="910" y="1629"/>
                  </a:cubicBezTo>
                  <a:cubicBezTo>
                    <a:pt x="910" y="1597"/>
                    <a:pt x="918" y="1553"/>
                    <a:pt x="925" y="1519"/>
                  </a:cubicBezTo>
                  <a:cubicBezTo>
                    <a:pt x="927" y="1509"/>
                    <a:pt x="932" y="1489"/>
                    <a:pt x="932" y="1489"/>
                  </a:cubicBezTo>
                  <a:lnTo>
                    <a:pt x="925" y="1519"/>
                  </a:lnTo>
                  <a:cubicBezTo>
                    <a:pt x="916" y="1644"/>
                    <a:pt x="924" y="1582"/>
                    <a:pt x="903" y="1696"/>
                  </a:cubicBezTo>
                  <a:cubicBezTo>
                    <a:pt x="900" y="1711"/>
                    <a:pt x="898" y="1725"/>
                    <a:pt x="895" y="1740"/>
                  </a:cubicBezTo>
                  <a:cubicBezTo>
                    <a:pt x="893" y="1752"/>
                    <a:pt x="882" y="1788"/>
                    <a:pt x="888" y="1777"/>
                  </a:cubicBezTo>
                  <a:cubicBezTo>
                    <a:pt x="908" y="1738"/>
                    <a:pt x="895" y="1755"/>
                    <a:pt x="925" y="1725"/>
                  </a:cubicBezTo>
                  <a:cubicBezTo>
                    <a:pt x="936" y="1680"/>
                    <a:pt x="957" y="1647"/>
                    <a:pt x="977" y="1607"/>
                  </a:cubicBezTo>
                  <a:cubicBezTo>
                    <a:pt x="960" y="1684"/>
                    <a:pt x="944" y="1758"/>
                    <a:pt x="932" y="1836"/>
                  </a:cubicBezTo>
                  <a:cubicBezTo>
                    <a:pt x="927" y="1909"/>
                    <a:pt x="923" y="1949"/>
                    <a:pt x="903" y="2013"/>
                  </a:cubicBezTo>
                  <a:cubicBezTo>
                    <a:pt x="900" y="1907"/>
                    <a:pt x="904" y="1801"/>
                    <a:pt x="895" y="1696"/>
                  </a:cubicBezTo>
                  <a:cubicBezTo>
                    <a:pt x="893" y="1676"/>
                    <a:pt x="884" y="1735"/>
                    <a:pt x="881" y="1755"/>
                  </a:cubicBezTo>
                  <a:cubicBezTo>
                    <a:pt x="848" y="1996"/>
                    <a:pt x="888" y="1778"/>
                    <a:pt x="866" y="1895"/>
                  </a:cubicBezTo>
                  <a:cubicBezTo>
                    <a:pt x="868" y="1794"/>
                    <a:pt x="865" y="1693"/>
                    <a:pt x="873" y="1592"/>
                  </a:cubicBezTo>
                  <a:cubicBezTo>
                    <a:pt x="874" y="1579"/>
                    <a:pt x="883" y="1617"/>
                    <a:pt x="888" y="1629"/>
                  </a:cubicBezTo>
                  <a:cubicBezTo>
                    <a:pt x="893" y="1644"/>
                    <a:pt x="903" y="1674"/>
                    <a:pt x="903" y="1674"/>
                  </a:cubicBezTo>
                  <a:cubicBezTo>
                    <a:pt x="892" y="1533"/>
                    <a:pt x="907" y="1503"/>
                    <a:pt x="858" y="1408"/>
                  </a:cubicBezTo>
                  <a:cubicBezTo>
                    <a:pt x="868" y="1396"/>
                    <a:pt x="872" y="1373"/>
                    <a:pt x="888" y="1371"/>
                  </a:cubicBezTo>
                  <a:cubicBezTo>
                    <a:pt x="919" y="1368"/>
                    <a:pt x="977" y="1451"/>
                    <a:pt x="991" y="1474"/>
                  </a:cubicBezTo>
                  <a:cubicBezTo>
                    <a:pt x="981" y="1398"/>
                    <a:pt x="954" y="1376"/>
                    <a:pt x="903" y="1312"/>
                  </a:cubicBezTo>
                  <a:cubicBezTo>
                    <a:pt x="891" y="1297"/>
                    <a:pt x="887" y="1278"/>
                    <a:pt x="881" y="1260"/>
                  </a:cubicBezTo>
                  <a:cubicBezTo>
                    <a:pt x="878" y="1253"/>
                    <a:pt x="866" y="1236"/>
                    <a:pt x="873" y="1238"/>
                  </a:cubicBezTo>
                  <a:cubicBezTo>
                    <a:pt x="886" y="1242"/>
                    <a:pt x="893" y="1257"/>
                    <a:pt x="903" y="1267"/>
                  </a:cubicBezTo>
                  <a:cubicBezTo>
                    <a:pt x="917" y="1296"/>
                    <a:pt x="937" y="1314"/>
                    <a:pt x="954" y="1341"/>
                  </a:cubicBezTo>
                  <a:cubicBezTo>
                    <a:pt x="942" y="1292"/>
                    <a:pt x="938" y="1258"/>
                    <a:pt x="903" y="1223"/>
                  </a:cubicBezTo>
                  <a:cubicBezTo>
                    <a:pt x="890" y="1190"/>
                    <a:pt x="869" y="1173"/>
                    <a:pt x="858" y="1142"/>
                  </a:cubicBezTo>
                  <a:cubicBezTo>
                    <a:pt x="861" y="1135"/>
                    <a:pt x="858" y="1122"/>
                    <a:pt x="866" y="1120"/>
                  </a:cubicBezTo>
                  <a:cubicBezTo>
                    <a:pt x="875" y="1118"/>
                    <a:pt x="881" y="1130"/>
                    <a:pt x="888" y="1135"/>
                  </a:cubicBezTo>
                  <a:cubicBezTo>
                    <a:pt x="903" y="1147"/>
                    <a:pt x="917" y="1159"/>
                    <a:pt x="932" y="1171"/>
                  </a:cubicBezTo>
                  <a:cubicBezTo>
                    <a:pt x="937" y="1181"/>
                    <a:pt x="939" y="1193"/>
                    <a:pt x="947" y="1201"/>
                  </a:cubicBezTo>
                  <a:cubicBezTo>
                    <a:pt x="952" y="1206"/>
                    <a:pt x="943" y="1186"/>
                    <a:pt x="940" y="1179"/>
                  </a:cubicBezTo>
                  <a:cubicBezTo>
                    <a:pt x="926" y="1150"/>
                    <a:pt x="905" y="1129"/>
                    <a:pt x="895" y="1098"/>
                  </a:cubicBezTo>
                  <a:cubicBezTo>
                    <a:pt x="892" y="1090"/>
                    <a:pt x="892" y="1082"/>
                    <a:pt x="888" y="1075"/>
                  </a:cubicBezTo>
                  <a:cubicBezTo>
                    <a:pt x="884" y="1067"/>
                    <a:pt x="864" y="1053"/>
                    <a:pt x="873" y="1053"/>
                  </a:cubicBezTo>
                  <a:cubicBezTo>
                    <a:pt x="888" y="1053"/>
                    <a:pt x="935" y="1085"/>
                    <a:pt x="947" y="1098"/>
                  </a:cubicBezTo>
                  <a:cubicBezTo>
                    <a:pt x="959" y="1111"/>
                    <a:pt x="991" y="1152"/>
                    <a:pt x="977" y="1142"/>
                  </a:cubicBezTo>
                  <a:cubicBezTo>
                    <a:pt x="925" y="1104"/>
                    <a:pt x="956" y="1129"/>
                    <a:pt x="888" y="1061"/>
                  </a:cubicBezTo>
                  <a:cubicBezTo>
                    <a:pt x="875" y="1048"/>
                    <a:pt x="858" y="1016"/>
                    <a:pt x="858" y="1016"/>
                  </a:cubicBezTo>
                  <a:cubicBezTo>
                    <a:pt x="842" y="965"/>
                    <a:pt x="829" y="977"/>
                    <a:pt x="866" y="965"/>
                  </a:cubicBezTo>
                  <a:cubicBezTo>
                    <a:pt x="905" y="977"/>
                    <a:pt x="882" y="968"/>
                    <a:pt x="932" y="1002"/>
                  </a:cubicBezTo>
                  <a:cubicBezTo>
                    <a:pt x="942" y="1009"/>
                    <a:pt x="912" y="988"/>
                    <a:pt x="903" y="979"/>
                  </a:cubicBezTo>
                  <a:cubicBezTo>
                    <a:pt x="879" y="954"/>
                    <a:pt x="858" y="924"/>
                    <a:pt x="836" y="898"/>
                  </a:cubicBezTo>
                  <a:cubicBezTo>
                    <a:pt x="829" y="890"/>
                    <a:pt x="820" y="884"/>
                    <a:pt x="814" y="876"/>
                  </a:cubicBezTo>
                  <a:cubicBezTo>
                    <a:pt x="808" y="867"/>
                    <a:pt x="788" y="849"/>
                    <a:pt x="799" y="847"/>
                  </a:cubicBezTo>
                  <a:cubicBezTo>
                    <a:pt x="815" y="843"/>
                    <a:pt x="829" y="861"/>
                    <a:pt x="844" y="869"/>
                  </a:cubicBezTo>
                  <a:cubicBezTo>
                    <a:pt x="898" y="898"/>
                    <a:pt x="861" y="886"/>
                    <a:pt x="910" y="898"/>
                  </a:cubicBezTo>
                  <a:cubicBezTo>
                    <a:pt x="910" y="898"/>
                    <a:pt x="891" y="883"/>
                    <a:pt x="881" y="876"/>
                  </a:cubicBezTo>
                  <a:cubicBezTo>
                    <a:pt x="848" y="854"/>
                    <a:pt x="865" y="867"/>
                    <a:pt x="829" y="839"/>
                  </a:cubicBezTo>
                  <a:cubicBezTo>
                    <a:pt x="808" y="772"/>
                    <a:pt x="891" y="844"/>
                    <a:pt x="918" y="854"/>
                  </a:cubicBezTo>
                  <a:cubicBezTo>
                    <a:pt x="921" y="855"/>
                    <a:pt x="913" y="849"/>
                    <a:pt x="910" y="847"/>
                  </a:cubicBezTo>
                  <a:cubicBezTo>
                    <a:pt x="903" y="842"/>
                    <a:pt x="895" y="837"/>
                    <a:pt x="888" y="832"/>
                  </a:cubicBezTo>
                  <a:cubicBezTo>
                    <a:pt x="851" y="806"/>
                    <a:pt x="814" y="778"/>
                    <a:pt x="777" y="751"/>
                  </a:cubicBezTo>
                  <a:cubicBezTo>
                    <a:pt x="772" y="743"/>
                    <a:pt x="753" y="728"/>
                    <a:pt x="762" y="728"/>
                  </a:cubicBezTo>
                  <a:cubicBezTo>
                    <a:pt x="786" y="728"/>
                    <a:pt x="829" y="751"/>
                    <a:pt x="829" y="751"/>
                  </a:cubicBezTo>
                  <a:cubicBezTo>
                    <a:pt x="849" y="766"/>
                    <a:pt x="910" y="806"/>
                    <a:pt x="888" y="795"/>
                  </a:cubicBezTo>
                  <a:cubicBezTo>
                    <a:pt x="860" y="781"/>
                    <a:pt x="835" y="765"/>
                    <a:pt x="807" y="751"/>
                  </a:cubicBezTo>
                  <a:cubicBezTo>
                    <a:pt x="787" y="724"/>
                    <a:pt x="759" y="706"/>
                    <a:pt x="829" y="706"/>
                  </a:cubicBezTo>
                  <a:cubicBezTo>
                    <a:pt x="859" y="706"/>
                    <a:pt x="896" y="737"/>
                    <a:pt x="918" y="751"/>
                  </a:cubicBezTo>
                  <a:cubicBezTo>
                    <a:pt x="927" y="757"/>
                    <a:pt x="902" y="736"/>
                    <a:pt x="895" y="728"/>
                  </a:cubicBezTo>
                  <a:cubicBezTo>
                    <a:pt x="889" y="721"/>
                    <a:pt x="888" y="712"/>
                    <a:pt x="881" y="706"/>
                  </a:cubicBezTo>
                  <a:cubicBezTo>
                    <a:pt x="872" y="699"/>
                    <a:pt x="860" y="697"/>
                    <a:pt x="851" y="691"/>
                  </a:cubicBezTo>
                  <a:cubicBezTo>
                    <a:pt x="841" y="685"/>
                    <a:pt x="831" y="677"/>
                    <a:pt x="822" y="669"/>
                  </a:cubicBezTo>
                  <a:cubicBezTo>
                    <a:pt x="804" y="653"/>
                    <a:pt x="770" y="618"/>
                    <a:pt x="770" y="618"/>
                  </a:cubicBezTo>
                  <a:cubicBezTo>
                    <a:pt x="811" y="609"/>
                    <a:pt x="819" y="616"/>
                    <a:pt x="858" y="625"/>
                  </a:cubicBezTo>
                  <a:cubicBezTo>
                    <a:pt x="829" y="603"/>
                    <a:pt x="817" y="582"/>
                    <a:pt x="785" y="566"/>
                  </a:cubicBezTo>
                  <a:cubicBezTo>
                    <a:pt x="724" y="486"/>
                    <a:pt x="820" y="549"/>
                    <a:pt x="858" y="559"/>
                  </a:cubicBezTo>
                  <a:cubicBezTo>
                    <a:pt x="839" y="528"/>
                    <a:pt x="811" y="511"/>
                    <a:pt x="785" y="485"/>
                  </a:cubicBezTo>
                  <a:cubicBezTo>
                    <a:pt x="766" y="434"/>
                    <a:pt x="815" y="457"/>
                    <a:pt x="844" y="463"/>
                  </a:cubicBezTo>
                  <a:cubicBezTo>
                    <a:pt x="723" y="342"/>
                    <a:pt x="848" y="458"/>
                    <a:pt x="755" y="389"/>
                  </a:cubicBezTo>
                  <a:cubicBezTo>
                    <a:pt x="747" y="383"/>
                    <a:pt x="740" y="375"/>
                    <a:pt x="733" y="367"/>
                  </a:cubicBezTo>
                  <a:cubicBezTo>
                    <a:pt x="727" y="360"/>
                    <a:pt x="709" y="346"/>
                    <a:pt x="718" y="344"/>
                  </a:cubicBezTo>
                  <a:cubicBezTo>
                    <a:pt x="736" y="340"/>
                    <a:pt x="753" y="354"/>
                    <a:pt x="770" y="359"/>
                  </a:cubicBezTo>
                  <a:cubicBezTo>
                    <a:pt x="777" y="361"/>
                    <a:pt x="799" y="371"/>
                    <a:pt x="792" y="367"/>
                  </a:cubicBezTo>
                  <a:cubicBezTo>
                    <a:pt x="756" y="348"/>
                    <a:pt x="729" y="331"/>
                    <a:pt x="696" y="307"/>
                  </a:cubicBezTo>
                  <a:cubicBezTo>
                    <a:pt x="689" y="302"/>
                    <a:pt x="674" y="302"/>
                    <a:pt x="674" y="293"/>
                  </a:cubicBezTo>
                  <a:cubicBezTo>
                    <a:pt x="674" y="285"/>
                    <a:pt x="689" y="298"/>
                    <a:pt x="696" y="300"/>
                  </a:cubicBezTo>
                  <a:cubicBezTo>
                    <a:pt x="745" y="334"/>
                    <a:pt x="800" y="358"/>
                    <a:pt x="822" y="418"/>
                  </a:cubicBezTo>
                  <a:cubicBezTo>
                    <a:pt x="788" y="427"/>
                    <a:pt x="780" y="421"/>
                    <a:pt x="748" y="411"/>
                  </a:cubicBezTo>
                  <a:cubicBezTo>
                    <a:pt x="765" y="408"/>
                    <a:pt x="794" y="419"/>
                    <a:pt x="799" y="403"/>
                  </a:cubicBezTo>
                  <a:cubicBezTo>
                    <a:pt x="804" y="387"/>
                    <a:pt x="773" y="380"/>
                    <a:pt x="762" y="367"/>
                  </a:cubicBezTo>
                  <a:cubicBezTo>
                    <a:pt x="740" y="342"/>
                    <a:pt x="725" y="319"/>
                    <a:pt x="696" y="300"/>
                  </a:cubicBezTo>
                  <a:cubicBezTo>
                    <a:pt x="657" y="243"/>
                    <a:pt x="723" y="250"/>
                    <a:pt x="770" y="241"/>
                  </a:cubicBezTo>
                  <a:cubicBezTo>
                    <a:pt x="720" y="220"/>
                    <a:pt x="677" y="193"/>
                    <a:pt x="630" y="167"/>
                  </a:cubicBezTo>
                  <a:cubicBezTo>
                    <a:pt x="600" y="150"/>
                    <a:pt x="565" y="139"/>
                    <a:pt x="541" y="115"/>
                  </a:cubicBezTo>
                  <a:cubicBezTo>
                    <a:pt x="534" y="108"/>
                    <a:pt x="509" y="94"/>
                    <a:pt x="519" y="93"/>
                  </a:cubicBezTo>
                  <a:cubicBezTo>
                    <a:pt x="546" y="90"/>
                    <a:pt x="600" y="108"/>
                    <a:pt x="600" y="108"/>
                  </a:cubicBezTo>
                  <a:cubicBezTo>
                    <a:pt x="639" y="135"/>
                    <a:pt x="620" y="120"/>
                    <a:pt x="593" y="108"/>
                  </a:cubicBezTo>
                  <a:cubicBezTo>
                    <a:pt x="455" y="45"/>
                    <a:pt x="646" y="139"/>
                    <a:pt x="467" y="49"/>
                  </a:cubicBezTo>
                  <a:cubicBezTo>
                    <a:pt x="458" y="44"/>
                    <a:pt x="487" y="53"/>
                    <a:pt x="497" y="56"/>
                  </a:cubicBezTo>
                  <a:cubicBezTo>
                    <a:pt x="507" y="58"/>
                    <a:pt x="516" y="61"/>
                    <a:pt x="526" y="64"/>
                  </a:cubicBezTo>
                  <a:cubicBezTo>
                    <a:pt x="412" y="100"/>
                    <a:pt x="0" y="91"/>
                    <a:pt x="378" y="71"/>
                  </a:cubicBezTo>
                  <a:cubicBezTo>
                    <a:pt x="390" y="69"/>
                    <a:pt x="421" y="75"/>
                    <a:pt x="415" y="64"/>
                  </a:cubicBezTo>
                  <a:cubicBezTo>
                    <a:pt x="404" y="45"/>
                    <a:pt x="356" y="34"/>
                    <a:pt x="356" y="34"/>
                  </a:cubicBezTo>
                  <a:cubicBezTo>
                    <a:pt x="363" y="32"/>
                    <a:pt x="378" y="35"/>
                    <a:pt x="378" y="27"/>
                  </a:cubicBezTo>
                  <a:cubicBezTo>
                    <a:pt x="378" y="18"/>
                    <a:pt x="364" y="16"/>
                    <a:pt x="356" y="12"/>
                  </a:cubicBezTo>
                  <a:cubicBezTo>
                    <a:pt x="349" y="9"/>
                    <a:pt x="328" y="0"/>
                    <a:pt x="334" y="5"/>
                  </a:cubicBezTo>
                  <a:cubicBezTo>
                    <a:pt x="352" y="20"/>
                    <a:pt x="380" y="21"/>
                    <a:pt x="401" y="27"/>
                  </a:cubicBezTo>
                  <a:cubicBezTo>
                    <a:pt x="457" y="43"/>
                    <a:pt x="508" y="59"/>
                    <a:pt x="563" y="79"/>
                  </a:cubicBezTo>
                  <a:cubicBezTo>
                    <a:pt x="553" y="81"/>
                    <a:pt x="544" y="87"/>
                    <a:pt x="534" y="86"/>
                  </a:cubicBezTo>
                  <a:cubicBezTo>
                    <a:pt x="511" y="84"/>
                    <a:pt x="445" y="65"/>
                    <a:pt x="467" y="71"/>
                  </a:cubicBezTo>
                  <a:cubicBezTo>
                    <a:pt x="516" y="84"/>
                    <a:pt x="550" y="111"/>
                    <a:pt x="593" y="138"/>
                  </a:cubicBezTo>
                  <a:cubicBezTo>
                    <a:pt x="600" y="147"/>
                    <a:pt x="628" y="189"/>
                    <a:pt x="644" y="189"/>
                  </a:cubicBezTo>
                  <a:cubicBezTo>
                    <a:pt x="653" y="189"/>
                    <a:pt x="637" y="172"/>
                    <a:pt x="630" y="167"/>
                  </a:cubicBezTo>
                  <a:cubicBezTo>
                    <a:pt x="617" y="157"/>
                    <a:pt x="585" y="162"/>
                    <a:pt x="585" y="145"/>
                  </a:cubicBezTo>
                  <a:cubicBezTo>
                    <a:pt x="585" y="129"/>
                    <a:pt x="615" y="154"/>
                    <a:pt x="630" y="160"/>
                  </a:cubicBezTo>
                  <a:cubicBezTo>
                    <a:pt x="645" y="166"/>
                    <a:pt x="660" y="173"/>
                    <a:pt x="674" y="182"/>
                  </a:cubicBezTo>
                  <a:cubicBezTo>
                    <a:pt x="697" y="198"/>
                    <a:pt x="740" y="234"/>
                    <a:pt x="740" y="234"/>
                  </a:cubicBezTo>
                  <a:cubicBezTo>
                    <a:pt x="789" y="329"/>
                    <a:pt x="722" y="210"/>
                    <a:pt x="777" y="278"/>
                  </a:cubicBezTo>
                  <a:cubicBezTo>
                    <a:pt x="782" y="284"/>
                    <a:pt x="790" y="306"/>
                    <a:pt x="785" y="300"/>
                  </a:cubicBezTo>
                  <a:cubicBezTo>
                    <a:pt x="764" y="275"/>
                    <a:pt x="717" y="213"/>
                    <a:pt x="696" y="182"/>
                  </a:cubicBezTo>
                  <a:cubicBezTo>
                    <a:pt x="738" y="169"/>
                    <a:pt x="731" y="165"/>
                    <a:pt x="785" y="219"/>
                  </a:cubicBezTo>
                  <a:cubicBezTo>
                    <a:pt x="795" y="229"/>
                    <a:pt x="805" y="238"/>
                    <a:pt x="814" y="248"/>
                  </a:cubicBezTo>
                  <a:cubicBezTo>
                    <a:pt x="820" y="255"/>
                    <a:pt x="838" y="271"/>
                    <a:pt x="829" y="271"/>
                  </a:cubicBezTo>
                  <a:cubicBezTo>
                    <a:pt x="816" y="271"/>
                    <a:pt x="809" y="256"/>
                    <a:pt x="799" y="248"/>
                  </a:cubicBezTo>
                  <a:cubicBezTo>
                    <a:pt x="780" y="219"/>
                    <a:pt x="753" y="211"/>
                    <a:pt x="733" y="182"/>
                  </a:cubicBezTo>
                  <a:cubicBezTo>
                    <a:pt x="731" y="175"/>
                    <a:pt x="720" y="164"/>
                    <a:pt x="726" y="160"/>
                  </a:cubicBezTo>
                  <a:cubicBezTo>
                    <a:pt x="734" y="154"/>
                    <a:pt x="746" y="163"/>
                    <a:pt x="755" y="167"/>
                  </a:cubicBezTo>
                  <a:cubicBezTo>
                    <a:pt x="758" y="168"/>
                    <a:pt x="846" y="226"/>
                    <a:pt x="770" y="182"/>
                  </a:cubicBezTo>
                  <a:cubicBezTo>
                    <a:pt x="762" y="177"/>
                    <a:pt x="756" y="171"/>
                    <a:pt x="748" y="167"/>
                  </a:cubicBezTo>
                  <a:cubicBezTo>
                    <a:pt x="736" y="161"/>
                    <a:pt x="723" y="157"/>
                    <a:pt x="711" y="152"/>
                  </a:cubicBezTo>
                  <a:cubicBezTo>
                    <a:pt x="704" y="145"/>
                    <a:pt x="687" y="140"/>
                    <a:pt x="689" y="130"/>
                  </a:cubicBezTo>
                  <a:cubicBezTo>
                    <a:pt x="696" y="102"/>
                    <a:pt x="817" y="167"/>
                    <a:pt x="748" y="145"/>
                  </a:cubicBezTo>
                  <a:cubicBezTo>
                    <a:pt x="715" y="122"/>
                    <a:pt x="668" y="108"/>
                    <a:pt x="630" y="93"/>
                  </a:cubicBezTo>
                  <a:cubicBezTo>
                    <a:pt x="615" y="87"/>
                    <a:pt x="585" y="79"/>
                    <a:pt x="585" y="79"/>
                  </a:cubicBezTo>
                  <a:cubicBezTo>
                    <a:pt x="535" y="84"/>
                    <a:pt x="492" y="88"/>
                    <a:pt x="445" y="101"/>
                  </a:cubicBezTo>
                  <a:cubicBezTo>
                    <a:pt x="398" y="99"/>
                    <a:pt x="116" y="102"/>
                    <a:pt x="342" y="64"/>
                  </a:cubicBezTo>
                  <a:cubicBezTo>
                    <a:pt x="349" y="61"/>
                    <a:pt x="364" y="64"/>
                    <a:pt x="364" y="56"/>
                  </a:cubicBezTo>
                  <a:cubicBezTo>
                    <a:pt x="364" y="47"/>
                    <a:pt x="351" y="42"/>
                    <a:pt x="342" y="42"/>
                  </a:cubicBezTo>
                  <a:cubicBezTo>
                    <a:pt x="305" y="40"/>
                    <a:pt x="268" y="47"/>
                    <a:pt x="231" y="49"/>
                  </a:cubicBezTo>
                  <a:cubicBezTo>
                    <a:pt x="99" y="70"/>
                    <a:pt x="75" y="73"/>
                    <a:pt x="356" y="64"/>
                  </a:cubicBezTo>
                  <a:cubicBezTo>
                    <a:pt x="529" y="78"/>
                    <a:pt x="407" y="80"/>
                    <a:pt x="349" y="86"/>
                  </a:cubicBezTo>
                  <a:cubicBezTo>
                    <a:pt x="434" y="130"/>
                    <a:pt x="302" y="64"/>
                    <a:pt x="430" y="115"/>
                  </a:cubicBezTo>
                  <a:cubicBezTo>
                    <a:pt x="478" y="134"/>
                    <a:pt x="520" y="170"/>
                    <a:pt x="570" y="182"/>
                  </a:cubicBezTo>
                  <a:cubicBezTo>
                    <a:pt x="725" y="260"/>
                    <a:pt x="562" y="171"/>
                    <a:pt x="718" y="278"/>
                  </a:cubicBezTo>
                  <a:cubicBezTo>
                    <a:pt x="743" y="295"/>
                    <a:pt x="785" y="337"/>
                    <a:pt x="785" y="337"/>
                  </a:cubicBezTo>
                  <a:cubicBezTo>
                    <a:pt x="799" y="381"/>
                    <a:pt x="790" y="351"/>
                    <a:pt x="807" y="426"/>
                  </a:cubicBezTo>
                  <a:cubicBezTo>
                    <a:pt x="812" y="449"/>
                    <a:pt x="835" y="464"/>
                    <a:pt x="844" y="485"/>
                  </a:cubicBezTo>
                  <a:cubicBezTo>
                    <a:pt x="854" y="509"/>
                    <a:pt x="858" y="535"/>
                    <a:pt x="866" y="559"/>
                  </a:cubicBezTo>
                  <a:cubicBezTo>
                    <a:pt x="874" y="654"/>
                    <a:pt x="879" y="692"/>
                    <a:pt x="881" y="802"/>
                  </a:cubicBezTo>
                  <a:cubicBezTo>
                    <a:pt x="886" y="1016"/>
                    <a:pt x="822" y="1186"/>
                    <a:pt x="910" y="1356"/>
                  </a:cubicBezTo>
                  <a:cubicBezTo>
                    <a:pt x="913" y="1349"/>
                    <a:pt x="916" y="1341"/>
                    <a:pt x="918" y="1334"/>
                  </a:cubicBezTo>
                  <a:cubicBezTo>
                    <a:pt x="921" y="1324"/>
                    <a:pt x="922" y="1294"/>
                    <a:pt x="925" y="1304"/>
                  </a:cubicBezTo>
                  <a:cubicBezTo>
                    <a:pt x="933" y="1328"/>
                    <a:pt x="928" y="1354"/>
                    <a:pt x="932" y="1378"/>
                  </a:cubicBezTo>
                  <a:cubicBezTo>
                    <a:pt x="933" y="1386"/>
                    <a:pt x="937" y="1393"/>
                    <a:pt x="940" y="1400"/>
                  </a:cubicBezTo>
                  <a:cubicBezTo>
                    <a:pt x="916" y="904"/>
                    <a:pt x="977" y="1649"/>
                    <a:pt x="918" y="1895"/>
                  </a:cubicBezTo>
                  <a:cubicBezTo>
                    <a:pt x="915" y="1885"/>
                    <a:pt x="920" y="1866"/>
                    <a:pt x="910" y="1866"/>
                  </a:cubicBezTo>
                  <a:cubicBezTo>
                    <a:pt x="900" y="1866"/>
                    <a:pt x="905" y="1885"/>
                    <a:pt x="903" y="1895"/>
                  </a:cubicBezTo>
                  <a:cubicBezTo>
                    <a:pt x="895" y="1935"/>
                    <a:pt x="880" y="1973"/>
                    <a:pt x="873" y="2013"/>
                  </a:cubicBezTo>
                  <a:cubicBezTo>
                    <a:pt x="870" y="2028"/>
                    <a:pt x="869" y="2043"/>
                    <a:pt x="866" y="2058"/>
                  </a:cubicBezTo>
                  <a:cubicBezTo>
                    <a:pt x="864" y="2066"/>
                    <a:pt x="858" y="2088"/>
                    <a:pt x="858" y="2080"/>
                  </a:cubicBezTo>
                  <a:cubicBezTo>
                    <a:pt x="858" y="2049"/>
                    <a:pt x="866" y="2043"/>
                    <a:pt x="881" y="2021"/>
                  </a:cubicBezTo>
                  <a:cubicBezTo>
                    <a:pt x="886" y="2006"/>
                    <a:pt x="896" y="1960"/>
                    <a:pt x="895" y="1976"/>
                  </a:cubicBezTo>
                  <a:cubicBezTo>
                    <a:pt x="890" y="2028"/>
                    <a:pt x="881" y="2131"/>
                    <a:pt x="881" y="2131"/>
                  </a:cubicBezTo>
                  <a:cubicBezTo>
                    <a:pt x="883" y="2168"/>
                    <a:pt x="882" y="2205"/>
                    <a:pt x="888" y="2242"/>
                  </a:cubicBezTo>
                  <a:cubicBezTo>
                    <a:pt x="889" y="2250"/>
                    <a:pt x="892" y="2227"/>
                    <a:pt x="895" y="2220"/>
                  </a:cubicBezTo>
                  <a:cubicBezTo>
                    <a:pt x="902" y="2207"/>
                    <a:pt x="910" y="2195"/>
                    <a:pt x="918" y="2183"/>
                  </a:cubicBezTo>
                  <a:cubicBezTo>
                    <a:pt x="934" y="2160"/>
                    <a:pt x="969" y="2117"/>
                    <a:pt x="969" y="2117"/>
                  </a:cubicBezTo>
                  <a:cubicBezTo>
                    <a:pt x="972" y="2107"/>
                    <a:pt x="967" y="2087"/>
                    <a:pt x="977" y="2087"/>
                  </a:cubicBezTo>
                  <a:cubicBezTo>
                    <a:pt x="988" y="2087"/>
                    <a:pt x="991" y="2106"/>
                    <a:pt x="991" y="2117"/>
                  </a:cubicBezTo>
                  <a:cubicBezTo>
                    <a:pt x="993" y="2213"/>
                    <a:pt x="984" y="2309"/>
                    <a:pt x="984" y="2405"/>
                  </a:cubicBezTo>
                  <a:cubicBezTo>
                    <a:pt x="984" y="2436"/>
                    <a:pt x="989" y="2341"/>
                    <a:pt x="1006" y="2316"/>
                  </a:cubicBezTo>
                  <a:cubicBezTo>
                    <a:pt x="1010" y="2300"/>
                    <a:pt x="1014" y="2274"/>
                    <a:pt x="1021" y="2257"/>
                  </a:cubicBezTo>
                  <a:cubicBezTo>
                    <a:pt x="1025" y="2247"/>
                    <a:pt x="1047" y="2227"/>
                    <a:pt x="1036" y="2227"/>
                  </a:cubicBezTo>
                  <a:cubicBezTo>
                    <a:pt x="1022" y="2227"/>
                    <a:pt x="1015" y="2246"/>
                    <a:pt x="1006" y="2257"/>
                  </a:cubicBezTo>
                  <a:cubicBezTo>
                    <a:pt x="978" y="2293"/>
                    <a:pt x="958" y="2337"/>
                    <a:pt x="932" y="2375"/>
                  </a:cubicBezTo>
                  <a:cubicBezTo>
                    <a:pt x="923" y="2347"/>
                    <a:pt x="930" y="2336"/>
                    <a:pt x="940" y="2309"/>
                  </a:cubicBezTo>
                  <a:cubicBezTo>
                    <a:pt x="942" y="2292"/>
                    <a:pt x="943" y="2274"/>
                    <a:pt x="947" y="2257"/>
                  </a:cubicBezTo>
                  <a:cubicBezTo>
                    <a:pt x="950" y="2244"/>
                    <a:pt x="956" y="2232"/>
                    <a:pt x="962" y="2220"/>
                  </a:cubicBezTo>
                  <a:cubicBezTo>
                    <a:pt x="965" y="2213"/>
                    <a:pt x="956" y="2234"/>
                    <a:pt x="954" y="2242"/>
                  </a:cubicBezTo>
                  <a:cubicBezTo>
                    <a:pt x="946" y="2274"/>
                    <a:pt x="934" y="2300"/>
                    <a:pt x="925" y="2331"/>
                  </a:cubicBezTo>
                  <a:cubicBezTo>
                    <a:pt x="917" y="2360"/>
                    <a:pt x="918" y="2372"/>
                    <a:pt x="918" y="234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97"/>
            <p:cNvSpPr/>
            <p:nvPr/>
          </p:nvSpPr>
          <p:spPr>
            <a:xfrm>
              <a:off x="1666800" y="627120"/>
              <a:ext cx="2700360" cy="4562280"/>
            </a:xfrm>
            <a:custGeom>
              <a:avLst/>
              <a:gdLst/>
              <a:ahLst/>
              <a:rect l="l" t="t" r="r" b="b"/>
              <a:pathLst>
                <a:path w="1701" h="2874">
                  <a:moveTo>
                    <a:pt x="412" y="761"/>
                  </a:moveTo>
                  <a:cubicBezTo>
                    <a:pt x="442" y="768"/>
                    <a:pt x="465" y="777"/>
                    <a:pt x="493" y="790"/>
                  </a:cubicBezTo>
                  <a:cubicBezTo>
                    <a:pt x="524" y="821"/>
                    <a:pt x="548" y="851"/>
                    <a:pt x="582" y="879"/>
                  </a:cubicBezTo>
                  <a:cubicBezTo>
                    <a:pt x="575" y="840"/>
                    <a:pt x="581" y="842"/>
                    <a:pt x="552" y="813"/>
                  </a:cubicBezTo>
                  <a:cubicBezTo>
                    <a:pt x="543" y="804"/>
                    <a:pt x="534" y="796"/>
                    <a:pt x="523" y="790"/>
                  </a:cubicBezTo>
                  <a:cubicBezTo>
                    <a:pt x="516" y="786"/>
                    <a:pt x="496" y="778"/>
                    <a:pt x="501" y="783"/>
                  </a:cubicBezTo>
                  <a:cubicBezTo>
                    <a:pt x="513" y="795"/>
                    <a:pt x="570" y="820"/>
                    <a:pt x="582" y="827"/>
                  </a:cubicBezTo>
                  <a:cubicBezTo>
                    <a:pt x="620" y="849"/>
                    <a:pt x="663" y="884"/>
                    <a:pt x="693" y="916"/>
                  </a:cubicBezTo>
                  <a:cubicBezTo>
                    <a:pt x="712" y="936"/>
                    <a:pt x="727" y="960"/>
                    <a:pt x="744" y="982"/>
                  </a:cubicBezTo>
                  <a:cubicBezTo>
                    <a:pt x="750" y="989"/>
                    <a:pt x="776" y="997"/>
                    <a:pt x="767" y="997"/>
                  </a:cubicBezTo>
                  <a:cubicBezTo>
                    <a:pt x="748" y="997"/>
                    <a:pt x="668" y="948"/>
                    <a:pt x="656" y="938"/>
                  </a:cubicBezTo>
                  <a:cubicBezTo>
                    <a:pt x="567" y="863"/>
                    <a:pt x="654" y="919"/>
                    <a:pt x="575" y="872"/>
                  </a:cubicBezTo>
                  <a:cubicBezTo>
                    <a:pt x="548" y="837"/>
                    <a:pt x="559" y="846"/>
                    <a:pt x="523" y="820"/>
                  </a:cubicBezTo>
                  <a:cubicBezTo>
                    <a:pt x="509" y="810"/>
                    <a:pt x="479" y="790"/>
                    <a:pt x="479" y="790"/>
                  </a:cubicBezTo>
                  <a:cubicBezTo>
                    <a:pt x="504" y="871"/>
                    <a:pt x="573" y="920"/>
                    <a:pt x="619" y="990"/>
                  </a:cubicBezTo>
                  <a:cubicBezTo>
                    <a:pt x="667" y="1063"/>
                    <a:pt x="632" y="1027"/>
                    <a:pt x="663" y="1086"/>
                  </a:cubicBezTo>
                  <a:cubicBezTo>
                    <a:pt x="667" y="1093"/>
                    <a:pt x="659" y="1071"/>
                    <a:pt x="656" y="1064"/>
                  </a:cubicBezTo>
                  <a:cubicBezTo>
                    <a:pt x="651" y="1052"/>
                    <a:pt x="646" y="1039"/>
                    <a:pt x="641" y="1027"/>
                  </a:cubicBezTo>
                  <a:cubicBezTo>
                    <a:pt x="630" y="998"/>
                    <a:pt x="626" y="967"/>
                    <a:pt x="612" y="938"/>
                  </a:cubicBezTo>
                  <a:cubicBezTo>
                    <a:pt x="608" y="930"/>
                    <a:pt x="593" y="924"/>
                    <a:pt x="597" y="916"/>
                  </a:cubicBezTo>
                  <a:cubicBezTo>
                    <a:pt x="600" y="909"/>
                    <a:pt x="612" y="921"/>
                    <a:pt x="619" y="923"/>
                  </a:cubicBezTo>
                  <a:cubicBezTo>
                    <a:pt x="663" y="986"/>
                    <a:pt x="676" y="1009"/>
                    <a:pt x="700" y="1078"/>
                  </a:cubicBezTo>
                  <a:cubicBezTo>
                    <a:pt x="703" y="1105"/>
                    <a:pt x="712" y="1133"/>
                    <a:pt x="708" y="1160"/>
                  </a:cubicBezTo>
                  <a:cubicBezTo>
                    <a:pt x="706" y="1173"/>
                    <a:pt x="699" y="1135"/>
                    <a:pt x="693" y="1123"/>
                  </a:cubicBezTo>
                  <a:cubicBezTo>
                    <a:pt x="674" y="1085"/>
                    <a:pt x="652" y="1046"/>
                    <a:pt x="626" y="1012"/>
                  </a:cubicBezTo>
                  <a:cubicBezTo>
                    <a:pt x="621" y="1000"/>
                    <a:pt x="617" y="987"/>
                    <a:pt x="612" y="975"/>
                  </a:cubicBezTo>
                  <a:cubicBezTo>
                    <a:pt x="608" y="965"/>
                    <a:pt x="601" y="955"/>
                    <a:pt x="597" y="945"/>
                  </a:cubicBezTo>
                  <a:cubicBezTo>
                    <a:pt x="593" y="936"/>
                    <a:pt x="580" y="920"/>
                    <a:pt x="589" y="916"/>
                  </a:cubicBezTo>
                  <a:cubicBezTo>
                    <a:pt x="604" y="910"/>
                    <a:pt x="619" y="926"/>
                    <a:pt x="634" y="931"/>
                  </a:cubicBezTo>
                  <a:cubicBezTo>
                    <a:pt x="731" y="1028"/>
                    <a:pt x="740" y="1073"/>
                    <a:pt x="781" y="1189"/>
                  </a:cubicBezTo>
                  <a:cubicBezTo>
                    <a:pt x="787" y="1207"/>
                    <a:pt x="797" y="1223"/>
                    <a:pt x="804" y="1241"/>
                  </a:cubicBezTo>
                  <a:cubicBezTo>
                    <a:pt x="810" y="1255"/>
                    <a:pt x="813" y="1270"/>
                    <a:pt x="818" y="1285"/>
                  </a:cubicBezTo>
                  <a:cubicBezTo>
                    <a:pt x="820" y="1292"/>
                    <a:pt x="831" y="1301"/>
                    <a:pt x="826" y="1307"/>
                  </a:cubicBezTo>
                  <a:cubicBezTo>
                    <a:pt x="821" y="1313"/>
                    <a:pt x="811" y="1302"/>
                    <a:pt x="804" y="1300"/>
                  </a:cubicBezTo>
                  <a:cubicBezTo>
                    <a:pt x="774" y="1239"/>
                    <a:pt x="809" y="1302"/>
                    <a:pt x="752" y="1233"/>
                  </a:cubicBezTo>
                  <a:cubicBezTo>
                    <a:pt x="720" y="1194"/>
                    <a:pt x="700" y="1146"/>
                    <a:pt x="678" y="1101"/>
                  </a:cubicBezTo>
                  <a:cubicBezTo>
                    <a:pt x="671" y="1086"/>
                    <a:pt x="663" y="1071"/>
                    <a:pt x="656" y="1056"/>
                  </a:cubicBezTo>
                  <a:cubicBezTo>
                    <a:pt x="651" y="1046"/>
                    <a:pt x="641" y="1027"/>
                    <a:pt x="641" y="1027"/>
                  </a:cubicBezTo>
                  <a:cubicBezTo>
                    <a:pt x="639" y="1015"/>
                    <a:pt x="621" y="990"/>
                    <a:pt x="634" y="990"/>
                  </a:cubicBezTo>
                  <a:cubicBezTo>
                    <a:pt x="650" y="990"/>
                    <a:pt x="655" y="1014"/>
                    <a:pt x="663" y="1027"/>
                  </a:cubicBezTo>
                  <a:cubicBezTo>
                    <a:pt x="675" y="1046"/>
                    <a:pt x="684" y="1066"/>
                    <a:pt x="693" y="1086"/>
                  </a:cubicBezTo>
                  <a:cubicBezTo>
                    <a:pt x="727" y="1157"/>
                    <a:pt x="764" y="1225"/>
                    <a:pt x="789" y="1300"/>
                  </a:cubicBezTo>
                  <a:cubicBezTo>
                    <a:pt x="797" y="1324"/>
                    <a:pt x="805" y="1349"/>
                    <a:pt x="811" y="1374"/>
                  </a:cubicBezTo>
                  <a:cubicBezTo>
                    <a:pt x="815" y="1388"/>
                    <a:pt x="815" y="1404"/>
                    <a:pt x="818" y="1418"/>
                  </a:cubicBezTo>
                  <a:cubicBezTo>
                    <a:pt x="820" y="1426"/>
                    <a:pt x="826" y="1448"/>
                    <a:pt x="826" y="1440"/>
                  </a:cubicBezTo>
                  <a:cubicBezTo>
                    <a:pt x="826" y="1407"/>
                    <a:pt x="806" y="1360"/>
                    <a:pt x="796" y="1329"/>
                  </a:cubicBezTo>
                  <a:cubicBezTo>
                    <a:pt x="789" y="1270"/>
                    <a:pt x="779" y="1210"/>
                    <a:pt x="767" y="1152"/>
                  </a:cubicBezTo>
                  <a:cubicBezTo>
                    <a:pt x="757" y="1104"/>
                    <a:pt x="752" y="1106"/>
                    <a:pt x="737" y="1064"/>
                  </a:cubicBezTo>
                  <a:cubicBezTo>
                    <a:pt x="734" y="1056"/>
                    <a:pt x="730" y="1033"/>
                    <a:pt x="730" y="1041"/>
                  </a:cubicBezTo>
                  <a:cubicBezTo>
                    <a:pt x="730" y="1087"/>
                    <a:pt x="754" y="1130"/>
                    <a:pt x="767" y="1174"/>
                  </a:cubicBezTo>
                  <a:cubicBezTo>
                    <a:pt x="789" y="1250"/>
                    <a:pt x="819" y="1320"/>
                    <a:pt x="840" y="1396"/>
                  </a:cubicBezTo>
                  <a:cubicBezTo>
                    <a:pt x="843" y="1423"/>
                    <a:pt x="845" y="1450"/>
                    <a:pt x="848" y="1477"/>
                  </a:cubicBezTo>
                  <a:cubicBezTo>
                    <a:pt x="850" y="1497"/>
                    <a:pt x="855" y="1556"/>
                    <a:pt x="855" y="1536"/>
                  </a:cubicBezTo>
                  <a:cubicBezTo>
                    <a:pt x="855" y="1504"/>
                    <a:pt x="853" y="1472"/>
                    <a:pt x="848" y="1440"/>
                  </a:cubicBezTo>
                  <a:cubicBezTo>
                    <a:pt x="846" y="1427"/>
                    <a:pt x="837" y="1416"/>
                    <a:pt x="833" y="1403"/>
                  </a:cubicBezTo>
                  <a:cubicBezTo>
                    <a:pt x="830" y="1394"/>
                    <a:pt x="823" y="1365"/>
                    <a:pt x="826" y="1374"/>
                  </a:cubicBezTo>
                  <a:cubicBezTo>
                    <a:pt x="844" y="1432"/>
                    <a:pt x="855" y="1492"/>
                    <a:pt x="870" y="1551"/>
                  </a:cubicBezTo>
                  <a:cubicBezTo>
                    <a:pt x="872" y="1571"/>
                    <a:pt x="875" y="1590"/>
                    <a:pt x="877" y="1610"/>
                  </a:cubicBezTo>
                  <a:cubicBezTo>
                    <a:pt x="880" y="1630"/>
                    <a:pt x="885" y="1689"/>
                    <a:pt x="885" y="1669"/>
                  </a:cubicBezTo>
                  <a:cubicBezTo>
                    <a:pt x="885" y="1615"/>
                    <a:pt x="880" y="1561"/>
                    <a:pt x="877" y="1507"/>
                  </a:cubicBezTo>
                  <a:cubicBezTo>
                    <a:pt x="875" y="1546"/>
                    <a:pt x="881" y="1928"/>
                    <a:pt x="848" y="2031"/>
                  </a:cubicBezTo>
                  <a:cubicBezTo>
                    <a:pt x="841" y="2102"/>
                    <a:pt x="830" y="2173"/>
                    <a:pt x="826" y="2245"/>
                  </a:cubicBezTo>
                  <a:cubicBezTo>
                    <a:pt x="825" y="2262"/>
                    <a:pt x="821" y="2284"/>
                    <a:pt x="833" y="2297"/>
                  </a:cubicBezTo>
                  <a:cubicBezTo>
                    <a:pt x="842" y="2306"/>
                    <a:pt x="837" y="2272"/>
                    <a:pt x="840" y="2260"/>
                  </a:cubicBezTo>
                  <a:cubicBezTo>
                    <a:pt x="854" y="2208"/>
                    <a:pt x="870" y="2157"/>
                    <a:pt x="885" y="2105"/>
                  </a:cubicBezTo>
                  <a:cubicBezTo>
                    <a:pt x="888" y="2093"/>
                    <a:pt x="889" y="2080"/>
                    <a:pt x="892" y="2068"/>
                  </a:cubicBezTo>
                  <a:cubicBezTo>
                    <a:pt x="894" y="2058"/>
                    <a:pt x="900" y="2028"/>
                    <a:pt x="900" y="2038"/>
                  </a:cubicBezTo>
                  <a:cubicBezTo>
                    <a:pt x="900" y="2071"/>
                    <a:pt x="885" y="2102"/>
                    <a:pt x="877" y="2134"/>
                  </a:cubicBezTo>
                  <a:cubicBezTo>
                    <a:pt x="863" y="2255"/>
                    <a:pt x="839" y="2381"/>
                    <a:pt x="796" y="2496"/>
                  </a:cubicBezTo>
                  <a:cubicBezTo>
                    <a:pt x="794" y="2511"/>
                    <a:pt x="792" y="2526"/>
                    <a:pt x="789" y="2541"/>
                  </a:cubicBezTo>
                  <a:cubicBezTo>
                    <a:pt x="787" y="2549"/>
                    <a:pt x="779" y="2571"/>
                    <a:pt x="781" y="2563"/>
                  </a:cubicBezTo>
                  <a:cubicBezTo>
                    <a:pt x="806" y="2469"/>
                    <a:pt x="839" y="2383"/>
                    <a:pt x="863" y="2289"/>
                  </a:cubicBezTo>
                  <a:cubicBezTo>
                    <a:pt x="873" y="2250"/>
                    <a:pt x="880" y="2210"/>
                    <a:pt x="892" y="2171"/>
                  </a:cubicBezTo>
                  <a:cubicBezTo>
                    <a:pt x="895" y="2161"/>
                    <a:pt x="909" y="2131"/>
                    <a:pt x="907" y="2142"/>
                  </a:cubicBezTo>
                  <a:cubicBezTo>
                    <a:pt x="897" y="2185"/>
                    <a:pt x="874" y="2224"/>
                    <a:pt x="863" y="2267"/>
                  </a:cubicBezTo>
                  <a:cubicBezTo>
                    <a:pt x="841" y="2354"/>
                    <a:pt x="857" y="2345"/>
                    <a:pt x="826" y="2430"/>
                  </a:cubicBezTo>
                  <a:cubicBezTo>
                    <a:pt x="801" y="2499"/>
                    <a:pt x="744" y="2574"/>
                    <a:pt x="744" y="2651"/>
                  </a:cubicBezTo>
                  <a:cubicBezTo>
                    <a:pt x="744" y="2661"/>
                    <a:pt x="750" y="2632"/>
                    <a:pt x="752" y="2622"/>
                  </a:cubicBezTo>
                  <a:cubicBezTo>
                    <a:pt x="758" y="2595"/>
                    <a:pt x="762" y="2568"/>
                    <a:pt x="767" y="2541"/>
                  </a:cubicBezTo>
                  <a:cubicBezTo>
                    <a:pt x="777" y="2485"/>
                    <a:pt x="803" y="2436"/>
                    <a:pt x="826" y="2385"/>
                  </a:cubicBezTo>
                  <a:cubicBezTo>
                    <a:pt x="831" y="2373"/>
                    <a:pt x="836" y="2361"/>
                    <a:pt x="840" y="2349"/>
                  </a:cubicBezTo>
                  <a:cubicBezTo>
                    <a:pt x="843" y="2341"/>
                    <a:pt x="848" y="2318"/>
                    <a:pt x="848" y="2326"/>
                  </a:cubicBezTo>
                  <a:cubicBezTo>
                    <a:pt x="848" y="2339"/>
                    <a:pt x="829" y="2384"/>
                    <a:pt x="826" y="2393"/>
                  </a:cubicBezTo>
                  <a:cubicBezTo>
                    <a:pt x="811" y="2436"/>
                    <a:pt x="805" y="2483"/>
                    <a:pt x="789" y="2526"/>
                  </a:cubicBezTo>
                  <a:cubicBezTo>
                    <a:pt x="775" y="2564"/>
                    <a:pt x="737" y="2637"/>
                    <a:pt x="737" y="2637"/>
                  </a:cubicBezTo>
                  <a:cubicBezTo>
                    <a:pt x="723" y="2711"/>
                    <a:pt x="742" y="2635"/>
                    <a:pt x="708" y="2710"/>
                  </a:cubicBezTo>
                  <a:cubicBezTo>
                    <a:pt x="704" y="2719"/>
                    <a:pt x="700" y="2750"/>
                    <a:pt x="700" y="2740"/>
                  </a:cubicBezTo>
                  <a:cubicBezTo>
                    <a:pt x="700" y="2702"/>
                    <a:pt x="735" y="2661"/>
                    <a:pt x="752" y="2629"/>
                  </a:cubicBezTo>
                  <a:cubicBezTo>
                    <a:pt x="759" y="2616"/>
                    <a:pt x="767" y="2605"/>
                    <a:pt x="774" y="2592"/>
                  </a:cubicBezTo>
                  <a:cubicBezTo>
                    <a:pt x="779" y="2583"/>
                    <a:pt x="783" y="2572"/>
                    <a:pt x="789" y="2563"/>
                  </a:cubicBezTo>
                  <a:cubicBezTo>
                    <a:pt x="791" y="2560"/>
                    <a:pt x="798" y="2552"/>
                    <a:pt x="796" y="2555"/>
                  </a:cubicBezTo>
                  <a:cubicBezTo>
                    <a:pt x="771" y="2598"/>
                    <a:pt x="740" y="2638"/>
                    <a:pt x="715" y="2681"/>
                  </a:cubicBezTo>
                  <a:cubicBezTo>
                    <a:pt x="684" y="2734"/>
                    <a:pt x="712" y="2687"/>
                    <a:pt x="693" y="2733"/>
                  </a:cubicBezTo>
                  <a:cubicBezTo>
                    <a:pt x="689" y="2743"/>
                    <a:pt x="678" y="2773"/>
                    <a:pt x="678" y="2762"/>
                  </a:cubicBezTo>
                  <a:cubicBezTo>
                    <a:pt x="678" y="2745"/>
                    <a:pt x="734" y="2669"/>
                    <a:pt x="744" y="2659"/>
                  </a:cubicBezTo>
                  <a:cubicBezTo>
                    <a:pt x="754" y="2649"/>
                    <a:pt x="731" y="2685"/>
                    <a:pt x="722" y="2696"/>
                  </a:cubicBezTo>
                  <a:cubicBezTo>
                    <a:pt x="701" y="2723"/>
                    <a:pt x="693" y="2747"/>
                    <a:pt x="678" y="2777"/>
                  </a:cubicBezTo>
                  <a:cubicBezTo>
                    <a:pt x="674" y="2785"/>
                    <a:pt x="655" y="2795"/>
                    <a:pt x="663" y="2799"/>
                  </a:cubicBezTo>
                  <a:cubicBezTo>
                    <a:pt x="673" y="2804"/>
                    <a:pt x="683" y="2789"/>
                    <a:pt x="693" y="2784"/>
                  </a:cubicBezTo>
                  <a:cubicBezTo>
                    <a:pt x="730" y="2730"/>
                    <a:pt x="730" y="2772"/>
                    <a:pt x="752" y="2799"/>
                  </a:cubicBezTo>
                  <a:cubicBezTo>
                    <a:pt x="758" y="2806"/>
                    <a:pt x="767" y="2809"/>
                    <a:pt x="774" y="2814"/>
                  </a:cubicBezTo>
                  <a:cubicBezTo>
                    <a:pt x="768" y="2786"/>
                    <a:pt x="759" y="2760"/>
                    <a:pt x="752" y="2733"/>
                  </a:cubicBezTo>
                  <a:cubicBezTo>
                    <a:pt x="749" y="2740"/>
                    <a:pt x="743" y="2747"/>
                    <a:pt x="744" y="2755"/>
                  </a:cubicBezTo>
                  <a:cubicBezTo>
                    <a:pt x="746" y="2766"/>
                    <a:pt x="787" y="2801"/>
                    <a:pt x="774" y="2814"/>
                  </a:cubicBezTo>
                  <a:cubicBezTo>
                    <a:pt x="765" y="2823"/>
                    <a:pt x="758" y="2795"/>
                    <a:pt x="752" y="2784"/>
                  </a:cubicBezTo>
                  <a:cubicBezTo>
                    <a:pt x="746" y="2772"/>
                    <a:pt x="742" y="2759"/>
                    <a:pt x="737" y="2747"/>
                  </a:cubicBezTo>
                  <a:cubicBezTo>
                    <a:pt x="735" y="2727"/>
                    <a:pt x="714" y="2700"/>
                    <a:pt x="730" y="2688"/>
                  </a:cubicBezTo>
                  <a:cubicBezTo>
                    <a:pt x="757" y="2667"/>
                    <a:pt x="794" y="2758"/>
                    <a:pt x="796" y="2762"/>
                  </a:cubicBezTo>
                  <a:cubicBezTo>
                    <a:pt x="799" y="2774"/>
                    <a:pt x="800" y="2787"/>
                    <a:pt x="804" y="2799"/>
                  </a:cubicBezTo>
                  <a:cubicBezTo>
                    <a:pt x="807" y="2809"/>
                    <a:pt x="816" y="2840"/>
                    <a:pt x="818" y="2829"/>
                  </a:cubicBezTo>
                  <a:cubicBezTo>
                    <a:pt x="822" y="2805"/>
                    <a:pt x="815" y="2780"/>
                    <a:pt x="811" y="2755"/>
                  </a:cubicBezTo>
                  <a:cubicBezTo>
                    <a:pt x="810" y="2747"/>
                    <a:pt x="796" y="2733"/>
                    <a:pt x="804" y="2733"/>
                  </a:cubicBezTo>
                  <a:cubicBezTo>
                    <a:pt x="814" y="2733"/>
                    <a:pt x="819" y="2748"/>
                    <a:pt x="826" y="2755"/>
                  </a:cubicBezTo>
                  <a:cubicBezTo>
                    <a:pt x="831" y="2777"/>
                    <a:pt x="834" y="2799"/>
                    <a:pt x="840" y="2821"/>
                  </a:cubicBezTo>
                  <a:cubicBezTo>
                    <a:pt x="842" y="2829"/>
                    <a:pt x="848" y="2851"/>
                    <a:pt x="848" y="2843"/>
                  </a:cubicBezTo>
                  <a:cubicBezTo>
                    <a:pt x="848" y="2775"/>
                    <a:pt x="801" y="2718"/>
                    <a:pt x="774" y="2659"/>
                  </a:cubicBezTo>
                  <a:cubicBezTo>
                    <a:pt x="766" y="2642"/>
                    <a:pt x="758" y="2625"/>
                    <a:pt x="752" y="2607"/>
                  </a:cubicBezTo>
                  <a:cubicBezTo>
                    <a:pt x="748" y="2597"/>
                    <a:pt x="734" y="2577"/>
                    <a:pt x="744" y="2577"/>
                  </a:cubicBezTo>
                  <a:cubicBezTo>
                    <a:pt x="760" y="2577"/>
                    <a:pt x="769" y="2597"/>
                    <a:pt x="781" y="2607"/>
                  </a:cubicBezTo>
                  <a:cubicBezTo>
                    <a:pt x="789" y="2624"/>
                    <a:pt x="796" y="2642"/>
                    <a:pt x="804" y="2659"/>
                  </a:cubicBezTo>
                  <a:cubicBezTo>
                    <a:pt x="818" y="2689"/>
                    <a:pt x="848" y="2747"/>
                    <a:pt x="848" y="2747"/>
                  </a:cubicBezTo>
                  <a:cubicBezTo>
                    <a:pt x="850" y="2759"/>
                    <a:pt x="855" y="2797"/>
                    <a:pt x="855" y="2784"/>
                  </a:cubicBezTo>
                  <a:cubicBezTo>
                    <a:pt x="855" y="2764"/>
                    <a:pt x="852" y="2744"/>
                    <a:pt x="848" y="2725"/>
                  </a:cubicBezTo>
                  <a:cubicBezTo>
                    <a:pt x="840" y="2682"/>
                    <a:pt x="821" y="2642"/>
                    <a:pt x="811" y="2600"/>
                  </a:cubicBezTo>
                  <a:cubicBezTo>
                    <a:pt x="816" y="2592"/>
                    <a:pt x="818" y="2572"/>
                    <a:pt x="826" y="2577"/>
                  </a:cubicBezTo>
                  <a:cubicBezTo>
                    <a:pt x="840" y="2586"/>
                    <a:pt x="840" y="2608"/>
                    <a:pt x="848" y="2622"/>
                  </a:cubicBezTo>
                  <a:cubicBezTo>
                    <a:pt x="857" y="2637"/>
                    <a:pt x="867" y="2651"/>
                    <a:pt x="877" y="2666"/>
                  </a:cubicBezTo>
                  <a:cubicBezTo>
                    <a:pt x="880" y="2683"/>
                    <a:pt x="885" y="2736"/>
                    <a:pt x="885" y="2718"/>
                  </a:cubicBezTo>
                  <a:cubicBezTo>
                    <a:pt x="885" y="2684"/>
                    <a:pt x="873" y="2619"/>
                    <a:pt x="863" y="2585"/>
                  </a:cubicBezTo>
                  <a:cubicBezTo>
                    <a:pt x="860" y="2574"/>
                    <a:pt x="852" y="2565"/>
                    <a:pt x="848" y="2555"/>
                  </a:cubicBezTo>
                  <a:cubicBezTo>
                    <a:pt x="844" y="2546"/>
                    <a:pt x="831" y="2521"/>
                    <a:pt x="840" y="2526"/>
                  </a:cubicBezTo>
                  <a:cubicBezTo>
                    <a:pt x="853" y="2533"/>
                    <a:pt x="856" y="2550"/>
                    <a:pt x="863" y="2563"/>
                  </a:cubicBezTo>
                  <a:cubicBezTo>
                    <a:pt x="883" y="2599"/>
                    <a:pt x="896" y="2636"/>
                    <a:pt x="914" y="2673"/>
                  </a:cubicBezTo>
                  <a:cubicBezTo>
                    <a:pt x="907" y="2614"/>
                    <a:pt x="891" y="2547"/>
                    <a:pt x="848" y="2504"/>
                  </a:cubicBezTo>
                  <a:cubicBezTo>
                    <a:pt x="845" y="2496"/>
                    <a:pt x="833" y="2477"/>
                    <a:pt x="840" y="2481"/>
                  </a:cubicBezTo>
                  <a:cubicBezTo>
                    <a:pt x="880" y="2500"/>
                    <a:pt x="909" y="2581"/>
                    <a:pt x="922" y="2607"/>
                  </a:cubicBezTo>
                  <a:cubicBezTo>
                    <a:pt x="929" y="2621"/>
                    <a:pt x="931" y="2636"/>
                    <a:pt x="936" y="2651"/>
                  </a:cubicBezTo>
                  <a:cubicBezTo>
                    <a:pt x="938" y="2658"/>
                    <a:pt x="945" y="2681"/>
                    <a:pt x="944" y="2673"/>
                  </a:cubicBezTo>
                  <a:cubicBezTo>
                    <a:pt x="936" y="2614"/>
                    <a:pt x="919" y="2566"/>
                    <a:pt x="885" y="2518"/>
                  </a:cubicBezTo>
                  <a:cubicBezTo>
                    <a:pt x="876" y="2505"/>
                    <a:pt x="864" y="2494"/>
                    <a:pt x="855" y="2481"/>
                  </a:cubicBezTo>
                  <a:cubicBezTo>
                    <a:pt x="849" y="2472"/>
                    <a:pt x="830" y="2455"/>
                    <a:pt x="840" y="2452"/>
                  </a:cubicBezTo>
                  <a:cubicBezTo>
                    <a:pt x="854" y="2448"/>
                    <a:pt x="867" y="2464"/>
                    <a:pt x="877" y="2474"/>
                  </a:cubicBezTo>
                  <a:cubicBezTo>
                    <a:pt x="929" y="2526"/>
                    <a:pt x="950" y="2566"/>
                    <a:pt x="988" y="2622"/>
                  </a:cubicBezTo>
                  <a:cubicBezTo>
                    <a:pt x="976" y="2558"/>
                    <a:pt x="955" y="2508"/>
                    <a:pt x="922" y="2452"/>
                  </a:cubicBezTo>
                  <a:cubicBezTo>
                    <a:pt x="919" y="2442"/>
                    <a:pt x="904" y="2422"/>
                    <a:pt x="914" y="2422"/>
                  </a:cubicBezTo>
                  <a:cubicBezTo>
                    <a:pt x="928" y="2422"/>
                    <a:pt x="934" y="2443"/>
                    <a:pt x="944" y="2452"/>
                  </a:cubicBezTo>
                  <a:cubicBezTo>
                    <a:pt x="991" y="2495"/>
                    <a:pt x="987" y="2481"/>
                    <a:pt x="1025" y="2533"/>
                  </a:cubicBezTo>
                  <a:cubicBezTo>
                    <a:pt x="1033" y="2545"/>
                    <a:pt x="1039" y="2558"/>
                    <a:pt x="1047" y="2570"/>
                  </a:cubicBezTo>
                  <a:cubicBezTo>
                    <a:pt x="1052" y="2578"/>
                    <a:pt x="1066" y="2600"/>
                    <a:pt x="1062" y="2592"/>
                  </a:cubicBezTo>
                  <a:cubicBezTo>
                    <a:pt x="1026" y="2527"/>
                    <a:pt x="985" y="2461"/>
                    <a:pt x="944" y="2400"/>
                  </a:cubicBezTo>
                  <a:cubicBezTo>
                    <a:pt x="925" y="2372"/>
                    <a:pt x="913" y="2368"/>
                    <a:pt x="900" y="2341"/>
                  </a:cubicBezTo>
                  <a:cubicBezTo>
                    <a:pt x="897" y="2334"/>
                    <a:pt x="890" y="2311"/>
                    <a:pt x="892" y="2319"/>
                  </a:cubicBezTo>
                  <a:cubicBezTo>
                    <a:pt x="913" y="2407"/>
                    <a:pt x="956" y="2487"/>
                    <a:pt x="973" y="2577"/>
                  </a:cubicBezTo>
                  <a:cubicBezTo>
                    <a:pt x="971" y="2589"/>
                    <a:pt x="977" y="2620"/>
                    <a:pt x="966" y="2614"/>
                  </a:cubicBezTo>
                  <a:cubicBezTo>
                    <a:pt x="939" y="2599"/>
                    <a:pt x="907" y="2541"/>
                    <a:pt x="907" y="2541"/>
                  </a:cubicBezTo>
                  <a:cubicBezTo>
                    <a:pt x="886" y="2479"/>
                    <a:pt x="862" y="2415"/>
                    <a:pt x="833" y="2356"/>
                  </a:cubicBezTo>
                  <a:cubicBezTo>
                    <a:pt x="831" y="2341"/>
                    <a:pt x="837" y="2323"/>
                    <a:pt x="826" y="2312"/>
                  </a:cubicBezTo>
                  <a:cubicBezTo>
                    <a:pt x="819" y="2305"/>
                    <a:pt x="818" y="2331"/>
                    <a:pt x="818" y="2341"/>
                  </a:cubicBezTo>
                  <a:cubicBezTo>
                    <a:pt x="818" y="2393"/>
                    <a:pt x="825" y="2427"/>
                    <a:pt x="840" y="2474"/>
                  </a:cubicBezTo>
                  <a:cubicBezTo>
                    <a:pt x="847" y="2497"/>
                    <a:pt x="863" y="2541"/>
                    <a:pt x="863" y="2541"/>
                  </a:cubicBezTo>
                  <a:cubicBezTo>
                    <a:pt x="902" y="2439"/>
                    <a:pt x="907" y="2331"/>
                    <a:pt x="922" y="2223"/>
                  </a:cubicBezTo>
                  <a:cubicBezTo>
                    <a:pt x="884" y="2118"/>
                    <a:pt x="887" y="2468"/>
                    <a:pt x="885" y="2489"/>
                  </a:cubicBezTo>
                  <a:cubicBezTo>
                    <a:pt x="884" y="2497"/>
                    <a:pt x="880" y="2504"/>
                    <a:pt x="877" y="2511"/>
                  </a:cubicBezTo>
                  <a:cubicBezTo>
                    <a:pt x="875" y="2363"/>
                    <a:pt x="878" y="2215"/>
                    <a:pt x="870" y="2068"/>
                  </a:cubicBezTo>
                  <a:cubicBezTo>
                    <a:pt x="869" y="2050"/>
                    <a:pt x="858" y="2102"/>
                    <a:pt x="855" y="2120"/>
                  </a:cubicBezTo>
                  <a:cubicBezTo>
                    <a:pt x="846" y="2179"/>
                    <a:pt x="833" y="2297"/>
                    <a:pt x="833" y="2297"/>
                  </a:cubicBezTo>
                  <a:cubicBezTo>
                    <a:pt x="835" y="2314"/>
                    <a:pt x="826" y="2339"/>
                    <a:pt x="840" y="2349"/>
                  </a:cubicBezTo>
                  <a:cubicBezTo>
                    <a:pt x="851" y="2356"/>
                    <a:pt x="852" y="2325"/>
                    <a:pt x="855" y="2312"/>
                  </a:cubicBezTo>
                  <a:cubicBezTo>
                    <a:pt x="860" y="2290"/>
                    <a:pt x="857" y="2267"/>
                    <a:pt x="863" y="2245"/>
                  </a:cubicBezTo>
                  <a:cubicBezTo>
                    <a:pt x="876" y="2195"/>
                    <a:pt x="896" y="2146"/>
                    <a:pt x="914" y="2097"/>
                  </a:cubicBezTo>
                  <a:cubicBezTo>
                    <a:pt x="925" y="2067"/>
                    <a:pt x="951" y="2009"/>
                    <a:pt x="951" y="2009"/>
                  </a:cubicBezTo>
                  <a:cubicBezTo>
                    <a:pt x="942" y="2139"/>
                    <a:pt x="937" y="2282"/>
                    <a:pt x="907" y="2408"/>
                  </a:cubicBezTo>
                  <a:cubicBezTo>
                    <a:pt x="914" y="2344"/>
                    <a:pt x="920" y="2280"/>
                    <a:pt x="929" y="2216"/>
                  </a:cubicBezTo>
                  <a:cubicBezTo>
                    <a:pt x="937" y="2158"/>
                    <a:pt x="966" y="2097"/>
                    <a:pt x="966" y="2038"/>
                  </a:cubicBezTo>
                  <a:cubicBezTo>
                    <a:pt x="966" y="2028"/>
                    <a:pt x="961" y="2058"/>
                    <a:pt x="959" y="2068"/>
                  </a:cubicBezTo>
                  <a:cubicBezTo>
                    <a:pt x="952" y="2172"/>
                    <a:pt x="941" y="2255"/>
                    <a:pt x="959" y="2363"/>
                  </a:cubicBezTo>
                  <a:cubicBezTo>
                    <a:pt x="962" y="2380"/>
                    <a:pt x="969" y="2329"/>
                    <a:pt x="973" y="2312"/>
                  </a:cubicBezTo>
                  <a:cubicBezTo>
                    <a:pt x="984" y="2264"/>
                    <a:pt x="989" y="2213"/>
                    <a:pt x="996" y="2164"/>
                  </a:cubicBezTo>
                  <a:cubicBezTo>
                    <a:pt x="993" y="2112"/>
                    <a:pt x="1004" y="2058"/>
                    <a:pt x="988" y="2009"/>
                  </a:cubicBezTo>
                  <a:cubicBezTo>
                    <a:pt x="982" y="1992"/>
                    <a:pt x="965" y="2037"/>
                    <a:pt x="959" y="2053"/>
                  </a:cubicBezTo>
                  <a:cubicBezTo>
                    <a:pt x="953" y="2069"/>
                    <a:pt x="956" y="2088"/>
                    <a:pt x="951" y="2105"/>
                  </a:cubicBezTo>
                  <a:cubicBezTo>
                    <a:pt x="933" y="2171"/>
                    <a:pt x="918" y="2266"/>
                    <a:pt x="877" y="2319"/>
                  </a:cubicBezTo>
                  <a:cubicBezTo>
                    <a:pt x="875" y="2329"/>
                    <a:pt x="880" y="2346"/>
                    <a:pt x="870" y="2349"/>
                  </a:cubicBezTo>
                  <a:cubicBezTo>
                    <a:pt x="861" y="2352"/>
                    <a:pt x="859" y="2334"/>
                    <a:pt x="855" y="2326"/>
                  </a:cubicBezTo>
                  <a:cubicBezTo>
                    <a:pt x="851" y="2317"/>
                    <a:pt x="850" y="2307"/>
                    <a:pt x="848" y="2297"/>
                  </a:cubicBezTo>
                  <a:cubicBezTo>
                    <a:pt x="850" y="2189"/>
                    <a:pt x="855" y="2080"/>
                    <a:pt x="855" y="1972"/>
                  </a:cubicBezTo>
                  <a:cubicBezTo>
                    <a:pt x="855" y="1933"/>
                    <a:pt x="844" y="2051"/>
                    <a:pt x="848" y="2090"/>
                  </a:cubicBezTo>
                  <a:cubicBezTo>
                    <a:pt x="850" y="2105"/>
                    <a:pt x="858" y="2061"/>
                    <a:pt x="863" y="2046"/>
                  </a:cubicBezTo>
                  <a:cubicBezTo>
                    <a:pt x="871" y="1981"/>
                    <a:pt x="884" y="1918"/>
                    <a:pt x="900" y="1854"/>
                  </a:cubicBezTo>
                  <a:cubicBezTo>
                    <a:pt x="902" y="1834"/>
                    <a:pt x="902" y="1814"/>
                    <a:pt x="907" y="1795"/>
                  </a:cubicBezTo>
                  <a:cubicBezTo>
                    <a:pt x="909" y="1786"/>
                    <a:pt x="907" y="1814"/>
                    <a:pt x="907" y="1824"/>
                  </a:cubicBezTo>
                  <a:cubicBezTo>
                    <a:pt x="912" y="1989"/>
                    <a:pt x="917" y="2154"/>
                    <a:pt x="922" y="2319"/>
                  </a:cubicBezTo>
                  <a:cubicBezTo>
                    <a:pt x="960" y="2198"/>
                    <a:pt x="939" y="2063"/>
                    <a:pt x="981" y="1942"/>
                  </a:cubicBezTo>
                  <a:cubicBezTo>
                    <a:pt x="948" y="2189"/>
                    <a:pt x="883" y="2433"/>
                    <a:pt x="796" y="2666"/>
                  </a:cubicBezTo>
                  <a:cubicBezTo>
                    <a:pt x="792" y="2678"/>
                    <a:pt x="800" y="2641"/>
                    <a:pt x="804" y="2629"/>
                  </a:cubicBezTo>
                  <a:cubicBezTo>
                    <a:pt x="812" y="2606"/>
                    <a:pt x="824" y="2585"/>
                    <a:pt x="833" y="2563"/>
                  </a:cubicBezTo>
                  <a:cubicBezTo>
                    <a:pt x="841" y="2514"/>
                    <a:pt x="864" y="2478"/>
                    <a:pt x="892" y="2437"/>
                  </a:cubicBezTo>
                  <a:cubicBezTo>
                    <a:pt x="859" y="2569"/>
                    <a:pt x="804" y="2680"/>
                    <a:pt x="744" y="2799"/>
                  </a:cubicBezTo>
                  <a:cubicBezTo>
                    <a:pt x="740" y="2807"/>
                    <a:pt x="759" y="2777"/>
                    <a:pt x="759" y="2777"/>
                  </a:cubicBezTo>
                  <a:cubicBezTo>
                    <a:pt x="789" y="2674"/>
                    <a:pt x="849" y="2608"/>
                    <a:pt x="914" y="2526"/>
                  </a:cubicBezTo>
                  <a:cubicBezTo>
                    <a:pt x="903" y="2605"/>
                    <a:pt x="875" y="2673"/>
                    <a:pt x="848" y="2747"/>
                  </a:cubicBezTo>
                  <a:cubicBezTo>
                    <a:pt x="834" y="2786"/>
                    <a:pt x="834" y="2806"/>
                    <a:pt x="818" y="2843"/>
                  </a:cubicBezTo>
                  <a:cubicBezTo>
                    <a:pt x="815" y="2851"/>
                    <a:pt x="804" y="2874"/>
                    <a:pt x="804" y="2865"/>
                  </a:cubicBezTo>
                  <a:cubicBezTo>
                    <a:pt x="804" y="2829"/>
                    <a:pt x="881" y="2683"/>
                    <a:pt x="885" y="2673"/>
                  </a:cubicBezTo>
                  <a:cubicBezTo>
                    <a:pt x="895" y="2649"/>
                    <a:pt x="929" y="2606"/>
                    <a:pt x="885" y="2622"/>
                  </a:cubicBezTo>
                  <a:cubicBezTo>
                    <a:pt x="861" y="2663"/>
                    <a:pt x="829" y="2699"/>
                    <a:pt x="796" y="2733"/>
                  </a:cubicBezTo>
                  <a:cubicBezTo>
                    <a:pt x="822" y="2592"/>
                    <a:pt x="802" y="2677"/>
                    <a:pt x="870" y="2481"/>
                  </a:cubicBezTo>
                  <a:cubicBezTo>
                    <a:pt x="903" y="2387"/>
                    <a:pt x="951" y="2193"/>
                    <a:pt x="951" y="2193"/>
                  </a:cubicBezTo>
                  <a:cubicBezTo>
                    <a:pt x="954" y="2159"/>
                    <a:pt x="959" y="2124"/>
                    <a:pt x="959" y="2090"/>
                  </a:cubicBezTo>
                  <a:cubicBezTo>
                    <a:pt x="959" y="2082"/>
                    <a:pt x="957" y="2117"/>
                    <a:pt x="951" y="2112"/>
                  </a:cubicBezTo>
                  <a:cubicBezTo>
                    <a:pt x="940" y="2101"/>
                    <a:pt x="941" y="2083"/>
                    <a:pt x="936" y="2068"/>
                  </a:cubicBezTo>
                  <a:cubicBezTo>
                    <a:pt x="931" y="1988"/>
                    <a:pt x="947" y="1480"/>
                    <a:pt x="914" y="1721"/>
                  </a:cubicBezTo>
                  <a:cubicBezTo>
                    <a:pt x="938" y="1825"/>
                    <a:pt x="934" y="1888"/>
                    <a:pt x="929" y="2001"/>
                  </a:cubicBezTo>
                  <a:cubicBezTo>
                    <a:pt x="915" y="1928"/>
                    <a:pt x="913" y="1924"/>
                    <a:pt x="907" y="1854"/>
                  </a:cubicBezTo>
                  <a:cubicBezTo>
                    <a:pt x="904" y="1817"/>
                    <a:pt x="897" y="1706"/>
                    <a:pt x="900" y="1743"/>
                  </a:cubicBezTo>
                  <a:cubicBezTo>
                    <a:pt x="906" y="1805"/>
                    <a:pt x="908" y="1866"/>
                    <a:pt x="914" y="1928"/>
                  </a:cubicBezTo>
                  <a:cubicBezTo>
                    <a:pt x="916" y="1945"/>
                    <a:pt x="927" y="1995"/>
                    <a:pt x="922" y="1979"/>
                  </a:cubicBezTo>
                  <a:cubicBezTo>
                    <a:pt x="910" y="1940"/>
                    <a:pt x="906" y="1894"/>
                    <a:pt x="900" y="1854"/>
                  </a:cubicBezTo>
                  <a:cubicBezTo>
                    <a:pt x="897" y="1837"/>
                    <a:pt x="895" y="1819"/>
                    <a:pt x="892" y="1802"/>
                  </a:cubicBezTo>
                  <a:cubicBezTo>
                    <a:pt x="890" y="1790"/>
                    <a:pt x="876" y="1756"/>
                    <a:pt x="885" y="1765"/>
                  </a:cubicBezTo>
                  <a:cubicBezTo>
                    <a:pt x="905" y="1785"/>
                    <a:pt x="918" y="1812"/>
                    <a:pt x="929" y="1839"/>
                  </a:cubicBezTo>
                  <a:cubicBezTo>
                    <a:pt x="934" y="1851"/>
                    <a:pt x="938" y="1864"/>
                    <a:pt x="944" y="1876"/>
                  </a:cubicBezTo>
                  <a:cubicBezTo>
                    <a:pt x="949" y="1886"/>
                    <a:pt x="963" y="1915"/>
                    <a:pt x="959" y="1905"/>
                  </a:cubicBezTo>
                  <a:cubicBezTo>
                    <a:pt x="945" y="1873"/>
                    <a:pt x="936" y="1836"/>
                    <a:pt x="914" y="1809"/>
                  </a:cubicBezTo>
                  <a:cubicBezTo>
                    <a:pt x="892" y="1782"/>
                    <a:pt x="868" y="1757"/>
                    <a:pt x="848" y="1728"/>
                  </a:cubicBezTo>
                  <a:cubicBezTo>
                    <a:pt x="843" y="1721"/>
                    <a:pt x="825" y="1703"/>
                    <a:pt x="833" y="1706"/>
                  </a:cubicBezTo>
                  <a:cubicBezTo>
                    <a:pt x="880" y="1722"/>
                    <a:pt x="909" y="1758"/>
                    <a:pt x="936" y="1795"/>
                  </a:cubicBezTo>
                  <a:cubicBezTo>
                    <a:pt x="926" y="1764"/>
                    <a:pt x="933" y="1779"/>
                    <a:pt x="914" y="1750"/>
                  </a:cubicBezTo>
                  <a:cubicBezTo>
                    <a:pt x="903" y="1715"/>
                    <a:pt x="858" y="1666"/>
                    <a:pt x="922" y="1713"/>
                  </a:cubicBezTo>
                  <a:cubicBezTo>
                    <a:pt x="927" y="1723"/>
                    <a:pt x="932" y="1733"/>
                    <a:pt x="936" y="1743"/>
                  </a:cubicBezTo>
                  <a:cubicBezTo>
                    <a:pt x="939" y="1750"/>
                    <a:pt x="944" y="1773"/>
                    <a:pt x="944" y="1765"/>
                  </a:cubicBezTo>
                  <a:cubicBezTo>
                    <a:pt x="944" y="1717"/>
                    <a:pt x="899" y="1685"/>
                    <a:pt x="877" y="1647"/>
                  </a:cubicBezTo>
                  <a:cubicBezTo>
                    <a:pt x="869" y="1633"/>
                    <a:pt x="863" y="1617"/>
                    <a:pt x="855" y="1603"/>
                  </a:cubicBezTo>
                  <a:cubicBezTo>
                    <a:pt x="851" y="1595"/>
                    <a:pt x="831" y="1581"/>
                    <a:pt x="840" y="1581"/>
                  </a:cubicBezTo>
                  <a:cubicBezTo>
                    <a:pt x="857" y="1581"/>
                    <a:pt x="870" y="1596"/>
                    <a:pt x="885" y="1603"/>
                  </a:cubicBezTo>
                  <a:cubicBezTo>
                    <a:pt x="889" y="1608"/>
                    <a:pt x="922" y="1649"/>
                    <a:pt x="929" y="1662"/>
                  </a:cubicBezTo>
                  <a:cubicBezTo>
                    <a:pt x="935" y="1674"/>
                    <a:pt x="944" y="1712"/>
                    <a:pt x="944" y="1699"/>
                  </a:cubicBezTo>
                  <a:cubicBezTo>
                    <a:pt x="944" y="1632"/>
                    <a:pt x="881" y="1576"/>
                    <a:pt x="848" y="1521"/>
                  </a:cubicBezTo>
                  <a:cubicBezTo>
                    <a:pt x="845" y="1511"/>
                    <a:pt x="834" y="1500"/>
                    <a:pt x="840" y="1492"/>
                  </a:cubicBezTo>
                  <a:cubicBezTo>
                    <a:pt x="845" y="1485"/>
                    <a:pt x="857" y="1494"/>
                    <a:pt x="863" y="1499"/>
                  </a:cubicBezTo>
                  <a:cubicBezTo>
                    <a:pt x="885" y="1517"/>
                    <a:pt x="918" y="1564"/>
                    <a:pt x="936" y="1588"/>
                  </a:cubicBezTo>
                  <a:cubicBezTo>
                    <a:pt x="939" y="1595"/>
                    <a:pt x="937" y="1613"/>
                    <a:pt x="944" y="1610"/>
                  </a:cubicBezTo>
                  <a:cubicBezTo>
                    <a:pt x="953" y="1606"/>
                    <a:pt x="954" y="1590"/>
                    <a:pt x="951" y="1581"/>
                  </a:cubicBezTo>
                  <a:cubicBezTo>
                    <a:pt x="929" y="1511"/>
                    <a:pt x="884" y="1466"/>
                    <a:pt x="840" y="1411"/>
                  </a:cubicBezTo>
                  <a:cubicBezTo>
                    <a:pt x="833" y="1403"/>
                    <a:pt x="828" y="1389"/>
                    <a:pt x="818" y="1389"/>
                  </a:cubicBezTo>
                  <a:cubicBezTo>
                    <a:pt x="809" y="1389"/>
                    <a:pt x="828" y="1404"/>
                    <a:pt x="833" y="1411"/>
                  </a:cubicBezTo>
                  <a:cubicBezTo>
                    <a:pt x="843" y="1424"/>
                    <a:pt x="855" y="1434"/>
                    <a:pt x="863" y="1448"/>
                  </a:cubicBezTo>
                  <a:cubicBezTo>
                    <a:pt x="891" y="1496"/>
                    <a:pt x="908" y="1539"/>
                    <a:pt x="929" y="1588"/>
                  </a:cubicBezTo>
                  <a:cubicBezTo>
                    <a:pt x="931" y="1600"/>
                    <a:pt x="933" y="1613"/>
                    <a:pt x="936" y="1625"/>
                  </a:cubicBezTo>
                  <a:cubicBezTo>
                    <a:pt x="938" y="1633"/>
                    <a:pt x="944" y="1655"/>
                    <a:pt x="944" y="1647"/>
                  </a:cubicBezTo>
                  <a:cubicBezTo>
                    <a:pt x="944" y="1627"/>
                    <a:pt x="939" y="1608"/>
                    <a:pt x="936" y="1588"/>
                  </a:cubicBezTo>
                  <a:cubicBezTo>
                    <a:pt x="934" y="1568"/>
                    <a:pt x="929" y="1509"/>
                    <a:pt x="929" y="1529"/>
                  </a:cubicBezTo>
                  <a:cubicBezTo>
                    <a:pt x="929" y="1581"/>
                    <a:pt x="931" y="1582"/>
                    <a:pt x="944" y="1617"/>
                  </a:cubicBezTo>
                  <a:cubicBezTo>
                    <a:pt x="965" y="1754"/>
                    <a:pt x="924" y="1899"/>
                    <a:pt x="966" y="2031"/>
                  </a:cubicBezTo>
                  <a:cubicBezTo>
                    <a:pt x="994" y="1943"/>
                    <a:pt x="973" y="2017"/>
                    <a:pt x="966" y="1802"/>
                  </a:cubicBezTo>
                  <a:cubicBezTo>
                    <a:pt x="962" y="1669"/>
                    <a:pt x="962" y="1537"/>
                    <a:pt x="922" y="1411"/>
                  </a:cubicBezTo>
                  <a:cubicBezTo>
                    <a:pt x="919" y="1418"/>
                    <a:pt x="919" y="1439"/>
                    <a:pt x="914" y="1433"/>
                  </a:cubicBezTo>
                  <a:cubicBezTo>
                    <a:pt x="881" y="1393"/>
                    <a:pt x="880" y="1322"/>
                    <a:pt x="848" y="1278"/>
                  </a:cubicBezTo>
                  <a:cubicBezTo>
                    <a:pt x="825" y="1247"/>
                    <a:pt x="751" y="1158"/>
                    <a:pt x="774" y="1189"/>
                  </a:cubicBezTo>
                  <a:cubicBezTo>
                    <a:pt x="808" y="1236"/>
                    <a:pt x="834" y="1279"/>
                    <a:pt x="863" y="1329"/>
                  </a:cubicBezTo>
                  <a:cubicBezTo>
                    <a:pt x="879" y="1357"/>
                    <a:pt x="897" y="1384"/>
                    <a:pt x="914" y="1411"/>
                  </a:cubicBezTo>
                  <a:cubicBezTo>
                    <a:pt x="921" y="1422"/>
                    <a:pt x="942" y="1448"/>
                    <a:pt x="929" y="1448"/>
                  </a:cubicBezTo>
                  <a:cubicBezTo>
                    <a:pt x="915" y="1448"/>
                    <a:pt x="845" y="1341"/>
                    <a:pt x="833" y="1329"/>
                  </a:cubicBezTo>
                  <a:cubicBezTo>
                    <a:pt x="820" y="1316"/>
                    <a:pt x="802" y="1306"/>
                    <a:pt x="789" y="1293"/>
                  </a:cubicBezTo>
                  <a:cubicBezTo>
                    <a:pt x="780" y="1284"/>
                    <a:pt x="767" y="1251"/>
                    <a:pt x="767" y="1263"/>
                  </a:cubicBezTo>
                  <a:cubicBezTo>
                    <a:pt x="767" y="1307"/>
                    <a:pt x="843" y="1400"/>
                    <a:pt x="855" y="1418"/>
                  </a:cubicBezTo>
                  <a:cubicBezTo>
                    <a:pt x="869" y="1438"/>
                    <a:pt x="874" y="1463"/>
                    <a:pt x="885" y="1485"/>
                  </a:cubicBezTo>
                  <a:cubicBezTo>
                    <a:pt x="897" y="1510"/>
                    <a:pt x="930" y="1584"/>
                    <a:pt x="922" y="1558"/>
                  </a:cubicBezTo>
                  <a:cubicBezTo>
                    <a:pt x="899" y="1479"/>
                    <a:pt x="877" y="1435"/>
                    <a:pt x="833" y="1359"/>
                  </a:cubicBezTo>
                  <a:cubicBezTo>
                    <a:pt x="816" y="1330"/>
                    <a:pt x="804" y="1263"/>
                    <a:pt x="804" y="1263"/>
                  </a:cubicBezTo>
                  <a:cubicBezTo>
                    <a:pt x="806" y="1253"/>
                    <a:pt x="802" y="1238"/>
                    <a:pt x="811" y="1233"/>
                  </a:cubicBezTo>
                  <a:cubicBezTo>
                    <a:pt x="829" y="1222"/>
                    <a:pt x="917" y="1295"/>
                    <a:pt x="929" y="1307"/>
                  </a:cubicBezTo>
                  <a:cubicBezTo>
                    <a:pt x="940" y="1318"/>
                    <a:pt x="950" y="1331"/>
                    <a:pt x="959" y="1344"/>
                  </a:cubicBezTo>
                  <a:cubicBezTo>
                    <a:pt x="964" y="1351"/>
                    <a:pt x="979" y="1360"/>
                    <a:pt x="973" y="1366"/>
                  </a:cubicBezTo>
                  <a:cubicBezTo>
                    <a:pt x="967" y="1372"/>
                    <a:pt x="958" y="1358"/>
                    <a:pt x="951" y="1352"/>
                  </a:cubicBezTo>
                  <a:cubicBezTo>
                    <a:pt x="940" y="1343"/>
                    <a:pt x="932" y="1331"/>
                    <a:pt x="922" y="1322"/>
                  </a:cubicBezTo>
                  <a:cubicBezTo>
                    <a:pt x="893" y="1296"/>
                    <a:pt x="864" y="1270"/>
                    <a:pt x="833" y="1248"/>
                  </a:cubicBezTo>
                  <a:cubicBezTo>
                    <a:pt x="816" y="1236"/>
                    <a:pt x="797" y="1224"/>
                    <a:pt x="781" y="1211"/>
                  </a:cubicBezTo>
                  <a:cubicBezTo>
                    <a:pt x="770" y="1202"/>
                    <a:pt x="738" y="1182"/>
                    <a:pt x="752" y="1182"/>
                  </a:cubicBezTo>
                  <a:cubicBezTo>
                    <a:pt x="772" y="1182"/>
                    <a:pt x="851" y="1218"/>
                    <a:pt x="877" y="1233"/>
                  </a:cubicBezTo>
                  <a:cubicBezTo>
                    <a:pt x="893" y="1242"/>
                    <a:pt x="904" y="1263"/>
                    <a:pt x="922" y="1263"/>
                  </a:cubicBezTo>
                  <a:cubicBezTo>
                    <a:pt x="936" y="1263"/>
                    <a:pt x="904" y="1241"/>
                    <a:pt x="892" y="1233"/>
                  </a:cubicBezTo>
                  <a:cubicBezTo>
                    <a:pt x="864" y="1214"/>
                    <a:pt x="833" y="1199"/>
                    <a:pt x="804" y="1182"/>
                  </a:cubicBezTo>
                  <a:cubicBezTo>
                    <a:pt x="785" y="1171"/>
                    <a:pt x="764" y="1163"/>
                    <a:pt x="744" y="1152"/>
                  </a:cubicBezTo>
                  <a:cubicBezTo>
                    <a:pt x="736" y="1148"/>
                    <a:pt x="714" y="1141"/>
                    <a:pt x="722" y="1137"/>
                  </a:cubicBezTo>
                  <a:cubicBezTo>
                    <a:pt x="733" y="1132"/>
                    <a:pt x="747" y="1142"/>
                    <a:pt x="759" y="1145"/>
                  </a:cubicBezTo>
                  <a:cubicBezTo>
                    <a:pt x="829" y="1215"/>
                    <a:pt x="722" y="1114"/>
                    <a:pt x="818" y="1182"/>
                  </a:cubicBezTo>
                  <a:cubicBezTo>
                    <a:pt x="825" y="1187"/>
                    <a:pt x="827" y="1198"/>
                    <a:pt x="833" y="1204"/>
                  </a:cubicBezTo>
                  <a:cubicBezTo>
                    <a:pt x="839" y="1210"/>
                    <a:pt x="859" y="1227"/>
                    <a:pt x="855" y="1219"/>
                  </a:cubicBezTo>
                  <a:cubicBezTo>
                    <a:pt x="842" y="1192"/>
                    <a:pt x="750" y="1107"/>
                    <a:pt x="744" y="1101"/>
                  </a:cubicBezTo>
                  <a:cubicBezTo>
                    <a:pt x="734" y="1091"/>
                    <a:pt x="725" y="1081"/>
                    <a:pt x="715" y="1071"/>
                  </a:cubicBezTo>
                  <a:cubicBezTo>
                    <a:pt x="709" y="1065"/>
                    <a:pt x="691" y="1049"/>
                    <a:pt x="700" y="1049"/>
                  </a:cubicBezTo>
                  <a:cubicBezTo>
                    <a:pt x="747" y="1049"/>
                    <a:pt x="777" y="1106"/>
                    <a:pt x="804" y="1137"/>
                  </a:cubicBezTo>
                  <a:cubicBezTo>
                    <a:pt x="808" y="1141"/>
                    <a:pt x="799" y="1128"/>
                    <a:pt x="796" y="1123"/>
                  </a:cubicBezTo>
                  <a:cubicBezTo>
                    <a:pt x="786" y="1106"/>
                    <a:pt x="772" y="1092"/>
                    <a:pt x="759" y="1078"/>
                  </a:cubicBezTo>
                  <a:cubicBezTo>
                    <a:pt x="625" y="935"/>
                    <a:pt x="741" y="1054"/>
                    <a:pt x="634" y="975"/>
                  </a:cubicBezTo>
                  <a:cubicBezTo>
                    <a:pt x="623" y="967"/>
                    <a:pt x="604" y="945"/>
                    <a:pt x="604" y="945"/>
                  </a:cubicBezTo>
                  <a:cubicBezTo>
                    <a:pt x="675" y="993"/>
                    <a:pt x="716" y="1047"/>
                    <a:pt x="774" y="1115"/>
                  </a:cubicBezTo>
                  <a:cubicBezTo>
                    <a:pt x="792" y="1136"/>
                    <a:pt x="813" y="1215"/>
                    <a:pt x="826" y="1241"/>
                  </a:cubicBezTo>
                  <a:cubicBezTo>
                    <a:pt x="844" y="1277"/>
                    <a:pt x="871" y="1316"/>
                    <a:pt x="900" y="1344"/>
                  </a:cubicBezTo>
                  <a:cubicBezTo>
                    <a:pt x="883" y="1298"/>
                    <a:pt x="869" y="1245"/>
                    <a:pt x="840" y="1204"/>
                  </a:cubicBezTo>
                  <a:cubicBezTo>
                    <a:pt x="754" y="1081"/>
                    <a:pt x="838" y="1227"/>
                    <a:pt x="752" y="1093"/>
                  </a:cubicBezTo>
                  <a:cubicBezTo>
                    <a:pt x="707" y="1022"/>
                    <a:pt x="746" y="1076"/>
                    <a:pt x="722" y="1019"/>
                  </a:cubicBezTo>
                  <a:cubicBezTo>
                    <a:pt x="719" y="1011"/>
                    <a:pt x="701" y="1002"/>
                    <a:pt x="708" y="997"/>
                  </a:cubicBezTo>
                  <a:cubicBezTo>
                    <a:pt x="718" y="990"/>
                    <a:pt x="732" y="1002"/>
                    <a:pt x="744" y="1005"/>
                  </a:cubicBezTo>
                  <a:cubicBezTo>
                    <a:pt x="810" y="1103"/>
                    <a:pt x="855" y="1210"/>
                    <a:pt x="907" y="1315"/>
                  </a:cubicBezTo>
                  <a:cubicBezTo>
                    <a:pt x="892" y="1185"/>
                    <a:pt x="899" y="1181"/>
                    <a:pt x="818" y="1093"/>
                  </a:cubicBezTo>
                  <a:cubicBezTo>
                    <a:pt x="804" y="1078"/>
                    <a:pt x="787" y="1065"/>
                    <a:pt x="774" y="1049"/>
                  </a:cubicBezTo>
                  <a:cubicBezTo>
                    <a:pt x="755" y="1026"/>
                    <a:pt x="722" y="975"/>
                    <a:pt x="722" y="975"/>
                  </a:cubicBezTo>
                  <a:cubicBezTo>
                    <a:pt x="720" y="968"/>
                    <a:pt x="707" y="953"/>
                    <a:pt x="715" y="953"/>
                  </a:cubicBezTo>
                  <a:cubicBezTo>
                    <a:pt x="737" y="953"/>
                    <a:pt x="804" y="1024"/>
                    <a:pt x="811" y="1034"/>
                  </a:cubicBezTo>
                  <a:cubicBezTo>
                    <a:pt x="858" y="1105"/>
                    <a:pt x="833" y="1063"/>
                    <a:pt x="885" y="1167"/>
                  </a:cubicBezTo>
                  <a:cubicBezTo>
                    <a:pt x="890" y="1177"/>
                    <a:pt x="900" y="1197"/>
                    <a:pt x="900" y="1197"/>
                  </a:cubicBezTo>
                  <a:cubicBezTo>
                    <a:pt x="902" y="1207"/>
                    <a:pt x="917" y="1226"/>
                    <a:pt x="907" y="1226"/>
                  </a:cubicBezTo>
                  <a:cubicBezTo>
                    <a:pt x="896" y="1226"/>
                    <a:pt x="889" y="1181"/>
                    <a:pt x="885" y="1174"/>
                  </a:cubicBezTo>
                  <a:cubicBezTo>
                    <a:pt x="844" y="1111"/>
                    <a:pt x="788" y="1045"/>
                    <a:pt x="730" y="997"/>
                  </a:cubicBezTo>
                  <a:cubicBezTo>
                    <a:pt x="715" y="985"/>
                    <a:pt x="699" y="973"/>
                    <a:pt x="685" y="960"/>
                  </a:cubicBezTo>
                  <a:cubicBezTo>
                    <a:pt x="675" y="951"/>
                    <a:pt x="652" y="918"/>
                    <a:pt x="656" y="931"/>
                  </a:cubicBezTo>
                  <a:cubicBezTo>
                    <a:pt x="667" y="964"/>
                    <a:pt x="705" y="1006"/>
                    <a:pt x="722" y="1041"/>
                  </a:cubicBezTo>
                  <a:cubicBezTo>
                    <a:pt x="746" y="1088"/>
                    <a:pt x="766" y="1131"/>
                    <a:pt x="796" y="1174"/>
                  </a:cubicBezTo>
                  <a:cubicBezTo>
                    <a:pt x="778" y="1099"/>
                    <a:pt x="805" y="1184"/>
                    <a:pt x="767" y="1130"/>
                  </a:cubicBezTo>
                  <a:cubicBezTo>
                    <a:pt x="759" y="1119"/>
                    <a:pt x="759" y="1104"/>
                    <a:pt x="752" y="1093"/>
                  </a:cubicBezTo>
                  <a:cubicBezTo>
                    <a:pt x="704" y="1015"/>
                    <a:pt x="612" y="958"/>
                    <a:pt x="538" y="909"/>
                  </a:cubicBezTo>
                  <a:cubicBezTo>
                    <a:pt x="531" y="899"/>
                    <a:pt x="526" y="887"/>
                    <a:pt x="516" y="879"/>
                  </a:cubicBezTo>
                  <a:cubicBezTo>
                    <a:pt x="512" y="876"/>
                    <a:pt x="448" y="862"/>
                    <a:pt x="523" y="879"/>
                  </a:cubicBezTo>
                  <a:cubicBezTo>
                    <a:pt x="569" y="902"/>
                    <a:pt x="605" y="932"/>
                    <a:pt x="648" y="960"/>
                  </a:cubicBezTo>
                  <a:cubicBezTo>
                    <a:pt x="658" y="975"/>
                    <a:pt x="689" y="1020"/>
                    <a:pt x="678" y="1005"/>
                  </a:cubicBezTo>
                  <a:cubicBezTo>
                    <a:pt x="630" y="940"/>
                    <a:pt x="550" y="882"/>
                    <a:pt x="471" y="857"/>
                  </a:cubicBezTo>
                  <a:cubicBezTo>
                    <a:pt x="394" y="805"/>
                    <a:pt x="563" y="893"/>
                    <a:pt x="545" y="886"/>
                  </a:cubicBezTo>
                  <a:cubicBezTo>
                    <a:pt x="473" y="859"/>
                    <a:pt x="419" y="806"/>
                    <a:pt x="346" y="783"/>
                  </a:cubicBezTo>
                  <a:cubicBezTo>
                    <a:pt x="286" y="742"/>
                    <a:pt x="380" y="786"/>
                    <a:pt x="397" y="790"/>
                  </a:cubicBezTo>
                  <a:cubicBezTo>
                    <a:pt x="405" y="795"/>
                    <a:pt x="429" y="805"/>
                    <a:pt x="420" y="805"/>
                  </a:cubicBezTo>
                  <a:cubicBezTo>
                    <a:pt x="409" y="805"/>
                    <a:pt x="400" y="794"/>
                    <a:pt x="390" y="790"/>
                  </a:cubicBezTo>
                  <a:cubicBezTo>
                    <a:pt x="371" y="782"/>
                    <a:pt x="331" y="768"/>
                    <a:pt x="331" y="768"/>
                  </a:cubicBezTo>
                  <a:cubicBezTo>
                    <a:pt x="136" y="783"/>
                    <a:pt x="255" y="770"/>
                    <a:pt x="375" y="783"/>
                  </a:cubicBezTo>
                  <a:cubicBezTo>
                    <a:pt x="383" y="784"/>
                    <a:pt x="360" y="788"/>
                    <a:pt x="353" y="790"/>
                  </a:cubicBezTo>
                  <a:cubicBezTo>
                    <a:pt x="323" y="798"/>
                    <a:pt x="294" y="805"/>
                    <a:pt x="264" y="813"/>
                  </a:cubicBezTo>
                  <a:cubicBezTo>
                    <a:pt x="254" y="815"/>
                    <a:pt x="235" y="820"/>
                    <a:pt x="235" y="820"/>
                  </a:cubicBezTo>
                  <a:cubicBezTo>
                    <a:pt x="302" y="833"/>
                    <a:pt x="260" y="831"/>
                    <a:pt x="360" y="798"/>
                  </a:cubicBezTo>
                  <a:cubicBezTo>
                    <a:pt x="381" y="791"/>
                    <a:pt x="402" y="782"/>
                    <a:pt x="420" y="768"/>
                  </a:cubicBezTo>
                  <a:cubicBezTo>
                    <a:pt x="430" y="761"/>
                    <a:pt x="460" y="751"/>
                    <a:pt x="449" y="746"/>
                  </a:cubicBezTo>
                  <a:cubicBezTo>
                    <a:pt x="431" y="737"/>
                    <a:pt x="410" y="750"/>
                    <a:pt x="390" y="753"/>
                  </a:cubicBezTo>
                  <a:cubicBezTo>
                    <a:pt x="237" y="774"/>
                    <a:pt x="447" y="748"/>
                    <a:pt x="279" y="768"/>
                  </a:cubicBezTo>
                  <a:cubicBezTo>
                    <a:pt x="259" y="773"/>
                    <a:pt x="240" y="779"/>
                    <a:pt x="220" y="783"/>
                  </a:cubicBezTo>
                  <a:cubicBezTo>
                    <a:pt x="205" y="786"/>
                    <a:pt x="191" y="787"/>
                    <a:pt x="176" y="790"/>
                  </a:cubicBezTo>
                  <a:cubicBezTo>
                    <a:pt x="150" y="795"/>
                    <a:pt x="36" y="826"/>
                    <a:pt x="183" y="790"/>
                  </a:cubicBezTo>
                  <a:cubicBezTo>
                    <a:pt x="296" y="762"/>
                    <a:pt x="270" y="769"/>
                    <a:pt x="360" y="739"/>
                  </a:cubicBezTo>
                  <a:cubicBezTo>
                    <a:pt x="383" y="731"/>
                    <a:pt x="311" y="744"/>
                    <a:pt x="287" y="746"/>
                  </a:cubicBezTo>
                  <a:cubicBezTo>
                    <a:pt x="277" y="748"/>
                    <a:pt x="267" y="750"/>
                    <a:pt x="257" y="753"/>
                  </a:cubicBezTo>
                  <a:cubicBezTo>
                    <a:pt x="250" y="755"/>
                    <a:pt x="238" y="768"/>
                    <a:pt x="235" y="761"/>
                  </a:cubicBezTo>
                  <a:cubicBezTo>
                    <a:pt x="224" y="739"/>
                    <a:pt x="277" y="732"/>
                    <a:pt x="279" y="731"/>
                  </a:cubicBezTo>
                  <a:cubicBezTo>
                    <a:pt x="270" y="770"/>
                    <a:pt x="262" y="814"/>
                    <a:pt x="220" y="827"/>
                  </a:cubicBezTo>
                  <a:cubicBezTo>
                    <a:pt x="146" y="878"/>
                    <a:pt x="170" y="814"/>
                    <a:pt x="176" y="761"/>
                  </a:cubicBezTo>
                  <a:cubicBezTo>
                    <a:pt x="206" y="771"/>
                    <a:pt x="225" y="783"/>
                    <a:pt x="183" y="798"/>
                  </a:cubicBezTo>
                  <a:cubicBezTo>
                    <a:pt x="119" y="754"/>
                    <a:pt x="191" y="811"/>
                    <a:pt x="191" y="776"/>
                  </a:cubicBezTo>
                  <a:cubicBezTo>
                    <a:pt x="191" y="766"/>
                    <a:pt x="171" y="772"/>
                    <a:pt x="161" y="768"/>
                  </a:cubicBezTo>
                  <a:cubicBezTo>
                    <a:pt x="151" y="764"/>
                    <a:pt x="140" y="761"/>
                    <a:pt x="132" y="753"/>
                  </a:cubicBezTo>
                  <a:cubicBezTo>
                    <a:pt x="126" y="747"/>
                    <a:pt x="146" y="760"/>
                    <a:pt x="154" y="761"/>
                  </a:cubicBezTo>
                  <a:cubicBezTo>
                    <a:pt x="186" y="767"/>
                    <a:pt x="218" y="771"/>
                    <a:pt x="250" y="776"/>
                  </a:cubicBezTo>
                  <a:cubicBezTo>
                    <a:pt x="217" y="759"/>
                    <a:pt x="182" y="749"/>
                    <a:pt x="146" y="739"/>
                  </a:cubicBezTo>
                  <a:cubicBezTo>
                    <a:pt x="137" y="736"/>
                    <a:pt x="64" y="718"/>
                    <a:pt x="139" y="746"/>
                  </a:cubicBezTo>
                  <a:cubicBezTo>
                    <a:pt x="156" y="752"/>
                    <a:pt x="174" y="756"/>
                    <a:pt x="191" y="761"/>
                  </a:cubicBezTo>
                  <a:cubicBezTo>
                    <a:pt x="153" y="725"/>
                    <a:pt x="118" y="676"/>
                    <a:pt x="95" y="628"/>
                  </a:cubicBezTo>
                  <a:cubicBezTo>
                    <a:pt x="92" y="640"/>
                    <a:pt x="100" y="665"/>
                    <a:pt x="87" y="665"/>
                  </a:cubicBezTo>
                  <a:cubicBezTo>
                    <a:pt x="74" y="665"/>
                    <a:pt x="82" y="640"/>
                    <a:pt x="80" y="628"/>
                  </a:cubicBezTo>
                  <a:cubicBezTo>
                    <a:pt x="77" y="616"/>
                    <a:pt x="75" y="603"/>
                    <a:pt x="72" y="591"/>
                  </a:cubicBezTo>
                  <a:cubicBezTo>
                    <a:pt x="70" y="579"/>
                    <a:pt x="69" y="566"/>
                    <a:pt x="65" y="554"/>
                  </a:cubicBezTo>
                  <a:cubicBezTo>
                    <a:pt x="62" y="544"/>
                    <a:pt x="45" y="535"/>
                    <a:pt x="50" y="525"/>
                  </a:cubicBezTo>
                  <a:cubicBezTo>
                    <a:pt x="54" y="517"/>
                    <a:pt x="65" y="534"/>
                    <a:pt x="72" y="539"/>
                  </a:cubicBezTo>
                  <a:cubicBezTo>
                    <a:pt x="93" y="580"/>
                    <a:pt x="105" y="627"/>
                    <a:pt x="117" y="672"/>
                  </a:cubicBezTo>
                  <a:cubicBezTo>
                    <a:pt x="108" y="590"/>
                    <a:pt x="82" y="521"/>
                    <a:pt x="58" y="443"/>
                  </a:cubicBezTo>
                  <a:cubicBezTo>
                    <a:pt x="56" y="436"/>
                    <a:pt x="65" y="465"/>
                    <a:pt x="65" y="465"/>
                  </a:cubicBezTo>
                  <a:cubicBezTo>
                    <a:pt x="65" y="465"/>
                    <a:pt x="52" y="439"/>
                    <a:pt x="58" y="443"/>
                  </a:cubicBezTo>
                  <a:cubicBezTo>
                    <a:pt x="73" y="453"/>
                    <a:pt x="87" y="463"/>
                    <a:pt x="102" y="473"/>
                  </a:cubicBezTo>
                  <a:cubicBezTo>
                    <a:pt x="117" y="498"/>
                    <a:pt x="130" y="523"/>
                    <a:pt x="146" y="547"/>
                  </a:cubicBezTo>
                  <a:cubicBezTo>
                    <a:pt x="156" y="562"/>
                    <a:pt x="182" y="608"/>
                    <a:pt x="176" y="591"/>
                  </a:cubicBezTo>
                  <a:cubicBezTo>
                    <a:pt x="166" y="564"/>
                    <a:pt x="151" y="524"/>
                    <a:pt x="132" y="502"/>
                  </a:cubicBezTo>
                  <a:cubicBezTo>
                    <a:pt x="124" y="493"/>
                    <a:pt x="111" y="489"/>
                    <a:pt x="102" y="480"/>
                  </a:cubicBezTo>
                  <a:cubicBezTo>
                    <a:pt x="93" y="472"/>
                    <a:pt x="89" y="459"/>
                    <a:pt x="80" y="451"/>
                  </a:cubicBezTo>
                  <a:cubicBezTo>
                    <a:pt x="71" y="442"/>
                    <a:pt x="38" y="427"/>
                    <a:pt x="50" y="429"/>
                  </a:cubicBezTo>
                  <a:cubicBezTo>
                    <a:pt x="76" y="433"/>
                    <a:pt x="100" y="446"/>
                    <a:pt x="124" y="458"/>
                  </a:cubicBezTo>
                  <a:cubicBezTo>
                    <a:pt x="134" y="463"/>
                    <a:pt x="144" y="469"/>
                    <a:pt x="154" y="473"/>
                  </a:cubicBezTo>
                  <a:cubicBezTo>
                    <a:pt x="161" y="476"/>
                    <a:pt x="181" y="485"/>
                    <a:pt x="176" y="480"/>
                  </a:cubicBezTo>
                  <a:cubicBezTo>
                    <a:pt x="167" y="471"/>
                    <a:pt x="118" y="455"/>
                    <a:pt x="109" y="451"/>
                  </a:cubicBezTo>
                  <a:cubicBezTo>
                    <a:pt x="94" y="444"/>
                    <a:pt x="79" y="437"/>
                    <a:pt x="65" y="429"/>
                  </a:cubicBezTo>
                  <a:cubicBezTo>
                    <a:pt x="57" y="425"/>
                    <a:pt x="35" y="410"/>
                    <a:pt x="43" y="414"/>
                  </a:cubicBezTo>
                  <a:cubicBezTo>
                    <a:pt x="86" y="434"/>
                    <a:pt x="91" y="440"/>
                    <a:pt x="124" y="465"/>
                  </a:cubicBezTo>
                  <a:cubicBezTo>
                    <a:pt x="145" y="501"/>
                    <a:pt x="167" y="530"/>
                    <a:pt x="183" y="569"/>
                  </a:cubicBezTo>
                  <a:cubicBezTo>
                    <a:pt x="178" y="581"/>
                    <a:pt x="180" y="600"/>
                    <a:pt x="168" y="606"/>
                  </a:cubicBezTo>
                  <a:cubicBezTo>
                    <a:pt x="160" y="610"/>
                    <a:pt x="160" y="590"/>
                    <a:pt x="154" y="584"/>
                  </a:cubicBezTo>
                  <a:cubicBezTo>
                    <a:pt x="133" y="561"/>
                    <a:pt x="106" y="542"/>
                    <a:pt x="87" y="517"/>
                  </a:cubicBezTo>
                  <a:cubicBezTo>
                    <a:pt x="62" y="486"/>
                    <a:pt x="45" y="453"/>
                    <a:pt x="21" y="421"/>
                  </a:cubicBezTo>
                  <a:cubicBezTo>
                    <a:pt x="49" y="508"/>
                    <a:pt x="93" y="591"/>
                    <a:pt x="117" y="680"/>
                  </a:cubicBezTo>
                  <a:cubicBezTo>
                    <a:pt x="128" y="633"/>
                    <a:pt x="106" y="470"/>
                    <a:pt x="146" y="576"/>
                  </a:cubicBezTo>
                  <a:cubicBezTo>
                    <a:pt x="149" y="606"/>
                    <a:pt x="142" y="638"/>
                    <a:pt x="154" y="665"/>
                  </a:cubicBezTo>
                  <a:cubicBezTo>
                    <a:pt x="164" y="688"/>
                    <a:pt x="178" y="637"/>
                    <a:pt x="183" y="621"/>
                  </a:cubicBezTo>
                  <a:cubicBezTo>
                    <a:pt x="181" y="601"/>
                    <a:pt x="183" y="580"/>
                    <a:pt x="176" y="561"/>
                  </a:cubicBezTo>
                  <a:cubicBezTo>
                    <a:pt x="156" y="508"/>
                    <a:pt x="110" y="480"/>
                    <a:pt x="80" y="436"/>
                  </a:cubicBezTo>
                  <a:cubicBezTo>
                    <a:pt x="155" y="406"/>
                    <a:pt x="244" y="396"/>
                    <a:pt x="324" y="384"/>
                  </a:cubicBezTo>
                  <a:cubicBezTo>
                    <a:pt x="233" y="347"/>
                    <a:pt x="357" y="391"/>
                    <a:pt x="213" y="377"/>
                  </a:cubicBezTo>
                  <a:cubicBezTo>
                    <a:pt x="187" y="375"/>
                    <a:pt x="164" y="362"/>
                    <a:pt x="139" y="355"/>
                  </a:cubicBezTo>
                  <a:cubicBezTo>
                    <a:pt x="209" y="330"/>
                    <a:pt x="279" y="305"/>
                    <a:pt x="346" y="273"/>
                  </a:cubicBezTo>
                  <a:cubicBezTo>
                    <a:pt x="360" y="266"/>
                    <a:pt x="399" y="242"/>
                    <a:pt x="412" y="229"/>
                  </a:cubicBezTo>
                  <a:cubicBezTo>
                    <a:pt x="418" y="223"/>
                    <a:pt x="435" y="204"/>
                    <a:pt x="427" y="207"/>
                  </a:cubicBezTo>
                  <a:cubicBezTo>
                    <a:pt x="407" y="215"/>
                    <a:pt x="393" y="233"/>
                    <a:pt x="375" y="244"/>
                  </a:cubicBezTo>
                  <a:cubicBezTo>
                    <a:pt x="310" y="283"/>
                    <a:pt x="243" y="333"/>
                    <a:pt x="168" y="347"/>
                  </a:cubicBezTo>
                  <a:cubicBezTo>
                    <a:pt x="128" y="367"/>
                    <a:pt x="94" y="383"/>
                    <a:pt x="50" y="392"/>
                  </a:cubicBezTo>
                  <a:cubicBezTo>
                    <a:pt x="139" y="328"/>
                    <a:pt x="241" y="296"/>
                    <a:pt x="346" y="266"/>
                  </a:cubicBezTo>
                  <a:cubicBezTo>
                    <a:pt x="405" y="231"/>
                    <a:pt x="359" y="252"/>
                    <a:pt x="420" y="237"/>
                  </a:cubicBezTo>
                  <a:cubicBezTo>
                    <a:pt x="428" y="235"/>
                    <a:pt x="442" y="221"/>
                    <a:pt x="442" y="229"/>
                  </a:cubicBezTo>
                  <a:cubicBezTo>
                    <a:pt x="442" y="241"/>
                    <a:pt x="403" y="248"/>
                    <a:pt x="397" y="251"/>
                  </a:cubicBezTo>
                  <a:cubicBezTo>
                    <a:pt x="324" y="284"/>
                    <a:pt x="251" y="329"/>
                    <a:pt x="176" y="355"/>
                  </a:cubicBezTo>
                  <a:cubicBezTo>
                    <a:pt x="142" y="367"/>
                    <a:pt x="86" y="371"/>
                    <a:pt x="50" y="377"/>
                  </a:cubicBezTo>
                  <a:cubicBezTo>
                    <a:pt x="38" y="379"/>
                    <a:pt x="0" y="384"/>
                    <a:pt x="13" y="384"/>
                  </a:cubicBezTo>
                  <a:cubicBezTo>
                    <a:pt x="33" y="384"/>
                    <a:pt x="52" y="379"/>
                    <a:pt x="72" y="377"/>
                  </a:cubicBezTo>
                  <a:cubicBezTo>
                    <a:pt x="200" y="345"/>
                    <a:pt x="327" y="300"/>
                    <a:pt x="456" y="273"/>
                  </a:cubicBezTo>
                  <a:cubicBezTo>
                    <a:pt x="537" y="239"/>
                    <a:pt x="490" y="257"/>
                    <a:pt x="597" y="222"/>
                  </a:cubicBezTo>
                  <a:cubicBezTo>
                    <a:pt x="630" y="211"/>
                    <a:pt x="533" y="247"/>
                    <a:pt x="501" y="259"/>
                  </a:cubicBezTo>
                  <a:cubicBezTo>
                    <a:pt x="442" y="282"/>
                    <a:pt x="371" y="295"/>
                    <a:pt x="309" y="310"/>
                  </a:cubicBezTo>
                  <a:cubicBezTo>
                    <a:pt x="279" y="317"/>
                    <a:pt x="250" y="325"/>
                    <a:pt x="220" y="333"/>
                  </a:cubicBezTo>
                  <a:cubicBezTo>
                    <a:pt x="213" y="335"/>
                    <a:pt x="190" y="341"/>
                    <a:pt x="198" y="340"/>
                  </a:cubicBezTo>
                  <a:cubicBezTo>
                    <a:pt x="315" y="322"/>
                    <a:pt x="413" y="306"/>
                    <a:pt x="523" y="273"/>
                  </a:cubicBezTo>
                  <a:cubicBezTo>
                    <a:pt x="582" y="255"/>
                    <a:pt x="567" y="261"/>
                    <a:pt x="626" y="251"/>
                  </a:cubicBezTo>
                  <a:cubicBezTo>
                    <a:pt x="638" y="249"/>
                    <a:pt x="676" y="244"/>
                    <a:pt x="663" y="244"/>
                  </a:cubicBezTo>
                  <a:cubicBezTo>
                    <a:pt x="643" y="244"/>
                    <a:pt x="624" y="249"/>
                    <a:pt x="604" y="251"/>
                  </a:cubicBezTo>
                  <a:cubicBezTo>
                    <a:pt x="526" y="274"/>
                    <a:pt x="453" y="292"/>
                    <a:pt x="375" y="310"/>
                  </a:cubicBezTo>
                  <a:cubicBezTo>
                    <a:pt x="452" y="330"/>
                    <a:pt x="688" y="292"/>
                    <a:pt x="774" y="288"/>
                  </a:cubicBezTo>
                  <a:cubicBezTo>
                    <a:pt x="570" y="316"/>
                    <a:pt x="942" y="279"/>
                    <a:pt x="996" y="273"/>
                  </a:cubicBezTo>
                  <a:cubicBezTo>
                    <a:pt x="1016" y="271"/>
                    <a:pt x="1035" y="268"/>
                    <a:pt x="1055" y="266"/>
                  </a:cubicBezTo>
                  <a:cubicBezTo>
                    <a:pt x="1071" y="262"/>
                    <a:pt x="1134" y="251"/>
                    <a:pt x="1040" y="251"/>
                  </a:cubicBezTo>
                  <a:cubicBezTo>
                    <a:pt x="988" y="251"/>
                    <a:pt x="937" y="260"/>
                    <a:pt x="885" y="266"/>
                  </a:cubicBezTo>
                  <a:cubicBezTo>
                    <a:pt x="732" y="284"/>
                    <a:pt x="590" y="291"/>
                    <a:pt x="434" y="296"/>
                  </a:cubicBezTo>
                  <a:cubicBezTo>
                    <a:pt x="616" y="262"/>
                    <a:pt x="799" y="232"/>
                    <a:pt x="981" y="200"/>
                  </a:cubicBezTo>
                  <a:cubicBezTo>
                    <a:pt x="1001" y="190"/>
                    <a:pt x="1019" y="176"/>
                    <a:pt x="1040" y="170"/>
                  </a:cubicBezTo>
                  <a:cubicBezTo>
                    <a:pt x="1093" y="154"/>
                    <a:pt x="1134" y="173"/>
                    <a:pt x="1084" y="155"/>
                  </a:cubicBezTo>
                  <a:cubicBezTo>
                    <a:pt x="947" y="169"/>
                    <a:pt x="816" y="199"/>
                    <a:pt x="678" y="207"/>
                  </a:cubicBezTo>
                  <a:cubicBezTo>
                    <a:pt x="629" y="210"/>
                    <a:pt x="481" y="220"/>
                    <a:pt x="530" y="214"/>
                  </a:cubicBezTo>
                  <a:cubicBezTo>
                    <a:pt x="712" y="192"/>
                    <a:pt x="901" y="182"/>
                    <a:pt x="1084" y="170"/>
                  </a:cubicBezTo>
                  <a:cubicBezTo>
                    <a:pt x="1084" y="170"/>
                    <a:pt x="1070" y="181"/>
                    <a:pt x="1062" y="185"/>
                  </a:cubicBezTo>
                  <a:cubicBezTo>
                    <a:pt x="1048" y="192"/>
                    <a:pt x="1033" y="195"/>
                    <a:pt x="1018" y="200"/>
                  </a:cubicBezTo>
                  <a:cubicBezTo>
                    <a:pt x="1011" y="202"/>
                    <a:pt x="989" y="210"/>
                    <a:pt x="996" y="207"/>
                  </a:cubicBezTo>
                  <a:cubicBezTo>
                    <a:pt x="1065" y="179"/>
                    <a:pt x="1139" y="157"/>
                    <a:pt x="1210" y="133"/>
                  </a:cubicBezTo>
                  <a:cubicBezTo>
                    <a:pt x="1217" y="128"/>
                    <a:pt x="1224" y="122"/>
                    <a:pt x="1232" y="118"/>
                  </a:cubicBezTo>
                  <a:cubicBezTo>
                    <a:pt x="1239" y="115"/>
                    <a:pt x="1254" y="103"/>
                    <a:pt x="1254" y="111"/>
                  </a:cubicBezTo>
                  <a:cubicBezTo>
                    <a:pt x="1254" y="137"/>
                    <a:pt x="1218" y="148"/>
                    <a:pt x="1202" y="155"/>
                  </a:cubicBezTo>
                  <a:cubicBezTo>
                    <a:pt x="1154" y="203"/>
                    <a:pt x="1211" y="154"/>
                    <a:pt x="1143" y="185"/>
                  </a:cubicBezTo>
                  <a:cubicBezTo>
                    <a:pt x="1132" y="190"/>
                    <a:pt x="1102" y="207"/>
                    <a:pt x="1114" y="207"/>
                  </a:cubicBezTo>
                  <a:cubicBezTo>
                    <a:pt x="1133" y="207"/>
                    <a:pt x="1148" y="193"/>
                    <a:pt x="1165" y="185"/>
                  </a:cubicBezTo>
                  <a:cubicBezTo>
                    <a:pt x="1197" y="170"/>
                    <a:pt x="1230" y="158"/>
                    <a:pt x="1261" y="141"/>
                  </a:cubicBezTo>
                  <a:cubicBezTo>
                    <a:pt x="1365" y="82"/>
                    <a:pt x="1294" y="107"/>
                    <a:pt x="1350" y="89"/>
                  </a:cubicBezTo>
                  <a:cubicBezTo>
                    <a:pt x="1318" y="121"/>
                    <a:pt x="1299" y="163"/>
                    <a:pt x="1254" y="177"/>
                  </a:cubicBezTo>
                  <a:cubicBezTo>
                    <a:pt x="1276" y="155"/>
                    <a:pt x="1305" y="139"/>
                    <a:pt x="1328" y="118"/>
                  </a:cubicBezTo>
                  <a:cubicBezTo>
                    <a:pt x="1383" y="68"/>
                    <a:pt x="1439" y="20"/>
                    <a:pt x="1512" y="0"/>
                  </a:cubicBezTo>
                  <a:cubicBezTo>
                    <a:pt x="1481" y="48"/>
                    <a:pt x="1451" y="75"/>
                    <a:pt x="1402" y="104"/>
                  </a:cubicBezTo>
                  <a:cubicBezTo>
                    <a:pt x="1389" y="112"/>
                    <a:pt x="1347" y="128"/>
                    <a:pt x="1335" y="133"/>
                  </a:cubicBezTo>
                  <a:cubicBezTo>
                    <a:pt x="1328" y="136"/>
                    <a:pt x="1307" y="146"/>
                    <a:pt x="1313" y="141"/>
                  </a:cubicBezTo>
                  <a:cubicBezTo>
                    <a:pt x="1421" y="62"/>
                    <a:pt x="1564" y="34"/>
                    <a:pt x="1690" y="0"/>
                  </a:cubicBezTo>
                  <a:cubicBezTo>
                    <a:pt x="1680" y="47"/>
                    <a:pt x="1693" y="36"/>
                    <a:pt x="1645" y="52"/>
                  </a:cubicBezTo>
                  <a:cubicBezTo>
                    <a:pt x="1621" y="60"/>
                    <a:pt x="1572" y="74"/>
                    <a:pt x="1572" y="74"/>
                  </a:cubicBezTo>
                  <a:cubicBezTo>
                    <a:pt x="1469" y="138"/>
                    <a:pt x="1524" y="113"/>
                    <a:pt x="1586" y="96"/>
                  </a:cubicBezTo>
                  <a:cubicBezTo>
                    <a:pt x="1701" y="116"/>
                    <a:pt x="1533" y="143"/>
                    <a:pt x="1505" y="148"/>
                  </a:cubicBezTo>
                  <a:cubicBezTo>
                    <a:pt x="1306" y="186"/>
                    <a:pt x="1296" y="185"/>
                    <a:pt x="1062" y="185"/>
                  </a:cubicBezTo>
                  <a:cubicBezTo>
                    <a:pt x="1015" y="185"/>
                    <a:pt x="1155" y="177"/>
                    <a:pt x="1202" y="177"/>
                  </a:cubicBezTo>
                  <a:cubicBezTo>
                    <a:pt x="1236" y="177"/>
                    <a:pt x="1133" y="182"/>
                    <a:pt x="1099" y="185"/>
                  </a:cubicBezTo>
                  <a:cubicBezTo>
                    <a:pt x="1072" y="187"/>
                    <a:pt x="1045" y="190"/>
                    <a:pt x="1018" y="192"/>
                  </a:cubicBezTo>
                  <a:cubicBezTo>
                    <a:pt x="1086" y="217"/>
                    <a:pt x="971" y="177"/>
                    <a:pt x="1143" y="207"/>
                  </a:cubicBezTo>
                  <a:cubicBezTo>
                    <a:pt x="1151" y="208"/>
                    <a:pt x="1129" y="213"/>
                    <a:pt x="1121" y="214"/>
                  </a:cubicBezTo>
                  <a:cubicBezTo>
                    <a:pt x="1067" y="218"/>
                    <a:pt x="1013" y="219"/>
                    <a:pt x="959" y="222"/>
                  </a:cubicBezTo>
                  <a:cubicBezTo>
                    <a:pt x="900" y="229"/>
                    <a:pt x="840" y="226"/>
                    <a:pt x="781" y="237"/>
                  </a:cubicBezTo>
                  <a:cubicBezTo>
                    <a:pt x="769" y="239"/>
                    <a:pt x="805" y="243"/>
                    <a:pt x="818" y="244"/>
                  </a:cubicBezTo>
                  <a:cubicBezTo>
                    <a:pt x="865" y="248"/>
                    <a:pt x="912" y="249"/>
                    <a:pt x="959" y="251"/>
                  </a:cubicBezTo>
                  <a:cubicBezTo>
                    <a:pt x="979" y="256"/>
                    <a:pt x="1002" y="254"/>
                    <a:pt x="1018" y="266"/>
                  </a:cubicBezTo>
                  <a:cubicBezTo>
                    <a:pt x="1026" y="272"/>
                    <a:pt x="998" y="273"/>
                    <a:pt x="988" y="273"/>
                  </a:cubicBezTo>
                  <a:cubicBezTo>
                    <a:pt x="870" y="278"/>
                    <a:pt x="752" y="278"/>
                    <a:pt x="634" y="281"/>
                  </a:cubicBezTo>
                  <a:cubicBezTo>
                    <a:pt x="661" y="288"/>
                    <a:pt x="688" y="294"/>
                    <a:pt x="715" y="303"/>
                  </a:cubicBezTo>
                  <a:cubicBezTo>
                    <a:pt x="619" y="334"/>
                    <a:pt x="737" y="298"/>
                    <a:pt x="471" y="318"/>
                  </a:cubicBezTo>
                  <a:cubicBezTo>
                    <a:pt x="463" y="319"/>
                    <a:pt x="501" y="325"/>
                    <a:pt x="493" y="325"/>
                  </a:cubicBezTo>
                  <a:cubicBezTo>
                    <a:pt x="456" y="325"/>
                    <a:pt x="420" y="320"/>
                    <a:pt x="383" y="318"/>
                  </a:cubicBezTo>
                  <a:cubicBezTo>
                    <a:pt x="287" y="326"/>
                    <a:pt x="294" y="295"/>
                    <a:pt x="294" y="34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98"/>
            <p:cNvSpPr/>
            <p:nvPr/>
          </p:nvSpPr>
          <p:spPr>
            <a:xfrm>
              <a:off x="2954160" y="1461960"/>
              <a:ext cx="1254240" cy="787680"/>
            </a:xfrm>
            <a:custGeom>
              <a:avLst/>
              <a:gdLst/>
              <a:ahLst/>
              <a:rect l="l" t="t" r="r" b="b"/>
              <a:pathLst>
                <a:path w="790" h="496">
                  <a:moveTo>
                    <a:pt x="605" y="464"/>
                  </a:moveTo>
                  <a:cubicBezTo>
                    <a:pt x="544" y="461"/>
                    <a:pt x="476" y="484"/>
                    <a:pt x="421" y="456"/>
                  </a:cubicBezTo>
                  <a:cubicBezTo>
                    <a:pt x="397" y="444"/>
                    <a:pt x="403" y="385"/>
                    <a:pt x="428" y="375"/>
                  </a:cubicBezTo>
                  <a:cubicBezTo>
                    <a:pt x="483" y="353"/>
                    <a:pt x="546" y="380"/>
                    <a:pt x="605" y="383"/>
                  </a:cubicBezTo>
                  <a:cubicBezTo>
                    <a:pt x="592" y="496"/>
                    <a:pt x="591" y="414"/>
                    <a:pt x="576" y="368"/>
                  </a:cubicBezTo>
                  <a:cubicBezTo>
                    <a:pt x="565" y="401"/>
                    <a:pt x="574" y="439"/>
                    <a:pt x="561" y="471"/>
                  </a:cubicBezTo>
                  <a:cubicBezTo>
                    <a:pt x="558" y="478"/>
                    <a:pt x="546" y="467"/>
                    <a:pt x="539" y="464"/>
                  </a:cubicBezTo>
                  <a:cubicBezTo>
                    <a:pt x="519" y="457"/>
                    <a:pt x="500" y="449"/>
                    <a:pt x="480" y="442"/>
                  </a:cubicBezTo>
                  <a:cubicBezTo>
                    <a:pt x="457" y="433"/>
                    <a:pt x="431" y="437"/>
                    <a:pt x="406" y="434"/>
                  </a:cubicBezTo>
                  <a:cubicBezTo>
                    <a:pt x="404" y="427"/>
                    <a:pt x="407" y="412"/>
                    <a:pt x="399" y="412"/>
                  </a:cubicBezTo>
                  <a:cubicBezTo>
                    <a:pt x="389" y="412"/>
                    <a:pt x="373" y="467"/>
                    <a:pt x="391" y="412"/>
                  </a:cubicBezTo>
                  <a:cubicBezTo>
                    <a:pt x="444" y="490"/>
                    <a:pt x="319" y="452"/>
                    <a:pt x="266" y="449"/>
                  </a:cubicBezTo>
                  <a:cubicBezTo>
                    <a:pt x="255" y="427"/>
                    <a:pt x="225" y="379"/>
                    <a:pt x="251" y="353"/>
                  </a:cubicBezTo>
                  <a:cubicBezTo>
                    <a:pt x="262" y="342"/>
                    <a:pt x="280" y="348"/>
                    <a:pt x="295" y="346"/>
                  </a:cubicBezTo>
                  <a:cubicBezTo>
                    <a:pt x="322" y="348"/>
                    <a:pt x="353" y="339"/>
                    <a:pt x="377" y="353"/>
                  </a:cubicBezTo>
                  <a:cubicBezTo>
                    <a:pt x="390" y="360"/>
                    <a:pt x="370" y="393"/>
                    <a:pt x="384" y="397"/>
                  </a:cubicBezTo>
                  <a:cubicBezTo>
                    <a:pt x="401" y="402"/>
                    <a:pt x="413" y="378"/>
                    <a:pt x="428" y="368"/>
                  </a:cubicBezTo>
                  <a:cubicBezTo>
                    <a:pt x="438" y="361"/>
                    <a:pt x="403" y="373"/>
                    <a:pt x="391" y="375"/>
                  </a:cubicBezTo>
                  <a:cubicBezTo>
                    <a:pt x="394" y="365"/>
                    <a:pt x="398" y="356"/>
                    <a:pt x="399" y="346"/>
                  </a:cubicBezTo>
                  <a:cubicBezTo>
                    <a:pt x="417" y="156"/>
                    <a:pt x="352" y="218"/>
                    <a:pt x="598" y="227"/>
                  </a:cubicBezTo>
                  <a:cubicBezTo>
                    <a:pt x="596" y="269"/>
                    <a:pt x="616" y="319"/>
                    <a:pt x="591" y="353"/>
                  </a:cubicBezTo>
                  <a:cubicBezTo>
                    <a:pt x="569" y="383"/>
                    <a:pt x="510" y="340"/>
                    <a:pt x="480" y="338"/>
                  </a:cubicBezTo>
                  <a:cubicBezTo>
                    <a:pt x="391" y="333"/>
                    <a:pt x="303" y="333"/>
                    <a:pt x="214" y="331"/>
                  </a:cubicBezTo>
                  <a:cubicBezTo>
                    <a:pt x="199" y="328"/>
                    <a:pt x="176" y="337"/>
                    <a:pt x="170" y="323"/>
                  </a:cubicBezTo>
                  <a:cubicBezTo>
                    <a:pt x="140" y="250"/>
                    <a:pt x="181" y="231"/>
                    <a:pt x="229" y="220"/>
                  </a:cubicBezTo>
                  <a:cubicBezTo>
                    <a:pt x="264" y="169"/>
                    <a:pt x="244" y="166"/>
                    <a:pt x="317" y="154"/>
                  </a:cubicBezTo>
                  <a:cubicBezTo>
                    <a:pt x="374" y="156"/>
                    <a:pt x="432" y="148"/>
                    <a:pt x="487" y="161"/>
                  </a:cubicBezTo>
                  <a:cubicBezTo>
                    <a:pt x="507" y="166"/>
                    <a:pt x="532" y="205"/>
                    <a:pt x="532" y="205"/>
                  </a:cubicBezTo>
                  <a:cubicBezTo>
                    <a:pt x="549" y="258"/>
                    <a:pt x="513" y="229"/>
                    <a:pt x="487" y="227"/>
                  </a:cubicBezTo>
                  <a:cubicBezTo>
                    <a:pt x="409" y="221"/>
                    <a:pt x="330" y="222"/>
                    <a:pt x="251" y="220"/>
                  </a:cubicBezTo>
                  <a:cubicBezTo>
                    <a:pt x="251" y="219"/>
                    <a:pt x="237" y="176"/>
                    <a:pt x="236" y="176"/>
                  </a:cubicBezTo>
                  <a:cubicBezTo>
                    <a:pt x="228" y="176"/>
                    <a:pt x="232" y="191"/>
                    <a:pt x="229" y="198"/>
                  </a:cubicBezTo>
                  <a:cubicBezTo>
                    <a:pt x="225" y="208"/>
                    <a:pt x="219" y="217"/>
                    <a:pt x="214" y="227"/>
                  </a:cubicBezTo>
                  <a:cubicBezTo>
                    <a:pt x="152" y="225"/>
                    <a:pt x="88" y="237"/>
                    <a:pt x="29" y="220"/>
                  </a:cubicBezTo>
                  <a:cubicBezTo>
                    <a:pt x="15" y="216"/>
                    <a:pt x="30" y="189"/>
                    <a:pt x="37" y="176"/>
                  </a:cubicBezTo>
                  <a:cubicBezTo>
                    <a:pt x="44" y="164"/>
                    <a:pt x="110" y="156"/>
                    <a:pt x="118" y="154"/>
                  </a:cubicBezTo>
                  <a:cubicBezTo>
                    <a:pt x="208" y="162"/>
                    <a:pt x="195" y="144"/>
                    <a:pt x="214" y="205"/>
                  </a:cubicBezTo>
                  <a:cubicBezTo>
                    <a:pt x="212" y="178"/>
                    <a:pt x="230" y="138"/>
                    <a:pt x="207" y="124"/>
                  </a:cubicBezTo>
                  <a:cubicBezTo>
                    <a:pt x="190" y="113"/>
                    <a:pt x="32" y="143"/>
                    <a:pt x="0" y="146"/>
                  </a:cubicBezTo>
                  <a:cubicBezTo>
                    <a:pt x="49" y="160"/>
                    <a:pt x="92" y="141"/>
                    <a:pt x="140" y="131"/>
                  </a:cubicBezTo>
                  <a:cubicBezTo>
                    <a:pt x="152" y="134"/>
                    <a:pt x="168" y="148"/>
                    <a:pt x="177" y="139"/>
                  </a:cubicBezTo>
                  <a:cubicBezTo>
                    <a:pt x="185" y="131"/>
                    <a:pt x="159" y="70"/>
                    <a:pt x="155" y="58"/>
                  </a:cubicBezTo>
                  <a:cubicBezTo>
                    <a:pt x="193" y="0"/>
                    <a:pt x="266" y="31"/>
                    <a:pt x="325" y="50"/>
                  </a:cubicBezTo>
                  <a:cubicBezTo>
                    <a:pt x="355" y="80"/>
                    <a:pt x="348" y="94"/>
                    <a:pt x="362" y="131"/>
                  </a:cubicBezTo>
                  <a:cubicBezTo>
                    <a:pt x="299" y="163"/>
                    <a:pt x="51" y="121"/>
                    <a:pt x="185" y="146"/>
                  </a:cubicBezTo>
                  <a:cubicBezTo>
                    <a:pt x="256" y="144"/>
                    <a:pt x="328" y="149"/>
                    <a:pt x="399" y="139"/>
                  </a:cubicBezTo>
                  <a:cubicBezTo>
                    <a:pt x="408" y="138"/>
                    <a:pt x="388" y="125"/>
                    <a:pt x="384" y="117"/>
                  </a:cubicBezTo>
                  <a:cubicBezTo>
                    <a:pt x="378" y="103"/>
                    <a:pt x="369" y="72"/>
                    <a:pt x="369" y="72"/>
                  </a:cubicBezTo>
                  <a:cubicBezTo>
                    <a:pt x="501" y="47"/>
                    <a:pt x="418" y="57"/>
                    <a:pt x="620" y="65"/>
                  </a:cubicBezTo>
                  <a:cubicBezTo>
                    <a:pt x="615" y="90"/>
                    <a:pt x="615" y="116"/>
                    <a:pt x="605" y="139"/>
                  </a:cubicBezTo>
                  <a:cubicBezTo>
                    <a:pt x="602" y="147"/>
                    <a:pt x="574" y="153"/>
                    <a:pt x="583" y="154"/>
                  </a:cubicBezTo>
                  <a:cubicBezTo>
                    <a:pt x="610" y="157"/>
                    <a:pt x="638" y="149"/>
                    <a:pt x="665" y="146"/>
                  </a:cubicBezTo>
                  <a:cubicBezTo>
                    <a:pt x="678" y="143"/>
                    <a:pt x="715" y="135"/>
                    <a:pt x="716" y="131"/>
                  </a:cubicBezTo>
                  <a:cubicBezTo>
                    <a:pt x="716" y="130"/>
                    <a:pt x="707" y="78"/>
                    <a:pt x="701" y="72"/>
                  </a:cubicBezTo>
                  <a:cubicBezTo>
                    <a:pt x="696" y="67"/>
                    <a:pt x="686" y="67"/>
                    <a:pt x="679" y="65"/>
                  </a:cubicBezTo>
                  <a:cubicBezTo>
                    <a:pt x="717" y="91"/>
                    <a:pt x="740" y="89"/>
                    <a:pt x="790" y="95"/>
                  </a:cubicBezTo>
                  <a:cubicBezTo>
                    <a:pt x="784" y="114"/>
                    <a:pt x="786" y="137"/>
                    <a:pt x="775" y="154"/>
                  </a:cubicBezTo>
                  <a:cubicBezTo>
                    <a:pt x="771" y="160"/>
                    <a:pt x="761" y="160"/>
                    <a:pt x="753" y="161"/>
                  </a:cubicBezTo>
                  <a:cubicBezTo>
                    <a:pt x="692" y="165"/>
                    <a:pt x="630" y="166"/>
                    <a:pt x="569" y="168"/>
                  </a:cubicBezTo>
                  <a:cubicBezTo>
                    <a:pt x="611" y="237"/>
                    <a:pt x="553" y="211"/>
                    <a:pt x="495" y="205"/>
                  </a:cubicBezTo>
                  <a:cubicBezTo>
                    <a:pt x="525" y="187"/>
                    <a:pt x="551" y="186"/>
                    <a:pt x="561" y="154"/>
                  </a:cubicBezTo>
                  <a:cubicBezTo>
                    <a:pt x="554" y="151"/>
                    <a:pt x="547" y="148"/>
                    <a:pt x="539" y="146"/>
                  </a:cubicBezTo>
                  <a:cubicBezTo>
                    <a:pt x="522" y="143"/>
                    <a:pt x="504" y="142"/>
                    <a:pt x="487" y="139"/>
                  </a:cubicBezTo>
                  <a:cubicBezTo>
                    <a:pt x="416" y="129"/>
                    <a:pt x="423" y="131"/>
                    <a:pt x="480" y="13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00"/>
            <p:cNvSpPr/>
            <p:nvPr/>
          </p:nvSpPr>
          <p:spPr>
            <a:xfrm>
              <a:off x="2049480" y="1452600"/>
              <a:ext cx="1747800" cy="1355760"/>
            </a:xfrm>
            <a:custGeom>
              <a:avLst/>
              <a:gdLst/>
              <a:ahLst/>
              <a:rect l="l" t="t" r="r" b="b"/>
              <a:pathLst>
                <a:path w="1101" h="854">
                  <a:moveTo>
                    <a:pt x="799" y="558"/>
                  </a:moveTo>
                  <a:cubicBezTo>
                    <a:pt x="812" y="600"/>
                    <a:pt x="828" y="621"/>
                    <a:pt x="865" y="640"/>
                  </a:cubicBezTo>
                  <a:cubicBezTo>
                    <a:pt x="902" y="637"/>
                    <a:pt x="940" y="641"/>
                    <a:pt x="976" y="632"/>
                  </a:cubicBezTo>
                  <a:cubicBezTo>
                    <a:pt x="983" y="630"/>
                    <a:pt x="983" y="618"/>
                    <a:pt x="983" y="610"/>
                  </a:cubicBezTo>
                  <a:cubicBezTo>
                    <a:pt x="983" y="546"/>
                    <a:pt x="992" y="556"/>
                    <a:pt x="954" y="544"/>
                  </a:cubicBezTo>
                  <a:cubicBezTo>
                    <a:pt x="736" y="556"/>
                    <a:pt x="837" y="546"/>
                    <a:pt x="961" y="558"/>
                  </a:cubicBezTo>
                  <a:cubicBezTo>
                    <a:pt x="969" y="559"/>
                    <a:pt x="975" y="565"/>
                    <a:pt x="983" y="566"/>
                  </a:cubicBezTo>
                  <a:cubicBezTo>
                    <a:pt x="1018" y="570"/>
                    <a:pt x="1052" y="571"/>
                    <a:pt x="1087" y="573"/>
                  </a:cubicBezTo>
                  <a:cubicBezTo>
                    <a:pt x="1099" y="611"/>
                    <a:pt x="1099" y="639"/>
                    <a:pt x="1065" y="662"/>
                  </a:cubicBezTo>
                  <a:cubicBezTo>
                    <a:pt x="887" y="648"/>
                    <a:pt x="963" y="643"/>
                    <a:pt x="1013" y="677"/>
                  </a:cubicBezTo>
                  <a:cubicBezTo>
                    <a:pt x="1008" y="697"/>
                    <a:pt x="1017" y="728"/>
                    <a:pt x="998" y="736"/>
                  </a:cubicBezTo>
                  <a:cubicBezTo>
                    <a:pt x="899" y="779"/>
                    <a:pt x="900" y="746"/>
                    <a:pt x="887" y="699"/>
                  </a:cubicBezTo>
                  <a:cubicBezTo>
                    <a:pt x="872" y="730"/>
                    <a:pt x="862" y="741"/>
                    <a:pt x="873" y="773"/>
                  </a:cubicBezTo>
                  <a:cubicBezTo>
                    <a:pt x="922" y="770"/>
                    <a:pt x="971" y="765"/>
                    <a:pt x="1020" y="765"/>
                  </a:cubicBezTo>
                  <a:cubicBezTo>
                    <a:pt x="1042" y="765"/>
                    <a:pt x="1073" y="755"/>
                    <a:pt x="1087" y="773"/>
                  </a:cubicBezTo>
                  <a:cubicBezTo>
                    <a:pt x="1101" y="790"/>
                    <a:pt x="1082" y="817"/>
                    <a:pt x="1079" y="839"/>
                  </a:cubicBezTo>
                  <a:cubicBezTo>
                    <a:pt x="1035" y="837"/>
                    <a:pt x="989" y="845"/>
                    <a:pt x="947" y="832"/>
                  </a:cubicBezTo>
                  <a:cubicBezTo>
                    <a:pt x="936" y="829"/>
                    <a:pt x="958" y="791"/>
                    <a:pt x="961" y="802"/>
                  </a:cubicBezTo>
                  <a:cubicBezTo>
                    <a:pt x="966" y="819"/>
                    <a:pt x="956" y="837"/>
                    <a:pt x="954" y="854"/>
                  </a:cubicBezTo>
                  <a:cubicBezTo>
                    <a:pt x="895" y="851"/>
                    <a:pt x="836" y="850"/>
                    <a:pt x="777" y="846"/>
                  </a:cubicBezTo>
                  <a:cubicBezTo>
                    <a:pt x="769" y="845"/>
                    <a:pt x="758" y="846"/>
                    <a:pt x="755" y="839"/>
                  </a:cubicBezTo>
                  <a:cubicBezTo>
                    <a:pt x="732" y="783"/>
                    <a:pt x="843" y="770"/>
                    <a:pt x="873" y="765"/>
                  </a:cubicBezTo>
                  <a:cubicBezTo>
                    <a:pt x="831" y="758"/>
                    <a:pt x="782" y="774"/>
                    <a:pt x="747" y="750"/>
                  </a:cubicBezTo>
                  <a:cubicBezTo>
                    <a:pt x="736" y="743"/>
                    <a:pt x="753" y="722"/>
                    <a:pt x="762" y="713"/>
                  </a:cubicBezTo>
                  <a:cubicBezTo>
                    <a:pt x="771" y="704"/>
                    <a:pt x="855" y="695"/>
                    <a:pt x="873" y="691"/>
                  </a:cubicBezTo>
                  <a:cubicBezTo>
                    <a:pt x="811" y="671"/>
                    <a:pt x="745" y="650"/>
                    <a:pt x="681" y="640"/>
                  </a:cubicBezTo>
                  <a:cubicBezTo>
                    <a:pt x="678" y="630"/>
                    <a:pt x="677" y="620"/>
                    <a:pt x="673" y="610"/>
                  </a:cubicBezTo>
                  <a:cubicBezTo>
                    <a:pt x="669" y="600"/>
                    <a:pt x="655" y="591"/>
                    <a:pt x="659" y="581"/>
                  </a:cubicBezTo>
                  <a:cubicBezTo>
                    <a:pt x="663" y="572"/>
                    <a:pt x="678" y="574"/>
                    <a:pt x="688" y="573"/>
                  </a:cubicBezTo>
                  <a:cubicBezTo>
                    <a:pt x="725" y="569"/>
                    <a:pt x="762" y="568"/>
                    <a:pt x="799" y="566"/>
                  </a:cubicBezTo>
                  <a:cubicBezTo>
                    <a:pt x="786" y="531"/>
                    <a:pt x="784" y="514"/>
                    <a:pt x="791" y="477"/>
                  </a:cubicBezTo>
                  <a:cubicBezTo>
                    <a:pt x="863" y="482"/>
                    <a:pt x="930" y="459"/>
                    <a:pt x="902" y="536"/>
                  </a:cubicBezTo>
                  <a:cubicBezTo>
                    <a:pt x="874" y="521"/>
                    <a:pt x="855" y="501"/>
                    <a:pt x="828" y="485"/>
                  </a:cubicBezTo>
                  <a:cubicBezTo>
                    <a:pt x="756" y="490"/>
                    <a:pt x="736" y="487"/>
                    <a:pt x="681" y="507"/>
                  </a:cubicBezTo>
                  <a:cubicBezTo>
                    <a:pt x="621" y="500"/>
                    <a:pt x="595" y="507"/>
                    <a:pt x="614" y="448"/>
                  </a:cubicBezTo>
                  <a:cubicBezTo>
                    <a:pt x="673" y="450"/>
                    <a:pt x="734" y="440"/>
                    <a:pt x="791" y="455"/>
                  </a:cubicBezTo>
                  <a:cubicBezTo>
                    <a:pt x="803" y="458"/>
                    <a:pt x="791" y="502"/>
                    <a:pt x="784" y="492"/>
                  </a:cubicBezTo>
                  <a:cubicBezTo>
                    <a:pt x="766" y="467"/>
                    <a:pt x="772" y="429"/>
                    <a:pt x="755" y="403"/>
                  </a:cubicBezTo>
                  <a:cubicBezTo>
                    <a:pt x="726" y="299"/>
                    <a:pt x="748" y="352"/>
                    <a:pt x="555" y="359"/>
                  </a:cubicBezTo>
                  <a:cubicBezTo>
                    <a:pt x="558" y="396"/>
                    <a:pt x="569" y="433"/>
                    <a:pt x="563" y="470"/>
                  </a:cubicBezTo>
                  <a:cubicBezTo>
                    <a:pt x="561" y="480"/>
                    <a:pt x="549" y="454"/>
                    <a:pt x="540" y="448"/>
                  </a:cubicBezTo>
                  <a:cubicBezTo>
                    <a:pt x="535" y="445"/>
                    <a:pt x="492" y="429"/>
                    <a:pt x="481" y="425"/>
                  </a:cubicBezTo>
                  <a:cubicBezTo>
                    <a:pt x="466" y="420"/>
                    <a:pt x="437" y="411"/>
                    <a:pt x="437" y="411"/>
                  </a:cubicBezTo>
                  <a:cubicBezTo>
                    <a:pt x="449" y="357"/>
                    <a:pt x="436" y="339"/>
                    <a:pt x="489" y="322"/>
                  </a:cubicBezTo>
                  <a:cubicBezTo>
                    <a:pt x="515" y="314"/>
                    <a:pt x="570" y="307"/>
                    <a:pt x="570" y="307"/>
                  </a:cubicBezTo>
                  <a:cubicBezTo>
                    <a:pt x="615" y="315"/>
                    <a:pt x="636" y="307"/>
                    <a:pt x="681" y="315"/>
                  </a:cubicBezTo>
                  <a:cubicBezTo>
                    <a:pt x="670" y="275"/>
                    <a:pt x="655" y="249"/>
                    <a:pt x="622" y="226"/>
                  </a:cubicBezTo>
                  <a:cubicBezTo>
                    <a:pt x="548" y="228"/>
                    <a:pt x="473" y="223"/>
                    <a:pt x="400" y="233"/>
                  </a:cubicBezTo>
                  <a:cubicBezTo>
                    <a:pt x="392" y="234"/>
                    <a:pt x="396" y="263"/>
                    <a:pt x="393" y="256"/>
                  </a:cubicBezTo>
                  <a:cubicBezTo>
                    <a:pt x="385" y="238"/>
                    <a:pt x="388" y="217"/>
                    <a:pt x="385" y="197"/>
                  </a:cubicBezTo>
                  <a:cubicBezTo>
                    <a:pt x="326" y="199"/>
                    <a:pt x="265" y="190"/>
                    <a:pt x="208" y="204"/>
                  </a:cubicBezTo>
                  <a:cubicBezTo>
                    <a:pt x="196" y="207"/>
                    <a:pt x="212" y="236"/>
                    <a:pt x="201" y="241"/>
                  </a:cubicBezTo>
                  <a:cubicBezTo>
                    <a:pt x="192" y="245"/>
                    <a:pt x="197" y="221"/>
                    <a:pt x="193" y="211"/>
                  </a:cubicBezTo>
                  <a:cubicBezTo>
                    <a:pt x="189" y="201"/>
                    <a:pt x="183" y="192"/>
                    <a:pt x="179" y="182"/>
                  </a:cubicBezTo>
                  <a:cubicBezTo>
                    <a:pt x="176" y="175"/>
                    <a:pt x="174" y="167"/>
                    <a:pt x="171" y="160"/>
                  </a:cubicBezTo>
                  <a:cubicBezTo>
                    <a:pt x="222" y="125"/>
                    <a:pt x="265" y="122"/>
                    <a:pt x="326" y="115"/>
                  </a:cubicBezTo>
                  <a:cubicBezTo>
                    <a:pt x="440" y="127"/>
                    <a:pt x="393" y="97"/>
                    <a:pt x="393" y="226"/>
                  </a:cubicBezTo>
                  <a:cubicBezTo>
                    <a:pt x="393" y="251"/>
                    <a:pt x="392" y="176"/>
                    <a:pt x="400" y="152"/>
                  </a:cubicBezTo>
                  <a:cubicBezTo>
                    <a:pt x="403" y="144"/>
                    <a:pt x="415" y="142"/>
                    <a:pt x="422" y="137"/>
                  </a:cubicBezTo>
                  <a:cubicBezTo>
                    <a:pt x="464" y="140"/>
                    <a:pt x="507" y="136"/>
                    <a:pt x="548" y="145"/>
                  </a:cubicBezTo>
                  <a:cubicBezTo>
                    <a:pt x="556" y="147"/>
                    <a:pt x="555" y="175"/>
                    <a:pt x="555" y="167"/>
                  </a:cubicBezTo>
                  <a:cubicBezTo>
                    <a:pt x="555" y="23"/>
                    <a:pt x="562" y="64"/>
                    <a:pt x="467" y="34"/>
                  </a:cubicBezTo>
                  <a:cubicBezTo>
                    <a:pt x="435" y="36"/>
                    <a:pt x="402" y="32"/>
                    <a:pt x="371" y="41"/>
                  </a:cubicBezTo>
                  <a:cubicBezTo>
                    <a:pt x="363" y="43"/>
                    <a:pt x="371" y="64"/>
                    <a:pt x="363" y="64"/>
                  </a:cubicBezTo>
                  <a:cubicBezTo>
                    <a:pt x="355" y="64"/>
                    <a:pt x="362" y="47"/>
                    <a:pt x="356" y="41"/>
                  </a:cubicBezTo>
                  <a:cubicBezTo>
                    <a:pt x="351" y="35"/>
                    <a:pt x="341" y="36"/>
                    <a:pt x="334" y="34"/>
                  </a:cubicBezTo>
                  <a:cubicBezTo>
                    <a:pt x="269" y="46"/>
                    <a:pt x="165" y="0"/>
                    <a:pt x="142" y="71"/>
                  </a:cubicBezTo>
                  <a:cubicBezTo>
                    <a:pt x="126" y="66"/>
                    <a:pt x="21" y="69"/>
                    <a:pt x="16" y="78"/>
                  </a:cubicBezTo>
                  <a:cubicBezTo>
                    <a:pt x="0" y="106"/>
                    <a:pt x="16" y="142"/>
                    <a:pt x="16" y="1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01"/>
            <p:cNvSpPr/>
            <p:nvPr/>
          </p:nvSpPr>
          <p:spPr>
            <a:xfrm>
              <a:off x="3705120" y="917640"/>
              <a:ext cx="1541520" cy="404640"/>
            </a:xfrm>
            <a:custGeom>
              <a:avLst/>
              <a:gdLst/>
              <a:ahLst/>
              <a:rect l="l" t="t" r="r" b="b"/>
              <a:pathLst>
                <a:path w="971" h="255">
                  <a:moveTo>
                    <a:pt x="0" y="172"/>
                  </a:moveTo>
                  <a:cubicBezTo>
                    <a:pt x="7" y="213"/>
                    <a:pt x="4" y="232"/>
                    <a:pt x="44" y="246"/>
                  </a:cubicBezTo>
                  <a:cubicBezTo>
                    <a:pt x="98" y="243"/>
                    <a:pt x="155" y="255"/>
                    <a:pt x="206" y="238"/>
                  </a:cubicBezTo>
                  <a:cubicBezTo>
                    <a:pt x="220" y="233"/>
                    <a:pt x="207" y="206"/>
                    <a:pt x="199" y="194"/>
                  </a:cubicBezTo>
                  <a:cubicBezTo>
                    <a:pt x="189" y="179"/>
                    <a:pt x="170" y="174"/>
                    <a:pt x="155" y="164"/>
                  </a:cubicBezTo>
                  <a:cubicBezTo>
                    <a:pt x="120" y="140"/>
                    <a:pt x="71" y="159"/>
                    <a:pt x="29" y="157"/>
                  </a:cubicBezTo>
                  <a:cubicBezTo>
                    <a:pt x="83" y="155"/>
                    <a:pt x="138" y="159"/>
                    <a:pt x="192" y="150"/>
                  </a:cubicBezTo>
                  <a:cubicBezTo>
                    <a:pt x="210" y="147"/>
                    <a:pt x="219" y="125"/>
                    <a:pt x="236" y="120"/>
                  </a:cubicBezTo>
                  <a:cubicBezTo>
                    <a:pt x="307" y="128"/>
                    <a:pt x="348" y="151"/>
                    <a:pt x="398" y="201"/>
                  </a:cubicBezTo>
                  <a:cubicBezTo>
                    <a:pt x="396" y="208"/>
                    <a:pt x="398" y="221"/>
                    <a:pt x="391" y="223"/>
                  </a:cubicBezTo>
                  <a:cubicBezTo>
                    <a:pt x="368" y="231"/>
                    <a:pt x="318" y="204"/>
                    <a:pt x="295" y="201"/>
                  </a:cubicBezTo>
                  <a:cubicBezTo>
                    <a:pt x="251" y="195"/>
                    <a:pt x="206" y="192"/>
                    <a:pt x="162" y="186"/>
                  </a:cubicBezTo>
                  <a:cubicBezTo>
                    <a:pt x="110" y="23"/>
                    <a:pt x="429" y="122"/>
                    <a:pt x="502" y="120"/>
                  </a:cubicBezTo>
                  <a:cubicBezTo>
                    <a:pt x="490" y="103"/>
                    <a:pt x="477" y="85"/>
                    <a:pt x="465" y="68"/>
                  </a:cubicBezTo>
                  <a:cubicBezTo>
                    <a:pt x="460" y="61"/>
                    <a:pt x="450" y="46"/>
                    <a:pt x="450" y="46"/>
                  </a:cubicBezTo>
                  <a:cubicBezTo>
                    <a:pt x="423" y="49"/>
                    <a:pt x="396" y="51"/>
                    <a:pt x="369" y="54"/>
                  </a:cubicBezTo>
                  <a:cubicBezTo>
                    <a:pt x="352" y="56"/>
                    <a:pt x="329" y="48"/>
                    <a:pt x="317" y="61"/>
                  </a:cubicBezTo>
                  <a:cubicBezTo>
                    <a:pt x="303" y="77"/>
                    <a:pt x="337" y="142"/>
                    <a:pt x="347" y="157"/>
                  </a:cubicBezTo>
                  <a:cubicBezTo>
                    <a:pt x="349" y="127"/>
                    <a:pt x="327" y="80"/>
                    <a:pt x="354" y="68"/>
                  </a:cubicBezTo>
                  <a:cubicBezTo>
                    <a:pt x="370" y="61"/>
                    <a:pt x="558" y="78"/>
                    <a:pt x="612" y="83"/>
                  </a:cubicBezTo>
                  <a:cubicBezTo>
                    <a:pt x="658" y="211"/>
                    <a:pt x="498" y="146"/>
                    <a:pt x="406" y="142"/>
                  </a:cubicBezTo>
                  <a:cubicBezTo>
                    <a:pt x="362" y="128"/>
                    <a:pt x="374" y="91"/>
                    <a:pt x="369" y="46"/>
                  </a:cubicBezTo>
                  <a:cubicBezTo>
                    <a:pt x="411" y="24"/>
                    <a:pt x="456" y="17"/>
                    <a:pt x="502" y="9"/>
                  </a:cubicBezTo>
                  <a:cubicBezTo>
                    <a:pt x="610" y="20"/>
                    <a:pt x="593" y="0"/>
                    <a:pt x="568" y="90"/>
                  </a:cubicBezTo>
                  <a:cubicBezTo>
                    <a:pt x="651" y="120"/>
                    <a:pt x="789" y="30"/>
                    <a:pt x="768" y="142"/>
                  </a:cubicBezTo>
                  <a:cubicBezTo>
                    <a:pt x="699" y="140"/>
                    <a:pt x="629" y="148"/>
                    <a:pt x="561" y="135"/>
                  </a:cubicBezTo>
                  <a:cubicBezTo>
                    <a:pt x="560" y="135"/>
                    <a:pt x="576" y="76"/>
                    <a:pt x="576" y="76"/>
                  </a:cubicBezTo>
                  <a:cubicBezTo>
                    <a:pt x="589" y="69"/>
                    <a:pt x="664" y="57"/>
                    <a:pt x="686" y="54"/>
                  </a:cubicBezTo>
                  <a:cubicBezTo>
                    <a:pt x="723" y="42"/>
                    <a:pt x="760" y="36"/>
                    <a:pt x="797" y="24"/>
                  </a:cubicBezTo>
                  <a:cubicBezTo>
                    <a:pt x="832" y="38"/>
                    <a:pt x="851" y="38"/>
                    <a:pt x="871" y="68"/>
                  </a:cubicBezTo>
                  <a:cubicBezTo>
                    <a:pt x="869" y="78"/>
                    <a:pt x="874" y="96"/>
                    <a:pt x="864" y="98"/>
                  </a:cubicBezTo>
                  <a:cubicBezTo>
                    <a:pt x="752" y="123"/>
                    <a:pt x="651" y="85"/>
                    <a:pt x="731" y="113"/>
                  </a:cubicBezTo>
                  <a:cubicBezTo>
                    <a:pt x="733" y="133"/>
                    <a:pt x="719" y="168"/>
                    <a:pt x="738" y="172"/>
                  </a:cubicBezTo>
                  <a:cubicBezTo>
                    <a:pt x="950" y="219"/>
                    <a:pt x="939" y="229"/>
                    <a:pt x="967" y="142"/>
                  </a:cubicBezTo>
                  <a:cubicBezTo>
                    <a:pt x="965" y="122"/>
                    <a:pt x="971" y="99"/>
                    <a:pt x="960" y="83"/>
                  </a:cubicBezTo>
                  <a:cubicBezTo>
                    <a:pt x="942" y="56"/>
                    <a:pt x="864" y="83"/>
                    <a:pt x="864" y="8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02"/>
            <p:cNvSpPr/>
            <p:nvPr/>
          </p:nvSpPr>
          <p:spPr>
            <a:xfrm>
              <a:off x="3322800" y="1263600"/>
              <a:ext cx="825480" cy="290520"/>
            </a:xfrm>
            <a:custGeom>
              <a:avLst/>
              <a:gdLst/>
              <a:ahLst/>
              <a:rect l="l" t="t" r="r" b="b"/>
              <a:pathLst>
                <a:path w="520" h="183">
                  <a:moveTo>
                    <a:pt x="63" y="42"/>
                  </a:moveTo>
                  <a:cubicBezTo>
                    <a:pt x="79" y="103"/>
                    <a:pt x="106" y="84"/>
                    <a:pt x="159" y="101"/>
                  </a:cubicBezTo>
                  <a:cubicBezTo>
                    <a:pt x="184" y="99"/>
                    <a:pt x="217" y="113"/>
                    <a:pt x="233" y="94"/>
                  </a:cubicBezTo>
                  <a:cubicBezTo>
                    <a:pt x="285" y="31"/>
                    <a:pt x="231" y="22"/>
                    <a:pt x="204" y="13"/>
                  </a:cubicBezTo>
                  <a:cubicBezTo>
                    <a:pt x="167" y="15"/>
                    <a:pt x="124" y="0"/>
                    <a:pt x="93" y="20"/>
                  </a:cubicBezTo>
                  <a:cubicBezTo>
                    <a:pt x="0" y="78"/>
                    <a:pt x="101" y="91"/>
                    <a:pt x="115" y="94"/>
                  </a:cubicBezTo>
                  <a:cubicBezTo>
                    <a:pt x="183" y="162"/>
                    <a:pt x="171" y="161"/>
                    <a:pt x="359" y="109"/>
                  </a:cubicBezTo>
                  <a:cubicBezTo>
                    <a:pt x="376" y="104"/>
                    <a:pt x="354" y="74"/>
                    <a:pt x="351" y="57"/>
                  </a:cubicBezTo>
                  <a:cubicBezTo>
                    <a:pt x="230" y="67"/>
                    <a:pt x="251" y="49"/>
                    <a:pt x="263" y="168"/>
                  </a:cubicBezTo>
                  <a:cubicBezTo>
                    <a:pt x="337" y="165"/>
                    <a:pt x="411" y="171"/>
                    <a:pt x="484" y="160"/>
                  </a:cubicBezTo>
                  <a:cubicBezTo>
                    <a:pt x="493" y="159"/>
                    <a:pt x="473" y="146"/>
                    <a:pt x="469" y="138"/>
                  </a:cubicBezTo>
                  <a:cubicBezTo>
                    <a:pt x="450" y="95"/>
                    <a:pt x="458" y="81"/>
                    <a:pt x="410" y="64"/>
                  </a:cubicBezTo>
                  <a:cubicBezTo>
                    <a:pt x="368" y="67"/>
                    <a:pt x="326" y="63"/>
                    <a:pt x="285" y="72"/>
                  </a:cubicBezTo>
                  <a:cubicBezTo>
                    <a:pt x="276" y="74"/>
                    <a:pt x="261" y="92"/>
                    <a:pt x="270" y="94"/>
                  </a:cubicBezTo>
                  <a:cubicBezTo>
                    <a:pt x="316" y="105"/>
                    <a:pt x="363" y="99"/>
                    <a:pt x="410" y="101"/>
                  </a:cubicBezTo>
                  <a:cubicBezTo>
                    <a:pt x="411" y="101"/>
                    <a:pt x="507" y="124"/>
                    <a:pt x="514" y="131"/>
                  </a:cubicBezTo>
                  <a:cubicBezTo>
                    <a:pt x="520" y="137"/>
                    <a:pt x="509" y="146"/>
                    <a:pt x="506" y="153"/>
                  </a:cubicBezTo>
                  <a:cubicBezTo>
                    <a:pt x="504" y="160"/>
                    <a:pt x="504" y="169"/>
                    <a:pt x="499" y="175"/>
                  </a:cubicBezTo>
                  <a:cubicBezTo>
                    <a:pt x="494" y="181"/>
                    <a:pt x="484" y="180"/>
                    <a:pt x="477" y="183"/>
                  </a:cubicBezTo>
                  <a:cubicBezTo>
                    <a:pt x="423" y="169"/>
                    <a:pt x="369" y="160"/>
                    <a:pt x="314" y="153"/>
                  </a:cubicBezTo>
                  <a:cubicBezTo>
                    <a:pt x="311" y="151"/>
                    <a:pt x="253" y="93"/>
                    <a:pt x="277" y="87"/>
                  </a:cubicBezTo>
                  <a:cubicBezTo>
                    <a:pt x="318" y="77"/>
                    <a:pt x="361" y="87"/>
                    <a:pt x="403" y="8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03"/>
            <p:cNvSpPr/>
            <p:nvPr/>
          </p:nvSpPr>
          <p:spPr>
            <a:xfrm>
              <a:off x="5484960" y="1131840"/>
              <a:ext cx="742680" cy="349200"/>
            </a:xfrm>
            <a:custGeom>
              <a:avLst/>
              <a:gdLst/>
              <a:ahLst/>
              <a:rect l="l" t="t" r="r" b="b"/>
              <a:pathLst>
                <a:path w="468" h="220">
                  <a:moveTo>
                    <a:pt x="75" y="111"/>
                  </a:moveTo>
                  <a:cubicBezTo>
                    <a:pt x="77" y="131"/>
                    <a:pt x="63" y="165"/>
                    <a:pt x="82" y="170"/>
                  </a:cubicBezTo>
                  <a:cubicBezTo>
                    <a:pt x="275" y="220"/>
                    <a:pt x="308" y="181"/>
                    <a:pt x="245" y="81"/>
                  </a:cubicBezTo>
                  <a:cubicBezTo>
                    <a:pt x="198" y="83"/>
                    <a:pt x="151" y="85"/>
                    <a:pt x="104" y="88"/>
                  </a:cubicBezTo>
                  <a:cubicBezTo>
                    <a:pt x="72" y="90"/>
                    <a:pt x="38" y="85"/>
                    <a:pt x="8" y="96"/>
                  </a:cubicBezTo>
                  <a:cubicBezTo>
                    <a:pt x="0" y="99"/>
                    <a:pt x="18" y="111"/>
                    <a:pt x="23" y="118"/>
                  </a:cubicBezTo>
                  <a:cubicBezTo>
                    <a:pt x="44" y="147"/>
                    <a:pt x="69" y="188"/>
                    <a:pt x="104" y="199"/>
                  </a:cubicBezTo>
                  <a:cubicBezTo>
                    <a:pt x="131" y="197"/>
                    <a:pt x="159" y="195"/>
                    <a:pt x="186" y="192"/>
                  </a:cubicBezTo>
                  <a:cubicBezTo>
                    <a:pt x="208" y="190"/>
                    <a:pt x="234" y="197"/>
                    <a:pt x="252" y="184"/>
                  </a:cubicBezTo>
                  <a:cubicBezTo>
                    <a:pt x="267" y="173"/>
                    <a:pt x="236" y="151"/>
                    <a:pt x="230" y="133"/>
                  </a:cubicBezTo>
                  <a:cubicBezTo>
                    <a:pt x="248" y="35"/>
                    <a:pt x="235" y="41"/>
                    <a:pt x="451" y="103"/>
                  </a:cubicBezTo>
                  <a:cubicBezTo>
                    <a:pt x="468" y="108"/>
                    <a:pt x="461" y="150"/>
                    <a:pt x="444" y="155"/>
                  </a:cubicBezTo>
                  <a:cubicBezTo>
                    <a:pt x="383" y="173"/>
                    <a:pt x="316" y="160"/>
                    <a:pt x="252" y="162"/>
                  </a:cubicBezTo>
                  <a:cubicBezTo>
                    <a:pt x="282" y="68"/>
                    <a:pt x="229" y="99"/>
                    <a:pt x="370" y="88"/>
                  </a:cubicBezTo>
                  <a:cubicBezTo>
                    <a:pt x="360" y="16"/>
                    <a:pt x="362" y="15"/>
                    <a:pt x="296" y="0"/>
                  </a:cubicBezTo>
                  <a:cubicBezTo>
                    <a:pt x="274" y="2"/>
                    <a:pt x="251" y="0"/>
                    <a:pt x="230" y="7"/>
                  </a:cubicBezTo>
                  <a:cubicBezTo>
                    <a:pt x="217" y="12"/>
                    <a:pt x="200" y="63"/>
                    <a:pt x="193" y="74"/>
                  </a:cubicBezTo>
                  <a:cubicBezTo>
                    <a:pt x="191" y="81"/>
                    <a:pt x="194" y="96"/>
                    <a:pt x="186" y="96"/>
                  </a:cubicBezTo>
                  <a:cubicBezTo>
                    <a:pt x="171" y="96"/>
                    <a:pt x="174" y="60"/>
                    <a:pt x="186" y="51"/>
                  </a:cubicBezTo>
                  <a:cubicBezTo>
                    <a:pt x="194" y="45"/>
                    <a:pt x="205" y="46"/>
                    <a:pt x="215" y="44"/>
                  </a:cubicBezTo>
                  <a:cubicBezTo>
                    <a:pt x="218" y="44"/>
                    <a:pt x="347" y="17"/>
                    <a:pt x="355" y="74"/>
                  </a:cubicBezTo>
                  <a:cubicBezTo>
                    <a:pt x="362" y="129"/>
                    <a:pt x="193" y="118"/>
                    <a:pt x="193" y="1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05"/>
            <p:cNvSpPr/>
            <p:nvPr/>
          </p:nvSpPr>
          <p:spPr>
            <a:xfrm>
              <a:off x="5351400" y="1049400"/>
              <a:ext cx="322200" cy="212760"/>
            </a:xfrm>
            <a:custGeom>
              <a:avLst/>
              <a:gdLst/>
              <a:ahLst/>
              <a:rect l="l" t="t" r="r" b="b"/>
              <a:pathLst>
                <a:path w="203" h="134">
                  <a:moveTo>
                    <a:pt x="11" y="7"/>
                  </a:moveTo>
                  <a:cubicBezTo>
                    <a:pt x="22" y="111"/>
                    <a:pt x="0" y="134"/>
                    <a:pt x="181" y="74"/>
                  </a:cubicBezTo>
                  <a:cubicBezTo>
                    <a:pt x="203" y="67"/>
                    <a:pt x="182" y="10"/>
                    <a:pt x="159" y="7"/>
                  </a:cubicBezTo>
                  <a:cubicBezTo>
                    <a:pt x="110" y="0"/>
                    <a:pt x="60" y="7"/>
                    <a:pt x="11" y="7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06"/>
            <p:cNvSpPr/>
            <p:nvPr/>
          </p:nvSpPr>
          <p:spPr>
            <a:xfrm>
              <a:off x="5454720" y="939960"/>
              <a:ext cx="393480" cy="188640"/>
            </a:xfrm>
            <a:custGeom>
              <a:avLst/>
              <a:gdLst/>
              <a:ahLst/>
              <a:rect l="l" t="t" r="r" b="b"/>
              <a:pathLst>
                <a:path w="248" h="119">
                  <a:moveTo>
                    <a:pt x="13" y="10"/>
                  </a:moveTo>
                  <a:cubicBezTo>
                    <a:pt x="17" y="27"/>
                    <a:pt x="12" y="52"/>
                    <a:pt x="27" y="62"/>
                  </a:cubicBezTo>
                  <a:cubicBezTo>
                    <a:pt x="40" y="71"/>
                    <a:pt x="72" y="76"/>
                    <a:pt x="72" y="76"/>
                  </a:cubicBezTo>
                  <a:cubicBezTo>
                    <a:pt x="84" y="75"/>
                    <a:pt x="231" y="89"/>
                    <a:pt x="182" y="17"/>
                  </a:cubicBezTo>
                  <a:cubicBezTo>
                    <a:pt x="177" y="10"/>
                    <a:pt x="167" y="8"/>
                    <a:pt x="160" y="3"/>
                  </a:cubicBezTo>
                  <a:cubicBezTo>
                    <a:pt x="113" y="5"/>
                    <a:pt x="66" y="0"/>
                    <a:pt x="20" y="10"/>
                  </a:cubicBezTo>
                  <a:cubicBezTo>
                    <a:pt x="6" y="13"/>
                    <a:pt x="36" y="39"/>
                    <a:pt x="50" y="40"/>
                  </a:cubicBezTo>
                  <a:cubicBezTo>
                    <a:pt x="114" y="44"/>
                    <a:pt x="178" y="45"/>
                    <a:pt x="242" y="47"/>
                  </a:cubicBezTo>
                  <a:cubicBezTo>
                    <a:pt x="216" y="119"/>
                    <a:pt x="77" y="71"/>
                    <a:pt x="35" y="69"/>
                  </a:cubicBezTo>
                  <a:cubicBezTo>
                    <a:pt x="0" y="34"/>
                    <a:pt x="0" y="22"/>
                    <a:pt x="50" y="10"/>
                  </a:cubicBezTo>
                  <a:cubicBezTo>
                    <a:pt x="109" y="12"/>
                    <a:pt x="170" y="2"/>
                    <a:pt x="227" y="17"/>
                  </a:cubicBezTo>
                  <a:cubicBezTo>
                    <a:pt x="248" y="23"/>
                    <a:pt x="219" y="73"/>
                    <a:pt x="197" y="76"/>
                  </a:cubicBezTo>
                  <a:cubicBezTo>
                    <a:pt x="139" y="85"/>
                    <a:pt x="20" y="84"/>
                    <a:pt x="20" y="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07"/>
            <p:cNvSpPr/>
            <p:nvPr/>
          </p:nvSpPr>
          <p:spPr>
            <a:xfrm>
              <a:off x="3200400" y="2806560"/>
              <a:ext cx="566640" cy="878040"/>
            </a:xfrm>
            <a:custGeom>
              <a:avLst/>
              <a:gdLst/>
              <a:ahLst/>
              <a:rect l="l" t="t" r="r" b="b"/>
              <a:pathLst>
                <a:path w="357" h="553">
                  <a:moveTo>
                    <a:pt x="185" y="38"/>
                  </a:moveTo>
                  <a:cubicBezTo>
                    <a:pt x="187" y="60"/>
                    <a:pt x="174" y="91"/>
                    <a:pt x="192" y="104"/>
                  </a:cubicBezTo>
                  <a:cubicBezTo>
                    <a:pt x="221" y="125"/>
                    <a:pt x="318" y="108"/>
                    <a:pt x="354" y="104"/>
                  </a:cubicBezTo>
                  <a:cubicBezTo>
                    <a:pt x="345" y="90"/>
                    <a:pt x="342" y="73"/>
                    <a:pt x="332" y="60"/>
                  </a:cubicBezTo>
                  <a:cubicBezTo>
                    <a:pt x="303" y="24"/>
                    <a:pt x="200" y="25"/>
                    <a:pt x="170" y="23"/>
                  </a:cubicBezTo>
                  <a:cubicBezTo>
                    <a:pt x="163" y="21"/>
                    <a:pt x="155" y="18"/>
                    <a:pt x="148" y="16"/>
                  </a:cubicBezTo>
                  <a:cubicBezTo>
                    <a:pt x="141" y="13"/>
                    <a:pt x="125" y="0"/>
                    <a:pt x="126" y="8"/>
                  </a:cubicBezTo>
                  <a:cubicBezTo>
                    <a:pt x="129" y="25"/>
                    <a:pt x="155" y="52"/>
                    <a:pt x="155" y="52"/>
                  </a:cubicBezTo>
                  <a:cubicBezTo>
                    <a:pt x="169" y="203"/>
                    <a:pt x="132" y="67"/>
                    <a:pt x="303" y="134"/>
                  </a:cubicBezTo>
                  <a:cubicBezTo>
                    <a:pt x="317" y="139"/>
                    <a:pt x="299" y="164"/>
                    <a:pt x="295" y="178"/>
                  </a:cubicBezTo>
                  <a:cubicBezTo>
                    <a:pt x="291" y="193"/>
                    <a:pt x="281" y="222"/>
                    <a:pt x="281" y="222"/>
                  </a:cubicBezTo>
                  <a:cubicBezTo>
                    <a:pt x="209" y="213"/>
                    <a:pt x="157" y="205"/>
                    <a:pt x="81" y="200"/>
                  </a:cubicBezTo>
                  <a:cubicBezTo>
                    <a:pt x="26" y="183"/>
                    <a:pt x="36" y="156"/>
                    <a:pt x="81" y="134"/>
                  </a:cubicBezTo>
                  <a:cubicBezTo>
                    <a:pt x="113" y="136"/>
                    <a:pt x="145" y="138"/>
                    <a:pt x="177" y="141"/>
                  </a:cubicBezTo>
                  <a:cubicBezTo>
                    <a:pt x="189" y="142"/>
                    <a:pt x="204" y="140"/>
                    <a:pt x="214" y="148"/>
                  </a:cubicBezTo>
                  <a:cubicBezTo>
                    <a:pt x="228" y="159"/>
                    <a:pt x="244" y="193"/>
                    <a:pt x="244" y="193"/>
                  </a:cubicBezTo>
                  <a:cubicBezTo>
                    <a:pt x="265" y="258"/>
                    <a:pt x="251" y="245"/>
                    <a:pt x="266" y="215"/>
                  </a:cubicBezTo>
                  <a:cubicBezTo>
                    <a:pt x="270" y="207"/>
                    <a:pt x="276" y="200"/>
                    <a:pt x="281" y="193"/>
                  </a:cubicBezTo>
                  <a:cubicBezTo>
                    <a:pt x="258" y="276"/>
                    <a:pt x="295" y="157"/>
                    <a:pt x="266" y="148"/>
                  </a:cubicBezTo>
                  <a:cubicBezTo>
                    <a:pt x="202" y="128"/>
                    <a:pt x="133" y="153"/>
                    <a:pt x="66" y="156"/>
                  </a:cubicBezTo>
                  <a:cubicBezTo>
                    <a:pt x="52" y="178"/>
                    <a:pt x="45" y="197"/>
                    <a:pt x="37" y="222"/>
                  </a:cubicBezTo>
                  <a:cubicBezTo>
                    <a:pt x="61" y="349"/>
                    <a:pt x="0" y="95"/>
                    <a:pt x="185" y="252"/>
                  </a:cubicBezTo>
                  <a:cubicBezTo>
                    <a:pt x="219" y="281"/>
                    <a:pt x="190" y="341"/>
                    <a:pt x="192" y="385"/>
                  </a:cubicBezTo>
                  <a:cubicBezTo>
                    <a:pt x="313" y="369"/>
                    <a:pt x="267" y="379"/>
                    <a:pt x="332" y="363"/>
                  </a:cubicBezTo>
                  <a:cubicBezTo>
                    <a:pt x="337" y="355"/>
                    <a:pt x="346" y="349"/>
                    <a:pt x="347" y="340"/>
                  </a:cubicBezTo>
                  <a:cubicBezTo>
                    <a:pt x="357" y="194"/>
                    <a:pt x="341" y="244"/>
                    <a:pt x="192" y="252"/>
                  </a:cubicBezTo>
                  <a:cubicBezTo>
                    <a:pt x="178" y="295"/>
                    <a:pt x="192" y="341"/>
                    <a:pt x="199" y="385"/>
                  </a:cubicBezTo>
                  <a:cubicBezTo>
                    <a:pt x="224" y="382"/>
                    <a:pt x="249" y="382"/>
                    <a:pt x="273" y="377"/>
                  </a:cubicBezTo>
                  <a:cubicBezTo>
                    <a:pt x="288" y="374"/>
                    <a:pt x="318" y="363"/>
                    <a:pt x="318" y="363"/>
                  </a:cubicBezTo>
                  <a:cubicBezTo>
                    <a:pt x="315" y="326"/>
                    <a:pt x="322" y="287"/>
                    <a:pt x="310" y="252"/>
                  </a:cubicBezTo>
                  <a:cubicBezTo>
                    <a:pt x="303" y="231"/>
                    <a:pt x="306" y="296"/>
                    <a:pt x="303" y="318"/>
                  </a:cubicBezTo>
                  <a:cubicBezTo>
                    <a:pt x="301" y="338"/>
                    <a:pt x="299" y="358"/>
                    <a:pt x="295" y="377"/>
                  </a:cubicBezTo>
                  <a:cubicBezTo>
                    <a:pt x="292" y="392"/>
                    <a:pt x="281" y="422"/>
                    <a:pt x="281" y="422"/>
                  </a:cubicBezTo>
                  <a:cubicBezTo>
                    <a:pt x="266" y="419"/>
                    <a:pt x="250" y="408"/>
                    <a:pt x="236" y="414"/>
                  </a:cubicBezTo>
                  <a:cubicBezTo>
                    <a:pt x="227" y="418"/>
                    <a:pt x="230" y="434"/>
                    <a:pt x="229" y="444"/>
                  </a:cubicBezTo>
                  <a:cubicBezTo>
                    <a:pt x="218" y="529"/>
                    <a:pt x="244" y="504"/>
                    <a:pt x="199" y="532"/>
                  </a:cubicBezTo>
                  <a:cubicBezTo>
                    <a:pt x="82" y="525"/>
                    <a:pt x="97" y="553"/>
                    <a:pt x="74" y="481"/>
                  </a:cubicBezTo>
                  <a:cubicBezTo>
                    <a:pt x="76" y="471"/>
                    <a:pt x="75" y="459"/>
                    <a:pt x="81" y="451"/>
                  </a:cubicBezTo>
                  <a:cubicBezTo>
                    <a:pt x="86" y="445"/>
                    <a:pt x="111" y="444"/>
                    <a:pt x="103" y="444"/>
                  </a:cubicBezTo>
                  <a:cubicBezTo>
                    <a:pt x="93" y="444"/>
                    <a:pt x="64" y="450"/>
                    <a:pt x="74" y="451"/>
                  </a:cubicBezTo>
                  <a:cubicBezTo>
                    <a:pt x="121" y="454"/>
                    <a:pt x="167" y="451"/>
                    <a:pt x="214" y="45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08"/>
            <p:cNvSpPr/>
            <p:nvPr/>
          </p:nvSpPr>
          <p:spPr>
            <a:xfrm>
              <a:off x="5770440" y="1849320"/>
              <a:ext cx="435240" cy="281160"/>
            </a:xfrm>
            <a:custGeom>
              <a:avLst/>
              <a:gdLst/>
              <a:ahLst/>
              <a:rect l="l" t="t" r="r" b="b"/>
              <a:pathLst>
                <a:path w="274" h="177">
                  <a:moveTo>
                    <a:pt x="20" y="35"/>
                  </a:moveTo>
                  <a:cubicBezTo>
                    <a:pt x="24" y="50"/>
                    <a:pt x="40" y="121"/>
                    <a:pt x="50" y="131"/>
                  </a:cubicBezTo>
                  <a:cubicBezTo>
                    <a:pt x="55" y="137"/>
                    <a:pt x="65" y="136"/>
                    <a:pt x="72" y="139"/>
                  </a:cubicBezTo>
                  <a:cubicBezTo>
                    <a:pt x="136" y="136"/>
                    <a:pt x="201" y="144"/>
                    <a:pt x="264" y="131"/>
                  </a:cubicBezTo>
                  <a:cubicBezTo>
                    <a:pt x="274" y="129"/>
                    <a:pt x="262" y="110"/>
                    <a:pt x="257" y="102"/>
                  </a:cubicBezTo>
                  <a:cubicBezTo>
                    <a:pt x="244" y="82"/>
                    <a:pt x="213" y="57"/>
                    <a:pt x="190" y="50"/>
                  </a:cubicBezTo>
                  <a:cubicBezTo>
                    <a:pt x="136" y="52"/>
                    <a:pt x="73" y="27"/>
                    <a:pt x="28" y="57"/>
                  </a:cubicBezTo>
                  <a:cubicBezTo>
                    <a:pt x="1" y="75"/>
                    <a:pt x="8" y="136"/>
                    <a:pt x="35" y="153"/>
                  </a:cubicBezTo>
                  <a:cubicBezTo>
                    <a:pt x="72" y="177"/>
                    <a:pt x="124" y="148"/>
                    <a:pt x="168" y="146"/>
                  </a:cubicBezTo>
                  <a:cubicBezTo>
                    <a:pt x="173" y="100"/>
                    <a:pt x="167" y="46"/>
                    <a:pt x="227" y="87"/>
                  </a:cubicBezTo>
                  <a:cubicBezTo>
                    <a:pt x="225" y="62"/>
                    <a:pt x="236" y="32"/>
                    <a:pt x="220" y="13"/>
                  </a:cubicBezTo>
                  <a:cubicBezTo>
                    <a:pt x="208" y="0"/>
                    <a:pt x="185" y="18"/>
                    <a:pt x="168" y="20"/>
                  </a:cubicBezTo>
                  <a:cubicBezTo>
                    <a:pt x="134" y="23"/>
                    <a:pt x="99" y="25"/>
                    <a:pt x="65" y="28"/>
                  </a:cubicBezTo>
                  <a:cubicBezTo>
                    <a:pt x="0" y="49"/>
                    <a:pt x="22" y="74"/>
                    <a:pt x="28" y="146"/>
                  </a:cubicBezTo>
                  <a:cubicBezTo>
                    <a:pt x="67" y="144"/>
                    <a:pt x="107" y="145"/>
                    <a:pt x="146" y="139"/>
                  </a:cubicBezTo>
                  <a:cubicBezTo>
                    <a:pt x="166" y="136"/>
                    <a:pt x="179" y="115"/>
                    <a:pt x="198" y="109"/>
                  </a:cubicBezTo>
                  <a:cubicBezTo>
                    <a:pt x="212" y="105"/>
                    <a:pt x="227" y="104"/>
                    <a:pt x="242" y="102"/>
                  </a:cubicBezTo>
                  <a:cubicBezTo>
                    <a:pt x="235" y="94"/>
                    <a:pt x="226" y="88"/>
                    <a:pt x="220" y="79"/>
                  </a:cubicBezTo>
                  <a:cubicBezTo>
                    <a:pt x="211" y="66"/>
                    <a:pt x="217" y="44"/>
                    <a:pt x="205" y="35"/>
                  </a:cubicBezTo>
                  <a:cubicBezTo>
                    <a:pt x="199" y="31"/>
                    <a:pt x="190" y="35"/>
                    <a:pt x="183" y="3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09"/>
            <p:cNvSpPr/>
            <p:nvPr/>
          </p:nvSpPr>
          <p:spPr>
            <a:xfrm>
              <a:off x="5918040" y="2060640"/>
              <a:ext cx="308160" cy="228600"/>
            </a:xfrm>
            <a:custGeom>
              <a:avLst/>
              <a:gdLst/>
              <a:ahLst/>
              <a:rect l="l" t="t" r="r" b="b"/>
              <a:pathLst>
                <a:path w="194" h="144">
                  <a:moveTo>
                    <a:pt x="46" y="20"/>
                  </a:moveTo>
                  <a:cubicBezTo>
                    <a:pt x="55" y="138"/>
                    <a:pt x="21" y="123"/>
                    <a:pt x="134" y="109"/>
                  </a:cubicBezTo>
                  <a:cubicBezTo>
                    <a:pt x="144" y="108"/>
                    <a:pt x="154" y="104"/>
                    <a:pt x="164" y="102"/>
                  </a:cubicBezTo>
                  <a:cubicBezTo>
                    <a:pt x="189" y="61"/>
                    <a:pt x="194" y="34"/>
                    <a:pt x="142" y="20"/>
                  </a:cubicBezTo>
                  <a:cubicBezTo>
                    <a:pt x="102" y="23"/>
                    <a:pt x="51" y="0"/>
                    <a:pt x="23" y="28"/>
                  </a:cubicBezTo>
                  <a:cubicBezTo>
                    <a:pt x="0" y="51"/>
                    <a:pt x="13" y="104"/>
                    <a:pt x="38" y="124"/>
                  </a:cubicBezTo>
                  <a:cubicBezTo>
                    <a:pt x="63" y="144"/>
                    <a:pt x="102" y="119"/>
                    <a:pt x="134" y="116"/>
                  </a:cubicBezTo>
                  <a:cubicBezTo>
                    <a:pt x="137" y="87"/>
                    <a:pt x="142" y="28"/>
                    <a:pt x="142" y="2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10"/>
            <p:cNvSpPr/>
            <p:nvPr/>
          </p:nvSpPr>
          <p:spPr>
            <a:xfrm>
              <a:off x="5705640" y="2268360"/>
              <a:ext cx="544320" cy="506520"/>
            </a:xfrm>
            <a:custGeom>
              <a:avLst/>
              <a:gdLst/>
              <a:ahLst/>
              <a:rect l="l" t="t" r="r" b="b"/>
              <a:pathLst>
                <a:path w="343" h="319">
                  <a:moveTo>
                    <a:pt x="84" y="15"/>
                  </a:moveTo>
                  <a:cubicBezTo>
                    <a:pt x="86" y="32"/>
                    <a:pt x="74" y="63"/>
                    <a:pt x="91" y="67"/>
                  </a:cubicBezTo>
                  <a:cubicBezTo>
                    <a:pt x="142" y="79"/>
                    <a:pt x="198" y="72"/>
                    <a:pt x="246" y="52"/>
                  </a:cubicBezTo>
                  <a:cubicBezTo>
                    <a:pt x="315" y="24"/>
                    <a:pt x="225" y="3"/>
                    <a:pt x="216" y="0"/>
                  </a:cubicBezTo>
                  <a:cubicBezTo>
                    <a:pt x="135" y="7"/>
                    <a:pt x="0" y="9"/>
                    <a:pt x="231" y="22"/>
                  </a:cubicBezTo>
                  <a:cubicBezTo>
                    <a:pt x="220" y="71"/>
                    <a:pt x="189" y="108"/>
                    <a:pt x="172" y="155"/>
                  </a:cubicBezTo>
                  <a:cubicBezTo>
                    <a:pt x="216" y="167"/>
                    <a:pt x="279" y="186"/>
                    <a:pt x="298" y="133"/>
                  </a:cubicBezTo>
                  <a:cubicBezTo>
                    <a:pt x="295" y="113"/>
                    <a:pt x="308" y="83"/>
                    <a:pt x="290" y="74"/>
                  </a:cubicBezTo>
                  <a:cubicBezTo>
                    <a:pt x="236" y="47"/>
                    <a:pt x="118" y="86"/>
                    <a:pt x="202" y="177"/>
                  </a:cubicBezTo>
                  <a:cubicBezTo>
                    <a:pt x="222" y="199"/>
                    <a:pt x="261" y="182"/>
                    <a:pt x="290" y="185"/>
                  </a:cubicBezTo>
                  <a:cubicBezTo>
                    <a:pt x="343" y="202"/>
                    <a:pt x="333" y="191"/>
                    <a:pt x="305" y="303"/>
                  </a:cubicBezTo>
                  <a:cubicBezTo>
                    <a:pt x="305" y="305"/>
                    <a:pt x="267" y="314"/>
                    <a:pt x="253" y="318"/>
                  </a:cubicBezTo>
                  <a:cubicBezTo>
                    <a:pt x="197" y="315"/>
                    <a:pt x="140" y="319"/>
                    <a:pt x="84" y="310"/>
                  </a:cubicBezTo>
                  <a:cubicBezTo>
                    <a:pt x="66" y="307"/>
                    <a:pt x="65" y="274"/>
                    <a:pt x="76" y="266"/>
                  </a:cubicBezTo>
                  <a:cubicBezTo>
                    <a:pt x="84" y="260"/>
                    <a:pt x="96" y="261"/>
                    <a:pt x="106" y="259"/>
                  </a:cubicBezTo>
                  <a:cubicBezTo>
                    <a:pt x="160" y="261"/>
                    <a:pt x="214" y="266"/>
                    <a:pt x="268" y="266"/>
                  </a:cubicBezTo>
                  <a:cubicBezTo>
                    <a:pt x="288" y="266"/>
                    <a:pt x="229" y="259"/>
                    <a:pt x="209" y="259"/>
                  </a:cubicBezTo>
                  <a:cubicBezTo>
                    <a:pt x="189" y="259"/>
                    <a:pt x="170" y="264"/>
                    <a:pt x="150" y="266"/>
                  </a:cubicBezTo>
                  <a:cubicBezTo>
                    <a:pt x="93" y="227"/>
                    <a:pt x="104" y="270"/>
                    <a:pt x="113" y="163"/>
                  </a:cubicBezTo>
                  <a:cubicBezTo>
                    <a:pt x="165" y="165"/>
                    <a:pt x="224" y="144"/>
                    <a:pt x="268" y="170"/>
                  </a:cubicBezTo>
                  <a:cubicBezTo>
                    <a:pt x="291" y="184"/>
                    <a:pt x="284" y="237"/>
                    <a:pt x="261" y="251"/>
                  </a:cubicBezTo>
                  <a:cubicBezTo>
                    <a:pt x="230" y="271"/>
                    <a:pt x="187" y="246"/>
                    <a:pt x="150" y="244"/>
                  </a:cubicBezTo>
                  <a:cubicBezTo>
                    <a:pt x="115" y="231"/>
                    <a:pt x="131" y="245"/>
                    <a:pt x="135" y="207"/>
                  </a:cubicBezTo>
                  <a:cubicBezTo>
                    <a:pt x="136" y="195"/>
                    <a:pt x="135" y="182"/>
                    <a:pt x="135" y="17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11"/>
            <p:cNvSpPr/>
            <p:nvPr/>
          </p:nvSpPr>
          <p:spPr>
            <a:xfrm>
              <a:off x="5599080" y="1501920"/>
              <a:ext cx="639720" cy="263520"/>
            </a:xfrm>
            <a:custGeom>
              <a:avLst/>
              <a:gdLst/>
              <a:ahLst/>
              <a:rect l="l" t="t" r="r" b="b"/>
              <a:pathLst>
                <a:path w="403" h="166">
                  <a:moveTo>
                    <a:pt x="25" y="84"/>
                  </a:moveTo>
                  <a:cubicBezTo>
                    <a:pt x="31" y="125"/>
                    <a:pt x="23" y="152"/>
                    <a:pt x="62" y="166"/>
                  </a:cubicBezTo>
                  <a:cubicBezTo>
                    <a:pt x="118" y="159"/>
                    <a:pt x="169" y="145"/>
                    <a:pt x="224" y="136"/>
                  </a:cubicBezTo>
                  <a:cubicBezTo>
                    <a:pt x="222" y="116"/>
                    <a:pt x="235" y="86"/>
                    <a:pt x="217" y="77"/>
                  </a:cubicBezTo>
                  <a:cubicBezTo>
                    <a:pt x="188" y="63"/>
                    <a:pt x="153" y="79"/>
                    <a:pt x="121" y="84"/>
                  </a:cubicBezTo>
                  <a:cubicBezTo>
                    <a:pt x="108" y="86"/>
                    <a:pt x="97" y="95"/>
                    <a:pt x="84" y="99"/>
                  </a:cubicBezTo>
                  <a:cubicBezTo>
                    <a:pt x="54" y="109"/>
                    <a:pt x="0" y="112"/>
                    <a:pt x="121" y="99"/>
                  </a:cubicBezTo>
                  <a:cubicBezTo>
                    <a:pt x="123" y="74"/>
                    <a:pt x="106" y="37"/>
                    <a:pt x="128" y="25"/>
                  </a:cubicBezTo>
                  <a:cubicBezTo>
                    <a:pt x="173" y="0"/>
                    <a:pt x="283" y="10"/>
                    <a:pt x="283" y="10"/>
                  </a:cubicBezTo>
                  <a:cubicBezTo>
                    <a:pt x="287" y="11"/>
                    <a:pt x="403" y="23"/>
                    <a:pt x="313" y="77"/>
                  </a:cubicBezTo>
                  <a:cubicBezTo>
                    <a:pt x="300" y="85"/>
                    <a:pt x="199" y="84"/>
                    <a:pt x="165" y="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13"/>
            <p:cNvSpPr/>
            <p:nvPr/>
          </p:nvSpPr>
          <p:spPr>
            <a:xfrm>
              <a:off x="5927760" y="755640"/>
              <a:ext cx="331920" cy="1197000"/>
            </a:xfrm>
            <a:custGeom>
              <a:avLst/>
              <a:gdLst/>
              <a:ahLst/>
              <a:rect l="l" t="t" r="r" b="b"/>
              <a:pathLst>
                <a:path w="209" h="754">
                  <a:moveTo>
                    <a:pt x="3" y="37"/>
                  </a:moveTo>
                  <a:cubicBezTo>
                    <a:pt x="5" y="57"/>
                    <a:pt x="0" y="79"/>
                    <a:pt x="10" y="96"/>
                  </a:cubicBezTo>
                  <a:cubicBezTo>
                    <a:pt x="16" y="106"/>
                    <a:pt x="8" y="68"/>
                    <a:pt x="17" y="60"/>
                  </a:cubicBezTo>
                  <a:cubicBezTo>
                    <a:pt x="23" y="55"/>
                    <a:pt x="22" y="75"/>
                    <a:pt x="25" y="82"/>
                  </a:cubicBezTo>
                  <a:cubicBezTo>
                    <a:pt x="27" y="65"/>
                    <a:pt x="22" y="44"/>
                    <a:pt x="32" y="30"/>
                  </a:cubicBezTo>
                  <a:cubicBezTo>
                    <a:pt x="37" y="23"/>
                    <a:pt x="40" y="57"/>
                    <a:pt x="47" y="52"/>
                  </a:cubicBezTo>
                  <a:cubicBezTo>
                    <a:pt x="57" y="45"/>
                    <a:pt x="52" y="27"/>
                    <a:pt x="54" y="15"/>
                  </a:cubicBezTo>
                  <a:cubicBezTo>
                    <a:pt x="79" y="32"/>
                    <a:pt x="99" y="34"/>
                    <a:pt x="128" y="45"/>
                  </a:cubicBezTo>
                  <a:cubicBezTo>
                    <a:pt x="126" y="33"/>
                    <a:pt x="121" y="21"/>
                    <a:pt x="121" y="8"/>
                  </a:cubicBezTo>
                  <a:cubicBezTo>
                    <a:pt x="121" y="0"/>
                    <a:pt x="129" y="22"/>
                    <a:pt x="128" y="30"/>
                  </a:cubicBezTo>
                  <a:cubicBezTo>
                    <a:pt x="126" y="39"/>
                    <a:pt x="118" y="45"/>
                    <a:pt x="113" y="52"/>
                  </a:cubicBezTo>
                  <a:cubicBezTo>
                    <a:pt x="98" y="100"/>
                    <a:pt x="106" y="55"/>
                    <a:pt x="136" y="60"/>
                  </a:cubicBezTo>
                  <a:cubicBezTo>
                    <a:pt x="145" y="62"/>
                    <a:pt x="145" y="75"/>
                    <a:pt x="150" y="82"/>
                  </a:cubicBezTo>
                  <a:cubicBezTo>
                    <a:pt x="155" y="121"/>
                    <a:pt x="160" y="185"/>
                    <a:pt x="202" y="200"/>
                  </a:cubicBezTo>
                  <a:cubicBezTo>
                    <a:pt x="196" y="232"/>
                    <a:pt x="196" y="237"/>
                    <a:pt x="187" y="266"/>
                  </a:cubicBezTo>
                  <a:cubicBezTo>
                    <a:pt x="182" y="281"/>
                    <a:pt x="163" y="324"/>
                    <a:pt x="172" y="311"/>
                  </a:cubicBezTo>
                  <a:cubicBezTo>
                    <a:pt x="192" y="281"/>
                    <a:pt x="179" y="293"/>
                    <a:pt x="209" y="274"/>
                  </a:cubicBezTo>
                  <a:cubicBezTo>
                    <a:pt x="204" y="303"/>
                    <a:pt x="205" y="334"/>
                    <a:pt x="195" y="362"/>
                  </a:cubicBezTo>
                  <a:cubicBezTo>
                    <a:pt x="188" y="382"/>
                    <a:pt x="172" y="400"/>
                    <a:pt x="172" y="421"/>
                  </a:cubicBezTo>
                  <a:cubicBezTo>
                    <a:pt x="172" y="430"/>
                    <a:pt x="182" y="406"/>
                    <a:pt x="187" y="399"/>
                  </a:cubicBezTo>
                  <a:cubicBezTo>
                    <a:pt x="196" y="443"/>
                    <a:pt x="187" y="469"/>
                    <a:pt x="172" y="510"/>
                  </a:cubicBezTo>
                  <a:cubicBezTo>
                    <a:pt x="184" y="543"/>
                    <a:pt x="169" y="580"/>
                    <a:pt x="158" y="613"/>
                  </a:cubicBezTo>
                  <a:cubicBezTo>
                    <a:pt x="181" y="662"/>
                    <a:pt x="180" y="701"/>
                    <a:pt x="172" y="754"/>
                  </a:cubicBezTo>
                  <a:cubicBezTo>
                    <a:pt x="161" y="698"/>
                    <a:pt x="170" y="642"/>
                    <a:pt x="165" y="584"/>
                  </a:cubicBezTo>
                  <a:cubicBezTo>
                    <a:pt x="160" y="591"/>
                    <a:pt x="156" y="600"/>
                    <a:pt x="150" y="606"/>
                  </a:cubicBezTo>
                  <a:cubicBezTo>
                    <a:pt x="144" y="612"/>
                    <a:pt x="131" y="629"/>
                    <a:pt x="128" y="621"/>
                  </a:cubicBezTo>
                  <a:cubicBezTo>
                    <a:pt x="126" y="616"/>
                    <a:pt x="155" y="561"/>
                    <a:pt x="158" y="554"/>
                  </a:cubicBezTo>
                  <a:cubicBezTo>
                    <a:pt x="161" y="540"/>
                    <a:pt x="193" y="465"/>
                    <a:pt x="187" y="458"/>
                  </a:cubicBezTo>
                  <a:cubicBezTo>
                    <a:pt x="181" y="450"/>
                    <a:pt x="168" y="463"/>
                    <a:pt x="158" y="466"/>
                  </a:cubicBezTo>
                  <a:cubicBezTo>
                    <a:pt x="164" y="421"/>
                    <a:pt x="173" y="383"/>
                    <a:pt x="187" y="340"/>
                  </a:cubicBezTo>
                  <a:cubicBezTo>
                    <a:pt x="180" y="338"/>
                    <a:pt x="172" y="329"/>
                    <a:pt x="165" y="333"/>
                  </a:cubicBezTo>
                  <a:cubicBezTo>
                    <a:pt x="158" y="337"/>
                    <a:pt x="158" y="363"/>
                    <a:pt x="158" y="355"/>
                  </a:cubicBezTo>
                  <a:cubicBezTo>
                    <a:pt x="158" y="338"/>
                    <a:pt x="163" y="320"/>
                    <a:pt x="165" y="303"/>
                  </a:cubicBezTo>
                  <a:cubicBezTo>
                    <a:pt x="163" y="283"/>
                    <a:pt x="174" y="256"/>
                    <a:pt x="158" y="244"/>
                  </a:cubicBezTo>
                  <a:cubicBezTo>
                    <a:pt x="147" y="235"/>
                    <a:pt x="137" y="285"/>
                    <a:pt x="128" y="274"/>
                  </a:cubicBezTo>
                  <a:cubicBezTo>
                    <a:pt x="105" y="243"/>
                    <a:pt x="153" y="182"/>
                    <a:pt x="172" y="163"/>
                  </a:cubicBezTo>
                  <a:cubicBezTo>
                    <a:pt x="198" y="67"/>
                    <a:pt x="172" y="183"/>
                    <a:pt x="158" y="156"/>
                  </a:cubicBezTo>
                  <a:cubicBezTo>
                    <a:pt x="146" y="132"/>
                    <a:pt x="153" y="101"/>
                    <a:pt x="150" y="74"/>
                  </a:cubicBezTo>
                  <a:cubicBezTo>
                    <a:pt x="97" y="110"/>
                    <a:pt x="106" y="104"/>
                    <a:pt x="106" y="2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14"/>
            <p:cNvSpPr/>
            <p:nvPr/>
          </p:nvSpPr>
          <p:spPr>
            <a:xfrm>
              <a:off x="6189840" y="2104920"/>
              <a:ext cx="363240" cy="2789280"/>
            </a:xfrm>
            <a:custGeom>
              <a:avLst/>
              <a:gdLst/>
              <a:ahLst/>
              <a:rect l="l" t="t" r="r" b="b"/>
              <a:pathLst>
                <a:path w="229" h="1757">
                  <a:moveTo>
                    <a:pt x="44" y="0"/>
                  </a:moveTo>
                  <a:cubicBezTo>
                    <a:pt x="37" y="59"/>
                    <a:pt x="46" y="95"/>
                    <a:pt x="37" y="155"/>
                  </a:cubicBezTo>
                  <a:cubicBezTo>
                    <a:pt x="34" y="175"/>
                    <a:pt x="29" y="195"/>
                    <a:pt x="22" y="214"/>
                  </a:cubicBezTo>
                  <a:cubicBezTo>
                    <a:pt x="19" y="222"/>
                    <a:pt x="7" y="245"/>
                    <a:pt x="7" y="236"/>
                  </a:cubicBezTo>
                  <a:cubicBezTo>
                    <a:pt x="7" y="225"/>
                    <a:pt x="17" y="216"/>
                    <a:pt x="22" y="206"/>
                  </a:cubicBezTo>
                  <a:cubicBezTo>
                    <a:pt x="13" y="243"/>
                    <a:pt x="12" y="281"/>
                    <a:pt x="0" y="317"/>
                  </a:cubicBezTo>
                  <a:cubicBezTo>
                    <a:pt x="12" y="415"/>
                    <a:pt x="0" y="369"/>
                    <a:pt x="44" y="325"/>
                  </a:cubicBezTo>
                  <a:cubicBezTo>
                    <a:pt x="22" y="394"/>
                    <a:pt x="36" y="343"/>
                    <a:pt x="22" y="413"/>
                  </a:cubicBezTo>
                  <a:cubicBezTo>
                    <a:pt x="20" y="423"/>
                    <a:pt x="6" y="438"/>
                    <a:pt x="15" y="443"/>
                  </a:cubicBezTo>
                  <a:cubicBezTo>
                    <a:pt x="24" y="448"/>
                    <a:pt x="30" y="428"/>
                    <a:pt x="37" y="421"/>
                  </a:cubicBezTo>
                  <a:cubicBezTo>
                    <a:pt x="47" y="474"/>
                    <a:pt x="47" y="451"/>
                    <a:pt x="37" y="517"/>
                  </a:cubicBezTo>
                  <a:cubicBezTo>
                    <a:pt x="35" y="529"/>
                    <a:pt x="21" y="545"/>
                    <a:pt x="30" y="554"/>
                  </a:cubicBezTo>
                  <a:cubicBezTo>
                    <a:pt x="38" y="561"/>
                    <a:pt x="45" y="539"/>
                    <a:pt x="52" y="531"/>
                  </a:cubicBezTo>
                  <a:cubicBezTo>
                    <a:pt x="70" y="474"/>
                    <a:pt x="67" y="475"/>
                    <a:pt x="67" y="635"/>
                  </a:cubicBezTo>
                  <a:cubicBezTo>
                    <a:pt x="67" y="674"/>
                    <a:pt x="58" y="689"/>
                    <a:pt x="44" y="723"/>
                  </a:cubicBezTo>
                  <a:cubicBezTo>
                    <a:pt x="61" y="771"/>
                    <a:pt x="56" y="822"/>
                    <a:pt x="67" y="871"/>
                  </a:cubicBezTo>
                  <a:cubicBezTo>
                    <a:pt x="69" y="908"/>
                    <a:pt x="65" y="946"/>
                    <a:pt x="74" y="982"/>
                  </a:cubicBezTo>
                  <a:cubicBezTo>
                    <a:pt x="76" y="991"/>
                    <a:pt x="81" y="957"/>
                    <a:pt x="89" y="960"/>
                  </a:cubicBezTo>
                  <a:cubicBezTo>
                    <a:pt x="98" y="963"/>
                    <a:pt x="94" y="979"/>
                    <a:pt x="96" y="989"/>
                  </a:cubicBezTo>
                  <a:cubicBezTo>
                    <a:pt x="77" y="1088"/>
                    <a:pt x="96" y="964"/>
                    <a:pt x="96" y="1063"/>
                  </a:cubicBezTo>
                  <a:cubicBezTo>
                    <a:pt x="96" y="1080"/>
                    <a:pt x="84" y="1140"/>
                    <a:pt x="81" y="1159"/>
                  </a:cubicBezTo>
                  <a:cubicBezTo>
                    <a:pt x="84" y="1169"/>
                    <a:pt x="80" y="1185"/>
                    <a:pt x="89" y="1189"/>
                  </a:cubicBezTo>
                  <a:cubicBezTo>
                    <a:pt x="96" y="1192"/>
                    <a:pt x="97" y="1158"/>
                    <a:pt x="96" y="1166"/>
                  </a:cubicBezTo>
                  <a:cubicBezTo>
                    <a:pt x="92" y="1189"/>
                    <a:pt x="81" y="1233"/>
                    <a:pt x="81" y="1233"/>
                  </a:cubicBezTo>
                  <a:cubicBezTo>
                    <a:pt x="84" y="1243"/>
                    <a:pt x="80" y="1258"/>
                    <a:pt x="89" y="1262"/>
                  </a:cubicBezTo>
                  <a:cubicBezTo>
                    <a:pt x="96" y="1265"/>
                    <a:pt x="96" y="1232"/>
                    <a:pt x="96" y="1240"/>
                  </a:cubicBezTo>
                  <a:cubicBezTo>
                    <a:pt x="96" y="1267"/>
                    <a:pt x="82" y="1296"/>
                    <a:pt x="74" y="1322"/>
                  </a:cubicBezTo>
                  <a:cubicBezTo>
                    <a:pt x="72" y="1339"/>
                    <a:pt x="59" y="1358"/>
                    <a:pt x="67" y="1373"/>
                  </a:cubicBezTo>
                  <a:cubicBezTo>
                    <a:pt x="72" y="1382"/>
                    <a:pt x="79" y="1351"/>
                    <a:pt x="89" y="1351"/>
                  </a:cubicBezTo>
                  <a:cubicBezTo>
                    <a:pt x="97" y="1351"/>
                    <a:pt x="94" y="1366"/>
                    <a:pt x="96" y="1373"/>
                  </a:cubicBezTo>
                  <a:cubicBezTo>
                    <a:pt x="91" y="1388"/>
                    <a:pt x="86" y="1403"/>
                    <a:pt x="81" y="1418"/>
                  </a:cubicBezTo>
                  <a:cubicBezTo>
                    <a:pt x="79" y="1425"/>
                    <a:pt x="74" y="1440"/>
                    <a:pt x="74" y="1440"/>
                  </a:cubicBezTo>
                  <a:cubicBezTo>
                    <a:pt x="76" y="1462"/>
                    <a:pt x="71" y="1486"/>
                    <a:pt x="81" y="1506"/>
                  </a:cubicBezTo>
                  <a:cubicBezTo>
                    <a:pt x="85" y="1514"/>
                    <a:pt x="87" y="1482"/>
                    <a:pt x="96" y="1484"/>
                  </a:cubicBezTo>
                  <a:cubicBezTo>
                    <a:pt x="107" y="1487"/>
                    <a:pt x="106" y="1504"/>
                    <a:pt x="111" y="1514"/>
                  </a:cubicBezTo>
                  <a:cubicBezTo>
                    <a:pt x="113" y="1543"/>
                    <a:pt x="111" y="1573"/>
                    <a:pt x="118" y="1602"/>
                  </a:cubicBezTo>
                  <a:cubicBezTo>
                    <a:pt x="120" y="1610"/>
                    <a:pt x="119" y="1576"/>
                    <a:pt x="126" y="1580"/>
                  </a:cubicBezTo>
                  <a:cubicBezTo>
                    <a:pt x="135" y="1585"/>
                    <a:pt x="131" y="1600"/>
                    <a:pt x="133" y="1610"/>
                  </a:cubicBezTo>
                  <a:cubicBezTo>
                    <a:pt x="135" y="1642"/>
                    <a:pt x="115" y="1686"/>
                    <a:pt x="140" y="1706"/>
                  </a:cubicBezTo>
                  <a:cubicBezTo>
                    <a:pt x="158" y="1721"/>
                    <a:pt x="177" y="1646"/>
                    <a:pt x="177" y="1646"/>
                  </a:cubicBezTo>
                  <a:cubicBezTo>
                    <a:pt x="182" y="1656"/>
                    <a:pt x="189" y="1665"/>
                    <a:pt x="192" y="1676"/>
                  </a:cubicBezTo>
                  <a:cubicBezTo>
                    <a:pt x="192" y="1677"/>
                    <a:pt x="201" y="1742"/>
                    <a:pt x="207" y="1750"/>
                  </a:cubicBezTo>
                  <a:cubicBezTo>
                    <a:pt x="212" y="1756"/>
                    <a:pt x="229" y="1757"/>
                    <a:pt x="229" y="175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15"/>
            <p:cNvSpPr/>
            <p:nvPr/>
          </p:nvSpPr>
          <p:spPr>
            <a:xfrm>
              <a:off x="2131920" y="1147680"/>
              <a:ext cx="1362240" cy="320760"/>
            </a:xfrm>
            <a:custGeom>
              <a:avLst/>
              <a:gdLst/>
              <a:ahLst/>
              <a:rect l="l" t="t" r="r" b="b"/>
              <a:pathLst>
                <a:path w="858" h="202">
                  <a:moveTo>
                    <a:pt x="8" y="123"/>
                  </a:moveTo>
                  <a:cubicBezTo>
                    <a:pt x="18" y="125"/>
                    <a:pt x="28" y="127"/>
                    <a:pt x="38" y="130"/>
                  </a:cubicBezTo>
                  <a:cubicBezTo>
                    <a:pt x="45" y="132"/>
                    <a:pt x="57" y="144"/>
                    <a:pt x="60" y="137"/>
                  </a:cubicBezTo>
                  <a:cubicBezTo>
                    <a:pt x="70" y="115"/>
                    <a:pt x="0" y="103"/>
                    <a:pt x="75" y="123"/>
                  </a:cubicBezTo>
                  <a:cubicBezTo>
                    <a:pt x="82" y="120"/>
                    <a:pt x="98" y="123"/>
                    <a:pt x="97" y="115"/>
                  </a:cubicBezTo>
                  <a:cubicBezTo>
                    <a:pt x="94" y="97"/>
                    <a:pt x="75" y="87"/>
                    <a:pt x="67" y="71"/>
                  </a:cubicBezTo>
                  <a:cubicBezTo>
                    <a:pt x="62" y="61"/>
                    <a:pt x="47" y="50"/>
                    <a:pt x="53" y="41"/>
                  </a:cubicBezTo>
                  <a:cubicBezTo>
                    <a:pt x="59" y="33"/>
                    <a:pt x="72" y="46"/>
                    <a:pt x="82" y="49"/>
                  </a:cubicBezTo>
                  <a:cubicBezTo>
                    <a:pt x="62" y="36"/>
                    <a:pt x="33" y="20"/>
                    <a:pt x="97" y="41"/>
                  </a:cubicBezTo>
                  <a:cubicBezTo>
                    <a:pt x="129" y="51"/>
                    <a:pt x="148" y="78"/>
                    <a:pt x="178" y="93"/>
                  </a:cubicBezTo>
                  <a:cubicBezTo>
                    <a:pt x="176" y="86"/>
                    <a:pt x="165" y="75"/>
                    <a:pt x="171" y="71"/>
                  </a:cubicBezTo>
                  <a:cubicBezTo>
                    <a:pt x="179" y="65"/>
                    <a:pt x="191" y="74"/>
                    <a:pt x="200" y="78"/>
                  </a:cubicBezTo>
                  <a:cubicBezTo>
                    <a:pt x="255" y="102"/>
                    <a:pt x="291" y="135"/>
                    <a:pt x="348" y="145"/>
                  </a:cubicBezTo>
                  <a:cubicBezTo>
                    <a:pt x="276" y="116"/>
                    <a:pt x="336" y="148"/>
                    <a:pt x="296" y="108"/>
                  </a:cubicBezTo>
                  <a:cubicBezTo>
                    <a:pt x="276" y="88"/>
                    <a:pt x="232" y="81"/>
                    <a:pt x="326" y="108"/>
                  </a:cubicBezTo>
                  <a:cubicBezTo>
                    <a:pt x="399" y="158"/>
                    <a:pt x="275" y="71"/>
                    <a:pt x="282" y="64"/>
                  </a:cubicBezTo>
                  <a:cubicBezTo>
                    <a:pt x="293" y="53"/>
                    <a:pt x="311" y="73"/>
                    <a:pt x="326" y="78"/>
                  </a:cubicBezTo>
                  <a:cubicBezTo>
                    <a:pt x="333" y="80"/>
                    <a:pt x="341" y="83"/>
                    <a:pt x="348" y="86"/>
                  </a:cubicBezTo>
                  <a:cubicBezTo>
                    <a:pt x="309" y="57"/>
                    <a:pt x="287" y="46"/>
                    <a:pt x="392" y="78"/>
                  </a:cubicBezTo>
                  <a:cubicBezTo>
                    <a:pt x="422" y="87"/>
                    <a:pt x="464" y="121"/>
                    <a:pt x="488" y="137"/>
                  </a:cubicBezTo>
                  <a:cubicBezTo>
                    <a:pt x="497" y="143"/>
                    <a:pt x="474" y="121"/>
                    <a:pt x="466" y="115"/>
                  </a:cubicBezTo>
                  <a:cubicBezTo>
                    <a:pt x="457" y="109"/>
                    <a:pt x="437" y="112"/>
                    <a:pt x="437" y="101"/>
                  </a:cubicBezTo>
                  <a:cubicBezTo>
                    <a:pt x="437" y="91"/>
                    <a:pt x="456" y="106"/>
                    <a:pt x="466" y="108"/>
                  </a:cubicBezTo>
                  <a:cubicBezTo>
                    <a:pt x="473" y="113"/>
                    <a:pt x="480" y="119"/>
                    <a:pt x="488" y="123"/>
                  </a:cubicBezTo>
                  <a:cubicBezTo>
                    <a:pt x="495" y="127"/>
                    <a:pt x="517" y="136"/>
                    <a:pt x="511" y="130"/>
                  </a:cubicBezTo>
                  <a:cubicBezTo>
                    <a:pt x="471" y="89"/>
                    <a:pt x="421" y="86"/>
                    <a:pt x="503" y="101"/>
                  </a:cubicBezTo>
                  <a:cubicBezTo>
                    <a:pt x="532" y="120"/>
                    <a:pt x="563" y="133"/>
                    <a:pt x="592" y="152"/>
                  </a:cubicBezTo>
                  <a:cubicBezTo>
                    <a:pt x="580" y="119"/>
                    <a:pt x="593" y="103"/>
                    <a:pt x="555" y="115"/>
                  </a:cubicBezTo>
                  <a:cubicBezTo>
                    <a:pt x="530" y="132"/>
                    <a:pt x="514" y="145"/>
                    <a:pt x="503" y="174"/>
                  </a:cubicBezTo>
                  <a:cubicBezTo>
                    <a:pt x="541" y="181"/>
                    <a:pt x="745" y="202"/>
                    <a:pt x="599" y="182"/>
                  </a:cubicBezTo>
                  <a:cubicBezTo>
                    <a:pt x="641" y="153"/>
                    <a:pt x="615" y="135"/>
                    <a:pt x="666" y="160"/>
                  </a:cubicBezTo>
                  <a:cubicBezTo>
                    <a:pt x="671" y="170"/>
                    <a:pt x="684" y="179"/>
                    <a:pt x="680" y="189"/>
                  </a:cubicBezTo>
                  <a:cubicBezTo>
                    <a:pt x="677" y="196"/>
                    <a:pt x="664" y="187"/>
                    <a:pt x="658" y="182"/>
                  </a:cubicBezTo>
                  <a:cubicBezTo>
                    <a:pt x="619" y="152"/>
                    <a:pt x="666" y="169"/>
                    <a:pt x="629" y="137"/>
                  </a:cubicBezTo>
                  <a:cubicBezTo>
                    <a:pt x="614" y="124"/>
                    <a:pt x="593" y="119"/>
                    <a:pt x="577" y="108"/>
                  </a:cubicBezTo>
                  <a:cubicBezTo>
                    <a:pt x="642" y="96"/>
                    <a:pt x="588" y="96"/>
                    <a:pt x="643" y="123"/>
                  </a:cubicBezTo>
                  <a:cubicBezTo>
                    <a:pt x="657" y="130"/>
                    <a:pt x="673" y="132"/>
                    <a:pt x="688" y="137"/>
                  </a:cubicBezTo>
                  <a:cubicBezTo>
                    <a:pt x="693" y="139"/>
                    <a:pt x="708" y="148"/>
                    <a:pt x="703" y="145"/>
                  </a:cubicBezTo>
                  <a:cubicBezTo>
                    <a:pt x="683" y="132"/>
                    <a:pt x="663" y="120"/>
                    <a:pt x="643" y="108"/>
                  </a:cubicBezTo>
                  <a:cubicBezTo>
                    <a:pt x="631" y="101"/>
                    <a:pt x="619" y="93"/>
                    <a:pt x="607" y="86"/>
                  </a:cubicBezTo>
                  <a:cubicBezTo>
                    <a:pt x="527" y="36"/>
                    <a:pt x="692" y="105"/>
                    <a:pt x="703" y="108"/>
                  </a:cubicBezTo>
                  <a:cubicBezTo>
                    <a:pt x="703" y="108"/>
                    <a:pt x="688" y="103"/>
                    <a:pt x="680" y="101"/>
                  </a:cubicBezTo>
                  <a:cubicBezTo>
                    <a:pt x="655" y="84"/>
                    <a:pt x="636" y="78"/>
                    <a:pt x="614" y="56"/>
                  </a:cubicBezTo>
                  <a:cubicBezTo>
                    <a:pt x="654" y="43"/>
                    <a:pt x="640" y="44"/>
                    <a:pt x="703" y="64"/>
                  </a:cubicBezTo>
                  <a:cubicBezTo>
                    <a:pt x="711" y="67"/>
                    <a:pt x="725" y="69"/>
                    <a:pt x="725" y="78"/>
                  </a:cubicBezTo>
                  <a:cubicBezTo>
                    <a:pt x="725" y="86"/>
                    <a:pt x="710" y="73"/>
                    <a:pt x="703" y="71"/>
                  </a:cubicBezTo>
                  <a:cubicBezTo>
                    <a:pt x="631" y="24"/>
                    <a:pt x="738" y="47"/>
                    <a:pt x="747" y="49"/>
                  </a:cubicBezTo>
                  <a:cubicBezTo>
                    <a:pt x="797" y="75"/>
                    <a:pt x="799" y="54"/>
                    <a:pt x="828" y="19"/>
                  </a:cubicBezTo>
                  <a:cubicBezTo>
                    <a:pt x="834" y="12"/>
                    <a:pt x="858" y="9"/>
                    <a:pt x="850" y="5"/>
                  </a:cubicBezTo>
                  <a:cubicBezTo>
                    <a:pt x="840" y="0"/>
                    <a:pt x="755" y="31"/>
                    <a:pt x="747" y="34"/>
                  </a:cubicBezTo>
                  <a:cubicBezTo>
                    <a:pt x="697" y="51"/>
                    <a:pt x="645" y="64"/>
                    <a:pt x="592" y="71"/>
                  </a:cubicBezTo>
                  <a:cubicBezTo>
                    <a:pt x="419" y="94"/>
                    <a:pt x="224" y="101"/>
                    <a:pt x="53" y="1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16"/>
            <p:cNvSpPr/>
            <p:nvPr/>
          </p:nvSpPr>
          <p:spPr>
            <a:xfrm>
              <a:off x="2044800" y="1441440"/>
              <a:ext cx="593640" cy="457200"/>
            </a:xfrm>
            <a:custGeom>
              <a:avLst/>
              <a:gdLst/>
              <a:ahLst/>
              <a:rect l="l" t="t" r="r" b="b"/>
              <a:pathLst>
                <a:path w="374" h="288">
                  <a:moveTo>
                    <a:pt x="167" y="41"/>
                  </a:moveTo>
                  <a:cubicBezTo>
                    <a:pt x="233" y="28"/>
                    <a:pt x="323" y="0"/>
                    <a:pt x="366" y="63"/>
                  </a:cubicBezTo>
                  <a:cubicBezTo>
                    <a:pt x="364" y="78"/>
                    <a:pt x="374" y="106"/>
                    <a:pt x="359" y="108"/>
                  </a:cubicBezTo>
                  <a:cubicBezTo>
                    <a:pt x="264" y="120"/>
                    <a:pt x="166" y="110"/>
                    <a:pt x="71" y="100"/>
                  </a:cubicBezTo>
                  <a:cubicBezTo>
                    <a:pt x="63" y="99"/>
                    <a:pt x="71" y="82"/>
                    <a:pt x="78" y="78"/>
                  </a:cubicBezTo>
                  <a:cubicBezTo>
                    <a:pt x="91" y="71"/>
                    <a:pt x="107" y="73"/>
                    <a:pt x="122" y="71"/>
                  </a:cubicBezTo>
                  <a:cubicBezTo>
                    <a:pt x="131" y="105"/>
                    <a:pt x="154" y="172"/>
                    <a:pt x="122" y="196"/>
                  </a:cubicBezTo>
                  <a:cubicBezTo>
                    <a:pt x="0" y="288"/>
                    <a:pt x="12" y="192"/>
                    <a:pt x="12" y="15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17"/>
            <p:cNvSpPr/>
            <p:nvPr/>
          </p:nvSpPr>
          <p:spPr>
            <a:xfrm>
              <a:off x="2181240" y="1822320"/>
              <a:ext cx="1184400" cy="2475000"/>
            </a:xfrm>
            <a:custGeom>
              <a:avLst/>
              <a:gdLst/>
              <a:ahLst/>
              <a:rect l="l" t="t" r="r" b="b"/>
              <a:pathLst>
                <a:path w="746" h="1559">
                  <a:moveTo>
                    <a:pt x="679" y="1529"/>
                  </a:moveTo>
                  <a:cubicBezTo>
                    <a:pt x="677" y="1539"/>
                    <a:pt x="682" y="1559"/>
                    <a:pt x="672" y="1559"/>
                  </a:cubicBezTo>
                  <a:cubicBezTo>
                    <a:pt x="662" y="1559"/>
                    <a:pt x="664" y="1539"/>
                    <a:pt x="664" y="1529"/>
                  </a:cubicBezTo>
                  <a:cubicBezTo>
                    <a:pt x="664" y="1506"/>
                    <a:pt x="686" y="1463"/>
                    <a:pt x="686" y="1463"/>
                  </a:cubicBezTo>
                  <a:cubicBezTo>
                    <a:pt x="689" y="1431"/>
                    <a:pt x="691" y="1399"/>
                    <a:pt x="694" y="1367"/>
                  </a:cubicBezTo>
                  <a:cubicBezTo>
                    <a:pt x="696" y="1345"/>
                    <a:pt x="699" y="1278"/>
                    <a:pt x="701" y="1300"/>
                  </a:cubicBezTo>
                  <a:cubicBezTo>
                    <a:pt x="708" y="1364"/>
                    <a:pt x="706" y="1428"/>
                    <a:pt x="708" y="1492"/>
                  </a:cubicBezTo>
                  <a:cubicBezTo>
                    <a:pt x="717" y="1460"/>
                    <a:pt x="731" y="1396"/>
                    <a:pt x="731" y="1396"/>
                  </a:cubicBezTo>
                  <a:cubicBezTo>
                    <a:pt x="728" y="1271"/>
                    <a:pt x="746" y="1143"/>
                    <a:pt x="723" y="1020"/>
                  </a:cubicBezTo>
                  <a:cubicBezTo>
                    <a:pt x="705" y="923"/>
                    <a:pt x="720" y="1217"/>
                    <a:pt x="716" y="1315"/>
                  </a:cubicBezTo>
                  <a:cubicBezTo>
                    <a:pt x="714" y="1366"/>
                    <a:pt x="694" y="1422"/>
                    <a:pt x="679" y="1470"/>
                  </a:cubicBezTo>
                  <a:cubicBezTo>
                    <a:pt x="656" y="1399"/>
                    <a:pt x="694" y="1285"/>
                    <a:pt x="708" y="1212"/>
                  </a:cubicBezTo>
                  <a:cubicBezTo>
                    <a:pt x="705" y="1108"/>
                    <a:pt x="737" y="996"/>
                    <a:pt x="694" y="901"/>
                  </a:cubicBezTo>
                  <a:cubicBezTo>
                    <a:pt x="677" y="864"/>
                    <a:pt x="658" y="828"/>
                    <a:pt x="642" y="791"/>
                  </a:cubicBezTo>
                  <a:cubicBezTo>
                    <a:pt x="631" y="765"/>
                    <a:pt x="598" y="717"/>
                    <a:pt x="598" y="717"/>
                  </a:cubicBezTo>
                  <a:cubicBezTo>
                    <a:pt x="591" y="679"/>
                    <a:pt x="589" y="652"/>
                    <a:pt x="568" y="621"/>
                  </a:cubicBezTo>
                  <a:cubicBezTo>
                    <a:pt x="566" y="614"/>
                    <a:pt x="561" y="591"/>
                    <a:pt x="561" y="599"/>
                  </a:cubicBezTo>
                  <a:cubicBezTo>
                    <a:pt x="561" y="637"/>
                    <a:pt x="578" y="688"/>
                    <a:pt x="590" y="724"/>
                  </a:cubicBezTo>
                  <a:cubicBezTo>
                    <a:pt x="588" y="665"/>
                    <a:pt x="583" y="606"/>
                    <a:pt x="583" y="547"/>
                  </a:cubicBezTo>
                  <a:cubicBezTo>
                    <a:pt x="583" y="530"/>
                    <a:pt x="586" y="582"/>
                    <a:pt x="590" y="599"/>
                  </a:cubicBezTo>
                  <a:cubicBezTo>
                    <a:pt x="595" y="618"/>
                    <a:pt x="611" y="647"/>
                    <a:pt x="620" y="665"/>
                  </a:cubicBezTo>
                  <a:cubicBezTo>
                    <a:pt x="617" y="621"/>
                    <a:pt x="618" y="576"/>
                    <a:pt x="612" y="532"/>
                  </a:cubicBezTo>
                  <a:cubicBezTo>
                    <a:pt x="611" y="521"/>
                    <a:pt x="602" y="513"/>
                    <a:pt x="598" y="503"/>
                  </a:cubicBezTo>
                  <a:cubicBezTo>
                    <a:pt x="594" y="492"/>
                    <a:pt x="581" y="453"/>
                    <a:pt x="576" y="436"/>
                  </a:cubicBezTo>
                  <a:cubicBezTo>
                    <a:pt x="571" y="419"/>
                    <a:pt x="549" y="404"/>
                    <a:pt x="539" y="392"/>
                  </a:cubicBezTo>
                  <a:cubicBezTo>
                    <a:pt x="515" y="363"/>
                    <a:pt x="497" y="331"/>
                    <a:pt x="465" y="311"/>
                  </a:cubicBezTo>
                  <a:cubicBezTo>
                    <a:pt x="450" y="267"/>
                    <a:pt x="468" y="309"/>
                    <a:pt x="435" y="266"/>
                  </a:cubicBezTo>
                  <a:cubicBezTo>
                    <a:pt x="408" y="231"/>
                    <a:pt x="400" y="211"/>
                    <a:pt x="369" y="185"/>
                  </a:cubicBezTo>
                  <a:cubicBezTo>
                    <a:pt x="354" y="173"/>
                    <a:pt x="347" y="153"/>
                    <a:pt x="332" y="141"/>
                  </a:cubicBezTo>
                  <a:cubicBezTo>
                    <a:pt x="326" y="136"/>
                    <a:pt x="317" y="136"/>
                    <a:pt x="310" y="133"/>
                  </a:cubicBezTo>
                  <a:cubicBezTo>
                    <a:pt x="302" y="129"/>
                    <a:pt x="295" y="125"/>
                    <a:pt x="288" y="119"/>
                  </a:cubicBezTo>
                  <a:cubicBezTo>
                    <a:pt x="246" y="85"/>
                    <a:pt x="216" y="58"/>
                    <a:pt x="162" y="45"/>
                  </a:cubicBezTo>
                  <a:cubicBezTo>
                    <a:pt x="116" y="14"/>
                    <a:pt x="55" y="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18"/>
            <p:cNvSpPr/>
            <p:nvPr/>
          </p:nvSpPr>
          <p:spPr>
            <a:xfrm>
              <a:off x="3892680" y="1447920"/>
              <a:ext cx="1031760" cy="973080"/>
            </a:xfrm>
            <a:custGeom>
              <a:avLst/>
              <a:gdLst/>
              <a:ahLst/>
              <a:rect l="l" t="t" r="r" b="b"/>
              <a:pathLst>
                <a:path w="650" h="613">
                  <a:moveTo>
                    <a:pt x="650" y="52"/>
                  </a:moveTo>
                  <a:cubicBezTo>
                    <a:pt x="613" y="30"/>
                    <a:pt x="572" y="14"/>
                    <a:pt x="531" y="0"/>
                  </a:cubicBezTo>
                  <a:cubicBezTo>
                    <a:pt x="437" y="6"/>
                    <a:pt x="344" y="15"/>
                    <a:pt x="251" y="22"/>
                  </a:cubicBezTo>
                  <a:cubicBezTo>
                    <a:pt x="199" y="41"/>
                    <a:pt x="208" y="55"/>
                    <a:pt x="177" y="96"/>
                  </a:cubicBezTo>
                  <a:cubicBezTo>
                    <a:pt x="161" y="145"/>
                    <a:pt x="183" y="89"/>
                    <a:pt x="147" y="140"/>
                  </a:cubicBezTo>
                  <a:cubicBezTo>
                    <a:pt x="121" y="177"/>
                    <a:pt x="143" y="160"/>
                    <a:pt x="125" y="192"/>
                  </a:cubicBezTo>
                  <a:cubicBezTo>
                    <a:pt x="116" y="207"/>
                    <a:pt x="106" y="221"/>
                    <a:pt x="96" y="236"/>
                  </a:cubicBezTo>
                  <a:cubicBezTo>
                    <a:pt x="91" y="244"/>
                    <a:pt x="81" y="259"/>
                    <a:pt x="81" y="259"/>
                  </a:cubicBezTo>
                  <a:cubicBezTo>
                    <a:pt x="70" y="295"/>
                    <a:pt x="59" y="313"/>
                    <a:pt x="37" y="347"/>
                  </a:cubicBezTo>
                  <a:cubicBezTo>
                    <a:pt x="32" y="354"/>
                    <a:pt x="22" y="369"/>
                    <a:pt x="22" y="369"/>
                  </a:cubicBezTo>
                  <a:cubicBezTo>
                    <a:pt x="3" y="473"/>
                    <a:pt x="0" y="483"/>
                    <a:pt x="0" y="61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19"/>
            <p:cNvSpPr/>
            <p:nvPr/>
          </p:nvSpPr>
          <p:spPr>
            <a:xfrm>
              <a:off x="5649840" y="2209680"/>
              <a:ext cx="155520" cy="1395360"/>
            </a:xfrm>
            <a:custGeom>
              <a:avLst/>
              <a:gdLst/>
              <a:ahLst/>
              <a:rect l="l" t="t" r="r" b="b"/>
              <a:pathLst>
                <a:path w="98" h="879">
                  <a:moveTo>
                    <a:pt x="89" y="879"/>
                  </a:moveTo>
                  <a:cubicBezTo>
                    <a:pt x="85" y="811"/>
                    <a:pt x="82" y="764"/>
                    <a:pt x="67" y="702"/>
                  </a:cubicBezTo>
                  <a:cubicBezTo>
                    <a:pt x="82" y="590"/>
                    <a:pt x="98" y="470"/>
                    <a:pt x="59" y="362"/>
                  </a:cubicBezTo>
                  <a:cubicBezTo>
                    <a:pt x="52" y="294"/>
                    <a:pt x="60" y="219"/>
                    <a:pt x="37" y="155"/>
                  </a:cubicBezTo>
                  <a:cubicBezTo>
                    <a:pt x="35" y="162"/>
                    <a:pt x="32" y="184"/>
                    <a:pt x="30" y="177"/>
                  </a:cubicBezTo>
                  <a:cubicBezTo>
                    <a:pt x="24" y="153"/>
                    <a:pt x="26" y="128"/>
                    <a:pt x="23" y="104"/>
                  </a:cubicBezTo>
                  <a:cubicBezTo>
                    <a:pt x="19" y="70"/>
                    <a:pt x="0" y="3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20"/>
            <p:cNvSpPr/>
            <p:nvPr/>
          </p:nvSpPr>
          <p:spPr>
            <a:xfrm>
              <a:off x="3224160" y="4332240"/>
              <a:ext cx="609480" cy="574560"/>
            </a:xfrm>
            <a:custGeom>
              <a:avLst/>
              <a:gdLst/>
              <a:ahLst/>
              <a:rect l="l" t="t" r="r" b="b"/>
              <a:pathLst>
                <a:path w="384" h="362">
                  <a:moveTo>
                    <a:pt x="29" y="362"/>
                  </a:moveTo>
                  <a:cubicBezTo>
                    <a:pt x="13" y="310"/>
                    <a:pt x="0" y="322"/>
                    <a:pt x="37" y="310"/>
                  </a:cubicBezTo>
                  <a:cubicBezTo>
                    <a:pt x="69" y="360"/>
                    <a:pt x="37" y="316"/>
                    <a:pt x="44" y="295"/>
                  </a:cubicBezTo>
                  <a:cubicBezTo>
                    <a:pt x="46" y="288"/>
                    <a:pt x="59" y="290"/>
                    <a:pt x="66" y="288"/>
                  </a:cubicBezTo>
                  <a:cubicBezTo>
                    <a:pt x="124" y="328"/>
                    <a:pt x="49" y="287"/>
                    <a:pt x="96" y="266"/>
                  </a:cubicBezTo>
                  <a:cubicBezTo>
                    <a:pt x="110" y="260"/>
                    <a:pt x="125" y="275"/>
                    <a:pt x="140" y="280"/>
                  </a:cubicBezTo>
                  <a:cubicBezTo>
                    <a:pt x="150" y="283"/>
                    <a:pt x="121" y="271"/>
                    <a:pt x="111" y="266"/>
                  </a:cubicBezTo>
                  <a:cubicBezTo>
                    <a:pt x="118" y="261"/>
                    <a:pt x="130" y="259"/>
                    <a:pt x="133" y="251"/>
                  </a:cubicBezTo>
                  <a:cubicBezTo>
                    <a:pt x="136" y="244"/>
                    <a:pt x="129" y="236"/>
                    <a:pt x="125" y="229"/>
                  </a:cubicBezTo>
                  <a:cubicBezTo>
                    <a:pt x="116" y="213"/>
                    <a:pt x="96" y="184"/>
                    <a:pt x="96" y="184"/>
                  </a:cubicBezTo>
                  <a:cubicBezTo>
                    <a:pt x="111" y="182"/>
                    <a:pt x="129" y="188"/>
                    <a:pt x="140" y="177"/>
                  </a:cubicBezTo>
                  <a:cubicBezTo>
                    <a:pt x="146" y="171"/>
                    <a:pt x="126" y="164"/>
                    <a:pt x="125" y="155"/>
                  </a:cubicBezTo>
                  <a:cubicBezTo>
                    <a:pt x="120" y="125"/>
                    <a:pt x="153" y="129"/>
                    <a:pt x="170" y="125"/>
                  </a:cubicBezTo>
                  <a:cubicBezTo>
                    <a:pt x="150" y="96"/>
                    <a:pt x="123" y="73"/>
                    <a:pt x="170" y="59"/>
                  </a:cubicBezTo>
                  <a:cubicBezTo>
                    <a:pt x="172" y="42"/>
                    <a:pt x="167" y="21"/>
                    <a:pt x="177" y="7"/>
                  </a:cubicBezTo>
                  <a:cubicBezTo>
                    <a:pt x="182" y="0"/>
                    <a:pt x="183" y="29"/>
                    <a:pt x="192" y="29"/>
                  </a:cubicBezTo>
                  <a:cubicBezTo>
                    <a:pt x="202" y="29"/>
                    <a:pt x="207" y="14"/>
                    <a:pt x="214" y="7"/>
                  </a:cubicBezTo>
                  <a:cubicBezTo>
                    <a:pt x="260" y="24"/>
                    <a:pt x="234" y="51"/>
                    <a:pt x="251" y="96"/>
                  </a:cubicBezTo>
                  <a:cubicBezTo>
                    <a:pt x="255" y="106"/>
                    <a:pt x="266" y="111"/>
                    <a:pt x="273" y="118"/>
                  </a:cubicBezTo>
                  <a:cubicBezTo>
                    <a:pt x="276" y="135"/>
                    <a:pt x="300" y="226"/>
                    <a:pt x="317" y="236"/>
                  </a:cubicBezTo>
                  <a:cubicBezTo>
                    <a:pt x="328" y="242"/>
                    <a:pt x="342" y="241"/>
                    <a:pt x="354" y="243"/>
                  </a:cubicBezTo>
                  <a:cubicBezTo>
                    <a:pt x="364" y="271"/>
                    <a:pt x="361" y="312"/>
                    <a:pt x="384" y="3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21"/>
            <p:cNvSpPr/>
            <p:nvPr/>
          </p:nvSpPr>
          <p:spPr>
            <a:xfrm>
              <a:off x="3341520" y="4660920"/>
              <a:ext cx="374760" cy="37476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44" y="236"/>
                  </a:moveTo>
                  <a:cubicBezTo>
                    <a:pt x="30" y="208"/>
                    <a:pt x="9" y="191"/>
                    <a:pt x="0" y="162"/>
                  </a:cubicBezTo>
                  <a:cubicBezTo>
                    <a:pt x="17" y="110"/>
                    <a:pt x="43" y="161"/>
                    <a:pt x="59" y="184"/>
                  </a:cubicBezTo>
                  <a:cubicBezTo>
                    <a:pt x="64" y="191"/>
                    <a:pt x="64" y="206"/>
                    <a:pt x="73" y="206"/>
                  </a:cubicBezTo>
                  <a:cubicBezTo>
                    <a:pt x="81" y="206"/>
                    <a:pt x="69" y="191"/>
                    <a:pt x="66" y="184"/>
                  </a:cubicBezTo>
                  <a:cubicBezTo>
                    <a:pt x="62" y="176"/>
                    <a:pt x="56" y="169"/>
                    <a:pt x="51" y="162"/>
                  </a:cubicBezTo>
                  <a:cubicBezTo>
                    <a:pt x="49" y="150"/>
                    <a:pt x="44" y="138"/>
                    <a:pt x="44" y="125"/>
                  </a:cubicBezTo>
                  <a:cubicBezTo>
                    <a:pt x="44" y="55"/>
                    <a:pt x="93" y="168"/>
                    <a:pt x="96" y="177"/>
                  </a:cubicBezTo>
                  <a:cubicBezTo>
                    <a:pt x="99" y="131"/>
                    <a:pt x="93" y="0"/>
                    <a:pt x="133" y="110"/>
                  </a:cubicBezTo>
                  <a:cubicBezTo>
                    <a:pt x="143" y="23"/>
                    <a:pt x="138" y="46"/>
                    <a:pt x="169" y="96"/>
                  </a:cubicBezTo>
                  <a:cubicBezTo>
                    <a:pt x="172" y="108"/>
                    <a:pt x="167" y="125"/>
                    <a:pt x="177" y="132"/>
                  </a:cubicBezTo>
                  <a:cubicBezTo>
                    <a:pt x="184" y="137"/>
                    <a:pt x="190" y="116"/>
                    <a:pt x="199" y="118"/>
                  </a:cubicBezTo>
                  <a:cubicBezTo>
                    <a:pt x="209" y="120"/>
                    <a:pt x="214" y="133"/>
                    <a:pt x="221" y="140"/>
                  </a:cubicBezTo>
                  <a:cubicBezTo>
                    <a:pt x="230" y="189"/>
                    <a:pt x="223" y="170"/>
                    <a:pt x="236" y="19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23"/>
            <p:cNvSpPr/>
            <p:nvPr/>
          </p:nvSpPr>
          <p:spPr>
            <a:xfrm>
              <a:off x="3481560" y="4938840"/>
              <a:ext cx="446040" cy="190440"/>
            </a:xfrm>
            <a:custGeom>
              <a:avLst/>
              <a:gdLst/>
              <a:ahLst/>
              <a:rect l="l" t="t" r="r" b="b"/>
              <a:pathLst>
                <a:path w="281" h="120">
                  <a:moveTo>
                    <a:pt x="0" y="61"/>
                  </a:moveTo>
                  <a:cubicBezTo>
                    <a:pt x="3" y="49"/>
                    <a:pt x="4" y="36"/>
                    <a:pt x="8" y="24"/>
                  </a:cubicBezTo>
                  <a:cubicBezTo>
                    <a:pt x="11" y="16"/>
                    <a:pt x="14" y="0"/>
                    <a:pt x="22" y="2"/>
                  </a:cubicBezTo>
                  <a:cubicBezTo>
                    <a:pt x="33" y="5"/>
                    <a:pt x="32" y="21"/>
                    <a:pt x="37" y="31"/>
                  </a:cubicBezTo>
                  <a:cubicBezTo>
                    <a:pt x="76" y="6"/>
                    <a:pt x="63" y="26"/>
                    <a:pt x="74" y="61"/>
                  </a:cubicBezTo>
                  <a:cubicBezTo>
                    <a:pt x="133" y="21"/>
                    <a:pt x="59" y="61"/>
                    <a:pt x="118" y="61"/>
                  </a:cubicBezTo>
                  <a:cubicBezTo>
                    <a:pt x="127" y="61"/>
                    <a:pt x="133" y="51"/>
                    <a:pt x="141" y="46"/>
                  </a:cubicBezTo>
                  <a:cubicBezTo>
                    <a:pt x="148" y="48"/>
                    <a:pt x="158" y="47"/>
                    <a:pt x="163" y="53"/>
                  </a:cubicBezTo>
                  <a:cubicBezTo>
                    <a:pt x="187" y="78"/>
                    <a:pt x="143" y="97"/>
                    <a:pt x="200" y="53"/>
                  </a:cubicBezTo>
                  <a:cubicBezTo>
                    <a:pt x="224" y="92"/>
                    <a:pt x="226" y="120"/>
                    <a:pt x="281" y="1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24"/>
            <p:cNvSpPr/>
            <p:nvPr/>
          </p:nvSpPr>
          <p:spPr>
            <a:xfrm>
              <a:off x="3452760" y="4381560"/>
              <a:ext cx="306360" cy="45396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33" y="183"/>
                  </a:moveTo>
                  <a:cubicBezTo>
                    <a:pt x="27" y="157"/>
                    <a:pt x="19" y="134"/>
                    <a:pt x="11" y="109"/>
                  </a:cubicBezTo>
                  <a:cubicBezTo>
                    <a:pt x="6" y="123"/>
                    <a:pt x="0" y="195"/>
                    <a:pt x="18" y="139"/>
                  </a:cubicBezTo>
                  <a:cubicBezTo>
                    <a:pt x="33" y="0"/>
                    <a:pt x="18" y="91"/>
                    <a:pt x="55" y="146"/>
                  </a:cubicBezTo>
                  <a:cubicBezTo>
                    <a:pt x="60" y="129"/>
                    <a:pt x="62" y="78"/>
                    <a:pt x="70" y="94"/>
                  </a:cubicBezTo>
                  <a:cubicBezTo>
                    <a:pt x="93" y="139"/>
                    <a:pt x="62" y="234"/>
                    <a:pt x="85" y="168"/>
                  </a:cubicBezTo>
                  <a:cubicBezTo>
                    <a:pt x="87" y="161"/>
                    <a:pt x="90" y="153"/>
                    <a:pt x="92" y="146"/>
                  </a:cubicBezTo>
                  <a:cubicBezTo>
                    <a:pt x="109" y="171"/>
                    <a:pt x="114" y="191"/>
                    <a:pt x="122" y="220"/>
                  </a:cubicBezTo>
                  <a:cubicBezTo>
                    <a:pt x="129" y="213"/>
                    <a:pt x="138" y="207"/>
                    <a:pt x="144" y="198"/>
                  </a:cubicBezTo>
                  <a:cubicBezTo>
                    <a:pt x="148" y="192"/>
                    <a:pt x="149" y="169"/>
                    <a:pt x="151" y="176"/>
                  </a:cubicBezTo>
                  <a:cubicBezTo>
                    <a:pt x="158" y="197"/>
                    <a:pt x="154" y="221"/>
                    <a:pt x="159" y="242"/>
                  </a:cubicBezTo>
                  <a:cubicBezTo>
                    <a:pt x="163" y="258"/>
                    <a:pt x="175" y="271"/>
                    <a:pt x="181" y="286"/>
                  </a:cubicBezTo>
                  <a:cubicBezTo>
                    <a:pt x="193" y="222"/>
                    <a:pt x="167" y="170"/>
                    <a:pt x="151" y="109"/>
                  </a:cubicBezTo>
                  <a:lnTo>
                    <a:pt x="136" y="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26"/>
            <p:cNvSpPr/>
            <p:nvPr/>
          </p:nvSpPr>
          <p:spPr>
            <a:xfrm>
              <a:off x="3457440" y="3649680"/>
              <a:ext cx="201600" cy="728640"/>
            </a:xfrm>
            <a:custGeom>
              <a:avLst/>
              <a:gdLst/>
              <a:ahLst/>
              <a:rect l="l" t="t" r="r" b="b"/>
              <a:pathLst>
                <a:path w="127" h="459">
                  <a:moveTo>
                    <a:pt x="45" y="459"/>
                  </a:moveTo>
                  <a:cubicBezTo>
                    <a:pt x="16" y="417"/>
                    <a:pt x="15" y="335"/>
                    <a:pt x="67" y="319"/>
                  </a:cubicBezTo>
                  <a:cubicBezTo>
                    <a:pt x="57" y="278"/>
                    <a:pt x="61" y="268"/>
                    <a:pt x="104" y="282"/>
                  </a:cubicBezTo>
                  <a:cubicBezTo>
                    <a:pt x="108" y="293"/>
                    <a:pt x="121" y="324"/>
                    <a:pt x="104" y="334"/>
                  </a:cubicBezTo>
                  <a:cubicBezTo>
                    <a:pt x="102" y="335"/>
                    <a:pt x="58" y="321"/>
                    <a:pt x="52" y="319"/>
                  </a:cubicBezTo>
                  <a:cubicBezTo>
                    <a:pt x="45" y="314"/>
                    <a:pt x="33" y="312"/>
                    <a:pt x="30" y="304"/>
                  </a:cubicBezTo>
                  <a:cubicBezTo>
                    <a:pt x="27" y="297"/>
                    <a:pt x="37" y="290"/>
                    <a:pt x="37" y="282"/>
                  </a:cubicBezTo>
                  <a:cubicBezTo>
                    <a:pt x="37" y="250"/>
                    <a:pt x="25" y="231"/>
                    <a:pt x="0" y="216"/>
                  </a:cubicBezTo>
                  <a:cubicBezTo>
                    <a:pt x="15" y="206"/>
                    <a:pt x="83" y="182"/>
                    <a:pt x="23" y="223"/>
                  </a:cubicBezTo>
                  <a:cubicBezTo>
                    <a:pt x="25" y="235"/>
                    <a:pt x="18" y="264"/>
                    <a:pt x="30" y="260"/>
                  </a:cubicBezTo>
                  <a:cubicBezTo>
                    <a:pt x="50" y="253"/>
                    <a:pt x="67" y="208"/>
                    <a:pt x="67" y="208"/>
                  </a:cubicBezTo>
                  <a:cubicBezTo>
                    <a:pt x="62" y="164"/>
                    <a:pt x="30" y="94"/>
                    <a:pt x="82" y="75"/>
                  </a:cubicBezTo>
                  <a:cubicBezTo>
                    <a:pt x="92" y="78"/>
                    <a:pt x="106" y="74"/>
                    <a:pt x="111" y="83"/>
                  </a:cubicBezTo>
                  <a:cubicBezTo>
                    <a:pt x="127" y="110"/>
                    <a:pt x="94" y="116"/>
                    <a:pt x="82" y="120"/>
                  </a:cubicBezTo>
                  <a:cubicBezTo>
                    <a:pt x="32" y="109"/>
                    <a:pt x="38" y="108"/>
                    <a:pt x="23" y="61"/>
                  </a:cubicBezTo>
                  <a:cubicBezTo>
                    <a:pt x="25" y="49"/>
                    <a:pt x="24" y="35"/>
                    <a:pt x="30" y="24"/>
                  </a:cubicBezTo>
                  <a:cubicBezTo>
                    <a:pt x="37" y="11"/>
                    <a:pt x="79" y="0"/>
                    <a:pt x="30" y="16"/>
                  </a:cubicBezTo>
                  <a:cubicBezTo>
                    <a:pt x="28" y="23"/>
                    <a:pt x="23" y="38"/>
                    <a:pt x="23" y="3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627"/>
            <p:cNvSpPr/>
            <p:nvPr/>
          </p:nvSpPr>
          <p:spPr>
            <a:xfrm>
              <a:off x="3548160" y="1260360"/>
              <a:ext cx="2417760" cy="3727440"/>
            </a:xfrm>
            <a:custGeom>
              <a:avLst/>
              <a:gdLst/>
              <a:ahLst/>
              <a:rect l="l" t="t" r="r" b="b"/>
              <a:pathLst>
                <a:path w="1706" h="2437">
                  <a:moveTo>
                    <a:pt x="140" y="2039"/>
                  </a:moveTo>
                  <a:cubicBezTo>
                    <a:pt x="138" y="1999"/>
                    <a:pt x="151" y="1956"/>
                    <a:pt x="133" y="1920"/>
                  </a:cubicBezTo>
                  <a:cubicBezTo>
                    <a:pt x="120" y="1893"/>
                    <a:pt x="155" y="2009"/>
                    <a:pt x="125" y="2009"/>
                  </a:cubicBezTo>
                  <a:cubicBezTo>
                    <a:pt x="95" y="2009"/>
                    <a:pt x="120" y="1950"/>
                    <a:pt x="118" y="1920"/>
                  </a:cubicBezTo>
                  <a:cubicBezTo>
                    <a:pt x="115" y="1947"/>
                    <a:pt x="110" y="1975"/>
                    <a:pt x="110" y="2002"/>
                  </a:cubicBezTo>
                  <a:cubicBezTo>
                    <a:pt x="110" y="2020"/>
                    <a:pt x="115" y="1967"/>
                    <a:pt x="118" y="1950"/>
                  </a:cubicBezTo>
                  <a:cubicBezTo>
                    <a:pt x="123" y="1923"/>
                    <a:pt x="133" y="1869"/>
                    <a:pt x="133" y="1869"/>
                  </a:cubicBezTo>
                  <a:cubicBezTo>
                    <a:pt x="130" y="1847"/>
                    <a:pt x="141" y="1818"/>
                    <a:pt x="125" y="1802"/>
                  </a:cubicBezTo>
                  <a:cubicBezTo>
                    <a:pt x="113" y="1790"/>
                    <a:pt x="119" y="1871"/>
                    <a:pt x="118" y="1854"/>
                  </a:cubicBezTo>
                  <a:cubicBezTo>
                    <a:pt x="99" y="1207"/>
                    <a:pt x="82" y="1115"/>
                    <a:pt x="118" y="1344"/>
                  </a:cubicBezTo>
                  <a:cubicBezTo>
                    <a:pt x="120" y="1270"/>
                    <a:pt x="125" y="1197"/>
                    <a:pt x="125" y="1123"/>
                  </a:cubicBezTo>
                  <a:cubicBezTo>
                    <a:pt x="125" y="1091"/>
                    <a:pt x="136" y="1054"/>
                    <a:pt x="118" y="1027"/>
                  </a:cubicBezTo>
                  <a:cubicBezTo>
                    <a:pt x="104" y="1007"/>
                    <a:pt x="106" y="1076"/>
                    <a:pt x="110" y="1101"/>
                  </a:cubicBezTo>
                  <a:cubicBezTo>
                    <a:pt x="112" y="1112"/>
                    <a:pt x="120" y="1081"/>
                    <a:pt x="125" y="1071"/>
                  </a:cubicBezTo>
                  <a:cubicBezTo>
                    <a:pt x="137" y="1016"/>
                    <a:pt x="154" y="964"/>
                    <a:pt x="184" y="916"/>
                  </a:cubicBezTo>
                  <a:cubicBezTo>
                    <a:pt x="174" y="1002"/>
                    <a:pt x="178" y="1183"/>
                    <a:pt x="162" y="909"/>
                  </a:cubicBezTo>
                  <a:cubicBezTo>
                    <a:pt x="151" y="979"/>
                    <a:pt x="152" y="1083"/>
                    <a:pt x="110" y="1145"/>
                  </a:cubicBezTo>
                  <a:cubicBezTo>
                    <a:pt x="101" y="1106"/>
                    <a:pt x="112" y="1082"/>
                    <a:pt x="118" y="1042"/>
                  </a:cubicBezTo>
                  <a:cubicBezTo>
                    <a:pt x="132" y="950"/>
                    <a:pt x="146" y="858"/>
                    <a:pt x="170" y="768"/>
                  </a:cubicBezTo>
                  <a:cubicBezTo>
                    <a:pt x="175" y="778"/>
                    <a:pt x="173" y="798"/>
                    <a:pt x="184" y="798"/>
                  </a:cubicBezTo>
                  <a:cubicBezTo>
                    <a:pt x="197" y="798"/>
                    <a:pt x="206" y="733"/>
                    <a:pt x="206" y="731"/>
                  </a:cubicBezTo>
                  <a:cubicBezTo>
                    <a:pt x="218" y="683"/>
                    <a:pt x="234" y="645"/>
                    <a:pt x="251" y="599"/>
                  </a:cubicBezTo>
                  <a:cubicBezTo>
                    <a:pt x="296" y="483"/>
                    <a:pt x="259" y="541"/>
                    <a:pt x="295" y="488"/>
                  </a:cubicBezTo>
                  <a:cubicBezTo>
                    <a:pt x="297" y="478"/>
                    <a:pt x="311" y="463"/>
                    <a:pt x="302" y="458"/>
                  </a:cubicBezTo>
                  <a:cubicBezTo>
                    <a:pt x="293" y="453"/>
                    <a:pt x="269" y="500"/>
                    <a:pt x="266" y="503"/>
                  </a:cubicBezTo>
                  <a:cubicBezTo>
                    <a:pt x="232" y="543"/>
                    <a:pt x="208" y="585"/>
                    <a:pt x="177" y="628"/>
                  </a:cubicBezTo>
                  <a:cubicBezTo>
                    <a:pt x="171" y="637"/>
                    <a:pt x="147" y="671"/>
                    <a:pt x="147" y="680"/>
                  </a:cubicBezTo>
                  <a:cubicBezTo>
                    <a:pt x="147" y="689"/>
                    <a:pt x="156" y="665"/>
                    <a:pt x="162" y="658"/>
                  </a:cubicBezTo>
                  <a:cubicBezTo>
                    <a:pt x="169" y="650"/>
                    <a:pt x="177" y="643"/>
                    <a:pt x="184" y="635"/>
                  </a:cubicBezTo>
                  <a:cubicBezTo>
                    <a:pt x="230" y="580"/>
                    <a:pt x="253" y="540"/>
                    <a:pt x="288" y="480"/>
                  </a:cubicBezTo>
                  <a:cubicBezTo>
                    <a:pt x="296" y="432"/>
                    <a:pt x="291" y="441"/>
                    <a:pt x="310" y="399"/>
                  </a:cubicBezTo>
                  <a:cubicBezTo>
                    <a:pt x="315" y="389"/>
                    <a:pt x="321" y="380"/>
                    <a:pt x="325" y="370"/>
                  </a:cubicBezTo>
                  <a:cubicBezTo>
                    <a:pt x="328" y="363"/>
                    <a:pt x="336" y="340"/>
                    <a:pt x="332" y="347"/>
                  </a:cubicBezTo>
                  <a:cubicBezTo>
                    <a:pt x="276" y="445"/>
                    <a:pt x="359" y="327"/>
                    <a:pt x="295" y="414"/>
                  </a:cubicBezTo>
                  <a:cubicBezTo>
                    <a:pt x="269" y="489"/>
                    <a:pt x="287" y="444"/>
                    <a:pt x="236" y="547"/>
                  </a:cubicBezTo>
                  <a:cubicBezTo>
                    <a:pt x="230" y="560"/>
                    <a:pt x="222" y="572"/>
                    <a:pt x="214" y="584"/>
                  </a:cubicBezTo>
                  <a:cubicBezTo>
                    <a:pt x="204" y="599"/>
                    <a:pt x="184" y="628"/>
                    <a:pt x="184" y="628"/>
                  </a:cubicBezTo>
                  <a:cubicBezTo>
                    <a:pt x="182" y="635"/>
                    <a:pt x="177" y="658"/>
                    <a:pt x="177" y="650"/>
                  </a:cubicBezTo>
                  <a:cubicBezTo>
                    <a:pt x="177" y="601"/>
                    <a:pt x="214" y="551"/>
                    <a:pt x="236" y="510"/>
                  </a:cubicBezTo>
                  <a:cubicBezTo>
                    <a:pt x="279" y="432"/>
                    <a:pt x="336" y="299"/>
                    <a:pt x="398" y="237"/>
                  </a:cubicBezTo>
                  <a:cubicBezTo>
                    <a:pt x="409" y="195"/>
                    <a:pt x="416" y="195"/>
                    <a:pt x="369" y="237"/>
                  </a:cubicBezTo>
                  <a:cubicBezTo>
                    <a:pt x="335" y="268"/>
                    <a:pt x="321" y="297"/>
                    <a:pt x="295" y="333"/>
                  </a:cubicBezTo>
                  <a:cubicBezTo>
                    <a:pt x="293" y="340"/>
                    <a:pt x="280" y="355"/>
                    <a:pt x="288" y="355"/>
                  </a:cubicBezTo>
                  <a:cubicBezTo>
                    <a:pt x="317" y="355"/>
                    <a:pt x="320" y="317"/>
                    <a:pt x="332" y="303"/>
                  </a:cubicBezTo>
                  <a:cubicBezTo>
                    <a:pt x="378" y="248"/>
                    <a:pt x="448" y="214"/>
                    <a:pt x="487" y="155"/>
                  </a:cubicBezTo>
                  <a:cubicBezTo>
                    <a:pt x="489" y="148"/>
                    <a:pt x="500" y="137"/>
                    <a:pt x="494" y="133"/>
                  </a:cubicBezTo>
                  <a:cubicBezTo>
                    <a:pt x="486" y="128"/>
                    <a:pt x="474" y="136"/>
                    <a:pt x="465" y="141"/>
                  </a:cubicBezTo>
                  <a:cubicBezTo>
                    <a:pt x="426" y="164"/>
                    <a:pt x="382" y="200"/>
                    <a:pt x="347" y="229"/>
                  </a:cubicBezTo>
                  <a:cubicBezTo>
                    <a:pt x="336" y="238"/>
                    <a:pt x="295" y="261"/>
                    <a:pt x="295" y="281"/>
                  </a:cubicBezTo>
                  <a:cubicBezTo>
                    <a:pt x="295" y="289"/>
                    <a:pt x="310" y="276"/>
                    <a:pt x="317" y="274"/>
                  </a:cubicBezTo>
                  <a:cubicBezTo>
                    <a:pt x="327" y="271"/>
                    <a:pt x="337" y="270"/>
                    <a:pt x="347" y="266"/>
                  </a:cubicBezTo>
                  <a:cubicBezTo>
                    <a:pt x="395" y="246"/>
                    <a:pt x="443" y="213"/>
                    <a:pt x="487" y="185"/>
                  </a:cubicBezTo>
                  <a:cubicBezTo>
                    <a:pt x="497" y="178"/>
                    <a:pt x="508" y="172"/>
                    <a:pt x="517" y="163"/>
                  </a:cubicBezTo>
                  <a:cubicBezTo>
                    <a:pt x="526" y="154"/>
                    <a:pt x="551" y="137"/>
                    <a:pt x="539" y="133"/>
                  </a:cubicBezTo>
                  <a:cubicBezTo>
                    <a:pt x="517" y="126"/>
                    <a:pt x="472" y="148"/>
                    <a:pt x="472" y="148"/>
                  </a:cubicBezTo>
                  <a:cubicBezTo>
                    <a:pt x="447" y="165"/>
                    <a:pt x="376" y="193"/>
                    <a:pt x="458" y="178"/>
                  </a:cubicBezTo>
                  <a:cubicBezTo>
                    <a:pt x="485" y="167"/>
                    <a:pt x="513" y="160"/>
                    <a:pt x="539" y="148"/>
                  </a:cubicBezTo>
                  <a:cubicBezTo>
                    <a:pt x="577" y="131"/>
                    <a:pt x="611" y="105"/>
                    <a:pt x="650" y="89"/>
                  </a:cubicBezTo>
                  <a:cubicBezTo>
                    <a:pt x="593" y="72"/>
                    <a:pt x="530" y="70"/>
                    <a:pt x="480" y="104"/>
                  </a:cubicBezTo>
                  <a:cubicBezTo>
                    <a:pt x="556" y="128"/>
                    <a:pt x="675" y="65"/>
                    <a:pt x="760" y="52"/>
                  </a:cubicBezTo>
                  <a:cubicBezTo>
                    <a:pt x="772" y="45"/>
                    <a:pt x="797" y="44"/>
                    <a:pt x="797" y="30"/>
                  </a:cubicBezTo>
                  <a:cubicBezTo>
                    <a:pt x="797" y="17"/>
                    <a:pt x="773" y="15"/>
                    <a:pt x="760" y="15"/>
                  </a:cubicBezTo>
                  <a:cubicBezTo>
                    <a:pt x="745" y="15"/>
                    <a:pt x="731" y="25"/>
                    <a:pt x="716" y="30"/>
                  </a:cubicBezTo>
                  <a:cubicBezTo>
                    <a:pt x="659" y="51"/>
                    <a:pt x="603" y="74"/>
                    <a:pt x="546" y="96"/>
                  </a:cubicBezTo>
                  <a:cubicBezTo>
                    <a:pt x="532" y="101"/>
                    <a:pt x="522" y="113"/>
                    <a:pt x="509" y="119"/>
                  </a:cubicBezTo>
                  <a:cubicBezTo>
                    <a:pt x="495" y="125"/>
                    <a:pt x="450" y="137"/>
                    <a:pt x="465" y="133"/>
                  </a:cubicBezTo>
                  <a:cubicBezTo>
                    <a:pt x="475" y="131"/>
                    <a:pt x="484" y="128"/>
                    <a:pt x="494" y="126"/>
                  </a:cubicBezTo>
                  <a:cubicBezTo>
                    <a:pt x="550" y="98"/>
                    <a:pt x="617" y="87"/>
                    <a:pt x="679" y="74"/>
                  </a:cubicBezTo>
                  <a:cubicBezTo>
                    <a:pt x="689" y="69"/>
                    <a:pt x="699" y="63"/>
                    <a:pt x="709" y="59"/>
                  </a:cubicBezTo>
                  <a:cubicBezTo>
                    <a:pt x="723" y="53"/>
                    <a:pt x="753" y="45"/>
                    <a:pt x="753" y="45"/>
                  </a:cubicBezTo>
                  <a:cubicBezTo>
                    <a:pt x="746" y="42"/>
                    <a:pt x="739" y="37"/>
                    <a:pt x="731" y="37"/>
                  </a:cubicBezTo>
                  <a:cubicBezTo>
                    <a:pt x="718" y="37"/>
                    <a:pt x="681" y="45"/>
                    <a:pt x="694" y="45"/>
                  </a:cubicBezTo>
                  <a:cubicBezTo>
                    <a:pt x="743" y="45"/>
                    <a:pt x="851" y="35"/>
                    <a:pt x="908" y="30"/>
                  </a:cubicBezTo>
                  <a:cubicBezTo>
                    <a:pt x="970" y="32"/>
                    <a:pt x="1031" y="37"/>
                    <a:pt x="1093" y="37"/>
                  </a:cubicBezTo>
                  <a:cubicBezTo>
                    <a:pt x="1103" y="37"/>
                    <a:pt x="1073" y="32"/>
                    <a:pt x="1063" y="30"/>
                  </a:cubicBezTo>
                  <a:cubicBezTo>
                    <a:pt x="1033" y="25"/>
                    <a:pt x="1004" y="15"/>
                    <a:pt x="974" y="15"/>
                  </a:cubicBezTo>
                  <a:cubicBezTo>
                    <a:pt x="964" y="15"/>
                    <a:pt x="994" y="21"/>
                    <a:pt x="1004" y="23"/>
                  </a:cubicBezTo>
                  <a:cubicBezTo>
                    <a:pt x="1016" y="26"/>
                    <a:pt x="1029" y="27"/>
                    <a:pt x="1041" y="30"/>
                  </a:cubicBezTo>
                  <a:cubicBezTo>
                    <a:pt x="1157" y="56"/>
                    <a:pt x="1202" y="84"/>
                    <a:pt x="1307" y="119"/>
                  </a:cubicBezTo>
                  <a:cubicBezTo>
                    <a:pt x="1314" y="126"/>
                    <a:pt x="1320" y="135"/>
                    <a:pt x="1329" y="141"/>
                  </a:cubicBezTo>
                  <a:cubicBezTo>
                    <a:pt x="1335" y="145"/>
                    <a:pt x="1358" y="152"/>
                    <a:pt x="1351" y="148"/>
                  </a:cubicBezTo>
                  <a:cubicBezTo>
                    <a:pt x="1332" y="138"/>
                    <a:pt x="1312" y="128"/>
                    <a:pt x="1292" y="119"/>
                  </a:cubicBezTo>
                  <a:cubicBezTo>
                    <a:pt x="1282" y="115"/>
                    <a:pt x="1272" y="114"/>
                    <a:pt x="1262" y="111"/>
                  </a:cubicBezTo>
                  <a:cubicBezTo>
                    <a:pt x="1255" y="109"/>
                    <a:pt x="1240" y="104"/>
                    <a:pt x="1240" y="104"/>
                  </a:cubicBezTo>
                  <a:cubicBezTo>
                    <a:pt x="1240" y="104"/>
                    <a:pt x="1255" y="108"/>
                    <a:pt x="1262" y="111"/>
                  </a:cubicBezTo>
                  <a:cubicBezTo>
                    <a:pt x="1316" y="133"/>
                    <a:pt x="1286" y="122"/>
                    <a:pt x="1351" y="141"/>
                  </a:cubicBezTo>
                  <a:cubicBezTo>
                    <a:pt x="1367" y="153"/>
                    <a:pt x="1388" y="157"/>
                    <a:pt x="1403" y="170"/>
                  </a:cubicBezTo>
                  <a:cubicBezTo>
                    <a:pt x="1412" y="178"/>
                    <a:pt x="1435" y="193"/>
                    <a:pt x="1425" y="200"/>
                  </a:cubicBezTo>
                  <a:cubicBezTo>
                    <a:pt x="1412" y="209"/>
                    <a:pt x="1395" y="191"/>
                    <a:pt x="1381" y="185"/>
                  </a:cubicBezTo>
                  <a:cubicBezTo>
                    <a:pt x="1346" y="169"/>
                    <a:pt x="1323" y="150"/>
                    <a:pt x="1285" y="141"/>
                  </a:cubicBezTo>
                  <a:cubicBezTo>
                    <a:pt x="1277" y="136"/>
                    <a:pt x="1253" y="123"/>
                    <a:pt x="1262" y="126"/>
                  </a:cubicBezTo>
                  <a:cubicBezTo>
                    <a:pt x="1332" y="149"/>
                    <a:pt x="1409" y="184"/>
                    <a:pt x="1462" y="237"/>
                  </a:cubicBezTo>
                  <a:cubicBezTo>
                    <a:pt x="1464" y="247"/>
                    <a:pt x="1464" y="257"/>
                    <a:pt x="1469" y="266"/>
                  </a:cubicBezTo>
                  <a:cubicBezTo>
                    <a:pt x="1495" y="312"/>
                    <a:pt x="1518" y="296"/>
                    <a:pt x="1477" y="311"/>
                  </a:cubicBezTo>
                  <a:cubicBezTo>
                    <a:pt x="1436" y="280"/>
                    <a:pt x="1393" y="253"/>
                    <a:pt x="1344" y="237"/>
                  </a:cubicBezTo>
                  <a:cubicBezTo>
                    <a:pt x="1339" y="230"/>
                    <a:pt x="1321" y="218"/>
                    <a:pt x="1329" y="215"/>
                  </a:cubicBezTo>
                  <a:cubicBezTo>
                    <a:pt x="1341" y="210"/>
                    <a:pt x="1354" y="223"/>
                    <a:pt x="1366" y="229"/>
                  </a:cubicBezTo>
                  <a:cubicBezTo>
                    <a:pt x="1434" y="265"/>
                    <a:pt x="1490" y="297"/>
                    <a:pt x="1521" y="370"/>
                  </a:cubicBezTo>
                  <a:cubicBezTo>
                    <a:pt x="1524" y="377"/>
                    <a:pt x="1525" y="385"/>
                    <a:pt x="1528" y="392"/>
                  </a:cubicBezTo>
                  <a:cubicBezTo>
                    <a:pt x="1532" y="402"/>
                    <a:pt x="1554" y="421"/>
                    <a:pt x="1543" y="421"/>
                  </a:cubicBezTo>
                  <a:cubicBezTo>
                    <a:pt x="1529" y="421"/>
                    <a:pt x="1523" y="402"/>
                    <a:pt x="1514" y="392"/>
                  </a:cubicBezTo>
                  <a:cubicBezTo>
                    <a:pt x="1480" y="352"/>
                    <a:pt x="1469" y="307"/>
                    <a:pt x="1425" y="274"/>
                  </a:cubicBezTo>
                  <a:cubicBezTo>
                    <a:pt x="1378" y="179"/>
                    <a:pt x="1492" y="319"/>
                    <a:pt x="1499" y="333"/>
                  </a:cubicBezTo>
                  <a:cubicBezTo>
                    <a:pt x="1507" y="347"/>
                    <a:pt x="1514" y="362"/>
                    <a:pt x="1521" y="377"/>
                  </a:cubicBezTo>
                  <a:cubicBezTo>
                    <a:pt x="1524" y="384"/>
                    <a:pt x="1535" y="401"/>
                    <a:pt x="1528" y="399"/>
                  </a:cubicBezTo>
                  <a:cubicBezTo>
                    <a:pt x="1513" y="395"/>
                    <a:pt x="1502" y="381"/>
                    <a:pt x="1491" y="370"/>
                  </a:cubicBezTo>
                  <a:cubicBezTo>
                    <a:pt x="1285" y="176"/>
                    <a:pt x="1549" y="407"/>
                    <a:pt x="1307" y="200"/>
                  </a:cubicBezTo>
                  <a:cubicBezTo>
                    <a:pt x="1294" y="189"/>
                    <a:pt x="1283" y="175"/>
                    <a:pt x="1270" y="163"/>
                  </a:cubicBezTo>
                  <a:cubicBezTo>
                    <a:pt x="1263" y="157"/>
                    <a:pt x="1240" y="152"/>
                    <a:pt x="1248" y="148"/>
                  </a:cubicBezTo>
                  <a:cubicBezTo>
                    <a:pt x="1259" y="142"/>
                    <a:pt x="1273" y="153"/>
                    <a:pt x="1285" y="155"/>
                  </a:cubicBezTo>
                  <a:cubicBezTo>
                    <a:pt x="1297" y="163"/>
                    <a:pt x="1309" y="172"/>
                    <a:pt x="1322" y="178"/>
                  </a:cubicBezTo>
                  <a:cubicBezTo>
                    <a:pt x="1333" y="183"/>
                    <a:pt x="1347" y="179"/>
                    <a:pt x="1358" y="185"/>
                  </a:cubicBezTo>
                  <a:cubicBezTo>
                    <a:pt x="1366" y="189"/>
                    <a:pt x="1382" y="207"/>
                    <a:pt x="1373" y="207"/>
                  </a:cubicBezTo>
                  <a:cubicBezTo>
                    <a:pt x="1350" y="207"/>
                    <a:pt x="1341" y="175"/>
                    <a:pt x="1329" y="163"/>
                  </a:cubicBezTo>
                  <a:cubicBezTo>
                    <a:pt x="1302" y="136"/>
                    <a:pt x="1263" y="126"/>
                    <a:pt x="1233" y="104"/>
                  </a:cubicBezTo>
                  <a:cubicBezTo>
                    <a:pt x="1212" y="88"/>
                    <a:pt x="1190" y="71"/>
                    <a:pt x="1166" y="59"/>
                  </a:cubicBezTo>
                  <a:cubicBezTo>
                    <a:pt x="1159" y="56"/>
                    <a:pt x="1137" y="48"/>
                    <a:pt x="1144" y="52"/>
                  </a:cubicBezTo>
                  <a:cubicBezTo>
                    <a:pt x="1171" y="66"/>
                    <a:pt x="1183" y="68"/>
                    <a:pt x="1211" y="74"/>
                  </a:cubicBezTo>
                  <a:cubicBezTo>
                    <a:pt x="1259" y="107"/>
                    <a:pt x="1204" y="71"/>
                    <a:pt x="1262" y="104"/>
                  </a:cubicBezTo>
                  <a:cubicBezTo>
                    <a:pt x="1270" y="109"/>
                    <a:pt x="1294" y="119"/>
                    <a:pt x="1285" y="119"/>
                  </a:cubicBezTo>
                  <a:cubicBezTo>
                    <a:pt x="1260" y="119"/>
                    <a:pt x="1236" y="109"/>
                    <a:pt x="1211" y="104"/>
                  </a:cubicBezTo>
                  <a:cubicBezTo>
                    <a:pt x="1172" y="85"/>
                    <a:pt x="1132" y="72"/>
                    <a:pt x="1093" y="52"/>
                  </a:cubicBezTo>
                  <a:cubicBezTo>
                    <a:pt x="1086" y="48"/>
                    <a:pt x="1115" y="59"/>
                    <a:pt x="1115" y="59"/>
                  </a:cubicBezTo>
                  <a:cubicBezTo>
                    <a:pt x="1162" y="91"/>
                    <a:pt x="1216" y="109"/>
                    <a:pt x="1262" y="141"/>
                  </a:cubicBezTo>
                  <a:cubicBezTo>
                    <a:pt x="1287" y="159"/>
                    <a:pt x="1322" y="185"/>
                    <a:pt x="1344" y="207"/>
                  </a:cubicBezTo>
                  <a:cubicBezTo>
                    <a:pt x="1353" y="216"/>
                    <a:pt x="1357" y="229"/>
                    <a:pt x="1366" y="237"/>
                  </a:cubicBezTo>
                  <a:cubicBezTo>
                    <a:pt x="1380" y="249"/>
                    <a:pt x="1403" y="248"/>
                    <a:pt x="1418" y="259"/>
                  </a:cubicBezTo>
                  <a:cubicBezTo>
                    <a:pt x="1476" y="302"/>
                    <a:pt x="1545" y="414"/>
                    <a:pt x="1587" y="466"/>
                  </a:cubicBezTo>
                  <a:cubicBezTo>
                    <a:pt x="1629" y="517"/>
                    <a:pt x="1676" y="562"/>
                    <a:pt x="1706" y="621"/>
                  </a:cubicBezTo>
                  <a:cubicBezTo>
                    <a:pt x="1701" y="636"/>
                    <a:pt x="1702" y="654"/>
                    <a:pt x="1691" y="665"/>
                  </a:cubicBezTo>
                  <a:cubicBezTo>
                    <a:pt x="1689" y="667"/>
                    <a:pt x="1655" y="653"/>
                    <a:pt x="1639" y="643"/>
                  </a:cubicBezTo>
                  <a:cubicBezTo>
                    <a:pt x="1593" y="615"/>
                    <a:pt x="1564" y="586"/>
                    <a:pt x="1536" y="539"/>
                  </a:cubicBezTo>
                  <a:cubicBezTo>
                    <a:pt x="1513" y="457"/>
                    <a:pt x="1538" y="574"/>
                    <a:pt x="1543" y="591"/>
                  </a:cubicBezTo>
                  <a:cubicBezTo>
                    <a:pt x="1547" y="606"/>
                    <a:pt x="1553" y="620"/>
                    <a:pt x="1558" y="635"/>
                  </a:cubicBezTo>
                  <a:cubicBezTo>
                    <a:pt x="1560" y="650"/>
                    <a:pt x="1562" y="665"/>
                    <a:pt x="1565" y="680"/>
                  </a:cubicBezTo>
                  <a:cubicBezTo>
                    <a:pt x="1587" y="800"/>
                    <a:pt x="1571" y="626"/>
                    <a:pt x="1565" y="525"/>
                  </a:cubicBezTo>
                  <a:cubicBezTo>
                    <a:pt x="1563" y="488"/>
                    <a:pt x="1554" y="449"/>
                    <a:pt x="1543" y="414"/>
                  </a:cubicBezTo>
                  <a:cubicBezTo>
                    <a:pt x="1545" y="407"/>
                    <a:pt x="1547" y="385"/>
                    <a:pt x="1550" y="392"/>
                  </a:cubicBezTo>
                  <a:cubicBezTo>
                    <a:pt x="1575" y="441"/>
                    <a:pt x="1605" y="576"/>
                    <a:pt x="1617" y="628"/>
                  </a:cubicBezTo>
                  <a:cubicBezTo>
                    <a:pt x="1615" y="677"/>
                    <a:pt x="1616" y="727"/>
                    <a:pt x="1610" y="776"/>
                  </a:cubicBezTo>
                  <a:cubicBezTo>
                    <a:pt x="1609" y="784"/>
                    <a:pt x="1604" y="761"/>
                    <a:pt x="1602" y="754"/>
                  </a:cubicBezTo>
                  <a:cubicBezTo>
                    <a:pt x="1599" y="746"/>
                    <a:pt x="1598" y="738"/>
                    <a:pt x="1595" y="731"/>
                  </a:cubicBezTo>
                  <a:cubicBezTo>
                    <a:pt x="1584" y="706"/>
                    <a:pt x="1568" y="683"/>
                    <a:pt x="1558" y="658"/>
                  </a:cubicBezTo>
                  <a:cubicBezTo>
                    <a:pt x="1535" y="599"/>
                    <a:pt x="1515" y="539"/>
                    <a:pt x="1491" y="480"/>
                  </a:cubicBezTo>
                  <a:cubicBezTo>
                    <a:pt x="1478" y="547"/>
                    <a:pt x="1502" y="608"/>
                    <a:pt x="1521" y="672"/>
                  </a:cubicBezTo>
                  <a:cubicBezTo>
                    <a:pt x="1523" y="694"/>
                    <a:pt x="1528" y="717"/>
                    <a:pt x="1528" y="739"/>
                  </a:cubicBezTo>
                  <a:cubicBezTo>
                    <a:pt x="1528" y="786"/>
                    <a:pt x="1525" y="926"/>
                    <a:pt x="1521" y="879"/>
                  </a:cubicBezTo>
                  <a:cubicBezTo>
                    <a:pt x="1510" y="744"/>
                    <a:pt x="1512" y="608"/>
                    <a:pt x="1506" y="473"/>
                  </a:cubicBezTo>
                  <a:cubicBezTo>
                    <a:pt x="1504" y="439"/>
                    <a:pt x="1462" y="290"/>
                    <a:pt x="1506" y="429"/>
                  </a:cubicBezTo>
                  <a:cubicBezTo>
                    <a:pt x="1512" y="449"/>
                    <a:pt x="1522" y="468"/>
                    <a:pt x="1528" y="488"/>
                  </a:cubicBezTo>
                  <a:cubicBezTo>
                    <a:pt x="1542" y="539"/>
                    <a:pt x="1551" y="592"/>
                    <a:pt x="1565" y="643"/>
                  </a:cubicBezTo>
                  <a:cubicBezTo>
                    <a:pt x="1575" y="726"/>
                    <a:pt x="1584" y="812"/>
                    <a:pt x="1558" y="894"/>
                  </a:cubicBezTo>
                  <a:cubicBezTo>
                    <a:pt x="1570" y="578"/>
                    <a:pt x="1568" y="728"/>
                    <a:pt x="1580" y="827"/>
                  </a:cubicBezTo>
                  <a:cubicBezTo>
                    <a:pt x="1578" y="975"/>
                    <a:pt x="1578" y="1123"/>
                    <a:pt x="1573" y="1271"/>
                  </a:cubicBezTo>
                  <a:cubicBezTo>
                    <a:pt x="1573" y="1284"/>
                    <a:pt x="1566" y="1247"/>
                    <a:pt x="1565" y="1234"/>
                  </a:cubicBezTo>
                  <a:cubicBezTo>
                    <a:pt x="1561" y="1177"/>
                    <a:pt x="1558" y="1121"/>
                    <a:pt x="1558" y="1064"/>
                  </a:cubicBezTo>
                  <a:cubicBezTo>
                    <a:pt x="1558" y="1032"/>
                    <a:pt x="1562" y="1128"/>
                    <a:pt x="1565" y="1160"/>
                  </a:cubicBezTo>
                  <a:cubicBezTo>
                    <a:pt x="1567" y="1180"/>
                    <a:pt x="1570" y="1199"/>
                    <a:pt x="1573" y="1219"/>
                  </a:cubicBezTo>
                  <a:cubicBezTo>
                    <a:pt x="1578" y="1352"/>
                    <a:pt x="1589" y="1479"/>
                    <a:pt x="1610" y="1610"/>
                  </a:cubicBezTo>
                  <a:cubicBezTo>
                    <a:pt x="1612" y="1647"/>
                    <a:pt x="1617" y="1758"/>
                    <a:pt x="1617" y="1721"/>
                  </a:cubicBezTo>
                  <a:cubicBezTo>
                    <a:pt x="1617" y="1662"/>
                    <a:pt x="1614" y="1603"/>
                    <a:pt x="1610" y="1544"/>
                  </a:cubicBezTo>
                  <a:cubicBezTo>
                    <a:pt x="1609" y="1536"/>
                    <a:pt x="1598" y="1502"/>
                    <a:pt x="1595" y="1492"/>
                  </a:cubicBezTo>
                  <a:cubicBezTo>
                    <a:pt x="1605" y="1590"/>
                    <a:pt x="1609" y="1699"/>
                    <a:pt x="1639" y="1795"/>
                  </a:cubicBezTo>
                  <a:cubicBezTo>
                    <a:pt x="1635" y="1668"/>
                    <a:pt x="1640" y="1598"/>
                    <a:pt x="1602" y="1492"/>
                  </a:cubicBezTo>
                  <a:cubicBezTo>
                    <a:pt x="1621" y="1615"/>
                    <a:pt x="1639" y="1738"/>
                    <a:pt x="1654" y="1861"/>
                  </a:cubicBezTo>
                  <a:cubicBezTo>
                    <a:pt x="1658" y="1898"/>
                    <a:pt x="1661" y="2009"/>
                    <a:pt x="1661" y="1972"/>
                  </a:cubicBezTo>
                  <a:cubicBezTo>
                    <a:pt x="1661" y="1807"/>
                    <a:pt x="1669" y="1816"/>
                    <a:pt x="1639" y="1721"/>
                  </a:cubicBezTo>
                  <a:cubicBezTo>
                    <a:pt x="1649" y="1853"/>
                    <a:pt x="1663" y="1981"/>
                    <a:pt x="1676" y="2112"/>
                  </a:cubicBezTo>
                  <a:cubicBezTo>
                    <a:pt x="1674" y="2028"/>
                    <a:pt x="1669" y="1945"/>
                    <a:pt x="1669" y="1861"/>
                  </a:cubicBezTo>
                  <a:cubicBezTo>
                    <a:pt x="1669" y="1834"/>
                    <a:pt x="1673" y="1916"/>
                    <a:pt x="1676" y="1943"/>
                  </a:cubicBezTo>
                  <a:cubicBezTo>
                    <a:pt x="1678" y="1960"/>
                    <a:pt x="1681" y="1977"/>
                    <a:pt x="1683" y="1994"/>
                  </a:cubicBezTo>
                  <a:cubicBezTo>
                    <a:pt x="1686" y="2056"/>
                    <a:pt x="1691" y="2117"/>
                    <a:pt x="1691" y="2179"/>
                  </a:cubicBezTo>
                  <a:cubicBezTo>
                    <a:pt x="1691" y="2211"/>
                    <a:pt x="1686" y="2115"/>
                    <a:pt x="1683" y="2083"/>
                  </a:cubicBezTo>
                  <a:cubicBezTo>
                    <a:pt x="1682" y="2073"/>
                    <a:pt x="1674" y="2023"/>
                    <a:pt x="1669" y="2009"/>
                  </a:cubicBezTo>
                  <a:cubicBezTo>
                    <a:pt x="1665" y="1999"/>
                    <a:pt x="1659" y="1989"/>
                    <a:pt x="1654" y="1979"/>
                  </a:cubicBezTo>
                  <a:cubicBezTo>
                    <a:pt x="1656" y="2010"/>
                    <a:pt x="1667" y="2313"/>
                    <a:pt x="1691" y="2378"/>
                  </a:cubicBezTo>
                  <a:cubicBezTo>
                    <a:pt x="1683" y="2327"/>
                    <a:pt x="1666" y="2281"/>
                    <a:pt x="1654" y="2231"/>
                  </a:cubicBezTo>
                  <a:cubicBezTo>
                    <a:pt x="1643" y="2138"/>
                    <a:pt x="1636" y="2065"/>
                    <a:pt x="1654" y="2334"/>
                  </a:cubicBezTo>
                  <a:cubicBezTo>
                    <a:pt x="1656" y="2371"/>
                    <a:pt x="1665" y="2402"/>
                    <a:pt x="1676" y="2437"/>
                  </a:cubicBezTo>
                  <a:cubicBezTo>
                    <a:pt x="1672" y="2383"/>
                    <a:pt x="1654" y="2315"/>
                    <a:pt x="1654" y="2260"/>
                  </a:cubicBezTo>
                  <a:cubicBezTo>
                    <a:pt x="1654" y="2245"/>
                    <a:pt x="1659" y="2289"/>
                    <a:pt x="1661" y="2304"/>
                  </a:cubicBezTo>
                  <a:cubicBezTo>
                    <a:pt x="1668" y="2343"/>
                    <a:pt x="1679" y="2359"/>
                    <a:pt x="1691" y="2393"/>
                  </a:cubicBezTo>
                  <a:cubicBezTo>
                    <a:pt x="1686" y="2332"/>
                    <a:pt x="1681" y="2286"/>
                    <a:pt x="1661" y="2231"/>
                  </a:cubicBezTo>
                  <a:cubicBezTo>
                    <a:pt x="1673" y="2012"/>
                    <a:pt x="1699" y="1784"/>
                    <a:pt x="1632" y="1573"/>
                  </a:cubicBezTo>
                  <a:cubicBezTo>
                    <a:pt x="1620" y="1494"/>
                    <a:pt x="1612" y="1390"/>
                    <a:pt x="1565" y="1322"/>
                  </a:cubicBezTo>
                  <a:cubicBezTo>
                    <a:pt x="1510" y="1095"/>
                    <a:pt x="1557" y="830"/>
                    <a:pt x="1543" y="591"/>
                  </a:cubicBezTo>
                  <a:cubicBezTo>
                    <a:pt x="1539" y="523"/>
                    <a:pt x="1534" y="411"/>
                    <a:pt x="1469" y="370"/>
                  </a:cubicBezTo>
                  <a:cubicBezTo>
                    <a:pt x="1436" y="319"/>
                    <a:pt x="1457" y="330"/>
                    <a:pt x="1418" y="318"/>
                  </a:cubicBezTo>
                  <a:cubicBezTo>
                    <a:pt x="1407" y="288"/>
                    <a:pt x="1385" y="270"/>
                    <a:pt x="1366" y="244"/>
                  </a:cubicBezTo>
                  <a:cubicBezTo>
                    <a:pt x="1357" y="219"/>
                    <a:pt x="1341" y="174"/>
                    <a:pt x="1322" y="155"/>
                  </a:cubicBezTo>
                  <a:cubicBezTo>
                    <a:pt x="1316" y="149"/>
                    <a:pt x="1306" y="147"/>
                    <a:pt x="1299" y="141"/>
                  </a:cubicBezTo>
                  <a:cubicBezTo>
                    <a:pt x="1287" y="130"/>
                    <a:pt x="1248" y="84"/>
                    <a:pt x="1226" y="74"/>
                  </a:cubicBezTo>
                  <a:cubicBezTo>
                    <a:pt x="1215" y="69"/>
                    <a:pt x="1201" y="70"/>
                    <a:pt x="1189" y="67"/>
                  </a:cubicBezTo>
                  <a:cubicBezTo>
                    <a:pt x="1181" y="65"/>
                    <a:pt x="1173" y="63"/>
                    <a:pt x="1166" y="59"/>
                  </a:cubicBezTo>
                  <a:cubicBezTo>
                    <a:pt x="1158" y="55"/>
                    <a:pt x="1152" y="48"/>
                    <a:pt x="1144" y="45"/>
                  </a:cubicBezTo>
                  <a:cubicBezTo>
                    <a:pt x="1128" y="40"/>
                    <a:pt x="1110" y="41"/>
                    <a:pt x="1093" y="37"/>
                  </a:cubicBezTo>
                  <a:cubicBezTo>
                    <a:pt x="1078" y="33"/>
                    <a:pt x="1048" y="23"/>
                    <a:pt x="1048" y="23"/>
                  </a:cubicBezTo>
                  <a:cubicBezTo>
                    <a:pt x="952" y="25"/>
                    <a:pt x="856" y="34"/>
                    <a:pt x="760" y="30"/>
                  </a:cubicBezTo>
                  <a:cubicBezTo>
                    <a:pt x="736" y="29"/>
                    <a:pt x="1014" y="0"/>
                    <a:pt x="797" y="23"/>
                  </a:cubicBezTo>
                  <a:cubicBezTo>
                    <a:pt x="733" y="47"/>
                    <a:pt x="674" y="54"/>
                    <a:pt x="605" y="59"/>
                  </a:cubicBezTo>
                  <a:cubicBezTo>
                    <a:pt x="584" y="73"/>
                    <a:pt x="564" y="86"/>
                    <a:pt x="546" y="104"/>
                  </a:cubicBezTo>
                  <a:cubicBezTo>
                    <a:pt x="540" y="110"/>
                    <a:pt x="538" y="120"/>
                    <a:pt x="531" y="126"/>
                  </a:cubicBezTo>
                  <a:cubicBezTo>
                    <a:pt x="518" y="137"/>
                    <a:pt x="487" y="155"/>
                    <a:pt x="487" y="155"/>
                  </a:cubicBezTo>
                  <a:cubicBezTo>
                    <a:pt x="445" y="219"/>
                    <a:pt x="500" y="146"/>
                    <a:pt x="450" y="185"/>
                  </a:cubicBezTo>
                  <a:cubicBezTo>
                    <a:pt x="413" y="214"/>
                    <a:pt x="466" y="224"/>
                    <a:pt x="391" y="251"/>
                  </a:cubicBezTo>
                  <a:cubicBezTo>
                    <a:pt x="356" y="264"/>
                    <a:pt x="318" y="287"/>
                    <a:pt x="295" y="318"/>
                  </a:cubicBezTo>
                  <a:cubicBezTo>
                    <a:pt x="260" y="366"/>
                    <a:pt x="247" y="433"/>
                    <a:pt x="229" y="488"/>
                  </a:cubicBezTo>
                  <a:cubicBezTo>
                    <a:pt x="248" y="367"/>
                    <a:pt x="244" y="377"/>
                    <a:pt x="229" y="702"/>
                  </a:cubicBezTo>
                  <a:cubicBezTo>
                    <a:pt x="228" y="722"/>
                    <a:pt x="221" y="741"/>
                    <a:pt x="221" y="761"/>
                  </a:cubicBezTo>
                  <a:cubicBezTo>
                    <a:pt x="221" y="774"/>
                    <a:pt x="226" y="736"/>
                    <a:pt x="229" y="724"/>
                  </a:cubicBezTo>
                  <a:cubicBezTo>
                    <a:pt x="232" y="708"/>
                    <a:pt x="246" y="677"/>
                    <a:pt x="251" y="665"/>
                  </a:cubicBezTo>
                  <a:cubicBezTo>
                    <a:pt x="246" y="658"/>
                    <a:pt x="244" y="640"/>
                    <a:pt x="236" y="643"/>
                  </a:cubicBezTo>
                  <a:cubicBezTo>
                    <a:pt x="227" y="646"/>
                    <a:pt x="231" y="662"/>
                    <a:pt x="229" y="672"/>
                  </a:cubicBezTo>
                  <a:cubicBezTo>
                    <a:pt x="224" y="699"/>
                    <a:pt x="222" y="727"/>
                    <a:pt x="214" y="754"/>
                  </a:cubicBezTo>
                  <a:cubicBezTo>
                    <a:pt x="191" y="832"/>
                    <a:pt x="180" y="912"/>
                    <a:pt x="155" y="990"/>
                  </a:cubicBezTo>
                  <a:cubicBezTo>
                    <a:pt x="139" y="945"/>
                    <a:pt x="169" y="867"/>
                    <a:pt x="184" y="820"/>
                  </a:cubicBezTo>
                  <a:cubicBezTo>
                    <a:pt x="180" y="952"/>
                    <a:pt x="192" y="1104"/>
                    <a:pt x="147" y="1234"/>
                  </a:cubicBezTo>
                  <a:cubicBezTo>
                    <a:pt x="155" y="1177"/>
                    <a:pt x="169" y="1121"/>
                    <a:pt x="177" y="1064"/>
                  </a:cubicBezTo>
                  <a:cubicBezTo>
                    <a:pt x="182" y="1027"/>
                    <a:pt x="192" y="953"/>
                    <a:pt x="192" y="953"/>
                  </a:cubicBezTo>
                  <a:cubicBezTo>
                    <a:pt x="189" y="911"/>
                    <a:pt x="195" y="868"/>
                    <a:pt x="184" y="827"/>
                  </a:cubicBezTo>
                  <a:cubicBezTo>
                    <a:pt x="180" y="812"/>
                    <a:pt x="173" y="857"/>
                    <a:pt x="170" y="872"/>
                  </a:cubicBezTo>
                  <a:cubicBezTo>
                    <a:pt x="124" y="1092"/>
                    <a:pt x="203" y="768"/>
                    <a:pt x="147" y="990"/>
                  </a:cubicBezTo>
                  <a:cubicBezTo>
                    <a:pt x="139" y="1059"/>
                    <a:pt x="137" y="1128"/>
                    <a:pt x="125" y="1197"/>
                  </a:cubicBezTo>
                  <a:cubicBezTo>
                    <a:pt x="123" y="1190"/>
                    <a:pt x="119" y="1183"/>
                    <a:pt x="118" y="1175"/>
                  </a:cubicBezTo>
                  <a:cubicBezTo>
                    <a:pt x="114" y="1143"/>
                    <a:pt x="117" y="1110"/>
                    <a:pt x="110" y="1079"/>
                  </a:cubicBezTo>
                  <a:cubicBezTo>
                    <a:pt x="108" y="1069"/>
                    <a:pt x="106" y="1099"/>
                    <a:pt x="103" y="1108"/>
                  </a:cubicBezTo>
                  <a:cubicBezTo>
                    <a:pt x="99" y="1121"/>
                    <a:pt x="93" y="1133"/>
                    <a:pt x="88" y="1145"/>
                  </a:cubicBezTo>
                  <a:cubicBezTo>
                    <a:pt x="86" y="1157"/>
                    <a:pt x="84" y="1170"/>
                    <a:pt x="81" y="1182"/>
                  </a:cubicBezTo>
                  <a:cubicBezTo>
                    <a:pt x="77" y="1197"/>
                    <a:pt x="69" y="1211"/>
                    <a:pt x="66" y="1226"/>
                  </a:cubicBezTo>
                  <a:cubicBezTo>
                    <a:pt x="39" y="1344"/>
                    <a:pt x="37" y="1465"/>
                    <a:pt x="0" y="1581"/>
                  </a:cubicBezTo>
                  <a:cubicBezTo>
                    <a:pt x="14" y="1492"/>
                    <a:pt x="51" y="1409"/>
                    <a:pt x="74" y="1322"/>
                  </a:cubicBezTo>
                  <a:cubicBezTo>
                    <a:pt x="101" y="1406"/>
                    <a:pt x="83" y="1496"/>
                    <a:pt x="103" y="1581"/>
                  </a:cubicBezTo>
                  <a:cubicBezTo>
                    <a:pt x="97" y="1661"/>
                    <a:pt x="81" y="1736"/>
                    <a:pt x="81" y="1817"/>
                  </a:cubicBezTo>
                  <a:cubicBezTo>
                    <a:pt x="81" y="1825"/>
                    <a:pt x="86" y="1803"/>
                    <a:pt x="88" y="1795"/>
                  </a:cubicBezTo>
                  <a:cubicBezTo>
                    <a:pt x="91" y="1780"/>
                    <a:pt x="94" y="1766"/>
                    <a:pt x="96" y="1751"/>
                  </a:cubicBezTo>
                  <a:cubicBezTo>
                    <a:pt x="113" y="1644"/>
                    <a:pt x="94" y="1747"/>
                    <a:pt x="110" y="1662"/>
                  </a:cubicBezTo>
                  <a:cubicBezTo>
                    <a:pt x="124" y="1767"/>
                    <a:pt x="122" y="1721"/>
                    <a:pt x="110" y="1883"/>
                  </a:cubicBezTo>
                  <a:cubicBezTo>
                    <a:pt x="109" y="1898"/>
                    <a:pt x="106" y="1913"/>
                    <a:pt x="103" y="1928"/>
                  </a:cubicBezTo>
                  <a:cubicBezTo>
                    <a:pt x="101" y="1940"/>
                    <a:pt x="87" y="1974"/>
                    <a:pt x="96" y="1965"/>
                  </a:cubicBezTo>
                  <a:cubicBezTo>
                    <a:pt x="109" y="1952"/>
                    <a:pt x="111" y="1930"/>
                    <a:pt x="118" y="1913"/>
                  </a:cubicBezTo>
                  <a:cubicBezTo>
                    <a:pt x="114" y="1951"/>
                    <a:pt x="102" y="2013"/>
                    <a:pt x="118" y="2053"/>
                  </a:cubicBezTo>
                  <a:cubicBezTo>
                    <a:pt x="121" y="2060"/>
                    <a:pt x="123" y="2038"/>
                    <a:pt x="125" y="2031"/>
                  </a:cubicBezTo>
                  <a:cubicBezTo>
                    <a:pt x="123" y="1979"/>
                    <a:pt x="125" y="1927"/>
                    <a:pt x="118" y="1876"/>
                  </a:cubicBezTo>
                  <a:cubicBezTo>
                    <a:pt x="116" y="1861"/>
                    <a:pt x="111" y="1905"/>
                    <a:pt x="110" y="1920"/>
                  </a:cubicBezTo>
                  <a:cubicBezTo>
                    <a:pt x="106" y="1961"/>
                    <a:pt x="103" y="2058"/>
                    <a:pt x="96" y="2105"/>
                  </a:cubicBezTo>
                  <a:cubicBezTo>
                    <a:pt x="96" y="2108"/>
                    <a:pt x="75" y="2157"/>
                    <a:pt x="81" y="2157"/>
                  </a:cubicBezTo>
                  <a:cubicBezTo>
                    <a:pt x="92" y="2157"/>
                    <a:pt x="91" y="2137"/>
                    <a:pt x="96" y="2127"/>
                  </a:cubicBezTo>
                  <a:cubicBezTo>
                    <a:pt x="102" y="2103"/>
                    <a:pt x="105" y="2025"/>
                    <a:pt x="88" y="2120"/>
                  </a:cubicBezTo>
                  <a:cubicBezTo>
                    <a:pt x="103" y="2256"/>
                    <a:pt x="89" y="2178"/>
                    <a:pt x="118" y="2135"/>
                  </a:cubicBezTo>
                  <a:cubicBezTo>
                    <a:pt x="120" y="2127"/>
                    <a:pt x="125" y="2120"/>
                    <a:pt x="125" y="2112"/>
                  </a:cubicBezTo>
                  <a:cubicBezTo>
                    <a:pt x="125" y="2104"/>
                    <a:pt x="125" y="2086"/>
                    <a:pt x="118" y="2090"/>
                  </a:cubicBezTo>
                  <a:cubicBezTo>
                    <a:pt x="110" y="2094"/>
                    <a:pt x="103" y="2160"/>
                    <a:pt x="103" y="217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28"/>
            <p:cNvSpPr/>
            <p:nvPr/>
          </p:nvSpPr>
          <p:spPr>
            <a:xfrm>
              <a:off x="5865840" y="3344760"/>
              <a:ext cx="557280" cy="1584360"/>
            </a:xfrm>
            <a:custGeom>
              <a:avLst/>
              <a:gdLst/>
              <a:ahLst/>
              <a:rect l="l" t="t" r="r" b="b"/>
              <a:pathLst>
                <a:path w="351" h="998">
                  <a:moveTo>
                    <a:pt x="49" y="998"/>
                  </a:moveTo>
                  <a:cubicBezTo>
                    <a:pt x="51" y="991"/>
                    <a:pt x="55" y="984"/>
                    <a:pt x="56" y="976"/>
                  </a:cubicBezTo>
                  <a:cubicBezTo>
                    <a:pt x="78" y="855"/>
                    <a:pt x="62" y="952"/>
                    <a:pt x="79" y="998"/>
                  </a:cubicBezTo>
                  <a:cubicBezTo>
                    <a:pt x="92" y="971"/>
                    <a:pt x="102" y="944"/>
                    <a:pt x="115" y="917"/>
                  </a:cubicBezTo>
                  <a:cubicBezTo>
                    <a:pt x="139" y="940"/>
                    <a:pt x="142" y="957"/>
                    <a:pt x="160" y="984"/>
                  </a:cubicBezTo>
                  <a:cubicBezTo>
                    <a:pt x="166" y="959"/>
                    <a:pt x="155" y="925"/>
                    <a:pt x="175" y="910"/>
                  </a:cubicBezTo>
                  <a:cubicBezTo>
                    <a:pt x="183" y="904"/>
                    <a:pt x="190" y="925"/>
                    <a:pt x="197" y="932"/>
                  </a:cubicBezTo>
                  <a:cubicBezTo>
                    <a:pt x="199" y="939"/>
                    <a:pt x="196" y="954"/>
                    <a:pt x="204" y="954"/>
                  </a:cubicBezTo>
                  <a:cubicBezTo>
                    <a:pt x="213" y="954"/>
                    <a:pt x="218" y="941"/>
                    <a:pt x="219" y="932"/>
                  </a:cubicBezTo>
                  <a:cubicBezTo>
                    <a:pt x="223" y="897"/>
                    <a:pt x="176" y="864"/>
                    <a:pt x="226" y="880"/>
                  </a:cubicBezTo>
                  <a:cubicBezTo>
                    <a:pt x="233" y="890"/>
                    <a:pt x="239" y="918"/>
                    <a:pt x="248" y="910"/>
                  </a:cubicBezTo>
                  <a:cubicBezTo>
                    <a:pt x="258" y="901"/>
                    <a:pt x="242" y="883"/>
                    <a:pt x="234" y="873"/>
                  </a:cubicBezTo>
                  <a:cubicBezTo>
                    <a:pt x="224" y="860"/>
                    <a:pt x="208" y="854"/>
                    <a:pt x="197" y="843"/>
                  </a:cubicBezTo>
                  <a:cubicBezTo>
                    <a:pt x="191" y="837"/>
                    <a:pt x="187" y="828"/>
                    <a:pt x="182" y="821"/>
                  </a:cubicBezTo>
                  <a:cubicBezTo>
                    <a:pt x="189" y="819"/>
                    <a:pt x="196" y="813"/>
                    <a:pt x="204" y="814"/>
                  </a:cubicBezTo>
                  <a:cubicBezTo>
                    <a:pt x="213" y="816"/>
                    <a:pt x="223" y="837"/>
                    <a:pt x="226" y="829"/>
                  </a:cubicBezTo>
                  <a:cubicBezTo>
                    <a:pt x="232" y="812"/>
                    <a:pt x="194" y="759"/>
                    <a:pt x="182" y="747"/>
                  </a:cubicBezTo>
                  <a:cubicBezTo>
                    <a:pt x="189" y="742"/>
                    <a:pt x="195" y="733"/>
                    <a:pt x="204" y="733"/>
                  </a:cubicBezTo>
                  <a:cubicBezTo>
                    <a:pt x="213" y="733"/>
                    <a:pt x="220" y="754"/>
                    <a:pt x="226" y="747"/>
                  </a:cubicBezTo>
                  <a:cubicBezTo>
                    <a:pt x="232" y="740"/>
                    <a:pt x="217" y="732"/>
                    <a:pt x="211" y="725"/>
                  </a:cubicBezTo>
                  <a:cubicBezTo>
                    <a:pt x="183" y="693"/>
                    <a:pt x="187" y="698"/>
                    <a:pt x="152" y="681"/>
                  </a:cubicBezTo>
                  <a:cubicBezTo>
                    <a:pt x="147" y="674"/>
                    <a:pt x="133" y="666"/>
                    <a:pt x="138" y="659"/>
                  </a:cubicBezTo>
                  <a:cubicBezTo>
                    <a:pt x="159" y="632"/>
                    <a:pt x="182" y="656"/>
                    <a:pt x="197" y="666"/>
                  </a:cubicBezTo>
                  <a:cubicBezTo>
                    <a:pt x="187" y="651"/>
                    <a:pt x="177" y="637"/>
                    <a:pt x="167" y="622"/>
                  </a:cubicBezTo>
                  <a:cubicBezTo>
                    <a:pt x="145" y="590"/>
                    <a:pt x="143" y="598"/>
                    <a:pt x="189" y="607"/>
                  </a:cubicBezTo>
                  <a:cubicBezTo>
                    <a:pt x="204" y="522"/>
                    <a:pt x="201" y="582"/>
                    <a:pt x="211" y="614"/>
                  </a:cubicBezTo>
                  <a:cubicBezTo>
                    <a:pt x="206" y="577"/>
                    <a:pt x="205" y="540"/>
                    <a:pt x="197" y="504"/>
                  </a:cubicBezTo>
                  <a:cubicBezTo>
                    <a:pt x="191" y="478"/>
                    <a:pt x="138" y="452"/>
                    <a:pt x="138" y="452"/>
                  </a:cubicBezTo>
                  <a:cubicBezTo>
                    <a:pt x="140" y="442"/>
                    <a:pt x="139" y="430"/>
                    <a:pt x="145" y="422"/>
                  </a:cubicBezTo>
                  <a:cubicBezTo>
                    <a:pt x="150" y="416"/>
                    <a:pt x="164" y="408"/>
                    <a:pt x="167" y="415"/>
                  </a:cubicBezTo>
                  <a:cubicBezTo>
                    <a:pt x="173" y="426"/>
                    <a:pt x="162" y="440"/>
                    <a:pt x="160" y="452"/>
                  </a:cubicBezTo>
                  <a:cubicBezTo>
                    <a:pt x="215" y="465"/>
                    <a:pt x="225" y="472"/>
                    <a:pt x="211" y="408"/>
                  </a:cubicBezTo>
                  <a:cubicBezTo>
                    <a:pt x="209" y="400"/>
                    <a:pt x="210" y="391"/>
                    <a:pt x="204" y="385"/>
                  </a:cubicBezTo>
                  <a:cubicBezTo>
                    <a:pt x="197" y="378"/>
                    <a:pt x="163" y="367"/>
                    <a:pt x="152" y="363"/>
                  </a:cubicBezTo>
                  <a:cubicBezTo>
                    <a:pt x="146" y="353"/>
                    <a:pt x="121" y="326"/>
                    <a:pt x="145" y="312"/>
                  </a:cubicBezTo>
                  <a:cubicBezTo>
                    <a:pt x="154" y="307"/>
                    <a:pt x="165" y="317"/>
                    <a:pt x="175" y="319"/>
                  </a:cubicBezTo>
                  <a:cubicBezTo>
                    <a:pt x="170" y="322"/>
                    <a:pt x="121" y="344"/>
                    <a:pt x="160" y="363"/>
                  </a:cubicBezTo>
                  <a:cubicBezTo>
                    <a:pt x="171" y="369"/>
                    <a:pt x="185" y="358"/>
                    <a:pt x="197" y="356"/>
                  </a:cubicBezTo>
                  <a:cubicBezTo>
                    <a:pt x="214" y="302"/>
                    <a:pt x="207" y="327"/>
                    <a:pt x="219" y="282"/>
                  </a:cubicBezTo>
                  <a:cubicBezTo>
                    <a:pt x="210" y="235"/>
                    <a:pt x="210" y="230"/>
                    <a:pt x="167" y="216"/>
                  </a:cubicBezTo>
                  <a:cubicBezTo>
                    <a:pt x="108" y="174"/>
                    <a:pt x="126" y="197"/>
                    <a:pt x="101" y="157"/>
                  </a:cubicBezTo>
                  <a:cubicBezTo>
                    <a:pt x="111" y="154"/>
                    <a:pt x="120" y="146"/>
                    <a:pt x="130" y="149"/>
                  </a:cubicBezTo>
                  <a:cubicBezTo>
                    <a:pt x="150" y="155"/>
                    <a:pt x="146" y="199"/>
                    <a:pt x="152" y="208"/>
                  </a:cubicBezTo>
                  <a:cubicBezTo>
                    <a:pt x="157" y="215"/>
                    <a:pt x="167" y="213"/>
                    <a:pt x="175" y="216"/>
                  </a:cubicBezTo>
                  <a:cubicBezTo>
                    <a:pt x="188" y="194"/>
                    <a:pt x="190" y="195"/>
                    <a:pt x="197" y="171"/>
                  </a:cubicBezTo>
                  <a:cubicBezTo>
                    <a:pt x="202" y="154"/>
                    <a:pt x="199" y="132"/>
                    <a:pt x="211" y="120"/>
                  </a:cubicBezTo>
                  <a:cubicBezTo>
                    <a:pt x="217" y="114"/>
                    <a:pt x="226" y="115"/>
                    <a:pt x="234" y="112"/>
                  </a:cubicBezTo>
                  <a:cubicBezTo>
                    <a:pt x="231" y="119"/>
                    <a:pt x="233" y="131"/>
                    <a:pt x="226" y="134"/>
                  </a:cubicBezTo>
                  <a:cubicBezTo>
                    <a:pt x="219" y="137"/>
                    <a:pt x="210" y="132"/>
                    <a:pt x="204" y="127"/>
                  </a:cubicBezTo>
                  <a:cubicBezTo>
                    <a:pt x="171" y="101"/>
                    <a:pt x="150" y="69"/>
                    <a:pt x="115" y="46"/>
                  </a:cubicBezTo>
                  <a:cubicBezTo>
                    <a:pt x="100" y="0"/>
                    <a:pt x="126" y="8"/>
                    <a:pt x="160" y="16"/>
                  </a:cubicBezTo>
                  <a:cubicBezTo>
                    <a:pt x="147" y="65"/>
                    <a:pt x="155" y="115"/>
                    <a:pt x="182" y="157"/>
                  </a:cubicBezTo>
                  <a:cubicBezTo>
                    <a:pt x="196" y="201"/>
                    <a:pt x="200" y="251"/>
                    <a:pt x="226" y="289"/>
                  </a:cubicBezTo>
                  <a:cubicBezTo>
                    <a:pt x="229" y="306"/>
                    <a:pt x="223" y="327"/>
                    <a:pt x="234" y="341"/>
                  </a:cubicBezTo>
                  <a:cubicBezTo>
                    <a:pt x="240" y="348"/>
                    <a:pt x="248" y="322"/>
                    <a:pt x="256" y="326"/>
                  </a:cubicBezTo>
                  <a:cubicBezTo>
                    <a:pt x="265" y="331"/>
                    <a:pt x="261" y="346"/>
                    <a:pt x="263" y="356"/>
                  </a:cubicBezTo>
                  <a:cubicBezTo>
                    <a:pt x="261" y="386"/>
                    <a:pt x="250" y="416"/>
                    <a:pt x="256" y="445"/>
                  </a:cubicBezTo>
                  <a:cubicBezTo>
                    <a:pt x="258" y="454"/>
                    <a:pt x="276" y="421"/>
                    <a:pt x="278" y="430"/>
                  </a:cubicBezTo>
                  <a:cubicBezTo>
                    <a:pt x="289" y="473"/>
                    <a:pt x="283" y="519"/>
                    <a:pt x="285" y="563"/>
                  </a:cubicBezTo>
                  <a:cubicBezTo>
                    <a:pt x="288" y="607"/>
                    <a:pt x="296" y="652"/>
                    <a:pt x="293" y="696"/>
                  </a:cubicBezTo>
                  <a:cubicBezTo>
                    <a:pt x="292" y="705"/>
                    <a:pt x="283" y="681"/>
                    <a:pt x="278" y="673"/>
                  </a:cubicBezTo>
                  <a:cubicBezTo>
                    <a:pt x="273" y="664"/>
                    <a:pt x="268" y="654"/>
                    <a:pt x="263" y="644"/>
                  </a:cubicBezTo>
                  <a:cubicBezTo>
                    <a:pt x="258" y="656"/>
                    <a:pt x="251" y="668"/>
                    <a:pt x="248" y="681"/>
                  </a:cubicBezTo>
                  <a:cubicBezTo>
                    <a:pt x="238" y="729"/>
                    <a:pt x="257" y="761"/>
                    <a:pt x="211" y="777"/>
                  </a:cubicBezTo>
                  <a:cubicBezTo>
                    <a:pt x="208" y="773"/>
                    <a:pt x="183" y="729"/>
                    <a:pt x="175" y="733"/>
                  </a:cubicBezTo>
                  <a:cubicBezTo>
                    <a:pt x="164" y="738"/>
                    <a:pt x="171" y="757"/>
                    <a:pt x="167" y="769"/>
                  </a:cubicBezTo>
                  <a:cubicBezTo>
                    <a:pt x="163" y="782"/>
                    <a:pt x="157" y="794"/>
                    <a:pt x="152" y="806"/>
                  </a:cubicBezTo>
                  <a:cubicBezTo>
                    <a:pt x="103" y="740"/>
                    <a:pt x="129" y="760"/>
                    <a:pt x="86" y="733"/>
                  </a:cubicBezTo>
                  <a:cubicBezTo>
                    <a:pt x="86" y="736"/>
                    <a:pt x="72" y="834"/>
                    <a:pt x="71" y="836"/>
                  </a:cubicBezTo>
                  <a:cubicBezTo>
                    <a:pt x="67" y="842"/>
                    <a:pt x="56" y="831"/>
                    <a:pt x="49" y="829"/>
                  </a:cubicBezTo>
                  <a:cubicBezTo>
                    <a:pt x="36" y="803"/>
                    <a:pt x="21" y="782"/>
                    <a:pt x="12" y="755"/>
                  </a:cubicBezTo>
                  <a:cubicBezTo>
                    <a:pt x="0" y="806"/>
                    <a:pt x="29" y="859"/>
                    <a:pt x="56" y="902"/>
                  </a:cubicBezTo>
                  <a:cubicBezTo>
                    <a:pt x="73" y="868"/>
                    <a:pt x="89" y="833"/>
                    <a:pt x="115" y="806"/>
                  </a:cubicBezTo>
                  <a:cubicBezTo>
                    <a:pt x="121" y="828"/>
                    <a:pt x="114" y="857"/>
                    <a:pt x="130" y="873"/>
                  </a:cubicBezTo>
                  <a:cubicBezTo>
                    <a:pt x="136" y="879"/>
                    <a:pt x="135" y="858"/>
                    <a:pt x="138" y="851"/>
                  </a:cubicBezTo>
                  <a:cubicBezTo>
                    <a:pt x="149" y="818"/>
                    <a:pt x="139" y="838"/>
                    <a:pt x="160" y="806"/>
                  </a:cubicBezTo>
                  <a:cubicBezTo>
                    <a:pt x="168" y="840"/>
                    <a:pt x="159" y="879"/>
                    <a:pt x="175" y="910"/>
                  </a:cubicBezTo>
                  <a:cubicBezTo>
                    <a:pt x="180" y="920"/>
                    <a:pt x="185" y="890"/>
                    <a:pt x="189" y="880"/>
                  </a:cubicBezTo>
                  <a:cubicBezTo>
                    <a:pt x="205" y="841"/>
                    <a:pt x="187" y="874"/>
                    <a:pt x="211" y="836"/>
                  </a:cubicBezTo>
                  <a:cubicBezTo>
                    <a:pt x="223" y="878"/>
                    <a:pt x="202" y="917"/>
                    <a:pt x="248" y="932"/>
                  </a:cubicBezTo>
                  <a:cubicBezTo>
                    <a:pt x="252" y="927"/>
                    <a:pt x="274" y="887"/>
                    <a:pt x="293" y="895"/>
                  </a:cubicBezTo>
                  <a:cubicBezTo>
                    <a:pt x="351" y="919"/>
                    <a:pt x="285" y="917"/>
                    <a:pt x="315" y="91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29"/>
            <p:cNvSpPr/>
            <p:nvPr/>
          </p:nvSpPr>
          <p:spPr>
            <a:xfrm>
              <a:off x="5791320" y="3218040"/>
              <a:ext cx="234720" cy="657000"/>
            </a:xfrm>
            <a:custGeom>
              <a:avLst/>
              <a:gdLst/>
              <a:ahLst/>
              <a:rect l="l" t="t" r="r" b="b"/>
              <a:pathLst>
                <a:path w="148" h="414">
                  <a:moveTo>
                    <a:pt x="0" y="8"/>
                  </a:moveTo>
                  <a:cubicBezTo>
                    <a:pt x="27" y="10"/>
                    <a:pt x="59" y="0"/>
                    <a:pt x="81" y="15"/>
                  </a:cubicBezTo>
                  <a:cubicBezTo>
                    <a:pt x="93" y="23"/>
                    <a:pt x="81" y="46"/>
                    <a:pt x="74" y="59"/>
                  </a:cubicBezTo>
                  <a:cubicBezTo>
                    <a:pt x="71" y="64"/>
                    <a:pt x="6" y="87"/>
                    <a:pt x="0" y="89"/>
                  </a:cubicBezTo>
                  <a:cubicBezTo>
                    <a:pt x="25" y="91"/>
                    <a:pt x="51" y="88"/>
                    <a:pt x="74" y="96"/>
                  </a:cubicBezTo>
                  <a:cubicBezTo>
                    <a:pt x="84" y="100"/>
                    <a:pt x="83" y="152"/>
                    <a:pt x="74" y="163"/>
                  </a:cubicBezTo>
                  <a:cubicBezTo>
                    <a:pt x="66" y="173"/>
                    <a:pt x="49" y="168"/>
                    <a:pt x="37" y="170"/>
                  </a:cubicBezTo>
                  <a:cubicBezTo>
                    <a:pt x="80" y="184"/>
                    <a:pt x="121" y="167"/>
                    <a:pt x="148" y="207"/>
                  </a:cubicBezTo>
                  <a:cubicBezTo>
                    <a:pt x="145" y="219"/>
                    <a:pt x="147" y="234"/>
                    <a:pt x="140" y="244"/>
                  </a:cubicBezTo>
                  <a:cubicBezTo>
                    <a:pt x="137" y="248"/>
                    <a:pt x="71" y="265"/>
                    <a:pt x="66" y="266"/>
                  </a:cubicBezTo>
                  <a:cubicBezTo>
                    <a:pt x="77" y="295"/>
                    <a:pt x="89" y="301"/>
                    <a:pt x="118" y="310"/>
                  </a:cubicBezTo>
                  <a:cubicBezTo>
                    <a:pt x="134" y="334"/>
                    <a:pt x="138" y="357"/>
                    <a:pt x="148" y="384"/>
                  </a:cubicBezTo>
                  <a:cubicBezTo>
                    <a:pt x="141" y="391"/>
                    <a:pt x="136" y="402"/>
                    <a:pt x="126" y="406"/>
                  </a:cubicBezTo>
                  <a:cubicBezTo>
                    <a:pt x="107" y="413"/>
                    <a:pt x="66" y="414"/>
                    <a:pt x="66" y="41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30"/>
            <p:cNvSpPr/>
            <p:nvPr/>
          </p:nvSpPr>
          <p:spPr>
            <a:xfrm>
              <a:off x="5991120" y="2222640"/>
              <a:ext cx="168480" cy="1257120"/>
            </a:xfrm>
            <a:custGeom>
              <a:avLst/>
              <a:gdLst/>
              <a:ahLst/>
              <a:rect l="l" t="t" r="r" b="b"/>
              <a:pathLst>
                <a:path w="106" h="792">
                  <a:moveTo>
                    <a:pt x="0" y="487"/>
                  </a:moveTo>
                  <a:cubicBezTo>
                    <a:pt x="14" y="578"/>
                    <a:pt x="10" y="504"/>
                    <a:pt x="22" y="472"/>
                  </a:cubicBezTo>
                  <a:cubicBezTo>
                    <a:pt x="25" y="530"/>
                    <a:pt x="17" y="792"/>
                    <a:pt x="51" y="539"/>
                  </a:cubicBezTo>
                  <a:cubicBezTo>
                    <a:pt x="62" y="591"/>
                    <a:pt x="57" y="649"/>
                    <a:pt x="88" y="694"/>
                  </a:cubicBezTo>
                  <a:cubicBezTo>
                    <a:pt x="82" y="666"/>
                    <a:pt x="73" y="607"/>
                    <a:pt x="59" y="576"/>
                  </a:cubicBezTo>
                  <a:cubicBezTo>
                    <a:pt x="53" y="563"/>
                    <a:pt x="43" y="552"/>
                    <a:pt x="36" y="539"/>
                  </a:cubicBezTo>
                  <a:cubicBezTo>
                    <a:pt x="31" y="529"/>
                    <a:pt x="26" y="519"/>
                    <a:pt x="22" y="509"/>
                  </a:cubicBezTo>
                  <a:cubicBezTo>
                    <a:pt x="19" y="502"/>
                    <a:pt x="7" y="485"/>
                    <a:pt x="14" y="487"/>
                  </a:cubicBezTo>
                  <a:cubicBezTo>
                    <a:pt x="56" y="500"/>
                    <a:pt x="83" y="588"/>
                    <a:pt x="103" y="627"/>
                  </a:cubicBezTo>
                  <a:cubicBezTo>
                    <a:pt x="80" y="485"/>
                    <a:pt x="106" y="531"/>
                    <a:pt x="66" y="472"/>
                  </a:cubicBezTo>
                  <a:cubicBezTo>
                    <a:pt x="59" y="437"/>
                    <a:pt x="51" y="404"/>
                    <a:pt x="44" y="369"/>
                  </a:cubicBezTo>
                  <a:cubicBezTo>
                    <a:pt x="40" y="347"/>
                    <a:pt x="29" y="302"/>
                    <a:pt x="29" y="302"/>
                  </a:cubicBezTo>
                  <a:cubicBezTo>
                    <a:pt x="32" y="202"/>
                    <a:pt x="44" y="100"/>
                    <a:pt x="4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2"/>
            <p:cNvSpPr/>
            <p:nvPr/>
          </p:nvSpPr>
          <p:spPr>
            <a:xfrm>
              <a:off x="5727600" y="2995560"/>
              <a:ext cx="257400" cy="1417680"/>
            </a:xfrm>
            <a:custGeom>
              <a:avLst/>
              <a:gdLst/>
              <a:ahLst/>
              <a:rect l="l" t="t" r="r" b="b"/>
              <a:pathLst>
                <a:path w="162" h="893">
                  <a:moveTo>
                    <a:pt x="158" y="893"/>
                  </a:moveTo>
                  <a:cubicBezTo>
                    <a:pt x="137" y="862"/>
                    <a:pt x="115" y="864"/>
                    <a:pt x="129" y="827"/>
                  </a:cubicBezTo>
                  <a:cubicBezTo>
                    <a:pt x="80" y="795"/>
                    <a:pt x="116" y="829"/>
                    <a:pt x="129" y="797"/>
                  </a:cubicBezTo>
                  <a:cubicBezTo>
                    <a:pt x="132" y="790"/>
                    <a:pt x="124" y="782"/>
                    <a:pt x="121" y="775"/>
                  </a:cubicBezTo>
                  <a:cubicBezTo>
                    <a:pt x="162" y="749"/>
                    <a:pt x="137" y="743"/>
                    <a:pt x="106" y="724"/>
                  </a:cubicBezTo>
                  <a:cubicBezTo>
                    <a:pt x="104" y="716"/>
                    <a:pt x="105" y="707"/>
                    <a:pt x="99" y="701"/>
                  </a:cubicBezTo>
                  <a:cubicBezTo>
                    <a:pt x="69" y="670"/>
                    <a:pt x="37" y="685"/>
                    <a:pt x="92" y="672"/>
                  </a:cubicBezTo>
                  <a:cubicBezTo>
                    <a:pt x="104" y="674"/>
                    <a:pt x="118" y="685"/>
                    <a:pt x="129" y="679"/>
                  </a:cubicBezTo>
                  <a:cubicBezTo>
                    <a:pt x="137" y="675"/>
                    <a:pt x="106" y="674"/>
                    <a:pt x="106" y="665"/>
                  </a:cubicBezTo>
                  <a:cubicBezTo>
                    <a:pt x="106" y="656"/>
                    <a:pt x="121" y="655"/>
                    <a:pt x="129" y="650"/>
                  </a:cubicBezTo>
                  <a:cubicBezTo>
                    <a:pt x="124" y="643"/>
                    <a:pt x="112" y="637"/>
                    <a:pt x="114" y="628"/>
                  </a:cubicBezTo>
                  <a:cubicBezTo>
                    <a:pt x="116" y="619"/>
                    <a:pt x="138" y="622"/>
                    <a:pt x="136" y="613"/>
                  </a:cubicBezTo>
                  <a:cubicBezTo>
                    <a:pt x="133" y="599"/>
                    <a:pt x="78" y="579"/>
                    <a:pt x="70" y="576"/>
                  </a:cubicBezTo>
                  <a:cubicBezTo>
                    <a:pt x="80" y="571"/>
                    <a:pt x="89" y="564"/>
                    <a:pt x="99" y="561"/>
                  </a:cubicBezTo>
                  <a:cubicBezTo>
                    <a:pt x="111" y="557"/>
                    <a:pt x="130" y="565"/>
                    <a:pt x="136" y="554"/>
                  </a:cubicBezTo>
                  <a:cubicBezTo>
                    <a:pt x="141" y="545"/>
                    <a:pt x="121" y="540"/>
                    <a:pt x="114" y="532"/>
                  </a:cubicBezTo>
                  <a:cubicBezTo>
                    <a:pt x="108" y="525"/>
                    <a:pt x="104" y="516"/>
                    <a:pt x="99" y="509"/>
                  </a:cubicBezTo>
                  <a:cubicBezTo>
                    <a:pt x="92" y="499"/>
                    <a:pt x="85" y="489"/>
                    <a:pt x="77" y="480"/>
                  </a:cubicBezTo>
                  <a:cubicBezTo>
                    <a:pt x="70" y="472"/>
                    <a:pt x="46" y="463"/>
                    <a:pt x="55" y="458"/>
                  </a:cubicBezTo>
                  <a:cubicBezTo>
                    <a:pt x="70" y="450"/>
                    <a:pt x="89" y="463"/>
                    <a:pt x="106" y="465"/>
                  </a:cubicBezTo>
                  <a:cubicBezTo>
                    <a:pt x="114" y="468"/>
                    <a:pt x="135" y="479"/>
                    <a:pt x="129" y="473"/>
                  </a:cubicBezTo>
                  <a:cubicBezTo>
                    <a:pt x="116" y="460"/>
                    <a:pt x="99" y="453"/>
                    <a:pt x="84" y="443"/>
                  </a:cubicBezTo>
                  <a:cubicBezTo>
                    <a:pt x="77" y="438"/>
                    <a:pt x="62" y="428"/>
                    <a:pt x="62" y="428"/>
                  </a:cubicBezTo>
                  <a:cubicBezTo>
                    <a:pt x="127" y="413"/>
                    <a:pt x="70" y="436"/>
                    <a:pt x="70" y="391"/>
                  </a:cubicBezTo>
                  <a:cubicBezTo>
                    <a:pt x="70" y="382"/>
                    <a:pt x="85" y="382"/>
                    <a:pt x="92" y="377"/>
                  </a:cubicBezTo>
                  <a:cubicBezTo>
                    <a:pt x="81" y="346"/>
                    <a:pt x="58" y="337"/>
                    <a:pt x="40" y="310"/>
                  </a:cubicBezTo>
                  <a:cubicBezTo>
                    <a:pt x="91" y="294"/>
                    <a:pt x="39" y="318"/>
                    <a:pt x="47" y="273"/>
                  </a:cubicBezTo>
                  <a:cubicBezTo>
                    <a:pt x="49" y="264"/>
                    <a:pt x="62" y="263"/>
                    <a:pt x="70" y="258"/>
                  </a:cubicBezTo>
                  <a:cubicBezTo>
                    <a:pt x="65" y="248"/>
                    <a:pt x="62" y="237"/>
                    <a:pt x="55" y="229"/>
                  </a:cubicBezTo>
                  <a:cubicBezTo>
                    <a:pt x="49" y="222"/>
                    <a:pt x="33" y="223"/>
                    <a:pt x="33" y="214"/>
                  </a:cubicBezTo>
                  <a:cubicBezTo>
                    <a:pt x="33" y="206"/>
                    <a:pt x="48" y="209"/>
                    <a:pt x="55" y="207"/>
                  </a:cubicBezTo>
                  <a:cubicBezTo>
                    <a:pt x="62" y="204"/>
                    <a:pt x="70" y="202"/>
                    <a:pt x="77" y="199"/>
                  </a:cubicBezTo>
                  <a:cubicBezTo>
                    <a:pt x="40" y="182"/>
                    <a:pt x="22" y="180"/>
                    <a:pt x="47" y="140"/>
                  </a:cubicBezTo>
                  <a:cubicBezTo>
                    <a:pt x="45" y="139"/>
                    <a:pt x="0" y="109"/>
                    <a:pt x="3" y="96"/>
                  </a:cubicBezTo>
                  <a:cubicBezTo>
                    <a:pt x="5" y="89"/>
                    <a:pt x="18" y="91"/>
                    <a:pt x="25" y="89"/>
                  </a:cubicBezTo>
                  <a:cubicBezTo>
                    <a:pt x="35" y="86"/>
                    <a:pt x="45" y="84"/>
                    <a:pt x="55" y="81"/>
                  </a:cubicBezTo>
                  <a:cubicBezTo>
                    <a:pt x="45" y="76"/>
                    <a:pt x="25" y="77"/>
                    <a:pt x="25" y="66"/>
                  </a:cubicBezTo>
                  <a:cubicBezTo>
                    <a:pt x="25" y="56"/>
                    <a:pt x="49" y="67"/>
                    <a:pt x="55" y="59"/>
                  </a:cubicBezTo>
                  <a:cubicBezTo>
                    <a:pt x="59" y="54"/>
                    <a:pt x="29" y="8"/>
                    <a:pt x="2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33"/>
            <p:cNvSpPr/>
            <p:nvPr/>
          </p:nvSpPr>
          <p:spPr>
            <a:xfrm>
              <a:off x="5510160" y="1658880"/>
              <a:ext cx="292320" cy="1208160"/>
            </a:xfrm>
            <a:custGeom>
              <a:avLst/>
              <a:gdLst/>
              <a:ahLst/>
              <a:rect l="l" t="t" r="r" b="b"/>
              <a:pathLst>
                <a:path w="184" h="761">
                  <a:moveTo>
                    <a:pt x="147" y="761"/>
                  </a:moveTo>
                  <a:cubicBezTo>
                    <a:pt x="151" y="716"/>
                    <a:pt x="171" y="671"/>
                    <a:pt x="147" y="635"/>
                  </a:cubicBezTo>
                  <a:cubicBezTo>
                    <a:pt x="133" y="591"/>
                    <a:pt x="147" y="546"/>
                    <a:pt x="155" y="502"/>
                  </a:cubicBezTo>
                  <a:cubicBezTo>
                    <a:pt x="143" y="468"/>
                    <a:pt x="132" y="452"/>
                    <a:pt x="125" y="414"/>
                  </a:cubicBezTo>
                  <a:cubicBezTo>
                    <a:pt x="135" y="399"/>
                    <a:pt x="145" y="384"/>
                    <a:pt x="155" y="369"/>
                  </a:cubicBezTo>
                  <a:cubicBezTo>
                    <a:pt x="161" y="361"/>
                    <a:pt x="156" y="348"/>
                    <a:pt x="162" y="340"/>
                  </a:cubicBezTo>
                  <a:cubicBezTo>
                    <a:pt x="167" y="334"/>
                    <a:pt x="177" y="335"/>
                    <a:pt x="184" y="332"/>
                  </a:cubicBezTo>
                  <a:cubicBezTo>
                    <a:pt x="177" y="325"/>
                    <a:pt x="168" y="318"/>
                    <a:pt x="162" y="310"/>
                  </a:cubicBezTo>
                  <a:cubicBezTo>
                    <a:pt x="151" y="296"/>
                    <a:pt x="133" y="266"/>
                    <a:pt x="133" y="266"/>
                  </a:cubicBezTo>
                  <a:cubicBezTo>
                    <a:pt x="181" y="251"/>
                    <a:pt x="141" y="237"/>
                    <a:pt x="118" y="222"/>
                  </a:cubicBezTo>
                  <a:cubicBezTo>
                    <a:pt x="80" y="164"/>
                    <a:pt x="110" y="221"/>
                    <a:pt x="125" y="207"/>
                  </a:cubicBezTo>
                  <a:cubicBezTo>
                    <a:pt x="131" y="202"/>
                    <a:pt x="120" y="192"/>
                    <a:pt x="118" y="185"/>
                  </a:cubicBezTo>
                  <a:cubicBezTo>
                    <a:pt x="129" y="152"/>
                    <a:pt x="109" y="122"/>
                    <a:pt x="81" y="103"/>
                  </a:cubicBezTo>
                  <a:cubicBezTo>
                    <a:pt x="88" y="98"/>
                    <a:pt x="106" y="97"/>
                    <a:pt x="103" y="89"/>
                  </a:cubicBezTo>
                  <a:cubicBezTo>
                    <a:pt x="94" y="65"/>
                    <a:pt x="29" y="1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34"/>
            <p:cNvSpPr/>
            <p:nvPr/>
          </p:nvSpPr>
          <p:spPr>
            <a:xfrm>
              <a:off x="3727440" y="3065400"/>
              <a:ext cx="106200" cy="1090800"/>
            </a:xfrm>
            <a:custGeom>
              <a:avLst/>
              <a:gdLst/>
              <a:ahLst/>
              <a:rect l="l" t="t" r="r" b="b"/>
              <a:pathLst>
                <a:path w="67" h="687">
                  <a:moveTo>
                    <a:pt x="30" y="569"/>
                  </a:moveTo>
                  <a:cubicBezTo>
                    <a:pt x="22" y="413"/>
                    <a:pt x="12" y="296"/>
                    <a:pt x="8" y="133"/>
                  </a:cubicBezTo>
                  <a:cubicBezTo>
                    <a:pt x="5" y="148"/>
                    <a:pt x="0" y="162"/>
                    <a:pt x="0" y="177"/>
                  </a:cubicBezTo>
                  <a:cubicBezTo>
                    <a:pt x="0" y="187"/>
                    <a:pt x="7" y="158"/>
                    <a:pt x="8" y="148"/>
                  </a:cubicBezTo>
                  <a:cubicBezTo>
                    <a:pt x="12" y="111"/>
                    <a:pt x="15" y="74"/>
                    <a:pt x="15" y="37"/>
                  </a:cubicBezTo>
                  <a:cubicBezTo>
                    <a:pt x="15" y="22"/>
                    <a:pt x="10" y="66"/>
                    <a:pt x="8" y="81"/>
                  </a:cubicBezTo>
                  <a:cubicBezTo>
                    <a:pt x="10" y="111"/>
                    <a:pt x="6" y="142"/>
                    <a:pt x="15" y="170"/>
                  </a:cubicBezTo>
                  <a:cubicBezTo>
                    <a:pt x="19" y="184"/>
                    <a:pt x="19" y="141"/>
                    <a:pt x="22" y="126"/>
                  </a:cubicBezTo>
                  <a:cubicBezTo>
                    <a:pt x="27" y="99"/>
                    <a:pt x="32" y="72"/>
                    <a:pt x="37" y="45"/>
                  </a:cubicBezTo>
                  <a:cubicBezTo>
                    <a:pt x="40" y="30"/>
                    <a:pt x="45" y="0"/>
                    <a:pt x="45" y="0"/>
                  </a:cubicBezTo>
                  <a:cubicBezTo>
                    <a:pt x="42" y="165"/>
                    <a:pt x="42" y="330"/>
                    <a:pt x="37" y="495"/>
                  </a:cubicBezTo>
                  <a:cubicBezTo>
                    <a:pt x="35" y="554"/>
                    <a:pt x="28" y="518"/>
                    <a:pt x="22" y="502"/>
                  </a:cubicBezTo>
                  <a:cubicBezTo>
                    <a:pt x="20" y="443"/>
                    <a:pt x="18" y="384"/>
                    <a:pt x="15" y="325"/>
                  </a:cubicBezTo>
                  <a:cubicBezTo>
                    <a:pt x="8" y="167"/>
                    <a:pt x="24" y="131"/>
                    <a:pt x="0" y="200"/>
                  </a:cubicBezTo>
                  <a:cubicBezTo>
                    <a:pt x="15" y="37"/>
                    <a:pt x="10" y="134"/>
                    <a:pt x="30" y="192"/>
                  </a:cubicBezTo>
                  <a:cubicBezTo>
                    <a:pt x="39" y="259"/>
                    <a:pt x="50" y="326"/>
                    <a:pt x="67" y="392"/>
                  </a:cubicBezTo>
                  <a:cubicBezTo>
                    <a:pt x="64" y="482"/>
                    <a:pt x="52" y="592"/>
                    <a:pt x="52" y="68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35"/>
            <p:cNvSpPr/>
            <p:nvPr/>
          </p:nvSpPr>
          <p:spPr>
            <a:xfrm>
              <a:off x="2484360" y="1936800"/>
              <a:ext cx="857160" cy="2543040"/>
            </a:xfrm>
            <a:custGeom>
              <a:avLst/>
              <a:gdLst/>
              <a:ahLst/>
              <a:rect l="l" t="t" r="r" b="b"/>
              <a:pathLst>
                <a:path w="540" h="1602">
                  <a:moveTo>
                    <a:pt x="473" y="1029"/>
                  </a:moveTo>
                  <a:cubicBezTo>
                    <a:pt x="492" y="939"/>
                    <a:pt x="504" y="834"/>
                    <a:pt x="451" y="756"/>
                  </a:cubicBezTo>
                  <a:cubicBezTo>
                    <a:pt x="449" y="766"/>
                    <a:pt x="447" y="794"/>
                    <a:pt x="444" y="785"/>
                  </a:cubicBezTo>
                  <a:cubicBezTo>
                    <a:pt x="426" y="730"/>
                    <a:pt x="432" y="664"/>
                    <a:pt x="414" y="608"/>
                  </a:cubicBezTo>
                  <a:cubicBezTo>
                    <a:pt x="404" y="662"/>
                    <a:pt x="418" y="710"/>
                    <a:pt x="429" y="763"/>
                  </a:cubicBezTo>
                  <a:cubicBezTo>
                    <a:pt x="441" y="689"/>
                    <a:pt x="446" y="613"/>
                    <a:pt x="421" y="541"/>
                  </a:cubicBezTo>
                  <a:cubicBezTo>
                    <a:pt x="428" y="587"/>
                    <a:pt x="442" y="628"/>
                    <a:pt x="451" y="674"/>
                  </a:cubicBezTo>
                  <a:cubicBezTo>
                    <a:pt x="449" y="645"/>
                    <a:pt x="448" y="615"/>
                    <a:pt x="444" y="586"/>
                  </a:cubicBezTo>
                  <a:cubicBezTo>
                    <a:pt x="443" y="578"/>
                    <a:pt x="436" y="556"/>
                    <a:pt x="436" y="564"/>
                  </a:cubicBezTo>
                  <a:cubicBezTo>
                    <a:pt x="436" y="596"/>
                    <a:pt x="441" y="628"/>
                    <a:pt x="444" y="660"/>
                  </a:cubicBezTo>
                  <a:cubicBezTo>
                    <a:pt x="446" y="682"/>
                    <a:pt x="451" y="748"/>
                    <a:pt x="451" y="726"/>
                  </a:cubicBezTo>
                  <a:cubicBezTo>
                    <a:pt x="451" y="645"/>
                    <a:pt x="448" y="630"/>
                    <a:pt x="429" y="571"/>
                  </a:cubicBezTo>
                  <a:cubicBezTo>
                    <a:pt x="436" y="641"/>
                    <a:pt x="457" y="712"/>
                    <a:pt x="481" y="778"/>
                  </a:cubicBezTo>
                  <a:cubicBezTo>
                    <a:pt x="472" y="673"/>
                    <a:pt x="464" y="640"/>
                    <a:pt x="421" y="549"/>
                  </a:cubicBezTo>
                  <a:cubicBezTo>
                    <a:pt x="402" y="509"/>
                    <a:pt x="380" y="426"/>
                    <a:pt x="348" y="394"/>
                  </a:cubicBezTo>
                  <a:cubicBezTo>
                    <a:pt x="343" y="389"/>
                    <a:pt x="351" y="409"/>
                    <a:pt x="355" y="416"/>
                  </a:cubicBezTo>
                  <a:cubicBezTo>
                    <a:pt x="369" y="444"/>
                    <a:pt x="377" y="467"/>
                    <a:pt x="385" y="497"/>
                  </a:cubicBezTo>
                  <a:cubicBezTo>
                    <a:pt x="408" y="378"/>
                    <a:pt x="309" y="273"/>
                    <a:pt x="259" y="172"/>
                  </a:cubicBezTo>
                  <a:cubicBezTo>
                    <a:pt x="267" y="221"/>
                    <a:pt x="266" y="268"/>
                    <a:pt x="289" y="312"/>
                  </a:cubicBezTo>
                  <a:cubicBezTo>
                    <a:pt x="268" y="231"/>
                    <a:pt x="288" y="274"/>
                    <a:pt x="244" y="216"/>
                  </a:cubicBezTo>
                  <a:cubicBezTo>
                    <a:pt x="239" y="209"/>
                    <a:pt x="226" y="186"/>
                    <a:pt x="229" y="194"/>
                  </a:cubicBezTo>
                  <a:cubicBezTo>
                    <a:pt x="237" y="214"/>
                    <a:pt x="249" y="233"/>
                    <a:pt x="259" y="253"/>
                  </a:cubicBezTo>
                  <a:cubicBezTo>
                    <a:pt x="267" y="269"/>
                    <a:pt x="289" y="298"/>
                    <a:pt x="289" y="298"/>
                  </a:cubicBezTo>
                  <a:cubicBezTo>
                    <a:pt x="286" y="281"/>
                    <a:pt x="290" y="261"/>
                    <a:pt x="281" y="246"/>
                  </a:cubicBezTo>
                  <a:cubicBezTo>
                    <a:pt x="260" y="212"/>
                    <a:pt x="223" y="190"/>
                    <a:pt x="200" y="157"/>
                  </a:cubicBezTo>
                  <a:cubicBezTo>
                    <a:pt x="193" y="147"/>
                    <a:pt x="187" y="137"/>
                    <a:pt x="178" y="128"/>
                  </a:cubicBezTo>
                  <a:cubicBezTo>
                    <a:pt x="172" y="122"/>
                    <a:pt x="147" y="113"/>
                    <a:pt x="156" y="113"/>
                  </a:cubicBezTo>
                  <a:cubicBezTo>
                    <a:pt x="165" y="113"/>
                    <a:pt x="199" y="137"/>
                    <a:pt x="207" y="143"/>
                  </a:cubicBezTo>
                  <a:cubicBezTo>
                    <a:pt x="212" y="150"/>
                    <a:pt x="231" y="165"/>
                    <a:pt x="222" y="165"/>
                  </a:cubicBezTo>
                  <a:cubicBezTo>
                    <a:pt x="210" y="165"/>
                    <a:pt x="203" y="150"/>
                    <a:pt x="193" y="143"/>
                  </a:cubicBezTo>
                  <a:cubicBezTo>
                    <a:pt x="169" y="127"/>
                    <a:pt x="144" y="113"/>
                    <a:pt x="119" y="98"/>
                  </a:cubicBezTo>
                  <a:cubicBezTo>
                    <a:pt x="118" y="98"/>
                    <a:pt x="65" y="66"/>
                    <a:pt x="74" y="61"/>
                  </a:cubicBezTo>
                  <a:cubicBezTo>
                    <a:pt x="86" y="54"/>
                    <a:pt x="99" y="70"/>
                    <a:pt x="111" y="76"/>
                  </a:cubicBezTo>
                  <a:cubicBezTo>
                    <a:pt x="119" y="80"/>
                    <a:pt x="142" y="91"/>
                    <a:pt x="133" y="91"/>
                  </a:cubicBezTo>
                  <a:cubicBezTo>
                    <a:pt x="117" y="91"/>
                    <a:pt x="66" y="55"/>
                    <a:pt x="52" y="47"/>
                  </a:cubicBezTo>
                  <a:cubicBezTo>
                    <a:pt x="47" y="44"/>
                    <a:pt x="0" y="11"/>
                    <a:pt x="1" y="10"/>
                  </a:cubicBezTo>
                  <a:cubicBezTo>
                    <a:pt x="9" y="0"/>
                    <a:pt x="25" y="20"/>
                    <a:pt x="37" y="24"/>
                  </a:cubicBezTo>
                  <a:cubicBezTo>
                    <a:pt x="62" y="33"/>
                    <a:pt x="73" y="34"/>
                    <a:pt x="97" y="54"/>
                  </a:cubicBezTo>
                  <a:cubicBezTo>
                    <a:pt x="173" y="118"/>
                    <a:pt x="119" y="97"/>
                    <a:pt x="170" y="113"/>
                  </a:cubicBezTo>
                  <a:cubicBezTo>
                    <a:pt x="143" y="93"/>
                    <a:pt x="127" y="87"/>
                    <a:pt x="97" y="76"/>
                  </a:cubicBezTo>
                  <a:cubicBezTo>
                    <a:pt x="127" y="106"/>
                    <a:pt x="178" y="172"/>
                    <a:pt x="178" y="172"/>
                  </a:cubicBezTo>
                  <a:cubicBezTo>
                    <a:pt x="194" y="256"/>
                    <a:pt x="255" y="312"/>
                    <a:pt x="303" y="379"/>
                  </a:cubicBezTo>
                  <a:cubicBezTo>
                    <a:pt x="308" y="385"/>
                    <a:pt x="331" y="423"/>
                    <a:pt x="340" y="423"/>
                  </a:cubicBezTo>
                  <a:cubicBezTo>
                    <a:pt x="349" y="423"/>
                    <a:pt x="318" y="407"/>
                    <a:pt x="325" y="401"/>
                  </a:cubicBezTo>
                  <a:cubicBezTo>
                    <a:pt x="332" y="395"/>
                    <a:pt x="340" y="411"/>
                    <a:pt x="348" y="416"/>
                  </a:cubicBezTo>
                  <a:cubicBezTo>
                    <a:pt x="366" y="472"/>
                    <a:pt x="339" y="399"/>
                    <a:pt x="377" y="460"/>
                  </a:cubicBezTo>
                  <a:cubicBezTo>
                    <a:pt x="384" y="471"/>
                    <a:pt x="385" y="486"/>
                    <a:pt x="392" y="497"/>
                  </a:cubicBezTo>
                  <a:cubicBezTo>
                    <a:pt x="408" y="522"/>
                    <a:pt x="434" y="540"/>
                    <a:pt x="451" y="564"/>
                  </a:cubicBezTo>
                  <a:cubicBezTo>
                    <a:pt x="464" y="583"/>
                    <a:pt x="488" y="623"/>
                    <a:pt x="488" y="623"/>
                  </a:cubicBezTo>
                  <a:cubicBezTo>
                    <a:pt x="490" y="633"/>
                    <a:pt x="502" y="645"/>
                    <a:pt x="495" y="652"/>
                  </a:cubicBezTo>
                  <a:cubicBezTo>
                    <a:pt x="489" y="658"/>
                    <a:pt x="486" y="637"/>
                    <a:pt x="481" y="630"/>
                  </a:cubicBezTo>
                  <a:cubicBezTo>
                    <a:pt x="423" y="548"/>
                    <a:pt x="504" y="673"/>
                    <a:pt x="421" y="541"/>
                  </a:cubicBezTo>
                  <a:cubicBezTo>
                    <a:pt x="416" y="534"/>
                    <a:pt x="407" y="519"/>
                    <a:pt x="407" y="519"/>
                  </a:cubicBezTo>
                  <a:cubicBezTo>
                    <a:pt x="417" y="625"/>
                    <a:pt x="454" y="728"/>
                    <a:pt x="488" y="829"/>
                  </a:cubicBezTo>
                  <a:cubicBezTo>
                    <a:pt x="494" y="869"/>
                    <a:pt x="505" y="894"/>
                    <a:pt x="495" y="933"/>
                  </a:cubicBezTo>
                  <a:cubicBezTo>
                    <a:pt x="493" y="923"/>
                    <a:pt x="488" y="893"/>
                    <a:pt x="488" y="903"/>
                  </a:cubicBezTo>
                  <a:cubicBezTo>
                    <a:pt x="488" y="971"/>
                    <a:pt x="506" y="1043"/>
                    <a:pt x="517" y="1110"/>
                  </a:cubicBezTo>
                  <a:cubicBezTo>
                    <a:pt x="521" y="1137"/>
                    <a:pt x="532" y="1191"/>
                    <a:pt x="532" y="1191"/>
                  </a:cubicBezTo>
                  <a:cubicBezTo>
                    <a:pt x="535" y="1159"/>
                    <a:pt x="540" y="1127"/>
                    <a:pt x="540" y="1095"/>
                  </a:cubicBezTo>
                  <a:cubicBezTo>
                    <a:pt x="540" y="1077"/>
                    <a:pt x="535" y="1130"/>
                    <a:pt x="532" y="1147"/>
                  </a:cubicBezTo>
                  <a:cubicBezTo>
                    <a:pt x="530" y="1164"/>
                    <a:pt x="527" y="1182"/>
                    <a:pt x="525" y="1199"/>
                  </a:cubicBezTo>
                  <a:cubicBezTo>
                    <a:pt x="519" y="1256"/>
                    <a:pt x="516" y="1312"/>
                    <a:pt x="503" y="1368"/>
                  </a:cubicBezTo>
                  <a:cubicBezTo>
                    <a:pt x="500" y="1400"/>
                    <a:pt x="485" y="1490"/>
                    <a:pt x="503" y="1524"/>
                  </a:cubicBezTo>
                  <a:cubicBezTo>
                    <a:pt x="510" y="1537"/>
                    <a:pt x="507" y="1494"/>
                    <a:pt x="510" y="1479"/>
                  </a:cubicBezTo>
                  <a:cubicBezTo>
                    <a:pt x="512" y="1469"/>
                    <a:pt x="515" y="1460"/>
                    <a:pt x="517" y="1450"/>
                  </a:cubicBezTo>
                  <a:cubicBezTo>
                    <a:pt x="505" y="1292"/>
                    <a:pt x="508" y="1382"/>
                    <a:pt x="488" y="1450"/>
                  </a:cubicBezTo>
                  <a:cubicBezTo>
                    <a:pt x="482" y="1497"/>
                    <a:pt x="475" y="1544"/>
                    <a:pt x="466" y="1590"/>
                  </a:cubicBezTo>
                  <a:cubicBezTo>
                    <a:pt x="464" y="1602"/>
                    <a:pt x="469" y="1565"/>
                    <a:pt x="473" y="1553"/>
                  </a:cubicBezTo>
                  <a:cubicBezTo>
                    <a:pt x="476" y="1545"/>
                    <a:pt x="483" y="1538"/>
                    <a:pt x="488" y="1531"/>
                  </a:cubicBezTo>
                  <a:cubicBezTo>
                    <a:pt x="495" y="1506"/>
                    <a:pt x="503" y="1482"/>
                    <a:pt x="510" y="1457"/>
                  </a:cubicBezTo>
                  <a:cubicBezTo>
                    <a:pt x="519" y="1428"/>
                    <a:pt x="495" y="1546"/>
                    <a:pt x="495" y="154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36"/>
            <p:cNvSpPr/>
            <p:nvPr/>
          </p:nvSpPr>
          <p:spPr>
            <a:xfrm>
              <a:off x="1851120" y="1069920"/>
              <a:ext cx="1939680" cy="723960"/>
            </a:xfrm>
            <a:custGeom>
              <a:avLst/>
              <a:gdLst/>
              <a:ahLst/>
              <a:rect l="l" t="t" r="r" b="b"/>
              <a:pathLst>
                <a:path w="1222" h="456">
                  <a:moveTo>
                    <a:pt x="163" y="415"/>
                  </a:moveTo>
                  <a:cubicBezTo>
                    <a:pt x="161" y="378"/>
                    <a:pt x="160" y="342"/>
                    <a:pt x="156" y="305"/>
                  </a:cubicBezTo>
                  <a:cubicBezTo>
                    <a:pt x="155" y="292"/>
                    <a:pt x="160" y="272"/>
                    <a:pt x="148" y="268"/>
                  </a:cubicBezTo>
                  <a:cubicBezTo>
                    <a:pt x="138" y="264"/>
                    <a:pt x="139" y="287"/>
                    <a:pt x="134" y="297"/>
                  </a:cubicBezTo>
                  <a:cubicBezTo>
                    <a:pt x="118" y="456"/>
                    <a:pt x="133" y="349"/>
                    <a:pt x="119" y="246"/>
                  </a:cubicBezTo>
                  <a:cubicBezTo>
                    <a:pt x="118" y="236"/>
                    <a:pt x="114" y="265"/>
                    <a:pt x="112" y="275"/>
                  </a:cubicBezTo>
                  <a:cubicBezTo>
                    <a:pt x="114" y="295"/>
                    <a:pt x="119" y="354"/>
                    <a:pt x="119" y="334"/>
                  </a:cubicBezTo>
                  <a:cubicBezTo>
                    <a:pt x="119" y="310"/>
                    <a:pt x="126" y="248"/>
                    <a:pt x="97" y="223"/>
                  </a:cubicBezTo>
                  <a:cubicBezTo>
                    <a:pt x="44" y="177"/>
                    <a:pt x="70" y="206"/>
                    <a:pt x="30" y="186"/>
                  </a:cubicBezTo>
                  <a:cubicBezTo>
                    <a:pt x="22" y="182"/>
                    <a:pt x="0" y="174"/>
                    <a:pt x="8" y="172"/>
                  </a:cubicBezTo>
                  <a:cubicBezTo>
                    <a:pt x="25" y="168"/>
                    <a:pt x="43" y="177"/>
                    <a:pt x="60" y="179"/>
                  </a:cubicBezTo>
                  <a:cubicBezTo>
                    <a:pt x="99" y="218"/>
                    <a:pt x="116" y="210"/>
                    <a:pt x="178" y="216"/>
                  </a:cubicBezTo>
                  <a:cubicBezTo>
                    <a:pt x="265" y="206"/>
                    <a:pt x="350" y="178"/>
                    <a:pt x="436" y="157"/>
                  </a:cubicBezTo>
                  <a:cubicBezTo>
                    <a:pt x="410" y="170"/>
                    <a:pt x="380" y="190"/>
                    <a:pt x="348" y="179"/>
                  </a:cubicBezTo>
                  <a:cubicBezTo>
                    <a:pt x="335" y="174"/>
                    <a:pt x="373" y="169"/>
                    <a:pt x="385" y="164"/>
                  </a:cubicBezTo>
                  <a:cubicBezTo>
                    <a:pt x="392" y="161"/>
                    <a:pt x="400" y="160"/>
                    <a:pt x="407" y="157"/>
                  </a:cubicBezTo>
                  <a:cubicBezTo>
                    <a:pt x="419" y="152"/>
                    <a:pt x="432" y="147"/>
                    <a:pt x="444" y="142"/>
                  </a:cubicBezTo>
                  <a:cubicBezTo>
                    <a:pt x="398" y="131"/>
                    <a:pt x="366" y="168"/>
                    <a:pt x="318" y="172"/>
                  </a:cubicBezTo>
                  <a:cubicBezTo>
                    <a:pt x="274" y="176"/>
                    <a:pt x="229" y="177"/>
                    <a:pt x="185" y="179"/>
                  </a:cubicBezTo>
                  <a:cubicBezTo>
                    <a:pt x="224" y="172"/>
                    <a:pt x="257" y="157"/>
                    <a:pt x="296" y="150"/>
                  </a:cubicBezTo>
                  <a:cubicBezTo>
                    <a:pt x="306" y="145"/>
                    <a:pt x="335" y="129"/>
                    <a:pt x="326" y="135"/>
                  </a:cubicBezTo>
                  <a:cubicBezTo>
                    <a:pt x="319" y="140"/>
                    <a:pt x="312" y="146"/>
                    <a:pt x="304" y="150"/>
                  </a:cubicBezTo>
                  <a:cubicBezTo>
                    <a:pt x="297" y="154"/>
                    <a:pt x="289" y="155"/>
                    <a:pt x="281" y="157"/>
                  </a:cubicBezTo>
                  <a:cubicBezTo>
                    <a:pt x="262" y="170"/>
                    <a:pt x="235" y="179"/>
                    <a:pt x="289" y="186"/>
                  </a:cubicBezTo>
                  <a:cubicBezTo>
                    <a:pt x="318" y="190"/>
                    <a:pt x="343" y="163"/>
                    <a:pt x="370" y="150"/>
                  </a:cubicBezTo>
                  <a:cubicBezTo>
                    <a:pt x="379" y="145"/>
                    <a:pt x="410" y="142"/>
                    <a:pt x="400" y="142"/>
                  </a:cubicBezTo>
                  <a:cubicBezTo>
                    <a:pt x="378" y="142"/>
                    <a:pt x="355" y="147"/>
                    <a:pt x="333" y="150"/>
                  </a:cubicBezTo>
                  <a:cubicBezTo>
                    <a:pt x="316" y="152"/>
                    <a:pt x="298" y="155"/>
                    <a:pt x="281" y="157"/>
                  </a:cubicBezTo>
                  <a:cubicBezTo>
                    <a:pt x="217" y="177"/>
                    <a:pt x="148" y="182"/>
                    <a:pt x="82" y="194"/>
                  </a:cubicBezTo>
                  <a:cubicBezTo>
                    <a:pt x="142" y="224"/>
                    <a:pt x="156" y="195"/>
                    <a:pt x="208" y="179"/>
                  </a:cubicBezTo>
                  <a:cubicBezTo>
                    <a:pt x="255" y="132"/>
                    <a:pt x="309" y="117"/>
                    <a:pt x="370" y="98"/>
                  </a:cubicBezTo>
                  <a:cubicBezTo>
                    <a:pt x="280" y="230"/>
                    <a:pt x="645" y="119"/>
                    <a:pt x="761" y="135"/>
                  </a:cubicBezTo>
                  <a:cubicBezTo>
                    <a:pt x="755" y="133"/>
                    <a:pt x="723" y="121"/>
                    <a:pt x="717" y="120"/>
                  </a:cubicBezTo>
                  <a:cubicBezTo>
                    <a:pt x="692" y="116"/>
                    <a:pt x="618" y="113"/>
                    <a:pt x="643" y="113"/>
                  </a:cubicBezTo>
                  <a:cubicBezTo>
                    <a:pt x="714" y="113"/>
                    <a:pt x="786" y="118"/>
                    <a:pt x="857" y="120"/>
                  </a:cubicBezTo>
                  <a:cubicBezTo>
                    <a:pt x="935" y="144"/>
                    <a:pt x="777" y="102"/>
                    <a:pt x="761" y="98"/>
                  </a:cubicBezTo>
                  <a:cubicBezTo>
                    <a:pt x="865" y="95"/>
                    <a:pt x="968" y="95"/>
                    <a:pt x="1072" y="90"/>
                  </a:cubicBezTo>
                  <a:cubicBezTo>
                    <a:pt x="1080" y="90"/>
                    <a:pt x="1097" y="90"/>
                    <a:pt x="1094" y="83"/>
                  </a:cubicBezTo>
                  <a:cubicBezTo>
                    <a:pt x="1090" y="72"/>
                    <a:pt x="1074" y="73"/>
                    <a:pt x="1064" y="68"/>
                  </a:cubicBezTo>
                  <a:cubicBezTo>
                    <a:pt x="1044" y="71"/>
                    <a:pt x="1025" y="75"/>
                    <a:pt x="1005" y="76"/>
                  </a:cubicBezTo>
                  <a:cubicBezTo>
                    <a:pt x="956" y="80"/>
                    <a:pt x="903" y="100"/>
                    <a:pt x="857" y="83"/>
                  </a:cubicBezTo>
                  <a:cubicBezTo>
                    <a:pt x="817" y="69"/>
                    <a:pt x="941" y="74"/>
                    <a:pt x="983" y="68"/>
                  </a:cubicBezTo>
                  <a:cubicBezTo>
                    <a:pt x="1039" y="60"/>
                    <a:pt x="1090" y="43"/>
                    <a:pt x="1145" y="31"/>
                  </a:cubicBezTo>
                  <a:cubicBezTo>
                    <a:pt x="1153" y="26"/>
                    <a:pt x="1177" y="16"/>
                    <a:pt x="1168" y="17"/>
                  </a:cubicBezTo>
                  <a:cubicBezTo>
                    <a:pt x="1098" y="28"/>
                    <a:pt x="1010" y="65"/>
                    <a:pt x="939" y="83"/>
                  </a:cubicBezTo>
                  <a:cubicBezTo>
                    <a:pt x="912" y="90"/>
                    <a:pt x="884" y="97"/>
                    <a:pt x="857" y="105"/>
                  </a:cubicBezTo>
                  <a:cubicBezTo>
                    <a:pt x="850" y="107"/>
                    <a:pt x="827" y="114"/>
                    <a:pt x="835" y="113"/>
                  </a:cubicBezTo>
                  <a:cubicBezTo>
                    <a:pt x="924" y="102"/>
                    <a:pt x="1012" y="82"/>
                    <a:pt x="1101" y="68"/>
                  </a:cubicBezTo>
                  <a:cubicBezTo>
                    <a:pt x="1133" y="58"/>
                    <a:pt x="1165" y="49"/>
                    <a:pt x="1197" y="39"/>
                  </a:cubicBezTo>
                  <a:cubicBezTo>
                    <a:pt x="1204" y="34"/>
                    <a:pt x="1222" y="32"/>
                    <a:pt x="1219" y="24"/>
                  </a:cubicBezTo>
                  <a:cubicBezTo>
                    <a:pt x="1211" y="0"/>
                    <a:pt x="1164" y="29"/>
                    <a:pt x="1160" y="31"/>
                  </a:cubicBezTo>
                  <a:cubicBezTo>
                    <a:pt x="1100" y="61"/>
                    <a:pt x="1051" y="69"/>
                    <a:pt x="983" y="76"/>
                  </a:cubicBezTo>
                  <a:cubicBezTo>
                    <a:pt x="963" y="81"/>
                    <a:pt x="944" y="93"/>
                    <a:pt x="924" y="90"/>
                  </a:cubicBezTo>
                  <a:cubicBezTo>
                    <a:pt x="916" y="89"/>
                    <a:pt x="924" y="70"/>
                    <a:pt x="931" y="68"/>
                  </a:cubicBezTo>
                  <a:cubicBezTo>
                    <a:pt x="978" y="52"/>
                    <a:pt x="1030" y="59"/>
                    <a:pt x="1079" y="54"/>
                  </a:cubicBezTo>
                  <a:cubicBezTo>
                    <a:pt x="1194" y="22"/>
                    <a:pt x="933" y="61"/>
                    <a:pt x="924" y="61"/>
                  </a:cubicBezTo>
                  <a:cubicBezTo>
                    <a:pt x="801" y="65"/>
                    <a:pt x="678" y="66"/>
                    <a:pt x="555" y="68"/>
                  </a:cubicBezTo>
                  <a:cubicBezTo>
                    <a:pt x="488" y="80"/>
                    <a:pt x="423" y="94"/>
                    <a:pt x="355" y="105"/>
                  </a:cubicBezTo>
                  <a:cubicBezTo>
                    <a:pt x="320" y="131"/>
                    <a:pt x="286" y="139"/>
                    <a:pt x="244" y="150"/>
                  </a:cubicBezTo>
                  <a:cubicBezTo>
                    <a:pt x="219" y="169"/>
                    <a:pt x="201" y="191"/>
                    <a:pt x="171" y="201"/>
                  </a:cubicBezTo>
                  <a:cubicBezTo>
                    <a:pt x="159" y="209"/>
                    <a:pt x="97" y="240"/>
                    <a:pt x="97" y="253"/>
                  </a:cubicBezTo>
                  <a:cubicBezTo>
                    <a:pt x="97" y="261"/>
                    <a:pt x="112" y="248"/>
                    <a:pt x="119" y="246"/>
                  </a:cubicBezTo>
                  <a:cubicBezTo>
                    <a:pt x="138" y="217"/>
                    <a:pt x="128" y="229"/>
                    <a:pt x="148" y="20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37"/>
            <p:cNvSpPr/>
            <p:nvPr/>
          </p:nvSpPr>
          <p:spPr>
            <a:xfrm>
              <a:off x="3914640" y="785880"/>
              <a:ext cx="811440" cy="228600"/>
            </a:xfrm>
            <a:custGeom>
              <a:avLst/>
              <a:gdLst/>
              <a:ahLst/>
              <a:rect l="l" t="t" r="r" b="b"/>
              <a:pathLst>
                <a:path w="511" h="144">
                  <a:moveTo>
                    <a:pt x="0" y="144"/>
                  </a:moveTo>
                  <a:cubicBezTo>
                    <a:pt x="47" y="135"/>
                    <a:pt x="80" y="109"/>
                    <a:pt x="126" y="100"/>
                  </a:cubicBezTo>
                  <a:cubicBezTo>
                    <a:pt x="116" y="105"/>
                    <a:pt x="106" y="110"/>
                    <a:pt x="96" y="114"/>
                  </a:cubicBezTo>
                  <a:cubicBezTo>
                    <a:pt x="87" y="118"/>
                    <a:pt x="57" y="123"/>
                    <a:pt x="67" y="122"/>
                  </a:cubicBezTo>
                  <a:cubicBezTo>
                    <a:pt x="131" y="113"/>
                    <a:pt x="129" y="113"/>
                    <a:pt x="170" y="100"/>
                  </a:cubicBezTo>
                  <a:cubicBezTo>
                    <a:pt x="177" y="95"/>
                    <a:pt x="192" y="94"/>
                    <a:pt x="192" y="85"/>
                  </a:cubicBezTo>
                  <a:cubicBezTo>
                    <a:pt x="192" y="77"/>
                    <a:pt x="177" y="90"/>
                    <a:pt x="170" y="92"/>
                  </a:cubicBezTo>
                  <a:cubicBezTo>
                    <a:pt x="163" y="95"/>
                    <a:pt x="155" y="97"/>
                    <a:pt x="148" y="100"/>
                  </a:cubicBezTo>
                  <a:cubicBezTo>
                    <a:pt x="141" y="102"/>
                    <a:pt x="118" y="107"/>
                    <a:pt x="126" y="107"/>
                  </a:cubicBezTo>
                  <a:cubicBezTo>
                    <a:pt x="141" y="107"/>
                    <a:pt x="155" y="102"/>
                    <a:pt x="170" y="100"/>
                  </a:cubicBezTo>
                  <a:cubicBezTo>
                    <a:pt x="198" y="58"/>
                    <a:pt x="185" y="83"/>
                    <a:pt x="163" y="92"/>
                  </a:cubicBezTo>
                  <a:cubicBezTo>
                    <a:pt x="151" y="97"/>
                    <a:pt x="138" y="97"/>
                    <a:pt x="126" y="100"/>
                  </a:cubicBezTo>
                  <a:cubicBezTo>
                    <a:pt x="186" y="111"/>
                    <a:pt x="263" y="84"/>
                    <a:pt x="325" y="77"/>
                  </a:cubicBezTo>
                  <a:cubicBezTo>
                    <a:pt x="308" y="82"/>
                    <a:pt x="290" y="100"/>
                    <a:pt x="274" y="92"/>
                  </a:cubicBezTo>
                  <a:cubicBezTo>
                    <a:pt x="263" y="87"/>
                    <a:pt x="287" y="72"/>
                    <a:pt x="296" y="63"/>
                  </a:cubicBezTo>
                  <a:cubicBezTo>
                    <a:pt x="302" y="57"/>
                    <a:pt x="318" y="39"/>
                    <a:pt x="318" y="48"/>
                  </a:cubicBezTo>
                  <a:cubicBezTo>
                    <a:pt x="318" y="79"/>
                    <a:pt x="249" y="70"/>
                    <a:pt x="333" y="70"/>
                  </a:cubicBezTo>
                  <a:cubicBezTo>
                    <a:pt x="511" y="59"/>
                    <a:pt x="510" y="0"/>
                    <a:pt x="510" y="6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39"/>
            <p:cNvSpPr/>
            <p:nvPr/>
          </p:nvSpPr>
          <p:spPr>
            <a:xfrm>
              <a:off x="4221000" y="650880"/>
              <a:ext cx="984240" cy="257040"/>
            </a:xfrm>
            <a:custGeom>
              <a:avLst/>
              <a:gdLst/>
              <a:ahLst/>
              <a:rect l="l" t="t" r="r" b="b"/>
              <a:pathLst>
                <a:path w="620" h="162">
                  <a:moveTo>
                    <a:pt x="140" y="44"/>
                  </a:moveTo>
                  <a:cubicBezTo>
                    <a:pt x="142" y="69"/>
                    <a:pt x="139" y="94"/>
                    <a:pt x="147" y="118"/>
                  </a:cubicBezTo>
                  <a:cubicBezTo>
                    <a:pt x="150" y="126"/>
                    <a:pt x="160" y="135"/>
                    <a:pt x="169" y="133"/>
                  </a:cubicBezTo>
                  <a:cubicBezTo>
                    <a:pt x="170" y="133"/>
                    <a:pt x="184" y="90"/>
                    <a:pt x="184" y="89"/>
                  </a:cubicBezTo>
                  <a:cubicBezTo>
                    <a:pt x="186" y="104"/>
                    <a:pt x="178" y="125"/>
                    <a:pt x="191" y="133"/>
                  </a:cubicBezTo>
                  <a:cubicBezTo>
                    <a:pt x="200" y="139"/>
                    <a:pt x="195" y="106"/>
                    <a:pt x="206" y="103"/>
                  </a:cubicBezTo>
                  <a:cubicBezTo>
                    <a:pt x="215" y="101"/>
                    <a:pt x="216" y="118"/>
                    <a:pt x="221" y="126"/>
                  </a:cubicBezTo>
                  <a:cubicBezTo>
                    <a:pt x="226" y="118"/>
                    <a:pt x="233" y="112"/>
                    <a:pt x="236" y="103"/>
                  </a:cubicBezTo>
                  <a:cubicBezTo>
                    <a:pt x="241" y="89"/>
                    <a:pt x="232" y="70"/>
                    <a:pt x="243" y="59"/>
                  </a:cubicBezTo>
                  <a:cubicBezTo>
                    <a:pt x="249" y="53"/>
                    <a:pt x="252" y="74"/>
                    <a:pt x="258" y="81"/>
                  </a:cubicBezTo>
                  <a:cubicBezTo>
                    <a:pt x="280" y="107"/>
                    <a:pt x="280" y="103"/>
                    <a:pt x="310" y="118"/>
                  </a:cubicBezTo>
                  <a:cubicBezTo>
                    <a:pt x="322" y="82"/>
                    <a:pt x="310" y="96"/>
                    <a:pt x="332" y="118"/>
                  </a:cubicBezTo>
                  <a:cubicBezTo>
                    <a:pt x="338" y="124"/>
                    <a:pt x="347" y="128"/>
                    <a:pt x="354" y="133"/>
                  </a:cubicBezTo>
                  <a:cubicBezTo>
                    <a:pt x="370" y="83"/>
                    <a:pt x="399" y="134"/>
                    <a:pt x="420" y="155"/>
                  </a:cubicBezTo>
                  <a:cubicBezTo>
                    <a:pt x="428" y="153"/>
                    <a:pt x="440" y="155"/>
                    <a:pt x="443" y="148"/>
                  </a:cubicBezTo>
                  <a:cubicBezTo>
                    <a:pt x="447" y="138"/>
                    <a:pt x="425" y="116"/>
                    <a:pt x="435" y="118"/>
                  </a:cubicBezTo>
                  <a:cubicBezTo>
                    <a:pt x="452" y="122"/>
                    <a:pt x="458" y="145"/>
                    <a:pt x="472" y="155"/>
                  </a:cubicBezTo>
                  <a:cubicBezTo>
                    <a:pt x="478" y="160"/>
                    <a:pt x="487" y="160"/>
                    <a:pt x="494" y="162"/>
                  </a:cubicBezTo>
                  <a:cubicBezTo>
                    <a:pt x="478" y="113"/>
                    <a:pt x="511" y="150"/>
                    <a:pt x="531" y="162"/>
                  </a:cubicBezTo>
                  <a:cubicBezTo>
                    <a:pt x="548" y="116"/>
                    <a:pt x="525" y="155"/>
                    <a:pt x="590" y="155"/>
                  </a:cubicBezTo>
                  <a:cubicBezTo>
                    <a:pt x="601" y="155"/>
                    <a:pt x="610" y="145"/>
                    <a:pt x="620" y="140"/>
                  </a:cubicBezTo>
                  <a:cubicBezTo>
                    <a:pt x="610" y="133"/>
                    <a:pt x="596" y="129"/>
                    <a:pt x="590" y="118"/>
                  </a:cubicBezTo>
                  <a:cubicBezTo>
                    <a:pt x="586" y="111"/>
                    <a:pt x="618" y="132"/>
                    <a:pt x="612" y="126"/>
                  </a:cubicBezTo>
                  <a:cubicBezTo>
                    <a:pt x="580" y="94"/>
                    <a:pt x="550" y="82"/>
                    <a:pt x="509" y="74"/>
                  </a:cubicBezTo>
                  <a:cubicBezTo>
                    <a:pt x="457" y="38"/>
                    <a:pt x="520" y="76"/>
                    <a:pt x="406" y="52"/>
                  </a:cubicBezTo>
                  <a:cubicBezTo>
                    <a:pt x="397" y="50"/>
                    <a:pt x="391" y="41"/>
                    <a:pt x="383" y="37"/>
                  </a:cubicBezTo>
                  <a:cubicBezTo>
                    <a:pt x="347" y="19"/>
                    <a:pt x="297" y="9"/>
                    <a:pt x="258" y="0"/>
                  </a:cubicBezTo>
                  <a:cubicBezTo>
                    <a:pt x="253" y="7"/>
                    <a:pt x="244" y="13"/>
                    <a:pt x="243" y="22"/>
                  </a:cubicBezTo>
                  <a:cubicBezTo>
                    <a:pt x="242" y="30"/>
                    <a:pt x="258" y="40"/>
                    <a:pt x="251" y="44"/>
                  </a:cubicBezTo>
                  <a:cubicBezTo>
                    <a:pt x="245" y="47"/>
                    <a:pt x="201" y="33"/>
                    <a:pt x="191" y="30"/>
                  </a:cubicBezTo>
                  <a:cubicBezTo>
                    <a:pt x="179" y="67"/>
                    <a:pt x="156" y="60"/>
                    <a:pt x="118" y="66"/>
                  </a:cubicBezTo>
                  <a:cubicBezTo>
                    <a:pt x="120" y="74"/>
                    <a:pt x="132" y="86"/>
                    <a:pt x="125" y="89"/>
                  </a:cubicBezTo>
                  <a:cubicBezTo>
                    <a:pt x="111" y="95"/>
                    <a:pt x="95" y="85"/>
                    <a:pt x="81" y="81"/>
                  </a:cubicBezTo>
                  <a:cubicBezTo>
                    <a:pt x="66" y="77"/>
                    <a:pt x="36" y="66"/>
                    <a:pt x="36" y="66"/>
                  </a:cubicBezTo>
                  <a:cubicBezTo>
                    <a:pt x="26" y="69"/>
                    <a:pt x="11" y="65"/>
                    <a:pt x="7" y="74"/>
                  </a:cubicBezTo>
                  <a:cubicBezTo>
                    <a:pt x="0" y="90"/>
                    <a:pt x="49" y="110"/>
                    <a:pt x="51" y="111"/>
                  </a:cubicBezTo>
                  <a:cubicBezTo>
                    <a:pt x="80" y="121"/>
                    <a:pt x="101" y="118"/>
                    <a:pt x="132" y="118"/>
                  </a:cubicBezTo>
                  <a:lnTo>
                    <a:pt x="17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40"/>
            <p:cNvSpPr/>
            <p:nvPr/>
          </p:nvSpPr>
          <p:spPr>
            <a:xfrm>
              <a:off x="4924440" y="808200"/>
              <a:ext cx="631800" cy="147600"/>
            </a:xfrm>
            <a:custGeom>
              <a:avLst/>
              <a:gdLst/>
              <a:ahLst/>
              <a:rect l="l" t="t" r="r" b="b"/>
              <a:pathLst>
                <a:path w="398" h="93">
                  <a:moveTo>
                    <a:pt x="0" y="34"/>
                  </a:moveTo>
                  <a:cubicBezTo>
                    <a:pt x="12" y="36"/>
                    <a:pt x="24" y="42"/>
                    <a:pt x="36" y="41"/>
                  </a:cubicBezTo>
                  <a:cubicBezTo>
                    <a:pt x="94" y="34"/>
                    <a:pt x="20" y="8"/>
                    <a:pt x="88" y="41"/>
                  </a:cubicBezTo>
                  <a:cubicBezTo>
                    <a:pt x="95" y="48"/>
                    <a:pt x="102" y="56"/>
                    <a:pt x="110" y="63"/>
                  </a:cubicBezTo>
                  <a:cubicBezTo>
                    <a:pt x="117" y="69"/>
                    <a:pt x="125" y="84"/>
                    <a:pt x="132" y="78"/>
                  </a:cubicBezTo>
                  <a:cubicBezTo>
                    <a:pt x="139" y="72"/>
                    <a:pt x="110" y="59"/>
                    <a:pt x="118" y="56"/>
                  </a:cubicBezTo>
                  <a:cubicBezTo>
                    <a:pt x="134" y="51"/>
                    <a:pt x="174" y="85"/>
                    <a:pt x="184" y="93"/>
                  </a:cubicBezTo>
                  <a:cubicBezTo>
                    <a:pt x="191" y="88"/>
                    <a:pt x="198" y="81"/>
                    <a:pt x="206" y="78"/>
                  </a:cubicBezTo>
                  <a:cubicBezTo>
                    <a:pt x="218" y="74"/>
                    <a:pt x="237" y="82"/>
                    <a:pt x="243" y="71"/>
                  </a:cubicBezTo>
                  <a:cubicBezTo>
                    <a:pt x="258" y="45"/>
                    <a:pt x="193" y="29"/>
                    <a:pt x="251" y="49"/>
                  </a:cubicBezTo>
                  <a:cubicBezTo>
                    <a:pt x="233" y="0"/>
                    <a:pt x="268" y="32"/>
                    <a:pt x="295" y="41"/>
                  </a:cubicBezTo>
                  <a:cubicBezTo>
                    <a:pt x="349" y="78"/>
                    <a:pt x="288" y="47"/>
                    <a:pt x="332" y="34"/>
                  </a:cubicBezTo>
                  <a:cubicBezTo>
                    <a:pt x="344" y="31"/>
                    <a:pt x="357" y="39"/>
                    <a:pt x="369" y="41"/>
                  </a:cubicBezTo>
                  <a:cubicBezTo>
                    <a:pt x="387" y="15"/>
                    <a:pt x="375" y="19"/>
                    <a:pt x="398" y="1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41"/>
            <p:cNvSpPr/>
            <p:nvPr/>
          </p:nvSpPr>
          <p:spPr>
            <a:xfrm>
              <a:off x="-152280" y="4824360"/>
              <a:ext cx="4806720" cy="1069920"/>
            </a:xfrm>
            <a:custGeom>
              <a:avLst/>
              <a:gdLst/>
              <a:ahLst/>
              <a:rect l="l" t="t" r="r" b="b"/>
              <a:pathLst>
                <a:path w="3028" h="674">
                  <a:moveTo>
                    <a:pt x="2562" y="0"/>
                  </a:moveTo>
                  <a:cubicBezTo>
                    <a:pt x="2564" y="0"/>
                    <a:pt x="2615" y="8"/>
                    <a:pt x="2622" y="15"/>
                  </a:cubicBezTo>
                  <a:cubicBezTo>
                    <a:pt x="2630" y="23"/>
                    <a:pt x="2627" y="38"/>
                    <a:pt x="2636" y="44"/>
                  </a:cubicBezTo>
                  <a:cubicBezTo>
                    <a:pt x="2653" y="56"/>
                    <a:pt x="2676" y="58"/>
                    <a:pt x="2695" y="66"/>
                  </a:cubicBezTo>
                  <a:cubicBezTo>
                    <a:pt x="2715" y="75"/>
                    <a:pt x="2738" y="81"/>
                    <a:pt x="2754" y="96"/>
                  </a:cubicBezTo>
                  <a:cubicBezTo>
                    <a:pt x="2762" y="103"/>
                    <a:pt x="2781" y="108"/>
                    <a:pt x="2777" y="118"/>
                  </a:cubicBezTo>
                  <a:cubicBezTo>
                    <a:pt x="2768" y="136"/>
                    <a:pt x="2718" y="83"/>
                    <a:pt x="2718" y="103"/>
                  </a:cubicBezTo>
                  <a:cubicBezTo>
                    <a:pt x="2718" y="114"/>
                    <a:pt x="2737" y="113"/>
                    <a:pt x="2747" y="118"/>
                  </a:cubicBezTo>
                  <a:cubicBezTo>
                    <a:pt x="2783" y="134"/>
                    <a:pt x="2779" y="132"/>
                    <a:pt x="2814" y="140"/>
                  </a:cubicBezTo>
                  <a:cubicBezTo>
                    <a:pt x="2806" y="145"/>
                    <a:pt x="2784" y="149"/>
                    <a:pt x="2791" y="155"/>
                  </a:cubicBezTo>
                  <a:cubicBezTo>
                    <a:pt x="2809" y="170"/>
                    <a:pt x="2858" y="177"/>
                    <a:pt x="2858" y="177"/>
                  </a:cubicBezTo>
                  <a:cubicBezTo>
                    <a:pt x="2865" y="182"/>
                    <a:pt x="2872" y="188"/>
                    <a:pt x="2880" y="192"/>
                  </a:cubicBezTo>
                  <a:cubicBezTo>
                    <a:pt x="2892" y="198"/>
                    <a:pt x="2926" y="198"/>
                    <a:pt x="2917" y="207"/>
                  </a:cubicBezTo>
                  <a:cubicBezTo>
                    <a:pt x="2906" y="218"/>
                    <a:pt x="2888" y="202"/>
                    <a:pt x="2873" y="199"/>
                  </a:cubicBezTo>
                  <a:cubicBezTo>
                    <a:pt x="2865" y="197"/>
                    <a:pt x="2843" y="187"/>
                    <a:pt x="2850" y="192"/>
                  </a:cubicBezTo>
                  <a:cubicBezTo>
                    <a:pt x="2877" y="210"/>
                    <a:pt x="2916" y="229"/>
                    <a:pt x="2946" y="244"/>
                  </a:cubicBezTo>
                  <a:cubicBezTo>
                    <a:pt x="2970" y="279"/>
                    <a:pt x="2969" y="267"/>
                    <a:pt x="2917" y="258"/>
                  </a:cubicBezTo>
                  <a:cubicBezTo>
                    <a:pt x="2902" y="256"/>
                    <a:pt x="2888" y="253"/>
                    <a:pt x="2873" y="251"/>
                  </a:cubicBezTo>
                  <a:cubicBezTo>
                    <a:pt x="2925" y="272"/>
                    <a:pt x="2978" y="285"/>
                    <a:pt x="3028" y="310"/>
                  </a:cubicBezTo>
                  <a:cubicBezTo>
                    <a:pt x="2995" y="333"/>
                    <a:pt x="2976" y="316"/>
                    <a:pt x="2932" y="310"/>
                  </a:cubicBezTo>
                  <a:cubicBezTo>
                    <a:pt x="2937" y="317"/>
                    <a:pt x="2939" y="326"/>
                    <a:pt x="2946" y="332"/>
                  </a:cubicBezTo>
                  <a:cubicBezTo>
                    <a:pt x="2957" y="341"/>
                    <a:pt x="2980" y="340"/>
                    <a:pt x="2983" y="354"/>
                  </a:cubicBezTo>
                  <a:cubicBezTo>
                    <a:pt x="2985" y="365"/>
                    <a:pt x="2965" y="366"/>
                    <a:pt x="2954" y="369"/>
                  </a:cubicBezTo>
                  <a:cubicBezTo>
                    <a:pt x="2932" y="374"/>
                    <a:pt x="2909" y="374"/>
                    <a:pt x="2887" y="377"/>
                  </a:cubicBezTo>
                  <a:cubicBezTo>
                    <a:pt x="2902" y="384"/>
                    <a:pt x="2916" y="393"/>
                    <a:pt x="2932" y="399"/>
                  </a:cubicBezTo>
                  <a:cubicBezTo>
                    <a:pt x="2941" y="403"/>
                    <a:pt x="2961" y="396"/>
                    <a:pt x="2961" y="406"/>
                  </a:cubicBezTo>
                  <a:cubicBezTo>
                    <a:pt x="2961" y="417"/>
                    <a:pt x="2943" y="420"/>
                    <a:pt x="2932" y="421"/>
                  </a:cubicBezTo>
                  <a:cubicBezTo>
                    <a:pt x="2885" y="427"/>
                    <a:pt x="2838" y="426"/>
                    <a:pt x="2791" y="428"/>
                  </a:cubicBezTo>
                  <a:cubicBezTo>
                    <a:pt x="2801" y="433"/>
                    <a:pt x="2811" y="439"/>
                    <a:pt x="2821" y="443"/>
                  </a:cubicBezTo>
                  <a:cubicBezTo>
                    <a:pt x="2828" y="446"/>
                    <a:pt x="2838" y="444"/>
                    <a:pt x="2843" y="450"/>
                  </a:cubicBezTo>
                  <a:cubicBezTo>
                    <a:pt x="2856" y="463"/>
                    <a:pt x="2853" y="485"/>
                    <a:pt x="2858" y="502"/>
                  </a:cubicBezTo>
                  <a:cubicBezTo>
                    <a:pt x="2819" y="511"/>
                    <a:pt x="2795" y="501"/>
                    <a:pt x="2754" y="495"/>
                  </a:cubicBezTo>
                  <a:cubicBezTo>
                    <a:pt x="2744" y="500"/>
                    <a:pt x="2728" y="499"/>
                    <a:pt x="2725" y="509"/>
                  </a:cubicBezTo>
                  <a:cubicBezTo>
                    <a:pt x="2723" y="516"/>
                    <a:pt x="2741" y="512"/>
                    <a:pt x="2747" y="517"/>
                  </a:cubicBezTo>
                  <a:cubicBezTo>
                    <a:pt x="2762" y="529"/>
                    <a:pt x="2770" y="547"/>
                    <a:pt x="2784" y="561"/>
                  </a:cubicBezTo>
                  <a:cubicBezTo>
                    <a:pt x="2725" y="574"/>
                    <a:pt x="2710" y="544"/>
                    <a:pt x="2651" y="532"/>
                  </a:cubicBezTo>
                  <a:cubicBezTo>
                    <a:pt x="2619" y="526"/>
                    <a:pt x="2555" y="517"/>
                    <a:pt x="2555" y="517"/>
                  </a:cubicBezTo>
                  <a:cubicBezTo>
                    <a:pt x="2565" y="524"/>
                    <a:pt x="2582" y="527"/>
                    <a:pt x="2585" y="539"/>
                  </a:cubicBezTo>
                  <a:cubicBezTo>
                    <a:pt x="2587" y="547"/>
                    <a:pt x="2570" y="547"/>
                    <a:pt x="2562" y="546"/>
                  </a:cubicBezTo>
                  <a:cubicBezTo>
                    <a:pt x="2553" y="545"/>
                    <a:pt x="2548" y="535"/>
                    <a:pt x="2540" y="532"/>
                  </a:cubicBezTo>
                  <a:cubicBezTo>
                    <a:pt x="2526" y="527"/>
                    <a:pt x="2511" y="527"/>
                    <a:pt x="2496" y="524"/>
                  </a:cubicBezTo>
                  <a:cubicBezTo>
                    <a:pt x="2419" y="508"/>
                    <a:pt x="2346" y="501"/>
                    <a:pt x="2267" y="495"/>
                  </a:cubicBezTo>
                  <a:cubicBezTo>
                    <a:pt x="2298" y="505"/>
                    <a:pt x="2315" y="518"/>
                    <a:pt x="2348" y="524"/>
                  </a:cubicBezTo>
                  <a:cubicBezTo>
                    <a:pt x="2353" y="531"/>
                    <a:pt x="2370" y="541"/>
                    <a:pt x="2363" y="546"/>
                  </a:cubicBezTo>
                  <a:cubicBezTo>
                    <a:pt x="2353" y="553"/>
                    <a:pt x="2338" y="543"/>
                    <a:pt x="2326" y="539"/>
                  </a:cubicBezTo>
                  <a:cubicBezTo>
                    <a:pt x="2318" y="536"/>
                    <a:pt x="2312" y="527"/>
                    <a:pt x="2304" y="524"/>
                  </a:cubicBezTo>
                  <a:cubicBezTo>
                    <a:pt x="2280" y="516"/>
                    <a:pt x="2254" y="515"/>
                    <a:pt x="2230" y="509"/>
                  </a:cubicBezTo>
                  <a:cubicBezTo>
                    <a:pt x="2238" y="514"/>
                    <a:pt x="2289" y="544"/>
                    <a:pt x="2297" y="554"/>
                  </a:cubicBezTo>
                  <a:cubicBezTo>
                    <a:pt x="2302" y="560"/>
                    <a:pt x="2311" y="574"/>
                    <a:pt x="2304" y="576"/>
                  </a:cubicBezTo>
                  <a:cubicBezTo>
                    <a:pt x="2293" y="579"/>
                    <a:pt x="2284" y="565"/>
                    <a:pt x="2274" y="561"/>
                  </a:cubicBezTo>
                  <a:cubicBezTo>
                    <a:pt x="2267" y="558"/>
                    <a:pt x="2259" y="557"/>
                    <a:pt x="2252" y="554"/>
                  </a:cubicBezTo>
                  <a:cubicBezTo>
                    <a:pt x="2239" y="548"/>
                    <a:pt x="2202" y="539"/>
                    <a:pt x="2215" y="532"/>
                  </a:cubicBezTo>
                  <a:cubicBezTo>
                    <a:pt x="2231" y="524"/>
                    <a:pt x="2250" y="542"/>
                    <a:pt x="2267" y="546"/>
                  </a:cubicBezTo>
                  <a:cubicBezTo>
                    <a:pt x="2279" y="549"/>
                    <a:pt x="2292" y="551"/>
                    <a:pt x="2304" y="554"/>
                  </a:cubicBezTo>
                  <a:cubicBezTo>
                    <a:pt x="2311" y="559"/>
                    <a:pt x="2335" y="570"/>
                    <a:pt x="2326" y="569"/>
                  </a:cubicBezTo>
                  <a:cubicBezTo>
                    <a:pt x="2204" y="561"/>
                    <a:pt x="2079" y="537"/>
                    <a:pt x="1957" y="524"/>
                  </a:cubicBezTo>
                  <a:cubicBezTo>
                    <a:pt x="1964" y="527"/>
                    <a:pt x="1971" y="530"/>
                    <a:pt x="1979" y="532"/>
                  </a:cubicBezTo>
                  <a:cubicBezTo>
                    <a:pt x="1993" y="535"/>
                    <a:pt x="2023" y="539"/>
                    <a:pt x="2023" y="539"/>
                  </a:cubicBezTo>
                  <a:cubicBezTo>
                    <a:pt x="2016" y="534"/>
                    <a:pt x="2010" y="524"/>
                    <a:pt x="2001" y="524"/>
                  </a:cubicBezTo>
                  <a:cubicBezTo>
                    <a:pt x="1992" y="524"/>
                    <a:pt x="1988" y="537"/>
                    <a:pt x="1979" y="539"/>
                  </a:cubicBezTo>
                  <a:cubicBezTo>
                    <a:pt x="1947" y="545"/>
                    <a:pt x="1915" y="544"/>
                    <a:pt x="1883" y="546"/>
                  </a:cubicBezTo>
                  <a:cubicBezTo>
                    <a:pt x="1898" y="539"/>
                    <a:pt x="1912" y="531"/>
                    <a:pt x="1927" y="524"/>
                  </a:cubicBezTo>
                  <a:cubicBezTo>
                    <a:pt x="1934" y="521"/>
                    <a:pt x="1958" y="515"/>
                    <a:pt x="1950" y="517"/>
                  </a:cubicBezTo>
                  <a:cubicBezTo>
                    <a:pt x="1858" y="537"/>
                    <a:pt x="1769" y="569"/>
                    <a:pt x="1676" y="583"/>
                  </a:cubicBezTo>
                  <a:cubicBezTo>
                    <a:pt x="1631" y="600"/>
                    <a:pt x="1666" y="588"/>
                    <a:pt x="1691" y="569"/>
                  </a:cubicBezTo>
                  <a:cubicBezTo>
                    <a:pt x="1749" y="525"/>
                    <a:pt x="1674" y="564"/>
                    <a:pt x="1743" y="532"/>
                  </a:cubicBezTo>
                  <a:cubicBezTo>
                    <a:pt x="1750" y="524"/>
                    <a:pt x="1774" y="515"/>
                    <a:pt x="1765" y="509"/>
                  </a:cubicBezTo>
                  <a:cubicBezTo>
                    <a:pt x="1755" y="502"/>
                    <a:pt x="1671" y="534"/>
                    <a:pt x="1654" y="539"/>
                  </a:cubicBezTo>
                  <a:cubicBezTo>
                    <a:pt x="1661" y="529"/>
                    <a:pt x="1667" y="517"/>
                    <a:pt x="1676" y="509"/>
                  </a:cubicBezTo>
                  <a:cubicBezTo>
                    <a:pt x="1684" y="502"/>
                    <a:pt x="1717" y="495"/>
                    <a:pt x="1706" y="495"/>
                  </a:cubicBezTo>
                  <a:cubicBezTo>
                    <a:pt x="1693" y="495"/>
                    <a:pt x="1682" y="505"/>
                    <a:pt x="1669" y="509"/>
                  </a:cubicBezTo>
                  <a:cubicBezTo>
                    <a:pt x="1623" y="522"/>
                    <a:pt x="1596" y="525"/>
                    <a:pt x="1551" y="532"/>
                  </a:cubicBezTo>
                  <a:cubicBezTo>
                    <a:pt x="1534" y="527"/>
                    <a:pt x="1506" y="534"/>
                    <a:pt x="1499" y="517"/>
                  </a:cubicBezTo>
                  <a:cubicBezTo>
                    <a:pt x="1494" y="505"/>
                    <a:pt x="1585" y="475"/>
                    <a:pt x="1595" y="473"/>
                  </a:cubicBezTo>
                  <a:cubicBezTo>
                    <a:pt x="1541" y="527"/>
                    <a:pt x="1398" y="549"/>
                    <a:pt x="1322" y="561"/>
                  </a:cubicBezTo>
                  <a:cubicBezTo>
                    <a:pt x="1304" y="564"/>
                    <a:pt x="1357" y="551"/>
                    <a:pt x="1374" y="546"/>
                  </a:cubicBezTo>
                  <a:cubicBezTo>
                    <a:pt x="1405" y="537"/>
                    <a:pt x="1414" y="534"/>
                    <a:pt x="1440" y="524"/>
                  </a:cubicBezTo>
                  <a:cubicBezTo>
                    <a:pt x="1430" y="567"/>
                    <a:pt x="1440" y="572"/>
                    <a:pt x="1396" y="583"/>
                  </a:cubicBezTo>
                  <a:cubicBezTo>
                    <a:pt x="1389" y="581"/>
                    <a:pt x="1381" y="578"/>
                    <a:pt x="1374" y="576"/>
                  </a:cubicBezTo>
                  <a:cubicBezTo>
                    <a:pt x="1364" y="573"/>
                    <a:pt x="1354" y="572"/>
                    <a:pt x="1344" y="569"/>
                  </a:cubicBezTo>
                  <a:cubicBezTo>
                    <a:pt x="1329" y="565"/>
                    <a:pt x="1300" y="554"/>
                    <a:pt x="1300" y="554"/>
                  </a:cubicBezTo>
                  <a:cubicBezTo>
                    <a:pt x="1310" y="561"/>
                    <a:pt x="1338" y="567"/>
                    <a:pt x="1329" y="576"/>
                  </a:cubicBezTo>
                  <a:cubicBezTo>
                    <a:pt x="1318" y="587"/>
                    <a:pt x="1300" y="571"/>
                    <a:pt x="1285" y="569"/>
                  </a:cubicBezTo>
                  <a:cubicBezTo>
                    <a:pt x="1219" y="558"/>
                    <a:pt x="1152" y="552"/>
                    <a:pt x="1086" y="539"/>
                  </a:cubicBezTo>
                  <a:cubicBezTo>
                    <a:pt x="1096" y="544"/>
                    <a:pt x="1107" y="547"/>
                    <a:pt x="1115" y="554"/>
                  </a:cubicBezTo>
                  <a:cubicBezTo>
                    <a:pt x="1122" y="560"/>
                    <a:pt x="1138" y="572"/>
                    <a:pt x="1130" y="576"/>
                  </a:cubicBezTo>
                  <a:cubicBezTo>
                    <a:pt x="1117" y="583"/>
                    <a:pt x="1100" y="572"/>
                    <a:pt x="1086" y="569"/>
                  </a:cubicBezTo>
                  <a:cubicBezTo>
                    <a:pt x="1012" y="551"/>
                    <a:pt x="1019" y="549"/>
                    <a:pt x="960" y="532"/>
                  </a:cubicBezTo>
                  <a:cubicBezTo>
                    <a:pt x="950" y="529"/>
                    <a:pt x="940" y="527"/>
                    <a:pt x="930" y="524"/>
                  </a:cubicBezTo>
                  <a:cubicBezTo>
                    <a:pt x="923" y="522"/>
                    <a:pt x="900" y="517"/>
                    <a:pt x="908" y="517"/>
                  </a:cubicBezTo>
                  <a:cubicBezTo>
                    <a:pt x="938" y="517"/>
                    <a:pt x="967" y="522"/>
                    <a:pt x="997" y="524"/>
                  </a:cubicBezTo>
                  <a:cubicBezTo>
                    <a:pt x="1011" y="529"/>
                    <a:pt x="1057" y="543"/>
                    <a:pt x="1034" y="554"/>
                  </a:cubicBezTo>
                  <a:cubicBezTo>
                    <a:pt x="1012" y="565"/>
                    <a:pt x="985" y="559"/>
                    <a:pt x="960" y="561"/>
                  </a:cubicBezTo>
                  <a:cubicBezTo>
                    <a:pt x="986" y="579"/>
                    <a:pt x="1013" y="591"/>
                    <a:pt x="967" y="605"/>
                  </a:cubicBezTo>
                  <a:cubicBezTo>
                    <a:pt x="918" y="603"/>
                    <a:pt x="869" y="592"/>
                    <a:pt x="820" y="598"/>
                  </a:cubicBezTo>
                  <a:cubicBezTo>
                    <a:pt x="810" y="599"/>
                    <a:pt x="851" y="614"/>
                    <a:pt x="842" y="620"/>
                  </a:cubicBezTo>
                  <a:cubicBezTo>
                    <a:pt x="830" y="628"/>
                    <a:pt x="813" y="615"/>
                    <a:pt x="798" y="613"/>
                  </a:cubicBezTo>
                  <a:cubicBezTo>
                    <a:pt x="724" y="586"/>
                    <a:pt x="759" y="595"/>
                    <a:pt x="694" y="583"/>
                  </a:cubicBezTo>
                  <a:cubicBezTo>
                    <a:pt x="663" y="552"/>
                    <a:pt x="641" y="555"/>
                    <a:pt x="598" y="546"/>
                  </a:cubicBezTo>
                  <a:cubicBezTo>
                    <a:pt x="588" y="544"/>
                    <a:pt x="579" y="541"/>
                    <a:pt x="569" y="539"/>
                  </a:cubicBezTo>
                  <a:cubicBezTo>
                    <a:pt x="557" y="536"/>
                    <a:pt x="520" y="528"/>
                    <a:pt x="532" y="532"/>
                  </a:cubicBezTo>
                  <a:cubicBezTo>
                    <a:pt x="551" y="538"/>
                    <a:pt x="571" y="541"/>
                    <a:pt x="591" y="546"/>
                  </a:cubicBezTo>
                  <a:cubicBezTo>
                    <a:pt x="593" y="554"/>
                    <a:pt x="604" y="563"/>
                    <a:pt x="598" y="569"/>
                  </a:cubicBezTo>
                  <a:cubicBezTo>
                    <a:pt x="589" y="578"/>
                    <a:pt x="574" y="576"/>
                    <a:pt x="561" y="576"/>
                  </a:cubicBezTo>
                  <a:cubicBezTo>
                    <a:pt x="524" y="576"/>
                    <a:pt x="487" y="571"/>
                    <a:pt x="450" y="569"/>
                  </a:cubicBezTo>
                  <a:cubicBezTo>
                    <a:pt x="443" y="571"/>
                    <a:pt x="428" y="568"/>
                    <a:pt x="428" y="576"/>
                  </a:cubicBezTo>
                  <a:cubicBezTo>
                    <a:pt x="428" y="585"/>
                    <a:pt x="453" y="583"/>
                    <a:pt x="450" y="591"/>
                  </a:cubicBezTo>
                  <a:cubicBezTo>
                    <a:pt x="447" y="600"/>
                    <a:pt x="431" y="596"/>
                    <a:pt x="421" y="598"/>
                  </a:cubicBezTo>
                  <a:cubicBezTo>
                    <a:pt x="402" y="597"/>
                    <a:pt x="219" y="556"/>
                    <a:pt x="288" y="628"/>
                  </a:cubicBezTo>
                  <a:cubicBezTo>
                    <a:pt x="234" y="638"/>
                    <a:pt x="180" y="623"/>
                    <a:pt x="126" y="613"/>
                  </a:cubicBezTo>
                  <a:cubicBezTo>
                    <a:pt x="104" y="609"/>
                    <a:pt x="81" y="603"/>
                    <a:pt x="59" y="598"/>
                  </a:cubicBezTo>
                  <a:cubicBezTo>
                    <a:pt x="45" y="595"/>
                    <a:pt x="88" y="603"/>
                    <a:pt x="103" y="605"/>
                  </a:cubicBezTo>
                  <a:cubicBezTo>
                    <a:pt x="148" y="674"/>
                    <a:pt x="24" y="606"/>
                    <a:pt x="0" y="598"/>
                  </a:cubicBezTo>
                  <a:cubicBezTo>
                    <a:pt x="89" y="553"/>
                    <a:pt x="47" y="565"/>
                    <a:pt x="214" y="591"/>
                  </a:cubicBezTo>
                  <a:cubicBezTo>
                    <a:pt x="237" y="595"/>
                    <a:pt x="259" y="606"/>
                    <a:pt x="281" y="613"/>
                  </a:cubicBezTo>
                  <a:cubicBezTo>
                    <a:pt x="288" y="615"/>
                    <a:pt x="303" y="620"/>
                    <a:pt x="303" y="620"/>
                  </a:cubicBezTo>
                  <a:cubicBezTo>
                    <a:pt x="238" y="556"/>
                    <a:pt x="228" y="576"/>
                    <a:pt x="303" y="554"/>
                  </a:cubicBezTo>
                  <a:cubicBezTo>
                    <a:pt x="328" y="559"/>
                    <a:pt x="354" y="560"/>
                    <a:pt x="377" y="569"/>
                  </a:cubicBezTo>
                  <a:cubicBezTo>
                    <a:pt x="387" y="573"/>
                    <a:pt x="390" y="585"/>
                    <a:pt x="399" y="591"/>
                  </a:cubicBezTo>
                  <a:cubicBezTo>
                    <a:pt x="405" y="595"/>
                    <a:pt x="414" y="596"/>
                    <a:pt x="421" y="598"/>
                  </a:cubicBezTo>
                  <a:cubicBezTo>
                    <a:pt x="362" y="558"/>
                    <a:pt x="337" y="548"/>
                    <a:pt x="480" y="576"/>
                  </a:cubicBezTo>
                  <a:cubicBezTo>
                    <a:pt x="496" y="579"/>
                    <a:pt x="558" y="599"/>
                    <a:pt x="576" y="605"/>
                  </a:cubicBezTo>
                  <a:cubicBezTo>
                    <a:pt x="591" y="615"/>
                    <a:pt x="605" y="625"/>
                    <a:pt x="620" y="635"/>
                  </a:cubicBezTo>
                  <a:cubicBezTo>
                    <a:pt x="629" y="641"/>
                    <a:pt x="606" y="619"/>
                    <a:pt x="598" y="613"/>
                  </a:cubicBezTo>
                  <a:cubicBezTo>
                    <a:pt x="584" y="602"/>
                    <a:pt x="571" y="588"/>
                    <a:pt x="554" y="583"/>
                  </a:cubicBezTo>
                  <a:cubicBezTo>
                    <a:pt x="497" y="565"/>
                    <a:pt x="524" y="575"/>
                    <a:pt x="642" y="591"/>
                  </a:cubicBezTo>
                  <a:cubicBezTo>
                    <a:pt x="674" y="604"/>
                    <a:pt x="706" y="615"/>
                    <a:pt x="738" y="628"/>
                  </a:cubicBezTo>
                  <a:cubicBezTo>
                    <a:pt x="758" y="637"/>
                    <a:pt x="815" y="671"/>
                    <a:pt x="798" y="657"/>
                  </a:cubicBezTo>
                  <a:cubicBezTo>
                    <a:pt x="759" y="626"/>
                    <a:pt x="721" y="585"/>
                    <a:pt x="672" y="569"/>
                  </a:cubicBezTo>
                  <a:cubicBezTo>
                    <a:pt x="751" y="546"/>
                    <a:pt x="751" y="569"/>
                    <a:pt x="827" y="591"/>
                  </a:cubicBezTo>
                  <a:cubicBezTo>
                    <a:pt x="839" y="598"/>
                    <a:pt x="852" y="605"/>
                    <a:pt x="864" y="613"/>
                  </a:cubicBezTo>
                  <a:cubicBezTo>
                    <a:pt x="872" y="618"/>
                    <a:pt x="890" y="636"/>
                    <a:pt x="886" y="628"/>
                  </a:cubicBezTo>
                  <a:cubicBezTo>
                    <a:pt x="872" y="599"/>
                    <a:pt x="858" y="598"/>
                    <a:pt x="834" y="591"/>
                  </a:cubicBezTo>
                  <a:cubicBezTo>
                    <a:pt x="824" y="584"/>
                    <a:pt x="815" y="575"/>
                    <a:pt x="805" y="569"/>
                  </a:cubicBezTo>
                  <a:cubicBezTo>
                    <a:pt x="796" y="563"/>
                    <a:pt x="775" y="565"/>
                    <a:pt x="775" y="554"/>
                  </a:cubicBezTo>
                  <a:cubicBezTo>
                    <a:pt x="775" y="543"/>
                    <a:pt x="795" y="544"/>
                    <a:pt x="805" y="539"/>
                  </a:cubicBezTo>
                  <a:cubicBezTo>
                    <a:pt x="1026" y="583"/>
                    <a:pt x="831" y="547"/>
                    <a:pt x="975" y="569"/>
                  </a:cubicBezTo>
                  <a:cubicBezTo>
                    <a:pt x="987" y="571"/>
                    <a:pt x="1000" y="573"/>
                    <a:pt x="1012" y="576"/>
                  </a:cubicBezTo>
                  <a:cubicBezTo>
                    <a:pt x="1019" y="578"/>
                    <a:pt x="1034" y="591"/>
                    <a:pt x="1034" y="583"/>
                  </a:cubicBezTo>
                  <a:cubicBezTo>
                    <a:pt x="1034" y="577"/>
                    <a:pt x="973" y="550"/>
                    <a:pt x="967" y="546"/>
                  </a:cubicBezTo>
                  <a:cubicBezTo>
                    <a:pt x="1064" y="534"/>
                    <a:pt x="1147" y="555"/>
                    <a:pt x="1241" y="569"/>
                  </a:cubicBezTo>
                  <a:cubicBezTo>
                    <a:pt x="1200" y="549"/>
                    <a:pt x="1147" y="528"/>
                    <a:pt x="1108" y="502"/>
                  </a:cubicBezTo>
                  <a:cubicBezTo>
                    <a:pt x="1177" y="466"/>
                    <a:pt x="1257" y="494"/>
                    <a:pt x="1329" y="509"/>
                  </a:cubicBezTo>
                  <a:cubicBezTo>
                    <a:pt x="1419" y="550"/>
                    <a:pt x="1381" y="538"/>
                    <a:pt x="1440" y="554"/>
                  </a:cubicBezTo>
                  <a:cubicBezTo>
                    <a:pt x="1430" y="556"/>
                    <a:pt x="1420" y="564"/>
                    <a:pt x="1410" y="561"/>
                  </a:cubicBezTo>
                  <a:cubicBezTo>
                    <a:pt x="1393" y="556"/>
                    <a:pt x="1382" y="540"/>
                    <a:pt x="1366" y="532"/>
                  </a:cubicBezTo>
                  <a:cubicBezTo>
                    <a:pt x="1313" y="504"/>
                    <a:pt x="1338" y="513"/>
                    <a:pt x="1292" y="502"/>
                  </a:cubicBezTo>
                  <a:cubicBezTo>
                    <a:pt x="1285" y="497"/>
                    <a:pt x="1267" y="495"/>
                    <a:pt x="1270" y="487"/>
                  </a:cubicBezTo>
                  <a:cubicBezTo>
                    <a:pt x="1274" y="477"/>
                    <a:pt x="1290" y="482"/>
                    <a:pt x="1300" y="480"/>
                  </a:cubicBezTo>
                  <a:cubicBezTo>
                    <a:pt x="1327" y="475"/>
                    <a:pt x="1354" y="470"/>
                    <a:pt x="1381" y="465"/>
                  </a:cubicBezTo>
                  <a:cubicBezTo>
                    <a:pt x="1338" y="444"/>
                    <a:pt x="1295" y="448"/>
                    <a:pt x="1374" y="436"/>
                  </a:cubicBezTo>
                  <a:cubicBezTo>
                    <a:pt x="1438" y="441"/>
                    <a:pt x="1478" y="447"/>
                    <a:pt x="1536" y="465"/>
                  </a:cubicBezTo>
                  <a:cubicBezTo>
                    <a:pt x="1509" y="445"/>
                    <a:pt x="1492" y="439"/>
                    <a:pt x="1462" y="428"/>
                  </a:cubicBezTo>
                  <a:cubicBezTo>
                    <a:pt x="1558" y="410"/>
                    <a:pt x="1636" y="450"/>
                    <a:pt x="1728" y="465"/>
                  </a:cubicBezTo>
                  <a:cubicBezTo>
                    <a:pt x="1753" y="475"/>
                    <a:pt x="1777" y="485"/>
                    <a:pt x="1802" y="495"/>
                  </a:cubicBezTo>
                  <a:cubicBezTo>
                    <a:pt x="1812" y="499"/>
                    <a:pt x="1782" y="486"/>
                    <a:pt x="1772" y="480"/>
                  </a:cubicBezTo>
                  <a:cubicBezTo>
                    <a:pt x="1732" y="457"/>
                    <a:pt x="1768" y="471"/>
                    <a:pt x="1728" y="458"/>
                  </a:cubicBezTo>
                  <a:cubicBezTo>
                    <a:pt x="1829" y="436"/>
                    <a:pt x="1871" y="488"/>
                    <a:pt x="1957" y="502"/>
                  </a:cubicBezTo>
                  <a:cubicBezTo>
                    <a:pt x="1969" y="509"/>
                    <a:pt x="1982" y="516"/>
                    <a:pt x="1994" y="524"/>
                  </a:cubicBezTo>
                  <a:cubicBezTo>
                    <a:pt x="2002" y="529"/>
                    <a:pt x="2025" y="539"/>
                    <a:pt x="2016" y="539"/>
                  </a:cubicBezTo>
                  <a:cubicBezTo>
                    <a:pt x="1996" y="539"/>
                    <a:pt x="1952" y="503"/>
                    <a:pt x="1927" y="495"/>
                  </a:cubicBezTo>
                  <a:cubicBezTo>
                    <a:pt x="1965" y="470"/>
                    <a:pt x="2015" y="473"/>
                    <a:pt x="2046" y="509"/>
                  </a:cubicBezTo>
                  <a:cubicBezTo>
                    <a:pt x="2052" y="516"/>
                    <a:pt x="2030" y="500"/>
                    <a:pt x="2023" y="495"/>
                  </a:cubicBezTo>
                  <a:cubicBezTo>
                    <a:pt x="2013" y="488"/>
                    <a:pt x="2004" y="480"/>
                    <a:pt x="1994" y="473"/>
                  </a:cubicBezTo>
                  <a:cubicBezTo>
                    <a:pt x="2057" y="459"/>
                    <a:pt x="2025" y="461"/>
                    <a:pt x="2119" y="480"/>
                  </a:cubicBezTo>
                  <a:cubicBezTo>
                    <a:pt x="2127" y="482"/>
                    <a:pt x="2149" y="492"/>
                    <a:pt x="2142" y="487"/>
                  </a:cubicBezTo>
                  <a:cubicBezTo>
                    <a:pt x="2128" y="478"/>
                    <a:pt x="2112" y="473"/>
                    <a:pt x="2097" y="465"/>
                  </a:cubicBezTo>
                  <a:cubicBezTo>
                    <a:pt x="2084" y="458"/>
                    <a:pt x="2072" y="450"/>
                    <a:pt x="2060" y="443"/>
                  </a:cubicBezTo>
                  <a:cubicBezTo>
                    <a:pt x="2100" y="430"/>
                    <a:pt x="2127" y="452"/>
                    <a:pt x="2164" y="465"/>
                  </a:cubicBezTo>
                  <a:cubicBezTo>
                    <a:pt x="2169" y="467"/>
                    <a:pt x="2208" y="479"/>
                    <a:pt x="2208" y="487"/>
                  </a:cubicBezTo>
                  <a:cubicBezTo>
                    <a:pt x="2208" y="495"/>
                    <a:pt x="2193" y="482"/>
                    <a:pt x="2186" y="480"/>
                  </a:cubicBezTo>
                  <a:cubicBezTo>
                    <a:pt x="2107" y="426"/>
                    <a:pt x="2289" y="492"/>
                    <a:pt x="2304" y="495"/>
                  </a:cubicBezTo>
                  <a:cubicBezTo>
                    <a:pt x="2314" y="500"/>
                    <a:pt x="2324" y="505"/>
                    <a:pt x="2334" y="509"/>
                  </a:cubicBezTo>
                  <a:cubicBezTo>
                    <a:pt x="2343" y="513"/>
                    <a:pt x="2370" y="524"/>
                    <a:pt x="2363" y="517"/>
                  </a:cubicBezTo>
                  <a:cubicBezTo>
                    <a:pt x="2345" y="500"/>
                    <a:pt x="2318" y="494"/>
                    <a:pt x="2297" y="480"/>
                  </a:cubicBezTo>
                  <a:cubicBezTo>
                    <a:pt x="2402" y="460"/>
                    <a:pt x="2456" y="508"/>
                    <a:pt x="2548" y="532"/>
                  </a:cubicBezTo>
                  <a:cubicBezTo>
                    <a:pt x="2521" y="511"/>
                    <a:pt x="2497" y="495"/>
                    <a:pt x="2466" y="480"/>
                  </a:cubicBezTo>
                  <a:cubicBezTo>
                    <a:pt x="2476" y="478"/>
                    <a:pt x="2486" y="472"/>
                    <a:pt x="2496" y="473"/>
                  </a:cubicBezTo>
                  <a:cubicBezTo>
                    <a:pt x="2511" y="474"/>
                    <a:pt x="2540" y="487"/>
                    <a:pt x="2540" y="487"/>
                  </a:cubicBezTo>
                  <a:cubicBezTo>
                    <a:pt x="2547" y="492"/>
                    <a:pt x="2570" y="506"/>
                    <a:pt x="2562" y="502"/>
                  </a:cubicBezTo>
                  <a:cubicBezTo>
                    <a:pt x="2549" y="496"/>
                    <a:pt x="2529" y="494"/>
                    <a:pt x="2526" y="480"/>
                  </a:cubicBezTo>
                  <a:cubicBezTo>
                    <a:pt x="2524" y="469"/>
                    <a:pt x="2545" y="470"/>
                    <a:pt x="2555" y="465"/>
                  </a:cubicBezTo>
                  <a:cubicBezTo>
                    <a:pt x="2601" y="475"/>
                    <a:pt x="2587" y="471"/>
                    <a:pt x="2636" y="487"/>
                  </a:cubicBezTo>
                  <a:cubicBezTo>
                    <a:pt x="2643" y="489"/>
                    <a:pt x="2650" y="497"/>
                    <a:pt x="2658" y="495"/>
                  </a:cubicBezTo>
                  <a:cubicBezTo>
                    <a:pt x="2664" y="494"/>
                    <a:pt x="2663" y="485"/>
                    <a:pt x="2666" y="4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2"/>
            <p:cNvSpPr/>
            <p:nvPr/>
          </p:nvSpPr>
          <p:spPr>
            <a:xfrm>
              <a:off x="2039760" y="5475240"/>
              <a:ext cx="2378160" cy="345960"/>
            </a:xfrm>
            <a:custGeom>
              <a:avLst/>
              <a:gdLst/>
              <a:ahLst/>
              <a:rect l="l" t="t" r="r" b="b"/>
              <a:pathLst>
                <a:path w="1498" h="218">
                  <a:moveTo>
                    <a:pt x="0" y="92"/>
                  </a:moveTo>
                  <a:cubicBezTo>
                    <a:pt x="24" y="100"/>
                    <a:pt x="66" y="129"/>
                    <a:pt x="66" y="129"/>
                  </a:cubicBezTo>
                  <a:cubicBezTo>
                    <a:pt x="71" y="139"/>
                    <a:pt x="70" y="156"/>
                    <a:pt x="81" y="159"/>
                  </a:cubicBezTo>
                  <a:cubicBezTo>
                    <a:pt x="90" y="161"/>
                    <a:pt x="95" y="145"/>
                    <a:pt x="96" y="136"/>
                  </a:cubicBezTo>
                  <a:cubicBezTo>
                    <a:pt x="98" y="109"/>
                    <a:pt x="80" y="81"/>
                    <a:pt x="89" y="55"/>
                  </a:cubicBezTo>
                  <a:cubicBezTo>
                    <a:pt x="92" y="45"/>
                    <a:pt x="109" y="64"/>
                    <a:pt x="118" y="70"/>
                  </a:cubicBezTo>
                  <a:cubicBezTo>
                    <a:pt x="126" y="76"/>
                    <a:pt x="133" y="85"/>
                    <a:pt x="140" y="92"/>
                  </a:cubicBezTo>
                  <a:cubicBezTo>
                    <a:pt x="161" y="150"/>
                    <a:pt x="167" y="70"/>
                    <a:pt x="170" y="55"/>
                  </a:cubicBezTo>
                  <a:cubicBezTo>
                    <a:pt x="255" y="84"/>
                    <a:pt x="178" y="48"/>
                    <a:pt x="244" y="114"/>
                  </a:cubicBezTo>
                  <a:cubicBezTo>
                    <a:pt x="259" y="129"/>
                    <a:pt x="280" y="136"/>
                    <a:pt x="295" y="151"/>
                  </a:cubicBezTo>
                  <a:cubicBezTo>
                    <a:pt x="298" y="136"/>
                    <a:pt x="290" y="114"/>
                    <a:pt x="303" y="107"/>
                  </a:cubicBezTo>
                  <a:cubicBezTo>
                    <a:pt x="327" y="94"/>
                    <a:pt x="374" y="147"/>
                    <a:pt x="391" y="159"/>
                  </a:cubicBezTo>
                  <a:cubicBezTo>
                    <a:pt x="389" y="144"/>
                    <a:pt x="380" y="129"/>
                    <a:pt x="384" y="114"/>
                  </a:cubicBezTo>
                  <a:cubicBezTo>
                    <a:pt x="395" y="71"/>
                    <a:pt x="424" y="119"/>
                    <a:pt x="428" y="122"/>
                  </a:cubicBezTo>
                  <a:cubicBezTo>
                    <a:pt x="434" y="126"/>
                    <a:pt x="443" y="127"/>
                    <a:pt x="450" y="129"/>
                  </a:cubicBezTo>
                  <a:cubicBezTo>
                    <a:pt x="477" y="149"/>
                    <a:pt x="504" y="163"/>
                    <a:pt x="532" y="181"/>
                  </a:cubicBezTo>
                  <a:cubicBezTo>
                    <a:pt x="529" y="166"/>
                    <a:pt x="527" y="151"/>
                    <a:pt x="524" y="136"/>
                  </a:cubicBezTo>
                  <a:cubicBezTo>
                    <a:pt x="522" y="128"/>
                    <a:pt x="511" y="118"/>
                    <a:pt x="517" y="114"/>
                  </a:cubicBezTo>
                  <a:cubicBezTo>
                    <a:pt x="525" y="109"/>
                    <a:pt x="537" y="118"/>
                    <a:pt x="546" y="122"/>
                  </a:cubicBezTo>
                  <a:cubicBezTo>
                    <a:pt x="583" y="136"/>
                    <a:pt x="615" y="156"/>
                    <a:pt x="650" y="173"/>
                  </a:cubicBezTo>
                  <a:cubicBezTo>
                    <a:pt x="699" y="157"/>
                    <a:pt x="648" y="182"/>
                    <a:pt x="665" y="122"/>
                  </a:cubicBezTo>
                  <a:cubicBezTo>
                    <a:pt x="667" y="115"/>
                    <a:pt x="680" y="117"/>
                    <a:pt x="687" y="114"/>
                  </a:cubicBezTo>
                  <a:cubicBezTo>
                    <a:pt x="763" y="126"/>
                    <a:pt x="829" y="168"/>
                    <a:pt x="893" y="210"/>
                  </a:cubicBezTo>
                  <a:cubicBezTo>
                    <a:pt x="904" y="218"/>
                    <a:pt x="873" y="191"/>
                    <a:pt x="864" y="181"/>
                  </a:cubicBezTo>
                  <a:cubicBezTo>
                    <a:pt x="838" y="151"/>
                    <a:pt x="838" y="150"/>
                    <a:pt x="820" y="122"/>
                  </a:cubicBezTo>
                  <a:cubicBezTo>
                    <a:pt x="875" y="107"/>
                    <a:pt x="887" y="145"/>
                    <a:pt x="938" y="159"/>
                  </a:cubicBezTo>
                  <a:cubicBezTo>
                    <a:pt x="942" y="163"/>
                    <a:pt x="983" y="206"/>
                    <a:pt x="989" y="203"/>
                  </a:cubicBezTo>
                  <a:cubicBezTo>
                    <a:pt x="1002" y="195"/>
                    <a:pt x="994" y="174"/>
                    <a:pt x="997" y="159"/>
                  </a:cubicBezTo>
                  <a:cubicBezTo>
                    <a:pt x="1065" y="167"/>
                    <a:pt x="1059" y="177"/>
                    <a:pt x="1115" y="195"/>
                  </a:cubicBezTo>
                  <a:cubicBezTo>
                    <a:pt x="1117" y="188"/>
                    <a:pt x="1126" y="180"/>
                    <a:pt x="1122" y="173"/>
                  </a:cubicBezTo>
                  <a:cubicBezTo>
                    <a:pt x="1112" y="155"/>
                    <a:pt x="1078" y="129"/>
                    <a:pt x="1078" y="129"/>
                  </a:cubicBezTo>
                  <a:cubicBezTo>
                    <a:pt x="1136" y="118"/>
                    <a:pt x="1103" y="118"/>
                    <a:pt x="1174" y="144"/>
                  </a:cubicBezTo>
                  <a:cubicBezTo>
                    <a:pt x="1184" y="148"/>
                    <a:pt x="1204" y="170"/>
                    <a:pt x="1204" y="159"/>
                  </a:cubicBezTo>
                  <a:cubicBezTo>
                    <a:pt x="1204" y="145"/>
                    <a:pt x="1185" y="138"/>
                    <a:pt x="1174" y="129"/>
                  </a:cubicBezTo>
                  <a:cubicBezTo>
                    <a:pt x="1163" y="120"/>
                    <a:pt x="1149" y="114"/>
                    <a:pt x="1137" y="107"/>
                  </a:cubicBezTo>
                  <a:cubicBezTo>
                    <a:pt x="1157" y="51"/>
                    <a:pt x="1214" y="105"/>
                    <a:pt x="1248" y="122"/>
                  </a:cubicBezTo>
                  <a:cubicBezTo>
                    <a:pt x="1264" y="70"/>
                    <a:pt x="1298" y="101"/>
                    <a:pt x="1329" y="122"/>
                  </a:cubicBezTo>
                  <a:cubicBezTo>
                    <a:pt x="1339" y="119"/>
                    <a:pt x="1356" y="124"/>
                    <a:pt x="1359" y="114"/>
                  </a:cubicBezTo>
                  <a:cubicBezTo>
                    <a:pt x="1362" y="106"/>
                    <a:pt x="1345" y="103"/>
                    <a:pt x="1337" y="99"/>
                  </a:cubicBezTo>
                  <a:cubicBezTo>
                    <a:pt x="1313" y="86"/>
                    <a:pt x="1263" y="63"/>
                    <a:pt x="1263" y="63"/>
                  </a:cubicBezTo>
                  <a:cubicBezTo>
                    <a:pt x="1314" y="49"/>
                    <a:pt x="1366" y="76"/>
                    <a:pt x="1418" y="85"/>
                  </a:cubicBezTo>
                  <a:cubicBezTo>
                    <a:pt x="1421" y="87"/>
                    <a:pt x="1498" y="128"/>
                    <a:pt x="1455" y="85"/>
                  </a:cubicBezTo>
                  <a:cubicBezTo>
                    <a:pt x="1411" y="41"/>
                    <a:pt x="1351" y="25"/>
                    <a:pt x="1447" y="55"/>
                  </a:cubicBezTo>
                  <a:cubicBezTo>
                    <a:pt x="1472" y="63"/>
                    <a:pt x="1468" y="62"/>
                    <a:pt x="1492" y="77"/>
                  </a:cubicBezTo>
                  <a:cubicBezTo>
                    <a:pt x="1447" y="20"/>
                    <a:pt x="1491" y="70"/>
                    <a:pt x="1447" y="33"/>
                  </a:cubicBezTo>
                  <a:cubicBezTo>
                    <a:pt x="1439" y="26"/>
                    <a:pt x="1418" y="18"/>
                    <a:pt x="1425" y="11"/>
                  </a:cubicBezTo>
                  <a:cubicBezTo>
                    <a:pt x="1436" y="0"/>
                    <a:pt x="1454" y="18"/>
                    <a:pt x="1469" y="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43"/>
            <p:cNvSpPr/>
            <p:nvPr/>
          </p:nvSpPr>
          <p:spPr>
            <a:xfrm>
              <a:off x="4203720" y="5257800"/>
              <a:ext cx="325440" cy="412920"/>
            </a:xfrm>
            <a:custGeom>
              <a:avLst/>
              <a:gdLst/>
              <a:ahLst/>
              <a:rect l="l" t="t" r="r" b="b"/>
              <a:pathLst>
                <a:path w="205" h="260">
                  <a:moveTo>
                    <a:pt x="10" y="133"/>
                  </a:moveTo>
                  <a:cubicBezTo>
                    <a:pt x="61" y="182"/>
                    <a:pt x="0" y="131"/>
                    <a:pt x="70" y="163"/>
                  </a:cubicBezTo>
                  <a:cubicBezTo>
                    <a:pt x="86" y="170"/>
                    <a:pt x="108" y="194"/>
                    <a:pt x="121" y="207"/>
                  </a:cubicBezTo>
                  <a:cubicBezTo>
                    <a:pt x="140" y="260"/>
                    <a:pt x="118" y="213"/>
                    <a:pt x="136" y="207"/>
                  </a:cubicBezTo>
                  <a:cubicBezTo>
                    <a:pt x="148" y="203"/>
                    <a:pt x="161" y="212"/>
                    <a:pt x="173" y="214"/>
                  </a:cubicBezTo>
                  <a:cubicBezTo>
                    <a:pt x="180" y="221"/>
                    <a:pt x="185" y="236"/>
                    <a:pt x="195" y="236"/>
                  </a:cubicBezTo>
                  <a:cubicBezTo>
                    <a:pt x="203" y="236"/>
                    <a:pt x="205" y="221"/>
                    <a:pt x="202" y="214"/>
                  </a:cubicBezTo>
                  <a:cubicBezTo>
                    <a:pt x="199" y="206"/>
                    <a:pt x="187" y="205"/>
                    <a:pt x="180" y="200"/>
                  </a:cubicBezTo>
                  <a:cubicBezTo>
                    <a:pt x="170" y="188"/>
                    <a:pt x="160" y="176"/>
                    <a:pt x="151" y="163"/>
                  </a:cubicBezTo>
                  <a:cubicBezTo>
                    <a:pt x="146" y="156"/>
                    <a:pt x="127" y="140"/>
                    <a:pt x="136" y="140"/>
                  </a:cubicBezTo>
                  <a:cubicBezTo>
                    <a:pt x="149" y="140"/>
                    <a:pt x="155" y="157"/>
                    <a:pt x="166" y="163"/>
                  </a:cubicBezTo>
                  <a:cubicBezTo>
                    <a:pt x="173" y="167"/>
                    <a:pt x="181" y="168"/>
                    <a:pt x="188" y="170"/>
                  </a:cubicBezTo>
                  <a:cubicBezTo>
                    <a:pt x="180" y="153"/>
                    <a:pt x="178" y="132"/>
                    <a:pt x="166" y="118"/>
                  </a:cubicBezTo>
                  <a:cubicBezTo>
                    <a:pt x="152" y="101"/>
                    <a:pt x="107" y="97"/>
                    <a:pt x="180" y="111"/>
                  </a:cubicBezTo>
                  <a:cubicBezTo>
                    <a:pt x="183" y="101"/>
                    <a:pt x="194" y="89"/>
                    <a:pt x="188" y="81"/>
                  </a:cubicBezTo>
                  <a:cubicBezTo>
                    <a:pt x="176" y="65"/>
                    <a:pt x="152" y="63"/>
                    <a:pt x="136" y="52"/>
                  </a:cubicBezTo>
                  <a:cubicBezTo>
                    <a:pt x="113" y="36"/>
                    <a:pt x="108" y="13"/>
                    <a:pt x="8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44"/>
            <p:cNvSpPr/>
            <p:nvPr/>
          </p:nvSpPr>
          <p:spPr>
            <a:xfrm>
              <a:off x="-237960" y="1166760"/>
              <a:ext cx="1815840" cy="3929040"/>
            </a:xfrm>
            <a:custGeom>
              <a:avLst/>
              <a:gdLst/>
              <a:ahLst/>
              <a:rect l="l" t="t" r="r" b="b"/>
              <a:pathLst>
                <a:path w="1144" h="2475">
                  <a:moveTo>
                    <a:pt x="1058" y="2444"/>
                  </a:moveTo>
                  <a:cubicBezTo>
                    <a:pt x="1051" y="2416"/>
                    <a:pt x="1037" y="2397"/>
                    <a:pt x="1029" y="2370"/>
                  </a:cubicBezTo>
                  <a:cubicBezTo>
                    <a:pt x="985" y="2438"/>
                    <a:pt x="1057" y="2319"/>
                    <a:pt x="1007" y="2466"/>
                  </a:cubicBezTo>
                  <a:cubicBezTo>
                    <a:pt x="1004" y="2475"/>
                    <a:pt x="1003" y="2446"/>
                    <a:pt x="999" y="2437"/>
                  </a:cubicBezTo>
                  <a:cubicBezTo>
                    <a:pt x="995" y="2429"/>
                    <a:pt x="989" y="2422"/>
                    <a:pt x="984" y="2415"/>
                  </a:cubicBezTo>
                  <a:cubicBezTo>
                    <a:pt x="982" y="2395"/>
                    <a:pt x="988" y="2373"/>
                    <a:pt x="977" y="2356"/>
                  </a:cubicBezTo>
                  <a:cubicBezTo>
                    <a:pt x="970" y="2345"/>
                    <a:pt x="973" y="2405"/>
                    <a:pt x="970" y="2393"/>
                  </a:cubicBezTo>
                  <a:cubicBezTo>
                    <a:pt x="958" y="2340"/>
                    <a:pt x="961" y="2284"/>
                    <a:pt x="955" y="2230"/>
                  </a:cubicBezTo>
                  <a:cubicBezTo>
                    <a:pt x="957" y="2296"/>
                    <a:pt x="967" y="2363"/>
                    <a:pt x="962" y="2429"/>
                  </a:cubicBezTo>
                  <a:cubicBezTo>
                    <a:pt x="960" y="2461"/>
                    <a:pt x="953" y="2365"/>
                    <a:pt x="948" y="2333"/>
                  </a:cubicBezTo>
                  <a:cubicBezTo>
                    <a:pt x="946" y="2321"/>
                    <a:pt x="942" y="2309"/>
                    <a:pt x="940" y="2297"/>
                  </a:cubicBezTo>
                  <a:cubicBezTo>
                    <a:pt x="937" y="2282"/>
                    <a:pt x="935" y="2267"/>
                    <a:pt x="933" y="2252"/>
                  </a:cubicBezTo>
                  <a:cubicBezTo>
                    <a:pt x="938" y="2218"/>
                    <a:pt x="933" y="2180"/>
                    <a:pt x="948" y="2149"/>
                  </a:cubicBezTo>
                  <a:cubicBezTo>
                    <a:pt x="955" y="2135"/>
                    <a:pt x="958" y="2178"/>
                    <a:pt x="962" y="2193"/>
                  </a:cubicBezTo>
                  <a:cubicBezTo>
                    <a:pt x="966" y="2207"/>
                    <a:pt x="967" y="2222"/>
                    <a:pt x="970" y="2237"/>
                  </a:cubicBezTo>
                  <a:cubicBezTo>
                    <a:pt x="963" y="2252"/>
                    <a:pt x="964" y="2285"/>
                    <a:pt x="948" y="2282"/>
                  </a:cubicBezTo>
                  <a:cubicBezTo>
                    <a:pt x="929" y="2279"/>
                    <a:pt x="931" y="2248"/>
                    <a:pt x="925" y="2230"/>
                  </a:cubicBezTo>
                  <a:cubicBezTo>
                    <a:pt x="907" y="2172"/>
                    <a:pt x="892" y="2112"/>
                    <a:pt x="874" y="2053"/>
                  </a:cubicBezTo>
                  <a:cubicBezTo>
                    <a:pt x="870" y="2038"/>
                    <a:pt x="864" y="2024"/>
                    <a:pt x="859" y="2009"/>
                  </a:cubicBezTo>
                  <a:cubicBezTo>
                    <a:pt x="856" y="2001"/>
                    <a:pt x="844" y="1984"/>
                    <a:pt x="852" y="1986"/>
                  </a:cubicBezTo>
                  <a:cubicBezTo>
                    <a:pt x="872" y="1992"/>
                    <a:pt x="907" y="2059"/>
                    <a:pt x="911" y="2068"/>
                  </a:cubicBezTo>
                  <a:cubicBezTo>
                    <a:pt x="920" y="2087"/>
                    <a:pt x="926" y="2107"/>
                    <a:pt x="933" y="2127"/>
                  </a:cubicBezTo>
                  <a:cubicBezTo>
                    <a:pt x="935" y="2142"/>
                    <a:pt x="967" y="2368"/>
                    <a:pt x="948" y="2311"/>
                  </a:cubicBezTo>
                  <a:cubicBezTo>
                    <a:pt x="908" y="2195"/>
                    <a:pt x="936" y="2114"/>
                    <a:pt x="881" y="2009"/>
                  </a:cubicBezTo>
                  <a:cubicBezTo>
                    <a:pt x="863" y="1974"/>
                    <a:pt x="842" y="1940"/>
                    <a:pt x="822" y="1905"/>
                  </a:cubicBezTo>
                  <a:cubicBezTo>
                    <a:pt x="815" y="1893"/>
                    <a:pt x="800" y="1868"/>
                    <a:pt x="800" y="1868"/>
                  </a:cubicBezTo>
                  <a:cubicBezTo>
                    <a:pt x="797" y="1858"/>
                    <a:pt x="792" y="1829"/>
                    <a:pt x="792" y="1839"/>
                  </a:cubicBezTo>
                  <a:cubicBezTo>
                    <a:pt x="792" y="1902"/>
                    <a:pt x="785" y="2038"/>
                    <a:pt x="866" y="2068"/>
                  </a:cubicBezTo>
                  <a:cubicBezTo>
                    <a:pt x="926" y="1977"/>
                    <a:pt x="850" y="1619"/>
                    <a:pt x="888" y="1898"/>
                  </a:cubicBezTo>
                  <a:cubicBezTo>
                    <a:pt x="886" y="1955"/>
                    <a:pt x="889" y="2012"/>
                    <a:pt x="881" y="2068"/>
                  </a:cubicBezTo>
                  <a:cubicBezTo>
                    <a:pt x="877" y="2093"/>
                    <a:pt x="877" y="2019"/>
                    <a:pt x="874" y="1994"/>
                  </a:cubicBezTo>
                  <a:cubicBezTo>
                    <a:pt x="870" y="1967"/>
                    <a:pt x="863" y="1940"/>
                    <a:pt x="859" y="1913"/>
                  </a:cubicBezTo>
                  <a:cubicBezTo>
                    <a:pt x="873" y="1679"/>
                    <a:pt x="873" y="1835"/>
                    <a:pt x="881" y="1905"/>
                  </a:cubicBezTo>
                  <a:cubicBezTo>
                    <a:pt x="883" y="1959"/>
                    <a:pt x="882" y="2014"/>
                    <a:pt x="888" y="2068"/>
                  </a:cubicBezTo>
                  <a:cubicBezTo>
                    <a:pt x="889" y="2081"/>
                    <a:pt x="896" y="2044"/>
                    <a:pt x="896" y="2031"/>
                  </a:cubicBezTo>
                  <a:cubicBezTo>
                    <a:pt x="896" y="1759"/>
                    <a:pt x="910" y="1827"/>
                    <a:pt x="881" y="1706"/>
                  </a:cubicBezTo>
                  <a:cubicBezTo>
                    <a:pt x="887" y="1773"/>
                    <a:pt x="896" y="1839"/>
                    <a:pt x="903" y="1905"/>
                  </a:cubicBezTo>
                  <a:cubicBezTo>
                    <a:pt x="901" y="1959"/>
                    <a:pt x="896" y="2122"/>
                    <a:pt x="896" y="2068"/>
                  </a:cubicBezTo>
                  <a:cubicBezTo>
                    <a:pt x="896" y="1487"/>
                    <a:pt x="892" y="1435"/>
                    <a:pt x="918" y="1654"/>
                  </a:cubicBezTo>
                  <a:cubicBezTo>
                    <a:pt x="921" y="1679"/>
                    <a:pt x="923" y="1703"/>
                    <a:pt x="925" y="1728"/>
                  </a:cubicBezTo>
                  <a:cubicBezTo>
                    <a:pt x="923" y="1794"/>
                    <a:pt x="923" y="1861"/>
                    <a:pt x="918" y="1927"/>
                  </a:cubicBezTo>
                  <a:cubicBezTo>
                    <a:pt x="917" y="1935"/>
                    <a:pt x="913" y="1912"/>
                    <a:pt x="911" y="1905"/>
                  </a:cubicBezTo>
                  <a:cubicBezTo>
                    <a:pt x="908" y="1893"/>
                    <a:pt x="905" y="1880"/>
                    <a:pt x="903" y="1868"/>
                  </a:cubicBezTo>
                  <a:cubicBezTo>
                    <a:pt x="899" y="1842"/>
                    <a:pt x="891" y="1772"/>
                    <a:pt x="888" y="1750"/>
                  </a:cubicBezTo>
                  <a:cubicBezTo>
                    <a:pt x="891" y="1639"/>
                    <a:pt x="890" y="1529"/>
                    <a:pt x="896" y="1418"/>
                  </a:cubicBezTo>
                  <a:cubicBezTo>
                    <a:pt x="897" y="1398"/>
                    <a:pt x="901" y="1497"/>
                    <a:pt x="903" y="1477"/>
                  </a:cubicBezTo>
                  <a:cubicBezTo>
                    <a:pt x="937" y="1058"/>
                    <a:pt x="894" y="1343"/>
                    <a:pt x="918" y="1189"/>
                  </a:cubicBezTo>
                  <a:cubicBezTo>
                    <a:pt x="911" y="1432"/>
                    <a:pt x="908" y="1694"/>
                    <a:pt x="896" y="1078"/>
                  </a:cubicBezTo>
                  <a:cubicBezTo>
                    <a:pt x="916" y="1016"/>
                    <a:pt x="921" y="1105"/>
                    <a:pt x="925" y="1122"/>
                  </a:cubicBezTo>
                  <a:cubicBezTo>
                    <a:pt x="930" y="1104"/>
                    <a:pt x="951" y="1043"/>
                    <a:pt x="925" y="1034"/>
                  </a:cubicBezTo>
                  <a:cubicBezTo>
                    <a:pt x="908" y="1028"/>
                    <a:pt x="915" y="1068"/>
                    <a:pt x="911" y="1085"/>
                  </a:cubicBezTo>
                  <a:cubicBezTo>
                    <a:pt x="903" y="1118"/>
                    <a:pt x="901" y="1132"/>
                    <a:pt x="896" y="1167"/>
                  </a:cubicBezTo>
                  <a:cubicBezTo>
                    <a:pt x="883" y="1105"/>
                    <a:pt x="884" y="1043"/>
                    <a:pt x="903" y="982"/>
                  </a:cubicBezTo>
                  <a:cubicBezTo>
                    <a:pt x="890" y="1136"/>
                    <a:pt x="900" y="1036"/>
                    <a:pt x="918" y="982"/>
                  </a:cubicBezTo>
                  <a:cubicBezTo>
                    <a:pt x="921" y="973"/>
                    <a:pt x="920" y="962"/>
                    <a:pt x="925" y="953"/>
                  </a:cubicBezTo>
                  <a:cubicBezTo>
                    <a:pt x="940" y="924"/>
                    <a:pt x="996" y="845"/>
                    <a:pt x="977" y="871"/>
                  </a:cubicBezTo>
                  <a:cubicBezTo>
                    <a:pt x="956" y="900"/>
                    <a:pt x="945" y="931"/>
                    <a:pt x="925" y="960"/>
                  </a:cubicBezTo>
                  <a:cubicBezTo>
                    <a:pt x="939" y="909"/>
                    <a:pt x="964" y="878"/>
                    <a:pt x="992" y="834"/>
                  </a:cubicBezTo>
                  <a:cubicBezTo>
                    <a:pt x="994" y="827"/>
                    <a:pt x="997" y="819"/>
                    <a:pt x="999" y="812"/>
                  </a:cubicBezTo>
                  <a:cubicBezTo>
                    <a:pt x="1002" y="805"/>
                    <a:pt x="1015" y="790"/>
                    <a:pt x="1007" y="790"/>
                  </a:cubicBezTo>
                  <a:cubicBezTo>
                    <a:pt x="996" y="790"/>
                    <a:pt x="992" y="805"/>
                    <a:pt x="984" y="812"/>
                  </a:cubicBezTo>
                  <a:cubicBezTo>
                    <a:pt x="978" y="818"/>
                    <a:pt x="969" y="821"/>
                    <a:pt x="962" y="827"/>
                  </a:cubicBezTo>
                  <a:cubicBezTo>
                    <a:pt x="954" y="834"/>
                    <a:pt x="935" y="858"/>
                    <a:pt x="940" y="849"/>
                  </a:cubicBezTo>
                  <a:cubicBezTo>
                    <a:pt x="974" y="790"/>
                    <a:pt x="1003" y="770"/>
                    <a:pt x="1044" y="724"/>
                  </a:cubicBezTo>
                  <a:cubicBezTo>
                    <a:pt x="1053" y="714"/>
                    <a:pt x="1064" y="705"/>
                    <a:pt x="1073" y="694"/>
                  </a:cubicBezTo>
                  <a:cubicBezTo>
                    <a:pt x="1079" y="687"/>
                    <a:pt x="1095" y="677"/>
                    <a:pt x="1088" y="672"/>
                  </a:cubicBezTo>
                  <a:cubicBezTo>
                    <a:pt x="1078" y="665"/>
                    <a:pt x="1063" y="677"/>
                    <a:pt x="1051" y="679"/>
                  </a:cubicBezTo>
                  <a:cubicBezTo>
                    <a:pt x="1023" y="713"/>
                    <a:pt x="1002" y="720"/>
                    <a:pt x="977" y="753"/>
                  </a:cubicBezTo>
                  <a:cubicBezTo>
                    <a:pt x="990" y="712"/>
                    <a:pt x="1025" y="708"/>
                    <a:pt x="1058" y="687"/>
                  </a:cubicBezTo>
                  <a:cubicBezTo>
                    <a:pt x="1073" y="727"/>
                    <a:pt x="1061" y="709"/>
                    <a:pt x="1080" y="665"/>
                  </a:cubicBezTo>
                  <a:cubicBezTo>
                    <a:pt x="1084" y="657"/>
                    <a:pt x="1090" y="650"/>
                    <a:pt x="1095" y="642"/>
                  </a:cubicBezTo>
                  <a:cubicBezTo>
                    <a:pt x="1098" y="627"/>
                    <a:pt x="1118" y="551"/>
                    <a:pt x="1080" y="628"/>
                  </a:cubicBezTo>
                  <a:cubicBezTo>
                    <a:pt x="1066" y="655"/>
                    <a:pt x="1059" y="717"/>
                    <a:pt x="1073" y="628"/>
                  </a:cubicBezTo>
                  <a:cubicBezTo>
                    <a:pt x="1010" y="605"/>
                    <a:pt x="1088" y="641"/>
                    <a:pt x="1073" y="598"/>
                  </a:cubicBezTo>
                  <a:cubicBezTo>
                    <a:pt x="1068" y="584"/>
                    <a:pt x="1048" y="584"/>
                    <a:pt x="1036" y="576"/>
                  </a:cubicBezTo>
                  <a:cubicBezTo>
                    <a:pt x="1026" y="569"/>
                    <a:pt x="1017" y="561"/>
                    <a:pt x="1007" y="554"/>
                  </a:cubicBezTo>
                  <a:cubicBezTo>
                    <a:pt x="1027" y="549"/>
                    <a:pt x="1050" y="552"/>
                    <a:pt x="1066" y="539"/>
                  </a:cubicBezTo>
                  <a:cubicBezTo>
                    <a:pt x="1073" y="533"/>
                    <a:pt x="1055" y="525"/>
                    <a:pt x="1051" y="517"/>
                  </a:cubicBezTo>
                  <a:cubicBezTo>
                    <a:pt x="1033" y="486"/>
                    <a:pt x="1012" y="472"/>
                    <a:pt x="992" y="443"/>
                  </a:cubicBezTo>
                  <a:cubicBezTo>
                    <a:pt x="1004" y="438"/>
                    <a:pt x="1016" y="428"/>
                    <a:pt x="1029" y="428"/>
                  </a:cubicBezTo>
                  <a:cubicBezTo>
                    <a:pt x="1109" y="428"/>
                    <a:pt x="1085" y="470"/>
                    <a:pt x="1103" y="421"/>
                  </a:cubicBezTo>
                  <a:cubicBezTo>
                    <a:pt x="1091" y="406"/>
                    <a:pt x="1062" y="372"/>
                    <a:pt x="1051" y="354"/>
                  </a:cubicBezTo>
                  <a:cubicBezTo>
                    <a:pt x="1045" y="345"/>
                    <a:pt x="1028" y="332"/>
                    <a:pt x="1036" y="325"/>
                  </a:cubicBezTo>
                  <a:cubicBezTo>
                    <a:pt x="1039" y="322"/>
                    <a:pt x="1083" y="351"/>
                    <a:pt x="1088" y="354"/>
                  </a:cubicBezTo>
                  <a:cubicBezTo>
                    <a:pt x="1101" y="409"/>
                    <a:pt x="1144" y="424"/>
                    <a:pt x="1066" y="399"/>
                  </a:cubicBezTo>
                  <a:cubicBezTo>
                    <a:pt x="1059" y="392"/>
                    <a:pt x="1052" y="383"/>
                    <a:pt x="1044" y="377"/>
                  </a:cubicBezTo>
                  <a:cubicBezTo>
                    <a:pt x="1032" y="368"/>
                    <a:pt x="1018" y="364"/>
                    <a:pt x="1007" y="354"/>
                  </a:cubicBezTo>
                  <a:cubicBezTo>
                    <a:pt x="1000" y="348"/>
                    <a:pt x="989" y="324"/>
                    <a:pt x="992" y="332"/>
                  </a:cubicBezTo>
                  <a:cubicBezTo>
                    <a:pt x="1002" y="365"/>
                    <a:pt x="1020" y="394"/>
                    <a:pt x="1029" y="428"/>
                  </a:cubicBezTo>
                  <a:cubicBezTo>
                    <a:pt x="1023" y="375"/>
                    <a:pt x="1021" y="327"/>
                    <a:pt x="992" y="281"/>
                  </a:cubicBezTo>
                  <a:cubicBezTo>
                    <a:pt x="985" y="270"/>
                    <a:pt x="977" y="262"/>
                    <a:pt x="970" y="251"/>
                  </a:cubicBezTo>
                  <a:cubicBezTo>
                    <a:pt x="964" y="241"/>
                    <a:pt x="944" y="224"/>
                    <a:pt x="955" y="221"/>
                  </a:cubicBezTo>
                  <a:cubicBezTo>
                    <a:pt x="969" y="217"/>
                    <a:pt x="980" y="236"/>
                    <a:pt x="992" y="244"/>
                  </a:cubicBezTo>
                  <a:cubicBezTo>
                    <a:pt x="994" y="254"/>
                    <a:pt x="995" y="264"/>
                    <a:pt x="999" y="273"/>
                  </a:cubicBezTo>
                  <a:cubicBezTo>
                    <a:pt x="1003" y="281"/>
                    <a:pt x="1007" y="301"/>
                    <a:pt x="1014" y="295"/>
                  </a:cubicBezTo>
                  <a:cubicBezTo>
                    <a:pt x="1030" y="281"/>
                    <a:pt x="963" y="216"/>
                    <a:pt x="977" y="221"/>
                  </a:cubicBezTo>
                  <a:cubicBezTo>
                    <a:pt x="984" y="224"/>
                    <a:pt x="992" y="226"/>
                    <a:pt x="999" y="229"/>
                  </a:cubicBezTo>
                  <a:cubicBezTo>
                    <a:pt x="1008" y="242"/>
                    <a:pt x="1050" y="302"/>
                    <a:pt x="999" y="251"/>
                  </a:cubicBezTo>
                  <a:cubicBezTo>
                    <a:pt x="997" y="244"/>
                    <a:pt x="997" y="235"/>
                    <a:pt x="992" y="229"/>
                  </a:cubicBezTo>
                  <a:cubicBezTo>
                    <a:pt x="974" y="206"/>
                    <a:pt x="948" y="219"/>
                    <a:pt x="999" y="207"/>
                  </a:cubicBezTo>
                  <a:cubicBezTo>
                    <a:pt x="1016" y="219"/>
                    <a:pt x="1034" y="232"/>
                    <a:pt x="1051" y="244"/>
                  </a:cubicBezTo>
                  <a:cubicBezTo>
                    <a:pt x="1058" y="249"/>
                    <a:pt x="1074" y="270"/>
                    <a:pt x="1066" y="266"/>
                  </a:cubicBezTo>
                  <a:cubicBezTo>
                    <a:pt x="1041" y="255"/>
                    <a:pt x="1025" y="229"/>
                    <a:pt x="999" y="221"/>
                  </a:cubicBezTo>
                  <a:cubicBezTo>
                    <a:pt x="992" y="219"/>
                    <a:pt x="984" y="216"/>
                    <a:pt x="977" y="214"/>
                  </a:cubicBezTo>
                  <a:cubicBezTo>
                    <a:pt x="917" y="173"/>
                    <a:pt x="1012" y="217"/>
                    <a:pt x="1029" y="221"/>
                  </a:cubicBezTo>
                  <a:cubicBezTo>
                    <a:pt x="1036" y="229"/>
                    <a:pt x="1042" y="238"/>
                    <a:pt x="1051" y="244"/>
                  </a:cubicBezTo>
                  <a:cubicBezTo>
                    <a:pt x="1060" y="250"/>
                    <a:pt x="1085" y="268"/>
                    <a:pt x="1080" y="258"/>
                  </a:cubicBezTo>
                  <a:cubicBezTo>
                    <a:pt x="1073" y="244"/>
                    <a:pt x="1055" y="239"/>
                    <a:pt x="1044" y="229"/>
                  </a:cubicBezTo>
                  <a:cubicBezTo>
                    <a:pt x="1018" y="205"/>
                    <a:pt x="1007" y="187"/>
                    <a:pt x="977" y="170"/>
                  </a:cubicBezTo>
                  <a:cubicBezTo>
                    <a:pt x="965" y="164"/>
                    <a:pt x="952" y="161"/>
                    <a:pt x="940" y="155"/>
                  </a:cubicBezTo>
                  <a:cubicBezTo>
                    <a:pt x="932" y="151"/>
                    <a:pt x="910" y="143"/>
                    <a:pt x="918" y="140"/>
                  </a:cubicBezTo>
                  <a:cubicBezTo>
                    <a:pt x="923" y="138"/>
                    <a:pt x="981" y="152"/>
                    <a:pt x="992" y="155"/>
                  </a:cubicBezTo>
                  <a:cubicBezTo>
                    <a:pt x="1002" y="162"/>
                    <a:pt x="1030" y="169"/>
                    <a:pt x="1021" y="177"/>
                  </a:cubicBezTo>
                  <a:cubicBezTo>
                    <a:pt x="1011" y="186"/>
                    <a:pt x="996" y="167"/>
                    <a:pt x="984" y="162"/>
                  </a:cubicBezTo>
                  <a:cubicBezTo>
                    <a:pt x="915" y="136"/>
                    <a:pt x="1043" y="196"/>
                    <a:pt x="888" y="118"/>
                  </a:cubicBezTo>
                  <a:cubicBezTo>
                    <a:pt x="803" y="75"/>
                    <a:pt x="930" y="111"/>
                    <a:pt x="837" y="89"/>
                  </a:cubicBezTo>
                  <a:cubicBezTo>
                    <a:pt x="899" y="72"/>
                    <a:pt x="967" y="122"/>
                    <a:pt x="1021" y="148"/>
                  </a:cubicBezTo>
                  <a:cubicBezTo>
                    <a:pt x="1036" y="155"/>
                    <a:pt x="992" y="131"/>
                    <a:pt x="977" y="125"/>
                  </a:cubicBezTo>
                  <a:cubicBezTo>
                    <a:pt x="923" y="102"/>
                    <a:pt x="877" y="73"/>
                    <a:pt x="822" y="52"/>
                  </a:cubicBezTo>
                  <a:cubicBezTo>
                    <a:pt x="812" y="44"/>
                    <a:pt x="802" y="36"/>
                    <a:pt x="792" y="29"/>
                  </a:cubicBezTo>
                  <a:cubicBezTo>
                    <a:pt x="785" y="24"/>
                    <a:pt x="765" y="22"/>
                    <a:pt x="770" y="15"/>
                  </a:cubicBezTo>
                  <a:cubicBezTo>
                    <a:pt x="777" y="5"/>
                    <a:pt x="795" y="10"/>
                    <a:pt x="807" y="7"/>
                  </a:cubicBezTo>
                  <a:cubicBezTo>
                    <a:pt x="844" y="34"/>
                    <a:pt x="874" y="52"/>
                    <a:pt x="918" y="66"/>
                  </a:cubicBezTo>
                  <a:cubicBezTo>
                    <a:pt x="925" y="71"/>
                    <a:pt x="934" y="75"/>
                    <a:pt x="940" y="81"/>
                  </a:cubicBezTo>
                  <a:cubicBezTo>
                    <a:pt x="946" y="87"/>
                    <a:pt x="964" y="103"/>
                    <a:pt x="955" y="103"/>
                  </a:cubicBezTo>
                  <a:cubicBezTo>
                    <a:pt x="901" y="103"/>
                    <a:pt x="820" y="58"/>
                    <a:pt x="770" y="37"/>
                  </a:cubicBezTo>
                  <a:cubicBezTo>
                    <a:pt x="755" y="31"/>
                    <a:pt x="741" y="21"/>
                    <a:pt x="726" y="15"/>
                  </a:cubicBezTo>
                  <a:cubicBezTo>
                    <a:pt x="712" y="9"/>
                    <a:pt x="667" y="0"/>
                    <a:pt x="682" y="0"/>
                  </a:cubicBezTo>
                  <a:cubicBezTo>
                    <a:pt x="705" y="0"/>
                    <a:pt x="726" y="10"/>
                    <a:pt x="748" y="15"/>
                  </a:cubicBezTo>
                  <a:cubicBezTo>
                    <a:pt x="797" y="47"/>
                    <a:pt x="832" y="94"/>
                    <a:pt x="881" y="125"/>
                  </a:cubicBezTo>
                  <a:cubicBezTo>
                    <a:pt x="838" y="148"/>
                    <a:pt x="801" y="154"/>
                    <a:pt x="756" y="170"/>
                  </a:cubicBezTo>
                  <a:cubicBezTo>
                    <a:pt x="808" y="183"/>
                    <a:pt x="860" y="190"/>
                    <a:pt x="911" y="207"/>
                  </a:cubicBezTo>
                  <a:cubicBezTo>
                    <a:pt x="923" y="211"/>
                    <a:pt x="886" y="201"/>
                    <a:pt x="874" y="199"/>
                  </a:cubicBezTo>
                  <a:cubicBezTo>
                    <a:pt x="830" y="191"/>
                    <a:pt x="785" y="185"/>
                    <a:pt x="741" y="177"/>
                  </a:cubicBezTo>
                  <a:cubicBezTo>
                    <a:pt x="731" y="175"/>
                    <a:pt x="721" y="173"/>
                    <a:pt x="711" y="170"/>
                  </a:cubicBezTo>
                  <a:cubicBezTo>
                    <a:pt x="701" y="168"/>
                    <a:pt x="672" y="162"/>
                    <a:pt x="682" y="162"/>
                  </a:cubicBezTo>
                  <a:cubicBezTo>
                    <a:pt x="726" y="162"/>
                    <a:pt x="859" y="170"/>
                    <a:pt x="815" y="170"/>
                  </a:cubicBezTo>
                  <a:cubicBezTo>
                    <a:pt x="753" y="170"/>
                    <a:pt x="692" y="165"/>
                    <a:pt x="630" y="162"/>
                  </a:cubicBezTo>
                  <a:cubicBezTo>
                    <a:pt x="570" y="128"/>
                    <a:pt x="529" y="125"/>
                    <a:pt x="460" y="118"/>
                  </a:cubicBezTo>
                  <a:cubicBezTo>
                    <a:pt x="376" y="74"/>
                    <a:pt x="509" y="123"/>
                    <a:pt x="534" y="133"/>
                  </a:cubicBezTo>
                  <a:cubicBezTo>
                    <a:pt x="544" y="137"/>
                    <a:pt x="554" y="143"/>
                    <a:pt x="564" y="148"/>
                  </a:cubicBezTo>
                  <a:cubicBezTo>
                    <a:pt x="510" y="164"/>
                    <a:pt x="555" y="155"/>
                    <a:pt x="453" y="133"/>
                  </a:cubicBezTo>
                  <a:cubicBezTo>
                    <a:pt x="441" y="130"/>
                    <a:pt x="428" y="128"/>
                    <a:pt x="416" y="125"/>
                  </a:cubicBezTo>
                  <a:cubicBezTo>
                    <a:pt x="409" y="123"/>
                    <a:pt x="386" y="117"/>
                    <a:pt x="394" y="118"/>
                  </a:cubicBezTo>
                  <a:cubicBezTo>
                    <a:pt x="451" y="127"/>
                    <a:pt x="507" y="138"/>
                    <a:pt x="564" y="148"/>
                  </a:cubicBezTo>
                  <a:cubicBezTo>
                    <a:pt x="578" y="150"/>
                    <a:pt x="631" y="170"/>
                    <a:pt x="645" y="177"/>
                  </a:cubicBezTo>
                  <a:cubicBezTo>
                    <a:pt x="653" y="181"/>
                    <a:pt x="676" y="193"/>
                    <a:pt x="667" y="192"/>
                  </a:cubicBezTo>
                  <a:cubicBezTo>
                    <a:pt x="622" y="189"/>
                    <a:pt x="578" y="177"/>
                    <a:pt x="534" y="170"/>
                  </a:cubicBezTo>
                  <a:cubicBezTo>
                    <a:pt x="522" y="168"/>
                    <a:pt x="509" y="165"/>
                    <a:pt x="497" y="162"/>
                  </a:cubicBezTo>
                  <a:cubicBezTo>
                    <a:pt x="485" y="160"/>
                    <a:pt x="448" y="153"/>
                    <a:pt x="460" y="155"/>
                  </a:cubicBezTo>
                  <a:cubicBezTo>
                    <a:pt x="657" y="182"/>
                    <a:pt x="469" y="161"/>
                    <a:pt x="623" y="177"/>
                  </a:cubicBezTo>
                  <a:cubicBezTo>
                    <a:pt x="630" y="182"/>
                    <a:pt x="654" y="191"/>
                    <a:pt x="645" y="192"/>
                  </a:cubicBezTo>
                  <a:cubicBezTo>
                    <a:pt x="586" y="201"/>
                    <a:pt x="525" y="171"/>
                    <a:pt x="468" y="162"/>
                  </a:cubicBezTo>
                  <a:cubicBezTo>
                    <a:pt x="439" y="157"/>
                    <a:pt x="409" y="157"/>
                    <a:pt x="379" y="155"/>
                  </a:cubicBezTo>
                  <a:cubicBezTo>
                    <a:pt x="367" y="153"/>
                    <a:pt x="329" y="147"/>
                    <a:pt x="342" y="148"/>
                  </a:cubicBezTo>
                  <a:cubicBezTo>
                    <a:pt x="391" y="151"/>
                    <a:pt x="441" y="156"/>
                    <a:pt x="490" y="162"/>
                  </a:cubicBezTo>
                  <a:cubicBezTo>
                    <a:pt x="498" y="163"/>
                    <a:pt x="520" y="170"/>
                    <a:pt x="512" y="170"/>
                  </a:cubicBezTo>
                  <a:cubicBezTo>
                    <a:pt x="468" y="170"/>
                    <a:pt x="423" y="165"/>
                    <a:pt x="379" y="162"/>
                  </a:cubicBezTo>
                  <a:cubicBezTo>
                    <a:pt x="340" y="152"/>
                    <a:pt x="300" y="143"/>
                    <a:pt x="261" y="133"/>
                  </a:cubicBezTo>
                  <a:cubicBezTo>
                    <a:pt x="237" y="127"/>
                    <a:pt x="212" y="128"/>
                    <a:pt x="187" y="125"/>
                  </a:cubicBezTo>
                  <a:cubicBezTo>
                    <a:pt x="172" y="123"/>
                    <a:pt x="129" y="113"/>
                    <a:pt x="143" y="118"/>
                  </a:cubicBezTo>
                  <a:cubicBezTo>
                    <a:pt x="212" y="143"/>
                    <a:pt x="287" y="142"/>
                    <a:pt x="349" y="185"/>
                  </a:cubicBezTo>
                  <a:cubicBezTo>
                    <a:pt x="342" y="187"/>
                    <a:pt x="334" y="194"/>
                    <a:pt x="327" y="192"/>
                  </a:cubicBezTo>
                  <a:cubicBezTo>
                    <a:pt x="313" y="188"/>
                    <a:pt x="303" y="175"/>
                    <a:pt x="290" y="170"/>
                  </a:cubicBezTo>
                  <a:cubicBezTo>
                    <a:pt x="278" y="165"/>
                    <a:pt x="265" y="165"/>
                    <a:pt x="253" y="162"/>
                  </a:cubicBezTo>
                  <a:cubicBezTo>
                    <a:pt x="162" y="141"/>
                    <a:pt x="180" y="147"/>
                    <a:pt x="276" y="155"/>
                  </a:cubicBezTo>
                  <a:cubicBezTo>
                    <a:pt x="293" y="160"/>
                    <a:pt x="310" y="164"/>
                    <a:pt x="327" y="170"/>
                  </a:cubicBezTo>
                  <a:cubicBezTo>
                    <a:pt x="337" y="174"/>
                    <a:pt x="360" y="174"/>
                    <a:pt x="357" y="185"/>
                  </a:cubicBezTo>
                  <a:cubicBezTo>
                    <a:pt x="353" y="197"/>
                    <a:pt x="332" y="190"/>
                    <a:pt x="320" y="192"/>
                  </a:cubicBezTo>
                  <a:cubicBezTo>
                    <a:pt x="245" y="173"/>
                    <a:pt x="174" y="167"/>
                    <a:pt x="98" y="155"/>
                  </a:cubicBezTo>
                  <a:cubicBezTo>
                    <a:pt x="91" y="153"/>
                    <a:pt x="83" y="151"/>
                    <a:pt x="76" y="148"/>
                  </a:cubicBezTo>
                  <a:cubicBezTo>
                    <a:pt x="64" y="143"/>
                    <a:pt x="52" y="137"/>
                    <a:pt x="39" y="133"/>
                  </a:cubicBezTo>
                  <a:cubicBezTo>
                    <a:pt x="30" y="130"/>
                    <a:pt x="0" y="125"/>
                    <a:pt x="10" y="125"/>
                  </a:cubicBezTo>
                  <a:cubicBezTo>
                    <a:pt x="27" y="125"/>
                    <a:pt x="44" y="130"/>
                    <a:pt x="61" y="133"/>
                  </a:cubicBezTo>
                  <a:cubicBezTo>
                    <a:pt x="69" y="135"/>
                    <a:pt x="92" y="140"/>
                    <a:pt x="84" y="140"/>
                  </a:cubicBezTo>
                  <a:cubicBezTo>
                    <a:pt x="71" y="140"/>
                    <a:pt x="34" y="133"/>
                    <a:pt x="47" y="133"/>
                  </a:cubicBezTo>
                  <a:cubicBezTo>
                    <a:pt x="69" y="133"/>
                    <a:pt x="113" y="140"/>
                    <a:pt x="113" y="1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45"/>
            <p:cNvSpPr/>
            <p:nvPr/>
          </p:nvSpPr>
          <p:spPr>
            <a:xfrm>
              <a:off x="1084320" y="2185920"/>
              <a:ext cx="474480" cy="2932200"/>
            </a:xfrm>
            <a:custGeom>
              <a:avLst/>
              <a:gdLst/>
              <a:ahLst/>
              <a:rect l="l" t="t" r="r" b="b"/>
              <a:pathLst>
                <a:path w="299" h="1847">
                  <a:moveTo>
                    <a:pt x="299" y="0"/>
                  </a:moveTo>
                  <a:cubicBezTo>
                    <a:pt x="294" y="8"/>
                    <a:pt x="290" y="16"/>
                    <a:pt x="284" y="23"/>
                  </a:cubicBezTo>
                  <a:cubicBezTo>
                    <a:pt x="275" y="33"/>
                    <a:pt x="263" y="41"/>
                    <a:pt x="255" y="52"/>
                  </a:cubicBezTo>
                  <a:cubicBezTo>
                    <a:pt x="248" y="61"/>
                    <a:pt x="247" y="73"/>
                    <a:pt x="240" y="82"/>
                  </a:cubicBezTo>
                  <a:cubicBezTo>
                    <a:pt x="209" y="124"/>
                    <a:pt x="174" y="163"/>
                    <a:pt x="144" y="207"/>
                  </a:cubicBezTo>
                  <a:cubicBezTo>
                    <a:pt x="136" y="233"/>
                    <a:pt x="131" y="298"/>
                    <a:pt x="115" y="229"/>
                  </a:cubicBezTo>
                  <a:cubicBezTo>
                    <a:pt x="132" y="177"/>
                    <a:pt x="172" y="128"/>
                    <a:pt x="203" y="82"/>
                  </a:cubicBezTo>
                  <a:cubicBezTo>
                    <a:pt x="206" y="72"/>
                    <a:pt x="217" y="43"/>
                    <a:pt x="211" y="52"/>
                  </a:cubicBezTo>
                  <a:cubicBezTo>
                    <a:pt x="170" y="114"/>
                    <a:pt x="159" y="182"/>
                    <a:pt x="122" y="244"/>
                  </a:cubicBezTo>
                  <a:cubicBezTo>
                    <a:pt x="114" y="280"/>
                    <a:pt x="111" y="302"/>
                    <a:pt x="100" y="333"/>
                  </a:cubicBezTo>
                  <a:cubicBezTo>
                    <a:pt x="93" y="353"/>
                    <a:pt x="78" y="392"/>
                    <a:pt x="78" y="392"/>
                  </a:cubicBezTo>
                  <a:cubicBezTo>
                    <a:pt x="75" y="385"/>
                    <a:pt x="69" y="378"/>
                    <a:pt x="70" y="370"/>
                  </a:cubicBezTo>
                  <a:cubicBezTo>
                    <a:pt x="73" y="338"/>
                    <a:pt x="102" y="300"/>
                    <a:pt x="70" y="347"/>
                  </a:cubicBezTo>
                  <a:cubicBezTo>
                    <a:pt x="47" y="422"/>
                    <a:pt x="35" y="497"/>
                    <a:pt x="26" y="576"/>
                  </a:cubicBezTo>
                  <a:cubicBezTo>
                    <a:pt x="28" y="588"/>
                    <a:pt x="21" y="610"/>
                    <a:pt x="33" y="613"/>
                  </a:cubicBezTo>
                  <a:cubicBezTo>
                    <a:pt x="45" y="616"/>
                    <a:pt x="53" y="572"/>
                    <a:pt x="55" y="584"/>
                  </a:cubicBezTo>
                  <a:cubicBezTo>
                    <a:pt x="61" y="625"/>
                    <a:pt x="51" y="667"/>
                    <a:pt x="48" y="709"/>
                  </a:cubicBezTo>
                  <a:cubicBezTo>
                    <a:pt x="47" y="724"/>
                    <a:pt x="43" y="739"/>
                    <a:pt x="41" y="754"/>
                  </a:cubicBezTo>
                  <a:cubicBezTo>
                    <a:pt x="38" y="783"/>
                    <a:pt x="33" y="871"/>
                    <a:pt x="33" y="842"/>
                  </a:cubicBezTo>
                  <a:cubicBezTo>
                    <a:pt x="33" y="800"/>
                    <a:pt x="59" y="755"/>
                    <a:pt x="41" y="717"/>
                  </a:cubicBezTo>
                  <a:cubicBezTo>
                    <a:pt x="25" y="683"/>
                    <a:pt x="31" y="790"/>
                    <a:pt x="26" y="827"/>
                  </a:cubicBezTo>
                  <a:cubicBezTo>
                    <a:pt x="17" y="898"/>
                    <a:pt x="17" y="907"/>
                    <a:pt x="11" y="990"/>
                  </a:cubicBezTo>
                  <a:cubicBezTo>
                    <a:pt x="14" y="1007"/>
                    <a:pt x="9" y="1028"/>
                    <a:pt x="19" y="1042"/>
                  </a:cubicBezTo>
                  <a:cubicBezTo>
                    <a:pt x="25" y="1050"/>
                    <a:pt x="24" y="1022"/>
                    <a:pt x="26" y="1012"/>
                  </a:cubicBezTo>
                  <a:cubicBezTo>
                    <a:pt x="33" y="975"/>
                    <a:pt x="41" y="938"/>
                    <a:pt x="48" y="901"/>
                  </a:cubicBezTo>
                  <a:cubicBezTo>
                    <a:pt x="46" y="980"/>
                    <a:pt x="50" y="1059"/>
                    <a:pt x="41" y="1138"/>
                  </a:cubicBezTo>
                  <a:cubicBezTo>
                    <a:pt x="39" y="1154"/>
                    <a:pt x="26" y="1093"/>
                    <a:pt x="26" y="1093"/>
                  </a:cubicBezTo>
                  <a:cubicBezTo>
                    <a:pt x="30" y="1324"/>
                    <a:pt x="0" y="1562"/>
                    <a:pt x="129" y="1765"/>
                  </a:cubicBezTo>
                  <a:cubicBezTo>
                    <a:pt x="144" y="1710"/>
                    <a:pt x="132" y="1658"/>
                    <a:pt x="122" y="1603"/>
                  </a:cubicBezTo>
                  <a:cubicBezTo>
                    <a:pt x="116" y="1571"/>
                    <a:pt x="104" y="1475"/>
                    <a:pt x="107" y="1507"/>
                  </a:cubicBezTo>
                  <a:cubicBezTo>
                    <a:pt x="118" y="1616"/>
                    <a:pt x="126" y="1703"/>
                    <a:pt x="166" y="1802"/>
                  </a:cubicBezTo>
                  <a:cubicBezTo>
                    <a:pt x="178" y="1746"/>
                    <a:pt x="159" y="1729"/>
                    <a:pt x="137" y="1677"/>
                  </a:cubicBezTo>
                  <a:cubicBezTo>
                    <a:pt x="127" y="1653"/>
                    <a:pt x="107" y="1603"/>
                    <a:pt x="107" y="1603"/>
                  </a:cubicBezTo>
                  <a:cubicBezTo>
                    <a:pt x="116" y="1698"/>
                    <a:pt x="118" y="1675"/>
                    <a:pt x="137" y="1743"/>
                  </a:cubicBezTo>
                  <a:cubicBezTo>
                    <a:pt x="146" y="1817"/>
                    <a:pt x="144" y="1782"/>
                    <a:pt x="144" y="184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46"/>
            <p:cNvSpPr/>
            <p:nvPr/>
          </p:nvSpPr>
          <p:spPr>
            <a:xfrm>
              <a:off x="-163440" y="1905120"/>
              <a:ext cx="866880" cy="3335040"/>
            </a:xfrm>
            <a:custGeom>
              <a:avLst/>
              <a:gdLst/>
              <a:ahLst/>
              <a:rect l="l" t="t" r="r" b="b"/>
              <a:pathLst>
                <a:path w="546" h="2101">
                  <a:moveTo>
                    <a:pt x="480" y="1950"/>
                  </a:moveTo>
                  <a:cubicBezTo>
                    <a:pt x="482" y="1923"/>
                    <a:pt x="487" y="1868"/>
                    <a:pt x="487" y="1868"/>
                  </a:cubicBezTo>
                  <a:cubicBezTo>
                    <a:pt x="480" y="1919"/>
                    <a:pt x="474" y="1976"/>
                    <a:pt x="457" y="2024"/>
                  </a:cubicBezTo>
                  <a:cubicBezTo>
                    <a:pt x="425" y="1918"/>
                    <a:pt x="478" y="2101"/>
                    <a:pt x="443" y="1772"/>
                  </a:cubicBezTo>
                  <a:cubicBezTo>
                    <a:pt x="440" y="1742"/>
                    <a:pt x="438" y="1831"/>
                    <a:pt x="435" y="1861"/>
                  </a:cubicBezTo>
                  <a:cubicBezTo>
                    <a:pt x="430" y="1905"/>
                    <a:pt x="424" y="1951"/>
                    <a:pt x="413" y="1994"/>
                  </a:cubicBezTo>
                  <a:cubicBezTo>
                    <a:pt x="407" y="2016"/>
                    <a:pt x="393" y="2082"/>
                    <a:pt x="398" y="2060"/>
                  </a:cubicBezTo>
                  <a:cubicBezTo>
                    <a:pt x="404" y="2036"/>
                    <a:pt x="409" y="2011"/>
                    <a:pt x="413" y="1987"/>
                  </a:cubicBezTo>
                  <a:cubicBezTo>
                    <a:pt x="416" y="1967"/>
                    <a:pt x="417" y="1947"/>
                    <a:pt x="421" y="1928"/>
                  </a:cubicBezTo>
                  <a:cubicBezTo>
                    <a:pt x="440" y="1843"/>
                    <a:pt x="469" y="1759"/>
                    <a:pt x="494" y="1676"/>
                  </a:cubicBezTo>
                  <a:cubicBezTo>
                    <a:pt x="498" y="1661"/>
                    <a:pt x="490" y="1706"/>
                    <a:pt x="487" y="1721"/>
                  </a:cubicBezTo>
                  <a:cubicBezTo>
                    <a:pt x="483" y="1741"/>
                    <a:pt x="476" y="1760"/>
                    <a:pt x="472" y="1780"/>
                  </a:cubicBezTo>
                  <a:cubicBezTo>
                    <a:pt x="457" y="1855"/>
                    <a:pt x="451" y="1936"/>
                    <a:pt x="428" y="2009"/>
                  </a:cubicBezTo>
                  <a:cubicBezTo>
                    <a:pt x="455" y="1468"/>
                    <a:pt x="423" y="1871"/>
                    <a:pt x="457" y="1632"/>
                  </a:cubicBezTo>
                  <a:cubicBezTo>
                    <a:pt x="500" y="1331"/>
                    <a:pt x="432" y="1752"/>
                    <a:pt x="480" y="1499"/>
                  </a:cubicBezTo>
                  <a:cubicBezTo>
                    <a:pt x="481" y="1491"/>
                    <a:pt x="475" y="1514"/>
                    <a:pt x="472" y="1521"/>
                  </a:cubicBezTo>
                  <a:cubicBezTo>
                    <a:pt x="464" y="1578"/>
                    <a:pt x="461" y="1635"/>
                    <a:pt x="450" y="1691"/>
                  </a:cubicBezTo>
                  <a:cubicBezTo>
                    <a:pt x="456" y="1620"/>
                    <a:pt x="463" y="1553"/>
                    <a:pt x="480" y="1484"/>
                  </a:cubicBezTo>
                  <a:cubicBezTo>
                    <a:pt x="482" y="1464"/>
                    <a:pt x="487" y="1445"/>
                    <a:pt x="487" y="1425"/>
                  </a:cubicBezTo>
                  <a:cubicBezTo>
                    <a:pt x="487" y="1386"/>
                    <a:pt x="487" y="1346"/>
                    <a:pt x="480" y="1307"/>
                  </a:cubicBezTo>
                  <a:cubicBezTo>
                    <a:pt x="478" y="1297"/>
                    <a:pt x="474" y="1327"/>
                    <a:pt x="472" y="1337"/>
                  </a:cubicBezTo>
                  <a:cubicBezTo>
                    <a:pt x="469" y="1349"/>
                    <a:pt x="467" y="1362"/>
                    <a:pt x="465" y="1374"/>
                  </a:cubicBezTo>
                  <a:cubicBezTo>
                    <a:pt x="455" y="1435"/>
                    <a:pt x="448" y="1497"/>
                    <a:pt x="435" y="1558"/>
                  </a:cubicBezTo>
                  <a:cubicBezTo>
                    <a:pt x="440" y="1568"/>
                    <a:pt x="441" y="1595"/>
                    <a:pt x="450" y="1588"/>
                  </a:cubicBezTo>
                  <a:cubicBezTo>
                    <a:pt x="468" y="1574"/>
                    <a:pt x="483" y="1468"/>
                    <a:pt x="487" y="1455"/>
                  </a:cubicBezTo>
                  <a:cubicBezTo>
                    <a:pt x="494" y="1434"/>
                    <a:pt x="509" y="1417"/>
                    <a:pt x="517" y="1396"/>
                  </a:cubicBezTo>
                  <a:cubicBezTo>
                    <a:pt x="534" y="1354"/>
                    <a:pt x="535" y="1307"/>
                    <a:pt x="546" y="1263"/>
                  </a:cubicBezTo>
                  <a:cubicBezTo>
                    <a:pt x="537" y="1363"/>
                    <a:pt x="540" y="1468"/>
                    <a:pt x="517" y="1566"/>
                  </a:cubicBezTo>
                  <a:cubicBezTo>
                    <a:pt x="485" y="1419"/>
                    <a:pt x="525" y="1258"/>
                    <a:pt x="480" y="1115"/>
                  </a:cubicBezTo>
                  <a:cubicBezTo>
                    <a:pt x="459" y="1194"/>
                    <a:pt x="435" y="1300"/>
                    <a:pt x="443" y="1381"/>
                  </a:cubicBezTo>
                  <a:cubicBezTo>
                    <a:pt x="444" y="1390"/>
                    <a:pt x="452" y="1366"/>
                    <a:pt x="457" y="1359"/>
                  </a:cubicBezTo>
                  <a:cubicBezTo>
                    <a:pt x="479" y="1281"/>
                    <a:pt x="485" y="1202"/>
                    <a:pt x="502" y="1123"/>
                  </a:cubicBezTo>
                  <a:cubicBezTo>
                    <a:pt x="499" y="1184"/>
                    <a:pt x="511" y="1366"/>
                    <a:pt x="494" y="1307"/>
                  </a:cubicBezTo>
                  <a:cubicBezTo>
                    <a:pt x="472" y="1231"/>
                    <a:pt x="494" y="1149"/>
                    <a:pt x="487" y="1071"/>
                  </a:cubicBezTo>
                  <a:cubicBezTo>
                    <a:pt x="485" y="1044"/>
                    <a:pt x="483" y="1125"/>
                    <a:pt x="480" y="1152"/>
                  </a:cubicBezTo>
                  <a:cubicBezTo>
                    <a:pt x="478" y="1177"/>
                    <a:pt x="476" y="1201"/>
                    <a:pt x="472" y="1226"/>
                  </a:cubicBezTo>
                  <a:cubicBezTo>
                    <a:pt x="471" y="1236"/>
                    <a:pt x="468" y="1246"/>
                    <a:pt x="465" y="1256"/>
                  </a:cubicBezTo>
                  <a:cubicBezTo>
                    <a:pt x="463" y="1263"/>
                    <a:pt x="457" y="1286"/>
                    <a:pt x="457" y="1278"/>
                  </a:cubicBezTo>
                  <a:cubicBezTo>
                    <a:pt x="457" y="1233"/>
                    <a:pt x="473" y="1189"/>
                    <a:pt x="480" y="1145"/>
                  </a:cubicBezTo>
                  <a:cubicBezTo>
                    <a:pt x="490" y="1081"/>
                    <a:pt x="489" y="1084"/>
                    <a:pt x="480" y="1160"/>
                  </a:cubicBezTo>
                  <a:cubicBezTo>
                    <a:pt x="475" y="1125"/>
                    <a:pt x="467" y="1091"/>
                    <a:pt x="465" y="1056"/>
                  </a:cubicBezTo>
                  <a:cubicBezTo>
                    <a:pt x="465" y="1048"/>
                    <a:pt x="471" y="1042"/>
                    <a:pt x="472" y="1034"/>
                  </a:cubicBezTo>
                  <a:cubicBezTo>
                    <a:pt x="478" y="997"/>
                    <a:pt x="487" y="923"/>
                    <a:pt x="487" y="923"/>
                  </a:cubicBezTo>
                  <a:cubicBezTo>
                    <a:pt x="508" y="564"/>
                    <a:pt x="504" y="601"/>
                    <a:pt x="487" y="1603"/>
                  </a:cubicBezTo>
                  <a:cubicBezTo>
                    <a:pt x="486" y="1655"/>
                    <a:pt x="459" y="1738"/>
                    <a:pt x="443" y="1787"/>
                  </a:cubicBezTo>
                  <a:cubicBezTo>
                    <a:pt x="445" y="1620"/>
                    <a:pt x="447" y="1452"/>
                    <a:pt x="450" y="1285"/>
                  </a:cubicBezTo>
                  <a:cubicBezTo>
                    <a:pt x="455" y="984"/>
                    <a:pt x="424" y="907"/>
                    <a:pt x="465" y="1019"/>
                  </a:cubicBezTo>
                  <a:cubicBezTo>
                    <a:pt x="448" y="848"/>
                    <a:pt x="426" y="822"/>
                    <a:pt x="502" y="923"/>
                  </a:cubicBezTo>
                  <a:cubicBezTo>
                    <a:pt x="492" y="887"/>
                    <a:pt x="472" y="842"/>
                    <a:pt x="472" y="805"/>
                  </a:cubicBezTo>
                  <a:cubicBezTo>
                    <a:pt x="472" y="797"/>
                    <a:pt x="477" y="820"/>
                    <a:pt x="480" y="827"/>
                  </a:cubicBezTo>
                  <a:cubicBezTo>
                    <a:pt x="477" y="780"/>
                    <a:pt x="466" y="733"/>
                    <a:pt x="472" y="687"/>
                  </a:cubicBezTo>
                  <a:cubicBezTo>
                    <a:pt x="474" y="675"/>
                    <a:pt x="492" y="728"/>
                    <a:pt x="494" y="716"/>
                  </a:cubicBezTo>
                  <a:cubicBezTo>
                    <a:pt x="500" y="675"/>
                    <a:pt x="489" y="633"/>
                    <a:pt x="487" y="591"/>
                  </a:cubicBezTo>
                  <a:cubicBezTo>
                    <a:pt x="477" y="631"/>
                    <a:pt x="489" y="635"/>
                    <a:pt x="502" y="672"/>
                  </a:cubicBezTo>
                  <a:cubicBezTo>
                    <a:pt x="495" y="717"/>
                    <a:pt x="486" y="760"/>
                    <a:pt x="480" y="805"/>
                  </a:cubicBezTo>
                  <a:cubicBezTo>
                    <a:pt x="477" y="785"/>
                    <a:pt x="467" y="765"/>
                    <a:pt x="472" y="746"/>
                  </a:cubicBezTo>
                  <a:cubicBezTo>
                    <a:pt x="475" y="735"/>
                    <a:pt x="487" y="787"/>
                    <a:pt x="487" y="776"/>
                  </a:cubicBezTo>
                  <a:cubicBezTo>
                    <a:pt x="487" y="716"/>
                    <a:pt x="455" y="654"/>
                    <a:pt x="435" y="598"/>
                  </a:cubicBezTo>
                  <a:cubicBezTo>
                    <a:pt x="431" y="588"/>
                    <a:pt x="425" y="579"/>
                    <a:pt x="421" y="569"/>
                  </a:cubicBezTo>
                  <a:cubicBezTo>
                    <a:pt x="418" y="562"/>
                    <a:pt x="407" y="543"/>
                    <a:pt x="413" y="547"/>
                  </a:cubicBezTo>
                  <a:cubicBezTo>
                    <a:pt x="426" y="556"/>
                    <a:pt x="433" y="572"/>
                    <a:pt x="443" y="584"/>
                  </a:cubicBezTo>
                  <a:cubicBezTo>
                    <a:pt x="480" y="701"/>
                    <a:pt x="456" y="643"/>
                    <a:pt x="465" y="399"/>
                  </a:cubicBezTo>
                  <a:cubicBezTo>
                    <a:pt x="486" y="430"/>
                    <a:pt x="488" y="457"/>
                    <a:pt x="494" y="495"/>
                  </a:cubicBezTo>
                  <a:cubicBezTo>
                    <a:pt x="492" y="542"/>
                    <a:pt x="491" y="588"/>
                    <a:pt x="487" y="635"/>
                  </a:cubicBezTo>
                  <a:cubicBezTo>
                    <a:pt x="486" y="650"/>
                    <a:pt x="480" y="695"/>
                    <a:pt x="480" y="680"/>
                  </a:cubicBezTo>
                  <a:cubicBezTo>
                    <a:pt x="480" y="626"/>
                    <a:pt x="494" y="569"/>
                    <a:pt x="509" y="517"/>
                  </a:cubicBezTo>
                  <a:cubicBezTo>
                    <a:pt x="512" y="468"/>
                    <a:pt x="513" y="418"/>
                    <a:pt x="517" y="369"/>
                  </a:cubicBezTo>
                  <a:cubicBezTo>
                    <a:pt x="518" y="356"/>
                    <a:pt x="524" y="319"/>
                    <a:pt x="524" y="332"/>
                  </a:cubicBezTo>
                  <a:cubicBezTo>
                    <a:pt x="524" y="483"/>
                    <a:pt x="524" y="475"/>
                    <a:pt x="502" y="569"/>
                  </a:cubicBezTo>
                  <a:cubicBezTo>
                    <a:pt x="499" y="500"/>
                    <a:pt x="502" y="431"/>
                    <a:pt x="494" y="362"/>
                  </a:cubicBezTo>
                  <a:cubicBezTo>
                    <a:pt x="491" y="335"/>
                    <a:pt x="490" y="416"/>
                    <a:pt x="487" y="443"/>
                  </a:cubicBezTo>
                  <a:cubicBezTo>
                    <a:pt x="482" y="485"/>
                    <a:pt x="478" y="529"/>
                    <a:pt x="465" y="569"/>
                  </a:cubicBezTo>
                  <a:cubicBezTo>
                    <a:pt x="471" y="480"/>
                    <a:pt x="484" y="396"/>
                    <a:pt x="509" y="310"/>
                  </a:cubicBezTo>
                  <a:cubicBezTo>
                    <a:pt x="507" y="337"/>
                    <a:pt x="506" y="365"/>
                    <a:pt x="502" y="392"/>
                  </a:cubicBezTo>
                  <a:cubicBezTo>
                    <a:pt x="501" y="400"/>
                    <a:pt x="494" y="422"/>
                    <a:pt x="494" y="414"/>
                  </a:cubicBezTo>
                  <a:cubicBezTo>
                    <a:pt x="494" y="394"/>
                    <a:pt x="499" y="375"/>
                    <a:pt x="502" y="355"/>
                  </a:cubicBezTo>
                  <a:cubicBezTo>
                    <a:pt x="493" y="285"/>
                    <a:pt x="497" y="273"/>
                    <a:pt x="487" y="340"/>
                  </a:cubicBezTo>
                  <a:cubicBezTo>
                    <a:pt x="478" y="403"/>
                    <a:pt x="486" y="374"/>
                    <a:pt x="472" y="414"/>
                  </a:cubicBezTo>
                  <a:cubicBezTo>
                    <a:pt x="461" y="366"/>
                    <a:pt x="472" y="318"/>
                    <a:pt x="465" y="266"/>
                  </a:cubicBezTo>
                  <a:cubicBezTo>
                    <a:pt x="463" y="253"/>
                    <a:pt x="444" y="229"/>
                    <a:pt x="457" y="229"/>
                  </a:cubicBezTo>
                  <a:cubicBezTo>
                    <a:pt x="478" y="229"/>
                    <a:pt x="524" y="281"/>
                    <a:pt x="509" y="266"/>
                  </a:cubicBezTo>
                  <a:cubicBezTo>
                    <a:pt x="501" y="258"/>
                    <a:pt x="435" y="207"/>
                    <a:pt x="428" y="207"/>
                  </a:cubicBezTo>
                  <a:cubicBezTo>
                    <a:pt x="418" y="207"/>
                    <a:pt x="460" y="231"/>
                    <a:pt x="450" y="229"/>
                  </a:cubicBezTo>
                  <a:cubicBezTo>
                    <a:pt x="428" y="225"/>
                    <a:pt x="370" y="195"/>
                    <a:pt x="391" y="200"/>
                  </a:cubicBezTo>
                  <a:cubicBezTo>
                    <a:pt x="401" y="202"/>
                    <a:pt x="411" y="205"/>
                    <a:pt x="421" y="207"/>
                  </a:cubicBezTo>
                  <a:cubicBezTo>
                    <a:pt x="428" y="217"/>
                    <a:pt x="437" y="225"/>
                    <a:pt x="443" y="236"/>
                  </a:cubicBezTo>
                  <a:cubicBezTo>
                    <a:pt x="447" y="243"/>
                    <a:pt x="454" y="266"/>
                    <a:pt x="450" y="259"/>
                  </a:cubicBezTo>
                  <a:cubicBezTo>
                    <a:pt x="416" y="203"/>
                    <a:pt x="434" y="209"/>
                    <a:pt x="398" y="170"/>
                  </a:cubicBezTo>
                  <a:cubicBezTo>
                    <a:pt x="338" y="105"/>
                    <a:pt x="307" y="95"/>
                    <a:pt x="391" y="126"/>
                  </a:cubicBezTo>
                  <a:cubicBezTo>
                    <a:pt x="401" y="133"/>
                    <a:pt x="412" y="139"/>
                    <a:pt x="421" y="148"/>
                  </a:cubicBezTo>
                  <a:cubicBezTo>
                    <a:pt x="427" y="154"/>
                    <a:pt x="444" y="170"/>
                    <a:pt x="435" y="170"/>
                  </a:cubicBezTo>
                  <a:cubicBezTo>
                    <a:pt x="423" y="170"/>
                    <a:pt x="417" y="153"/>
                    <a:pt x="406" y="148"/>
                  </a:cubicBezTo>
                  <a:cubicBezTo>
                    <a:pt x="397" y="143"/>
                    <a:pt x="386" y="143"/>
                    <a:pt x="376" y="140"/>
                  </a:cubicBezTo>
                  <a:cubicBezTo>
                    <a:pt x="369" y="135"/>
                    <a:pt x="362" y="130"/>
                    <a:pt x="354" y="126"/>
                  </a:cubicBezTo>
                  <a:cubicBezTo>
                    <a:pt x="347" y="123"/>
                    <a:pt x="325" y="114"/>
                    <a:pt x="332" y="118"/>
                  </a:cubicBezTo>
                  <a:cubicBezTo>
                    <a:pt x="357" y="134"/>
                    <a:pt x="373" y="139"/>
                    <a:pt x="398" y="148"/>
                  </a:cubicBezTo>
                  <a:cubicBezTo>
                    <a:pt x="452" y="228"/>
                    <a:pt x="423" y="180"/>
                    <a:pt x="369" y="163"/>
                  </a:cubicBezTo>
                  <a:cubicBezTo>
                    <a:pt x="345" y="144"/>
                    <a:pt x="322" y="126"/>
                    <a:pt x="295" y="111"/>
                  </a:cubicBezTo>
                  <a:cubicBezTo>
                    <a:pt x="266" y="95"/>
                    <a:pt x="236" y="82"/>
                    <a:pt x="206" y="67"/>
                  </a:cubicBezTo>
                  <a:cubicBezTo>
                    <a:pt x="198" y="63"/>
                    <a:pt x="178" y="58"/>
                    <a:pt x="184" y="52"/>
                  </a:cubicBezTo>
                  <a:cubicBezTo>
                    <a:pt x="191" y="45"/>
                    <a:pt x="204" y="57"/>
                    <a:pt x="214" y="59"/>
                  </a:cubicBezTo>
                  <a:cubicBezTo>
                    <a:pt x="245" y="78"/>
                    <a:pt x="278" y="94"/>
                    <a:pt x="310" y="111"/>
                  </a:cubicBezTo>
                  <a:cubicBezTo>
                    <a:pt x="313" y="113"/>
                    <a:pt x="304" y="107"/>
                    <a:pt x="302" y="104"/>
                  </a:cubicBezTo>
                  <a:cubicBezTo>
                    <a:pt x="295" y="96"/>
                    <a:pt x="289" y="86"/>
                    <a:pt x="280" y="81"/>
                  </a:cubicBezTo>
                  <a:cubicBezTo>
                    <a:pt x="269" y="75"/>
                    <a:pt x="255" y="76"/>
                    <a:pt x="243" y="74"/>
                  </a:cubicBezTo>
                  <a:cubicBezTo>
                    <a:pt x="236" y="67"/>
                    <a:pt x="228" y="59"/>
                    <a:pt x="221" y="52"/>
                  </a:cubicBezTo>
                  <a:cubicBezTo>
                    <a:pt x="216" y="47"/>
                    <a:pt x="236" y="56"/>
                    <a:pt x="243" y="59"/>
                  </a:cubicBezTo>
                  <a:cubicBezTo>
                    <a:pt x="256" y="65"/>
                    <a:pt x="267" y="75"/>
                    <a:pt x="280" y="81"/>
                  </a:cubicBezTo>
                  <a:cubicBezTo>
                    <a:pt x="289" y="85"/>
                    <a:pt x="317" y="96"/>
                    <a:pt x="310" y="89"/>
                  </a:cubicBezTo>
                  <a:cubicBezTo>
                    <a:pt x="301" y="80"/>
                    <a:pt x="285" y="80"/>
                    <a:pt x="273" y="74"/>
                  </a:cubicBezTo>
                  <a:cubicBezTo>
                    <a:pt x="223" y="51"/>
                    <a:pt x="177" y="19"/>
                    <a:pt x="125" y="0"/>
                  </a:cubicBezTo>
                  <a:cubicBezTo>
                    <a:pt x="135" y="7"/>
                    <a:pt x="144" y="16"/>
                    <a:pt x="155" y="22"/>
                  </a:cubicBezTo>
                  <a:cubicBezTo>
                    <a:pt x="169" y="30"/>
                    <a:pt x="260" y="72"/>
                    <a:pt x="184" y="44"/>
                  </a:cubicBezTo>
                  <a:cubicBezTo>
                    <a:pt x="174" y="40"/>
                    <a:pt x="165" y="33"/>
                    <a:pt x="155" y="30"/>
                  </a:cubicBezTo>
                  <a:cubicBezTo>
                    <a:pt x="131" y="23"/>
                    <a:pt x="105" y="21"/>
                    <a:pt x="81" y="15"/>
                  </a:cubicBezTo>
                  <a:cubicBezTo>
                    <a:pt x="64" y="17"/>
                    <a:pt x="41" y="10"/>
                    <a:pt x="29" y="22"/>
                  </a:cubicBezTo>
                  <a:cubicBezTo>
                    <a:pt x="20" y="31"/>
                    <a:pt x="54" y="26"/>
                    <a:pt x="66" y="30"/>
                  </a:cubicBezTo>
                  <a:cubicBezTo>
                    <a:pt x="100" y="43"/>
                    <a:pt x="126" y="65"/>
                    <a:pt x="162" y="74"/>
                  </a:cubicBezTo>
                  <a:cubicBezTo>
                    <a:pt x="194" y="96"/>
                    <a:pt x="231" y="107"/>
                    <a:pt x="265" y="126"/>
                  </a:cubicBezTo>
                  <a:cubicBezTo>
                    <a:pt x="326" y="160"/>
                    <a:pt x="377" y="200"/>
                    <a:pt x="443" y="222"/>
                  </a:cubicBezTo>
                  <a:cubicBezTo>
                    <a:pt x="476" y="265"/>
                    <a:pt x="455" y="244"/>
                    <a:pt x="509" y="281"/>
                  </a:cubicBezTo>
                  <a:cubicBezTo>
                    <a:pt x="522" y="290"/>
                    <a:pt x="490" y="256"/>
                    <a:pt x="480" y="244"/>
                  </a:cubicBezTo>
                  <a:cubicBezTo>
                    <a:pt x="446" y="205"/>
                    <a:pt x="417" y="170"/>
                    <a:pt x="391" y="126"/>
                  </a:cubicBezTo>
                  <a:cubicBezTo>
                    <a:pt x="386" y="118"/>
                    <a:pt x="383" y="110"/>
                    <a:pt x="376" y="104"/>
                  </a:cubicBezTo>
                  <a:cubicBezTo>
                    <a:pt x="370" y="99"/>
                    <a:pt x="346" y="96"/>
                    <a:pt x="354" y="96"/>
                  </a:cubicBezTo>
                  <a:cubicBezTo>
                    <a:pt x="364" y="96"/>
                    <a:pt x="374" y="101"/>
                    <a:pt x="384" y="104"/>
                  </a:cubicBezTo>
                  <a:cubicBezTo>
                    <a:pt x="404" y="119"/>
                    <a:pt x="436" y="125"/>
                    <a:pt x="443" y="148"/>
                  </a:cubicBezTo>
                  <a:cubicBezTo>
                    <a:pt x="454" y="183"/>
                    <a:pt x="468" y="210"/>
                    <a:pt x="494" y="236"/>
                  </a:cubicBezTo>
                  <a:cubicBezTo>
                    <a:pt x="497" y="246"/>
                    <a:pt x="512" y="266"/>
                    <a:pt x="502" y="266"/>
                  </a:cubicBezTo>
                  <a:cubicBezTo>
                    <a:pt x="488" y="266"/>
                    <a:pt x="481" y="247"/>
                    <a:pt x="472" y="236"/>
                  </a:cubicBezTo>
                  <a:cubicBezTo>
                    <a:pt x="455" y="213"/>
                    <a:pt x="437" y="187"/>
                    <a:pt x="421" y="163"/>
                  </a:cubicBezTo>
                  <a:cubicBezTo>
                    <a:pt x="432" y="222"/>
                    <a:pt x="432" y="291"/>
                    <a:pt x="450" y="347"/>
                  </a:cubicBezTo>
                  <a:cubicBezTo>
                    <a:pt x="448" y="320"/>
                    <a:pt x="449" y="293"/>
                    <a:pt x="443" y="266"/>
                  </a:cubicBezTo>
                  <a:cubicBezTo>
                    <a:pt x="441" y="257"/>
                    <a:pt x="431" y="252"/>
                    <a:pt x="428" y="244"/>
                  </a:cubicBezTo>
                  <a:cubicBezTo>
                    <a:pt x="424" y="235"/>
                    <a:pt x="411" y="214"/>
                    <a:pt x="421" y="214"/>
                  </a:cubicBezTo>
                  <a:cubicBezTo>
                    <a:pt x="433" y="214"/>
                    <a:pt x="443" y="232"/>
                    <a:pt x="443" y="244"/>
                  </a:cubicBezTo>
                  <a:cubicBezTo>
                    <a:pt x="443" y="254"/>
                    <a:pt x="428" y="230"/>
                    <a:pt x="421" y="222"/>
                  </a:cubicBezTo>
                  <a:cubicBezTo>
                    <a:pt x="341" y="131"/>
                    <a:pt x="432" y="224"/>
                    <a:pt x="332" y="126"/>
                  </a:cubicBezTo>
                  <a:cubicBezTo>
                    <a:pt x="304" y="99"/>
                    <a:pt x="300" y="110"/>
                    <a:pt x="273" y="96"/>
                  </a:cubicBezTo>
                  <a:cubicBezTo>
                    <a:pt x="205" y="62"/>
                    <a:pt x="145" y="25"/>
                    <a:pt x="73" y="0"/>
                  </a:cubicBezTo>
                  <a:cubicBezTo>
                    <a:pt x="56" y="3"/>
                    <a:pt x="38" y="3"/>
                    <a:pt x="22" y="8"/>
                  </a:cubicBezTo>
                  <a:cubicBezTo>
                    <a:pt x="14" y="11"/>
                    <a:pt x="0" y="13"/>
                    <a:pt x="0" y="22"/>
                  </a:cubicBezTo>
                  <a:cubicBezTo>
                    <a:pt x="0" y="30"/>
                    <a:pt x="14" y="28"/>
                    <a:pt x="22" y="30"/>
                  </a:cubicBezTo>
                  <a:cubicBezTo>
                    <a:pt x="36" y="33"/>
                    <a:pt x="66" y="37"/>
                    <a:pt x="66" y="3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48"/>
            <p:cNvSpPr/>
            <p:nvPr/>
          </p:nvSpPr>
          <p:spPr>
            <a:xfrm>
              <a:off x="-31680" y="2014560"/>
              <a:ext cx="458640" cy="3189240"/>
            </a:xfrm>
            <a:custGeom>
              <a:avLst/>
              <a:gdLst/>
              <a:ahLst/>
              <a:rect l="l" t="t" r="r" b="b"/>
              <a:pathLst>
                <a:path w="289" h="2009">
                  <a:moveTo>
                    <a:pt x="72" y="1940"/>
                  </a:moveTo>
                  <a:cubicBezTo>
                    <a:pt x="81" y="1903"/>
                    <a:pt x="95" y="1890"/>
                    <a:pt x="116" y="1859"/>
                  </a:cubicBezTo>
                  <a:cubicBezTo>
                    <a:pt x="129" y="1839"/>
                    <a:pt x="153" y="1799"/>
                    <a:pt x="153" y="1799"/>
                  </a:cubicBezTo>
                  <a:cubicBezTo>
                    <a:pt x="158" y="1782"/>
                    <a:pt x="173" y="1739"/>
                    <a:pt x="146" y="1814"/>
                  </a:cubicBezTo>
                  <a:cubicBezTo>
                    <a:pt x="128" y="1864"/>
                    <a:pt x="116" y="1903"/>
                    <a:pt x="86" y="1947"/>
                  </a:cubicBezTo>
                  <a:cubicBezTo>
                    <a:pt x="84" y="1954"/>
                    <a:pt x="81" y="1962"/>
                    <a:pt x="79" y="1969"/>
                  </a:cubicBezTo>
                  <a:cubicBezTo>
                    <a:pt x="76" y="1979"/>
                    <a:pt x="72" y="2009"/>
                    <a:pt x="72" y="1999"/>
                  </a:cubicBezTo>
                  <a:cubicBezTo>
                    <a:pt x="72" y="1969"/>
                    <a:pt x="81" y="1957"/>
                    <a:pt x="94" y="1932"/>
                  </a:cubicBezTo>
                  <a:cubicBezTo>
                    <a:pt x="103" y="1882"/>
                    <a:pt x="127" y="1840"/>
                    <a:pt x="146" y="1792"/>
                  </a:cubicBezTo>
                  <a:cubicBezTo>
                    <a:pt x="150" y="1783"/>
                    <a:pt x="163" y="1763"/>
                    <a:pt x="153" y="1763"/>
                  </a:cubicBezTo>
                  <a:cubicBezTo>
                    <a:pt x="142" y="1763"/>
                    <a:pt x="143" y="1782"/>
                    <a:pt x="138" y="1792"/>
                  </a:cubicBezTo>
                  <a:cubicBezTo>
                    <a:pt x="121" y="1898"/>
                    <a:pt x="146" y="1782"/>
                    <a:pt x="109" y="1866"/>
                  </a:cubicBezTo>
                  <a:cubicBezTo>
                    <a:pt x="95" y="1898"/>
                    <a:pt x="99" y="1918"/>
                    <a:pt x="79" y="1947"/>
                  </a:cubicBezTo>
                  <a:cubicBezTo>
                    <a:pt x="86" y="1846"/>
                    <a:pt x="101" y="1808"/>
                    <a:pt x="131" y="1718"/>
                  </a:cubicBezTo>
                  <a:cubicBezTo>
                    <a:pt x="134" y="1709"/>
                    <a:pt x="135" y="1698"/>
                    <a:pt x="138" y="1689"/>
                  </a:cubicBezTo>
                  <a:cubicBezTo>
                    <a:pt x="142" y="1676"/>
                    <a:pt x="148" y="1664"/>
                    <a:pt x="153" y="1652"/>
                  </a:cubicBezTo>
                  <a:cubicBezTo>
                    <a:pt x="156" y="1645"/>
                    <a:pt x="160" y="1622"/>
                    <a:pt x="160" y="1630"/>
                  </a:cubicBezTo>
                  <a:cubicBezTo>
                    <a:pt x="160" y="1674"/>
                    <a:pt x="137" y="1755"/>
                    <a:pt x="131" y="1792"/>
                  </a:cubicBezTo>
                  <a:cubicBezTo>
                    <a:pt x="128" y="1809"/>
                    <a:pt x="125" y="1827"/>
                    <a:pt x="123" y="1844"/>
                  </a:cubicBezTo>
                  <a:cubicBezTo>
                    <a:pt x="121" y="1864"/>
                    <a:pt x="113" y="1922"/>
                    <a:pt x="116" y="1903"/>
                  </a:cubicBezTo>
                  <a:cubicBezTo>
                    <a:pt x="122" y="1869"/>
                    <a:pt x="124" y="1833"/>
                    <a:pt x="131" y="1799"/>
                  </a:cubicBezTo>
                  <a:cubicBezTo>
                    <a:pt x="134" y="1782"/>
                    <a:pt x="141" y="1765"/>
                    <a:pt x="146" y="1748"/>
                  </a:cubicBezTo>
                  <a:cubicBezTo>
                    <a:pt x="148" y="1731"/>
                    <a:pt x="149" y="1713"/>
                    <a:pt x="153" y="1696"/>
                  </a:cubicBezTo>
                  <a:cubicBezTo>
                    <a:pt x="161" y="1661"/>
                    <a:pt x="182" y="1593"/>
                    <a:pt x="182" y="1593"/>
                  </a:cubicBezTo>
                  <a:cubicBezTo>
                    <a:pt x="174" y="1535"/>
                    <a:pt x="178" y="1520"/>
                    <a:pt x="168" y="1578"/>
                  </a:cubicBezTo>
                  <a:cubicBezTo>
                    <a:pt x="163" y="1610"/>
                    <a:pt x="158" y="1642"/>
                    <a:pt x="153" y="1674"/>
                  </a:cubicBezTo>
                  <a:cubicBezTo>
                    <a:pt x="151" y="1689"/>
                    <a:pt x="148" y="1703"/>
                    <a:pt x="146" y="1718"/>
                  </a:cubicBezTo>
                  <a:cubicBezTo>
                    <a:pt x="144" y="1733"/>
                    <a:pt x="123" y="1763"/>
                    <a:pt x="138" y="1763"/>
                  </a:cubicBezTo>
                  <a:cubicBezTo>
                    <a:pt x="154" y="1763"/>
                    <a:pt x="148" y="1733"/>
                    <a:pt x="153" y="1718"/>
                  </a:cubicBezTo>
                  <a:cubicBezTo>
                    <a:pt x="164" y="1648"/>
                    <a:pt x="199" y="1590"/>
                    <a:pt x="212" y="1519"/>
                  </a:cubicBezTo>
                  <a:cubicBezTo>
                    <a:pt x="214" y="1507"/>
                    <a:pt x="232" y="1482"/>
                    <a:pt x="219" y="1482"/>
                  </a:cubicBezTo>
                  <a:cubicBezTo>
                    <a:pt x="206" y="1482"/>
                    <a:pt x="210" y="1507"/>
                    <a:pt x="205" y="1519"/>
                  </a:cubicBezTo>
                  <a:cubicBezTo>
                    <a:pt x="198" y="1558"/>
                    <a:pt x="193" y="1599"/>
                    <a:pt x="182" y="1637"/>
                  </a:cubicBezTo>
                  <a:cubicBezTo>
                    <a:pt x="178" y="1652"/>
                    <a:pt x="168" y="1681"/>
                    <a:pt x="168" y="1681"/>
                  </a:cubicBezTo>
                  <a:cubicBezTo>
                    <a:pt x="165" y="1580"/>
                    <a:pt x="168" y="1479"/>
                    <a:pt x="160" y="1379"/>
                  </a:cubicBezTo>
                  <a:cubicBezTo>
                    <a:pt x="157" y="1342"/>
                    <a:pt x="153" y="1452"/>
                    <a:pt x="153" y="1489"/>
                  </a:cubicBezTo>
                  <a:cubicBezTo>
                    <a:pt x="153" y="1506"/>
                    <a:pt x="158" y="1524"/>
                    <a:pt x="160" y="1541"/>
                  </a:cubicBezTo>
                  <a:cubicBezTo>
                    <a:pt x="171" y="1478"/>
                    <a:pt x="190" y="1406"/>
                    <a:pt x="190" y="1342"/>
                  </a:cubicBezTo>
                  <a:cubicBezTo>
                    <a:pt x="190" y="1332"/>
                    <a:pt x="185" y="1361"/>
                    <a:pt x="182" y="1371"/>
                  </a:cubicBezTo>
                  <a:cubicBezTo>
                    <a:pt x="185" y="1396"/>
                    <a:pt x="177" y="1424"/>
                    <a:pt x="190" y="1445"/>
                  </a:cubicBezTo>
                  <a:cubicBezTo>
                    <a:pt x="197" y="1456"/>
                    <a:pt x="201" y="1421"/>
                    <a:pt x="205" y="1408"/>
                  </a:cubicBezTo>
                  <a:cubicBezTo>
                    <a:pt x="215" y="1379"/>
                    <a:pt x="224" y="1349"/>
                    <a:pt x="234" y="1319"/>
                  </a:cubicBezTo>
                  <a:cubicBezTo>
                    <a:pt x="238" y="1307"/>
                    <a:pt x="247" y="1272"/>
                    <a:pt x="242" y="1283"/>
                  </a:cubicBezTo>
                  <a:cubicBezTo>
                    <a:pt x="230" y="1310"/>
                    <a:pt x="221" y="1349"/>
                    <a:pt x="212" y="1379"/>
                  </a:cubicBezTo>
                  <a:cubicBezTo>
                    <a:pt x="214" y="1325"/>
                    <a:pt x="215" y="1270"/>
                    <a:pt x="219" y="1216"/>
                  </a:cubicBezTo>
                  <a:cubicBezTo>
                    <a:pt x="223" y="1156"/>
                    <a:pt x="244" y="1131"/>
                    <a:pt x="197" y="1223"/>
                  </a:cubicBezTo>
                  <a:cubicBezTo>
                    <a:pt x="195" y="1243"/>
                    <a:pt x="192" y="1263"/>
                    <a:pt x="190" y="1283"/>
                  </a:cubicBezTo>
                  <a:cubicBezTo>
                    <a:pt x="190" y="1284"/>
                    <a:pt x="172" y="1425"/>
                    <a:pt x="190" y="1334"/>
                  </a:cubicBezTo>
                  <a:cubicBezTo>
                    <a:pt x="193" y="1319"/>
                    <a:pt x="194" y="1305"/>
                    <a:pt x="197" y="1290"/>
                  </a:cubicBezTo>
                  <a:cubicBezTo>
                    <a:pt x="199" y="1278"/>
                    <a:pt x="202" y="1265"/>
                    <a:pt x="205" y="1253"/>
                  </a:cubicBezTo>
                  <a:cubicBezTo>
                    <a:pt x="207" y="1209"/>
                    <a:pt x="212" y="1164"/>
                    <a:pt x="212" y="1120"/>
                  </a:cubicBezTo>
                  <a:cubicBezTo>
                    <a:pt x="212" y="1011"/>
                    <a:pt x="190" y="1172"/>
                    <a:pt x="190" y="1172"/>
                  </a:cubicBezTo>
                  <a:cubicBezTo>
                    <a:pt x="180" y="1257"/>
                    <a:pt x="169" y="1266"/>
                    <a:pt x="197" y="1223"/>
                  </a:cubicBezTo>
                  <a:cubicBezTo>
                    <a:pt x="209" y="1155"/>
                    <a:pt x="219" y="1086"/>
                    <a:pt x="227" y="1017"/>
                  </a:cubicBezTo>
                  <a:cubicBezTo>
                    <a:pt x="224" y="963"/>
                    <a:pt x="228" y="908"/>
                    <a:pt x="219" y="854"/>
                  </a:cubicBezTo>
                  <a:cubicBezTo>
                    <a:pt x="215" y="830"/>
                    <a:pt x="212" y="903"/>
                    <a:pt x="212" y="928"/>
                  </a:cubicBezTo>
                  <a:cubicBezTo>
                    <a:pt x="212" y="958"/>
                    <a:pt x="217" y="987"/>
                    <a:pt x="219" y="1017"/>
                  </a:cubicBezTo>
                  <a:cubicBezTo>
                    <a:pt x="238" y="927"/>
                    <a:pt x="232" y="878"/>
                    <a:pt x="227" y="773"/>
                  </a:cubicBezTo>
                  <a:lnTo>
                    <a:pt x="242" y="729"/>
                  </a:lnTo>
                  <a:cubicBezTo>
                    <a:pt x="246" y="679"/>
                    <a:pt x="230" y="366"/>
                    <a:pt x="249" y="603"/>
                  </a:cubicBezTo>
                  <a:cubicBezTo>
                    <a:pt x="247" y="544"/>
                    <a:pt x="242" y="485"/>
                    <a:pt x="242" y="426"/>
                  </a:cubicBezTo>
                  <a:cubicBezTo>
                    <a:pt x="242" y="387"/>
                    <a:pt x="243" y="505"/>
                    <a:pt x="249" y="544"/>
                  </a:cubicBezTo>
                  <a:cubicBezTo>
                    <a:pt x="251" y="554"/>
                    <a:pt x="254" y="525"/>
                    <a:pt x="256" y="515"/>
                  </a:cubicBezTo>
                  <a:cubicBezTo>
                    <a:pt x="249" y="443"/>
                    <a:pt x="258" y="381"/>
                    <a:pt x="219" y="323"/>
                  </a:cubicBezTo>
                  <a:cubicBezTo>
                    <a:pt x="222" y="357"/>
                    <a:pt x="227" y="460"/>
                    <a:pt x="227" y="426"/>
                  </a:cubicBezTo>
                  <a:cubicBezTo>
                    <a:pt x="227" y="387"/>
                    <a:pt x="225" y="347"/>
                    <a:pt x="219" y="308"/>
                  </a:cubicBezTo>
                  <a:cubicBezTo>
                    <a:pt x="216" y="286"/>
                    <a:pt x="200" y="274"/>
                    <a:pt x="190" y="256"/>
                  </a:cubicBezTo>
                  <a:cubicBezTo>
                    <a:pt x="186" y="249"/>
                    <a:pt x="179" y="227"/>
                    <a:pt x="182" y="234"/>
                  </a:cubicBezTo>
                  <a:cubicBezTo>
                    <a:pt x="197" y="265"/>
                    <a:pt x="219" y="330"/>
                    <a:pt x="219" y="330"/>
                  </a:cubicBezTo>
                  <a:cubicBezTo>
                    <a:pt x="217" y="314"/>
                    <a:pt x="215" y="275"/>
                    <a:pt x="205" y="256"/>
                  </a:cubicBezTo>
                  <a:cubicBezTo>
                    <a:pt x="201" y="248"/>
                    <a:pt x="194" y="242"/>
                    <a:pt x="190" y="234"/>
                  </a:cubicBezTo>
                  <a:cubicBezTo>
                    <a:pt x="186" y="227"/>
                    <a:pt x="175" y="209"/>
                    <a:pt x="182" y="212"/>
                  </a:cubicBezTo>
                  <a:cubicBezTo>
                    <a:pt x="193" y="217"/>
                    <a:pt x="197" y="231"/>
                    <a:pt x="205" y="241"/>
                  </a:cubicBezTo>
                  <a:cubicBezTo>
                    <a:pt x="207" y="251"/>
                    <a:pt x="209" y="261"/>
                    <a:pt x="212" y="271"/>
                  </a:cubicBezTo>
                  <a:cubicBezTo>
                    <a:pt x="214" y="278"/>
                    <a:pt x="219" y="301"/>
                    <a:pt x="219" y="293"/>
                  </a:cubicBezTo>
                  <a:cubicBezTo>
                    <a:pt x="219" y="215"/>
                    <a:pt x="164" y="171"/>
                    <a:pt x="116" y="123"/>
                  </a:cubicBezTo>
                  <a:cubicBezTo>
                    <a:pt x="76" y="83"/>
                    <a:pt x="114" y="101"/>
                    <a:pt x="72" y="86"/>
                  </a:cubicBezTo>
                  <a:cubicBezTo>
                    <a:pt x="105" y="119"/>
                    <a:pt x="106" y="165"/>
                    <a:pt x="138" y="197"/>
                  </a:cubicBezTo>
                  <a:cubicBezTo>
                    <a:pt x="143" y="202"/>
                    <a:pt x="136" y="181"/>
                    <a:pt x="131" y="175"/>
                  </a:cubicBezTo>
                  <a:cubicBezTo>
                    <a:pt x="121" y="161"/>
                    <a:pt x="107" y="150"/>
                    <a:pt x="94" y="138"/>
                  </a:cubicBezTo>
                  <a:cubicBezTo>
                    <a:pt x="90" y="135"/>
                    <a:pt x="30" y="95"/>
                    <a:pt x="35" y="86"/>
                  </a:cubicBezTo>
                  <a:cubicBezTo>
                    <a:pt x="41" y="74"/>
                    <a:pt x="60" y="95"/>
                    <a:pt x="72" y="101"/>
                  </a:cubicBezTo>
                  <a:cubicBezTo>
                    <a:pt x="116" y="121"/>
                    <a:pt x="149" y="140"/>
                    <a:pt x="182" y="175"/>
                  </a:cubicBezTo>
                  <a:cubicBezTo>
                    <a:pt x="165" y="120"/>
                    <a:pt x="142" y="107"/>
                    <a:pt x="94" y="71"/>
                  </a:cubicBezTo>
                  <a:cubicBezTo>
                    <a:pt x="79" y="60"/>
                    <a:pt x="42" y="53"/>
                    <a:pt x="42" y="42"/>
                  </a:cubicBezTo>
                  <a:cubicBezTo>
                    <a:pt x="42" y="34"/>
                    <a:pt x="57" y="47"/>
                    <a:pt x="64" y="49"/>
                  </a:cubicBezTo>
                  <a:cubicBezTo>
                    <a:pt x="90" y="67"/>
                    <a:pt x="146" y="94"/>
                    <a:pt x="146" y="94"/>
                  </a:cubicBezTo>
                  <a:cubicBezTo>
                    <a:pt x="208" y="189"/>
                    <a:pt x="151" y="117"/>
                    <a:pt x="131" y="94"/>
                  </a:cubicBezTo>
                  <a:cubicBezTo>
                    <a:pt x="122" y="83"/>
                    <a:pt x="112" y="73"/>
                    <a:pt x="101" y="64"/>
                  </a:cubicBezTo>
                  <a:cubicBezTo>
                    <a:pt x="77" y="45"/>
                    <a:pt x="53" y="27"/>
                    <a:pt x="27" y="12"/>
                  </a:cubicBezTo>
                  <a:cubicBezTo>
                    <a:pt x="20" y="8"/>
                    <a:pt x="0" y="0"/>
                    <a:pt x="5" y="5"/>
                  </a:cubicBezTo>
                  <a:cubicBezTo>
                    <a:pt x="30" y="30"/>
                    <a:pt x="77" y="51"/>
                    <a:pt x="109" y="64"/>
                  </a:cubicBezTo>
                  <a:cubicBezTo>
                    <a:pt x="117" y="75"/>
                    <a:pt x="185" y="170"/>
                    <a:pt x="123" y="108"/>
                  </a:cubicBezTo>
                  <a:cubicBezTo>
                    <a:pt x="114" y="70"/>
                    <a:pt x="79" y="41"/>
                    <a:pt x="42" y="27"/>
                  </a:cubicBezTo>
                  <a:cubicBezTo>
                    <a:pt x="67" y="52"/>
                    <a:pt x="153" y="112"/>
                    <a:pt x="153" y="153"/>
                  </a:cubicBezTo>
                  <a:cubicBezTo>
                    <a:pt x="153" y="162"/>
                    <a:pt x="144" y="137"/>
                    <a:pt x="138" y="131"/>
                  </a:cubicBezTo>
                  <a:cubicBezTo>
                    <a:pt x="132" y="125"/>
                    <a:pt x="123" y="121"/>
                    <a:pt x="116" y="116"/>
                  </a:cubicBezTo>
                  <a:cubicBezTo>
                    <a:pt x="92" y="69"/>
                    <a:pt x="37" y="56"/>
                    <a:pt x="13" y="12"/>
                  </a:cubicBezTo>
                  <a:cubicBezTo>
                    <a:pt x="10" y="7"/>
                    <a:pt x="23" y="17"/>
                    <a:pt x="27" y="20"/>
                  </a:cubicBezTo>
                  <a:cubicBezTo>
                    <a:pt x="37" y="27"/>
                    <a:pt x="46" y="36"/>
                    <a:pt x="57" y="42"/>
                  </a:cubicBezTo>
                  <a:cubicBezTo>
                    <a:pt x="112" y="75"/>
                    <a:pt x="155" y="105"/>
                    <a:pt x="190" y="160"/>
                  </a:cubicBezTo>
                  <a:cubicBezTo>
                    <a:pt x="198" y="172"/>
                    <a:pt x="204" y="185"/>
                    <a:pt x="212" y="197"/>
                  </a:cubicBezTo>
                  <a:cubicBezTo>
                    <a:pt x="217" y="205"/>
                    <a:pt x="234" y="224"/>
                    <a:pt x="227" y="219"/>
                  </a:cubicBezTo>
                  <a:cubicBezTo>
                    <a:pt x="191" y="194"/>
                    <a:pt x="160" y="155"/>
                    <a:pt x="131" y="123"/>
                  </a:cubicBezTo>
                  <a:cubicBezTo>
                    <a:pt x="115" y="105"/>
                    <a:pt x="65" y="51"/>
                    <a:pt x="79" y="71"/>
                  </a:cubicBezTo>
                  <a:cubicBezTo>
                    <a:pt x="137" y="150"/>
                    <a:pt x="152" y="250"/>
                    <a:pt x="168" y="345"/>
                  </a:cubicBezTo>
                  <a:cubicBezTo>
                    <a:pt x="170" y="360"/>
                    <a:pt x="172" y="374"/>
                    <a:pt x="175" y="389"/>
                  </a:cubicBezTo>
                  <a:cubicBezTo>
                    <a:pt x="179" y="411"/>
                    <a:pt x="190" y="455"/>
                    <a:pt x="190" y="455"/>
                  </a:cubicBezTo>
                  <a:cubicBezTo>
                    <a:pt x="187" y="421"/>
                    <a:pt x="182" y="386"/>
                    <a:pt x="182" y="352"/>
                  </a:cubicBezTo>
                  <a:cubicBezTo>
                    <a:pt x="182" y="339"/>
                    <a:pt x="189" y="376"/>
                    <a:pt x="190" y="389"/>
                  </a:cubicBezTo>
                  <a:cubicBezTo>
                    <a:pt x="194" y="448"/>
                    <a:pt x="217" y="511"/>
                    <a:pt x="197" y="566"/>
                  </a:cubicBezTo>
                  <a:cubicBezTo>
                    <a:pt x="179" y="615"/>
                    <a:pt x="192" y="462"/>
                    <a:pt x="182" y="411"/>
                  </a:cubicBezTo>
                  <a:cubicBezTo>
                    <a:pt x="180" y="399"/>
                    <a:pt x="167" y="392"/>
                    <a:pt x="160" y="382"/>
                  </a:cubicBezTo>
                  <a:cubicBezTo>
                    <a:pt x="150" y="355"/>
                    <a:pt x="97" y="262"/>
                    <a:pt x="160" y="374"/>
                  </a:cubicBezTo>
                  <a:cubicBezTo>
                    <a:pt x="163" y="384"/>
                    <a:pt x="165" y="394"/>
                    <a:pt x="168" y="404"/>
                  </a:cubicBezTo>
                  <a:cubicBezTo>
                    <a:pt x="204" y="524"/>
                    <a:pt x="160" y="369"/>
                    <a:pt x="175" y="308"/>
                  </a:cubicBezTo>
                  <a:cubicBezTo>
                    <a:pt x="179" y="291"/>
                    <a:pt x="195" y="337"/>
                    <a:pt x="205" y="352"/>
                  </a:cubicBezTo>
                  <a:cubicBezTo>
                    <a:pt x="214" y="397"/>
                    <a:pt x="227" y="440"/>
                    <a:pt x="234" y="485"/>
                  </a:cubicBezTo>
                  <a:cubicBezTo>
                    <a:pt x="237" y="537"/>
                    <a:pt x="242" y="692"/>
                    <a:pt x="242" y="640"/>
                  </a:cubicBezTo>
                  <a:cubicBezTo>
                    <a:pt x="242" y="576"/>
                    <a:pt x="255" y="462"/>
                    <a:pt x="212" y="396"/>
                  </a:cubicBezTo>
                  <a:cubicBezTo>
                    <a:pt x="176" y="284"/>
                    <a:pt x="198" y="345"/>
                    <a:pt x="212" y="662"/>
                  </a:cubicBezTo>
                  <a:cubicBezTo>
                    <a:pt x="214" y="704"/>
                    <a:pt x="229" y="749"/>
                    <a:pt x="242" y="788"/>
                  </a:cubicBezTo>
                  <a:cubicBezTo>
                    <a:pt x="249" y="832"/>
                    <a:pt x="257" y="878"/>
                    <a:pt x="271" y="921"/>
                  </a:cubicBezTo>
                  <a:cubicBezTo>
                    <a:pt x="271" y="921"/>
                    <a:pt x="289" y="1138"/>
                    <a:pt x="264" y="1031"/>
                  </a:cubicBezTo>
                  <a:cubicBezTo>
                    <a:pt x="259" y="984"/>
                    <a:pt x="254" y="938"/>
                    <a:pt x="249" y="891"/>
                  </a:cubicBezTo>
                  <a:cubicBezTo>
                    <a:pt x="247" y="869"/>
                    <a:pt x="242" y="825"/>
                    <a:pt x="242" y="825"/>
                  </a:cubicBezTo>
                  <a:cubicBezTo>
                    <a:pt x="224" y="941"/>
                    <a:pt x="227" y="907"/>
                    <a:pt x="227" y="1105"/>
                  </a:cubicBezTo>
                  <a:cubicBezTo>
                    <a:pt x="227" y="1147"/>
                    <a:pt x="234" y="938"/>
                    <a:pt x="234" y="980"/>
                  </a:cubicBezTo>
                  <a:cubicBezTo>
                    <a:pt x="234" y="1081"/>
                    <a:pt x="230" y="1099"/>
                    <a:pt x="219" y="1179"/>
                  </a:cubicBezTo>
                  <a:cubicBezTo>
                    <a:pt x="217" y="1167"/>
                    <a:pt x="218" y="1131"/>
                    <a:pt x="212" y="1142"/>
                  </a:cubicBezTo>
                  <a:cubicBezTo>
                    <a:pt x="195" y="1170"/>
                    <a:pt x="176" y="1374"/>
                    <a:pt x="175" y="1386"/>
                  </a:cubicBezTo>
                  <a:cubicBezTo>
                    <a:pt x="164" y="1620"/>
                    <a:pt x="162" y="1571"/>
                    <a:pt x="175" y="1489"/>
                  </a:cubicBezTo>
                  <a:cubicBezTo>
                    <a:pt x="177" y="1477"/>
                    <a:pt x="178" y="1464"/>
                    <a:pt x="182" y="1452"/>
                  </a:cubicBezTo>
                  <a:cubicBezTo>
                    <a:pt x="185" y="1442"/>
                    <a:pt x="192" y="1433"/>
                    <a:pt x="197" y="1423"/>
                  </a:cubicBezTo>
                  <a:cubicBezTo>
                    <a:pt x="213" y="1510"/>
                    <a:pt x="180" y="1618"/>
                    <a:pt x="160" y="1703"/>
                  </a:cubicBezTo>
                  <a:cubicBezTo>
                    <a:pt x="158" y="1730"/>
                    <a:pt x="156" y="1758"/>
                    <a:pt x="153" y="1785"/>
                  </a:cubicBezTo>
                  <a:cubicBezTo>
                    <a:pt x="152" y="1795"/>
                    <a:pt x="149" y="1804"/>
                    <a:pt x="146" y="1814"/>
                  </a:cubicBezTo>
                  <a:cubicBezTo>
                    <a:pt x="144" y="1821"/>
                    <a:pt x="138" y="1844"/>
                    <a:pt x="138" y="1836"/>
                  </a:cubicBezTo>
                  <a:cubicBezTo>
                    <a:pt x="138" y="1821"/>
                    <a:pt x="143" y="1807"/>
                    <a:pt x="146" y="1792"/>
                  </a:cubicBezTo>
                  <a:cubicBezTo>
                    <a:pt x="150" y="1767"/>
                    <a:pt x="164" y="1719"/>
                    <a:pt x="138" y="1770"/>
                  </a:cubicBezTo>
                  <a:cubicBezTo>
                    <a:pt x="123" y="1799"/>
                    <a:pt x="119" y="1824"/>
                    <a:pt x="101" y="1851"/>
                  </a:cubicBezTo>
                  <a:cubicBezTo>
                    <a:pt x="99" y="1858"/>
                    <a:pt x="94" y="1881"/>
                    <a:pt x="94" y="1873"/>
                  </a:cubicBezTo>
                  <a:cubicBezTo>
                    <a:pt x="94" y="1848"/>
                    <a:pt x="107" y="1836"/>
                    <a:pt x="116" y="1814"/>
                  </a:cubicBezTo>
                  <a:cubicBezTo>
                    <a:pt x="150" y="1727"/>
                    <a:pt x="122" y="1772"/>
                    <a:pt x="153" y="1726"/>
                  </a:cubicBezTo>
                  <a:cubicBezTo>
                    <a:pt x="153" y="1726"/>
                    <a:pt x="143" y="1741"/>
                    <a:pt x="138" y="1748"/>
                  </a:cubicBezTo>
                  <a:cubicBezTo>
                    <a:pt x="128" y="1781"/>
                    <a:pt x="113" y="1812"/>
                    <a:pt x="101" y="1844"/>
                  </a:cubicBezTo>
                  <a:cubicBezTo>
                    <a:pt x="110" y="1787"/>
                    <a:pt x="102" y="1808"/>
                    <a:pt x="116" y="1777"/>
                  </a:cubicBezTo>
                  <a:lnTo>
                    <a:pt x="116" y="18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49"/>
            <p:cNvSpPr/>
            <p:nvPr/>
          </p:nvSpPr>
          <p:spPr>
            <a:xfrm>
              <a:off x="92160" y="2087640"/>
              <a:ext cx="569880" cy="3213000"/>
            </a:xfrm>
            <a:custGeom>
              <a:avLst/>
              <a:gdLst/>
              <a:ahLst/>
              <a:rect l="l" t="t" r="r" b="b"/>
              <a:pathLst>
                <a:path w="359" h="2024">
                  <a:moveTo>
                    <a:pt x="90" y="1894"/>
                  </a:moveTo>
                  <a:cubicBezTo>
                    <a:pt x="69" y="1835"/>
                    <a:pt x="97" y="1903"/>
                    <a:pt x="75" y="1953"/>
                  </a:cubicBezTo>
                  <a:cubicBezTo>
                    <a:pt x="71" y="1963"/>
                    <a:pt x="65" y="1933"/>
                    <a:pt x="60" y="1923"/>
                  </a:cubicBezTo>
                  <a:cubicBezTo>
                    <a:pt x="58" y="1935"/>
                    <a:pt x="53" y="1947"/>
                    <a:pt x="53" y="1960"/>
                  </a:cubicBezTo>
                  <a:cubicBezTo>
                    <a:pt x="53" y="1977"/>
                    <a:pt x="85" y="2024"/>
                    <a:pt x="38" y="1945"/>
                  </a:cubicBezTo>
                  <a:cubicBezTo>
                    <a:pt x="28" y="1903"/>
                    <a:pt x="0" y="1889"/>
                    <a:pt x="53" y="1901"/>
                  </a:cubicBezTo>
                  <a:cubicBezTo>
                    <a:pt x="58" y="1908"/>
                    <a:pt x="62" y="1916"/>
                    <a:pt x="68" y="1923"/>
                  </a:cubicBezTo>
                  <a:cubicBezTo>
                    <a:pt x="114" y="1978"/>
                    <a:pt x="73" y="1918"/>
                    <a:pt x="82" y="1879"/>
                  </a:cubicBezTo>
                  <a:cubicBezTo>
                    <a:pt x="84" y="1872"/>
                    <a:pt x="97" y="1884"/>
                    <a:pt x="104" y="1886"/>
                  </a:cubicBezTo>
                  <a:cubicBezTo>
                    <a:pt x="108" y="1890"/>
                    <a:pt x="153" y="1938"/>
                    <a:pt x="164" y="1938"/>
                  </a:cubicBezTo>
                  <a:cubicBezTo>
                    <a:pt x="173" y="1938"/>
                    <a:pt x="156" y="1922"/>
                    <a:pt x="149" y="1916"/>
                  </a:cubicBezTo>
                  <a:cubicBezTo>
                    <a:pt x="127" y="1898"/>
                    <a:pt x="98" y="1890"/>
                    <a:pt x="75" y="1872"/>
                  </a:cubicBezTo>
                  <a:cubicBezTo>
                    <a:pt x="67" y="1865"/>
                    <a:pt x="42" y="1849"/>
                    <a:pt x="53" y="1849"/>
                  </a:cubicBezTo>
                  <a:cubicBezTo>
                    <a:pt x="93" y="1849"/>
                    <a:pt x="135" y="1913"/>
                    <a:pt x="178" y="1923"/>
                  </a:cubicBezTo>
                  <a:cubicBezTo>
                    <a:pt x="153" y="1890"/>
                    <a:pt x="128" y="1869"/>
                    <a:pt x="97" y="1842"/>
                  </a:cubicBezTo>
                  <a:cubicBezTo>
                    <a:pt x="87" y="1833"/>
                    <a:pt x="55" y="1817"/>
                    <a:pt x="68" y="1813"/>
                  </a:cubicBezTo>
                  <a:cubicBezTo>
                    <a:pt x="103" y="1802"/>
                    <a:pt x="154" y="1876"/>
                    <a:pt x="186" y="1886"/>
                  </a:cubicBezTo>
                  <a:cubicBezTo>
                    <a:pt x="174" y="1853"/>
                    <a:pt x="148" y="1833"/>
                    <a:pt x="127" y="1805"/>
                  </a:cubicBezTo>
                  <a:cubicBezTo>
                    <a:pt x="122" y="1798"/>
                    <a:pt x="104" y="1786"/>
                    <a:pt x="112" y="1783"/>
                  </a:cubicBezTo>
                  <a:cubicBezTo>
                    <a:pt x="125" y="1779"/>
                    <a:pt x="202" y="1834"/>
                    <a:pt x="215" y="1842"/>
                  </a:cubicBezTo>
                  <a:cubicBezTo>
                    <a:pt x="215" y="1842"/>
                    <a:pt x="305" y="1935"/>
                    <a:pt x="245" y="1864"/>
                  </a:cubicBezTo>
                  <a:cubicBezTo>
                    <a:pt x="219" y="1833"/>
                    <a:pt x="173" y="1807"/>
                    <a:pt x="141" y="1783"/>
                  </a:cubicBezTo>
                  <a:cubicBezTo>
                    <a:pt x="118" y="1766"/>
                    <a:pt x="97" y="1748"/>
                    <a:pt x="75" y="1731"/>
                  </a:cubicBezTo>
                  <a:cubicBezTo>
                    <a:pt x="68" y="1726"/>
                    <a:pt x="52" y="1712"/>
                    <a:pt x="60" y="1709"/>
                  </a:cubicBezTo>
                  <a:cubicBezTo>
                    <a:pt x="73" y="1705"/>
                    <a:pt x="85" y="1717"/>
                    <a:pt x="97" y="1724"/>
                  </a:cubicBezTo>
                  <a:cubicBezTo>
                    <a:pt x="125" y="1740"/>
                    <a:pt x="151" y="1759"/>
                    <a:pt x="178" y="1776"/>
                  </a:cubicBezTo>
                  <a:cubicBezTo>
                    <a:pt x="190" y="1784"/>
                    <a:pt x="199" y="1795"/>
                    <a:pt x="208" y="1805"/>
                  </a:cubicBezTo>
                  <a:cubicBezTo>
                    <a:pt x="214" y="1812"/>
                    <a:pt x="223" y="1836"/>
                    <a:pt x="223" y="1827"/>
                  </a:cubicBezTo>
                  <a:cubicBezTo>
                    <a:pt x="223" y="1780"/>
                    <a:pt x="157" y="1736"/>
                    <a:pt x="127" y="1709"/>
                  </a:cubicBezTo>
                  <a:cubicBezTo>
                    <a:pt x="118" y="1701"/>
                    <a:pt x="97" y="1699"/>
                    <a:pt x="97" y="1687"/>
                  </a:cubicBezTo>
                  <a:cubicBezTo>
                    <a:pt x="97" y="1677"/>
                    <a:pt x="117" y="1692"/>
                    <a:pt x="127" y="1694"/>
                  </a:cubicBezTo>
                  <a:cubicBezTo>
                    <a:pt x="137" y="1702"/>
                    <a:pt x="147" y="1709"/>
                    <a:pt x="156" y="1717"/>
                  </a:cubicBezTo>
                  <a:cubicBezTo>
                    <a:pt x="164" y="1724"/>
                    <a:pt x="170" y="1733"/>
                    <a:pt x="178" y="1739"/>
                  </a:cubicBezTo>
                  <a:cubicBezTo>
                    <a:pt x="195" y="1752"/>
                    <a:pt x="230" y="1776"/>
                    <a:pt x="230" y="1776"/>
                  </a:cubicBezTo>
                  <a:cubicBezTo>
                    <a:pt x="210" y="1709"/>
                    <a:pt x="169" y="1724"/>
                    <a:pt x="134" y="1672"/>
                  </a:cubicBezTo>
                  <a:cubicBezTo>
                    <a:pt x="129" y="1665"/>
                    <a:pt x="115" y="1658"/>
                    <a:pt x="119" y="1650"/>
                  </a:cubicBezTo>
                  <a:cubicBezTo>
                    <a:pt x="122" y="1643"/>
                    <a:pt x="134" y="1654"/>
                    <a:pt x="141" y="1657"/>
                  </a:cubicBezTo>
                  <a:cubicBezTo>
                    <a:pt x="156" y="1664"/>
                    <a:pt x="172" y="1671"/>
                    <a:pt x="186" y="1680"/>
                  </a:cubicBezTo>
                  <a:cubicBezTo>
                    <a:pt x="204" y="1691"/>
                    <a:pt x="220" y="1705"/>
                    <a:pt x="237" y="1717"/>
                  </a:cubicBezTo>
                  <a:cubicBezTo>
                    <a:pt x="225" y="1677"/>
                    <a:pt x="182" y="1659"/>
                    <a:pt x="149" y="1635"/>
                  </a:cubicBezTo>
                  <a:cubicBezTo>
                    <a:pt x="141" y="1629"/>
                    <a:pt x="134" y="1621"/>
                    <a:pt x="127" y="1613"/>
                  </a:cubicBezTo>
                  <a:cubicBezTo>
                    <a:pt x="121" y="1606"/>
                    <a:pt x="104" y="1594"/>
                    <a:pt x="112" y="1591"/>
                  </a:cubicBezTo>
                  <a:cubicBezTo>
                    <a:pt x="125" y="1587"/>
                    <a:pt x="137" y="1600"/>
                    <a:pt x="149" y="1606"/>
                  </a:cubicBezTo>
                  <a:cubicBezTo>
                    <a:pt x="174" y="1620"/>
                    <a:pt x="199" y="1634"/>
                    <a:pt x="223" y="1650"/>
                  </a:cubicBezTo>
                  <a:cubicBezTo>
                    <a:pt x="243" y="1664"/>
                    <a:pt x="282" y="1694"/>
                    <a:pt x="282" y="1694"/>
                  </a:cubicBezTo>
                  <a:cubicBezTo>
                    <a:pt x="262" y="1654"/>
                    <a:pt x="233" y="1643"/>
                    <a:pt x="200" y="1613"/>
                  </a:cubicBezTo>
                  <a:cubicBezTo>
                    <a:pt x="138" y="1556"/>
                    <a:pt x="143" y="1564"/>
                    <a:pt x="193" y="1584"/>
                  </a:cubicBezTo>
                  <a:cubicBezTo>
                    <a:pt x="203" y="1594"/>
                    <a:pt x="210" y="1609"/>
                    <a:pt x="223" y="1613"/>
                  </a:cubicBezTo>
                  <a:cubicBezTo>
                    <a:pt x="230" y="1615"/>
                    <a:pt x="221" y="1596"/>
                    <a:pt x="215" y="1591"/>
                  </a:cubicBezTo>
                  <a:cubicBezTo>
                    <a:pt x="198" y="1575"/>
                    <a:pt x="177" y="1564"/>
                    <a:pt x="156" y="1554"/>
                  </a:cubicBezTo>
                  <a:cubicBezTo>
                    <a:pt x="149" y="1551"/>
                    <a:pt x="127" y="1544"/>
                    <a:pt x="134" y="1547"/>
                  </a:cubicBezTo>
                  <a:cubicBezTo>
                    <a:pt x="161" y="1559"/>
                    <a:pt x="187" y="1574"/>
                    <a:pt x="215" y="1584"/>
                  </a:cubicBezTo>
                  <a:cubicBezTo>
                    <a:pt x="198" y="1532"/>
                    <a:pt x="212" y="1545"/>
                    <a:pt x="171" y="1517"/>
                  </a:cubicBezTo>
                  <a:cubicBezTo>
                    <a:pt x="157" y="1507"/>
                    <a:pt x="127" y="1488"/>
                    <a:pt x="127" y="1488"/>
                  </a:cubicBezTo>
                  <a:cubicBezTo>
                    <a:pt x="164" y="1475"/>
                    <a:pt x="137" y="1477"/>
                    <a:pt x="171" y="1502"/>
                  </a:cubicBezTo>
                  <a:cubicBezTo>
                    <a:pt x="180" y="1508"/>
                    <a:pt x="191" y="1511"/>
                    <a:pt x="200" y="1517"/>
                  </a:cubicBezTo>
                  <a:cubicBezTo>
                    <a:pt x="215" y="1526"/>
                    <a:pt x="245" y="1547"/>
                    <a:pt x="245" y="1547"/>
                  </a:cubicBezTo>
                  <a:cubicBezTo>
                    <a:pt x="240" y="1523"/>
                    <a:pt x="241" y="1506"/>
                    <a:pt x="223" y="1488"/>
                  </a:cubicBezTo>
                  <a:cubicBezTo>
                    <a:pt x="214" y="1479"/>
                    <a:pt x="203" y="1473"/>
                    <a:pt x="193" y="1465"/>
                  </a:cubicBezTo>
                  <a:cubicBezTo>
                    <a:pt x="185" y="1458"/>
                    <a:pt x="166" y="1452"/>
                    <a:pt x="171" y="1443"/>
                  </a:cubicBezTo>
                  <a:cubicBezTo>
                    <a:pt x="175" y="1434"/>
                    <a:pt x="191" y="1447"/>
                    <a:pt x="200" y="1451"/>
                  </a:cubicBezTo>
                  <a:cubicBezTo>
                    <a:pt x="225" y="1462"/>
                    <a:pt x="249" y="1476"/>
                    <a:pt x="274" y="1488"/>
                  </a:cubicBezTo>
                  <a:cubicBezTo>
                    <a:pt x="284" y="1493"/>
                    <a:pt x="304" y="1502"/>
                    <a:pt x="304" y="1502"/>
                  </a:cubicBezTo>
                  <a:cubicBezTo>
                    <a:pt x="277" y="1469"/>
                    <a:pt x="255" y="1421"/>
                    <a:pt x="215" y="1406"/>
                  </a:cubicBezTo>
                  <a:cubicBezTo>
                    <a:pt x="205" y="1399"/>
                    <a:pt x="197" y="1390"/>
                    <a:pt x="186" y="1384"/>
                  </a:cubicBezTo>
                  <a:cubicBezTo>
                    <a:pt x="179" y="1380"/>
                    <a:pt x="125" y="1368"/>
                    <a:pt x="193" y="1384"/>
                  </a:cubicBezTo>
                  <a:cubicBezTo>
                    <a:pt x="208" y="1391"/>
                    <a:pt x="223" y="1398"/>
                    <a:pt x="237" y="1406"/>
                  </a:cubicBezTo>
                  <a:cubicBezTo>
                    <a:pt x="245" y="1410"/>
                    <a:pt x="253" y="1427"/>
                    <a:pt x="260" y="1421"/>
                  </a:cubicBezTo>
                  <a:cubicBezTo>
                    <a:pt x="279" y="1403"/>
                    <a:pt x="208" y="1352"/>
                    <a:pt x="200" y="1347"/>
                  </a:cubicBezTo>
                  <a:cubicBezTo>
                    <a:pt x="176" y="1333"/>
                    <a:pt x="147" y="1329"/>
                    <a:pt x="127" y="1310"/>
                  </a:cubicBezTo>
                  <a:cubicBezTo>
                    <a:pt x="119" y="1303"/>
                    <a:pt x="96" y="1296"/>
                    <a:pt x="104" y="1288"/>
                  </a:cubicBezTo>
                  <a:cubicBezTo>
                    <a:pt x="117" y="1275"/>
                    <a:pt x="138" y="1304"/>
                    <a:pt x="156" y="1310"/>
                  </a:cubicBezTo>
                  <a:cubicBezTo>
                    <a:pt x="166" y="1318"/>
                    <a:pt x="189" y="1345"/>
                    <a:pt x="186" y="1333"/>
                  </a:cubicBezTo>
                  <a:cubicBezTo>
                    <a:pt x="181" y="1312"/>
                    <a:pt x="128" y="1276"/>
                    <a:pt x="149" y="1281"/>
                  </a:cubicBezTo>
                  <a:cubicBezTo>
                    <a:pt x="159" y="1283"/>
                    <a:pt x="168" y="1286"/>
                    <a:pt x="178" y="1288"/>
                  </a:cubicBezTo>
                  <a:cubicBezTo>
                    <a:pt x="211" y="1304"/>
                    <a:pt x="244" y="1313"/>
                    <a:pt x="274" y="1333"/>
                  </a:cubicBezTo>
                  <a:cubicBezTo>
                    <a:pt x="252" y="1286"/>
                    <a:pt x="228" y="1278"/>
                    <a:pt x="186" y="1244"/>
                  </a:cubicBezTo>
                  <a:cubicBezTo>
                    <a:pt x="178" y="1237"/>
                    <a:pt x="154" y="1222"/>
                    <a:pt x="164" y="1222"/>
                  </a:cubicBezTo>
                  <a:cubicBezTo>
                    <a:pt x="201" y="1222"/>
                    <a:pt x="233" y="1255"/>
                    <a:pt x="267" y="1266"/>
                  </a:cubicBezTo>
                  <a:cubicBezTo>
                    <a:pt x="238" y="1237"/>
                    <a:pt x="207" y="1217"/>
                    <a:pt x="171" y="1200"/>
                  </a:cubicBezTo>
                  <a:cubicBezTo>
                    <a:pt x="164" y="1192"/>
                    <a:pt x="158" y="1182"/>
                    <a:pt x="149" y="1177"/>
                  </a:cubicBezTo>
                  <a:cubicBezTo>
                    <a:pt x="140" y="1172"/>
                    <a:pt x="109" y="1167"/>
                    <a:pt x="119" y="1170"/>
                  </a:cubicBezTo>
                  <a:cubicBezTo>
                    <a:pt x="143" y="1178"/>
                    <a:pt x="169" y="1183"/>
                    <a:pt x="193" y="1192"/>
                  </a:cubicBezTo>
                  <a:cubicBezTo>
                    <a:pt x="214" y="1200"/>
                    <a:pt x="232" y="1212"/>
                    <a:pt x="252" y="1222"/>
                  </a:cubicBezTo>
                  <a:cubicBezTo>
                    <a:pt x="283" y="1238"/>
                    <a:pt x="197" y="1177"/>
                    <a:pt x="178" y="1148"/>
                  </a:cubicBezTo>
                  <a:cubicBezTo>
                    <a:pt x="156" y="1114"/>
                    <a:pt x="170" y="1132"/>
                    <a:pt x="134" y="1096"/>
                  </a:cubicBezTo>
                  <a:cubicBezTo>
                    <a:pt x="186" y="1086"/>
                    <a:pt x="235" y="1108"/>
                    <a:pt x="282" y="1133"/>
                  </a:cubicBezTo>
                  <a:cubicBezTo>
                    <a:pt x="289" y="1137"/>
                    <a:pt x="267" y="1128"/>
                    <a:pt x="260" y="1126"/>
                  </a:cubicBezTo>
                  <a:cubicBezTo>
                    <a:pt x="229" y="1101"/>
                    <a:pt x="202" y="1079"/>
                    <a:pt x="164" y="1067"/>
                  </a:cubicBezTo>
                  <a:cubicBezTo>
                    <a:pt x="82" y="1007"/>
                    <a:pt x="210" y="1068"/>
                    <a:pt x="230" y="1074"/>
                  </a:cubicBezTo>
                  <a:cubicBezTo>
                    <a:pt x="300" y="1122"/>
                    <a:pt x="198" y="1026"/>
                    <a:pt x="164" y="1015"/>
                  </a:cubicBezTo>
                  <a:cubicBezTo>
                    <a:pt x="220" y="1002"/>
                    <a:pt x="266" y="1034"/>
                    <a:pt x="319" y="1052"/>
                  </a:cubicBezTo>
                  <a:cubicBezTo>
                    <a:pt x="319" y="1052"/>
                    <a:pt x="288" y="1028"/>
                    <a:pt x="274" y="1015"/>
                  </a:cubicBezTo>
                  <a:cubicBezTo>
                    <a:pt x="264" y="1006"/>
                    <a:pt x="256" y="994"/>
                    <a:pt x="245" y="985"/>
                  </a:cubicBezTo>
                  <a:cubicBezTo>
                    <a:pt x="234" y="976"/>
                    <a:pt x="219" y="972"/>
                    <a:pt x="208" y="963"/>
                  </a:cubicBezTo>
                  <a:cubicBezTo>
                    <a:pt x="197" y="955"/>
                    <a:pt x="165" y="940"/>
                    <a:pt x="178" y="934"/>
                  </a:cubicBezTo>
                  <a:cubicBezTo>
                    <a:pt x="193" y="927"/>
                    <a:pt x="208" y="949"/>
                    <a:pt x="223" y="956"/>
                  </a:cubicBezTo>
                  <a:cubicBezTo>
                    <a:pt x="235" y="961"/>
                    <a:pt x="247" y="967"/>
                    <a:pt x="260" y="971"/>
                  </a:cubicBezTo>
                  <a:cubicBezTo>
                    <a:pt x="274" y="976"/>
                    <a:pt x="304" y="985"/>
                    <a:pt x="304" y="985"/>
                  </a:cubicBezTo>
                  <a:cubicBezTo>
                    <a:pt x="246" y="940"/>
                    <a:pt x="230" y="940"/>
                    <a:pt x="178" y="904"/>
                  </a:cubicBezTo>
                  <a:cubicBezTo>
                    <a:pt x="173" y="897"/>
                    <a:pt x="156" y="886"/>
                    <a:pt x="164" y="882"/>
                  </a:cubicBezTo>
                  <a:cubicBezTo>
                    <a:pt x="182" y="873"/>
                    <a:pt x="269" y="913"/>
                    <a:pt x="289" y="919"/>
                  </a:cubicBezTo>
                  <a:cubicBezTo>
                    <a:pt x="269" y="899"/>
                    <a:pt x="254" y="874"/>
                    <a:pt x="230" y="860"/>
                  </a:cubicBezTo>
                  <a:cubicBezTo>
                    <a:pt x="198" y="841"/>
                    <a:pt x="168" y="827"/>
                    <a:pt x="141" y="801"/>
                  </a:cubicBezTo>
                  <a:cubicBezTo>
                    <a:pt x="153" y="798"/>
                    <a:pt x="165" y="793"/>
                    <a:pt x="178" y="793"/>
                  </a:cubicBezTo>
                  <a:cubicBezTo>
                    <a:pt x="210" y="793"/>
                    <a:pt x="231" y="821"/>
                    <a:pt x="260" y="830"/>
                  </a:cubicBezTo>
                  <a:cubicBezTo>
                    <a:pt x="263" y="831"/>
                    <a:pt x="255" y="825"/>
                    <a:pt x="252" y="823"/>
                  </a:cubicBezTo>
                  <a:cubicBezTo>
                    <a:pt x="235" y="808"/>
                    <a:pt x="193" y="793"/>
                    <a:pt x="193" y="793"/>
                  </a:cubicBezTo>
                  <a:cubicBezTo>
                    <a:pt x="226" y="782"/>
                    <a:pt x="231" y="793"/>
                    <a:pt x="260" y="808"/>
                  </a:cubicBezTo>
                  <a:cubicBezTo>
                    <a:pt x="267" y="812"/>
                    <a:pt x="275" y="813"/>
                    <a:pt x="282" y="816"/>
                  </a:cubicBezTo>
                  <a:cubicBezTo>
                    <a:pt x="290" y="820"/>
                    <a:pt x="309" y="837"/>
                    <a:pt x="304" y="830"/>
                  </a:cubicBezTo>
                  <a:cubicBezTo>
                    <a:pt x="275" y="791"/>
                    <a:pt x="221" y="748"/>
                    <a:pt x="178" y="727"/>
                  </a:cubicBezTo>
                  <a:cubicBezTo>
                    <a:pt x="167" y="710"/>
                    <a:pt x="145" y="691"/>
                    <a:pt x="193" y="697"/>
                  </a:cubicBezTo>
                  <a:cubicBezTo>
                    <a:pt x="234" y="702"/>
                    <a:pt x="277" y="746"/>
                    <a:pt x="319" y="757"/>
                  </a:cubicBezTo>
                  <a:cubicBezTo>
                    <a:pt x="272" y="710"/>
                    <a:pt x="324" y="756"/>
                    <a:pt x="260" y="720"/>
                  </a:cubicBezTo>
                  <a:cubicBezTo>
                    <a:pt x="232" y="704"/>
                    <a:pt x="207" y="683"/>
                    <a:pt x="178" y="668"/>
                  </a:cubicBezTo>
                  <a:cubicBezTo>
                    <a:pt x="168" y="663"/>
                    <a:pt x="159" y="658"/>
                    <a:pt x="149" y="653"/>
                  </a:cubicBezTo>
                  <a:cubicBezTo>
                    <a:pt x="214" y="631"/>
                    <a:pt x="173" y="632"/>
                    <a:pt x="215" y="653"/>
                  </a:cubicBezTo>
                  <a:cubicBezTo>
                    <a:pt x="227" y="659"/>
                    <a:pt x="240" y="662"/>
                    <a:pt x="252" y="668"/>
                  </a:cubicBezTo>
                  <a:cubicBezTo>
                    <a:pt x="260" y="672"/>
                    <a:pt x="274" y="692"/>
                    <a:pt x="274" y="683"/>
                  </a:cubicBezTo>
                  <a:cubicBezTo>
                    <a:pt x="274" y="673"/>
                    <a:pt x="260" y="668"/>
                    <a:pt x="252" y="661"/>
                  </a:cubicBezTo>
                  <a:cubicBezTo>
                    <a:pt x="221" y="634"/>
                    <a:pt x="184" y="609"/>
                    <a:pt x="149" y="587"/>
                  </a:cubicBezTo>
                  <a:cubicBezTo>
                    <a:pt x="186" y="562"/>
                    <a:pt x="166" y="567"/>
                    <a:pt x="230" y="587"/>
                  </a:cubicBezTo>
                  <a:cubicBezTo>
                    <a:pt x="250" y="593"/>
                    <a:pt x="289" y="609"/>
                    <a:pt x="289" y="609"/>
                  </a:cubicBezTo>
                  <a:cubicBezTo>
                    <a:pt x="258" y="566"/>
                    <a:pt x="219" y="546"/>
                    <a:pt x="171" y="528"/>
                  </a:cubicBezTo>
                  <a:cubicBezTo>
                    <a:pt x="169" y="520"/>
                    <a:pt x="159" y="511"/>
                    <a:pt x="164" y="505"/>
                  </a:cubicBezTo>
                  <a:cubicBezTo>
                    <a:pt x="170" y="497"/>
                    <a:pt x="183" y="498"/>
                    <a:pt x="193" y="498"/>
                  </a:cubicBezTo>
                  <a:cubicBezTo>
                    <a:pt x="223" y="498"/>
                    <a:pt x="252" y="503"/>
                    <a:pt x="282" y="505"/>
                  </a:cubicBezTo>
                  <a:cubicBezTo>
                    <a:pt x="282" y="505"/>
                    <a:pt x="263" y="489"/>
                    <a:pt x="252" y="483"/>
                  </a:cubicBezTo>
                  <a:cubicBezTo>
                    <a:pt x="215" y="461"/>
                    <a:pt x="176" y="443"/>
                    <a:pt x="141" y="417"/>
                  </a:cubicBezTo>
                  <a:cubicBezTo>
                    <a:pt x="194" y="406"/>
                    <a:pt x="178" y="416"/>
                    <a:pt x="223" y="432"/>
                  </a:cubicBezTo>
                  <a:cubicBezTo>
                    <a:pt x="240" y="438"/>
                    <a:pt x="193" y="411"/>
                    <a:pt x="178" y="402"/>
                  </a:cubicBezTo>
                  <a:cubicBezTo>
                    <a:pt x="166" y="395"/>
                    <a:pt x="153" y="388"/>
                    <a:pt x="141" y="380"/>
                  </a:cubicBezTo>
                  <a:cubicBezTo>
                    <a:pt x="133" y="375"/>
                    <a:pt x="110" y="365"/>
                    <a:pt x="119" y="365"/>
                  </a:cubicBezTo>
                  <a:cubicBezTo>
                    <a:pt x="162" y="365"/>
                    <a:pt x="219" y="396"/>
                    <a:pt x="260" y="409"/>
                  </a:cubicBezTo>
                  <a:cubicBezTo>
                    <a:pt x="269" y="415"/>
                    <a:pt x="306" y="445"/>
                    <a:pt x="319" y="432"/>
                  </a:cubicBezTo>
                  <a:cubicBezTo>
                    <a:pt x="327" y="424"/>
                    <a:pt x="298" y="423"/>
                    <a:pt x="289" y="417"/>
                  </a:cubicBezTo>
                  <a:cubicBezTo>
                    <a:pt x="258" y="397"/>
                    <a:pt x="235" y="374"/>
                    <a:pt x="208" y="350"/>
                  </a:cubicBezTo>
                  <a:cubicBezTo>
                    <a:pt x="199" y="342"/>
                    <a:pt x="187" y="336"/>
                    <a:pt x="178" y="328"/>
                  </a:cubicBezTo>
                  <a:cubicBezTo>
                    <a:pt x="170" y="321"/>
                    <a:pt x="146" y="308"/>
                    <a:pt x="156" y="306"/>
                  </a:cubicBezTo>
                  <a:cubicBezTo>
                    <a:pt x="176" y="302"/>
                    <a:pt x="195" y="316"/>
                    <a:pt x="215" y="321"/>
                  </a:cubicBezTo>
                  <a:cubicBezTo>
                    <a:pt x="221" y="325"/>
                    <a:pt x="282" y="355"/>
                    <a:pt x="282" y="358"/>
                  </a:cubicBezTo>
                  <a:cubicBezTo>
                    <a:pt x="282" y="366"/>
                    <a:pt x="267" y="353"/>
                    <a:pt x="260" y="350"/>
                  </a:cubicBezTo>
                  <a:cubicBezTo>
                    <a:pt x="252" y="346"/>
                    <a:pt x="245" y="340"/>
                    <a:pt x="237" y="336"/>
                  </a:cubicBezTo>
                  <a:cubicBezTo>
                    <a:pt x="208" y="321"/>
                    <a:pt x="178" y="306"/>
                    <a:pt x="149" y="291"/>
                  </a:cubicBezTo>
                  <a:cubicBezTo>
                    <a:pt x="139" y="286"/>
                    <a:pt x="128" y="283"/>
                    <a:pt x="119" y="277"/>
                  </a:cubicBezTo>
                  <a:cubicBezTo>
                    <a:pt x="112" y="272"/>
                    <a:pt x="88" y="262"/>
                    <a:pt x="97" y="262"/>
                  </a:cubicBezTo>
                  <a:cubicBezTo>
                    <a:pt x="135" y="262"/>
                    <a:pt x="171" y="297"/>
                    <a:pt x="208" y="306"/>
                  </a:cubicBezTo>
                  <a:cubicBezTo>
                    <a:pt x="220" y="312"/>
                    <a:pt x="323" y="350"/>
                    <a:pt x="245" y="328"/>
                  </a:cubicBezTo>
                  <a:cubicBezTo>
                    <a:pt x="208" y="306"/>
                    <a:pt x="171" y="284"/>
                    <a:pt x="134" y="262"/>
                  </a:cubicBezTo>
                  <a:cubicBezTo>
                    <a:pt x="123" y="256"/>
                    <a:pt x="96" y="249"/>
                    <a:pt x="104" y="240"/>
                  </a:cubicBezTo>
                  <a:cubicBezTo>
                    <a:pt x="108" y="235"/>
                    <a:pt x="166" y="267"/>
                    <a:pt x="171" y="269"/>
                  </a:cubicBezTo>
                  <a:cubicBezTo>
                    <a:pt x="200" y="280"/>
                    <a:pt x="232" y="285"/>
                    <a:pt x="260" y="299"/>
                  </a:cubicBezTo>
                  <a:cubicBezTo>
                    <a:pt x="270" y="304"/>
                    <a:pt x="298" y="319"/>
                    <a:pt x="289" y="313"/>
                  </a:cubicBezTo>
                  <a:cubicBezTo>
                    <a:pt x="270" y="299"/>
                    <a:pt x="230" y="277"/>
                    <a:pt x="230" y="277"/>
                  </a:cubicBezTo>
                  <a:cubicBezTo>
                    <a:pt x="223" y="267"/>
                    <a:pt x="218" y="254"/>
                    <a:pt x="208" y="247"/>
                  </a:cubicBezTo>
                  <a:cubicBezTo>
                    <a:pt x="195" y="238"/>
                    <a:pt x="178" y="239"/>
                    <a:pt x="164" y="232"/>
                  </a:cubicBezTo>
                  <a:cubicBezTo>
                    <a:pt x="153" y="226"/>
                    <a:pt x="122" y="214"/>
                    <a:pt x="134" y="210"/>
                  </a:cubicBezTo>
                  <a:cubicBezTo>
                    <a:pt x="151" y="205"/>
                    <a:pt x="169" y="220"/>
                    <a:pt x="186" y="225"/>
                  </a:cubicBezTo>
                  <a:cubicBezTo>
                    <a:pt x="214" y="244"/>
                    <a:pt x="242" y="244"/>
                    <a:pt x="274" y="254"/>
                  </a:cubicBezTo>
                  <a:cubicBezTo>
                    <a:pt x="281" y="259"/>
                    <a:pt x="302" y="275"/>
                    <a:pt x="296" y="269"/>
                  </a:cubicBezTo>
                  <a:cubicBezTo>
                    <a:pt x="285" y="258"/>
                    <a:pt x="273" y="248"/>
                    <a:pt x="260" y="240"/>
                  </a:cubicBezTo>
                  <a:cubicBezTo>
                    <a:pt x="251" y="235"/>
                    <a:pt x="240" y="235"/>
                    <a:pt x="230" y="232"/>
                  </a:cubicBezTo>
                  <a:cubicBezTo>
                    <a:pt x="177" y="193"/>
                    <a:pt x="224" y="225"/>
                    <a:pt x="156" y="188"/>
                  </a:cubicBezTo>
                  <a:cubicBezTo>
                    <a:pt x="143" y="181"/>
                    <a:pt x="132" y="173"/>
                    <a:pt x="119" y="166"/>
                  </a:cubicBezTo>
                  <a:cubicBezTo>
                    <a:pt x="112" y="162"/>
                    <a:pt x="89" y="157"/>
                    <a:pt x="97" y="158"/>
                  </a:cubicBezTo>
                  <a:cubicBezTo>
                    <a:pt x="173" y="167"/>
                    <a:pt x="232" y="200"/>
                    <a:pt x="304" y="217"/>
                  </a:cubicBezTo>
                  <a:cubicBezTo>
                    <a:pt x="259" y="195"/>
                    <a:pt x="217" y="172"/>
                    <a:pt x="171" y="151"/>
                  </a:cubicBezTo>
                  <a:cubicBezTo>
                    <a:pt x="112" y="124"/>
                    <a:pt x="144" y="134"/>
                    <a:pt x="90" y="114"/>
                  </a:cubicBezTo>
                  <a:cubicBezTo>
                    <a:pt x="83" y="111"/>
                    <a:pt x="61" y="104"/>
                    <a:pt x="68" y="107"/>
                  </a:cubicBezTo>
                  <a:cubicBezTo>
                    <a:pt x="95" y="121"/>
                    <a:pt x="126" y="129"/>
                    <a:pt x="156" y="136"/>
                  </a:cubicBezTo>
                  <a:cubicBezTo>
                    <a:pt x="168" y="144"/>
                    <a:pt x="241" y="173"/>
                    <a:pt x="178" y="136"/>
                  </a:cubicBezTo>
                  <a:cubicBezTo>
                    <a:pt x="157" y="124"/>
                    <a:pt x="133" y="118"/>
                    <a:pt x="112" y="107"/>
                  </a:cubicBezTo>
                  <a:cubicBezTo>
                    <a:pt x="101" y="101"/>
                    <a:pt x="93" y="91"/>
                    <a:pt x="82" y="85"/>
                  </a:cubicBezTo>
                  <a:cubicBezTo>
                    <a:pt x="68" y="76"/>
                    <a:pt x="53" y="69"/>
                    <a:pt x="38" y="62"/>
                  </a:cubicBezTo>
                  <a:cubicBezTo>
                    <a:pt x="28" y="57"/>
                    <a:pt x="0" y="56"/>
                    <a:pt x="8" y="48"/>
                  </a:cubicBezTo>
                  <a:cubicBezTo>
                    <a:pt x="17" y="39"/>
                    <a:pt x="33" y="52"/>
                    <a:pt x="45" y="55"/>
                  </a:cubicBezTo>
                  <a:cubicBezTo>
                    <a:pt x="88" y="66"/>
                    <a:pt x="121" y="84"/>
                    <a:pt x="164" y="92"/>
                  </a:cubicBezTo>
                  <a:cubicBezTo>
                    <a:pt x="174" y="97"/>
                    <a:pt x="193" y="118"/>
                    <a:pt x="193" y="107"/>
                  </a:cubicBezTo>
                  <a:cubicBezTo>
                    <a:pt x="193" y="95"/>
                    <a:pt x="175" y="91"/>
                    <a:pt x="164" y="85"/>
                  </a:cubicBezTo>
                  <a:cubicBezTo>
                    <a:pt x="157" y="81"/>
                    <a:pt x="148" y="81"/>
                    <a:pt x="141" y="77"/>
                  </a:cubicBezTo>
                  <a:cubicBezTo>
                    <a:pt x="119" y="65"/>
                    <a:pt x="97" y="40"/>
                    <a:pt x="68" y="40"/>
                  </a:cubicBezTo>
                  <a:cubicBezTo>
                    <a:pt x="60" y="40"/>
                    <a:pt x="83" y="45"/>
                    <a:pt x="90" y="48"/>
                  </a:cubicBezTo>
                  <a:cubicBezTo>
                    <a:pt x="97" y="50"/>
                    <a:pt x="105" y="53"/>
                    <a:pt x="112" y="55"/>
                  </a:cubicBezTo>
                  <a:cubicBezTo>
                    <a:pt x="122" y="58"/>
                    <a:pt x="131" y="60"/>
                    <a:pt x="141" y="62"/>
                  </a:cubicBezTo>
                  <a:cubicBezTo>
                    <a:pt x="162" y="73"/>
                    <a:pt x="194" y="90"/>
                    <a:pt x="149" y="62"/>
                  </a:cubicBezTo>
                  <a:cubicBezTo>
                    <a:pt x="107" y="36"/>
                    <a:pt x="123" y="43"/>
                    <a:pt x="82" y="33"/>
                  </a:cubicBezTo>
                  <a:cubicBezTo>
                    <a:pt x="70" y="26"/>
                    <a:pt x="58" y="18"/>
                    <a:pt x="45" y="11"/>
                  </a:cubicBezTo>
                  <a:cubicBezTo>
                    <a:pt x="38" y="7"/>
                    <a:pt x="16" y="0"/>
                    <a:pt x="23" y="3"/>
                  </a:cubicBezTo>
                  <a:cubicBezTo>
                    <a:pt x="49" y="15"/>
                    <a:pt x="77" y="23"/>
                    <a:pt x="104" y="33"/>
                  </a:cubicBezTo>
                  <a:cubicBezTo>
                    <a:pt x="114" y="37"/>
                    <a:pt x="85" y="22"/>
                    <a:pt x="75" y="18"/>
                  </a:cubicBezTo>
                  <a:cubicBezTo>
                    <a:pt x="68" y="15"/>
                    <a:pt x="46" y="8"/>
                    <a:pt x="53" y="11"/>
                  </a:cubicBezTo>
                  <a:cubicBezTo>
                    <a:pt x="105" y="35"/>
                    <a:pt x="135" y="44"/>
                    <a:pt x="171" y="92"/>
                  </a:cubicBezTo>
                  <a:cubicBezTo>
                    <a:pt x="176" y="99"/>
                    <a:pt x="180" y="107"/>
                    <a:pt x="186" y="114"/>
                  </a:cubicBezTo>
                  <a:cubicBezTo>
                    <a:pt x="195" y="125"/>
                    <a:pt x="227" y="151"/>
                    <a:pt x="215" y="144"/>
                  </a:cubicBezTo>
                  <a:cubicBezTo>
                    <a:pt x="171" y="117"/>
                    <a:pt x="164" y="116"/>
                    <a:pt x="200" y="129"/>
                  </a:cubicBezTo>
                  <a:cubicBezTo>
                    <a:pt x="210" y="136"/>
                    <a:pt x="222" y="142"/>
                    <a:pt x="230" y="151"/>
                  </a:cubicBezTo>
                  <a:cubicBezTo>
                    <a:pt x="244" y="167"/>
                    <a:pt x="267" y="203"/>
                    <a:pt x="267" y="203"/>
                  </a:cubicBezTo>
                  <a:cubicBezTo>
                    <a:pt x="277" y="256"/>
                    <a:pt x="313" y="298"/>
                    <a:pt x="333" y="350"/>
                  </a:cubicBezTo>
                  <a:cubicBezTo>
                    <a:pt x="331" y="367"/>
                    <a:pt x="338" y="389"/>
                    <a:pt x="326" y="402"/>
                  </a:cubicBezTo>
                  <a:cubicBezTo>
                    <a:pt x="317" y="411"/>
                    <a:pt x="300" y="402"/>
                    <a:pt x="289" y="395"/>
                  </a:cubicBezTo>
                  <a:cubicBezTo>
                    <a:pt x="278" y="388"/>
                    <a:pt x="276" y="373"/>
                    <a:pt x="267" y="365"/>
                  </a:cubicBezTo>
                  <a:cubicBezTo>
                    <a:pt x="259" y="358"/>
                    <a:pt x="247" y="355"/>
                    <a:pt x="237" y="350"/>
                  </a:cubicBezTo>
                  <a:cubicBezTo>
                    <a:pt x="217" y="324"/>
                    <a:pt x="205" y="306"/>
                    <a:pt x="178" y="284"/>
                  </a:cubicBezTo>
                  <a:cubicBezTo>
                    <a:pt x="169" y="277"/>
                    <a:pt x="140" y="263"/>
                    <a:pt x="149" y="269"/>
                  </a:cubicBezTo>
                  <a:cubicBezTo>
                    <a:pt x="165" y="280"/>
                    <a:pt x="183" y="289"/>
                    <a:pt x="200" y="299"/>
                  </a:cubicBezTo>
                  <a:cubicBezTo>
                    <a:pt x="220" y="357"/>
                    <a:pt x="241" y="416"/>
                    <a:pt x="252" y="476"/>
                  </a:cubicBezTo>
                  <a:cubicBezTo>
                    <a:pt x="247" y="498"/>
                    <a:pt x="255" y="528"/>
                    <a:pt x="237" y="542"/>
                  </a:cubicBezTo>
                  <a:cubicBezTo>
                    <a:pt x="225" y="551"/>
                    <a:pt x="228" y="512"/>
                    <a:pt x="223" y="498"/>
                  </a:cubicBezTo>
                  <a:cubicBezTo>
                    <a:pt x="219" y="485"/>
                    <a:pt x="214" y="473"/>
                    <a:pt x="208" y="461"/>
                  </a:cubicBezTo>
                  <a:cubicBezTo>
                    <a:pt x="178" y="401"/>
                    <a:pt x="193" y="447"/>
                    <a:pt x="178" y="402"/>
                  </a:cubicBezTo>
                  <a:cubicBezTo>
                    <a:pt x="176" y="395"/>
                    <a:pt x="163" y="380"/>
                    <a:pt x="171" y="380"/>
                  </a:cubicBezTo>
                  <a:cubicBezTo>
                    <a:pt x="181" y="380"/>
                    <a:pt x="186" y="395"/>
                    <a:pt x="193" y="402"/>
                  </a:cubicBezTo>
                  <a:cubicBezTo>
                    <a:pt x="203" y="445"/>
                    <a:pt x="216" y="486"/>
                    <a:pt x="230" y="528"/>
                  </a:cubicBezTo>
                  <a:cubicBezTo>
                    <a:pt x="235" y="567"/>
                    <a:pt x="242" y="606"/>
                    <a:pt x="245" y="646"/>
                  </a:cubicBezTo>
                  <a:cubicBezTo>
                    <a:pt x="250" y="711"/>
                    <a:pt x="241" y="822"/>
                    <a:pt x="282" y="882"/>
                  </a:cubicBezTo>
                  <a:cubicBezTo>
                    <a:pt x="275" y="761"/>
                    <a:pt x="267" y="644"/>
                    <a:pt x="230" y="528"/>
                  </a:cubicBezTo>
                  <a:cubicBezTo>
                    <a:pt x="228" y="626"/>
                    <a:pt x="229" y="725"/>
                    <a:pt x="223" y="823"/>
                  </a:cubicBezTo>
                  <a:cubicBezTo>
                    <a:pt x="222" y="836"/>
                    <a:pt x="218" y="798"/>
                    <a:pt x="215" y="786"/>
                  </a:cubicBezTo>
                  <a:cubicBezTo>
                    <a:pt x="213" y="779"/>
                    <a:pt x="210" y="772"/>
                    <a:pt x="208" y="764"/>
                  </a:cubicBezTo>
                  <a:cubicBezTo>
                    <a:pt x="205" y="749"/>
                    <a:pt x="203" y="735"/>
                    <a:pt x="200" y="720"/>
                  </a:cubicBezTo>
                  <a:cubicBezTo>
                    <a:pt x="189" y="670"/>
                    <a:pt x="173" y="631"/>
                    <a:pt x="149" y="587"/>
                  </a:cubicBezTo>
                  <a:cubicBezTo>
                    <a:pt x="144" y="577"/>
                    <a:pt x="138" y="567"/>
                    <a:pt x="134" y="557"/>
                  </a:cubicBezTo>
                  <a:cubicBezTo>
                    <a:pt x="131" y="550"/>
                    <a:pt x="124" y="528"/>
                    <a:pt x="127" y="535"/>
                  </a:cubicBezTo>
                  <a:cubicBezTo>
                    <a:pt x="134" y="550"/>
                    <a:pt x="151" y="602"/>
                    <a:pt x="156" y="616"/>
                  </a:cubicBezTo>
                  <a:cubicBezTo>
                    <a:pt x="165" y="728"/>
                    <a:pt x="187" y="837"/>
                    <a:pt x="200" y="949"/>
                  </a:cubicBezTo>
                  <a:cubicBezTo>
                    <a:pt x="234" y="822"/>
                    <a:pt x="135" y="652"/>
                    <a:pt x="252" y="572"/>
                  </a:cubicBezTo>
                  <a:cubicBezTo>
                    <a:pt x="269" y="622"/>
                    <a:pt x="275" y="668"/>
                    <a:pt x="282" y="720"/>
                  </a:cubicBezTo>
                  <a:cubicBezTo>
                    <a:pt x="287" y="805"/>
                    <a:pt x="289" y="893"/>
                    <a:pt x="304" y="978"/>
                  </a:cubicBezTo>
                  <a:cubicBezTo>
                    <a:pt x="304" y="978"/>
                    <a:pt x="359" y="1182"/>
                    <a:pt x="326" y="1052"/>
                  </a:cubicBezTo>
                  <a:cubicBezTo>
                    <a:pt x="322" y="1037"/>
                    <a:pt x="317" y="1022"/>
                    <a:pt x="311" y="1008"/>
                  </a:cubicBezTo>
                  <a:cubicBezTo>
                    <a:pt x="280" y="931"/>
                    <a:pt x="308" y="1016"/>
                    <a:pt x="289" y="956"/>
                  </a:cubicBezTo>
                  <a:cubicBezTo>
                    <a:pt x="274" y="1004"/>
                    <a:pt x="293" y="1099"/>
                    <a:pt x="296" y="1141"/>
                  </a:cubicBezTo>
                  <a:cubicBezTo>
                    <a:pt x="292" y="1215"/>
                    <a:pt x="297" y="1311"/>
                    <a:pt x="252" y="1377"/>
                  </a:cubicBezTo>
                  <a:cubicBezTo>
                    <a:pt x="240" y="1247"/>
                    <a:pt x="251" y="1306"/>
                    <a:pt x="237" y="1355"/>
                  </a:cubicBezTo>
                  <a:cubicBezTo>
                    <a:pt x="232" y="1373"/>
                    <a:pt x="222" y="1389"/>
                    <a:pt x="215" y="1406"/>
                  </a:cubicBezTo>
                  <a:cubicBezTo>
                    <a:pt x="207" y="1468"/>
                    <a:pt x="197" y="1567"/>
                    <a:pt x="164" y="1621"/>
                  </a:cubicBezTo>
                  <a:cubicBezTo>
                    <a:pt x="169" y="1514"/>
                    <a:pt x="175" y="1409"/>
                    <a:pt x="186" y="1303"/>
                  </a:cubicBezTo>
                  <a:cubicBezTo>
                    <a:pt x="199" y="1021"/>
                    <a:pt x="194" y="1173"/>
                    <a:pt x="178" y="1310"/>
                  </a:cubicBezTo>
                  <a:cubicBezTo>
                    <a:pt x="168" y="1391"/>
                    <a:pt x="152" y="1468"/>
                    <a:pt x="134" y="1547"/>
                  </a:cubicBezTo>
                  <a:cubicBezTo>
                    <a:pt x="147" y="1301"/>
                    <a:pt x="128" y="1500"/>
                    <a:pt x="156" y="1355"/>
                  </a:cubicBezTo>
                  <a:cubicBezTo>
                    <a:pt x="160" y="1336"/>
                    <a:pt x="160" y="1315"/>
                    <a:pt x="164" y="1296"/>
                  </a:cubicBezTo>
                  <a:cubicBezTo>
                    <a:pt x="167" y="1278"/>
                    <a:pt x="187" y="1228"/>
                    <a:pt x="178" y="1244"/>
                  </a:cubicBezTo>
                  <a:cubicBezTo>
                    <a:pt x="166" y="1264"/>
                    <a:pt x="163" y="1288"/>
                    <a:pt x="156" y="1310"/>
                  </a:cubicBezTo>
                  <a:cubicBezTo>
                    <a:pt x="140" y="1476"/>
                    <a:pt x="160" y="1288"/>
                    <a:pt x="134" y="1465"/>
                  </a:cubicBezTo>
                  <a:cubicBezTo>
                    <a:pt x="125" y="1523"/>
                    <a:pt x="129" y="1589"/>
                    <a:pt x="104" y="1643"/>
                  </a:cubicBezTo>
                  <a:cubicBezTo>
                    <a:pt x="99" y="1654"/>
                    <a:pt x="109" y="1618"/>
                    <a:pt x="112" y="1606"/>
                  </a:cubicBezTo>
                  <a:cubicBezTo>
                    <a:pt x="116" y="1591"/>
                    <a:pt x="122" y="1576"/>
                    <a:pt x="127" y="1561"/>
                  </a:cubicBezTo>
                  <a:cubicBezTo>
                    <a:pt x="138" y="1525"/>
                    <a:pt x="142" y="1500"/>
                    <a:pt x="156" y="1465"/>
                  </a:cubicBezTo>
                  <a:cubicBezTo>
                    <a:pt x="160" y="1455"/>
                    <a:pt x="167" y="1446"/>
                    <a:pt x="171" y="1436"/>
                  </a:cubicBezTo>
                  <a:cubicBezTo>
                    <a:pt x="174" y="1429"/>
                    <a:pt x="179" y="1406"/>
                    <a:pt x="178" y="1414"/>
                  </a:cubicBezTo>
                  <a:cubicBezTo>
                    <a:pt x="162" y="1508"/>
                    <a:pt x="142" y="1600"/>
                    <a:pt x="127" y="1694"/>
                  </a:cubicBezTo>
                  <a:cubicBezTo>
                    <a:pt x="132" y="1709"/>
                    <a:pt x="126" y="1743"/>
                    <a:pt x="141" y="1739"/>
                  </a:cubicBezTo>
                  <a:cubicBezTo>
                    <a:pt x="159" y="1735"/>
                    <a:pt x="150" y="1704"/>
                    <a:pt x="156" y="1687"/>
                  </a:cubicBezTo>
                  <a:cubicBezTo>
                    <a:pt x="173" y="1635"/>
                    <a:pt x="189" y="1583"/>
                    <a:pt x="208" y="1532"/>
                  </a:cubicBezTo>
                  <a:cubicBezTo>
                    <a:pt x="221" y="1611"/>
                    <a:pt x="212" y="1716"/>
                    <a:pt x="215" y="1790"/>
                  </a:cubicBezTo>
                  <a:cubicBezTo>
                    <a:pt x="220" y="1780"/>
                    <a:pt x="226" y="1771"/>
                    <a:pt x="230" y="1761"/>
                  </a:cubicBezTo>
                  <a:cubicBezTo>
                    <a:pt x="233" y="1754"/>
                    <a:pt x="237" y="1731"/>
                    <a:pt x="237" y="1739"/>
                  </a:cubicBezTo>
                  <a:cubicBezTo>
                    <a:pt x="237" y="1782"/>
                    <a:pt x="224" y="1829"/>
                    <a:pt x="200" y="1864"/>
                  </a:cubicBezTo>
                  <a:cubicBezTo>
                    <a:pt x="139" y="1672"/>
                    <a:pt x="172" y="1462"/>
                    <a:pt x="208" y="1266"/>
                  </a:cubicBezTo>
                  <a:cubicBezTo>
                    <a:pt x="205" y="1197"/>
                    <a:pt x="205" y="1128"/>
                    <a:pt x="200" y="1059"/>
                  </a:cubicBezTo>
                  <a:cubicBezTo>
                    <a:pt x="199" y="1051"/>
                    <a:pt x="193" y="1029"/>
                    <a:pt x="193" y="1037"/>
                  </a:cubicBezTo>
                  <a:cubicBezTo>
                    <a:pt x="193" y="1073"/>
                    <a:pt x="201" y="1067"/>
                    <a:pt x="230" y="1081"/>
                  </a:cubicBezTo>
                  <a:cubicBezTo>
                    <a:pt x="303" y="1260"/>
                    <a:pt x="219" y="1474"/>
                    <a:pt x="164" y="1650"/>
                  </a:cubicBezTo>
                  <a:cubicBezTo>
                    <a:pt x="138" y="1734"/>
                    <a:pt x="128" y="1790"/>
                    <a:pt x="97" y="1864"/>
                  </a:cubicBezTo>
                  <a:cubicBezTo>
                    <a:pt x="84" y="1894"/>
                    <a:pt x="73" y="1924"/>
                    <a:pt x="60" y="1953"/>
                  </a:cubicBezTo>
                  <a:cubicBezTo>
                    <a:pt x="56" y="1961"/>
                    <a:pt x="45" y="1984"/>
                    <a:pt x="45" y="1975"/>
                  </a:cubicBezTo>
                  <a:cubicBezTo>
                    <a:pt x="45" y="1965"/>
                    <a:pt x="69" y="1920"/>
                    <a:pt x="75" y="1909"/>
                  </a:cubicBezTo>
                  <a:cubicBezTo>
                    <a:pt x="85" y="1856"/>
                    <a:pt x="78" y="1884"/>
                    <a:pt x="97" y="1827"/>
                  </a:cubicBezTo>
                  <a:cubicBezTo>
                    <a:pt x="111" y="1785"/>
                    <a:pt x="39" y="1912"/>
                    <a:pt x="53" y="1894"/>
                  </a:cubicBezTo>
                  <a:cubicBezTo>
                    <a:pt x="81" y="1855"/>
                    <a:pt x="64" y="1870"/>
                    <a:pt x="104" y="1849"/>
                  </a:cubicBezTo>
                  <a:cubicBezTo>
                    <a:pt x="113" y="1823"/>
                    <a:pt x="110" y="1809"/>
                    <a:pt x="149" y="1842"/>
                  </a:cubicBezTo>
                  <a:cubicBezTo>
                    <a:pt x="159" y="1850"/>
                    <a:pt x="176" y="1933"/>
                    <a:pt x="178" y="1945"/>
                  </a:cubicBezTo>
                  <a:cubicBezTo>
                    <a:pt x="186" y="1923"/>
                    <a:pt x="183" y="1864"/>
                    <a:pt x="200" y="1916"/>
                  </a:cubicBezTo>
                  <a:cubicBezTo>
                    <a:pt x="203" y="1936"/>
                    <a:pt x="212" y="1955"/>
                    <a:pt x="208" y="1975"/>
                  </a:cubicBezTo>
                  <a:cubicBezTo>
                    <a:pt x="206" y="1984"/>
                    <a:pt x="193" y="1953"/>
                    <a:pt x="193" y="195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50"/>
            <p:cNvSpPr/>
            <p:nvPr/>
          </p:nvSpPr>
          <p:spPr>
            <a:xfrm>
              <a:off x="368280" y="2382840"/>
              <a:ext cx="382680" cy="2865600"/>
            </a:xfrm>
            <a:custGeom>
              <a:avLst/>
              <a:gdLst/>
              <a:ahLst/>
              <a:rect l="l" t="t" r="r" b="b"/>
              <a:pathLst>
                <a:path w="241" h="1805">
                  <a:moveTo>
                    <a:pt x="12" y="1686"/>
                  </a:moveTo>
                  <a:cubicBezTo>
                    <a:pt x="36" y="1649"/>
                    <a:pt x="56" y="1612"/>
                    <a:pt x="78" y="1575"/>
                  </a:cubicBezTo>
                  <a:cubicBezTo>
                    <a:pt x="81" y="1565"/>
                    <a:pt x="82" y="1555"/>
                    <a:pt x="86" y="1545"/>
                  </a:cubicBezTo>
                  <a:cubicBezTo>
                    <a:pt x="90" y="1535"/>
                    <a:pt x="92" y="1508"/>
                    <a:pt x="100" y="1516"/>
                  </a:cubicBezTo>
                  <a:cubicBezTo>
                    <a:pt x="112" y="1528"/>
                    <a:pt x="105" y="1550"/>
                    <a:pt x="108" y="1567"/>
                  </a:cubicBezTo>
                  <a:cubicBezTo>
                    <a:pt x="98" y="1631"/>
                    <a:pt x="105" y="1698"/>
                    <a:pt x="86" y="1759"/>
                  </a:cubicBezTo>
                  <a:cubicBezTo>
                    <a:pt x="83" y="1749"/>
                    <a:pt x="79" y="1740"/>
                    <a:pt x="78" y="1730"/>
                  </a:cubicBezTo>
                  <a:cubicBezTo>
                    <a:pt x="74" y="1668"/>
                    <a:pt x="81" y="1606"/>
                    <a:pt x="71" y="1545"/>
                  </a:cubicBezTo>
                  <a:cubicBezTo>
                    <a:pt x="68" y="1527"/>
                    <a:pt x="61" y="1580"/>
                    <a:pt x="56" y="1597"/>
                  </a:cubicBezTo>
                  <a:cubicBezTo>
                    <a:pt x="51" y="1612"/>
                    <a:pt x="45" y="1626"/>
                    <a:pt x="41" y="1641"/>
                  </a:cubicBezTo>
                  <a:cubicBezTo>
                    <a:pt x="35" y="1668"/>
                    <a:pt x="33" y="1696"/>
                    <a:pt x="26" y="1723"/>
                  </a:cubicBezTo>
                  <a:cubicBezTo>
                    <a:pt x="23" y="1736"/>
                    <a:pt x="16" y="1747"/>
                    <a:pt x="12" y="1759"/>
                  </a:cubicBezTo>
                  <a:cubicBezTo>
                    <a:pt x="9" y="1767"/>
                    <a:pt x="0" y="1789"/>
                    <a:pt x="4" y="1782"/>
                  </a:cubicBezTo>
                  <a:cubicBezTo>
                    <a:pt x="10" y="1770"/>
                    <a:pt x="14" y="1757"/>
                    <a:pt x="19" y="1745"/>
                  </a:cubicBezTo>
                  <a:cubicBezTo>
                    <a:pt x="26" y="1691"/>
                    <a:pt x="42" y="1642"/>
                    <a:pt x="56" y="1590"/>
                  </a:cubicBezTo>
                  <a:cubicBezTo>
                    <a:pt x="65" y="1558"/>
                    <a:pt x="86" y="1528"/>
                    <a:pt x="86" y="1494"/>
                  </a:cubicBezTo>
                  <a:cubicBezTo>
                    <a:pt x="86" y="1481"/>
                    <a:pt x="76" y="1519"/>
                    <a:pt x="71" y="1531"/>
                  </a:cubicBezTo>
                  <a:cubicBezTo>
                    <a:pt x="63" y="1581"/>
                    <a:pt x="50" y="1628"/>
                    <a:pt x="41" y="1678"/>
                  </a:cubicBezTo>
                  <a:cubicBezTo>
                    <a:pt x="39" y="1690"/>
                    <a:pt x="37" y="1703"/>
                    <a:pt x="34" y="1715"/>
                  </a:cubicBezTo>
                  <a:cubicBezTo>
                    <a:pt x="32" y="1723"/>
                    <a:pt x="20" y="1743"/>
                    <a:pt x="26" y="1737"/>
                  </a:cubicBezTo>
                  <a:cubicBezTo>
                    <a:pt x="34" y="1729"/>
                    <a:pt x="36" y="1718"/>
                    <a:pt x="41" y="1708"/>
                  </a:cubicBezTo>
                  <a:cubicBezTo>
                    <a:pt x="52" y="1601"/>
                    <a:pt x="78" y="1486"/>
                    <a:pt x="108" y="1383"/>
                  </a:cubicBezTo>
                  <a:cubicBezTo>
                    <a:pt x="103" y="1373"/>
                    <a:pt x="102" y="1347"/>
                    <a:pt x="93" y="1353"/>
                  </a:cubicBezTo>
                  <a:cubicBezTo>
                    <a:pt x="80" y="1362"/>
                    <a:pt x="88" y="1383"/>
                    <a:pt x="86" y="1398"/>
                  </a:cubicBezTo>
                  <a:cubicBezTo>
                    <a:pt x="83" y="1418"/>
                    <a:pt x="82" y="1438"/>
                    <a:pt x="78" y="1457"/>
                  </a:cubicBezTo>
                  <a:cubicBezTo>
                    <a:pt x="65" y="1526"/>
                    <a:pt x="52" y="1593"/>
                    <a:pt x="41" y="1663"/>
                  </a:cubicBezTo>
                  <a:cubicBezTo>
                    <a:pt x="39" y="1674"/>
                    <a:pt x="51" y="1644"/>
                    <a:pt x="56" y="1634"/>
                  </a:cubicBezTo>
                  <a:cubicBezTo>
                    <a:pt x="62" y="1622"/>
                    <a:pt x="67" y="1610"/>
                    <a:pt x="71" y="1597"/>
                  </a:cubicBezTo>
                  <a:cubicBezTo>
                    <a:pt x="91" y="1529"/>
                    <a:pt x="98" y="1458"/>
                    <a:pt x="115" y="1390"/>
                  </a:cubicBezTo>
                  <a:cubicBezTo>
                    <a:pt x="132" y="1227"/>
                    <a:pt x="120" y="1296"/>
                    <a:pt x="145" y="1183"/>
                  </a:cubicBezTo>
                  <a:cubicBezTo>
                    <a:pt x="134" y="1093"/>
                    <a:pt x="142" y="1102"/>
                    <a:pt x="130" y="1154"/>
                  </a:cubicBezTo>
                  <a:cubicBezTo>
                    <a:pt x="108" y="1251"/>
                    <a:pt x="139" y="1092"/>
                    <a:pt x="115" y="1228"/>
                  </a:cubicBezTo>
                  <a:cubicBezTo>
                    <a:pt x="104" y="1291"/>
                    <a:pt x="87" y="1354"/>
                    <a:pt x="115" y="1265"/>
                  </a:cubicBezTo>
                  <a:cubicBezTo>
                    <a:pt x="120" y="1248"/>
                    <a:pt x="125" y="1230"/>
                    <a:pt x="130" y="1213"/>
                  </a:cubicBezTo>
                  <a:cubicBezTo>
                    <a:pt x="147" y="1071"/>
                    <a:pt x="127" y="928"/>
                    <a:pt x="137" y="785"/>
                  </a:cubicBezTo>
                  <a:cubicBezTo>
                    <a:pt x="140" y="701"/>
                    <a:pt x="124" y="615"/>
                    <a:pt x="145" y="534"/>
                  </a:cubicBezTo>
                  <a:cubicBezTo>
                    <a:pt x="152" y="508"/>
                    <a:pt x="169" y="583"/>
                    <a:pt x="182" y="607"/>
                  </a:cubicBezTo>
                  <a:cubicBezTo>
                    <a:pt x="194" y="629"/>
                    <a:pt x="211" y="650"/>
                    <a:pt x="218" y="674"/>
                  </a:cubicBezTo>
                  <a:cubicBezTo>
                    <a:pt x="226" y="701"/>
                    <a:pt x="241" y="755"/>
                    <a:pt x="241" y="755"/>
                  </a:cubicBezTo>
                  <a:cubicBezTo>
                    <a:pt x="234" y="677"/>
                    <a:pt x="216" y="602"/>
                    <a:pt x="196" y="526"/>
                  </a:cubicBezTo>
                  <a:cubicBezTo>
                    <a:pt x="186" y="489"/>
                    <a:pt x="181" y="492"/>
                    <a:pt x="167" y="460"/>
                  </a:cubicBezTo>
                  <a:cubicBezTo>
                    <a:pt x="164" y="453"/>
                    <a:pt x="159" y="430"/>
                    <a:pt x="159" y="438"/>
                  </a:cubicBezTo>
                  <a:cubicBezTo>
                    <a:pt x="159" y="468"/>
                    <a:pt x="170" y="497"/>
                    <a:pt x="174" y="526"/>
                  </a:cubicBezTo>
                  <a:cubicBezTo>
                    <a:pt x="184" y="597"/>
                    <a:pt x="191" y="669"/>
                    <a:pt x="204" y="740"/>
                  </a:cubicBezTo>
                  <a:cubicBezTo>
                    <a:pt x="201" y="706"/>
                    <a:pt x="202" y="671"/>
                    <a:pt x="196" y="637"/>
                  </a:cubicBezTo>
                  <a:cubicBezTo>
                    <a:pt x="194" y="628"/>
                    <a:pt x="191" y="615"/>
                    <a:pt x="182" y="615"/>
                  </a:cubicBezTo>
                  <a:cubicBezTo>
                    <a:pt x="174" y="615"/>
                    <a:pt x="177" y="630"/>
                    <a:pt x="174" y="637"/>
                  </a:cubicBezTo>
                  <a:cubicBezTo>
                    <a:pt x="187" y="920"/>
                    <a:pt x="188" y="807"/>
                    <a:pt x="159" y="652"/>
                  </a:cubicBezTo>
                  <a:cubicBezTo>
                    <a:pt x="152" y="617"/>
                    <a:pt x="134" y="589"/>
                    <a:pt x="122" y="556"/>
                  </a:cubicBezTo>
                  <a:cubicBezTo>
                    <a:pt x="118" y="464"/>
                    <a:pt x="116" y="386"/>
                    <a:pt x="100" y="297"/>
                  </a:cubicBezTo>
                  <a:cubicBezTo>
                    <a:pt x="107" y="290"/>
                    <a:pt x="113" y="270"/>
                    <a:pt x="122" y="275"/>
                  </a:cubicBezTo>
                  <a:cubicBezTo>
                    <a:pt x="140" y="284"/>
                    <a:pt x="163" y="372"/>
                    <a:pt x="167" y="393"/>
                  </a:cubicBezTo>
                  <a:cubicBezTo>
                    <a:pt x="169" y="405"/>
                    <a:pt x="180" y="419"/>
                    <a:pt x="174" y="430"/>
                  </a:cubicBezTo>
                  <a:cubicBezTo>
                    <a:pt x="171" y="437"/>
                    <a:pt x="159" y="425"/>
                    <a:pt x="152" y="423"/>
                  </a:cubicBezTo>
                  <a:cubicBezTo>
                    <a:pt x="134" y="347"/>
                    <a:pt x="134" y="269"/>
                    <a:pt x="108" y="194"/>
                  </a:cubicBezTo>
                  <a:cubicBezTo>
                    <a:pt x="98" y="164"/>
                    <a:pt x="88" y="135"/>
                    <a:pt x="78" y="105"/>
                  </a:cubicBezTo>
                  <a:cubicBezTo>
                    <a:pt x="74" y="95"/>
                    <a:pt x="54" y="70"/>
                    <a:pt x="63" y="76"/>
                  </a:cubicBezTo>
                  <a:cubicBezTo>
                    <a:pt x="79" y="87"/>
                    <a:pt x="88" y="105"/>
                    <a:pt x="100" y="120"/>
                  </a:cubicBezTo>
                  <a:cubicBezTo>
                    <a:pt x="120" y="179"/>
                    <a:pt x="132" y="237"/>
                    <a:pt x="145" y="297"/>
                  </a:cubicBezTo>
                  <a:cubicBezTo>
                    <a:pt x="131" y="364"/>
                    <a:pt x="134" y="324"/>
                    <a:pt x="122" y="290"/>
                  </a:cubicBezTo>
                  <a:cubicBezTo>
                    <a:pt x="112" y="224"/>
                    <a:pt x="107" y="156"/>
                    <a:pt x="93" y="91"/>
                  </a:cubicBezTo>
                  <a:cubicBezTo>
                    <a:pt x="89" y="73"/>
                    <a:pt x="83" y="56"/>
                    <a:pt x="78" y="39"/>
                  </a:cubicBezTo>
                  <a:cubicBezTo>
                    <a:pt x="75" y="29"/>
                    <a:pt x="61" y="9"/>
                    <a:pt x="71" y="9"/>
                  </a:cubicBezTo>
                  <a:cubicBezTo>
                    <a:pt x="83" y="9"/>
                    <a:pt x="93" y="39"/>
                    <a:pt x="93" y="39"/>
                  </a:cubicBezTo>
                  <a:cubicBezTo>
                    <a:pt x="130" y="141"/>
                    <a:pt x="119" y="92"/>
                    <a:pt x="130" y="187"/>
                  </a:cubicBezTo>
                  <a:cubicBezTo>
                    <a:pt x="127" y="229"/>
                    <a:pt x="134" y="272"/>
                    <a:pt x="122" y="312"/>
                  </a:cubicBezTo>
                  <a:cubicBezTo>
                    <a:pt x="119" y="322"/>
                    <a:pt x="105" y="299"/>
                    <a:pt x="100" y="290"/>
                  </a:cubicBezTo>
                  <a:cubicBezTo>
                    <a:pt x="84" y="261"/>
                    <a:pt x="85" y="212"/>
                    <a:pt x="78" y="179"/>
                  </a:cubicBezTo>
                  <a:cubicBezTo>
                    <a:pt x="76" y="147"/>
                    <a:pt x="75" y="115"/>
                    <a:pt x="71" y="83"/>
                  </a:cubicBezTo>
                  <a:cubicBezTo>
                    <a:pt x="70" y="70"/>
                    <a:pt x="67" y="58"/>
                    <a:pt x="63" y="46"/>
                  </a:cubicBezTo>
                  <a:cubicBezTo>
                    <a:pt x="59" y="33"/>
                    <a:pt x="43" y="21"/>
                    <a:pt x="49" y="9"/>
                  </a:cubicBezTo>
                  <a:cubicBezTo>
                    <a:pt x="54" y="0"/>
                    <a:pt x="68" y="14"/>
                    <a:pt x="78" y="17"/>
                  </a:cubicBezTo>
                  <a:cubicBezTo>
                    <a:pt x="128" y="102"/>
                    <a:pt x="124" y="141"/>
                    <a:pt x="137" y="238"/>
                  </a:cubicBezTo>
                  <a:cubicBezTo>
                    <a:pt x="129" y="424"/>
                    <a:pt x="126" y="432"/>
                    <a:pt x="108" y="319"/>
                  </a:cubicBezTo>
                  <a:cubicBezTo>
                    <a:pt x="110" y="275"/>
                    <a:pt x="109" y="231"/>
                    <a:pt x="115" y="187"/>
                  </a:cubicBezTo>
                  <a:cubicBezTo>
                    <a:pt x="116" y="177"/>
                    <a:pt x="121" y="206"/>
                    <a:pt x="122" y="216"/>
                  </a:cubicBezTo>
                  <a:cubicBezTo>
                    <a:pt x="146" y="530"/>
                    <a:pt x="118" y="286"/>
                    <a:pt x="137" y="445"/>
                  </a:cubicBezTo>
                  <a:cubicBezTo>
                    <a:pt x="148" y="888"/>
                    <a:pt x="145" y="819"/>
                    <a:pt x="159" y="652"/>
                  </a:cubicBezTo>
                  <a:cubicBezTo>
                    <a:pt x="162" y="743"/>
                    <a:pt x="167" y="834"/>
                    <a:pt x="167" y="925"/>
                  </a:cubicBezTo>
                  <a:cubicBezTo>
                    <a:pt x="167" y="951"/>
                    <a:pt x="145" y="999"/>
                    <a:pt x="145" y="999"/>
                  </a:cubicBezTo>
                  <a:cubicBezTo>
                    <a:pt x="126" y="1173"/>
                    <a:pt x="137" y="1349"/>
                    <a:pt x="122" y="1523"/>
                  </a:cubicBezTo>
                  <a:cubicBezTo>
                    <a:pt x="119" y="1561"/>
                    <a:pt x="116" y="1641"/>
                    <a:pt x="108" y="1686"/>
                  </a:cubicBezTo>
                  <a:cubicBezTo>
                    <a:pt x="105" y="1703"/>
                    <a:pt x="71" y="1805"/>
                    <a:pt x="71" y="175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51"/>
            <p:cNvSpPr/>
            <p:nvPr/>
          </p:nvSpPr>
          <p:spPr>
            <a:xfrm>
              <a:off x="-270000" y="1119240"/>
              <a:ext cx="1781280" cy="1090440"/>
            </a:xfrm>
            <a:custGeom>
              <a:avLst/>
              <a:gdLst/>
              <a:ahLst/>
              <a:rect l="l" t="t" r="r" b="b"/>
              <a:pathLst>
                <a:path w="1122" h="687">
                  <a:moveTo>
                    <a:pt x="140" y="0"/>
                  </a:moveTo>
                  <a:cubicBezTo>
                    <a:pt x="169" y="29"/>
                    <a:pt x="181" y="29"/>
                    <a:pt x="222" y="37"/>
                  </a:cubicBezTo>
                  <a:cubicBezTo>
                    <a:pt x="0" y="53"/>
                    <a:pt x="123" y="40"/>
                    <a:pt x="384" y="52"/>
                  </a:cubicBezTo>
                  <a:cubicBezTo>
                    <a:pt x="392" y="52"/>
                    <a:pt x="465" y="66"/>
                    <a:pt x="473" y="67"/>
                  </a:cubicBezTo>
                  <a:cubicBezTo>
                    <a:pt x="468" y="60"/>
                    <a:pt x="467" y="47"/>
                    <a:pt x="458" y="45"/>
                  </a:cubicBezTo>
                  <a:cubicBezTo>
                    <a:pt x="417" y="34"/>
                    <a:pt x="374" y="35"/>
                    <a:pt x="332" y="30"/>
                  </a:cubicBezTo>
                  <a:cubicBezTo>
                    <a:pt x="288" y="25"/>
                    <a:pt x="156" y="12"/>
                    <a:pt x="200" y="15"/>
                  </a:cubicBezTo>
                  <a:cubicBezTo>
                    <a:pt x="239" y="18"/>
                    <a:pt x="279" y="20"/>
                    <a:pt x="318" y="23"/>
                  </a:cubicBezTo>
                  <a:cubicBezTo>
                    <a:pt x="358" y="33"/>
                    <a:pt x="397" y="47"/>
                    <a:pt x="436" y="59"/>
                  </a:cubicBezTo>
                  <a:cubicBezTo>
                    <a:pt x="384" y="78"/>
                    <a:pt x="446" y="59"/>
                    <a:pt x="347" y="59"/>
                  </a:cubicBezTo>
                  <a:cubicBezTo>
                    <a:pt x="295" y="59"/>
                    <a:pt x="244" y="64"/>
                    <a:pt x="192" y="67"/>
                  </a:cubicBezTo>
                  <a:cubicBezTo>
                    <a:pt x="273" y="69"/>
                    <a:pt x="355" y="74"/>
                    <a:pt x="436" y="74"/>
                  </a:cubicBezTo>
                  <a:cubicBezTo>
                    <a:pt x="446" y="74"/>
                    <a:pt x="396" y="67"/>
                    <a:pt x="406" y="67"/>
                  </a:cubicBezTo>
                  <a:cubicBezTo>
                    <a:pt x="490" y="67"/>
                    <a:pt x="573" y="72"/>
                    <a:pt x="657" y="74"/>
                  </a:cubicBezTo>
                  <a:cubicBezTo>
                    <a:pt x="601" y="77"/>
                    <a:pt x="544" y="76"/>
                    <a:pt x="488" y="82"/>
                  </a:cubicBezTo>
                  <a:cubicBezTo>
                    <a:pt x="480" y="83"/>
                    <a:pt x="502" y="89"/>
                    <a:pt x="510" y="89"/>
                  </a:cubicBezTo>
                  <a:cubicBezTo>
                    <a:pt x="616" y="89"/>
                    <a:pt x="721" y="84"/>
                    <a:pt x="827" y="82"/>
                  </a:cubicBezTo>
                  <a:cubicBezTo>
                    <a:pt x="768" y="59"/>
                    <a:pt x="720" y="52"/>
                    <a:pt x="657" y="45"/>
                  </a:cubicBezTo>
                  <a:cubicBezTo>
                    <a:pt x="630" y="42"/>
                    <a:pt x="549" y="37"/>
                    <a:pt x="576" y="37"/>
                  </a:cubicBezTo>
                  <a:cubicBezTo>
                    <a:pt x="620" y="37"/>
                    <a:pt x="753" y="45"/>
                    <a:pt x="709" y="45"/>
                  </a:cubicBezTo>
                  <a:cubicBezTo>
                    <a:pt x="527" y="45"/>
                    <a:pt x="345" y="40"/>
                    <a:pt x="163" y="37"/>
                  </a:cubicBezTo>
                  <a:cubicBezTo>
                    <a:pt x="85" y="13"/>
                    <a:pt x="231" y="52"/>
                    <a:pt x="244" y="52"/>
                  </a:cubicBezTo>
                  <a:cubicBezTo>
                    <a:pt x="424" y="56"/>
                    <a:pt x="603" y="57"/>
                    <a:pt x="783" y="59"/>
                  </a:cubicBezTo>
                  <a:cubicBezTo>
                    <a:pt x="842" y="90"/>
                    <a:pt x="780" y="54"/>
                    <a:pt x="849" y="111"/>
                  </a:cubicBezTo>
                  <a:cubicBezTo>
                    <a:pt x="865" y="125"/>
                    <a:pt x="920" y="158"/>
                    <a:pt x="901" y="148"/>
                  </a:cubicBezTo>
                  <a:cubicBezTo>
                    <a:pt x="891" y="143"/>
                    <a:pt x="883" y="133"/>
                    <a:pt x="872" y="133"/>
                  </a:cubicBezTo>
                  <a:cubicBezTo>
                    <a:pt x="863" y="133"/>
                    <a:pt x="886" y="143"/>
                    <a:pt x="894" y="148"/>
                  </a:cubicBezTo>
                  <a:cubicBezTo>
                    <a:pt x="903" y="154"/>
                    <a:pt x="914" y="157"/>
                    <a:pt x="923" y="163"/>
                  </a:cubicBezTo>
                  <a:cubicBezTo>
                    <a:pt x="931" y="168"/>
                    <a:pt x="954" y="178"/>
                    <a:pt x="945" y="178"/>
                  </a:cubicBezTo>
                  <a:cubicBezTo>
                    <a:pt x="934" y="178"/>
                    <a:pt x="926" y="168"/>
                    <a:pt x="916" y="163"/>
                  </a:cubicBezTo>
                  <a:cubicBezTo>
                    <a:pt x="899" y="140"/>
                    <a:pt x="874" y="102"/>
                    <a:pt x="849" y="89"/>
                  </a:cubicBezTo>
                  <a:cubicBezTo>
                    <a:pt x="839" y="84"/>
                    <a:pt x="830" y="78"/>
                    <a:pt x="820" y="74"/>
                  </a:cubicBezTo>
                  <a:cubicBezTo>
                    <a:pt x="813" y="71"/>
                    <a:pt x="791" y="63"/>
                    <a:pt x="798" y="67"/>
                  </a:cubicBezTo>
                  <a:cubicBezTo>
                    <a:pt x="841" y="90"/>
                    <a:pt x="882" y="106"/>
                    <a:pt x="923" y="133"/>
                  </a:cubicBezTo>
                  <a:cubicBezTo>
                    <a:pt x="947" y="165"/>
                    <a:pt x="974" y="182"/>
                    <a:pt x="1004" y="207"/>
                  </a:cubicBezTo>
                  <a:cubicBezTo>
                    <a:pt x="1012" y="214"/>
                    <a:pt x="1027" y="218"/>
                    <a:pt x="1027" y="229"/>
                  </a:cubicBezTo>
                  <a:cubicBezTo>
                    <a:pt x="1027" y="238"/>
                    <a:pt x="1012" y="218"/>
                    <a:pt x="1004" y="215"/>
                  </a:cubicBezTo>
                  <a:cubicBezTo>
                    <a:pt x="992" y="211"/>
                    <a:pt x="980" y="210"/>
                    <a:pt x="968" y="207"/>
                  </a:cubicBezTo>
                  <a:cubicBezTo>
                    <a:pt x="957" y="205"/>
                    <a:pt x="988" y="215"/>
                    <a:pt x="997" y="222"/>
                  </a:cubicBezTo>
                  <a:cubicBezTo>
                    <a:pt x="1008" y="230"/>
                    <a:pt x="1023" y="238"/>
                    <a:pt x="1027" y="251"/>
                  </a:cubicBezTo>
                  <a:cubicBezTo>
                    <a:pt x="1029" y="259"/>
                    <a:pt x="1012" y="246"/>
                    <a:pt x="1004" y="244"/>
                  </a:cubicBezTo>
                  <a:cubicBezTo>
                    <a:pt x="992" y="237"/>
                    <a:pt x="968" y="222"/>
                    <a:pt x="968" y="222"/>
                  </a:cubicBezTo>
                  <a:cubicBezTo>
                    <a:pt x="978" y="253"/>
                    <a:pt x="1000" y="273"/>
                    <a:pt x="1012" y="303"/>
                  </a:cubicBezTo>
                  <a:cubicBezTo>
                    <a:pt x="1018" y="317"/>
                    <a:pt x="1020" y="333"/>
                    <a:pt x="1027" y="347"/>
                  </a:cubicBezTo>
                  <a:cubicBezTo>
                    <a:pt x="1031" y="356"/>
                    <a:pt x="1009" y="318"/>
                    <a:pt x="1019" y="318"/>
                  </a:cubicBezTo>
                  <a:cubicBezTo>
                    <a:pt x="1033" y="318"/>
                    <a:pt x="1039" y="337"/>
                    <a:pt x="1049" y="347"/>
                  </a:cubicBezTo>
                  <a:cubicBezTo>
                    <a:pt x="1045" y="367"/>
                    <a:pt x="1034" y="386"/>
                    <a:pt x="1034" y="407"/>
                  </a:cubicBezTo>
                  <a:cubicBezTo>
                    <a:pt x="1034" y="459"/>
                    <a:pt x="1057" y="495"/>
                    <a:pt x="1078" y="539"/>
                  </a:cubicBezTo>
                  <a:cubicBezTo>
                    <a:pt x="1122" y="417"/>
                    <a:pt x="1000" y="381"/>
                    <a:pt x="945" y="311"/>
                  </a:cubicBezTo>
                  <a:cubicBezTo>
                    <a:pt x="935" y="299"/>
                    <a:pt x="926" y="286"/>
                    <a:pt x="916" y="274"/>
                  </a:cubicBezTo>
                  <a:cubicBezTo>
                    <a:pt x="909" y="266"/>
                    <a:pt x="884" y="246"/>
                    <a:pt x="894" y="251"/>
                  </a:cubicBezTo>
                  <a:cubicBezTo>
                    <a:pt x="978" y="292"/>
                    <a:pt x="1024" y="394"/>
                    <a:pt x="1064" y="473"/>
                  </a:cubicBezTo>
                  <a:cubicBezTo>
                    <a:pt x="1067" y="480"/>
                    <a:pt x="1059" y="458"/>
                    <a:pt x="1056" y="451"/>
                  </a:cubicBezTo>
                  <a:cubicBezTo>
                    <a:pt x="1047" y="426"/>
                    <a:pt x="1027" y="406"/>
                    <a:pt x="1012" y="384"/>
                  </a:cubicBezTo>
                  <a:cubicBezTo>
                    <a:pt x="1004" y="372"/>
                    <a:pt x="1031" y="404"/>
                    <a:pt x="1041" y="414"/>
                  </a:cubicBezTo>
                  <a:cubicBezTo>
                    <a:pt x="1052" y="453"/>
                    <a:pt x="1065" y="485"/>
                    <a:pt x="1071" y="525"/>
                  </a:cubicBezTo>
                  <a:cubicBezTo>
                    <a:pt x="1048" y="539"/>
                    <a:pt x="1046" y="542"/>
                    <a:pt x="1019" y="554"/>
                  </a:cubicBezTo>
                  <a:cubicBezTo>
                    <a:pt x="1012" y="557"/>
                    <a:pt x="997" y="570"/>
                    <a:pt x="997" y="562"/>
                  </a:cubicBezTo>
                  <a:cubicBezTo>
                    <a:pt x="997" y="553"/>
                    <a:pt x="1036" y="541"/>
                    <a:pt x="1041" y="539"/>
                  </a:cubicBezTo>
                  <a:cubicBezTo>
                    <a:pt x="1050" y="536"/>
                    <a:pt x="1012" y="547"/>
                    <a:pt x="1012" y="547"/>
                  </a:cubicBezTo>
                  <a:cubicBezTo>
                    <a:pt x="964" y="580"/>
                    <a:pt x="1004" y="545"/>
                    <a:pt x="1041" y="569"/>
                  </a:cubicBezTo>
                  <a:cubicBezTo>
                    <a:pt x="1047" y="573"/>
                    <a:pt x="1036" y="584"/>
                    <a:pt x="1034" y="591"/>
                  </a:cubicBezTo>
                  <a:cubicBezTo>
                    <a:pt x="1081" y="608"/>
                    <a:pt x="1041" y="585"/>
                    <a:pt x="1041" y="621"/>
                  </a:cubicBezTo>
                  <a:cubicBezTo>
                    <a:pt x="1041" y="630"/>
                    <a:pt x="1051" y="636"/>
                    <a:pt x="1056" y="643"/>
                  </a:cubicBezTo>
                  <a:cubicBezTo>
                    <a:pt x="1061" y="631"/>
                    <a:pt x="1063" y="595"/>
                    <a:pt x="1071" y="606"/>
                  </a:cubicBezTo>
                  <a:cubicBezTo>
                    <a:pt x="1096" y="639"/>
                    <a:pt x="1083" y="661"/>
                    <a:pt x="1071" y="68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52"/>
            <p:cNvSpPr/>
            <p:nvPr/>
          </p:nvSpPr>
          <p:spPr>
            <a:xfrm>
              <a:off x="130320" y="1096920"/>
              <a:ext cx="1282680" cy="389160"/>
            </a:xfrm>
            <a:custGeom>
              <a:avLst/>
              <a:gdLst/>
              <a:ahLst/>
              <a:rect l="l" t="t" r="r" b="b"/>
              <a:pathLst>
                <a:path w="808" h="245">
                  <a:moveTo>
                    <a:pt x="36" y="66"/>
                  </a:moveTo>
                  <a:cubicBezTo>
                    <a:pt x="34" y="56"/>
                    <a:pt x="21" y="43"/>
                    <a:pt x="29" y="37"/>
                  </a:cubicBezTo>
                  <a:cubicBezTo>
                    <a:pt x="46" y="25"/>
                    <a:pt x="69" y="66"/>
                    <a:pt x="73" y="73"/>
                  </a:cubicBezTo>
                  <a:cubicBezTo>
                    <a:pt x="75" y="66"/>
                    <a:pt x="80" y="59"/>
                    <a:pt x="80" y="51"/>
                  </a:cubicBezTo>
                  <a:cubicBezTo>
                    <a:pt x="80" y="14"/>
                    <a:pt x="54" y="17"/>
                    <a:pt x="103" y="29"/>
                  </a:cubicBezTo>
                  <a:cubicBezTo>
                    <a:pt x="156" y="103"/>
                    <a:pt x="138" y="102"/>
                    <a:pt x="147" y="0"/>
                  </a:cubicBezTo>
                  <a:cubicBezTo>
                    <a:pt x="163" y="31"/>
                    <a:pt x="169" y="53"/>
                    <a:pt x="176" y="88"/>
                  </a:cubicBezTo>
                  <a:cubicBezTo>
                    <a:pt x="184" y="81"/>
                    <a:pt x="194" y="75"/>
                    <a:pt x="199" y="66"/>
                  </a:cubicBezTo>
                  <a:cubicBezTo>
                    <a:pt x="204" y="57"/>
                    <a:pt x="201" y="29"/>
                    <a:pt x="206" y="37"/>
                  </a:cubicBezTo>
                  <a:cubicBezTo>
                    <a:pt x="215" y="51"/>
                    <a:pt x="208" y="72"/>
                    <a:pt x="213" y="88"/>
                  </a:cubicBezTo>
                  <a:cubicBezTo>
                    <a:pt x="216" y="96"/>
                    <a:pt x="223" y="103"/>
                    <a:pt x="228" y="110"/>
                  </a:cubicBezTo>
                  <a:cubicBezTo>
                    <a:pt x="258" y="101"/>
                    <a:pt x="257" y="82"/>
                    <a:pt x="280" y="59"/>
                  </a:cubicBezTo>
                  <a:cubicBezTo>
                    <a:pt x="325" y="125"/>
                    <a:pt x="270" y="98"/>
                    <a:pt x="405" y="118"/>
                  </a:cubicBezTo>
                  <a:cubicBezTo>
                    <a:pt x="413" y="115"/>
                    <a:pt x="423" y="116"/>
                    <a:pt x="428" y="110"/>
                  </a:cubicBezTo>
                  <a:cubicBezTo>
                    <a:pt x="434" y="102"/>
                    <a:pt x="425" y="81"/>
                    <a:pt x="435" y="81"/>
                  </a:cubicBezTo>
                  <a:cubicBezTo>
                    <a:pt x="449" y="81"/>
                    <a:pt x="453" y="102"/>
                    <a:pt x="464" y="110"/>
                  </a:cubicBezTo>
                  <a:cubicBezTo>
                    <a:pt x="471" y="115"/>
                    <a:pt x="479" y="115"/>
                    <a:pt x="487" y="118"/>
                  </a:cubicBezTo>
                  <a:cubicBezTo>
                    <a:pt x="482" y="111"/>
                    <a:pt x="481" y="96"/>
                    <a:pt x="472" y="96"/>
                  </a:cubicBezTo>
                  <a:cubicBezTo>
                    <a:pt x="464" y="96"/>
                    <a:pt x="474" y="112"/>
                    <a:pt x="479" y="118"/>
                  </a:cubicBezTo>
                  <a:cubicBezTo>
                    <a:pt x="484" y="125"/>
                    <a:pt x="494" y="128"/>
                    <a:pt x="501" y="133"/>
                  </a:cubicBezTo>
                  <a:cubicBezTo>
                    <a:pt x="428" y="151"/>
                    <a:pt x="519" y="135"/>
                    <a:pt x="442" y="125"/>
                  </a:cubicBezTo>
                  <a:cubicBezTo>
                    <a:pt x="424" y="123"/>
                    <a:pt x="408" y="136"/>
                    <a:pt x="391" y="140"/>
                  </a:cubicBezTo>
                  <a:cubicBezTo>
                    <a:pt x="356" y="138"/>
                    <a:pt x="322" y="133"/>
                    <a:pt x="287" y="133"/>
                  </a:cubicBezTo>
                  <a:cubicBezTo>
                    <a:pt x="0" y="133"/>
                    <a:pt x="16" y="151"/>
                    <a:pt x="125" y="133"/>
                  </a:cubicBezTo>
                  <a:cubicBezTo>
                    <a:pt x="137" y="131"/>
                    <a:pt x="150" y="128"/>
                    <a:pt x="162" y="125"/>
                  </a:cubicBezTo>
                  <a:cubicBezTo>
                    <a:pt x="232" y="77"/>
                    <a:pt x="283" y="35"/>
                    <a:pt x="368" y="22"/>
                  </a:cubicBezTo>
                  <a:cubicBezTo>
                    <a:pt x="376" y="24"/>
                    <a:pt x="387" y="22"/>
                    <a:pt x="391" y="29"/>
                  </a:cubicBezTo>
                  <a:cubicBezTo>
                    <a:pt x="395" y="36"/>
                    <a:pt x="376" y="48"/>
                    <a:pt x="383" y="51"/>
                  </a:cubicBezTo>
                  <a:cubicBezTo>
                    <a:pt x="393" y="55"/>
                    <a:pt x="404" y="43"/>
                    <a:pt x="413" y="37"/>
                  </a:cubicBezTo>
                  <a:cubicBezTo>
                    <a:pt x="428" y="28"/>
                    <a:pt x="457" y="7"/>
                    <a:pt x="457" y="7"/>
                  </a:cubicBezTo>
                  <a:cubicBezTo>
                    <a:pt x="450" y="29"/>
                    <a:pt x="444" y="52"/>
                    <a:pt x="435" y="73"/>
                  </a:cubicBezTo>
                  <a:cubicBezTo>
                    <a:pt x="431" y="83"/>
                    <a:pt x="424" y="93"/>
                    <a:pt x="420" y="103"/>
                  </a:cubicBezTo>
                  <a:cubicBezTo>
                    <a:pt x="417" y="110"/>
                    <a:pt x="405" y="125"/>
                    <a:pt x="413" y="125"/>
                  </a:cubicBezTo>
                  <a:cubicBezTo>
                    <a:pt x="423" y="125"/>
                    <a:pt x="429" y="111"/>
                    <a:pt x="435" y="103"/>
                  </a:cubicBezTo>
                  <a:cubicBezTo>
                    <a:pt x="481" y="44"/>
                    <a:pt x="443" y="73"/>
                    <a:pt x="487" y="44"/>
                  </a:cubicBezTo>
                  <a:cubicBezTo>
                    <a:pt x="489" y="78"/>
                    <a:pt x="474" y="119"/>
                    <a:pt x="494" y="147"/>
                  </a:cubicBezTo>
                  <a:cubicBezTo>
                    <a:pt x="504" y="161"/>
                    <a:pt x="524" y="128"/>
                    <a:pt x="538" y="118"/>
                  </a:cubicBezTo>
                  <a:cubicBezTo>
                    <a:pt x="574" y="91"/>
                    <a:pt x="612" y="76"/>
                    <a:pt x="649" y="51"/>
                  </a:cubicBezTo>
                  <a:cubicBezTo>
                    <a:pt x="636" y="105"/>
                    <a:pt x="597" y="113"/>
                    <a:pt x="671" y="88"/>
                  </a:cubicBezTo>
                  <a:cubicBezTo>
                    <a:pt x="691" y="91"/>
                    <a:pt x="713" y="85"/>
                    <a:pt x="730" y="96"/>
                  </a:cubicBezTo>
                  <a:cubicBezTo>
                    <a:pt x="748" y="108"/>
                    <a:pt x="661" y="146"/>
                    <a:pt x="745" y="103"/>
                  </a:cubicBezTo>
                  <a:cubicBezTo>
                    <a:pt x="743" y="110"/>
                    <a:pt x="743" y="119"/>
                    <a:pt x="738" y="125"/>
                  </a:cubicBezTo>
                  <a:cubicBezTo>
                    <a:pt x="733" y="131"/>
                    <a:pt x="713" y="126"/>
                    <a:pt x="716" y="133"/>
                  </a:cubicBezTo>
                  <a:cubicBezTo>
                    <a:pt x="720" y="142"/>
                    <a:pt x="735" y="138"/>
                    <a:pt x="745" y="140"/>
                  </a:cubicBezTo>
                  <a:cubicBezTo>
                    <a:pt x="762" y="143"/>
                    <a:pt x="780" y="145"/>
                    <a:pt x="797" y="147"/>
                  </a:cubicBezTo>
                  <a:cubicBezTo>
                    <a:pt x="729" y="165"/>
                    <a:pt x="783" y="143"/>
                    <a:pt x="789" y="169"/>
                  </a:cubicBezTo>
                  <a:cubicBezTo>
                    <a:pt x="795" y="195"/>
                    <a:pt x="755" y="197"/>
                    <a:pt x="745" y="199"/>
                  </a:cubicBezTo>
                  <a:cubicBezTo>
                    <a:pt x="755" y="201"/>
                    <a:pt x="768" y="198"/>
                    <a:pt x="775" y="206"/>
                  </a:cubicBezTo>
                  <a:cubicBezTo>
                    <a:pt x="808" y="245"/>
                    <a:pt x="790" y="243"/>
                    <a:pt x="775" y="24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53"/>
            <p:cNvSpPr/>
            <p:nvPr/>
          </p:nvSpPr>
          <p:spPr>
            <a:xfrm>
              <a:off x="1898640" y="457200"/>
              <a:ext cx="3857760" cy="728640"/>
            </a:xfrm>
            <a:custGeom>
              <a:avLst/>
              <a:gdLst/>
              <a:ahLst/>
              <a:rect l="l" t="t" r="r" b="b"/>
              <a:pathLst>
                <a:path w="2430" h="459">
                  <a:moveTo>
                    <a:pt x="118" y="454"/>
                  </a:moveTo>
                  <a:cubicBezTo>
                    <a:pt x="59" y="443"/>
                    <a:pt x="103" y="456"/>
                    <a:pt x="52" y="425"/>
                  </a:cubicBezTo>
                  <a:cubicBezTo>
                    <a:pt x="25" y="408"/>
                    <a:pt x="0" y="405"/>
                    <a:pt x="52" y="417"/>
                  </a:cubicBezTo>
                  <a:cubicBezTo>
                    <a:pt x="114" y="459"/>
                    <a:pt x="45" y="383"/>
                    <a:pt x="59" y="380"/>
                  </a:cubicBezTo>
                  <a:cubicBezTo>
                    <a:pt x="77" y="377"/>
                    <a:pt x="94" y="390"/>
                    <a:pt x="111" y="395"/>
                  </a:cubicBezTo>
                  <a:cubicBezTo>
                    <a:pt x="121" y="402"/>
                    <a:pt x="132" y="409"/>
                    <a:pt x="141" y="417"/>
                  </a:cubicBezTo>
                  <a:cubicBezTo>
                    <a:pt x="149" y="424"/>
                    <a:pt x="163" y="451"/>
                    <a:pt x="163" y="440"/>
                  </a:cubicBezTo>
                  <a:cubicBezTo>
                    <a:pt x="163" y="426"/>
                    <a:pt x="150" y="414"/>
                    <a:pt x="141" y="403"/>
                  </a:cubicBezTo>
                  <a:cubicBezTo>
                    <a:pt x="131" y="391"/>
                    <a:pt x="90" y="380"/>
                    <a:pt x="104" y="373"/>
                  </a:cubicBezTo>
                  <a:cubicBezTo>
                    <a:pt x="124" y="363"/>
                    <a:pt x="148" y="383"/>
                    <a:pt x="170" y="388"/>
                  </a:cubicBezTo>
                  <a:cubicBezTo>
                    <a:pt x="197" y="406"/>
                    <a:pt x="217" y="429"/>
                    <a:pt x="244" y="447"/>
                  </a:cubicBezTo>
                  <a:cubicBezTo>
                    <a:pt x="236" y="364"/>
                    <a:pt x="221" y="349"/>
                    <a:pt x="288" y="395"/>
                  </a:cubicBezTo>
                  <a:cubicBezTo>
                    <a:pt x="291" y="385"/>
                    <a:pt x="287" y="370"/>
                    <a:pt x="296" y="366"/>
                  </a:cubicBezTo>
                  <a:cubicBezTo>
                    <a:pt x="309" y="359"/>
                    <a:pt x="331" y="400"/>
                    <a:pt x="333" y="403"/>
                  </a:cubicBezTo>
                  <a:cubicBezTo>
                    <a:pt x="367" y="391"/>
                    <a:pt x="369" y="370"/>
                    <a:pt x="377" y="336"/>
                  </a:cubicBezTo>
                  <a:cubicBezTo>
                    <a:pt x="382" y="348"/>
                    <a:pt x="388" y="360"/>
                    <a:pt x="392" y="373"/>
                  </a:cubicBezTo>
                  <a:cubicBezTo>
                    <a:pt x="395" y="383"/>
                    <a:pt x="390" y="398"/>
                    <a:pt x="399" y="403"/>
                  </a:cubicBezTo>
                  <a:cubicBezTo>
                    <a:pt x="407" y="407"/>
                    <a:pt x="413" y="393"/>
                    <a:pt x="421" y="388"/>
                  </a:cubicBezTo>
                  <a:cubicBezTo>
                    <a:pt x="433" y="380"/>
                    <a:pt x="446" y="373"/>
                    <a:pt x="458" y="366"/>
                  </a:cubicBezTo>
                  <a:cubicBezTo>
                    <a:pt x="477" y="419"/>
                    <a:pt x="499" y="383"/>
                    <a:pt x="539" y="373"/>
                  </a:cubicBezTo>
                  <a:cubicBezTo>
                    <a:pt x="564" y="354"/>
                    <a:pt x="588" y="346"/>
                    <a:pt x="613" y="329"/>
                  </a:cubicBezTo>
                  <a:cubicBezTo>
                    <a:pt x="616" y="334"/>
                    <a:pt x="642" y="375"/>
                    <a:pt x="650" y="373"/>
                  </a:cubicBezTo>
                  <a:cubicBezTo>
                    <a:pt x="660" y="371"/>
                    <a:pt x="655" y="354"/>
                    <a:pt x="658" y="344"/>
                  </a:cubicBezTo>
                  <a:cubicBezTo>
                    <a:pt x="653" y="317"/>
                    <a:pt x="643" y="290"/>
                    <a:pt x="643" y="262"/>
                  </a:cubicBezTo>
                  <a:cubicBezTo>
                    <a:pt x="643" y="253"/>
                    <a:pt x="649" y="284"/>
                    <a:pt x="658" y="284"/>
                  </a:cubicBezTo>
                  <a:cubicBezTo>
                    <a:pt x="666" y="284"/>
                    <a:pt x="663" y="269"/>
                    <a:pt x="665" y="262"/>
                  </a:cubicBezTo>
                  <a:cubicBezTo>
                    <a:pt x="706" y="320"/>
                    <a:pt x="696" y="334"/>
                    <a:pt x="709" y="292"/>
                  </a:cubicBezTo>
                  <a:cubicBezTo>
                    <a:pt x="737" y="311"/>
                    <a:pt x="768" y="321"/>
                    <a:pt x="798" y="336"/>
                  </a:cubicBezTo>
                  <a:cubicBezTo>
                    <a:pt x="805" y="331"/>
                    <a:pt x="816" y="329"/>
                    <a:pt x="820" y="321"/>
                  </a:cubicBezTo>
                  <a:cubicBezTo>
                    <a:pt x="827" y="308"/>
                    <a:pt x="813" y="281"/>
                    <a:pt x="827" y="277"/>
                  </a:cubicBezTo>
                  <a:cubicBezTo>
                    <a:pt x="844" y="272"/>
                    <a:pt x="857" y="297"/>
                    <a:pt x="872" y="307"/>
                  </a:cubicBezTo>
                  <a:cubicBezTo>
                    <a:pt x="887" y="317"/>
                    <a:pt x="906" y="316"/>
                    <a:pt x="923" y="321"/>
                  </a:cubicBezTo>
                  <a:cubicBezTo>
                    <a:pt x="933" y="316"/>
                    <a:pt x="943" y="311"/>
                    <a:pt x="953" y="307"/>
                  </a:cubicBezTo>
                  <a:cubicBezTo>
                    <a:pt x="960" y="304"/>
                    <a:pt x="972" y="306"/>
                    <a:pt x="975" y="299"/>
                  </a:cubicBezTo>
                  <a:cubicBezTo>
                    <a:pt x="978" y="292"/>
                    <a:pt x="962" y="281"/>
                    <a:pt x="968" y="277"/>
                  </a:cubicBezTo>
                  <a:cubicBezTo>
                    <a:pt x="972" y="274"/>
                    <a:pt x="1013" y="290"/>
                    <a:pt x="1019" y="292"/>
                  </a:cubicBezTo>
                  <a:cubicBezTo>
                    <a:pt x="1022" y="272"/>
                    <a:pt x="1015" y="249"/>
                    <a:pt x="1027" y="233"/>
                  </a:cubicBezTo>
                  <a:cubicBezTo>
                    <a:pt x="1034" y="224"/>
                    <a:pt x="1031" y="260"/>
                    <a:pt x="1042" y="262"/>
                  </a:cubicBezTo>
                  <a:cubicBezTo>
                    <a:pt x="1050" y="263"/>
                    <a:pt x="1088" y="223"/>
                    <a:pt x="1093" y="218"/>
                  </a:cubicBezTo>
                  <a:cubicBezTo>
                    <a:pt x="1108" y="240"/>
                    <a:pt x="1115" y="262"/>
                    <a:pt x="1130" y="284"/>
                  </a:cubicBezTo>
                  <a:cubicBezTo>
                    <a:pt x="1142" y="254"/>
                    <a:pt x="1151" y="227"/>
                    <a:pt x="1160" y="196"/>
                  </a:cubicBezTo>
                  <a:cubicBezTo>
                    <a:pt x="1186" y="214"/>
                    <a:pt x="1201" y="236"/>
                    <a:pt x="1219" y="262"/>
                  </a:cubicBezTo>
                  <a:cubicBezTo>
                    <a:pt x="1292" y="244"/>
                    <a:pt x="1199" y="276"/>
                    <a:pt x="1256" y="174"/>
                  </a:cubicBezTo>
                  <a:cubicBezTo>
                    <a:pt x="1261" y="165"/>
                    <a:pt x="1276" y="183"/>
                    <a:pt x="1285" y="188"/>
                  </a:cubicBezTo>
                  <a:cubicBezTo>
                    <a:pt x="1328" y="213"/>
                    <a:pt x="1285" y="195"/>
                    <a:pt x="1330" y="211"/>
                  </a:cubicBezTo>
                  <a:cubicBezTo>
                    <a:pt x="1325" y="201"/>
                    <a:pt x="1306" y="188"/>
                    <a:pt x="1315" y="181"/>
                  </a:cubicBezTo>
                  <a:cubicBezTo>
                    <a:pt x="1333" y="167"/>
                    <a:pt x="1397" y="211"/>
                    <a:pt x="1418" y="218"/>
                  </a:cubicBezTo>
                  <a:cubicBezTo>
                    <a:pt x="1421" y="211"/>
                    <a:pt x="1429" y="203"/>
                    <a:pt x="1426" y="196"/>
                  </a:cubicBezTo>
                  <a:cubicBezTo>
                    <a:pt x="1423" y="188"/>
                    <a:pt x="1394" y="181"/>
                    <a:pt x="1403" y="181"/>
                  </a:cubicBezTo>
                  <a:cubicBezTo>
                    <a:pt x="1421" y="181"/>
                    <a:pt x="1455" y="196"/>
                    <a:pt x="1455" y="196"/>
                  </a:cubicBezTo>
                  <a:cubicBezTo>
                    <a:pt x="1430" y="154"/>
                    <a:pt x="1416" y="140"/>
                    <a:pt x="1374" y="115"/>
                  </a:cubicBezTo>
                  <a:cubicBezTo>
                    <a:pt x="1369" y="107"/>
                    <a:pt x="1350" y="95"/>
                    <a:pt x="1359" y="92"/>
                  </a:cubicBezTo>
                  <a:cubicBezTo>
                    <a:pt x="1372" y="87"/>
                    <a:pt x="1384" y="102"/>
                    <a:pt x="1396" y="107"/>
                  </a:cubicBezTo>
                  <a:cubicBezTo>
                    <a:pt x="1473" y="137"/>
                    <a:pt x="1432" y="118"/>
                    <a:pt x="1485" y="144"/>
                  </a:cubicBezTo>
                  <a:cubicBezTo>
                    <a:pt x="1460" y="107"/>
                    <a:pt x="1477" y="127"/>
                    <a:pt x="1426" y="92"/>
                  </a:cubicBezTo>
                  <a:cubicBezTo>
                    <a:pt x="1419" y="87"/>
                    <a:pt x="1394" y="75"/>
                    <a:pt x="1403" y="78"/>
                  </a:cubicBezTo>
                  <a:cubicBezTo>
                    <a:pt x="1428" y="85"/>
                    <a:pt x="1477" y="107"/>
                    <a:pt x="1477" y="107"/>
                  </a:cubicBezTo>
                  <a:cubicBezTo>
                    <a:pt x="1475" y="100"/>
                    <a:pt x="1473" y="92"/>
                    <a:pt x="1470" y="85"/>
                  </a:cubicBezTo>
                  <a:cubicBezTo>
                    <a:pt x="1466" y="75"/>
                    <a:pt x="1447" y="64"/>
                    <a:pt x="1455" y="56"/>
                  </a:cubicBezTo>
                  <a:cubicBezTo>
                    <a:pt x="1459" y="52"/>
                    <a:pt x="1505" y="67"/>
                    <a:pt x="1514" y="70"/>
                  </a:cubicBezTo>
                  <a:cubicBezTo>
                    <a:pt x="1516" y="76"/>
                    <a:pt x="1526" y="116"/>
                    <a:pt x="1544" y="107"/>
                  </a:cubicBezTo>
                  <a:cubicBezTo>
                    <a:pt x="1553" y="103"/>
                    <a:pt x="1549" y="88"/>
                    <a:pt x="1551" y="78"/>
                  </a:cubicBezTo>
                  <a:cubicBezTo>
                    <a:pt x="1558" y="85"/>
                    <a:pt x="1563" y="100"/>
                    <a:pt x="1573" y="100"/>
                  </a:cubicBezTo>
                  <a:cubicBezTo>
                    <a:pt x="1581" y="100"/>
                    <a:pt x="1574" y="75"/>
                    <a:pt x="1581" y="78"/>
                  </a:cubicBezTo>
                  <a:cubicBezTo>
                    <a:pt x="1597" y="85"/>
                    <a:pt x="1590" y="112"/>
                    <a:pt x="1595" y="129"/>
                  </a:cubicBezTo>
                  <a:cubicBezTo>
                    <a:pt x="1640" y="115"/>
                    <a:pt x="1666" y="71"/>
                    <a:pt x="1714" y="56"/>
                  </a:cubicBezTo>
                  <a:cubicBezTo>
                    <a:pt x="1721" y="58"/>
                    <a:pt x="1731" y="58"/>
                    <a:pt x="1736" y="63"/>
                  </a:cubicBezTo>
                  <a:cubicBezTo>
                    <a:pt x="1761" y="88"/>
                    <a:pt x="1720" y="92"/>
                    <a:pt x="1765" y="78"/>
                  </a:cubicBezTo>
                  <a:cubicBezTo>
                    <a:pt x="1818" y="90"/>
                    <a:pt x="1787" y="92"/>
                    <a:pt x="1787" y="63"/>
                  </a:cubicBezTo>
                  <a:cubicBezTo>
                    <a:pt x="1787" y="55"/>
                    <a:pt x="1792" y="48"/>
                    <a:pt x="1795" y="41"/>
                  </a:cubicBezTo>
                  <a:cubicBezTo>
                    <a:pt x="1844" y="57"/>
                    <a:pt x="1837" y="73"/>
                    <a:pt x="1846" y="4"/>
                  </a:cubicBezTo>
                  <a:cubicBezTo>
                    <a:pt x="1854" y="6"/>
                    <a:pt x="1861" y="11"/>
                    <a:pt x="1869" y="11"/>
                  </a:cubicBezTo>
                  <a:cubicBezTo>
                    <a:pt x="1877" y="11"/>
                    <a:pt x="1884" y="0"/>
                    <a:pt x="1891" y="4"/>
                  </a:cubicBezTo>
                  <a:cubicBezTo>
                    <a:pt x="1898" y="8"/>
                    <a:pt x="1893" y="21"/>
                    <a:pt x="1898" y="26"/>
                  </a:cubicBezTo>
                  <a:cubicBezTo>
                    <a:pt x="1903" y="31"/>
                    <a:pt x="1913" y="31"/>
                    <a:pt x="1920" y="33"/>
                  </a:cubicBezTo>
                  <a:cubicBezTo>
                    <a:pt x="1935" y="91"/>
                    <a:pt x="1949" y="54"/>
                    <a:pt x="1979" y="100"/>
                  </a:cubicBezTo>
                  <a:cubicBezTo>
                    <a:pt x="2013" y="91"/>
                    <a:pt x="2027" y="86"/>
                    <a:pt x="2038" y="122"/>
                  </a:cubicBezTo>
                  <a:cubicBezTo>
                    <a:pt x="2032" y="139"/>
                    <a:pt x="2016" y="166"/>
                    <a:pt x="2061" y="166"/>
                  </a:cubicBezTo>
                  <a:cubicBezTo>
                    <a:pt x="2069" y="166"/>
                    <a:pt x="2062" y="149"/>
                    <a:pt x="2068" y="144"/>
                  </a:cubicBezTo>
                  <a:cubicBezTo>
                    <a:pt x="2076" y="138"/>
                    <a:pt x="2088" y="139"/>
                    <a:pt x="2098" y="137"/>
                  </a:cubicBezTo>
                  <a:cubicBezTo>
                    <a:pt x="2110" y="142"/>
                    <a:pt x="2124" y="144"/>
                    <a:pt x="2134" y="152"/>
                  </a:cubicBezTo>
                  <a:cubicBezTo>
                    <a:pt x="2165" y="175"/>
                    <a:pt x="2151" y="200"/>
                    <a:pt x="2164" y="159"/>
                  </a:cubicBezTo>
                  <a:cubicBezTo>
                    <a:pt x="2179" y="164"/>
                    <a:pt x="2195" y="165"/>
                    <a:pt x="2208" y="174"/>
                  </a:cubicBezTo>
                  <a:cubicBezTo>
                    <a:pt x="2224" y="186"/>
                    <a:pt x="2208" y="239"/>
                    <a:pt x="2223" y="159"/>
                  </a:cubicBezTo>
                  <a:cubicBezTo>
                    <a:pt x="2235" y="161"/>
                    <a:pt x="2249" y="160"/>
                    <a:pt x="2260" y="166"/>
                  </a:cubicBezTo>
                  <a:cubicBezTo>
                    <a:pt x="2299" y="188"/>
                    <a:pt x="2249" y="196"/>
                    <a:pt x="2297" y="181"/>
                  </a:cubicBezTo>
                  <a:cubicBezTo>
                    <a:pt x="2304" y="176"/>
                    <a:pt x="2310" y="166"/>
                    <a:pt x="2319" y="166"/>
                  </a:cubicBezTo>
                  <a:cubicBezTo>
                    <a:pt x="2360" y="166"/>
                    <a:pt x="2337" y="221"/>
                    <a:pt x="2356" y="233"/>
                  </a:cubicBezTo>
                  <a:cubicBezTo>
                    <a:pt x="2371" y="242"/>
                    <a:pt x="2391" y="238"/>
                    <a:pt x="2408" y="240"/>
                  </a:cubicBezTo>
                  <a:cubicBezTo>
                    <a:pt x="2415" y="243"/>
                    <a:pt x="2430" y="248"/>
                    <a:pt x="2430" y="24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55"/>
            <p:cNvSpPr/>
            <p:nvPr/>
          </p:nvSpPr>
          <p:spPr>
            <a:xfrm>
              <a:off x="5756400" y="2705040"/>
              <a:ext cx="550800" cy="1005120"/>
            </a:xfrm>
            <a:custGeom>
              <a:avLst/>
              <a:gdLst/>
              <a:ahLst/>
              <a:rect l="l" t="t" r="r" b="b"/>
              <a:pathLst>
                <a:path w="347" h="633">
                  <a:moveTo>
                    <a:pt x="347" y="441"/>
                  </a:moveTo>
                  <a:cubicBezTo>
                    <a:pt x="296" y="407"/>
                    <a:pt x="313" y="427"/>
                    <a:pt x="288" y="390"/>
                  </a:cubicBezTo>
                  <a:cubicBezTo>
                    <a:pt x="337" y="356"/>
                    <a:pt x="295" y="396"/>
                    <a:pt x="295" y="353"/>
                  </a:cubicBezTo>
                  <a:cubicBezTo>
                    <a:pt x="295" y="344"/>
                    <a:pt x="305" y="338"/>
                    <a:pt x="310" y="331"/>
                  </a:cubicBezTo>
                  <a:cubicBezTo>
                    <a:pt x="265" y="262"/>
                    <a:pt x="314" y="352"/>
                    <a:pt x="325" y="301"/>
                  </a:cubicBezTo>
                  <a:cubicBezTo>
                    <a:pt x="328" y="289"/>
                    <a:pt x="310" y="282"/>
                    <a:pt x="303" y="272"/>
                  </a:cubicBezTo>
                  <a:cubicBezTo>
                    <a:pt x="298" y="265"/>
                    <a:pt x="293" y="257"/>
                    <a:pt x="288" y="249"/>
                  </a:cubicBezTo>
                  <a:cubicBezTo>
                    <a:pt x="328" y="223"/>
                    <a:pt x="306" y="247"/>
                    <a:pt x="288" y="220"/>
                  </a:cubicBezTo>
                  <a:cubicBezTo>
                    <a:pt x="282" y="211"/>
                    <a:pt x="283" y="200"/>
                    <a:pt x="280" y="190"/>
                  </a:cubicBezTo>
                  <a:cubicBezTo>
                    <a:pt x="303" y="157"/>
                    <a:pt x="292" y="124"/>
                    <a:pt x="258" y="102"/>
                  </a:cubicBezTo>
                  <a:cubicBezTo>
                    <a:pt x="59" y="111"/>
                    <a:pt x="128" y="72"/>
                    <a:pt x="96" y="190"/>
                  </a:cubicBezTo>
                  <a:cubicBezTo>
                    <a:pt x="94" y="199"/>
                    <a:pt x="86" y="205"/>
                    <a:pt x="81" y="212"/>
                  </a:cubicBezTo>
                  <a:cubicBezTo>
                    <a:pt x="54" y="144"/>
                    <a:pt x="52" y="133"/>
                    <a:pt x="0" y="94"/>
                  </a:cubicBezTo>
                  <a:cubicBezTo>
                    <a:pt x="23" y="211"/>
                    <a:pt x="16" y="190"/>
                    <a:pt x="66" y="272"/>
                  </a:cubicBezTo>
                  <a:cubicBezTo>
                    <a:pt x="69" y="264"/>
                    <a:pt x="74" y="257"/>
                    <a:pt x="74" y="249"/>
                  </a:cubicBezTo>
                  <a:cubicBezTo>
                    <a:pt x="74" y="217"/>
                    <a:pt x="70" y="185"/>
                    <a:pt x="66" y="153"/>
                  </a:cubicBezTo>
                  <a:cubicBezTo>
                    <a:pt x="65" y="145"/>
                    <a:pt x="57" y="124"/>
                    <a:pt x="59" y="131"/>
                  </a:cubicBezTo>
                  <a:cubicBezTo>
                    <a:pt x="64" y="148"/>
                    <a:pt x="69" y="166"/>
                    <a:pt x="74" y="183"/>
                  </a:cubicBezTo>
                  <a:cubicBezTo>
                    <a:pt x="77" y="193"/>
                    <a:pt x="79" y="202"/>
                    <a:pt x="81" y="212"/>
                  </a:cubicBezTo>
                  <a:cubicBezTo>
                    <a:pt x="104" y="157"/>
                    <a:pt x="87" y="133"/>
                    <a:pt x="74" y="80"/>
                  </a:cubicBezTo>
                  <a:cubicBezTo>
                    <a:pt x="86" y="72"/>
                    <a:pt x="108" y="46"/>
                    <a:pt x="111" y="87"/>
                  </a:cubicBezTo>
                  <a:cubicBezTo>
                    <a:pt x="118" y="197"/>
                    <a:pt x="116" y="308"/>
                    <a:pt x="118" y="419"/>
                  </a:cubicBezTo>
                  <a:cubicBezTo>
                    <a:pt x="120" y="284"/>
                    <a:pt x="120" y="148"/>
                    <a:pt x="125" y="13"/>
                  </a:cubicBezTo>
                  <a:cubicBezTo>
                    <a:pt x="126" y="0"/>
                    <a:pt x="132" y="37"/>
                    <a:pt x="133" y="50"/>
                  </a:cubicBezTo>
                  <a:cubicBezTo>
                    <a:pt x="137" y="80"/>
                    <a:pt x="136" y="110"/>
                    <a:pt x="140" y="139"/>
                  </a:cubicBezTo>
                  <a:cubicBezTo>
                    <a:pt x="145" y="174"/>
                    <a:pt x="156" y="207"/>
                    <a:pt x="162" y="242"/>
                  </a:cubicBezTo>
                  <a:cubicBezTo>
                    <a:pt x="174" y="429"/>
                    <a:pt x="166" y="389"/>
                    <a:pt x="177" y="264"/>
                  </a:cubicBezTo>
                  <a:cubicBezTo>
                    <a:pt x="181" y="216"/>
                    <a:pt x="194" y="170"/>
                    <a:pt x="207" y="124"/>
                  </a:cubicBezTo>
                  <a:cubicBezTo>
                    <a:pt x="209" y="217"/>
                    <a:pt x="210" y="311"/>
                    <a:pt x="214" y="404"/>
                  </a:cubicBezTo>
                  <a:cubicBezTo>
                    <a:pt x="218" y="516"/>
                    <a:pt x="214" y="517"/>
                    <a:pt x="229" y="464"/>
                  </a:cubicBezTo>
                  <a:cubicBezTo>
                    <a:pt x="237" y="405"/>
                    <a:pt x="259" y="352"/>
                    <a:pt x="273" y="294"/>
                  </a:cubicBezTo>
                  <a:cubicBezTo>
                    <a:pt x="294" y="404"/>
                    <a:pt x="272" y="520"/>
                    <a:pt x="280" y="633"/>
                  </a:cubicBezTo>
                  <a:cubicBezTo>
                    <a:pt x="281" y="631"/>
                    <a:pt x="293" y="583"/>
                    <a:pt x="310" y="596"/>
                  </a:cubicBezTo>
                  <a:cubicBezTo>
                    <a:pt x="320" y="604"/>
                    <a:pt x="317" y="633"/>
                    <a:pt x="317" y="63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6"/>
            <p:cNvSpPr/>
            <p:nvPr/>
          </p:nvSpPr>
          <p:spPr>
            <a:xfrm>
              <a:off x="-11160" y="4997520"/>
              <a:ext cx="1763640" cy="260280"/>
            </a:xfrm>
            <a:custGeom>
              <a:avLst/>
              <a:gdLst/>
              <a:ahLst/>
              <a:rect l="l" t="t" r="r" b="b"/>
              <a:pathLst>
                <a:path w="1111" h="164">
                  <a:moveTo>
                    <a:pt x="0" y="24"/>
                  </a:moveTo>
                  <a:cubicBezTo>
                    <a:pt x="12" y="26"/>
                    <a:pt x="29" y="21"/>
                    <a:pt x="37" y="31"/>
                  </a:cubicBezTo>
                  <a:cubicBezTo>
                    <a:pt x="71" y="76"/>
                    <a:pt x="13" y="107"/>
                    <a:pt x="73" y="61"/>
                  </a:cubicBezTo>
                  <a:cubicBezTo>
                    <a:pt x="98" y="97"/>
                    <a:pt x="106" y="92"/>
                    <a:pt x="147" y="76"/>
                  </a:cubicBezTo>
                  <a:cubicBezTo>
                    <a:pt x="162" y="78"/>
                    <a:pt x="180" y="74"/>
                    <a:pt x="192" y="83"/>
                  </a:cubicBezTo>
                  <a:cubicBezTo>
                    <a:pt x="198" y="88"/>
                    <a:pt x="177" y="101"/>
                    <a:pt x="184" y="105"/>
                  </a:cubicBezTo>
                  <a:cubicBezTo>
                    <a:pt x="195" y="111"/>
                    <a:pt x="209" y="100"/>
                    <a:pt x="221" y="98"/>
                  </a:cubicBezTo>
                  <a:cubicBezTo>
                    <a:pt x="231" y="100"/>
                    <a:pt x="241" y="106"/>
                    <a:pt x="251" y="105"/>
                  </a:cubicBezTo>
                  <a:cubicBezTo>
                    <a:pt x="297" y="99"/>
                    <a:pt x="267" y="70"/>
                    <a:pt x="295" y="112"/>
                  </a:cubicBezTo>
                  <a:cubicBezTo>
                    <a:pt x="297" y="124"/>
                    <a:pt x="292" y="141"/>
                    <a:pt x="302" y="149"/>
                  </a:cubicBezTo>
                  <a:cubicBezTo>
                    <a:pt x="320" y="164"/>
                    <a:pt x="361" y="112"/>
                    <a:pt x="361" y="112"/>
                  </a:cubicBezTo>
                  <a:cubicBezTo>
                    <a:pt x="337" y="163"/>
                    <a:pt x="344" y="139"/>
                    <a:pt x="376" y="112"/>
                  </a:cubicBezTo>
                  <a:cubicBezTo>
                    <a:pt x="392" y="98"/>
                    <a:pt x="411" y="88"/>
                    <a:pt x="428" y="76"/>
                  </a:cubicBezTo>
                  <a:cubicBezTo>
                    <a:pt x="430" y="100"/>
                    <a:pt x="425" y="127"/>
                    <a:pt x="435" y="149"/>
                  </a:cubicBezTo>
                  <a:cubicBezTo>
                    <a:pt x="439" y="157"/>
                    <a:pt x="448" y="136"/>
                    <a:pt x="450" y="127"/>
                  </a:cubicBezTo>
                  <a:cubicBezTo>
                    <a:pt x="455" y="106"/>
                    <a:pt x="455" y="83"/>
                    <a:pt x="457" y="61"/>
                  </a:cubicBezTo>
                  <a:cubicBezTo>
                    <a:pt x="462" y="68"/>
                    <a:pt x="463" y="83"/>
                    <a:pt x="472" y="83"/>
                  </a:cubicBezTo>
                  <a:cubicBezTo>
                    <a:pt x="480" y="83"/>
                    <a:pt x="457" y="61"/>
                    <a:pt x="465" y="61"/>
                  </a:cubicBezTo>
                  <a:cubicBezTo>
                    <a:pt x="474" y="61"/>
                    <a:pt x="492" y="116"/>
                    <a:pt x="472" y="61"/>
                  </a:cubicBezTo>
                  <a:cubicBezTo>
                    <a:pt x="515" y="49"/>
                    <a:pt x="547" y="70"/>
                    <a:pt x="590" y="83"/>
                  </a:cubicBezTo>
                  <a:cubicBezTo>
                    <a:pt x="578" y="76"/>
                    <a:pt x="565" y="69"/>
                    <a:pt x="553" y="61"/>
                  </a:cubicBezTo>
                  <a:cubicBezTo>
                    <a:pt x="493" y="23"/>
                    <a:pt x="495" y="28"/>
                    <a:pt x="546" y="39"/>
                  </a:cubicBezTo>
                  <a:cubicBezTo>
                    <a:pt x="572" y="51"/>
                    <a:pt x="596" y="60"/>
                    <a:pt x="620" y="76"/>
                  </a:cubicBezTo>
                  <a:cubicBezTo>
                    <a:pt x="615" y="61"/>
                    <a:pt x="602" y="30"/>
                    <a:pt x="620" y="16"/>
                  </a:cubicBezTo>
                  <a:cubicBezTo>
                    <a:pt x="627" y="11"/>
                    <a:pt x="635" y="26"/>
                    <a:pt x="642" y="31"/>
                  </a:cubicBezTo>
                  <a:cubicBezTo>
                    <a:pt x="662" y="94"/>
                    <a:pt x="632" y="17"/>
                    <a:pt x="664" y="24"/>
                  </a:cubicBezTo>
                  <a:cubicBezTo>
                    <a:pt x="687" y="29"/>
                    <a:pt x="688" y="64"/>
                    <a:pt x="701" y="83"/>
                  </a:cubicBezTo>
                  <a:cubicBezTo>
                    <a:pt x="708" y="71"/>
                    <a:pt x="717" y="59"/>
                    <a:pt x="723" y="46"/>
                  </a:cubicBezTo>
                  <a:cubicBezTo>
                    <a:pt x="729" y="34"/>
                    <a:pt x="725" y="13"/>
                    <a:pt x="738" y="9"/>
                  </a:cubicBezTo>
                  <a:cubicBezTo>
                    <a:pt x="748" y="6"/>
                    <a:pt x="739" y="31"/>
                    <a:pt x="745" y="39"/>
                  </a:cubicBezTo>
                  <a:cubicBezTo>
                    <a:pt x="750" y="45"/>
                    <a:pt x="760" y="44"/>
                    <a:pt x="768" y="46"/>
                  </a:cubicBezTo>
                  <a:cubicBezTo>
                    <a:pt x="800" y="36"/>
                    <a:pt x="811" y="46"/>
                    <a:pt x="841" y="61"/>
                  </a:cubicBezTo>
                  <a:cubicBezTo>
                    <a:pt x="929" y="38"/>
                    <a:pt x="810" y="80"/>
                    <a:pt x="864" y="9"/>
                  </a:cubicBezTo>
                  <a:cubicBezTo>
                    <a:pt x="871" y="0"/>
                    <a:pt x="884" y="19"/>
                    <a:pt x="893" y="24"/>
                  </a:cubicBezTo>
                  <a:cubicBezTo>
                    <a:pt x="923" y="41"/>
                    <a:pt x="943" y="65"/>
                    <a:pt x="974" y="76"/>
                  </a:cubicBezTo>
                  <a:cubicBezTo>
                    <a:pt x="960" y="17"/>
                    <a:pt x="963" y="58"/>
                    <a:pt x="989" y="61"/>
                  </a:cubicBezTo>
                  <a:cubicBezTo>
                    <a:pt x="1002" y="62"/>
                    <a:pt x="1014" y="56"/>
                    <a:pt x="1026" y="53"/>
                  </a:cubicBezTo>
                  <a:cubicBezTo>
                    <a:pt x="1051" y="37"/>
                    <a:pt x="1041" y="33"/>
                    <a:pt x="1056" y="46"/>
                  </a:cubicBezTo>
                  <a:lnTo>
                    <a:pt x="1111" y="4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657"/>
            <p:cNvSpPr/>
            <p:nvPr/>
          </p:nvSpPr>
          <p:spPr>
            <a:xfrm>
              <a:off x="5451480" y="2725560"/>
              <a:ext cx="187200" cy="1770120"/>
            </a:xfrm>
            <a:custGeom>
              <a:avLst/>
              <a:gdLst/>
              <a:ahLst/>
              <a:rect l="l" t="t" r="r" b="b"/>
              <a:pathLst>
                <a:path w="118" h="1115">
                  <a:moveTo>
                    <a:pt x="81" y="997"/>
                  </a:moveTo>
                  <a:cubicBezTo>
                    <a:pt x="71" y="1036"/>
                    <a:pt x="59" y="1074"/>
                    <a:pt x="59" y="1115"/>
                  </a:cubicBezTo>
                  <a:cubicBezTo>
                    <a:pt x="62" y="988"/>
                    <a:pt x="118" y="573"/>
                    <a:pt x="44" y="369"/>
                  </a:cubicBezTo>
                  <a:cubicBezTo>
                    <a:pt x="5" y="492"/>
                    <a:pt x="48" y="366"/>
                    <a:pt x="29" y="81"/>
                  </a:cubicBezTo>
                  <a:cubicBezTo>
                    <a:pt x="27" y="54"/>
                    <a:pt x="0" y="3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658"/>
            <p:cNvSpPr/>
            <p:nvPr/>
          </p:nvSpPr>
          <p:spPr>
            <a:xfrm>
              <a:off x="210960" y="4965840"/>
              <a:ext cx="1722600" cy="493560"/>
            </a:xfrm>
            <a:custGeom>
              <a:avLst/>
              <a:gdLst/>
              <a:ahLst/>
              <a:rect l="l" t="t" r="r" b="b"/>
              <a:pathLst>
                <a:path w="1085" h="311">
                  <a:moveTo>
                    <a:pt x="258" y="132"/>
                  </a:moveTo>
                  <a:cubicBezTo>
                    <a:pt x="261" y="122"/>
                    <a:pt x="256" y="103"/>
                    <a:pt x="266" y="103"/>
                  </a:cubicBezTo>
                  <a:cubicBezTo>
                    <a:pt x="277" y="103"/>
                    <a:pt x="275" y="141"/>
                    <a:pt x="281" y="132"/>
                  </a:cubicBezTo>
                  <a:cubicBezTo>
                    <a:pt x="293" y="116"/>
                    <a:pt x="286" y="93"/>
                    <a:pt x="288" y="73"/>
                  </a:cubicBezTo>
                  <a:cubicBezTo>
                    <a:pt x="298" y="76"/>
                    <a:pt x="308" y="76"/>
                    <a:pt x="317" y="81"/>
                  </a:cubicBezTo>
                  <a:cubicBezTo>
                    <a:pt x="328" y="87"/>
                    <a:pt x="335" y="107"/>
                    <a:pt x="347" y="103"/>
                  </a:cubicBezTo>
                  <a:cubicBezTo>
                    <a:pt x="350" y="102"/>
                    <a:pt x="331" y="45"/>
                    <a:pt x="332" y="44"/>
                  </a:cubicBezTo>
                  <a:cubicBezTo>
                    <a:pt x="339" y="37"/>
                    <a:pt x="352" y="49"/>
                    <a:pt x="362" y="51"/>
                  </a:cubicBezTo>
                  <a:cubicBezTo>
                    <a:pt x="369" y="58"/>
                    <a:pt x="374" y="73"/>
                    <a:pt x="384" y="73"/>
                  </a:cubicBezTo>
                  <a:cubicBezTo>
                    <a:pt x="392" y="73"/>
                    <a:pt x="389" y="59"/>
                    <a:pt x="391" y="51"/>
                  </a:cubicBezTo>
                  <a:cubicBezTo>
                    <a:pt x="394" y="34"/>
                    <a:pt x="396" y="17"/>
                    <a:pt x="399" y="0"/>
                  </a:cubicBezTo>
                  <a:cubicBezTo>
                    <a:pt x="438" y="29"/>
                    <a:pt x="455" y="62"/>
                    <a:pt x="487" y="96"/>
                  </a:cubicBezTo>
                  <a:cubicBezTo>
                    <a:pt x="489" y="90"/>
                    <a:pt x="504" y="45"/>
                    <a:pt x="509" y="44"/>
                  </a:cubicBezTo>
                  <a:cubicBezTo>
                    <a:pt x="519" y="42"/>
                    <a:pt x="542" y="82"/>
                    <a:pt x="546" y="88"/>
                  </a:cubicBezTo>
                  <a:cubicBezTo>
                    <a:pt x="544" y="76"/>
                    <a:pt x="533" y="62"/>
                    <a:pt x="539" y="51"/>
                  </a:cubicBezTo>
                  <a:cubicBezTo>
                    <a:pt x="543" y="44"/>
                    <a:pt x="554" y="55"/>
                    <a:pt x="561" y="59"/>
                  </a:cubicBezTo>
                  <a:cubicBezTo>
                    <a:pt x="576" y="68"/>
                    <a:pt x="590" y="78"/>
                    <a:pt x="605" y="88"/>
                  </a:cubicBezTo>
                  <a:cubicBezTo>
                    <a:pt x="613" y="93"/>
                    <a:pt x="628" y="103"/>
                    <a:pt x="628" y="103"/>
                  </a:cubicBezTo>
                  <a:cubicBezTo>
                    <a:pt x="623" y="93"/>
                    <a:pt x="620" y="82"/>
                    <a:pt x="613" y="73"/>
                  </a:cubicBezTo>
                  <a:cubicBezTo>
                    <a:pt x="598" y="56"/>
                    <a:pt x="556" y="52"/>
                    <a:pt x="628" y="66"/>
                  </a:cubicBezTo>
                  <a:cubicBezTo>
                    <a:pt x="668" y="90"/>
                    <a:pt x="676" y="97"/>
                    <a:pt x="657" y="81"/>
                  </a:cubicBezTo>
                  <a:cubicBezTo>
                    <a:pt x="651" y="76"/>
                    <a:pt x="642" y="76"/>
                    <a:pt x="635" y="73"/>
                  </a:cubicBezTo>
                  <a:cubicBezTo>
                    <a:pt x="587" y="53"/>
                    <a:pt x="603" y="58"/>
                    <a:pt x="635" y="66"/>
                  </a:cubicBezTo>
                  <a:cubicBezTo>
                    <a:pt x="663" y="80"/>
                    <a:pt x="688" y="96"/>
                    <a:pt x="716" y="110"/>
                  </a:cubicBezTo>
                  <a:cubicBezTo>
                    <a:pt x="756" y="101"/>
                    <a:pt x="768" y="103"/>
                    <a:pt x="797" y="132"/>
                  </a:cubicBezTo>
                  <a:cubicBezTo>
                    <a:pt x="804" y="139"/>
                    <a:pt x="834" y="147"/>
                    <a:pt x="827" y="140"/>
                  </a:cubicBezTo>
                  <a:cubicBezTo>
                    <a:pt x="809" y="122"/>
                    <a:pt x="747" y="114"/>
                    <a:pt x="724" y="110"/>
                  </a:cubicBezTo>
                  <a:cubicBezTo>
                    <a:pt x="712" y="113"/>
                    <a:pt x="691" y="106"/>
                    <a:pt x="687" y="118"/>
                  </a:cubicBezTo>
                  <a:cubicBezTo>
                    <a:pt x="683" y="128"/>
                    <a:pt x="707" y="127"/>
                    <a:pt x="716" y="132"/>
                  </a:cubicBezTo>
                  <a:cubicBezTo>
                    <a:pt x="724" y="136"/>
                    <a:pt x="747" y="145"/>
                    <a:pt x="738" y="147"/>
                  </a:cubicBezTo>
                  <a:cubicBezTo>
                    <a:pt x="721" y="152"/>
                    <a:pt x="704" y="143"/>
                    <a:pt x="687" y="140"/>
                  </a:cubicBezTo>
                  <a:cubicBezTo>
                    <a:pt x="677" y="138"/>
                    <a:pt x="667" y="135"/>
                    <a:pt x="657" y="132"/>
                  </a:cubicBezTo>
                  <a:cubicBezTo>
                    <a:pt x="561" y="158"/>
                    <a:pt x="715" y="118"/>
                    <a:pt x="465" y="147"/>
                  </a:cubicBezTo>
                  <a:cubicBezTo>
                    <a:pt x="446" y="149"/>
                    <a:pt x="392" y="177"/>
                    <a:pt x="369" y="184"/>
                  </a:cubicBezTo>
                  <a:cubicBezTo>
                    <a:pt x="290" y="169"/>
                    <a:pt x="185" y="200"/>
                    <a:pt x="103" y="206"/>
                  </a:cubicBezTo>
                  <a:cubicBezTo>
                    <a:pt x="140" y="219"/>
                    <a:pt x="168" y="205"/>
                    <a:pt x="199" y="184"/>
                  </a:cubicBezTo>
                  <a:cubicBezTo>
                    <a:pt x="204" y="177"/>
                    <a:pt x="222" y="165"/>
                    <a:pt x="214" y="162"/>
                  </a:cubicBezTo>
                  <a:cubicBezTo>
                    <a:pt x="185" y="150"/>
                    <a:pt x="126" y="186"/>
                    <a:pt x="96" y="192"/>
                  </a:cubicBezTo>
                  <a:cubicBezTo>
                    <a:pt x="81" y="195"/>
                    <a:pt x="39" y="206"/>
                    <a:pt x="52" y="199"/>
                  </a:cubicBezTo>
                  <a:cubicBezTo>
                    <a:pt x="70" y="189"/>
                    <a:pt x="91" y="188"/>
                    <a:pt x="111" y="184"/>
                  </a:cubicBezTo>
                  <a:cubicBezTo>
                    <a:pt x="119" y="183"/>
                    <a:pt x="96" y="189"/>
                    <a:pt x="89" y="192"/>
                  </a:cubicBezTo>
                  <a:cubicBezTo>
                    <a:pt x="81" y="196"/>
                    <a:pt x="74" y="201"/>
                    <a:pt x="66" y="206"/>
                  </a:cubicBezTo>
                  <a:cubicBezTo>
                    <a:pt x="12" y="242"/>
                    <a:pt x="41" y="230"/>
                    <a:pt x="0" y="243"/>
                  </a:cubicBezTo>
                  <a:cubicBezTo>
                    <a:pt x="46" y="274"/>
                    <a:pt x="76" y="238"/>
                    <a:pt x="125" y="221"/>
                  </a:cubicBezTo>
                  <a:cubicBezTo>
                    <a:pt x="150" y="212"/>
                    <a:pt x="193" y="204"/>
                    <a:pt x="221" y="199"/>
                  </a:cubicBezTo>
                  <a:cubicBezTo>
                    <a:pt x="214" y="206"/>
                    <a:pt x="205" y="212"/>
                    <a:pt x="199" y="221"/>
                  </a:cubicBezTo>
                  <a:cubicBezTo>
                    <a:pt x="193" y="230"/>
                    <a:pt x="192" y="243"/>
                    <a:pt x="185" y="251"/>
                  </a:cubicBezTo>
                  <a:cubicBezTo>
                    <a:pt x="177" y="260"/>
                    <a:pt x="164" y="264"/>
                    <a:pt x="155" y="273"/>
                  </a:cubicBezTo>
                  <a:cubicBezTo>
                    <a:pt x="146" y="281"/>
                    <a:pt x="123" y="295"/>
                    <a:pt x="133" y="302"/>
                  </a:cubicBezTo>
                  <a:cubicBezTo>
                    <a:pt x="146" y="311"/>
                    <a:pt x="162" y="293"/>
                    <a:pt x="177" y="288"/>
                  </a:cubicBezTo>
                  <a:cubicBezTo>
                    <a:pt x="223" y="252"/>
                    <a:pt x="269" y="217"/>
                    <a:pt x="317" y="184"/>
                  </a:cubicBezTo>
                  <a:cubicBezTo>
                    <a:pt x="383" y="207"/>
                    <a:pt x="279" y="166"/>
                    <a:pt x="369" y="236"/>
                  </a:cubicBezTo>
                  <a:cubicBezTo>
                    <a:pt x="381" y="246"/>
                    <a:pt x="394" y="255"/>
                    <a:pt x="406" y="265"/>
                  </a:cubicBezTo>
                  <a:cubicBezTo>
                    <a:pt x="401" y="255"/>
                    <a:pt x="397" y="245"/>
                    <a:pt x="391" y="236"/>
                  </a:cubicBezTo>
                  <a:cubicBezTo>
                    <a:pt x="347" y="164"/>
                    <a:pt x="336" y="190"/>
                    <a:pt x="465" y="199"/>
                  </a:cubicBezTo>
                  <a:cubicBezTo>
                    <a:pt x="477" y="206"/>
                    <a:pt x="489" y="215"/>
                    <a:pt x="502" y="221"/>
                  </a:cubicBezTo>
                  <a:cubicBezTo>
                    <a:pt x="509" y="224"/>
                    <a:pt x="524" y="236"/>
                    <a:pt x="524" y="228"/>
                  </a:cubicBezTo>
                  <a:cubicBezTo>
                    <a:pt x="524" y="221"/>
                    <a:pt x="474" y="185"/>
                    <a:pt x="473" y="184"/>
                  </a:cubicBezTo>
                  <a:cubicBezTo>
                    <a:pt x="465" y="177"/>
                    <a:pt x="440" y="164"/>
                    <a:pt x="450" y="162"/>
                  </a:cubicBezTo>
                  <a:cubicBezTo>
                    <a:pt x="484" y="156"/>
                    <a:pt x="519" y="167"/>
                    <a:pt x="554" y="169"/>
                  </a:cubicBezTo>
                  <a:cubicBezTo>
                    <a:pt x="574" y="179"/>
                    <a:pt x="593" y="189"/>
                    <a:pt x="613" y="199"/>
                  </a:cubicBezTo>
                  <a:cubicBezTo>
                    <a:pt x="624" y="205"/>
                    <a:pt x="594" y="183"/>
                    <a:pt x="583" y="177"/>
                  </a:cubicBezTo>
                  <a:cubicBezTo>
                    <a:pt x="576" y="173"/>
                    <a:pt x="568" y="172"/>
                    <a:pt x="561" y="169"/>
                  </a:cubicBezTo>
                  <a:cubicBezTo>
                    <a:pt x="605" y="159"/>
                    <a:pt x="628" y="175"/>
                    <a:pt x="665" y="199"/>
                  </a:cubicBezTo>
                  <a:cubicBezTo>
                    <a:pt x="680" y="151"/>
                    <a:pt x="703" y="183"/>
                    <a:pt x="738" y="192"/>
                  </a:cubicBezTo>
                  <a:cubicBezTo>
                    <a:pt x="758" y="197"/>
                    <a:pt x="797" y="206"/>
                    <a:pt x="797" y="206"/>
                  </a:cubicBezTo>
                  <a:cubicBezTo>
                    <a:pt x="854" y="243"/>
                    <a:pt x="800" y="184"/>
                    <a:pt x="790" y="177"/>
                  </a:cubicBezTo>
                  <a:cubicBezTo>
                    <a:pt x="784" y="173"/>
                    <a:pt x="760" y="168"/>
                    <a:pt x="768" y="169"/>
                  </a:cubicBezTo>
                  <a:cubicBezTo>
                    <a:pt x="800" y="172"/>
                    <a:pt x="832" y="179"/>
                    <a:pt x="864" y="184"/>
                  </a:cubicBezTo>
                  <a:cubicBezTo>
                    <a:pt x="876" y="191"/>
                    <a:pt x="889" y="198"/>
                    <a:pt x="901" y="206"/>
                  </a:cubicBezTo>
                  <a:cubicBezTo>
                    <a:pt x="909" y="211"/>
                    <a:pt x="914" y="223"/>
                    <a:pt x="923" y="221"/>
                  </a:cubicBezTo>
                  <a:cubicBezTo>
                    <a:pt x="930" y="219"/>
                    <a:pt x="928" y="206"/>
                    <a:pt x="930" y="199"/>
                  </a:cubicBezTo>
                  <a:cubicBezTo>
                    <a:pt x="881" y="174"/>
                    <a:pt x="839" y="164"/>
                    <a:pt x="945" y="177"/>
                  </a:cubicBezTo>
                  <a:cubicBezTo>
                    <a:pt x="1006" y="219"/>
                    <a:pt x="933" y="174"/>
                    <a:pt x="953" y="162"/>
                  </a:cubicBezTo>
                  <a:cubicBezTo>
                    <a:pt x="968" y="153"/>
                    <a:pt x="987" y="167"/>
                    <a:pt x="1004" y="169"/>
                  </a:cubicBezTo>
                  <a:cubicBezTo>
                    <a:pt x="1009" y="171"/>
                    <a:pt x="1044" y="184"/>
                    <a:pt x="1049" y="184"/>
                  </a:cubicBezTo>
                  <a:cubicBezTo>
                    <a:pt x="1061" y="184"/>
                    <a:pt x="1073" y="177"/>
                    <a:pt x="1085" y="17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63"/>
            <p:cNvSpPr/>
            <p:nvPr/>
          </p:nvSpPr>
          <p:spPr>
            <a:xfrm>
              <a:off x="-187200" y="5351400"/>
              <a:ext cx="4770360" cy="973080"/>
            </a:xfrm>
            <a:custGeom>
              <a:avLst/>
              <a:gdLst/>
              <a:ahLst/>
              <a:rect l="l" t="t" r="r" b="b"/>
              <a:pathLst>
                <a:path w="3005" h="613">
                  <a:moveTo>
                    <a:pt x="3005" y="0"/>
                  </a:moveTo>
                  <a:cubicBezTo>
                    <a:pt x="2993" y="40"/>
                    <a:pt x="2984" y="77"/>
                    <a:pt x="2976" y="118"/>
                  </a:cubicBezTo>
                  <a:cubicBezTo>
                    <a:pt x="2973" y="167"/>
                    <a:pt x="2974" y="217"/>
                    <a:pt x="2968" y="266"/>
                  </a:cubicBezTo>
                  <a:cubicBezTo>
                    <a:pt x="2966" y="281"/>
                    <a:pt x="2959" y="295"/>
                    <a:pt x="2954" y="310"/>
                  </a:cubicBezTo>
                  <a:cubicBezTo>
                    <a:pt x="2951" y="318"/>
                    <a:pt x="2946" y="333"/>
                    <a:pt x="2946" y="333"/>
                  </a:cubicBezTo>
                  <a:cubicBezTo>
                    <a:pt x="2944" y="370"/>
                    <a:pt x="2962" y="414"/>
                    <a:pt x="2939" y="443"/>
                  </a:cubicBezTo>
                  <a:cubicBezTo>
                    <a:pt x="2920" y="466"/>
                    <a:pt x="2880" y="447"/>
                    <a:pt x="2850" y="451"/>
                  </a:cubicBezTo>
                  <a:cubicBezTo>
                    <a:pt x="2842" y="452"/>
                    <a:pt x="2836" y="457"/>
                    <a:pt x="2828" y="458"/>
                  </a:cubicBezTo>
                  <a:cubicBezTo>
                    <a:pt x="2811" y="461"/>
                    <a:pt x="2793" y="463"/>
                    <a:pt x="2776" y="465"/>
                  </a:cubicBezTo>
                  <a:cubicBezTo>
                    <a:pt x="2741" y="522"/>
                    <a:pt x="2656" y="495"/>
                    <a:pt x="2599" y="488"/>
                  </a:cubicBezTo>
                  <a:cubicBezTo>
                    <a:pt x="2550" y="474"/>
                    <a:pt x="2494" y="490"/>
                    <a:pt x="2444" y="502"/>
                  </a:cubicBezTo>
                  <a:cubicBezTo>
                    <a:pt x="2393" y="496"/>
                    <a:pt x="2372" y="478"/>
                    <a:pt x="2326" y="488"/>
                  </a:cubicBezTo>
                  <a:cubicBezTo>
                    <a:pt x="2289" y="512"/>
                    <a:pt x="2284" y="510"/>
                    <a:pt x="2237" y="502"/>
                  </a:cubicBezTo>
                  <a:cubicBezTo>
                    <a:pt x="2187" y="469"/>
                    <a:pt x="2210" y="468"/>
                    <a:pt x="2171" y="480"/>
                  </a:cubicBezTo>
                  <a:cubicBezTo>
                    <a:pt x="2136" y="506"/>
                    <a:pt x="2134" y="520"/>
                    <a:pt x="2097" y="495"/>
                  </a:cubicBezTo>
                  <a:cubicBezTo>
                    <a:pt x="2014" y="500"/>
                    <a:pt x="2002" y="498"/>
                    <a:pt x="1942" y="517"/>
                  </a:cubicBezTo>
                  <a:cubicBezTo>
                    <a:pt x="1891" y="507"/>
                    <a:pt x="1859" y="531"/>
                    <a:pt x="1809" y="532"/>
                  </a:cubicBezTo>
                  <a:cubicBezTo>
                    <a:pt x="1647" y="536"/>
                    <a:pt x="1484" y="537"/>
                    <a:pt x="1322" y="539"/>
                  </a:cubicBezTo>
                  <a:cubicBezTo>
                    <a:pt x="1257" y="584"/>
                    <a:pt x="1221" y="558"/>
                    <a:pt x="1122" y="554"/>
                  </a:cubicBezTo>
                  <a:cubicBezTo>
                    <a:pt x="1084" y="542"/>
                    <a:pt x="1046" y="547"/>
                    <a:pt x="1012" y="525"/>
                  </a:cubicBezTo>
                  <a:cubicBezTo>
                    <a:pt x="961" y="537"/>
                    <a:pt x="914" y="560"/>
                    <a:pt x="864" y="576"/>
                  </a:cubicBezTo>
                  <a:cubicBezTo>
                    <a:pt x="509" y="567"/>
                    <a:pt x="683" y="585"/>
                    <a:pt x="517" y="539"/>
                  </a:cubicBezTo>
                  <a:cubicBezTo>
                    <a:pt x="453" y="548"/>
                    <a:pt x="389" y="560"/>
                    <a:pt x="325" y="569"/>
                  </a:cubicBezTo>
                  <a:cubicBezTo>
                    <a:pt x="200" y="611"/>
                    <a:pt x="232" y="592"/>
                    <a:pt x="22" y="598"/>
                  </a:cubicBezTo>
                  <a:cubicBezTo>
                    <a:pt x="15" y="603"/>
                    <a:pt x="0" y="613"/>
                    <a:pt x="0" y="61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664"/>
            <p:cNvSpPr/>
            <p:nvPr/>
          </p:nvSpPr>
          <p:spPr>
            <a:xfrm>
              <a:off x="-200160" y="5351400"/>
              <a:ext cx="4819680" cy="988920"/>
            </a:xfrm>
            <a:custGeom>
              <a:avLst/>
              <a:gdLst/>
              <a:ahLst/>
              <a:rect l="l" t="t" r="r" b="b"/>
              <a:pathLst>
                <a:path w="3036" h="623">
                  <a:moveTo>
                    <a:pt x="2925" y="126"/>
                  </a:moveTo>
                  <a:cubicBezTo>
                    <a:pt x="2915" y="141"/>
                    <a:pt x="2908" y="157"/>
                    <a:pt x="2895" y="170"/>
                  </a:cubicBezTo>
                  <a:cubicBezTo>
                    <a:pt x="2888" y="177"/>
                    <a:pt x="2873" y="182"/>
                    <a:pt x="2873" y="192"/>
                  </a:cubicBezTo>
                  <a:cubicBezTo>
                    <a:pt x="2873" y="201"/>
                    <a:pt x="2888" y="182"/>
                    <a:pt x="2895" y="177"/>
                  </a:cubicBezTo>
                  <a:cubicBezTo>
                    <a:pt x="2898" y="170"/>
                    <a:pt x="2898" y="161"/>
                    <a:pt x="2903" y="155"/>
                  </a:cubicBezTo>
                  <a:cubicBezTo>
                    <a:pt x="2909" y="148"/>
                    <a:pt x="2921" y="133"/>
                    <a:pt x="2925" y="141"/>
                  </a:cubicBezTo>
                  <a:cubicBezTo>
                    <a:pt x="2928" y="148"/>
                    <a:pt x="2889" y="199"/>
                    <a:pt x="2888" y="200"/>
                  </a:cubicBezTo>
                  <a:cubicBezTo>
                    <a:pt x="2882" y="206"/>
                    <a:pt x="2897" y="183"/>
                    <a:pt x="2903" y="177"/>
                  </a:cubicBezTo>
                  <a:cubicBezTo>
                    <a:pt x="2909" y="171"/>
                    <a:pt x="2918" y="168"/>
                    <a:pt x="2925" y="163"/>
                  </a:cubicBezTo>
                  <a:cubicBezTo>
                    <a:pt x="2906" y="200"/>
                    <a:pt x="2895" y="237"/>
                    <a:pt x="2873" y="273"/>
                  </a:cubicBezTo>
                  <a:cubicBezTo>
                    <a:pt x="2860" y="327"/>
                    <a:pt x="2859" y="310"/>
                    <a:pt x="2917" y="251"/>
                  </a:cubicBezTo>
                  <a:cubicBezTo>
                    <a:pt x="2923" y="245"/>
                    <a:pt x="2909" y="266"/>
                    <a:pt x="2903" y="273"/>
                  </a:cubicBezTo>
                  <a:cubicBezTo>
                    <a:pt x="2896" y="281"/>
                    <a:pt x="2880" y="285"/>
                    <a:pt x="2880" y="296"/>
                  </a:cubicBezTo>
                  <a:cubicBezTo>
                    <a:pt x="2880" y="305"/>
                    <a:pt x="2895" y="286"/>
                    <a:pt x="2903" y="281"/>
                  </a:cubicBezTo>
                  <a:cubicBezTo>
                    <a:pt x="2897" y="298"/>
                    <a:pt x="2890" y="319"/>
                    <a:pt x="2880" y="333"/>
                  </a:cubicBezTo>
                  <a:cubicBezTo>
                    <a:pt x="2874" y="341"/>
                    <a:pt x="2865" y="347"/>
                    <a:pt x="2858" y="355"/>
                  </a:cubicBezTo>
                  <a:cubicBezTo>
                    <a:pt x="2852" y="362"/>
                    <a:pt x="2838" y="371"/>
                    <a:pt x="2844" y="377"/>
                  </a:cubicBezTo>
                  <a:cubicBezTo>
                    <a:pt x="2851" y="384"/>
                    <a:pt x="2863" y="372"/>
                    <a:pt x="2873" y="369"/>
                  </a:cubicBezTo>
                  <a:cubicBezTo>
                    <a:pt x="2882" y="362"/>
                    <a:pt x="2949" y="299"/>
                    <a:pt x="2910" y="355"/>
                  </a:cubicBezTo>
                  <a:cubicBezTo>
                    <a:pt x="2894" y="404"/>
                    <a:pt x="2916" y="348"/>
                    <a:pt x="2880" y="399"/>
                  </a:cubicBezTo>
                  <a:cubicBezTo>
                    <a:pt x="2874" y="408"/>
                    <a:pt x="2858" y="436"/>
                    <a:pt x="2866" y="429"/>
                  </a:cubicBezTo>
                  <a:cubicBezTo>
                    <a:pt x="2877" y="420"/>
                    <a:pt x="2879" y="403"/>
                    <a:pt x="2888" y="392"/>
                  </a:cubicBezTo>
                  <a:cubicBezTo>
                    <a:pt x="2894" y="385"/>
                    <a:pt x="2903" y="382"/>
                    <a:pt x="2910" y="377"/>
                  </a:cubicBezTo>
                  <a:cubicBezTo>
                    <a:pt x="2908" y="384"/>
                    <a:pt x="2898" y="404"/>
                    <a:pt x="2903" y="399"/>
                  </a:cubicBezTo>
                  <a:cubicBezTo>
                    <a:pt x="2935" y="367"/>
                    <a:pt x="2951" y="317"/>
                    <a:pt x="2932" y="369"/>
                  </a:cubicBezTo>
                  <a:cubicBezTo>
                    <a:pt x="2948" y="167"/>
                    <a:pt x="2932" y="114"/>
                    <a:pt x="2954" y="207"/>
                  </a:cubicBezTo>
                  <a:cubicBezTo>
                    <a:pt x="2978" y="138"/>
                    <a:pt x="2994" y="62"/>
                    <a:pt x="3036" y="0"/>
                  </a:cubicBezTo>
                  <a:cubicBezTo>
                    <a:pt x="3027" y="67"/>
                    <a:pt x="3016" y="134"/>
                    <a:pt x="2999" y="200"/>
                  </a:cubicBezTo>
                  <a:cubicBezTo>
                    <a:pt x="2992" y="228"/>
                    <a:pt x="2991" y="234"/>
                    <a:pt x="2976" y="259"/>
                  </a:cubicBezTo>
                  <a:cubicBezTo>
                    <a:pt x="2967" y="274"/>
                    <a:pt x="2947" y="303"/>
                    <a:pt x="2947" y="303"/>
                  </a:cubicBezTo>
                  <a:cubicBezTo>
                    <a:pt x="2945" y="310"/>
                    <a:pt x="2948" y="325"/>
                    <a:pt x="2940" y="325"/>
                  </a:cubicBezTo>
                  <a:cubicBezTo>
                    <a:pt x="2932" y="325"/>
                    <a:pt x="2931" y="311"/>
                    <a:pt x="2932" y="303"/>
                  </a:cubicBezTo>
                  <a:cubicBezTo>
                    <a:pt x="2933" y="292"/>
                    <a:pt x="2942" y="283"/>
                    <a:pt x="2947" y="273"/>
                  </a:cubicBezTo>
                  <a:cubicBezTo>
                    <a:pt x="2956" y="225"/>
                    <a:pt x="2971" y="167"/>
                    <a:pt x="2999" y="126"/>
                  </a:cubicBezTo>
                  <a:cubicBezTo>
                    <a:pt x="3001" y="119"/>
                    <a:pt x="3006" y="96"/>
                    <a:pt x="3006" y="104"/>
                  </a:cubicBezTo>
                  <a:cubicBezTo>
                    <a:pt x="3006" y="155"/>
                    <a:pt x="2990" y="247"/>
                    <a:pt x="3006" y="148"/>
                  </a:cubicBezTo>
                  <a:cubicBezTo>
                    <a:pt x="3004" y="114"/>
                    <a:pt x="3009" y="78"/>
                    <a:pt x="2999" y="45"/>
                  </a:cubicBezTo>
                  <a:cubicBezTo>
                    <a:pt x="2994" y="28"/>
                    <a:pt x="2993" y="79"/>
                    <a:pt x="2991" y="96"/>
                  </a:cubicBezTo>
                  <a:cubicBezTo>
                    <a:pt x="2982" y="159"/>
                    <a:pt x="2990" y="130"/>
                    <a:pt x="2976" y="170"/>
                  </a:cubicBezTo>
                  <a:cubicBezTo>
                    <a:pt x="2966" y="236"/>
                    <a:pt x="2972" y="316"/>
                    <a:pt x="2932" y="369"/>
                  </a:cubicBezTo>
                  <a:cubicBezTo>
                    <a:pt x="2932" y="369"/>
                    <a:pt x="2919" y="414"/>
                    <a:pt x="2917" y="414"/>
                  </a:cubicBezTo>
                  <a:cubicBezTo>
                    <a:pt x="2909" y="414"/>
                    <a:pt x="2912" y="399"/>
                    <a:pt x="2910" y="392"/>
                  </a:cubicBezTo>
                  <a:cubicBezTo>
                    <a:pt x="2897" y="335"/>
                    <a:pt x="2913" y="374"/>
                    <a:pt x="2888" y="325"/>
                  </a:cubicBezTo>
                  <a:cubicBezTo>
                    <a:pt x="2880" y="287"/>
                    <a:pt x="2887" y="252"/>
                    <a:pt x="2844" y="281"/>
                  </a:cubicBezTo>
                  <a:cubicBezTo>
                    <a:pt x="2819" y="264"/>
                    <a:pt x="2790" y="247"/>
                    <a:pt x="2807" y="296"/>
                  </a:cubicBezTo>
                  <a:cubicBezTo>
                    <a:pt x="2824" y="240"/>
                    <a:pt x="2814" y="237"/>
                    <a:pt x="2836" y="281"/>
                  </a:cubicBezTo>
                  <a:cubicBezTo>
                    <a:pt x="2828" y="313"/>
                    <a:pt x="2811" y="331"/>
                    <a:pt x="2821" y="362"/>
                  </a:cubicBezTo>
                  <a:cubicBezTo>
                    <a:pt x="2778" y="454"/>
                    <a:pt x="2838" y="334"/>
                    <a:pt x="2784" y="414"/>
                  </a:cubicBezTo>
                  <a:cubicBezTo>
                    <a:pt x="2780" y="420"/>
                    <a:pt x="2770" y="434"/>
                    <a:pt x="2777" y="436"/>
                  </a:cubicBezTo>
                  <a:cubicBezTo>
                    <a:pt x="2795" y="441"/>
                    <a:pt x="2811" y="420"/>
                    <a:pt x="2829" y="414"/>
                  </a:cubicBezTo>
                  <a:cubicBezTo>
                    <a:pt x="2814" y="450"/>
                    <a:pt x="2808" y="467"/>
                    <a:pt x="2777" y="488"/>
                  </a:cubicBezTo>
                  <a:cubicBezTo>
                    <a:pt x="2711" y="476"/>
                    <a:pt x="2706" y="473"/>
                    <a:pt x="2629" y="480"/>
                  </a:cubicBezTo>
                  <a:cubicBezTo>
                    <a:pt x="2596" y="469"/>
                    <a:pt x="2568" y="481"/>
                    <a:pt x="2533" y="473"/>
                  </a:cubicBezTo>
                  <a:cubicBezTo>
                    <a:pt x="2478" y="486"/>
                    <a:pt x="2529" y="481"/>
                    <a:pt x="2460" y="458"/>
                  </a:cubicBezTo>
                  <a:cubicBezTo>
                    <a:pt x="2445" y="453"/>
                    <a:pt x="2341" y="443"/>
                    <a:pt x="2341" y="443"/>
                  </a:cubicBezTo>
                  <a:cubicBezTo>
                    <a:pt x="2229" y="460"/>
                    <a:pt x="2217" y="455"/>
                    <a:pt x="2297" y="480"/>
                  </a:cubicBezTo>
                  <a:cubicBezTo>
                    <a:pt x="2302" y="487"/>
                    <a:pt x="2316" y="494"/>
                    <a:pt x="2312" y="502"/>
                  </a:cubicBezTo>
                  <a:cubicBezTo>
                    <a:pt x="2309" y="509"/>
                    <a:pt x="2297" y="497"/>
                    <a:pt x="2290" y="495"/>
                  </a:cubicBezTo>
                  <a:cubicBezTo>
                    <a:pt x="2276" y="491"/>
                    <a:pt x="2207" y="459"/>
                    <a:pt x="2260" y="495"/>
                  </a:cubicBezTo>
                  <a:cubicBezTo>
                    <a:pt x="2195" y="529"/>
                    <a:pt x="1967" y="468"/>
                    <a:pt x="2061" y="532"/>
                  </a:cubicBezTo>
                  <a:cubicBezTo>
                    <a:pt x="1974" y="591"/>
                    <a:pt x="1630" y="530"/>
                    <a:pt x="1795" y="561"/>
                  </a:cubicBezTo>
                  <a:cubicBezTo>
                    <a:pt x="1748" y="574"/>
                    <a:pt x="1741" y="550"/>
                    <a:pt x="1699" y="525"/>
                  </a:cubicBezTo>
                  <a:cubicBezTo>
                    <a:pt x="1687" y="575"/>
                    <a:pt x="1679" y="552"/>
                    <a:pt x="1640" y="532"/>
                  </a:cubicBezTo>
                  <a:cubicBezTo>
                    <a:pt x="1625" y="534"/>
                    <a:pt x="1607" y="528"/>
                    <a:pt x="1596" y="539"/>
                  </a:cubicBezTo>
                  <a:cubicBezTo>
                    <a:pt x="1590" y="545"/>
                    <a:pt x="1618" y="554"/>
                    <a:pt x="1618" y="554"/>
                  </a:cubicBezTo>
                  <a:cubicBezTo>
                    <a:pt x="1616" y="552"/>
                    <a:pt x="1576" y="525"/>
                    <a:pt x="1573" y="525"/>
                  </a:cubicBezTo>
                  <a:cubicBezTo>
                    <a:pt x="1558" y="525"/>
                    <a:pt x="1544" y="534"/>
                    <a:pt x="1529" y="539"/>
                  </a:cubicBezTo>
                  <a:cubicBezTo>
                    <a:pt x="1491" y="551"/>
                    <a:pt x="1450" y="544"/>
                    <a:pt x="1411" y="547"/>
                  </a:cubicBezTo>
                  <a:cubicBezTo>
                    <a:pt x="1372" y="556"/>
                    <a:pt x="1332" y="558"/>
                    <a:pt x="1293" y="569"/>
                  </a:cubicBezTo>
                  <a:cubicBezTo>
                    <a:pt x="1093" y="563"/>
                    <a:pt x="1049" y="555"/>
                    <a:pt x="872" y="569"/>
                  </a:cubicBezTo>
                  <a:cubicBezTo>
                    <a:pt x="843" y="571"/>
                    <a:pt x="812" y="588"/>
                    <a:pt x="783" y="591"/>
                  </a:cubicBezTo>
                  <a:cubicBezTo>
                    <a:pt x="739" y="595"/>
                    <a:pt x="694" y="596"/>
                    <a:pt x="650" y="598"/>
                  </a:cubicBezTo>
                  <a:cubicBezTo>
                    <a:pt x="607" y="590"/>
                    <a:pt x="573" y="572"/>
                    <a:pt x="532" y="561"/>
                  </a:cubicBezTo>
                  <a:cubicBezTo>
                    <a:pt x="474" y="582"/>
                    <a:pt x="205" y="587"/>
                    <a:pt x="119" y="591"/>
                  </a:cubicBezTo>
                  <a:cubicBezTo>
                    <a:pt x="69" y="623"/>
                    <a:pt x="105" y="606"/>
                    <a:pt x="0" y="60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665"/>
            <p:cNvSpPr/>
            <p:nvPr/>
          </p:nvSpPr>
          <p:spPr>
            <a:xfrm>
              <a:off x="1946160" y="5576760"/>
              <a:ext cx="1609920" cy="685800"/>
            </a:xfrm>
            <a:custGeom>
              <a:avLst/>
              <a:gdLst/>
              <a:ahLst/>
              <a:rect l="l" t="t" r="r" b="b"/>
              <a:pathLst>
                <a:path w="1014" h="432">
                  <a:moveTo>
                    <a:pt x="170" y="43"/>
                  </a:moveTo>
                  <a:cubicBezTo>
                    <a:pt x="164" y="120"/>
                    <a:pt x="167" y="120"/>
                    <a:pt x="155" y="176"/>
                  </a:cubicBezTo>
                  <a:cubicBezTo>
                    <a:pt x="152" y="189"/>
                    <a:pt x="147" y="214"/>
                    <a:pt x="140" y="227"/>
                  </a:cubicBezTo>
                  <a:cubicBezTo>
                    <a:pt x="136" y="235"/>
                    <a:pt x="125" y="259"/>
                    <a:pt x="125" y="250"/>
                  </a:cubicBezTo>
                  <a:cubicBezTo>
                    <a:pt x="125" y="243"/>
                    <a:pt x="159" y="147"/>
                    <a:pt x="162" y="139"/>
                  </a:cubicBezTo>
                  <a:cubicBezTo>
                    <a:pt x="165" y="132"/>
                    <a:pt x="178" y="117"/>
                    <a:pt x="170" y="117"/>
                  </a:cubicBezTo>
                  <a:cubicBezTo>
                    <a:pt x="161" y="117"/>
                    <a:pt x="160" y="132"/>
                    <a:pt x="155" y="139"/>
                  </a:cubicBezTo>
                  <a:cubicBezTo>
                    <a:pt x="143" y="201"/>
                    <a:pt x="127" y="266"/>
                    <a:pt x="88" y="316"/>
                  </a:cubicBezTo>
                  <a:cubicBezTo>
                    <a:pt x="86" y="323"/>
                    <a:pt x="81" y="346"/>
                    <a:pt x="81" y="338"/>
                  </a:cubicBezTo>
                  <a:cubicBezTo>
                    <a:pt x="81" y="267"/>
                    <a:pt x="115" y="153"/>
                    <a:pt x="155" y="95"/>
                  </a:cubicBezTo>
                  <a:cubicBezTo>
                    <a:pt x="150" y="122"/>
                    <a:pt x="134" y="203"/>
                    <a:pt x="140" y="176"/>
                  </a:cubicBezTo>
                  <a:cubicBezTo>
                    <a:pt x="143" y="164"/>
                    <a:pt x="144" y="151"/>
                    <a:pt x="148" y="139"/>
                  </a:cubicBezTo>
                  <a:cubicBezTo>
                    <a:pt x="151" y="131"/>
                    <a:pt x="158" y="125"/>
                    <a:pt x="162" y="117"/>
                  </a:cubicBezTo>
                  <a:cubicBezTo>
                    <a:pt x="165" y="110"/>
                    <a:pt x="168" y="102"/>
                    <a:pt x="170" y="95"/>
                  </a:cubicBezTo>
                  <a:cubicBezTo>
                    <a:pt x="175" y="80"/>
                    <a:pt x="168" y="51"/>
                    <a:pt x="184" y="50"/>
                  </a:cubicBezTo>
                  <a:cubicBezTo>
                    <a:pt x="209" y="48"/>
                    <a:pt x="233" y="45"/>
                    <a:pt x="258" y="43"/>
                  </a:cubicBezTo>
                  <a:cubicBezTo>
                    <a:pt x="354" y="45"/>
                    <a:pt x="464" y="0"/>
                    <a:pt x="546" y="50"/>
                  </a:cubicBezTo>
                  <a:cubicBezTo>
                    <a:pt x="612" y="90"/>
                    <a:pt x="477" y="347"/>
                    <a:pt x="554" y="198"/>
                  </a:cubicBezTo>
                  <a:cubicBezTo>
                    <a:pt x="563" y="153"/>
                    <a:pt x="570" y="134"/>
                    <a:pt x="554" y="80"/>
                  </a:cubicBezTo>
                  <a:cubicBezTo>
                    <a:pt x="551" y="70"/>
                    <a:pt x="549" y="99"/>
                    <a:pt x="546" y="109"/>
                  </a:cubicBezTo>
                  <a:cubicBezTo>
                    <a:pt x="538" y="136"/>
                    <a:pt x="537" y="137"/>
                    <a:pt x="524" y="168"/>
                  </a:cubicBezTo>
                  <a:cubicBezTo>
                    <a:pt x="516" y="222"/>
                    <a:pt x="491" y="279"/>
                    <a:pt x="458" y="323"/>
                  </a:cubicBezTo>
                  <a:cubicBezTo>
                    <a:pt x="449" y="350"/>
                    <a:pt x="439" y="368"/>
                    <a:pt x="480" y="316"/>
                  </a:cubicBezTo>
                  <a:cubicBezTo>
                    <a:pt x="506" y="284"/>
                    <a:pt x="512" y="256"/>
                    <a:pt x="539" y="227"/>
                  </a:cubicBezTo>
                  <a:cubicBezTo>
                    <a:pt x="554" y="192"/>
                    <a:pt x="567" y="168"/>
                    <a:pt x="576" y="131"/>
                  </a:cubicBezTo>
                  <a:cubicBezTo>
                    <a:pt x="578" y="124"/>
                    <a:pt x="581" y="116"/>
                    <a:pt x="583" y="109"/>
                  </a:cubicBezTo>
                  <a:cubicBezTo>
                    <a:pt x="586" y="102"/>
                    <a:pt x="591" y="79"/>
                    <a:pt x="591" y="87"/>
                  </a:cubicBezTo>
                  <a:cubicBezTo>
                    <a:pt x="591" y="116"/>
                    <a:pt x="578" y="155"/>
                    <a:pt x="568" y="183"/>
                  </a:cubicBezTo>
                  <a:cubicBezTo>
                    <a:pt x="566" y="168"/>
                    <a:pt x="574" y="146"/>
                    <a:pt x="561" y="139"/>
                  </a:cubicBezTo>
                  <a:cubicBezTo>
                    <a:pt x="550" y="133"/>
                    <a:pt x="557" y="164"/>
                    <a:pt x="554" y="176"/>
                  </a:cubicBezTo>
                  <a:cubicBezTo>
                    <a:pt x="545" y="210"/>
                    <a:pt x="528" y="251"/>
                    <a:pt x="509" y="279"/>
                  </a:cubicBezTo>
                  <a:cubicBezTo>
                    <a:pt x="472" y="242"/>
                    <a:pt x="487" y="265"/>
                    <a:pt x="443" y="279"/>
                  </a:cubicBezTo>
                  <a:cubicBezTo>
                    <a:pt x="433" y="277"/>
                    <a:pt x="422" y="276"/>
                    <a:pt x="413" y="272"/>
                  </a:cubicBezTo>
                  <a:cubicBezTo>
                    <a:pt x="405" y="269"/>
                    <a:pt x="382" y="257"/>
                    <a:pt x="391" y="257"/>
                  </a:cubicBezTo>
                  <a:cubicBezTo>
                    <a:pt x="401" y="257"/>
                    <a:pt x="434" y="281"/>
                    <a:pt x="443" y="287"/>
                  </a:cubicBezTo>
                  <a:cubicBezTo>
                    <a:pt x="441" y="275"/>
                    <a:pt x="427" y="259"/>
                    <a:pt x="436" y="250"/>
                  </a:cubicBezTo>
                  <a:cubicBezTo>
                    <a:pt x="469" y="216"/>
                    <a:pt x="480" y="282"/>
                    <a:pt x="480" y="287"/>
                  </a:cubicBezTo>
                  <a:cubicBezTo>
                    <a:pt x="480" y="295"/>
                    <a:pt x="476" y="271"/>
                    <a:pt x="472" y="264"/>
                  </a:cubicBezTo>
                  <a:cubicBezTo>
                    <a:pt x="466" y="253"/>
                    <a:pt x="457" y="245"/>
                    <a:pt x="450" y="235"/>
                  </a:cubicBezTo>
                  <a:cubicBezTo>
                    <a:pt x="445" y="214"/>
                    <a:pt x="427" y="177"/>
                    <a:pt x="480" y="213"/>
                  </a:cubicBezTo>
                  <a:cubicBezTo>
                    <a:pt x="481" y="213"/>
                    <a:pt x="495" y="261"/>
                    <a:pt x="495" y="264"/>
                  </a:cubicBezTo>
                  <a:cubicBezTo>
                    <a:pt x="495" y="272"/>
                    <a:pt x="490" y="249"/>
                    <a:pt x="487" y="242"/>
                  </a:cubicBezTo>
                  <a:cubicBezTo>
                    <a:pt x="483" y="232"/>
                    <a:pt x="477" y="222"/>
                    <a:pt x="472" y="213"/>
                  </a:cubicBezTo>
                  <a:cubicBezTo>
                    <a:pt x="468" y="205"/>
                    <a:pt x="449" y="191"/>
                    <a:pt x="458" y="191"/>
                  </a:cubicBezTo>
                  <a:cubicBezTo>
                    <a:pt x="468" y="191"/>
                    <a:pt x="473" y="206"/>
                    <a:pt x="480" y="213"/>
                  </a:cubicBezTo>
                  <a:cubicBezTo>
                    <a:pt x="482" y="220"/>
                    <a:pt x="487" y="243"/>
                    <a:pt x="487" y="235"/>
                  </a:cubicBezTo>
                  <a:cubicBezTo>
                    <a:pt x="487" y="175"/>
                    <a:pt x="426" y="170"/>
                    <a:pt x="509" y="183"/>
                  </a:cubicBezTo>
                  <a:cubicBezTo>
                    <a:pt x="545" y="235"/>
                    <a:pt x="535" y="244"/>
                    <a:pt x="546" y="198"/>
                  </a:cubicBezTo>
                  <a:cubicBezTo>
                    <a:pt x="524" y="140"/>
                    <a:pt x="487" y="134"/>
                    <a:pt x="561" y="146"/>
                  </a:cubicBezTo>
                  <a:cubicBezTo>
                    <a:pt x="556" y="136"/>
                    <a:pt x="552" y="126"/>
                    <a:pt x="546" y="117"/>
                  </a:cubicBezTo>
                  <a:cubicBezTo>
                    <a:pt x="523" y="80"/>
                    <a:pt x="510" y="91"/>
                    <a:pt x="546" y="80"/>
                  </a:cubicBezTo>
                  <a:cubicBezTo>
                    <a:pt x="535" y="45"/>
                    <a:pt x="514" y="36"/>
                    <a:pt x="480" y="28"/>
                  </a:cubicBezTo>
                  <a:cubicBezTo>
                    <a:pt x="343" y="63"/>
                    <a:pt x="208" y="63"/>
                    <a:pt x="66" y="72"/>
                  </a:cubicBezTo>
                  <a:cubicBezTo>
                    <a:pt x="72" y="114"/>
                    <a:pt x="85" y="157"/>
                    <a:pt x="59" y="198"/>
                  </a:cubicBezTo>
                  <a:cubicBezTo>
                    <a:pt x="52" y="209"/>
                    <a:pt x="34" y="203"/>
                    <a:pt x="22" y="205"/>
                  </a:cubicBezTo>
                  <a:cubicBezTo>
                    <a:pt x="32" y="212"/>
                    <a:pt x="50" y="215"/>
                    <a:pt x="52" y="227"/>
                  </a:cubicBezTo>
                  <a:cubicBezTo>
                    <a:pt x="59" y="265"/>
                    <a:pt x="0" y="229"/>
                    <a:pt x="7" y="227"/>
                  </a:cubicBezTo>
                  <a:cubicBezTo>
                    <a:pt x="22" y="223"/>
                    <a:pt x="37" y="232"/>
                    <a:pt x="52" y="235"/>
                  </a:cubicBezTo>
                  <a:cubicBezTo>
                    <a:pt x="75" y="252"/>
                    <a:pt x="112" y="291"/>
                    <a:pt x="74" y="205"/>
                  </a:cubicBezTo>
                  <a:cubicBezTo>
                    <a:pt x="71" y="197"/>
                    <a:pt x="59" y="197"/>
                    <a:pt x="52" y="191"/>
                  </a:cubicBezTo>
                  <a:cubicBezTo>
                    <a:pt x="44" y="184"/>
                    <a:pt x="37" y="175"/>
                    <a:pt x="29" y="168"/>
                  </a:cubicBezTo>
                  <a:cubicBezTo>
                    <a:pt x="20" y="160"/>
                    <a:pt x="10" y="153"/>
                    <a:pt x="0" y="146"/>
                  </a:cubicBezTo>
                  <a:cubicBezTo>
                    <a:pt x="59" y="135"/>
                    <a:pt x="43" y="153"/>
                    <a:pt x="88" y="183"/>
                  </a:cubicBezTo>
                  <a:cubicBezTo>
                    <a:pt x="91" y="158"/>
                    <a:pt x="85" y="131"/>
                    <a:pt x="96" y="109"/>
                  </a:cubicBezTo>
                  <a:cubicBezTo>
                    <a:pt x="101" y="99"/>
                    <a:pt x="110" y="128"/>
                    <a:pt x="111" y="139"/>
                  </a:cubicBezTo>
                  <a:cubicBezTo>
                    <a:pt x="112" y="154"/>
                    <a:pt x="93" y="172"/>
                    <a:pt x="103" y="183"/>
                  </a:cubicBezTo>
                  <a:cubicBezTo>
                    <a:pt x="111" y="192"/>
                    <a:pt x="116" y="163"/>
                    <a:pt x="125" y="154"/>
                  </a:cubicBezTo>
                  <a:cubicBezTo>
                    <a:pt x="134" y="145"/>
                    <a:pt x="145" y="139"/>
                    <a:pt x="155" y="131"/>
                  </a:cubicBezTo>
                  <a:cubicBezTo>
                    <a:pt x="149" y="171"/>
                    <a:pt x="147" y="188"/>
                    <a:pt x="125" y="220"/>
                  </a:cubicBezTo>
                  <a:cubicBezTo>
                    <a:pt x="119" y="270"/>
                    <a:pt x="117" y="289"/>
                    <a:pt x="96" y="331"/>
                  </a:cubicBezTo>
                  <a:cubicBezTo>
                    <a:pt x="105" y="285"/>
                    <a:pt x="127" y="244"/>
                    <a:pt x="140" y="198"/>
                  </a:cubicBezTo>
                  <a:cubicBezTo>
                    <a:pt x="143" y="188"/>
                    <a:pt x="155" y="175"/>
                    <a:pt x="148" y="168"/>
                  </a:cubicBezTo>
                  <a:cubicBezTo>
                    <a:pt x="142" y="162"/>
                    <a:pt x="133" y="178"/>
                    <a:pt x="125" y="183"/>
                  </a:cubicBezTo>
                  <a:cubicBezTo>
                    <a:pt x="114" y="239"/>
                    <a:pt x="93" y="290"/>
                    <a:pt x="81" y="346"/>
                  </a:cubicBezTo>
                  <a:cubicBezTo>
                    <a:pt x="68" y="407"/>
                    <a:pt x="81" y="361"/>
                    <a:pt x="66" y="405"/>
                  </a:cubicBezTo>
                  <a:cubicBezTo>
                    <a:pt x="64" y="412"/>
                    <a:pt x="54" y="432"/>
                    <a:pt x="59" y="427"/>
                  </a:cubicBezTo>
                  <a:cubicBezTo>
                    <a:pt x="67" y="419"/>
                    <a:pt x="68" y="407"/>
                    <a:pt x="74" y="397"/>
                  </a:cubicBezTo>
                  <a:cubicBezTo>
                    <a:pt x="97" y="358"/>
                    <a:pt x="122" y="326"/>
                    <a:pt x="155" y="294"/>
                  </a:cubicBezTo>
                  <a:cubicBezTo>
                    <a:pt x="170" y="257"/>
                    <a:pt x="187" y="221"/>
                    <a:pt x="199" y="183"/>
                  </a:cubicBezTo>
                  <a:cubicBezTo>
                    <a:pt x="197" y="208"/>
                    <a:pt x="187" y="233"/>
                    <a:pt x="192" y="257"/>
                  </a:cubicBezTo>
                  <a:cubicBezTo>
                    <a:pt x="195" y="274"/>
                    <a:pt x="211" y="286"/>
                    <a:pt x="221" y="301"/>
                  </a:cubicBezTo>
                  <a:cubicBezTo>
                    <a:pt x="226" y="308"/>
                    <a:pt x="236" y="323"/>
                    <a:pt x="236" y="323"/>
                  </a:cubicBezTo>
                  <a:cubicBezTo>
                    <a:pt x="225" y="256"/>
                    <a:pt x="239" y="300"/>
                    <a:pt x="214" y="257"/>
                  </a:cubicBezTo>
                  <a:cubicBezTo>
                    <a:pt x="208" y="247"/>
                    <a:pt x="190" y="233"/>
                    <a:pt x="199" y="227"/>
                  </a:cubicBezTo>
                  <a:cubicBezTo>
                    <a:pt x="203" y="224"/>
                    <a:pt x="261" y="254"/>
                    <a:pt x="266" y="257"/>
                  </a:cubicBezTo>
                  <a:cubicBezTo>
                    <a:pt x="277" y="290"/>
                    <a:pt x="299" y="316"/>
                    <a:pt x="317" y="346"/>
                  </a:cubicBezTo>
                  <a:cubicBezTo>
                    <a:pt x="312" y="309"/>
                    <a:pt x="297" y="272"/>
                    <a:pt x="303" y="235"/>
                  </a:cubicBezTo>
                  <a:cubicBezTo>
                    <a:pt x="310" y="194"/>
                    <a:pt x="337" y="267"/>
                    <a:pt x="340" y="279"/>
                  </a:cubicBezTo>
                  <a:cubicBezTo>
                    <a:pt x="343" y="289"/>
                    <a:pt x="347" y="319"/>
                    <a:pt x="347" y="309"/>
                  </a:cubicBezTo>
                  <a:cubicBezTo>
                    <a:pt x="347" y="265"/>
                    <a:pt x="343" y="259"/>
                    <a:pt x="332" y="227"/>
                  </a:cubicBezTo>
                  <a:cubicBezTo>
                    <a:pt x="335" y="217"/>
                    <a:pt x="331" y="202"/>
                    <a:pt x="340" y="198"/>
                  </a:cubicBezTo>
                  <a:cubicBezTo>
                    <a:pt x="367" y="188"/>
                    <a:pt x="392" y="251"/>
                    <a:pt x="399" y="264"/>
                  </a:cubicBezTo>
                  <a:cubicBezTo>
                    <a:pt x="435" y="236"/>
                    <a:pt x="440" y="239"/>
                    <a:pt x="458" y="198"/>
                  </a:cubicBezTo>
                  <a:cubicBezTo>
                    <a:pt x="464" y="184"/>
                    <a:pt x="484" y="164"/>
                    <a:pt x="472" y="154"/>
                  </a:cubicBezTo>
                  <a:cubicBezTo>
                    <a:pt x="461" y="145"/>
                    <a:pt x="457" y="178"/>
                    <a:pt x="450" y="191"/>
                  </a:cubicBezTo>
                  <a:cubicBezTo>
                    <a:pt x="435" y="219"/>
                    <a:pt x="431" y="246"/>
                    <a:pt x="413" y="272"/>
                  </a:cubicBezTo>
                  <a:cubicBezTo>
                    <a:pt x="411" y="279"/>
                    <a:pt x="409" y="287"/>
                    <a:pt x="406" y="294"/>
                  </a:cubicBezTo>
                  <a:cubicBezTo>
                    <a:pt x="402" y="304"/>
                    <a:pt x="389" y="334"/>
                    <a:pt x="391" y="323"/>
                  </a:cubicBezTo>
                  <a:cubicBezTo>
                    <a:pt x="395" y="300"/>
                    <a:pt x="400" y="276"/>
                    <a:pt x="413" y="257"/>
                  </a:cubicBezTo>
                  <a:cubicBezTo>
                    <a:pt x="417" y="250"/>
                    <a:pt x="445" y="212"/>
                    <a:pt x="443" y="205"/>
                  </a:cubicBezTo>
                  <a:cubicBezTo>
                    <a:pt x="441" y="198"/>
                    <a:pt x="428" y="210"/>
                    <a:pt x="421" y="213"/>
                  </a:cubicBezTo>
                  <a:cubicBezTo>
                    <a:pt x="406" y="235"/>
                    <a:pt x="391" y="257"/>
                    <a:pt x="376" y="279"/>
                  </a:cubicBezTo>
                  <a:cubicBezTo>
                    <a:pt x="368" y="291"/>
                    <a:pt x="340" y="316"/>
                    <a:pt x="354" y="316"/>
                  </a:cubicBezTo>
                  <a:cubicBezTo>
                    <a:pt x="370" y="316"/>
                    <a:pt x="373" y="291"/>
                    <a:pt x="384" y="279"/>
                  </a:cubicBezTo>
                  <a:cubicBezTo>
                    <a:pt x="396" y="266"/>
                    <a:pt x="409" y="255"/>
                    <a:pt x="421" y="242"/>
                  </a:cubicBezTo>
                  <a:cubicBezTo>
                    <a:pt x="448" y="212"/>
                    <a:pt x="454" y="193"/>
                    <a:pt x="487" y="168"/>
                  </a:cubicBezTo>
                  <a:cubicBezTo>
                    <a:pt x="527" y="138"/>
                    <a:pt x="569" y="123"/>
                    <a:pt x="605" y="87"/>
                  </a:cubicBezTo>
                  <a:cubicBezTo>
                    <a:pt x="629" y="121"/>
                    <a:pt x="608" y="142"/>
                    <a:pt x="598" y="183"/>
                  </a:cubicBezTo>
                  <a:cubicBezTo>
                    <a:pt x="596" y="190"/>
                    <a:pt x="584" y="208"/>
                    <a:pt x="591" y="205"/>
                  </a:cubicBezTo>
                  <a:cubicBezTo>
                    <a:pt x="602" y="200"/>
                    <a:pt x="605" y="185"/>
                    <a:pt x="613" y="176"/>
                  </a:cubicBezTo>
                  <a:cubicBezTo>
                    <a:pt x="639" y="146"/>
                    <a:pt x="636" y="150"/>
                    <a:pt x="664" y="131"/>
                  </a:cubicBezTo>
                  <a:cubicBezTo>
                    <a:pt x="667" y="141"/>
                    <a:pt x="669" y="151"/>
                    <a:pt x="672" y="161"/>
                  </a:cubicBezTo>
                  <a:cubicBezTo>
                    <a:pt x="674" y="171"/>
                    <a:pt x="670" y="186"/>
                    <a:pt x="679" y="191"/>
                  </a:cubicBezTo>
                  <a:cubicBezTo>
                    <a:pt x="690" y="197"/>
                    <a:pt x="704" y="186"/>
                    <a:pt x="716" y="183"/>
                  </a:cubicBezTo>
                  <a:cubicBezTo>
                    <a:pt x="803" y="124"/>
                    <a:pt x="908" y="111"/>
                    <a:pt x="1004" y="72"/>
                  </a:cubicBezTo>
                  <a:cubicBezTo>
                    <a:pt x="1014" y="100"/>
                    <a:pt x="1007" y="112"/>
                    <a:pt x="997" y="139"/>
                  </a:cubicBezTo>
                  <a:cubicBezTo>
                    <a:pt x="987" y="164"/>
                    <a:pt x="967" y="213"/>
                    <a:pt x="967" y="213"/>
                  </a:cubicBezTo>
                  <a:cubicBezTo>
                    <a:pt x="965" y="225"/>
                    <a:pt x="960" y="263"/>
                    <a:pt x="960" y="250"/>
                  </a:cubicBezTo>
                  <a:cubicBezTo>
                    <a:pt x="960" y="215"/>
                    <a:pt x="966" y="210"/>
                    <a:pt x="975" y="183"/>
                  </a:cubicBezTo>
                  <a:cubicBezTo>
                    <a:pt x="980" y="168"/>
                    <a:pt x="984" y="154"/>
                    <a:pt x="989" y="139"/>
                  </a:cubicBezTo>
                  <a:cubicBezTo>
                    <a:pt x="991" y="132"/>
                    <a:pt x="997" y="109"/>
                    <a:pt x="997" y="117"/>
                  </a:cubicBezTo>
                  <a:cubicBezTo>
                    <a:pt x="997" y="151"/>
                    <a:pt x="989" y="151"/>
                    <a:pt x="975" y="176"/>
                  </a:cubicBezTo>
                  <a:cubicBezTo>
                    <a:pt x="953" y="215"/>
                    <a:pt x="940" y="257"/>
                    <a:pt x="916" y="294"/>
                  </a:cubicBezTo>
                  <a:cubicBezTo>
                    <a:pt x="918" y="301"/>
                    <a:pt x="917" y="320"/>
                    <a:pt x="923" y="316"/>
                  </a:cubicBezTo>
                  <a:cubicBezTo>
                    <a:pt x="934" y="309"/>
                    <a:pt x="932" y="291"/>
                    <a:pt x="938" y="279"/>
                  </a:cubicBezTo>
                  <a:cubicBezTo>
                    <a:pt x="955" y="245"/>
                    <a:pt x="969" y="208"/>
                    <a:pt x="989" y="176"/>
                  </a:cubicBezTo>
                  <a:cubicBezTo>
                    <a:pt x="987" y="166"/>
                    <a:pt x="992" y="150"/>
                    <a:pt x="982" y="146"/>
                  </a:cubicBezTo>
                  <a:cubicBezTo>
                    <a:pt x="972" y="142"/>
                    <a:pt x="961" y="189"/>
                    <a:pt x="960" y="191"/>
                  </a:cubicBezTo>
                  <a:cubicBezTo>
                    <a:pt x="951" y="223"/>
                    <a:pt x="934" y="244"/>
                    <a:pt x="916" y="272"/>
                  </a:cubicBezTo>
                  <a:cubicBezTo>
                    <a:pt x="913" y="257"/>
                    <a:pt x="919" y="238"/>
                    <a:pt x="908" y="227"/>
                  </a:cubicBezTo>
                  <a:cubicBezTo>
                    <a:pt x="902" y="221"/>
                    <a:pt x="892" y="248"/>
                    <a:pt x="886" y="242"/>
                  </a:cubicBezTo>
                  <a:cubicBezTo>
                    <a:pt x="875" y="231"/>
                    <a:pt x="881" y="213"/>
                    <a:pt x="879" y="198"/>
                  </a:cubicBezTo>
                  <a:cubicBezTo>
                    <a:pt x="897" y="170"/>
                    <a:pt x="892" y="161"/>
                    <a:pt x="930" y="198"/>
                  </a:cubicBezTo>
                  <a:cubicBezTo>
                    <a:pt x="936" y="203"/>
                    <a:pt x="938" y="228"/>
                    <a:pt x="938" y="220"/>
                  </a:cubicBezTo>
                  <a:cubicBezTo>
                    <a:pt x="938" y="188"/>
                    <a:pt x="924" y="186"/>
                    <a:pt x="901" y="168"/>
                  </a:cubicBezTo>
                  <a:cubicBezTo>
                    <a:pt x="898" y="161"/>
                    <a:pt x="885" y="147"/>
                    <a:pt x="893" y="146"/>
                  </a:cubicBezTo>
                  <a:cubicBezTo>
                    <a:pt x="919" y="141"/>
                    <a:pt x="968" y="176"/>
                    <a:pt x="989" y="191"/>
                  </a:cubicBezTo>
                  <a:cubicBezTo>
                    <a:pt x="976" y="149"/>
                    <a:pt x="968" y="150"/>
                    <a:pt x="982" y="109"/>
                  </a:cubicBezTo>
                  <a:cubicBezTo>
                    <a:pt x="985" y="99"/>
                    <a:pt x="1008" y="80"/>
                    <a:pt x="997" y="80"/>
                  </a:cubicBezTo>
                  <a:cubicBezTo>
                    <a:pt x="985" y="80"/>
                    <a:pt x="983" y="100"/>
                    <a:pt x="975" y="109"/>
                  </a:cubicBezTo>
                  <a:cubicBezTo>
                    <a:pt x="968" y="117"/>
                    <a:pt x="960" y="124"/>
                    <a:pt x="952" y="131"/>
                  </a:cubicBezTo>
                  <a:cubicBezTo>
                    <a:pt x="928" y="182"/>
                    <a:pt x="894" y="218"/>
                    <a:pt x="864" y="264"/>
                  </a:cubicBezTo>
                  <a:cubicBezTo>
                    <a:pt x="854" y="279"/>
                    <a:pt x="834" y="309"/>
                    <a:pt x="834" y="309"/>
                  </a:cubicBezTo>
                  <a:cubicBezTo>
                    <a:pt x="829" y="302"/>
                    <a:pt x="823" y="295"/>
                    <a:pt x="820" y="287"/>
                  </a:cubicBezTo>
                  <a:cubicBezTo>
                    <a:pt x="816" y="277"/>
                    <a:pt x="822" y="255"/>
                    <a:pt x="812" y="257"/>
                  </a:cubicBezTo>
                  <a:cubicBezTo>
                    <a:pt x="808" y="258"/>
                    <a:pt x="775" y="327"/>
                    <a:pt x="760" y="346"/>
                  </a:cubicBezTo>
                  <a:cubicBezTo>
                    <a:pt x="746" y="299"/>
                    <a:pt x="723" y="326"/>
                    <a:pt x="694" y="346"/>
                  </a:cubicBezTo>
                  <a:cubicBezTo>
                    <a:pt x="705" y="273"/>
                    <a:pt x="692" y="328"/>
                    <a:pt x="724" y="257"/>
                  </a:cubicBezTo>
                  <a:cubicBezTo>
                    <a:pt x="727" y="250"/>
                    <a:pt x="736" y="230"/>
                    <a:pt x="731" y="235"/>
                  </a:cubicBezTo>
                  <a:cubicBezTo>
                    <a:pt x="716" y="250"/>
                    <a:pt x="694" y="287"/>
                    <a:pt x="694" y="287"/>
                  </a:cubicBezTo>
                  <a:cubicBezTo>
                    <a:pt x="706" y="221"/>
                    <a:pt x="694" y="267"/>
                    <a:pt x="746" y="250"/>
                  </a:cubicBezTo>
                  <a:cubicBezTo>
                    <a:pt x="763" y="222"/>
                    <a:pt x="774" y="184"/>
                    <a:pt x="797" y="161"/>
                  </a:cubicBezTo>
                  <a:cubicBezTo>
                    <a:pt x="803" y="155"/>
                    <a:pt x="789" y="176"/>
                    <a:pt x="783" y="183"/>
                  </a:cubicBezTo>
                  <a:cubicBezTo>
                    <a:pt x="774" y="194"/>
                    <a:pt x="764" y="204"/>
                    <a:pt x="753" y="213"/>
                  </a:cubicBezTo>
                  <a:cubicBezTo>
                    <a:pt x="720" y="242"/>
                    <a:pt x="691" y="254"/>
                    <a:pt x="650" y="264"/>
                  </a:cubicBezTo>
                  <a:cubicBezTo>
                    <a:pt x="643" y="269"/>
                    <a:pt x="619" y="279"/>
                    <a:pt x="628" y="279"/>
                  </a:cubicBezTo>
                  <a:cubicBezTo>
                    <a:pt x="686" y="279"/>
                    <a:pt x="741" y="198"/>
                    <a:pt x="797" y="183"/>
                  </a:cubicBezTo>
                  <a:cubicBezTo>
                    <a:pt x="800" y="178"/>
                    <a:pt x="831" y="128"/>
                    <a:pt x="842" y="139"/>
                  </a:cubicBezTo>
                  <a:cubicBezTo>
                    <a:pt x="849" y="146"/>
                    <a:pt x="817" y="190"/>
                    <a:pt x="812" y="198"/>
                  </a:cubicBezTo>
                  <a:cubicBezTo>
                    <a:pt x="801" y="233"/>
                    <a:pt x="782" y="265"/>
                    <a:pt x="760" y="294"/>
                  </a:cubicBezTo>
                  <a:cubicBezTo>
                    <a:pt x="758" y="301"/>
                    <a:pt x="745" y="316"/>
                    <a:pt x="753" y="316"/>
                  </a:cubicBezTo>
                  <a:cubicBezTo>
                    <a:pt x="763" y="316"/>
                    <a:pt x="769" y="302"/>
                    <a:pt x="775" y="294"/>
                  </a:cubicBezTo>
                  <a:cubicBezTo>
                    <a:pt x="801" y="262"/>
                    <a:pt x="829" y="226"/>
                    <a:pt x="849" y="191"/>
                  </a:cubicBezTo>
                  <a:cubicBezTo>
                    <a:pt x="854" y="183"/>
                    <a:pt x="868" y="176"/>
                    <a:pt x="864" y="168"/>
                  </a:cubicBezTo>
                  <a:cubicBezTo>
                    <a:pt x="861" y="161"/>
                    <a:pt x="849" y="173"/>
                    <a:pt x="842" y="176"/>
                  </a:cubicBezTo>
                  <a:cubicBezTo>
                    <a:pt x="826" y="200"/>
                    <a:pt x="814" y="227"/>
                    <a:pt x="797" y="250"/>
                  </a:cubicBezTo>
                  <a:cubicBezTo>
                    <a:pt x="788" y="263"/>
                    <a:pt x="768" y="287"/>
                    <a:pt x="768" y="287"/>
                  </a:cubicBezTo>
                  <a:cubicBezTo>
                    <a:pt x="779" y="240"/>
                    <a:pt x="785" y="241"/>
                    <a:pt x="768" y="191"/>
                  </a:cubicBezTo>
                  <a:cubicBezTo>
                    <a:pt x="696" y="277"/>
                    <a:pt x="776" y="191"/>
                    <a:pt x="709" y="242"/>
                  </a:cubicBezTo>
                  <a:cubicBezTo>
                    <a:pt x="679" y="265"/>
                    <a:pt x="671" y="283"/>
                    <a:pt x="635" y="294"/>
                  </a:cubicBezTo>
                  <a:cubicBezTo>
                    <a:pt x="610" y="319"/>
                    <a:pt x="603" y="327"/>
                    <a:pt x="568" y="316"/>
                  </a:cubicBezTo>
                  <a:cubicBezTo>
                    <a:pt x="554" y="320"/>
                    <a:pt x="494" y="352"/>
                    <a:pt x="546" y="316"/>
                  </a:cubicBezTo>
                  <a:cubicBezTo>
                    <a:pt x="597" y="242"/>
                    <a:pt x="632" y="159"/>
                    <a:pt x="687" y="87"/>
                  </a:cubicBezTo>
                  <a:cubicBezTo>
                    <a:pt x="715" y="11"/>
                    <a:pt x="721" y="11"/>
                    <a:pt x="679" y="72"/>
                  </a:cubicBezTo>
                  <a:cubicBezTo>
                    <a:pt x="677" y="82"/>
                    <a:pt x="677" y="93"/>
                    <a:pt x="672" y="102"/>
                  </a:cubicBezTo>
                  <a:cubicBezTo>
                    <a:pt x="664" y="118"/>
                    <a:pt x="642" y="146"/>
                    <a:pt x="642" y="146"/>
                  </a:cubicBezTo>
                  <a:cubicBezTo>
                    <a:pt x="637" y="166"/>
                    <a:pt x="633" y="185"/>
                    <a:pt x="628" y="205"/>
                  </a:cubicBezTo>
                  <a:cubicBezTo>
                    <a:pt x="626" y="213"/>
                    <a:pt x="613" y="230"/>
                    <a:pt x="620" y="227"/>
                  </a:cubicBezTo>
                  <a:cubicBezTo>
                    <a:pt x="640" y="217"/>
                    <a:pt x="648" y="192"/>
                    <a:pt x="664" y="176"/>
                  </a:cubicBezTo>
                  <a:cubicBezTo>
                    <a:pt x="667" y="169"/>
                    <a:pt x="664" y="154"/>
                    <a:pt x="672" y="154"/>
                  </a:cubicBezTo>
                  <a:cubicBezTo>
                    <a:pt x="680" y="154"/>
                    <a:pt x="674" y="181"/>
                    <a:pt x="679" y="176"/>
                  </a:cubicBezTo>
                  <a:cubicBezTo>
                    <a:pt x="688" y="167"/>
                    <a:pt x="684" y="151"/>
                    <a:pt x="687" y="139"/>
                  </a:cubicBezTo>
                  <a:cubicBezTo>
                    <a:pt x="691" y="124"/>
                    <a:pt x="701" y="95"/>
                    <a:pt x="701" y="95"/>
                  </a:cubicBezTo>
                  <a:cubicBezTo>
                    <a:pt x="728" y="103"/>
                    <a:pt x="768" y="146"/>
                    <a:pt x="768" y="146"/>
                  </a:cubicBezTo>
                  <a:cubicBezTo>
                    <a:pt x="770" y="140"/>
                    <a:pt x="788" y="102"/>
                    <a:pt x="760" y="102"/>
                  </a:cubicBezTo>
                  <a:cubicBezTo>
                    <a:pt x="752" y="102"/>
                    <a:pt x="762" y="118"/>
                    <a:pt x="768" y="124"/>
                  </a:cubicBezTo>
                  <a:cubicBezTo>
                    <a:pt x="776" y="132"/>
                    <a:pt x="787" y="134"/>
                    <a:pt x="797" y="139"/>
                  </a:cubicBezTo>
                  <a:cubicBezTo>
                    <a:pt x="795" y="127"/>
                    <a:pt x="786" y="114"/>
                    <a:pt x="790" y="102"/>
                  </a:cubicBezTo>
                  <a:cubicBezTo>
                    <a:pt x="792" y="95"/>
                    <a:pt x="807" y="100"/>
                    <a:pt x="812" y="95"/>
                  </a:cubicBezTo>
                  <a:cubicBezTo>
                    <a:pt x="816" y="91"/>
                    <a:pt x="812" y="85"/>
                    <a:pt x="812" y="8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666"/>
            <p:cNvSpPr/>
            <p:nvPr/>
          </p:nvSpPr>
          <p:spPr>
            <a:xfrm>
              <a:off x="3529080" y="5684760"/>
              <a:ext cx="700200" cy="459000"/>
            </a:xfrm>
            <a:custGeom>
              <a:avLst/>
              <a:gdLst/>
              <a:ahLst/>
              <a:rect l="l" t="t" r="r" b="b"/>
              <a:pathLst>
                <a:path w="441" h="289">
                  <a:moveTo>
                    <a:pt x="243" y="19"/>
                  </a:moveTo>
                  <a:cubicBezTo>
                    <a:pt x="236" y="55"/>
                    <a:pt x="239" y="49"/>
                    <a:pt x="229" y="78"/>
                  </a:cubicBezTo>
                  <a:cubicBezTo>
                    <a:pt x="226" y="85"/>
                    <a:pt x="221" y="108"/>
                    <a:pt x="221" y="100"/>
                  </a:cubicBezTo>
                  <a:cubicBezTo>
                    <a:pt x="221" y="90"/>
                    <a:pt x="224" y="80"/>
                    <a:pt x="229" y="71"/>
                  </a:cubicBezTo>
                  <a:cubicBezTo>
                    <a:pt x="239" y="52"/>
                    <a:pt x="276" y="0"/>
                    <a:pt x="266" y="19"/>
                  </a:cubicBezTo>
                  <a:cubicBezTo>
                    <a:pt x="257" y="38"/>
                    <a:pt x="252" y="59"/>
                    <a:pt x="243" y="78"/>
                  </a:cubicBezTo>
                  <a:cubicBezTo>
                    <a:pt x="235" y="94"/>
                    <a:pt x="214" y="123"/>
                    <a:pt x="214" y="123"/>
                  </a:cubicBezTo>
                  <a:cubicBezTo>
                    <a:pt x="212" y="140"/>
                    <a:pt x="211" y="157"/>
                    <a:pt x="207" y="174"/>
                  </a:cubicBezTo>
                  <a:cubicBezTo>
                    <a:pt x="204" y="185"/>
                    <a:pt x="185" y="213"/>
                    <a:pt x="192" y="204"/>
                  </a:cubicBezTo>
                  <a:cubicBezTo>
                    <a:pt x="207" y="184"/>
                    <a:pt x="236" y="145"/>
                    <a:pt x="236" y="145"/>
                  </a:cubicBezTo>
                  <a:cubicBezTo>
                    <a:pt x="242" y="113"/>
                    <a:pt x="250" y="81"/>
                    <a:pt x="258" y="49"/>
                  </a:cubicBezTo>
                  <a:cubicBezTo>
                    <a:pt x="260" y="41"/>
                    <a:pt x="273" y="24"/>
                    <a:pt x="266" y="27"/>
                  </a:cubicBezTo>
                  <a:cubicBezTo>
                    <a:pt x="255" y="32"/>
                    <a:pt x="251" y="46"/>
                    <a:pt x="243" y="56"/>
                  </a:cubicBezTo>
                  <a:cubicBezTo>
                    <a:pt x="241" y="66"/>
                    <a:pt x="239" y="76"/>
                    <a:pt x="236" y="86"/>
                  </a:cubicBezTo>
                  <a:cubicBezTo>
                    <a:pt x="234" y="93"/>
                    <a:pt x="229" y="116"/>
                    <a:pt x="229" y="108"/>
                  </a:cubicBezTo>
                  <a:cubicBezTo>
                    <a:pt x="229" y="75"/>
                    <a:pt x="256" y="52"/>
                    <a:pt x="273" y="27"/>
                  </a:cubicBezTo>
                  <a:cubicBezTo>
                    <a:pt x="285" y="65"/>
                    <a:pt x="282" y="99"/>
                    <a:pt x="317" y="123"/>
                  </a:cubicBezTo>
                  <a:cubicBezTo>
                    <a:pt x="320" y="115"/>
                    <a:pt x="333" y="102"/>
                    <a:pt x="325" y="100"/>
                  </a:cubicBezTo>
                  <a:cubicBezTo>
                    <a:pt x="308" y="95"/>
                    <a:pt x="192" y="121"/>
                    <a:pt x="177" y="123"/>
                  </a:cubicBezTo>
                  <a:cubicBezTo>
                    <a:pt x="147" y="181"/>
                    <a:pt x="179" y="177"/>
                    <a:pt x="103" y="167"/>
                  </a:cubicBezTo>
                  <a:cubicBezTo>
                    <a:pt x="45" y="146"/>
                    <a:pt x="119" y="165"/>
                    <a:pt x="74" y="241"/>
                  </a:cubicBezTo>
                  <a:cubicBezTo>
                    <a:pt x="68" y="252"/>
                    <a:pt x="49" y="236"/>
                    <a:pt x="37" y="233"/>
                  </a:cubicBezTo>
                  <a:cubicBezTo>
                    <a:pt x="39" y="243"/>
                    <a:pt x="35" y="258"/>
                    <a:pt x="44" y="263"/>
                  </a:cubicBezTo>
                  <a:cubicBezTo>
                    <a:pt x="51" y="267"/>
                    <a:pt x="49" y="248"/>
                    <a:pt x="51" y="241"/>
                  </a:cubicBezTo>
                  <a:cubicBezTo>
                    <a:pt x="57" y="220"/>
                    <a:pt x="61" y="203"/>
                    <a:pt x="66" y="182"/>
                  </a:cubicBezTo>
                  <a:cubicBezTo>
                    <a:pt x="100" y="216"/>
                    <a:pt x="96" y="252"/>
                    <a:pt x="111" y="196"/>
                  </a:cubicBezTo>
                  <a:cubicBezTo>
                    <a:pt x="103" y="189"/>
                    <a:pt x="91" y="184"/>
                    <a:pt x="88" y="174"/>
                  </a:cubicBezTo>
                  <a:cubicBezTo>
                    <a:pt x="85" y="164"/>
                    <a:pt x="86" y="147"/>
                    <a:pt x="96" y="145"/>
                  </a:cubicBezTo>
                  <a:cubicBezTo>
                    <a:pt x="110" y="143"/>
                    <a:pt x="121" y="160"/>
                    <a:pt x="133" y="167"/>
                  </a:cubicBezTo>
                  <a:cubicBezTo>
                    <a:pt x="160" y="201"/>
                    <a:pt x="169" y="222"/>
                    <a:pt x="207" y="241"/>
                  </a:cubicBezTo>
                  <a:cubicBezTo>
                    <a:pt x="218" y="207"/>
                    <a:pt x="202" y="187"/>
                    <a:pt x="184" y="159"/>
                  </a:cubicBezTo>
                  <a:cubicBezTo>
                    <a:pt x="173" y="113"/>
                    <a:pt x="183" y="138"/>
                    <a:pt x="147" y="86"/>
                  </a:cubicBezTo>
                  <a:cubicBezTo>
                    <a:pt x="137" y="71"/>
                    <a:pt x="177" y="130"/>
                    <a:pt x="177" y="130"/>
                  </a:cubicBezTo>
                  <a:cubicBezTo>
                    <a:pt x="182" y="123"/>
                    <a:pt x="183" y="106"/>
                    <a:pt x="192" y="108"/>
                  </a:cubicBezTo>
                  <a:cubicBezTo>
                    <a:pt x="203" y="110"/>
                    <a:pt x="203" y="127"/>
                    <a:pt x="207" y="137"/>
                  </a:cubicBezTo>
                  <a:cubicBezTo>
                    <a:pt x="216" y="159"/>
                    <a:pt x="216" y="184"/>
                    <a:pt x="229" y="204"/>
                  </a:cubicBezTo>
                  <a:cubicBezTo>
                    <a:pt x="240" y="220"/>
                    <a:pt x="259" y="227"/>
                    <a:pt x="273" y="241"/>
                  </a:cubicBezTo>
                  <a:cubicBezTo>
                    <a:pt x="278" y="234"/>
                    <a:pt x="288" y="228"/>
                    <a:pt x="288" y="219"/>
                  </a:cubicBezTo>
                  <a:cubicBezTo>
                    <a:pt x="288" y="198"/>
                    <a:pt x="265" y="178"/>
                    <a:pt x="273" y="159"/>
                  </a:cubicBezTo>
                  <a:cubicBezTo>
                    <a:pt x="278" y="147"/>
                    <a:pt x="294" y="173"/>
                    <a:pt x="303" y="182"/>
                  </a:cubicBezTo>
                  <a:cubicBezTo>
                    <a:pt x="325" y="204"/>
                    <a:pt x="338" y="229"/>
                    <a:pt x="354" y="255"/>
                  </a:cubicBezTo>
                  <a:cubicBezTo>
                    <a:pt x="377" y="211"/>
                    <a:pt x="376" y="234"/>
                    <a:pt x="339" y="182"/>
                  </a:cubicBezTo>
                  <a:cubicBezTo>
                    <a:pt x="332" y="172"/>
                    <a:pt x="308" y="144"/>
                    <a:pt x="317" y="152"/>
                  </a:cubicBezTo>
                  <a:cubicBezTo>
                    <a:pt x="419" y="241"/>
                    <a:pt x="297" y="155"/>
                    <a:pt x="369" y="204"/>
                  </a:cubicBezTo>
                  <a:cubicBezTo>
                    <a:pt x="374" y="211"/>
                    <a:pt x="380" y="234"/>
                    <a:pt x="384" y="226"/>
                  </a:cubicBezTo>
                  <a:cubicBezTo>
                    <a:pt x="389" y="215"/>
                    <a:pt x="384" y="199"/>
                    <a:pt x="376" y="189"/>
                  </a:cubicBezTo>
                  <a:cubicBezTo>
                    <a:pt x="340" y="146"/>
                    <a:pt x="291" y="130"/>
                    <a:pt x="258" y="86"/>
                  </a:cubicBezTo>
                  <a:cubicBezTo>
                    <a:pt x="316" y="71"/>
                    <a:pt x="334" y="114"/>
                    <a:pt x="384" y="130"/>
                  </a:cubicBezTo>
                  <a:cubicBezTo>
                    <a:pt x="386" y="135"/>
                    <a:pt x="394" y="177"/>
                    <a:pt x="413" y="167"/>
                  </a:cubicBezTo>
                  <a:cubicBezTo>
                    <a:pt x="422" y="162"/>
                    <a:pt x="418" y="147"/>
                    <a:pt x="421" y="137"/>
                  </a:cubicBezTo>
                  <a:cubicBezTo>
                    <a:pt x="418" y="122"/>
                    <a:pt x="421" y="105"/>
                    <a:pt x="413" y="93"/>
                  </a:cubicBezTo>
                  <a:cubicBezTo>
                    <a:pt x="409" y="87"/>
                    <a:pt x="398" y="115"/>
                    <a:pt x="406" y="115"/>
                  </a:cubicBezTo>
                  <a:cubicBezTo>
                    <a:pt x="416" y="115"/>
                    <a:pt x="421" y="100"/>
                    <a:pt x="428" y="93"/>
                  </a:cubicBezTo>
                  <a:cubicBezTo>
                    <a:pt x="430" y="86"/>
                    <a:pt x="441" y="75"/>
                    <a:pt x="435" y="71"/>
                  </a:cubicBezTo>
                  <a:cubicBezTo>
                    <a:pt x="420" y="61"/>
                    <a:pt x="381" y="97"/>
                    <a:pt x="376" y="100"/>
                  </a:cubicBezTo>
                  <a:cubicBezTo>
                    <a:pt x="337" y="125"/>
                    <a:pt x="301" y="166"/>
                    <a:pt x="258" y="182"/>
                  </a:cubicBezTo>
                  <a:cubicBezTo>
                    <a:pt x="248" y="189"/>
                    <a:pt x="237" y="213"/>
                    <a:pt x="229" y="204"/>
                  </a:cubicBezTo>
                  <a:cubicBezTo>
                    <a:pt x="221" y="195"/>
                    <a:pt x="246" y="185"/>
                    <a:pt x="251" y="174"/>
                  </a:cubicBezTo>
                  <a:cubicBezTo>
                    <a:pt x="263" y="148"/>
                    <a:pt x="280" y="93"/>
                    <a:pt x="280" y="93"/>
                  </a:cubicBezTo>
                  <a:cubicBezTo>
                    <a:pt x="275" y="71"/>
                    <a:pt x="284" y="40"/>
                    <a:pt x="266" y="27"/>
                  </a:cubicBezTo>
                  <a:cubicBezTo>
                    <a:pt x="251" y="16"/>
                    <a:pt x="213" y="81"/>
                    <a:pt x="207" y="86"/>
                  </a:cubicBezTo>
                  <a:cubicBezTo>
                    <a:pt x="159" y="124"/>
                    <a:pt x="59" y="192"/>
                    <a:pt x="0" y="211"/>
                  </a:cubicBezTo>
                  <a:cubicBezTo>
                    <a:pt x="27" y="176"/>
                    <a:pt x="42" y="139"/>
                    <a:pt x="74" y="108"/>
                  </a:cubicBezTo>
                  <a:cubicBezTo>
                    <a:pt x="110" y="31"/>
                    <a:pt x="65" y="114"/>
                    <a:pt x="96" y="182"/>
                  </a:cubicBezTo>
                  <a:cubicBezTo>
                    <a:pt x="98" y="187"/>
                    <a:pt x="145" y="139"/>
                    <a:pt x="147" y="137"/>
                  </a:cubicBezTo>
                  <a:cubicBezTo>
                    <a:pt x="150" y="130"/>
                    <a:pt x="151" y="122"/>
                    <a:pt x="155" y="115"/>
                  </a:cubicBezTo>
                  <a:cubicBezTo>
                    <a:pt x="164" y="100"/>
                    <a:pt x="174" y="86"/>
                    <a:pt x="184" y="71"/>
                  </a:cubicBezTo>
                  <a:cubicBezTo>
                    <a:pt x="192" y="58"/>
                    <a:pt x="175" y="100"/>
                    <a:pt x="170" y="115"/>
                  </a:cubicBezTo>
                  <a:cubicBezTo>
                    <a:pt x="166" y="128"/>
                    <a:pt x="161" y="140"/>
                    <a:pt x="155" y="152"/>
                  </a:cubicBezTo>
                  <a:cubicBezTo>
                    <a:pt x="151" y="160"/>
                    <a:pt x="145" y="167"/>
                    <a:pt x="140" y="174"/>
                  </a:cubicBezTo>
                  <a:cubicBezTo>
                    <a:pt x="126" y="247"/>
                    <a:pt x="132" y="200"/>
                    <a:pt x="147" y="182"/>
                  </a:cubicBezTo>
                  <a:cubicBezTo>
                    <a:pt x="153" y="175"/>
                    <a:pt x="162" y="172"/>
                    <a:pt x="170" y="167"/>
                  </a:cubicBezTo>
                  <a:cubicBezTo>
                    <a:pt x="182" y="130"/>
                    <a:pt x="214" y="133"/>
                    <a:pt x="214" y="86"/>
                  </a:cubicBezTo>
                  <a:cubicBezTo>
                    <a:pt x="214" y="77"/>
                    <a:pt x="204" y="101"/>
                    <a:pt x="199" y="108"/>
                  </a:cubicBezTo>
                  <a:cubicBezTo>
                    <a:pt x="192" y="119"/>
                    <a:pt x="189" y="133"/>
                    <a:pt x="184" y="145"/>
                  </a:cubicBezTo>
                  <a:cubicBezTo>
                    <a:pt x="175" y="191"/>
                    <a:pt x="153" y="232"/>
                    <a:pt x="140" y="278"/>
                  </a:cubicBezTo>
                  <a:cubicBezTo>
                    <a:pt x="137" y="289"/>
                    <a:pt x="151" y="258"/>
                    <a:pt x="155" y="248"/>
                  </a:cubicBezTo>
                  <a:cubicBezTo>
                    <a:pt x="171" y="210"/>
                    <a:pt x="149" y="239"/>
                    <a:pt x="184" y="204"/>
                  </a:cubicBezTo>
                  <a:cubicBezTo>
                    <a:pt x="199" y="166"/>
                    <a:pt x="208" y="120"/>
                    <a:pt x="229" y="86"/>
                  </a:cubicBezTo>
                  <a:cubicBezTo>
                    <a:pt x="234" y="78"/>
                    <a:pt x="239" y="71"/>
                    <a:pt x="243" y="63"/>
                  </a:cubicBezTo>
                  <a:cubicBezTo>
                    <a:pt x="246" y="56"/>
                    <a:pt x="256" y="35"/>
                    <a:pt x="251" y="41"/>
                  </a:cubicBezTo>
                  <a:cubicBezTo>
                    <a:pt x="241" y="51"/>
                    <a:pt x="236" y="66"/>
                    <a:pt x="229" y="78"/>
                  </a:cubicBezTo>
                  <a:cubicBezTo>
                    <a:pt x="216" y="138"/>
                    <a:pt x="191" y="198"/>
                    <a:pt x="147" y="241"/>
                  </a:cubicBezTo>
                  <a:cubicBezTo>
                    <a:pt x="152" y="221"/>
                    <a:pt x="155" y="201"/>
                    <a:pt x="162" y="182"/>
                  </a:cubicBezTo>
                  <a:cubicBezTo>
                    <a:pt x="166" y="172"/>
                    <a:pt x="177" y="152"/>
                    <a:pt x="177" y="152"/>
                  </a:cubicBezTo>
                  <a:lnTo>
                    <a:pt x="177" y="93"/>
                  </a:lnTo>
                  <a:lnTo>
                    <a:pt x="243" y="1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667"/>
            <p:cNvSpPr/>
            <p:nvPr/>
          </p:nvSpPr>
          <p:spPr>
            <a:xfrm>
              <a:off x="3992400" y="5715000"/>
              <a:ext cx="274680" cy="79200"/>
            </a:xfrm>
            <a:custGeom>
              <a:avLst/>
              <a:gdLst/>
              <a:ahLst/>
              <a:rect l="l" t="t" r="r" b="b"/>
              <a:pathLst>
                <a:path w="173" h="50">
                  <a:moveTo>
                    <a:pt x="33" y="8"/>
                  </a:moveTo>
                  <a:cubicBezTo>
                    <a:pt x="40" y="13"/>
                    <a:pt x="55" y="13"/>
                    <a:pt x="55" y="22"/>
                  </a:cubicBezTo>
                  <a:cubicBezTo>
                    <a:pt x="55" y="50"/>
                    <a:pt x="0" y="26"/>
                    <a:pt x="55" y="44"/>
                  </a:cubicBezTo>
                  <a:cubicBezTo>
                    <a:pt x="50" y="37"/>
                    <a:pt x="33" y="27"/>
                    <a:pt x="40" y="22"/>
                  </a:cubicBezTo>
                  <a:cubicBezTo>
                    <a:pt x="54" y="11"/>
                    <a:pt x="75" y="18"/>
                    <a:pt x="92" y="15"/>
                  </a:cubicBezTo>
                  <a:cubicBezTo>
                    <a:pt x="124" y="9"/>
                    <a:pt x="138" y="0"/>
                    <a:pt x="17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68"/>
            <p:cNvSpPr/>
            <p:nvPr/>
          </p:nvSpPr>
          <p:spPr>
            <a:xfrm>
              <a:off x="-272880" y="5727600"/>
              <a:ext cx="2863800" cy="723960"/>
            </a:xfrm>
            <a:custGeom>
              <a:avLst/>
              <a:gdLst/>
              <a:ahLst/>
              <a:rect l="l" t="t" r="r" b="b"/>
              <a:pathLst>
                <a:path w="1804" h="456">
                  <a:moveTo>
                    <a:pt x="962" y="0"/>
                  </a:moveTo>
                  <a:cubicBezTo>
                    <a:pt x="978" y="59"/>
                    <a:pt x="962" y="174"/>
                    <a:pt x="925" y="228"/>
                  </a:cubicBezTo>
                  <a:cubicBezTo>
                    <a:pt x="925" y="228"/>
                    <a:pt x="934" y="208"/>
                    <a:pt x="940" y="199"/>
                  </a:cubicBezTo>
                  <a:cubicBezTo>
                    <a:pt x="945" y="191"/>
                    <a:pt x="950" y="184"/>
                    <a:pt x="955" y="177"/>
                  </a:cubicBezTo>
                  <a:cubicBezTo>
                    <a:pt x="968" y="138"/>
                    <a:pt x="981" y="99"/>
                    <a:pt x="992" y="59"/>
                  </a:cubicBezTo>
                  <a:cubicBezTo>
                    <a:pt x="1006" y="104"/>
                    <a:pt x="975" y="145"/>
                    <a:pt x="955" y="184"/>
                  </a:cubicBezTo>
                  <a:cubicBezTo>
                    <a:pt x="940" y="252"/>
                    <a:pt x="917" y="311"/>
                    <a:pt x="896" y="376"/>
                  </a:cubicBezTo>
                  <a:cubicBezTo>
                    <a:pt x="893" y="369"/>
                    <a:pt x="887" y="362"/>
                    <a:pt x="888" y="354"/>
                  </a:cubicBezTo>
                  <a:cubicBezTo>
                    <a:pt x="889" y="345"/>
                    <a:pt x="900" y="340"/>
                    <a:pt x="903" y="332"/>
                  </a:cubicBezTo>
                  <a:cubicBezTo>
                    <a:pt x="921" y="290"/>
                    <a:pt x="934" y="247"/>
                    <a:pt x="955" y="206"/>
                  </a:cubicBezTo>
                  <a:cubicBezTo>
                    <a:pt x="957" y="181"/>
                    <a:pt x="956" y="156"/>
                    <a:pt x="962" y="132"/>
                  </a:cubicBezTo>
                  <a:cubicBezTo>
                    <a:pt x="963" y="129"/>
                    <a:pt x="1014" y="66"/>
                    <a:pt x="984" y="66"/>
                  </a:cubicBezTo>
                  <a:cubicBezTo>
                    <a:pt x="969" y="66"/>
                    <a:pt x="975" y="95"/>
                    <a:pt x="970" y="110"/>
                  </a:cubicBezTo>
                  <a:cubicBezTo>
                    <a:pt x="966" y="123"/>
                    <a:pt x="950" y="162"/>
                    <a:pt x="947" y="169"/>
                  </a:cubicBezTo>
                  <a:cubicBezTo>
                    <a:pt x="917" y="232"/>
                    <a:pt x="884" y="308"/>
                    <a:pt x="829" y="354"/>
                  </a:cubicBezTo>
                  <a:cubicBezTo>
                    <a:pt x="815" y="366"/>
                    <a:pt x="794" y="367"/>
                    <a:pt x="778" y="376"/>
                  </a:cubicBezTo>
                  <a:cubicBezTo>
                    <a:pt x="774" y="375"/>
                    <a:pt x="724" y="370"/>
                    <a:pt x="733" y="347"/>
                  </a:cubicBezTo>
                  <a:cubicBezTo>
                    <a:pt x="737" y="337"/>
                    <a:pt x="753" y="337"/>
                    <a:pt x="763" y="332"/>
                  </a:cubicBezTo>
                  <a:cubicBezTo>
                    <a:pt x="800" y="339"/>
                    <a:pt x="820" y="355"/>
                    <a:pt x="792" y="295"/>
                  </a:cubicBezTo>
                  <a:cubicBezTo>
                    <a:pt x="783" y="276"/>
                    <a:pt x="735" y="236"/>
                    <a:pt x="755" y="243"/>
                  </a:cubicBezTo>
                  <a:cubicBezTo>
                    <a:pt x="777" y="250"/>
                    <a:pt x="800" y="258"/>
                    <a:pt x="822" y="265"/>
                  </a:cubicBezTo>
                  <a:cubicBezTo>
                    <a:pt x="829" y="267"/>
                    <a:pt x="800" y="258"/>
                    <a:pt x="800" y="258"/>
                  </a:cubicBezTo>
                  <a:lnTo>
                    <a:pt x="822" y="265"/>
                  </a:lnTo>
                  <a:cubicBezTo>
                    <a:pt x="895" y="315"/>
                    <a:pt x="814" y="230"/>
                    <a:pt x="822" y="228"/>
                  </a:cubicBezTo>
                  <a:cubicBezTo>
                    <a:pt x="840" y="224"/>
                    <a:pt x="857" y="238"/>
                    <a:pt x="874" y="243"/>
                  </a:cubicBezTo>
                  <a:cubicBezTo>
                    <a:pt x="881" y="248"/>
                    <a:pt x="889" y="252"/>
                    <a:pt x="896" y="258"/>
                  </a:cubicBezTo>
                  <a:cubicBezTo>
                    <a:pt x="904" y="265"/>
                    <a:pt x="912" y="289"/>
                    <a:pt x="918" y="280"/>
                  </a:cubicBezTo>
                  <a:cubicBezTo>
                    <a:pt x="948" y="233"/>
                    <a:pt x="843" y="211"/>
                    <a:pt x="918" y="228"/>
                  </a:cubicBezTo>
                  <a:cubicBezTo>
                    <a:pt x="928" y="236"/>
                    <a:pt x="937" y="244"/>
                    <a:pt x="947" y="251"/>
                  </a:cubicBezTo>
                  <a:cubicBezTo>
                    <a:pt x="954" y="256"/>
                    <a:pt x="967" y="273"/>
                    <a:pt x="970" y="265"/>
                  </a:cubicBezTo>
                  <a:cubicBezTo>
                    <a:pt x="980" y="237"/>
                    <a:pt x="910" y="199"/>
                    <a:pt x="910" y="199"/>
                  </a:cubicBezTo>
                  <a:cubicBezTo>
                    <a:pt x="875" y="145"/>
                    <a:pt x="919" y="207"/>
                    <a:pt x="874" y="162"/>
                  </a:cubicBezTo>
                  <a:cubicBezTo>
                    <a:pt x="868" y="156"/>
                    <a:pt x="851" y="144"/>
                    <a:pt x="859" y="140"/>
                  </a:cubicBezTo>
                  <a:cubicBezTo>
                    <a:pt x="869" y="135"/>
                    <a:pt x="878" y="151"/>
                    <a:pt x="888" y="155"/>
                  </a:cubicBezTo>
                  <a:cubicBezTo>
                    <a:pt x="895" y="158"/>
                    <a:pt x="903" y="160"/>
                    <a:pt x="910" y="162"/>
                  </a:cubicBezTo>
                  <a:cubicBezTo>
                    <a:pt x="913" y="155"/>
                    <a:pt x="921" y="147"/>
                    <a:pt x="918" y="140"/>
                  </a:cubicBezTo>
                  <a:cubicBezTo>
                    <a:pt x="912" y="129"/>
                    <a:pt x="896" y="127"/>
                    <a:pt x="888" y="118"/>
                  </a:cubicBezTo>
                  <a:cubicBezTo>
                    <a:pt x="883" y="112"/>
                    <a:pt x="873" y="98"/>
                    <a:pt x="881" y="96"/>
                  </a:cubicBezTo>
                  <a:cubicBezTo>
                    <a:pt x="896" y="93"/>
                    <a:pt x="910" y="105"/>
                    <a:pt x="925" y="110"/>
                  </a:cubicBezTo>
                  <a:cubicBezTo>
                    <a:pt x="932" y="115"/>
                    <a:pt x="938" y="127"/>
                    <a:pt x="947" y="125"/>
                  </a:cubicBezTo>
                  <a:cubicBezTo>
                    <a:pt x="964" y="122"/>
                    <a:pt x="970" y="67"/>
                    <a:pt x="970" y="44"/>
                  </a:cubicBezTo>
                  <a:cubicBezTo>
                    <a:pt x="970" y="26"/>
                    <a:pt x="967" y="79"/>
                    <a:pt x="962" y="96"/>
                  </a:cubicBezTo>
                  <a:cubicBezTo>
                    <a:pt x="953" y="127"/>
                    <a:pt x="932" y="156"/>
                    <a:pt x="918" y="184"/>
                  </a:cubicBezTo>
                  <a:cubicBezTo>
                    <a:pt x="912" y="196"/>
                    <a:pt x="908" y="209"/>
                    <a:pt x="903" y="221"/>
                  </a:cubicBezTo>
                  <a:cubicBezTo>
                    <a:pt x="900" y="228"/>
                    <a:pt x="899" y="236"/>
                    <a:pt x="896" y="243"/>
                  </a:cubicBezTo>
                  <a:cubicBezTo>
                    <a:pt x="890" y="256"/>
                    <a:pt x="881" y="267"/>
                    <a:pt x="874" y="280"/>
                  </a:cubicBezTo>
                  <a:cubicBezTo>
                    <a:pt x="870" y="287"/>
                    <a:pt x="863" y="309"/>
                    <a:pt x="866" y="302"/>
                  </a:cubicBezTo>
                  <a:cubicBezTo>
                    <a:pt x="888" y="255"/>
                    <a:pt x="917" y="215"/>
                    <a:pt x="940" y="169"/>
                  </a:cubicBezTo>
                  <a:cubicBezTo>
                    <a:pt x="956" y="137"/>
                    <a:pt x="965" y="104"/>
                    <a:pt x="984" y="73"/>
                  </a:cubicBezTo>
                  <a:cubicBezTo>
                    <a:pt x="1014" y="159"/>
                    <a:pt x="960" y="270"/>
                    <a:pt x="933" y="354"/>
                  </a:cubicBezTo>
                  <a:cubicBezTo>
                    <a:pt x="927" y="373"/>
                    <a:pt x="936" y="312"/>
                    <a:pt x="947" y="295"/>
                  </a:cubicBezTo>
                  <a:cubicBezTo>
                    <a:pt x="977" y="251"/>
                    <a:pt x="1013" y="181"/>
                    <a:pt x="1029" y="132"/>
                  </a:cubicBezTo>
                  <a:cubicBezTo>
                    <a:pt x="1031" y="125"/>
                    <a:pt x="1042" y="115"/>
                    <a:pt x="1036" y="110"/>
                  </a:cubicBezTo>
                  <a:cubicBezTo>
                    <a:pt x="1030" y="105"/>
                    <a:pt x="1021" y="115"/>
                    <a:pt x="1014" y="118"/>
                  </a:cubicBezTo>
                  <a:cubicBezTo>
                    <a:pt x="1004" y="133"/>
                    <a:pt x="994" y="147"/>
                    <a:pt x="984" y="162"/>
                  </a:cubicBezTo>
                  <a:cubicBezTo>
                    <a:pt x="978" y="171"/>
                    <a:pt x="993" y="141"/>
                    <a:pt x="999" y="132"/>
                  </a:cubicBezTo>
                  <a:cubicBezTo>
                    <a:pt x="1005" y="122"/>
                    <a:pt x="1014" y="113"/>
                    <a:pt x="1021" y="103"/>
                  </a:cubicBezTo>
                  <a:cubicBezTo>
                    <a:pt x="1024" y="96"/>
                    <a:pt x="1021" y="81"/>
                    <a:pt x="1029" y="81"/>
                  </a:cubicBezTo>
                  <a:cubicBezTo>
                    <a:pt x="1037" y="81"/>
                    <a:pt x="1033" y="96"/>
                    <a:pt x="1036" y="103"/>
                  </a:cubicBezTo>
                  <a:cubicBezTo>
                    <a:pt x="1052" y="147"/>
                    <a:pt x="1041" y="133"/>
                    <a:pt x="1073" y="155"/>
                  </a:cubicBezTo>
                  <a:cubicBezTo>
                    <a:pt x="1095" y="121"/>
                    <a:pt x="1105" y="89"/>
                    <a:pt x="1139" y="66"/>
                  </a:cubicBezTo>
                  <a:cubicBezTo>
                    <a:pt x="1170" y="76"/>
                    <a:pt x="1186" y="83"/>
                    <a:pt x="1213" y="103"/>
                  </a:cubicBezTo>
                  <a:cubicBezTo>
                    <a:pt x="1276" y="58"/>
                    <a:pt x="1250" y="81"/>
                    <a:pt x="1294" y="36"/>
                  </a:cubicBezTo>
                  <a:cubicBezTo>
                    <a:pt x="1282" y="100"/>
                    <a:pt x="1254" y="158"/>
                    <a:pt x="1221" y="214"/>
                  </a:cubicBezTo>
                  <a:cubicBezTo>
                    <a:pt x="1215" y="225"/>
                    <a:pt x="1205" y="233"/>
                    <a:pt x="1198" y="243"/>
                  </a:cubicBezTo>
                  <a:cubicBezTo>
                    <a:pt x="1185" y="262"/>
                    <a:pt x="1162" y="302"/>
                    <a:pt x="1162" y="302"/>
                  </a:cubicBezTo>
                  <a:cubicBezTo>
                    <a:pt x="1175" y="231"/>
                    <a:pt x="1229" y="168"/>
                    <a:pt x="1272" y="110"/>
                  </a:cubicBezTo>
                  <a:cubicBezTo>
                    <a:pt x="1281" y="85"/>
                    <a:pt x="1288" y="62"/>
                    <a:pt x="1294" y="36"/>
                  </a:cubicBezTo>
                  <a:cubicBezTo>
                    <a:pt x="1314" y="111"/>
                    <a:pt x="1242" y="208"/>
                    <a:pt x="1198" y="265"/>
                  </a:cubicBezTo>
                  <a:cubicBezTo>
                    <a:pt x="1145" y="333"/>
                    <a:pt x="1176" y="309"/>
                    <a:pt x="1132" y="339"/>
                  </a:cubicBezTo>
                  <a:cubicBezTo>
                    <a:pt x="1127" y="347"/>
                    <a:pt x="1107" y="390"/>
                    <a:pt x="1102" y="339"/>
                  </a:cubicBezTo>
                  <a:cubicBezTo>
                    <a:pt x="1099" y="310"/>
                    <a:pt x="1113" y="289"/>
                    <a:pt x="1125" y="265"/>
                  </a:cubicBezTo>
                  <a:cubicBezTo>
                    <a:pt x="1127" y="273"/>
                    <a:pt x="1138" y="293"/>
                    <a:pt x="1132" y="288"/>
                  </a:cubicBezTo>
                  <a:cubicBezTo>
                    <a:pt x="1117" y="275"/>
                    <a:pt x="1116" y="250"/>
                    <a:pt x="1102" y="236"/>
                  </a:cubicBezTo>
                  <a:cubicBezTo>
                    <a:pt x="1093" y="227"/>
                    <a:pt x="1073" y="226"/>
                    <a:pt x="1073" y="214"/>
                  </a:cubicBezTo>
                  <a:cubicBezTo>
                    <a:pt x="1073" y="212"/>
                    <a:pt x="1122" y="227"/>
                    <a:pt x="1125" y="228"/>
                  </a:cubicBezTo>
                  <a:cubicBezTo>
                    <a:pt x="1154" y="248"/>
                    <a:pt x="1163" y="270"/>
                    <a:pt x="1176" y="228"/>
                  </a:cubicBezTo>
                  <a:cubicBezTo>
                    <a:pt x="1136" y="188"/>
                    <a:pt x="1086" y="178"/>
                    <a:pt x="1176" y="192"/>
                  </a:cubicBezTo>
                  <a:cubicBezTo>
                    <a:pt x="1186" y="199"/>
                    <a:pt x="1196" y="207"/>
                    <a:pt x="1206" y="214"/>
                  </a:cubicBezTo>
                  <a:cubicBezTo>
                    <a:pt x="1213" y="219"/>
                    <a:pt x="1232" y="236"/>
                    <a:pt x="1228" y="228"/>
                  </a:cubicBezTo>
                  <a:cubicBezTo>
                    <a:pt x="1222" y="218"/>
                    <a:pt x="1190" y="191"/>
                    <a:pt x="1176" y="184"/>
                  </a:cubicBezTo>
                  <a:cubicBezTo>
                    <a:pt x="1164" y="178"/>
                    <a:pt x="1129" y="178"/>
                    <a:pt x="1139" y="169"/>
                  </a:cubicBezTo>
                  <a:cubicBezTo>
                    <a:pt x="1150" y="159"/>
                    <a:pt x="1169" y="174"/>
                    <a:pt x="1184" y="177"/>
                  </a:cubicBezTo>
                  <a:cubicBezTo>
                    <a:pt x="1191" y="182"/>
                    <a:pt x="1198" y="188"/>
                    <a:pt x="1206" y="192"/>
                  </a:cubicBezTo>
                  <a:cubicBezTo>
                    <a:pt x="1213" y="195"/>
                    <a:pt x="1225" y="206"/>
                    <a:pt x="1228" y="199"/>
                  </a:cubicBezTo>
                  <a:cubicBezTo>
                    <a:pt x="1243" y="169"/>
                    <a:pt x="1214" y="157"/>
                    <a:pt x="1198" y="147"/>
                  </a:cubicBezTo>
                  <a:cubicBezTo>
                    <a:pt x="1166" y="97"/>
                    <a:pt x="1193" y="144"/>
                    <a:pt x="1213" y="147"/>
                  </a:cubicBezTo>
                  <a:cubicBezTo>
                    <a:pt x="1222" y="148"/>
                    <a:pt x="1228" y="137"/>
                    <a:pt x="1235" y="132"/>
                  </a:cubicBezTo>
                  <a:cubicBezTo>
                    <a:pt x="1193" y="119"/>
                    <a:pt x="1232" y="133"/>
                    <a:pt x="1191" y="110"/>
                  </a:cubicBezTo>
                  <a:cubicBezTo>
                    <a:pt x="1182" y="105"/>
                    <a:pt x="1151" y="96"/>
                    <a:pt x="1162" y="96"/>
                  </a:cubicBezTo>
                  <a:cubicBezTo>
                    <a:pt x="1180" y="96"/>
                    <a:pt x="1243" y="118"/>
                    <a:pt x="1265" y="125"/>
                  </a:cubicBezTo>
                  <a:cubicBezTo>
                    <a:pt x="1254" y="81"/>
                    <a:pt x="1222" y="75"/>
                    <a:pt x="1184" y="51"/>
                  </a:cubicBezTo>
                  <a:cubicBezTo>
                    <a:pt x="1175" y="45"/>
                    <a:pt x="1143" y="36"/>
                    <a:pt x="1154" y="36"/>
                  </a:cubicBezTo>
                  <a:cubicBezTo>
                    <a:pt x="1185" y="36"/>
                    <a:pt x="1227" y="56"/>
                    <a:pt x="1258" y="66"/>
                  </a:cubicBezTo>
                  <a:cubicBezTo>
                    <a:pt x="1265" y="71"/>
                    <a:pt x="1272" y="86"/>
                    <a:pt x="1280" y="81"/>
                  </a:cubicBezTo>
                  <a:cubicBezTo>
                    <a:pt x="1295" y="72"/>
                    <a:pt x="1309" y="36"/>
                    <a:pt x="1309" y="36"/>
                  </a:cubicBezTo>
                  <a:cubicBezTo>
                    <a:pt x="1302" y="75"/>
                    <a:pt x="1288" y="110"/>
                    <a:pt x="1272" y="147"/>
                  </a:cubicBezTo>
                  <a:cubicBezTo>
                    <a:pt x="1268" y="157"/>
                    <a:pt x="1262" y="167"/>
                    <a:pt x="1258" y="177"/>
                  </a:cubicBezTo>
                  <a:cubicBezTo>
                    <a:pt x="1255" y="184"/>
                    <a:pt x="1247" y="206"/>
                    <a:pt x="1250" y="199"/>
                  </a:cubicBezTo>
                  <a:cubicBezTo>
                    <a:pt x="1256" y="187"/>
                    <a:pt x="1257" y="172"/>
                    <a:pt x="1265" y="162"/>
                  </a:cubicBezTo>
                  <a:cubicBezTo>
                    <a:pt x="1277" y="147"/>
                    <a:pt x="1295" y="139"/>
                    <a:pt x="1309" y="125"/>
                  </a:cubicBezTo>
                  <a:cubicBezTo>
                    <a:pt x="1328" y="106"/>
                    <a:pt x="1346" y="81"/>
                    <a:pt x="1361" y="59"/>
                  </a:cubicBezTo>
                  <a:cubicBezTo>
                    <a:pt x="1355" y="102"/>
                    <a:pt x="1351" y="131"/>
                    <a:pt x="1331" y="169"/>
                  </a:cubicBezTo>
                  <a:cubicBezTo>
                    <a:pt x="1321" y="213"/>
                    <a:pt x="1319" y="254"/>
                    <a:pt x="1280" y="280"/>
                  </a:cubicBezTo>
                  <a:cubicBezTo>
                    <a:pt x="1320" y="343"/>
                    <a:pt x="1272" y="273"/>
                    <a:pt x="1287" y="273"/>
                  </a:cubicBezTo>
                  <a:cubicBezTo>
                    <a:pt x="1309" y="273"/>
                    <a:pt x="1346" y="302"/>
                    <a:pt x="1346" y="302"/>
                  </a:cubicBezTo>
                  <a:cubicBezTo>
                    <a:pt x="1334" y="290"/>
                    <a:pt x="1319" y="272"/>
                    <a:pt x="1302" y="265"/>
                  </a:cubicBezTo>
                  <a:cubicBezTo>
                    <a:pt x="1293" y="261"/>
                    <a:pt x="1265" y="250"/>
                    <a:pt x="1272" y="258"/>
                  </a:cubicBezTo>
                  <a:cubicBezTo>
                    <a:pt x="1288" y="276"/>
                    <a:pt x="1356" y="284"/>
                    <a:pt x="1376" y="288"/>
                  </a:cubicBezTo>
                  <a:cubicBezTo>
                    <a:pt x="1369" y="276"/>
                    <a:pt x="1363" y="262"/>
                    <a:pt x="1354" y="251"/>
                  </a:cubicBezTo>
                  <a:cubicBezTo>
                    <a:pt x="1346" y="241"/>
                    <a:pt x="1330" y="239"/>
                    <a:pt x="1324" y="228"/>
                  </a:cubicBezTo>
                  <a:cubicBezTo>
                    <a:pt x="1320" y="221"/>
                    <a:pt x="1339" y="233"/>
                    <a:pt x="1346" y="236"/>
                  </a:cubicBezTo>
                  <a:cubicBezTo>
                    <a:pt x="1383" y="249"/>
                    <a:pt x="1354" y="236"/>
                    <a:pt x="1398" y="258"/>
                  </a:cubicBezTo>
                  <a:cubicBezTo>
                    <a:pt x="1393" y="251"/>
                    <a:pt x="1389" y="242"/>
                    <a:pt x="1383" y="236"/>
                  </a:cubicBezTo>
                  <a:cubicBezTo>
                    <a:pt x="1374" y="227"/>
                    <a:pt x="1346" y="223"/>
                    <a:pt x="1354" y="214"/>
                  </a:cubicBezTo>
                  <a:cubicBezTo>
                    <a:pt x="1357" y="210"/>
                    <a:pt x="1416" y="241"/>
                    <a:pt x="1420" y="243"/>
                  </a:cubicBezTo>
                  <a:cubicBezTo>
                    <a:pt x="1403" y="201"/>
                    <a:pt x="1389" y="191"/>
                    <a:pt x="1346" y="177"/>
                  </a:cubicBezTo>
                  <a:cubicBezTo>
                    <a:pt x="1310" y="124"/>
                    <a:pt x="1371" y="163"/>
                    <a:pt x="1398" y="169"/>
                  </a:cubicBezTo>
                  <a:cubicBezTo>
                    <a:pt x="1426" y="128"/>
                    <a:pt x="1420" y="144"/>
                    <a:pt x="1420" y="66"/>
                  </a:cubicBezTo>
                  <a:cubicBezTo>
                    <a:pt x="1420" y="56"/>
                    <a:pt x="1417" y="87"/>
                    <a:pt x="1413" y="96"/>
                  </a:cubicBezTo>
                  <a:cubicBezTo>
                    <a:pt x="1410" y="104"/>
                    <a:pt x="1403" y="111"/>
                    <a:pt x="1398" y="118"/>
                  </a:cubicBezTo>
                  <a:cubicBezTo>
                    <a:pt x="1389" y="151"/>
                    <a:pt x="1368" y="188"/>
                    <a:pt x="1346" y="214"/>
                  </a:cubicBezTo>
                  <a:cubicBezTo>
                    <a:pt x="1338" y="223"/>
                    <a:pt x="1325" y="227"/>
                    <a:pt x="1317" y="236"/>
                  </a:cubicBezTo>
                  <a:cubicBezTo>
                    <a:pt x="1240" y="320"/>
                    <a:pt x="1302" y="275"/>
                    <a:pt x="1250" y="310"/>
                  </a:cubicBezTo>
                  <a:cubicBezTo>
                    <a:pt x="1287" y="322"/>
                    <a:pt x="1296" y="296"/>
                    <a:pt x="1324" y="273"/>
                  </a:cubicBezTo>
                  <a:cubicBezTo>
                    <a:pt x="1367" y="237"/>
                    <a:pt x="1415" y="122"/>
                    <a:pt x="1435" y="66"/>
                  </a:cubicBezTo>
                  <a:cubicBezTo>
                    <a:pt x="1463" y="107"/>
                    <a:pt x="1459" y="122"/>
                    <a:pt x="1509" y="140"/>
                  </a:cubicBezTo>
                  <a:cubicBezTo>
                    <a:pt x="1516" y="135"/>
                    <a:pt x="1527" y="133"/>
                    <a:pt x="1531" y="125"/>
                  </a:cubicBezTo>
                  <a:cubicBezTo>
                    <a:pt x="1537" y="114"/>
                    <a:pt x="1526" y="90"/>
                    <a:pt x="1538" y="88"/>
                  </a:cubicBezTo>
                  <a:cubicBezTo>
                    <a:pt x="1556" y="86"/>
                    <a:pt x="1582" y="118"/>
                    <a:pt x="1582" y="118"/>
                  </a:cubicBezTo>
                  <a:cubicBezTo>
                    <a:pt x="1604" y="85"/>
                    <a:pt x="1587" y="94"/>
                    <a:pt x="1619" y="110"/>
                  </a:cubicBezTo>
                  <a:cubicBezTo>
                    <a:pt x="1626" y="114"/>
                    <a:pt x="1634" y="115"/>
                    <a:pt x="1642" y="118"/>
                  </a:cubicBezTo>
                  <a:cubicBezTo>
                    <a:pt x="1647" y="103"/>
                    <a:pt x="1643" y="82"/>
                    <a:pt x="1656" y="73"/>
                  </a:cubicBezTo>
                  <a:cubicBezTo>
                    <a:pt x="1665" y="67"/>
                    <a:pt x="1676" y="84"/>
                    <a:pt x="1686" y="88"/>
                  </a:cubicBezTo>
                  <a:cubicBezTo>
                    <a:pt x="1703" y="95"/>
                    <a:pt x="1721" y="98"/>
                    <a:pt x="1738" y="103"/>
                  </a:cubicBezTo>
                  <a:cubicBezTo>
                    <a:pt x="1758" y="72"/>
                    <a:pt x="1768" y="61"/>
                    <a:pt x="1804" y="51"/>
                  </a:cubicBezTo>
                  <a:cubicBezTo>
                    <a:pt x="1780" y="67"/>
                    <a:pt x="1765" y="86"/>
                    <a:pt x="1738" y="96"/>
                  </a:cubicBezTo>
                  <a:cubicBezTo>
                    <a:pt x="1697" y="162"/>
                    <a:pt x="1709" y="133"/>
                    <a:pt x="1693" y="177"/>
                  </a:cubicBezTo>
                  <a:cubicBezTo>
                    <a:pt x="1705" y="219"/>
                    <a:pt x="1730" y="232"/>
                    <a:pt x="1767" y="251"/>
                  </a:cubicBezTo>
                  <a:cubicBezTo>
                    <a:pt x="1688" y="311"/>
                    <a:pt x="1549" y="297"/>
                    <a:pt x="1457" y="302"/>
                  </a:cubicBezTo>
                  <a:cubicBezTo>
                    <a:pt x="155" y="293"/>
                    <a:pt x="206" y="456"/>
                    <a:pt x="645" y="169"/>
                  </a:cubicBezTo>
                  <a:cubicBezTo>
                    <a:pt x="630" y="192"/>
                    <a:pt x="546" y="293"/>
                    <a:pt x="593" y="214"/>
                  </a:cubicBezTo>
                  <a:cubicBezTo>
                    <a:pt x="598" y="206"/>
                    <a:pt x="603" y="199"/>
                    <a:pt x="608" y="192"/>
                  </a:cubicBezTo>
                  <a:cubicBezTo>
                    <a:pt x="611" y="182"/>
                    <a:pt x="625" y="133"/>
                    <a:pt x="630" y="132"/>
                  </a:cubicBezTo>
                  <a:cubicBezTo>
                    <a:pt x="641" y="129"/>
                    <a:pt x="640" y="152"/>
                    <a:pt x="645" y="162"/>
                  </a:cubicBezTo>
                  <a:cubicBezTo>
                    <a:pt x="652" y="155"/>
                    <a:pt x="661" y="149"/>
                    <a:pt x="667" y="140"/>
                  </a:cubicBezTo>
                  <a:cubicBezTo>
                    <a:pt x="674" y="129"/>
                    <a:pt x="689" y="92"/>
                    <a:pt x="682" y="103"/>
                  </a:cubicBezTo>
                  <a:cubicBezTo>
                    <a:pt x="656" y="141"/>
                    <a:pt x="636" y="194"/>
                    <a:pt x="615" y="236"/>
                  </a:cubicBezTo>
                  <a:cubicBezTo>
                    <a:pt x="588" y="290"/>
                    <a:pt x="551" y="334"/>
                    <a:pt x="519" y="384"/>
                  </a:cubicBezTo>
                  <a:cubicBezTo>
                    <a:pt x="529" y="351"/>
                    <a:pt x="543" y="336"/>
                    <a:pt x="563" y="310"/>
                  </a:cubicBezTo>
                  <a:cubicBezTo>
                    <a:pt x="588" y="278"/>
                    <a:pt x="606" y="239"/>
                    <a:pt x="630" y="206"/>
                  </a:cubicBezTo>
                  <a:cubicBezTo>
                    <a:pt x="638" y="194"/>
                    <a:pt x="645" y="182"/>
                    <a:pt x="652" y="169"/>
                  </a:cubicBezTo>
                  <a:cubicBezTo>
                    <a:pt x="663" y="150"/>
                    <a:pt x="682" y="110"/>
                    <a:pt x="682" y="110"/>
                  </a:cubicBezTo>
                  <a:cubicBezTo>
                    <a:pt x="684" y="100"/>
                    <a:pt x="686" y="91"/>
                    <a:pt x="689" y="81"/>
                  </a:cubicBezTo>
                  <a:cubicBezTo>
                    <a:pt x="691" y="74"/>
                    <a:pt x="696" y="51"/>
                    <a:pt x="696" y="59"/>
                  </a:cubicBezTo>
                  <a:cubicBezTo>
                    <a:pt x="696" y="118"/>
                    <a:pt x="653" y="197"/>
                    <a:pt x="622" y="243"/>
                  </a:cubicBezTo>
                  <a:cubicBezTo>
                    <a:pt x="609" y="262"/>
                    <a:pt x="598" y="283"/>
                    <a:pt x="586" y="302"/>
                  </a:cubicBezTo>
                  <a:cubicBezTo>
                    <a:pt x="576" y="317"/>
                    <a:pt x="556" y="347"/>
                    <a:pt x="556" y="347"/>
                  </a:cubicBezTo>
                  <a:cubicBezTo>
                    <a:pt x="545" y="301"/>
                    <a:pt x="562" y="248"/>
                    <a:pt x="541" y="206"/>
                  </a:cubicBezTo>
                  <a:cubicBezTo>
                    <a:pt x="534" y="193"/>
                    <a:pt x="512" y="211"/>
                    <a:pt x="497" y="214"/>
                  </a:cubicBezTo>
                  <a:cubicBezTo>
                    <a:pt x="476" y="245"/>
                    <a:pt x="489" y="260"/>
                    <a:pt x="453" y="273"/>
                  </a:cubicBezTo>
                  <a:cubicBezTo>
                    <a:pt x="431" y="214"/>
                    <a:pt x="493" y="221"/>
                    <a:pt x="534" y="214"/>
                  </a:cubicBezTo>
                  <a:cubicBezTo>
                    <a:pt x="569" y="196"/>
                    <a:pt x="586" y="203"/>
                    <a:pt x="608" y="169"/>
                  </a:cubicBezTo>
                  <a:cubicBezTo>
                    <a:pt x="621" y="61"/>
                    <a:pt x="634" y="77"/>
                    <a:pt x="519" y="96"/>
                  </a:cubicBezTo>
                  <a:cubicBezTo>
                    <a:pt x="461" y="131"/>
                    <a:pt x="400" y="159"/>
                    <a:pt x="334" y="177"/>
                  </a:cubicBezTo>
                  <a:cubicBezTo>
                    <a:pt x="327" y="174"/>
                    <a:pt x="314" y="177"/>
                    <a:pt x="312" y="169"/>
                  </a:cubicBezTo>
                  <a:cubicBezTo>
                    <a:pt x="310" y="160"/>
                    <a:pt x="322" y="154"/>
                    <a:pt x="327" y="147"/>
                  </a:cubicBezTo>
                  <a:cubicBezTo>
                    <a:pt x="351" y="114"/>
                    <a:pt x="344" y="123"/>
                    <a:pt x="371" y="96"/>
                  </a:cubicBezTo>
                  <a:cubicBezTo>
                    <a:pt x="382" y="128"/>
                    <a:pt x="372" y="139"/>
                    <a:pt x="357" y="169"/>
                  </a:cubicBezTo>
                  <a:cubicBezTo>
                    <a:pt x="347" y="142"/>
                    <a:pt x="345" y="152"/>
                    <a:pt x="357" y="125"/>
                  </a:cubicBezTo>
                  <a:cubicBezTo>
                    <a:pt x="361" y="115"/>
                    <a:pt x="371" y="85"/>
                    <a:pt x="371" y="96"/>
                  </a:cubicBezTo>
                  <a:cubicBezTo>
                    <a:pt x="371" y="133"/>
                    <a:pt x="330" y="230"/>
                    <a:pt x="312" y="265"/>
                  </a:cubicBezTo>
                  <a:cubicBezTo>
                    <a:pt x="305" y="278"/>
                    <a:pt x="285" y="288"/>
                    <a:pt x="290" y="302"/>
                  </a:cubicBezTo>
                  <a:cubicBezTo>
                    <a:pt x="291" y="304"/>
                    <a:pt x="349" y="273"/>
                    <a:pt x="349" y="273"/>
                  </a:cubicBezTo>
                  <a:cubicBezTo>
                    <a:pt x="384" y="221"/>
                    <a:pt x="364" y="238"/>
                    <a:pt x="401" y="214"/>
                  </a:cubicBezTo>
                  <a:cubicBezTo>
                    <a:pt x="393" y="248"/>
                    <a:pt x="393" y="260"/>
                    <a:pt x="364" y="280"/>
                  </a:cubicBezTo>
                  <a:cubicBezTo>
                    <a:pt x="386" y="226"/>
                    <a:pt x="417" y="182"/>
                    <a:pt x="430" y="125"/>
                  </a:cubicBezTo>
                  <a:cubicBezTo>
                    <a:pt x="435" y="135"/>
                    <a:pt x="439" y="145"/>
                    <a:pt x="445" y="155"/>
                  </a:cubicBezTo>
                  <a:cubicBezTo>
                    <a:pt x="449" y="163"/>
                    <a:pt x="451" y="177"/>
                    <a:pt x="460" y="177"/>
                  </a:cubicBezTo>
                  <a:cubicBezTo>
                    <a:pt x="469" y="177"/>
                    <a:pt x="470" y="162"/>
                    <a:pt x="475" y="155"/>
                  </a:cubicBezTo>
                  <a:cubicBezTo>
                    <a:pt x="472" y="140"/>
                    <a:pt x="473" y="124"/>
                    <a:pt x="467" y="110"/>
                  </a:cubicBezTo>
                  <a:cubicBezTo>
                    <a:pt x="463" y="101"/>
                    <a:pt x="436" y="92"/>
                    <a:pt x="445" y="88"/>
                  </a:cubicBezTo>
                  <a:cubicBezTo>
                    <a:pt x="457" y="82"/>
                    <a:pt x="471" y="96"/>
                    <a:pt x="482" y="103"/>
                  </a:cubicBezTo>
                  <a:cubicBezTo>
                    <a:pt x="500" y="114"/>
                    <a:pt x="534" y="140"/>
                    <a:pt x="534" y="140"/>
                  </a:cubicBezTo>
                  <a:cubicBezTo>
                    <a:pt x="539" y="133"/>
                    <a:pt x="551" y="127"/>
                    <a:pt x="549" y="118"/>
                  </a:cubicBezTo>
                  <a:cubicBezTo>
                    <a:pt x="545" y="100"/>
                    <a:pt x="504" y="63"/>
                    <a:pt x="519" y="73"/>
                  </a:cubicBezTo>
                  <a:cubicBezTo>
                    <a:pt x="552" y="95"/>
                    <a:pt x="588" y="111"/>
                    <a:pt x="622" y="132"/>
                  </a:cubicBezTo>
                  <a:cubicBezTo>
                    <a:pt x="637" y="92"/>
                    <a:pt x="633" y="125"/>
                    <a:pt x="600" y="96"/>
                  </a:cubicBezTo>
                  <a:cubicBezTo>
                    <a:pt x="594" y="91"/>
                    <a:pt x="615" y="101"/>
                    <a:pt x="622" y="103"/>
                  </a:cubicBezTo>
                  <a:cubicBezTo>
                    <a:pt x="634" y="107"/>
                    <a:pt x="647" y="108"/>
                    <a:pt x="659" y="110"/>
                  </a:cubicBezTo>
                  <a:cubicBezTo>
                    <a:pt x="699" y="126"/>
                    <a:pt x="727" y="140"/>
                    <a:pt x="770" y="147"/>
                  </a:cubicBezTo>
                  <a:cubicBezTo>
                    <a:pt x="777" y="150"/>
                    <a:pt x="792" y="163"/>
                    <a:pt x="792" y="155"/>
                  </a:cubicBezTo>
                  <a:cubicBezTo>
                    <a:pt x="792" y="146"/>
                    <a:pt x="776" y="146"/>
                    <a:pt x="770" y="140"/>
                  </a:cubicBezTo>
                  <a:cubicBezTo>
                    <a:pt x="764" y="134"/>
                    <a:pt x="763" y="121"/>
                    <a:pt x="755" y="118"/>
                  </a:cubicBezTo>
                  <a:cubicBezTo>
                    <a:pt x="734" y="110"/>
                    <a:pt x="711" y="113"/>
                    <a:pt x="689" y="110"/>
                  </a:cubicBezTo>
                  <a:cubicBezTo>
                    <a:pt x="650" y="167"/>
                    <a:pt x="734" y="169"/>
                    <a:pt x="755" y="214"/>
                  </a:cubicBezTo>
                  <a:cubicBezTo>
                    <a:pt x="759" y="222"/>
                    <a:pt x="741" y="203"/>
                    <a:pt x="733" y="199"/>
                  </a:cubicBezTo>
                  <a:cubicBezTo>
                    <a:pt x="726" y="196"/>
                    <a:pt x="718" y="194"/>
                    <a:pt x="711" y="192"/>
                  </a:cubicBezTo>
                  <a:cubicBezTo>
                    <a:pt x="704" y="189"/>
                    <a:pt x="682" y="181"/>
                    <a:pt x="689" y="184"/>
                  </a:cubicBezTo>
                  <a:cubicBezTo>
                    <a:pt x="719" y="198"/>
                    <a:pt x="749" y="206"/>
                    <a:pt x="778" y="221"/>
                  </a:cubicBezTo>
                  <a:cubicBezTo>
                    <a:pt x="800" y="186"/>
                    <a:pt x="796" y="208"/>
                    <a:pt x="763" y="169"/>
                  </a:cubicBezTo>
                  <a:cubicBezTo>
                    <a:pt x="755" y="160"/>
                    <a:pt x="750" y="148"/>
                    <a:pt x="741" y="140"/>
                  </a:cubicBezTo>
                  <a:cubicBezTo>
                    <a:pt x="725" y="126"/>
                    <a:pt x="689" y="103"/>
                    <a:pt x="689" y="103"/>
                  </a:cubicBezTo>
                  <a:cubicBezTo>
                    <a:pt x="674" y="54"/>
                    <a:pt x="707" y="87"/>
                    <a:pt x="733" y="96"/>
                  </a:cubicBezTo>
                  <a:cubicBezTo>
                    <a:pt x="736" y="113"/>
                    <a:pt x="729" y="135"/>
                    <a:pt x="741" y="147"/>
                  </a:cubicBezTo>
                  <a:cubicBezTo>
                    <a:pt x="749" y="155"/>
                    <a:pt x="749" y="127"/>
                    <a:pt x="755" y="118"/>
                  </a:cubicBezTo>
                  <a:cubicBezTo>
                    <a:pt x="762" y="107"/>
                    <a:pt x="770" y="98"/>
                    <a:pt x="778" y="88"/>
                  </a:cubicBezTo>
                  <a:cubicBezTo>
                    <a:pt x="785" y="80"/>
                    <a:pt x="810" y="63"/>
                    <a:pt x="800" y="66"/>
                  </a:cubicBezTo>
                  <a:cubicBezTo>
                    <a:pt x="747" y="84"/>
                    <a:pt x="704" y="154"/>
                    <a:pt x="674" y="192"/>
                  </a:cubicBezTo>
                  <a:cubicBezTo>
                    <a:pt x="667" y="202"/>
                    <a:pt x="659" y="211"/>
                    <a:pt x="652" y="221"/>
                  </a:cubicBezTo>
                  <a:cubicBezTo>
                    <a:pt x="646" y="229"/>
                    <a:pt x="637" y="250"/>
                    <a:pt x="630" y="243"/>
                  </a:cubicBezTo>
                  <a:cubicBezTo>
                    <a:pt x="622" y="235"/>
                    <a:pt x="639" y="223"/>
                    <a:pt x="645" y="214"/>
                  </a:cubicBezTo>
                  <a:cubicBezTo>
                    <a:pt x="672" y="172"/>
                    <a:pt x="685" y="153"/>
                    <a:pt x="704" y="110"/>
                  </a:cubicBezTo>
                  <a:cubicBezTo>
                    <a:pt x="708" y="100"/>
                    <a:pt x="714" y="91"/>
                    <a:pt x="718" y="81"/>
                  </a:cubicBezTo>
                  <a:cubicBezTo>
                    <a:pt x="721" y="74"/>
                    <a:pt x="732" y="53"/>
                    <a:pt x="726" y="59"/>
                  </a:cubicBezTo>
                  <a:cubicBezTo>
                    <a:pt x="718" y="67"/>
                    <a:pt x="699" y="118"/>
                    <a:pt x="696" y="125"/>
                  </a:cubicBezTo>
                  <a:cubicBezTo>
                    <a:pt x="669" y="188"/>
                    <a:pt x="698" y="122"/>
                    <a:pt x="659" y="184"/>
                  </a:cubicBezTo>
                  <a:cubicBezTo>
                    <a:pt x="642" y="211"/>
                    <a:pt x="636" y="244"/>
                    <a:pt x="622" y="273"/>
                  </a:cubicBezTo>
                  <a:cubicBezTo>
                    <a:pt x="629" y="222"/>
                    <a:pt x="644" y="181"/>
                    <a:pt x="659" y="132"/>
                  </a:cubicBezTo>
                  <a:cubicBezTo>
                    <a:pt x="657" y="120"/>
                    <a:pt x="664" y="98"/>
                    <a:pt x="652" y="96"/>
                  </a:cubicBezTo>
                  <a:cubicBezTo>
                    <a:pt x="635" y="94"/>
                    <a:pt x="623" y="115"/>
                    <a:pt x="608" y="125"/>
                  </a:cubicBezTo>
                  <a:cubicBezTo>
                    <a:pt x="562" y="155"/>
                    <a:pt x="491" y="200"/>
                    <a:pt x="445" y="221"/>
                  </a:cubicBezTo>
                  <a:cubicBezTo>
                    <a:pt x="366" y="258"/>
                    <a:pt x="279" y="269"/>
                    <a:pt x="194" y="280"/>
                  </a:cubicBezTo>
                  <a:cubicBezTo>
                    <a:pt x="184" y="275"/>
                    <a:pt x="165" y="265"/>
                    <a:pt x="165" y="265"/>
                  </a:cubicBezTo>
                  <a:cubicBezTo>
                    <a:pt x="175" y="273"/>
                    <a:pt x="184" y="281"/>
                    <a:pt x="194" y="288"/>
                  </a:cubicBezTo>
                  <a:cubicBezTo>
                    <a:pt x="217" y="303"/>
                    <a:pt x="250" y="308"/>
                    <a:pt x="194" y="295"/>
                  </a:cubicBezTo>
                  <a:cubicBezTo>
                    <a:pt x="130" y="251"/>
                    <a:pt x="132" y="263"/>
                    <a:pt x="224" y="273"/>
                  </a:cubicBezTo>
                  <a:cubicBezTo>
                    <a:pt x="231" y="275"/>
                    <a:pt x="243" y="287"/>
                    <a:pt x="246" y="280"/>
                  </a:cubicBezTo>
                  <a:cubicBezTo>
                    <a:pt x="250" y="272"/>
                    <a:pt x="238" y="264"/>
                    <a:pt x="231" y="258"/>
                  </a:cubicBezTo>
                  <a:cubicBezTo>
                    <a:pt x="210" y="239"/>
                    <a:pt x="187" y="223"/>
                    <a:pt x="165" y="206"/>
                  </a:cubicBezTo>
                  <a:cubicBezTo>
                    <a:pt x="158" y="200"/>
                    <a:pt x="150" y="197"/>
                    <a:pt x="142" y="192"/>
                  </a:cubicBezTo>
                  <a:cubicBezTo>
                    <a:pt x="135" y="187"/>
                    <a:pt x="112" y="181"/>
                    <a:pt x="120" y="177"/>
                  </a:cubicBezTo>
                  <a:cubicBezTo>
                    <a:pt x="131" y="171"/>
                    <a:pt x="145" y="181"/>
                    <a:pt x="157" y="184"/>
                  </a:cubicBezTo>
                  <a:cubicBezTo>
                    <a:pt x="191" y="193"/>
                    <a:pt x="218" y="213"/>
                    <a:pt x="253" y="221"/>
                  </a:cubicBezTo>
                  <a:cubicBezTo>
                    <a:pt x="248" y="214"/>
                    <a:pt x="245" y="204"/>
                    <a:pt x="238" y="199"/>
                  </a:cubicBezTo>
                  <a:cubicBezTo>
                    <a:pt x="232" y="194"/>
                    <a:pt x="223" y="195"/>
                    <a:pt x="216" y="192"/>
                  </a:cubicBezTo>
                  <a:cubicBezTo>
                    <a:pt x="161" y="165"/>
                    <a:pt x="221" y="181"/>
                    <a:pt x="246" y="184"/>
                  </a:cubicBezTo>
                  <a:cubicBezTo>
                    <a:pt x="256" y="187"/>
                    <a:pt x="266" y="188"/>
                    <a:pt x="275" y="192"/>
                  </a:cubicBezTo>
                  <a:cubicBezTo>
                    <a:pt x="285" y="196"/>
                    <a:pt x="295" y="211"/>
                    <a:pt x="305" y="206"/>
                  </a:cubicBezTo>
                  <a:cubicBezTo>
                    <a:pt x="313" y="202"/>
                    <a:pt x="297" y="190"/>
                    <a:pt x="290" y="184"/>
                  </a:cubicBezTo>
                  <a:cubicBezTo>
                    <a:pt x="282" y="177"/>
                    <a:pt x="270" y="175"/>
                    <a:pt x="261" y="169"/>
                  </a:cubicBezTo>
                  <a:cubicBezTo>
                    <a:pt x="241" y="157"/>
                    <a:pt x="222" y="144"/>
                    <a:pt x="202" y="132"/>
                  </a:cubicBezTo>
                  <a:cubicBezTo>
                    <a:pt x="171" y="113"/>
                    <a:pt x="169" y="116"/>
                    <a:pt x="209" y="125"/>
                  </a:cubicBezTo>
                  <a:cubicBezTo>
                    <a:pt x="219" y="130"/>
                    <a:pt x="228" y="136"/>
                    <a:pt x="238" y="140"/>
                  </a:cubicBezTo>
                  <a:cubicBezTo>
                    <a:pt x="245" y="143"/>
                    <a:pt x="257" y="154"/>
                    <a:pt x="261" y="147"/>
                  </a:cubicBezTo>
                  <a:cubicBezTo>
                    <a:pt x="271" y="128"/>
                    <a:pt x="229" y="120"/>
                    <a:pt x="224" y="118"/>
                  </a:cubicBezTo>
                  <a:cubicBezTo>
                    <a:pt x="209" y="108"/>
                    <a:pt x="161" y="85"/>
                    <a:pt x="179" y="88"/>
                  </a:cubicBezTo>
                  <a:cubicBezTo>
                    <a:pt x="194" y="91"/>
                    <a:pt x="209" y="93"/>
                    <a:pt x="224" y="96"/>
                  </a:cubicBezTo>
                  <a:cubicBezTo>
                    <a:pt x="232" y="98"/>
                    <a:pt x="253" y="107"/>
                    <a:pt x="246" y="103"/>
                  </a:cubicBezTo>
                  <a:cubicBezTo>
                    <a:pt x="185" y="70"/>
                    <a:pt x="152" y="71"/>
                    <a:pt x="76" y="66"/>
                  </a:cubicBezTo>
                  <a:cubicBezTo>
                    <a:pt x="11" y="74"/>
                    <a:pt x="0" y="64"/>
                    <a:pt x="32" y="81"/>
                  </a:cubicBezTo>
                  <a:lnTo>
                    <a:pt x="28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69"/>
            <p:cNvSpPr/>
            <p:nvPr/>
          </p:nvSpPr>
          <p:spPr>
            <a:xfrm>
              <a:off x="2122560" y="5661000"/>
              <a:ext cx="455400" cy="487440"/>
            </a:xfrm>
            <a:custGeom>
              <a:avLst/>
              <a:gdLst/>
              <a:ahLst/>
              <a:rect l="l" t="t" r="r" b="b"/>
              <a:pathLst>
                <a:path w="287" h="307">
                  <a:moveTo>
                    <a:pt x="0" y="138"/>
                  </a:moveTo>
                  <a:cubicBezTo>
                    <a:pt x="50" y="154"/>
                    <a:pt x="50" y="171"/>
                    <a:pt x="88" y="197"/>
                  </a:cubicBezTo>
                  <a:cubicBezTo>
                    <a:pt x="86" y="226"/>
                    <a:pt x="85" y="256"/>
                    <a:pt x="81" y="285"/>
                  </a:cubicBezTo>
                  <a:cubicBezTo>
                    <a:pt x="80" y="293"/>
                    <a:pt x="81" y="307"/>
                    <a:pt x="73" y="307"/>
                  </a:cubicBezTo>
                  <a:cubicBezTo>
                    <a:pt x="65" y="307"/>
                    <a:pt x="68" y="292"/>
                    <a:pt x="66" y="285"/>
                  </a:cubicBezTo>
                  <a:cubicBezTo>
                    <a:pt x="68" y="273"/>
                    <a:pt x="71" y="260"/>
                    <a:pt x="73" y="248"/>
                  </a:cubicBezTo>
                  <a:cubicBezTo>
                    <a:pt x="76" y="230"/>
                    <a:pt x="90" y="162"/>
                    <a:pt x="73" y="219"/>
                  </a:cubicBezTo>
                  <a:cubicBezTo>
                    <a:pt x="70" y="229"/>
                    <a:pt x="69" y="239"/>
                    <a:pt x="66" y="248"/>
                  </a:cubicBezTo>
                  <a:cubicBezTo>
                    <a:pt x="62" y="258"/>
                    <a:pt x="62" y="278"/>
                    <a:pt x="51" y="278"/>
                  </a:cubicBezTo>
                  <a:cubicBezTo>
                    <a:pt x="41" y="278"/>
                    <a:pt x="56" y="258"/>
                    <a:pt x="59" y="248"/>
                  </a:cubicBezTo>
                  <a:cubicBezTo>
                    <a:pt x="74" y="199"/>
                    <a:pt x="68" y="214"/>
                    <a:pt x="88" y="174"/>
                  </a:cubicBezTo>
                  <a:cubicBezTo>
                    <a:pt x="86" y="186"/>
                    <a:pt x="83" y="199"/>
                    <a:pt x="81" y="211"/>
                  </a:cubicBezTo>
                  <a:cubicBezTo>
                    <a:pt x="70" y="267"/>
                    <a:pt x="67" y="256"/>
                    <a:pt x="96" y="204"/>
                  </a:cubicBezTo>
                  <a:cubicBezTo>
                    <a:pt x="100" y="196"/>
                    <a:pt x="106" y="190"/>
                    <a:pt x="110" y="182"/>
                  </a:cubicBezTo>
                  <a:cubicBezTo>
                    <a:pt x="113" y="175"/>
                    <a:pt x="114" y="167"/>
                    <a:pt x="118" y="160"/>
                  </a:cubicBezTo>
                  <a:cubicBezTo>
                    <a:pt x="122" y="152"/>
                    <a:pt x="124" y="138"/>
                    <a:pt x="133" y="138"/>
                  </a:cubicBezTo>
                  <a:cubicBezTo>
                    <a:pt x="141" y="138"/>
                    <a:pt x="128" y="153"/>
                    <a:pt x="125" y="160"/>
                  </a:cubicBezTo>
                  <a:cubicBezTo>
                    <a:pt x="113" y="191"/>
                    <a:pt x="107" y="221"/>
                    <a:pt x="88" y="248"/>
                  </a:cubicBezTo>
                  <a:cubicBezTo>
                    <a:pt x="88" y="247"/>
                    <a:pt x="101" y="201"/>
                    <a:pt x="103" y="197"/>
                  </a:cubicBezTo>
                  <a:cubicBezTo>
                    <a:pt x="114" y="179"/>
                    <a:pt x="140" y="145"/>
                    <a:pt x="140" y="145"/>
                  </a:cubicBezTo>
                  <a:cubicBezTo>
                    <a:pt x="149" y="116"/>
                    <a:pt x="165" y="102"/>
                    <a:pt x="155" y="71"/>
                  </a:cubicBezTo>
                  <a:cubicBezTo>
                    <a:pt x="143" y="117"/>
                    <a:pt x="152" y="164"/>
                    <a:pt x="125" y="204"/>
                  </a:cubicBezTo>
                  <a:cubicBezTo>
                    <a:pt x="111" y="162"/>
                    <a:pt x="119" y="203"/>
                    <a:pt x="133" y="152"/>
                  </a:cubicBezTo>
                  <a:cubicBezTo>
                    <a:pt x="137" y="135"/>
                    <a:pt x="137" y="118"/>
                    <a:pt x="140" y="101"/>
                  </a:cubicBezTo>
                  <a:cubicBezTo>
                    <a:pt x="142" y="91"/>
                    <a:pt x="154" y="79"/>
                    <a:pt x="147" y="71"/>
                  </a:cubicBezTo>
                  <a:cubicBezTo>
                    <a:pt x="141" y="64"/>
                    <a:pt x="137" y="85"/>
                    <a:pt x="133" y="93"/>
                  </a:cubicBezTo>
                  <a:cubicBezTo>
                    <a:pt x="130" y="100"/>
                    <a:pt x="128" y="108"/>
                    <a:pt x="125" y="115"/>
                  </a:cubicBezTo>
                  <a:cubicBezTo>
                    <a:pt x="123" y="108"/>
                    <a:pt x="112" y="98"/>
                    <a:pt x="118" y="93"/>
                  </a:cubicBezTo>
                  <a:cubicBezTo>
                    <a:pt x="132" y="80"/>
                    <a:pt x="154" y="122"/>
                    <a:pt x="155" y="123"/>
                  </a:cubicBezTo>
                  <a:cubicBezTo>
                    <a:pt x="181" y="149"/>
                    <a:pt x="204" y="141"/>
                    <a:pt x="243" y="145"/>
                  </a:cubicBezTo>
                  <a:cubicBezTo>
                    <a:pt x="254" y="116"/>
                    <a:pt x="268" y="102"/>
                    <a:pt x="258" y="71"/>
                  </a:cubicBezTo>
                  <a:cubicBezTo>
                    <a:pt x="233" y="114"/>
                    <a:pt x="225" y="158"/>
                    <a:pt x="206" y="204"/>
                  </a:cubicBezTo>
                  <a:cubicBezTo>
                    <a:pt x="214" y="146"/>
                    <a:pt x="226" y="115"/>
                    <a:pt x="251" y="64"/>
                  </a:cubicBezTo>
                  <a:cubicBezTo>
                    <a:pt x="259" y="47"/>
                    <a:pt x="287" y="0"/>
                    <a:pt x="273" y="12"/>
                  </a:cubicBezTo>
                  <a:cubicBezTo>
                    <a:pt x="256" y="27"/>
                    <a:pt x="243" y="71"/>
                    <a:pt x="243" y="71"/>
                  </a:cubicBezTo>
                  <a:cubicBezTo>
                    <a:pt x="235" y="106"/>
                    <a:pt x="219" y="131"/>
                    <a:pt x="199" y="160"/>
                  </a:cubicBezTo>
                  <a:cubicBezTo>
                    <a:pt x="201" y="153"/>
                    <a:pt x="202" y="145"/>
                    <a:pt x="206" y="138"/>
                  </a:cubicBezTo>
                  <a:cubicBezTo>
                    <a:pt x="212" y="127"/>
                    <a:pt x="224" y="120"/>
                    <a:pt x="229" y="108"/>
                  </a:cubicBezTo>
                  <a:cubicBezTo>
                    <a:pt x="246" y="69"/>
                    <a:pt x="229" y="43"/>
                    <a:pt x="229" y="115"/>
                  </a:cubicBezTo>
                  <a:cubicBezTo>
                    <a:pt x="229" y="135"/>
                    <a:pt x="243" y="56"/>
                    <a:pt x="243" y="5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71"/>
            <p:cNvSpPr/>
            <p:nvPr/>
          </p:nvSpPr>
          <p:spPr>
            <a:xfrm>
              <a:off x="4984920" y="4718160"/>
              <a:ext cx="4503600" cy="1065240"/>
            </a:xfrm>
            <a:custGeom>
              <a:avLst/>
              <a:gdLst/>
              <a:ahLst/>
              <a:rect l="l" t="t" r="r" b="b"/>
              <a:pathLst>
                <a:path w="2837" h="671">
                  <a:moveTo>
                    <a:pt x="331" y="0"/>
                  </a:moveTo>
                  <a:cubicBezTo>
                    <a:pt x="225" y="11"/>
                    <a:pt x="142" y="42"/>
                    <a:pt x="43" y="74"/>
                  </a:cubicBezTo>
                  <a:cubicBezTo>
                    <a:pt x="27" y="85"/>
                    <a:pt x="0" y="96"/>
                    <a:pt x="13" y="126"/>
                  </a:cubicBezTo>
                  <a:cubicBezTo>
                    <a:pt x="17" y="136"/>
                    <a:pt x="33" y="136"/>
                    <a:pt x="43" y="141"/>
                  </a:cubicBezTo>
                  <a:cubicBezTo>
                    <a:pt x="36" y="148"/>
                    <a:pt x="19" y="153"/>
                    <a:pt x="21" y="163"/>
                  </a:cubicBezTo>
                  <a:cubicBezTo>
                    <a:pt x="23" y="174"/>
                    <a:pt x="73" y="183"/>
                    <a:pt x="80" y="185"/>
                  </a:cubicBezTo>
                  <a:cubicBezTo>
                    <a:pt x="78" y="187"/>
                    <a:pt x="41" y="221"/>
                    <a:pt x="43" y="229"/>
                  </a:cubicBezTo>
                  <a:cubicBezTo>
                    <a:pt x="47" y="248"/>
                    <a:pt x="98" y="248"/>
                    <a:pt x="124" y="251"/>
                  </a:cubicBezTo>
                  <a:cubicBezTo>
                    <a:pt x="102" y="285"/>
                    <a:pt x="64" y="289"/>
                    <a:pt x="109" y="303"/>
                  </a:cubicBezTo>
                  <a:cubicBezTo>
                    <a:pt x="143" y="286"/>
                    <a:pt x="177" y="278"/>
                    <a:pt x="213" y="266"/>
                  </a:cubicBezTo>
                  <a:cubicBezTo>
                    <a:pt x="256" y="278"/>
                    <a:pt x="230" y="276"/>
                    <a:pt x="279" y="266"/>
                  </a:cubicBezTo>
                  <a:cubicBezTo>
                    <a:pt x="306" y="261"/>
                    <a:pt x="360" y="251"/>
                    <a:pt x="360" y="251"/>
                  </a:cubicBezTo>
                  <a:cubicBezTo>
                    <a:pt x="453" y="271"/>
                    <a:pt x="332" y="261"/>
                    <a:pt x="390" y="303"/>
                  </a:cubicBezTo>
                  <a:cubicBezTo>
                    <a:pt x="418" y="323"/>
                    <a:pt x="462" y="322"/>
                    <a:pt x="493" y="325"/>
                  </a:cubicBezTo>
                  <a:cubicBezTo>
                    <a:pt x="453" y="339"/>
                    <a:pt x="475" y="325"/>
                    <a:pt x="493" y="347"/>
                  </a:cubicBezTo>
                  <a:cubicBezTo>
                    <a:pt x="498" y="353"/>
                    <a:pt x="498" y="362"/>
                    <a:pt x="501" y="370"/>
                  </a:cubicBezTo>
                  <a:cubicBezTo>
                    <a:pt x="521" y="494"/>
                    <a:pt x="477" y="309"/>
                    <a:pt x="597" y="429"/>
                  </a:cubicBezTo>
                  <a:cubicBezTo>
                    <a:pt x="628" y="460"/>
                    <a:pt x="509" y="495"/>
                    <a:pt x="597" y="458"/>
                  </a:cubicBezTo>
                  <a:cubicBezTo>
                    <a:pt x="604" y="455"/>
                    <a:pt x="612" y="453"/>
                    <a:pt x="619" y="451"/>
                  </a:cubicBezTo>
                  <a:cubicBezTo>
                    <a:pt x="635" y="501"/>
                    <a:pt x="610" y="445"/>
                    <a:pt x="663" y="480"/>
                  </a:cubicBezTo>
                  <a:cubicBezTo>
                    <a:pt x="669" y="484"/>
                    <a:pt x="663" y="498"/>
                    <a:pt x="670" y="502"/>
                  </a:cubicBezTo>
                  <a:cubicBezTo>
                    <a:pt x="683" y="510"/>
                    <a:pt x="700" y="507"/>
                    <a:pt x="715" y="510"/>
                  </a:cubicBezTo>
                  <a:cubicBezTo>
                    <a:pt x="712" y="517"/>
                    <a:pt x="700" y="529"/>
                    <a:pt x="707" y="532"/>
                  </a:cubicBezTo>
                  <a:cubicBezTo>
                    <a:pt x="721" y="538"/>
                    <a:pt x="737" y="527"/>
                    <a:pt x="752" y="525"/>
                  </a:cubicBezTo>
                  <a:cubicBezTo>
                    <a:pt x="772" y="522"/>
                    <a:pt x="791" y="520"/>
                    <a:pt x="811" y="517"/>
                  </a:cubicBezTo>
                  <a:cubicBezTo>
                    <a:pt x="804" y="524"/>
                    <a:pt x="789" y="529"/>
                    <a:pt x="789" y="539"/>
                  </a:cubicBezTo>
                  <a:cubicBezTo>
                    <a:pt x="789" y="547"/>
                    <a:pt x="803" y="547"/>
                    <a:pt x="811" y="547"/>
                  </a:cubicBezTo>
                  <a:cubicBezTo>
                    <a:pt x="828" y="547"/>
                    <a:pt x="845" y="542"/>
                    <a:pt x="862" y="539"/>
                  </a:cubicBezTo>
                  <a:cubicBezTo>
                    <a:pt x="814" y="571"/>
                    <a:pt x="853" y="538"/>
                    <a:pt x="892" y="562"/>
                  </a:cubicBezTo>
                  <a:cubicBezTo>
                    <a:pt x="900" y="567"/>
                    <a:pt x="897" y="581"/>
                    <a:pt x="899" y="591"/>
                  </a:cubicBezTo>
                  <a:cubicBezTo>
                    <a:pt x="921" y="586"/>
                    <a:pt x="944" y="583"/>
                    <a:pt x="966" y="576"/>
                  </a:cubicBezTo>
                  <a:cubicBezTo>
                    <a:pt x="981" y="571"/>
                    <a:pt x="1010" y="562"/>
                    <a:pt x="1010" y="562"/>
                  </a:cubicBezTo>
                  <a:cubicBezTo>
                    <a:pt x="1047" y="571"/>
                    <a:pt x="1078" y="567"/>
                    <a:pt x="1114" y="554"/>
                  </a:cubicBezTo>
                  <a:cubicBezTo>
                    <a:pt x="1138" y="558"/>
                    <a:pt x="1167" y="554"/>
                    <a:pt x="1187" y="569"/>
                  </a:cubicBezTo>
                  <a:cubicBezTo>
                    <a:pt x="1193" y="574"/>
                    <a:pt x="1188" y="589"/>
                    <a:pt x="1195" y="591"/>
                  </a:cubicBezTo>
                  <a:cubicBezTo>
                    <a:pt x="1268" y="613"/>
                    <a:pt x="1348" y="602"/>
                    <a:pt x="1424" y="606"/>
                  </a:cubicBezTo>
                  <a:cubicBezTo>
                    <a:pt x="1470" y="615"/>
                    <a:pt x="1479" y="604"/>
                    <a:pt x="1490" y="650"/>
                  </a:cubicBezTo>
                  <a:cubicBezTo>
                    <a:pt x="1531" y="644"/>
                    <a:pt x="1561" y="632"/>
                    <a:pt x="1601" y="643"/>
                  </a:cubicBezTo>
                  <a:cubicBezTo>
                    <a:pt x="1599" y="650"/>
                    <a:pt x="1588" y="661"/>
                    <a:pt x="1594" y="665"/>
                  </a:cubicBezTo>
                  <a:cubicBezTo>
                    <a:pt x="1602" y="671"/>
                    <a:pt x="1614" y="661"/>
                    <a:pt x="1623" y="658"/>
                  </a:cubicBezTo>
                  <a:cubicBezTo>
                    <a:pt x="1652" y="647"/>
                    <a:pt x="1673" y="635"/>
                    <a:pt x="1704" y="628"/>
                  </a:cubicBezTo>
                  <a:cubicBezTo>
                    <a:pt x="1751" y="596"/>
                    <a:pt x="1749" y="634"/>
                    <a:pt x="1786" y="658"/>
                  </a:cubicBezTo>
                  <a:cubicBezTo>
                    <a:pt x="1847" y="652"/>
                    <a:pt x="1886" y="663"/>
                    <a:pt x="1918" y="613"/>
                  </a:cubicBezTo>
                  <a:cubicBezTo>
                    <a:pt x="1968" y="618"/>
                    <a:pt x="2004" y="626"/>
                    <a:pt x="2051" y="635"/>
                  </a:cubicBezTo>
                  <a:cubicBezTo>
                    <a:pt x="2054" y="628"/>
                    <a:pt x="2052" y="615"/>
                    <a:pt x="2059" y="613"/>
                  </a:cubicBezTo>
                  <a:cubicBezTo>
                    <a:pt x="2142" y="586"/>
                    <a:pt x="2150" y="637"/>
                    <a:pt x="2133" y="584"/>
                  </a:cubicBezTo>
                  <a:cubicBezTo>
                    <a:pt x="2180" y="567"/>
                    <a:pt x="2197" y="608"/>
                    <a:pt x="2229" y="562"/>
                  </a:cubicBezTo>
                  <a:cubicBezTo>
                    <a:pt x="2271" y="572"/>
                    <a:pt x="2306" y="588"/>
                    <a:pt x="2347" y="598"/>
                  </a:cubicBezTo>
                  <a:cubicBezTo>
                    <a:pt x="2359" y="596"/>
                    <a:pt x="2372" y="595"/>
                    <a:pt x="2384" y="591"/>
                  </a:cubicBezTo>
                  <a:cubicBezTo>
                    <a:pt x="2392" y="588"/>
                    <a:pt x="2397" y="577"/>
                    <a:pt x="2406" y="576"/>
                  </a:cubicBezTo>
                  <a:cubicBezTo>
                    <a:pt x="2414" y="575"/>
                    <a:pt x="2421" y="580"/>
                    <a:pt x="2428" y="584"/>
                  </a:cubicBezTo>
                  <a:cubicBezTo>
                    <a:pt x="2469" y="607"/>
                    <a:pt x="2505" y="629"/>
                    <a:pt x="2546" y="650"/>
                  </a:cubicBezTo>
                  <a:cubicBezTo>
                    <a:pt x="2549" y="640"/>
                    <a:pt x="2555" y="631"/>
                    <a:pt x="2554" y="621"/>
                  </a:cubicBezTo>
                  <a:cubicBezTo>
                    <a:pt x="2549" y="569"/>
                    <a:pt x="2500" y="575"/>
                    <a:pt x="2598" y="598"/>
                  </a:cubicBezTo>
                  <a:cubicBezTo>
                    <a:pt x="2658" y="639"/>
                    <a:pt x="2584" y="600"/>
                    <a:pt x="2635" y="591"/>
                  </a:cubicBezTo>
                  <a:cubicBezTo>
                    <a:pt x="2659" y="587"/>
                    <a:pt x="2684" y="596"/>
                    <a:pt x="2709" y="598"/>
                  </a:cubicBezTo>
                  <a:cubicBezTo>
                    <a:pt x="2726" y="593"/>
                    <a:pt x="2746" y="594"/>
                    <a:pt x="2760" y="584"/>
                  </a:cubicBezTo>
                  <a:cubicBezTo>
                    <a:pt x="2775" y="573"/>
                    <a:pt x="2790" y="539"/>
                    <a:pt x="2790" y="539"/>
                  </a:cubicBezTo>
                  <a:cubicBezTo>
                    <a:pt x="2837" y="390"/>
                    <a:pt x="2797" y="525"/>
                    <a:pt x="2797" y="11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72"/>
            <p:cNvSpPr/>
            <p:nvPr/>
          </p:nvSpPr>
          <p:spPr>
            <a:xfrm>
              <a:off x="4946760" y="4718160"/>
              <a:ext cx="4570200" cy="1090440"/>
            </a:xfrm>
            <a:custGeom>
              <a:avLst/>
              <a:gdLst/>
              <a:ahLst/>
              <a:rect l="l" t="t" r="r" b="b"/>
              <a:pathLst>
                <a:path w="2879" h="687">
                  <a:moveTo>
                    <a:pt x="310" y="0"/>
                  </a:moveTo>
                  <a:cubicBezTo>
                    <a:pt x="300" y="7"/>
                    <a:pt x="290" y="14"/>
                    <a:pt x="281" y="22"/>
                  </a:cubicBezTo>
                  <a:cubicBezTo>
                    <a:pt x="273" y="29"/>
                    <a:pt x="267" y="38"/>
                    <a:pt x="259" y="45"/>
                  </a:cubicBezTo>
                  <a:cubicBezTo>
                    <a:pt x="245" y="56"/>
                    <a:pt x="214" y="74"/>
                    <a:pt x="214" y="74"/>
                  </a:cubicBezTo>
                  <a:cubicBezTo>
                    <a:pt x="297" y="128"/>
                    <a:pt x="95" y="57"/>
                    <a:pt x="178" y="111"/>
                  </a:cubicBezTo>
                  <a:cubicBezTo>
                    <a:pt x="166" y="113"/>
                    <a:pt x="154" y="118"/>
                    <a:pt x="141" y="118"/>
                  </a:cubicBezTo>
                  <a:cubicBezTo>
                    <a:pt x="133" y="118"/>
                    <a:pt x="163" y="119"/>
                    <a:pt x="163" y="111"/>
                  </a:cubicBezTo>
                  <a:cubicBezTo>
                    <a:pt x="163" y="103"/>
                    <a:pt x="148" y="106"/>
                    <a:pt x="141" y="104"/>
                  </a:cubicBezTo>
                  <a:cubicBezTo>
                    <a:pt x="129" y="101"/>
                    <a:pt x="116" y="99"/>
                    <a:pt x="104" y="96"/>
                  </a:cubicBezTo>
                  <a:cubicBezTo>
                    <a:pt x="89" y="99"/>
                    <a:pt x="70" y="93"/>
                    <a:pt x="59" y="104"/>
                  </a:cubicBezTo>
                  <a:cubicBezTo>
                    <a:pt x="53" y="110"/>
                    <a:pt x="80" y="109"/>
                    <a:pt x="82" y="118"/>
                  </a:cubicBezTo>
                  <a:cubicBezTo>
                    <a:pt x="84" y="129"/>
                    <a:pt x="77" y="143"/>
                    <a:pt x="67" y="148"/>
                  </a:cubicBezTo>
                  <a:cubicBezTo>
                    <a:pt x="47" y="157"/>
                    <a:pt x="22" y="153"/>
                    <a:pt x="0" y="155"/>
                  </a:cubicBezTo>
                  <a:cubicBezTo>
                    <a:pt x="32" y="162"/>
                    <a:pt x="65" y="159"/>
                    <a:pt x="96" y="170"/>
                  </a:cubicBezTo>
                  <a:cubicBezTo>
                    <a:pt x="113" y="176"/>
                    <a:pt x="141" y="200"/>
                    <a:pt x="141" y="200"/>
                  </a:cubicBezTo>
                  <a:cubicBezTo>
                    <a:pt x="47" y="337"/>
                    <a:pt x="377" y="295"/>
                    <a:pt x="399" y="296"/>
                  </a:cubicBezTo>
                  <a:cubicBezTo>
                    <a:pt x="361" y="325"/>
                    <a:pt x="319" y="363"/>
                    <a:pt x="274" y="377"/>
                  </a:cubicBezTo>
                  <a:cubicBezTo>
                    <a:pt x="269" y="384"/>
                    <a:pt x="252" y="394"/>
                    <a:pt x="259" y="399"/>
                  </a:cubicBezTo>
                  <a:cubicBezTo>
                    <a:pt x="269" y="406"/>
                    <a:pt x="284" y="396"/>
                    <a:pt x="296" y="392"/>
                  </a:cubicBezTo>
                  <a:cubicBezTo>
                    <a:pt x="335" y="380"/>
                    <a:pt x="365" y="369"/>
                    <a:pt x="406" y="362"/>
                  </a:cubicBezTo>
                  <a:cubicBezTo>
                    <a:pt x="519" y="376"/>
                    <a:pt x="467" y="373"/>
                    <a:pt x="421" y="384"/>
                  </a:cubicBezTo>
                  <a:cubicBezTo>
                    <a:pt x="460" y="387"/>
                    <a:pt x="501" y="383"/>
                    <a:pt x="539" y="392"/>
                  </a:cubicBezTo>
                  <a:cubicBezTo>
                    <a:pt x="547" y="394"/>
                    <a:pt x="509" y="402"/>
                    <a:pt x="517" y="406"/>
                  </a:cubicBezTo>
                  <a:cubicBezTo>
                    <a:pt x="542" y="418"/>
                    <a:pt x="598" y="421"/>
                    <a:pt x="598" y="421"/>
                  </a:cubicBezTo>
                  <a:cubicBezTo>
                    <a:pt x="603" y="428"/>
                    <a:pt x="618" y="436"/>
                    <a:pt x="613" y="443"/>
                  </a:cubicBezTo>
                  <a:cubicBezTo>
                    <a:pt x="606" y="453"/>
                    <a:pt x="564" y="448"/>
                    <a:pt x="576" y="451"/>
                  </a:cubicBezTo>
                  <a:cubicBezTo>
                    <a:pt x="612" y="458"/>
                    <a:pt x="650" y="456"/>
                    <a:pt x="687" y="458"/>
                  </a:cubicBezTo>
                  <a:cubicBezTo>
                    <a:pt x="682" y="465"/>
                    <a:pt x="666" y="474"/>
                    <a:pt x="672" y="480"/>
                  </a:cubicBezTo>
                  <a:cubicBezTo>
                    <a:pt x="683" y="491"/>
                    <a:pt x="702" y="486"/>
                    <a:pt x="717" y="488"/>
                  </a:cubicBezTo>
                  <a:cubicBezTo>
                    <a:pt x="739" y="491"/>
                    <a:pt x="761" y="493"/>
                    <a:pt x="783" y="495"/>
                  </a:cubicBezTo>
                  <a:cubicBezTo>
                    <a:pt x="790" y="497"/>
                    <a:pt x="798" y="499"/>
                    <a:pt x="805" y="502"/>
                  </a:cubicBezTo>
                  <a:cubicBezTo>
                    <a:pt x="813" y="506"/>
                    <a:pt x="819" y="514"/>
                    <a:pt x="827" y="517"/>
                  </a:cubicBezTo>
                  <a:cubicBezTo>
                    <a:pt x="849" y="524"/>
                    <a:pt x="872" y="525"/>
                    <a:pt x="894" y="532"/>
                  </a:cubicBezTo>
                  <a:cubicBezTo>
                    <a:pt x="891" y="542"/>
                    <a:pt x="880" y="554"/>
                    <a:pt x="886" y="562"/>
                  </a:cubicBezTo>
                  <a:cubicBezTo>
                    <a:pt x="894" y="572"/>
                    <a:pt x="910" y="568"/>
                    <a:pt x="923" y="569"/>
                  </a:cubicBezTo>
                  <a:cubicBezTo>
                    <a:pt x="967" y="573"/>
                    <a:pt x="1012" y="574"/>
                    <a:pt x="1056" y="576"/>
                  </a:cubicBezTo>
                  <a:cubicBezTo>
                    <a:pt x="1022" y="610"/>
                    <a:pt x="989" y="602"/>
                    <a:pt x="1042" y="628"/>
                  </a:cubicBezTo>
                  <a:cubicBezTo>
                    <a:pt x="1154" y="601"/>
                    <a:pt x="1266" y="590"/>
                    <a:pt x="1381" y="576"/>
                  </a:cubicBezTo>
                  <a:cubicBezTo>
                    <a:pt x="1396" y="579"/>
                    <a:pt x="1426" y="569"/>
                    <a:pt x="1426" y="584"/>
                  </a:cubicBezTo>
                  <a:cubicBezTo>
                    <a:pt x="1426" y="600"/>
                    <a:pt x="1396" y="593"/>
                    <a:pt x="1381" y="598"/>
                  </a:cubicBezTo>
                  <a:cubicBezTo>
                    <a:pt x="1374" y="600"/>
                    <a:pt x="1351" y="606"/>
                    <a:pt x="1359" y="606"/>
                  </a:cubicBezTo>
                  <a:cubicBezTo>
                    <a:pt x="1384" y="606"/>
                    <a:pt x="1408" y="601"/>
                    <a:pt x="1433" y="598"/>
                  </a:cubicBezTo>
                  <a:cubicBezTo>
                    <a:pt x="1484" y="582"/>
                    <a:pt x="1502" y="586"/>
                    <a:pt x="1558" y="598"/>
                  </a:cubicBezTo>
                  <a:cubicBezTo>
                    <a:pt x="1580" y="613"/>
                    <a:pt x="1600" y="620"/>
                    <a:pt x="1625" y="628"/>
                  </a:cubicBezTo>
                  <a:cubicBezTo>
                    <a:pt x="1671" y="674"/>
                    <a:pt x="1630" y="646"/>
                    <a:pt x="1654" y="628"/>
                  </a:cubicBezTo>
                  <a:cubicBezTo>
                    <a:pt x="1662" y="622"/>
                    <a:pt x="1674" y="623"/>
                    <a:pt x="1684" y="621"/>
                  </a:cubicBezTo>
                  <a:cubicBezTo>
                    <a:pt x="1704" y="626"/>
                    <a:pt x="1724" y="628"/>
                    <a:pt x="1743" y="635"/>
                  </a:cubicBezTo>
                  <a:cubicBezTo>
                    <a:pt x="1764" y="643"/>
                    <a:pt x="1802" y="665"/>
                    <a:pt x="1802" y="665"/>
                  </a:cubicBezTo>
                  <a:cubicBezTo>
                    <a:pt x="1797" y="658"/>
                    <a:pt x="1778" y="644"/>
                    <a:pt x="1787" y="643"/>
                  </a:cubicBezTo>
                  <a:cubicBezTo>
                    <a:pt x="1831" y="638"/>
                    <a:pt x="1892" y="673"/>
                    <a:pt x="1935" y="687"/>
                  </a:cubicBezTo>
                  <a:cubicBezTo>
                    <a:pt x="1933" y="677"/>
                    <a:pt x="1919" y="661"/>
                    <a:pt x="1928" y="658"/>
                  </a:cubicBezTo>
                  <a:cubicBezTo>
                    <a:pt x="1959" y="648"/>
                    <a:pt x="2020" y="668"/>
                    <a:pt x="2053" y="680"/>
                  </a:cubicBezTo>
                  <a:cubicBezTo>
                    <a:pt x="2051" y="668"/>
                    <a:pt x="2040" y="654"/>
                    <a:pt x="2046" y="643"/>
                  </a:cubicBezTo>
                  <a:cubicBezTo>
                    <a:pt x="2057" y="621"/>
                    <a:pt x="2114" y="647"/>
                    <a:pt x="2127" y="650"/>
                  </a:cubicBezTo>
                  <a:cubicBezTo>
                    <a:pt x="2177" y="634"/>
                    <a:pt x="2128" y="621"/>
                    <a:pt x="2105" y="606"/>
                  </a:cubicBezTo>
                  <a:cubicBezTo>
                    <a:pt x="2182" y="554"/>
                    <a:pt x="2080" y="617"/>
                    <a:pt x="2304" y="584"/>
                  </a:cubicBezTo>
                  <a:cubicBezTo>
                    <a:pt x="2313" y="583"/>
                    <a:pt x="2246" y="561"/>
                    <a:pt x="2253" y="554"/>
                  </a:cubicBezTo>
                  <a:cubicBezTo>
                    <a:pt x="2260" y="547"/>
                    <a:pt x="2272" y="560"/>
                    <a:pt x="2282" y="562"/>
                  </a:cubicBezTo>
                  <a:cubicBezTo>
                    <a:pt x="2330" y="574"/>
                    <a:pt x="2376" y="580"/>
                    <a:pt x="2422" y="598"/>
                  </a:cubicBezTo>
                  <a:cubicBezTo>
                    <a:pt x="2434" y="596"/>
                    <a:pt x="2450" y="600"/>
                    <a:pt x="2459" y="591"/>
                  </a:cubicBezTo>
                  <a:cubicBezTo>
                    <a:pt x="2465" y="586"/>
                    <a:pt x="2446" y="573"/>
                    <a:pt x="2452" y="569"/>
                  </a:cubicBezTo>
                  <a:cubicBezTo>
                    <a:pt x="2461" y="563"/>
                    <a:pt x="2472" y="574"/>
                    <a:pt x="2482" y="576"/>
                  </a:cubicBezTo>
                  <a:cubicBezTo>
                    <a:pt x="2509" y="597"/>
                    <a:pt x="2532" y="606"/>
                    <a:pt x="2563" y="621"/>
                  </a:cubicBezTo>
                  <a:cubicBezTo>
                    <a:pt x="2568" y="613"/>
                    <a:pt x="2580" y="607"/>
                    <a:pt x="2578" y="598"/>
                  </a:cubicBezTo>
                  <a:cubicBezTo>
                    <a:pt x="2576" y="588"/>
                    <a:pt x="2561" y="585"/>
                    <a:pt x="2555" y="576"/>
                  </a:cubicBezTo>
                  <a:cubicBezTo>
                    <a:pt x="2551" y="570"/>
                    <a:pt x="2540" y="553"/>
                    <a:pt x="2548" y="554"/>
                  </a:cubicBezTo>
                  <a:cubicBezTo>
                    <a:pt x="2580" y="560"/>
                    <a:pt x="2607" y="579"/>
                    <a:pt x="2637" y="591"/>
                  </a:cubicBezTo>
                  <a:cubicBezTo>
                    <a:pt x="2707" y="619"/>
                    <a:pt x="2777" y="641"/>
                    <a:pt x="2851" y="658"/>
                  </a:cubicBezTo>
                  <a:cubicBezTo>
                    <a:pt x="2844" y="643"/>
                    <a:pt x="2841" y="625"/>
                    <a:pt x="2829" y="613"/>
                  </a:cubicBezTo>
                  <a:cubicBezTo>
                    <a:pt x="2808" y="592"/>
                    <a:pt x="2775" y="622"/>
                    <a:pt x="2821" y="591"/>
                  </a:cubicBezTo>
                  <a:cubicBezTo>
                    <a:pt x="2828" y="594"/>
                    <a:pt x="2861" y="613"/>
                    <a:pt x="2873" y="613"/>
                  </a:cubicBezTo>
                  <a:cubicBezTo>
                    <a:pt x="2879" y="613"/>
                    <a:pt x="2863" y="608"/>
                    <a:pt x="2858" y="60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73"/>
            <p:cNvSpPr/>
            <p:nvPr/>
          </p:nvSpPr>
          <p:spPr>
            <a:xfrm>
              <a:off x="5018040" y="4987800"/>
              <a:ext cx="4754520" cy="1360440"/>
            </a:xfrm>
            <a:custGeom>
              <a:avLst/>
              <a:gdLst/>
              <a:ahLst/>
              <a:rect l="l" t="t" r="r" b="b"/>
              <a:pathLst>
                <a:path w="2995" h="857">
                  <a:moveTo>
                    <a:pt x="0" y="0"/>
                  </a:moveTo>
                  <a:cubicBezTo>
                    <a:pt x="8" y="49"/>
                    <a:pt x="5" y="101"/>
                    <a:pt x="22" y="148"/>
                  </a:cubicBezTo>
                  <a:cubicBezTo>
                    <a:pt x="30" y="196"/>
                    <a:pt x="30" y="200"/>
                    <a:pt x="73" y="214"/>
                  </a:cubicBezTo>
                  <a:cubicBezTo>
                    <a:pt x="116" y="255"/>
                    <a:pt x="107" y="282"/>
                    <a:pt x="133" y="332"/>
                  </a:cubicBezTo>
                  <a:cubicBezTo>
                    <a:pt x="141" y="373"/>
                    <a:pt x="151" y="406"/>
                    <a:pt x="169" y="443"/>
                  </a:cubicBezTo>
                  <a:cubicBezTo>
                    <a:pt x="172" y="473"/>
                    <a:pt x="166" y="504"/>
                    <a:pt x="177" y="532"/>
                  </a:cubicBezTo>
                  <a:cubicBezTo>
                    <a:pt x="181" y="541"/>
                    <a:pt x="197" y="535"/>
                    <a:pt x="206" y="539"/>
                  </a:cubicBezTo>
                  <a:cubicBezTo>
                    <a:pt x="273" y="567"/>
                    <a:pt x="176" y="544"/>
                    <a:pt x="265" y="561"/>
                  </a:cubicBezTo>
                  <a:cubicBezTo>
                    <a:pt x="294" y="580"/>
                    <a:pt x="312" y="584"/>
                    <a:pt x="347" y="591"/>
                  </a:cubicBezTo>
                  <a:cubicBezTo>
                    <a:pt x="377" y="611"/>
                    <a:pt x="404" y="622"/>
                    <a:pt x="435" y="643"/>
                  </a:cubicBezTo>
                  <a:cubicBezTo>
                    <a:pt x="444" y="649"/>
                    <a:pt x="447" y="664"/>
                    <a:pt x="457" y="665"/>
                  </a:cubicBezTo>
                  <a:cubicBezTo>
                    <a:pt x="523" y="674"/>
                    <a:pt x="590" y="670"/>
                    <a:pt x="657" y="672"/>
                  </a:cubicBezTo>
                  <a:cubicBezTo>
                    <a:pt x="714" y="701"/>
                    <a:pt x="751" y="704"/>
                    <a:pt x="819" y="709"/>
                  </a:cubicBezTo>
                  <a:cubicBezTo>
                    <a:pt x="890" y="778"/>
                    <a:pt x="864" y="766"/>
                    <a:pt x="982" y="776"/>
                  </a:cubicBezTo>
                  <a:cubicBezTo>
                    <a:pt x="1010" y="785"/>
                    <a:pt x="1012" y="809"/>
                    <a:pt x="1041" y="812"/>
                  </a:cubicBezTo>
                  <a:cubicBezTo>
                    <a:pt x="1095" y="817"/>
                    <a:pt x="1282" y="825"/>
                    <a:pt x="1329" y="827"/>
                  </a:cubicBezTo>
                  <a:cubicBezTo>
                    <a:pt x="1362" y="850"/>
                    <a:pt x="1369" y="850"/>
                    <a:pt x="1410" y="842"/>
                  </a:cubicBezTo>
                  <a:cubicBezTo>
                    <a:pt x="1437" y="831"/>
                    <a:pt x="1464" y="822"/>
                    <a:pt x="1491" y="812"/>
                  </a:cubicBezTo>
                  <a:cubicBezTo>
                    <a:pt x="1501" y="815"/>
                    <a:pt x="1512" y="815"/>
                    <a:pt x="1521" y="820"/>
                  </a:cubicBezTo>
                  <a:cubicBezTo>
                    <a:pt x="1537" y="828"/>
                    <a:pt x="1565" y="849"/>
                    <a:pt x="1565" y="849"/>
                  </a:cubicBezTo>
                  <a:cubicBezTo>
                    <a:pt x="1710" y="834"/>
                    <a:pt x="1856" y="834"/>
                    <a:pt x="2001" y="820"/>
                  </a:cubicBezTo>
                  <a:cubicBezTo>
                    <a:pt x="2089" y="788"/>
                    <a:pt x="1891" y="857"/>
                    <a:pt x="2171" y="805"/>
                  </a:cubicBezTo>
                  <a:cubicBezTo>
                    <a:pt x="2221" y="796"/>
                    <a:pt x="2199" y="771"/>
                    <a:pt x="2237" y="768"/>
                  </a:cubicBezTo>
                  <a:cubicBezTo>
                    <a:pt x="2286" y="764"/>
                    <a:pt x="2336" y="763"/>
                    <a:pt x="2385" y="761"/>
                  </a:cubicBezTo>
                  <a:cubicBezTo>
                    <a:pt x="2524" y="744"/>
                    <a:pt x="2674" y="758"/>
                    <a:pt x="2813" y="753"/>
                  </a:cubicBezTo>
                  <a:cubicBezTo>
                    <a:pt x="2995" y="734"/>
                    <a:pt x="2880" y="768"/>
                    <a:pt x="2880" y="39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674"/>
            <p:cNvSpPr/>
            <p:nvPr/>
          </p:nvSpPr>
          <p:spPr>
            <a:xfrm>
              <a:off x="4946760" y="5018040"/>
              <a:ext cx="2430360" cy="1154160"/>
            </a:xfrm>
            <a:custGeom>
              <a:avLst/>
              <a:gdLst/>
              <a:ahLst/>
              <a:rect l="l" t="t" r="r" b="b"/>
              <a:pathLst>
                <a:path w="1531" h="727">
                  <a:moveTo>
                    <a:pt x="52" y="51"/>
                  </a:moveTo>
                  <a:cubicBezTo>
                    <a:pt x="54" y="83"/>
                    <a:pt x="59" y="115"/>
                    <a:pt x="59" y="147"/>
                  </a:cubicBezTo>
                  <a:cubicBezTo>
                    <a:pt x="59" y="174"/>
                    <a:pt x="55" y="93"/>
                    <a:pt x="52" y="66"/>
                  </a:cubicBezTo>
                  <a:cubicBezTo>
                    <a:pt x="50" y="51"/>
                    <a:pt x="48" y="36"/>
                    <a:pt x="45" y="22"/>
                  </a:cubicBezTo>
                  <a:cubicBezTo>
                    <a:pt x="43" y="14"/>
                    <a:pt x="40" y="7"/>
                    <a:pt x="37" y="0"/>
                  </a:cubicBezTo>
                  <a:cubicBezTo>
                    <a:pt x="46" y="66"/>
                    <a:pt x="69" y="128"/>
                    <a:pt x="89" y="192"/>
                  </a:cubicBezTo>
                  <a:cubicBezTo>
                    <a:pt x="107" y="57"/>
                    <a:pt x="100" y="226"/>
                    <a:pt x="111" y="273"/>
                  </a:cubicBezTo>
                  <a:cubicBezTo>
                    <a:pt x="113" y="261"/>
                    <a:pt x="108" y="243"/>
                    <a:pt x="118" y="236"/>
                  </a:cubicBezTo>
                  <a:cubicBezTo>
                    <a:pt x="125" y="231"/>
                    <a:pt x="130" y="250"/>
                    <a:pt x="133" y="258"/>
                  </a:cubicBezTo>
                  <a:cubicBezTo>
                    <a:pt x="140" y="275"/>
                    <a:pt x="142" y="293"/>
                    <a:pt x="148" y="310"/>
                  </a:cubicBezTo>
                  <a:cubicBezTo>
                    <a:pt x="160" y="342"/>
                    <a:pt x="168" y="351"/>
                    <a:pt x="185" y="376"/>
                  </a:cubicBezTo>
                  <a:cubicBezTo>
                    <a:pt x="187" y="386"/>
                    <a:pt x="182" y="406"/>
                    <a:pt x="192" y="406"/>
                  </a:cubicBezTo>
                  <a:cubicBezTo>
                    <a:pt x="202" y="406"/>
                    <a:pt x="200" y="366"/>
                    <a:pt x="200" y="376"/>
                  </a:cubicBezTo>
                  <a:cubicBezTo>
                    <a:pt x="200" y="398"/>
                    <a:pt x="195" y="421"/>
                    <a:pt x="192" y="443"/>
                  </a:cubicBezTo>
                  <a:cubicBezTo>
                    <a:pt x="206" y="581"/>
                    <a:pt x="206" y="513"/>
                    <a:pt x="214" y="450"/>
                  </a:cubicBezTo>
                  <a:cubicBezTo>
                    <a:pt x="232" y="499"/>
                    <a:pt x="217" y="466"/>
                    <a:pt x="274" y="539"/>
                  </a:cubicBezTo>
                  <a:cubicBezTo>
                    <a:pt x="279" y="546"/>
                    <a:pt x="265" y="524"/>
                    <a:pt x="259" y="517"/>
                  </a:cubicBezTo>
                  <a:cubicBezTo>
                    <a:pt x="252" y="509"/>
                    <a:pt x="227" y="497"/>
                    <a:pt x="237" y="494"/>
                  </a:cubicBezTo>
                  <a:cubicBezTo>
                    <a:pt x="254" y="489"/>
                    <a:pt x="271" y="504"/>
                    <a:pt x="288" y="509"/>
                  </a:cubicBezTo>
                  <a:cubicBezTo>
                    <a:pt x="295" y="514"/>
                    <a:pt x="301" y="526"/>
                    <a:pt x="310" y="524"/>
                  </a:cubicBezTo>
                  <a:cubicBezTo>
                    <a:pt x="318" y="522"/>
                    <a:pt x="323" y="508"/>
                    <a:pt x="318" y="502"/>
                  </a:cubicBezTo>
                  <a:cubicBezTo>
                    <a:pt x="303" y="482"/>
                    <a:pt x="279" y="472"/>
                    <a:pt x="259" y="457"/>
                  </a:cubicBezTo>
                  <a:cubicBezTo>
                    <a:pt x="252" y="452"/>
                    <a:pt x="289" y="476"/>
                    <a:pt x="281" y="472"/>
                  </a:cubicBezTo>
                  <a:cubicBezTo>
                    <a:pt x="200" y="434"/>
                    <a:pt x="278" y="461"/>
                    <a:pt x="222" y="443"/>
                  </a:cubicBezTo>
                  <a:cubicBezTo>
                    <a:pt x="188" y="409"/>
                    <a:pt x="196" y="420"/>
                    <a:pt x="222" y="435"/>
                  </a:cubicBezTo>
                  <a:cubicBezTo>
                    <a:pt x="251" y="452"/>
                    <a:pt x="246" y="448"/>
                    <a:pt x="274" y="457"/>
                  </a:cubicBezTo>
                  <a:cubicBezTo>
                    <a:pt x="286" y="421"/>
                    <a:pt x="287" y="440"/>
                    <a:pt x="244" y="413"/>
                  </a:cubicBezTo>
                  <a:cubicBezTo>
                    <a:pt x="236" y="408"/>
                    <a:pt x="216" y="404"/>
                    <a:pt x="222" y="398"/>
                  </a:cubicBezTo>
                  <a:cubicBezTo>
                    <a:pt x="228" y="392"/>
                    <a:pt x="280" y="420"/>
                    <a:pt x="281" y="421"/>
                  </a:cubicBezTo>
                  <a:cubicBezTo>
                    <a:pt x="289" y="425"/>
                    <a:pt x="307" y="443"/>
                    <a:pt x="303" y="435"/>
                  </a:cubicBezTo>
                  <a:cubicBezTo>
                    <a:pt x="290" y="408"/>
                    <a:pt x="274" y="406"/>
                    <a:pt x="251" y="398"/>
                  </a:cubicBezTo>
                  <a:cubicBezTo>
                    <a:pt x="217" y="372"/>
                    <a:pt x="162" y="363"/>
                    <a:pt x="244" y="376"/>
                  </a:cubicBezTo>
                  <a:cubicBezTo>
                    <a:pt x="251" y="381"/>
                    <a:pt x="274" y="395"/>
                    <a:pt x="266" y="391"/>
                  </a:cubicBezTo>
                  <a:cubicBezTo>
                    <a:pt x="241" y="377"/>
                    <a:pt x="212" y="367"/>
                    <a:pt x="192" y="347"/>
                  </a:cubicBezTo>
                  <a:cubicBezTo>
                    <a:pt x="185" y="340"/>
                    <a:pt x="161" y="331"/>
                    <a:pt x="170" y="325"/>
                  </a:cubicBezTo>
                  <a:cubicBezTo>
                    <a:pt x="182" y="317"/>
                    <a:pt x="199" y="330"/>
                    <a:pt x="214" y="332"/>
                  </a:cubicBezTo>
                  <a:cubicBezTo>
                    <a:pt x="244" y="344"/>
                    <a:pt x="273" y="358"/>
                    <a:pt x="303" y="369"/>
                  </a:cubicBezTo>
                  <a:cubicBezTo>
                    <a:pt x="266" y="341"/>
                    <a:pt x="232" y="327"/>
                    <a:pt x="192" y="302"/>
                  </a:cubicBezTo>
                  <a:cubicBezTo>
                    <a:pt x="185" y="297"/>
                    <a:pt x="170" y="297"/>
                    <a:pt x="170" y="288"/>
                  </a:cubicBezTo>
                  <a:cubicBezTo>
                    <a:pt x="170" y="280"/>
                    <a:pt x="185" y="292"/>
                    <a:pt x="192" y="295"/>
                  </a:cubicBezTo>
                  <a:cubicBezTo>
                    <a:pt x="202" y="299"/>
                    <a:pt x="214" y="303"/>
                    <a:pt x="222" y="310"/>
                  </a:cubicBezTo>
                  <a:cubicBezTo>
                    <a:pt x="228" y="315"/>
                    <a:pt x="207" y="305"/>
                    <a:pt x="200" y="302"/>
                  </a:cubicBezTo>
                  <a:cubicBezTo>
                    <a:pt x="162" y="283"/>
                    <a:pt x="192" y="290"/>
                    <a:pt x="148" y="265"/>
                  </a:cubicBezTo>
                  <a:cubicBezTo>
                    <a:pt x="141" y="261"/>
                    <a:pt x="121" y="252"/>
                    <a:pt x="126" y="258"/>
                  </a:cubicBezTo>
                  <a:cubicBezTo>
                    <a:pt x="141" y="275"/>
                    <a:pt x="173" y="275"/>
                    <a:pt x="192" y="280"/>
                  </a:cubicBezTo>
                  <a:cubicBezTo>
                    <a:pt x="200" y="282"/>
                    <a:pt x="220" y="294"/>
                    <a:pt x="214" y="288"/>
                  </a:cubicBezTo>
                  <a:cubicBezTo>
                    <a:pt x="199" y="273"/>
                    <a:pt x="147" y="245"/>
                    <a:pt x="126" y="236"/>
                  </a:cubicBezTo>
                  <a:cubicBezTo>
                    <a:pt x="116" y="232"/>
                    <a:pt x="96" y="232"/>
                    <a:pt x="96" y="221"/>
                  </a:cubicBezTo>
                  <a:cubicBezTo>
                    <a:pt x="96" y="211"/>
                    <a:pt x="116" y="227"/>
                    <a:pt x="126" y="229"/>
                  </a:cubicBezTo>
                  <a:cubicBezTo>
                    <a:pt x="141" y="232"/>
                    <a:pt x="155" y="234"/>
                    <a:pt x="170" y="236"/>
                  </a:cubicBezTo>
                  <a:cubicBezTo>
                    <a:pt x="165" y="233"/>
                    <a:pt x="83" y="186"/>
                    <a:pt x="74" y="177"/>
                  </a:cubicBezTo>
                  <a:cubicBezTo>
                    <a:pt x="63" y="166"/>
                    <a:pt x="129" y="203"/>
                    <a:pt x="118" y="192"/>
                  </a:cubicBezTo>
                  <a:cubicBezTo>
                    <a:pt x="92" y="164"/>
                    <a:pt x="86" y="174"/>
                    <a:pt x="59" y="162"/>
                  </a:cubicBezTo>
                  <a:cubicBezTo>
                    <a:pt x="49" y="158"/>
                    <a:pt x="19" y="149"/>
                    <a:pt x="30" y="147"/>
                  </a:cubicBezTo>
                  <a:cubicBezTo>
                    <a:pt x="55" y="143"/>
                    <a:pt x="79" y="152"/>
                    <a:pt x="104" y="155"/>
                  </a:cubicBezTo>
                  <a:cubicBezTo>
                    <a:pt x="93" y="124"/>
                    <a:pt x="59" y="105"/>
                    <a:pt x="30" y="88"/>
                  </a:cubicBezTo>
                  <a:cubicBezTo>
                    <a:pt x="23" y="84"/>
                    <a:pt x="0" y="81"/>
                    <a:pt x="8" y="81"/>
                  </a:cubicBezTo>
                  <a:cubicBezTo>
                    <a:pt x="18" y="81"/>
                    <a:pt x="27" y="86"/>
                    <a:pt x="37" y="88"/>
                  </a:cubicBezTo>
                  <a:cubicBezTo>
                    <a:pt x="47" y="93"/>
                    <a:pt x="57" y="99"/>
                    <a:pt x="67" y="103"/>
                  </a:cubicBezTo>
                  <a:cubicBezTo>
                    <a:pt x="74" y="106"/>
                    <a:pt x="89" y="118"/>
                    <a:pt x="89" y="110"/>
                  </a:cubicBezTo>
                  <a:cubicBezTo>
                    <a:pt x="89" y="91"/>
                    <a:pt x="57" y="85"/>
                    <a:pt x="45" y="81"/>
                  </a:cubicBezTo>
                  <a:cubicBezTo>
                    <a:pt x="57" y="78"/>
                    <a:pt x="70" y="69"/>
                    <a:pt x="82" y="73"/>
                  </a:cubicBezTo>
                  <a:cubicBezTo>
                    <a:pt x="82" y="73"/>
                    <a:pt x="125" y="139"/>
                    <a:pt x="133" y="147"/>
                  </a:cubicBezTo>
                  <a:cubicBezTo>
                    <a:pt x="136" y="154"/>
                    <a:pt x="136" y="163"/>
                    <a:pt x="141" y="169"/>
                  </a:cubicBezTo>
                  <a:cubicBezTo>
                    <a:pt x="147" y="176"/>
                    <a:pt x="165" y="193"/>
                    <a:pt x="163" y="184"/>
                  </a:cubicBezTo>
                  <a:cubicBezTo>
                    <a:pt x="158" y="167"/>
                    <a:pt x="133" y="140"/>
                    <a:pt x="133" y="140"/>
                  </a:cubicBezTo>
                  <a:cubicBezTo>
                    <a:pt x="131" y="133"/>
                    <a:pt x="129" y="125"/>
                    <a:pt x="126" y="118"/>
                  </a:cubicBezTo>
                  <a:cubicBezTo>
                    <a:pt x="122" y="110"/>
                    <a:pt x="111" y="87"/>
                    <a:pt x="111" y="96"/>
                  </a:cubicBezTo>
                  <a:cubicBezTo>
                    <a:pt x="111" y="115"/>
                    <a:pt x="140" y="154"/>
                    <a:pt x="148" y="169"/>
                  </a:cubicBezTo>
                  <a:cubicBezTo>
                    <a:pt x="167" y="206"/>
                    <a:pt x="170" y="253"/>
                    <a:pt x="192" y="288"/>
                  </a:cubicBezTo>
                  <a:cubicBezTo>
                    <a:pt x="225" y="340"/>
                    <a:pt x="260" y="370"/>
                    <a:pt x="303" y="413"/>
                  </a:cubicBezTo>
                  <a:cubicBezTo>
                    <a:pt x="309" y="419"/>
                    <a:pt x="325" y="419"/>
                    <a:pt x="325" y="428"/>
                  </a:cubicBezTo>
                  <a:cubicBezTo>
                    <a:pt x="325" y="436"/>
                    <a:pt x="310" y="423"/>
                    <a:pt x="303" y="421"/>
                  </a:cubicBezTo>
                  <a:cubicBezTo>
                    <a:pt x="296" y="413"/>
                    <a:pt x="279" y="388"/>
                    <a:pt x="281" y="398"/>
                  </a:cubicBezTo>
                  <a:cubicBezTo>
                    <a:pt x="285" y="420"/>
                    <a:pt x="310" y="457"/>
                    <a:pt x="310" y="457"/>
                  </a:cubicBezTo>
                  <a:cubicBezTo>
                    <a:pt x="305" y="465"/>
                    <a:pt x="305" y="480"/>
                    <a:pt x="296" y="480"/>
                  </a:cubicBezTo>
                  <a:cubicBezTo>
                    <a:pt x="287" y="480"/>
                    <a:pt x="286" y="464"/>
                    <a:pt x="281" y="457"/>
                  </a:cubicBezTo>
                  <a:cubicBezTo>
                    <a:pt x="274" y="447"/>
                    <a:pt x="266" y="438"/>
                    <a:pt x="259" y="428"/>
                  </a:cubicBezTo>
                  <a:cubicBezTo>
                    <a:pt x="256" y="421"/>
                    <a:pt x="243" y="405"/>
                    <a:pt x="251" y="406"/>
                  </a:cubicBezTo>
                  <a:cubicBezTo>
                    <a:pt x="269" y="409"/>
                    <a:pt x="296" y="435"/>
                    <a:pt x="296" y="435"/>
                  </a:cubicBezTo>
                  <a:cubicBezTo>
                    <a:pt x="301" y="442"/>
                    <a:pt x="319" y="457"/>
                    <a:pt x="310" y="457"/>
                  </a:cubicBezTo>
                  <a:cubicBezTo>
                    <a:pt x="294" y="457"/>
                    <a:pt x="278" y="414"/>
                    <a:pt x="274" y="406"/>
                  </a:cubicBezTo>
                  <a:cubicBezTo>
                    <a:pt x="256" y="373"/>
                    <a:pt x="237" y="344"/>
                    <a:pt x="222" y="310"/>
                  </a:cubicBezTo>
                  <a:cubicBezTo>
                    <a:pt x="217" y="300"/>
                    <a:pt x="213" y="289"/>
                    <a:pt x="207" y="280"/>
                  </a:cubicBezTo>
                  <a:cubicBezTo>
                    <a:pt x="201" y="272"/>
                    <a:pt x="178" y="265"/>
                    <a:pt x="185" y="258"/>
                  </a:cubicBezTo>
                  <a:cubicBezTo>
                    <a:pt x="194" y="249"/>
                    <a:pt x="210" y="263"/>
                    <a:pt x="222" y="265"/>
                  </a:cubicBezTo>
                  <a:cubicBezTo>
                    <a:pt x="229" y="270"/>
                    <a:pt x="238" y="286"/>
                    <a:pt x="244" y="280"/>
                  </a:cubicBezTo>
                  <a:cubicBezTo>
                    <a:pt x="251" y="273"/>
                    <a:pt x="240" y="260"/>
                    <a:pt x="237" y="251"/>
                  </a:cubicBezTo>
                  <a:cubicBezTo>
                    <a:pt x="224" y="213"/>
                    <a:pt x="206" y="190"/>
                    <a:pt x="178" y="162"/>
                  </a:cubicBezTo>
                  <a:cubicBezTo>
                    <a:pt x="193" y="132"/>
                    <a:pt x="194" y="114"/>
                    <a:pt x="222" y="96"/>
                  </a:cubicBezTo>
                  <a:cubicBezTo>
                    <a:pt x="232" y="101"/>
                    <a:pt x="243" y="102"/>
                    <a:pt x="251" y="110"/>
                  </a:cubicBezTo>
                  <a:cubicBezTo>
                    <a:pt x="269" y="128"/>
                    <a:pt x="260" y="152"/>
                    <a:pt x="288" y="162"/>
                  </a:cubicBezTo>
                  <a:cubicBezTo>
                    <a:pt x="307" y="169"/>
                    <a:pt x="327" y="167"/>
                    <a:pt x="347" y="169"/>
                  </a:cubicBezTo>
                  <a:cubicBezTo>
                    <a:pt x="357" y="179"/>
                    <a:pt x="369" y="188"/>
                    <a:pt x="377" y="199"/>
                  </a:cubicBezTo>
                  <a:cubicBezTo>
                    <a:pt x="402" y="232"/>
                    <a:pt x="388" y="260"/>
                    <a:pt x="399" y="177"/>
                  </a:cubicBezTo>
                  <a:cubicBezTo>
                    <a:pt x="404" y="189"/>
                    <a:pt x="411" y="201"/>
                    <a:pt x="414" y="214"/>
                  </a:cubicBezTo>
                  <a:cubicBezTo>
                    <a:pt x="419" y="238"/>
                    <a:pt x="412" y="265"/>
                    <a:pt x="421" y="288"/>
                  </a:cubicBezTo>
                  <a:cubicBezTo>
                    <a:pt x="426" y="300"/>
                    <a:pt x="426" y="263"/>
                    <a:pt x="429" y="251"/>
                  </a:cubicBezTo>
                  <a:cubicBezTo>
                    <a:pt x="436" y="222"/>
                    <a:pt x="432" y="231"/>
                    <a:pt x="458" y="214"/>
                  </a:cubicBezTo>
                  <a:cubicBezTo>
                    <a:pt x="456" y="266"/>
                    <a:pt x="458" y="318"/>
                    <a:pt x="451" y="369"/>
                  </a:cubicBezTo>
                  <a:cubicBezTo>
                    <a:pt x="449" y="384"/>
                    <a:pt x="443" y="310"/>
                    <a:pt x="443" y="325"/>
                  </a:cubicBezTo>
                  <a:cubicBezTo>
                    <a:pt x="443" y="369"/>
                    <a:pt x="445" y="413"/>
                    <a:pt x="451" y="457"/>
                  </a:cubicBezTo>
                  <a:cubicBezTo>
                    <a:pt x="451" y="459"/>
                    <a:pt x="493" y="531"/>
                    <a:pt x="488" y="531"/>
                  </a:cubicBezTo>
                  <a:cubicBezTo>
                    <a:pt x="479" y="531"/>
                    <a:pt x="480" y="515"/>
                    <a:pt x="473" y="509"/>
                  </a:cubicBezTo>
                  <a:cubicBezTo>
                    <a:pt x="415" y="457"/>
                    <a:pt x="395" y="455"/>
                    <a:pt x="377" y="376"/>
                  </a:cubicBezTo>
                  <a:cubicBezTo>
                    <a:pt x="416" y="350"/>
                    <a:pt x="412" y="377"/>
                    <a:pt x="451" y="406"/>
                  </a:cubicBezTo>
                  <a:cubicBezTo>
                    <a:pt x="459" y="440"/>
                    <a:pt x="477" y="452"/>
                    <a:pt x="495" y="480"/>
                  </a:cubicBezTo>
                  <a:cubicBezTo>
                    <a:pt x="497" y="492"/>
                    <a:pt x="511" y="508"/>
                    <a:pt x="502" y="517"/>
                  </a:cubicBezTo>
                  <a:cubicBezTo>
                    <a:pt x="494" y="525"/>
                    <a:pt x="482" y="508"/>
                    <a:pt x="473" y="502"/>
                  </a:cubicBezTo>
                  <a:cubicBezTo>
                    <a:pt x="465" y="496"/>
                    <a:pt x="444" y="487"/>
                    <a:pt x="451" y="480"/>
                  </a:cubicBezTo>
                  <a:cubicBezTo>
                    <a:pt x="460" y="471"/>
                    <a:pt x="476" y="485"/>
                    <a:pt x="488" y="487"/>
                  </a:cubicBezTo>
                  <a:cubicBezTo>
                    <a:pt x="513" y="541"/>
                    <a:pt x="502" y="511"/>
                    <a:pt x="480" y="487"/>
                  </a:cubicBezTo>
                  <a:cubicBezTo>
                    <a:pt x="412" y="411"/>
                    <a:pt x="455" y="471"/>
                    <a:pt x="421" y="421"/>
                  </a:cubicBezTo>
                  <a:cubicBezTo>
                    <a:pt x="398" y="345"/>
                    <a:pt x="485" y="423"/>
                    <a:pt x="502" y="443"/>
                  </a:cubicBezTo>
                  <a:cubicBezTo>
                    <a:pt x="508" y="450"/>
                    <a:pt x="523" y="459"/>
                    <a:pt x="517" y="465"/>
                  </a:cubicBezTo>
                  <a:cubicBezTo>
                    <a:pt x="511" y="471"/>
                    <a:pt x="503" y="454"/>
                    <a:pt x="495" y="450"/>
                  </a:cubicBezTo>
                  <a:cubicBezTo>
                    <a:pt x="481" y="442"/>
                    <a:pt x="465" y="437"/>
                    <a:pt x="451" y="428"/>
                  </a:cubicBezTo>
                  <a:cubicBezTo>
                    <a:pt x="442" y="422"/>
                    <a:pt x="420" y="412"/>
                    <a:pt x="429" y="406"/>
                  </a:cubicBezTo>
                  <a:cubicBezTo>
                    <a:pt x="441" y="398"/>
                    <a:pt x="458" y="411"/>
                    <a:pt x="473" y="413"/>
                  </a:cubicBezTo>
                  <a:cubicBezTo>
                    <a:pt x="460" y="358"/>
                    <a:pt x="459" y="356"/>
                    <a:pt x="466" y="288"/>
                  </a:cubicBezTo>
                  <a:cubicBezTo>
                    <a:pt x="476" y="320"/>
                    <a:pt x="479" y="352"/>
                    <a:pt x="488" y="384"/>
                  </a:cubicBezTo>
                  <a:cubicBezTo>
                    <a:pt x="512" y="473"/>
                    <a:pt x="494" y="370"/>
                    <a:pt x="510" y="457"/>
                  </a:cubicBezTo>
                  <a:cubicBezTo>
                    <a:pt x="513" y="472"/>
                    <a:pt x="514" y="487"/>
                    <a:pt x="517" y="502"/>
                  </a:cubicBezTo>
                  <a:cubicBezTo>
                    <a:pt x="519" y="510"/>
                    <a:pt x="533" y="522"/>
                    <a:pt x="525" y="524"/>
                  </a:cubicBezTo>
                  <a:cubicBezTo>
                    <a:pt x="512" y="527"/>
                    <a:pt x="500" y="514"/>
                    <a:pt x="488" y="509"/>
                  </a:cubicBezTo>
                  <a:cubicBezTo>
                    <a:pt x="465" y="476"/>
                    <a:pt x="454" y="444"/>
                    <a:pt x="443" y="406"/>
                  </a:cubicBezTo>
                  <a:cubicBezTo>
                    <a:pt x="440" y="381"/>
                    <a:pt x="428" y="316"/>
                    <a:pt x="443" y="288"/>
                  </a:cubicBezTo>
                  <a:cubicBezTo>
                    <a:pt x="447" y="281"/>
                    <a:pt x="449" y="302"/>
                    <a:pt x="451" y="310"/>
                  </a:cubicBezTo>
                  <a:cubicBezTo>
                    <a:pt x="454" y="322"/>
                    <a:pt x="455" y="335"/>
                    <a:pt x="458" y="347"/>
                  </a:cubicBezTo>
                  <a:cubicBezTo>
                    <a:pt x="464" y="371"/>
                    <a:pt x="480" y="390"/>
                    <a:pt x="488" y="413"/>
                  </a:cubicBezTo>
                  <a:cubicBezTo>
                    <a:pt x="485" y="393"/>
                    <a:pt x="471" y="372"/>
                    <a:pt x="480" y="354"/>
                  </a:cubicBezTo>
                  <a:cubicBezTo>
                    <a:pt x="490" y="333"/>
                    <a:pt x="525" y="391"/>
                    <a:pt x="525" y="391"/>
                  </a:cubicBezTo>
                  <a:cubicBezTo>
                    <a:pt x="516" y="382"/>
                    <a:pt x="511" y="369"/>
                    <a:pt x="502" y="361"/>
                  </a:cubicBezTo>
                  <a:cubicBezTo>
                    <a:pt x="489" y="349"/>
                    <a:pt x="470" y="344"/>
                    <a:pt x="458" y="332"/>
                  </a:cubicBezTo>
                  <a:cubicBezTo>
                    <a:pt x="443" y="317"/>
                    <a:pt x="414" y="288"/>
                    <a:pt x="414" y="288"/>
                  </a:cubicBezTo>
                  <a:cubicBezTo>
                    <a:pt x="424" y="285"/>
                    <a:pt x="433" y="279"/>
                    <a:pt x="443" y="280"/>
                  </a:cubicBezTo>
                  <a:cubicBezTo>
                    <a:pt x="452" y="281"/>
                    <a:pt x="460" y="301"/>
                    <a:pt x="466" y="295"/>
                  </a:cubicBezTo>
                  <a:cubicBezTo>
                    <a:pt x="481" y="280"/>
                    <a:pt x="423" y="242"/>
                    <a:pt x="443" y="236"/>
                  </a:cubicBezTo>
                  <a:cubicBezTo>
                    <a:pt x="462" y="230"/>
                    <a:pt x="511" y="255"/>
                    <a:pt x="532" y="265"/>
                  </a:cubicBezTo>
                  <a:cubicBezTo>
                    <a:pt x="534" y="255"/>
                    <a:pt x="530" y="240"/>
                    <a:pt x="539" y="236"/>
                  </a:cubicBezTo>
                  <a:cubicBezTo>
                    <a:pt x="549" y="232"/>
                    <a:pt x="559" y="247"/>
                    <a:pt x="569" y="251"/>
                  </a:cubicBezTo>
                  <a:cubicBezTo>
                    <a:pt x="588" y="259"/>
                    <a:pt x="608" y="261"/>
                    <a:pt x="628" y="265"/>
                  </a:cubicBezTo>
                  <a:cubicBezTo>
                    <a:pt x="650" y="289"/>
                    <a:pt x="668" y="292"/>
                    <a:pt x="694" y="310"/>
                  </a:cubicBezTo>
                  <a:cubicBezTo>
                    <a:pt x="730" y="362"/>
                    <a:pt x="757" y="360"/>
                    <a:pt x="820" y="369"/>
                  </a:cubicBezTo>
                  <a:cubicBezTo>
                    <a:pt x="812" y="445"/>
                    <a:pt x="806" y="473"/>
                    <a:pt x="813" y="553"/>
                  </a:cubicBezTo>
                  <a:cubicBezTo>
                    <a:pt x="826" y="408"/>
                    <a:pt x="816" y="483"/>
                    <a:pt x="835" y="531"/>
                  </a:cubicBezTo>
                  <a:cubicBezTo>
                    <a:pt x="845" y="556"/>
                    <a:pt x="856" y="556"/>
                    <a:pt x="879" y="568"/>
                  </a:cubicBezTo>
                  <a:cubicBezTo>
                    <a:pt x="917" y="644"/>
                    <a:pt x="848" y="544"/>
                    <a:pt x="835" y="531"/>
                  </a:cubicBezTo>
                  <a:cubicBezTo>
                    <a:pt x="832" y="521"/>
                    <a:pt x="820" y="509"/>
                    <a:pt x="827" y="502"/>
                  </a:cubicBezTo>
                  <a:cubicBezTo>
                    <a:pt x="834" y="495"/>
                    <a:pt x="847" y="505"/>
                    <a:pt x="857" y="509"/>
                  </a:cubicBezTo>
                  <a:cubicBezTo>
                    <a:pt x="888" y="521"/>
                    <a:pt x="891" y="529"/>
                    <a:pt x="916" y="553"/>
                  </a:cubicBezTo>
                  <a:cubicBezTo>
                    <a:pt x="895" y="503"/>
                    <a:pt x="871" y="494"/>
                    <a:pt x="827" y="472"/>
                  </a:cubicBezTo>
                  <a:cubicBezTo>
                    <a:pt x="795" y="421"/>
                    <a:pt x="840" y="456"/>
                    <a:pt x="864" y="465"/>
                  </a:cubicBezTo>
                  <a:cubicBezTo>
                    <a:pt x="844" y="422"/>
                    <a:pt x="837" y="438"/>
                    <a:pt x="805" y="406"/>
                  </a:cubicBezTo>
                  <a:cubicBezTo>
                    <a:pt x="812" y="403"/>
                    <a:pt x="819" y="398"/>
                    <a:pt x="827" y="398"/>
                  </a:cubicBezTo>
                  <a:cubicBezTo>
                    <a:pt x="837" y="398"/>
                    <a:pt x="851" y="414"/>
                    <a:pt x="857" y="406"/>
                  </a:cubicBezTo>
                  <a:cubicBezTo>
                    <a:pt x="865" y="396"/>
                    <a:pt x="841" y="378"/>
                    <a:pt x="850" y="369"/>
                  </a:cubicBezTo>
                  <a:cubicBezTo>
                    <a:pt x="858" y="360"/>
                    <a:pt x="874" y="373"/>
                    <a:pt x="886" y="376"/>
                  </a:cubicBezTo>
                  <a:cubicBezTo>
                    <a:pt x="916" y="384"/>
                    <a:pt x="946" y="395"/>
                    <a:pt x="975" y="406"/>
                  </a:cubicBezTo>
                  <a:cubicBezTo>
                    <a:pt x="1018" y="437"/>
                    <a:pt x="1057" y="445"/>
                    <a:pt x="1108" y="457"/>
                  </a:cubicBezTo>
                  <a:cubicBezTo>
                    <a:pt x="1128" y="455"/>
                    <a:pt x="1149" y="458"/>
                    <a:pt x="1167" y="450"/>
                  </a:cubicBezTo>
                  <a:cubicBezTo>
                    <a:pt x="1174" y="447"/>
                    <a:pt x="1166" y="428"/>
                    <a:pt x="1174" y="428"/>
                  </a:cubicBezTo>
                  <a:cubicBezTo>
                    <a:pt x="1194" y="428"/>
                    <a:pt x="1206" y="456"/>
                    <a:pt x="1226" y="457"/>
                  </a:cubicBezTo>
                  <a:cubicBezTo>
                    <a:pt x="1305" y="461"/>
                    <a:pt x="1383" y="462"/>
                    <a:pt x="1462" y="465"/>
                  </a:cubicBezTo>
                  <a:cubicBezTo>
                    <a:pt x="1468" y="533"/>
                    <a:pt x="1465" y="553"/>
                    <a:pt x="1492" y="605"/>
                  </a:cubicBezTo>
                  <a:cubicBezTo>
                    <a:pt x="1509" y="551"/>
                    <a:pt x="1492" y="596"/>
                    <a:pt x="1507" y="664"/>
                  </a:cubicBezTo>
                  <a:cubicBezTo>
                    <a:pt x="1509" y="673"/>
                    <a:pt x="1529" y="691"/>
                    <a:pt x="1522" y="686"/>
                  </a:cubicBezTo>
                  <a:cubicBezTo>
                    <a:pt x="1505" y="673"/>
                    <a:pt x="1428" y="608"/>
                    <a:pt x="1411" y="590"/>
                  </a:cubicBezTo>
                  <a:cubicBezTo>
                    <a:pt x="1401" y="555"/>
                    <a:pt x="1377" y="537"/>
                    <a:pt x="1418" y="524"/>
                  </a:cubicBezTo>
                  <a:cubicBezTo>
                    <a:pt x="1439" y="540"/>
                    <a:pt x="1464" y="551"/>
                    <a:pt x="1485" y="568"/>
                  </a:cubicBezTo>
                  <a:cubicBezTo>
                    <a:pt x="1501" y="581"/>
                    <a:pt x="1529" y="613"/>
                    <a:pt x="1529" y="613"/>
                  </a:cubicBezTo>
                  <a:cubicBezTo>
                    <a:pt x="1524" y="596"/>
                    <a:pt x="1524" y="576"/>
                    <a:pt x="1514" y="561"/>
                  </a:cubicBezTo>
                  <a:cubicBezTo>
                    <a:pt x="1507" y="550"/>
                    <a:pt x="1448" y="497"/>
                    <a:pt x="1433" y="487"/>
                  </a:cubicBezTo>
                  <a:cubicBezTo>
                    <a:pt x="1431" y="480"/>
                    <a:pt x="1419" y="462"/>
                    <a:pt x="1426" y="465"/>
                  </a:cubicBezTo>
                  <a:cubicBezTo>
                    <a:pt x="1437" y="470"/>
                    <a:pt x="1440" y="485"/>
                    <a:pt x="1448" y="494"/>
                  </a:cubicBezTo>
                  <a:cubicBezTo>
                    <a:pt x="1469" y="519"/>
                    <a:pt x="1467" y="515"/>
                    <a:pt x="1492" y="531"/>
                  </a:cubicBezTo>
                  <a:cubicBezTo>
                    <a:pt x="1503" y="495"/>
                    <a:pt x="1531" y="475"/>
                    <a:pt x="1477" y="502"/>
                  </a:cubicBezTo>
                  <a:cubicBezTo>
                    <a:pt x="1444" y="550"/>
                    <a:pt x="1476" y="514"/>
                    <a:pt x="1455" y="457"/>
                  </a:cubicBezTo>
                  <a:cubicBezTo>
                    <a:pt x="1452" y="449"/>
                    <a:pt x="1440" y="448"/>
                    <a:pt x="1433" y="443"/>
                  </a:cubicBezTo>
                  <a:cubicBezTo>
                    <a:pt x="1412" y="474"/>
                    <a:pt x="1405" y="511"/>
                    <a:pt x="1374" y="531"/>
                  </a:cubicBezTo>
                  <a:cubicBezTo>
                    <a:pt x="1376" y="511"/>
                    <a:pt x="1376" y="491"/>
                    <a:pt x="1381" y="472"/>
                  </a:cubicBezTo>
                  <a:cubicBezTo>
                    <a:pt x="1383" y="463"/>
                    <a:pt x="1396" y="441"/>
                    <a:pt x="1396" y="450"/>
                  </a:cubicBezTo>
                  <a:cubicBezTo>
                    <a:pt x="1396" y="480"/>
                    <a:pt x="1346" y="523"/>
                    <a:pt x="1322" y="531"/>
                  </a:cubicBezTo>
                  <a:cubicBezTo>
                    <a:pt x="1318" y="544"/>
                    <a:pt x="1304" y="596"/>
                    <a:pt x="1293" y="568"/>
                  </a:cubicBezTo>
                  <a:cubicBezTo>
                    <a:pt x="1282" y="541"/>
                    <a:pt x="1288" y="509"/>
                    <a:pt x="1285" y="480"/>
                  </a:cubicBezTo>
                  <a:cubicBezTo>
                    <a:pt x="1241" y="545"/>
                    <a:pt x="1308" y="438"/>
                    <a:pt x="1263" y="605"/>
                  </a:cubicBezTo>
                  <a:cubicBezTo>
                    <a:pt x="1261" y="614"/>
                    <a:pt x="1253" y="591"/>
                    <a:pt x="1248" y="583"/>
                  </a:cubicBezTo>
                  <a:cubicBezTo>
                    <a:pt x="1229" y="553"/>
                    <a:pt x="1220" y="525"/>
                    <a:pt x="1204" y="494"/>
                  </a:cubicBezTo>
                  <a:cubicBezTo>
                    <a:pt x="1202" y="479"/>
                    <a:pt x="1197" y="435"/>
                    <a:pt x="1197" y="450"/>
                  </a:cubicBezTo>
                  <a:cubicBezTo>
                    <a:pt x="1197" y="518"/>
                    <a:pt x="1225" y="589"/>
                    <a:pt x="1256" y="649"/>
                  </a:cubicBezTo>
                  <a:cubicBezTo>
                    <a:pt x="1253" y="659"/>
                    <a:pt x="1258" y="675"/>
                    <a:pt x="1248" y="679"/>
                  </a:cubicBezTo>
                  <a:cubicBezTo>
                    <a:pt x="1244" y="681"/>
                    <a:pt x="1194" y="648"/>
                    <a:pt x="1174" y="642"/>
                  </a:cubicBezTo>
                  <a:cubicBezTo>
                    <a:pt x="1167" y="637"/>
                    <a:pt x="1159" y="621"/>
                    <a:pt x="1152" y="627"/>
                  </a:cubicBezTo>
                  <a:cubicBezTo>
                    <a:pt x="1112" y="660"/>
                    <a:pt x="1165" y="699"/>
                    <a:pt x="1115" y="649"/>
                  </a:cubicBezTo>
                  <a:cubicBezTo>
                    <a:pt x="1105" y="681"/>
                    <a:pt x="1106" y="663"/>
                    <a:pt x="1115" y="694"/>
                  </a:cubicBezTo>
                  <a:cubicBezTo>
                    <a:pt x="1118" y="704"/>
                    <a:pt x="1132" y="727"/>
                    <a:pt x="1123" y="723"/>
                  </a:cubicBezTo>
                  <a:cubicBezTo>
                    <a:pt x="1090" y="707"/>
                    <a:pt x="1071" y="672"/>
                    <a:pt x="1042" y="649"/>
                  </a:cubicBezTo>
                  <a:cubicBezTo>
                    <a:pt x="1039" y="639"/>
                    <a:pt x="1035" y="630"/>
                    <a:pt x="1034" y="620"/>
                  </a:cubicBezTo>
                  <a:cubicBezTo>
                    <a:pt x="1021" y="521"/>
                    <a:pt x="1016" y="501"/>
                    <a:pt x="1049" y="576"/>
                  </a:cubicBezTo>
                  <a:cubicBezTo>
                    <a:pt x="1052" y="583"/>
                    <a:pt x="1052" y="591"/>
                    <a:pt x="1056" y="598"/>
                  </a:cubicBezTo>
                  <a:cubicBezTo>
                    <a:pt x="1066" y="616"/>
                    <a:pt x="1081" y="632"/>
                    <a:pt x="1093" y="649"/>
                  </a:cubicBezTo>
                  <a:cubicBezTo>
                    <a:pt x="1096" y="637"/>
                    <a:pt x="1101" y="625"/>
                    <a:pt x="1101" y="613"/>
                  </a:cubicBezTo>
                  <a:cubicBezTo>
                    <a:pt x="1101" y="553"/>
                    <a:pt x="1079" y="541"/>
                    <a:pt x="1108" y="598"/>
                  </a:cubicBezTo>
                  <a:cubicBezTo>
                    <a:pt x="1112" y="606"/>
                    <a:pt x="1118" y="613"/>
                    <a:pt x="1123" y="620"/>
                  </a:cubicBezTo>
                  <a:cubicBezTo>
                    <a:pt x="1125" y="630"/>
                    <a:pt x="1121" y="645"/>
                    <a:pt x="1130" y="649"/>
                  </a:cubicBezTo>
                  <a:cubicBezTo>
                    <a:pt x="1137" y="652"/>
                    <a:pt x="1140" y="635"/>
                    <a:pt x="1138" y="627"/>
                  </a:cubicBezTo>
                  <a:cubicBezTo>
                    <a:pt x="1130" y="595"/>
                    <a:pt x="1102" y="579"/>
                    <a:pt x="1078" y="561"/>
                  </a:cubicBezTo>
                  <a:cubicBezTo>
                    <a:pt x="1041" y="502"/>
                    <a:pt x="1106" y="561"/>
                    <a:pt x="1115" y="568"/>
                  </a:cubicBezTo>
                  <a:cubicBezTo>
                    <a:pt x="1085" y="518"/>
                    <a:pt x="1018" y="468"/>
                    <a:pt x="960" y="450"/>
                  </a:cubicBezTo>
                  <a:cubicBezTo>
                    <a:pt x="955" y="457"/>
                    <a:pt x="954" y="474"/>
                    <a:pt x="946" y="472"/>
                  </a:cubicBezTo>
                  <a:cubicBezTo>
                    <a:pt x="935" y="469"/>
                    <a:pt x="931" y="432"/>
                    <a:pt x="931" y="443"/>
                  </a:cubicBezTo>
                  <a:cubicBezTo>
                    <a:pt x="931" y="456"/>
                    <a:pt x="942" y="467"/>
                    <a:pt x="946" y="480"/>
                  </a:cubicBezTo>
                  <a:cubicBezTo>
                    <a:pt x="952" y="499"/>
                    <a:pt x="954" y="520"/>
                    <a:pt x="960" y="539"/>
                  </a:cubicBezTo>
                  <a:cubicBezTo>
                    <a:pt x="963" y="549"/>
                    <a:pt x="971" y="558"/>
                    <a:pt x="975" y="568"/>
                  </a:cubicBezTo>
                  <a:cubicBezTo>
                    <a:pt x="981" y="583"/>
                    <a:pt x="985" y="598"/>
                    <a:pt x="990" y="613"/>
                  </a:cubicBezTo>
                  <a:cubicBezTo>
                    <a:pt x="992" y="620"/>
                    <a:pt x="997" y="635"/>
                    <a:pt x="997" y="635"/>
                  </a:cubicBezTo>
                  <a:cubicBezTo>
                    <a:pt x="991" y="597"/>
                    <a:pt x="988" y="571"/>
                    <a:pt x="968" y="539"/>
                  </a:cubicBezTo>
                  <a:cubicBezTo>
                    <a:pt x="977" y="581"/>
                    <a:pt x="976" y="613"/>
                    <a:pt x="1005" y="64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688"/>
            <p:cNvSpPr/>
            <p:nvPr/>
          </p:nvSpPr>
          <p:spPr>
            <a:xfrm>
              <a:off x="657360" y="3951360"/>
              <a:ext cx="352440" cy="1077840"/>
            </a:xfrm>
            <a:custGeom>
              <a:avLst/>
              <a:gdLst/>
              <a:ahLst/>
              <a:rect l="l" t="t" r="r" b="b"/>
              <a:pathLst>
                <a:path w="222" h="679">
                  <a:moveTo>
                    <a:pt x="0" y="679"/>
                  </a:moveTo>
                  <a:cubicBezTo>
                    <a:pt x="2" y="662"/>
                    <a:pt x="0" y="643"/>
                    <a:pt x="7" y="627"/>
                  </a:cubicBezTo>
                  <a:cubicBezTo>
                    <a:pt x="10" y="620"/>
                    <a:pt x="7" y="652"/>
                    <a:pt x="14" y="649"/>
                  </a:cubicBezTo>
                  <a:cubicBezTo>
                    <a:pt x="23" y="645"/>
                    <a:pt x="16" y="628"/>
                    <a:pt x="22" y="620"/>
                  </a:cubicBezTo>
                  <a:cubicBezTo>
                    <a:pt x="27" y="614"/>
                    <a:pt x="37" y="615"/>
                    <a:pt x="44" y="613"/>
                  </a:cubicBezTo>
                  <a:cubicBezTo>
                    <a:pt x="48" y="619"/>
                    <a:pt x="67" y="653"/>
                    <a:pt x="81" y="649"/>
                  </a:cubicBezTo>
                  <a:cubicBezTo>
                    <a:pt x="88" y="647"/>
                    <a:pt x="86" y="634"/>
                    <a:pt x="88" y="627"/>
                  </a:cubicBezTo>
                  <a:cubicBezTo>
                    <a:pt x="91" y="617"/>
                    <a:pt x="93" y="608"/>
                    <a:pt x="96" y="598"/>
                  </a:cubicBezTo>
                  <a:cubicBezTo>
                    <a:pt x="101" y="605"/>
                    <a:pt x="108" y="628"/>
                    <a:pt x="110" y="620"/>
                  </a:cubicBezTo>
                  <a:cubicBezTo>
                    <a:pt x="114" y="603"/>
                    <a:pt x="111" y="584"/>
                    <a:pt x="103" y="568"/>
                  </a:cubicBezTo>
                  <a:cubicBezTo>
                    <a:pt x="97" y="557"/>
                    <a:pt x="83" y="553"/>
                    <a:pt x="73" y="546"/>
                  </a:cubicBezTo>
                  <a:cubicBezTo>
                    <a:pt x="81" y="544"/>
                    <a:pt x="88" y="539"/>
                    <a:pt x="96" y="539"/>
                  </a:cubicBezTo>
                  <a:cubicBezTo>
                    <a:pt x="104" y="539"/>
                    <a:pt x="117" y="554"/>
                    <a:pt x="118" y="546"/>
                  </a:cubicBezTo>
                  <a:cubicBezTo>
                    <a:pt x="121" y="531"/>
                    <a:pt x="107" y="517"/>
                    <a:pt x="103" y="502"/>
                  </a:cubicBezTo>
                  <a:cubicBezTo>
                    <a:pt x="100" y="490"/>
                    <a:pt x="99" y="477"/>
                    <a:pt x="96" y="465"/>
                  </a:cubicBezTo>
                  <a:cubicBezTo>
                    <a:pt x="94" y="457"/>
                    <a:pt x="80" y="445"/>
                    <a:pt x="88" y="443"/>
                  </a:cubicBezTo>
                  <a:cubicBezTo>
                    <a:pt x="115" y="438"/>
                    <a:pt x="142" y="448"/>
                    <a:pt x="169" y="450"/>
                  </a:cubicBezTo>
                  <a:cubicBezTo>
                    <a:pt x="163" y="474"/>
                    <a:pt x="138" y="553"/>
                    <a:pt x="155" y="457"/>
                  </a:cubicBezTo>
                  <a:cubicBezTo>
                    <a:pt x="152" y="435"/>
                    <a:pt x="154" y="412"/>
                    <a:pt x="147" y="391"/>
                  </a:cubicBezTo>
                  <a:cubicBezTo>
                    <a:pt x="144" y="381"/>
                    <a:pt x="131" y="378"/>
                    <a:pt x="125" y="369"/>
                  </a:cubicBezTo>
                  <a:cubicBezTo>
                    <a:pt x="121" y="363"/>
                    <a:pt x="120" y="354"/>
                    <a:pt x="118" y="347"/>
                  </a:cubicBezTo>
                  <a:cubicBezTo>
                    <a:pt x="133" y="342"/>
                    <a:pt x="163" y="326"/>
                    <a:pt x="177" y="347"/>
                  </a:cubicBezTo>
                  <a:cubicBezTo>
                    <a:pt x="182" y="354"/>
                    <a:pt x="163" y="357"/>
                    <a:pt x="155" y="361"/>
                  </a:cubicBezTo>
                  <a:cubicBezTo>
                    <a:pt x="148" y="365"/>
                    <a:pt x="140" y="366"/>
                    <a:pt x="132" y="369"/>
                  </a:cubicBezTo>
                  <a:cubicBezTo>
                    <a:pt x="97" y="356"/>
                    <a:pt x="85" y="328"/>
                    <a:pt x="73" y="295"/>
                  </a:cubicBezTo>
                  <a:cubicBezTo>
                    <a:pt x="76" y="285"/>
                    <a:pt x="74" y="273"/>
                    <a:pt x="81" y="265"/>
                  </a:cubicBezTo>
                  <a:cubicBezTo>
                    <a:pt x="86" y="259"/>
                    <a:pt x="103" y="250"/>
                    <a:pt x="103" y="258"/>
                  </a:cubicBezTo>
                  <a:cubicBezTo>
                    <a:pt x="103" y="267"/>
                    <a:pt x="88" y="268"/>
                    <a:pt x="81" y="273"/>
                  </a:cubicBezTo>
                  <a:cubicBezTo>
                    <a:pt x="57" y="339"/>
                    <a:pt x="132" y="288"/>
                    <a:pt x="155" y="273"/>
                  </a:cubicBezTo>
                  <a:cubicBezTo>
                    <a:pt x="152" y="251"/>
                    <a:pt x="154" y="227"/>
                    <a:pt x="147" y="206"/>
                  </a:cubicBezTo>
                  <a:cubicBezTo>
                    <a:pt x="141" y="189"/>
                    <a:pt x="124" y="179"/>
                    <a:pt x="118" y="162"/>
                  </a:cubicBezTo>
                  <a:cubicBezTo>
                    <a:pt x="115" y="155"/>
                    <a:pt x="103" y="143"/>
                    <a:pt x="110" y="140"/>
                  </a:cubicBezTo>
                  <a:cubicBezTo>
                    <a:pt x="124" y="134"/>
                    <a:pt x="140" y="145"/>
                    <a:pt x="155" y="147"/>
                  </a:cubicBezTo>
                  <a:cubicBezTo>
                    <a:pt x="160" y="154"/>
                    <a:pt x="171" y="161"/>
                    <a:pt x="169" y="169"/>
                  </a:cubicBezTo>
                  <a:cubicBezTo>
                    <a:pt x="167" y="180"/>
                    <a:pt x="116" y="194"/>
                    <a:pt x="169" y="177"/>
                  </a:cubicBezTo>
                  <a:cubicBezTo>
                    <a:pt x="177" y="171"/>
                    <a:pt x="212" y="151"/>
                    <a:pt x="214" y="140"/>
                  </a:cubicBezTo>
                  <a:cubicBezTo>
                    <a:pt x="222" y="97"/>
                    <a:pt x="200" y="71"/>
                    <a:pt x="169" y="51"/>
                  </a:cubicBezTo>
                  <a:cubicBezTo>
                    <a:pt x="151" y="23"/>
                    <a:pt x="129" y="13"/>
                    <a:pt x="169" y="0"/>
                  </a:cubicBezTo>
                  <a:cubicBezTo>
                    <a:pt x="191" y="32"/>
                    <a:pt x="184" y="13"/>
                    <a:pt x="184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89"/>
            <p:cNvSpPr/>
            <p:nvPr/>
          </p:nvSpPr>
          <p:spPr>
            <a:xfrm>
              <a:off x="944640" y="4910040"/>
              <a:ext cx="426960" cy="166680"/>
            </a:xfrm>
            <a:custGeom>
              <a:avLst/>
              <a:gdLst/>
              <a:ahLst/>
              <a:rect l="l" t="t" r="r" b="b"/>
              <a:pathLst>
                <a:path w="269" h="105">
                  <a:moveTo>
                    <a:pt x="3" y="68"/>
                  </a:moveTo>
                  <a:cubicBezTo>
                    <a:pt x="6" y="51"/>
                    <a:pt x="0" y="30"/>
                    <a:pt x="11" y="16"/>
                  </a:cubicBezTo>
                  <a:cubicBezTo>
                    <a:pt x="17" y="9"/>
                    <a:pt x="27" y="24"/>
                    <a:pt x="33" y="31"/>
                  </a:cubicBezTo>
                  <a:cubicBezTo>
                    <a:pt x="45" y="46"/>
                    <a:pt x="51" y="66"/>
                    <a:pt x="62" y="82"/>
                  </a:cubicBezTo>
                  <a:cubicBezTo>
                    <a:pt x="67" y="58"/>
                    <a:pt x="61" y="28"/>
                    <a:pt x="77" y="9"/>
                  </a:cubicBezTo>
                  <a:cubicBezTo>
                    <a:pt x="85" y="0"/>
                    <a:pt x="99" y="22"/>
                    <a:pt x="107" y="31"/>
                  </a:cubicBezTo>
                  <a:cubicBezTo>
                    <a:pt x="119" y="44"/>
                    <a:pt x="124" y="63"/>
                    <a:pt x="136" y="75"/>
                  </a:cubicBezTo>
                  <a:cubicBezTo>
                    <a:pt x="143" y="82"/>
                    <a:pt x="151" y="90"/>
                    <a:pt x="158" y="97"/>
                  </a:cubicBezTo>
                  <a:cubicBezTo>
                    <a:pt x="163" y="90"/>
                    <a:pt x="171" y="84"/>
                    <a:pt x="173" y="75"/>
                  </a:cubicBezTo>
                  <a:cubicBezTo>
                    <a:pt x="178" y="56"/>
                    <a:pt x="169" y="32"/>
                    <a:pt x="180" y="16"/>
                  </a:cubicBezTo>
                  <a:cubicBezTo>
                    <a:pt x="185" y="8"/>
                    <a:pt x="196" y="25"/>
                    <a:pt x="203" y="31"/>
                  </a:cubicBezTo>
                  <a:cubicBezTo>
                    <a:pt x="219" y="44"/>
                    <a:pt x="258" y="105"/>
                    <a:pt x="269" y="1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90"/>
            <p:cNvSpPr/>
            <p:nvPr/>
          </p:nvSpPr>
          <p:spPr>
            <a:xfrm>
              <a:off x="585720" y="3036960"/>
              <a:ext cx="492120" cy="646200"/>
            </a:xfrm>
            <a:custGeom>
              <a:avLst/>
              <a:gdLst/>
              <a:ahLst/>
              <a:rect l="l" t="t" r="r" b="b"/>
              <a:pathLst>
                <a:path w="310" h="407">
                  <a:moveTo>
                    <a:pt x="0" y="406"/>
                  </a:moveTo>
                  <a:cubicBezTo>
                    <a:pt x="58" y="398"/>
                    <a:pt x="104" y="389"/>
                    <a:pt x="163" y="384"/>
                  </a:cubicBezTo>
                  <a:cubicBezTo>
                    <a:pt x="168" y="376"/>
                    <a:pt x="176" y="370"/>
                    <a:pt x="177" y="361"/>
                  </a:cubicBezTo>
                  <a:cubicBezTo>
                    <a:pt x="178" y="349"/>
                    <a:pt x="158" y="329"/>
                    <a:pt x="170" y="325"/>
                  </a:cubicBezTo>
                  <a:cubicBezTo>
                    <a:pt x="214" y="310"/>
                    <a:pt x="263" y="320"/>
                    <a:pt x="310" y="317"/>
                  </a:cubicBezTo>
                  <a:cubicBezTo>
                    <a:pt x="299" y="209"/>
                    <a:pt x="295" y="242"/>
                    <a:pt x="170" y="251"/>
                  </a:cubicBezTo>
                  <a:cubicBezTo>
                    <a:pt x="168" y="276"/>
                    <a:pt x="184" y="312"/>
                    <a:pt x="163" y="325"/>
                  </a:cubicBezTo>
                  <a:cubicBezTo>
                    <a:pt x="24" y="407"/>
                    <a:pt x="41" y="255"/>
                    <a:pt x="89" y="251"/>
                  </a:cubicBezTo>
                  <a:cubicBezTo>
                    <a:pt x="136" y="247"/>
                    <a:pt x="182" y="246"/>
                    <a:pt x="229" y="243"/>
                  </a:cubicBezTo>
                  <a:cubicBezTo>
                    <a:pt x="218" y="163"/>
                    <a:pt x="217" y="182"/>
                    <a:pt x="133" y="192"/>
                  </a:cubicBezTo>
                  <a:cubicBezTo>
                    <a:pt x="119" y="278"/>
                    <a:pt x="121" y="216"/>
                    <a:pt x="111" y="184"/>
                  </a:cubicBezTo>
                  <a:cubicBezTo>
                    <a:pt x="113" y="177"/>
                    <a:pt x="123" y="168"/>
                    <a:pt x="118" y="162"/>
                  </a:cubicBezTo>
                  <a:cubicBezTo>
                    <a:pt x="117" y="161"/>
                    <a:pt x="41" y="141"/>
                    <a:pt x="37" y="140"/>
                  </a:cubicBezTo>
                  <a:cubicBezTo>
                    <a:pt x="48" y="90"/>
                    <a:pt x="49" y="96"/>
                    <a:pt x="96" y="81"/>
                  </a:cubicBezTo>
                  <a:cubicBezTo>
                    <a:pt x="118" y="83"/>
                    <a:pt x="147" y="72"/>
                    <a:pt x="163" y="88"/>
                  </a:cubicBezTo>
                  <a:cubicBezTo>
                    <a:pt x="179" y="104"/>
                    <a:pt x="150" y="145"/>
                    <a:pt x="170" y="155"/>
                  </a:cubicBezTo>
                  <a:cubicBezTo>
                    <a:pt x="206" y="172"/>
                    <a:pt x="249" y="150"/>
                    <a:pt x="288" y="147"/>
                  </a:cubicBezTo>
                  <a:cubicBezTo>
                    <a:pt x="286" y="120"/>
                    <a:pt x="298" y="87"/>
                    <a:pt x="281" y="66"/>
                  </a:cubicBezTo>
                  <a:cubicBezTo>
                    <a:pt x="270" y="52"/>
                    <a:pt x="246" y="73"/>
                    <a:pt x="229" y="73"/>
                  </a:cubicBezTo>
                  <a:cubicBezTo>
                    <a:pt x="207" y="73"/>
                    <a:pt x="185" y="68"/>
                    <a:pt x="163" y="66"/>
                  </a:cubicBezTo>
                  <a:cubicBezTo>
                    <a:pt x="165" y="56"/>
                    <a:pt x="164" y="45"/>
                    <a:pt x="170" y="37"/>
                  </a:cubicBezTo>
                  <a:cubicBezTo>
                    <a:pt x="175" y="31"/>
                    <a:pt x="185" y="33"/>
                    <a:pt x="192" y="29"/>
                  </a:cubicBezTo>
                  <a:cubicBezTo>
                    <a:pt x="208" y="21"/>
                    <a:pt x="222" y="9"/>
                    <a:pt x="237" y="0"/>
                  </a:cubicBezTo>
                  <a:cubicBezTo>
                    <a:pt x="237" y="0"/>
                    <a:pt x="114" y="5"/>
                    <a:pt x="52" y="7"/>
                  </a:cubicBezTo>
                  <a:cubicBezTo>
                    <a:pt x="45" y="12"/>
                    <a:pt x="30" y="13"/>
                    <a:pt x="30" y="22"/>
                  </a:cubicBezTo>
                  <a:cubicBezTo>
                    <a:pt x="30" y="31"/>
                    <a:pt x="43" y="36"/>
                    <a:pt x="52" y="37"/>
                  </a:cubicBezTo>
                  <a:cubicBezTo>
                    <a:pt x="77" y="39"/>
                    <a:pt x="104" y="40"/>
                    <a:pt x="126" y="29"/>
                  </a:cubicBezTo>
                  <a:cubicBezTo>
                    <a:pt x="135" y="25"/>
                    <a:pt x="126" y="10"/>
                    <a:pt x="12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91"/>
            <p:cNvSpPr/>
            <p:nvPr/>
          </p:nvSpPr>
          <p:spPr>
            <a:xfrm>
              <a:off x="685800" y="3675240"/>
              <a:ext cx="439560" cy="215640"/>
            </a:xfrm>
            <a:custGeom>
              <a:avLst/>
              <a:gdLst/>
              <a:ahLst/>
              <a:rect l="l" t="t" r="r" b="b"/>
              <a:pathLst>
                <a:path w="277" h="136">
                  <a:moveTo>
                    <a:pt x="159" y="63"/>
                  </a:moveTo>
                  <a:cubicBezTo>
                    <a:pt x="172" y="133"/>
                    <a:pt x="197" y="106"/>
                    <a:pt x="277" y="100"/>
                  </a:cubicBezTo>
                  <a:cubicBezTo>
                    <a:pt x="264" y="0"/>
                    <a:pt x="231" y="42"/>
                    <a:pt x="107" y="48"/>
                  </a:cubicBezTo>
                  <a:cubicBezTo>
                    <a:pt x="109" y="65"/>
                    <a:pt x="109" y="83"/>
                    <a:pt x="114" y="100"/>
                  </a:cubicBezTo>
                  <a:cubicBezTo>
                    <a:pt x="117" y="109"/>
                    <a:pt x="133" y="114"/>
                    <a:pt x="129" y="122"/>
                  </a:cubicBezTo>
                  <a:cubicBezTo>
                    <a:pt x="125" y="131"/>
                    <a:pt x="110" y="127"/>
                    <a:pt x="100" y="129"/>
                  </a:cubicBezTo>
                  <a:cubicBezTo>
                    <a:pt x="70" y="127"/>
                    <a:pt x="37" y="136"/>
                    <a:pt x="11" y="122"/>
                  </a:cubicBezTo>
                  <a:cubicBezTo>
                    <a:pt x="0" y="116"/>
                    <a:pt x="6" y="90"/>
                    <a:pt x="18" y="85"/>
                  </a:cubicBezTo>
                  <a:cubicBezTo>
                    <a:pt x="46" y="74"/>
                    <a:pt x="77" y="85"/>
                    <a:pt x="107" y="8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92"/>
            <p:cNvSpPr/>
            <p:nvPr/>
          </p:nvSpPr>
          <p:spPr>
            <a:xfrm>
              <a:off x="-139680" y="1700280"/>
              <a:ext cx="1461960" cy="1230120"/>
            </a:xfrm>
            <a:custGeom>
              <a:avLst/>
              <a:gdLst/>
              <a:ahLst/>
              <a:rect l="l" t="t" r="r" b="b"/>
              <a:pathLst>
                <a:path w="921" h="775">
                  <a:moveTo>
                    <a:pt x="516" y="775"/>
                  </a:moveTo>
                  <a:cubicBezTo>
                    <a:pt x="525" y="741"/>
                    <a:pt x="527" y="706"/>
                    <a:pt x="538" y="672"/>
                  </a:cubicBezTo>
                  <a:cubicBezTo>
                    <a:pt x="536" y="692"/>
                    <a:pt x="532" y="751"/>
                    <a:pt x="531" y="731"/>
                  </a:cubicBezTo>
                  <a:cubicBezTo>
                    <a:pt x="525" y="645"/>
                    <a:pt x="529" y="558"/>
                    <a:pt x="524" y="472"/>
                  </a:cubicBezTo>
                  <a:cubicBezTo>
                    <a:pt x="515" y="328"/>
                    <a:pt x="435" y="215"/>
                    <a:pt x="295" y="170"/>
                  </a:cubicBezTo>
                  <a:cubicBezTo>
                    <a:pt x="268" y="141"/>
                    <a:pt x="230" y="127"/>
                    <a:pt x="191" y="118"/>
                  </a:cubicBezTo>
                  <a:cubicBezTo>
                    <a:pt x="179" y="115"/>
                    <a:pt x="166" y="114"/>
                    <a:pt x="154" y="111"/>
                  </a:cubicBezTo>
                  <a:cubicBezTo>
                    <a:pt x="146" y="109"/>
                    <a:pt x="124" y="103"/>
                    <a:pt x="132" y="103"/>
                  </a:cubicBezTo>
                  <a:cubicBezTo>
                    <a:pt x="142" y="103"/>
                    <a:pt x="152" y="108"/>
                    <a:pt x="162" y="111"/>
                  </a:cubicBezTo>
                  <a:cubicBezTo>
                    <a:pt x="121" y="68"/>
                    <a:pt x="160" y="102"/>
                    <a:pt x="118" y="81"/>
                  </a:cubicBezTo>
                  <a:cubicBezTo>
                    <a:pt x="110" y="77"/>
                    <a:pt x="86" y="66"/>
                    <a:pt x="95" y="66"/>
                  </a:cubicBezTo>
                  <a:cubicBezTo>
                    <a:pt x="114" y="66"/>
                    <a:pt x="129" y="82"/>
                    <a:pt x="147" y="88"/>
                  </a:cubicBezTo>
                  <a:cubicBezTo>
                    <a:pt x="154" y="96"/>
                    <a:pt x="173" y="101"/>
                    <a:pt x="169" y="111"/>
                  </a:cubicBezTo>
                  <a:cubicBezTo>
                    <a:pt x="168" y="113"/>
                    <a:pt x="122" y="97"/>
                    <a:pt x="118" y="96"/>
                  </a:cubicBezTo>
                  <a:cubicBezTo>
                    <a:pt x="98" y="92"/>
                    <a:pt x="78" y="91"/>
                    <a:pt x="58" y="88"/>
                  </a:cubicBezTo>
                  <a:cubicBezTo>
                    <a:pt x="0" y="70"/>
                    <a:pt x="64" y="90"/>
                    <a:pt x="66" y="88"/>
                  </a:cubicBezTo>
                  <a:cubicBezTo>
                    <a:pt x="73" y="81"/>
                    <a:pt x="61" y="69"/>
                    <a:pt x="58" y="59"/>
                  </a:cubicBezTo>
                  <a:cubicBezTo>
                    <a:pt x="127" y="35"/>
                    <a:pt x="204" y="45"/>
                    <a:pt x="273" y="66"/>
                  </a:cubicBezTo>
                  <a:cubicBezTo>
                    <a:pt x="296" y="137"/>
                    <a:pt x="139" y="110"/>
                    <a:pt x="118" y="111"/>
                  </a:cubicBezTo>
                  <a:cubicBezTo>
                    <a:pt x="268" y="140"/>
                    <a:pt x="205" y="124"/>
                    <a:pt x="494" y="118"/>
                  </a:cubicBezTo>
                  <a:cubicBezTo>
                    <a:pt x="491" y="85"/>
                    <a:pt x="507" y="32"/>
                    <a:pt x="457" y="29"/>
                  </a:cubicBezTo>
                  <a:cubicBezTo>
                    <a:pt x="425" y="27"/>
                    <a:pt x="393" y="33"/>
                    <a:pt x="361" y="37"/>
                  </a:cubicBezTo>
                  <a:cubicBezTo>
                    <a:pt x="332" y="41"/>
                    <a:pt x="273" y="51"/>
                    <a:pt x="273" y="51"/>
                  </a:cubicBezTo>
                  <a:cubicBezTo>
                    <a:pt x="282" y="80"/>
                    <a:pt x="291" y="99"/>
                    <a:pt x="273" y="133"/>
                  </a:cubicBezTo>
                  <a:cubicBezTo>
                    <a:pt x="268" y="142"/>
                    <a:pt x="268" y="113"/>
                    <a:pt x="265" y="103"/>
                  </a:cubicBezTo>
                  <a:cubicBezTo>
                    <a:pt x="263" y="96"/>
                    <a:pt x="260" y="88"/>
                    <a:pt x="258" y="81"/>
                  </a:cubicBezTo>
                  <a:cubicBezTo>
                    <a:pt x="324" y="54"/>
                    <a:pt x="394" y="49"/>
                    <a:pt x="465" y="44"/>
                  </a:cubicBezTo>
                  <a:cubicBezTo>
                    <a:pt x="568" y="53"/>
                    <a:pt x="578" y="27"/>
                    <a:pt x="561" y="133"/>
                  </a:cubicBezTo>
                  <a:cubicBezTo>
                    <a:pt x="560" y="141"/>
                    <a:pt x="556" y="148"/>
                    <a:pt x="553" y="155"/>
                  </a:cubicBezTo>
                  <a:cubicBezTo>
                    <a:pt x="619" y="182"/>
                    <a:pt x="685" y="166"/>
                    <a:pt x="753" y="155"/>
                  </a:cubicBezTo>
                  <a:cubicBezTo>
                    <a:pt x="741" y="0"/>
                    <a:pt x="749" y="43"/>
                    <a:pt x="575" y="51"/>
                  </a:cubicBezTo>
                  <a:cubicBezTo>
                    <a:pt x="574" y="64"/>
                    <a:pt x="548" y="181"/>
                    <a:pt x="568" y="192"/>
                  </a:cubicBezTo>
                  <a:cubicBezTo>
                    <a:pt x="600" y="210"/>
                    <a:pt x="642" y="197"/>
                    <a:pt x="679" y="199"/>
                  </a:cubicBezTo>
                  <a:cubicBezTo>
                    <a:pt x="676" y="226"/>
                    <a:pt x="696" y="271"/>
                    <a:pt x="671" y="280"/>
                  </a:cubicBezTo>
                  <a:cubicBezTo>
                    <a:pt x="515" y="338"/>
                    <a:pt x="508" y="312"/>
                    <a:pt x="457" y="243"/>
                  </a:cubicBezTo>
                  <a:cubicBezTo>
                    <a:pt x="438" y="163"/>
                    <a:pt x="552" y="195"/>
                    <a:pt x="612" y="192"/>
                  </a:cubicBezTo>
                  <a:cubicBezTo>
                    <a:pt x="627" y="194"/>
                    <a:pt x="649" y="186"/>
                    <a:pt x="657" y="199"/>
                  </a:cubicBezTo>
                  <a:cubicBezTo>
                    <a:pt x="670" y="220"/>
                    <a:pt x="640" y="267"/>
                    <a:pt x="664" y="273"/>
                  </a:cubicBezTo>
                  <a:cubicBezTo>
                    <a:pt x="743" y="294"/>
                    <a:pt x="827" y="268"/>
                    <a:pt x="908" y="266"/>
                  </a:cubicBezTo>
                  <a:cubicBezTo>
                    <a:pt x="921" y="224"/>
                    <a:pt x="914" y="186"/>
                    <a:pt x="878" y="162"/>
                  </a:cubicBezTo>
                  <a:cubicBezTo>
                    <a:pt x="812" y="165"/>
                    <a:pt x="743" y="152"/>
                    <a:pt x="679" y="170"/>
                  </a:cubicBezTo>
                  <a:cubicBezTo>
                    <a:pt x="653" y="177"/>
                    <a:pt x="684" y="260"/>
                    <a:pt x="664" y="199"/>
                  </a:cubicBezTo>
                  <a:cubicBezTo>
                    <a:pt x="622" y="331"/>
                    <a:pt x="694" y="289"/>
                    <a:pt x="812" y="295"/>
                  </a:cubicBezTo>
                  <a:cubicBezTo>
                    <a:pt x="799" y="391"/>
                    <a:pt x="796" y="363"/>
                    <a:pt x="686" y="354"/>
                  </a:cubicBezTo>
                  <a:cubicBezTo>
                    <a:pt x="642" y="343"/>
                    <a:pt x="628" y="339"/>
                    <a:pt x="612" y="295"/>
                  </a:cubicBezTo>
                  <a:cubicBezTo>
                    <a:pt x="610" y="305"/>
                    <a:pt x="608" y="315"/>
                    <a:pt x="605" y="325"/>
                  </a:cubicBezTo>
                  <a:cubicBezTo>
                    <a:pt x="603" y="332"/>
                    <a:pt x="598" y="355"/>
                    <a:pt x="598" y="347"/>
                  </a:cubicBezTo>
                  <a:cubicBezTo>
                    <a:pt x="598" y="327"/>
                    <a:pt x="603" y="308"/>
                    <a:pt x="605" y="288"/>
                  </a:cubicBezTo>
                  <a:cubicBezTo>
                    <a:pt x="607" y="308"/>
                    <a:pt x="593" y="343"/>
                    <a:pt x="612" y="347"/>
                  </a:cubicBezTo>
                  <a:cubicBezTo>
                    <a:pt x="694" y="363"/>
                    <a:pt x="780" y="349"/>
                    <a:pt x="863" y="339"/>
                  </a:cubicBezTo>
                  <a:cubicBezTo>
                    <a:pt x="883" y="337"/>
                    <a:pt x="834" y="292"/>
                    <a:pt x="82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693"/>
            <p:cNvSpPr/>
            <p:nvPr/>
          </p:nvSpPr>
          <p:spPr>
            <a:xfrm>
              <a:off x="434880" y="1908000"/>
              <a:ext cx="506520" cy="155880"/>
            </a:xfrm>
            <a:custGeom>
              <a:avLst/>
              <a:gdLst/>
              <a:ahLst/>
              <a:rect l="l" t="t" r="r" b="b"/>
              <a:pathLst>
                <a:path w="319" h="98">
                  <a:moveTo>
                    <a:pt x="154" y="24"/>
                  </a:moveTo>
                  <a:cubicBezTo>
                    <a:pt x="152" y="30"/>
                    <a:pt x="142" y="67"/>
                    <a:pt x="132" y="68"/>
                  </a:cubicBezTo>
                  <a:cubicBezTo>
                    <a:pt x="92" y="70"/>
                    <a:pt x="14" y="53"/>
                    <a:pt x="14" y="53"/>
                  </a:cubicBezTo>
                  <a:cubicBezTo>
                    <a:pt x="0" y="8"/>
                    <a:pt x="38" y="16"/>
                    <a:pt x="73" y="9"/>
                  </a:cubicBezTo>
                  <a:cubicBezTo>
                    <a:pt x="105" y="11"/>
                    <a:pt x="141" y="0"/>
                    <a:pt x="169" y="16"/>
                  </a:cubicBezTo>
                  <a:cubicBezTo>
                    <a:pt x="182" y="24"/>
                    <a:pt x="171" y="49"/>
                    <a:pt x="162" y="61"/>
                  </a:cubicBezTo>
                  <a:cubicBezTo>
                    <a:pt x="156" y="69"/>
                    <a:pt x="142" y="66"/>
                    <a:pt x="132" y="68"/>
                  </a:cubicBezTo>
                  <a:cubicBezTo>
                    <a:pt x="176" y="84"/>
                    <a:pt x="205" y="98"/>
                    <a:pt x="265" y="68"/>
                  </a:cubicBezTo>
                  <a:cubicBezTo>
                    <a:pt x="319" y="41"/>
                    <a:pt x="239" y="16"/>
                    <a:pt x="236" y="16"/>
                  </a:cubicBezTo>
                  <a:cubicBezTo>
                    <a:pt x="209" y="16"/>
                    <a:pt x="181" y="21"/>
                    <a:pt x="154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94"/>
            <p:cNvSpPr/>
            <p:nvPr/>
          </p:nvSpPr>
          <p:spPr>
            <a:xfrm>
              <a:off x="727200" y="2505240"/>
              <a:ext cx="550800" cy="495000"/>
            </a:xfrm>
            <a:custGeom>
              <a:avLst/>
              <a:gdLst/>
              <a:ahLst/>
              <a:rect l="l" t="t" r="r" b="b"/>
              <a:pathLst>
                <a:path w="347" h="312">
                  <a:moveTo>
                    <a:pt x="29" y="187"/>
                  </a:moveTo>
                  <a:cubicBezTo>
                    <a:pt x="52" y="312"/>
                    <a:pt x="17" y="269"/>
                    <a:pt x="177" y="261"/>
                  </a:cubicBezTo>
                  <a:cubicBezTo>
                    <a:pt x="165" y="211"/>
                    <a:pt x="164" y="193"/>
                    <a:pt x="111" y="180"/>
                  </a:cubicBezTo>
                  <a:cubicBezTo>
                    <a:pt x="126" y="102"/>
                    <a:pt x="133" y="119"/>
                    <a:pt x="214" y="128"/>
                  </a:cubicBezTo>
                  <a:cubicBezTo>
                    <a:pt x="245" y="144"/>
                    <a:pt x="262" y="153"/>
                    <a:pt x="273" y="187"/>
                  </a:cubicBezTo>
                  <a:cubicBezTo>
                    <a:pt x="235" y="199"/>
                    <a:pt x="251" y="197"/>
                    <a:pt x="192" y="187"/>
                  </a:cubicBezTo>
                  <a:cubicBezTo>
                    <a:pt x="169" y="183"/>
                    <a:pt x="125" y="172"/>
                    <a:pt x="125" y="172"/>
                  </a:cubicBezTo>
                  <a:cubicBezTo>
                    <a:pt x="91" y="175"/>
                    <a:pt x="56" y="174"/>
                    <a:pt x="22" y="180"/>
                  </a:cubicBezTo>
                  <a:cubicBezTo>
                    <a:pt x="13" y="182"/>
                    <a:pt x="0" y="185"/>
                    <a:pt x="0" y="194"/>
                  </a:cubicBezTo>
                  <a:cubicBezTo>
                    <a:pt x="0" y="202"/>
                    <a:pt x="15" y="199"/>
                    <a:pt x="22" y="202"/>
                  </a:cubicBezTo>
                  <a:cubicBezTo>
                    <a:pt x="67" y="195"/>
                    <a:pt x="80" y="186"/>
                    <a:pt x="118" y="172"/>
                  </a:cubicBezTo>
                  <a:cubicBezTo>
                    <a:pt x="101" y="96"/>
                    <a:pt x="108" y="95"/>
                    <a:pt x="37" y="84"/>
                  </a:cubicBezTo>
                  <a:cubicBezTo>
                    <a:pt x="97" y="21"/>
                    <a:pt x="101" y="48"/>
                    <a:pt x="221" y="54"/>
                  </a:cubicBezTo>
                  <a:cubicBezTo>
                    <a:pt x="211" y="107"/>
                    <a:pt x="215" y="90"/>
                    <a:pt x="170" y="106"/>
                  </a:cubicBezTo>
                  <a:cubicBezTo>
                    <a:pt x="248" y="131"/>
                    <a:pt x="238" y="127"/>
                    <a:pt x="347" y="120"/>
                  </a:cubicBezTo>
                  <a:cubicBezTo>
                    <a:pt x="341" y="101"/>
                    <a:pt x="345" y="77"/>
                    <a:pt x="332" y="61"/>
                  </a:cubicBezTo>
                  <a:cubicBezTo>
                    <a:pt x="326" y="53"/>
                    <a:pt x="313" y="55"/>
                    <a:pt x="303" y="54"/>
                  </a:cubicBezTo>
                  <a:cubicBezTo>
                    <a:pt x="273" y="50"/>
                    <a:pt x="244" y="49"/>
                    <a:pt x="214" y="47"/>
                  </a:cubicBezTo>
                  <a:cubicBezTo>
                    <a:pt x="228" y="0"/>
                    <a:pt x="260" y="18"/>
                    <a:pt x="303" y="24"/>
                  </a:cubicBezTo>
                  <a:cubicBezTo>
                    <a:pt x="330" y="15"/>
                    <a:pt x="317" y="17"/>
                    <a:pt x="340" y="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95"/>
            <p:cNvSpPr/>
            <p:nvPr/>
          </p:nvSpPr>
          <p:spPr>
            <a:xfrm>
              <a:off x="596880" y="2151000"/>
              <a:ext cx="250920" cy="1166760"/>
            </a:xfrm>
            <a:custGeom>
              <a:avLst/>
              <a:gdLst/>
              <a:ahLst/>
              <a:rect l="l" t="t" r="r" b="b"/>
              <a:pathLst>
                <a:path w="158" h="735">
                  <a:moveTo>
                    <a:pt x="134" y="255"/>
                  </a:moveTo>
                  <a:cubicBezTo>
                    <a:pt x="126" y="213"/>
                    <a:pt x="124" y="170"/>
                    <a:pt x="111" y="129"/>
                  </a:cubicBezTo>
                  <a:cubicBezTo>
                    <a:pt x="109" y="124"/>
                    <a:pt x="95" y="80"/>
                    <a:pt x="97" y="78"/>
                  </a:cubicBezTo>
                  <a:cubicBezTo>
                    <a:pt x="103" y="72"/>
                    <a:pt x="106" y="93"/>
                    <a:pt x="111" y="100"/>
                  </a:cubicBezTo>
                  <a:cubicBezTo>
                    <a:pt x="114" y="112"/>
                    <a:pt x="116" y="125"/>
                    <a:pt x="119" y="137"/>
                  </a:cubicBezTo>
                  <a:cubicBezTo>
                    <a:pt x="121" y="147"/>
                    <a:pt x="135" y="163"/>
                    <a:pt x="126" y="166"/>
                  </a:cubicBezTo>
                  <a:cubicBezTo>
                    <a:pt x="114" y="170"/>
                    <a:pt x="106" y="153"/>
                    <a:pt x="97" y="144"/>
                  </a:cubicBezTo>
                  <a:cubicBezTo>
                    <a:pt x="71" y="118"/>
                    <a:pt x="44" y="93"/>
                    <a:pt x="23" y="63"/>
                  </a:cubicBezTo>
                  <a:cubicBezTo>
                    <a:pt x="18" y="56"/>
                    <a:pt x="0" y="44"/>
                    <a:pt x="8" y="41"/>
                  </a:cubicBezTo>
                  <a:cubicBezTo>
                    <a:pt x="20" y="36"/>
                    <a:pt x="33" y="50"/>
                    <a:pt x="45" y="55"/>
                  </a:cubicBezTo>
                  <a:cubicBezTo>
                    <a:pt x="52" y="65"/>
                    <a:pt x="58" y="76"/>
                    <a:pt x="67" y="85"/>
                  </a:cubicBezTo>
                  <a:cubicBezTo>
                    <a:pt x="73" y="91"/>
                    <a:pt x="93" y="108"/>
                    <a:pt x="89" y="100"/>
                  </a:cubicBezTo>
                  <a:cubicBezTo>
                    <a:pt x="78" y="78"/>
                    <a:pt x="60" y="61"/>
                    <a:pt x="45" y="41"/>
                  </a:cubicBezTo>
                  <a:cubicBezTo>
                    <a:pt x="15" y="0"/>
                    <a:pt x="12" y="7"/>
                    <a:pt x="60" y="26"/>
                  </a:cubicBezTo>
                  <a:cubicBezTo>
                    <a:pt x="70" y="46"/>
                    <a:pt x="83" y="64"/>
                    <a:pt x="89" y="85"/>
                  </a:cubicBezTo>
                  <a:cubicBezTo>
                    <a:pt x="92" y="95"/>
                    <a:pt x="104" y="108"/>
                    <a:pt x="97" y="115"/>
                  </a:cubicBezTo>
                  <a:cubicBezTo>
                    <a:pt x="86" y="126"/>
                    <a:pt x="74" y="53"/>
                    <a:pt x="74" y="70"/>
                  </a:cubicBezTo>
                  <a:cubicBezTo>
                    <a:pt x="74" y="93"/>
                    <a:pt x="85" y="104"/>
                    <a:pt x="97" y="122"/>
                  </a:cubicBezTo>
                  <a:cubicBezTo>
                    <a:pt x="104" y="186"/>
                    <a:pt x="98" y="252"/>
                    <a:pt x="134" y="307"/>
                  </a:cubicBezTo>
                  <a:cubicBezTo>
                    <a:pt x="139" y="263"/>
                    <a:pt x="147" y="224"/>
                    <a:pt x="156" y="181"/>
                  </a:cubicBezTo>
                  <a:cubicBezTo>
                    <a:pt x="153" y="265"/>
                    <a:pt x="158" y="349"/>
                    <a:pt x="148" y="432"/>
                  </a:cubicBezTo>
                  <a:cubicBezTo>
                    <a:pt x="144" y="467"/>
                    <a:pt x="115" y="495"/>
                    <a:pt x="104" y="528"/>
                  </a:cubicBezTo>
                  <a:cubicBezTo>
                    <a:pt x="101" y="538"/>
                    <a:pt x="101" y="549"/>
                    <a:pt x="97" y="558"/>
                  </a:cubicBezTo>
                  <a:cubicBezTo>
                    <a:pt x="94" y="566"/>
                    <a:pt x="78" y="588"/>
                    <a:pt x="82" y="580"/>
                  </a:cubicBezTo>
                  <a:cubicBezTo>
                    <a:pt x="87" y="570"/>
                    <a:pt x="92" y="560"/>
                    <a:pt x="97" y="550"/>
                  </a:cubicBezTo>
                  <a:cubicBezTo>
                    <a:pt x="122" y="589"/>
                    <a:pt x="104" y="702"/>
                    <a:pt x="104" y="7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96"/>
            <p:cNvSpPr/>
            <p:nvPr/>
          </p:nvSpPr>
          <p:spPr>
            <a:xfrm>
              <a:off x="993600" y="4548240"/>
              <a:ext cx="174960" cy="36360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2" y="222"/>
                  </a:moveTo>
                  <a:cubicBezTo>
                    <a:pt x="7" y="207"/>
                    <a:pt x="0" y="177"/>
                    <a:pt x="16" y="177"/>
                  </a:cubicBezTo>
                  <a:cubicBezTo>
                    <a:pt x="32" y="177"/>
                    <a:pt x="31" y="222"/>
                    <a:pt x="31" y="222"/>
                  </a:cubicBezTo>
                  <a:cubicBezTo>
                    <a:pt x="34" y="190"/>
                    <a:pt x="27" y="156"/>
                    <a:pt x="39" y="126"/>
                  </a:cubicBezTo>
                  <a:cubicBezTo>
                    <a:pt x="43" y="116"/>
                    <a:pt x="55" y="140"/>
                    <a:pt x="61" y="148"/>
                  </a:cubicBezTo>
                  <a:cubicBezTo>
                    <a:pt x="81" y="175"/>
                    <a:pt x="87" y="202"/>
                    <a:pt x="105" y="229"/>
                  </a:cubicBezTo>
                  <a:cubicBezTo>
                    <a:pt x="96" y="159"/>
                    <a:pt x="108" y="191"/>
                    <a:pt x="68" y="133"/>
                  </a:cubicBezTo>
                  <a:cubicBezTo>
                    <a:pt x="62" y="124"/>
                    <a:pt x="44" y="110"/>
                    <a:pt x="53" y="104"/>
                  </a:cubicBezTo>
                  <a:cubicBezTo>
                    <a:pt x="64" y="97"/>
                    <a:pt x="78" y="113"/>
                    <a:pt x="90" y="118"/>
                  </a:cubicBezTo>
                  <a:cubicBezTo>
                    <a:pt x="110" y="175"/>
                    <a:pt x="89" y="114"/>
                    <a:pt x="83" y="104"/>
                  </a:cubicBezTo>
                  <a:cubicBezTo>
                    <a:pt x="43" y="40"/>
                    <a:pt x="11" y="38"/>
                    <a:pt x="68" y="52"/>
                  </a:cubicBezTo>
                  <a:cubicBezTo>
                    <a:pt x="66" y="40"/>
                    <a:pt x="54" y="25"/>
                    <a:pt x="61" y="15"/>
                  </a:cubicBezTo>
                  <a:cubicBezTo>
                    <a:pt x="67" y="7"/>
                    <a:pt x="82" y="28"/>
                    <a:pt x="90" y="22"/>
                  </a:cubicBezTo>
                  <a:cubicBezTo>
                    <a:pt x="96" y="18"/>
                    <a:pt x="83" y="0"/>
                    <a:pt x="8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97"/>
            <p:cNvSpPr/>
            <p:nvPr/>
          </p:nvSpPr>
          <p:spPr>
            <a:xfrm>
              <a:off x="633240" y="3668760"/>
              <a:ext cx="293760" cy="169920"/>
            </a:xfrm>
            <a:custGeom>
              <a:avLst/>
              <a:gdLst/>
              <a:ahLst/>
              <a:rect l="l" t="t" r="r" b="b"/>
              <a:pathLst>
                <a:path w="185" h="107">
                  <a:moveTo>
                    <a:pt x="44" y="37"/>
                  </a:moveTo>
                  <a:cubicBezTo>
                    <a:pt x="104" y="59"/>
                    <a:pt x="93" y="72"/>
                    <a:pt x="103" y="0"/>
                  </a:cubicBezTo>
                  <a:cubicBezTo>
                    <a:pt x="125" y="3"/>
                    <a:pt x="149" y="0"/>
                    <a:pt x="170" y="8"/>
                  </a:cubicBezTo>
                  <a:cubicBezTo>
                    <a:pt x="177" y="11"/>
                    <a:pt x="185" y="29"/>
                    <a:pt x="177" y="30"/>
                  </a:cubicBezTo>
                  <a:cubicBezTo>
                    <a:pt x="121" y="40"/>
                    <a:pt x="64" y="35"/>
                    <a:pt x="7" y="37"/>
                  </a:cubicBezTo>
                  <a:cubicBezTo>
                    <a:pt x="10" y="57"/>
                    <a:pt x="0" y="83"/>
                    <a:pt x="15" y="96"/>
                  </a:cubicBezTo>
                  <a:cubicBezTo>
                    <a:pt x="28" y="107"/>
                    <a:pt x="58" y="104"/>
                    <a:pt x="66" y="89"/>
                  </a:cubicBezTo>
                  <a:cubicBezTo>
                    <a:pt x="74" y="72"/>
                    <a:pt x="51" y="54"/>
                    <a:pt x="44" y="3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698"/>
            <p:cNvSpPr/>
            <p:nvPr/>
          </p:nvSpPr>
          <p:spPr>
            <a:xfrm>
              <a:off x="932040" y="1503360"/>
              <a:ext cx="425160" cy="993600"/>
            </a:xfrm>
            <a:custGeom>
              <a:avLst/>
              <a:gdLst/>
              <a:ahLst/>
              <a:rect l="l" t="t" r="r" b="b"/>
              <a:pathLst>
                <a:path w="268" h="626">
                  <a:moveTo>
                    <a:pt x="19" y="589"/>
                  </a:moveTo>
                  <a:cubicBezTo>
                    <a:pt x="0" y="537"/>
                    <a:pt x="13" y="587"/>
                    <a:pt x="33" y="582"/>
                  </a:cubicBezTo>
                  <a:cubicBezTo>
                    <a:pt x="41" y="580"/>
                    <a:pt x="38" y="567"/>
                    <a:pt x="41" y="559"/>
                  </a:cubicBezTo>
                  <a:cubicBezTo>
                    <a:pt x="48" y="562"/>
                    <a:pt x="58" y="561"/>
                    <a:pt x="63" y="567"/>
                  </a:cubicBezTo>
                  <a:cubicBezTo>
                    <a:pt x="68" y="573"/>
                    <a:pt x="66" y="595"/>
                    <a:pt x="70" y="589"/>
                  </a:cubicBezTo>
                  <a:cubicBezTo>
                    <a:pt x="83" y="570"/>
                    <a:pt x="78" y="544"/>
                    <a:pt x="85" y="523"/>
                  </a:cubicBezTo>
                  <a:cubicBezTo>
                    <a:pt x="96" y="558"/>
                    <a:pt x="111" y="591"/>
                    <a:pt x="122" y="626"/>
                  </a:cubicBezTo>
                  <a:cubicBezTo>
                    <a:pt x="138" y="602"/>
                    <a:pt x="144" y="577"/>
                    <a:pt x="159" y="552"/>
                  </a:cubicBezTo>
                  <a:cubicBezTo>
                    <a:pt x="163" y="544"/>
                    <a:pt x="183" y="530"/>
                    <a:pt x="174" y="530"/>
                  </a:cubicBezTo>
                  <a:cubicBezTo>
                    <a:pt x="162" y="530"/>
                    <a:pt x="154" y="545"/>
                    <a:pt x="144" y="552"/>
                  </a:cubicBezTo>
                  <a:cubicBezTo>
                    <a:pt x="142" y="559"/>
                    <a:pt x="129" y="575"/>
                    <a:pt x="137" y="574"/>
                  </a:cubicBezTo>
                  <a:cubicBezTo>
                    <a:pt x="159" y="570"/>
                    <a:pt x="187" y="539"/>
                    <a:pt x="203" y="523"/>
                  </a:cubicBezTo>
                  <a:cubicBezTo>
                    <a:pt x="201" y="530"/>
                    <a:pt x="199" y="538"/>
                    <a:pt x="196" y="545"/>
                  </a:cubicBezTo>
                  <a:cubicBezTo>
                    <a:pt x="192" y="553"/>
                    <a:pt x="181" y="576"/>
                    <a:pt x="181" y="567"/>
                  </a:cubicBezTo>
                  <a:cubicBezTo>
                    <a:pt x="181" y="543"/>
                    <a:pt x="203" y="523"/>
                    <a:pt x="211" y="500"/>
                  </a:cubicBezTo>
                  <a:cubicBezTo>
                    <a:pt x="218" y="479"/>
                    <a:pt x="222" y="447"/>
                    <a:pt x="225" y="427"/>
                  </a:cubicBezTo>
                  <a:cubicBezTo>
                    <a:pt x="245" y="483"/>
                    <a:pt x="203" y="422"/>
                    <a:pt x="196" y="412"/>
                  </a:cubicBezTo>
                  <a:cubicBezTo>
                    <a:pt x="206" y="407"/>
                    <a:pt x="221" y="407"/>
                    <a:pt x="225" y="397"/>
                  </a:cubicBezTo>
                  <a:cubicBezTo>
                    <a:pt x="231" y="383"/>
                    <a:pt x="192" y="363"/>
                    <a:pt x="188" y="360"/>
                  </a:cubicBezTo>
                  <a:cubicBezTo>
                    <a:pt x="183" y="350"/>
                    <a:pt x="172" y="341"/>
                    <a:pt x="174" y="331"/>
                  </a:cubicBezTo>
                  <a:cubicBezTo>
                    <a:pt x="178" y="311"/>
                    <a:pt x="214" y="329"/>
                    <a:pt x="218" y="331"/>
                  </a:cubicBezTo>
                  <a:cubicBezTo>
                    <a:pt x="194" y="271"/>
                    <a:pt x="214" y="302"/>
                    <a:pt x="144" y="249"/>
                  </a:cubicBezTo>
                  <a:cubicBezTo>
                    <a:pt x="136" y="243"/>
                    <a:pt x="117" y="236"/>
                    <a:pt x="122" y="227"/>
                  </a:cubicBezTo>
                  <a:cubicBezTo>
                    <a:pt x="126" y="218"/>
                    <a:pt x="141" y="233"/>
                    <a:pt x="151" y="235"/>
                  </a:cubicBezTo>
                  <a:cubicBezTo>
                    <a:pt x="163" y="238"/>
                    <a:pt x="176" y="240"/>
                    <a:pt x="188" y="242"/>
                  </a:cubicBezTo>
                  <a:cubicBezTo>
                    <a:pt x="178" y="235"/>
                    <a:pt x="169" y="226"/>
                    <a:pt x="159" y="220"/>
                  </a:cubicBezTo>
                  <a:cubicBezTo>
                    <a:pt x="136" y="207"/>
                    <a:pt x="119" y="216"/>
                    <a:pt x="166" y="205"/>
                  </a:cubicBezTo>
                  <a:cubicBezTo>
                    <a:pt x="183" y="217"/>
                    <a:pt x="268" y="266"/>
                    <a:pt x="181" y="212"/>
                  </a:cubicBezTo>
                  <a:cubicBezTo>
                    <a:pt x="174" y="202"/>
                    <a:pt x="168" y="191"/>
                    <a:pt x="159" y="183"/>
                  </a:cubicBezTo>
                  <a:cubicBezTo>
                    <a:pt x="150" y="176"/>
                    <a:pt x="138" y="175"/>
                    <a:pt x="129" y="168"/>
                  </a:cubicBezTo>
                  <a:cubicBezTo>
                    <a:pt x="43" y="97"/>
                    <a:pt x="71" y="114"/>
                    <a:pt x="129" y="131"/>
                  </a:cubicBezTo>
                  <a:cubicBezTo>
                    <a:pt x="202" y="185"/>
                    <a:pt x="126" y="115"/>
                    <a:pt x="115" y="102"/>
                  </a:cubicBezTo>
                  <a:cubicBezTo>
                    <a:pt x="106" y="91"/>
                    <a:pt x="75" y="82"/>
                    <a:pt x="85" y="72"/>
                  </a:cubicBezTo>
                  <a:cubicBezTo>
                    <a:pt x="97" y="59"/>
                    <a:pt x="120" y="77"/>
                    <a:pt x="137" y="79"/>
                  </a:cubicBezTo>
                  <a:cubicBezTo>
                    <a:pt x="200" y="102"/>
                    <a:pt x="113" y="33"/>
                    <a:pt x="107" y="28"/>
                  </a:cubicBezTo>
                  <a:cubicBezTo>
                    <a:pt x="74" y="0"/>
                    <a:pt x="60" y="3"/>
                    <a:pt x="115" y="13"/>
                  </a:cubicBezTo>
                  <a:cubicBezTo>
                    <a:pt x="125" y="23"/>
                    <a:pt x="135" y="32"/>
                    <a:pt x="144" y="43"/>
                  </a:cubicBezTo>
                  <a:cubicBezTo>
                    <a:pt x="155" y="57"/>
                    <a:pt x="174" y="87"/>
                    <a:pt x="174" y="87"/>
                  </a:cubicBezTo>
                  <a:cubicBezTo>
                    <a:pt x="176" y="94"/>
                    <a:pt x="178" y="102"/>
                    <a:pt x="181" y="109"/>
                  </a:cubicBezTo>
                  <a:cubicBezTo>
                    <a:pt x="185" y="117"/>
                    <a:pt x="193" y="123"/>
                    <a:pt x="196" y="131"/>
                  </a:cubicBezTo>
                  <a:cubicBezTo>
                    <a:pt x="224" y="198"/>
                    <a:pt x="181" y="128"/>
                    <a:pt x="218" y="183"/>
                  </a:cubicBezTo>
                  <a:cubicBezTo>
                    <a:pt x="227" y="237"/>
                    <a:pt x="225" y="212"/>
                    <a:pt x="225" y="25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99"/>
            <p:cNvSpPr/>
            <p:nvPr/>
          </p:nvSpPr>
          <p:spPr>
            <a:xfrm>
              <a:off x="-93600" y="1405080"/>
              <a:ext cx="1204920" cy="338040"/>
            </a:xfrm>
            <a:custGeom>
              <a:avLst/>
              <a:gdLst/>
              <a:ahLst/>
              <a:rect l="l" t="t" r="r" b="b"/>
              <a:pathLst>
                <a:path w="759" h="213">
                  <a:moveTo>
                    <a:pt x="0" y="75"/>
                  </a:moveTo>
                  <a:cubicBezTo>
                    <a:pt x="2" y="95"/>
                    <a:pt x="0" y="115"/>
                    <a:pt x="7" y="134"/>
                  </a:cubicBezTo>
                  <a:cubicBezTo>
                    <a:pt x="22" y="175"/>
                    <a:pt x="106" y="188"/>
                    <a:pt x="140" y="193"/>
                  </a:cubicBezTo>
                  <a:cubicBezTo>
                    <a:pt x="182" y="191"/>
                    <a:pt x="231" y="210"/>
                    <a:pt x="266" y="186"/>
                  </a:cubicBezTo>
                  <a:cubicBezTo>
                    <a:pt x="286" y="172"/>
                    <a:pt x="267" y="135"/>
                    <a:pt x="258" y="112"/>
                  </a:cubicBezTo>
                  <a:cubicBezTo>
                    <a:pt x="255" y="105"/>
                    <a:pt x="244" y="106"/>
                    <a:pt x="236" y="105"/>
                  </a:cubicBezTo>
                  <a:cubicBezTo>
                    <a:pt x="204" y="101"/>
                    <a:pt x="172" y="100"/>
                    <a:pt x="140" y="97"/>
                  </a:cubicBezTo>
                  <a:cubicBezTo>
                    <a:pt x="95" y="83"/>
                    <a:pt x="93" y="82"/>
                    <a:pt x="37" y="90"/>
                  </a:cubicBezTo>
                  <a:cubicBezTo>
                    <a:pt x="34" y="105"/>
                    <a:pt x="32" y="119"/>
                    <a:pt x="29" y="134"/>
                  </a:cubicBezTo>
                  <a:cubicBezTo>
                    <a:pt x="27" y="144"/>
                    <a:pt x="22" y="174"/>
                    <a:pt x="22" y="164"/>
                  </a:cubicBezTo>
                  <a:cubicBezTo>
                    <a:pt x="22" y="149"/>
                    <a:pt x="27" y="134"/>
                    <a:pt x="29" y="119"/>
                  </a:cubicBezTo>
                  <a:cubicBezTo>
                    <a:pt x="115" y="122"/>
                    <a:pt x="204" y="107"/>
                    <a:pt x="288" y="127"/>
                  </a:cubicBezTo>
                  <a:cubicBezTo>
                    <a:pt x="305" y="131"/>
                    <a:pt x="294" y="167"/>
                    <a:pt x="281" y="178"/>
                  </a:cubicBezTo>
                  <a:cubicBezTo>
                    <a:pt x="266" y="191"/>
                    <a:pt x="241" y="183"/>
                    <a:pt x="221" y="186"/>
                  </a:cubicBezTo>
                  <a:cubicBezTo>
                    <a:pt x="274" y="213"/>
                    <a:pt x="255" y="210"/>
                    <a:pt x="347" y="193"/>
                  </a:cubicBezTo>
                  <a:cubicBezTo>
                    <a:pt x="358" y="191"/>
                    <a:pt x="367" y="182"/>
                    <a:pt x="377" y="178"/>
                  </a:cubicBezTo>
                  <a:cubicBezTo>
                    <a:pt x="391" y="172"/>
                    <a:pt x="421" y="164"/>
                    <a:pt x="421" y="164"/>
                  </a:cubicBezTo>
                  <a:cubicBezTo>
                    <a:pt x="409" y="64"/>
                    <a:pt x="416" y="88"/>
                    <a:pt x="310" y="97"/>
                  </a:cubicBezTo>
                  <a:cubicBezTo>
                    <a:pt x="352" y="100"/>
                    <a:pt x="399" y="84"/>
                    <a:pt x="436" y="105"/>
                  </a:cubicBezTo>
                  <a:cubicBezTo>
                    <a:pt x="453" y="115"/>
                    <a:pt x="432" y="144"/>
                    <a:pt x="428" y="164"/>
                  </a:cubicBezTo>
                  <a:cubicBezTo>
                    <a:pt x="427" y="172"/>
                    <a:pt x="413" y="185"/>
                    <a:pt x="421" y="186"/>
                  </a:cubicBezTo>
                  <a:cubicBezTo>
                    <a:pt x="480" y="191"/>
                    <a:pt x="539" y="181"/>
                    <a:pt x="598" y="178"/>
                  </a:cubicBezTo>
                  <a:cubicBezTo>
                    <a:pt x="587" y="73"/>
                    <a:pt x="586" y="104"/>
                    <a:pt x="465" y="112"/>
                  </a:cubicBezTo>
                  <a:cubicBezTo>
                    <a:pt x="527" y="127"/>
                    <a:pt x="585" y="130"/>
                    <a:pt x="650" y="134"/>
                  </a:cubicBezTo>
                  <a:cubicBezTo>
                    <a:pt x="665" y="139"/>
                    <a:pt x="728" y="151"/>
                    <a:pt x="665" y="193"/>
                  </a:cubicBezTo>
                  <a:cubicBezTo>
                    <a:pt x="642" y="208"/>
                    <a:pt x="556" y="201"/>
                    <a:pt x="583" y="201"/>
                  </a:cubicBezTo>
                  <a:cubicBezTo>
                    <a:pt x="620" y="201"/>
                    <a:pt x="657" y="196"/>
                    <a:pt x="694" y="193"/>
                  </a:cubicBezTo>
                  <a:cubicBezTo>
                    <a:pt x="712" y="136"/>
                    <a:pt x="733" y="79"/>
                    <a:pt x="665" y="60"/>
                  </a:cubicBezTo>
                  <a:cubicBezTo>
                    <a:pt x="618" y="63"/>
                    <a:pt x="570" y="57"/>
                    <a:pt x="524" y="68"/>
                  </a:cubicBezTo>
                  <a:cubicBezTo>
                    <a:pt x="514" y="70"/>
                    <a:pt x="526" y="93"/>
                    <a:pt x="517" y="97"/>
                  </a:cubicBezTo>
                  <a:cubicBezTo>
                    <a:pt x="509" y="101"/>
                    <a:pt x="504" y="83"/>
                    <a:pt x="495" y="82"/>
                  </a:cubicBezTo>
                  <a:cubicBezTo>
                    <a:pt x="431" y="75"/>
                    <a:pt x="367" y="77"/>
                    <a:pt x="303" y="75"/>
                  </a:cubicBezTo>
                  <a:cubicBezTo>
                    <a:pt x="320" y="0"/>
                    <a:pt x="398" y="41"/>
                    <a:pt x="473" y="45"/>
                  </a:cubicBezTo>
                  <a:cubicBezTo>
                    <a:pt x="513" y="177"/>
                    <a:pt x="451" y="98"/>
                    <a:pt x="753" y="90"/>
                  </a:cubicBezTo>
                  <a:cubicBezTo>
                    <a:pt x="742" y="34"/>
                    <a:pt x="759" y="53"/>
                    <a:pt x="687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04"/>
            <p:cNvSpPr/>
            <p:nvPr/>
          </p:nvSpPr>
          <p:spPr>
            <a:xfrm>
              <a:off x="4997520" y="4888080"/>
              <a:ext cx="2282760" cy="291960"/>
            </a:xfrm>
            <a:custGeom>
              <a:avLst/>
              <a:gdLst/>
              <a:ahLst/>
              <a:rect l="l" t="t" r="r" b="b"/>
              <a:pathLst>
                <a:path w="1438" h="184">
                  <a:moveTo>
                    <a:pt x="611" y="178"/>
                  </a:moveTo>
                  <a:cubicBezTo>
                    <a:pt x="613" y="168"/>
                    <a:pt x="609" y="153"/>
                    <a:pt x="618" y="148"/>
                  </a:cubicBezTo>
                  <a:cubicBezTo>
                    <a:pt x="631" y="140"/>
                    <a:pt x="661" y="164"/>
                    <a:pt x="670" y="170"/>
                  </a:cubicBezTo>
                  <a:cubicBezTo>
                    <a:pt x="675" y="163"/>
                    <a:pt x="684" y="157"/>
                    <a:pt x="685" y="148"/>
                  </a:cubicBezTo>
                  <a:cubicBezTo>
                    <a:pt x="691" y="112"/>
                    <a:pt x="647" y="133"/>
                    <a:pt x="707" y="119"/>
                  </a:cubicBezTo>
                  <a:cubicBezTo>
                    <a:pt x="740" y="130"/>
                    <a:pt x="759" y="134"/>
                    <a:pt x="788" y="155"/>
                  </a:cubicBezTo>
                  <a:cubicBezTo>
                    <a:pt x="790" y="148"/>
                    <a:pt x="796" y="141"/>
                    <a:pt x="795" y="133"/>
                  </a:cubicBezTo>
                  <a:cubicBezTo>
                    <a:pt x="794" y="122"/>
                    <a:pt x="778" y="114"/>
                    <a:pt x="781" y="104"/>
                  </a:cubicBezTo>
                  <a:cubicBezTo>
                    <a:pt x="785" y="94"/>
                    <a:pt x="800" y="94"/>
                    <a:pt x="810" y="89"/>
                  </a:cubicBezTo>
                  <a:cubicBezTo>
                    <a:pt x="817" y="94"/>
                    <a:pt x="823" y="106"/>
                    <a:pt x="832" y="104"/>
                  </a:cubicBezTo>
                  <a:cubicBezTo>
                    <a:pt x="859" y="99"/>
                    <a:pt x="843" y="69"/>
                    <a:pt x="840" y="59"/>
                  </a:cubicBezTo>
                  <a:cubicBezTo>
                    <a:pt x="874" y="37"/>
                    <a:pt x="882" y="50"/>
                    <a:pt x="914" y="74"/>
                  </a:cubicBezTo>
                  <a:cubicBezTo>
                    <a:pt x="945" y="25"/>
                    <a:pt x="948" y="45"/>
                    <a:pt x="987" y="67"/>
                  </a:cubicBezTo>
                  <a:cubicBezTo>
                    <a:pt x="999" y="74"/>
                    <a:pt x="1012" y="76"/>
                    <a:pt x="1024" y="82"/>
                  </a:cubicBezTo>
                  <a:cubicBezTo>
                    <a:pt x="1032" y="86"/>
                    <a:pt x="1039" y="91"/>
                    <a:pt x="1046" y="96"/>
                  </a:cubicBezTo>
                  <a:cubicBezTo>
                    <a:pt x="1044" y="89"/>
                    <a:pt x="1032" y="78"/>
                    <a:pt x="1039" y="74"/>
                  </a:cubicBezTo>
                  <a:cubicBezTo>
                    <a:pt x="1048" y="69"/>
                    <a:pt x="1059" y="79"/>
                    <a:pt x="1069" y="82"/>
                  </a:cubicBezTo>
                  <a:cubicBezTo>
                    <a:pt x="1101" y="91"/>
                    <a:pt x="1091" y="89"/>
                    <a:pt x="1128" y="111"/>
                  </a:cubicBezTo>
                  <a:cubicBezTo>
                    <a:pt x="1147" y="122"/>
                    <a:pt x="1172" y="116"/>
                    <a:pt x="1194" y="119"/>
                  </a:cubicBezTo>
                  <a:cubicBezTo>
                    <a:pt x="1165" y="82"/>
                    <a:pt x="1158" y="78"/>
                    <a:pt x="1120" y="59"/>
                  </a:cubicBezTo>
                  <a:cubicBezTo>
                    <a:pt x="1112" y="55"/>
                    <a:pt x="1106" y="49"/>
                    <a:pt x="1098" y="45"/>
                  </a:cubicBezTo>
                  <a:cubicBezTo>
                    <a:pt x="1091" y="42"/>
                    <a:pt x="1068" y="35"/>
                    <a:pt x="1076" y="37"/>
                  </a:cubicBezTo>
                  <a:cubicBezTo>
                    <a:pt x="1103" y="43"/>
                    <a:pt x="1157" y="59"/>
                    <a:pt x="1157" y="59"/>
                  </a:cubicBezTo>
                  <a:cubicBezTo>
                    <a:pt x="1132" y="23"/>
                    <a:pt x="1115" y="35"/>
                    <a:pt x="1076" y="15"/>
                  </a:cubicBezTo>
                  <a:cubicBezTo>
                    <a:pt x="1068" y="11"/>
                    <a:pt x="1054" y="0"/>
                    <a:pt x="1054" y="0"/>
                  </a:cubicBezTo>
                  <a:cubicBezTo>
                    <a:pt x="1082" y="15"/>
                    <a:pt x="1063" y="7"/>
                    <a:pt x="1113" y="15"/>
                  </a:cubicBezTo>
                  <a:cubicBezTo>
                    <a:pt x="1154" y="39"/>
                    <a:pt x="1194" y="56"/>
                    <a:pt x="1238" y="74"/>
                  </a:cubicBezTo>
                  <a:cubicBezTo>
                    <a:pt x="1286" y="94"/>
                    <a:pt x="1272" y="84"/>
                    <a:pt x="1312" y="96"/>
                  </a:cubicBezTo>
                  <a:cubicBezTo>
                    <a:pt x="1319" y="98"/>
                    <a:pt x="1342" y="104"/>
                    <a:pt x="1334" y="104"/>
                  </a:cubicBezTo>
                  <a:cubicBezTo>
                    <a:pt x="1324" y="104"/>
                    <a:pt x="1295" y="95"/>
                    <a:pt x="1305" y="96"/>
                  </a:cubicBezTo>
                  <a:cubicBezTo>
                    <a:pt x="1350" y="99"/>
                    <a:pt x="1438" y="111"/>
                    <a:pt x="1438" y="111"/>
                  </a:cubicBezTo>
                  <a:cubicBezTo>
                    <a:pt x="1385" y="125"/>
                    <a:pt x="1171" y="107"/>
                    <a:pt x="1283" y="133"/>
                  </a:cubicBezTo>
                  <a:cubicBezTo>
                    <a:pt x="1290" y="138"/>
                    <a:pt x="1308" y="140"/>
                    <a:pt x="1305" y="148"/>
                  </a:cubicBezTo>
                  <a:cubicBezTo>
                    <a:pt x="1301" y="158"/>
                    <a:pt x="1285" y="155"/>
                    <a:pt x="1275" y="155"/>
                  </a:cubicBezTo>
                  <a:cubicBezTo>
                    <a:pt x="1236" y="155"/>
                    <a:pt x="1196" y="150"/>
                    <a:pt x="1157" y="148"/>
                  </a:cubicBezTo>
                  <a:cubicBezTo>
                    <a:pt x="1128" y="150"/>
                    <a:pt x="1096" y="143"/>
                    <a:pt x="1069" y="155"/>
                  </a:cubicBezTo>
                  <a:cubicBezTo>
                    <a:pt x="1057" y="160"/>
                    <a:pt x="1119" y="166"/>
                    <a:pt x="1106" y="170"/>
                  </a:cubicBezTo>
                  <a:cubicBezTo>
                    <a:pt x="1087" y="177"/>
                    <a:pt x="1066" y="165"/>
                    <a:pt x="1046" y="163"/>
                  </a:cubicBezTo>
                  <a:cubicBezTo>
                    <a:pt x="1041" y="161"/>
                    <a:pt x="998" y="145"/>
                    <a:pt x="995" y="148"/>
                  </a:cubicBezTo>
                  <a:cubicBezTo>
                    <a:pt x="988" y="155"/>
                    <a:pt x="1010" y="172"/>
                    <a:pt x="1002" y="178"/>
                  </a:cubicBezTo>
                  <a:cubicBezTo>
                    <a:pt x="993" y="184"/>
                    <a:pt x="983" y="167"/>
                    <a:pt x="973" y="163"/>
                  </a:cubicBezTo>
                  <a:cubicBezTo>
                    <a:pt x="966" y="160"/>
                    <a:pt x="958" y="158"/>
                    <a:pt x="950" y="155"/>
                  </a:cubicBezTo>
                  <a:cubicBezTo>
                    <a:pt x="921" y="133"/>
                    <a:pt x="912" y="122"/>
                    <a:pt x="877" y="133"/>
                  </a:cubicBezTo>
                  <a:cubicBezTo>
                    <a:pt x="884" y="143"/>
                    <a:pt x="910" y="158"/>
                    <a:pt x="899" y="163"/>
                  </a:cubicBezTo>
                  <a:cubicBezTo>
                    <a:pt x="880" y="171"/>
                    <a:pt x="860" y="152"/>
                    <a:pt x="840" y="148"/>
                  </a:cubicBezTo>
                  <a:cubicBezTo>
                    <a:pt x="825" y="145"/>
                    <a:pt x="810" y="143"/>
                    <a:pt x="795" y="141"/>
                  </a:cubicBezTo>
                  <a:cubicBezTo>
                    <a:pt x="790" y="139"/>
                    <a:pt x="756" y="121"/>
                    <a:pt x="751" y="141"/>
                  </a:cubicBezTo>
                  <a:cubicBezTo>
                    <a:pt x="749" y="150"/>
                    <a:pt x="775" y="163"/>
                    <a:pt x="766" y="163"/>
                  </a:cubicBezTo>
                  <a:cubicBezTo>
                    <a:pt x="754" y="163"/>
                    <a:pt x="747" y="147"/>
                    <a:pt x="736" y="141"/>
                  </a:cubicBezTo>
                  <a:cubicBezTo>
                    <a:pt x="729" y="137"/>
                    <a:pt x="721" y="136"/>
                    <a:pt x="714" y="133"/>
                  </a:cubicBezTo>
                  <a:cubicBezTo>
                    <a:pt x="707" y="138"/>
                    <a:pt x="698" y="142"/>
                    <a:pt x="692" y="148"/>
                  </a:cubicBezTo>
                  <a:cubicBezTo>
                    <a:pt x="686" y="154"/>
                    <a:pt x="685" y="173"/>
                    <a:pt x="677" y="170"/>
                  </a:cubicBezTo>
                  <a:cubicBezTo>
                    <a:pt x="658" y="163"/>
                    <a:pt x="648" y="141"/>
                    <a:pt x="633" y="126"/>
                  </a:cubicBezTo>
                  <a:cubicBezTo>
                    <a:pt x="612" y="105"/>
                    <a:pt x="597" y="97"/>
                    <a:pt x="574" y="82"/>
                  </a:cubicBezTo>
                  <a:cubicBezTo>
                    <a:pt x="536" y="133"/>
                    <a:pt x="564" y="88"/>
                    <a:pt x="544" y="141"/>
                  </a:cubicBezTo>
                  <a:cubicBezTo>
                    <a:pt x="540" y="151"/>
                    <a:pt x="530" y="181"/>
                    <a:pt x="530" y="170"/>
                  </a:cubicBezTo>
                  <a:cubicBezTo>
                    <a:pt x="530" y="155"/>
                    <a:pt x="544" y="126"/>
                    <a:pt x="544" y="126"/>
                  </a:cubicBezTo>
                  <a:cubicBezTo>
                    <a:pt x="542" y="119"/>
                    <a:pt x="545" y="104"/>
                    <a:pt x="537" y="104"/>
                  </a:cubicBezTo>
                  <a:cubicBezTo>
                    <a:pt x="527" y="104"/>
                    <a:pt x="524" y="121"/>
                    <a:pt x="515" y="126"/>
                  </a:cubicBezTo>
                  <a:cubicBezTo>
                    <a:pt x="496" y="137"/>
                    <a:pt x="456" y="143"/>
                    <a:pt x="434" y="148"/>
                  </a:cubicBezTo>
                  <a:cubicBezTo>
                    <a:pt x="431" y="136"/>
                    <a:pt x="436" y="118"/>
                    <a:pt x="426" y="111"/>
                  </a:cubicBezTo>
                  <a:cubicBezTo>
                    <a:pt x="419" y="106"/>
                    <a:pt x="412" y="122"/>
                    <a:pt x="404" y="126"/>
                  </a:cubicBezTo>
                  <a:cubicBezTo>
                    <a:pt x="394" y="132"/>
                    <a:pt x="384" y="136"/>
                    <a:pt x="374" y="141"/>
                  </a:cubicBezTo>
                  <a:cubicBezTo>
                    <a:pt x="367" y="138"/>
                    <a:pt x="350" y="141"/>
                    <a:pt x="352" y="133"/>
                  </a:cubicBezTo>
                  <a:cubicBezTo>
                    <a:pt x="355" y="121"/>
                    <a:pt x="393" y="116"/>
                    <a:pt x="382" y="111"/>
                  </a:cubicBezTo>
                  <a:cubicBezTo>
                    <a:pt x="364" y="102"/>
                    <a:pt x="343" y="116"/>
                    <a:pt x="323" y="119"/>
                  </a:cubicBezTo>
                  <a:cubicBezTo>
                    <a:pt x="308" y="121"/>
                    <a:pt x="293" y="124"/>
                    <a:pt x="278" y="126"/>
                  </a:cubicBezTo>
                  <a:cubicBezTo>
                    <a:pt x="261" y="128"/>
                    <a:pt x="244" y="131"/>
                    <a:pt x="227" y="133"/>
                  </a:cubicBezTo>
                  <a:cubicBezTo>
                    <a:pt x="211" y="128"/>
                    <a:pt x="184" y="127"/>
                    <a:pt x="219" y="104"/>
                  </a:cubicBezTo>
                  <a:cubicBezTo>
                    <a:pt x="255" y="80"/>
                    <a:pt x="280" y="72"/>
                    <a:pt x="315" y="59"/>
                  </a:cubicBezTo>
                  <a:cubicBezTo>
                    <a:pt x="246" y="46"/>
                    <a:pt x="0" y="59"/>
                    <a:pt x="182" y="37"/>
                  </a:cubicBezTo>
                  <a:cubicBezTo>
                    <a:pt x="158" y="29"/>
                    <a:pt x="160" y="38"/>
                    <a:pt x="160" y="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05"/>
            <p:cNvSpPr/>
            <p:nvPr/>
          </p:nvSpPr>
          <p:spPr>
            <a:xfrm>
              <a:off x="2157480" y="5035680"/>
              <a:ext cx="879480" cy="180720"/>
            </a:xfrm>
            <a:custGeom>
              <a:avLst/>
              <a:gdLst/>
              <a:ahLst/>
              <a:rect l="l" t="t" r="r" b="b"/>
              <a:pathLst>
                <a:path w="554" h="114">
                  <a:moveTo>
                    <a:pt x="554" y="18"/>
                  </a:moveTo>
                  <a:cubicBezTo>
                    <a:pt x="542" y="16"/>
                    <a:pt x="529" y="14"/>
                    <a:pt x="517" y="11"/>
                  </a:cubicBezTo>
                  <a:cubicBezTo>
                    <a:pt x="509" y="9"/>
                    <a:pt x="502" y="0"/>
                    <a:pt x="495" y="3"/>
                  </a:cubicBezTo>
                  <a:cubicBezTo>
                    <a:pt x="487" y="6"/>
                    <a:pt x="488" y="21"/>
                    <a:pt x="480" y="26"/>
                  </a:cubicBezTo>
                  <a:cubicBezTo>
                    <a:pt x="471" y="32"/>
                    <a:pt x="460" y="31"/>
                    <a:pt x="450" y="33"/>
                  </a:cubicBezTo>
                  <a:cubicBezTo>
                    <a:pt x="449" y="33"/>
                    <a:pt x="340" y="2"/>
                    <a:pt x="406" y="26"/>
                  </a:cubicBezTo>
                  <a:cubicBezTo>
                    <a:pt x="411" y="33"/>
                    <a:pt x="425" y="40"/>
                    <a:pt x="421" y="48"/>
                  </a:cubicBezTo>
                  <a:cubicBezTo>
                    <a:pt x="416" y="57"/>
                    <a:pt x="401" y="54"/>
                    <a:pt x="391" y="55"/>
                  </a:cubicBezTo>
                  <a:cubicBezTo>
                    <a:pt x="364" y="58"/>
                    <a:pt x="337" y="60"/>
                    <a:pt x="310" y="62"/>
                  </a:cubicBezTo>
                  <a:cubicBezTo>
                    <a:pt x="252" y="91"/>
                    <a:pt x="301" y="71"/>
                    <a:pt x="199" y="85"/>
                  </a:cubicBezTo>
                  <a:cubicBezTo>
                    <a:pt x="152" y="91"/>
                    <a:pt x="105" y="103"/>
                    <a:pt x="59" y="114"/>
                  </a:cubicBezTo>
                  <a:cubicBezTo>
                    <a:pt x="20" y="105"/>
                    <a:pt x="39" y="107"/>
                    <a:pt x="0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706"/>
            <p:cNvSpPr/>
            <p:nvPr/>
          </p:nvSpPr>
          <p:spPr>
            <a:xfrm>
              <a:off x="2306520" y="5141880"/>
              <a:ext cx="647640" cy="109440"/>
            </a:xfrm>
            <a:custGeom>
              <a:avLst/>
              <a:gdLst/>
              <a:ahLst/>
              <a:rect l="l" t="t" r="r" b="b"/>
              <a:pathLst>
                <a:path w="408" h="69">
                  <a:moveTo>
                    <a:pt x="17" y="69"/>
                  </a:moveTo>
                  <a:cubicBezTo>
                    <a:pt x="12" y="62"/>
                    <a:pt x="0" y="56"/>
                    <a:pt x="2" y="47"/>
                  </a:cubicBezTo>
                  <a:cubicBezTo>
                    <a:pt x="7" y="27"/>
                    <a:pt x="60" y="52"/>
                    <a:pt x="68" y="55"/>
                  </a:cubicBezTo>
                  <a:cubicBezTo>
                    <a:pt x="63" y="47"/>
                    <a:pt x="57" y="40"/>
                    <a:pt x="53" y="32"/>
                  </a:cubicBezTo>
                  <a:cubicBezTo>
                    <a:pt x="50" y="25"/>
                    <a:pt x="39" y="13"/>
                    <a:pt x="46" y="10"/>
                  </a:cubicBezTo>
                  <a:cubicBezTo>
                    <a:pt x="69" y="1"/>
                    <a:pt x="122" y="30"/>
                    <a:pt x="142" y="40"/>
                  </a:cubicBezTo>
                  <a:cubicBezTo>
                    <a:pt x="152" y="37"/>
                    <a:pt x="169" y="42"/>
                    <a:pt x="172" y="32"/>
                  </a:cubicBezTo>
                  <a:cubicBezTo>
                    <a:pt x="175" y="23"/>
                    <a:pt x="146" y="27"/>
                    <a:pt x="149" y="18"/>
                  </a:cubicBezTo>
                  <a:cubicBezTo>
                    <a:pt x="152" y="8"/>
                    <a:pt x="169" y="13"/>
                    <a:pt x="179" y="10"/>
                  </a:cubicBezTo>
                  <a:cubicBezTo>
                    <a:pt x="205" y="28"/>
                    <a:pt x="232" y="32"/>
                    <a:pt x="260" y="47"/>
                  </a:cubicBezTo>
                  <a:cubicBezTo>
                    <a:pt x="348" y="27"/>
                    <a:pt x="262" y="52"/>
                    <a:pt x="268" y="32"/>
                  </a:cubicBezTo>
                  <a:cubicBezTo>
                    <a:pt x="271" y="22"/>
                    <a:pt x="287" y="22"/>
                    <a:pt x="297" y="18"/>
                  </a:cubicBezTo>
                  <a:cubicBezTo>
                    <a:pt x="339" y="0"/>
                    <a:pt x="341" y="10"/>
                    <a:pt x="408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712"/>
            <p:cNvSpPr/>
            <p:nvPr/>
          </p:nvSpPr>
          <p:spPr>
            <a:xfrm>
              <a:off x="5767560" y="5416560"/>
              <a:ext cx="3517560" cy="388800"/>
            </a:xfrm>
            <a:custGeom>
              <a:avLst/>
              <a:gdLst/>
              <a:ahLst/>
              <a:rect l="l" t="t" r="r" b="b"/>
              <a:pathLst>
                <a:path w="2216" h="245">
                  <a:moveTo>
                    <a:pt x="0" y="0"/>
                  </a:moveTo>
                  <a:cubicBezTo>
                    <a:pt x="7" y="5"/>
                    <a:pt x="14" y="11"/>
                    <a:pt x="22" y="14"/>
                  </a:cubicBezTo>
                  <a:cubicBezTo>
                    <a:pt x="37" y="20"/>
                    <a:pt x="67" y="29"/>
                    <a:pt x="67" y="29"/>
                  </a:cubicBezTo>
                  <a:cubicBezTo>
                    <a:pt x="104" y="17"/>
                    <a:pt x="103" y="38"/>
                    <a:pt x="133" y="59"/>
                  </a:cubicBezTo>
                  <a:cubicBezTo>
                    <a:pt x="136" y="52"/>
                    <a:pt x="134" y="40"/>
                    <a:pt x="141" y="37"/>
                  </a:cubicBezTo>
                  <a:cubicBezTo>
                    <a:pt x="148" y="34"/>
                    <a:pt x="156" y="41"/>
                    <a:pt x="163" y="44"/>
                  </a:cubicBezTo>
                  <a:cubicBezTo>
                    <a:pt x="195" y="60"/>
                    <a:pt x="218" y="84"/>
                    <a:pt x="251" y="96"/>
                  </a:cubicBezTo>
                  <a:cubicBezTo>
                    <a:pt x="291" y="81"/>
                    <a:pt x="278" y="109"/>
                    <a:pt x="318" y="96"/>
                  </a:cubicBezTo>
                  <a:cubicBezTo>
                    <a:pt x="362" y="111"/>
                    <a:pt x="404" y="122"/>
                    <a:pt x="443" y="147"/>
                  </a:cubicBezTo>
                  <a:cubicBezTo>
                    <a:pt x="517" y="123"/>
                    <a:pt x="588" y="199"/>
                    <a:pt x="657" y="221"/>
                  </a:cubicBezTo>
                  <a:cubicBezTo>
                    <a:pt x="668" y="158"/>
                    <a:pt x="658" y="173"/>
                    <a:pt x="709" y="192"/>
                  </a:cubicBezTo>
                  <a:cubicBezTo>
                    <a:pt x="719" y="199"/>
                    <a:pt x="727" y="214"/>
                    <a:pt x="739" y="214"/>
                  </a:cubicBezTo>
                  <a:cubicBezTo>
                    <a:pt x="747" y="214"/>
                    <a:pt x="739" y="194"/>
                    <a:pt x="746" y="192"/>
                  </a:cubicBezTo>
                  <a:cubicBezTo>
                    <a:pt x="772" y="185"/>
                    <a:pt x="822" y="204"/>
                    <a:pt x="849" y="214"/>
                  </a:cubicBezTo>
                  <a:cubicBezTo>
                    <a:pt x="910" y="193"/>
                    <a:pt x="964" y="205"/>
                    <a:pt x="1027" y="214"/>
                  </a:cubicBezTo>
                  <a:cubicBezTo>
                    <a:pt x="1020" y="207"/>
                    <a:pt x="1014" y="197"/>
                    <a:pt x="1005" y="192"/>
                  </a:cubicBezTo>
                  <a:cubicBezTo>
                    <a:pt x="981" y="178"/>
                    <a:pt x="955" y="190"/>
                    <a:pt x="997" y="177"/>
                  </a:cubicBezTo>
                  <a:cubicBezTo>
                    <a:pt x="1065" y="193"/>
                    <a:pt x="982" y="175"/>
                    <a:pt x="1093" y="192"/>
                  </a:cubicBezTo>
                  <a:cubicBezTo>
                    <a:pt x="1103" y="194"/>
                    <a:pt x="1130" y="207"/>
                    <a:pt x="1123" y="199"/>
                  </a:cubicBezTo>
                  <a:cubicBezTo>
                    <a:pt x="1114" y="189"/>
                    <a:pt x="1098" y="190"/>
                    <a:pt x="1086" y="184"/>
                  </a:cubicBezTo>
                  <a:cubicBezTo>
                    <a:pt x="1018" y="151"/>
                    <a:pt x="1125" y="180"/>
                    <a:pt x="1152" y="184"/>
                  </a:cubicBezTo>
                  <a:cubicBezTo>
                    <a:pt x="1172" y="194"/>
                    <a:pt x="1223" y="233"/>
                    <a:pt x="1211" y="214"/>
                  </a:cubicBezTo>
                  <a:cubicBezTo>
                    <a:pt x="1206" y="207"/>
                    <a:pt x="1204" y="197"/>
                    <a:pt x="1197" y="192"/>
                  </a:cubicBezTo>
                  <a:cubicBezTo>
                    <a:pt x="1191" y="187"/>
                    <a:pt x="1166" y="184"/>
                    <a:pt x="1174" y="184"/>
                  </a:cubicBezTo>
                  <a:cubicBezTo>
                    <a:pt x="1209" y="184"/>
                    <a:pt x="1243" y="189"/>
                    <a:pt x="1278" y="192"/>
                  </a:cubicBezTo>
                  <a:cubicBezTo>
                    <a:pt x="1307" y="197"/>
                    <a:pt x="1331" y="204"/>
                    <a:pt x="1359" y="214"/>
                  </a:cubicBezTo>
                  <a:cubicBezTo>
                    <a:pt x="1354" y="207"/>
                    <a:pt x="1335" y="194"/>
                    <a:pt x="1344" y="192"/>
                  </a:cubicBezTo>
                  <a:cubicBezTo>
                    <a:pt x="1385" y="180"/>
                    <a:pt x="1460" y="209"/>
                    <a:pt x="1499" y="221"/>
                  </a:cubicBezTo>
                  <a:cubicBezTo>
                    <a:pt x="1557" y="181"/>
                    <a:pt x="1732" y="245"/>
                    <a:pt x="1654" y="170"/>
                  </a:cubicBezTo>
                  <a:cubicBezTo>
                    <a:pt x="1650" y="156"/>
                    <a:pt x="1635" y="133"/>
                    <a:pt x="1669" y="133"/>
                  </a:cubicBezTo>
                  <a:cubicBezTo>
                    <a:pt x="1699" y="133"/>
                    <a:pt x="1758" y="147"/>
                    <a:pt x="1758" y="147"/>
                  </a:cubicBezTo>
                  <a:cubicBezTo>
                    <a:pt x="1785" y="157"/>
                    <a:pt x="1812" y="160"/>
                    <a:pt x="1839" y="170"/>
                  </a:cubicBezTo>
                  <a:cubicBezTo>
                    <a:pt x="1843" y="156"/>
                    <a:pt x="1843" y="133"/>
                    <a:pt x="1869" y="140"/>
                  </a:cubicBezTo>
                  <a:cubicBezTo>
                    <a:pt x="1890" y="146"/>
                    <a:pt x="1928" y="170"/>
                    <a:pt x="1928" y="170"/>
                  </a:cubicBezTo>
                  <a:cubicBezTo>
                    <a:pt x="1955" y="126"/>
                    <a:pt x="1959" y="144"/>
                    <a:pt x="2001" y="162"/>
                  </a:cubicBezTo>
                  <a:cubicBezTo>
                    <a:pt x="2019" y="170"/>
                    <a:pt x="2060" y="179"/>
                    <a:pt x="2083" y="184"/>
                  </a:cubicBezTo>
                  <a:cubicBezTo>
                    <a:pt x="2098" y="136"/>
                    <a:pt x="2127" y="160"/>
                    <a:pt x="2164" y="170"/>
                  </a:cubicBezTo>
                  <a:cubicBezTo>
                    <a:pt x="2162" y="158"/>
                    <a:pt x="2154" y="145"/>
                    <a:pt x="2157" y="133"/>
                  </a:cubicBezTo>
                  <a:cubicBezTo>
                    <a:pt x="2166" y="102"/>
                    <a:pt x="2202" y="126"/>
                    <a:pt x="2216" y="1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713"/>
            <p:cNvSpPr/>
            <p:nvPr/>
          </p:nvSpPr>
          <p:spPr>
            <a:xfrm>
              <a:off x="5322960" y="5815080"/>
              <a:ext cx="4336920" cy="642960"/>
            </a:xfrm>
            <a:custGeom>
              <a:avLst/>
              <a:gdLst/>
              <a:ahLst/>
              <a:rect l="l" t="t" r="r" b="b"/>
              <a:pathLst>
                <a:path w="2732" h="405">
                  <a:moveTo>
                    <a:pt x="0" y="0"/>
                  </a:moveTo>
                  <a:cubicBezTo>
                    <a:pt x="46" y="11"/>
                    <a:pt x="93" y="22"/>
                    <a:pt x="140" y="29"/>
                  </a:cubicBezTo>
                  <a:cubicBezTo>
                    <a:pt x="157" y="35"/>
                    <a:pt x="176" y="36"/>
                    <a:pt x="192" y="44"/>
                  </a:cubicBezTo>
                  <a:cubicBezTo>
                    <a:pt x="216" y="56"/>
                    <a:pt x="239" y="79"/>
                    <a:pt x="265" y="88"/>
                  </a:cubicBezTo>
                  <a:cubicBezTo>
                    <a:pt x="287" y="95"/>
                    <a:pt x="310" y="96"/>
                    <a:pt x="332" y="103"/>
                  </a:cubicBezTo>
                  <a:cubicBezTo>
                    <a:pt x="365" y="125"/>
                    <a:pt x="399" y="125"/>
                    <a:pt x="435" y="140"/>
                  </a:cubicBezTo>
                  <a:cubicBezTo>
                    <a:pt x="453" y="148"/>
                    <a:pt x="469" y="162"/>
                    <a:pt x="487" y="170"/>
                  </a:cubicBezTo>
                  <a:cubicBezTo>
                    <a:pt x="530" y="188"/>
                    <a:pt x="589" y="205"/>
                    <a:pt x="635" y="214"/>
                  </a:cubicBezTo>
                  <a:cubicBezTo>
                    <a:pt x="693" y="225"/>
                    <a:pt x="753" y="227"/>
                    <a:pt x="812" y="236"/>
                  </a:cubicBezTo>
                  <a:cubicBezTo>
                    <a:pt x="855" y="258"/>
                    <a:pt x="899" y="280"/>
                    <a:pt x="945" y="295"/>
                  </a:cubicBezTo>
                  <a:cubicBezTo>
                    <a:pt x="1012" y="341"/>
                    <a:pt x="1062" y="320"/>
                    <a:pt x="1159" y="325"/>
                  </a:cubicBezTo>
                  <a:cubicBezTo>
                    <a:pt x="1411" y="405"/>
                    <a:pt x="1695" y="387"/>
                    <a:pt x="1949" y="317"/>
                  </a:cubicBezTo>
                  <a:cubicBezTo>
                    <a:pt x="2048" y="254"/>
                    <a:pt x="2132" y="292"/>
                    <a:pt x="2274" y="288"/>
                  </a:cubicBezTo>
                  <a:cubicBezTo>
                    <a:pt x="2304" y="277"/>
                    <a:pt x="2320" y="265"/>
                    <a:pt x="2348" y="251"/>
                  </a:cubicBezTo>
                  <a:cubicBezTo>
                    <a:pt x="2462" y="193"/>
                    <a:pt x="2604" y="236"/>
                    <a:pt x="2732" y="2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715"/>
            <p:cNvSpPr/>
            <p:nvPr/>
          </p:nvSpPr>
          <p:spPr>
            <a:xfrm>
              <a:off x="5264280" y="5192640"/>
              <a:ext cx="609480" cy="282600"/>
            </a:xfrm>
            <a:custGeom>
              <a:avLst/>
              <a:gdLst/>
              <a:ahLst/>
              <a:rect l="l" t="t" r="r" b="b"/>
              <a:pathLst>
                <a:path w="384" h="178">
                  <a:moveTo>
                    <a:pt x="0" y="0"/>
                  </a:moveTo>
                  <a:cubicBezTo>
                    <a:pt x="18" y="39"/>
                    <a:pt x="9" y="72"/>
                    <a:pt x="37" y="30"/>
                  </a:cubicBezTo>
                  <a:cubicBezTo>
                    <a:pt x="60" y="53"/>
                    <a:pt x="63" y="66"/>
                    <a:pt x="74" y="96"/>
                  </a:cubicBezTo>
                  <a:cubicBezTo>
                    <a:pt x="81" y="94"/>
                    <a:pt x="91" y="94"/>
                    <a:pt x="96" y="89"/>
                  </a:cubicBezTo>
                  <a:cubicBezTo>
                    <a:pt x="110" y="75"/>
                    <a:pt x="96" y="44"/>
                    <a:pt x="110" y="89"/>
                  </a:cubicBezTo>
                  <a:cubicBezTo>
                    <a:pt x="115" y="82"/>
                    <a:pt x="117" y="70"/>
                    <a:pt x="125" y="67"/>
                  </a:cubicBezTo>
                  <a:cubicBezTo>
                    <a:pt x="155" y="57"/>
                    <a:pt x="190" y="102"/>
                    <a:pt x="206" y="119"/>
                  </a:cubicBezTo>
                  <a:cubicBezTo>
                    <a:pt x="211" y="111"/>
                    <a:pt x="212" y="96"/>
                    <a:pt x="221" y="96"/>
                  </a:cubicBezTo>
                  <a:cubicBezTo>
                    <a:pt x="230" y="96"/>
                    <a:pt x="230" y="113"/>
                    <a:pt x="236" y="119"/>
                  </a:cubicBezTo>
                  <a:cubicBezTo>
                    <a:pt x="265" y="148"/>
                    <a:pt x="294" y="164"/>
                    <a:pt x="332" y="178"/>
                  </a:cubicBezTo>
                  <a:cubicBezTo>
                    <a:pt x="365" y="166"/>
                    <a:pt x="354" y="178"/>
                    <a:pt x="384" y="1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716"/>
            <p:cNvSpPr/>
            <p:nvPr/>
          </p:nvSpPr>
          <p:spPr>
            <a:xfrm>
              <a:off x="4984920" y="4705200"/>
              <a:ext cx="490320" cy="136800"/>
            </a:xfrm>
            <a:custGeom>
              <a:avLst/>
              <a:gdLst/>
              <a:ahLst/>
              <a:rect l="l" t="t" r="r" b="b"/>
              <a:pathLst>
                <a:path w="309" h="86">
                  <a:moveTo>
                    <a:pt x="58" y="86"/>
                  </a:moveTo>
                  <a:cubicBezTo>
                    <a:pt x="0" y="48"/>
                    <a:pt x="77" y="80"/>
                    <a:pt x="94" y="86"/>
                  </a:cubicBezTo>
                  <a:cubicBezTo>
                    <a:pt x="89" y="79"/>
                    <a:pt x="78" y="72"/>
                    <a:pt x="80" y="64"/>
                  </a:cubicBezTo>
                  <a:cubicBezTo>
                    <a:pt x="87" y="39"/>
                    <a:pt x="131" y="71"/>
                    <a:pt x="131" y="71"/>
                  </a:cubicBezTo>
                  <a:cubicBezTo>
                    <a:pt x="116" y="23"/>
                    <a:pt x="83" y="33"/>
                    <a:pt x="146" y="19"/>
                  </a:cubicBezTo>
                  <a:cubicBezTo>
                    <a:pt x="158" y="22"/>
                    <a:pt x="172" y="32"/>
                    <a:pt x="183" y="27"/>
                  </a:cubicBezTo>
                  <a:cubicBezTo>
                    <a:pt x="190" y="24"/>
                    <a:pt x="169" y="7"/>
                    <a:pt x="176" y="5"/>
                  </a:cubicBezTo>
                  <a:cubicBezTo>
                    <a:pt x="197" y="0"/>
                    <a:pt x="220" y="11"/>
                    <a:pt x="242" y="12"/>
                  </a:cubicBezTo>
                  <a:cubicBezTo>
                    <a:pt x="264" y="13"/>
                    <a:pt x="287" y="12"/>
                    <a:pt x="309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719"/>
            <p:cNvSpPr/>
            <p:nvPr/>
          </p:nvSpPr>
          <p:spPr>
            <a:xfrm>
              <a:off x="-407880" y="6006960"/>
              <a:ext cx="5387760" cy="992160"/>
            </a:xfrm>
            <a:custGeom>
              <a:avLst/>
              <a:gdLst/>
              <a:ahLst/>
              <a:rect l="l" t="t" r="r" b="b"/>
              <a:pathLst>
                <a:path w="3394" h="625">
                  <a:moveTo>
                    <a:pt x="198" y="300"/>
                  </a:moveTo>
                  <a:cubicBezTo>
                    <a:pt x="470" y="294"/>
                    <a:pt x="738" y="277"/>
                    <a:pt x="1010" y="285"/>
                  </a:cubicBezTo>
                  <a:cubicBezTo>
                    <a:pt x="931" y="299"/>
                    <a:pt x="1001" y="287"/>
                    <a:pt x="914" y="300"/>
                  </a:cubicBezTo>
                  <a:cubicBezTo>
                    <a:pt x="897" y="302"/>
                    <a:pt x="847" y="315"/>
                    <a:pt x="863" y="308"/>
                  </a:cubicBezTo>
                  <a:cubicBezTo>
                    <a:pt x="890" y="295"/>
                    <a:pt x="966" y="288"/>
                    <a:pt x="995" y="285"/>
                  </a:cubicBezTo>
                  <a:cubicBezTo>
                    <a:pt x="1081" y="288"/>
                    <a:pt x="1168" y="298"/>
                    <a:pt x="1254" y="293"/>
                  </a:cubicBezTo>
                  <a:cubicBezTo>
                    <a:pt x="1309" y="290"/>
                    <a:pt x="1416" y="263"/>
                    <a:pt x="1416" y="263"/>
                  </a:cubicBezTo>
                  <a:cubicBezTo>
                    <a:pt x="1463" y="266"/>
                    <a:pt x="1511" y="262"/>
                    <a:pt x="1557" y="271"/>
                  </a:cubicBezTo>
                  <a:cubicBezTo>
                    <a:pt x="1591" y="278"/>
                    <a:pt x="1185" y="288"/>
                    <a:pt x="1343" y="285"/>
                  </a:cubicBezTo>
                  <a:cubicBezTo>
                    <a:pt x="1749" y="277"/>
                    <a:pt x="1708" y="278"/>
                    <a:pt x="1978" y="263"/>
                  </a:cubicBezTo>
                  <a:cubicBezTo>
                    <a:pt x="2061" y="237"/>
                    <a:pt x="1931" y="281"/>
                    <a:pt x="1845" y="234"/>
                  </a:cubicBezTo>
                  <a:cubicBezTo>
                    <a:pt x="1819" y="220"/>
                    <a:pt x="1904" y="224"/>
                    <a:pt x="1933" y="219"/>
                  </a:cubicBezTo>
                  <a:cubicBezTo>
                    <a:pt x="2014" y="221"/>
                    <a:pt x="2096" y="220"/>
                    <a:pt x="2177" y="226"/>
                  </a:cubicBezTo>
                  <a:cubicBezTo>
                    <a:pt x="2192" y="227"/>
                    <a:pt x="2119" y="239"/>
                    <a:pt x="2133" y="234"/>
                  </a:cubicBezTo>
                  <a:cubicBezTo>
                    <a:pt x="2162" y="225"/>
                    <a:pt x="2191" y="218"/>
                    <a:pt x="2221" y="212"/>
                  </a:cubicBezTo>
                  <a:cubicBezTo>
                    <a:pt x="2245" y="207"/>
                    <a:pt x="2320" y="204"/>
                    <a:pt x="2295" y="204"/>
                  </a:cubicBezTo>
                  <a:cubicBezTo>
                    <a:pt x="2199" y="204"/>
                    <a:pt x="2199" y="211"/>
                    <a:pt x="2125" y="219"/>
                  </a:cubicBezTo>
                  <a:cubicBezTo>
                    <a:pt x="2100" y="222"/>
                    <a:pt x="2026" y="228"/>
                    <a:pt x="2051" y="226"/>
                  </a:cubicBezTo>
                  <a:cubicBezTo>
                    <a:pt x="2169" y="217"/>
                    <a:pt x="2406" y="197"/>
                    <a:pt x="2406" y="197"/>
                  </a:cubicBezTo>
                  <a:cubicBezTo>
                    <a:pt x="2436" y="199"/>
                    <a:pt x="2469" y="190"/>
                    <a:pt x="2495" y="204"/>
                  </a:cubicBezTo>
                  <a:cubicBezTo>
                    <a:pt x="2513" y="213"/>
                    <a:pt x="2455" y="211"/>
                    <a:pt x="2435" y="212"/>
                  </a:cubicBezTo>
                  <a:cubicBezTo>
                    <a:pt x="2369" y="216"/>
                    <a:pt x="2302" y="217"/>
                    <a:pt x="2236" y="219"/>
                  </a:cubicBezTo>
                  <a:cubicBezTo>
                    <a:pt x="2440" y="197"/>
                    <a:pt x="2644" y="184"/>
                    <a:pt x="2849" y="175"/>
                  </a:cubicBezTo>
                  <a:cubicBezTo>
                    <a:pt x="2837" y="172"/>
                    <a:pt x="2799" y="167"/>
                    <a:pt x="2812" y="167"/>
                  </a:cubicBezTo>
                  <a:cubicBezTo>
                    <a:pt x="2856" y="167"/>
                    <a:pt x="2901" y="169"/>
                    <a:pt x="2945" y="175"/>
                  </a:cubicBezTo>
                  <a:cubicBezTo>
                    <a:pt x="2954" y="176"/>
                    <a:pt x="2967" y="180"/>
                    <a:pt x="2967" y="189"/>
                  </a:cubicBezTo>
                  <a:cubicBezTo>
                    <a:pt x="2967" y="197"/>
                    <a:pt x="2952" y="184"/>
                    <a:pt x="2945" y="182"/>
                  </a:cubicBezTo>
                  <a:cubicBezTo>
                    <a:pt x="2886" y="123"/>
                    <a:pt x="2898" y="145"/>
                    <a:pt x="3093" y="167"/>
                  </a:cubicBezTo>
                  <a:cubicBezTo>
                    <a:pt x="3102" y="168"/>
                    <a:pt x="3124" y="182"/>
                    <a:pt x="3115" y="182"/>
                  </a:cubicBezTo>
                  <a:cubicBezTo>
                    <a:pt x="3096" y="182"/>
                    <a:pt x="3081" y="166"/>
                    <a:pt x="3063" y="160"/>
                  </a:cubicBezTo>
                  <a:cubicBezTo>
                    <a:pt x="3116" y="143"/>
                    <a:pt x="3163" y="129"/>
                    <a:pt x="3218" y="123"/>
                  </a:cubicBezTo>
                  <a:cubicBezTo>
                    <a:pt x="3164" y="95"/>
                    <a:pt x="3101" y="75"/>
                    <a:pt x="3041" y="64"/>
                  </a:cubicBezTo>
                  <a:cubicBezTo>
                    <a:pt x="3085" y="50"/>
                    <a:pt x="3130" y="57"/>
                    <a:pt x="3174" y="71"/>
                  </a:cubicBezTo>
                  <a:cubicBezTo>
                    <a:pt x="3238" y="115"/>
                    <a:pt x="3133" y="60"/>
                    <a:pt x="3122" y="57"/>
                  </a:cubicBezTo>
                  <a:cubicBezTo>
                    <a:pt x="3096" y="39"/>
                    <a:pt x="3011" y="19"/>
                    <a:pt x="3107" y="34"/>
                  </a:cubicBezTo>
                  <a:cubicBezTo>
                    <a:pt x="3115" y="37"/>
                    <a:pt x="3123" y="37"/>
                    <a:pt x="3130" y="42"/>
                  </a:cubicBezTo>
                  <a:cubicBezTo>
                    <a:pt x="3139" y="48"/>
                    <a:pt x="3162" y="64"/>
                    <a:pt x="3152" y="64"/>
                  </a:cubicBezTo>
                  <a:cubicBezTo>
                    <a:pt x="3121" y="64"/>
                    <a:pt x="3063" y="42"/>
                    <a:pt x="3063" y="42"/>
                  </a:cubicBezTo>
                  <a:cubicBezTo>
                    <a:pt x="3015" y="6"/>
                    <a:pt x="2956" y="0"/>
                    <a:pt x="3071" y="12"/>
                  </a:cubicBezTo>
                  <a:cubicBezTo>
                    <a:pt x="3115" y="22"/>
                    <a:pt x="3200" y="50"/>
                    <a:pt x="3240" y="71"/>
                  </a:cubicBezTo>
                  <a:cubicBezTo>
                    <a:pt x="3256" y="80"/>
                    <a:pt x="3270" y="91"/>
                    <a:pt x="3285" y="101"/>
                  </a:cubicBezTo>
                  <a:cubicBezTo>
                    <a:pt x="3292" y="106"/>
                    <a:pt x="3315" y="119"/>
                    <a:pt x="3307" y="116"/>
                  </a:cubicBezTo>
                  <a:cubicBezTo>
                    <a:pt x="3233" y="91"/>
                    <a:pt x="3160" y="70"/>
                    <a:pt x="3085" y="49"/>
                  </a:cubicBezTo>
                  <a:cubicBezTo>
                    <a:pt x="3063" y="43"/>
                    <a:pt x="2996" y="23"/>
                    <a:pt x="3019" y="27"/>
                  </a:cubicBezTo>
                  <a:cubicBezTo>
                    <a:pt x="3034" y="29"/>
                    <a:pt x="3048" y="32"/>
                    <a:pt x="3063" y="34"/>
                  </a:cubicBezTo>
                  <a:cubicBezTo>
                    <a:pt x="3085" y="42"/>
                    <a:pt x="3110" y="45"/>
                    <a:pt x="3130" y="57"/>
                  </a:cubicBezTo>
                  <a:cubicBezTo>
                    <a:pt x="3150" y="69"/>
                    <a:pt x="3167" y="86"/>
                    <a:pt x="3189" y="93"/>
                  </a:cubicBezTo>
                  <a:cubicBezTo>
                    <a:pt x="3214" y="101"/>
                    <a:pt x="3239" y="107"/>
                    <a:pt x="3263" y="116"/>
                  </a:cubicBezTo>
                  <a:cubicBezTo>
                    <a:pt x="3280" y="122"/>
                    <a:pt x="3297" y="130"/>
                    <a:pt x="3314" y="138"/>
                  </a:cubicBezTo>
                  <a:cubicBezTo>
                    <a:pt x="3334" y="147"/>
                    <a:pt x="3394" y="174"/>
                    <a:pt x="3373" y="167"/>
                  </a:cubicBezTo>
                  <a:cubicBezTo>
                    <a:pt x="3358" y="162"/>
                    <a:pt x="3329" y="153"/>
                    <a:pt x="3329" y="153"/>
                  </a:cubicBezTo>
                  <a:cubicBezTo>
                    <a:pt x="3197" y="166"/>
                    <a:pt x="3074" y="171"/>
                    <a:pt x="2938" y="175"/>
                  </a:cubicBezTo>
                  <a:cubicBezTo>
                    <a:pt x="2901" y="180"/>
                    <a:pt x="2864" y="185"/>
                    <a:pt x="2827" y="189"/>
                  </a:cubicBezTo>
                  <a:cubicBezTo>
                    <a:pt x="2770" y="195"/>
                    <a:pt x="2714" y="199"/>
                    <a:pt x="2657" y="204"/>
                  </a:cubicBezTo>
                  <a:cubicBezTo>
                    <a:pt x="2640" y="206"/>
                    <a:pt x="2587" y="212"/>
                    <a:pt x="2605" y="212"/>
                  </a:cubicBezTo>
                  <a:cubicBezTo>
                    <a:pt x="2662" y="212"/>
                    <a:pt x="2832" y="204"/>
                    <a:pt x="2775" y="204"/>
                  </a:cubicBezTo>
                  <a:cubicBezTo>
                    <a:pt x="2706" y="204"/>
                    <a:pt x="2637" y="209"/>
                    <a:pt x="2568" y="212"/>
                  </a:cubicBezTo>
                  <a:cubicBezTo>
                    <a:pt x="2445" y="222"/>
                    <a:pt x="2311" y="225"/>
                    <a:pt x="2192" y="263"/>
                  </a:cubicBezTo>
                  <a:cubicBezTo>
                    <a:pt x="2079" y="245"/>
                    <a:pt x="1965" y="241"/>
                    <a:pt x="1852" y="256"/>
                  </a:cubicBezTo>
                  <a:cubicBezTo>
                    <a:pt x="1879" y="258"/>
                    <a:pt x="1907" y="256"/>
                    <a:pt x="1933" y="263"/>
                  </a:cubicBezTo>
                  <a:cubicBezTo>
                    <a:pt x="1941" y="265"/>
                    <a:pt x="1919" y="271"/>
                    <a:pt x="1911" y="271"/>
                  </a:cubicBezTo>
                  <a:cubicBezTo>
                    <a:pt x="1813" y="276"/>
                    <a:pt x="1714" y="276"/>
                    <a:pt x="1616" y="278"/>
                  </a:cubicBezTo>
                  <a:cubicBezTo>
                    <a:pt x="1636" y="280"/>
                    <a:pt x="1659" y="274"/>
                    <a:pt x="1675" y="285"/>
                  </a:cubicBezTo>
                  <a:cubicBezTo>
                    <a:pt x="1685" y="292"/>
                    <a:pt x="1651" y="292"/>
                    <a:pt x="1638" y="293"/>
                  </a:cubicBezTo>
                  <a:cubicBezTo>
                    <a:pt x="1557" y="297"/>
                    <a:pt x="1475" y="298"/>
                    <a:pt x="1394" y="300"/>
                  </a:cubicBezTo>
                  <a:cubicBezTo>
                    <a:pt x="645" y="323"/>
                    <a:pt x="1134" y="313"/>
                    <a:pt x="198" y="322"/>
                  </a:cubicBezTo>
                  <a:cubicBezTo>
                    <a:pt x="274" y="353"/>
                    <a:pt x="348" y="344"/>
                    <a:pt x="427" y="337"/>
                  </a:cubicBezTo>
                  <a:cubicBezTo>
                    <a:pt x="821" y="262"/>
                    <a:pt x="1288" y="303"/>
                    <a:pt x="1653" y="300"/>
                  </a:cubicBezTo>
                  <a:cubicBezTo>
                    <a:pt x="1938" y="209"/>
                    <a:pt x="2243" y="241"/>
                    <a:pt x="2539" y="234"/>
                  </a:cubicBezTo>
                  <a:cubicBezTo>
                    <a:pt x="2603" y="140"/>
                    <a:pt x="2801" y="216"/>
                    <a:pt x="2864" y="219"/>
                  </a:cubicBezTo>
                  <a:cubicBezTo>
                    <a:pt x="2946" y="177"/>
                    <a:pt x="2871" y="224"/>
                    <a:pt x="2871" y="197"/>
                  </a:cubicBezTo>
                  <a:cubicBezTo>
                    <a:pt x="2871" y="188"/>
                    <a:pt x="2884" y="183"/>
                    <a:pt x="2893" y="182"/>
                  </a:cubicBezTo>
                  <a:cubicBezTo>
                    <a:pt x="2986" y="175"/>
                    <a:pt x="3080" y="177"/>
                    <a:pt x="3174" y="175"/>
                  </a:cubicBezTo>
                  <a:cubicBezTo>
                    <a:pt x="3201" y="168"/>
                    <a:pt x="3228" y="160"/>
                    <a:pt x="3255" y="153"/>
                  </a:cubicBezTo>
                  <a:cubicBezTo>
                    <a:pt x="3335" y="166"/>
                    <a:pt x="3308" y="190"/>
                    <a:pt x="3314" y="285"/>
                  </a:cubicBezTo>
                  <a:cubicBezTo>
                    <a:pt x="3317" y="275"/>
                    <a:pt x="3320" y="266"/>
                    <a:pt x="3322" y="256"/>
                  </a:cubicBezTo>
                  <a:cubicBezTo>
                    <a:pt x="3325" y="246"/>
                    <a:pt x="3329" y="216"/>
                    <a:pt x="3329" y="226"/>
                  </a:cubicBezTo>
                  <a:cubicBezTo>
                    <a:pt x="3329" y="310"/>
                    <a:pt x="3329" y="368"/>
                    <a:pt x="3307" y="441"/>
                  </a:cubicBezTo>
                  <a:cubicBezTo>
                    <a:pt x="3309" y="377"/>
                    <a:pt x="3302" y="312"/>
                    <a:pt x="3314" y="249"/>
                  </a:cubicBezTo>
                  <a:cubicBezTo>
                    <a:pt x="3317" y="235"/>
                    <a:pt x="3335" y="271"/>
                    <a:pt x="3336" y="285"/>
                  </a:cubicBezTo>
                  <a:cubicBezTo>
                    <a:pt x="3340" y="325"/>
                    <a:pt x="3338" y="365"/>
                    <a:pt x="3329" y="404"/>
                  </a:cubicBezTo>
                  <a:cubicBezTo>
                    <a:pt x="3327" y="411"/>
                    <a:pt x="3314" y="409"/>
                    <a:pt x="3307" y="411"/>
                  </a:cubicBezTo>
                  <a:cubicBezTo>
                    <a:pt x="3295" y="379"/>
                    <a:pt x="3268" y="314"/>
                    <a:pt x="3307" y="293"/>
                  </a:cubicBezTo>
                  <a:cubicBezTo>
                    <a:pt x="3333" y="279"/>
                    <a:pt x="3312" y="352"/>
                    <a:pt x="3314" y="381"/>
                  </a:cubicBezTo>
                  <a:cubicBezTo>
                    <a:pt x="3317" y="337"/>
                    <a:pt x="3316" y="293"/>
                    <a:pt x="3322" y="249"/>
                  </a:cubicBezTo>
                  <a:cubicBezTo>
                    <a:pt x="3323" y="239"/>
                    <a:pt x="3329" y="288"/>
                    <a:pt x="3329" y="278"/>
                  </a:cubicBezTo>
                  <a:cubicBezTo>
                    <a:pt x="3329" y="253"/>
                    <a:pt x="3324" y="229"/>
                    <a:pt x="3322" y="204"/>
                  </a:cubicBezTo>
                  <a:cubicBezTo>
                    <a:pt x="3318" y="352"/>
                    <a:pt x="3314" y="443"/>
                    <a:pt x="3314" y="573"/>
                  </a:cubicBezTo>
                  <a:cubicBezTo>
                    <a:pt x="3314" y="588"/>
                    <a:pt x="3307" y="544"/>
                    <a:pt x="3307" y="529"/>
                  </a:cubicBezTo>
                  <a:cubicBezTo>
                    <a:pt x="3307" y="511"/>
                    <a:pt x="3316" y="564"/>
                    <a:pt x="3322" y="581"/>
                  </a:cubicBezTo>
                  <a:cubicBezTo>
                    <a:pt x="3317" y="532"/>
                    <a:pt x="3312" y="482"/>
                    <a:pt x="3307" y="433"/>
                  </a:cubicBezTo>
                  <a:cubicBezTo>
                    <a:pt x="3305" y="416"/>
                    <a:pt x="3295" y="398"/>
                    <a:pt x="3299" y="381"/>
                  </a:cubicBezTo>
                  <a:cubicBezTo>
                    <a:pt x="3301" y="372"/>
                    <a:pt x="3310" y="396"/>
                    <a:pt x="3314" y="404"/>
                  </a:cubicBezTo>
                  <a:cubicBezTo>
                    <a:pt x="3377" y="556"/>
                    <a:pt x="3308" y="413"/>
                    <a:pt x="3351" y="500"/>
                  </a:cubicBezTo>
                  <a:cubicBezTo>
                    <a:pt x="3354" y="517"/>
                    <a:pt x="3356" y="534"/>
                    <a:pt x="3359" y="551"/>
                  </a:cubicBezTo>
                  <a:cubicBezTo>
                    <a:pt x="3361" y="559"/>
                    <a:pt x="3371" y="568"/>
                    <a:pt x="3366" y="573"/>
                  </a:cubicBezTo>
                  <a:cubicBezTo>
                    <a:pt x="3361" y="578"/>
                    <a:pt x="3351" y="568"/>
                    <a:pt x="3344" y="566"/>
                  </a:cubicBezTo>
                  <a:cubicBezTo>
                    <a:pt x="3295" y="599"/>
                    <a:pt x="3323" y="586"/>
                    <a:pt x="3218" y="588"/>
                  </a:cubicBezTo>
                  <a:cubicBezTo>
                    <a:pt x="2989" y="592"/>
                    <a:pt x="2760" y="593"/>
                    <a:pt x="2531" y="596"/>
                  </a:cubicBezTo>
                  <a:cubicBezTo>
                    <a:pt x="1697" y="593"/>
                    <a:pt x="862" y="625"/>
                    <a:pt x="28" y="588"/>
                  </a:cubicBezTo>
                  <a:cubicBezTo>
                    <a:pt x="0" y="587"/>
                    <a:pt x="47" y="430"/>
                    <a:pt x="65" y="404"/>
                  </a:cubicBezTo>
                  <a:cubicBezTo>
                    <a:pt x="71" y="434"/>
                    <a:pt x="78" y="463"/>
                    <a:pt x="87" y="492"/>
                  </a:cubicBezTo>
                  <a:cubicBezTo>
                    <a:pt x="103" y="443"/>
                    <a:pt x="112" y="401"/>
                    <a:pt x="124" y="352"/>
                  </a:cubicBezTo>
                  <a:cubicBezTo>
                    <a:pt x="122" y="401"/>
                    <a:pt x="123" y="451"/>
                    <a:pt x="117" y="500"/>
                  </a:cubicBezTo>
                  <a:cubicBezTo>
                    <a:pt x="116" y="509"/>
                    <a:pt x="105" y="530"/>
                    <a:pt x="102" y="522"/>
                  </a:cubicBezTo>
                  <a:cubicBezTo>
                    <a:pt x="91" y="491"/>
                    <a:pt x="123" y="442"/>
                    <a:pt x="139" y="418"/>
                  </a:cubicBezTo>
                  <a:cubicBezTo>
                    <a:pt x="136" y="411"/>
                    <a:pt x="139" y="396"/>
                    <a:pt x="131" y="396"/>
                  </a:cubicBezTo>
                  <a:cubicBezTo>
                    <a:pt x="123" y="396"/>
                    <a:pt x="127" y="411"/>
                    <a:pt x="124" y="418"/>
                  </a:cubicBezTo>
                  <a:cubicBezTo>
                    <a:pt x="72" y="524"/>
                    <a:pt x="129" y="388"/>
                    <a:pt x="87" y="492"/>
                  </a:cubicBezTo>
                  <a:cubicBezTo>
                    <a:pt x="34" y="456"/>
                    <a:pt x="61" y="415"/>
                    <a:pt x="65" y="345"/>
                  </a:cubicBezTo>
                  <a:cubicBezTo>
                    <a:pt x="135" y="391"/>
                    <a:pt x="102" y="382"/>
                    <a:pt x="102" y="3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722"/>
            <p:cNvSpPr/>
            <p:nvPr/>
          </p:nvSpPr>
          <p:spPr>
            <a:xfrm>
              <a:off x="36360" y="6259680"/>
              <a:ext cx="4908600" cy="742680"/>
            </a:xfrm>
            <a:custGeom>
              <a:avLst/>
              <a:gdLst/>
              <a:ahLst/>
              <a:rect l="l" t="t" r="r" b="b"/>
              <a:pathLst>
                <a:path w="3092" h="468">
                  <a:moveTo>
                    <a:pt x="0" y="188"/>
                  </a:moveTo>
                  <a:cubicBezTo>
                    <a:pt x="43" y="173"/>
                    <a:pt x="73" y="192"/>
                    <a:pt x="106" y="218"/>
                  </a:cubicBezTo>
                  <a:cubicBezTo>
                    <a:pt x="116" y="184"/>
                    <a:pt x="108" y="176"/>
                    <a:pt x="144" y="165"/>
                  </a:cubicBezTo>
                  <a:cubicBezTo>
                    <a:pt x="162" y="171"/>
                    <a:pt x="179" y="194"/>
                    <a:pt x="197" y="188"/>
                  </a:cubicBezTo>
                  <a:cubicBezTo>
                    <a:pt x="205" y="186"/>
                    <a:pt x="181" y="167"/>
                    <a:pt x="189" y="165"/>
                  </a:cubicBezTo>
                  <a:cubicBezTo>
                    <a:pt x="211" y="159"/>
                    <a:pt x="234" y="170"/>
                    <a:pt x="257" y="172"/>
                  </a:cubicBezTo>
                  <a:cubicBezTo>
                    <a:pt x="269" y="180"/>
                    <a:pt x="358" y="233"/>
                    <a:pt x="310" y="188"/>
                  </a:cubicBezTo>
                  <a:cubicBezTo>
                    <a:pt x="346" y="179"/>
                    <a:pt x="358" y="187"/>
                    <a:pt x="394" y="195"/>
                  </a:cubicBezTo>
                  <a:cubicBezTo>
                    <a:pt x="402" y="190"/>
                    <a:pt x="408" y="181"/>
                    <a:pt x="417" y="180"/>
                  </a:cubicBezTo>
                  <a:cubicBezTo>
                    <a:pt x="438" y="177"/>
                    <a:pt x="479" y="196"/>
                    <a:pt x="500" y="203"/>
                  </a:cubicBezTo>
                  <a:cubicBezTo>
                    <a:pt x="534" y="181"/>
                    <a:pt x="561" y="190"/>
                    <a:pt x="598" y="203"/>
                  </a:cubicBezTo>
                  <a:cubicBezTo>
                    <a:pt x="591" y="179"/>
                    <a:pt x="580" y="170"/>
                    <a:pt x="621" y="165"/>
                  </a:cubicBezTo>
                  <a:cubicBezTo>
                    <a:pt x="632" y="164"/>
                    <a:pt x="642" y="169"/>
                    <a:pt x="652" y="172"/>
                  </a:cubicBezTo>
                  <a:cubicBezTo>
                    <a:pt x="660" y="174"/>
                    <a:pt x="680" y="185"/>
                    <a:pt x="674" y="180"/>
                  </a:cubicBezTo>
                  <a:cubicBezTo>
                    <a:pt x="661" y="168"/>
                    <a:pt x="629" y="150"/>
                    <a:pt x="629" y="150"/>
                  </a:cubicBezTo>
                  <a:cubicBezTo>
                    <a:pt x="668" y="142"/>
                    <a:pt x="689" y="146"/>
                    <a:pt x="727" y="157"/>
                  </a:cubicBezTo>
                  <a:cubicBezTo>
                    <a:pt x="743" y="161"/>
                    <a:pt x="758" y="167"/>
                    <a:pt x="773" y="172"/>
                  </a:cubicBezTo>
                  <a:cubicBezTo>
                    <a:pt x="786" y="176"/>
                    <a:pt x="748" y="162"/>
                    <a:pt x="735" y="157"/>
                  </a:cubicBezTo>
                  <a:cubicBezTo>
                    <a:pt x="820" y="129"/>
                    <a:pt x="921" y="169"/>
                    <a:pt x="1008" y="180"/>
                  </a:cubicBezTo>
                  <a:cubicBezTo>
                    <a:pt x="953" y="153"/>
                    <a:pt x="978" y="167"/>
                    <a:pt x="1000" y="172"/>
                  </a:cubicBezTo>
                  <a:cubicBezTo>
                    <a:pt x="1013" y="175"/>
                    <a:pt x="1025" y="177"/>
                    <a:pt x="1038" y="180"/>
                  </a:cubicBezTo>
                  <a:cubicBezTo>
                    <a:pt x="993" y="157"/>
                    <a:pt x="942" y="145"/>
                    <a:pt x="1046" y="157"/>
                  </a:cubicBezTo>
                  <a:cubicBezTo>
                    <a:pt x="1078" y="166"/>
                    <a:pt x="1144" y="180"/>
                    <a:pt x="1144" y="180"/>
                  </a:cubicBezTo>
                  <a:cubicBezTo>
                    <a:pt x="1157" y="175"/>
                    <a:pt x="1175" y="176"/>
                    <a:pt x="1182" y="165"/>
                  </a:cubicBezTo>
                  <a:cubicBezTo>
                    <a:pt x="1186" y="158"/>
                    <a:pt x="1155" y="164"/>
                    <a:pt x="1159" y="157"/>
                  </a:cubicBezTo>
                  <a:cubicBezTo>
                    <a:pt x="1164" y="148"/>
                    <a:pt x="1180" y="152"/>
                    <a:pt x="1190" y="150"/>
                  </a:cubicBezTo>
                  <a:cubicBezTo>
                    <a:pt x="1246" y="157"/>
                    <a:pt x="1265" y="165"/>
                    <a:pt x="1326" y="142"/>
                  </a:cubicBezTo>
                  <a:cubicBezTo>
                    <a:pt x="1334" y="139"/>
                    <a:pt x="1310" y="138"/>
                    <a:pt x="1303" y="134"/>
                  </a:cubicBezTo>
                  <a:cubicBezTo>
                    <a:pt x="1295" y="130"/>
                    <a:pt x="1288" y="124"/>
                    <a:pt x="1281" y="119"/>
                  </a:cubicBezTo>
                  <a:cubicBezTo>
                    <a:pt x="1317" y="108"/>
                    <a:pt x="1357" y="132"/>
                    <a:pt x="1394" y="142"/>
                  </a:cubicBezTo>
                  <a:cubicBezTo>
                    <a:pt x="1373" y="72"/>
                    <a:pt x="1481" y="130"/>
                    <a:pt x="1516" y="142"/>
                  </a:cubicBezTo>
                  <a:cubicBezTo>
                    <a:pt x="1511" y="137"/>
                    <a:pt x="1498" y="134"/>
                    <a:pt x="1500" y="127"/>
                  </a:cubicBezTo>
                  <a:cubicBezTo>
                    <a:pt x="1506" y="106"/>
                    <a:pt x="1538" y="125"/>
                    <a:pt x="1561" y="134"/>
                  </a:cubicBezTo>
                  <a:cubicBezTo>
                    <a:pt x="1597" y="126"/>
                    <a:pt x="1616" y="117"/>
                    <a:pt x="1652" y="127"/>
                  </a:cubicBezTo>
                  <a:cubicBezTo>
                    <a:pt x="1632" y="70"/>
                    <a:pt x="1684" y="110"/>
                    <a:pt x="1713" y="119"/>
                  </a:cubicBezTo>
                  <a:cubicBezTo>
                    <a:pt x="1775" y="161"/>
                    <a:pt x="1705" y="115"/>
                    <a:pt x="1713" y="112"/>
                  </a:cubicBezTo>
                  <a:cubicBezTo>
                    <a:pt x="1732" y="105"/>
                    <a:pt x="1753" y="117"/>
                    <a:pt x="1773" y="119"/>
                  </a:cubicBezTo>
                  <a:cubicBezTo>
                    <a:pt x="1819" y="137"/>
                    <a:pt x="1843" y="134"/>
                    <a:pt x="1887" y="112"/>
                  </a:cubicBezTo>
                  <a:cubicBezTo>
                    <a:pt x="1943" y="122"/>
                    <a:pt x="1933" y="136"/>
                    <a:pt x="1993" y="127"/>
                  </a:cubicBezTo>
                  <a:cubicBezTo>
                    <a:pt x="1988" y="119"/>
                    <a:pt x="1970" y="109"/>
                    <a:pt x="1978" y="104"/>
                  </a:cubicBezTo>
                  <a:cubicBezTo>
                    <a:pt x="1989" y="97"/>
                    <a:pt x="2003" y="109"/>
                    <a:pt x="2016" y="112"/>
                  </a:cubicBezTo>
                  <a:cubicBezTo>
                    <a:pt x="2062" y="121"/>
                    <a:pt x="2060" y="120"/>
                    <a:pt x="2114" y="127"/>
                  </a:cubicBezTo>
                  <a:cubicBezTo>
                    <a:pt x="2122" y="122"/>
                    <a:pt x="2139" y="121"/>
                    <a:pt x="2137" y="112"/>
                  </a:cubicBezTo>
                  <a:cubicBezTo>
                    <a:pt x="2135" y="100"/>
                    <a:pt x="2096" y="96"/>
                    <a:pt x="2107" y="89"/>
                  </a:cubicBezTo>
                  <a:cubicBezTo>
                    <a:pt x="2122" y="79"/>
                    <a:pt x="2142" y="94"/>
                    <a:pt x="2160" y="97"/>
                  </a:cubicBezTo>
                  <a:cubicBezTo>
                    <a:pt x="2167" y="99"/>
                    <a:pt x="2174" y="105"/>
                    <a:pt x="2182" y="104"/>
                  </a:cubicBezTo>
                  <a:cubicBezTo>
                    <a:pt x="2239" y="94"/>
                    <a:pt x="2190" y="84"/>
                    <a:pt x="2182" y="81"/>
                  </a:cubicBezTo>
                  <a:cubicBezTo>
                    <a:pt x="2218" y="47"/>
                    <a:pt x="2174" y="80"/>
                    <a:pt x="2251" y="74"/>
                  </a:cubicBezTo>
                  <a:cubicBezTo>
                    <a:pt x="2262" y="73"/>
                    <a:pt x="2271" y="64"/>
                    <a:pt x="2281" y="59"/>
                  </a:cubicBezTo>
                  <a:cubicBezTo>
                    <a:pt x="2304" y="61"/>
                    <a:pt x="2326" y="66"/>
                    <a:pt x="2349" y="66"/>
                  </a:cubicBezTo>
                  <a:cubicBezTo>
                    <a:pt x="2372" y="66"/>
                    <a:pt x="2394" y="57"/>
                    <a:pt x="2417" y="59"/>
                  </a:cubicBezTo>
                  <a:cubicBezTo>
                    <a:pt x="2448" y="61"/>
                    <a:pt x="2477" y="76"/>
                    <a:pt x="2508" y="81"/>
                  </a:cubicBezTo>
                  <a:cubicBezTo>
                    <a:pt x="2462" y="14"/>
                    <a:pt x="2553" y="71"/>
                    <a:pt x="2569" y="81"/>
                  </a:cubicBezTo>
                  <a:cubicBezTo>
                    <a:pt x="2588" y="69"/>
                    <a:pt x="2617" y="69"/>
                    <a:pt x="2630" y="51"/>
                  </a:cubicBezTo>
                  <a:cubicBezTo>
                    <a:pt x="2634" y="45"/>
                    <a:pt x="2607" y="36"/>
                    <a:pt x="2614" y="36"/>
                  </a:cubicBezTo>
                  <a:cubicBezTo>
                    <a:pt x="2639" y="36"/>
                    <a:pt x="2686" y="58"/>
                    <a:pt x="2713" y="66"/>
                  </a:cubicBezTo>
                  <a:cubicBezTo>
                    <a:pt x="2729" y="21"/>
                    <a:pt x="2758" y="38"/>
                    <a:pt x="2804" y="44"/>
                  </a:cubicBezTo>
                  <a:cubicBezTo>
                    <a:pt x="2819" y="0"/>
                    <a:pt x="2843" y="26"/>
                    <a:pt x="2880" y="36"/>
                  </a:cubicBezTo>
                  <a:cubicBezTo>
                    <a:pt x="2887" y="31"/>
                    <a:pt x="2893" y="19"/>
                    <a:pt x="2902" y="21"/>
                  </a:cubicBezTo>
                  <a:cubicBezTo>
                    <a:pt x="2924" y="25"/>
                    <a:pt x="2963" y="51"/>
                    <a:pt x="2963" y="51"/>
                  </a:cubicBezTo>
                  <a:cubicBezTo>
                    <a:pt x="2971" y="46"/>
                    <a:pt x="2986" y="45"/>
                    <a:pt x="2986" y="36"/>
                  </a:cubicBezTo>
                  <a:cubicBezTo>
                    <a:pt x="2986" y="27"/>
                    <a:pt x="2957" y="28"/>
                    <a:pt x="2963" y="21"/>
                  </a:cubicBezTo>
                  <a:cubicBezTo>
                    <a:pt x="2970" y="13"/>
                    <a:pt x="2983" y="26"/>
                    <a:pt x="2993" y="28"/>
                  </a:cubicBezTo>
                  <a:cubicBezTo>
                    <a:pt x="2986" y="31"/>
                    <a:pt x="2967" y="29"/>
                    <a:pt x="2971" y="36"/>
                  </a:cubicBezTo>
                  <a:cubicBezTo>
                    <a:pt x="2982" y="58"/>
                    <a:pt x="3024" y="89"/>
                    <a:pt x="3024" y="89"/>
                  </a:cubicBezTo>
                  <a:cubicBezTo>
                    <a:pt x="3036" y="130"/>
                    <a:pt x="3066" y="127"/>
                    <a:pt x="3024" y="142"/>
                  </a:cubicBezTo>
                  <a:cubicBezTo>
                    <a:pt x="3051" y="155"/>
                    <a:pt x="3072" y="166"/>
                    <a:pt x="3092" y="188"/>
                  </a:cubicBezTo>
                  <a:cubicBezTo>
                    <a:pt x="3084" y="190"/>
                    <a:pt x="3077" y="196"/>
                    <a:pt x="3069" y="195"/>
                  </a:cubicBezTo>
                  <a:cubicBezTo>
                    <a:pt x="3042" y="190"/>
                    <a:pt x="3039" y="153"/>
                    <a:pt x="3054" y="210"/>
                  </a:cubicBezTo>
                  <a:cubicBezTo>
                    <a:pt x="3005" y="223"/>
                    <a:pt x="3022" y="227"/>
                    <a:pt x="3046" y="263"/>
                  </a:cubicBezTo>
                  <a:cubicBezTo>
                    <a:pt x="3036" y="266"/>
                    <a:pt x="3020" y="261"/>
                    <a:pt x="3016" y="271"/>
                  </a:cubicBezTo>
                  <a:cubicBezTo>
                    <a:pt x="2996" y="322"/>
                    <a:pt x="3068" y="287"/>
                    <a:pt x="3009" y="309"/>
                  </a:cubicBezTo>
                  <a:cubicBezTo>
                    <a:pt x="3061" y="363"/>
                    <a:pt x="3023" y="310"/>
                    <a:pt x="3009" y="339"/>
                  </a:cubicBezTo>
                  <a:cubicBezTo>
                    <a:pt x="3008" y="341"/>
                    <a:pt x="3024" y="384"/>
                    <a:pt x="3024" y="385"/>
                  </a:cubicBezTo>
                  <a:cubicBezTo>
                    <a:pt x="2994" y="405"/>
                    <a:pt x="2977" y="436"/>
                    <a:pt x="3009" y="4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723"/>
            <p:cNvSpPr/>
            <p:nvPr/>
          </p:nvSpPr>
          <p:spPr>
            <a:xfrm>
              <a:off x="2341440" y="6262560"/>
              <a:ext cx="2497320" cy="871560"/>
            </a:xfrm>
            <a:custGeom>
              <a:avLst/>
              <a:gdLst/>
              <a:ahLst/>
              <a:rect l="l" t="t" r="r" b="b"/>
              <a:pathLst>
                <a:path w="1573" h="549">
                  <a:moveTo>
                    <a:pt x="48" y="155"/>
                  </a:moveTo>
                  <a:cubicBezTo>
                    <a:pt x="40" y="207"/>
                    <a:pt x="21" y="255"/>
                    <a:pt x="10" y="307"/>
                  </a:cubicBezTo>
                  <a:cubicBezTo>
                    <a:pt x="0" y="275"/>
                    <a:pt x="7" y="266"/>
                    <a:pt x="26" y="239"/>
                  </a:cubicBezTo>
                  <a:cubicBezTo>
                    <a:pt x="34" y="205"/>
                    <a:pt x="45" y="173"/>
                    <a:pt x="56" y="140"/>
                  </a:cubicBezTo>
                  <a:cubicBezTo>
                    <a:pt x="44" y="213"/>
                    <a:pt x="40" y="287"/>
                    <a:pt x="26" y="360"/>
                  </a:cubicBezTo>
                  <a:cubicBezTo>
                    <a:pt x="23" y="374"/>
                    <a:pt x="14" y="385"/>
                    <a:pt x="10" y="398"/>
                  </a:cubicBezTo>
                  <a:cubicBezTo>
                    <a:pt x="7" y="408"/>
                    <a:pt x="3" y="428"/>
                    <a:pt x="3" y="428"/>
                  </a:cubicBezTo>
                  <a:cubicBezTo>
                    <a:pt x="10" y="371"/>
                    <a:pt x="27" y="337"/>
                    <a:pt x="41" y="284"/>
                  </a:cubicBezTo>
                  <a:cubicBezTo>
                    <a:pt x="58" y="413"/>
                    <a:pt x="35" y="273"/>
                    <a:pt x="64" y="223"/>
                  </a:cubicBezTo>
                  <a:cubicBezTo>
                    <a:pt x="71" y="210"/>
                    <a:pt x="89" y="238"/>
                    <a:pt x="101" y="246"/>
                  </a:cubicBezTo>
                  <a:cubicBezTo>
                    <a:pt x="104" y="256"/>
                    <a:pt x="105" y="267"/>
                    <a:pt x="109" y="276"/>
                  </a:cubicBezTo>
                  <a:cubicBezTo>
                    <a:pt x="113" y="284"/>
                    <a:pt x="120" y="307"/>
                    <a:pt x="124" y="299"/>
                  </a:cubicBezTo>
                  <a:cubicBezTo>
                    <a:pt x="130" y="288"/>
                    <a:pt x="105" y="230"/>
                    <a:pt x="101" y="223"/>
                  </a:cubicBezTo>
                  <a:cubicBezTo>
                    <a:pt x="95" y="214"/>
                    <a:pt x="70" y="207"/>
                    <a:pt x="79" y="201"/>
                  </a:cubicBezTo>
                  <a:cubicBezTo>
                    <a:pt x="92" y="193"/>
                    <a:pt x="109" y="206"/>
                    <a:pt x="124" y="208"/>
                  </a:cubicBezTo>
                  <a:cubicBezTo>
                    <a:pt x="132" y="213"/>
                    <a:pt x="150" y="232"/>
                    <a:pt x="147" y="223"/>
                  </a:cubicBezTo>
                  <a:cubicBezTo>
                    <a:pt x="139" y="203"/>
                    <a:pt x="109" y="170"/>
                    <a:pt x="109" y="170"/>
                  </a:cubicBezTo>
                  <a:cubicBezTo>
                    <a:pt x="177" y="154"/>
                    <a:pt x="108" y="180"/>
                    <a:pt x="147" y="132"/>
                  </a:cubicBezTo>
                  <a:cubicBezTo>
                    <a:pt x="157" y="120"/>
                    <a:pt x="176" y="118"/>
                    <a:pt x="192" y="117"/>
                  </a:cubicBezTo>
                  <a:cubicBezTo>
                    <a:pt x="245" y="113"/>
                    <a:pt x="299" y="112"/>
                    <a:pt x="352" y="110"/>
                  </a:cubicBezTo>
                  <a:cubicBezTo>
                    <a:pt x="412" y="88"/>
                    <a:pt x="376" y="173"/>
                    <a:pt x="389" y="216"/>
                  </a:cubicBezTo>
                  <a:cubicBezTo>
                    <a:pt x="384" y="261"/>
                    <a:pt x="398" y="313"/>
                    <a:pt x="374" y="352"/>
                  </a:cubicBezTo>
                  <a:cubicBezTo>
                    <a:pt x="345" y="398"/>
                    <a:pt x="256" y="333"/>
                    <a:pt x="321" y="375"/>
                  </a:cubicBezTo>
                  <a:cubicBezTo>
                    <a:pt x="340" y="432"/>
                    <a:pt x="333" y="435"/>
                    <a:pt x="344" y="383"/>
                  </a:cubicBezTo>
                  <a:cubicBezTo>
                    <a:pt x="347" y="395"/>
                    <a:pt x="342" y="413"/>
                    <a:pt x="352" y="420"/>
                  </a:cubicBezTo>
                  <a:cubicBezTo>
                    <a:pt x="359" y="425"/>
                    <a:pt x="372" y="414"/>
                    <a:pt x="374" y="405"/>
                  </a:cubicBezTo>
                  <a:cubicBezTo>
                    <a:pt x="385" y="358"/>
                    <a:pt x="384" y="309"/>
                    <a:pt x="389" y="261"/>
                  </a:cubicBezTo>
                  <a:cubicBezTo>
                    <a:pt x="410" y="291"/>
                    <a:pt x="412" y="348"/>
                    <a:pt x="427" y="284"/>
                  </a:cubicBezTo>
                  <a:cubicBezTo>
                    <a:pt x="420" y="246"/>
                    <a:pt x="411" y="232"/>
                    <a:pt x="389" y="201"/>
                  </a:cubicBezTo>
                  <a:cubicBezTo>
                    <a:pt x="374" y="151"/>
                    <a:pt x="406" y="184"/>
                    <a:pt x="435" y="193"/>
                  </a:cubicBezTo>
                  <a:cubicBezTo>
                    <a:pt x="422" y="156"/>
                    <a:pt x="385" y="142"/>
                    <a:pt x="442" y="155"/>
                  </a:cubicBezTo>
                  <a:cubicBezTo>
                    <a:pt x="452" y="160"/>
                    <a:pt x="463" y="165"/>
                    <a:pt x="473" y="170"/>
                  </a:cubicBezTo>
                  <a:cubicBezTo>
                    <a:pt x="483" y="175"/>
                    <a:pt x="494" y="192"/>
                    <a:pt x="503" y="186"/>
                  </a:cubicBezTo>
                  <a:cubicBezTo>
                    <a:pt x="512" y="180"/>
                    <a:pt x="489" y="162"/>
                    <a:pt x="496" y="155"/>
                  </a:cubicBezTo>
                  <a:cubicBezTo>
                    <a:pt x="503" y="148"/>
                    <a:pt x="516" y="160"/>
                    <a:pt x="526" y="163"/>
                  </a:cubicBezTo>
                  <a:cubicBezTo>
                    <a:pt x="528" y="155"/>
                    <a:pt x="526" y="143"/>
                    <a:pt x="533" y="140"/>
                  </a:cubicBezTo>
                  <a:cubicBezTo>
                    <a:pt x="543" y="136"/>
                    <a:pt x="554" y="146"/>
                    <a:pt x="564" y="148"/>
                  </a:cubicBezTo>
                  <a:cubicBezTo>
                    <a:pt x="620" y="160"/>
                    <a:pt x="584" y="148"/>
                    <a:pt x="624" y="163"/>
                  </a:cubicBezTo>
                  <a:cubicBezTo>
                    <a:pt x="627" y="150"/>
                    <a:pt x="622" y="133"/>
                    <a:pt x="632" y="125"/>
                  </a:cubicBezTo>
                  <a:cubicBezTo>
                    <a:pt x="660" y="103"/>
                    <a:pt x="673" y="165"/>
                    <a:pt x="655" y="110"/>
                  </a:cubicBezTo>
                  <a:cubicBezTo>
                    <a:pt x="662" y="107"/>
                    <a:pt x="669" y="101"/>
                    <a:pt x="677" y="102"/>
                  </a:cubicBezTo>
                  <a:cubicBezTo>
                    <a:pt x="712" y="107"/>
                    <a:pt x="693" y="137"/>
                    <a:pt x="708" y="95"/>
                  </a:cubicBezTo>
                  <a:cubicBezTo>
                    <a:pt x="719" y="128"/>
                    <a:pt x="722" y="179"/>
                    <a:pt x="746" y="201"/>
                  </a:cubicBezTo>
                  <a:cubicBezTo>
                    <a:pt x="762" y="176"/>
                    <a:pt x="766" y="153"/>
                    <a:pt x="776" y="125"/>
                  </a:cubicBezTo>
                  <a:cubicBezTo>
                    <a:pt x="773" y="218"/>
                    <a:pt x="768" y="312"/>
                    <a:pt x="768" y="405"/>
                  </a:cubicBezTo>
                  <a:cubicBezTo>
                    <a:pt x="768" y="413"/>
                    <a:pt x="770" y="434"/>
                    <a:pt x="776" y="428"/>
                  </a:cubicBezTo>
                  <a:cubicBezTo>
                    <a:pt x="787" y="417"/>
                    <a:pt x="792" y="368"/>
                    <a:pt x="799" y="352"/>
                  </a:cubicBezTo>
                  <a:cubicBezTo>
                    <a:pt x="803" y="344"/>
                    <a:pt x="817" y="322"/>
                    <a:pt x="814" y="330"/>
                  </a:cubicBezTo>
                  <a:cubicBezTo>
                    <a:pt x="806" y="351"/>
                    <a:pt x="794" y="370"/>
                    <a:pt x="784" y="390"/>
                  </a:cubicBezTo>
                  <a:cubicBezTo>
                    <a:pt x="779" y="400"/>
                    <a:pt x="768" y="420"/>
                    <a:pt x="768" y="420"/>
                  </a:cubicBezTo>
                  <a:cubicBezTo>
                    <a:pt x="777" y="380"/>
                    <a:pt x="788" y="344"/>
                    <a:pt x="806" y="307"/>
                  </a:cubicBezTo>
                  <a:cubicBezTo>
                    <a:pt x="812" y="271"/>
                    <a:pt x="829" y="223"/>
                    <a:pt x="829" y="186"/>
                  </a:cubicBezTo>
                  <a:cubicBezTo>
                    <a:pt x="829" y="178"/>
                    <a:pt x="823" y="200"/>
                    <a:pt x="821" y="208"/>
                  </a:cubicBezTo>
                  <a:cubicBezTo>
                    <a:pt x="818" y="220"/>
                    <a:pt x="817" y="234"/>
                    <a:pt x="814" y="246"/>
                  </a:cubicBezTo>
                  <a:cubicBezTo>
                    <a:pt x="805" y="282"/>
                    <a:pt x="794" y="317"/>
                    <a:pt x="784" y="352"/>
                  </a:cubicBezTo>
                  <a:cubicBezTo>
                    <a:pt x="763" y="425"/>
                    <a:pt x="728" y="486"/>
                    <a:pt x="685" y="549"/>
                  </a:cubicBezTo>
                  <a:cubicBezTo>
                    <a:pt x="664" y="518"/>
                    <a:pt x="672" y="511"/>
                    <a:pt x="693" y="481"/>
                  </a:cubicBezTo>
                  <a:cubicBezTo>
                    <a:pt x="695" y="489"/>
                    <a:pt x="701" y="512"/>
                    <a:pt x="700" y="504"/>
                  </a:cubicBezTo>
                  <a:cubicBezTo>
                    <a:pt x="696" y="481"/>
                    <a:pt x="693" y="458"/>
                    <a:pt x="685" y="436"/>
                  </a:cubicBezTo>
                  <a:cubicBezTo>
                    <a:pt x="683" y="431"/>
                    <a:pt x="646" y="399"/>
                    <a:pt x="647" y="398"/>
                  </a:cubicBezTo>
                  <a:cubicBezTo>
                    <a:pt x="659" y="392"/>
                    <a:pt x="673" y="407"/>
                    <a:pt x="685" y="413"/>
                  </a:cubicBezTo>
                  <a:cubicBezTo>
                    <a:pt x="701" y="422"/>
                    <a:pt x="730" y="443"/>
                    <a:pt x="730" y="443"/>
                  </a:cubicBezTo>
                  <a:cubicBezTo>
                    <a:pt x="755" y="420"/>
                    <a:pt x="749" y="435"/>
                    <a:pt x="723" y="413"/>
                  </a:cubicBezTo>
                  <a:cubicBezTo>
                    <a:pt x="715" y="406"/>
                    <a:pt x="709" y="396"/>
                    <a:pt x="700" y="390"/>
                  </a:cubicBezTo>
                  <a:cubicBezTo>
                    <a:pt x="688" y="383"/>
                    <a:pt x="648" y="375"/>
                    <a:pt x="662" y="375"/>
                  </a:cubicBezTo>
                  <a:cubicBezTo>
                    <a:pt x="693" y="375"/>
                    <a:pt x="726" y="383"/>
                    <a:pt x="753" y="398"/>
                  </a:cubicBezTo>
                  <a:cubicBezTo>
                    <a:pt x="769" y="407"/>
                    <a:pt x="799" y="428"/>
                    <a:pt x="799" y="428"/>
                  </a:cubicBezTo>
                  <a:cubicBezTo>
                    <a:pt x="790" y="414"/>
                    <a:pt x="787" y="396"/>
                    <a:pt x="776" y="383"/>
                  </a:cubicBezTo>
                  <a:cubicBezTo>
                    <a:pt x="747" y="350"/>
                    <a:pt x="711" y="345"/>
                    <a:pt x="768" y="360"/>
                  </a:cubicBezTo>
                  <a:cubicBezTo>
                    <a:pt x="776" y="365"/>
                    <a:pt x="797" y="382"/>
                    <a:pt x="791" y="375"/>
                  </a:cubicBezTo>
                  <a:cubicBezTo>
                    <a:pt x="780" y="362"/>
                    <a:pt x="753" y="348"/>
                    <a:pt x="738" y="337"/>
                  </a:cubicBezTo>
                  <a:cubicBezTo>
                    <a:pt x="728" y="330"/>
                    <a:pt x="695" y="314"/>
                    <a:pt x="708" y="314"/>
                  </a:cubicBezTo>
                  <a:cubicBezTo>
                    <a:pt x="713" y="314"/>
                    <a:pt x="788" y="360"/>
                    <a:pt x="799" y="367"/>
                  </a:cubicBezTo>
                  <a:cubicBezTo>
                    <a:pt x="774" y="327"/>
                    <a:pt x="755" y="319"/>
                    <a:pt x="715" y="292"/>
                  </a:cubicBezTo>
                  <a:cubicBezTo>
                    <a:pt x="706" y="286"/>
                    <a:pt x="676" y="269"/>
                    <a:pt x="685" y="276"/>
                  </a:cubicBezTo>
                  <a:cubicBezTo>
                    <a:pt x="711" y="299"/>
                    <a:pt x="748" y="310"/>
                    <a:pt x="776" y="330"/>
                  </a:cubicBezTo>
                  <a:cubicBezTo>
                    <a:pt x="781" y="322"/>
                    <a:pt x="789" y="316"/>
                    <a:pt x="791" y="307"/>
                  </a:cubicBezTo>
                  <a:cubicBezTo>
                    <a:pt x="792" y="299"/>
                    <a:pt x="784" y="292"/>
                    <a:pt x="784" y="284"/>
                  </a:cubicBezTo>
                  <a:cubicBezTo>
                    <a:pt x="784" y="274"/>
                    <a:pt x="792" y="235"/>
                    <a:pt x="799" y="223"/>
                  </a:cubicBezTo>
                  <a:cubicBezTo>
                    <a:pt x="808" y="207"/>
                    <a:pt x="829" y="178"/>
                    <a:pt x="829" y="178"/>
                  </a:cubicBezTo>
                  <a:cubicBezTo>
                    <a:pt x="823" y="253"/>
                    <a:pt x="825" y="323"/>
                    <a:pt x="791" y="390"/>
                  </a:cubicBezTo>
                  <a:cubicBezTo>
                    <a:pt x="800" y="317"/>
                    <a:pt x="818" y="249"/>
                    <a:pt x="837" y="178"/>
                  </a:cubicBezTo>
                  <a:cubicBezTo>
                    <a:pt x="834" y="138"/>
                    <a:pt x="829" y="97"/>
                    <a:pt x="829" y="57"/>
                  </a:cubicBezTo>
                  <a:cubicBezTo>
                    <a:pt x="829" y="49"/>
                    <a:pt x="830" y="76"/>
                    <a:pt x="837" y="79"/>
                  </a:cubicBezTo>
                  <a:cubicBezTo>
                    <a:pt x="847" y="83"/>
                    <a:pt x="857" y="74"/>
                    <a:pt x="867" y="72"/>
                  </a:cubicBezTo>
                  <a:cubicBezTo>
                    <a:pt x="895" y="58"/>
                    <a:pt x="908" y="44"/>
                    <a:pt x="943" y="64"/>
                  </a:cubicBezTo>
                  <a:cubicBezTo>
                    <a:pt x="950" y="68"/>
                    <a:pt x="944" y="81"/>
                    <a:pt x="950" y="87"/>
                  </a:cubicBezTo>
                  <a:cubicBezTo>
                    <a:pt x="956" y="93"/>
                    <a:pt x="965" y="92"/>
                    <a:pt x="973" y="95"/>
                  </a:cubicBezTo>
                  <a:cubicBezTo>
                    <a:pt x="1059" y="85"/>
                    <a:pt x="1105" y="91"/>
                    <a:pt x="1170" y="49"/>
                  </a:cubicBezTo>
                  <a:cubicBezTo>
                    <a:pt x="1158" y="141"/>
                    <a:pt x="1166" y="245"/>
                    <a:pt x="1132" y="330"/>
                  </a:cubicBezTo>
                  <a:cubicBezTo>
                    <a:pt x="1123" y="379"/>
                    <a:pt x="1115" y="365"/>
                    <a:pt x="1102" y="405"/>
                  </a:cubicBezTo>
                  <a:cubicBezTo>
                    <a:pt x="1104" y="413"/>
                    <a:pt x="1116" y="432"/>
                    <a:pt x="1109" y="428"/>
                  </a:cubicBezTo>
                  <a:cubicBezTo>
                    <a:pt x="1093" y="420"/>
                    <a:pt x="1086" y="401"/>
                    <a:pt x="1072" y="390"/>
                  </a:cubicBezTo>
                  <a:cubicBezTo>
                    <a:pt x="1039" y="363"/>
                    <a:pt x="996" y="356"/>
                    <a:pt x="958" y="337"/>
                  </a:cubicBezTo>
                  <a:cubicBezTo>
                    <a:pt x="944" y="377"/>
                    <a:pt x="968" y="371"/>
                    <a:pt x="1003" y="398"/>
                  </a:cubicBezTo>
                  <a:cubicBezTo>
                    <a:pt x="1006" y="390"/>
                    <a:pt x="1012" y="383"/>
                    <a:pt x="1011" y="375"/>
                  </a:cubicBezTo>
                  <a:cubicBezTo>
                    <a:pt x="1010" y="366"/>
                    <a:pt x="990" y="359"/>
                    <a:pt x="996" y="352"/>
                  </a:cubicBezTo>
                  <a:cubicBezTo>
                    <a:pt x="1002" y="345"/>
                    <a:pt x="1010" y="363"/>
                    <a:pt x="1018" y="367"/>
                  </a:cubicBezTo>
                  <a:cubicBezTo>
                    <a:pt x="1086" y="402"/>
                    <a:pt x="993" y="344"/>
                    <a:pt x="1064" y="390"/>
                  </a:cubicBezTo>
                  <a:cubicBezTo>
                    <a:pt x="1048" y="341"/>
                    <a:pt x="1060" y="356"/>
                    <a:pt x="1041" y="337"/>
                  </a:cubicBezTo>
                  <a:cubicBezTo>
                    <a:pt x="1028" y="324"/>
                    <a:pt x="1087" y="367"/>
                    <a:pt x="1087" y="367"/>
                  </a:cubicBezTo>
                  <a:cubicBezTo>
                    <a:pt x="1089" y="360"/>
                    <a:pt x="1095" y="353"/>
                    <a:pt x="1094" y="345"/>
                  </a:cubicBezTo>
                  <a:cubicBezTo>
                    <a:pt x="1092" y="329"/>
                    <a:pt x="1064" y="294"/>
                    <a:pt x="1079" y="299"/>
                  </a:cubicBezTo>
                  <a:cubicBezTo>
                    <a:pt x="1106" y="308"/>
                    <a:pt x="1140" y="360"/>
                    <a:pt x="1140" y="360"/>
                  </a:cubicBezTo>
                  <a:cubicBezTo>
                    <a:pt x="1132" y="316"/>
                    <a:pt x="1112" y="288"/>
                    <a:pt x="1102" y="246"/>
                  </a:cubicBezTo>
                  <a:cubicBezTo>
                    <a:pt x="1088" y="285"/>
                    <a:pt x="1110" y="282"/>
                    <a:pt x="1132" y="314"/>
                  </a:cubicBezTo>
                  <a:cubicBezTo>
                    <a:pt x="1151" y="262"/>
                    <a:pt x="1112" y="215"/>
                    <a:pt x="1072" y="186"/>
                  </a:cubicBezTo>
                  <a:cubicBezTo>
                    <a:pt x="1053" y="133"/>
                    <a:pt x="1091" y="173"/>
                    <a:pt x="1109" y="186"/>
                  </a:cubicBezTo>
                  <a:cubicBezTo>
                    <a:pt x="1123" y="224"/>
                    <a:pt x="1132" y="229"/>
                    <a:pt x="1155" y="193"/>
                  </a:cubicBezTo>
                  <a:cubicBezTo>
                    <a:pt x="1152" y="185"/>
                    <a:pt x="1150" y="162"/>
                    <a:pt x="1147" y="170"/>
                  </a:cubicBezTo>
                  <a:cubicBezTo>
                    <a:pt x="1125" y="237"/>
                    <a:pt x="1136" y="320"/>
                    <a:pt x="1125" y="390"/>
                  </a:cubicBezTo>
                  <a:cubicBezTo>
                    <a:pt x="1137" y="429"/>
                    <a:pt x="1125" y="473"/>
                    <a:pt x="1140" y="511"/>
                  </a:cubicBezTo>
                  <a:cubicBezTo>
                    <a:pt x="1144" y="521"/>
                    <a:pt x="1155" y="497"/>
                    <a:pt x="1162" y="489"/>
                  </a:cubicBezTo>
                  <a:cubicBezTo>
                    <a:pt x="1168" y="482"/>
                    <a:pt x="1172" y="473"/>
                    <a:pt x="1178" y="466"/>
                  </a:cubicBezTo>
                  <a:cubicBezTo>
                    <a:pt x="1202" y="437"/>
                    <a:pt x="1226" y="429"/>
                    <a:pt x="1261" y="420"/>
                  </a:cubicBezTo>
                  <a:cubicBezTo>
                    <a:pt x="1305" y="432"/>
                    <a:pt x="1294" y="433"/>
                    <a:pt x="1306" y="474"/>
                  </a:cubicBezTo>
                  <a:cubicBezTo>
                    <a:pt x="1309" y="466"/>
                    <a:pt x="1310" y="458"/>
                    <a:pt x="1314" y="451"/>
                  </a:cubicBezTo>
                  <a:cubicBezTo>
                    <a:pt x="1318" y="443"/>
                    <a:pt x="1327" y="419"/>
                    <a:pt x="1329" y="428"/>
                  </a:cubicBezTo>
                  <a:cubicBezTo>
                    <a:pt x="1333" y="450"/>
                    <a:pt x="1322" y="473"/>
                    <a:pt x="1322" y="496"/>
                  </a:cubicBezTo>
                  <a:cubicBezTo>
                    <a:pt x="1322" y="514"/>
                    <a:pt x="1325" y="460"/>
                    <a:pt x="1329" y="443"/>
                  </a:cubicBezTo>
                  <a:cubicBezTo>
                    <a:pt x="1332" y="430"/>
                    <a:pt x="1338" y="417"/>
                    <a:pt x="1344" y="405"/>
                  </a:cubicBezTo>
                  <a:cubicBezTo>
                    <a:pt x="1372" y="343"/>
                    <a:pt x="1391" y="282"/>
                    <a:pt x="1405" y="216"/>
                  </a:cubicBezTo>
                  <a:cubicBezTo>
                    <a:pt x="1436" y="278"/>
                    <a:pt x="1435" y="285"/>
                    <a:pt x="1405" y="117"/>
                  </a:cubicBezTo>
                  <a:cubicBezTo>
                    <a:pt x="1398" y="78"/>
                    <a:pt x="1307" y="0"/>
                    <a:pt x="1367" y="42"/>
                  </a:cubicBezTo>
                  <a:cubicBezTo>
                    <a:pt x="1370" y="52"/>
                    <a:pt x="1370" y="63"/>
                    <a:pt x="1375" y="72"/>
                  </a:cubicBezTo>
                  <a:cubicBezTo>
                    <a:pt x="1381" y="83"/>
                    <a:pt x="1397" y="90"/>
                    <a:pt x="1397" y="102"/>
                  </a:cubicBezTo>
                  <a:cubicBezTo>
                    <a:pt x="1397" y="113"/>
                    <a:pt x="1382" y="117"/>
                    <a:pt x="1375" y="125"/>
                  </a:cubicBezTo>
                  <a:cubicBezTo>
                    <a:pt x="1300" y="76"/>
                    <a:pt x="1360" y="232"/>
                    <a:pt x="1367" y="269"/>
                  </a:cubicBezTo>
                  <a:cubicBezTo>
                    <a:pt x="1365" y="289"/>
                    <a:pt x="1368" y="311"/>
                    <a:pt x="1360" y="330"/>
                  </a:cubicBezTo>
                  <a:cubicBezTo>
                    <a:pt x="1357" y="339"/>
                    <a:pt x="1340" y="336"/>
                    <a:pt x="1337" y="345"/>
                  </a:cubicBezTo>
                  <a:cubicBezTo>
                    <a:pt x="1334" y="355"/>
                    <a:pt x="1341" y="365"/>
                    <a:pt x="1344" y="375"/>
                  </a:cubicBezTo>
                  <a:cubicBezTo>
                    <a:pt x="1346" y="383"/>
                    <a:pt x="1360" y="398"/>
                    <a:pt x="1352" y="398"/>
                  </a:cubicBezTo>
                  <a:cubicBezTo>
                    <a:pt x="1339" y="398"/>
                    <a:pt x="1332" y="383"/>
                    <a:pt x="1322" y="375"/>
                  </a:cubicBezTo>
                  <a:cubicBezTo>
                    <a:pt x="1294" y="401"/>
                    <a:pt x="1295" y="379"/>
                    <a:pt x="1261" y="367"/>
                  </a:cubicBezTo>
                  <a:cubicBezTo>
                    <a:pt x="1261" y="367"/>
                    <a:pt x="1286" y="427"/>
                    <a:pt x="1299" y="420"/>
                  </a:cubicBezTo>
                  <a:cubicBezTo>
                    <a:pt x="1308" y="415"/>
                    <a:pt x="1297" y="399"/>
                    <a:pt x="1291" y="390"/>
                  </a:cubicBezTo>
                  <a:cubicBezTo>
                    <a:pt x="1283" y="378"/>
                    <a:pt x="1250" y="369"/>
                    <a:pt x="1261" y="360"/>
                  </a:cubicBezTo>
                  <a:cubicBezTo>
                    <a:pt x="1272" y="350"/>
                    <a:pt x="1286" y="376"/>
                    <a:pt x="1299" y="383"/>
                  </a:cubicBezTo>
                  <a:cubicBezTo>
                    <a:pt x="1306" y="387"/>
                    <a:pt x="1314" y="388"/>
                    <a:pt x="1322" y="390"/>
                  </a:cubicBezTo>
                  <a:cubicBezTo>
                    <a:pt x="1314" y="372"/>
                    <a:pt x="1308" y="354"/>
                    <a:pt x="1299" y="337"/>
                  </a:cubicBezTo>
                  <a:cubicBezTo>
                    <a:pt x="1293" y="326"/>
                    <a:pt x="1271" y="318"/>
                    <a:pt x="1276" y="307"/>
                  </a:cubicBezTo>
                  <a:cubicBezTo>
                    <a:pt x="1281" y="297"/>
                    <a:pt x="1296" y="318"/>
                    <a:pt x="1306" y="322"/>
                  </a:cubicBezTo>
                  <a:cubicBezTo>
                    <a:pt x="1313" y="325"/>
                    <a:pt x="1321" y="327"/>
                    <a:pt x="1329" y="330"/>
                  </a:cubicBezTo>
                  <a:cubicBezTo>
                    <a:pt x="1322" y="282"/>
                    <a:pt x="1312" y="279"/>
                    <a:pt x="1299" y="239"/>
                  </a:cubicBezTo>
                  <a:cubicBezTo>
                    <a:pt x="1346" y="223"/>
                    <a:pt x="1372" y="256"/>
                    <a:pt x="1413" y="276"/>
                  </a:cubicBezTo>
                  <a:cubicBezTo>
                    <a:pt x="1408" y="267"/>
                    <a:pt x="1377" y="216"/>
                    <a:pt x="1367" y="208"/>
                  </a:cubicBezTo>
                  <a:cubicBezTo>
                    <a:pt x="1298" y="153"/>
                    <a:pt x="1242" y="146"/>
                    <a:pt x="1322" y="163"/>
                  </a:cubicBezTo>
                  <a:cubicBezTo>
                    <a:pt x="1332" y="171"/>
                    <a:pt x="1340" y="184"/>
                    <a:pt x="1352" y="186"/>
                  </a:cubicBezTo>
                  <a:cubicBezTo>
                    <a:pt x="1359" y="187"/>
                    <a:pt x="1367" y="177"/>
                    <a:pt x="1367" y="170"/>
                  </a:cubicBezTo>
                  <a:cubicBezTo>
                    <a:pt x="1367" y="159"/>
                    <a:pt x="1356" y="150"/>
                    <a:pt x="1352" y="140"/>
                  </a:cubicBezTo>
                  <a:cubicBezTo>
                    <a:pt x="1348" y="130"/>
                    <a:pt x="1348" y="119"/>
                    <a:pt x="1344" y="110"/>
                  </a:cubicBezTo>
                  <a:cubicBezTo>
                    <a:pt x="1340" y="102"/>
                    <a:pt x="1321" y="92"/>
                    <a:pt x="1329" y="87"/>
                  </a:cubicBezTo>
                  <a:cubicBezTo>
                    <a:pt x="1340" y="80"/>
                    <a:pt x="1354" y="92"/>
                    <a:pt x="1367" y="95"/>
                  </a:cubicBezTo>
                  <a:cubicBezTo>
                    <a:pt x="1385" y="107"/>
                    <a:pt x="1398" y="132"/>
                    <a:pt x="1420" y="132"/>
                  </a:cubicBezTo>
                  <a:cubicBezTo>
                    <a:pt x="1429" y="132"/>
                    <a:pt x="1430" y="117"/>
                    <a:pt x="1435" y="110"/>
                  </a:cubicBezTo>
                  <a:cubicBezTo>
                    <a:pt x="1433" y="117"/>
                    <a:pt x="1422" y="128"/>
                    <a:pt x="1428" y="132"/>
                  </a:cubicBezTo>
                  <a:cubicBezTo>
                    <a:pt x="1437" y="138"/>
                    <a:pt x="1448" y="129"/>
                    <a:pt x="1458" y="125"/>
                  </a:cubicBezTo>
                  <a:cubicBezTo>
                    <a:pt x="1486" y="115"/>
                    <a:pt x="1506" y="97"/>
                    <a:pt x="1534" y="87"/>
                  </a:cubicBezTo>
                  <a:cubicBezTo>
                    <a:pt x="1568" y="200"/>
                    <a:pt x="1562" y="545"/>
                    <a:pt x="1519" y="360"/>
                  </a:cubicBezTo>
                  <a:cubicBezTo>
                    <a:pt x="1504" y="402"/>
                    <a:pt x="1509" y="375"/>
                    <a:pt x="1473" y="352"/>
                  </a:cubicBezTo>
                  <a:cubicBezTo>
                    <a:pt x="1512" y="412"/>
                    <a:pt x="1473" y="332"/>
                    <a:pt x="1466" y="322"/>
                  </a:cubicBezTo>
                  <a:cubicBezTo>
                    <a:pt x="1468" y="330"/>
                    <a:pt x="1465" y="345"/>
                    <a:pt x="1473" y="345"/>
                  </a:cubicBezTo>
                  <a:cubicBezTo>
                    <a:pt x="1535" y="345"/>
                    <a:pt x="1454" y="305"/>
                    <a:pt x="1481" y="299"/>
                  </a:cubicBezTo>
                  <a:cubicBezTo>
                    <a:pt x="1496" y="296"/>
                    <a:pt x="1511" y="309"/>
                    <a:pt x="1526" y="314"/>
                  </a:cubicBezTo>
                  <a:cubicBezTo>
                    <a:pt x="1529" y="318"/>
                    <a:pt x="1551" y="358"/>
                    <a:pt x="1564" y="352"/>
                  </a:cubicBezTo>
                  <a:cubicBezTo>
                    <a:pt x="1573" y="347"/>
                    <a:pt x="1569" y="332"/>
                    <a:pt x="1572" y="322"/>
                  </a:cubicBezTo>
                  <a:cubicBezTo>
                    <a:pt x="1543" y="284"/>
                    <a:pt x="1552" y="304"/>
                    <a:pt x="1541" y="261"/>
                  </a:cubicBezTo>
                  <a:cubicBezTo>
                    <a:pt x="1539" y="254"/>
                    <a:pt x="1552" y="271"/>
                    <a:pt x="1557" y="276"/>
                  </a:cubicBezTo>
                  <a:cubicBezTo>
                    <a:pt x="1552" y="264"/>
                    <a:pt x="1549" y="250"/>
                    <a:pt x="1541" y="239"/>
                  </a:cubicBezTo>
                  <a:cubicBezTo>
                    <a:pt x="1536" y="232"/>
                    <a:pt x="1525" y="230"/>
                    <a:pt x="1519" y="223"/>
                  </a:cubicBezTo>
                  <a:cubicBezTo>
                    <a:pt x="1514" y="217"/>
                    <a:pt x="1503" y="201"/>
                    <a:pt x="1511" y="201"/>
                  </a:cubicBezTo>
                  <a:cubicBezTo>
                    <a:pt x="1520" y="201"/>
                    <a:pt x="1519" y="217"/>
                    <a:pt x="1526" y="223"/>
                  </a:cubicBezTo>
                  <a:cubicBezTo>
                    <a:pt x="1540" y="235"/>
                    <a:pt x="1572" y="254"/>
                    <a:pt x="1572" y="254"/>
                  </a:cubicBezTo>
                  <a:cubicBezTo>
                    <a:pt x="1542" y="204"/>
                    <a:pt x="1506" y="188"/>
                    <a:pt x="1466" y="148"/>
                  </a:cubicBezTo>
                  <a:cubicBezTo>
                    <a:pt x="1466" y="149"/>
                    <a:pt x="1485" y="221"/>
                    <a:pt x="1504" y="193"/>
                  </a:cubicBezTo>
                  <a:cubicBezTo>
                    <a:pt x="1513" y="180"/>
                    <a:pt x="1496" y="162"/>
                    <a:pt x="1488" y="148"/>
                  </a:cubicBezTo>
                  <a:cubicBezTo>
                    <a:pt x="1483" y="139"/>
                    <a:pt x="1457" y="120"/>
                    <a:pt x="1466" y="125"/>
                  </a:cubicBezTo>
                  <a:cubicBezTo>
                    <a:pt x="1488" y="138"/>
                    <a:pt x="1526" y="170"/>
                    <a:pt x="1526" y="170"/>
                  </a:cubicBezTo>
                  <a:cubicBezTo>
                    <a:pt x="1524" y="160"/>
                    <a:pt x="1523" y="149"/>
                    <a:pt x="1519" y="140"/>
                  </a:cubicBezTo>
                  <a:cubicBezTo>
                    <a:pt x="1509" y="116"/>
                    <a:pt x="1487" y="105"/>
                    <a:pt x="1526" y="132"/>
                  </a:cubicBezTo>
                  <a:cubicBezTo>
                    <a:pt x="1529" y="120"/>
                    <a:pt x="1525" y="104"/>
                    <a:pt x="1534" y="95"/>
                  </a:cubicBezTo>
                  <a:cubicBezTo>
                    <a:pt x="1540" y="89"/>
                    <a:pt x="1551" y="108"/>
                    <a:pt x="1557" y="102"/>
                  </a:cubicBezTo>
                  <a:cubicBezTo>
                    <a:pt x="1564" y="95"/>
                    <a:pt x="1557" y="82"/>
                    <a:pt x="1557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24"/>
            <p:cNvSpPr/>
            <p:nvPr/>
          </p:nvSpPr>
          <p:spPr>
            <a:xfrm>
              <a:off x="1636560" y="6367320"/>
              <a:ext cx="2783160" cy="746280"/>
            </a:xfrm>
            <a:custGeom>
              <a:avLst/>
              <a:gdLst/>
              <a:ahLst/>
              <a:rect l="l" t="t" r="r" b="b"/>
              <a:pathLst>
                <a:path w="1753" h="470">
                  <a:moveTo>
                    <a:pt x="924" y="377"/>
                  </a:moveTo>
                  <a:cubicBezTo>
                    <a:pt x="938" y="273"/>
                    <a:pt x="936" y="328"/>
                    <a:pt x="955" y="385"/>
                  </a:cubicBezTo>
                  <a:cubicBezTo>
                    <a:pt x="980" y="196"/>
                    <a:pt x="949" y="273"/>
                    <a:pt x="1000" y="324"/>
                  </a:cubicBezTo>
                  <a:cubicBezTo>
                    <a:pt x="1030" y="409"/>
                    <a:pt x="985" y="289"/>
                    <a:pt x="1015" y="180"/>
                  </a:cubicBezTo>
                  <a:cubicBezTo>
                    <a:pt x="1019" y="166"/>
                    <a:pt x="1036" y="200"/>
                    <a:pt x="1046" y="210"/>
                  </a:cubicBezTo>
                  <a:cubicBezTo>
                    <a:pt x="1048" y="218"/>
                    <a:pt x="1051" y="225"/>
                    <a:pt x="1053" y="233"/>
                  </a:cubicBezTo>
                  <a:cubicBezTo>
                    <a:pt x="1056" y="248"/>
                    <a:pt x="1047" y="286"/>
                    <a:pt x="1061" y="279"/>
                  </a:cubicBezTo>
                  <a:cubicBezTo>
                    <a:pt x="1077" y="271"/>
                    <a:pt x="1068" y="208"/>
                    <a:pt x="1068" y="226"/>
                  </a:cubicBezTo>
                  <a:cubicBezTo>
                    <a:pt x="1068" y="251"/>
                    <a:pt x="1061" y="303"/>
                    <a:pt x="1053" y="332"/>
                  </a:cubicBezTo>
                  <a:cubicBezTo>
                    <a:pt x="1049" y="347"/>
                    <a:pt x="1034" y="392"/>
                    <a:pt x="1038" y="377"/>
                  </a:cubicBezTo>
                  <a:cubicBezTo>
                    <a:pt x="1051" y="327"/>
                    <a:pt x="1068" y="280"/>
                    <a:pt x="1091" y="233"/>
                  </a:cubicBezTo>
                  <a:cubicBezTo>
                    <a:pt x="1104" y="388"/>
                    <a:pt x="1087" y="338"/>
                    <a:pt x="1121" y="286"/>
                  </a:cubicBezTo>
                  <a:cubicBezTo>
                    <a:pt x="1132" y="245"/>
                    <a:pt x="1145" y="225"/>
                    <a:pt x="1152" y="180"/>
                  </a:cubicBezTo>
                  <a:cubicBezTo>
                    <a:pt x="1154" y="167"/>
                    <a:pt x="1171" y="147"/>
                    <a:pt x="1159" y="142"/>
                  </a:cubicBezTo>
                  <a:cubicBezTo>
                    <a:pt x="1148" y="137"/>
                    <a:pt x="1144" y="163"/>
                    <a:pt x="1137" y="173"/>
                  </a:cubicBezTo>
                  <a:cubicBezTo>
                    <a:pt x="1127" y="218"/>
                    <a:pt x="1115" y="269"/>
                    <a:pt x="1091" y="309"/>
                  </a:cubicBezTo>
                  <a:cubicBezTo>
                    <a:pt x="1085" y="320"/>
                    <a:pt x="1075" y="329"/>
                    <a:pt x="1068" y="339"/>
                  </a:cubicBezTo>
                  <a:cubicBezTo>
                    <a:pt x="1058" y="354"/>
                    <a:pt x="1023" y="395"/>
                    <a:pt x="1038" y="385"/>
                  </a:cubicBezTo>
                  <a:cubicBezTo>
                    <a:pt x="1046" y="380"/>
                    <a:pt x="1053" y="375"/>
                    <a:pt x="1061" y="370"/>
                  </a:cubicBezTo>
                  <a:cubicBezTo>
                    <a:pt x="1072" y="333"/>
                    <a:pt x="1097" y="306"/>
                    <a:pt x="1114" y="271"/>
                  </a:cubicBezTo>
                  <a:cubicBezTo>
                    <a:pt x="1128" y="242"/>
                    <a:pt x="1137" y="209"/>
                    <a:pt x="1152" y="180"/>
                  </a:cubicBezTo>
                  <a:cubicBezTo>
                    <a:pt x="1132" y="291"/>
                    <a:pt x="1135" y="236"/>
                    <a:pt x="1144" y="347"/>
                  </a:cubicBezTo>
                  <a:cubicBezTo>
                    <a:pt x="1177" y="314"/>
                    <a:pt x="1189" y="284"/>
                    <a:pt x="1205" y="241"/>
                  </a:cubicBezTo>
                  <a:cubicBezTo>
                    <a:pt x="1210" y="228"/>
                    <a:pt x="1215" y="215"/>
                    <a:pt x="1220" y="203"/>
                  </a:cubicBezTo>
                  <a:cubicBezTo>
                    <a:pt x="1225" y="193"/>
                    <a:pt x="1235" y="173"/>
                    <a:pt x="1235" y="173"/>
                  </a:cubicBezTo>
                  <a:cubicBezTo>
                    <a:pt x="1235" y="173"/>
                    <a:pt x="1230" y="198"/>
                    <a:pt x="1228" y="210"/>
                  </a:cubicBezTo>
                  <a:cubicBezTo>
                    <a:pt x="1243" y="291"/>
                    <a:pt x="1245" y="217"/>
                    <a:pt x="1250" y="188"/>
                  </a:cubicBezTo>
                  <a:cubicBezTo>
                    <a:pt x="1248" y="137"/>
                    <a:pt x="1251" y="86"/>
                    <a:pt x="1243" y="36"/>
                  </a:cubicBezTo>
                  <a:cubicBezTo>
                    <a:pt x="1240" y="16"/>
                    <a:pt x="1237" y="77"/>
                    <a:pt x="1235" y="97"/>
                  </a:cubicBezTo>
                  <a:cubicBezTo>
                    <a:pt x="1232" y="130"/>
                    <a:pt x="1232" y="162"/>
                    <a:pt x="1228" y="195"/>
                  </a:cubicBezTo>
                  <a:cubicBezTo>
                    <a:pt x="1224" y="229"/>
                    <a:pt x="1214" y="261"/>
                    <a:pt x="1205" y="294"/>
                  </a:cubicBezTo>
                  <a:cubicBezTo>
                    <a:pt x="1201" y="309"/>
                    <a:pt x="1195" y="324"/>
                    <a:pt x="1190" y="339"/>
                  </a:cubicBezTo>
                  <a:cubicBezTo>
                    <a:pt x="1187" y="349"/>
                    <a:pt x="1194" y="319"/>
                    <a:pt x="1197" y="309"/>
                  </a:cubicBezTo>
                  <a:cubicBezTo>
                    <a:pt x="1202" y="291"/>
                    <a:pt x="1206" y="273"/>
                    <a:pt x="1212" y="256"/>
                  </a:cubicBezTo>
                  <a:cubicBezTo>
                    <a:pt x="1240" y="173"/>
                    <a:pt x="1219" y="258"/>
                    <a:pt x="1235" y="188"/>
                  </a:cubicBezTo>
                  <a:cubicBezTo>
                    <a:pt x="1233" y="132"/>
                    <a:pt x="1224" y="77"/>
                    <a:pt x="1228" y="21"/>
                  </a:cubicBezTo>
                  <a:cubicBezTo>
                    <a:pt x="1230" y="0"/>
                    <a:pt x="1231" y="65"/>
                    <a:pt x="1243" y="82"/>
                  </a:cubicBezTo>
                  <a:cubicBezTo>
                    <a:pt x="1247" y="88"/>
                    <a:pt x="1253" y="71"/>
                    <a:pt x="1258" y="66"/>
                  </a:cubicBezTo>
                  <a:cubicBezTo>
                    <a:pt x="1268" y="74"/>
                    <a:pt x="1280" y="79"/>
                    <a:pt x="1288" y="89"/>
                  </a:cubicBezTo>
                  <a:cubicBezTo>
                    <a:pt x="1292" y="93"/>
                    <a:pt x="1301" y="130"/>
                    <a:pt x="1303" y="135"/>
                  </a:cubicBezTo>
                  <a:cubicBezTo>
                    <a:pt x="1319" y="167"/>
                    <a:pt x="1337" y="192"/>
                    <a:pt x="1349" y="226"/>
                  </a:cubicBezTo>
                  <a:cubicBezTo>
                    <a:pt x="1346" y="239"/>
                    <a:pt x="1350" y="255"/>
                    <a:pt x="1341" y="264"/>
                  </a:cubicBezTo>
                  <a:cubicBezTo>
                    <a:pt x="1336" y="269"/>
                    <a:pt x="1321" y="243"/>
                    <a:pt x="1326" y="248"/>
                  </a:cubicBezTo>
                  <a:cubicBezTo>
                    <a:pt x="1348" y="272"/>
                    <a:pt x="1336" y="259"/>
                    <a:pt x="1364" y="286"/>
                  </a:cubicBezTo>
                  <a:cubicBezTo>
                    <a:pt x="1386" y="231"/>
                    <a:pt x="1374" y="221"/>
                    <a:pt x="1341" y="173"/>
                  </a:cubicBezTo>
                  <a:cubicBezTo>
                    <a:pt x="1339" y="163"/>
                    <a:pt x="1324" y="144"/>
                    <a:pt x="1334" y="142"/>
                  </a:cubicBezTo>
                  <a:cubicBezTo>
                    <a:pt x="1355" y="139"/>
                    <a:pt x="1375" y="155"/>
                    <a:pt x="1394" y="165"/>
                  </a:cubicBezTo>
                  <a:cubicBezTo>
                    <a:pt x="1413" y="175"/>
                    <a:pt x="1447" y="203"/>
                    <a:pt x="1447" y="203"/>
                  </a:cubicBezTo>
                  <a:cubicBezTo>
                    <a:pt x="1459" y="221"/>
                    <a:pt x="1470" y="251"/>
                    <a:pt x="1470" y="195"/>
                  </a:cubicBezTo>
                  <a:cubicBezTo>
                    <a:pt x="1470" y="165"/>
                    <a:pt x="1457" y="132"/>
                    <a:pt x="1447" y="104"/>
                  </a:cubicBezTo>
                  <a:cubicBezTo>
                    <a:pt x="1455" y="99"/>
                    <a:pt x="1461" y="87"/>
                    <a:pt x="1470" y="89"/>
                  </a:cubicBezTo>
                  <a:cubicBezTo>
                    <a:pt x="1478" y="91"/>
                    <a:pt x="1481" y="104"/>
                    <a:pt x="1478" y="112"/>
                  </a:cubicBezTo>
                  <a:cubicBezTo>
                    <a:pt x="1475" y="122"/>
                    <a:pt x="1462" y="127"/>
                    <a:pt x="1455" y="135"/>
                  </a:cubicBezTo>
                  <a:cubicBezTo>
                    <a:pt x="1439" y="154"/>
                    <a:pt x="1424" y="175"/>
                    <a:pt x="1409" y="195"/>
                  </a:cubicBezTo>
                  <a:cubicBezTo>
                    <a:pt x="1402" y="204"/>
                    <a:pt x="1394" y="237"/>
                    <a:pt x="1394" y="226"/>
                  </a:cubicBezTo>
                  <a:cubicBezTo>
                    <a:pt x="1394" y="210"/>
                    <a:pt x="1402" y="195"/>
                    <a:pt x="1409" y="180"/>
                  </a:cubicBezTo>
                  <a:cubicBezTo>
                    <a:pt x="1415" y="167"/>
                    <a:pt x="1424" y="155"/>
                    <a:pt x="1432" y="142"/>
                  </a:cubicBezTo>
                  <a:cubicBezTo>
                    <a:pt x="1434" y="133"/>
                    <a:pt x="1465" y="62"/>
                    <a:pt x="1462" y="59"/>
                  </a:cubicBezTo>
                  <a:cubicBezTo>
                    <a:pt x="1456" y="53"/>
                    <a:pt x="1446" y="68"/>
                    <a:pt x="1440" y="74"/>
                  </a:cubicBezTo>
                  <a:cubicBezTo>
                    <a:pt x="1428" y="86"/>
                    <a:pt x="1419" y="99"/>
                    <a:pt x="1409" y="112"/>
                  </a:cubicBezTo>
                  <a:cubicBezTo>
                    <a:pt x="1401" y="122"/>
                    <a:pt x="1393" y="131"/>
                    <a:pt x="1387" y="142"/>
                  </a:cubicBezTo>
                  <a:cubicBezTo>
                    <a:pt x="1380" y="154"/>
                    <a:pt x="1380" y="169"/>
                    <a:pt x="1372" y="180"/>
                  </a:cubicBezTo>
                  <a:cubicBezTo>
                    <a:pt x="1364" y="192"/>
                    <a:pt x="1350" y="199"/>
                    <a:pt x="1341" y="210"/>
                  </a:cubicBezTo>
                  <a:cubicBezTo>
                    <a:pt x="1327" y="229"/>
                    <a:pt x="1303" y="271"/>
                    <a:pt x="1303" y="271"/>
                  </a:cubicBezTo>
                  <a:cubicBezTo>
                    <a:pt x="1306" y="286"/>
                    <a:pt x="1300" y="306"/>
                    <a:pt x="1311" y="317"/>
                  </a:cubicBezTo>
                  <a:cubicBezTo>
                    <a:pt x="1317" y="323"/>
                    <a:pt x="1321" y="302"/>
                    <a:pt x="1326" y="294"/>
                  </a:cubicBezTo>
                  <a:cubicBezTo>
                    <a:pt x="1344" y="264"/>
                    <a:pt x="1361" y="233"/>
                    <a:pt x="1379" y="203"/>
                  </a:cubicBezTo>
                  <a:cubicBezTo>
                    <a:pt x="1386" y="191"/>
                    <a:pt x="1400" y="184"/>
                    <a:pt x="1409" y="173"/>
                  </a:cubicBezTo>
                  <a:cubicBezTo>
                    <a:pt x="1490" y="72"/>
                    <a:pt x="1402" y="167"/>
                    <a:pt x="1462" y="104"/>
                  </a:cubicBezTo>
                  <a:cubicBezTo>
                    <a:pt x="1476" y="143"/>
                    <a:pt x="1463" y="179"/>
                    <a:pt x="1455" y="218"/>
                  </a:cubicBezTo>
                  <a:cubicBezTo>
                    <a:pt x="1452" y="233"/>
                    <a:pt x="1450" y="249"/>
                    <a:pt x="1447" y="264"/>
                  </a:cubicBezTo>
                  <a:cubicBezTo>
                    <a:pt x="1445" y="272"/>
                    <a:pt x="1434" y="291"/>
                    <a:pt x="1440" y="286"/>
                  </a:cubicBezTo>
                  <a:cubicBezTo>
                    <a:pt x="1456" y="274"/>
                    <a:pt x="1466" y="256"/>
                    <a:pt x="1478" y="241"/>
                  </a:cubicBezTo>
                  <a:cubicBezTo>
                    <a:pt x="1486" y="231"/>
                    <a:pt x="1493" y="220"/>
                    <a:pt x="1500" y="210"/>
                  </a:cubicBezTo>
                  <a:cubicBezTo>
                    <a:pt x="1502" y="203"/>
                    <a:pt x="1513" y="145"/>
                    <a:pt x="1531" y="150"/>
                  </a:cubicBezTo>
                  <a:cubicBezTo>
                    <a:pt x="1543" y="153"/>
                    <a:pt x="1534" y="176"/>
                    <a:pt x="1538" y="188"/>
                  </a:cubicBezTo>
                  <a:cubicBezTo>
                    <a:pt x="1546" y="212"/>
                    <a:pt x="1559" y="233"/>
                    <a:pt x="1569" y="256"/>
                  </a:cubicBezTo>
                  <a:cubicBezTo>
                    <a:pt x="1571" y="274"/>
                    <a:pt x="1573" y="292"/>
                    <a:pt x="1576" y="309"/>
                  </a:cubicBezTo>
                  <a:cubicBezTo>
                    <a:pt x="1578" y="317"/>
                    <a:pt x="1576" y="334"/>
                    <a:pt x="1584" y="332"/>
                  </a:cubicBezTo>
                  <a:cubicBezTo>
                    <a:pt x="1609" y="325"/>
                    <a:pt x="1618" y="258"/>
                    <a:pt x="1622" y="241"/>
                  </a:cubicBezTo>
                  <a:cubicBezTo>
                    <a:pt x="1647" y="258"/>
                    <a:pt x="1690" y="301"/>
                    <a:pt x="1690" y="301"/>
                  </a:cubicBezTo>
                  <a:cubicBezTo>
                    <a:pt x="1719" y="242"/>
                    <a:pt x="1698" y="181"/>
                    <a:pt x="1682" y="120"/>
                  </a:cubicBezTo>
                  <a:cubicBezTo>
                    <a:pt x="1685" y="110"/>
                    <a:pt x="1681" y="94"/>
                    <a:pt x="1690" y="89"/>
                  </a:cubicBezTo>
                  <a:cubicBezTo>
                    <a:pt x="1698" y="85"/>
                    <a:pt x="1724" y="116"/>
                    <a:pt x="1728" y="120"/>
                  </a:cubicBezTo>
                  <a:cubicBezTo>
                    <a:pt x="1735" y="87"/>
                    <a:pt x="1753" y="68"/>
                    <a:pt x="1743" y="36"/>
                  </a:cubicBezTo>
                  <a:cubicBezTo>
                    <a:pt x="1313" y="53"/>
                    <a:pt x="884" y="121"/>
                    <a:pt x="454" y="142"/>
                  </a:cubicBezTo>
                  <a:cubicBezTo>
                    <a:pt x="489" y="137"/>
                    <a:pt x="519" y="128"/>
                    <a:pt x="553" y="120"/>
                  </a:cubicBezTo>
                  <a:cubicBezTo>
                    <a:pt x="574" y="97"/>
                    <a:pt x="584" y="95"/>
                    <a:pt x="614" y="104"/>
                  </a:cubicBezTo>
                  <a:cubicBezTo>
                    <a:pt x="647" y="140"/>
                    <a:pt x="635" y="91"/>
                    <a:pt x="644" y="59"/>
                  </a:cubicBezTo>
                  <a:cubicBezTo>
                    <a:pt x="672" y="87"/>
                    <a:pt x="700" y="111"/>
                    <a:pt x="712" y="150"/>
                  </a:cubicBezTo>
                  <a:cubicBezTo>
                    <a:pt x="717" y="142"/>
                    <a:pt x="726" y="136"/>
                    <a:pt x="727" y="127"/>
                  </a:cubicBezTo>
                  <a:cubicBezTo>
                    <a:pt x="733" y="90"/>
                    <a:pt x="695" y="91"/>
                    <a:pt x="750" y="104"/>
                  </a:cubicBezTo>
                  <a:cubicBezTo>
                    <a:pt x="765" y="119"/>
                    <a:pt x="781" y="135"/>
                    <a:pt x="796" y="150"/>
                  </a:cubicBezTo>
                  <a:cubicBezTo>
                    <a:pt x="805" y="159"/>
                    <a:pt x="794" y="124"/>
                    <a:pt x="788" y="112"/>
                  </a:cubicBezTo>
                  <a:cubicBezTo>
                    <a:pt x="783" y="102"/>
                    <a:pt x="760" y="99"/>
                    <a:pt x="765" y="89"/>
                  </a:cubicBezTo>
                  <a:cubicBezTo>
                    <a:pt x="770" y="80"/>
                    <a:pt x="786" y="93"/>
                    <a:pt x="796" y="97"/>
                  </a:cubicBezTo>
                  <a:cubicBezTo>
                    <a:pt x="827" y="109"/>
                    <a:pt x="858" y="125"/>
                    <a:pt x="886" y="142"/>
                  </a:cubicBezTo>
                  <a:cubicBezTo>
                    <a:pt x="884" y="127"/>
                    <a:pt x="884" y="111"/>
                    <a:pt x="879" y="97"/>
                  </a:cubicBezTo>
                  <a:cubicBezTo>
                    <a:pt x="876" y="88"/>
                    <a:pt x="855" y="76"/>
                    <a:pt x="864" y="74"/>
                  </a:cubicBezTo>
                  <a:cubicBezTo>
                    <a:pt x="871" y="73"/>
                    <a:pt x="923" y="91"/>
                    <a:pt x="940" y="97"/>
                  </a:cubicBezTo>
                  <a:cubicBezTo>
                    <a:pt x="949" y="59"/>
                    <a:pt x="946" y="49"/>
                    <a:pt x="909" y="36"/>
                  </a:cubicBezTo>
                  <a:cubicBezTo>
                    <a:pt x="861" y="41"/>
                    <a:pt x="813" y="48"/>
                    <a:pt x="765" y="51"/>
                  </a:cubicBezTo>
                  <a:cubicBezTo>
                    <a:pt x="624" y="58"/>
                    <a:pt x="341" y="66"/>
                    <a:pt x="341" y="66"/>
                  </a:cubicBezTo>
                  <a:cubicBezTo>
                    <a:pt x="376" y="101"/>
                    <a:pt x="415" y="112"/>
                    <a:pt x="356" y="127"/>
                  </a:cubicBezTo>
                  <a:cubicBezTo>
                    <a:pt x="336" y="132"/>
                    <a:pt x="315" y="132"/>
                    <a:pt x="295" y="135"/>
                  </a:cubicBezTo>
                  <a:cubicBezTo>
                    <a:pt x="282" y="132"/>
                    <a:pt x="269" y="123"/>
                    <a:pt x="257" y="127"/>
                  </a:cubicBezTo>
                  <a:cubicBezTo>
                    <a:pt x="245" y="131"/>
                    <a:pt x="244" y="149"/>
                    <a:pt x="235" y="157"/>
                  </a:cubicBezTo>
                  <a:cubicBezTo>
                    <a:pt x="229" y="162"/>
                    <a:pt x="219" y="161"/>
                    <a:pt x="212" y="165"/>
                  </a:cubicBezTo>
                  <a:cubicBezTo>
                    <a:pt x="148" y="199"/>
                    <a:pt x="87" y="231"/>
                    <a:pt x="22" y="264"/>
                  </a:cubicBezTo>
                  <a:cubicBezTo>
                    <a:pt x="17" y="271"/>
                    <a:pt x="0" y="280"/>
                    <a:pt x="7" y="286"/>
                  </a:cubicBezTo>
                  <a:cubicBezTo>
                    <a:pt x="14" y="292"/>
                    <a:pt x="23" y="276"/>
                    <a:pt x="30" y="271"/>
                  </a:cubicBezTo>
                  <a:cubicBezTo>
                    <a:pt x="40" y="264"/>
                    <a:pt x="50" y="255"/>
                    <a:pt x="60" y="248"/>
                  </a:cubicBezTo>
                  <a:cubicBezTo>
                    <a:pt x="123" y="205"/>
                    <a:pt x="148" y="187"/>
                    <a:pt x="212" y="165"/>
                  </a:cubicBezTo>
                  <a:cubicBezTo>
                    <a:pt x="200" y="209"/>
                    <a:pt x="179" y="253"/>
                    <a:pt x="159" y="294"/>
                  </a:cubicBezTo>
                  <a:cubicBezTo>
                    <a:pt x="134" y="344"/>
                    <a:pt x="152" y="291"/>
                    <a:pt x="136" y="339"/>
                  </a:cubicBezTo>
                  <a:cubicBezTo>
                    <a:pt x="133" y="347"/>
                    <a:pt x="122" y="366"/>
                    <a:pt x="129" y="362"/>
                  </a:cubicBezTo>
                  <a:cubicBezTo>
                    <a:pt x="155" y="349"/>
                    <a:pt x="197" y="309"/>
                    <a:pt x="197" y="309"/>
                  </a:cubicBezTo>
                  <a:cubicBezTo>
                    <a:pt x="240" y="394"/>
                    <a:pt x="180" y="260"/>
                    <a:pt x="204" y="400"/>
                  </a:cubicBezTo>
                  <a:cubicBezTo>
                    <a:pt x="205" y="407"/>
                    <a:pt x="216" y="391"/>
                    <a:pt x="220" y="385"/>
                  </a:cubicBezTo>
                  <a:cubicBezTo>
                    <a:pt x="258" y="331"/>
                    <a:pt x="222" y="360"/>
                    <a:pt x="265" y="332"/>
                  </a:cubicBezTo>
                  <a:cubicBezTo>
                    <a:pt x="232" y="381"/>
                    <a:pt x="269" y="322"/>
                    <a:pt x="235" y="392"/>
                  </a:cubicBezTo>
                  <a:cubicBezTo>
                    <a:pt x="227" y="407"/>
                    <a:pt x="220" y="423"/>
                    <a:pt x="212" y="438"/>
                  </a:cubicBezTo>
                  <a:cubicBezTo>
                    <a:pt x="208" y="446"/>
                    <a:pt x="197" y="470"/>
                    <a:pt x="197" y="461"/>
                  </a:cubicBezTo>
                  <a:cubicBezTo>
                    <a:pt x="197" y="447"/>
                    <a:pt x="208" y="436"/>
                    <a:pt x="212" y="423"/>
                  </a:cubicBezTo>
                  <a:cubicBezTo>
                    <a:pt x="229" y="373"/>
                    <a:pt x="258" y="330"/>
                    <a:pt x="273" y="279"/>
                  </a:cubicBezTo>
                  <a:cubicBezTo>
                    <a:pt x="276" y="269"/>
                    <a:pt x="277" y="258"/>
                    <a:pt x="280" y="248"/>
                  </a:cubicBezTo>
                  <a:cubicBezTo>
                    <a:pt x="284" y="233"/>
                    <a:pt x="311" y="203"/>
                    <a:pt x="295" y="203"/>
                  </a:cubicBezTo>
                  <a:cubicBezTo>
                    <a:pt x="278" y="203"/>
                    <a:pt x="280" y="233"/>
                    <a:pt x="273" y="248"/>
                  </a:cubicBezTo>
                  <a:cubicBezTo>
                    <a:pt x="253" y="292"/>
                    <a:pt x="227" y="335"/>
                    <a:pt x="204" y="377"/>
                  </a:cubicBezTo>
                  <a:cubicBezTo>
                    <a:pt x="198" y="388"/>
                    <a:pt x="190" y="398"/>
                    <a:pt x="182" y="408"/>
                  </a:cubicBezTo>
                  <a:cubicBezTo>
                    <a:pt x="175" y="416"/>
                    <a:pt x="159" y="441"/>
                    <a:pt x="159" y="430"/>
                  </a:cubicBezTo>
                  <a:cubicBezTo>
                    <a:pt x="159" y="412"/>
                    <a:pt x="192" y="393"/>
                    <a:pt x="204" y="385"/>
                  </a:cubicBezTo>
                  <a:cubicBezTo>
                    <a:pt x="207" y="375"/>
                    <a:pt x="203" y="360"/>
                    <a:pt x="212" y="354"/>
                  </a:cubicBezTo>
                  <a:cubicBezTo>
                    <a:pt x="219" y="349"/>
                    <a:pt x="227" y="365"/>
                    <a:pt x="235" y="362"/>
                  </a:cubicBezTo>
                  <a:cubicBezTo>
                    <a:pt x="244" y="359"/>
                    <a:pt x="245" y="347"/>
                    <a:pt x="250" y="339"/>
                  </a:cubicBezTo>
                  <a:cubicBezTo>
                    <a:pt x="279" y="353"/>
                    <a:pt x="296" y="375"/>
                    <a:pt x="326" y="385"/>
                  </a:cubicBezTo>
                  <a:cubicBezTo>
                    <a:pt x="366" y="427"/>
                    <a:pt x="394" y="404"/>
                    <a:pt x="356" y="339"/>
                  </a:cubicBezTo>
                  <a:cubicBezTo>
                    <a:pt x="348" y="325"/>
                    <a:pt x="333" y="316"/>
                    <a:pt x="318" y="309"/>
                  </a:cubicBezTo>
                  <a:cubicBezTo>
                    <a:pt x="308" y="304"/>
                    <a:pt x="332" y="326"/>
                    <a:pt x="341" y="332"/>
                  </a:cubicBezTo>
                  <a:cubicBezTo>
                    <a:pt x="353" y="341"/>
                    <a:pt x="366" y="347"/>
                    <a:pt x="379" y="354"/>
                  </a:cubicBezTo>
                  <a:cubicBezTo>
                    <a:pt x="422" y="419"/>
                    <a:pt x="378" y="316"/>
                    <a:pt x="371" y="309"/>
                  </a:cubicBezTo>
                  <a:cubicBezTo>
                    <a:pt x="351" y="289"/>
                    <a:pt x="326" y="274"/>
                    <a:pt x="303" y="256"/>
                  </a:cubicBezTo>
                  <a:cubicBezTo>
                    <a:pt x="296" y="250"/>
                    <a:pt x="279" y="231"/>
                    <a:pt x="288" y="233"/>
                  </a:cubicBezTo>
                  <a:cubicBezTo>
                    <a:pt x="353" y="249"/>
                    <a:pt x="393" y="304"/>
                    <a:pt x="454" y="324"/>
                  </a:cubicBezTo>
                  <a:cubicBezTo>
                    <a:pt x="510" y="376"/>
                    <a:pt x="452" y="237"/>
                    <a:pt x="439" y="218"/>
                  </a:cubicBezTo>
                  <a:cubicBezTo>
                    <a:pt x="437" y="210"/>
                    <a:pt x="424" y="195"/>
                    <a:pt x="432" y="195"/>
                  </a:cubicBezTo>
                  <a:cubicBezTo>
                    <a:pt x="445" y="195"/>
                    <a:pt x="455" y="207"/>
                    <a:pt x="462" y="218"/>
                  </a:cubicBezTo>
                  <a:cubicBezTo>
                    <a:pt x="469" y="229"/>
                    <a:pt x="467" y="243"/>
                    <a:pt x="470" y="256"/>
                  </a:cubicBezTo>
                  <a:cubicBezTo>
                    <a:pt x="467" y="310"/>
                    <a:pt x="449" y="457"/>
                    <a:pt x="470" y="362"/>
                  </a:cubicBezTo>
                  <a:cubicBezTo>
                    <a:pt x="473" y="349"/>
                    <a:pt x="473" y="336"/>
                    <a:pt x="477" y="324"/>
                  </a:cubicBezTo>
                  <a:cubicBezTo>
                    <a:pt x="480" y="315"/>
                    <a:pt x="487" y="309"/>
                    <a:pt x="492" y="301"/>
                  </a:cubicBezTo>
                  <a:cubicBezTo>
                    <a:pt x="502" y="306"/>
                    <a:pt x="516" y="308"/>
                    <a:pt x="523" y="317"/>
                  </a:cubicBezTo>
                  <a:cubicBezTo>
                    <a:pt x="533" y="330"/>
                    <a:pt x="533" y="347"/>
                    <a:pt x="538" y="362"/>
                  </a:cubicBezTo>
                  <a:cubicBezTo>
                    <a:pt x="542" y="373"/>
                    <a:pt x="542" y="392"/>
                    <a:pt x="553" y="392"/>
                  </a:cubicBezTo>
                  <a:cubicBezTo>
                    <a:pt x="563" y="392"/>
                    <a:pt x="550" y="371"/>
                    <a:pt x="545" y="362"/>
                  </a:cubicBezTo>
                  <a:cubicBezTo>
                    <a:pt x="540" y="353"/>
                    <a:pt x="529" y="348"/>
                    <a:pt x="523" y="339"/>
                  </a:cubicBezTo>
                  <a:cubicBezTo>
                    <a:pt x="517" y="330"/>
                    <a:pt x="514" y="318"/>
                    <a:pt x="508" y="309"/>
                  </a:cubicBezTo>
                  <a:cubicBezTo>
                    <a:pt x="504" y="303"/>
                    <a:pt x="492" y="287"/>
                    <a:pt x="492" y="294"/>
                  </a:cubicBezTo>
                  <a:cubicBezTo>
                    <a:pt x="492" y="305"/>
                    <a:pt x="502" y="314"/>
                    <a:pt x="508" y="324"/>
                  </a:cubicBezTo>
                  <a:cubicBezTo>
                    <a:pt x="528" y="356"/>
                    <a:pt x="562" y="404"/>
                    <a:pt x="598" y="415"/>
                  </a:cubicBezTo>
                  <a:cubicBezTo>
                    <a:pt x="587" y="200"/>
                    <a:pt x="598" y="274"/>
                    <a:pt x="614" y="362"/>
                  </a:cubicBezTo>
                  <a:cubicBezTo>
                    <a:pt x="635" y="320"/>
                    <a:pt x="697" y="248"/>
                    <a:pt x="697" y="248"/>
                  </a:cubicBezTo>
                  <a:cubicBezTo>
                    <a:pt x="738" y="292"/>
                    <a:pt x="667" y="350"/>
                    <a:pt x="667" y="400"/>
                  </a:cubicBezTo>
                  <a:cubicBezTo>
                    <a:pt x="667" y="411"/>
                    <a:pt x="675" y="379"/>
                    <a:pt x="682" y="370"/>
                  </a:cubicBezTo>
                  <a:cubicBezTo>
                    <a:pt x="688" y="361"/>
                    <a:pt x="699" y="356"/>
                    <a:pt x="705" y="347"/>
                  </a:cubicBezTo>
                  <a:cubicBezTo>
                    <a:pt x="730" y="313"/>
                    <a:pt x="734" y="278"/>
                    <a:pt x="750" y="241"/>
                  </a:cubicBezTo>
                  <a:cubicBezTo>
                    <a:pt x="754" y="233"/>
                    <a:pt x="761" y="226"/>
                    <a:pt x="765" y="218"/>
                  </a:cubicBezTo>
                  <a:cubicBezTo>
                    <a:pt x="769" y="211"/>
                    <a:pt x="773" y="187"/>
                    <a:pt x="773" y="195"/>
                  </a:cubicBezTo>
                  <a:cubicBezTo>
                    <a:pt x="773" y="230"/>
                    <a:pt x="754" y="255"/>
                    <a:pt x="742" y="286"/>
                  </a:cubicBezTo>
                  <a:cubicBezTo>
                    <a:pt x="733" y="308"/>
                    <a:pt x="726" y="331"/>
                    <a:pt x="720" y="354"/>
                  </a:cubicBezTo>
                  <a:cubicBezTo>
                    <a:pt x="717" y="364"/>
                    <a:pt x="702" y="390"/>
                    <a:pt x="712" y="385"/>
                  </a:cubicBezTo>
                  <a:cubicBezTo>
                    <a:pt x="725" y="379"/>
                    <a:pt x="729" y="360"/>
                    <a:pt x="735" y="347"/>
                  </a:cubicBezTo>
                  <a:cubicBezTo>
                    <a:pt x="746" y="322"/>
                    <a:pt x="765" y="271"/>
                    <a:pt x="765" y="271"/>
                  </a:cubicBezTo>
                  <a:cubicBezTo>
                    <a:pt x="773" y="229"/>
                    <a:pt x="770" y="235"/>
                    <a:pt x="780" y="203"/>
                  </a:cubicBezTo>
                  <a:cubicBezTo>
                    <a:pt x="783" y="195"/>
                    <a:pt x="790" y="188"/>
                    <a:pt x="788" y="180"/>
                  </a:cubicBezTo>
                  <a:cubicBezTo>
                    <a:pt x="787" y="175"/>
                    <a:pt x="778" y="175"/>
                    <a:pt x="773" y="173"/>
                  </a:cubicBezTo>
                  <a:lnTo>
                    <a:pt x="697" y="26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27"/>
            <p:cNvSpPr/>
            <p:nvPr/>
          </p:nvSpPr>
          <p:spPr>
            <a:xfrm>
              <a:off x="-36360" y="5245200"/>
              <a:ext cx="4127400" cy="349200"/>
            </a:xfrm>
            <a:custGeom>
              <a:avLst/>
              <a:gdLst/>
              <a:ahLst/>
              <a:rect l="l" t="t" r="r" b="b"/>
              <a:pathLst>
                <a:path w="2600" h="220">
                  <a:moveTo>
                    <a:pt x="0" y="220"/>
                  </a:moveTo>
                  <a:cubicBezTo>
                    <a:pt x="10" y="215"/>
                    <a:pt x="20" y="209"/>
                    <a:pt x="31" y="205"/>
                  </a:cubicBezTo>
                  <a:cubicBezTo>
                    <a:pt x="41" y="201"/>
                    <a:pt x="56" y="206"/>
                    <a:pt x="61" y="197"/>
                  </a:cubicBezTo>
                  <a:cubicBezTo>
                    <a:pt x="65" y="189"/>
                    <a:pt x="38" y="179"/>
                    <a:pt x="46" y="175"/>
                  </a:cubicBezTo>
                  <a:cubicBezTo>
                    <a:pt x="60" y="168"/>
                    <a:pt x="76" y="180"/>
                    <a:pt x="91" y="182"/>
                  </a:cubicBezTo>
                  <a:cubicBezTo>
                    <a:pt x="175" y="211"/>
                    <a:pt x="50" y="176"/>
                    <a:pt x="129" y="167"/>
                  </a:cubicBezTo>
                  <a:cubicBezTo>
                    <a:pt x="151" y="164"/>
                    <a:pt x="191" y="186"/>
                    <a:pt x="212" y="197"/>
                  </a:cubicBezTo>
                  <a:cubicBezTo>
                    <a:pt x="210" y="187"/>
                    <a:pt x="196" y="172"/>
                    <a:pt x="205" y="167"/>
                  </a:cubicBezTo>
                  <a:cubicBezTo>
                    <a:pt x="226" y="155"/>
                    <a:pt x="257" y="180"/>
                    <a:pt x="273" y="190"/>
                  </a:cubicBezTo>
                  <a:cubicBezTo>
                    <a:pt x="312" y="177"/>
                    <a:pt x="305" y="199"/>
                    <a:pt x="341" y="175"/>
                  </a:cubicBezTo>
                  <a:cubicBezTo>
                    <a:pt x="471" y="195"/>
                    <a:pt x="330" y="184"/>
                    <a:pt x="410" y="167"/>
                  </a:cubicBezTo>
                  <a:cubicBezTo>
                    <a:pt x="437" y="161"/>
                    <a:pt x="465" y="162"/>
                    <a:pt x="493" y="160"/>
                  </a:cubicBezTo>
                  <a:cubicBezTo>
                    <a:pt x="549" y="141"/>
                    <a:pt x="479" y="160"/>
                    <a:pt x="546" y="160"/>
                  </a:cubicBezTo>
                  <a:cubicBezTo>
                    <a:pt x="572" y="160"/>
                    <a:pt x="591" y="152"/>
                    <a:pt x="614" y="144"/>
                  </a:cubicBezTo>
                  <a:cubicBezTo>
                    <a:pt x="750" y="158"/>
                    <a:pt x="678" y="156"/>
                    <a:pt x="629" y="167"/>
                  </a:cubicBezTo>
                  <a:cubicBezTo>
                    <a:pt x="627" y="180"/>
                    <a:pt x="630" y="195"/>
                    <a:pt x="622" y="205"/>
                  </a:cubicBezTo>
                  <a:cubicBezTo>
                    <a:pt x="615" y="213"/>
                    <a:pt x="580" y="213"/>
                    <a:pt x="591" y="213"/>
                  </a:cubicBezTo>
                  <a:cubicBezTo>
                    <a:pt x="672" y="213"/>
                    <a:pt x="754" y="198"/>
                    <a:pt x="834" y="190"/>
                  </a:cubicBezTo>
                  <a:cubicBezTo>
                    <a:pt x="821" y="182"/>
                    <a:pt x="809" y="174"/>
                    <a:pt x="796" y="167"/>
                  </a:cubicBezTo>
                  <a:cubicBezTo>
                    <a:pt x="789" y="163"/>
                    <a:pt x="769" y="167"/>
                    <a:pt x="773" y="160"/>
                  </a:cubicBezTo>
                  <a:cubicBezTo>
                    <a:pt x="778" y="151"/>
                    <a:pt x="793" y="154"/>
                    <a:pt x="804" y="152"/>
                  </a:cubicBezTo>
                  <a:cubicBezTo>
                    <a:pt x="837" y="146"/>
                    <a:pt x="902" y="137"/>
                    <a:pt x="902" y="137"/>
                  </a:cubicBezTo>
                  <a:cubicBezTo>
                    <a:pt x="892" y="134"/>
                    <a:pt x="876" y="138"/>
                    <a:pt x="872" y="129"/>
                  </a:cubicBezTo>
                  <a:cubicBezTo>
                    <a:pt x="869" y="122"/>
                    <a:pt x="887" y="122"/>
                    <a:pt x="895" y="122"/>
                  </a:cubicBezTo>
                  <a:cubicBezTo>
                    <a:pt x="961" y="122"/>
                    <a:pt x="1026" y="127"/>
                    <a:pt x="1092" y="129"/>
                  </a:cubicBezTo>
                  <a:cubicBezTo>
                    <a:pt x="1079" y="132"/>
                    <a:pt x="1054" y="124"/>
                    <a:pt x="1054" y="137"/>
                  </a:cubicBezTo>
                  <a:cubicBezTo>
                    <a:pt x="1054" y="161"/>
                    <a:pt x="1141" y="183"/>
                    <a:pt x="1160" y="190"/>
                  </a:cubicBezTo>
                  <a:cubicBezTo>
                    <a:pt x="1180" y="187"/>
                    <a:pt x="1200" y="185"/>
                    <a:pt x="1220" y="182"/>
                  </a:cubicBezTo>
                  <a:cubicBezTo>
                    <a:pt x="1233" y="180"/>
                    <a:pt x="1250" y="185"/>
                    <a:pt x="1258" y="175"/>
                  </a:cubicBezTo>
                  <a:cubicBezTo>
                    <a:pt x="1267" y="163"/>
                    <a:pt x="1222" y="138"/>
                    <a:pt x="1220" y="137"/>
                  </a:cubicBezTo>
                  <a:cubicBezTo>
                    <a:pt x="1256" y="134"/>
                    <a:pt x="1294" y="142"/>
                    <a:pt x="1327" y="129"/>
                  </a:cubicBezTo>
                  <a:cubicBezTo>
                    <a:pt x="1339" y="124"/>
                    <a:pt x="1299" y="119"/>
                    <a:pt x="1296" y="107"/>
                  </a:cubicBezTo>
                  <a:cubicBezTo>
                    <a:pt x="1294" y="99"/>
                    <a:pt x="1311" y="100"/>
                    <a:pt x="1319" y="99"/>
                  </a:cubicBezTo>
                  <a:cubicBezTo>
                    <a:pt x="1352" y="95"/>
                    <a:pt x="1385" y="94"/>
                    <a:pt x="1418" y="91"/>
                  </a:cubicBezTo>
                  <a:cubicBezTo>
                    <a:pt x="1408" y="86"/>
                    <a:pt x="1398" y="80"/>
                    <a:pt x="1387" y="76"/>
                  </a:cubicBezTo>
                  <a:cubicBezTo>
                    <a:pt x="1380" y="73"/>
                    <a:pt x="1356" y="68"/>
                    <a:pt x="1364" y="69"/>
                  </a:cubicBezTo>
                  <a:cubicBezTo>
                    <a:pt x="1414" y="78"/>
                    <a:pt x="1443" y="85"/>
                    <a:pt x="1486" y="107"/>
                  </a:cubicBezTo>
                  <a:cubicBezTo>
                    <a:pt x="1493" y="102"/>
                    <a:pt x="1508" y="100"/>
                    <a:pt x="1508" y="91"/>
                  </a:cubicBezTo>
                  <a:cubicBezTo>
                    <a:pt x="1508" y="82"/>
                    <a:pt x="1479" y="82"/>
                    <a:pt x="1486" y="76"/>
                  </a:cubicBezTo>
                  <a:cubicBezTo>
                    <a:pt x="1494" y="69"/>
                    <a:pt x="1506" y="81"/>
                    <a:pt x="1516" y="84"/>
                  </a:cubicBezTo>
                  <a:cubicBezTo>
                    <a:pt x="1551" y="107"/>
                    <a:pt x="1590" y="117"/>
                    <a:pt x="1630" y="129"/>
                  </a:cubicBezTo>
                  <a:cubicBezTo>
                    <a:pt x="1606" y="64"/>
                    <a:pt x="1696" y="115"/>
                    <a:pt x="1721" y="122"/>
                  </a:cubicBezTo>
                  <a:cubicBezTo>
                    <a:pt x="1823" y="110"/>
                    <a:pt x="1793" y="122"/>
                    <a:pt x="1743" y="76"/>
                  </a:cubicBezTo>
                  <a:cubicBezTo>
                    <a:pt x="1772" y="48"/>
                    <a:pt x="1806" y="68"/>
                    <a:pt x="1842" y="76"/>
                  </a:cubicBezTo>
                  <a:cubicBezTo>
                    <a:pt x="1845" y="77"/>
                    <a:pt x="1918" y="118"/>
                    <a:pt x="1918" y="99"/>
                  </a:cubicBezTo>
                  <a:cubicBezTo>
                    <a:pt x="1918" y="84"/>
                    <a:pt x="1856" y="72"/>
                    <a:pt x="1842" y="69"/>
                  </a:cubicBezTo>
                  <a:cubicBezTo>
                    <a:pt x="1834" y="64"/>
                    <a:pt x="1814" y="61"/>
                    <a:pt x="1819" y="53"/>
                  </a:cubicBezTo>
                  <a:cubicBezTo>
                    <a:pt x="1826" y="42"/>
                    <a:pt x="1844" y="46"/>
                    <a:pt x="1857" y="46"/>
                  </a:cubicBezTo>
                  <a:cubicBezTo>
                    <a:pt x="1882" y="46"/>
                    <a:pt x="1908" y="50"/>
                    <a:pt x="1933" y="53"/>
                  </a:cubicBezTo>
                  <a:cubicBezTo>
                    <a:pt x="1996" y="60"/>
                    <a:pt x="2053" y="82"/>
                    <a:pt x="2115" y="91"/>
                  </a:cubicBezTo>
                  <a:cubicBezTo>
                    <a:pt x="2145" y="123"/>
                    <a:pt x="2124" y="99"/>
                    <a:pt x="2100" y="84"/>
                  </a:cubicBezTo>
                  <a:cubicBezTo>
                    <a:pt x="2068" y="64"/>
                    <a:pt x="2040" y="65"/>
                    <a:pt x="2115" y="76"/>
                  </a:cubicBezTo>
                  <a:cubicBezTo>
                    <a:pt x="2157" y="97"/>
                    <a:pt x="2205" y="114"/>
                    <a:pt x="2251" y="122"/>
                  </a:cubicBezTo>
                  <a:cubicBezTo>
                    <a:pt x="2259" y="127"/>
                    <a:pt x="2274" y="146"/>
                    <a:pt x="2274" y="137"/>
                  </a:cubicBezTo>
                  <a:cubicBezTo>
                    <a:pt x="2274" y="126"/>
                    <a:pt x="2260" y="120"/>
                    <a:pt x="2251" y="114"/>
                  </a:cubicBezTo>
                  <a:cubicBezTo>
                    <a:pt x="2224" y="97"/>
                    <a:pt x="2184" y="84"/>
                    <a:pt x="2153" y="76"/>
                  </a:cubicBezTo>
                  <a:cubicBezTo>
                    <a:pt x="2204" y="64"/>
                    <a:pt x="2241" y="82"/>
                    <a:pt x="2289" y="99"/>
                  </a:cubicBezTo>
                  <a:cubicBezTo>
                    <a:pt x="2294" y="83"/>
                    <a:pt x="2301" y="0"/>
                    <a:pt x="2282" y="61"/>
                  </a:cubicBezTo>
                  <a:cubicBezTo>
                    <a:pt x="2284" y="69"/>
                    <a:pt x="2283" y="78"/>
                    <a:pt x="2289" y="84"/>
                  </a:cubicBezTo>
                  <a:cubicBezTo>
                    <a:pt x="2300" y="95"/>
                    <a:pt x="2320" y="94"/>
                    <a:pt x="2335" y="99"/>
                  </a:cubicBezTo>
                  <a:cubicBezTo>
                    <a:pt x="2364" y="108"/>
                    <a:pt x="2389" y="120"/>
                    <a:pt x="2418" y="129"/>
                  </a:cubicBezTo>
                  <a:cubicBezTo>
                    <a:pt x="2474" y="122"/>
                    <a:pt x="2513" y="106"/>
                    <a:pt x="2570" y="99"/>
                  </a:cubicBezTo>
                  <a:cubicBezTo>
                    <a:pt x="2580" y="96"/>
                    <a:pt x="2600" y="91"/>
                    <a:pt x="2600" y="9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728"/>
            <p:cNvSpPr/>
            <p:nvPr/>
          </p:nvSpPr>
          <p:spPr>
            <a:xfrm>
              <a:off x="131760" y="5505480"/>
              <a:ext cx="685800" cy="127080"/>
            </a:xfrm>
            <a:custGeom>
              <a:avLst/>
              <a:gdLst/>
              <a:ahLst/>
              <a:rect l="l" t="t" r="r" b="b"/>
              <a:pathLst>
                <a:path w="432" h="80">
                  <a:moveTo>
                    <a:pt x="0" y="49"/>
                  </a:moveTo>
                  <a:cubicBezTo>
                    <a:pt x="15" y="5"/>
                    <a:pt x="24" y="10"/>
                    <a:pt x="53" y="41"/>
                  </a:cubicBezTo>
                  <a:cubicBezTo>
                    <a:pt x="81" y="0"/>
                    <a:pt x="84" y="23"/>
                    <a:pt x="106" y="56"/>
                  </a:cubicBezTo>
                  <a:cubicBezTo>
                    <a:pt x="125" y="29"/>
                    <a:pt x="130" y="5"/>
                    <a:pt x="160" y="33"/>
                  </a:cubicBezTo>
                  <a:cubicBezTo>
                    <a:pt x="172" y="29"/>
                    <a:pt x="212" y="16"/>
                    <a:pt x="220" y="18"/>
                  </a:cubicBezTo>
                  <a:cubicBezTo>
                    <a:pt x="228" y="21"/>
                    <a:pt x="223" y="35"/>
                    <a:pt x="228" y="41"/>
                  </a:cubicBezTo>
                  <a:cubicBezTo>
                    <a:pt x="248" y="67"/>
                    <a:pt x="296" y="61"/>
                    <a:pt x="319" y="64"/>
                  </a:cubicBezTo>
                  <a:cubicBezTo>
                    <a:pt x="370" y="80"/>
                    <a:pt x="333" y="71"/>
                    <a:pt x="432" y="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29"/>
            <p:cNvSpPr/>
            <p:nvPr/>
          </p:nvSpPr>
          <p:spPr>
            <a:xfrm>
              <a:off x="3814920" y="5316480"/>
              <a:ext cx="515880" cy="282600"/>
            </a:xfrm>
            <a:custGeom>
              <a:avLst/>
              <a:gdLst/>
              <a:ahLst/>
              <a:rect l="l" t="t" r="r" b="b"/>
              <a:pathLst>
                <a:path w="325" h="178">
                  <a:moveTo>
                    <a:pt x="0" y="115"/>
                  </a:moveTo>
                  <a:cubicBezTo>
                    <a:pt x="46" y="105"/>
                    <a:pt x="54" y="113"/>
                    <a:pt x="98" y="130"/>
                  </a:cubicBezTo>
                  <a:cubicBezTo>
                    <a:pt x="148" y="178"/>
                    <a:pt x="104" y="144"/>
                    <a:pt x="113" y="122"/>
                  </a:cubicBezTo>
                  <a:cubicBezTo>
                    <a:pt x="116" y="115"/>
                    <a:pt x="128" y="117"/>
                    <a:pt x="136" y="115"/>
                  </a:cubicBezTo>
                  <a:cubicBezTo>
                    <a:pt x="204" y="159"/>
                    <a:pt x="127" y="114"/>
                    <a:pt x="144" y="107"/>
                  </a:cubicBezTo>
                  <a:cubicBezTo>
                    <a:pt x="161" y="100"/>
                    <a:pt x="179" y="112"/>
                    <a:pt x="197" y="115"/>
                  </a:cubicBezTo>
                  <a:cubicBezTo>
                    <a:pt x="163" y="81"/>
                    <a:pt x="174" y="101"/>
                    <a:pt x="257" y="92"/>
                  </a:cubicBezTo>
                  <a:cubicBezTo>
                    <a:pt x="280" y="90"/>
                    <a:pt x="302" y="87"/>
                    <a:pt x="325" y="84"/>
                  </a:cubicBezTo>
                  <a:cubicBezTo>
                    <a:pt x="307" y="30"/>
                    <a:pt x="319" y="52"/>
                    <a:pt x="295" y="16"/>
                  </a:cubicBezTo>
                  <a:cubicBezTo>
                    <a:pt x="320" y="0"/>
                    <a:pt x="309" y="1"/>
                    <a:pt x="325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30"/>
            <p:cNvSpPr/>
            <p:nvPr/>
          </p:nvSpPr>
          <p:spPr>
            <a:xfrm>
              <a:off x="-312840" y="5116680"/>
              <a:ext cx="612720" cy="264960"/>
            </a:xfrm>
            <a:custGeom>
              <a:avLst/>
              <a:gdLst/>
              <a:ahLst/>
              <a:rect l="l" t="t" r="r" b="b"/>
              <a:pathLst>
                <a:path w="386" h="167">
                  <a:moveTo>
                    <a:pt x="61" y="97"/>
                  </a:moveTo>
                  <a:cubicBezTo>
                    <a:pt x="215" y="113"/>
                    <a:pt x="158" y="101"/>
                    <a:pt x="235" y="119"/>
                  </a:cubicBezTo>
                  <a:cubicBezTo>
                    <a:pt x="225" y="112"/>
                    <a:pt x="216" y="103"/>
                    <a:pt x="205" y="97"/>
                  </a:cubicBezTo>
                  <a:cubicBezTo>
                    <a:pt x="182" y="84"/>
                    <a:pt x="167" y="94"/>
                    <a:pt x="205" y="81"/>
                  </a:cubicBezTo>
                  <a:cubicBezTo>
                    <a:pt x="230" y="84"/>
                    <a:pt x="255" y="92"/>
                    <a:pt x="280" y="89"/>
                  </a:cubicBezTo>
                  <a:cubicBezTo>
                    <a:pt x="289" y="88"/>
                    <a:pt x="266" y="78"/>
                    <a:pt x="258" y="74"/>
                  </a:cubicBezTo>
                  <a:cubicBezTo>
                    <a:pt x="246" y="68"/>
                    <a:pt x="233" y="64"/>
                    <a:pt x="220" y="59"/>
                  </a:cubicBezTo>
                  <a:cubicBezTo>
                    <a:pt x="212" y="56"/>
                    <a:pt x="189" y="51"/>
                    <a:pt x="197" y="51"/>
                  </a:cubicBezTo>
                  <a:cubicBezTo>
                    <a:pt x="227" y="51"/>
                    <a:pt x="258" y="56"/>
                    <a:pt x="288" y="59"/>
                  </a:cubicBezTo>
                  <a:cubicBezTo>
                    <a:pt x="288" y="59"/>
                    <a:pt x="263" y="43"/>
                    <a:pt x="250" y="36"/>
                  </a:cubicBezTo>
                  <a:cubicBezTo>
                    <a:pt x="243" y="32"/>
                    <a:pt x="235" y="31"/>
                    <a:pt x="227" y="28"/>
                  </a:cubicBezTo>
                  <a:cubicBezTo>
                    <a:pt x="237" y="26"/>
                    <a:pt x="247" y="20"/>
                    <a:pt x="258" y="21"/>
                  </a:cubicBezTo>
                  <a:cubicBezTo>
                    <a:pt x="269" y="22"/>
                    <a:pt x="299" y="40"/>
                    <a:pt x="288" y="36"/>
                  </a:cubicBezTo>
                  <a:cubicBezTo>
                    <a:pt x="268" y="29"/>
                    <a:pt x="226" y="22"/>
                    <a:pt x="212" y="6"/>
                  </a:cubicBezTo>
                  <a:cubicBezTo>
                    <a:pt x="207" y="0"/>
                    <a:pt x="227" y="11"/>
                    <a:pt x="235" y="13"/>
                  </a:cubicBezTo>
                  <a:cubicBezTo>
                    <a:pt x="250" y="18"/>
                    <a:pt x="280" y="28"/>
                    <a:pt x="280" y="28"/>
                  </a:cubicBezTo>
                  <a:cubicBezTo>
                    <a:pt x="303" y="61"/>
                    <a:pt x="308" y="57"/>
                    <a:pt x="250" y="44"/>
                  </a:cubicBezTo>
                  <a:cubicBezTo>
                    <a:pt x="242" y="42"/>
                    <a:pt x="235" y="38"/>
                    <a:pt x="227" y="36"/>
                  </a:cubicBezTo>
                  <a:cubicBezTo>
                    <a:pt x="217" y="33"/>
                    <a:pt x="187" y="24"/>
                    <a:pt x="197" y="28"/>
                  </a:cubicBezTo>
                  <a:cubicBezTo>
                    <a:pt x="253" y="50"/>
                    <a:pt x="255" y="49"/>
                    <a:pt x="303" y="59"/>
                  </a:cubicBezTo>
                  <a:cubicBezTo>
                    <a:pt x="313" y="64"/>
                    <a:pt x="323" y="68"/>
                    <a:pt x="333" y="74"/>
                  </a:cubicBezTo>
                  <a:cubicBezTo>
                    <a:pt x="341" y="79"/>
                    <a:pt x="365" y="89"/>
                    <a:pt x="356" y="89"/>
                  </a:cubicBezTo>
                  <a:cubicBezTo>
                    <a:pt x="335" y="89"/>
                    <a:pt x="316" y="77"/>
                    <a:pt x="296" y="74"/>
                  </a:cubicBezTo>
                  <a:cubicBezTo>
                    <a:pt x="268" y="70"/>
                    <a:pt x="240" y="69"/>
                    <a:pt x="212" y="66"/>
                  </a:cubicBezTo>
                  <a:cubicBezTo>
                    <a:pt x="204" y="64"/>
                    <a:pt x="189" y="67"/>
                    <a:pt x="189" y="59"/>
                  </a:cubicBezTo>
                  <a:cubicBezTo>
                    <a:pt x="189" y="51"/>
                    <a:pt x="204" y="51"/>
                    <a:pt x="212" y="51"/>
                  </a:cubicBezTo>
                  <a:cubicBezTo>
                    <a:pt x="260" y="53"/>
                    <a:pt x="308" y="61"/>
                    <a:pt x="356" y="66"/>
                  </a:cubicBezTo>
                  <a:cubicBezTo>
                    <a:pt x="366" y="69"/>
                    <a:pt x="386" y="84"/>
                    <a:pt x="386" y="74"/>
                  </a:cubicBezTo>
                  <a:cubicBezTo>
                    <a:pt x="386" y="63"/>
                    <a:pt x="366" y="64"/>
                    <a:pt x="356" y="59"/>
                  </a:cubicBezTo>
                  <a:cubicBezTo>
                    <a:pt x="343" y="52"/>
                    <a:pt x="332" y="42"/>
                    <a:pt x="318" y="36"/>
                  </a:cubicBezTo>
                  <a:cubicBezTo>
                    <a:pt x="306" y="31"/>
                    <a:pt x="271" y="19"/>
                    <a:pt x="280" y="28"/>
                  </a:cubicBezTo>
                  <a:cubicBezTo>
                    <a:pt x="291" y="39"/>
                    <a:pt x="326" y="44"/>
                    <a:pt x="326" y="44"/>
                  </a:cubicBezTo>
                  <a:cubicBezTo>
                    <a:pt x="259" y="56"/>
                    <a:pt x="285" y="55"/>
                    <a:pt x="182" y="44"/>
                  </a:cubicBezTo>
                  <a:cubicBezTo>
                    <a:pt x="169" y="43"/>
                    <a:pt x="132" y="32"/>
                    <a:pt x="144" y="36"/>
                  </a:cubicBezTo>
                  <a:cubicBezTo>
                    <a:pt x="195" y="52"/>
                    <a:pt x="244" y="56"/>
                    <a:pt x="288" y="89"/>
                  </a:cubicBezTo>
                  <a:cubicBezTo>
                    <a:pt x="297" y="96"/>
                    <a:pt x="321" y="109"/>
                    <a:pt x="311" y="112"/>
                  </a:cubicBezTo>
                  <a:cubicBezTo>
                    <a:pt x="293" y="117"/>
                    <a:pt x="276" y="101"/>
                    <a:pt x="258" y="97"/>
                  </a:cubicBezTo>
                  <a:cubicBezTo>
                    <a:pt x="205" y="85"/>
                    <a:pt x="152" y="74"/>
                    <a:pt x="98" y="66"/>
                  </a:cubicBezTo>
                  <a:cubicBezTo>
                    <a:pt x="88" y="61"/>
                    <a:pt x="57" y="51"/>
                    <a:pt x="68" y="51"/>
                  </a:cubicBezTo>
                  <a:cubicBezTo>
                    <a:pt x="119" y="51"/>
                    <a:pt x="206" y="87"/>
                    <a:pt x="250" y="112"/>
                  </a:cubicBezTo>
                  <a:cubicBezTo>
                    <a:pt x="258" y="117"/>
                    <a:pt x="265" y="122"/>
                    <a:pt x="273" y="127"/>
                  </a:cubicBezTo>
                  <a:cubicBezTo>
                    <a:pt x="283" y="133"/>
                    <a:pt x="314" y="140"/>
                    <a:pt x="303" y="142"/>
                  </a:cubicBezTo>
                  <a:cubicBezTo>
                    <a:pt x="281" y="146"/>
                    <a:pt x="258" y="137"/>
                    <a:pt x="235" y="134"/>
                  </a:cubicBezTo>
                  <a:cubicBezTo>
                    <a:pt x="167" y="125"/>
                    <a:pt x="105" y="107"/>
                    <a:pt x="38" y="97"/>
                  </a:cubicBezTo>
                  <a:cubicBezTo>
                    <a:pt x="30" y="92"/>
                    <a:pt x="6" y="84"/>
                    <a:pt x="15" y="81"/>
                  </a:cubicBezTo>
                  <a:cubicBezTo>
                    <a:pt x="35" y="74"/>
                    <a:pt x="80" y="98"/>
                    <a:pt x="98" y="104"/>
                  </a:cubicBezTo>
                  <a:cubicBezTo>
                    <a:pt x="141" y="118"/>
                    <a:pt x="175" y="124"/>
                    <a:pt x="212" y="150"/>
                  </a:cubicBezTo>
                  <a:cubicBezTo>
                    <a:pt x="161" y="159"/>
                    <a:pt x="148" y="147"/>
                    <a:pt x="98" y="134"/>
                  </a:cubicBezTo>
                  <a:cubicBezTo>
                    <a:pt x="65" y="126"/>
                    <a:pt x="33" y="122"/>
                    <a:pt x="0" y="112"/>
                  </a:cubicBezTo>
                  <a:cubicBezTo>
                    <a:pt x="27" y="130"/>
                    <a:pt x="54" y="135"/>
                    <a:pt x="83" y="150"/>
                  </a:cubicBezTo>
                  <a:cubicBezTo>
                    <a:pt x="33" y="167"/>
                    <a:pt x="54" y="165"/>
                    <a:pt x="23" y="1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731"/>
            <p:cNvSpPr/>
            <p:nvPr/>
          </p:nvSpPr>
          <p:spPr>
            <a:xfrm>
              <a:off x="1596960" y="5222880"/>
              <a:ext cx="1206720" cy="307800"/>
            </a:xfrm>
            <a:custGeom>
              <a:avLst/>
              <a:gdLst/>
              <a:ahLst/>
              <a:rect l="l" t="t" r="r" b="b"/>
              <a:pathLst>
                <a:path w="760" h="194">
                  <a:moveTo>
                    <a:pt x="555" y="136"/>
                  </a:moveTo>
                  <a:cubicBezTo>
                    <a:pt x="531" y="111"/>
                    <a:pt x="532" y="113"/>
                    <a:pt x="510" y="83"/>
                  </a:cubicBezTo>
                  <a:cubicBezTo>
                    <a:pt x="505" y="76"/>
                    <a:pt x="487" y="64"/>
                    <a:pt x="495" y="60"/>
                  </a:cubicBezTo>
                  <a:cubicBezTo>
                    <a:pt x="511" y="53"/>
                    <a:pt x="530" y="65"/>
                    <a:pt x="548" y="67"/>
                  </a:cubicBezTo>
                  <a:cubicBezTo>
                    <a:pt x="563" y="78"/>
                    <a:pt x="578" y="83"/>
                    <a:pt x="578" y="105"/>
                  </a:cubicBezTo>
                  <a:cubicBezTo>
                    <a:pt x="578" y="109"/>
                    <a:pt x="572" y="101"/>
                    <a:pt x="570" y="98"/>
                  </a:cubicBezTo>
                  <a:cubicBezTo>
                    <a:pt x="560" y="83"/>
                    <a:pt x="550" y="67"/>
                    <a:pt x="540" y="52"/>
                  </a:cubicBezTo>
                  <a:cubicBezTo>
                    <a:pt x="536" y="45"/>
                    <a:pt x="556" y="56"/>
                    <a:pt x="563" y="60"/>
                  </a:cubicBezTo>
                  <a:cubicBezTo>
                    <a:pt x="571" y="64"/>
                    <a:pt x="578" y="70"/>
                    <a:pt x="586" y="75"/>
                  </a:cubicBezTo>
                  <a:cubicBezTo>
                    <a:pt x="591" y="88"/>
                    <a:pt x="596" y="100"/>
                    <a:pt x="601" y="113"/>
                  </a:cubicBezTo>
                  <a:cubicBezTo>
                    <a:pt x="604" y="121"/>
                    <a:pt x="608" y="144"/>
                    <a:pt x="608" y="136"/>
                  </a:cubicBezTo>
                  <a:cubicBezTo>
                    <a:pt x="608" y="121"/>
                    <a:pt x="598" y="97"/>
                    <a:pt x="593" y="83"/>
                  </a:cubicBezTo>
                  <a:cubicBezTo>
                    <a:pt x="610" y="0"/>
                    <a:pt x="583" y="68"/>
                    <a:pt x="631" y="60"/>
                  </a:cubicBezTo>
                  <a:cubicBezTo>
                    <a:pt x="640" y="58"/>
                    <a:pt x="641" y="45"/>
                    <a:pt x="646" y="37"/>
                  </a:cubicBezTo>
                  <a:cubicBezTo>
                    <a:pt x="638" y="99"/>
                    <a:pt x="629" y="105"/>
                    <a:pt x="654" y="67"/>
                  </a:cubicBezTo>
                  <a:cubicBezTo>
                    <a:pt x="651" y="77"/>
                    <a:pt x="649" y="88"/>
                    <a:pt x="646" y="98"/>
                  </a:cubicBezTo>
                  <a:cubicBezTo>
                    <a:pt x="644" y="108"/>
                    <a:pt x="629" y="125"/>
                    <a:pt x="639" y="128"/>
                  </a:cubicBezTo>
                  <a:cubicBezTo>
                    <a:pt x="651" y="132"/>
                    <a:pt x="659" y="112"/>
                    <a:pt x="669" y="105"/>
                  </a:cubicBezTo>
                  <a:cubicBezTo>
                    <a:pt x="696" y="85"/>
                    <a:pt x="688" y="91"/>
                    <a:pt x="722" y="83"/>
                  </a:cubicBezTo>
                  <a:cubicBezTo>
                    <a:pt x="719" y="90"/>
                    <a:pt x="716" y="98"/>
                    <a:pt x="714" y="105"/>
                  </a:cubicBezTo>
                  <a:cubicBezTo>
                    <a:pt x="711" y="113"/>
                    <a:pt x="699" y="128"/>
                    <a:pt x="707" y="128"/>
                  </a:cubicBezTo>
                  <a:cubicBezTo>
                    <a:pt x="718" y="128"/>
                    <a:pt x="721" y="110"/>
                    <a:pt x="730" y="105"/>
                  </a:cubicBezTo>
                  <a:cubicBezTo>
                    <a:pt x="739" y="100"/>
                    <a:pt x="750" y="100"/>
                    <a:pt x="760" y="98"/>
                  </a:cubicBezTo>
                  <a:cubicBezTo>
                    <a:pt x="731" y="142"/>
                    <a:pt x="717" y="137"/>
                    <a:pt x="661" y="143"/>
                  </a:cubicBezTo>
                  <a:cubicBezTo>
                    <a:pt x="591" y="171"/>
                    <a:pt x="532" y="165"/>
                    <a:pt x="457" y="158"/>
                  </a:cubicBezTo>
                  <a:cubicBezTo>
                    <a:pt x="394" y="144"/>
                    <a:pt x="445" y="144"/>
                    <a:pt x="472" y="136"/>
                  </a:cubicBezTo>
                  <a:cubicBezTo>
                    <a:pt x="464" y="128"/>
                    <a:pt x="457" y="120"/>
                    <a:pt x="449" y="113"/>
                  </a:cubicBezTo>
                  <a:cubicBezTo>
                    <a:pt x="439" y="105"/>
                    <a:pt x="416" y="102"/>
                    <a:pt x="419" y="90"/>
                  </a:cubicBezTo>
                  <a:cubicBezTo>
                    <a:pt x="422" y="77"/>
                    <a:pt x="444" y="80"/>
                    <a:pt x="457" y="75"/>
                  </a:cubicBezTo>
                  <a:cubicBezTo>
                    <a:pt x="464" y="78"/>
                    <a:pt x="472" y="79"/>
                    <a:pt x="479" y="83"/>
                  </a:cubicBezTo>
                  <a:cubicBezTo>
                    <a:pt x="487" y="87"/>
                    <a:pt x="502" y="98"/>
                    <a:pt x="502" y="98"/>
                  </a:cubicBezTo>
                  <a:cubicBezTo>
                    <a:pt x="489" y="88"/>
                    <a:pt x="478" y="76"/>
                    <a:pt x="464" y="67"/>
                  </a:cubicBezTo>
                  <a:cubicBezTo>
                    <a:pt x="457" y="63"/>
                    <a:pt x="442" y="68"/>
                    <a:pt x="442" y="60"/>
                  </a:cubicBezTo>
                  <a:cubicBezTo>
                    <a:pt x="442" y="52"/>
                    <a:pt x="457" y="55"/>
                    <a:pt x="464" y="52"/>
                  </a:cubicBezTo>
                  <a:cubicBezTo>
                    <a:pt x="472" y="57"/>
                    <a:pt x="479" y="63"/>
                    <a:pt x="487" y="67"/>
                  </a:cubicBezTo>
                  <a:cubicBezTo>
                    <a:pt x="496" y="71"/>
                    <a:pt x="508" y="70"/>
                    <a:pt x="517" y="75"/>
                  </a:cubicBezTo>
                  <a:cubicBezTo>
                    <a:pt x="529" y="81"/>
                    <a:pt x="551" y="116"/>
                    <a:pt x="517" y="67"/>
                  </a:cubicBezTo>
                  <a:cubicBezTo>
                    <a:pt x="499" y="126"/>
                    <a:pt x="451" y="124"/>
                    <a:pt x="396" y="136"/>
                  </a:cubicBezTo>
                  <a:cubicBezTo>
                    <a:pt x="308" y="194"/>
                    <a:pt x="160" y="158"/>
                    <a:pt x="55" y="151"/>
                  </a:cubicBezTo>
                  <a:cubicBezTo>
                    <a:pt x="0" y="115"/>
                    <a:pt x="55" y="155"/>
                    <a:pt x="78" y="143"/>
                  </a:cubicBezTo>
                  <a:cubicBezTo>
                    <a:pt x="96" y="133"/>
                    <a:pt x="6" y="119"/>
                    <a:pt x="25" y="113"/>
                  </a:cubicBezTo>
                  <a:cubicBezTo>
                    <a:pt x="40" y="109"/>
                    <a:pt x="55" y="118"/>
                    <a:pt x="70" y="121"/>
                  </a:cubicBezTo>
                  <a:cubicBezTo>
                    <a:pt x="137" y="165"/>
                    <a:pt x="47" y="81"/>
                    <a:pt x="47" y="67"/>
                  </a:cubicBezTo>
                  <a:cubicBezTo>
                    <a:pt x="47" y="58"/>
                    <a:pt x="62" y="78"/>
                    <a:pt x="70" y="83"/>
                  </a:cubicBezTo>
                  <a:cubicBezTo>
                    <a:pt x="73" y="93"/>
                    <a:pt x="70" y="107"/>
                    <a:pt x="78" y="113"/>
                  </a:cubicBezTo>
                  <a:cubicBezTo>
                    <a:pt x="85" y="118"/>
                    <a:pt x="94" y="101"/>
                    <a:pt x="101" y="105"/>
                  </a:cubicBezTo>
                  <a:cubicBezTo>
                    <a:pt x="115" y="112"/>
                    <a:pt x="111" y="136"/>
                    <a:pt x="116" y="151"/>
                  </a:cubicBezTo>
                  <a:cubicBezTo>
                    <a:pt x="116" y="151"/>
                    <a:pt x="131" y="146"/>
                    <a:pt x="138" y="143"/>
                  </a:cubicBezTo>
                  <a:cubicBezTo>
                    <a:pt x="141" y="153"/>
                    <a:pt x="137" y="168"/>
                    <a:pt x="146" y="174"/>
                  </a:cubicBezTo>
                  <a:cubicBezTo>
                    <a:pt x="172" y="193"/>
                    <a:pt x="169" y="149"/>
                    <a:pt x="169" y="174"/>
                  </a:cubicBezTo>
                  <a:lnTo>
                    <a:pt x="98" y="1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32"/>
            <p:cNvSpPr/>
            <p:nvPr/>
          </p:nvSpPr>
          <p:spPr>
            <a:xfrm>
              <a:off x="2505240" y="6075360"/>
              <a:ext cx="984240" cy="111240"/>
            </a:xfrm>
            <a:custGeom>
              <a:avLst/>
              <a:gdLst/>
              <a:ahLst/>
              <a:rect l="l" t="t" r="r" b="b"/>
              <a:pathLst>
                <a:path w="620" h="70">
                  <a:moveTo>
                    <a:pt x="294" y="61"/>
                  </a:moveTo>
                  <a:cubicBezTo>
                    <a:pt x="358" y="39"/>
                    <a:pt x="331" y="36"/>
                    <a:pt x="415" y="46"/>
                  </a:cubicBezTo>
                  <a:cubicBezTo>
                    <a:pt x="408" y="38"/>
                    <a:pt x="393" y="34"/>
                    <a:pt x="393" y="23"/>
                  </a:cubicBezTo>
                  <a:cubicBezTo>
                    <a:pt x="393" y="14"/>
                    <a:pt x="406" y="8"/>
                    <a:pt x="415" y="8"/>
                  </a:cubicBezTo>
                  <a:cubicBezTo>
                    <a:pt x="468" y="6"/>
                    <a:pt x="521" y="13"/>
                    <a:pt x="574" y="16"/>
                  </a:cubicBezTo>
                  <a:cubicBezTo>
                    <a:pt x="562" y="13"/>
                    <a:pt x="546" y="17"/>
                    <a:pt x="537" y="8"/>
                  </a:cubicBezTo>
                  <a:cubicBezTo>
                    <a:pt x="532" y="2"/>
                    <a:pt x="551" y="0"/>
                    <a:pt x="559" y="0"/>
                  </a:cubicBezTo>
                  <a:cubicBezTo>
                    <a:pt x="580" y="0"/>
                    <a:pt x="600" y="5"/>
                    <a:pt x="620" y="8"/>
                  </a:cubicBezTo>
                  <a:cubicBezTo>
                    <a:pt x="588" y="58"/>
                    <a:pt x="607" y="42"/>
                    <a:pt x="499" y="38"/>
                  </a:cubicBezTo>
                  <a:cubicBezTo>
                    <a:pt x="456" y="37"/>
                    <a:pt x="370" y="23"/>
                    <a:pt x="370" y="23"/>
                  </a:cubicBezTo>
                  <a:cubicBezTo>
                    <a:pt x="309" y="44"/>
                    <a:pt x="385" y="23"/>
                    <a:pt x="324" y="23"/>
                  </a:cubicBezTo>
                  <a:cubicBezTo>
                    <a:pt x="306" y="23"/>
                    <a:pt x="289" y="28"/>
                    <a:pt x="271" y="31"/>
                  </a:cubicBezTo>
                  <a:cubicBezTo>
                    <a:pt x="227" y="61"/>
                    <a:pt x="271" y="38"/>
                    <a:pt x="195" y="38"/>
                  </a:cubicBezTo>
                  <a:cubicBezTo>
                    <a:pt x="175" y="38"/>
                    <a:pt x="155" y="43"/>
                    <a:pt x="135" y="46"/>
                  </a:cubicBezTo>
                  <a:cubicBezTo>
                    <a:pt x="202" y="62"/>
                    <a:pt x="160" y="49"/>
                    <a:pt x="67" y="61"/>
                  </a:cubicBezTo>
                  <a:cubicBezTo>
                    <a:pt x="0" y="70"/>
                    <a:pt x="66" y="69"/>
                    <a:pt x="36" y="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733"/>
            <p:cNvSpPr/>
            <p:nvPr/>
          </p:nvSpPr>
          <p:spPr>
            <a:xfrm>
              <a:off x="157320" y="5076720"/>
              <a:ext cx="407880" cy="24156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0" y="122"/>
                  </a:moveTo>
                  <a:cubicBezTo>
                    <a:pt x="31" y="127"/>
                    <a:pt x="42" y="126"/>
                    <a:pt x="68" y="137"/>
                  </a:cubicBezTo>
                  <a:cubicBezTo>
                    <a:pt x="78" y="141"/>
                    <a:pt x="87" y="152"/>
                    <a:pt x="98" y="152"/>
                  </a:cubicBezTo>
                  <a:cubicBezTo>
                    <a:pt x="107" y="152"/>
                    <a:pt x="83" y="142"/>
                    <a:pt x="75" y="137"/>
                  </a:cubicBezTo>
                  <a:cubicBezTo>
                    <a:pt x="65" y="131"/>
                    <a:pt x="55" y="127"/>
                    <a:pt x="45" y="122"/>
                  </a:cubicBezTo>
                  <a:cubicBezTo>
                    <a:pt x="53" y="119"/>
                    <a:pt x="68" y="114"/>
                    <a:pt x="68" y="114"/>
                  </a:cubicBezTo>
                  <a:cubicBezTo>
                    <a:pt x="63" y="106"/>
                    <a:pt x="51" y="100"/>
                    <a:pt x="53" y="91"/>
                  </a:cubicBezTo>
                  <a:cubicBezTo>
                    <a:pt x="57" y="74"/>
                    <a:pt x="94" y="90"/>
                    <a:pt x="98" y="91"/>
                  </a:cubicBezTo>
                  <a:cubicBezTo>
                    <a:pt x="122" y="128"/>
                    <a:pt x="119" y="115"/>
                    <a:pt x="75" y="91"/>
                  </a:cubicBezTo>
                  <a:cubicBezTo>
                    <a:pt x="46" y="75"/>
                    <a:pt x="50" y="77"/>
                    <a:pt x="22" y="69"/>
                  </a:cubicBezTo>
                  <a:cubicBezTo>
                    <a:pt x="74" y="56"/>
                    <a:pt x="123" y="70"/>
                    <a:pt x="174" y="84"/>
                  </a:cubicBezTo>
                  <a:cubicBezTo>
                    <a:pt x="182" y="89"/>
                    <a:pt x="189" y="95"/>
                    <a:pt x="197" y="99"/>
                  </a:cubicBezTo>
                  <a:cubicBezTo>
                    <a:pt x="206" y="103"/>
                    <a:pt x="217" y="102"/>
                    <a:pt x="227" y="106"/>
                  </a:cubicBezTo>
                  <a:cubicBezTo>
                    <a:pt x="238" y="110"/>
                    <a:pt x="257" y="111"/>
                    <a:pt x="257" y="122"/>
                  </a:cubicBezTo>
                  <a:cubicBezTo>
                    <a:pt x="257" y="132"/>
                    <a:pt x="237" y="117"/>
                    <a:pt x="227" y="114"/>
                  </a:cubicBezTo>
                  <a:cubicBezTo>
                    <a:pt x="192" y="91"/>
                    <a:pt x="153" y="81"/>
                    <a:pt x="113" y="69"/>
                  </a:cubicBezTo>
                  <a:cubicBezTo>
                    <a:pt x="108" y="64"/>
                    <a:pt x="91" y="55"/>
                    <a:pt x="98" y="53"/>
                  </a:cubicBezTo>
                  <a:cubicBezTo>
                    <a:pt x="113" y="49"/>
                    <a:pt x="129" y="57"/>
                    <a:pt x="144" y="61"/>
                  </a:cubicBezTo>
                  <a:cubicBezTo>
                    <a:pt x="152" y="63"/>
                    <a:pt x="174" y="69"/>
                    <a:pt x="166" y="69"/>
                  </a:cubicBezTo>
                  <a:cubicBezTo>
                    <a:pt x="153" y="69"/>
                    <a:pt x="141" y="64"/>
                    <a:pt x="128" y="61"/>
                  </a:cubicBezTo>
                  <a:cubicBezTo>
                    <a:pt x="89" y="42"/>
                    <a:pt x="7" y="25"/>
                    <a:pt x="151" y="53"/>
                  </a:cubicBezTo>
                  <a:cubicBezTo>
                    <a:pt x="210" y="84"/>
                    <a:pt x="171" y="62"/>
                    <a:pt x="136" y="53"/>
                  </a:cubicBezTo>
                  <a:cubicBezTo>
                    <a:pt x="121" y="49"/>
                    <a:pt x="105" y="48"/>
                    <a:pt x="90" y="46"/>
                  </a:cubicBezTo>
                  <a:cubicBezTo>
                    <a:pt x="40" y="12"/>
                    <a:pt x="85" y="48"/>
                    <a:pt x="121" y="38"/>
                  </a:cubicBezTo>
                  <a:cubicBezTo>
                    <a:pt x="130" y="36"/>
                    <a:pt x="106" y="27"/>
                    <a:pt x="98" y="23"/>
                  </a:cubicBezTo>
                  <a:cubicBezTo>
                    <a:pt x="91" y="19"/>
                    <a:pt x="83" y="18"/>
                    <a:pt x="75" y="15"/>
                  </a:cubicBezTo>
                  <a:cubicBezTo>
                    <a:pt x="101" y="7"/>
                    <a:pt x="98" y="16"/>
                    <a:pt x="9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734"/>
            <p:cNvSpPr/>
            <p:nvPr/>
          </p:nvSpPr>
          <p:spPr>
            <a:xfrm>
              <a:off x="3263760" y="4470480"/>
              <a:ext cx="501840" cy="306360"/>
            </a:xfrm>
            <a:custGeom>
              <a:avLst/>
              <a:gdLst/>
              <a:ahLst/>
              <a:rect l="l" t="t" r="r" b="b"/>
              <a:pathLst>
                <a:path w="316" h="193">
                  <a:moveTo>
                    <a:pt x="5" y="193"/>
                  </a:moveTo>
                  <a:cubicBezTo>
                    <a:pt x="8" y="175"/>
                    <a:pt x="0" y="153"/>
                    <a:pt x="13" y="140"/>
                  </a:cubicBezTo>
                  <a:cubicBezTo>
                    <a:pt x="23" y="130"/>
                    <a:pt x="64" y="176"/>
                    <a:pt x="66" y="178"/>
                  </a:cubicBezTo>
                  <a:cubicBezTo>
                    <a:pt x="69" y="180"/>
                    <a:pt x="61" y="173"/>
                    <a:pt x="59" y="170"/>
                  </a:cubicBezTo>
                  <a:cubicBezTo>
                    <a:pt x="53" y="162"/>
                    <a:pt x="48" y="155"/>
                    <a:pt x="43" y="147"/>
                  </a:cubicBezTo>
                  <a:cubicBezTo>
                    <a:pt x="37" y="138"/>
                    <a:pt x="33" y="127"/>
                    <a:pt x="28" y="117"/>
                  </a:cubicBezTo>
                  <a:cubicBezTo>
                    <a:pt x="31" y="109"/>
                    <a:pt x="28" y="97"/>
                    <a:pt x="36" y="94"/>
                  </a:cubicBezTo>
                  <a:cubicBezTo>
                    <a:pt x="46" y="90"/>
                    <a:pt x="56" y="98"/>
                    <a:pt x="66" y="102"/>
                  </a:cubicBezTo>
                  <a:cubicBezTo>
                    <a:pt x="69" y="103"/>
                    <a:pt x="74" y="109"/>
                    <a:pt x="74" y="109"/>
                  </a:cubicBezTo>
                  <a:cubicBezTo>
                    <a:pt x="71" y="104"/>
                    <a:pt x="41" y="59"/>
                    <a:pt x="66" y="49"/>
                  </a:cubicBezTo>
                  <a:cubicBezTo>
                    <a:pt x="83" y="43"/>
                    <a:pt x="101" y="54"/>
                    <a:pt x="119" y="56"/>
                  </a:cubicBezTo>
                  <a:cubicBezTo>
                    <a:pt x="132" y="19"/>
                    <a:pt x="117" y="0"/>
                    <a:pt x="157" y="26"/>
                  </a:cubicBezTo>
                  <a:cubicBezTo>
                    <a:pt x="160" y="34"/>
                    <a:pt x="162" y="41"/>
                    <a:pt x="165" y="49"/>
                  </a:cubicBezTo>
                  <a:cubicBezTo>
                    <a:pt x="167" y="57"/>
                    <a:pt x="164" y="72"/>
                    <a:pt x="172" y="72"/>
                  </a:cubicBezTo>
                  <a:cubicBezTo>
                    <a:pt x="181" y="72"/>
                    <a:pt x="181" y="56"/>
                    <a:pt x="187" y="49"/>
                  </a:cubicBezTo>
                  <a:cubicBezTo>
                    <a:pt x="192" y="43"/>
                    <a:pt x="198" y="39"/>
                    <a:pt x="203" y="34"/>
                  </a:cubicBezTo>
                  <a:cubicBezTo>
                    <a:pt x="208" y="57"/>
                    <a:pt x="199" y="89"/>
                    <a:pt x="218" y="102"/>
                  </a:cubicBezTo>
                  <a:cubicBezTo>
                    <a:pt x="226" y="107"/>
                    <a:pt x="227" y="86"/>
                    <a:pt x="233" y="79"/>
                  </a:cubicBezTo>
                  <a:cubicBezTo>
                    <a:pt x="240" y="71"/>
                    <a:pt x="248" y="64"/>
                    <a:pt x="256" y="56"/>
                  </a:cubicBezTo>
                  <a:cubicBezTo>
                    <a:pt x="266" y="89"/>
                    <a:pt x="264" y="163"/>
                    <a:pt x="316" y="1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35"/>
            <p:cNvSpPr/>
            <p:nvPr/>
          </p:nvSpPr>
          <p:spPr>
            <a:xfrm>
              <a:off x="-360360" y="6440400"/>
              <a:ext cx="2706840" cy="803520"/>
            </a:xfrm>
            <a:custGeom>
              <a:avLst/>
              <a:gdLst/>
              <a:ahLst/>
              <a:rect l="l" t="t" r="r" b="b"/>
              <a:pathLst>
                <a:path w="1705" h="506">
                  <a:moveTo>
                    <a:pt x="667" y="399"/>
                  </a:moveTo>
                  <a:cubicBezTo>
                    <a:pt x="669" y="364"/>
                    <a:pt x="668" y="328"/>
                    <a:pt x="674" y="293"/>
                  </a:cubicBezTo>
                  <a:cubicBezTo>
                    <a:pt x="675" y="285"/>
                    <a:pt x="676" y="310"/>
                    <a:pt x="682" y="316"/>
                  </a:cubicBezTo>
                  <a:cubicBezTo>
                    <a:pt x="687" y="322"/>
                    <a:pt x="697" y="321"/>
                    <a:pt x="704" y="324"/>
                  </a:cubicBezTo>
                  <a:cubicBezTo>
                    <a:pt x="709" y="331"/>
                    <a:pt x="720" y="346"/>
                    <a:pt x="720" y="346"/>
                  </a:cubicBezTo>
                  <a:cubicBezTo>
                    <a:pt x="717" y="356"/>
                    <a:pt x="717" y="367"/>
                    <a:pt x="712" y="377"/>
                  </a:cubicBezTo>
                  <a:cubicBezTo>
                    <a:pt x="704" y="393"/>
                    <a:pt x="682" y="422"/>
                    <a:pt x="682" y="422"/>
                  </a:cubicBezTo>
                  <a:cubicBezTo>
                    <a:pt x="692" y="389"/>
                    <a:pt x="703" y="370"/>
                    <a:pt x="727" y="346"/>
                  </a:cubicBezTo>
                  <a:cubicBezTo>
                    <a:pt x="741" y="296"/>
                    <a:pt x="745" y="245"/>
                    <a:pt x="758" y="195"/>
                  </a:cubicBezTo>
                  <a:cubicBezTo>
                    <a:pt x="746" y="312"/>
                    <a:pt x="745" y="283"/>
                    <a:pt x="758" y="240"/>
                  </a:cubicBezTo>
                  <a:cubicBezTo>
                    <a:pt x="780" y="168"/>
                    <a:pt x="768" y="223"/>
                    <a:pt x="780" y="157"/>
                  </a:cubicBezTo>
                  <a:cubicBezTo>
                    <a:pt x="775" y="137"/>
                    <a:pt x="774" y="115"/>
                    <a:pt x="765" y="96"/>
                  </a:cubicBezTo>
                  <a:cubicBezTo>
                    <a:pt x="761" y="88"/>
                    <a:pt x="742" y="90"/>
                    <a:pt x="742" y="81"/>
                  </a:cubicBezTo>
                  <a:cubicBezTo>
                    <a:pt x="742" y="73"/>
                    <a:pt x="757" y="76"/>
                    <a:pt x="765" y="74"/>
                  </a:cubicBezTo>
                  <a:cubicBezTo>
                    <a:pt x="750" y="64"/>
                    <a:pt x="704" y="35"/>
                    <a:pt x="720" y="43"/>
                  </a:cubicBezTo>
                  <a:cubicBezTo>
                    <a:pt x="758" y="62"/>
                    <a:pt x="741" y="52"/>
                    <a:pt x="773" y="74"/>
                  </a:cubicBezTo>
                  <a:cubicBezTo>
                    <a:pt x="799" y="154"/>
                    <a:pt x="762" y="34"/>
                    <a:pt x="788" y="255"/>
                  </a:cubicBezTo>
                  <a:cubicBezTo>
                    <a:pt x="789" y="265"/>
                    <a:pt x="793" y="235"/>
                    <a:pt x="795" y="225"/>
                  </a:cubicBezTo>
                  <a:cubicBezTo>
                    <a:pt x="808" y="153"/>
                    <a:pt x="795" y="194"/>
                    <a:pt x="811" y="149"/>
                  </a:cubicBezTo>
                  <a:cubicBezTo>
                    <a:pt x="801" y="121"/>
                    <a:pt x="804" y="108"/>
                    <a:pt x="773" y="157"/>
                  </a:cubicBezTo>
                  <a:cubicBezTo>
                    <a:pt x="767" y="166"/>
                    <a:pt x="769" y="178"/>
                    <a:pt x="765" y="187"/>
                  </a:cubicBezTo>
                  <a:cubicBezTo>
                    <a:pt x="759" y="200"/>
                    <a:pt x="748" y="212"/>
                    <a:pt x="742" y="225"/>
                  </a:cubicBezTo>
                  <a:cubicBezTo>
                    <a:pt x="707" y="301"/>
                    <a:pt x="741" y="242"/>
                    <a:pt x="720" y="301"/>
                  </a:cubicBezTo>
                  <a:cubicBezTo>
                    <a:pt x="711" y="327"/>
                    <a:pt x="689" y="377"/>
                    <a:pt x="689" y="377"/>
                  </a:cubicBezTo>
                  <a:cubicBezTo>
                    <a:pt x="695" y="327"/>
                    <a:pt x="703" y="281"/>
                    <a:pt x="712" y="233"/>
                  </a:cubicBezTo>
                  <a:cubicBezTo>
                    <a:pt x="715" y="215"/>
                    <a:pt x="733" y="193"/>
                    <a:pt x="720" y="180"/>
                  </a:cubicBezTo>
                  <a:cubicBezTo>
                    <a:pt x="709" y="169"/>
                    <a:pt x="709" y="210"/>
                    <a:pt x="704" y="225"/>
                  </a:cubicBezTo>
                  <a:cubicBezTo>
                    <a:pt x="693" y="297"/>
                    <a:pt x="676" y="369"/>
                    <a:pt x="636" y="430"/>
                  </a:cubicBezTo>
                  <a:cubicBezTo>
                    <a:pt x="644" y="381"/>
                    <a:pt x="665" y="343"/>
                    <a:pt x="674" y="293"/>
                  </a:cubicBezTo>
                  <a:cubicBezTo>
                    <a:pt x="679" y="301"/>
                    <a:pt x="680" y="318"/>
                    <a:pt x="689" y="316"/>
                  </a:cubicBezTo>
                  <a:cubicBezTo>
                    <a:pt x="695" y="315"/>
                    <a:pt x="709" y="271"/>
                    <a:pt x="712" y="263"/>
                  </a:cubicBezTo>
                  <a:cubicBezTo>
                    <a:pt x="715" y="245"/>
                    <a:pt x="706" y="221"/>
                    <a:pt x="720" y="210"/>
                  </a:cubicBezTo>
                  <a:cubicBezTo>
                    <a:pt x="730" y="202"/>
                    <a:pt x="733" y="249"/>
                    <a:pt x="742" y="240"/>
                  </a:cubicBezTo>
                  <a:cubicBezTo>
                    <a:pt x="758" y="224"/>
                    <a:pt x="728" y="185"/>
                    <a:pt x="720" y="172"/>
                  </a:cubicBezTo>
                  <a:cubicBezTo>
                    <a:pt x="717" y="162"/>
                    <a:pt x="717" y="151"/>
                    <a:pt x="712" y="142"/>
                  </a:cubicBezTo>
                  <a:cubicBezTo>
                    <a:pt x="698" y="118"/>
                    <a:pt x="668" y="112"/>
                    <a:pt x="712" y="127"/>
                  </a:cubicBezTo>
                  <a:cubicBezTo>
                    <a:pt x="728" y="203"/>
                    <a:pt x="726" y="140"/>
                    <a:pt x="720" y="119"/>
                  </a:cubicBezTo>
                  <a:cubicBezTo>
                    <a:pt x="747" y="109"/>
                    <a:pt x="741" y="118"/>
                    <a:pt x="750" y="89"/>
                  </a:cubicBezTo>
                  <a:cubicBezTo>
                    <a:pt x="753" y="79"/>
                    <a:pt x="747" y="59"/>
                    <a:pt x="758" y="58"/>
                  </a:cubicBezTo>
                  <a:cubicBezTo>
                    <a:pt x="856" y="46"/>
                    <a:pt x="955" y="53"/>
                    <a:pt x="1053" y="51"/>
                  </a:cubicBezTo>
                  <a:cubicBezTo>
                    <a:pt x="1088" y="42"/>
                    <a:pt x="1124" y="37"/>
                    <a:pt x="1159" y="28"/>
                  </a:cubicBezTo>
                  <a:cubicBezTo>
                    <a:pt x="1189" y="31"/>
                    <a:pt x="1237" y="8"/>
                    <a:pt x="1250" y="36"/>
                  </a:cubicBezTo>
                  <a:cubicBezTo>
                    <a:pt x="1285" y="112"/>
                    <a:pt x="1227" y="290"/>
                    <a:pt x="1197" y="377"/>
                  </a:cubicBezTo>
                  <a:cubicBezTo>
                    <a:pt x="1215" y="261"/>
                    <a:pt x="1196" y="366"/>
                    <a:pt x="1212" y="301"/>
                  </a:cubicBezTo>
                  <a:cubicBezTo>
                    <a:pt x="1215" y="288"/>
                    <a:pt x="1227" y="274"/>
                    <a:pt x="1220" y="263"/>
                  </a:cubicBezTo>
                  <a:cubicBezTo>
                    <a:pt x="1215" y="255"/>
                    <a:pt x="1205" y="273"/>
                    <a:pt x="1197" y="278"/>
                  </a:cubicBezTo>
                  <a:cubicBezTo>
                    <a:pt x="1186" y="306"/>
                    <a:pt x="1179" y="335"/>
                    <a:pt x="1167" y="362"/>
                  </a:cubicBezTo>
                  <a:cubicBezTo>
                    <a:pt x="1158" y="383"/>
                    <a:pt x="1146" y="402"/>
                    <a:pt x="1136" y="422"/>
                  </a:cubicBezTo>
                  <a:cubicBezTo>
                    <a:pt x="1132" y="430"/>
                    <a:pt x="1121" y="454"/>
                    <a:pt x="1121" y="445"/>
                  </a:cubicBezTo>
                  <a:cubicBezTo>
                    <a:pt x="1121" y="421"/>
                    <a:pt x="1174" y="383"/>
                    <a:pt x="1121" y="399"/>
                  </a:cubicBezTo>
                  <a:cubicBezTo>
                    <a:pt x="1095" y="427"/>
                    <a:pt x="1104" y="456"/>
                    <a:pt x="1076" y="415"/>
                  </a:cubicBezTo>
                  <a:cubicBezTo>
                    <a:pt x="1069" y="376"/>
                    <a:pt x="1067" y="355"/>
                    <a:pt x="1046" y="324"/>
                  </a:cubicBezTo>
                  <a:cubicBezTo>
                    <a:pt x="1048" y="316"/>
                    <a:pt x="1045" y="299"/>
                    <a:pt x="1053" y="301"/>
                  </a:cubicBezTo>
                  <a:cubicBezTo>
                    <a:pt x="1081" y="308"/>
                    <a:pt x="1084" y="366"/>
                    <a:pt x="1099" y="384"/>
                  </a:cubicBezTo>
                  <a:cubicBezTo>
                    <a:pt x="1109" y="396"/>
                    <a:pt x="1125" y="403"/>
                    <a:pt x="1136" y="415"/>
                  </a:cubicBezTo>
                  <a:cubicBezTo>
                    <a:pt x="1144" y="382"/>
                    <a:pt x="1135" y="340"/>
                    <a:pt x="1159" y="316"/>
                  </a:cubicBezTo>
                  <a:cubicBezTo>
                    <a:pt x="1168" y="307"/>
                    <a:pt x="1174" y="336"/>
                    <a:pt x="1182" y="346"/>
                  </a:cubicBezTo>
                  <a:cubicBezTo>
                    <a:pt x="1185" y="364"/>
                    <a:pt x="1196" y="416"/>
                    <a:pt x="1190" y="399"/>
                  </a:cubicBezTo>
                  <a:cubicBezTo>
                    <a:pt x="1181" y="375"/>
                    <a:pt x="1181" y="349"/>
                    <a:pt x="1174" y="324"/>
                  </a:cubicBezTo>
                  <a:cubicBezTo>
                    <a:pt x="1171" y="313"/>
                    <a:pt x="1165" y="303"/>
                    <a:pt x="1159" y="293"/>
                  </a:cubicBezTo>
                  <a:cubicBezTo>
                    <a:pt x="1157" y="290"/>
                    <a:pt x="1152" y="286"/>
                    <a:pt x="1152" y="286"/>
                  </a:cubicBezTo>
                  <a:cubicBezTo>
                    <a:pt x="1154" y="296"/>
                    <a:pt x="1155" y="307"/>
                    <a:pt x="1159" y="316"/>
                  </a:cubicBezTo>
                  <a:cubicBezTo>
                    <a:pt x="1163" y="324"/>
                    <a:pt x="1182" y="343"/>
                    <a:pt x="1174" y="339"/>
                  </a:cubicBezTo>
                  <a:cubicBezTo>
                    <a:pt x="1161" y="332"/>
                    <a:pt x="1122" y="280"/>
                    <a:pt x="1114" y="271"/>
                  </a:cubicBezTo>
                  <a:cubicBezTo>
                    <a:pt x="1087" y="242"/>
                    <a:pt x="1018" y="185"/>
                    <a:pt x="1121" y="255"/>
                  </a:cubicBezTo>
                  <a:cubicBezTo>
                    <a:pt x="1127" y="259"/>
                    <a:pt x="1131" y="266"/>
                    <a:pt x="1136" y="271"/>
                  </a:cubicBezTo>
                  <a:cubicBezTo>
                    <a:pt x="1139" y="278"/>
                    <a:pt x="1137" y="296"/>
                    <a:pt x="1144" y="293"/>
                  </a:cubicBezTo>
                  <a:cubicBezTo>
                    <a:pt x="1155" y="289"/>
                    <a:pt x="1159" y="274"/>
                    <a:pt x="1159" y="263"/>
                  </a:cubicBezTo>
                  <a:cubicBezTo>
                    <a:pt x="1159" y="254"/>
                    <a:pt x="1125" y="180"/>
                    <a:pt x="1159" y="240"/>
                  </a:cubicBezTo>
                  <a:cubicBezTo>
                    <a:pt x="1165" y="250"/>
                    <a:pt x="1169" y="260"/>
                    <a:pt x="1174" y="271"/>
                  </a:cubicBezTo>
                  <a:cubicBezTo>
                    <a:pt x="1177" y="278"/>
                    <a:pt x="1179" y="286"/>
                    <a:pt x="1182" y="293"/>
                  </a:cubicBezTo>
                  <a:cubicBezTo>
                    <a:pt x="1177" y="260"/>
                    <a:pt x="1174" y="227"/>
                    <a:pt x="1167" y="195"/>
                  </a:cubicBezTo>
                  <a:cubicBezTo>
                    <a:pt x="1164" y="184"/>
                    <a:pt x="1152" y="153"/>
                    <a:pt x="1152" y="164"/>
                  </a:cubicBezTo>
                  <a:cubicBezTo>
                    <a:pt x="1152" y="187"/>
                    <a:pt x="1173" y="232"/>
                    <a:pt x="1190" y="248"/>
                  </a:cubicBezTo>
                  <a:cubicBezTo>
                    <a:pt x="1192" y="256"/>
                    <a:pt x="1190" y="275"/>
                    <a:pt x="1197" y="271"/>
                  </a:cubicBezTo>
                  <a:cubicBezTo>
                    <a:pt x="1206" y="266"/>
                    <a:pt x="1205" y="229"/>
                    <a:pt x="1205" y="240"/>
                  </a:cubicBezTo>
                  <a:cubicBezTo>
                    <a:pt x="1205" y="256"/>
                    <a:pt x="1197" y="270"/>
                    <a:pt x="1197" y="286"/>
                  </a:cubicBezTo>
                  <a:cubicBezTo>
                    <a:pt x="1197" y="294"/>
                    <a:pt x="1201" y="270"/>
                    <a:pt x="1205" y="263"/>
                  </a:cubicBezTo>
                  <a:cubicBezTo>
                    <a:pt x="1209" y="255"/>
                    <a:pt x="1215" y="248"/>
                    <a:pt x="1220" y="240"/>
                  </a:cubicBezTo>
                  <a:cubicBezTo>
                    <a:pt x="1237" y="211"/>
                    <a:pt x="1243" y="179"/>
                    <a:pt x="1258" y="149"/>
                  </a:cubicBezTo>
                  <a:cubicBezTo>
                    <a:pt x="1260" y="134"/>
                    <a:pt x="1263" y="119"/>
                    <a:pt x="1265" y="104"/>
                  </a:cubicBezTo>
                  <a:cubicBezTo>
                    <a:pt x="1267" y="91"/>
                    <a:pt x="1260" y="129"/>
                    <a:pt x="1258" y="142"/>
                  </a:cubicBezTo>
                  <a:cubicBezTo>
                    <a:pt x="1253" y="170"/>
                    <a:pt x="1249" y="197"/>
                    <a:pt x="1243" y="225"/>
                  </a:cubicBezTo>
                  <a:cubicBezTo>
                    <a:pt x="1241" y="235"/>
                    <a:pt x="1225" y="251"/>
                    <a:pt x="1235" y="255"/>
                  </a:cubicBezTo>
                  <a:cubicBezTo>
                    <a:pt x="1247" y="259"/>
                    <a:pt x="1255" y="240"/>
                    <a:pt x="1265" y="233"/>
                  </a:cubicBezTo>
                  <a:cubicBezTo>
                    <a:pt x="1268" y="225"/>
                    <a:pt x="1270" y="218"/>
                    <a:pt x="1273" y="210"/>
                  </a:cubicBezTo>
                  <a:cubicBezTo>
                    <a:pt x="1275" y="202"/>
                    <a:pt x="1277" y="195"/>
                    <a:pt x="1280" y="187"/>
                  </a:cubicBezTo>
                  <a:cubicBezTo>
                    <a:pt x="1285" y="172"/>
                    <a:pt x="1296" y="142"/>
                    <a:pt x="1296" y="142"/>
                  </a:cubicBezTo>
                  <a:cubicBezTo>
                    <a:pt x="1302" y="166"/>
                    <a:pt x="1297" y="191"/>
                    <a:pt x="1326" y="157"/>
                  </a:cubicBezTo>
                  <a:cubicBezTo>
                    <a:pt x="1333" y="148"/>
                    <a:pt x="1335" y="136"/>
                    <a:pt x="1341" y="127"/>
                  </a:cubicBezTo>
                  <a:cubicBezTo>
                    <a:pt x="1345" y="121"/>
                    <a:pt x="1359" y="104"/>
                    <a:pt x="1356" y="111"/>
                  </a:cubicBezTo>
                  <a:cubicBezTo>
                    <a:pt x="1351" y="122"/>
                    <a:pt x="1339" y="131"/>
                    <a:pt x="1334" y="142"/>
                  </a:cubicBezTo>
                  <a:cubicBezTo>
                    <a:pt x="1322" y="169"/>
                    <a:pt x="1313" y="197"/>
                    <a:pt x="1303" y="225"/>
                  </a:cubicBezTo>
                  <a:cubicBezTo>
                    <a:pt x="1297" y="240"/>
                    <a:pt x="1293" y="256"/>
                    <a:pt x="1288" y="271"/>
                  </a:cubicBezTo>
                  <a:cubicBezTo>
                    <a:pt x="1285" y="281"/>
                    <a:pt x="1275" y="310"/>
                    <a:pt x="1280" y="301"/>
                  </a:cubicBezTo>
                  <a:cubicBezTo>
                    <a:pt x="1326" y="225"/>
                    <a:pt x="1277" y="299"/>
                    <a:pt x="1334" y="233"/>
                  </a:cubicBezTo>
                  <a:cubicBezTo>
                    <a:pt x="1361" y="202"/>
                    <a:pt x="1365" y="173"/>
                    <a:pt x="1402" y="149"/>
                  </a:cubicBezTo>
                  <a:cubicBezTo>
                    <a:pt x="1422" y="154"/>
                    <a:pt x="1443" y="155"/>
                    <a:pt x="1462" y="164"/>
                  </a:cubicBezTo>
                  <a:cubicBezTo>
                    <a:pt x="1472" y="169"/>
                    <a:pt x="1474" y="187"/>
                    <a:pt x="1485" y="187"/>
                  </a:cubicBezTo>
                  <a:cubicBezTo>
                    <a:pt x="1494" y="187"/>
                    <a:pt x="1493" y="170"/>
                    <a:pt x="1500" y="164"/>
                  </a:cubicBezTo>
                  <a:cubicBezTo>
                    <a:pt x="1506" y="159"/>
                    <a:pt x="1515" y="159"/>
                    <a:pt x="1523" y="157"/>
                  </a:cubicBezTo>
                  <a:cubicBezTo>
                    <a:pt x="1558" y="168"/>
                    <a:pt x="1569" y="191"/>
                    <a:pt x="1584" y="149"/>
                  </a:cubicBezTo>
                  <a:cubicBezTo>
                    <a:pt x="1579" y="136"/>
                    <a:pt x="1577" y="122"/>
                    <a:pt x="1568" y="111"/>
                  </a:cubicBezTo>
                  <a:cubicBezTo>
                    <a:pt x="1563" y="105"/>
                    <a:pt x="1549" y="111"/>
                    <a:pt x="1546" y="104"/>
                  </a:cubicBezTo>
                  <a:cubicBezTo>
                    <a:pt x="1534" y="80"/>
                    <a:pt x="1567" y="77"/>
                    <a:pt x="1576" y="74"/>
                  </a:cubicBezTo>
                  <a:cubicBezTo>
                    <a:pt x="1534" y="48"/>
                    <a:pt x="1504" y="44"/>
                    <a:pt x="1455" y="36"/>
                  </a:cubicBezTo>
                  <a:cubicBezTo>
                    <a:pt x="1161" y="40"/>
                    <a:pt x="1084" y="0"/>
                    <a:pt x="894" y="58"/>
                  </a:cubicBezTo>
                  <a:cubicBezTo>
                    <a:pt x="881" y="96"/>
                    <a:pt x="898" y="82"/>
                    <a:pt x="909" y="119"/>
                  </a:cubicBezTo>
                  <a:cubicBezTo>
                    <a:pt x="912" y="137"/>
                    <a:pt x="917" y="154"/>
                    <a:pt x="917" y="172"/>
                  </a:cubicBezTo>
                  <a:cubicBezTo>
                    <a:pt x="917" y="190"/>
                    <a:pt x="901" y="204"/>
                    <a:pt x="894" y="218"/>
                  </a:cubicBezTo>
                  <a:cubicBezTo>
                    <a:pt x="880" y="246"/>
                    <a:pt x="867" y="278"/>
                    <a:pt x="856" y="308"/>
                  </a:cubicBezTo>
                  <a:cubicBezTo>
                    <a:pt x="862" y="260"/>
                    <a:pt x="869" y="225"/>
                    <a:pt x="879" y="180"/>
                  </a:cubicBezTo>
                  <a:cubicBezTo>
                    <a:pt x="888" y="220"/>
                    <a:pt x="885" y="261"/>
                    <a:pt x="894" y="301"/>
                  </a:cubicBezTo>
                  <a:cubicBezTo>
                    <a:pt x="896" y="309"/>
                    <a:pt x="899" y="286"/>
                    <a:pt x="902" y="278"/>
                  </a:cubicBezTo>
                  <a:cubicBezTo>
                    <a:pt x="904" y="270"/>
                    <a:pt x="906" y="262"/>
                    <a:pt x="909" y="255"/>
                  </a:cubicBezTo>
                  <a:cubicBezTo>
                    <a:pt x="922" y="224"/>
                    <a:pt x="936" y="192"/>
                    <a:pt x="955" y="164"/>
                  </a:cubicBezTo>
                  <a:cubicBezTo>
                    <a:pt x="952" y="210"/>
                    <a:pt x="951" y="255"/>
                    <a:pt x="947" y="301"/>
                  </a:cubicBezTo>
                  <a:cubicBezTo>
                    <a:pt x="945" y="327"/>
                    <a:pt x="940" y="345"/>
                    <a:pt x="932" y="369"/>
                  </a:cubicBezTo>
                  <a:cubicBezTo>
                    <a:pt x="929" y="377"/>
                    <a:pt x="921" y="399"/>
                    <a:pt x="924" y="392"/>
                  </a:cubicBezTo>
                  <a:cubicBezTo>
                    <a:pt x="951" y="335"/>
                    <a:pt x="969" y="304"/>
                    <a:pt x="1008" y="248"/>
                  </a:cubicBezTo>
                  <a:cubicBezTo>
                    <a:pt x="1011" y="244"/>
                    <a:pt x="1049" y="181"/>
                    <a:pt x="1046" y="172"/>
                  </a:cubicBezTo>
                  <a:cubicBezTo>
                    <a:pt x="1043" y="163"/>
                    <a:pt x="1031" y="182"/>
                    <a:pt x="1023" y="187"/>
                  </a:cubicBezTo>
                  <a:cubicBezTo>
                    <a:pt x="1015" y="202"/>
                    <a:pt x="1008" y="218"/>
                    <a:pt x="1000" y="233"/>
                  </a:cubicBezTo>
                  <a:cubicBezTo>
                    <a:pt x="975" y="278"/>
                    <a:pt x="993" y="231"/>
                    <a:pt x="977" y="278"/>
                  </a:cubicBezTo>
                  <a:cubicBezTo>
                    <a:pt x="974" y="288"/>
                    <a:pt x="980" y="257"/>
                    <a:pt x="985" y="248"/>
                  </a:cubicBezTo>
                  <a:cubicBezTo>
                    <a:pt x="1006" y="210"/>
                    <a:pt x="1029" y="190"/>
                    <a:pt x="1046" y="149"/>
                  </a:cubicBezTo>
                  <a:cubicBezTo>
                    <a:pt x="1065" y="49"/>
                    <a:pt x="1037" y="178"/>
                    <a:pt x="1030" y="195"/>
                  </a:cubicBezTo>
                  <a:cubicBezTo>
                    <a:pt x="1017" y="268"/>
                    <a:pt x="982" y="325"/>
                    <a:pt x="939" y="384"/>
                  </a:cubicBezTo>
                  <a:cubicBezTo>
                    <a:pt x="937" y="392"/>
                    <a:pt x="940" y="407"/>
                    <a:pt x="932" y="407"/>
                  </a:cubicBezTo>
                  <a:cubicBezTo>
                    <a:pt x="924" y="407"/>
                    <a:pt x="924" y="392"/>
                    <a:pt x="924" y="384"/>
                  </a:cubicBezTo>
                  <a:cubicBezTo>
                    <a:pt x="924" y="351"/>
                    <a:pt x="929" y="319"/>
                    <a:pt x="932" y="286"/>
                  </a:cubicBezTo>
                  <a:cubicBezTo>
                    <a:pt x="971" y="298"/>
                    <a:pt x="957" y="300"/>
                    <a:pt x="939" y="248"/>
                  </a:cubicBezTo>
                  <a:cubicBezTo>
                    <a:pt x="936" y="240"/>
                    <a:pt x="925" y="229"/>
                    <a:pt x="932" y="225"/>
                  </a:cubicBezTo>
                  <a:cubicBezTo>
                    <a:pt x="941" y="219"/>
                    <a:pt x="952" y="230"/>
                    <a:pt x="962" y="233"/>
                  </a:cubicBezTo>
                  <a:cubicBezTo>
                    <a:pt x="1028" y="296"/>
                    <a:pt x="931" y="196"/>
                    <a:pt x="917" y="187"/>
                  </a:cubicBezTo>
                  <a:cubicBezTo>
                    <a:pt x="878" y="128"/>
                    <a:pt x="939" y="185"/>
                    <a:pt x="955" y="195"/>
                  </a:cubicBezTo>
                  <a:cubicBezTo>
                    <a:pt x="960" y="185"/>
                    <a:pt x="959" y="166"/>
                    <a:pt x="970" y="164"/>
                  </a:cubicBezTo>
                  <a:cubicBezTo>
                    <a:pt x="980" y="162"/>
                    <a:pt x="986" y="196"/>
                    <a:pt x="992" y="187"/>
                  </a:cubicBezTo>
                  <a:cubicBezTo>
                    <a:pt x="1009" y="163"/>
                    <a:pt x="955" y="102"/>
                    <a:pt x="1008" y="172"/>
                  </a:cubicBezTo>
                  <a:cubicBezTo>
                    <a:pt x="1010" y="164"/>
                    <a:pt x="1016" y="157"/>
                    <a:pt x="1015" y="149"/>
                  </a:cubicBezTo>
                  <a:cubicBezTo>
                    <a:pt x="1010" y="114"/>
                    <a:pt x="976" y="113"/>
                    <a:pt x="1030" y="127"/>
                  </a:cubicBezTo>
                  <a:cubicBezTo>
                    <a:pt x="1049" y="145"/>
                    <a:pt x="1080" y="180"/>
                    <a:pt x="1038" y="81"/>
                  </a:cubicBezTo>
                  <a:cubicBezTo>
                    <a:pt x="1035" y="74"/>
                    <a:pt x="1032" y="96"/>
                    <a:pt x="1030" y="104"/>
                  </a:cubicBezTo>
                  <a:cubicBezTo>
                    <a:pt x="1006" y="201"/>
                    <a:pt x="1037" y="99"/>
                    <a:pt x="1015" y="164"/>
                  </a:cubicBezTo>
                  <a:cubicBezTo>
                    <a:pt x="1012" y="172"/>
                    <a:pt x="1002" y="192"/>
                    <a:pt x="1008" y="187"/>
                  </a:cubicBezTo>
                  <a:cubicBezTo>
                    <a:pt x="1016" y="180"/>
                    <a:pt x="1017" y="166"/>
                    <a:pt x="1023" y="157"/>
                  </a:cubicBezTo>
                  <a:cubicBezTo>
                    <a:pt x="1064" y="95"/>
                    <a:pt x="1050" y="108"/>
                    <a:pt x="1091" y="81"/>
                  </a:cubicBezTo>
                  <a:cubicBezTo>
                    <a:pt x="1104" y="107"/>
                    <a:pt x="1097" y="141"/>
                    <a:pt x="1114" y="164"/>
                  </a:cubicBezTo>
                  <a:cubicBezTo>
                    <a:pt x="1120" y="172"/>
                    <a:pt x="1122" y="137"/>
                    <a:pt x="1152" y="119"/>
                  </a:cubicBezTo>
                  <a:cubicBezTo>
                    <a:pt x="1161" y="114"/>
                    <a:pt x="1192" y="111"/>
                    <a:pt x="1182" y="111"/>
                  </a:cubicBezTo>
                  <a:cubicBezTo>
                    <a:pt x="957" y="111"/>
                    <a:pt x="732" y="116"/>
                    <a:pt x="507" y="119"/>
                  </a:cubicBezTo>
                  <a:cubicBezTo>
                    <a:pt x="385" y="123"/>
                    <a:pt x="301" y="91"/>
                    <a:pt x="212" y="149"/>
                  </a:cubicBezTo>
                  <a:cubicBezTo>
                    <a:pt x="211" y="151"/>
                    <a:pt x="184" y="218"/>
                    <a:pt x="212" y="210"/>
                  </a:cubicBezTo>
                  <a:cubicBezTo>
                    <a:pt x="264" y="196"/>
                    <a:pt x="330" y="98"/>
                    <a:pt x="379" y="66"/>
                  </a:cubicBezTo>
                  <a:cubicBezTo>
                    <a:pt x="384" y="56"/>
                    <a:pt x="388" y="45"/>
                    <a:pt x="394" y="36"/>
                  </a:cubicBezTo>
                  <a:cubicBezTo>
                    <a:pt x="398" y="30"/>
                    <a:pt x="404" y="15"/>
                    <a:pt x="409" y="20"/>
                  </a:cubicBezTo>
                  <a:cubicBezTo>
                    <a:pt x="418" y="29"/>
                    <a:pt x="414" y="45"/>
                    <a:pt x="416" y="58"/>
                  </a:cubicBezTo>
                  <a:cubicBezTo>
                    <a:pt x="414" y="88"/>
                    <a:pt x="413" y="119"/>
                    <a:pt x="409" y="149"/>
                  </a:cubicBezTo>
                  <a:cubicBezTo>
                    <a:pt x="408" y="160"/>
                    <a:pt x="404" y="170"/>
                    <a:pt x="401" y="180"/>
                  </a:cubicBezTo>
                  <a:cubicBezTo>
                    <a:pt x="399" y="190"/>
                    <a:pt x="396" y="200"/>
                    <a:pt x="394" y="210"/>
                  </a:cubicBezTo>
                  <a:cubicBezTo>
                    <a:pt x="391" y="220"/>
                    <a:pt x="389" y="230"/>
                    <a:pt x="386" y="240"/>
                  </a:cubicBezTo>
                  <a:cubicBezTo>
                    <a:pt x="383" y="253"/>
                    <a:pt x="391" y="215"/>
                    <a:pt x="394" y="202"/>
                  </a:cubicBezTo>
                  <a:cubicBezTo>
                    <a:pt x="403" y="165"/>
                    <a:pt x="404" y="115"/>
                    <a:pt x="432" y="89"/>
                  </a:cubicBezTo>
                  <a:cubicBezTo>
                    <a:pt x="423" y="133"/>
                    <a:pt x="413" y="178"/>
                    <a:pt x="394" y="218"/>
                  </a:cubicBezTo>
                  <a:cubicBezTo>
                    <a:pt x="383" y="268"/>
                    <a:pt x="376" y="321"/>
                    <a:pt x="356" y="369"/>
                  </a:cubicBezTo>
                  <a:cubicBezTo>
                    <a:pt x="352" y="379"/>
                    <a:pt x="347" y="389"/>
                    <a:pt x="341" y="399"/>
                  </a:cubicBezTo>
                  <a:cubicBezTo>
                    <a:pt x="336" y="407"/>
                    <a:pt x="326" y="431"/>
                    <a:pt x="326" y="422"/>
                  </a:cubicBezTo>
                  <a:cubicBezTo>
                    <a:pt x="326" y="401"/>
                    <a:pt x="342" y="382"/>
                    <a:pt x="348" y="362"/>
                  </a:cubicBezTo>
                  <a:cubicBezTo>
                    <a:pt x="374" y="270"/>
                    <a:pt x="426" y="188"/>
                    <a:pt x="454" y="96"/>
                  </a:cubicBezTo>
                  <a:cubicBezTo>
                    <a:pt x="456" y="88"/>
                    <a:pt x="449" y="111"/>
                    <a:pt x="447" y="119"/>
                  </a:cubicBezTo>
                  <a:cubicBezTo>
                    <a:pt x="444" y="129"/>
                    <a:pt x="441" y="139"/>
                    <a:pt x="439" y="149"/>
                  </a:cubicBezTo>
                  <a:cubicBezTo>
                    <a:pt x="434" y="169"/>
                    <a:pt x="428" y="190"/>
                    <a:pt x="424" y="210"/>
                  </a:cubicBezTo>
                  <a:cubicBezTo>
                    <a:pt x="409" y="281"/>
                    <a:pt x="354" y="392"/>
                    <a:pt x="310" y="452"/>
                  </a:cubicBezTo>
                  <a:cubicBezTo>
                    <a:pt x="301" y="481"/>
                    <a:pt x="285" y="485"/>
                    <a:pt x="265" y="506"/>
                  </a:cubicBezTo>
                  <a:cubicBezTo>
                    <a:pt x="256" y="473"/>
                    <a:pt x="251" y="438"/>
                    <a:pt x="235" y="407"/>
                  </a:cubicBezTo>
                  <a:cubicBezTo>
                    <a:pt x="231" y="399"/>
                    <a:pt x="210" y="386"/>
                    <a:pt x="219" y="384"/>
                  </a:cubicBezTo>
                  <a:cubicBezTo>
                    <a:pt x="237" y="380"/>
                    <a:pt x="254" y="394"/>
                    <a:pt x="272" y="399"/>
                  </a:cubicBezTo>
                  <a:cubicBezTo>
                    <a:pt x="280" y="404"/>
                    <a:pt x="286" y="415"/>
                    <a:pt x="295" y="415"/>
                  </a:cubicBezTo>
                  <a:cubicBezTo>
                    <a:pt x="302" y="415"/>
                    <a:pt x="312" y="406"/>
                    <a:pt x="310" y="399"/>
                  </a:cubicBezTo>
                  <a:cubicBezTo>
                    <a:pt x="308" y="390"/>
                    <a:pt x="295" y="389"/>
                    <a:pt x="288" y="384"/>
                  </a:cubicBezTo>
                  <a:cubicBezTo>
                    <a:pt x="275" y="347"/>
                    <a:pt x="288" y="375"/>
                    <a:pt x="265" y="346"/>
                  </a:cubicBezTo>
                  <a:cubicBezTo>
                    <a:pt x="260" y="339"/>
                    <a:pt x="244" y="330"/>
                    <a:pt x="250" y="324"/>
                  </a:cubicBezTo>
                  <a:cubicBezTo>
                    <a:pt x="256" y="318"/>
                    <a:pt x="265" y="333"/>
                    <a:pt x="272" y="339"/>
                  </a:cubicBezTo>
                  <a:cubicBezTo>
                    <a:pt x="325" y="384"/>
                    <a:pt x="266" y="343"/>
                    <a:pt x="318" y="377"/>
                  </a:cubicBezTo>
                  <a:cubicBezTo>
                    <a:pt x="315" y="369"/>
                    <a:pt x="316" y="359"/>
                    <a:pt x="310" y="354"/>
                  </a:cubicBezTo>
                  <a:cubicBezTo>
                    <a:pt x="276" y="325"/>
                    <a:pt x="172" y="292"/>
                    <a:pt x="310" y="324"/>
                  </a:cubicBezTo>
                  <a:cubicBezTo>
                    <a:pt x="314" y="329"/>
                    <a:pt x="336" y="365"/>
                    <a:pt x="348" y="362"/>
                  </a:cubicBezTo>
                  <a:cubicBezTo>
                    <a:pt x="356" y="360"/>
                    <a:pt x="353" y="347"/>
                    <a:pt x="356" y="339"/>
                  </a:cubicBezTo>
                  <a:cubicBezTo>
                    <a:pt x="348" y="329"/>
                    <a:pt x="344" y="314"/>
                    <a:pt x="333" y="308"/>
                  </a:cubicBezTo>
                  <a:cubicBezTo>
                    <a:pt x="326" y="304"/>
                    <a:pt x="341" y="339"/>
                    <a:pt x="341" y="331"/>
                  </a:cubicBezTo>
                  <a:cubicBezTo>
                    <a:pt x="341" y="281"/>
                    <a:pt x="342" y="289"/>
                    <a:pt x="310" y="278"/>
                  </a:cubicBezTo>
                  <a:cubicBezTo>
                    <a:pt x="284" y="239"/>
                    <a:pt x="290" y="236"/>
                    <a:pt x="257" y="218"/>
                  </a:cubicBezTo>
                  <a:cubicBezTo>
                    <a:pt x="254" y="216"/>
                    <a:pt x="262" y="223"/>
                    <a:pt x="265" y="225"/>
                  </a:cubicBezTo>
                  <a:cubicBezTo>
                    <a:pt x="273" y="230"/>
                    <a:pt x="281" y="234"/>
                    <a:pt x="288" y="240"/>
                  </a:cubicBezTo>
                  <a:cubicBezTo>
                    <a:pt x="302" y="252"/>
                    <a:pt x="313" y="266"/>
                    <a:pt x="326" y="278"/>
                  </a:cubicBezTo>
                  <a:cubicBezTo>
                    <a:pt x="323" y="260"/>
                    <a:pt x="310" y="241"/>
                    <a:pt x="318" y="225"/>
                  </a:cubicBezTo>
                  <a:cubicBezTo>
                    <a:pt x="323" y="215"/>
                    <a:pt x="336" y="239"/>
                    <a:pt x="341" y="248"/>
                  </a:cubicBezTo>
                  <a:cubicBezTo>
                    <a:pt x="346" y="257"/>
                    <a:pt x="346" y="268"/>
                    <a:pt x="348" y="278"/>
                  </a:cubicBezTo>
                  <a:cubicBezTo>
                    <a:pt x="380" y="229"/>
                    <a:pt x="339" y="99"/>
                    <a:pt x="386" y="172"/>
                  </a:cubicBezTo>
                  <a:cubicBezTo>
                    <a:pt x="379" y="203"/>
                    <a:pt x="371" y="221"/>
                    <a:pt x="356" y="248"/>
                  </a:cubicBezTo>
                  <a:cubicBezTo>
                    <a:pt x="350" y="258"/>
                    <a:pt x="345" y="268"/>
                    <a:pt x="341" y="278"/>
                  </a:cubicBezTo>
                  <a:cubicBezTo>
                    <a:pt x="338" y="285"/>
                    <a:pt x="333" y="309"/>
                    <a:pt x="333" y="301"/>
                  </a:cubicBezTo>
                  <a:cubicBezTo>
                    <a:pt x="333" y="278"/>
                    <a:pt x="351" y="222"/>
                    <a:pt x="356" y="202"/>
                  </a:cubicBezTo>
                  <a:cubicBezTo>
                    <a:pt x="369" y="149"/>
                    <a:pt x="382" y="143"/>
                    <a:pt x="356" y="180"/>
                  </a:cubicBezTo>
                  <a:cubicBezTo>
                    <a:pt x="349" y="190"/>
                    <a:pt x="341" y="200"/>
                    <a:pt x="333" y="210"/>
                  </a:cubicBezTo>
                  <a:cubicBezTo>
                    <a:pt x="325" y="236"/>
                    <a:pt x="311" y="245"/>
                    <a:pt x="303" y="271"/>
                  </a:cubicBezTo>
                  <a:cubicBezTo>
                    <a:pt x="276" y="229"/>
                    <a:pt x="253" y="218"/>
                    <a:pt x="204" y="210"/>
                  </a:cubicBezTo>
                  <a:cubicBezTo>
                    <a:pt x="158" y="227"/>
                    <a:pt x="180" y="260"/>
                    <a:pt x="166" y="301"/>
                  </a:cubicBezTo>
                  <a:cubicBezTo>
                    <a:pt x="103" y="256"/>
                    <a:pt x="111" y="265"/>
                    <a:pt x="38" y="248"/>
                  </a:cubicBezTo>
                  <a:cubicBezTo>
                    <a:pt x="43" y="261"/>
                    <a:pt x="45" y="275"/>
                    <a:pt x="53" y="286"/>
                  </a:cubicBezTo>
                  <a:cubicBezTo>
                    <a:pt x="63" y="301"/>
                    <a:pt x="99" y="340"/>
                    <a:pt x="91" y="324"/>
                  </a:cubicBezTo>
                  <a:cubicBezTo>
                    <a:pt x="72" y="287"/>
                    <a:pt x="49" y="258"/>
                    <a:pt x="22" y="225"/>
                  </a:cubicBezTo>
                  <a:cubicBezTo>
                    <a:pt x="0" y="152"/>
                    <a:pt x="127" y="243"/>
                    <a:pt x="151" y="255"/>
                  </a:cubicBezTo>
                  <a:cubicBezTo>
                    <a:pt x="156" y="260"/>
                    <a:pt x="166" y="278"/>
                    <a:pt x="166" y="271"/>
                  </a:cubicBezTo>
                  <a:cubicBezTo>
                    <a:pt x="166" y="255"/>
                    <a:pt x="160" y="239"/>
                    <a:pt x="151" y="225"/>
                  </a:cubicBezTo>
                  <a:cubicBezTo>
                    <a:pt x="144" y="214"/>
                    <a:pt x="131" y="210"/>
                    <a:pt x="121" y="202"/>
                  </a:cubicBezTo>
                  <a:cubicBezTo>
                    <a:pt x="161" y="190"/>
                    <a:pt x="167" y="213"/>
                    <a:pt x="204" y="225"/>
                  </a:cubicBezTo>
                  <a:cubicBezTo>
                    <a:pt x="225" y="286"/>
                    <a:pt x="217" y="203"/>
                    <a:pt x="212" y="195"/>
                  </a:cubicBezTo>
                  <a:cubicBezTo>
                    <a:pt x="200" y="177"/>
                    <a:pt x="181" y="164"/>
                    <a:pt x="166" y="149"/>
                  </a:cubicBezTo>
                  <a:cubicBezTo>
                    <a:pt x="160" y="143"/>
                    <a:pt x="143" y="130"/>
                    <a:pt x="151" y="127"/>
                  </a:cubicBezTo>
                  <a:cubicBezTo>
                    <a:pt x="172" y="121"/>
                    <a:pt x="191" y="143"/>
                    <a:pt x="212" y="149"/>
                  </a:cubicBezTo>
                  <a:cubicBezTo>
                    <a:pt x="220" y="154"/>
                    <a:pt x="229" y="170"/>
                    <a:pt x="235" y="164"/>
                  </a:cubicBezTo>
                  <a:cubicBezTo>
                    <a:pt x="242" y="157"/>
                    <a:pt x="234" y="142"/>
                    <a:pt x="227" y="134"/>
                  </a:cubicBezTo>
                  <a:cubicBezTo>
                    <a:pt x="222" y="128"/>
                    <a:pt x="212" y="129"/>
                    <a:pt x="204" y="127"/>
                  </a:cubicBezTo>
                  <a:cubicBezTo>
                    <a:pt x="162" y="97"/>
                    <a:pt x="181" y="115"/>
                    <a:pt x="242" y="119"/>
                  </a:cubicBezTo>
                  <a:cubicBezTo>
                    <a:pt x="310" y="123"/>
                    <a:pt x="379" y="124"/>
                    <a:pt x="447" y="127"/>
                  </a:cubicBezTo>
                  <a:cubicBezTo>
                    <a:pt x="456" y="209"/>
                    <a:pt x="426" y="302"/>
                    <a:pt x="515" y="278"/>
                  </a:cubicBezTo>
                  <a:cubicBezTo>
                    <a:pt x="523" y="273"/>
                    <a:pt x="531" y="269"/>
                    <a:pt x="538" y="263"/>
                  </a:cubicBezTo>
                  <a:cubicBezTo>
                    <a:pt x="546" y="256"/>
                    <a:pt x="549" y="240"/>
                    <a:pt x="560" y="240"/>
                  </a:cubicBezTo>
                  <a:cubicBezTo>
                    <a:pt x="569" y="240"/>
                    <a:pt x="571" y="255"/>
                    <a:pt x="576" y="263"/>
                  </a:cubicBezTo>
                  <a:cubicBezTo>
                    <a:pt x="555" y="283"/>
                    <a:pt x="551" y="300"/>
                    <a:pt x="538" y="324"/>
                  </a:cubicBezTo>
                  <a:cubicBezTo>
                    <a:pt x="529" y="340"/>
                    <a:pt x="507" y="369"/>
                    <a:pt x="507" y="369"/>
                  </a:cubicBezTo>
                  <a:cubicBezTo>
                    <a:pt x="493" y="414"/>
                    <a:pt x="502" y="384"/>
                    <a:pt x="515" y="354"/>
                  </a:cubicBezTo>
                  <a:cubicBezTo>
                    <a:pt x="523" y="337"/>
                    <a:pt x="572" y="259"/>
                    <a:pt x="515" y="316"/>
                  </a:cubicBezTo>
                  <a:cubicBezTo>
                    <a:pt x="512" y="329"/>
                    <a:pt x="507" y="341"/>
                    <a:pt x="507" y="354"/>
                  </a:cubicBezTo>
                  <a:cubicBezTo>
                    <a:pt x="507" y="362"/>
                    <a:pt x="512" y="384"/>
                    <a:pt x="515" y="377"/>
                  </a:cubicBezTo>
                  <a:cubicBezTo>
                    <a:pt x="523" y="358"/>
                    <a:pt x="520" y="336"/>
                    <a:pt x="523" y="316"/>
                  </a:cubicBezTo>
                  <a:cubicBezTo>
                    <a:pt x="520" y="291"/>
                    <a:pt x="504" y="263"/>
                    <a:pt x="515" y="240"/>
                  </a:cubicBezTo>
                  <a:cubicBezTo>
                    <a:pt x="521" y="227"/>
                    <a:pt x="535" y="260"/>
                    <a:pt x="545" y="271"/>
                  </a:cubicBezTo>
                  <a:cubicBezTo>
                    <a:pt x="569" y="297"/>
                    <a:pt x="589" y="322"/>
                    <a:pt x="614" y="346"/>
                  </a:cubicBezTo>
                  <a:cubicBezTo>
                    <a:pt x="604" y="307"/>
                    <a:pt x="574" y="277"/>
                    <a:pt x="545" y="248"/>
                  </a:cubicBezTo>
                  <a:cubicBezTo>
                    <a:pt x="536" y="239"/>
                    <a:pt x="524" y="234"/>
                    <a:pt x="515" y="225"/>
                  </a:cubicBezTo>
                  <a:cubicBezTo>
                    <a:pt x="509" y="218"/>
                    <a:pt x="491" y="202"/>
                    <a:pt x="500" y="202"/>
                  </a:cubicBezTo>
                  <a:cubicBezTo>
                    <a:pt x="530" y="202"/>
                    <a:pt x="555" y="229"/>
                    <a:pt x="583" y="240"/>
                  </a:cubicBezTo>
                  <a:cubicBezTo>
                    <a:pt x="591" y="248"/>
                    <a:pt x="600" y="254"/>
                    <a:pt x="606" y="263"/>
                  </a:cubicBezTo>
                  <a:cubicBezTo>
                    <a:pt x="629" y="295"/>
                    <a:pt x="612" y="307"/>
                    <a:pt x="636" y="271"/>
                  </a:cubicBezTo>
                  <a:cubicBezTo>
                    <a:pt x="625" y="259"/>
                    <a:pt x="617" y="244"/>
                    <a:pt x="606" y="233"/>
                  </a:cubicBezTo>
                  <a:cubicBezTo>
                    <a:pt x="573" y="200"/>
                    <a:pt x="584" y="220"/>
                    <a:pt x="553" y="195"/>
                  </a:cubicBezTo>
                  <a:cubicBezTo>
                    <a:pt x="545" y="188"/>
                    <a:pt x="525" y="182"/>
                    <a:pt x="530" y="172"/>
                  </a:cubicBezTo>
                  <a:cubicBezTo>
                    <a:pt x="534" y="163"/>
                    <a:pt x="550" y="177"/>
                    <a:pt x="560" y="180"/>
                  </a:cubicBezTo>
                  <a:cubicBezTo>
                    <a:pt x="572" y="192"/>
                    <a:pt x="604" y="225"/>
                    <a:pt x="621" y="225"/>
                  </a:cubicBezTo>
                  <a:cubicBezTo>
                    <a:pt x="629" y="225"/>
                    <a:pt x="627" y="210"/>
                    <a:pt x="629" y="202"/>
                  </a:cubicBezTo>
                  <a:cubicBezTo>
                    <a:pt x="640" y="163"/>
                    <a:pt x="651" y="126"/>
                    <a:pt x="667" y="89"/>
                  </a:cubicBezTo>
                  <a:cubicBezTo>
                    <a:pt x="692" y="139"/>
                    <a:pt x="672" y="152"/>
                    <a:pt x="644" y="195"/>
                  </a:cubicBezTo>
                  <a:cubicBezTo>
                    <a:pt x="634" y="243"/>
                    <a:pt x="624" y="241"/>
                    <a:pt x="598" y="278"/>
                  </a:cubicBezTo>
                  <a:cubicBezTo>
                    <a:pt x="580" y="354"/>
                    <a:pt x="607" y="263"/>
                    <a:pt x="568" y="331"/>
                  </a:cubicBezTo>
                  <a:cubicBezTo>
                    <a:pt x="563" y="340"/>
                    <a:pt x="552" y="369"/>
                    <a:pt x="560" y="362"/>
                  </a:cubicBezTo>
                  <a:cubicBezTo>
                    <a:pt x="570" y="353"/>
                    <a:pt x="569" y="336"/>
                    <a:pt x="576" y="324"/>
                  </a:cubicBezTo>
                  <a:cubicBezTo>
                    <a:pt x="598" y="286"/>
                    <a:pt x="627" y="247"/>
                    <a:pt x="651" y="210"/>
                  </a:cubicBezTo>
                  <a:cubicBezTo>
                    <a:pt x="663" y="166"/>
                    <a:pt x="678" y="179"/>
                    <a:pt x="667" y="134"/>
                  </a:cubicBezTo>
                  <a:cubicBezTo>
                    <a:pt x="648" y="188"/>
                    <a:pt x="672" y="124"/>
                    <a:pt x="644" y="180"/>
                  </a:cubicBezTo>
                  <a:cubicBezTo>
                    <a:pt x="638" y="193"/>
                    <a:pt x="627" y="235"/>
                    <a:pt x="644" y="172"/>
                  </a:cubicBezTo>
                  <a:cubicBezTo>
                    <a:pt x="630" y="107"/>
                    <a:pt x="624" y="108"/>
                    <a:pt x="560" y="119"/>
                  </a:cubicBezTo>
                  <a:cubicBezTo>
                    <a:pt x="568" y="122"/>
                    <a:pt x="577" y="133"/>
                    <a:pt x="583" y="127"/>
                  </a:cubicBezTo>
                  <a:cubicBezTo>
                    <a:pt x="588" y="122"/>
                    <a:pt x="574" y="115"/>
                    <a:pt x="568" y="111"/>
                  </a:cubicBezTo>
                  <a:cubicBezTo>
                    <a:pt x="549" y="97"/>
                    <a:pt x="527" y="87"/>
                    <a:pt x="507" y="74"/>
                  </a:cubicBezTo>
                  <a:cubicBezTo>
                    <a:pt x="517" y="69"/>
                    <a:pt x="527" y="60"/>
                    <a:pt x="538" y="58"/>
                  </a:cubicBezTo>
                  <a:cubicBezTo>
                    <a:pt x="622" y="40"/>
                    <a:pt x="621" y="80"/>
                    <a:pt x="606" y="20"/>
                  </a:cubicBezTo>
                  <a:cubicBezTo>
                    <a:pt x="653" y="6"/>
                    <a:pt x="692" y="37"/>
                    <a:pt x="735" y="51"/>
                  </a:cubicBezTo>
                  <a:cubicBezTo>
                    <a:pt x="747" y="55"/>
                    <a:pt x="761" y="55"/>
                    <a:pt x="773" y="58"/>
                  </a:cubicBezTo>
                  <a:cubicBezTo>
                    <a:pt x="781" y="60"/>
                    <a:pt x="788" y="63"/>
                    <a:pt x="795" y="66"/>
                  </a:cubicBezTo>
                  <a:cubicBezTo>
                    <a:pt x="884" y="43"/>
                    <a:pt x="817" y="45"/>
                    <a:pt x="962" y="36"/>
                  </a:cubicBezTo>
                  <a:cubicBezTo>
                    <a:pt x="1026" y="14"/>
                    <a:pt x="1084" y="47"/>
                    <a:pt x="1144" y="66"/>
                  </a:cubicBezTo>
                  <a:cubicBezTo>
                    <a:pt x="1152" y="68"/>
                    <a:pt x="1129" y="61"/>
                    <a:pt x="1121" y="58"/>
                  </a:cubicBezTo>
                  <a:cubicBezTo>
                    <a:pt x="1111" y="54"/>
                    <a:pt x="1142" y="63"/>
                    <a:pt x="1152" y="66"/>
                  </a:cubicBezTo>
                  <a:cubicBezTo>
                    <a:pt x="1159" y="68"/>
                    <a:pt x="1167" y="71"/>
                    <a:pt x="1174" y="74"/>
                  </a:cubicBezTo>
                  <a:cubicBezTo>
                    <a:pt x="1220" y="117"/>
                    <a:pt x="1264" y="93"/>
                    <a:pt x="1334" y="89"/>
                  </a:cubicBezTo>
                  <a:cubicBezTo>
                    <a:pt x="1331" y="81"/>
                    <a:pt x="1319" y="70"/>
                    <a:pt x="1326" y="66"/>
                  </a:cubicBezTo>
                  <a:cubicBezTo>
                    <a:pt x="1346" y="56"/>
                    <a:pt x="1397" y="90"/>
                    <a:pt x="1417" y="96"/>
                  </a:cubicBezTo>
                  <a:cubicBezTo>
                    <a:pt x="1425" y="101"/>
                    <a:pt x="1440" y="111"/>
                    <a:pt x="1440" y="111"/>
                  </a:cubicBezTo>
                  <a:cubicBezTo>
                    <a:pt x="1422" y="146"/>
                    <a:pt x="1416" y="185"/>
                    <a:pt x="1394" y="218"/>
                  </a:cubicBezTo>
                  <a:cubicBezTo>
                    <a:pt x="1391" y="230"/>
                    <a:pt x="1365" y="300"/>
                    <a:pt x="1371" y="308"/>
                  </a:cubicBezTo>
                  <a:cubicBezTo>
                    <a:pt x="1376" y="316"/>
                    <a:pt x="1385" y="294"/>
                    <a:pt x="1394" y="293"/>
                  </a:cubicBezTo>
                  <a:cubicBezTo>
                    <a:pt x="1437" y="287"/>
                    <a:pt x="1480" y="288"/>
                    <a:pt x="1523" y="286"/>
                  </a:cubicBezTo>
                  <a:cubicBezTo>
                    <a:pt x="1513" y="204"/>
                    <a:pt x="1510" y="149"/>
                    <a:pt x="1606" y="127"/>
                  </a:cubicBezTo>
                  <a:cubicBezTo>
                    <a:pt x="1634" y="99"/>
                    <a:pt x="1665" y="89"/>
                    <a:pt x="1705" y="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36"/>
            <p:cNvSpPr/>
            <p:nvPr/>
          </p:nvSpPr>
          <p:spPr>
            <a:xfrm>
              <a:off x="108000" y="6111720"/>
              <a:ext cx="4440240" cy="378000"/>
            </a:xfrm>
            <a:custGeom>
              <a:avLst/>
              <a:gdLst/>
              <a:ahLst/>
              <a:rect l="l" t="t" r="r" b="b"/>
              <a:pathLst>
                <a:path w="2797" h="238">
                  <a:moveTo>
                    <a:pt x="0" y="205"/>
                  </a:moveTo>
                  <a:cubicBezTo>
                    <a:pt x="8" y="200"/>
                    <a:pt x="14" y="192"/>
                    <a:pt x="23" y="190"/>
                  </a:cubicBezTo>
                  <a:cubicBezTo>
                    <a:pt x="82" y="174"/>
                    <a:pt x="106" y="196"/>
                    <a:pt x="61" y="167"/>
                  </a:cubicBezTo>
                  <a:cubicBezTo>
                    <a:pt x="71" y="164"/>
                    <a:pt x="81" y="159"/>
                    <a:pt x="91" y="159"/>
                  </a:cubicBezTo>
                  <a:cubicBezTo>
                    <a:pt x="236" y="159"/>
                    <a:pt x="304" y="178"/>
                    <a:pt x="205" y="144"/>
                  </a:cubicBezTo>
                  <a:cubicBezTo>
                    <a:pt x="242" y="137"/>
                    <a:pt x="267" y="145"/>
                    <a:pt x="303" y="137"/>
                  </a:cubicBezTo>
                  <a:cubicBezTo>
                    <a:pt x="333" y="144"/>
                    <a:pt x="351" y="157"/>
                    <a:pt x="379" y="167"/>
                  </a:cubicBezTo>
                  <a:cubicBezTo>
                    <a:pt x="435" y="148"/>
                    <a:pt x="365" y="167"/>
                    <a:pt x="432" y="167"/>
                  </a:cubicBezTo>
                  <a:cubicBezTo>
                    <a:pt x="500" y="167"/>
                    <a:pt x="569" y="162"/>
                    <a:pt x="637" y="159"/>
                  </a:cubicBezTo>
                  <a:cubicBezTo>
                    <a:pt x="645" y="167"/>
                    <a:pt x="660" y="182"/>
                    <a:pt x="660" y="182"/>
                  </a:cubicBezTo>
                  <a:cubicBezTo>
                    <a:pt x="597" y="160"/>
                    <a:pt x="683" y="155"/>
                    <a:pt x="697" y="152"/>
                  </a:cubicBezTo>
                  <a:cubicBezTo>
                    <a:pt x="728" y="123"/>
                    <a:pt x="722" y="118"/>
                    <a:pt x="766" y="129"/>
                  </a:cubicBezTo>
                  <a:cubicBezTo>
                    <a:pt x="779" y="171"/>
                    <a:pt x="793" y="146"/>
                    <a:pt x="826" y="129"/>
                  </a:cubicBezTo>
                  <a:cubicBezTo>
                    <a:pt x="834" y="132"/>
                    <a:pt x="841" y="136"/>
                    <a:pt x="849" y="137"/>
                  </a:cubicBezTo>
                  <a:cubicBezTo>
                    <a:pt x="874" y="141"/>
                    <a:pt x="900" y="138"/>
                    <a:pt x="925" y="144"/>
                  </a:cubicBezTo>
                  <a:cubicBezTo>
                    <a:pt x="934" y="146"/>
                    <a:pt x="939" y="159"/>
                    <a:pt x="948" y="159"/>
                  </a:cubicBezTo>
                  <a:cubicBezTo>
                    <a:pt x="955" y="159"/>
                    <a:pt x="937" y="149"/>
                    <a:pt x="932" y="144"/>
                  </a:cubicBezTo>
                  <a:cubicBezTo>
                    <a:pt x="932" y="144"/>
                    <a:pt x="953" y="139"/>
                    <a:pt x="963" y="137"/>
                  </a:cubicBezTo>
                  <a:cubicBezTo>
                    <a:pt x="953" y="142"/>
                    <a:pt x="943" y="148"/>
                    <a:pt x="932" y="152"/>
                  </a:cubicBezTo>
                  <a:cubicBezTo>
                    <a:pt x="920" y="156"/>
                    <a:pt x="905" y="151"/>
                    <a:pt x="895" y="159"/>
                  </a:cubicBezTo>
                  <a:cubicBezTo>
                    <a:pt x="887" y="166"/>
                    <a:pt x="893" y="181"/>
                    <a:pt x="887" y="190"/>
                  </a:cubicBezTo>
                  <a:cubicBezTo>
                    <a:pt x="882" y="198"/>
                    <a:pt x="872" y="200"/>
                    <a:pt x="864" y="205"/>
                  </a:cubicBezTo>
                  <a:cubicBezTo>
                    <a:pt x="896" y="226"/>
                    <a:pt x="903" y="238"/>
                    <a:pt x="955" y="212"/>
                  </a:cubicBezTo>
                  <a:cubicBezTo>
                    <a:pt x="964" y="207"/>
                    <a:pt x="957" y="191"/>
                    <a:pt x="963" y="182"/>
                  </a:cubicBezTo>
                  <a:cubicBezTo>
                    <a:pt x="977" y="161"/>
                    <a:pt x="1017" y="159"/>
                    <a:pt x="1039" y="152"/>
                  </a:cubicBezTo>
                  <a:cubicBezTo>
                    <a:pt x="1102" y="109"/>
                    <a:pt x="1152" y="132"/>
                    <a:pt x="1236" y="137"/>
                  </a:cubicBezTo>
                  <a:cubicBezTo>
                    <a:pt x="1233" y="144"/>
                    <a:pt x="1236" y="158"/>
                    <a:pt x="1228" y="159"/>
                  </a:cubicBezTo>
                  <a:cubicBezTo>
                    <a:pt x="1081" y="181"/>
                    <a:pt x="930" y="170"/>
                    <a:pt x="781" y="174"/>
                  </a:cubicBezTo>
                  <a:cubicBezTo>
                    <a:pt x="866" y="204"/>
                    <a:pt x="1117" y="129"/>
                    <a:pt x="1251" y="114"/>
                  </a:cubicBezTo>
                  <a:cubicBezTo>
                    <a:pt x="1306" y="99"/>
                    <a:pt x="1361" y="93"/>
                    <a:pt x="1417" y="106"/>
                  </a:cubicBezTo>
                  <a:cubicBezTo>
                    <a:pt x="1427" y="111"/>
                    <a:pt x="1453" y="111"/>
                    <a:pt x="1448" y="121"/>
                  </a:cubicBezTo>
                  <a:cubicBezTo>
                    <a:pt x="1441" y="136"/>
                    <a:pt x="1402" y="137"/>
                    <a:pt x="1402" y="137"/>
                  </a:cubicBezTo>
                  <a:cubicBezTo>
                    <a:pt x="1439" y="148"/>
                    <a:pt x="1471" y="137"/>
                    <a:pt x="1508" y="129"/>
                  </a:cubicBezTo>
                  <a:cubicBezTo>
                    <a:pt x="1539" y="136"/>
                    <a:pt x="1568" y="144"/>
                    <a:pt x="1599" y="152"/>
                  </a:cubicBezTo>
                  <a:cubicBezTo>
                    <a:pt x="1602" y="139"/>
                    <a:pt x="1595" y="118"/>
                    <a:pt x="1607" y="114"/>
                  </a:cubicBezTo>
                  <a:cubicBezTo>
                    <a:pt x="1619" y="110"/>
                    <a:pt x="1789" y="95"/>
                    <a:pt x="1827" y="91"/>
                  </a:cubicBezTo>
                  <a:cubicBezTo>
                    <a:pt x="1789" y="32"/>
                    <a:pt x="1853" y="75"/>
                    <a:pt x="1880" y="83"/>
                  </a:cubicBezTo>
                  <a:cubicBezTo>
                    <a:pt x="1942" y="42"/>
                    <a:pt x="1924" y="48"/>
                    <a:pt x="2062" y="76"/>
                  </a:cubicBezTo>
                  <a:cubicBezTo>
                    <a:pt x="2078" y="79"/>
                    <a:pt x="2047" y="114"/>
                    <a:pt x="2031" y="114"/>
                  </a:cubicBezTo>
                  <a:cubicBezTo>
                    <a:pt x="2024" y="114"/>
                    <a:pt x="2040" y="102"/>
                    <a:pt x="2047" y="99"/>
                  </a:cubicBezTo>
                  <a:cubicBezTo>
                    <a:pt x="2059" y="94"/>
                    <a:pt x="2072" y="94"/>
                    <a:pt x="2084" y="91"/>
                  </a:cubicBezTo>
                  <a:cubicBezTo>
                    <a:pt x="2094" y="94"/>
                    <a:pt x="2111" y="89"/>
                    <a:pt x="2115" y="99"/>
                  </a:cubicBezTo>
                  <a:cubicBezTo>
                    <a:pt x="2118" y="108"/>
                    <a:pt x="2100" y="110"/>
                    <a:pt x="2092" y="114"/>
                  </a:cubicBezTo>
                  <a:cubicBezTo>
                    <a:pt x="2083" y="118"/>
                    <a:pt x="2072" y="119"/>
                    <a:pt x="2062" y="121"/>
                  </a:cubicBezTo>
                  <a:cubicBezTo>
                    <a:pt x="1964" y="110"/>
                    <a:pt x="1995" y="118"/>
                    <a:pt x="2077" y="106"/>
                  </a:cubicBezTo>
                  <a:cubicBezTo>
                    <a:pt x="2257" y="80"/>
                    <a:pt x="2048" y="98"/>
                    <a:pt x="2289" y="83"/>
                  </a:cubicBezTo>
                  <a:cubicBezTo>
                    <a:pt x="2370" y="64"/>
                    <a:pt x="2435" y="65"/>
                    <a:pt x="2524" y="61"/>
                  </a:cubicBezTo>
                  <a:cubicBezTo>
                    <a:pt x="2609" y="6"/>
                    <a:pt x="2696" y="0"/>
                    <a:pt x="2797" y="0"/>
                  </a:cubicBezTo>
                  <a:lnTo>
                    <a:pt x="2764" y="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739"/>
            <p:cNvSpPr/>
            <p:nvPr/>
          </p:nvSpPr>
          <p:spPr>
            <a:xfrm>
              <a:off x="1203480" y="5540400"/>
              <a:ext cx="420480" cy="69840"/>
            </a:xfrm>
            <a:custGeom>
              <a:avLst/>
              <a:gdLst/>
              <a:ahLst/>
              <a:rect l="l" t="t" r="r" b="b"/>
              <a:pathLst>
                <a:path w="265" h="44">
                  <a:moveTo>
                    <a:pt x="0" y="34"/>
                  </a:moveTo>
                  <a:cubicBezTo>
                    <a:pt x="8" y="32"/>
                    <a:pt x="15" y="27"/>
                    <a:pt x="23" y="27"/>
                  </a:cubicBezTo>
                  <a:cubicBezTo>
                    <a:pt x="89" y="27"/>
                    <a:pt x="140" y="44"/>
                    <a:pt x="83" y="27"/>
                  </a:cubicBezTo>
                  <a:cubicBezTo>
                    <a:pt x="160" y="7"/>
                    <a:pt x="64" y="27"/>
                    <a:pt x="151" y="27"/>
                  </a:cubicBezTo>
                  <a:cubicBezTo>
                    <a:pt x="175" y="27"/>
                    <a:pt x="71" y="10"/>
                    <a:pt x="106" y="4"/>
                  </a:cubicBezTo>
                  <a:cubicBezTo>
                    <a:pt x="128" y="0"/>
                    <a:pt x="151" y="9"/>
                    <a:pt x="174" y="11"/>
                  </a:cubicBezTo>
                  <a:cubicBezTo>
                    <a:pt x="184" y="14"/>
                    <a:pt x="194" y="19"/>
                    <a:pt x="205" y="19"/>
                  </a:cubicBezTo>
                  <a:cubicBezTo>
                    <a:pt x="232" y="19"/>
                    <a:pt x="243" y="2"/>
                    <a:pt x="265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740"/>
            <p:cNvSpPr/>
            <p:nvPr/>
          </p:nvSpPr>
          <p:spPr>
            <a:xfrm>
              <a:off x="806400" y="5346720"/>
              <a:ext cx="480960" cy="10332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0" y="43"/>
                  </a:moveTo>
                  <a:cubicBezTo>
                    <a:pt x="10" y="40"/>
                    <a:pt x="20" y="35"/>
                    <a:pt x="30" y="35"/>
                  </a:cubicBezTo>
                  <a:cubicBezTo>
                    <a:pt x="38" y="35"/>
                    <a:pt x="49" y="50"/>
                    <a:pt x="53" y="43"/>
                  </a:cubicBezTo>
                  <a:cubicBezTo>
                    <a:pt x="57" y="35"/>
                    <a:pt x="30" y="24"/>
                    <a:pt x="38" y="20"/>
                  </a:cubicBezTo>
                  <a:cubicBezTo>
                    <a:pt x="54" y="13"/>
                    <a:pt x="73" y="25"/>
                    <a:pt x="91" y="27"/>
                  </a:cubicBezTo>
                  <a:cubicBezTo>
                    <a:pt x="122" y="40"/>
                    <a:pt x="152" y="50"/>
                    <a:pt x="182" y="65"/>
                  </a:cubicBezTo>
                  <a:cubicBezTo>
                    <a:pt x="177" y="55"/>
                    <a:pt x="175" y="43"/>
                    <a:pt x="167" y="35"/>
                  </a:cubicBezTo>
                  <a:cubicBezTo>
                    <a:pt x="161" y="29"/>
                    <a:pt x="136" y="27"/>
                    <a:pt x="144" y="27"/>
                  </a:cubicBezTo>
                  <a:cubicBezTo>
                    <a:pt x="159" y="27"/>
                    <a:pt x="174" y="32"/>
                    <a:pt x="189" y="35"/>
                  </a:cubicBezTo>
                  <a:cubicBezTo>
                    <a:pt x="186" y="33"/>
                    <a:pt x="126" y="0"/>
                    <a:pt x="197" y="12"/>
                  </a:cubicBezTo>
                  <a:cubicBezTo>
                    <a:pt x="243" y="20"/>
                    <a:pt x="258" y="43"/>
                    <a:pt x="303" y="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741"/>
            <p:cNvSpPr/>
            <p:nvPr/>
          </p:nvSpPr>
          <p:spPr>
            <a:xfrm>
              <a:off x="2789280" y="5418000"/>
              <a:ext cx="482400" cy="15588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32" y="96"/>
                  </a:moveTo>
                  <a:cubicBezTo>
                    <a:pt x="0" y="66"/>
                    <a:pt x="34" y="74"/>
                    <a:pt x="62" y="66"/>
                  </a:cubicBezTo>
                  <a:cubicBezTo>
                    <a:pt x="57" y="58"/>
                    <a:pt x="38" y="44"/>
                    <a:pt x="47" y="43"/>
                  </a:cubicBezTo>
                  <a:cubicBezTo>
                    <a:pt x="75" y="40"/>
                    <a:pt x="130" y="58"/>
                    <a:pt x="130" y="58"/>
                  </a:cubicBezTo>
                  <a:cubicBezTo>
                    <a:pt x="191" y="98"/>
                    <a:pt x="122" y="54"/>
                    <a:pt x="123" y="51"/>
                  </a:cubicBezTo>
                  <a:cubicBezTo>
                    <a:pt x="126" y="39"/>
                    <a:pt x="148" y="46"/>
                    <a:pt x="160" y="43"/>
                  </a:cubicBezTo>
                  <a:cubicBezTo>
                    <a:pt x="168" y="46"/>
                    <a:pt x="175" y="48"/>
                    <a:pt x="183" y="51"/>
                  </a:cubicBezTo>
                  <a:cubicBezTo>
                    <a:pt x="192" y="54"/>
                    <a:pt x="168" y="40"/>
                    <a:pt x="160" y="35"/>
                  </a:cubicBezTo>
                  <a:cubicBezTo>
                    <a:pt x="150" y="29"/>
                    <a:pt x="140" y="25"/>
                    <a:pt x="130" y="20"/>
                  </a:cubicBezTo>
                  <a:cubicBezTo>
                    <a:pt x="163" y="10"/>
                    <a:pt x="189" y="17"/>
                    <a:pt x="221" y="28"/>
                  </a:cubicBezTo>
                  <a:cubicBezTo>
                    <a:pt x="264" y="0"/>
                    <a:pt x="259" y="28"/>
                    <a:pt x="304" y="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743"/>
            <p:cNvSpPr/>
            <p:nvPr/>
          </p:nvSpPr>
          <p:spPr>
            <a:xfrm>
              <a:off x="5013360" y="5810400"/>
              <a:ext cx="4371840" cy="988920"/>
            </a:xfrm>
            <a:custGeom>
              <a:avLst/>
              <a:gdLst/>
              <a:ahLst/>
              <a:rect l="l" t="t" r="r" b="b"/>
              <a:pathLst>
                <a:path w="2754" h="623">
                  <a:moveTo>
                    <a:pt x="177" y="31"/>
                  </a:moveTo>
                  <a:cubicBezTo>
                    <a:pt x="157" y="34"/>
                    <a:pt x="136" y="35"/>
                    <a:pt x="116" y="39"/>
                  </a:cubicBezTo>
                  <a:cubicBezTo>
                    <a:pt x="108" y="40"/>
                    <a:pt x="95" y="38"/>
                    <a:pt x="93" y="46"/>
                  </a:cubicBezTo>
                  <a:cubicBezTo>
                    <a:pt x="91" y="53"/>
                    <a:pt x="104" y="56"/>
                    <a:pt x="109" y="61"/>
                  </a:cubicBezTo>
                  <a:cubicBezTo>
                    <a:pt x="137" y="42"/>
                    <a:pt x="167" y="34"/>
                    <a:pt x="199" y="23"/>
                  </a:cubicBezTo>
                  <a:cubicBezTo>
                    <a:pt x="189" y="21"/>
                    <a:pt x="179" y="14"/>
                    <a:pt x="169" y="16"/>
                  </a:cubicBezTo>
                  <a:cubicBezTo>
                    <a:pt x="160" y="17"/>
                    <a:pt x="155" y="28"/>
                    <a:pt x="146" y="31"/>
                  </a:cubicBezTo>
                  <a:cubicBezTo>
                    <a:pt x="132" y="37"/>
                    <a:pt x="75" y="44"/>
                    <a:pt x="63" y="46"/>
                  </a:cubicBezTo>
                  <a:cubicBezTo>
                    <a:pt x="111" y="77"/>
                    <a:pt x="168" y="69"/>
                    <a:pt x="215" y="39"/>
                  </a:cubicBezTo>
                  <a:cubicBezTo>
                    <a:pt x="144" y="24"/>
                    <a:pt x="75" y="29"/>
                    <a:pt x="10" y="61"/>
                  </a:cubicBezTo>
                  <a:cubicBezTo>
                    <a:pt x="66" y="76"/>
                    <a:pt x="115" y="49"/>
                    <a:pt x="169" y="39"/>
                  </a:cubicBezTo>
                  <a:cubicBezTo>
                    <a:pt x="243" y="0"/>
                    <a:pt x="322" y="23"/>
                    <a:pt x="389" y="61"/>
                  </a:cubicBezTo>
                  <a:cubicBezTo>
                    <a:pt x="394" y="64"/>
                    <a:pt x="533" y="115"/>
                    <a:pt x="457" y="92"/>
                  </a:cubicBezTo>
                  <a:cubicBezTo>
                    <a:pt x="493" y="80"/>
                    <a:pt x="491" y="95"/>
                    <a:pt x="525" y="107"/>
                  </a:cubicBezTo>
                  <a:cubicBezTo>
                    <a:pt x="530" y="112"/>
                    <a:pt x="534" y="119"/>
                    <a:pt x="541" y="122"/>
                  </a:cubicBezTo>
                  <a:cubicBezTo>
                    <a:pt x="550" y="126"/>
                    <a:pt x="561" y="125"/>
                    <a:pt x="571" y="129"/>
                  </a:cubicBezTo>
                  <a:cubicBezTo>
                    <a:pt x="582" y="133"/>
                    <a:pt x="601" y="134"/>
                    <a:pt x="601" y="145"/>
                  </a:cubicBezTo>
                  <a:cubicBezTo>
                    <a:pt x="601" y="155"/>
                    <a:pt x="581" y="140"/>
                    <a:pt x="571" y="137"/>
                  </a:cubicBezTo>
                  <a:cubicBezTo>
                    <a:pt x="623" y="171"/>
                    <a:pt x="557" y="132"/>
                    <a:pt x="639" y="160"/>
                  </a:cubicBezTo>
                  <a:cubicBezTo>
                    <a:pt x="648" y="163"/>
                    <a:pt x="654" y="171"/>
                    <a:pt x="662" y="175"/>
                  </a:cubicBezTo>
                  <a:cubicBezTo>
                    <a:pt x="671" y="179"/>
                    <a:pt x="682" y="181"/>
                    <a:pt x="692" y="183"/>
                  </a:cubicBezTo>
                  <a:cubicBezTo>
                    <a:pt x="705" y="186"/>
                    <a:pt x="730" y="190"/>
                    <a:pt x="730" y="190"/>
                  </a:cubicBezTo>
                  <a:cubicBezTo>
                    <a:pt x="679" y="151"/>
                    <a:pt x="604" y="152"/>
                    <a:pt x="541" y="145"/>
                  </a:cubicBezTo>
                  <a:cubicBezTo>
                    <a:pt x="496" y="133"/>
                    <a:pt x="449" y="126"/>
                    <a:pt x="404" y="114"/>
                  </a:cubicBezTo>
                  <a:cubicBezTo>
                    <a:pt x="353" y="100"/>
                    <a:pt x="306" y="79"/>
                    <a:pt x="253" y="69"/>
                  </a:cubicBezTo>
                  <a:cubicBezTo>
                    <a:pt x="243" y="64"/>
                    <a:pt x="228" y="64"/>
                    <a:pt x="222" y="54"/>
                  </a:cubicBezTo>
                  <a:cubicBezTo>
                    <a:pt x="218" y="47"/>
                    <a:pt x="234" y="38"/>
                    <a:pt x="230" y="31"/>
                  </a:cubicBezTo>
                  <a:cubicBezTo>
                    <a:pt x="226" y="24"/>
                    <a:pt x="215" y="26"/>
                    <a:pt x="207" y="23"/>
                  </a:cubicBezTo>
                  <a:cubicBezTo>
                    <a:pt x="144" y="28"/>
                    <a:pt x="94" y="37"/>
                    <a:pt x="33" y="46"/>
                  </a:cubicBezTo>
                  <a:cubicBezTo>
                    <a:pt x="28" y="54"/>
                    <a:pt x="24" y="62"/>
                    <a:pt x="18" y="69"/>
                  </a:cubicBezTo>
                  <a:cubicBezTo>
                    <a:pt x="13" y="75"/>
                    <a:pt x="0" y="77"/>
                    <a:pt x="2" y="84"/>
                  </a:cubicBezTo>
                  <a:cubicBezTo>
                    <a:pt x="4" y="93"/>
                    <a:pt x="17" y="95"/>
                    <a:pt x="25" y="99"/>
                  </a:cubicBezTo>
                  <a:cubicBezTo>
                    <a:pt x="54" y="114"/>
                    <a:pt x="84" y="123"/>
                    <a:pt x="116" y="129"/>
                  </a:cubicBezTo>
                  <a:cubicBezTo>
                    <a:pt x="124" y="134"/>
                    <a:pt x="148" y="144"/>
                    <a:pt x="139" y="145"/>
                  </a:cubicBezTo>
                  <a:cubicBezTo>
                    <a:pt x="109" y="149"/>
                    <a:pt x="78" y="141"/>
                    <a:pt x="48" y="137"/>
                  </a:cubicBezTo>
                  <a:cubicBezTo>
                    <a:pt x="38" y="136"/>
                    <a:pt x="8" y="129"/>
                    <a:pt x="18" y="129"/>
                  </a:cubicBezTo>
                  <a:cubicBezTo>
                    <a:pt x="48" y="129"/>
                    <a:pt x="79" y="134"/>
                    <a:pt x="109" y="137"/>
                  </a:cubicBezTo>
                  <a:cubicBezTo>
                    <a:pt x="148" y="144"/>
                    <a:pt x="168" y="146"/>
                    <a:pt x="207" y="160"/>
                  </a:cubicBezTo>
                  <a:cubicBezTo>
                    <a:pt x="218" y="164"/>
                    <a:pt x="227" y="171"/>
                    <a:pt x="237" y="175"/>
                  </a:cubicBezTo>
                  <a:cubicBezTo>
                    <a:pt x="244" y="178"/>
                    <a:pt x="267" y="186"/>
                    <a:pt x="260" y="183"/>
                  </a:cubicBezTo>
                  <a:cubicBezTo>
                    <a:pt x="234" y="172"/>
                    <a:pt x="205" y="159"/>
                    <a:pt x="177" y="152"/>
                  </a:cubicBezTo>
                  <a:cubicBezTo>
                    <a:pt x="155" y="146"/>
                    <a:pt x="109" y="137"/>
                    <a:pt x="109" y="137"/>
                  </a:cubicBezTo>
                  <a:cubicBezTo>
                    <a:pt x="85" y="126"/>
                    <a:pt x="68" y="114"/>
                    <a:pt x="40" y="114"/>
                  </a:cubicBezTo>
                  <a:cubicBezTo>
                    <a:pt x="32" y="114"/>
                    <a:pt x="55" y="119"/>
                    <a:pt x="63" y="122"/>
                  </a:cubicBezTo>
                  <a:cubicBezTo>
                    <a:pt x="88" y="132"/>
                    <a:pt x="116" y="138"/>
                    <a:pt x="139" y="152"/>
                  </a:cubicBezTo>
                  <a:cubicBezTo>
                    <a:pt x="186" y="180"/>
                    <a:pt x="163" y="171"/>
                    <a:pt x="207" y="183"/>
                  </a:cubicBezTo>
                  <a:cubicBezTo>
                    <a:pt x="287" y="229"/>
                    <a:pt x="200" y="183"/>
                    <a:pt x="290" y="220"/>
                  </a:cubicBezTo>
                  <a:cubicBezTo>
                    <a:pt x="368" y="253"/>
                    <a:pt x="338" y="243"/>
                    <a:pt x="298" y="236"/>
                  </a:cubicBezTo>
                  <a:cubicBezTo>
                    <a:pt x="251" y="207"/>
                    <a:pt x="208" y="201"/>
                    <a:pt x="154" y="190"/>
                  </a:cubicBezTo>
                  <a:cubicBezTo>
                    <a:pt x="144" y="185"/>
                    <a:pt x="124" y="186"/>
                    <a:pt x="124" y="175"/>
                  </a:cubicBezTo>
                  <a:cubicBezTo>
                    <a:pt x="124" y="165"/>
                    <a:pt x="144" y="167"/>
                    <a:pt x="154" y="167"/>
                  </a:cubicBezTo>
                  <a:cubicBezTo>
                    <a:pt x="180" y="167"/>
                    <a:pt x="204" y="179"/>
                    <a:pt x="230" y="183"/>
                  </a:cubicBezTo>
                  <a:cubicBezTo>
                    <a:pt x="307" y="213"/>
                    <a:pt x="382" y="239"/>
                    <a:pt x="457" y="273"/>
                  </a:cubicBezTo>
                  <a:cubicBezTo>
                    <a:pt x="476" y="282"/>
                    <a:pt x="518" y="296"/>
                    <a:pt x="518" y="304"/>
                  </a:cubicBezTo>
                  <a:cubicBezTo>
                    <a:pt x="518" y="312"/>
                    <a:pt x="503" y="299"/>
                    <a:pt x="495" y="296"/>
                  </a:cubicBezTo>
                  <a:cubicBezTo>
                    <a:pt x="410" y="264"/>
                    <a:pt x="510" y="298"/>
                    <a:pt x="404" y="266"/>
                  </a:cubicBezTo>
                  <a:cubicBezTo>
                    <a:pt x="389" y="261"/>
                    <a:pt x="374" y="256"/>
                    <a:pt x="359" y="251"/>
                  </a:cubicBezTo>
                  <a:cubicBezTo>
                    <a:pt x="351" y="248"/>
                    <a:pt x="328" y="242"/>
                    <a:pt x="336" y="243"/>
                  </a:cubicBezTo>
                  <a:cubicBezTo>
                    <a:pt x="371" y="248"/>
                    <a:pt x="407" y="253"/>
                    <a:pt x="442" y="258"/>
                  </a:cubicBezTo>
                  <a:cubicBezTo>
                    <a:pt x="474" y="274"/>
                    <a:pt x="484" y="288"/>
                    <a:pt x="518" y="296"/>
                  </a:cubicBezTo>
                  <a:cubicBezTo>
                    <a:pt x="526" y="301"/>
                    <a:pt x="533" y="307"/>
                    <a:pt x="541" y="311"/>
                  </a:cubicBezTo>
                  <a:cubicBezTo>
                    <a:pt x="548" y="315"/>
                    <a:pt x="556" y="315"/>
                    <a:pt x="563" y="319"/>
                  </a:cubicBezTo>
                  <a:cubicBezTo>
                    <a:pt x="574" y="325"/>
                    <a:pt x="607" y="344"/>
                    <a:pt x="594" y="342"/>
                  </a:cubicBezTo>
                  <a:cubicBezTo>
                    <a:pt x="567" y="337"/>
                    <a:pt x="543" y="321"/>
                    <a:pt x="518" y="311"/>
                  </a:cubicBezTo>
                  <a:cubicBezTo>
                    <a:pt x="471" y="292"/>
                    <a:pt x="409" y="288"/>
                    <a:pt x="359" y="281"/>
                  </a:cubicBezTo>
                  <a:cubicBezTo>
                    <a:pt x="412" y="270"/>
                    <a:pt x="456" y="290"/>
                    <a:pt x="510" y="296"/>
                  </a:cubicBezTo>
                  <a:cubicBezTo>
                    <a:pt x="592" y="332"/>
                    <a:pt x="676" y="351"/>
                    <a:pt x="760" y="387"/>
                  </a:cubicBezTo>
                  <a:cubicBezTo>
                    <a:pt x="778" y="395"/>
                    <a:pt x="796" y="402"/>
                    <a:pt x="813" y="410"/>
                  </a:cubicBezTo>
                  <a:cubicBezTo>
                    <a:pt x="839" y="422"/>
                    <a:pt x="917" y="454"/>
                    <a:pt x="889" y="448"/>
                  </a:cubicBezTo>
                  <a:cubicBezTo>
                    <a:pt x="845" y="439"/>
                    <a:pt x="804" y="425"/>
                    <a:pt x="760" y="417"/>
                  </a:cubicBezTo>
                  <a:cubicBezTo>
                    <a:pt x="750" y="412"/>
                    <a:pt x="741" y="405"/>
                    <a:pt x="730" y="402"/>
                  </a:cubicBezTo>
                  <a:cubicBezTo>
                    <a:pt x="677" y="389"/>
                    <a:pt x="636" y="402"/>
                    <a:pt x="707" y="387"/>
                  </a:cubicBezTo>
                  <a:cubicBezTo>
                    <a:pt x="806" y="414"/>
                    <a:pt x="762" y="406"/>
                    <a:pt x="836" y="417"/>
                  </a:cubicBezTo>
                  <a:cubicBezTo>
                    <a:pt x="856" y="427"/>
                    <a:pt x="877" y="438"/>
                    <a:pt x="897" y="448"/>
                  </a:cubicBezTo>
                  <a:cubicBezTo>
                    <a:pt x="913" y="456"/>
                    <a:pt x="932" y="458"/>
                    <a:pt x="950" y="463"/>
                  </a:cubicBezTo>
                  <a:cubicBezTo>
                    <a:pt x="958" y="465"/>
                    <a:pt x="981" y="471"/>
                    <a:pt x="973" y="471"/>
                  </a:cubicBezTo>
                  <a:cubicBezTo>
                    <a:pt x="938" y="471"/>
                    <a:pt x="928" y="461"/>
                    <a:pt x="897" y="455"/>
                  </a:cubicBezTo>
                  <a:cubicBezTo>
                    <a:pt x="812" y="440"/>
                    <a:pt x="717" y="417"/>
                    <a:pt x="631" y="417"/>
                  </a:cubicBezTo>
                  <a:cubicBezTo>
                    <a:pt x="603" y="417"/>
                    <a:pt x="687" y="422"/>
                    <a:pt x="715" y="425"/>
                  </a:cubicBezTo>
                  <a:cubicBezTo>
                    <a:pt x="726" y="428"/>
                    <a:pt x="816" y="450"/>
                    <a:pt x="829" y="455"/>
                  </a:cubicBezTo>
                  <a:cubicBezTo>
                    <a:pt x="850" y="463"/>
                    <a:pt x="868" y="478"/>
                    <a:pt x="889" y="486"/>
                  </a:cubicBezTo>
                  <a:cubicBezTo>
                    <a:pt x="954" y="509"/>
                    <a:pt x="1034" y="522"/>
                    <a:pt x="1101" y="539"/>
                  </a:cubicBezTo>
                  <a:cubicBezTo>
                    <a:pt x="1057" y="553"/>
                    <a:pt x="1100" y="545"/>
                    <a:pt x="1041" y="524"/>
                  </a:cubicBezTo>
                  <a:cubicBezTo>
                    <a:pt x="1026" y="519"/>
                    <a:pt x="1010" y="519"/>
                    <a:pt x="995" y="516"/>
                  </a:cubicBezTo>
                  <a:cubicBezTo>
                    <a:pt x="903" y="470"/>
                    <a:pt x="1065" y="517"/>
                    <a:pt x="1079" y="524"/>
                  </a:cubicBezTo>
                  <a:cubicBezTo>
                    <a:pt x="1087" y="528"/>
                    <a:pt x="1093" y="536"/>
                    <a:pt x="1101" y="539"/>
                  </a:cubicBezTo>
                  <a:cubicBezTo>
                    <a:pt x="1111" y="543"/>
                    <a:pt x="1139" y="554"/>
                    <a:pt x="1132" y="546"/>
                  </a:cubicBezTo>
                  <a:cubicBezTo>
                    <a:pt x="1120" y="532"/>
                    <a:pt x="1071" y="528"/>
                    <a:pt x="1056" y="524"/>
                  </a:cubicBezTo>
                  <a:cubicBezTo>
                    <a:pt x="1048" y="522"/>
                    <a:pt x="1026" y="512"/>
                    <a:pt x="1033" y="516"/>
                  </a:cubicBezTo>
                  <a:cubicBezTo>
                    <a:pt x="1053" y="527"/>
                    <a:pt x="1094" y="546"/>
                    <a:pt x="1094" y="546"/>
                  </a:cubicBezTo>
                  <a:cubicBezTo>
                    <a:pt x="1133" y="534"/>
                    <a:pt x="1146" y="498"/>
                    <a:pt x="1185" y="486"/>
                  </a:cubicBezTo>
                  <a:cubicBezTo>
                    <a:pt x="1177" y="481"/>
                    <a:pt x="1171" y="471"/>
                    <a:pt x="1162" y="471"/>
                  </a:cubicBezTo>
                  <a:cubicBezTo>
                    <a:pt x="1133" y="471"/>
                    <a:pt x="1097" y="512"/>
                    <a:pt x="1079" y="531"/>
                  </a:cubicBezTo>
                  <a:cubicBezTo>
                    <a:pt x="1076" y="539"/>
                    <a:pt x="1064" y="558"/>
                    <a:pt x="1071" y="554"/>
                  </a:cubicBezTo>
                  <a:cubicBezTo>
                    <a:pt x="1175" y="502"/>
                    <a:pt x="1108" y="517"/>
                    <a:pt x="1170" y="463"/>
                  </a:cubicBezTo>
                  <a:cubicBezTo>
                    <a:pt x="1176" y="458"/>
                    <a:pt x="1185" y="458"/>
                    <a:pt x="1192" y="455"/>
                  </a:cubicBezTo>
                  <a:cubicBezTo>
                    <a:pt x="1200" y="442"/>
                    <a:pt x="1207" y="430"/>
                    <a:pt x="1215" y="417"/>
                  </a:cubicBezTo>
                  <a:cubicBezTo>
                    <a:pt x="1220" y="410"/>
                    <a:pt x="1238" y="399"/>
                    <a:pt x="1230" y="395"/>
                  </a:cubicBezTo>
                  <a:cubicBezTo>
                    <a:pt x="1226" y="393"/>
                    <a:pt x="1175" y="426"/>
                    <a:pt x="1154" y="433"/>
                  </a:cubicBezTo>
                  <a:cubicBezTo>
                    <a:pt x="1095" y="492"/>
                    <a:pt x="1092" y="463"/>
                    <a:pt x="1109" y="508"/>
                  </a:cubicBezTo>
                  <a:cubicBezTo>
                    <a:pt x="1151" y="477"/>
                    <a:pt x="1210" y="449"/>
                    <a:pt x="1245" y="410"/>
                  </a:cubicBezTo>
                  <a:cubicBezTo>
                    <a:pt x="1257" y="396"/>
                    <a:pt x="1266" y="379"/>
                    <a:pt x="1276" y="364"/>
                  </a:cubicBezTo>
                  <a:cubicBezTo>
                    <a:pt x="1298" y="331"/>
                    <a:pt x="1300" y="339"/>
                    <a:pt x="1253" y="357"/>
                  </a:cubicBezTo>
                  <a:cubicBezTo>
                    <a:pt x="1220" y="390"/>
                    <a:pt x="1177" y="406"/>
                    <a:pt x="1139" y="433"/>
                  </a:cubicBezTo>
                  <a:cubicBezTo>
                    <a:pt x="1066" y="485"/>
                    <a:pt x="1174" y="426"/>
                    <a:pt x="1086" y="471"/>
                  </a:cubicBezTo>
                  <a:cubicBezTo>
                    <a:pt x="1094" y="476"/>
                    <a:pt x="1100" y="486"/>
                    <a:pt x="1109" y="486"/>
                  </a:cubicBezTo>
                  <a:cubicBezTo>
                    <a:pt x="1110" y="486"/>
                    <a:pt x="1197" y="441"/>
                    <a:pt x="1200" y="440"/>
                  </a:cubicBezTo>
                  <a:cubicBezTo>
                    <a:pt x="1213" y="433"/>
                    <a:pt x="1232" y="430"/>
                    <a:pt x="1238" y="417"/>
                  </a:cubicBezTo>
                  <a:cubicBezTo>
                    <a:pt x="1243" y="407"/>
                    <a:pt x="1217" y="422"/>
                    <a:pt x="1207" y="425"/>
                  </a:cubicBezTo>
                  <a:cubicBezTo>
                    <a:pt x="1174" y="450"/>
                    <a:pt x="1156" y="470"/>
                    <a:pt x="1117" y="486"/>
                  </a:cubicBezTo>
                  <a:cubicBezTo>
                    <a:pt x="1093" y="509"/>
                    <a:pt x="1067" y="518"/>
                    <a:pt x="1048" y="546"/>
                  </a:cubicBezTo>
                  <a:cubicBezTo>
                    <a:pt x="1184" y="581"/>
                    <a:pt x="1378" y="569"/>
                    <a:pt x="1526" y="569"/>
                  </a:cubicBezTo>
                  <a:cubicBezTo>
                    <a:pt x="1566" y="569"/>
                    <a:pt x="1445" y="564"/>
                    <a:pt x="1405" y="561"/>
                  </a:cubicBezTo>
                  <a:cubicBezTo>
                    <a:pt x="1329" y="554"/>
                    <a:pt x="1253" y="545"/>
                    <a:pt x="1177" y="539"/>
                  </a:cubicBezTo>
                  <a:cubicBezTo>
                    <a:pt x="1342" y="495"/>
                    <a:pt x="1535" y="537"/>
                    <a:pt x="1708" y="546"/>
                  </a:cubicBezTo>
                  <a:cubicBezTo>
                    <a:pt x="1811" y="564"/>
                    <a:pt x="1739" y="550"/>
                    <a:pt x="1602" y="546"/>
                  </a:cubicBezTo>
                  <a:cubicBezTo>
                    <a:pt x="1463" y="542"/>
                    <a:pt x="1324" y="541"/>
                    <a:pt x="1185" y="539"/>
                  </a:cubicBezTo>
                  <a:cubicBezTo>
                    <a:pt x="1273" y="555"/>
                    <a:pt x="1362" y="549"/>
                    <a:pt x="1450" y="561"/>
                  </a:cubicBezTo>
                  <a:cubicBezTo>
                    <a:pt x="1505" y="568"/>
                    <a:pt x="1502" y="568"/>
                    <a:pt x="1556" y="584"/>
                  </a:cubicBezTo>
                  <a:cubicBezTo>
                    <a:pt x="1564" y="586"/>
                    <a:pt x="1587" y="592"/>
                    <a:pt x="1579" y="592"/>
                  </a:cubicBezTo>
                  <a:cubicBezTo>
                    <a:pt x="1558" y="592"/>
                    <a:pt x="1538" y="587"/>
                    <a:pt x="1518" y="584"/>
                  </a:cubicBezTo>
                  <a:cubicBezTo>
                    <a:pt x="1508" y="579"/>
                    <a:pt x="1498" y="573"/>
                    <a:pt x="1488" y="569"/>
                  </a:cubicBezTo>
                  <a:cubicBezTo>
                    <a:pt x="1481" y="566"/>
                    <a:pt x="1458" y="557"/>
                    <a:pt x="1465" y="561"/>
                  </a:cubicBezTo>
                  <a:cubicBezTo>
                    <a:pt x="1549" y="606"/>
                    <a:pt x="1656" y="584"/>
                    <a:pt x="1746" y="615"/>
                  </a:cubicBezTo>
                  <a:cubicBezTo>
                    <a:pt x="1787" y="600"/>
                    <a:pt x="1763" y="613"/>
                    <a:pt x="1738" y="599"/>
                  </a:cubicBezTo>
                  <a:cubicBezTo>
                    <a:pt x="1672" y="561"/>
                    <a:pt x="1752" y="583"/>
                    <a:pt x="1761" y="584"/>
                  </a:cubicBezTo>
                  <a:cubicBezTo>
                    <a:pt x="1806" y="614"/>
                    <a:pt x="1765" y="592"/>
                    <a:pt x="1852" y="607"/>
                  </a:cubicBezTo>
                  <a:cubicBezTo>
                    <a:pt x="1860" y="608"/>
                    <a:pt x="1874" y="623"/>
                    <a:pt x="1874" y="615"/>
                  </a:cubicBezTo>
                  <a:cubicBezTo>
                    <a:pt x="1874" y="606"/>
                    <a:pt x="1859" y="605"/>
                    <a:pt x="1852" y="599"/>
                  </a:cubicBezTo>
                  <a:cubicBezTo>
                    <a:pt x="1825" y="577"/>
                    <a:pt x="1807" y="570"/>
                    <a:pt x="1776" y="554"/>
                  </a:cubicBezTo>
                  <a:cubicBezTo>
                    <a:pt x="1786" y="551"/>
                    <a:pt x="1796" y="545"/>
                    <a:pt x="1806" y="546"/>
                  </a:cubicBezTo>
                  <a:cubicBezTo>
                    <a:pt x="1817" y="547"/>
                    <a:pt x="1845" y="569"/>
                    <a:pt x="1837" y="561"/>
                  </a:cubicBezTo>
                  <a:cubicBezTo>
                    <a:pt x="1824" y="548"/>
                    <a:pt x="1806" y="541"/>
                    <a:pt x="1791" y="531"/>
                  </a:cubicBezTo>
                  <a:cubicBezTo>
                    <a:pt x="1783" y="526"/>
                    <a:pt x="1768" y="516"/>
                    <a:pt x="1768" y="516"/>
                  </a:cubicBezTo>
                  <a:cubicBezTo>
                    <a:pt x="1763" y="508"/>
                    <a:pt x="1759" y="499"/>
                    <a:pt x="1753" y="493"/>
                  </a:cubicBezTo>
                  <a:cubicBezTo>
                    <a:pt x="1747" y="487"/>
                    <a:pt x="1736" y="485"/>
                    <a:pt x="1730" y="478"/>
                  </a:cubicBezTo>
                  <a:cubicBezTo>
                    <a:pt x="1725" y="472"/>
                    <a:pt x="1716" y="458"/>
                    <a:pt x="1723" y="455"/>
                  </a:cubicBezTo>
                  <a:cubicBezTo>
                    <a:pt x="1732" y="451"/>
                    <a:pt x="1738" y="467"/>
                    <a:pt x="1746" y="471"/>
                  </a:cubicBezTo>
                  <a:cubicBezTo>
                    <a:pt x="1760" y="478"/>
                    <a:pt x="1776" y="481"/>
                    <a:pt x="1791" y="486"/>
                  </a:cubicBezTo>
                  <a:cubicBezTo>
                    <a:pt x="1799" y="496"/>
                    <a:pt x="1806" y="506"/>
                    <a:pt x="1814" y="516"/>
                  </a:cubicBezTo>
                  <a:cubicBezTo>
                    <a:pt x="1821" y="524"/>
                    <a:pt x="1837" y="528"/>
                    <a:pt x="1837" y="539"/>
                  </a:cubicBezTo>
                  <a:cubicBezTo>
                    <a:pt x="1837" y="547"/>
                    <a:pt x="1821" y="535"/>
                    <a:pt x="1814" y="531"/>
                  </a:cubicBezTo>
                  <a:cubicBezTo>
                    <a:pt x="1780" y="514"/>
                    <a:pt x="1754" y="490"/>
                    <a:pt x="1723" y="471"/>
                  </a:cubicBezTo>
                  <a:cubicBezTo>
                    <a:pt x="1630" y="413"/>
                    <a:pt x="1741" y="501"/>
                    <a:pt x="1647" y="433"/>
                  </a:cubicBezTo>
                  <a:cubicBezTo>
                    <a:pt x="1641" y="429"/>
                    <a:pt x="1626" y="420"/>
                    <a:pt x="1632" y="417"/>
                  </a:cubicBezTo>
                  <a:cubicBezTo>
                    <a:pt x="1641" y="412"/>
                    <a:pt x="1652" y="422"/>
                    <a:pt x="1662" y="425"/>
                  </a:cubicBezTo>
                  <a:cubicBezTo>
                    <a:pt x="1706" y="438"/>
                    <a:pt x="1747" y="466"/>
                    <a:pt x="1776" y="501"/>
                  </a:cubicBezTo>
                  <a:cubicBezTo>
                    <a:pt x="1782" y="508"/>
                    <a:pt x="1801" y="546"/>
                    <a:pt x="1814" y="546"/>
                  </a:cubicBezTo>
                  <a:cubicBezTo>
                    <a:pt x="1823" y="546"/>
                    <a:pt x="1805" y="530"/>
                    <a:pt x="1799" y="524"/>
                  </a:cubicBezTo>
                  <a:cubicBezTo>
                    <a:pt x="1792" y="517"/>
                    <a:pt x="1784" y="513"/>
                    <a:pt x="1776" y="508"/>
                  </a:cubicBezTo>
                  <a:cubicBezTo>
                    <a:pt x="1758" y="459"/>
                    <a:pt x="1784" y="511"/>
                    <a:pt x="1738" y="478"/>
                  </a:cubicBezTo>
                  <a:cubicBezTo>
                    <a:pt x="1728" y="471"/>
                    <a:pt x="1725" y="456"/>
                    <a:pt x="1715" y="448"/>
                  </a:cubicBezTo>
                  <a:cubicBezTo>
                    <a:pt x="1692" y="428"/>
                    <a:pt x="1654" y="404"/>
                    <a:pt x="1624" y="395"/>
                  </a:cubicBezTo>
                  <a:cubicBezTo>
                    <a:pt x="1632" y="392"/>
                    <a:pt x="1639" y="386"/>
                    <a:pt x="1647" y="387"/>
                  </a:cubicBezTo>
                  <a:cubicBezTo>
                    <a:pt x="1677" y="392"/>
                    <a:pt x="1739" y="472"/>
                    <a:pt x="1776" y="501"/>
                  </a:cubicBezTo>
                  <a:cubicBezTo>
                    <a:pt x="1778" y="509"/>
                    <a:pt x="1791" y="524"/>
                    <a:pt x="1783" y="524"/>
                  </a:cubicBezTo>
                  <a:cubicBezTo>
                    <a:pt x="1771" y="524"/>
                    <a:pt x="1753" y="484"/>
                    <a:pt x="1746" y="478"/>
                  </a:cubicBezTo>
                  <a:cubicBezTo>
                    <a:pt x="1724" y="459"/>
                    <a:pt x="1700" y="443"/>
                    <a:pt x="1677" y="425"/>
                  </a:cubicBezTo>
                  <a:cubicBezTo>
                    <a:pt x="1660" y="412"/>
                    <a:pt x="1642" y="400"/>
                    <a:pt x="1624" y="387"/>
                  </a:cubicBezTo>
                  <a:cubicBezTo>
                    <a:pt x="1615" y="381"/>
                    <a:pt x="1594" y="371"/>
                    <a:pt x="1602" y="364"/>
                  </a:cubicBezTo>
                  <a:cubicBezTo>
                    <a:pt x="1611" y="357"/>
                    <a:pt x="1622" y="374"/>
                    <a:pt x="1632" y="380"/>
                  </a:cubicBezTo>
                  <a:cubicBezTo>
                    <a:pt x="1647" y="389"/>
                    <a:pt x="1662" y="400"/>
                    <a:pt x="1677" y="410"/>
                  </a:cubicBezTo>
                  <a:cubicBezTo>
                    <a:pt x="1698" y="441"/>
                    <a:pt x="1699" y="443"/>
                    <a:pt x="1730" y="478"/>
                  </a:cubicBezTo>
                  <a:cubicBezTo>
                    <a:pt x="1741" y="490"/>
                    <a:pt x="1757" y="496"/>
                    <a:pt x="1768" y="508"/>
                  </a:cubicBezTo>
                  <a:cubicBezTo>
                    <a:pt x="1825" y="573"/>
                    <a:pt x="1780" y="552"/>
                    <a:pt x="1829" y="569"/>
                  </a:cubicBezTo>
                  <a:cubicBezTo>
                    <a:pt x="1847" y="566"/>
                    <a:pt x="1864" y="564"/>
                    <a:pt x="1882" y="561"/>
                  </a:cubicBezTo>
                  <a:cubicBezTo>
                    <a:pt x="1890" y="559"/>
                    <a:pt x="1913" y="554"/>
                    <a:pt x="1905" y="554"/>
                  </a:cubicBezTo>
                  <a:cubicBezTo>
                    <a:pt x="1899" y="554"/>
                    <a:pt x="1850" y="567"/>
                    <a:pt x="1844" y="569"/>
                  </a:cubicBezTo>
                  <a:cubicBezTo>
                    <a:pt x="1899" y="581"/>
                    <a:pt x="1949" y="571"/>
                    <a:pt x="2003" y="561"/>
                  </a:cubicBezTo>
                  <a:cubicBezTo>
                    <a:pt x="2117" y="506"/>
                    <a:pt x="1889" y="546"/>
                    <a:pt x="1829" y="561"/>
                  </a:cubicBezTo>
                  <a:cubicBezTo>
                    <a:pt x="1761" y="578"/>
                    <a:pt x="1808" y="568"/>
                    <a:pt x="1897" y="561"/>
                  </a:cubicBezTo>
                  <a:cubicBezTo>
                    <a:pt x="1945" y="552"/>
                    <a:pt x="1993" y="538"/>
                    <a:pt x="2041" y="531"/>
                  </a:cubicBezTo>
                  <a:cubicBezTo>
                    <a:pt x="2056" y="529"/>
                    <a:pt x="2072" y="527"/>
                    <a:pt x="2087" y="524"/>
                  </a:cubicBezTo>
                  <a:cubicBezTo>
                    <a:pt x="2097" y="522"/>
                    <a:pt x="2127" y="516"/>
                    <a:pt x="2117" y="516"/>
                  </a:cubicBezTo>
                  <a:cubicBezTo>
                    <a:pt x="2084" y="516"/>
                    <a:pt x="2051" y="521"/>
                    <a:pt x="2018" y="524"/>
                  </a:cubicBezTo>
                  <a:cubicBezTo>
                    <a:pt x="2000" y="526"/>
                    <a:pt x="1983" y="529"/>
                    <a:pt x="1965" y="531"/>
                  </a:cubicBezTo>
                  <a:cubicBezTo>
                    <a:pt x="1950" y="536"/>
                    <a:pt x="1935" y="542"/>
                    <a:pt x="1920" y="546"/>
                  </a:cubicBezTo>
                  <a:cubicBezTo>
                    <a:pt x="1905" y="550"/>
                    <a:pt x="1886" y="545"/>
                    <a:pt x="1874" y="554"/>
                  </a:cubicBezTo>
                  <a:cubicBezTo>
                    <a:pt x="1868" y="558"/>
                    <a:pt x="1885" y="564"/>
                    <a:pt x="1890" y="569"/>
                  </a:cubicBezTo>
                  <a:cubicBezTo>
                    <a:pt x="2100" y="553"/>
                    <a:pt x="1913" y="577"/>
                    <a:pt x="2056" y="539"/>
                  </a:cubicBezTo>
                  <a:cubicBezTo>
                    <a:pt x="2118" y="522"/>
                    <a:pt x="2179" y="522"/>
                    <a:pt x="2238" y="493"/>
                  </a:cubicBezTo>
                  <a:cubicBezTo>
                    <a:pt x="2130" y="473"/>
                    <a:pt x="1822" y="512"/>
                    <a:pt x="2162" y="478"/>
                  </a:cubicBezTo>
                  <a:cubicBezTo>
                    <a:pt x="2225" y="463"/>
                    <a:pt x="2289" y="452"/>
                    <a:pt x="2352" y="440"/>
                  </a:cubicBezTo>
                  <a:cubicBezTo>
                    <a:pt x="2382" y="434"/>
                    <a:pt x="2413" y="431"/>
                    <a:pt x="2443" y="425"/>
                  </a:cubicBezTo>
                  <a:cubicBezTo>
                    <a:pt x="2458" y="422"/>
                    <a:pt x="2503" y="417"/>
                    <a:pt x="2488" y="417"/>
                  </a:cubicBezTo>
                  <a:cubicBezTo>
                    <a:pt x="2440" y="417"/>
                    <a:pt x="2392" y="422"/>
                    <a:pt x="2344" y="425"/>
                  </a:cubicBezTo>
                  <a:cubicBezTo>
                    <a:pt x="2299" y="437"/>
                    <a:pt x="2254" y="434"/>
                    <a:pt x="2344" y="448"/>
                  </a:cubicBezTo>
                  <a:cubicBezTo>
                    <a:pt x="2344" y="448"/>
                    <a:pt x="2309" y="460"/>
                    <a:pt x="2291" y="463"/>
                  </a:cubicBezTo>
                  <a:cubicBezTo>
                    <a:pt x="2269" y="467"/>
                    <a:pt x="2246" y="468"/>
                    <a:pt x="2223" y="471"/>
                  </a:cubicBezTo>
                  <a:cubicBezTo>
                    <a:pt x="2167" y="485"/>
                    <a:pt x="2113" y="500"/>
                    <a:pt x="2056" y="508"/>
                  </a:cubicBezTo>
                  <a:cubicBezTo>
                    <a:pt x="2164" y="553"/>
                    <a:pt x="2304" y="504"/>
                    <a:pt x="2413" y="471"/>
                  </a:cubicBezTo>
                  <a:cubicBezTo>
                    <a:pt x="2418" y="466"/>
                    <a:pt x="2435" y="456"/>
                    <a:pt x="2428" y="455"/>
                  </a:cubicBezTo>
                  <a:cubicBezTo>
                    <a:pt x="2408" y="451"/>
                    <a:pt x="2386" y="455"/>
                    <a:pt x="2367" y="463"/>
                  </a:cubicBezTo>
                  <a:cubicBezTo>
                    <a:pt x="2360" y="466"/>
                    <a:pt x="2351" y="485"/>
                    <a:pt x="2359" y="486"/>
                  </a:cubicBezTo>
                  <a:cubicBezTo>
                    <a:pt x="2407" y="491"/>
                    <a:pt x="2455" y="481"/>
                    <a:pt x="2503" y="478"/>
                  </a:cubicBezTo>
                  <a:cubicBezTo>
                    <a:pt x="2532" y="469"/>
                    <a:pt x="2566" y="454"/>
                    <a:pt x="2594" y="440"/>
                  </a:cubicBezTo>
                  <a:cubicBezTo>
                    <a:pt x="2602" y="436"/>
                    <a:pt x="2609" y="429"/>
                    <a:pt x="2617" y="425"/>
                  </a:cubicBezTo>
                  <a:cubicBezTo>
                    <a:pt x="2624" y="421"/>
                    <a:pt x="2648" y="417"/>
                    <a:pt x="2640" y="417"/>
                  </a:cubicBezTo>
                  <a:cubicBezTo>
                    <a:pt x="2602" y="417"/>
                    <a:pt x="2564" y="422"/>
                    <a:pt x="2526" y="425"/>
                  </a:cubicBezTo>
                  <a:cubicBezTo>
                    <a:pt x="2498" y="432"/>
                    <a:pt x="2470" y="439"/>
                    <a:pt x="2443" y="448"/>
                  </a:cubicBezTo>
                  <a:cubicBezTo>
                    <a:pt x="2495" y="468"/>
                    <a:pt x="2529" y="460"/>
                    <a:pt x="2579" y="440"/>
                  </a:cubicBezTo>
                  <a:cubicBezTo>
                    <a:pt x="2601" y="431"/>
                    <a:pt x="2624" y="425"/>
                    <a:pt x="2647" y="417"/>
                  </a:cubicBezTo>
                  <a:cubicBezTo>
                    <a:pt x="2655" y="414"/>
                    <a:pt x="2678" y="409"/>
                    <a:pt x="2670" y="410"/>
                  </a:cubicBezTo>
                  <a:cubicBezTo>
                    <a:pt x="2592" y="418"/>
                    <a:pt x="2514" y="432"/>
                    <a:pt x="2435" y="440"/>
                  </a:cubicBezTo>
                  <a:cubicBezTo>
                    <a:pt x="2422" y="445"/>
                    <a:pt x="2410" y="451"/>
                    <a:pt x="2397" y="455"/>
                  </a:cubicBezTo>
                  <a:cubicBezTo>
                    <a:pt x="2363" y="466"/>
                    <a:pt x="2354" y="459"/>
                    <a:pt x="2390" y="471"/>
                  </a:cubicBezTo>
                  <a:cubicBezTo>
                    <a:pt x="2463" y="461"/>
                    <a:pt x="2537" y="450"/>
                    <a:pt x="2610" y="440"/>
                  </a:cubicBezTo>
                  <a:cubicBezTo>
                    <a:pt x="2628" y="438"/>
                    <a:pt x="2663" y="433"/>
                    <a:pt x="2663" y="433"/>
                  </a:cubicBezTo>
                  <a:cubicBezTo>
                    <a:pt x="2694" y="420"/>
                    <a:pt x="2723" y="413"/>
                    <a:pt x="2754" y="402"/>
                  </a:cubicBezTo>
                  <a:cubicBezTo>
                    <a:pt x="2744" y="366"/>
                    <a:pt x="2738" y="356"/>
                    <a:pt x="2708" y="334"/>
                  </a:cubicBezTo>
                  <a:cubicBezTo>
                    <a:pt x="2695" y="324"/>
                    <a:pt x="2682" y="315"/>
                    <a:pt x="2670" y="304"/>
                  </a:cubicBezTo>
                  <a:cubicBezTo>
                    <a:pt x="2662" y="297"/>
                    <a:pt x="2647" y="292"/>
                    <a:pt x="2647" y="281"/>
                  </a:cubicBezTo>
                  <a:cubicBezTo>
                    <a:pt x="2647" y="273"/>
                    <a:pt x="2662" y="286"/>
                    <a:pt x="2670" y="289"/>
                  </a:cubicBezTo>
                  <a:cubicBezTo>
                    <a:pt x="2680" y="296"/>
                    <a:pt x="2690" y="305"/>
                    <a:pt x="2701" y="311"/>
                  </a:cubicBezTo>
                  <a:cubicBezTo>
                    <a:pt x="2708" y="315"/>
                    <a:pt x="2718" y="313"/>
                    <a:pt x="2723" y="319"/>
                  </a:cubicBezTo>
                  <a:cubicBezTo>
                    <a:pt x="2729" y="325"/>
                    <a:pt x="2739" y="344"/>
                    <a:pt x="2731" y="342"/>
                  </a:cubicBezTo>
                  <a:cubicBezTo>
                    <a:pt x="2715" y="338"/>
                    <a:pt x="2707" y="320"/>
                    <a:pt x="2693" y="311"/>
                  </a:cubicBezTo>
                  <a:cubicBezTo>
                    <a:pt x="2657" y="288"/>
                    <a:pt x="2605" y="276"/>
                    <a:pt x="2564" y="266"/>
                  </a:cubicBezTo>
                  <a:cubicBezTo>
                    <a:pt x="2515" y="234"/>
                    <a:pt x="2459" y="258"/>
                    <a:pt x="2405" y="266"/>
                  </a:cubicBezTo>
                  <a:cubicBezTo>
                    <a:pt x="2308" y="281"/>
                    <a:pt x="2212" y="294"/>
                    <a:pt x="2117" y="319"/>
                  </a:cubicBezTo>
                  <a:cubicBezTo>
                    <a:pt x="2162" y="331"/>
                    <a:pt x="2207" y="311"/>
                    <a:pt x="2253" y="304"/>
                  </a:cubicBezTo>
                  <a:cubicBezTo>
                    <a:pt x="2284" y="283"/>
                    <a:pt x="2322" y="289"/>
                    <a:pt x="2276" y="273"/>
                  </a:cubicBezTo>
                  <a:cubicBezTo>
                    <a:pt x="2159" y="285"/>
                    <a:pt x="2045" y="297"/>
                    <a:pt x="1927" y="304"/>
                  </a:cubicBezTo>
                  <a:cubicBezTo>
                    <a:pt x="1892" y="314"/>
                    <a:pt x="1853" y="311"/>
                    <a:pt x="1821" y="327"/>
                  </a:cubicBezTo>
                  <a:cubicBezTo>
                    <a:pt x="1814" y="330"/>
                    <a:pt x="1806" y="348"/>
                    <a:pt x="1814" y="349"/>
                  </a:cubicBezTo>
                  <a:cubicBezTo>
                    <a:pt x="1857" y="354"/>
                    <a:pt x="1900" y="344"/>
                    <a:pt x="1943" y="342"/>
                  </a:cubicBezTo>
                  <a:cubicBezTo>
                    <a:pt x="2036" y="325"/>
                    <a:pt x="2053" y="334"/>
                    <a:pt x="1996" y="319"/>
                  </a:cubicBezTo>
                  <a:cubicBezTo>
                    <a:pt x="1895" y="327"/>
                    <a:pt x="1794" y="332"/>
                    <a:pt x="1693" y="342"/>
                  </a:cubicBezTo>
                  <a:cubicBezTo>
                    <a:pt x="1685" y="344"/>
                    <a:pt x="1662" y="349"/>
                    <a:pt x="1670" y="349"/>
                  </a:cubicBezTo>
                  <a:cubicBezTo>
                    <a:pt x="1698" y="349"/>
                    <a:pt x="1779" y="351"/>
                    <a:pt x="1753" y="342"/>
                  </a:cubicBezTo>
                  <a:cubicBezTo>
                    <a:pt x="1712" y="329"/>
                    <a:pt x="1667" y="336"/>
                    <a:pt x="1624" y="334"/>
                  </a:cubicBezTo>
                  <a:cubicBezTo>
                    <a:pt x="1531" y="331"/>
                    <a:pt x="1437" y="329"/>
                    <a:pt x="1344" y="327"/>
                  </a:cubicBezTo>
                  <a:cubicBezTo>
                    <a:pt x="1267" y="307"/>
                    <a:pt x="1192" y="308"/>
                    <a:pt x="1117" y="281"/>
                  </a:cubicBezTo>
                  <a:cubicBezTo>
                    <a:pt x="1127" y="278"/>
                    <a:pt x="1143" y="282"/>
                    <a:pt x="1147" y="273"/>
                  </a:cubicBezTo>
                  <a:cubicBezTo>
                    <a:pt x="1150" y="266"/>
                    <a:pt x="1131" y="270"/>
                    <a:pt x="1124" y="266"/>
                  </a:cubicBezTo>
                  <a:cubicBezTo>
                    <a:pt x="1113" y="260"/>
                    <a:pt x="1106" y="247"/>
                    <a:pt x="1094" y="243"/>
                  </a:cubicBezTo>
                  <a:cubicBezTo>
                    <a:pt x="1063" y="232"/>
                    <a:pt x="1028" y="234"/>
                    <a:pt x="995" y="228"/>
                  </a:cubicBezTo>
                  <a:cubicBezTo>
                    <a:pt x="958" y="215"/>
                    <a:pt x="921" y="211"/>
                    <a:pt x="882" y="205"/>
                  </a:cubicBezTo>
                  <a:cubicBezTo>
                    <a:pt x="844" y="199"/>
                    <a:pt x="807" y="183"/>
                    <a:pt x="768" y="183"/>
                  </a:cubicBezTo>
                  <a:cubicBezTo>
                    <a:pt x="760" y="183"/>
                    <a:pt x="783" y="188"/>
                    <a:pt x="791" y="190"/>
                  </a:cubicBezTo>
                  <a:cubicBezTo>
                    <a:pt x="851" y="203"/>
                    <a:pt x="818" y="192"/>
                    <a:pt x="859" y="205"/>
                  </a:cubicBezTo>
                  <a:cubicBezTo>
                    <a:pt x="867" y="208"/>
                    <a:pt x="890" y="213"/>
                    <a:pt x="882" y="213"/>
                  </a:cubicBezTo>
                  <a:cubicBezTo>
                    <a:pt x="864" y="213"/>
                    <a:pt x="847" y="208"/>
                    <a:pt x="829" y="205"/>
                  </a:cubicBezTo>
                  <a:cubicBezTo>
                    <a:pt x="804" y="197"/>
                    <a:pt x="778" y="190"/>
                    <a:pt x="753" y="183"/>
                  </a:cubicBezTo>
                  <a:cubicBezTo>
                    <a:pt x="743" y="180"/>
                    <a:pt x="711" y="175"/>
                    <a:pt x="722" y="175"/>
                  </a:cubicBezTo>
                  <a:cubicBezTo>
                    <a:pt x="738" y="175"/>
                    <a:pt x="753" y="180"/>
                    <a:pt x="768" y="183"/>
                  </a:cubicBezTo>
                  <a:cubicBezTo>
                    <a:pt x="776" y="185"/>
                    <a:pt x="797" y="196"/>
                    <a:pt x="791" y="190"/>
                  </a:cubicBezTo>
                  <a:cubicBezTo>
                    <a:pt x="783" y="182"/>
                    <a:pt x="770" y="181"/>
                    <a:pt x="760" y="175"/>
                  </a:cubicBezTo>
                  <a:cubicBezTo>
                    <a:pt x="697" y="136"/>
                    <a:pt x="769" y="159"/>
                    <a:pt x="669" y="145"/>
                  </a:cubicBezTo>
                  <a:cubicBezTo>
                    <a:pt x="654" y="143"/>
                    <a:pt x="639" y="140"/>
                    <a:pt x="624" y="137"/>
                  </a:cubicBezTo>
                  <a:cubicBezTo>
                    <a:pt x="616" y="135"/>
                    <a:pt x="601" y="129"/>
                    <a:pt x="601" y="1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44"/>
            <p:cNvSpPr/>
            <p:nvPr/>
          </p:nvSpPr>
          <p:spPr>
            <a:xfrm>
              <a:off x="4943520" y="5803920"/>
              <a:ext cx="4576680" cy="930240"/>
            </a:xfrm>
            <a:custGeom>
              <a:avLst/>
              <a:gdLst/>
              <a:ahLst/>
              <a:rect l="l" t="t" r="r" b="b"/>
              <a:pathLst>
                <a:path w="2883" h="586">
                  <a:moveTo>
                    <a:pt x="1850" y="565"/>
                  </a:moveTo>
                  <a:cubicBezTo>
                    <a:pt x="1772" y="487"/>
                    <a:pt x="1817" y="523"/>
                    <a:pt x="1744" y="475"/>
                  </a:cubicBezTo>
                  <a:cubicBezTo>
                    <a:pt x="1705" y="449"/>
                    <a:pt x="1734" y="470"/>
                    <a:pt x="1699" y="429"/>
                  </a:cubicBezTo>
                  <a:cubicBezTo>
                    <a:pt x="1694" y="423"/>
                    <a:pt x="1677" y="417"/>
                    <a:pt x="1683" y="414"/>
                  </a:cubicBezTo>
                  <a:cubicBezTo>
                    <a:pt x="1692" y="409"/>
                    <a:pt x="1704" y="419"/>
                    <a:pt x="1714" y="421"/>
                  </a:cubicBezTo>
                  <a:cubicBezTo>
                    <a:pt x="1726" y="427"/>
                    <a:pt x="1829" y="506"/>
                    <a:pt x="1759" y="482"/>
                  </a:cubicBezTo>
                  <a:cubicBezTo>
                    <a:pt x="1721" y="430"/>
                    <a:pt x="1756" y="471"/>
                    <a:pt x="1706" y="429"/>
                  </a:cubicBezTo>
                  <a:cubicBezTo>
                    <a:pt x="1698" y="422"/>
                    <a:pt x="1690" y="414"/>
                    <a:pt x="1683" y="406"/>
                  </a:cubicBezTo>
                  <a:cubicBezTo>
                    <a:pt x="1677" y="399"/>
                    <a:pt x="1660" y="388"/>
                    <a:pt x="1668" y="384"/>
                  </a:cubicBezTo>
                  <a:cubicBezTo>
                    <a:pt x="1679" y="379"/>
                    <a:pt x="1689" y="393"/>
                    <a:pt x="1699" y="399"/>
                  </a:cubicBezTo>
                  <a:cubicBezTo>
                    <a:pt x="1717" y="411"/>
                    <a:pt x="1752" y="437"/>
                    <a:pt x="1752" y="437"/>
                  </a:cubicBezTo>
                  <a:cubicBezTo>
                    <a:pt x="1774" y="469"/>
                    <a:pt x="1788" y="495"/>
                    <a:pt x="1805" y="528"/>
                  </a:cubicBezTo>
                  <a:cubicBezTo>
                    <a:pt x="1809" y="536"/>
                    <a:pt x="1812" y="546"/>
                    <a:pt x="1820" y="550"/>
                  </a:cubicBezTo>
                  <a:cubicBezTo>
                    <a:pt x="1834" y="557"/>
                    <a:pt x="1850" y="555"/>
                    <a:pt x="1865" y="558"/>
                  </a:cubicBezTo>
                  <a:cubicBezTo>
                    <a:pt x="1808" y="571"/>
                    <a:pt x="1778" y="577"/>
                    <a:pt x="1956" y="558"/>
                  </a:cubicBezTo>
                  <a:cubicBezTo>
                    <a:pt x="1982" y="555"/>
                    <a:pt x="2007" y="536"/>
                    <a:pt x="2032" y="528"/>
                  </a:cubicBezTo>
                  <a:cubicBezTo>
                    <a:pt x="2058" y="510"/>
                    <a:pt x="2078" y="505"/>
                    <a:pt x="2108" y="497"/>
                  </a:cubicBezTo>
                  <a:cubicBezTo>
                    <a:pt x="2084" y="529"/>
                    <a:pt x="2089" y="529"/>
                    <a:pt x="2055" y="550"/>
                  </a:cubicBezTo>
                  <a:cubicBezTo>
                    <a:pt x="2045" y="556"/>
                    <a:pt x="2034" y="559"/>
                    <a:pt x="2025" y="565"/>
                  </a:cubicBezTo>
                  <a:cubicBezTo>
                    <a:pt x="2019" y="569"/>
                    <a:pt x="2002" y="577"/>
                    <a:pt x="2009" y="581"/>
                  </a:cubicBezTo>
                  <a:cubicBezTo>
                    <a:pt x="2018" y="586"/>
                    <a:pt x="2030" y="576"/>
                    <a:pt x="2040" y="573"/>
                  </a:cubicBezTo>
                  <a:cubicBezTo>
                    <a:pt x="2080" y="546"/>
                    <a:pt x="2143" y="535"/>
                    <a:pt x="2191" y="528"/>
                  </a:cubicBezTo>
                  <a:cubicBezTo>
                    <a:pt x="2243" y="501"/>
                    <a:pt x="2200" y="520"/>
                    <a:pt x="2259" y="505"/>
                  </a:cubicBezTo>
                  <a:cubicBezTo>
                    <a:pt x="2267" y="503"/>
                    <a:pt x="2274" y="500"/>
                    <a:pt x="2282" y="497"/>
                  </a:cubicBezTo>
                  <a:cubicBezTo>
                    <a:pt x="2290" y="495"/>
                    <a:pt x="2313" y="490"/>
                    <a:pt x="2305" y="490"/>
                  </a:cubicBezTo>
                  <a:cubicBezTo>
                    <a:pt x="2295" y="490"/>
                    <a:pt x="2285" y="495"/>
                    <a:pt x="2275" y="497"/>
                  </a:cubicBezTo>
                  <a:cubicBezTo>
                    <a:pt x="2215" y="526"/>
                    <a:pt x="2102" y="527"/>
                    <a:pt x="2313" y="512"/>
                  </a:cubicBezTo>
                  <a:cubicBezTo>
                    <a:pt x="2390" y="487"/>
                    <a:pt x="2273" y="527"/>
                    <a:pt x="2358" y="490"/>
                  </a:cubicBezTo>
                  <a:cubicBezTo>
                    <a:pt x="2372" y="484"/>
                    <a:pt x="2413" y="477"/>
                    <a:pt x="2426" y="475"/>
                  </a:cubicBezTo>
                  <a:cubicBezTo>
                    <a:pt x="2434" y="467"/>
                    <a:pt x="2440" y="458"/>
                    <a:pt x="2449" y="452"/>
                  </a:cubicBezTo>
                  <a:cubicBezTo>
                    <a:pt x="2456" y="447"/>
                    <a:pt x="2472" y="444"/>
                    <a:pt x="2472" y="444"/>
                  </a:cubicBezTo>
                  <a:cubicBezTo>
                    <a:pt x="2427" y="466"/>
                    <a:pt x="2452" y="455"/>
                    <a:pt x="2396" y="475"/>
                  </a:cubicBezTo>
                  <a:cubicBezTo>
                    <a:pt x="2355" y="490"/>
                    <a:pt x="2482" y="465"/>
                    <a:pt x="2525" y="459"/>
                  </a:cubicBezTo>
                  <a:cubicBezTo>
                    <a:pt x="2610" y="446"/>
                    <a:pt x="2691" y="416"/>
                    <a:pt x="2775" y="399"/>
                  </a:cubicBezTo>
                  <a:cubicBezTo>
                    <a:pt x="2883" y="377"/>
                    <a:pt x="2826" y="395"/>
                    <a:pt x="2881" y="376"/>
                  </a:cubicBezTo>
                  <a:cubicBezTo>
                    <a:pt x="2828" y="343"/>
                    <a:pt x="2781" y="304"/>
                    <a:pt x="2729" y="270"/>
                  </a:cubicBezTo>
                  <a:cubicBezTo>
                    <a:pt x="2718" y="263"/>
                    <a:pt x="2767" y="285"/>
                    <a:pt x="2767" y="285"/>
                  </a:cubicBezTo>
                  <a:cubicBezTo>
                    <a:pt x="2775" y="293"/>
                    <a:pt x="2790" y="297"/>
                    <a:pt x="2790" y="308"/>
                  </a:cubicBezTo>
                  <a:cubicBezTo>
                    <a:pt x="2790" y="316"/>
                    <a:pt x="2775" y="303"/>
                    <a:pt x="2767" y="300"/>
                  </a:cubicBezTo>
                  <a:cubicBezTo>
                    <a:pt x="2742" y="290"/>
                    <a:pt x="2716" y="280"/>
                    <a:pt x="2691" y="270"/>
                  </a:cubicBezTo>
                  <a:cubicBezTo>
                    <a:pt x="2665" y="260"/>
                    <a:pt x="2629" y="254"/>
                    <a:pt x="2601" y="247"/>
                  </a:cubicBezTo>
                  <a:cubicBezTo>
                    <a:pt x="2563" y="211"/>
                    <a:pt x="2552" y="228"/>
                    <a:pt x="2494" y="240"/>
                  </a:cubicBezTo>
                  <a:cubicBezTo>
                    <a:pt x="2426" y="254"/>
                    <a:pt x="2362" y="270"/>
                    <a:pt x="2297" y="293"/>
                  </a:cubicBezTo>
                  <a:cubicBezTo>
                    <a:pt x="2267" y="304"/>
                    <a:pt x="2236" y="313"/>
                    <a:pt x="2206" y="323"/>
                  </a:cubicBezTo>
                  <a:cubicBezTo>
                    <a:pt x="2199" y="325"/>
                    <a:pt x="2191" y="329"/>
                    <a:pt x="2184" y="331"/>
                  </a:cubicBezTo>
                  <a:cubicBezTo>
                    <a:pt x="2176" y="334"/>
                    <a:pt x="2154" y="342"/>
                    <a:pt x="2161" y="338"/>
                  </a:cubicBezTo>
                  <a:cubicBezTo>
                    <a:pt x="2191" y="322"/>
                    <a:pt x="2210" y="320"/>
                    <a:pt x="2244" y="315"/>
                  </a:cubicBezTo>
                  <a:cubicBezTo>
                    <a:pt x="2365" y="296"/>
                    <a:pt x="2307" y="308"/>
                    <a:pt x="2373" y="293"/>
                  </a:cubicBezTo>
                  <a:cubicBezTo>
                    <a:pt x="2249" y="227"/>
                    <a:pt x="2097" y="276"/>
                    <a:pt x="1964" y="300"/>
                  </a:cubicBezTo>
                  <a:cubicBezTo>
                    <a:pt x="1896" y="334"/>
                    <a:pt x="1943" y="304"/>
                    <a:pt x="2040" y="323"/>
                  </a:cubicBezTo>
                  <a:cubicBezTo>
                    <a:pt x="2048" y="325"/>
                    <a:pt x="2025" y="329"/>
                    <a:pt x="2017" y="331"/>
                  </a:cubicBezTo>
                  <a:cubicBezTo>
                    <a:pt x="2002" y="334"/>
                    <a:pt x="1986" y="335"/>
                    <a:pt x="1971" y="338"/>
                  </a:cubicBezTo>
                  <a:cubicBezTo>
                    <a:pt x="1907" y="350"/>
                    <a:pt x="1847" y="356"/>
                    <a:pt x="1782" y="361"/>
                  </a:cubicBezTo>
                  <a:cubicBezTo>
                    <a:pt x="1769" y="363"/>
                    <a:pt x="1757" y="365"/>
                    <a:pt x="1744" y="368"/>
                  </a:cubicBezTo>
                  <a:cubicBezTo>
                    <a:pt x="1734" y="370"/>
                    <a:pt x="1704" y="376"/>
                    <a:pt x="1714" y="376"/>
                  </a:cubicBezTo>
                  <a:cubicBezTo>
                    <a:pt x="1761" y="376"/>
                    <a:pt x="1812" y="361"/>
                    <a:pt x="1858" y="353"/>
                  </a:cubicBezTo>
                  <a:cubicBezTo>
                    <a:pt x="1873" y="350"/>
                    <a:pt x="1888" y="348"/>
                    <a:pt x="1903" y="346"/>
                  </a:cubicBezTo>
                  <a:cubicBezTo>
                    <a:pt x="1918" y="343"/>
                    <a:pt x="1965" y="338"/>
                    <a:pt x="1949" y="338"/>
                  </a:cubicBezTo>
                  <a:cubicBezTo>
                    <a:pt x="1823" y="338"/>
                    <a:pt x="1696" y="343"/>
                    <a:pt x="1570" y="346"/>
                  </a:cubicBezTo>
                  <a:cubicBezTo>
                    <a:pt x="1542" y="341"/>
                    <a:pt x="1514" y="336"/>
                    <a:pt x="1486" y="331"/>
                  </a:cubicBezTo>
                  <a:cubicBezTo>
                    <a:pt x="1456" y="326"/>
                    <a:pt x="1607" y="338"/>
                    <a:pt x="1577" y="338"/>
                  </a:cubicBezTo>
                  <a:cubicBezTo>
                    <a:pt x="1408" y="338"/>
                    <a:pt x="1239" y="333"/>
                    <a:pt x="1070" y="331"/>
                  </a:cubicBezTo>
                  <a:cubicBezTo>
                    <a:pt x="1004" y="308"/>
                    <a:pt x="1123" y="295"/>
                    <a:pt x="1130" y="293"/>
                  </a:cubicBezTo>
                  <a:cubicBezTo>
                    <a:pt x="1071" y="273"/>
                    <a:pt x="1144" y="300"/>
                    <a:pt x="1085" y="270"/>
                  </a:cubicBezTo>
                  <a:cubicBezTo>
                    <a:pt x="1063" y="259"/>
                    <a:pt x="1014" y="255"/>
                    <a:pt x="1115" y="270"/>
                  </a:cubicBezTo>
                  <a:cubicBezTo>
                    <a:pt x="1123" y="272"/>
                    <a:pt x="1146" y="277"/>
                    <a:pt x="1138" y="277"/>
                  </a:cubicBezTo>
                  <a:cubicBezTo>
                    <a:pt x="1095" y="277"/>
                    <a:pt x="1058" y="255"/>
                    <a:pt x="1017" y="247"/>
                  </a:cubicBezTo>
                  <a:cubicBezTo>
                    <a:pt x="961" y="236"/>
                    <a:pt x="906" y="227"/>
                    <a:pt x="850" y="217"/>
                  </a:cubicBezTo>
                  <a:cubicBezTo>
                    <a:pt x="842" y="212"/>
                    <a:pt x="827" y="211"/>
                    <a:pt x="827" y="202"/>
                  </a:cubicBezTo>
                  <a:cubicBezTo>
                    <a:pt x="827" y="194"/>
                    <a:pt x="842" y="194"/>
                    <a:pt x="850" y="194"/>
                  </a:cubicBezTo>
                  <a:cubicBezTo>
                    <a:pt x="878" y="194"/>
                    <a:pt x="905" y="199"/>
                    <a:pt x="933" y="202"/>
                  </a:cubicBezTo>
                  <a:cubicBezTo>
                    <a:pt x="947" y="205"/>
                    <a:pt x="972" y="210"/>
                    <a:pt x="986" y="217"/>
                  </a:cubicBezTo>
                  <a:cubicBezTo>
                    <a:pt x="994" y="221"/>
                    <a:pt x="1018" y="231"/>
                    <a:pt x="1009" y="232"/>
                  </a:cubicBezTo>
                  <a:cubicBezTo>
                    <a:pt x="981" y="235"/>
                    <a:pt x="954" y="227"/>
                    <a:pt x="926" y="224"/>
                  </a:cubicBezTo>
                  <a:cubicBezTo>
                    <a:pt x="834" y="194"/>
                    <a:pt x="740" y="161"/>
                    <a:pt x="645" y="141"/>
                  </a:cubicBezTo>
                  <a:cubicBezTo>
                    <a:pt x="582" y="110"/>
                    <a:pt x="620" y="133"/>
                    <a:pt x="706" y="133"/>
                  </a:cubicBezTo>
                  <a:cubicBezTo>
                    <a:pt x="717" y="133"/>
                    <a:pt x="685" y="129"/>
                    <a:pt x="675" y="126"/>
                  </a:cubicBezTo>
                  <a:cubicBezTo>
                    <a:pt x="629" y="112"/>
                    <a:pt x="584" y="97"/>
                    <a:pt x="539" y="80"/>
                  </a:cubicBezTo>
                  <a:cubicBezTo>
                    <a:pt x="532" y="77"/>
                    <a:pt x="524" y="75"/>
                    <a:pt x="516" y="73"/>
                  </a:cubicBezTo>
                  <a:cubicBezTo>
                    <a:pt x="506" y="70"/>
                    <a:pt x="476" y="65"/>
                    <a:pt x="486" y="65"/>
                  </a:cubicBezTo>
                  <a:cubicBezTo>
                    <a:pt x="508" y="65"/>
                    <a:pt x="545" y="74"/>
                    <a:pt x="569" y="80"/>
                  </a:cubicBezTo>
                  <a:cubicBezTo>
                    <a:pt x="574" y="85"/>
                    <a:pt x="592" y="94"/>
                    <a:pt x="585" y="96"/>
                  </a:cubicBezTo>
                  <a:cubicBezTo>
                    <a:pt x="570" y="100"/>
                    <a:pt x="554" y="92"/>
                    <a:pt x="539" y="88"/>
                  </a:cubicBezTo>
                  <a:cubicBezTo>
                    <a:pt x="486" y="75"/>
                    <a:pt x="432" y="60"/>
                    <a:pt x="380" y="43"/>
                  </a:cubicBezTo>
                  <a:cubicBezTo>
                    <a:pt x="365" y="38"/>
                    <a:pt x="349" y="32"/>
                    <a:pt x="334" y="27"/>
                  </a:cubicBezTo>
                  <a:cubicBezTo>
                    <a:pt x="327" y="25"/>
                    <a:pt x="312" y="20"/>
                    <a:pt x="312" y="20"/>
                  </a:cubicBezTo>
                  <a:cubicBezTo>
                    <a:pt x="281" y="0"/>
                    <a:pt x="294" y="1"/>
                    <a:pt x="251" y="12"/>
                  </a:cubicBezTo>
                  <a:cubicBezTo>
                    <a:pt x="236" y="16"/>
                    <a:pt x="206" y="27"/>
                    <a:pt x="206" y="27"/>
                  </a:cubicBezTo>
                  <a:cubicBezTo>
                    <a:pt x="185" y="48"/>
                    <a:pt x="165" y="57"/>
                    <a:pt x="137" y="65"/>
                  </a:cubicBezTo>
                  <a:cubicBezTo>
                    <a:pt x="100" y="90"/>
                    <a:pt x="61" y="90"/>
                    <a:pt x="16" y="96"/>
                  </a:cubicBezTo>
                  <a:cubicBezTo>
                    <a:pt x="30" y="91"/>
                    <a:pt x="55" y="82"/>
                    <a:pt x="69" y="80"/>
                  </a:cubicBezTo>
                  <a:cubicBezTo>
                    <a:pt x="97" y="76"/>
                    <a:pt x="125" y="76"/>
                    <a:pt x="153" y="73"/>
                  </a:cubicBezTo>
                  <a:cubicBezTo>
                    <a:pt x="171" y="71"/>
                    <a:pt x="224" y="65"/>
                    <a:pt x="206" y="65"/>
                  </a:cubicBezTo>
                  <a:cubicBezTo>
                    <a:pt x="140" y="65"/>
                    <a:pt x="75" y="70"/>
                    <a:pt x="9" y="73"/>
                  </a:cubicBezTo>
                  <a:cubicBezTo>
                    <a:pt x="37" y="75"/>
                    <a:pt x="65" y="72"/>
                    <a:pt x="92" y="80"/>
                  </a:cubicBezTo>
                  <a:cubicBezTo>
                    <a:pt x="102" y="83"/>
                    <a:pt x="62" y="78"/>
                    <a:pt x="62" y="88"/>
                  </a:cubicBezTo>
                  <a:cubicBezTo>
                    <a:pt x="62" y="98"/>
                    <a:pt x="82" y="93"/>
                    <a:pt x="92" y="96"/>
                  </a:cubicBezTo>
                  <a:cubicBezTo>
                    <a:pt x="131" y="153"/>
                    <a:pt x="74" y="120"/>
                    <a:pt x="54" y="111"/>
                  </a:cubicBezTo>
                  <a:cubicBezTo>
                    <a:pt x="47" y="108"/>
                    <a:pt x="38" y="107"/>
                    <a:pt x="31" y="103"/>
                  </a:cubicBezTo>
                  <a:cubicBezTo>
                    <a:pt x="23" y="99"/>
                    <a:pt x="0" y="88"/>
                    <a:pt x="9" y="88"/>
                  </a:cubicBezTo>
                  <a:cubicBezTo>
                    <a:pt x="22" y="88"/>
                    <a:pt x="33" y="99"/>
                    <a:pt x="46" y="103"/>
                  </a:cubicBezTo>
                  <a:cubicBezTo>
                    <a:pt x="47" y="103"/>
                    <a:pt x="118" y="115"/>
                    <a:pt x="137" y="126"/>
                  </a:cubicBezTo>
                  <a:cubicBezTo>
                    <a:pt x="153" y="135"/>
                    <a:pt x="201" y="161"/>
                    <a:pt x="183" y="156"/>
                  </a:cubicBezTo>
                  <a:cubicBezTo>
                    <a:pt x="172" y="153"/>
                    <a:pt x="147" y="145"/>
                    <a:pt x="137" y="141"/>
                  </a:cubicBezTo>
                  <a:cubicBezTo>
                    <a:pt x="127" y="137"/>
                    <a:pt x="96" y="126"/>
                    <a:pt x="107" y="126"/>
                  </a:cubicBezTo>
                  <a:cubicBezTo>
                    <a:pt x="153" y="126"/>
                    <a:pt x="198" y="136"/>
                    <a:pt x="243" y="141"/>
                  </a:cubicBezTo>
                  <a:cubicBezTo>
                    <a:pt x="276" y="157"/>
                    <a:pt x="307" y="170"/>
                    <a:pt x="342" y="179"/>
                  </a:cubicBezTo>
                  <a:cubicBezTo>
                    <a:pt x="393" y="213"/>
                    <a:pt x="404" y="203"/>
                    <a:pt x="365" y="217"/>
                  </a:cubicBezTo>
                  <a:cubicBezTo>
                    <a:pt x="355" y="214"/>
                    <a:pt x="323" y="209"/>
                    <a:pt x="334" y="209"/>
                  </a:cubicBezTo>
                  <a:cubicBezTo>
                    <a:pt x="357" y="209"/>
                    <a:pt x="380" y="212"/>
                    <a:pt x="403" y="217"/>
                  </a:cubicBezTo>
                  <a:cubicBezTo>
                    <a:pt x="425" y="222"/>
                    <a:pt x="490" y="256"/>
                    <a:pt x="501" y="262"/>
                  </a:cubicBezTo>
                  <a:cubicBezTo>
                    <a:pt x="516" y="270"/>
                    <a:pt x="533" y="275"/>
                    <a:pt x="547" y="285"/>
                  </a:cubicBezTo>
                  <a:cubicBezTo>
                    <a:pt x="562" y="295"/>
                    <a:pt x="609" y="320"/>
                    <a:pt x="592" y="315"/>
                  </a:cubicBezTo>
                  <a:cubicBezTo>
                    <a:pt x="580" y="311"/>
                    <a:pt x="536" y="299"/>
                    <a:pt x="531" y="293"/>
                  </a:cubicBezTo>
                  <a:cubicBezTo>
                    <a:pt x="524" y="285"/>
                    <a:pt x="552" y="297"/>
                    <a:pt x="562" y="300"/>
                  </a:cubicBezTo>
                  <a:cubicBezTo>
                    <a:pt x="570" y="302"/>
                    <a:pt x="577" y="305"/>
                    <a:pt x="585" y="308"/>
                  </a:cubicBezTo>
                  <a:cubicBezTo>
                    <a:pt x="592" y="316"/>
                    <a:pt x="617" y="328"/>
                    <a:pt x="607" y="331"/>
                  </a:cubicBezTo>
                  <a:cubicBezTo>
                    <a:pt x="584" y="337"/>
                    <a:pt x="455" y="308"/>
                    <a:pt x="585" y="331"/>
                  </a:cubicBezTo>
                  <a:cubicBezTo>
                    <a:pt x="595" y="333"/>
                    <a:pt x="605" y="336"/>
                    <a:pt x="615" y="338"/>
                  </a:cubicBezTo>
                  <a:cubicBezTo>
                    <a:pt x="668" y="365"/>
                    <a:pt x="721" y="388"/>
                    <a:pt x="774" y="414"/>
                  </a:cubicBezTo>
                  <a:cubicBezTo>
                    <a:pt x="786" y="420"/>
                    <a:pt x="675" y="390"/>
                    <a:pt x="766" y="414"/>
                  </a:cubicBezTo>
                  <a:cubicBezTo>
                    <a:pt x="787" y="428"/>
                    <a:pt x="865" y="453"/>
                    <a:pt x="782" y="437"/>
                  </a:cubicBezTo>
                  <a:cubicBezTo>
                    <a:pt x="769" y="429"/>
                    <a:pt x="757" y="421"/>
                    <a:pt x="744" y="414"/>
                  </a:cubicBezTo>
                  <a:cubicBezTo>
                    <a:pt x="717" y="400"/>
                    <a:pt x="700" y="410"/>
                    <a:pt x="759" y="399"/>
                  </a:cubicBezTo>
                  <a:cubicBezTo>
                    <a:pt x="783" y="405"/>
                    <a:pt x="813" y="410"/>
                    <a:pt x="835" y="421"/>
                  </a:cubicBezTo>
                  <a:cubicBezTo>
                    <a:pt x="848" y="428"/>
                    <a:pt x="887" y="449"/>
                    <a:pt x="873" y="444"/>
                  </a:cubicBezTo>
                  <a:cubicBezTo>
                    <a:pt x="860" y="439"/>
                    <a:pt x="848" y="434"/>
                    <a:pt x="835" y="429"/>
                  </a:cubicBezTo>
                  <a:cubicBezTo>
                    <a:pt x="827" y="426"/>
                    <a:pt x="804" y="420"/>
                    <a:pt x="812" y="421"/>
                  </a:cubicBezTo>
                  <a:cubicBezTo>
                    <a:pt x="863" y="430"/>
                    <a:pt x="880" y="437"/>
                    <a:pt x="926" y="452"/>
                  </a:cubicBezTo>
                  <a:cubicBezTo>
                    <a:pt x="933" y="457"/>
                    <a:pt x="940" y="463"/>
                    <a:pt x="948" y="467"/>
                  </a:cubicBezTo>
                  <a:cubicBezTo>
                    <a:pt x="970" y="478"/>
                    <a:pt x="1049" y="506"/>
                    <a:pt x="963" y="490"/>
                  </a:cubicBezTo>
                  <a:cubicBezTo>
                    <a:pt x="989" y="500"/>
                    <a:pt x="1022" y="507"/>
                    <a:pt x="1047" y="520"/>
                  </a:cubicBezTo>
                  <a:cubicBezTo>
                    <a:pt x="1055" y="524"/>
                    <a:pt x="1079" y="535"/>
                    <a:pt x="1070" y="535"/>
                  </a:cubicBezTo>
                  <a:cubicBezTo>
                    <a:pt x="1059" y="535"/>
                    <a:pt x="1049" y="525"/>
                    <a:pt x="1039" y="520"/>
                  </a:cubicBezTo>
                  <a:cubicBezTo>
                    <a:pt x="1047" y="517"/>
                    <a:pt x="1054" y="512"/>
                    <a:pt x="1062" y="512"/>
                  </a:cubicBezTo>
                  <a:cubicBezTo>
                    <a:pt x="1070" y="512"/>
                    <a:pt x="1077" y="522"/>
                    <a:pt x="1085" y="520"/>
                  </a:cubicBezTo>
                  <a:cubicBezTo>
                    <a:pt x="1102" y="514"/>
                    <a:pt x="1113" y="496"/>
                    <a:pt x="1130" y="490"/>
                  </a:cubicBezTo>
                  <a:cubicBezTo>
                    <a:pt x="1153" y="482"/>
                    <a:pt x="1175" y="475"/>
                    <a:pt x="1198" y="467"/>
                  </a:cubicBezTo>
                  <a:cubicBezTo>
                    <a:pt x="1206" y="436"/>
                    <a:pt x="1222" y="421"/>
                    <a:pt x="1244" y="399"/>
                  </a:cubicBezTo>
                  <a:cubicBezTo>
                    <a:pt x="1253" y="390"/>
                    <a:pt x="1264" y="383"/>
                    <a:pt x="1274" y="376"/>
                  </a:cubicBezTo>
                  <a:cubicBezTo>
                    <a:pt x="1281" y="371"/>
                    <a:pt x="1297" y="370"/>
                    <a:pt x="1297" y="361"/>
                  </a:cubicBezTo>
                  <a:cubicBezTo>
                    <a:pt x="1297" y="353"/>
                    <a:pt x="1282" y="366"/>
                    <a:pt x="1274" y="368"/>
                  </a:cubicBezTo>
                  <a:cubicBezTo>
                    <a:pt x="1266" y="373"/>
                    <a:pt x="1258" y="377"/>
                    <a:pt x="1251" y="384"/>
                  </a:cubicBezTo>
                  <a:cubicBezTo>
                    <a:pt x="1245" y="390"/>
                    <a:pt x="1229" y="400"/>
                    <a:pt x="1236" y="406"/>
                  </a:cubicBezTo>
                  <a:cubicBezTo>
                    <a:pt x="1243" y="412"/>
                    <a:pt x="1251" y="396"/>
                    <a:pt x="1259" y="391"/>
                  </a:cubicBezTo>
                  <a:cubicBezTo>
                    <a:pt x="1269" y="385"/>
                    <a:pt x="1279" y="382"/>
                    <a:pt x="1289" y="376"/>
                  </a:cubicBezTo>
                  <a:cubicBezTo>
                    <a:pt x="1297" y="371"/>
                    <a:pt x="1321" y="361"/>
                    <a:pt x="1312" y="361"/>
                  </a:cubicBezTo>
                  <a:cubicBezTo>
                    <a:pt x="1301" y="361"/>
                    <a:pt x="1291" y="369"/>
                    <a:pt x="1282" y="376"/>
                  </a:cubicBezTo>
                  <a:cubicBezTo>
                    <a:pt x="1270" y="385"/>
                    <a:pt x="1239" y="414"/>
                    <a:pt x="1251" y="406"/>
                  </a:cubicBezTo>
                  <a:cubicBezTo>
                    <a:pt x="1277" y="389"/>
                    <a:pt x="1298" y="370"/>
                    <a:pt x="1327" y="361"/>
                  </a:cubicBezTo>
                  <a:cubicBezTo>
                    <a:pt x="1287" y="319"/>
                    <a:pt x="1265" y="315"/>
                    <a:pt x="1206" y="3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46"/>
            <p:cNvSpPr/>
            <p:nvPr/>
          </p:nvSpPr>
          <p:spPr>
            <a:xfrm>
              <a:off x="5005440" y="5956200"/>
              <a:ext cx="3306600" cy="1298520"/>
            </a:xfrm>
            <a:custGeom>
              <a:avLst/>
              <a:gdLst/>
              <a:ahLst/>
              <a:rect l="l" t="t" r="r" b="b"/>
              <a:pathLst>
                <a:path w="2083" h="818">
                  <a:moveTo>
                    <a:pt x="0" y="0"/>
                  </a:moveTo>
                  <a:cubicBezTo>
                    <a:pt x="11" y="35"/>
                    <a:pt x="19" y="71"/>
                    <a:pt x="30" y="106"/>
                  </a:cubicBezTo>
                  <a:cubicBezTo>
                    <a:pt x="33" y="131"/>
                    <a:pt x="43" y="156"/>
                    <a:pt x="38" y="181"/>
                  </a:cubicBezTo>
                  <a:cubicBezTo>
                    <a:pt x="37" y="185"/>
                    <a:pt x="17" y="127"/>
                    <a:pt x="15" y="121"/>
                  </a:cubicBezTo>
                  <a:cubicBezTo>
                    <a:pt x="12" y="111"/>
                    <a:pt x="7" y="81"/>
                    <a:pt x="7" y="91"/>
                  </a:cubicBezTo>
                  <a:cubicBezTo>
                    <a:pt x="7" y="106"/>
                    <a:pt x="12" y="121"/>
                    <a:pt x="15" y="136"/>
                  </a:cubicBezTo>
                  <a:cubicBezTo>
                    <a:pt x="17" y="146"/>
                    <a:pt x="20" y="156"/>
                    <a:pt x="23" y="166"/>
                  </a:cubicBezTo>
                  <a:cubicBezTo>
                    <a:pt x="25" y="191"/>
                    <a:pt x="8" y="230"/>
                    <a:pt x="30" y="242"/>
                  </a:cubicBezTo>
                  <a:cubicBezTo>
                    <a:pt x="50" y="253"/>
                    <a:pt x="32" y="152"/>
                    <a:pt x="38" y="174"/>
                  </a:cubicBezTo>
                  <a:cubicBezTo>
                    <a:pt x="58" y="243"/>
                    <a:pt x="46" y="343"/>
                    <a:pt x="68" y="424"/>
                  </a:cubicBezTo>
                  <a:cubicBezTo>
                    <a:pt x="65" y="396"/>
                    <a:pt x="63" y="369"/>
                    <a:pt x="60" y="341"/>
                  </a:cubicBezTo>
                  <a:cubicBezTo>
                    <a:pt x="58" y="326"/>
                    <a:pt x="53" y="279"/>
                    <a:pt x="53" y="295"/>
                  </a:cubicBezTo>
                  <a:cubicBezTo>
                    <a:pt x="53" y="385"/>
                    <a:pt x="55" y="384"/>
                    <a:pt x="68" y="447"/>
                  </a:cubicBezTo>
                  <a:cubicBezTo>
                    <a:pt x="86" y="763"/>
                    <a:pt x="87" y="800"/>
                    <a:pt x="76" y="560"/>
                  </a:cubicBezTo>
                  <a:cubicBezTo>
                    <a:pt x="92" y="376"/>
                    <a:pt x="94" y="548"/>
                    <a:pt x="83" y="598"/>
                  </a:cubicBezTo>
                  <a:cubicBezTo>
                    <a:pt x="65" y="545"/>
                    <a:pt x="73" y="538"/>
                    <a:pt x="60" y="576"/>
                  </a:cubicBezTo>
                  <a:cubicBezTo>
                    <a:pt x="72" y="608"/>
                    <a:pt x="79" y="634"/>
                    <a:pt x="68" y="667"/>
                  </a:cubicBezTo>
                  <a:cubicBezTo>
                    <a:pt x="71" y="677"/>
                    <a:pt x="66" y="697"/>
                    <a:pt x="76" y="697"/>
                  </a:cubicBezTo>
                  <a:cubicBezTo>
                    <a:pt x="86" y="697"/>
                    <a:pt x="77" y="658"/>
                    <a:pt x="83" y="667"/>
                  </a:cubicBezTo>
                  <a:cubicBezTo>
                    <a:pt x="100" y="692"/>
                    <a:pt x="81" y="732"/>
                    <a:pt x="98" y="757"/>
                  </a:cubicBezTo>
                  <a:cubicBezTo>
                    <a:pt x="103" y="764"/>
                    <a:pt x="113" y="764"/>
                    <a:pt x="121" y="765"/>
                  </a:cubicBezTo>
                  <a:cubicBezTo>
                    <a:pt x="142" y="768"/>
                    <a:pt x="297" y="778"/>
                    <a:pt x="318" y="780"/>
                  </a:cubicBezTo>
                  <a:cubicBezTo>
                    <a:pt x="344" y="787"/>
                    <a:pt x="367" y="798"/>
                    <a:pt x="394" y="780"/>
                  </a:cubicBezTo>
                  <a:cubicBezTo>
                    <a:pt x="401" y="776"/>
                    <a:pt x="379" y="776"/>
                    <a:pt x="371" y="773"/>
                  </a:cubicBezTo>
                  <a:cubicBezTo>
                    <a:pt x="223" y="723"/>
                    <a:pt x="360" y="758"/>
                    <a:pt x="629" y="765"/>
                  </a:cubicBezTo>
                  <a:cubicBezTo>
                    <a:pt x="583" y="762"/>
                    <a:pt x="538" y="761"/>
                    <a:pt x="492" y="757"/>
                  </a:cubicBezTo>
                  <a:cubicBezTo>
                    <a:pt x="479" y="756"/>
                    <a:pt x="442" y="749"/>
                    <a:pt x="455" y="750"/>
                  </a:cubicBezTo>
                  <a:cubicBezTo>
                    <a:pt x="533" y="753"/>
                    <a:pt x="612" y="760"/>
                    <a:pt x="690" y="765"/>
                  </a:cubicBezTo>
                  <a:cubicBezTo>
                    <a:pt x="745" y="781"/>
                    <a:pt x="847" y="818"/>
                    <a:pt x="902" y="818"/>
                  </a:cubicBezTo>
                  <a:cubicBezTo>
                    <a:pt x="913" y="818"/>
                    <a:pt x="881" y="813"/>
                    <a:pt x="871" y="811"/>
                  </a:cubicBezTo>
                  <a:cubicBezTo>
                    <a:pt x="874" y="803"/>
                    <a:pt x="871" y="790"/>
                    <a:pt x="879" y="788"/>
                  </a:cubicBezTo>
                  <a:cubicBezTo>
                    <a:pt x="926" y="778"/>
                    <a:pt x="991" y="816"/>
                    <a:pt x="1023" y="780"/>
                  </a:cubicBezTo>
                  <a:cubicBezTo>
                    <a:pt x="1060" y="738"/>
                    <a:pt x="1028" y="669"/>
                    <a:pt x="1031" y="613"/>
                  </a:cubicBezTo>
                  <a:cubicBezTo>
                    <a:pt x="1047" y="638"/>
                    <a:pt x="1051" y="661"/>
                    <a:pt x="1061" y="689"/>
                  </a:cubicBezTo>
                  <a:cubicBezTo>
                    <a:pt x="1066" y="640"/>
                    <a:pt x="1074" y="607"/>
                    <a:pt x="1084" y="560"/>
                  </a:cubicBezTo>
                  <a:cubicBezTo>
                    <a:pt x="1075" y="511"/>
                    <a:pt x="1068" y="447"/>
                    <a:pt x="1068" y="606"/>
                  </a:cubicBezTo>
                  <a:cubicBezTo>
                    <a:pt x="1068" y="619"/>
                    <a:pt x="1073" y="581"/>
                    <a:pt x="1076" y="568"/>
                  </a:cubicBezTo>
                  <a:cubicBezTo>
                    <a:pt x="1083" y="541"/>
                    <a:pt x="1090" y="534"/>
                    <a:pt x="1106" y="507"/>
                  </a:cubicBezTo>
                  <a:cubicBezTo>
                    <a:pt x="1104" y="487"/>
                    <a:pt x="1099" y="427"/>
                    <a:pt x="1099" y="447"/>
                  </a:cubicBezTo>
                  <a:cubicBezTo>
                    <a:pt x="1099" y="548"/>
                    <a:pt x="1088" y="651"/>
                    <a:pt x="1106" y="750"/>
                  </a:cubicBezTo>
                  <a:cubicBezTo>
                    <a:pt x="1109" y="765"/>
                    <a:pt x="1136" y="742"/>
                    <a:pt x="1152" y="742"/>
                  </a:cubicBezTo>
                  <a:cubicBezTo>
                    <a:pt x="1377" y="737"/>
                    <a:pt x="1601" y="737"/>
                    <a:pt x="1826" y="735"/>
                  </a:cubicBezTo>
                  <a:cubicBezTo>
                    <a:pt x="1821" y="677"/>
                    <a:pt x="1810" y="637"/>
                    <a:pt x="1796" y="583"/>
                  </a:cubicBezTo>
                  <a:cubicBezTo>
                    <a:pt x="1791" y="593"/>
                    <a:pt x="1782" y="602"/>
                    <a:pt x="1781" y="613"/>
                  </a:cubicBezTo>
                  <a:cubicBezTo>
                    <a:pt x="1779" y="643"/>
                    <a:pt x="1766" y="726"/>
                    <a:pt x="1788" y="704"/>
                  </a:cubicBezTo>
                  <a:cubicBezTo>
                    <a:pt x="1813" y="679"/>
                    <a:pt x="1793" y="633"/>
                    <a:pt x="1796" y="598"/>
                  </a:cubicBezTo>
                  <a:cubicBezTo>
                    <a:pt x="1799" y="623"/>
                    <a:pt x="1790" y="653"/>
                    <a:pt x="1804" y="674"/>
                  </a:cubicBezTo>
                  <a:cubicBezTo>
                    <a:pt x="1814" y="689"/>
                    <a:pt x="1807" y="638"/>
                    <a:pt x="1811" y="621"/>
                  </a:cubicBezTo>
                  <a:cubicBezTo>
                    <a:pt x="1814" y="606"/>
                    <a:pt x="1826" y="576"/>
                    <a:pt x="1826" y="576"/>
                  </a:cubicBezTo>
                  <a:cubicBezTo>
                    <a:pt x="1824" y="566"/>
                    <a:pt x="1830" y="545"/>
                    <a:pt x="1819" y="545"/>
                  </a:cubicBezTo>
                  <a:cubicBezTo>
                    <a:pt x="1808" y="545"/>
                    <a:pt x="1811" y="565"/>
                    <a:pt x="1811" y="576"/>
                  </a:cubicBezTo>
                  <a:cubicBezTo>
                    <a:pt x="1811" y="596"/>
                    <a:pt x="1815" y="616"/>
                    <a:pt x="1819" y="636"/>
                  </a:cubicBezTo>
                  <a:cubicBezTo>
                    <a:pt x="1835" y="724"/>
                    <a:pt x="1814" y="701"/>
                    <a:pt x="1895" y="712"/>
                  </a:cubicBezTo>
                  <a:cubicBezTo>
                    <a:pt x="1933" y="726"/>
                    <a:pt x="1971" y="731"/>
                    <a:pt x="2008" y="750"/>
                  </a:cubicBezTo>
                  <a:cubicBezTo>
                    <a:pt x="2052" y="773"/>
                    <a:pt x="2083" y="777"/>
                    <a:pt x="2016" y="757"/>
                  </a:cubicBezTo>
                  <a:cubicBezTo>
                    <a:pt x="2004" y="753"/>
                    <a:pt x="1991" y="753"/>
                    <a:pt x="1978" y="750"/>
                  </a:cubicBezTo>
                  <a:cubicBezTo>
                    <a:pt x="1962" y="746"/>
                    <a:pt x="1947" y="740"/>
                    <a:pt x="1932" y="735"/>
                  </a:cubicBezTo>
                  <a:cubicBezTo>
                    <a:pt x="1937" y="740"/>
                    <a:pt x="1948" y="750"/>
                    <a:pt x="1948" y="7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747"/>
            <p:cNvSpPr/>
            <p:nvPr/>
          </p:nvSpPr>
          <p:spPr>
            <a:xfrm>
              <a:off x="7810560" y="6713640"/>
              <a:ext cx="190440" cy="372960"/>
            </a:xfrm>
            <a:custGeom>
              <a:avLst/>
              <a:gdLst/>
              <a:ahLst/>
              <a:rect l="l" t="t" r="r" b="b"/>
              <a:pathLst>
                <a:path w="120" h="235">
                  <a:moveTo>
                    <a:pt x="44" y="0"/>
                  </a:moveTo>
                  <a:cubicBezTo>
                    <a:pt x="35" y="30"/>
                    <a:pt x="27" y="60"/>
                    <a:pt x="21" y="91"/>
                  </a:cubicBezTo>
                  <a:cubicBezTo>
                    <a:pt x="18" y="106"/>
                    <a:pt x="0" y="129"/>
                    <a:pt x="14" y="136"/>
                  </a:cubicBezTo>
                  <a:cubicBezTo>
                    <a:pt x="27" y="142"/>
                    <a:pt x="29" y="111"/>
                    <a:pt x="37" y="99"/>
                  </a:cubicBezTo>
                  <a:cubicBezTo>
                    <a:pt x="45" y="72"/>
                    <a:pt x="59" y="43"/>
                    <a:pt x="59" y="15"/>
                  </a:cubicBezTo>
                  <a:cubicBezTo>
                    <a:pt x="59" y="7"/>
                    <a:pt x="54" y="30"/>
                    <a:pt x="52" y="38"/>
                  </a:cubicBezTo>
                  <a:cubicBezTo>
                    <a:pt x="46" y="58"/>
                    <a:pt x="43" y="79"/>
                    <a:pt x="37" y="99"/>
                  </a:cubicBezTo>
                  <a:cubicBezTo>
                    <a:pt x="35" y="107"/>
                    <a:pt x="31" y="129"/>
                    <a:pt x="29" y="121"/>
                  </a:cubicBezTo>
                  <a:cubicBezTo>
                    <a:pt x="25" y="101"/>
                    <a:pt x="29" y="81"/>
                    <a:pt x="29" y="61"/>
                  </a:cubicBezTo>
                  <a:lnTo>
                    <a:pt x="120" y="235"/>
                  </a:lnTo>
                  <a:lnTo>
                    <a:pt x="24" y="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748"/>
            <p:cNvSpPr/>
            <p:nvPr/>
          </p:nvSpPr>
          <p:spPr>
            <a:xfrm>
              <a:off x="6689880" y="6662880"/>
              <a:ext cx="106200" cy="326880"/>
            </a:xfrm>
            <a:custGeom>
              <a:avLst/>
              <a:gdLst/>
              <a:ahLst/>
              <a:rect l="l" t="t" r="r" b="b"/>
              <a:pathLst>
                <a:path w="67" h="206">
                  <a:moveTo>
                    <a:pt x="23" y="206"/>
                  </a:moveTo>
                  <a:cubicBezTo>
                    <a:pt x="25" y="156"/>
                    <a:pt x="21" y="105"/>
                    <a:pt x="30" y="55"/>
                  </a:cubicBezTo>
                  <a:cubicBezTo>
                    <a:pt x="32" y="46"/>
                    <a:pt x="41" y="70"/>
                    <a:pt x="45" y="78"/>
                  </a:cubicBezTo>
                  <a:cubicBezTo>
                    <a:pt x="49" y="87"/>
                    <a:pt x="50" y="98"/>
                    <a:pt x="53" y="108"/>
                  </a:cubicBezTo>
                  <a:cubicBezTo>
                    <a:pt x="55" y="116"/>
                    <a:pt x="67" y="126"/>
                    <a:pt x="61" y="131"/>
                  </a:cubicBezTo>
                  <a:cubicBezTo>
                    <a:pt x="55" y="136"/>
                    <a:pt x="50" y="121"/>
                    <a:pt x="45" y="115"/>
                  </a:cubicBezTo>
                  <a:cubicBezTo>
                    <a:pt x="37" y="105"/>
                    <a:pt x="30" y="95"/>
                    <a:pt x="23" y="85"/>
                  </a:cubicBezTo>
                  <a:cubicBezTo>
                    <a:pt x="20" y="70"/>
                    <a:pt x="18" y="55"/>
                    <a:pt x="15" y="40"/>
                  </a:cubicBezTo>
                  <a:cubicBezTo>
                    <a:pt x="13" y="30"/>
                    <a:pt x="0" y="17"/>
                    <a:pt x="7" y="9"/>
                  </a:cubicBezTo>
                  <a:cubicBezTo>
                    <a:pt x="13" y="2"/>
                    <a:pt x="22" y="19"/>
                    <a:pt x="30" y="24"/>
                  </a:cubicBezTo>
                  <a:cubicBezTo>
                    <a:pt x="47" y="0"/>
                    <a:pt x="36" y="2"/>
                    <a:pt x="53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749"/>
            <p:cNvSpPr/>
            <p:nvPr/>
          </p:nvSpPr>
          <p:spPr>
            <a:xfrm>
              <a:off x="5029200" y="5991120"/>
              <a:ext cx="1636560" cy="974880"/>
            </a:xfrm>
            <a:custGeom>
              <a:avLst/>
              <a:gdLst/>
              <a:ahLst/>
              <a:rect l="l" t="t" r="r" b="b"/>
              <a:pathLst>
                <a:path w="1031" h="614">
                  <a:moveTo>
                    <a:pt x="106" y="607"/>
                  </a:moveTo>
                  <a:cubicBezTo>
                    <a:pt x="72" y="571"/>
                    <a:pt x="108" y="614"/>
                    <a:pt x="83" y="569"/>
                  </a:cubicBezTo>
                  <a:cubicBezTo>
                    <a:pt x="63" y="534"/>
                    <a:pt x="45" y="532"/>
                    <a:pt x="83" y="546"/>
                  </a:cubicBezTo>
                  <a:cubicBezTo>
                    <a:pt x="88" y="551"/>
                    <a:pt x="94" y="556"/>
                    <a:pt x="99" y="561"/>
                  </a:cubicBezTo>
                  <a:cubicBezTo>
                    <a:pt x="107" y="569"/>
                    <a:pt x="121" y="595"/>
                    <a:pt x="121" y="584"/>
                  </a:cubicBezTo>
                  <a:cubicBezTo>
                    <a:pt x="121" y="572"/>
                    <a:pt x="108" y="563"/>
                    <a:pt x="99" y="554"/>
                  </a:cubicBezTo>
                  <a:cubicBezTo>
                    <a:pt x="92" y="547"/>
                    <a:pt x="67" y="538"/>
                    <a:pt x="76" y="538"/>
                  </a:cubicBezTo>
                  <a:cubicBezTo>
                    <a:pt x="92" y="538"/>
                    <a:pt x="106" y="549"/>
                    <a:pt x="121" y="554"/>
                  </a:cubicBezTo>
                  <a:cubicBezTo>
                    <a:pt x="101" y="533"/>
                    <a:pt x="85" y="517"/>
                    <a:pt x="61" y="501"/>
                  </a:cubicBezTo>
                  <a:cubicBezTo>
                    <a:pt x="94" y="489"/>
                    <a:pt x="74" y="490"/>
                    <a:pt x="106" y="508"/>
                  </a:cubicBezTo>
                  <a:cubicBezTo>
                    <a:pt x="116" y="514"/>
                    <a:pt x="139" y="534"/>
                    <a:pt x="136" y="523"/>
                  </a:cubicBezTo>
                  <a:cubicBezTo>
                    <a:pt x="130" y="503"/>
                    <a:pt x="95" y="482"/>
                    <a:pt x="76" y="470"/>
                  </a:cubicBezTo>
                  <a:cubicBezTo>
                    <a:pt x="84" y="468"/>
                    <a:pt x="91" y="462"/>
                    <a:pt x="99" y="463"/>
                  </a:cubicBezTo>
                  <a:cubicBezTo>
                    <a:pt x="110" y="465"/>
                    <a:pt x="137" y="486"/>
                    <a:pt x="129" y="478"/>
                  </a:cubicBezTo>
                  <a:cubicBezTo>
                    <a:pt x="83" y="432"/>
                    <a:pt x="34" y="423"/>
                    <a:pt x="99" y="440"/>
                  </a:cubicBezTo>
                  <a:cubicBezTo>
                    <a:pt x="94" y="432"/>
                    <a:pt x="90" y="424"/>
                    <a:pt x="83" y="417"/>
                  </a:cubicBezTo>
                  <a:cubicBezTo>
                    <a:pt x="74" y="408"/>
                    <a:pt x="55" y="406"/>
                    <a:pt x="53" y="394"/>
                  </a:cubicBezTo>
                  <a:cubicBezTo>
                    <a:pt x="51" y="385"/>
                    <a:pt x="68" y="384"/>
                    <a:pt x="76" y="379"/>
                  </a:cubicBezTo>
                  <a:cubicBezTo>
                    <a:pt x="142" y="412"/>
                    <a:pt x="85" y="387"/>
                    <a:pt x="53" y="341"/>
                  </a:cubicBezTo>
                  <a:cubicBezTo>
                    <a:pt x="48" y="334"/>
                    <a:pt x="30" y="323"/>
                    <a:pt x="38" y="319"/>
                  </a:cubicBezTo>
                  <a:cubicBezTo>
                    <a:pt x="52" y="312"/>
                    <a:pt x="68" y="324"/>
                    <a:pt x="83" y="326"/>
                  </a:cubicBezTo>
                  <a:cubicBezTo>
                    <a:pt x="75" y="291"/>
                    <a:pt x="75" y="278"/>
                    <a:pt x="45" y="258"/>
                  </a:cubicBezTo>
                  <a:cubicBezTo>
                    <a:pt x="76" y="250"/>
                    <a:pt x="92" y="254"/>
                    <a:pt x="53" y="235"/>
                  </a:cubicBezTo>
                  <a:cubicBezTo>
                    <a:pt x="46" y="232"/>
                    <a:pt x="38" y="230"/>
                    <a:pt x="30" y="228"/>
                  </a:cubicBezTo>
                  <a:cubicBezTo>
                    <a:pt x="38" y="225"/>
                    <a:pt x="45" y="219"/>
                    <a:pt x="53" y="220"/>
                  </a:cubicBezTo>
                  <a:cubicBezTo>
                    <a:pt x="64" y="221"/>
                    <a:pt x="78" y="245"/>
                    <a:pt x="83" y="235"/>
                  </a:cubicBezTo>
                  <a:cubicBezTo>
                    <a:pt x="99" y="203"/>
                    <a:pt x="62" y="186"/>
                    <a:pt x="45" y="175"/>
                  </a:cubicBezTo>
                  <a:cubicBezTo>
                    <a:pt x="50" y="170"/>
                    <a:pt x="61" y="167"/>
                    <a:pt x="61" y="159"/>
                  </a:cubicBezTo>
                  <a:cubicBezTo>
                    <a:pt x="61" y="148"/>
                    <a:pt x="50" y="139"/>
                    <a:pt x="45" y="129"/>
                  </a:cubicBezTo>
                  <a:cubicBezTo>
                    <a:pt x="31" y="97"/>
                    <a:pt x="25" y="78"/>
                    <a:pt x="0" y="53"/>
                  </a:cubicBezTo>
                  <a:cubicBezTo>
                    <a:pt x="15" y="51"/>
                    <a:pt x="34" y="57"/>
                    <a:pt x="45" y="46"/>
                  </a:cubicBezTo>
                  <a:cubicBezTo>
                    <a:pt x="60" y="31"/>
                    <a:pt x="30" y="7"/>
                    <a:pt x="23" y="0"/>
                  </a:cubicBezTo>
                  <a:cubicBezTo>
                    <a:pt x="47" y="38"/>
                    <a:pt x="63" y="84"/>
                    <a:pt x="96" y="114"/>
                  </a:cubicBezTo>
                  <a:cubicBezTo>
                    <a:pt x="106" y="123"/>
                    <a:pt x="96" y="84"/>
                    <a:pt x="106" y="76"/>
                  </a:cubicBezTo>
                  <a:cubicBezTo>
                    <a:pt x="112" y="71"/>
                    <a:pt x="114" y="107"/>
                    <a:pt x="114" y="99"/>
                  </a:cubicBezTo>
                  <a:cubicBezTo>
                    <a:pt x="114" y="58"/>
                    <a:pt x="88" y="49"/>
                    <a:pt x="129" y="76"/>
                  </a:cubicBezTo>
                  <a:cubicBezTo>
                    <a:pt x="126" y="68"/>
                    <a:pt x="113" y="51"/>
                    <a:pt x="121" y="53"/>
                  </a:cubicBezTo>
                  <a:cubicBezTo>
                    <a:pt x="139" y="57"/>
                    <a:pt x="167" y="84"/>
                    <a:pt x="167" y="84"/>
                  </a:cubicBezTo>
                  <a:cubicBezTo>
                    <a:pt x="207" y="143"/>
                    <a:pt x="167" y="87"/>
                    <a:pt x="174" y="84"/>
                  </a:cubicBezTo>
                  <a:cubicBezTo>
                    <a:pt x="182" y="80"/>
                    <a:pt x="189" y="94"/>
                    <a:pt x="197" y="99"/>
                  </a:cubicBezTo>
                  <a:cubicBezTo>
                    <a:pt x="198" y="101"/>
                    <a:pt x="211" y="147"/>
                    <a:pt x="220" y="144"/>
                  </a:cubicBezTo>
                  <a:cubicBezTo>
                    <a:pt x="230" y="140"/>
                    <a:pt x="225" y="124"/>
                    <a:pt x="227" y="114"/>
                  </a:cubicBezTo>
                  <a:cubicBezTo>
                    <a:pt x="264" y="127"/>
                    <a:pt x="286" y="160"/>
                    <a:pt x="318" y="182"/>
                  </a:cubicBezTo>
                  <a:cubicBezTo>
                    <a:pt x="313" y="169"/>
                    <a:pt x="311" y="155"/>
                    <a:pt x="303" y="144"/>
                  </a:cubicBezTo>
                  <a:cubicBezTo>
                    <a:pt x="298" y="137"/>
                    <a:pt x="273" y="123"/>
                    <a:pt x="280" y="129"/>
                  </a:cubicBezTo>
                  <a:cubicBezTo>
                    <a:pt x="297" y="142"/>
                    <a:pt x="317" y="152"/>
                    <a:pt x="333" y="167"/>
                  </a:cubicBezTo>
                  <a:cubicBezTo>
                    <a:pt x="338" y="172"/>
                    <a:pt x="352" y="189"/>
                    <a:pt x="349" y="182"/>
                  </a:cubicBezTo>
                  <a:cubicBezTo>
                    <a:pt x="337" y="155"/>
                    <a:pt x="304" y="138"/>
                    <a:pt x="349" y="167"/>
                  </a:cubicBezTo>
                  <a:cubicBezTo>
                    <a:pt x="395" y="231"/>
                    <a:pt x="372" y="205"/>
                    <a:pt x="417" y="250"/>
                  </a:cubicBezTo>
                  <a:cubicBezTo>
                    <a:pt x="422" y="243"/>
                    <a:pt x="432" y="237"/>
                    <a:pt x="432" y="228"/>
                  </a:cubicBezTo>
                  <a:cubicBezTo>
                    <a:pt x="432" y="219"/>
                    <a:pt x="408" y="205"/>
                    <a:pt x="417" y="205"/>
                  </a:cubicBezTo>
                  <a:cubicBezTo>
                    <a:pt x="430" y="205"/>
                    <a:pt x="436" y="222"/>
                    <a:pt x="447" y="228"/>
                  </a:cubicBezTo>
                  <a:cubicBezTo>
                    <a:pt x="454" y="232"/>
                    <a:pt x="462" y="233"/>
                    <a:pt x="470" y="235"/>
                  </a:cubicBezTo>
                  <a:cubicBezTo>
                    <a:pt x="475" y="243"/>
                    <a:pt x="485" y="267"/>
                    <a:pt x="485" y="258"/>
                  </a:cubicBezTo>
                  <a:cubicBezTo>
                    <a:pt x="485" y="247"/>
                    <a:pt x="477" y="237"/>
                    <a:pt x="470" y="228"/>
                  </a:cubicBezTo>
                  <a:cubicBezTo>
                    <a:pt x="459" y="216"/>
                    <a:pt x="443" y="209"/>
                    <a:pt x="432" y="197"/>
                  </a:cubicBezTo>
                  <a:cubicBezTo>
                    <a:pt x="479" y="183"/>
                    <a:pt x="523" y="234"/>
                    <a:pt x="553" y="266"/>
                  </a:cubicBezTo>
                  <a:cubicBezTo>
                    <a:pt x="551" y="258"/>
                    <a:pt x="552" y="249"/>
                    <a:pt x="546" y="243"/>
                  </a:cubicBezTo>
                  <a:cubicBezTo>
                    <a:pt x="540" y="237"/>
                    <a:pt x="530" y="239"/>
                    <a:pt x="523" y="235"/>
                  </a:cubicBezTo>
                  <a:cubicBezTo>
                    <a:pt x="512" y="229"/>
                    <a:pt x="481" y="213"/>
                    <a:pt x="493" y="213"/>
                  </a:cubicBezTo>
                  <a:cubicBezTo>
                    <a:pt x="512" y="213"/>
                    <a:pt x="528" y="228"/>
                    <a:pt x="546" y="235"/>
                  </a:cubicBezTo>
                  <a:cubicBezTo>
                    <a:pt x="569" y="259"/>
                    <a:pt x="586" y="285"/>
                    <a:pt x="614" y="303"/>
                  </a:cubicBezTo>
                  <a:cubicBezTo>
                    <a:pt x="593" y="245"/>
                    <a:pt x="636" y="311"/>
                    <a:pt x="644" y="319"/>
                  </a:cubicBezTo>
                  <a:cubicBezTo>
                    <a:pt x="650" y="325"/>
                    <a:pt x="659" y="329"/>
                    <a:pt x="667" y="334"/>
                  </a:cubicBezTo>
                  <a:cubicBezTo>
                    <a:pt x="677" y="331"/>
                    <a:pt x="688" y="321"/>
                    <a:pt x="697" y="326"/>
                  </a:cubicBezTo>
                  <a:cubicBezTo>
                    <a:pt x="716" y="336"/>
                    <a:pt x="743" y="372"/>
                    <a:pt x="743" y="372"/>
                  </a:cubicBezTo>
                  <a:cubicBezTo>
                    <a:pt x="722" y="329"/>
                    <a:pt x="737" y="345"/>
                    <a:pt x="690" y="319"/>
                  </a:cubicBezTo>
                  <a:cubicBezTo>
                    <a:pt x="680" y="313"/>
                    <a:pt x="648" y="299"/>
                    <a:pt x="659" y="303"/>
                  </a:cubicBezTo>
                  <a:cubicBezTo>
                    <a:pt x="719" y="323"/>
                    <a:pt x="773" y="350"/>
                    <a:pt x="819" y="394"/>
                  </a:cubicBezTo>
                  <a:cubicBezTo>
                    <a:pt x="816" y="387"/>
                    <a:pt x="817" y="377"/>
                    <a:pt x="811" y="372"/>
                  </a:cubicBezTo>
                  <a:cubicBezTo>
                    <a:pt x="798" y="359"/>
                    <a:pt x="765" y="341"/>
                    <a:pt x="765" y="341"/>
                  </a:cubicBezTo>
                  <a:cubicBezTo>
                    <a:pt x="803" y="329"/>
                    <a:pt x="779" y="331"/>
                    <a:pt x="826" y="357"/>
                  </a:cubicBezTo>
                  <a:cubicBezTo>
                    <a:pt x="873" y="383"/>
                    <a:pt x="922" y="408"/>
                    <a:pt x="970" y="432"/>
                  </a:cubicBezTo>
                  <a:cubicBezTo>
                    <a:pt x="965" y="425"/>
                    <a:pt x="961" y="416"/>
                    <a:pt x="955" y="410"/>
                  </a:cubicBezTo>
                  <a:cubicBezTo>
                    <a:pt x="946" y="401"/>
                    <a:pt x="913" y="385"/>
                    <a:pt x="925" y="387"/>
                  </a:cubicBezTo>
                  <a:cubicBezTo>
                    <a:pt x="952" y="391"/>
                    <a:pt x="1000" y="417"/>
                    <a:pt x="1000" y="417"/>
                  </a:cubicBezTo>
                  <a:lnTo>
                    <a:pt x="1031" y="4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54"/>
            <p:cNvSpPr/>
            <p:nvPr/>
          </p:nvSpPr>
          <p:spPr>
            <a:xfrm>
              <a:off x="2378160" y="1969920"/>
              <a:ext cx="714240" cy="2457720"/>
            </a:xfrm>
            <a:custGeom>
              <a:avLst/>
              <a:gdLst/>
              <a:ahLst/>
              <a:rect l="l" t="t" r="r" b="b"/>
              <a:pathLst>
                <a:path w="450" h="1548">
                  <a:moveTo>
                    <a:pt x="412" y="1548"/>
                  </a:moveTo>
                  <a:cubicBezTo>
                    <a:pt x="433" y="1505"/>
                    <a:pt x="442" y="1459"/>
                    <a:pt x="450" y="1412"/>
                  </a:cubicBezTo>
                  <a:cubicBezTo>
                    <a:pt x="447" y="1404"/>
                    <a:pt x="450" y="1389"/>
                    <a:pt x="442" y="1389"/>
                  </a:cubicBezTo>
                  <a:cubicBezTo>
                    <a:pt x="434" y="1389"/>
                    <a:pt x="438" y="1404"/>
                    <a:pt x="435" y="1412"/>
                  </a:cubicBezTo>
                  <a:cubicBezTo>
                    <a:pt x="430" y="1427"/>
                    <a:pt x="419" y="1457"/>
                    <a:pt x="419" y="1457"/>
                  </a:cubicBezTo>
                  <a:cubicBezTo>
                    <a:pt x="422" y="1437"/>
                    <a:pt x="423" y="1416"/>
                    <a:pt x="427" y="1396"/>
                  </a:cubicBezTo>
                  <a:cubicBezTo>
                    <a:pt x="428" y="1388"/>
                    <a:pt x="433" y="1382"/>
                    <a:pt x="435" y="1374"/>
                  </a:cubicBezTo>
                  <a:cubicBezTo>
                    <a:pt x="441" y="1346"/>
                    <a:pt x="450" y="1290"/>
                    <a:pt x="450" y="1290"/>
                  </a:cubicBezTo>
                  <a:cubicBezTo>
                    <a:pt x="447" y="1280"/>
                    <a:pt x="449" y="1252"/>
                    <a:pt x="442" y="1260"/>
                  </a:cubicBezTo>
                  <a:cubicBezTo>
                    <a:pt x="431" y="1271"/>
                    <a:pt x="437" y="1321"/>
                    <a:pt x="435" y="1306"/>
                  </a:cubicBezTo>
                  <a:cubicBezTo>
                    <a:pt x="428" y="1248"/>
                    <a:pt x="430" y="1189"/>
                    <a:pt x="427" y="1131"/>
                  </a:cubicBezTo>
                  <a:cubicBezTo>
                    <a:pt x="424" y="1151"/>
                    <a:pt x="419" y="1213"/>
                    <a:pt x="419" y="1192"/>
                  </a:cubicBezTo>
                  <a:cubicBezTo>
                    <a:pt x="419" y="1144"/>
                    <a:pt x="427" y="1096"/>
                    <a:pt x="427" y="1048"/>
                  </a:cubicBezTo>
                  <a:cubicBezTo>
                    <a:pt x="427" y="972"/>
                    <a:pt x="419" y="820"/>
                    <a:pt x="419" y="820"/>
                  </a:cubicBezTo>
                  <a:cubicBezTo>
                    <a:pt x="396" y="896"/>
                    <a:pt x="378" y="737"/>
                    <a:pt x="374" y="722"/>
                  </a:cubicBezTo>
                  <a:cubicBezTo>
                    <a:pt x="371" y="709"/>
                    <a:pt x="362" y="696"/>
                    <a:pt x="366" y="684"/>
                  </a:cubicBezTo>
                  <a:cubicBezTo>
                    <a:pt x="368" y="677"/>
                    <a:pt x="377" y="694"/>
                    <a:pt x="382" y="699"/>
                  </a:cubicBezTo>
                  <a:cubicBezTo>
                    <a:pt x="395" y="732"/>
                    <a:pt x="400" y="765"/>
                    <a:pt x="412" y="798"/>
                  </a:cubicBezTo>
                  <a:cubicBezTo>
                    <a:pt x="405" y="755"/>
                    <a:pt x="381" y="678"/>
                    <a:pt x="397" y="631"/>
                  </a:cubicBezTo>
                  <a:cubicBezTo>
                    <a:pt x="408" y="659"/>
                    <a:pt x="417" y="686"/>
                    <a:pt x="427" y="714"/>
                  </a:cubicBezTo>
                  <a:cubicBezTo>
                    <a:pt x="424" y="722"/>
                    <a:pt x="427" y="737"/>
                    <a:pt x="419" y="737"/>
                  </a:cubicBezTo>
                  <a:cubicBezTo>
                    <a:pt x="411" y="737"/>
                    <a:pt x="415" y="722"/>
                    <a:pt x="412" y="714"/>
                  </a:cubicBezTo>
                  <a:cubicBezTo>
                    <a:pt x="405" y="694"/>
                    <a:pt x="395" y="674"/>
                    <a:pt x="389" y="654"/>
                  </a:cubicBezTo>
                  <a:cubicBezTo>
                    <a:pt x="387" y="646"/>
                    <a:pt x="385" y="639"/>
                    <a:pt x="382" y="631"/>
                  </a:cubicBezTo>
                  <a:cubicBezTo>
                    <a:pt x="377" y="616"/>
                    <a:pt x="366" y="586"/>
                    <a:pt x="366" y="586"/>
                  </a:cubicBezTo>
                  <a:cubicBezTo>
                    <a:pt x="369" y="619"/>
                    <a:pt x="374" y="717"/>
                    <a:pt x="374" y="684"/>
                  </a:cubicBezTo>
                  <a:cubicBezTo>
                    <a:pt x="374" y="641"/>
                    <a:pt x="370" y="598"/>
                    <a:pt x="366" y="555"/>
                  </a:cubicBezTo>
                  <a:cubicBezTo>
                    <a:pt x="364" y="533"/>
                    <a:pt x="350" y="508"/>
                    <a:pt x="344" y="487"/>
                  </a:cubicBezTo>
                  <a:cubicBezTo>
                    <a:pt x="349" y="479"/>
                    <a:pt x="350" y="464"/>
                    <a:pt x="359" y="464"/>
                  </a:cubicBezTo>
                  <a:cubicBezTo>
                    <a:pt x="368" y="464"/>
                    <a:pt x="369" y="480"/>
                    <a:pt x="374" y="487"/>
                  </a:cubicBezTo>
                  <a:cubicBezTo>
                    <a:pt x="408" y="534"/>
                    <a:pt x="388" y="498"/>
                    <a:pt x="412" y="548"/>
                  </a:cubicBezTo>
                  <a:cubicBezTo>
                    <a:pt x="409" y="566"/>
                    <a:pt x="417" y="588"/>
                    <a:pt x="404" y="601"/>
                  </a:cubicBezTo>
                  <a:cubicBezTo>
                    <a:pt x="396" y="609"/>
                    <a:pt x="389" y="586"/>
                    <a:pt x="382" y="578"/>
                  </a:cubicBezTo>
                  <a:cubicBezTo>
                    <a:pt x="371" y="566"/>
                    <a:pt x="360" y="554"/>
                    <a:pt x="351" y="540"/>
                  </a:cubicBezTo>
                  <a:cubicBezTo>
                    <a:pt x="345" y="531"/>
                    <a:pt x="343" y="519"/>
                    <a:pt x="336" y="510"/>
                  </a:cubicBezTo>
                  <a:cubicBezTo>
                    <a:pt x="322" y="491"/>
                    <a:pt x="306" y="475"/>
                    <a:pt x="291" y="457"/>
                  </a:cubicBezTo>
                  <a:cubicBezTo>
                    <a:pt x="286" y="451"/>
                    <a:pt x="268" y="442"/>
                    <a:pt x="275" y="442"/>
                  </a:cubicBezTo>
                  <a:cubicBezTo>
                    <a:pt x="293" y="442"/>
                    <a:pt x="321" y="462"/>
                    <a:pt x="336" y="472"/>
                  </a:cubicBezTo>
                  <a:cubicBezTo>
                    <a:pt x="339" y="482"/>
                    <a:pt x="340" y="493"/>
                    <a:pt x="344" y="502"/>
                  </a:cubicBezTo>
                  <a:cubicBezTo>
                    <a:pt x="348" y="510"/>
                    <a:pt x="367" y="529"/>
                    <a:pt x="359" y="525"/>
                  </a:cubicBezTo>
                  <a:cubicBezTo>
                    <a:pt x="343" y="517"/>
                    <a:pt x="324" y="488"/>
                    <a:pt x="313" y="472"/>
                  </a:cubicBezTo>
                  <a:cubicBezTo>
                    <a:pt x="303" y="439"/>
                    <a:pt x="284" y="420"/>
                    <a:pt x="260" y="396"/>
                  </a:cubicBezTo>
                  <a:cubicBezTo>
                    <a:pt x="236" y="317"/>
                    <a:pt x="321" y="409"/>
                    <a:pt x="321" y="419"/>
                  </a:cubicBezTo>
                  <a:cubicBezTo>
                    <a:pt x="321" y="428"/>
                    <a:pt x="305" y="410"/>
                    <a:pt x="298" y="404"/>
                  </a:cubicBezTo>
                  <a:cubicBezTo>
                    <a:pt x="288" y="395"/>
                    <a:pt x="258" y="358"/>
                    <a:pt x="260" y="351"/>
                  </a:cubicBezTo>
                  <a:cubicBezTo>
                    <a:pt x="263" y="341"/>
                    <a:pt x="281" y="356"/>
                    <a:pt x="291" y="358"/>
                  </a:cubicBezTo>
                  <a:cubicBezTo>
                    <a:pt x="298" y="366"/>
                    <a:pt x="306" y="373"/>
                    <a:pt x="313" y="381"/>
                  </a:cubicBezTo>
                  <a:cubicBezTo>
                    <a:pt x="317" y="386"/>
                    <a:pt x="347" y="428"/>
                    <a:pt x="344" y="434"/>
                  </a:cubicBezTo>
                  <a:cubicBezTo>
                    <a:pt x="340" y="442"/>
                    <a:pt x="327" y="425"/>
                    <a:pt x="321" y="419"/>
                  </a:cubicBezTo>
                  <a:cubicBezTo>
                    <a:pt x="292" y="390"/>
                    <a:pt x="276" y="362"/>
                    <a:pt x="245" y="335"/>
                  </a:cubicBezTo>
                  <a:cubicBezTo>
                    <a:pt x="234" y="326"/>
                    <a:pt x="224" y="316"/>
                    <a:pt x="215" y="305"/>
                  </a:cubicBezTo>
                  <a:cubicBezTo>
                    <a:pt x="209" y="298"/>
                    <a:pt x="192" y="286"/>
                    <a:pt x="200" y="282"/>
                  </a:cubicBezTo>
                  <a:cubicBezTo>
                    <a:pt x="204" y="280"/>
                    <a:pt x="248" y="310"/>
                    <a:pt x="253" y="313"/>
                  </a:cubicBezTo>
                  <a:cubicBezTo>
                    <a:pt x="258" y="320"/>
                    <a:pt x="276" y="338"/>
                    <a:pt x="268" y="335"/>
                  </a:cubicBezTo>
                  <a:cubicBezTo>
                    <a:pt x="234" y="323"/>
                    <a:pt x="212" y="270"/>
                    <a:pt x="192" y="244"/>
                  </a:cubicBezTo>
                  <a:cubicBezTo>
                    <a:pt x="187" y="237"/>
                    <a:pt x="171" y="228"/>
                    <a:pt x="177" y="222"/>
                  </a:cubicBezTo>
                  <a:cubicBezTo>
                    <a:pt x="180" y="219"/>
                    <a:pt x="225" y="235"/>
                    <a:pt x="230" y="237"/>
                  </a:cubicBezTo>
                  <a:cubicBezTo>
                    <a:pt x="178" y="197"/>
                    <a:pt x="220" y="233"/>
                    <a:pt x="177" y="184"/>
                  </a:cubicBezTo>
                  <a:cubicBezTo>
                    <a:pt x="170" y="176"/>
                    <a:pt x="154" y="172"/>
                    <a:pt x="154" y="161"/>
                  </a:cubicBezTo>
                  <a:cubicBezTo>
                    <a:pt x="154" y="153"/>
                    <a:pt x="170" y="165"/>
                    <a:pt x="177" y="169"/>
                  </a:cubicBezTo>
                  <a:cubicBezTo>
                    <a:pt x="193" y="178"/>
                    <a:pt x="222" y="199"/>
                    <a:pt x="222" y="199"/>
                  </a:cubicBezTo>
                  <a:cubicBezTo>
                    <a:pt x="254" y="245"/>
                    <a:pt x="227" y="209"/>
                    <a:pt x="200" y="199"/>
                  </a:cubicBezTo>
                  <a:cubicBezTo>
                    <a:pt x="169" y="176"/>
                    <a:pt x="161" y="156"/>
                    <a:pt x="124" y="146"/>
                  </a:cubicBezTo>
                  <a:cubicBezTo>
                    <a:pt x="121" y="138"/>
                    <a:pt x="110" y="129"/>
                    <a:pt x="116" y="123"/>
                  </a:cubicBezTo>
                  <a:cubicBezTo>
                    <a:pt x="122" y="117"/>
                    <a:pt x="139" y="131"/>
                    <a:pt x="139" y="131"/>
                  </a:cubicBezTo>
                  <a:cubicBezTo>
                    <a:pt x="121" y="80"/>
                    <a:pt x="147" y="138"/>
                    <a:pt x="94" y="85"/>
                  </a:cubicBezTo>
                  <a:cubicBezTo>
                    <a:pt x="88" y="79"/>
                    <a:pt x="80" y="67"/>
                    <a:pt x="86" y="63"/>
                  </a:cubicBezTo>
                  <a:cubicBezTo>
                    <a:pt x="94" y="57"/>
                    <a:pt x="106" y="70"/>
                    <a:pt x="116" y="70"/>
                  </a:cubicBezTo>
                  <a:cubicBezTo>
                    <a:pt x="124" y="70"/>
                    <a:pt x="101" y="66"/>
                    <a:pt x="94" y="63"/>
                  </a:cubicBezTo>
                  <a:cubicBezTo>
                    <a:pt x="71" y="53"/>
                    <a:pt x="53" y="42"/>
                    <a:pt x="33" y="25"/>
                  </a:cubicBezTo>
                  <a:cubicBezTo>
                    <a:pt x="4" y="0"/>
                    <a:pt x="0" y="2"/>
                    <a:pt x="18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55"/>
            <p:cNvSpPr/>
            <p:nvPr/>
          </p:nvSpPr>
          <p:spPr>
            <a:xfrm>
              <a:off x="1054080" y="2236680"/>
              <a:ext cx="401760" cy="2257560"/>
            </a:xfrm>
            <a:custGeom>
              <a:avLst/>
              <a:gdLst/>
              <a:ahLst/>
              <a:rect l="l" t="t" r="r" b="b"/>
              <a:pathLst>
                <a:path w="253" h="1422">
                  <a:moveTo>
                    <a:pt x="79" y="978"/>
                  </a:moveTo>
                  <a:cubicBezTo>
                    <a:pt x="88" y="949"/>
                    <a:pt x="97" y="822"/>
                    <a:pt x="71" y="895"/>
                  </a:cubicBezTo>
                  <a:cubicBezTo>
                    <a:pt x="74" y="857"/>
                    <a:pt x="79" y="743"/>
                    <a:pt x="79" y="781"/>
                  </a:cubicBezTo>
                  <a:cubicBezTo>
                    <a:pt x="79" y="824"/>
                    <a:pt x="71" y="953"/>
                    <a:pt x="71" y="910"/>
                  </a:cubicBezTo>
                  <a:cubicBezTo>
                    <a:pt x="71" y="847"/>
                    <a:pt x="76" y="784"/>
                    <a:pt x="79" y="721"/>
                  </a:cubicBezTo>
                  <a:cubicBezTo>
                    <a:pt x="89" y="880"/>
                    <a:pt x="40" y="1069"/>
                    <a:pt x="86" y="1213"/>
                  </a:cubicBezTo>
                  <a:cubicBezTo>
                    <a:pt x="75" y="1422"/>
                    <a:pt x="97" y="1367"/>
                    <a:pt x="56" y="1304"/>
                  </a:cubicBezTo>
                  <a:cubicBezTo>
                    <a:pt x="53" y="1291"/>
                    <a:pt x="52" y="1278"/>
                    <a:pt x="48" y="1266"/>
                  </a:cubicBezTo>
                  <a:cubicBezTo>
                    <a:pt x="44" y="1255"/>
                    <a:pt x="33" y="1225"/>
                    <a:pt x="33" y="1236"/>
                  </a:cubicBezTo>
                  <a:cubicBezTo>
                    <a:pt x="33" y="1267"/>
                    <a:pt x="41" y="1297"/>
                    <a:pt x="48" y="1327"/>
                  </a:cubicBezTo>
                  <a:cubicBezTo>
                    <a:pt x="52" y="1343"/>
                    <a:pt x="64" y="1372"/>
                    <a:pt x="64" y="1372"/>
                  </a:cubicBezTo>
                  <a:cubicBezTo>
                    <a:pt x="59" y="1323"/>
                    <a:pt x="41" y="1256"/>
                    <a:pt x="41" y="1206"/>
                  </a:cubicBezTo>
                  <a:cubicBezTo>
                    <a:pt x="41" y="1188"/>
                    <a:pt x="56" y="1277"/>
                    <a:pt x="56" y="1259"/>
                  </a:cubicBezTo>
                  <a:cubicBezTo>
                    <a:pt x="56" y="1228"/>
                    <a:pt x="35" y="1181"/>
                    <a:pt x="26" y="1153"/>
                  </a:cubicBezTo>
                  <a:cubicBezTo>
                    <a:pt x="11" y="996"/>
                    <a:pt x="0" y="821"/>
                    <a:pt x="41" y="668"/>
                  </a:cubicBezTo>
                  <a:cubicBezTo>
                    <a:pt x="62" y="438"/>
                    <a:pt x="43" y="663"/>
                    <a:pt x="41" y="645"/>
                  </a:cubicBezTo>
                  <a:cubicBezTo>
                    <a:pt x="34" y="570"/>
                    <a:pt x="36" y="494"/>
                    <a:pt x="33" y="418"/>
                  </a:cubicBezTo>
                  <a:cubicBezTo>
                    <a:pt x="18" y="484"/>
                    <a:pt x="30" y="426"/>
                    <a:pt x="41" y="402"/>
                  </a:cubicBezTo>
                  <a:cubicBezTo>
                    <a:pt x="51" y="380"/>
                    <a:pt x="71" y="354"/>
                    <a:pt x="86" y="334"/>
                  </a:cubicBezTo>
                  <a:cubicBezTo>
                    <a:pt x="99" y="273"/>
                    <a:pt x="86" y="318"/>
                    <a:pt x="109" y="266"/>
                  </a:cubicBezTo>
                  <a:cubicBezTo>
                    <a:pt x="114" y="254"/>
                    <a:pt x="119" y="241"/>
                    <a:pt x="124" y="228"/>
                  </a:cubicBezTo>
                  <a:cubicBezTo>
                    <a:pt x="127" y="220"/>
                    <a:pt x="138" y="199"/>
                    <a:pt x="132" y="205"/>
                  </a:cubicBezTo>
                  <a:cubicBezTo>
                    <a:pt x="119" y="218"/>
                    <a:pt x="101" y="251"/>
                    <a:pt x="101" y="251"/>
                  </a:cubicBezTo>
                  <a:cubicBezTo>
                    <a:pt x="96" y="269"/>
                    <a:pt x="93" y="287"/>
                    <a:pt x="86" y="304"/>
                  </a:cubicBezTo>
                  <a:cubicBezTo>
                    <a:pt x="83" y="313"/>
                    <a:pt x="75" y="319"/>
                    <a:pt x="71" y="327"/>
                  </a:cubicBezTo>
                  <a:cubicBezTo>
                    <a:pt x="67" y="336"/>
                    <a:pt x="61" y="367"/>
                    <a:pt x="64" y="357"/>
                  </a:cubicBezTo>
                  <a:cubicBezTo>
                    <a:pt x="97" y="263"/>
                    <a:pt x="141" y="176"/>
                    <a:pt x="177" y="84"/>
                  </a:cubicBezTo>
                  <a:cubicBezTo>
                    <a:pt x="165" y="43"/>
                    <a:pt x="175" y="62"/>
                    <a:pt x="155" y="99"/>
                  </a:cubicBezTo>
                  <a:cubicBezTo>
                    <a:pt x="146" y="115"/>
                    <a:pt x="132" y="128"/>
                    <a:pt x="124" y="145"/>
                  </a:cubicBezTo>
                  <a:cubicBezTo>
                    <a:pt x="119" y="155"/>
                    <a:pt x="104" y="165"/>
                    <a:pt x="109" y="175"/>
                  </a:cubicBezTo>
                  <a:cubicBezTo>
                    <a:pt x="113" y="183"/>
                    <a:pt x="125" y="166"/>
                    <a:pt x="132" y="160"/>
                  </a:cubicBezTo>
                  <a:cubicBezTo>
                    <a:pt x="148" y="146"/>
                    <a:pt x="162" y="129"/>
                    <a:pt x="177" y="114"/>
                  </a:cubicBezTo>
                  <a:cubicBezTo>
                    <a:pt x="200" y="90"/>
                    <a:pt x="214" y="68"/>
                    <a:pt x="230" y="39"/>
                  </a:cubicBezTo>
                  <a:cubicBezTo>
                    <a:pt x="235" y="29"/>
                    <a:pt x="253" y="17"/>
                    <a:pt x="245" y="8"/>
                  </a:cubicBezTo>
                  <a:cubicBezTo>
                    <a:pt x="238" y="0"/>
                    <a:pt x="231" y="24"/>
                    <a:pt x="223" y="31"/>
                  </a:cubicBezTo>
                  <a:cubicBezTo>
                    <a:pt x="181" y="66"/>
                    <a:pt x="217" y="20"/>
                    <a:pt x="177" y="76"/>
                  </a:cubicBezTo>
                  <a:cubicBezTo>
                    <a:pt x="155" y="106"/>
                    <a:pt x="155" y="101"/>
                    <a:pt x="185" y="92"/>
                  </a:cubicBezTo>
                  <a:cubicBezTo>
                    <a:pt x="195" y="59"/>
                    <a:pt x="208" y="66"/>
                    <a:pt x="223" y="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56"/>
            <p:cNvSpPr/>
            <p:nvPr/>
          </p:nvSpPr>
          <p:spPr>
            <a:xfrm>
              <a:off x="6095880" y="1022400"/>
              <a:ext cx="330480" cy="2995560"/>
            </a:xfrm>
            <a:custGeom>
              <a:avLst/>
              <a:gdLst/>
              <a:ahLst/>
              <a:rect l="l" t="t" r="r" b="b"/>
              <a:pathLst>
                <a:path w="208" h="1887">
                  <a:moveTo>
                    <a:pt x="170" y="1887"/>
                  </a:moveTo>
                  <a:cubicBezTo>
                    <a:pt x="183" y="1769"/>
                    <a:pt x="171" y="1812"/>
                    <a:pt x="200" y="1857"/>
                  </a:cubicBezTo>
                  <a:cubicBezTo>
                    <a:pt x="195" y="1806"/>
                    <a:pt x="188" y="1721"/>
                    <a:pt x="147" y="1683"/>
                  </a:cubicBezTo>
                  <a:cubicBezTo>
                    <a:pt x="142" y="1673"/>
                    <a:pt x="139" y="1661"/>
                    <a:pt x="132" y="1652"/>
                  </a:cubicBezTo>
                  <a:cubicBezTo>
                    <a:pt x="126" y="1643"/>
                    <a:pt x="114" y="1639"/>
                    <a:pt x="109" y="1630"/>
                  </a:cubicBezTo>
                  <a:cubicBezTo>
                    <a:pt x="104" y="1621"/>
                    <a:pt x="106" y="1609"/>
                    <a:pt x="102" y="1599"/>
                  </a:cubicBezTo>
                  <a:cubicBezTo>
                    <a:pt x="99" y="1591"/>
                    <a:pt x="83" y="1585"/>
                    <a:pt x="87" y="1577"/>
                  </a:cubicBezTo>
                  <a:cubicBezTo>
                    <a:pt x="90" y="1570"/>
                    <a:pt x="102" y="1581"/>
                    <a:pt x="109" y="1584"/>
                  </a:cubicBezTo>
                  <a:cubicBezTo>
                    <a:pt x="146" y="1598"/>
                    <a:pt x="165" y="1610"/>
                    <a:pt x="193" y="1637"/>
                  </a:cubicBezTo>
                  <a:cubicBezTo>
                    <a:pt x="208" y="1573"/>
                    <a:pt x="149" y="1542"/>
                    <a:pt x="117" y="1493"/>
                  </a:cubicBezTo>
                  <a:cubicBezTo>
                    <a:pt x="120" y="1503"/>
                    <a:pt x="118" y="1516"/>
                    <a:pt x="125" y="1524"/>
                  </a:cubicBezTo>
                  <a:cubicBezTo>
                    <a:pt x="130" y="1530"/>
                    <a:pt x="145" y="1538"/>
                    <a:pt x="147" y="1531"/>
                  </a:cubicBezTo>
                  <a:cubicBezTo>
                    <a:pt x="153" y="1514"/>
                    <a:pt x="145" y="1495"/>
                    <a:pt x="140" y="1478"/>
                  </a:cubicBezTo>
                  <a:cubicBezTo>
                    <a:pt x="137" y="1469"/>
                    <a:pt x="129" y="1463"/>
                    <a:pt x="125" y="1455"/>
                  </a:cubicBezTo>
                  <a:cubicBezTo>
                    <a:pt x="116" y="1438"/>
                    <a:pt x="110" y="1398"/>
                    <a:pt x="125" y="1471"/>
                  </a:cubicBezTo>
                  <a:cubicBezTo>
                    <a:pt x="134" y="1441"/>
                    <a:pt x="135" y="1452"/>
                    <a:pt x="125" y="1417"/>
                  </a:cubicBezTo>
                  <a:cubicBezTo>
                    <a:pt x="123" y="1409"/>
                    <a:pt x="117" y="1387"/>
                    <a:pt x="117" y="1395"/>
                  </a:cubicBezTo>
                  <a:cubicBezTo>
                    <a:pt x="117" y="1424"/>
                    <a:pt x="129" y="1429"/>
                    <a:pt x="147" y="1448"/>
                  </a:cubicBezTo>
                  <a:cubicBezTo>
                    <a:pt x="152" y="1440"/>
                    <a:pt x="163" y="1434"/>
                    <a:pt x="163" y="1425"/>
                  </a:cubicBezTo>
                  <a:cubicBezTo>
                    <a:pt x="163" y="1414"/>
                    <a:pt x="124" y="1364"/>
                    <a:pt x="117" y="1357"/>
                  </a:cubicBezTo>
                  <a:cubicBezTo>
                    <a:pt x="102" y="1313"/>
                    <a:pt x="109" y="1341"/>
                    <a:pt x="125" y="1357"/>
                  </a:cubicBezTo>
                  <a:cubicBezTo>
                    <a:pt x="131" y="1363"/>
                    <a:pt x="140" y="1367"/>
                    <a:pt x="147" y="1372"/>
                  </a:cubicBezTo>
                  <a:cubicBezTo>
                    <a:pt x="139" y="1339"/>
                    <a:pt x="120" y="1320"/>
                    <a:pt x="109" y="1289"/>
                  </a:cubicBezTo>
                  <a:cubicBezTo>
                    <a:pt x="112" y="1281"/>
                    <a:pt x="118" y="1274"/>
                    <a:pt x="117" y="1266"/>
                  </a:cubicBezTo>
                  <a:cubicBezTo>
                    <a:pt x="112" y="1236"/>
                    <a:pt x="68" y="1236"/>
                    <a:pt x="140" y="1251"/>
                  </a:cubicBezTo>
                  <a:cubicBezTo>
                    <a:pt x="94" y="1188"/>
                    <a:pt x="81" y="1194"/>
                    <a:pt x="140" y="1205"/>
                  </a:cubicBezTo>
                  <a:cubicBezTo>
                    <a:pt x="123" y="1160"/>
                    <a:pt x="105" y="1116"/>
                    <a:pt x="79" y="1076"/>
                  </a:cubicBezTo>
                  <a:cubicBezTo>
                    <a:pt x="87" y="1074"/>
                    <a:pt x="102" y="1077"/>
                    <a:pt x="102" y="1069"/>
                  </a:cubicBezTo>
                  <a:cubicBezTo>
                    <a:pt x="102" y="1040"/>
                    <a:pt x="14" y="1002"/>
                    <a:pt x="102" y="1039"/>
                  </a:cubicBezTo>
                  <a:cubicBezTo>
                    <a:pt x="67" y="985"/>
                    <a:pt x="113" y="1050"/>
                    <a:pt x="56" y="993"/>
                  </a:cubicBezTo>
                  <a:cubicBezTo>
                    <a:pt x="50" y="987"/>
                    <a:pt x="37" y="978"/>
                    <a:pt x="41" y="970"/>
                  </a:cubicBezTo>
                  <a:cubicBezTo>
                    <a:pt x="45" y="963"/>
                    <a:pt x="56" y="976"/>
                    <a:pt x="64" y="978"/>
                  </a:cubicBezTo>
                  <a:cubicBezTo>
                    <a:pt x="74" y="981"/>
                    <a:pt x="84" y="983"/>
                    <a:pt x="94" y="985"/>
                  </a:cubicBezTo>
                  <a:cubicBezTo>
                    <a:pt x="75" y="957"/>
                    <a:pt x="54" y="947"/>
                    <a:pt x="94" y="932"/>
                  </a:cubicBezTo>
                  <a:cubicBezTo>
                    <a:pt x="38" y="876"/>
                    <a:pt x="116" y="930"/>
                    <a:pt x="132" y="940"/>
                  </a:cubicBezTo>
                  <a:cubicBezTo>
                    <a:pt x="124" y="913"/>
                    <a:pt x="109" y="902"/>
                    <a:pt x="94" y="879"/>
                  </a:cubicBezTo>
                  <a:cubicBezTo>
                    <a:pt x="102" y="877"/>
                    <a:pt x="115" y="880"/>
                    <a:pt x="117" y="872"/>
                  </a:cubicBezTo>
                  <a:cubicBezTo>
                    <a:pt x="122" y="849"/>
                    <a:pt x="61" y="808"/>
                    <a:pt x="117" y="826"/>
                  </a:cubicBezTo>
                  <a:cubicBezTo>
                    <a:pt x="125" y="829"/>
                    <a:pt x="132" y="831"/>
                    <a:pt x="140" y="834"/>
                  </a:cubicBezTo>
                  <a:cubicBezTo>
                    <a:pt x="110" y="795"/>
                    <a:pt x="55" y="774"/>
                    <a:pt x="132" y="788"/>
                  </a:cubicBezTo>
                  <a:cubicBezTo>
                    <a:pt x="130" y="781"/>
                    <a:pt x="129" y="773"/>
                    <a:pt x="125" y="766"/>
                  </a:cubicBezTo>
                  <a:cubicBezTo>
                    <a:pt x="121" y="760"/>
                    <a:pt x="112" y="758"/>
                    <a:pt x="109" y="751"/>
                  </a:cubicBezTo>
                  <a:cubicBezTo>
                    <a:pt x="84" y="700"/>
                    <a:pt x="125" y="735"/>
                    <a:pt x="79" y="705"/>
                  </a:cubicBezTo>
                  <a:cubicBezTo>
                    <a:pt x="74" y="687"/>
                    <a:pt x="58" y="669"/>
                    <a:pt x="64" y="652"/>
                  </a:cubicBezTo>
                  <a:cubicBezTo>
                    <a:pt x="75" y="619"/>
                    <a:pt x="124" y="707"/>
                    <a:pt x="79" y="637"/>
                  </a:cubicBezTo>
                  <a:cubicBezTo>
                    <a:pt x="96" y="589"/>
                    <a:pt x="54" y="593"/>
                    <a:pt x="102" y="576"/>
                  </a:cubicBezTo>
                  <a:cubicBezTo>
                    <a:pt x="77" y="538"/>
                    <a:pt x="104" y="546"/>
                    <a:pt x="79" y="508"/>
                  </a:cubicBezTo>
                  <a:cubicBezTo>
                    <a:pt x="93" y="469"/>
                    <a:pt x="74" y="474"/>
                    <a:pt x="49" y="447"/>
                  </a:cubicBezTo>
                  <a:cubicBezTo>
                    <a:pt x="57" y="442"/>
                    <a:pt x="71" y="441"/>
                    <a:pt x="72" y="432"/>
                  </a:cubicBezTo>
                  <a:cubicBezTo>
                    <a:pt x="74" y="417"/>
                    <a:pt x="42" y="387"/>
                    <a:pt x="34" y="379"/>
                  </a:cubicBezTo>
                  <a:cubicBezTo>
                    <a:pt x="44" y="374"/>
                    <a:pt x="62" y="375"/>
                    <a:pt x="64" y="364"/>
                  </a:cubicBezTo>
                  <a:cubicBezTo>
                    <a:pt x="66" y="353"/>
                    <a:pt x="33" y="349"/>
                    <a:pt x="41" y="341"/>
                  </a:cubicBezTo>
                  <a:cubicBezTo>
                    <a:pt x="50" y="332"/>
                    <a:pt x="66" y="346"/>
                    <a:pt x="79" y="349"/>
                  </a:cubicBezTo>
                  <a:cubicBezTo>
                    <a:pt x="66" y="306"/>
                    <a:pt x="0" y="277"/>
                    <a:pt x="79" y="296"/>
                  </a:cubicBezTo>
                  <a:cubicBezTo>
                    <a:pt x="87" y="298"/>
                    <a:pt x="94" y="301"/>
                    <a:pt x="102" y="303"/>
                  </a:cubicBezTo>
                  <a:cubicBezTo>
                    <a:pt x="77" y="279"/>
                    <a:pt x="65" y="266"/>
                    <a:pt x="49" y="235"/>
                  </a:cubicBezTo>
                  <a:cubicBezTo>
                    <a:pt x="57" y="233"/>
                    <a:pt x="68" y="235"/>
                    <a:pt x="72" y="228"/>
                  </a:cubicBezTo>
                  <a:cubicBezTo>
                    <a:pt x="76" y="221"/>
                    <a:pt x="60" y="212"/>
                    <a:pt x="64" y="205"/>
                  </a:cubicBezTo>
                  <a:cubicBezTo>
                    <a:pt x="68" y="198"/>
                    <a:pt x="79" y="200"/>
                    <a:pt x="87" y="197"/>
                  </a:cubicBezTo>
                  <a:cubicBezTo>
                    <a:pt x="94" y="200"/>
                    <a:pt x="113" y="212"/>
                    <a:pt x="109" y="205"/>
                  </a:cubicBezTo>
                  <a:cubicBezTo>
                    <a:pt x="98" y="187"/>
                    <a:pt x="79" y="174"/>
                    <a:pt x="64" y="159"/>
                  </a:cubicBezTo>
                  <a:cubicBezTo>
                    <a:pt x="56" y="151"/>
                    <a:pt x="41" y="137"/>
                    <a:pt x="41" y="137"/>
                  </a:cubicBezTo>
                  <a:cubicBezTo>
                    <a:pt x="50" y="103"/>
                    <a:pt x="45" y="88"/>
                    <a:pt x="79" y="76"/>
                  </a:cubicBezTo>
                  <a:cubicBezTo>
                    <a:pt x="61" y="49"/>
                    <a:pt x="67" y="20"/>
                    <a:pt x="4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760"/>
            <p:cNvSpPr/>
            <p:nvPr/>
          </p:nvSpPr>
          <p:spPr>
            <a:xfrm>
              <a:off x="2017800" y="771480"/>
              <a:ext cx="3746520" cy="671400"/>
            </a:xfrm>
            <a:custGeom>
              <a:avLst/>
              <a:gdLst/>
              <a:ahLst/>
              <a:rect l="l" t="t" r="r" b="b"/>
              <a:pathLst>
                <a:path w="2360" h="423">
                  <a:moveTo>
                    <a:pt x="1723" y="37"/>
                  </a:moveTo>
                  <a:cubicBezTo>
                    <a:pt x="1648" y="0"/>
                    <a:pt x="1640" y="4"/>
                    <a:pt x="1708" y="14"/>
                  </a:cubicBezTo>
                  <a:cubicBezTo>
                    <a:pt x="1739" y="4"/>
                    <a:pt x="1761" y="12"/>
                    <a:pt x="1791" y="22"/>
                  </a:cubicBezTo>
                  <a:cubicBezTo>
                    <a:pt x="1801" y="17"/>
                    <a:pt x="1810" y="7"/>
                    <a:pt x="1821" y="7"/>
                  </a:cubicBezTo>
                  <a:cubicBezTo>
                    <a:pt x="1830" y="7"/>
                    <a:pt x="1835" y="19"/>
                    <a:pt x="1844" y="22"/>
                  </a:cubicBezTo>
                  <a:cubicBezTo>
                    <a:pt x="1864" y="29"/>
                    <a:pt x="1885" y="30"/>
                    <a:pt x="1905" y="37"/>
                  </a:cubicBezTo>
                  <a:cubicBezTo>
                    <a:pt x="1949" y="25"/>
                    <a:pt x="1988" y="45"/>
                    <a:pt x="2033" y="52"/>
                  </a:cubicBezTo>
                  <a:cubicBezTo>
                    <a:pt x="2091" y="72"/>
                    <a:pt x="2033" y="54"/>
                    <a:pt x="2033" y="45"/>
                  </a:cubicBezTo>
                  <a:cubicBezTo>
                    <a:pt x="2033" y="37"/>
                    <a:pt x="2048" y="40"/>
                    <a:pt x="2056" y="37"/>
                  </a:cubicBezTo>
                  <a:cubicBezTo>
                    <a:pt x="2113" y="57"/>
                    <a:pt x="2039" y="37"/>
                    <a:pt x="2109" y="29"/>
                  </a:cubicBezTo>
                  <a:cubicBezTo>
                    <a:pt x="2122" y="27"/>
                    <a:pt x="2134" y="34"/>
                    <a:pt x="2147" y="37"/>
                  </a:cubicBezTo>
                  <a:cubicBezTo>
                    <a:pt x="2175" y="55"/>
                    <a:pt x="2187" y="68"/>
                    <a:pt x="2230" y="60"/>
                  </a:cubicBezTo>
                  <a:cubicBezTo>
                    <a:pt x="2239" y="58"/>
                    <a:pt x="2199" y="46"/>
                    <a:pt x="2208" y="45"/>
                  </a:cubicBezTo>
                  <a:cubicBezTo>
                    <a:pt x="2248" y="42"/>
                    <a:pt x="2289" y="50"/>
                    <a:pt x="2329" y="52"/>
                  </a:cubicBezTo>
                  <a:cubicBezTo>
                    <a:pt x="2337" y="55"/>
                    <a:pt x="2360" y="58"/>
                    <a:pt x="2352" y="60"/>
                  </a:cubicBezTo>
                  <a:cubicBezTo>
                    <a:pt x="2296" y="76"/>
                    <a:pt x="2235" y="70"/>
                    <a:pt x="2177" y="75"/>
                  </a:cubicBezTo>
                  <a:cubicBezTo>
                    <a:pt x="2024" y="111"/>
                    <a:pt x="1828" y="61"/>
                    <a:pt x="1670" y="52"/>
                  </a:cubicBezTo>
                  <a:cubicBezTo>
                    <a:pt x="1633" y="45"/>
                    <a:pt x="1602" y="42"/>
                    <a:pt x="1571" y="22"/>
                  </a:cubicBezTo>
                  <a:cubicBezTo>
                    <a:pt x="1571" y="22"/>
                    <a:pt x="1400" y="26"/>
                    <a:pt x="1359" y="37"/>
                  </a:cubicBezTo>
                  <a:cubicBezTo>
                    <a:pt x="1350" y="39"/>
                    <a:pt x="1345" y="49"/>
                    <a:pt x="1336" y="52"/>
                  </a:cubicBezTo>
                  <a:cubicBezTo>
                    <a:pt x="1324" y="57"/>
                    <a:pt x="1311" y="57"/>
                    <a:pt x="1298" y="60"/>
                  </a:cubicBezTo>
                  <a:cubicBezTo>
                    <a:pt x="1287" y="108"/>
                    <a:pt x="1280" y="92"/>
                    <a:pt x="1238" y="105"/>
                  </a:cubicBezTo>
                  <a:cubicBezTo>
                    <a:pt x="1280" y="134"/>
                    <a:pt x="1250" y="143"/>
                    <a:pt x="1215" y="158"/>
                  </a:cubicBezTo>
                  <a:cubicBezTo>
                    <a:pt x="1146" y="188"/>
                    <a:pt x="1076" y="209"/>
                    <a:pt x="1003" y="226"/>
                  </a:cubicBezTo>
                  <a:cubicBezTo>
                    <a:pt x="1065" y="184"/>
                    <a:pt x="994" y="226"/>
                    <a:pt x="1154" y="204"/>
                  </a:cubicBezTo>
                  <a:cubicBezTo>
                    <a:pt x="1162" y="203"/>
                    <a:pt x="1124" y="196"/>
                    <a:pt x="1132" y="196"/>
                  </a:cubicBezTo>
                  <a:cubicBezTo>
                    <a:pt x="1150" y="196"/>
                    <a:pt x="1167" y="201"/>
                    <a:pt x="1185" y="204"/>
                  </a:cubicBezTo>
                  <a:cubicBezTo>
                    <a:pt x="1177" y="199"/>
                    <a:pt x="1157" y="196"/>
                    <a:pt x="1162" y="189"/>
                  </a:cubicBezTo>
                  <a:cubicBezTo>
                    <a:pt x="1171" y="176"/>
                    <a:pt x="1207" y="173"/>
                    <a:pt x="1207" y="173"/>
                  </a:cubicBezTo>
                  <a:cubicBezTo>
                    <a:pt x="1164" y="144"/>
                    <a:pt x="1190" y="166"/>
                    <a:pt x="1230" y="166"/>
                  </a:cubicBezTo>
                  <a:cubicBezTo>
                    <a:pt x="1238" y="166"/>
                    <a:pt x="1199" y="158"/>
                    <a:pt x="1207" y="158"/>
                  </a:cubicBezTo>
                  <a:cubicBezTo>
                    <a:pt x="1228" y="158"/>
                    <a:pt x="1248" y="163"/>
                    <a:pt x="1268" y="166"/>
                  </a:cubicBezTo>
                  <a:cubicBezTo>
                    <a:pt x="1304" y="154"/>
                    <a:pt x="1294" y="162"/>
                    <a:pt x="1268" y="151"/>
                  </a:cubicBezTo>
                  <a:cubicBezTo>
                    <a:pt x="1258" y="146"/>
                    <a:pt x="1248" y="140"/>
                    <a:pt x="1238" y="135"/>
                  </a:cubicBezTo>
                  <a:cubicBezTo>
                    <a:pt x="1331" y="113"/>
                    <a:pt x="1215" y="135"/>
                    <a:pt x="1291" y="135"/>
                  </a:cubicBezTo>
                  <a:cubicBezTo>
                    <a:pt x="1314" y="135"/>
                    <a:pt x="1336" y="125"/>
                    <a:pt x="1359" y="120"/>
                  </a:cubicBezTo>
                  <a:cubicBezTo>
                    <a:pt x="1367" y="118"/>
                    <a:pt x="1390" y="113"/>
                    <a:pt x="1382" y="113"/>
                  </a:cubicBezTo>
                  <a:cubicBezTo>
                    <a:pt x="1304" y="113"/>
                    <a:pt x="1225" y="118"/>
                    <a:pt x="1147" y="120"/>
                  </a:cubicBezTo>
                  <a:cubicBezTo>
                    <a:pt x="1099" y="137"/>
                    <a:pt x="1093" y="171"/>
                    <a:pt x="1063" y="196"/>
                  </a:cubicBezTo>
                  <a:cubicBezTo>
                    <a:pt x="1046" y="210"/>
                    <a:pt x="956" y="223"/>
                    <a:pt x="934" y="226"/>
                  </a:cubicBezTo>
                  <a:cubicBezTo>
                    <a:pt x="876" y="268"/>
                    <a:pt x="791" y="277"/>
                    <a:pt x="722" y="287"/>
                  </a:cubicBezTo>
                  <a:cubicBezTo>
                    <a:pt x="698" y="296"/>
                    <a:pt x="679" y="309"/>
                    <a:pt x="654" y="317"/>
                  </a:cubicBezTo>
                  <a:cubicBezTo>
                    <a:pt x="599" y="312"/>
                    <a:pt x="549" y="303"/>
                    <a:pt x="495" y="295"/>
                  </a:cubicBezTo>
                  <a:cubicBezTo>
                    <a:pt x="447" y="297"/>
                    <a:pt x="399" y="296"/>
                    <a:pt x="351" y="302"/>
                  </a:cubicBezTo>
                  <a:cubicBezTo>
                    <a:pt x="342" y="303"/>
                    <a:pt x="336" y="313"/>
                    <a:pt x="328" y="317"/>
                  </a:cubicBezTo>
                  <a:cubicBezTo>
                    <a:pt x="303" y="328"/>
                    <a:pt x="271" y="333"/>
                    <a:pt x="245" y="340"/>
                  </a:cubicBezTo>
                  <a:cubicBezTo>
                    <a:pt x="226" y="345"/>
                    <a:pt x="211" y="358"/>
                    <a:pt x="192" y="363"/>
                  </a:cubicBezTo>
                  <a:cubicBezTo>
                    <a:pt x="147" y="374"/>
                    <a:pt x="100" y="374"/>
                    <a:pt x="55" y="386"/>
                  </a:cubicBezTo>
                  <a:cubicBezTo>
                    <a:pt x="0" y="423"/>
                    <a:pt x="85" y="405"/>
                    <a:pt x="116" y="416"/>
                  </a:cubicBezTo>
                  <a:cubicBezTo>
                    <a:pt x="124" y="411"/>
                    <a:pt x="130" y="404"/>
                    <a:pt x="139" y="401"/>
                  </a:cubicBezTo>
                  <a:cubicBezTo>
                    <a:pt x="178" y="386"/>
                    <a:pt x="190" y="405"/>
                    <a:pt x="161" y="378"/>
                  </a:cubicBezTo>
                  <a:cubicBezTo>
                    <a:pt x="174" y="375"/>
                    <a:pt x="188" y="377"/>
                    <a:pt x="199" y="370"/>
                  </a:cubicBezTo>
                  <a:cubicBezTo>
                    <a:pt x="206" y="366"/>
                    <a:pt x="199" y="350"/>
                    <a:pt x="207" y="348"/>
                  </a:cubicBezTo>
                  <a:cubicBezTo>
                    <a:pt x="222" y="344"/>
                    <a:pt x="237" y="352"/>
                    <a:pt x="252" y="355"/>
                  </a:cubicBezTo>
                  <a:cubicBezTo>
                    <a:pt x="273" y="359"/>
                    <a:pt x="313" y="370"/>
                    <a:pt x="313" y="370"/>
                  </a:cubicBezTo>
                  <a:cubicBezTo>
                    <a:pt x="254" y="331"/>
                    <a:pt x="328" y="351"/>
                    <a:pt x="343" y="355"/>
                  </a:cubicBezTo>
                  <a:cubicBezTo>
                    <a:pt x="283" y="295"/>
                    <a:pt x="378" y="355"/>
                    <a:pt x="396" y="355"/>
                  </a:cubicBezTo>
                  <a:cubicBezTo>
                    <a:pt x="405" y="355"/>
                    <a:pt x="366" y="343"/>
                    <a:pt x="374" y="340"/>
                  </a:cubicBezTo>
                  <a:cubicBezTo>
                    <a:pt x="389" y="336"/>
                    <a:pt x="404" y="345"/>
                    <a:pt x="419" y="348"/>
                  </a:cubicBezTo>
                  <a:cubicBezTo>
                    <a:pt x="459" y="374"/>
                    <a:pt x="463" y="348"/>
                    <a:pt x="510" y="3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761"/>
            <p:cNvSpPr/>
            <p:nvPr/>
          </p:nvSpPr>
          <p:spPr>
            <a:xfrm>
              <a:off x="5251320" y="708120"/>
              <a:ext cx="992160" cy="158760"/>
            </a:xfrm>
            <a:custGeom>
              <a:avLst/>
              <a:gdLst/>
              <a:ahLst/>
              <a:rect l="l" t="t" r="r" b="b"/>
              <a:pathLst>
                <a:path w="625" h="100">
                  <a:moveTo>
                    <a:pt x="603" y="100"/>
                  </a:moveTo>
                  <a:cubicBezTo>
                    <a:pt x="590" y="63"/>
                    <a:pt x="557" y="41"/>
                    <a:pt x="535" y="9"/>
                  </a:cubicBezTo>
                  <a:cubicBezTo>
                    <a:pt x="464" y="11"/>
                    <a:pt x="392" y="7"/>
                    <a:pt x="322" y="16"/>
                  </a:cubicBezTo>
                  <a:cubicBezTo>
                    <a:pt x="289" y="20"/>
                    <a:pt x="389" y="18"/>
                    <a:pt x="421" y="24"/>
                  </a:cubicBezTo>
                  <a:cubicBezTo>
                    <a:pt x="429" y="26"/>
                    <a:pt x="406" y="29"/>
                    <a:pt x="398" y="31"/>
                  </a:cubicBezTo>
                  <a:cubicBezTo>
                    <a:pt x="380" y="34"/>
                    <a:pt x="363" y="36"/>
                    <a:pt x="345" y="39"/>
                  </a:cubicBezTo>
                  <a:cubicBezTo>
                    <a:pt x="322" y="36"/>
                    <a:pt x="300" y="33"/>
                    <a:pt x="277" y="31"/>
                  </a:cubicBezTo>
                  <a:cubicBezTo>
                    <a:pt x="239" y="28"/>
                    <a:pt x="201" y="28"/>
                    <a:pt x="163" y="24"/>
                  </a:cubicBezTo>
                  <a:cubicBezTo>
                    <a:pt x="135" y="21"/>
                    <a:pt x="0" y="0"/>
                    <a:pt x="171" y="16"/>
                  </a:cubicBezTo>
                  <a:cubicBezTo>
                    <a:pt x="208" y="35"/>
                    <a:pt x="269" y="54"/>
                    <a:pt x="171" y="39"/>
                  </a:cubicBezTo>
                  <a:cubicBezTo>
                    <a:pt x="163" y="36"/>
                    <a:pt x="156" y="33"/>
                    <a:pt x="148" y="31"/>
                  </a:cubicBezTo>
                  <a:cubicBezTo>
                    <a:pt x="135" y="28"/>
                    <a:pt x="99" y="18"/>
                    <a:pt x="110" y="24"/>
                  </a:cubicBezTo>
                  <a:cubicBezTo>
                    <a:pt x="126" y="33"/>
                    <a:pt x="145" y="34"/>
                    <a:pt x="163" y="39"/>
                  </a:cubicBezTo>
                  <a:cubicBezTo>
                    <a:pt x="178" y="44"/>
                    <a:pt x="252" y="85"/>
                    <a:pt x="193" y="47"/>
                  </a:cubicBezTo>
                  <a:cubicBezTo>
                    <a:pt x="292" y="43"/>
                    <a:pt x="374" y="46"/>
                    <a:pt x="466" y="24"/>
                  </a:cubicBezTo>
                  <a:cubicBezTo>
                    <a:pt x="480" y="27"/>
                    <a:pt x="625" y="58"/>
                    <a:pt x="550" y="31"/>
                  </a:cubicBezTo>
                  <a:cubicBezTo>
                    <a:pt x="570" y="52"/>
                    <a:pt x="572" y="100"/>
                    <a:pt x="603" y="1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762"/>
            <p:cNvSpPr/>
            <p:nvPr/>
          </p:nvSpPr>
          <p:spPr>
            <a:xfrm>
              <a:off x="1601640" y="5094360"/>
              <a:ext cx="1020960" cy="88920"/>
            </a:xfrm>
            <a:custGeom>
              <a:avLst/>
              <a:gdLst/>
              <a:ahLst/>
              <a:rect l="l" t="t" r="r" b="b"/>
              <a:pathLst>
                <a:path w="643" h="56">
                  <a:moveTo>
                    <a:pt x="44" y="27"/>
                  </a:moveTo>
                  <a:cubicBezTo>
                    <a:pt x="37" y="25"/>
                    <a:pt x="29" y="24"/>
                    <a:pt x="22" y="20"/>
                  </a:cubicBezTo>
                  <a:cubicBezTo>
                    <a:pt x="16" y="16"/>
                    <a:pt x="0" y="5"/>
                    <a:pt x="7" y="4"/>
                  </a:cubicBezTo>
                  <a:cubicBezTo>
                    <a:pt x="30" y="1"/>
                    <a:pt x="52" y="9"/>
                    <a:pt x="75" y="12"/>
                  </a:cubicBezTo>
                  <a:cubicBezTo>
                    <a:pt x="75" y="12"/>
                    <a:pt x="126" y="17"/>
                    <a:pt x="151" y="20"/>
                  </a:cubicBezTo>
                  <a:cubicBezTo>
                    <a:pt x="161" y="22"/>
                    <a:pt x="171" y="27"/>
                    <a:pt x="181" y="27"/>
                  </a:cubicBezTo>
                  <a:cubicBezTo>
                    <a:pt x="189" y="27"/>
                    <a:pt x="155" y="27"/>
                    <a:pt x="158" y="20"/>
                  </a:cubicBezTo>
                  <a:cubicBezTo>
                    <a:pt x="162" y="11"/>
                    <a:pt x="178" y="15"/>
                    <a:pt x="188" y="12"/>
                  </a:cubicBezTo>
                  <a:cubicBezTo>
                    <a:pt x="188" y="12"/>
                    <a:pt x="213" y="17"/>
                    <a:pt x="226" y="20"/>
                  </a:cubicBezTo>
                  <a:cubicBezTo>
                    <a:pt x="301" y="56"/>
                    <a:pt x="220" y="28"/>
                    <a:pt x="279" y="20"/>
                  </a:cubicBezTo>
                  <a:cubicBezTo>
                    <a:pt x="296" y="18"/>
                    <a:pt x="351" y="38"/>
                    <a:pt x="363" y="42"/>
                  </a:cubicBezTo>
                  <a:cubicBezTo>
                    <a:pt x="371" y="40"/>
                    <a:pt x="390" y="42"/>
                    <a:pt x="386" y="35"/>
                  </a:cubicBezTo>
                  <a:cubicBezTo>
                    <a:pt x="381" y="26"/>
                    <a:pt x="344" y="27"/>
                    <a:pt x="355" y="27"/>
                  </a:cubicBezTo>
                  <a:cubicBezTo>
                    <a:pt x="378" y="27"/>
                    <a:pt x="400" y="32"/>
                    <a:pt x="423" y="35"/>
                  </a:cubicBezTo>
                  <a:cubicBezTo>
                    <a:pt x="461" y="0"/>
                    <a:pt x="479" y="14"/>
                    <a:pt x="537" y="20"/>
                  </a:cubicBezTo>
                  <a:cubicBezTo>
                    <a:pt x="542" y="15"/>
                    <a:pt x="545" y="4"/>
                    <a:pt x="552" y="4"/>
                  </a:cubicBezTo>
                  <a:cubicBezTo>
                    <a:pt x="559" y="4"/>
                    <a:pt x="560" y="18"/>
                    <a:pt x="567" y="20"/>
                  </a:cubicBezTo>
                  <a:cubicBezTo>
                    <a:pt x="585" y="25"/>
                    <a:pt x="602" y="30"/>
                    <a:pt x="620" y="35"/>
                  </a:cubicBezTo>
                  <a:cubicBezTo>
                    <a:pt x="638" y="18"/>
                    <a:pt x="629" y="20"/>
                    <a:pt x="643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763"/>
            <p:cNvSpPr/>
            <p:nvPr/>
          </p:nvSpPr>
          <p:spPr>
            <a:xfrm>
              <a:off x="-252360" y="4849920"/>
              <a:ext cx="385560" cy="82440"/>
            </a:xfrm>
            <a:custGeom>
              <a:avLst/>
              <a:gdLst/>
              <a:ahLst/>
              <a:rect l="l" t="t" r="r" b="b"/>
              <a:pathLst>
                <a:path w="243" h="52">
                  <a:moveTo>
                    <a:pt x="0" y="52"/>
                  </a:moveTo>
                  <a:cubicBezTo>
                    <a:pt x="28" y="43"/>
                    <a:pt x="40" y="35"/>
                    <a:pt x="68" y="45"/>
                  </a:cubicBezTo>
                  <a:cubicBezTo>
                    <a:pt x="61" y="37"/>
                    <a:pt x="43" y="32"/>
                    <a:pt x="46" y="22"/>
                  </a:cubicBezTo>
                  <a:cubicBezTo>
                    <a:pt x="49" y="12"/>
                    <a:pt x="76" y="14"/>
                    <a:pt x="76" y="14"/>
                  </a:cubicBezTo>
                  <a:cubicBezTo>
                    <a:pt x="121" y="0"/>
                    <a:pt x="109" y="35"/>
                    <a:pt x="152" y="7"/>
                  </a:cubicBezTo>
                  <a:cubicBezTo>
                    <a:pt x="184" y="17"/>
                    <a:pt x="215" y="32"/>
                    <a:pt x="243" y="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764"/>
            <p:cNvSpPr/>
            <p:nvPr/>
          </p:nvSpPr>
          <p:spPr>
            <a:xfrm>
              <a:off x="1324080" y="4794120"/>
              <a:ext cx="1490400" cy="127080"/>
            </a:xfrm>
            <a:custGeom>
              <a:avLst/>
              <a:gdLst/>
              <a:ahLst/>
              <a:rect l="l" t="t" r="r" b="b"/>
              <a:pathLst>
                <a:path w="939" h="80">
                  <a:moveTo>
                    <a:pt x="0" y="57"/>
                  </a:moveTo>
                  <a:cubicBezTo>
                    <a:pt x="28" y="60"/>
                    <a:pt x="56" y="71"/>
                    <a:pt x="83" y="65"/>
                  </a:cubicBezTo>
                  <a:cubicBezTo>
                    <a:pt x="92" y="63"/>
                    <a:pt x="62" y="49"/>
                    <a:pt x="68" y="42"/>
                  </a:cubicBezTo>
                  <a:cubicBezTo>
                    <a:pt x="75" y="35"/>
                    <a:pt x="88" y="47"/>
                    <a:pt x="98" y="49"/>
                  </a:cubicBezTo>
                  <a:cubicBezTo>
                    <a:pt x="134" y="26"/>
                    <a:pt x="147" y="41"/>
                    <a:pt x="189" y="49"/>
                  </a:cubicBezTo>
                  <a:cubicBezTo>
                    <a:pt x="173" y="0"/>
                    <a:pt x="182" y="52"/>
                    <a:pt x="235" y="19"/>
                  </a:cubicBezTo>
                  <a:cubicBezTo>
                    <a:pt x="241" y="15"/>
                    <a:pt x="212" y="6"/>
                    <a:pt x="219" y="4"/>
                  </a:cubicBezTo>
                  <a:cubicBezTo>
                    <a:pt x="234" y="0"/>
                    <a:pt x="250" y="9"/>
                    <a:pt x="265" y="12"/>
                  </a:cubicBezTo>
                  <a:cubicBezTo>
                    <a:pt x="295" y="27"/>
                    <a:pt x="316" y="41"/>
                    <a:pt x="348" y="49"/>
                  </a:cubicBezTo>
                  <a:cubicBezTo>
                    <a:pt x="302" y="18"/>
                    <a:pt x="337" y="45"/>
                    <a:pt x="363" y="42"/>
                  </a:cubicBezTo>
                  <a:cubicBezTo>
                    <a:pt x="370" y="41"/>
                    <a:pt x="374" y="32"/>
                    <a:pt x="379" y="27"/>
                  </a:cubicBezTo>
                  <a:cubicBezTo>
                    <a:pt x="389" y="29"/>
                    <a:pt x="399" y="31"/>
                    <a:pt x="409" y="34"/>
                  </a:cubicBezTo>
                  <a:cubicBezTo>
                    <a:pt x="417" y="36"/>
                    <a:pt x="428" y="49"/>
                    <a:pt x="432" y="42"/>
                  </a:cubicBezTo>
                  <a:cubicBezTo>
                    <a:pt x="436" y="34"/>
                    <a:pt x="408" y="17"/>
                    <a:pt x="417" y="19"/>
                  </a:cubicBezTo>
                  <a:cubicBezTo>
                    <a:pt x="442" y="25"/>
                    <a:pt x="460" y="48"/>
                    <a:pt x="485" y="57"/>
                  </a:cubicBezTo>
                  <a:cubicBezTo>
                    <a:pt x="487" y="49"/>
                    <a:pt x="485" y="37"/>
                    <a:pt x="492" y="34"/>
                  </a:cubicBezTo>
                  <a:cubicBezTo>
                    <a:pt x="516" y="25"/>
                    <a:pt x="553" y="65"/>
                    <a:pt x="576" y="72"/>
                  </a:cubicBezTo>
                  <a:cubicBezTo>
                    <a:pt x="611" y="48"/>
                    <a:pt x="614" y="61"/>
                    <a:pt x="651" y="80"/>
                  </a:cubicBezTo>
                  <a:cubicBezTo>
                    <a:pt x="692" y="41"/>
                    <a:pt x="702" y="67"/>
                    <a:pt x="750" y="80"/>
                  </a:cubicBezTo>
                  <a:cubicBezTo>
                    <a:pt x="679" y="25"/>
                    <a:pt x="760" y="63"/>
                    <a:pt x="788" y="72"/>
                  </a:cubicBezTo>
                  <a:cubicBezTo>
                    <a:pt x="843" y="55"/>
                    <a:pt x="881" y="42"/>
                    <a:pt x="939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765"/>
            <p:cNvSpPr/>
            <p:nvPr/>
          </p:nvSpPr>
          <p:spPr>
            <a:xfrm>
              <a:off x="1347840" y="4848120"/>
              <a:ext cx="1299960" cy="246240"/>
            </a:xfrm>
            <a:custGeom>
              <a:avLst/>
              <a:gdLst/>
              <a:ahLst/>
              <a:rect l="l" t="t" r="r" b="b"/>
              <a:pathLst>
                <a:path w="819" h="155">
                  <a:moveTo>
                    <a:pt x="159" y="122"/>
                  </a:moveTo>
                  <a:cubicBezTo>
                    <a:pt x="120" y="95"/>
                    <a:pt x="84" y="104"/>
                    <a:pt x="159" y="91"/>
                  </a:cubicBezTo>
                  <a:cubicBezTo>
                    <a:pt x="179" y="94"/>
                    <a:pt x="200" y="95"/>
                    <a:pt x="220" y="99"/>
                  </a:cubicBezTo>
                  <a:cubicBezTo>
                    <a:pt x="228" y="100"/>
                    <a:pt x="234" y="108"/>
                    <a:pt x="242" y="106"/>
                  </a:cubicBezTo>
                  <a:cubicBezTo>
                    <a:pt x="249" y="104"/>
                    <a:pt x="253" y="96"/>
                    <a:pt x="258" y="91"/>
                  </a:cubicBezTo>
                  <a:cubicBezTo>
                    <a:pt x="293" y="104"/>
                    <a:pt x="297" y="109"/>
                    <a:pt x="333" y="91"/>
                  </a:cubicBezTo>
                  <a:cubicBezTo>
                    <a:pt x="343" y="96"/>
                    <a:pt x="354" y="101"/>
                    <a:pt x="364" y="106"/>
                  </a:cubicBezTo>
                  <a:cubicBezTo>
                    <a:pt x="374" y="111"/>
                    <a:pt x="383" y="124"/>
                    <a:pt x="394" y="122"/>
                  </a:cubicBezTo>
                  <a:cubicBezTo>
                    <a:pt x="402" y="121"/>
                    <a:pt x="399" y="107"/>
                    <a:pt x="402" y="99"/>
                  </a:cubicBezTo>
                  <a:cubicBezTo>
                    <a:pt x="443" y="108"/>
                    <a:pt x="476" y="117"/>
                    <a:pt x="515" y="129"/>
                  </a:cubicBezTo>
                  <a:cubicBezTo>
                    <a:pt x="561" y="115"/>
                    <a:pt x="587" y="141"/>
                    <a:pt x="629" y="152"/>
                  </a:cubicBezTo>
                  <a:cubicBezTo>
                    <a:pt x="626" y="144"/>
                    <a:pt x="617" y="136"/>
                    <a:pt x="621" y="129"/>
                  </a:cubicBezTo>
                  <a:cubicBezTo>
                    <a:pt x="638" y="96"/>
                    <a:pt x="666" y="155"/>
                    <a:pt x="629" y="99"/>
                  </a:cubicBezTo>
                  <a:cubicBezTo>
                    <a:pt x="637" y="96"/>
                    <a:pt x="652" y="99"/>
                    <a:pt x="652" y="91"/>
                  </a:cubicBezTo>
                  <a:cubicBezTo>
                    <a:pt x="652" y="82"/>
                    <a:pt x="637" y="80"/>
                    <a:pt x="629" y="76"/>
                  </a:cubicBezTo>
                  <a:cubicBezTo>
                    <a:pt x="620" y="72"/>
                    <a:pt x="589" y="69"/>
                    <a:pt x="599" y="69"/>
                  </a:cubicBezTo>
                  <a:cubicBezTo>
                    <a:pt x="662" y="69"/>
                    <a:pt x="725" y="74"/>
                    <a:pt x="788" y="76"/>
                  </a:cubicBezTo>
                  <a:cubicBezTo>
                    <a:pt x="796" y="79"/>
                    <a:pt x="819" y="85"/>
                    <a:pt x="811" y="84"/>
                  </a:cubicBezTo>
                  <a:cubicBezTo>
                    <a:pt x="708" y="65"/>
                    <a:pt x="711" y="61"/>
                    <a:pt x="576" y="53"/>
                  </a:cubicBezTo>
                  <a:cubicBezTo>
                    <a:pt x="537" y="47"/>
                    <a:pt x="517" y="30"/>
                    <a:pt x="492" y="53"/>
                  </a:cubicBezTo>
                  <a:cubicBezTo>
                    <a:pt x="466" y="35"/>
                    <a:pt x="476" y="39"/>
                    <a:pt x="447" y="31"/>
                  </a:cubicBezTo>
                  <a:cubicBezTo>
                    <a:pt x="427" y="25"/>
                    <a:pt x="386" y="15"/>
                    <a:pt x="386" y="15"/>
                  </a:cubicBezTo>
                  <a:cubicBezTo>
                    <a:pt x="394" y="20"/>
                    <a:pt x="400" y="31"/>
                    <a:pt x="409" y="31"/>
                  </a:cubicBezTo>
                  <a:cubicBezTo>
                    <a:pt x="416" y="31"/>
                    <a:pt x="387" y="15"/>
                    <a:pt x="394" y="15"/>
                  </a:cubicBezTo>
                  <a:cubicBezTo>
                    <a:pt x="403" y="15"/>
                    <a:pt x="409" y="26"/>
                    <a:pt x="417" y="31"/>
                  </a:cubicBezTo>
                  <a:cubicBezTo>
                    <a:pt x="382" y="42"/>
                    <a:pt x="377" y="25"/>
                    <a:pt x="341" y="15"/>
                  </a:cubicBezTo>
                  <a:cubicBezTo>
                    <a:pt x="390" y="67"/>
                    <a:pt x="282" y="13"/>
                    <a:pt x="265" y="8"/>
                  </a:cubicBezTo>
                  <a:cubicBezTo>
                    <a:pt x="250" y="4"/>
                    <a:pt x="235" y="3"/>
                    <a:pt x="220" y="0"/>
                  </a:cubicBezTo>
                  <a:cubicBezTo>
                    <a:pt x="195" y="9"/>
                    <a:pt x="170" y="16"/>
                    <a:pt x="144" y="23"/>
                  </a:cubicBezTo>
                  <a:cubicBezTo>
                    <a:pt x="87" y="60"/>
                    <a:pt x="130" y="38"/>
                    <a:pt x="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767"/>
            <p:cNvSpPr/>
            <p:nvPr/>
          </p:nvSpPr>
          <p:spPr>
            <a:xfrm>
              <a:off x="-179280" y="4816440"/>
              <a:ext cx="363600" cy="90360"/>
            </a:xfrm>
            <a:custGeom>
              <a:avLst/>
              <a:gdLst/>
              <a:ahLst/>
              <a:rect l="l" t="t" r="r" b="b"/>
              <a:pathLst>
                <a:path w="229" h="57">
                  <a:moveTo>
                    <a:pt x="17" y="57"/>
                  </a:moveTo>
                  <a:cubicBezTo>
                    <a:pt x="83" y="14"/>
                    <a:pt x="0" y="13"/>
                    <a:pt x="108" y="27"/>
                  </a:cubicBezTo>
                  <a:cubicBezTo>
                    <a:pt x="160" y="41"/>
                    <a:pt x="147" y="40"/>
                    <a:pt x="78" y="4"/>
                  </a:cubicBezTo>
                  <a:cubicBezTo>
                    <a:pt x="71" y="0"/>
                    <a:pt x="93" y="10"/>
                    <a:pt x="100" y="12"/>
                  </a:cubicBezTo>
                  <a:cubicBezTo>
                    <a:pt x="108" y="15"/>
                    <a:pt x="115" y="16"/>
                    <a:pt x="123" y="19"/>
                  </a:cubicBezTo>
                  <a:cubicBezTo>
                    <a:pt x="169" y="34"/>
                    <a:pt x="184" y="42"/>
                    <a:pt x="229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68"/>
            <p:cNvSpPr/>
            <p:nvPr/>
          </p:nvSpPr>
          <p:spPr>
            <a:xfrm>
              <a:off x="2585880" y="4871880"/>
              <a:ext cx="204840" cy="57240"/>
            </a:xfrm>
            <a:custGeom>
              <a:avLst/>
              <a:gdLst/>
              <a:ahLst/>
              <a:rect l="l" t="t" r="r" b="b"/>
              <a:pathLst>
                <a:path w="129" h="36">
                  <a:moveTo>
                    <a:pt x="0" y="23"/>
                  </a:moveTo>
                  <a:cubicBezTo>
                    <a:pt x="33" y="26"/>
                    <a:pt x="66" y="36"/>
                    <a:pt x="99" y="31"/>
                  </a:cubicBezTo>
                  <a:cubicBezTo>
                    <a:pt x="107" y="30"/>
                    <a:pt x="85" y="13"/>
                    <a:pt x="91" y="8"/>
                  </a:cubicBezTo>
                  <a:cubicBezTo>
                    <a:pt x="101" y="0"/>
                    <a:pt x="116" y="8"/>
                    <a:pt x="129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770"/>
            <p:cNvSpPr/>
            <p:nvPr/>
          </p:nvSpPr>
          <p:spPr>
            <a:xfrm>
              <a:off x="1465200" y="4835520"/>
              <a:ext cx="1290600" cy="163440"/>
            </a:xfrm>
            <a:custGeom>
              <a:avLst/>
              <a:gdLst/>
              <a:ahLst/>
              <a:rect l="l" t="t" r="r" b="b"/>
              <a:pathLst>
                <a:path w="813" h="103">
                  <a:moveTo>
                    <a:pt x="17" y="61"/>
                  </a:moveTo>
                  <a:cubicBezTo>
                    <a:pt x="12" y="54"/>
                    <a:pt x="0" y="48"/>
                    <a:pt x="2" y="39"/>
                  </a:cubicBezTo>
                  <a:cubicBezTo>
                    <a:pt x="8" y="13"/>
                    <a:pt x="87" y="58"/>
                    <a:pt x="24" y="39"/>
                  </a:cubicBezTo>
                  <a:cubicBezTo>
                    <a:pt x="22" y="31"/>
                    <a:pt x="9" y="19"/>
                    <a:pt x="17" y="16"/>
                  </a:cubicBezTo>
                  <a:cubicBezTo>
                    <a:pt x="34" y="10"/>
                    <a:pt x="53" y="18"/>
                    <a:pt x="70" y="23"/>
                  </a:cubicBezTo>
                  <a:cubicBezTo>
                    <a:pt x="83" y="27"/>
                    <a:pt x="113" y="59"/>
                    <a:pt x="77" y="23"/>
                  </a:cubicBezTo>
                  <a:cubicBezTo>
                    <a:pt x="112" y="6"/>
                    <a:pt x="102" y="0"/>
                    <a:pt x="130" y="23"/>
                  </a:cubicBezTo>
                  <a:cubicBezTo>
                    <a:pt x="136" y="28"/>
                    <a:pt x="154" y="39"/>
                    <a:pt x="146" y="39"/>
                  </a:cubicBezTo>
                  <a:cubicBezTo>
                    <a:pt x="137" y="39"/>
                    <a:pt x="114" y="26"/>
                    <a:pt x="123" y="23"/>
                  </a:cubicBezTo>
                  <a:cubicBezTo>
                    <a:pt x="137" y="18"/>
                    <a:pt x="153" y="28"/>
                    <a:pt x="168" y="31"/>
                  </a:cubicBezTo>
                  <a:cubicBezTo>
                    <a:pt x="178" y="36"/>
                    <a:pt x="191" y="38"/>
                    <a:pt x="199" y="46"/>
                  </a:cubicBezTo>
                  <a:cubicBezTo>
                    <a:pt x="205" y="52"/>
                    <a:pt x="183" y="43"/>
                    <a:pt x="176" y="39"/>
                  </a:cubicBezTo>
                  <a:cubicBezTo>
                    <a:pt x="124" y="8"/>
                    <a:pt x="202" y="36"/>
                    <a:pt x="138" y="16"/>
                  </a:cubicBezTo>
                  <a:cubicBezTo>
                    <a:pt x="178" y="5"/>
                    <a:pt x="190" y="16"/>
                    <a:pt x="229" y="31"/>
                  </a:cubicBezTo>
                  <a:cubicBezTo>
                    <a:pt x="234" y="39"/>
                    <a:pt x="250" y="48"/>
                    <a:pt x="244" y="54"/>
                  </a:cubicBezTo>
                  <a:cubicBezTo>
                    <a:pt x="238" y="60"/>
                    <a:pt x="221" y="48"/>
                    <a:pt x="221" y="39"/>
                  </a:cubicBezTo>
                  <a:cubicBezTo>
                    <a:pt x="221" y="31"/>
                    <a:pt x="236" y="34"/>
                    <a:pt x="244" y="31"/>
                  </a:cubicBezTo>
                  <a:cubicBezTo>
                    <a:pt x="287" y="48"/>
                    <a:pt x="270" y="40"/>
                    <a:pt x="297" y="54"/>
                  </a:cubicBezTo>
                  <a:cubicBezTo>
                    <a:pt x="304" y="58"/>
                    <a:pt x="266" y="46"/>
                    <a:pt x="274" y="46"/>
                  </a:cubicBezTo>
                  <a:cubicBezTo>
                    <a:pt x="297" y="46"/>
                    <a:pt x="320" y="51"/>
                    <a:pt x="343" y="54"/>
                  </a:cubicBezTo>
                  <a:cubicBezTo>
                    <a:pt x="358" y="64"/>
                    <a:pt x="427" y="87"/>
                    <a:pt x="358" y="69"/>
                  </a:cubicBezTo>
                  <a:cubicBezTo>
                    <a:pt x="348" y="61"/>
                    <a:pt x="325" y="58"/>
                    <a:pt x="328" y="46"/>
                  </a:cubicBezTo>
                  <a:cubicBezTo>
                    <a:pt x="332" y="27"/>
                    <a:pt x="389" y="44"/>
                    <a:pt x="396" y="46"/>
                  </a:cubicBezTo>
                  <a:cubicBezTo>
                    <a:pt x="462" y="91"/>
                    <a:pt x="367" y="41"/>
                    <a:pt x="381" y="31"/>
                  </a:cubicBezTo>
                  <a:cubicBezTo>
                    <a:pt x="391" y="24"/>
                    <a:pt x="406" y="36"/>
                    <a:pt x="418" y="39"/>
                  </a:cubicBezTo>
                  <a:cubicBezTo>
                    <a:pt x="426" y="41"/>
                    <a:pt x="433" y="44"/>
                    <a:pt x="441" y="46"/>
                  </a:cubicBezTo>
                  <a:cubicBezTo>
                    <a:pt x="498" y="103"/>
                    <a:pt x="447" y="58"/>
                    <a:pt x="456" y="46"/>
                  </a:cubicBezTo>
                  <a:cubicBezTo>
                    <a:pt x="462" y="38"/>
                    <a:pt x="477" y="41"/>
                    <a:pt x="487" y="39"/>
                  </a:cubicBezTo>
                  <a:cubicBezTo>
                    <a:pt x="494" y="44"/>
                    <a:pt x="501" y="50"/>
                    <a:pt x="509" y="54"/>
                  </a:cubicBezTo>
                  <a:cubicBezTo>
                    <a:pt x="516" y="58"/>
                    <a:pt x="524" y="59"/>
                    <a:pt x="532" y="61"/>
                  </a:cubicBezTo>
                  <a:cubicBezTo>
                    <a:pt x="577" y="76"/>
                    <a:pt x="548" y="67"/>
                    <a:pt x="525" y="61"/>
                  </a:cubicBezTo>
                  <a:cubicBezTo>
                    <a:pt x="532" y="59"/>
                    <a:pt x="540" y="52"/>
                    <a:pt x="547" y="54"/>
                  </a:cubicBezTo>
                  <a:cubicBezTo>
                    <a:pt x="564" y="60"/>
                    <a:pt x="578" y="74"/>
                    <a:pt x="593" y="84"/>
                  </a:cubicBezTo>
                  <a:cubicBezTo>
                    <a:pt x="600" y="88"/>
                    <a:pt x="578" y="79"/>
                    <a:pt x="570" y="77"/>
                  </a:cubicBezTo>
                  <a:cubicBezTo>
                    <a:pt x="608" y="51"/>
                    <a:pt x="581" y="60"/>
                    <a:pt x="638" y="77"/>
                  </a:cubicBezTo>
                  <a:cubicBezTo>
                    <a:pt x="646" y="79"/>
                    <a:pt x="666" y="90"/>
                    <a:pt x="661" y="84"/>
                  </a:cubicBezTo>
                  <a:cubicBezTo>
                    <a:pt x="654" y="76"/>
                    <a:pt x="641" y="74"/>
                    <a:pt x="631" y="69"/>
                  </a:cubicBezTo>
                  <a:cubicBezTo>
                    <a:pt x="641" y="66"/>
                    <a:pt x="651" y="61"/>
                    <a:pt x="661" y="61"/>
                  </a:cubicBezTo>
                  <a:cubicBezTo>
                    <a:pt x="671" y="61"/>
                    <a:pt x="701" y="73"/>
                    <a:pt x="691" y="69"/>
                  </a:cubicBezTo>
                  <a:cubicBezTo>
                    <a:pt x="684" y="66"/>
                    <a:pt x="676" y="64"/>
                    <a:pt x="669" y="61"/>
                  </a:cubicBezTo>
                  <a:cubicBezTo>
                    <a:pt x="703" y="50"/>
                    <a:pt x="704" y="66"/>
                    <a:pt x="737" y="77"/>
                  </a:cubicBezTo>
                  <a:cubicBezTo>
                    <a:pt x="786" y="25"/>
                    <a:pt x="720" y="31"/>
                    <a:pt x="813" y="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771"/>
            <p:cNvSpPr/>
            <p:nvPr/>
          </p:nvSpPr>
          <p:spPr>
            <a:xfrm>
              <a:off x="-282600" y="4867200"/>
              <a:ext cx="353880" cy="77760"/>
            </a:xfrm>
            <a:custGeom>
              <a:avLst/>
              <a:gdLst/>
              <a:ahLst/>
              <a:rect l="l" t="t" r="r" b="b"/>
              <a:pathLst>
                <a:path w="223" h="49">
                  <a:moveTo>
                    <a:pt x="42" y="49"/>
                  </a:moveTo>
                  <a:cubicBezTo>
                    <a:pt x="0" y="9"/>
                    <a:pt x="56" y="29"/>
                    <a:pt x="72" y="34"/>
                  </a:cubicBezTo>
                  <a:cubicBezTo>
                    <a:pt x="67" y="26"/>
                    <a:pt x="51" y="17"/>
                    <a:pt x="57" y="11"/>
                  </a:cubicBezTo>
                  <a:cubicBezTo>
                    <a:pt x="64" y="4"/>
                    <a:pt x="78" y="15"/>
                    <a:pt x="87" y="19"/>
                  </a:cubicBezTo>
                  <a:cubicBezTo>
                    <a:pt x="153" y="48"/>
                    <a:pt x="63" y="23"/>
                    <a:pt x="140" y="41"/>
                  </a:cubicBezTo>
                  <a:cubicBezTo>
                    <a:pt x="77" y="0"/>
                    <a:pt x="171" y="39"/>
                    <a:pt x="186" y="49"/>
                  </a:cubicBezTo>
                  <a:cubicBezTo>
                    <a:pt x="215" y="39"/>
                    <a:pt x="202" y="47"/>
                    <a:pt x="223" y="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772"/>
            <p:cNvSpPr/>
            <p:nvPr/>
          </p:nvSpPr>
          <p:spPr>
            <a:xfrm>
              <a:off x="5241960" y="5359320"/>
              <a:ext cx="2314440" cy="922320"/>
            </a:xfrm>
            <a:custGeom>
              <a:avLst/>
              <a:gdLst/>
              <a:ahLst/>
              <a:rect l="l" t="t" r="r" b="b"/>
              <a:pathLst>
                <a:path w="1458" h="581">
                  <a:moveTo>
                    <a:pt x="442" y="88"/>
                  </a:moveTo>
                  <a:cubicBezTo>
                    <a:pt x="448" y="129"/>
                    <a:pt x="452" y="157"/>
                    <a:pt x="465" y="194"/>
                  </a:cubicBezTo>
                  <a:cubicBezTo>
                    <a:pt x="458" y="256"/>
                    <a:pt x="451" y="307"/>
                    <a:pt x="487" y="360"/>
                  </a:cubicBezTo>
                  <a:cubicBezTo>
                    <a:pt x="485" y="368"/>
                    <a:pt x="488" y="383"/>
                    <a:pt x="480" y="383"/>
                  </a:cubicBezTo>
                  <a:cubicBezTo>
                    <a:pt x="472" y="383"/>
                    <a:pt x="476" y="367"/>
                    <a:pt x="472" y="360"/>
                  </a:cubicBezTo>
                  <a:cubicBezTo>
                    <a:pt x="468" y="352"/>
                    <a:pt x="448" y="338"/>
                    <a:pt x="457" y="338"/>
                  </a:cubicBezTo>
                  <a:cubicBezTo>
                    <a:pt x="468" y="338"/>
                    <a:pt x="473" y="352"/>
                    <a:pt x="480" y="360"/>
                  </a:cubicBezTo>
                  <a:cubicBezTo>
                    <a:pt x="486" y="367"/>
                    <a:pt x="501" y="377"/>
                    <a:pt x="495" y="383"/>
                  </a:cubicBezTo>
                  <a:cubicBezTo>
                    <a:pt x="489" y="389"/>
                    <a:pt x="479" y="374"/>
                    <a:pt x="472" y="368"/>
                  </a:cubicBezTo>
                  <a:cubicBezTo>
                    <a:pt x="464" y="361"/>
                    <a:pt x="457" y="353"/>
                    <a:pt x="450" y="345"/>
                  </a:cubicBezTo>
                  <a:cubicBezTo>
                    <a:pt x="476" y="327"/>
                    <a:pt x="471" y="322"/>
                    <a:pt x="503" y="345"/>
                  </a:cubicBezTo>
                  <a:cubicBezTo>
                    <a:pt x="512" y="351"/>
                    <a:pt x="514" y="368"/>
                    <a:pt x="525" y="368"/>
                  </a:cubicBezTo>
                  <a:cubicBezTo>
                    <a:pt x="534" y="368"/>
                    <a:pt x="516" y="352"/>
                    <a:pt x="510" y="345"/>
                  </a:cubicBezTo>
                  <a:cubicBezTo>
                    <a:pt x="503" y="337"/>
                    <a:pt x="495" y="330"/>
                    <a:pt x="487" y="323"/>
                  </a:cubicBezTo>
                  <a:cubicBezTo>
                    <a:pt x="495" y="318"/>
                    <a:pt x="501" y="307"/>
                    <a:pt x="510" y="307"/>
                  </a:cubicBezTo>
                  <a:cubicBezTo>
                    <a:pt x="517" y="307"/>
                    <a:pt x="519" y="328"/>
                    <a:pt x="525" y="323"/>
                  </a:cubicBezTo>
                  <a:cubicBezTo>
                    <a:pt x="531" y="318"/>
                    <a:pt x="523" y="306"/>
                    <a:pt x="518" y="300"/>
                  </a:cubicBezTo>
                  <a:cubicBezTo>
                    <a:pt x="501" y="280"/>
                    <a:pt x="487" y="277"/>
                    <a:pt x="465" y="269"/>
                  </a:cubicBezTo>
                  <a:cubicBezTo>
                    <a:pt x="460" y="262"/>
                    <a:pt x="448" y="256"/>
                    <a:pt x="450" y="247"/>
                  </a:cubicBezTo>
                  <a:cubicBezTo>
                    <a:pt x="452" y="239"/>
                    <a:pt x="464" y="238"/>
                    <a:pt x="472" y="239"/>
                  </a:cubicBezTo>
                  <a:cubicBezTo>
                    <a:pt x="481" y="240"/>
                    <a:pt x="495" y="263"/>
                    <a:pt x="495" y="254"/>
                  </a:cubicBezTo>
                  <a:cubicBezTo>
                    <a:pt x="495" y="231"/>
                    <a:pt x="404" y="212"/>
                    <a:pt x="480" y="232"/>
                  </a:cubicBezTo>
                  <a:cubicBezTo>
                    <a:pt x="482" y="222"/>
                    <a:pt x="480" y="209"/>
                    <a:pt x="487" y="201"/>
                  </a:cubicBezTo>
                  <a:cubicBezTo>
                    <a:pt x="492" y="195"/>
                    <a:pt x="506" y="201"/>
                    <a:pt x="510" y="194"/>
                  </a:cubicBezTo>
                  <a:cubicBezTo>
                    <a:pt x="516" y="184"/>
                    <a:pt x="478" y="137"/>
                    <a:pt x="472" y="133"/>
                  </a:cubicBezTo>
                  <a:cubicBezTo>
                    <a:pt x="449" y="119"/>
                    <a:pt x="422" y="114"/>
                    <a:pt x="397" y="103"/>
                  </a:cubicBezTo>
                  <a:cubicBezTo>
                    <a:pt x="390" y="100"/>
                    <a:pt x="367" y="90"/>
                    <a:pt x="374" y="95"/>
                  </a:cubicBezTo>
                  <a:cubicBezTo>
                    <a:pt x="417" y="124"/>
                    <a:pt x="432" y="123"/>
                    <a:pt x="465" y="163"/>
                  </a:cubicBezTo>
                  <a:cubicBezTo>
                    <a:pt x="470" y="169"/>
                    <a:pt x="487" y="179"/>
                    <a:pt x="480" y="179"/>
                  </a:cubicBezTo>
                  <a:cubicBezTo>
                    <a:pt x="471" y="179"/>
                    <a:pt x="466" y="166"/>
                    <a:pt x="457" y="163"/>
                  </a:cubicBezTo>
                  <a:cubicBezTo>
                    <a:pt x="445" y="158"/>
                    <a:pt x="432" y="158"/>
                    <a:pt x="419" y="156"/>
                  </a:cubicBezTo>
                  <a:cubicBezTo>
                    <a:pt x="421" y="165"/>
                    <a:pt x="436" y="233"/>
                    <a:pt x="434" y="239"/>
                  </a:cubicBezTo>
                  <a:cubicBezTo>
                    <a:pt x="433" y="241"/>
                    <a:pt x="390" y="254"/>
                    <a:pt x="389" y="254"/>
                  </a:cubicBezTo>
                  <a:cubicBezTo>
                    <a:pt x="392" y="262"/>
                    <a:pt x="394" y="269"/>
                    <a:pt x="397" y="277"/>
                  </a:cubicBezTo>
                  <a:cubicBezTo>
                    <a:pt x="399" y="285"/>
                    <a:pt x="411" y="297"/>
                    <a:pt x="404" y="300"/>
                  </a:cubicBezTo>
                  <a:cubicBezTo>
                    <a:pt x="399" y="303"/>
                    <a:pt x="353" y="288"/>
                    <a:pt x="343" y="285"/>
                  </a:cubicBezTo>
                  <a:cubicBezTo>
                    <a:pt x="341" y="292"/>
                    <a:pt x="344" y="306"/>
                    <a:pt x="336" y="307"/>
                  </a:cubicBezTo>
                  <a:cubicBezTo>
                    <a:pt x="325" y="309"/>
                    <a:pt x="316" y="298"/>
                    <a:pt x="306" y="292"/>
                  </a:cubicBezTo>
                  <a:cubicBezTo>
                    <a:pt x="264" y="268"/>
                    <a:pt x="304" y="281"/>
                    <a:pt x="245" y="269"/>
                  </a:cubicBezTo>
                  <a:cubicBezTo>
                    <a:pt x="242" y="277"/>
                    <a:pt x="245" y="292"/>
                    <a:pt x="237" y="292"/>
                  </a:cubicBezTo>
                  <a:cubicBezTo>
                    <a:pt x="229" y="292"/>
                    <a:pt x="236" y="275"/>
                    <a:pt x="230" y="269"/>
                  </a:cubicBezTo>
                  <a:cubicBezTo>
                    <a:pt x="220" y="259"/>
                    <a:pt x="203" y="256"/>
                    <a:pt x="192" y="247"/>
                  </a:cubicBezTo>
                  <a:cubicBezTo>
                    <a:pt x="173" y="231"/>
                    <a:pt x="157" y="212"/>
                    <a:pt x="139" y="194"/>
                  </a:cubicBezTo>
                  <a:cubicBezTo>
                    <a:pt x="130" y="185"/>
                    <a:pt x="158" y="210"/>
                    <a:pt x="169" y="216"/>
                  </a:cubicBezTo>
                  <a:cubicBezTo>
                    <a:pt x="176" y="220"/>
                    <a:pt x="185" y="220"/>
                    <a:pt x="192" y="224"/>
                  </a:cubicBezTo>
                  <a:cubicBezTo>
                    <a:pt x="200" y="228"/>
                    <a:pt x="207" y="234"/>
                    <a:pt x="215" y="239"/>
                  </a:cubicBezTo>
                  <a:cubicBezTo>
                    <a:pt x="225" y="254"/>
                    <a:pt x="260" y="295"/>
                    <a:pt x="245" y="285"/>
                  </a:cubicBezTo>
                  <a:cubicBezTo>
                    <a:pt x="199" y="253"/>
                    <a:pt x="144" y="232"/>
                    <a:pt x="101" y="194"/>
                  </a:cubicBezTo>
                  <a:cubicBezTo>
                    <a:pt x="85" y="180"/>
                    <a:pt x="55" y="148"/>
                    <a:pt x="55" y="148"/>
                  </a:cubicBezTo>
                  <a:cubicBezTo>
                    <a:pt x="34" y="107"/>
                    <a:pt x="19" y="95"/>
                    <a:pt x="109" y="133"/>
                  </a:cubicBezTo>
                  <a:cubicBezTo>
                    <a:pt x="119" y="137"/>
                    <a:pt x="120" y="156"/>
                    <a:pt x="131" y="156"/>
                  </a:cubicBezTo>
                  <a:cubicBezTo>
                    <a:pt x="140" y="156"/>
                    <a:pt x="122" y="140"/>
                    <a:pt x="116" y="133"/>
                  </a:cubicBezTo>
                  <a:cubicBezTo>
                    <a:pt x="91" y="108"/>
                    <a:pt x="73" y="89"/>
                    <a:pt x="40" y="80"/>
                  </a:cubicBezTo>
                  <a:cubicBezTo>
                    <a:pt x="21" y="51"/>
                    <a:pt x="0" y="41"/>
                    <a:pt x="40" y="27"/>
                  </a:cubicBezTo>
                  <a:cubicBezTo>
                    <a:pt x="56" y="32"/>
                    <a:pt x="95" y="40"/>
                    <a:pt x="109" y="57"/>
                  </a:cubicBezTo>
                  <a:cubicBezTo>
                    <a:pt x="121" y="71"/>
                    <a:pt x="129" y="88"/>
                    <a:pt x="139" y="103"/>
                  </a:cubicBezTo>
                  <a:cubicBezTo>
                    <a:pt x="145" y="112"/>
                    <a:pt x="124" y="88"/>
                    <a:pt x="116" y="80"/>
                  </a:cubicBezTo>
                  <a:cubicBezTo>
                    <a:pt x="111" y="67"/>
                    <a:pt x="109" y="53"/>
                    <a:pt x="101" y="42"/>
                  </a:cubicBezTo>
                  <a:cubicBezTo>
                    <a:pt x="96" y="35"/>
                    <a:pt x="84" y="34"/>
                    <a:pt x="78" y="27"/>
                  </a:cubicBezTo>
                  <a:cubicBezTo>
                    <a:pt x="73" y="21"/>
                    <a:pt x="64" y="8"/>
                    <a:pt x="71" y="4"/>
                  </a:cubicBezTo>
                  <a:cubicBezTo>
                    <a:pt x="79" y="0"/>
                    <a:pt x="86" y="14"/>
                    <a:pt x="93" y="19"/>
                  </a:cubicBezTo>
                  <a:cubicBezTo>
                    <a:pt x="123" y="63"/>
                    <a:pt x="126" y="76"/>
                    <a:pt x="139" y="125"/>
                  </a:cubicBezTo>
                  <a:cubicBezTo>
                    <a:pt x="141" y="148"/>
                    <a:pt x="143" y="171"/>
                    <a:pt x="146" y="194"/>
                  </a:cubicBezTo>
                  <a:cubicBezTo>
                    <a:pt x="148" y="204"/>
                    <a:pt x="154" y="234"/>
                    <a:pt x="154" y="224"/>
                  </a:cubicBezTo>
                  <a:cubicBezTo>
                    <a:pt x="154" y="181"/>
                    <a:pt x="150" y="138"/>
                    <a:pt x="146" y="95"/>
                  </a:cubicBezTo>
                  <a:cubicBezTo>
                    <a:pt x="145" y="82"/>
                    <a:pt x="130" y="48"/>
                    <a:pt x="139" y="57"/>
                  </a:cubicBezTo>
                  <a:cubicBezTo>
                    <a:pt x="150" y="68"/>
                    <a:pt x="148" y="88"/>
                    <a:pt x="154" y="103"/>
                  </a:cubicBezTo>
                  <a:cubicBezTo>
                    <a:pt x="185" y="183"/>
                    <a:pt x="184" y="258"/>
                    <a:pt x="245" y="323"/>
                  </a:cubicBezTo>
                  <a:cubicBezTo>
                    <a:pt x="248" y="272"/>
                    <a:pt x="249" y="222"/>
                    <a:pt x="253" y="171"/>
                  </a:cubicBezTo>
                  <a:cubicBezTo>
                    <a:pt x="254" y="163"/>
                    <a:pt x="252" y="149"/>
                    <a:pt x="260" y="148"/>
                  </a:cubicBezTo>
                  <a:cubicBezTo>
                    <a:pt x="276" y="146"/>
                    <a:pt x="291" y="158"/>
                    <a:pt x="306" y="163"/>
                  </a:cubicBezTo>
                  <a:cubicBezTo>
                    <a:pt x="313" y="176"/>
                    <a:pt x="322" y="188"/>
                    <a:pt x="328" y="201"/>
                  </a:cubicBezTo>
                  <a:cubicBezTo>
                    <a:pt x="332" y="211"/>
                    <a:pt x="330" y="223"/>
                    <a:pt x="336" y="232"/>
                  </a:cubicBezTo>
                  <a:cubicBezTo>
                    <a:pt x="348" y="249"/>
                    <a:pt x="366" y="262"/>
                    <a:pt x="381" y="277"/>
                  </a:cubicBezTo>
                  <a:cubicBezTo>
                    <a:pt x="390" y="286"/>
                    <a:pt x="395" y="299"/>
                    <a:pt x="404" y="307"/>
                  </a:cubicBezTo>
                  <a:cubicBezTo>
                    <a:pt x="423" y="324"/>
                    <a:pt x="465" y="353"/>
                    <a:pt x="465" y="353"/>
                  </a:cubicBezTo>
                  <a:cubicBezTo>
                    <a:pt x="470" y="345"/>
                    <a:pt x="477" y="339"/>
                    <a:pt x="480" y="330"/>
                  </a:cubicBezTo>
                  <a:cubicBezTo>
                    <a:pt x="494" y="290"/>
                    <a:pt x="474" y="280"/>
                    <a:pt x="503" y="307"/>
                  </a:cubicBezTo>
                  <a:cubicBezTo>
                    <a:pt x="511" y="324"/>
                    <a:pt x="516" y="343"/>
                    <a:pt x="525" y="360"/>
                  </a:cubicBezTo>
                  <a:cubicBezTo>
                    <a:pt x="534" y="376"/>
                    <a:pt x="556" y="406"/>
                    <a:pt x="556" y="406"/>
                  </a:cubicBezTo>
                  <a:cubicBezTo>
                    <a:pt x="579" y="370"/>
                    <a:pt x="565" y="340"/>
                    <a:pt x="556" y="300"/>
                  </a:cubicBezTo>
                  <a:cubicBezTo>
                    <a:pt x="558" y="285"/>
                    <a:pt x="552" y="265"/>
                    <a:pt x="563" y="254"/>
                  </a:cubicBezTo>
                  <a:cubicBezTo>
                    <a:pt x="573" y="244"/>
                    <a:pt x="589" y="274"/>
                    <a:pt x="601" y="292"/>
                  </a:cubicBezTo>
                  <a:cubicBezTo>
                    <a:pt x="620" y="367"/>
                    <a:pt x="593" y="277"/>
                    <a:pt x="631" y="353"/>
                  </a:cubicBezTo>
                  <a:cubicBezTo>
                    <a:pt x="636" y="362"/>
                    <a:pt x="632" y="375"/>
                    <a:pt x="639" y="383"/>
                  </a:cubicBezTo>
                  <a:cubicBezTo>
                    <a:pt x="644" y="389"/>
                    <a:pt x="654" y="388"/>
                    <a:pt x="662" y="391"/>
                  </a:cubicBezTo>
                  <a:cubicBezTo>
                    <a:pt x="687" y="415"/>
                    <a:pt x="694" y="440"/>
                    <a:pt x="722" y="459"/>
                  </a:cubicBezTo>
                  <a:cubicBezTo>
                    <a:pt x="725" y="451"/>
                    <a:pt x="732" y="444"/>
                    <a:pt x="730" y="436"/>
                  </a:cubicBezTo>
                  <a:cubicBezTo>
                    <a:pt x="726" y="421"/>
                    <a:pt x="666" y="367"/>
                    <a:pt x="738" y="436"/>
                  </a:cubicBezTo>
                  <a:cubicBezTo>
                    <a:pt x="720" y="401"/>
                    <a:pt x="705" y="367"/>
                    <a:pt x="692" y="330"/>
                  </a:cubicBezTo>
                  <a:cubicBezTo>
                    <a:pt x="689" y="322"/>
                    <a:pt x="678" y="311"/>
                    <a:pt x="685" y="307"/>
                  </a:cubicBezTo>
                  <a:cubicBezTo>
                    <a:pt x="696" y="301"/>
                    <a:pt x="710" y="312"/>
                    <a:pt x="722" y="315"/>
                  </a:cubicBezTo>
                  <a:cubicBezTo>
                    <a:pt x="746" y="337"/>
                    <a:pt x="791" y="383"/>
                    <a:pt x="791" y="383"/>
                  </a:cubicBezTo>
                  <a:cubicBezTo>
                    <a:pt x="823" y="333"/>
                    <a:pt x="793" y="369"/>
                    <a:pt x="813" y="429"/>
                  </a:cubicBezTo>
                  <a:cubicBezTo>
                    <a:pt x="819" y="446"/>
                    <a:pt x="839" y="454"/>
                    <a:pt x="851" y="467"/>
                  </a:cubicBezTo>
                  <a:cubicBezTo>
                    <a:pt x="859" y="464"/>
                    <a:pt x="871" y="467"/>
                    <a:pt x="874" y="459"/>
                  </a:cubicBezTo>
                  <a:cubicBezTo>
                    <a:pt x="884" y="428"/>
                    <a:pt x="840" y="387"/>
                    <a:pt x="829" y="360"/>
                  </a:cubicBezTo>
                  <a:cubicBezTo>
                    <a:pt x="823" y="345"/>
                    <a:pt x="818" y="330"/>
                    <a:pt x="813" y="315"/>
                  </a:cubicBezTo>
                  <a:cubicBezTo>
                    <a:pt x="809" y="303"/>
                    <a:pt x="802" y="265"/>
                    <a:pt x="806" y="277"/>
                  </a:cubicBezTo>
                  <a:cubicBezTo>
                    <a:pt x="831" y="349"/>
                    <a:pt x="836" y="425"/>
                    <a:pt x="882" y="489"/>
                  </a:cubicBezTo>
                  <a:cubicBezTo>
                    <a:pt x="884" y="499"/>
                    <a:pt x="880" y="515"/>
                    <a:pt x="889" y="520"/>
                  </a:cubicBezTo>
                  <a:cubicBezTo>
                    <a:pt x="896" y="524"/>
                    <a:pt x="899" y="505"/>
                    <a:pt x="897" y="497"/>
                  </a:cubicBezTo>
                  <a:cubicBezTo>
                    <a:pt x="893" y="482"/>
                    <a:pt x="861" y="442"/>
                    <a:pt x="851" y="429"/>
                  </a:cubicBezTo>
                  <a:cubicBezTo>
                    <a:pt x="838" y="385"/>
                    <a:pt x="845" y="413"/>
                    <a:pt x="859" y="436"/>
                  </a:cubicBezTo>
                  <a:cubicBezTo>
                    <a:pt x="866" y="447"/>
                    <a:pt x="874" y="457"/>
                    <a:pt x="882" y="467"/>
                  </a:cubicBezTo>
                  <a:cubicBezTo>
                    <a:pt x="887" y="462"/>
                    <a:pt x="898" y="458"/>
                    <a:pt x="897" y="451"/>
                  </a:cubicBezTo>
                  <a:cubicBezTo>
                    <a:pt x="893" y="427"/>
                    <a:pt x="806" y="376"/>
                    <a:pt x="882" y="413"/>
                  </a:cubicBezTo>
                  <a:cubicBezTo>
                    <a:pt x="868" y="375"/>
                    <a:pt x="807" y="350"/>
                    <a:pt x="874" y="368"/>
                  </a:cubicBezTo>
                  <a:cubicBezTo>
                    <a:pt x="876" y="369"/>
                    <a:pt x="969" y="430"/>
                    <a:pt x="882" y="360"/>
                  </a:cubicBezTo>
                  <a:cubicBezTo>
                    <a:pt x="875" y="355"/>
                    <a:pt x="781" y="299"/>
                    <a:pt x="874" y="345"/>
                  </a:cubicBezTo>
                  <a:cubicBezTo>
                    <a:pt x="882" y="349"/>
                    <a:pt x="889" y="355"/>
                    <a:pt x="897" y="360"/>
                  </a:cubicBezTo>
                  <a:cubicBezTo>
                    <a:pt x="889" y="348"/>
                    <a:pt x="883" y="335"/>
                    <a:pt x="874" y="323"/>
                  </a:cubicBezTo>
                  <a:cubicBezTo>
                    <a:pt x="867" y="314"/>
                    <a:pt x="851" y="311"/>
                    <a:pt x="851" y="300"/>
                  </a:cubicBezTo>
                  <a:cubicBezTo>
                    <a:pt x="851" y="292"/>
                    <a:pt x="867" y="304"/>
                    <a:pt x="874" y="307"/>
                  </a:cubicBezTo>
                  <a:cubicBezTo>
                    <a:pt x="884" y="312"/>
                    <a:pt x="894" y="318"/>
                    <a:pt x="904" y="323"/>
                  </a:cubicBezTo>
                  <a:cubicBezTo>
                    <a:pt x="897" y="313"/>
                    <a:pt x="891" y="301"/>
                    <a:pt x="882" y="292"/>
                  </a:cubicBezTo>
                  <a:cubicBezTo>
                    <a:pt x="820" y="235"/>
                    <a:pt x="808" y="253"/>
                    <a:pt x="874" y="269"/>
                  </a:cubicBezTo>
                  <a:cubicBezTo>
                    <a:pt x="887" y="272"/>
                    <a:pt x="899" y="274"/>
                    <a:pt x="912" y="277"/>
                  </a:cubicBezTo>
                  <a:cubicBezTo>
                    <a:pt x="918" y="333"/>
                    <a:pt x="913" y="346"/>
                    <a:pt x="950" y="383"/>
                  </a:cubicBezTo>
                  <a:cubicBezTo>
                    <a:pt x="952" y="360"/>
                    <a:pt x="941" y="331"/>
                    <a:pt x="957" y="315"/>
                  </a:cubicBezTo>
                  <a:cubicBezTo>
                    <a:pt x="968" y="304"/>
                    <a:pt x="968" y="345"/>
                    <a:pt x="973" y="360"/>
                  </a:cubicBezTo>
                  <a:cubicBezTo>
                    <a:pt x="1014" y="475"/>
                    <a:pt x="946" y="328"/>
                    <a:pt x="995" y="429"/>
                  </a:cubicBezTo>
                  <a:cubicBezTo>
                    <a:pt x="1012" y="509"/>
                    <a:pt x="988" y="432"/>
                    <a:pt x="1026" y="489"/>
                  </a:cubicBezTo>
                  <a:cubicBezTo>
                    <a:pt x="1072" y="559"/>
                    <a:pt x="978" y="457"/>
                    <a:pt x="1056" y="535"/>
                  </a:cubicBezTo>
                  <a:cubicBezTo>
                    <a:pt x="1051" y="522"/>
                    <a:pt x="1046" y="509"/>
                    <a:pt x="1041" y="497"/>
                  </a:cubicBezTo>
                  <a:cubicBezTo>
                    <a:pt x="1036" y="487"/>
                    <a:pt x="1030" y="477"/>
                    <a:pt x="1026" y="467"/>
                  </a:cubicBezTo>
                  <a:cubicBezTo>
                    <a:pt x="1023" y="460"/>
                    <a:pt x="1010" y="444"/>
                    <a:pt x="1018" y="444"/>
                  </a:cubicBezTo>
                  <a:cubicBezTo>
                    <a:pt x="1039" y="444"/>
                    <a:pt x="1070" y="501"/>
                    <a:pt x="1101" y="512"/>
                  </a:cubicBezTo>
                  <a:cubicBezTo>
                    <a:pt x="1106" y="520"/>
                    <a:pt x="1117" y="544"/>
                    <a:pt x="1117" y="535"/>
                  </a:cubicBezTo>
                  <a:cubicBezTo>
                    <a:pt x="1117" y="519"/>
                    <a:pt x="1106" y="504"/>
                    <a:pt x="1101" y="489"/>
                  </a:cubicBezTo>
                  <a:cubicBezTo>
                    <a:pt x="1088" y="450"/>
                    <a:pt x="1092" y="471"/>
                    <a:pt x="1124" y="489"/>
                  </a:cubicBezTo>
                  <a:cubicBezTo>
                    <a:pt x="1131" y="493"/>
                    <a:pt x="1139" y="494"/>
                    <a:pt x="1147" y="497"/>
                  </a:cubicBezTo>
                  <a:cubicBezTo>
                    <a:pt x="1157" y="505"/>
                    <a:pt x="1168" y="512"/>
                    <a:pt x="1177" y="520"/>
                  </a:cubicBezTo>
                  <a:cubicBezTo>
                    <a:pt x="1188" y="529"/>
                    <a:pt x="1199" y="562"/>
                    <a:pt x="1207" y="550"/>
                  </a:cubicBezTo>
                  <a:cubicBezTo>
                    <a:pt x="1229" y="517"/>
                    <a:pt x="1146" y="451"/>
                    <a:pt x="1139" y="444"/>
                  </a:cubicBezTo>
                  <a:cubicBezTo>
                    <a:pt x="1127" y="432"/>
                    <a:pt x="1086" y="418"/>
                    <a:pt x="1101" y="413"/>
                  </a:cubicBezTo>
                  <a:cubicBezTo>
                    <a:pt x="1122" y="406"/>
                    <a:pt x="1143" y="426"/>
                    <a:pt x="1162" y="436"/>
                  </a:cubicBezTo>
                  <a:cubicBezTo>
                    <a:pt x="1215" y="463"/>
                    <a:pt x="1244" y="511"/>
                    <a:pt x="1291" y="542"/>
                  </a:cubicBezTo>
                  <a:cubicBezTo>
                    <a:pt x="1296" y="550"/>
                    <a:pt x="1300" y="571"/>
                    <a:pt x="1306" y="565"/>
                  </a:cubicBezTo>
                  <a:cubicBezTo>
                    <a:pt x="1313" y="558"/>
                    <a:pt x="1304" y="543"/>
                    <a:pt x="1298" y="535"/>
                  </a:cubicBezTo>
                  <a:cubicBezTo>
                    <a:pt x="1285" y="517"/>
                    <a:pt x="1236" y="477"/>
                    <a:pt x="1215" y="467"/>
                  </a:cubicBezTo>
                  <a:cubicBezTo>
                    <a:pt x="1210" y="457"/>
                    <a:pt x="1196" y="447"/>
                    <a:pt x="1200" y="436"/>
                  </a:cubicBezTo>
                  <a:cubicBezTo>
                    <a:pt x="1203" y="428"/>
                    <a:pt x="1216" y="439"/>
                    <a:pt x="1223" y="444"/>
                  </a:cubicBezTo>
                  <a:cubicBezTo>
                    <a:pt x="1234" y="452"/>
                    <a:pt x="1242" y="465"/>
                    <a:pt x="1253" y="474"/>
                  </a:cubicBezTo>
                  <a:cubicBezTo>
                    <a:pt x="1330" y="538"/>
                    <a:pt x="1297" y="494"/>
                    <a:pt x="1329" y="542"/>
                  </a:cubicBezTo>
                  <a:cubicBezTo>
                    <a:pt x="1319" y="505"/>
                    <a:pt x="1312" y="484"/>
                    <a:pt x="1291" y="451"/>
                  </a:cubicBezTo>
                  <a:cubicBezTo>
                    <a:pt x="1286" y="444"/>
                    <a:pt x="1276" y="420"/>
                    <a:pt x="1276" y="429"/>
                  </a:cubicBezTo>
                  <a:cubicBezTo>
                    <a:pt x="1276" y="440"/>
                    <a:pt x="1286" y="449"/>
                    <a:pt x="1291" y="459"/>
                  </a:cubicBezTo>
                  <a:cubicBezTo>
                    <a:pt x="1306" y="523"/>
                    <a:pt x="1287" y="458"/>
                    <a:pt x="1314" y="512"/>
                  </a:cubicBezTo>
                  <a:cubicBezTo>
                    <a:pt x="1318" y="519"/>
                    <a:pt x="1328" y="531"/>
                    <a:pt x="1321" y="535"/>
                  </a:cubicBezTo>
                  <a:cubicBezTo>
                    <a:pt x="1313" y="539"/>
                    <a:pt x="1305" y="526"/>
                    <a:pt x="1298" y="520"/>
                  </a:cubicBezTo>
                  <a:cubicBezTo>
                    <a:pt x="1287" y="511"/>
                    <a:pt x="1278" y="499"/>
                    <a:pt x="1268" y="489"/>
                  </a:cubicBezTo>
                  <a:cubicBezTo>
                    <a:pt x="1242" y="422"/>
                    <a:pt x="1235" y="382"/>
                    <a:pt x="1261" y="307"/>
                  </a:cubicBezTo>
                  <a:cubicBezTo>
                    <a:pt x="1316" y="384"/>
                    <a:pt x="1247" y="281"/>
                    <a:pt x="1298" y="391"/>
                  </a:cubicBezTo>
                  <a:cubicBezTo>
                    <a:pt x="1303" y="402"/>
                    <a:pt x="1315" y="410"/>
                    <a:pt x="1321" y="421"/>
                  </a:cubicBezTo>
                  <a:cubicBezTo>
                    <a:pt x="1343" y="460"/>
                    <a:pt x="1352" y="508"/>
                    <a:pt x="1367" y="550"/>
                  </a:cubicBezTo>
                  <a:cubicBezTo>
                    <a:pt x="1372" y="564"/>
                    <a:pt x="1342" y="535"/>
                    <a:pt x="1329" y="527"/>
                  </a:cubicBezTo>
                  <a:cubicBezTo>
                    <a:pt x="1280" y="452"/>
                    <a:pt x="1357" y="561"/>
                    <a:pt x="1283" y="489"/>
                  </a:cubicBezTo>
                  <a:cubicBezTo>
                    <a:pt x="1277" y="484"/>
                    <a:pt x="1268" y="465"/>
                    <a:pt x="1276" y="467"/>
                  </a:cubicBezTo>
                  <a:cubicBezTo>
                    <a:pt x="1307" y="474"/>
                    <a:pt x="1365" y="530"/>
                    <a:pt x="1405" y="542"/>
                  </a:cubicBezTo>
                  <a:cubicBezTo>
                    <a:pt x="1393" y="520"/>
                    <a:pt x="1402" y="529"/>
                    <a:pt x="1374" y="520"/>
                  </a:cubicBezTo>
                  <a:cubicBezTo>
                    <a:pt x="1366" y="512"/>
                    <a:pt x="1360" y="503"/>
                    <a:pt x="1351" y="497"/>
                  </a:cubicBezTo>
                  <a:cubicBezTo>
                    <a:pt x="1329" y="482"/>
                    <a:pt x="1294" y="476"/>
                    <a:pt x="1351" y="489"/>
                  </a:cubicBezTo>
                  <a:cubicBezTo>
                    <a:pt x="1399" y="512"/>
                    <a:pt x="1385" y="507"/>
                    <a:pt x="1359" y="489"/>
                  </a:cubicBezTo>
                  <a:cubicBezTo>
                    <a:pt x="1341" y="477"/>
                    <a:pt x="1286" y="444"/>
                    <a:pt x="1306" y="451"/>
                  </a:cubicBezTo>
                  <a:cubicBezTo>
                    <a:pt x="1321" y="456"/>
                    <a:pt x="1336" y="462"/>
                    <a:pt x="1351" y="467"/>
                  </a:cubicBezTo>
                  <a:cubicBezTo>
                    <a:pt x="1359" y="469"/>
                    <a:pt x="1366" y="472"/>
                    <a:pt x="1374" y="474"/>
                  </a:cubicBezTo>
                  <a:cubicBezTo>
                    <a:pt x="1348" y="457"/>
                    <a:pt x="1328" y="438"/>
                    <a:pt x="1298" y="429"/>
                  </a:cubicBezTo>
                  <a:cubicBezTo>
                    <a:pt x="1258" y="386"/>
                    <a:pt x="1332" y="422"/>
                    <a:pt x="1351" y="429"/>
                  </a:cubicBezTo>
                  <a:cubicBezTo>
                    <a:pt x="1327" y="404"/>
                    <a:pt x="1319" y="379"/>
                    <a:pt x="1291" y="360"/>
                  </a:cubicBezTo>
                  <a:cubicBezTo>
                    <a:pt x="1327" y="349"/>
                    <a:pt x="1349" y="359"/>
                    <a:pt x="1382" y="376"/>
                  </a:cubicBezTo>
                  <a:cubicBezTo>
                    <a:pt x="1377" y="371"/>
                    <a:pt x="1372" y="366"/>
                    <a:pt x="1367" y="360"/>
                  </a:cubicBezTo>
                  <a:cubicBezTo>
                    <a:pt x="1361" y="353"/>
                    <a:pt x="1348" y="329"/>
                    <a:pt x="1351" y="338"/>
                  </a:cubicBezTo>
                  <a:cubicBezTo>
                    <a:pt x="1354" y="345"/>
                    <a:pt x="1366" y="358"/>
                    <a:pt x="1359" y="360"/>
                  </a:cubicBezTo>
                  <a:cubicBezTo>
                    <a:pt x="1348" y="363"/>
                    <a:pt x="1339" y="350"/>
                    <a:pt x="1329" y="345"/>
                  </a:cubicBezTo>
                  <a:cubicBezTo>
                    <a:pt x="1326" y="338"/>
                    <a:pt x="1325" y="330"/>
                    <a:pt x="1321" y="323"/>
                  </a:cubicBezTo>
                  <a:cubicBezTo>
                    <a:pt x="1317" y="317"/>
                    <a:pt x="1308" y="300"/>
                    <a:pt x="1306" y="307"/>
                  </a:cubicBezTo>
                  <a:cubicBezTo>
                    <a:pt x="1294" y="360"/>
                    <a:pt x="1375" y="452"/>
                    <a:pt x="1405" y="489"/>
                  </a:cubicBezTo>
                  <a:cubicBezTo>
                    <a:pt x="1417" y="529"/>
                    <a:pt x="1408" y="505"/>
                    <a:pt x="1442" y="557"/>
                  </a:cubicBezTo>
                  <a:cubicBezTo>
                    <a:pt x="1446" y="563"/>
                    <a:pt x="1458" y="581"/>
                    <a:pt x="1458" y="573"/>
                  </a:cubicBezTo>
                  <a:cubicBezTo>
                    <a:pt x="1458" y="564"/>
                    <a:pt x="1447" y="558"/>
                    <a:pt x="1442" y="550"/>
                  </a:cubicBezTo>
                  <a:cubicBezTo>
                    <a:pt x="1429" y="508"/>
                    <a:pt x="1387" y="470"/>
                    <a:pt x="1359" y="436"/>
                  </a:cubicBezTo>
                  <a:cubicBezTo>
                    <a:pt x="1353" y="429"/>
                    <a:pt x="1348" y="421"/>
                    <a:pt x="1344" y="413"/>
                  </a:cubicBezTo>
                  <a:cubicBezTo>
                    <a:pt x="1340" y="406"/>
                    <a:pt x="1328" y="391"/>
                    <a:pt x="1336" y="391"/>
                  </a:cubicBezTo>
                  <a:cubicBezTo>
                    <a:pt x="1360" y="391"/>
                    <a:pt x="1382" y="406"/>
                    <a:pt x="1405" y="413"/>
                  </a:cubicBezTo>
                  <a:cubicBezTo>
                    <a:pt x="1417" y="426"/>
                    <a:pt x="1430" y="438"/>
                    <a:pt x="1442" y="451"/>
                  </a:cubicBezTo>
                  <a:cubicBezTo>
                    <a:pt x="1448" y="457"/>
                    <a:pt x="1433" y="436"/>
                    <a:pt x="1427" y="429"/>
                  </a:cubicBezTo>
                  <a:cubicBezTo>
                    <a:pt x="1405" y="402"/>
                    <a:pt x="1381" y="381"/>
                    <a:pt x="1359" y="353"/>
                  </a:cubicBezTo>
                  <a:cubicBezTo>
                    <a:pt x="1346" y="316"/>
                    <a:pt x="1320" y="301"/>
                    <a:pt x="1374" y="315"/>
                  </a:cubicBezTo>
                  <a:cubicBezTo>
                    <a:pt x="1384" y="285"/>
                    <a:pt x="1376" y="298"/>
                    <a:pt x="1397" y="2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773"/>
            <p:cNvSpPr/>
            <p:nvPr/>
          </p:nvSpPr>
          <p:spPr>
            <a:xfrm>
              <a:off x="7472520" y="5680080"/>
              <a:ext cx="1768320" cy="588960"/>
            </a:xfrm>
            <a:custGeom>
              <a:avLst/>
              <a:gdLst/>
              <a:ahLst/>
              <a:rect l="l" t="t" r="r" b="b"/>
              <a:pathLst>
                <a:path w="1114" h="371">
                  <a:moveTo>
                    <a:pt x="98" y="302"/>
                  </a:moveTo>
                  <a:cubicBezTo>
                    <a:pt x="82" y="278"/>
                    <a:pt x="59" y="261"/>
                    <a:pt x="37" y="242"/>
                  </a:cubicBezTo>
                  <a:cubicBezTo>
                    <a:pt x="30" y="236"/>
                    <a:pt x="6" y="227"/>
                    <a:pt x="15" y="227"/>
                  </a:cubicBezTo>
                  <a:cubicBezTo>
                    <a:pt x="33" y="227"/>
                    <a:pt x="50" y="237"/>
                    <a:pt x="68" y="242"/>
                  </a:cubicBezTo>
                  <a:cubicBezTo>
                    <a:pt x="75" y="252"/>
                    <a:pt x="84" y="261"/>
                    <a:pt x="90" y="272"/>
                  </a:cubicBezTo>
                  <a:cubicBezTo>
                    <a:pt x="94" y="279"/>
                    <a:pt x="105" y="300"/>
                    <a:pt x="98" y="295"/>
                  </a:cubicBezTo>
                  <a:cubicBezTo>
                    <a:pt x="85" y="286"/>
                    <a:pt x="79" y="268"/>
                    <a:pt x="68" y="257"/>
                  </a:cubicBezTo>
                  <a:cubicBezTo>
                    <a:pt x="54" y="243"/>
                    <a:pt x="37" y="232"/>
                    <a:pt x="22" y="219"/>
                  </a:cubicBezTo>
                  <a:cubicBezTo>
                    <a:pt x="14" y="212"/>
                    <a:pt x="7" y="204"/>
                    <a:pt x="0" y="196"/>
                  </a:cubicBezTo>
                  <a:cubicBezTo>
                    <a:pt x="56" y="178"/>
                    <a:pt x="101" y="225"/>
                    <a:pt x="144" y="257"/>
                  </a:cubicBezTo>
                  <a:cubicBezTo>
                    <a:pt x="146" y="265"/>
                    <a:pt x="147" y="273"/>
                    <a:pt x="151" y="280"/>
                  </a:cubicBezTo>
                  <a:cubicBezTo>
                    <a:pt x="155" y="288"/>
                    <a:pt x="172" y="296"/>
                    <a:pt x="166" y="302"/>
                  </a:cubicBezTo>
                  <a:cubicBezTo>
                    <a:pt x="162" y="306"/>
                    <a:pt x="131" y="274"/>
                    <a:pt x="128" y="272"/>
                  </a:cubicBezTo>
                  <a:cubicBezTo>
                    <a:pt x="51" y="213"/>
                    <a:pt x="97" y="260"/>
                    <a:pt x="37" y="189"/>
                  </a:cubicBezTo>
                  <a:cubicBezTo>
                    <a:pt x="84" y="145"/>
                    <a:pt x="166" y="227"/>
                    <a:pt x="204" y="257"/>
                  </a:cubicBezTo>
                  <a:cubicBezTo>
                    <a:pt x="227" y="304"/>
                    <a:pt x="213" y="278"/>
                    <a:pt x="250" y="333"/>
                  </a:cubicBezTo>
                  <a:cubicBezTo>
                    <a:pt x="256" y="342"/>
                    <a:pt x="254" y="363"/>
                    <a:pt x="265" y="363"/>
                  </a:cubicBezTo>
                  <a:cubicBezTo>
                    <a:pt x="275" y="363"/>
                    <a:pt x="261" y="342"/>
                    <a:pt x="257" y="333"/>
                  </a:cubicBezTo>
                  <a:cubicBezTo>
                    <a:pt x="253" y="324"/>
                    <a:pt x="223" y="284"/>
                    <a:pt x="219" y="280"/>
                  </a:cubicBezTo>
                  <a:cubicBezTo>
                    <a:pt x="134" y="201"/>
                    <a:pt x="164" y="248"/>
                    <a:pt x="121" y="189"/>
                  </a:cubicBezTo>
                  <a:cubicBezTo>
                    <a:pt x="116" y="182"/>
                    <a:pt x="112" y="173"/>
                    <a:pt x="106" y="166"/>
                  </a:cubicBezTo>
                  <a:cubicBezTo>
                    <a:pt x="101" y="160"/>
                    <a:pt x="83" y="150"/>
                    <a:pt x="90" y="151"/>
                  </a:cubicBezTo>
                  <a:cubicBezTo>
                    <a:pt x="114" y="155"/>
                    <a:pt x="137" y="164"/>
                    <a:pt x="159" y="174"/>
                  </a:cubicBezTo>
                  <a:cubicBezTo>
                    <a:pt x="178" y="182"/>
                    <a:pt x="195" y="193"/>
                    <a:pt x="212" y="204"/>
                  </a:cubicBezTo>
                  <a:cubicBezTo>
                    <a:pt x="261" y="234"/>
                    <a:pt x="251" y="228"/>
                    <a:pt x="288" y="265"/>
                  </a:cubicBezTo>
                  <a:cubicBezTo>
                    <a:pt x="301" y="304"/>
                    <a:pt x="288" y="270"/>
                    <a:pt x="310" y="310"/>
                  </a:cubicBezTo>
                  <a:cubicBezTo>
                    <a:pt x="316" y="320"/>
                    <a:pt x="336" y="340"/>
                    <a:pt x="325" y="340"/>
                  </a:cubicBezTo>
                  <a:cubicBezTo>
                    <a:pt x="311" y="340"/>
                    <a:pt x="307" y="318"/>
                    <a:pt x="295" y="310"/>
                  </a:cubicBezTo>
                  <a:cubicBezTo>
                    <a:pt x="165" y="221"/>
                    <a:pt x="245" y="291"/>
                    <a:pt x="159" y="227"/>
                  </a:cubicBezTo>
                  <a:cubicBezTo>
                    <a:pt x="100" y="183"/>
                    <a:pt x="138" y="213"/>
                    <a:pt x="106" y="174"/>
                  </a:cubicBezTo>
                  <a:cubicBezTo>
                    <a:pt x="101" y="168"/>
                    <a:pt x="82" y="158"/>
                    <a:pt x="90" y="158"/>
                  </a:cubicBezTo>
                  <a:cubicBezTo>
                    <a:pt x="111" y="158"/>
                    <a:pt x="131" y="169"/>
                    <a:pt x="151" y="174"/>
                  </a:cubicBezTo>
                  <a:cubicBezTo>
                    <a:pt x="188" y="195"/>
                    <a:pt x="232" y="206"/>
                    <a:pt x="265" y="234"/>
                  </a:cubicBezTo>
                  <a:cubicBezTo>
                    <a:pt x="305" y="268"/>
                    <a:pt x="321" y="321"/>
                    <a:pt x="348" y="363"/>
                  </a:cubicBezTo>
                  <a:cubicBezTo>
                    <a:pt x="325" y="288"/>
                    <a:pt x="263" y="250"/>
                    <a:pt x="212" y="196"/>
                  </a:cubicBezTo>
                  <a:cubicBezTo>
                    <a:pt x="202" y="157"/>
                    <a:pt x="191" y="152"/>
                    <a:pt x="250" y="181"/>
                  </a:cubicBezTo>
                  <a:cubicBezTo>
                    <a:pt x="292" y="202"/>
                    <a:pt x="319" y="238"/>
                    <a:pt x="356" y="265"/>
                  </a:cubicBezTo>
                  <a:cubicBezTo>
                    <a:pt x="366" y="285"/>
                    <a:pt x="376" y="305"/>
                    <a:pt x="386" y="325"/>
                  </a:cubicBezTo>
                  <a:cubicBezTo>
                    <a:pt x="391" y="334"/>
                    <a:pt x="402" y="362"/>
                    <a:pt x="394" y="355"/>
                  </a:cubicBezTo>
                  <a:cubicBezTo>
                    <a:pt x="375" y="339"/>
                    <a:pt x="378" y="307"/>
                    <a:pt x="363" y="287"/>
                  </a:cubicBezTo>
                  <a:cubicBezTo>
                    <a:pt x="352" y="273"/>
                    <a:pt x="338" y="262"/>
                    <a:pt x="325" y="249"/>
                  </a:cubicBezTo>
                  <a:cubicBezTo>
                    <a:pt x="318" y="242"/>
                    <a:pt x="303" y="227"/>
                    <a:pt x="303" y="227"/>
                  </a:cubicBezTo>
                  <a:cubicBezTo>
                    <a:pt x="290" y="190"/>
                    <a:pt x="252" y="174"/>
                    <a:pt x="310" y="189"/>
                  </a:cubicBezTo>
                  <a:cubicBezTo>
                    <a:pt x="348" y="211"/>
                    <a:pt x="366" y="238"/>
                    <a:pt x="401" y="265"/>
                  </a:cubicBezTo>
                  <a:cubicBezTo>
                    <a:pt x="406" y="275"/>
                    <a:pt x="410" y="286"/>
                    <a:pt x="416" y="295"/>
                  </a:cubicBezTo>
                  <a:cubicBezTo>
                    <a:pt x="447" y="340"/>
                    <a:pt x="433" y="272"/>
                    <a:pt x="424" y="249"/>
                  </a:cubicBezTo>
                  <a:cubicBezTo>
                    <a:pt x="420" y="239"/>
                    <a:pt x="409" y="234"/>
                    <a:pt x="401" y="227"/>
                  </a:cubicBezTo>
                  <a:cubicBezTo>
                    <a:pt x="396" y="205"/>
                    <a:pt x="380" y="151"/>
                    <a:pt x="401" y="136"/>
                  </a:cubicBezTo>
                  <a:cubicBezTo>
                    <a:pt x="405" y="133"/>
                    <a:pt x="436" y="199"/>
                    <a:pt x="439" y="204"/>
                  </a:cubicBezTo>
                  <a:cubicBezTo>
                    <a:pt x="433" y="159"/>
                    <a:pt x="432" y="140"/>
                    <a:pt x="409" y="105"/>
                  </a:cubicBezTo>
                  <a:cubicBezTo>
                    <a:pt x="414" y="190"/>
                    <a:pt x="420" y="315"/>
                    <a:pt x="500" y="371"/>
                  </a:cubicBezTo>
                  <a:cubicBezTo>
                    <a:pt x="516" y="317"/>
                    <a:pt x="512" y="354"/>
                    <a:pt x="447" y="272"/>
                  </a:cubicBezTo>
                  <a:cubicBezTo>
                    <a:pt x="441" y="265"/>
                    <a:pt x="437" y="257"/>
                    <a:pt x="432" y="249"/>
                  </a:cubicBezTo>
                  <a:cubicBezTo>
                    <a:pt x="426" y="239"/>
                    <a:pt x="405" y="215"/>
                    <a:pt x="416" y="219"/>
                  </a:cubicBezTo>
                  <a:cubicBezTo>
                    <a:pt x="433" y="225"/>
                    <a:pt x="440" y="245"/>
                    <a:pt x="454" y="257"/>
                  </a:cubicBezTo>
                  <a:cubicBezTo>
                    <a:pt x="461" y="263"/>
                    <a:pt x="470" y="266"/>
                    <a:pt x="477" y="272"/>
                  </a:cubicBezTo>
                  <a:cubicBezTo>
                    <a:pt x="494" y="288"/>
                    <a:pt x="506" y="308"/>
                    <a:pt x="522" y="325"/>
                  </a:cubicBezTo>
                  <a:cubicBezTo>
                    <a:pt x="533" y="294"/>
                    <a:pt x="537" y="302"/>
                    <a:pt x="507" y="272"/>
                  </a:cubicBezTo>
                  <a:cubicBezTo>
                    <a:pt x="501" y="266"/>
                    <a:pt x="492" y="262"/>
                    <a:pt x="485" y="257"/>
                  </a:cubicBezTo>
                  <a:cubicBezTo>
                    <a:pt x="479" y="252"/>
                    <a:pt x="462" y="242"/>
                    <a:pt x="469" y="242"/>
                  </a:cubicBezTo>
                  <a:cubicBezTo>
                    <a:pt x="478" y="242"/>
                    <a:pt x="484" y="252"/>
                    <a:pt x="492" y="257"/>
                  </a:cubicBezTo>
                  <a:cubicBezTo>
                    <a:pt x="479" y="203"/>
                    <a:pt x="498" y="243"/>
                    <a:pt x="462" y="219"/>
                  </a:cubicBezTo>
                  <a:cubicBezTo>
                    <a:pt x="453" y="213"/>
                    <a:pt x="448" y="202"/>
                    <a:pt x="439" y="196"/>
                  </a:cubicBezTo>
                  <a:cubicBezTo>
                    <a:pt x="432" y="192"/>
                    <a:pt x="408" y="189"/>
                    <a:pt x="416" y="189"/>
                  </a:cubicBezTo>
                  <a:cubicBezTo>
                    <a:pt x="444" y="189"/>
                    <a:pt x="470" y="205"/>
                    <a:pt x="492" y="219"/>
                  </a:cubicBezTo>
                  <a:cubicBezTo>
                    <a:pt x="483" y="189"/>
                    <a:pt x="472" y="183"/>
                    <a:pt x="447" y="166"/>
                  </a:cubicBezTo>
                  <a:cubicBezTo>
                    <a:pt x="441" y="162"/>
                    <a:pt x="469" y="174"/>
                    <a:pt x="469" y="174"/>
                  </a:cubicBezTo>
                  <a:cubicBezTo>
                    <a:pt x="451" y="147"/>
                    <a:pt x="433" y="144"/>
                    <a:pt x="409" y="121"/>
                  </a:cubicBezTo>
                  <a:cubicBezTo>
                    <a:pt x="417" y="118"/>
                    <a:pt x="424" y="112"/>
                    <a:pt x="432" y="113"/>
                  </a:cubicBezTo>
                  <a:cubicBezTo>
                    <a:pt x="443" y="114"/>
                    <a:pt x="453" y="134"/>
                    <a:pt x="462" y="128"/>
                  </a:cubicBezTo>
                  <a:cubicBezTo>
                    <a:pt x="471" y="122"/>
                    <a:pt x="444" y="99"/>
                    <a:pt x="454" y="98"/>
                  </a:cubicBezTo>
                  <a:cubicBezTo>
                    <a:pt x="476" y="95"/>
                    <a:pt x="495" y="113"/>
                    <a:pt x="515" y="121"/>
                  </a:cubicBezTo>
                  <a:cubicBezTo>
                    <a:pt x="525" y="131"/>
                    <a:pt x="537" y="140"/>
                    <a:pt x="545" y="151"/>
                  </a:cubicBezTo>
                  <a:cubicBezTo>
                    <a:pt x="552" y="160"/>
                    <a:pt x="550" y="176"/>
                    <a:pt x="560" y="181"/>
                  </a:cubicBezTo>
                  <a:cubicBezTo>
                    <a:pt x="567" y="184"/>
                    <a:pt x="571" y="171"/>
                    <a:pt x="576" y="166"/>
                  </a:cubicBezTo>
                  <a:cubicBezTo>
                    <a:pt x="573" y="151"/>
                    <a:pt x="557" y="132"/>
                    <a:pt x="568" y="121"/>
                  </a:cubicBezTo>
                  <a:cubicBezTo>
                    <a:pt x="581" y="108"/>
                    <a:pt x="597" y="170"/>
                    <a:pt x="598" y="174"/>
                  </a:cubicBezTo>
                  <a:cubicBezTo>
                    <a:pt x="600" y="181"/>
                    <a:pt x="602" y="189"/>
                    <a:pt x="606" y="196"/>
                  </a:cubicBezTo>
                  <a:cubicBezTo>
                    <a:pt x="610" y="204"/>
                    <a:pt x="630" y="216"/>
                    <a:pt x="621" y="219"/>
                  </a:cubicBezTo>
                  <a:cubicBezTo>
                    <a:pt x="608" y="223"/>
                    <a:pt x="596" y="209"/>
                    <a:pt x="583" y="204"/>
                  </a:cubicBezTo>
                  <a:cubicBezTo>
                    <a:pt x="573" y="206"/>
                    <a:pt x="558" y="202"/>
                    <a:pt x="553" y="211"/>
                  </a:cubicBezTo>
                  <a:cubicBezTo>
                    <a:pt x="547" y="222"/>
                    <a:pt x="556" y="237"/>
                    <a:pt x="560" y="249"/>
                  </a:cubicBezTo>
                  <a:cubicBezTo>
                    <a:pt x="575" y="293"/>
                    <a:pt x="627" y="331"/>
                    <a:pt x="659" y="363"/>
                  </a:cubicBezTo>
                  <a:cubicBezTo>
                    <a:pt x="667" y="371"/>
                    <a:pt x="650" y="343"/>
                    <a:pt x="644" y="333"/>
                  </a:cubicBezTo>
                  <a:cubicBezTo>
                    <a:pt x="639" y="325"/>
                    <a:pt x="635" y="317"/>
                    <a:pt x="629" y="310"/>
                  </a:cubicBezTo>
                  <a:cubicBezTo>
                    <a:pt x="619" y="297"/>
                    <a:pt x="609" y="284"/>
                    <a:pt x="598" y="272"/>
                  </a:cubicBezTo>
                  <a:cubicBezTo>
                    <a:pt x="571" y="241"/>
                    <a:pt x="574" y="246"/>
                    <a:pt x="545" y="227"/>
                  </a:cubicBezTo>
                  <a:cubicBezTo>
                    <a:pt x="540" y="219"/>
                    <a:pt x="522" y="208"/>
                    <a:pt x="530" y="204"/>
                  </a:cubicBezTo>
                  <a:cubicBezTo>
                    <a:pt x="540" y="199"/>
                    <a:pt x="550" y="215"/>
                    <a:pt x="560" y="219"/>
                  </a:cubicBezTo>
                  <a:cubicBezTo>
                    <a:pt x="601" y="234"/>
                    <a:pt x="636" y="250"/>
                    <a:pt x="674" y="272"/>
                  </a:cubicBezTo>
                  <a:cubicBezTo>
                    <a:pt x="684" y="277"/>
                    <a:pt x="695" y="281"/>
                    <a:pt x="704" y="287"/>
                  </a:cubicBezTo>
                  <a:cubicBezTo>
                    <a:pt x="710" y="291"/>
                    <a:pt x="720" y="309"/>
                    <a:pt x="720" y="302"/>
                  </a:cubicBezTo>
                  <a:cubicBezTo>
                    <a:pt x="720" y="293"/>
                    <a:pt x="709" y="287"/>
                    <a:pt x="704" y="280"/>
                  </a:cubicBezTo>
                  <a:cubicBezTo>
                    <a:pt x="677" y="241"/>
                    <a:pt x="650" y="225"/>
                    <a:pt x="613" y="196"/>
                  </a:cubicBezTo>
                  <a:cubicBezTo>
                    <a:pt x="605" y="190"/>
                    <a:pt x="600" y="179"/>
                    <a:pt x="591" y="174"/>
                  </a:cubicBezTo>
                  <a:cubicBezTo>
                    <a:pt x="582" y="169"/>
                    <a:pt x="550" y="161"/>
                    <a:pt x="560" y="166"/>
                  </a:cubicBezTo>
                  <a:cubicBezTo>
                    <a:pt x="608" y="190"/>
                    <a:pt x="743" y="242"/>
                    <a:pt x="773" y="272"/>
                  </a:cubicBezTo>
                  <a:cubicBezTo>
                    <a:pt x="791" y="290"/>
                    <a:pt x="826" y="325"/>
                    <a:pt x="826" y="325"/>
                  </a:cubicBezTo>
                  <a:cubicBezTo>
                    <a:pt x="793" y="247"/>
                    <a:pt x="712" y="213"/>
                    <a:pt x="644" y="166"/>
                  </a:cubicBezTo>
                  <a:cubicBezTo>
                    <a:pt x="614" y="145"/>
                    <a:pt x="582" y="127"/>
                    <a:pt x="553" y="105"/>
                  </a:cubicBezTo>
                  <a:cubicBezTo>
                    <a:pt x="544" y="99"/>
                    <a:pt x="519" y="83"/>
                    <a:pt x="530" y="83"/>
                  </a:cubicBezTo>
                  <a:cubicBezTo>
                    <a:pt x="554" y="83"/>
                    <a:pt x="651" y="141"/>
                    <a:pt x="674" y="151"/>
                  </a:cubicBezTo>
                  <a:cubicBezTo>
                    <a:pt x="710" y="167"/>
                    <a:pt x="740" y="174"/>
                    <a:pt x="773" y="196"/>
                  </a:cubicBezTo>
                  <a:cubicBezTo>
                    <a:pt x="770" y="186"/>
                    <a:pt x="771" y="175"/>
                    <a:pt x="765" y="166"/>
                  </a:cubicBezTo>
                  <a:cubicBezTo>
                    <a:pt x="755" y="152"/>
                    <a:pt x="674" y="93"/>
                    <a:pt x="659" y="83"/>
                  </a:cubicBezTo>
                  <a:cubicBezTo>
                    <a:pt x="657" y="82"/>
                    <a:pt x="598" y="50"/>
                    <a:pt x="598" y="37"/>
                  </a:cubicBezTo>
                  <a:cubicBezTo>
                    <a:pt x="598" y="28"/>
                    <a:pt x="613" y="48"/>
                    <a:pt x="621" y="52"/>
                  </a:cubicBezTo>
                  <a:cubicBezTo>
                    <a:pt x="630" y="56"/>
                    <a:pt x="641" y="57"/>
                    <a:pt x="651" y="60"/>
                  </a:cubicBezTo>
                  <a:cubicBezTo>
                    <a:pt x="709" y="118"/>
                    <a:pt x="686" y="96"/>
                    <a:pt x="720" y="128"/>
                  </a:cubicBezTo>
                  <a:cubicBezTo>
                    <a:pt x="722" y="136"/>
                    <a:pt x="721" y="157"/>
                    <a:pt x="727" y="151"/>
                  </a:cubicBezTo>
                  <a:cubicBezTo>
                    <a:pt x="736" y="142"/>
                    <a:pt x="732" y="126"/>
                    <a:pt x="735" y="113"/>
                  </a:cubicBezTo>
                  <a:cubicBezTo>
                    <a:pt x="737" y="105"/>
                    <a:pt x="749" y="94"/>
                    <a:pt x="742" y="90"/>
                  </a:cubicBezTo>
                  <a:cubicBezTo>
                    <a:pt x="734" y="86"/>
                    <a:pt x="727" y="100"/>
                    <a:pt x="720" y="105"/>
                  </a:cubicBezTo>
                  <a:cubicBezTo>
                    <a:pt x="685" y="158"/>
                    <a:pt x="694" y="169"/>
                    <a:pt x="682" y="128"/>
                  </a:cubicBezTo>
                  <a:cubicBezTo>
                    <a:pt x="687" y="115"/>
                    <a:pt x="691" y="102"/>
                    <a:pt x="697" y="90"/>
                  </a:cubicBezTo>
                  <a:cubicBezTo>
                    <a:pt x="706" y="74"/>
                    <a:pt x="727" y="45"/>
                    <a:pt x="727" y="45"/>
                  </a:cubicBezTo>
                  <a:cubicBezTo>
                    <a:pt x="732" y="63"/>
                    <a:pt x="736" y="81"/>
                    <a:pt x="742" y="98"/>
                  </a:cubicBezTo>
                  <a:cubicBezTo>
                    <a:pt x="746" y="108"/>
                    <a:pt x="738" y="77"/>
                    <a:pt x="735" y="67"/>
                  </a:cubicBezTo>
                  <a:cubicBezTo>
                    <a:pt x="731" y="52"/>
                    <a:pt x="727" y="36"/>
                    <a:pt x="720" y="22"/>
                  </a:cubicBezTo>
                  <a:cubicBezTo>
                    <a:pt x="717" y="16"/>
                    <a:pt x="701" y="0"/>
                    <a:pt x="704" y="7"/>
                  </a:cubicBezTo>
                  <a:cubicBezTo>
                    <a:pt x="718" y="37"/>
                    <a:pt x="750" y="53"/>
                    <a:pt x="773" y="75"/>
                  </a:cubicBezTo>
                  <a:cubicBezTo>
                    <a:pt x="770" y="60"/>
                    <a:pt x="768" y="45"/>
                    <a:pt x="765" y="30"/>
                  </a:cubicBezTo>
                  <a:cubicBezTo>
                    <a:pt x="763" y="22"/>
                    <a:pt x="751" y="1"/>
                    <a:pt x="757" y="7"/>
                  </a:cubicBezTo>
                  <a:cubicBezTo>
                    <a:pt x="770" y="20"/>
                    <a:pt x="778" y="37"/>
                    <a:pt x="788" y="52"/>
                  </a:cubicBezTo>
                  <a:cubicBezTo>
                    <a:pt x="793" y="60"/>
                    <a:pt x="803" y="75"/>
                    <a:pt x="803" y="75"/>
                  </a:cubicBezTo>
                  <a:cubicBezTo>
                    <a:pt x="836" y="10"/>
                    <a:pt x="822" y="70"/>
                    <a:pt x="833" y="105"/>
                  </a:cubicBezTo>
                  <a:cubicBezTo>
                    <a:pt x="841" y="83"/>
                    <a:pt x="829" y="50"/>
                    <a:pt x="848" y="37"/>
                  </a:cubicBezTo>
                  <a:cubicBezTo>
                    <a:pt x="857" y="31"/>
                    <a:pt x="859" y="57"/>
                    <a:pt x="864" y="67"/>
                  </a:cubicBezTo>
                  <a:cubicBezTo>
                    <a:pt x="892" y="132"/>
                    <a:pt x="831" y="28"/>
                    <a:pt x="901" y="136"/>
                  </a:cubicBezTo>
                  <a:cubicBezTo>
                    <a:pt x="899" y="121"/>
                    <a:pt x="900" y="104"/>
                    <a:pt x="894" y="90"/>
                  </a:cubicBezTo>
                  <a:cubicBezTo>
                    <a:pt x="889" y="78"/>
                    <a:pt x="879" y="70"/>
                    <a:pt x="871" y="60"/>
                  </a:cubicBezTo>
                  <a:cubicBezTo>
                    <a:pt x="869" y="57"/>
                    <a:pt x="861" y="50"/>
                    <a:pt x="864" y="52"/>
                  </a:cubicBezTo>
                  <a:cubicBezTo>
                    <a:pt x="876" y="62"/>
                    <a:pt x="890" y="72"/>
                    <a:pt x="901" y="83"/>
                  </a:cubicBezTo>
                  <a:cubicBezTo>
                    <a:pt x="907" y="89"/>
                    <a:pt x="912" y="98"/>
                    <a:pt x="917" y="105"/>
                  </a:cubicBezTo>
                  <a:cubicBezTo>
                    <a:pt x="907" y="67"/>
                    <a:pt x="914" y="78"/>
                    <a:pt x="886" y="45"/>
                  </a:cubicBezTo>
                  <a:cubicBezTo>
                    <a:pt x="879" y="37"/>
                    <a:pt x="856" y="30"/>
                    <a:pt x="864" y="22"/>
                  </a:cubicBezTo>
                  <a:cubicBezTo>
                    <a:pt x="880" y="6"/>
                    <a:pt x="950" y="106"/>
                    <a:pt x="939" y="83"/>
                  </a:cubicBezTo>
                  <a:cubicBezTo>
                    <a:pt x="934" y="73"/>
                    <a:pt x="931" y="61"/>
                    <a:pt x="924" y="52"/>
                  </a:cubicBezTo>
                  <a:cubicBezTo>
                    <a:pt x="916" y="43"/>
                    <a:pt x="883" y="24"/>
                    <a:pt x="894" y="30"/>
                  </a:cubicBezTo>
                  <a:cubicBezTo>
                    <a:pt x="934" y="51"/>
                    <a:pt x="944" y="61"/>
                    <a:pt x="985" y="75"/>
                  </a:cubicBezTo>
                  <a:cubicBezTo>
                    <a:pt x="990" y="67"/>
                    <a:pt x="1002" y="61"/>
                    <a:pt x="1000" y="52"/>
                  </a:cubicBezTo>
                  <a:cubicBezTo>
                    <a:pt x="988" y="6"/>
                    <a:pt x="954" y="99"/>
                    <a:pt x="954" y="22"/>
                  </a:cubicBezTo>
                  <a:cubicBezTo>
                    <a:pt x="954" y="14"/>
                    <a:pt x="970" y="26"/>
                    <a:pt x="977" y="30"/>
                  </a:cubicBezTo>
                  <a:cubicBezTo>
                    <a:pt x="1004" y="43"/>
                    <a:pt x="1017" y="65"/>
                    <a:pt x="1045" y="75"/>
                  </a:cubicBezTo>
                  <a:cubicBezTo>
                    <a:pt x="1043" y="62"/>
                    <a:pt x="1032" y="48"/>
                    <a:pt x="1038" y="37"/>
                  </a:cubicBezTo>
                  <a:cubicBezTo>
                    <a:pt x="1042" y="30"/>
                    <a:pt x="1054" y="41"/>
                    <a:pt x="1061" y="45"/>
                  </a:cubicBezTo>
                  <a:cubicBezTo>
                    <a:pt x="1069" y="49"/>
                    <a:pt x="1076" y="55"/>
                    <a:pt x="1083" y="60"/>
                  </a:cubicBezTo>
                  <a:cubicBezTo>
                    <a:pt x="1109" y="51"/>
                    <a:pt x="1100" y="57"/>
                    <a:pt x="1114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774"/>
            <p:cNvSpPr/>
            <p:nvPr/>
          </p:nvSpPr>
          <p:spPr>
            <a:xfrm>
              <a:off x="7432560" y="5703840"/>
              <a:ext cx="716040" cy="565200"/>
            </a:xfrm>
            <a:custGeom>
              <a:avLst/>
              <a:gdLst/>
              <a:ahLst/>
              <a:rect l="l" t="t" r="r" b="b"/>
              <a:pathLst>
                <a:path w="451" h="356">
                  <a:moveTo>
                    <a:pt x="2" y="45"/>
                  </a:moveTo>
                  <a:cubicBezTo>
                    <a:pt x="4" y="35"/>
                    <a:pt x="0" y="20"/>
                    <a:pt x="9" y="15"/>
                  </a:cubicBezTo>
                  <a:cubicBezTo>
                    <a:pt x="33" y="0"/>
                    <a:pt x="48" y="34"/>
                    <a:pt x="55" y="45"/>
                  </a:cubicBezTo>
                  <a:cubicBezTo>
                    <a:pt x="72" y="100"/>
                    <a:pt x="51" y="44"/>
                    <a:pt x="70" y="30"/>
                  </a:cubicBezTo>
                  <a:cubicBezTo>
                    <a:pt x="77" y="25"/>
                    <a:pt x="81" y="44"/>
                    <a:pt x="85" y="52"/>
                  </a:cubicBezTo>
                  <a:cubicBezTo>
                    <a:pt x="109" y="95"/>
                    <a:pt x="86" y="74"/>
                    <a:pt x="123" y="98"/>
                  </a:cubicBezTo>
                  <a:cubicBezTo>
                    <a:pt x="126" y="85"/>
                    <a:pt x="119" y="64"/>
                    <a:pt x="131" y="60"/>
                  </a:cubicBezTo>
                  <a:cubicBezTo>
                    <a:pt x="142" y="56"/>
                    <a:pt x="140" y="81"/>
                    <a:pt x="146" y="90"/>
                  </a:cubicBezTo>
                  <a:cubicBezTo>
                    <a:pt x="150" y="96"/>
                    <a:pt x="161" y="113"/>
                    <a:pt x="161" y="106"/>
                  </a:cubicBezTo>
                  <a:cubicBezTo>
                    <a:pt x="161" y="95"/>
                    <a:pt x="150" y="86"/>
                    <a:pt x="146" y="75"/>
                  </a:cubicBezTo>
                  <a:cubicBezTo>
                    <a:pt x="143" y="68"/>
                    <a:pt x="130" y="52"/>
                    <a:pt x="138" y="52"/>
                  </a:cubicBezTo>
                  <a:cubicBezTo>
                    <a:pt x="149" y="52"/>
                    <a:pt x="154" y="67"/>
                    <a:pt x="161" y="75"/>
                  </a:cubicBezTo>
                  <a:cubicBezTo>
                    <a:pt x="167" y="82"/>
                    <a:pt x="182" y="92"/>
                    <a:pt x="176" y="98"/>
                  </a:cubicBezTo>
                  <a:cubicBezTo>
                    <a:pt x="170" y="104"/>
                    <a:pt x="161" y="88"/>
                    <a:pt x="153" y="83"/>
                  </a:cubicBezTo>
                  <a:cubicBezTo>
                    <a:pt x="148" y="73"/>
                    <a:pt x="134" y="63"/>
                    <a:pt x="138" y="52"/>
                  </a:cubicBezTo>
                  <a:cubicBezTo>
                    <a:pt x="141" y="44"/>
                    <a:pt x="155" y="55"/>
                    <a:pt x="161" y="60"/>
                  </a:cubicBezTo>
                  <a:cubicBezTo>
                    <a:pt x="171" y="68"/>
                    <a:pt x="195" y="97"/>
                    <a:pt x="184" y="90"/>
                  </a:cubicBezTo>
                  <a:cubicBezTo>
                    <a:pt x="176" y="85"/>
                    <a:pt x="169" y="80"/>
                    <a:pt x="161" y="75"/>
                  </a:cubicBezTo>
                  <a:cubicBezTo>
                    <a:pt x="156" y="67"/>
                    <a:pt x="137" y="55"/>
                    <a:pt x="146" y="52"/>
                  </a:cubicBezTo>
                  <a:cubicBezTo>
                    <a:pt x="159" y="48"/>
                    <a:pt x="172" y="61"/>
                    <a:pt x="184" y="68"/>
                  </a:cubicBezTo>
                  <a:cubicBezTo>
                    <a:pt x="270" y="119"/>
                    <a:pt x="207" y="96"/>
                    <a:pt x="259" y="113"/>
                  </a:cubicBezTo>
                  <a:cubicBezTo>
                    <a:pt x="254" y="105"/>
                    <a:pt x="250" y="97"/>
                    <a:pt x="244" y="90"/>
                  </a:cubicBezTo>
                  <a:cubicBezTo>
                    <a:pt x="237" y="82"/>
                    <a:pt x="217" y="77"/>
                    <a:pt x="222" y="68"/>
                  </a:cubicBezTo>
                  <a:cubicBezTo>
                    <a:pt x="224" y="64"/>
                    <a:pt x="271" y="82"/>
                    <a:pt x="275" y="83"/>
                  </a:cubicBezTo>
                  <a:cubicBezTo>
                    <a:pt x="275" y="83"/>
                    <a:pt x="260" y="68"/>
                    <a:pt x="252" y="60"/>
                  </a:cubicBezTo>
                  <a:cubicBezTo>
                    <a:pt x="245" y="53"/>
                    <a:pt x="272" y="65"/>
                    <a:pt x="282" y="68"/>
                  </a:cubicBezTo>
                  <a:cubicBezTo>
                    <a:pt x="282" y="68"/>
                    <a:pt x="260" y="54"/>
                    <a:pt x="267" y="52"/>
                  </a:cubicBezTo>
                  <a:cubicBezTo>
                    <a:pt x="279" y="48"/>
                    <a:pt x="292" y="57"/>
                    <a:pt x="305" y="60"/>
                  </a:cubicBezTo>
                  <a:cubicBezTo>
                    <a:pt x="254" y="34"/>
                    <a:pt x="194" y="36"/>
                    <a:pt x="138" y="22"/>
                  </a:cubicBezTo>
                  <a:cubicBezTo>
                    <a:pt x="102" y="34"/>
                    <a:pt x="85" y="37"/>
                    <a:pt x="47" y="30"/>
                  </a:cubicBezTo>
                  <a:cubicBezTo>
                    <a:pt x="80" y="70"/>
                    <a:pt x="114" y="96"/>
                    <a:pt x="138" y="143"/>
                  </a:cubicBezTo>
                  <a:cubicBezTo>
                    <a:pt x="143" y="180"/>
                    <a:pt x="169" y="247"/>
                    <a:pt x="115" y="212"/>
                  </a:cubicBezTo>
                  <a:cubicBezTo>
                    <a:pt x="118" y="232"/>
                    <a:pt x="123" y="252"/>
                    <a:pt x="123" y="272"/>
                  </a:cubicBezTo>
                  <a:cubicBezTo>
                    <a:pt x="123" y="280"/>
                    <a:pt x="114" y="287"/>
                    <a:pt x="115" y="295"/>
                  </a:cubicBezTo>
                  <a:cubicBezTo>
                    <a:pt x="117" y="307"/>
                    <a:pt x="146" y="333"/>
                    <a:pt x="153" y="340"/>
                  </a:cubicBezTo>
                  <a:cubicBezTo>
                    <a:pt x="177" y="306"/>
                    <a:pt x="173" y="328"/>
                    <a:pt x="146" y="295"/>
                  </a:cubicBezTo>
                  <a:cubicBezTo>
                    <a:pt x="140" y="288"/>
                    <a:pt x="123" y="267"/>
                    <a:pt x="131" y="272"/>
                  </a:cubicBezTo>
                  <a:cubicBezTo>
                    <a:pt x="163" y="293"/>
                    <a:pt x="181" y="329"/>
                    <a:pt x="206" y="356"/>
                  </a:cubicBezTo>
                  <a:cubicBezTo>
                    <a:pt x="204" y="343"/>
                    <a:pt x="203" y="330"/>
                    <a:pt x="199" y="318"/>
                  </a:cubicBezTo>
                  <a:cubicBezTo>
                    <a:pt x="196" y="307"/>
                    <a:pt x="184" y="298"/>
                    <a:pt x="184" y="287"/>
                  </a:cubicBezTo>
                  <a:cubicBezTo>
                    <a:pt x="184" y="280"/>
                    <a:pt x="194" y="297"/>
                    <a:pt x="199" y="303"/>
                  </a:cubicBezTo>
                  <a:cubicBezTo>
                    <a:pt x="236" y="350"/>
                    <a:pt x="188" y="299"/>
                    <a:pt x="237" y="348"/>
                  </a:cubicBezTo>
                  <a:cubicBezTo>
                    <a:pt x="226" y="317"/>
                    <a:pt x="211" y="299"/>
                    <a:pt x="184" y="280"/>
                  </a:cubicBezTo>
                  <a:cubicBezTo>
                    <a:pt x="162" y="217"/>
                    <a:pt x="241" y="299"/>
                    <a:pt x="252" y="310"/>
                  </a:cubicBezTo>
                  <a:cubicBezTo>
                    <a:pt x="258" y="317"/>
                    <a:pt x="258" y="333"/>
                    <a:pt x="267" y="333"/>
                  </a:cubicBezTo>
                  <a:cubicBezTo>
                    <a:pt x="275" y="333"/>
                    <a:pt x="263" y="317"/>
                    <a:pt x="259" y="310"/>
                  </a:cubicBezTo>
                  <a:cubicBezTo>
                    <a:pt x="242" y="276"/>
                    <a:pt x="215" y="261"/>
                    <a:pt x="184" y="242"/>
                  </a:cubicBezTo>
                  <a:cubicBezTo>
                    <a:pt x="176" y="232"/>
                    <a:pt x="167" y="223"/>
                    <a:pt x="161" y="212"/>
                  </a:cubicBezTo>
                  <a:cubicBezTo>
                    <a:pt x="157" y="205"/>
                    <a:pt x="145" y="192"/>
                    <a:pt x="153" y="189"/>
                  </a:cubicBezTo>
                  <a:cubicBezTo>
                    <a:pt x="164" y="185"/>
                    <a:pt x="175" y="197"/>
                    <a:pt x="184" y="204"/>
                  </a:cubicBezTo>
                  <a:cubicBezTo>
                    <a:pt x="241" y="245"/>
                    <a:pt x="300" y="292"/>
                    <a:pt x="343" y="348"/>
                  </a:cubicBezTo>
                  <a:cubicBezTo>
                    <a:pt x="327" y="289"/>
                    <a:pt x="348" y="345"/>
                    <a:pt x="297" y="280"/>
                  </a:cubicBezTo>
                  <a:cubicBezTo>
                    <a:pt x="290" y="271"/>
                    <a:pt x="289" y="259"/>
                    <a:pt x="282" y="250"/>
                  </a:cubicBezTo>
                  <a:cubicBezTo>
                    <a:pt x="274" y="240"/>
                    <a:pt x="261" y="236"/>
                    <a:pt x="252" y="227"/>
                  </a:cubicBezTo>
                  <a:cubicBezTo>
                    <a:pt x="246" y="220"/>
                    <a:pt x="228" y="202"/>
                    <a:pt x="237" y="204"/>
                  </a:cubicBezTo>
                  <a:cubicBezTo>
                    <a:pt x="297" y="215"/>
                    <a:pt x="280" y="238"/>
                    <a:pt x="320" y="265"/>
                  </a:cubicBezTo>
                  <a:cubicBezTo>
                    <a:pt x="331" y="273"/>
                    <a:pt x="345" y="275"/>
                    <a:pt x="358" y="280"/>
                  </a:cubicBezTo>
                  <a:cubicBezTo>
                    <a:pt x="366" y="290"/>
                    <a:pt x="381" y="297"/>
                    <a:pt x="381" y="310"/>
                  </a:cubicBezTo>
                  <a:cubicBezTo>
                    <a:pt x="381" y="321"/>
                    <a:pt x="366" y="294"/>
                    <a:pt x="358" y="287"/>
                  </a:cubicBezTo>
                  <a:cubicBezTo>
                    <a:pt x="349" y="279"/>
                    <a:pt x="337" y="273"/>
                    <a:pt x="328" y="265"/>
                  </a:cubicBezTo>
                  <a:cubicBezTo>
                    <a:pt x="320" y="258"/>
                    <a:pt x="314" y="248"/>
                    <a:pt x="305" y="242"/>
                  </a:cubicBezTo>
                  <a:cubicBezTo>
                    <a:pt x="296" y="235"/>
                    <a:pt x="284" y="234"/>
                    <a:pt x="275" y="227"/>
                  </a:cubicBezTo>
                  <a:cubicBezTo>
                    <a:pt x="266" y="221"/>
                    <a:pt x="245" y="212"/>
                    <a:pt x="252" y="204"/>
                  </a:cubicBezTo>
                  <a:cubicBezTo>
                    <a:pt x="259" y="196"/>
                    <a:pt x="272" y="215"/>
                    <a:pt x="282" y="219"/>
                  </a:cubicBezTo>
                  <a:cubicBezTo>
                    <a:pt x="289" y="222"/>
                    <a:pt x="297" y="224"/>
                    <a:pt x="305" y="227"/>
                  </a:cubicBezTo>
                  <a:cubicBezTo>
                    <a:pt x="372" y="294"/>
                    <a:pt x="285" y="184"/>
                    <a:pt x="267" y="166"/>
                  </a:cubicBezTo>
                  <a:cubicBezTo>
                    <a:pt x="277" y="164"/>
                    <a:pt x="287" y="156"/>
                    <a:pt x="297" y="159"/>
                  </a:cubicBezTo>
                  <a:cubicBezTo>
                    <a:pt x="324" y="167"/>
                    <a:pt x="397" y="211"/>
                    <a:pt x="373" y="196"/>
                  </a:cubicBezTo>
                  <a:cubicBezTo>
                    <a:pt x="365" y="191"/>
                    <a:pt x="350" y="181"/>
                    <a:pt x="350" y="181"/>
                  </a:cubicBezTo>
                  <a:cubicBezTo>
                    <a:pt x="343" y="171"/>
                    <a:pt x="337" y="159"/>
                    <a:pt x="328" y="151"/>
                  </a:cubicBezTo>
                  <a:cubicBezTo>
                    <a:pt x="322" y="146"/>
                    <a:pt x="297" y="143"/>
                    <a:pt x="305" y="143"/>
                  </a:cubicBezTo>
                  <a:cubicBezTo>
                    <a:pt x="315" y="143"/>
                    <a:pt x="325" y="148"/>
                    <a:pt x="335" y="151"/>
                  </a:cubicBezTo>
                  <a:cubicBezTo>
                    <a:pt x="343" y="153"/>
                    <a:pt x="363" y="165"/>
                    <a:pt x="358" y="159"/>
                  </a:cubicBezTo>
                  <a:cubicBezTo>
                    <a:pt x="351" y="150"/>
                    <a:pt x="338" y="149"/>
                    <a:pt x="328" y="143"/>
                  </a:cubicBezTo>
                  <a:cubicBezTo>
                    <a:pt x="282" y="116"/>
                    <a:pt x="309" y="129"/>
                    <a:pt x="366" y="136"/>
                  </a:cubicBezTo>
                  <a:cubicBezTo>
                    <a:pt x="391" y="149"/>
                    <a:pt x="416" y="161"/>
                    <a:pt x="441" y="174"/>
                  </a:cubicBezTo>
                  <a:cubicBezTo>
                    <a:pt x="451" y="179"/>
                    <a:pt x="411" y="159"/>
                    <a:pt x="411" y="159"/>
                  </a:cubicBezTo>
                  <a:cubicBezTo>
                    <a:pt x="408" y="151"/>
                    <a:pt x="409" y="142"/>
                    <a:pt x="403" y="136"/>
                  </a:cubicBezTo>
                  <a:cubicBezTo>
                    <a:pt x="380" y="113"/>
                    <a:pt x="352" y="128"/>
                    <a:pt x="396" y="113"/>
                  </a:cubicBezTo>
                  <a:cubicBezTo>
                    <a:pt x="392" y="110"/>
                    <a:pt x="310" y="61"/>
                    <a:pt x="358" y="52"/>
                  </a:cubicBezTo>
                  <a:cubicBezTo>
                    <a:pt x="380" y="48"/>
                    <a:pt x="403" y="52"/>
                    <a:pt x="426" y="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75"/>
            <p:cNvSpPr/>
            <p:nvPr/>
          </p:nvSpPr>
          <p:spPr>
            <a:xfrm>
              <a:off x="7467480" y="5821200"/>
              <a:ext cx="208080" cy="457200"/>
            </a:xfrm>
            <a:custGeom>
              <a:avLst/>
              <a:gdLst/>
              <a:ahLst/>
              <a:rect l="l" t="t" r="r" b="b"/>
              <a:pathLst>
                <a:path w="131" h="288">
                  <a:moveTo>
                    <a:pt x="131" y="274"/>
                  </a:moveTo>
                  <a:cubicBezTo>
                    <a:pt x="97" y="238"/>
                    <a:pt x="83" y="214"/>
                    <a:pt x="63" y="168"/>
                  </a:cubicBezTo>
                  <a:cubicBezTo>
                    <a:pt x="58" y="158"/>
                    <a:pt x="43" y="148"/>
                    <a:pt x="48" y="138"/>
                  </a:cubicBezTo>
                  <a:cubicBezTo>
                    <a:pt x="52" y="130"/>
                    <a:pt x="63" y="148"/>
                    <a:pt x="71" y="153"/>
                  </a:cubicBezTo>
                  <a:cubicBezTo>
                    <a:pt x="96" y="202"/>
                    <a:pt x="79" y="163"/>
                    <a:pt x="93" y="213"/>
                  </a:cubicBezTo>
                  <a:cubicBezTo>
                    <a:pt x="95" y="221"/>
                    <a:pt x="107" y="242"/>
                    <a:pt x="101" y="236"/>
                  </a:cubicBezTo>
                  <a:cubicBezTo>
                    <a:pt x="68" y="203"/>
                    <a:pt x="56" y="142"/>
                    <a:pt x="40" y="100"/>
                  </a:cubicBezTo>
                  <a:cubicBezTo>
                    <a:pt x="36" y="89"/>
                    <a:pt x="29" y="80"/>
                    <a:pt x="25" y="69"/>
                  </a:cubicBezTo>
                  <a:cubicBezTo>
                    <a:pt x="19" y="54"/>
                    <a:pt x="7" y="9"/>
                    <a:pt x="10" y="24"/>
                  </a:cubicBezTo>
                  <a:cubicBezTo>
                    <a:pt x="17" y="55"/>
                    <a:pt x="25" y="84"/>
                    <a:pt x="33" y="115"/>
                  </a:cubicBezTo>
                  <a:cubicBezTo>
                    <a:pt x="35" y="95"/>
                    <a:pt x="29" y="71"/>
                    <a:pt x="40" y="54"/>
                  </a:cubicBezTo>
                  <a:cubicBezTo>
                    <a:pt x="47" y="43"/>
                    <a:pt x="46" y="79"/>
                    <a:pt x="48" y="92"/>
                  </a:cubicBezTo>
                  <a:cubicBezTo>
                    <a:pt x="72" y="254"/>
                    <a:pt x="43" y="92"/>
                    <a:pt x="63" y="198"/>
                  </a:cubicBezTo>
                  <a:cubicBezTo>
                    <a:pt x="69" y="176"/>
                    <a:pt x="68" y="115"/>
                    <a:pt x="86" y="168"/>
                  </a:cubicBezTo>
                  <a:cubicBezTo>
                    <a:pt x="88" y="191"/>
                    <a:pt x="77" y="220"/>
                    <a:pt x="93" y="236"/>
                  </a:cubicBezTo>
                  <a:cubicBezTo>
                    <a:pt x="95" y="238"/>
                    <a:pt x="113" y="179"/>
                    <a:pt x="116" y="168"/>
                  </a:cubicBezTo>
                  <a:cubicBezTo>
                    <a:pt x="114" y="193"/>
                    <a:pt x="109" y="219"/>
                    <a:pt x="109" y="244"/>
                  </a:cubicBezTo>
                  <a:cubicBezTo>
                    <a:pt x="109" y="257"/>
                    <a:pt x="105" y="288"/>
                    <a:pt x="116" y="282"/>
                  </a:cubicBezTo>
                  <a:cubicBezTo>
                    <a:pt x="130" y="275"/>
                    <a:pt x="121" y="251"/>
                    <a:pt x="124" y="236"/>
                  </a:cubicBezTo>
                  <a:cubicBezTo>
                    <a:pt x="126" y="228"/>
                    <a:pt x="131" y="205"/>
                    <a:pt x="131" y="213"/>
                  </a:cubicBezTo>
                  <a:cubicBezTo>
                    <a:pt x="131" y="226"/>
                    <a:pt x="126" y="238"/>
                    <a:pt x="124" y="251"/>
                  </a:cubicBezTo>
                  <a:cubicBezTo>
                    <a:pt x="96" y="209"/>
                    <a:pt x="79" y="163"/>
                    <a:pt x="48" y="122"/>
                  </a:cubicBezTo>
                  <a:cubicBezTo>
                    <a:pt x="43" y="130"/>
                    <a:pt x="42" y="145"/>
                    <a:pt x="33" y="145"/>
                  </a:cubicBezTo>
                  <a:cubicBezTo>
                    <a:pt x="11" y="145"/>
                    <a:pt x="33" y="100"/>
                    <a:pt x="33" y="100"/>
                  </a:cubicBezTo>
                  <a:cubicBezTo>
                    <a:pt x="23" y="95"/>
                    <a:pt x="7" y="95"/>
                    <a:pt x="3" y="85"/>
                  </a:cubicBezTo>
                  <a:cubicBezTo>
                    <a:pt x="0" y="76"/>
                    <a:pt x="13" y="70"/>
                    <a:pt x="18" y="62"/>
                  </a:cubicBezTo>
                  <a:cubicBezTo>
                    <a:pt x="24" y="52"/>
                    <a:pt x="26" y="41"/>
                    <a:pt x="33" y="32"/>
                  </a:cubicBezTo>
                  <a:cubicBezTo>
                    <a:pt x="39" y="23"/>
                    <a:pt x="56" y="20"/>
                    <a:pt x="56" y="9"/>
                  </a:cubicBezTo>
                  <a:cubicBezTo>
                    <a:pt x="56" y="0"/>
                    <a:pt x="41" y="19"/>
                    <a:pt x="33" y="24"/>
                  </a:cubicBezTo>
                  <a:cubicBezTo>
                    <a:pt x="8" y="8"/>
                    <a:pt x="10" y="18"/>
                    <a:pt x="10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776"/>
            <p:cNvSpPr/>
            <p:nvPr/>
          </p:nvSpPr>
          <p:spPr>
            <a:xfrm>
              <a:off x="8663040" y="5703840"/>
              <a:ext cx="612720" cy="517680"/>
            </a:xfrm>
            <a:custGeom>
              <a:avLst/>
              <a:gdLst/>
              <a:ahLst/>
              <a:rect l="l" t="t" r="r" b="b"/>
              <a:pathLst>
                <a:path w="386" h="326">
                  <a:moveTo>
                    <a:pt x="45" y="83"/>
                  </a:moveTo>
                  <a:cubicBezTo>
                    <a:pt x="52" y="139"/>
                    <a:pt x="47" y="136"/>
                    <a:pt x="60" y="174"/>
                  </a:cubicBezTo>
                  <a:cubicBezTo>
                    <a:pt x="65" y="189"/>
                    <a:pt x="67" y="206"/>
                    <a:pt x="76" y="219"/>
                  </a:cubicBezTo>
                  <a:cubicBezTo>
                    <a:pt x="81" y="227"/>
                    <a:pt x="91" y="251"/>
                    <a:pt x="91" y="242"/>
                  </a:cubicBezTo>
                  <a:cubicBezTo>
                    <a:pt x="91" y="221"/>
                    <a:pt x="46" y="142"/>
                    <a:pt x="30" y="128"/>
                  </a:cubicBezTo>
                  <a:cubicBezTo>
                    <a:pt x="21" y="120"/>
                    <a:pt x="39" y="149"/>
                    <a:pt x="45" y="159"/>
                  </a:cubicBezTo>
                  <a:cubicBezTo>
                    <a:pt x="59" y="184"/>
                    <a:pt x="77" y="209"/>
                    <a:pt x="91" y="234"/>
                  </a:cubicBezTo>
                  <a:cubicBezTo>
                    <a:pt x="97" y="244"/>
                    <a:pt x="116" y="271"/>
                    <a:pt x="106" y="265"/>
                  </a:cubicBezTo>
                  <a:cubicBezTo>
                    <a:pt x="74" y="244"/>
                    <a:pt x="91" y="254"/>
                    <a:pt x="53" y="234"/>
                  </a:cubicBezTo>
                  <a:cubicBezTo>
                    <a:pt x="104" y="303"/>
                    <a:pt x="84" y="274"/>
                    <a:pt x="114" y="318"/>
                  </a:cubicBezTo>
                  <a:cubicBezTo>
                    <a:pt x="119" y="326"/>
                    <a:pt x="98" y="308"/>
                    <a:pt x="91" y="303"/>
                  </a:cubicBezTo>
                  <a:cubicBezTo>
                    <a:pt x="80" y="296"/>
                    <a:pt x="70" y="288"/>
                    <a:pt x="60" y="280"/>
                  </a:cubicBezTo>
                  <a:cubicBezTo>
                    <a:pt x="52" y="273"/>
                    <a:pt x="28" y="262"/>
                    <a:pt x="38" y="257"/>
                  </a:cubicBezTo>
                  <a:cubicBezTo>
                    <a:pt x="54" y="249"/>
                    <a:pt x="73" y="262"/>
                    <a:pt x="91" y="265"/>
                  </a:cubicBezTo>
                  <a:cubicBezTo>
                    <a:pt x="91" y="265"/>
                    <a:pt x="76" y="249"/>
                    <a:pt x="68" y="242"/>
                  </a:cubicBezTo>
                  <a:cubicBezTo>
                    <a:pt x="61" y="236"/>
                    <a:pt x="53" y="232"/>
                    <a:pt x="45" y="227"/>
                  </a:cubicBezTo>
                  <a:cubicBezTo>
                    <a:pt x="53" y="222"/>
                    <a:pt x="59" y="214"/>
                    <a:pt x="68" y="212"/>
                  </a:cubicBezTo>
                  <a:cubicBezTo>
                    <a:pt x="71" y="211"/>
                    <a:pt x="79" y="221"/>
                    <a:pt x="76" y="219"/>
                  </a:cubicBezTo>
                  <a:cubicBezTo>
                    <a:pt x="28" y="194"/>
                    <a:pt x="64" y="206"/>
                    <a:pt x="98" y="212"/>
                  </a:cubicBezTo>
                  <a:cubicBezTo>
                    <a:pt x="151" y="262"/>
                    <a:pt x="30" y="178"/>
                    <a:pt x="23" y="174"/>
                  </a:cubicBezTo>
                  <a:cubicBezTo>
                    <a:pt x="30" y="171"/>
                    <a:pt x="37" y="165"/>
                    <a:pt x="45" y="166"/>
                  </a:cubicBezTo>
                  <a:cubicBezTo>
                    <a:pt x="54" y="167"/>
                    <a:pt x="68" y="190"/>
                    <a:pt x="68" y="181"/>
                  </a:cubicBezTo>
                  <a:cubicBezTo>
                    <a:pt x="68" y="161"/>
                    <a:pt x="13" y="139"/>
                    <a:pt x="0" y="136"/>
                  </a:cubicBezTo>
                  <a:cubicBezTo>
                    <a:pt x="31" y="125"/>
                    <a:pt x="16" y="123"/>
                    <a:pt x="45" y="143"/>
                  </a:cubicBezTo>
                  <a:cubicBezTo>
                    <a:pt x="51" y="147"/>
                    <a:pt x="1" y="115"/>
                    <a:pt x="7" y="113"/>
                  </a:cubicBezTo>
                  <a:cubicBezTo>
                    <a:pt x="20" y="109"/>
                    <a:pt x="73" y="132"/>
                    <a:pt x="83" y="136"/>
                  </a:cubicBezTo>
                  <a:cubicBezTo>
                    <a:pt x="81" y="128"/>
                    <a:pt x="84" y="116"/>
                    <a:pt x="76" y="113"/>
                  </a:cubicBezTo>
                  <a:cubicBezTo>
                    <a:pt x="69" y="111"/>
                    <a:pt x="61" y="121"/>
                    <a:pt x="60" y="128"/>
                  </a:cubicBezTo>
                  <a:cubicBezTo>
                    <a:pt x="58" y="158"/>
                    <a:pt x="62" y="189"/>
                    <a:pt x="68" y="219"/>
                  </a:cubicBezTo>
                  <a:cubicBezTo>
                    <a:pt x="70" y="230"/>
                    <a:pt x="83" y="239"/>
                    <a:pt x="83" y="250"/>
                  </a:cubicBezTo>
                  <a:cubicBezTo>
                    <a:pt x="83" y="259"/>
                    <a:pt x="72" y="235"/>
                    <a:pt x="68" y="227"/>
                  </a:cubicBezTo>
                  <a:cubicBezTo>
                    <a:pt x="62" y="217"/>
                    <a:pt x="57" y="207"/>
                    <a:pt x="53" y="196"/>
                  </a:cubicBezTo>
                  <a:cubicBezTo>
                    <a:pt x="43" y="170"/>
                    <a:pt x="37" y="140"/>
                    <a:pt x="30" y="113"/>
                  </a:cubicBezTo>
                  <a:cubicBezTo>
                    <a:pt x="47" y="0"/>
                    <a:pt x="30" y="99"/>
                    <a:pt x="60" y="143"/>
                  </a:cubicBezTo>
                  <a:cubicBezTo>
                    <a:pt x="73" y="191"/>
                    <a:pt x="86" y="232"/>
                    <a:pt x="114" y="272"/>
                  </a:cubicBezTo>
                  <a:cubicBezTo>
                    <a:pt x="119" y="280"/>
                    <a:pt x="123" y="288"/>
                    <a:pt x="129" y="295"/>
                  </a:cubicBezTo>
                  <a:cubicBezTo>
                    <a:pt x="136" y="303"/>
                    <a:pt x="160" y="323"/>
                    <a:pt x="151" y="318"/>
                  </a:cubicBezTo>
                  <a:cubicBezTo>
                    <a:pt x="129" y="305"/>
                    <a:pt x="112" y="286"/>
                    <a:pt x="91" y="272"/>
                  </a:cubicBezTo>
                  <a:cubicBezTo>
                    <a:pt x="83" y="267"/>
                    <a:pt x="59" y="260"/>
                    <a:pt x="68" y="257"/>
                  </a:cubicBezTo>
                  <a:cubicBezTo>
                    <a:pt x="83" y="252"/>
                    <a:pt x="99" y="262"/>
                    <a:pt x="114" y="265"/>
                  </a:cubicBezTo>
                  <a:cubicBezTo>
                    <a:pt x="109" y="257"/>
                    <a:pt x="90" y="247"/>
                    <a:pt x="98" y="242"/>
                  </a:cubicBezTo>
                  <a:cubicBezTo>
                    <a:pt x="109" y="235"/>
                    <a:pt x="124" y="245"/>
                    <a:pt x="136" y="250"/>
                  </a:cubicBezTo>
                  <a:cubicBezTo>
                    <a:pt x="145" y="253"/>
                    <a:pt x="165" y="259"/>
                    <a:pt x="159" y="265"/>
                  </a:cubicBezTo>
                  <a:cubicBezTo>
                    <a:pt x="152" y="272"/>
                    <a:pt x="139" y="260"/>
                    <a:pt x="129" y="257"/>
                  </a:cubicBezTo>
                  <a:cubicBezTo>
                    <a:pt x="119" y="249"/>
                    <a:pt x="110" y="240"/>
                    <a:pt x="98" y="234"/>
                  </a:cubicBezTo>
                  <a:cubicBezTo>
                    <a:pt x="84" y="227"/>
                    <a:pt x="53" y="219"/>
                    <a:pt x="53" y="219"/>
                  </a:cubicBezTo>
                  <a:cubicBezTo>
                    <a:pt x="66" y="214"/>
                    <a:pt x="77" y="205"/>
                    <a:pt x="91" y="204"/>
                  </a:cubicBezTo>
                  <a:cubicBezTo>
                    <a:pt x="101" y="203"/>
                    <a:pt x="111" y="209"/>
                    <a:pt x="121" y="212"/>
                  </a:cubicBezTo>
                  <a:cubicBezTo>
                    <a:pt x="141" y="218"/>
                    <a:pt x="182" y="233"/>
                    <a:pt x="106" y="196"/>
                  </a:cubicBezTo>
                  <a:cubicBezTo>
                    <a:pt x="99" y="192"/>
                    <a:pt x="91" y="191"/>
                    <a:pt x="83" y="189"/>
                  </a:cubicBezTo>
                  <a:cubicBezTo>
                    <a:pt x="75" y="181"/>
                    <a:pt x="50" y="170"/>
                    <a:pt x="60" y="166"/>
                  </a:cubicBezTo>
                  <a:cubicBezTo>
                    <a:pt x="80" y="158"/>
                    <a:pt x="160" y="187"/>
                    <a:pt x="98" y="166"/>
                  </a:cubicBezTo>
                  <a:cubicBezTo>
                    <a:pt x="96" y="158"/>
                    <a:pt x="95" y="150"/>
                    <a:pt x="91" y="143"/>
                  </a:cubicBezTo>
                  <a:cubicBezTo>
                    <a:pt x="71" y="112"/>
                    <a:pt x="51" y="127"/>
                    <a:pt x="91" y="113"/>
                  </a:cubicBezTo>
                  <a:cubicBezTo>
                    <a:pt x="112" y="127"/>
                    <a:pt x="130" y="136"/>
                    <a:pt x="144" y="159"/>
                  </a:cubicBezTo>
                  <a:cubicBezTo>
                    <a:pt x="149" y="168"/>
                    <a:pt x="148" y="179"/>
                    <a:pt x="151" y="189"/>
                  </a:cubicBezTo>
                  <a:cubicBezTo>
                    <a:pt x="153" y="197"/>
                    <a:pt x="159" y="212"/>
                    <a:pt x="159" y="212"/>
                  </a:cubicBezTo>
                  <a:cubicBezTo>
                    <a:pt x="167" y="222"/>
                    <a:pt x="174" y="232"/>
                    <a:pt x="182" y="242"/>
                  </a:cubicBezTo>
                  <a:cubicBezTo>
                    <a:pt x="189" y="250"/>
                    <a:pt x="197" y="273"/>
                    <a:pt x="204" y="265"/>
                  </a:cubicBezTo>
                  <a:cubicBezTo>
                    <a:pt x="212" y="256"/>
                    <a:pt x="196" y="243"/>
                    <a:pt x="189" y="234"/>
                  </a:cubicBezTo>
                  <a:cubicBezTo>
                    <a:pt x="181" y="225"/>
                    <a:pt x="159" y="224"/>
                    <a:pt x="159" y="212"/>
                  </a:cubicBezTo>
                  <a:cubicBezTo>
                    <a:pt x="159" y="208"/>
                    <a:pt x="209" y="226"/>
                    <a:pt x="212" y="227"/>
                  </a:cubicBezTo>
                  <a:cubicBezTo>
                    <a:pt x="217" y="235"/>
                    <a:pt x="227" y="259"/>
                    <a:pt x="227" y="250"/>
                  </a:cubicBezTo>
                  <a:cubicBezTo>
                    <a:pt x="227" y="239"/>
                    <a:pt x="219" y="228"/>
                    <a:pt x="212" y="219"/>
                  </a:cubicBezTo>
                  <a:cubicBezTo>
                    <a:pt x="200" y="201"/>
                    <a:pt x="165" y="180"/>
                    <a:pt x="212" y="212"/>
                  </a:cubicBezTo>
                  <a:cubicBezTo>
                    <a:pt x="209" y="184"/>
                    <a:pt x="211" y="155"/>
                    <a:pt x="204" y="128"/>
                  </a:cubicBezTo>
                  <a:cubicBezTo>
                    <a:pt x="202" y="120"/>
                    <a:pt x="197" y="143"/>
                    <a:pt x="197" y="151"/>
                  </a:cubicBezTo>
                  <a:cubicBezTo>
                    <a:pt x="197" y="166"/>
                    <a:pt x="200" y="181"/>
                    <a:pt x="204" y="196"/>
                  </a:cubicBezTo>
                  <a:cubicBezTo>
                    <a:pt x="217" y="246"/>
                    <a:pt x="210" y="235"/>
                    <a:pt x="242" y="257"/>
                  </a:cubicBezTo>
                  <a:cubicBezTo>
                    <a:pt x="232" y="203"/>
                    <a:pt x="239" y="231"/>
                    <a:pt x="220" y="174"/>
                  </a:cubicBezTo>
                  <a:cubicBezTo>
                    <a:pt x="216" y="162"/>
                    <a:pt x="199" y="136"/>
                    <a:pt x="212" y="136"/>
                  </a:cubicBezTo>
                  <a:cubicBezTo>
                    <a:pt x="227" y="136"/>
                    <a:pt x="228" y="161"/>
                    <a:pt x="235" y="174"/>
                  </a:cubicBezTo>
                  <a:cubicBezTo>
                    <a:pt x="251" y="206"/>
                    <a:pt x="237" y="251"/>
                    <a:pt x="280" y="272"/>
                  </a:cubicBezTo>
                  <a:cubicBezTo>
                    <a:pt x="290" y="277"/>
                    <a:pt x="300" y="282"/>
                    <a:pt x="311" y="287"/>
                  </a:cubicBezTo>
                  <a:cubicBezTo>
                    <a:pt x="318" y="290"/>
                    <a:pt x="339" y="300"/>
                    <a:pt x="333" y="295"/>
                  </a:cubicBezTo>
                  <a:cubicBezTo>
                    <a:pt x="315" y="278"/>
                    <a:pt x="293" y="265"/>
                    <a:pt x="273" y="250"/>
                  </a:cubicBezTo>
                  <a:cubicBezTo>
                    <a:pt x="218" y="210"/>
                    <a:pt x="183" y="205"/>
                    <a:pt x="242" y="219"/>
                  </a:cubicBezTo>
                  <a:cubicBezTo>
                    <a:pt x="296" y="254"/>
                    <a:pt x="246" y="208"/>
                    <a:pt x="235" y="196"/>
                  </a:cubicBezTo>
                  <a:cubicBezTo>
                    <a:pt x="243" y="191"/>
                    <a:pt x="258" y="190"/>
                    <a:pt x="258" y="181"/>
                  </a:cubicBezTo>
                  <a:cubicBezTo>
                    <a:pt x="258" y="173"/>
                    <a:pt x="233" y="182"/>
                    <a:pt x="235" y="174"/>
                  </a:cubicBezTo>
                  <a:cubicBezTo>
                    <a:pt x="238" y="163"/>
                    <a:pt x="255" y="164"/>
                    <a:pt x="265" y="159"/>
                  </a:cubicBezTo>
                  <a:cubicBezTo>
                    <a:pt x="216" y="77"/>
                    <a:pt x="271" y="158"/>
                    <a:pt x="212" y="98"/>
                  </a:cubicBezTo>
                  <a:cubicBezTo>
                    <a:pt x="206" y="91"/>
                    <a:pt x="188" y="76"/>
                    <a:pt x="197" y="75"/>
                  </a:cubicBezTo>
                  <a:cubicBezTo>
                    <a:pt x="225" y="72"/>
                    <a:pt x="280" y="90"/>
                    <a:pt x="280" y="90"/>
                  </a:cubicBezTo>
                  <a:cubicBezTo>
                    <a:pt x="329" y="124"/>
                    <a:pt x="288" y="84"/>
                    <a:pt x="280" y="136"/>
                  </a:cubicBezTo>
                  <a:cubicBezTo>
                    <a:pt x="277" y="159"/>
                    <a:pt x="279" y="183"/>
                    <a:pt x="288" y="204"/>
                  </a:cubicBezTo>
                  <a:cubicBezTo>
                    <a:pt x="317" y="275"/>
                    <a:pt x="332" y="260"/>
                    <a:pt x="386" y="280"/>
                  </a:cubicBezTo>
                  <a:cubicBezTo>
                    <a:pt x="376" y="272"/>
                    <a:pt x="367" y="264"/>
                    <a:pt x="356" y="257"/>
                  </a:cubicBezTo>
                  <a:cubicBezTo>
                    <a:pt x="337" y="245"/>
                    <a:pt x="303" y="234"/>
                    <a:pt x="348" y="250"/>
                  </a:cubicBezTo>
                  <a:cubicBezTo>
                    <a:pt x="324" y="224"/>
                    <a:pt x="339" y="216"/>
                    <a:pt x="303" y="204"/>
                  </a:cubicBezTo>
                  <a:cubicBezTo>
                    <a:pt x="313" y="201"/>
                    <a:pt x="327" y="204"/>
                    <a:pt x="333" y="196"/>
                  </a:cubicBezTo>
                  <a:cubicBezTo>
                    <a:pt x="343" y="182"/>
                    <a:pt x="297" y="152"/>
                    <a:pt x="288" y="143"/>
                  </a:cubicBezTo>
                  <a:cubicBezTo>
                    <a:pt x="285" y="136"/>
                    <a:pt x="277" y="128"/>
                    <a:pt x="280" y="121"/>
                  </a:cubicBezTo>
                  <a:cubicBezTo>
                    <a:pt x="284" y="114"/>
                    <a:pt x="297" y="119"/>
                    <a:pt x="303" y="113"/>
                  </a:cubicBezTo>
                  <a:cubicBezTo>
                    <a:pt x="307" y="109"/>
                    <a:pt x="303" y="103"/>
                    <a:pt x="303" y="98"/>
                  </a:cubicBezTo>
                  <a:lnTo>
                    <a:pt x="351" y="1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77"/>
            <p:cNvSpPr/>
            <p:nvPr/>
          </p:nvSpPr>
          <p:spPr>
            <a:xfrm>
              <a:off x="5149800" y="6145200"/>
              <a:ext cx="1505160" cy="917640"/>
            </a:xfrm>
            <a:custGeom>
              <a:avLst/>
              <a:gdLst/>
              <a:ahLst/>
              <a:rect l="l" t="t" r="r" b="b"/>
              <a:pathLst>
                <a:path w="948" h="578">
                  <a:moveTo>
                    <a:pt x="257" y="40"/>
                  </a:moveTo>
                  <a:cubicBezTo>
                    <a:pt x="262" y="169"/>
                    <a:pt x="266" y="297"/>
                    <a:pt x="273" y="426"/>
                  </a:cubicBezTo>
                  <a:cubicBezTo>
                    <a:pt x="274" y="449"/>
                    <a:pt x="285" y="453"/>
                    <a:pt x="295" y="472"/>
                  </a:cubicBezTo>
                  <a:cubicBezTo>
                    <a:pt x="299" y="479"/>
                    <a:pt x="311" y="494"/>
                    <a:pt x="303" y="494"/>
                  </a:cubicBezTo>
                  <a:cubicBezTo>
                    <a:pt x="294" y="494"/>
                    <a:pt x="288" y="463"/>
                    <a:pt x="288" y="472"/>
                  </a:cubicBezTo>
                  <a:cubicBezTo>
                    <a:pt x="288" y="483"/>
                    <a:pt x="295" y="494"/>
                    <a:pt x="303" y="502"/>
                  </a:cubicBezTo>
                  <a:cubicBezTo>
                    <a:pt x="309" y="508"/>
                    <a:pt x="301" y="485"/>
                    <a:pt x="295" y="479"/>
                  </a:cubicBezTo>
                  <a:cubicBezTo>
                    <a:pt x="290" y="474"/>
                    <a:pt x="280" y="474"/>
                    <a:pt x="273" y="472"/>
                  </a:cubicBezTo>
                  <a:cubicBezTo>
                    <a:pt x="268" y="467"/>
                    <a:pt x="252" y="463"/>
                    <a:pt x="257" y="457"/>
                  </a:cubicBezTo>
                  <a:cubicBezTo>
                    <a:pt x="266" y="447"/>
                    <a:pt x="315" y="493"/>
                    <a:pt x="303" y="479"/>
                  </a:cubicBezTo>
                  <a:cubicBezTo>
                    <a:pt x="282" y="455"/>
                    <a:pt x="262" y="429"/>
                    <a:pt x="235" y="411"/>
                  </a:cubicBezTo>
                  <a:cubicBezTo>
                    <a:pt x="227" y="406"/>
                    <a:pt x="203" y="396"/>
                    <a:pt x="212" y="396"/>
                  </a:cubicBezTo>
                  <a:cubicBezTo>
                    <a:pt x="226" y="396"/>
                    <a:pt x="237" y="406"/>
                    <a:pt x="250" y="411"/>
                  </a:cubicBezTo>
                  <a:cubicBezTo>
                    <a:pt x="265" y="417"/>
                    <a:pt x="295" y="426"/>
                    <a:pt x="295" y="426"/>
                  </a:cubicBezTo>
                  <a:cubicBezTo>
                    <a:pt x="296" y="427"/>
                    <a:pt x="332" y="462"/>
                    <a:pt x="333" y="457"/>
                  </a:cubicBezTo>
                  <a:cubicBezTo>
                    <a:pt x="344" y="422"/>
                    <a:pt x="313" y="417"/>
                    <a:pt x="295" y="411"/>
                  </a:cubicBezTo>
                  <a:cubicBezTo>
                    <a:pt x="254" y="348"/>
                    <a:pt x="326" y="420"/>
                    <a:pt x="326" y="411"/>
                  </a:cubicBezTo>
                  <a:cubicBezTo>
                    <a:pt x="326" y="402"/>
                    <a:pt x="275" y="368"/>
                    <a:pt x="273" y="366"/>
                  </a:cubicBezTo>
                  <a:cubicBezTo>
                    <a:pt x="265" y="359"/>
                    <a:pt x="246" y="353"/>
                    <a:pt x="250" y="343"/>
                  </a:cubicBezTo>
                  <a:cubicBezTo>
                    <a:pt x="254" y="334"/>
                    <a:pt x="270" y="348"/>
                    <a:pt x="280" y="350"/>
                  </a:cubicBezTo>
                  <a:cubicBezTo>
                    <a:pt x="318" y="376"/>
                    <a:pt x="308" y="374"/>
                    <a:pt x="273" y="320"/>
                  </a:cubicBezTo>
                  <a:cubicBezTo>
                    <a:pt x="269" y="313"/>
                    <a:pt x="288" y="325"/>
                    <a:pt x="295" y="328"/>
                  </a:cubicBezTo>
                  <a:cubicBezTo>
                    <a:pt x="300" y="333"/>
                    <a:pt x="308" y="349"/>
                    <a:pt x="311" y="343"/>
                  </a:cubicBezTo>
                  <a:cubicBezTo>
                    <a:pt x="316" y="334"/>
                    <a:pt x="310" y="321"/>
                    <a:pt x="303" y="313"/>
                  </a:cubicBezTo>
                  <a:cubicBezTo>
                    <a:pt x="298" y="307"/>
                    <a:pt x="288" y="308"/>
                    <a:pt x="280" y="305"/>
                  </a:cubicBezTo>
                  <a:cubicBezTo>
                    <a:pt x="272" y="295"/>
                    <a:pt x="246" y="282"/>
                    <a:pt x="257" y="275"/>
                  </a:cubicBezTo>
                  <a:cubicBezTo>
                    <a:pt x="271" y="266"/>
                    <a:pt x="290" y="300"/>
                    <a:pt x="303" y="290"/>
                  </a:cubicBezTo>
                  <a:cubicBezTo>
                    <a:pt x="329" y="271"/>
                    <a:pt x="225" y="207"/>
                    <a:pt x="295" y="229"/>
                  </a:cubicBezTo>
                  <a:cubicBezTo>
                    <a:pt x="305" y="200"/>
                    <a:pt x="297" y="190"/>
                    <a:pt x="288" y="161"/>
                  </a:cubicBezTo>
                  <a:cubicBezTo>
                    <a:pt x="293" y="247"/>
                    <a:pt x="299" y="314"/>
                    <a:pt x="318" y="396"/>
                  </a:cubicBezTo>
                  <a:cubicBezTo>
                    <a:pt x="319" y="398"/>
                    <a:pt x="334" y="455"/>
                    <a:pt x="333" y="457"/>
                  </a:cubicBezTo>
                  <a:cubicBezTo>
                    <a:pt x="330" y="463"/>
                    <a:pt x="323" y="446"/>
                    <a:pt x="318" y="441"/>
                  </a:cubicBezTo>
                  <a:cubicBezTo>
                    <a:pt x="306" y="403"/>
                    <a:pt x="283" y="364"/>
                    <a:pt x="265" y="328"/>
                  </a:cubicBezTo>
                  <a:cubicBezTo>
                    <a:pt x="265" y="328"/>
                    <a:pt x="280" y="351"/>
                    <a:pt x="273" y="358"/>
                  </a:cubicBezTo>
                  <a:cubicBezTo>
                    <a:pt x="267" y="364"/>
                    <a:pt x="258" y="348"/>
                    <a:pt x="250" y="343"/>
                  </a:cubicBezTo>
                  <a:cubicBezTo>
                    <a:pt x="240" y="314"/>
                    <a:pt x="212" y="260"/>
                    <a:pt x="212" y="260"/>
                  </a:cubicBezTo>
                  <a:cubicBezTo>
                    <a:pt x="209" y="240"/>
                    <a:pt x="189" y="214"/>
                    <a:pt x="204" y="199"/>
                  </a:cubicBezTo>
                  <a:cubicBezTo>
                    <a:pt x="208" y="195"/>
                    <a:pt x="224" y="271"/>
                    <a:pt x="227" y="282"/>
                  </a:cubicBezTo>
                  <a:cubicBezTo>
                    <a:pt x="237" y="315"/>
                    <a:pt x="246" y="348"/>
                    <a:pt x="257" y="381"/>
                  </a:cubicBezTo>
                  <a:cubicBezTo>
                    <a:pt x="260" y="389"/>
                    <a:pt x="271" y="398"/>
                    <a:pt x="265" y="404"/>
                  </a:cubicBezTo>
                  <a:cubicBezTo>
                    <a:pt x="260" y="409"/>
                    <a:pt x="255" y="393"/>
                    <a:pt x="250" y="388"/>
                  </a:cubicBezTo>
                  <a:cubicBezTo>
                    <a:pt x="242" y="350"/>
                    <a:pt x="232" y="312"/>
                    <a:pt x="220" y="275"/>
                  </a:cubicBezTo>
                  <a:cubicBezTo>
                    <a:pt x="229" y="245"/>
                    <a:pt x="250" y="202"/>
                    <a:pt x="220" y="176"/>
                  </a:cubicBezTo>
                  <a:cubicBezTo>
                    <a:pt x="214" y="171"/>
                    <a:pt x="227" y="207"/>
                    <a:pt x="227" y="199"/>
                  </a:cubicBezTo>
                  <a:cubicBezTo>
                    <a:pt x="227" y="177"/>
                    <a:pt x="219" y="158"/>
                    <a:pt x="212" y="138"/>
                  </a:cubicBezTo>
                  <a:cubicBezTo>
                    <a:pt x="239" y="65"/>
                    <a:pt x="212" y="51"/>
                    <a:pt x="151" y="40"/>
                  </a:cubicBezTo>
                  <a:cubicBezTo>
                    <a:pt x="113" y="0"/>
                    <a:pt x="129" y="33"/>
                    <a:pt x="83" y="17"/>
                  </a:cubicBezTo>
                  <a:cubicBezTo>
                    <a:pt x="40" y="103"/>
                    <a:pt x="88" y="195"/>
                    <a:pt x="106" y="282"/>
                  </a:cubicBezTo>
                  <a:cubicBezTo>
                    <a:pt x="100" y="219"/>
                    <a:pt x="97" y="192"/>
                    <a:pt x="83" y="138"/>
                  </a:cubicBezTo>
                  <a:cubicBezTo>
                    <a:pt x="39" y="229"/>
                    <a:pt x="81" y="332"/>
                    <a:pt x="98" y="426"/>
                  </a:cubicBezTo>
                  <a:cubicBezTo>
                    <a:pt x="85" y="514"/>
                    <a:pt x="99" y="469"/>
                    <a:pt x="83" y="449"/>
                  </a:cubicBezTo>
                  <a:cubicBezTo>
                    <a:pt x="38" y="393"/>
                    <a:pt x="0" y="388"/>
                    <a:pt x="60" y="404"/>
                  </a:cubicBezTo>
                  <a:cubicBezTo>
                    <a:pt x="80" y="423"/>
                    <a:pt x="98" y="433"/>
                    <a:pt x="113" y="457"/>
                  </a:cubicBezTo>
                  <a:cubicBezTo>
                    <a:pt x="118" y="452"/>
                    <a:pt x="129" y="449"/>
                    <a:pt x="129" y="441"/>
                  </a:cubicBezTo>
                  <a:cubicBezTo>
                    <a:pt x="129" y="434"/>
                    <a:pt x="117" y="432"/>
                    <a:pt x="113" y="426"/>
                  </a:cubicBezTo>
                  <a:cubicBezTo>
                    <a:pt x="75" y="377"/>
                    <a:pt x="67" y="369"/>
                    <a:pt x="121" y="396"/>
                  </a:cubicBezTo>
                  <a:cubicBezTo>
                    <a:pt x="129" y="400"/>
                    <a:pt x="136" y="406"/>
                    <a:pt x="144" y="411"/>
                  </a:cubicBezTo>
                  <a:cubicBezTo>
                    <a:pt x="188" y="479"/>
                    <a:pt x="123" y="376"/>
                    <a:pt x="121" y="373"/>
                  </a:cubicBezTo>
                  <a:cubicBezTo>
                    <a:pt x="116" y="366"/>
                    <a:pt x="106" y="359"/>
                    <a:pt x="106" y="350"/>
                  </a:cubicBezTo>
                  <a:cubicBezTo>
                    <a:pt x="106" y="343"/>
                    <a:pt x="116" y="361"/>
                    <a:pt x="121" y="366"/>
                  </a:cubicBezTo>
                  <a:cubicBezTo>
                    <a:pt x="129" y="374"/>
                    <a:pt x="136" y="381"/>
                    <a:pt x="144" y="388"/>
                  </a:cubicBezTo>
                  <a:cubicBezTo>
                    <a:pt x="139" y="375"/>
                    <a:pt x="137" y="361"/>
                    <a:pt x="129" y="350"/>
                  </a:cubicBezTo>
                  <a:cubicBezTo>
                    <a:pt x="115" y="329"/>
                    <a:pt x="71" y="303"/>
                    <a:pt x="121" y="335"/>
                  </a:cubicBezTo>
                  <a:cubicBezTo>
                    <a:pt x="118" y="328"/>
                    <a:pt x="117" y="320"/>
                    <a:pt x="113" y="313"/>
                  </a:cubicBezTo>
                  <a:cubicBezTo>
                    <a:pt x="109" y="307"/>
                    <a:pt x="98" y="297"/>
                    <a:pt x="98" y="297"/>
                  </a:cubicBezTo>
                  <a:cubicBezTo>
                    <a:pt x="93" y="279"/>
                    <a:pt x="88" y="262"/>
                    <a:pt x="83" y="244"/>
                  </a:cubicBezTo>
                  <a:cubicBezTo>
                    <a:pt x="81" y="237"/>
                    <a:pt x="71" y="227"/>
                    <a:pt x="76" y="222"/>
                  </a:cubicBezTo>
                  <a:cubicBezTo>
                    <a:pt x="81" y="217"/>
                    <a:pt x="91" y="227"/>
                    <a:pt x="98" y="229"/>
                  </a:cubicBezTo>
                  <a:cubicBezTo>
                    <a:pt x="96" y="215"/>
                    <a:pt x="79" y="125"/>
                    <a:pt x="68" y="108"/>
                  </a:cubicBezTo>
                  <a:cubicBezTo>
                    <a:pt x="63" y="101"/>
                    <a:pt x="53" y="103"/>
                    <a:pt x="45" y="100"/>
                  </a:cubicBezTo>
                  <a:cubicBezTo>
                    <a:pt x="38" y="90"/>
                    <a:pt x="14" y="79"/>
                    <a:pt x="23" y="70"/>
                  </a:cubicBezTo>
                  <a:cubicBezTo>
                    <a:pt x="46" y="48"/>
                    <a:pt x="80" y="89"/>
                    <a:pt x="91" y="100"/>
                  </a:cubicBezTo>
                  <a:cubicBezTo>
                    <a:pt x="104" y="60"/>
                    <a:pt x="92" y="82"/>
                    <a:pt x="106" y="108"/>
                  </a:cubicBezTo>
                  <a:cubicBezTo>
                    <a:pt x="112" y="119"/>
                    <a:pt x="121" y="128"/>
                    <a:pt x="129" y="138"/>
                  </a:cubicBezTo>
                  <a:cubicBezTo>
                    <a:pt x="131" y="148"/>
                    <a:pt x="127" y="164"/>
                    <a:pt x="136" y="169"/>
                  </a:cubicBezTo>
                  <a:cubicBezTo>
                    <a:pt x="143" y="173"/>
                    <a:pt x="143" y="138"/>
                    <a:pt x="144" y="146"/>
                  </a:cubicBezTo>
                  <a:cubicBezTo>
                    <a:pt x="164" y="335"/>
                    <a:pt x="108" y="272"/>
                    <a:pt x="174" y="335"/>
                  </a:cubicBezTo>
                  <a:cubicBezTo>
                    <a:pt x="177" y="328"/>
                    <a:pt x="180" y="320"/>
                    <a:pt x="182" y="313"/>
                  </a:cubicBezTo>
                  <a:cubicBezTo>
                    <a:pt x="185" y="305"/>
                    <a:pt x="183" y="284"/>
                    <a:pt x="189" y="290"/>
                  </a:cubicBezTo>
                  <a:cubicBezTo>
                    <a:pt x="198" y="299"/>
                    <a:pt x="195" y="315"/>
                    <a:pt x="197" y="328"/>
                  </a:cubicBezTo>
                  <a:cubicBezTo>
                    <a:pt x="210" y="407"/>
                    <a:pt x="196" y="379"/>
                    <a:pt x="235" y="479"/>
                  </a:cubicBezTo>
                  <a:cubicBezTo>
                    <a:pt x="240" y="492"/>
                    <a:pt x="244" y="505"/>
                    <a:pt x="250" y="517"/>
                  </a:cubicBezTo>
                  <a:cubicBezTo>
                    <a:pt x="259" y="533"/>
                    <a:pt x="280" y="563"/>
                    <a:pt x="280" y="563"/>
                  </a:cubicBezTo>
                  <a:cubicBezTo>
                    <a:pt x="272" y="537"/>
                    <a:pt x="257" y="520"/>
                    <a:pt x="250" y="494"/>
                  </a:cubicBezTo>
                  <a:cubicBezTo>
                    <a:pt x="247" y="484"/>
                    <a:pt x="232" y="468"/>
                    <a:pt x="242" y="464"/>
                  </a:cubicBezTo>
                  <a:cubicBezTo>
                    <a:pt x="257" y="458"/>
                    <a:pt x="273" y="474"/>
                    <a:pt x="288" y="479"/>
                  </a:cubicBezTo>
                  <a:cubicBezTo>
                    <a:pt x="298" y="487"/>
                    <a:pt x="308" y="495"/>
                    <a:pt x="318" y="502"/>
                  </a:cubicBezTo>
                  <a:cubicBezTo>
                    <a:pt x="325" y="507"/>
                    <a:pt x="343" y="526"/>
                    <a:pt x="341" y="517"/>
                  </a:cubicBezTo>
                  <a:cubicBezTo>
                    <a:pt x="334" y="489"/>
                    <a:pt x="316" y="466"/>
                    <a:pt x="303" y="441"/>
                  </a:cubicBezTo>
                  <a:cubicBezTo>
                    <a:pt x="298" y="432"/>
                    <a:pt x="271" y="425"/>
                    <a:pt x="280" y="419"/>
                  </a:cubicBezTo>
                  <a:cubicBezTo>
                    <a:pt x="293" y="411"/>
                    <a:pt x="311" y="424"/>
                    <a:pt x="326" y="426"/>
                  </a:cubicBezTo>
                  <a:cubicBezTo>
                    <a:pt x="336" y="434"/>
                    <a:pt x="347" y="440"/>
                    <a:pt x="356" y="449"/>
                  </a:cubicBezTo>
                  <a:cubicBezTo>
                    <a:pt x="367" y="461"/>
                    <a:pt x="375" y="498"/>
                    <a:pt x="386" y="487"/>
                  </a:cubicBezTo>
                  <a:cubicBezTo>
                    <a:pt x="398" y="475"/>
                    <a:pt x="369" y="387"/>
                    <a:pt x="364" y="366"/>
                  </a:cubicBezTo>
                  <a:cubicBezTo>
                    <a:pt x="366" y="331"/>
                    <a:pt x="359" y="293"/>
                    <a:pt x="371" y="260"/>
                  </a:cubicBezTo>
                  <a:cubicBezTo>
                    <a:pt x="375" y="250"/>
                    <a:pt x="392" y="261"/>
                    <a:pt x="401" y="267"/>
                  </a:cubicBezTo>
                  <a:cubicBezTo>
                    <a:pt x="418" y="278"/>
                    <a:pt x="425" y="299"/>
                    <a:pt x="439" y="313"/>
                  </a:cubicBezTo>
                  <a:cubicBezTo>
                    <a:pt x="454" y="269"/>
                    <a:pt x="490" y="244"/>
                    <a:pt x="515" y="206"/>
                  </a:cubicBezTo>
                  <a:cubicBezTo>
                    <a:pt x="541" y="481"/>
                    <a:pt x="510" y="286"/>
                    <a:pt x="545" y="411"/>
                  </a:cubicBezTo>
                  <a:cubicBezTo>
                    <a:pt x="565" y="483"/>
                    <a:pt x="539" y="420"/>
                    <a:pt x="568" y="472"/>
                  </a:cubicBezTo>
                  <a:cubicBezTo>
                    <a:pt x="574" y="482"/>
                    <a:pt x="579" y="492"/>
                    <a:pt x="583" y="502"/>
                  </a:cubicBezTo>
                  <a:cubicBezTo>
                    <a:pt x="586" y="509"/>
                    <a:pt x="593" y="533"/>
                    <a:pt x="591" y="525"/>
                  </a:cubicBezTo>
                  <a:cubicBezTo>
                    <a:pt x="583" y="491"/>
                    <a:pt x="578" y="478"/>
                    <a:pt x="568" y="449"/>
                  </a:cubicBezTo>
                  <a:cubicBezTo>
                    <a:pt x="566" y="434"/>
                    <a:pt x="553" y="417"/>
                    <a:pt x="561" y="404"/>
                  </a:cubicBezTo>
                  <a:cubicBezTo>
                    <a:pt x="567" y="395"/>
                    <a:pt x="578" y="417"/>
                    <a:pt x="583" y="426"/>
                  </a:cubicBezTo>
                  <a:cubicBezTo>
                    <a:pt x="589" y="438"/>
                    <a:pt x="588" y="451"/>
                    <a:pt x="591" y="464"/>
                  </a:cubicBezTo>
                  <a:cubicBezTo>
                    <a:pt x="593" y="472"/>
                    <a:pt x="607" y="487"/>
                    <a:pt x="599" y="487"/>
                  </a:cubicBezTo>
                  <a:cubicBezTo>
                    <a:pt x="586" y="487"/>
                    <a:pt x="578" y="472"/>
                    <a:pt x="568" y="464"/>
                  </a:cubicBezTo>
                  <a:cubicBezTo>
                    <a:pt x="563" y="454"/>
                    <a:pt x="551" y="445"/>
                    <a:pt x="553" y="434"/>
                  </a:cubicBezTo>
                  <a:cubicBezTo>
                    <a:pt x="555" y="426"/>
                    <a:pt x="569" y="422"/>
                    <a:pt x="576" y="426"/>
                  </a:cubicBezTo>
                  <a:cubicBezTo>
                    <a:pt x="586" y="432"/>
                    <a:pt x="584" y="448"/>
                    <a:pt x="591" y="457"/>
                  </a:cubicBezTo>
                  <a:cubicBezTo>
                    <a:pt x="597" y="466"/>
                    <a:pt x="607" y="471"/>
                    <a:pt x="614" y="479"/>
                  </a:cubicBezTo>
                  <a:cubicBezTo>
                    <a:pt x="620" y="486"/>
                    <a:pt x="624" y="494"/>
                    <a:pt x="629" y="502"/>
                  </a:cubicBezTo>
                  <a:cubicBezTo>
                    <a:pt x="631" y="515"/>
                    <a:pt x="645" y="549"/>
                    <a:pt x="636" y="540"/>
                  </a:cubicBezTo>
                  <a:cubicBezTo>
                    <a:pt x="625" y="529"/>
                    <a:pt x="629" y="508"/>
                    <a:pt x="621" y="494"/>
                  </a:cubicBezTo>
                  <a:cubicBezTo>
                    <a:pt x="592" y="444"/>
                    <a:pt x="515" y="411"/>
                    <a:pt x="621" y="441"/>
                  </a:cubicBezTo>
                  <a:cubicBezTo>
                    <a:pt x="692" y="491"/>
                    <a:pt x="593" y="389"/>
                    <a:pt x="591" y="388"/>
                  </a:cubicBezTo>
                  <a:cubicBezTo>
                    <a:pt x="533" y="344"/>
                    <a:pt x="476" y="344"/>
                    <a:pt x="583" y="358"/>
                  </a:cubicBezTo>
                  <a:cubicBezTo>
                    <a:pt x="598" y="368"/>
                    <a:pt x="614" y="378"/>
                    <a:pt x="629" y="388"/>
                  </a:cubicBezTo>
                  <a:cubicBezTo>
                    <a:pt x="640" y="395"/>
                    <a:pt x="615" y="367"/>
                    <a:pt x="606" y="358"/>
                  </a:cubicBezTo>
                  <a:cubicBezTo>
                    <a:pt x="592" y="344"/>
                    <a:pt x="577" y="332"/>
                    <a:pt x="561" y="320"/>
                  </a:cubicBezTo>
                  <a:cubicBezTo>
                    <a:pt x="517" y="287"/>
                    <a:pt x="492" y="285"/>
                    <a:pt x="545" y="297"/>
                  </a:cubicBezTo>
                  <a:cubicBezTo>
                    <a:pt x="564" y="311"/>
                    <a:pt x="615" y="356"/>
                    <a:pt x="553" y="275"/>
                  </a:cubicBezTo>
                  <a:cubicBezTo>
                    <a:pt x="547" y="267"/>
                    <a:pt x="479" y="231"/>
                    <a:pt x="538" y="252"/>
                  </a:cubicBezTo>
                  <a:cubicBezTo>
                    <a:pt x="540" y="244"/>
                    <a:pt x="546" y="237"/>
                    <a:pt x="545" y="229"/>
                  </a:cubicBezTo>
                  <a:cubicBezTo>
                    <a:pt x="543" y="220"/>
                    <a:pt x="530" y="197"/>
                    <a:pt x="530" y="206"/>
                  </a:cubicBezTo>
                  <a:cubicBezTo>
                    <a:pt x="530" y="218"/>
                    <a:pt x="554" y="250"/>
                    <a:pt x="561" y="260"/>
                  </a:cubicBezTo>
                  <a:cubicBezTo>
                    <a:pt x="566" y="255"/>
                    <a:pt x="570" y="248"/>
                    <a:pt x="576" y="244"/>
                  </a:cubicBezTo>
                  <a:cubicBezTo>
                    <a:pt x="616" y="220"/>
                    <a:pt x="613" y="272"/>
                    <a:pt x="636" y="290"/>
                  </a:cubicBezTo>
                  <a:cubicBezTo>
                    <a:pt x="642" y="295"/>
                    <a:pt x="651" y="295"/>
                    <a:pt x="659" y="297"/>
                  </a:cubicBezTo>
                  <a:cubicBezTo>
                    <a:pt x="677" y="248"/>
                    <a:pt x="701" y="276"/>
                    <a:pt x="720" y="305"/>
                  </a:cubicBezTo>
                  <a:cubicBezTo>
                    <a:pt x="799" y="277"/>
                    <a:pt x="760" y="409"/>
                    <a:pt x="743" y="464"/>
                  </a:cubicBezTo>
                  <a:cubicBezTo>
                    <a:pt x="689" y="386"/>
                    <a:pt x="749" y="554"/>
                    <a:pt x="765" y="578"/>
                  </a:cubicBezTo>
                  <a:cubicBezTo>
                    <a:pt x="777" y="542"/>
                    <a:pt x="776" y="565"/>
                    <a:pt x="758" y="525"/>
                  </a:cubicBezTo>
                  <a:cubicBezTo>
                    <a:pt x="755" y="518"/>
                    <a:pt x="744" y="508"/>
                    <a:pt x="750" y="502"/>
                  </a:cubicBezTo>
                  <a:cubicBezTo>
                    <a:pt x="756" y="496"/>
                    <a:pt x="795" y="525"/>
                    <a:pt x="796" y="525"/>
                  </a:cubicBezTo>
                  <a:cubicBezTo>
                    <a:pt x="793" y="510"/>
                    <a:pt x="793" y="494"/>
                    <a:pt x="788" y="479"/>
                  </a:cubicBezTo>
                  <a:cubicBezTo>
                    <a:pt x="785" y="468"/>
                    <a:pt x="763" y="454"/>
                    <a:pt x="773" y="449"/>
                  </a:cubicBezTo>
                  <a:cubicBezTo>
                    <a:pt x="788" y="442"/>
                    <a:pt x="827" y="470"/>
                    <a:pt x="841" y="479"/>
                  </a:cubicBezTo>
                  <a:cubicBezTo>
                    <a:pt x="838" y="461"/>
                    <a:pt x="839" y="443"/>
                    <a:pt x="833" y="426"/>
                  </a:cubicBezTo>
                  <a:cubicBezTo>
                    <a:pt x="812" y="369"/>
                    <a:pt x="803" y="421"/>
                    <a:pt x="818" y="373"/>
                  </a:cubicBezTo>
                  <a:cubicBezTo>
                    <a:pt x="860" y="388"/>
                    <a:pt x="914" y="434"/>
                    <a:pt x="940" y="472"/>
                  </a:cubicBezTo>
                  <a:cubicBezTo>
                    <a:pt x="942" y="464"/>
                    <a:pt x="948" y="457"/>
                    <a:pt x="947" y="449"/>
                  </a:cubicBezTo>
                  <a:cubicBezTo>
                    <a:pt x="943" y="427"/>
                    <a:pt x="876" y="379"/>
                    <a:pt x="856" y="366"/>
                  </a:cubicBezTo>
                  <a:cubicBezTo>
                    <a:pt x="777" y="376"/>
                    <a:pt x="799" y="376"/>
                    <a:pt x="788" y="457"/>
                  </a:cubicBezTo>
                  <a:cubicBezTo>
                    <a:pt x="764" y="431"/>
                    <a:pt x="738" y="420"/>
                    <a:pt x="705" y="411"/>
                  </a:cubicBezTo>
                  <a:cubicBezTo>
                    <a:pt x="700" y="424"/>
                    <a:pt x="702" y="445"/>
                    <a:pt x="689" y="449"/>
                  </a:cubicBezTo>
                  <a:cubicBezTo>
                    <a:pt x="677" y="453"/>
                    <a:pt x="670" y="433"/>
                    <a:pt x="659" y="426"/>
                  </a:cubicBezTo>
                  <a:cubicBezTo>
                    <a:pt x="637" y="412"/>
                    <a:pt x="629" y="411"/>
                    <a:pt x="606" y="404"/>
                  </a:cubicBezTo>
                  <a:cubicBezTo>
                    <a:pt x="531" y="329"/>
                    <a:pt x="442" y="314"/>
                    <a:pt x="356" y="252"/>
                  </a:cubicBezTo>
                  <a:cubicBezTo>
                    <a:pt x="313" y="221"/>
                    <a:pt x="246" y="170"/>
                    <a:pt x="197" y="153"/>
                  </a:cubicBezTo>
                  <a:cubicBezTo>
                    <a:pt x="231" y="205"/>
                    <a:pt x="284" y="238"/>
                    <a:pt x="318" y="290"/>
                  </a:cubicBezTo>
                  <a:cubicBezTo>
                    <a:pt x="329" y="250"/>
                    <a:pt x="329" y="213"/>
                    <a:pt x="348" y="176"/>
                  </a:cubicBezTo>
                  <a:cubicBezTo>
                    <a:pt x="387" y="201"/>
                    <a:pt x="373" y="220"/>
                    <a:pt x="386" y="260"/>
                  </a:cubicBezTo>
                  <a:cubicBezTo>
                    <a:pt x="395" y="288"/>
                    <a:pt x="412" y="321"/>
                    <a:pt x="417" y="350"/>
                  </a:cubicBezTo>
                  <a:cubicBezTo>
                    <a:pt x="424" y="388"/>
                    <a:pt x="423" y="427"/>
                    <a:pt x="432" y="464"/>
                  </a:cubicBezTo>
                  <a:cubicBezTo>
                    <a:pt x="436" y="481"/>
                    <a:pt x="447" y="495"/>
                    <a:pt x="455" y="510"/>
                  </a:cubicBezTo>
                  <a:cubicBezTo>
                    <a:pt x="461" y="521"/>
                    <a:pt x="477" y="540"/>
                    <a:pt x="477" y="5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78"/>
            <p:cNvSpPr/>
            <p:nvPr/>
          </p:nvSpPr>
          <p:spPr>
            <a:xfrm>
              <a:off x="5797440" y="6413400"/>
              <a:ext cx="201600" cy="505080"/>
            </a:xfrm>
            <a:custGeom>
              <a:avLst/>
              <a:gdLst/>
              <a:ahLst/>
              <a:rect l="l" t="t" r="r" b="b"/>
              <a:pathLst>
                <a:path w="127" h="318">
                  <a:moveTo>
                    <a:pt x="77" y="318"/>
                  </a:moveTo>
                  <a:cubicBezTo>
                    <a:pt x="69" y="310"/>
                    <a:pt x="57" y="305"/>
                    <a:pt x="54" y="295"/>
                  </a:cubicBezTo>
                  <a:cubicBezTo>
                    <a:pt x="51" y="287"/>
                    <a:pt x="65" y="280"/>
                    <a:pt x="62" y="272"/>
                  </a:cubicBezTo>
                  <a:cubicBezTo>
                    <a:pt x="57" y="258"/>
                    <a:pt x="0" y="247"/>
                    <a:pt x="69" y="265"/>
                  </a:cubicBezTo>
                  <a:cubicBezTo>
                    <a:pt x="67" y="257"/>
                    <a:pt x="66" y="249"/>
                    <a:pt x="62" y="242"/>
                  </a:cubicBezTo>
                  <a:cubicBezTo>
                    <a:pt x="42" y="211"/>
                    <a:pt x="22" y="224"/>
                    <a:pt x="62" y="212"/>
                  </a:cubicBezTo>
                  <a:cubicBezTo>
                    <a:pt x="127" y="233"/>
                    <a:pt x="25" y="175"/>
                    <a:pt x="9" y="159"/>
                  </a:cubicBezTo>
                  <a:cubicBezTo>
                    <a:pt x="26" y="153"/>
                    <a:pt x="52" y="159"/>
                    <a:pt x="62" y="144"/>
                  </a:cubicBezTo>
                  <a:cubicBezTo>
                    <a:pt x="70" y="133"/>
                    <a:pt x="10" y="115"/>
                    <a:pt x="69" y="136"/>
                  </a:cubicBezTo>
                  <a:cubicBezTo>
                    <a:pt x="64" y="126"/>
                    <a:pt x="60" y="116"/>
                    <a:pt x="54" y="106"/>
                  </a:cubicBezTo>
                  <a:cubicBezTo>
                    <a:pt x="38" y="77"/>
                    <a:pt x="28" y="79"/>
                    <a:pt x="62" y="91"/>
                  </a:cubicBezTo>
                  <a:cubicBezTo>
                    <a:pt x="57" y="81"/>
                    <a:pt x="53" y="70"/>
                    <a:pt x="47" y="60"/>
                  </a:cubicBezTo>
                  <a:cubicBezTo>
                    <a:pt x="43" y="54"/>
                    <a:pt x="29" y="52"/>
                    <a:pt x="31" y="45"/>
                  </a:cubicBezTo>
                  <a:cubicBezTo>
                    <a:pt x="33" y="37"/>
                    <a:pt x="46" y="40"/>
                    <a:pt x="54" y="37"/>
                  </a:cubicBezTo>
                  <a:cubicBezTo>
                    <a:pt x="35" y="9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79"/>
            <p:cNvSpPr/>
            <p:nvPr/>
          </p:nvSpPr>
          <p:spPr>
            <a:xfrm>
              <a:off x="6808680" y="6667560"/>
              <a:ext cx="1008000" cy="431640"/>
            </a:xfrm>
            <a:custGeom>
              <a:avLst/>
              <a:gdLst/>
              <a:ahLst/>
              <a:rect l="l" t="t" r="r" b="b"/>
              <a:pathLst>
                <a:path w="635" h="272">
                  <a:moveTo>
                    <a:pt x="39" y="196"/>
                  </a:moveTo>
                  <a:cubicBezTo>
                    <a:pt x="16" y="163"/>
                    <a:pt x="27" y="184"/>
                    <a:pt x="16" y="150"/>
                  </a:cubicBezTo>
                  <a:cubicBezTo>
                    <a:pt x="14" y="143"/>
                    <a:pt x="0" y="128"/>
                    <a:pt x="8" y="128"/>
                  </a:cubicBezTo>
                  <a:cubicBezTo>
                    <a:pt x="17" y="128"/>
                    <a:pt x="17" y="144"/>
                    <a:pt x="23" y="150"/>
                  </a:cubicBezTo>
                  <a:cubicBezTo>
                    <a:pt x="30" y="156"/>
                    <a:pt x="38" y="160"/>
                    <a:pt x="46" y="165"/>
                  </a:cubicBezTo>
                  <a:cubicBezTo>
                    <a:pt x="56" y="195"/>
                    <a:pt x="67" y="222"/>
                    <a:pt x="84" y="249"/>
                  </a:cubicBezTo>
                  <a:cubicBezTo>
                    <a:pt x="71" y="202"/>
                    <a:pt x="66" y="146"/>
                    <a:pt x="39" y="105"/>
                  </a:cubicBezTo>
                  <a:cubicBezTo>
                    <a:pt x="36" y="92"/>
                    <a:pt x="20" y="74"/>
                    <a:pt x="31" y="67"/>
                  </a:cubicBezTo>
                  <a:cubicBezTo>
                    <a:pt x="41" y="60"/>
                    <a:pt x="52" y="81"/>
                    <a:pt x="61" y="90"/>
                  </a:cubicBezTo>
                  <a:cubicBezTo>
                    <a:pt x="78" y="109"/>
                    <a:pt x="107" y="150"/>
                    <a:pt x="107" y="150"/>
                  </a:cubicBezTo>
                  <a:cubicBezTo>
                    <a:pt x="99" y="125"/>
                    <a:pt x="94" y="99"/>
                    <a:pt x="84" y="75"/>
                  </a:cubicBezTo>
                  <a:cubicBezTo>
                    <a:pt x="80" y="67"/>
                    <a:pt x="69" y="43"/>
                    <a:pt x="69" y="52"/>
                  </a:cubicBezTo>
                  <a:cubicBezTo>
                    <a:pt x="69" y="80"/>
                    <a:pt x="96" y="109"/>
                    <a:pt x="114" y="128"/>
                  </a:cubicBezTo>
                  <a:cubicBezTo>
                    <a:pt x="117" y="98"/>
                    <a:pt x="111" y="66"/>
                    <a:pt x="122" y="37"/>
                  </a:cubicBezTo>
                  <a:cubicBezTo>
                    <a:pt x="136" y="0"/>
                    <a:pt x="150" y="60"/>
                    <a:pt x="152" y="67"/>
                  </a:cubicBezTo>
                  <a:cubicBezTo>
                    <a:pt x="145" y="70"/>
                    <a:pt x="133" y="68"/>
                    <a:pt x="130" y="75"/>
                  </a:cubicBezTo>
                  <a:cubicBezTo>
                    <a:pt x="128" y="79"/>
                    <a:pt x="156" y="140"/>
                    <a:pt x="160" y="150"/>
                  </a:cubicBezTo>
                  <a:cubicBezTo>
                    <a:pt x="165" y="161"/>
                    <a:pt x="169" y="171"/>
                    <a:pt x="175" y="181"/>
                  </a:cubicBezTo>
                  <a:cubicBezTo>
                    <a:pt x="179" y="189"/>
                    <a:pt x="198" y="206"/>
                    <a:pt x="190" y="203"/>
                  </a:cubicBezTo>
                  <a:cubicBezTo>
                    <a:pt x="170" y="195"/>
                    <a:pt x="155" y="178"/>
                    <a:pt x="137" y="165"/>
                  </a:cubicBezTo>
                  <a:cubicBezTo>
                    <a:pt x="124" y="156"/>
                    <a:pt x="168" y="175"/>
                    <a:pt x="183" y="181"/>
                  </a:cubicBezTo>
                  <a:cubicBezTo>
                    <a:pt x="200" y="188"/>
                    <a:pt x="221" y="200"/>
                    <a:pt x="236" y="211"/>
                  </a:cubicBezTo>
                  <a:cubicBezTo>
                    <a:pt x="249" y="221"/>
                    <a:pt x="283" y="254"/>
                    <a:pt x="274" y="241"/>
                  </a:cubicBezTo>
                  <a:cubicBezTo>
                    <a:pt x="228" y="176"/>
                    <a:pt x="252" y="203"/>
                    <a:pt x="205" y="158"/>
                  </a:cubicBezTo>
                  <a:cubicBezTo>
                    <a:pt x="203" y="150"/>
                    <a:pt x="202" y="142"/>
                    <a:pt x="198" y="135"/>
                  </a:cubicBezTo>
                  <a:cubicBezTo>
                    <a:pt x="192" y="124"/>
                    <a:pt x="163" y="107"/>
                    <a:pt x="175" y="105"/>
                  </a:cubicBezTo>
                  <a:cubicBezTo>
                    <a:pt x="210" y="100"/>
                    <a:pt x="269" y="142"/>
                    <a:pt x="296" y="165"/>
                  </a:cubicBezTo>
                  <a:cubicBezTo>
                    <a:pt x="296" y="165"/>
                    <a:pt x="333" y="203"/>
                    <a:pt x="327" y="203"/>
                  </a:cubicBezTo>
                  <a:cubicBezTo>
                    <a:pt x="316" y="203"/>
                    <a:pt x="312" y="188"/>
                    <a:pt x="304" y="181"/>
                  </a:cubicBezTo>
                  <a:cubicBezTo>
                    <a:pt x="297" y="175"/>
                    <a:pt x="288" y="171"/>
                    <a:pt x="281" y="165"/>
                  </a:cubicBezTo>
                  <a:cubicBezTo>
                    <a:pt x="268" y="155"/>
                    <a:pt x="255" y="146"/>
                    <a:pt x="243" y="135"/>
                  </a:cubicBezTo>
                  <a:cubicBezTo>
                    <a:pt x="235" y="128"/>
                    <a:pt x="227" y="120"/>
                    <a:pt x="220" y="112"/>
                  </a:cubicBezTo>
                  <a:cubicBezTo>
                    <a:pt x="214" y="105"/>
                    <a:pt x="196" y="90"/>
                    <a:pt x="205" y="90"/>
                  </a:cubicBezTo>
                  <a:cubicBezTo>
                    <a:pt x="228" y="90"/>
                    <a:pt x="268" y="111"/>
                    <a:pt x="289" y="128"/>
                  </a:cubicBezTo>
                  <a:cubicBezTo>
                    <a:pt x="297" y="135"/>
                    <a:pt x="320" y="155"/>
                    <a:pt x="311" y="150"/>
                  </a:cubicBezTo>
                  <a:cubicBezTo>
                    <a:pt x="280" y="133"/>
                    <a:pt x="276" y="117"/>
                    <a:pt x="251" y="97"/>
                  </a:cubicBezTo>
                  <a:cubicBezTo>
                    <a:pt x="241" y="89"/>
                    <a:pt x="230" y="83"/>
                    <a:pt x="220" y="75"/>
                  </a:cubicBezTo>
                  <a:cubicBezTo>
                    <a:pt x="214" y="70"/>
                    <a:pt x="198" y="59"/>
                    <a:pt x="205" y="59"/>
                  </a:cubicBezTo>
                  <a:cubicBezTo>
                    <a:pt x="223" y="59"/>
                    <a:pt x="240" y="70"/>
                    <a:pt x="258" y="75"/>
                  </a:cubicBezTo>
                  <a:cubicBezTo>
                    <a:pt x="266" y="80"/>
                    <a:pt x="272" y="89"/>
                    <a:pt x="281" y="90"/>
                  </a:cubicBezTo>
                  <a:cubicBezTo>
                    <a:pt x="289" y="91"/>
                    <a:pt x="298" y="76"/>
                    <a:pt x="304" y="82"/>
                  </a:cubicBezTo>
                  <a:cubicBezTo>
                    <a:pt x="313" y="91"/>
                    <a:pt x="306" y="108"/>
                    <a:pt x="311" y="120"/>
                  </a:cubicBezTo>
                  <a:cubicBezTo>
                    <a:pt x="314" y="129"/>
                    <a:pt x="322" y="135"/>
                    <a:pt x="327" y="143"/>
                  </a:cubicBezTo>
                  <a:cubicBezTo>
                    <a:pt x="333" y="176"/>
                    <a:pt x="334" y="195"/>
                    <a:pt x="357" y="219"/>
                  </a:cubicBezTo>
                  <a:cubicBezTo>
                    <a:pt x="367" y="106"/>
                    <a:pt x="359" y="131"/>
                    <a:pt x="372" y="203"/>
                  </a:cubicBezTo>
                  <a:cubicBezTo>
                    <a:pt x="375" y="219"/>
                    <a:pt x="382" y="240"/>
                    <a:pt x="387" y="256"/>
                  </a:cubicBezTo>
                  <a:cubicBezTo>
                    <a:pt x="397" y="208"/>
                    <a:pt x="388" y="166"/>
                    <a:pt x="372" y="120"/>
                  </a:cubicBezTo>
                  <a:cubicBezTo>
                    <a:pt x="375" y="110"/>
                    <a:pt x="370" y="87"/>
                    <a:pt x="380" y="90"/>
                  </a:cubicBezTo>
                  <a:cubicBezTo>
                    <a:pt x="393" y="94"/>
                    <a:pt x="390" y="115"/>
                    <a:pt x="395" y="128"/>
                  </a:cubicBezTo>
                  <a:cubicBezTo>
                    <a:pt x="408" y="164"/>
                    <a:pt x="416" y="199"/>
                    <a:pt x="433" y="234"/>
                  </a:cubicBezTo>
                  <a:cubicBezTo>
                    <a:pt x="435" y="244"/>
                    <a:pt x="447" y="271"/>
                    <a:pt x="440" y="264"/>
                  </a:cubicBezTo>
                  <a:cubicBezTo>
                    <a:pt x="386" y="210"/>
                    <a:pt x="425" y="226"/>
                    <a:pt x="402" y="181"/>
                  </a:cubicBezTo>
                  <a:cubicBezTo>
                    <a:pt x="399" y="174"/>
                    <a:pt x="380" y="163"/>
                    <a:pt x="387" y="165"/>
                  </a:cubicBezTo>
                  <a:cubicBezTo>
                    <a:pt x="404" y="169"/>
                    <a:pt x="418" y="180"/>
                    <a:pt x="433" y="188"/>
                  </a:cubicBezTo>
                  <a:cubicBezTo>
                    <a:pt x="412" y="156"/>
                    <a:pt x="382" y="136"/>
                    <a:pt x="357" y="105"/>
                  </a:cubicBezTo>
                  <a:cubicBezTo>
                    <a:pt x="365" y="102"/>
                    <a:pt x="372" y="96"/>
                    <a:pt x="380" y="97"/>
                  </a:cubicBezTo>
                  <a:cubicBezTo>
                    <a:pt x="401" y="101"/>
                    <a:pt x="440" y="120"/>
                    <a:pt x="440" y="120"/>
                  </a:cubicBezTo>
                  <a:cubicBezTo>
                    <a:pt x="428" y="107"/>
                    <a:pt x="411" y="97"/>
                    <a:pt x="402" y="82"/>
                  </a:cubicBezTo>
                  <a:cubicBezTo>
                    <a:pt x="398" y="75"/>
                    <a:pt x="389" y="64"/>
                    <a:pt x="395" y="59"/>
                  </a:cubicBezTo>
                  <a:cubicBezTo>
                    <a:pt x="401" y="54"/>
                    <a:pt x="405" y="70"/>
                    <a:pt x="410" y="75"/>
                  </a:cubicBezTo>
                  <a:cubicBezTo>
                    <a:pt x="417" y="161"/>
                    <a:pt x="409" y="146"/>
                    <a:pt x="425" y="196"/>
                  </a:cubicBezTo>
                  <a:cubicBezTo>
                    <a:pt x="428" y="204"/>
                    <a:pt x="429" y="212"/>
                    <a:pt x="433" y="219"/>
                  </a:cubicBezTo>
                  <a:cubicBezTo>
                    <a:pt x="437" y="227"/>
                    <a:pt x="454" y="247"/>
                    <a:pt x="448" y="241"/>
                  </a:cubicBezTo>
                  <a:cubicBezTo>
                    <a:pt x="439" y="232"/>
                    <a:pt x="433" y="221"/>
                    <a:pt x="425" y="211"/>
                  </a:cubicBezTo>
                  <a:cubicBezTo>
                    <a:pt x="407" y="156"/>
                    <a:pt x="394" y="137"/>
                    <a:pt x="418" y="67"/>
                  </a:cubicBezTo>
                  <a:cubicBezTo>
                    <a:pt x="422" y="56"/>
                    <a:pt x="428" y="87"/>
                    <a:pt x="433" y="97"/>
                  </a:cubicBezTo>
                  <a:cubicBezTo>
                    <a:pt x="451" y="130"/>
                    <a:pt x="467" y="160"/>
                    <a:pt x="478" y="196"/>
                  </a:cubicBezTo>
                  <a:cubicBezTo>
                    <a:pt x="489" y="58"/>
                    <a:pt x="477" y="88"/>
                    <a:pt x="524" y="150"/>
                  </a:cubicBezTo>
                  <a:cubicBezTo>
                    <a:pt x="532" y="176"/>
                    <a:pt x="543" y="202"/>
                    <a:pt x="554" y="226"/>
                  </a:cubicBezTo>
                  <a:cubicBezTo>
                    <a:pt x="558" y="234"/>
                    <a:pt x="572" y="258"/>
                    <a:pt x="569" y="249"/>
                  </a:cubicBezTo>
                  <a:cubicBezTo>
                    <a:pt x="561" y="226"/>
                    <a:pt x="550" y="203"/>
                    <a:pt x="539" y="181"/>
                  </a:cubicBezTo>
                  <a:cubicBezTo>
                    <a:pt x="535" y="173"/>
                    <a:pt x="518" y="165"/>
                    <a:pt x="524" y="158"/>
                  </a:cubicBezTo>
                  <a:cubicBezTo>
                    <a:pt x="530" y="151"/>
                    <a:pt x="539" y="168"/>
                    <a:pt x="546" y="173"/>
                  </a:cubicBezTo>
                  <a:cubicBezTo>
                    <a:pt x="551" y="168"/>
                    <a:pt x="561" y="165"/>
                    <a:pt x="562" y="158"/>
                  </a:cubicBezTo>
                  <a:cubicBezTo>
                    <a:pt x="568" y="127"/>
                    <a:pt x="512" y="103"/>
                    <a:pt x="562" y="120"/>
                  </a:cubicBezTo>
                  <a:cubicBezTo>
                    <a:pt x="564" y="97"/>
                    <a:pt x="558" y="72"/>
                    <a:pt x="569" y="52"/>
                  </a:cubicBezTo>
                  <a:cubicBezTo>
                    <a:pt x="575" y="42"/>
                    <a:pt x="581" y="71"/>
                    <a:pt x="584" y="82"/>
                  </a:cubicBezTo>
                  <a:cubicBezTo>
                    <a:pt x="589" y="104"/>
                    <a:pt x="589" y="127"/>
                    <a:pt x="592" y="150"/>
                  </a:cubicBezTo>
                  <a:cubicBezTo>
                    <a:pt x="635" y="21"/>
                    <a:pt x="599" y="209"/>
                    <a:pt x="599" y="2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780"/>
            <p:cNvSpPr/>
            <p:nvPr/>
          </p:nvSpPr>
          <p:spPr>
            <a:xfrm>
              <a:off x="8001000" y="6537240"/>
              <a:ext cx="1335240" cy="235080"/>
            </a:xfrm>
            <a:custGeom>
              <a:avLst/>
              <a:gdLst/>
              <a:ahLst/>
              <a:rect l="l" t="t" r="r" b="b"/>
              <a:pathLst>
                <a:path w="841" h="148">
                  <a:moveTo>
                    <a:pt x="0" y="119"/>
                  </a:moveTo>
                  <a:cubicBezTo>
                    <a:pt x="50" y="102"/>
                    <a:pt x="58" y="148"/>
                    <a:pt x="76" y="96"/>
                  </a:cubicBezTo>
                  <a:cubicBezTo>
                    <a:pt x="143" y="122"/>
                    <a:pt x="142" y="139"/>
                    <a:pt x="129" y="96"/>
                  </a:cubicBezTo>
                  <a:cubicBezTo>
                    <a:pt x="139" y="93"/>
                    <a:pt x="149" y="85"/>
                    <a:pt x="159" y="88"/>
                  </a:cubicBezTo>
                  <a:cubicBezTo>
                    <a:pt x="177" y="93"/>
                    <a:pt x="205" y="119"/>
                    <a:pt x="205" y="119"/>
                  </a:cubicBezTo>
                  <a:cubicBezTo>
                    <a:pt x="202" y="111"/>
                    <a:pt x="189" y="95"/>
                    <a:pt x="197" y="96"/>
                  </a:cubicBezTo>
                  <a:cubicBezTo>
                    <a:pt x="215" y="99"/>
                    <a:pt x="243" y="126"/>
                    <a:pt x="243" y="126"/>
                  </a:cubicBezTo>
                  <a:cubicBezTo>
                    <a:pt x="258" y="78"/>
                    <a:pt x="282" y="107"/>
                    <a:pt x="311" y="126"/>
                  </a:cubicBezTo>
                  <a:cubicBezTo>
                    <a:pt x="328" y="71"/>
                    <a:pt x="301" y="130"/>
                    <a:pt x="349" y="111"/>
                  </a:cubicBezTo>
                  <a:cubicBezTo>
                    <a:pt x="364" y="105"/>
                    <a:pt x="359" y="81"/>
                    <a:pt x="364" y="66"/>
                  </a:cubicBezTo>
                  <a:cubicBezTo>
                    <a:pt x="393" y="75"/>
                    <a:pt x="403" y="83"/>
                    <a:pt x="432" y="73"/>
                  </a:cubicBezTo>
                  <a:cubicBezTo>
                    <a:pt x="491" y="102"/>
                    <a:pt x="453" y="65"/>
                    <a:pt x="515" y="81"/>
                  </a:cubicBezTo>
                  <a:cubicBezTo>
                    <a:pt x="513" y="73"/>
                    <a:pt x="500" y="58"/>
                    <a:pt x="508" y="58"/>
                  </a:cubicBezTo>
                  <a:cubicBezTo>
                    <a:pt x="532" y="58"/>
                    <a:pt x="576" y="81"/>
                    <a:pt x="576" y="81"/>
                  </a:cubicBezTo>
                  <a:cubicBezTo>
                    <a:pt x="584" y="76"/>
                    <a:pt x="590" y="66"/>
                    <a:pt x="599" y="66"/>
                  </a:cubicBezTo>
                  <a:cubicBezTo>
                    <a:pt x="622" y="66"/>
                    <a:pt x="629" y="107"/>
                    <a:pt x="614" y="58"/>
                  </a:cubicBezTo>
                  <a:cubicBezTo>
                    <a:pt x="622" y="55"/>
                    <a:pt x="629" y="49"/>
                    <a:pt x="637" y="50"/>
                  </a:cubicBezTo>
                  <a:cubicBezTo>
                    <a:pt x="646" y="52"/>
                    <a:pt x="651" y="70"/>
                    <a:pt x="659" y="66"/>
                  </a:cubicBezTo>
                  <a:cubicBezTo>
                    <a:pt x="666" y="63"/>
                    <a:pt x="645" y="48"/>
                    <a:pt x="652" y="43"/>
                  </a:cubicBezTo>
                  <a:cubicBezTo>
                    <a:pt x="656" y="40"/>
                    <a:pt x="699" y="56"/>
                    <a:pt x="705" y="58"/>
                  </a:cubicBezTo>
                  <a:cubicBezTo>
                    <a:pt x="743" y="0"/>
                    <a:pt x="747" y="28"/>
                    <a:pt x="803" y="43"/>
                  </a:cubicBezTo>
                  <a:cubicBezTo>
                    <a:pt x="814" y="33"/>
                    <a:pt x="828" y="5"/>
                    <a:pt x="841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781"/>
            <p:cNvSpPr/>
            <p:nvPr/>
          </p:nvSpPr>
          <p:spPr>
            <a:xfrm>
              <a:off x="7980480" y="6340320"/>
              <a:ext cx="1463400" cy="878040"/>
            </a:xfrm>
            <a:custGeom>
              <a:avLst/>
              <a:gdLst/>
              <a:ahLst/>
              <a:rect l="l" t="t" r="r" b="b"/>
              <a:pathLst>
                <a:path w="922" h="553">
                  <a:moveTo>
                    <a:pt x="293" y="250"/>
                  </a:moveTo>
                  <a:cubicBezTo>
                    <a:pt x="307" y="315"/>
                    <a:pt x="286" y="375"/>
                    <a:pt x="286" y="440"/>
                  </a:cubicBezTo>
                  <a:cubicBezTo>
                    <a:pt x="286" y="456"/>
                    <a:pt x="289" y="409"/>
                    <a:pt x="293" y="394"/>
                  </a:cubicBezTo>
                  <a:cubicBezTo>
                    <a:pt x="297" y="379"/>
                    <a:pt x="309" y="349"/>
                    <a:pt x="309" y="349"/>
                  </a:cubicBezTo>
                  <a:cubicBezTo>
                    <a:pt x="323" y="464"/>
                    <a:pt x="317" y="449"/>
                    <a:pt x="354" y="523"/>
                  </a:cubicBezTo>
                  <a:cubicBezTo>
                    <a:pt x="351" y="503"/>
                    <a:pt x="351" y="482"/>
                    <a:pt x="346" y="462"/>
                  </a:cubicBezTo>
                  <a:cubicBezTo>
                    <a:pt x="344" y="453"/>
                    <a:pt x="325" y="446"/>
                    <a:pt x="331" y="440"/>
                  </a:cubicBezTo>
                  <a:cubicBezTo>
                    <a:pt x="335" y="436"/>
                    <a:pt x="377" y="453"/>
                    <a:pt x="384" y="455"/>
                  </a:cubicBezTo>
                  <a:cubicBezTo>
                    <a:pt x="389" y="465"/>
                    <a:pt x="411" y="485"/>
                    <a:pt x="400" y="485"/>
                  </a:cubicBezTo>
                  <a:cubicBezTo>
                    <a:pt x="386" y="485"/>
                    <a:pt x="380" y="464"/>
                    <a:pt x="369" y="455"/>
                  </a:cubicBezTo>
                  <a:cubicBezTo>
                    <a:pt x="355" y="444"/>
                    <a:pt x="324" y="425"/>
                    <a:pt x="324" y="425"/>
                  </a:cubicBezTo>
                  <a:cubicBezTo>
                    <a:pt x="319" y="417"/>
                    <a:pt x="305" y="410"/>
                    <a:pt x="309" y="402"/>
                  </a:cubicBezTo>
                  <a:cubicBezTo>
                    <a:pt x="312" y="395"/>
                    <a:pt x="324" y="405"/>
                    <a:pt x="331" y="409"/>
                  </a:cubicBezTo>
                  <a:cubicBezTo>
                    <a:pt x="383" y="436"/>
                    <a:pt x="322" y="418"/>
                    <a:pt x="384" y="432"/>
                  </a:cubicBezTo>
                  <a:cubicBezTo>
                    <a:pt x="389" y="437"/>
                    <a:pt x="403" y="454"/>
                    <a:pt x="400" y="447"/>
                  </a:cubicBezTo>
                  <a:cubicBezTo>
                    <a:pt x="395" y="436"/>
                    <a:pt x="386" y="426"/>
                    <a:pt x="377" y="417"/>
                  </a:cubicBezTo>
                  <a:cubicBezTo>
                    <a:pt x="353" y="394"/>
                    <a:pt x="273" y="370"/>
                    <a:pt x="369" y="387"/>
                  </a:cubicBezTo>
                  <a:cubicBezTo>
                    <a:pt x="436" y="431"/>
                    <a:pt x="346" y="354"/>
                    <a:pt x="339" y="349"/>
                  </a:cubicBezTo>
                  <a:cubicBezTo>
                    <a:pt x="292" y="276"/>
                    <a:pt x="377" y="368"/>
                    <a:pt x="377" y="356"/>
                  </a:cubicBezTo>
                  <a:cubicBezTo>
                    <a:pt x="377" y="325"/>
                    <a:pt x="246" y="273"/>
                    <a:pt x="331" y="296"/>
                  </a:cubicBezTo>
                  <a:cubicBezTo>
                    <a:pt x="317" y="222"/>
                    <a:pt x="354" y="242"/>
                    <a:pt x="430" y="235"/>
                  </a:cubicBezTo>
                  <a:cubicBezTo>
                    <a:pt x="445" y="225"/>
                    <a:pt x="460" y="215"/>
                    <a:pt x="475" y="205"/>
                  </a:cubicBezTo>
                  <a:cubicBezTo>
                    <a:pt x="483" y="200"/>
                    <a:pt x="498" y="190"/>
                    <a:pt x="498" y="190"/>
                  </a:cubicBezTo>
                  <a:cubicBezTo>
                    <a:pt x="501" y="218"/>
                    <a:pt x="500" y="246"/>
                    <a:pt x="506" y="273"/>
                  </a:cubicBezTo>
                  <a:cubicBezTo>
                    <a:pt x="508" y="284"/>
                    <a:pt x="511" y="299"/>
                    <a:pt x="521" y="303"/>
                  </a:cubicBezTo>
                  <a:cubicBezTo>
                    <a:pt x="530" y="306"/>
                    <a:pt x="536" y="293"/>
                    <a:pt x="544" y="288"/>
                  </a:cubicBezTo>
                  <a:cubicBezTo>
                    <a:pt x="549" y="280"/>
                    <a:pt x="557" y="256"/>
                    <a:pt x="559" y="265"/>
                  </a:cubicBezTo>
                  <a:cubicBezTo>
                    <a:pt x="578" y="350"/>
                    <a:pt x="550" y="403"/>
                    <a:pt x="612" y="462"/>
                  </a:cubicBezTo>
                  <a:cubicBezTo>
                    <a:pt x="614" y="452"/>
                    <a:pt x="622" y="442"/>
                    <a:pt x="619" y="432"/>
                  </a:cubicBezTo>
                  <a:cubicBezTo>
                    <a:pt x="613" y="410"/>
                    <a:pt x="555" y="391"/>
                    <a:pt x="634" y="425"/>
                  </a:cubicBezTo>
                  <a:cubicBezTo>
                    <a:pt x="642" y="432"/>
                    <a:pt x="649" y="455"/>
                    <a:pt x="657" y="447"/>
                  </a:cubicBezTo>
                  <a:cubicBezTo>
                    <a:pt x="666" y="438"/>
                    <a:pt x="657" y="420"/>
                    <a:pt x="650" y="409"/>
                  </a:cubicBezTo>
                  <a:cubicBezTo>
                    <a:pt x="643" y="398"/>
                    <a:pt x="629" y="395"/>
                    <a:pt x="619" y="387"/>
                  </a:cubicBezTo>
                  <a:cubicBezTo>
                    <a:pt x="613" y="382"/>
                    <a:pt x="597" y="369"/>
                    <a:pt x="604" y="371"/>
                  </a:cubicBezTo>
                  <a:cubicBezTo>
                    <a:pt x="626" y="378"/>
                    <a:pt x="665" y="402"/>
                    <a:pt x="665" y="402"/>
                  </a:cubicBezTo>
                  <a:cubicBezTo>
                    <a:pt x="667" y="404"/>
                    <a:pt x="674" y="411"/>
                    <a:pt x="672" y="409"/>
                  </a:cubicBezTo>
                  <a:cubicBezTo>
                    <a:pt x="665" y="402"/>
                    <a:pt x="657" y="394"/>
                    <a:pt x="650" y="387"/>
                  </a:cubicBezTo>
                  <a:cubicBezTo>
                    <a:pt x="644" y="381"/>
                    <a:pt x="635" y="382"/>
                    <a:pt x="627" y="379"/>
                  </a:cubicBezTo>
                  <a:cubicBezTo>
                    <a:pt x="619" y="371"/>
                    <a:pt x="613" y="362"/>
                    <a:pt x="604" y="356"/>
                  </a:cubicBezTo>
                  <a:cubicBezTo>
                    <a:pt x="581" y="341"/>
                    <a:pt x="565" y="360"/>
                    <a:pt x="604" y="334"/>
                  </a:cubicBezTo>
                  <a:cubicBezTo>
                    <a:pt x="614" y="339"/>
                    <a:pt x="624" y="345"/>
                    <a:pt x="634" y="349"/>
                  </a:cubicBezTo>
                  <a:cubicBezTo>
                    <a:pt x="641" y="352"/>
                    <a:pt x="662" y="362"/>
                    <a:pt x="657" y="356"/>
                  </a:cubicBezTo>
                  <a:cubicBezTo>
                    <a:pt x="650" y="348"/>
                    <a:pt x="637" y="347"/>
                    <a:pt x="627" y="341"/>
                  </a:cubicBezTo>
                  <a:cubicBezTo>
                    <a:pt x="592" y="321"/>
                    <a:pt x="562" y="294"/>
                    <a:pt x="528" y="273"/>
                  </a:cubicBezTo>
                  <a:cubicBezTo>
                    <a:pt x="521" y="268"/>
                    <a:pt x="513" y="263"/>
                    <a:pt x="506" y="258"/>
                  </a:cubicBezTo>
                  <a:cubicBezTo>
                    <a:pt x="500" y="253"/>
                    <a:pt x="483" y="245"/>
                    <a:pt x="490" y="243"/>
                  </a:cubicBezTo>
                  <a:cubicBezTo>
                    <a:pt x="508" y="239"/>
                    <a:pt x="526" y="248"/>
                    <a:pt x="544" y="250"/>
                  </a:cubicBezTo>
                  <a:cubicBezTo>
                    <a:pt x="551" y="255"/>
                    <a:pt x="558" y="261"/>
                    <a:pt x="566" y="265"/>
                  </a:cubicBezTo>
                  <a:cubicBezTo>
                    <a:pt x="614" y="286"/>
                    <a:pt x="601" y="269"/>
                    <a:pt x="581" y="220"/>
                  </a:cubicBezTo>
                  <a:cubicBezTo>
                    <a:pt x="578" y="212"/>
                    <a:pt x="557" y="200"/>
                    <a:pt x="566" y="197"/>
                  </a:cubicBezTo>
                  <a:cubicBezTo>
                    <a:pt x="583" y="190"/>
                    <a:pt x="601" y="202"/>
                    <a:pt x="619" y="205"/>
                  </a:cubicBezTo>
                  <a:cubicBezTo>
                    <a:pt x="629" y="210"/>
                    <a:pt x="640" y="214"/>
                    <a:pt x="650" y="220"/>
                  </a:cubicBezTo>
                  <a:cubicBezTo>
                    <a:pt x="658" y="224"/>
                    <a:pt x="663" y="237"/>
                    <a:pt x="672" y="235"/>
                  </a:cubicBezTo>
                  <a:cubicBezTo>
                    <a:pt x="680" y="233"/>
                    <a:pt x="677" y="220"/>
                    <a:pt x="680" y="212"/>
                  </a:cubicBezTo>
                  <a:cubicBezTo>
                    <a:pt x="721" y="226"/>
                    <a:pt x="726" y="254"/>
                    <a:pt x="748" y="288"/>
                  </a:cubicBezTo>
                  <a:cubicBezTo>
                    <a:pt x="716" y="295"/>
                    <a:pt x="679" y="287"/>
                    <a:pt x="650" y="303"/>
                  </a:cubicBezTo>
                  <a:cubicBezTo>
                    <a:pt x="643" y="307"/>
                    <a:pt x="652" y="320"/>
                    <a:pt x="657" y="326"/>
                  </a:cubicBezTo>
                  <a:cubicBezTo>
                    <a:pt x="668" y="340"/>
                    <a:pt x="682" y="352"/>
                    <a:pt x="695" y="364"/>
                  </a:cubicBezTo>
                  <a:cubicBezTo>
                    <a:pt x="704" y="372"/>
                    <a:pt x="725" y="400"/>
                    <a:pt x="725" y="387"/>
                  </a:cubicBezTo>
                  <a:cubicBezTo>
                    <a:pt x="725" y="356"/>
                    <a:pt x="650" y="315"/>
                    <a:pt x="733" y="356"/>
                  </a:cubicBezTo>
                  <a:cubicBezTo>
                    <a:pt x="746" y="363"/>
                    <a:pt x="758" y="371"/>
                    <a:pt x="771" y="379"/>
                  </a:cubicBezTo>
                  <a:cubicBezTo>
                    <a:pt x="712" y="302"/>
                    <a:pt x="789" y="392"/>
                    <a:pt x="710" y="334"/>
                  </a:cubicBezTo>
                  <a:cubicBezTo>
                    <a:pt x="626" y="272"/>
                    <a:pt x="664" y="288"/>
                    <a:pt x="710" y="296"/>
                  </a:cubicBezTo>
                  <a:cubicBezTo>
                    <a:pt x="781" y="349"/>
                    <a:pt x="746" y="336"/>
                    <a:pt x="809" y="349"/>
                  </a:cubicBezTo>
                  <a:cubicBezTo>
                    <a:pt x="814" y="356"/>
                    <a:pt x="817" y="366"/>
                    <a:pt x="824" y="371"/>
                  </a:cubicBezTo>
                  <a:cubicBezTo>
                    <a:pt x="833" y="377"/>
                    <a:pt x="857" y="389"/>
                    <a:pt x="854" y="379"/>
                  </a:cubicBezTo>
                  <a:cubicBezTo>
                    <a:pt x="849" y="362"/>
                    <a:pt x="830" y="352"/>
                    <a:pt x="816" y="341"/>
                  </a:cubicBezTo>
                  <a:cubicBezTo>
                    <a:pt x="779" y="311"/>
                    <a:pt x="736" y="283"/>
                    <a:pt x="695" y="258"/>
                  </a:cubicBezTo>
                  <a:cubicBezTo>
                    <a:pt x="679" y="234"/>
                    <a:pt x="658" y="214"/>
                    <a:pt x="725" y="243"/>
                  </a:cubicBezTo>
                  <a:cubicBezTo>
                    <a:pt x="807" y="279"/>
                    <a:pt x="779" y="281"/>
                    <a:pt x="839" y="311"/>
                  </a:cubicBezTo>
                  <a:cubicBezTo>
                    <a:pt x="849" y="316"/>
                    <a:pt x="860" y="320"/>
                    <a:pt x="869" y="326"/>
                  </a:cubicBezTo>
                  <a:cubicBezTo>
                    <a:pt x="875" y="330"/>
                    <a:pt x="888" y="348"/>
                    <a:pt x="885" y="341"/>
                  </a:cubicBezTo>
                  <a:cubicBezTo>
                    <a:pt x="871" y="312"/>
                    <a:pt x="847" y="301"/>
                    <a:pt x="824" y="281"/>
                  </a:cubicBezTo>
                  <a:cubicBezTo>
                    <a:pt x="818" y="276"/>
                    <a:pt x="802" y="265"/>
                    <a:pt x="809" y="265"/>
                  </a:cubicBezTo>
                  <a:cubicBezTo>
                    <a:pt x="829" y="265"/>
                    <a:pt x="876" y="292"/>
                    <a:pt x="892" y="303"/>
                  </a:cubicBezTo>
                  <a:cubicBezTo>
                    <a:pt x="903" y="310"/>
                    <a:pt x="922" y="339"/>
                    <a:pt x="922" y="326"/>
                  </a:cubicBezTo>
                  <a:cubicBezTo>
                    <a:pt x="922" y="310"/>
                    <a:pt x="904" y="299"/>
                    <a:pt x="892" y="288"/>
                  </a:cubicBezTo>
                  <a:cubicBezTo>
                    <a:pt x="871" y="268"/>
                    <a:pt x="848" y="251"/>
                    <a:pt x="824" y="235"/>
                  </a:cubicBezTo>
                  <a:cubicBezTo>
                    <a:pt x="816" y="230"/>
                    <a:pt x="792" y="223"/>
                    <a:pt x="801" y="220"/>
                  </a:cubicBezTo>
                  <a:cubicBezTo>
                    <a:pt x="816" y="215"/>
                    <a:pt x="832" y="224"/>
                    <a:pt x="847" y="227"/>
                  </a:cubicBezTo>
                  <a:cubicBezTo>
                    <a:pt x="857" y="229"/>
                    <a:pt x="867" y="232"/>
                    <a:pt x="877" y="235"/>
                  </a:cubicBezTo>
                  <a:cubicBezTo>
                    <a:pt x="898" y="176"/>
                    <a:pt x="855" y="201"/>
                    <a:pt x="816" y="212"/>
                  </a:cubicBezTo>
                  <a:cubicBezTo>
                    <a:pt x="796" y="233"/>
                    <a:pt x="780" y="249"/>
                    <a:pt x="756" y="265"/>
                  </a:cubicBezTo>
                  <a:cubicBezTo>
                    <a:pt x="764" y="211"/>
                    <a:pt x="785" y="174"/>
                    <a:pt x="824" y="137"/>
                  </a:cubicBezTo>
                  <a:cubicBezTo>
                    <a:pt x="832" y="147"/>
                    <a:pt x="843" y="155"/>
                    <a:pt x="847" y="167"/>
                  </a:cubicBezTo>
                  <a:cubicBezTo>
                    <a:pt x="856" y="194"/>
                    <a:pt x="862" y="250"/>
                    <a:pt x="862" y="250"/>
                  </a:cubicBezTo>
                  <a:cubicBezTo>
                    <a:pt x="864" y="242"/>
                    <a:pt x="863" y="221"/>
                    <a:pt x="869" y="227"/>
                  </a:cubicBezTo>
                  <a:cubicBezTo>
                    <a:pt x="880" y="238"/>
                    <a:pt x="885" y="273"/>
                    <a:pt x="885" y="273"/>
                  </a:cubicBezTo>
                  <a:cubicBezTo>
                    <a:pt x="864" y="0"/>
                    <a:pt x="765" y="160"/>
                    <a:pt x="339" y="167"/>
                  </a:cubicBezTo>
                  <a:cubicBezTo>
                    <a:pt x="360" y="241"/>
                    <a:pt x="378" y="239"/>
                    <a:pt x="415" y="296"/>
                  </a:cubicBezTo>
                  <a:cubicBezTo>
                    <a:pt x="410" y="306"/>
                    <a:pt x="408" y="319"/>
                    <a:pt x="400" y="326"/>
                  </a:cubicBezTo>
                  <a:cubicBezTo>
                    <a:pt x="394" y="331"/>
                    <a:pt x="402" y="309"/>
                    <a:pt x="407" y="303"/>
                  </a:cubicBezTo>
                  <a:cubicBezTo>
                    <a:pt x="422" y="285"/>
                    <a:pt x="444" y="274"/>
                    <a:pt x="460" y="258"/>
                  </a:cubicBezTo>
                  <a:cubicBezTo>
                    <a:pt x="494" y="310"/>
                    <a:pt x="468" y="260"/>
                    <a:pt x="468" y="371"/>
                  </a:cubicBezTo>
                  <a:cubicBezTo>
                    <a:pt x="468" y="379"/>
                    <a:pt x="472" y="356"/>
                    <a:pt x="475" y="349"/>
                  </a:cubicBezTo>
                  <a:cubicBezTo>
                    <a:pt x="478" y="341"/>
                    <a:pt x="480" y="334"/>
                    <a:pt x="483" y="326"/>
                  </a:cubicBezTo>
                  <a:cubicBezTo>
                    <a:pt x="496" y="369"/>
                    <a:pt x="499" y="410"/>
                    <a:pt x="506" y="455"/>
                  </a:cubicBezTo>
                  <a:cubicBezTo>
                    <a:pt x="507" y="463"/>
                    <a:pt x="520" y="481"/>
                    <a:pt x="513" y="478"/>
                  </a:cubicBezTo>
                  <a:cubicBezTo>
                    <a:pt x="463" y="456"/>
                    <a:pt x="423" y="400"/>
                    <a:pt x="384" y="364"/>
                  </a:cubicBezTo>
                  <a:cubicBezTo>
                    <a:pt x="393" y="405"/>
                    <a:pt x="400" y="425"/>
                    <a:pt x="430" y="455"/>
                  </a:cubicBezTo>
                  <a:cubicBezTo>
                    <a:pt x="438" y="481"/>
                    <a:pt x="445" y="500"/>
                    <a:pt x="460" y="523"/>
                  </a:cubicBezTo>
                  <a:cubicBezTo>
                    <a:pt x="465" y="513"/>
                    <a:pt x="472" y="504"/>
                    <a:pt x="475" y="493"/>
                  </a:cubicBezTo>
                  <a:cubicBezTo>
                    <a:pt x="480" y="478"/>
                    <a:pt x="472" y="436"/>
                    <a:pt x="483" y="447"/>
                  </a:cubicBezTo>
                  <a:cubicBezTo>
                    <a:pt x="500" y="463"/>
                    <a:pt x="482" y="499"/>
                    <a:pt x="498" y="515"/>
                  </a:cubicBezTo>
                  <a:cubicBezTo>
                    <a:pt x="506" y="523"/>
                    <a:pt x="531" y="533"/>
                    <a:pt x="521" y="538"/>
                  </a:cubicBezTo>
                  <a:cubicBezTo>
                    <a:pt x="508" y="545"/>
                    <a:pt x="417" y="475"/>
                    <a:pt x="407" y="470"/>
                  </a:cubicBezTo>
                  <a:cubicBezTo>
                    <a:pt x="125" y="323"/>
                    <a:pt x="409" y="485"/>
                    <a:pt x="187" y="356"/>
                  </a:cubicBezTo>
                  <a:cubicBezTo>
                    <a:pt x="172" y="347"/>
                    <a:pt x="149" y="318"/>
                    <a:pt x="149" y="318"/>
                  </a:cubicBezTo>
                  <a:cubicBezTo>
                    <a:pt x="115" y="354"/>
                    <a:pt x="90" y="307"/>
                    <a:pt x="58" y="288"/>
                  </a:cubicBezTo>
                  <a:cubicBezTo>
                    <a:pt x="41" y="278"/>
                    <a:pt x="22" y="274"/>
                    <a:pt x="5" y="265"/>
                  </a:cubicBezTo>
                  <a:cubicBezTo>
                    <a:pt x="10" y="275"/>
                    <a:pt x="14" y="287"/>
                    <a:pt x="21" y="296"/>
                  </a:cubicBezTo>
                  <a:cubicBezTo>
                    <a:pt x="27" y="304"/>
                    <a:pt x="37" y="309"/>
                    <a:pt x="43" y="318"/>
                  </a:cubicBezTo>
                  <a:cubicBezTo>
                    <a:pt x="53" y="332"/>
                    <a:pt x="57" y="350"/>
                    <a:pt x="66" y="364"/>
                  </a:cubicBezTo>
                  <a:cubicBezTo>
                    <a:pt x="57" y="321"/>
                    <a:pt x="48" y="288"/>
                    <a:pt x="5" y="273"/>
                  </a:cubicBezTo>
                  <a:cubicBezTo>
                    <a:pt x="11" y="343"/>
                    <a:pt x="0" y="366"/>
                    <a:pt x="43" y="409"/>
                  </a:cubicBezTo>
                  <a:cubicBezTo>
                    <a:pt x="41" y="384"/>
                    <a:pt x="40" y="359"/>
                    <a:pt x="36" y="334"/>
                  </a:cubicBezTo>
                  <a:cubicBezTo>
                    <a:pt x="35" y="326"/>
                    <a:pt x="30" y="319"/>
                    <a:pt x="28" y="311"/>
                  </a:cubicBezTo>
                  <a:cubicBezTo>
                    <a:pt x="25" y="301"/>
                    <a:pt x="13" y="274"/>
                    <a:pt x="21" y="281"/>
                  </a:cubicBezTo>
                  <a:cubicBezTo>
                    <a:pt x="31" y="290"/>
                    <a:pt x="30" y="306"/>
                    <a:pt x="36" y="318"/>
                  </a:cubicBezTo>
                  <a:cubicBezTo>
                    <a:pt x="59" y="366"/>
                    <a:pt x="82" y="411"/>
                    <a:pt x="112" y="455"/>
                  </a:cubicBezTo>
                  <a:cubicBezTo>
                    <a:pt x="117" y="463"/>
                    <a:pt x="101" y="440"/>
                    <a:pt x="96" y="432"/>
                  </a:cubicBezTo>
                  <a:cubicBezTo>
                    <a:pt x="83" y="412"/>
                    <a:pt x="70" y="392"/>
                    <a:pt x="58" y="371"/>
                  </a:cubicBezTo>
                  <a:cubicBezTo>
                    <a:pt x="52" y="361"/>
                    <a:pt x="34" y="335"/>
                    <a:pt x="43" y="341"/>
                  </a:cubicBezTo>
                  <a:cubicBezTo>
                    <a:pt x="107" y="386"/>
                    <a:pt x="105" y="402"/>
                    <a:pt x="142" y="455"/>
                  </a:cubicBezTo>
                  <a:cubicBezTo>
                    <a:pt x="156" y="475"/>
                    <a:pt x="187" y="515"/>
                    <a:pt x="187" y="515"/>
                  </a:cubicBezTo>
                  <a:cubicBezTo>
                    <a:pt x="187" y="515"/>
                    <a:pt x="174" y="489"/>
                    <a:pt x="165" y="478"/>
                  </a:cubicBezTo>
                  <a:cubicBezTo>
                    <a:pt x="156" y="466"/>
                    <a:pt x="144" y="457"/>
                    <a:pt x="134" y="447"/>
                  </a:cubicBezTo>
                  <a:cubicBezTo>
                    <a:pt x="129" y="434"/>
                    <a:pt x="126" y="421"/>
                    <a:pt x="119" y="409"/>
                  </a:cubicBezTo>
                  <a:cubicBezTo>
                    <a:pt x="108" y="390"/>
                    <a:pt x="58" y="345"/>
                    <a:pt x="58" y="318"/>
                  </a:cubicBezTo>
                  <a:cubicBezTo>
                    <a:pt x="58" y="309"/>
                    <a:pt x="68" y="334"/>
                    <a:pt x="74" y="341"/>
                  </a:cubicBezTo>
                  <a:cubicBezTo>
                    <a:pt x="134" y="410"/>
                    <a:pt x="74" y="325"/>
                    <a:pt x="134" y="417"/>
                  </a:cubicBezTo>
                  <a:cubicBezTo>
                    <a:pt x="139" y="425"/>
                    <a:pt x="155" y="447"/>
                    <a:pt x="149" y="440"/>
                  </a:cubicBezTo>
                  <a:cubicBezTo>
                    <a:pt x="141" y="430"/>
                    <a:pt x="136" y="418"/>
                    <a:pt x="127" y="409"/>
                  </a:cubicBezTo>
                  <a:cubicBezTo>
                    <a:pt x="107" y="389"/>
                    <a:pt x="86" y="369"/>
                    <a:pt x="66" y="349"/>
                  </a:cubicBezTo>
                  <a:cubicBezTo>
                    <a:pt x="56" y="339"/>
                    <a:pt x="46" y="328"/>
                    <a:pt x="36" y="318"/>
                  </a:cubicBezTo>
                  <a:cubicBezTo>
                    <a:pt x="27" y="309"/>
                    <a:pt x="1" y="292"/>
                    <a:pt x="13" y="288"/>
                  </a:cubicBezTo>
                  <a:cubicBezTo>
                    <a:pt x="18" y="287"/>
                    <a:pt x="91" y="330"/>
                    <a:pt x="96" y="334"/>
                  </a:cubicBezTo>
                  <a:cubicBezTo>
                    <a:pt x="113" y="347"/>
                    <a:pt x="142" y="379"/>
                    <a:pt x="142" y="379"/>
                  </a:cubicBezTo>
                  <a:cubicBezTo>
                    <a:pt x="129" y="341"/>
                    <a:pt x="101" y="330"/>
                    <a:pt x="74" y="303"/>
                  </a:cubicBezTo>
                  <a:cubicBezTo>
                    <a:pt x="65" y="294"/>
                    <a:pt x="60" y="282"/>
                    <a:pt x="51" y="273"/>
                  </a:cubicBezTo>
                  <a:cubicBezTo>
                    <a:pt x="44" y="267"/>
                    <a:pt x="22" y="265"/>
                    <a:pt x="28" y="258"/>
                  </a:cubicBezTo>
                  <a:cubicBezTo>
                    <a:pt x="31" y="255"/>
                    <a:pt x="76" y="271"/>
                    <a:pt x="81" y="273"/>
                  </a:cubicBezTo>
                  <a:cubicBezTo>
                    <a:pt x="131" y="256"/>
                    <a:pt x="86" y="266"/>
                    <a:pt x="81" y="296"/>
                  </a:cubicBezTo>
                  <a:cubicBezTo>
                    <a:pt x="78" y="316"/>
                    <a:pt x="86" y="336"/>
                    <a:pt x="89" y="356"/>
                  </a:cubicBezTo>
                  <a:cubicBezTo>
                    <a:pt x="97" y="346"/>
                    <a:pt x="99" y="326"/>
                    <a:pt x="112" y="326"/>
                  </a:cubicBezTo>
                  <a:cubicBezTo>
                    <a:pt x="123" y="326"/>
                    <a:pt x="125" y="345"/>
                    <a:pt x="127" y="356"/>
                  </a:cubicBezTo>
                  <a:cubicBezTo>
                    <a:pt x="132" y="384"/>
                    <a:pt x="132" y="412"/>
                    <a:pt x="134" y="440"/>
                  </a:cubicBezTo>
                  <a:cubicBezTo>
                    <a:pt x="139" y="430"/>
                    <a:pt x="142" y="418"/>
                    <a:pt x="149" y="409"/>
                  </a:cubicBezTo>
                  <a:cubicBezTo>
                    <a:pt x="155" y="400"/>
                    <a:pt x="167" y="378"/>
                    <a:pt x="172" y="387"/>
                  </a:cubicBezTo>
                  <a:cubicBezTo>
                    <a:pt x="185" y="412"/>
                    <a:pt x="174" y="443"/>
                    <a:pt x="180" y="470"/>
                  </a:cubicBezTo>
                  <a:cubicBezTo>
                    <a:pt x="185" y="494"/>
                    <a:pt x="207" y="532"/>
                    <a:pt x="218" y="553"/>
                  </a:cubicBezTo>
                  <a:cubicBezTo>
                    <a:pt x="232" y="510"/>
                    <a:pt x="211" y="468"/>
                    <a:pt x="202" y="425"/>
                  </a:cubicBezTo>
                  <a:cubicBezTo>
                    <a:pt x="199" y="412"/>
                    <a:pt x="192" y="400"/>
                    <a:pt x="187" y="387"/>
                  </a:cubicBezTo>
                  <a:cubicBezTo>
                    <a:pt x="184" y="379"/>
                    <a:pt x="176" y="357"/>
                    <a:pt x="180" y="364"/>
                  </a:cubicBezTo>
                  <a:cubicBezTo>
                    <a:pt x="201" y="404"/>
                    <a:pt x="208" y="447"/>
                    <a:pt x="233" y="485"/>
                  </a:cubicBezTo>
                  <a:cubicBezTo>
                    <a:pt x="235" y="470"/>
                    <a:pt x="225" y="440"/>
                    <a:pt x="240" y="440"/>
                  </a:cubicBezTo>
                  <a:cubicBezTo>
                    <a:pt x="248" y="440"/>
                    <a:pt x="263" y="513"/>
                    <a:pt x="263" y="5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782"/>
            <p:cNvSpPr/>
            <p:nvPr/>
          </p:nvSpPr>
          <p:spPr>
            <a:xfrm>
              <a:off x="7964640" y="6689880"/>
              <a:ext cx="455400" cy="480960"/>
            </a:xfrm>
            <a:custGeom>
              <a:avLst/>
              <a:gdLst/>
              <a:ahLst/>
              <a:rect l="l" t="t" r="r" b="b"/>
              <a:pathLst>
                <a:path w="287" h="303">
                  <a:moveTo>
                    <a:pt x="175" y="0"/>
                  </a:moveTo>
                  <a:cubicBezTo>
                    <a:pt x="177" y="20"/>
                    <a:pt x="173" y="43"/>
                    <a:pt x="182" y="61"/>
                  </a:cubicBezTo>
                  <a:cubicBezTo>
                    <a:pt x="187" y="71"/>
                    <a:pt x="185" y="20"/>
                    <a:pt x="190" y="30"/>
                  </a:cubicBezTo>
                  <a:cubicBezTo>
                    <a:pt x="204" y="57"/>
                    <a:pt x="197" y="91"/>
                    <a:pt x="205" y="121"/>
                  </a:cubicBezTo>
                  <a:cubicBezTo>
                    <a:pt x="207" y="111"/>
                    <a:pt x="209" y="101"/>
                    <a:pt x="212" y="91"/>
                  </a:cubicBezTo>
                  <a:cubicBezTo>
                    <a:pt x="214" y="83"/>
                    <a:pt x="213" y="65"/>
                    <a:pt x="220" y="68"/>
                  </a:cubicBezTo>
                  <a:cubicBezTo>
                    <a:pt x="240" y="76"/>
                    <a:pt x="266" y="114"/>
                    <a:pt x="266" y="114"/>
                  </a:cubicBezTo>
                  <a:cubicBezTo>
                    <a:pt x="268" y="104"/>
                    <a:pt x="264" y="88"/>
                    <a:pt x="273" y="83"/>
                  </a:cubicBezTo>
                  <a:cubicBezTo>
                    <a:pt x="280" y="79"/>
                    <a:pt x="287" y="100"/>
                    <a:pt x="281" y="106"/>
                  </a:cubicBezTo>
                  <a:cubicBezTo>
                    <a:pt x="275" y="112"/>
                    <a:pt x="266" y="101"/>
                    <a:pt x="258" y="98"/>
                  </a:cubicBezTo>
                  <a:cubicBezTo>
                    <a:pt x="248" y="91"/>
                    <a:pt x="238" y="83"/>
                    <a:pt x="228" y="76"/>
                  </a:cubicBezTo>
                  <a:cubicBezTo>
                    <a:pt x="220" y="71"/>
                    <a:pt x="205" y="70"/>
                    <a:pt x="205" y="61"/>
                  </a:cubicBezTo>
                  <a:cubicBezTo>
                    <a:pt x="205" y="53"/>
                    <a:pt x="236" y="68"/>
                    <a:pt x="228" y="68"/>
                  </a:cubicBezTo>
                  <a:cubicBezTo>
                    <a:pt x="215" y="68"/>
                    <a:pt x="203" y="63"/>
                    <a:pt x="190" y="61"/>
                  </a:cubicBezTo>
                  <a:cubicBezTo>
                    <a:pt x="145" y="13"/>
                    <a:pt x="155" y="95"/>
                    <a:pt x="122" y="106"/>
                  </a:cubicBezTo>
                  <a:cubicBezTo>
                    <a:pt x="114" y="109"/>
                    <a:pt x="107" y="111"/>
                    <a:pt x="99" y="114"/>
                  </a:cubicBezTo>
                  <a:cubicBezTo>
                    <a:pt x="55" y="67"/>
                    <a:pt x="102" y="109"/>
                    <a:pt x="76" y="212"/>
                  </a:cubicBezTo>
                  <a:cubicBezTo>
                    <a:pt x="74" y="221"/>
                    <a:pt x="65" y="197"/>
                    <a:pt x="61" y="189"/>
                  </a:cubicBezTo>
                  <a:cubicBezTo>
                    <a:pt x="45" y="152"/>
                    <a:pt x="39" y="117"/>
                    <a:pt x="15" y="83"/>
                  </a:cubicBezTo>
                  <a:cubicBezTo>
                    <a:pt x="0" y="131"/>
                    <a:pt x="7" y="188"/>
                    <a:pt x="23" y="235"/>
                  </a:cubicBezTo>
                  <a:cubicBezTo>
                    <a:pt x="32" y="261"/>
                    <a:pt x="46" y="275"/>
                    <a:pt x="46" y="30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783"/>
            <p:cNvSpPr/>
            <p:nvPr/>
          </p:nvSpPr>
          <p:spPr>
            <a:xfrm>
              <a:off x="5270400" y="5951520"/>
              <a:ext cx="1451160" cy="531720"/>
            </a:xfrm>
            <a:custGeom>
              <a:avLst/>
              <a:gdLst/>
              <a:ahLst/>
              <a:rect l="l" t="t" r="r" b="b"/>
              <a:pathLst>
                <a:path w="914" h="335">
                  <a:moveTo>
                    <a:pt x="159" y="3"/>
                  </a:moveTo>
                  <a:cubicBezTo>
                    <a:pt x="150" y="6"/>
                    <a:pt x="111" y="9"/>
                    <a:pt x="144" y="33"/>
                  </a:cubicBezTo>
                  <a:cubicBezTo>
                    <a:pt x="166" y="49"/>
                    <a:pt x="228" y="53"/>
                    <a:pt x="250" y="56"/>
                  </a:cubicBezTo>
                  <a:cubicBezTo>
                    <a:pt x="236" y="95"/>
                    <a:pt x="260" y="85"/>
                    <a:pt x="295" y="94"/>
                  </a:cubicBezTo>
                  <a:cubicBezTo>
                    <a:pt x="287" y="101"/>
                    <a:pt x="269" y="106"/>
                    <a:pt x="272" y="116"/>
                  </a:cubicBezTo>
                  <a:cubicBezTo>
                    <a:pt x="275" y="126"/>
                    <a:pt x="292" y="122"/>
                    <a:pt x="303" y="124"/>
                  </a:cubicBezTo>
                  <a:cubicBezTo>
                    <a:pt x="321" y="127"/>
                    <a:pt x="338" y="129"/>
                    <a:pt x="356" y="131"/>
                  </a:cubicBezTo>
                  <a:cubicBezTo>
                    <a:pt x="351" y="136"/>
                    <a:pt x="347" y="143"/>
                    <a:pt x="341" y="147"/>
                  </a:cubicBezTo>
                  <a:cubicBezTo>
                    <a:pt x="334" y="151"/>
                    <a:pt x="310" y="153"/>
                    <a:pt x="318" y="154"/>
                  </a:cubicBezTo>
                  <a:cubicBezTo>
                    <a:pt x="363" y="160"/>
                    <a:pt x="409" y="159"/>
                    <a:pt x="454" y="162"/>
                  </a:cubicBezTo>
                  <a:cubicBezTo>
                    <a:pt x="378" y="200"/>
                    <a:pt x="464" y="183"/>
                    <a:pt x="485" y="177"/>
                  </a:cubicBezTo>
                  <a:cubicBezTo>
                    <a:pt x="503" y="179"/>
                    <a:pt x="521" y="178"/>
                    <a:pt x="538" y="184"/>
                  </a:cubicBezTo>
                  <a:cubicBezTo>
                    <a:pt x="545" y="186"/>
                    <a:pt x="557" y="194"/>
                    <a:pt x="553" y="200"/>
                  </a:cubicBezTo>
                  <a:cubicBezTo>
                    <a:pt x="547" y="209"/>
                    <a:pt x="533" y="205"/>
                    <a:pt x="523" y="207"/>
                  </a:cubicBezTo>
                  <a:cubicBezTo>
                    <a:pt x="533" y="210"/>
                    <a:pt x="546" y="222"/>
                    <a:pt x="553" y="215"/>
                  </a:cubicBezTo>
                  <a:cubicBezTo>
                    <a:pt x="559" y="209"/>
                    <a:pt x="529" y="194"/>
                    <a:pt x="538" y="192"/>
                  </a:cubicBezTo>
                  <a:cubicBezTo>
                    <a:pt x="557" y="188"/>
                    <a:pt x="602" y="212"/>
                    <a:pt x="621" y="222"/>
                  </a:cubicBezTo>
                  <a:cubicBezTo>
                    <a:pt x="599" y="200"/>
                    <a:pt x="575" y="186"/>
                    <a:pt x="545" y="177"/>
                  </a:cubicBezTo>
                  <a:cubicBezTo>
                    <a:pt x="589" y="162"/>
                    <a:pt x="615" y="191"/>
                    <a:pt x="651" y="215"/>
                  </a:cubicBezTo>
                  <a:cubicBezTo>
                    <a:pt x="659" y="220"/>
                    <a:pt x="674" y="230"/>
                    <a:pt x="674" y="230"/>
                  </a:cubicBezTo>
                  <a:cubicBezTo>
                    <a:pt x="660" y="208"/>
                    <a:pt x="639" y="189"/>
                    <a:pt x="697" y="215"/>
                  </a:cubicBezTo>
                  <a:cubicBezTo>
                    <a:pt x="730" y="230"/>
                    <a:pt x="742" y="245"/>
                    <a:pt x="765" y="268"/>
                  </a:cubicBezTo>
                  <a:cubicBezTo>
                    <a:pt x="788" y="335"/>
                    <a:pt x="759" y="231"/>
                    <a:pt x="712" y="275"/>
                  </a:cubicBezTo>
                  <a:cubicBezTo>
                    <a:pt x="699" y="287"/>
                    <a:pt x="757" y="306"/>
                    <a:pt x="757" y="306"/>
                  </a:cubicBezTo>
                  <a:cubicBezTo>
                    <a:pt x="784" y="281"/>
                    <a:pt x="794" y="295"/>
                    <a:pt x="826" y="306"/>
                  </a:cubicBezTo>
                  <a:cubicBezTo>
                    <a:pt x="837" y="269"/>
                    <a:pt x="859" y="277"/>
                    <a:pt x="894" y="260"/>
                  </a:cubicBezTo>
                  <a:cubicBezTo>
                    <a:pt x="822" y="192"/>
                    <a:pt x="914" y="273"/>
                    <a:pt x="848" y="230"/>
                  </a:cubicBezTo>
                  <a:cubicBezTo>
                    <a:pt x="827" y="216"/>
                    <a:pt x="788" y="184"/>
                    <a:pt x="788" y="184"/>
                  </a:cubicBezTo>
                  <a:cubicBezTo>
                    <a:pt x="770" y="134"/>
                    <a:pt x="736" y="145"/>
                    <a:pt x="682" y="139"/>
                  </a:cubicBezTo>
                  <a:cubicBezTo>
                    <a:pt x="580" y="104"/>
                    <a:pt x="482" y="113"/>
                    <a:pt x="371" y="109"/>
                  </a:cubicBezTo>
                  <a:cubicBezTo>
                    <a:pt x="394" y="111"/>
                    <a:pt x="417" y="121"/>
                    <a:pt x="439" y="116"/>
                  </a:cubicBezTo>
                  <a:cubicBezTo>
                    <a:pt x="450" y="114"/>
                    <a:pt x="419" y="105"/>
                    <a:pt x="409" y="101"/>
                  </a:cubicBezTo>
                  <a:cubicBezTo>
                    <a:pt x="402" y="98"/>
                    <a:pt x="394" y="96"/>
                    <a:pt x="386" y="94"/>
                  </a:cubicBezTo>
                  <a:cubicBezTo>
                    <a:pt x="361" y="88"/>
                    <a:pt x="335" y="83"/>
                    <a:pt x="310" y="78"/>
                  </a:cubicBezTo>
                  <a:cubicBezTo>
                    <a:pt x="217" y="59"/>
                    <a:pt x="131" y="24"/>
                    <a:pt x="37" y="10"/>
                  </a:cubicBezTo>
                  <a:cubicBezTo>
                    <a:pt x="10" y="1"/>
                    <a:pt x="22" y="0"/>
                    <a:pt x="0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784"/>
            <p:cNvSpPr/>
            <p:nvPr/>
          </p:nvSpPr>
          <p:spPr>
            <a:xfrm>
              <a:off x="6934320" y="6404040"/>
              <a:ext cx="706320" cy="231840"/>
            </a:xfrm>
            <a:custGeom>
              <a:avLst/>
              <a:gdLst/>
              <a:ahLst/>
              <a:rect l="l" t="t" r="r" b="b"/>
              <a:pathLst>
                <a:path w="445" h="146">
                  <a:moveTo>
                    <a:pt x="43" y="119"/>
                  </a:moveTo>
                  <a:cubicBezTo>
                    <a:pt x="33" y="117"/>
                    <a:pt x="23" y="112"/>
                    <a:pt x="13" y="112"/>
                  </a:cubicBezTo>
                  <a:cubicBezTo>
                    <a:pt x="5" y="112"/>
                    <a:pt x="32" y="126"/>
                    <a:pt x="35" y="119"/>
                  </a:cubicBezTo>
                  <a:cubicBezTo>
                    <a:pt x="39" y="111"/>
                    <a:pt x="16" y="105"/>
                    <a:pt x="20" y="97"/>
                  </a:cubicBezTo>
                  <a:cubicBezTo>
                    <a:pt x="21" y="96"/>
                    <a:pt x="66" y="112"/>
                    <a:pt x="66" y="112"/>
                  </a:cubicBezTo>
                  <a:cubicBezTo>
                    <a:pt x="0" y="46"/>
                    <a:pt x="103" y="119"/>
                    <a:pt x="111" y="119"/>
                  </a:cubicBezTo>
                  <a:cubicBezTo>
                    <a:pt x="130" y="119"/>
                    <a:pt x="63" y="86"/>
                    <a:pt x="73" y="81"/>
                  </a:cubicBezTo>
                  <a:cubicBezTo>
                    <a:pt x="83" y="76"/>
                    <a:pt x="94" y="85"/>
                    <a:pt x="104" y="89"/>
                  </a:cubicBezTo>
                  <a:cubicBezTo>
                    <a:pt x="125" y="98"/>
                    <a:pt x="143" y="112"/>
                    <a:pt x="164" y="119"/>
                  </a:cubicBezTo>
                  <a:cubicBezTo>
                    <a:pt x="172" y="122"/>
                    <a:pt x="193" y="133"/>
                    <a:pt x="187" y="127"/>
                  </a:cubicBezTo>
                  <a:cubicBezTo>
                    <a:pt x="174" y="114"/>
                    <a:pt x="156" y="107"/>
                    <a:pt x="141" y="97"/>
                  </a:cubicBezTo>
                  <a:cubicBezTo>
                    <a:pt x="126" y="87"/>
                    <a:pt x="177" y="102"/>
                    <a:pt x="195" y="104"/>
                  </a:cubicBezTo>
                  <a:cubicBezTo>
                    <a:pt x="202" y="107"/>
                    <a:pt x="217" y="112"/>
                    <a:pt x="217" y="112"/>
                  </a:cubicBezTo>
                  <a:cubicBezTo>
                    <a:pt x="269" y="98"/>
                    <a:pt x="272" y="109"/>
                    <a:pt x="316" y="127"/>
                  </a:cubicBezTo>
                  <a:cubicBezTo>
                    <a:pt x="325" y="131"/>
                    <a:pt x="336" y="131"/>
                    <a:pt x="346" y="134"/>
                  </a:cubicBezTo>
                  <a:cubicBezTo>
                    <a:pt x="354" y="136"/>
                    <a:pt x="376" y="146"/>
                    <a:pt x="369" y="142"/>
                  </a:cubicBezTo>
                  <a:cubicBezTo>
                    <a:pt x="361" y="137"/>
                    <a:pt x="346" y="127"/>
                    <a:pt x="346" y="127"/>
                  </a:cubicBezTo>
                  <a:cubicBezTo>
                    <a:pt x="400" y="108"/>
                    <a:pt x="335" y="127"/>
                    <a:pt x="437" y="127"/>
                  </a:cubicBezTo>
                  <a:cubicBezTo>
                    <a:pt x="445" y="127"/>
                    <a:pt x="421" y="123"/>
                    <a:pt x="414" y="119"/>
                  </a:cubicBezTo>
                  <a:cubicBezTo>
                    <a:pt x="406" y="115"/>
                    <a:pt x="400" y="108"/>
                    <a:pt x="392" y="104"/>
                  </a:cubicBezTo>
                  <a:cubicBezTo>
                    <a:pt x="370" y="93"/>
                    <a:pt x="346" y="89"/>
                    <a:pt x="323" y="81"/>
                  </a:cubicBezTo>
                  <a:cubicBezTo>
                    <a:pt x="242" y="54"/>
                    <a:pt x="250" y="70"/>
                    <a:pt x="96" y="59"/>
                  </a:cubicBezTo>
                  <a:cubicBezTo>
                    <a:pt x="116" y="52"/>
                    <a:pt x="142" y="58"/>
                    <a:pt x="157" y="43"/>
                  </a:cubicBezTo>
                  <a:cubicBezTo>
                    <a:pt x="163" y="37"/>
                    <a:pt x="142" y="38"/>
                    <a:pt x="134" y="36"/>
                  </a:cubicBezTo>
                  <a:cubicBezTo>
                    <a:pt x="117" y="31"/>
                    <a:pt x="169" y="41"/>
                    <a:pt x="187" y="43"/>
                  </a:cubicBezTo>
                  <a:cubicBezTo>
                    <a:pt x="182" y="36"/>
                    <a:pt x="163" y="21"/>
                    <a:pt x="172" y="21"/>
                  </a:cubicBezTo>
                  <a:cubicBezTo>
                    <a:pt x="210" y="21"/>
                    <a:pt x="285" y="43"/>
                    <a:pt x="285" y="43"/>
                  </a:cubicBezTo>
                  <a:cubicBezTo>
                    <a:pt x="278" y="38"/>
                    <a:pt x="261" y="37"/>
                    <a:pt x="263" y="28"/>
                  </a:cubicBezTo>
                  <a:cubicBezTo>
                    <a:pt x="270" y="0"/>
                    <a:pt x="312" y="18"/>
                    <a:pt x="323" y="21"/>
                  </a:cubicBezTo>
                  <a:cubicBezTo>
                    <a:pt x="353" y="106"/>
                    <a:pt x="318" y="37"/>
                    <a:pt x="369" y="8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4" name="Group 832"/>
            <p:cNvGrpSpPr/>
            <p:nvPr/>
          </p:nvGrpSpPr>
          <p:grpSpPr>
            <a:xfrm>
              <a:off x="1317600" y="4064040"/>
              <a:ext cx="663120" cy="939600"/>
              <a:chOff x="1317600" y="4064040"/>
              <a:chExt cx="663120" cy="939600"/>
            </a:xfrm>
          </p:grpSpPr>
          <p:sp>
            <p:nvSpPr>
              <p:cNvPr id="715" name="Freeform 833"/>
              <p:cNvSpPr/>
              <p:nvPr/>
            </p:nvSpPr>
            <p:spPr>
              <a:xfrm flipH="1">
                <a:off x="1339560" y="4128120"/>
                <a:ext cx="639720" cy="56988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834"/>
              <p:cNvSpPr/>
              <p:nvPr/>
            </p:nvSpPr>
            <p:spPr>
              <a:xfrm flipH="1">
                <a:off x="1465200" y="4316760"/>
                <a:ext cx="366480" cy="68688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835"/>
              <p:cNvSpPr/>
              <p:nvPr/>
            </p:nvSpPr>
            <p:spPr>
              <a:xfrm flipH="1">
                <a:off x="1657080" y="4927320"/>
                <a:ext cx="309600" cy="3204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836"/>
              <p:cNvSpPr/>
              <p:nvPr/>
            </p:nvSpPr>
            <p:spPr>
              <a:xfrm flipH="1">
                <a:off x="1426680" y="4281120"/>
                <a:ext cx="435600" cy="70812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837"/>
              <p:cNvSpPr/>
              <p:nvPr/>
            </p:nvSpPr>
            <p:spPr>
              <a:xfrm flipH="1">
                <a:off x="1432440" y="4224960"/>
                <a:ext cx="246240" cy="65592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838"/>
              <p:cNvSpPr/>
              <p:nvPr/>
            </p:nvSpPr>
            <p:spPr>
              <a:xfrm flipH="1">
                <a:off x="1361520" y="4400640"/>
                <a:ext cx="253440" cy="23976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839"/>
              <p:cNvSpPr/>
              <p:nvPr/>
            </p:nvSpPr>
            <p:spPr>
              <a:xfrm flipH="1">
                <a:off x="1697760" y="4509360"/>
                <a:ext cx="214920" cy="6876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840"/>
              <p:cNvSpPr/>
              <p:nvPr/>
            </p:nvSpPr>
            <p:spPr>
              <a:xfrm flipH="1">
                <a:off x="1604160" y="4417920"/>
                <a:ext cx="83160" cy="53928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841"/>
              <p:cNvSpPr/>
              <p:nvPr/>
            </p:nvSpPr>
            <p:spPr>
              <a:xfrm flipH="1">
                <a:off x="1327680" y="4123440"/>
                <a:ext cx="652680" cy="58536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842"/>
              <p:cNvSpPr/>
              <p:nvPr/>
            </p:nvSpPr>
            <p:spPr>
              <a:xfrm flipH="1">
                <a:off x="1317240" y="4064040"/>
                <a:ext cx="624600" cy="68724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Freeform 785"/>
            <p:cNvSpPr/>
            <p:nvPr/>
          </p:nvSpPr>
          <p:spPr>
            <a:xfrm>
              <a:off x="7888320" y="6340320"/>
              <a:ext cx="1352520" cy="262080"/>
            </a:xfrm>
            <a:custGeom>
              <a:avLst/>
              <a:gdLst/>
              <a:ahLst/>
              <a:rect l="l" t="t" r="r" b="b"/>
              <a:pathLst>
                <a:path w="852" h="165">
                  <a:moveTo>
                    <a:pt x="48" y="152"/>
                  </a:moveTo>
                  <a:cubicBezTo>
                    <a:pt x="41" y="147"/>
                    <a:pt x="34" y="141"/>
                    <a:pt x="26" y="137"/>
                  </a:cubicBezTo>
                  <a:cubicBezTo>
                    <a:pt x="19" y="133"/>
                    <a:pt x="0" y="136"/>
                    <a:pt x="3" y="129"/>
                  </a:cubicBezTo>
                  <a:cubicBezTo>
                    <a:pt x="7" y="120"/>
                    <a:pt x="23" y="124"/>
                    <a:pt x="33" y="121"/>
                  </a:cubicBezTo>
                  <a:cubicBezTo>
                    <a:pt x="46" y="117"/>
                    <a:pt x="58" y="111"/>
                    <a:pt x="71" y="106"/>
                  </a:cubicBezTo>
                  <a:cubicBezTo>
                    <a:pt x="104" y="117"/>
                    <a:pt x="128" y="136"/>
                    <a:pt x="162" y="144"/>
                  </a:cubicBezTo>
                  <a:cubicBezTo>
                    <a:pt x="170" y="149"/>
                    <a:pt x="178" y="165"/>
                    <a:pt x="185" y="159"/>
                  </a:cubicBezTo>
                  <a:cubicBezTo>
                    <a:pt x="204" y="143"/>
                    <a:pt x="125" y="121"/>
                    <a:pt x="139" y="121"/>
                  </a:cubicBezTo>
                  <a:cubicBezTo>
                    <a:pt x="160" y="121"/>
                    <a:pt x="200" y="137"/>
                    <a:pt x="200" y="137"/>
                  </a:cubicBezTo>
                  <a:cubicBezTo>
                    <a:pt x="195" y="132"/>
                    <a:pt x="178" y="123"/>
                    <a:pt x="185" y="121"/>
                  </a:cubicBezTo>
                  <a:cubicBezTo>
                    <a:pt x="213" y="114"/>
                    <a:pt x="258" y="148"/>
                    <a:pt x="207" y="114"/>
                  </a:cubicBezTo>
                  <a:cubicBezTo>
                    <a:pt x="256" y="82"/>
                    <a:pt x="315" y="105"/>
                    <a:pt x="367" y="121"/>
                  </a:cubicBezTo>
                  <a:cubicBezTo>
                    <a:pt x="331" y="86"/>
                    <a:pt x="302" y="66"/>
                    <a:pt x="253" y="53"/>
                  </a:cubicBezTo>
                  <a:cubicBezTo>
                    <a:pt x="295" y="36"/>
                    <a:pt x="303" y="41"/>
                    <a:pt x="344" y="53"/>
                  </a:cubicBezTo>
                  <a:cubicBezTo>
                    <a:pt x="336" y="48"/>
                    <a:pt x="318" y="47"/>
                    <a:pt x="321" y="38"/>
                  </a:cubicBezTo>
                  <a:cubicBezTo>
                    <a:pt x="324" y="28"/>
                    <a:pt x="341" y="32"/>
                    <a:pt x="351" y="30"/>
                  </a:cubicBezTo>
                  <a:cubicBezTo>
                    <a:pt x="444" y="12"/>
                    <a:pt x="358" y="34"/>
                    <a:pt x="427" y="15"/>
                  </a:cubicBezTo>
                  <a:cubicBezTo>
                    <a:pt x="496" y="32"/>
                    <a:pt x="508" y="36"/>
                    <a:pt x="465" y="23"/>
                  </a:cubicBezTo>
                  <a:cubicBezTo>
                    <a:pt x="508" y="12"/>
                    <a:pt x="518" y="8"/>
                    <a:pt x="564" y="15"/>
                  </a:cubicBezTo>
                  <a:cubicBezTo>
                    <a:pt x="571" y="18"/>
                    <a:pt x="578" y="24"/>
                    <a:pt x="586" y="23"/>
                  </a:cubicBezTo>
                  <a:cubicBezTo>
                    <a:pt x="595" y="22"/>
                    <a:pt x="600" y="8"/>
                    <a:pt x="609" y="8"/>
                  </a:cubicBezTo>
                  <a:cubicBezTo>
                    <a:pt x="620" y="8"/>
                    <a:pt x="629" y="17"/>
                    <a:pt x="639" y="23"/>
                  </a:cubicBezTo>
                  <a:cubicBezTo>
                    <a:pt x="663" y="37"/>
                    <a:pt x="682" y="45"/>
                    <a:pt x="708" y="53"/>
                  </a:cubicBezTo>
                  <a:cubicBezTo>
                    <a:pt x="687" y="33"/>
                    <a:pt x="643" y="6"/>
                    <a:pt x="708" y="23"/>
                  </a:cubicBezTo>
                  <a:cubicBezTo>
                    <a:pt x="754" y="0"/>
                    <a:pt x="755" y="21"/>
                    <a:pt x="799" y="8"/>
                  </a:cubicBezTo>
                  <a:cubicBezTo>
                    <a:pt x="836" y="17"/>
                    <a:pt x="819" y="15"/>
                    <a:pt x="852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831"/>
            <p:cNvGrpSpPr/>
            <p:nvPr/>
          </p:nvGrpSpPr>
          <p:grpSpPr>
            <a:xfrm>
              <a:off x="1778040" y="3479760"/>
              <a:ext cx="1191960" cy="1625400"/>
              <a:chOff x="1778040" y="3479760"/>
              <a:chExt cx="1191960" cy="1625400"/>
            </a:xfrm>
          </p:grpSpPr>
          <p:sp>
            <p:nvSpPr>
              <p:cNvPr id="727" name="Freeform 799"/>
              <p:cNvSpPr/>
              <p:nvPr/>
            </p:nvSpPr>
            <p:spPr>
              <a:xfrm>
                <a:off x="1780200" y="3591000"/>
                <a:ext cx="1149480" cy="98604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800"/>
              <p:cNvSpPr/>
              <p:nvPr/>
            </p:nvSpPr>
            <p:spPr>
              <a:xfrm>
                <a:off x="2045880" y="3916800"/>
                <a:ext cx="658440" cy="118836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801"/>
              <p:cNvSpPr/>
              <p:nvPr/>
            </p:nvSpPr>
            <p:spPr>
              <a:xfrm>
                <a:off x="1803240" y="4973040"/>
                <a:ext cx="556560" cy="5544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824"/>
              <p:cNvSpPr/>
              <p:nvPr/>
            </p:nvSpPr>
            <p:spPr>
              <a:xfrm>
                <a:off x="1991160" y="3855600"/>
                <a:ext cx="783000" cy="122508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825"/>
              <p:cNvSpPr/>
              <p:nvPr/>
            </p:nvSpPr>
            <p:spPr>
              <a:xfrm>
                <a:off x="2320920" y="3758040"/>
                <a:ext cx="442800" cy="113472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826"/>
              <p:cNvSpPr/>
              <p:nvPr/>
            </p:nvSpPr>
            <p:spPr>
              <a:xfrm>
                <a:off x="2435400" y="4062240"/>
                <a:ext cx="455760" cy="41508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827"/>
              <p:cNvSpPr/>
              <p:nvPr/>
            </p:nvSpPr>
            <p:spPr>
              <a:xfrm>
                <a:off x="1899720" y="4250160"/>
                <a:ext cx="385920" cy="11916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828"/>
              <p:cNvSpPr/>
              <p:nvPr/>
            </p:nvSpPr>
            <p:spPr>
              <a:xfrm>
                <a:off x="2304360" y="4092120"/>
                <a:ext cx="149400" cy="93312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829"/>
              <p:cNvSpPr/>
              <p:nvPr/>
            </p:nvSpPr>
            <p:spPr>
              <a:xfrm>
                <a:off x="1778040" y="3582720"/>
                <a:ext cx="1172520" cy="101304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830"/>
              <p:cNvSpPr/>
              <p:nvPr/>
            </p:nvSpPr>
            <p:spPr>
              <a:xfrm>
                <a:off x="1847520" y="3479760"/>
                <a:ext cx="1122480" cy="118944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Freeform 844"/>
            <p:cNvSpPr/>
            <p:nvPr/>
          </p:nvSpPr>
          <p:spPr>
            <a:xfrm>
              <a:off x="5859360" y="5334120"/>
              <a:ext cx="3584520" cy="331560"/>
            </a:xfrm>
            <a:custGeom>
              <a:avLst/>
              <a:gdLst/>
              <a:ahLst/>
              <a:rect l="l" t="t" r="r" b="b"/>
              <a:pathLst>
                <a:path w="2258" h="257">
                  <a:moveTo>
                    <a:pt x="0" y="0"/>
                  </a:moveTo>
                  <a:cubicBezTo>
                    <a:pt x="11" y="31"/>
                    <a:pt x="33" y="32"/>
                    <a:pt x="61" y="53"/>
                  </a:cubicBezTo>
                  <a:cubicBezTo>
                    <a:pt x="79" y="81"/>
                    <a:pt x="111" y="96"/>
                    <a:pt x="144" y="106"/>
                  </a:cubicBezTo>
                  <a:cubicBezTo>
                    <a:pt x="207" y="169"/>
                    <a:pt x="125" y="101"/>
                    <a:pt x="197" y="121"/>
                  </a:cubicBezTo>
                  <a:cubicBezTo>
                    <a:pt x="207" y="124"/>
                    <a:pt x="211" y="138"/>
                    <a:pt x="220" y="144"/>
                  </a:cubicBezTo>
                  <a:cubicBezTo>
                    <a:pt x="226" y="148"/>
                    <a:pt x="235" y="149"/>
                    <a:pt x="242" y="152"/>
                  </a:cubicBezTo>
                  <a:cubicBezTo>
                    <a:pt x="264" y="130"/>
                    <a:pt x="252" y="133"/>
                    <a:pt x="288" y="144"/>
                  </a:cubicBezTo>
                  <a:cubicBezTo>
                    <a:pt x="303" y="149"/>
                    <a:pt x="333" y="159"/>
                    <a:pt x="333" y="159"/>
                  </a:cubicBezTo>
                  <a:cubicBezTo>
                    <a:pt x="336" y="151"/>
                    <a:pt x="333" y="139"/>
                    <a:pt x="341" y="136"/>
                  </a:cubicBezTo>
                  <a:cubicBezTo>
                    <a:pt x="377" y="124"/>
                    <a:pt x="430" y="179"/>
                    <a:pt x="462" y="189"/>
                  </a:cubicBezTo>
                  <a:cubicBezTo>
                    <a:pt x="477" y="147"/>
                    <a:pt x="458" y="177"/>
                    <a:pt x="493" y="182"/>
                  </a:cubicBezTo>
                  <a:cubicBezTo>
                    <a:pt x="501" y="183"/>
                    <a:pt x="508" y="177"/>
                    <a:pt x="515" y="174"/>
                  </a:cubicBezTo>
                  <a:cubicBezTo>
                    <a:pt x="525" y="177"/>
                    <a:pt x="536" y="178"/>
                    <a:pt x="546" y="182"/>
                  </a:cubicBezTo>
                  <a:cubicBezTo>
                    <a:pt x="554" y="186"/>
                    <a:pt x="560" y="194"/>
                    <a:pt x="568" y="197"/>
                  </a:cubicBezTo>
                  <a:cubicBezTo>
                    <a:pt x="588" y="204"/>
                    <a:pt x="609" y="206"/>
                    <a:pt x="629" y="212"/>
                  </a:cubicBezTo>
                  <a:cubicBezTo>
                    <a:pt x="646" y="162"/>
                    <a:pt x="646" y="166"/>
                    <a:pt x="705" y="174"/>
                  </a:cubicBezTo>
                  <a:cubicBezTo>
                    <a:pt x="720" y="179"/>
                    <a:pt x="735" y="184"/>
                    <a:pt x="750" y="189"/>
                  </a:cubicBezTo>
                  <a:cubicBezTo>
                    <a:pt x="757" y="191"/>
                    <a:pt x="759" y="201"/>
                    <a:pt x="765" y="205"/>
                  </a:cubicBezTo>
                  <a:cubicBezTo>
                    <a:pt x="772" y="209"/>
                    <a:pt x="780" y="210"/>
                    <a:pt x="788" y="212"/>
                  </a:cubicBezTo>
                  <a:cubicBezTo>
                    <a:pt x="811" y="146"/>
                    <a:pt x="864" y="203"/>
                    <a:pt x="902" y="220"/>
                  </a:cubicBezTo>
                  <a:cubicBezTo>
                    <a:pt x="921" y="229"/>
                    <a:pt x="962" y="243"/>
                    <a:pt x="962" y="243"/>
                  </a:cubicBezTo>
                  <a:cubicBezTo>
                    <a:pt x="967" y="238"/>
                    <a:pt x="974" y="233"/>
                    <a:pt x="978" y="227"/>
                  </a:cubicBezTo>
                  <a:cubicBezTo>
                    <a:pt x="984" y="218"/>
                    <a:pt x="982" y="198"/>
                    <a:pt x="993" y="197"/>
                  </a:cubicBezTo>
                  <a:cubicBezTo>
                    <a:pt x="1008" y="195"/>
                    <a:pt x="1017" y="214"/>
                    <a:pt x="1031" y="220"/>
                  </a:cubicBezTo>
                  <a:cubicBezTo>
                    <a:pt x="1048" y="227"/>
                    <a:pt x="1066" y="230"/>
                    <a:pt x="1084" y="235"/>
                  </a:cubicBezTo>
                  <a:cubicBezTo>
                    <a:pt x="1091" y="240"/>
                    <a:pt x="1100" y="257"/>
                    <a:pt x="1106" y="250"/>
                  </a:cubicBezTo>
                  <a:cubicBezTo>
                    <a:pt x="1119" y="235"/>
                    <a:pt x="1051" y="207"/>
                    <a:pt x="1061" y="205"/>
                  </a:cubicBezTo>
                  <a:cubicBezTo>
                    <a:pt x="1091" y="198"/>
                    <a:pt x="1122" y="210"/>
                    <a:pt x="1152" y="212"/>
                  </a:cubicBezTo>
                  <a:cubicBezTo>
                    <a:pt x="1200" y="225"/>
                    <a:pt x="1247" y="241"/>
                    <a:pt x="1296" y="250"/>
                  </a:cubicBezTo>
                  <a:cubicBezTo>
                    <a:pt x="1228" y="216"/>
                    <a:pt x="1214" y="227"/>
                    <a:pt x="1258" y="212"/>
                  </a:cubicBezTo>
                  <a:cubicBezTo>
                    <a:pt x="1286" y="215"/>
                    <a:pt x="1314" y="214"/>
                    <a:pt x="1341" y="220"/>
                  </a:cubicBezTo>
                  <a:cubicBezTo>
                    <a:pt x="1348" y="222"/>
                    <a:pt x="1350" y="235"/>
                    <a:pt x="1357" y="235"/>
                  </a:cubicBezTo>
                  <a:cubicBezTo>
                    <a:pt x="1366" y="235"/>
                    <a:pt x="1371" y="224"/>
                    <a:pt x="1379" y="220"/>
                  </a:cubicBezTo>
                  <a:cubicBezTo>
                    <a:pt x="1389" y="214"/>
                    <a:pt x="1400" y="210"/>
                    <a:pt x="1410" y="205"/>
                  </a:cubicBezTo>
                  <a:cubicBezTo>
                    <a:pt x="1444" y="228"/>
                    <a:pt x="1449" y="217"/>
                    <a:pt x="1485" y="205"/>
                  </a:cubicBezTo>
                  <a:cubicBezTo>
                    <a:pt x="1488" y="215"/>
                    <a:pt x="1483" y="234"/>
                    <a:pt x="1493" y="235"/>
                  </a:cubicBezTo>
                  <a:cubicBezTo>
                    <a:pt x="1672" y="257"/>
                    <a:pt x="1620" y="230"/>
                    <a:pt x="1576" y="197"/>
                  </a:cubicBezTo>
                  <a:cubicBezTo>
                    <a:pt x="1598" y="189"/>
                    <a:pt x="1625" y="194"/>
                    <a:pt x="1645" y="182"/>
                  </a:cubicBezTo>
                  <a:cubicBezTo>
                    <a:pt x="1652" y="178"/>
                    <a:pt x="1646" y="165"/>
                    <a:pt x="1652" y="159"/>
                  </a:cubicBezTo>
                  <a:cubicBezTo>
                    <a:pt x="1658" y="153"/>
                    <a:pt x="1667" y="154"/>
                    <a:pt x="1675" y="152"/>
                  </a:cubicBezTo>
                  <a:cubicBezTo>
                    <a:pt x="1715" y="159"/>
                    <a:pt x="1749" y="169"/>
                    <a:pt x="1789" y="174"/>
                  </a:cubicBezTo>
                  <a:cubicBezTo>
                    <a:pt x="1947" y="156"/>
                    <a:pt x="2097" y="136"/>
                    <a:pt x="2258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845"/>
            <p:cNvSpPr/>
            <p:nvPr/>
          </p:nvSpPr>
          <p:spPr>
            <a:xfrm>
              <a:off x="6485040" y="4619520"/>
              <a:ext cx="2874960" cy="128520"/>
            </a:xfrm>
            <a:custGeom>
              <a:avLst/>
              <a:gdLst/>
              <a:ahLst/>
              <a:rect l="l" t="t" r="r" b="b"/>
              <a:pathLst>
                <a:path w="1811" h="81">
                  <a:moveTo>
                    <a:pt x="0" y="31"/>
                  </a:moveTo>
                  <a:cubicBezTo>
                    <a:pt x="51" y="17"/>
                    <a:pt x="29" y="19"/>
                    <a:pt x="106" y="31"/>
                  </a:cubicBezTo>
                  <a:cubicBezTo>
                    <a:pt x="114" y="32"/>
                    <a:pt x="121" y="36"/>
                    <a:pt x="129" y="38"/>
                  </a:cubicBezTo>
                  <a:cubicBezTo>
                    <a:pt x="142" y="41"/>
                    <a:pt x="179" y="50"/>
                    <a:pt x="167" y="46"/>
                  </a:cubicBezTo>
                  <a:cubicBezTo>
                    <a:pt x="129" y="35"/>
                    <a:pt x="63" y="23"/>
                    <a:pt x="144" y="38"/>
                  </a:cubicBezTo>
                  <a:cubicBezTo>
                    <a:pt x="125" y="26"/>
                    <a:pt x="25" y="0"/>
                    <a:pt x="91" y="23"/>
                  </a:cubicBezTo>
                  <a:cubicBezTo>
                    <a:pt x="81" y="26"/>
                    <a:pt x="55" y="22"/>
                    <a:pt x="61" y="31"/>
                  </a:cubicBezTo>
                  <a:cubicBezTo>
                    <a:pt x="70" y="44"/>
                    <a:pt x="106" y="46"/>
                    <a:pt x="106" y="46"/>
                  </a:cubicBezTo>
                  <a:cubicBezTo>
                    <a:pt x="152" y="43"/>
                    <a:pt x="198" y="47"/>
                    <a:pt x="243" y="38"/>
                  </a:cubicBezTo>
                  <a:cubicBezTo>
                    <a:pt x="250" y="37"/>
                    <a:pt x="220" y="25"/>
                    <a:pt x="227" y="23"/>
                  </a:cubicBezTo>
                  <a:cubicBezTo>
                    <a:pt x="252" y="15"/>
                    <a:pt x="278" y="33"/>
                    <a:pt x="303" y="38"/>
                  </a:cubicBezTo>
                  <a:cubicBezTo>
                    <a:pt x="311" y="43"/>
                    <a:pt x="326" y="44"/>
                    <a:pt x="326" y="53"/>
                  </a:cubicBezTo>
                  <a:cubicBezTo>
                    <a:pt x="326" y="61"/>
                    <a:pt x="311" y="48"/>
                    <a:pt x="303" y="46"/>
                  </a:cubicBezTo>
                  <a:cubicBezTo>
                    <a:pt x="290" y="43"/>
                    <a:pt x="278" y="41"/>
                    <a:pt x="265" y="38"/>
                  </a:cubicBezTo>
                  <a:cubicBezTo>
                    <a:pt x="255" y="36"/>
                    <a:pt x="225" y="31"/>
                    <a:pt x="235" y="31"/>
                  </a:cubicBezTo>
                  <a:cubicBezTo>
                    <a:pt x="291" y="31"/>
                    <a:pt x="346" y="36"/>
                    <a:pt x="402" y="38"/>
                  </a:cubicBezTo>
                  <a:cubicBezTo>
                    <a:pt x="489" y="81"/>
                    <a:pt x="401" y="39"/>
                    <a:pt x="409" y="38"/>
                  </a:cubicBezTo>
                  <a:cubicBezTo>
                    <a:pt x="432" y="35"/>
                    <a:pt x="455" y="43"/>
                    <a:pt x="478" y="46"/>
                  </a:cubicBezTo>
                  <a:cubicBezTo>
                    <a:pt x="465" y="41"/>
                    <a:pt x="453" y="36"/>
                    <a:pt x="440" y="31"/>
                  </a:cubicBezTo>
                  <a:cubicBezTo>
                    <a:pt x="432" y="28"/>
                    <a:pt x="409" y="23"/>
                    <a:pt x="417" y="23"/>
                  </a:cubicBezTo>
                  <a:cubicBezTo>
                    <a:pt x="470" y="23"/>
                    <a:pt x="511" y="30"/>
                    <a:pt x="561" y="38"/>
                  </a:cubicBezTo>
                  <a:cubicBezTo>
                    <a:pt x="600" y="52"/>
                    <a:pt x="568" y="41"/>
                    <a:pt x="614" y="53"/>
                  </a:cubicBezTo>
                  <a:cubicBezTo>
                    <a:pt x="634" y="58"/>
                    <a:pt x="694" y="79"/>
                    <a:pt x="675" y="69"/>
                  </a:cubicBezTo>
                  <a:cubicBezTo>
                    <a:pt x="665" y="64"/>
                    <a:pt x="655" y="58"/>
                    <a:pt x="644" y="53"/>
                  </a:cubicBezTo>
                  <a:cubicBezTo>
                    <a:pt x="637" y="50"/>
                    <a:pt x="614" y="46"/>
                    <a:pt x="622" y="46"/>
                  </a:cubicBezTo>
                  <a:cubicBezTo>
                    <a:pt x="657" y="46"/>
                    <a:pt x="693" y="51"/>
                    <a:pt x="728" y="53"/>
                  </a:cubicBezTo>
                  <a:cubicBezTo>
                    <a:pt x="735" y="55"/>
                    <a:pt x="790" y="79"/>
                    <a:pt x="728" y="38"/>
                  </a:cubicBezTo>
                  <a:cubicBezTo>
                    <a:pt x="721" y="34"/>
                    <a:pt x="697" y="31"/>
                    <a:pt x="705" y="31"/>
                  </a:cubicBezTo>
                  <a:cubicBezTo>
                    <a:pt x="730" y="31"/>
                    <a:pt x="756" y="36"/>
                    <a:pt x="781" y="38"/>
                  </a:cubicBezTo>
                  <a:cubicBezTo>
                    <a:pt x="791" y="41"/>
                    <a:pt x="801" y="46"/>
                    <a:pt x="811" y="46"/>
                  </a:cubicBezTo>
                  <a:cubicBezTo>
                    <a:pt x="845" y="46"/>
                    <a:pt x="828" y="20"/>
                    <a:pt x="841" y="61"/>
                  </a:cubicBezTo>
                  <a:cubicBezTo>
                    <a:pt x="899" y="58"/>
                    <a:pt x="958" y="62"/>
                    <a:pt x="1016" y="53"/>
                  </a:cubicBezTo>
                  <a:cubicBezTo>
                    <a:pt x="1025" y="52"/>
                    <a:pt x="1022" y="33"/>
                    <a:pt x="1031" y="31"/>
                  </a:cubicBezTo>
                  <a:cubicBezTo>
                    <a:pt x="1083" y="20"/>
                    <a:pt x="1190" y="15"/>
                    <a:pt x="1190" y="15"/>
                  </a:cubicBezTo>
                  <a:cubicBezTo>
                    <a:pt x="1223" y="24"/>
                    <a:pt x="1256" y="28"/>
                    <a:pt x="1288" y="38"/>
                  </a:cubicBezTo>
                  <a:cubicBezTo>
                    <a:pt x="1322" y="6"/>
                    <a:pt x="1309" y="48"/>
                    <a:pt x="1342" y="15"/>
                  </a:cubicBezTo>
                  <a:cubicBezTo>
                    <a:pt x="1379" y="22"/>
                    <a:pt x="1413" y="42"/>
                    <a:pt x="1448" y="31"/>
                  </a:cubicBezTo>
                  <a:cubicBezTo>
                    <a:pt x="1493" y="38"/>
                    <a:pt x="1517" y="47"/>
                    <a:pt x="1561" y="38"/>
                  </a:cubicBezTo>
                  <a:cubicBezTo>
                    <a:pt x="1489" y="2"/>
                    <a:pt x="1569" y="34"/>
                    <a:pt x="1584" y="38"/>
                  </a:cubicBezTo>
                  <a:cubicBezTo>
                    <a:pt x="1584" y="38"/>
                    <a:pt x="1624" y="72"/>
                    <a:pt x="1630" y="46"/>
                  </a:cubicBezTo>
                  <a:cubicBezTo>
                    <a:pt x="1632" y="37"/>
                    <a:pt x="1605" y="27"/>
                    <a:pt x="1614" y="23"/>
                  </a:cubicBezTo>
                  <a:cubicBezTo>
                    <a:pt x="1618" y="21"/>
                    <a:pt x="1694" y="36"/>
                    <a:pt x="1705" y="38"/>
                  </a:cubicBezTo>
                  <a:cubicBezTo>
                    <a:pt x="1751" y="8"/>
                    <a:pt x="1719" y="23"/>
                    <a:pt x="1811" y="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846"/>
            <p:cNvSpPr/>
            <p:nvPr/>
          </p:nvSpPr>
          <p:spPr>
            <a:xfrm>
              <a:off x="6459480" y="4564080"/>
              <a:ext cx="2949480" cy="189000"/>
            </a:xfrm>
            <a:custGeom>
              <a:avLst/>
              <a:gdLst/>
              <a:ahLst/>
              <a:rect l="l" t="t" r="r" b="b"/>
              <a:pathLst>
                <a:path w="1858" h="119">
                  <a:moveTo>
                    <a:pt x="69" y="96"/>
                  </a:moveTo>
                  <a:cubicBezTo>
                    <a:pt x="59" y="88"/>
                    <a:pt x="50" y="79"/>
                    <a:pt x="39" y="73"/>
                  </a:cubicBezTo>
                  <a:cubicBezTo>
                    <a:pt x="17" y="61"/>
                    <a:pt x="0" y="72"/>
                    <a:pt x="39" y="58"/>
                  </a:cubicBezTo>
                  <a:cubicBezTo>
                    <a:pt x="103" y="69"/>
                    <a:pt x="163" y="82"/>
                    <a:pt x="228" y="88"/>
                  </a:cubicBezTo>
                  <a:cubicBezTo>
                    <a:pt x="286" y="108"/>
                    <a:pt x="228" y="90"/>
                    <a:pt x="228" y="81"/>
                  </a:cubicBezTo>
                  <a:cubicBezTo>
                    <a:pt x="228" y="73"/>
                    <a:pt x="243" y="76"/>
                    <a:pt x="251" y="73"/>
                  </a:cubicBezTo>
                  <a:cubicBezTo>
                    <a:pt x="341" y="104"/>
                    <a:pt x="168" y="47"/>
                    <a:pt x="440" y="88"/>
                  </a:cubicBezTo>
                  <a:cubicBezTo>
                    <a:pt x="447" y="89"/>
                    <a:pt x="418" y="102"/>
                    <a:pt x="425" y="104"/>
                  </a:cubicBezTo>
                  <a:cubicBezTo>
                    <a:pt x="440" y="108"/>
                    <a:pt x="456" y="99"/>
                    <a:pt x="471" y="96"/>
                  </a:cubicBezTo>
                  <a:cubicBezTo>
                    <a:pt x="481" y="89"/>
                    <a:pt x="562" y="60"/>
                    <a:pt x="501" y="81"/>
                  </a:cubicBezTo>
                  <a:cubicBezTo>
                    <a:pt x="493" y="89"/>
                    <a:pt x="478" y="93"/>
                    <a:pt x="478" y="104"/>
                  </a:cubicBezTo>
                  <a:cubicBezTo>
                    <a:pt x="478" y="112"/>
                    <a:pt x="493" y="113"/>
                    <a:pt x="501" y="111"/>
                  </a:cubicBezTo>
                  <a:cubicBezTo>
                    <a:pt x="528" y="105"/>
                    <a:pt x="552" y="91"/>
                    <a:pt x="577" y="81"/>
                  </a:cubicBezTo>
                  <a:cubicBezTo>
                    <a:pt x="586" y="78"/>
                    <a:pt x="592" y="70"/>
                    <a:pt x="600" y="66"/>
                  </a:cubicBezTo>
                  <a:cubicBezTo>
                    <a:pt x="609" y="62"/>
                    <a:pt x="638" y="51"/>
                    <a:pt x="630" y="58"/>
                  </a:cubicBezTo>
                  <a:cubicBezTo>
                    <a:pt x="620" y="67"/>
                    <a:pt x="605" y="68"/>
                    <a:pt x="592" y="73"/>
                  </a:cubicBezTo>
                  <a:cubicBezTo>
                    <a:pt x="646" y="100"/>
                    <a:pt x="652" y="66"/>
                    <a:pt x="706" y="66"/>
                  </a:cubicBezTo>
                  <a:cubicBezTo>
                    <a:pt x="714" y="66"/>
                    <a:pt x="675" y="73"/>
                    <a:pt x="683" y="73"/>
                  </a:cubicBezTo>
                  <a:cubicBezTo>
                    <a:pt x="711" y="73"/>
                    <a:pt x="738" y="68"/>
                    <a:pt x="766" y="66"/>
                  </a:cubicBezTo>
                  <a:cubicBezTo>
                    <a:pt x="776" y="63"/>
                    <a:pt x="808" y="58"/>
                    <a:pt x="797" y="58"/>
                  </a:cubicBezTo>
                  <a:cubicBezTo>
                    <a:pt x="784" y="58"/>
                    <a:pt x="768" y="57"/>
                    <a:pt x="759" y="66"/>
                  </a:cubicBezTo>
                  <a:cubicBezTo>
                    <a:pt x="753" y="72"/>
                    <a:pt x="774" y="71"/>
                    <a:pt x="782" y="73"/>
                  </a:cubicBezTo>
                  <a:cubicBezTo>
                    <a:pt x="797" y="76"/>
                    <a:pt x="812" y="78"/>
                    <a:pt x="827" y="81"/>
                  </a:cubicBezTo>
                  <a:cubicBezTo>
                    <a:pt x="835" y="83"/>
                    <a:pt x="842" y="86"/>
                    <a:pt x="850" y="88"/>
                  </a:cubicBezTo>
                  <a:cubicBezTo>
                    <a:pt x="883" y="83"/>
                    <a:pt x="915" y="70"/>
                    <a:pt x="948" y="73"/>
                  </a:cubicBezTo>
                  <a:cubicBezTo>
                    <a:pt x="957" y="74"/>
                    <a:pt x="931" y="87"/>
                    <a:pt x="933" y="96"/>
                  </a:cubicBezTo>
                  <a:cubicBezTo>
                    <a:pt x="935" y="105"/>
                    <a:pt x="948" y="106"/>
                    <a:pt x="956" y="111"/>
                  </a:cubicBezTo>
                  <a:cubicBezTo>
                    <a:pt x="1015" y="103"/>
                    <a:pt x="1073" y="83"/>
                    <a:pt x="1130" y="66"/>
                  </a:cubicBezTo>
                  <a:cubicBezTo>
                    <a:pt x="1100" y="95"/>
                    <a:pt x="1075" y="93"/>
                    <a:pt x="1115" y="119"/>
                  </a:cubicBezTo>
                  <a:cubicBezTo>
                    <a:pt x="1128" y="114"/>
                    <a:pt x="1141" y="111"/>
                    <a:pt x="1153" y="104"/>
                  </a:cubicBezTo>
                  <a:cubicBezTo>
                    <a:pt x="1159" y="100"/>
                    <a:pt x="1173" y="93"/>
                    <a:pt x="1168" y="88"/>
                  </a:cubicBezTo>
                  <a:cubicBezTo>
                    <a:pt x="1162" y="82"/>
                    <a:pt x="1153" y="93"/>
                    <a:pt x="1145" y="96"/>
                  </a:cubicBezTo>
                  <a:cubicBezTo>
                    <a:pt x="1155" y="99"/>
                    <a:pt x="1165" y="106"/>
                    <a:pt x="1176" y="104"/>
                  </a:cubicBezTo>
                  <a:cubicBezTo>
                    <a:pt x="1185" y="103"/>
                    <a:pt x="1190" y="93"/>
                    <a:pt x="1198" y="88"/>
                  </a:cubicBezTo>
                  <a:cubicBezTo>
                    <a:pt x="1230" y="69"/>
                    <a:pt x="1283" y="50"/>
                    <a:pt x="1320" y="50"/>
                  </a:cubicBezTo>
                  <a:cubicBezTo>
                    <a:pt x="1328" y="50"/>
                    <a:pt x="1289" y="58"/>
                    <a:pt x="1297" y="58"/>
                  </a:cubicBezTo>
                  <a:cubicBezTo>
                    <a:pt x="1326" y="58"/>
                    <a:pt x="1367" y="41"/>
                    <a:pt x="1395" y="35"/>
                  </a:cubicBezTo>
                  <a:cubicBezTo>
                    <a:pt x="1406" y="30"/>
                    <a:pt x="1460" y="0"/>
                    <a:pt x="1471" y="13"/>
                  </a:cubicBezTo>
                  <a:cubicBezTo>
                    <a:pt x="1480" y="23"/>
                    <a:pt x="1446" y="25"/>
                    <a:pt x="1433" y="28"/>
                  </a:cubicBezTo>
                  <a:cubicBezTo>
                    <a:pt x="1418" y="32"/>
                    <a:pt x="1403" y="33"/>
                    <a:pt x="1388" y="35"/>
                  </a:cubicBezTo>
                  <a:cubicBezTo>
                    <a:pt x="1510" y="44"/>
                    <a:pt x="1474" y="40"/>
                    <a:pt x="1547" y="66"/>
                  </a:cubicBezTo>
                  <a:cubicBezTo>
                    <a:pt x="1583" y="54"/>
                    <a:pt x="1639" y="76"/>
                    <a:pt x="1676" y="81"/>
                  </a:cubicBezTo>
                  <a:cubicBezTo>
                    <a:pt x="1636" y="55"/>
                    <a:pt x="1648" y="70"/>
                    <a:pt x="1706" y="58"/>
                  </a:cubicBezTo>
                  <a:cubicBezTo>
                    <a:pt x="1714" y="56"/>
                    <a:pt x="1721" y="50"/>
                    <a:pt x="1729" y="50"/>
                  </a:cubicBezTo>
                  <a:cubicBezTo>
                    <a:pt x="1772" y="48"/>
                    <a:pt x="1815" y="50"/>
                    <a:pt x="1858" y="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847"/>
            <p:cNvSpPr/>
            <p:nvPr/>
          </p:nvSpPr>
          <p:spPr>
            <a:xfrm>
              <a:off x="6051600" y="4851360"/>
              <a:ext cx="1334880" cy="554040"/>
            </a:xfrm>
            <a:custGeom>
              <a:avLst/>
              <a:gdLst/>
              <a:ahLst/>
              <a:rect l="l" t="t" r="r" b="b"/>
              <a:pathLst>
                <a:path w="841" h="349">
                  <a:moveTo>
                    <a:pt x="46" y="157"/>
                  </a:moveTo>
                  <a:cubicBezTo>
                    <a:pt x="6" y="98"/>
                    <a:pt x="88" y="150"/>
                    <a:pt x="106" y="157"/>
                  </a:cubicBezTo>
                  <a:cubicBezTo>
                    <a:pt x="101" y="150"/>
                    <a:pt x="86" y="142"/>
                    <a:pt x="91" y="135"/>
                  </a:cubicBezTo>
                  <a:cubicBezTo>
                    <a:pt x="112" y="108"/>
                    <a:pt x="137" y="132"/>
                    <a:pt x="152" y="142"/>
                  </a:cubicBezTo>
                  <a:cubicBezTo>
                    <a:pt x="163" y="107"/>
                    <a:pt x="176" y="108"/>
                    <a:pt x="205" y="127"/>
                  </a:cubicBezTo>
                  <a:cubicBezTo>
                    <a:pt x="167" y="69"/>
                    <a:pt x="203" y="137"/>
                    <a:pt x="228" y="112"/>
                  </a:cubicBezTo>
                  <a:cubicBezTo>
                    <a:pt x="236" y="104"/>
                    <a:pt x="217" y="92"/>
                    <a:pt x="212" y="82"/>
                  </a:cubicBezTo>
                  <a:cubicBezTo>
                    <a:pt x="250" y="69"/>
                    <a:pt x="288" y="99"/>
                    <a:pt x="326" y="112"/>
                  </a:cubicBezTo>
                  <a:cubicBezTo>
                    <a:pt x="304" y="40"/>
                    <a:pt x="433" y="80"/>
                    <a:pt x="463" y="82"/>
                  </a:cubicBezTo>
                  <a:cubicBezTo>
                    <a:pt x="496" y="70"/>
                    <a:pt x="489" y="79"/>
                    <a:pt x="463" y="59"/>
                  </a:cubicBezTo>
                  <a:cubicBezTo>
                    <a:pt x="389" y="0"/>
                    <a:pt x="546" y="48"/>
                    <a:pt x="637" y="51"/>
                  </a:cubicBezTo>
                  <a:cubicBezTo>
                    <a:pt x="662" y="54"/>
                    <a:pt x="688" y="59"/>
                    <a:pt x="713" y="59"/>
                  </a:cubicBezTo>
                  <a:cubicBezTo>
                    <a:pt x="726" y="59"/>
                    <a:pt x="662" y="51"/>
                    <a:pt x="675" y="51"/>
                  </a:cubicBezTo>
                  <a:cubicBezTo>
                    <a:pt x="700" y="51"/>
                    <a:pt x="726" y="56"/>
                    <a:pt x="751" y="59"/>
                  </a:cubicBezTo>
                  <a:cubicBezTo>
                    <a:pt x="808" y="80"/>
                    <a:pt x="740" y="51"/>
                    <a:pt x="728" y="74"/>
                  </a:cubicBezTo>
                  <a:cubicBezTo>
                    <a:pt x="719" y="91"/>
                    <a:pt x="805" y="110"/>
                    <a:pt x="811" y="112"/>
                  </a:cubicBezTo>
                  <a:cubicBezTo>
                    <a:pt x="801" y="120"/>
                    <a:pt x="792" y="129"/>
                    <a:pt x="781" y="135"/>
                  </a:cubicBezTo>
                  <a:cubicBezTo>
                    <a:pt x="769" y="142"/>
                    <a:pt x="743" y="136"/>
                    <a:pt x="743" y="150"/>
                  </a:cubicBezTo>
                  <a:cubicBezTo>
                    <a:pt x="743" y="163"/>
                    <a:pt x="768" y="154"/>
                    <a:pt x="781" y="157"/>
                  </a:cubicBezTo>
                  <a:cubicBezTo>
                    <a:pt x="791" y="159"/>
                    <a:pt x="801" y="162"/>
                    <a:pt x="811" y="165"/>
                  </a:cubicBezTo>
                  <a:cubicBezTo>
                    <a:pt x="801" y="170"/>
                    <a:pt x="784" y="169"/>
                    <a:pt x="781" y="180"/>
                  </a:cubicBezTo>
                  <a:cubicBezTo>
                    <a:pt x="779" y="188"/>
                    <a:pt x="796" y="186"/>
                    <a:pt x="804" y="188"/>
                  </a:cubicBezTo>
                  <a:cubicBezTo>
                    <a:pt x="816" y="191"/>
                    <a:pt x="829" y="193"/>
                    <a:pt x="841" y="195"/>
                  </a:cubicBezTo>
                  <a:cubicBezTo>
                    <a:pt x="791" y="213"/>
                    <a:pt x="632" y="200"/>
                    <a:pt x="766" y="218"/>
                  </a:cubicBezTo>
                  <a:cubicBezTo>
                    <a:pt x="781" y="223"/>
                    <a:pt x="822" y="222"/>
                    <a:pt x="811" y="233"/>
                  </a:cubicBezTo>
                  <a:cubicBezTo>
                    <a:pt x="802" y="242"/>
                    <a:pt x="786" y="240"/>
                    <a:pt x="773" y="241"/>
                  </a:cubicBezTo>
                  <a:cubicBezTo>
                    <a:pt x="692" y="245"/>
                    <a:pt x="612" y="246"/>
                    <a:pt x="531" y="248"/>
                  </a:cubicBezTo>
                  <a:cubicBezTo>
                    <a:pt x="490" y="246"/>
                    <a:pt x="450" y="245"/>
                    <a:pt x="409" y="241"/>
                  </a:cubicBezTo>
                  <a:cubicBezTo>
                    <a:pt x="399" y="240"/>
                    <a:pt x="383" y="224"/>
                    <a:pt x="379" y="233"/>
                  </a:cubicBezTo>
                  <a:cubicBezTo>
                    <a:pt x="374" y="243"/>
                    <a:pt x="394" y="248"/>
                    <a:pt x="402" y="256"/>
                  </a:cubicBezTo>
                  <a:cubicBezTo>
                    <a:pt x="357" y="286"/>
                    <a:pt x="306" y="247"/>
                    <a:pt x="258" y="233"/>
                  </a:cubicBezTo>
                  <a:cubicBezTo>
                    <a:pt x="122" y="244"/>
                    <a:pt x="157" y="219"/>
                    <a:pt x="190" y="286"/>
                  </a:cubicBezTo>
                  <a:cubicBezTo>
                    <a:pt x="154" y="299"/>
                    <a:pt x="120" y="290"/>
                    <a:pt x="84" y="279"/>
                  </a:cubicBezTo>
                  <a:cubicBezTo>
                    <a:pt x="86" y="286"/>
                    <a:pt x="98" y="299"/>
                    <a:pt x="91" y="301"/>
                  </a:cubicBezTo>
                  <a:cubicBezTo>
                    <a:pt x="50" y="314"/>
                    <a:pt x="42" y="286"/>
                    <a:pt x="8" y="286"/>
                  </a:cubicBezTo>
                  <a:cubicBezTo>
                    <a:pt x="0" y="286"/>
                    <a:pt x="23" y="292"/>
                    <a:pt x="31" y="294"/>
                  </a:cubicBezTo>
                  <a:cubicBezTo>
                    <a:pt x="41" y="297"/>
                    <a:pt x="51" y="298"/>
                    <a:pt x="61" y="301"/>
                  </a:cubicBezTo>
                  <a:cubicBezTo>
                    <a:pt x="69" y="303"/>
                    <a:pt x="76" y="306"/>
                    <a:pt x="84" y="309"/>
                  </a:cubicBezTo>
                  <a:cubicBezTo>
                    <a:pt x="107" y="306"/>
                    <a:pt x="129" y="301"/>
                    <a:pt x="152" y="301"/>
                  </a:cubicBezTo>
                  <a:cubicBezTo>
                    <a:pt x="284" y="301"/>
                    <a:pt x="259" y="349"/>
                    <a:pt x="281" y="286"/>
                  </a:cubicBezTo>
                  <a:cubicBezTo>
                    <a:pt x="328" y="303"/>
                    <a:pt x="377" y="315"/>
                    <a:pt x="425" y="332"/>
                  </a:cubicBezTo>
                  <a:cubicBezTo>
                    <a:pt x="376" y="262"/>
                    <a:pt x="487" y="324"/>
                    <a:pt x="508" y="332"/>
                  </a:cubicBezTo>
                  <a:cubicBezTo>
                    <a:pt x="521" y="329"/>
                    <a:pt x="543" y="337"/>
                    <a:pt x="546" y="324"/>
                  </a:cubicBezTo>
                  <a:cubicBezTo>
                    <a:pt x="549" y="310"/>
                    <a:pt x="527" y="303"/>
                    <a:pt x="516" y="294"/>
                  </a:cubicBezTo>
                  <a:cubicBezTo>
                    <a:pt x="509" y="288"/>
                    <a:pt x="484" y="279"/>
                    <a:pt x="493" y="279"/>
                  </a:cubicBezTo>
                  <a:cubicBezTo>
                    <a:pt x="516" y="279"/>
                    <a:pt x="561" y="294"/>
                    <a:pt x="561" y="294"/>
                  </a:cubicBezTo>
                  <a:cubicBezTo>
                    <a:pt x="604" y="316"/>
                    <a:pt x="651" y="320"/>
                    <a:pt x="697" y="332"/>
                  </a:cubicBezTo>
                  <a:cubicBezTo>
                    <a:pt x="687" y="324"/>
                    <a:pt x="678" y="315"/>
                    <a:pt x="667" y="309"/>
                  </a:cubicBezTo>
                  <a:cubicBezTo>
                    <a:pt x="660" y="305"/>
                    <a:pt x="636" y="301"/>
                    <a:pt x="644" y="301"/>
                  </a:cubicBezTo>
                  <a:cubicBezTo>
                    <a:pt x="660" y="301"/>
                    <a:pt x="675" y="305"/>
                    <a:pt x="690" y="309"/>
                  </a:cubicBezTo>
                  <a:cubicBezTo>
                    <a:pt x="697" y="311"/>
                    <a:pt x="794" y="337"/>
                    <a:pt x="796" y="339"/>
                  </a:cubicBezTo>
                  <a:cubicBezTo>
                    <a:pt x="800" y="342"/>
                    <a:pt x="786" y="339"/>
                    <a:pt x="781" y="33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48"/>
            <p:cNvSpPr/>
            <p:nvPr/>
          </p:nvSpPr>
          <p:spPr>
            <a:xfrm>
              <a:off x="5583240" y="5113440"/>
              <a:ext cx="1106640" cy="360360"/>
            </a:xfrm>
            <a:custGeom>
              <a:avLst/>
              <a:gdLst/>
              <a:ahLst/>
              <a:rect l="l" t="t" r="r" b="b"/>
              <a:pathLst>
                <a:path w="697" h="227">
                  <a:moveTo>
                    <a:pt x="0" y="38"/>
                  </a:moveTo>
                  <a:cubicBezTo>
                    <a:pt x="44" y="26"/>
                    <a:pt x="38" y="24"/>
                    <a:pt x="98" y="38"/>
                  </a:cubicBezTo>
                  <a:cubicBezTo>
                    <a:pt x="109" y="41"/>
                    <a:pt x="117" y="53"/>
                    <a:pt x="128" y="53"/>
                  </a:cubicBezTo>
                  <a:cubicBezTo>
                    <a:pt x="137" y="53"/>
                    <a:pt x="114" y="42"/>
                    <a:pt x="106" y="38"/>
                  </a:cubicBezTo>
                  <a:cubicBezTo>
                    <a:pt x="90" y="29"/>
                    <a:pt x="53" y="15"/>
                    <a:pt x="53" y="8"/>
                  </a:cubicBezTo>
                  <a:cubicBezTo>
                    <a:pt x="53" y="0"/>
                    <a:pt x="68" y="13"/>
                    <a:pt x="75" y="15"/>
                  </a:cubicBezTo>
                  <a:cubicBezTo>
                    <a:pt x="85" y="18"/>
                    <a:pt x="96" y="20"/>
                    <a:pt x="106" y="23"/>
                  </a:cubicBezTo>
                  <a:cubicBezTo>
                    <a:pt x="162" y="60"/>
                    <a:pt x="133" y="49"/>
                    <a:pt x="189" y="61"/>
                  </a:cubicBezTo>
                  <a:cubicBezTo>
                    <a:pt x="213" y="78"/>
                    <a:pt x="233" y="98"/>
                    <a:pt x="257" y="114"/>
                  </a:cubicBezTo>
                  <a:cubicBezTo>
                    <a:pt x="252" y="106"/>
                    <a:pt x="234" y="96"/>
                    <a:pt x="242" y="91"/>
                  </a:cubicBezTo>
                  <a:cubicBezTo>
                    <a:pt x="253" y="84"/>
                    <a:pt x="268" y="94"/>
                    <a:pt x="280" y="99"/>
                  </a:cubicBezTo>
                  <a:cubicBezTo>
                    <a:pt x="389" y="148"/>
                    <a:pt x="282" y="108"/>
                    <a:pt x="348" y="152"/>
                  </a:cubicBezTo>
                  <a:cubicBezTo>
                    <a:pt x="368" y="165"/>
                    <a:pt x="401" y="174"/>
                    <a:pt x="424" y="182"/>
                  </a:cubicBezTo>
                  <a:cubicBezTo>
                    <a:pt x="456" y="171"/>
                    <a:pt x="465" y="179"/>
                    <a:pt x="492" y="197"/>
                  </a:cubicBezTo>
                  <a:cubicBezTo>
                    <a:pt x="529" y="173"/>
                    <a:pt x="502" y="182"/>
                    <a:pt x="553" y="197"/>
                  </a:cubicBezTo>
                  <a:cubicBezTo>
                    <a:pt x="600" y="211"/>
                    <a:pt x="648" y="227"/>
                    <a:pt x="697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849"/>
            <p:cNvSpPr/>
            <p:nvPr/>
          </p:nvSpPr>
          <p:spPr>
            <a:xfrm>
              <a:off x="6700680" y="4749840"/>
              <a:ext cx="1962360" cy="209520"/>
            </a:xfrm>
            <a:custGeom>
              <a:avLst/>
              <a:gdLst/>
              <a:ahLst/>
              <a:rect l="l" t="t" r="r" b="b"/>
              <a:pathLst>
                <a:path w="1236" h="132">
                  <a:moveTo>
                    <a:pt x="0" y="40"/>
                  </a:moveTo>
                  <a:cubicBezTo>
                    <a:pt x="43" y="45"/>
                    <a:pt x="79" y="63"/>
                    <a:pt x="114" y="40"/>
                  </a:cubicBezTo>
                  <a:cubicBezTo>
                    <a:pt x="134" y="42"/>
                    <a:pt x="155" y="43"/>
                    <a:pt x="175" y="47"/>
                  </a:cubicBezTo>
                  <a:cubicBezTo>
                    <a:pt x="183" y="48"/>
                    <a:pt x="192" y="61"/>
                    <a:pt x="198" y="55"/>
                  </a:cubicBezTo>
                  <a:cubicBezTo>
                    <a:pt x="203" y="50"/>
                    <a:pt x="187" y="45"/>
                    <a:pt x="182" y="40"/>
                  </a:cubicBezTo>
                  <a:cubicBezTo>
                    <a:pt x="195" y="37"/>
                    <a:pt x="207" y="31"/>
                    <a:pt x="220" y="32"/>
                  </a:cubicBezTo>
                  <a:cubicBezTo>
                    <a:pt x="229" y="33"/>
                    <a:pt x="235" y="43"/>
                    <a:pt x="243" y="47"/>
                  </a:cubicBezTo>
                  <a:cubicBezTo>
                    <a:pt x="267" y="59"/>
                    <a:pt x="294" y="63"/>
                    <a:pt x="319" y="70"/>
                  </a:cubicBezTo>
                  <a:cubicBezTo>
                    <a:pt x="329" y="67"/>
                    <a:pt x="346" y="72"/>
                    <a:pt x="349" y="62"/>
                  </a:cubicBezTo>
                  <a:cubicBezTo>
                    <a:pt x="352" y="53"/>
                    <a:pt x="323" y="56"/>
                    <a:pt x="326" y="47"/>
                  </a:cubicBezTo>
                  <a:cubicBezTo>
                    <a:pt x="330" y="37"/>
                    <a:pt x="347" y="42"/>
                    <a:pt x="357" y="40"/>
                  </a:cubicBezTo>
                  <a:cubicBezTo>
                    <a:pt x="414" y="59"/>
                    <a:pt x="386" y="52"/>
                    <a:pt x="440" y="62"/>
                  </a:cubicBezTo>
                  <a:cubicBezTo>
                    <a:pt x="425" y="41"/>
                    <a:pt x="405" y="25"/>
                    <a:pt x="463" y="32"/>
                  </a:cubicBezTo>
                  <a:cubicBezTo>
                    <a:pt x="472" y="33"/>
                    <a:pt x="478" y="43"/>
                    <a:pt x="486" y="47"/>
                  </a:cubicBezTo>
                  <a:cubicBezTo>
                    <a:pt x="501" y="55"/>
                    <a:pt x="523" y="58"/>
                    <a:pt x="539" y="62"/>
                  </a:cubicBezTo>
                  <a:cubicBezTo>
                    <a:pt x="534" y="52"/>
                    <a:pt x="523" y="43"/>
                    <a:pt x="523" y="32"/>
                  </a:cubicBezTo>
                  <a:cubicBezTo>
                    <a:pt x="523" y="0"/>
                    <a:pt x="589" y="29"/>
                    <a:pt x="599" y="32"/>
                  </a:cubicBezTo>
                  <a:cubicBezTo>
                    <a:pt x="624" y="48"/>
                    <a:pt x="649" y="57"/>
                    <a:pt x="675" y="70"/>
                  </a:cubicBezTo>
                  <a:cubicBezTo>
                    <a:pt x="647" y="26"/>
                    <a:pt x="601" y="27"/>
                    <a:pt x="690" y="40"/>
                  </a:cubicBezTo>
                  <a:cubicBezTo>
                    <a:pt x="725" y="63"/>
                    <a:pt x="765" y="71"/>
                    <a:pt x="804" y="85"/>
                  </a:cubicBezTo>
                  <a:cubicBezTo>
                    <a:pt x="809" y="77"/>
                    <a:pt x="828" y="65"/>
                    <a:pt x="819" y="62"/>
                  </a:cubicBezTo>
                  <a:cubicBezTo>
                    <a:pt x="793" y="54"/>
                    <a:pt x="733" y="78"/>
                    <a:pt x="705" y="85"/>
                  </a:cubicBezTo>
                  <a:cubicBezTo>
                    <a:pt x="803" y="132"/>
                    <a:pt x="639" y="60"/>
                    <a:pt x="796" y="93"/>
                  </a:cubicBezTo>
                  <a:cubicBezTo>
                    <a:pt x="805" y="95"/>
                    <a:pt x="766" y="112"/>
                    <a:pt x="774" y="108"/>
                  </a:cubicBezTo>
                  <a:cubicBezTo>
                    <a:pt x="810" y="92"/>
                    <a:pt x="843" y="69"/>
                    <a:pt x="880" y="55"/>
                  </a:cubicBezTo>
                  <a:cubicBezTo>
                    <a:pt x="900" y="47"/>
                    <a:pt x="920" y="40"/>
                    <a:pt x="940" y="32"/>
                  </a:cubicBezTo>
                  <a:cubicBezTo>
                    <a:pt x="947" y="29"/>
                    <a:pt x="925" y="36"/>
                    <a:pt x="918" y="40"/>
                  </a:cubicBezTo>
                  <a:cubicBezTo>
                    <a:pt x="905" y="47"/>
                    <a:pt x="892" y="54"/>
                    <a:pt x="880" y="62"/>
                  </a:cubicBezTo>
                  <a:cubicBezTo>
                    <a:pt x="858" y="77"/>
                    <a:pt x="814" y="108"/>
                    <a:pt x="880" y="93"/>
                  </a:cubicBezTo>
                  <a:cubicBezTo>
                    <a:pt x="900" y="83"/>
                    <a:pt x="920" y="72"/>
                    <a:pt x="940" y="62"/>
                  </a:cubicBezTo>
                  <a:cubicBezTo>
                    <a:pt x="950" y="57"/>
                    <a:pt x="971" y="47"/>
                    <a:pt x="971" y="47"/>
                  </a:cubicBezTo>
                  <a:cubicBezTo>
                    <a:pt x="999" y="50"/>
                    <a:pt x="1029" y="43"/>
                    <a:pt x="1054" y="55"/>
                  </a:cubicBezTo>
                  <a:cubicBezTo>
                    <a:pt x="1063" y="60"/>
                    <a:pt x="1033" y="67"/>
                    <a:pt x="1031" y="77"/>
                  </a:cubicBezTo>
                  <a:cubicBezTo>
                    <a:pt x="1029" y="84"/>
                    <a:pt x="1051" y="87"/>
                    <a:pt x="1046" y="93"/>
                  </a:cubicBezTo>
                  <a:cubicBezTo>
                    <a:pt x="1041" y="99"/>
                    <a:pt x="1016" y="85"/>
                    <a:pt x="1024" y="85"/>
                  </a:cubicBezTo>
                  <a:cubicBezTo>
                    <a:pt x="1047" y="85"/>
                    <a:pt x="1069" y="90"/>
                    <a:pt x="1092" y="93"/>
                  </a:cubicBezTo>
                  <a:cubicBezTo>
                    <a:pt x="1120" y="102"/>
                    <a:pt x="1153" y="132"/>
                    <a:pt x="1122" y="85"/>
                  </a:cubicBezTo>
                  <a:cubicBezTo>
                    <a:pt x="1130" y="82"/>
                    <a:pt x="1137" y="76"/>
                    <a:pt x="1145" y="77"/>
                  </a:cubicBezTo>
                  <a:cubicBezTo>
                    <a:pt x="1156" y="79"/>
                    <a:pt x="1189" y="114"/>
                    <a:pt x="1152" y="77"/>
                  </a:cubicBezTo>
                  <a:cubicBezTo>
                    <a:pt x="1217" y="34"/>
                    <a:pt x="1135" y="80"/>
                    <a:pt x="1198" y="70"/>
                  </a:cubicBezTo>
                  <a:cubicBezTo>
                    <a:pt x="1207" y="69"/>
                    <a:pt x="1212" y="58"/>
                    <a:pt x="1221" y="55"/>
                  </a:cubicBezTo>
                  <a:cubicBezTo>
                    <a:pt x="1226" y="53"/>
                    <a:pt x="1231" y="55"/>
                    <a:pt x="1236" y="5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850"/>
            <p:cNvSpPr/>
            <p:nvPr/>
          </p:nvSpPr>
          <p:spPr>
            <a:xfrm>
              <a:off x="7554960" y="4964040"/>
              <a:ext cx="1757160" cy="546120"/>
            </a:xfrm>
            <a:custGeom>
              <a:avLst/>
              <a:gdLst/>
              <a:ahLst/>
              <a:rect l="l" t="t" r="r" b="b"/>
              <a:pathLst>
                <a:path w="1107" h="344">
                  <a:moveTo>
                    <a:pt x="167" y="344"/>
                  </a:moveTo>
                  <a:cubicBezTo>
                    <a:pt x="117" y="332"/>
                    <a:pt x="147" y="340"/>
                    <a:pt x="76" y="321"/>
                  </a:cubicBezTo>
                  <a:cubicBezTo>
                    <a:pt x="61" y="317"/>
                    <a:pt x="46" y="311"/>
                    <a:pt x="31" y="306"/>
                  </a:cubicBezTo>
                  <a:cubicBezTo>
                    <a:pt x="23" y="304"/>
                    <a:pt x="0" y="299"/>
                    <a:pt x="8" y="299"/>
                  </a:cubicBezTo>
                  <a:cubicBezTo>
                    <a:pt x="51" y="299"/>
                    <a:pt x="94" y="304"/>
                    <a:pt x="137" y="306"/>
                  </a:cubicBezTo>
                  <a:cubicBezTo>
                    <a:pt x="173" y="318"/>
                    <a:pt x="200" y="336"/>
                    <a:pt x="236" y="344"/>
                  </a:cubicBezTo>
                  <a:cubicBezTo>
                    <a:pt x="216" y="325"/>
                    <a:pt x="187" y="307"/>
                    <a:pt x="160" y="299"/>
                  </a:cubicBezTo>
                  <a:cubicBezTo>
                    <a:pt x="167" y="296"/>
                    <a:pt x="174" y="291"/>
                    <a:pt x="182" y="291"/>
                  </a:cubicBezTo>
                  <a:cubicBezTo>
                    <a:pt x="207" y="291"/>
                    <a:pt x="233" y="303"/>
                    <a:pt x="258" y="299"/>
                  </a:cubicBezTo>
                  <a:cubicBezTo>
                    <a:pt x="274" y="296"/>
                    <a:pt x="277" y="272"/>
                    <a:pt x="289" y="261"/>
                  </a:cubicBezTo>
                  <a:cubicBezTo>
                    <a:pt x="299" y="263"/>
                    <a:pt x="309" y="265"/>
                    <a:pt x="319" y="268"/>
                  </a:cubicBezTo>
                  <a:cubicBezTo>
                    <a:pt x="327" y="270"/>
                    <a:pt x="335" y="281"/>
                    <a:pt x="342" y="276"/>
                  </a:cubicBezTo>
                  <a:cubicBezTo>
                    <a:pt x="357" y="265"/>
                    <a:pt x="344" y="236"/>
                    <a:pt x="357" y="223"/>
                  </a:cubicBezTo>
                  <a:cubicBezTo>
                    <a:pt x="372" y="208"/>
                    <a:pt x="407" y="204"/>
                    <a:pt x="425" y="200"/>
                  </a:cubicBezTo>
                  <a:cubicBezTo>
                    <a:pt x="460" y="203"/>
                    <a:pt x="498" y="195"/>
                    <a:pt x="531" y="208"/>
                  </a:cubicBezTo>
                  <a:cubicBezTo>
                    <a:pt x="543" y="213"/>
                    <a:pt x="512" y="225"/>
                    <a:pt x="501" y="230"/>
                  </a:cubicBezTo>
                  <a:cubicBezTo>
                    <a:pt x="376" y="287"/>
                    <a:pt x="471" y="228"/>
                    <a:pt x="410" y="268"/>
                  </a:cubicBezTo>
                  <a:cubicBezTo>
                    <a:pt x="512" y="311"/>
                    <a:pt x="374" y="258"/>
                    <a:pt x="607" y="291"/>
                  </a:cubicBezTo>
                  <a:cubicBezTo>
                    <a:pt x="625" y="294"/>
                    <a:pt x="536" y="299"/>
                    <a:pt x="554" y="299"/>
                  </a:cubicBezTo>
                  <a:cubicBezTo>
                    <a:pt x="637" y="299"/>
                    <a:pt x="721" y="294"/>
                    <a:pt x="804" y="291"/>
                  </a:cubicBezTo>
                  <a:cubicBezTo>
                    <a:pt x="779" y="218"/>
                    <a:pt x="809" y="330"/>
                    <a:pt x="834" y="261"/>
                  </a:cubicBezTo>
                  <a:cubicBezTo>
                    <a:pt x="838" y="250"/>
                    <a:pt x="814" y="250"/>
                    <a:pt x="804" y="246"/>
                  </a:cubicBezTo>
                  <a:cubicBezTo>
                    <a:pt x="782" y="237"/>
                    <a:pt x="736" y="223"/>
                    <a:pt x="736" y="223"/>
                  </a:cubicBezTo>
                  <a:cubicBezTo>
                    <a:pt x="743" y="228"/>
                    <a:pt x="767" y="237"/>
                    <a:pt x="758" y="238"/>
                  </a:cubicBezTo>
                  <a:cubicBezTo>
                    <a:pt x="648" y="255"/>
                    <a:pt x="730" y="219"/>
                    <a:pt x="645" y="215"/>
                  </a:cubicBezTo>
                  <a:cubicBezTo>
                    <a:pt x="592" y="213"/>
                    <a:pt x="539" y="210"/>
                    <a:pt x="486" y="208"/>
                  </a:cubicBezTo>
                  <a:cubicBezTo>
                    <a:pt x="598" y="198"/>
                    <a:pt x="699" y="202"/>
                    <a:pt x="440" y="177"/>
                  </a:cubicBezTo>
                  <a:cubicBezTo>
                    <a:pt x="195" y="154"/>
                    <a:pt x="356" y="172"/>
                    <a:pt x="152" y="147"/>
                  </a:cubicBezTo>
                  <a:cubicBezTo>
                    <a:pt x="137" y="150"/>
                    <a:pt x="116" y="143"/>
                    <a:pt x="107" y="155"/>
                  </a:cubicBezTo>
                  <a:cubicBezTo>
                    <a:pt x="101" y="163"/>
                    <a:pt x="129" y="167"/>
                    <a:pt x="129" y="177"/>
                  </a:cubicBezTo>
                  <a:cubicBezTo>
                    <a:pt x="129" y="185"/>
                    <a:pt x="114" y="182"/>
                    <a:pt x="107" y="185"/>
                  </a:cubicBezTo>
                  <a:cubicBezTo>
                    <a:pt x="92" y="182"/>
                    <a:pt x="61" y="193"/>
                    <a:pt x="61" y="177"/>
                  </a:cubicBezTo>
                  <a:cubicBezTo>
                    <a:pt x="61" y="161"/>
                    <a:pt x="92" y="172"/>
                    <a:pt x="107" y="170"/>
                  </a:cubicBezTo>
                  <a:cubicBezTo>
                    <a:pt x="142" y="167"/>
                    <a:pt x="178" y="165"/>
                    <a:pt x="213" y="162"/>
                  </a:cubicBezTo>
                  <a:cubicBezTo>
                    <a:pt x="167" y="152"/>
                    <a:pt x="129" y="128"/>
                    <a:pt x="84" y="117"/>
                  </a:cubicBezTo>
                  <a:cubicBezTo>
                    <a:pt x="180" y="114"/>
                    <a:pt x="276" y="119"/>
                    <a:pt x="372" y="109"/>
                  </a:cubicBezTo>
                  <a:cubicBezTo>
                    <a:pt x="380" y="108"/>
                    <a:pt x="374" y="92"/>
                    <a:pt x="380" y="86"/>
                  </a:cubicBezTo>
                  <a:cubicBezTo>
                    <a:pt x="393" y="73"/>
                    <a:pt x="415" y="76"/>
                    <a:pt x="433" y="71"/>
                  </a:cubicBezTo>
                  <a:cubicBezTo>
                    <a:pt x="654" y="85"/>
                    <a:pt x="562" y="76"/>
                    <a:pt x="493" y="94"/>
                  </a:cubicBezTo>
                  <a:cubicBezTo>
                    <a:pt x="581" y="97"/>
                    <a:pt x="670" y="97"/>
                    <a:pt x="758" y="102"/>
                  </a:cubicBezTo>
                  <a:cubicBezTo>
                    <a:pt x="766" y="102"/>
                    <a:pt x="731" y="114"/>
                    <a:pt x="736" y="109"/>
                  </a:cubicBezTo>
                  <a:cubicBezTo>
                    <a:pt x="755" y="90"/>
                    <a:pt x="773" y="86"/>
                    <a:pt x="796" y="79"/>
                  </a:cubicBezTo>
                  <a:cubicBezTo>
                    <a:pt x="764" y="63"/>
                    <a:pt x="719" y="65"/>
                    <a:pt x="766" y="26"/>
                  </a:cubicBezTo>
                  <a:cubicBezTo>
                    <a:pt x="798" y="0"/>
                    <a:pt x="887" y="3"/>
                    <a:pt x="887" y="3"/>
                  </a:cubicBezTo>
                  <a:cubicBezTo>
                    <a:pt x="817" y="30"/>
                    <a:pt x="842" y="11"/>
                    <a:pt x="804" y="49"/>
                  </a:cubicBezTo>
                  <a:cubicBezTo>
                    <a:pt x="827" y="83"/>
                    <a:pt x="862" y="85"/>
                    <a:pt x="902" y="94"/>
                  </a:cubicBezTo>
                  <a:cubicBezTo>
                    <a:pt x="895" y="97"/>
                    <a:pt x="888" y="100"/>
                    <a:pt x="880" y="102"/>
                  </a:cubicBezTo>
                  <a:cubicBezTo>
                    <a:pt x="870" y="105"/>
                    <a:pt x="840" y="104"/>
                    <a:pt x="849" y="109"/>
                  </a:cubicBezTo>
                  <a:cubicBezTo>
                    <a:pt x="867" y="118"/>
                    <a:pt x="890" y="116"/>
                    <a:pt x="910" y="117"/>
                  </a:cubicBezTo>
                  <a:cubicBezTo>
                    <a:pt x="966" y="121"/>
                    <a:pt x="1021" y="122"/>
                    <a:pt x="1077" y="124"/>
                  </a:cubicBezTo>
                  <a:cubicBezTo>
                    <a:pt x="1103" y="133"/>
                    <a:pt x="1095" y="126"/>
                    <a:pt x="1107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854"/>
            <p:cNvSpPr/>
            <p:nvPr/>
          </p:nvSpPr>
          <p:spPr>
            <a:xfrm>
              <a:off x="6797520" y="5380200"/>
              <a:ext cx="782640" cy="118800"/>
            </a:xfrm>
            <a:custGeom>
              <a:avLst/>
              <a:gdLst/>
              <a:ahLst/>
              <a:rect l="l" t="t" r="r" b="b"/>
              <a:pathLst>
                <a:path w="493" h="75">
                  <a:moveTo>
                    <a:pt x="0" y="29"/>
                  </a:moveTo>
                  <a:cubicBezTo>
                    <a:pt x="5" y="21"/>
                    <a:pt x="6" y="8"/>
                    <a:pt x="15" y="6"/>
                  </a:cubicBezTo>
                  <a:cubicBezTo>
                    <a:pt x="35" y="0"/>
                    <a:pt x="85" y="23"/>
                    <a:pt x="106" y="29"/>
                  </a:cubicBezTo>
                  <a:cubicBezTo>
                    <a:pt x="114" y="27"/>
                    <a:pt x="121" y="21"/>
                    <a:pt x="129" y="22"/>
                  </a:cubicBezTo>
                  <a:cubicBezTo>
                    <a:pt x="138" y="24"/>
                    <a:pt x="144" y="33"/>
                    <a:pt x="152" y="37"/>
                  </a:cubicBezTo>
                  <a:cubicBezTo>
                    <a:pt x="163" y="42"/>
                    <a:pt x="203" y="54"/>
                    <a:pt x="220" y="59"/>
                  </a:cubicBezTo>
                  <a:cubicBezTo>
                    <a:pt x="225" y="64"/>
                    <a:pt x="228" y="75"/>
                    <a:pt x="235" y="75"/>
                  </a:cubicBezTo>
                  <a:cubicBezTo>
                    <a:pt x="242" y="75"/>
                    <a:pt x="252" y="66"/>
                    <a:pt x="250" y="59"/>
                  </a:cubicBezTo>
                  <a:cubicBezTo>
                    <a:pt x="247" y="51"/>
                    <a:pt x="219" y="52"/>
                    <a:pt x="227" y="52"/>
                  </a:cubicBezTo>
                  <a:cubicBezTo>
                    <a:pt x="238" y="52"/>
                    <a:pt x="248" y="57"/>
                    <a:pt x="258" y="59"/>
                  </a:cubicBezTo>
                  <a:cubicBezTo>
                    <a:pt x="255" y="52"/>
                    <a:pt x="243" y="41"/>
                    <a:pt x="250" y="37"/>
                  </a:cubicBezTo>
                  <a:cubicBezTo>
                    <a:pt x="259" y="31"/>
                    <a:pt x="271" y="42"/>
                    <a:pt x="281" y="44"/>
                  </a:cubicBezTo>
                  <a:cubicBezTo>
                    <a:pt x="366" y="61"/>
                    <a:pt x="291" y="44"/>
                    <a:pt x="356" y="59"/>
                  </a:cubicBezTo>
                  <a:cubicBezTo>
                    <a:pt x="403" y="45"/>
                    <a:pt x="409" y="45"/>
                    <a:pt x="455" y="59"/>
                  </a:cubicBezTo>
                  <a:cubicBezTo>
                    <a:pt x="442" y="23"/>
                    <a:pt x="439" y="37"/>
                    <a:pt x="493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856"/>
            <p:cNvSpPr/>
            <p:nvPr/>
          </p:nvSpPr>
          <p:spPr>
            <a:xfrm>
              <a:off x="7640640" y="4897440"/>
              <a:ext cx="420840" cy="262080"/>
            </a:xfrm>
            <a:custGeom>
              <a:avLst/>
              <a:gdLst/>
              <a:ahLst/>
              <a:rect l="l" t="t" r="r" b="b"/>
              <a:pathLst>
                <a:path w="265" h="165">
                  <a:moveTo>
                    <a:pt x="15" y="0"/>
                  </a:moveTo>
                  <a:cubicBezTo>
                    <a:pt x="65" y="15"/>
                    <a:pt x="23" y="22"/>
                    <a:pt x="0" y="30"/>
                  </a:cubicBezTo>
                  <a:cubicBezTo>
                    <a:pt x="46" y="35"/>
                    <a:pt x="73" y="38"/>
                    <a:pt x="113" y="53"/>
                  </a:cubicBezTo>
                  <a:cubicBezTo>
                    <a:pt x="32" y="79"/>
                    <a:pt x="89" y="76"/>
                    <a:pt x="166" y="83"/>
                  </a:cubicBezTo>
                  <a:cubicBezTo>
                    <a:pt x="113" y="165"/>
                    <a:pt x="265" y="76"/>
                    <a:pt x="265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857"/>
            <p:cNvSpPr/>
            <p:nvPr/>
          </p:nvSpPr>
          <p:spPr>
            <a:xfrm>
              <a:off x="8048520" y="4838760"/>
              <a:ext cx="1704960" cy="193680"/>
            </a:xfrm>
            <a:custGeom>
              <a:avLst/>
              <a:gdLst/>
              <a:ahLst/>
              <a:rect l="l" t="t" r="r" b="b"/>
              <a:pathLst>
                <a:path w="1074" h="122">
                  <a:moveTo>
                    <a:pt x="0" y="75"/>
                  </a:moveTo>
                  <a:cubicBezTo>
                    <a:pt x="10" y="72"/>
                    <a:pt x="20" y="67"/>
                    <a:pt x="31" y="67"/>
                  </a:cubicBezTo>
                  <a:cubicBezTo>
                    <a:pt x="54" y="67"/>
                    <a:pt x="76" y="77"/>
                    <a:pt x="99" y="75"/>
                  </a:cubicBezTo>
                  <a:cubicBezTo>
                    <a:pt x="106" y="74"/>
                    <a:pt x="108" y="64"/>
                    <a:pt x="114" y="59"/>
                  </a:cubicBezTo>
                  <a:cubicBezTo>
                    <a:pt x="121" y="53"/>
                    <a:pt x="129" y="49"/>
                    <a:pt x="137" y="44"/>
                  </a:cubicBezTo>
                  <a:cubicBezTo>
                    <a:pt x="172" y="68"/>
                    <a:pt x="209" y="72"/>
                    <a:pt x="250" y="82"/>
                  </a:cubicBezTo>
                  <a:cubicBezTo>
                    <a:pt x="332" y="122"/>
                    <a:pt x="256" y="87"/>
                    <a:pt x="258" y="82"/>
                  </a:cubicBezTo>
                  <a:cubicBezTo>
                    <a:pt x="261" y="72"/>
                    <a:pt x="278" y="77"/>
                    <a:pt x="288" y="75"/>
                  </a:cubicBezTo>
                  <a:cubicBezTo>
                    <a:pt x="306" y="72"/>
                    <a:pt x="323" y="70"/>
                    <a:pt x="341" y="67"/>
                  </a:cubicBezTo>
                  <a:cubicBezTo>
                    <a:pt x="277" y="0"/>
                    <a:pt x="408" y="50"/>
                    <a:pt x="447" y="59"/>
                  </a:cubicBezTo>
                  <a:cubicBezTo>
                    <a:pt x="556" y="26"/>
                    <a:pt x="673" y="96"/>
                    <a:pt x="781" y="59"/>
                  </a:cubicBezTo>
                  <a:cubicBezTo>
                    <a:pt x="834" y="62"/>
                    <a:pt x="887" y="72"/>
                    <a:pt x="940" y="67"/>
                  </a:cubicBezTo>
                  <a:cubicBezTo>
                    <a:pt x="949" y="66"/>
                    <a:pt x="921" y="52"/>
                    <a:pt x="925" y="44"/>
                  </a:cubicBezTo>
                  <a:cubicBezTo>
                    <a:pt x="930" y="34"/>
                    <a:pt x="993" y="37"/>
                    <a:pt x="1016" y="37"/>
                  </a:cubicBezTo>
                  <a:lnTo>
                    <a:pt x="1074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58"/>
            <p:cNvSpPr/>
            <p:nvPr/>
          </p:nvSpPr>
          <p:spPr>
            <a:xfrm>
              <a:off x="8750160" y="5230800"/>
              <a:ext cx="887400" cy="122400"/>
            </a:xfrm>
            <a:custGeom>
              <a:avLst/>
              <a:gdLst/>
              <a:ahLst/>
              <a:rect l="l" t="t" r="r" b="b"/>
              <a:pathLst>
                <a:path w="559" h="77">
                  <a:moveTo>
                    <a:pt x="21" y="25"/>
                  </a:moveTo>
                  <a:cubicBezTo>
                    <a:pt x="16" y="20"/>
                    <a:pt x="0" y="14"/>
                    <a:pt x="5" y="9"/>
                  </a:cubicBezTo>
                  <a:cubicBezTo>
                    <a:pt x="14" y="0"/>
                    <a:pt x="30" y="2"/>
                    <a:pt x="43" y="2"/>
                  </a:cubicBezTo>
                  <a:cubicBezTo>
                    <a:pt x="73" y="2"/>
                    <a:pt x="104" y="7"/>
                    <a:pt x="134" y="9"/>
                  </a:cubicBezTo>
                  <a:cubicBezTo>
                    <a:pt x="147" y="12"/>
                    <a:pt x="160" y="11"/>
                    <a:pt x="172" y="17"/>
                  </a:cubicBezTo>
                  <a:cubicBezTo>
                    <a:pt x="191" y="27"/>
                    <a:pt x="245" y="62"/>
                    <a:pt x="225" y="55"/>
                  </a:cubicBezTo>
                  <a:cubicBezTo>
                    <a:pt x="218" y="52"/>
                    <a:pt x="210" y="49"/>
                    <a:pt x="203" y="47"/>
                  </a:cubicBezTo>
                  <a:cubicBezTo>
                    <a:pt x="195" y="44"/>
                    <a:pt x="188" y="42"/>
                    <a:pt x="180" y="40"/>
                  </a:cubicBezTo>
                  <a:cubicBezTo>
                    <a:pt x="219" y="30"/>
                    <a:pt x="209" y="28"/>
                    <a:pt x="256" y="40"/>
                  </a:cubicBezTo>
                  <a:cubicBezTo>
                    <a:pt x="313" y="55"/>
                    <a:pt x="356" y="77"/>
                    <a:pt x="293" y="47"/>
                  </a:cubicBezTo>
                  <a:cubicBezTo>
                    <a:pt x="334" y="34"/>
                    <a:pt x="318" y="36"/>
                    <a:pt x="384" y="47"/>
                  </a:cubicBezTo>
                  <a:cubicBezTo>
                    <a:pt x="392" y="48"/>
                    <a:pt x="413" y="61"/>
                    <a:pt x="407" y="55"/>
                  </a:cubicBezTo>
                  <a:cubicBezTo>
                    <a:pt x="393" y="41"/>
                    <a:pt x="371" y="36"/>
                    <a:pt x="354" y="25"/>
                  </a:cubicBezTo>
                  <a:cubicBezTo>
                    <a:pt x="403" y="15"/>
                    <a:pt x="444" y="32"/>
                    <a:pt x="491" y="32"/>
                  </a:cubicBezTo>
                  <a:cubicBezTo>
                    <a:pt x="499" y="32"/>
                    <a:pt x="476" y="27"/>
                    <a:pt x="468" y="25"/>
                  </a:cubicBezTo>
                  <a:cubicBezTo>
                    <a:pt x="502" y="16"/>
                    <a:pt x="525" y="25"/>
                    <a:pt x="559" y="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870"/>
            <p:cNvGrpSpPr/>
            <p:nvPr/>
          </p:nvGrpSpPr>
          <p:grpSpPr>
            <a:xfrm>
              <a:off x="7496280" y="4013280"/>
              <a:ext cx="542880" cy="787320"/>
              <a:chOff x="7496280" y="4013280"/>
              <a:chExt cx="542880" cy="787320"/>
            </a:xfrm>
          </p:grpSpPr>
          <p:sp>
            <p:nvSpPr>
              <p:cNvPr id="749" name="Freeform 871"/>
              <p:cNvSpPr/>
              <p:nvPr/>
            </p:nvSpPr>
            <p:spPr>
              <a:xfrm>
                <a:off x="7497000" y="4066920"/>
                <a:ext cx="523440" cy="47772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872"/>
              <p:cNvSpPr/>
              <p:nvPr/>
            </p:nvSpPr>
            <p:spPr>
              <a:xfrm>
                <a:off x="7618320" y="4224960"/>
                <a:ext cx="299880" cy="57564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873"/>
              <p:cNvSpPr/>
              <p:nvPr/>
            </p:nvSpPr>
            <p:spPr>
              <a:xfrm>
                <a:off x="7507800" y="4736520"/>
                <a:ext cx="253440" cy="2700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874"/>
              <p:cNvSpPr/>
              <p:nvPr/>
            </p:nvSpPr>
            <p:spPr>
              <a:xfrm>
                <a:off x="7593120" y="4195440"/>
                <a:ext cx="356400" cy="59328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875"/>
              <p:cNvSpPr/>
              <p:nvPr/>
            </p:nvSpPr>
            <p:spPr>
              <a:xfrm>
                <a:off x="7743240" y="4147920"/>
                <a:ext cx="201600" cy="54972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876"/>
              <p:cNvSpPr/>
              <p:nvPr/>
            </p:nvSpPr>
            <p:spPr>
              <a:xfrm>
                <a:off x="7795800" y="4295160"/>
                <a:ext cx="207360" cy="20088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877"/>
              <p:cNvSpPr/>
              <p:nvPr/>
            </p:nvSpPr>
            <p:spPr>
              <a:xfrm>
                <a:off x="7551720" y="4386240"/>
                <a:ext cx="175680" cy="5760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78"/>
              <p:cNvSpPr/>
              <p:nvPr/>
            </p:nvSpPr>
            <p:spPr>
              <a:xfrm>
                <a:off x="7736040" y="4309920"/>
                <a:ext cx="68040" cy="45180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879"/>
              <p:cNvSpPr/>
              <p:nvPr/>
            </p:nvSpPr>
            <p:spPr>
              <a:xfrm>
                <a:off x="7496280" y="4062960"/>
                <a:ext cx="533880" cy="49068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80"/>
              <p:cNvSpPr/>
              <p:nvPr/>
            </p:nvSpPr>
            <p:spPr>
              <a:xfrm>
                <a:off x="7527960" y="4013280"/>
                <a:ext cx="511200" cy="57600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859"/>
            <p:cNvGrpSpPr/>
            <p:nvPr/>
          </p:nvGrpSpPr>
          <p:grpSpPr>
            <a:xfrm>
              <a:off x="6477480" y="3505320"/>
              <a:ext cx="1037880" cy="1320840"/>
              <a:chOff x="6477480" y="3505320"/>
              <a:chExt cx="1037880" cy="1320840"/>
            </a:xfrm>
          </p:grpSpPr>
          <p:sp>
            <p:nvSpPr>
              <p:cNvPr id="760" name="Freeform 860"/>
              <p:cNvSpPr/>
              <p:nvPr/>
            </p:nvSpPr>
            <p:spPr>
              <a:xfrm flipH="1">
                <a:off x="6512760" y="3595680"/>
                <a:ext cx="1000800" cy="80136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861"/>
              <p:cNvSpPr/>
              <p:nvPr/>
            </p:nvSpPr>
            <p:spPr>
              <a:xfrm flipH="1">
                <a:off x="6708240" y="3860640"/>
                <a:ext cx="573480" cy="96552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862"/>
              <p:cNvSpPr/>
              <p:nvPr/>
            </p:nvSpPr>
            <p:spPr>
              <a:xfrm flipH="1">
                <a:off x="7008120" y="4718520"/>
                <a:ext cx="484920" cy="4500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863"/>
              <p:cNvSpPr/>
              <p:nvPr/>
            </p:nvSpPr>
            <p:spPr>
              <a:xfrm flipH="1">
                <a:off x="6647760" y="3810600"/>
                <a:ext cx="681840" cy="99540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864"/>
              <p:cNvSpPr/>
              <p:nvPr/>
            </p:nvSpPr>
            <p:spPr>
              <a:xfrm flipH="1">
                <a:off x="6656760" y="3731400"/>
                <a:ext cx="385560" cy="92196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865"/>
              <p:cNvSpPr/>
              <p:nvPr/>
            </p:nvSpPr>
            <p:spPr>
              <a:xfrm flipH="1">
                <a:off x="6546240" y="3978360"/>
                <a:ext cx="396720" cy="33732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866"/>
              <p:cNvSpPr/>
              <p:nvPr/>
            </p:nvSpPr>
            <p:spPr>
              <a:xfrm flipH="1">
                <a:off x="7073280" y="4131360"/>
                <a:ext cx="336240" cy="9684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867"/>
              <p:cNvSpPr/>
              <p:nvPr/>
            </p:nvSpPr>
            <p:spPr>
              <a:xfrm flipH="1">
                <a:off x="6926760" y="4002840"/>
                <a:ext cx="130320" cy="75816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868"/>
              <p:cNvSpPr/>
              <p:nvPr/>
            </p:nvSpPr>
            <p:spPr>
              <a:xfrm flipH="1">
                <a:off x="6494400" y="3588840"/>
                <a:ext cx="1020960" cy="82296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869"/>
              <p:cNvSpPr/>
              <p:nvPr/>
            </p:nvSpPr>
            <p:spPr>
              <a:xfrm flipH="1">
                <a:off x="6477120" y="3505320"/>
                <a:ext cx="977400" cy="96624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881"/>
            <p:cNvGrpSpPr/>
            <p:nvPr/>
          </p:nvGrpSpPr>
          <p:grpSpPr>
            <a:xfrm>
              <a:off x="8175240" y="3678480"/>
              <a:ext cx="959400" cy="1179000"/>
              <a:chOff x="8175240" y="3678480"/>
              <a:chExt cx="959400" cy="1179000"/>
            </a:xfrm>
          </p:grpSpPr>
          <p:sp>
            <p:nvSpPr>
              <p:cNvPr id="771" name="Freeform 882"/>
              <p:cNvSpPr/>
              <p:nvPr/>
            </p:nvSpPr>
            <p:spPr>
              <a:xfrm flipH="1" rot="20969400">
                <a:off x="8269200" y="3808440"/>
                <a:ext cx="771120" cy="662400"/>
              </a:xfrm>
              <a:custGeom>
                <a:avLst/>
                <a:gdLst/>
                <a:ahLst/>
                <a:rect l="l" t="t" r="r" b="b"/>
                <a:pathLst>
                  <a:path w="991" h="850">
                    <a:moveTo>
                      <a:pt x="286" y="54"/>
                    </a:moveTo>
                    <a:cubicBezTo>
                      <a:pt x="301" y="10"/>
                      <a:pt x="317" y="40"/>
                      <a:pt x="347" y="8"/>
                    </a:cubicBezTo>
                    <a:cubicBezTo>
                      <a:pt x="367" y="29"/>
                      <a:pt x="407" y="69"/>
                      <a:pt x="407" y="69"/>
                    </a:cubicBezTo>
                    <a:cubicBezTo>
                      <a:pt x="412" y="64"/>
                      <a:pt x="419" y="60"/>
                      <a:pt x="423" y="54"/>
                    </a:cubicBezTo>
                    <a:cubicBezTo>
                      <a:pt x="436" y="33"/>
                      <a:pt x="424" y="14"/>
                      <a:pt x="438" y="54"/>
                    </a:cubicBezTo>
                    <a:cubicBezTo>
                      <a:pt x="485" y="22"/>
                      <a:pt x="448" y="64"/>
                      <a:pt x="498" y="46"/>
                    </a:cubicBezTo>
                    <a:cubicBezTo>
                      <a:pt x="534" y="58"/>
                      <a:pt x="540" y="43"/>
                      <a:pt x="574" y="31"/>
                    </a:cubicBezTo>
                    <a:cubicBezTo>
                      <a:pt x="577" y="41"/>
                      <a:pt x="573" y="56"/>
                      <a:pt x="582" y="61"/>
                    </a:cubicBezTo>
                    <a:cubicBezTo>
                      <a:pt x="582" y="61"/>
                      <a:pt x="623" y="30"/>
                      <a:pt x="642" y="24"/>
                    </a:cubicBezTo>
                    <a:cubicBezTo>
                      <a:pt x="656" y="62"/>
                      <a:pt x="669" y="40"/>
                      <a:pt x="711" y="31"/>
                    </a:cubicBezTo>
                    <a:cubicBezTo>
                      <a:pt x="721" y="26"/>
                      <a:pt x="731" y="20"/>
                      <a:pt x="741" y="16"/>
                    </a:cubicBezTo>
                    <a:cubicBezTo>
                      <a:pt x="748" y="13"/>
                      <a:pt x="763" y="0"/>
                      <a:pt x="764" y="8"/>
                    </a:cubicBezTo>
                    <a:cubicBezTo>
                      <a:pt x="771" y="46"/>
                      <a:pt x="715" y="70"/>
                      <a:pt x="779" y="46"/>
                    </a:cubicBezTo>
                    <a:cubicBezTo>
                      <a:pt x="789" y="42"/>
                      <a:pt x="799" y="36"/>
                      <a:pt x="809" y="31"/>
                    </a:cubicBezTo>
                    <a:cubicBezTo>
                      <a:pt x="806" y="39"/>
                      <a:pt x="805" y="47"/>
                      <a:pt x="801" y="54"/>
                    </a:cubicBezTo>
                    <a:cubicBezTo>
                      <a:pt x="797" y="62"/>
                      <a:pt x="784" y="68"/>
                      <a:pt x="786" y="77"/>
                    </a:cubicBezTo>
                    <a:cubicBezTo>
                      <a:pt x="788" y="85"/>
                      <a:pt x="801" y="82"/>
                      <a:pt x="809" y="84"/>
                    </a:cubicBezTo>
                    <a:cubicBezTo>
                      <a:pt x="822" y="87"/>
                      <a:pt x="834" y="89"/>
                      <a:pt x="847" y="92"/>
                    </a:cubicBezTo>
                    <a:cubicBezTo>
                      <a:pt x="824" y="125"/>
                      <a:pt x="809" y="127"/>
                      <a:pt x="847" y="152"/>
                    </a:cubicBezTo>
                    <a:cubicBezTo>
                      <a:pt x="859" y="187"/>
                      <a:pt x="875" y="197"/>
                      <a:pt x="908" y="213"/>
                    </a:cubicBezTo>
                    <a:cubicBezTo>
                      <a:pt x="941" y="263"/>
                      <a:pt x="917" y="211"/>
                      <a:pt x="885" y="243"/>
                    </a:cubicBezTo>
                    <a:cubicBezTo>
                      <a:pt x="879" y="249"/>
                      <a:pt x="901" y="248"/>
                      <a:pt x="908" y="251"/>
                    </a:cubicBezTo>
                    <a:cubicBezTo>
                      <a:pt x="961" y="275"/>
                      <a:pt x="955" y="273"/>
                      <a:pt x="991" y="296"/>
                    </a:cubicBezTo>
                    <a:cubicBezTo>
                      <a:pt x="983" y="301"/>
                      <a:pt x="977" y="309"/>
                      <a:pt x="968" y="312"/>
                    </a:cubicBezTo>
                    <a:cubicBezTo>
                      <a:pt x="930" y="326"/>
                      <a:pt x="913" y="308"/>
                      <a:pt x="953" y="334"/>
                    </a:cubicBezTo>
                    <a:cubicBezTo>
                      <a:pt x="967" y="375"/>
                      <a:pt x="944" y="364"/>
                      <a:pt x="908" y="372"/>
                    </a:cubicBezTo>
                    <a:cubicBezTo>
                      <a:pt x="959" y="406"/>
                      <a:pt x="941" y="389"/>
                      <a:pt x="968" y="418"/>
                    </a:cubicBezTo>
                    <a:cubicBezTo>
                      <a:pt x="904" y="430"/>
                      <a:pt x="936" y="422"/>
                      <a:pt x="953" y="471"/>
                    </a:cubicBezTo>
                    <a:cubicBezTo>
                      <a:pt x="924" y="480"/>
                      <a:pt x="870" y="466"/>
                      <a:pt x="908" y="501"/>
                    </a:cubicBezTo>
                    <a:cubicBezTo>
                      <a:pt x="910" y="509"/>
                      <a:pt x="919" y="517"/>
                      <a:pt x="915" y="524"/>
                    </a:cubicBezTo>
                    <a:cubicBezTo>
                      <a:pt x="911" y="531"/>
                      <a:pt x="891" y="523"/>
                      <a:pt x="892" y="531"/>
                    </a:cubicBezTo>
                    <a:cubicBezTo>
                      <a:pt x="895" y="549"/>
                      <a:pt x="908" y="567"/>
                      <a:pt x="923" y="577"/>
                    </a:cubicBezTo>
                    <a:cubicBezTo>
                      <a:pt x="930" y="582"/>
                      <a:pt x="945" y="583"/>
                      <a:pt x="945" y="592"/>
                    </a:cubicBezTo>
                    <a:cubicBezTo>
                      <a:pt x="945" y="600"/>
                      <a:pt x="915" y="584"/>
                      <a:pt x="923" y="584"/>
                    </a:cubicBezTo>
                    <a:cubicBezTo>
                      <a:pt x="933" y="584"/>
                      <a:pt x="943" y="589"/>
                      <a:pt x="953" y="592"/>
                    </a:cubicBezTo>
                    <a:cubicBezTo>
                      <a:pt x="986" y="635"/>
                      <a:pt x="976" y="634"/>
                      <a:pt x="961" y="683"/>
                    </a:cubicBezTo>
                    <a:cubicBezTo>
                      <a:pt x="975" y="728"/>
                      <a:pt x="946" y="721"/>
                      <a:pt x="908" y="728"/>
                    </a:cubicBezTo>
                    <a:cubicBezTo>
                      <a:pt x="926" y="756"/>
                      <a:pt x="949" y="768"/>
                      <a:pt x="908" y="781"/>
                    </a:cubicBezTo>
                    <a:cubicBezTo>
                      <a:pt x="903" y="789"/>
                      <a:pt x="896" y="796"/>
                      <a:pt x="892" y="804"/>
                    </a:cubicBezTo>
                    <a:cubicBezTo>
                      <a:pt x="888" y="811"/>
                      <a:pt x="892" y="823"/>
                      <a:pt x="885" y="827"/>
                    </a:cubicBezTo>
                    <a:cubicBezTo>
                      <a:pt x="877" y="831"/>
                      <a:pt x="843" y="806"/>
                      <a:pt x="839" y="804"/>
                    </a:cubicBezTo>
                    <a:cubicBezTo>
                      <a:pt x="827" y="844"/>
                      <a:pt x="818" y="840"/>
                      <a:pt x="786" y="819"/>
                    </a:cubicBezTo>
                    <a:cubicBezTo>
                      <a:pt x="779" y="824"/>
                      <a:pt x="771" y="828"/>
                      <a:pt x="764" y="834"/>
                    </a:cubicBezTo>
                    <a:cubicBezTo>
                      <a:pt x="758" y="839"/>
                      <a:pt x="756" y="850"/>
                      <a:pt x="748" y="850"/>
                    </a:cubicBezTo>
                    <a:cubicBezTo>
                      <a:pt x="737" y="850"/>
                      <a:pt x="728" y="839"/>
                      <a:pt x="718" y="834"/>
                    </a:cubicBezTo>
                    <a:cubicBezTo>
                      <a:pt x="703" y="828"/>
                      <a:pt x="688" y="824"/>
                      <a:pt x="673" y="819"/>
                    </a:cubicBezTo>
                    <a:cubicBezTo>
                      <a:pt x="668" y="822"/>
                      <a:pt x="637" y="845"/>
                      <a:pt x="627" y="842"/>
                    </a:cubicBezTo>
                    <a:cubicBezTo>
                      <a:pt x="608" y="836"/>
                      <a:pt x="598" y="815"/>
                      <a:pt x="582" y="804"/>
                    </a:cubicBezTo>
                    <a:cubicBezTo>
                      <a:pt x="546" y="817"/>
                      <a:pt x="547" y="826"/>
                      <a:pt x="513" y="804"/>
                    </a:cubicBezTo>
                    <a:cubicBezTo>
                      <a:pt x="482" y="815"/>
                      <a:pt x="471" y="813"/>
                      <a:pt x="460" y="781"/>
                    </a:cubicBezTo>
                    <a:cubicBezTo>
                      <a:pt x="424" y="794"/>
                      <a:pt x="422" y="824"/>
                      <a:pt x="407" y="781"/>
                    </a:cubicBezTo>
                    <a:cubicBezTo>
                      <a:pt x="397" y="784"/>
                      <a:pt x="386" y="783"/>
                      <a:pt x="377" y="789"/>
                    </a:cubicBezTo>
                    <a:cubicBezTo>
                      <a:pt x="369" y="794"/>
                      <a:pt x="371" y="809"/>
                      <a:pt x="362" y="812"/>
                    </a:cubicBezTo>
                    <a:cubicBezTo>
                      <a:pt x="353" y="816"/>
                      <a:pt x="320" y="792"/>
                      <a:pt x="316" y="789"/>
                    </a:cubicBezTo>
                    <a:cubicBezTo>
                      <a:pt x="264" y="824"/>
                      <a:pt x="324" y="793"/>
                      <a:pt x="271" y="789"/>
                    </a:cubicBezTo>
                    <a:cubicBezTo>
                      <a:pt x="251" y="787"/>
                      <a:pt x="230" y="794"/>
                      <a:pt x="210" y="797"/>
                    </a:cubicBezTo>
                    <a:cubicBezTo>
                      <a:pt x="187" y="794"/>
                      <a:pt x="163" y="798"/>
                      <a:pt x="142" y="789"/>
                    </a:cubicBezTo>
                    <a:cubicBezTo>
                      <a:pt x="135" y="786"/>
                      <a:pt x="143" y="768"/>
                      <a:pt x="135" y="766"/>
                    </a:cubicBezTo>
                    <a:cubicBezTo>
                      <a:pt x="103" y="757"/>
                      <a:pt x="69" y="761"/>
                      <a:pt x="36" y="759"/>
                    </a:cubicBezTo>
                    <a:cubicBezTo>
                      <a:pt x="39" y="751"/>
                      <a:pt x="48" y="743"/>
                      <a:pt x="44" y="736"/>
                    </a:cubicBezTo>
                    <a:cubicBezTo>
                      <a:pt x="28" y="703"/>
                      <a:pt x="0" y="759"/>
                      <a:pt x="36" y="706"/>
                    </a:cubicBezTo>
                    <a:cubicBezTo>
                      <a:pt x="23" y="669"/>
                      <a:pt x="32" y="672"/>
                      <a:pt x="66" y="660"/>
                    </a:cubicBezTo>
                    <a:cubicBezTo>
                      <a:pt x="59" y="655"/>
                      <a:pt x="44" y="654"/>
                      <a:pt x="44" y="645"/>
                    </a:cubicBezTo>
                    <a:cubicBezTo>
                      <a:pt x="44" y="635"/>
                      <a:pt x="84" y="624"/>
                      <a:pt x="89" y="622"/>
                    </a:cubicBezTo>
                    <a:cubicBezTo>
                      <a:pt x="19" y="577"/>
                      <a:pt x="97" y="637"/>
                      <a:pt x="89" y="592"/>
                    </a:cubicBezTo>
                    <a:cubicBezTo>
                      <a:pt x="87" y="580"/>
                      <a:pt x="37" y="558"/>
                      <a:pt x="28" y="554"/>
                    </a:cubicBezTo>
                    <a:cubicBezTo>
                      <a:pt x="23" y="546"/>
                      <a:pt x="5" y="535"/>
                      <a:pt x="13" y="531"/>
                    </a:cubicBezTo>
                    <a:cubicBezTo>
                      <a:pt x="77" y="500"/>
                      <a:pt x="117" y="552"/>
                      <a:pt x="66" y="501"/>
                    </a:cubicBezTo>
                    <a:cubicBezTo>
                      <a:pt x="84" y="449"/>
                      <a:pt x="41" y="469"/>
                      <a:pt x="97" y="440"/>
                    </a:cubicBezTo>
                    <a:cubicBezTo>
                      <a:pt x="93" y="436"/>
                      <a:pt x="62" y="410"/>
                      <a:pt x="66" y="402"/>
                    </a:cubicBezTo>
                    <a:cubicBezTo>
                      <a:pt x="71" y="393"/>
                      <a:pt x="87" y="397"/>
                      <a:pt x="97" y="395"/>
                    </a:cubicBezTo>
                    <a:cubicBezTo>
                      <a:pt x="92" y="387"/>
                      <a:pt x="79" y="381"/>
                      <a:pt x="81" y="372"/>
                    </a:cubicBezTo>
                    <a:cubicBezTo>
                      <a:pt x="83" y="364"/>
                      <a:pt x="100" y="372"/>
                      <a:pt x="104" y="365"/>
                    </a:cubicBezTo>
                    <a:cubicBezTo>
                      <a:pt x="140" y="303"/>
                      <a:pt x="83" y="328"/>
                      <a:pt x="135" y="312"/>
                    </a:cubicBezTo>
                    <a:cubicBezTo>
                      <a:pt x="137" y="292"/>
                      <a:pt x="132" y="269"/>
                      <a:pt x="142" y="251"/>
                    </a:cubicBezTo>
                    <a:cubicBezTo>
                      <a:pt x="147" y="242"/>
                      <a:pt x="165" y="250"/>
                      <a:pt x="172" y="243"/>
                    </a:cubicBezTo>
                    <a:cubicBezTo>
                      <a:pt x="179" y="236"/>
                      <a:pt x="177" y="223"/>
                      <a:pt x="180" y="213"/>
                    </a:cubicBezTo>
                    <a:cubicBezTo>
                      <a:pt x="177" y="205"/>
                      <a:pt x="170" y="198"/>
                      <a:pt x="172" y="190"/>
                    </a:cubicBezTo>
                    <a:cubicBezTo>
                      <a:pt x="174" y="183"/>
                      <a:pt x="183" y="181"/>
                      <a:pt x="188" y="175"/>
                    </a:cubicBezTo>
                    <a:cubicBezTo>
                      <a:pt x="194" y="168"/>
                      <a:pt x="196" y="158"/>
                      <a:pt x="203" y="152"/>
                    </a:cubicBezTo>
                    <a:cubicBezTo>
                      <a:pt x="209" y="147"/>
                      <a:pt x="218" y="147"/>
                      <a:pt x="225" y="145"/>
                    </a:cubicBezTo>
                    <a:cubicBezTo>
                      <a:pt x="248" y="124"/>
                      <a:pt x="256" y="120"/>
                      <a:pt x="286" y="130"/>
                    </a:cubicBezTo>
                    <a:cubicBezTo>
                      <a:pt x="284" y="122"/>
                      <a:pt x="283" y="114"/>
                      <a:pt x="279" y="107"/>
                    </a:cubicBezTo>
                    <a:cubicBezTo>
                      <a:pt x="275" y="101"/>
                      <a:pt x="263" y="99"/>
                      <a:pt x="263" y="92"/>
                    </a:cubicBezTo>
                    <a:cubicBezTo>
                      <a:pt x="263" y="68"/>
                      <a:pt x="279" y="47"/>
                      <a:pt x="286" y="24"/>
                    </a:cubicBezTo>
                    <a:cubicBezTo>
                      <a:pt x="289" y="14"/>
                      <a:pt x="286" y="44"/>
                      <a:pt x="286" y="54"/>
                    </a:cubicBezTo>
                    <a:close/>
                  </a:path>
                </a:pathLst>
              </a:custGeom>
              <a:solidFill>
                <a:srgbClr val="00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883"/>
              <p:cNvSpPr/>
              <p:nvPr/>
            </p:nvSpPr>
            <p:spPr>
              <a:xfrm flipH="1" rot="20969400">
                <a:off x="8472960" y="4025160"/>
                <a:ext cx="441720" cy="798480"/>
              </a:xfrm>
              <a:custGeom>
                <a:avLst/>
                <a:gdLst/>
                <a:ahLst/>
                <a:rect l="l" t="t" r="r" b="b"/>
                <a:pathLst>
                  <a:path w="568" h="1024">
                    <a:moveTo>
                      <a:pt x="481" y="924"/>
                    </a:moveTo>
                    <a:cubicBezTo>
                      <a:pt x="463" y="858"/>
                      <a:pt x="432" y="803"/>
                      <a:pt x="420" y="735"/>
                    </a:cubicBezTo>
                    <a:cubicBezTo>
                      <a:pt x="417" y="705"/>
                      <a:pt x="420" y="673"/>
                      <a:pt x="412" y="644"/>
                    </a:cubicBezTo>
                    <a:cubicBezTo>
                      <a:pt x="410" y="635"/>
                      <a:pt x="396" y="635"/>
                      <a:pt x="390" y="629"/>
                    </a:cubicBezTo>
                    <a:cubicBezTo>
                      <a:pt x="374" y="613"/>
                      <a:pt x="357" y="587"/>
                      <a:pt x="344" y="568"/>
                    </a:cubicBezTo>
                    <a:cubicBezTo>
                      <a:pt x="297" y="412"/>
                      <a:pt x="460" y="429"/>
                      <a:pt x="556" y="424"/>
                    </a:cubicBezTo>
                    <a:cubicBezTo>
                      <a:pt x="559" y="416"/>
                      <a:pt x="568" y="408"/>
                      <a:pt x="564" y="401"/>
                    </a:cubicBezTo>
                    <a:cubicBezTo>
                      <a:pt x="560" y="394"/>
                      <a:pt x="549" y="394"/>
                      <a:pt x="541" y="394"/>
                    </a:cubicBezTo>
                    <a:cubicBezTo>
                      <a:pt x="501" y="394"/>
                      <a:pt x="460" y="399"/>
                      <a:pt x="420" y="401"/>
                    </a:cubicBezTo>
                    <a:cubicBezTo>
                      <a:pt x="407" y="399"/>
                      <a:pt x="388" y="406"/>
                      <a:pt x="382" y="394"/>
                    </a:cubicBezTo>
                    <a:cubicBezTo>
                      <a:pt x="377" y="384"/>
                      <a:pt x="396" y="378"/>
                      <a:pt x="405" y="371"/>
                    </a:cubicBezTo>
                    <a:cubicBezTo>
                      <a:pt x="419" y="360"/>
                      <a:pt x="450" y="341"/>
                      <a:pt x="450" y="341"/>
                    </a:cubicBezTo>
                    <a:cubicBezTo>
                      <a:pt x="468" y="272"/>
                      <a:pt x="442" y="344"/>
                      <a:pt x="481" y="295"/>
                    </a:cubicBezTo>
                    <a:cubicBezTo>
                      <a:pt x="491" y="282"/>
                      <a:pt x="494" y="264"/>
                      <a:pt x="503" y="250"/>
                    </a:cubicBezTo>
                    <a:cubicBezTo>
                      <a:pt x="459" y="220"/>
                      <a:pt x="493" y="248"/>
                      <a:pt x="443" y="265"/>
                    </a:cubicBezTo>
                    <a:cubicBezTo>
                      <a:pt x="416" y="307"/>
                      <a:pt x="378" y="358"/>
                      <a:pt x="337" y="386"/>
                    </a:cubicBezTo>
                    <a:cubicBezTo>
                      <a:pt x="303" y="336"/>
                      <a:pt x="332" y="231"/>
                      <a:pt x="352" y="174"/>
                    </a:cubicBezTo>
                    <a:cubicBezTo>
                      <a:pt x="347" y="82"/>
                      <a:pt x="383" y="23"/>
                      <a:pt x="306" y="0"/>
                    </a:cubicBezTo>
                    <a:cubicBezTo>
                      <a:pt x="313" y="25"/>
                      <a:pt x="326" y="58"/>
                      <a:pt x="306" y="83"/>
                    </a:cubicBezTo>
                    <a:cubicBezTo>
                      <a:pt x="303" y="87"/>
                      <a:pt x="270" y="55"/>
                      <a:pt x="268" y="53"/>
                    </a:cubicBezTo>
                    <a:cubicBezTo>
                      <a:pt x="263" y="61"/>
                      <a:pt x="253" y="67"/>
                      <a:pt x="253" y="76"/>
                    </a:cubicBezTo>
                    <a:cubicBezTo>
                      <a:pt x="253" y="85"/>
                      <a:pt x="265" y="90"/>
                      <a:pt x="268" y="98"/>
                    </a:cubicBezTo>
                    <a:cubicBezTo>
                      <a:pt x="278" y="132"/>
                      <a:pt x="280" y="169"/>
                      <a:pt x="291" y="204"/>
                    </a:cubicBezTo>
                    <a:cubicBezTo>
                      <a:pt x="294" y="248"/>
                      <a:pt x="309" y="381"/>
                      <a:pt x="291" y="424"/>
                    </a:cubicBezTo>
                    <a:cubicBezTo>
                      <a:pt x="286" y="436"/>
                      <a:pt x="266" y="419"/>
                      <a:pt x="253" y="417"/>
                    </a:cubicBezTo>
                    <a:cubicBezTo>
                      <a:pt x="234" y="397"/>
                      <a:pt x="224" y="379"/>
                      <a:pt x="200" y="364"/>
                    </a:cubicBezTo>
                    <a:cubicBezTo>
                      <a:pt x="159" y="302"/>
                      <a:pt x="212" y="373"/>
                      <a:pt x="162" y="333"/>
                    </a:cubicBezTo>
                    <a:cubicBezTo>
                      <a:pt x="155" y="328"/>
                      <a:pt x="154" y="317"/>
                      <a:pt x="147" y="311"/>
                    </a:cubicBezTo>
                    <a:cubicBezTo>
                      <a:pt x="133" y="299"/>
                      <a:pt x="102" y="280"/>
                      <a:pt x="102" y="280"/>
                    </a:cubicBezTo>
                    <a:cubicBezTo>
                      <a:pt x="86" y="255"/>
                      <a:pt x="73" y="244"/>
                      <a:pt x="49" y="227"/>
                    </a:cubicBezTo>
                    <a:cubicBezTo>
                      <a:pt x="66" y="254"/>
                      <a:pt x="79" y="262"/>
                      <a:pt x="109" y="273"/>
                    </a:cubicBezTo>
                    <a:cubicBezTo>
                      <a:pt x="126" y="297"/>
                      <a:pt x="130" y="321"/>
                      <a:pt x="140" y="348"/>
                    </a:cubicBezTo>
                    <a:cubicBezTo>
                      <a:pt x="105" y="351"/>
                      <a:pt x="69" y="350"/>
                      <a:pt x="34" y="356"/>
                    </a:cubicBezTo>
                    <a:cubicBezTo>
                      <a:pt x="16" y="359"/>
                      <a:pt x="0" y="404"/>
                      <a:pt x="18" y="409"/>
                    </a:cubicBezTo>
                    <a:cubicBezTo>
                      <a:pt x="75" y="423"/>
                      <a:pt x="135" y="414"/>
                      <a:pt x="193" y="417"/>
                    </a:cubicBezTo>
                    <a:cubicBezTo>
                      <a:pt x="230" y="429"/>
                      <a:pt x="213" y="417"/>
                      <a:pt x="231" y="470"/>
                    </a:cubicBezTo>
                    <a:cubicBezTo>
                      <a:pt x="233" y="477"/>
                      <a:pt x="238" y="492"/>
                      <a:pt x="238" y="492"/>
                    </a:cubicBezTo>
                    <a:cubicBezTo>
                      <a:pt x="251" y="678"/>
                      <a:pt x="258" y="678"/>
                      <a:pt x="246" y="924"/>
                    </a:cubicBezTo>
                    <a:cubicBezTo>
                      <a:pt x="244" y="965"/>
                      <a:pt x="173" y="1024"/>
                      <a:pt x="246" y="1008"/>
                    </a:cubicBezTo>
                    <a:cubicBezTo>
                      <a:pt x="271" y="970"/>
                      <a:pt x="273" y="985"/>
                      <a:pt x="306" y="1008"/>
                    </a:cubicBezTo>
                    <a:cubicBezTo>
                      <a:pt x="325" y="954"/>
                      <a:pt x="309" y="953"/>
                      <a:pt x="344" y="977"/>
                    </a:cubicBezTo>
                    <a:cubicBezTo>
                      <a:pt x="349" y="970"/>
                      <a:pt x="351" y="958"/>
                      <a:pt x="359" y="955"/>
                    </a:cubicBezTo>
                    <a:cubicBezTo>
                      <a:pt x="366" y="952"/>
                      <a:pt x="374" y="962"/>
                      <a:pt x="382" y="962"/>
                    </a:cubicBezTo>
                    <a:cubicBezTo>
                      <a:pt x="386" y="962"/>
                      <a:pt x="425" y="948"/>
                      <a:pt x="428" y="947"/>
                    </a:cubicBezTo>
                    <a:cubicBezTo>
                      <a:pt x="471" y="969"/>
                      <a:pt x="476" y="971"/>
                      <a:pt x="526" y="962"/>
                    </a:cubicBezTo>
                    <a:cubicBezTo>
                      <a:pt x="518" y="955"/>
                      <a:pt x="512" y="946"/>
                      <a:pt x="503" y="940"/>
                    </a:cubicBezTo>
                    <a:cubicBezTo>
                      <a:pt x="497" y="936"/>
                      <a:pt x="487" y="937"/>
                      <a:pt x="481" y="932"/>
                    </a:cubicBezTo>
                    <a:cubicBezTo>
                      <a:pt x="474" y="926"/>
                      <a:pt x="466" y="918"/>
                      <a:pt x="466" y="909"/>
                    </a:cubicBezTo>
                    <a:cubicBezTo>
                      <a:pt x="466" y="902"/>
                      <a:pt x="476" y="919"/>
                      <a:pt x="481" y="924"/>
                    </a:cubicBezTo>
                    <a:close/>
                  </a:path>
                </a:pathLst>
              </a:custGeom>
              <a:solidFill>
                <a:srgbClr val="56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884"/>
              <p:cNvSpPr/>
              <p:nvPr/>
            </p:nvSpPr>
            <p:spPr>
              <a:xfrm flipH="1" rot="20969400">
                <a:off x="8760240" y="4693320"/>
                <a:ext cx="373320" cy="37440"/>
              </a:xfrm>
              <a:custGeom>
                <a:avLst/>
                <a:gdLst/>
                <a:ahLst/>
                <a:rect l="l" t="t" r="r" b="b"/>
                <a:pathLst>
                  <a:path w="773" h="121">
                    <a:moveTo>
                      <a:pt x="144" y="19"/>
                    </a:moveTo>
                    <a:cubicBezTo>
                      <a:pt x="314" y="14"/>
                      <a:pt x="482" y="0"/>
                      <a:pt x="651" y="11"/>
                    </a:cubicBezTo>
                    <a:cubicBezTo>
                      <a:pt x="692" y="22"/>
                      <a:pt x="733" y="35"/>
                      <a:pt x="773" y="49"/>
                    </a:cubicBezTo>
                    <a:cubicBezTo>
                      <a:pt x="536" y="121"/>
                      <a:pt x="253" y="70"/>
                      <a:pt x="0" y="56"/>
                    </a:cubicBezTo>
                    <a:cubicBezTo>
                      <a:pt x="49" y="47"/>
                      <a:pt x="96" y="31"/>
                      <a:pt x="144" y="19"/>
                    </a:cubicBez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885"/>
              <p:cNvSpPr/>
              <p:nvPr/>
            </p:nvSpPr>
            <p:spPr>
              <a:xfrm flipH="1" rot="20969400">
                <a:off x="8420040" y="3984840"/>
                <a:ext cx="525240" cy="822960"/>
              </a:xfrm>
              <a:custGeom>
                <a:avLst/>
                <a:gdLst/>
                <a:ahLst/>
                <a:rect l="l" t="t" r="r" b="b"/>
                <a:pathLst>
                  <a:path w="675" h="1056">
                    <a:moveTo>
                      <a:pt x="528" y="1000"/>
                    </a:moveTo>
                    <a:cubicBezTo>
                      <a:pt x="517" y="960"/>
                      <a:pt x="504" y="913"/>
                      <a:pt x="482" y="879"/>
                    </a:cubicBezTo>
                    <a:cubicBezTo>
                      <a:pt x="473" y="850"/>
                      <a:pt x="459" y="819"/>
                      <a:pt x="459" y="788"/>
                    </a:cubicBezTo>
                    <a:cubicBezTo>
                      <a:pt x="459" y="778"/>
                      <a:pt x="463" y="808"/>
                      <a:pt x="467" y="818"/>
                    </a:cubicBezTo>
                    <a:cubicBezTo>
                      <a:pt x="479" y="850"/>
                      <a:pt x="495" y="880"/>
                      <a:pt x="513" y="909"/>
                    </a:cubicBezTo>
                    <a:cubicBezTo>
                      <a:pt x="510" y="917"/>
                      <a:pt x="513" y="932"/>
                      <a:pt x="505" y="932"/>
                    </a:cubicBezTo>
                    <a:cubicBezTo>
                      <a:pt x="496" y="932"/>
                      <a:pt x="494" y="917"/>
                      <a:pt x="490" y="909"/>
                    </a:cubicBezTo>
                    <a:cubicBezTo>
                      <a:pt x="486" y="900"/>
                      <a:pt x="487" y="888"/>
                      <a:pt x="482" y="879"/>
                    </a:cubicBezTo>
                    <a:cubicBezTo>
                      <a:pt x="476" y="868"/>
                      <a:pt x="466" y="860"/>
                      <a:pt x="459" y="849"/>
                    </a:cubicBezTo>
                    <a:cubicBezTo>
                      <a:pt x="453" y="839"/>
                      <a:pt x="449" y="828"/>
                      <a:pt x="444" y="818"/>
                    </a:cubicBezTo>
                    <a:cubicBezTo>
                      <a:pt x="434" y="773"/>
                      <a:pt x="427" y="736"/>
                      <a:pt x="422" y="689"/>
                    </a:cubicBezTo>
                    <a:cubicBezTo>
                      <a:pt x="424" y="666"/>
                      <a:pt x="413" y="637"/>
                      <a:pt x="429" y="621"/>
                    </a:cubicBezTo>
                    <a:cubicBezTo>
                      <a:pt x="440" y="610"/>
                      <a:pt x="438" y="652"/>
                      <a:pt x="444" y="667"/>
                    </a:cubicBezTo>
                    <a:cubicBezTo>
                      <a:pt x="462" y="711"/>
                      <a:pt x="487" y="752"/>
                      <a:pt x="505" y="796"/>
                    </a:cubicBezTo>
                    <a:cubicBezTo>
                      <a:pt x="514" y="818"/>
                      <a:pt x="528" y="864"/>
                      <a:pt x="528" y="864"/>
                    </a:cubicBezTo>
                    <a:cubicBezTo>
                      <a:pt x="541" y="978"/>
                      <a:pt x="530" y="906"/>
                      <a:pt x="513" y="871"/>
                    </a:cubicBezTo>
                    <a:cubicBezTo>
                      <a:pt x="505" y="832"/>
                      <a:pt x="495" y="796"/>
                      <a:pt x="482" y="758"/>
                    </a:cubicBezTo>
                    <a:cubicBezTo>
                      <a:pt x="477" y="692"/>
                      <a:pt x="471" y="617"/>
                      <a:pt x="452" y="553"/>
                    </a:cubicBezTo>
                    <a:cubicBezTo>
                      <a:pt x="433" y="607"/>
                      <a:pt x="451" y="671"/>
                      <a:pt x="459" y="727"/>
                    </a:cubicBezTo>
                    <a:cubicBezTo>
                      <a:pt x="464" y="762"/>
                      <a:pt x="470" y="798"/>
                      <a:pt x="475" y="833"/>
                    </a:cubicBezTo>
                    <a:cubicBezTo>
                      <a:pt x="477" y="848"/>
                      <a:pt x="482" y="879"/>
                      <a:pt x="482" y="879"/>
                    </a:cubicBezTo>
                    <a:cubicBezTo>
                      <a:pt x="480" y="889"/>
                      <a:pt x="485" y="909"/>
                      <a:pt x="475" y="909"/>
                    </a:cubicBezTo>
                    <a:cubicBezTo>
                      <a:pt x="465" y="909"/>
                      <a:pt x="469" y="889"/>
                      <a:pt x="467" y="879"/>
                    </a:cubicBezTo>
                    <a:cubicBezTo>
                      <a:pt x="462" y="856"/>
                      <a:pt x="457" y="834"/>
                      <a:pt x="452" y="811"/>
                    </a:cubicBezTo>
                    <a:cubicBezTo>
                      <a:pt x="435" y="735"/>
                      <a:pt x="418" y="661"/>
                      <a:pt x="406" y="583"/>
                    </a:cubicBezTo>
                    <a:cubicBezTo>
                      <a:pt x="411" y="655"/>
                      <a:pt x="417" y="700"/>
                      <a:pt x="429" y="765"/>
                    </a:cubicBezTo>
                    <a:cubicBezTo>
                      <a:pt x="426" y="709"/>
                      <a:pt x="428" y="607"/>
                      <a:pt x="406" y="545"/>
                    </a:cubicBezTo>
                    <a:cubicBezTo>
                      <a:pt x="398" y="524"/>
                      <a:pt x="383" y="506"/>
                      <a:pt x="376" y="485"/>
                    </a:cubicBezTo>
                    <a:cubicBezTo>
                      <a:pt x="374" y="477"/>
                      <a:pt x="371" y="470"/>
                      <a:pt x="369" y="462"/>
                    </a:cubicBezTo>
                    <a:cubicBezTo>
                      <a:pt x="362" y="531"/>
                      <a:pt x="367" y="608"/>
                      <a:pt x="346" y="674"/>
                    </a:cubicBezTo>
                    <a:cubicBezTo>
                      <a:pt x="331" y="632"/>
                      <a:pt x="338" y="587"/>
                      <a:pt x="323" y="545"/>
                    </a:cubicBezTo>
                    <a:cubicBezTo>
                      <a:pt x="303" y="659"/>
                      <a:pt x="323" y="535"/>
                      <a:pt x="308" y="765"/>
                    </a:cubicBezTo>
                    <a:cubicBezTo>
                      <a:pt x="306" y="798"/>
                      <a:pt x="293" y="831"/>
                      <a:pt x="293" y="864"/>
                    </a:cubicBezTo>
                    <a:cubicBezTo>
                      <a:pt x="293" y="875"/>
                      <a:pt x="298" y="843"/>
                      <a:pt x="300" y="833"/>
                    </a:cubicBezTo>
                    <a:cubicBezTo>
                      <a:pt x="291" y="933"/>
                      <a:pt x="303" y="880"/>
                      <a:pt x="278" y="947"/>
                    </a:cubicBezTo>
                    <a:cubicBezTo>
                      <a:pt x="272" y="962"/>
                      <a:pt x="262" y="993"/>
                      <a:pt x="262" y="993"/>
                    </a:cubicBezTo>
                    <a:cubicBezTo>
                      <a:pt x="253" y="964"/>
                      <a:pt x="252" y="976"/>
                      <a:pt x="262" y="947"/>
                    </a:cubicBezTo>
                    <a:cubicBezTo>
                      <a:pt x="269" y="924"/>
                      <a:pt x="285" y="879"/>
                      <a:pt x="285" y="879"/>
                    </a:cubicBezTo>
                    <a:cubicBezTo>
                      <a:pt x="302" y="764"/>
                      <a:pt x="329" y="652"/>
                      <a:pt x="346" y="538"/>
                    </a:cubicBezTo>
                    <a:cubicBezTo>
                      <a:pt x="341" y="626"/>
                      <a:pt x="346" y="895"/>
                      <a:pt x="278" y="1000"/>
                    </a:cubicBezTo>
                    <a:cubicBezTo>
                      <a:pt x="278" y="1000"/>
                      <a:pt x="266" y="1056"/>
                      <a:pt x="255" y="1053"/>
                    </a:cubicBezTo>
                    <a:cubicBezTo>
                      <a:pt x="244" y="1050"/>
                      <a:pt x="245" y="1033"/>
                      <a:pt x="240" y="1023"/>
                    </a:cubicBezTo>
                    <a:cubicBezTo>
                      <a:pt x="251" y="975"/>
                      <a:pt x="242" y="1010"/>
                      <a:pt x="255" y="970"/>
                    </a:cubicBezTo>
                    <a:cubicBezTo>
                      <a:pt x="257" y="962"/>
                      <a:pt x="262" y="947"/>
                      <a:pt x="262" y="947"/>
                    </a:cubicBezTo>
                    <a:cubicBezTo>
                      <a:pt x="271" y="972"/>
                      <a:pt x="277" y="998"/>
                      <a:pt x="285" y="1023"/>
                    </a:cubicBezTo>
                    <a:cubicBezTo>
                      <a:pt x="294" y="996"/>
                      <a:pt x="290" y="966"/>
                      <a:pt x="300" y="940"/>
                    </a:cubicBezTo>
                    <a:cubicBezTo>
                      <a:pt x="303" y="933"/>
                      <a:pt x="306" y="955"/>
                      <a:pt x="308" y="962"/>
                    </a:cubicBezTo>
                    <a:cubicBezTo>
                      <a:pt x="311" y="970"/>
                      <a:pt x="313" y="977"/>
                      <a:pt x="315" y="985"/>
                    </a:cubicBezTo>
                    <a:cubicBezTo>
                      <a:pt x="334" y="915"/>
                      <a:pt x="334" y="855"/>
                      <a:pt x="338" y="780"/>
                    </a:cubicBezTo>
                    <a:cubicBezTo>
                      <a:pt x="336" y="709"/>
                      <a:pt x="336" y="639"/>
                      <a:pt x="331" y="568"/>
                    </a:cubicBezTo>
                    <a:cubicBezTo>
                      <a:pt x="330" y="560"/>
                      <a:pt x="323" y="553"/>
                      <a:pt x="323" y="545"/>
                    </a:cubicBezTo>
                    <a:cubicBezTo>
                      <a:pt x="323" y="512"/>
                      <a:pt x="353" y="471"/>
                      <a:pt x="361" y="439"/>
                    </a:cubicBezTo>
                    <a:cubicBezTo>
                      <a:pt x="366" y="447"/>
                      <a:pt x="372" y="454"/>
                      <a:pt x="376" y="462"/>
                    </a:cubicBezTo>
                    <a:cubicBezTo>
                      <a:pt x="380" y="469"/>
                      <a:pt x="391" y="481"/>
                      <a:pt x="384" y="485"/>
                    </a:cubicBezTo>
                    <a:cubicBezTo>
                      <a:pt x="377" y="489"/>
                      <a:pt x="338" y="447"/>
                      <a:pt x="338" y="447"/>
                    </a:cubicBezTo>
                    <a:cubicBezTo>
                      <a:pt x="336" y="455"/>
                      <a:pt x="339" y="470"/>
                      <a:pt x="331" y="470"/>
                    </a:cubicBezTo>
                    <a:cubicBezTo>
                      <a:pt x="323" y="470"/>
                      <a:pt x="287" y="419"/>
                      <a:pt x="285" y="417"/>
                    </a:cubicBezTo>
                    <a:cubicBezTo>
                      <a:pt x="261" y="393"/>
                      <a:pt x="229" y="369"/>
                      <a:pt x="202" y="348"/>
                    </a:cubicBezTo>
                    <a:cubicBezTo>
                      <a:pt x="244" y="453"/>
                      <a:pt x="187" y="316"/>
                      <a:pt x="240" y="424"/>
                    </a:cubicBezTo>
                    <a:cubicBezTo>
                      <a:pt x="244" y="431"/>
                      <a:pt x="251" y="454"/>
                      <a:pt x="247" y="447"/>
                    </a:cubicBezTo>
                    <a:cubicBezTo>
                      <a:pt x="241" y="435"/>
                      <a:pt x="240" y="420"/>
                      <a:pt x="232" y="409"/>
                    </a:cubicBezTo>
                    <a:cubicBezTo>
                      <a:pt x="227" y="402"/>
                      <a:pt x="216" y="400"/>
                      <a:pt x="209" y="394"/>
                    </a:cubicBezTo>
                    <a:cubicBezTo>
                      <a:pt x="184" y="374"/>
                      <a:pt x="162" y="350"/>
                      <a:pt x="134" y="333"/>
                    </a:cubicBezTo>
                    <a:cubicBezTo>
                      <a:pt x="121" y="325"/>
                      <a:pt x="108" y="319"/>
                      <a:pt x="96" y="310"/>
                    </a:cubicBezTo>
                    <a:cubicBezTo>
                      <a:pt x="0" y="237"/>
                      <a:pt x="122" y="314"/>
                      <a:pt x="35" y="265"/>
                    </a:cubicBezTo>
                    <a:cubicBezTo>
                      <a:pt x="27" y="260"/>
                      <a:pt x="6" y="256"/>
                      <a:pt x="12" y="250"/>
                    </a:cubicBezTo>
                    <a:cubicBezTo>
                      <a:pt x="19" y="243"/>
                      <a:pt x="33" y="255"/>
                      <a:pt x="43" y="257"/>
                    </a:cubicBezTo>
                    <a:cubicBezTo>
                      <a:pt x="50" y="265"/>
                      <a:pt x="56" y="274"/>
                      <a:pt x="65" y="280"/>
                    </a:cubicBezTo>
                    <a:cubicBezTo>
                      <a:pt x="74" y="287"/>
                      <a:pt x="88" y="287"/>
                      <a:pt x="96" y="295"/>
                    </a:cubicBezTo>
                    <a:cubicBezTo>
                      <a:pt x="178" y="377"/>
                      <a:pt x="71" y="302"/>
                      <a:pt x="141" y="348"/>
                    </a:cubicBezTo>
                    <a:cubicBezTo>
                      <a:pt x="184" y="407"/>
                      <a:pt x="172" y="421"/>
                      <a:pt x="187" y="379"/>
                    </a:cubicBezTo>
                    <a:cubicBezTo>
                      <a:pt x="221" y="402"/>
                      <a:pt x="246" y="437"/>
                      <a:pt x="270" y="470"/>
                    </a:cubicBezTo>
                    <a:cubicBezTo>
                      <a:pt x="280" y="483"/>
                      <a:pt x="284" y="508"/>
                      <a:pt x="300" y="508"/>
                    </a:cubicBezTo>
                    <a:cubicBezTo>
                      <a:pt x="314" y="508"/>
                      <a:pt x="291" y="482"/>
                      <a:pt x="285" y="470"/>
                    </a:cubicBezTo>
                    <a:cubicBezTo>
                      <a:pt x="278" y="457"/>
                      <a:pt x="272" y="443"/>
                      <a:pt x="262" y="432"/>
                    </a:cubicBezTo>
                    <a:cubicBezTo>
                      <a:pt x="220" y="383"/>
                      <a:pt x="170" y="341"/>
                      <a:pt x="118" y="303"/>
                    </a:cubicBezTo>
                    <a:cubicBezTo>
                      <a:pt x="113" y="295"/>
                      <a:pt x="109" y="287"/>
                      <a:pt x="103" y="280"/>
                    </a:cubicBezTo>
                    <a:cubicBezTo>
                      <a:pt x="97" y="274"/>
                      <a:pt x="85" y="257"/>
                      <a:pt x="81" y="265"/>
                    </a:cubicBezTo>
                    <a:cubicBezTo>
                      <a:pt x="76" y="275"/>
                      <a:pt x="90" y="286"/>
                      <a:pt x="96" y="295"/>
                    </a:cubicBezTo>
                    <a:cubicBezTo>
                      <a:pt x="127" y="340"/>
                      <a:pt x="170" y="406"/>
                      <a:pt x="209" y="447"/>
                    </a:cubicBezTo>
                    <a:cubicBezTo>
                      <a:pt x="219" y="420"/>
                      <a:pt x="223" y="392"/>
                      <a:pt x="232" y="364"/>
                    </a:cubicBezTo>
                    <a:cubicBezTo>
                      <a:pt x="237" y="410"/>
                      <a:pt x="232" y="438"/>
                      <a:pt x="262" y="470"/>
                    </a:cubicBezTo>
                    <a:cubicBezTo>
                      <a:pt x="273" y="406"/>
                      <a:pt x="283" y="391"/>
                      <a:pt x="270" y="318"/>
                    </a:cubicBezTo>
                    <a:cubicBezTo>
                      <a:pt x="267" y="302"/>
                      <a:pt x="255" y="273"/>
                      <a:pt x="255" y="273"/>
                    </a:cubicBezTo>
                    <a:cubicBezTo>
                      <a:pt x="252" y="280"/>
                      <a:pt x="247" y="287"/>
                      <a:pt x="247" y="295"/>
                    </a:cubicBezTo>
                    <a:cubicBezTo>
                      <a:pt x="247" y="313"/>
                      <a:pt x="268" y="361"/>
                      <a:pt x="255" y="348"/>
                    </a:cubicBezTo>
                    <a:cubicBezTo>
                      <a:pt x="240" y="333"/>
                      <a:pt x="247" y="307"/>
                      <a:pt x="240" y="288"/>
                    </a:cubicBezTo>
                    <a:cubicBezTo>
                      <a:pt x="231" y="264"/>
                      <a:pt x="203" y="240"/>
                      <a:pt x="187" y="220"/>
                    </a:cubicBezTo>
                    <a:cubicBezTo>
                      <a:pt x="182" y="214"/>
                      <a:pt x="176" y="210"/>
                      <a:pt x="171" y="204"/>
                    </a:cubicBezTo>
                    <a:cubicBezTo>
                      <a:pt x="165" y="197"/>
                      <a:pt x="161" y="189"/>
                      <a:pt x="156" y="182"/>
                    </a:cubicBezTo>
                    <a:cubicBezTo>
                      <a:pt x="151" y="176"/>
                      <a:pt x="136" y="171"/>
                      <a:pt x="141" y="166"/>
                    </a:cubicBezTo>
                    <a:cubicBezTo>
                      <a:pt x="147" y="160"/>
                      <a:pt x="156" y="171"/>
                      <a:pt x="164" y="174"/>
                    </a:cubicBezTo>
                    <a:cubicBezTo>
                      <a:pt x="185" y="209"/>
                      <a:pt x="202" y="242"/>
                      <a:pt x="217" y="280"/>
                    </a:cubicBezTo>
                    <a:cubicBezTo>
                      <a:pt x="253" y="225"/>
                      <a:pt x="239" y="251"/>
                      <a:pt x="262" y="204"/>
                    </a:cubicBezTo>
                    <a:cubicBezTo>
                      <a:pt x="267" y="194"/>
                      <a:pt x="255" y="246"/>
                      <a:pt x="255" y="235"/>
                    </a:cubicBezTo>
                    <a:cubicBezTo>
                      <a:pt x="255" y="189"/>
                      <a:pt x="258" y="184"/>
                      <a:pt x="270" y="151"/>
                    </a:cubicBezTo>
                    <a:cubicBezTo>
                      <a:pt x="264" y="203"/>
                      <a:pt x="263" y="235"/>
                      <a:pt x="240" y="280"/>
                    </a:cubicBezTo>
                    <a:cubicBezTo>
                      <a:pt x="272" y="302"/>
                      <a:pt x="286" y="338"/>
                      <a:pt x="308" y="371"/>
                    </a:cubicBezTo>
                    <a:cubicBezTo>
                      <a:pt x="313" y="379"/>
                      <a:pt x="323" y="394"/>
                      <a:pt x="323" y="394"/>
                    </a:cubicBezTo>
                    <a:cubicBezTo>
                      <a:pt x="331" y="384"/>
                      <a:pt x="341" y="376"/>
                      <a:pt x="346" y="364"/>
                    </a:cubicBezTo>
                    <a:cubicBezTo>
                      <a:pt x="360" y="333"/>
                      <a:pt x="346" y="300"/>
                      <a:pt x="361" y="356"/>
                    </a:cubicBezTo>
                    <a:cubicBezTo>
                      <a:pt x="377" y="295"/>
                      <a:pt x="389" y="219"/>
                      <a:pt x="361" y="159"/>
                    </a:cubicBezTo>
                    <a:cubicBezTo>
                      <a:pt x="353" y="143"/>
                      <a:pt x="337" y="133"/>
                      <a:pt x="323" y="121"/>
                    </a:cubicBezTo>
                    <a:cubicBezTo>
                      <a:pt x="316" y="115"/>
                      <a:pt x="300" y="97"/>
                      <a:pt x="300" y="106"/>
                    </a:cubicBezTo>
                    <a:cubicBezTo>
                      <a:pt x="300" y="117"/>
                      <a:pt x="317" y="120"/>
                      <a:pt x="323" y="129"/>
                    </a:cubicBezTo>
                    <a:cubicBezTo>
                      <a:pt x="330" y="138"/>
                      <a:pt x="334" y="149"/>
                      <a:pt x="338" y="159"/>
                    </a:cubicBezTo>
                    <a:cubicBezTo>
                      <a:pt x="342" y="169"/>
                      <a:pt x="350" y="199"/>
                      <a:pt x="346" y="189"/>
                    </a:cubicBezTo>
                    <a:cubicBezTo>
                      <a:pt x="302" y="76"/>
                      <a:pt x="355" y="154"/>
                      <a:pt x="247" y="45"/>
                    </a:cubicBezTo>
                    <a:cubicBezTo>
                      <a:pt x="232" y="30"/>
                      <a:pt x="202" y="0"/>
                      <a:pt x="202" y="0"/>
                    </a:cubicBezTo>
                    <a:cubicBezTo>
                      <a:pt x="216" y="37"/>
                      <a:pt x="238" y="63"/>
                      <a:pt x="255" y="98"/>
                    </a:cubicBezTo>
                    <a:cubicBezTo>
                      <a:pt x="259" y="86"/>
                      <a:pt x="261" y="55"/>
                      <a:pt x="285" y="83"/>
                    </a:cubicBezTo>
                    <a:cubicBezTo>
                      <a:pt x="354" y="162"/>
                      <a:pt x="284" y="101"/>
                      <a:pt x="315" y="151"/>
                    </a:cubicBezTo>
                    <a:cubicBezTo>
                      <a:pt x="329" y="174"/>
                      <a:pt x="357" y="200"/>
                      <a:pt x="376" y="220"/>
                    </a:cubicBezTo>
                    <a:cubicBezTo>
                      <a:pt x="389" y="183"/>
                      <a:pt x="384" y="147"/>
                      <a:pt x="406" y="113"/>
                    </a:cubicBezTo>
                    <a:cubicBezTo>
                      <a:pt x="409" y="103"/>
                      <a:pt x="411" y="93"/>
                      <a:pt x="414" y="83"/>
                    </a:cubicBezTo>
                    <a:cubicBezTo>
                      <a:pt x="416" y="75"/>
                      <a:pt x="422" y="52"/>
                      <a:pt x="422" y="60"/>
                    </a:cubicBezTo>
                    <a:cubicBezTo>
                      <a:pt x="422" y="188"/>
                      <a:pt x="428" y="163"/>
                      <a:pt x="406" y="227"/>
                    </a:cubicBezTo>
                    <a:cubicBezTo>
                      <a:pt x="404" y="219"/>
                      <a:pt x="399" y="212"/>
                      <a:pt x="399" y="204"/>
                    </a:cubicBezTo>
                    <a:cubicBezTo>
                      <a:pt x="399" y="191"/>
                      <a:pt x="418" y="162"/>
                      <a:pt x="406" y="166"/>
                    </a:cubicBezTo>
                    <a:cubicBezTo>
                      <a:pt x="389" y="172"/>
                      <a:pt x="376" y="212"/>
                      <a:pt x="376" y="212"/>
                    </a:cubicBezTo>
                    <a:cubicBezTo>
                      <a:pt x="384" y="215"/>
                      <a:pt x="391" y="221"/>
                      <a:pt x="399" y="220"/>
                    </a:cubicBezTo>
                    <a:cubicBezTo>
                      <a:pt x="410" y="218"/>
                      <a:pt x="418" y="208"/>
                      <a:pt x="429" y="204"/>
                    </a:cubicBezTo>
                    <a:cubicBezTo>
                      <a:pt x="439" y="201"/>
                      <a:pt x="518" y="189"/>
                      <a:pt x="520" y="189"/>
                    </a:cubicBezTo>
                    <a:cubicBezTo>
                      <a:pt x="495" y="240"/>
                      <a:pt x="447" y="250"/>
                      <a:pt x="406" y="288"/>
                    </a:cubicBezTo>
                    <a:cubicBezTo>
                      <a:pt x="386" y="348"/>
                      <a:pt x="393" y="317"/>
                      <a:pt x="384" y="379"/>
                    </a:cubicBezTo>
                    <a:cubicBezTo>
                      <a:pt x="400" y="541"/>
                      <a:pt x="388" y="481"/>
                      <a:pt x="406" y="561"/>
                    </a:cubicBezTo>
                    <a:cubicBezTo>
                      <a:pt x="409" y="508"/>
                      <a:pt x="407" y="454"/>
                      <a:pt x="414" y="401"/>
                    </a:cubicBezTo>
                    <a:cubicBezTo>
                      <a:pt x="416" y="386"/>
                      <a:pt x="411" y="436"/>
                      <a:pt x="422" y="447"/>
                    </a:cubicBezTo>
                    <a:cubicBezTo>
                      <a:pt x="429" y="454"/>
                      <a:pt x="425" y="426"/>
                      <a:pt x="429" y="417"/>
                    </a:cubicBezTo>
                    <a:cubicBezTo>
                      <a:pt x="441" y="392"/>
                      <a:pt x="472" y="369"/>
                      <a:pt x="490" y="348"/>
                    </a:cubicBezTo>
                    <a:cubicBezTo>
                      <a:pt x="517" y="316"/>
                      <a:pt x="549" y="280"/>
                      <a:pt x="566" y="242"/>
                    </a:cubicBezTo>
                    <a:cubicBezTo>
                      <a:pt x="573" y="228"/>
                      <a:pt x="576" y="212"/>
                      <a:pt x="581" y="197"/>
                    </a:cubicBezTo>
                    <a:cubicBezTo>
                      <a:pt x="583" y="189"/>
                      <a:pt x="588" y="166"/>
                      <a:pt x="588" y="174"/>
                    </a:cubicBezTo>
                    <a:cubicBezTo>
                      <a:pt x="588" y="190"/>
                      <a:pt x="584" y="205"/>
                      <a:pt x="581" y="220"/>
                    </a:cubicBezTo>
                    <a:cubicBezTo>
                      <a:pt x="577" y="243"/>
                      <a:pt x="566" y="288"/>
                      <a:pt x="566" y="288"/>
                    </a:cubicBezTo>
                    <a:cubicBezTo>
                      <a:pt x="563" y="278"/>
                      <a:pt x="557" y="268"/>
                      <a:pt x="558" y="257"/>
                    </a:cubicBezTo>
                    <a:cubicBezTo>
                      <a:pt x="562" y="221"/>
                      <a:pt x="594" y="206"/>
                      <a:pt x="550" y="235"/>
                    </a:cubicBezTo>
                    <a:cubicBezTo>
                      <a:pt x="536" y="279"/>
                      <a:pt x="552" y="234"/>
                      <a:pt x="528" y="288"/>
                    </a:cubicBezTo>
                    <a:cubicBezTo>
                      <a:pt x="525" y="295"/>
                      <a:pt x="512" y="312"/>
                      <a:pt x="520" y="310"/>
                    </a:cubicBezTo>
                    <a:cubicBezTo>
                      <a:pt x="538" y="306"/>
                      <a:pt x="566" y="280"/>
                      <a:pt x="566" y="280"/>
                    </a:cubicBezTo>
                    <a:cubicBezTo>
                      <a:pt x="618" y="315"/>
                      <a:pt x="569" y="274"/>
                      <a:pt x="550" y="303"/>
                    </a:cubicBezTo>
                    <a:cubicBezTo>
                      <a:pt x="549" y="304"/>
                      <a:pt x="614" y="338"/>
                      <a:pt x="619" y="341"/>
                    </a:cubicBezTo>
                    <a:cubicBezTo>
                      <a:pt x="592" y="367"/>
                      <a:pt x="583" y="349"/>
                      <a:pt x="550" y="333"/>
                    </a:cubicBezTo>
                    <a:cubicBezTo>
                      <a:pt x="566" y="411"/>
                      <a:pt x="541" y="356"/>
                      <a:pt x="505" y="333"/>
                    </a:cubicBezTo>
                    <a:cubicBezTo>
                      <a:pt x="465" y="347"/>
                      <a:pt x="486" y="334"/>
                      <a:pt x="452" y="386"/>
                    </a:cubicBezTo>
                    <a:cubicBezTo>
                      <a:pt x="447" y="394"/>
                      <a:pt x="442" y="401"/>
                      <a:pt x="437" y="409"/>
                    </a:cubicBezTo>
                    <a:cubicBezTo>
                      <a:pt x="432" y="417"/>
                      <a:pt x="414" y="437"/>
                      <a:pt x="422" y="432"/>
                    </a:cubicBezTo>
                    <a:cubicBezTo>
                      <a:pt x="451" y="412"/>
                      <a:pt x="436" y="420"/>
                      <a:pt x="467" y="409"/>
                    </a:cubicBezTo>
                    <a:cubicBezTo>
                      <a:pt x="486" y="464"/>
                      <a:pt x="463" y="393"/>
                      <a:pt x="482" y="470"/>
                    </a:cubicBezTo>
                    <a:cubicBezTo>
                      <a:pt x="484" y="478"/>
                      <a:pt x="498" y="492"/>
                      <a:pt x="490" y="492"/>
                    </a:cubicBezTo>
                    <a:cubicBezTo>
                      <a:pt x="481" y="492"/>
                      <a:pt x="482" y="475"/>
                      <a:pt x="475" y="470"/>
                    </a:cubicBezTo>
                    <a:cubicBezTo>
                      <a:pt x="469" y="465"/>
                      <a:pt x="460" y="465"/>
                      <a:pt x="452" y="462"/>
                    </a:cubicBezTo>
                    <a:cubicBezTo>
                      <a:pt x="447" y="457"/>
                      <a:pt x="395" y="418"/>
                      <a:pt x="459" y="432"/>
                    </a:cubicBezTo>
                    <a:cubicBezTo>
                      <a:pt x="481" y="437"/>
                      <a:pt x="499" y="455"/>
                      <a:pt x="520" y="462"/>
                    </a:cubicBezTo>
                    <a:cubicBezTo>
                      <a:pt x="537" y="488"/>
                      <a:pt x="559" y="501"/>
                      <a:pt x="581" y="523"/>
                    </a:cubicBezTo>
                    <a:cubicBezTo>
                      <a:pt x="578" y="513"/>
                      <a:pt x="579" y="501"/>
                      <a:pt x="573" y="492"/>
                    </a:cubicBezTo>
                    <a:cubicBezTo>
                      <a:pt x="568" y="484"/>
                      <a:pt x="559" y="477"/>
                      <a:pt x="550" y="477"/>
                    </a:cubicBezTo>
                    <a:cubicBezTo>
                      <a:pt x="543" y="477"/>
                      <a:pt x="561" y="487"/>
                      <a:pt x="566" y="492"/>
                    </a:cubicBezTo>
                    <a:cubicBezTo>
                      <a:pt x="576" y="462"/>
                      <a:pt x="589" y="456"/>
                      <a:pt x="619" y="447"/>
                    </a:cubicBezTo>
                    <a:cubicBezTo>
                      <a:pt x="619" y="447"/>
                      <a:pt x="594" y="452"/>
                      <a:pt x="581" y="454"/>
                    </a:cubicBezTo>
                    <a:cubicBezTo>
                      <a:pt x="615" y="491"/>
                      <a:pt x="570" y="449"/>
                      <a:pt x="634" y="477"/>
                    </a:cubicBezTo>
                    <a:cubicBezTo>
                      <a:pt x="646" y="482"/>
                      <a:pt x="651" y="500"/>
                      <a:pt x="664" y="500"/>
                    </a:cubicBezTo>
                    <a:cubicBezTo>
                      <a:pt x="675" y="500"/>
                      <a:pt x="650" y="483"/>
                      <a:pt x="641" y="477"/>
                    </a:cubicBezTo>
                    <a:cubicBezTo>
                      <a:pt x="632" y="470"/>
                      <a:pt x="621" y="467"/>
                      <a:pt x="611" y="462"/>
                    </a:cubicBezTo>
                    <a:cubicBezTo>
                      <a:pt x="586" y="465"/>
                      <a:pt x="560" y="466"/>
                      <a:pt x="535" y="470"/>
                    </a:cubicBezTo>
                    <a:cubicBezTo>
                      <a:pt x="506" y="475"/>
                      <a:pt x="521" y="484"/>
                      <a:pt x="505" y="4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886"/>
              <p:cNvSpPr/>
              <p:nvPr/>
            </p:nvSpPr>
            <p:spPr>
              <a:xfrm flipH="1" rot="20969400">
                <a:off x="8412120" y="3940920"/>
                <a:ext cx="297000" cy="762480"/>
              </a:xfrm>
              <a:custGeom>
                <a:avLst/>
                <a:gdLst/>
                <a:ahLst/>
                <a:rect l="l" t="t" r="r" b="b"/>
                <a:pathLst>
                  <a:path w="382" h="978">
                    <a:moveTo>
                      <a:pt x="1" y="978"/>
                    </a:moveTo>
                    <a:cubicBezTo>
                      <a:pt x="4" y="897"/>
                      <a:pt x="4" y="817"/>
                      <a:pt x="9" y="736"/>
                    </a:cubicBezTo>
                    <a:cubicBezTo>
                      <a:pt x="10" y="728"/>
                      <a:pt x="16" y="766"/>
                      <a:pt x="16" y="758"/>
                    </a:cubicBezTo>
                    <a:cubicBezTo>
                      <a:pt x="16" y="540"/>
                      <a:pt x="0" y="560"/>
                      <a:pt x="39" y="667"/>
                    </a:cubicBezTo>
                    <a:cubicBezTo>
                      <a:pt x="42" y="624"/>
                      <a:pt x="38" y="580"/>
                      <a:pt x="47" y="538"/>
                    </a:cubicBezTo>
                    <a:cubicBezTo>
                      <a:pt x="48" y="531"/>
                      <a:pt x="61" y="561"/>
                      <a:pt x="62" y="554"/>
                    </a:cubicBezTo>
                    <a:cubicBezTo>
                      <a:pt x="110" y="312"/>
                      <a:pt x="46" y="450"/>
                      <a:pt x="92" y="357"/>
                    </a:cubicBezTo>
                    <a:cubicBezTo>
                      <a:pt x="96" y="332"/>
                      <a:pt x="100" y="306"/>
                      <a:pt x="107" y="281"/>
                    </a:cubicBezTo>
                    <a:cubicBezTo>
                      <a:pt x="109" y="273"/>
                      <a:pt x="115" y="250"/>
                      <a:pt x="115" y="258"/>
                    </a:cubicBezTo>
                    <a:cubicBezTo>
                      <a:pt x="115" y="286"/>
                      <a:pt x="104" y="313"/>
                      <a:pt x="100" y="341"/>
                    </a:cubicBezTo>
                    <a:cubicBezTo>
                      <a:pt x="102" y="273"/>
                      <a:pt x="101" y="205"/>
                      <a:pt x="107" y="137"/>
                    </a:cubicBezTo>
                    <a:cubicBezTo>
                      <a:pt x="108" y="127"/>
                      <a:pt x="115" y="177"/>
                      <a:pt x="115" y="167"/>
                    </a:cubicBezTo>
                    <a:cubicBezTo>
                      <a:pt x="115" y="91"/>
                      <a:pt x="87" y="64"/>
                      <a:pt x="130" y="122"/>
                    </a:cubicBezTo>
                    <a:cubicBezTo>
                      <a:pt x="133" y="129"/>
                      <a:pt x="138" y="152"/>
                      <a:pt x="138" y="144"/>
                    </a:cubicBezTo>
                    <a:cubicBezTo>
                      <a:pt x="138" y="126"/>
                      <a:pt x="137" y="107"/>
                      <a:pt x="130" y="91"/>
                    </a:cubicBezTo>
                    <a:cubicBezTo>
                      <a:pt x="121" y="71"/>
                      <a:pt x="105" y="56"/>
                      <a:pt x="92" y="38"/>
                    </a:cubicBezTo>
                    <a:cubicBezTo>
                      <a:pt x="83" y="26"/>
                      <a:pt x="108" y="63"/>
                      <a:pt x="115" y="76"/>
                    </a:cubicBezTo>
                    <a:cubicBezTo>
                      <a:pt x="121" y="88"/>
                      <a:pt x="125" y="101"/>
                      <a:pt x="130" y="114"/>
                    </a:cubicBezTo>
                    <a:cubicBezTo>
                      <a:pt x="133" y="122"/>
                      <a:pt x="138" y="145"/>
                      <a:pt x="138" y="137"/>
                    </a:cubicBezTo>
                    <a:cubicBezTo>
                      <a:pt x="138" y="96"/>
                      <a:pt x="133" y="96"/>
                      <a:pt x="115" y="69"/>
                    </a:cubicBezTo>
                    <a:cubicBezTo>
                      <a:pt x="123" y="101"/>
                      <a:pt x="113" y="139"/>
                      <a:pt x="130" y="167"/>
                    </a:cubicBezTo>
                    <a:cubicBezTo>
                      <a:pt x="136" y="177"/>
                      <a:pt x="139" y="146"/>
                      <a:pt x="145" y="137"/>
                    </a:cubicBezTo>
                    <a:cubicBezTo>
                      <a:pt x="161" y="113"/>
                      <a:pt x="180" y="92"/>
                      <a:pt x="198" y="69"/>
                    </a:cubicBezTo>
                    <a:cubicBezTo>
                      <a:pt x="203" y="62"/>
                      <a:pt x="189" y="85"/>
                      <a:pt x="183" y="91"/>
                    </a:cubicBezTo>
                    <a:cubicBezTo>
                      <a:pt x="176" y="97"/>
                      <a:pt x="168" y="101"/>
                      <a:pt x="160" y="106"/>
                    </a:cubicBezTo>
                    <a:cubicBezTo>
                      <a:pt x="155" y="124"/>
                      <a:pt x="127" y="179"/>
                      <a:pt x="115" y="190"/>
                    </a:cubicBezTo>
                    <a:cubicBezTo>
                      <a:pt x="109" y="195"/>
                      <a:pt x="118" y="174"/>
                      <a:pt x="122" y="167"/>
                    </a:cubicBezTo>
                    <a:cubicBezTo>
                      <a:pt x="126" y="161"/>
                      <a:pt x="133" y="158"/>
                      <a:pt x="138" y="152"/>
                    </a:cubicBezTo>
                    <a:cubicBezTo>
                      <a:pt x="164" y="121"/>
                      <a:pt x="178" y="89"/>
                      <a:pt x="206" y="61"/>
                    </a:cubicBezTo>
                    <a:cubicBezTo>
                      <a:pt x="185" y="122"/>
                      <a:pt x="216" y="47"/>
                      <a:pt x="175" y="99"/>
                    </a:cubicBezTo>
                    <a:cubicBezTo>
                      <a:pt x="170" y="105"/>
                      <a:pt x="172" y="115"/>
                      <a:pt x="168" y="122"/>
                    </a:cubicBezTo>
                    <a:cubicBezTo>
                      <a:pt x="162" y="131"/>
                      <a:pt x="153" y="136"/>
                      <a:pt x="145" y="144"/>
                    </a:cubicBezTo>
                    <a:cubicBezTo>
                      <a:pt x="140" y="149"/>
                      <a:pt x="130" y="167"/>
                      <a:pt x="130" y="160"/>
                    </a:cubicBezTo>
                    <a:cubicBezTo>
                      <a:pt x="130" y="143"/>
                      <a:pt x="168" y="119"/>
                      <a:pt x="175" y="114"/>
                    </a:cubicBezTo>
                    <a:cubicBezTo>
                      <a:pt x="213" y="87"/>
                      <a:pt x="247" y="52"/>
                      <a:pt x="289" y="31"/>
                    </a:cubicBezTo>
                    <a:cubicBezTo>
                      <a:pt x="296" y="27"/>
                      <a:pt x="305" y="26"/>
                      <a:pt x="312" y="23"/>
                    </a:cubicBezTo>
                    <a:cubicBezTo>
                      <a:pt x="322" y="19"/>
                      <a:pt x="335" y="0"/>
                      <a:pt x="342" y="8"/>
                    </a:cubicBezTo>
                    <a:cubicBezTo>
                      <a:pt x="349" y="16"/>
                      <a:pt x="327" y="24"/>
                      <a:pt x="319" y="31"/>
                    </a:cubicBezTo>
                    <a:cubicBezTo>
                      <a:pt x="294" y="52"/>
                      <a:pt x="294" y="47"/>
                      <a:pt x="259" y="53"/>
                    </a:cubicBezTo>
                    <a:cubicBezTo>
                      <a:pt x="212" y="89"/>
                      <a:pt x="164" y="118"/>
                      <a:pt x="122" y="160"/>
                    </a:cubicBezTo>
                    <a:cubicBezTo>
                      <a:pt x="127" y="165"/>
                      <a:pt x="131" y="176"/>
                      <a:pt x="138" y="175"/>
                    </a:cubicBezTo>
                    <a:cubicBezTo>
                      <a:pt x="152" y="173"/>
                      <a:pt x="162" y="159"/>
                      <a:pt x="175" y="152"/>
                    </a:cubicBezTo>
                    <a:cubicBezTo>
                      <a:pt x="208" y="135"/>
                      <a:pt x="239" y="110"/>
                      <a:pt x="274" y="99"/>
                    </a:cubicBezTo>
                    <a:cubicBezTo>
                      <a:pt x="336" y="37"/>
                      <a:pt x="263" y="103"/>
                      <a:pt x="319" y="69"/>
                    </a:cubicBezTo>
                    <a:cubicBezTo>
                      <a:pt x="325" y="65"/>
                      <a:pt x="342" y="51"/>
                      <a:pt x="335" y="53"/>
                    </a:cubicBezTo>
                    <a:cubicBezTo>
                      <a:pt x="303" y="64"/>
                      <a:pt x="274" y="84"/>
                      <a:pt x="244" y="99"/>
                    </a:cubicBezTo>
                    <a:cubicBezTo>
                      <a:pt x="234" y="104"/>
                      <a:pt x="223" y="109"/>
                      <a:pt x="213" y="114"/>
                    </a:cubicBezTo>
                    <a:cubicBezTo>
                      <a:pt x="203" y="119"/>
                      <a:pt x="183" y="129"/>
                      <a:pt x="183" y="129"/>
                    </a:cubicBezTo>
                    <a:cubicBezTo>
                      <a:pt x="193" y="137"/>
                      <a:pt x="213" y="152"/>
                      <a:pt x="213" y="152"/>
                    </a:cubicBezTo>
                    <a:cubicBezTo>
                      <a:pt x="206" y="147"/>
                      <a:pt x="182" y="137"/>
                      <a:pt x="191" y="137"/>
                    </a:cubicBezTo>
                    <a:cubicBezTo>
                      <a:pt x="217" y="137"/>
                      <a:pt x="285" y="193"/>
                      <a:pt x="304" y="213"/>
                    </a:cubicBezTo>
                    <a:cubicBezTo>
                      <a:pt x="288" y="172"/>
                      <a:pt x="283" y="166"/>
                      <a:pt x="244" y="152"/>
                    </a:cubicBezTo>
                    <a:cubicBezTo>
                      <a:pt x="175" y="83"/>
                      <a:pt x="303" y="173"/>
                      <a:pt x="312" y="182"/>
                    </a:cubicBezTo>
                    <a:cubicBezTo>
                      <a:pt x="318" y="188"/>
                      <a:pt x="297" y="171"/>
                      <a:pt x="289" y="167"/>
                    </a:cubicBezTo>
                    <a:cubicBezTo>
                      <a:pt x="277" y="161"/>
                      <a:pt x="264" y="157"/>
                      <a:pt x="251" y="152"/>
                    </a:cubicBezTo>
                    <a:cubicBezTo>
                      <a:pt x="244" y="144"/>
                      <a:pt x="238" y="134"/>
                      <a:pt x="229" y="129"/>
                    </a:cubicBezTo>
                    <a:cubicBezTo>
                      <a:pt x="220" y="124"/>
                      <a:pt x="203" y="131"/>
                      <a:pt x="198" y="122"/>
                    </a:cubicBezTo>
                    <a:cubicBezTo>
                      <a:pt x="194" y="115"/>
                      <a:pt x="214" y="117"/>
                      <a:pt x="221" y="114"/>
                    </a:cubicBezTo>
                    <a:cubicBezTo>
                      <a:pt x="292" y="82"/>
                      <a:pt x="241" y="99"/>
                      <a:pt x="289" y="84"/>
                    </a:cubicBezTo>
                    <a:cubicBezTo>
                      <a:pt x="359" y="38"/>
                      <a:pt x="273" y="97"/>
                      <a:pt x="327" y="53"/>
                    </a:cubicBezTo>
                    <a:cubicBezTo>
                      <a:pt x="334" y="47"/>
                      <a:pt x="357" y="44"/>
                      <a:pt x="350" y="38"/>
                    </a:cubicBezTo>
                    <a:cubicBezTo>
                      <a:pt x="348" y="36"/>
                      <a:pt x="303" y="51"/>
                      <a:pt x="297" y="53"/>
                    </a:cubicBezTo>
                    <a:cubicBezTo>
                      <a:pt x="292" y="58"/>
                      <a:pt x="288" y="65"/>
                      <a:pt x="282" y="69"/>
                    </a:cubicBezTo>
                    <a:cubicBezTo>
                      <a:pt x="267" y="78"/>
                      <a:pt x="172" y="112"/>
                      <a:pt x="251" y="91"/>
                    </a:cubicBezTo>
                    <a:cubicBezTo>
                      <a:pt x="280" y="72"/>
                      <a:pt x="313" y="64"/>
                      <a:pt x="342" y="46"/>
                    </a:cubicBezTo>
                    <a:cubicBezTo>
                      <a:pt x="353" y="39"/>
                      <a:pt x="382" y="32"/>
                      <a:pt x="373" y="23"/>
                    </a:cubicBezTo>
                    <a:cubicBezTo>
                      <a:pt x="362" y="12"/>
                      <a:pt x="342" y="28"/>
                      <a:pt x="327" y="31"/>
                    </a:cubicBezTo>
                    <a:cubicBezTo>
                      <a:pt x="286" y="40"/>
                      <a:pt x="241" y="53"/>
                      <a:pt x="206" y="76"/>
                    </a:cubicBezTo>
                    <a:cubicBezTo>
                      <a:pt x="281" y="102"/>
                      <a:pt x="168" y="67"/>
                      <a:pt x="259" y="76"/>
                    </a:cubicBezTo>
                    <a:cubicBezTo>
                      <a:pt x="275" y="77"/>
                      <a:pt x="304" y="91"/>
                      <a:pt x="304" y="91"/>
                    </a:cubicBezTo>
                    <a:cubicBezTo>
                      <a:pt x="319" y="101"/>
                      <a:pt x="335" y="112"/>
                      <a:pt x="350" y="122"/>
                    </a:cubicBezTo>
                    <a:cubicBezTo>
                      <a:pt x="356" y="126"/>
                      <a:pt x="341" y="111"/>
                      <a:pt x="335" y="106"/>
                    </a:cubicBezTo>
                    <a:cubicBezTo>
                      <a:pt x="328" y="100"/>
                      <a:pt x="320" y="95"/>
                      <a:pt x="312" y="91"/>
                    </a:cubicBezTo>
                    <a:cubicBezTo>
                      <a:pt x="305" y="88"/>
                      <a:pt x="283" y="78"/>
                      <a:pt x="289" y="84"/>
                    </a:cubicBezTo>
                    <a:cubicBezTo>
                      <a:pt x="299" y="94"/>
                      <a:pt x="314" y="100"/>
                      <a:pt x="327" y="106"/>
                    </a:cubicBezTo>
                    <a:cubicBezTo>
                      <a:pt x="334" y="110"/>
                      <a:pt x="356" y="119"/>
                      <a:pt x="350" y="114"/>
                    </a:cubicBezTo>
                    <a:cubicBezTo>
                      <a:pt x="341" y="106"/>
                      <a:pt x="329" y="105"/>
                      <a:pt x="319" y="99"/>
                    </a:cubicBezTo>
                    <a:cubicBezTo>
                      <a:pt x="303" y="90"/>
                      <a:pt x="274" y="69"/>
                      <a:pt x="274" y="69"/>
                    </a:cubicBezTo>
                    <a:cubicBezTo>
                      <a:pt x="282" y="80"/>
                      <a:pt x="298" y="112"/>
                      <a:pt x="319" y="106"/>
                    </a:cubicBezTo>
                    <a:cubicBezTo>
                      <a:pt x="326" y="104"/>
                      <a:pt x="317" y="89"/>
                      <a:pt x="312" y="84"/>
                    </a:cubicBezTo>
                    <a:cubicBezTo>
                      <a:pt x="308" y="80"/>
                      <a:pt x="312" y="94"/>
                      <a:pt x="312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887"/>
              <p:cNvSpPr/>
              <p:nvPr/>
            </p:nvSpPr>
            <p:spPr>
              <a:xfrm flipH="1" rot="20969400">
                <a:off x="8321040" y="4160520"/>
                <a:ext cx="305640" cy="279000"/>
              </a:xfrm>
              <a:custGeom>
                <a:avLst/>
                <a:gdLst/>
                <a:ahLst/>
                <a:rect l="l" t="t" r="r" b="b"/>
                <a:pathLst>
                  <a:path w="393" h="358">
                    <a:moveTo>
                      <a:pt x="99" y="292"/>
                    </a:moveTo>
                    <a:cubicBezTo>
                      <a:pt x="129" y="289"/>
                      <a:pt x="160" y="282"/>
                      <a:pt x="190" y="284"/>
                    </a:cubicBezTo>
                    <a:cubicBezTo>
                      <a:pt x="199" y="285"/>
                      <a:pt x="204" y="298"/>
                      <a:pt x="213" y="299"/>
                    </a:cubicBezTo>
                    <a:cubicBezTo>
                      <a:pt x="233" y="301"/>
                      <a:pt x="254" y="294"/>
                      <a:pt x="274" y="292"/>
                    </a:cubicBezTo>
                    <a:cubicBezTo>
                      <a:pt x="334" y="270"/>
                      <a:pt x="245" y="298"/>
                      <a:pt x="281" y="254"/>
                    </a:cubicBezTo>
                    <a:cubicBezTo>
                      <a:pt x="289" y="244"/>
                      <a:pt x="301" y="239"/>
                      <a:pt x="311" y="231"/>
                    </a:cubicBezTo>
                    <a:cubicBezTo>
                      <a:pt x="317" y="226"/>
                      <a:pt x="332" y="222"/>
                      <a:pt x="327" y="216"/>
                    </a:cubicBezTo>
                    <a:cubicBezTo>
                      <a:pt x="326" y="215"/>
                      <a:pt x="281" y="231"/>
                      <a:pt x="281" y="231"/>
                    </a:cubicBezTo>
                    <a:cubicBezTo>
                      <a:pt x="246" y="284"/>
                      <a:pt x="293" y="240"/>
                      <a:pt x="319" y="231"/>
                    </a:cubicBezTo>
                    <a:cubicBezTo>
                      <a:pt x="295" y="255"/>
                      <a:pt x="276" y="266"/>
                      <a:pt x="243" y="276"/>
                    </a:cubicBezTo>
                    <a:cubicBezTo>
                      <a:pt x="273" y="279"/>
                      <a:pt x="305" y="274"/>
                      <a:pt x="334" y="284"/>
                    </a:cubicBezTo>
                    <a:cubicBezTo>
                      <a:pt x="343" y="287"/>
                      <a:pt x="314" y="290"/>
                      <a:pt x="311" y="299"/>
                    </a:cubicBezTo>
                    <a:cubicBezTo>
                      <a:pt x="308" y="307"/>
                      <a:pt x="327" y="324"/>
                      <a:pt x="319" y="322"/>
                    </a:cubicBezTo>
                    <a:cubicBezTo>
                      <a:pt x="301" y="319"/>
                      <a:pt x="289" y="302"/>
                      <a:pt x="274" y="292"/>
                    </a:cubicBezTo>
                    <a:cubicBezTo>
                      <a:pt x="267" y="287"/>
                      <a:pt x="289" y="302"/>
                      <a:pt x="296" y="307"/>
                    </a:cubicBezTo>
                    <a:cubicBezTo>
                      <a:pt x="305" y="313"/>
                      <a:pt x="317" y="312"/>
                      <a:pt x="327" y="314"/>
                    </a:cubicBezTo>
                    <a:cubicBezTo>
                      <a:pt x="340" y="328"/>
                      <a:pt x="345" y="336"/>
                      <a:pt x="364" y="345"/>
                    </a:cubicBezTo>
                    <a:cubicBezTo>
                      <a:pt x="371" y="349"/>
                      <a:pt x="393" y="358"/>
                      <a:pt x="387" y="352"/>
                    </a:cubicBezTo>
                    <a:cubicBezTo>
                      <a:pt x="377" y="342"/>
                      <a:pt x="361" y="339"/>
                      <a:pt x="349" y="330"/>
                    </a:cubicBezTo>
                    <a:cubicBezTo>
                      <a:pt x="343" y="326"/>
                      <a:pt x="329" y="319"/>
                      <a:pt x="334" y="314"/>
                    </a:cubicBezTo>
                    <a:cubicBezTo>
                      <a:pt x="340" y="308"/>
                      <a:pt x="364" y="325"/>
                      <a:pt x="357" y="322"/>
                    </a:cubicBezTo>
                    <a:cubicBezTo>
                      <a:pt x="336" y="312"/>
                      <a:pt x="317" y="301"/>
                      <a:pt x="296" y="292"/>
                    </a:cubicBezTo>
                    <a:cubicBezTo>
                      <a:pt x="282" y="285"/>
                      <a:pt x="251" y="276"/>
                      <a:pt x="251" y="276"/>
                    </a:cubicBezTo>
                    <a:cubicBezTo>
                      <a:pt x="274" y="258"/>
                      <a:pt x="293" y="236"/>
                      <a:pt x="319" y="223"/>
                    </a:cubicBezTo>
                    <a:cubicBezTo>
                      <a:pt x="329" y="218"/>
                      <a:pt x="341" y="215"/>
                      <a:pt x="349" y="208"/>
                    </a:cubicBezTo>
                    <a:cubicBezTo>
                      <a:pt x="355" y="203"/>
                      <a:pt x="334" y="213"/>
                      <a:pt x="327" y="216"/>
                    </a:cubicBezTo>
                    <a:cubicBezTo>
                      <a:pt x="322" y="221"/>
                      <a:pt x="317" y="226"/>
                      <a:pt x="311" y="231"/>
                    </a:cubicBezTo>
                    <a:cubicBezTo>
                      <a:pt x="304" y="236"/>
                      <a:pt x="287" y="255"/>
                      <a:pt x="289" y="246"/>
                    </a:cubicBezTo>
                    <a:cubicBezTo>
                      <a:pt x="294" y="229"/>
                      <a:pt x="334" y="191"/>
                      <a:pt x="319" y="201"/>
                    </a:cubicBezTo>
                    <a:cubicBezTo>
                      <a:pt x="287" y="222"/>
                      <a:pt x="287" y="218"/>
                      <a:pt x="327" y="208"/>
                    </a:cubicBezTo>
                    <a:cubicBezTo>
                      <a:pt x="319" y="213"/>
                      <a:pt x="312" y="219"/>
                      <a:pt x="304" y="223"/>
                    </a:cubicBezTo>
                    <a:cubicBezTo>
                      <a:pt x="297" y="227"/>
                      <a:pt x="281" y="239"/>
                      <a:pt x="281" y="231"/>
                    </a:cubicBezTo>
                    <a:cubicBezTo>
                      <a:pt x="281" y="222"/>
                      <a:pt x="296" y="220"/>
                      <a:pt x="304" y="216"/>
                    </a:cubicBezTo>
                    <a:cubicBezTo>
                      <a:pt x="318" y="210"/>
                      <a:pt x="334" y="206"/>
                      <a:pt x="349" y="201"/>
                    </a:cubicBezTo>
                    <a:cubicBezTo>
                      <a:pt x="356" y="198"/>
                      <a:pt x="334" y="206"/>
                      <a:pt x="327" y="208"/>
                    </a:cubicBezTo>
                    <a:cubicBezTo>
                      <a:pt x="316" y="211"/>
                      <a:pt x="306" y="218"/>
                      <a:pt x="296" y="223"/>
                    </a:cubicBezTo>
                    <a:cubicBezTo>
                      <a:pt x="278" y="242"/>
                      <a:pt x="256" y="260"/>
                      <a:pt x="236" y="276"/>
                    </a:cubicBezTo>
                    <a:cubicBezTo>
                      <a:pt x="221" y="287"/>
                      <a:pt x="205" y="297"/>
                      <a:pt x="190" y="307"/>
                    </a:cubicBezTo>
                    <a:cubicBezTo>
                      <a:pt x="182" y="312"/>
                      <a:pt x="167" y="322"/>
                      <a:pt x="167" y="322"/>
                    </a:cubicBezTo>
                    <a:cubicBezTo>
                      <a:pt x="116" y="317"/>
                      <a:pt x="90" y="314"/>
                      <a:pt x="46" y="299"/>
                    </a:cubicBezTo>
                    <a:cubicBezTo>
                      <a:pt x="36" y="284"/>
                      <a:pt x="26" y="269"/>
                      <a:pt x="16" y="254"/>
                    </a:cubicBezTo>
                    <a:cubicBezTo>
                      <a:pt x="12" y="248"/>
                      <a:pt x="0" y="276"/>
                      <a:pt x="8" y="276"/>
                    </a:cubicBezTo>
                    <a:cubicBezTo>
                      <a:pt x="21" y="276"/>
                      <a:pt x="29" y="261"/>
                      <a:pt x="39" y="254"/>
                    </a:cubicBezTo>
                    <a:cubicBezTo>
                      <a:pt x="60" y="222"/>
                      <a:pt x="71" y="234"/>
                      <a:pt x="92" y="208"/>
                    </a:cubicBezTo>
                    <a:cubicBezTo>
                      <a:pt x="102" y="196"/>
                      <a:pt x="142" y="129"/>
                      <a:pt x="107" y="201"/>
                    </a:cubicBezTo>
                    <a:cubicBezTo>
                      <a:pt x="115" y="165"/>
                      <a:pt x="118" y="159"/>
                      <a:pt x="152" y="148"/>
                    </a:cubicBezTo>
                    <a:cubicBezTo>
                      <a:pt x="169" y="153"/>
                      <a:pt x="240" y="202"/>
                      <a:pt x="183" y="163"/>
                    </a:cubicBezTo>
                    <a:cubicBezTo>
                      <a:pt x="190" y="160"/>
                      <a:pt x="197" y="155"/>
                      <a:pt x="205" y="155"/>
                    </a:cubicBezTo>
                    <a:cubicBezTo>
                      <a:pt x="216" y="155"/>
                      <a:pt x="226" y="168"/>
                      <a:pt x="236" y="163"/>
                    </a:cubicBezTo>
                    <a:cubicBezTo>
                      <a:pt x="243" y="160"/>
                      <a:pt x="227" y="151"/>
                      <a:pt x="220" y="148"/>
                    </a:cubicBezTo>
                    <a:cubicBezTo>
                      <a:pt x="211" y="143"/>
                      <a:pt x="200" y="142"/>
                      <a:pt x="190" y="140"/>
                    </a:cubicBezTo>
                    <a:cubicBezTo>
                      <a:pt x="172" y="137"/>
                      <a:pt x="155" y="135"/>
                      <a:pt x="137" y="132"/>
                    </a:cubicBezTo>
                    <a:cubicBezTo>
                      <a:pt x="159" y="100"/>
                      <a:pt x="143" y="115"/>
                      <a:pt x="183" y="95"/>
                    </a:cubicBezTo>
                    <a:cubicBezTo>
                      <a:pt x="255" y="59"/>
                      <a:pt x="263" y="57"/>
                      <a:pt x="220" y="72"/>
                    </a:cubicBezTo>
                    <a:cubicBezTo>
                      <a:pt x="215" y="80"/>
                      <a:pt x="211" y="88"/>
                      <a:pt x="205" y="95"/>
                    </a:cubicBezTo>
                    <a:cubicBezTo>
                      <a:pt x="198" y="103"/>
                      <a:pt x="178" y="126"/>
                      <a:pt x="183" y="117"/>
                    </a:cubicBezTo>
                    <a:cubicBezTo>
                      <a:pt x="196" y="96"/>
                      <a:pt x="210" y="75"/>
                      <a:pt x="228" y="57"/>
                    </a:cubicBezTo>
                    <a:cubicBezTo>
                      <a:pt x="285" y="0"/>
                      <a:pt x="232" y="76"/>
                      <a:pt x="228" y="79"/>
                    </a:cubicBezTo>
                    <a:cubicBezTo>
                      <a:pt x="222" y="84"/>
                      <a:pt x="213" y="84"/>
                      <a:pt x="205" y="87"/>
                    </a:cubicBezTo>
                    <a:cubicBezTo>
                      <a:pt x="225" y="90"/>
                      <a:pt x="246" y="92"/>
                      <a:pt x="266" y="95"/>
                    </a:cubicBezTo>
                    <a:cubicBezTo>
                      <a:pt x="276" y="97"/>
                      <a:pt x="306" y="102"/>
                      <a:pt x="296" y="102"/>
                    </a:cubicBezTo>
                    <a:cubicBezTo>
                      <a:pt x="266" y="102"/>
                      <a:pt x="235" y="95"/>
                      <a:pt x="205" y="9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888"/>
              <p:cNvSpPr/>
              <p:nvPr/>
            </p:nvSpPr>
            <p:spPr>
              <a:xfrm flipH="1" rot="20969400">
                <a:off x="8725320" y="4216680"/>
                <a:ext cx="258840" cy="79920"/>
              </a:xfrm>
              <a:custGeom>
                <a:avLst/>
                <a:gdLst/>
                <a:ahLst/>
                <a:rect l="l" t="t" r="r" b="b"/>
                <a:pathLst>
                  <a:path w="333" h="103">
                    <a:moveTo>
                      <a:pt x="304" y="92"/>
                    </a:moveTo>
                    <a:cubicBezTo>
                      <a:pt x="257" y="61"/>
                      <a:pt x="236" y="71"/>
                      <a:pt x="175" y="77"/>
                    </a:cubicBezTo>
                    <a:cubicBezTo>
                      <a:pt x="92" y="102"/>
                      <a:pt x="38" y="84"/>
                      <a:pt x="288" y="84"/>
                    </a:cubicBezTo>
                    <a:cubicBezTo>
                      <a:pt x="333" y="84"/>
                      <a:pt x="197" y="89"/>
                      <a:pt x="152" y="92"/>
                    </a:cubicBezTo>
                    <a:cubicBezTo>
                      <a:pt x="142" y="87"/>
                      <a:pt x="126" y="88"/>
                      <a:pt x="122" y="77"/>
                    </a:cubicBezTo>
                    <a:cubicBezTo>
                      <a:pt x="112" y="48"/>
                      <a:pt x="178" y="86"/>
                      <a:pt x="167" y="77"/>
                    </a:cubicBezTo>
                    <a:cubicBezTo>
                      <a:pt x="148" y="62"/>
                      <a:pt x="83" y="32"/>
                      <a:pt x="106" y="39"/>
                    </a:cubicBezTo>
                    <a:cubicBezTo>
                      <a:pt x="114" y="41"/>
                      <a:pt x="137" y="46"/>
                      <a:pt x="129" y="46"/>
                    </a:cubicBezTo>
                    <a:cubicBezTo>
                      <a:pt x="119" y="46"/>
                      <a:pt x="109" y="41"/>
                      <a:pt x="99" y="39"/>
                    </a:cubicBezTo>
                    <a:cubicBezTo>
                      <a:pt x="39" y="0"/>
                      <a:pt x="115" y="40"/>
                      <a:pt x="122" y="46"/>
                    </a:cubicBezTo>
                    <a:cubicBezTo>
                      <a:pt x="156" y="75"/>
                      <a:pt x="149" y="76"/>
                      <a:pt x="114" y="54"/>
                    </a:cubicBezTo>
                    <a:cubicBezTo>
                      <a:pt x="103" y="47"/>
                      <a:pt x="94" y="39"/>
                      <a:pt x="84" y="31"/>
                    </a:cubicBezTo>
                    <a:cubicBezTo>
                      <a:pt x="75" y="24"/>
                      <a:pt x="105" y="39"/>
                      <a:pt x="114" y="46"/>
                    </a:cubicBezTo>
                    <a:cubicBezTo>
                      <a:pt x="123" y="52"/>
                      <a:pt x="129" y="61"/>
                      <a:pt x="137" y="69"/>
                    </a:cubicBezTo>
                    <a:cubicBezTo>
                      <a:pt x="66" y="94"/>
                      <a:pt x="197" y="50"/>
                      <a:pt x="46" y="84"/>
                    </a:cubicBezTo>
                    <a:cubicBezTo>
                      <a:pt x="35" y="86"/>
                      <a:pt x="5" y="97"/>
                      <a:pt x="16" y="99"/>
                    </a:cubicBezTo>
                    <a:cubicBezTo>
                      <a:pt x="43" y="103"/>
                      <a:pt x="127" y="92"/>
                      <a:pt x="99" y="92"/>
                    </a:cubicBezTo>
                    <a:cubicBezTo>
                      <a:pt x="66" y="92"/>
                      <a:pt x="0" y="99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889"/>
              <p:cNvSpPr/>
              <p:nvPr/>
            </p:nvSpPr>
            <p:spPr>
              <a:xfrm flipH="1" rot="20969400">
                <a:off x="8647200" y="4142880"/>
                <a:ext cx="100080" cy="626760"/>
              </a:xfrm>
              <a:custGeom>
                <a:avLst/>
                <a:gdLst/>
                <a:ahLst/>
                <a:rect l="l" t="t" r="r" b="b"/>
                <a:pathLst>
                  <a:path w="129" h="804">
                    <a:moveTo>
                      <a:pt x="15" y="758"/>
                    </a:moveTo>
                    <a:cubicBezTo>
                      <a:pt x="17" y="763"/>
                      <a:pt x="29" y="804"/>
                      <a:pt x="38" y="804"/>
                    </a:cubicBezTo>
                    <a:cubicBezTo>
                      <a:pt x="46" y="804"/>
                      <a:pt x="43" y="789"/>
                      <a:pt x="45" y="781"/>
                    </a:cubicBezTo>
                    <a:cubicBezTo>
                      <a:pt x="48" y="771"/>
                      <a:pt x="50" y="761"/>
                      <a:pt x="53" y="751"/>
                    </a:cubicBezTo>
                    <a:cubicBezTo>
                      <a:pt x="63" y="761"/>
                      <a:pt x="72" y="773"/>
                      <a:pt x="83" y="781"/>
                    </a:cubicBezTo>
                    <a:cubicBezTo>
                      <a:pt x="90" y="786"/>
                      <a:pt x="102" y="796"/>
                      <a:pt x="106" y="789"/>
                    </a:cubicBezTo>
                    <a:cubicBezTo>
                      <a:pt x="110" y="781"/>
                      <a:pt x="97" y="773"/>
                      <a:pt x="91" y="766"/>
                    </a:cubicBezTo>
                    <a:cubicBezTo>
                      <a:pt x="82" y="755"/>
                      <a:pt x="71" y="746"/>
                      <a:pt x="61" y="736"/>
                    </a:cubicBezTo>
                    <a:cubicBezTo>
                      <a:pt x="58" y="728"/>
                      <a:pt x="47" y="719"/>
                      <a:pt x="53" y="713"/>
                    </a:cubicBezTo>
                    <a:cubicBezTo>
                      <a:pt x="58" y="707"/>
                      <a:pt x="76" y="728"/>
                      <a:pt x="76" y="720"/>
                    </a:cubicBezTo>
                    <a:cubicBezTo>
                      <a:pt x="76" y="700"/>
                      <a:pt x="21" y="693"/>
                      <a:pt x="38" y="675"/>
                    </a:cubicBezTo>
                    <a:cubicBezTo>
                      <a:pt x="45" y="668"/>
                      <a:pt x="58" y="680"/>
                      <a:pt x="68" y="682"/>
                    </a:cubicBezTo>
                    <a:cubicBezTo>
                      <a:pt x="68" y="682"/>
                      <a:pt x="53" y="667"/>
                      <a:pt x="45" y="660"/>
                    </a:cubicBezTo>
                    <a:cubicBezTo>
                      <a:pt x="25" y="596"/>
                      <a:pt x="41" y="668"/>
                      <a:pt x="61" y="645"/>
                    </a:cubicBezTo>
                    <a:cubicBezTo>
                      <a:pt x="66" y="639"/>
                      <a:pt x="38" y="632"/>
                      <a:pt x="45" y="629"/>
                    </a:cubicBezTo>
                    <a:cubicBezTo>
                      <a:pt x="57" y="625"/>
                      <a:pt x="70" y="634"/>
                      <a:pt x="83" y="637"/>
                    </a:cubicBezTo>
                    <a:cubicBezTo>
                      <a:pt x="88" y="645"/>
                      <a:pt x="99" y="651"/>
                      <a:pt x="99" y="660"/>
                    </a:cubicBezTo>
                    <a:cubicBezTo>
                      <a:pt x="99" y="667"/>
                      <a:pt x="88" y="650"/>
                      <a:pt x="83" y="645"/>
                    </a:cubicBezTo>
                    <a:cubicBezTo>
                      <a:pt x="80" y="642"/>
                      <a:pt x="50" y="612"/>
                      <a:pt x="53" y="607"/>
                    </a:cubicBezTo>
                    <a:cubicBezTo>
                      <a:pt x="57" y="600"/>
                      <a:pt x="68" y="612"/>
                      <a:pt x="76" y="614"/>
                    </a:cubicBezTo>
                    <a:cubicBezTo>
                      <a:pt x="72" y="612"/>
                      <a:pt x="31" y="589"/>
                      <a:pt x="38" y="576"/>
                    </a:cubicBezTo>
                    <a:cubicBezTo>
                      <a:pt x="42" y="569"/>
                      <a:pt x="53" y="581"/>
                      <a:pt x="61" y="584"/>
                    </a:cubicBezTo>
                    <a:cubicBezTo>
                      <a:pt x="63" y="576"/>
                      <a:pt x="62" y="567"/>
                      <a:pt x="68" y="561"/>
                    </a:cubicBezTo>
                    <a:cubicBezTo>
                      <a:pt x="74" y="555"/>
                      <a:pt x="93" y="562"/>
                      <a:pt x="91" y="554"/>
                    </a:cubicBezTo>
                    <a:cubicBezTo>
                      <a:pt x="88" y="543"/>
                      <a:pt x="70" y="544"/>
                      <a:pt x="61" y="538"/>
                    </a:cubicBezTo>
                    <a:cubicBezTo>
                      <a:pt x="55" y="534"/>
                      <a:pt x="50" y="528"/>
                      <a:pt x="45" y="523"/>
                    </a:cubicBezTo>
                    <a:cubicBezTo>
                      <a:pt x="43" y="516"/>
                      <a:pt x="32" y="505"/>
                      <a:pt x="38" y="501"/>
                    </a:cubicBezTo>
                    <a:cubicBezTo>
                      <a:pt x="47" y="495"/>
                      <a:pt x="65" y="518"/>
                      <a:pt x="68" y="508"/>
                    </a:cubicBezTo>
                    <a:cubicBezTo>
                      <a:pt x="77" y="478"/>
                      <a:pt x="0" y="468"/>
                      <a:pt x="76" y="485"/>
                    </a:cubicBezTo>
                    <a:cubicBezTo>
                      <a:pt x="68" y="478"/>
                      <a:pt x="61" y="470"/>
                      <a:pt x="53" y="463"/>
                    </a:cubicBezTo>
                    <a:cubicBezTo>
                      <a:pt x="46" y="457"/>
                      <a:pt x="30" y="457"/>
                      <a:pt x="30" y="448"/>
                    </a:cubicBezTo>
                    <a:cubicBezTo>
                      <a:pt x="30" y="440"/>
                      <a:pt x="46" y="444"/>
                      <a:pt x="53" y="440"/>
                    </a:cubicBezTo>
                    <a:cubicBezTo>
                      <a:pt x="61" y="436"/>
                      <a:pt x="68" y="430"/>
                      <a:pt x="76" y="425"/>
                    </a:cubicBezTo>
                    <a:cubicBezTo>
                      <a:pt x="73" y="412"/>
                      <a:pt x="74" y="399"/>
                      <a:pt x="68" y="387"/>
                    </a:cubicBezTo>
                    <a:cubicBezTo>
                      <a:pt x="52" y="355"/>
                      <a:pt x="26" y="370"/>
                      <a:pt x="68" y="357"/>
                    </a:cubicBezTo>
                    <a:cubicBezTo>
                      <a:pt x="31" y="317"/>
                      <a:pt x="64" y="363"/>
                      <a:pt x="76" y="334"/>
                    </a:cubicBezTo>
                    <a:cubicBezTo>
                      <a:pt x="88" y="305"/>
                      <a:pt x="52" y="296"/>
                      <a:pt x="38" y="288"/>
                    </a:cubicBezTo>
                    <a:cubicBezTo>
                      <a:pt x="83" y="274"/>
                      <a:pt x="48" y="268"/>
                      <a:pt x="23" y="250"/>
                    </a:cubicBezTo>
                    <a:cubicBezTo>
                      <a:pt x="63" y="237"/>
                      <a:pt x="46" y="218"/>
                      <a:pt x="83" y="243"/>
                    </a:cubicBezTo>
                    <a:cubicBezTo>
                      <a:pt x="81" y="235"/>
                      <a:pt x="72" y="227"/>
                      <a:pt x="76" y="220"/>
                    </a:cubicBezTo>
                    <a:cubicBezTo>
                      <a:pt x="85" y="203"/>
                      <a:pt x="129" y="223"/>
                      <a:pt x="76" y="205"/>
                    </a:cubicBezTo>
                    <a:cubicBezTo>
                      <a:pt x="66" y="175"/>
                      <a:pt x="72" y="183"/>
                      <a:pt x="45" y="160"/>
                    </a:cubicBezTo>
                    <a:cubicBezTo>
                      <a:pt x="38" y="154"/>
                      <a:pt x="15" y="148"/>
                      <a:pt x="23" y="144"/>
                    </a:cubicBezTo>
                    <a:cubicBezTo>
                      <a:pt x="35" y="138"/>
                      <a:pt x="48" y="149"/>
                      <a:pt x="61" y="152"/>
                    </a:cubicBezTo>
                    <a:cubicBezTo>
                      <a:pt x="56" y="147"/>
                      <a:pt x="39" y="140"/>
                      <a:pt x="45" y="137"/>
                    </a:cubicBezTo>
                    <a:cubicBezTo>
                      <a:pt x="83" y="117"/>
                      <a:pt x="72" y="167"/>
                      <a:pt x="99" y="167"/>
                    </a:cubicBezTo>
                    <a:cubicBezTo>
                      <a:pt x="108" y="167"/>
                      <a:pt x="76" y="151"/>
                      <a:pt x="83" y="144"/>
                    </a:cubicBezTo>
                    <a:cubicBezTo>
                      <a:pt x="91" y="136"/>
                      <a:pt x="104" y="149"/>
                      <a:pt x="114" y="152"/>
                    </a:cubicBezTo>
                    <a:cubicBezTo>
                      <a:pt x="109" y="144"/>
                      <a:pt x="95" y="137"/>
                      <a:pt x="99" y="129"/>
                    </a:cubicBezTo>
                    <a:cubicBezTo>
                      <a:pt x="102" y="122"/>
                      <a:pt x="125" y="144"/>
                      <a:pt x="121" y="137"/>
                    </a:cubicBezTo>
                    <a:cubicBezTo>
                      <a:pt x="109" y="114"/>
                      <a:pt x="16" y="80"/>
                      <a:pt x="106" y="99"/>
                    </a:cubicBezTo>
                    <a:cubicBezTo>
                      <a:pt x="38" y="47"/>
                      <a:pt x="92" y="95"/>
                      <a:pt x="114" y="84"/>
                    </a:cubicBezTo>
                    <a:cubicBezTo>
                      <a:pt x="121" y="80"/>
                      <a:pt x="109" y="69"/>
                      <a:pt x="106" y="61"/>
                    </a:cubicBezTo>
                    <a:cubicBezTo>
                      <a:pt x="109" y="48"/>
                      <a:pt x="114" y="36"/>
                      <a:pt x="114" y="23"/>
                    </a:cubicBezTo>
                    <a:cubicBezTo>
                      <a:pt x="114" y="15"/>
                      <a:pt x="106" y="0"/>
                      <a:pt x="10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890"/>
              <p:cNvSpPr/>
              <p:nvPr/>
            </p:nvSpPr>
            <p:spPr>
              <a:xfrm flipH="1" rot="20969400">
                <a:off x="8256600" y="3804120"/>
                <a:ext cx="786600" cy="680760"/>
              </a:xfrm>
              <a:custGeom>
                <a:avLst/>
                <a:gdLst/>
                <a:ahLst/>
                <a:rect l="l" t="t" r="r" b="b"/>
                <a:pathLst>
                  <a:path w="1011" h="873">
                    <a:moveTo>
                      <a:pt x="60" y="636"/>
                    </a:moveTo>
                    <a:cubicBezTo>
                      <a:pt x="48" y="661"/>
                      <a:pt x="41" y="686"/>
                      <a:pt x="30" y="712"/>
                    </a:cubicBezTo>
                    <a:cubicBezTo>
                      <a:pt x="19" y="738"/>
                      <a:pt x="0" y="763"/>
                      <a:pt x="30" y="720"/>
                    </a:cubicBezTo>
                    <a:cubicBezTo>
                      <a:pt x="35" y="728"/>
                      <a:pt x="44" y="734"/>
                      <a:pt x="45" y="743"/>
                    </a:cubicBezTo>
                    <a:cubicBezTo>
                      <a:pt x="50" y="780"/>
                      <a:pt x="6" y="785"/>
                      <a:pt x="75" y="758"/>
                    </a:cubicBezTo>
                    <a:cubicBezTo>
                      <a:pt x="78" y="768"/>
                      <a:pt x="80" y="778"/>
                      <a:pt x="83" y="788"/>
                    </a:cubicBezTo>
                    <a:cubicBezTo>
                      <a:pt x="85" y="798"/>
                      <a:pt x="80" y="822"/>
                      <a:pt x="90" y="818"/>
                    </a:cubicBezTo>
                    <a:cubicBezTo>
                      <a:pt x="113" y="809"/>
                      <a:pt x="143" y="765"/>
                      <a:pt x="143" y="765"/>
                    </a:cubicBezTo>
                    <a:cubicBezTo>
                      <a:pt x="146" y="795"/>
                      <a:pt x="140" y="828"/>
                      <a:pt x="151" y="856"/>
                    </a:cubicBezTo>
                    <a:cubicBezTo>
                      <a:pt x="155" y="866"/>
                      <a:pt x="160" y="835"/>
                      <a:pt x="166" y="826"/>
                    </a:cubicBezTo>
                    <a:cubicBezTo>
                      <a:pt x="179" y="806"/>
                      <a:pt x="189" y="796"/>
                      <a:pt x="204" y="780"/>
                    </a:cubicBezTo>
                    <a:cubicBezTo>
                      <a:pt x="206" y="803"/>
                      <a:pt x="198" y="830"/>
                      <a:pt x="211" y="849"/>
                    </a:cubicBezTo>
                    <a:cubicBezTo>
                      <a:pt x="217" y="858"/>
                      <a:pt x="229" y="835"/>
                      <a:pt x="234" y="826"/>
                    </a:cubicBezTo>
                    <a:cubicBezTo>
                      <a:pt x="239" y="817"/>
                      <a:pt x="239" y="806"/>
                      <a:pt x="242" y="796"/>
                    </a:cubicBezTo>
                    <a:cubicBezTo>
                      <a:pt x="264" y="863"/>
                      <a:pt x="255" y="857"/>
                      <a:pt x="265" y="773"/>
                    </a:cubicBezTo>
                    <a:cubicBezTo>
                      <a:pt x="267" y="780"/>
                      <a:pt x="273" y="823"/>
                      <a:pt x="287" y="826"/>
                    </a:cubicBezTo>
                    <a:cubicBezTo>
                      <a:pt x="296" y="828"/>
                      <a:pt x="302" y="816"/>
                      <a:pt x="310" y="811"/>
                    </a:cubicBezTo>
                    <a:cubicBezTo>
                      <a:pt x="329" y="756"/>
                      <a:pt x="305" y="814"/>
                      <a:pt x="325" y="841"/>
                    </a:cubicBezTo>
                    <a:cubicBezTo>
                      <a:pt x="330" y="848"/>
                      <a:pt x="335" y="826"/>
                      <a:pt x="340" y="818"/>
                    </a:cubicBezTo>
                    <a:cubicBezTo>
                      <a:pt x="359" y="873"/>
                      <a:pt x="356" y="801"/>
                      <a:pt x="363" y="780"/>
                    </a:cubicBezTo>
                    <a:cubicBezTo>
                      <a:pt x="368" y="785"/>
                      <a:pt x="375" y="789"/>
                      <a:pt x="378" y="796"/>
                    </a:cubicBezTo>
                    <a:cubicBezTo>
                      <a:pt x="394" y="833"/>
                      <a:pt x="375" y="850"/>
                      <a:pt x="401" y="811"/>
                    </a:cubicBezTo>
                    <a:cubicBezTo>
                      <a:pt x="418" y="745"/>
                      <a:pt x="400" y="800"/>
                      <a:pt x="416" y="833"/>
                    </a:cubicBezTo>
                    <a:cubicBezTo>
                      <a:pt x="419" y="840"/>
                      <a:pt x="422" y="818"/>
                      <a:pt x="424" y="811"/>
                    </a:cubicBezTo>
                    <a:cubicBezTo>
                      <a:pt x="427" y="803"/>
                      <a:pt x="429" y="796"/>
                      <a:pt x="431" y="788"/>
                    </a:cubicBezTo>
                    <a:cubicBezTo>
                      <a:pt x="436" y="798"/>
                      <a:pt x="442" y="808"/>
                      <a:pt x="446" y="818"/>
                    </a:cubicBezTo>
                    <a:cubicBezTo>
                      <a:pt x="458" y="845"/>
                      <a:pt x="450" y="852"/>
                      <a:pt x="462" y="818"/>
                    </a:cubicBezTo>
                    <a:cubicBezTo>
                      <a:pt x="469" y="821"/>
                      <a:pt x="477" y="822"/>
                      <a:pt x="484" y="826"/>
                    </a:cubicBezTo>
                    <a:cubicBezTo>
                      <a:pt x="495" y="832"/>
                      <a:pt x="503" y="843"/>
                      <a:pt x="515" y="849"/>
                    </a:cubicBezTo>
                    <a:cubicBezTo>
                      <a:pt x="531" y="857"/>
                      <a:pt x="551" y="858"/>
                      <a:pt x="568" y="864"/>
                    </a:cubicBezTo>
                    <a:cubicBezTo>
                      <a:pt x="573" y="854"/>
                      <a:pt x="579" y="844"/>
                      <a:pt x="583" y="833"/>
                    </a:cubicBezTo>
                    <a:cubicBezTo>
                      <a:pt x="586" y="826"/>
                      <a:pt x="583" y="808"/>
                      <a:pt x="590" y="811"/>
                    </a:cubicBezTo>
                    <a:cubicBezTo>
                      <a:pt x="601" y="815"/>
                      <a:pt x="599" y="832"/>
                      <a:pt x="606" y="841"/>
                    </a:cubicBezTo>
                    <a:cubicBezTo>
                      <a:pt x="612" y="848"/>
                      <a:pt x="621" y="851"/>
                      <a:pt x="628" y="856"/>
                    </a:cubicBezTo>
                    <a:cubicBezTo>
                      <a:pt x="633" y="848"/>
                      <a:pt x="639" y="841"/>
                      <a:pt x="643" y="833"/>
                    </a:cubicBezTo>
                    <a:cubicBezTo>
                      <a:pt x="647" y="826"/>
                      <a:pt x="643" y="811"/>
                      <a:pt x="651" y="811"/>
                    </a:cubicBezTo>
                    <a:cubicBezTo>
                      <a:pt x="659" y="811"/>
                      <a:pt x="654" y="827"/>
                      <a:pt x="659" y="833"/>
                    </a:cubicBezTo>
                    <a:cubicBezTo>
                      <a:pt x="663" y="838"/>
                      <a:pt x="699" y="861"/>
                      <a:pt x="704" y="864"/>
                    </a:cubicBezTo>
                    <a:cubicBezTo>
                      <a:pt x="707" y="854"/>
                      <a:pt x="709" y="843"/>
                      <a:pt x="712" y="833"/>
                    </a:cubicBezTo>
                    <a:cubicBezTo>
                      <a:pt x="714" y="823"/>
                      <a:pt x="710" y="808"/>
                      <a:pt x="719" y="803"/>
                    </a:cubicBezTo>
                    <a:cubicBezTo>
                      <a:pt x="727" y="799"/>
                      <a:pt x="735" y="812"/>
                      <a:pt x="742" y="818"/>
                    </a:cubicBezTo>
                    <a:cubicBezTo>
                      <a:pt x="758" y="832"/>
                      <a:pt x="787" y="864"/>
                      <a:pt x="787" y="864"/>
                    </a:cubicBezTo>
                    <a:cubicBezTo>
                      <a:pt x="785" y="846"/>
                      <a:pt x="783" y="828"/>
                      <a:pt x="780" y="811"/>
                    </a:cubicBezTo>
                    <a:cubicBezTo>
                      <a:pt x="778" y="803"/>
                      <a:pt x="764" y="788"/>
                      <a:pt x="772" y="788"/>
                    </a:cubicBezTo>
                    <a:cubicBezTo>
                      <a:pt x="798" y="788"/>
                      <a:pt x="810" y="830"/>
                      <a:pt x="825" y="841"/>
                    </a:cubicBezTo>
                    <a:cubicBezTo>
                      <a:pt x="836" y="849"/>
                      <a:pt x="850" y="851"/>
                      <a:pt x="863" y="856"/>
                    </a:cubicBezTo>
                    <a:cubicBezTo>
                      <a:pt x="866" y="846"/>
                      <a:pt x="872" y="836"/>
                      <a:pt x="871" y="826"/>
                    </a:cubicBezTo>
                    <a:cubicBezTo>
                      <a:pt x="870" y="817"/>
                      <a:pt x="848" y="807"/>
                      <a:pt x="856" y="803"/>
                    </a:cubicBezTo>
                    <a:cubicBezTo>
                      <a:pt x="859" y="801"/>
                      <a:pt x="909" y="833"/>
                      <a:pt x="931" y="841"/>
                    </a:cubicBezTo>
                    <a:cubicBezTo>
                      <a:pt x="926" y="828"/>
                      <a:pt x="923" y="815"/>
                      <a:pt x="916" y="803"/>
                    </a:cubicBezTo>
                    <a:cubicBezTo>
                      <a:pt x="910" y="794"/>
                      <a:pt x="894" y="791"/>
                      <a:pt x="894" y="780"/>
                    </a:cubicBezTo>
                    <a:cubicBezTo>
                      <a:pt x="894" y="772"/>
                      <a:pt x="909" y="775"/>
                      <a:pt x="916" y="773"/>
                    </a:cubicBezTo>
                    <a:cubicBezTo>
                      <a:pt x="991" y="809"/>
                      <a:pt x="927" y="755"/>
                      <a:pt x="909" y="743"/>
                    </a:cubicBezTo>
                    <a:cubicBezTo>
                      <a:pt x="946" y="730"/>
                      <a:pt x="956" y="733"/>
                      <a:pt x="931" y="697"/>
                    </a:cubicBezTo>
                    <a:cubicBezTo>
                      <a:pt x="963" y="667"/>
                      <a:pt x="933" y="651"/>
                      <a:pt x="977" y="636"/>
                    </a:cubicBezTo>
                    <a:cubicBezTo>
                      <a:pt x="921" y="599"/>
                      <a:pt x="982" y="616"/>
                      <a:pt x="1000" y="621"/>
                    </a:cubicBezTo>
                    <a:cubicBezTo>
                      <a:pt x="986" y="583"/>
                      <a:pt x="967" y="563"/>
                      <a:pt x="931" y="545"/>
                    </a:cubicBezTo>
                    <a:cubicBezTo>
                      <a:pt x="926" y="538"/>
                      <a:pt x="908" y="527"/>
                      <a:pt x="916" y="523"/>
                    </a:cubicBezTo>
                    <a:cubicBezTo>
                      <a:pt x="927" y="518"/>
                      <a:pt x="937" y="544"/>
                      <a:pt x="947" y="538"/>
                    </a:cubicBezTo>
                    <a:cubicBezTo>
                      <a:pt x="956" y="532"/>
                      <a:pt x="943" y="517"/>
                      <a:pt x="939" y="508"/>
                    </a:cubicBezTo>
                    <a:cubicBezTo>
                      <a:pt x="927" y="480"/>
                      <a:pt x="921" y="484"/>
                      <a:pt x="894" y="470"/>
                    </a:cubicBezTo>
                    <a:cubicBezTo>
                      <a:pt x="886" y="460"/>
                      <a:pt x="881" y="447"/>
                      <a:pt x="871" y="439"/>
                    </a:cubicBezTo>
                    <a:cubicBezTo>
                      <a:pt x="854" y="425"/>
                      <a:pt x="820" y="439"/>
                      <a:pt x="878" y="424"/>
                    </a:cubicBezTo>
                    <a:cubicBezTo>
                      <a:pt x="880" y="424"/>
                      <a:pt x="963" y="449"/>
                      <a:pt x="894" y="409"/>
                    </a:cubicBezTo>
                    <a:cubicBezTo>
                      <a:pt x="886" y="404"/>
                      <a:pt x="831" y="395"/>
                      <a:pt x="825" y="394"/>
                    </a:cubicBezTo>
                    <a:cubicBezTo>
                      <a:pt x="845" y="391"/>
                      <a:pt x="868" y="396"/>
                      <a:pt x="886" y="386"/>
                    </a:cubicBezTo>
                    <a:cubicBezTo>
                      <a:pt x="908" y="374"/>
                      <a:pt x="921" y="351"/>
                      <a:pt x="939" y="333"/>
                    </a:cubicBezTo>
                    <a:cubicBezTo>
                      <a:pt x="952" y="320"/>
                      <a:pt x="904" y="343"/>
                      <a:pt x="886" y="348"/>
                    </a:cubicBezTo>
                    <a:cubicBezTo>
                      <a:pt x="911" y="315"/>
                      <a:pt x="936" y="290"/>
                      <a:pt x="969" y="265"/>
                    </a:cubicBezTo>
                    <a:cubicBezTo>
                      <a:pt x="918" y="251"/>
                      <a:pt x="957" y="254"/>
                      <a:pt x="901" y="280"/>
                    </a:cubicBezTo>
                    <a:cubicBezTo>
                      <a:pt x="887" y="287"/>
                      <a:pt x="856" y="295"/>
                      <a:pt x="856" y="295"/>
                    </a:cubicBezTo>
                    <a:cubicBezTo>
                      <a:pt x="868" y="279"/>
                      <a:pt x="884" y="267"/>
                      <a:pt x="894" y="250"/>
                    </a:cubicBezTo>
                    <a:cubicBezTo>
                      <a:pt x="898" y="243"/>
                      <a:pt x="908" y="231"/>
                      <a:pt x="901" y="227"/>
                    </a:cubicBezTo>
                    <a:cubicBezTo>
                      <a:pt x="900" y="226"/>
                      <a:pt x="853" y="241"/>
                      <a:pt x="848" y="242"/>
                    </a:cubicBezTo>
                    <a:cubicBezTo>
                      <a:pt x="843" y="235"/>
                      <a:pt x="835" y="229"/>
                      <a:pt x="833" y="220"/>
                    </a:cubicBezTo>
                    <a:cubicBezTo>
                      <a:pt x="817" y="161"/>
                      <a:pt x="839" y="137"/>
                      <a:pt x="810" y="182"/>
                    </a:cubicBezTo>
                    <a:cubicBezTo>
                      <a:pt x="753" y="167"/>
                      <a:pt x="769" y="126"/>
                      <a:pt x="704" y="106"/>
                    </a:cubicBezTo>
                    <a:cubicBezTo>
                      <a:pt x="699" y="116"/>
                      <a:pt x="693" y="126"/>
                      <a:pt x="689" y="136"/>
                    </a:cubicBezTo>
                    <a:cubicBezTo>
                      <a:pt x="685" y="146"/>
                      <a:pt x="691" y="165"/>
                      <a:pt x="681" y="167"/>
                    </a:cubicBezTo>
                    <a:cubicBezTo>
                      <a:pt x="669" y="170"/>
                      <a:pt x="661" y="152"/>
                      <a:pt x="651" y="144"/>
                    </a:cubicBezTo>
                    <a:cubicBezTo>
                      <a:pt x="644" y="123"/>
                      <a:pt x="640" y="98"/>
                      <a:pt x="606" y="98"/>
                    </a:cubicBezTo>
                    <a:cubicBezTo>
                      <a:pt x="598" y="98"/>
                      <a:pt x="620" y="124"/>
                      <a:pt x="613" y="121"/>
                    </a:cubicBezTo>
                    <a:cubicBezTo>
                      <a:pt x="592" y="112"/>
                      <a:pt x="587" y="81"/>
                      <a:pt x="568" y="68"/>
                    </a:cubicBezTo>
                    <a:cubicBezTo>
                      <a:pt x="554" y="58"/>
                      <a:pt x="536" y="54"/>
                      <a:pt x="522" y="45"/>
                    </a:cubicBezTo>
                    <a:cubicBezTo>
                      <a:pt x="517" y="58"/>
                      <a:pt x="520" y="81"/>
                      <a:pt x="507" y="83"/>
                    </a:cubicBezTo>
                    <a:cubicBezTo>
                      <a:pt x="491" y="85"/>
                      <a:pt x="482" y="63"/>
                      <a:pt x="469" y="53"/>
                    </a:cubicBezTo>
                    <a:cubicBezTo>
                      <a:pt x="444" y="34"/>
                      <a:pt x="442" y="36"/>
                      <a:pt x="409" y="23"/>
                    </a:cubicBezTo>
                    <a:cubicBezTo>
                      <a:pt x="396" y="25"/>
                      <a:pt x="379" y="20"/>
                      <a:pt x="371" y="30"/>
                    </a:cubicBezTo>
                    <a:cubicBezTo>
                      <a:pt x="366" y="35"/>
                      <a:pt x="393" y="98"/>
                      <a:pt x="393" y="121"/>
                    </a:cubicBezTo>
                    <a:cubicBezTo>
                      <a:pt x="393" y="129"/>
                      <a:pt x="390" y="105"/>
                      <a:pt x="386" y="98"/>
                    </a:cubicBezTo>
                    <a:cubicBezTo>
                      <a:pt x="377" y="82"/>
                      <a:pt x="369" y="65"/>
                      <a:pt x="355" y="53"/>
                    </a:cubicBezTo>
                    <a:cubicBezTo>
                      <a:pt x="332" y="33"/>
                      <a:pt x="307" y="25"/>
                      <a:pt x="280" y="15"/>
                    </a:cubicBezTo>
                    <a:cubicBezTo>
                      <a:pt x="277" y="23"/>
                      <a:pt x="270" y="30"/>
                      <a:pt x="272" y="38"/>
                    </a:cubicBezTo>
                    <a:cubicBezTo>
                      <a:pt x="277" y="57"/>
                      <a:pt x="302" y="98"/>
                      <a:pt x="318" y="113"/>
                    </a:cubicBezTo>
                    <a:cubicBezTo>
                      <a:pt x="285" y="124"/>
                      <a:pt x="260" y="114"/>
                      <a:pt x="227" y="106"/>
                    </a:cubicBezTo>
                    <a:cubicBezTo>
                      <a:pt x="259" y="128"/>
                      <a:pt x="304" y="120"/>
                      <a:pt x="257" y="151"/>
                    </a:cubicBezTo>
                    <a:cubicBezTo>
                      <a:pt x="265" y="156"/>
                      <a:pt x="272" y="162"/>
                      <a:pt x="280" y="167"/>
                    </a:cubicBezTo>
                    <a:cubicBezTo>
                      <a:pt x="290" y="173"/>
                      <a:pt x="310" y="171"/>
                      <a:pt x="310" y="182"/>
                    </a:cubicBezTo>
                    <a:cubicBezTo>
                      <a:pt x="310" y="193"/>
                      <a:pt x="254" y="203"/>
                      <a:pt x="249" y="204"/>
                    </a:cubicBezTo>
                    <a:cubicBezTo>
                      <a:pt x="226" y="202"/>
                      <a:pt x="204" y="197"/>
                      <a:pt x="181" y="197"/>
                    </a:cubicBezTo>
                    <a:cubicBezTo>
                      <a:pt x="173" y="197"/>
                      <a:pt x="162" y="197"/>
                      <a:pt x="158" y="204"/>
                    </a:cubicBezTo>
                    <a:cubicBezTo>
                      <a:pt x="145" y="231"/>
                      <a:pt x="205" y="236"/>
                      <a:pt x="136" y="220"/>
                    </a:cubicBezTo>
                    <a:cubicBezTo>
                      <a:pt x="166" y="235"/>
                      <a:pt x="170" y="235"/>
                      <a:pt x="196" y="257"/>
                    </a:cubicBezTo>
                    <a:cubicBezTo>
                      <a:pt x="228" y="284"/>
                      <a:pt x="204" y="274"/>
                      <a:pt x="166" y="265"/>
                    </a:cubicBezTo>
                    <a:cubicBezTo>
                      <a:pt x="158" y="263"/>
                      <a:pt x="151" y="260"/>
                      <a:pt x="143" y="257"/>
                    </a:cubicBezTo>
                    <a:cubicBezTo>
                      <a:pt x="141" y="267"/>
                      <a:pt x="136" y="277"/>
                      <a:pt x="136" y="288"/>
                    </a:cubicBezTo>
                    <a:cubicBezTo>
                      <a:pt x="136" y="329"/>
                      <a:pt x="159" y="312"/>
                      <a:pt x="121" y="326"/>
                    </a:cubicBezTo>
                    <a:cubicBezTo>
                      <a:pt x="116" y="331"/>
                      <a:pt x="111" y="337"/>
                      <a:pt x="105" y="341"/>
                    </a:cubicBezTo>
                    <a:cubicBezTo>
                      <a:pt x="98" y="345"/>
                      <a:pt x="85" y="341"/>
                      <a:pt x="83" y="348"/>
                    </a:cubicBezTo>
                    <a:cubicBezTo>
                      <a:pt x="79" y="362"/>
                      <a:pt x="118" y="370"/>
                      <a:pt x="121" y="371"/>
                    </a:cubicBezTo>
                    <a:cubicBezTo>
                      <a:pt x="110" y="401"/>
                      <a:pt x="98" y="417"/>
                      <a:pt x="75" y="439"/>
                    </a:cubicBezTo>
                    <a:cubicBezTo>
                      <a:pt x="83" y="442"/>
                      <a:pt x="98" y="439"/>
                      <a:pt x="98" y="447"/>
                    </a:cubicBezTo>
                    <a:cubicBezTo>
                      <a:pt x="98" y="460"/>
                      <a:pt x="82" y="467"/>
                      <a:pt x="75" y="477"/>
                    </a:cubicBezTo>
                    <a:cubicBezTo>
                      <a:pt x="65" y="492"/>
                      <a:pt x="45" y="523"/>
                      <a:pt x="45" y="523"/>
                    </a:cubicBezTo>
                    <a:cubicBezTo>
                      <a:pt x="131" y="539"/>
                      <a:pt x="52" y="520"/>
                      <a:pt x="22" y="538"/>
                    </a:cubicBezTo>
                    <a:cubicBezTo>
                      <a:pt x="15" y="542"/>
                      <a:pt x="25" y="554"/>
                      <a:pt x="30" y="561"/>
                    </a:cubicBezTo>
                    <a:cubicBezTo>
                      <a:pt x="36" y="570"/>
                      <a:pt x="45" y="576"/>
                      <a:pt x="52" y="583"/>
                    </a:cubicBezTo>
                    <a:cubicBezTo>
                      <a:pt x="47" y="588"/>
                      <a:pt x="43" y="594"/>
                      <a:pt x="37" y="599"/>
                    </a:cubicBezTo>
                    <a:cubicBezTo>
                      <a:pt x="30" y="605"/>
                      <a:pt x="15" y="605"/>
                      <a:pt x="14" y="614"/>
                    </a:cubicBezTo>
                    <a:cubicBezTo>
                      <a:pt x="9" y="645"/>
                      <a:pt x="64" y="662"/>
                      <a:pt x="83" y="674"/>
                    </a:cubicBezTo>
                    <a:cubicBezTo>
                      <a:pt x="73" y="638"/>
                      <a:pt x="67" y="622"/>
                      <a:pt x="45" y="591"/>
                    </a:cubicBezTo>
                    <a:cubicBezTo>
                      <a:pt x="40" y="583"/>
                      <a:pt x="34" y="576"/>
                      <a:pt x="30" y="568"/>
                    </a:cubicBezTo>
                    <a:cubicBezTo>
                      <a:pt x="26" y="561"/>
                      <a:pt x="15" y="549"/>
                      <a:pt x="22" y="545"/>
                    </a:cubicBezTo>
                    <a:cubicBezTo>
                      <a:pt x="34" y="539"/>
                      <a:pt x="47" y="550"/>
                      <a:pt x="60" y="553"/>
                    </a:cubicBezTo>
                    <a:cubicBezTo>
                      <a:pt x="83" y="506"/>
                      <a:pt x="79" y="530"/>
                      <a:pt x="60" y="462"/>
                    </a:cubicBezTo>
                    <a:cubicBezTo>
                      <a:pt x="56" y="447"/>
                      <a:pt x="45" y="417"/>
                      <a:pt x="45" y="417"/>
                    </a:cubicBezTo>
                    <a:cubicBezTo>
                      <a:pt x="55" y="414"/>
                      <a:pt x="65" y="408"/>
                      <a:pt x="75" y="409"/>
                    </a:cubicBezTo>
                    <a:cubicBezTo>
                      <a:pt x="110" y="414"/>
                      <a:pt x="92" y="451"/>
                      <a:pt x="105" y="394"/>
                    </a:cubicBezTo>
                    <a:cubicBezTo>
                      <a:pt x="88" y="301"/>
                      <a:pt x="63" y="305"/>
                      <a:pt x="121" y="318"/>
                    </a:cubicBezTo>
                    <a:cubicBezTo>
                      <a:pt x="207" y="380"/>
                      <a:pt x="173" y="378"/>
                      <a:pt x="181" y="235"/>
                    </a:cubicBezTo>
                    <a:cubicBezTo>
                      <a:pt x="189" y="245"/>
                      <a:pt x="198" y="254"/>
                      <a:pt x="204" y="265"/>
                    </a:cubicBezTo>
                    <a:cubicBezTo>
                      <a:pt x="209" y="274"/>
                      <a:pt x="203" y="289"/>
                      <a:pt x="211" y="295"/>
                    </a:cubicBezTo>
                    <a:cubicBezTo>
                      <a:pt x="217" y="300"/>
                      <a:pt x="226" y="290"/>
                      <a:pt x="234" y="288"/>
                    </a:cubicBezTo>
                    <a:cubicBezTo>
                      <a:pt x="258" y="239"/>
                      <a:pt x="295" y="192"/>
                      <a:pt x="348" y="174"/>
                    </a:cubicBezTo>
                    <a:cubicBezTo>
                      <a:pt x="353" y="182"/>
                      <a:pt x="354" y="200"/>
                      <a:pt x="363" y="197"/>
                    </a:cubicBezTo>
                    <a:cubicBezTo>
                      <a:pt x="377" y="192"/>
                      <a:pt x="377" y="171"/>
                      <a:pt x="386" y="159"/>
                    </a:cubicBezTo>
                    <a:cubicBezTo>
                      <a:pt x="393" y="150"/>
                      <a:pt x="401" y="144"/>
                      <a:pt x="409" y="136"/>
                    </a:cubicBezTo>
                    <a:cubicBezTo>
                      <a:pt x="414" y="146"/>
                      <a:pt x="413" y="168"/>
                      <a:pt x="424" y="167"/>
                    </a:cubicBezTo>
                    <a:cubicBezTo>
                      <a:pt x="448" y="165"/>
                      <a:pt x="527" y="116"/>
                      <a:pt x="560" y="106"/>
                    </a:cubicBezTo>
                    <a:cubicBezTo>
                      <a:pt x="563" y="116"/>
                      <a:pt x="569" y="126"/>
                      <a:pt x="568" y="136"/>
                    </a:cubicBezTo>
                    <a:cubicBezTo>
                      <a:pt x="567" y="147"/>
                      <a:pt x="542" y="167"/>
                      <a:pt x="553" y="167"/>
                    </a:cubicBezTo>
                    <a:cubicBezTo>
                      <a:pt x="567" y="167"/>
                      <a:pt x="572" y="145"/>
                      <a:pt x="583" y="136"/>
                    </a:cubicBezTo>
                    <a:cubicBezTo>
                      <a:pt x="620" y="108"/>
                      <a:pt x="663" y="82"/>
                      <a:pt x="704" y="60"/>
                    </a:cubicBezTo>
                    <a:cubicBezTo>
                      <a:pt x="700" y="66"/>
                      <a:pt x="668" y="129"/>
                      <a:pt x="666" y="129"/>
                    </a:cubicBezTo>
                    <a:cubicBezTo>
                      <a:pt x="658" y="129"/>
                      <a:pt x="671" y="113"/>
                      <a:pt x="674" y="106"/>
                    </a:cubicBezTo>
                    <a:cubicBezTo>
                      <a:pt x="678" y="96"/>
                      <a:pt x="683" y="85"/>
                      <a:pt x="689" y="76"/>
                    </a:cubicBezTo>
                    <a:cubicBezTo>
                      <a:pt x="696" y="65"/>
                      <a:pt x="712" y="58"/>
                      <a:pt x="712" y="45"/>
                    </a:cubicBezTo>
                    <a:cubicBezTo>
                      <a:pt x="712" y="34"/>
                      <a:pt x="696" y="59"/>
                      <a:pt x="689" y="68"/>
                    </a:cubicBezTo>
                    <a:cubicBezTo>
                      <a:pt x="680" y="80"/>
                      <a:pt x="673" y="93"/>
                      <a:pt x="666" y="106"/>
                    </a:cubicBezTo>
                    <a:cubicBezTo>
                      <a:pt x="646" y="141"/>
                      <a:pt x="635" y="146"/>
                      <a:pt x="598" y="159"/>
                    </a:cubicBezTo>
                    <a:cubicBezTo>
                      <a:pt x="581" y="132"/>
                      <a:pt x="568" y="68"/>
                      <a:pt x="568" y="68"/>
                    </a:cubicBezTo>
                    <a:cubicBezTo>
                      <a:pt x="568" y="68"/>
                      <a:pt x="583" y="58"/>
                      <a:pt x="590" y="53"/>
                    </a:cubicBezTo>
                    <a:cubicBezTo>
                      <a:pt x="598" y="63"/>
                      <a:pt x="607" y="72"/>
                      <a:pt x="613" y="83"/>
                    </a:cubicBezTo>
                    <a:cubicBezTo>
                      <a:pt x="618" y="92"/>
                      <a:pt x="612" y="117"/>
                      <a:pt x="621" y="113"/>
                    </a:cubicBezTo>
                    <a:cubicBezTo>
                      <a:pt x="647" y="102"/>
                      <a:pt x="661" y="73"/>
                      <a:pt x="681" y="53"/>
                    </a:cubicBezTo>
                    <a:cubicBezTo>
                      <a:pt x="689" y="45"/>
                      <a:pt x="702" y="48"/>
                      <a:pt x="712" y="45"/>
                    </a:cubicBezTo>
                    <a:cubicBezTo>
                      <a:pt x="717" y="55"/>
                      <a:pt x="727" y="65"/>
                      <a:pt x="727" y="76"/>
                    </a:cubicBezTo>
                    <a:cubicBezTo>
                      <a:pt x="727" y="85"/>
                      <a:pt x="704" y="94"/>
                      <a:pt x="712" y="98"/>
                    </a:cubicBezTo>
                    <a:cubicBezTo>
                      <a:pt x="722" y="103"/>
                      <a:pt x="732" y="88"/>
                      <a:pt x="742" y="83"/>
                    </a:cubicBezTo>
                    <a:cubicBezTo>
                      <a:pt x="782" y="65"/>
                      <a:pt x="820" y="60"/>
                      <a:pt x="863" y="53"/>
                    </a:cubicBezTo>
                    <a:cubicBezTo>
                      <a:pt x="881" y="55"/>
                      <a:pt x="903" y="48"/>
                      <a:pt x="916" y="60"/>
                    </a:cubicBezTo>
                    <a:cubicBezTo>
                      <a:pt x="927" y="71"/>
                      <a:pt x="861" y="104"/>
                      <a:pt x="856" y="106"/>
                    </a:cubicBezTo>
                    <a:cubicBezTo>
                      <a:pt x="851" y="114"/>
                      <a:pt x="848" y="123"/>
                      <a:pt x="841" y="129"/>
                    </a:cubicBezTo>
                    <a:cubicBezTo>
                      <a:pt x="835" y="134"/>
                      <a:pt x="815" y="143"/>
                      <a:pt x="818" y="136"/>
                    </a:cubicBezTo>
                    <a:cubicBezTo>
                      <a:pt x="830" y="108"/>
                      <a:pt x="873" y="109"/>
                      <a:pt x="894" y="106"/>
                    </a:cubicBezTo>
                    <a:cubicBezTo>
                      <a:pt x="867" y="133"/>
                      <a:pt x="854" y="134"/>
                      <a:pt x="818" y="144"/>
                    </a:cubicBezTo>
                    <a:cubicBezTo>
                      <a:pt x="864" y="158"/>
                      <a:pt x="1011" y="156"/>
                      <a:pt x="894" y="174"/>
                    </a:cubicBezTo>
                    <a:cubicBezTo>
                      <a:pt x="904" y="184"/>
                      <a:pt x="916" y="192"/>
                      <a:pt x="924" y="204"/>
                    </a:cubicBezTo>
                    <a:cubicBezTo>
                      <a:pt x="929" y="211"/>
                      <a:pt x="939" y="224"/>
                      <a:pt x="931" y="227"/>
                    </a:cubicBezTo>
                    <a:cubicBezTo>
                      <a:pt x="914" y="233"/>
                      <a:pt x="896" y="222"/>
                      <a:pt x="878" y="220"/>
                    </a:cubicBezTo>
                    <a:cubicBezTo>
                      <a:pt x="871" y="215"/>
                      <a:pt x="864" y="208"/>
                      <a:pt x="856" y="204"/>
                    </a:cubicBezTo>
                    <a:cubicBezTo>
                      <a:pt x="846" y="200"/>
                      <a:pt x="834" y="203"/>
                      <a:pt x="825" y="197"/>
                    </a:cubicBezTo>
                    <a:cubicBezTo>
                      <a:pt x="805" y="182"/>
                      <a:pt x="772" y="144"/>
                      <a:pt x="772" y="144"/>
                    </a:cubicBezTo>
                    <a:cubicBezTo>
                      <a:pt x="765" y="122"/>
                      <a:pt x="778" y="85"/>
                      <a:pt x="757" y="76"/>
                    </a:cubicBezTo>
                    <a:cubicBezTo>
                      <a:pt x="738" y="68"/>
                      <a:pt x="717" y="86"/>
                      <a:pt x="697" y="91"/>
                    </a:cubicBezTo>
                    <a:cubicBezTo>
                      <a:pt x="684" y="94"/>
                      <a:pt x="672" y="96"/>
                      <a:pt x="659" y="98"/>
                    </a:cubicBezTo>
                    <a:cubicBezTo>
                      <a:pt x="644" y="96"/>
                      <a:pt x="626" y="100"/>
                      <a:pt x="613" y="91"/>
                    </a:cubicBezTo>
                    <a:cubicBezTo>
                      <a:pt x="604" y="85"/>
                      <a:pt x="611" y="69"/>
                      <a:pt x="606" y="60"/>
                    </a:cubicBezTo>
                    <a:cubicBezTo>
                      <a:pt x="601" y="51"/>
                      <a:pt x="591" y="45"/>
                      <a:pt x="583" y="38"/>
                    </a:cubicBezTo>
                    <a:cubicBezTo>
                      <a:pt x="578" y="51"/>
                      <a:pt x="572" y="63"/>
                      <a:pt x="568" y="76"/>
                    </a:cubicBezTo>
                    <a:cubicBezTo>
                      <a:pt x="565" y="86"/>
                      <a:pt x="570" y="110"/>
                      <a:pt x="560" y="106"/>
                    </a:cubicBezTo>
                    <a:cubicBezTo>
                      <a:pt x="543" y="99"/>
                      <a:pt x="540" y="75"/>
                      <a:pt x="530" y="60"/>
                    </a:cubicBezTo>
                    <a:cubicBezTo>
                      <a:pt x="513" y="34"/>
                      <a:pt x="495" y="17"/>
                      <a:pt x="469" y="0"/>
                    </a:cubicBezTo>
                    <a:cubicBezTo>
                      <a:pt x="458" y="35"/>
                      <a:pt x="475" y="43"/>
                      <a:pt x="499" y="68"/>
                    </a:cubicBezTo>
                    <a:cubicBezTo>
                      <a:pt x="504" y="60"/>
                      <a:pt x="511" y="54"/>
                      <a:pt x="515" y="45"/>
                    </a:cubicBezTo>
                    <a:cubicBezTo>
                      <a:pt x="519" y="36"/>
                      <a:pt x="513" y="10"/>
                      <a:pt x="522" y="15"/>
                    </a:cubicBezTo>
                    <a:cubicBezTo>
                      <a:pt x="533" y="21"/>
                      <a:pt x="527" y="40"/>
                      <a:pt x="530" y="53"/>
                    </a:cubicBezTo>
                    <a:cubicBezTo>
                      <a:pt x="537" y="81"/>
                      <a:pt x="533" y="72"/>
                      <a:pt x="553" y="91"/>
                    </a:cubicBezTo>
                    <a:cubicBezTo>
                      <a:pt x="603" y="23"/>
                      <a:pt x="577" y="44"/>
                      <a:pt x="621" y="15"/>
                    </a:cubicBezTo>
                    <a:cubicBezTo>
                      <a:pt x="628" y="37"/>
                      <a:pt x="615" y="73"/>
                      <a:pt x="636" y="83"/>
                    </a:cubicBezTo>
                    <a:cubicBezTo>
                      <a:pt x="647" y="88"/>
                      <a:pt x="649" y="61"/>
                      <a:pt x="659" y="53"/>
                    </a:cubicBezTo>
                    <a:cubicBezTo>
                      <a:pt x="678" y="37"/>
                      <a:pt x="681" y="38"/>
                      <a:pt x="697" y="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891"/>
              <p:cNvSpPr/>
              <p:nvPr/>
            </p:nvSpPr>
            <p:spPr>
              <a:xfrm flipH="1" rot="20969400">
                <a:off x="8241480" y="3740400"/>
                <a:ext cx="753120" cy="798840"/>
              </a:xfrm>
              <a:custGeom>
                <a:avLst/>
                <a:gdLst/>
                <a:ahLst/>
                <a:rect l="l" t="t" r="r" b="b"/>
                <a:pathLst>
                  <a:path w="968" h="1025">
                    <a:moveTo>
                      <a:pt x="45" y="771"/>
                    </a:moveTo>
                    <a:cubicBezTo>
                      <a:pt x="30" y="794"/>
                      <a:pt x="27" y="797"/>
                      <a:pt x="15" y="824"/>
                    </a:cubicBezTo>
                    <a:cubicBezTo>
                      <a:pt x="12" y="831"/>
                      <a:pt x="1" y="841"/>
                      <a:pt x="7" y="847"/>
                    </a:cubicBezTo>
                    <a:cubicBezTo>
                      <a:pt x="13" y="853"/>
                      <a:pt x="22" y="842"/>
                      <a:pt x="30" y="839"/>
                    </a:cubicBezTo>
                    <a:cubicBezTo>
                      <a:pt x="57" y="812"/>
                      <a:pt x="76" y="796"/>
                      <a:pt x="114" y="809"/>
                    </a:cubicBezTo>
                    <a:cubicBezTo>
                      <a:pt x="92" y="871"/>
                      <a:pt x="152" y="839"/>
                      <a:pt x="182" y="832"/>
                    </a:cubicBezTo>
                    <a:cubicBezTo>
                      <a:pt x="187" y="847"/>
                      <a:pt x="192" y="862"/>
                      <a:pt x="197" y="877"/>
                    </a:cubicBezTo>
                    <a:cubicBezTo>
                      <a:pt x="201" y="889"/>
                      <a:pt x="222" y="872"/>
                      <a:pt x="235" y="869"/>
                    </a:cubicBezTo>
                    <a:cubicBezTo>
                      <a:pt x="266" y="863"/>
                      <a:pt x="296" y="856"/>
                      <a:pt x="326" y="847"/>
                    </a:cubicBezTo>
                    <a:cubicBezTo>
                      <a:pt x="298" y="925"/>
                      <a:pt x="248" y="872"/>
                      <a:pt x="189" y="862"/>
                    </a:cubicBezTo>
                    <a:cubicBezTo>
                      <a:pt x="156" y="856"/>
                      <a:pt x="91" y="847"/>
                      <a:pt x="91" y="847"/>
                    </a:cubicBezTo>
                    <a:cubicBezTo>
                      <a:pt x="45" y="831"/>
                      <a:pt x="79" y="816"/>
                      <a:pt x="98" y="786"/>
                    </a:cubicBezTo>
                    <a:cubicBezTo>
                      <a:pt x="61" y="778"/>
                      <a:pt x="32" y="769"/>
                      <a:pt x="0" y="748"/>
                    </a:cubicBezTo>
                    <a:cubicBezTo>
                      <a:pt x="37" y="739"/>
                      <a:pt x="150" y="759"/>
                      <a:pt x="68" y="718"/>
                    </a:cubicBezTo>
                    <a:cubicBezTo>
                      <a:pt x="63" y="710"/>
                      <a:pt x="59" y="701"/>
                      <a:pt x="53" y="695"/>
                    </a:cubicBezTo>
                    <a:cubicBezTo>
                      <a:pt x="28" y="670"/>
                      <a:pt x="12" y="689"/>
                      <a:pt x="61" y="665"/>
                    </a:cubicBezTo>
                    <a:cubicBezTo>
                      <a:pt x="84" y="667"/>
                      <a:pt x="107" y="679"/>
                      <a:pt x="129" y="672"/>
                    </a:cubicBezTo>
                    <a:cubicBezTo>
                      <a:pt x="139" y="669"/>
                      <a:pt x="114" y="658"/>
                      <a:pt x="106" y="650"/>
                    </a:cubicBezTo>
                    <a:cubicBezTo>
                      <a:pt x="88" y="632"/>
                      <a:pt x="91" y="635"/>
                      <a:pt x="76" y="612"/>
                    </a:cubicBezTo>
                    <a:cubicBezTo>
                      <a:pt x="86" y="607"/>
                      <a:pt x="100" y="607"/>
                      <a:pt x="106" y="597"/>
                    </a:cubicBezTo>
                    <a:cubicBezTo>
                      <a:pt x="110" y="590"/>
                      <a:pt x="102" y="581"/>
                      <a:pt x="98" y="574"/>
                    </a:cubicBezTo>
                    <a:cubicBezTo>
                      <a:pt x="76" y="535"/>
                      <a:pt x="27" y="521"/>
                      <a:pt x="98" y="536"/>
                    </a:cubicBezTo>
                    <a:cubicBezTo>
                      <a:pt x="101" y="521"/>
                      <a:pt x="97" y="502"/>
                      <a:pt x="106" y="490"/>
                    </a:cubicBezTo>
                    <a:cubicBezTo>
                      <a:pt x="110" y="484"/>
                      <a:pt x="121" y="506"/>
                      <a:pt x="121" y="506"/>
                    </a:cubicBezTo>
                    <a:cubicBezTo>
                      <a:pt x="126" y="529"/>
                      <a:pt x="126" y="553"/>
                      <a:pt x="136" y="574"/>
                    </a:cubicBezTo>
                    <a:cubicBezTo>
                      <a:pt x="140" y="582"/>
                      <a:pt x="151" y="593"/>
                      <a:pt x="159" y="589"/>
                    </a:cubicBezTo>
                    <a:cubicBezTo>
                      <a:pt x="168" y="584"/>
                      <a:pt x="164" y="569"/>
                      <a:pt x="167" y="559"/>
                    </a:cubicBezTo>
                    <a:cubicBezTo>
                      <a:pt x="159" y="546"/>
                      <a:pt x="138" y="534"/>
                      <a:pt x="144" y="521"/>
                    </a:cubicBezTo>
                    <a:cubicBezTo>
                      <a:pt x="147" y="514"/>
                      <a:pt x="194" y="566"/>
                      <a:pt x="197" y="566"/>
                    </a:cubicBezTo>
                    <a:cubicBezTo>
                      <a:pt x="214" y="566"/>
                      <a:pt x="157" y="521"/>
                      <a:pt x="174" y="521"/>
                    </a:cubicBezTo>
                    <a:cubicBezTo>
                      <a:pt x="185" y="521"/>
                      <a:pt x="190" y="536"/>
                      <a:pt x="197" y="544"/>
                    </a:cubicBezTo>
                    <a:cubicBezTo>
                      <a:pt x="203" y="551"/>
                      <a:pt x="212" y="575"/>
                      <a:pt x="212" y="566"/>
                    </a:cubicBezTo>
                    <a:cubicBezTo>
                      <a:pt x="212" y="532"/>
                      <a:pt x="179" y="512"/>
                      <a:pt x="159" y="490"/>
                    </a:cubicBezTo>
                    <a:cubicBezTo>
                      <a:pt x="194" y="479"/>
                      <a:pt x="202" y="487"/>
                      <a:pt x="227" y="513"/>
                    </a:cubicBezTo>
                    <a:cubicBezTo>
                      <a:pt x="240" y="466"/>
                      <a:pt x="217" y="464"/>
                      <a:pt x="197" y="422"/>
                    </a:cubicBezTo>
                    <a:cubicBezTo>
                      <a:pt x="205" y="420"/>
                      <a:pt x="213" y="411"/>
                      <a:pt x="220" y="415"/>
                    </a:cubicBezTo>
                    <a:cubicBezTo>
                      <a:pt x="227" y="418"/>
                      <a:pt x="222" y="442"/>
                      <a:pt x="227" y="437"/>
                    </a:cubicBezTo>
                    <a:cubicBezTo>
                      <a:pt x="236" y="428"/>
                      <a:pt x="232" y="412"/>
                      <a:pt x="235" y="400"/>
                    </a:cubicBezTo>
                    <a:cubicBezTo>
                      <a:pt x="240" y="410"/>
                      <a:pt x="244" y="420"/>
                      <a:pt x="250" y="430"/>
                    </a:cubicBezTo>
                    <a:cubicBezTo>
                      <a:pt x="259" y="445"/>
                      <a:pt x="280" y="475"/>
                      <a:pt x="280" y="475"/>
                    </a:cubicBezTo>
                    <a:cubicBezTo>
                      <a:pt x="283" y="468"/>
                      <a:pt x="280" y="455"/>
                      <a:pt x="288" y="453"/>
                    </a:cubicBezTo>
                    <a:cubicBezTo>
                      <a:pt x="297" y="451"/>
                      <a:pt x="303" y="464"/>
                      <a:pt x="311" y="468"/>
                    </a:cubicBezTo>
                    <a:cubicBezTo>
                      <a:pt x="384" y="508"/>
                      <a:pt x="331" y="473"/>
                      <a:pt x="379" y="506"/>
                    </a:cubicBezTo>
                    <a:cubicBezTo>
                      <a:pt x="357" y="451"/>
                      <a:pt x="372" y="479"/>
                      <a:pt x="333" y="422"/>
                    </a:cubicBezTo>
                    <a:cubicBezTo>
                      <a:pt x="328" y="415"/>
                      <a:pt x="318" y="412"/>
                      <a:pt x="311" y="407"/>
                    </a:cubicBezTo>
                    <a:cubicBezTo>
                      <a:pt x="305" y="402"/>
                      <a:pt x="288" y="392"/>
                      <a:pt x="295" y="392"/>
                    </a:cubicBezTo>
                    <a:cubicBezTo>
                      <a:pt x="306" y="392"/>
                      <a:pt x="316" y="402"/>
                      <a:pt x="326" y="407"/>
                    </a:cubicBezTo>
                    <a:cubicBezTo>
                      <a:pt x="309" y="355"/>
                      <a:pt x="322" y="373"/>
                      <a:pt x="295" y="346"/>
                    </a:cubicBezTo>
                    <a:cubicBezTo>
                      <a:pt x="348" y="311"/>
                      <a:pt x="281" y="346"/>
                      <a:pt x="356" y="346"/>
                    </a:cubicBezTo>
                    <a:cubicBezTo>
                      <a:pt x="370" y="346"/>
                      <a:pt x="381" y="336"/>
                      <a:pt x="394" y="331"/>
                    </a:cubicBezTo>
                    <a:cubicBezTo>
                      <a:pt x="399" y="321"/>
                      <a:pt x="409" y="290"/>
                      <a:pt x="409" y="301"/>
                    </a:cubicBezTo>
                    <a:cubicBezTo>
                      <a:pt x="409" y="315"/>
                      <a:pt x="406" y="333"/>
                      <a:pt x="394" y="339"/>
                    </a:cubicBezTo>
                    <a:cubicBezTo>
                      <a:pt x="386" y="343"/>
                      <a:pt x="386" y="322"/>
                      <a:pt x="379" y="316"/>
                    </a:cubicBezTo>
                    <a:cubicBezTo>
                      <a:pt x="370" y="309"/>
                      <a:pt x="358" y="307"/>
                      <a:pt x="349" y="301"/>
                    </a:cubicBezTo>
                    <a:cubicBezTo>
                      <a:pt x="316" y="280"/>
                      <a:pt x="285" y="265"/>
                      <a:pt x="250" y="248"/>
                    </a:cubicBezTo>
                    <a:cubicBezTo>
                      <a:pt x="232" y="251"/>
                      <a:pt x="211" y="244"/>
                      <a:pt x="197" y="256"/>
                    </a:cubicBezTo>
                    <a:cubicBezTo>
                      <a:pt x="189" y="263"/>
                      <a:pt x="214" y="282"/>
                      <a:pt x="205" y="286"/>
                    </a:cubicBezTo>
                    <a:cubicBezTo>
                      <a:pt x="195" y="291"/>
                      <a:pt x="182" y="274"/>
                      <a:pt x="182" y="263"/>
                    </a:cubicBezTo>
                    <a:cubicBezTo>
                      <a:pt x="182" y="254"/>
                      <a:pt x="197" y="273"/>
                      <a:pt x="205" y="278"/>
                    </a:cubicBezTo>
                    <a:cubicBezTo>
                      <a:pt x="210" y="286"/>
                      <a:pt x="229" y="301"/>
                      <a:pt x="220" y="301"/>
                    </a:cubicBezTo>
                    <a:cubicBezTo>
                      <a:pt x="181" y="301"/>
                      <a:pt x="117" y="264"/>
                      <a:pt x="76" y="256"/>
                    </a:cubicBezTo>
                    <a:cubicBezTo>
                      <a:pt x="82" y="261"/>
                      <a:pt x="120" y="300"/>
                      <a:pt x="136" y="271"/>
                    </a:cubicBezTo>
                    <a:cubicBezTo>
                      <a:pt x="140" y="264"/>
                      <a:pt x="106" y="263"/>
                      <a:pt x="114" y="263"/>
                    </a:cubicBezTo>
                    <a:cubicBezTo>
                      <a:pt x="119" y="263"/>
                      <a:pt x="160" y="276"/>
                      <a:pt x="167" y="278"/>
                    </a:cubicBezTo>
                    <a:cubicBezTo>
                      <a:pt x="125" y="305"/>
                      <a:pt x="100" y="279"/>
                      <a:pt x="129" y="324"/>
                    </a:cubicBezTo>
                    <a:cubicBezTo>
                      <a:pt x="101" y="326"/>
                      <a:pt x="70" y="319"/>
                      <a:pt x="45" y="331"/>
                    </a:cubicBezTo>
                    <a:cubicBezTo>
                      <a:pt x="33" y="337"/>
                      <a:pt x="76" y="334"/>
                      <a:pt x="83" y="346"/>
                    </a:cubicBezTo>
                    <a:cubicBezTo>
                      <a:pt x="101" y="376"/>
                      <a:pt x="8" y="377"/>
                      <a:pt x="23" y="377"/>
                    </a:cubicBezTo>
                    <a:cubicBezTo>
                      <a:pt x="73" y="377"/>
                      <a:pt x="124" y="372"/>
                      <a:pt x="174" y="369"/>
                    </a:cubicBezTo>
                    <a:cubicBezTo>
                      <a:pt x="168" y="336"/>
                      <a:pt x="156" y="317"/>
                      <a:pt x="167" y="286"/>
                    </a:cubicBezTo>
                    <a:cubicBezTo>
                      <a:pt x="158" y="235"/>
                      <a:pt x="137" y="228"/>
                      <a:pt x="174" y="202"/>
                    </a:cubicBezTo>
                    <a:cubicBezTo>
                      <a:pt x="248" y="254"/>
                      <a:pt x="201" y="118"/>
                      <a:pt x="182" y="89"/>
                    </a:cubicBezTo>
                    <a:cubicBezTo>
                      <a:pt x="159" y="0"/>
                      <a:pt x="231" y="134"/>
                      <a:pt x="242" y="149"/>
                    </a:cubicBezTo>
                    <a:cubicBezTo>
                      <a:pt x="291" y="117"/>
                      <a:pt x="275" y="79"/>
                      <a:pt x="288" y="165"/>
                    </a:cubicBezTo>
                    <a:cubicBezTo>
                      <a:pt x="321" y="142"/>
                      <a:pt x="342" y="100"/>
                      <a:pt x="364" y="66"/>
                    </a:cubicBezTo>
                    <a:cubicBezTo>
                      <a:pt x="370" y="107"/>
                      <a:pt x="372" y="158"/>
                      <a:pt x="417" y="172"/>
                    </a:cubicBezTo>
                    <a:cubicBezTo>
                      <a:pt x="473" y="158"/>
                      <a:pt x="522" y="134"/>
                      <a:pt x="576" y="119"/>
                    </a:cubicBezTo>
                    <a:cubicBezTo>
                      <a:pt x="606" y="246"/>
                      <a:pt x="862" y="83"/>
                      <a:pt x="765" y="180"/>
                    </a:cubicBezTo>
                    <a:cubicBezTo>
                      <a:pt x="804" y="192"/>
                      <a:pt x="809" y="201"/>
                      <a:pt x="773" y="225"/>
                    </a:cubicBezTo>
                    <a:cubicBezTo>
                      <a:pt x="789" y="250"/>
                      <a:pt x="810" y="261"/>
                      <a:pt x="826" y="286"/>
                    </a:cubicBezTo>
                    <a:cubicBezTo>
                      <a:pt x="815" y="318"/>
                      <a:pt x="796" y="321"/>
                      <a:pt x="765" y="331"/>
                    </a:cubicBezTo>
                    <a:cubicBezTo>
                      <a:pt x="749" y="280"/>
                      <a:pt x="778" y="213"/>
                      <a:pt x="720" y="195"/>
                    </a:cubicBezTo>
                    <a:cubicBezTo>
                      <a:pt x="652" y="228"/>
                      <a:pt x="680" y="217"/>
                      <a:pt x="637" y="233"/>
                    </a:cubicBezTo>
                    <a:cubicBezTo>
                      <a:pt x="644" y="195"/>
                      <a:pt x="654" y="179"/>
                      <a:pt x="644" y="142"/>
                    </a:cubicBezTo>
                    <a:cubicBezTo>
                      <a:pt x="635" y="172"/>
                      <a:pt x="620" y="195"/>
                      <a:pt x="599" y="218"/>
                    </a:cubicBezTo>
                    <a:cubicBezTo>
                      <a:pt x="613" y="155"/>
                      <a:pt x="594" y="219"/>
                      <a:pt x="637" y="149"/>
                    </a:cubicBezTo>
                    <a:cubicBezTo>
                      <a:pt x="644" y="138"/>
                      <a:pt x="645" y="124"/>
                      <a:pt x="652" y="112"/>
                    </a:cubicBezTo>
                    <a:cubicBezTo>
                      <a:pt x="656" y="106"/>
                      <a:pt x="670" y="90"/>
                      <a:pt x="667" y="96"/>
                    </a:cubicBezTo>
                    <a:cubicBezTo>
                      <a:pt x="649" y="129"/>
                      <a:pt x="611" y="161"/>
                      <a:pt x="576" y="172"/>
                    </a:cubicBezTo>
                    <a:cubicBezTo>
                      <a:pt x="563" y="167"/>
                      <a:pt x="548" y="167"/>
                      <a:pt x="538" y="157"/>
                    </a:cubicBezTo>
                    <a:cubicBezTo>
                      <a:pt x="532" y="151"/>
                      <a:pt x="520" y="88"/>
                      <a:pt x="515" y="74"/>
                    </a:cubicBezTo>
                    <a:cubicBezTo>
                      <a:pt x="503" y="125"/>
                      <a:pt x="513" y="96"/>
                      <a:pt x="546" y="127"/>
                    </a:cubicBezTo>
                    <a:cubicBezTo>
                      <a:pt x="548" y="136"/>
                      <a:pt x="547" y="185"/>
                      <a:pt x="576" y="180"/>
                    </a:cubicBezTo>
                    <a:cubicBezTo>
                      <a:pt x="595" y="177"/>
                      <a:pt x="604" y="153"/>
                      <a:pt x="621" y="142"/>
                    </a:cubicBezTo>
                    <a:cubicBezTo>
                      <a:pt x="672" y="110"/>
                      <a:pt x="715" y="78"/>
                      <a:pt x="773" y="58"/>
                    </a:cubicBezTo>
                    <a:cubicBezTo>
                      <a:pt x="754" y="113"/>
                      <a:pt x="701" y="170"/>
                      <a:pt x="644" y="187"/>
                    </a:cubicBezTo>
                    <a:cubicBezTo>
                      <a:pt x="636" y="192"/>
                      <a:pt x="621" y="193"/>
                      <a:pt x="621" y="202"/>
                    </a:cubicBezTo>
                    <a:cubicBezTo>
                      <a:pt x="621" y="210"/>
                      <a:pt x="636" y="209"/>
                      <a:pt x="644" y="210"/>
                    </a:cubicBezTo>
                    <a:cubicBezTo>
                      <a:pt x="679" y="214"/>
                      <a:pt x="715" y="215"/>
                      <a:pt x="750" y="218"/>
                    </a:cubicBezTo>
                    <a:cubicBezTo>
                      <a:pt x="748" y="253"/>
                      <a:pt x="754" y="290"/>
                      <a:pt x="743" y="324"/>
                    </a:cubicBezTo>
                    <a:cubicBezTo>
                      <a:pt x="740" y="334"/>
                      <a:pt x="721" y="325"/>
                      <a:pt x="712" y="331"/>
                    </a:cubicBezTo>
                    <a:cubicBezTo>
                      <a:pt x="704" y="336"/>
                      <a:pt x="702" y="346"/>
                      <a:pt x="697" y="354"/>
                    </a:cubicBezTo>
                    <a:cubicBezTo>
                      <a:pt x="705" y="359"/>
                      <a:pt x="712" y="365"/>
                      <a:pt x="720" y="369"/>
                    </a:cubicBezTo>
                    <a:cubicBezTo>
                      <a:pt x="734" y="375"/>
                      <a:pt x="765" y="384"/>
                      <a:pt x="765" y="384"/>
                    </a:cubicBezTo>
                    <a:cubicBezTo>
                      <a:pt x="746" y="391"/>
                      <a:pt x="715" y="382"/>
                      <a:pt x="705" y="400"/>
                    </a:cubicBezTo>
                    <a:cubicBezTo>
                      <a:pt x="700" y="409"/>
                      <a:pt x="717" y="418"/>
                      <a:pt x="727" y="422"/>
                    </a:cubicBezTo>
                    <a:cubicBezTo>
                      <a:pt x="757" y="434"/>
                      <a:pt x="845" y="454"/>
                      <a:pt x="879" y="460"/>
                    </a:cubicBezTo>
                    <a:cubicBezTo>
                      <a:pt x="950" y="568"/>
                      <a:pt x="657" y="448"/>
                      <a:pt x="796" y="506"/>
                    </a:cubicBezTo>
                    <a:cubicBezTo>
                      <a:pt x="798" y="519"/>
                      <a:pt x="796" y="533"/>
                      <a:pt x="803" y="544"/>
                    </a:cubicBezTo>
                    <a:cubicBezTo>
                      <a:pt x="824" y="577"/>
                      <a:pt x="857" y="558"/>
                      <a:pt x="811" y="574"/>
                    </a:cubicBezTo>
                    <a:cubicBezTo>
                      <a:pt x="805" y="591"/>
                      <a:pt x="803" y="610"/>
                      <a:pt x="796" y="627"/>
                    </a:cubicBezTo>
                    <a:cubicBezTo>
                      <a:pt x="792" y="635"/>
                      <a:pt x="772" y="648"/>
                      <a:pt x="781" y="650"/>
                    </a:cubicBezTo>
                    <a:cubicBezTo>
                      <a:pt x="813" y="656"/>
                      <a:pt x="846" y="645"/>
                      <a:pt x="879" y="642"/>
                    </a:cubicBezTo>
                    <a:cubicBezTo>
                      <a:pt x="894" y="639"/>
                      <a:pt x="949" y="622"/>
                      <a:pt x="962" y="642"/>
                    </a:cubicBezTo>
                    <a:cubicBezTo>
                      <a:pt x="968" y="651"/>
                      <a:pt x="942" y="652"/>
                      <a:pt x="932" y="657"/>
                    </a:cubicBezTo>
                    <a:cubicBezTo>
                      <a:pt x="847" y="646"/>
                      <a:pt x="813" y="665"/>
                      <a:pt x="773" y="604"/>
                    </a:cubicBezTo>
                    <a:cubicBezTo>
                      <a:pt x="760" y="529"/>
                      <a:pt x="764" y="498"/>
                      <a:pt x="682" y="483"/>
                    </a:cubicBezTo>
                    <a:cubicBezTo>
                      <a:pt x="652" y="485"/>
                      <a:pt x="620" y="481"/>
                      <a:pt x="591" y="490"/>
                    </a:cubicBezTo>
                    <a:cubicBezTo>
                      <a:pt x="584" y="492"/>
                      <a:pt x="605" y="499"/>
                      <a:pt x="606" y="506"/>
                    </a:cubicBezTo>
                    <a:cubicBezTo>
                      <a:pt x="608" y="519"/>
                      <a:pt x="602" y="531"/>
                      <a:pt x="599" y="544"/>
                    </a:cubicBezTo>
                    <a:cubicBezTo>
                      <a:pt x="597" y="556"/>
                      <a:pt x="582" y="572"/>
                      <a:pt x="591" y="581"/>
                    </a:cubicBezTo>
                    <a:cubicBezTo>
                      <a:pt x="599" y="589"/>
                      <a:pt x="606" y="566"/>
                      <a:pt x="614" y="559"/>
                    </a:cubicBezTo>
                    <a:cubicBezTo>
                      <a:pt x="621" y="553"/>
                      <a:pt x="629" y="548"/>
                      <a:pt x="637" y="544"/>
                    </a:cubicBezTo>
                    <a:cubicBezTo>
                      <a:pt x="661" y="532"/>
                      <a:pt x="687" y="522"/>
                      <a:pt x="712" y="513"/>
                    </a:cubicBezTo>
                    <a:cubicBezTo>
                      <a:pt x="702" y="545"/>
                      <a:pt x="702" y="556"/>
                      <a:pt x="735" y="566"/>
                    </a:cubicBezTo>
                    <a:cubicBezTo>
                      <a:pt x="760" y="582"/>
                      <a:pt x="771" y="595"/>
                      <a:pt x="788" y="619"/>
                    </a:cubicBezTo>
                    <a:cubicBezTo>
                      <a:pt x="777" y="658"/>
                      <a:pt x="767" y="704"/>
                      <a:pt x="727" y="718"/>
                    </a:cubicBezTo>
                    <a:cubicBezTo>
                      <a:pt x="708" y="780"/>
                      <a:pt x="716" y="727"/>
                      <a:pt x="834" y="733"/>
                    </a:cubicBezTo>
                    <a:cubicBezTo>
                      <a:pt x="845" y="734"/>
                      <a:pt x="854" y="743"/>
                      <a:pt x="864" y="748"/>
                    </a:cubicBezTo>
                    <a:cubicBezTo>
                      <a:pt x="884" y="813"/>
                      <a:pt x="871" y="743"/>
                      <a:pt x="758" y="778"/>
                    </a:cubicBezTo>
                    <a:cubicBezTo>
                      <a:pt x="748" y="781"/>
                      <a:pt x="752" y="799"/>
                      <a:pt x="750" y="809"/>
                    </a:cubicBezTo>
                    <a:cubicBezTo>
                      <a:pt x="745" y="832"/>
                      <a:pt x="748" y="858"/>
                      <a:pt x="735" y="877"/>
                    </a:cubicBezTo>
                    <a:cubicBezTo>
                      <a:pt x="722" y="896"/>
                      <a:pt x="690" y="887"/>
                      <a:pt x="667" y="892"/>
                    </a:cubicBezTo>
                    <a:cubicBezTo>
                      <a:pt x="709" y="956"/>
                      <a:pt x="633" y="880"/>
                      <a:pt x="629" y="877"/>
                    </a:cubicBezTo>
                    <a:cubicBezTo>
                      <a:pt x="622" y="872"/>
                      <a:pt x="614" y="872"/>
                      <a:pt x="606" y="869"/>
                    </a:cubicBezTo>
                    <a:cubicBezTo>
                      <a:pt x="584" y="940"/>
                      <a:pt x="549" y="871"/>
                      <a:pt x="508" y="862"/>
                    </a:cubicBezTo>
                    <a:cubicBezTo>
                      <a:pt x="483" y="857"/>
                      <a:pt x="457" y="857"/>
                      <a:pt x="432" y="854"/>
                    </a:cubicBezTo>
                    <a:cubicBezTo>
                      <a:pt x="392" y="857"/>
                      <a:pt x="351" y="867"/>
                      <a:pt x="311" y="862"/>
                    </a:cubicBezTo>
                    <a:cubicBezTo>
                      <a:pt x="303" y="861"/>
                      <a:pt x="309" y="845"/>
                      <a:pt x="303" y="839"/>
                    </a:cubicBezTo>
                    <a:cubicBezTo>
                      <a:pt x="297" y="833"/>
                      <a:pt x="288" y="834"/>
                      <a:pt x="280" y="832"/>
                    </a:cubicBezTo>
                    <a:cubicBezTo>
                      <a:pt x="273" y="839"/>
                      <a:pt x="268" y="854"/>
                      <a:pt x="258" y="854"/>
                    </a:cubicBezTo>
                    <a:cubicBezTo>
                      <a:pt x="250" y="854"/>
                      <a:pt x="245" y="826"/>
                      <a:pt x="250" y="832"/>
                    </a:cubicBezTo>
                    <a:cubicBezTo>
                      <a:pt x="279" y="865"/>
                      <a:pt x="280" y="905"/>
                      <a:pt x="318" y="930"/>
                    </a:cubicBezTo>
                    <a:cubicBezTo>
                      <a:pt x="356" y="1025"/>
                      <a:pt x="346" y="907"/>
                      <a:pt x="371" y="869"/>
                    </a:cubicBezTo>
                    <a:cubicBezTo>
                      <a:pt x="376" y="877"/>
                      <a:pt x="382" y="884"/>
                      <a:pt x="386" y="892"/>
                    </a:cubicBezTo>
                    <a:cubicBezTo>
                      <a:pt x="393" y="907"/>
                      <a:pt x="402" y="938"/>
                      <a:pt x="402" y="938"/>
                    </a:cubicBezTo>
                    <a:cubicBezTo>
                      <a:pt x="410" y="903"/>
                      <a:pt x="402" y="900"/>
                      <a:pt x="417" y="91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Freeform 893"/>
            <p:cNvSpPr/>
            <p:nvPr/>
          </p:nvSpPr>
          <p:spPr>
            <a:xfrm>
              <a:off x="7142040" y="5149800"/>
              <a:ext cx="1352520" cy="576360"/>
            </a:xfrm>
            <a:custGeom>
              <a:avLst/>
              <a:gdLst/>
              <a:ahLst/>
              <a:rect l="l" t="t" r="r" b="b"/>
              <a:pathLst>
                <a:path w="852" h="363">
                  <a:moveTo>
                    <a:pt x="18" y="167"/>
                  </a:moveTo>
                  <a:cubicBezTo>
                    <a:pt x="26" y="164"/>
                    <a:pt x="34" y="163"/>
                    <a:pt x="41" y="159"/>
                  </a:cubicBezTo>
                  <a:cubicBezTo>
                    <a:pt x="49" y="155"/>
                    <a:pt x="55" y="142"/>
                    <a:pt x="64" y="144"/>
                  </a:cubicBezTo>
                  <a:cubicBezTo>
                    <a:pt x="74" y="146"/>
                    <a:pt x="155" y="209"/>
                    <a:pt x="79" y="151"/>
                  </a:cubicBezTo>
                  <a:cubicBezTo>
                    <a:pt x="76" y="144"/>
                    <a:pt x="65" y="135"/>
                    <a:pt x="71" y="129"/>
                  </a:cubicBezTo>
                  <a:cubicBezTo>
                    <a:pt x="77" y="123"/>
                    <a:pt x="87" y="132"/>
                    <a:pt x="94" y="136"/>
                  </a:cubicBezTo>
                  <a:cubicBezTo>
                    <a:pt x="97" y="138"/>
                    <a:pt x="99" y="141"/>
                    <a:pt x="101" y="144"/>
                  </a:cubicBezTo>
                  <a:cubicBezTo>
                    <a:pt x="108" y="152"/>
                    <a:pt x="81" y="140"/>
                    <a:pt x="71" y="136"/>
                  </a:cubicBezTo>
                  <a:cubicBezTo>
                    <a:pt x="50" y="127"/>
                    <a:pt x="30" y="116"/>
                    <a:pt x="10" y="106"/>
                  </a:cubicBezTo>
                  <a:cubicBezTo>
                    <a:pt x="0" y="101"/>
                    <a:pt x="31" y="110"/>
                    <a:pt x="41" y="113"/>
                  </a:cubicBezTo>
                  <a:cubicBezTo>
                    <a:pt x="56" y="118"/>
                    <a:pt x="86" y="129"/>
                    <a:pt x="86" y="129"/>
                  </a:cubicBezTo>
                  <a:cubicBezTo>
                    <a:pt x="50" y="73"/>
                    <a:pt x="82" y="139"/>
                    <a:pt x="109" y="98"/>
                  </a:cubicBezTo>
                  <a:cubicBezTo>
                    <a:pt x="114" y="90"/>
                    <a:pt x="79" y="89"/>
                    <a:pt x="86" y="83"/>
                  </a:cubicBezTo>
                  <a:cubicBezTo>
                    <a:pt x="94" y="76"/>
                    <a:pt x="107" y="88"/>
                    <a:pt x="117" y="91"/>
                  </a:cubicBezTo>
                  <a:cubicBezTo>
                    <a:pt x="62" y="36"/>
                    <a:pt x="128" y="75"/>
                    <a:pt x="154" y="83"/>
                  </a:cubicBezTo>
                  <a:cubicBezTo>
                    <a:pt x="149" y="75"/>
                    <a:pt x="137" y="69"/>
                    <a:pt x="139" y="60"/>
                  </a:cubicBezTo>
                  <a:cubicBezTo>
                    <a:pt x="145" y="39"/>
                    <a:pt x="174" y="59"/>
                    <a:pt x="192" y="68"/>
                  </a:cubicBezTo>
                  <a:cubicBezTo>
                    <a:pt x="158" y="16"/>
                    <a:pt x="145" y="18"/>
                    <a:pt x="185" y="30"/>
                  </a:cubicBezTo>
                  <a:cubicBezTo>
                    <a:pt x="251" y="73"/>
                    <a:pt x="180" y="33"/>
                    <a:pt x="200" y="23"/>
                  </a:cubicBezTo>
                  <a:cubicBezTo>
                    <a:pt x="209" y="19"/>
                    <a:pt x="249" y="34"/>
                    <a:pt x="261" y="38"/>
                  </a:cubicBezTo>
                  <a:cubicBezTo>
                    <a:pt x="263" y="28"/>
                    <a:pt x="272" y="17"/>
                    <a:pt x="268" y="7"/>
                  </a:cubicBezTo>
                  <a:cubicBezTo>
                    <a:pt x="265" y="0"/>
                    <a:pt x="253" y="0"/>
                    <a:pt x="245" y="0"/>
                  </a:cubicBezTo>
                  <a:cubicBezTo>
                    <a:pt x="220" y="0"/>
                    <a:pt x="195" y="5"/>
                    <a:pt x="170" y="7"/>
                  </a:cubicBezTo>
                  <a:cubicBezTo>
                    <a:pt x="162" y="10"/>
                    <a:pt x="147" y="7"/>
                    <a:pt x="147" y="15"/>
                  </a:cubicBezTo>
                  <a:cubicBezTo>
                    <a:pt x="147" y="24"/>
                    <a:pt x="161" y="29"/>
                    <a:pt x="170" y="30"/>
                  </a:cubicBezTo>
                  <a:cubicBezTo>
                    <a:pt x="188" y="32"/>
                    <a:pt x="205" y="25"/>
                    <a:pt x="223" y="23"/>
                  </a:cubicBezTo>
                  <a:cubicBezTo>
                    <a:pt x="278" y="8"/>
                    <a:pt x="354" y="1"/>
                    <a:pt x="170" y="15"/>
                  </a:cubicBezTo>
                  <a:cubicBezTo>
                    <a:pt x="162" y="18"/>
                    <a:pt x="149" y="15"/>
                    <a:pt x="147" y="23"/>
                  </a:cubicBezTo>
                  <a:cubicBezTo>
                    <a:pt x="145" y="32"/>
                    <a:pt x="155" y="39"/>
                    <a:pt x="162" y="45"/>
                  </a:cubicBezTo>
                  <a:cubicBezTo>
                    <a:pt x="171" y="52"/>
                    <a:pt x="183" y="53"/>
                    <a:pt x="192" y="60"/>
                  </a:cubicBezTo>
                  <a:cubicBezTo>
                    <a:pt x="211" y="74"/>
                    <a:pt x="218" y="87"/>
                    <a:pt x="230" y="106"/>
                  </a:cubicBezTo>
                  <a:cubicBezTo>
                    <a:pt x="228" y="98"/>
                    <a:pt x="223" y="75"/>
                    <a:pt x="223" y="83"/>
                  </a:cubicBezTo>
                  <a:cubicBezTo>
                    <a:pt x="223" y="93"/>
                    <a:pt x="230" y="123"/>
                    <a:pt x="230" y="113"/>
                  </a:cubicBezTo>
                  <a:cubicBezTo>
                    <a:pt x="230" y="98"/>
                    <a:pt x="225" y="83"/>
                    <a:pt x="223" y="68"/>
                  </a:cubicBezTo>
                  <a:cubicBezTo>
                    <a:pt x="225" y="60"/>
                    <a:pt x="223" y="41"/>
                    <a:pt x="230" y="45"/>
                  </a:cubicBezTo>
                  <a:cubicBezTo>
                    <a:pt x="248" y="57"/>
                    <a:pt x="249" y="88"/>
                    <a:pt x="268" y="98"/>
                  </a:cubicBezTo>
                  <a:cubicBezTo>
                    <a:pt x="278" y="103"/>
                    <a:pt x="288" y="108"/>
                    <a:pt x="298" y="113"/>
                  </a:cubicBezTo>
                  <a:cubicBezTo>
                    <a:pt x="296" y="101"/>
                    <a:pt x="283" y="86"/>
                    <a:pt x="291" y="76"/>
                  </a:cubicBezTo>
                  <a:cubicBezTo>
                    <a:pt x="309" y="53"/>
                    <a:pt x="345" y="120"/>
                    <a:pt x="306" y="60"/>
                  </a:cubicBezTo>
                  <a:cubicBezTo>
                    <a:pt x="314" y="55"/>
                    <a:pt x="320" y="45"/>
                    <a:pt x="329" y="45"/>
                  </a:cubicBezTo>
                  <a:cubicBezTo>
                    <a:pt x="342" y="45"/>
                    <a:pt x="389" y="92"/>
                    <a:pt x="397" y="98"/>
                  </a:cubicBezTo>
                  <a:cubicBezTo>
                    <a:pt x="413" y="53"/>
                    <a:pt x="412" y="90"/>
                    <a:pt x="458" y="76"/>
                  </a:cubicBezTo>
                  <a:cubicBezTo>
                    <a:pt x="496" y="132"/>
                    <a:pt x="451" y="77"/>
                    <a:pt x="480" y="68"/>
                  </a:cubicBezTo>
                  <a:cubicBezTo>
                    <a:pt x="489" y="65"/>
                    <a:pt x="489" y="84"/>
                    <a:pt x="496" y="91"/>
                  </a:cubicBezTo>
                  <a:cubicBezTo>
                    <a:pt x="505" y="100"/>
                    <a:pt x="516" y="106"/>
                    <a:pt x="526" y="113"/>
                  </a:cubicBezTo>
                  <a:cubicBezTo>
                    <a:pt x="523" y="95"/>
                    <a:pt x="513" y="77"/>
                    <a:pt x="518" y="60"/>
                  </a:cubicBezTo>
                  <a:cubicBezTo>
                    <a:pt x="521" y="49"/>
                    <a:pt x="530" y="80"/>
                    <a:pt x="533" y="91"/>
                  </a:cubicBezTo>
                  <a:cubicBezTo>
                    <a:pt x="537" y="106"/>
                    <a:pt x="538" y="121"/>
                    <a:pt x="541" y="136"/>
                  </a:cubicBezTo>
                  <a:cubicBezTo>
                    <a:pt x="543" y="144"/>
                    <a:pt x="546" y="151"/>
                    <a:pt x="549" y="159"/>
                  </a:cubicBezTo>
                  <a:cubicBezTo>
                    <a:pt x="551" y="149"/>
                    <a:pt x="547" y="124"/>
                    <a:pt x="556" y="129"/>
                  </a:cubicBezTo>
                  <a:cubicBezTo>
                    <a:pt x="575" y="139"/>
                    <a:pt x="594" y="182"/>
                    <a:pt x="594" y="182"/>
                  </a:cubicBezTo>
                  <a:cubicBezTo>
                    <a:pt x="629" y="128"/>
                    <a:pt x="590" y="176"/>
                    <a:pt x="617" y="189"/>
                  </a:cubicBezTo>
                  <a:cubicBezTo>
                    <a:pt x="625" y="193"/>
                    <a:pt x="632" y="179"/>
                    <a:pt x="640" y="174"/>
                  </a:cubicBezTo>
                  <a:cubicBezTo>
                    <a:pt x="655" y="184"/>
                    <a:pt x="670" y="194"/>
                    <a:pt x="685" y="204"/>
                  </a:cubicBezTo>
                  <a:cubicBezTo>
                    <a:pt x="693" y="209"/>
                    <a:pt x="708" y="220"/>
                    <a:pt x="708" y="220"/>
                  </a:cubicBezTo>
                  <a:lnTo>
                    <a:pt x="685" y="204"/>
                  </a:lnTo>
                  <a:cubicBezTo>
                    <a:pt x="680" y="217"/>
                    <a:pt x="682" y="236"/>
                    <a:pt x="670" y="242"/>
                  </a:cubicBezTo>
                  <a:cubicBezTo>
                    <a:pt x="594" y="277"/>
                    <a:pt x="630" y="200"/>
                    <a:pt x="609" y="257"/>
                  </a:cubicBezTo>
                  <a:cubicBezTo>
                    <a:pt x="586" y="255"/>
                    <a:pt x="564" y="250"/>
                    <a:pt x="541" y="250"/>
                  </a:cubicBezTo>
                  <a:cubicBezTo>
                    <a:pt x="533" y="250"/>
                    <a:pt x="564" y="249"/>
                    <a:pt x="564" y="257"/>
                  </a:cubicBezTo>
                  <a:cubicBezTo>
                    <a:pt x="564" y="265"/>
                    <a:pt x="549" y="262"/>
                    <a:pt x="541" y="265"/>
                  </a:cubicBezTo>
                  <a:cubicBezTo>
                    <a:pt x="499" y="256"/>
                    <a:pt x="462" y="247"/>
                    <a:pt x="420" y="257"/>
                  </a:cubicBezTo>
                  <a:cubicBezTo>
                    <a:pt x="430" y="260"/>
                    <a:pt x="441" y="259"/>
                    <a:pt x="450" y="265"/>
                  </a:cubicBezTo>
                  <a:cubicBezTo>
                    <a:pt x="458" y="270"/>
                    <a:pt x="474" y="286"/>
                    <a:pt x="465" y="288"/>
                  </a:cubicBezTo>
                  <a:cubicBezTo>
                    <a:pt x="443" y="294"/>
                    <a:pt x="420" y="283"/>
                    <a:pt x="397" y="280"/>
                  </a:cubicBezTo>
                  <a:cubicBezTo>
                    <a:pt x="384" y="283"/>
                    <a:pt x="363" y="276"/>
                    <a:pt x="359" y="288"/>
                  </a:cubicBezTo>
                  <a:cubicBezTo>
                    <a:pt x="355" y="299"/>
                    <a:pt x="380" y="297"/>
                    <a:pt x="389" y="303"/>
                  </a:cubicBezTo>
                  <a:cubicBezTo>
                    <a:pt x="395" y="307"/>
                    <a:pt x="411" y="315"/>
                    <a:pt x="405" y="318"/>
                  </a:cubicBezTo>
                  <a:cubicBezTo>
                    <a:pt x="396" y="323"/>
                    <a:pt x="384" y="313"/>
                    <a:pt x="374" y="311"/>
                  </a:cubicBezTo>
                  <a:cubicBezTo>
                    <a:pt x="292" y="224"/>
                    <a:pt x="624" y="363"/>
                    <a:pt x="526" y="265"/>
                  </a:cubicBezTo>
                  <a:cubicBezTo>
                    <a:pt x="577" y="232"/>
                    <a:pt x="518" y="265"/>
                    <a:pt x="617" y="242"/>
                  </a:cubicBezTo>
                  <a:cubicBezTo>
                    <a:pt x="646" y="235"/>
                    <a:pt x="678" y="220"/>
                    <a:pt x="708" y="212"/>
                  </a:cubicBezTo>
                  <a:cubicBezTo>
                    <a:pt x="723" y="215"/>
                    <a:pt x="738" y="224"/>
                    <a:pt x="753" y="220"/>
                  </a:cubicBezTo>
                  <a:cubicBezTo>
                    <a:pt x="760" y="218"/>
                    <a:pt x="736" y="211"/>
                    <a:pt x="738" y="204"/>
                  </a:cubicBezTo>
                  <a:cubicBezTo>
                    <a:pt x="740" y="195"/>
                    <a:pt x="753" y="194"/>
                    <a:pt x="761" y="189"/>
                  </a:cubicBezTo>
                  <a:cubicBezTo>
                    <a:pt x="846" y="213"/>
                    <a:pt x="786" y="197"/>
                    <a:pt x="852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894"/>
            <p:cNvSpPr/>
            <p:nvPr/>
          </p:nvSpPr>
          <p:spPr>
            <a:xfrm>
              <a:off x="7170840" y="5079960"/>
              <a:ext cx="1612800" cy="495360"/>
            </a:xfrm>
            <a:custGeom>
              <a:avLst/>
              <a:gdLst/>
              <a:ahLst/>
              <a:rect l="l" t="t" r="r" b="b"/>
              <a:pathLst>
                <a:path w="1016" h="312">
                  <a:moveTo>
                    <a:pt x="8" y="180"/>
                  </a:moveTo>
                  <a:cubicBezTo>
                    <a:pt x="18" y="139"/>
                    <a:pt x="41" y="105"/>
                    <a:pt x="76" y="82"/>
                  </a:cubicBezTo>
                  <a:cubicBezTo>
                    <a:pt x="81" y="89"/>
                    <a:pt x="82" y="106"/>
                    <a:pt x="91" y="104"/>
                  </a:cubicBezTo>
                  <a:cubicBezTo>
                    <a:pt x="105" y="102"/>
                    <a:pt x="110" y="82"/>
                    <a:pt x="121" y="74"/>
                  </a:cubicBezTo>
                  <a:cubicBezTo>
                    <a:pt x="137" y="62"/>
                    <a:pt x="157" y="55"/>
                    <a:pt x="174" y="44"/>
                  </a:cubicBezTo>
                  <a:cubicBezTo>
                    <a:pt x="241" y="1"/>
                    <a:pt x="259" y="0"/>
                    <a:pt x="205" y="13"/>
                  </a:cubicBezTo>
                  <a:cubicBezTo>
                    <a:pt x="197" y="21"/>
                    <a:pt x="182" y="25"/>
                    <a:pt x="182" y="36"/>
                  </a:cubicBezTo>
                  <a:cubicBezTo>
                    <a:pt x="182" y="44"/>
                    <a:pt x="205" y="29"/>
                    <a:pt x="205" y="29"/>
                  </a:cubicBezTo>
                  <a:cubicBezTo>
                    <a:pt x="215" y="61"/>
                    <a:pt x="235" y="64"/>
                    <a:pt x="265" y="74"/>
                  </a:cubicBezTo>
                  <a:cubicBezTo>
                    <a:pt x="280" y="84"/>
                    <a:pt x="351" y="107"/>
                    <a:pt x="280" y="89"/>
                  </a:cubicBezTo>
                  <a:cubicBezTo>
                    <a:pt x="273" y="84"/>
                    <a:pt x="250" y="77"/>
                    <a:pt x="258" y="74"/>
                  </a:cubicBezTo>
                  <a:cubicBezTo>
                    <a:pt x="273" y="70"/>
                    <a:pt x="289" y="76"/>
                    <a:pt x="303" y="82"/>
                  </a:cubicBezTo>
                  <a:cubicBezTo>
                    <a:pt x="313" y="86"/>
                    <a:pt x="334" y="96"/>
                    <a:pt x="326" y="104"/>
                  </a:cubicBezTo>
                  <a:cubicBezTo>
                    <a:pt x="318" y="112"/>
                    <a:pt x="306" y="94"/>
                    <a:pt x="296" y="89"/>
                  </a:cubicBezTo>
                  <a:cubicBezTo>
                    <a:pt x="335" y="77"/>
                    <a:pt x="368" y="82"/>
                    <a:pt x="402" y="104"/>
                  </a:cubicBezTo>
                  <a:cubicBezTo>
                    <a:pt x="410" y="102"/>
                    <a:pt x="533" y="87"/>
                    <a:pt x="462" y="112"/>
                  </a:cubicBezTo>
                  <a:cubicBezTo>
                    <a:pt x="495" y="123"/>
                    <a:pt x="528" y="124"/>
                    <a:pt x="561" y="135"/>
                  </a:cubicBezTo>
                  <a:cubicBezTo>
                    <a:pt x="574" y="139"/>
                    <a:pt x="599" y="150"/>
                    <a:pt x="599" y="150"/>
                  </a:cubicBezTo>
                  <a:cubicBezTo>
                    <a:pt x="604" y="158"/>
                    <a:pt x="614" y="164"/>
                    <a:pt x="614" y="173"/>
                  </a:cubicBezTo>
                  <a:cubicBezTo>
                    <a:pt x="614" y="180"/>
                    <a:pt x="605" y="162"/>
                    <a:pt x="599" y="157"/>
                  </a:cubicBezTo>
                  <a:cubicBezTo>
                    <a:pt x="589" y="149"/>
                    <a:pt x="579" y="142"/>
                    <a:pt x="568" y="135"/>
                  </a:cubicBezTo>
                  <a:cubicBezTo>
                    <a:pt x="565" y="133"/>
                    <a:pt x="574" y="139"/>
                    <a:pt x="576" y="142"/>
                  </a:cubicBezTo>
                  <a:cubicBezTo>
                    <a:pt x="581" y="150"/>
                    <a:pt x="597" y="159"/>
                    <a:pt x="591" y="165"/>
                  </a:cubicBezTo>
                  <a:cubicBezTo>
                    <a:pt x="584" y="172"/>
                    <a:pt x="571" y="160"/>
                    <a:pt x="561" y="157"/>
                  </a:cubicBezTo>
                  <a:cubicBezTo>
                    <a:pt x="548" y="149"/>
                    <a:pt x="485" y="118"/>
                    <a:pt x="485" y="104"/>
                  </a:cubicBezTo>
                  <a:cubicBezTo>
                    <a:pt x="485" y="96"/>
                    <a:pt x="500" y="109"/>
                    <a:pt x="508" y="112"/>
                  </a:cubicBezTo>
                  <a:cubicBezTo>
                    <a:pt x="516" y="122"/>
                    <a:pt x="523" y="132"/>
                    <a:pt x="531" y="142"/>
                  </a:cubicBezTo>
                  <a:cubicBezTo>
                    <a:pt x="538" y="150"/>
                    <a:pt x="553" y="154"/>
                    <a:pt x="553" y="165"/>
                  </a:cubicBezTo>
                  <a:cubicBezTo>
                    <a:pt x="553" y="173"/>
                    <a:pt x="538" y="161"/>
                    <a:pt x="531" y="157"/>
                  </a:cubicBezTo>
                  <a:cubicBezTo>
                    <a:pt x="523" y="153"/>
                    <a:pt x="516" y="147"/>
                    <a:pt x="508" y="142"/>
                  </a:cubicBezTo>
                  <a:cubicBezTo>
                    <a:pt x="505" y="152"/>
                    <a:pt x="510" y="169"/>
                    <a:pt x="500" y="173"/>
                  </a:cubicBezTo>
                  <a:cubicBezTo>
                    <a:pt x="497" y="174"/>
                    <a:pt x="409" y="158"/>
                    <a:pt x="402" y="157"/>
                  </a:cubicBezTo>
                  <a:cubicBezTo>
                    <a:pt x="417" y="206"/>
                    <a:pt x="450" y="197"/>
                    <a:pt x="387" y="211"/>
                  </a:cubicBezTo>
                  <a:cubicBezTo>
                    <a:pt x="289" y="196"/>
                    <a:pt x="348" y="216"/>
                    <a:pt x="387" y="241"/>
                  </a:cubicBezTo>
                  <a:cubicBezTo>
                    <a:pt x="354" y="263"/>
                    <a:pt x="330" y="247"/>
                    <a:pt x="288" y="241"/>
                  </a:cubicBezTo>
                  <a:cubicBezTo>
                    <a:pt x="322" y="263"/>
                    <a:pt x="349" y="250"/>
                    <a:pt x="318" y="279"/>
                  </a:cubicBezTo>
                  <a:cubicBezTo>
                    <a:pt x="264" y="268"/>
                    <a:pt x="225" y="254"/>
                    <a:pt x="167" y="248"/>
                  </a:cubicBezTo>
                  <a:cubicBezTo>
                    <a:pt x="268" y="291"/>
                    <a:pt x="161" y="247"/>
                    <a:pt x="227" y="271"/>
                  </a:cubicBezTo>
                  <a:cubicBezTo>
                    <a:pt x="240" y="276"/>
                    <a:pt x="279" y="286"/>
                    <a:pt x="265" y="286"/>
                  </a:cubicBezTo>
                  <a:cubicBezTo>
                    <a:pt x="251" y="286"/>
                    <a:pt x="197" y="260"/>
                    <a:pt x="182" y="256"/>
                  </a:cubicBezTo>
                  <a:cubicBezTo>
                    <a:pt x="157" y="249"/>
                    <a:pt x="131" y="247"/>
                    <a:pt x="106" y="241"/>
                  </a:cubicBezTo>
                  <a:cubicBezTo>
                    <a:pt x="138" y="262"/>
                    <a:pt x="123" y="255"/>
                    <a:pt x="167" y="271"/>
                  </a:cubicBezTo>
                  <a:cubicBezTo>
                    <a:pt x="175" y="274"/>
                    <a:pt x="197" y="282"/>
                    <a:pt x="190" y="279"/>
                  </a:cubicBezTo>
                  <a:cubicBezTo>
                    <a:pt x="127" y="250"/>
                    <a:pt x="68" y="213"/>
                    <a:pt x="0" y="195"/>
                  </a:cubicBezTo>
                  <a:cubicBezTo>
                    <a:pt x="56" y="159"/>
                    <a:pt x="123" y="207"/>
                    <a:pt x="182" y="218"/>
                  </a:cubicBezTo>
                  <a:cubicBezTo>
                    <a:pt x="242" y="257"/>
                    <a:pt x="174" y="195"/>
                    <a:pt x="167" y="188"/>
                  </a:cubicBezTo>
                  <a:cubicBezTo>
                    <a:pt x="202" y="176"/>
                    <a:pt x="214" y="196"/>
                    <a:pt x="250" y="211"/>
                  </a:cubicBezTo>
                  <a:cubicBezTo>
                    <a:pt x="263" y="174"/>
                    <a:pt x="241" y="184"/>
                    <a:pt x="220" y="157"/>
                  </a:cubicBezTo>
                  <a:cubicBezTo>
                    <a:pt x="215" y="150"/>
                    <a:pt x="196" y="135"/>
                    <a:pt x="205" y="135"/>
                  </a:cubicBezTo>
                  <a:cubicBezTo>
                    <a:pt x="254" y="135"/>
                    <a:pt x="316" y="180"/>
                    <a:pt x="364" y="195"/>
                  </a:cubicBezTo>
                  <a:cubicBezTo>
                    <a:pt x="364" y="195"/>
                    <a:pt x="350" y="183"/>
                    <a:pt x="341" y="180"/>
                  </a:cubicBezTo>
                  <a:cubicBezTo>
                    <a:pt x="295" y="162"/>
                    <a:pt x="316" y="169"/>
                    <a:pt x="280" y="157"/>
                  </a:cubicBezTo>
                  <a:cubicBezTo>
                    <a:pt x="317" y="146"/>
                    <a:pt x="333" y="161"/>
                    <a:pt x="371" y="173"/>
                  </a:cubicBezTo>
                  <a:cubicBezTo>
                    <a:pt x="455" y="200"/>
                    <a:pt x="539" y="227"/>
                    <a:pt x="622" y="256"/>
                  </a:cubicBezTo>
                  <a:cubicBezTo>
                    <a:pt x="602" y="261"/>
                    <a:pt x="581" y="266"/>
                    <a:pt x="561" y="271"/>
                  </a:cubicBezTo>
                  <a:cubicBezTo>
                    <a:pt x="546" y="275"/>
                    <a:pt x="606" y="286"/>
                    <a:pt x="606" y="286"/>
                  </a:cubicBezTo>
                  <a:cubicBezTo>
                    <a:pt x="596" y="291"/>
                    <a:pt x="576" y="312"/>
                    <a:pt x="576" y="301"/>
                  </a:cubicBezTo>
                  <a:cubicBezTo>
                    <a:pt x="576" y="289"/>
                    <a:pt x="595" y="285"/>
                    <a:pt x="606" y="279"/>
                  </a:cubicBezTo>
                  <a:cubicBezTo>
                    <a:pt x="639" y="260"/>
                    <a:pt x="695" y="260"/>
                    <a:pt x="728" y="256"/>
                  </a:cubicBezTo>
                  <a:cubicBezTo>
                    <a:pt x="913" y="270"/>
                    <a:pt x="835" y="266"/>
                    <a:pt x="773" y="256"/>
                  </a:cubicBezTo>
                  <a:cubicBezTo>
                    <a:pt x="760" y="254"/>
                    <a:pt x="748" y="251"/>
                    <a:pt x="735" y="248"/>
                  </a:cubicBezTo>
                  <a:cubicBezTo>
                    <a:pt x="738" y="256"/>
                    <a:pt x="751" y="268"/>
                    <a:pt x="743" y="271"/>
                  </a:cubicBezTo>
                  <a:cubicBezTo>
                    <a:pt x="691" y="292"/>
                    <a:pt x="621" y="267"/>
                    <a:pt x="682" y="286"/>
                  </a:cubicBezTo>
                  <a:cubicBezTo>
                    <a:pt x="669" y="289"/>
                    <a:pt x="657" y="292"/>
                    <a:pt x="644" y="294"/>
                  </a:cubicBezTo>
                  <a:cubicBezTo>
                    <a:pt x="585" y="303"/>
                    <a:pt x="491" y="307"/>
                    <a:pt x="697" y="294"/>
                  </a:cubicBezTo>
                  <a:cubicBezTo>
                    <a:pt x="687" y="291"/>
                    <a:pt x="667" y="296"/>
                    <a:pt x="667" y="286"/>
                  </a:cubicBezTo>
                  <a:cubicBezTo>
                    <a:pt x="667" y="276"/>
                    <a:pt x="687" y="280"/>
                    <a:pt x="697" y="279"/>
                  </a:cubicBezTo>
                  <a:cubicBezTo>
                    <a:pt x="725" y="275"/>
                    <a:pt x="753" y="274"/>
                    <a:pt x="781" y="271"/>
                  </a:cubicBezTo>
                  <a:cubicBezTo>
                    <a:pt x="756" y="263"/>
                    <a:pt x="731" y="255"/>
                    <a:pt x="705" y="248"/>
                  </a:cubicBezTo>
                  <a:cubicBezTo>
                    <a:pt x="946" y="240"/>
                    <a:pt x="977" y="249"/>
                    <a:pt x="856" y="218"/>
                  </a:cubicBezTo>
                  <a:cubicBezTo>
                    <a:pt x="897" y="210"/>
                    <a:pt x="908" y="216"/>
                    <a:pt x="947" y="226"/>
                  </a:cubicBezTo>
                  <a:cubicBezTo>
                    <a:pt x="990" y="215"/>
                    <a:pt x="967" y="218"/>
                    <a:pt x="1016" y="2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896"/>
            <p:cNvSpPr/>
            <p:nvPr/>
          </p:nvSpPr>
          <p:spPr>
            <a:xfrm>
              <a:off x="6051600" y="5197320"/>
              <a:ext cx="1035000" cy="360360"/>
            </a:xfrm>
            <a:custGeom>
              <a:avLst/>
              <a:gdLst/>
              <a:ahLst/>
              <a:rect l="l" t="t" r="r" b="b"/>
              <a:pathLst>
                <a:path w="652" h="227">
                  <a:moveTo>
                    <a:pt x="106" y="114"/>
                  </a:moveTo>
                  <a:cubicBezTo>
                    <a:pt x="116" y="111"/>
                    <a:pt x="132" y="115"/>
                    <a:pt x="137" y="106"/>
                  </a:cubicBezTo>
                  <a:cubicBezTo>
                    <a:pt x="141" y="99"/>
                    <a:pt x="106" y="99"/>
                    <a:pt x="114" y="99"/>
                  </a:cubicBezTo>
                  <a:cubicBezTo>
                    <a:pt x="127" y="99"/>
                    <a:pt x="139" y="104"/>
                    <a:pt x="152" y="106"/>
                  </a:cubicBezTo>
                  <a:cubicBezTo>
                    <a:pt x="133" y="36"/>
                    <a:pt x="142" y="104"/>
                    <a:pt x="175" y="83"/>
                  </a:cubicBezTo>
                  <a:cubicBezTo>
                    <a:pt x="182" y="79"/>
                    <a:pt x="161" y="65"/>
                    <a:pt x="167" y="61"/>
                  </a:cubicBezTo>
                  <a:cubicBezTo>
                    <a:pt x="175" y="55"/>
                    <a:pt x="187" y="66"/>
                    <a:pt x="197" y="68"/>
                  </a:cubicBezTo>
                  <a:cubicBezTo>
                    <a:pt x="180" y="16"/>
                    <a:pt x="214" y="55"/>
                    <a:pt x="228" y="68"/>
                  </a:cubicBezTo>
                  <a:cubicBezTo>
                    <a:pt x="203" y="0"/>
                    <a:pt x="270" y="65"/>
                    <a:pt x="281" y="76"/>
                  </a:cubicBezTo>
                  <a:cubicBezTo>
                    <a:pt x="278" y="66"/>
                    <a:pt x="278" y="55"/>
                    <a:pt x="273" y="46"/>
                  </a:cubicBezTo>
                  <a:cubicBezTo>
                    <a:pt x="267" y="35"/>
                    <a:pt x="221" y="2"/>
                    <a:pt x="288" y="53"/>
                  </a:cubicBezTo>
                  <a:cubicBezTo>
                    <a:pt x="303" y="82"/>
                    <a:pt x="305" y="114"/>
                    <a:pt x="334" y="83"/>
                  </a:cubicBezTo>
                  <a:cubicBezTo>
                    <a:pt x="336" y="73"/>
                    <a:pt x="331" y="55"/>
                    <a:pt x="341" y="53"/>
                  </a:cubicBezTo>
                  <a:cubicBezTo>
                    <a:pt x="348" y="51"/>
                    <a:pt x="398" y="124"/>
                    <a:pt x="402" y="129"/>
                  </a:cubicBezTo>
                  <a:cubicBezTo>
                    <a:pt x="428" y="88"/>
                    <a:pt x="408" y="107"/>
                    <a:pt x="425" y="137"/>
                  </a:cubicBezTo>
                  <a:cubicBezTo>
                    <a:pt x="430" y="146"/>
                    <a:pt x="440" y="152"/>
                    <a:pt x="447" y="159"/>
                  </a:cubicBezTo>
                  <a:cubicBezTo>
                    <a:pt x="452" y="154"/>
                    <a:pt x="458" y="139"/>
                    <a:pt x="463" y="144"/>
                  </a:cubicBezTo>
                  <a:cubicBezTo>
                    <a:pt x="472" y="153"/>
                    <a:pt x="479" y="173"/>
                    <a:pt x="470" y="182"/>
                  </a:cubicBezTo>
                  <a:cubicBezTo>
                    <a:pt x="462" y="190"/>
                    <a:pt x="463" y="160"/>
                    <a:pt x="455" y="152"/>
                  </a:cubicBezTo>
                  <a:cubicBezTo>
                    <a:pt x="437" y="134"/>
                    <a:pt x="416" y="129"/>
                    <a:pt x="394" y="121"/>
                  </a:cubicBezTo>
                  <a:cubicBezTo>
                    <a:pt x="367" y="101"/>
                    <a:pt x="332" y="67"/>
                    <a:pt x="303" y="53"/>
                  </a:cubicBezTo>
                  <a:cubicBezTo>
                    <a:pt x="289" y="46"/>
                    <a:pt x="258" y="38"/>
                    <a:pt x="258" y="38"/>
                  </a:cubicBezTo>
                  <a:cubicBezTo>
                    <a:pt x="207" y="41"/>
                    <a:pt x="155" y="34"/>
                    <a:pt x="106" y="46"/>
                  </a:cubicBezTo>
                  <a:cubicBezTo>
                    <a:pt x="89" y="50"/>
                    <a:pt x="68" y="83"/>
                    <a:pt x="68" y="83"/>
                  </a:cubicBezTo>
                  <a:cubicBezTo>
                    <a:pt x="77" y="134"/>
                    <a:pt x="87" y="147"/>
                    <a:pt x="129" y="174"/>
                  </a:cubicBezTo>
                  <a:cubicBezTo>
                    <a:pt x="111" y="124"/>
                    <a:pt x="147" y="165"/>
                    <a:pt x="175" y="174"/>
                  </a:cubicBezTo>
                  <a:cubicBezTo>
                    <a:pt x="146" y="119"/>
                    <a:pt x="156" y="157"/>
                    <a:pt x="197" y="152"/>
                  </a:cubicBezTo>
                  <a:cubicBezTo>
                    <a:pt x="206" y="151"/>
                    <a:pt x="212" y="142"/>
                    <a:pt x="220" y="137"/>
                  </a:cubicBezTo>
                  <a:cubicBezTo>
                    <a:pt x="248" y="156"/>
                    <a:pt x="279" y="164"/>
                    <a:pt x="311" y="174"/>
                  </a:cubicBezTo>
                  <a:cubicBezTo>
                    <a:pt x="283" y="134"/>
                    <a:pt x="288" y="148"/>
                    <a:pt x="356" y="182"/>
                  </a:cubicBezTo>
                  <a:cubicBezTo>
                    <a:pt x="363" y="186"/>
                    <a:pt x="379" y="198"/>
                    <a:pt x="379" y="190"/>
                  </a:cubicBezTo>
                  <a:cubicBezTo>
                    <a:pt x="379" y="181"/>
                    <a:pt x="347" y="175"/>
                    <a:pt x="356" y="174"/>
                  </a:cubicBezTo>
                  <a:cubicBezTo>
                    <a:pt x="384" y="170"/>
                    <a:pt x="412" y="179"/>
                    <a:pt x="440" y="182"/>
                  </a:cubicBezTo>
                  <a:cubicBezTo>
                    <a:pt x="453" y="185"/>
                    <a:pt x="466" y="186"/>
                    <a:pt x="478" y="190"/>
                  </a:cubicBezTo>
                  <a:cubicBezTo>
                    <a:pt x="489" y="194"/>
                    <a:pt x="500" y="213"/>
                    <a:pt x="508" y="205"/>
                  </a:cubicBezTo>
                  <a:cubicBezTo>
                    <a:pt x="516" y="197"/>
                    <a:pt x="487" y="184"/>
                    <a:pt x="493" y="174"/>
                  </a:cubicBezTo>
                  <a:cubicBezTo>
                    <a:pt x="499" y="165"/>
                    <a:pt x="513" y="179"/>
                    <a:pt x="523" y="182"/>
                  </a:cubicBezTo>
                  <a:cubicBezTo>
                    <a:pt x="561" y="194"/>
                    <a:pt x="604" y="227"/>
                    <a:pt x="644" y="227"/>
                  </a:cubicBezTo>
                  <a:cubicBezTo>
                    <a:pt x="652" y="227"/>
                    <a:pt x="629" y="224"/>
                    <a:pt x="622" y="220"/>
                  </a:cubicBezTo>
                  <a:cubicBezTo>
                    <a:pt x="601" y="209"/>
                    <a:pt x="584" y="190"/>
                    <a:pt x="561" y="182"/>
                  </a:cubicBezTo>
                  <a:cubicBezTo>
                    <a:pt x="553" y="179"/>
                    <a:pt x="538" y="166"/>
                    <a:pt x="538" y="174"/>
                  </a:cubicBezTo>
                  <a:cubicBezTo>
                    <a:pt x="538" y="191"/>
                    <a:pt x="598" y="197"/>
                    <a:pt x="599" y="197"/>
                  </a:cubicBezTo>
                  <a:cubicBezTo>
                    <a:pt x="556" y="212"/>
                    <a:pt x="486" y="187"/>
                    <a:pt x="440" y="182"/>
                  </a:cubicBezTo>
                  <a:cubicBezTo>
                    <a:pt x="390" y="164"/>
                    <a:pt x="392" y="145"/>
                    <a:pt x="379" y="205"/>
                  </a:cubicBezTo>
                  <a:cubicBezTo>
                    <a:pt x="312" y="196"/>
                    <a:pt x="249" y="177"/>
                    <a:pt x="182" y="167"/>
                  </a:cubicBezTo>
                  <a:cubicBezTo>
                    <a:pt x="167" y="162"/>
                    <a:pt x="124" y="143"/>
                    <a:pt x="137" y="152"/>
                  </a:cubicBezTo>
                  <a:cubicBezTo>
                    <a:pt x="153" y="163"/>
                    <a:pt x="178" y="182"/>
                    <a:pt x="197" y="182"/>
                  </a:cubicBezTo>
                  <a:cubicBezTo>
                    <a:pt x="208" y="182"/>
                    <a:pt x="177" y="172"/>
                    <a:pt x="167" y="167"/>
                  </a:cubicBezTo>
                  <a:cubicBezTo>
                    <a:pt x="149" y="159"/>
                    <a:pt x="132" y="152"/>
                    <a:pt x="114" y="144"/>
                  </a:cubicBezTo>
                  <a:cubicBezTo>
                    <a:pt x="69" y="123"/>
                    <a:pt x="54" y="120"/>
                    <a:pt x="0" y="114"/>
                  </a:cubicBezTo>
                  <a:cubicBezTo>
                    <a:pt x="32" y="93"/>
                    <a:pt x="53" y="83"/>
                    <a:pt x="91" y="76"/>
                  </a:cubicBezTo>
                  <a:cubicBezTo>
                    <a:pt x="118" y="58"/>
                    <a:pt x="145" y="55"/>
                    <a:pt x="175" y="46"/>
                  </a:cubicBezTo>
                  <a:cubicBezTo>
                    <a:pt x="192" y="28"/>
                    <a:pt x="207" y="26"/>
                    <a:pt x="228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898"/>
            <p:cNvSpPr/>
            <p:nvPr/>
          </p:nvSpPr>
          <p:spPr>
            <a:xfrm>
              <a:off x="2141640" y="1355760"/>
              <a:ext cx="1525320" cy="218880"/>
            </a:xfrm>
            <a:custGeom>
              <a:avLst/>
              <a:gdLst/>
              <a:ahLst/>
              <a:rect l="l" t="t" r="r" b="b"/>
              <a:pathLst>
                <a:path w="961" h="138">
                  <a:moveTo>
                    <a:pt x="296" y="18"/>
                  </a:moveTo>
                  <a:cubicBezTo>
                    <a:pt x="350" y="54"/>
                    <a:pt x="328" y="35"/>
                    <a:pt x="364" y="71"/>
                  </a:cubicBezTo>
                  <a:cubicBezTo>
                    <a:pt x="361" y="61"/>
                    <a:pt x="361" y="50"/>
                    <a:pt x="356" y="40"/>
                  </a:cubicBezTo>
                  <a:cubicBezTo>
                    <a:pt x="351" y="29"/>
                    <a:pt x="325" y="18"/>
                    <a:pt x="334" y="10"/>
                  </a:cubicBezTo>
                  <a:cubicBezTo>
                    <a:pt x="346" y="0"/>
                    <a:pt x="375" y="50"/>
                    <a:pt x="379" y="55"/>
                  </a:cubicBezTo>
                  <a:cubicBezTo>
                    <a:pt x="386" y="63"/>
                    <a:pt x="402" y="89"/>
                    <a:pt x="402" y="78"/>
                  </a:cubicBezTo>
                  <a:cubicBezTo>
                    <a:pt x="402" y="43"/>
                    <a:pt x="335" y="40"/>
                    <a:pt x="417" y="55"/>
                  </a:cubicBezTo>
                  <a:cubicBezTo>
                    <a:pt x="443" y="82"/>
                    <a:pt x="425" y="70"/>
                    <a:pt x="478" y="78"/>
                  </a:cubicBezTo>
                  <a:cubicBezTo>
                    <a:pt x="501" y="102"/>
                    <a:pt x="519" y="106"/>
                    <a:pt x="546" y="124"/>
                  </a:cubicBezTo>
                  <a:cubicBezTo>
                    <a:pt x="525" y="63"/>
                    <a:pt x="556" y="138"/>
                    <a:pt x="515" y="86"/>
                  </a:cubicBezTo>
                  <a:cubicBezTo>
                    <a:pt x="510" y="80"/>
                    <a:pt x="501" y="66"/>
                    <a:pt x="508" y="63"/>
                  </a:cubicBezTo>
                  <a:cubicBezTo>
                    <a:pt x="522" y="57"/>
                    <a:pt x="538" y="68"/>
                    <a:pt x="553" y="71"/>
                  </a:cubicBezTo>
                  <a:cubicBezTo>
                    <a:pt x="563" y="76"/>
                    <a:pt x="573" y="82"/>
                    <a:pt x="584" y="86"/>
                  </a:cubicBezTo>
                  <a:cubicBezTo>
                    <a:pt x="591" y="89"/>
                    <a:pt x="602" y="99"/>
                    <a:pt x="606" y="93"/>
                  </a:cubicBezTo>
                  <a:cubicBezTo>
                    <a:pt x="612" y="84"/>
                    <a:pt x="601" y="73"/>
                    <a:pt x="599" y="63"/>
                  </a:cubicBezTo>
                  <a:cubicBezTo>
                    <a:pt x="614" y="15"/>
                    <a:pt x="638" y="44"/>
                    <a:pt x="675" y="55"/>
                  </a:cubicBezTo>
                  <a:cubicBezTo>
                    <a:pt x="672" y="45"/>
                    <a:pt x="663" y="35"/>
                    <a:pt x="667" y="25"/>
                  </a:cubicBezTo>
                  <a:cubicBezTo>
                    <a:pt x="670" y="18"/>
                    <a:pt x="682" y="17"/>
                    <a:pt x="690" y="18"/>
                  </a:cubicBezTo>
                  <a:cubicBezTo>
                    <a:pt x="722" y="22"/>
                    <a:pt x="734" y="33"/>
                    <a:pt x="758" y="48"/>
                  </a:cubicBezTo>
                  <a:cubicBezTo>
                    <a:pt x="761" y="40"/>
                    <a:pt x="758" y="28"/>
                    <a:pt x="766" y="25"/>
                  </a:cubicBezTo>
                  <a:cubicBezTo>
                    <a:pt x="769" y="24"/>
                    <a:pt x="813" y="39"/>
                    <a:pt x="819" y="40"/>
                  </a:cubicBezTo>
                  <a:cubicBezTo>
                    <a:pt x="842" y="45"/>
                    <a:pt x="864" y="50"/>
                    <a:pt x="887" y="55"/>
                  </a:cubicBezTo>
                  <a:cubicBezTo>
                    <a:pt x="961" y="71"/>
                    <a:pt x="735" y="50"/>
                    <a:pt x="659" y="48"/>
                  </a:cubicBezTo>
                  <a:cubicBezTo>
                    <a:pt x="647" y="45"/>
                    <a:pt x="632" y="33"/>
                    <a:pt x="622" y="40"/>
                  </a:cubicBezTo>
                  <a:cubicBezTo>
                    <a:pt x="614" y="45"/>
                    <a:pt x="642" y="56"/>
                    <a:pt x="637" y="63"/>
                  </a:cubicBezTo>
                  <a:cubicBezTo>
                    <a:pt x="629" y="73"/>
                    <a:pt x="612" y="68"/>
                    <a:pt x="599" y="71"/>
                  </a:cubicBezTo>
                  <a:cubicBezTo>
                    <a:pt x="270" y="38"/>
                    <a:pt x="391" y="54"/>
                    <a:pt x="235" y="33"/>
                  </a:cubicBezTo>
                  <a:cubicBezTo>
                    <a:pt x="227" y="35"/>
                    <a:pt x="212" y="32"/>
                    <a:pt x="212" y="40"/>
                  </a:cubicBezTo>
                  <a:cubicBezTo>
                    <a:pt x="212" y="48"/>
                    <a:pt x="235" y="40"/>
                    <a:pt x="235" y="48"/>
                  </a:cubicBezTo>
                  <a:cubicBezTo>
                    <a:pt x="235" y="56"/>
                    <a:pt x="220" y="53"/>
                    <a:pt x="212" y="55"/>
                  </a:cubicBezTo>
                  <a:cubicBezTo>
                    <a:pt x="156" y="42"/>
                    <a:pt x="32" y="55"/>
                    <a:pt x="0" y="5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5" name="Picture 1144" descr="Mythiot Powerpoints"/>
          <p:cNvPicPr/>
          <p:nvPr/>
        </p:nvPicPr>
        <p:blipFill>
          <a:blip r:embed="rId1"/>
          <a:stretch/>
        </p:blipFill>
        <p:spPr>
          <a:xfrm>
            <a:off x="8489880" y="76320"/>
            <a:ext cx="577800" cy="68580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1145"/>
          <p:cNvSpPr/>
          <p:nvPr/>
        </p:nvSpPr>
        <p:spPr>
          <a:xfrm>
            <a:off x="1295280" y="90360"/>
            <a:ext cx="685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Ruins Concept Art: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Drawn in Microsoft Office Powerpoint 2003,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cy-GB" sz="1000" spc="-1" strike="noStrike">
                <a:solidFill>
                  <a:srgbClr val="000000"/>
                </a:solidFill>
                <a:latin typeface="Arial"/>
                <a:ea typeface="宋体"/>
              </a:rPr>
              <a:t>by</a:t>
            </a:r>
            <a:r>
              <a:rPr b="1" lang="cy-GB" sz="1300" spc="-1" strike="noStrike">
                <a:solidFill>
                  <a:srgbClr val="000000"/>
                </a:solidFill>
                <a:latin typeface="Arial"/>
                <a:ea typeface="宋体"/>
              </a:rPr>
              <a:t> Timothy Anse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4T02:51:53Z</dcterms:modified>
  <cp:revision>4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