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move the slide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B72FF0B-1D7C-4EFD-AB68-B48BD9798A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2FB74C9-8444-41EF-80A6-23B593FFB2A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BDF63B1-DD01-4BCA-9F10-D4D45F6FA0B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81D861E-15B6-4B50-B9C8-2A69EDEA8365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1D720E1-4600-49C0-844A-0C8661E06BD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905B-D364-4DEE-92A6-BE2BF8C40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3640" y="715320"/>
            <a:ext cx="8496720" cy="5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3640" y="1484640"/>
            <a:ext cx="84967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23640" y="4042080"/>
            <a:ext cx="84967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C050-D84D-41E1-8939-E2547C582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3640" y="715320"/>
            <a:ext cx="8496720" cy="5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23640" y="1484640"/>
            <a:ext cx="4146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7480" y="1484640"/>
            <a:ext cx="4146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23640" y="4042080"/>
            <a:ext cx="4146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7480" y="4042080"/>
            <a:ext cx="4146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473C-166D-4C7C-A394-E96E3EC40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3640" y="715320"/>
            <a:ext cx="8496720" cy="5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23640" y="1484640"/>
            <a:ext cx="273564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6440" y="1484640"/>
            <a:ext cx="273564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9240" y="1484640"/>
            <a:ext cx="273564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23640" y="4042080"/>
            <a:ext cx="273564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6440" y="4042080"/>
            <a:ext cx="273564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9240" y="4042080"/>
            <a:ext cx="273564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AF46-4CA0-4902-B879-31A9AFEFA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DE338-E552-4DCA-83C6-F641D88D7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3640" y="715320"/>
            <a:ext cx="8496720" cy="5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23640" y="1484640"/>
            <a:ext cx="849672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74A79-262A-4AFF-9BF3-7EBD3E302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3640" y="715320"/>
            <a:ext cx="8496720" cy="5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3640" y="1484640"/>
            <a:ext cx="849672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805A7-D6AE-4464-9EE7-619F33929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3640" y="715320"/>
            <a:ext cx="8496720" cy="5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3640" y="1484640"/>
            <a:ext cx="414612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7480" y="1484640"/>
            <a:ext cx="414612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8AC20-21FB-4A8C-86BC-91082B4A8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3640" y="715320"/>
            <a:ext cx="8496720" cy="5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00F1A-E70A-44A4-97F3-AECBF0432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23640" y="715320"/>
            <a:ext cx="8496720" cy="25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B50F3-CDFD-4E50-BF0A-588440C01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3640" y="715320"/>
            <a:ext cx="8496720" cy="5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3640" y="1484640"/>
            <a:ext cx="4146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480" y="1484640"/>
            <a:ext cx="414612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23640" y="4042080"/>
            <a:ext cx="4146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F0A64-BE6A-4F96-8CC9-D3C2E5CC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3640" y="715320"/>
            <a:ext cx="8496720" cy="5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23640" y="1484640"/>
            <a:ext cx="849672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9F65-06FC-4E4A-8BA5-12F044D0D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3640" y="715320"/>
            <a:ext cx="8496720" cy="5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3640" y="1484640"/>
            <a:ext cx="414612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480" y="1484640"/>
            <a:ext cx="4146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7480" y="4042080"/>
            <a:ext cx="4146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92156-E442-4F80-BDAB-AEB918D6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3640" y="715320"/>
            <a:ext cx="8496720" cy="5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3640" y="1484640"/>
            <a:ext cx="4146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7480" y="1484640"/>
            <a:ext cx="4146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23640" y="4042080"/>
            <a:ext cx="84967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3893E-5B69-40A1-94BA-4F2BFA0C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3640" y="715320"/>
            <a:ext cx="8496720" cy="5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3640" y="1484640"/>
            <a:ext cx="84967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640" y="4042080"/>
            <a:ext cx="84967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FC21A-C911-4F37-91DD-528CE7E1A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3640" y="715320"/>
            <a:ext cx="8496720" cy="5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3640" y="1484640"/>
            <a:ext cx="4146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7480" y="1484640"/>
            <a:ext cx="4146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23640" y="4042080"/>
            <a:ext cx="4146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7480" y="4042080"/>
            <a:ext cx="4146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5E06D-7386-49AA-B7C7-0873D2F55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3640" y="715320"/>
            <a:ext cx="8496720" cy="5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23640" y="1484640"/>
            <a:ext cx="273564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96440" y="1484640"/>
            <a:ext cx="273564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69240" y="1484640"/>
            <a:ext cx="273564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23640" y="4042080"/>
            <a:ext cx="273564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96440" y="4042080"/>
            <a:ext cx="273564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69240" y="4042080"/>
            <a:ext cx="273564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5057A-3F4F-424A-A507-B46C3C5A0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E7BC5-DA9F-49A6-9B04-C5B02C311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3640" y="715320"/>
            <a:ext cx="8496720" cy="5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23640" y="1484640"/>
            <a:ext cx="849672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02B1B-A1DB-4801-B73B-CF9FD4B26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3640" y="715320"/>
            <a:ext cx="8496720" cy="5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3640" y="1484640"/>
            <a:ext cx="849672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E735B-D7D3-4AD0-9B80-58924E43D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3640" y="715320"/>
            <a:ext cx="8496720" cy="5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3640" y="1484640"/>
            <a:ext cx="414612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7480" y="1484640"/>
            <a:ext cx="414612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4C1DD-B64F-4604-B78D-FD7C172F4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3640" y="715320"/>
            <a:ext cx="8496720" cy="5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2D2ED-A863-47D8-949F-04684D1B7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3640" y="715320"/>
            <a:ext cx="8496720" cy="5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3640" y="1484640"/>
            <a:ext cx="849672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EB8C-0611-4EDF-8B64-2C9A6ECA3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23640" y="715320"/>
            <a:ext cx="8496720" cy="25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780CD-548B-456B-8DA6-EEEE5AEBF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3640" y="715320"/>
            <a:ext cx="8496720" cy="5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3640" y="1484640"/>
            <a:ext cx="4146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7480" y="1484640"/>
            <a:ext cx="414612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23640" y="4042080"/>
            <a:ext cx="4146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D4E28-A1E5-4CE7-A158-C2797801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715320"/>
            <a:ext cx="8496720" cy="5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3640" y="1484640"/>
            <a:ext cx="414612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7480" y="1484640"/>
            <a:ext cx="4146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7480" y="4042080"/>
            <a:ext cx="4146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EC8A3-1046-4097-99AA-747E0396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3640" y="715320"/>
            <a:ext cx="8496720" cy="5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3640" y="1484640"/>
            <a:ext cx="4146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7480" y="1484640"/>
            <a:ext cx="4146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23640" y="4042080"/>
            <a:ext cx="84967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7A10F-6B9A-409A-BD4C-540867AE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3640" y="715320"/>
            <a:ext cx="8496720" cy="5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3640" y="1484640"/>
            <a:ext cx="84967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640" y="4042080"/>
            <a:ext cx="84967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6ECD4-1EB4-460B-8FC1-F8CBDA962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3640" y="715320"/>
            <a:ext cx="8496720" cy="5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3640" y="1484640"/>
            <a:ext cx="4146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7480" y="1484640"/>
            <a:ext cx="4146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23640" y="4042080"/>
            <a:ext cx="4146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7480" y="4042080"/>
            <a:ext cx="4146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6220B-8D32-4E57-8EA3-D0064077C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3640" y="715320"/>
            <a:ext cx="8496720" cy="5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3640" y="1484640"/>
            <a:ext cx="273564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196440" y="1484640"/>
            <a:ext cx="273564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69240" y="1484640"/>
            <a:ext cx="273564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23640" y="4042080"/>
            <a:ext cx="273564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196440" y="4042080"/>
            <a:ext cx="273564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69240" y="4042080"/>
            <a:ext cx="273564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31452-A9B0-434C-A7B8-ECA360844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3640" y="715320"/>
            <a:ext cx="8496720" cy="5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3640" y="1484640"/>
            <a:ext cx="414612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7480" y="1484640"/>
            <a:ext cx="414612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0253-4BE4-4176-A813-65204A1E7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3640" y="715320"/>
            <a:ext cx="8496720" cy="5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8DA6-1104-4F2A-8777-756B537FE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23640" y="715320"/>
            <a:ext cx="8496720" cy="25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81E2-D3E6-47C9-80DD-CA08E7DF1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3640" y="715320"/>
            <a:ext cx="8496720" cy="5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23640" y="1484640"/>
            <a:ext cx="4146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480" y="1484640"/>
            <a:ext cx="414612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23640" y="4042080"/>
            <a:ext cx="4146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3530-386F-484C-B13D-35B08336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23640" y="715320"/>
            <a:ext cx="8496720" cy="5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23640" y="1484640"/>
            <a:ext cx="414612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480" y="1484640"/>
            <a:ext cx="4146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7480" y="4042080"/>
            <a:ext cx="4146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CD7B-11E4-45F0-A5A1-E06497F8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3640" y="715320"/>
            <a:ext cx="8496720" cy="5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23640" y="1484640"/>
            <a:ext cx="4146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7480" y="1484640"/>
            <a:ext cx="4146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23640" y="4042080"/>
            <a:ext cx="84967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4B25-BF47-4AF5-9829-4D95C592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rcRect l="0" t="4623" r="0" b="82069"/>
          <a:stretch/>
        </p:blipFill>
        <p:spPr>
          <a:xfrm>
            <a:off x="0" y="-27360"/>
            <a:ext cx="9143640" cy="924840"/>
          </a:xfrm>
          <a:prstGeom prst="rect">
            <a:avLst/>
          </a:prstGeom>
          <a:ln w="0">
            <a:noFill/>
          </a:ln>
        </p:spPr>
      </p:pic>
      <p:pic>
        <p:nvPicPr>
          <p:cNvPr id="1" name="图片 6" descr=""/>
          <p:cNvPicPr/>
          <p:nvPr/>
        </p:nvPicPr>
        <p:blipFill>
          <a:blip r:embed="rId3"/>
          <a:stretch/>
        </p:blipFill>
        <p:spPr>
          <a:xfrm>
            <a:off x="0" y="-27360"/>
            <a:ext cx="9143640" cy="6951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2565000"/>
            <a:ext cx="7772040" cy="7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800" spc="-1" strike="noStrike">
                <a:solidFill>
                  <a:schemeClr val="accent2">
                    <a:lumMod val="75000"/>
                  </a:schemeClr>
                </a:solidFill>
                <a:latin typeface="Arial Black"/>
                <a:ea typeface="微软雅黑"/>
              </a:rPr>
              <a:t>PowerPoint</a:t>
            </a:r>
            <a:r>
              <a:rPr b="0" lang="zh-CN" sz="4800" spc="-1" strike="noStrike">
                <a:solidFill>
                  <a:schemeClr val="accent2">
                    <a:lumMod val="75000"/>
                  </a:schemeClr>
                </a:solidFill>
                <a:latin typeface="Arial Black"/>
                <a:ea typeface="微软雅黑"/>
              </a:rPr>
              <a:t>模板</a:t>
            </a:r>
            <a:endParaRPr b="0" lang="en-US" sz="4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d8d8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d8d8d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d8d8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A021176-17B5-4A2C-A85E-04B8F52002ED}" type="slidenum">
              <a:rPr b="0" lang="en-US" sz="1200" spc="-1" strike="noStrike">
                <a:solidFill>
                  <a:srgbClr val="8d8d8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6" descr=""/>
          <p:cNvPicPr/>
          <p:nvPr/>
        </p:nvPicPr>
        <p:blipFill>
          <a:blip r:embed="rId2"/>
          <a:srcRect l="0" t="4623" r="0" b="82069"/>
          <a:stretch/>
        </p:blipFill>
        <p:spPr>
          <a:xfrm>
            <a:off x="0" y="-27360"/>
            <a:ext cx="9143640" cy="9248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3640" y="715320"/>
            <a:ext cx="8496720" cy="55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2800" spc="-1" strike="noStrike">
                <a:solidFill>
                  <a:schemeClr val="accent2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23640" y="1484640"/>
            <a:ext cx="8496720" cy="489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80808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微软雅黑"/>
              </a:rPr>
              <a:t>单击此处编辑母版文本样式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808080"/>
              </a:buClr>
              <a:buFont typeface="Arial"/>
              <a:buChar char="–"/>
            </a:pPr>
            <a:r>
              <a:rPr b="0" lang="zh-CN" sz="1600" spc="-1" strike="noStrike">
                <a:solidFill>
                  <a:srgbClr val="808080"/>
                </a:solidFill>
                <a:latin typeface="Arial"/>
                <a:ea typeface="微软雅黑"/>
              </a:rPr>
              <a:t>第二级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281"/>
              </a:spcBef>
              <a:buClr>
                <a:srgbClr val="808080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808080"/>
                </a:solidFill>
                <a:latin typeface="Arial"/>
                <a:ea typeface="微软雅黑"/>
              </a:rPr>
              <a:t>第三级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241"/>
              </a:spcBef>
              <a:buClr>
                <a:srgbClr val="808080"/>
              </a:buClr>
              <a:buFont typeface="Arial"/>
              <a:buChar char="–"/>
            </a:pPr>
            <a:r>
              <a:rPr b="0" lang="zh-CN" sz="1200" spc="-1" strike="noStrike">
                <a:solidFill>
                  <a:srgbClr val="808080"/>
                </a:solidFill>
                <a:latin typeface="Arial"/>
                <a:ea typeface="微软雅黑"/>
              </a:rPr>
              <a:t>第四级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241"/>
              </a:spcBef>
              <a:buClr>
                <a:srgbClr val="808080"/>
              </a:buClr>
              <a:buFont typeface="Arial"/>
              <a:buChar char="»"/>
            </a:pPr>
            <a:r>
              <a:rPr b="0" lang="zh-CN" sz="1200" spc="-1" strike="noStrike">
                <a:solidFill>
                  <a:srgbClr val="808080"/>
                </a:solidFill>
                <a:latin typeface="Arial"/>
                <a:ea typeface="微软雅黑"/>
              </a:rPr>
              <a:t>第五级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d8d8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d8d8d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d8d8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138654D-957D-4965-82C2-55E1C940EFF8}" type="slidenum">
              <a:rPr b="0" lang="en-US" sz="1200" spc="-1" strike="noStrike">
                <a:solidFill>
                  <a:srgbClr val="8d8d8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6" descr=""/>
          <p:cNvPicPr/>
          <p:nvPr/>
        </p:nvPicPr>
        <p:blipFill>
          <a:blip r:embed="rId2"/>
          <a:srcRect l="0" t="4623" r="0" b="82069"/>
          <a:stretch/>
        </p:blipFill>
        <p:spPr>
          <a:xfrm>
            <a:off x="0" y="-27360"/>
            <a:ext cx="9143640" cy="9248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11640" y="2853000"/>
            <a:ext cx="4320000" cy="7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4000" spc="-1" strike="noStrike" cap="all">
                <a:solidFill>
                  <a:schemeClr val="accent2"/>
                </a:solidFill>
                <a:latin typeface="Arial Black"/>
                <a:ea typeface="微软雅黑"/>
              </a:rPr>
              <a:t>您的章节标题</a:t>
            </a: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2411640" y="3573000"/>
            <a:ext cx="4320000" cy="28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2000"/>
          </a:bodyPr>
          <a:p>
            <a:pPr indent="0" algn="ctr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zh-CN" sz="1400" spc="-1" strike="noStrike">
                <a:solidFill>
                  <a:srgbClr val="8d8d8d"/>
                </a:solidFill>
                <a:latin typeface="微软雅黑"/>
                <a:ea typeface="微软雅黑"/>
              </a:rPr>
              <a:t>您的章节副标题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d8d8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d8d8d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d8d8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AF9F42E-9DB9-4CDE-99DB-B7DA29C51034}" type="slidenum">
              <a:rPr b="0" lang="en-US" sz="1200" spc="-1" strike="noStrike">
                <a:solidFill>
                  <a:srgbClr val="8d8d8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Box 6"/>
          <p:cNvSpPr/>
          <p:nvPr/>
        </p:nvSpPr>
        <p:spPr>
          <a:xfrm>
            <a:off x="1763640" y="2421000"/>
            <a:ext cx="71964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500" spc="-1" strike="noStrike">
                <a:solidFill>
                  <a:schemeClr val="accent2"/>
                </a:solidFill>
                <a:latin typeface="MS PGothic"/>
                <a:ea typeface="MS PGothic"/>
              </a:rPr>
              <a:t>“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7"/>
          <p:cNvSpPr/>
          <p:nvPr/>
        </p:nvSpPr>
        <p:spPr>
          <a:xfrm>
            <a:off x="6516360" y="3069000"/>
            <a:ext cx="92160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500" spc="-1" strike="noStrike">
                <a:solidFill>
                  <a:schemeClr val="accent2"/>
                </a:solidFill>
                <a:latin typeface="MS PGothic"/>
                <a:ea typeface="MS PGothic"/>
              </a:rPr>
              <a:t>”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565000"/>
            <a:ext cx="7772040" cy="7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000" spc="-1" strike="noStrike">
                <a:solidFill>
                  <a:schemeClr val="accent2">
                    <a:lumMod val="75000"/>
                  </a:schemeClr>
                </a:solidFill>
                <a:latin typeface="Arial Black"/>
                <a:ea typeface="微软雅黑"/>
              </a:rPr>
              <a:t>矢量云朵通用</a:t>
            </a:r>
            <a:r>
              <a:rPr b="0" lang="en-US" sz="4000" spc="-1" strike="noStrike">
                <a:solidFill>
                  <a:schemeClr val="accent2">
                    <a:lumMod val="75000"/>
                  </a:schemeClr>
                </a:solidFill>
                <a:latin typeface="Arial Black"/>
                <a:ea typeface="微软雅黑"/>
              </a:rPr>
              <a:t>PPT</a:t>
            </a:r>
            <a:r>
              <a:rPr b="0" lang="zh-CN" sz="4000" spc="-1" strike="noStrike">
                <a:solidFill>
                  <a:schemeClr val="accent2">
                    <a:lumMod val="75000"/>
                  </a:schemeClr>
                </a:solidFill>
                <a:latin typeface="Arial Black"/>
                <a:ea typeface="微软雅黑"/>
              </a:rPr>
              <a:t>模板下载</a:t>
            </a: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262626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262626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262626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3640" y="715320"/>
            <a:ext cx="8496720" cy="55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2800" spc="-1" strike="noStrike">
                <a:solidFill>
                  <a:schemeClr val="accent2"/>
                </a:solidFill>
                <a:latin typeface="Arial Black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3640" y="1484640"/>
            <a:ext cx="8496720" cy="489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411640" y="2853000"/>
            <a:ext cx="4320000" cy="7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4000" spc="-1" strike="noStrike" cap="all">
                <a:solidFill>
                  <a:schemeClr val="accent2"/>
                </a:solidFill>
                <a:latin typeface="Arial Black"/>
                <a:ea typeface="微软雅黑"/>
              </a:rPr>
              <a:t>您的章节标题</a:t>
            </a: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411640" y="3573000"/>
            <a:ext cx="4320000" cy="28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2000"/>
          </a:bodyPr>
          <a:p>
            <a:pPr indent="0" algn="ctr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zh-CN" sz="1400" spc="-1" strike="noStrike">
                <a:solidFill>
                  <a:srgbClr val="8d8d8d"/>
                </a:solidFill>
                <a:latin typeface="微软雅黑"/>
                <a:ea typeface="微软雅黑"/>
              </a:rPr>
              <a:t>您的章节副标题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3640" y="715320"/>
            <a:ext cx="8496720" cy="55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2800" spc="-1" strike="noStrike">
                <a:solidFill>
                  <a:schemeClr val="accent2"/>
                </a:solidFill>
                <a:latin typeface="Arial Black"/>
                <a:ea typeface="微软雅黑"/>
              </a:rPr>
              <a:t>温馨提示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十字星 6"/>
          <p:cNvSpPr/>
          <p:nvPr/>
        </p:nvSpPr>
        <p:spPr>
          <a:xfrm>
            <a:off x="2001600" y="2754000"/>
            <a:ext cx="71640" cy="71640"/>
          </a:xfrm>
          <a:prstGeom prst="star4">
            <a:avLst>
              <a:gd name="adj" fmla="val 12500"/>
            </a:avLst>
          </a:prstGeom>
          <a:solidFill>
            <a:schemeClr val="accent1"/>
          </a:solidFill>
          <a:ln>
            <a:solidFill>
              <a:srgbClr val="00ade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2400" bIns="-324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143" name="十字星 7"/>
          <p:cNvSpPr/>
          <p:nvPr/>
        </p:nvSpPr>
        <p:spPr>
          <a:xfrm>
            <a:off x="2017440" y="3474000"/>
            <a:ext cx="71640" cy="71640"/>
          </a:xfrm>
          <a:prstGeom prst="star4">
            <a:avLst>
              <a:gd name="adj" fmla="val 12500"/>
            </a:avLst>
          </a:prstGeom>
          <a:solidFill>
            <a:srgbClr val="00b0f0"/>
          </a:solidFill>
          <a:ln>
            <a:solidFill>
              <a:srgbClr val="00ade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2400" bIns="-324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office资源宝库-www.mySoEasy.com">
      <a:dk1>
        <a:srgbClr val="262626"/>
      </a:dk1>
      <a:lt1>
        <a:srgbClr val="ffffff"/>
      </a:lt1>
      <a:dk2>
        <a:srgbClr val="8b8b8b"/>
      </a:dk2>
      <a:lt2>
        <a:srgbClr val="ffffff"/>
      </a:lt2>
      <a:accent1>
        <a:srgbClr val="00adee"/>
      </a:accent1>
      <a:accent2>
        <a:srgbClr val="00adee"/>
      </a:accent2>
      <a:accent3>
        <a:srgbClr val="ffc000"/>
      </a:accent3>
      <a:accent4>
        <a:srgbClr val="eb008b"/>
      </a:accent4>
      <a:accent5>
        <a:srgbClr val="00adef"/>
      </a:accent5>
      <a:accent6>
        <a:srgbClr val="9bbb59"/>
      </a:accent6>
      <a:hlink>
        <a:srgbClr val="76923c"/>
      </a:hlink>
      <a:folHlink>
        <a:srgbClr val="a7a71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office资源宝库-www.mySoEasy.com">
      <a:dk1>
        <a:srgbClr val="262626"/>
      </a:dk1>
      <a:lt1>
        <a:srgbClr val="ffffff"/>
      </a:lt1>
      <a:dk2>
        <a:srgbClr val="8b8b8b"/>
      </a:dk2>
      <a:lt2>
        <a:srgbClr val="ffffff"/>
      </a:lt2>
      <a:accent1>
        <a:srgbClr val="00adee"/>
      </a:accent1>
      <a:accent2>
        <a:srgbClr val="00adee"/>
      </a:accent2>
      <a:accent3>
        <a:srgbClr val="ffc000"/>
      </a:accent3>
      <a:accent4>
        <a:srgbClr val="eb008b"/>
      </a:accent4>
      <a:accent5>
        <a:srgbClr val="00adef"/>
      </a:accent5>
      <a:accent6>
        <a:srgbClr val="9bbb59"/>
      </a:accent6>
      <a:hlink>
        <a:srgbClr val="76923c"/>
      </a:hlink>
      <a:folHlink>
        <a:srgbClr val="a7a71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​​">
  <a:themeElements>
    <a:clrScheme name="office资源宝库-www.mySoEasy.com">
      <a:dk1>
        <a:srgbClr val="262626"/>
      </a:dk1>
      <a:lt1>
        <a:srgbClr val="ffffff"/>
      </a:lt1>
      <a:dk2>
        <a:srgbClr val="8b8b8b"/>
      </a:dk2>
      <a:lt2>
        <a:srgbClr val="ffffff"/>
      </a:lt2>
      <a:accent1>
        <a:srgbClr val="00adee"/>
      </a:accent1>
      <a:accent2>
        <a:srgbClr val="00adee"/>
      </a:accent2>
      <a:accent3>
        <a:srgbClr val="ffc000"/>
      </a:accent3>
      <a:accent4>
        <a:srgbClr val="eb008b"/>
      </a:accent4>
      <a:accent5>
        <a:srgbClr val="00adef"/>
      </a:accent5>
      <a:accent6>
        <a:srgbClr val="9bbb59"/>
      </a:accent6>
      <a:hlink>
        <a:srgbClr val="76923c"/>
      </a:hlink>
      <a:folHlink>
        <a:srgbClr val="a7a71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8b8b8b"/>
      </a:dk2>
      <a:lt2>
        <a:srgbClr val="ffffff"/>
      </a:lt2>
      <a:accent1>
        <a:srgbClr val="00adee"/>
      </a:accent1>
      <a:accent2>
        <a:srgbClr val="00adee"/>
      </a:accent2>
      <a:accent3>
        <a:srgbClr val="ffc000"/>
      </a:accent3>
      <a:accent4>
        <a:srgbClr val="eb008b"/>
      </a:accent4>
      <a:accent5>
        <a:srgbClr val="00adef"/>
      </a:accent5>
      <a:accent6>
        <a:srgbClr val="9bbb59"/>
      </a:accent6>
      <a:hlink>
        <a:srgbClr val="76923c"/>
      </a:hlink>
      <a:folHlink>
        <a:srgbClr val="a7a71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  <Words>30</Words>
  <Paragraphs>10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4T08:56:03Z</dcterms:created>
  <dc:creator>User</dc:creator>
  <dc:description/>
  <dc:language>en-US</dc:language>
  <cp:lastModifiedBy>王玉清</cp:lastModifiedBy>
  <dcterms:modified xsi:type="dcterms:W3CDTF">2016-02-24T03:35:43Z</dcterms:modified>
  <cp:revision>1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4</vt:r8>
  </property>
  <property fmtid="{D5CDD505-2E9C-101B-9397-08002B2CF9AE}" pid="3" name="PresentationFormat">
    <vt:lpwstr>全屏显示(4:3)</vt:lpwstr>
  </property>
  <property fmtid="{D5CDD505-2E9C-101B-9397-08002B2CF9AE}" pid="4" name="Slides">
    <vt:r8>4</vt:r8>
  </property>
  <property fmtid="{D5CDD505-2E9C-101B-9397-08002B2CF9AE}" pid="5" name="VIP等级">
    <vt:lpwstr>1</vt:lpwstr>
  </property>
  <property fmtid="{D5CDD505-2E9C-101B-9397-08002B2CF9AE}" pid="6" name="价格">
    <vt:lpwstr>0</vt:lpwstr>
  </property>
  <property fmtid="{D5CDD505-2E9C-101B-9397-08002B2CF9AE}" pid="7" name="使用说明">
    <vt:lpwstr>PPT背景模板是PPT文档的格式、布局、图形效果整套美化方案，应用后不会改变PPT演示文稿本身的内容，仅仅使内容格式发生变化。点击【套用到文档】按钮即可套用该模板。</vt:lpwstr>
  </property>
  <property fmtid="{D5CDD505-2E9C-101B-9397-08002B2CF9AE}" pid="8" name="使用软件">
    <vt:lpwstr>ppt</vt:lpwstr>
  </property>
  <property fmtid="{D5CDD505-2E9C-101B-9397-08002B2CF9AE}" pid="9" name="关键字">
    <vt:lpwstr>PPT背景模板 PPT 格式 背景 蓝天白云模板 蓝 蓝天 白云 炫 炫丽 可爱 简洁 V1</vt:lpwstr>
  </property>
  <property fmtid="{D5CDD505-2E9C-101B-9397-08002B2CF9AE}" pid="10" name="操作代码">
    <vt:lpwstr>2</vt:lpwstr>
  </property>
  <property fmtid="{D5CDD505-2E9C-101B-9397-08002B2CF9AE}" pid="11" name="是否可购买">
    <vt:lpwstr>0</vt:lpwstr>
  </property>
  <property fmtid="{D5CDD505-2E9C-101B-9397-08002B2CF9AE}" pid="12" name="显示VIP等级">
    <vt:lpwstr>1</vt:lpwstr>
  </property>
  <property fmtid="{D5CDD505-2E9C-101B-9397-08002B2CF9AE}" pid="13" name="标题">
    <vt:lpwstr>蓝天白云模板</vt:lpwstr>
  </property>
  <property fmtid="{D5CDD505-2E9C-101B-9397-08002B2CF9AE}" pid="14" name="模板ID">
    <vt:lpwstr>A30220121126A24</vt:lpwstr>
  </property>
  <property fmtid="{D5CDD505-2E9C-101B-9397-08002B2CF9AE}" pid="15" name="模板缩略图">
    <vt:lpwstr>A30220121126A24.png</vt:lpwstr>
  </property>
  <property fmtid="{D5CDD505-2E9C-101B-9397-08002B2CF9AE}" pid="16" name="相关案例">
    <vt:lpwstr>854</vt:lpwstr>
  </property>
  <property fmtid="{D5CDD505-2E9C-101B-9397-08002B2CF9AE}" pid="17" name="缩略图标题">
    <vt:lpwstr>蓝天白云模板</vt:lpwstr>
  </property>
  <property fmtid="{D5CDD505-2E9C-101B-9397-08002B2CF9AE}" pid="18" name="适用软件">
    <vt:lpwstr>PowerPoint 2007及以上版本</vt:lpwstr>
  </property>
  <property fmtid="{D5CDD505-2E9C-101B-9397-08002B2CF9AE}" pid="19" name="附件ID">
    <vt:lpwstr>A30220121126A2401</vt:lpwstr>
  </property>
  <property fmtid="{D5CDD505-2E9C-101B-9397-08002B2CF9AE}" pid="20" name="附件缩略图">
    <vt:lpwstr>A30220121126A2401.png</vt:lpwstr>
  </property>
  <property fmtid="{D5CDD505-2E9C-101B-9397-08002B2CF9AE}" pid="21" name="附件路径">
    <vt:lpwstr>A30220121126A2401.dotx</vt:lpwstr>
  </property>
</Properties>
</file>