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67C-0EFA-4F46-85B1-FA08604E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6AD-8D04-45F2-8335-B4FE4BC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BA5-7B19-40B1-B64E-CC83871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C5D-9A00-4BBC-82BE-01CB41AC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DA3C-996B-451A-BA73-7F12C301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4B08-C4D1-49C3-8513-06CEE75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FD5-C14A-4EA2-AB34-68CB0BA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CB3-3144-4968-9792-A46F7E07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DEFA-1A91-40CF-8CC8-0E0244BD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9709-0570-4095-B4D4-1DA3A8A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1ADF-2757-49CB-A4C3-B05137B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525-7417-4F81-9F5D-B7C74D6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2D9-A8B3-4FAE-97B6-06820BC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7D0-A98E-45EB-A788-2CFE077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E807-07BF-408B-8DF0-9A05CA5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A111-0E8F-4E4B-944E-FC275055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AA1B-44DB-46F4-A9F9-FF4AF77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520-BA55-4986-8AAD-1507EA7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CFC-4775-4F0C-8AE9-0235C3EF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AE7-EE96-4823-96A6-0E3DD61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C00-52F5-430F-9ADA-73535D1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9FA-196B-4243-9A28-9AE5F49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404-FE8E-4D3F-AEDF-FF06B8F5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DC3-E744-41B4-8193-0942776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E5E695-685D-4D4D-BAA3-77D1F32E89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E6AB89-9BD0-48A3-AA0F-CF275E6575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01280" y="1268640"/>
            <a:ext cx="4966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商务简洁</a:t>
            </a:r>
            <a:r>
              <a:rPr b="0" lang="en-US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691640" y="6453360"/>
            <a:ext cx="833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笔记本地球城市电脑科技商务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笔记本地球城市电脑科技商务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笔记本地球城市电脑科技商务PPT模板</Template>
  <TotalTime>382</TotalTime>
  <Application>LibreOffice/7.4.7.2$Linux_X86_64 LibreOffice_project/40$Build-2</Application>
  <AppVersion>15.0000</AppVersion>
  <Words>96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PowerPoint template, IT</cp:category>
  <dcterms:created xsi:type="dcterms:W3CDTF">2014-02-13T15:41:01Z</dcterms:created>
  <dc:creator>lenovo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IT IT PowerPoint template</cp:keywords>
  <dc:language>en-US</dc:language>
  <cp:lastModifiedBy>a</cp:lastModifiedBy>
  <dcterms:modified xsi:type="dcterms:W3CDTF">2015-07-25T02:07:45Z</dcterms:modified>
  <cp:revision>9</cp:revision>
  <dc:subject>IT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