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228-F65E-47CC-902F-4EF36A84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71B-6F26-4B3A-9B34-D6A03AB7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9A3-28E6-4EEA-8E64-D9F11871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3D6-AD41-467A-B09B-09092371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3B2-E3B0-46D8-B25D-52EADBA6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EF1-E985-4A1B-9AE9-A5D16F04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342-2725-4485-9058-97963614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BAD-47B1-49AB-A160-35A878CE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587-700D-4779-B70D-A9143D3B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9ED-33DA-4DCC-92A3-00E6FDF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BD3-8EFA-4A7A-9044-B93D451E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CED-7CA6-4CC8-A047-9C1A9F4A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D:\Documents and Settings\Administrator\桌面\20\新建文件夹\新建文件夹\04.jpg"/>
          <p:cNvPicPr/>
          <p:nvPr/>
        </p:nvPicPr>
        <p:blipFill>
          <a:blip r:embed="rId3"/>
          <a:stretch/>
        </p:blipFill>
        <p:spPr>
          <a:xfrm>
            <a:off x="0" y="792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E75D-246C-456A-89D0-A16221582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之商务旅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7:05:08Z</dcterms:created>
  <dc:creator>ppt宝藏</dc:creator>
  <dc:description/>
  <dc:language>en-US</dc:language>
  <cp:lastModifiedBy>a</cp:lastModifiedBy>
  <dcterms:modified xsi:type="dcterms:W3CDTF">2015-07-25T07:11:08Z</dcterms:modified>
  <cp:revision>7</cp:revision>
  <dc:subject/>
  <dc:title>www.pptbz.com</dc:title>
</cp:coreProperties>
</file>