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B06884-852A-476A-9758-D112A709C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02551C-9B2C-4DC6-8935-96463B5B6F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FD1-A17F-4437-BEE7-D9C9248B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489-3F21-4240-92EE-E682A510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46B-6A63-42F0-B137-142D163B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C51-CF0B-43C0-AA42-742FF9EB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902C-60A2-4C86-B084-4D1A07A7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6F40-B1B4-4D01-A40A-9D56185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8EE3-6CE3-40A7-8797-0D8440CF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D02-DAD6-4DC2-B989-4FD682E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2BAA-0F66-40A2-A415-C413BA64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4156-5161-48EB-A039-20F6578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B77-C0DE-47AF-B58D-36D3BA6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BBA-2FC2-4D7E-B7C4-C6FE20D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AF4-9A1D-49A7-A621-F563A2F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4B3-039D-46D9-A17C-23656A44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819-5729-4DF3-905C-30573E3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622D-AC1C-4DDD-80AB-B2143C36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00D-1E87-4616-92C7-940749DF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E17-72CA-4139-A48B-D853796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011-CAD2-4228-8A5E-B7491782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D54-ED34-4583-8854-3DFAA8C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806-7336-4EE3-A8A0-074BDEE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135-7FE7-4581-8B27-537D1BE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F5-B73D-4E31-9FAF-0F6845C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43B-14AF-4F5D-A66B-7668408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83AFC-5728-4429-ABDD-047A56E299F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CDDF3A-8449-4390-9ECD-D83F5BF70F1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7.jpg"/>
          <p:cNvPicPr/>
          <p:nvPr/>
        </p:nvPicPr>
        <p:blipFill>
          <a:blip r:embed="rId1"/>
          <a:stretch/>
        </p:blipFill>
        <p:spPr>
          <a:xfrm>
            <a:off x="0" y="945000"/>
            <a:ext cx="9143640" cy="4968000"/>
          </a:xfrm>
          <a:prstGeom prst="rect">
            <a:avLst/>
          </a:prstGeom>
          <a:ln w="0">
            <a:noFill/>
          </a:ln>
        </p:spPr>
      </p:pic>
      <p:sp>
        <p:nvSpPr>
          <p:cNvPr id="89" name="流程图: 手动输入 18"/>
          <p:cNvSpPr/>
          <p:nvPr/>
        </p:nvSpPr>
        <p:spPr>
          <a:xfrm rot="16200000">
            <a:off x="3659760" y="-1178280"/>
            <a:ext cx="3357360" cy="7571880"/>
          </a:xfrm>
          <a:prstGeom prst="flowChartManualInput">
            <a:avLst/>
          </a:prstGeom>
          <a:solidFill>
            <a:schemeClr val="bg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流程图: 手动输入 19"/>
          <p:cNvSpPr/>
          <p:nvPr/>
        </p:nvSpPr>
        <p:spPr>
          <a:xfrm rot="5400000">
            <a:off x="1071720" y="3214440"/>
            <a:ext cx="1714320" cy="3857400"/>
          </a:xfrm>
          <a:prstGeom prst="flowChartManualInput">
            <a:avLst/>
          </a:prstGeom>
          <a:solidFill>
            <a:schemeClr val="bg1">
              <a:alpha val="4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1" name="直接连接符 21"/>
          <p:cNvCxnSpPr/>
          <p:nvPr/>
        </p:nvCxnSpPr>
        <p:spPr>
          <a:xfrm>
            <a:off x="1581840" y="979560"/>
            <a:ext cx="2270160" cy="504144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92" name="直接连接符 25"/>
          <p:cNvCxnSpPr/>
          <p:nvPr/>
        </p:nvCxnSpPr>
        <p:spPr>
          <a:xfrm flipV="1">
            <a:off x="0" y="4259880"/>
            <a:ext cx="9145080" cy="108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93" name="矩形 7"/>
          <p:cNvSpPr/>
          <p:nvPr/>
        </p:nvSpPr>
        <p:spPr>
          <a:xfrm rot="20326800">
            <a:off x="5829840" y="3289680"/>
            <a:ext cx="1946160" cy="13896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ffffff"/>
            </a:solidFill>
            <a:round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1520" y="216360"/>
            <a:ext cx="931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和结束页设计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3" descr="0710240290.jpg"/>
          <p:cNvPicPr/>
          <p:nvPr/>
        </p:nvPicPr>
        <p:blipFill>
          <a:blip r:embed="rId2"/>
          <a:srcRect l="0" t="19136" r="0" b="45505"/>
          <a:stretch/>
        </p:blipFill>
        <p:spPr>
          <a:xfrm>
            <a:off x="2411280" y="0"/>
            <a:ext cx="7684920" cy="3214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4"/>
          <p:cNvSpPr/>
          <p:nvPr/>
        </p:nvSpPr>
        <p:spPr>
          <a:xfrm>
            <a:off x="1714320" y="2714760"/>
            <a:ext cx="7500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c00000"/>
                </a:solidFill>
                <a:latin typeface="Bradley Hand ITC"/>
              </a:rPr>
              <a:t>Th</a:t>
            </a:r>
            <a:r>
              <a:rPr b="1" lang="en-US" sz="9600" spc="-1" strike="noStrike">
                <a:solidFill>
                  <a:srgbClr val="ffff00"/>
                </a:solidFill>
                <a:latin typeface="Bradley Hand ITC"/>
              </a:rPr>
              <a:t>an</a:t>
            </a:r>
            <a:r>
              <a:rPr b="1" lang="en-US" sz="9600" spc="-1" strike="noStrike">
                <a:solidFill>
                  <a:srgbClr val="0070c0"/>
                </a:solidFill>
                <a:latin typeface="Bradley Hand ITC"/>
              </a:rPr>
              <a:t>k </a:t>
            </a:r>
            <a:r>
              <a:rPr b="1" lang="en-US" sz="9600" spc="-1" strike="noStrike">
                <a:solidFill>
                  <a:schemeClr val="accent3">
                    <a:lumMod val="50000"/>
                  </a:schemeClr>
                </a:solidFill>
                <a:latin typeface="Bradley Hand ITC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3"/>
          <p:cNvGrpSpPr/>
          <p:nvPr/>
        </p:nvGrpSpPr>
        <p:grpSpPr>
          <a:xfrm>
            <a:off x="714240" y="714240"/>
            <a:ext cx="8215200" cy="5214600"/>
            <a:chOff x="714240" y="714240"/>
            <a:chExt cx="8215200" cy="5214600"/>
          </a:xfrm>
        </p:grpSpPr>
        <p:sp>
          <p:nvSpPr>
            <p:cNvPr id="99" name="任意多边形 12"/>
            <p:cNvSpPr/>
            <p:nvPr/>
          </p:nvSpPr>
          <p:spPr>
            <a:xfrm>
              <a:off x="991080" y="793800"/>
              <a:ext cx="7436160" cy="5070600"/>
            </a:xfrm>
            <a:custGeom>
              <a:avLst/>
              <a:gdLst>
                <a:gd name="textAreaLeft" fmla="*/ 0 w 7436160"/>
                <a:gd name="textAreaRight" fmla="*/ 7436520 w 7436160"/>
                <a:gd name="textAreaTop" fmla="*/ 0 h 5070600"/>
                <a:gd name="textAreaBottom" fmla="*/ 5070960 h 5070600"/>
              </a:gdLst>
              <a:ahLst/>
              <a:rect l="textAreaLeft" t="textAreaTop" r="textAreaRight" b="textAreaBottom"/>
              <a:pathLst>
                <a:path w="7858148" h="5214950">
                  <a:moveTo>
                    <a:pt x="500034" y="71438"/>
                  </a:moveTo>
                  <a:lnTo>
                    <a:pt x="7286612" y="0"/>
                  </a:lnTo>
                  <a:lnTo>
                    <a:pt x="7420704" y="11031"/>
                  </a:lnTo>
                  <a:lnTo>
                    <a:pt x="7570173" y="11031"/>
                  </a:lnTo>
                  <a:lnTo>
                    <a:pt x="7719642" y="11031"/>
                  </a:lnTo>
                  <a:lnTo>
                    <a:pt x="7858148" y="5214950"/>
                  </a:lnTo>
                  <a:lnTo>
                    <a:pt x="0" y="4929246"/>
                  </a:lnTo>
                  <a:lnTo>
                    <a:pt x="500034" y="71438"/>
                  </a:lnTo>
                  <a:close/>
                </a:path>
              </a:pathLst>
            </a:cu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tl" blurRad="177840" dir="5989853" dist="10120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714240" y="714240"/>
              <a:ext cx="7857720" cy="52146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01" name="图片 3" descr="0710240290.jpg"/>
            <p:cNvPicPr/>
            <p:nvPr/>
          </p:nvPicPr>
          <p:blipFill>
            <a:blip r:embed="rId2"/>
            <a:srcRect l="0" t="5207" r="0" b="12499"/>
            <a:stretch/>
          </p:blipFill>
          <p:spPr>
            <a:xfrm>
              <a:off x="3018600" y="714240"/>
              <a:ext cx="555552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>
              <a:off x="1928880" y="2928960"/>
              <a:ext cx="70005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solidFill>
                    <a:srgbClr val="c00000"/>
                  </a:solidFill>
                  <a:latin typeface="Bradley Hand ITC"/>
                </a:rPr>
                <a:t>Th</a:t>
              </a:r>
              <a:r>
                <a:rPr b="1" lang="en-US" sz="9600" spc="-1" strike="noStrike">
                  <a:solidFill>
                    <a:srgbClr val="ffff00"/>
                  </a:solidFill>
                  <a:latin typeface="Bradley Hand ITC"/>
                </a:rPr>
                <a:t>an</a:t>
              </a:r>
              <a:r>
                <a:rPr b="1" lang="en-US" sz="9600" spc="-1" strike="noStrike">
                  <a:solidFill>
                    <a:srgbClr val="0070c0"/>
                  </a:solidFill>
                  <a:latin typeface="Bradley Hand ITC"/>
                </a:rPr>
                <a:t>k </a:t>
              </a:r>
              <a:r>
                <a:rPr b="1" lang="en-US" sz="9600" spc="-1" strike="noStrike">
                  <a:solidFill>
                    <a:schemeClr val="accent3">
                      <a:lumMod val="50000"/>
                    </a:schemeClr>
                  </a:solidFill>
                  <a:latin typeface="Bradley Hand ITC"/>
                </a:rPr>
                <a:t>yo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Thank you (2).jpg"/>
          <p:cNvPicPr/>
          <p:nvPr/>
        </p:nvPicPr>
        <p:blipFill>
          <a:blip r:embed="rId1"/>
          <a:srcRect l="2169" t="3127" r="2169" b="3127"/>
          <a:stretch/>
        </p:blipFill>
        <p:spPr>
          <a:xfrm>
            <a:off x="285840" y="1000080"/>
            <a:ext cx="8572320" cy="4857480"/>
          </a:xfrm>
          <a:prstGeom prst="rect">
            <a:avLst/>
          </a:prstGeom>
          <a:ln w="0">
            <a:noFill/>
          </a:ln>
          <a:effectLst>
            <a:glow rad="63360">
              <a:srgbClr val="1dc7f4">
                <a:alpha val="40000"/>
              </a:srgbClr>
            </a:glow>
            <a:softEdge rad="112680"/>
          </a:effectLst>
        </p:spPr>
      </p:pic>
      <p:sp>
        <p:nvSpPr>
          <p:cNvPr id="104" name="矩形 2"/>
          <p:cNvSpPr/>
          <p:nvPr/>
        </p:nvSpPr>
        <p:spPr>
          <a:xfrm rot="1070400">
            <a:off x="360720" y="784800"/>
            <a:ext cx="2285640" cy="27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ffffff"/>
            </a:solidFill>
            <a:round/>
          </a:ln>
          <a:effectLst>
            <a:glow rad="101520">
              <a:srgbClr val="ff0000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铅笔_手.jpg"/>
          <p:cNvPicPr/>
          <p:nvPr/>
        </p:nvPicPr>
        <p:blipFill>
          <a:blip r:embed="rId1"/>
          <a:srcRect l="0" t="0" r="0" b="11521"/>
          <a:stretch/>
        </p:blipFill>
        <p:spPr>
          <a:xfrm>
            <a:off x="2643120" y="0"/>
            <a:ext cx="6500520" cy="3970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1528920" y="2614680"/>
            <a:ext cx="49431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19499998" lon="0" rev="21299999"/>
              </a:camera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92cd9"/>
                </a:solidFill>
                <a:latin typeface="Brush Scrip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29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9:41:02Z</dcterms:created>
  <dc:creator>mwk</dc:creator>
  <dc:description/>
  <dc:language>en-US</dc:language>
  <cp:lastModifiedBy>王玉清</cp:lastModifiedBy>
  <dcterms:modified xsi:type="dcterms:W3CDTF">2016-02-24T02:55:14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