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程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课程</c:v>
                </c:pt>
              </c:strCache>
            </c:strRef>
          </c:tx>
          <c:spPr>
            <a:solidFill>
              <a:srgbClr val="46aac4"/>
            </a:solidFill>
            <a:ln w="47520">
              <a:solidFill>
                <a:srgbClr val="46aac4"/>
              </a:solidFill>
              <a:round/>
            </a:ln>
          </c:spPr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目标的明确性</c:v>
                </c:pt>
                <c:pt idx="1">
                  <c:v>内容的合理性</c:v>
                </c:pt>
                <c:pt idx="2">
                  <c:v>知识的系统性</c:v>
                </c:pt>
                <c:pt idx="3">
                  <c:v>内容的适用性</c:v>
                </c:pt>
                <c:pt idx="4">
                  <c:v>趣味性</c:v>
                </c:pt>
                <c:pt idx="5">
                  <c:v>互动性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96</c:v>
                </c:pt>
                <c:pt idx="1">
                  <c:v>96</c:v>
                </c:pt>
                <c:pt idx="2">
                  <c:v>98</c:v>
                </c:pt>
                <c:pt idx="3">
                  <c:v>97</c:v>
                </c:pt>
                <c:pt idx="4">
                  <c:v>89</c:v>
                </c:pt>
                <c:pt idx="5">
                  <c:v>92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54066880"/>
        <c:axId val="41413075"/>
      </c:lineChart>
      <c:catAx>
        <c:axId val="54066880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41413075"/>
        <c:crosses val="autoZero"/>
        <c:auto val="1"/>
        <c:lblAlgn val="ctr"/>
        <c:lblOffset val="100"/>
        <c:noMultiLvlLbl val="0"/>
      </c:catAx>
      <c:valAx>
        <c:axId val="41413075"/>
        <c:scaling>
          <c:orientation val="minMax"/>
          <c:min val="6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5406688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讲 师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  讲 师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内容的理解</c:v>
                </c:pt>
                <c:pt idx="1">
                  <c:v>表达能力</c:v>
                </c:pt>
                <c:pt idx="2">
                  <c:v>学员反映的关注</c:v>
                </c:pt>
                <c:pt idx="3">
                  <c:v>鼓励参与</c:v>
                </c:pt>
                <c:pt idx="4">
                  <c:v>学习兴趣的激发</c:v>
                </c:pt>
                <c:pt idx="5">
                  <c:v>提问的指导</c:v>
                </c:pt>
                <c:pt idx="6">
                  <c:v>进度的把握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97</c:v>
                </c:pt>
                <c:pt idx="1">
                  <c:v>96</c:v>
                </c:pt>
                <c:pt idx="2">
                  <c:v>96</c:v>
                </c:pt>
                <c:pt idx="3">
                  <c:v>96</c:v>
                </c:pt>
                <c:pt idx="4">
                  <c:v>96</c:v>
                </c:pt>
                <c:pt idx="5">
                  <c:v>97</c:v>
                </c:pt>
                <c:pt idx="6">
                  <c:v>96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5313661"/>
        <c:axId val="34193433"/>
      </c:lineChart>
      <c:catAx>
        <c:axId val="531366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34193433"/>
        <c:crosses val="autoZero"/>
        <c:auto val="1"/>
        <c:lblAlgn val="ctr"/>
        <c:lblOffset val="100"/>
        <c:noMultiLvlLbl val="0"/>
      </c:catAx>
      <c:valAx>
        <c:axId val="34193433"/>
        <c:scaling>
          <c:orientation val="minMax"/>
          <c:max val="100"/>
          <c:min val="9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5313661"/>
        <c:crosses val="autoZero"/>
        <c:crossBetween val="between"/>
        <c:majorUnit val="1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安排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培训安排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组织的周密程度</c:v>
                </c:pt>
                <c:pt idx="1">
                  <c:v>议程的合理性</c:v>
                </c:pt>
                <c:pt idx="2">
                  <c:v>场所、工具的准备</c:v>
                </c:pt>
                <c:pt idx="3">
                  <c:v>总体效果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7</c:v>
                </c:pt>
                <c:pt idx="1">
                  <c:v>97</c:v>
                </c:pt>
                <c:pt idx="2">
                  <c:v>98</c:v>
                </c:pt>
                <c:pt idx="3">
                  <c:v>99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81131757"/>
        <c:axId val="36359674"/>
      </c:lineChart>
      <c:catAx>
        <c:axId val="8113175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36359674"/>
        <c:crosses val="autoZero"/>
        <c:auto val="1"/>
        <c:lblAlgn val="ctr"/>
        <c:lblOffset val="100"/>
        <c:noMultiLvlLbl val="0"/>
      </c:catAx>
      <c:valAx>
        <c:axId val="36359674"/>
        <c:scaling>
          <c:orientation val="minMax"/>
          <c:max val="100"/>
          <c:min val="9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81131757"/>
        <c:crosses val="autoZero"/>
        <c:crossBetween val="between"/>
        <c:majorUnit val="1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278D68-09E6-4832-8A16-A2A9DFB80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477BAB-ACFA-4474-AC3B-D14F9D90A2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9392A8-3144-4EC5-9664-3EE561037B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9F5B9A-7D37-4D7A-94F2-D46C605AD6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043326-0063-40BB-A04D-45B887C7E97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22ED4F-3A01-420B-B2DD-3837173BE1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A50B54-0E94-4ED8-B1F0-BF2FF9F6EE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864312-E385-47C8-A6D5-F1025E3A12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66BB88-DB67-4489-BDBF-B79F244F5D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丰富员工工作生活，提升素质，增加教职员工的学习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886062-8DB9-464B-972A-1BA38A6276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89718F-829F-49ED-8315-1E84FB242C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1DF6C7-78F9-4703-899A-42624D47CA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A75E5E-5EB3-464D-A3D2-77DC122D282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F61B48-7720-4E63-BBE9-D14F89D622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5E2FBA-17B7-494F-A0A0-F2C3516370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827-F319-44E0-BFE6-A9CA1614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09F-912A-4D9D-8E78-C2DD7113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255-188A-4F95-A330-0FC83CB4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56A-543B-425F-894B-86B018A1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729F-6398-4109-BD8F-33A66A77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C254-4C1E-435F-ACCF-75A17FDD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33E9-AB42-4390-A153-A7A26BFC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AF61-AFAF-4324-91AA-D432CAA9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8D09-9A21-40D9-8A2F-2A7E52EE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8265-61CB-4085-9559-D377004C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2469-B183-45F6-851F-270E6DE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AC9-37DC-4B55-BE2D-D5C681FB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84F9-BBBB-4D2D-9F73-4DD91683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0E13-36F1-4DEE-84A3-07126536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2EBD-D17A-4FC1-B8AA-7949171B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64B6-D9BE-4DE7-AA84-3BD0A12D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67D7-B229-4EA1-95D3-5765C6A0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4493-77F1-41B2-8FEC-626464BB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3AC7F-A6EA-489C-B5B5-E3C8B1D6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8133-0872-4E34-B13A-BE358826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1DA6-9B73-4A24-B51B-4DDFA21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EC9BD-5944-4277-8159-38E38389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484-28E5-4A1B-AB01-0006D67C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51E5-E1B2-46B9-A519-1BF90939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20E6-D0F8-416C-8CDB-6F5A946E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1D23-7868-47E5-A435-18FCC9CA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729D-EA42-45EA-9FFC-3FC0D57D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8D83-B854-4D50-B152-A35E48CE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DD10-E4BC-459D-B434-5A94DEC7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F46F-82F0-450B-A994-B81A213A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AA5-F974-443E-8DDB-F3913013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68F-5A99-4282-B161-A2A4B3A5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01E-DE42-451A-A2C1-B7BC7B91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C3F-2290-4FD1-8386-3782C59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689-DFED-4DD0-AEDE-C0A6DACF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191-19B8-41DF-9035-6770E18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单圆角矩形 8" hidden="1"/>
          <p:cNvSpPr/>
          <p:nvPr/>
        </p:nvSpPr>
        <p:spPr>
          <a:xfrm flipV="1">
            <a:off x="8172360" y="4799880"/>
            <a:ext cx="863280" cy="79164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" name="单圆角矩形 9" hidden="1"/>
          <p:cNvSpPr/>
          <p:nvPr/>
        </p:nvSpPr>
        <p:spPr>
          <a:xfrm>
            <a:off x="8172360" y="120600"/>
            <a:ext cx="863280" cy="4679640"/>
          </a:xfrm>
          <a:prstGeom prst="round1Rect">
            <a:avLst>
              <a:gd name="adj" fmla="val 16667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" name="单圆角矩形 10"/>
          <p:cNvSpPr/>
          <p:nvPr/>
        </p:nvSpPr>
        <p:spPr>
          <a:xfrm flipH="1">
            <a:off x="100800" y="120600"/>
            <a:ext cx="8964360" cy="4536720"/>
          </a:xfrm>
          <a:prstGeom prst="round1Rect">
            <a:avLst>
              <a:gd name="adj" fmla="val 23534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" name="矩形 11"/>
          <p:cNvSpPr/>
          <p:nvPr/>
        </p:nvSpPr>
        <p:spPr>
          <a:xfrm>
            <a:off x="101520" y="4657680"/>
            <a:ext cx="8964360" cy="875880"/>
          </a:xfrm>
          <a:prstGeom prst="rect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3f0e2"/>
              </a:solidFill>
              <a:latin typeface="Calibri"/>
              <a:ea typeface="宋体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7640" y="8413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C7004D-A117-42A9-8335-0628D62E241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单圆角矩形 8" hidden="1"/>
          <p:cNvSpPr/>
          <p:nvPr/>
        </p:nvSpPr>
        <p:spPr>
          <a:xfrm flipV="1">
            <a:off x="8172360" y="4799880"/>
            <a:ext cx="863280" cy="79164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单圆角矩形 9" hidden="1"/>
          <p:cNvSpPr/>
          <p:nvPr/>
        </p:nvSpPr>
        <p:spPr>
          <a:xfrm>
            <a:off x="8172360" y="120600"/>
            <a:ext cx="863280" cy="4679640"/>
          </a:xfrm>
          <a:prstGeom prst="round1Rect">
            <a:avLst>
              <a:gd name="adj" fmla="val 16667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8008920" y="179280"/>
            <a:ext cx="11998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928661-E44F-40C8-B48C-01FA08F54D9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单圆角矩形 8" hidden="1"/>
          <p:cNvSpPr/>
          <p:nvPr/>
        </p:nvSpPr>
        <p:spPr>
          <a:xfrm flipV="1">
            <a:off x="8172360" y="4799880"/>
            <a:ext cx="863280" cy="79164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单圆角矩形 9" hidden="1"/>
          <p:cNvSpPr/>
          <p:nvPr/>
        </p:nvSpPr>
        <p:spPr>
          <a:xfrm>
            <a:off x="8172360" y="120600"/>
            <a:ext cx="863280" cy="4679640"/>
          </a:xfrm>
          <a:prstGeom prst="round1Rect">
            <a:avLst>
              <a:gd name="adj" fmla="val 16667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A473F6-B20D-4620-9E74-791E71BA279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in/2013&#36130;&#24180;&#22521;&#35757;&#35745;&#21010;&#34920;-&#38738;&#23707;&#26032;&#19996;&#26041;%20-&#26102;&#38388;&#29256;+&#30446;&#30340;&#29256;-2012-08-25.xlsx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9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in/2013&#36130;&#24180;&#27963;&#21160;&#35745;&#21010;&#34920;-&#38738;&#23707;&#26032;&#19996;&#26041;.xlsx" TargetMode="Externa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image/9c57e3fae4a7c394b58f31e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in/2013&#36130;&#24180;&#22521;&#35757;&#35745;&#21010;&#34920;-&#38738;&#23707;&#26032;&#19996;&#26041;%20-&#26102;&#38388;&#29256;+&#30446;&#30340;&#29256;-2012-08-25.xlsx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5520"/>
            <a:ext cx="8351640" cy="1225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述职报告书通用</a:t>
            </a:r>
            <a:r>
              <a:rPr b="1" lang="en-US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完整版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直接连接符 9"/>
          <p:cNvCxnSpPr/>
          <p:nvPr/>
        </p:nvCxnSpPr>
        <p:spPr>
          <a:xfrm>
            <a:off x="6813360" y="4686120"/>
            <a:ext cx="360" cy="28944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40" name="直接连接符 11"/>
          <p:cNvCxnSpPr/>
          <p:nvPr/>
        </p:nvCxnSpPr>
        <p:spPr>
          <a:xfrm>
            <a:off x="7772400" y="4686120"/>
            <a:ext cx="360" cy="28944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pic>
        <p:nvPicPr>
          <p:cNvPr id="141" name="Picture 9" descr="http://pica.nipic.com/2008-05-08/200858142654232_2.jpg"/>
          <p:cNvPicPr/>
          <p:nvPr/>
        </p:nvPicPr>
        <p:blipFill>
          <a:blip r:embed="rId1"/>
          <a:stretch/>
        </p:blipFill>
        <p:spPr>
          <a:xfrm>
            <a:off x="4718160" y="3289320"/>
            <a:ext cx="4273200" cy="1552320"/>
          </a:xfrm>
          <a:prstGeom prst="rect">
            <a:avLst/>
          </a:prstGeom>
          <a:ln w="0">
            <a:noFill/>
          </a:ln>
        </p:spPr>
      </p:pic>
      <p:sp>
        <p:nvSpPr>
          <p:cNvPr id="142" name="矩形 12"/>
          <p:cNvSpPr/>
          <p:nvPr/>
        </p:nvSpPr>
        <p:spPr>
          <a:xfrm>
            <a:off x="460800" y="53712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单圆角矩形 12"/>
          <p:cNvSpPr/>
          <p:nvPr/>
        </p:nvSpPr>
        <p:spPr>
          <a:xfrm flipH="1" flipV="1">
            <a:off x="250560" y="3002040"/>
            <a:ext cx="7776720" cy="194328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76040" y="480960"/>
            <a:ext cx="676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0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00" y="880920"/>
            <a:ext cx="7757640" cy="191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-360" y="677880"/>
            <a:ext cx="3420000" cy="163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810160" y="1940760"/>
            <a:ext cx="3522960" cy="1833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5275800" y="3311640"/>
            <a:ext cx="3525480" cy="18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图表 6"/>
          <p:cNvGraphicFramePr/>
          <p:nvPr/>
        </p:nvGraphicFramePr>
        <p:xfrm>
          <a:off x="0" y="520560"/>
          <a:ext cx="9143640" cy="4352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图表 4"/>
          <p:cNvGraphicFramePr/>
          <p:nvPr/>
        </p:nvGraphicFramePr>
        <p:xfrm>
          <a:off x="0" y="337320"/>
          <a:ext cx="9135720" cy="475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图表 3"/>
          <p:cNvGraphicFramePr/>
          <p:nvPr/>
        </p:nvGraphicFramePr>
        <p:xfrm>
          <a:off x="-360" y="337320"/>
          <a:ext cx="9136080" cy="46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入司欢迎仪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1"/>
          <p:cNvSpPr/>
          <p:nvPr/>
        </p:nvSpPr>
        <p:spPr>
          <a:xfrm>
            <a:off x="250920" y="912960"/>
            <a:ext cx="75610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滞后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方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管指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见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访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场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-36360" y="1057320"/>
            <a:ext cx="9143640" cy="38282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晋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251640" y="822960"/>
            <a:ext cx="32382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职培训板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 rot="699000">
            <a:off x="4448160" y="547200"/>
            <a:ext cx="3774600" cy="4867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544680" y="49626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8"/>
          <p:cNvSpPr/>
          <p:nvPr/>
        </p:nvSpPr>
        <p:spPr>
          <a:xfrm>
            <a:off x="176040" y="480960"/>
            <a:ext cx="676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2"/>
          <p:cNvGrpSpPr/>
          <p:nvPr/>
        </p:nvGrpSpPr>
        <p:grpSpPr>
          <a:xfrm>
            <a:off x="250920" y="3002040"/>
            <a:ext cx="7776720" cy="1943280"/>
            <a:chOff x="250920" y="3002040"/>
            <a:chExt cx="7776720" cy="1943280"/>
          </a:xfrm>
        </p:grpSpPr>
        <p:sp>
          <p:nvSpPr>
            <p:cNvPr id="228" name="单圆角矩形 12"/>
            <p:cNvSpPr/>
            <p:nvPr/>
          </p:nvSpPr>
          <p:spPr>
            <a:xfrm flipH="1" flipV="1">
              <a:off x="250560" y="3002040"/>
              <a:ext cx="7776720" cy="1943280"/>
            </a:xfrm>
            <a:prstGeom prst="round1Rect">
              <a:avLst>
                <a:gd name="adj" fmla="val 16667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9" name="Rectangle 14"/>
            <p:cNvSpPr/>
            <p:nvPr/>
          </p:nvSpPr>
          <p:spPr>
            <a:xfrm>
              <a:off x="270000" y="3106800"/>
              <a:ext cx="3238200" cy="366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272160" y="864720"/>
            <a:ext cx="768384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750960" y="312480"/>
            <a:ext cx="1217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职场</a:t>
            </a: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英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24000" y="944280"/>
            <a:ext cx="5374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介绍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：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型组织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身优势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富生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39840" y="1917360"/>
            <a:ext cx="7697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期：春秋两季，每季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长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：教师委员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：详见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176040" y="480960"/>
            <a:ext cx="676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2"/>
          <p:cNvGrpSpPr/>
          <p:nvPr/>
        </p:nvGrpSpPr>
        <p:grpSpPr>
          <a:xfrm>
            <a:off x="250920" y="3002040"/>
            <a:ext cx="7776720" cy="1943280"/>
            <a:chOff x="250920" y="3002040"/>
            <a:chExt cx="7776720" cy="1943280"/>
          </a:xfrm>
        </p:grpSpPr>
        <p:sp>
          <p:nvSpPr>
            <p:cNvPr id="238" name="单圆角矩形 12"/>
            <p:cNvSpPr/>
            <p:nvPr/>
          </p:nvSpPr>
          <p:spPr>
            <a:xfrm flipH="1" flipV="1">
              <a:off x="250560" y="3002040"/>
              <a:ext cx="7776720" cy="1943280"/>
            </a:xfrm>
            <a:prstGeom prst="round1Rect">
              <a:avLst>
                <a:gd name="adj" fmla="val 16667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39" name="Rectangle 14"/>
            <p:cNvSpPr/>
            <p:nvPr/>
          </p:nvSpPr>
          <p:spPr>
            <a:xfrm>
              <a:off x="270000" y="3106800"/>
              <a:ext cx="3238200" cy="366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265320" y="880920"/>
            <a:ext cx="768384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1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186F63-C65E-4517-8F6E-F2845214A6C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5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单圆角矩形 12"/>
          <p:cNvSpPr/>
          <p:nvPr/>
        </p:nvSpPr>
        <p:spPr>
          <a:xfrm flipH="1" flipV="1">
            <a:off x="250560" y="3002040"/>
            <a:ext cx="7776720" cy="194328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76040" y="480960"/>
            <a:ext cx="676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活动计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季旅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54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8200" y="1057320"/>
            <a:ext cx="77594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17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628F07-D74C-403A-AEA1-2FA01614C54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7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544680" y="49626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3588-9697-44BD-9E25-2718EB6080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Num" idx="1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0F24CE-CA74-4B4D-97A7-3840019EEAC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单圆角矩形 16"/>
          <p:cNvSpPr/>
          <p:nvPr/>
        </p:nvSpPr>
        <p:spPr>
          <a:xfrm flipH="1" flipV="1">
            <a:off x="3924360" y="3217320"/>
            <a:ext cx="4173120" cy="1727640"/>
          </a:xfrm>
          <a:prstGeom prst="round1Rect">
            <a:avLst>
              <a:gd name="adj" fmla="val 16667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单圆角矩形 3"/>
          <p:cNvSpPr/>
          <p:nvPr/>
        </p:nvSpPr>
        <p:spPr>
          <a:xfrm flipH="1">
            <a:off x="140400" y="120600"/>
            <a:ext cx="7956360" cy="266364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2484360" y="417600"/>
            <a:ext cx="431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640" y="264960"/>
            <a:ext cx="1945080" cy="2411280"/>
          </a:xfrm>
          <a:prstGeom prst="rect">
            <a:avLst/>
          </a:prstGeom>
          <a:ln w="9525">
            <a:solidFill>
              <a:srgbClr val="ffffff"/>
            </a:solidFill>
            <a:miter/>
          </a:ln>
        </p:spPr>
      </p:pic>
      <p:grpSp>
        <p:nvGrpSpPr>
          <p:cNvPr id="158" name="Group 1"/>
          <p:cNvGrpSpPr/>
          <p:nvPr/>
        </p:nvGrpSpPr>
        <p:grpSpPr>
          <a:xfrm>
            <a:off x="2227320" y="985680"/>
            <a:ext cx="5657760" cy="2015640"/>
            <a:chOff x="2227320" y="985680"/>
            <a:chExt cx="5657760" cy="2015640"/>
          </a:xfrm>
        </p:grpSpPr>
        <p:sp>
          <p:nvSpPr>
            <p:cNvPr id="159" name="圆角矩形 9"/>
            <p:cNvSpPr/>
            <p:nvPr/>
          </p:nvSpPr>
          <p:spPr>
            <a:xfrm>
              <a:off x="2408400" y="985680"/>
              <a:ext cx="5476680" cy="2015640"/>
            </a:xfrm>
            <a:prstGeom prst="roundRect">
              <a:avLst>
                <a:gd name="adj" fmla="val 706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0" name="等腰三角形 11"/>
            <p:cNvSpPr/>
            <p:nvPr/>
          </p:nvSpPr>
          <p:spPr>
            <a:xfrm rot="16200000">
              <a:off x="2168640" y="1391040"/>
              <a:ext cx="360000" cy="24264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61" name="矩形 10"/>
          <p:cNvSpPr/>
          <p:nvPr/>
        </p:nvSpPr>
        <p:spPr>
          <a:xfrm>
            <a:off x="2484360" y="1128600"/>
            <a:ext cx="538128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刘晓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岛新东方人力资源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专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274320" y="31449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179280" y="3578400"/>
            <a:ext cx="367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-0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学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|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学教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4120920" y="3424320"/>
            <a:ext cx="668880" cy="33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接阶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4106880" y="3937680"/>
            <a:ext cx="3671640" cy="2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-08-16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-08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3"/>
          <p:cNvSpPr/>
          <p:nvPr/>
        </p:nvSpPr>
        <p:spPr>
          <a:xfrm>
            <a:off x="204840" y="904320"/>
            <a:ext cx="543672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企业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订和执行企业、人员培训计划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善和监督执行企业的培训制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内部培训师队伍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实施培训，管理培训人员材料并建立培训档案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踪培训计划执行情况，培训后续效果的评估和反馈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"/>
          <p:cNvGrpSpPr/>
          <p:nvPr/>
        </p:nvGrpSpPr>
        <p:grpSpPr>
          <a:xfrm>
            <a:off x="179280" y="431640"/>
            <a:ext cx="5835240" cy="636120"/>
            <a:chOff x="179280" y="431640"/>
            <a:chExt cx="5835240" cy="636120"/>
          </a:xfrm>
        </p:grpSpPr>
        <p:sp>
          <p:nvSpPr>
            <p:cNvPr id="168" name="Rectangle 14"/>
            <p:cNvSpPr/>
            <p:nvPr/>
          </p:nvSpPr>
          <p:spPr>
            <a:xfrm>
              <a:off x="430200" y="558720"/>
              <a:ext cx="55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14000"/>
                </a:lnSpc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培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单圆角矩形 13"/>
            <p:cNvSpPr/>
            <p:nvPr/>
          </p:nvSpPr>
          <p:spPr>
            <a:xfrm>
              <a:off x="179280" y="431640"/>
              <a:ext cx="144000" cy="636120"/>
            </a:xfrm>
            <a:prstGeom prst="round1Rect">
              <a:avLst>
                <a:gd name="adj" fmla="val 16667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0" name="Group 2"/>
          <p:cNvGrpSpPr/>
          <p:nvPr/>
        </p:nvGrpSpPr>
        <p:grpSpPr>
          <a:xfrm>
            <a:off x="227160" y="2705760"/>
            <a:ext cx="5928840" cy="645120"/>
            <a:chOff x="227160" y="2705760"/>
            <a:chExt cx="5928840" cy="645120"/>
          </a:xfrm>
        </p:grpSpPr>
        <p:sp>
          <p:nvSpPr>
            <p:cNvPr id="171" name="Rectangle 15"/>
            <p:cNvSpPr/>
            <p:nvPr/>
          </p:nvSpPr>
          <p:spPr>
            <a:xfrm>
              <a:off x="468360" y="2705760"/>
              <a:ext cx="5687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14000"/>
                </a:lnSpc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团队建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单圆角矩形 14"/>
            <p:cNvSpPr/>
            <p:nvPr/>
          </p:nvSpPr>
          <p:spPr>
            <a:xfrm>
              <a:off x="227160" y="2712960"/>
              <a:ext cx="144000" cy="637920"/>
            </a:xfrm>
            <a:prstGeom prst="round1Rect">
              <a:avLst>
                <a:gd name="adj" fmla="val 16667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3" name="Rectangle 13"/>
          <p:cNvSpPr/>
          <p:nvPr/>
        </p:nvSpPr>
        <p:spPr>
          <a:xfrm>
            <a:off x="202680" y="3339000"/>
            <a:ext cx="543672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助参与学校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组织的团队活动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正向的企业价值观，宣扬新东方文化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级交办的其他工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14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643301-348D-4977-8A5D-5F69B326246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6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44680" y="49626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3"/>
          <p:cNvSpPr/>
          <p:nvPr/>
        </p:nvSpPr>
        <p:spPr>
          <a:xfrm>
            <a:off x="395280" y="1371600"/>
            <a:ext cx="55764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79280" y="556200"/>
            <a:ext cx="5940360" cy="687960"/>
            <a:chOff x="179280" y="556200"/>
            <a:chExt cx="5940360" cy="687960"/>
          </a:xfrm>
        </p:grpSpPr>
        <p:sp>
          <p:nvSpPr>
            <p:cNvPr id="183" name="TextBox 8"/>
            <p:cNvSpPr/>
            <p:nvPr/>
          </p:nvSpPr>
          <p:spPr>
            <a:xfrm>
              <a:off x="363600" y="556200"/>
              <a:ext cx="5756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14000"/>
                </a:lnSpc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试用期考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单圆角矩形 11"/>
            <p:cNvSpPr/>
            <p:nvPr/>
          </p:nvSpPr>
          <p:spPr>
            <a:xfrm>
              <a:off x="179280" y="608040"/>
              <a:ext cx="144000" cy="636120"/>
            </a:xfrm>
            <a:prstGeom prst="round1Rect">
              <a:avLst>
                <a:gd name="adj" fmla="val 16667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85" name="Group 5"/>
          <p:cNvGrpSpPr/>
          <p:nvPr/>
        </p:nvGrpSpPr>
        <p:grpSpPr>
          <a:xfrm>
            <a:off x="2195640" y="3260880"/>
            <a:ext cx="5317560" cy="637920"/>
            <a:chOff x="2195640" y="3260880"/>
            <a:chExt cx="5317560" cy="637920"/>
          </a:xfrm>
        </p:grpSpPr>
        <p:sp>
          <p:nvSpPr>
            <p:cNvPr id="186" name="Rectangle 10"/>
            <p:cNvSpPr/>
            <p:nvPr/>
          </p:nvSpPr>
          <p:spPr>
            <a:xfrm>
              <a:off x="2411280" y="3404160"/>
              <a:ext cx="5101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14000"/>
                </a:lnSpc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新员工入职培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单圆角矩形 12"/>
            <p:cNvSpPr/>
            <p:nvPr/>
          </p:nvSpPr>
          <p:spPr>
            <a:xfrm>
              <a:off x="2195640" y="3260880"/>
              <a:ext cx="144000" cy="637920"/>
            </a:xfrm>
            <a:prstGeom prst="round1Rect">
              <a:avLst>
                <a:gd name="adj" fmla="val 16667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8" name="矩形 3"/>
          <p:cNvSpPr/>
          <p:nvPr/>
        </p:nvSpPr>
        <p:spPr>
          <a:xfrm>
            <a:off x="2270160" y="4081320"/>
            <a:ext cx="55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cture 1"/>
          <p:cNvSpPr/>
          <p:nvPr/>
        </p:nvSpPr>
        <p:spPr>
          <a:xfrm>
            <a:off x="179280" y="3085920"/>
            <a:ext cx="1897920" cy="1518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icture 3"/>
          <p:cNvSpPr/>
          <p:nvPr/>
        </p:nvSpPr>
        <p:spPr>
          <a:xfrm>
            <a:off x="5508000" y="245880"/>
            <a:ext cx="3120840" cy="2495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5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D4CB20-57B7-489F-A3A4-BD624677021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3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单圆角矩形 12"/>
          <p:cNvSpPr/>
          <p:nvPr/>
        </p:nvSpPr>
        <p:spPr>
          <a:xfrm flipH="1" flipV="1">
            <a:off x="250560" y="3002040"/>
            <a:ext cx="7776720" cy="194328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76040" y="480960"/>
            <a:ext cx="676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02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00" y="880920"/>
            <a:ext cx="7757640" cy="191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  <Words>449</Words>
  <Paragraphs>1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8:45:17Z</dcterms:created>
  <dc:creator>Sophie</dc:creator>
  <dc:description/>
  <dc:language>en-US</dc:language>
  <cp:lastModifiedBy>王玉清</cp:lastModifiedBy>
  <dcterms:modified xsi:type="dcterms:W3CDTF">2016-03-07T02:37:16Z</dcterms:modified>
  <cp:revision>75</cp:revision>
  <dc:subject/>
  <dc:title>行业观察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全屏显示(16:10)</vt:lpwstr>
  </property>
  <property fmtid="{D5CDD505-2E9C-101B-9397-08002B2CF9AE}" pid="4" name="Slides">
    <vt:r8>24</vt:r8>
  </property>
</Properties>
</file>