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A14-0273-42CF-9C84-C0278DDE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AEB-A39B-43BF-8DB4-2792E7F7D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BBA0C-E454-4448-92E9-0D9B2DA1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EB643-C86E-4313-AA40-2D842751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B0F7F-E35F-4626-BB2A-6CDE18C4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D6145-2AB7-49A2-B91A-ECC35210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71D372-47B6-49F4-A308-F06977E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1F00BF-9DA7-43EF-A917-DD7E15CB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96AD7-CBE6-4030-99EC-C46CFCD2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A4D202-F243-4A71-A191-50EC312A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328D9-897B-4D21-9485-3211F016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92DF7E-B062-4F10-9304-82E9B50F4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7BE-7C8A-4EB5-846F-B9BA53E2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F3248B-7251-4044-967E-E316EED8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D2BB00-EED4-492B-B726-C1291E68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3FC8E2-0BB5-4F64-93DE-32297D4F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F26323-9E05-4F2E-94A3-7E09D9F0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F5547-68FD-437E-A39A-C2AF2B9D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E6AFA4-4337-446C-A94A-8AA665EF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01EF5B-1F1E-4A5E-BCDC-48BBF885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3B72D1-B321-4808-85D9-A8DC1AB4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6732C6-4018-4688-9AD8-2D7B1D35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30F659-FA42-47DE-93C6-54905EB64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77B1-3B75-4332-B313-3FEED50F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788AB-CEAF-46D1-90BC-A24ACECE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EC0ED98-5E2B-4D9D-AC23-21C18312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11DAD0B-84BA-488E-AC46-F3F56CCAD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968C7F7-416A-436F-B054-2949EE57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A8B79FC-AFAE-4774-BAD0-B722DBF1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CD277B1-D98F-4F60-A22B-5AF8E0C4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329156-3034-44BA-A5BA-F084AF869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00B08F7-372D-4148-B33E-CD6F788C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2C0AEEE-EB5F-491C-9FFE-30146601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E28050-ED64-4AED-9697-722E9E32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F995E-E023-43D2-8DCA-369A61F98D1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7EBD7E-9B21-44B5-B03B-88537350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7B46F4-A6B0-4702-9ABD-D0465C5F4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37B9B4-47DE-40BC-BFE9-F90351B2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6039B-CE20-4DA6-AE8F-0C53556B790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DFBB17-A29C-46BF-9F80-A06D417107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79A03-3727-4006-A9FD-5D7C8CACE9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8C3B3-A943-498F-8B25-CD678DD5D5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6E6DD-620F-4B54-A844-7E273226AE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7D4836-4DE3-4869-92B8-3659ABCA66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EE86-1C82-48EC-869C-0CC568AB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0856E0-7720-4468-A6A2-5DDFFA319F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1C41C-3ACB-41A6-AC0E-F0EC69D3B2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0539D-563A-459B-944E-F3B92B5304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33724E-59E4-462A-B273-B6C244B1EE8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EC26D-8B39-49EA-B8C6-9DAB3DCE57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C985D-7587-45E4-98DD-5FECD966F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3061C4-92AE-4730-BA82-7FB0BDF3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4E8DD-4829-49FA-88C3-793F6454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32E8F4-CF13-4F9C-8B18-6A795F08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5CA597-33BC-4E40-AB9D-88F13E241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CEC4-2F26-4817-8124-18AA855C8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591BB-E567-4DD9-A5BA-00E20F7E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FA6B7C-7D40-453C-A20F-2098AA36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EB2F8-7570-4038-AA89-0D610AC4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D0214-FCA3-44DB-8BF8-95EACE1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CC4711-F39F-4C02-BAE0-1877FB28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9EAEE5-A014-4FDC-ABF6-478E09A7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7B4EC0-1473-4490-800D-3577721F3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8F2D6E-A48A-4E06-8D28-0B4DDA2DD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83B9DE-E36C-44D5-84BB-1D72BB6D8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1937A-1E7E-46EF-90B3-A215B333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85AD-EC4E-4DCA-B915-3FC22FB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ADFA0-C45B-4F74-9D59-176970A1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D1D3B-7084-42B3-9E39-1F372550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45C2C-35A0-4010-B060-BE711273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ED496-08B2-497E-B7FB-2FE79A7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3B556B-1F1D-49F4-9CBD-9D512D61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5DF56-9305-4112-BC6A-E927B6CF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157FB2-0ECA-4437-8CC9-072AB51A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7086C-248D-4C31-86F7-1E1E8FA6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E1860D-96F9-4128-8D34-AFB87B418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1E3EDF-A4A0-4203-BD0A-4B8496BB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7F14-5758-4795-BA2A-DA5487AE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078EFB-9EEC-4B9A-8138-E9A04A9A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403D69-A848-4805-9E45-ACC529C2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05A948-EC22-4141-88C9-5D869E03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23F948-8DC7-4117-ACDC-710F669F7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460168-DBF6-47BD-9D69-8A853BC8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B8B3FD-E276-4221-81BB-274FE38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B7B1ED-08AE-4F93-8DA5-0749756C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42B74B-8F14-4D78-BC32-DEDF95F6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5ADF89-DF43-4DC4-9514-66798250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2A5B9D-149D-4519-AE3A-BA30CF7E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D77-62B4-4DAF-BBF9-8938E92E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D52502-194F-480C-9176-805A98892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9715DD-E9D9-4B37-A63A-EC5FA2D8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3012EA-7E75-4640-B1A8-FDCB8D2D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1F87DF-8AC6-4560-81D8-B1514A73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13E900-4FA3-40C8-B24A-A1B3CB1F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9D6261-FA8F-4961-A581-1E15B359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B4B2C-4DEB-4520-8F4B-7B30D8A5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8378D3-79D9-4A86-9C97-FD99A9C5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8722A5-B134-46D4-93F3-933D4DB4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46E09E-8381-4D80-AEBA-87B374DC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2344-08FE-49FA-820F-A42231E4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578538-D411-427D-87D3-BCF6862A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DEE660-A166-43A7-A484-EB73C74D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CB356B-DAA5-4391-893B-CB2B916B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4F219D-B6AD-4AF5-9F15-8A5CE947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D4A196-2C63-43F3-B8B8-8C89C35F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EED096-8470-402A-BC5A-CC26E964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37FC19-02C4-4EFF-A4AD-BF161004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50F8E3-4177-404E-9D74-7EA467CAF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BDE7B8-5F9F-4218-A958-41C50AD5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9E110F-C7B2-42C3-A610-E45D1BF2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151-D076-4089-BA21-68C82F9C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5DBB97-DE1A-4BA3-8496-B71249E6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354ECF-EDDE-4A99-8738-F4B64EBF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91D11C-7459-455E-8419-81853E24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D73760-9077-4074-B8DD-86D92E3DA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F502A8-5CDF-42EF-8E26-FB8A7F63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3872EA-9EE7-481D-83F5-0C0AB310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1A44AD-CBE7-489F-9037-F5CAFBB0D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39AC1E-440B-4139-AF52-A6382552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FA6DAB-D9E9-4DDD-8507-187E605B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1DACA4-8DC1-4B23-806C-44000277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B5AD-7AB2-4357-B6BA-5FC64AA1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5B0D59-5023-481C-95F8-9CDA9C8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5F44CB-C35A-4107-A55E-5FD9F26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A0DB20-FE57-4BA2-92AD-F58C7053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C6F511-E8ED-4C9F-9798-ED375FD0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B496E6-34E9-46EA-9F56-A148D029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737670-C72A-4142-867B-7D9FA6FF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42CACA5-B79D-41FA-B3E2-DF9F2E45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2F3DBC-D51B-42A8-8F83-5BE0161E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D43F7B-96C8-422B-8A4A-8BA0364B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B45438-8F23-42AB-ADE9-C1A161B6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由李某某</a:t>
            </a:r>
            <a:r>
              <a:rPr b="1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/Abel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强力驱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dt" idx="2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ftr" idx="2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sldNum" idx="2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CD59-0C3E-432C-B79B-7ACF0E4B52D6}" type="slidenum"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dt" idx="2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ftr" idx="3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3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DD77-27D0-490E-9A30-5AC8FFEA5904}" type="slidenum"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由李某某</a:t>
            </a:r>
            <a:r>
              <a:rPr b="1" lang="en-US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/Abel</a:t>
            </a: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强力驱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BBEC-D19F-4C0F-888A-6CD9F5BD3883}" type="slidenum"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69BC-DCF3-47B7-9051-56C8F880DD62}" type="slidenum"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dt" idx="1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1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Num" idx="1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7894-6D29-40D1-B54E-40FB46F77D94}" type="slidenum"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Num" idx="1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BB84-310A-4558-AC5A-0CB22603D303}" type="slidenum"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dt" idx="1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ftr" idx="1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1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B64B-A3CA-41B0-A5A4-68D42DCC3E79}" type="slidenum"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dt" idx="2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3649-87FE-49E5-86FD-FFD156B82259}" type="slidenum"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dt" idx="2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ftr" idx="2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2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CA4B-B6B9-4745-A59C-A19E54E2625D}" type="slidenum"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1143000" y="2701440"/>
            <a:ext cx="685800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矩形 3"/>
          <p:cNvSpPr/>
          <p:nvPr/>
        </p:nvSpPr>
        <p:spPr>
          <a:xfrm>
            <a:off x="2105640" y="2682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表数据动态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12"/>
          <p:cNvSpPr/>
          <p:nvPr/>
        </p:nvSpPr>
        <p:spPr>
          <a:xfrm>
            <a:off x="314280" y="46594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8"/>
          <p:cNvSpPr/>
          <p:nvPr/>
        </p:nvSpPr>
        <p:spPr>
          <a:xfrm rot="9878400">
            <a:off x="-145080" y="-547920"/>
            <a:ext cx="1068480" cy="19224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弧形 12"/>
          <p:cNvSpPr/>
          <p:nvPr/>
        </p:nvSpPr>
        <p:spPr>
          <a:xfrm>
            <a:off x="428760" y="785880"/>
            <a:ext cx="288720" cy="1611360"/>
          </a:xfrm>
          <a:custGeom>
            <a:avLst/>
            <a:gdLst/>
            <a:ahLst/>
            <a:rect l="l" t="t" r="r" b="b"/>
            <a:pathLst>
              <a:path stroke="0" w="288925" h="1611312">
                <a:moveTo>
                  <a:pt x="144462" y="0"/>
                </a:moveTo>
                <a:cubicBezTo>
                  <a:pt x="214411" y="0"/>
                  <a:pt x="274311" y="279485"/>
                  <a:pt x="286657" y="663461"/>
                </a:cubicBezTo>
                <a:cubicBezTo>
                  <a:pt x="288166" y="710392"/>
                  <a:pt x="288925" y="757977"/>
                  <a:pt x="288925" y="805656"/>
                </a:cubicBezTo>
                <a:lnTo>
                  <a:pt x="144463" y="805656"/>
                </a:lnTo>
                <a:cubicBezTo>
                  <a:pt x="144463" y="537104"/>
                  <a:pt x="144462" y="268552"/>
                  <a:pt x="144462" y="0"/>
                </a:cubicBezTo>
                <a:close/>
              </a:path>
              <a:path fill="none" w="288925" h="1611312">
                <a:moveTo>
                  <a:pt x="144462" y="0"/>
                </a:moveTo>
                <a:cubicBezTo>
                  <a:pt x="214411" y="0"/>
                  <a:pt x="274311" y="279485"/>
                  <a:pt x="286657" y="663461"/>
                </a:cubicBezTo>
                <a:cubicBezTo>
                  <a:pt x="288166" y="710392"/>
                  <a:pt x="288925" y="757977"/>
                  <a:pt x="288925" y="805656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组合 11"/>
          <p:cNvGrpSpPr/>
          <p:nvPr/>
        </p:nvGrpSpPr>
        <p:grpSpPr>
          <a:xfrm>
            <a:off x="467640" y="1731240"/>
            <a:ext cx="2764800" cy="1770120"/>
            <a:chOff x="467640" y="1731240"/>
            <a:chExt cx="2764800" cy="1770120"/>
          </a:xfrm>
        </p:grpSpPr>
        <p:sp>
          <p:nvSpPr>
            <p:cNvPr id="433" name="矩形 2"/>
            <p:cNvSpPr/>
            <p:nvPr/>
          </p:nvSpPr>
          <p:spPr>
            <a:xfrm rot="994200">
              <a:off x="659160" y="2080800"/>
              <a:ext cx="2540520" cy="597960"/>
            </a:xfrm>
            <a:prstGeom prst="rect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4b4b"/>
                  </a:solidFill>
                  <a:latin typeface="微软雅黑"/>
                  <a:ea typeface="微软雅黑"/>
                </a:rPr>
                <a:t>一个培训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5"/>
            <p:cNvSpPr/>
            <p:nvPr/>
          </p:nvSpPr>
          <p:spPr>
            <a:xfrm rot="994200">
              <a:off x="484200" y="2645640"/>
              <a:ext cx="23446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  </a:t>
              </a:r>
              <a:r>
                <a:rPr b="1" lang="en-US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Another    </a:t>
              </a: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培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直接连接符 7"/>
            <p:cNvSpPr/>
            <p:nvPr/>
          </p:nvSpPr>
          <p:spPr>
            <a:xfrm>
              <a:off x="620280" y="2343960"/>
              <a:ext cx="2435040" cy="72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直接连接符 10"/>
            <p:cNvSpPr/>
            <p:nvPr/>
          </p:nvSpPr>
          <p:spPr>
            <a:xfrm>
              <a:off x="493560" y="2776680"/>
              <a:ext cx="2435040" cy="72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59"/>
          <p:cNvGrpSpPr/>
          <p:nvPr/>
        </p:nvGrpSpPr>
        <p:grpSpPr>
          <a:xfrm>
            <a:off x="2928960" y="771120"/>
            <a:ext cx="2346840" cy="1543320"/>
            <a:chOff x="2928960" y="771120"/>
            <a:chExt cx="2346840" cy="1543320"/>
          </a:xfrm>
        </p:grpSpPr>
        <p:cxnSp>
          <p:nvCxnSpPr>
            <p:cNvPr id="438" name="直接箭头连接符 21"/>
            <p:cNvCxnSpPr/>
            <p:nvPr/>
          </p:nvCxnSpPr>
          <p:spPr>
            <a:xfrm flipV="1">
              <a:off x="2928960" y="771120"/>
              <a:ext cx="821520" cy="1543680"/>
            </a:xfrm>
            <a:prstGeom prst="straightConnector1">
              <a:avLst/>
            </a:prstGeom>
            <a:ln w="9360">
              <a:solidFill>
                <a:srgbClr val="4a7ebb"/>
              </a:solidFill>
              <a:prstDash val="lgDash"/>
              <a:miter/>
              <a:tailEnd len="med" type="arrow" w="med"/>
            </a:ln>
          </p:spPr>
        </p:cxnSp>
        <p:cxnSp>
          <p:nvCxnSpPr>
            <p:cNvPr id="439" name="直接箭头连接符 26"/>
            <p:cNvCxnSpPr/>
            <p:nvPr/>
          </p:nvCxnSpPr>
          <p:spPr>
            <a:xfrm flipV="1">
              <a:off x="2928960" y="1146960"/>
              <a:ext cx="2347200" cy="1167480"/>
            </a:xfrm>
            <a:prstGeom prst="straightConnector1">
              <a:avLst/>
            </a:prstGeom>
            <a:ln w="9360">
              <a:solidFill>
                <a:srgbClr val="4a7ebb"/>
              </a:solidFill>
              <a:prstDash val="lgDash"/>
              <a:miter/>
              <a:tailEnd len="med" type="arrow" w="med"/>
            </a:ln>
          </p:spPr>
        </p:cxnSp>
      </p:grpSp>
      <p:grpSp>
        <p:nvGrpSpPr>
          <p:cNvPr id="440" name="组合 8"/>
          <p:cNvGrpSpPr/>
          <p:nvPr/>
        </p:nvGrpSpPr>
        <p:grpSpPr>
          <a:xfrm>
            <a:off x="3642840" y="-36720"/>
            <a:ext cx="1764720" cy="1546200"/>
            <a:chOff x="3642840" y="-36720"/>
            <a:chExt cx="1764720" cy="1546200"/>
          </a:xfrm>
        </p:grpSpPr>
        <p:sp>
          <p:nvSpPr>
            <p:cNvPr id="441" name="矩形 30"/>
            <p:cNvSpPr/>
            <p:nvPr/>
          </p:nvSpPr>
          <p:spPr>
            <a:xfrm rot="814200">
              <a:off x="3658320" y="1073880"/>
              <a:ext cx="222120" cy="16020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31"/>
            <p:cNvSpPr/>
            <p:nvPr/>
          </p:nvSpPr>
          <p:spPr>
            <a:xfrm rot="17019000">
              <a:off x="4080960" y="-136080"/>
              <a:ext cx="970920" cy="1495440"/>
            </a:xfrm>
            <a:prstGeom prst="rect">
              <a:avLst/>
            </a:prstGeom>
            <a:solidFill>
              <a:srgbClr val="ffd13f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Box 11"/>
            <p:cNvSpPr/>
            <p:nvPr/>
          </p:nvSpPr>
          <p:spPr>
            <a:xfrm rot="814200">
              <a:off x="3804120" y="237960"/>
              <a:ext cx="15429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</a:t>
              </a:r>
              <a:r>
                <a:rPr b="1" lang="zh-CN" sz="2400" spc="-1" strike="noStrike">
                  <a:solidFill>
                    <a:srgbClr val="ff4b4b"/>
                  </a:solidFill>
                  <a:latin typeface="微软雅黑"/>
                  <a:ea typeface="微软雅黑"/>
                </a:rPr>
                <a:t>性感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exy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15"/>
            <p:cNvSpPr/>
            <p:nvPr/>
          </p:nvSpPr>
          <p:spPr>
            <a:xfrm rot="814200">
              <a:off x="3790080" y="106812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000"/>
                  </a:solidFill>
                  <a:latin typeface="Calibri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60"/>
          <p:cNvGrpSpPr/>
          <p:nvPr/>
        </p:nvGrpSpPr>
        <p:grpSpPr>
          <a:xfrm>
            <a:off x="3240000" y="1731240"/>
            <a:ext cx="3223080" cy="1301040"/>
            <a:chOff x="3240000" y="1731240"/>
            <a:chExt cx="3223080" cy="1301040"/>
          </a:xfrm>
        </p:grpSpPr>
        <p:cxnSp>
          <p:nvCxnSpPr>
            <p:cNvPr id="446" name="直接箭头连接符 23"/>
            <p:cNvCxnSpPr/>
            <p:nvPr/>
          </p:nvCxnSpPr>
          <p:spPr>
            <a:xfrm flipV="1">
              <a:off x="3240000" y="1731240"/>
              <a:ext cx="3223440" cy="977400"/>
            </a:xfrm>
            <a:prstGeom prst="straightConnector1">
              <a:avLst/>
            </a:prstGeom>
            <a:ln w="9360">
              <a:solidFill>
                <a:srgbClr val="4a7ebb"/>
              </a:solidFill>
              <a:prstDash val="lgDash"/>
              <a:miter/>
              <a:tailEnd len="med" type="arrow" w="med"/>
            </a:ln>
          </p:spPr>
        </p:cxnSp>
        <p:cxnSp>
          <p:nvCxnSpPr>
            <p:cNvPr id="447" name="直接箭头连接符 39"/>
            <p:cNvCxnSpPr/>
            <p:nvPr/>
          </p:nvCxnSpPr>
          <p:spPr>
            <a:xfrm>
              <a:off x="3240000" y="2708280"/>
              <a:ext cx="3223440" cy="324360"/>
            </a:xfrm>
            <a:prstGeom prst="straightConnector1">
              <a:avLst/>
            </a:prstGeom>
            <a:ln w="9360">
              <a:solidFill>
                <a:srgbClr val="4a7ebb"/>
              </a:solidFill>
              <a:prstDash val="lgDash"/>
              <a:miter/>
              <a:tailEnd len="med" type="arrow" w="med"/>
            </a:ln>
          </p:spPr>
        </p:cxnSp>
      </p:grpSp>
      <p:grpSp>
        <p:nvGrpSpPr>
          <p:cNvPr id="448" name="组合 8"/>
          <p:cNvGrpSpPr/>
          <p:nvPr/>
        </p:nvGrpSpPr>
        <p:grpSpPr>
          <a:xfrm>
            <a:off x="6356880" y="1587600"/>
            <a:ext cx="1670040" cy="1640160"/>
            <a:chOff x="6356880" y="1587600"/>
            <a:chExt cx="1670040" cy="1640160"/>
          </a:xfrm>
        </p:grpSpPr>
        <p:sp>
          <p:nvSpPr>
            <p:cNvPr id="449" name="矩形 44"/>
            <p:cNvSpPr/>
            <p:nvPr/>
          </p:nvSpPr>
          <p:spPr>
            <a:xfrm rot="20857200">
              <a:off x="6603480" y="2976840"/>
              <a:ext cx="220680" cy="160200"/>
            </a:xfrm>
            <a:prstGeom prst="rect">
              <a:avLst/>
            </a:prstGeom>
            <a:solidFill>
              <a:srgbClr val="ff4b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45"/>
            <p:cNvSpPr/>
            <p:nvPr/>
          </p:nvSpPr>
          <p:spPr>
            <a:xfrm rot="15462000">
              <a:off x="6708600" y="1473120"/>
              <a:ext cx="969840" cy="1494000"/>
            </a:xfrm>
            <a:prstGeom prst="rect">
              <a:avLst/>
            </a:prstGeom>
            <a:solidFill>
              <a:srgbClr val="ff6969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11"/>
            <p:cNvSpPr/>
            <p:nvPr/>
          </p:nvSpPr>
          <p:spPr>
            <a:xfrm rot="20857200">
              <a:off x="6410880" y="1857240"/>
              <a:ext cx="15415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有销售力的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房源描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15"/>
            <p:cNvSpPr/>
            <p:nvPr/>
          </p:nvSpPr>
          <p:spPr>
            <a:xfrm rot="20857200">
              <a:off x="6798240" y="279252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4b4b"/>
                  </a:solidFill>
                  <a:latin typeface="Calibri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组合 8"/>
          <p:cNvGrpSpPr/>
          <p:nvPr/>
        </p:nvGrpSpPr>
        <p:grpSpPr>
          <a:xfrm>
            <a:off x="4469760" y="3461400"/>
            <a:ext cx="1632960" cy="1567800"/>
            <a:chOff x="4469760" y="3461400"/>
            <a:chExt cx="1632960" cy="1567800"/>
          </a:xfrm>
        </p:grpSpPr>
        <p:sp>
          <p:nvSpPr>
            <p:cNvPr id="454" name="矩形 52"/>
            <p:cNvSpPr/>
            <p:nvPr/>
          </p:nvSpPr>
          <p:spPr>
            <a:xfrm rot="21102000">
              <a:off x="4638600" y="4770000"/>
              <a:ext cx="222120" cy="158040"/>
            </a:xfrm>
            <a:prstGeom prst="rect">
              <a:avLst/>
            </a:prstGeom>
            <a:solidFill>
              <a:srgbClr val="5980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53"/>
            <p:cNvSpPr/>
            <p:nvPr/>
          </p:nvSpPr>
          <p:spPr>
            <a:xfrm rot="15706800">
              <a:off x="4810680" y="3297600"/>
              <a:ext cx="964080" cy="1495800"/>
            </a:xfrm>
            <a:prstGeom prst="rect">
              <a:avLst/>
            </a:prstGeom>
            <a:solidFill>
              <a:srgbClr val="86a3fe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11"/>
            <p:cNvSpPr/>
            <p:nvPr/>
          </p:nvSpPr>
          <p:spPr>
            <a:xfrm rot="21102000">
              <a:off x="4514400" y="3674160"/>
              <a:ext cx="1543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其他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th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TextBox 15"/>
            <p:cNvSpPr/>
            <p:nvPr/>
          </p:nvSpPr>
          <p:spPr>
            <a:xfrm rot="21102000">
              <a:off x="4843800" y="4614840"/>
              <a:ext cx="6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980fd"/>
                  </a:solidFill>
                  <a:latin typeface="Calibri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组合 61"/>
          <p:cNvGrpSpPr/>
          <p:nvPr/>
        </p:nvGrpSpPr>
        <p:grpSpPr>
          <a:xfrm>
            <a:off x="3173040" y="2931840"/>
            <a:ext cx="1848240" cy="1215000"/>
            <a:chOff x="3173040" y="2931840"/>
            <a:chExt cx="1848240" cy="1215000"/>
          </a:xfrm>
        </p:grpSpPr>
        <p:cxnSp>
          <p:nvCxnSpPr>
            <p:cNvPr id="459" name="直接箭头连接符 25"/>
            <p:cNvCxnSpPr/>
            <p:nvPr/>
          </p:nvCxnSpPr>
          <p:spPr>
            <a:xfrm>
              <a:off x="3173400" y="2960640"/>
              <a:ext cx="1355040" cy="1186560"/>
            </a:xfrm>
            <a:prstGeom prst="straightConnector1">
              <a:avLst/>
            </a:prstGeom>
            <a:ln w="9360">
              <a:solidFill>
                <a:srgbClr val="4a7ebb"/>
              </a:solidFill>
              <a:prstDash val="lgDash"/>
              <a:miter/>
              <a:tailEnd len="med" type="arrow" w="med"/>
            </a:ln>
          </p:spPr>
        </p:cxnSp>
        <p:cxnSp>
          <p:nvCxnSpPr>
            <p:cNvPr id="460" name="直接箭头连接符 56"/>
            <p:cNvCxnSpPr/>
            <p:nvPr/>
          </p:nvCxnSpPr>
          <p:spPr>
            <a:xfrm>
              <a:off x="3173040" y="2931840"/>
              <a:ext cx="1848600" cy="570600"/>
            </a:xfrm>
            <a:prstGeom prst="straightConnector1">
              <a:avLst/>
            </a:prstGeom>
            <a:ln w="9360">
              <a:solidFill>
                <a:srgbClr val="4a7ebb"/>
              </a:solidFill>
              <a:prstDash val="lgDash"/>
              <a:miter/>
              <a:tailEnd len="med" type="arrow" w="med"/>
            </a:ln>
          </p:spPr>
        </p:cxnSp>
      </p:grpSp>
      <p:sp>
        <p:nvSpPr>
          <p:cNvPr id="461" name="矩形 64"/>
          <p:cNvSpPr/>
          <p:nvPr/>
        </p:nvSpPr>
        <p:spPr>
          <a:xfrm rot="900000">
            <a:off x="417240" y="133632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4b4b"/>
                </a:solidFill>
                <a:latin typeface="微软雅黑"/>
                <a:ea typeface="微软雅黑"/>
              </a:rPr>
              <a:t>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任意多边形 14"/>
          <p:cNvSpPr/>
          <p:nvPr/>
        </p:nvSpPr>
        <p:spPr>
          <a:xfrm>
            <a:off x="428760" y="642960"/>
            <a:ext cx="288720" cy="981000"/>
          </a:xfrm>
          <a:custGeom>
            <a:avLst/>
            <a:gdLst/>
            <a:ahLst/>
            <a:rect l="l" t="t" r="r" b="b"/>
            <a:pathLst>
              <a:path w="457333" h="849086">
                <a:moveTo>
                  <a:pt x="0" y="0"/>
                </a:moveTo>
                <a:cubicBezTo>
                  <a:pt x="10886" y="212271"/>
                  <a:pt x="21772" y="424543"/>
                  <a:pt x="97972" y="566057"/>
                </a:cubicBezTo>
                <a:cubicBezTo>
                  <a:pt x="174172" y="707571"/>
                  <a:pt x="464457" y="814615"/>
                  <a:pt x="457200" y="849086"/>
                </a:cubicBezTo>
              </a:path>
            </a:pathLst>
          </a:custGeom>
          <a:noFill/>
          <a:ln w="648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100" fill="hold"/>
                                        <p:tgtEl>
                                          <p:spTgt spid="44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100" fill="hold"/>
                                        <p:tgtEl>
                                          <p:spTgt spid="44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图片 48" descr="图标2.png"/>
          <p:cNvPicPr/>
          <p:nvPr/>
        </p:nvPicPr>
        <p:blipFill>
          <a:blip r:embed="rId1"/>
          <a:stretch/>
        </p:blipFill>
        <p:spPr>
          <a:xfrm>
            <a:off x="5292720" y="1347840"/>
            <a:ext cx="2643120" cy="2643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464" name="图片 28" descr="图标.png"/>
          <p:cNvPicPr/>
          <p:nvPr/>
        </p:nvPicPr>
        <p:blipFill>
          <a:blip r:embed="rId2"/>
          <a:stretch/>
        </p:blipFill>
        <p:spPr>
          <a:xfrm>
            <a:off x="5357880" y="531720"/>
            <a:ext cx="2539800" cy="2540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465" name="圆角矩形标注 22"/>
          <p:cNvSpPr/>
          <p:nvPr/>
        </p:nvSpPr>
        <p:spPr>
          <a:xfrm>
            <a:off x="4238640" y="285840"/>
            <a:ext cx="1333440" cy="857160"/>
          </a:xfrm>
          <a:prstGeom prst="wedgeRoundRectCallout">
            <a:avLst>
              <a:gd name="adj1" fmla="val -58250"/>
              <a:gd name="adj2" fmla="val -27851"/>
              <a:gd name="adj3" fmla="val 16667"/>
            </a:avLst>
          </a:prstGeom>
          <a:solidFill>
            <a:srgbClr val="86d1d6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3"/>
          <p:cNvSpPr/>
          <p:nvPr/>
        </p:nvSpPr>
        <p:spPr>
          <a:xfrm>
            <a:off x="4357800" y="35712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8e2a"/>
                </a:solidFill>
                <a:latin typeface="Calibri"/>
              </a:rPr>
              <a:t>A</a:t>
            </a:r>
            <a:r>
              <a:rPr b="1" lang="zh-CN" sz="1800" spc="-1" strike="noStrike">
                <a:solidFill>
                  <a:srgbClr val="f18e2a"/>
                </a:solidFill>
                <a:latin typeface="Calibri"/>
              </a:rPr>
              <a:t>、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4"/>
          <p:cNvSpPr/>
          <p:nvPr/>
        </p:nvSpPr>
        <p:spPr>
          <a:xfrm>
            <a:off x="4357800" y="6843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18e2a"/>
                </a:solidFill>
                <a:latin typeface="Calibri"/>
              </a:rPr>
              <a:t>B</a:t>
            </a:r>
            <a:r>
              <a:rPr b="1" lang="zh-CN" sz="1800" spc="-1" strike="noStrike">
                <a:solidFill>
                  <a:srgbClr val="f18e2a"/>
                </a:solidFill>
                <a:latin typeface="Calibri"/>
              </a:rPr>
              <a:t>、数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直接箭头连接符 26"/>
          <p:cNvCxnSpPr>
            <a:stCxn id="466" idx="3"/>
          </p:cNvCxnSpPr>
          <p:nvPr/>
        </p:nvCxnSpPr>
        <p:spPr>
          <a:xfrm>
            <a:off x="5429160" y="541080"/>
            <a:ext cx="643320" cy="602280"/>
          </a:xfrm>
          <a:prstGeom prst="straightConnector1">
            <a:avLst/>
          </a:prstGeom>
          <a:ln w="19080">
            <a:solidFill>
              <a:srgbClr val="4a7ebb"/>
            </a:solidFill>
            <a:prstDash val="lgDash"/>
            <a:miter/>
            <a:tailEnd len="med" type="arrow" w="med"/>
          </a:ln>
        </p:spPr>
      </p:cxnSp>
      <p:sp>
        <p:nvSpPr>
          <p:cNvPr id="469" name="TextBox 30"/>
          <p:cNvSpPr/>
          <p:nvPr/>
        </p:nvSpPr>
        <p:spPr>
          <a:xfrm>
            <a:off x="7715160" y="14778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34"/>
          <p:cNvSpPr/>
          <p:nvPr/>
        </p:nvSpPr>
        <p:spPr>
          <a:xfrm>
            <a:off x="7715160" y="12636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5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35"/>
          <p:cNvSpPr/>
          <p:nvPr/>
        </p:nvSpPr>
        <p:spPr>
          <a:xfrm>
            <a:off x="7715160" y="10494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36"/>
          <p:cNvSpPr/>
          <p:nvPr/>
        </p:nvSpPr>
        <p:spPr>
          <a:xfrm>
            <a:off x="7715160" y="83520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7"/>
          <p:cNvSpPr/>
          <p:nvPr/>
        </p:nvSpPr>
        <p:spPr>
          <a:xfrm>
            <a:off x="6515280" y="13968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搜索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7504200" y="291924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32"/>
          <p:cNvSpPr/>
          <p:nvPr/>
        </p:nvSpPr>
        <p:spPr>
          <a:xfrm>
            <a:off x="7475040" y="263376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3"/>
          <p:cNvSpPr/>
          <p:nvPr/>
        </p:nvSpPr>
        <p:spPr>
          <a:xfrm>
            <a:off x="7475040" y="234792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38"/>
          <p:cNvSpPr/>
          <p:nvPr/>
        </p:nvSpPr>
        <p:spPr>
          <a:xfrm>
            <a:off x="7475040" y="20620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组合 42"/>
          <p:cNvGrpSpPr/>
          <p:nvPr/>
        </p:nvGrpSpPr>
        <p:grpSpPr>
          <a:xfrm>
            <a:off x="-202320" y="-1931760"/>
            <a:ext cx="3038760" cy="1815840"/>
            <a:chOff x="-202320" y="-1931760"/>
            <a:chExt cx="3038760" cy="1815840"/>
          </a:xfrm>
        </p:grpSpPr>
        <p:sp>
          <p:nvSpPr>
            <p:cNvPr id="479" name="矩形 43"/>
            <p:cNvSpPr/>
            <p:nvPr/>
          </p:nvSpPr>
          <p:spPr>
            <a:xfrm rot="994200">
              <a:off x="171360" y="-1581120"/>
              <a:ext cx="2544840" cy="598320"/>
            </a:xfrm>
            <a:prstGeom prst="rect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969"/>
                  </a:solidFill>
                  <a:latin typeface="微软雅黑"/>
                  <a:ea typeface="微软雅黑"/>
                </a:rPr>
                <a:t>开始之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Box 44"/>
            <p:cNvSpPr/>
            <p:nvPr/>
          </p:nvSpPr>
          <p:spPr>
            <a:xfrm rot="994200">
              <a:off x="-199800" y="-998280"/>
              <a:ext cx="30337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Before the jour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直接连接符 45"/>
            <p:cNvSpPr/>
            <p:nvPr/>
          </p:nvSpPr>
          <p:spPr>
            <a:xfrm>
              <a:off x="125640" y="-1318320"/>
              <a:ext cx="2439000" cy="72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直接连接符 46"/>
            <p:cNvSpPr/>
            <p:nvPr/>
          </p:nvSpPr>
          <p:spPr>
            <a:xfrm>
              <a:off x="2160" y="-886680"/>
              <a:ext cx="2439000" cy="72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TextBox 47"/>
          <p:cNvSpPr/>
          <p:nvPr/>
        </p:nvSpPr>
        <p:spPr>
          <a:xfrm>
            <a:off x="7474320" y="17762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图片 39" descr=""/>
          <p:cNvPicPr/>
          <p:nvPr/>
        </p:nvPicPr>
        <p:blipFill>
          <a:blip r:embed="rId3"/>
          <a:stretch/>
        </p:blipFill>
        <p:spPr>
          <a:xfrm>
            <a:off x="130320" y="-2070000"/>
            <a:ext cx="476280" cy="68076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9" descr="2.png"/>
          <p:cNvPicPr/>
          <p:nvPr/>
        </p:nvPicPr>
        <p:blipFill>
          <a:blip r:embed="rId4"/>
          <a:stretch/>
        </p:blipFill>
        <p:spPr>
          <a:xfrm>
            <a:off x="3857760" y="12859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86" name="图片 8" descr="1.png"/>
          <p:cNvPicPr/>
          <p:nvPr/>
        </p:nvPicPr>
        <p:blipFill>
          <a:blip r:embed="rId5"/>
          <a:stretch/>
        </p:blipFill>
        <p:spPr>
          <a:xfrm>
            <a:off x="3262320" y="9669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87" name="图片 10" descr="3.png"/>
          <p:cNvPicPr/>
          <p:nvPr/>
        </p:nvPicPr>
        <p:blipFill>
          <a:blip r:embed="rId6"/>
          <a:stretch/>
        </p:blipFill>
        <p:spPr>
          <a:xfrm>
            <a:off x="4000680" y="14288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13" descr="6.png"/>
          <p:cNvPicPr/>
          <p:nvPr/>
        </p:nvPicPr>
        <p:blipFill>
          <a:blip r:embed="rId7"/>
          <a:stretch/>
        </p:blipFill>
        <p:spPr>
          <a:xfrm>
            <a:off x="3666960" y="2519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14" descr="7.png"/>
          <p:cNvPicPr/>
          <p:nvPr/>
        </p:nvPicPr>
        <p:blipFill>
          <a:blip r:embed="rId8"/>
          <a:stretch/>
        </p:blipFill>
        <p:spPr>
          <a:xfrm>
            <a:off x="3452760" y="24289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15" descr="8.png"/>
          <p:cNvPicPr/>
          <p:nvPr/>
        </p:nvPicPr>
        <p:blipFill>
          <a:blip r:embed="rId9"/>
          <a:stretch/>
        </p:blipFill>
        <p:spPr>
          <a:xfrm>
            <a:off x="2952720" y="2357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7" descr="10.png"/>
          <p:cNvPicPr/>
          <p:nvPr/>
        </p:nvPicPr>
        <p:blipFill>
          <a:blip r:embed="rId10"/>
          <a:stretch/>
        </p:blipFill>
        <p:spPr>
          <a:xfrm>
            <a:off x="2905200" y="12859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492" name="图片 16" descr="9.png"/>
          <p:cNvPicPr/>
          <p:nvPr/>
        </p:nvPicPr>
        <p:blipFill>
          <a:blip r:embed="rId11"/>
          <a:stretch/>
        </p:blipFill>
        <p:spPr>
          <a:xfrm>
            <a:off x="2738520" y="157176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493" name="图片 12" descr="5.png"/>
          <p:cNvPicPr/>
          <p:nvPr/>
        </p:nvPicPr>
        <p:blipFill>
          <a:blip r:embed="rId12"/>
          <a:stretch/>
        </p:blipFill>
        <p:spPr>
          <a:xfrm>
            <a:off x="3738600" y="2071800"/>
            <a:ext cx="1905120" cy="1904760"/>
          </a:xfrm>
          <a:prstGeom prst="rect">
            <a:avLst/>
          </a:prstGeom>
          <a:ln w="0">
            <a:noFill/>
          </a:ln>
        </p:spPr>
      </p:pic>
      <p:cxnSp>
        <p:nvCxnSpPr>
          <p:cNvPr id="494" name="直接箭头连接符 41"/>
          <p:cNvCxnSpPr/>
          <p:nvPr/>
        </p:nvCxnSpPr>
        <p:spPr>
          <a:xfrm>
            <a:off x="5339880" y="1165320"/>
            <a:ext cx="375480" cy="915120"/>
          </a:xfrm>
          <a:prstGeom prst="straightConnector1">
            <a:avLst/>
          </a:prstGeom>
          <a:ln w="19080">
            <a:solidFill>
              <a:srgbClr val="4a7ebb"/>
            </a:solidFill>
            <a:prstDash val="lgDash"/>
            <a:miter/>
            <a:tailEnd len="med" type="arrow" w="med"/>
          </a:ln>
        </p:spPr>
      </p:cxnSp>
      <p:pic>
        <p:nvPicPr>
          <p:cNvPr id="495" name="图片 11" descr="4.png"/>
          <p:cNvPicPr/>
          <p:nvPr/>
        </p:nvPicPr>
        <p:blipFill>
          <a:blip r:embed="rId13"/>
          <a:stretch/>
        </p:blipFill>
        <p:spPr>
          <a:xfrm>
            <a:off x="4286160" y="1785960"/>
            <a:ext cx="1905120" cy="1905120"/>
          </a:xfrm>
          <a:prstGeom prst="rect">
            <a:avLst/>
          </a:prstGeom>
          <a:ln w="0">
            <a:noFill/>
          </a:ln>
        </p:spPr>
      </p:pic>
      <p:grpSp>
        <p:nvGrpSpPr>
          <p:cNvPr id="496" name="组合 21"/>
          <p:cNvGrpSpPr/>
          <p:nvPr/>
        </p:nvGrpSpPr>
        <p:grpSpPr>
          <a:xfrm>
            <a:off x="2499480" y="571320"/>
            <a:ext cx="1501200" cy="571320"/>
            <a:chOff x="2499480" y="571320"/>
            <a:chExt cx="1501200" cy="571320"/>
          </a:xfrm>
        </p:grpSpPr>
        <p:sp>
          <p:nvSpPr>
            <p:cNvPr id="497" name="直接连接符 18"/>
            <p:cNvSpPr/>
            <p:nvPr/>
          </p:nvSpPr>
          <p:spPr>
            <a:xfrm flipV="1">
              <a:off x="2499480" y="571320"/>
              <a:ext cx="523800" cy="571320"/>
            </a:xfrm>
            <a:prstGeom prst="line">
              <a:avLst/>
            </a:prstGeom>
            <a:ln w="19080">
              <a:solidFill>
                <a:srgbClr val="4a7eb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直接连接符 20"/>
            <p:cNvSpPr/>
            <p:nvPr/>
          </p:nvSpPr>
          <p:spPr>
            <a:xfrm>
              <a:off x="3024000" y="571680"/>
              <a:ext cx="976680" cy="1440"/>
            </a:xfrm>
            <a:prstGeom prst="line">
              <a:avLst/>
            </a:prstGeom>
            <a:ln w="19080">
              <a:solidFill>
                <a:srgbClr val="4a7ebb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TextBox 17"/>
          <p:cNvSpPr/>
          <p:nvPr/>
        </p:nvSpPr>
        <p:spPr>
          <a:xfrm>
            <a:off x="1217160" y="1341360"/>
            <a:ext cx="1348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8e2a"/>
                </a:solidFill>
                <a:latin typeface="微软雅黑"/>
                <a:ea typeface="微软雅黑"/>
              </a:rPr>
              <a:t>Refr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18e2a"/>
                </a:solidFill>
                <a:latin typeface="微软雅黑"/>
                <a:ea typeface="微软雅黑"/>
              </a:rPr>
              <a:t>刷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0"/>
          <p:cNvSpPr/>
          <p:nvPr/>
        </p:nvSpPr>
        <p:spPr>
          <a:xfrm>
            <a:off x="6021360" y="142884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09282E-006 L -8.33333E-007 0.37065 E">
                                      <p:cBhvr>
                                        <p:cTn id="40" dur="1000" fill="hold"/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22222E-006 1.85014E-007 L 2.22222E-006 0.37188 E">
                                      <p:cBhvr>
                                        <p:cTn id="42" dur="1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50" fill="hold"/>
                                        <p:tgtEl>
                                          <p:spTgt spid="4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50" fill="hold"/>
                                        <p:tgtEl>
                                          <p:spTgt spid="48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50" fill="hold"/>
                                        <p:tgtEl>
                                          <p:spTgt spid="49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5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50" fill="hold"/>
                                        <p:tgtEl>
                                          <p:spTgt spid="49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50" fill="hold"/>
                                        <p:tgtEl>
                                          <p:spTgt spid="4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" dur="50" fill="hold"/>
                                        <p:tgtEl>
                                          <p:spTgt spid="49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50" fill="hold"/>
                                        <p:tgtEl>
                                          <p:spTgt spid="4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50" fill="hold"/>
                                        <p:tgtEl>
                                          <p:spTgt spid="4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" dur="50" fill="hold"/>
                                        <p:tgtEl>
                                          <p:spTgt spid="4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8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50" fill="hold"/>
                                        <p:tgtEl>
                                          <p:spTgt spid="48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" dur="50" fill="hold"/>
                                        <p:tgtEl>
                                          <p:spTgt spid="48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9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50" fill="hold"/>
                                        <p:tgtEl>
                                          <p:spTgt spid="48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" dur="50" fill="hold"/>
                                        <p:tgtEl>
                                          <p:spTgt spid="4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50" fill="hold"/>
                                        <p:tgtEl>
                                          <p:spTgt spid="49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" fill="hold"/>
                                        <p:tgtEl>
                                          <p:spTgt spid="48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1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" fill="hold"/>
                                        <p:tgtEl>
                                          <p:spTgt spid="48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0" dur="50" fill="hold"/>
                                        <p:tgtEl>
                                          <p:spTgt spid="4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990"/>
                            </p:stCondLst>
                            <p:childTnLst>
                              <p:par>
                                <p:cTn id="1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50" fill="hold"/>
                                        <p:tgtEl>
                                          <p:spTgt spid="49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9" dur="20" fill="hold"/>
                                        <p:tgtEl>
                                          <p:spTgt spid="48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1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" fill="hold"/>
                                        <p:tgtEl>
                                          <p:spTgt spid="48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6" dur="5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8" dur="5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0" dur="5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2" dur="5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4" dur="5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6" dur="5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8" dur="5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0" dur="5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2" dur="500" fill="hold"/>
                                        <p:tgtEl>
                                          <p:spTgt spid="4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4" dur="5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200" fill="hold"/>
                                        <p:tgtEl>
                                          <p:spTgt spid="49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" fill="hold"/>
                                        <p:tgtEl>
                                          <p:spTgt spid="49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1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50" fill="hold"/>
                                        <p:tgtEl>
                                          <p:spTgt spid="4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850"/>
                            </p:stCondLst>
                            <p:childTnLst>
                              <p:par>
                                <p:cTn id="1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50" fill="hold"/>
                                        <p:tgtEl>
                                          <p:spTgt spid="46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1" dur="1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1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100" fill="hold"/>
                                        <p:tgtEl>
                                          <p:spTgt spid="4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9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100" fill="hold"/>
                                        <p:tgtEl>
                                          <p:spTgt spid="46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97" dur="indefinite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642b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8" dur="100" fill="hold"/>
                                        <p:tgtEl>
                                          <p:spTgt spid="46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100" fill="hold"/>
                                        <p:tgtEl>
                                          <p:spTgt spid="46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100" fill="hold"/>
                                        <p:tgtEl>
                                          <p:spTgt spid="4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100" fill="hold"/>
                                        <p:tgtEl>
                                          <p:spTgt spid="46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6" dur="100" fill="hold"/>
                                        <p:tgtEl>
                                          <p:spTgt spid="47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9" dur="100" fill="hold"/>
                                        <p:tgtEl>
                                          <p:spTgt spid="47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5" dur="100" fill="hold"/>
                                        <p:tgtEl>
                                          <p:spTgt spid="4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8" dur="100" fill="hold"/>
                                        <p:tgtEl>
                                          <p:spTgt spid="47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4" dur="100" fill="hold"/>
                                        <p:tgtEl>
                                          <p:spTgt spid="4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2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100" fill="hold"/>
                                        <p:tgtEl>
                                          <p:spTgt spid="47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100" fill="hold"/>
                                        <p:tgtEl>
                                          <p:spTgt spid="4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6" dur="100" fill="hold"/>
                                        <p:tgtEl>
                                          <p:spTgt spid="47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0" dur="100" fill="hold"/>
                                        <p:tgtEl>
                                          <p:spTgt spid="46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2" dur="100" fill="hold"/>
                                        <p:tgtEl>
                                          <p:spTgt spid="46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4" dur="100" fill="hold"/>
                                        <p:tgtEl>
                                          <p:spTgt spid="46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6" dur="100" fill="hold"/>
                                        <p:tgtEl>
                                          <p:spTgt spid="47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100" fill="hold"/>
                                        <p:tgtEl>
                                          <p:spTgt spid="47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100" fill="hold"/>
                                        <p:tgtEl>
                                          <p:spTgt spid="47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2" dur="100" fill="hold"/>
                                        <p:tgtEl>
                                          <p:spTgt spid="47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200" fill="hold"/>
                                        <p:tgtEl>
                                          <p:spTgt spid="46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" fill="hold"/>
                                        <p:tgtEl>
                                          <p:spTgt spid="46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" fill="hold"/>
                                        <p:tgtEl>
                                          <p:spTgt spid="46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1" dur="200" fill="hold"/>
                                        <p:tgtEl>
                                          <p:spTgt spid="470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3" dur="200" fill="hold"/>
                                        <p:tgtEl>
                                          <p:spTgt spid="47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5" dur="200" fill="hold"/>
                                        <p:tgtEl>
                                          <p:spTgt spid="47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" fill="hold"/>
                                        <p:tgtEl>
                                          <p:spTgt spid="47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1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1642b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92" dur="indefinite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0" dur="100" fill="hold"/>
                                        <p:tgtEl>
                                          <p:spTgt spid="4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2" dur="100" fill="hold"/>
                                        <p:tgtEl>
                                          <p:spTgt spid="46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8" dur="100" fill="hold"/>
                                        <p:tgtEl>
                                          <p:spTgt spid="4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3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1" dur="100" fill="hold"/>
                                        <p:tgtEl>
                                          <p:spTgt spid="47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7" dur="100" fill="hold"/>
                                        <p:tgtEl>
                                          <p:spTgt spid="4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0" dur="100" fill="hold"/>
                                        <p:tgtEl>
                                          <p:spTgt spid="47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6" dur="1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3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100" fill="hold"/>
                                        <p:tgtEl>
                                          <p:spTgt spid="47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5" dur="100" fill="hold"/>
                                        <p:tgtEl>
                                          <p:spTgt spid="4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8" dur="100" fill="hold"/>
                                        <p:tgtEl>
                                          <p:spTgt spid="47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4" dur="100" fill="hold"/>
                                        <p:tgtEl>
                                          <p:spTgt spid="4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7" dur="100" fill="hold"/>
                                        <p:tgtEl>
                                          <p:spTgt spid="48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3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0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1" name="直接箭头连接符 36"/>
          <p:cNvCxnSpPr/>
          <p:nvPr/>
        </p:nvCxnSpPr>
        <p:spPr>
          <a:xfrm>
            <a:off x="2842920" y="-141480"/>
            <a:ext cx="1080" cy="1345320"/>
          </a:xfrm>
          <a:prstGeom prst="straightConnector1">
            <a:avLst/>
          </a:prstGeom>
          <a:ln w="19080">
            <a:solidFill>
              <a:srgbClr val="86a3fe"/>
            </a:solidFill>
            <a:prstDash val="lgDash"/>
            <a:miter/>
            <a:tailEnd len="med" type="arrow" w="med"/>
          </a:ln>
        </p:spPr>
      </p:cxnSp>
      <p:grpSp>
        <p:nvGrpSpPr>
          <p:cNvPr id="502" name="组合 50"/>
          <p:cNvGrpSpPr/>
          <p:nvPr/>
        </p:nvGrpSpPr>
        <p:grpSpPr>
          <a:xfrm>
            <a:off x="2880" y="-1929600"/>
            <a:ext cx="2749320" cy="1767600"/>
            <a:chOff x="2880" y="-1929600"/>
            <a:chExt cx="2749320" cy="1767600"/>
          </a:xfrm>
        </p:grpSpPr>
        <p:sp>
          <p:nvSpPr>
            <p:cNvPr id="503" name="矩形 52"/>
            <p:cNvSpPr/>
            <p:nvPr/>
          </p:nvSpPr>
          <p:spPr>
            <a:xfrm rot="994200">
              <a:off x="179280" y="-1579680"/>
              <a:ext cx="2539800" cy="600120"/>
            </a:xfrm>
            <a:prstGeom prst="rect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969"/>
                  </a:solidFill>
                  <a:latin typeface="微软雅黑"/>
                  <a:ea typeface="微软雅黑"/>
                </a:rPr>
                <a:t>性感标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53"/>
            <p:cNvSpPr/>
            <p:nvPr/>
          </p:nvSpPr>
          <p:spPr>
            <a:xfrm rot="994200">
              <a:off x="285480" y="-1014120"/>
              <a:ext cx="177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Sexy </a:t>
              </a: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	</a:t>
              </a: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直接连接符 54"/>
            <p:cNvSpPr/>
            <p:nvPr/>
          </p:nvSpPr>
          <p:spPr>
            <a:xfrm>
              <a:off x="130320" y="-1317600"/>
              <a:ext cx="2434320" cy="72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直接连接符 55"/>
            <p:cNvSpPr/>
            <p:nvPr/>
          </p:nvSpPr>
          <p:spPr>
            <a:xfrm>
              <a:off x="2880" y="-886320"/>
              <a:ext cx="2434320" cy="72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7" name="图片 56" descr=""/>
          <p:cNvPicPr/>
          <p:nvPr/>
        </p:nvPicPr>
        <p:blipFill>
          <a:blip r:embed="rId1"/>
          <a:stretch/>
        </p:blipFill>
        <p:spPr>
          <a:xfrm>
            <a:off x="130320" y="-2070000"/>
            <a:ext cx="476280" cy="680760"/>
          </a:xfrm>
          <a:prstGeom prst="rect">
            <a:avLst/>
          </a:prstGeom>
          <a:ln w="0">
            <a:noFill/>
          </a:ln>
        </p:spPr>
      </p:pic>
      <p:cxnSp>
        <p:nvCxnSpPr>
          <p:cNvPr id="508" name="直接箭头连接符 82"/>
          <p:cNvCxnSpPr/>
          <p:nvPr/>
        </p:nvCxnSpPr>
        <p:spPr>
          <a:xfrm flipH="1">
            <a:off x="2276640" y="2931840"/>
            <a:ext cx="358920" cy="347760"/>
          </a:xfrm>
          <a:prstGeom prst="straightConnector1">
            <a:avLst/>
          </a:prstGeom>
          <a:ln w="19080">
            <a:solidFill>
              <a:srgbClr val="86a3fe"/>
            </a:solidFill>
            <a:prstDash val="lgDash"/>
            <a:miter/>
            <a:tailEnd len="med" type="arrow" w="med"/>
          </a:ln>
        </p:spPr>
      </p:cxnSp>
      <p:sp>
        <p:nvSpPr>
          <p:cNvPr id="509" name="圆角矩形标注 84"/>
          <p:cNvSpPr/>
          <p:nvPr/>
        </p:nvSpPr>
        <p:spPr>
          <a:xfrm>
            <a:off x="279360" y="3471840"/>
            <a:ext cx="2077920" cy="990720"/>
          </a:xfrm>
          <a:prstGeom prst="wedgeRoundRectCallout">
            <a:avLst>
              <a:gd name="adj1" fmla="val 45828"/>
              <a:gd name="adj2" fmla="val -63500"/>
              <a:gd name="adj3" fmla="val 16667"/>
            </a:avLst>
          </a:prstGeom>
          <a:noFill/>
          <a:ln w="25560">
            <a:solidFill>
              <a:srgbClr val="86a3fe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1</a:t>
            </a:r>
            <a:r>
              <a:rPr b="1" lang="zh-CN" sz="1600" spc="-1" strike="noStrike">
                <a:solidFill>
                  <a:srgbClr val="595959"/>
                </a:solidFill>
                <a:latin typeface="Calibri"/>
              </a:rPr>
              <a:t>、设置</a:t>
            </a:r>
            <a:r>
              <a:rPr b="1" lang="zh-CN" sz="3200" spc="-1" strike="noStrike">
                <a:solidFill>
                  <a:srgbClr val="f15622"/>
                </a:solidFill>
                <a:latin typeface="Calibri"/>
              </a:rPr>
              <a:t>标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2</a:t>
            </a:r>
            <a:r>
              <a:rPr b="1" lang="zh-CN" sz="1600" spc="-1" strike="noStrike">
                <a:solidFill>
                  <a:srgbClr val="595959"/>
                </a:solidFill>
                <a:latin typeface="Calibri"/>
              </a:rPr>
              <a:t>、了解目标客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alibri"/>
              </a:rPr>
              <a:t>3</a:t>
            </a:r>
            <a:r>
              <a:rPr b="1" lang="zh-CN" sz="1600" spc="-1" strike="noStrike">
                <a:solidFill>
                  <a:srgbClr val="595959"/>
                </a:solidFill>
                <a:latin typeface="Calibri"/>
              </a:rPr>
              <a:t>、设定</a:t>
            </a:r>
            <a:r>
              <a:rPr b="1" lang="zh-CN" sz="2000" spc="-1" strike="noStrike">
                <a:solidFill>
                  <a:srgbClr val="f15622"/>
                </a:solidFill>
                <a:latin typeface="Calibri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组合 92" descr=""/>
          <p:cNvPicPr/>
          <p:nvPr/>
        </p:nvPicPr>
        <p:blipFill>
          <a:blip r:embed="rId2"/>
          <a:stretch/>
        </p:blipFill>
        <p:spPr>
          <a:xfrm>
            <a:off x="1779480" y="755640"/>
            <a:ext cx="2043360" cy="2298600"/>
          </a:xfrm>
          <a:prstGeom prst="rect">
            <a:avLst/>
          </a:prstGeom>
          <a:ln w="0">
            <a:noFill/>
          </a:ln>
        </p:spPr>
      </p:pic>
      <p:cxnSp>
        <p:nvCxnSpPr>
          <p:cNvPr id="511" name="直接箭头连接符 9"/>
          <p:cNvCxnSpPr/>
          <p:nvPr/>
        </p:nvCxnSpPr>
        <p:spPr>
          <a:xfrm>
            <a:off x="2182680" y="3723840"/>
            <a:ext cx="1310400" cy="1080"/>
          </a:xfrm>
          <a:prstGeom prst="straightConnector1">
            <a:avLst/>
          </a:prstGeom>
          <a:ln w="19080">
            <a:solidFill>
              <a:srgbClr val="86a3fe"/>
            </a:solidFill>
            <a:prstDash val="lgDash"/>
            <a:miter/>
            <a:tailEnd len="med" type="arrow" w="med"/>
          </a:ln>
        </p:spPr>
      </p:cxnSp>
      <p:pic>
        <p:nvPicPr>
          <p:cNvPr id="512" name="图片 1" descr=""/>
          <p:cNvPicPr/>
          <p:nvPr/>
        </p:nvPicPr>
        <p:blipFill>
          <a:blip r:embed="rId3"/>
          <a:stretch/>
        </p:blipFill>
        <p:spPr>
          <a:xfrm>
            <a:off x="3936960" y="2836800"/>
            <a:ext cx="635040" cy="1270080"/>
          </a:xfrm>
          <a:prstGeom prst="rect">
            <a:avLst/>
          </a:prstGeom>
          <a:ln w="0">
            <a:noFill/>
          </a:ln>
        </p:spPr>
      </p:pic>
      <p:pic>
        <p:nvPicPr>
          <p:cNvPr id="513" name="图片 23" descr=""/>
          <p:cNvPicPr/>
          <p:nvPr/>
        </p:nvPicPr>
        <p:blipFill>
          <a:blip r:embed="rId4"/>
          <a:stretch/>
        </p:blipFill>
        <p:spPr>
          <a:xfrm>
            <a:off x="4406760" y="2989440"/>
            <a:ext cx="635040" cy="1269720"/>
          </a:xfrm>
          <a:prstGeom prst="rect">
            <a:avLst/>
          </a:prstGeom>
          <a:ln w="0">
            <a:noFill/>
          </a:ln>
        </p:spPr>
      </p:pic>
      <p:pic>
        <p:nvPicPr>
          <p:cNvPr id="514" name="图片 24" descr=""/>
          <p:cNvPicPr/>
          <p:nvPr/>
        </p:nvPicPr>
        <p:blipFill>
          <a:blip r:embed="rId5"/>
          <a:stretch/>
        </p:blipFill>
        <p:spPr>
          <a:xfrm>
            <a:off x="4834080" y="3724200"/>
            <a:ext cx="634680" cy="1270080"/>
          </a:xfrm>
          <a:prstGeom prst="rect">
            <a:avLst/>
          </a:prstGeom>
          <a:ln w="0">
            <a:noFill/>
          </a:ln>
        </p:spPr>
      </p:pic>
      <p:pic>
        <p:nvPicPr>
          <p:cNvPr id="515" name="图片 25" descr=""/>
          <p:cNvPicPr/>
          <p:nvPr/>
        </p:nvPicPr>
        <p:blipFill>
          <a:blip r:embed="rId6"/>
          <a:stretch/>
        </p:blipFill>
        <p:spPr>
          <a:xfrm>
            <a:off x="5029200" y="2706840"/>
            <a:ext cx="635040" cy="1269720"/>
          </a:xfrm>
          <a:prstGeom prst="rect">
            <a:avLst/>
          </a:prstGeom>
          <a:ln w="0">
            <a:noFill/>
          </a:ln>
        </p:spPr>
      </p:pic>
      <p:pic>
        <p:nvPicPr>
          <p:cNvPr id="516" name="图片 26" descr=""/>
          <p:cNvPicPr/>
          <p:nvPr/>
        </p:nvPicPr>
        <p:blipFill>
          <a:blip r:embed="rId7"/>
          <a:stretch/>
        </p:blipFill>
        <p:spPr>
          <a:xfrm>
            <a:off x="4206960" y="3624120"/>
            <a:ext cx="635040" cy="1270080"/>
          </a:xfrm>
          <a:prstGeom prst="rect">
            <a:avLst/>
          </a:prstGeom>
          <a:ln w="0">
            <a:noFill/>
          </a:ln>
        </p:spPr>
      </p:pic>
      <p:pic>
        <p:nvPicPr>
          <p:cNvPr id="517" name="图片 27" descr=""/>
          <p:cNvPicPr/>
          <p:nvPr/>
        </p:nvPicPr>
        <p:blipFill>
          <a:blip r:embed="rId8"/>
          <a:stretch/>
        </p:blipFill>
        <p:spPr>
          <a:xfrm>
            <a:off x="3747960" y="3416400"/>
            <a:ext cx="635040" cy="127008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29" descr=""/>
          <p:cNvPicPr/>
          <p:nvPr/>
        </p:nvPicPr>
        <p:blipFill>
          <a:blip r:embed="rId9"/>
          <a:stretch/>
        </p:blipFill>
        <p:spPr>
          <a:xfrm>
            <a:off x="4687920" y="2781360"/>
            <a:ext cx="635040" cy="127008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3" descr=""/>
          <p:cNvPicPr/>
          <p:nvPr/>
        </p:nvPicPr>
        <p:blipFill>
          <a:blip r:embed="rId10"/>
          <a:stretch/>
        </p:blipFill>
        <p:spPr>
          <a:xfrm>
            <a:off x="4584600" y="3363840"/>
            <a:ext cx="635040" cy="1270080"/>
          </a:xfrm>
          <a:prstGeom prst="rect">
            <a:avLst/>
          </a:prstGeom>
          <a:ln w="0">
            <a:noFill/>
          </a:ln>
        </p:spPr>
      </p:pic>
      <p:cxnSp>
        <p:nvCxnSpPr>
          <p:cNvPr id="520" name="直接箭头连接符 5"/>
          <p:cNvCxnSpPr/>
          <p:nvPr/>
        </p:nvCxnSpPr>
        <p:spPr>
          <a:xfrm flipV="1">
            <a:off x="2182320" y="3278880"/>
            <a:ext cx="2823480" cy="1080360"/>
          </a:xfrm>
          <a:prstGeom prst="straightConnector1">
            <a:avLst/>
          </a:prstGeom>
          <a:ln w="19080">
            <a:solidFill>
              <a:srgbClr val="4a7ebb"/>
            </a:solidFill>
            <a:prstDash val="lgDash"/>
            <a:miter/>
            <a:tailEnd len="med" type="arrow" w="med"/>
          </a:ln>
        </p:spPr>
      </p:cxnSp>
      <p:sp>
        <p:nvSpPr>
          <p:cNvPr id="521" name="圆角矩形标注 17"/>
          <p:cNvSpPr/>
          <p:nvPr/>
        </p:nvSpPr>
        <p:spPr>
          <a:xfrm>
            <a:off x="4086360" y="1133640"/>
            <a:ext cx="1023840" cy="792000"/>
          </a:xfrm>
          <a:prstGeom prst="wedgeRoundRectCallout">
            <a:avLst>
              <a:gd name="adj1" fmla="val 73083"/>
              <a:gd name="adj2" fmla="val 62666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约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圆角矩形标注 62"/>
          <p:cNvSpPr/>
          <p:nvPr/>
        </p:nvSpPr>
        <p:spPr>
          <a:xfrm>
            <a:off x="4254480" y="4125960"/>
            <a:ext cx="1343160" cy="792000"/>
          </a:xfrm>
          <a:prstGeom prst="wedgeRoundRectCallout">
            <a:avLst>
              <a:gd name="adj1" fmla="val 45888"/>
              <a:gd name="adj2" fmla="val -78115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部引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约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圆角矩形标注 64"/>
          <p:cNvSpPr/>
          <p:nvPr/>
        </p:nvSpPr>
        <p:spPr>
          <a:xfrm>
            <a:off x="7642080" y="1596960"/>
            <a:ext cx="1251000" cy="792360"/>
          </a:xfrm>
          <a:prstGeom prst="wedgeRoundRectCallout">
            <a:avLst>
              <a:gd name="adj1" fmla="val -87916"/>
              <a:gd name="adj2" fmla="val 45773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外部引流约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圆角矩形标注 65"/>
          <p:cNvSpPr/>
          <p:nvPr/>
        </p:nvSpPr>
        <p:spPr>
          <a:xfrm>
            <a:off x="7397640" y="3668760"/>
            <a:ext cx="1270080" cy="792000"/>
          </a:xfrm>
          <a:prstGeom prst="wedgeRoundRectCallout">
            <a:avLst>
              <a:gd name="adj1" fmla="val -40050"/>
              <a:gd name="adj2" fmla="val -79523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接输入约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图片 14" descr=""/>
          <p:cNvPicPr/>
          <p:nvPr/>
        </p:nvPicPr>
        <p:blipFill>
          <a:blip r:embed="rId11"/>
          <a:stretch/>
        </p:blipFill>
        <p:spPr>
          <a:xfrm>
            <a:off x="4822920" y="1495440"/>
            <a:ext cx="2681280" cy="26827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526" name="圆角矩形标注 66"/>
          <p:cNvSpPr/>
          <p:nvPr/>
        </p:nvSpPr>
        <p:spPr>
          <a:xfrm>
            <a:off x="6934320" y="703440"/>
            <a:ext cx="1023840" cy="792000"/>
          </a:xfrm>
          <a:prstGeom prst="wedgeRoundRectCallout">
            <a:avLst>
              <a:gd name="adj1" fmla="val -84652"/>
              <a:gd name="adj2" fmla="val 69708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09282E-006 L -8.33333E-007 0.37065 E">
                                      <p:cBhvr>
                                        <p:cTn id="362" dur="1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3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22222E-006 1.85014E-007 L 2.22222E-006 0.37188 E">
                                      <p:cBhvr>
                                        <p:cTn id="364" dur="1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4" dur="100" fill="hold"/>
                                        <p:tgtEl>
                                          <p:spTgt spid="5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7" dur="100" fill="hold"/>
                                        <p:tgtEl>
                                          <p:spTgt spid="51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7" dur="100" fill="hold"/>
                                        <p:tgtEl>
                                          <p:spTgt spid="50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100" fill="hold"/>
                                        <p:tgtEl>
                                          <p:spTgt spid="50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100" fill="hold"/>
                                        <p:tgtEl>
                                          <p:spTgt spid="51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4" dur="100" fill="hold"/>
                                        <p:tgtEl>
                                          <p:spTgt spid="51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4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0" dur="100" fill="hold"/>
                                        <p:tgtEl>
                                          <p:spTgt spid="5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4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3" dur="100" fill="hold"/>
                                        <p:tgtEl>
                                          <p:spTgt spid="51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4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1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100" fill="hold"/>
                                        <p:tgtEl>
                                          <p:spTgt spid="51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8" dur="100" fill="hold"/>
                                        <p:tgtEl>
                                          <p:spTgt spid="5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4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100" fill="hold"/>
                                        <p:tgtEl>
                                          <p:spTgt spid="51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7" dur="100" fill="hold"/>
                                        <p:tgtEl>
                                          <p:spTgt spid="51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43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0" dur="100" fill="hold"/>
                                        <p:tgtEl>
                                          <p:spTgt spid="51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6" dur="100" fill="hold"/>
                                        <p:tgtEl>
                                          <p:spTgt spid="5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9" dur="100" fill="hold"/>
                                        <p:tgtEl>
                                          <p:spTgt spid="51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5" dur="100" fill="hold"/>
                                        <p:tgtEl>
                                          <p:spTgt spid="5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5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8" dur="100" fill="hold"/>
                                        <p:tgtEl>
                                          <p:spTgt spid="51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4" dur="1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100" fill="hold"/>
                                        <p:tgtEl>
                                          <p:spTgt spid="51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100" fill="hold"/>
                                        <p:tgtEl>
                                          <p:spTgt spid="51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4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4" dur="100" fill="hold"/>
                                        <p:tgtEl>
                                          <p:spTgt spid="512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6" dur="100" fill="hold"/>
                                        <p:tgtEl>
                                          <p:spTgt spid="5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4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9" dur="100" fill="hold"/>
                                        <p:tgtEl>
                                          <p:spTgt spid="515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1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48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4" dur="100" fill="hold"/>
                                        <p:tgtEl>
                                          <p:spTgt spid="518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6" dur="100" fill="hold"/>
                                        <p:tgtEl>
                                          <p:spTgt spid="51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9" dur="100" fill="hold"/>
                                        <p:tgtEl>
                                          <p:spTgt spid="513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1" dur="100" fill="hold"/>
                                        <p:tgtEl>
                                          <p:spTgt spid="5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4" dur="100" fill="hold"/>
                                        <p:tgtEl>
                                          <p:spTgt spid="514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49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6" dur="100" fill="hold"/>
                                        <p:tgtEl>
                                          <p:spTgt spid="5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9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9" dur="100" fill="hold"/>
                                        <p:tgtEl>
                                          <p:spTgt spid="516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1" dur="100" fill="hold"/>
                                        <p:tgtEl>
                                          <p:spTgt spid="51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5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4" dur="100" fill="hold"/>
                                        <p:tgtEl>
                                          <p:spTgt spid="517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6" dur="100" fill="hold"/>
                                        <p:tgtEl>
                                          <p:spTgt spid="51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5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100" fill="hold"/>
                                        <p:tgtEl>
                                          <p:spTgt spid="519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  <p:par>
                                <p:cTn id="5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1" dur="100" fill="hold"/>
                                        <p:tgtEl>
                                          <p:spTgt spid="51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5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4" dur="100" fill="hold"/>
                                        <p:tgtEl>
                                          <p:spTgt spid="511"/>
                                        </p:tgtEl>
                                      </p:cBhvr>
                                      <p:to x="0" y="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4" dur="100" fill="hold"/>
                                        <p:tgtEl>
                                          <p:spTgt spid="5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5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7" dur="100" fill="hold"/>
                                        <p:tgtEl>
                                          <p:spTgt spid="52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3" dur="1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3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6" dur="100" fill="hold"/>
                                        <p:tgtEl>
                                          <p:spTgt spid="52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2" dur="100" fill="hold"/>
                                        <p:tgtEl>
                                          <p:spTgt spid="5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5" dur="100" fill="hold"/>
                                        <p:tgtEl>
                                          <p:spTgt spid="52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1" dur="100" fill="hold"/>
                                        <p:tgtEl>
                                          <p:spTgt spid="5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5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4" dur="100" fill="hold"/>
                                        <p:tgtEl>
                                          <p:spTgt spid="52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5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0" dur="100" fill="hold"/>
                                        <p:tgtEl>
                                          <p:spTgt spid="5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56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3" dur="100" fill="hold"/>
                                        <p:tgtEl>
                                          <p:spTgt spid="52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69" dur="100" fill="hold"/>
                                        <p:tgtEl>
                                          <p:spTgt spid="5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5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2" dur="100" fill="hold"/>
                                        <p:tgtEl>
                                          <p:spTgt spid="52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组合 40"/>
          <p:cNvGrpSpPr/>
          <p:nvPr/>
        </p:nvGrpSpPr>
        <p:grpSpPr>
          <a:xfrm>
            <a:off x="-149040" y="-1931400"/>
            <a:ext cx="2903400" cy="1793880"/>
            <a:chOff x="-149040" y="-1931400"/>
            <a:chExt cx="2903400" cy="1793880"/>
          </a:xfrm>
        </p:grpSpPr>
        <p:sp>
          <p:nvSpPr>
            <p:cNvPr id="528" name="矩形 50"/>
            <p:cNvSpPr/>
            <p:nvPr/>
          </p:nvSpPr>
          <p:spPr>
            <a:xfrm rot="994200">
              <a:off x="174960" y="-1580400"/>
              <a:ext cx="2546640" cy="599760"/>
            </a:xfrm>
            <a:prstGeom prst="rect">
              <a:avLst/>
            </a:prstGeom>
            <a:solidFill>
              <a:srgbClr val="000000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6969"/>
                  </a:solidFill>
                  <a:latin typeface="微软雅黑"/>
                  <a:ea typeface="微软雅黑"/>
                </a:rPr>
                <a:t>有销售力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的描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Box 51"/>
            <p:cNvSpPr/>
            <p:nvPr/>
          </p:nvSpPr>
          <p:spPr>
            <a:xfrm rot="994200">
              <a:off x="-141120" y="-985320"/>
              <a:ext cx="27882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Sales Descrip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直接连接符 52"/>
            <p:cNvSpPr/>
            <p:nvPr/>
          </p:nvSpPr>
          <p:spPr>
            <a:xfrm>
              <a:off x="129600" y="-1318680"/>
              <a:ext cx="2440800" cy="72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直接连接符 53"/>
            <p:cNvSpPr/>
            <p:nvPr/>
          </p:nvSpPr>
          <p:spPr>
            <a:xfrm>
              <a:off x="1080" y="-887040"/>
              <a:ext cx="2440800" cy="72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图片 54" descr=""/>
          <p:cNvPicPr/>
          <p:nvPr/>
        </p:nvPicPr>
        <p:blipFill>
          <a:blip r:embed="rId1"/>
          <a:stretch/>
        </p:blipFill>
        <p:spPr>
          <a:xfrm>
            <a:off x="130320" y="-2070000"/>
            <a:ext cx="476280" cy="680760"/>
          </a:xfrm>
          <a:prstGeom prst="rect">
            <a:avLst/>
          </a:prstGeom>
          <a:ln w="0">
            <a:noFill/>
          </a:ln>
        </p:spPr>
      </p:pic>
      <p:pic>
        <p:nvPicPr>
          <p:cNvPr id="533" name="图片 72" descr="2.png"/>
          <p:cNvPicPr/>
          <p:nvPr/>
        </p:nvPicPr>
        <p:blipFill>
          <a:blip r:embed="rId2"/>
          <a:stretch/>
        </p:blipFill>
        <p:spPr>
          <a:xfrm>
            <a:off x="4772160" y="128592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34" name="图片 73" descr="1.png"/>
          <p:cNvPicPr/>
          <p:nvPr/>
        </p:nvPicPr>
        <p:blipFill>
          <a:blip r:embed="rId3"/>
          <a:stretch/>
        </p:blipFill>
        <p:spPr>
          <a:xfrm>
            <a:off x="4178160" y="96696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74" descr="3.png"/>
          <p:cNvPicPr/>
          <p:nvPr/>
        </p:nvPicPr>
        <p:blipFill>
          <a:blip r:embed="rId4"/>
          <a:stretch/>
        </p:blipFill>
        <p:spPr>
          <a:xfrm>
            <a:off x="4915080" y="142884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536" name="图片 75" descr="6.png"/>
          <p:cNvPicPr/>
          <p:nvPr/>
        </p:nvPicPr>
        <p:blipFill>
          <a:blip r:embed="rId5"/>
          <a:stretch/>
        </p:blipFill>
        <p:spPr>
          <a:xfrm>
            <a:off x="4583160" y="2519280"/>
            <a:ext cx="1903320" cy="190512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76" descr="7.png"/>
          <p:cNvPicPr/>
          <p:nvPr/>
        </p:nvPicPr>
        <p:blipFill>
          <a:blip r:embed="rId6"/>
          <a:stretch/>
        </p:blipFill>
        <p:spPr>
          <a:xfrm>
            <a:off x="4368960" y="2428920"/>
            <a:ext cx="1903320" cy="190512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77" descr="8.png"/>
          <p:cNvPicPr/>
          <p:nvPr/>
        </p:nvPicPr>
        <p:blipFill>
          <a:blip r:embed="rId7"/>
          <a:stretch/>
        </p:blipFill>
        <p:spPr>
          <a:xfrm>
            <a:off x="3868560" y="2357280"/>
            <a:ext cx="1903680" cy="190512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78" descr="10.png"/>
          <p:cNvPicPr/>
          <p:nvPr/>
        </p:nvPicPr>
        <p:blipFill>
          <a:blip r:embed="rId8"/>
          <a:stretch/>
        </p:blipFill>
        <p:spPr>
          <a:xfrm>
            <a:off x="3821040" y="1285920"/>
            <a:ext cx="1903320" cy="1905120"/>
          </a:xfrm>
          <a:prstGeom prst="rect">
            <a:avLst/>
          </a:prstGeom>
          <a:ln w="0">
            <a:noFill/>
          </a:ln>
        </p:spPr>
      </p:pic>
      <p:pic>
        <p:nvPicPr>
          <p:cNvPr id="540" name="图片 79" descr="9.png"/>
          <p:cNvPicPr/>
          <p:nvPr/>
        </p:nvPicPr>
        <p:blipFill>
          <a:blip r:embed="rId9"/>
          <a:stretch/>
        </p:blipFill>
        <p:spPr>
          <a:xfrm>
            <a:off x="3654360" y="1571760"/>
            <a:ext cx="1903320" cy="190476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80" descr="5.png"/>
          <p:cNvPicPr/>
          <p:nvPr/>
        </p:nvPicPr>
        <p:blipFill>
          <a:blip r:embed="rId10"/>
          <a:stretch/>
        </p:blipFill>
        <p:spPr>
          <a:xfrm>
            <a:off x="4654440" y="2071800"/>
            <a:ext cx="1903680" cy="190476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82" descr="4.png"/>
          <p:cNvPicPr/>
          <p:nvPr/>
        </p:nvPicPr>
        <p:blipFill>
          <a:blip r:embed="rId11"/>
          <a:stretch/>
        </p:blipFill>
        <p:spPr>
          <a:xfrm>
            <a:off x="5200560" y="178596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543" name="圆角矩形标注 93"/>
          <p:cNvSpPr/>
          <p:nvPr/>
        </p:nvSpPr>
        <p:spPr>
          <a:xfrm>
            <a:off x="2987640" y="484200"/>
            <a:ext cx="1368360" cy="792000"/>
          </a:xfrm>
          <a:prstGeom prst="wedgeRoundRectCallout">
            <a:avLst>
              <a:gd name="adj1" fmla="val 73083"/>
              <a:gd name="adj2" fmla="val 62666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提炼一句话买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圆角矩形标注 94"/>
          <p:cNvSpPr/>
          <p:nvPr/>
        </p:nvSpPr>
        <p:spPr>
          <a:xfrm>
            <a:off x="6153120" y="509760"/>
            <a:ext cx="1368360" cy="792000"/>
          </a:xfrm>
          <a:prstGeom prst="wedgeRoundRectCallout">
            <a:avLst>
              <a:gd name="adj1" fmla="val -55013"/>
              <a:gd name="adj2" fmla="val 108018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他买点买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圆角矩形标注 95"/>
          <p:cNvSpPr/>
          <p:nvPr/>
        </p:nvSpPr>
        <p:spPr>
          <a:xfrm>
            <a:off x="7451640" y="1919160"/>
            <a:ext cx="1368360" cy="792360"/>
          </a:xfrm>
          <a:prstGeom prst="wedgeRoundRectCallout">
            <a:avLst>
              <a:gd name="adj1" fmla="val -91615"/>
              <a:gd name="adj2" fmla="val 36555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969"/>
                </a:solidFill>
                <a:latin typeface="微软雅黑"/>
                <a:ea typeface="微软雅黑"/>
              </a:rPr>
              <a:t>成交历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圆角矩形标注 96"/>
          <p:cNvSpPr/>
          <p:nvPr/>
        </p:nvSpPr>
        <p:spPr>
          <a:xfrm>
            <a:off x="2259000" y="1492200"/>
            <a:ext cx="985680" cy="792360"/>
          </a:xfrm>
          <a:prstGeom prst="wedgeRoundRectCallout">
            <a:avLst>
              <a:gd name="adj1" fmla="val 146050"/>
              <a:gd name="adj2" fmla="val -550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切记大话空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圆角矩形标注 97"/>
          <p:cNvSpPr/>
          <p:nvPr/>
        </p:nvSpPr>
        <p:spPr>
          <a:xfrm>
            <a:off x="1835280" y="2541600"/>
            <a:ext cx="1769760" cy="792000"/>
          </a:xfrm>
          <a:prstGeom prst="wedgeRoundRectCallout">
            <a:avLst>
              <a:gd name="adj1" fmla="val 67513"/>
              <a:gd name="adj2" fmla="val -19791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a6c0"/>
                </a:solidFill>
                <a:latin typeface="微软雅黑"/>
                <a:ea typeface="微软雅黑"/>
              </a:rPr>
              <a:t>让购房者记住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圆角矩形标注 98"/>
          <p:cNvSpPr/>
          <p:nvPr/>
        </p:nvSpPr>
        <p:spPr>
          <a:xfrm>
            <a:off x="141120" y="3995640"/>
            <a:ext cx="2298960" cy="857520"/>
          </a:xfrm>
          <a:prstGeom prst="wedgeRoundRectCallout">
            <a:avLst>
              <a:gd name="adj1" fmla="val 59319"/>
              <a:gd name="adj2" fmla="val -54518"/>
              <a:gd name="adj3" fmla="val 16667"/>
            </a:avLst>
          </a:prstGeom>
          <a:solidFill>
            <a:srgbClr val="86d1d6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直接连接符 100"/>
          <p:cNvSpPr/>
          <p:nvPr/>
        </p:nvSpPr>
        <p:spPr>
          <a:xfrm flipV="1">
            <a:off x="2567880" y="3385800"/>
            <a:ext cx="523800" cy="57132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102"/>
          <p:cNvSpPr/>
          <p:nvPr/>
        </p:nvSpPr>
        <p:spPr>
          <a:xfrm>
            <a:off x="250920" y="407844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8e2a"/>
                </a:solidFill>
                <a:latin typeface="Calibri"/>
              </a:rPr>
              <a:t>A</a:t>
            </a:r>
            <a:r>
              <a:rPr b="1" lang="zh-CN" sz="1400" spc="-1" strike="noStrike">
                <a:solidFill>
                  <a:srgbClr val="f18e2a"/>
                </a:solidFill>
                <a:latin typeface="Calibri"/>
              </a:rPr>
              <a:t>、交流（文案与即时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103"/>
          <p:cNvSpPr/>
          <p:nvPr/>
        </p:nvSpPr>
        <p:spPr>
          <a:xfrm>
            <a:off x="250920" y="435276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8e2a"/>
                </a:solidFill>
                <a:latin typeface="Calibri"/>
              </a:rPr>
              <a:t>B</a:t>
            </a:r>
            <a:r>
              <a:rPr b="1" lang="zh-CN" sz="1400" spc="-1" strike="noStrike">
                <a:solidFill>
                  <a:srgbClr val="f18e2a"/>
                </a:solidFill>
                <a:latin typeface="Calibri"/>
              </a:rPr>
              <a:t>、了解消费者购房流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圆角矩形标注 104"/>
          <p:cNvSpPr/>
          <p:nvPr/>
        </p:nvSpPr>
        <p:spPr>
          <a:xfrm>
            <a:off x="6894360" y="3075120"/>
            <a:ext cx="1368720" cy="792000"/>
          </a:xfrm>
          <a:prstGeom prst="wedgeRoundRectCallout">
            <a:avLst>
              <a:gd name="adj1" fmla="val -101958"/>
              <a:gd name="adj2" fmla="val 6319"/>
              <a:gd name="adj3" fmla="val 16667"/>
            </a:avLst>
          </a:prstGeom>
          <a:noFill/>
          <a:ln w="19080">
            <a:solidFill>
              <a:srgbClr val="385d8a"/>
            </a:solidFill>
            <a:prstDash val="lgDash"/>
            <a:miter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圆角矩形标注 105"/>
          <p:cNvSpPr/>
          <p:nvPr/>
        </p:nvSpPr>
        <p:spPr>
          <a:xfrm>
            <a:off x="3854520" y="1967040"/>
            <a:ext cx="2298600" cy="857160"/>
          </a:xfrm>
          <a:prstGeom prst="wedgeRoundRectCallout">
            <a:avLst>
              <a:gd name="adj1" fmla="val 55060"/>
              <a:gd name="adj2" fmla="val 11513"/>
              <a:gd name="adj3" fmla="val 16667"/>
            </a:avLst>
          </a:prstGeom>
          <a:solidFill>
            <a:srgbClr val="86d1d6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直接连接符 106"/>
          <p:cNvSpPr/>
          <p:nvPr/>
        </p:nvSpPr>
        <p:spPr>
          <a:xfrm>
            <a:off x="6281640" y="2478240"/>
            <a:ext cx="612720" cy="712800"/>
          </a:xfrm>
          <a:prstGeom prst="line">
            <a:avLst/>
          </a:prstGeom>
          <a:ln w="19080">
            <a:solidFill>
              <a:srgbClr val="4a7eb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107"/>
          <p:cNvSpPr/>
          <p:nvPr/>
        </p:nvSpPr>
        <p:spPr>
          <a:xfrm>
            <a:off x="3963960" y="204948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969"/>
                </a:solidFill>
                <a:latin typeface="Calibri"/>
              </a:rPr>
              <a:t>A</a:t>
            </a:r>
            <a:r>
              <a:rPr b="1" lang="zh-CN" sz="1400" spc="-1" strike="noStrike">
                <a:solidFill>
                  <a:srgbClr val="ff6969"/>
                </a:solidFill>
                <a:latin typeface="Calibri"/>
              </a:rPr>
              <a:t>、重复图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08"/>
          <p:cNvSpPr/>
          <p:nvPr/>
        </p:nvSpPr>
        <p:spPr>
          <a:xfrm>
            <a:off x="3963960" y="2324160"/>
            <a:ext cx="218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969"/>
                </a:solidFill>
                <a:latin typeface="Calibri"/>
              </a:rPr>
              <a:t>B</a:t>
            </a:r>
            <a:r>
              <a:rPr b="1" lang="zh-CN" sz="1400" spc="-1" strike="noStrike">
                <a:solidFill>
                  <a:srgbClr val="ff6969"/>
                </a:solidFill>
                <a:latin typeface="Calibri"/>
              </a:rPr>
              <a:t>、图片质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2"/>
          <p:cNvSpPr/>
          <p:nvPr/>
        </p:nvSpPr>
        <p:spPr>
          <a:xfrm>
            <a:off x="347400" y="48531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09282E-006 L -8.33333E-007 0.37065 E">
                                      <p:cBhvr>
                                        <p:cTn id="578" dur="1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2.22222E-006 1.85014E-007 L 2.22222E-006 0.37188 E">
                                      <p:cBhvr>
                                        <p:cTn id="580" dur="1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5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6" dur="50" fill="hold"/>
                                        <p:tgtEl>
                                          <p:spTgt spid="5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9" dur="50" fill="hold"/>
                                        <p:tgtEl>
                                          <p:spTgt spid="53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5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5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5" dur="50" fill="hold"/>
                                        <p:tgtEl>
                                          <p:spTgt spid="5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59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8" dur="50" fill="hold"/>
                                        <p:tgtEl>
                                          <p:spTgt spid="53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6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4" dur="50" fill="hold"/>
                                        <p:tgtEl>
                                          <p:spTgt spid="54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60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7" dur="50" fill="hold"/>
                                        <p:tgtEl>
                                          <p:spTgt spid="54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3" dur="50" fill="hold"/>
                                        <p:tgtEl>
                                          <p:spTgt spid="5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6" dur="50" fill="hold"/>
                                        <p:tgtEl>
                                          <p:spTgt spid="53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6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5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2" dur="50" fill="hold"/>
                                        <p:tgtEl>
                                          <p:spTgt spid="53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650"/>
                            </p:stCondLst>
                            <p:childTnLst>
                              <p:par>
                                <p:cTn id="62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5" dur="50" fill="hold"/>
                                        <p:tgtEl>
                                          <p:spTgt spid="53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6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1" dur="50" fill="hold"/>
                                        <p:tgtEl>
                                          <p:spTgt spid="5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6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4" dur="50" fill="hold"/>
                                        <p:tgtEl>
                                          <p:spTgt spid="53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6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5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0" dur="50" fill="hold"/>
                                        <p:tgtEl>
                                          <p:spTgt spid="5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64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3" dur="50" fill="hold"/>
                                        <p:tgtEl>
                                          <p:spTgt spid="54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9" dur="20" fill="hold"/>
                                        <p:tgtEl>
                                          <p:spTgt spid="53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6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2" dur="20" fill="hold"/>
                                        <p:tgtEl>
                                          <p:spTgt spid="53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194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8" dur="50" fill="hold"/>
                                        <p:tgtEl>
                                          <p:spTgt spid="54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990"/>
                            </p:stCondLst>
                            <p:childTnLst>
                              <p:par>
                                <p:cTn id="66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1" dur="50" fill="hold"/>
                                        <p:tgtEl>
                                          <p:spTgt spid="54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6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7" dur="20" fill="hold"/>
                                        <p:tgtEl>
                                          <p:spTgt spid="5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60"/>
                            </p:stCondLst>
                            <p:childTnLst>
                              <p:par>
                                <p:cTn id="6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0" dur="20" fill="hold"/>
                                        <p:tgtEl>
                                          <p:spTgt spid="53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08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1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6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9" dur="100" fill="hold"/>
                                        <p:tgtEl>
                                          <p:spTgt spid="54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280"/>
                            </p:stCondLst>
                            <p:childTnLst>
                              <p:par>
                                <p:cTn id="6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5" dur="1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68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8" dur="100" fill="hold"/>
                                        <p:tgtEl>
                                          <p:spTgt spid="54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2480"/>
                            </p:stCondLst>
                            <p:childTnLst>
                              <p:par>
                                <p:cTn id="6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4" dur="100" fill="hold"/>
                                        <p:tgtEl>
                                          <p:spTgt spid="54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580"/>
                            </p:stCondLst>
                            <p:childTnLst>
                              <p:par>
                                <p:cTn id="69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97" dur="100" fill="hold"/>
                                        <p:tgtEl>
                                          <p:spTgt spid="54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3" dur="100" fill="hold"/>
                                        <p:tgtEl>
                                          <p:spTgt spid="5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2780"/>
                            </p:stCondLst>
                            <p:childTnLst>
                              <p:par>
                                <p:cTn id="70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6" dur="100" fill="hold"/>
                                        <p:tgtEl>
                                          <p:spTgt spid="54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7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2" dur="1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7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5" dur="100" fill="hold"/>
                                        <p:tgtEl>
                                          <p:spTgt spid="54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0" dur="2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7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6" dur="50" fill="hold"/>
                                        <p:tgtEl>
                                          <p:spTgt spid="5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72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9" dur="50" fill="hold"/>
                                        <p:tgtEl>
                                          <p:spTgt spid="5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5" dur="1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7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38" dur="1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4" dur="1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7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7" dur="1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4" dur="100" fill="hold"/>
                                        <p:tgtEl>
                                          <p:spTgt spid="55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7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7" dur="100" fill="hold"/>
                                        <p:tgtEl>
                                          <p:spTgt spid="55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indefinite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indefinite"/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indefinite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indefinite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indefinite"/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indefinite"/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indefinite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indefinite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indefinite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indefinite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indefinite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indefinite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indefinite"/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indefinite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indefinite"/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indefinite"/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indefinite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indefinite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2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indefinite"/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indefinite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5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6" dur="50" fill="hold"/>
                                        <p:tgtEl>
                                          <p:spTgt spid="55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350"/>
                            </p:stCondLst>
                            <p:childTnLst>
                              <p:par>
                                <p:cTn id="8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9" dur="50" fill="hold"/>
                                        <p:tgtEl>
                                          <p:spTgt spid="55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5" dur="1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8" dur="1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1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4" dur="1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8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7" dur="1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组合 3"/>
          <p:cNvGrpSpPr/>
          <p:nvPr/>
        </p:nvGrpSpPr>
        <p:grpSpPr>
          <a:xfrm>
            <a:off x="2627280" y="195120"/>
            <a:ext cx="4321080" cy="4800600"/>
            <a:chOff x="2627280" y="195120"/>
            <a:chExt cx="4321080" cy="4800600"/>
          </a:xfrm>
        </p:grpSpPr>
        <p:pic>
          <p:nvPicPr>
            <p:cNvPr id="559" name="图片 1" descr=""/>
            <p:cNvPicPr/>
            <p:nvPr/>
          </p:nvPicPr>
          <p:blipFill>
            <a:blip r:embed="rId1"/>
            <a:stretch/>
          </p:blipFill>
          <p:spPr>
            <a:xfrm>
              <a:off x="2627280" y="195120"/>
              <a:ext cx="432108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文本框 2"/>
            <p:cNvSpPr/>
            <p:nvPr/>
          </p:nvSpPr>
          <p:spPr>
            <a:xfrm>
              <a:off x="3779640" y="2427480"/>
              <a:ext cx="1402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标题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61" name="直接箭头连接符 7"/>
          <p:cNvCxnSpPr/>
          <p:nvPr/>
        </p:nvCxnSpPr>
        <p:spPr>
          <a:xfrm>
            <a:off x="2714760" y="1269720"/>
            <a:ext cx="2823120" cy="578520"/>
          </a:xfrm>
          <a:prstGeom prst="straightConnector1">
            <a:avLst/>
          </a:prstGeom>
          <a:ln w="19080">
            <a:solidFill>
              <a:srgbClr val="4a7ebb"/>
            </a:solidFill>
            <a:prstDash val="lgDash"/>
            <a:miter/>
            <a:tailEnd len="med" type="arrow" w="med"/>
          </a:ln>
        </p:spPr>
      </p:cxnSp>
      <p:pic>
        <p:nvPicPr>
          <p:cNvPr id="562" name="图片 9" descr=""/>
          <p:cNvPicPr/>
          <p:nvPr/>
        </p:nvPicPr>
        <p:blipFill>
          <a:blip r:embed="rId2"/>
          <a:stretch/>
        </p:blipFill>
        <p:spPr>
          <a:xfrm>
            <a:off x="1979640" y="77148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10" descr=""/>
          <p:cNvPicPr/>
          <p:nvPr/>
        </p:nvPicPr>
        <p:blipFill>
          <a:blip r:embed="rId3"/>
          <a:stretch/>
        </p:blipFill>
        <p:spPr>
          <a:xfrm>
            <a:off x="5724360" y="149220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64" name="文本框 11"/>
          <p:cNvSpPr/>
          <p:nvPr/>
        </p:nvSpPr>
        <p:spPr>
          <a:xfrm>
            <a:off x="6566040" y="1609560"/>
            <a:ext cx="19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12" descr=""/>
          <p:cNvPicPr/>
          <p:nvPr/>
        </p:nvPicPr>
        <p:blipFill>
          <a:blip r:embed="rId4"/>
          <a:stretch/>
        </p:blipFill>
        <p:spPr>
          <a:xfrm>
            <a:off x="3246480" y="1563840"/>
            <a:ext cx="720720" cy="720720"/>
          </a:xfrm>
          <a:prstGeom prst="rect">
            <a:avLst/>
          </a:prstGeom>
          <a:ln w="0">
            <a:noFill/>
          </a:ln>
        </p:spPr>
      </p:pic>
      <p:cxnSp>
        <p:nvCxnSpPr>
          <p:cNvPr id="566" name="直接箭头连接符 13"/>
          <p:cNvCxnSpPr/>
          <p:nvPr/>
        </p:nvCxnSpPr>
        <p:spPr>
          <a:xfrm>
            <a:off x="4079520" y="1923840"/>
            <a:ext cx="1500840" cy="1080"/>
          </a:xfrm>
          <a:prstGeom prst="straightConnector1">
            <a:avLst/>
          </a:prstGeom>
          <a:ln w="19080">
            <a:solidFill>
              <a:srgbClr val="4a7ebb"/>
            </a:solidFill>
            <a:prstDash val="lgDash"/>
            <a:miter/>
            <a:tailEnd len="med" type="arrow" w="med"/>
          </a:ln>
        </p:spPr>
      </p:cxnSp>
      <p:pic>
        <p:nvPicPr>
          <p:cNvPr id="567" name="图片 15" descr=""/>
          <p:cNvPicPr/>
          <p:nvPr/>
        </p:nvPicPr>
        <p:blipFill>
          <a:blip r:embed="rId5"/>
          <a:stretch/>
        </p:blipFill>
        <p:spPr>
          <a:xfrm>
            <a:off x="5392800" y="153360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68" name="文本框 16"/>
          <p:cNvSpPr/>
          <p:nvPr/>
        </p:nvSpPr>
        <p:spPr>
          <a:xfrm>
            <a:off x="6113520" y="1596960"/>
            <a:ext cx="19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图片 17" descr=""/>
          <p:cNvPicPr/>
          <p:nvPr/>
        </p:nvPicPr>
        <p:blipFill>
          <a:blip r:embed="rId6"/>
          <a:stretch/>
        </p:blipFill>
        <p:spPr>
          <a:xfrm>
            <a:off x="3492360" y="2922480"/>
            <a:ext cx="719280" cy="719280"/>
          </a:xfrm>
          <a:prstGeom prst="rect">
            <a:avLst/>
          </a:prstGeom>
          <a:ln w="0">
            <a:noFill/>
          </a:ln>
        </p:spPr>
      </p:pic>
      <p:cxnSp>
        <p:nvCxnSpPr>
          <p:cNvPr id="570" name="直接箭头连接符 18"/>
          <p:cNvCxnSpPr/>
          <p:nvPr/>
        </p:nvCxnSpPr>
        <p:spPr>
          <a:xfrm>
            <a:off x="4284360" y="3258720"/>
            <a:ext cx="1499400" cy="1080"/>
          </a:xfrm>
          <a:prstGeom prst="straightConnector1">
            <a:avLst/>
          </a:prstGeom>
          <a:ln w="19080">
            <a:solidFill>
              <a:srgbClr val="4a7ebb"/>
            </a:solidFill>
            <a:prstDash val="lgDash"/>
            <a:miter/>
            <a:tailEnd len="med" type="arrow" w="med"/>
          </a:ln>
        </p:spPr>
      </p:cxnSp>
      <p:pic>
        <p:nvPicPr>
          <p:cNvPr id="571" name="图片 19" descr=""/>
          <p:cNvPicPr/>
          <p:nvPr/>
        </p:nvPicPr>
        <p:blipFill>
          <a:blip r:embed="rId7"/>
          <a:stretch/>
        </p:blipFill>
        <p:spPr>
          <a:xfrm>
            <a:off x="5692680" y="289872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72" name="文本框 20"/>
          <p:cNvSpPr/>
          <p:nvPr/>
        </p:nvSpPr>
        <p:spPr>
          <a:xfrm>
            <a:off x="6245280" y="2979720"/>
            <a:ext cx="19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图片 21" descr=""/>
          <p:cNvPicPr/>
          <p:nvPr/>
        </p:nvPicPr>
        <p:blipFill>
          <a:blip r:embed="rId8"/>
          <a:stretch/>
        </p:blipFill>
        <p:spPr>
          <a:xfrm>
            <a:off x="2916360" y="627120"/>
            <a:ext cx="718920" cy="720720"/>
          </a:xfrm>
          <a:prstGeom prst="rect">
            <a:avLst/>
          </a:prstGeom>
          <a:ln w="0">
            <a:noFill/>
          </a:ln>
        </p:spPr>
      </p:pic>
      <p:cxnSp>
        <p:nvCxnSpPr>
          <p:cNvPr id="574" name="直接箭头连接符 22"/>
          <p:cNvCxnSpPr/>
          <p:nvPr/>
        </p:nvCxnSpPr>
        <p:spPr>
          <a:xfrm flipV="1">
            <a:off x="3738600" y="850680"/>
            <a:ext cx="1799280" cy="173520"/>
          </a:xfrm>
          <a:prstGeom prst="straightConnector1">
            <a:avLst/>
          </a:prstGeom>
          <a:ln w="19080">
            <a:solidFill>
              <a:srgbClr val="4a7ebb"/>
            </a:solidFill>
            <a:prstDash val="lgDash"/>
            <a:miter/>
            <a:tailEnd len="med" type="arrow" w="med"/>
          </a:ln>
        </p:spPr>
      </p:cxnSp>
      <p:sp>
        <p:nvSpPr>
          <p:cNvPr id="575" name="文本框 24"/>
          <p:cNvSpPr/>
          <p:nvPr/>
        </p:nvSpPr>
        <p:spPr>
          <a:xfrm>
            <a:off x="6329520" y="639720"/>
            <a:ext cx="191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图片 25" descr=""/>
          <p:cNvPicPr/>
          <p:nvPr/>
        </p:nvPicPr>
        <p:blipFill>
          <a:blip r:embed="rId9"/>
          <a:stretch/>
        </p:blipFill>
        <p:spPr>
          <a:xfrm>
            <a:off x="5684760" y="555480"/>
            <a:ext cx="720720" cy="719280"/>
          </a:xfrm>
          <a:prstGeom prst="rect">
            <a:avLst/>
          </a:prstGeom>
          <a:ln w="0">
            <a:noFill/>
          </a:ln>
        </p:spPr>
      </p:pic>
      <p:pic>
        <p:nvPicPr>
          <p:cNvPr id="577" name="图片 26" descr=""/>
          <p:cNvPicPr/>
          <p:nvPr/>
        </p:nvPicPr>
        <p:blipFill>
          <a:blip r:embed="rId10"/>
          <a:stretch/>
        </p:blipFill>
        <p:spPr>
          <a:xfrm>
            <a:off x="3656160" y="1601640"/>
            <a:ext cx="720720" cy="720720"/>
          </a:xfrm>
          <a:prstGeom prst="rect">
            <a:avLst/>
          </a:prstGeom>
          <a:ln w="0">
            <a:noFill/>
          </a:ln>
        </p:spPr>
      </p:pic>
      <p:cxnSp>
        <p:nvCxnSpPr>
          <p:cNvPr id="578" name="直接箭头连接符 27"/>
          <p:cNvCxnSpPr/>
          <p:nvPr/>
        </p:nvCxnSpPr>
        <p:spPr>
          <a:xfrm flipV="1">
            <a:off x="4470120" y="1991520"/>
            <a:ext cx="1886760" cy="35640"/>
          </a:xfrm>
          <a:prstGeom prst="straightConnector1">
            <a:avLst/>
          </a:prstGeom>
          <a:ln w="19080">
            <a:solidFill>
              <a:srgbClr val="4a7ebb"/>
            </a:solidFill>
            <a:prstDash val="lgDash"/>
            <a:miter/>
            <a:tailEnd len="med" type="arrow" w="med"/>
          </a:ln>
        </p:spPr>
      </p:cxnSp>
      <p:sp>
        <p:nvSpPr>
          <p:cNvPr id="579" name="文本框 31"/>
          <p:cNvSpPr/>
          <p:nvPr/>
        </p:nvSpPr>
        <p:spPr>
          <a:xfrm>
            <a:off x="6872400" y="1701720"/>
            <a:ext cx="191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图片 32" descr=""/>
          <p:cNvPicPr/>
          <p:nvPr/>
        </p:nvPicPr>
        <p:blipFill>
          <a:blip r:embed="rId11"/>
          <a:stretch/>
        </p:blipFill>
        <p:spPr>
          <a:xfrm>
            <a:off x="6318360" y="161784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581" name="椭圆 33"/>
          <p:cNvSpPr/>
          <p:nvPr/>
        </p:nvSpPr>
        <p:spPr>
          <a:xfrm>
            <a:off x="4280040" y="1635120"/>
            <a:ext cx="1515960" cy="1515960"/>
          </a:xfrm>
          <a:prstGeom prst="ellipse">
            <a:avLst/>
          </a:prstGeom>
          <a:solidFill>
            <a:srgbClr val="f3ac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The 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0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6" dur="50" fill="hold"/>
                                        <p:tgtEl>
                                          <p:spTgt spid="55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"/>
                            </p:stCondLst>
                            <p:childTnLst>
                              <p:par>
                                <p:cTn id="8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9" dur="50" fill="hold"/>
                                        <p:tgtEl>
                                          <p:spTgt spid="55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43" dur="1000" fill="hold"/>
                                        <p:tgtEl>
                                          <p:spTgt spid="55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8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7 L -0.25 3.7037E-007 E">
                                      <p:cBhvr>
                                        <p:cTn id="845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2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2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8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9" dur="50" fill="hold"/>
                                        <p:tgtEl>
                                          <p:spTgt spid="56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8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2" dur="50" fill="hold"/>
                                        <p:tgtEl>
                                          <p:spTgt spid="56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1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7" dur="100" fill="hold"/>
                                        <p:tgtEl>
                                          <p:spTgt spid="56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8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0" dur="100" fill="hold"/>
                                        <p:tgtEl>
                                          <p:spTgt spid="56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74" dur="1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8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78" dur="1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88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882" dur="1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1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8" dur="100" fill="hold"/>
                                        <p:tgtEl>
                                          <p:spTgt spid="5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89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91" dur="100" fill="hold"/>
                                        <p:tgtEl>
                                          <p:spTgt spid="56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2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1" dur="100" fill="hold"/>
                                        <p:tgtEl>
                                          <p:spTgt spid="56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90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4" dur="100" fill="hold"/>
                                        <p:tgtEl>
                                          <p:spTgt spid="56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0" dur="100" fill="hold"/>
                                        <p:tgtEl>
                                          <p:spTgt spid="5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3" dur="100" fill="hold"/>
                                        <p:tgtEl>
                                          <p:spTgt spid="56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17" dur="1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92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1" dur="1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92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925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1" dur="100" fill="hold"/>
                                        <p:tgtEl>
                                          <p:spTgt spid="5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93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34" dur="100" fill="hold"/>
                                        <p:tgtEl>
                                          <p:spTgt spid="56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9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8" dur="2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3" dur="100" fill="hold"/>
                                        <p:tgtEl>
                                          <p:spTgt spid="5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9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6" dur="100" fill="hold"/>
                                        <p:tgtEl>
                                          <p:spTgt spid="57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9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2" dur="100" fill="hold"/>
                                        <p:tgtEl>
                                          <p:spTgt spid="5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95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5" dur="100" fill="hold"/>
                                        <p:tgtEl>
                                          <p:spTgt spid="57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59" dur="100" fill="hold"/>
                                        <p:tgtEl>
                                          <p:spTgt spid="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1" dur="100" fill="hold"/>
                                        <p:tgtEl>
                                          <p:spTgt spid="5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3" dur="100" fill="hold"/>
                                        <p:tgtEl>
                                          <p:spTgt spid="56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5" dur="100" fill="hold"/>
                                        <p:tgtEl>
                                          <p:spTgt spid="57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7" dur="100" fill="hold"/>
                                        <p:tgtEl>
                                          <p:spTgt spid="5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96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0" dur="100" fill="hold"/>
                                        <p:tgtEl>
                                          <p:spTgt spid="56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2" dur="100" fill="hold"/>
                                        <p:tgtEl>
                                          <p:spTgt spid="56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4" dur="100" fill="hold"/>
                                        <p:tgtEl>
                                          <p:spTgt spid="56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6" dur="100" fill="hold"/>
                                        <p:tgtEl>
                                          <p:spTgt spid="57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78" dur="100" fill="hold"/>
                                        <p:tgtEl>
                                          <p:spTgt spid="57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0" dur="100" fill="hold"/>
                                        <p:tgtEl>
                                          <p:spTgt spid="57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1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5" dur="1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1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1" dur="1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0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0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08" dur="100" fill="hold"/>
                                        <p:tgtEl>
                                          <p:spTgt spid="5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01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1" dur="100" fill="hold"/>
                                        <p:tgtEl>
                                          <p:spTgt spid="57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5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0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9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1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4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0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0" dur="100" fill="hold"/>
                                        <p:tgtEl>
                                          <p:spTgt spid="5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0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3" dur="100" fill="hold"/>
                                        <p:tgtEl>
                                          <p:spTgt spid="57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37" dur="1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40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41" dur="1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04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45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1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0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3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05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6" dur="100" fill="hold"/>
                                        <p:tgtEl>
                                          <p:spTgt spid="5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9" dur="100" fill="hold"/>
                                        <p:tgtEl>
                                          <p:spTgt spid="57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0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0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1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9" dur="100" fill="hold"/>
                                        <p:tgtEl>
                                          <p:spTgt spid="5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07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2" dur="100" fill="hold"/>
                                        <p:tgtEl>
                                          <p:spTgt spid="57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7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4" dur="100" fill="hold"/>
                                        <p:tgtEl>
                                          <p:spTgt spid="5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7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6" dur="100" fill="hold"/>
                                        <p:tgtEl>
                                          <p:spTgt spid="57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0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2" dur="100" fill="hold"/>
                                        <p:tgtEl>
                                          <p:spTgt spid="5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5" dur="100" fill="hold"/>
                                        <p:tgtEl>
                                          <p:spTgt spid="58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1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09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93" dur="1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1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200"/>
                            </p:stCondLst>
                            <p:childTnLst>
                              <p:par>
                                <p:cTn id="1099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100" dur="1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110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3.7037E-007 L -1.11111E-006 3.7037E-007 E">
                                      <p:cBhvr>
                                        <p:cTn id="1104" dur="1000" fill="hold"/>
                                        <p:tgtEl>
                                          <p:spTgt spid="5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06" dur="1000" fill="hold"/>
                                        <p:tgtEl>
                                          <p:spTgt spid="55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00:42:48Z</dcterms:created>
  <dc:creator/>
  <dc:description/>
  <cp:keywords/>
  <dc:language>en-US</dc:language>
  <cp:lastModifiedBy>王玉清</cp:lastModifiedBy>
  <dcterms:modified xsi:type="dcterms:W3CDTF">2016-02-16T07:25:53Z</dcterms:modified>
  <cp:revision>240</cp:revision>
  <dc:subject/>
  <dc:title>Say someth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