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345-413E-458A-9202-4F69F138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EEF-2D24-4AFB-9337-5929088B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643-5C2C-4C5F-8F4E-BEF16179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A46-F527-40CA-B614-055AAEAE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C9E2-4EB6-4E97-8A73-D666B990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DE7F-C9A7-4682-97DA-753CC671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BE61-DFE2-420D-9F10-30A24DA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0DF9-8656-4C9C-9A7E-42404A3D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16E9-33AB-4F1F-A176-12C0756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677F-CBD9-42E2-86B4-92ACB38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D516-744F-4592-B231-FE9DF65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15-B5DA-4880-99B4-126F380B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1214-9F0F-445C-B29B-F3536946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BF9F-931A-4427-9FBF-D9229424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847A-CA7B-4C8C-9A06-7BADF1D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4B03-3C8A-4A6F-B1F5-F7DCB4A5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302D-3F94-4195-9F31-875DC959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C53-2653-4DA5-BBF6-295F4E3D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B65-EBA7-4AC0-A9B0-A689D038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071-2C28-46B6-8096-360EA9F9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CF6-8E51-48F7-8879-390425C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E934-2C90-4963-A451-1D8886D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797-5636-44DE-A72B-A4F6785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8E2-7C3F-4D2B-BE3B-89805C2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8b8b8b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8b8b8b"/>
                </a:solidFill>
                <a:latin typeface="Calibri"/>
              </a:rPr>
              <a:t>模板网，</a:t>
            </a: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A1C6E6-53D6-4B16-9AD7-AF9121209F9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idan\Desktop\LOGO.png"/>
          <p:cNvPicPr/>
          <p:nvPr/>
        </p:nvPicPr>
        <p:blipFill>
          <a:blip r:embed="rId1"/>
          <a:stretch/>
        </p:blipFill>
        <p:spPr>
          <a:xfrm>
            <a:off x="6072120" y="4786200"/>
            <a:ext cx="2873520" cy="77220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2051640" y="1205640"/>
            <a:ext cx="687276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团队合作</a:t>
            </a:r>
            <a:r>
              <a:rPr b="1" lang="en-US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6080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5920" y="428760"/>
            <a:ext cx="1328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2"/>
          <p:cNvGrpSpPr/>
          <p:nvPr/>
        </p:nvGrpSpPr>
        <p:grpSpPr>
          <a:xfrm>
            <a:off x="2195640" y="1451160"/>
            <a:ext cx="4896360" cy="2797560"/>
            <a:chOff x="2195640" y="1451160"/>
            <a:chExt cx="4896360" cy="2797560"/>
          </a:xfrm>
        </p:grpSpPr>
        <p:pic>
          <p:nvPicPr>
            <p:cNvPr id="87" name="Picture 2" descr="C:\Users\lidan\Desktop\linebg.png"/>
            <p:cNvPicPr/>
            <p:nvPr/>
          </p:nvPicPr>
          <p:blipFill>
            <a:blip r:embed="rId1"/>
            <a:stretch/>
          </p:blipFill>
          <p:spPr>
            <a:xfrm>
              <a:off x="2195640" y="1451160"/>
              <a:ext cx="48963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4"/>
            <p:cNvSpPr/>
            <p:nvPr/>
          </p:nvSpPr>
          <p:spPr>
            <a:xfrm>
              <a:off x="4108320" y="1463760"/>
              <a:ext cx="1004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2" descr="C:\Users\lidan\Desktop\linebg.png"/>
            <p:cNvPicPr/>
            <p:nvPr/>
          </p:nvPicPr>
          <p:blipFill>
            <a:blip r:embed="rId2"/>
            <a:stretch/>
          </p:blipFill>
          <p:spPr>
            <a:xfrm>
              <a:off x="2195640" y="2201400"/>
              <a:ext cx="48963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6"/>
            <p:cNvSpPr/>
            <p:nvPr/>
          </p:nvSpPr>
          <p:spPr>
            <a:xfrm>
              <a:off x="4108320" y="2213640"/>
              <a:ext cx="1004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2" descr="C:\Users\lidan\Desktop\linebg.png"/>
            <p:cNvPicPr/>
            <p:nvPr/>
          </p:nvPicPr>
          <p:blipFill>
            <a:blip r:embed="rId3"/>
            <a:stretch/>
          </p:blipFill>
          <p:spPr>
            <a:xfrm>
              <a:off x="2195640" y="2960280"/>
              <a:ext cx="48963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4108320" y="2972520"/>
              <a:ext cx="1004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C:\Users\lidan\Desktop\linebg.png"/>
            <p:cNvPicPr/>
            <p:nvPr/>
          </p:nvPicPr>
          <p:blipFill>
            <a:blip r:embed="rId4"/>
            <a:stretch/>
          </p:blipFill>
          <p:spPr>
            <a:xfrm>
              <a:off x="2195640" y="3709800"/>
              <a:ext cx="4896360" cy="53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0"/>
            <p:cNvSpPr/>
            <p:nvPr/>
          </p:nvSpPr>
          <p:spPr>
            <a:xfrm>
              <a:off x="4108320" y="3722400"/>
              <a:ext cx="10040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5920" y="428760"/>
            <a:ext cx="1328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000080" y="1571760"/>
            <a:ext cx="728640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建设目的：是为广大中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好者，提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下载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教程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等，建设中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好者的网上家园，立志成为最大最权威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中文网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成立以来，一方面发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原创教程、原创模板、原创素材。另一方面，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断从国内及国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同行网站收集各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，免费提供给网站用户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站内资源以免费下载为基础，本着开放的共享为原则，服务于国内广大国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好者。目前第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站内的所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背景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素材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教程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）均是免费下载，所以请大家在支持本站的同时也要尊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的作者，是他们将这些优秀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资源免费分享给大家，供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爱好者下载学习研究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lidan\Desktop\11.png"/>
          <p:cNvPicPr/>
          <p:nvPr/>
        </p:nvPicPr>
        <p:blipFill>
          <a:blip r:embed="rId1"/>
          <a:stretch/>
        </p:blipFill>
        <p:spPr>
          <a:xfrm>
            <a:off x="928800" y="1571760"/>
            <a:ext cx="3332160" cy="3221280"/>
          </a:xfrm>
          <a:prstGeom prst="rect">
            <a:avLst/>
          </a:prstGeom>
          <a:ln w="0">
            <a:noFill/>
          </a:ln>
        </p:spPr>
      </p:pic>
      <p:cxnSp>
        <p:nvCxnSpPr>
          <p:cNvPr id="98" name="肘形连接符 5"/>
          <p:cNvCxnSpPr/>
          <p:nvPr/>
        </p:nvCxnSpPr>
        <p:spPr>
          <a:xfrm flipV="1">
            <a:off x="3071520" y="1142640"/>
            <a:ext cx="786240" cy="929160"/>
          </a:xfrm>
          <a:prstGeom prst="bentConnector2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9" name="TextBox 6"/>
          <p:cNvSpPr/>
          <p:nvPr/>
        </p:nvSpPr>
        <p:spPr>
          <a:xfrm>
            <a:off x="3578400" y="865080"/>
            <a:ext cx="56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肘形连接符 8"/>
          <p:cNvCxnSpPr/>
          <p:nvPr/>
        </p:nvCxnSpPr>
        <p:spPr>
          <a:xfrm flipV="1" rot="10800000">
            <a:off x="2643120" y="4000320"/>
            <a:ext cx="428760" cy="643320"/>
          </a:xfrm>
          <a:prstGeom prst="bentConnector2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1" name="TextBox 9"/>
          <p:cNvSpPr/>
          <p:nvPr/>
        </p:nvSpPr>
        <p:spPr>
          <a:xfrm>
            <a:off x="2363760" y="4668120"/>
            <a:ext cx="560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5920" y="428760"/>
            <a:ext cx="1328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肘形连接符 12"/>
          <p:cNvCxnSpPr/>
          <p:nvPr/>
        </p:nvCxnSpPr>
        <p:spPr>
          <a:xfrm>
            <a:off x="3571560" y="2928600"/>
            <a:ext cx="1929240" cy="286200"/>
          </a:xfrm>
          <a:prstGeom prst="bentConnector2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4" name="TextBox 13"/>
          <p:cNvSpPr/>
          <p:nvPr/>
        </p:nvSpPr>
        <p:spPr>
          <a:xfrm>
            <a:off x="5292000" y="3000240"/>
            <a:ext cx="444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080" y="52477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lidan\Desktop\shu1.png"/>
          <p:cNvPicPr/>
          <p:nvPr/>
        </p:nvPicPr>
        <p:blipFill>
          <a:blip r:embed="rId1"/>
          <a:stretch/>
        </p:blipFill>
        <p:spPr>
          <a:xfrm>
            <a:off x="857160" y="1714320"/>
            <a:ext cx="2216880" cy="1928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C:\Users\lidan\Desktop\shu2.png"/>
          <p:cNvPicPr/>
          <p:nvPr/>
        </p:nvPicPr>
        <p:blipFill>
          <a:blip r:embed="rId2"/>
          <a:stretch/>
        </p:blipFill>
        <p:spPr>
          <a:xfrm>
            <a:off x="3603600" y="1643040"/>
            <a:ext cx="2342880" cy="2037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Users\lidan\Desktop\shu3.png"/>
          <p:cNvPicPr/>
          <p:nvPr/>
        </p:nvPicPr>
        <p:blipFill>
          <a:blip r:embed="rId3"/>
          <a:stretch/>
        </p:blipFill>
        <p:spPr>
          <a:xfrm>
            <a:off x="6286680" y="1571760"/>
            <a:ext cx="2342880" cy="20379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1710000" y="192060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231280" y="222336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2247120" y="286632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1699560" y="315216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146600" y="286632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3"/>
          <p:cNvSpPr/>
          <p:nvPr/>
        </p:nvSpPr>
        <p:spPr>
          <a:xfrm>
            <a:off x="1119960" y="2214720"/>
            <a:ext cx="566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16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4294440" y="221472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4914720" y="243072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882600" y="300024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7"/>
          <p:cNvSpPr/>
          <p:nvPr/>
        </p:nvSpPr>
        <p:spPr>
          <a:xfrm>
            <a:off x="4447800" y="285768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4865400" y="3049560"/>
            <a:ext cx="3808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5136840" y="3170160"/>
            <a:ext cx="322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5438160" y="3071880"/>
            <a:ext cx="3808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6897960" y="215172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7543440" y="215172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7559640" y="272340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932160" y="2722680"/>
            <a:ext cx="447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5920" y="428760"/>
            <a:ext cx="1328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数据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445320" y="5072040"/>
            <a:ext cx="2891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bfbfbf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</a:rPr>
              <a:t>模板网，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371840" y="1857240"/>
            <a:ext cx="4557240" cy="340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80"/>
              </a:spcBef>
              <a:tabLst>
                <a:tab algn="l" pos="0"/>
              </a:tabLst>
            </a:pPr>
            <a:r>
              <a:rPr b="1" lang="en-US" sz="5400" spc="-1" strike="noStrike">
                <a:ln>
                  <a:solidFill>
                    <a:srgbClr val="a6a6a6"/>
                  </a:solidFill>
                </a:ln>
                <a:solidFill>
                  <a:srgbClr val="ffffff"/>
                </a:solidFill>
                <a:latin typeface="时尚中黑简体"/>
                <a:ea typeface="时尚中黑简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71640" y="409320"/>
            <a:ext cx="647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351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7:18:53Z</dcterms:created>
  <dc:creator>lidan</dc:creator>
  <dc:description/>
  <dc:language>en-US</dc:language>
  <cp:lastModifiedBy>a</cp:lastModifiedBy>
  <dcterms:modified xsi:type="dcterms:W3CDTF">2015-07-25T02:04:31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6</vt:r8>
  </property>
</Properties>
</file>