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E4030-91B7-4B75-A565-A037E08A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6CAD0-6511-44E1-8EF4-2EE168F2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10F74-D516-4160-A49D-B1D9562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53042-043F-4374-8BE1-2E49BCB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8FE2-F825-4F75-BAB2-03C8400F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6F79C-C203-482E-9253-C7066B0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23181-5DCD-4802-A76C-8EF28A4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B170-2943-4B31-A28C-01513107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E7FB2-74F7-4871-A139-0D472D0C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09BDA-6EF6-45CA-81E2-71CA9923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880C8-4B8C-4C25-9CBC-C45ADA1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F67D8-76AA-40FB-9FD1-3D12D8F2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A5EDA-454D-4F8D-8E30-49291CA5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7D169-11B8-4A67-9765-E0BA1859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298D1-D272-4E42-84CA-0E0E30A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F14A3-31B5-42FA-AEC5-AFCC131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4EDA-89FD-4ADD-85BC-E7BD414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D19D3-2D9C-4BFE-B16C-840DA8A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B865D-EC09-44E1-BAA9-482EEA00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A7C8D-640B-45D2-9495-B5BA6A25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2E7D9-3240-4E7E-88D8-D9A30410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D1BC2-FA8A-4F15-9865-E03285C1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6ECDF-7287-4D1D-B5B3-42726B8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20807-28CA-439B-A7DF-A643471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CD9E5-5106-4D5A-9ECF-56E0D6F0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418BB-7E85-496C-9ABF-2B9DE1C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F8309-4CE0-40E3-9EB3-3B85A0A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E641F-8BDB-4BEA-AF3F-0D74FBA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68860-B0D8-4FD7-B42B-5C32221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4E04A-B33C-4A5A-AA4B-BAABE85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840-03F6-409A-84B2-750C8458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9A258-28A2-473B-9D23-010A1944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9EAB6-2339-45D4-99E6-7925EB9A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E8B4E-7F93-4224-9EE3-D5DB78E9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7F1-9271-49AD-8AB3-5C683092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68C-B810-4C65-8574-4CF1141D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BAB-2C16-4305-B39E-715BF316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E21-A75B-4E41-9853-DD2DFFE1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228-64BF-4438-AFE4-F631FE16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1E5-15CA-4D25-B831-322276E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C65-08B9-4168-ACA3-9177DF7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A41-7B5B-461C-8D74-F78F141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6D3-D1A8-4470-B50A-F77C533D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D11-A00C-4B56-868E-5C1ADC44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84D-CDAD-4DCE-B0E3-9C5FDA36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F725-13A2-4C39-A0F0-77F10F39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5ECC-0DE6-446A-81B9-726B5ED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766-1DF9-44F9-AD6A-D228A6F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62B2-7BDE-4A9E-B10E-E6480AFA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34FF-392F-4F73-BC0A-848FC7C7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59C7-A07E-478A-A0F3-0AE75178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CD1E-E6DC-4507-B192-42F5B4C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50F9-DFD1-48A2-9216-DC17289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0FA-86E6-4AB0-9F63-2C29B52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D819-8E71-41B5-A5B7-061FC30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BABA-018F-4957-835D-870C6BE5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1A49-333A-4163-9933-BE426A74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E552-83E4-4353-9704-0AE7770E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EE43-103D-477F-A4CB-8F3571E4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3164-3AE7-4BF9-9762-738FE27F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94EE-256E-46FC-865D-A259B19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DCE1-CD84-4E39-97E7-34BD3614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1665-0458-4D95-8371-FB97F0B2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6B0C-26AB-4465-B5F8-837A183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22CC-F2D1-451D-B966-7C4155C9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9B89-2BA9-4524-97D5-AC253748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A127-CA7F-4E18-80C8-AA144054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F8A6-19A8-4314-9DFD-D7636145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D0C9-87B6-4B38-868C-4EA929F9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F8D0-61C4-4FA7-8CCB-8E9E7FE4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E82C-DCE9-4BAF-9722-3553652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432F-9469-40D3-A39D-0054E8BE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C0BE-133D-4276-B218-7A5297E2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63EE-3990-41A3-9030-F88500D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C634-4C28-47CB-B1FA-7B5A93E4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DF8D-049E-4A7D-81AB-B1F66F8A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89CE-7A46-4405-8B5E-5A345CB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375C-36C8-476A-ADB4-FF675BFA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EF8F-B1FE-4EC0-8861-9F4892B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663F-DC02-4AFA-B6F5-68B79233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B2B8-59E9-4FB9-8DC8-89E7843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EADE-D521-4A1E-97AA-A0EC8E95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FFBC-447A-4EF4-A26B-7F5F2B8B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2CF2-3450-4C8D-ABF2-9F2E45A4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0892-FE7A-4907-9221-EFBDF85F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A5C5-EA28-4E81-BD12-083DEAE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5D6A-8B6B-4A99-ABBE-16946189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166B-5610-41D3-95AF-A546435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66A2-70D0-439A-85C0-B8A0F19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DB1F-055E-456D-88AE-F9FFB4AC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E22A-FCC1-44CF-AB28-1B715B09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6887-E693-471A-B11F-4CE3BA5D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DAE9-F8DE-4840-9BCE-AF0632C0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AB1A-6E9A-4DFA-BBBE-BD22EEBA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98339-B829-4146-A997-329A4429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D88BE-1A7F-47C9-87F8-895BE6A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47273-8229-494C-B1F9-0531C49C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0F98-A3E9-427C-96D6-8F1F224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5937-833F-44D7-B402-220D3DBD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2C66-9BAC-4951-81E7-672D0FB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1FB7-E26F-4282-9812-AE9E603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9BF10-21D2-4CED-A7B8-51BE5B8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0A3D-7682-4551-8877-24387BB6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4AD59-B11C-487A-967D-DCD7343D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7015-D7E6-4C79-8266-B8FCB72D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D837A-EB71-496E-B079-878B074D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7FD74-B6B0-4DED-8DA3-238DC3E7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BF7A3-B3EC-44B6-80DD-D0030A7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770EF-FAB3-46B7-A938-8A74AD92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7295-47DD-4325-AA47-B0BE7893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92D4F-18A4-4D5E-A8C6-396FB37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D6EA-FD75-4638-AEAA-ADCB06F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FF03-AFFD-4313-81E3-8AC41B74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60725-64AA-46C1-8F85-2130ABA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08EB-6D2F-41F3-99F9-CF5A3AD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4886-2CB8-4845-A0F8-C912F022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B6AC-5AA1-469B-9BC3-C9146C69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6AA8-8335-4F2E-A29C-216B2229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5512E-9964-43B3-8C53-1FB2D9D6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82601-C65A-4D74-AE6B-C0285615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8BA9-49E8-4A70-8C8F-5EBDF79D243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E179-0CD3-43B3-B1D0-896881E09DB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EA8B-9BAD-4522-AEE7-DA7CE3EE530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A38-6448-4248-93A7-2E68CDD310B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06E5-9B53-4A4E-8630-80F58ABE9BE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7446-99B9-4280-9F4A-F6D97EE08CE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09A9-4A54-4EEE-A29B-C3D93D2E064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6D16-DAB5-4D79-874B-C0C8D2FFB36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160-FB8A-46C6-A384-EC94C5B3814B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1D8-54AF-49AC-AF38-AF7FE6F7F85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1547640" y="1566720"/>
            <a:ext cx="705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f6868"/>
                </a:solidFill>
                <a:latin typeface="汉仪中圆简"/>
                <a:ea typeface="汉仪中圆简"/>
              </a:rPr>
              <a:t>桃花通用</a:t>
            </a:r>
            <a:r>
              <a:rPr b="0" lang="en-US" sz="4000" spc="-1" strike="noStrike">
                <a:solidFill>
                  <a:srgbClr val="cf6868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cf6868"/>
                </a:solidFill>
                <a:latin typeface="汉仪中圆简"/>
                <a:ea typeface="汉仪中圆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140360" y="213372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428760" y="1214280"/>
            <a:ext cx="82072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dc:language>en-US</dc:language>
  <cp:lastModifiedBy>王玉清</cp:lastModifiedBy>
  <dcterms:modified xsi:type="dcterms:W3CDTF">2016-02-22T03:20:29Z</dcterms:modified>
  <cp:revision>10</cp:revision>
  <dc:subject/>
  <dc:title>母亲节</dc:title>
</cp:coreProperties>
</file>