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wmf" ContentType="image/x-wmf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92A1-8E25-44F1-A767-58FFB31CF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7A8C-8A76-45B2-8EBA-244E371A8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ABF8-E085-4917-AA09-2B0EE8819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85BFF-51C8-4717-A708-DA815E191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7E73-443A-49FA-B53D-7B3C5D5F4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DA180-6AF0-4015-A54E-803F17721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3D7D-45DD-4536-902B-DEA9BFF3A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37DA-5070-4510-8345-D9F04928B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69E1-A118-42B2-801D-D37D1F95D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5AD6-C183-40E7-BEA2-A5167102E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EA92-9BFD-4AD1-B065-13806E5E2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7EB7-1BF6-451D-86F9-39DC3C309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9045C-D354-487C-A1BF-90A2328A16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00800"/>
          </a:xfrm>
          <a:prstGeom prst="rect">
            <a:avLst/>
          </a:prstGeom>
          <a:ln w="0">
            <a:noFill/>
          </a:ln>
        </p:spPr>
      </p:pic>
      <p:sp>
        <p:nvSpPr>
          <p:cNvPr id="42" name="矩形 1黄色"/>
          <p:cNvSpPr/>
          <p:nvPr/>
        </p:nvSpPr>
        <p:spPr>
          <a:xfrm>
            <a:off x="52560" y="-2743200"/>
            <a:ext cx="9144000" cy="6858000"/>
          </a:xfrm>
          <a:prstGeom prst="rect">
            <a:avLst/>
          </a:prstGeom>
          <a:solidFill>
            <a:srgbClr val="ff99cc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9900"/>
                </a:solidFill>
                <a:latin typeface="宋体"/>
              </a:rPr>
              <a:t>桃花依旧笑春风动态</a:t>
            </a:r>
            <a:r>
              <a:rPr b="1" lang="en-US" sz="4000" spc="-1" strike="noStrike">
                <a:solidFill>
                  <a:srgbClr val="ff9900"/>
                </a:solidFill>
                <a:latin typeface="宋体"/>
              </a:rPr>
              <a:t>PPT</a:t>
            </a:r>
            <a:r>
              <a:rPr b="1" lang="zh-CN" sz="4000" spc="-1" strike="noStrike">
                <a:solidFill>
                  <a:srgbClr val="ff9900"/>
                </a:solidFill>
                <a:latin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7"/>
          <p:cNvSpPr txBox="1"/>
          <p:nvPr/>
        </p:nvSpPr>
        <p:spPr>
          <a:xfrm rot="5400000">
            <a:off x="5300640" y="3386160"/>
            <a:ext cx="3267360" cy="457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00"/>
                </a:solidFill>
                <a:latin typeface="宋体"/>
              </a:rPr>
              <a:t>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9900"/>
              </a:solidFill>
              <a:latin typeface="宋体"/>
              <a:ea typeface="宋体"/>
            </a:endParaRPr>
          </a:p>
        </p:txBody>
      </p:sp>
      <p:sp>
        <p:nvSpPr>
          <p:cNvPr id="44" name="Freeform 1276"/>
          <p:cNvSpPr/>
          <p:nvPr/>
        </p:nvSpPr>
        <p:spPr>
          <a:xfrm>
            <a:off x="0" y="-630360"/>
            <a:ext cx="2070000" cy="1544760"/>
          </a:xfrm>
          <a:custGeom>
            <a:avLst/>
            <a:gdLst>
              <a:gd name="textAreaLeft" fmla="*/ 0 w 2070000"/>
              <a:gd name="textAreaRight" fmla="*/ 2070360 w 2070000"/>
              <a:gd name="textAreaTop" fmla="*/ 0 h 1544760"/>
              <a:gd name="textAreaBottom" fmla="*/ 1545120 h 1544760"/>
            </a:gdLst>
            <a:ahLst/>
            <a:rect l="textAreaLeft" t="textAreaTop" r="textAreaRight" b="textAreaBottom"/>
            <a:pathLst>
              <a:path w="642" h="479">
                <a:moveTo>
                  <a:pt x="524" y="435"/>
                </a:moveTo>
                <a:cubicBezTo>
                  <a:pt x="539" y="424"/>
                  <a:pt x="557" y="404"/>
                  <a:pt x="553" y="374"/>
                </a:cubicBezTo>
                <a:cubicBezTo>
                  <a:pt x="548" y="335"/>
                  <a:pt x="539" y="313"/>
                  <a:pt x="524" y="297"/>
                </a:cubicBezTo>
                <a:cubicBezTo>
                  <a:pt x="524" y="435"/>
                  <a:pt x="524" y="435"/>
                  <a:pt x="524" y="435"/>
                </a:cubicBezTo>
                <a:close/>
                <a:moveTo>
                  <a:pt x="524" y="278"/>
                </a:moveTo>
                <a:cubicBezTo>
                  <a:pt x="529" y="281"/>
                  <a:pt x="534" y="282"/>
                  <a:pt x="537" y="283"/>
                </a:cubicBezTo>
                <a:cubicBezTo>
                  <a:pt x="562" y="287"/>
                  <a:pt x="578" y="271"/>
                  <a:pt x="588" y="265"/>
                </a:cubicBezTo>
                <a:cubicBezTo>
                  <a:pt x="597" y="259"/>
                  <a:pt x="608" y="265"/>
                  <a:pt x="608" y="265"/>
                </a:cubicBezTo>
                <a:cubicBezTo>
                  <a:pt x="608" y="265"/>
                  <a:pt x="603" y="247"/>
                  <a:pt x="588" y="247"/>
                </a:cubicBezTo>
                <a:cubicBezTo>
                  <a:pt x="574" y="247"/>
                  <a:pt x="557" y="256"/>
                  <a:pt x="550" y="248"/>
                </a:cubicBezTo>
                <a:cubicBezTo>
                  <a:pt x="543" y="239"/>
                  <a:pt x="580" y="233"/>
                  <a:pt x="585" y="230"/>
                </a:cubicBezTo>
                <a:cubicBezTo>
                  <a:pt x="591" y="227"/>
                  <a:pt x="619" y="203"/>
                  <a:pt x="623" y="188"/>
                </a:cubicBezTo>
                <a:cubicBezTo>
                  <a:pt x="629" y="174"/>
                  <a:pt x="628" y="174"/>
                  <a:pt x="628" y="174"/>
                </a:cubicBezTo>
                <a:cubicBezTo>
                  <a:pt x="628" y="174"/>
                  <a:pt x="632" y="172"/>
                  <a:pt x="635" y="168"/>
                </a:cubicBezTo>
                <a:cubicBezTo>
                  <a:pt x="640" y="162"/>
                  <a:pt x="642" y="156"/>
                  <a:pt x="642" y="150"/>
                </a:cubicBezTo>
                <a:cubicBezTo>
                  <a:pt x="642" y="149"/>
                  <a:pt x="642" y="149"/>
                  <a:pt x="642" y="149"/>
                </a:cubicBezTo>
                <a:cubicBezTo>
                  <a:pt x="642" y="147"/>
                  <a:pt x="642" y="147"/>
                  <a:pt x="642" y="147"/>
                </a:cubicBezTo>
                <a:cubicBezTo>
                  <a:pt x="642" y="137"/>
                  <a:pt x="636" y="125"/>
                  <a:pt x="628" y="120"/>
                </a:cubicBezTo>
                <a:cubicBezTo>
                  <a:pt x="628" y="120"/>
                  <a:pt x="630" y="114"/>
                  <a:pt x="625" y="112"/>
                </a:cubicBezTo>
                <a:cubicBezTo>
                  <a:pt x="620" y="110"/>
                  <a:pt x="609" y="109"/>
                  <a:pt x="608" y="119"/>
                </a:cubicBezTo>
                <a:cubicBezTo>
                  <a:pt x="608" y="122"/>
                  <a:pt x="608" y="125"/>
                  <a:pt x="610" y="127"/>
                </a:cubicBezTo>
                <a:cubicBezTo>
                  <a:pt x="611" y="129"/>
                  <a:pt x="614" y="131"/>
                  <a:pt x="618" y="130"/>
                </a:cubicBezTo>
                <a:cubicBezTo>
                  <a:pt x="623" y="130"/>
                  <a:pt x="627" y="125"/>
                  <a:pt x="627" y="123"/>
                </a:cubicBezTo>
                <a:cubicBezTo>
                  <a:pt x="630" y="125"/>
                  <a:pt x="632" y="128"/>
                  <a:pt x="635" y="132"/>
                </a:cubicBezTo>
                <a:cubicBezTo>
                  <a:pt x="637" y="135"/>
                  <a:pt x="639" y="140"/>
                  <a:pt x="639" y="145"/>
                </a:cubicBezTo>
                <a:cubicBezTo>
                  <a:pt x="640" y="154"/>
                  <a:pt x="636" y="163"/>
                  <a:pt x="625" y="168"/>
                </a:cubicBezTo>
                <a:cubicBezTo>
                  <a:pt x="618" y="171"/>
                  <a:pt x="606" y="171"/>
                  <a:pt x="601" y="164"/>
                </a:cubicBezTo>
                <a:cubicBezTo>
                  <a:pt x="596" y="157"/>
                  <a:pt x="585" y="151"/>
                  <a:pt x="571" y="151"/>
                </a:cubicBezTo>
                <a:cubicBezTo>
                  <a:pt x="556" y="152"/>
                  <a:pt x="530" y="159"/>
                  <a:pt x="529" y="160"/>
                </a:cubicBezTo>
                <a:cubicBezTo>
                  <a:pt x="528" y="160"/>
                  <a:pt x="526" y="161"/>
                  <a:pt x="524" y="162"/>
                </a:cubicBezTo>
                <a:cubicBezTo>
                  <a:pt x="524" y="208"/>
                  <a:pt x="524" y="208"/>
                  <a:pt x="524" y="208"/>
                </a:cubicBezTo>
                <a:cubicBezTo>
                  <a:pt x="526" y="208"/>
                  <a:pt x="529" y="207"/>
                  <a:pt x="531" y="206"/>
                </a:cubicBezTo>
                <a:cubicBezTo>
                  <a:pt x="565" y="195"/>
                  <a:pt x="586" y="189"/>
                  <a:pt x="586" y="189"/>
                </a:cubicBezTo>
                <a:cubicBezTo>
                  <a:pt x="567" y="202"/>
                  <a:pt x="546" y="211"/>
                  <a:pt x="524" y="217"/>
                </a:cubicBezTo>
                <a:cubicBezTo>
                  <a:pt x="524" y="278"/>
                  <a:pt x="524" y="278"/>
                  <a:pt x="524" y="278"/>
                </a:cubicBezTo>
                <a:close/>
                <a:moveTo>
                  <a:pt x="524" y="157"/>
                </a:moveTo>
                <a:cubicBezTo>
                  <a:pt x="524" y="116"/>
                  <a:pt x="524" y="116"/>
                  <a:pt x="524" y="116"/>
                </a:cubicBezTo>
                <a:cubicBezTo>
                  <a:pt x="538" y="114"/>
                  <a:pt x="549" y="113"/>
                  <a:pt x="551" y="113"/>
                </a:cubicBezTo>
                <a:cubicBezTo>
                  <a:pt x="554" y="112"/>
                  <a:pt x="562" y="95"/>
                  <a:pt x="562" y="95"/>
                </a:cubicBezTo>
                <a:cubicBezTo>
                  <a:pt x="562" y="95"/>
                  <a:pt x="562" y="99"/>
                  <a:pt x="560" y="108"/>
                </a:cubicBezTo>
                <a:cubicBezTo>
                  <a:pt x="558" y="116"/>
                  <a:pt x="552" y="128"/>
                  <a:pt x="546" y="133"/>
                </a:cubicBezTo>
                <a:cubicBezTo>
                  <a:pt x="542" y="137"/>
                  <a:pt x="531" y="149"/>
                  <a:pt x="524" y="157"/>
                </a:cubicBezTo>
                <a:close/>
                <a:moveTo>
                  <a:pt x="455" y="452"/>
                </a:moveTo>
                <a:cubicBezTo>
                  <a:pt x="466" y="463"/>
                  <a:pt x="468" y="463"/>
                  <a:pt x="468" y="463"/>
                </a:cubicBezTo>
                <a:cubicBezTo>
                  <a:pt x="468" y="463"/>
                  <a:pt x="477" y="436"/>
                  <a:pt x="477" y="427"/>
                </a:cubicBezTo>
                <a:cubicBezTo>
                  <a:pt x="477" y="417"/>
                  <a:pt x="468" y="401"/>
                  <a:pt x="479" y="403"/>
                </a:cubicBezTo>
                <a:cubicBezTo>
                  <a:pt x="491" y="405"/>
                  <a:pt x="508" y="445"/>
                  <a:pt x="508" y="445"/>
                </a:cubicBezTo>
                <a:cubicBezTo>
                  <a:pt x="508" y="445"/>
                  <a:pt x="515" y="442"/>
                  <a:pt x="524" y="435"/>
                </a:cubicBezTo>
                <a:cubicBezTo>
                  <a:pt x="524" y="297"/>
                  <a:pt x="524" y="297"/>
                  <a:pt x="524" y="297"/>
                </a:cubicBezTo>
                <a:cubicBezTo>
                  <a:pt x="520" y="292"/>
                  <a:pt x="516" y="289"/>
                  <a:pt x="511" y="285"/>
                </a:cubicBezTo>
                <a:cubicBezTo>
                  <a:pt x="496" y="275"/>
                  <a:pt x="472" y="263"/>
                  <a:pt x="455" y="255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62" y="283"/>
                  <a:pt x="468" y="289"/>
                  <a:pt x="472" y="295"/>
                </a:cubicBezTo>
                <a:cubicBezTo>
                  <a:pt x="487" y="320"/>
                  <a:pt x="497" y="353"/>
                  <a:pt x="497" y="353"/>
                </a:cubicBezTo>
                <a:cubicBezTo>
                  <a:pt x="497" y="353"/>
                  <a:pt x="479" y="319"/>
                  <a:pt x="455" y="292"/>
                </a:cubicBezTo>
                <a:cubicBezTo>
                  <a:pt x="455" y="452"/>
                  <a:pt x="455" y="452"/>
                  <a:pt x="455" y="452"/>
                </a:cubicBezTo>
                <a:close/>
                <a:moveTo>
                  <a:pt x="455" y="233"/>
                </a:moveTo>
                <a:cubicBezTo>
                  <a:pt x="455" y="158"/>
                  <a:pt x="455" y="158"/>
                  <a:pt x="455" y="158"/>
                </a:cubicBezTo>
                <a:cubicBezTo>
                  <a:pt x="463" y="144"/>
                  <a:pt x="479" y="135"/>
                  <a:pt x="495" y="125"/>
                </a:cubicBezTo>
                <a:cubicBezTo>
                  <a:pt x="504" y="121"/>
                  <a:pt x="515" y="118"/>
                  <a:pt x="524" y="116"/>
                </a:cubicBezTo>
                <a:cubicBezTo>
                  <a:pt x="524" y="157"/>
                  <a:pt x="524" y="157"/>
                  <a:pt x="524" y="157"/>
                </a:cubicBezTo>
                <a:cubicBezTo>
                  <a:pt x="520" y="162"/>
                  <a:pt x="517" y="166"/>
                  <a:pt x="517" y="166"/>
                </a:cubicBezTo>
                <a:cubicBezTo>
                  <a:pt x="517" y="166"/>
                  <a:pt x="521" y="164"/>
                  <a:pt x="524" y="162"/>
                </a:cubicBezTo>
                <a:cubicBezTo>
                  <a:pt x="524" y="208"/>
                  <a:pt x="524" y="208"/>
                  <a:pt x="524" y="208"/>
                </a:cubicBezTo>
                <a:cubicBezTo>
                  <a:pt x="492" y="218"/>
                  <a:pt x="462" y="222"/>
                  <a:pt x="462" y="222"/>
                </a:cubicBezTo>
                <a:cubicBezTo>
                  <a:pt x="473" y="224"/>
                  <a:pt x="484" y="224"/>
                  <a:pt x="494" y="223"/>
                </a:cubicBezTo>
                <a:cubicBezTo>
                  <a:pt x="505" y="222"/>
                  <a:pt x="515" y="220"/>
                  <a:pt x="524" y="217"/>
                </a:cubicBezTo>
                <a:cubicBezTo>
                  <a:pt x="524" y="278"/>
                  <a:pt x="524" y="278"/>
                  <a:pt x="524" y="278"/>
                </a:cubicBezTo>
                <a:cubicBezTo>
                  <a:pt x="502" y="268"/>
                  <a:pt x="473" y="242"/>
                  <a:pt x="459" y="234"/>
                </a:cubicBezTo>
                <a:cubicBezTo>
                  <a:pt x="458" y="234"/>
                  <a:pt x="456" y="233"/>
                  <a:pt x="455" y="233"/>
                </a:cubicBezTo>
                <a:close/>
                <a:moveTo>
                  <a:pt x="388" y="453"/>
                </a:moveTo>
                <a:cubicBezTo>
                  <a:pt x="392" y="456"/>
                  <a:pt x="396" y="458"/>
                  <a:pt x="400" y="460"/>
                </a:cubicBezTo>
                <a:cubicBezTo>
                  <a:pt x="407" y="463"/>
                  <a:pt x="414" y="460"/>
                  <a:pt x="418" y="456"/>
                </a:cubicBezTo>
                <a:cubicBezTo>
                  <a:pt x="423" y="450"/>
                  <a:pt x="424" y="441"/>
                  <a:pt x="414" y="437"/>
                </a:cubicBezTo>
                <a:cubicBezTo>
                  <a:pt x="405" y="433"/>
                  <a:pt x="398" y="433"/>
                  <a:pt x="398" y="433"/>
                </a:cubicBezTo>
                <a:cubicBezTo>
                  <a:pt x="398" y="433"/>
                  <a:pt x="399" y="437"/>
                  <a:pt x="406" y="439"/>
                </a:cubicBezTo>
                <a:cubicBezTo>
                  <a:pt x="416" y="442"/>
                  <a:pt x="419" y="448"/>
                  <a:pt x="416" y="452"/>
                </a:cubicBezTo>
                <a:cubicBezTo>
                  <a:pt x="410" y="460"/>
                  <a:pt x="401" y="457"/>
                  <a:pt x="393" y="452"/>
                </a:cubicBezTo>
                <a:cubicBezTo>
                  <a:pt x="391" y="451"/>
                  <a:pt x="390" y="450"/>
                  <a:pt x="388" y="448"/>
                </a:cubicBezTo>
                <a:cubicBezTo>
                  <a:pt x="388" y="453"/>
                  <a:pt x="388" y="453"/>
                  <a:pt x="388" y="453"/>
                </a:cubicBezTo>
                <a:close/>
                <a:moveTo>
                  <a:pt x="388" y="316"/>
                </a:moveTo>
                <a:cubicBezTo>
                  <a:pt x="388" y="134"/>
                  <a:pt x="388" y="134"/>
                  <a:pt x="388" y="134"/>
                </a:cubicBezTo>
                <a:cubicBezTo>
                  <a:pt x="400" y="164"/>
                  <a:pt x="392" y="227"/>
                  <a:pt x="392" y="227"/>
                </a:cubicBezTo>
                <a:cubicBezTo>
                  <a:pt x="411" y="212"/>
                  <a:pt x="409" y="175"/>
                  <a:pt x="399" y="144"/>
                </a:cubicBezTo>
                <a:cubicBezTo>
                  <a:pt x="396" y="134"/>
                  <a:pt x="393" y="125"/>
                  <a:pt x="388" y="117"/>
                </a:cubicBezTo>
                <a:cubicBezTo>
                  <a:pt x="388" y="29"/>
                  <a:pt x="388" y="29"/>
                  <a:pt x="388" y="29"/>
                </a:cubicBezTo>
                <a:cubicBezTo>
                  <a:pt x="392" y="31"/>
                  <a:pt x="395" y="33"/>
                  <a:pt x="398" y="35"/>
                </a:cubicBezTo>
                <a:cubicBezTo>
                  <a:pt x="418" y="50"/>
                  <a:pt x="427" y="78"/>
                  <a:pt x="436" y="107"/>
                </a:cubicBezTo>
                <a:cubicBezTo>
                  <a:pt x="445" y="136"/>
                  <a:pt x="426" y="188"/>
                  <a:pt x="420" y="197"/>
                </a:cubicBezTo>
                <a:cubicBezTo>
                  <a:pt x="414" y="206"/>
                  <a:pt x="424" y="228"/>
                  <a:pt x="424" y="228"/>
                </a:cubicBezTo>
                <a:cubicBezTo>
                  <a:pt x="424" y="228"/>
                  <a:pt x="440" y="218"/>
                  <a:pt x="445" y="213"/>
                </a:cubicBezTo>
                <a:cubicBezTo>
                  <a:pt x="449" y="208"/>
                  <a:pt x="446" y="189"/>
                  <a:pt x="451" y="169"/>
                </a:cubicBezTo>
                <a:cubicBezTo>
                  <a:pt x="452" y="165"/>
                  <a:pt x="453" y="161"/>
                  <a:pt x="455" y="158"/>
                </a:cubicBezTo>
                <a:cubicBezTo>
                  <a:pt x="455" y="233"/>
                  <a:pt x="455" y="233"/>
                  <a:pt x="455" y="233"/>
                </a:cubicBezTo>
                <a:cubicBezTo>
                  <a:pt x="441" y="228"/>
                  <a:pt x="439" y="248"/>
                  <a:pt x="439" y="248"/>
                </a:cubicBezTo>
                <a:cubicBezTo>
                  <a:pt x="439" y="248"/>
                  <a:pt x="446" y="251"/>
                  <a:pt x="455" y="255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37" y="261"/>
                  <a:pt x="414" y="251"/>
                  <a:pt x="414" y="251"/>
                </a:cubicBezTo>
                <a:cubicBezTo>
                  <a:pt x="414" y="251"/>
                  <a:pt x="428" y="260"/>
                  <a:pt x="453" y="289"/>
                </a:cubicBezTo>
                <a:cubicBezTo>
                  <a:pt x="454" y="290"/>
                  <a:pt x="454" y="291"/>
                  <a:pt x="455" y="292"/>
                </a:cubicBezTo>
                <a:cubicBezTo>
                  <a:pt x="455" y="452"/>
                  <a:pt x="455" y="452"/>
                  <a:pt x="455" y="452"/>
                </a:cubicBezTo>
                <a:cubicBezTo>
                  <a:pt x="453" y="449"/>
                  <a:pt x="451" y="447"/>
                  <a:pt x="448" y="443"/>
                </a:cubicBezTo>
                <a:cubicBezTo>
                  <a:pt x="432" y="424"/>
                  <a:pt x="413" y="371"/>
                  <a:pt x="412" y="365"/>
                </a:cubicBezTo>
                <a:cubicBezTo>
                  <a:pt x="411" y="358"/>
                  <a:pt x="410" y="299"/>
                  <a:pt x="403" y="292"/>
                </a:cubicBezTo>
                <a:cubicBezTo>
                  <a:pt x="396" y="286"/>
                  <a:pt x="394" y="306"/>
                  <a:pt x="388" y="316"/>
                </a:cubicBezTo>
                <a:close/>
                <a:moveTo>
                  <a:pt x="341" y="182"/>
                </a:moveTo>
                <a:cubicBezTo>
                  <a:pt x="344" y="185"/>
                  <a:pt x="346" y="187"/>
                  <a:pt x="348" y="188"/>
                </a:cubicBezTo>
                <a:cubicBezTo>
                  <a:pt x="355" y="193"/>
                  <a:pt x="363" y="206"/>
                  <a:pt x="352" y="206"/>
                </a:cubicBezTo>
                <a:cubicBezTo>
                  <a:pt x="349" y="206"/>
                  <a:pt x="346" y="205"/>
                  <a:pt x="341" y="203"/>
                </a:cubicBezTo>
                <a:cubicBezTo>
                  <a:pt x="341" y="230"/>
                  <a:pt x="341" y="230"/>
                  <a:pt x="341" y="230"/>
                </a:cubicBezTo>
                <a:cubicBezTo>
                  <a:pt x="358" y="238"/>
                  <a:pt x="370" y="244"/>
                  <a:pt x="367" y="243"/>
                </a:cubicBezTo>
                <a:cubicBezTo>
                  <a:pt x="358" y="240"/>
                  <a:pt x="349" y="238"/>
                  <a:pt x="341" y="235"/>
                </a:cubicBezTo>
                <a:cubicBezTo>
                  <a:pt x="341" y="278"/>
                  <a:pt x="341" y="278"/>
                  <a:pt x="341" y="278"/>
                </a:cubicBezTo>
                <a:cubicBezTo>
                  <a:pt x="349" y="269"/>
                  <a:pt x="357" y="264"/>
                  <a:pt x="357" y="264"/>
                </a:cubicBezTo>
                <a:cubicBezTo>
                  <a:pt x="357" y="264"/>
                  <a:pt x="350" y="277"/>
                  <a:pt x="344" y="288"/>
                </a:cubicBezTo>
                <a:cubicBezTo>
                  <a:pt x="343" y="290"/>
                  <a:pt x="342" y="292"/>
                  <a:pt x="341" y="294"/>
                </a:cubicBezTo>
                <a:cubicBezTo>
                  <a:pt x="341" y="359"/>
                  <a:pt x="341" y="359"/>
                  <a:pt x="341" y="359"/>
                </a:cubicBezTo>
                <a:cubicBezTo>
                  <a:pt x="357" y="357"/>
                  <a:pt x="382" y="327"/>
                  <a:pt x="388" y="317"/>
                </a:cubicBezTo>
                <a:cubicBezTo>
                  <a:pt x="388" y="317"/>
                  <a:pt x="388" y="317"/>
                  <a:pt x="388" y="316"/>
                </a:cubicBezTo>
                <a:cubicBezTo>
                  <a:pt x="388" y="134"/>
                  <a:pt x="388" y="134"/>
                  <a:pt x="388" y="134"/>
                </a:cubicBezTo>
                <a:cubicBezTo>
                  <a:pt x="388" y="134"/>
                  <a:pt x="388" y="134"/>
                  <a:pt x="388" y="133"/>
                </a:cubicBezTo>
                <a:cubicBezTo>
                  <a:pt x="376" y="104"/>
                  <a:pt x="371" y="98"/>
                  <a:pt x="371" y="98"/>
                </a:cubicBezTo>
                <a:cubicBezTo>
                  <a:pt x="376" y="98"/>
                  <a:pt x="383" y="106"/>
                  <a:pt x="388" y="117"/>
                </a:cubicBezTo>
                <a:cubicBezTo>
                  <a:pt x="388" y="29"/>
                  <a:pt x="388" y="29"/>
                  <a:pt x="388" y="29"/>
                </a:cubicBezTo>
                <a:cubicBezTo>
                  <a:pt x="369" y="15"/>
                  <a:pt x="347" y="0"/>
                  <a:pt x="347" y="0"/>
                </a:cubicBezTo>
                <a:cubicBezTo>
                  <a:pt x="347" y="0"/>
                  <a:pt x="360" y="22"/>
                  <a:pt x="353" y="28"/>
                </a:cubicBezTo>
                <a:cubicBezTo>
                  <a:pt x="348" y="32"/>
                  <a:pt x="344" y="31"/>
                  <a:pt x="341" y="28"/>
                </a:cubicBezTo>
                <a:cubicBezTo>
                  <a:pt x="341" y="182"/>
                  <a:pt x="341" y="182"/>
                  <a:pt x="341" y="182"/>
                </a:cubicBezTo>
                <a:close/>
                <a:moveTo>
                  <a:pt x="341" y="459"/>
                </a:moveTo>
                <a:cubicBezTo>
                  <a:pt x="351" y="479"/>
                  <a:pt x="351" y="479"/>
                  <a:pt x="351" y="479"/>
                </a:cubicBezTo>
                <a:cubicBezTo>
                  <a:pt x="351" y="479"/>
                  <a:pt x="364" y="478"/>
                  <a:pt x="359" y="466"/>
                </a:cubicBezTo>
                <a:cubicBezTo>
                  <a:pt x="355" y="459"/>
                  <a:pt x="350" y="448"/>
                  <a:pt x="341" y="438"/>
                </a:cubicBezTo>
                <a:cubicBezTo>
                  <a:pt x="341" y="459"/>
                  <a:pt x="341" y="459"/>
                  <a:pt x="341" y="459"/>
                </a:cubicBezTo>
                <a:close/>
                <a:moveTo>
                  <a:pt x="341" y="411"/>
                </a:moveTo>
                <a:cubicBezTo>
                  <a:pt x="341" y="404"/>
                  <a:pt x="341" y="404"/>
                  <a:pt x="341" y="404"/>
                </a:cubicBezTo>
                <a:cubicBezTo>
                  <a:pt x="345" y="405"/>
                  <a:pt x="349" y="406"/>
                  <a:pt x="353" y="407"/>
                </a:cubicBezTo>
                <a:cubicBezTo>
                  <a:pt x="375" y="413"/>
                  <a:pt x="375" y="431"/>
                  <a:pt x="377" y="435"/>
                </a:cubicBezTo>
                <a:cubicBezTo>
                  <a:pt x="378" y="438"/>
                  <a:pt x="383" y="443"/>
                  <a:pt x="388" y="448"/>
                </a:cubicBezTo>
                <a:cubicBezTo>
                  <a:pt x="388" y="453"/>
                  <a:pt x="388" y="453"/>
                  <a:pt x="388" y="453"/>
                </a:cubicBezTo>
                <a:cubicBezTo>
                  <a:pt x="384" y="450"/>
                  <a:pt x="381" y="447"/>
                  <a:pt x="381" y="447"/>
                </a:cubicBezTo>
                <a:cubicBezTo>
                  <a:pt x="381" y="447"/>
                  <a:pt x="380" y="452"/>
                  <a:pt x="378" y="460"/>
                </a:cubicBezTo>
                <a:cubicBezTo>
                  <a:pt x="376" y="468"/>
                  <a:pt x="364" y="477"/>
                  <a:pt x="364" y="477"/>
                </a:cubicBezTo>
                <a:cubicBezTo>
                  <a:pt x="364" y="477"/>
                  <a:pt x="376" y="452"/>
                  <a:pt x="376" y="445"/>
                </a:cubicBezTo>
                <a:cubicBezTo>
                  <a:pt x="376" y="439"/>
                  <a:pt x="375" y="438"/>
                  <a:pt x="370" y="439"/>
                </a:cubicBezTo>
                <a:cubicBezTo>
                  <a:pt x="366" y="439"/>
                  <a:pt x="369" y="431"/>
                  <a:pt x="369" y="431"/>
                </a:cubicBezTo>
                <a:cubicBezTo>
                  <a:pt x="370" y="421"/>
                  <a:pt x="360" y="415"/>
                  <a:pt x="347" y="412"/>
                </a:cubicBezTo>
                <a:cubicBezTo>
                  <a:pt x="345" y="412"/>
                  <a:pt x="343" y="411"/>
                  <a:pt x="341" y="411"/>
                </a:cubicBezTo>
                <a:close/>
                <a:moveTo>
                  <a:pt x="296" y="12"/>
                </a:moveTo>
                <a:cubicBezTo>
                  <a:pt x="296" y="12"/>
                  <a:pt x="301" y="26"/>
                  <a:pt x="295" y="34"/>
                </a:cubicBezTo>
                <a:cubicBezTo>
                  <a:pt x="289" y="42"/>
                  <a:pt x="274" y="89"/>
                  <a:pt x="297" y="127"/>
                </a:cubicBezTo>
                <a:cubicBezTo>
                  <a:pt x="315" y="158"/>
                  <a:pt x="331" y="174"/>
                  <a:pt x="341" y="182"/>
                </a:cubicBezTo>
                <a:cubicBezTo>
                  <a:pt x="341" y="28"/>
                  <a:pt x="341" y="28"/>
                  <a:pt x="341" y="28"/>
                </a:cubicBezTo>
                <a:cubicBezTo>
                  <a:pt x="340" y="26"/>
                  <a:pt x="339" y="24"/>
                  <a:pt x="338" y="22"/>
                </a:cubicBezTo>
                <a:cubicBezTo>
                  <a:pt x="335" y="16"/>
                  <a:pt x="329" y="6"/>
                  <a:pt x="329" y="6"/>
                </a:cubicBezTo>
                <a:cubicBezTo>
                  <a:pt x="329" y="6"/>
                  <a:pt x="338" y="28"/>
                  <a:pt x="334" y="32"/>
                </a:cubicBezTo>
                <a:cubicBezTo>
                  <a:pt x="330" y="37"/>
                  <a:pt x="324" y="43"/>
                  <a:pt x="319" y="36"/>
                </a:cubicBezTo>
                <a:cubicBezTo>
                  <a:pt x="313" y="28"/>
                  <a:pt x="311" y="20"/>
                  <a:pt x="306" y="16"/>
                </a:cubicBezTo>
                <a:cubicBezTo>
                  <a:pt x="302" y="13"/>
                  <a:pt x="296" y="12"/>
                  <a:pt x="296" y="12"/>
                </a:cubicBezTo>
                <a:close/>
                <a:moveTo>
                  <a:pt x="341" y="203"/>
                </a:moveTo>
                <a:cubicBezTo>
                  <a:pt x="341" y="230"/>
                  <a:pt x="341" y="230"/>
                  <a:pt x="341" y="230"/>
                </a:cubicBezTo>
                <a:cubicBezTo>
                  <a:pt x="308" y="215"/>
                  <a:pt x="259" y="193"/>
                  <a:pt x="273" y="202"/>
                </a:cubicBezTo>
                <a:cubicBezTo>
                  <a:pt x="294" y="216"/>
                  <a:pt x="313" y="227"/>
                  <a:pt x="337" y="234"/>
                </a:cubicBezTo>
                <a:cubicBezTo>
                  <a:pt x="338" y="234"/>
                  <a:pt x="340" y="235"/>
                  <a:pt x="341" y="235"/>
                </a:cubicBezTo>
                <a:cubicBezTo>
                  <a:pt x="341" y="278"/>
                  <a:pt x="341" y="278"/>
                  <a:pt x="341" y="278"/>
                </a:cubicBezTo>
                <a:cubicBezTo>
                  <a:pt x="337" y="284"/>
                  <a:pt x="332" y="292"/>
                  <a:pt x="330" y="301"/>
                </a:cubicBezTo>
                <a:cubicBezTo>
                  <a:pt x="324" y="326"/>
                  <a:pt x="325" y="351"/>
                  <a:pt x="325" y="351"/>
                </a:cubicBezTo>
                <a:cubicBezTo>
                  <a:pt x="325" y="351"/>
                  <a:pt x="335" y="312"/>
                  <a:pt x="341" y="294"/>
                </a:cubicBezTo>
                <a:cubicBezTo>
                  <a:pt x="341" y="359"/>
                  <a:pt x="341" y="359"/>
                  <a:pt x="341" y="359"/>
                </a:cubicBezTo>
                <a:cubicBezTo>
                  <a:pt x="341" y="359"/>
                  <a:pt x="340" y="359"/>
                  <a:pt x="339" y="359"/>
                </a:cubicBezTo>
                <a:cubicBezTo>
                  <a:pt x="324" y="359"/>
                  <a:pt x="326" y="377"/>
                  <a:pt x="326" y="377"/>
                </a:cubicBezTo>
                <a:cubicBezTo>
                  <a:pt x="326" y="377"/>
                  <a:pt x="313" y="365"/>
                  <a:pt x="308" y="338"/>
                </a:cubicBezTo>
                <a:cubicBezTo>
                  <a:pt x="305" y="313"/>
                  <a:pt x="323" y="278"/>
                  <a:pt x="328" y="269"/>
                </a:cubicBezTo>
                <a:cubicBezTo>
                  <a:pt x="321" y="270"/>
                  <a:pt x="310" y="272"/>
                  <a:pt x="300" y="275"/>
                </a:cubicBezTo>
                <a:cubicBezTo>
                  <a:pt x="289" y="279"/>
                  <a:pt x="281" y="283"/>
                  <a:pt x="276" y="288"/>
                </a:cubicBezTo>
                <a:cubicBezTo>
                  <a:pt x="270" y="294"/>
                  <a:pt x="266" y="302"/>
                  <a:pt x="264" y="313"/>
                </a:cubicBezTo>
                <a:cubicBezTo>
                  <a:pt x="264" y="313"/>
                  <a:pt x="270" y="310"/>
                  <a:pt x="275" y="311"/>
                </a:cubicBezTo>
                <a:cubicBezTo>
                  <a:pt x="280" y="312"/>
                  <a:pt x="275" y="322"/>
                  <a:pt x="272" y="323"/>
                </a:cubicBezTo>
                <a:cubicBezTo>
                  <a:pt x="269" y="324"/>
                  <a:pt x="261" y="318"/>
                  <a:pt x="261" y="318"/>
                </a:cubicBezTo>
                <a:cubicBezTo>
                  <a:pt x="256" y="334"/>
                  <a:pt x="259" y="406"/>
                  <a:pt x="296" y="405"/>
                </a:cubicBezTo>
                <a:cubicBezTo>
                  <a:pt x="313" y="405"/>
                  <a:pt x="326" y="402"/>
                  <a:pt x="341" y="404"/>
                </a:cubicBezTo>
                <a:cubicBezTo>
                  <a:pt x="341" y="411"/>
                  <a:pt x="341" y="411"/>
                  <a:pt x="341" y="411"/>
                </a:cubicBezTo>
                <a:cubicBezTo>
                  <a:pt x="324" y="409"/>
                  <a:pt x="305" y="411"/>
                  <a:pt x="303" y="413"/>
                </a:cubicBezTo>
                <a:cubicBezTo>
                  <a:pt x="303" y="413"/>
                  <a:pt x="307" y="414"/>
                  <a:pt x="325" y="424"/>
                </a:cubicBezTo>
                <a:cubicBezTo>
                  <a:pt x="331" y="427"/>
                  <a:pt x="336" y="432"/>
                  <a:pt x="341" y="438"/>
                </a:cubicBezTo>
                <a:cubicBezTo>
                  <a:pt x="341" y="459"/>
                  <a:pt x="341" y="459"/>
                  <a:pt x="341" y="459"/>
                </a:cubicBezTo>
                <a:cubicBezTo>
                  <a:pt x="335" y="445"/>
                  <a:pt x="335" y="445"/>
                  <a:pt x="335" y="445"/>
                </a:cubicBezTo>
                <a:cubicBezTo>
                  <a:pt x="315" y="432"/>
                  <a:pt x="315" y="432"/>
                  <a:pt x="315" y="432"/>
                </a:cubicBezTo>
                <a:cubicBezTo>
                  <a:pt x="315" y="432"/>
                  <a:pt x="294" y="421"/>
                  <a:pt x="275" y="406"/>
                </a:cubicBezTo>
                <a:cubicBezTo>
                  <a:pt x="257" y="391"/>
                  <a:pt x="250" y="352"/>
                  <a:pt x="251" y="339"/>
                </a:cubicBezTo>
                <a:cubicBezTo>
                  <a:pt x="252" y="327"/>
                  <a:pt x="257" y="294"/>
                  <a:pt x="256" y="274"/>
                </a:cubicBezTo>
                <a:cubicBezTo>
                  <a:pt x="255" y="257"/>
                  <a:pt x="252" y="249"/>
                  <a:pt x="247" y="245"/>
                </a:cubicBezTo>
                <a:cubicBezTo>
                  <a:pt x="232" y="237"/>
                  <a:pt x="211" y="245"/>
                  <a:pt x="214" y="265"/>
                </a:cubicBezTo>
                <a:cubicBezTo>
                  <a:pt x="216" y="273"/>
                  <a:pt x="220" y="281"/>
                  <a:pt x="221" y="283"/>
                </a:cubicBezTo>
                <a:cubicBezTo>
                  <a:pt x="225" y="283"/>
                  <a:pt x="228" y="283"/>
                  <a:pt x="229" y="281"/>
                </a:cubicBezTo>
                <a:cubicBezTo>
                  <a:pt x="232" y="277"/>
                  <a:pt x="232" y="270"/>
                  <a:pt x="232" y="270"/>
                </a:cubicBezTo>
                <a:cubicBezTo>
                  <a:pt x="232" y="270"/>
                  <a:pt x="239" y="286"/>
                  <a:pt x="234" y="304"/>
                </a:cubicBezTo>
                <a:cubicBezTo>
                  <a:pt x="229" y="319"/>
                  <a:pt x="211" y="334"/>
                  <a:pt x="207" y="336"/>
                </a:cubicBezTo>
                <a:cubicBezTo>
                  <a:pt x="207" y="319"/>
                  <a:pt x="207" y="319"/>
                  <a:pt x="207" y="319"/>
                </a:cubicBezTo>
                <a:cubicBezTo>
                  <a:pt x="209" y="317"/>
                  <a:pt x="211" y="316"/>
                  <a:pt x="212" y="314"/>
                </a:cubicBezTo>
                <a:cubicBezTo>
                  <a:pt x="219" y="304"/>
                  <a:pt x="226" y="291"/>
                  <a:pt x="226" y="291"/>
                </a:cubicBezTo>
                <a:cubicBezTo>
                  <a:pt x="226" y="291"/>
                  <a:pt x="214" y="305"/>
                  <a:pt x="209" y="310"/>
                </a:cubicBezTo>
                <a:cubicBezTo>
                  <a:pt x="208" y="311"/>
                  <a:pt x="208" y="312"/>
                  <a:pt x="207" y="312"/>
                </a:cubicBezTo>
                <a:cubicBezTo>
                  <a:pt x="207" y="283"/>
                  <a:pt x="207" y="283"/>
                  <a:pt x="207" y="283"/>
                </a:cubicBezTo>
                <a:cubicBezTo>
                  <a:pt x="209" y="283"/>
                  <a:pt x="211" y="283"/>
                  <a:pt x="214" y="283"/>
                </a:cubicBezTo>
                <a:cubicBezTo>
                  <a:pt x="213" y="279"/>
                  <a:pt x="211" y="274"/>
                  <a:pt x="210" y="270"/>
                </a:cubicBezTo>
                <a:cubicBezTo>
                  <a:pt x="207" y="261"/>
                  <a:pt x="207" y="252"/>
                  <a:pt x="212" y="245"/>
                </a:cubicBezTo>
                <a:cubicBezTo>
                  <a:pt x="217" y="240"/>
                  <a:pt x="222" y="237"/>
                  <a:pt x="227" y="236"/>
                </a:cubicBezTo>
                <a:cubicBezTo>
                  <a:pt x="243" y="232"/>
                  <a:pt x="254" y="241"/>
                  <a:pt x="259" y="252"/>
                </a:cubicBezTo>
                <a:cubicBezTo>
                  <a:pt x="264" y="265"/>
                  <a:pt x="262" y="279"/>
                  <a:pt x="264" y="293"/>
                </a:cubicBezTo>
                <a:cubicBezTo>
                  <a:pt x="264" y="293"/>
                  <a:pt x="266" y="291"/>
                  <a:pt x="269" y="288"/>
                </a:cubicBezTo>
                <a:cubicBezTo>
                  <a:pt x="278" y="279"/>
                  <a:pt x="284" y="275"/>
                  <a:pt x="297" y="271"/>
                </a:cubicBezTo>
                <a:cubicBezTo>
                  <a:pt x="321" y="263"/>
                  <a:pt x="321" y="263"/>
                  <a:pt x="321" y="263"/>
                </a:cubicBezTo>
                <a:cubicBezTo>
                  <a:pt x="307" y="258"/>
                  <a:pt x="280" y="246"/>
                  <a:pt x="267" y="227"/>
                </a:cubicBezTo>
                <a:cubicBezTo>
                  <a:pt x="249" y="201"/>
                  <a:pt x="252" y="173"/>
                  <a:pt x="252" y="173"/>
                </a:cubicBezTo>
                <a:cubicBezTo>
                  <a:pt x="252" y="173"/>
                  <a:pt x="258" y="184"/>
                  <a:pt x="264" y="188"/>
                </a:cubicBezTo>
                <a:cubicBezTo>
                  <a:pt x="270" y="194"/>
                  <a:pt x="295" y="179"/>
                  <a:pt x="302" y="179"/>
                </a:cubicBezTo>
                <a:cubicBezTo>
                  <a:pt x="308" y="179"/>
                  <a:pt x="327" y="195"/>
                  <a:pt x="341" y="203"/>
                </a:cubicBezTo>
                <a:close/>
                <a:moveTo>
                  <a:pt x="207" y="391"/>
                </a:moveTo>
                <a:cubicBezTo>
                  <a:pt x="211" y="392"/>
                  <a:pt x="215" y="393"/>
                  <a:pt x="217" y="392"/>
                </a:cubicBezTo>
                <a:cubicBezTo>
                  <a:pt x="226" y="389"/>
                  <a:pt x="229" y="400"/>
                  <a:pt x="229" y="400"/>
                </a:cubicBezTo>
                <a:cubicBezTo>
                  <a:pt x="229" y="400"/>
                  <a:pt x="234" y="390"/>
                  <a:pt x="231" y="374"/>
                </a:cubicBezTo>
                <a:cubicBezTo>
                  <a:pt x="229" y="359"/>
                  <a:pt x="211" y="341"/>
                  <a:pt x="207" y="338"/>
                </a:cubicBezTo>
                <a:cubicBezTo>
                  <a:pt x="207" y="350"/>
                  <a:pt x="207" y="350"/>
                  <a:pt x="207" y="350"/>
                </a:cubicBezTo>
                <a:cubicBezTo>
                  <a:pt x="209" y="352"/>
                  <a:pt x="211" y="354"/>
                  <a:pt x="212" y="357"/>
                </a:cubicBezTo>
                <a:cubicBezTo>
                  <a:pt x="220" y="370"/>
                  <a:pt x="224" y="385"/>
                  <a:pt x="224" y="385"/>
                </a:cubicBezTo>
                <a:cubicBezTo>
                  <a:pt x="224" y="385"/>
                  <a:pt x="214" y="368"/>
                  <a:pt x="207" y="358"/>
                </a:cubicBezTo>
                <a:lnTo>
                  <a:pt x="207" y="391"/>
                </a:lnTo>
                <a:close/>
                <a:moveTo>
                  <a:pt x="207" y="283"/>
                </a:moveTo>
                <a:cubicBezTo>
                  <a:pt x="206" y="283"/>
                  <a:pt x="206" y="283"/>
                  <a:pt x="205" y="283"/>
                </a:cubicBezTo>
                <a:cubicBezTo>
                  <a:pt x="201" y="284"/>
                  <a:pt x="188" y="305"/>
                  <a:pt x="182" y="307"/>
                </a:cubicBezTo>
                <a:cubicBezTo>
                  <a:pt x="176" y="310"/>
                  <a:pt x="178" y="300"/>
                  <a:pt x="181" y="296"/>
                </a:cubicBezTo>
                <a:cubicBezTo>
                  <a:pt x="184" y="292"/>
                  <a:pt x="193" y="279"/>
                  <a:pt x="199" y="253"/>
                </a:cubicBezTo>
                <a:cubicBezTo>
                  <a:pt x="204" y="227"/>
                  <a:pt x="188" y="203"/>
                  <a:pt x="183" y="199"/>
                </a:cubicBezTo>
                <a:cubicBezTo>
                  <a:pt x="178" y="196"/>
                  <a:pt x="178" y="187"/>
                  <a:pt x="178" y="187"/>
                </a:cubicBezTo>
                <a:cubicBezTo>
                  <a:pt x="178" y="187"/>
                  <a:pt x="175" y="188"/>
                  <a:pt x="173" y="192"/>
                </a:cubicBezTo>
                <a:cubicBezTo>
                  <a:pt x="171" y="195"/>
                  <a:pt x="171" y="200"/>
                  <a:pt x="169" y="205"/>
                </a:cubicBezTo>
                <a:cubicBezTo>
                  <a:pt x="168" y="210"/>
                  <a:pt x="164" y="208"/>
                  <a:pt x="160" y="206"/>
                </a:cubicBezTo>
                <a:cubicBezTo>
                  <a:pt x="157" y="203"/>
                  <a:pt x="158" y="190"/>
                  <a:pt x="158" y="190"/>
                </a:cubicBezTo>
                <a:cubicBezTo>
                  <a:pt x="158" y="190"/>
                  <a:pt x="157" y="197"/>
                  <a:pt x="156" y="200"/>
                </a:cubicBezTo>
                <a:cubicBezTo>
                  <a:pt x="156" y="203"/>
                  <a:pt x="155" y="205"/>
                  <a:pt x="154" y="206"/>
                </a:cubicBezTo>
                <a:cubicBezTo>
                  <a:pt x="154" y="302"/>
                  <a:pt x="154" y="302"/>
                  <a:pt x="154" y="302"/>
                </a:cubicBezTo>
                <a:cubicBezTo>
                  <a:pt x="158" y="315"/>
                  <a:pt x="164" y="326"/>
                  <a:pt x="164" y="326"/>
                </a:cubicBezTo>
                <a:cubicBezTo>
                  <a:pt x="164" y="326"/>
                  <a:pt x="159" y="326"/>
                  <a:pt x="155" y="319"/>
                </a:cubicBezTo>
                <a:cubicBezTo>
                  <a:pt x="154" y="318"/>
                  <a:pt x="154" y="317"/>
                  <a:pt x="154" y="316"/>
                </a:cubicBezTo>
                <a:cubicBezTo>
                  <a:pt x="154" y="346"/>
                  <a:pt x="154" y="346"/>
                  <a:pt x="154" y="346"/>
                </a:cubicBezTo>
                <a:cubicBezTo>
                  <a:pt x="154" y="344"/>
                  <a:pt x="155" y="344"/>
                  <a:pt x="155" y="344"/>
                </a:cubicBezTo>
                <a:cubicBezTo>
                  <a:pt x="155" y="344"/>
                  <a:pt x="155" y="345"/>
                  <a:pt x="154" y="346"/>
                </a:cubicBezTo>
                <a:cubicBezTo>
                  <a:pt x="154" y="459"/>
                  <a:pt x="154" y="459"/>
                  <a:pt x="154" y="459"/>
                </a:cubicBezTo>
                <a:cubicBezTo>
                  <a:pt x="157" y="466"/>
                  <a:pt x="164" y="474"/>
                  <a:pt x="164" y="474"/>
                </a:cubicBezTo>
                <a:cubicBezTo>
                  <a:pt x="164" y="474"/>
                  <a:pt x="165" y="474"/>
                  <a:pt x="171" y="460"/>
                </a:cubicBezTo>
                <a:cubicBezTo>
                  <a:pt x="177" y="445"/>
                  <a:pt x="178" y="412"/>
                  <a:pt x="177" y="408"/>
                </a:cubicBezTo>
                <a:cubicBezTo>
                  <a:pt x="177" y="404"/>
                  <a:pt x="166" y="370"/>
                  <a:pt x="169" y="365"/>
                </a:cubicBezTo>
                <a:cubicBezTo>
                  <a:pt x="172" y="361"/>
                  <a:pt x="177" y="372"/>
                  <a:pt x="182" y="377"/>
                </a:cubicBezTo>
                <a:cubicBezTo>
                  <a:pt x="186" y="380"/>
                  <a:pt x="197" y="387"/>
                  <a:pt x="207" y="391"/>
                </a:cubicBezTo>
                <a:cubicBezTo>
                  <a:pt x="207" y="358"/>
                  <a:pt x="207" y="358"/>
                  <a:pt x="207" y="358"/>
                </a:cubicBezTo>
                <a:cubicBezTo>
                  <a:pt x="205" y="356"/>
                  <a:pt x="203" y="353"/>
                  <a:pt x="202" y="352"/>
                </a:cubicBezTo>
                <a:cubicBezTo>
                  <a:pt x="196" y="347"/>
                  <a:pt x="190" y="341"/>
                  <a:pt x="190" y="341"/>
                </a:cubicBezTo>
                <a:cubicBezTo>
                  <a:pt x="190" y="341"/>
                  <a:pt x="199" y="343"/>
                  <a:pt x="207" y="350"/>
                </a:cubicBezTo>
                <a:cubicBezTo>
                  <a:pt x="207" y="338"/>
                  <a:pt x="207" y="338"/>
                  <a:pt x="207" y="338"/>
                </a:cubicBezTo>
                <a:cubicBezTo>
                  <a:pt x="206" y="337"/>
                  <a:pt x="206" y="337"/>
                  <a:pt x="206" y="337"/>
                </a:cubicBezTo>
                <a:cubicBezTo>
                  <a:pt x="206" y="337"/>
                  <a:pt x="206" y="337"/>
                  <a:pt x="207" y="336"/>
                </a:cubicBezTo>
                <a:cubicBezTo>
                  <a:pt x="207" y="319"/>
                  <a:pt x="207" y="319"/>
                  <a:pt x="207" y="319"/>
                </a:cubicBezTo>
                <a:cubicBezTo>
                  <a:pt x="197" y="326"/>
                  <a:pt x="180" y="330"/>
                  <a:pt x="180" y="330"/>
                </a:cubicBezTo>
                <a:cubicBezTo>
                  <a:pt x="182" y="328"/>
                  <a:pt x="182" y="328"/>
                  <a:pt x="182" y="328"/>
                </a:cubicBezTo>
                <a:cubicBezTo>
                  <a:pt x="182" y="328"/>
                  <a:pt x="199" y="318"/>
                  <a:pt x="207" y="312"/>
                </a:cubicBezTo>
                <a:lnTo>
                  <a:pt x="207" y="283"/>
                </a:lnTo>
                <a:close/>
                <a:moveTo>
                  <a:pt x="154" y="206"/>
                </a:moveTo>
                <a:cubicBezTo>
                  <a:pt x="152" y="207"/>
                  <a:pt x="151" y="208"/>
                  <a:pt x="149" y="206"/>
                </a:cubicBezTo>
                <a:cubicBezTo>
                  <a:pt x="144" y="204"/>
                  <a:pt x="147" y="189"/>
                  <a:pt x="147" y="189"/>
                </a:cubicBezTo>
                <a:cubicBezTo>
                  <a:pt x="147" y="189"/>
                  <a:pt x="144" y="192"/>
                  <a:pt x="141" y="197"/>
                </a:cubicBezTo>
                <a:cubicBezTo>
                  <a:pt x="141" y="314"/>
                  <a:pt x="141" y="314"/>
                  <a:pt x="141" y="314"/>
                </a:cubicBezTo>
                <a:cubicBezTo>
                  <a:pt x="141" y="314"/>
                  <a:pt x="141" y="314"/>
                  <a:pt x="142" y="315"/>
                </a:cubicBezTo>
                <a:cubicBezTo>
                  <a:pt x="147" y="319"/>
                  <a:pt x="145" y="333"/>
                  <a:pt x="145" y="333"/>
                </a:cubicBezTo>
                <a:cubicBezTo>
                  <a:pt x="145" y="333"/>
                  <a:pt x="143" y="332"/>
                  <a:pt x="141" y="331"/>
                </a:cubicBezTo>
                <a:cubicBezTo>
                  <a:pt x="141" y="359"/>
                  <a:pt x="141" y="359"/>
                  <a:pt x="141" y="359"/>
                </a:cubicBezTo>
                <a:cubicBezTo>
                  <a:pt x="146" y="353"/>
                  <a:pt x="151" y="348"/>
                  <a:pt x="154" y="346"/>
                </a:cubicBezTo>
                <a:cubicBezTo>
                  <a:pt x="154" y="316"/>
                  <a:pt x="154" y="316"/>
                  <a:pt x="154" y="316"/>
                </a:cubicBezTo>
                <a:cubicBezTo>
                  <a:pt x="151" y="308"/>
                  <a:pt x="148" y="293"/>
                  <a:pt x="144" y="282"/>
                </a:cubicBezTo>
                <a:cubicBezTo>
                  <a:pt x="141" y="270"/>
                  <a:pt x="152" y="250"/>
                  <a:pt x="152" y="250"/>
                </a:cubicBezTo>
                <a:cubicBezTo>
                  <a:pt x="152" y="250"/>
                  <a:pt x="149" y="253"/>
                  <a:pt x="148" y="273"/>
                </a:cubicBezTo>
                <a:cubicBezTo>
                  <a:pt x="147" y="281"/>
                  <a:pt x="150" y="292"/>
                  <a:pt x="154" y="302"/>
                </a:cubicBezTo>
                <a:cubicBezTo>
                  <a:pt x="154" y="206"/>
                  <a:pt x="154" y="206"/>
                  <a:pt x="154" y="206"/>
                </a:cubicBezTo>
                <a:close/>
                <a:moveTo>
                  <a:pt x="141" y="452"/>
                </a:moveTo>
                <a:cubicBezTo>
                  <a:pt x="141" y="370"/>
                  <a:pt x="141" y="370"/>
                  <a:pt x="141" y="370"/>
                </a:cubicBezTo>
                <a:cubicBezTo>
                  <a:pt x="147" y="357"/>
                  <a:pt x="151" y="350"/>
                  <a:pt x="154" y="346"/>
                </a:cubicBezTo>
                <a:cubicBezTo>
                  <a:pt x="154" y="459"/>
                  <a:pt x="154" y="459"/>
                  <a:pt x="154" y="459"/>
                </a:cubicBezTo>
                <a:cubicBezTo>
                  <a:pt x="153" y="458"/>
                  <a:pt x="152" y="456"/>
                  <a:pt x="152" y="456"/>
                </a:cubicBezTo>
                <a:cubicBezTo>
                  <a:pt x="150" y="450"/>
                  <a:pt x="152" y="439"/>
                  <a:pt x="146" y="442"/>
                </a:cubicBezTo>
                <a:cubicBezTo>
                  <a:pt x="144" y="443"/>
                  <a:pt x="142" y="448"/>
                  <a:pt x="141" y="452"/>
                </a:cubicBezTo>
                <a:close/>
                <a:moveTo>
                  <a:pt x="141" y="197"/>
                </a:moveTo>
                <a:cubicBezTo>
                  <a:pt x="136" y="203"/>
                  <a:pt x="130" y="212"/>
                  <a:pt x="125" y="219"/>
                </a:cubicBezTo>
                <a:cubicBezTo>
                  <a:pt x="116" y="231"/>
                  <a:pt x="116" y="248"/>
                  <a:pt x="116" y="266"/>
                </a:cubicBezTo>
                <a:cubicBezTo>
                  <a:pt x="116" y="284"/>
                  <a:pt x="135" y="309"/>
                  <a:pt x="141" y="314"/>
                </a:cubicBezTo>
                <a:cubicBezTo>
                  <a:pt x="141" y="197"/>
                  <a:pt x="141" y="197"/>
                  <a:pt x="141" y="197"/>
                </a:cubicBezTo>
                <a:close/>
                <a:moveTo>
                  <a:pt x="141" y="331"/>
                </a:moveTo>
                <a:cubicBezTo>
                  <a:pt x="141" y="359"/>
                  <a:pt x="141" y="359"/>
                  <a:pt x="141" y="359"/>
                </a:cubicBezTo>
                <a:cubicBezTo>
                  <a:pt x="136" y="365"/>
                  <a:pt x="132" y="373"/>
                  <a:pt x="130" y="380"/>
                </a:cubicBezTo>
                <a:cubicBezTo>
                  <a:pt x="126" y="397"/>
                  <a:pt x="127" y="417"/>
                  <a:pt x="127" y="417"/>
                </a:cubicBezTo>
                <a:cubicBezTo>
                  <a:pt x="127" y="417"/>
                  <a:pt x="131" y="393"/>
                  <a:pt x="140" y="373"/>
                </a:cubicBezTo>
                <a:cubicBezTo>
                  <a:pt x="140" y="372"/>
                  <a:pt x="141" y="371"/>
                  <a:pt x="141" y="370"/>
                </a:cubicBezTo>
                <a:cubicBezTo>
                  <a:pt x="141" y="452"/>
                  <a:pt x="141" y="452"/>
                  <a:pt x="141" y="452"/>
                </a:cubicBezTo>
                <a:cubicBezTo>
                  <a:pt x="139" y="461"/>
                  <a:pt x="138" y="472"/>
                  <a:pt x="138" y="472"/>
                </a:cubicBezTo>
                <a:cubicBezTo>
                  <a:pt x="138" y="472"/>
                  <a:pt x="104" y="468"/>
                  <a:pt x="99" y="440"/>
                </a:cubicBezTo>
                <a:cubicBezTo>
                  <a:pt x="94" y="411"/>
                  <a:pt x="96" y="395"/>
                  <a:pt x="107" y="381"/>
                </a:cubicBezTo>
                <a:cubicBezTo>
                  <a:pt x="117" y="367"/>
                  <a:pt x="140" y="347"/>
                  <a:pt x="140" y="347"/>
                </a:cubicBezTo>
                <a:cubicBezTo>
                  <a:pt x="140" y="347"/>
                  <a:pt x="135" y="334"/>
                  <a:pt x="127" y="343"/>
                </a:cubicBezTo>
                <a:cubicBezTo>
                  <a:pt x="118" y="351"/>
                  <a:pt x="104" y="378"/>
                  <a:pt x="91" y="385"/>
                </a:cubicBezTo>
                <a:cubicBezTo>
                  <a:pt x="89" y="386"/>
                  <a:pt x="86" y="387"/>
                  <a:pt x="84" y="387"/>
                </a:cubicBezTo>
                <a:cubicBezTo>
                  <a:pt x="84" y="345"/>
                  <a:pt x="84" y="345"/>
                  <a:pt x="84" y="345"/>
                </a:cubicBezTo>
                <a:cubicBezTo>
                  <a:pt x="97" y="344"/>
                  <a:pt x="114" y="341"/>
                  <a:pt x="114" y="341"/>
                </a:cubicBezTo>
                <a:cubicBezTo>
                  <a:pt x="123" y="336"/>
                  <a:pt x="123" y="336"/>
                  <a:pt x="123" y="336"/>
                </a:cubicBezTo>
                <a:cubicBezTo>
                  <a:pt x="123" y="336"/>
                  <a:pt x="104" y="340"/>
                  <a:pt x="84" y="340"/>
                </a:cubicBezTo>
                <a:cubicBezTo>
                  <a:pt x="84" y="288"/>
                  <a:pt x="84" y="288"/>
                  <a:pt x="84" y="288"/>
                </a:cubicBezTo>
                <a:cubicBezTo>
                  <a:pt x="85" y="288"/>
                  <a:pt x="86" y="288"/>
                  <a:pt x="86" y="288"/>
                </a:cubicBezTo>
                <a:cubicBezTo>
                  <a:pt x="100" y="291"/>
                  <a:pt x="113" y="294"/>
                  <a:pt x="119" y="305"/>
                </a:cubicBezTo>
                <a:cubicBezTo>
                  <a:pt x="126" y="315"/>
                  <a:pt x="128" y="326"/>
                  <a:pt x="131" y="328"/>
                </a:cubicBezTo>
                <a:cubicBezTo>
                  <a:pt x="133" y="329"/>
                  <a:pt x="138" y="331"/>
                  <a:pt x="141" y="331"/>
                </a:cubicBezTo>
                <a:close/>
                <a:moveTo>
                  <a:pt x="84" y="288"/>
                </a:moveTo>
                <a:cubicBezTo>
                  <a:pt x="71" y="286"/>
                  <a:pt x="53" y="291"/>
                  <a:pt x="52" y="291"/>
                </a:cubicBezTo>
                <a:cubicBezTo>
                  <a:pt x="50" y="291"/>
                  <a:pt x="42" y="283"/>
                  <a:pt x="42" y="283"/>
                </a:cubicBezTo>
                <a:cubicBezTo>
                  <a:pt x="42" y="283"/>
                  <a:pt x="43" y="286"/>
                  <a:pt x="46" y="290"/>
                </a:cubicBezTo>
                <a:cubicBezTo>
                  <a:pt x="48" y="294"/>
                  <a:pt x="54" y="300"/>
                  <a:pt x="59" y="302"/>
                </a:cubicBezTo>
                <a:cubicBezTo>
                  <a:pt x="63" y="304"/>
                  <a:pt x="81" y="314"/>
                  <a:pt x="81" y="314"/>
                </a:cubicBezTo>
                <a:cubicBezTo>
                  <a:pt x="81" y="314"/>
                  <a:pt x="74" y="313"/>
                  <a:pt x="73" y="313"/>
                </a:cubicBezTo>
                <a:cubicBezTo>
                  <a:pt x="73" y="313"/>
                  <a:pt x="56" y="314"/>
                  <a:pt x="48" y="316"/>
                </a:cubicBezTo>
                <a:cubicBezTo>
                  <a:pt x="40" y="318"/>
                  <a:pt x="35" y="324"/>
                  <a:pt x="33" y="329"/>
                </a:cubicBezTo>
                <a:cubicBezTo>
                  <a:pt x="31" y="334"/>
                  <a:pt x="25" y="335"/>
                  <a:pt x="20" y="335"/>
                </a:cubicBezTo>
                <a:cubicBezTo>
                  <a:pt x="10" y="336"/>
                  <a:pt x="4" y="327"/>
                  <a:pt x="8" y="318"/>
                </a:cubicBezTo>
                <a:cubicBezTo>
                  <a:pt x="9" y="314"/>
                  <a:pt x="11" y="311"/>
                  <a:pt x="11" y="311"/>
                </a:cubicBezTo>
                <a:cubicBezTo>
                  <a:pt x="11" y="311"/>
                  <a:pt x="15" y="313"/>
                  <a:pt x="18" y="312"/>
                </a:cubicBezTo>
                <a:cubicBezTo>
                  <a:pt x="21" y="312"/>
                  <a:pt x="22" y="311"/>
                  <a:pt x="21" y="305"/>
                </a:cubicBezTo>
                <a:cubicBezTo>
                  <a:pt x="19" y="299"/>
                  <a:pt x="12" y="302"/>
                  <a:pt x="10" y="304"/>
                </a:cubicBezTo>
                <a:cubicBezTo>
                  <a:pt x="8" y="307"/>
                  <a:pt x="9" y="310"/>
                  <a:pt x="9" y="310"/>
                </a:cubicBezTo>
                <a:cubicBezTo>
                  <a:pt x="0" y="319"/>
                  <a:pt x="3" y="336"/>
                  <a:pt x="19" y="338"/>
                </a:cubicBezTo>
                <a:cubicBezTo>
                  <a:pt x="19" y="338"/>
                  <a:pt x="19" y="340"/>
                  <a:pt x="25" y="347"/>
                </a:cubicBezTo>
                <a:cubicBezTo>
                  <a:pt x="42" y="369"/>
                  <a:pt x="61" y="356"/>
                  <a:pt x="76" y="365"/>
                </a:cubicBezTo>
                <a:cubicBezTo>
                  <a:pt x="78" y="365"/>
                  <a:pt x="78" y="366"/>
                  <a:pt x="78" y="367"/>
                </a:cubicBezTo>
                <a:cubicBezTo>
                  <a:pt x="75" y="373"/>
                  <a:pt x="64" y="371"/>
                  <a:pt x="55" y="374"/>
                </a:cubicBezTo>
                <a:cubicBezTo>
                  <a:pt x="47" y="376"/>
                  <a:pt x="48" y="388"/>
                  <a:pt x="48" y="388"/>
                </a:cubicBezTo>
                <a:cubicBezTo>
                  <a:pt x="48" y="388"/>
                  <a:pt x="53" y="382"/>
                  <a:pt x="60" y="384"/>
                </a:cubicBezTo>
                <a:cubicBezTo>
                  <a:pt x="65" y="385"/>
                  <a:pt x="74" y="390"/>
                  <a:pt x="84" y="387"/>
                </a:cubicBezTo>
                <a:cubicBezTo>
                  <a:pt x="84" y="345"/>
                  <a:pt x="84" y="345"/>
                  <a:pt x="84" y="345"/>
                </a:cubicBezTo>
                <a:cubicBezTo>
                  <a:pt x="82" y="345"/>
                  <a:pt x="81" y="345"/>
                  <a:pt x="79" y="346"/>
                </a:cubicBezTo>
                <a:cubicBezTo>
                  <a:pt x="66" y="346"/>
                  <a:pt x="46" y="340"/>
                  <a:pt x="46" y="340"/>
                </a:cubicBezTo>
                <a:cubicBezTo>
                  <a:pt x="46" y="340"/>
                  <a:pt x="59" y="340"/>
                  <a:pt x="80" y="340"/>
                </a:cubicBezTo>
                <a:cubicBezTo>
                  <a:pt x="82" y="340"/>
                  <a:pt x="83" y="340"/>
                  <a:pt x="84" y="340"/>
                </a:cubicBezTo>
                <a:lnTo>
                  <a:pt x="84" y="288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reeform 1281"/>
          <p:cNvSpPr/>
          <p:nvPr/>
        </p:nvSpPr>
        <p:spPr>
          <a:xfrm>
            <a:off x="54000" y="9684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Freeform 1281"/>
          <p:cNvSpPr/>
          <p:nvPr/>
        </p:nvSpPr>
        <p:spPr>
          <a:xfrm>
            <a:off x="54000" y="9684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1281"/>
          <p:cNvSpPr/>
          <p:nvPr/>
        </p:nvSpPr>
        <p:spPr>
          <a:xfrm>
            <a:off x="52560" y="96840"/>
            <a:ext cx="925200" cy="817560"/>
          </a:xfrm>
          <a:custGeom>
            <a:avLst/>
            <a:gdLst>
              <a:gd name="textAreaLeft" fmla="*/ 0 w 925200"/>
              <a:gd name="textAreaRight" fmla="*/ 925560 w 92520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solidFill>
            <a:srgbClr val="ff99cc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1281"/>
          <p:cNvSpPr/>
          <p:nvPr/>
        </p:nvSpPr>
        <p:spPr>
          <a:xfrm>
            <a:off x="54000" y="9684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solidFill>
            <a:srgbClr val="ff99cc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Freeform 1281"/>
          <p:cNvSpPr/>
          <p:nvPr/>
        </p:nvSpPr>
        <p:spPr>
          <a:xfrm>
            <a:off x="54000" y="9684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solidFill>
            <a:srgbClr val="ff99cc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1281"/>
          <p:cNvSpPr/>
          <p:nvPr/>
        </p:nvSpPr>
        <p:spPr>
          <a:xfrm>
            <a:off x="54000" y="9684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1281"/>
          <p:cNvSpPr/>
          <p:nvPr/>
        </p:nvSpPr>
        <p:spPr>
          <a:xfrm>
            <a:off x="54000" y="9684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1281"/>
          <p:cNvSpPr/>
          <p:nvPr/>
        </p:nvSpPr>
        <p:spPr>
          <a:xfrm>
            <a:off x="52560" y="96840"/>
            <a:ext cx="925200" cy="817560"/>
          </a:xfrm>
          <a:custGeom>
            <a:avLst/>
            <a:gdLst>
              <a:gd name="textAreaLeft" fmla="*/ 0 w 925200"/>
              <a:gd name="textAreaRight" fmla="*/ 925560 w 92520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solidFill>
            <a:srgbClr val="ff99cc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Freeform 1281"/>
          <p:cNvSpPr/>
          <p:nvPr/>
        </p:nvSpPr>
        <p:spPr>
          <a:xfrm>
            <a:off x="54000" y="9684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solidFill>
            <a:srgbClr val="ff99cc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1281"/>
          <p:cNvSpPr/>
          <p:nvPr/>
        </p:nvSpPr>
        <p:spPr>
          <a:xfrm>
            <a:off x="65160" y="7632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solidFill>
            <a:srgbClr val="ff99cc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03.mp3" descr=""/>
          <p:cNvPicPr/>
          <p:nvPr/>
        </p:nvPicPr>
        <p:blipFill>
          <a:blip r:embed="rId6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5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21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8" presetSubtype="9">
                                  <p:stCondLst>
                                    <p:cond delay="88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8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8" presetSubtype="9">
                                  <p:stCondLst>
                                    <p:cond delay="88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1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path" presetID="0" repeatCount="indefinite">
                                  <p:stCondLst>
                                    <p:cond delay="9800"/>
                                  </p:stCondLst>
                                  <p:childTnLst>
                                    <p:animMotion origin="layout" path="M 0 0 C -0.01632 0.03608 -0.03264 0.07216 -0.03281 0.10222 C -0.03299 0.13228 -0.01719 0.15055 -0.00139 0.18062 C 0.01441 0.21068 0.04809 0.24052 0.06163 0.28284 C 0.07517 0.32516 0.08438 0.36494 0.07951 0.43432 C 0.07465 0.5037 0.04097 0.64061 0.03281 0.69889 C 0.02465 0.75717 0.02743 0.77081 0.03021 0.78469 E">
                                      <p:cBhvr>
                                        <p:cTn id="23" dur="6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" nodeType="withEffect" fill="hold" presetClass="emph" presetID="6" repeatCount="indefinite">
                                  <p:stCondLst>
                                    <p:cond delay="9800"/>
                                  </p:stCondLst>
                                  <p:childTnLst>
                                    <p:animScale>
                                      <p:cBhvr>
                                        <p:cTn id="25" dur="6000" fill="hold"/>
                                        <p:tgtEl>
                                          <p:spTgt spid="45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26" nodeType="withEffect" fill="hold" presetClass="emph" presetID="8" repeatCount="indefinite">
                                  <p:stCondLst>
                                    <p:cond delay="9800"/>
                                  </p:stCondLst>
                                  <p:childTnLst>
                                    <p:animRot by="10800000">
                                      <p:cBhvr>
                                        <p:cTn id="27" dur="6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0" repeatCount="indefinite">
                                  <p:stCondLst>
                                    <p:cond delay="12300"/>
                                  </p:stCondLst>
                                  <p:childTnLst>
                                    <p:animMotion origin="layout" path="M -3.05556E-006 -3.64477E-006 C -0.00885 0.05296 -0.01771 0.10592 -0.01771 0.15981 C -0.01771 0.21346 -0.0085 0.26573 -3.05556E-006 0.32332 C 0.00851 0.38067 0.0099 0.44149 0.03299 0.50394 C 0.05608 0.56661 0.11893 0.64801 0.13837 0.6982 C 0.15782 0.74838 0.15 0.78816 0.14931 0.80458 E">
                                      <p:cBhvr>
                                        <p:cTn id="32" dur="55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6" repeatCount="indefinite">
                                  <p:stCondLst>
                                    <p:cond delay="12400"/>
                                  </p:stCondLst>
                                  <p:childTnLst>
                                    <p:animScale>
                                      <p:cBhvr>
                                        <p:cTn id="34" dur="5500" fill="hold"/>
                                        <p:tgtEl>
                                          <p:spTgt spid="46"/>
                                        </p:tgtEl>
                                      </p:cBhvr>
                                      <p:to x="45000" y="45000"/>
                                    </p:animScale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8" repeatCount="indefinite">
                                  <p:stCondLst>
                                    <p:cond delay="12400"/>
                                  </p:stCondLst>
                                  <p:childTnLst>
                                    <p:animRot by="-5400000">
                                      <p:cBhvr>
                                        <p:cTn id="36" dur="5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path" presetID="0" repeatCount="indefinite">
                                  <p:stCondLst>
                                    <p:cond delay="13400"/>
                                  </p:stCondLst>
                                  <p:childTnLst>
                                    <p:animMotion origin="layout" path="M 0 0 C 0.01805 0.06637 0.03611 0.13298 0.03698 0.23173 C 0.03785 0.33048 0.02448 0.49561 0.00538 0.59297 C -0.01372 0.69033 -0.06215 0.7759 -0.07813 0.81568 C -0.0941 0.85546 -0.09149 0.82817 -0.09045 0.8321 E">
                                      <p:cBhvr>
                                        <p:cTn id="41" dur="45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" nodeType="withEffect" fill="hold" presetClass="emph" presetID="6" repeatCount="indefinite">
                                  <p:stCondLst>
                                    <p:cond delay="13400"/>
                                  </p:stCondLst>
                                  <p:childTnLst>
                                    <p:animScale>
                                      <p:cBhvr>
                                        <p:cTn id="43" dur="4500" fill="hold"/>
                                        <p:tgtEl>
                                          <p:spTgt spid="47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44" nodeType="withEffect" fill="hold" presetClass="emph" presetID="8" repeatCount="indefinite">
                                  <p:stCondLst>
                                    <p:cond delay="13400"/>
                                  </p:stCondLst>
                                  <p:childTnLst>
                                    <p:animRot by="-10800000">
                                      <p:cBhvr>
                                        <p:cTn id="45" dur="4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path" presetID="0" repeatCount="indefinite">
                                  <p:stCondLst>
                                    <p:cond delay="14200"/>
                                  </p:stCondLst>
                                  <p:childTnLst>
                                    <p:animMotion origin="layout" path="M 2.5E-006 3.9593E-006 C 0.00139 0.07076 0.00278 0.14176 2.5E-006 0.19495 C -0.00278 0.24815 -0.00712 0.27428 -0.0165 0.31845 C -0.02587 0.36285 -0.05139 0.40333 -0.05625 0.46114 C -0.06111 0.51919 -0.05747 0.60522 -0.04531 0.66605 C -0.03316 0.7271 0.00416 0.80203 0.01632 0.82655 E">
                                      <p:cBhvr>
                                        <p:cTn id="50" dur="5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emph" presetID="6" repeatCount="indefinite">
                                  <p:stCondLst>
                                    <p:cond delay="14200"/>
                                  </p:stCondLst>
                                  <p:childTnLst>
                                    <p:animScale>
                                      <p:cBhvr>
                                        <p:cTn id="52" dur="5000" fill="hold"/>
                                        <p:tgtEl>
                                          <p:spTgt spid="48"/>
                                        </p:tgtEl>
                                      </p:cBhvr>
                                      <p:to x="35000" y="35000"/>
                                    </p:animScale>
                                  </p:childTnLst>
                                </p:cTn>
                              </p:par>
                              <p:par>
                                <p:cTn id="53" nodeType="withEffect" fill="hold" presetClass="emph" presetID="8" repeatCount="indefinite">
                                  <p:stCondLst>
                                    <p:cond delay="14200"/>
                                  </p:stCondLst>
                                  <p:childTnLst>
                                    <p:animRot by="-10800000">
                                      <p:cBhvr>
                                        <p:cTn id="54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path" presetID="0" repeatCount="indefinite">
                                  <p:stCondLst>
                                    <p:cond delay="15000"/>
                                  </p:stCondLst>
                                  <p:childTnLst>
                                    <p:animMotion origin="layout" path="M 4.44444E-006 2.55319E-006 C 0.02413 0.13136 0.04826 0.26318 0.05208 0.35661 C 0.0559 0.44981 0.02708 0.50717 0.02326 0.55897 C 0.01944 0.61077 0.01927 0.61725 0.02882 0.6672 C 0.03836 0.71669 0.07187 0.82585 0.08072 0.85777 E">
                                      <p:cBhvr>
                                        <p:cTn id="59" dur="7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" nodeType="withEffect" fill="hold" presetClass="emph" presetID="6" repeatCount="indefinite">
                                  <p:stCondLst>
                                    <p:cond delay="15000"/>
                                  </p:stCondLst>
                                  <p:childTnLst>
                                    <p:animScale>
                                      <p:cBhvr>
                                        <p:cTn id="61" dur="7000" fill="hold"/>
                                        <p:tgtEl>
                                          <p:spTgt spid="49"/>
                                        </p:tgtEl>
                                      </p:cBhvr>
                                      <p:to x="45000" y="45000"/>
                                    </p:animScale>
                                  </p:childTnLst>
                                </p:cTn>
                              </p:par>
                              <p:par>
                                <p:cTn id="62" nodeType="withEffect" fill="hold" presetClass="emph" presetID="8" repeatCount="indefinite">
                                  <p:stCondLst>
                                    <p:cond delay="15000"/>
                                  </p:stCondLst>
                                  <p:childTnLst>
                                    <p:animRot by="5400000">
                                      <p:cBhvr>
                                        <p:cTn id="63" dur="7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8" presetSubtype="9">
                                  <p:stCondLst>
                                    <p:cond delay="88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path" presetID="0" repeatCount="indefinite">
                                  <p:stCondLst>
                                    <p:cond delay="9800"/>
                                  </p:stCondLst>
                                  <p:childTnLst>
                                    <p:animMotion origin="layout" path="M 0 0 C -0.01632 0.03608 -0.03264 0.07216 -0.03281 0.10222 C -0.03299 0.13228 -0.01719 0.15055 -0.00139 0.18062 C 0.01441 0.21068 0.04809 0.24052 0.06163 0.28284 C 0.07517 0.32516 0.08438 0.36494 0.07951 0.43432 C 0.07465 0.5037 0.04097 0.64061 0.03281 0.69889 C 0.02465 0.75717 0.02743 0.77081 0.03021 0.78469 E">
                                      <p:cBhvr>
                                        <p:cTn id="68" dur="6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nodeType="withEffect" fill="hold" presetClass="emph" presetID="6" repeatCount="indefinite">
                                  <p:stCondLst>
                                    <p:cond delay="9800"/>
                                  </p:stCondLst>
                                  <p:childTnLst>
                                    <p:animScale>
                                      <p:cBhvr>
                                        <p:cTn id="70" dur="6000" fill="hold"/>
                                        <p:tgtEl>
                                          <p:spTgt spid="50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71" nodeType="withEffect" fill="hold" presetClass="emph" presetID="8" repeatCount="indefinite">
                                  <p:stCondLst>
                                    <p:cond delay="9800"/>
                                  </p:stCondLst>
                                  <p:childTnLst>
                                    <p:animRot by="10800000">
                                      <p:cBhvr>
                                        <p:cTn id="72" dur="6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path" presetID="0" repeatCount="indefinite">
                                  <p:stCondLst>
                                    <p:cond delay="12300"/>
                                  </p:stCondLst>
                                  <p:childTnLst>
                                    <p:animMotion origin="layout" path="M -3.05556E-006 -3.64477E-006 C -0.00885 0.05296 -0.01771 0.10592 -0.01771 0.15981 C -0.01771 0.21346 -0.0085 0.26573 -3.05556E-006 0.32332 C 0.00851 0.38067 0.0099 0.44149 0.03299 0.50394 C 0.05608 0.56661 0.11893 0.64801 0.13837 0.6982 C 0.15782 0.74838 0.15 0.78816 0.14931 0.80458 E">
                                      <p:cBhvr>
                                        <p:cTn id="77" dur="55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8" nodeType="withEffect" fill="hold" presetClass="emph" presetID="6" repeatCount="indefinite">
                                  <p:stCondLst>
                                    <p:cond delay="12400"/>
                                  </p:stCondLst>
                                  <p:childTnLst>
                                    <p:animScale>
                                      <p:cBhvr>
                                        <p:cTn id="79" dur="5500" fill="hold"/>
                                        <p:tgtEl>
                                          <p:spTgt spid="51"/>
                                        </p:tgtEl>
                                      </p:cBhvr>
                                      <p:to x="45000" y="45000"/>
                                    </p:animScale>
                                  </p:childTnLst>
                                </p:cTn>
                              </p:par>
                              <p:par>
                                <p:cTn id="80" nodeType="withEffect" fill="hold" presetClass="emph" presetID="8" repeatCount="indefinite">
                                  <p:stCondLst>
                                    <p:cond delay="12400"/>
                                  </p:stCondLst>
                                  <p:childTnLst>
                                    <p:animRot by="-5400000">
                                      <p:cBhvr>
                                        <p:cTn id="81" dur="5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path" presetID="0" repeatCount="indefinite">
                                  <p:stCondLst>
                                    <p:cond delay="13400"/>
                                  </p:stCondLst>
                                  <p:childTnLst>
                                    <p:animMotion origin="layout" path="M 0 0 C 0.01805 0.06637 0.03611 0.13298 0.03698 0.23173 C 0.03785 0.33048 0.02448 0.49561 0.00538 0.59297 C -0.01372 0.69033 -0.06215 0.7759 -0.07813 0.81568 C -0.0941 0.85546 -0.09149 0.82817 -0.09045 0.8321 E">
                                      <p:cBhvr>
                                        <p:cTn id="86" dur="45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6" repeatCount="indefinite">
                                  <p:stCondLst>
                                    <p:cond delay="13400"/>
                                  </p:stCondLst>
                                  <p:childTnLst>
                                    <p:animScale>
                                      <p:cBhvr>
                                        <p:cTn id="88" dur="4500" fill="hold"/>
                                        <p:tgtEl>
                                          <p:spTgt spid="52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8" repeatCount="indefinite">
                                  <p:stCondLst>
                                    <p:cond delay="13400"/>
                                  </p:stCondLst>
                                  <p:childTnLst>
                                    <p:animRot by="-10800000">
                                      <p:cBhvr>
                                        <p:cTn id="90" dur="4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path" presetID="0" repeatCount="indefinite">
                                  <p:stCondLst>
                                    <p:cond delay="15000"/>
                                  </p:stCondLst>
                                  <p:childTnLst>
                                    <p:animMotion origin="layout" path="M 4.44444E-006 2.55319E-006 C 0.02413 0.13136 0.04826 0.26318 0.05208 0.35661 C 0.0559 0.44981 0.02708 0.50717 0.02326 0.55897 C 0.01944 0.61077 0.01927 0.61725 0.02882 0.6672 C 0.03836 0.71669 0.07187 0.82585 0.08072 0.85777 E">
                                      <p:cBhvr>
                                        <p:cTn id="95" dur="7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6" nodeType="withEffect" fill="hold" presetClass="emph" presetID="6" repeatCount="indefinite">
                                  <p:stCondLst>
                                    <p:cond delay="15000"/>
                                  </p:stCondLst>
                                  <p:childTnLst>
                                    <p:animScale>
                                      <p:cBhvr>
                                        <p:cTn id="97" dur="7000" fill="hold"/>
                                        <p:tgtEl>
                                          <p:spTgt spid="53"/>
                                        </p:tgtEl>
                                      </p:cBhvr>
                                      <p:to x="45000" y="45000"/>
                                    </p:animScale>
                                  </p:childTnLst>
                                </p:cTn>
                              </p:par>
                              <p:par>
                                <p:cTn id="98" nodeType="withEffect" fill="hold" presetClass="emph" presetID="8" repeatCount="indefinite">
                                  <p:stCondLst>
                                    <p:cond delay="15000"/>
                                  </p:stCondLst>
                                  <p:childTnLst>
                                    <p:animRot by="5400000">
                                      <p:cBhvr>
                                        <p:cTn id="99" dur="7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path" presetID="0" repeatCount="indefinite">
                                  <p:stCondLst>
                                    <p:cond delay="15000"/>
                                  </p:stCondLst>
                                  <p:childTnLst>
                                    <p:animMotion origin="layout" path="M 4.44444E-006 2.55319E-006 C 0.02413 0.13136 0.04826 0.26318 0.05208 0.35661 C 0.0559 0.44981 0.02708 0.50717 0.02326 0.55897 C 0.01944 0.61077 0.01927 0.61725 0.02882 0.6672 C 0.03836 0.71669 0.07187 0.82585 0.08072 0.85777 E">
                                      <p:cBhvr>
                                        <p:cTn id="104" dur="7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6" repeatCount="indefinite">
                                  <p:stCondLst>
                                    <p:cond delay="15000"/>
                                  </p:stCondLst>
                                  <p:childTnLst>
                                    <p:animScale>
                                      <p:cBhvr>
                                        <p:cTn id="106" dur="7000" fill="hold"/>
                                        <p:tgtEl>
                                          <p:spTgt spid="54"/>
                                        </p:tgtEl>
                                      </p:cBhvr>
                                      <p:to x="45000" y="45000"/>
                                    </p:animScale>
                                  </p:childTnLst>
                                </p:cTn>
                              </p:par>
                              <p:par>
                                <p:cTn id="107" nodeType="withEffect" fill="hold" presetClass="emph" presetID="8" repeatCount="indefinite">
                                  <p:stCondLst>
                                    <p:cond delay="15000"/>
                                  </p:stCondLst>
                                  <p:childTnLst>
                                    <p:animRot by="5400000">
                                      <p:cBhvr>
                                        <p:cTn id="108" dur="7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1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2" descr="海纹"/>
          <p:cNvPicPr/>
          <p:nvPr/>
        </p:nvPicPr>
        <p:blipFill>
          <a:blip r:embed="rId1">
            <a:alphaModFix amt="53000"/>
          </a:blip>
          <a:stretch/>
        </p:blipFill>
        <p:spPr>
          <a:xfrm>
            <a:off x="0" y="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4"/>
          <p:cNvSpPr/>
          <p:nvPr/>
        </p:nvSpPr>
        <p:spPr>
          <a:xfrm>
            <a:off x="0" y="685800"/>
            <a:ext cx="6095880" cy="5486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6095880" y="685800"/>
            <a:ext cx="3048120" cy="5486400"/>
          </a:xfrm>
          <a:prstGeom prst="rect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8458200" y="1293480"/>
            <a:ext cx="38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隶书"/>
              </a:rPr>
              <a:t>桃花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7848720" y="1295280"/>
            <a:ext cx="457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桃花坞里桃花庵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桃花庵下桃花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7391520" y="1295280"/>
            <a:ext cx="457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桃花仙人种桃树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摘得桃花换酒钱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6934320" y="1295280"/>
            <a:ext cx="4572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世人笑我太疯颠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我笑世人看不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6477120" y="1274760"/>
            <a:ext cx="457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不见无陵豪杰墓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无花无酒锄作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1281"/>
          <p:cNvSpPr/>
          <p:nvPr/>
        </p:nvSpPr>
        <p:spPr>
          <a:xfrm>
            <a:off x="8218440" y="2052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1281"/>
          <p:cNvSpPr/>
          <p:nvPr/>
        </p:nvSpPr>
        <p:spPr>
          <a:xfrm>
            <a:off x="8218440" y="2052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1281"/>
          <p:cNvSpPr/>
          <p:nvPr/>
        </p:nvSpPr>
        <p:spPr>
          <a:xfrm>
            <a:off x="8217000" y="2052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solidFill>
            <a:srgbClr val="ff99cc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1281"/>
          <p:cNvSpPr/>
          <p:nvPr/>
        </p:nvSpPr>
        <p:spPr>
          <a:xfrm>
            <a:off x="8218440" y="2052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solidFill>
            <a:srgbClr val="ff99cc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1281"/>
          <p:cNvSpPr/>
          <p:nvPr/>
        </p:nvSpPr>
        <p:spPr>
          <a:xfrm>
            <a:off x="8218440" y="2052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solidFill>
            <a:srgbClr val="ff99cc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1281"/>
          <p:cNvSpPr/>
          <p:nvPr/>
        </p:nvSpPr>
        <p:spPr>
          <a:xfrm>
            <a:off x="8218440" y="2052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1281"/>
          <p:cNvSpPr/>
          <p:nvPr/>
        </p:nvSpPr>
        <p:spPr>
          <a:xfrm>
            <a:off x="8218440" y="2052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1281"/>
          <p:cNvSpPr/>
          <p:nvPr/>
        </p:nvSpPr>
        <p:spPr>
          <a:xfrm>
            <a:off x="8217000" y="2052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solidFill>
            <a:srgbClr val="ff99cc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1281"/>
          <p:cNvSpPr/>
          <p:nvPr/>
        </p:nvSpPr>
        <p:spPr>
          <a:xfrm>
            <a:off x="8218440" y="2052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solidFill>
            <a:srgbClr val="ff99cc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1281"/>
          <p:cNvSpPr/>
          <p:nvPr/>
        </p:nvSpPr>
        <p:spPr>
          <a:xfrm>
            <a:off x="8229600" y="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solidFill>
            <a:srgbClr val="ff99cc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3" descr="海纹"/>
          <p:cNvPicPr/>
          <p:nvPr/>
        </p:nvPicPr>
        <p:blipFill>
          <a:blip r:embed="rId8">
            <a:alphaModFix amt="53000"/>
          </a:blip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8" presetSubtype="9">
                                  <p:stCondLst>
                                    <p:cond delay="88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2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path" presetID="0" repeatCount="indefinite">
                                  <p:stCondLst>
                                    <p:cond delay="9800"/>
                                  </p:stCondLst>
                                  <p:childTnLst>
                                    <p:animMotion origin="layout" path="M 0 0 C -0.01632 0.03608 -0.03264 0.07216 -0.03281 0.10222 C -0.03299 0.13228 -0.01719 0.15055 -0.00139 0.18062 C 0.01441 0.21068 0.04809 0.24052 0.06163 0.28284 C 0.07517 0.32516 0.08438 0.36494 0.07951 0.43432 C 0.07465 0.5037 0.04097 0.64061 0.03281 0.69889 C 0.02465 0.75717 0.02743 0.77081 0.03021 0.78469 E">
                                      <p:cBhvr>
                                        <p:cTn id="126" dur="6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" nodeType="withEffect" fill="hold" presetClass="emph" presetID="6" repeatCount="indefinite">
                                  <p:stCondLst>
                                    <p:cond delay="9800"/>
                                  </p:stCondLst>
                                  <p:childTnLst>
                                    <p:animScale>
                                      <p:cBhvr>
                                        <p:cTn id="128" dur="6000" fill="hold"/>
                                        <p:tgtEl>
                                          <p:spTgt spid="66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8" repeatCount="indefinite">
                                  <p:stCondLst>
                                    <p:cond delay="9800"/>
                                  </p:stCondLst>
                                  <p:childTnLst>
                                    <p:animRot by="10800000">
                                      <p:cBhvr>
                                        <p:cTn id="130" dur="6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0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path" presetID="0" repeatCount="indefinite">
                                  <p:stCondLst>
                                    <p:cond delay="12300"/>
                                  </p:stCondLst>
                                  <p:childTnLst>
                                    <p:animMotion origin="layout" path="M -3.05556E-006 -3.64477E-006 C -0.00885 0.05296 -0.01771 0.10592 -0.01771 0.15981 C -0.01771 0.21346 -0.0085 0.26573 -3.05556E-006 0.32332 C 0.00851 0.38067 0.0099 0.44149 0.03299 0.50394 C 0.05608 0.56661 0.11893 0.64801 0.13837 0.6982 C 0.15782 0.74838 0.15 0.78816 0.14931 0.80458 E">
                                      <p:cBhvr>
                                        <p:cTn id="135" dur="55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" nodeType="withEffect" fill="hold" presetClass="emph" presetID="6" repeatCount="indefinite">
                                  <p:stCondLst>
                                    <p:cond delay="12400"/>
                                  </p:stCondLst>
                                  <p:childTnLst>
                                    <p:animScale>
                                      <p:cBhvr>
                                        <p:cTn id="137" dur="5500" fill="hold"/>
                                        <p:tgtEl>
                                          <p:spTgt spid="67"/>
                                        </p:tgtEl>
                                      </p:cBhvr>
                                      <p:to x="45000" y="45000"/>
                                    </p:animScale>
                                  </p:childTnLst>
                                </p:cTn>
                              </p:par>
                              <p:par>
                                <p:cTn id="138" nodeType="withEffect" fill="hold" presetClass="emph" presetID="8" repeatCount="indefinite">
                                  <p:stCondLst>
                                    <p:cond delay="12400"/>
                                  </p:stCondLst>
                                  <p:childTnLst>
                                    <p:animRot by="-5400000">
                                      <p:cBhvr>
                                        <p:cTn id="139" dur="5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path" presetID="0" repeatCount="indefinite">
                                  <p:stCondLst>
                                    <p:cond delay="13400"/>
                                  </p:stCondLst>
                                  <p:childTnLst>
                                    <p:animMotion origin="layout" path="M 0 0 C 0.01805 0.06637 0.03611 0.13298 0.03698 0.23173 C 0.03785 0.33048 0.02448 0.49561 0.00538 0.59297 C -0.01372 0.69033 -0.06215 0.7759 -0.07813 0.81568 C -0.0941 0.85546 -0.09149 0.82817 -0.09045 0.8321 E">
                                      <p:cBhvr>
                                        <p:cTn id="144" dur="45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5" nodeType="withEffect" fill="hold" presetClass="emph" presetID="6" repeatCount="indefinite">
                                  <p:stCondLst>
                                    <p:cond delay="13400"/>
                                  </p:stCondLst>
                                  <p:childTnLst>
                                    <p:animScale>
                                      <p:cBhvr>
                                        <p:cTn id="146" dur="4500" fill="hold"/>
                                        <p:tgtEl>
                                          <p:spTgt spid="68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147" nodeType="withEffect" fill="hold" presetClass="emph" presetID="8" repeatCount="indefinite">
                                  <p:stCondLst>
                                    <p:cond delay="13400"/>
                                  </p:stCondLst>
                                  <p:childTnLst>
                                    <p:animRot by="-10800000">
                                      <p:cBhvr>
                                        <p:cTn id="148" dur="4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path" presetID="0" repeatCount="indefinite">
                                  <p:stCondLst>
                                    <p:cond delay="14200"/>
                                  </p:stCondLst>
                                  <p:childTnLst>
                                    <p:animMotion origin="layout" path="M 2.5E-006 3.9593E-006 C 0.00139 0.07076 0.00278 0.14176 2.5E-006 0.19495 C -0.00278 0.24815 -0.00712 0.27428 -0.0165 0.31845 C -0.02587 0.36285 -0.05139 0.40333 -0.05625 0.46114 C -0.06111 0.51919 -0.05747 0.60522 -0.04531 0.66605 C -0.03316 0.7271 0.00416 0.80203 0.01632 0.82655 E">
                                      <p:cBhvr>
                                        <p:cTn id="153" dur="5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4" nodeType="withEffect" fill="hold" presetClass="emph" presetID="6" repeatCount="indefinite">
                                  <p:stCondLst>
                                    <p:cond delay="14200"/>
                                  </p:stCondLst>
                                  <p:childTnLst>
                                    <p:animScale>
                                      <p:cBhvr>
                                        <p:cTn id="155" dur="5000" fill="hold"/>
                                        <p:tgtEl>
                                          <p:spTgt spid="69"/>
                                        </p:tgtEl>
                                      </p:cBhvr>
                                      <p:to x="35000" y="35000"/>
                                    </p:animScale>
                                  </p:childTnLst>
                                </p:cTn>
                              </p:par>
                              <p:par>
                                <p:cTn id="156" nodeType="withEffect" fill="hold" presetClass="emph" presetID="8" repeatCount="indefinite">
                                  <p:stCondLst>
                                    <p:cond delay="14200"/>
                                  </p:stCondLst>
                                  <p:childTnLst>
                                    <p:animRot by="-10800000">
                                      <p:cBhvr>
                                        <p:cTn id="157" dur="5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path" presetID="0" repeatCount="indefinite">
                                  <p:stCondLst>
                                    <p:cond delay="15000"/>
                                  </p:stCondLst>
                                  <p:childTnLst>
                                    <p:animMotion origin="layout" path="M 4.44444E-006 2.55319E-006 C 0.02413 0.13136 0.04826 0.26318 0.05208 0.35661 C 0.0559 0.44981 0.02708 0.50717 0.02326 0.55897 C 0.01944 0.61077 0.01927 0.61725 0.02882 0.6672 C 0.03836 0.71669 0.07187 0.82585 0.08072 0.85777 E">
                                      <p:cBhvr>
                                        <p:cTn id="162" dur="7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3" nodeType="withEffect" fill="hold" presetClass="emph" presetID="6" repeatCount="indefinite">
                                  <p:stCondLst>
                                    <p:cond delay="15000"/>
                                  </p:stCondLst>
                                  <p:childTnLst>
                                    <p:animScale>
                                      <p:cBhvr>
                                        <p:cTn id="164" dur="7000" fill="hold"/>
                                        <p:tgtEl>
                                          <p:spTgt spid="70"/>
                                        </p:tgtEl>
                                      </p:cBhvr>
                                      <p:to x="45000" y="45000"/>
                                    </p:animScale>
                                  </p:childTnLst>
                                </p:cTn>
                              </p:par>
                              <p:par>
                                <p:cTn id="165" nodeType="withEffect" fill="hold" presetClass="emph" presetID="8" repeatCount="indefinite">
                                  <p:stCondLst>
                                    <p:cond delay="15000"/>
                                  </p:stCondLst>
                                  <p:childTnLst>
                                    <p:animRot by="5400000">
                                      <p:cBhvr>
                                        <p:cTn id="166" dur="7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8" presetSubtype="9">
                                  <p:stCondLst>
                                    <p:cond delay="88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6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path" presetID="0" repeatCount="indefinite">
                                  <p:stCondLst>
                                    <p:cond delay="9800"/>
                                  </p:stCondLst>
                                  <p:childTnLst>
                                    <p:animMotion origin="layout" path="M 0 0 C -0.01632 0.03608 -0.03264 0.07216 -0.03281 0.10222 C -0.03299 0.13228 -0.01719 0.15055 -0.00139 0.18062 C 0.01441 0.21068 0.04809 0.24052 0.06163 0.28284 C 0.07517 0.32516 0.08438 0.36494 0.07951 0.43432 C 0.07465 0.5037 0.04097 0.64061 0.03281 0.69889 C 0.02465 0.75717 0.02743 0.77081 0.03021 0.78469 E">
                                      <p:cBhvr>
                                        <p:cTn id="171" dur="6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2" nodeType="withEffect" fill="hold" presetClass="emph" presetID="6" repeatCount="indefinite">
                                  <p:stCondLst>
                                    <p:cond delay="9800"/>
                                  </p:stCondLst>
                                  <p:childTnLst>
                                    <p:animScale>
                                      <p:cBhvr>
                                        <p:cTn id="173" dur="6000" fill="hold"/>
                                        <p:tgtEl>
                                          <p:spTgt spid="71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174" nodeType="withEffect" fill="hold" presetClass="emph" presetID="8" repeatCount="indefinite">
                                  <p:stCondLst>
                                    <p:cond delay="9800"/>
                                  </p:stCondLst>
                                  <p:childTnLst>
                                    <p:animRot by="10800000">
                                      <p:cBhvr>
                                        <p:cTn id="175" dur="6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path" presetID="0" repeatCount="indefinite">
                                  <p:stCondLst>
                                    <p:cond delay="12300"/>
                                  </p:stCondLst>
                                  <p:childTnLst>
                                    <p:animMotion origin="layout" path="M -3.05556E-006 -3.64477E-006 C -0.00885 0.05296 -0.01771 0.10592 -0.01771 0.15981 C -0.01771 0.21346 -0.0085 0.26573 -3.05556E-006 0.32332 C 0.00851 0.38067 0.0099 0.44149 0.03299 0.50394 C 0.05608 0.56661 0.11893 0.64801 0.13837 0.6982 C 0.15782 0.74838 0.15 0.78816 0.14931 0.80458 E">
                                      <p:cBhvr>
                                        <p:cTn id="180" dur="55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1" nodeType="withEffect" fill="hold" presetClass="emph" presetID="6" repeatCount="indefinite">
                                  <p:stCondLst>
                                    <p:cond delay="12400"/>
                                  </p:stCondLst>
                                  <p:childTnLst>
                                    <p:animScale>
                                      <p:cBhvr>
                                        <p:cTn id="182" dur="5500" fill="hold"/>
                                        <p:tgtEl>
                                          <p:spTgt spid="72"/>
                                        </p:tgtEl>
                                      </p:cBhvr>
                                      <p:to x="45000" y="45000"/>
                                    </p:animScale>
                                  </p:childTnLst>
                                </p:cTn>
                              </p:par>
                              <p:par>
                                <p:cTn id="183" nodeType="withEffect" fill="hold" presetClass="emph" presetID="8" repeatCount="indefinite">
                                  <p:stCondLst>
                                    <p:cond delay="12400"/>
                                  </p:stCondLst>
                                  <p:childTnLst>
                                    <p:animRot by="-5400000">
                                      <p:cBhvr>
                                        <p:cTn id="184" dur="5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path" presetID="0" repeatCount="indefinite">
                                  <p:stCondLst>
                                    <p:cond delay="13400"/>
                                  </p:stCondLst>
                                  <p:childTnLst>
                                    <p:animMotion origin="layout" path="M 0 0 C 0.01805 0.06637 0.03611 0.13298 0.03698 0.23173 C 0.03785 0.33048 0.02448 0.49561 0.00538 0.59297 C -0.01372 0.69033 -0.06215 0.7759 -0.07813 0.81568 C -0.0941 0.85546 -0.09149 0.82817 -0.09045 0.8321 E">
                                      <p:cBhvr>
                                        <p:cTn id="189" dur="45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0" nodeType="withEffect" fill="hold" presetClass="emph" presetID="6" repeatCount="indefinite">
                                  <p:stCondLst>
                                    <p:cond delay="13400"/>
                                  </p:stCondLst>
                                  <p:childTnLst>
                                    <p:animScale>
                                      <p:cBhvr>
                                        <p:cTn id="191" dur="4500" fill="hold"/>
                                        <p:tgtEl>
                                          <p:spTgt spid="73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192" nodeType="withEffect" fill="hold" presetClass="emph" presetID="8" repeatCount="indefinite">
                                  <p:stCondLst>
                                    <p:cond delay="13400"/>
                                  </p:stCondLst>
                                  <p:childTnLst>
                                    <p:animRot by="-10800000">
                                      <p:cBhvr>
                                        <p:cTn id="193" dur="4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0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path" presetID="0" repeatCount="indefinite">
                                  <p:stCondLst>
                                    <p:cond delay="15000"/>
                                  </p:stCondLst>
                                  <p:childTnLst>
                                    <p:animMotion origin="layout" path="M 4.44444E-006 2.55319E-006 C 0.02413 0.13136 0.04826 0.26318 0.05208 0.35661 C 0.0559 0.44981 0.02708 0.50717 0.02326 0.55897 C 0.01944 0.61077 0.01927 0.61725 0.02882 0.6672 C 0.03836 0.71669 0.07187 0.82585 0.08072 0.85777 E">
                                      <p:cBhvr>
                                        <p:cTn id="198" dur="7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6" repeatCount="indefinite">
                                  <p:stCondLst>
                                    <p:cond delay="15000"/>
                                  </p:stCondLst>
                                  <p:childTnLst>
                                    <p:animScale>
                                      <p:cBhvr>
                                        <p:cTn id="200" dur="7000" fill="hold"/>
                                        <p:tgtEl>
                                          <p:spTgt spid="74"/>
                                        </p:tgtEl>
                                      </p:cBhvr>
                                      <p:to x="45000" y="45000"/>
                                    </p:animScale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8" repeatCount="indefinite">
                                  <p:stCondLst>
                                    <p:cond delay="15000"/>
                                  </p:stCondLst>
                                  <p:childTnLst>
                                    <p:animRot by="5400000">
                                      <p:cBhvr>
                                        <p:cTn id="202" dur="7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path" presetID="0" repeatCount="indefinite">
                                  <p:stCondLst>
                                    <p:cond delay="15000"/>
                                  </p:stCondLst>
                                  <p:childTnLst>
                                    <p:animMotion origin="layout" path="M 4.44444E-006 2.55319E-006 C 0.02413 0.13136 0.04826 0.26318 0.05208 0.35661 C 0.0559 0.44981 0.02708 0.50717 0.02326 0.55897 C 0.01944 0.61077 0.01927 0.61725 0.02882 0.6672 C 0.03836 0.71669 0.07187 0.82585 0.08072 0.85777 E">
                                      <p:cBhvr>
                                        <p:cTn id="207" dur="7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8" nodeType="withEffect" fill="hold" presetClass="emph" presetID="6" repeatCount="indefinite">
                                  <p:stCondLst>
                                    <p:cond delay="15000"/>
                                  </p:stCondLst>
                                  <p:childTnLst>
                                    <p:animScale>
                                      <p:cBhvr>
                                        <p:cTn id="209" dur="7000" fill="hold"/>
                                        <p:tgtEl>
                                          <p:spTgt spid="75"/>
                                        </p:tgtEl>
                                      </p:cBhvr>
                                      <p:to x="45000" y="45000"/>
                                    </p:animScale>
                                  </p:childTnLst>
                                </p:cTn>
                              </p:par>
                              <p:par>
                                <p:cTn id="210" nodeType="withEffect" fill="hold" presetClass="emph" presetID="8" repeatCount="indefinite">
                                  <p:stCondLst>
                                    <p:cond delay="15000"/>
                                  </p:stCondLst>
                                  <p:childTnLst>
                                    <p:animRot by="5400000">
                                      <p:cBhvr>
                                        <p:cTn id="211" dur="7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0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1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5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4250"/>
                            </p:stCondLst>
                            <p:childTnLst>
                              <p:par>
                                <p:cTn id="234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7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5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40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2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14750"/>
                            </p:stCondLst>
                            <p:childTnLst>
                              <p:par>
                                <p:cTn id="246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8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9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0" y="685800"/>
            <a:ext cx="6095880" cy="54864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6095880" y="685800"/>
            <a:ext cx="3048120" cy="54864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5"/>
          <p:cNvSpPr/>
          <p:nvPr/>
        </p:nvSpPr>
        <p:spPr>
          <a:xfrm>
            <a:off x="8381880" y="1341000"/>
            <a:ext cx="381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隶书"/>
              </a:rPr>
              <a:t>题城南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7848720" y="1295280"/>
            <a:ext cx="457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去年今日此门中，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7391520" y="129528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人面桃花相映红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6934320" y="1295280"/>
            <a:ext cx="457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人面不知何处去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6477120" y="1274760"/>
            <a:ext cx="457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桃花依旧笑春风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1281"/>
          <p:cNvSpPr/>
          <p:nvPr/>
        </p:nvSpPr>
        <p:spPr>
          <a:xfrm>
            <a:off x="8218440" y="2052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1281"/>
          <p:cNvSpPr/>
          <p:nvPr/>
        </p:nvSpPr>
        <p:spPr>
          <a:xfrm>
            <a:off x="8218440" y="2052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1281"/>
          <p:cNvSpPr/>
          <p:nvPr/>
        </p:nvSpPr>
        <p:spPr>
          <a:xfrm>
            <a:off x="8217000" y="2052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solidFill>
            <a:srgbClr val="ff99cc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1281"/>
          <p:cNvSpPr/>
          <p:nvPr/>
        </p:nvSpPr>
        <p:spPr>
          <a:xfrm>
            <a:off x="8218440" y="2052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solidFill>
            <a:srgbClr val="ff99cc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1281"/>
          <p:cNvSpPr/>
          <p:nvPr/>
        </p:nvSpPr>
        <p:spPr>
          <a:xfrm>
            <a:off x="8218440" y="2052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solidFill>
            <a:srgbClr val="ff99cc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1281"/>
          <p:cNvSpPr/>
          <p:nvPr/>
        </p:nvSpPr>
        <p:spPr>
          <a:xfrm>
            <a:off x="8218440" y="2052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1281"/>
          <p:cNvSpPr/>
          <p:nvPr/>
        </p:nvSpPr>
        <p:spPr>
          <a:xfrm>
            <a:off x="8218440" y="2052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1281"/>
          <p:cNvSpPr/>
          <p:nvPr/>
        </p:nvSpPr>
        <p:spPr>
          <a:xfrm>
            <a:off x="8217000" y="2052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solidFill>
            <a:srgbClr val="ff99cc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1281"/>
          <p:cNvSpPr/>
          <p:nvPr/>
        </p:nvSpPr>
        <p:spPr>
          <a:xfrm>
            <a:off x="8218440" y="2052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solidFill>
            <a:srgbClr val="ff99cc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1281"/>
          <p:cNvSpPr/>
          <p:nvPr/>
        </p:nvSpPr>
        <p:spPr>
          <a:xfrm>
            <a:off x="8229600" y="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solidFill>
            <a:srgbClr val="ff99cc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0" descr="海纹"/>
          <p:cNvPicPr/>
          <p:nvPr/>
        </p:nvPicPr>
        <p:blipFill>
          <a:blip r:embed="rId7">
            <a:alphaModFix amt="53000"/>
          </a:blip>
          <a:stretch/>
        </p:blipFill>
        <p:spPr>
          <a:xfrm>
            <a:off x="0" y="0"/>
            <a:ext cx="9144000" cy="6858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1" descr="海纹"/>
          <p:cNvPicPr/>
          <p:nvPr/>
        </p:nvPicPr>
        <p:blipFill>
          <a:blip r:embed="rId8">
            <a:alphaModFix amt="53000"/>
          </a:blip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0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8" presetSubtype="9">
                                  <p:stCondLst>
                                    <p:cond delay="88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6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path" presetID="0" repeatCount="indefinite">
                                  <p:stCondLst>
                                    <p:cond delay="9800"/>
                                  </p:stCondLst>
                                  <p:childTnLst>
                                    <p:animMotion origin="layout" path="M 0 0 C -0.01632 0.03608 -0.03264 0.07216 -0.03281 0.10222 C -0.03299 0.13228 -0.01719 0.15055 -0.00139 0.18062 C 0.01441 0.21068 0.04809 0.24052 0.06163 0.28284 C 0.07517 0.32516 0.08438 0.36494 0.07951 0.43432 C 0.07465 0.5037 0.04097 0.64061 0.03281 0.69889 C 0.02465 0.75717 0.02743 0.77081 0.03021 0.78469 E">
                                      <p:cBhvr>
                                        <p:cTn id="266" dur="6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6" repeatCount="indefinite">
                                  <p:stCondLst>
                                    <p:cond delay="9800"/>
                                  </p:stCondLst>
                                  <p:childTnLst>
                                    <p:animScale>
                                      <p:cBhvr>
                                        <p:cTn id="268" dur="6000" fill="hold"/>
                                        <p:tgtEl>
                                          <p:spTgt spid="85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8" repeatCount="indefinite">
                                  <p:stCondLst>
                                    <p:cond delay="9800"/>
                                  </p:stCondLst>
                                  <p:childTnLst>
                                    <p:animRot by="10800000">
                                      <p:cBhvr>
                                        <p:cTn id="270" dur="6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0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path" presetID="0" repeatCount="indefinite">
                                  <p:stCondLst>
                                    <p:cond delay="12300"/>
                                  </p:stCondLst>
                                  <p:childTnLst>
                                    <p:animMotion origin="layout" path="M -3.05556E-006 -3.64477E-006 C -0.00885 0.05296 -0.01771 0.10592 -0.01771 0.15981 C -0.01771 0.21346 -0.0085 0.26573 -3.05556E-006 0.32332 C 0.00851 0.38067 0.0099 0.44149 0.03299 0.50394 C 0.05608 0.56661 0.11893 0.64801 0.13837 0.6982 C 0.15782 0.74838 0.15 0.78816 0.14931 0.80458 E">
                                      <p:cBhvr>
                                        <p:cTn id="275" dur="55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6" nodeType="withEffect" fill="hold" presetClass="emph" presetID="6" repeatCount="indefinite">
                                  <p:stCondLst>
                                    <p:cond delay="12400"/>
                                  </p:stCondLst>
                                  <p:childTnLst>
                                    <p:animScale>
                                      <p:cBhvr>
                                        <p:cTn id="277" dur="5500" fill="hold"/>
                                        <p:tgtEl>
                                          <p:spTgt spid="86"/>
                                        </p:tgtEl>
                                      </p:cBhvr>
                                      <p:to x="45000" y="45000"/>
                                    </p:animScale>
                                  </p:childTnLst>
                                </p:cTn>
                              </p:par>
                              <p:par>
                                <p:cTn id="278" nodeType="withEffect" fill="hold" presetClass="emph" presetID="8" repeatCount="indefinite">
                                  <p:stCondLst>
                                    <p:cond delay="12400"/>
                                  </p:stCondLst>
                                  <p:childTnLst>
                                    <p:animRot by="-5400000">
                                      <p:cBhvr>
                                        <p:cTn id="279" dur="5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0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path" presetID="0" repeatCount="indefinite">
                                  <p:stCondLst>
                                    <p:cond delay="13400"/>
                                  </p:stCondLst>
                                  <p:childTnLst>
                                    <p:animMotion origin="layout" path="M 0 0 C 0.01805 0.06637 0.03611 0.13298 0.03698 0.23173 C 0.03785 0.33048 0.02448 0.49561 0.00538 0.59297 C -0.01372 0.69033 -0.06215 0.7759 -0.07813 0.81568 C -0.0941 0.85546 -0.09149 0.82817 -0.09045 0.8321 E">
                                      <p:cBhvr>
                                        <p:cTn id="284" dur="45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5" nodeType="withEffect" fill="hold" presetClass="emph" presetID="6" repeatCount="indefinite">
                                  <p:stCondLst>
                                    <p:cond delay="13400"/>
                                  </p:stCondLst>
                                  <p:childTnLst>
                                    <p:animScale>
                                      <p:cBhvr>
                                        <p:cTn id="286" dur="4500" fill="hold"/>
                                        <p:tgtEl>
                                          <p:spTgt spid="87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287" nodeType="withEffect" fill="hold" presetClass="emph" presetID="8" repeatCount="indefinite">
                                  <p:stCondLst>
                                    <p:cond delay="13400"/>
                                  </p:stCondLst>
                                  <p:childTnLst>
                                    <p:animRot by="-10800000">
                                      <p:cBhvr>
                                        <p:cTn id="288" dur="4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10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path" presetID="0" repeatCount="indefinite">
                                  <p:stCondLst>
                                    <p:cond delay="14200"/>
                                  </p:stCondLst>
                                  <p:childTnLst>
                                    <p:animMotion origin="layout" path="M 2.5E-006 3.9593E-006 C 0.00139 0.07076 0.00278 0.14176 2.5E-006 0.19495 C -0.00278 0.24815 -0.00712 0.27428 -0.0165 0.31845 C -0.02587 0.36285 -0.05139 0.40333 -0.05625 0.46114 C -0.06111 0.51919 -0.05747 0.60522 -0.04531 0.66605 C -0.03316 0.7271 0.00416 0.80203 0.01632 0.82655 E">
                                      <p:cBhvr>
                                        <p:cTn id="293" dur="5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4" nodeType="withEffect" fill="hold" presetClass="emph" presetID="6" repeatCount="indefinite">
                                  <p:stCondLst>
                                    <p:cond delay="14200"/>
                                  </p:stCondLst>
                                  <p:childTnLst>
                                    <p:animScale>
                                      <p:cBhvr>
                                        <p:cTn id="295" dur="5000" fill="hold"/>
                                        <p:tgtEl>
                                          <p:spTgt spid="88"/>
                                        </p:tgtEl>
                                      </p:cBhvr>
                                      <p:to x="35000" y="35000"/>
                                    </p:animScale>
                                  </p:childTnLst>
                                </p:cTn>
                              </p:par>
                              <p:par>
                                <p:cTn id="296" nodeType="withEffect" fill="hold" presetClass="emph" presetID="8" repeatCount="indefinite">
                                  <p:stCondLst>
                                    <p:cond delay="14200"/>
                                  </p:stCondLst>
                                  <p:childTnLst>
                                    <p:animRot by="-10800000">
                                      <p:cBhvr>
                                        <p:cTn id="297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0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path" presetID="0" repeatCount="indefinite">
                                  <p:stCondLst>
                                    <p:cond delay="15000"/>
                                  </p:stCondLst>
                                  <p:childTnLst>
                                    <p:animMotion origin="layout" path="M 4.44444E-006 2.55319E-006 C 0.02413 0.13136 0.04826 0.26318 0.05208 0.35661 C 0.0559 0.44981 0.02708 0.50717 0.02326 0.55897 C 0.01944 0.61077 0.01927 0.61725 0.02882 0.6672 C 0.03836 0.71669 0.07187 0.82585 0.08072 0.85777 E">
                                      <p:cBhvr>
                                        <p:cTn id="302" dur="7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3" nodeType="withEffect" fill="hold" presetClass="emph" presetID="6" repeatCount="indefinite">
                                  <p:stCondLst>
                                    <p:cond delay="15000"/>
                                  </p:stCondLst>
                                  <p:childTnLst>
                                    <p:animScale>
                                      <p:cBhvr>
                                        <p:cTn id="304" dur="7000" fill="hold"/>
                                        <p:tgtEl>
                                          <p:spTgt spid="89"/>
                                        </p:tgtEl>
                                      </p:cBhvr>
                                      <p:to x="45000" y="45000"/>
                                    </p:animScale>
                                  </p:childTnLst>
                                </p:cTn>
                              </p:par>
                              <p:par>
                                <p:cTn id="305" nodeType="withEffect" fill="hold" presetClass="emph" presetID="8" repeatCount="indefinite">
                                  <p:stCondLst>
                                    <p:cond delay="15000"/>
                                  </p:stCondLst>
                                  <p:childTnLst>
                                    <p:animRot by="5400000">
                                      <p:cBhvr>
                                        <p:cTn id="306" dur="7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8" presetSubtype="9">
                                  <p:stCondLst>
                                    <p:cond delay="88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09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path" presetID="0" repeatCount="indefinite">
                                  <p:stCondLst>
                                    <p:cond delay="9800"/>
                                  </p:stCondLst>
                                  <p:childTnLst>
                                    <p:animMotion origin="layout" path="M 0 0 C -0.01632 0.03608 -0.03264 0.07216 -0.03281 0.10222 C -0.03299 0.13228 -0.01719 0.15055 -0.00139 0.18062 C 0.01441 0.21068 0.04809 0.24052 0.06163 0.28284 C 0.07517 0.32516 0.08438 0.36494 0.07951 0.43432 C 0.07465 0.5037 0.04097 0.64061 0.03281 0.69889 C 0.02465 0.75717 0.02743 0.77081 0.03021 0.78469 E">
                                      <p:cBhvr>
                                        <p:cTn id="311" dur="6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2" nodeType="withEffect" fill="hold" presetClass="emph" presetID="6" repeatCount="indefinite">
                                  <p:stCondLst>
                                    <p:cond delay="9800"/>
                                  </p:stCondLst>
                                  <p:childTnLst>
                                    <p:animScale>
                                      <p:cBhvr>
                                        <p:cTn id="313" dur="6000" fill="hold"/>
                                        <p:tgtEl>
                                          <p:spTgt spid="90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314" nodeType="withEffect" fill="hold" presetClass="emph" presetID="8" repeatCount="indefinite">
                                  <p:stCondLst>
                                    <p:cond delay="9800"/>
                                  </p:stCondLst>
                                  <p:childTnLst>
                                    <p:animRot by="10800000">
                                      <p:cBhvr>
                                        <p:cTn id="315" dur="6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0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path" presetID="0" repeatCount="indefinite">
                                  <p:stCondLst>
                                    <p:cond delay="12300"/>
                                  </p:stCondLst>
                                  <p:childTnLst>
                                    <p:animMotion origin="layout" path="M -3.05556E-006 -3.64477E-006 C -0.00885 0.05296 -0.01771 0.10592 -0.01771 0.15981 C -0.01771 0.21346 -0.0085 0.26573 -3.05556E-006 0.32332 C 0.00851 0.38067 0.0099 0.44149 0.03299 0.50394 C 0.05608 0.56661 0.11893 0.64801 0.13837 0.6982 C 0.15782 0.74838 0.15 0.78816 0.14931 0.80458 E">
                                      <p:cBhvr>
                                        <p:cTn id="320" dur="55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1" nodeType="withEffect" fill="hold" presetClass="emph" presetID="6" repeatCount="indefinite">
                                  <p:stCondLst>
                                    <p:cond delay="12400"/>
                                  </p:stCondLst>
                                  <p:childTnLst>
                                    <p:animScale>
                                      <p:cBhvr>
                                        <p:cTn id="322" dur="5500" fill="hold"/>
                                        <p:tgtEl>
                                          <p:spTgt spid="91"/>
                                        </p:tgtEl>
                                      </p:cBhvr>
                                      <p:to x="45000" y="45000"/>
                                    </p:animScale>
                                  </p:childTnLst>
                                </p:cTn>
                              </p:par>
                              <p:par>
                                <p:cTn id="323" nodeType="withEffect" fill="hold" presetClass="emph" presetID="8" repeatCount="indefinite">
                                  <p:stCondLst>
                                    <p:cond delay="12400"/>
                                  </p:stCondLst>
                                  <p:childTnLst>
                                    <p:animRot by="-5400000">
                                      <p:cBhvr>
                                        <p:cTn id="324" dur="5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0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path" presetID="0" repeatCount="indefinite">
                                  <p:stCondLst>
                                    <p:cond delay="13400"/>
                                  </p:stCondLst>
                                  <p:childTnLst>
                                    <p:animMotion origin="layout" path="M 0 0 C 0.01805 0.06637 0.03611 0.13298 0.03698 0.23173 C 0.03785 0.33048 0.02448 0.49561 0.00538 0.59297 C -0.01372 0.69033 -0.06215 0.7759 -0.07813 0.81568 C -0.0941 0.85546 -0.09149 0.82817 -0.09045 0.8321 E">
                                      <p:cBhvr>
                                        <p:cTn id="329" dur="45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0" nodeType="withEffect" fill="hold" presetClass="emph" presetID="6" repeatCount="indefinite">
                                  <p:stCondLst>
                                    <p:cond delay="13400"/>
                                  </p:stCondLst>
                                  <p:childTnLst>
                                    <p:animScale>
                                      <p:cBhvr>
                                        <p:cTn id="331" dur="4500" fill="hold"/>
                                        <p:tgtEl>
                                          <p:spTgt spid="92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332" nodeType="withEffect" fill="hold" presetClass="emph" presetID="8" repeatCount="indefinite">
                                  <p:stCondLst>
                                    <p:cond delay="13400"/>
                                  </p:stCondLst>
                                  <p:childTnLst>
                                    <p:animRot by="-10800000">
                                      <p:cBhvr>
                                        <p:cTn id="333" dur="4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path" presetID="0" repeatCount="indefinite">
                                  <p:stCondLst>
                                    <p:cond delay="15000"/>
                                  </p:stCondLst>
                                  <p:childTnLst>
                                    <p:animMotion origin="layout" path="M 4.44444E-006 2.55319E-006 C 0.02413 0.13136 0.04826 0.26318 0.05208 0.35661 C 0.0559 0.44981 0.02708 0.50717 0.02326 0.55897 C 0.01944 0.61077 0.01927 0.61725 0.02882 0.6672 C 0.03836 0.71669 0.07187 0.82585 0.08072 0.85777 E">
                                      <p:cBhvr>
                                        <p:cTn id="338" dur="7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9" nodeType="withEffect" fill="hold" presetClass="emph" presetID="6" repeatCount="indefinite">
                                  <p:stCondLst>
                                    <p:cond delay="15000"/>
                                  </p:stCondLst>
                                  <p:childTnLst>
                                    <p:animScale>
                                      <p:cBhvr>
                                        <p:cTn id="340" dur="7000" fill="hold"/>
                                        <p:tgtEl>
                                          <p:spTgt spid="93"/>
                                        </p:tgtEl>
                                      </p:cBhvr>
                                      <p:to x="45000" y="45000"/>
                                    </p:animScale>
                                  </p:childTnLst>
                                </p:cTn>
                              </p:par>
                              <p:par>
                                <p:cTn id="341" nodeType="withEffect" fill="hold" presetClass="emph" presetID="8" repeatCount="indefinite">
                                  <p:stCondLst>
                                    <p:cond delay="15000"/>
                                  </p:stCondLst>
                                  <p:childTnLst>
                                    <p:animRot by="5400000">
                                      <p:cBhvr>
                                        <p:cTn id="342" dur="7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path" presetID="0" repeatCount="indefinite">
                                  <p:stCondLst>
                                    <p:cond delay="15000"/>
                                  </p:stCondLst>
                                  <p:childTnLst>
                                    <p:animMotion origin="layout" path="M 4.44444E-006 2.55319E-006 C 0.02413 0.13136 0.04826 0.26318 0.05208 0.35661 C 0.0559 0.44981 0.02708 0.50717 0.02326 0.55897 C 0.01944 0.61077 0.01927 0.61725 0.02882 0.6672 C 0.03836 0.71669 0.07187 0.82585 0.08072 0.85777 E">
                                      <p:cBhvr>
                                        <p:cTn id="347" dur="7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8" nodeType="withEffect" fill="hold" presetClass="emph" presetID="6" repeatCount="indefinite">
                                  <p:stCondLst>
                                    <p:cond delay="15000"/>
                                  </p:stCondLst>
                                  <p:childTnLst>
                                    <p:animScale>
                                      <p:cBhvr>
                                        <p:cTn id="349" dur="7000" fill="hold"/>
                                        <p:tgtEl>
                                          <p:spTgt spid="94"/>
                                        </p:tgtEl>
                                      </p:cBhvr>
                                      <p:to x="45000" y="45000"/>
                                    </p:animScale>
                                  </p:childTnLst>
                                </p:cTn>
                              </p:par>
                              <p:par>
                                <p:cTn id="350" nodeType="withEffect" fill="hold" presetClass="emph" presetID="8" repeatCount="indefinite">
                                  <p:stCondLst>
                                    <p:cond delay="15000"/>
                                  </p:stCondLst>
                                  <p:childTnLst>
                                    <p:animRot by="5400000">
                                      <p:cBhvr>
                                        <p:cTn id="351" dur="7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0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1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2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374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6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7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8" dur="5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80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2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3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4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8750"/>
                            </p:stCondLst>
                            <p:childTnLst>
                              <p:par>
                                <p:cTn id="386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8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9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0" dur="5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0" y="685800"/>
            <a:ext cx="6095880" cy="54864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6095880" y="685800"/>
            <a:ext cx="3048120" cy="54864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8381880" y="1341000"/>
            <a:ext cx="381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华文隶书"/>
              </a:rPr>
              <a:t>绝句漫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7848720" y="1295280"/>
            <a:ext cx="457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肠断春江欲尽头，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7391520" y="1295280"/>
            <a:ext cx="457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杖立徐步立芳洲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6934320" y="1295280"/>
            <a:ext cx="457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癫狂柳絮随风去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6477120" y="1274760"/>
            <a:ext cx="4572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轻薄桃花逐水流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reeform 1281"/>
          <p:cNvSpPr/>
          <p:nvPr/>
        </p:nvSpPr>
        <p:spPr>
          <a:xfrm>
            <a:off x="8218440" y="2052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reeform 1281"/>
          <p:cNvSpPr/>
          <p:nvPr/>
        </p:nvSpPr>
        <p:spPr>
          <a:xfrm>
            <a:off x="8218440" y="2052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1281"/>
          <p:cNvSpPr/>
          <p:nvPr/>
        </p:nvSpPr>
        <p:spPr>
          <a:xfrm>
            <a:off x="8217000" y="2052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solidFill>
            <a:srgbClr val="ff99cc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1281"/>
          <p:cNvSpPr/>
          <p:nvPr/>
        </p:nvSpPr>
        <p:spPr>
          <a:xfrm>
            <a:off x="8218440" y="2052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solidFill>
            <a:srgbClr val="ff99cc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1281"/>
          <p:cNvSpPr/>
          <p:nvPr/>
        </p:nvSpPr>
        <p:spPr>
          <a:xfrm>
            <a:off x="8218440" y="2052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solidFill>
            <a:srgbClr val="ff99cc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1281"/>
          <p:cNvSpPr/>
          <p:nvPr/>
        </p:nvSpPr>
        <p:spPr>
          <a:xfrm>
            <a:off x="8218440" y="2052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1281"/>
          <p:cNvSpPr/>
          <p:nvPr/>
        </p:nvSpPr>
        <p:spPr>
          <a:xfrm>
            <a:off x="8218440" y="2052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1281"/>
          <p:cNvSpPr/>
          <p:nvPr/>
        </p:nvSpPr>
        <p:spPr>
          <a:xfrm>
            <a:off x="8217000" y="2052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solidFill>
            <a:srgbClr val="ff99cc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1281"/>
          <p:cNvSpPr/>
          <p:nvPr/>
        </p:nvSpPr>
        <p:spPr>
          <a:xfrm>
            <a:off x="8218440" y="2052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solidFill>
            <a:srgbClr val="ff99cc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1281"/>
          <p:cNvSpPr/>
          <p:nvPr/>
        </p:nvSpPr>
        <p:spPr>
          <a:xfrm>
            <a:off x="8229600" y="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solidFill>
            <a:srgbClr val="ff99cc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0" descr="海纹"/>
          <p:cNvPicPr/>
          <p:nvPr/>
        </p:nvPicPr>
        <p:blipFill>
          <a:blip r:embed="rId7">
            <a:alphaModFix amt="53000"/>
          </a:blip>
          <a:stretch/>
        </p:blipFill>
        <p:spPr>
          <a:xfrm>
            <a:off x="0" y="0"/>
            <a:ext cx="9144000" cy="6858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1" descr="海纹"/>
          <p:cNvPicPr/>
          <p:nvPr/>
        </p:nvPicPr>
        <p:blipFill>
          <a:blip r:embed="rId8">
            <a:alphaModFix amt="53000"/>
          </a:blip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nodeType="clickEffect" fill="hold">
                      <p:stCondLst>
                        <p:cond delay="0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18" presetSubtype="9">
                                  <p:stCondLst>
                                    <p:cond delay="880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0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path" presetID="0" repeatCount="indefinite">
                                  <p:stCondLst>
                                    <p:cond delay="9800"/>
                                  </p:stCondLst>
                                  <p:childTnLst>
                                    <p:animMotion origin="layout" path="M 0 0 C -0.01632 0.03608 -0.03264 0.07216 -0.03281 0.10222 C -0.03299 0.13228 -0.01719 0.15055 -0.00139 0.18062 C 0.01441 0.21068 0.04809 0.24052 0.06163 0.28284 C 0.07517 0.32516 0.08438 0.36494 0.07951 0.43432 C 0.07465 0.5037 0.04097 0.64061 0.03281 0.69889 C 0.02465 0.75717 0.02743 0.77081 0.03021 0.78469 E">
                                      <p:cBhvr>
                                        <p:cTn id="405" dur="6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6" nodeType="withEffect" fill="hold" presetClass="emph" presetID="6" repeatCount="indefinite">
                                  <p:stCondLst>
                                    <p:cond delay="9800"/>
                                  </p:stCondLst>
                                  <p:childTnLst>
                                    <p:animScale>
                                      <p:cBhvr>
                                        <p:cTn id="407" dur="6000" fill="hold"/>
                                        <p:tgtEl>
                                          <p:spTgt spid="105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mph" presetID="8" repeatCount="indefinite">
                                  <p:stCondLst>
                                    <p:cond delay="9800"/>
                                  </p:stCondLst>
                                  <p:childTnLst>
                                    <p:animRot by="10800000">
                                      <p:cBhvr>
                                        <p:cTn id="409" dur="6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0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path" presetID="0" repeatCount="indefinite">
                                  <p:stCondLst>
                                    <p:cond delay="12300"/>
                                  </p:stCondLst>
                                  <p:childTnLst>
                                    <p:animMotion origin="layout" path="M -3.05556E-006 -3.64477E-006 C -0.00885 0.05296 -0.01771 0.10592 -0.01771 0.15981 C -0.01771 0.21346 -0.0085 0.26573 -3.05556E-006 0.32332 C 0.00851 0.38067 0.0099 0.44149 0.03299 0.50394 C 0.05608 0.56661 0.11893 0.64801 0.13837 0.6982 C 0.15782 0.74838 0.15 0.78816 0.14931 0.80458 E">
                                      <p:cBhvr>
                                        <p:cTn id="414" dur="55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5" nodeType="withEffect" fill="hold" presetClass="emph" presetID="6" repeatCount="indefinite">
                                  <p:stCondLst>
                                    <p:cond delay="12400"/>
                                  </p:stCondLst>
                                  <p:childTnLst>
                                    <p:animScale>
                                      <p:cBhvr>
                                        <p:cTn id="416" dur="5500" fill="hold"/>
                                        <p:tgtEl>
                                          <p:spTgt spid="106"/>
                                        </p:tgtEl>
                                      </p:cBhvr>
                                      <p:to x="45000" y="45000"/>
                                    </p:animScale>
                                  </p:childTnLst>
                                </p:cTn>
                              </p:par>
                              <p:par>
                                <p:cTn id="417" nodeType="withEffect" fill="hold" presetClass="emph" presetID="8" repeatCount="indefinite">
                                  <p:stCondLst>
                                    <p:cond delay="12400"/>
                                  </p:stCondLst>
                                  <p:childTnLst>
                                    <p:animRot by="-5400000">
                                      <p:cBhvr>
                                        <p:cTn id="418" dur="5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0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path" presetID="0" repeatCount="indefinite">
                                  <p:stCondLst>
                                    <p:cond delay="13400"/>
                                  </p:stCondLst>
                                  <p:childTnLst>
                                    <p:animMotion origin="layout" path="M 0 0 C 0.01805 0.06637 0.03611 0.13298 0.03698 0.23173 C 0.03785 0.33048 0.02448 0.49561 0.00538 0.59297 C -0.01372 0.69033 -0.06215 0.7759 -0.07813 0.81568 C -0.0941 0.85546 -0.09149 0.82817 -0.09045 0.8321 E">
                                      <p:cBhvr>
                                        <p:cTn id="423" dur="4500" fill="hold"/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4" nodeType="withEffect" fill="hold" presetClass="emph" presetID="6" repeatCount="indefinite">
                                  <p:stCondLst>
                                    <p:cond delay="13400"/>
                                  </p:stCondLst>
                                  <p:childTnLst>
                                    <p:animScale>
                                      <p:cBhvr>
                                        <p:cTn id="425" dur="4500" fill="hold"/>
                                        <p:tgtEl>
                                          <p:spTgt spid="107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426" nodeType="withEffect" fill="hold" presetClass="emph" presetID="8" repeatCount="indefinite">
                                  <p:stCondLst>
                                    <p:cond delay="13400"/>
                                  </p:stCondLst>
                                  <p:childTnLst>
                                    <p:animRot by="-10800000">
                                      <p:cBhvr>
                                        <p:cTn id="427" dur="4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0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path" presetID="0" repeatCount="indefinite">
                                  <p:stCondLst>
                                    <p:cond delay="14200"/>
                                  </p:stCondLst>
                                  <p:childTnLst>
                                    <p:animMotion origin="layout" path="M 2.5E-006 3.9593E-006 C 0.00139 0.07076 0.00278 0.14176 2.5E-006 0.19495 C -0.00278 0.24815 -0.00712 0.27428 -0.0165 0.31845 C -0.02587 0.36285 -0.05139 0.40333 -0.05625 0.46114 C -0.06111 0.51919 -0.05747 0.60522 -0.04531 0.66605 C -0.03316 0.7271 0.00416 0.80203 0.01632 0.82655 E">
                                      <p:cBhvr>
                                        <p:cTn id="432" dur="5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3" nodeType="withEffect" fill="hold" presetClass="emph" presetID="6" repeatCount="indefinite">
                                  <p:stCondLst>
                                    <p:cond delay="14200"/>
                                  </p:stCondLst>
                                  <p:childTnLst>
                                    <p:animScale>
                                      <p:cBhvr>
                                        <p:cTn id="434" dur="5000" fill="hold"/>
                                        <p:tgtEl>
                                          <p:spTgt spid="108"/>
                                        </p:tgtEl>
                                      </p:cBhvr>
                                      <p:to x="35000" y="35000"/>
                                    </p:animScale>
                                  </p:childTnLst>
                                </p:cTn>
                              </p:par>
                              <p:par>
                                <p:cTn id="435" nodeType="withEffect" fill="hold" presetClass="emph" presetID="8" repeatCount="indefinite">
                                  <p:stCondLst>
                                    <p:cond delay="14200"/>
                                  </p:stCondLst>
                                  <p:childTnLst>
                                    <p:animRot by="-10800000">
                                      <p:cBhvr>
                                        <p:cTn id="436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0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path" presetID="0" repeatCount="indefinite">
                                  <p:stCondLst>
                                    <p:cond delay="15000"/>
                                  </p:stCondLst>
                                  <p:childTnLst>
                                    <p:animMotion origin="layout" path="M 4.44444E-006 2.55319E-006 C 0.02413 0.13136 0.04826 0.26318 0.05208 0.35661 C 0.0559 0.44981 0.02708 0.50717 0.02326 0.55897 C 0.01944 0.61077 0.01927 0.61725 0.02882 0.6672 C 0.03836 0.71669 0.07187 0.82585 0.08072 0.85777 E">
                                      <p:cBhvr>
                                        <p:cTn id="441" dur="7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2" nodeType="withEffect" fill="hold" presetClass="emph" presetID="6" repeatCount="indefinite">
                                  <p:stCondLst>
                                    <p:cond delay="15000"/>
                                  </p:stCondLst>
                                  <p:childTnLst>
                                    <p:animScale>
                                      <p:cBhvr>
                                        <p:cTn id="443" dur="7000" fill="hold"/>
                                        <p:tgtEl>
                                          <p:spTgt spid="109"/>
                                        </p:tgtEl>
                                      </p:cBhvr>
                                      <p:to x="45000" y="45000"/>
                                    </p:animScale>
                                  </p:childTnLst>
                                </p:cTn>
                              </p:par>
                              <p:par>
                                <p:cTn id="444" nodeType="withEffect" fill="hold" presetClass="emph" presetID="8" repeatCount="indefinite">
                                  <p:stCondLst>
                                    <p:cond delay="15000"/>
                                  </p:stCondLst>
                                  <p:childTnLst>
                                    <p:animRot by="5400000">
                                      <p:cBhvr>
                                        <p:cTn id="445" dur="7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8" presetSubtype="9">
                                  <p:stCondLst>
                                    <p:cond delay="88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4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path" presetID="0" repeatCount="indefinite">
                                  <p:stCondLst>
                                    <p:cond delay="9800"/>
                                  </p:stCondLst>
                                  <p:childTnLst>
                                    <p:animMotion origin="layout" path="M 0 0 C -0.01632 0.03608 -0.03264 0.07216 -0.03281 0.10222 C -0.03299 0.13228 -0.01719 0.15055 -0.00139 0.18062 C 0.01441 0.21068 0.04809 0.24052 0.06163 0.28284 C 0.07517 0.32516 0.08438 0.36494 0.07951 0.43432 C 0.07465 0.5037 0.04097 0.64061 0.03281 0.69889 C 0.02465 0.75717 0.02743 0.77081 0.03021 0.78469 E">
                                      <p:cBhvr>
                                        <p:cTn id="450" dur="6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1" nodeType="withEffect" fill="hold" presetClass="emph" presetID="6" repeatCount="indefinite">
                                  <p:stCondLst>
                                    <p:cond delay="9800"/>
                                  </p:stCondLst>
                                  <p:childTnLst>
                                    <p:animScale>
                                      <p:cBhvr>
                                        <p:cTn id="452" dur="6000" fill="hold"/>
                                        <p:tgtEl>
                                          <p:spTgt spid="110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8" repeatCount="indefinite">
                                  <p:stCondLst>
                                    <p:cond delay="9800"/>
                                  </p:stCondLst>
                                  <p:childTnLst>
                                    <p:animRot by="10800000">
                                      <p:cBhvr>
                                        <p:cTn id="454" dur="6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0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path" presetID="0" repeatCount="indefinite">
                                  <p:stCondLst>
                                    <p:cond delay="12300"/>
                                  </p:stCondLst>
                                  <p:childTnLst>
                                    <p:animMotion origin="layout" path="M -3.05556E-006 -3.64477E-006 C -0.00885 0.05296 -0.01771 0.10592 -0.01771 0.15981 C -0.01771 0.21346 -0.0085 0.26573 -3.05556E-006 0.32332 C 0.00851 0.38067 0.0099 0.44149 0.03299 0.50394 C 0.05608 0.56661 0.11893 0.64801 0.13837 0.6982 C 0.15782 0.74838 0.15 0.78816 0.14931 0.80458 E">
                                      <p:cBhvr>
                                        <p:cTn id="459" dur="55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6" repeatCount="indefinite">
                                  <p:stCondLst>
                                    <p:cond delay="12400"/>
                                  </p:stCondLst>
                                  <p:childTnLst>
                                    <p:animScale>
                                      <p:cBhvr>
                                        <p:cTn id="461" dur="5500" fill="hold"/>
                                        <p:tgtEl>
                                          <p:spTgt spid="111"/>
                                        </p:tgtEl>
                                      </p:cBhvr>
                                      <p:to x="45000" y="45000"/>
                                    </p:animScale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8" repeatCount="indefinite">
                                  <p:stCondLst>
                                    <p:cond delay="12400"/>
                                  </p:stCondLst>
                                  <p:childTnLst>
                                    <p:animRot by="-5400000">
                                      <p:cBhvr>
                                        <p:cTn id="463" dur="5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0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path" presetID="0" repeatCount="indefinite">
                                  <p:stCondLst>
                                    <p:cond delay="13400"/>
                                  </p:stCondLst>
                                  <p:childTnLst>
                                    <p:animMotion origin="layout" path="M 0 0 C 0.01805 0.06637 0.03611 0.13298 0.03698 0.23173 C 0.03785 0.33048 0.02448 0.49561 0.00538 0.59297 C -0.01372 0.69033 -0.06215 0.7759 -0.07813 0.81568 C -0.0941 0.85546 -0.09149 0.82817 -0.09045 0.8321 E">
                                      <p:cBhvr>
                                        <p:cTn id="468" dur="45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9" nodeType="withEffect" fill="hold" presetClass="emph" presetID="6" repeatCount="indefinite">
                                  <p:stCondLst>
                                    <p:cond delay="13400"/>
                                  </p:stCondLst>
                                  <p:childTnLst>
                                    <p:animScale>
                                      <p:cBhvr>
                                        <p:cTn id="470" dur="4500" fill="hold"/>
                                        <p:tgtEl>
                                          <p:spTgt spid="112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471" nodeType="withEffect" fill="hold" presetClass="emph" presetID="8" repeatCount="indefinite">
                                  <p:stCondLst>
                                    <p:cond delay="13400"/>
                                  </p:stCondLst>
                                  <p:childTnLst>
                                    <p:animRot by="-10800000">
                                      <p:cBhvr>
                                        <p:cTn id="472" dur="4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0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path" presetID="0" repeatCount="indefinite">
                                  <p:stCondLst>
                                    <p:cond delay="15000"/>
                                  </p:stCondLst>
                                  <p:childTnLst>
                                    <p:animMotion origin="layout" path="M 4.44444E-006 2.55319E-006 C 0.02413 0.13136 0.04826 0.26318 0.05208 0.35661 C 0.0559 0.44981 0.02708 0.50717 0.02326 0.55897 C 0.01944 0.61077 0.01927 0.61725 0.02882 0.6672 C 0.03836 0.71669 0.07187 0.82585 0.08072 0.85777 E">
                                      <p:cBhvr>
                                        <p:cTn id="477" dur="7000" fill="hold"/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8" nodeType="withEffect" fill="hold" presetClass="emph" presetID="6" repeatCount="indefinite">
                                  <p:stCondLst>
                                    <p:cond delay="15000"/>
                                  </p:stCondLst>
                                  <p:childTnLst>
                                    <p:animScale>
                                      <p:cBhvr>
                                        <p:cTn id="479" dur="7000" fill="hold"/>
                                        <p:tgtEl>
                                          <p:spTgt spid="113"/>
                                        </p:tgtEl>
                                      </p:cBhvr>
                                      <p:to x="45000" y="45000"/>
                                    </p:animScale>
                                  </p:childTnLst>
                                </p:cTn>
                              </p:par>
                              <p:par>
                                <p:cTn id="480" nodeType="withEffect" fill="hold" presetClass="emph" presetID="8" repeatCount="indefinite">
                                  <p:stCondLst>
                                    <p:cond delay="15000"/>
                                  </p:stCondLst>
                                  <p:childTnLst>
                                    <p:animRot by="5400000">
                                      <p:cBhvr>
                                        <p:cTn id="481" dur="7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0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path" presetID="0" repeatCount="indefinite">
                                  <p:stCondLst>
                                    <p:cond delay="15000"/>
                                  </p:stCondLst>
                                  <p:childTnLst>
                                    <p:animMotion origin="layout" path="M 4.44444E-006 2.55319E-006 C 0.02413 0.13136 0.04826 0.26318 0.05208 0.35661 C 0.0559 0.44981 0.02708 0.50717 0.02326 0.55897 C 0.01944 0.61077 0.01927 0.61725 0.02882 0.6672 C 0.03836 0.71669 0.07187 0.82585 0.08072 0.85777 E">
                                      <p:cBhvr>
                                        <p:cTn id="486" dur="7000" fill="hold"/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7" nodeType="withEffect" fill="hold" presetClass="emph" presetID="6" repeatCount="indefinite">
                                  <p:stCondLst>
                                    <p:cond delay="15000"/>
                                  </p:stCondLst>
                                  <p:childTnLst>
                                    <p:animScale>
                                      <p:cBhvr>
                                        <p:cTn id="488" dur="7000" fill="hold"/>
                                        <p:tgtEl>
                                          <p:spTgt spid="114"/>
                                        </p:tgtEl>
                                      </p:cBhvr>
                                      <p:to x="45000" y="45000"/>
                                    </p:animScale>
                                  </p:childTnLst>
                                </p:cTn>
                              </p:par>
                              <p:par>
                                <p:cTn id="489" nodeType="withEffect" fill="hold" presetClass="emph" presetID="8" repeatCount="indefinite">
                                  <p:stCondLst>
                                    <p:cond delay="15000"/>
                                  </p:stCondLst>
                                  <p:childTnLst>
                                    <p:animRot by="5400000">
                                      <p:cBhvr>
                                        <p:cTn id="490" dur="7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9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0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1" dur="5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513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5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6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7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5750"/>
                            </p:stCondLst>
                            <p:childTnLst>
                              <p:par>
                                <p:cTn id="519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1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2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3" dur="50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525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7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8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9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reeform 1276"/>
          <p:cNvSpPr/>
          <p:nvPr/>
        </p:nvSpPr>
        <p:spPr>
          <a:xfrm>
            <a:off x="0" y="-630360"/>
            <a:ext cx="2070000" cy="1544760"/>
          </a:xfrm>
          <a:custGeom>
            <a:avLst/>
            <a:gdLst>
              <a:gd name="textAreaLeft" fmla="*/ 0 w 2070000"/>
              <a:gd name="textAreaRight" fmla="*/ 2070360 w 2070000"/>
              <a:gd name="textAreaTop" fmla="*/ 0 h 1544760"/>
              <a:gd name="textAreaBottom" fmla="*/ 1545120 h 1544760"/>
            </a:gdLst>
            <a:ahLst/>
            <a:rect l="textAreaLeft" t="textAreaTop" r="textAreaRight" b="textAreaBottom"/>
            <a:pathLst>
              <a:path w="642" h="479">
                <a:moveTo>
                  <a:pt x="524" y="435"/>
                </a:moveTo>
                <a:cubicBezTo>
                  <a:pt x="539" y="424"/>
                  <a:pt x="557" y="404"/>
                  <a:pt x="553" y="374"/>
                </a:cubicBezTo>
                <a:cubicBezTo>
                  <a:pt x="548" y="335"/>
                  <a:pt x="539" y="313"/>
                  <a:pt x="524" y="297"/>
                </a:cubicBezTo>
                <a:cubicBezTo>
                  <a:pt x="524" y="435"/>
                  <a:pt x="524" y="435"/>
                  <a:pt x="524" y="435"/>
                </a:cubicBezTo>
                <a:close/>
                <a:moveTo>
                  <a:pt x="524" y="278"/>
                </a:moveTo>
                <a:cubicBezTo>
                  <a:pt x="529" y="281"/>
                  <a:pt x="534" y="282"/>
                  <a:pt x="537" y="283"/>
                </a:cubicBezTo>
                <a:cubicBezTo>
                  <a:pt x="562" y="287"/>
                  <a:pt x="578" y="271"/>
                  <a:pt x="588" y="265"/>
                </a:cubicBezTo>
                <a:cubicBezTo>
                  <a:pt x="597" y="259"/>
                  <a:pt x="608" y="265"/>
                  <a:pt x="608" y="265"/>
                </a:cubicBezTo>
                <a:cubicBezTo>
                  <a:pt x="608" y="265"/>
                  <a:pt x="603" y="247"/>
                  <a:pt x="588" y="247"/>
                </a:cubicBezTo>
                <a:cubicBezTo>
                  <a:pt x="574" y="247"/>
                  <a:pt x="557" y="256"/>
                  <a:pt x="550" y="248"/>
                </a:cubicBezTo>
                <a:cubicBezTo>
                  <a:pt x="543" y="239"/>
                  <a:pt x="580" y="233"/>
                  <a:pt x="585" y="230"/>
                </a:cubicBezTo>
                <a:cubicBezTo>
                  <a:pt x="591" y="227"/>
                  <a:pt x="619" y="203"/>
                  <a:pt x="623" y="188"/>
                </a:cubicBezTo>
                <a:cubicBezTo>
                  <a:pt x="629" y="174"/>
                  <a:pt x="628" y="174"/>
                  <a:pt x="628" y="174"/>
                </a:cubicBezTo>
                <a:cubicBezTo>
                  <a:pt x="628" y="174"/>
                  <a:pt x="632" y="172"/>
                  <a:pt x="635" y="168"/>
                </a:cubicBezTo>
                <a:cubicBezTo>
                  <a:pt x="640" y="162"/>
                  <a:pt x="642" y="156"/>
                  <a:pt x="642" y="150"/>
                </a:cubicBezTo>
                <a:cubicBezTo>
                  <a:pt x="642" y="149"/>
                  <a:pt x="642" y="149"/>
                  <a:pt x="642" y="149"/>
                </a:cubicBezTo>
                <a:cubicBezTo>
                  <a:pt x="642" y="147"/>
                  <a:pt x="642" y="147"/>
                  <a:pt x="642" y="147"/>
                </a:cubicBezTo>
                <a:cubicBezTo>
                  <a:pt x="642" y="137"/>
                  <a:pt x="636" y="125"/>
                  <a:pt x="628" y="120"/>
                </a:cubicBezTo>
                <a:cubicBezTo>
                  <a:pt x="628" y="120"/>
                  <a:pt x="630" y="114"/>
                  <a:pt x="625" y="112"/>
                </a:cubicBezTo>
                <a:cubicBezTo>
                  <a:pt x="620" y="110"/>
                  <a:pt x="609" y="109"/>
                  <a:pt x="608" y="119"/>
                </a:cubicBezTo>
                <a:cubicBezTo>
                  <a:pt x="608" y="122"/>
                  <a:pt x="608" y="125"/>
                  <a:pt x="610" y="127"/>
                </a:cubicBezTo>
                <a:cubicBezTo>
                  <a:pt x="611" y="129"/>
                  <a:pt x="614" y="131"/>
                  <a:pt x="618" y="130"/>
                </a:cubicBezTo>
                <a:cubicBezTo>
                  <a:pt x="623" y="130"/>
                  <a:pt x="627" y="125"/>
                  <a:pt x="627" y="123"/>
                </a:cubicBezTo>
                <a:cubicBezTo>
                  <a:pt x="630" y="125"/>
                  <a:pt x="632" y="128"/>
                  <a:pt x="635" y="132"/>
                </a:cubicBezTo>
                <a:cubicBezTo>
                  <a:pt x="637" y="135"/>
                  <a:pt x="639" y="140"/>
                  <a:pt x="639" y="145"/>
                </a:cubicBezTo>
                <a:cubicBezTo>
                  <a:pt x="640" y="154"/>
                  <a:pt x="636" y="163"/>
                  <a:pt x="625" y="168"/>
                </a:cubicBezTo>
                <a:cubicBezTo>
                  <a:pt x="618" y="171"/>
                  <a:pt x="606" y="171"/>
                  <a:pt x="601" y="164"/>
                </a:cubicBezTo>
                <a:cubicBezTo>
                  <a:pt x="596" y="157"/>
                  <a:pt x="585" y="151"/>
                  <a:pt x="571" y="151"/>
                </a:cubicBezTo>
                <a:cubicBezTo>
                  <a:pt x="556" y="152"/>
                  <a:pt x="530" y="159"/>
                  <a:pt x="529" y="160"/>
                </a:cubicBezTo>
                <a:cubicBezTo>
                  <a:pt x="528" y="160"/>
                  <a:pt x="526" y="161"/>
                  <a:pt x="524" y="162"/>
                </a:cubicBezTo>
                <a:cubicBezTo>
                  <a:pt x="524" y="208"/>
                  <a:pt x="524" y="208"/>
                  <a:pt x="524" y="208"/>
                </a:cubicBezTo>
                <a:cubicBezTo>
                  <a:pt x="526" y="208"/>
                  <a:pt x="529" y="207"/>
                  <a:pt x="531" y="206"/>
                </a:cubicBezTo>
                <a:cubicBezTo>
                  <a:pt x="565" y="195"/>
                  <a:pt x="586" y="189"/>
                  <a:pt x="586" y="189"/>
                </a:cubicBezTo>
                <a:cubicBezTo>
                  <a:pt x="567" y="202"/>
                  <a:pt x="546" y="211"/>
                  <a:pt x="524" y="217"/>
                </a:cubicBezTo>
                <a:cubicBezTo>
                  <a:pt x="524" y="278"/>
                  <a:pt x="524" y="278"/>
                  <a:pt x="524" y="278"/>
                </a:cubicBezTo>
                <a:close/>
                <a:moveTo>
                  <a:pt x="524" y="157"/>
                </a:moveTo>
                <a:cubicBezTo>
                  <a:pt x="524" y="116"/>
                  <a:pt x="524" y="116"/>
                  <a:pt x="524" y="116"/>
                </a:cubicBezTo>
                <a:cubicBezTo>
                  <a:pt x="538" y="114"/>
                  <a:pt x="549" y="113"/>
                  <a:pt x="551" y="113"/>
                </a:cubicBezTo>
                <a:cubicBezTo>
                  <a:pt x="554" y="112"/>
                  <a:pt x="562" y="95"/>
                  <a:pt x="562" y="95"/>
                </a:cubicBezTo>
                <a:cubicBezTo>
                  <a:pt x="562" y="95"/>
                  <a:pt x="562" y="99"/>
                  <a:pt x="560" y="108"/>
                </a:cubicBezTo>
                <a:cubicBezTo>
                  <a:pt x="558" y="116"/>
                  <a:pt x="552" y="128"/>
                  <a:pt x="546" y="133"/>
                </a:cubicBezTo>
                <a:cubicBezTo>
                  <a:pt x="542" y="137"/>
                  <a:pt x="531" y="149"/>
                  <a:pt x="524" y="157"/>
                </a:cubicBezTo>
                <a:close/>
                <a:moveTo>
                  <a:pt x="455" y="452"/>
                </a:moveTo>
                <a:cubicBezTo>
                  <a:pt x="466" y="463"/>
                  <a:pt x="468" y="463"/>
                  <a:pt x="468" y="463"/>
                </a:cubicBezTo>
                <a:cubicBezTo>
                  <a:pt x="468" y="463"/>
                  <a:pt x="477" y="436"/>
                  <a:pt x="477" y="427"/>
                </a:cubicBezTo>
                <a:cubicBezTo>
                  <a:pt x="477" y="417"/>
                  <a:pt x="468" y="401"/>
                  <a:pt x="479" y="403"/>
                </a:cubicBezTo>
                <a:cubicBezTo>
                  <a:pt x="491" y="405"/>
                  <a:pt x="508" y="445"/>
                  <a:pt x="508" y="445"/>
                </a:cubicBezTo>
                <a:cubicBezTo>
                  <a:pt x="508" y="445"/>
                  <a:pt x="515" y="442"/>
                  <a:pt x="524" y="435"/>
                </a:cubicBezTo>
                <a:cubicBezTo>
                  <a:pt x="524" y="297"/>
                  <a:pt x="524" y="297"/>
                  <a:pt x="524" y="297"/>
                </a:cubicBezTo>
                <a:cubicBezTo>
                  <a:pt x="520" y="292"/>
                  <a:pt x="516" y="289"/>
                  <a:pt x="511" y="285"/>
                </a:cubicBezTo>
                <a:cubicBezTo>
                  <a:pt x="496" y="275"/>
                  <a:pt x="472" y="263"/>
                  <a:pt x="455" y="255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62" y="283"/>
                  <a:pt x="468" y="289"/>
                  <a:pt x="472" y="295"/>
                </a:cubicBezTo>
                <a:cubicBezTo>
                  <a:pt x="487" y="320"/>
                  <a:pt x="497" y="353"/>
                  <a:pt x="497" y="353"/>
                </a:cubicBezTo>
                <a:cubicBezTo>
                  <a:pt x="497" y="353"/>
                  <a:pt x="479" y="319"/>
                  <a:pt x="455" y="292"/>
                </a:cubicBezTo>
                <a:cubicBezTo>
                  <a:pt x="455" y="452"/>
                  <a:pt x="455" y="452"/>
                  <a:pt x="455" y="452"/>
                </a:cubicBezTo>
                <a:close/>
                <a:moveTo>
                  <a:pt x="455" y="233"/>
                </a:moveTo>
                <a:cubicBezTo>
                  <a:pt x="455" y="158"/>
                  <a:pt x="455" y="158"/>
                  <a:pt x="455" y="158"/>
                </a:cubicBezTo>
                <a:cubicBezTo>
                  <a:pt x="463" y="144"/>
                  <a:pt x="479" y="135"/>
                  <a:pt x="495" y="125"/>
                </a:cubicBezTo>
                <a:cubicBezTo>
                  <a:pt x="504" y="121"/>
                  <a:pt x="515" y="118"/>
                  <a:pt x="524" y="116"/>
                </a:cubicBezTo>
                <a:cubicBezTo>
                  <a:pt x="524" y="157"/>
                  <a:pt x="524" y="157"/>
                  <a:pt x="524" y="157"/>
                </a:cubicBezTo>
                <a:cubicBezTo>
                  <a:pt x="520" y="162"/>
                  <a:pt x="517" y="166"/>
                  <a:pt x="517" y="166"/>
                </a:cubicBezTo>
                <a:cubicBezTo>
                  <a:pt x="517" y="166"/>
                  <a:pt x="521" y="164"/>
                  <a:pt x="524" y="162"/>
                </a:cubicBezTo>
                <a:cubicBezTo>
                  <a:pt x="524" y="208"/>
                  <a:pt x="524" y="208"/>
                  <a:pt x="524" y="208"/>
                </a:cubicBezTo>
                <a:cubicBezTo>
                  <a:pt x="492" y="218"/>
                  <a:pt x="462" y="222"/>
                  <a:pt x="462" y="222"/>
                </a:cubicBezTo>
                <a:cubicBezTo>
                  <a:pt x="473" y="224"/>
                  <a:pt x="484" y="224"/>
                  <a:pt x="494" y="223"/>
                </a:cubicBezTo>
                <a:cubicBezTo>
                  <a:pt x="505" y="222"/>
                  <a:pt x="515" y="220"/>
                  <a:pt x="524" y="217"/>
                </a:cubicBezTo>
                <a:cubicBezTo>
                  <a:pt x="524" y="278"/>
                  <a:pt x="524" y="278"/>
                  <a:pt x="524" y="278"/>
                </a:cubicBezTo>
                <a:cubicBezTo>
                  <a:pt x="502" y="268"/>
                  <a:pt x="473" y="242"/>
                  <a:pt x="459" y="234"/>
                </a:cubicBezTo>
                <a:cubicBezTo>
                  <a:pt x="458" y="234"/>
                  <a:pt x="456" y="233"/>
                  <a:pt x="455" y="233"/>
                </a:cubicBezTo>
                <a:close/>
                <a:moveTo>
                  <a:pt x="388" y="453"/>
                </a:moveTo>
                <a:cubicBezTo>
                  <a:pt x="392" y="456"/>
                  <a:pt x="396" y="458"/>
                  <a:pt x="400" y="460"/>
                </a:cubicBezTo>
                <a:cubicBezTo>
                  <a:pt x="407" y="463"/>
                  <a:pt x="414" y="460"/>
                  <a:pt x="418" y="456"/>
                </a:cubicBezTo>
                <a:cubicBezTo>
                  <a:pt x="423" y="450"/>
                  <a:pt x="424" y="441"/>
                  <a:pt x="414" y="437"/>
                </a:cubicBezTo>
                <a:cubicBezTo>
                  <a:pt x="405" y="433"/>
                  <a:pt x="398" y="433"/>
                  <a:pt x="398" y="433"/>
                </a:cubicBezTo>
                <a:cubicBezTo>
                  <a:pt x="398" y="433"/>
                  <a:pt x="399" y="437"/>
                  <a:pt x="406" y="439"/>
                </a:cubicBezTo>
                <a:cubicBezTo>
                  <a:pt x="416" y="442"/>
                  <a:pt x="419" y="448"/>
                  <a:pt x="416" y="452"/>
                </a:cubicBezTo>
                <a:cubicBezTo>
                  <a:pt x="410" y="460"/>
                  <a:pt x="401" y="457"/>
                  <a:pt x="393" y="452"/>
                </a:cubicBezTo>
                <a:cubicBezTo>
                  <a:pt x="391" y="451"/>
                  <a:pt x="390" y="450"/>
                  <a:pt x="388" y="448"/>
                </a:cubicBezTo>
                <a:cubicBezTo>
                  <a:pt x="388" y="453"/>
                  <a:pt x="388" y="453"/>
                  <a:pt x="388" y="453"/>
                </a:cubicBezTo>
                <a:close/>
                <a:moveTo>
                  <a:pt x="388" y="316"/>
                </a:moveTo>
                <a:cubicBezTo>
                  <a:pt x="388" y="134"/>
                  <a:pt x="388" y="134"/>
                  <a:pt x="388" y="134"/>
                </a:cubicBezTo>
                <a:cubicBezTo>
                  <a:pt x="400" y="164"/>
                  <a:pt x="392" y="227"/>
                  <a:pt x="392" y="227"/>
                </a:cubicBezTo>
                <a:cubicBezTo>
                  <a:pt x="411" y="212"/>
                  <a:pt x="409" y="175"/>
                  <a:pt x="399" y="144"/>
                </a:cubicBezTo>
                <a:cubicBezTo>
                  <a:pt x="396" y="134"/>
                  <a:pt x="393" y="125"/>
                  <a:pt x="388" y="117"/>
                </a:cubicBezTo>
                <a:cubicBezTo>
                  <a:pt x="388" y="29"/>
                  <a:pt x="388" y="29"/>
                  <a:pt x="388" y="29"/>
                </a:cubicBezTo>
                <a:cubicBezTo>
                  <a:pt x="392" y="31"/>
                  <a:pt x="395" y="33"/>
                  <a:pt x="398" y="35"/>
                </a:cubicBezTo>
                <a:cubicBezTo>
                  <a:pt x="418" y="50"/>
                  <a:pt x="427" y="78"/>
                  <a:pt x="436" y="107"/>
                </a:cubicBezTo>
                <a:cubicBezTo>
                  <a:pt x="445" y="136"/>
                  <a:pt x="426" y="188"/>
                  <a:pt x="420" y="197"/>
                </a:cubicBezTo>
                <a:cubicBezTo>
                  <a:pt x="414" y="206"/>
                  <a:pt x="424" y="228"/>
                  <a:pt x="424" y="228"/>
                </a:cubicBezTo>
                <a:cubicBezTo>
                  <a:pt x="424" y="228"/>
                  <a:pt x="440" y="218"/>
                  <a:pt x="445" y="213"/>
                </a:cubicBezTo>
                <a:cubicBezTo>
                  <a:pt x="449" y="208"/>
                  <a:pt x="446" y="189"/>
                  <a:pt x="451" y="169"/>
                </a:cubicBezTo>
                <a:cubicBezTo>
                  <a:pt x="452" y="165"/>
                  <a:pt x="453" y="161"/>
                  <a:pt x="455" y="158"/>
                </a:cubicBezTo>
                <a:cubicBezTo>
                  <a:pt x="455" y="233"/>
                  <a:pt x="455" y="233"/>
                  <a:pt x="455" y="233"/>
                </a:cubicBezTo>
                <a:cubicBezTo>
                  <a:pt x="441" y="228"/>
                  <a:pt x="439" y="248"/>
                  <a:pt x="439" y="248"/>
                </a:cubicBezTo>
                <a:cubicBezTo>
                  <a:pt x="439" y="248"/>
                  <a:pt x="446" y="251"/>
                  <a:pt x="455" y="255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37" y="261"/>
                  <a:pt x="414" y="251"/>
                  <a:pt x="414" y="251"/>
                </a:cubicBezTo>
                <a:cubicBezTo>
                  <a:pt x="414" y="251"/>
                  <a:pt x="428" y="260"/>
                  <a:pt x="453" y="289"/>
                </a:cubicBezTo>
                <a:cubicBezTo>
                  <a:pt x="454" y="290"/>
                  <a:pt x="454" y="291"/>
                  <a:pt x="455" y="292"/>
                </a:cubicBezTo>
                <a:cubicBezTo>
                  <a:pt x="455" y="452"/>
                  <a:pt x="455" y="452"/>
                  <a:pt x="455" y="452"/>
                </a:cubicBezTo>
                <a:cubicBezTo>
                  <a:pt x="453" y="449"/>
                  <a:pt x="451" y="447"/>
                  <a:pt x="448" y="443"/>
                </a:cubicBezTo>
                <a:cubicBezTo>
                  <a:pt x="432" y="424"/>
                  <a:pt x="413" y="371"/>
                  <a:pt x="412" y="365"/>
                </a:cubicBezTo>
                <a:cubicBezTo>
                  <a:pt x="411" y="358"/>
                  <a:pt x="410" y="299"/>
                  <a:pt x="403" y="292"/>
                </a:cubicBezTo>
                <a:cubicBezTo>
                  <a:pt x="396" y="286"/>
                  <a:pt x="394" y="306"/>
                  <a:pt x="388" y="316"/>
                </a:cubicBezTo>
                <a:close/>
                <a:moveTo>
                  <a:pt x="341" y="182"/>
                </a:moveTo>
                <a:cubicBezTo>
                  <a:pt x="344" y="185"/>
                  <a:pt x="346" y="187"/>
                  <a:pt x="348" y="188"/>
                </a:cubicBezTo>
                <a:cubicBezTo>
                  <a:pt x="355" y="193"/>
                  <a:pt x="363" y="206"/>
                  <a:pt x="352" y="206"/>
                </a:cubicBezTo>
                <a:cubicBezTo>
                  <a:pt x="349" y="206"/>
                  <a:pt x="346" y="205"/>
                  <a:pt x="341" y="203"/>
                </a:cubicBezTo>
                <a:cubicBezTo>
                  <a:pt x="341" y="230"/>
                  <a:pt x="341" y="230"/>
                  <a:pt x="341" y="230"/>
                </a:cubicBezTo>
                <a:cubicBezTo>
                  <a:pt x="358" y="238"/>
                  <a:pt x="370" y="244"/>
                  <a:pt x="367" y="243"/>
                </a:cubicBezTo>
                <a:cubicBezTo>
                  <a:pt x="358" y="240"/>
                  <a:pt x="349" y="238"/>
                  <a:pt x="341" y="235"/>
                </a:cubicBezTo>
                <a:cubicBezTo>
                  <a:pt x="341" y="278"/>
                  <a:pt x="341" y="278"/>
                  <a:pt x="341" y="278"/>
                </a:cubicBezTo>
                <a:cubicBezTo>
                  <a:pt x="349" y="269"/>
                  <a:pt x="357" y="264"/>
                  <a:pt x="357" y="264"/>
                </a:cubicBezTo>
                <a:cubicBezTo>
                  <a:pt x="357" y="264"/>
                  <a:pt x="350" y="277"/>
                  <a:pt x="344" y="288"/>
                </a:cubicBezTo>
                <a:cubicBezTo>
                  <a:pt x="343" y="290"/>
                  <a:pt x="342" y="292"/>
                  <a:pt x="341" y="294"/>
                </a:cubicBezTo>
                <a:cubicBezTo>
                  <a:pt x="341" y="359"/>
                  <a:pt x="341" y="359"/>
                  <a:pt x="341" y="359"/>
                </a:cubicBezTo>
                <a:cubicBezTo>
                  <a:pt x="357" y="357"/>
                  <a:pt x="382" y="327"/>
                  <a:pt x="388" y="317"/>
                </a:cubicBezTo>
                <a:cubicBezTo>
                  <a:pt x="388" y="317"/>
                  <a:pt x="388" y="317"/>
                  <a:pt x="388" y="316"/>
                </a:cubicBezTo>
                <a:cubicBezTo>
                  <a:pt x="388" y="134"/>
                  <a:pt x="388" y="134"/>
                  <a:pt x="388" y="134"/>
                </a:cubicBezTo>
                <a:cubicBezTo>
                  <a:pt x="388" y="134"/>
                  <a:pt x="388" y="134"/>
                  <a:pt x="388" y="133"/>
                </a:cubicBezTo>
                <a:cubicBezTo>
                  <a:pt x="376" y="104"/>
                  <a:pt x="371" y="98"/>
                  <a:pt x="371" y="98"/>
                </a:cubicBezTo>
                <a:cubicBezTo>
                  <a:pt x="376" y="98"/>
                  <a:pt x="383" y="106"/>
                  <a:pt x="388" y="117"/>
                </a:cubicBezTo>
                <a:cubicBezTo>
                  <a:pt x="388" y="29"/>
                  <a:pt x="388" y="29"/>
                  <a:pt x="388" y="29"/>
                </a:cubicBezTo>
                <a:cubicBezTo>
                  <a:pt x="369" y="15"/>
                  <a:pt x="347" y="0"/>
                  <a:pt x="347" y="0"/>
                </a:cubicBezTo>
                <a:cubicBezTo>
                  <a:pt x="347" y="0"/>
                  <a:pt x="360" y="22"/>
                  <a:pt x="353" y="28"/>
                </a:cubicBezTo>
                <a:cubicBezTo>
                  <a:pt x="348" y="32"/>
                  <a:pt x="344" y="31"/>
                  <a:pt x="341" y="28"/>
                </a:cubicBezTo>
                <a:cubicBezTo>
                  <a:pt x="341" y="182"/>
                  <a:pt x="341" y="182"/>
                  <a:pt x="341" y="182"/>
                </a:cubicBezTo>
                <a:close/>
                <a:moveTo>
                  <a:pt x="341" y="459"/>
                </a:moveTo>
                <a:cubicBezTo>
                  <a:pt x="351" y="479"/>
                  <a:pt x="351" y="479"/>
                  <a:pt x="351" y="479"/>
                </a:cubicBezTo>
                <a:cubicBezTo>
                  <a:pt x="351" y="479"/>
                  <a:pt x="364" y="478"/>
                  <a:pt x="359" y="466"/>
                </a:cubicBezTo>
                <a:cubicBezTo>
                  <a:pt x="355" y="459"/>
                  <a:pt x="350" y="448"/>
                  <a:pt x="341" y="438"/>
                </a:cubicBezTo>
                <a:cubicBezTo>
                  <a:pt x="341" y="459"/>
                  <a:pt x="341" y="459"/>
                  <a:pt x="341" y="459"/>
                </a:cubicBezTo>
                <a:close/>
                <a:moveTo>
                  <a:pt x="341" y="411"/>
                </a:moveTo>
                <a:cubicBezTo>
                  <a:pt x="341" y="404"/>
                  <a:pt x="341" y="404"/>
                  <a:pt x="341" y="404"/>
                </a:cubicBezTo>
                <a:cubicBezTo>
                  <a:pt x="345" y="405"/>
                  <a:pt x="349" y="406"/>
                  <a:pt x="353" y="407"/>
                </a:cubicBezTo>
                <a:cubicBezTo>
                  <a:pt x="375" y="413"/>
                  <a:pt x="375" y="431"/>
                  <a:pt x="377" y="435"/>
                </a:cubicBezTo>
                <a:cubicBezTo>
                  <a:pt x="378" y="438"/>
                  <a:pt x="383" y="443"/>
                  <a:pt x="388" y="448"/>
                </a:cubicBezTo>
                <a:cubicBezTo>
                  <a:pt x="388" y="453"/>
                  <a:pt x="388" y="453"/>
                  <a:pt x="388" y="453"/>
                </a:cubicBezTo>
                <a:cubicBezTo>
                  <a:pt x="384" y="450"/>
                  <a:pt x="381" y="447"/>
                  <a:pt x="381" y="447"/>
                </a:cubicBezTo>
                <a:cubicBezTo>
                  <a:pt x="381" y="447"/>
                  <a:pt x="380" y="452"/>
                  <a:pt x="378" y="460"/>
                </a:cubicBezTo>
                <a:cubicBezTo>
                  <a:pt x="376" y="468"/>
                  <a:pt x="364" y="477"/>
                  <a:pt x="364" y="477"/>
                </a:cubicBezTo>
                <a:cubicBezTo>
                  <a:pt x="364" y="477"/>
                  <a:pt x="376" y="452"/>
                  <a:pt x="376" y="445"/>
                </a:cubicBezTo>
                <a:cubicBezTo>
                  <a:pt x="376" y="439"/>
                  <a:pt x="375" y="438"/>
                  <a:pt x="370" y="439"/>
                </a:cubicBezTo>
                <a:cubicBezTo>
                  <a:pt x="366" y="439"/>
                  <a:pt x="369" y="431"/>
                  <a:pt x="369" y="431"/>
                </a:cubicBezTo>
                <a:cubicBezTo>
                  <a:pt x="370" y="421"/>
                  <a:pt x="360" y="415"/>
                  <a:pt x="347" y="412"/>
                </a:cubicBezTo>
                <a:cubicBezTo>
                  <a:pt x="345" y="412"/>
                  <a:pt x="343" y="411"/>
                  <a:pt x="341" y="411"/>
                </a:cubicBezTo>
                <a:close/>
                <a:moveTo>
                  <a:pt x="296" y="12"/>
                </a:moveTo>
                <a:cubicBezTo>
                  <a:pt x="296" y="12"/>
                  <a:pt x="301" y="26"/>
                  <a:pt x="295" y="34"/>
                </a:cubicBezTo>
                <a:cubicBezTo>
                  <a:pt x="289" y="42"/>
                  <a:pt x="274" y="89"/>
                  <a:pt x="297" y="127"/>
                </a:cubicBezTo>
                <a:cubicBezTo>
                  <a:pt x="315" y="158"/>
                  <a:pt x="331" y="174"/>
                  <a:pt x="341" y="182"/>
                </a:cubicBezTo>
                <a:cubicBezTo>
                  <a:pt x="341" y="28"/>
                  <a:pt x="341" y="28"/>
                  <a:pt x="341" y="28"/>
                </a:cubicBezTo>
                <a:cubicBezTo>
                  <a:pt x="340" y="26"/>
                  <a:pt x="339" y="24"/>
                  <a:pt x="338" y="22"/>
                </a:cubicBezTo>
                <a:cubicBezTo>
                  <a:pt x="335" y="16"/>
                  <a:pt x="329" y="6"/>
                  <a:pt x="329" y="6"/>
                </a:cubicBezTo>
                <a:cubicBezTo>
                  <a:pt x="329" y="6"/>
                  <a:pt x="338" y="28"/>
                  <a:pt x="334" y="32"/>
                </a:cubicBezTo>
                <a:cubicBezTo>
                  <a:pt x="330" y="37"/>
                  <a:pt x="324" y="43"/>
                  <a:pt x="319" y="36"/>
                </a:cubicBezTo>
                <a:cubicBezTo>
                  <a:pt x="313" y="28"/>
                  <a:pt x="311" y="20"/>
                  <a:pt x="306" y="16"/>
                </a:cubicBezTo>
                <a:cubicBezTo>
                  <a:pt x="302" y="13"/>
                  <a:pt x="296" y="12"/>
                  <a:pt x="296" y="12"/>
                </a:cubicBezTo>
                <a:close/>
                <a:moveTo>
                  <a:pt x="341" y="203"/>
                </a:moveTo>
                <a:cubicBezTo>
                  <a:pt x="341" y="230"/>
                  <a:pt x="341" y="230"/>
                  <a:pt x="341" y="230"/>
                </a:cubicBezTo>
                <a:cubicBezTo>
                  <a:pt x="308" y="215"/>
                  <a:pt x="259" y="193"/>
                  <a:pt x="273" y="202"/>
                </a:cubicBezTo>
                <a:cubicBezTo>
                  <a:pt x="294" y="216"/>
                  <a:pt x="313" y="227"/>
                  <a:pt x="337" y="234"/>
                </a:cubicBezTo>
                <a:cubicBezTo>
                  <a:pt x="338" y="234"/>
                  <a:pt x="340" y="235"/>
                  <a:pt x="341" y="235"/>
                </a:cubicBezTo>
                <a:cubicBezTo>
                  <a:pt x="341" y="278"/>
                  <a:pt x="341" y="278"/>
                  <a:pt x="341" y="278"/>
                </a:cubicBezTo>
                <a:cubicBezTo>
                  <a:pt x="337" y="284"/>
                  <a:pt x="332" y="292"/>
                  <a:pt x="330" y="301"/>
                </a:cubicBezTo>
                <a:cubicBezTo>
                  <a:pt x="324" y="326"/>
                  <a:pt x="325" y="351"/>
                  <a:pt x="325" y="351"/>
                </a:cubicBezTo>
                <a:cubicBezTo>
                  <a:pt x="325" y="351"/>
                  <a:pt x="335" y="312"/>
                  <a:pt x="341" y="294"/>
                </a:cubicBezTo>
                <a:cubicBezTo>
                  <a:pt x="341" y="359"/>
                  <a:pt x="341" y="359"/>
                  <a:pt x="341" y="359"/>
                </a:cubicBezTo>
                <a:cubicBezTo>
                  <a:pt x="341" y="359"/>
                  <a:pt x="340" y="359"/>
                  <a:pt x="339" y="359"/>
                </a:cubicBezTo>
                <a:cubicBezTo>
                  <a:pt x="324" y="359"/>
                  <a:pt x="326" y="377"/>
                  <a:pt x="326" y="377"/>
                </a:cubicBezTo>
                <a:cubicBezTo>
                  <a:pt x="326" y="377"/>
                  <a:pt x="313" y="365"/>
                  <a:pt x="308" y="338"/>
                </a:cubicBezTo>
                <a:cubicBezTo>
                  <a:pt x="305" y="313"/>
                  <a:pt x="323" y="278"/>
                  <a:pt x="328" y="269"/>
                </a:cubicBezTo>
                <a:cubicBezTo>
                  <a:pt x="321" y="270"/>
                  <a:pt x="310" y="272"/>
                  <a:pt x="300" y="275"/>
                </a:cubicBezTo>
                <a:cubicBezTo>
                  <a:pt x="289" y="279"/>
                  <a:pt x="281" y="283"/>
                  <a:pt x="276" y="288"/>
                </a:cubicBezTo>
                <a:cubicBezTo>
                  <a:pt x="270" y="294"/>
                  <a:pt x="266" y="302"/>
                  <a:pt x="264" y="313"/>
                </a:cubicBezTo>
                <a:cubicBezTo>
                  <a:pt x="264" y="313"/>
                  <a:pt x="270" y="310"/>
                  <a:pt x="275" y="311"/>
                </a:cubicBezTo>
                <a:cubicBezTo>
                  <a:pt x="280" y="312"/>
                  <a:pt x="275" y="322"/>
                  <a:pt x="272" y="323"/>
                </a:cubicBezTo>
                <a:cubicBezTo>
                  <a:pt x="269" y="324"/>
                  <a:pt x="261" y="318"/>
                  <a:pt x="261" y="318"/>
                </a:cubicBezTo>
                <a:cubicBezTo>
                  <a:pt x="256" y="334"/>
                  <a:pt x="259" y="406"/>
                  <a:pt x="296" y="405"/>
                </a:cubicBezTo>
                <a:cubicBezTo>
                  <a:pt x="313" y="405"/>
                  <a:pt x="326" y="402"/>
                  <a:pt x="341" y="404"/>
                </a:cubicBezTo>
                <a:cubicBezTo>
                  <a:pt x="341" y="411"/>
                  <a:pt x="341" y="411"/>
                  <a:pt x="341" y="411"/>
                </a:cubicBezTo>
                <a:cubicBezTo>
                  <a:pt x="324" y="409"/>
                  <a:pt x="305" y="411"/>
                  <a:pt x="303" y="413"/>
                </a:cubicBezTo>
                <a:cubicBezTo>
                  <a:pt x="303" y="413"/>
                  <a:pt x="307" y="414"/>
                  <a:pt x="325" y="424"/>
                </a:cubicBezTo>
                <a:cubicBezTo>
                  <a:pt x="331" y="427"/>
                  <a:pt x="336" y="432"/>
                  <a:pt x="341" y="438"/>
                </a:cubicBezTo>
                <a:cubicBezTo>
                  <a:pt x="341" y="459"/>
                  <a:pt x="341" y="459"/>
                  <a:pt x="341" y="459"/>
                </a:cubicBezTo>
                <a:cubicBezTo>
                  <a:pt x="335" y="445"/>
                  <a:pt x="335" y="445"/>
                  <a:pt x="335" y="445"/>
                </a:cubicBezTo>
                <a:cubicBezTo>
                  <a:pt x="315" y="432"/>
                  <a:pt x="315" y="432"/>
                  <a:pt x="315" y="432"/>
                </a:cubicBezTo>
                <a:cubicBezTo>
                  <a:pt x="315" y="432"/>
                  <a:pt x="294" y="421"/>
                  <a:pt x="275" y="406"/>
                </a:cubicBezTo>
                <a:cubicBezTo>
                  <a:pt x="257" y="391"/>
                  <a:pt x="250" y="352"/>
                  <a:pt x="251" y="339"/>
                </a:cubicBezTo>
                <a:cubicBezTo>
                  <a:pt x="252" y="327"/>
                  <a:pt x="257" y="294"/>
                  <a:pt x="256" y="274"/>
                </a:cubicBezTo>
                <a:cubicBezTo>
                  <a:pt x="255" y="257"/>
                  <a:pt x="252" y="249"/>
                  <a:pt x="247" y="245"/>
                </a:cubicBezTo>
                <a:cubicBezTo>
                  <a:pt x="232" y="237"/>
                  <a:pt x="211" y="245"/>
                  <a:pt x="214" y="265"/>
                </a:cubicBezTo>
                <a:cubicBezTo>
                  <a:pt x="216" y="273"/>
                  <a:pt x="220" y="281"/>
                  <a:pt x="221" y="283"/>
                </a:cubicBezTo>
                <a:cubicBezTo>
                  <a:pt x="225" y="283"/>
                  <a:pt x="228" y="283"/>
                  <a:pt x="229" y="281"/>
                </a:cubicBezTo>
                <a:cubicBezTo>
                  <a:pt x="232" y="277"/>
                  <a:pt x="232" y="270"/>
                  <a:pt x="232" y="270"/>
                </a:cubicBezTo>
                <a:cubicBezTo>
                  <a:pt x="232" y="270"/>
                  <a:pt x="239" y="286"/>
                  <a:pt x="234" y="304"/>
                </a:cubicBezTo>
                <a:cubicBezTo>
                  <a:pt x="229" y="319"/>
                  <a:pt x="211" y="334"/>
                  <a:pt x="207" y="336"/>
                </a:cubicBezTo>
                <a:cubicBezTo>
                  <a:pt x="207" y="319"/>
                  <a:pt x="207" y="319"/>
                  <a:pt x="207" y="319"/>
                </a:cubicBezTo>
                <a:cubicBezTo>
                  <a:pt x="209" y="317"/>
                  <a:pt x="211" y="316"/>
                  <a:pt x="212" y="314"/>
                </a:cubicBezTo>
                <a:cubicBezTo>
                  <a:pt x="219" y="304"/>
                  <a:pt x="226" y="291"/>
                  <a:pt x="226" y="291"/>
                </a:cubicBezTo>
                <a:cubicBezTo>
                  <a:pt x="226" y="291"/>
                  <a:pt x="214" y="305"/>
                  <a:pt x="209" y="310"/>
                </a:cubicBezTo>
                <a:cubicBezTo>
                  <a:pt x="208" y="311"/>
                  <a:pt x="208" y="312"/>
                  <a:pt x="207" y="312"/>
                </a:cubicBezTo>
                <a:cubicBezTo>
                  <a:pt x="207" y="283"/>
                  <a:pt x="207" y="283"/>
                  <a:pt x="207" y="283"/>
                </a:cubicBezTo>
                <a:cubicBezTo>
                  <a:pt x="209" y="283"/>
                  <a:pt x="211" y="283"/>
                  <a:pt x="214" y="283"/>
                </a:cubicBezTo>
                <a:cubicBezTo>
                  <a:pt x="213" y="279"/>
                  <a:pt x="211" y="274"/>
                  <a:pt x="210" y="270"/>
                </a:cubicBezTo>
                <a:cubicBezTo>
                  <a:pt x="207" y="261"/>
                  <a:pt x="207" y="252"/>
                  <a:pt x="212" y="245"/>
                </a:cubicBezTo>
                <a:cubicBezTo>
                  <a:pt x="217" y="240"/>
                  <a:pt x="222" y="237"/>
                  <a:pt x="227" y="236"/>
                </a:cubicBezTo>
                <a:cubicBezTo>
                  <a:pt x="243" y="232"/>
                  <a:pt x="254" y="241"/>
                  <a:pt x="259" y="252"/>
                </a:cubicBezTo>
                <a:cubicBezTo>
                  <a:pt x="264" y="265"/>
                  <a:pt x="262" y="279"/>
                  <a:pt x="264" y="293"/>
                </a:cubicBezTo>
                <a:cubicBezTo>
                  <a:pt x="264" y="293"/>
                  <a:pt x="266" y="291"/>
                  <a:pt x="269" y="288"/>
                </a:cubicBezTo>
                <a:cubicBezTo>
                  <a:pt x="278" y="279"/>
                  <a:pt x="284" y="275"/>
                  <a:pt x="297" y="271"/>
                </a:cubicBezTo>
                <a:cubicBezTo>
                  <a:pt x="321" y="263"/>
                  <a:pt x="321" y="263"/>
                  <a:pt x="321" y="263"/>
                </a:cubicBezTo>
                <a:cubicBezTo>
                  <a:pt x="307" y="258"/>
                  <a:pt x="280" y="246"/>
                  <a:pt x="267" y="227"/>
                </a:cubicBezTo>
                <a:cubicBezTo>
                  <a:pt x="249" y="201"/>
                  <a:pt x="252" y="173"/>
                  <a:pt x="252" y="173"/>
                </a:cubicBezTo>
                <a:cubicBezTo>
                  <a:pt x="252" y="173"/>
                  <a:pt x="258" y="184"/>
                  <a:pt x="264" y="188"/>
                </a:cubicBezTo>
                <a:cubicBezTo>
                  <a:pt x="270" y="194"/>
                  <a:pt x="295" y="179"/>
                  <a:pt x="302" y="179"/>
                </a:cubicBezTo>
                <a:cubicBezTo>
                  <a:pt x="308" y="179"/>
                  <a:pt x="327" y="195"/>
                  <a:pt x="341" y="203"/>
                </a:cubicBezTo>
                <a:close/>
                <a:moveTo>
                  <a:pt x="207" y="391"/>
                </a:moveTo>
                <a:cubicBezTo>
                  <a:pt x="211" y="392"/>
                  <a:pt x="215" y="393"/>
                  <a:pt x="217" y="392"/>
                </a:cubicBezTo>
                <a:cubicBezTo>
                  <a:pt x="226" y="389"/>
                  <a:pt x="229" y="400"/>
                  <a:pt x="229" y="400"/>
                </a:cubicBezTo>
                <a:cubicBezTo>
                  <a:pt x="229" y="400"/>
                  <a:pt x="234" y="390"/>
                  <a:pt x="231" y="374"/>
                </a:cubicBezTo>
                <a:cubicBezTo>
                  <a:pt x="229" y="359"/>
                  <a:pt x="211" y="341"/>
                  <a:pt x="207" y="338"/>
                </a:cubicBezTo>
                <a:cubicBezTo>
                  <a:pt x="207" y="350"/>
                  <a:pt x="207" y="350"/>
                  <a:pt x="207" y="350"/>
                </a:cubicBezTo>
                <a:cubicBezTo>
                  <a:pt x="209" y="352"/>
                  <a:pt x="211" y="354"/>
                  <a:pt x="212" y="357"/>
                </a:cubicBezTo>
                <a:cubicBezTo>
                  <a:pt x="220" y="370"/>
                  <a:pt x="224" y="385"/>
                  <a:pt x="224" y="385"/>
                </a:cubicBezTo>
                <a:cubicBezTo>
                  <a:pt x="224" y="385"/>
                  <a:pt x="214" y="368"/>
                  <a:pt x="207" y="358"/>
                </a:cubicBezTo>
                <a:lnTo>
                  <a:pt x="207" y="391"/>
                </a:lnTo>
                <a:close/>
                <a:moveTo>
                  <a:pt x="207" y="283"/>
                </a:moveTo>
                <a:cubicBezTo>
                  <a:pt x="206" y="283"/>
                  <a:pt x="206" y="283"/>
                  <a:pt x="205" y="283"/>
                </a:cubicBezTo>
                <a:cubicBezTo>
                  <a:pt x="201" y="284"/>
                  <a:pt x="188" y="305"/>
                  <a:pt x="182" y="307"/>
                </a:cubicBezTo>
                <a:cubicBezTo>
                  <a:pt x="176" y="310"/>
                  <a:pt x="178" y="300"/>
                  <a:pt x="181" y="296"/>
                </a:cubicBezTo>
                <a:cubicBezTo>
                  <a:pt x="184" y="292"/>
                  <a:pt x="193" y="279"/>
                  <a:pt x="199" y="253"/>
                </a:cubicBezTo>
                <a:cubicBezTo>
                  <a:pt x="204" y="227"/>
                  <a:pt x="188" y="203"/>
                  <a:pt x="183" y="199"/>
                </a:cubicBezTo>
                <a:cubicBezTo>
                  <a:pt x="178" y="196"/>
                  <a:pt x="178" y="187"/>
                  <a:pt x="178" y="187"/>
                </a:cubicBezTo>
                <a:cubicBezTo>
                  <a:pt x="178" y="187"/>
                  <a:pt x="175" y="188"/>
                  <a:pt x="173" y="192"/>
                </a:cubicBezTo>
                <a:cubicBezTo>
                  <a:pt x="171" y="195"/>
                  <a:pt x="171" y="200"/>
                  <a:pt x="169" y="205"/>
                </a:cubicBezTo>
                <a:cubicBezTo>
                  <a:pt x="168" y="210"/>
                  <a:pt x="164" y="208"/>
                  <a:pt x="160" y="206"/>
                </a:cubicBezTo>
                <a:cubicBezTo>
                  <a:pt x="157" y="203"/>
                  <a:pt x="158" y="190"/>
                  <a:pt x="158" y="190"/>
                </a:cubicBezTo>
                <a:cubicBezTo>
                  <a:pt x="158" y="190"/>
                  <a:pt x="157" y="197"/>
                  <a:pt x="156" y="200"/>
                </a:cubicBezTo>
                <a:cubicBezTo>
                  <a:pt x="156" y="203"/>
                  <a:pt x="155" y="205"/>
                  <a:pt x="154" y="206"/>
                </a:cubicBezTo>
                <a:cubicBezTo>
                  <a:pt x="154" y="302"/>
                  <a:pt x="154" y="302"/>
                  <a:pt x="154" y="302"/>
                </a:cubicBezTo>
                <a:cubicBezTo>
                  <a:pt x="158" y="315"/>
                  <a:pt x="164" y="326"/>
                  <a:pt x="164" y="326"/>
                </a:cubicBezTo>
                <a:cubicBezTo>
                  <a:pt x="164" y="326"/>
                  <a:pt x="159" y="326"/>
                  <a:pt x="155" y="319"/>
                </a:cubicBezTo>
                <a:cubicBezTo>
                  <a:pt x="154" y="318"/>
                  <a:pt x="154" y="317"/>
                  <a:pt x="154" y="316"/>
                </a:cubicBezTo>
                <a:cubicBezTo>
                  <a:pt x="154" y="346"/>
                  <a:pt x="154" y="346"/>
                  <a:pt x="154" y="346"/>
                </a:cubicBezTo>
                <a:cubicBezTo>
                  <a:pt x="154" y="344"/>
                  <a:pt x="155" y="344"/>
                  <a:pt x="155" y="344"/>
                </a:cubicBezTo>
                <a:cubicBezTo>
                  <a:pt x="155" y="344"/>
                  <a:pt x="155" y="345"/>
                  <a:pt x="154" y="346"/>
                </a:cubicBezTo>
                <a:cubicBezTo>
                  <a:pt x="154" y="459"/>
                  <a:pt x="154" y="459"/>
                  <a:pt x="154" y="459"/>
                </a:cubicBezTo>
                <a:cubicBezTo>
                  <a:pt x="157" y="466"/>
                  <a:pt x="164" y="474"/>
                  <a:pt x="164" y="474"/>
                </a:cubicBezTo>
                <a:cubicBezTo>
                  <a:pt x="164" y="474"/>
                  <a:pt x="165" y="474"/>
                  <a:pt x="171" y="460"/>
                </a:cubicBezTo>
                <a:cubicBezTo>
                  <a:pt x="177" y="445"/>
                  <a:pt x="178" y="412"/>
                  <a:pt x="177" y="408"/>
                </a:cubicBezTo>
                <a:cubicBezTo>
                  <a:pt x="177" y="404"/>
                  <a:pt x="166" y="370"/>
                  <a:pt x="169" y="365"/>
                </a:cubicBezTo>
                <a:cubicBezTo>
                  <a:pt x="172" y="361"/>
                  <a:pt x="177" y="372"/>
                  <a:pt x="182" y="377"/>
                </a:cubicBezTo>
                <a:cubicBezTo>
                  <a:pt x="186" y="380"/>
                  <a:pt x="197" y="387"/>
                  <a:pt x="207" y="391"/>
                </a:cubicBezTo>
                <a:cubicBezTo>
                  <a:pt x="207" y="358"/>
                  <a:pt x="207" y="358"/>
                  <a:pt x="207" y="358"/>
                </a:cubicBezTo>
                <a:cubicBezTo>
                  <a:pt x="205" y="356"/>
                  <a:pt x="203" y="353"/>
                  <a:pt x="202" y="352"/>
                </a:cubicBezTo>
                <a:cubicBezTo>
                  <a:pt x="196" y="347"/>
                  <a:pt x="190" y="341"/>
                  <a:pt x="190" y="341"/>
                </a:cubicBezTo>
                <a:cubicBezTo>
                  <a:pt x="190" y="341"/>
                  <a:pt x="199" y="343"/>
                  <a:pt x="207" y="350"/>
                </a:cubicBezTo>
                <a:cubicBezTo>
                  <a:pt x="207" y="338"/>
                  <a:pt x="207" y="338"/>
                  <a:pt x="207" y="338"/>
                </a:cubicBezTo>
                <a:cubicBezTo>
                  <a:pt x="206" y="337"/>
                  <a:pt x="206" y="337"/>
                  <a:pt x="206" y="337"/>
                </a:cubicBezTo>
                <a:cubicBezTo>
                  <a:pt x="206" y="337"/>
                  <a:pt x="206" y="337"/>
                  <a:pt x="207" y="336"/>
                </a:cubicBezTo>
                <a:cubicBezTo>
                  <a:pt x="207" y="319"/>
                  <a:pt x="207" y="319"/>
                  <a:pt x="207" y="319"/>
                </a:cubicBezTo>
                <a:cubicBezTo>
                  <a:pt x="197" y="326"/>
                  <a:pt x="180" y="330"/>
                  <a:pt x="180" y="330"/>
                </a:cubicBezTo>
                <a:cubicBezTo>
                  <a:pt x="182" y="328"/>
                  <a:pt x="182" y="328"/>
                  <a:pt x="182" y="328"/>
                </a:cubicBezTo>
                <a:cubicBezTo>
                  <a:pt x="182" y="328"/>
                  <a:pt x="199" y="318"/>
                  <a:pt x="207" y="312"/>
                </a:cubicBezTo>
                <a:lnTo>
                  <a:pt x="207" y="283"/>
                </a:lnTo>
                <a:close/>
                <a:moveTo>
                  <a:pt x="154" y="206"/>
                </a:moveTo>
                <a:cubicBezTo>
                  <a:pt x="152" y="207"/>
                  <a:pt x="151" y="208"/>
                  <a:pt x="149" y="206"/>
                </a:cubicBezTo>
                <a:cubicBezTo>
                  <a:pt x="144" y="204"/>
                  <a:pt x="147" y="189"/>
                  <a:pt x="147" y="189"/>
                </a:cubicBezTo>
                <a:cubicBezTo>
                  <a:pt x="147" y="189"/>
                  <a:pt x="144" y="192"/>
                  <a:pt x="141" y="197"/>
                </a:cubicBezTo>
                <a:cubicBezTo>
                  <a:pt x="141" y="314"/>
                  <a:pt x="141" y="314"/>
                  <a:pt x="141" y="314"/>
                </a:cubicBezTo>
                <a:cubicBezTo>
                  <a:pt x="141" y="314"/>
                  <a:pt x="141" y="314"/>
                  <a:pt x="142" y="315"/>
                </a:cubicBezTo>
                <a:cubicBezTo>
                  <a:pt x="147" y="319"/>
                  <a:pt x="145" y="333"/>
                  <a:pt x="145" y="333"/>
                </a:cubicBezTo>
                <a:cubicBezTo>
                  <a:pt x="145" y="333"/>
                  <a:pt x="143" y="332"/>
                  <a:pt x="141" y="331"/>
                </a:cubicBezTo>
                <a:cubicBezTo>
                  <a:pt x="141" y="359"/>
                  <a:pt x="141" y="359"/>
                  <a:pt x="141" y="359"/>
                </a:cubicBezTo>
                <a:cubicBezTo>
                  <a:pt x="146" y="353"/>
                  <a:pt x="151" y="348"/>
                  <a:pt x="154" y="346"/>
                </a:cubicBezTo>
                <a:cubicBezTo>
                  <a:pt x="154" y="316"/>
                  <a:pt x="154" y="316"/>
                  <a:pt x="154" y="316"/>
                </a:cubicBezTo>
                <a:cubicBezTo>
                  <a:pt x="151" y="308"/>
                  <a:pt x="148" y="293"/>
                  <a:pt x="144" y="282"/>
                </a:cubicBezTo>
                <a:cubicBezTo>
                  <a:pt x="141" y="270"/>
                  <a:pt x="152" y="250"/>
                  <a:pt x="152" y="250"/>
                </a:cubicBezTo>
                <a:cubicBezTo>
                  <a:pt x="152" y="250"/>
                  <a:pt x="149" y="253"/>
                  <a:pt x="148" y="273"/>
                </a:cubicBezTo>
                <a:cubicBezTo>
                  <a:pt x="147" y="281"/>
                  <a:pt x="150" y="292"/>
                  <a:pt x="154" y="302"/>
                </a:cubicBezTo>
                <a:cubicBezTo>
                  <a:pt x="154" y="206"/>
                  <a:pt x="154" y="206"/>
                  <a:pt x="154" y="206"/>
                </a:cubicBezTo>
                <a:close/>
                <a:moveTo>
                  <a:pt x="141" y="452"/>
                </a:moveTo>
                <a:cubicBezTo>
                  <a:pt x="141" y="370"/>
                  <a:pt x="141" y="370"/>
                  <a:pt x="141" y="370"/>
                </a:cubicBezTo>
                <a:cubicBezTo>
                  <a:pt x="147" y="357"/>
                  <a:pt x="151" y="350"/>
                  <a:pt x="154" y="346"/>
                </a:cubicBezTo>
                <a:cubicBezTo>
                  <a:pt x="154" y="459"/>
                  <a:pt x="154" y="459"/>
                  <a:pt x="154" y="459"/>
                </a:cubicBezTo>
                <a:cubicBezTo>
                  <a:pt x="153" y="458"/>
                  <a:pt x="152" y="456"/>
                  <a:pt x="152" y="456"/>
                </a:cubicBezTo>
                <a:cubicBezTo>
                  <a:pt x="150" y="450"/>
                  <a:pt x="152" y="439"/>
                  <a:pt x="146" y="442"/>
                </a:cubicBezTo>
                <a:cubicBezTo>
                  <a:pt x="144" y="443"/>
                  <a:pt x="142" y="448"/>
                  <a:pt x="141" y="452"/>
                </a:cubicBezTo>
                <a:close/>
                <a:moveTo>
                  <a:pt x="141" y="197"/>
                </a:moveTo>
                <a:cubicBezTo>
                  <a:pt x="136" y="203"/>
                  <a:pt x="130" y="212"/>
                  <a:pt x="125" y="219"/>
                </a:cubicBezTo>
                <a:cubicBezTo>
                  <a:pt x="116" y="231"/>
                  <a:pt x="116" y="248"/>
                  <a:pt x="116" y="266"/>
                </a:cubicBezTo>
                <a:cubicBezTo>
                  <a:pt x="116" y="284"/>
                  <a:pt x="135" y="309"/>
                  <a:pt x="141" y="314"/>
                </a:cubicBezTo>
                <a:cubicBezTo>
                  <a:pt x="141" y="197"/>
                  <a:pt x="141" y="197"/>
                  <a:pt x="141" y="197"/>
                </a:cubicBezTo>
                <a:close/>
                <a:moveTo>
                  <a:pt x="141" y="331"/>
                </a:moveTo>
                <a:cubicBezTo>
                  <a:pt x="141" y="359"/>
                  <a:pt x="141" y="359"/>
                  <a:pt x="141" y="359"/>
                </a:cubicBezTo>
                <a:cubicBezTo>
                  <a:pt x="136" y="365"/>
                  <a:pt x="132" y="373"/>
                  <a:pt x="130" y="380"/>
                </a:cubicBezTo>
                <a:cubicBezTo>
                  <a:pt x="126" y="397"/>
                  <a:pt x="127" y="417"/>
                  <a:pt x="127" y="417"/>
                </a:cubicBezTo>
                <a:cubicBezTo>
                  <a:pt x="127" y="417"/>
                  <a:pt x="131" y="393"/>
                  <a:pt x="140" y="373"/>
                </a:cubicBezTo>
                <a:cubicBezTo>
                  <a:pt x="140" y="372"/>
                  <a:pt x="141" y="371"/>
                  <a:pt x="141" y="370"/>
                </a:cubicBezTo>
                <a:cubicBezTo>
                  <a:pt x="141" y="452"/>
                  <a:pt x="141" y="452"/>
                  <a:pt x="141" y="452"/>
                </a:cubicBezTo>
                <a:cubicBezTo>
                  <a:pt x="139" y="461"/>
                  <a:pt x="138" y="472"/>
                  <a:pt x="138" y="472"/>
                </a:cubicBezTo>
                <a:cubicBezTo>
                  <a:pt x="138" y="472"/>
                  <a:pt x="104" y="468"/>
                  <a:pt x="99" y="440"/>
                </a:cubicBezTo>
                <a:cubicBezTo>
                  <a:pt x="94" y="411"/>
                  <a:pt x="96" y="395"/>
                  <a:pt x="107" y="381"/>
                </a:cubicBezTo>
                <a:cubicBezTo>
                  <a:pt x="117" y="367"/>
                  <a:pt x="140" y="347"/>
                  <a:pt x="140" y="347"/>
                </a:cubicBezTo>
                <a:cubicBezTo>
                  <a:pt x="140" y="347"/>
                  <a:pt x="135" y="334"/>
                  <a:pt x="127" y="343"/>
                </a:cubicBezTo>
                <a:cubicBezTo>
                  <a:pt x="118" y="351"/>
                  <a:pt x="104" y="378"/>
                  <a:pt x="91" y="385"/>
                </a:cubicBezTo>
                <a:cubicBezTo>
                  <a:pt x="89" y="386"/>
                  <a:pt x="86" y="387"/>
                  <a:pt x="84" y="387"/>
                </a:cubicBezTo>
                <a:cubicBezTo>
                  <a:pt x="84" y="345"/>
                  <a:pt x="84" y="345"/>
                  <a:pt x="84" y="345"/>
                </a:cubicBezTo>
                <a:cubicBezTo>
                  <a:pt x="97" y="344"/>
                  <a:pt x="114" y="341"/>
                  <a:pt x="114" y="341"/>
                </a:cubicBezTo>
                <a:cubicBezTo>
                  <a:pt x="123" y="336"/>
                  <a:pt x="123" y="336"/>
                  <a:pt x="123" y="336"/>
                </a:cubicBezTo>
                <a:cubicBezTo>
                  <a:pt x="123" y="336"/>
                  <a:pt x="104" y="340"/>
                  <a:pt x="84" y="340"/>
                </a:cubicBezTo>
                <a:cubicBezTo>
                  <a:pt x="84" y="288"/>
                  <a:pt x="84" y="288"/>
                  <a:pt x="84" y="288"/>
                </a:cubicBezTo>
                <a:cubicBezTo>
                  <a:pt x="85" y="288"/>
                  <a:pt x="86" y="288"/>
                  <a:pt x="86" y="288"/>
                </a:cubicBezTo>
                <a:cubicBezTo>
                  <a:pt x="100" y="291"/>
                  <a:pt x="113" y="294"/>
                  <a:pt x="119" y="305"/>
                </a:cubicBezTo>
                <a:cubicBezTo>
                  <a:pt x="126" y="315"/>
                  <a:pt x="128" y="326"/>
                  <a:pt x="131" y="328"/>
                </a:cubicBezTo>
                <a:cubicBezTo>
                  <a:pt x="133" y="329"/>
                  <a:pt x="138" y="331"/>
                  <a:pt x="141" y="331"/>
                </a:cubicBezTo>
                <a:close/>
                <a:moveTo>
                  <a:pt x="84" y="288"/>
                </a:moveTo>
                <a:cubicBezTo>
                  <a:pt x="71" y="286"/>
                  <a:pt x="53" y="291"/>
                  <a:pt x="52" y="291"/>
                </a:cubicBezTo>
                <a:cubicBezTo>
                  <a:pt x="50" y="291"/>
                  <a:pt x="42" y="283"/>
                  <a:pt x="42" y="283"/>
                </a:cubicBezTo>
                <a:cubicBezTo>
                  <a:pt x="42" y="283"/>
                  <a:pt x="43" y="286"/>
                  <a:pt x="46" y="290"/>
                </a:cubicBezTo>
                <a:cubicBezTo>
                  <a:pt x="48" y="294"/>
                  <a:pt x="54" y="300"/>
                  <a:pt x="59" y="302"/>
                </a:cubicBezTo>
                <a:cubicBezTo>
                  <a:pt x="63" y="304"/>
                  <a:pt x="81" y="314"/>
                  <a:pt x="81" y="314"/>
                </a:cubicBezTo>
                <a:cubicBezTo>
                  <a:pt x="81" y="314"/>
                  <a:pt x="74" y="313"/>
                  <a:pt x="73" y="313"/>
                </a:cubicBezTo>
                <a:cubicBezTo>
                  <a:pt x="73" y="313"/>
                  <a:pt x="56" y="314"/>
                  <a:pt x="48" y="316"/>
                </a:cubicBezTo>
                <a:cubicBezTo>
                  <a:pt x="40" y="318"/>
                  <a:pt x="35" y="324"/>
                  <a:pt x="33" y="329"/>
                </a:cubicBezTo>
                <a:cubicBezTo>
                  <a:pt x="31" y="334"/>
                  <a:pt x="25" y="335"/>
                  <a:pt x="20" y="335"/>
                </a:cubicBezTo>
                <a:cubicBezTo>
                  <a:pt x="10" y="336"/>
                  <a:pt x="4" y="327"/>
                  <a:pt x="8" y="318"/>
                </a:cubicBezTo>
                <a:cubicBezTo>
                  <a:pt x="9" y="314"/>
                  <a:pt x="11" y="311"/>
                  <a:pt x="11" y="311"/>
                </a:cubicBezTo>
                <a:cubicBezTo>
                  <a:pt x="11" y="311"/>
                  <a:pt x="15" y="313"/>
                  <a:pt x="18" y="312"/>
                </a:cubicBezTo>
                <a:cubicBezTo>
                  <a:pt x="21" y="312"/>
                  <a:pt x="22" y="311"/>
                  <a:pt x="21" y="305"/>
                </a:cubicBezTo>
                <a:cubicBezTo>
                  <a:pt x="19" y="299"/>
                  <a:pt x="12" y="302"/>
                  <a:pt x="10" y="304"/>
                </a:cubicBezTo>
                <a:cubicBezTo>
                  <a:pt x="8" y="307"/>
                  <a:pt x="9" y="310"/>
                  <a:pt x="9" y="310"/>
                </a:cubicBezTo>
                <a:cubicBezTo>
                  <a:pt x="0" y="319"/>
                  <a:pt x="3" y="336"/>
                  <a:pt x="19" y="338"/>
                </a:cubicBezTo>
                <a:cubicBezTo>
                  <a:pt x="19" y="338"/>
                  <a:pt x="19" y="340"/>
                  <a:pt x="25" y="347"/>
                </a:cubicBezTo>
                <a:cubicBezTo>
                  <a:pt x="42" y="369"/>
                  <a:pt x="61" y="356"/>
                  <a:pt x="76" y="365"/>
                </a:cubicBezTo>
                <a:cubicBezTo>
                  <a:pt x="78" y="365"/>
                  <a:pt x="78" y="366"/>
                  <a:pt x="78" y="367"/>
                </a:cubicBezTo>
                <a:cubicBezTo>
                  <a:pt x="75" y="373"/>
                  <a:pt x="64" y="371"/>
                  <a:pt x="55" y="374"/>
                </a:cubicBezTo>
                <a:cubicBezTo>
                  <a:pt x="47" y="376"/>
                  <a:pt x="48" y="388"/>
                  <a:pt x="48" y="388"/>
                </a:cubicBezTo>
                <a:cubicBezTo>
                  <a:pt x="48" y="388"/>
                  <a:pt x="53" y="382"/>
                  <a:pt x="60" y="384"/>
                </a:cubicBezTo>
                <a:cubicBezTo>
                  <a:pt x="65" y="385"/>
                  <a:pt x="74" y="390"/>
                  <a:pt x="84" y="387"/>
                </a:cubicBezTo>
                <a:cubicBezTo>
                  <a:pt x="84" y="345"/>
                  <a:pt x="84" y="345"/>
                  <a:pt x="84" y="345"/>
                </a:cubicBezTo>
                <a:cubicBezTo>
                  <a:pt x="82" y="345"/>
                  <a:pt x="81" y="345"/>
                  <a:pt x="79" y="346"/>
                </a:cubicBezTo>
                <a:cubicBezTo>
                  <a:pt x="66" y="346"/>
                  <a:pt x="46" y="340"/>
                  <a:pt x="46" y="340"/>
                </a:cubicBezTo>
                <a:cubicBezTo>
                  <a:pt x="46" y="340"/>
                  <a:pt x="59" y="340"/>
                  <a:pt x="80" y="340"/>
                </a:cubicBezTo>
                <a:cubicBezTo>
                  <a:pt x="82" y="340"/>
                  <a:pt x="83" y="340"/>
                  <a:pt x="84" y="340"/>
                </a:cubicBezTo>
                <a:lnTo>
                  <a:pt x="84" y="288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50000">
                <a:srgbClr val="ffffff"/>
              </a:gs>
              <a:gs pos="100000">
                <a:srgbClr val="ff99c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黄色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99cc">
              <a:alpha val="1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1281"/>
          <p:cNvSpPr/>
          <p:nvPr/>
        </p:nvSpPr>
        <p:spPr>
          <a:xfrm>
            <a:off x="1440" y="2052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1281"/>
          <p:cNvSpPr/>
          <p:nvPr/>
        </p:nvSpPr>
        <p:spPr>
          <a:xfrm>
            <a:off x="1440" y="2052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1281"/>
          <p:cNvSpPr/>
          <p:nvPr/>
        </p:nvSpPr>
        <p:spPr>
          <a:xfrm>
            <a:off x="0" y="2052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solidFill>
            <a:srgbClr val="ff99cc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1281"/>
          <p:cNvSpPr/>
          <p:nvPr/>
        </p:nvSpPr>
        <p:spPr>
          <a:xfrm>
            <a:off x="1440" y="2052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solidFill>
            <a:srgbClr val="ff99cc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reeform 1281"/>
          <p:cNvSpPr/>
          <p:nvPr/>
        </p:nvSpPr>
        <p:spPr>
          <a:xfrm>
            <a:off x="1440" y="2052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solidFill>
            <a:srgbClr val="ff99cc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reeform 1281"/>
          <p:cNvSpPr/>
          <p:nvPr/>
        </p:nvSpPr>
        <p:spPr>
          <a:xfrm>
            <a:off x="1440" y="2052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Freeform 1281"/>
          <p:cNvSpPr/>
          <p:nvPr/>
        </p:nvSpPr>
        <p:spPr>
          <a:xfrm>
            <a:off x="1440" y="2052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1281"/>
          <p:cNvSpPr/>
          <p:nvPr/>
        </p:nvSpPr>
        <p:spPr>
          <a:xfrm>
            <a:off x="0" y="2052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solidFill>
            <a:srgbClr val="ff99cc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 1281"/>
          <p:cNvSpPr/>
          <p:nvPr/>
        </p:nvSpPr>
        <p:spPr>
          <a:xfrm>
            <a:off x="1440" y="2052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solidFill>
            <a:srgbClr val="ff99cc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Freeform 1281"/>
          <p:cNvSpPr/>
          <p:nvPr/>
        </p:nvSpPr>
        <p:spPr>
          <a:xfrm>
            <a:off x="12600" y="0"/>
            <a:ext cx="925560" cy="817560"/>
          </a:xfrm>
          <a:custGeom>
            <a:avLst/>
            <a:gdLst>
              <a:gd name="textAreaLeft" fmla="*/ 0 w 925560"/>
              <a:gd name="textAreaRight" fmla="*/ 925920 w 925560"/>
              <a:gd name="textAreaTop" fmla="*/ 0 h 817560"/>
              <a:gd name="textAreaBottom" fmla="*/ 817920 h 817560"/>
            </a:gdLst>
            <a:ahLst/>
            <a:rect l="textAreaLeft" t="textAreaTop" r="textAreaRight" b="textAreaBottom"/>
            <a:pathLst>
              <a:path w="247" h="218">
                <a:moveTo>
                  <a:pt x="247" y="138"/>
                </a:moveTo>
                <a:cubicBezTo>
                  <a:pt x="247" y="138"/>
                  <a:pt x="240" y="134"/>
                  <a:pt x="240" y="129"/>
                </a:cubicBezTo>
                <a:cubicBezTo>
                  <a:pt x="239" y="123"/>
                  <a:pt x="228" y="99"/>
                  <a:pt x="205" y="92"/>
                </a:cubicBezTo>
                <a:cubicBezTo>
                  <a:pt x="182" y="84"/>
                  <a:pt x="167" y="85"/>
                  <a:pt x="162" y="86"/>
                </a:cubicBezTo>
                <a:cubicBezTo>
                  <a:pt x="161" y="86"/>
                  <a:pt x="159" y="86"/>
                  <a:pt x="157" y="85"/>
                </a:cubicBezTo>
                <a:cubicBezTo>
                  <a:pt x="157" y="117"/>
                  <a:pt x="157" y="117"/>
                  <a:pt x="157" y="117"/>
                </a:cubicBezTo>
                <a:cubicBezTo>
                  <a:pt x="161" y="119"/>
                  <a:pt x="163" y="121"/>
                  <a:pt x="166" y="122"/>
                </a:cubicBezTo>
                <a:cubicBezTo>
                  <a:pt x="182" y="130"/>
                  <a:pt x="186" y="130"/>
                  <a:pt x="186" y="130"/>
                </a:cubicBezTo>
                <a:cubicBezTo>
                  <a:pt x="186" y="130"/>
                  <a:pt x="166" y="130"/>
                  <a:pt x="157" y="122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71" y="159"/>
                  <a:pt x="184" y="167"/>
                  <a:pt x="198" y="165"/>
                </a:cubicBezTo>
                <a:cubicBezTo>
                  <a:pt x="211" y="164"/>
                  <a:pt x="231" y="161"/>
                  <a:pt x="231" y="161"/>
                </a:cubicBezTo>
                <a:cubicBezTo>
                  <a:pt x="231" y="161"/>
                  <a:pt x="218" y="157"/>
                  <a:pt x="219" y="152"/>
                </a:cubicBezTo>
                <a:cubicBezTo>
                  <a:pt x="219" y="147"/>
                  <a:pt x="224" y="147"/>
                  <a:pt x="227" y="149"/>
                </a:cubicBezTo>
                <a:cubicBezTo>
                  <a:pt x="230" y="151"/>
                  <a:pt x="236" y="152"/>
                  <a:pt x="236" y="152"/>
                </a:cubicBezTo>
                <a:cubicBezTo>
                  <a:pt x="236" y="152"/>
                  <a:pt x="225" y="147"/>
                  <a:pt x="225" y="143"/>
                </a:cubicBezTo>
                <a:cubicBezTo>
                  <a:pt x="224" y="140"/>
                  <a:pt x="225" y="136"/>
                  <a:pt x="229" y="137"/>
                </a:cubicBezTo>
                <a:cubicBezTo>
                  <a:pt x="234" y="138"/>
                  <a:pt x="238" y="140"/>
                  <a:pt x="242" y="140"/>
                </a:cubicBezTo>
                <a:cubicBezTo>
                  <a:pt x="245" y="140"/>
                  <a:pt x="247" y="138"/>
                  <a:pt x="247" y="138"/>
                </a:cubicBezTo>
                <a:close/>
                <a:moveTo>
                  <a:pt x="157" y="78"/>
                </a:moveTo>
                <a:cubicBezTo>
                  <a:pt x="166" y="75"/>
                  <a:pt x="182" y="74"/>
                  <a:pt x="184" y="72"/>
                </a:cubicBezTo>
                <a:cubicBezTo>
                  <a:pt x="187" y="70"/>
                  <a:pt x="192" y="55"/>
                  <a:pt x="196" y="55"/>
                </a:cubicBezTo>
                <a:cubicBezTo>
                  <a:pt x="201" y="55"/>
                  <a:pt x="206" y="57"/>
                  <a:pt x="206" y="57"/>
                </a:cubicBezTo>
                <a:cubicBezTo>
                  <a:pt x="206" y="57"/>
                  <a:pt x="198" y="44"/>
                  <a:pt x="181" y="40"/>
                </a:cubicBezTo>
                <a:cubicBezTo>
                  <a:pt x="174" y="38"/>
                  <a:pt x="165" y="39"/>
                  <a:pt x="157" y="41"/>
                </a:cubicBezTo>
                <a:cubicBezTo>
                  <a:pt x="157" y="54"/>
                  <a:pt x="157" y="54"/>
                  <a:pt x="157" y="54"/>
                </a:cubicBezTo>
                <a:cubicBezTo>
                  <a:pt x="159" y="53"/>
                  <a:pt x="161" y="53"/>
                  <a:pt x="162" y="53"/>
                </a:cubicBezTo>
                <a:cubicBezTo>
                  <a:pt x="174" y="52"/>
                  <a:pt x="188" y="52"/>
                  <a:pt x="188" y="52"/>
                </a:cubicBezTo>
                <a:cubicBezTo>
                  <a:pt x="188" y="52"/>
                  <a:pt x="170" y="55"/>
                  <a:pt x="164" y="57"/>
                </a:cubicBezTo>
                <a:cubicBezTo>
                  <a:pt x="162" y="58"/>
                  <a:pt x="160" y="58"/>
                  <a:pt x="157" y="60"/>
                </a:cubicBezTo>
                <a:lnTo>
                  <a:pt x="157" y="78"/>
                </a:lnTo>
                <a:close/>
                <a:moveTo>
                  <a:pt x="157" y="85"/>
                </a:moveTo>
                <a:cubicBezTo>
                  <a:pt x="154" y="84"/>
                  <a:pt x="151" y="82"/>
                  <a:pt x="154" y="79"/>
                </a:cubicBezTo>
                <a:cubicBezTo>
                  <a:pt x="155" y="79"/>
                  <a:pt x="156" y="78"/>
                  <a:pt x="157" y="78"/>
                </a:cubicBezTo>
                <a:cubicBezTo>
                  <a:pt x="157" y="60"/>
                  <a:pt x="157" y="60"/>
                  <a:pt x="157" y="60"/>
                </a:cubicBezTo>
                <a:cubicBezTo>
                  <a:pt x="149" y="64"/>
                  <a:pt x="137" y="71"/>
                  <a:pt x="137" y="71"/>
                </a:cubicBezTo>
                <a:cubicBezTo>
                  <a:pt x="135" y="70"/>
                  <a:pt x="135" y="70"/>
                  <a:pt x="135" y="70"/>
                </a:cubicBezTo>
                <a:cubicBezTo>
                  <a:pt x="135" y="70"/>
                  <a:pt x="147" y="58"/>
                  <a:pt x="157" y="54"/>
                </a:cubicBezTo>
                <a:cubicBezTo>
                  <a:pt x="157" y="41"/>
                  <a:pt x="157" y="41"/>
                  <a:pt x="157" y="41"/>
                </a:cubicBezTo>
                <a:cubicBezTo>
                  <a:pt x="148" y="43"/>
                  <a:pt x="141" y="47"/>
                  <a:pt x="141" y="47"/>
                </a:cubicBezTo>
                <a:cubicBezTo>
                  <a:pt x="141" y="47"/>
                  <a:pt x="136" y="20"/>
                  <a:pt x="124" y="10"/>
                </a:cubicBezTo>
                <a:cubicBezTo>
                  <a:pt x="123" y="10"/>
                  <a:pt x="123" y="9"/>
                  <a:pt x="122" y="9"/>
                </a:cubicBezTo>
                <a:cubicBezTo>
                  <a:pt x="122" y="23"/>
                  <a:pt x="122" y="23"/>
                  <a:pt x="122" y="23"/>
                </a:cubicBezTo>
                <a:cubicBezTo>
                  <a:pt x="124" y="26"/>
                  <a:pt x="127" y="29"/>
                  <a:pt x="128" y="33"/>
                </a:cubicBezTo>
                <a:cubicBezTo>
                  <a:pt x="135" y="45"/>
                  <a:pt x="131" y="58"/>
                  <a:pt x="131" y="58"/>
                </a:cubicBezTo>
                <a:cubicBezTo>
                  <a:pt x="131" y="58"/>
                  <a:pt x="129" y="50"/>
                  <a:pt x="127" y="43"/>
                </a:cubicBezTo>
                <a:cubicBezTo>
                  <a:pt x="127" y="41"/>
                  <a:pt x="125" y="36"/>
                  <a:pt x="122" y="30"/>
                </a:cubicBezTo>
                <a:cubicBezTo>
                  <a:pt x="122" y="100"/>
                  <a:pt x="122" y="100"/>
                  <a:pt x="122" y="100"/>
                </a:cubicBezTo>
                <a:cubicBezTo>
                  <a:pt x="125" y="102"/>
                  <a:pt x="129" y="105"/>
                  <a:pt x="130" y="108"/>
                </a:cubicBezTo>
                <a:cubicBezTo>
                  <a:pt x="131" y="114"/>
                  <a:pt x="142" y="142"/>
                  <a:pt x="156" y="150"/>
                </a:cubicBezTo>
                <a:cubicBezTo>
                  <a:pt x="157" y="151"/>
                  <a:pt x="157" y="151"/>
                  <a:pt x="157" y="151"/>
                </a:cubicBezTo>
                <a:cubicBezTo>
                  <a:pt x="157" y="122"/>
                  <a:pt x="157" y="122"/>
                  <a:pt x="157" y="122"/>
                </a:cubicBezTo>
                <a:cubicBezTo>
                  <a:pt x="157" y="121"/>
                  <a:pt x="157" y="121"/>
                  <a:pt x="157" y="121"/>
                </a:cubicBezTo>
                <a:cubicBezTo>
                  <a:pt x="149" y="112"/>
                  <a:pt x="136" y="102"/>
                  <a:pt x="132" y="95"/>
                </a:cubicBezTo>
                <a:cubicBezTo>
                  <a:pt x="128" y="89"/>
                  <a:pt x="130" y="86"/>
                  <a:pt x="130" y="86"/>
                </a:cubicBezTo>
                <a:cubicBezTo>
                  <a:pt x="130" y="86"/>
                  <a:pt x="144" y="106"/>
                  <a:pt x="157" y="117"/>
                </a:cubicBezTo>
                <a:cubicBezTo>
                  <a:pt x="157" y="85"/>
                  <a:pt x="157" y="85"/>
                  <a:pt x="157" y="85"/>
                </a:cubicBezTo>
                <a:close/>
                <a:moveTo>
                  <a:pt x="122" y="171"/>
                </a:moveTo>
                <a:cubicBezTo>
                  <a:pt x="122" y="122"/>
                  <a:pt x="122" y="122"/>
                  <a:pt x="122" y="122"/>
                </a:cubicBezTo>
                <a:cubicBezTo>
                  <a:pt x="124" y="125"/>
                  <a:pt x="126" y="128"/>
                  <a:pt x="127" y="131"/>
                </a:cubicBezTo>
                <a:cubicBezTo>
                  <a:pt x="133" y="140"/>
                  <a:pt x="130" y="152"/>
                  <a:pt x="125" y="164"/>
                </a:cubicBezTo>
                <a:cubicBezTo>
                  <a:pt x="125" y="167"/>
                  <a:pt x="123" y="169"/>
                  <a:pt x="122" y="171"/>
                </a:cubicBezTo>
                <a:close/>
                <a:moveTo>
                  <a:pt x="122" y="9"/>
                </a:moveTo>
                <a:cubicBezTo>
                  <a:pt x="111" y="0"/>
                  <a:pt x="102" y="1"/>
                  <a:pt x="102" y="1"/>
                </a:cubicBezTo>
                <a:cubicBezTo>
                  <a:pt x="102" y="1"/>
                  <a:pt x="109" y="7"/>
                  <a:pt x="103" y="13"/>
                </a:cubicBezTo>
                <a:cubicBezTo>
                  <a:pt x="97" y="18"/>
                  <a:pt x="97" y="41"/>
                  <a:pt x="99" y="48"/>
                </a:cubicBezTo>
                <a:cubicBezTo>
                  <a:pt x="100" y="54"/>
                  <a:pt x="107" y="63"/>
                  <a:pt x="102" y="63"/>
                </a:cubicBezTo>
                <a:cubicBezTo>
                  <a:pt x="99" y="63"/>
                  <a:pt x="91" y="56"/>
                  <a:pt x="84" y="49"/>
                </a:cubicBezTo>
                <a:cubicBezTo>
                  <a:pt x="84" y="83"/>
                  <a:pt x="84" y="83"/>
                  <a:pt x="84" y="83"/>
                </a:cubicBezTo>
                <a:cubicBezTo>
                  <a:pt x="104" y="85"/>
                  <a:pt x="112" y="84"/>
                  <a:pt x="112" y="84"/>
                </a:cubicBezTo>
                <a:cubicBezTo>
                  <a:pt x="112" y="84"/>
                  <a:pt x="98" y="89"/>
                  <a:pt x="84" y="89"/>
                </a:cubicBezTo>
                <a:cubicBezTo>
                  <a:pt x="84" y="100"/>
                  <a:pt x="84" y="100"/>
                  <a:pt x="84" y="100"/>
                </a:cubicBezTo>
                <a:cubicBezTo>
                  <a:pt x="95" y="97"/>
                  <a:pt x="104" y="94"/>
                  <a:pt x="104" y="94"/>
                </a:cubicBezTo>
                <a:cubicBezTo>
                  <a:pt x="104" y="94"/>
                  <a:pt x="111" y="104"/>
                  <a:pt x="101" y="107"/>
                </a:cubicBezTo>
                <a:cubicBezTo>
                  <a:pt x="97" y="108"/>
                  <a:pt x="91" y="108"/>
                  <a:pt x="84" y="109"/>
                </a:cubicBezTo>
                <a:cubicBezTo>
                  <a:pt x="84" y="132"/>
                  <a:pt x="84" y="132"/>
                  <a:pt x="84" y="132"/>
                </a:cubicBezTo>
                <a:cubicBezTo>
                  <a:pt x="90" y="125"/>
                  <a:pt x="96" y="118"/>
                  <a:pt x="96" y="118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94" y="125"/>
                  <a:pt x="84" y="139"/>
                </a:cubicBezTo>
                <a:cubicBezTo>
                  <a:pt x="84" y="182"/>
                  <a:pt x="84" y="182"/>
                  <a:pt x="84" y="182"/>
                </a:cubicBezTo>
                <a:cubicBezTo>
                  <a:pt x="84" y="182"/>
                  <a:pt x="85" y="182"/>
                  <a:pt x="85" y="181"/>
                </a:cubicBezTo>
                <a:cubicBezTo>
                  <a:pt x="91" y="176"/>
                  <a:pt x="99" y="164"/>
                  <a:pt x="99" y="163"/>
                </a:cubicBezTo>
                <a:cubicBezTo>
                  <a:pt x="99" y="162"/>
                  <a:pt x="102" y="156"/>
                  <a:pt x="102" y="156"/>
                </a:cubicBezTo>
                <a:cubicBezTo>
                  <a:pt x="102" y="156"/>
                  <a:pt x="102" y="175"/>
                  <a:pt x="102" y="180"/>
                </a:cubicBezTo>
                <a:cubicBezTo>
                  <a:pt x="101" y="185"/>
                  <a:pt x="103" y="191"/>
                  <a:pt x="105" y="195"/>
                </a:cubicBezTo>
                <a:cubicBezTo>
                  <a:pt x="108" y="199"/>
                  <a:pt x="109" y="201"/>
                  <a:pt x="109" y="201"/>
                </a:cubicBezTo>
                <a:cubicBezTo>
                  <a:pt x="109" y="201"/>
                  <a:pt x="106" y="191"/>
                  <a:pt x="107" y="190"/>
                </a:cubicBezTo>
                <a:cubicBezTo>
                  <a:pt x="108" y="189"/>
                  <a:pt x="117" y="181"/>
                  <a:pt x="122" y="171"/>
                </a:cubicBezTo>
                <a:cubicBezTo>
                  <a:pt x="122" y="122"/>
                  <a:pt x="122" y="122"/>
                  <a:pt x="122" y="122"/>
                </a:cubicBezTo>
                <a:cubicBezTo>
                  <a:pt x="118" y="117"/>
                  <a:pt x="114" y="113"/>
                  <a:pt x="114" y="110"/>
                </a:cubicBezTo>
                <a:cubicBezTo>
                  <a:pt x="114" y="107"/>
                  <a:pt x="117" y="97"/>
                  <a:pt x="117" y="97"/>
                </a:cubicBezTo>
                <a:cubicBezTo>
                  <a:pt x="117" y="97"/>
                  <a:pt x="119" y="98"/>
                  <a:pt x="122" y="100"/>
                </a:cubicBezTo>
                <a:cubicBezTo>
                  <a:pt x="122" y="30"/>
                  <a:pt x="122" y="30"/>
                  <a:pt x="122" y="30"/>
                </a:cubicBezTo>
                <a:cubicBezTo>
                  <a:pt x="117" y="21"/>
                  <a:pt x="112" y="11"/>
                  <a:pt x="112" y="11"/>
                </a:cubicBezTo>
                <a:cubicBezTo>
                  <a:pt x="112" y="11"/>
                  <a:pt x="117" y="16"/>
                  <a:pt x="122" y="23"/>
                </a:cubicBezTo>
                <a:lnTo>
                  <a:pt x="122" y="9"/>
                </a:lnTo>
                <a:close/>
                <a:moveTo>
                  <a:pt x="84" y="49"/>
                </a:moveTo>
                <a:cubicBezTo>
                  <a:pt x="78" y="43"/>
                  <a:pt x="73" y="38"/>
                  <a:pt x="72" y="37"/>
                </a:cubicBezTo>
                <a:cubicBezTo>
                  <a:pt x="69" y="35"/>
                  <a:pt x="42" y="20"/>
                  <a:pt x="28" y="18"/>
                </a:cubicBezTo>
                <a:cubicBezTo>
                  <a:pt x="15" y="16"/>
                  <a:pt x="13" y="17"/>
                  <a:pt x="13" y="17"/>
                </a:cubicBezTo>
                <a:cubicBezTo>
                  <a:pt x="13" y="17"/>
                  <a:pt x="19" y="32"/>
                  <a:pt x="23" y="35"/>
                </a:cubicBezTo>
                <a:cubicBezTo>
                  <a:pt x="26" y="39"/>
                  <a:pt x="36" y="43"/>
                  <a:pt x="31" y="46"/>
                </a:cubicBezTo>
                <a:cubicBezTo>
                  <a:pt x="25" y="49"/>
                  <a:pt x="3" y="39"/>
                  <a:pt x="3" y="39"/>
                </a:cubicBezTo>
                <a:cubicBezTo>
                  <a:pt x="3" y="39"/>
                  <a:pt x="0" y="47"/>
                  <a:pt x="0" y="56"/>
                </a:cubicBezTo>
                <a:cubicBezTo>
                  <a:pt x="0" y="61"/>
                  <a:pt x="0" y="61"/>
                  <a:pt x="0" y="61"/>
                </a:cubicBezTo>
                <a:cubicBezTo>
                  <a:pt x="0" y="69"/>
                  <a:pt x="3" y="78"/>
                  <a:pt x="11" y="85"/>
                </a:cubicBezTo>
                <a:cubicBezTo>
                  <a:pt x="31" y="102"/>
                  <a:pt x="45" y="107"/>
                  <a:pt x="61" y="105"/>
                </a:cubicBezTo>
                <a:cubicBezTo>
                  <a:pt x="68" y="105"/>
                  <a:pt x="76" y="102"/>
                  <a:pt x="84" y="100"/>
                </a:cubicBezTo>
                <a:cubicBezTo>
                  <a:pt x="84" y="89"/>
                  <a:pt x="84" y="89"/>
                  <a:pt x="84" y="89"/>
                </a:cubicBezTo>
                <a:cubicBezTo>
                  <a:pt x="80" y="89"/>
                  <a:pt x="76" y="88"/>
                  <a:pt x="73" y="87"/>
                </a:cubicBezTo>
                <a:cubicBezTo>
                  <a:pt x="57" y="83"/>
                  <a:pt x="42" y="73"/>
                  <a:pt x="42" y="73"/>
                </a:cubicBezTo>
                <a:cubicBezTo>
                  <a:pt x="42" y="73"/>
                  <a:pt x="62" y="80"/>
                  <a:pt x="83" y="83"/>
                </a:cubicBezTo>
                <a:cubicBezTo>
                  <a:pt x="83" y="83"/>
                  <a:pt x="84" y="83"/>
                  <a:pt x="84" y="83"/>
                </a:cubicBezTo>
                <a:cubicBezTo>
                  <a:pt x="84" y="49"/>
                  <a:pt x="84" y="49"/>
                  <a:pt x="84" y="49"/>
                </a:cubicBezTo>
                <a:close/>
                <a:moveTo>
                  <a:pt x="84" y="109"/>
                </a:moveTo>
                <a:cubicBezTo>
                  <a:pt x="72" y="110"/>
                  <a:pt x="58" y="112"/>
                  <a:pt x="51" y="116"/>
                </a:cubicBezTo>
                <a:cubicBezTo>
                  <a:pt x="39" y="123"/>
                  <a:pt x="39" y="135"/>
                  <a:pt x="37" y="141"/>
                </a:cubicBezTo>
                <a:cubicBezTo>
                  <a:pt x="36" y="147"/>
                  <a:pt x="29" y="149"/>
                  <a:pt x="29" y="149"/>
                </a:cubicBezTo>
                <a:cubicBezTo>
                  <a:pt x="29" y="149"/>
                  <a:pt x="37" y="154"/>
                  <a:pt x="43" y="149"/>
                </a:cubicBezTo>
                <a:cubicBezTo>
                  <a:pt x="49" y="144"/>
                  <a:pt x="52" y="134"/>
                  <a:pt x="58" y="135"/>
                </a:cubicBezTo>
                <a:cubicBezTo>
                  <a:pt x="65" y="136"/>
                  <a:pt x="52" y="152"/>
                  <a:pt x="50" y="155"/>
                </a:cubicBezTo>
                <a:cubicBezTo>
                  <a:pt x="50" y="158"/>
                  <a:pt x="47" y="178"/>
                  <a:pt x="50" y="186"/>
                </a:cubicBezTo>
                <a:cubicBezTo>
                  <a:pt x="53" y="193"/>
                  <a:pt x="55" y="195"/>
                  <a:pt x="55" y="195"/>
                </a:cubicBezTo>
                <a:cubicBezTo>
                  <a:pt x="55" y="195"/>
                  <a:pt x="51" y="206"/>
                  <a:pt x="58" y="211"/>
                </a:cubicBezTo>
                <a:cubicBezTo>
                  <a:pt x="65" y="216"/>
                  <a:pt x="73" y="215"/>
                  <a:pt x="73" y="215"/>
                </a:cubicBezTo>
                <a:cubicBezTo>
                  <a:pt x="73" y="215"/>
                  <a:pt x="75" y="218"/>
                  <a:pt x="78" y="217"/>
                </a:cubicBezTo>
                <a:cubicBezTo>
                  <a:pt x="81" y="216"/>
                  <a:pt x="86" y="212"/>
                  <a:pt x="82" y="208"/>
                </a:cubicBezTo>
                <a:cubicBezTo>
                  <a:pt x="78" y="204"/>
                  <a:pt x="76" y="205"/>
                  <a:pt x="75" y="207"/>
                </a:cubicBezTo>
                <a:cubicBezTo>
                  <a:pt x="73" y="209"/>
                  <a:pt x="73" y="213"/>
                  <a:pt x="73" y="213"/>
                </a:cubicBezTo>
                <a:cubicBezTo>
                  <a:pt x="73" y="213"/>
                  <a:pt x="62" y="213"/>
                  <a:pt x="59" y="209"/>
                </a:cubicBezTo>
                <a:cubicBezTo>
                  <a:pt x="57" y="204"/>
                  <a:pt x="55" y="198"/>
                  <a:pt x="57" y="194"/>
                </a:cubicBezTo>
                <a:cubicBezTo>
                  <a:pt x="59" y="191"/>
                  <a:pt x="64" y="186"/>
                  <a:pt x="68" y="188"/>
                </a:cubicBezTo>
                <a:cubicBezTo>
                  <a:pt x="73" y="188"/>
                  <a:pt x="79" y="187"/>
                  <a:pt x="84" y="182"/>
                </a:cubicBezTo>
                <a:cubicBezTo>
                  <a:pt x="84" y="139"/>
                  <a:pt x="84" y="139"/>
                  <a:pt x="84" y="139"/>
                </a:cubicBezTo>
                <a:cubicBezTo>
                  <a:pt x="83" y="141"/>
                  <a:pt x="82" y="143"/>
                  <a:pt x="81" y="145"/>
                </a:cubicBezTo>
                <a:cubicBezTo>
                  <a:pt x="71" y="162"/>
                  <a:pt x="65" y="172"/>
                  <a:pt x="65" y="172"/>
                </a:cubicBezTo>
                <a:cubicBezTo>
                  <a:pt x="65" y="172"/>
                  <a:pt x="70" y="153"/>
                  <a:pt x="76" y="143"/>
                </a:cubicBezTo>
                <a:cubicBezTo>
                  <a:pt x="79" y="140"/>
                  <a:pt x="81" y="136"/>
                  <a:pt x="84" y="132"/>
                </a:cubicBezTo>
                <a:lnTo>
                  <a:pt x="84" y="109"/>
                </a:lnTo>
                <a:close/>
              </a:path>
            </a:pathLst>
          </a:custGeom>
          <a:solidFill>
            <a:srgbClr val="ff99cc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8" descr="扉页横条"/>
          <p:cNvPicPr/>
          <p:nvPr/>
        </p:nvPicPr>
        <p:blipFill>
          <a:blip r:embed="rId5"/>
          <a:stretch/>
        </p:blipFill>
        <p:spPr>
          <a:xfrm>
            <a:off x="0" y="2876400"/>
            <a:ext cx="9153360" cy="704880"/>
          </a:xfrm>
          <a:prstGeom prst="rect">
            <a:avLst/>
          </a:prstGeom>
          <a:ln w="0">
            <a:noFill/>
          </a:ln>
        </p:spPr>
      </p:pic>
      <p:grpSp>
        <p:nvGrpSpPr>
          <p:cNvPr id="130" name="Group 7"/>
          <p:cNvGrpSpPr/>
          <p:nvPr/>
        </p:nvGrpSpPr>
        <p:grpSpPr>
          <a:xfrm>
            <a:off x="3733920" y="3029040"/>
            <a:ext cx="1692000" cy="480600"/>
            <a:chOff x="3733920" y="3029040"/>
            <a:chExt cx="1692000" cy="480600"/>
          </a:xfrm>
        </p:grpSpPr>
        <p:sp>
          <p:nvSpPr>
            <p:cNvPr id="131" name="WordArt 5"/>
            <p:cNvSpPr txBox="1"/>
            <p:nvPr/>
          </p:nvSpPr>
          <p:spPr>
            <a:xfrm>
              <a:off x="3733920" y="3029040"/>
              <a:ext cx="1692000" cy="254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3240">
                    <a:solidFill>
                      <a:srgbClr val="ffffff"/>
                    </a:solidFill>
                    <a:miter/>
                  </a:ln>
                  <a:gradFill rotWithShape="0">
                    <a:gsLst>
                      <a:gs pos="0">
                        <a:srgbClr val="ff99cc"/>
                      </a:gs>
                      <a:gs pos="100000">
                        <a:srgbClr val="ffddee"/>
                      </a:gs>
                    </a:gsLst>
                    <a:lin ang="5400000"/>
                  </a:gradFill>
                  <a:latin typeface="华文中宋"/>
                </a:rPr>
                <a:t>易水寒江雪敬奉</a:t>
              </a:r>
              <a:endParaRPr b="1" lang="en-US" sz="1800" spc="1" strike="noStrike">
                <a:ln w="32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99cc"/>
                    </a:gs>
                    <a:gs pos="100000">
                      <a:srgbClr val="ffddee"/>
                    </a:gs>
                  </a:gsLst>
                  <a:lin ang="5400000"/>
                </a:gradFill>
                <a:latin typeface="华文中宋"/>
                <a:ea typeface="华文中宋"/>
              </a:endParaRPr>
            </a:p>
          </p:txBody>
        </p:sp>
        <p:sp>
          <p:nvSpPr>
            <p:cNvPr id="132" name="WordArt 6"/>
            <p:cNvSpPr txBox="1"/>
            <p:nvPr/>
          </p:nvSpPr>
          <p:spPr>
            <a:xfrm>
              <a:off x="2041920" y="3057480"/>
              <a:ext cx="1692000" cy="226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0">
                    <a:noFill/>
                  </a:ln>
                  <a:gradFill rotWithShape="0">
                    <a:gsLst>
                      <a:gs pos="0">
                        <a:srgbClr val="bbe0e3">
                          <a:alpha val="0"/>
                        </a:srgbClr>
                      </a:gs>
                      <a:gs pos="100000">
                        <a:srgbClr val="e8f5f6">
                          <a:alpha val="32156"/>
                        </a:srgbClr>
                      </a:gs>
                    </a:gsLst>
                    <a:lin ang="5400000"/>
                  </a:gradFill>
                  <a:latin typeface="华文中宋"/>
                </a:rPr>
                <a:t>易水寒江雪敬奉</a:t>
              </a:r>
              <a:endPara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bbe0e3">
                        <a:alpha val="0"/>
                      </a:srgbClr>
                    </a:gs>
                    <a:gs pos="100000">
                      <a:srgbClr val="e8f5f6">
                        <a:alpha val="32156"/>
                      </a:srgbClr>
                    </a:gs>
                  </a:gsLst>
                  <a:lin ang="5400000"/>
                </a:gradFill>
                <a:latin typeface="华文中宋"/>
                <a:ea typeface="华文中宋"/>
              </a:endParaRPr>
            </a:p>
          </p:txBody>
        </p:sp>
      </p:grpSp>
      <p:sp>
        <p:nvSpPr>
          <p:cNvPr id="13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nodeType="clickEffect" fill="hold">
                      <p:stCondLst>
                        <p:cond delay="0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with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3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8" presetSubtype="9">
                                  <p:stCondLst>
                                    <p:cond delay="880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4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path" presetID="0" repeatCount="indefinite">
                                  <p:stCondLst>
                                    <p:cond delay="9800"/>
                                  </p:stCondLst>
                                  <p:childTnLst>
                                    <p:animMotion origin="layout" path="M 0 0 C -0.01632 0.03608 -0.03264 0.07216 -0.03281 0.10222 C -0.03299 0.13228 -0.01719 0.15055 -0.00139 0.18062 C 0.01441 0.21068 0.04809 0.24052 0.06163 0.28284 C 0.07517 0.32516 0.08438 0.36494 0.07951 0.43432 C 0.07465 0.5037 0.04097 0.64061 0.03281 0.69889 C 0.02465 0.75717 0.02743 0.77081 0.03021 0.78469 E">
                                      <p:cBhvr>
                                        <p:cTn id="544" dur="6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45" nodeType="withEffect" fill="hold" presetClass="emph" presetID="6" repeatCount="indefinite">
                                  <p:stCondLst>
                                    <p:cond delay="9800"/>
                                  </p:stCondLst>
                                  <p:childTnLst>
                                    <p:animScale>
                                      <p:cBhvr>
                                        <p:cTn id="546" dur="6000" fill="hold"/>
                                        <p:tgtEl>
                                          <p:spTgt spid="119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547" nodeType="withEffect" fill="hold" presetClass="emph" presetID="8" repeatCount="indefinite">
                                  <p:stCondLst>
                                    <p:cond delay="9800"/>
                                  </p:stCondLst>
                                  <p:childTnLst>
                                    <p:animRot by="10800000">
                                      <p:cBhvr>
                                        <p:cTn id="548" dur="6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path" presetID="0" repeatCount="indefinite">
                                  <p:stCondLst>
                                    <p:cond delay="12300"/>
                                  </p:stCondLst>
                                  <p:childTnLst>
                                    <p:animMotion origin="layout" path="M -3.05556E-006 -3.64477E-006 C -0.00885 0.05296 -0.01771 0.10592 -0.01771 0.15981 C -0.01771 0.21346 -0.0085 0.26573 -3.05556E-006 0.32332 C 0.00851 0.38067 0.0099 0.44149 0.03299 0.50394 C 0.05608 0.56661 0.11893 0.64801 0.13837 0.6982 C 0.15782 0.74838 0.15 0.78816 0.14931 0.80458 E">
                                      <p:cBhvr>
                                        <p:cTn id="553" dur="55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4" nodeType="withEffect" fill="hold" presetClass="emph" presetID="6" repeatCount="indefinite">
                                  <p:stCondLst>
                                    <p:cond delay="12400"/>
                                  </p:stCondLst>
                                  <p:childTnLst>
                                    <p:animScale>
                                      <p:cBhvr>
                                        <p:cTn id="555" dur="5500" fill="hold"/>
                                        <p:tgtEl>
                                          <p:spTgt spid="120"/>
                                        </p:tgtEl>
                                      </p:cBhvr>
                                      <p:to x="45000" y="45000"/>
                                    </p:animScale>
                                  </p:childTnLst>
                                </p:cTn>
                              </p:par>
                              <p:par>
                                <p:cTn id="556" nodeType="withEffect" fill="hold" presetClass="emph" presetID="8" repeatCount="indefinite">
                                  <p:stCondLst>
                                    <p:cond delay="12400"/>
                                  </p:stCondLst>
                                  <p:childTnLst>
                                    <p:animRot by="-5400000">
                                      <p:cBhvr>
                                        <p:cTn id="557" dur="5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path" presetID="0" repeatCount="indefinite">
                                  <p:stCondLst>
                                    <p:cond delay="13400"/>
                                  </p:stCondLst>
                                  <p:childTnLst>
                                    <p:animMotion origin="layout" path="M 0 0 C 0.01805 0.06637 0.03611 0.13298 0.03698 0.23173 C 0.03785 0.33048 0.02448 0.49561 0.00538 0.59297 C -0.01372 0.69033 -0.06215 0.7759 -0.07813 0.81568 C -0.0941 0.85546 -0.09149 0.82817 -0.09045 0.8321 E">
                                      <p:cBhvr>
                                        <p:cTn id="562" dur="45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3" nodeType="withEffect" fill="hold" presetClass="emph" presetID="6" repeatCount="indefinite">
                                  <p:stCondLst>
                                    <p:cond delay="13400"/>
                                  </p:stCondLst>
                                  <p:childTnLst>
                                    <p:animScale>
                                      <p:cBhvr>
                                        <p:cTn id="564" dur="4500" fill="hold"/>
                                        <p:tgtEl>
                                          <p:spTgt spid="121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565" nodeType="withEffect" fill="hold" presetClass="emph" presetID="8" repeatCount="indefinite">
                                  <p:stCondLst>
                                    <p:cond delay="13400"/>
                                  </p:stCondLst>
                                  <p:childTnLst>
                                    <p:animRot by="-10800000">
                                      <p:cBhvr>
                                        <p:cTn id="566" dur="4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7" nodeType="withEffect" fill="hold" presetClass="entr" presetID="10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path" presetID="0" repeatCount="indefinite">
                                  <p:stCondLst>
                                    <p:cond delay="14200"/>
                                  </p:stCondLst>
                                  <p:childTnLst>
                                    <p:animMotion origin="layout" path="M 2.5E-006 3.9593E-006 C 0.00139 0.07076 0.00278 0.14176 2.5E-006 0.19495 C -0.00278 0.24815 -0.00712 0.27428 -0.0165 0.31845 C -0.02587 0.36285 -0.05139 0.40333 -0.05625 0.46114 C -0.06111 0.51919 -0.05747 0.60522 -0.04531 0.66605 C -0.03316 0.7271 0.00416 0.80203 0.01632 0.82655 E">
                                      <p:cBhvr>
                                        <p:cTn id="571" dur="5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2" nodeType="withEffect" fill="hold" presetClass="emph" presetID="6" repeatCount="indefinite">
                                  <p:stCondLst>
                                    <p:cond delay="14200"/>
                                  </p:stCondLst>
                                  <p:childTnLst>
                                    <p:animScale>
                                      <p:cBhvr>
                                        <p:cTn id="573" dur="5000" fill="hold"/>
                                        <p:tgtEl>
                                          <p:spTgt spid="122"/>
                                        </p:tgtEl>
                                      </p:cBhvr>
                                      <p:to x="35000" y="35000"/>
                                    </p:animScale>
                                  </p:childTnLst>
                                </p:cTn>
                              </p:par>
                              <p:par>
                                <p:cTn id="574" nodeType="withEffect" fill="hold" presetClass="emph" presetID="8" repeatCount="indefinite">
                                  <p:stCondLst>
                                    <p:cond delay="14200"/>
                                  </p:stCondLst>
                                  <p:childTnLst>
                                    <p:animRot by="-10800000">
                                      <p:cBhvr>
                                        <p:cTn id="575" dur="5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10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path" presetID="0" repeatCount="indefinite">
                                  <p:stCondLst>
                                    <p:cond delay="15000"/>
                                  </p:stCondLst>
                                  <p:childTnLst>
                                    <p:animMotion origin="layout" path="M 4.44444E-006 2.55319E-006 C 0.02413 0.13136 0.04826 0.26318 0.05208 0.35661 C 0.0559 0.44981 0.02708 0.50717 0.02326 0.55897 C 0.01944 0.61077 0.01927 0.61725 0.02882 0.6672 C 0.03836 0.71669 0.07187 0.82585 0.08072 0.85777 E">
                                      <p:cBhvr>
                                        <p:cTn id="580" dur="7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1" nodeType="withEffect" fill="hold" presetClass="emph" presetID="6" repeatCount="indefinite">
                                  <p:stCondLst>
                                    <p:cond delay="15000"/>
                                  </p:stCondLst>
                                  <p:childTnLst>
                                    <p:animScale>
                                      <p:cBhvr>
                                        <p:cTn id="582" dur="7000" fill="hold"/>
                                        <p:tgtEl>
                                          <p:spTgt spid="123"/>
                                        </p:tgtEl>
                                      </p:cBhvr>
                                      <p:to x="45000" y="45000"/>
                                    </p:animScale>
                                  </p:childTnLst>
                                </p:cTn>
                              </p:par>
                              <p:par>
                                <p:cTn id="583" nodeType="withEffect" fill="hold" presetClass="emph" presetID="8" repeatCount="indefinite">
                                  <p:stCondLst>
                                    <p:cond delay="15000"/>
                                  </p:stCondLst>
                                  <p:childTnLst>
                                    <p:animRot by="5400000">
                                      <p:cBhvr>
                                        <p:cTn id="584" dur="7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8" presetSubtype="9">
                                  <p:stCondLst>
                                    <p:cond delay="880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8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path" presetID="0" repeatCount="indefinite">
                                  <p:stCondLst>
                                    <p:cond delay="9800"/>
                                  </p:stCondLst>
                                  <p:childTnLst>
                                    <p:animMotion origin="layout" path="M 0 0 C -0.01632 0.03608 -0.03264 0.07216 -0.03281 0.10222 C -0.03299 0.13228 -0.01719 0.15055 -0.00139 0.18062 C 0.01441 0.21068 0.04809 0.24052 0.06163 0.28284 C 0.07517 0.32516 0.08438 0.36494 0.07951 0.43432 C 0.07465 0.5037 0.04097 0.64061 0.03281 0.69889 C 0.02465 0.75717 0.02743 0.77081 0.03021 0.78469 E">
                                      <p:cBhvr>
                                        <p:cTn id="589" dur="6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0" nodeType="withEffect" fill="hold" presetClass="emph" presetID="6" repeatCount="indefinite">
                                  <p:stCondLst>
                                    <p:cond delay="9800"/>
                                  </p:stCondLst>
                                  <p:childTnLst>
                                    <p:animScale>
                                      <p:cBhvr>
                                        <p:cTn id="591" dur="6000" fill="hold"/>
                                        <p:tgtEl>
                                          <p:spTgt spid="124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592" nodeType="withEffect" fill="hold" presetClass="emph" presetID="8" repeatCount="indefinite">
                                  <p:stCondLst>
                                    <p:cond delay="9800"/>
                                  </p:stCondLst>
                                  <p:childTnLst>
                                    <p:animRot by="10800000">
                                      <p:cBhvr>
                                        <p:cTn id="593" dur="6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10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path" presetID="0" repeatCount="indefinite">
                                  <p:stCondLst>
                                    <p:cond delay="12300"/>
                                  </p:stCondLst>
                                  <p:childTnLst>
                                    <p:animMotion origin="layout" path="M -3.05556E-006 -3.64477E-006 C -0.00885 0.05296 -0.01771 0.10592 -0.01771 0.15981 C -0.01771 0.21346 -0.0085 0.26573 -3.05556E-006 0.32332 C 0.00851 0.38067 0.0099 0.44149 0.03299 0.50394 C 0.05608 0.56661 0.11893 0.64801 0.13837 0.6982 C 0.15782 0.74838 0.15 0.78816 0.14931 0.80458 E">
                                      <p:cBhvr>
                                        <p:cTn id="598" dur="55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9" nodeType="withEffect" fill="hold" presetClass="emph" presetID="6" repeatCount="indefinite">
                                  <p:stCondLst>
                                    <p:cond delay="12400"/>
                                  </p:stCondLst>
                                  <p:childTnLst>
                                    <p:animScale>
                                      <p:cBhvr>
                                        <p:cTn id="600" dur="5500" fill="hold"/>
                                        <p:tgtEl>
                                          <p:spTgt spid="125"/>
                                        </p:tgtEl>
                                      </p:cBhvr>
                                      <p:to x="45000" y="45000"/>
                                    </p:animScale>
                                  </p:childTnLst>
                                </p:cTn>
                              </p:par>
                              <p:par>
                                <p:cTn id="601" nodeType="withEffect" fill="hold" presetClass="emph" presetID="8" repeatCount="indefinite">
                                  <p:stCondLst>
                                    <p:cond delay="12400"/>
                                  </p:stCondLst>
                                  <p:childTnLst>
                                    <p:animRot by="-5400000">
                                      <p:cBhvr>
                                        <p:cTn id="602" dur="5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0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5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6" nodeType="withEffect" fill="hold" presetClass="path" presetID="0" repeatCount="indefinite">
                                  <p:stCondLst>
                                    <p:cond delay="13400"/>
                                  </p:stCondLst>
                                  <p:childTnLst>
                                    <p:animMotion origin="layout" path="M 0 0 C 0.01805 0.06637 0.03611 0.13298 0.03698 0.23173 C 0.03785 0.33048 0.02448 0.49561 0.00538 0.59297 C -0.01372 0.69033 -0.06215 0.7759 -0.07813 0.81568 C -0.0941 0.85546 -0.09149 0.82817 -0.09045 0.8321 E">
                                      <p:cBhvr>
                                        <p:cTn id="607" dur="45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08" nodeType="withEffect" fill="hold" presetClass="emph" presetID="6" repeatCount="indefinite">
                                  <p:stCondLst>
                                    <p:cond delay="13400"/>
                                  </p:stCondLst>
                                  <p:childTnLst>
                                    <p:animScale>
                                      <p:cBhvr>
                                        <p:cTn id="609" dur="4500" fill="hold"/>
                                        <p:tgtEl>
                                          <p:spTgt spid="126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  <p:par>
                                <p:cTn id="610" nodeType="withEffect" fill="hold" presetClass="emph" presetID="8" repeatCount="indefinite">
                                  <p:stCondLst>
                                    <p:cond delay="13400"/>
                                  </p:stCondLst>
                                  <p:childTnLst>
                                    <p:animRot by="-10800000">
                                      <p:cBhvr>
                                        <p:cTn id="611" dur="4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10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path" presetID="0" repeatCount="indefinite">
                                  <p:stCondLst>
                                    <p:cond delay="15000"/>
                                  </p:stCondLst>
                                  <p:childTnLst>
                                    <p:animMotion origin="layout" path="M 4.44444E-006 2.55319E-006 C 0.02413 0.13136 0.04826 0.26318 0.05208 0.35661 C 0.0559 0.44981 0.02708 0.50717 0.02326 0.55897 C 0.01944 0.61077 0.01927 0.61725 0.02882 0.6672 C 0.03836 0.71669 0.07187 0.82585 0.08072 0.85777 E">
                                      <p:cBhvr>
                                        <p:cTn id="616" dur="7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7" nodeType="withEffect" fill="hold" presetClass="emph" presetID="6" repeatCount="indefinite">
                                  <p:stCondLst>
                                    <p:cond delay="15000"/>
                                  </p:stCondLst>
                                  <p:childTnLst>
                                    <p:animScale>
                                      <p:cBhvr>
                                        <p:cTn id="618" dur="7000" fill="hold"/>
                                        <p:tgtEl>
                                          <p:spTgt spid="127"/>
                                        </p:tgtEl>
                                      </p:cBhvr>
                                      <p:to x="45000" y="45000"/>
                                    </p:animScale>
                                  </p:childTnLst>
                                </p:cTn>
                              </p:par>
                              <p:par>
                                <p:cTn id="619" nodeType="withEffect" fill="hold" presetClass="emph" presetID="8" repeatCount="indefinite">
                                  <p:stCondLst>
                                    <p:cond delay="15000"/>
                                  </p:stCondLst>
                                  <p:childTnLst>
                                    <p:animRot by="5400000">
                                      <p:cBhvr>
                                        <p:cTn id="620" dur="7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10">
                                  <p:stCondLst>
                                    <p:cond delay="1020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path" presetID="0" repeatCount="indefinite">
                                  <p:stCondLst>
                                    <p:cond delay="15000"/>
                                  </p:stCondLst>
                                  <p:childTnLst>
                                    <p:animMotion origin="layout" path="M 4.44444E-006 2.55319E-006 C 0.02413 0.13136 0.04826 0.26318 0.05208 0.35661 C 0.0559 0.44981 0.02708 0.50717 0.02326 0.55897 C 0.01944 0.61077 0.01927 0.61725 0.02882 0.6672 C 0.03836 0.71669 0.07187 0.82585 0.08072 0.85777 E">
                                      <p:cBhvr>
                                        <p:cTn id="625" dur="7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26" nodeType="withEffect" fill="hold" presetClass="emph" presetID="6" repeatCount="indefinite">
                                  <p:stCondLst>
                                    <p:cond delay="15000"/>
                                  </p:stCondLst>
                                  <p:childTnLst>
                                    <p:animScale>
                                      <p:cBhvr>
                                        <p:cTn id="627" dur="7000" fill="hold"/>
                                        <p:tgtEl>
                                          <p:spTgt spid="128"/>
                                        </p:tgtEl>
                                      </p:cBhvr>
                                      <p:to x="45000" y="45000"/>
                                    </p:animScale>
                                  </p:childTnLst>
                                </p:cTn>
                              </p:par>
                              <p:par>
                                <p:cTn id="628" nodeType="withEffect" fill="hold" presetClass="emph" presetID="8" repeatCount="indefinite">
                                  <p:stCondLst>
                                    <p:cond delay="15000"/>
                                  </p:stCondLst>
                                  <p:childTnLst>
                                    <p:animRot by="5400000">
                                      <p:cBhvr>
                                        <p:cTn id="629" dur="7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王玉清</cp:lastModifiedBy>
  <dcterms:modified xsi:type="dcterms:W3CDTF">2016-02-16T09:08:29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