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EA0-637E-41ED-909D-EB252623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C84-ADA0-4849-A288-42CC80D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E5C-21DD-4386-974C-FB71C76B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BAC-E90F-4AD5-A7BA-8C4B3D68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7DF2-6640-456C-A422-D6430E57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89DC-5DA1-449E-BBE9-1E102DE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455-F832-4FBD-9543-011525DA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30D-A809-4496-8380-FE2D1457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7AF-4042-44C1-ADFB-6E27F0C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107-C9FA-46A9-AF29-CBA67723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0AE6-1FB0-474A-848C-27274286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C843-310D-4953-9300-001E815C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1AEEC4-362F-4510-BFCC-74552DB71B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mmbiz.qpic.cn/mmbiz/NVvB3l3e9aHmBj68k7xKjSl2lZ5j4k7AbpjFVzXZMHvWQzEyRlAicqG789heeoFwOmxVncHJA2y3hiat0MNOmnhA/0"/>
          <p:cNvPicPr/>
          <p:nvPr/>
        </p:nvPicPr>
        <p:blipFill>
          <a:blip r:embed="rId1"/>
          <a:stretch/>
        </p:blipFill>
        <p:spPr>
          <a:xfrm>
            <a:off x="10413360" y="5445360"/>
            <a:ext cx="1098000" cy="843840"/>
          </a:xfrm>
          <a:prstGeom prst="rect">
            <a:avLst/>
          </a:prstGeom>
          <a:ln w="0">
            <a:noFill/>
          </a:ln>
          <a:effectLst>
            <a:outerShdw algn="t" blurRad="63360" dir="5400000" dist="50760" rotWithShape="0">
              <a:srgbClr val="000000">
                <a:alpha val="40000"/>
              </a:srgbClr>
            </a:outerShdw>
          </a:effectLst>
        </p:spPr>
      </p:pic>
      <p:sp>
        <p:nvSpPr>
          <p:cNvPr id="42" name="文本框 40"/>
          <p:cNvSpPr/>
          <p:nvPr/>
        </p:nvSpPr>
        <p:spPr>
          <a:xfrm>
            <a:off x="4293720" y="4371480"/>
            <a:ext cx="4184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走丢在长沙步行街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7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23</a:t>
            </a:r>
            <a:r>
              <a:rPr b="0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41"/>
          <p:cNvSpPr/>
          <p:nvPr/>
        </p:nvSpPr>
        <p:spPr>
          <a:xfrm>
            <a:off x="5806080" y="3959640"/>
            <a:ext cx="241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</a:rPr>
              <a:t>手机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0433 359 7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3659040" y="9010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图片封面设计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27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6:15:57Z</dcterms:created>
  <dc:creator>V41</dc:creator>
  <dc:description/>
  <dc:language>en-US</dc:language>
  <cp:lastModifiedBy>王玉清</cp:lastModifiedBy>
  <dcterms:modified xsi:type="dcterms:W3CDTF">2016-02-23T02:57:37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