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60F-B6AD-43E9-81D6-5FD051BE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1863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D78-2400-423B-9A5E-319A880E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862-6866-4424-8FD5-6406B824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10C-855E-4AB4-9C5F-041C3444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7287-A1A4-4D28-AC48-46D761F4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A751-8C3E-4466-B861-00A4C54F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FE31-1DC7-4E91-8D03-7494225C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29BD-E4BB-4385-9281-6484BDB4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081C-D401-4E67-9026-9ED04458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8749-10CC-4793-BC40-18F1AC26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3C29-2569-4E6C-B515-09B9404B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784-E35D-42CD-B2FD-D4252890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65A6-4C01-4B67-B7D2-C829FAFB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E572-D096-4D94-A4A7-0CCA8B54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1863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9D68-52F4-426A-92DD-703E797E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89C5-B2DE-40A2-AE71-61BC2E81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186360"/>
            <a:ext cx="2747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F499-2C3D-4DC8-829A-420D0B53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46B-DF22-4504-8D0B-E16DDC3D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32B-3719-468D-83A8-2C806067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709-53FE-40F4-8DA0-3D72A373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874-B094-44CF-A62E-1229A47A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7A7-99C5-4BCB-B08F-1D7C4B49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18636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0D6-2D84-43E7-A94D-A8A72733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186360"/>
            <a:ext cx="8534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664-3E92-4140-92FC-875446FD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D2DD-E4DE-456F-BB0C-26253C42C845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heart_head_smile_hg_clr"/>
          <p:cNvPicPr/>
          <p:nvPr/>
        </p:nvPicPr>
        <p:blipFill>
          <a:blip r:embed="rId3"/>
          <a:stretch/>
        </p:blipFill>
        <p:spPr>
          <a:xfrm>
            <a:off x="5810400" y="3828960"/>
            <a:ext cx="3333600" cy="302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4A29-3761-442A-81C9-7D26FCC63CC9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黑体"/>
              </a:rPr>
              <a:t>外国创意心通用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黑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90" name="Picture 8" descr="mi_amoredonkey"/>
          <p:cNvPicPr/>
          <p:nvPr/>
        </p:nvPicPr>
        <p:blipFill>
          <a:blip r:embed="rId2"/>
          <a:stretch/>
        </p:blipFill>
        <p:spPr>
          <a:xfrm>
            <a:off x="1143000" y="380880"/>
            <a:ext cx="7010280" cy="6249960"/>
          </a:xfrm>
          <a:prstGeom prst="rect">
            <a:avLst/>
          </a:prstGeom>
          <a:ln w="0">
            <a:noFill/>
          </a:ln>
        </p:spPr>
      </p:pic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ww.1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2:25Z</dcterms:created>
  <dc:creator>User</dc:creator>
  <dc:description/>
  <dc:language>en-US</dc:language>
  <cp:lastModifiedBy>王玉清</cp:lastModifiedBy>
  <dcterms:modified xsi:type="dcterms:W3CDTF">2016-02-20T04:30:58Z</dcterms:modified>
  <cp:revision>4</cp:revision>
  <dc:subject/>
  <dc:title>mi amore</dc:title>
</cp:coreProperties>
</file>