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355-E52B-4376-9EC2-1C050B8C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4A7-3856-4341-9D26-9B3BC2CC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7A97F-491C-4654-80A0-4119C706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F5044-4B98-4F1D-A16F-15EB0BEF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714E9-9770-4B13-9D32-8F93D55A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63164-ACDB-414E-ACC9-05C2E291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1A7C6-0218-48C7-B917-7E379A46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19F54-17AB-46F9-BDA0-22407A3A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00D6D-0306-4B1F-AF78-43174F67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3EE1A-6D9B-40ED-A277-A37F4307C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CAF54-311D-4C1A-8BD6-FD0EF71D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072BE-E1CA-46DD-97C7-4372341B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539-B0AE-43B4-AC5C-D77F7E38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03F66-DB45-495C-8384-11489791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F5313-9892-477B-971E-9AF5238F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A7461-3DA1-4967-A8A7-8BD7C1EEB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29FBF-B249-4949-8BF3-9109B2A2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158E9-2BE7-413C-B013-7F17B04C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49307-D667-412C-AB8C-E8FDF6EB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723492-7E05-4531-92C1-BA76FB54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69641-6012-4E41-915E-B18D2D1E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0F6580-3EC3-41AB-9556-0632982B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EC297-22B7-426E-BC9B-20081356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428-9CB4-4E1C-887F-586F6B42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A997C-AA5F-4B16-9EF5-E4E826D4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47D35-8F7F-4A81-8EE5-AA8D9417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F1ECC-3FFE-463C-A5F8-3F0364D6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23F79-D300-4CD0-8587-830A5BEF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04AB2-18C6-43E8-BDD2-CDF2F84B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69566-5BA7-4C16-99EA-7F1CCC08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7EEBE-C52F-4F0E-8215-AEB29A8A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56603-484F-4E86-82B8-72E513CA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C65FE-7643-4098-8F94-1D5BA21C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36978-8C44-48EF-99B0-0288540B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F3F4-77B3-4405-8C62-8339406A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F7BED-8C9E-40F8-835F-FDDEDFC2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FF115-5170-4805-B28F-2C76C45F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CDCA86-98AA-47AC-99C9-D04BF8BF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5F90E-C1E9-47C0-9E33-567F74C8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8E472-5F80-4494-912A-1BD1CD30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AF9FC-5AE1-45D5-9C04-A4D216FC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CF8ED-885E-41BB-8C47-C71937F2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DF2FF-76BC-4346-AE77-2CD896C4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3B0C9-79AF-4F11-86D2-D9CD7709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F9D293-82F9-439F-896D-C3CFDA30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F783-83A2-48D5-AD7E-256D46E1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4B5C8-844A-4D56-93EE-2C857F6B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F7F9D-1333-4268-962B-5999B16E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A0E3BC-F787-4848-800A-888448E3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6B48A-1D51-4693-9802-05D68953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DA3CF-0234-4F7D-A1E0-FDCF3BF8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646A-F3FA-4B50-B278-EA998F94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AECA-B0FB-4250-966C-3DDF3A48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7E5A-CF2A-43BB-BFD8-BC7DAE9B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F7AF-712D-4321-B03C-507DD238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FFA2-DBEA-448F-B712-52BB7DC8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FF9-FA68-4FC3-A368-E0D3FC44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757C-058F-4BF6-8F56-24C47801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06D9-22E1-4BCE-8DBB-154A5E0C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5F840-E32B-451C-9A9A-6477299E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B876-3F1F-4EE9-BE84-9BD02453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1EE3-6DF3-440F-86AA-3D3BE036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AE38-ECD7-4BFF-9D35-E5BF1B794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1AAF6-18A5-4AF3-934D-A29D2076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D6E2-4B01-4529-AC56-4FD9764B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42FA-A93E-4140-AAD1-2098A7D7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39BA9-E680-4F2F-A94E-819EBB7F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778-0CBD-4D01-B026-AB24C67A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02F42-FC9C-4CCE-AF0C-74A8F382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E0892-F552-4287-AF0B-14B4F0AF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EFA04-5707-454C-8A2C-F847E9CD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7B584-DF3B-469C-BAB0-FE2DCC07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6D99A-835F-4B52-A189-265425DE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BCCC5-1AAB-4144-A722-0EA73319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9DD4-1036-426E-9314-D46E468B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2B04-4420-48FD-BBCE-6F0A80BF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B6FDE-860A-49C5-A9CF-66B98DDA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76824-FE1A-4201-895C-6EB2596E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9B2-05E0-48A6-83AC-E3506FB5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70411-D2A1-484F-8D0C-583BE6DC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75672-22AA-4305-BDB1-36E37EB8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B489-5FBC-4285-A90B-70C78ADF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4182-73E1-438B-ABCB-A974C75D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E735-5A43-4A55-8865-9E98E0B0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76091-0E93-4EFC-A897-5AC4F3E5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3073A-844D-4E14-A47A-D4FED548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8B1DB-4821-4DF8-B85A-F9A0989E8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87646-F60E-4B8E-B430-032FF9F53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85E1A-381D-41BC-ACBB-AC3AF163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C33-6C7C-44A4-8E68-2B7949E8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906E1-6308-41DC-BE9E-8544C1A2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8ABBF-B6F8-4278-BDF2-C88BC858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4197E-6A0A-4A9B-86C7-335393488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84510-6083-4771-B02E-72C1EA8C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B9770-981F-49BF-9BBB-89928C91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FBA37-63FC-4D2C-9FC9-3F01730B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47A93-D8EA-411E-86A1-0DE5570B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641AF-121D-430F-8895-2A64F721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9DE83-30EC-423B-80F7-E6466BE2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88E88-EA0B-4A50-92C6-4172DEC32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CDEB-60C3-4481-890A-08DB0F0B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7CB65-FBE1-44F2-B473-B6DE5490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908A8-A14B-4755-8E88-26AEF24E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87D4A-E752-4698-A749-94C008CE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FE1DC-B2C1-46FC-BCF1-16FCDB28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FE063-A0F6-41E4-B52F-5B8CE0B4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34F9E-3341-4509-A74F-A9120A09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A756C-583E-4C26-9DDD-407195BD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8D8C8-B20F-44B3-9644-D6E4EF93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4D2E7-31FF-4C46-97A0-F4E54C17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88CFD-C92B-4A54-ADC4-383EDEA7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3F2-B21D-43B3-BF5A-DC1D714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F2385-54F0-4CC2-980C-ABA06229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A70DB-92FD-44D2-9F64-A6E8B039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C3753-9497-4A20-9FBC-28CD55E0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E488C-5742-44F1-984C-C1C131E6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DB4B8-A95C-47F4-995C-CE2B128B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77C73-D233-4D0D-8726-B3BD2A37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C1FAB-2473-4838-92F9-660682DC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0BF63-D455-4AE5-8DA0-70AF3DD2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37A88-9236-44C5-A375-65C0C142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049C9-8113-4C93-B57F-13A63C6C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C53-761C-46A4-938D-7F550BA7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18F38-17AF-4C5E-B3B2-3A628C5E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C0BFB-86C3-4B9F-B30C-A8F752EE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71134-2E51-47C5-8274-63B24C0A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23532-FD80-49BA-9498-9F8FD8F7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2D255-BBB0-4135-87FF-CCE7514B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E900C-428C-4C69-AC9E-AD091F6AB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F831C-D9B8-4EB2-B87A-5C4AEBB7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51EB2-8923-43A7-BB26-496B82A8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1802D-A031-4B10-B5EA-E4030B9C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E41D1-D93E-40F5-9F70-2DEAAAE1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A55-A793-4B7D-BC0D-A9CBB4B2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832BF-904E-46F3-A794-462D7919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9E3DC-6208-4D1C-ADCE-95FC8211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C794A-64C1-4B9C-996C-59BF13AC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E606A-0002-40A1-818F-C517CCA6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3D582-8915-441D-BA82-39423E23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1CA1E-FE78-4DFA-BD38-75D7A724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280C2-EA43-4E48-93AD-534F6114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A0C49-66A4-447A-AC3B-AFDDDA47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FF0C9-6E78-455C-8CF8-97E1A9BF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60C0A-6FE0-462C-A03F-54BE07816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082E9-4FCA-472A-BFB6-B158B4212A8A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8675-F0B3-4C87-9695-02F78EE23549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56FC-8620-4D90-9317-463D92240EC3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3EB2-9780-4028-899F-6253ED5EB9B5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BCB0-C8BC-4512-805C-F9DE261FBADB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24A9-7D85-4D53-9F47-9B1183A95CF4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EBDC-F9C2-4ABF-9675-03493393A7F6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A053-473D-421D-B4F8-6FA83BDAA255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FB755-8BD4-42CF-AED4-7D48018F70EA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CAE8-584C-419C-BD2D-B94A9454070C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06F6-9B98-47A4-82E2-B841E517B949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E80E-8D90-4A26-B113-376D52F49D1E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E592-87AC-45AF-9CB9-F72DCF0F09C2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35BE-72B1-4616-9FCC-F6CE5AB59AC3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051D-C712-4DC9-81CA-19179120DC72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19F4-7CB8-46A4-B575-274BA2E903DB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C26F-CCF3-40B6-B6DD-3EED7AA2BB92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4FEB-4730-4742-B671-0603306C23EB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5D0F-C39C-4BD3-80E8-1C5734663F27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63D0-0761-469C-A305-3656F21971FC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BD79-6868-4552-A092-5DF809FD1135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CCBE-86DA-4577-9A10-FD16179353C4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E045-F70E-44C4-B752-38CB59333B5F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C8E8-8D85-4323-8606-DD3272A5960C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3"/>
          <p:cNvSpPr/>
          <p:nvPr/>
        </p:nvSpPr>
        <p:spPr>
          <a:xfrm>
            <a:off x="0" y="412920"/>
            <a:ext cx="4140360" cy="1295280"/>
          </a:xfrm>
          <a:prstGeom prst="rect">
            <a:avLst/>
          </a:prstGeom>
          <a:solidFill>
            <a:srgbClr val="197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矩形 11"/>
          <p:cNvSpPr/>
          <p:nvPr/>
        </p:nvSpPr>
        <p:spPr>
          <a:xfrm>
            <a:off x="611280" y="1851120"/>
            <a:ext cx="3529080" cy="28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28"/>
          <p:cNvSpPr/>
          <p:nvPr/>
        </p:nvSpPr>
        <p:spPr>
          <a:xfrm>
            <a:off x="163800" y="328680"/>
            <a:ext cx="370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itle Here 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矩形 42"/>
          <p:cNvSpPr/>
          <p:nvPr/>
        </p:nvSpPr>
        <p:spPr>
          <a:xfrm>
            <a:off x="611280" y="2139840"/>
            <a:ext cx="3529080" cy="2592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6"/>
          <p:cNvGrpSpPr/>
          <p:nvPr/>
        </p:nvGrpSpPr>
        <p:grpSpPr>
          <a:xfrm>
            <a:off x="3875040" y="1887480"/>
            <a:ext cx="217440" cy="216000"/>
            <a:chOff x="3875040" y="1887480"/>
            <a:chExt cx="217440" cy="216000"/>
          </a:xfrm>
        </p:grpSpPr>
        <p:sp>
          <p:nvSpPr>
            <p:cNvPr id="497" name="椭圆 15"/>
            <p:cNvSpPr/>
            <p:nvPr/>
          </p:nvSpPr>
          <p:spPr>
            <a:xfrm>
              <a:off x="3875040" y="1887480"/>
              <a:ext cx="217440" cy="2160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8" name="Group 8"/>
            <p:cNvGrpSpPr/>
            <p:nvPr/>
          </p:nvGrpSpPr>
          <p:grpSpPr>
            <a:xfrm>
              <a:off x="3908160" y="1924560"/>
              <a:ext cx="157680" cy="141480"/>
              <a:chOff x="3908160" y="1924560"/>
              <a:chExt cx="157680" cy="141480"/>
            </a:xfrm>
          </p:grpSpPr>
          <p:sp>
            <p:nvSpPr>
              <p:cNvPr id="499" name="直接连接符 20"/>
              <p:cNvSpPr/>
              <p:nvPr/>
            </p:nvSpPr>
            <p:spPr>
              <a:xfrm>
                <a:off x="3987720" y="1924560"/>
                <a:ext cx="0" cy="141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直接连接符 21"/>
              <p:cNvSpPr/>
              <p:nvPr/>
            </p:nvSpPr>
            <p:spPr>
              <a:xfrm flipH="1">
                <a:off x="3908160" y="1995480"/>
                <a:ext cx="157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01" name="Group 11"/>
          <p:cNvGrpSpPr/>
          <p:nvPr/>
        </p:nvGrpSpPr>
        <p:grpSpPr>
          <a:xfrm>
            <a:off x="3875040" y="4410000"/>
            <a:ext cx="217440" cy="216000"/>
            <a:chOff x="3875040" y="4410000"/>
            <a:chExt cx="217440" cy="216000"/>
          </a:xfrm>
        </p:grpSpPr>
        <p:sp>
          <p:nvSpPr>
            <p:cNvPr id="502" name="椭圆 44"/>
            <p:cNvSpPr/>
            <p:nvPr/>
          </p:nvSpPr>
          <p:spPr>
            <a:xfrm>
              <a:off x="3875040" y="4410000"/>
              <a:ext cx="217440" cy="2160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13"/>
            <p:cNvGrpSpPr/>
            <p:nvPr/>
          </p:nvGrpSpPr>
          <p:grpSpPr>
            <a:xfrm>
              <a:off x="3905640" y="4451760"/>
              <a:ext cx="159840" cy="133200"/>
              <a:chOff x="3905640" y="4451760"/>
              <a:chExt cx="159840" cy="133200"/>
            </a:xfrm>
          </p:grpSpPr>
          <p:sp>
            <p:nvSpPr>
              <p:cNvPr id="504" name="直接连接符 46"/>
              <p:cNvSpPr/>
              <p:nvPr/>
            </p:nvSpPr>
            <p:spPr>
              <a:xfrm>
                <a:off x="3986280" y="4451760"/>
                <a:ext cx="79200" cy="71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直接连接符 47"/>
              <p:cNvSpPr/>
              <p:nvPr/>
            </p:nvSpPr>
            <p:spPr>
              <a:xfrm flipH="1">
                <a:off x="3905640" y="4518360"/>
                <a:ext cx="156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直接连接符 49"/>
              <p:cNvSpPr/>
              <p:nvPr/>
            </p:nvSpPr>
            <p:spPr>
              <a:xfrm flipH="1">
                <a:off x="3986280" y="4513680"/>
                <a:ext cx="79200" cy="71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TextBox 51"/>
          <p:cNvSpPr/>
          <p:nvPr/>
        </p:nvSpPr>
        <p:spPr>
          <a:xfrm>
            <a:off x="139680" y="167940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Box 52"/>
          <p:cNvSpPr/>
          <p:nvPr/>
        </p:nvSpPr>
        <p:spPr>
          <a:xfrm>
            <a:off x="691560" y="232560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Box 53"/>
          <p:cNvSpPr/>
          <p:nvPr/>
        </p:nvSpPr>
        <p:spPr>
          <a:xfrm>
            <a:off x="691560" y="270972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Box 54"/>
          <p:cNvSpPr/>
          <p:nvPr/>
        </p:nvSpPr>
        <p:spPr>
          <a:xfrm>
            <a:off x="691560" y="307980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Box 55"/>
          <p:cNvSpPr/>
          <p:nvPr/>
        </p:nvSpPr>
        <p:spPr>
          <a:xfrm>
            <a:off x="691560" y="344952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Box 56"/>
          <p:cNvSpPr/>
          <p:nvPr/>
        </p:nvSpPr>
        <p:spPr>
          <a:xfrm>
            <a:off x="691560" y="381780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3" name="Group 23"/>
          <p:cNvGrpSpPr/>
          <p:nvPr/>
        </p:nvGrpSpPr>
        <p:grpSpPr>
          <a:xfrm>
            <a:off x="4303800" y="411120"/>
            <a:ext cx="4314960" cy="2309760"/>
            <a:chOff x="4303800" y="411120"/>
            <a:chExt cx="4314960" cy="2309760"/>
          </a:xfrm>
        </p:grpSpPr>
        <p:sp>
          <p:nvSpPr>
            <p:cNvPr id="514" name="矩形 10"/>
            <p:cNvSpPr/>
            <p:nvPr/>
          </p:nvSpPr>
          <p:spPr>
            <a:xfrm>
              <a:off x="4303800" y="411120"/>
              <a:ext cx="4281480" cy="2232360"/>
            </a:xfrm>
            <a:prstGeom prst="rect">
              <a:avLst/>
            </a:prstGeom>
            <a:solidFill>
              <a:srgbClr val="2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5" name="Picture 2" descr=""/>
            <p:cNvPicPr/>
            <p:nvPr/>
          </p:nvPicPr>
          <p:blipFill>
            <a:blip r:embed="rId1"/>
            <a:srcRect l="0" t="7956" r="0" b="32497"/>
            <a:stretch/>
          </p:blipFill>
          <p:spPr>
            <a:xfrm>
              <a:off x="4370040" y="460800"/>
              <a:ext cx="4140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TextBox 1"/>
            <p:cNvSpPr/>
            <p:nvPr/>
          </p:nvSpPr>
          <p:spPr>
            <a:xfrm>
              <a:off x="6732720" y="2139480"/>
              <a:ext cx="188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Logo 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7" name="Picture 2" descr=""/>
          <p:cNvPicPr/>
          <p:nvPr/>
        </p:nvPicPr>
        <p:blipFill>
          <a:blip r:embed="rId2"/>
          <a:stretch/>
        </p:blipFill>
        <p:spPr>
          <a:xfrm>
            <a:off x="2624040" y="2462040"/>
            <a:ext cx="1516320" cy="151632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3"/>
          <a:stretch/>
        </p:blipFill>
        <p:spPr>
          <a:xfrm rot="14508600">
            <a:off x="2378160" y="36698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"/>
          <p:cNvPicPr/>
          <p:nvPr/>
        </p:nvPicPr>
        <p:blipFill>
          <a:blip r:embed="rId4"/>
          <a:stretch/>
        </p:blipFill>
        <p:spPr>
          <a:xfrm>
            <a:off x="3038400" y="412272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"/>
          <p:cNvPicPr/>
          <p:nvPr/>
        </p:nvPicPr>
        <p:blipFill>
          <a:blip r:embed="rId5"/>
          <a:stretch/>
        </p:blipFill>
        <p:spPr>
          <a:xfrm>
            <a:off x="3433680" y="4079880"/>
            <a:ext cx="200160" cy="201600"/>
          </a:xfrm>
          <a:prstGeom prst="rect">
            <a:avLst/>
          </a:prstGeom>
          <a:ln w="0">
            <a:noFill/>
          </a:ln>
        </p:spPr>
      </p:pic>
      <p:grpSp>
        <p:nvGrpSpPr>
          <p:cNvPr id="521" name="Group 31"/>
          <p:cNvGrpSpPr/>
          <p:nvPr/>
        </p:nvGrpSpPr>
        <p:grpSpPr>
          <a:xfrm>
            <a:off x="4284720" y="2716200"/>
            <a:ext cx="2155680" cy="1965240"/>
            <a:chOff x="4284720" y="2716200"/>
            <a:chExt cx="2155680" cy="1965240"/>
          </a:xfrm>
        </p:grpSpPr>
        <p:sp>
          <p:nvSpPr>
            <p:cNvPr id="522" name="矩形 4"/>
            <p:cNvSpPr/>
            <p:nvPr/>
          </p:nvSpPr>
          <p:spPr>
            <a:xfrm>
              <a:off x="4284720" y="2716200"/>
              <a:ext cx="2155680" cy="1965240"/>
            </a:xfrm>
            <a:prstGeom prst="rect">
              <a:avLst/>
            </a:prstGeom>
            <a:solidFill>
              <a:srgbClr val="2a8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3" name="Picture 8" descr=""/>
            <p:cNvPicPr/>
            <p:nvPr/>
          </p:nvPicPr>
          <p:blipFill>
            <a:blip r:embed="rId6"/>
            <a:srcRect l="0" t="0" r="0" b="9117"/>
            <a:stretch/>
          </p:blipFill>
          <p:spPr>
            <a:xfrm>
              <a:off x="4322520" y="3096720"/>
              <a:ext cx="2080080" cy="151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oup 34"/>
          <p:cNvGrpSpPr/>
          <p:nvPr/>
        </p:nvGrpSpPr>
        <p:grpSpPr>
          <a:xfrm>
            <a:off x="6588000" y="2716200"/>
            <a:ext cx="2259000" cy="1965240"/>
            <a:chOff x="6588000" y="2716200"/>
            <a:chExt cx="2259000" cy="1965240"/>
          </a:xfrm>
        </p:grpSpPr>
        <p:sp>
          <p:nvSpPr>
            <p:cNvPr id="525" name="矩形 48"/>
            <p:cNvSpPr/>
            <p:nvPr/>
          </p:nvSpPr>
          <p:spPr>
            <a:xfrm>
              <a:off x="6588000" y="2716200"/>
              <a:ext cx="1997280" cy="1965240"/>
            </a:xfrm>
            <a:prstGeom prst="rect">
              <a:avLst/>
            </a:prstGeom>
            <a:solidFill>
              <a:srgbClr val="2a8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6" name="Picture 7" descr=""/>
            <p:cNvPicPr/>
            <p:nvPr/>
          </p:nvPicPr>
          <p:blipFill>
            <a:blip r:embed="rId7"/>
            <a:srcRect l="0" t="5422" r="0" b="0"/>
            <a:stretch/>
          </p:blipFill>
          <p:spPr>
            <a:xfrm>
              <a:off x="6639480" y="2781360"/>
              <a:ext cx="1893960" cy="13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TextBox 7"/>
            <p:cNvSpPr/>
            <p:nvPr/>
          </p:nvSpPr>
          <p:spPr>
            <a:xfrm>
              <a:off x="6953040" y="4265640"/>
              <a:ext cx="189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Leocay.cay@live.co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8" name="Picture 9" descr=""/>
            <p:cNvPicPr/>
            <p:nvPr/>
          </p:nvPicPr>
          <p:blipFill>
            <a:blip r:embed="rId8"/>
            <a:stretch/>
          </p:blipFill>
          <p:spPr>
            <a:xfrm>
              <a:off x="6631920" y="4237920"/>
              <a:ext cx="363600" cy="36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9" name="矩形 2"/>
          <p:cNvSpPr/>
          <p:nvPr/>
        </p:nvSpPr>
        <p:spPr>
          <a:xfrm>
            <a:off x="1238040" y="1179360"/>
            <a:ext cx="640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n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格风景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矩形 12"/>
          <p:cNvSpPr/>
          <p:nvPr/>
        </p:nvSpPr>
        <p:spPr>
          <a:xfrm>
            <a:off x="376200" y="4811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2.77778E-007 0.49013 E">
                                      <p:cBhvr>
                                        <p:cTn id="27" dur="75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" dur="1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26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270"/>
                            </p:stCondLst>
                            <p:childTnLst>
                              <p:par>
                                <p:cTn id="43" autoRev="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7 L 0.01355 3.7037E-007 E">
                                      <p:cBhvr>
                                        <p:cTn id="44" dur="15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63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63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7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27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63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3AC8-EDC4-4957-B478-78FD04758194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2"/>
          <p:cNvGrpSpPr/>
          <p:nvPr/>
        </p:nvGrpSpPr>
        <p:grpSpPr>
          <a:xfrm>
            <a:off x="4883040" y="987480"/>
            <a:ext cx="2497320" cy="724680"/>
            <a:chOff x="4883040" y="987480"/>
            <a:chExt cx="2497320" cy="724680"/>
          </a:xfrm>
        </p:grpSpPr>
        <p:sp>
          <p:nvSpPr>
            <p:cNvPr id="533" name="矩形 13"/>
            <p:cNvSpPr/>
            <p:nvPr/>
          </p:nvSpPr>
          <p:spPr>
            <a:xfrm>
              <a:off x="4883040" y="987480"/>
              <a:ext cx="2497320" cy="647640"/>
            </a:xfrm>
            <a:prstGeom prst="rect">
              <a:avLst/>
            </a:prstGeom>
            <a:solidFill>
              <a:srgbClr val="2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TextBox 9"/>
            <p:cNvSpPr/>
            <p:nvPr/>
          </p:nvSpPr>
          <p:spPr>
            <a:xfrm>
              <a:off x="4944240" y="1008720"/>
              <a:ext cx="213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nclusion .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5" name="矩形 17"/>
          <p:cNvSpPr/>
          <p:nvPr/>
        </p:nvSpPr>
        <p:spPr>
          <a:xfrm>
            <a:off x="4883040" y="1749600"/>
            <a:ext cx="2497320" cy="2036520"/>
          </a:xfrm>
          <a:prstGeom prst="rect">
            <a:avLst/>
          </a:prstGeom>
          <a:solidFill>
            <a:srgbClr val="21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18"/>
          <p:cNvSpPr/>
          <p:nvPr/>
        </p:nvSpPr>
        <p:spPr>
          <a:xfrm>
            <a:off x="4932360" y="1752480"/>
            <a:ext cx="17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Key 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Box 19"/>
          <p:cNvSpPr/>
          <p:nvPr/>
        </p:nvSpPr>
        <p:spPr>
          <a:xfrm>
            <a:off x="4932360" y="2152800"/>
            <a:ext cx="17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Key 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Box 20"/>
          <p:cNvSpPr/>
          <p:nvPr/>
        </p:nvSpPr>
        <p:spPr>
          <a:xfrm>
            <a:off x="4932360" y="2567160"/>
            <a:ext cx="17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Key Point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Box 22"/>
          <p:cNvSpPr/>
          <p:nvPr/>
        </p:nvSpPr>
        <p:spPr>
          <a:xfrm>
            <a:off x="4939200" y="2967120"/>
            <a:ext cx="19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nd so on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矩形 11"/>
          <p:cNvSpPr/>
          <p:nvPr/>
        </p:nvSpPr>
        <p:spPr>
          <a:xfrm>
            <a:off x="0" y="3940200"/>
            <a:ext cx="7380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直接连接符 23"/>
          <p:cNvSpPr/>
          <p:nvPr/>
        </p:nvSpPr>
        <p:spPr>
          <a:xfrm>
            <a:off x="2460600" y="4011480"/>
            <a:ext cx="0" cy="77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直接连接符 29"/>
          <p:cNvSpPr/>
          <p:nvPr/>
        </p:nvSpPr>
        <p:spPr>
          <a:xfrm>
            <a:off x="4919760" y="4011480"/>
            <a:ext cx="1440" cy="77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tretch/>
        </p:blipFill>
        <p:spPr>
          <a:xfrm>
            <a:off x="60480" y="3968640"/>
            <a:ext cx="387360" cy="38736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2"/>
          <a:stretch/>
        </p:blipFill>
        <p:spPr>
          <a:xfrm>
            <a:off x="2556000" y="3968640"/>
            <a:ext cx="385560" cy="387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"/>
          <p:cNvPicPr/>
          <p:nvPr/>
        </p:nvPicPr>
        <p:blipFill>
          <a:blip r:embed="rId3"/>
          <a:stretch/>
        </p:blipFill>
        <p:spPr>
          <a:xfrm>
            <a:off x="5003640" y="3968640"/>
            <a:ext cx="385920" cy="387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27"/>
          <p:cNvSpPr/>
          <p:nvPr/>
        </p:nvSpPr>
        <p:spPr>
          <a:xfrm>
            <a:off x="449640" y="390996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hing use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Box 37"/>
          <p:cNvSpPr/>
          <p:nvPr/>
        </p:nvSpPr>
        <p:spPr>
          <a:xfrm>
            <a:off x="2953080" y="390996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hing cru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Box 38"/>
          <p:cNvSpPr/>
          <p:nvPr/>
        </p:nvSpPr>
        <p:spPr>
          <a:xfrm>
            <a:off x="5399280" y="390996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hing valu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Box 39"/>
          <p:cNvSpPr/>
          <p:nvPr/>
        </p:nvSpPr>
        <p:spPr>
          <a:xfrm>
            <a:off x="674640" y="4175280"/>
            <a:ext cx="14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Box 40"/>
          <p:cNvSpPr/>
          <p:nvPr/>
        </p:nvSpPr>
        <p:spPr>
          <a:xfrm>
            <a:off x="3185280" y="4175280"/>
            <a:ext cx="14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41"/>
          <p:cNvSpPr/>
          <p:nvPr/>
        </p:nvSpPr>
        <p:spPr>
          <a:xfrm>
            <a:off x="5641200" y="4175280"/>
            <a:ext cx="14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2" name="Group 22"/>
          <p:cNvGrpSpPr/>
          <p:nvPr/>
        </p:nvGrpSpPr>
        <p:grpSpPr>
          <a:xfrm>
            <a:off x="0" y="401760"/>
            <a:ext cx="7380360" cy="369720"/>
            <a:chOff x="0" y="401760"/>
            <a:chExt cx="7380360" cy="369720"/>
          </a:xfrm>
        </p:grpSpPr>
        <p:sp>
          <p:nvSpPr>
            <p:cNvPr id="553" name="矩形 3"/>
            <p:cNvSpPr/>
            <p:nvPr/>
          </p:nvSpPr>
          <p:spPr>
            <a:xfrm>
              <a:off x="0" y="412560"/>
              <a:ext cx="7380360" cy="358920"/>
            </a:xfrm>
            <a:prstGeom prst="rect">
              <a:avLst/>
            </a:prstGeom>
            <a:solidFill>
              <a:srgbClr val="2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TextBox 2047"/>
            <p:cNvSpPr/>
            <p:nvPr/>
          </p:nvSpPr>
          <p:spPr>
            <a:xfrm>
              <a:off x="6237720" y="40176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itle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5" name="Group 25"/>
          <p:cNvGrpSpPr/>
          <p:nvPr/>
        </p:nvGrpSpPr>
        <p:grpSpPr>
          <a:xfrm>
            <a:off x="7585560" y="401760"/>
            <a:ext cx="1613160" cy="369720"/>
            <a:chOff x="7585560" y="401760"/>
            <a:chExt cx="1613160" cy="369720"/>
          </a:xfrm>
        </p:grpSpPr>
        <p:sp>
          <p:nvSpPr>
            <p:cNvPr id="556" name="矩形 4"/>
            <p:cNvSpPr/>
            <p:nvPr/>
          </p:nvSpPr>
          <p:spPr>
            <a:xfrm>
              <a:off x="7632360" y="412560"/>
              <a:ext cx="1511640" cy="358920"/>
            </a:xfrm>
            <a:prstGeom prst="rect">
              <a:avLst/>
            </a:prstGeom>
            <a:solidFill>
              <a:srgbClr val="ff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TextBox 52"/>
            <p:cNvSpPr/>
            <p:nvPr/>
          </p:nvSpPr>
          <p:spPr>
            <a:xfrm>
              <a:off x="7585560" y="40176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Next Title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8" name="Group 28"/>
          <p:cNvGrpSpPr/>
          <p:nvPr/>
        </p:nvGrpSpPr>
        <p:grpSpPr>
          <a:xfrm>
            <a:off x="7632720" y="982800"/>
            <a:ext cx="1511280" cy="4160880"/>
            <a:chOff x="7632720" y="982800"/>
            <a:chExt cx="1511280" cy="4160880"/>
          </a:xfrm>
        </p:grpSpPr>
        <p:pic>
          <p:nvPicPr>
            <p:cNvPr id="559" name="Picture 2" descr=""/>
            <p:cNvPicPr/>
            <p:nvPr/>
          </p:nvPicPr>
          <p:blipFill>
            <a:blip r:embed="rId4"/>
            <a:srcRect l="48795" t="0" r="0" b="6234"/>
            <a:stretch/>
          </p:blipFill>
          <p:spPr>
            <a:xfrm flipH="1">
              <a:off x="7632720" y="988200"/>
              <a:ext cx="1511280" cy="41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矩形 5"/>
            <p:cNvSpPr/>
            <p:nvPr/>
          </p:nvSpPr>
          <p:spPr>
            <a:xfrm>
              <a:off x="7632720" y="988920"/>
              <a:ext cx="360360" cy="4154760"/>
            </a:xfrm>
            <a:prstGeom prst="rect">
              <a:avLst/>
            </a:prstGeom>
            <a:solidFill>
              <a:srgbClr val="ff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1" name="Picture 8" descr=""/>
            <p:cNvPicPr/>
            <p:nvPr/>
          </p:nvPicPr>
          <p:blipFill>
            <a:blip r:embed="rId5"/>
            <a:srcRect l="0" t="0" r="29507" b="0"/>
            <a:stretch/>
          </p:blipFill>
          <p:spPr>
            <a:xfrm rot="10800000">
              <a:off x="7632720" y="982800"/>
              <a:ext cx="360000" cy="51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2" name="矩形 17"/>
          <p:cNvSpPr/>
          <p:nvPr/>
        </p:nvSpPr>
        <p:spPr>
          <a:xfrm>
            <a:off x="33480" y="987480"/>
            <a:ext cx="4716360" cy="2809800"/>
          </a:xfrm>
          <a:prstGeom prst="rect">
            <a:avLst/>
          </a:prstGeom>
          <a:solidFill>
            <a:srgbClr val="21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18"/>
          <p:cNvSpPr/>
          <p:nvPr/>
        </p:nvSpPr>
        <p:spPr>
          <a:xfrm>
            <a:off x="179280" y="1203480"/>
            <a:ext cx="43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75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5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75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75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75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-30240" y="401760"/>
            <a:ext cx="15013080" cy="4741920"/>
            <a:chOff x="-30240" y="401760"/>
            <a:chExt cx="15013080" cy="4741920"/>
          </a:xfrm>
        </p:grpSpPr>
        <p:sp>
          <p:nvSpPr>
            <p:cNvPr id="565" name="矩形 22"/>
            <p:cNvSpPr/>
            <p:nvPr/>
          </p:nvSpPr>
          <p:spPr>
            <a:xfrm>
              <a:off x="-30240" y="987480"/>
              <a:ext cx="7377840" cy="458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矩形 19"/>
            <p:cNvSpPr/>
            <p:nvPr/>
          </p:nvSpPr>
          <p:spPr>
            <a:xfrm>
              <a:off x="-30240" y="981000"/>
              <a:ext cx="7377840" cy="3751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Group 5"/>
            <p:cNvGrpSpPr/>
            <p:nvPr/>
          </p:nvGrpSpPr>
          <p:grpSpPr>
            <a:xfrm>
              <a:off x="3600" y="401760"/>
              <a:ext cx="7378560" cy="369360"/>
              <a:chOff x="3600" y="401760"/>
              <a:chExt cx="7378560" cy="369360"/>
            </a:xfrm>
          </p:grpSpPr>
          <p:sp>
            <p:nvSpPr>
              <p:cNvPr id="568" name="矩形 4"/>
              <p:cNvSpPr/>
              <p:nvPr/>
            </p:nvSpPr>
            <p:spPr>
              <a:xfrm>
                <a:off x="3600" y="412560"/>
                <a:ext cx="7378560" cy="3585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Box 5"/>
              <p:cNvSpPr/>
              <p:nvPr/>
            </p:nvSpPr>
            <p:spPr>
              <a:xfrm>
                <a:off x="6239520" y="401760"/>
                <a:ext cx="111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Title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0" name="矩形 7"/>
            <p:cNvSpPr/>
            <p:nvPr/>
          </p:nvSpPr>
          <p:spPr>
            <a:xfrm>
              <a:off x="7634880" y="412560"/>
              <a:ext cx="7347960" cy="358560"/>
            </a:xfrm>
            <a:prstGeom prst="rect">
              <a:avLst/>
            </a:prstGeom>
            <a:solidFill>
              <a:srgbClr val="66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Box 8"/>
            <p:cNvSpPr/>
            <p:nvPr/>
          </p:nvSpPr>
          <p:spPr>
            <a:xfrm>
              <a:off x="7587720" y="40176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Next Title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10"/>
            <p:cNvGrpSpPr/>
            <p:nvPr/>
          </p:nvGrpSpPr>
          <p:grpSpPr>
            <a:xfrm>
              <a:off x="7634160" y="981000"/>
              <a:ext cx="1493640" cy="4162680"/>
              <a:chOff x="7634160" y="981000"/>
              <a:chExt cx="1493640" cy="4162680"/>
            </a:xfrm>
          </p:grpSpPr>
          <p:pic>
            <p:nvPicPr>
              <p:cNvPr id="573" name="Picture 2" descr=""/>
              <p:cNvPicPr/>
              <p:nvPr/>
            </p:nvPicPr>
            <p:blipFill>
              <a:blip r:embed="rId1"/>
              <a:srcRect l="48178" t="0" r="30210" b="0"/>
              <a:stretch/>
            </p:blipFill>
            <p:spPr>
              <a:xfrm>
                <a:off x="7814160" y="981360"/>
                <a:ext cx="1313640" cy="415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4" name="矩形 11"/>
              <p:cNvSpPr/>
              <p:nvPr/>
            </p:nvSpPr>
            <p:spPr>
              <a:xfrm>
                <a:off x="7634880" y="987120"/>
                <a:ext cx="360000" cy="4156560"/>
              </a:xfrm>
              <a:prstGeom prst="rect">
                <a:avLst/>
              </a:prstGeom>
              <a:solidFill>
                <a:srgbClr val="66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575" name="Picture 8" descr=""/>
              <p:cNvPicPr/>
              <p:nvPr/>
            </p:nvPicPr>
            <p:blipFill>
              <a:blip r:embed="rId2"/>
              <a:srcRect l="0" t="0" r="29507" b="0"/>
              <a:stretch/>
            </p:blipFill>
            <p:spPr>
              <a:xfrm rot="10800000">
                <a:off x="7634160" y="981000"/>
                <a:ext cx="359640" cy="510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6" name="TextBox 14"/>
            <p:cNvSpPr/>
            <p:nvPr/>
          </p:nvSpPr>
          <p:spPr>
            <a:xfrm>
              <a:off x="689760" y="1131120"/>
              <a:ext cx="263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our Words Here 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77" name="Picture 4" descr=""/>
            <p:cNvPicPr/>
            <p:nvPr/>
          </p:nvPicPr>
          <p:blipFill>
            <a:blip r:embed="rId3"/>
            <a:stretch/>
          </p:blipFill>
          <p:spPr>
            <a:xfrm>
              <a:off x="39600" y="401220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TextBox 15"/>
            <p:cNvSpPr/>
            <p:nvPr/>
          </p:nvSpPr>
          <p:spPr>
            <a:xfrm>
              <a:off x="867960" y="1707480"/>
              <a:ext cx="5592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etails 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oint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oint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oint 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Box 26"/>
            <p:cNvSpPr/>
            <p:nvPr/>
          </p:nvSpPr>
          <p:spPr>
            <a:xfrm>
              <a:off x="13870440" y="40176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itle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矩形 34"/>
          <p:cNvSpPr/>
          <p:nvPr/>
        </p:nvSpPr>
        <p:spPr>
          <a:xfrm>
            <a:off x="1511280" y="987480"/>
            <a:ext cx="289080" cy="539640"/>
          </a:xfrm>
          <a:prstGeom prst="rect">
            <a:avLst/>
          </a:prstGeom>
          <a:solidFill>
            <a:srgbClr val="18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矩形 3"/>
          <p:cNvSpPr/>
          <p:nvPr/>
        </p:nvSpPr>
        <p:spPr>
          <a:xfrm>
            <a:off x="0" y="412920"/>
            <a:ext cx="7370640" cy="358560"/>
          </a:xfrm>
          <a:prstGeom prst="rect">
            <a:avLst/>
          </a:prstGeom>
          <a:solidFill>
            <a:srgbClr val="66b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6237720" y="40176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矩形 1"/>
          <p:cNvSpPr/>
          <p:nvPr/>
        </p:nvSpPr>
        <p:spPr>
          <a:xfrm>
            <a:off x="0" y="987480"/>
            <a:ext cx="1406520" cy="1439640"/>
          </a:xfrm>
          <a:prstGeom prst="rect">
            <a:avLst/>
          </a:prstGeom>
          <a:solidFill>
            <a:srgbClr val="6cb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矩形 5"/>
          <p:cNvSpPr/>
          <p:nvPr/>
        </p:nvSpPr>
        <p:spPr>
          <a:xfrm>
            <a:off x="1800360" y="987480"/>
            <a:ext cx="1311120" cy="539640"/>
          </a:xfrm>
          <a:prstGeom prst="rect">
            <a:avLst/>
          </a:prstGeom>
          <a:solidFill>
            <a:srgbClr val="18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矩形 6"/>
          <p:cNvSpPr/>
          <p:nvPr/>
        </p:nvSpPr>
        <p:spPr>
          <a:xfrm>
            <a:off x="3227400" y="1560600"/>
            <a:ext cx="1359000" cy="866520"/>
          </a:xfrm>
          <a:prstGeom prst="rect">
            <a:avLst/>
          </a:prstGeom>
          <a:solidFill>
            <a:srgbClr val="e61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矩形 7"/>
          <p:cNvSpPr/>
          <p:nvPr/>
        </p:nvSpPr>
        <p:spPr>
          <a:xfrm>
            <a:off x="4635360" y="987480"/>
            <a:ext cx="2745000" cy="1439640"/>
          </a:xfrm>
          <a:prstGeom prst="rect">
            <a:avLst/>
          </a:prstGeom>
          <a:solidFill>
            <a:srgbClr val="f19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矩形 8"/>
          <p:cNvSpPr/>
          <p:nvPr/>
        </p:nvSpPr>
        <p:spPr>
          <a:xfrm>
            <a:off x="3822840" y="987480"/>
            <a:ext cx="75708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矩形 9"/>
          <p:cNvSpPr/>
          <p:nvPr/>
        </p:nvSpPr>
        <p:spPr>
          <a:xfrm>
            <a:off x="0" y="2571840"/>
            <a:ext cx="7380360" cy="22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34920" y="103824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"/>
          <p:cNvPicPr/>
          <p:nvPr/>
        </p:nvPicPr>
        <p:blipFill>
          <a:blip r:embed="rId2"/>
          <a:stretch/>
        </p:blipFill>
        <p:spPr>
          <a:xfrm>
            <a:off x="1835280" y="103824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"/>
          <p:cNvPicPr/>
          <p:nvPr/>
        </p:nvPicPr>
        <p:blipFill>
          <a:blip r:embed="rId3"/>
          <a:stretch/>
        </p:blipFill>
        <p:spPr>
          <a:xfrm>
            <a:off x="3244680" y="1590840"/>
            <a:ext cx="309600" cy="3092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"/>
          <p:cNvPicPr/>
          <p:nvPr/>
        </p:nvPicPr>
        <p:blipFill>
          <a:blip r:embed="rId4"/>
          <a:stretch/>
        </p:blipFill>
        <p:spPr>
          <a:xfrm>
            <a:off x="4676760" y="1038240"/>
            <a:ext cx="308160" cy="30960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15"/>
          <p:cNvGrpSpPr/>
          <p:nvPr/>
        </p:nvGrpSpPr>
        <p:grpSpPr>
          <a:xfrm>
            <a:off x="1816200" y="1560600"/>
            <a:ext cx="1387440" cy="866520"/>
            <a:chOff x="1816200" y="1560600"/>
            <a:chExt cx="1387440" cy="866520"/>
          </a:xfrm>
        </p:grpSpPr>
        <p:pic>
          <p:nvPicPr>
            <p:cNvPr id="594" name="Picture 5" descr=""/>
            <p:cNvPicPr/>
            <p:nvPr/>
          </p:nvPicPr>
          <p:blipFill>
            <a:blip r:embed="rId5"/>
            <a:stretch/>
          </p:blipFill>
          <p:spPr>
            <a:xfrm>
              <a:off x="1816200" y="1560600"/>
              <a:ext cx="138744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矩形 17"/>
            <p:cNvSpPr/>
            <p:nvPr/>
          </p:nvSpPr>
          <p:spPr>
            <a:xfrm>
              <a:off x="1816200" y="2211480"/>
              <a:ext cx="1387440" cy="215640"/>
            </a:xfrm>
            <a:prstGeom prst="rect">
              <a:avLst/>
            </a:prstGeom>
            <a:solidFill>
              <a:srgbClr val="7d5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96" name="Picture 6" descr=""/>
          <p:cNvPicPr/>
          <p:nvPr/>
        </p:nvPicPr>
        <p:blipFill>
          <a:blip r:embed="rId6"/>
          <a:stretch/>
        </p:blipFill>
        <p:spPr>
          <a:xfrm>
            <a:off x="3975120" y="1038240"/>
            <a:ext cx="452520" cy="449280"/>
          </a:xfrm>
          <a:prstGeom prst="rect">
            <a:avLst/>
          </a:prstGeom>
          <a:ln w="0">
            <a:noFill/>
          </a:ln>
        </p:spPr>
      </p:pic>
      <p:sp>
        <p:nvSpPr>
          <p:cNvPr id="597" name="TextBox 2"/>
          <p:cNvSpPr/>
          <p:nvPr/>
        </p:nvSpPr>
        <p:spPr>
          <a:xfrm>
            <a:off x="378720" y="10238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18"/>
          <p:cNvSpPr/>
          <p:nvPr/>
        </p:nvSpPr>
        <p:spPr>
          <a:xfrm>
            <a:off x="2147400" y="10238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Box 19"/>
          <p:cNvSpPr/>
          <p:nvPr/>
        </p:nvSpPr>
        <p:spPr>
          <a:xfrm>
            <a:off x="3591000" y="15638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Box 20"/>
          <p:cNvSpPr/>
          <p:nvPr/>
        </p:nvSpPr>
        <p:spPr>
          <a:xfrm>
            <a:off x="4992840" y="10238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Group 23"/>
          <p:cNvGrpSpPr/>
          <p:nvPr/>
        </p:nvGrpSpPr>
        <p:grpSpPr>
          <a:xfrm>
            <a:off x="611280" y="2859120"/>
            <a:ext cx="1539720" cy="1657440"/>
            <a:chOff x="611280" y="2859120"/>
            <a:chExt cx="1539720" cy="1657440"/>
          </a:xfrm>
        </p:grpSpPr>
        <p:sp>
          <p:nvSpPr>
            <p:cNvPr id="602" name="矩形 11"/>
            <p:cNvSpPr/>
            <p:nvPr/>
          </p:nvSpPr>
          <p:spPr>
            <a:xfrm>
              <a:off x="611280" y="3281400"/>
              <a:ext cx="106200" cy="12351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矩形 24"/>
            <p:cNvSpPr/>
            <p:nvPr/>
          </p:nvSpPr>
          <p:spPr>
            <a:xfrm>
              <a:off x="771480" y="3579840"/>
              <a:ext cx="104760" cy="93672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矩形 25"/>
            <p:cNvSpPr/>
            <p:nvPr/>
          </p:nvSpPr>
          <p:spPr>
            <a:xfrm>
              <a:off x="930240" y="3899160"/>
              <a:ext cx="101520" cy="6174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矩形 26"/>
            <p:cNvSpPr/>
            <p:nvPr/>
          </p:nvSpPr>
          <p:spPr>
            <a:xfrm>
              <a:off x="1085760" y="2859120"/>
              <a:ext cx="107640" cy="165744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矩形 27"/>
            <p:cNvSpPr/>
            <p:nvPr/>
          </p:nvSpPr>
          <p:spPr>
            <a:xfrm>
              <a:off x="1246320" y="3435480"/>
              <a:ext cx="106200" cy="1081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矩形 28"/>
            <p:cNvSpPr/>
            <p:nvPr/>
          </p:nvSpPr>
          <p:spPr>
            <a:xfrm>
              <a:off x="1406520" y="3651480"/>
              <a:ext cx="106200" cy="86508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矩形 29"/>
            <p:cNvSpPr/>
            <p:nvPr/>
          </p:nvSpPr>
          <p:spPr>
            <a:xfrm>
              <a:off x="1565280" y="3281400"/>
              <a:ext cx="106200" cy="12351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矩形 30"/>
            <p:cNvSpPr/>
            <p:nvPr/>
          </p:nvSpPr>
          <p:spPr>
            <a:xfrm>
              <a:off x="1725840" y="3506760"/>
              <a:ext cx="106200" cy="100980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矩形 31"/>
            <p:cNvSpPr/>
            <p:nvPr/>
          </p:nvSpPr>
          <p:spPr>
            <a:xfrm>
              <a:off x="1884600" y="3795840"/>
              <a:ext cx="106200" cy="720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矩形 32"/>
            <p:cNvSpPr/>
            <p:nvPr/>
          </p:nvSpPr>
          <p:spPr>
            <a:xfrm>
              <a:off x="2044800" y="3074760"/>
              <a:ext cx="106200" cy="144180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" name="椭圆 15"/>
          <p:cNvSpPr/>
          <p:nvPr/>
        </p:nvSpPr>
        <p:spPr>
          <a:xfrm>
            <a:off x="2771640" y="3147840"/>
            <a:ext cx="1295640" cy="1295640"/>
          </a:xfrm>
          <a:prstGeom prst="ellipse">
            <a:avLst/>
          </a:prstGeom>
          <a:noFill/>
          <a:ln w="25560">
            <a:solidFill>
              <a:srgbClr val="18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矩形 23"/>
          <p:cNvSpPr/>
          <p:nvPr/>
        </p:nvSpPr>
        <p:spPr>
          <a:xfrm>
            <a:off x="3111480" y="987480"/>
            <a:ext cx="668520" cy="539640"/>
          </a:xfrm>
          <a:prstGeom prst="rect">
            <a:avLst/>
          </a:prstGeom>
          <a:solidFill>
            <a:srgbClr val="18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Box 39"/>
          <p:cNvSpPr/>
          <p:nvPr/>
        </p:nvSpPr>
        <p:spPr>
          <a:xfrm>
            <a:off x="-31680" y="1406520"/>
            <a:ext cx="146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 bla 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矩形 33"/>
          <p:cNvSpPr/>
          <p:nvPr/>
        </p:nvSpPr>
        <p:spPr>
          <a:xfrm>
            <a:off x="1406520" y="987480"/>
            <a:ext cx="318960" cy="1439640"/>
          </a:xfrm>
          <a:prstGeom prst="rect">
            <a:avLst/>
          </a:prstGeom>
          <a:solidFill>
            <a:srgbClr val="6cb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矩形 41"/>
          <p:cNvSpPr/>
          <p:nvPr/>
        </p:nvSpPr>
        <p:spPr>
          <a:xfrm>
            <a:off x="1511280" y="1527120"/>
            <a:ext cx="1600200" cy="900000"/>
          </a:xfrm>
          <a:prstGeom prst="rect">
            <a:avLst/>
          </a:prstGeom>
          <a:solidFill>
            <a:srgbClr val="18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42"/>
          <p:cNvSpPr/>
          <p:nvPr/>
        </p:nvSpPr>
        <p:spPr>
          <a:xfrm>
            <a:off x="1643040" y="1406520"/>
            <a:ext cx="146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 bla 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矩形 43"/>
          <p:cNvSpPr/>
          <p:nvPr/>
        </p:nvSpPr>
        <p:spPr>
          <a:xfrm>
            <a:off x="3227400" y="987480"/>
            <a:ext cx="62388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45"/>
          <p:cNvSpPr/>
          <p:nvPr/>
        </p:nvSpPr>
        <p:spPr>
          <a:xfrm>
            <a:off x="4973760" y="1406520"/>
            <a:ext cx="190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 bla bla bla bla b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矩形 12"/>
          <p:cNvSpPr/>
          <p:nvPr/>
        </p:nvSpPr>
        <p:spPr>
          <a:xfrm>
            <a:off x="376200" y="48117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23457E-007 L -0.02465 -1.23457E-007 E">
                                      <p:cBhvr>
                                        <p:cTn id="212" dur="5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45679E-006 L -0.02257 3.45679E-006 E">
                                      <p:cBhvr>
                                        <p:cTn id="214" dur="5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124"/>
          <p:cNvSpPr/>
          <p:nvPr/>
        </p:nvSpPr>
        <p:spPr>
          <a:xfrm>
            <a:off x="4878360" y="987480"/>
            <a:ext cx="1914480" cy="1042920"/>
          </a:xfrm>
          <a:prstGeom prst="rect">
            <a:avLst/>
          </a:prstGeom>
          <a:solidFill>
            <a:srgbClr val="f19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矩形 125"/>
          <p:cNvSpPr/>
          <p:nvPr/>
        </p:nvSpPr>
        <p:spPr>
          <a:xfrm>
            <a:off x="1741320" y="2151000"/>
            <a:ext cx="1000440" cy="104292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826920" y="2151000"/>
            <a:ext cx="782640" cy="1042920"/>
            <a:chOff x="826920" y="2151000"/>
            <a:chExt cx="782640" cy="1042920"/>
          </a:xfrm>
        </p:grpSpPr>
        <p:sp>
          <p:nvSpPr>
            <p:cNvPr id="624" name="矩形 117"/>
            <p:cNvSpPr/>
            <p:nvPr/>
          </p:nvSpPr>
          <p:spPr>
            <a:xfrm>
              <a:off x="826920" y="2151000"/>
              <a:ext cx="782640" cy="104292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5" name="Picture 4" descr=""/>
            <p:cNvPicPr/>
            <p:nvPr/>
          </p:nvPicPr>
          <p:blipFill>
            <a:blip r:embed="rId1"/>
            <a:srcRect l="8786" t="8420" r="8786" b="8420"/>
            <a:stretch/>
          </p:blipFill>
          <p:spPr>
            <a:xfrm>
              <a:off x="829800" y="2310120"/>
              <a:ext cx="717480" cy="72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6" name="Group 7"/>
          <p:cNvGrpSpPr/>
          <p:nvPr/>
        </p:nvGrpSpPr>
        <p:grpSpPr>
          <a:xfrm>
            <a:off x="3924360" y="2151000"/>
            <a:ext cx="865080" cy="1042920"/>
            <a:chOff x="3924360" y="2151000"/>
            <a:chExt cx="865080" cy="1042920"/>
          </a:xfrm>
        </p:grpSpPr>
        <p:sp>
          <p:nvSpPr>
            <p:cNvPr id="627" name="矩形 119"/>
            <p:cNvSpPr/>
            <p:nvPr/>
          </p:nvSpPr>
          <p:spPr>
            <a:xfrm>
              <a:off x="3924360" y="2151000"/>
              <a:ext cx="865080" cy="104292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28" name="Picture 5" descr=""/>
            <p:cNvPicPr/>
            <p:nvPr/>
          </p:nvPicPr>
          <p:blipFill>
            <a:blip r:embed="rId2"/>
            <a:stretch/>
          </p:blipFill>
          <p:spPr>
            <a:xfrm>
              <a:off x="4040640" y="2356200"/>
              <a:ext cx="632160" cy="6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9" name="Group 10"/>
          <p:cNvGrpSpPr/>
          <p:nvPr/>
        </p:nvGrpSpPr>
        <p:grpSpPr>
          <a:xfrm>
            <a:off x="826920" y="3251160"/>
            <a:ext cx="1914840" cy="1154160"/>
            <a:chOff x="826920" y="3251160"/>
            <a:chExt cx="1914840" cy="1154160"/>
          </a:xfrm>
        </p:grpSpPr>
        <p:sp>
          <p:nvSpPr>
            <p:cNvPr id="630" name="矩形 118"/>
            <p:cNvSpPr/>
            <p:nvPr/>
          </p:nvSpPr>
          <p:spPr>
            <a:xfrm>
              <a:off x="826920" y="3317760"/>
              <a:ext cx="1914840" cy="10414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31" name="Picture 6" descr=""/>
            <p:cNvPicPr/>
            <p:nvPr/>
          </p:nvPicPr>
          <p:blipFill>
            <a:blip r:embed="rId3"/>
            <a:srcRect l="10498" t="11546" r="10498" b="11546"/>
            <a:stretch/>
          </p:blipFill>
          <p:spPr>
            <a:xfrm>
              <a:off x="1191600" y="3251160"/>
              <a:ext cx="1185840" cy="115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13"/>
          <p:cNvGrpSpPr/>
          <p:nvPr/>
        </p:nvGrpSpPr>
        <p:grpSpPr>
          <a:xfrm>
            <a:off x="2868480" y="987480"/>
            <a:ext cx="1930680" cy="1078560"/>
            <a:chOff x="2868480" y="987480"/>
            <a:chExt cx="1930680" cy="1078560"/>
          </a:xfrm>
        </p:grpSpPr>
        <p:pic>
          <p:nvPicPr>
            <p:cNvPr id="633" name="Picture 7" descr=""/>
            <p:cNvPicPr/>
            <p:nvPr/>
          </p:nvPicPr>
          <p:blipFill>
            <a:blip r:embed="rId4"/>
            <a:srcRect l="0" t="13815" r="0" b="0"/>
            <a:stretch/>
          </p:blipFill>
          <p:spPr>
            <a:xfrm>
              <a:off x="2873520" y="987480"/>
              <a:ext cx="19256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矩形 120"/>
            <p:cNvSpPr/>
            <p:nvPr/>
          </p:nvSpPr>
          <p:spPr>
            <a:xfrm>
              <a:off x="2868480" y="1781280"/>
              <a:ext cx="1930680" cy="247680"/>
            </a:xfrm>
            <a:prstGeom prst="rect">
              <a:avLst/>
            </a:prstGeom>
            <a:solidFill>
              <a:srgbClr val="e61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TextBox 8"/>
            <p:cNvSpPr/>
            <p:nvPr/>
          </p:nvSpPr>
          <p:spPr>
            <a:xfrm>
              <a:off x="2891880" y="1728720"/>
              <a:ext cx="18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weibo.com/shiyan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36" name="Picture 8" descr=""/>
          <p:cNvPicPr/>
          <p:nvPr/>
        </p:nvPicPr>
        <p:blipFill>
          <a:blip r:embed="rId5"/>
          <a:stretch/>
        </p:blipFill>
        <p:spPr>
          <a:xfrm>
            <a:off x="4878360" y="2151000"/>
            <a:ext cx="1914480" cy="104292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18"/>
          <p:cNvGrpSpPr/>
          <p:nvPr/>
        </p:nvGrpSpPr>
        <p:grpSpPr>
          <a:xfrm>
            <a:off x="826920" y="876240"/>
            <a:ext cx="1922400" cy="1165680"/>
            <a:chOff x="826920" y="876240"/>
            <a:chExt cx="1922400" cy="1165680"/>
          </a:xfrm>
        </p:grpSpPr>
        <p:sp>
          <p:nvSpPr>
            <p:cNvPr id="638" name="矩形 7"/>
            <p:cNvSpPr/>
            <p:nvPr/>
          </p:nvSpPr>
          <p:spPr>
            <a:xfrm>
              <a:off x="826920" y="987120"/>
              <a:ext cx="1914840" cy="104328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TextBox 13"/>
            <p:cNvSpPr/>
            <p:nvPr/>
          </p:nvSpPr>
          <p:spPr>
            <a:xfrm>
              <a:off x="835560" y="876240"/>
              <a:ext cx="1418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nk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矩形 14"/>
            <p:cNvSpPr/>
            <p:nvPr/>
          </p:nvSpPr>
          <p:spPr>
            <a:xfrm>
              <a:off x="1839960" y="1399320"/>
              <a:ext cx="90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You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1" name="Picture 9" descr=""/>
          <p:cNvPicPr/>
          <p:nvPr/>
        </p:nvPicPr>
        <p:blipFill>
          <a:blip r:embed="rId6"/>
          <a:srcRect l="27906" t="0" r="16614" b="3331"/>
          <a:stretch/>
        </p:blipFill>
        <p:spPr>
          <a:xfrm>
            <a:off x="2874960" y="2151000"/>
            <a:ext cx="957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23"/>
          <p:cNvGrpSpPr/>
          <p:nvPr/>
        </p:nvGrpSpPr>
        <p:grpSpPr>
          <a:xfrm>
            <a:off x="4878360" y="3036960"/>
            <a:ext cx="1914480" cy="1603440"/>
            <a:chOff x="4878360" y="3036960"/>
            <a:chExt cx="1914480" cy="1603440"/>
          </a:xfrm>
        </p:grpSpPr>
        <p:sp>
          <p:nvSpPr>
            <p:cNvPr id="643" name="矩形 122"/>
            <p:cNvSpPr/>
            <p:nvPr/>
          </p:nvSpPr>
          <p:spPr>
            <a:xfrm>
              <a:off x="4878360" y="3316320"/>
              <a:ext cx="1914480" cy="104472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44" name="Picture 10" descr=""/>
            <p:cNvPicPr/>
            <p:nvPr/>
          </p:nvPicPr>
          <p:blipFill>
            <a:blip r:embed="rId7"/>
            <a:srcRect l="9597" t="9715" r="9597" b="9715"/>
            <a:stretch/>
          </p:blipFill>
          <p:spPr>
            <a:xfrm>
              <a:off x="5031720" y="3036960"/>
              <a:ext cx="1607400" cy="160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5" name="Group 26"/>
          <p:cNvGrpSpPr/>
          <p:nvPr/>
        </p:nvGrpSpPr>
        <p:grpSpPr>
          <a:xfrm>
            <a:off x="2874960" y="3317760"/>
            <a:ext cx="1914480" cy="1041480"/>
            <a:chOff x="2874960" y="3317760"/>
            <a:chExt cx="1914480" cy="1041480"/>
          </a:xfrm>
        </p:grpSpPr>
        <p:sp>
          <p:nvSpPr>
            <p:cNvPr id="646" name="矩形 121"/>
            <p:cNvSpPr/>
            <p:nvPr/>
          </p:nvSpPr>
          <p:spPr>
            <a:xfrm>
              <a:off x="2874960" y="3317760"/>
              <a:ext cx="1914480" cy="1041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TextBox 19"/>
            <p:cNvSpPr/>
            <p:nvPr/>
          </p:nvSpPr>
          <p:spPr>
            <a:xfrm>
              <a:off x="3259080" y="35521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观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8" name="Picture 8" descr=""/>
          <p:cNvPicPr/>
          <p:nvPr/>
        </p:nvPicPr>
        <p:blipFill>
          <a:blip r:embed="rId8"/>
          <a:srcRect l="-987" t="-1762" r="0" b="0"/>
          <a:stretch/>
        </p:blipFill>
        <p:spPr>
          <a:xfrm>
            <a:off x="7439040" y="3535200"/>
            <a:ext cx="768240" cy="773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8" descr=""/>
          <p:cNvPicPr/>
          <p:nvPr/>
        </p:nvPicPr>
        <p:blipFill>
          <a:blip r:embed="rId9"/>
          <a:srcRect l="0" t="0" r="-986" b="0"/>
          <a:stretch/>
        </p:blipFill>
        <p:spPr>
          <a:xfrm>
            <a:off x="7023240" y="3849840"/>
            <a:ext cx="51588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2T06:10:00Z</dcterms:created>
  <dc:creator>ShiYanch</dc:creator>
  <dc:description/>
  <cp:keywords/>
  <dc:language>en-US</dc:language>
  <cp:lastModifiedBy>王玉清</cp:lastModifiedBy>
  <cp:lastPrinted>1899-12-30T00:00:00Z</cp:lastPrinted>
  <dcterms:modified xsi:type="dcterms:W3CDTF">2016-03-07T02:48:23Z</dcterms:modified>
  <cp:revision>3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73</vt:lpwstr>
  </property>
</Properties>
</file>